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BBA-A0C8-4517-BB90-49852764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82E-F877-46C6-822F-61FE41C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430-37CC-40DE-9C1C-7163A441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743-CFFF-462F-997D-D96393DD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19E-EC57-437D-8432-9E9D482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C40-6E1B-4602-AF41-3F68D64F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ADB6-5580-4E36-9C23-38E4595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88F-82FE-4457-B442-62C91D5C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6822-E170-4CBE-92C3-98BCFC4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0F1-526E-445F-AB5A-E45EA443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5CE-1A74-4235-BBD5-1F42E3E2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7C6-74E2-4994-B990-D08CD56B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9F9E-D9CC-4BB3-8D31-8D127E920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nux Executable Editing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 X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visor: Dr. Feng Ming D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utine Identific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e is the basic entity for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ing routines is the most fundamental and most difficult part for L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ic information can be strip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call/branch is difficult to tr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an be mixed with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Implem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 information from section header table and program header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routines from symbol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flow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gaps between found rout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onsid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vices Needed For Ed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irect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nding ELF Sec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F sections need to be ext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able sections can be put in new se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ections can not be moved, e.g. data &amp;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section might need to be 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on Independent Co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offset to GOT is used to ac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GOT addr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0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ush e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1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mov ebp, e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3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ush e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4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all 0x66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9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op e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66a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 ebx, 12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Snipp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snippet that only makes a call is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parameters onto the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ore s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Snippet for Shared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GOT address into EB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er type parameters need to be adjuste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LEA EAX, [EBX – offs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USH E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lag is needed for each parameter to indicate whether it is a poi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ippet Reloc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nippet’s address can not be determined until all snippets are inserted into the CF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cation needed for CALL instructions and relocation table it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ternal relocation table is used for each snippet, assuming snippet address is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cation will be done when the snippet is inserted to the CF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sert Snippet into CF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nippet along CFG 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nippet to an existing basic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several basic blocks with a snipp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direct Old Rout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entry point of the old routine use a JMP to transfer control to the edited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place of old routine is filled with N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reachable blocks not m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ecutable Editing T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 an executable file directly, no source code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patch T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atch Bran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cmp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[ebp – 1e8], 2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ja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0x804a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mov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edi, [ebp – 1e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mov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edi, [8049f20 + edi * 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mov  [ebp – 1e8], 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jmp  [ebp – 1e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 in dispatch table needs to be adj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executable, relocation object file and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ppet can call external routine in user supplied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ppet is easy to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overhe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iendly programming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interface with physical file, BFD layer not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layer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ELF layer to support Win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sible to port to other CISC archite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upport for delayed bra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user to guide routine iden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symbolic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level tools built on L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 to Win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at the University of Wiscons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++ library runs on SPA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GNU BFD to interface with the target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ser needs to write a small piece of assembly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size increases significa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++ library runs on Intel Linux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 ELF format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executable, object file and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a snippet to call external routine in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EL 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 steps for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routines in th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CFG of the target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uct a code snipp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ert the snippet into the CF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the edited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irect old rout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nipp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can change the behavior of the executable by inserting snipp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x snippet is difficult to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snippet calling another routine is more prac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EL allows the user to put the routine into a shared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Shared Libra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built easily using standard compiler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time of editing, shared library does not need to ex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d library can be modified without editing the target file aga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ted file is of small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F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F header: specify section header table and program header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: symbol table, string table, relocation table, hash table, PLT,  GOT, program code, data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ment: one segment contains multiple s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F Dynamic Lo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ection gives information to locate other s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LT entry is used for each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OT entry is used to store the address of the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ynamic symbol + relocation entry for each external rou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6T03:22:05Z</dcterms:created>
  <dc:creator>Faster</dc:creator>
  <dc:description/>
  <dc:language>en-US</dc:language>
  <cp:lastModifiedBy>Faster</cp:lastModifiedBy>
  <dcterms:modified xsi:type="dcterms:W3CDTF">1999-10-13T05:03:34Z</dcterms:modified>
  <cp:revision>5</cp:revision>
  <dc:subject/>
  <dc:title>Linux Executable Editing Library</dc:title>
</cp:coreProperties>
</file>