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3880" y="127080"/>
            <a:ext cx="6850080" cy="220320"/>
            <a:chOff x="1523880" y="127080"/>
            <a:chExt cx="6850080" cy="220320"/>
          </a:xfrm>
        </p:grpSpPr>
        <p:sp>
          <p:nvSpPr>
            <p:cNvPr id="1" name=""/>
            <p:cNvSpPr/>
            <p:nvPr/>
          </p:nvSpPr>
          <p:spPr>
            <a:xfrm>
              <a:off x="1523880" y="127080"/>
              <a:ext cx="6850080" cy="108000"/>
            </a:xfrm>
            <a:prstGeom prst="rect">
              <a:avLst/>
            </a:prstGeom>
            <a:gradFill rotWithShape="0">
              <a:gsLst>
                <a:gs pos="0">
                  <a:srgbClr val="d3d3d3"/>
                </a:gs>
                <a:gs pos="50000">
                  <a:srgbClr val="ebebeb"/>
                </a:gs>
                <a:gs pos="100000">
                  <a:srgbClr val="d3d3d3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3880" y="291960"/>
              <a:ext cx="6850080" cy="554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7939080" y="7967520"/>
            <a:ext cx="3794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33D21FA7-9F02-4628-B8E9-5A2091F68A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038320" y="-1281240"/>
            <a:ext cx="5829480" cy="1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dade III - Introdução ao Planejamento Estratégico de Sistemas de Inform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raté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rélio: “Arte militar de escolher onde, quando e com que travar um combate ou batalh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just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just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át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rélio: “Parte da arte da guerra que trata de como travar um combate ou uma batalh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per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rélio: “Execução das medidas consideradas necessárias à consecução de um objetivo financeiro, político, militar, etc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Que Planej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r Que Planej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unca temos tempo para fazer algo certo da primeira vez, mas sempre temos tempo para fazê-lo novamen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m Planeja sa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aliar perspec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ir sobre o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envolver diferenciais competi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tecipar-se a situações desfavor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iar participação no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envolver serviços e produtos adequados ao merc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ejar é uma maneira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nimizar a incerteza do processo decisório e aumentar a probabilidade de alcançar os objetivos, desafios e metas empresar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ejamento Estratégico de Sistemas de Inform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 algn="just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apa Inicial em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 estabelecem os propósitos básicos, para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antação de sistemas computadorizados estáveis e de apoio à tomada de deci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James Marti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se Planejamento deve reflet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funções e dados necessários para suportar o negó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 fatores críticos de su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necessidades de informação da alta administ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É parte integrante 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ejamento Estratégico Empresa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038320" y="-1281240"/>
            <a:ext cx="5829480" cy="1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Que Elaborar um Planejamento Estratégico de Sistemas de Inform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 algn="ctr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estigar oportunidades através do melhor uso de tecnolog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abelecer objetivos e fatores críticos de suc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ar as informações que podem auxiliar a gerência d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zar a construção de Sistemas de Informação em função das necessidades d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mitir à Área de T.I. um melhor planejamento de suas atidades, com maior produtividade e maior sinergia com as áreas de negócio (usuários de T.I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uzir a redundância de informações n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que de Elaboração do Planeja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 algn="just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 enfoque produtivo para elaboração do Planejamento Estratégico de Sistemas de Informação, integ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conhecimento do negó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necessidades de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uso de tecnologias de Sistemas de Infor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escopo de estudo pod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da um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ma div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é mesmo uma se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ês questões bás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de estam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 onde iremos?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o irem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que do Planeja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29080" y="351936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86360" y="351936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00800" y="351936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510000" y="5091120"/>
            <a:ext cx="2871720" cy="219240"/>
            <a:chOff x="3510000" y="5091120"/>
            <a:chExt cx="2871720" cy="219240"/>
          </a:xfrm>
        </p:grpSpPr>
        <p:sp>
          <p:nvSpPr>
            <p:cNvPr id="57" name=""/>
            <p:cNvSpPr/>
            <p:nvPr/>
          </p:nvSpPr>
          <p:spPr>
            <a:xfrm>
              <a:off x="3510000" y="5095800"/>
              <a:ext cx="287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10000" y="509112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67280" y="509112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1720" y="509112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529080" y="3505320"/>
            <a:ext cx="2871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741760" y="5284800"/>
            <a:ext cx="4495680" cy="914400"/>
            <a:chOff x="2741760" y="5284800"/>
            <a:chExt cx="4495680" cy="914400"/>
          </a:xfrm>
        </p:grpSpPr>
        <p:grpSp>
          <p:nvGrpSpPr>
            <p:cNvPr id="63" name=""/>
            <p:cNvGrpSpPr/>
            <p:nvPr/>
          </p:nvGrpSpPr>
          <p:grpSpPr>
            <a:xfrm>
              <a:off x="2741760" y="5284800"/>
              <a:ext cx="1600200" cy="914400"/>
              <a:chOff x="2741760" y="5284800"/>
              <a:chExt cx="1600200" cy="914400"/>
            </a:xfrm>
          </p:grpSpPr>
          <p:sp>
            <p:nvSpPr>
              <p:cNvPr id="64" name=""/>
              <p:cNvSpPr/>
              <p:nvPr/>
            </p:nvSpPr>
            <p:spPr>
              <a:xfrm>
                <a:off x="2863800" y="5284800"/>
                <a:ext cx="1357200" cy="9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 txBox="1"/>
              <p:nvPr/>
            </p:nvSpPr>
            <p:spPr>
              <a:xfrm>
                <a:off x="2741760" y="5329080"/>
                <a:ext cx="1600200" cy="825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esenvolver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lanos d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istema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4189320" y="5284800"/>
              <a:ext cx="1600200" cy="914400"/>
              <a:chOff x="4189320" y="5284800"/>
              <a:chExt cx="1600200" cy="914400"/>
            </a:xfrm>
          </p:grpSpPr>
          <p:sp>
            <p:nvSpPr>
              <p:cNvPr id="67" name=""/>
              <p:cNvSpPr/>
              <p:nvPr/>
            </p:nvSpPr>
            <p:spPr>
              <a:xfrm>
                <a:off x="4311720" y="5284800"/>
                <a:ext cx="1357200" cy="9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 txBox="1"/>
              <p:nvPr/>
            </p:nvSpPr>
            <p:spPr>
              <a:xfrm>
                <a:off x="4189320" y="5329080"/>
                <a:ext cx="1600200" cy="825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esenvolver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lanos d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ecnologi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5637240" y="5284800"/>
              <a:ext cx="1600200" cy="914400"/>
              <a:chOff x="5637240" y="5284800"/>
              <a:chExt cx="1600200" cy="914400"/>
            </a:xfrm>
          </p:grpSpPr>
          <p:sp>
            <p:nvSpPr>
              <p:cNvPr id="70" name=""/>
              <p:cNvSpPr/>
              <p:nvPr/>
            </p:nvSpPr>
            <p:spPr>
              <a:xfrm>
                <a:off x="5759280" y="5284800"/>
                <a:ext cx="1357200" cy="9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 txBox="1"/>
              <p:nvPr/>
            </p:nvSpPr>
            <p:spPr>
              <a:xfrm>
                <a:off x="5637240" y="5329080"/>
                <a:ext cx="1600200" cy="825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esenvolver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lanos Orga-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zacionai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3456000" y="6032520"/>
            <a:ext cx="3048120" cy="1744560"/>
            <a:chOff x="3456000" y="6032520"/>
            <a:chExt cx="3048120" cy="1744560"/>
          </a:xfrm>
        </p:grpSpPr>
        <p:grpSp>
          <p:nvGrpSpPr>
            <p:cNvPr id="73" name=""/>
            <p:cNvGrpSpPr/>
            <p:nvPr/>
          </p:nvGrpSpPr>
          <p:grpSpPr>
            <a:xfrm>
              <a:off x="3456000" y="6276960"/>
              <a:ext cx="1600200" cy="1500120"/>
              <a:chOff x="3456000" y="6276960"/>
              <a:chExt cx="1600200" cy="1500120"/>
            </a:xfrm>
          </p:grpSpPr>
          <p:sp>
            <p:nvSpPr>
              <p:cNvPr id="74" name=""/>
              <p:cNvSpPr/>
              <p:nvPr/>
            </p:nvSpPr>
            <p:spPr>
              <a:xfrm>
                <a:off x="3576600" y="6862680"/>
                <a:ext cx="1357200" cy="9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>
                <a:off x="3456000" y="6276960"/>
                <a:ext cx="1600200" cy="581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stabelecer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Projet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4903920" y="6032520"/>
              <a:ext cx="1600200" cy="1744560"/>
              <a:chOff x="4903920" y="6032520"/>
              <a:chExt cx="1600200" cy="1744560"/>
            </a:xfrm>
          </p:grpSpPr>
          <p:sp>
            <p:nvSpPr>
              <p:cNvPr id="77" name=""/>
              <p:cNvSpPr/>
              <p:nvPr/>
            </p:nvSpPr>
            <p:spPr>
              <a:xfrm>
                <a:off x="5024520" y="6862680"/>
                <a:ext cx="1357200" cy="9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 txBox="1"/>
              <p:nvPr/>
            </p:nvSpPr>
            <p:spPr>
              <a:xfrm>
                <a:off x="4903920" y="6032520"/>
                <a:ext cx="1600200" cy="825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Obter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provação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a Gerênci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2741760" y="3736800"/>
            <a:ext cx="4495680" cy="914400"/>
            <a:chOff x="2741760" y="3736800"/>
            <a:chExt cx="4495680" cy="914400"/>
          </a:xfrm>
        </p:grpSpPr>
        <p:grpSp>
          <p:nvGrpSpPr>
            <p:cNvPr id="80" name=""/>
            <p:cNvGrpSpPr/>
            <p:nvPr/>
          </p:nvGrpSpPr>
          <p:grpSpPr>
            <a:xfrm>
              <a:off x="2741760" y="3736800"/>
              <a:ext cx="1600200" cy="914400"/>
              <a:chOff x="2741760" y="3736800"/>
              <a:chExt cx="1600200" cy="914400"/>
            </a:xfrm>
          </p:grpSpPr>
          <p:sp>
            <p:nvSpPr>
              <p:cNvPr id="81" name=""/>
              <p:cNvSpPr/>
              <p:nvPr/>
            </p:nvSpPr>
            <p:spPr>
              <a:xfrm>
                <a:off x="2863800" y="3736800"/>
                <a:ext cx="1357200" cy="9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 txBox="1"/>
              <p:nvPr/>
            </p:nvSpPr>
            <p:spPr>
              <a:xfrm>
                <a:off x="2741760" y="3903840"/>
                <a:ext cx="1600200" cy="581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efinir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ecessidad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4189320" y="3736800"/>
              <a:ext cx="3048120" cy="914400"/>
              <a:chOff x="4189320" y="3736800"/>
              <a:chExt cx="3048120" cy="914400"/>
            </a:xfrm>
          </p:grpSpPr>
          <p:grpSp>
            <p:nvGrpSpPr>
              <p:cNvPr id="84" name=""/>
              <p:cNvGrpSpPr/>
              <p:nvPr/>
            </p:nvGrpSpPr>
            <p:grpSpPr>
              <a:xfrm>
                <a:off x="4189320" y="3736800"/>
                <a:ext cx="1600200" cy="914400"/>
                <a:chOff x="4189320" y="3736800"/>
                <a:chExt cx="1600200" cy="91440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4311720" y="3736800"/>
                  <a:ext cx="1357200" cy="914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 txBox="1"/>
                <p:nvPr/>
              </p:nvSpPr>
              <p:spPr>
                <a:xfrm>
                  <a:off x="4189320" y="3903840"/>
                  <a:ext cx="1600200" cy="58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envolver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jeto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637240" y="3736800"/>
                <a:ext cx="1600200" cy="914400"/>
                <a:chOff x="5637240" y="3736800"/>
                <a:chExt cx="1600200" cy="91440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759280" y="3736800"/>
                  <a:ext cx="1357200" cy="914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 txBox="1"/>
                <p:nvPr/>
              </p:nvSpPr>
              <p:spPr>
                <a:xfrm>
                  <a:off x="5637240" y="3781440"/>
                  <a:ext cx="16002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envolver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ernativas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 Soluçã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0" name=""/>
          <p:cNvGrpSpPr/>
          <p:nvPr/>
        </p:nvGrpSpPr>
        <p:grpSpPr>
          <a:xfrm>
            <a:off x="2003400" y="719280"/>
            <a:ext cx="5943600" cy="2793960"/>
            <a:chOff x="2003400" y="719280"/>
            <a:chExt cx="5943600" cy="2793960"/>
          </a:xfrm>
        </p:grpSpPr>
        <p:grpSp>
          <p:nvGrpSpPr>
            <p:cNvPr id="91" name=""/>
            <p:cNvGrpSpPr/>
            <p:nvPr/>
          </p:nvGrpSpPr>
          <p:grpSpPr>
            <a:xfrm>
              <a:off x="4175280" y="719280"/>
              <a:ext cx="1600200" cy="914400"/>
              <a:chOff x="4175280" y="719280"/>
              <a:chExt cx="1600200" cy="914400"/>
            </a:xfrm>
          </p:grpSpPr>
          <p:sp>
            <p:nvSpPr>
              <p:cNvPr id="92" name=""/>
              <p:cNvSpPr/>
              <p:nvPr/>
            </p:nvSpPr>
            <p:spPr>
              <a:xfrm>
                <a:off x="4295880" y="719280"/>
                <a:ext cx="1357200" cy="914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4175280" y="885960"/>
                <a:ext cx="1600200" cy="581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99"/>
                  </a:spcBef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Iniciar o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Proje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003400" y="2114640"/>
              <a:ext cx="5943600" cy="914400"/>
              <a:chOff x="2003400" y="2114640"/>
              <a:chExt cx="5943600" cy="91440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2003400" y="2114640"/>
                <a:ext cx="1600200" cy="914400"/>
                <a:chOff x="2003400" y="2114640"/>
                <a:chExt cx="1600200" cy="91440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25800" y="2114640"/>
                  <a:ext cx="1357200" cy="914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 txBox="1"/>
                <p:nvPr/>
              </p:nvSpPr>
              <p:spPr>
                <a:xfrm>
                  <a:off x="2003400" y="2158920"/>
                  <a:ext cx="16002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visar Estratégias do Negóci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3451320" y="2114640"/>
                <a:ext cx="1600200" cy="914400"/>
                <a:chOff x="3451320" y="2114640"/>
                <a:chExt cx="1600200" cy="9144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3573360" y="2114640"/>
                  <a:ext cx="1357200" cy="914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 txBox="1"/>
                <p:nvPr/>
              </p:nvSpPr>
              <p:spPr>
                <a:xfrm>
                  <a:off x="3451320" y="2158920"/>
                  <a:ext cx="16002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visar Operações do Negóci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4898880" y="2114640"/>
                <a:ext cx="1600200" cy="914400"/>
                <a:chOff x="4898880" y="2114640"/>
                <a:chExt cx="1600200" cy="91440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5021280" y="2114640"/>
                  <a:ext cx="1357200" cy="914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 txBox="1"/>
                <p:nvPr/>
              </p:nvSpPr>
              <p:spPr>
                <a:xfrm>
                  <a:off x="4898880" y="2158920"/>
                  <a:ext cx="16002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visar 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s Existente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6346800" y="2114640"/>
                <a:ext cx="1600200" cy="914400"/>
                <a:chOff x="6346800" y="2114640"/>
                <a:chExt cx="1600200" cy="9144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6469200" y="2114640"/>
                  <a:ext cx="1357200" cy="91440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 txBox="1"/>
                <p:nvPr/>
              </p:nvSpPr>
              <p:spPr>
                <a:xfrm>
                  <a:off x="6346800" y="2158920"/>
                  <a:ext cx="16002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199"/>
                    </a:spcBef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dentificar 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lhorias</a:t>
                  </a:r>
                  <a:br>
                    <a:rPr sz="1600"/>
                  </a:b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urto Praz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" name=""/>
            <p:cNvGrpSpPr/>
            <p:nvPr/>
          </p:nvGrpSpPr>
          <p:grpSpPr>
            <a:xfrm>
              <a:off x="2738520" y="1633680"/>
              <a:ext cx="4495680" cy="490320"/>
              <a:chOff x="2738520" y="1633680"/>
              <a:chExt cx="4495680" cy="490320"/>
            </a:xfrm>
          </p:grpSpPr>
          <p:grpSp>
            <p:nvGrpSpPr>
              <p:cNvPr id="108" name=""/>
              <p:cNvGrpSpPr/>
              <p:nvPr/>
            </p:nvGrpSpPr>
            <p:grpSpPr>
              <a:xfrm>
                <a:off x="2738520" y="1633680"/>
                <a:ext cx="4495680" cy="490320"/>
                <a:chOff x="2738520" y="1633680"/>
                <a:chExt cx="4495680" cy="490320"/>
              </a:xfrm>
            </p:grpSpPr>
            <p:grpSp>
              <p:nvGrpSpPr>
                <p:cNvPr id="109" name=""/>
                <p:cNvGrpSpPr/>
                <p:nvPr/>
              </p:nvGrpSpPr>
              <p:grpSpPr>
                <a:xfrm>
                  <a:off x="2738520" y="1633680"/>
                  <a:ext cx="4495680" cy="228600"/>
                  <a:chOff x="2738520" y="1633680"/>
                  <a:chExt cx="4495680" cy="22860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4979880" y="1633680"/>
                    <a:ext cx="0" cy="228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2738520" y="1862280"/>
                    <a:ext cx="4495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2743200" y="1866960"/>
                  <a:ext cx="0" cy="257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>
                <a:off x="4248000" y="1862280"/>
                <a:ext cx="0" cy="25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95920" y="1862280"/>
                <a:ext cx="0" cy="25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234200" y="1862280"/>
                <a:ext cx="0" cy="25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738520" y="3022560"/>
              <a:ext cx="4495680" cy="490680"/>
              <a:chOff x="2738520" y="3022560"/>
              <a:chExt cx="4495680" cy="4906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2738520" y="3022560"/>
                <a:ext cx="4495680" cy="490680"/>
                <a:chOff x="2738520" y="3022560"/>
                <a:chExt cx="4495680" cy="490680"/>
              </a:xfrm>
            </p:grpSpPr>
            <p:grpSp>
              <p:nvGrpSpPr>
                <p:cNvPr id="118" name=""/>
                <p:cNvGrpSpPr/>
                <p:nvPr/>
              </p:nvGrpSpPr>
              <p:grpSpPr>
                <a:xfrm>
                  <a:off x="2738520" y="3284640"/>
                  <a:ext cx="4495680" cy="228600"/>
                  <a:chOff x="2738520" y="3284640"/>
                  <a:chExt cx="4495680" cy="22860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 flipV="1">
                    <a:off x="4979880" y="3284640"/>
                    <a:ext cx="0" cy="228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2738520" y="3284640"/>
                    <a:ext cx="4495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1" name=""/>
                <p:cNvSpPr/>
                <p:nvPr/>
              </p:nvSpPr>
              <p:spPr>
                <a:xfrm flipV="1">
                  <a:off x="2743200" y="3022560"/>
                  <a:ext cx="0" cy="257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 flipV="1">
                <a:off x="4248000" y="3027240"/>
                <a:ext cx="0" cy="2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5695920" y="3027240"/>
                <a:ext cx="0" cy="2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7234200" y="3027240"/>
                <a:ext cx="0" cy="257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3514680" y="4649760"/>
            <a:ext cx="2871720" cy="432000"/>
            <a:chOff x="3514680" y="4649760"/>
            <a:chExt cx="2871720" cy="432000"/>
          </a:xfrm>
        </p:grpSpPr>
        <p:grpSp>
          <p:nvGrpSpPr>
            <p:cNvPr id="126" name=""/>
            <p:cNvGrpSpPr/>
            <p:nvPr/>
          </p:nvGrpSpPr>
          <p:grpSpPr>
            <a:xfrm>
              <a:off x="3514680" y="4649760"/>
              <a:ext cx="2871720" cy="227160"/>
              <a:chOff x="3514680" y="4649760"/>
              <a:chExt cx="2871720" cy="227160"/>
            </a:xfrm>
          </p:grpSpPr>
          <p:sp>
            <p:nvSpPr>
              <p:cNvPr id="127" name=""/>
              <p:cNvSpPr/>
              <p:nvPr/>
            </p:nvSpPr>
            <p:spPr>
              <a:xfrm>
                <a:off x="3514680" y="4876920"/>
                <a:ext cx="2871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3514680" y="4656240"/>
                <a:ext cx="0" cy="21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4971960" y="4649760"/>
                <a:ext cx="0" cy="2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6386400" y="4656240"/>
                <a:ext cx="0" cy="21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4971960" y="4876920"/>
              <a:ext cx="0" cy="204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514680" y="6211800"/>
            <a:ext cx="2871720" cy="650880"/>
            <a:chOff x="3514680" y="6211800"/>
            <a:chExt cx="2871720" cy="650880"/>
          </a:xfrm>
        </p:grpSpPr>
        <p:grpSp>
          <p:nvGrpSpPr>
            <p:cNvPr id="133" name=""/>
            <p:cNvGrpSpPr/>
            <p:nvPr/>
          </p:nvGrpSpPr>
          <p:grpSpPr>
            <a:xfrm>
              <a:off x="3514680" y="6211800"/>
              <a:ext cx="2871720" cy="441360"/>
              <a:chOff x="3514680" y="6211800"/>
              <a:chExt cx="2871720" cy="44136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3514680" y="6211800"/>
                <a:ext cx="2871720" cy="432000"/>
                <a:chOff x="3514680" y="6211800"/>
                <a:chExt cx="2871720" cy="432000"/>
              </a:xfrm>
            </p:grpSpPr>
            <p:grpSp>
              <p:nvGrpSpPr>
                <p:cNvPr id="135" name=""/>
                <p:cNvGrpSpPr/>
                <p:nvPr/>
              </p:nvGrpSpPr>
              <p:grpSpPr>
                <a:xfrm>
                  <a:off x="3514680" y="6211800"/>
                  <a:ext cx="2871720" cy="227160"/>
                  <a:chOff x="3514680" y="6211800"/>
                  <a:chExt cx="2871720" cy="22716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3514680" y="6438960"/>
                    <a:ext cx="2871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-51120" bIns="-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V="1">
                    <a:off x="3514680" y="6218280"/>
                    <a:ext cx="0" cy="218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V="1">
                    <a:off x="4971960" y="6211800"/>
                    <a:ext cx="0" cy="219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flipV="1">
                    <a:off x="6386400" y="6218280"/>
                    <a:ext cx="0" cy="218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" name=""/>
                <p:cNvSpPr/>
                <p:nvPr/>
              </p:nvSpPr>
              <p:spPr>
                <a:xfrm>
                  <a:off x="4971960" y="6438960"/>
                  <a:ext cx="0" cy="204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4205160" y="6653160"/>
                <a:ext cx="1490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205160" y="66531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95920" y="66531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038320" y="-1281240"/>
            <a:ext cx="5829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es e Subfases da Metodolog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38320" y="-447840"/>
            <a:ext cx="6114960" cy="730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e I - Início do Planejamento Estratégico de Sistemas de Infor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fase 1 - Organização do Planej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fase 2 - Treinamento dos Participantes do Planej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e II - Análise da Situação A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fase 1 - Revisão das Estratégias e Operações do Negó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fase 2 - Avaliação dos Sistemas Exist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e III - Elaboração de Solu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fase 1 - Definição da Arquitetura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fase 2 - Definição da Arquitetura de Sist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fase 3 - Definição de Estratégias Geren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fase 4 - Definição da Arquitetura Tecn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ymbo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e IV - Desenvolvimento dos Pl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fase 1 - Desenvolvimento dos Projetos de Sistemas de Inform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fase 2 - Definição das Necessidades de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fase 3 - Finalização do 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rnando Andrade Martins de Araújo</dc:creator>
  <dc:description>Curso ministrado aos alunos de graduação em Análise de Sistemas da Universidade Paulista</dc:description>
  <dc:language>en-US</dc:language>
  <cp:lastModifiedBy>PAULO HENRIQUE RODRIGUES RIBEIRO</cp:lastModifiedBy>
  <cp:revision>0</cp:revision>
  <dc:subject>Unidade III Introdução ao </dc:subject>
  <dc:title>Curso de Teoria Geral de Sistemas</dc:title>
</cp:coreProperties>
</file>