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7F82706-D463-40F8-9306-29A3C9064C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V - Elaboração de Soluções e Desenvolvimento de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se III - Elaboração de 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isa atender às necessidades identificadas na Fase II (Análise da Situação Atu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 subfa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1 Definição da Arquitetura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2 Definição da Arquitetura de Sist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3 Definição das Estratégias Gerenci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II.4 Definição da Arquitetur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fase III.1 - Definição da Arquitetur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-se uma Arquitetura de Dados para suportar o processo decisório e ciclo de negócios da empres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aref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aborar modelo de dados corpo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car entidades candida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ir o uso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V.1 Definição de Projetos de S.I. - c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Priorizar projetos - cont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considerações principai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negó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tr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os e objetivos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nefícios 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técni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cedente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dependências tecn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tre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cessidades de contratação de pess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qualquer forma, o maior peso deve estar na importância dos Fatores Críticos de Sucesso envolv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Elaborar Planos de Mig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m ser elaborados planos de migração para sistemas de informação a serem substituí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ve haver igualmente planos de migraçã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bá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V.2 Definição da Necessidade de Recur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em função das estratégias de negócio, volumes, freqüência e modalidade de processamento, definir necessidades de recur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um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ei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ão definidas, atentando para aspectos,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abilidade, disponibilidade, compatibilidade, qualidade, facilidade de expansão, modularidade, suporte de assistência técnica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ftware bás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ão definidas, atentando para aspectos,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abilidade, disponibilidade, desempenho, atendimento a padrões estabelecidos, segurnaça, documentação, facilidade de uso, suporte de manuten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ursos human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ão avaliadas em função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pos de qualificação; volume de trabalho; níveis de serviço de suporte para clientes e usuá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V.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ização do Pl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izar o Plano Estratégico de Sistemas de Inform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resentá-lo ao Grupo de Acompamhamento para aprovação, através de um relatório final, conte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ário Execu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ano de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exos (matrizes de associação dos objetos de planej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ós a elabor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-se regras e responsabilidades para manter o mesmo atualizado e ajustado quando os sistemas estiverem sendo implan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ão pelo menos anualmente,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ar quando ocorr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danças nas diretrizes de negó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danças 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os tecn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ortunidades de melh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quisi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at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 Dados Corp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 conter todos os dados básicos para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negócio da empresa seja levado a bom ter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ja cumprida a Missão e os Objetiv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dos os Processos Gerenciais sejam adequadamente supor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 ser representado a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agrama de Entidades e Relacionamentos (Peter Che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acion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e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, outra técnica equival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nece um ponto de partida para futuros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dados, diferentemente dos processos da empresa, são significativamente est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o de Dados Corporativo - Exemplo de Dia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r o Uso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de-se definir o uso dos dados, atravé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ução da Matriz de Inter-relacion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os Gerenciais X Ent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elaboração dessa matriz fornece o mapa de propriedade e uso de informações n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(is) processo(s) cria(m) os dados (entidades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is processos os utiliz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matriz derivada desta que é a de Projetos X Entidades pode auxiliar fortemente na priorização dos proj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m ter maior prioridade de implantação aqueles projetos que “geram” mais dados, em relação aos que “usam” mais d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2 - Definição da Arquitetura de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-se arquitetura dos sistemas a serem implantados para suportar os processos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ão Conceitual Arquitetôn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aplicativo para cada projeto ou vários aplicativo para suportar um proje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ização X Processamento Distribuí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Recursos Tecnológicos suficientes para processar dados e 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tilhamento de Recursos Tecnológicos entre as Áreas Funcionais de uma mesma loc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plicação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3 - Definição das Estratégias Gerenc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estratégias gerenciais são definidas pa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tar os tópicos-chave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renciament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stos assoc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álise da estrutura organizacional da função de informática, com elaboração de cenários para suport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af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tores críticos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urto, médio e long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ar, na análise, a viabi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ô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4 - Definição da Arquitetura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-se alternativas e impactos das Arquiteturas Tecn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º passo: identificação e avaliação dos componentes da tecnologia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que tem a empresa x o que oferece 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º passo: identificação de necessidades adicionais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º passo: preparação do diagrama conceitual de arquitetur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grama de hard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grama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º passo: identificação de implicações de hardware / software (check-li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on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dita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steridade x agress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cidade do equip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tibilidade com outras arquitetu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fase III.4 - Definição da Arquitetura Tecnológic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ec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ctiva de vida da tecn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xibi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imentos necess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amento batch x on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ximidade do usuário f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r friend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ndências tec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ndância de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gurança física e 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orte do fornec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mpo de resposta dos aplica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lume de dados e de proces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idade de operações em caso de contig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iona-se a Arquitetura Tecn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lha, entre as alternativas consideradas, em consenso pelos Grupos de Trabalho e Acompanh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IV - Desenvolvimento dos Pl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fase IV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Definição de Projetos de Sistemas de Inform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definir os projetos de S.I. de acordo com os Fatores Críticos de Suc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ef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essa fase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efa 1: Definir Projetos de S.I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ificar diferenças organizacionais e similaridades funcion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 perder de vista os objetivos e missão d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entadas conforme os dados (data-driven ou object-driv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de ser um projeto para cada aplicação conce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nselhável dividir aplicações quando necessá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tos dependentes podem ser combi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 projetos em andamento devem ser reconcili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refa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zar Proje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ilizar uma visão corp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dades definidas de acordo 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tratégias de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pectos técn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Análise de Sistemas da Universidade Paulista</dc:description>
  <dc:language>en-US</dc:language>
  <cp:lastModifiedBy>Fernando Andrade Martins de Araújo</cp:lastModifiedBy>
  <cp:revision>0</cp:revision>
  <dc:subject>Unidade V</dc:subject>
  <dc:title>Curso de Teoria Geral de Sistemas</dc:title>
</cp:coreProperties>
</file>