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5.jpeg" ContentType="image/jpeg"/>
  <Override PartName="/ppt/media/image10.png" ContentType="image/png"/>
  <Override PartName="/ppt/media/image2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5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AC01-7ECC-483F-9065-23C650437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101 - 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0988-F5ED-4D86-9B76-8C2FA3EA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182-F3E1-47C6-9231-7E41E640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E98-40E9-4494-99CA-25FD4B3E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7FE-3D10-4A3F-8060-B091258C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4A74-103F-4F9F-82F3-B8A5238D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AE28-4E08-4449-BAE1-0AC8609A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F77C-45A9-444E-A8F6-816E2102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38CC-3C21-41F1-B36A-FD2623A9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DE73-AF84-4B13-BB04-530739D9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AEC0-3EBD-4749-A4DB-74FEDE9A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9DBB-77AD-4A01-8E1B-46A31951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5D3-3977-4ECB-9D48-2184D4F1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F1B9-6ACA-4FBC-B19C-B9DD972D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3042-67BC-48FE-BDF6-74C73C12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9153-3197-4889-85B5-11113D93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7798-D85B-493D-BD1A-1E1C38E1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F6B2-64EC-4D92-85D0-DD3FB9D4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052-9D47-4F1C-940D-645FA36F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A95B-8D91-4226-9732-90C4447B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806-5310-4870-8BCD-31EC9088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F15-2DAD-46B0-A4EF-159E4A87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D46-2114-450A-A73D-957A9F07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A54-A73E-4D31-8947-AF48862C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7C7-898B-4EB3-8FAC-7214F812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72D3-EEE9-44D5-A55F-9BC982C5334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B6F1-0F50-4760-99F5-0AEBBC74181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ternational Business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lobal Econom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18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00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年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1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月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8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8. November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ther Porter Condi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phisticated local consumers help make products internationally compet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d &amp; Supporting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iers aroun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generate cost savings; new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m Strategy, Structure, and Rival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itive training 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prepares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m for internation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bd05447_" descr=""/>
          <p:cNvPicPr/>
          <p:nvPr/>
        </p:nvPicPr>
        <p:blipFill>
          <a:blip r:embed="rId9"/>
          <a:stretch/>
        </p:blipFill>
        <p:spPr>
          <a:xfrm>
            <a:off x="4700520" y="5076720"/>
            <a:ext cx="4519800" cy="17812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ypes of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ternational Investme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folio Invest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ive holding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ign Direct Invest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sition of foreign assets for the purpose of controlling the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ories of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ternational Investme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nership Advantage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ization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oing yourself is better than outsou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nning’s Eclectic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43000" y="4191120"/>
          <a:ext cx="7620120" cy="2601720"/>
        </p:xfrm>
        <a:graphic>
          <a:graphicData uri="http://schemas.openxmlformats.org/drawingml/2006/table">
            <a:tbl>
              <a:tblPr/>
              <a:tblGrid>
                <a:gridCol w="2362320"/>
                <a:gridCol w="2438280"/>
                <a:gridCol w="281952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s Affecting the FDI De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ply F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mand F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litical F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ion 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oidance of trade barr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eting 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ic Development Incen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ource Avai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oitation of competitive 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ss to techn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 Mo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 advTm="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unning’s Eclectic Theo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DI occurs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wnership Advant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rm has a competitive advantage greater than disadvantages when competing on foreign tur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vant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t must be more profitable by being at the foreign location than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naliza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m is better off doing things themse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4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03520" y="2463840"/>
            <a:ext cx="2136600" cy="1890720"/>
            <a:chOff x="3503520" y="2463840"/>
            <a:chExt cx="2136600" cy="1890720"/>
          </a:xfrm>
        </p:grpSpPr>
        <p:sp>
          <p:nvSpPr>
            <p:cNvPr id="139" name=""/>
            <p:cNvSpPr/>
            <p:nvPr/>
          </p:nvSpPr>
          <p:spPr>
            <a:xfrm>
              <a:off x="3503520" y="2463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3520" y="2463840"/>
              <a:ext cx="2136600" cy="18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1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etcover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1508040" cy="1886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009800" y="2743200"/>
            <a:ext cx="790560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755e46"/>
                    </a:gs>
                  </a:gsLst>
                  <a:lin ang="5400000"/>
                </a:gradFill>
                <a:latin typeface="Arial Black"/>
              </a:rPr>
              <a:t>Backup Slides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8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Quiz Ques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ternational business Activity that involves the operation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ies on behalf of another firm in another country for a fee is referred to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Franch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Foreign Direct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Portfolio Inve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D) Management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) Lic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22720" y="1766880"/>
            <a:ext cx="4121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erms of FDI, which of the following statements is not tr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6640" indent="-29664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China is not attracting FDI as predi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.S. is becoming a less important source of FD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FDI is motivated by penetration of large consumer mark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e years, Japan’s role as a destination of FDI has about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 and Japan are becoming less important sources of FD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Quiz Ques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808440" cy="441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O, NAFTA, EU are all indications of ___ that resulted in relaxed trade among member count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33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Governmental trade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national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ha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ical market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ve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22360" y="1766520"/>
            <a:ext cx="3808440" cy="44053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ombat high inflation, trade deficit balance, and rising external debt in the 1980s, Mexico took which of the following ac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onomic policies changed from market-driven policies to import substitution approa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9933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Economic policies changed from import substitution approach to market-driven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xico increased the price of oil to generate more mo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xico became more protection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d government’s role in the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Quiz Ques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de theory that suggests that a country should export those goods that use intensively those factors of production that are in abundan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anti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Relative Factor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rcosur Accord is an example of a(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trad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33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Customs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ories of Tra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canti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ntury measures a country wealth in terms of Gold and Sil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trives to maximize (Exports – Impor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lute Adva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on spec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s00125_" descr=""/>
          <p:cNvPicPr/>
          <p:nvPr/>
        </p:nvPicPr>
        <p:blipFill>
          <a:blip r:embed="rId7"/>
          <a:stretch/>
        </p:blipFill>
        <p:spPr>
          <a:xfrm>
            <a:off x="7391520" y="5334120"/>
            <a:ext cx="1520640" cy="1284120"/>
          </a:xfrm>
          <a:prstGeom prst="rect">
            <a:avLst/>
          </a:prstGeom>
          <a:ln w="0">
            <a:noFill/>
          </a:ln>
        </p:spPr>
      </p:pic>
      <p:pic>
        <p:nvPicPr>
          <p:cNvPr id="100" name="bd06954_" descr=""/>
          <p:cNvPicPr/>
          <p:nvPr/>
        </p:nvPicPr>
        <p:blipFill>
          <a:blip r:embed="rId8"/>
          <a:stretch/>
        </p:blipFill>
        <p:spPr>
          <a:xfrm>
            <a:off x="5411880" y="5383080"/>
            <a:ext cx="2208240" cy="12351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re Theori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Factor Endow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cksher &amp; Bertil Oh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 Endowments vary amo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 differ according to the types of factors that are used to produc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69b8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untry will have a competitive advantage in producing products that intensively use resources it has in abund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s to the Leontief Parad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irm Based Theori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ry Similarity Theory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n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s intracountry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trade in manufacturing goods results from similarities in preferences among consumers in countries that are at the same stage of economi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zes that most manufactured good trade occurs between countries with similar per capita in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explaining trade in differentiated goods – cars, electronics,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irm Based Theori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Life-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R. Vernon from H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s in the Life-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099164" descr=""/>
          <p:cNvPicPr/>
          <p:nvPr/>
        </p:nvPicPr>
        <p:blipFill>
          <a:blip r:embed="rId5"/>
          <a:stretch/>
        </p:blipFill>
        <p:spPr>
          <a:xfrm>
            <a:off x="6477120" y="3657600"/>
            <a:ext cx="2330280" cy="2476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irm Based Theori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trategic Rival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ms seek sustainable competitive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mplish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ing Intellectual Property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ng in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ing economies of scope and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ing the experienc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orter’s National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mpetitive Advantage Theo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 in international trade comes from interac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and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&amp; Supporting Indus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m strategy, structur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ival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05452_" descr=""/>
          <p:cNvPicPr/>
          <p:nvPr/>
        </p:nvPicPr>
        <p:blipFill>
          <a:blip r:embed="rId7"/>
          <a:stretch/>
        </p:blipFill>
        <p:spPr>
          <a:xfrm>
            <a:off x="6000840" y="3340080"/>
            <a:ext cx="2990880" cy="3441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orter’s Diamond of National Competitive Advantag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62240" y="1981080"/>
            <a:ext cx="6419520" cy="4496040"/>
          </a:xfrm>
          <a:prstGeom prst="diamond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58640" y="2057400"/>
            <a:ext cx="2824920" cy="825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m Strategy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 &amp; Rival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6240" y="3825720"/>
            <a:ext cx="1520280" cy="825480"/>
          </a:xfrm>
          <a:prstGeom prst="rect">
            <a:avLst/>
          </a:prstGeom>
          <a:solidFill>
            <a:srgbClr val="d69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Demand </a:t>
            </a:r>
            <a:br>
              <a:rPr sz="2400"/>
            </a:b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2600" y="5257800"/>
            <a:ext cx="2818800" cy="901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Relate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Supporting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4240" y="3809880"/>
            <a:ext cx="1520280" cy="82548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Times New Roman"/>
              </a:rPr>
              <a:t>Factor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14880" y="3048120"/>
            <a:ext cx="2514600" cy="205740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gradFill rotWithShape="0">
            <a:gsLst>
              <a:gs pos="0">
                <a:srgbClr val="d69b80"/>
              </a:gs>
              <a:gs pos="100000">
                <a:srgbClr val="993300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2057400" y="4724280"/>
            <a:ext cx="91440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200640" y="3124080"/>
            <a:ext cx="91440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124680" y="478440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168640" y="304776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actor Condi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untry’s endowment of factors of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of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factors created throug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, R&amp;D,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d05352_" descr=""/>
          <p:cNvPicPr/>
          <p:nvPr/>
        </p:nvPicPr>
        <p:blipFill>
          <a:blip r:embed="rId9"/>
          <a:stretch/>
        </p:blipFill>
        <p:spPr>
          <a:xfrm>
            <a:off x="5578560" y="3346560"/>
            <a:ext cx="3565440" cy="3435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6T01:08:15Z</dcterms:created>
  <dc:creator>T. J. Ivinjack</dc:creator>
  <dc:description/>
  <dc:language>en-US</dc:language>
  <cp:lastModifiedBy>T. J. Ivinjack</cp:lastModifiedBy>
  <dcterms:modified xsi:type="dcterms:W3CDTF">2000-12-02T11:55:18Z</dcterms:modified>
  <cp:revision>11</cp:revision>
  <dc:subject/>
  <dc:title>International Business Global Economy</dc:title>
</cp:coreProperties>
</file>