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80628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88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75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740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75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740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271080"/>
            <a:ext cx="784872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88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9600"/>
            <a:ext cx="412560" cy="457200"/>
          </a:xfrm>
          <a:custGeom>
            <a:avLst/>
            <a:gdLst/>
            <a:ahLst/>
            <a:rect l="l" t="t" r="r" b="b"/>
            <a:pathLst>
              <a:path w="260" h="288">
                <a:moveTo>
                  <a:pt x="0" y="0"/>
                </a:moveTo>
                <a:lnTo>
                  <a:pt x="259" y="0"/>
                </a:lnTo>
                <a:lnTo>
                  <a:pt x="213" y="287"/>
                </a:lnTo>
                <a:lnTo>
                  <a:pt x="0" y="28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380880"/>
            <a:ext cx="506520" cy="534960"/>
          </a:xfrm>
          <a:custGeom>
            <a:avLst/>
            <a:gdLst/>
            <a:ahLst/>
            <a:rect l="l" t="t" r="r" b="b"/>
            <a:pathLst>
              <a:path w="319" h="337">
                <a:moveTo>
                  <a:pt x="66" y="0"/>
                </a:moveTo>
                <a:lnTo>
                  <a:pt x="0" y="336"/>
                </a:lnTo>
                <a:lnTo>
                  <a:pt x="252" y="336"/>
                </a:lnTo>
                <a:lnTo>
                  <a:pt x="318" y="0"/>
                </a:lnTo>
                <a:lnTo>
                  <a:pt x="6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920" y="309600"/>
            <a:ext cx="493560" cy="457200"/>
          </a:xfrm>
          <a:custGeom>
            <a:avLst/>
            <a:gdLst/>
            <a:ahLst/>
            <a:rect l="l" t="t" r="r" b="b"/>
            <a:pathLst>
              <a:path w="311" h="288">
                <a:moveTo>
                  <a:pt x="78" y="0"/>
                </a:moveTo>
                <a:lnTo>
                  <a:pt x="0" y="287"/>
                </a:lnTo>
                <a:lnTo>
                  <a:pt x="233" y="287"/>
                </a:lnTo>
                <a:lnTo>
                  <a:pt x="310" y="0"/>
                </a:lnTo>
                <a:lnTo>
                  <a:pt x="7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30360" y="309600"/>
            <a:ext cx="56880" cy="457200"/>
          </a:xfrm>
          <a:custGeom>
            <a:avLst/>
            <a:gdLst/>
            <a:ahLst/>
            <a:rect l="l" t="t" r="r" b="b"/>
            <a:pathLst>
              <a:path w="36" h="288">
                <a:moveTo>
                  <a:pt x="12" y="0"/>
                </a:moveTo>
                <a:lnTo>
                  <a:pt x="0" y="287"/>
                </a:lnTo>
                <a:lnTo>
                  <a:pt x="23" y="287"/>
                </a:lnTo>
                <a:lnTo>
                  <a:pt x="35" y="0"/>
                </a:lnTo>
                <a:lnTo>
                  <a:pt x="1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077920" y="6400800"/>
            <a:ext cx="6423120" cy="190440"/>
            <a:chOff x="2077920" y="6400800"/>
            <a:chExt cx="6423120" cy="190440"/>
          </a:xfrm>
        </p:grpSpPr>
        <p:sp>
          <p:nvSpPr>
            <p:cNvPr id="5" name=""/>
            <p:cNvSpPr/>
            <p:nvPr/>
          </p:nvSpPr>
          <p:spPr>
            <a:xfrm>
              <a:off x="2077920" y="6516720"/>
              <a:ext cx="6423120" cy="74520"/>
            </a:xfrm>
            <a:custGeom>
              <a:avLst/>
              <a:gdLst/>
              <a:ahLst/>
              <a:rect l="l" t="t" r="r" b="b"/>
              <a:pathLst>
                <a:path w="4046" h="47">
                  <a:moveTo>
                    <a:pt x="0" y="46"/>
                  </a:moveTo>
                  <a:lnTo>
                    <a:pt x="4045" y="46"/>
                  </a:lnTo>
                  <a:lnTo>
                    <a:pt x="4045" y="0"/>
                  </a:lnTo>
                  <a:lnTo>
                    <a:pt x="9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100240" y="6400800"/>
              <a:ext cx="6400800" cy="77760"/>
            </a:xfrm>
            <a:custGeom>
              <a:avLst/>
              <a:gdLst/>
              <a:ahLst/>
              <a:rect l="l" t="t" r="r" b="b"/>
              <a:pathLst>
                <a:path w="4032" h="49">
                  <a:moveTo>
                    <a:pt x="0" y="48"/>
                  </a:moveTo>
                  <a:lnTo>
                    <a:pt x="4031" y="46"/>
                  </a:lnTo>
                  <a:lnTo>
                    <a:pt x="4031" y="0"/>
                  </a:lnTo>
                  <a:lnTo>
                    <a:pt x="9" y="0"/>
                  </a:lnTo>
                  <a:lnTo>
                    <a:pt x="0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conomic Political &amp; Legal Issues in Global Market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Home Country Issu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milar Motiva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ere you can and cannot do busines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essure Group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Risk Assessment Issu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lassific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odels of Risk Assessmen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Qualitative and Quantitative Mode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andard Mode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oblems in using Model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ypical Indices for Risk Assessmen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Risk : Classificati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cro Risk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itical risk that affects all the companies operating in the count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icro Risk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ffects only that firm 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Risk Assessment Model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ostly based on judgmen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Qualitative and Quantitative Model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eographic Scope V Orient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Geographic Scope V Orientati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301760"/>
            <a:ext cx="0" cy="43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82680" y="976320"/>
            <a:ext cx="2758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cro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02840" y="5472000"/>
            <a:ext cx="2667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cro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01760" y="3581280"/>
            <a:ext cx="577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0480" y="3719520"/>
            <a:ext cx="24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ny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9160" y="3795840"/>
            <a:ext cx="1569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02360" y="1835280"/>
            <a:ext cx="1587600" cy="901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97200" y="1814400"/>
            <a:ext cx="1226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a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64280" y="2292480"/>
            <a:ext cx="1206360" cy="825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0160" y="2347920"/>
            <a:ext cx="888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 &amp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44760" y="3816360"/>
            <a:ext cx="1511280" cy="825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22960" y="379584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3160" y="5111640"/>
            <a:ext cx="825480" cy="368280"/>
          </a:xfrm>
          <a:prstGeom prst="star5">
            <a:avLst/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60840" y="5396040"/>
            <a:ext cx="18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de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Standard Model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usiness Internation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75 countrie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wice/yea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eri’s Political Risk Indicator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48 countr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rice/yea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rost and Sulliva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80 countr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/yea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Problems in using Model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imelines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asis: Historical patter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nflicting messages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ypical Indic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ertaining to Environment in Gener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ertaining to Industry &amp; Firm in particular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71440"/>
            <a:ext cx="7924680" cy="64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ypical Indic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ncerning Environmen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itical Parties &amp; Philosoph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ars &amp; Revolu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overnment attitude towards foreign firm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flation /interest ra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cial Concer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atural Disaste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ypical Indic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dustr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put Uncertain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mand condi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irm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bor &amp; capital availabili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duct liabil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Economic, Political &amp; Legal Issues: Outlin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mportan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untry Analysis:The Big Pictu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ssessment of Economic Trend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olitical Risk Assessment Framework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st Government Motivations /Ac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isk Assessment &amp; Risk Reduction Strategi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lobal Legal Issu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Vulnerability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 general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increases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with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or relations between countr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perates in critical areas like power, communication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th smaller local oper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ing larger and more visibl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sumer rather than industrial produc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nished products than intermedia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Risk Reduction Strategi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 general, depends on bargaining power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ypical approach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void country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pletely Adap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ster Dependenc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uying Insura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ecific strateg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Specific Strategi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icensing / Joint ventur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dispensabilit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Vertical Integr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Global Legal Issu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orld Legal Systems &amp; Key Differenc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Jurisdiction of Law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jor legal concer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World Legal System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mmon Law Base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de law Base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slamic Law Base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ocialist law Base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Key Differences &amp; Implica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bd05015_" descr=""/>
          <p:cNvPicPr/>
          <p:nvPr/>
        </p:nvPicPr>
        <p:blipFill>
          <a:blip r:embed="rId1"/>
          <a:stretch/>
        </p:blipFill>
        <p:spPr>
          <a:xfrm>
            <a:off x="6888240" y="3657600"/>
            <a:ext cx="2255760" cy="24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Legal Jurisdicti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Jurisdiction= Influen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Usually include specific clause in contrac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Otherwise could depend on where contract signed or where execute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ole of Arbitr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271440"/>
            <a:ext cx="7925040" cy="7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Key Legal Concern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ncerning Competi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ti trust law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tellectual Property Righ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tents,  Royalties et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ncerning Business Practic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ouble tax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reign Corrupt Practices Law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thical Issu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9" name="bd07032_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1692000" cy="18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Importanc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Ultimate goal: Assess how attractive (or not attractive) the country is for busines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ssessment has several dimens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eneral economic attractivenes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itical attractivenes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cio-cultural attractivenes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Overall unifying framework?  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000000"/>
                </a:solidFill>
                <a:uFillTx/>
                <a:latin typeface="Book Antiqua"/>
              </a:rPr>
              <a:t>Framework for Country Analysis : The Big Picture  (aka External Analysis</a:t>
            </a: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) 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828800"/>
            <a:ext cx="16002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7600">
            <a:off x="2361960" y="266688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4572000"/>
            <a:ext cx="24382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3048120"/>
            <a:ext cx="167616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5840" y="2057400"/>
            <a:ext cx="17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46000" y="335268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23800" y="487692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537800">
            <a:off x="5257440" y="403812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848720" cy="64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ountry Analysis</a:t>
            </a:r>
            <a:r>
              <a:rPr b="0" i="1" lang="en-US" sz="3800" spc="-1" strike="noStrike" u="sng">
                <a:solidFill>
                  <a:srgbClr val="000000"/>
                </a:solidFill>
                <a:uFillTx/>
                <a:latin typeface="Book Antiqua"/>
              </a:rPr>
              <a:t>  </a:t>
            </a: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914400"/>
            <a:ext cx="16002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1143000"/>
            <a:ext cx="838080" cy="304920"/>
          </a:xfrm>
          <a:custGeom>
            <a:avLst/>
            <a:gdLst>
              <a:gd name="textAreaLeft" fmla="*/ 13068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914400"/>
            <a:ext cx="2438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14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880" y="838080"/>
            <a:ext cx="17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868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28720" y="86832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1430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2057400"/>
            <a:ext cx="2133360" cy="43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Goal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igher p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p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come,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tability ,de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Policies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scal/Mon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rade/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dustri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oci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523880"/>
            <a:ext cx="609480" cy="381240"/>
          </a:xfrm>
          <a:prstGeom prst="flowChartMerg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1523880"/>
            <a:ext cx="609480" cy="381240"/>
          </a:xfrm>
          <a:prstGeom prst="flowChartMerg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1523880"/>
            <a:ext cx="533160" cy="304920"/>
          </a:xfrm>
          <a:prstGeom prst="flowChartMerg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1981080"/>
            <a:ext cx="304812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Nationa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abor/Capital/Na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sources/Technology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Key Player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Government/ Union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olitical /Religious gro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Formal Rules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:Proper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ights; Legal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Informal Ru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ventions &amp; 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erna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UN/ WTO/Trade Tre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981080"/>
            <a:ext cx="2057400" cy="43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1981080"/>
            <a:ext cx="2895480" cy="426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1981080"/>
            <a:ext cx="281952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GNP/GDP; W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flation/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come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ortality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iteracy rates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olitic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olitical Free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Inter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alance of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xchange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ariffs &amp; Quotas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1981080"/>
            <a:ext cx="2743200" cy="449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ountry Analysi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to accomplish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ook at performance indicators and assess if goals are being met by policies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ome general approach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overnment white pape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wspapers/ articles ( example: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conomis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ountry Surveys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pert opin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Needs lots of time/expertise for good job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Political Risk Assessment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"/>
          <p:cNvSpPr/>
          <p:nvPr/>
        </p:nvSpPr>
        <p:spPr>
          <a:xfrm>
            <a:off x="1682640" y="1149480"/>
            <a:ext cx="4711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18480" y="1204920"/>
            <a:ext cx="449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st Government Mot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rot="16200000">
            <a:off x="3625560" y="3244680"/>
            <a:ext cx="520920" cy="59688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8960" y="2444760"/>
            <a:ext cx="43308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02160" y="2576520"/>
            <a:ext cx="386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st Government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92480" y="3892680"/>
            <a:ext cx="32637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rot="16200000">
            <a:off x="3587760" y="4654440"/>
            <a:ext cx="596880" cy="59688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7400" y="4024440"/>
            <a:ext cx="254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sk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rot="16200000">
            <a:off x="3625920" y="1797120"/>
            <a:ext cx="520560" cy="59688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7560" y="5416560"/>
            <a:ext cx="37972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11880" y="5472000"/>
            <a:ext cx="380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sk Reduction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8160" y="5187960"/>
            <a:ext cx="1892160" cy="90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00760" y="5472000"/>
            <a:ext cx="193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eg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949360" y="5568840"/>
            <a:ext cx="672840" cy="216000"/>
          </a:xfrm>
          <a:prstGeom prst="rightArrow">
            <a:avLst>
              <a:gd name="adj1" fmla="val 50000"/>
              <a:gd name="adj2" fmla="val 155764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9560" y="3511440"/>
            <a:ext cx="2349360" cy="1359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720760" y="4044960"/>
            <a:ext cx="672840" cy="216000"/>
          </a:xfrm>
          <a:prstGeom prst="rightArrow">
            <a:avLst>
              <a:gd name="adj1" fmla="val 50000"/>
              <a:gd name="adj2" fmla="val 155764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43360" y="3719520"/>
            <a:ext cx="2228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m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Host Country Motivations?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curity Reas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estige &amp; Ideological Reas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ultural Reasons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conomic  &amp; Vested Interes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Host Government Action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mple Ac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formal Interven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uy Loc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riff / Non Tariff Barrie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ore Drastic Actions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ules regarding oper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se of local resourc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wnership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ost Drastic Ac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propriation /Confis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08T08:30:46Z</dcterms:created>
  <dc:creator>Authorized Gateway Customer</dc:creator>
  <dc:description/>
  <dc:language>en-US</dc:language>
  <cp:lastModifiedBy>T. J. Ivinjack</cp:lastModifiedBy>
  <cp:lastPrinted>2000-02-21T17:42:51Z</cp:lastPrinted>
  <dcterms:modified xsi:type="dcterms:W3CDTF">2001-01-19T17:52:13Z</dcterms:modified>
  <cp:revision>6</cp:revision>
  <dc:subject/>
  <dc:title>Class 4</dc:title>
</cp:coreProperties>
</file>