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75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740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75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740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271080"/>
            <a:ext cx="78487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888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88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9600"/>
            <a:ext cx="412560" cy="457200"/>
          </a:xfrm>
          <a:custGeom>
            <a:avLst/>
            <a:gdLst/>
            <a:ahLst/>
            <a:rect l="l" t="t" r="r" b="b"/>
            <a:pathLst>
              <a:path w="260" h="288">
                <a:moveTo>
                  <a:pt x="0" y="0"/>
                </a:moveTo>
                <a:lnTo>
                  <a:pt x="259" y="0"/>
                </a:lnTo>
                <a:lnTo>
                  <a:pt x="213" y="287"/>
                </a:lnTo>
                <a:lnTo>
                  <a:pt x="0" y="28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380880"/>
            <a:ext cx="506520" cy="534960"/>
          </a:xfrm>
          <a:custGeom>
            <a:avLst/>
            <a:gdLst/>
            <a:ahLst/>
            <a:rect l="l" t="t" r="r" b="b"/>
            <a:pathLst>
              <a:path w="319" h="337">
                <a:moveTo>
                  <a:pt x="66" y="0"/>
                </a:moveTo>
                <a:lnTo>
                  <a:pt x="0" y="336"/>
                </a:lnTo>
                <a:lnTo>
                  <a:pt x="252" y="336"/>
                </a:lnTo>
                <a:lnTo>
                  <a:pt x="318" y="0"/>
                </a:lnTo>
                <a:lnTo>
                  <a:pt x="6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309600"/>
            <a:ext cx="493560" cy="457200"/>
          </a:xfrm>
          <a:custGeom>
            <a:avLst/>
            <a:gdLst/>
            <a:ahLst/>
            <a:rect l="l" t="t" r="r" b="b"/>
            <a:pathLst>
              <a:path w="311" h="288">
                <a:moveTo>
                  <a:pt x="78" y="0"/>
                </a:moveTo>
                <a:lnTo>
                  <a:pt x="0" y="287"/>
                </a:lnTo>
                <a:lnTo>
                  <a:pt x="233" y="287"/>
                </a:lnTo>
                <a:lnTo>
                  <a:pt x="310" y="0"/>
                </a:lnTo>
                <a:lnTo>
                  <a:pt x="78" y="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0360" y="309600"/>
            <a:ext cx="56880" cy="457200"/>
          </a:xfrm>
          <a:custGeom>
            <a:avLst/>
            <a:gdLst/>
            <a:ahLst/>
            <a:rect l="l" t="t" r="r" b="b"/>
            <a:pathLst>
              <a:path w="36" h="288">
                <a:moveTo>
                  <a:pt x="12" y="0"/>
                </a:moveTo>
                <a:lnTo>
                  <a:pt x="0" y="287"/>
                </a:lnTo>
                <a:lnTo>
                  <a:pt x="23" y="287"/>
                </a:lnTo>
                <a:lnTo>
                  <a:pt x="35" y="0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077920" y="6400800"/>
            <a:ext cx="6423120" cy="190440"/>
            <a:chOff x="2077920" y="6400800"/>
            <a:chExt cx="6423120" cy="190440"/>
          </a:xfrm>
        </p:grpSpPr>
        <p:sp>
          <p:nvSpPr>
            <p:cNvPr id="5" name=""/>
            <p:cNvSpPr/>
            <p:nvPr/>
          </p:nvSpPr>
          <p:spPr>
            <a:xfrm>
              <a:off x="2077920" y="6516720"/>
              <a:ext cx="6423120" cy="74520"/>
            </a:xfrm>
            <a:custGeom>
              <a:avLst/>
              <a:gdLst/>
              <a:ahLst/>
              <a:rect l="l" t="t" r="r" b="b"/>
              <a:pathLst>
                <a:path w="4046" h="47">
                  <a:moveTo>
                    <a:pt x="0" y="46"/>
                  </a:moveTo>
                  <a:lnTo>
                    <a:pt x="4045" y="46"/>
                  </a:lnTo>
                  <a:lnTo>
                    <a:pt x="4045" y="0"/>
                  </a:lnTo>
                  <a:lnTo>
                    <a:pt x="9" y="0"/>
                  </a:lnTo>
                  <a:lnTo>
                    <a:pt x="0" y="46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0240" y="6400800"/>
              <a:ext cx="6400800" cy="77760"/>
            </a:xfrm>
            <a:custGeom>
              <a:avLst/>
              <a:gdLst/>
              <a:ahLst/>
              <a:rect l="l" t="t" r="r" b="b"/>
              <a:pathLst>
                <a:path w="4032" h="49">
                  <a:moveTo>
                    <a:pt x="0" y="48"/>
                  </a:moveTo>
                  <a:lnTo>
                    <a:pt x="4031" y="46"/>
                  </a:lnTo>
                  <a:lnTo>
                    <a:pt x="4031" y="0"/>
                  </a:lnTo>
                  <a:lnTo>
                    <a:pt x="9" y="0"/>
                  </a:lnTo>
                  <a:lnTo>
                    <a:pt x="0" y="48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 Market  Sele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Diffusion Theory &amp; Characteristic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proces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Adopter typ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novators ( 3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rly adopters ( 14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rly and Late majority (70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ggards (rest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Key Characteristic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Diffusion theory: proces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Market &amp; Product Factor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Book Antiqua"/>
              </a:rPr>
              <a:t>Market fact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ed Percep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bility to bu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Book Antiqua"/>
              </a:rPr>
              <a:t>Product Facto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lexity of Produ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unicability/ Observ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ial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actors affecting Proces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2853360" y="4924440"/>
            <a:ext cx="3185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yer Deci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9680" y="4730760"/>
            <a:ext cx="341604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0080" y="1454040"/>
            <a:ext cx="2120760" cy="234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8480" y="1463760"/>
            <a:ext cx="2135160" cy="2221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360" y="1463760"/>
            <a:ext cx="2206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ferenc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cia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rot="19260000">
            <a:off x="5996160" y="4091040"/>
            <a:ext cx="962280" cy="710640"/>
          </a:xfrm>
          <a:prstGeom prst="rightArrow">
            <a:avLst>
              <a:gd name="adj1" fmla="val 50000"/>
              <a:gd name="adj2" fmla="val 67711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340000">
            <a:off x="2006280" y="4052520"/>
            <a:ext cx="939600" cy="600120"/>
          </a:xfrm>
          <a:prstGeom prst="rightArrow">
            <a:avLst>
              <a:gd name="adj1" fmla="val 50000"/>
              <a:gd name="adj2" fmla="val 78291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actors affecting Proces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dividual ( Psychological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cial ( Group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ference Grou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cial Clas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fluences same for all buyers?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ffect on Ultimate Buy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ffect on Organizational Buy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egment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rpos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vantag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gmentation Criteria &amp; Difficult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 Strateg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urpose 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o all consumers have similar taste &amp; preferences? Wh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lications for marketers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ss Merchandising philosoph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ed marketing requires segmen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cess of grouping consumers with similar tastes and preferen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dvantag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call goal of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does segmenting help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fficienc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riteria and Difficult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parate criteria for consumer and industrial good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iteria should be easy to implement and also useful for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arget Market Selection: Outlin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ce &amp; Big Pictur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onents of Target Market Sele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nderstanding Buyer Behavi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gmenting Buy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recasting Size of Segmen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hoosing Segments: Target Market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onsumer Good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iteri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ographic &amp; Demograph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havior &amp; Benefits sough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hich is easy ? But we assume  ...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enefits &amp; Behavior hard, but ....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ith benefits/behavior basis still need to relate to demographics? wh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Industrial Good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ually easie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mon Criteri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ograph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age patter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Strateg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ss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ed Marke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centrated strate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ultisegmented strate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sis of choic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gment size &amp; profit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achability &amp; resource availabil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Forecasting demand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urpose &amp; defini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echniques of forecast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scussion of different typ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efulness of method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Purpose &amp; defini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big is segment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s it profitabl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ithout demand impossible to determine profitabil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o key input in Target market selec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define demand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echniqu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 general, demand estimation methods based 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people have done in the past                  (historical data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people say they will do ( survey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people actually do ( test market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fficulties of using tests &amp; survey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ically use analogy method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nalogy method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2978280" y="1378080"/>
            <a:ext cx="265428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7920" y="1539720"/>
            <a:ext cx="1716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03560" y="2597040"/>
            <a:ext cx="199368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8480" y="2597040"/>
            <a:ext cx="18158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0880" y="3282840"/>
            <a:ext cx="21207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0240" y="3282840"/>
            <a:ext cx="234972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" y="3338640"/>
            <a:ext cx="226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wn cou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se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89200" y="3338640"/>
            <a:ext cx="227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ther cou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se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2735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42735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400" y="5014800"/>
            <a:ext cx="320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in Ra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44960" y="4938840"/>
            <a:ext cx="4834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 Cross Sectional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. Displaced Time Serie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Other country analo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oss Sectional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ate similar count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te demand in that country with some macro economic variab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ly above relationship to target count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mportant to use meaningful macro variab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xample cross sectional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913320" y="1114560"/>
            <a:ext cx="723636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: Demand in target country (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 : Demand in chosen country (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:  Macroeconomic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arget country (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 :  Macroeconomic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chosen country (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{ 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  =  {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   =  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{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} * { 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Other country analo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splace Time Series metho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blem with cross section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ilar county’s development state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ilar logic as cross sectional except use similar country’s data set back a few yea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Where are we? AKA  Big Pictur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1758960"/>
            <a:ext cx="1815840" cy="105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82840" y="1149480"/>
            <a:ext cx="1816200" cy="105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30960" y="1758960"/>
            <a:ext cx="1816200" cy="105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63800" y="2978280"/>
            <a:ext cx="2654280" cy="901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7560" y="4807080"/>
            <a:ext cx="4406760" cy="113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5800" y="1890720"/>
            <a:ext cx="14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03800" y="1281240"/>
            <a:ext cx="1583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sio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62720" y="1890720"/>
            <a:ext cx="140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rot="16200000">
            <a:off x="4006800" y="2292120"/>
            <a:ext cx="368280" cy="673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80000">
            <a:off x="2368080" y="2547720"/>
            <a:ext cx="596880" cy="291960"/>
          </a:xfrm>
          <a:prstGeom prst="rightArrow">
            <a:avLst>
              <a:gd name="adj1" fmla="val 50000"/>
              <a:gd name="adj2" fmla="val 10222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20160000">
            <a:off x="5416200" y="2546280"/>
            <a:ext cx="673200" cy="291960"/>
          </a:xfrm>
          <a:prstGeom prst="rightArrow">
            <a:avLst>
              <a:gd name="adj1" fmla="val 50000"/>
              <a:gd name="adj2" fmla="val 115300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4043520" y="3968640"/>
            <a:ext cx="292320" cy="749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07720" y="2973240"/>
            <a:ext cx="2567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duct/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7280" y="5099040"/>
            <a:ext cx="4444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 Market Sel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24160" cy="42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523800" cy="42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25960" y="3467160"/>
            <a:ext cx="523800" cy="426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523800" cy="42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Example : Displaced Time Serie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"/>
          <p:cNvSpPr/>
          <p:nvPr/>
        </p:nvSpPr>
        <p:spPr>
          <a:xfrm>
            <a:off x="228240" y="1095480"/>
            <a:ext cx="863208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:  Demand in ‘98 of target country (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 : Demand in ‘88 of chosen country (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 :  Macroeconomic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‘98 of target country ( must be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 :  Macroeconomic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‘80 in chosen country (must be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{ 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  =  {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    =  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{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/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8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} * { 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98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Own Country analogy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hain ratio Metho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tivating 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with total pop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ly a series of demographic percentages to the total population to reflect make up of target mark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t dema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Usefulness?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ow to get similar countr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ata availabil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tal market estimat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&amp; eas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ually first step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arget market selec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nderstanding buyer behavior permits us to segment mark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ases of segmentation permits us to get demand estimate &amp; profitabilit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mpany resources and goals drives choice of segments and we have  Target Mark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w 4Ps to relate to Target Marke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Target Market  Component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call  International Marketing Strategy  consists of      ................ + .................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arget Market in turn consists of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nderstanding Buyer Behavi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gmenting Buyer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recasting Segment siz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lection of Segment &gt;&gt; Target Marke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Understanding Buyer Behavior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oal of Exercis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dels of Buyer Behavi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actors influencing Buyer Behavio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nderstand International Buyer Behavior : a checklis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Goal of exercise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call ultimate goal : develop and sustain exchange relationshi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o accomplish above need to know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y you buy the produ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re you buy the produ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33920" y="2000160"/>
            <a:ext cx="132372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mple framework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2901960" y="2444760"/>
            <a:ext cx="2577960" cy="1054080"/>
          </a:xfrm>
          <a:prstGeom prst="ellipse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53600" y="2684520"/>
            <a:ext cx="207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19380000">
            <a:off x="3088800" y="3813120"/>
            <a:ext cx="902160" cy="184320"/>
          </a:xfrm>
          <a:prstGeom prst="rightArrow">
            <a:avLst>
              <a:gd name="adj1" fmla="val 50000"/>
              <a:gd name="adj2" fmla="val 244749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3380000">
            <a:off x="4341600" y="3819600"/>
            <a:ext cx="825480" cy="216000"/>
          </a:xfrm>
          <a:prstGeom prst="rightArrow">
            <a:avLst>
              <a:gd name="adj1" fmla="val 50000"/>
              <a:gd name="adj2" fmla="val 191101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8960" y="4349880"/>
            <a:ext cx="173988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08280" y="4405320"/>
            <a:ext cx="1409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l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u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4425840"/>
            <a:ext cx="22730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79480" y="4405320"/>
            <a:ext cx="2298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ganiz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u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040" y="5686560"/>
            <a:ext cx="461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y differenc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Buyer Behavior Model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920880" y="1225440"/>
            <a:ext cx="2958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1480" y="1357200"/>
            <a:ext cx="303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lem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6200000">
            <a:off x="2101680" y="2025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8240" y="2597040"/>
            <a:ext cx="326412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0240" y="2714760"/>
            <a:ext cx="351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mation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16200000">
            <a:off x="2101680" y="36255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6840" y="4197240"/>
            <a:ext cx="2959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0240" y="4329000"/>
            <a:ext cx="30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aluation &amp;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rot="16200000">
            <a:off x="2101680" y="49971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4560" y="5492880"/>
            <a:ext cx="3187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8800" y="5548320"/>
            <a:ext cx="34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st Purchase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1378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378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0240" y="1225440"/>
            <a:ext cx="28069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94800" y="1281240"/>
            <a:ext cx="29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duct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16200000">
            <a:off x="6445080" y="2025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49720" y="274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es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0240" y="4197240"/>
            <a:ext cx="27306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16200000">
            <a:off x="6445080" y="49971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6200000">
            <a:off x="6445080" y="36255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3360"/>
            <a:ext cx="2958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47440" y="4253040"/>
            <a:ext cx="247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ial and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11640" y="5492880"/>
            <a:ext cx="3187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49920" y="5548320"/>
            <a:ext cx="34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st Purchase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8487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Adoption process</a:t>
            </a:r>
            <a:endParaRPr b="0" i="1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tinuous and Discontinuous innova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y differe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iffusion Theory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ypes of adopters and Characteristic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rketers would ideally like to see a ....... diffusion cycle. Why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actors that help/hurt speed of diffus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4T14:00:04Z</dcterms:created>
  <dc:creator>Authorized Gateway Customer</dc:creator>
  <dc:description/>
  <dc:language>en-US</dc:language>
  <cp:lastModifiedBy>T. J.</cp:lastModifiedBy>
  <cp:lastPrinted>1996-08-20T09:49:04Z</cp:lastPrinted>
  <dcterms:modified xsi:type="dcterms:W3CDTF">2001-02-02T20:24:37Z</dcterms:modified>
  <cp:revision>9</cp:revision>
  <dc:subject/>
  <dc:title>Class 6</dc:title>
</cp:coreProperties>
</file>