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DB3-DBC0-4689-84E5-CDECDA9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71D-37F7-489E-B8D0-E95D988E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3F8-5A67-4F46-A9B6-B114F6D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19C-0F8A-436F-A885-780B24B4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9B9-4CC4-4246-B3FC-F35B0865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573-4B33-47A8-B369-0EF4EEE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937-450E-4B0C-94DC-ECFB8CD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E5A5-ACBF-4241-AFC0-E00ECD0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8888-E3E0-426F-AF62-71DADE8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8B35-CED9-418B-AC3D-51B0022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097-179F-4C0C-B1AC-94939254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971-3906-42D3-87EC-B16947D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5797-FDAC-4D6F-9E9F-1B55CFA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3C2-4748-41A0-BB5F-75A233F6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D209-8233-4E5E-AE97-50E9155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2B6D-C372-4BFC-932B-E5C889EE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85F9-344C-4977-BFCE-993E58BD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C63-67FA-41FA-B682-B214539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12D-DA5D-4F8D-A161-34D449A4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CC3-648D-4AC4-8418-C31A833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7C8-C1D3-4431-B0C3-B622030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2AC-A420-4866-8896-32D0E7C1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86E-D80A-40CA-91A4-31AC1BA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7D3-F14B-42A1-8B85-D442F81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655-79E1-4F83-A97D-084921E53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911-F8FE-4851-A545-E8B20849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eveloping Marketing Program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Verdana"/>
              </a:rPr>
              <a:t>IB550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Verdana"/>
              </a:rPr>
              <a:t>17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Verdana"/>
              </a:rPr>
              <a:t>February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2001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99"/>
                </a:solidFill>
                <a:latin typeface="Verdana"/>
              </a:rPr>
              <a:t>17.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3200" spc="-1" strike="noStrike">
                <a:solidFill>
                  <a:srgbClr val="3333cc"/>
                </a:solidFill>
                <a:latin typeface="Verdana"/>
              </a:rPr>
              <a:t>Februar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 2001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1</a:t>
            </a:r>
            <a:r>
              <a:rPr b="1" i="1" lang="ja-JP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年</a:t>
            </a:r>
            <a:r>
              <a:rPr b="1" i="1" lang="ja-JP" sz="3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2</a:t>
            </a:r>
            <a:r>
              <a:rPr b="1" i="1" lang="ja-JP" sz="3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月</a:t>
            </a:r>
            <a:r>
              <a:rPr b="1" i="1" lang="ja-JP" sz="3200" spc="-1" strike="noStrike">
                <a:solidFill>
                  <a:srgbClr val="00cc99"/>
                </a:solidFill>
                <a:latin typeface="Verdana"/>
                <a:ea typeface="ＭＳ Ｐゴシック"/>
              </a:rPr>
              <a:t>17</a:t>
            </a:r>
            <a:r>
              <a:rPr b="1" i="1" lang="ja-JP" sz="3200" spc="-1" strike="noStrike">
                <a:solidFill>
                  <a:srgbClr val="00cc99"/>
                </a:solidFill>
                <a:latin typeface="Verdana"/>
                <a:ea typeface="ＭＳ Ｐゴシック"/>
              </a:rPr>
              <a:t>日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erfeit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ke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o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racy/Royal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96080" y="2895480"/>
            <a:ext cx="122400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4 Is of services &amp; Services Manage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estic grow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F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of sk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V People ba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V Priv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 V Non-prof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4 Is &amp; its Manag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ang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nsist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pa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use the 4Ps to overcome the difficulties posed by the 4 Is.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icing: Decisions/Proble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mportant of all the 4Ps. Wh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pri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affecting pri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Pricing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in Pri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price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: point of exchange between customer and fi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= Tangible + Intangible benefits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each consumer  valu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ctors affecting Pri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6342480" y="3560760"/>
            <a:ext cx="208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21080" y="26668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7560" y="37130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1080" y="38862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30560" y="2063880"/>
            <a:ext cx="2589120" cy="2349360"/>
            <a:chOff x="3130560" y="2063880"/>
            <a:chExt cx="2589120" cy="2349360"/>
          </a:xfrm>
        </p:grpSpPr>
        <p:sp>
          <p:nvSpPr>
            <p:cNvPr id="159" name=""/>
            <p:cNvSpPr/>
            <p:nvPr/>
          </p:nvSpPr>
          <p:spPr>
            <a:xfrm>
              <a:off x="3130560" y="2063880"/>
              <a:ext cx="2502000" cy="234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32160" y="2798640"/>
              <a:ext cx="238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PRIC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STRATEG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645160" y="26668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45160" y="38098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5200" y="2398680"/>
            <a:ext cx="149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06120" y="2398680"/>
            <a:ext cx="22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ctors affecting Pr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type of 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costs &amp; Variable 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dif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on : Selling price - Variable 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pri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even Volume 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V   = Fixed Costs/ Contrib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eloping Marketing Pro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/Problems regarding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/Problems regarding Pr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/Problems regarding 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/Problems regarding 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f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consumer preferences. Meas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ty of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sticity : how sensitive people ar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changes in pr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 is Elastic ( E &gt;1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ing Impl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 is Inelastic ( E&lt;1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ing Impl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problem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asuring Elast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surv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Test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problems with ab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also employ usage situa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substit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value ef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 of budget ef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cost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k cost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ect Compet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ing implica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17058" t="0" r="13009" b="75200"/>
          <a:stretch/>
        </p:blipFill>
        <p:spPr>
          <a:xfrm>
            <a:off x="6019920" y="5956200"/>
            <a:ext cx="31240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Government Impo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 : Price Esca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icing Strateg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initially and then redu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for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et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through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for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prices for different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for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Pri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m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fer pri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at which one subsidiary “sells’ to another subsidi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t can be abu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Governments prevent ab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’s length pricin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good is th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mp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ly : sell below c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ad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a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s to gray 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mping penal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ray marke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y come 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istent dum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product lega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hould companies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Distribu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V Indirect Exp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affecting distributor cho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9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ere we are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070000" y="4356000"/>
            <a:ext cx="4407120" cy="8254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16200000">
            <a:off x="4089240" y="2298600"/>
            <a:ext cx="368280" cy="673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80000">
            <a:off x="2368080" y="2630160"/>
            <a:ext cx="596880" cy="291960"/>
          </a:xfrm>
          <a:prstGeom prst="rightArrow">
            <a:avLst>
              <a:gd name="adj1" fmla="val 50000"/>
              <a:gd name="adj2" fmla="val 1022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20160000">
            <a:off x="5568480" y="2705040"/>
            <a:ext cx="673200" cy="291960"/>
          </a:xfrm>
          <a:prstGeom prst="rightArrow">
            <a:avLst>
              <a:gd name="adj1" fmla="val 50000"/>
              <a:gd name="adj2" fmla="val 1153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6200000">
            <a:off x="4127400" y="3746160"/>
            <a:ext cx="291960" cy="7495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9720" y="3049560"/>
            <a:ext cx="2589120" cy="820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duct/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5560" y="4489560"/>
            <a:ext cx="4444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 Market Sel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4165560" y="5118120"/>
            <a:ext cx="216000" cy="673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9920" y="5700600"/>
            <a:ext cx="2987280" cy="82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velop 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3435480"/>
            <a:ext cx="351000" cy="333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330960" y="1994040"/>
            <a:ext cx="1868400" cy="1054080"/>
            <a:chOff x="6330960" y="1994040"/>
            <a:chExt cx="1868400" cy="1054080"/>
          </a:xfrm>
        </p:grpSpPr>
        <p:sp>
          <p:nvSpPr>
            <p:cNvPr id="97" name=""/>
            <p:cNvSpPr/>
            <p:nvPr/>
          </p:nvSpPr>
          <p:spPr>
            <a:xfrm>
              <a:off x="6330960" y="1994040"/>
              <a:ext cx="1816200" cy="105408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84760" y="2119680"/>
              <a:ext cx="1400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nter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7848720" y="2292480"/>
              <a:ext cx="3506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359160" y="1460520"/>
            <a:ext cx="1792440" cy="901440"/>
            <a:chOff x="3359160" y="1460520"/>
            <a:chExt cx="1792440" cy="901440"/>
          </a:xfrm>
        </p:grpSpPr>
        <p:sp>
          <p:nvSpPr>
            <p:cNvPr id="101" name=""/>
            <p:cNvSpPr/>
            <p:nvPr/>
          </p:nvSpPr>
          <p:spPr>
            <a:xfrm>
              <a:off x="3359160" y="1460520"/>
              <a:ext cx="1739880" cy="90144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74000" y="1509480"/>
              <a:ext cx="1583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Mission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Go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800600" y="1911240"/>
              <a:ext cx="3510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463680" y="2014560"/>
            <a:ext cx="1944720" cy="901440"/>
            <a:chOff x="463680" y="2014560"/>
            <a:chExt cx="1944720" cy="901440"/>
          </a:xfrm>
        </p:grpSpPr>
        <p:sp>
          <p:nvSpPr>
            <p:cNvPr id="105" name=""/>
            <p:cNvSpPr/>
            <p:nvPr/>
          </p:nvSpPr>
          <p:spPr>
            <a:xfrm>
              <a:off x="463680" y="2014560"/>
              <a:ext cx="1815840" cy="9014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440" y="2057400"/>
              <a:ext cx="1438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Exter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057400" y="2216160"/>
              <a:ext cx="35100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248520" y="4502160"/>
            <a:ext cx="35064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stributor’s Ro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important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s assortment discrepa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s quantity discrepa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s information discrepa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eliminate distributors will prices redu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rect V Indir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 directly sells to foreign buyer in Foreign coun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 makes a local sale, which could later get expor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ctors affecting cho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e frequ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e 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sh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or cont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23720"/>
            <a:ext cx="78483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romo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oals of Promo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lements of Promotional Mi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Promotion work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ci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9320" y="423720"/>
            <a:ext cx="78483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oal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min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84760" y="3378240"/>
            <a:ext cx="525924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08760" y="2133720"/>
            <a:ext cx="3135240" cy="3468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19320" y="423720"/>
            <a:ext cx="78483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lements of Promotional M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verti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ales Promo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ersonal Se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bli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Features and Dif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423720"/>
            <a:ext cx="78483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How Promotion wor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1800" y="1457280"/>
            <a:ext cx="215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ID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43280" y="2066760"/>
            <a:ext cx="1816200" cy="517680"/>
            <a:chOff x="3743280" y="2066760"/>
            <a:chExt cx="1816200" cy="517680"/>
          </a:xfrm>
        </p:grpSpPr>
        <p:sp>
          <p:nvSpPr>
            <p:cNvPr id="207" name=""/>
            <p:cNvSpPr/>
            <p:nvPr/>
          </p:nvSpPr>
          <p:spPr>
            <a:xfrm>
              <a:off x="3743280" y="2139840"/>
              <a:ext cx="181620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3600" y="2066760"/>
              <a:ext cx="173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Atten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 rot="16200000">
            <a:off x="4386600" y="2749320"/>
            <a:ext cx="520560" cy="368280"/>
          </a:xfrm>
          <a:prstGeom prst="rightArrow">
            <a:avLst>
              <a:gd name="adj1" fmla="val 50000"/>
              <a:gd name="adj2" fmla="val 7068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40040" y="3282840"/>
            <a:ext cx="1816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40040" y="4502160"/>
            <a:ext cx="1816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0040" y="5645160"/>
            <a:ext cx="1816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rot="16200000">
            <a:off x="4386600" y="5111640"/>
            <a:ext cx="520560" cy="368280"/>
          </a:xfrm>
          <a:prstGeom prst="rightArrow">
            <a:avLst>
              <a:gd name="adj1" fmla="val 50000"/>
              <a:gd name="adj2" fmla="val 7068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16200000">
            <a:off x="4386600" y="3892320"/>
            <a:ext cx="520560" cy="368280"/>
          </a:xfrm>
          <a:prstGeom prst="rightArrow">
            <a:avLst>
              <a:gd name="adj1" fmla="val 50000"/>
              <a:gd name="adj2" fmla="val 7068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5320" y="3209760"/>
            <a:ext cx="149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58280" y="4429080"/>
            <a:ext cx="124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572080"/>
            <a:ext cx="1233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ness of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5080" y="1676520"/>
            <a:ext cx="8673840" cy="4647960"/>
            <a:chOff x="235080" y="1676520"/>
            <a:chExt cx="8673840" cy="4647960"/>
          </a:xfrm>
        </p:grpSpPr>
        <p:sp>
          <p:nvSpPr>
            <p:cNvPr id="220" name=""/>
            <p:cNvSpPr/>
            <p:nvPr/>
          </p:nvSpPr>
          <p:spPr>
            <a:xfrm>
              <a:off x="1149480" y="1676520"/>
              <a:ext cx="760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040" y="6324480"/>
              <a:ext cx="859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39080" y="1682640"/>
              <a:ext cx="0" cy="46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1040" y="2743200"/>
              <a:ext cx="852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1682640"/>
              <a:ext cx="0" cy="46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1676520"/>
              <a:ext cx="0" cy="463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62920" y="1682640"/>
              <a:ext cx="0" cy="46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1682640"/>
              <a:ext cx="0" cy="46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5080" y="3504960"/>
              <a:ext cx="859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1040" y="4572000"/>
              <a:ext cx="852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1040" y="5486400"/>
              <a:ext cx="844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7520" y="1831680"/>
              <a:ext cx="171000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Awareness/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68000" y="1960560"/>
              <a:ext cx="110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es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47120" y="1960560"/>
              <a:ext cx="108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70480" y="1807920"/>
              <a:ext cx="1505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560" y="2874960"/>
              <a:ext cx="180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dverti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7520" y="3636720"/>
              <a:ext cx="1708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440" y="4627440"/>
              <a:ext cx="14342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e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280" y="5694120"/>
              <a:ext cx="1391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ubl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otion Deci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884240" y="1427040"/>
            <a:ext cx="4973760" cy="82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national Marketer’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8960" y="2444760"/>
            <a:ext cx="5092560" cy="257796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94080" y="2722680"/>
            <a:ext cx="4064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nguag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overnment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dia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ency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5035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5640" y="5568840"/>
            <a:ext cx="30355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120" y="5541840"/>
            <a:ext cx="234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eign Bu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Dif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 Avail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, TV, Cinema, Pr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R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Avail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or Localiz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 Manag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ize or Adap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product deci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70440" y="1219320"/>
            <a:ext cx="3373560" cy="3468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 Manag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dle of need satis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l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 V Indust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lassify consumer good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ble V non-durable ( classification basis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V service ( basis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: Decisions/proble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 to inclu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Bran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of origin effe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0120" y="5626080"/>
            <a:ext cx="152388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 Deci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d 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rns/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/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Brand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of origin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mpor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 Manag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Bran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d that uses similar strategy across different 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y a standardized produc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of origin effe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in.. “ label = quality im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useful n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ntry of Origin: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U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.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Jap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Germ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Russ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Austra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Columb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Irel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udi Arab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Switzerl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040" y="1252440"/>
            <a:ext cx="705924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Based on your knowledge/ experience wh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ducts( brands) do you associate wi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34439" t="35129" r="31329" b="31819"/>
          <a:stretch/>
        </p:blipFill>
        <p:spPr>
          <a:xfrm>
            <a:off x="7480440" y="5334120"/>
            <a:ext cx="1676160" cy="152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6392" r="83287" b="20893"/>
          <a:stretch/>
        </p:blipFill>
        <p:spPr>
          <a:xfrm>
            <a:off x="0" y="2819520"/>
            <a:ext cx="914400" cy="37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6076800"/>
            <a:ext cx="1476360" cy="78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0" t="0" r="4006" b="0"/>
          <a:stretch/>
        </p:blipFill>
        <p:spPr>
          <a:xfrm>
            <a:off x="0" y="317664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rcRect l="0" t="0" r="12972" b="0"/>
          <a:stretch/>
        </p:blipFill>
        <p:spPr>
          <a:xfrm>
            <a:off x="3886200" y="6324480"/>
            <a:ext cx="153360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23720" y="4095720"/>
            <a:ext cx="414360" cy="62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477200" y="2909880"/>
            <a:ext cx="1666800" cy="103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24000" y="5257800"/>
            <a:ext cx="971280" cy="733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7591320" y="1905120"/>
            <a:ext cx="1552680" cy="97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3886200" y="5981760"/>
            <a:ext cx="2048040" cy="314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rcRect l="5998" t="0" r="58004" b="0"/>
          <a:stretch/>
        </p:blipFill>
        <p:spPr>
          <a:xfrm>
            <a:off x="5410080" y="6296040"/>
            <a:ext cx="2057400" cy="561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2374920" y="6391440"/>
            <a:ext cx="1495440" cy="46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"/>
          <a:srcRect l="67479" t="0" r="0" b="19989"/>
          <a:stretch/>
        </p:blipFill>
        <p:spPr>
          <a:xfrm>
            <a:off x="1886040" y="6343560"/>
            <a:ext cx="51444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2T07:16:38Z</dcterms:created>
  <dc:creator/>
  <dc:description/>
  <dc:language>en-US</dc:language>
  <cp:lastModifiedBy>T. J. Ivinjack</cp:lastModifiedBy>
  <cp:lastPrinted>2001-02-13T19:03:55Z</cp:lastPrinted>
  <dcterms:modified xsi:type="dcterms:W3CDTF">2001-02-14T12:48:28Z</dcterms:modified>
  <cp:revision>15</cp:revision>
  <dc:subject>International Marketing</dc:subject>
  <dc:title>IB550 Class 7</dc:title>
</cp:coreProperties>
</file>