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US has absolute advantage in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eef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&amp; Japan in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Hence, the US will specialize in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eef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and Japan in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US has absolute advantage in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eef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&amp; Japan in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Hence, the US will specialize in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eef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and Japan in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 the US a lb. Of beef is 5/6 cars, while in Japan it’s 4/3 cars. So, the exchange occurs when 5/6 car &lt; lb. Beef &lt; 4/3 cars. Otherwise, it’s just not worth trading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Cons of the comparative advantage theory is that it’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tat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gnores social consequen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ssumes uniform quality of go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gnores dem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ssumes free trad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is theory looks a capital, labor, and natural resourc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rter’s Theory ignores foreign exchange, social &amp; cultural factors, and trade barrie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. 101 - 10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ypically protection interests include jobs, infant industries, national security, and health concern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four components to tariffs. ~90% are import tariff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xport tariffs attempt to move value-added activities into the exporting country. For example Brazil has an export tariff on unground coffee. Brazil is attempting to encourage the development of coffee grinding jobs inside Brazil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ermanent tariffs are called surcharg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mporary tariffs are call counter vailing duties (CVD)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 Valorem are per unit tariff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ATT had no policing powe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ATT did not involve services and agriculture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ATT did not address non-tariff barrie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5283360" y="5207040"/>
            <a:ext cx="203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rvices include things like banking, insurance and entertainment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roblems include a fear of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universalism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nd the rise in the cost of capital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We have theories to understand and explain why things are happening. From them we can predict and prescribe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Traditional Theories remained relevant through about 1985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72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72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34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872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4636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72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872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4636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360" y="271080"/>
            <a:ext cx="78483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34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4640" cy="6188040"/>
            <a:chOff x="0" y="385920"/>
            <a:chExt cx="9134640" cy="618804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6960" cy="457200"/>
              <a:chOff x="0" y="385920"/>
              <a:chExt cx="966960" cy="4572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6560" cy="316080"/>
              <a:chOff x="838080" y="6257880"/>
              <a:chExt cx="8296560" cy="31608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lass 2</a:t>
            </a: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B550</a:t>
            </a:r>
            <a:br>
              <a:rPr sz="3800"/>
            </a:b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January 13, 2001</a:t>
            </a:r>
            <a:br>
              <a:rPr sz="3800"/>
            </a:br>
            <a:r>
              <a:rPr b="0" i="1" lang="ja-JP" sz="3800" spc="-1" strike="noStrike">
                <a:solidFill>
                  <a:srgbClr val="3333ff"/>
                </a:solidFill>
                <a:latin typeface="Book Antiqua"/>
                <a:ea typeface="ＭＳ Ｐゴシック"/>
              </a:rPr>
              <a:t>2001</a:t>
            </a:r>
            <a:r>
              <a:rPr b="0" i="1" lang="ja-JP" sz="3800" spc="-1" strike="noStrike">
                <a:solidFill>
                  <a:srgbClr val="3333ff"/>
                </a:solidFill>
                <a:latin typeface="Book Antiqua"/>
                <a:ea typeface="ＭＳ Ｐゴシック"/>
              </a:rPr>
              <a:t>年</a:t>
            </a:r>
            <a:r>
              <a:rPr b="0" i="1" lang="ja-JP" sz="3800" spc="-1" strike="noStrike">
                <a:solidFill>
                  <a:srgbClr val="3333ff"/>
                </a:solidFill>
                <a:latin typeface="Book Antiqua"/>
                <a:ea typeface="ＭＳ Ｐゴシック"/>
              </a:rPr>
              <a:t>1</a:t>
            </a:r>
            <a:r>
              <a:rPr b="0" i="1" lang="ja-JP" sz="3800" spc="-1" strike="noStrike">
                <a:solidFill>
                  <a:srgbClr val="3333ff"/>
                </a:solidFill>
                <a:latin typeface="Book Antiqua"/>
                <a:ea typeface="ＭＳ Ｐゴシック"/>
              </a:rPr>
              <a:t>月</a:t>
            </a:r>
            <a:r>
              <a:rPr b="0" i="1" lang="ja-JP" sz="3800" spc="-1" strike="noStrike">
                <a:solidFill>
                  <a:srgbClr val="3333ff"/>
                </a:solidFill>
                <a:latin typeface="Book Antiqua"/>
                <a:ea typeface="ＭＳ Ｐゴシック"/>
              </a:rPr>
              <a:t>13</a:t>
            </a:r>
            <a:r>
              <a:rPr b="0" i="1" lang="ja-JP" sz="3800" spc="-1" strike="noStrike">
                <a:solidFill>
                  <a:srgbClr val="3333ff"/>
                </a:solidFill>
                <a:latin typeface="Book Antiqua"/>
                <a:ea typeface="ＭＳ Ｐゴシック"/>
              </a:rPr>
              <a:t>日</a:t>
            </a:r>
            <a:br>
              <a:rPr sz="3800"/>
            </a:br>
            <a:r>
              <a:rPr b="0" i="1" lang="de-DE" sz="3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13. Januar 2001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426708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lobal Trade,  Trade Theories, Trade Barriers &amp; Global Monetary System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raditional Trade Theori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ory of Absolute Advanta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ory of Comparative Advanta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actor Endowments Theo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ternational Product Life Cyc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Absolute Advantage (AA) theor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ssumption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 country worl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country can produce two goo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country has two units of inpu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country allocates one unit of input to produce each goo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urpose of assump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ssume two countries are US and Japan and each can produce beef and car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oduction Possibility tab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g00349_" descr=""/>
          <p:cNvPicPr/>
          <p:nvPr/>
        </p:nvPicPr>
        <p:blipFill>
          <a:blip r:embed="rId1"/>
          <a:stretch/>
        </p:blipFill>
        <p:spPr>
          <a:xfrm>
            <a:off x="6934320" y="2674800"/>
            <a:ext cx="720720" cy="754200"/>
          </a:xfrm>
          <a:prstGeom prst="rect">
            <a:avLst/>
          </a:prstGeom>
          <a:ln w="0">
            <a:noFill/>
          </a:ln>
        </p:spPr>
      </p:pic>
      <p:pic>
        <p:nvPicPr>
          <p:cNvPr id="91" name="j0178291" descr=""/>
          <p:cNvPicPr/>
          <p:nvPr/>
        </p:nvPicPr>
        <p:blipFill>
          <a:blip r:embed="rId2"/>
          <a:stretch/>
        </p:blipFill>
        <p:spPr>
          <a:xfrm>
            <a:off x="6705720" y="914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AA Theory (contd)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2368440" y="2590920"/>
            <a:ext cx="372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77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68200" y="1357200"/>
            <a:ext cx="57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08520" y="1225440"/>
            <a:ext cx="3981240" cy="1974960"/>
            <a:chOff x="2108520" y="1225440"/>
            <a:chExt cx="3981240" cy="1974960"/>
          </a:xfrm>
        </p:grpSpPr>
        <p:sp>
          <p:nvSpPr>
            <p:cNvPr id="97" name=""/>
            <p:cNvSpPr/>
            <p:nvPr/>
          </p:nvSpPr>
          <p:spPr>
            <a:xfrm>
              <a:off x="4800600" y="12254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108520" y="1225440"/>
              <a:ext cx="3981240" cy="1974960"/>
              <a:chOff x="2108520" y="1225440"/>
              <a:chExt cx="3981240" cy="1974960"/>
            </a:xfrm>
          </p:grpSpPr>
          <p:sp>
            <p:nvSpPr>
              <p:cNvPr id="99" name=""/>
              <p:cNvSpPr/>
              <p:nvPr/>
            </p:nvSpPr>
            <p:spPr>
              <a:xfrm>
                <a:off x="3587760" y="1225440"/>
                <a:ext cx="2502000" cy="1968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8440" y="320040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8440" y="190512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08520" y="2043000"/>
                <a:ext cx="1379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lbs Be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04000" y="2652840"/>
                <a:ext cx="1124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# Ca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89600" y="196704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232600" y="196704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13640" y="257652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32600" y="257652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4982040" y="1357200"/>
            <a:ext cx="10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350280" y="3695760"/>
            <a:ext cx="827244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S has absolute advantage in ........ &amp; Japan in ........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Hence US will specialize in ............. and Japan in......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S will  .......... beef while Japan will ........... be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S will .......... cars while Japan will .......... c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der what conditions will trade take plac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2787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MS Mincho"/>
                <a:ea typeface="MS Mincho"/>
              </a:rPr>
              <a:t>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9144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3333ff"/>
                </a:solidFill>
                <a:latin typeface="MS Mincho"/>
                <a:ea typeface="MS Mincho"/>
              </a:rPr>
              <a:t>牛</a:t>
            </a:r>
            <a:r>
              <a:rPr b="1" lang="ja-JP" sz="3600" spc="-1" strike="noStrike">
                <a:solidFill>
                  <a:srgbClr val="ff0000"/>
                </a:solidFill>
                <a:latin typeface="MS Mincho"/>
                <a:ea typeface="MS Mincho"/>
              </a:rPr>
              <a:t>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429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MS Mincho"/>
                <a:ea typeface="MS Mincho"/>
              </a:rPr>
              <a:t>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3886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MS Mincho"/>
                <a:ea typeface="MS Mincho"/>
              </a:rPr>
              <a:t>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51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ff"/>
                </a:solidFill>
                <a:latin typeface="MS Mincho"/>
                <a:ea typeface="MS Mincho"/>
              </a:rPr>
              <a:t>牛</a:t>
            </a:r>
            <a:r>
              <a:rPr b="1" lang="ja-JP" sz="2800" spc="-1" strike="noStrike">
                <a:solidFill>
                  <a:srgbClr val="ff0000"/>
                </a:solidFill>
                <a:latin typeface="MS Mincho"/>
                <a:ea typeface="MS Mincho"/>
              </a:rPr>
              <a:t>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08680" y="3962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ff"/>
                </a:solidFill>
                <a:latin typeface="MS Mincho"/>
                <a:ea typeface="MS Mincho"/>
              </a:rPr>
              <a:t>牛</a:t>
            </a:r>
            <a:r>
              <a:rPr b="1" lang="ja-JP" sz="2800" spc="-1" strike="noStrike">
                <a:solidFill>
                  <a:srgbClr val="ff0000"/>
                </a:solidFill>
                <a:latin typeface="MS Mincho"/>
                <a:ea typeface="MS Mincho"/>
              </a:rPr>
              <a:t>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g00349_" descr=""/>
          <p:cNvPicPr/>
          <p:nvPr/>
        </p:nvPicPr>
        <p:blipFill>
          <a:blip r:embed="rId1"/>
          <a:stretch/>
        </p:blipFill>
        <p:spPr>
          <a:xfrm>
            <a:off x="6934320" y="2674800"/>
            <a:ext cx="720720" cy="754200"/>
          </a:xfrm>
          <a:prstGeom prst="rect">
            <a:avLst/>
          </a:prstGeom>
          <a:ln w="0">
            <a:noFill/>
          </a:ln>
        </p:spPr>
      </p:pic>
      <p:pic>
        <p:nvPicPr>
          <p:cNvPr id="118" name="j0178291" descr=""/>
          <p:cNvPicPr/>
          <p:nvPr/>
        </p:nvPicPr>
        <p:blipFill>
          <a:blip r:embed="rId2"/>
          <a:stretch/>
        </p:blipFill>
        <p:spPr>
          <a:xfrm>
            <a:off x="6705720" y="914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AA Theory – After Specializa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"/>
          <p:cNvSpPr/>
          <p:nvPr/>
        </p:nvSpPr>
        <p:spPr>
          <a:xfrm>
            <a:off x="2368440" y="2590920"/>
            <a:ext cx="372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77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68200" y="1357200"/>
            <a:ext cx="57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08520" y="1225440"/>
            <a:ext cx="3981240" cy="1974960"/>
            <a:chOff x="2108520" y="1225440"/>
            <a:chExt cx="3981240" cy="1974960"/>
          </a:xfrm>
        </p:grpSpPr>
        <p:sp>
          <p:nvSpPr>
            <p:cNvPr id="124" name=""/>
            <p:cNvSpPr/>
            <p:nvPr/>
          </p:nvSpPr>
          <p:spPr>
            <a:xfrm>
              <a:off x="4800600" y="12254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108520" y="1225440"/>
              <a:ext cx="3981240" cy="1974960"/>
              <a:chOff x="2108520" y="1225440"/>
              <a:chExt cx="3981240" cy="1974960"/>
            </a:xfrm>
          </p:grpSpPr>
          <p:sp>
            <p:nvSpPr>
              <p:cNvPr id="126" name=""/>
              <p:cNvSpPr/>
              <p:nvPr/>
            </p:nvSpPr>
            <p:spPr>
              <a:xfrm>
                <a:off x="3587760" y="1225440"/>
                <a:ext cx="2502000" cy="1968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8440" y="320040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68440" y="190512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108520" y="2043000"/>
                <a:ext cx="1379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lbs Be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304000" y="2652840"/>
                <a:ext cx="1124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# Ca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89600" y="196704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32600" y="196704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13640" y="257652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32600" y="257652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4982040" y="1357200"/>
            <a:ext cx="10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9144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00"/>
                </a:solidFill>
                <a:latin typeface="MS Mincho"/>
                <a:ea typeface="MS Mincho"/>
              </a:rPr>
              <a:t>牛</a:t>
            </a:r>
            <a:r>
              <a:rPr b="1" lang="ja-JP" sz="3600" spc="-1" strike="noStrike">
                <a:solidFill>
                  <a:srgbClr val="3333ff"/>
                </a:solidFill>
                <a:latin typeface="MS Mincho"/>
                <a:ea typeface="MS Mincho"/>
              </a:rPr>
              <a:t>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2787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MS Mincho"/>
                <a:ea typeface="MS Mincho"/>
              </a:rPr>
              <a:t>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666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2666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7680" y="354024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Book Antiqua"/>
              </a:rPr>
              <a:t>Oh, look! Total output is incr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ook Antiqua"/>
              </a:rPr>
              <a:t>In the US 2 cars = 3 lbs be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ook Antiqua"/>
              </a:rPr>
              <a:t>In Japan 1 lb beef = 4 c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Book Antiqua"/>
              </a:rPr>
              <a:t>Exchange takes place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3333ff"/>
                </a:solidFill>
                <a:latin typeface="Book Antiqua"/>
              </a:rPr>
              <a:t>2/3 Cars &lt; 1 lb. Beef &lt; 4 c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mparative Advantage Theory (CA)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ilar assumptions. Now production possibility looks lik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dvantage now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pecialization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S has comparative advantage in Beef and Japan in cars.  So specialization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rade pattern and condition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927680" y="1987560"/>
            <a:ext cx="3981240" cy="1974960"/>
            <a:chOff x="4927680" y="1987560"/>
            <a:chExt cx="3981240" cy="1974960"/>
          </a:xfrm>
        </p:grpSpPr>
        <p:sp>
          <p:nvSpPr>
            <p:cNvPr id="147" name=""/>
            <p:cNvSpPr/>
            <p:nvPr/>
          </p:nvSpPr>
          <p:spPr>
            <a:xfrm>
              <a:off x="7620120" y="198756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927680" y="1987560"/>
              <a:ext cx="3981240" cy="1974960"/>
              <a:chOff x="4927680" y="1987560"/>
              <a:chExt cx="3981240" cy="1974960"/>
            </a:xfrm>
          </p:grpSpPr>
          <p:sp>
            <p:nvSpPr>
              <p:cNvPr id="149" name=""/>
              <p:cNvSpPr/>
              <p:nvPr/>
            </p:nvSpPr>
            <p:spPr>
              <a:xfrm>
                <a:off x="6407280" y="1987560"/>
                <a:ext cx="2501640" cy="1968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7960" y="3962520"/>
                <a:ext cx="120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87960" y="2666880"/>
                <a:ext cx="120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27680" y="2805120"/>
                <a:ext cx="1379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lbs Be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123520" y="3414600"/>
                <a:ext cx="1124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# Ca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09120" y="272880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52120" y="272880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32800" y="333864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52120" y="333864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6407280" y="2666880"/>
            <a:ext cx="25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63680" y="2119320"/>
            <a:ext cx="57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25240" y="2119320"/>
            <a:ext cx="10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7960" y="32767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Factor Endowments theor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arlier theories do not address why a country is good in producing one product as compared to anothe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is theory addresses this specific issue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ntry will produce a product which require factors (inputs) that the country has in abundance.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s and contradic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7144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nt Product Life Cycle theor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mpirical approach ( observation based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ory identifies four step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Initially, exports from country ( say U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. Foreign production beg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3. Foreign products become competitiv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4. US starts import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 and different typ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le of innovation  &amp; ques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71440"/>
            <a:ext cx="784836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trengths &amp; Weaknesses  of  the Traditional theori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imita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Book Antiqua"/>
              </a:rPr>
              <a:t>Supply Side Theories; ignores dema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Book Antiqua"/>
              </a:rPr>
              <a:t>Assumes free-trade, no forex, no transaction cos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dvantag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Book Antiqua"/>
              </a:rPr>
              <a:t>Helpful in understand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Book Antiqua"/>
              </a:rPr>
              <a:t>Establishes the concept of specia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bd06480_" descr=""/>
          <p:cNvPicPr/>
          <p:nvPr/>
        </p:nvPicPr>
        <p:blipFill>
          <a:blip r:embed="rId1"/>
          <a:stretch/>
        </p:blipFill>
        <p:spPr>
          <a:xfrm>
            <a:off x="7338960" y="5281560"/>
            <a:ext cx="1728720" cy="127152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71440"/>
            <a:ext cx="800100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orter’s theory: Competitive Advantage of Nations 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entral idea: “National prosperity is created and not inherited “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ased on sample of successful firms in 10 countries. Identify factors that drive succes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ich countrie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1" name="bd07235_" descr=""/>
          <p:cNvPicPr/>
          <p:nvPr/>
        </p:nvPicPr>
        <p:blipFill>
          <a:blip r:embed="rId1"/>
          <a:stretch/>
        </p:blipFill>
        <p:spPr>
          <a:xfrm>
            <a:off x="7426440" y="4724280"/>
            <a:ext cx="1717560" cy="182592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orter’s theory (contd)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ntries :  UK, US, Japan, Germany Singapore, France, Denmark, Sweden, Korea, Italy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ory:  4 critical and dependent facto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mand Condi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actor Condi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pporting indust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any structure and rival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uccess of Porter's theo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4" marL="19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Agenda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ternational Trade Trends and Insigh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ternational Trade Theor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arriers to Global Trad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ole of GATT/WTO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lobal Monetary System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orter’s National </a:t>
            </a:r>
            <a:br>
              <a:rPr sz="3800"/>
            </a:b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mpetitive Advantage Theor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uccess in international trade comes from interaction of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actor Condi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mand Condi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ted &amp; Supporting Indust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rm strategy, structu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rival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6" name="bd05452_" descr=""/>
          <p:cNvPicPr/>
          <p:nvPr/>
        </p:nvPicPr>
        <p:blipFill>
          <a:blip r:embed="rId1"/>
          <a:stretch/>
        </p:blipFill>
        <p:spPr>
          <a:xfrm>
            <a:off x="6431040" y="3182760"/>
            <a:ext cx="2647800" cy="304812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orter’s Diamond of National Competitive Advantag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"/>
          <p:cNvSpPr/>
          <p:nvPr/>
        </p:nvSpPr>
        <p:spPr>
          <a:xfrm>
            <a:off x="1362240" y="1600200"/>
            <a:ext cx="6419520" cy="4495680"/>
          </a:xfrm>
          <a:prstGeom prst="diamond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58640" y="1676520"/>
            <a:ext cx="2824920" cy="8254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irm Strategy,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tructure &amp; Rival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54840" y="3444840"/>
            <a:ext cx="1604160" cy="8254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6680" y="4876920"/>
            <a:ext cx="3053520" cy="901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e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ing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82840" y="3429000"/>
            <a:ext cx="16041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14880" y="2666880"/>
            <a:ext cx="2514600" cy="20574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057400" y="434304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200640" y="274284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124680" y="44035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168640" y="2666880"/>
            <a:ext cx="91440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Factor Condition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country’s endowment of factors of produc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b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ducation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Quality of Infrastruc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ome factors create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rough training, R&amp;D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nov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0" name="bd05352_" descr=""/>
          <p:cNvPicPr/>
          <p:nvPr/>
        </p:nvPicPr>
        <p:blipFill>
          <a:blip r:embed="rId1"/>
          <a:stretch/>
        </p:blipFill>
        <p:spPr>
          <a:xfrm>
            <a:off x="5580000" y="3171960"/>
            <a:ext cx="3581640" cy="345096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Other Porter Condition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7240" y="1218960"/>
            <a:ext cx="7769520" cy="48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eman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phisticated local consumers help make products internationally competi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lated &amp; Supporting Industr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ppliers around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ld generate cost savings; new ide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irm Strategy, Structure, and Rival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etitive training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me prepare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rm for internatio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etiti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3" name="bd05447_" descr=""/>
          <p:cNvPicPr/>
          <p:nvPr/>
        </p:nvPicPr>
        <p:blipFill>
          <a:blip r:embed="rId1"/>
          <a:stretch/>
        </p:blipFill>
        <p:spPr>
          <a:xfrm>
            <a:off x="4700520" y="4818240"/>
            <a:ext cx="4519800" cy="178092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Barriers to Trad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y do countries protect their market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ich countries are very protectiv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at does protectionism cost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es of protec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riff / Non Tariff Barri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ole of GAT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rotectionism: Reason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National Securit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Keep Job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Conserve Foreign Exchan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Infant Industry Protec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How strong are these reason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st of Protectionism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  the US textiles and apparels are estimated at $ 340,777/job saved with a total cost of 4.3 B$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 UK auto industry, each job saved was done at a cost of $20,000-$50,000 and in the US, it was between $40,000 and $100,000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lication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rade Barrier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rade barriers are of two kind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riff Barri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n Tariff Barri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riff = Ta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Key Differen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ich is more subtl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eatures of each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ariff Barriers: Classifica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35480" y="1517760"/>
            <a:ext cx="97776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11440" y="1758960"/>
            <a:ext cx="9018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10080" y="1357200"/>
            <a:ext cx="130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53640" y="1814400"/>
            <a:ext cx="134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539720"/>
            <a:ext cx="206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348920" y="2424240"/>
            <a:ext cx="5280120" cy="1064160"/>
            <a:chOff x="1348920" y="2424240"/>
            <a:chExt cx="5280120" cy="1064160"/>
          </a:xfrm>
        </p:grpSpPr>
        <p:sp>
          <p:nvSpPr>
            <p:cNvPr id="209" name=""/>
            <p:cNvSpPr/>
            <p:nvPr/>
          </p:nvSpPr>
          <p:spPr>
            <a:xfrm>
              <a:off x="1348920" y="2664000"/>
              <a:ext cx="1761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PURPO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435480" y="2660760"/>
              <a:ext cx="9777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35480" y="2901960"/>
              <a:ext cx="9014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81440" y="2424240"/>
              <a:ext cx="1947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PROT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78200" y="3033720"/>
              <a:ext cx="151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355760" y="3719520"/>
            <a:ext cx="5298840" cy="1064160"/>
            <a:chOff x="1355760" y="3719520"/>
            <a:chExt cx="5298840" cy="1064160"/>
          </a:xfrm>
        </p:grpSpPr>
        <p:sp>
          <p:nvSpPr>
            <p:cNvPr id="215" name=""/>
            <p:cNvSpPr/>
            <p:nvPr/>
          </p:nvSpPr>
          <p:spPr>
            <a:xfrm>
              <a:off x="1355760" y="3957480"/>
              <a:ext cx="225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435480" y="3956040"/>
              <a:ext cx="9777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35480" y="4197240"/>
              <a:ext cx="90144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58040" y="3719520"/>
              <a:ext cx="1996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PERMA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83240" y="4329000"/>
              <a:ext cx="196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TEMPO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41920" y="3978360"/>
            <a:ext cx="2013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00760" y="4938840"/>
            <a:ext cx="5380200" cy="1064160"/>
            <a:chOff x="1400760" y="4938840"/>
            <a:chExt cx="5380200" cy="1064160"/>
          </a:xfrm>
        </p:grpSpPr>
        <p:sp>
          <p:nvSpPr>
            <p:cNvPr id="222" name=""/>
            <p:cNvSpPr/>
            <p:nvPr/>
          </p:nvSpPr>
          <p:spPr>
            <a:xfrm>
              <a:off x="1400760" y="5178600"/>
              <a:ext cx="12207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R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435480" y="5175360"/>
              <a:ext cx="9777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35480" y="5416560"/>
              <a:ext cx="9014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92960" y="4938840"/>
              <a:ext cx="208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D VALOR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50480" y="5548320"/>
              <a:ext cx="1452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PECI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Non Tariff Barriers: classifica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Quo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bsolute and Volunta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overnment particip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sidies &amp; Procurement polic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stom &amp; Entry Procedur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al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oduct Requiremen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ndards, Labeling, Test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nternational Trade:Key Question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otal world trade figure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ate of growth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asons for growth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s there a pattern? Major Player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utur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Barriers: Final Point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 general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arriers = more expensive for consume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arriers = less competi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arriers= less efficienc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ut still alive and well. why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Role of GATT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at is GAT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ATT's objective 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ATT's  track record ?   Why 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ATT is now  WTO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TO’s rol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271080"/>
            <a:ext cx="808200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national Monetary Systems( IM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3600"/>
            </a:b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9000"/>
              </a:lnSpc>
              <a:spcBef>
                <a:spcPts val="751"/>
              </a:spcBef>
              <a:spcAft>
                <a:spcPts val="711"/>
              </a:spcAft>
              <a:buNone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eign exchange marke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actors  affecting  FE rat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ecasting FE rat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5000"/>
              </a:lnSpc>
              <a:spcBef>
                <a:spcPts val="799"/>
              </a:spcBef>
              <a:spcAft>
                <a:spcPts val="751"/>
              </a:spcAft>
              <a:buNone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OREIGN EXCHANGE MARKETS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87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reign exchange (FE) rate mean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187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mon terms used in FE marke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0000"/>
              </a:lnSpc>
              <a:spcBef>
                <a:spcPts val="176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o FE rates vary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y agency /location What is hedging?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7144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Common terms in FE  markets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360" y="1428840"/>
            <a:ext cx="7724520" cy="47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rect v indirect rat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id v ask price ( or offer price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ot pri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utures and op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irect rate V  Indirect rat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irect rate is 1 unit $s = # foreign currency uni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 . 1 $= 2 British pounds is a direct $ rate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direct $ rate=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# of $= 1 British poun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ote the indirect $ rate is same as the direct rate of the British poun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id V Ask ( or offer prices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lways from a bank’s perspective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id price= price at which bank will bu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sk price = price at which bank will sell 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ence Bid price always be ...... than ask price. Difference is called sprea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Factors affecting  FE rates</a:t>
            </a:r>
            <a:br>
              <a:rPr sz="3000"/>
            </a:b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457280"/>
            <a:ext cx="777240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conomic facto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terest rates (real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flation rat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olitical Stabilit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pectations (hard to quantify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801036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RECASTING FE  RATES</a:t>
            </a:r>
            <a:br>
              <a:rPr sz="3000"/>
            </a:br>
            <a:br>
              <a:rPr sz="3000"/>
            </a:br>
            <a:endParaRPr b="0" i="1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095480"/>
            <a:ext cx="7843680" cy="43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y  forecast FE rates?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71680" indent="-5716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y  hard to forecast FE rat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71680" indent="-5716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ll forecasts need three dimension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magnitude of chang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Book Antiqua"/>
              </a:rPr>
              <a:t>duration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Book Antiqua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71680" indent="-5716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ple Techniqu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"/>
          <p:cNvSpPr/>
          <p:nvPr/>
        </p:nvSpPr>
        <p:spPr>
          <a:xfrm>
            <a:off x="2589120" y="4456080"/>
            <a:ext cx="122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imple Techniqu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ple method: Purchase Power Parity Theory (PPP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at is P P P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ory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change rates gradually move to equ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ices of internationally traded goo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.E.. $100 Will buy as much in US a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$100 worth of DM will buy in Germ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good is this theory in practice ?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nternational Trad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otal trade in ‘90 ~ 3000 b$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otal current (‘98) world trade ~ 6600 b$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plosive growth in trade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asons for growth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atter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lobal Trad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1600200" y="5562360"/>
            <a:ext cx="2666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14800" y="4572000"/>
            <a:ext cx="83808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4191120"/>
            <a:ext cx="838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791320" y="36576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705720" y="2514240"/>
            <a:ext cx="8380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543800" y="1523880"/>
            <a:ext cx="83808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Reasons for rapid growth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Book Antiqua"/>
              </a:rPr>
              <a:t>Command economies move to market econom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Book Antiqua"/>
              </a:rPr>
              <a:t>Capital movement – a driving for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Book Antiqua"/>
              </a:rPr>
              <a:t>Increases in productivit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Book Antiqua"/>
              </a:rPr>
              <a:t>Technolog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Book Antiqua"/>
              </a:rPr>
              <a:t>Emergence of global logic for trad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bd06478_" descr=""/>
          <p:cNvPicPr/>
          <p:nvPr/>
        </p:nvPicPr>
        <p:blipFill>
          <a:blip r:embed="rId1"/>
          <a:stretch/>
        </p:blipFill>
        <p:spPr>
          <a:xfrm>
            <a:off x="7358040" y="5486400"/>
            <a:ext cx="1785960" cy="1092240"/>
          </a:xfrm>
          <a:prstGeom prst="rect">
            <a:avLst/>
          </a:prstGeom>
          <a:ln w="0">
            <a:noFill/>
          </a:ln>
        </p:spPr>
      </p:pic>
    </p:spTree>
  </p:cSld>
  <p:transition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rade pattern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eclining share of agricultural produc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teady/declining share of manufactu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plosive growth in the service sector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eveloped nations lead developing nations 2:1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ig Emerging Markets (BEMs) and NICs are opportunities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5" name="bd05158_" descr=""/>
          <p:cNvPicPr/>
          <p:nvPr/>
        </p:nvPicPr>
        <p:blipFill>
          <a:blip r:embed="rId1"/>
          <a:stretch/>
        </p:blipFill>
        <p:spPr>
          <a:xfrm>
            <a:off x="7315200" y="4997520"/>
            <a:ext cx="1828800" cy="1766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772400" y="548640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j0078735" descr=""/>
          <p:cNvPicPr/>
          <p:nvPr/>
        </p:nvPicPr>
        <p:blipFill>
          <a:blip r:embed="rId2"/>
          <a:stretch/>
        </p:blipFill>
        <p:spPr>
          <a:xfrm>
            <a:off x="0" y="5181480"/>
            <a:ext cx="15588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bl00102_" descr=""/>
          <p:cNvPicPr/>
          <p:nvPr/>
        </p:nvPicPr>
        <p:blipFill>
          <a:blip r:embed="rId3"/>
          <a:stretch/>
        </p:blipFill>
        <p:spPr>
          <a:xfrm>
            <a:off x="5232240" y="5051520"/>
            <a:ext cx="2082960" cy="1712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304920" y="525780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0" y="533412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e01563_" descr=""/>
          <p:cNvPicPr/>
          <p:nvPr/>
        </p:nvPicPr>
        <p:blipFill>
          <a:blip r:embed="rId1"/>
          <a:stretch/>
        </p:blipFill>
        <p:spPr>
          <a:xfrm>
            <a:off x="6416640" y="3389400"/>
            <a:ext cx="2727360" cy="3468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Futur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rowth is expected to continu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EMs poised to play a major ro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reased standard of liv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emand for capital investmen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ising demand for energy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nvironmental consequen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7108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rade Theori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y do we need on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traditional theories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sefulness of abov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orter’s latest theo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ritique of Porter’s theo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1T15:21:22Z</dcterms:created>
  <dc:creator>Roger Baran</dc:creator>
  <dc:description/>
  <dc:language>en-US</dc:language>
  <cp:lastModifiedBy>T. J. Ivinjack</cp:lastModifiedBy>
  <cp:lastPrinted>1996-09-17T14:54:34Z</cp:lastPrinted>
  <dcterms:modified xsi:type="dcterms:W3CDTF">2001-01-19T18:54:29Z</dcterms:modified>
  <cp:revision>15</cp:revision>
  <dc:subject/>
  <dc:title>Class 2</dc:title>
</cp:coreProperties>
</file>