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75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740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75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740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271080"/>
            <a:ext cx="78487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9600"/>
            <a:ext cx="412560" cy="457200"/>
          </a:xfrm>
          <a:custGeom>
            <a:avLst/>
            <a:gdLst/>
            <a:ahLst/>
            <a:rect l="l" t="t" r="r" b="b"/>
            <a:pathLst>
              <a:path w="260" h="288">
                <a:moveTo>
                  <a:pt x="0" y="0"/>
                </a:moveTo>
                <a:lnTo>
                  <a:pt x="259" y="0"/>
                </a:lnTo>
                <a:lnTo>
                  <a:pt x="213" y="287"/>
                </a:lnTo>
                <a:lnTo>
                  <a:pt x="0" y="28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380880"/>
            <a:ext cx="506520" cy="534960"/>
          </a:xfrm>
          <a:custGeom>
            <a:avLst/>
            <a:gdLst/>
            <a:ahLst/>
            <a:rect l="l" t="t" r="r" b="b"/>
            <a:pathLst>
              <a:path w="319" h="337">
                <a:moveTo>
                  <a:pt x="66" y="0"/>
                </a:moveTo>
                <a:lnTo>
                  <a:pt x="0" y="336"/>
                </a:lnTo>
                <a:lnTo>
                  <a:pt x="252" y="336"/>
                </a:lnTo>
                <a:lnTo>
                  <a:pt x="318" y="0"/>
                </a:lnTo>
                <a:lnTo>
                  <a:pt x="6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309600"/>
            <a:ext cx="493560" cy="457200"/>
          </a:xfrm>
          <a:custGeom>
            <a:avLst/>
            <a:gdLst/>
            <a:ahLst/>
            <a:rect l="l" t="t" r="r" b="b"/>
            <a:pathLst>
              <a:path w="311" h="288">
                <a:moveTo>
                  <a:pt x="78" y="0"/>
                </a:moveTo>
                <a:lnTo>
                  <a:pt x="0" y="287"/>
                </a:lnTo>
                <a:lnTo>
                  <a:pt x="233" y="287"/>
                </a:lnTo>
                <a:lnTo>
                  <a:pt x="310" y="0"/>
                </a:lnTo>
                <a:lnTo>
                  <a:pt x="7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0360" y="309600"/>
            <a:ext cx="56880" cy="457200"/>
          </a:xfrm>
          <a:custGeom>
            <a:avLst/>
            <a:gdLst/>
            <a:ahLst/>
            <a:rect l="l" t="t" r="r" b="b"/>
            <a:pathLst>
              <a:path w="36" h="288">
                <a:moveTo>
                  <a:pt x="12" y="0"/>
                </a:moveTo>
                <a:lnTo>
                  <a:pt x="0" y="287"/>
                </a:lnTo>
                <a:lnTo>
                  <a:pt x="23" y="287"/>
                </a:lnTo>
                <a:lnTo>
                  <a:pt x="35" y="0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077920" y="6400800"/>
            <a:ext cx="6423120" cy="190440"/>
            <a:chOff x="2077920" y="6400800"/>
            <a:chExt cx="6423120" cy="190440"/>
          </a:xfrm>
        </p:grpSpPr>
        <p:sp>
          <p:nvSpPr>
            <p:cNvPr id="5" name=""/>
            <p:cNvSpPr/>
            <p:nvPr/>
          </p:nvSpPr>
          <p:spPr>
            <a:xfrm>
              <a:off x="2077920" y="6516720"/>
              <a:ext cx="6423120" cy="74520"/>
            </a:xfrm>
            <a:custGeom>
              <a:avLst/>
              <a:gdLst/>
              <a:ahLst/>
              <a:rect l="l" t="t" r="r" b="b"/>
              <a:pathLst>
                <a:path w="4046" h="47">
                  <a:moveTo>
                    <a:pt x="0" y="46"/>
                  </a:moveTo>
                  <a:lnTo>
                    <a:pt x="4045" y="46"/>
                  </a:lnTo>
                  <a:lnTo>
                    <a:pt x="4045" y="0"/>
                  </a:lnTo>
                  <a:lnTo>
                    <a:pt x="9" y="0"/>
                  </a:lnTo>
                  <a:lnTo>
                    <a:pt x="0" y="46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0240" y="6400800"/>
              <a:ext cx="6400800" cy="77760"/>
            </a:xfrm>
            <a:custGeom>
              <a:avLst/>
              <a:gdLst/>
              <a:ahLst/>
              <a:rect l="l" t="t" r="r" b="b"/>
              <a:pathLst>
                <a:path w="4032" h="49">
                  <a:moveTo>
                    <a:pt x="0" y="48"/>
                  </a:moveTo>
                  <a:lnTo>
                    <a:pt x="4031" y="46"/>
                  </a:lnTo>
                  <a:lnTo>
                    <a:pt x="4031" y="0"/>
                  </a:lnTo>
                  <a:lnTo>
                    <a:pt x="9" y="0"/>
                  </a:lnTo>
                  <a:lnTo>
                    <a:pt x="0" y="48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al Issues in Global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886200"/>
            <a:ext cx="5410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January 27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Book Antiqua"/>
              </a:rPr>
              <a:t>Januar 27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平成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13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年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1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月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27</a:t>
            </a:r>
            <a:r>
              <a:rPr b="1" lang="ja-JP" sz="28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ulture and Commun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unication : Verbal and Non Verb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Verbal Communication: Language Problem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ere it affects mos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lation #s / Lack of wor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solu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n verbal Commun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Non verbal Commun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ole of Gestures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ole of Contex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 V Low Context Count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 : Context matters;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w : Context does not matte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usiness Negoti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usiness Negotiati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reasing role in Global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ages in Business Negoti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2995920" y="2728800"/>
            <a:ext cx="18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siti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2068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6800" y="3567240"/>
            <a:ext cx="160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8720" y="4481640"/>
            <a:ext cx="184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044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28280" y="3048120"/>
            <a:ext cx="644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0080" y="3490920"/>
            <a:ext cx="2142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 T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05069_" descr=""/>
          <p:cNvPicPr/>
          <p:nvPr/>
        </p:nvPicPr>
        <p:blipFill>
          <a:blip r:embed="rId1"/>
          <a:stretch/>
        </p:blipFill>
        <p:spPr>
          <a:xfrm>
            <a:off x="-12600" y="3724200"/>
            <a:ext cx="227016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ulture &amp; Business Practic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ofstede seminal work  in this area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bserved work behavior varies across countrie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posed a classification schem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vidualism / Collectiv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wer Distance ( High Vs Low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certainty Avoidance ( High Vs Low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sculinity / Feminin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ng term orient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mplications for manager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dividualism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re workers driven by individual motives or group motive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Characteristic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 of count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actical Us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5105520"/>
            <a:ext cx="1825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wer Distanc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tent to which less powerful members accept unequal distribution of powe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 : the milita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actical Us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0200" y="4071960"/>
            <a:ext cx="30574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Uncertainty Avoidanc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 what extent members feel threatened by ambiguous work situ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ly threatened: HI Avoida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t threatened : Low Avoida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actical Us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97520" y="3695760"/>
            <a:ext cx="234648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Masculinity V Femininit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 Societies emphasize concern for others, quality of lif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 societies emphasize assertiveness and material acquisi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actical us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bd00031_" descr=""/>
          <p:cNvPicPr/>
          <p:nvPr/>
        </p:nvPicPr>
        <p:blipFill>
          <a:blip r:embed="rId1"/>
          <a:stretch/>
        </p:blipFill>
        <p:spPr>
          <a:xfrm>
            <a:off x="1222200" y="5715000"/>
            <a:ext cx="91152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Work behavior : concluding point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 hard to imple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ividually easy but collectively hard to imple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me general guidelines for managing work for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t because of global composition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How to analyze?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esthetic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igion Colors Supersti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anguage and Gift giving practi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ultural Issues: Outlin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ce of Topic/Big pictu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is Cultur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on Themes regarding Cultu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Culture affects International Marketing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analyze Cultural forces?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al Train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ultural Training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some large companies d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can you do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02248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ocial &amp; Cultural Consideration for International Busines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598760"/>
            <a:ext cx="792504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ttitudes towar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95320" y="2438280"/>
          <a:ext cx="7391520" cy="3243240"/>
        </p:xfrm>
        <a:graphic>
          <a:graphicData uri="http://schemas.openxmlformats.org/drawingml/2006/table">
            <a:tbl>
              <a:tblPr/>
              <a:tblGrid>
                <a:gridCol w="2209680"/>
                <a:gridCol w="2381400"/>
                <a:gridCol w="280044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or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isur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o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ang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amily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&amp;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oup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duc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rain Drai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esthetic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tu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nguage &amp; Communic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mportance &amp; Big Pictur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1144440" y="1343160"/>
            <a:ext cx="7540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all Analysis of 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9680" y="3664080"/>
            <a:ext cx="2806560" cy="1130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80280" y="4024440"/>
            <a:ext cx="287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ternal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3738960" y="2977920"/>
            <a:ext cx="596880" cy="291960"/>
          </a:xfrm>
          <a:prstGeom prst="rightArrow">
            <a:avLst>
              <a:gd name="adj1" fmla="val 75000"/>
              <a:gd name="adj2" fmla="val 10222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873760" y="4044960"/>
            <a:ext cx="596880" cy="291960"/>
          </a:xfrm>
          <a:prstGeom prst="rightArrow">
            <a:avLst>
              <a:gd name="adj1" fmla="val 50000"/>
              <a:gd name="adj2" fmla="val 10222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4520" y="5073480"/>
            <a:ext cx="444240" cy="368280"/>
          </a:xfrm>
          <a:prstGeom prst="rightArrow">
            <a:avLst>
              <a:gd name="adj1" fmla="val 50000"/>
              <a:gd name="adj2" fmla="val 6031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8960" y="4044960"/>
            <a:ext cx="673200" cy="291960"/>
          </a:xfrm>
          <a:prstGeom prst="rightArrow">
            <a:avLst>
              <a:gd name="adj1" fmla="val 50000"/>
              <a:gd name="adj2" fmla="val 115300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2880" y="3871800"/>
            <a:ext cx="2255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litical /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9720" y="5700600"/>
            <a:ext cx="328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me Country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5280" y="3871800"/>
            <a:ext cx="156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9680" y="2195640"/>
            <a:ext cx="23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ultur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8240" y="3346200"/>
            <a:ext cx="444600" cy="469800"/>
            <a:chOff x="768240" y="3346200"/>
            <a:chExt cx="444600" cy="469800"/>
          </a:xfrm>
        </p:grpSpPr>
        <p:sp>
          <p:nvSpPr>
            <p:cNvPr id="62" name=""/>
            <p:cNvSpPr/>
            <p:nvPr/>
          </p:nvSpPr>
          <p:spPr>
            <a:xfrm>
              <a:off x="768240" y="3740040"/>
              <a:ext cx="1396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20880" y="3346200"/>
              <a:ext cx="29196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397640" y="3422520"/>
            <a:ext cx="444600" cy="470160"/>
            <a:chOff x="7397640" y="3422520"/>
            <a:chExt cx="444600" cy="470160"/>
          </a:xfrm>
        </p:grpSpPr>
        <p:sp>
          <p:nvSpPr>
            <p:cNvPr id="65" name=""/>
            <p:cNvSpPr/>
            <p:nvPr/>
          </p:nvSpPr>
          <p:spPr>
            <a:xfrm>
              <a:off x="7397640" y="3816360"/>
              <a:ext cx="1396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50280" y="3422520"/>
              <a:ext cx="29196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959360" y="5251320"/>
            <a:ext cx="444600" cy="470160"/>
            <a:chOff x="4959360" y="5251320"/>
            <a:chExt cx="444600" cy="470160"/>
          </a:xfrm>
        </p:grpSpPr>
        <p:sp>
          <p:nvSpPr>
            <p:cNvPr id="68" name=""/>
            <p:cNvSpPr/>
            <p:nvPr/>
          </p:nvSpPr>
          <p:spPr>
            <a:xfrm>
              <a:off x="4959360" y="5645160"/>
              <a:ext cx="1396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111640" y="5251320"/>
              <a:ext cx="2923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What is Cultur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lmost 200 defini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me exampl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y of Life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ietal Behavior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m total of Values Beliefs Customs Arts and Attitudes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ny commonaltie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mmon Them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is socially shar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is relatively perman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is learned behavi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is prescriptiv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is dynamic in the long ru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 and Implic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ulture &amp; International Marketing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e affects along following dimension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ffects Consump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ffects Think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C Concept and 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ffects Commun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nguage and Business Negoti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ffects Business Practi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ork behavio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nsumption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do we eat certain foods?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do we act in certain way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earned experie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ny changes over past several yea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hinking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products are perceiv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lf Reference Criteria (SRC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nk about foreign products from your perspe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avoi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ime Percep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ime Percep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re there differences globall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 Time ( Linear /Monochronic Perception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 Time ( Circular / Polychronic Perception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Differen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cent change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3T10:00:22Z</dcterms:created>
  <dc:creator>Authorized Gateway Customer</dc:creator>
  <dc:description/>
  <dc:language>en-US</dc:language>
  <cp:lastModifiedBy>T. J. Ivinjack</cp:lastModifiedBy>
  <cp:lastPrinted>2001-01-23T19:58:04Z</cp:lastPrinted>
  <dcterms:modified xsi:type="dcterms:W3CDTF">2001-01-24T13:45:08Z</dcterms:modified>
  <cp:revision>10</cp:revision>
  <dc:subject/>
  <dc:title>Class 5</dc:title>
</cp:coreProperties>
</file>