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72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34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72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34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872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4636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72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872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4636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360" y="271080"/>
            <a:ext cx="784836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34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5920"/>
            <a:ext cx="9134640" cy="6188040"/>
            <a:chOff x="0" y="385920"/>
            <a:chExt cx="9134640" cy="6188040"/>
          </a:xfrm>
        </p:grpSpPr>
        <p:grpSp>
          <p:nvGrpSpPr>
            <p:cNvPr id="1" name=""/>
            <p:cNvGrpSpPr/>
            <p:nvPr/>
          </p:nvGrpSpPr>
          <p:grpSpPr>
            <a:xfrm>
              <a:off x="0" y="385920"/>
              <a:ext cx="966960" cy="457200"/>
              <a:chOff x="0" y="385920"/>
              <a:chExt cx="966960" cy="4572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85920"/>
                <a:ext cx="320760" cy="457200"/>
              </a:xfrm>
              <a:custGeom>
                <a:avLst/>
                <a:gdLst/>
                <a:ahLst/>
                <a:rect l="l" t="t" r="r" b="b"/>
                <a:pathLst>
                  <a:path w="202" h="288">
                    <a:moveTo>
                      <a:pt x="0" y="0"/>
                    </a:moveTo>
                    <a:lnTo>
                      <a:pt x="201" y="0"/>
                    </a:lnTo>
                    <a:lnTo>
                      <a:pt x="165" y="287"/>
                    </a:lnTo>
                    <a:lnTo>
                      <a:pt x="0" y="2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7000" y="385920"/>
                <a:ext cx="264960" cy="457200"/>
              </a:xfrm>
              <a:custGeom>
                <a:avLst/>
                <a:gdLst/>
                <a:ahLst/>
                <a:rect l="l" t="t" r="r" b="b"/>
                <a:pathLst>
                  <a:path w="167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132" y="287"/>
                    </a:lnTo>
                    <a:lnTo>
                      <a:pt x="166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34960" y="385920"/>
                <a:ext cx="220680" cy="457200"/>
              </a:xfrm>
              <a:custGeom>
                <a:avLst/>
                <a:gdLst/>
                <a:ahLst/>
                <a:rect l="l" t="t" r="r" b="b"/>
                <a:pathLst>
                  <a:path w="139" h="288">
                    <a:moveTo>
                      <a:pt x="35" y="0"/>
                    </a:moveTo>
                    <a:lnTo>
                      <a:pt x="0" y="287"/>
                    </a:lnTo>
                    <a:lnTo>
                      <a:pt x="104" y="287"/>
                    </a:lnTo>
                    <a:lnTo>
                      <a:pt x="13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5400" y="385920"/>
                <a:ext cx="163440" cy="457200"/>
              </a:xfrm>
              <a:custGeom>
                <a:avLst/>
                <a:gdLst/>
                <a:ahLst/>
                <a:rect l="l" t="t" r="r" b="b"/>
                <a:pathLst>
                  <a:path w="103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68" y="287"/>
                    </a:lnTo>
                    <a:lnTo>
                      <a:pt x="102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5720" y="385920"/>
                <a:ext cx="111240" cy="457200"/>
              </a:xfrm>
              <a:custGeom>
                <a:avLst/>
                <a:gdLst/>
                <a:ahLst/>
                <a:rect l="l" t="t" r="r" b="b"/>
                <a:pathLst>
                  <a:path w="70" h="288">
                    <a:moveTo>
                      <a:pt x="33" y="0"/>
                    </a:moveTo>
                    <a:lnTo>
                      <a:pt x="0" y="287"/>
                    </a:lnTo>
                    <a:lnTo>
                      <a:pt x="35" y="287"/>
                    </a:lnTo>
                    <a:lnTo>
                      <a:pt x="6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38080" y="6257880"/>
              <a:ext cx="8296560" cy="316080"/>
              <a:chOff x="838080" y="6257880"/>
              <a:chExt cx="8296560" cy="316080"/>
            </a:xfrm>
          </p:grpSpPr>
          <p:sp>
            <p:nvSpPr>
              <p:cNvPr id="8" name=""/>
              <p:cNvSpPr/>
              <p:nvPr/>
            </p:nvSpPr>
            <p:spPr>
              <a:xfrm>
                <a:off x="838080" y="6496200"/>
                <a:ext cx="8296560" cy="77760"/>
              </a:xfrm>
              <a:custGeom>
                <a:avLst/>
                <a:gdLst/>
                <a:ahLst/>
                <a:rect l="l" t="t" r="r" b="b"/>
                <a:pathLst>
                  <a:path w="5226" h="49">
                    <a:moveTo>
                      <a:pt x="0" y="48"/>
                    </a:moveTo>
                    <a:lnTo>
                      <a:pt x="5225" y="48"/>
                    </a:lnTo>
                    <a:lnTo>
                      <a:pt x="5225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65080" y="6377040"/>
                <a:ext cx="8269560" cy="77760"/>
              </a:xfrm>
              <a:custGeom>
                <a:avLst/>
                <a:gdLst/>
                <a:ahLst/>
                <a:rect l="l" t="t" r="r" b="b"/>
                <a:pathLst>
                  <a:path w="5209" h="49">
                    <a:moveTo>
                      <a:pt x="0" y="48"/>
                    </a:moveTo>
                    <a:lnTo>
                      <a:pt x="5208" y="48"/>
                    </a:lnTo>
                    <a:lnTo>
                      <a:pt x="5208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2080" y="6257880"/>
                <a:ext cx="8242560" cy="81000"/>
              </a:xfrm>
              <a:custGeom>
                <a:avLst/>
                <a:gdLst/>
                <a:ahLst/>
                <a:rect l="l" t="t" r="r" b="b"/>
                <a:pathLst>
                  <a:path w="5192" h="51">
                    <a:moveTo>
                      <a:pt x="0" y="50"/>
                    </a:moveTo>
                    <a:lnTo>
                      <a:pt x="5191" y="48"/>
                    </a:lnTo>
                    <a:lnTo>
                      <a:pt x="5191" y="0"/>
                    </a:lnTo>
                    <a:lnTo>
                      <a:pt x="12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lobal Marketing Strategy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lass 3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2458440" y="1508040"/>
            <a:ext cx="429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 Antiqua"/>
              </a:rPr>
              <a:t>January 19, 2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3300"/>
                </a:solidFill>
                <a:latin typeface="Book Antiqua"/>
              </a:rPr>
              <a:t>20. Januar 2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3300"/>
                </a:solidFill>
                <a:latin typeface="Book Antiqua"/>
                <a:ea typeface="ＭＳ Ｐゴシック"/>
              </a:rPr>
              <a:t>2001</a:t>
            </a:r>
            <a:r>
              <a:rPr b="1" lang="ja-JP" sz="4000" spc="-1" strike="noStrike">
                <a:solidFill>
                  <a:srgbClr val="ff3300"/>
                </a:solidFill>
                <a:latin typeface="Book Antiqua"/>
                <a:ea typeface="ＭＳ Ｐゴシック"/>
              </a:rPr>
              <a:t>年</a:t>
            </a:r>
            <a:r>
              <a:rPr b="1" lang="ja-JP" sz="4000" spc="-1" strike="noStrike">
                <a:solidFill>
                  <a:srgbClr val="ff3300"/>
                </a:solidFill>
                <a:latin typeface="Book Antiqua"/>
                <a:ea typeface="ＭＳ Ｐゴシック"/>
              </a:rPr>
              <a:t>1</a:t>
            </a:r>
            <a:r>
              <a:rPr b="1" lang="ja-JP" sz="4000" spc="-1" strike="noStrike">
                <a:solidFill>
                  <a:srgbClr val="ff3300"/>
                </a:solidFill>
                <a:latin typeface="Book Antiqua"/>
                <a:ea typeface="ＭＳ Ｐゴシック"/>
              </a:rPr>
              <a:t>月</a:t>
            </a:r>
            <a:r>
              <a:rPr b="1" lang="ja-JP" sz="4000" spc="-1" strike="noStrike">
                <a:solidFill>
                  <a:srgbClr val="ff3300"/>
                </a:solidFill>
                <a:latin typeface="Book Antiqua"/>
                <a:ea typeface="ＭＳ Ｐゴシック"/>
              </a:rPr>
              <a:t>20</a:t>
            </a:r>
            <a:r>
              <a:rPr b="1" lang="ja-JP" sz="4000" spc="-1" strike="noStrike">
                <a:solidFill>
                  <a:srgbClr val="ff3300"/>
                </a:solidFill>
                <a:latin typeface="Book Antiqua"/>
                <a:ea typeface="ＭＳ Ｐゴシック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Discussion of step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rporate Mission and Business Miss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urpose and differenc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Key features of Business Miss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cuses on consumer nee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ither too narrow nor too broa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w related to Business Miss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riteria for useful objectiv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at is a Strategic Business Unit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Steps : Portfolio Analysi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urpose of Analysi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in types of analys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CG Approa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E Approa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IMS Approa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iscussion of approach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mparis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BCG Approach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lassifies current portfolio of businesses into four quadrant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xes : relative market share and growth rat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at do the axes indirectly measure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ach quadrant has unique  name &amp;  different Strategic Implica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ssumptions/Limitations  of BC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to adapt to Global setting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he BCG approach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"/>
          <p:cNvSpPr/>
          <p:nvPr/>
        </p:nvSpPr>
        <p:spPr>
          <a:xfrm>
            <a:off x="2714760" y="1405080"/>
            <a:ext cx="0" cy="373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4760" y="5143680"/>
            <a:ext cx="435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9120" y="1380960"/>
            <a:ext cx="0" cy="36435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28960" y="3095640"/>
            <a:ext cx="3786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760" y="2779560"/>
            <a:ext cx="16185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rowth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80760" y="2014560"/>
            <a:ext cx="86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8880" y="4062240"/>
            <a:ext cx="76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18120" y="5613480"/>
            <a:ext cx="4092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lative Market Sh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27960" y="518148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69480" y="5181480"/>
            <a:ext cx="528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57360" y="5229360"/>
            <a:ext cx="61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47360" y="2041560"/>
            <a:ext cx="3136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oblem Child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83200" y="1554120"/>
            <a:ext cx="749520" cy="439920"/>
          </a:xfrm>
          <a:prstGeom prst="ellipse">
            <a:avLst/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8800" y="3720960"/>
            <a:ext cx="368280" cy="344520"/>
          </a:xfrm>
          <a:prstGeom prst="ellipse">
            <a:avLst/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19760" y="4255920"/>
            <a:ext cx="1924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ash C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40280" y="4078440"/>
            <a:ext cx="582840" cy="487080"/>
          </a:xfrm>
          <a:prstGeom prst="ellipse">
            <a:avLst/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56600" y="4398840"/>
            <a:ext cx="11080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o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0080" y="1577880"/>
            <a:ext cx="177840" cy="249480"/>
          </a:xfrm>
          <a:prstGeom prst="ellipse">
            <a:avLst/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08120" y="1946160"/>
            <a:ext cx="8978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t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BCG: Assumptions and Limitations</a:t>
            </a:r>
            <a:br>
              <a:rPr sz="3800"/>
            </a:b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6696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cuses on cash flow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gh Market share= high Profi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gh Profits = High Cash flow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dependence of SBU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rale problem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efinition of marke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E Approach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milar to BCG in terms of classific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xes: Business Position and Market / Country Attractivenes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xes indirectly measure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lassifies the SBUs into 3 X 3 matrix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trategic Implica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imita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daptation for Glob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E: Axes Measurement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to measure Country attractivenes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to measure Business Posi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ypical Indic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E: Indic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usiness Position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rand Reput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fit Marg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rket Sha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untry Attractivenes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untry’s Economic Clim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is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uyer Concent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IMs Approach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405080"/>
            <a:ext cx="7772400" cy="47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st elaborate of all method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tatistical Model  that relates success to a host of variabl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del used extensively in U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ata problems for Glob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omparis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deally PIMs will serve well. But.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E has the next best chance for global adaptation. But..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 general, model does not matter but logic of approach do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lobal Marketing Strategy: Outlin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at is Strateg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lobal Strateg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mponents of Global Strateg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dvantages of Global Strateg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teps in Strategy form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mplementation Issu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Implementation Issu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2840" y="1528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re the goals clear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re the goals achievable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mmunication within the compan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mpany culture : Global mindset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ordination issu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What is a strategy?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187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trategy =  Plan to achieve a go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25000"/>
              </a:lnSpc>
              <a:spcBef>
                <a:spcPts val="187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ny plans can lead to same go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25000"/>
              </a:lnSpc>
              <a:spcBef>
                <a:spcPts val="187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Need to pick the bes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25000"/>
              </a:lnSpc>
              <a:spcBef>
                <a:spcPts val="187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trategic Marketing is the process of matching firm’s resources with the opportunities in the environm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25000"/>
              </a:lnSpc>
              <a:spcBef>
                <a:spcPts val="187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mponents of strategy = Target Market plus the 4 Ps to sustain exchang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Strategy : conceptual look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/>
          <p:nvPr/>
        </p:nvSpPr>
        <p:spPr>
          <a:xfrm>
            <a:off x="2751120" y="2965320"/>
            <a:ext cx="3379680" cy="130824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2440" y="1281240"/>
            <a:ext cx="334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580000">
            <a:off x="2340000" y="2136600"/>
            <a:ext cx="1249200" cy="439920"/>
          </a:xfrm>
          <a:prstGeom prst="rightArrow">
            <a:avLst>
              <a:gd name="adj1" fmla="val 50000"/>
              <a:gd name="adj2" fmla="val 141993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78800" y="5386320"/>
            <a:ext cx="245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rot="2820000">
            <a:off x="5639760" y="4561560"/>
            <a:ext cx="1249560" cy="440280"/>
          </a:xfrm>
          <a:prstGeom prst="rightArrow">
            <a:avLst>
              <a:gd name="adj1" fmla="val 50000"/>
              <a:gd name="adj2" fmla="val 141918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51040" y="3305160"/>
            <a:ext cx="2203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lobal Strategy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ideas are same except scope is much wider.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Need to look at strategy in the global contex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ook for opportunities and threats world wide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uccessful Global Strategy has three componen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omponents of Global Strategy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evelop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core business strategy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which forms the firm’s sustainable strategic advantage. This is usually done  for the home country firs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Internationalize the strategy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for foreign markets. Without some international experience hard to go global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Globalize strategy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= integrating strategy across countri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nceptual overview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onceptual overview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958680" y="1220760"/>
            <a:ext cx="7750440" cy="4773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3760" y="1601640"/>
            <a:ext cx="4416480" cy="844560"/>
          </a:xfrm>
          <a:prstGeom prst="roundRect">
            <a:avLst>
              <a:gd name="adj" fmla="val 124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RE BUSINES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6320" y="3530520"/>
            <a:ext cx="892080" cy="1892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928880" y="2452680"/>
            <a:ext cx="1309680" cy="9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738240" y="2476440"/>
            <a:ext cx="57132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10360" y="2476440"/>
            <a:ext cx="64260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48360" y="2476440"/>
            <a:ext cx="164304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19360" y="440532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00880" y="4405320"/>
            <a:ext cx="614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05320" y="4429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2852640" y="4090320"/>
            <a:ext cx="19047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untry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4910040" y="4071240"/>
            <a:ext cx="1981080" cy="695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untry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6757920" y="4043160"/>
            <a:ext cx="1905120" cy="695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untry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77880" y="3459240"/>
            <a:ext cx="892440" cy="1892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 rot="16200000">
            <a:off x="1154520" y="4055400"/>
            <a:ext cx="170964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country 1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lobal Strategy: Benefit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reater Synergy and learn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st reduc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conomies of sca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wer factor cos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lexibility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creased Consumer preferen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creased competitive levera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imitations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lobal Strategy: Step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lowchart of step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iscussion of key issu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05T20:33:10Z</dcterms:created>
  <dc:creator>Authorized Gateway Customer</dc:creator>
  <dc:description/>
  <dc:language>en-US</dc:language>
  <cp:lastModifiedBy>T. J. Ivinjack</cp:lastModifiedBy>
  <cp:lastPrinted>1996-08-06T16:36:16Z</cp:lastPrinted>
  <dcterms:modified xsi:type="dcterms:W3CDTF">2001-01-19T15:17:09Z</dcterms:modified>
  <cp:revision>5</cp:revision>
  <dc:subject/>
  <dc:title>Global Marketing Strategy</dc:title>
</cp:coreProperties>
</file>