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6888" cy="91328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36520" y="1147320"/>
            <a:ext cx="1009800" cy="37681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360" y="2136960"/>
            <a:ext cx="61621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360" y="4903920"/>
            <a:ext cx="61621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36520" y="1147320"/>
            <a:ext cx="1009800" cy="37681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360" y="2136960"/>
            <a:ext cx="3007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0280" y="2136960"/>
            <a:ext cx="3007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360" y="4903920"/>
            <a:ext cx="3007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0280" y="4903920"/>
            <a:ext cx="3007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36520" y="1147320"/>
            <a:ext cx="1009800" cy="37681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360" y="2136960"/>
            <a:ext cx="19839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6040" y="2136960"/>
            <a:ext cx="19839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09360" y="2136960"/>
            <a:ext cx="19839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360" y="4903920"/>
            <a:ext cx="19839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6040" y="4903920"/>
            <a:ext cx="19839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09360" y="4903920"/>
            <a:ext cx="19839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36520" y="1147320"/>
            <a:ext cx="1009800" cy="37681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360" y="2136960"/>
            <a:ext cx="61621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36520" y="1147320"/>
            <a:ext cx="1009800" cy="37681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360" y="2136960"/>
            <a:ext cx="61621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36520" y="1147320"/>
            <a:ext cx="1009800" cy="37681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360" y="2136960"/>
            <a:ext cx="300708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0280" y="2136960"/>
            <a:ext cx="300708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6520" y="1147320"/>
            <a:ext cx="1009800" cy="37681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936520" y="1147320"/>
            <a:ext cx="1009800" cy="174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36520" y="1147320"/>
            <a:ext cx="1009800" cy="37681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360" y="2136960"/>
            <a:ext cx="3007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0280" y="2136960"/>
            <a:ext cx="300708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360" y="4903920"/>
            <a:ext cx="3007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36520" y="1147320"/>
            <a:ext cx="1009800" cy="37681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360" y="2136960"/>
            <a:ext cx="300708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0280" y="2136960"/>
            <a:ext cx="3007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0280" y="4903920"/>
            <a:ext cx="3007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36520" y="1147320"/>
            <a:ext cx="1009800" cy="37681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360" y="2136960"/>
            <a:ext cx="3007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0280" y="2136960"/>
            <a:ext cx="3007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360" y="4903920"/>
            <a:ext cx="61621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36520" y="1147320"/>
            <a:ext cx="1009800" cy="37681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360" y="2136960"/>
            <a:ext cx="61621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1880" y="436680"/>
            <a:ext cx="6484680" cy="3603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INTERNATIONAL MARKETING STRATEGY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47600" y="985680"/>
            <a:ext cx="23623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205000" y="40338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81320" y="833400"/>
            <a:ext cx="2208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3920" y="1062000"/>
            <a:ext cx="25905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5000" y="909720"/>
            <a:ext cx="2131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28680" y="2357280"/>
            <a:ext cx="2589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3760" y="915840"/>
            <a:ext cx="219564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7440" y="1982880"/>
            <a:ext cx="234792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11480" y="3049560"/>
            <a:ext cx="265248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1068480"/>
            <a:ext cx="1892160" cy="158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0040" y="3887640"/>
            <a:ext cx="1892520" cy="158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7440" y="4497480"/>
            <a:ext cx="2881440" cy="9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4572000"/>
            <a:ext cx="128268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1480" y="6095880"/>
            <a:ext cx="2500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4080" y="6934320"/>
            <a:ext cx="204444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20960" y="6934320"/>
            <a:ext cx="227160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3280" y="932040"/>
            <a:ext cx="1303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71720" y="1693800"/>
            <a:ext cx="1299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" y="1096920"/>
            <a:ext cx="1732680" cy="23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alysis of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 Econo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 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 Pol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 Cul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44680" y="1020600"/>
            <a:ext cx="216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81560" y="2011320"/>
            <a:ext cx="3517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38840" y="2011320"/>
            <a:ext cx="237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/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02680" y="1096920"/>
            <a:ext cx="1732680" cy="14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  Resources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 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 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1040" y="3078000"/>
            <a:ext cx="257364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LIMINARY LIST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/COU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320" y="3370320"/>
            <a:ext cx="17478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1920" y="3370320"/>
            <a:ext cx="1505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120" y="3916440"/>
            <a:ext cx="1871280" cy="14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alysis of 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  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  Pol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  Econo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3840" y="4600440"/>
            <a:ext cx="277632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ANALYSI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arget Mar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08920" y="4600440"/>
            <a:ext cx="127548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d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07080" y="6188040"/>
            <a:ext cx="23299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arget Mar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7280" y="6962760"/>
            <a:ext cx="193536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plement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  As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Time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160" y="6962760"/>
            <a:ext cx="221400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  Develop Detail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  Entry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  Bud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83360" y="6962760"/>
            <a:ext cx="133920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 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  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 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  Pro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03960" y="7080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99040" y="73850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79720" y="80708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433240" y="8528040"/>
            <a:ext cx="144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3600" y="669924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38320" y="669924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85680" y="30430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85680" y="3652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85680" y="3043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84840" y="2662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85680" y="31957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85680" y="3652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85680" y="3652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2520" y="2585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2520" y="3957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2520" y="547992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2520" y="64706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2520" y="159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870440" y="3119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38320" y="669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75360" y="494676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8160" y="63183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46760" y="6089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46760" y="60897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946400" y="63183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46760" y="6318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55840" y="5883120"/>
            <a:ext cx="16549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er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46760" y="65469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9840" y="6188040"/>
            <a:ext cx="1502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22080" y="6492960"/>
            <a:ext cx="12873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2600" y="2684520"/>
            <a:ext cx="1299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4080" y="992160"/>
            <a:ext cx="1892160" cy="20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14:19:54Z</dcterms:created>
  <dc:creator>Janet</dc:creator>
  <dc:description/>
  <cp:keywords>STRATEGY</cp:keywords>
  <dc:language>en-US</dc:language>
  <cp:lastModifiedBy>T. J. Ivinjack</cp:lastModifiedBy>
  <cp:lastPrinted>1994-06-23T11:17:52Z</cp:lastPrinted>
  <dcterms:modified xsi:type="dcterms:W3CDTF">2001-01-19T15:17:57Z</dcterms:modified>
  <cp:revision>2</cp:revision>
  <dc:subject>INT. MARKETING STRATEGY</dc:subject>
  <dc:title>B361  INTERNATIONAL MARKETING    INTERNATIONAL MARKETING STRATEGY    LECTURE TRANSPARENCIES  PROFESSOR HARIHARAN POWERPOINT FILE : MKTGSTRATEGY.PP</dc:title>
</cp:coreProperties>
</file>