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2B89-2AC2-4A14-B921-BA7D65F26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C2A5-A120-4115-8CC0-B2802CBC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D95C-4870-4D0C-B708-4A695C398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D769-A0D1-4570-ADA8-4AB2E89B4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07D8-46FC-449A-9389-CC299878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4E88-C486-4B10-83C9-A7A9027F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8217-7084-492A-8DFE-90A7E1CF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60C6-6166-4DC7-ACE5-F49E8386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8194-6282-4786-B89D-162EA6C7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21AC-127F-4258-85ED-37FBEC99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EDEF-4555-45CC-8189-248A0D46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131F-DB03-4313-B6BF-666CC7F4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1193-B6B3-40BE-8B7B-D0D9D9CDF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JEM IN KOMPONENTE ČUST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Monotype Corsiva"/>
              </a:rPr>
              <a:t>KAJ SO ČUSTV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ustva so </a:t>
            </a:r>
            <a:r>
              <a:rPr b="1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ševni procesi in stanja</a:t>
            </a:r>
            <a:r>
              <a:rPr b="0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i izražajo </a:t>
            </a:r>
            <a:r>
              <a:rPr b="1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lovekov vrednostni odnos</a:t>
            </a:r>
            <a:r>
              <a:rPr b="0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 </a:t>
            </a:r>
            <a:r>
              <a:rPr b="1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unanjega sveta ali do samega sebe</a:t>
            </a:r>
            <a:r>
              <a:rPr b="0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Monotype Corsiva"/>
              </a:rPr>
              <a:t>LASTNOSTI ČUST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ustva so </a:t>
            </a:r>
            <a:r>
              <a:rPr b="1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ncionalni pojavi</a:t>
            </a:r>
            <a:r>
              <a:rPr b="0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vsako čustvo ima svoj objekt, ki ga povzroči ali k kateremu teži – strah pred nekom ali nečim…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ustva se </a:t>
            </a:r>
            <a:r>
              <a:rPr b="1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javljajo ob objektih</a:t>
            </a:r>
            <a:r>
              <a:rPr b="0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ogodkih, osebah, situacijah), </a:t>
            </a:r>
            <a:r>
              <a:rPr b="1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 jih ocenjujemo kot pomembne za 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Monotype Corsiva"/>
              </a:rPr>
              <a:t>KOMPONENTE ČUST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ednostno (ugodna in neugodn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tivnostno (vzburjajoča in pomirjajoč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nzivnostno (močna in šibk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j0078751" descr=""/>
          <p:cNvPicPr/>
          <p:nvPr/>
        </p:nvPicPr>
        <p:blipFill>
          <a:blip r:embed="rId1"/>
          <a:stretch/>
        </p:blipFill>
        <p:spPr>
          <a:xfrm>
            <a:off x="4800600" y="2489040"/>
            <a:ext cx="3657600" cy="32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STAVLJENOST, JAKOST IN TRAJANJE ČUST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1760" y="914040"/>
            <a:ext cx="4190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Monotype Corsiva"/>
              </a:rPr>
              <a:t>ENOSTAVNA IN SESTAVLJ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Times New Roman"/>
              </a:rPr>
              <a:t>Enostavna čustv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Se pojavijo kmalu po rojstv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So univerzalna v vseh kultura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Dokaj dobro jih prepoznamo po mimi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Spremljajo jih opaznnejše telesne spremem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Times New Roman"/>
              </a:rPr>
              <a:t>Sestavljena ćustv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Pojavijo se kasneje v razvoj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Težje jih prepozna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Izražanje je odvisno od kul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Monotype Corsiva"/>
              </a:rPr>
              <a:t>JAKOST ČUST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Times New Roman"/>
              </a:rPr>
              <a:t>Močna čustv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Večje telesne spremem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Močno vplivajo na veden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Times New Roman"/>
              </a:rPr>
              <a:t>Šibka čustv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Skoraj jih ne opaz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Monotype Corsiva"/>
              </a:rPr>
              <a:t>TRAJANJE ČUST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Times New Roman"/>
              </a:rPr>
              <a:t>Kratkotraj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Times New Roman"/>
              </a:rPr>
              <a:t>dolgotraj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4572000"/>
            <a:ext cx="1981080" cy="17989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Razpoložen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lgotrajno čust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Šibko čust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i objek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fek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čno čust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ratkotrajno čust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81480" y="990720"/>
            <a:ext cx="3505320" cy="26514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 u="sng">
                <a:solidFill>
                  <a:srgbClr val="000000"/>
                </a:solidFill>
                <a:uFillTx/>
                <a:latin typeface="Times New Roman"/>
              </a:rPr>
              <a:t>Wats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Enostavna čustva, ki jih opazimo pri otroku so strah, jeza, veselje, žalost. Druga čustva se razvijejo preko procesov učenja in so sestavlje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 u="sng">
                <a:solidFill>
                  <a:srgbClr val="000000"/>
                </a:solidFill>
                <a:uFillTx/>
                <a:latin typeface="Times New Roman"/>
              </a:rPr>
              <a:t>Plutchik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osem enostvanih čustev (štirje nasprotni pari): veselje-žalost, jeza-strah, sprejemanje-zavračanje, pričakovanje-presenečen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sestavljena čustva se pojavijo kasneje in so sestaljena iz diad ali triad enostavnih čust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3886200"/>
            <a:ext cx="24386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3276720" y="5257440"/>
            <a:ext cx="2361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lutchikfig6" descr=""/>
          <p:cNvPicPr/>
          <p:nvPr/>
        </p:nvPicPr>
        <p:blipFill>
          <a:blip r:embed="rId1"/>
          <a:stretch/>
        </p:blipFill>
        <p:spPr>
          <a:xfrm>
            <a:off x="4495680" y="1447920"/>
            <a:ext cx="4222800" cy="4495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TCHIKOVA TEORIJA ČUST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Monotype Corsiva"/>
              </a:rPr>
              <a:t>OSNOVNA ČUST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novnih čustev je </a:t>
            </a:r>
            <a:r>
              <a:rPr b="1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novna čustva lahko razporedimo v </a:t>
            </a:r>
            <a:r>
              <a:rPr b="1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protne dvojice</a:t>
            </a:r>
            <a:r>
              <a:rPr b="0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za čustva na splošno velja </a:t>
            </a:r>
            <a:r>
              <a:rPr b="1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polarnos</a:t>
            </a:r>
            <a:r>
              <a:rPr b="0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elje – žal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h – je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ejemanje – zavračanj</a:t>
            </a: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čakovanje – presenečenje</a:t>
            </a: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Monotype Corsiva"/>
              </a:rPr>
              <a:t>SESTAVLJENA ČUST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novna čustva se med seboj </a:t>
            </a:r>
            <a:r>
              <a:rPr b="1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šajo</a:t>
            </a:r>
            <a:r>
              <a:rPr b="0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vorijo </a:t>
            </a:r>
            <a:r>
              <a:rPr b="1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tavljena čustva</a:t>
            </a:r>
            <a:r>
              <a:rPr b="0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odvisna od kulture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vljena čustva 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de </a:t>
            </a:r>
            <a:r>
              <a:rPr b="0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stavljene iz dveh osnovnih čuste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bezen = veselje x sprejeman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očaranje = presenečenje x žal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ničevanje = gnus x je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vist = jeza x žal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up = žalost x stra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ade </a:t>
            </a:r>
            <a:r>
              <a:rPr b="0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stavljene iz treh osnovnih čuste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jubosumje = ljubezen x stra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lylasm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2484360" cy="3733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400720" y="1219320"/>
            <a:ext cx="3176640" cy="43434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ČUSTVA - ZORENJE IN UČE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3657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onotype Corsiva"/>
              </a:rPr>
              <a:t>ZOREN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renje predstavlj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dno določeno zaporedje razvojnih spremem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win je bil prepričan, da so čustveni izraz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tanek evolucij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ri odraslem človeku so obrazni čustveni izrazi bolj ali manj nefunkcionalni, našim prednikom so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magali pri preživetj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aj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kater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lementi obraznih izrazov čustev so prirojen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ker se pojavljajo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i ljudeh, slepih od rojstv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ki nimajo možnosti, da bi se čustvenih izrazov učili s posnemanjem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azvoj čustev je določe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n sicer gre v smer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d vzburjenj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ki je lahko že pri novorojenčku pozitivno ali negativno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 vse bolj diferencialnim čustvo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838080"/>
            <a:ext cx="4038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Monotype Corsiva"/>
              </a:rPr>
              <a:t>UČEN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nje so </a:t>
            </a:r>
            <a:r>
              <a:rPr b="1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meroma trajne spremembe dejavnosti in osebnosti, ki so posledica individualnih izkušenjv interakciji z okolj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son je pokazal kako lahko </a:t>
            </a:r>
            <a:r>
              <a:rPr b="1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ko klasičnega pogojevanja naučimo</a:t>
            </a:r>
            <a:r>
              <a:rPr b="0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čustveno reagirati tudi na dražljaje in situacije, ki sprva niso zbujale čustvenih odzivov (Musek (1997, str. 11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 izvor učenja čustvenih reakcij je </a:t>
            </a:r>
            <a:r>
              <a:rPr b="1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nemanje</a:t>
            </a:r>
            <a:r>
              <a:rPr b="0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Raziskovalci so ugotovili, da otroci radi posnemajo čustvene izraze in čustvene reakcije oseb, ki jih opazujej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lovek se v </a:t>
            </a:r>
            <a:r>
              <a:rPr b="1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u socializacije</a:t>
            </a:r>
            <a:r>
              <a:rPr b="0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uči, </a:t>
            </a:r>
            <a:r>
              <a:rPr b="1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ko in koliko je zaželeno čustva izražati</a:t>
            </a:r>
            <a:r>
              <a:rPr b="0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odvisno od kultur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 kulturami obstajajo pomembne </a:t>
            </a:r>
            <a:r>
              <a:rPr b="1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like v zaželenosti izražanja specifičnih čuste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 kulturami je </a:t>
            </a:r>
            <a:r>
              <a:rPr b="1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lika glede situacij v katerih je primerno in zaželeno čustvovati</a:t>
            </a:r>
            <a:r>
              <a:rPr b="0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5638680"/>
            <a:ext cx="8305560" cy="73332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Monotype Corsiva"/>
              </a:rPr>
              <a:t>EKMAN (1972)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Čustveni izrazi so odvisni od genskih dejavnikov, zaradi katerih so nekateri čustveni izrazi univerzalni, pa tudi od kulturnih dejavnikov, ki vplivajo na razlike in specifičnosti v izražanju čustev. Vsak čustven izraz je mešanica prirojenih i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idobljenih elemento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ČUSTVENA ZRE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4343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Čustvena zrelost vključuje </a:t>
            </a:r>
            <a:r>
              <a:rPr b="1" lang="sl-SI" sz="1400" spc="-1" strike="noStrike">
                <a:solidFill>
                  <a:srgbClr val="000000"/>
                </a:solidFill>
                <a:latin typeface="Times New Roman"/>
              </a:rPr>
              <a:t>ustreznost, uravnavanje in raznolikost čustvovanj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Monotype Corsiva"/>
              </a:rPr>
              <a:t>USTREZNOST ČUSTEV</a:t>
            </a: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 presojamo glede na </a:t>
            </a:r>
            <a:r>
              <a:rPr b="1" lang="sl-SI" sz="1400" spc="-1" strike="noStrike">
                <a:solidFill>
                  <a:srgbClr val="000000"/>
                </a:solidFill>
                <a:latin typeface="Times New Roman"/>
              </a:rPr>
              <a:t>kulturna pravila čustvovanja</a:t>
            </a: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 ali glede na njihovo </a:t>
            </a:r>
            <a:r>
              <a:rPr b="1" lang="sl-SI" sz="1400" spc="-1" strike="noStrike">
                <a:solidFill>
                  <a:srgbClr val="000000"/>
                </a:solidFill>
                <a:latin typeface="Times New Roman"/>
              </a:rPr>
              <a:t>funkcionalnost v situaciji</a:t>
            </a: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 (veselje ob darilu, strah ob spraševanju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Monotype Corsiva"/>
              </a:rPr>
              <a:t>URAVNAVANJE ČUSTEV</a:t>
            </a: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 pomeni, da smo se </a:t>
            </a:r>
            <a:r>
              <a:rPr b="1" lang="sl-SI" sz="1400" spc="-1" strike="noStrike">
                <a:solidFill>
                  <a:srgbClr val="000000"/>
                </a:solidFill>
                <a:latin typeface="Times New Roman"/>
              </a:rPr>
              <a:t>sposobni odločiti kdaj, s kakšnim namenom, v odnosu do koga in kako bomo izrazili svoja čustva</a:t>
            </a: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.  Znak nezrelosti je pretiran nadzor in zatiranje čustev pa tudi nezmožnost uravnavanja in modeliranja čustev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Monotype Corsiva"/>
              </a:rPr>
              <a:t>RAZNOLIKOST ČUSTEV</a:t>
            </a: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 pomeni </a:t>
            </a:r>
            <a:r>
              <a:rPr b="1" lang="sl-SI" sz="1400" spc="-1" strike="noStrike">
                <a:solidFill>
                  <a:srgbClr val="000000"/>
                </a:solidFill>
                <a:latin typeface="Times New Roman"/>
              </a:rPr>
              <a:t>pojavljanje širokega spektra pozitivnih in negativnih čustev</a:t>
            </a: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l-SI" sz="1400" spc="-1" strike="noStrike">
                <a:solidFill>
                  <a:srgbClr val="000000"/>
                </a:solidFill>
                <a:latin typeface="Times New Roman"/>
              </a:rPr>
              <a:t>Razvita so tudi številna sestavljena čustva</a:t>
            </a: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, npr. moralna (sram, krivda) in socialna čustva (solidarnost, sočustvoanje, empatija). Čustveno zrel človek je </a:t>
            </a:r>
            <a:r>
              <a:rPr b="1" lang="sl-SI" sz="1400" spc="-1" strike="noStrike">
                <a:solidFill>
                  <a:srgbClr val="000000"/>
                </a:solidFill>
                <a:latin typeface="Times New Roman"/>
              </a:rPr>
              <a:t>sposoben zaznati, prepoznavati in podoživeti čustva drugih ljudi</a:t>
            </a: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4120" y="1143000"/>
            <a:ext cx="1600200" cy="1581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086600" y="1600200"/>
            <a:ext cx="1317600" cy="1600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486400" y="2895480"/>
            <a:ext cx="1442880" cy="1676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086600" y="3657600"/>
            <a:ext cx="1351080" cy="1371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6019920" y="4800600"/>
            <a:ext cx="15159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8:44:52Z</dcterms:created>
  <dc:creator>Cigale</dc:creator>
  <dc:description/>
  <dc:language>en-US</dc:language>
  <cp:lastModifiedBy>GC</cp:lastModifiedBy>
  <dcterms:modified xsi:type="dcterms:W3CDTF">2002-01-23T09:33:27Z</dcterms:modified>
  <cp:revision>5</cp:revision>
  <dc:subject/>
  <dc:title>POJEM IN KOMPONENTE ČUSTEV</dc:title>
</cp:coreProperties>
</file>