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wmf" ContentType="image/x-wmf"/>
  <Override PartName="/ppt/media/image15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8A3-1F8B-4112-85A3-E62200C7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49B-CC9C-45CB-B682-13F75402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D51-E117-4725-8E98-B3D973FF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E55-72AC-4EC3-9437-5B3C0D7B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02A-42D2-4401-92B9-B4445908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E5D-A3EC-40C9-88FF-B7CE71C3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087-D744-4C7D-96BD-4208C9B0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7DE-0003-4510-85B1-4A67E883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094-D783-4452-94B9-9B801C84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CB6-71A9-40E3-9FDE-27D3F3B8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08C-0350-47A2-8A56-24460AF7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899-3765-4794-ACBA-0CF30688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A2B4-4AFF-443B-9B49-41CD45805F22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003399"/>
                </a:solidFill>
                <a:latin typeface="KodchiangUPC"/>
              </a:rPr>
              <a:t>พื้นที่เสี่ยงภัยต่อการเกิดดินถล่ม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4343400"/>
            <a:ext cx="6705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รศ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ดร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วรากร ไม้เรีย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ศูนย์วิจัยและพัฒนาวิศวกรรมปฐพีและฐานราก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หาวิทยาลัยเกษตรศาสตร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KodchiangUPC"/>
              </a:rPr>
              <a:t>ผลการวิจัยขั้นแรก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766880"/>
            <a:ext cx="8077320" cy="71125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- 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จัดทำฐานข้อมูลลักษณะการพิบัติ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- 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ศึกษาสาเหตุและปัจจัยการถล่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- 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ศึกษาคุณสมบัติดินที่เกี่ยวข้องในพื้นที่เป้าหมาย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- 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สร้างโปรแกรมวิเคราะห์ความมั่นคงของการพังแบบส่วนโค้งของวงกล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- 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สร้างฐานความรู้และระบบผู้เชี่ยวชาญเพื่อการวินิจฉัยรูปแบบการพิบัติ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1219320"/>
            <a:ext cx="5943600" cy="990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ngsana New"/>
              </a:rPr>
              <a:t>การวิจัยเพื่อการป้องกันแก้ไขการถล่มของดิ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KodchiangUPC"/>
              </a:rPr>
              <a:t>การวิจัยในระยะที่สอง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241600"/>
            <a:ext cx="4190760" cy="1556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วิธีการปรับปรุงความมั่นค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ของลาดดิ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643480"/>
            <a:ext cx="3200400" cy="3018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การใช้ระบบสารสนเทศทางภูมิศาสตร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ในการจำแนกพื้นที่เสี่ยงภัยจากดินถล่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895120"/>
            <a:ext cx="3352680" cy="25311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การศึกษาคุณสมบัติดินการวิเคราะห์และ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ออกแบบเครื่องมือทดสอบในสนา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57360" y="2286000"/>
            <a:ext cx="4610160" cy="3124080"/>
            <a:chOff x="2457360" y="2286000"/>
            <a:chExt cx="4610160" cy="3124080"/>
          </a:xfrm>
        </p:grpSpPr>
        <p:sp>
          <p:nvSpPr>
            <p:cNvPr id="159" name=""/>
            <p:cNvSpPr/>
            <p:nvPr/>
          </p:nvSpPr>
          <p:spPr>
            <a:xfrm>
              <a:off x="2457360" y="2471760"/>
              <a:ext cx="533520" cy="576360"/>
            </a:xfrm>
            <a:prstGeom prst="downArrow">
              <a:avLst>
                <a:gd name="adj1" fmla="val 50000"/>
                <a:gd name="adj2" fmla="val 2700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876920"/>
              <a:ext cx="61128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5680" y="2286000"/>
              <a:ext cx="304920" cy="2590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34000" y="2467080"/>
              <a:ext cx="533520" cy="576000"/>
            </a:xfrm>
            <a:prstGeom prst="downArrow">
              <a:avLst>
                <a:gd name="adj1" fmla="val 50000"/>
                <a:gd name="adj2" fmla="val 2699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0920" y="2462040"/>
              <a:ext cx="4343400" cy="281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00280" y="2514600"/>
              <a:ext cx="252360" cy="380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14760" y="2438280"/>
              <a:ext cx="281160" cy="38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80160" y="2514600"/>
              <a:ext cx="252360" cy="380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05400" y="4676760"/>
              <a:ext cx="295200" cy="380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KodchiangUPC"/>
              </a:rPr>
              <a:t>แนวทางการป้องกันและแก้ไข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130480"/>
            <a:ext cx="228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ทางกาย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3124080"/>
            <a:ext cx="4800600" cy="3782880"/>
            <a:chOff x="1066680" y="3124080"/>
            <a:chExt cx="4800600" cy="3782880"/>
          </a:xfrm>
        </p:grpSpPr>
        <p:sp>
          <p:nvSpPr>
            <p:cNvPr id="171" name=""/>
            <p:cNvSpPr/>
            <p:nvPr/>
          </p:nvSpPr>
          <p:spPr>
            <a:xfrm>
              <a:off x="1447920" y="3124080"/>
              <a:ext cx="4419360" cy="251460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44720" y="3130560"/>
              <a:ext cx="3886200" cy="37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3333cc"/>
                  </a:solidFill>
                  <a:latin typeface="Angsana New"/>
                </a:rPr>
                <a:t>สร้างเขื่อนกักดินถล่ม</a:t>
              </a:r>
              <a:endParaRPr b="0" lang="en-US" sz="4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3333cc"/>
                  </a:solidFill>
                  <a:latin typeface="Angsana New"/>
                </a:rPr>
                <a:t>จำกัดเขตการไหลท่วม</a:t>
              </a:r>
              <a:endParaRPr b="0" lang="en-US" sz="4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3333cc"/>
                  </a:solidFill>
                  <a:latin typeface="Angsana New"/>
                </a:rPr>
                <a:t>ย้ายที่พักอาศัย</a:t>
              </a:r>
              <a:endParaRPr b="0" lang="en-US" sz="4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6680" y="327672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371600" y="380880"/>
            <a:ext cx="7294680" cy="6248520"/>
            <a:chOff x="1371600" y="380880"/>
            <a:chExt cx="7294680" cy="6248520"/>
          </a:xfrm>
        </p:grpSpPr>
        <p:pic>
          <p:nvPicPr>
            <p:cNvPr id="175" name="Case1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4572000" y="380880"/>
              <a:ext cx="4094280" cy="6248520"/>
            </a:xfrm>
            <a:prstGeom prst="rect">
              <a:avLst/>
            </a:prstGeom>
            <a:ln w="44280">
              <a:solidFill>
                <a:srgbClr val="000000"/>
              </a:solidFill>
              <a:miter/>
            </a:ln>
          </p:spPr>
        </p:pic>
        <p:sp>
          <p:nvSpPr>
            <p:cNvPr id="176" name=""/>
            <p:cNvSpPr/>
            <p:nvPr/>
          </p:nvSpPr>
          <p:spPr>
            <a:xfrm>
              <a:off x="1371600" y="533520"/>
              <a:ext cx="2743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KodchiangUPC"/>
                </a:rPr>
                <a:t>Sabo Dam</a:t>
              </a:r>
              <a:endParaRPr b="0" lang="en-US" sz="6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pic>
        <p:nvPicPr>
          <p:cNvPr id="177" name="Case2" descr=""/>
          <p:cNvPicPr/>
          <p:nvPr/>
        </p:nvPicPr>
        <p:blipFill>
          <a:blip r:embed="rId3"/>
          <a:stretch/>
        </p:blipFill>
        <p:spPr>
          <a:xfrm>
            <a:off x="533520" y="2444760"/>
            <a:ext cx="5638680" cy="3722760"/>
          </a:xfrm>
          <a:prstGeom prst="rect">
            <a:avLst/>
          </a:prstGeom>
          <a:ln w="44280">
            <a:solidFill>
              <a:srgbClr val="ffff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6400800" y="2819520"/>
            <a:ext cx="609480" cy="60948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657600" y="3124080"/>
            <a:ext cx="4800600" cy="914400"/>
            <a:chOff x="3657600" y="3124080"/>
            <a:chExt cx="4800600" cy="914400"/>
          </a:xfrm>
        </p:grpSpPr>
        <p:grpSp>
          <p:nvGrpSpPr>
            <p:cNvPr id="180" name=""/>
            <p:cNvGrpSpPr/>
            <p:nvPr/>
          </p:nvGrpSpPr>
          <p:grpSpPr>
            <a:xfrm>
              <a:off x="4038480" y="3124080"/>
              <a:ext cx="4419720" cy="914400"/>
              <a:chOff x="4038480" y="3124080"/>
              <a:chExt cx="4419720" cy="914400"/>
            </a:xfrm>
          </p:grpSpPr>
          <p:sp>
            <p:nvSpPr>
              <p:cNvPr id="181" name=""/>
              <p:cNvSpPr/>
              <p:nvPr/>
            </p:nvSpPr>
            <p:spPr>
              <a:xfrm>
                <a:off x="4038480" y="3124080"/>
                <a:ext cx="441972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72000" y="3184560"/>
                <a:ext cx="304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4000" spc="-1" strike="noStrike">
                    <a:solidFill>
                      <a:srgbClr val="3333cc"/>
                    </a:solidFill>
                    <a:latin typeface="Angsana New"/>
                  </a:rPr>
                  <a:t>ฟื้นฟูสภาพป่า</a:t>
                </a:r>
                <a:endParaRPr b="0" lang="en-US" sz="4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657600" y="3317760"/>
              <a:ext cx="838080" cy="5335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KodchiangUPC"/>
              </a:rPr>
              <a:t>แนวทางการป้องกันและแก้ไข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130480"/>
            <a:ext cx="228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ทางกาย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13372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ทางชีว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FiveMain2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5943600" cy="3897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" y="2286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KodchiangUPC"/>
              </a:rPr>
              <a:t>การวิเคราะห์เสถียรภาพเมื่อใช้พืชคลุมดิน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523880"/>
            <a:ext cx="335304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Cordia New"/>
                <a:ea typeface="Cordia New"/>
              </a:rPr>
              <a:t>1. </a:t>
            </a:r>
            <a:r>
              <a:rPr b="1" lang="th-TH" sz="2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พิ่ม</a:t>
            </a:r>
            <a:r>
              <a:rPr b="1" lang="en-US" sz="2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rdia New"/>
                <a:ea typeface="Cordia New"/>
              </a:rPr>
              <a:t>Soil cohesion</a:t>
            </a:r>
            <a:r>
              <a:rPr b="1" lang="th-TH" sz="2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th-TH" sz="2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นื่องจากการประสานกันของรากพืชกับดิน </a:t>
            </a:r>
            <a:r>
              <a:rPr b="1" lang="en-US" sz="2600" spc="-1" strike="noStrike">
                <a:solidFill>
                  <a:srgbClr val="000000"/>
                </a:solidFill>
                <a:latin typeface="Cordia New"/>
                <a:ea typeface="Cordia New"/>
              </a:rPr>
              <a:t>; </a:t>
            </a:r>
            <a:r>
              <a:rPr b="1" lang="en-US" sz="2600" spc="-1" strike="noStrike">
                <a:solidFill>
                  <a:srgbClr val="990000"/>
                </a:solidFill>
                <a:latin typeface="Cordia New"/>
                <a:ea typeface="Cordia New"/>
              </a:rPr>
              <a:t>C</a:t>
            </a:r>
            <a:r>
              <a:rPr b="1" lang="en-US" sz="2600" spc="-1" strike="noStrike" baseline="30000">
                <a:solidFill>
                  <a:srgbClr val="990000"/>
                </a:solidFill>
                <a:latin typeface="Cordia New"/>
              </a:rPr>
              <a:t>’</a:t>
            </a:r>
            <a:r>
              <a:rPr b="1" lang="en-US" sz="2600" spc="-1" strike="noStrike" baseline="-25000">
                <a:solidFill>
                  <a:srgbClr val="990000"/>
                </a:solidFill>
                <a:latin typeface="Cordia New"/>
                <a:ea typeface="Cordia New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3581280"/>
            <a:ext cx="167616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2. </a:t>
            </a:r>
            <a:r>
              <a:rPr b="1" lang="th-TH" sz="2600" spc="-1" strike="noStrike">
                <a:solidFill>
                  <a:srgbClr val="000000"/>
                </a:solidFill>
                <a:latin typeface="AngsanaUPC"/>
                <a:cs typeface="Cordia New"/>
              </a:rPr>
              <a:t>การเพิ่ม</a:t>
            </a:r>
            <a:r>
              <a:rPr b="1" lang="en-US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Soil cohesion</a:t>
            </a:r>
            <a:r>
              <a:rPr b="1" lang="th-TH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 </a:t>
            </a:r>
            <a:r>
              <a:rPr b="1" lang="th-TH" sz="2600" spc="-1" strike="noStrike">
                <a:solidFill>
                  <a:srgbClr val="000000"/>
                </a:solidFill>
                <a:latin typeface="AngsanaUPC"/>
                <a:cs typeface="Cordia New"/>
              </a:rPr>
              <a:t>เนื่องจากการดูดน้ำของพืช </a:t>
            </a:r>
            <a:r>
              <a:rPr b="1" lang="en-US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; </a:t>
            </a:r>
            <a:r>
              <a:rPr b="1" lang="en-US" sz="2600" spc="-1" strike="noStrike">
                <a:solidFill>
                  <a:srgbClr val="990000"/>
                </a:solidFill>
                <a:latin typeface="AngsanaUPC"/>
                <a:ea typeface="Cordia New"/>
              </a:rPr>
              <a:t>C</a:t>
            </a:r>
            <a:r>
              <a:rPr b="1" lang="en-US" sz="2600" spc="-1" strike="noStrike" baseline="30000">
                <a:solidFill>
                  <a:srgbClr val="990000"/>
                </a:solidFill>
                <a:latin typeface="Angsana New"/>
              </a:rPr>
              <a:t>’</a:t>
            </a:r>
            <a:r>
              <a:rPr b="1" lang="en-US" sz="2600" spc="-1" strike="noStrike" baseline="-25000">
                <a:solidFill>
                  <a:srgbClr val="990000"/>
                </a:solidFill>
                <a:latin typeface="AngsanaUPC"/>
                <a:ea typeface="Cordia New"/>
              </a:rPr>
              <a:t>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ngsanaUPC"/>
                <a:ea typeface="Cordia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,    </a:t>
            </a:r>
            <a:r>
              <a:rPr b="1" lang="th-TH" sz="2600" spc="-1" strike="noStrike">
                <a:solidFill>
                  <a:srgbClr val="000000"/>
                </a:solidFill>
                <a:latin typeface="AngsanaUPC"/>
                <a:cs typeface="Cordia New"/>
              </a:rPr>
              <a:t>หรือการลดแรงดันน้ำ </a:t>
            </a:r>
            <a:r>
              <a:rPr b="1" lang="en-US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; </a:t>
            </a:r>
            <a:r>
              <a:rPr b="1" lang="en-US" sz="2600" spc="-1" strike="noStrike">
                <a:solidFill>
                  <a:srgbClr val="990000"/>
                </a:solidFill>
                <a:latin typeface="AngsanaUPC"/>
                <a:ea typeface="Cordia New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5454720"/>
            <a:ext cx="29718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3. </a:t>
            </a:r>
            <a:r>
              <a:rPr b="1" lang="th-TH" sz="2600" spc="-1" strike="noStrike">
                <a:solidFill>
                  <a:srgbClr val="000000"/>
                </a:solidFill>
                <a:latin typeface="AngsanaUPC"/>
                <a:cs typeface="Cordia New"/>
              </a:rPr>
              <a:t>น้ำหนักที่เพิ่มขึ้นเนื่องจากน้ำหนักพืชคลุมดิน </a:t>
            </a:r>
            <a:r>
              <a:rPr b="1" lang="en-US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; </a:t>
            </a:r>
            <a:r>
              <a:rPr b="1" lang="en-US" sz="2600" spc="-1" strike="noStrike">
                <a:solidFill>
                  <a:srgbClr val="990000"/>
                </a:solidFill>
                <a:latin typeface="AngsanaUPC"/>
                <a:ea typeface="Cordia New"/>
              </a:rPr>
              <a:t>S</a:t>
            </a:r>
            <a:r>
              <a:rPr b="1" lang="en-US" sz="2600" spc="-1" strike="noStrike" baseline="-25000">
                <a:solidFill>
                  <a:srgbClr val="990000"/>
                </a:solidFill>
                <a:latin typeface="AngsanaUPC"/>
                <a:ea typeface="Cordia New"/>
              </a:rPr>
              <a:t>W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4648320"/>
            <a:ext cx="2438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4. </a:t>
            </a:r>
            <a:r>
              <a:rPr b="1" lang="th-TH" sz="2600" spc="-1" strike="noStrike">
                <a:solidFill>
                  <a:srgbClr val="000000"/>
                </a:solidFill>
                <a:latin typeface="AngsanaUPC"/>
                <a:cs typeface="Cordia New"/>
              </a:rPr>
              <a:t>แรงกระทำจากลมที่พัดปะทะกับต้นไม้ในทิศทางขนานกับลาดดิน </a:t>
            </a:r>
            <a:r>
              <a:rPr b="1" lang="en-US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; </a:t>
            </a:r>
            <a:r>
              <a:rPr b="1" lang="en-US" sz="2600" spc="-1" strike="noStrike">
                <a:solidFill>
                  <a:srgbClr val="990000"/>
                </a:solidFill>
                <a:latin typeface="AngsanaUPC"/>
                <a:ea typeface="Cordia New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7340760" y="1523880"/>
            <a:ext cx="1676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5. </a:t>
            </a:r>
            <a:r>
              <a:rPr b="1" lang="th-TH" sz="2600" spc="-1" strike="noStrike">
                <a:solidFill>
                  <a:srgbClr val="000000"/>
                </a:solidFill>
                <a:latin typeface="AngsanaUPC"/>
                <a:cs typeface="Cordia New"/>
              </a:rPr>
              <a:t>การเพิ่มขึ้นของแรงต้านเนื่องจากรากไม้ที่อยู่ระหว่างผิวการเคลื่อนพัง </a:t>
            </a:r>
            <a:r>
              <a:rPr b="1" lang="en-US" sz="2600" spc="-1" strike="noStrike">
                <a:solidFill>
                  <a:srgbClr val="000000"/>
                </a:solidFill>
                <a:latin typeface="AngsanaUPC"/>
                <a:ea typeface="Cordia New"/>
              </a:rPr>
              <a:t>; </a:t>
            </a:r>
            <a:r>
              <a:rPr b="1" lang="en-US" sz="2600" spc="-1" strike="noStrike">
                <a:solidFill>
                  <a:srgbClr val="990000"/>
                </a:solidFill>
                <a:latin typeface="AngsanaUPC"/>
                <a:ea typeface="Cordia New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1727280"/>
            <a:ext cx="495360" cy="7873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 rot="19779600">
            <a:off x="2209680" y="4419360"/>
            <a:ext cx="198144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971800"/>
            <a:ext cx="1600200" cy="91440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1447920"/>
            <a:ext cx="1523880" cy="2514600"/>
          </a:xfrm>
          <a:prstGeom prst="ellipse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3886200"/>
            <a:ext cx="1295640" cy="685800"/>
          </a:xfrm>
          <a:prstGeom prst="ellipse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523880" y="3124080"/>
            <a:ext cx="6933960" cy="3319200"/>
            <a:chOff x="1523880" y="3124080"/>
            <a:chExt cx="6933960" cy="3319200"/>
          </a:xfrm>
        </p:grpSpPr>
        <p:grpSp>
          <p:nvGrpSpPr>
            <p:cNvPr id="201" name=""/>
            <p:cNvGrpSpPr/>
            <p:nvPr/>
          </p:nvGrpSpPr>
          <p:grpSpPr>
            <a:xfrm>
              <a:off x="1523880" y="3124080"/>
              <a:ext cx="6521400" cy="3319200"/>
              <a:chOff x="1523880" y="3124080"/>
              <a:chExt cx="6521400" cy="3319200"/>
            </a:xfrm>
          </p:grpSpPr>
          <p:sp>
            <p:nvSpPr>
              <p:cNvPr id="202" name=""/>
              <p:cNvSpPr/>
              <p:nvPr/>
            </p:nvSpPr>
            <p:spPr>
              <a:xfrm>
                <a:off x="1523880" y="3124080"/>
                <a:ext cx="6497640" cy="2895480"/>
              </a:xfrm>
              <a:prstGeom prst="roundRect">
                <a:avLst>
                  <a:gd name="adj" fmla="val 16667"/>
                </a:avLst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28440" y="3276360"/>
                <a:ext cx="6216840" cy="31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4000" spc="-1" strike="noStrike">
                    <a:solidFill>
                      <a:srgbClr val="3333cc"/>
                    </a:solidFill>
                    <a:latin typeface="Angsana New"/>
                  </a:rPr>
                  <a:t>กำหนดพื้นที่เสี่ยงภัย</a:t>
                </a:r>
                <a:endParaRPr b="0" lang="en-US" sz="40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4000" spc="-1" strike="noStrike">
                    <a:solidFill>
                      <a:srgbClr val="3333cc"/>
                    </a:solidFill>
                    <a:latin typeface="Angsana New"/>
                  </a:rPr>
                  <a:t>กำหนดระบบเตือนภัย</a:t>
                </a:r>
                <a:endParaRPr b="0" lang="en-US" sz="40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4000" spc="-1" strike="noStrike">
                    <a:solidFill>
                      <a:srgbClr val="3333cc"/>
                    </a:solidFill>
                    <a:latin typeface="Angsana New"/>
                  </a:rPr>
                  <a:t>ให้ความรู้และทำความเข้าใจกับประชาชน</a:t>
                </a:r>
                <a:endParaRPr b="0" lang="en-US" sz="4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flipH="1">
              <a:off x="7619760" y="3428640"/>
              <a:ext cx="838080" cy="53352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KodchiangUPC"/>
              </a:rPr>
              <a:t>แนวทางการป้องกันและแก้ไข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2130480"/>
            <a:ext cx="228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ทางกาย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213372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ทางชีว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213372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ทางสังคม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odchiangUPC"/>
              </a:rPr>
              <a:t>Hazard Zoning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86200" y="-228600"/>
            <a:ext cx="5060880" cy="7086600"/>
            <a:chOff x="3886200" y="-228600"/>
            <a:chExt cx="5060880" cy="7086600"/>
          </a:xfrm>
        </p:grpSpPr>
        <p:pic>
          <p:nvPicPr>
            <p:cNvPr id="211" name="hazard" descr=""/>
            <p:cNvPicPr/>
            <p:nvPr/>
          </p:nvPicPr>
          <p:blipFill>
            <a:blip r:embed="rId2"/>
            <a:stretch/>
          </p:blipFill>
          <p:spPr>
            <a:xfrm>
              <a:off x="3886200" y="-228600"/>
              <a:ext cx="506088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flipH="1">
              <a:off x="5431320" y="1649880"/>
              <a:ext cx="138240" cy="250200"/>
            </a:xfrm>
            <a:prstGeom prst="line">
              <a:avLst/>
            </a:prstGeom>
            <a:ln w="241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12480" y="1659240"/>
              <a:ext cx="138240" cy="250200"/>
            </a:xfrm>
            <a:prstGeom prst="line">
              <a:avLst/>
            </a:prstGeom>
            <a:ln w="241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64720" y="1589400"/>
              <a:ext cx="138600" cy="250200"/>
            </a:xfrm>
            <a:prstGeom prst="line">
              <a:avLst/>
            </a:prstGeom>
            <a:ln w="241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9600" y="1653120"/>
              <a:ext cx="138600" cy="250200"/>
            </a:xfrm>
            <a:prstGeom prst="line">
              <a:avLst/>
            </a:prstGeom>
            <a:ln w="241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4480" y="1653120"/>
              <a:ext cx="138240" cy="250200"/>
            </a:xfrm>
            <a:prstGeom prst="line">
              <a:avLst/>
            </a:prstGeom>
            <a:ln w="241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09480" y="1447920"/>
            <a:ext cx="35053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ngsana New"/>
              </a:rPr>
              <a:t>Input Data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ngsana New"/>
              </a:rPr>
              <a:t>Source data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447920"/>
            <a:ext cx="3962520" cy="61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6600"/>
                </a:solidFill>
                <a:latin typeface="Angsana New"/>
              </a:rPr>
              <a:t>GIS Data Bas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66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Digitized data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Controlling factors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006600"/>
                </a:solidFill>
                <a:latin typeface="Angsana New"/>
              </a:rPr>
              <a:t>Weight image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432080"/>
            <a:ext cx="259092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ngsana New"/>
              </a:rPr>
              <a:t>Output Data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ngsana New"/>
              </a:rPr>
              <a:t>	</a:t>
            </a:r>
            <a:r>
              <a:rPr b="1" lang="en-US" sz="3600" spc="-1" strike="noStrike">
                <a:solidFill>
                  <a:srgbClr val="ff33cc"/>
                </a:solidFill>
                <a:latin typeface="Angsana New"/>
              </a:rPr>
              <a:t>Result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>
            <a:off x="4062240" y="304920"/>
            <a:ext cx="472464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1523880"/>
            <a:ext cx="472464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181480"/>
            <a:ext cx="472464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KodchiangUPC"/>
              </a:rPr>
              <a:t>อิทธิพลของน้ำฝนต่อการพังทลายของลาดดิ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599480" y="1371600"/>
            <a:ext cx="6782400" cy="5747040"/>
            <a:chOff x="1599480" y="1371600"/>
            <a:chExt cx="6782400" cy="5747040"/>
          </a:xfrm>
        </p:grpSpPr>
        <p:grpSp>
          <p:nvGrpSpPr>
            <p:cNvPr id="225" name=""/>
            <p:cNvGrpSpPr/>
            <p:nvPr/>
          </p:nvGrpSpPr>
          <p:grpSpPr>
            <a:xfrm>
              <a:off x="1599480" y="1371600"/>
              <a:ext cx="6782400" cy="5747040"/>
              <a:chOff x="1599480" y="1371600"/>
              <a:chExt cx="6782400" cy="5747040"/>
            </a:xfrm>
          </p:grpSpPr>
          <p:pic>
            <p:nvPicPr>
              <p:cNvPr id="226" name="Risk_Chart" descr=""/>
              <p:cNvPicPr/>
              <p:nvPr/>
            </p:nvPicPr>
            <p:blipFill>
              <a:blip r:embed="rId2"/>
              <a:stretch/>
            </p:blipFill>
            <p:spPr>
              <a:xfrm>
                <a:off x="2133720" y="1371600"/>
                <a:ext cx="6248160" cy="511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3048120" y="6049800"/>
                <a:ext cx="4572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ngsana New"/>
                  </a:rPr>
                  <a:t>Antecedent daily rainfall index : mm</a:t>
                </a:r>
                <a:endParaRPr b="0" lang="en-US" sz="32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rot="10800000">
                <a:off x="1599120" y="2439360"/>
                <a:ext cx="1642680" cy="24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ngsana New"/>
                  </a:rPr>
                  <a:t>Daily rainfall : mm</a:t>
                </a:r>
                <a:endParaRPr b="0" lang="en-US" sz="32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666880" y="1600200"/>
                <a:ext cx="5410440" cy="4190760"/>
              </a:xfrm>
              <a:custGeom>
                <a:avLst/>
                <a:gdLst/>
                <a:ahLst/>
                <a:rect l="l" t="t" r="r" b="b"/>
                <a:pathLst>
                  <a:path w="3456" h="2640">
                    <a:moveTo>
                      <a:pt x="0" y="0"/>
                    </a:moveTo>
                    <a:lnTo>
                      <a:pt x="0" y="624"/>
                    </a:lnTo>
                    <a:lnTo>
                      <a:pt x="3216" y="2640"/>
                    </a:lnTo>
                    <a:lnTo>
                      <a:pt x="3456" y="2640"/>
                    </a:lnTo>
                    <a:lnTo>
                      <a:pt x="34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590920" y="3774960"/>
              <a:ext cx="2801880" cy="2367720"/>
              <a:chOff x="2590920" y="3774960"/>
              <a:chExt cx="2801880" cy="236772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3259080" y="3774960"/>
                <a:ext cx="2133720" cy="1380240"/>
                <a:chOff x="3259080" y="3774960"/>
                <a:chExt cx="2133720" cy="13802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259080" y="3774960"/>
                  <a:ext cx="167652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ngsana New"/>
                    </a:rPr>
                    <a:t>Zone II : Low risk of</a:t>
                  </a: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021200" y="4208040"/>
                  <a:ext cx="13716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ngsana New"/>
                    </a:rPr>
                    <a:t>landsliding</a:t>
                  </a: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590920" y="4814640"/>
                <a:ext cx="2057400" cy="1328040"/>
                <a:chOff x="2590920" y="4814640"/>
                <a:chExt cx="2057400" cy="13280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590920" y="4814640"/>
                  <a:ext cx="12952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ngsana New"/>
                    </a:rPr>
                    <a:t>Zone III :</a:t>
                  </a: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590920" y="5195520"/>
                  <a:ext cx="20574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ngsana New"/>
                    </a:rPr>
                    <a:t>Virtually zero risk</a:t>
                  </a: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4800600" y="2286000"/>
              <a:ext cx="2971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Zone I : High risk of landsliding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251160" y="3774960"/>
            <a:ext cx="2133720" cy="1380600"/>
            <a:chOff x="3251160" y="3774960"/>
            <a:chExt cx="2133720" cy="1380600"/>
          </a:xfrm>
        </p:grpSpPr>
        <p:sp>
          <p:nvSpPr>
            <p:cNvPr id="239" name=""/>
            <p:cNvSpPr/>
            <p:nvPr/>
          </p:nvSpPr>
          <p:spPr>
            <a:xfrm>
              <a:off x="3251160" y="377496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ddddd"/>
                  </a:solidFill>
                  <a:latin typeface="Angsana New"/>
                </a:rPr>
                <a:t>Zone II : Low risk of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13280" y="4208400"/>
              <a:ext cx="1371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ddddd"/>
                  </a:solidFill>
                  <a:latin typeface="Angsana New"/>
                </a:rPr>
                <a:t>landsliding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583000" y="4815000"/>
            <a:ext cx="2057400" cy="1328040"/>
            <a:chOff x="2583000" y="4815000"/>
            <a:chExt cx="2057400" cy="1328040"/>
          </a:xfrm>
        </p:grpSpPr>
        <p:sp>
          <p:nvSpPr>
            <p:cNvPr id="242" name=""/>
            <p:cNvSpPr/>
            <p:nvPr/>
          </p:nvSpPr>
          <p:spPr>
            <a:xfrm>
              <a:off x="2583000" y="4815000"/>
              <a:ext cx="12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ddddd"/>
                  </a:solidFill>
                  <a:latin typeface="Angsana New"/>
                </a:rPr>
                <a:t>Zone III :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83000" y="519588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ddddd"/>
                  </a:solidFill>
                  <a:latin typeface="Angsana New"/>
                </a:rPr>
                <a:t>Virtually zero risk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603520" y="3581280"/>
            <a:ext cx="1587600" cy="1600200"/>
            <a:chOff x="2603520" y="3581280"/>
            <a:chExt cx="1587600" cy="1600200"/>
          </a:xfrm>
        </p:grpSpPr>
        <p:sp>
          <p:nvSpPr>
            <p:cNvPr id="245" name=""/>
            <p:cNvSpPr/>
            <p:nvPr/>
          </p:nvSpPr>
          <p:spPr>
            <a:xfrm>
              <a:off x="3962520" y="35812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03520" y="3695760"/>
              <a:ext cx="13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076640" y="38098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90920" y="5181480"/>
            <a:ext cx="1600200" cy="609480"/>
            <a:chOff x="2590920" y="5181480"/>
            <a:chExt cx="1600200" cy="609480"/>
          </a:xfrm>
        </p:grpSpPr>
        <p:sp>
          <p:nvSpPr>
            <p:cNvPr id="249" name=""/>
            <p:cNvSpPr/>
            <p:nvPr/>
          </p:nvSpPr>
          <p:spPr>
            <a:xfrm>
              <a:off x="3962520" y="5181480"/>
              <a:ext cx="228600" cy="228600"/>
            </a:xfrm>
            <a:prstGeom prst="ellips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0920" y="528336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076640" y="54097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603520" y="2438280"/>
            <a:ext cx="1587600" cy="1143000"/>
            <a:chOff x="2603520" y="2438280"/>
            <a:chExt cx="1587600" cy="1143000"/>
          </a:xfrm>
        </p:grpSpPr>
        <p:sp>
          <p:nvSpPr>
            <p:cNvPr id="253" name=""/>
            <p:cNvSpPr/>
            <p:nvPr/>
          </p:nvSpPr>
          <p:spPr>
            <a:xfrm>
              <a:off x="3962520" y="2438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03520" y="2552760"/>
              <a:ext cx="13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76640" y="2666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800600" y="22860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ngsana New"/>
              </a:rPr>
              <a:t>Zone I : High risk of landsliding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1016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รณีของคาบสมุทร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Otago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ะเทศนิวซีแลนด์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838080" y="3124080"/>
            <a:ext cx="7391520" cy="4056480"/>
            <a:chOff x="838080" y="3124080"/>
            <a:chExt cx="7391520" cy="4056480"/>
          </a:xfrm>
        </p:grpSpPr>
        <p:sp>
          <p:nvSpPr>
            <p:cNvPr id="259" name=""/>
            <p:cNvSpPr/>
            <p:nvPr/>
          </p:nvSpPr>
          <p:spPr>
            <a:xfrm>
              <a:off x="2438280" y="5257800"/>
              <a:ext cx="4648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6000" spc="-1" strike="noStrike">
                  <a:solidFill>
                    <a:srgbClr val="008000"/>
                  </a:solidFill>
                  <a:latin typeface="Angsana New"/>
                </a:rPr>
                <a:t>แนวทางแก้ไขที่ยั่งยืน</a:t>
              </a:r>
              <a:endParaRPr b="0" lang="en-US" sz="6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3466800" y="495000"/>
              <a:ext cx="2133720" cy="7391520"/>
            </a:xfrm>
            <a:custGeom>
              <a:avLst/>
              <a:gdLst>
                <a:gd name="textAreaLeft" fmla="*/ 333360 w 2133720"/>
                <a:gd name="textAreaRight" fmla="*/ 1867320 w 2133720"/>
                <a:gd name="textAreaTop" fmla="*/ 1847880 h 7391520"/>
                <a:gd name="textAreaBottom" fmla="*/ 5543640 h 739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KodchiangUPC"/>
              </a:rPr>
              <a:t>แนวทางการป้องกันและแก้ไข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2130480"/>
            <a:ext cx="228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ทางกาย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213372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ทางชีว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213372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ทางสังคม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KodchiangUPC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KodchiangUPC"/>
              </a:rPr>
              <a:t>OURSES</a:t>
            </a:r>
            <a:r>
              <a:rPr b="0" lang="th-TH" sz="6000" spc="-1" strike="noStrike">
                <a:solidFill>
                  <a:srgbClr val="000000"/>
                </a:solidFill>
                <a:latin typeface="KodchiangUPC"/>
              </a:rPr>
              <a:t> OF </a:t>
            </a:r>
            <a:r>
              <a:rPr b="0" lang="en-US" sz="6000" spc="-1" strike="noStrike">
                <a:solidFill>
                  <a:srgbClr val="000000"/>
                </a:solidFill>
                <a:latin typeface="KodchiangUPC"/>
              </a:rPr>
              <a:t>DE</a:t>
            </a:r>
            <a:r>
              <a:rPr b="0" lang="th-TH" sz="6000" spc="-1" strike="noStrike">
                <a:solidFill>
                  <a:srgbClr val="000000"/>
                </a:solidFill>
                <a:latin typeface="KodchiangUPC"/>
              </a:rPr>
              <a:t>BRIS SLIDE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48420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3399"/>
                </a:solidFill>
                <a:latin typeface="Angsana New"/>
              </a:rPr>
              <a:t>สาเหตุจากมนุษย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2743200"/>
            <a:ext cx="4191120" cy="7642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ลักษณะชั้นดิ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3443400"/>
            <a:ext cx="4191120" cy="1434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ความลาดชันของลาดดิ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4191120"/>
            <a:ext cx="4191120" cy="7642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ปริมาณฝนตก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5562720"/>
            <a:ext cx="4191120" cy="1434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ตัดไม้ทำลายป่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971800"/>
            <a:ext cx="4800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3399"/>
                </a:solidFill>
                <a:latin typeface="Angsana New"/>
              </a:rPr>
              <a:t>สาเหตุจากมนุษย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2057400"/>
            <a:ext cx="385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3399"/>
                </a:solidFill>
                <a:latin typeface="Angsana New"/>
              </a:rPr>
              <a:t>สาเหตุจากธรรมชาติ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หล่มสัก+sha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6543720" y="4127400"/>
            <a:ext cx="1490760" cy="1396800"/>
            <a:chOff x="6543720" y="4127400"/>
            <a:chExt cx="1490760" cy="1396800"/>
          </a:xfrm>
        </p:grpSpPr>
        <p:sp>
          <p:nvSpPr>
            <p:cNvPr id="267" name=""/>
            <p:cNvSpPr/>
            <p:nvPr/>
          </p:nvSpPr>
          <p:spPr>
            <a:xfrm>
              <a:off x="6543720" y="4127400"/>
              <a:ext cx="1490760" cy="139680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72960" y="4359960"/>
              <a:ext cx="1166760" cy="931320"/>
            </a:xfrm>
            <a:prstGeom prst="irregularSeal2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67720" y="4592880"/>
              <a:ext cx="777600" cy="5428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V="1" rot="1706400">
            <a:off x="2335320" y="1551600"/>
            <a:ext cx="4647960" cy="2743560"/>
          </a:xfrm>
          <a:custGeom>
            <a:avLst/>
            <a:gdLst>
              <a:gd name="textAreaLeft" fmla="*/ 0 w 4647960"/>
              <a:gd name="textAreaRight" fmla="*/ 4648320 w 4647960"/>
              <a:gd name="textAreaTop" fmla="*/ -360 h 2743560"/>
              <a:gd name="textAreaBottom" fmla="*/ 2743560 h 2743560"/>
            </a:gdLst>
            <a:ahLst/>
            <a:rect l="textAreaLeft" t="textAreaTop" r="textAreaRight" b="textAreaBottom"/>
            <a:pathLst>
              <a:path w="21600" h="21600">
                <a:moveTo>
                  <a:pt x="10924" y="18513"/>
                </a:moveTo>
                <a:arcTo wR="-7714" hR="-7714" stAng="5344743" swAng="-2827016"/>
                <a:lnTo>
                  <a:pt x="2769" y="3579"/>
                </a:lnTo>
                <a:arcTo wR="10800" hR="10800" stAng="-8282272" swAng="2827016"/>
                <a:lnTo>
                  <a:pt x="10583" y="-2698"/>
                </a:lnTo>
                <a:lnTo>
                  <a:pt x="14894" y="1476"/>
                </a:lnTo>
                <a:lnTo>
                  <a:pt x="10719" y="578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010280" y="4038480"/>
            <a:ext cx="1676520" cy="2133720"/>
            <a:chOff x="7010280" y="4038480"/>
            <a:chExt cx="1676520" cy="2133720"/>
          </a:xfrm>
        </p:grpSpPr>
        <p:sp>
          <p:nvSpPr>
            <p:cNvPr id="272" name=""/>
            <p:cNvSpPr/>
            <p:nvPr/>
          </p:nvSpPr>
          <p:spPr>
            <a:xfrm>
              <a:off x="7086600" y="4724280"/>
              <a:ext cx="304920" cy="304920"/>
            </a:xfrm>
            <a:custGeom>
              <a:avLst/>
              <a:gdLst>
                <a:gd name="textAreaLeft" fmla="*/ 28440 w 304920"/>
                <a:gd name="textAreaRight" fmla="*/ 276480 w 304920"/>
                <a:gd name="textAreaTop" fmla="*/ 28440 h 304920"/>
                <a:gd name="textAreaBottom" fmla="*/ 276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025"/>
                  </a:lnTo>
                  <a:lnTo>
                    <a:pt x="2025" y="2025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19575" y="19575"/>
                  </a:lnTo>
                  <a:lnTo>
                    <a:pt x="19575" y="2025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575" y="19575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600" h="21600">
                  <a:moveTo>
                    <a:pt x="10800" y="4300"/>
                  </a:moveTo>
                  <a:lnTo>
                    <a:pt x="13205" y="6738"/>
                  </a:lnTo>
                  <a:lnTo>
                    <a:pt x="13205" y="5113"/>
                  </a:lnTo>
                  <a:lnTo>
                    <a:pt x="14863" y="5113"/>
                  </a:lnTo>
                  <a:lnTo>
                    <a:pt x="14863" y="8395"/>
                  </a:lnTo>
                  <a:lnTo>
                    <a:pt x="17300" y="10800"/>
                  </a:lnTo>
                  <a:lnTo>
                    <a:pt x="15756" y="10800"/>
                  </a:lnTo>
                  <a:lnTo>
                    <a:pt x="15756" y="17511"/>
                  </a:lnTo>
                  <a:lnTo>
                    <a:pt x="5844" y="17511"/>
                  </a:lnTo>
                  <a:lnTo>
                    <a:pt x="5844" y="10800"/>
                  </a:lnTo>
                  <a:lnTo>
                    <a:pt x="4300" y="10800"/>
                  </a:lnTo>
                  <a:close/>
                </a:path>
                <a:path fill="darkenLess" w="21600" h="21600">
                  <a:moveTo>
                    <a:pt x="13205" y="6738"/>
                  </a:moveTo>
                  <a:lnTo>
                    <a:pt x="13205" y="5113"/>
                  </a:lnTo>
                  <a:lnTo>
                    <a:pt x="14863" y="5113"/>
                  </a:lnTo>
                  <a:lnTo>
                    <a:pt x="14863" y="8395"/>
                  </a:lnTo>
                  <a:close/>
                </a:path>
                <a:path fill="darkenLess" w="21600" h="21600">
                  <a:moveTo>
                    <a:pt x="9939" y="14066"/>
                  </a:moveTo>
                  <a:lnTo>
                    <a:pt x="11661" y="14066"/>
                  </a:lnTo>
                  <a:lnTo>
                    <a:pt x="11661" y="17511"/>
                  </a:lnTo>
                  <a:lnTo>
                    <a:pt x="15756" y="17511"/>
                  </a:lnTo>
                  <a:lnTo>
                    <a:pt x="15756" y="10800"/>
                  </a:lnTo>
                  <a:lnTo>
                    <a:pt x="5844" y="10800"/>
                  </a:lnTo>
                  <a:lnTo>
                    <a:pt x="5844" y="17511"/>
                  </a:lnTo>
                  <a:lnTo>
                    <a:pt x="9939" y="17511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81880" y="5257800"/>
              <a:ext cx="304920" cy="304920"/>
            </a:xfrm>
            <a:custGeom>
              <a:avLst/>
              <a:gdLst>
                <a:gd name="textAreaLeft" fmla="*/ 28440 w 304920"/>
                <a:gd name="textAreaRight" fmla="*/ 276480 w 304920"/>
                <a:gd name="textAreaTop" fmla="*/ 28440 h 304920"/>
                <a:gd name="textAreaBottom" fmla="*/ 276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025"/>
                  </a:lnTo>
                  <a:lnTo>
                    <a:pt x="2025" y="2025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19575" y="19575"/>
                  </a:lnTo>
                  <a:lnTo>
                    <a:pt x="19575" y="2025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575" y="19575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600" h="21600">
                  <a:moveTo>
                    <a:pt x="10800" y="4300"/>
                  </a:moveTo>
                  <a:lnTo>
                    <a:pt x="13205" y="6738"/>
                  </a:lnTo>
                  <a:lnTo>
                    <a:pt x="13205" y="5113"/>
                  </a:lnTo>
                  <a:lnTo>
                    <a:pt x="14863" y="5113"/>
                  </a:lnTo>
                  <a:lnTo>
                    <a:pt x="14863" y="8395"/>
                  </a:lnTo>
                  <a:lnTo>
                    <a:pt x="17300" y="10800"/>
                  </a:lnTo>
                  <a:lnTo>
                    <a:pt x="15756" y="10800"/>
                  </a:lnTo>
                  <a:lnTo>
                    <a:pt x="15756" y="17511"/>
                  </a:lnTo>
                  <a:lnTo>
                    <a:pt x="5844" y="17511"/>
                  </a:lnTo>
                  <a:lnTo>
                    <a:pt x="5844" y="10800"/>
                  </a:lnTo>
                  <a:lnTo>
                    <a:pt x="4300" y="10800"/>
                  </a:lnTo>
                  <a:close/>
                </a:path>
                <a:path fill="darkenLess" w="21600" h="21600">
                  <a:moveTo>
                    <a:pt x="13205" y="6738"/>
                  </a:moveTo>
                  <a:lnTo>
                    <a:pt x="13205" y="5113"/>
                  </a:lnTo>
                  <a:lnTo>
                    <a:pt x="14863" y="5113"/>
                  </a:lnTo>
                  <a:lnTo>
                    <a:pt x="14863" y="8395"/>
                  </a:lnTo>
                  <a:close/>
                </a:path>
                <a:path fill="darkenLess" w="21600" h="21600">
                  <a:moveTo>
                    <a:pt x="9939" y="14066"/>
                  </a:moveTo>
                  <a:lnTo>
                    <a:pt x="11661" y="14066"/>
                  </a:lnTo>
                  <a:lnTo>
                    <a:pt x="11661" y="17511"/>
                  </a:lnTo>
                  <a:lnTo>
                    <a:pt x="15756" y="17511"/>
                  </a:lnTo>
                  <a:lnTo>
                    <a:pt x="15756" y="10800"/>
                  </a:lnTo>
                  <a:lnTo>
                    <a:pt x="5844" y="10800"/>
                  </a:lnTo>
                  <a:lnTo>
                    <a:pt x="5844" y="17511"/>
                  </a:lnTo>
                  <a:lnTo>
                    <a:pt x="9939" y="17511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96080" y="5105520"/>
              <a:ext cx="304920" cy="304560"/>
            </a:xfrm>
            <a:custGeom>
              <a:avLst/>
              <a:gdLst>
                <a:gd name="textAreaLeft" fmla="*/ 28440 w 304920"/>
                <a:gd name="textAreaRight" fmla="*/ 276480 w 304920"/>
                <a:gd name="textAreaTop" fmla="*/ 28440 h 304560"/>
                <a:gd name="textAreaBottom" fmla="*/ 276120 h 304560"/>
              </a:gdLst>
              <a:ahLst/>
              <a:rect l="textAreaLeft" t="textAreaTop" r="textAreaRight" b="textAreaBottom"/>
              <a:pathLst>
                <a:path w="21626" h="21600">
                  <a:moveTo>
                    <a:pt x="0" y="0"/>
                  </a:moveTo>
                  <a:lnTo>
                    <a:pt x="21626" y="0"/>
                  </a:lnTo>
                  <a:lnTo>
                    <a:pt x="21626" y="21600"/>
                  </a:lnTo>
                  <a:lnTo>
                    <a:pt x="0" y="21600"/>
                  </a:lnTo>
                  <a:close/>
                </a:path>
                <a:path fill="lightenLess" w="21626" h="21600">
                  <a:moveTo>
                    <a:pt x="0" y="0"/>
                  </a:moveTo>
                  <a:lnTo>
                    <a:pt x="21626" y="0"/>
                  </a:lnTo>
                  <a:lnTo>
                    <a:pt x="19601" y="2025"/>
                  </a:lnTo>
                  <a:lnTo>
                    <a:pt x="2025" y="2025"/>
                  </a:lnTo>
                  <a:close/>
                </a:path>
                <a:path fill="darken" w="21626" h="21600">
                  <a:moveTo>
                    <a:pt x="21626" y="0"/>
                  </a:moveTo>
                  <a:lnTo>
                    <a:pt x="21626" y="21600"/>
                  </a:lnTo>
                  <a:lnTo>
                    <a:pt x="19601" y="19575"/>
                  </a:lnTo>
                  <a:lnTo>
                    <a:pt x="19601" y="2025"/>
                  </a:lnTo>
                  <a:close/>
                </a:path>
                <a:path fill="darkenLess" w="21626" h="21600">
                  <a:moveTo>
                    <a:pt x="21626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601" y="19575"/>
                  </a:lnTo>
                  <a:close/>
                </a:path>
                <a:path fill="lighten" w="21626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626" h="21600">
                  <a:moveTo>
                    <a:pt x="10813" y="4300"/>
                  </a:moveTo>
                  <a:lnTo>
                    <a:pt x="13218" y="6738"/>
                  </a:lnTo>
                  <a:lnTo>
                    <a:pt x="13218" y="5113"/>
                  </a:lnTo>
                  <a:lnTo>
                    <a:pt x="14875" y="5113"/>
                  </a:lnTo>
                  <a:lnTo>
                    <a:pt x="14875" y="8395"/>
                  </a:lnTo>
                  <a:lnTo>
                    <a:pt x="17313" y="10800"/>
                  </a:lnTo>
                  <a:lnTo>
                    <a:pt x="15769" y="10800"/>
                  </a:lnTo>
                  <a:lnTo>
                    <a:pt x="15769" y="17511"/>
                  </a:lnTo>
                  <a:lnTo>
                    <a:pt x="5857" y="17511"/>
                  </a:lnTo>
                  <a:lnTo>
                    <a:pt x="5857" y="10800"/>
                  </a:lnTo>
                  <a:lnTo>
                    <a:pt x="4313" y="10800"/>
                  </a:lnTo>
                  <a:close/>
                </a:path>
                <a:path fill="darkenLess" w="21626" h="21600">
                  <a:moveTo>
                    <a:pt x="13218" y="6738"/>
                  </a:moveTo>
                  <a:lnTo>
                    <a:pt x="13218" y="5113"/>
                  </a:lnTo>
                  <a:lnTo>
                    <a:pt x="14875" y="5113"/>
                  </a:lnTo>
                  <a:lnTo>
                    <a:pt x="14875" y="8395"/>
                  </a:lnTo>
                  <a:close/>
                </a:path>
                <a:path fill="darkenLess" w="21626" h="21600">
                  <a:moveTo>
                    <a:pt x="9952" y="14066"/>
                  </a:moveTo>
                  <a:lnTo>
                    <a:pt x="11674" y="14066"/>
                  </a:lnTo>
                  <a:lnTo>
                    <a:pt x="11674" y="17511"/>
                  </a:lnTo>
                  <a:lnTo>
                    <a:pt x="15769" y="17511"/>
                  </a:lnTo>
                  <a:lnTo>
                    <a:pt x="15769" y="10800"/>
                  </a:lnTo>
                  <a:lnTo>
                    <a:pt x="5857" y="10800"/>
                  </a:lnTo>
                  <a:lnTo>
                    <a:pt x="5857" y="17511"/>
                  </a:lnTo>
                  <a:lnTo>
                    <a:pt x="9952" y="17511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20120" y="4038480"/>
              <a:ext cx="304560" cy="304920"/>
            </a:xfrm>
            <a:custGeom>
              <a:avLst/>
              <a:gdLst>
                <a:gd name="textAreaLeft" fmla="*/ 28440 w 304560"/>
                <a:gd name="textAreaRight" fmla="*/ 276120 w 304560"/>
                <a:gd name="textAreaTop" fmla="*/ 28440 h 304920"/>
                <a:gd name="textAreaBottom" fmla="*/ 276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19575" y="2025"/>
                  </a:lnTo>
                  <a:lnTo>
                    <a:pt x="2025" y="2025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19575" y="19601"/>
                  </a:lnTo>
                  <a:lnTo>
                    <a:pt x="19575" y="2025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2025" y="19601"/>
                  </a:lnTo>
                  <a:lnTo>
                    <a:pt x="19575" y="19601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601"/>
                  </a:lnTo>
                  <a:close/>
                </a:path>
                <a:path fill="darken" w="21600" h="21626">
                  <a:moveTo>
                    <a:pt x="10800" y="4313"/>
                  </a:moveTo>
                  <a:lnTo>
                    <a:pt x="13205" y="6750"/>
                  </a:lnTo>
                  <a:lnTo>
                    <a:pt x="13205" y="5125"/>
                  </a:lnTo>
                  <a:lnTo>
                    <a:pt x="14863" y="5125"/>
                  </a:lnTo>
                  <a:lnTo>
                    <a:pt x="14863" y="8408"/>
                  </a:lnTo>
                  <a:lnTo>
                    <a:pt x="17300" y="10813"/>
                  </a:lnTo>
                  <a:lnTo>
                    <a:pt x="15756" y="10813"/>
                  </a:lnTo>
                  <a:lnTo>
                    <a:pt x="15756" y="17524"/>
                  </a:lnTo>
                  <a:lnTo>
                    <a:pt x="5844" y="17524"/>
                  </a:lnTo>
                  <a:lnTo>
                    <a:pt x="5844" y="10813"/>
                  </a:lnTo>
                  <a:lnTo>
                    <a:pt x="4300" y="10813"/>
                  </a:lnTo>
                  <a:close/>
                </a:path>
                <a:path fill="darkenLess" w="21600" h="21626">
                  <a:moveTo>
                    <a:pt x="13205" y="6750"/>
                  </a:moveTo>
                  <a:lnTo>
                    <a:pt x="13205" y="5125"/>
                  </a:lnTo>
                  <a:lnTo>
                    <a:pt x="14863" y="5125"/>
                  </a:lnTo>
                  <a:lnTo>
                    <a:pt x="14863" y="8408"/>
                  </a:lnTo>
                  <a:close/>
                </a:path>
                <a:path fill="darkenLess" w="21600" h="21626">
                  <a:moveTo>
                    <a:pt x="9939" y="14079"/>
                  </a:moveTo>
                  <a:lnTo>
                    <a:pt x="11661" y="14079"/>
                  </a:lnTo>
                  <a:lnTo>
                    <a:pt x="11661" y="17524"/>
                  </a:lnTo>
                  <a:lnTo>
                    <a:pt x="15756" y="17524"/>
                  </a:lnTo>
                  <a:lnTo>
                    <a:pt x="15756" y="10813"/>
                  </a:lnTo>
                  <a:lnTo>
                    <a:pt x="5844" y="10813"/>
                  </a:lnTo>
                  <a:lnTo>
                    <a:pt x="5844" y="17524"/>
                  </a:lnTo>
                  <a:lnTo>
                    <a:pt x="9939" y="17524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05920" y="5867280"/>
              <a:ext cx="304560" cy="304920"/>
            </a:xfrm>
            <a:custGeom>
              <a:avLst/>
              <a:gdLst>
                <a:gd name="textAreaLeft" fmla="*/ 28440 w 304560"/>
                <a:gd name="textAreaRight" fmla="*/ 276120 w 304560"/>
                <a:gd name="textAreaTop" fmla="*/ 28440 h 304920"/>
                <a:gd name="textAreaBottom" fmla="*/ 276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19575" y="2025"/>
                  </a:lnTo>
                  <a:lnTo>
                    <a:pt x="2025" y="2025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19575" y="19601"/>
                  </a:lnTo>
                  <a:lnTo>
                    <a:pt x="19575" y="2025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2025" y="19601"/>
                  </a:lnTo>
                  <a:lnTo>
                    <a:pt x="19575" y="19601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601"/>
                  </a:lnTo>
                  <a:close/>
                </a:path>
                <a:path fill="darken" w="21600" h="21626">
                  <a:moveTo>
                    <a:pt x="10800" y="4313"/>
                  </a:moveTo>
                  <a:lnTo>
                    <a:pt x="13205" y="6750"/>
                  </a:lnTo>
                  <a:lnTo>
                    <a:pt x="13205" y="5125"/>
                  </a:lnTo>
                  <a:lnTo>
                    <a:pt x="14863" y="5125"/>
                  </a:lnTo>
                  <a:lnTo>
                    <a:pt x="14863" y="8408"/>
                  </a:lnTo>
                  <a:lnTo>
                    <a:pt x="17300" y="10813"/>
                  </a:lnTo>
                  <a:lnTo>
                    <a:pt x="15756" y="10813"/>
                  </a:lnTo>
                  <a:lnTo>
                    <a:pt x="15756" y="17524"/>
                  </a:lnTo>
                  <a:lnTo>
                    <a:pt x="5844" y="17524"/>
                  </a:lnTo>
                  <a:lnTo>
                    <a:pt x="5844" y="10813"/>
                  </a:lnTo>
                  <a:lnTo>
                    <a:pt x="4300" y="10813"/>
                  </a:lnTo>
                  <a:close/>
                </a:path>
                <a:path fill="darkenLess" w="21600" h="21626">
                  <a:moveTo>
                    <a:pt x="13205" y="6750"/>
                  </a:moveTo>
                  <a:lnTo>
                    <a:pt x="13205" y="5125"/>
                  </a:lnTo>
                  <a:lnTo>
                    <a:pt x="14863" y="5125"/>
                  </a:lnTo>
                  <a:lnTo>
                    <a:pt x="14863" y="8408"/>
                  </a:lnTo>
                  <a:close/>
                </a:path>
                <a:path fill="darkenLess" w="21600" h="21626">
                  <a:moveTo>
                    <a:pt x="9939" y="14079"/>
                  </a:moveTo>
                  <a:lnTo>
                    <a:pt x="11661" y="14079"/>
                  </a:lnTo>
                  <a:lnTo>
                    <a:pt x="11661" y="17524"/>
                  </a:lnTo>
                  <a:lnTo>
                    <a:pt x="15756" y="17524"/>
                  </a:lnTo>
                  <a:lnTo>
                    <a:pt x="15756" y="10813"/>
                  </a:lnTo>
                  <a:lnTo>
                    <a:pt x="5844" y="10813"/>
                  </a:lnTo>
                  <a:lnTo>
                    <a:pt x="5844" y="17524"/>
                  </a:lnTo>
                  <a:lnTo>
                    <a:pt x="9939" y="17524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10280" y="5791320"/>
              <a:ext cx="304920" cy="304560"/>
            </a:xfrm>
            <a:custGeom>
              <a:avLst/>
              <a:gdLst>
                <a:gd name="textAreaLeft" fmla="*/ 28440 w 304920"/>
                <a:gd name="textAreaRight" fmla="*/ 276480 w 304920"/>
                <a:gd name="textAreaTop" fmla="*/ 28440 h 304560"/>
                <a:gd name="textAreaBottom" fmla="*/ 276120 h 304560"/>
              </a:gdLst>
              <a:ahLst/>
              <a:rect l="textAreaLeft" t="textAreaTop" r="textAreaRight" b="textAreaBottom"/>
              <a:pathLst>
                <a:path w="21626" h="21600">
                  <a:moveTo>
                    <a:pt x="0" y="0"/>
                  </a:moveTo>
                  <a:lnTo>
                    <a:pt x="21626" y="0"/>
                  </a:lnTo>
                  <a:lnTo>
                    <a:pt x="21626" y="21600"/>
                  </a:lnTo>
                  <a:lnTo>
                    <a:pt x="0" y="21600"/>
                  </a:lnTo>
                  <a:close/>
                </a:path>
                <a:path fill="lightenLess" w="21626" h="21600">
                  <a:moveTo>
                    <a:pt x="0" y="0"/>
                  </a:moveTo>
                  <a:lnTo>
                    <a:pt x="21626" y="0"/>
                  </a:lnTo>
                  <a:lnTo>
                    <a:pt x="19601" y="2025"/>
                  </a:lnTo>
                  <a:lnTo>
                    <a:pt x="2025" y="2025"/>
                  </a:lnTo>
                  <a:close/>
                </a:path>
                <a:path fill="darken" w="21626" h="21600">
                  <a:moveTo>
                    <a:pt x="21626" y="0"/>
                  </a:moveTo>
                  <a:lnTo>
                    <a:pt x="21626" y="21600"/>
                  </a:lnTo>
                  <a:lnTo>
                    <a:pt x="19601" y="19575"/>
                  </a:lnTo>
                  <a:lnTo>
                    <a:pt x="19601" y="2025"/>
                  </a:lnTo>
                  <a:close/>
                </a:path>
                <a:path fill="darkenLess" w="21626" h="21600">
                  <a:moveTo>
                    <a:pt x="21626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601" y="19575"/>
                  </a:lnTo>
                  <a:close/>
                </a:path>
                <a:path fill="lighten" w="21626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626" h="21600">
                  <a:moveTo>
                    <a:pt x="10813" y="4300"/>
                  </a:moveTo>
                  <a:lnTo>
                    <a:pt x="13218" y="6738"/>
                  </a:lnTo>
                  <a:lnTo>
                    <a:pt x="13218" y="5113"/>
                  </a:lnTo>
                  <a:lnTo>
                    <a:pt x="14875" y="5113"/>
                  </a:lnTo>
                  <a:lnTo>
                    <a:pt x="14875" y="8395"/>
                  </a:lnTo>
                  <a:lnTo>
                    <a:pt x="17313" y="10800"/>
                  </a:lnTo>
                  <a:lnTo>
                    <a:pt x="15769" y="10800"/>
                  </a:lnTo>
                  <a:lnTo>
                    <a:pt x="15769" y="17511"/>
                  </a:lnTo>
                  <a:lnTo>
                    <a:pt x="5857" y="17511"/>
                  </a:lnTo>
                  <a:lnTo>
                    <a:pt x="5857" y="10800"/>
                  </a:lnTo>
                  <a:lnTo>
                    <a:pt x="4313" y="10800"/>
                  </a:lnTo>
                  <a:close/>
                </a:path>
                <a:path fill="darkenLess" w="21626" h="21600">
                  <a:moveTo>
                    <a:pt x="13218" y="6738"/>
                  </a:moveTo>
                  <a:lnTo>
                    <a:pt x="13218" y="5113"/>
                  </a:lnTo>
                  <a:lnTo>
                    <a:pt x="14875" y="5113"/>
                  </a:lnTo>
                  <a:lnTo>
                    <a:pt x="14875" y="8395"/>
                  </a:lnTo>
                  <a:close/>
                </a:path>
                <a:path fill="darkenLess" w="21626" h="21600">
                  <a:moveTo>
                    <a:pt x="9952" y="14066"/>
                  </a:moveTo>
                  <a:lnTo>
                    <a:pt x="11674" y="14066"/>
                  </a:lnTo>
                  <a:lnTo>
                    <a:pt x="11674" y="17511"/>
                  </a:lnTo>
                  <a:lnTo>
                    <a:pt x="15769" y="17511"/>
                  </a:lnTo>
                  <a:lnTo>
                    <a:pt x="15769" y="10800"/>
                  </a:lnTo>
                  <a:lnTo>
                    <a:pt x="5857" y="10800"/>
                  </a:lnTo>
                  <a:lnTo>
                    <a:pt x="5857" y="17511"/>
                  </a:lnTo>
                  <a:lnTo>
                    <a:pt x="9952" y="17511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05920" y="4572000"/>
              <a:ext cx="304560" cy="304920"/>
            </a:xfrm>
            <a:custGeom>
              <a:avLst/>
              <a:gdLst>
                <a:gd name="textAreaLeft" fmla="*/ 28440 w 304560"/>
                <a:gd name="textAreaRight" fmla="*/ 276120 w 304560"/>
                <a:gd name="textAreaTop" fmla="*/ 28440 h 304920"/>
                <a:gd name="textAreaBottom" fmla="*/ 276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19575" y="2025"/>
                  </a:lnTo>
                  <a:lnTo>
                    <a:pt x="2025" y="2025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19575" y="19601"/>
                  </a:lnTo>
                  <a:lnTo>
                    <a:pt x="19575" y="2025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2025" y="19601"/>
                  </a:lnTo>
                  <a:lnTo>
                    <a:pt x="19575" y="19601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601"/>
                  </a:lnTo>
                  <a:close/>
                </a:path>
                <a:path fill="darken" w="21600" h="21626">
                  <a:moveTo>
                    <a:pt x="10800" y="4313"/>
                  </a:moveTo>
                  <a:lnTo>
                    <a:pt x="13205" y="6750"/>
                  </a:lnTo>
                  <a:lnTo>
                    <a:pt x="13205" y="5125"/>
                  </a:lnTo>
                  <a:lnTo>
                    <a:pt x="14863" y="5125"/>
                  </a:lnTo>
                  <a:lnTo>
                    <a:pt x="14863" y="8408"/>
                  </a:lnTo>
                  <a:lnTo>
                    <a:pt x="17300" y="10813"/>
                  </a:lnTo>
                  <a:lnTo>
                    <a:pt x="15756" y="10813"/>
                  </a:lnTo>
                  <a:lnTo>
                    <a:pt x="15756" y="17524"/>
                  </a:lnTo>
                  <a:lnTo>
                    <a:pt x="5844" y="17524"/>
                  </a:lnTo>
                  <a:lnTo>
                    <a:pt x="5844" y="10813"/>
                  </a:lnTo>
                  <a:lnTo>
                    <a:pt x="4300" y="10813"/>
                  </a:lnTo>
                  <a:close/>
                </a:path>
                <a:path fill="darkenLess" w="21600" h="21626">
                  <a:moveTo>
                    <a:pt x="13205" y="6750"/>
                  </a:moveTo>
                  <a:lnTo>
                    <a:pt x="13205" y="5125"/>
                  </a:lnTo>
                  <a:lnTo>
                    <a:pt x="14863" y="5125"/>
                  </a:lnTo>
                  <a:lnTo>
                    <a:pt x="14863" y="8408"/>
                  </a:lnTo>
                  <a:close/>
                </a:path>
                <a:path fill="darkenLess" w="21600" h="21626">
                  <a:moveTo>
                    <a:pt x="9939" y="14079"/>
                  </a:moveTo>
                  <a:lnTo>
                    <a:pt x="11661" y="14079"/>
                  </a:lnTo>
                  <a:lnTo>
                    <a:pt x="11661" y="17524"/>
                  </a:lnTo>
                  <a:lnTo>
                    <a:pt x="15756" y="17524"/>
                  </a:lnTo>
                  <a:lnTo>
                    <a:pt x="15756" y="10813"/>
                  </a:lnTo>
                  <a:lnTo>
                    <a:pt x="5844" y="10813"/>
                  </a:lnTo>
                  <a:lnTo>
                    <a:pt x="5844" y="17524"/>
                  </a:lnTo>
                  <a:lnTo>
                    <a:pt x="9939" y="17524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0120" y="5791320"/>
              <a:ext cx="304560" cy="304560"/>
            </a:xfrm>
            <a:custGeom>
              <a:avLst/>
              <a:gdLst>
                <a:gd name="textAreaLeft" fmla="*/ 28440 w 304560"/>
                <a:gd name="textAreaRight" fmla="*/ 276120 w 304560"/>
                <a:gd name="textAreaTop" fmla="*/ 28440 h 304560"/>
                <a:gd name="textAreaBottom" fmla="*/ 2761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025"/>
                  </a:lnTo>
                  <a:lnTo>
                    <a:pt x="2025" y="2025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19575" y="19575"/>
                  </a:lnTo>
                  <a:lnTo>
                    <a:pt x="19575" y="2025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575" y="19575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600" h="21600">
                  <a:moveTo>
                    <a:pt x="10800" y="4300"/>
                  </a:moveTo>
                  <a:lnTo>
                    <a:pt x="13205" y="6738"/>
                  </a:lnTo>
                  <a:lnTo>
                    <a:pt x="13205" y="5113"/>
                  </a:lnTo>
                  <a:lnTo>
                    <a:pt x="14863" y="5113"/>
                  </a:lnTo>
                  <a:lnTo>
                    <a:pt x="14863" y="8395"/>
                  </a:lnTo>
                  <a:lnTo>
                    <a:pt x="17300" y="10800"/>
                  </a:lnTo>
                  <a:lnTo>
                    <a:pt x="15756" y="10800"/>
                  </a:lnTo>
                  <a:lnTo>
                    <a:pt x="15756" y="17511"/>
                  </a:lnTo>
                  <a:lnTo>
                    <a:pt x="5844" y="17511"/>
                  </a:lnTo>
                  <a:lnTo>
                    <a:pt x="5844" y="10800"/>
                  </a:lnTo>
                  <a:lnTo>
                    <a:pt x="4300" y="10800"/>
                  </a:lnTo>
                  <a:close/>
                </a:path>
                <a:path fill="darkenLess" w="21600" h="21600">
                  <a:moveTo>
                    <a:pt x="13205" y="6738"/>
                  </a:moveTo>
                  <a:lnTo>
                    <a:pt x="13205" y="5113"/>
                  </a:lnTo>
                  <a:lnTo>
                    <a:pt x="14863" y="5113"/>
                  </a:lnTo>
                  <a:lnTo>
                    <a:pt x="14863" y="8395"/>
                  </a:lnTo>
                  <a:close/>
                </a:path>
                <a:path fill="darkenLess" w="21600" h="21600">
                  <a:moveTo>
                    <a:pt x="9939" y="14066"/>
                  </a:moveTo>
                  <a:lnTo>
                    <a:pt x="11661" y="14066"/>
                  </a:lnTo>
                  <a:lnTo>
                    <a:pt x="11661" y="17511"/>
                  </a:lnTo>
                  <a:lnTo>
                    <a:pt x="15756" y="17511"/>
                  </a:lnTo>
                  <a:lnTo>
                    <a:pt x="15756" y="10800"/>
                  </a:lnTo>
                  <a:lnTo>
                    <a:pt x="5844" y="10800"/>
                  </a:lnTo>
                  <a:lnTo>
                    <a:pt x="5844" y="17511"/>
                  </a:lnTo>
                  <a:lnTo>
                    <a:pt x="9939" y="17511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pic>
        <p:nvPicPr>
          <p:cNvPr id="280" name="บ้าน้ำก้อ" descr=""/>
          <p:cNvPicPr/>
          <p:nvPr/>
        </p:nvPicPr>
        <p:blipFill>
          <a:blip r:embed="rId3"/>
          <a:stretch/>
        </p:blipFill>
        <p:spPr>
          <a:xfrm>
            <a:off x="1371600" y="380880"/>
            <a:ext cx="708660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geology_map" descr=""/>
          <p:cNvPicPr/>
          <p:nvPr/>
        </p:nvPicPr>
        <p:blipFill>
          <a:blip r:embed="rId2"/>
          <a:stretch/>
        </p:blipFill>
        <p:spPr>
          <a:xfrm>
            <a:off x="1447920" y="933480"/>
            <a:ext cx="6248160" cy="440064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-341280" y="5379480"/>
            <a:ext cx="10758960" cy="520560"/>
            <a:chOff x="-341280" y="5379480"/>
            <a:chExt cx="10758960" cy="520560"/>
          </a:xfrm>
        </p:grpSpPr>
        <p:sp>
          <p:nvSpPr>
            <p:cNvPr id="283" name=""/>
            <p:cNvSpPr/>
            <p:nvPr/>
          </p:nvSpPr>
          <p:spPr>
            <a:xfrm>
              <a:off x="838080" y="5486400"/>
              <a:ext cx="304920" cy="304920"/>
            </a:xfrm>
            <a:prstGeom prst="rect">
              <a:avLst/>
            </a:prstGeom>
            <a:solidFill>
              <a:srgbClr val="fab9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341280" y="5379480"/>
              <a:ext cx="1075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กลุ่มหินห้วยหินลาด เป็นการสลับชั้นของหินดินดาน หินโคลน หินทรายแป้ง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11960" y="5838120"/>
            <a:ext cx="8213760" cy="520560"/>
            <a:chOff x="111960" y="5838120"/>
            <a:chExt cx="8213760" cy="520560"/>
          </a:xfrm>
        </p:grpSpPr>
        <p:sp>
          <p:nvSpPr>
            <p:cNvPr id="286" name=""/>
            <p:cNvSpPr/>
            <p:nvPr/>
          </p:nvSpPr>
          <p:spPr>
            <a:xfrm>
              <a:off x="838080" y="5943600"/>
              <a:ext cx="304920" cy="304920"/>
            </a:xfrm>
            <a:prstGeom prst="rect">
              <a:avLst/>
            </a:prstGeom>
            <a:solidFill>
              <a:srgbClr val="925c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1960" y="5838120"/>
              <a:ext cx="821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หินสระบุรี หินปูนมีซากดึกดำบรรพ์ หินเชิร์ต หินบะซอลต์ 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440" y="6261840"/>
            <a:ext cx="8590320" cy="520560"/>
            <a:chOff x="1440" y="6261840"/>
            <a:chExt cx="8590320" cy="520560"/>
          </a:xfrm>
        </p:grpSpPr>
        <p:sp>
          <p:nvSpPr>
            <p:cNvPr id="289" name=""/>
            <p:cNvSpPr/>
            <p:nvPr/>
          </p:nvSpPr>
          <p:spPr>
            <a:xfrm>
              <a:off x="838080" y="6400800"/>
              <a:ext cx="304920" cy="304920"/>
            </a:xfrm>
            <a:prstGeom prst="rect">
              <a:avLst/>
            </a:prstGeom>
            <a:solidFill>
              <a:srgbClr val="e5e1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40" y="6261840"/>
              <a:ext cx="859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ตะกอนตะพักลำน้ำ กรวดทราย และแม่รังของแม่น้ำคืนพลัง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291280" y="3457440"/>
            <a:ext cx="880920" cy="990720"/>
            <a:chOff x="5291280" y="3457440"/>
            <a:chExt cx="880920" cy="990720"/>
          </a:xfrm>
        </p:grpSpPr>
        <p:sp>
          <p:nvSpPr>
            <p:cNvPr id="292" name=""/>
            <p:cNvSpPr/>
            <p:nvPr/>
          </p:nvSpPr>
          <p:spPr>
            <a:xfrm>
              <a:off x="5291280" y="3952800"/>
              <a:ext cx="220320" cy="219960"/>
            </a:xfrm>
            <a:custGeom>
              <a:avLst/>
              <a:gdLst>
                <a:gd name="textAreaLeft" fmla="*/ 20520 w 220320"/>
                <a:gd name="textAreaRight" fmla="*/ 199800 w 220320"/>
                <a:gd name="textAreaTop" fmla="*/ 20520 h 219960"/>
                <a:gd name="textAreaBottom" fmla="*/ 199440 h 219960"/>
              </a:gdLst>
              <a:ahLst/>
              <a:rect l="textAreaLeft" t="textAreaTop" r="textAreaRight" b="textAreaBottom"/>
              <a:pathLst>
                <a:path w="21635" h="21600">
                  <a:moveTo>
                    <a:pt x="0" y="0"/>
                  </a:moveTo>
                  <a:lnTo>
                    <a:pt x="21635" y="0"/>
                  </a:lnTo>
                  <a:lnTo>
                    <a:pt x="21635" y="21600"/>
                  </a:lnTo>
                  <a:lnTo>
                    <a:pt x="0" y="21600"/>
                  </a:lnTo>
                  <a:close/>
                </a:path>
                <a:path fill="lightenLess" w="21635" h="21600">
                  <a:moveTo>
                    <a:pt x="0" y="0"/>
                  </a:moveTo>
                  <a:lnTo>
                    <a:pt x="21635" y="0"/>
                  </a:lnTo>
                  <a:lnTo>
                    <a:pt x="19610" y="2025"/>
                  </a:lnTo>
                  <a:lnTo>
                    <a:pt x="2025" y="2025"/>
                  </a:lnTo>
                  <a:close/>
                </a:path>
                <a:path fill="darken" w="21635" h="21600">
                  <a:moveTo>
                    <a:pt x="21635" y="0"/>
                  </a:moveTo>
                  <a:lnTo>
                    <a:pt x="21635" y="21600"/>
                  </a:lnTo>
                  <a:lnTo>
                    <a:pt x="19610" y="19575"/>
                  </a:lnTo>
                  <a:lnTo>
                    <a:pt x="19610" y="2025"/>
                  </a:lnTo>
                  <a:close/>
                </a:path>
                <a:path fill="darkenLess" w="21635" h="21600">
                  <a:moveTo>
                    <a:pt x="21635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610" y="19575"/>
                  </a:lnTo>
                  <a:close/>
                </a:path>
                <a:path fill="lighten" w="21635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635" h="21600">
                  <a:moveTo>
                    <a:pt x="10818" y="4300"/>
                  </a:moveTo>
                  <a:lnTo>
                    <a:pt x="13223" y="6738"/>
                  </a:lnTo>
                  <a:lnTo>
                    <a:pt x="13223" y="5113"/>
                  </a:lnTo>
                  <a:lnTo>
                    <a:pt x="14880" y="5113"/>
                  </a:lnTo>
                  <a:lnTo>
                    <a:pt x="14880" y="8395"/>
                  </a:lnTo>
                  <a:lnTo>
                    <a:pt x="17318" y="10800"/>
                  </a:lnTo>
                  <a:lnTo>
                    <a:pt x="15774" y="10800"/>
                  </a:lnTo>
                  <a:lnTo>
                    <a:pt x="15774" y="17511"/>
                  </a:lnTo>
                  <a:lnTo>
                    <a:pt x="5861" y="17511"/>
                  </a:lnTo>
                  <a:lnTo>
                    <a:pt x="5861" y="10800"/>
                  </a:lnTo>
                  <a:lnTo>
                    <a:pt x="4318" y="10800"/>
                  </a:lnTo>
                  <a:close/>
                </a:path>
                <a:path fill="darkenLess" w="21635" h="21600">
                  <a:moveTo>
                    <a:pt x="13223" y="6738"/>
                  </a:moveTo>
                  <a:lnTo>
                    <a:pt x="13223" y="5113"/>
                  </a:lnTo>
                  <a:lnTo>
                    <a:pt x="14880" y="5113"/>
                  </a:lnTo>
                  <a:lnTo>
                    <a:pt x="14880" y="8395"/>
                  </a:lnTo>
                  <a:close/>
                </a:path>
                <a:path fill="darkenLess" w="21635" h="21600">
                  <a:moveTo>
                    <a:pt x="9956" y="14066"/>
                  </a:moveTo>
                  <a:lnTo>
                    <a:pt x="11679" y="14066"/>
                  </a:lnTo>
                  <a:lnTo>
                    <a:pt x="11679" y="17511"/>
                  </a:lnTo>
                  <a:lnTo>
                    <a:pt x="15774" y="17511"/>
                  </a:lnTo>
                  <a:lnTo>
                    <a:pt x="15774" y="10800"/>
                  </a:lnTo>
                  <a:lnTo>
                    <a:pt x="5861" y="10800"/>
                  </a:lnTo>
                  <a:lnTo>
                    <a:pt x="5861" y="17511"/>
                  </a:lnTo>
                  <a:lnTo>
                    <a:pt x="9956" y="17511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31560" y="4228200"/>
              <a:ext cx="220320" cy="219960"/>
            </a:xfrm>
            <a:custGeom>
              <a:avLst/>
              <a:gdLst>
                <a:gd name="textAreaLeft" fmla="*/ 20520 w 220320"/>
                <a:gd name="textAreaRight" fmla="*/ 199800 w 220320"/>
                <a:gd name="textAreaTop" fmla="*/ 20520 h 219960"/>
                <a:gd name="textAreaBottom" fmla="*/ 199440 h 219960"/>
              </a:gdLst>
              <a:ahLst/>
              <a:rect l="textAreaLeft" t="textAreaTop" r="textAreaRight" b="textAreaBottom"/>
              <a:pathLst>
                <a:path w="21635" h="21600">
                  <a:moveTo>
                    <a:pt x="0" y="0"/>
                  </a:moveTo>
                  <a:lnTo>
                    <a:pt x="21635" y="0"/>
                  </a:lnTo>
                  <a:lnTo>
                    <a:pt x="21635" y="21600"/>
                  </a:lnTo>
                  <a:lnTo>
                    <a:pt x="0" y="21600"/>
                  </a:lnTo>
                  <a:close/>
                </a:path>
                <a:path fill="lightenLess" w="21635" h="21600">
                  <a:moveTo>
                    <a:pt x="0" y="0"/>
                  </a:moveTo>
                  <a:lnTo>
                    <a:pt x="21635" y="0"/>
                  </a:lnTo>
                  <a:lnTo>
                    <a:pt x="19610" y="2025"/>
                  </a:lnTo>
                  <a:lnTo>
                    <a:pt x="2025" y="2025"/>
                  </a:lnTo>
                  <a:close/>
                </a:path>
                <a:path fill="darken" w="21635" h="21600">
                  <a:moveTo>
                    <a:pt x="21635" y="0"/>
                  </a:moveTo>
                  <a:lnTo>
                    <a:pt x="21635" y="21600"/>
                  </a:lnTo>
                  <a:lnTo>
                    <a:pt x="19610" y="19575"/>
                  </a:lnTo>
                  <a:lnTo>
                    <a:pt x="19610" y="2025"/>
                  </a:lnTo>
                  <a:close/>
                </a:path>
                <a:path fill="darkenLess" w="21635" h="21600">
                  <a:moveTo>
                    <a:pt x="21635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610" y="19575"/>
                  </a:lnTo>
                  <a:close/>
                </a:path>
                <a:path fill="lighten" w="21635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635" h="21600">
                  <a:moveTo>
                    <a:pt x="10818" y="4300"/>
                  </a:moveTo>
                  <a:lnTo>
                    <a:pt x="13223" y="6738"/>
                  </a:lnTo>
                  <a:lnTo>
                    <a:pt x="13223" y="5113"/>
                  </a:lnTo>
                  <a:lnTo>
                    <a:pt x="14880" y="5113"/>
                  </a:lnTo>
                  <a:lnTo>
                    <a:pt x="14880" y="8395"/>
                  </a:lnTo>
                  <a:lnTo>
                    <a:pt x="17318" y="10800"/>
                  </a:lnTo>
                  <a:lnTo>
                    <a:pt x="15774" y="10800"/>
                  </a:lnTo>
                  <a:lnTo>
                    <a:pt x="15774" y="17511"/>
                  </a:lnTo>
                  <a:lnTo>
                    <a:pt x="5861" y="17511"/>
                  </a:lnTo>
                  <a:lnTo>
                    <a:pt x="5861" y="10800"/>
                  </a:lnTo>
                  <a:lnTo>
                    <a:pt x="4318" y="10800"/>
                  </a:lnTo>
                  <a:close/>
                </a:path>
                <a:path fill="darkenLess" w="21635" h="21600">
                  <a:moveTo>
                    <a:pt x="13223" y="6738"/>
                  </a:moveTo>
                  <a:lnTo>
                    <a:pt x="13223" y="5113"/>
                  </a:lnTo>
                  <a:lnTo>
                    <a:pt x="14880" y="5113"/>
                  </a:lnTo>
                  <a:lnTo>
                    <a:pt x="14880" y="8395"/>
                  </a:lnTo>
                  <a:close/>
                </a:path>
                <a:path fill="darkenLess" w="21635" h="21600">
                  <a:moveTo>
                    <a:pt x="9956" y="14066"/>
                  </a:moveTo>
                  <a:lnTo>
                    <a:pt x="11679" y="14066"/>
                  </a:lnTo>
                  <a:lnTo>
                    <a:pt x="11679" y="17511"/>
                  </a:lnTo>
                  <a:lnTo>
                    <a:pt x="15774" y="17511"/>
                  </a:lnTo>
                  <a:lnTo>
                    <a:pt x="15774" y="10800"/>
                  </a:lnTo>
                  <a:lnTo>
                    <a:pt x="5861" y="10800"/>
                  </a:lnTo>
                  <a:lnTo>
                    <a:pt x="5861" y="17511"/>
                  </a:lnTo>
                  <a:lnTo>
                    <a:pt x="9956" y="17511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76480" y="3457440"/>
              <a:ext cx="219960" cy="219960"/>
            </a:xfrm>
            <a:custGeom>
              <a:avLst/>
              <a:gdLst>
                <a:gd name="textAreaLeft" fmla="*/ 20520 w 219960"/>
                <a:gd name="textAreaRight" fmla="*/ 199440 w 219960"/>
                <a:gd name="textAreaTop" fmla="*/ 20520 h 219960"/>
                <a:gd name="textAreaBottom" fmla="*/ 19944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19575" y="2025"/>
                  </a:lnTo>
                  <a:lnTo>
                    <a:pt x="2025" y="2025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19575" y="19575"/>
                  </a:lnTo>
                  <a:lnTo>
                    <a:pt x="19575" y="2025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575" y="19575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600" h="21600">
                  <a:moveTo>
                    <a:pt x="10800" y="4300"/>
                  </a:moveTo>
                  <a:lnTo>
                    <a:pt x="13205" y="6738"/>
                  </a:lnTo>
                  <a:lnTo>
                    <a:pt x="13205" y="5113"/>
                  </a:lnTo>
                  <a:lnTo>
                    <a:pt x="14863" y="5113"/>
                  </a:lnTo>
                  <a:lnTo>
                    <a:pt x="14863" y="8395"/>
                  </a:lnTo>
                  <a:lnTo>
                    <a:pt x="17300" y="10800"/>
                  </a:lnTo>
                  <a:lnTo>
                    <a:pt x="15756" y="10800"/>
                  </a:lnTo>
                  <a:lnTo>
                    <a:pt x="15756" y="17511"/>
                  </a:lnTo>
                  <a:lnTo>
                    <a:pt x="5844" y="17511"/>
                  </a:lnTo>
                  <a:lnTo>
                    <a:pt x="5844" y="10800"/>
                  </a:lnTo>
                  <a:lnTo>
                    <a:pt x="4300" y="10800"/>
                  </a:lnTo>
                  <a:close/>
                </a:path>
                <a:path fill="darkenLess" w="21600" h="21600">
                  <a:moveTo>
                    <a:pt x="13205" y="6738"/>
                  </a:moveTo>
                  <a:lnTo>
                    <a:pt x="13205" y="5113"/>
                  </a:lnTo>
                  <a:lnTo>
                    <a:pt x="14863" y="5113"/>
                  </a:lnTo>
                  <a:lnTo>
                    <a:pt x="14863" y="8395"/>
                  </a:lnTo>
                  <a:close/>
                </a:path>
                <a:path fill="darkenLess" w="21600" h="21600">
                  <a:moveTo>
                    <a:pt x="9939" y="14066"/>
                  </a:moveTo>
                  <a:lnTo>
                    <a:pt x="11661" y="14066"/>
                  </a:lnTo>
                  <a:lnTo>
                    <a:pt x="11661" y="17511"/>
                  </a:lnTo>
                  <a:lnTo>
                    <a:pt x="15756" y="17511"/>
                  </a:lnTo>
                  <a:lnTo>
                    <a:pt x="15756" y="10800"/>
                  </a:lnTo>
                  <a:lnTo>
                    <a:pt x="5844" y="10800"/>
                  </a:lnTo>
                  <a:lnTo>
                    <a:pt x="5844" y="17511"/>
                  </a:lnTo>
                  <a:lnTo>
                    <a:pt x="9939" y="17511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51880" y="3787560"/>
              <a:ext cx="220320" cy="219960"/>
            </a:xfrm>
            <a:custGeom>
              <a:avLst/>
              <a:gdLst>
                <a:gd name="textAreaLeft" fmla="*/ 20520 w 220320"/>
                <a:gd name="textAreaRight" fmla="*/ 199800 w 220320"/>
                <a:gd name="textAreaTop" fmla="*/ 20520 h 219960"/>
                <a:gd name="textAreaBottom" fmla="*/ 199440 h 219960"/>
              </a:gdLst>
              <a:ahLst/>
              <a:rect l="textAreaLeft" t="textAreaTop" r="textAreaRight" b="textAreaBottom"/>
              <a:pathLst>
                <a:path w="21635" h="21600">
                  <a:moveTo>
                    <a:pt x="0" y="0"/>
                  </a:moveTo>
                  <a:lnTo>
                    <a:pt x="21635" y="0"/>
                  </a:lnTo>
                  <a:lnTo>
                    <a:pt x="21635" y="21600"/>
                  </a:lnTo>
                  <a:lnTo>
                    <a:pt x="0" y="21600"/>
                  </a:lnTo>
                  <a:close/>
                </a:path>
                <a:path fill="lightenLess" w="21635" h="21600">
                  <a:moveTo>
                    <a:pt x="0" y="0"/>
                  </a:moveTo>
                  <a:lnTo>
                    <a:pt x="21635" y="0"/>
                  </a:lnTo>
                  <a:lnTo>
                    <a:pt x="19610" y="2025"/>
                  </a:lnTo>
                  <a:lnTo>
                    <a:pt x="2025" y="2025"/>
                  </a:lnTo>
                  <a:close/>
                </a:path>
                <a:path fill="darken" w="21635" h="21600">
                  <a:moveTo>
                    <a:pt x="21635" y="0"/>
                  </a:moveTo>
                  <a:lnTo>
                    <a:pt x="21635" y="21600"/>
                  </a:lnTo>
                  <a:lnTo>
                    <a:pt x="19610" y="19575"/>
                  </a:lnTo>
                  <a:lnTo>
                    <a:pt x="19610" y="2025"/>
                  </a:lnTo>
                  <a:close/>
                </a:path>
                <a:path fill="darkenLess" w="21635" h="21600">
                  <a:moveTo>
                    <a:pt x="21635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610" y="19575"/>
                  </a:lnTo>
                  <a:close/>
                </a:path>
                <a:path fill="lighten" w="21635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635" h="21600">
                  <a:moveTo>
                    <a:pt x="10818" y="4300"/>
                  </a:moveTo>
                  <a:lnTo>
                    <a:pt x="13223" y="6738"/>
                  </a:lnTo>
                  <a:lnTo>
                    <a:pt x="13223" y="5113"/>
                  </a:lnTo>
                  <a:lnTo>
                    <a:pt x="14880" y="5113"/>
                  </a:lnTo>
                  <a:lnTo>
                    <a:pt x="14880" y="8395"/>
                  </a:lnTo>
                  <a:lnTo>
                    <a:pt x="17318" y="10800"/>
                  </a:lnTo>
                  <a:lnTo>
                    <a:pt x="15774" y="10800"/>
                  </a:lnTo>
                  <a:lnTo>
                    <a:pt x="15774" y="17511"/>
                  </a:lnTo>
                  <a:lnTo>
                    <a:pt x="5861" y="17511"/>
                  </a:lnTo>
                  <a:lnTo>
                    <a:pt x="5861" y="10800"/>
                  </a:lnTo>
                  <a:lnTo>
                    <a:pt x="4318" y="10800"/>
                  </a:lnTo>
                  <a:close/>
                </a:path>
                <a:path fill="darkenLess" w="21635" h="21600">
                  <a:moveTo>
                    <a:pt x="13223" y="6738"/>
                  </a:moveTo>
                  <a:lnTo>
                    <a:pt x="13223" y="5113"/>
                  </a:lnTo>
                  <a:lnTo>
                    <a:pt x="14880" y="5113"/>
                  </a:lnTo>
                  <a:lnTo>
                    <a:pt x="14880" y="8395"/>
                  </a:lnTo>
                  <a:close/>
                </a:path>
                <a:path fill="darkenLess" w="21635" h="21600">
                  <a:moveTo>
                    <a:pt x="9956" y="14066"/>
                  </a:moveTo>
                  <a:lnTo>
                    <a:pt x="11679" y="14066"/>
                  </a:lnTo>
                  <a:lnTo>
                    <a:pt x="11679" y="17511"/>
                  </a:lnTo>
                  <a:lnTo>
                    <a:pt x="15774" y="17511"/>
                  </a:lnTo>
                  <a:lnTo>
                    <a:pt x="15774" y="10800"/>
                  </a:lnTo>
                  <a:lnTo>
                    <a:pt x="5861" y="10800"/>
                  </a:lnTo>
                  <a:lnTo>
                    <a:pt x="5861" y="17511"/>
                  </a:lnTo>
                  <a:lnTo>
                    <a:pt x="9956" y="17511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819520" y="1564560"/>
            <a:ext cx="3628440" cy="3083760"/>
            <a:chOff x="2819520" y="1564560"/>
            <a:chExt cx="3628440" cy="3083760"/>
          </a:xfrm>
        </p:grpSpPr>
        <p:sp>
          <p:nvSpPr>
            <p:cNvPr id="297" name=""/>
            <p:cNvSpPr/>
            <p:nvPr/>
          </p:nvSpPr>
          <p:spPr>
            <a:xfrm>
              <a:off x="5153040" y="3353040"/>
              <a:ext cx="1294920" cy="1295280"/>
            </a:xfrm>
            <a:prstGeom prst="ellipse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19520" y="1564560"/>
              <a:ext cx="1915920" cy="520560"/>
            </a:xfrm>
            <a:prstGeom prst="borderCallout2">
              <a:avLst>
                <a:gd name="adj1" fmla="val 18750"/>
                <a:gd name="adj2" fmla="val -8333"/>
                <a:gd name="adj3" fmla="val 20990"/>
                <a:gd name="adj4" fmla="val -24773"/>
                <a:gd name="adj5" fmla="val 342013"/>
                <a:gd name="adj6" fmla="val -46138"/>
              </a:avLst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</a:rPr>
                <a:t>บ้านน้ำก้อ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pic>
        <p:nvPicPr>
          <p:cNvPr id="299" name="ธรณีวิทยาบ้านน้ำก้อ" descr=""/>
          <p:cNvPicPr/>
          <p:nvPr/>
        </p:nvPicPr>
        <p:blipFill>
          <a:blip r:embed="rId3"/>
          <a:stretch/>
        </p:blipFill>
        <p:spPr>
          <a:xfrm>
            <a:off x="228600" y="0"/>
            <a:ext cx="86677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แผนที่กรมพัฒนาที่ดิน1" descr=""/>
          <p:cNvPicPr/>
          <p:nvPr/>
        </p:nvPicPr>
        <p:blipFill>
          <a:blip r:embed="rId2"/>
          <a:stretch/>
        </p:blipFill>
        <p:spPr>
          <a:xfrm>
            <a:off x="838080" y="1168560"/>
            <a:ext cx="7621560" cy="553716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5029200" y="3048120"/>
            <a:ext cx="685800" cy="761400"/>
            <a:chOff x="5029200" y="3048120"/>
            <a:chExt cx="685800" cy="761400"/>
          </a:xfrm>
        </p:grpSpPr>
        <p:sp>
          <p:nvSpPr>
            <p:cNvPr id="302" name=""/>
            <p:cNvSpPr/>
            <p:nvPr/>
          </p:nvSpPr>
          <p:spPr>
            <a:xfrm>
              <a:off x="5029200" y="3429000"/>
              <a:ext cx="171720" cy="169560"/>
            </a:xfrm>
            <a:custGeom>
              <a:avLst/>
              <a:gdLst>
                <a:gd name="textAreaLeft" fmla="*/ 15840 w 171720"/>
                <a:gd name="textAreaRight" fmla="*/ 155880 w 171720"/>
                <a:gd name="textAreaTop" fmla="*/ 15840 h 169560"/>
                <a:gd name="textAreaBottom" fmla="*/ 153720 h 169560"/>
              </a:gdLst>
              <a:ahLst/>
              <a:rect l="textAreaLeft" t="textAreaTop" r="textAreaRight" b="textAreaBottom"/>
              <a:pathLst>
                <a:path w="21875" h="21600">
                  <a:moveTo>
                    <a:pt x="0" y="0"/>
                  </a:moveTo>
                  <a:lnTo>
                    <a:pt x="21875" y="0"/>
                  </a:lnTo>
                  <a:lnTo>
                    <a:pt x="21875" y="21600"/>
                  </a:lnTo>
                  <a:lnTo>
                    <a:pt x="0" y="21600"/>
                  </a:lnTo>
                  <a:close/>
                </a:path>
                <a:path fill="lightenLess" w="21875" h="21600">
                  <a:moveTo>
                    <a:pt x="0" y="0"/>
                  </a:moveTo>
                  <a:lnTo>
                    <a:pt x="21875" y="0"/>
                  </a:lnTo>
                  <a:lnTo>
                    <a:pt x="19850" y="2025"/>
                  </a:lnTo>
                  <a:lnTo>
                    <a:pt x="2025" y="2025"/>
                  </a:lnTo>
                  <a:close/>
                </a:path>
                <a:path fill="darken" w="21875" h="21600">
                  <a:moveTo>
                    <a:pt x="21875" y="0"/>
                  </a:moveTo>
                  <a:lnTo>
                    <a:pt x="21875" y="21600"/>
                  </a:lnTo>
                  <a:lnTo>
                    <a:pt x="19850" y="19575"/>
                  </a:lnTo>
                  <a:lnTo>
                    <a:pt x="19850" y="2025"/>
                  </a:lnTo>
                  <a:close/>
                </a:path>
                <a:path fill="darkenLess" w="21875" h="21600">
                  <a:moveTo>
                    <a:pt x="21875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850" y="19575"/>
                  </a:lnTo>
                  <a:close/>
                </a:path>
                <a:path fill="lighten" w="21875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875" h="21600">
                  <a:moveTo>
                    <a:pt x="10937" y="4300"/>
                  </a:moveTo>
                  <a:lnTo>
                    <a:pt x="13342" y="6738"/>
                  </a:lnTo>
                  <a:lnTo>
                    <a:pt x="13342" y="5113"/>
                  </a:lnTo>
                  <a:lnTo>
                    <a:pt x="15000" y="5113"/>
                  </a:lnTo>
                  <a:lnTo>
                    <a:pt x="15000" y="8395"/>
                  </a:lnTo>
                  <a:lnTo>
                    <a:pt x="17437" y="10800"/>
                  </a:lnTo>
                  <a:lnTo>
                    <a:pt x="15894" y="10800"/>
                  </a:lnTo>
                  <a:lnTo>
                    <a:pt x="15894" y="17511"/>
                  </a:lnTo>
                  <a:lnTo>
                    <a:pt x="5981" y="17511"/>
                  </a:lnTo>
                  <a:lnTo>
                    <a:pt x="5981" y="10800"/>
                  </a:lnTo>
                  <a:lnTo>
                    <a:pt x="4437" y="10800"/>
                  </a:lnTo>
                  <a:close/>
                </a:path>
                <a:path fill="darkenLess" w="21875" h="21600">
                  <a:moveTo>
                    <a:pt x="13342" y="6738"/>
                  </a:moveTo>
                  <a:lnTo>
                    <a:pt x="13342" y="5113"/>
                  </a:lnTo>
                  <a:lnTo>
                    <a:pt x="15000" y="5113"/>
                  </a:lnTo>
                  <a:lnTo>
                    <a:pt x="15000" y="8395"/>
                  </a:lnTo>
                  <a:close/>
                </a:path>
                <a:path fill="darkenLess" w="21875" h="21600">
                  <a:moveTo>
                    <a:pt x="10076" y="14066"/>
                  </a:moveTo>
                  <a:lnTo>
                    <a:pt x="11799" y="14066"/>
                  </a:lnTo>
                  <a:lnTo>
                    <a:pt x="11799" y="17511"/>
                  </a:lnTo>
                  <a:lnTo>
                    <a:pt x="15894" y="17511"/>
                  </a:lnTo>
                  <a:lnTo>
                    <a:pt x="15894" y="10800"/>
                  </a:lnTo>
                  <a:lnTo>
                    <a:pt x="5981" y="10800"/>
                  </a:lnTo>
                  <a:lnTo>
                    <a:pt x="5981" y="17511"/>
                  </a:lnTo>
                  <a:lnTo>
                    <a:pt x="10076" y="1751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72640" y="3639960"/>
              <a:ext cx="170280" cy="169560"/>
            </a:xfrm>
            <a:custGeom>
              <a:avLst/>
              <a:gdLst>
                <a:gd name="textAreaLeft" fmla="*/ 15840 w 170280"/>
                <a:gd name="textAreaRight" fmla="*/ 154440 w 170280"/>
                <a:gd name="textAreaTop" fmla="*/ 15840 h 169560"/>
                <a:gd name="textAreaBottom" fmla="*/ 153720 h 169560"/>
              </a:gdLst>
              <a:ahLst/>
              <a:rect l="textAreaLeft" t="textAreaTop" r="textAreaRight" b="textAreaBottom"/>
              <a:pathLst>
                <a:path w="21692" h="21600">
                  <a:moveTo>
                    <a:pt x="0" y="0"/>
                  </a:moveTo>
                  <a:lnTo>
                    <a:pt x="21692" y="0"/>
                  </a:lnTo>
                  <a:lnTo>
                    <a:pt x="21692" y="21600"/>
                  </a:lnTo>
                  <a:lnTo>
                    <a:pt x="0" y="21600"/>
                  </a:lnTo>
                  <a:close/>
                </a:path>
                <a:path fill="lightenLess" w="21692" h="21600">
                  <a:moveTo>
                    <a:pt x="0" y="0"/>
                  </a:moveTo>
                  <a:lnTo>
                    <a:pt x="21692" y="0"/>
                  </a:lnTo>
                  <a:lnTo>
                    <a:pt x="19667" y="2025"/>
                  </a:lnTo>
                  <a:lnTo>
                    <a:pt x="2025" y="2025"/>
                  </a:lnTo>
                  <a:close/>
                </a:path>
                <a:path fill="darken" w="21692" h="21600">
                  <a:moveTo>
                    <a:pt x="21692" y="0"/>
                  </a:moveTo>
                  <a:lnTo>
                    <a:pt x="21692" y="21600"/>
                  </a:lnTo>
                  <a:lnTo>
                    <a:pt x="19667" y="19575"/>
                  </a:lnTo>
                  <a:lnTo>
                    <a:pt x="19667" y="2025"/>
                  </a:lnTo>
                  <a:close/>
                </a:path>
                <a:path fill="darkenLess" w="21692" h="21600">
                  <a:moveTo>
                    <a:pt x="21692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667" y="19575"/>
                  </a:lnTo>
                  <a:close/>
                </a:path>
                <a:path fill="lighten" w="21692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692" h="21600">
                  <a:moveTo>
                    <a:pt x="10846" y="4300"/>
                  </a:moveTo>
                  <a:lnTo>
                    <a:pt x="13251" y="6738"/>
                  </a:lnTo>
                  <a:lnTo>
                    <a:pt x="13251" y="5113"/>
                  </a:lnTo>
                  <a:lnTo>
                    <a:pt x="14908" y="5113"/>
                  </a:lnTo>
                  <a:lnTo>
                    <a:pt x="14908" y="8395"/>
                  </a:lnTo>
                  <a:lnTo>
                    <a:pt x="17346" y="10800"/>
                  </a:lnTo>
                  <a:lnTo>
                    <a:pt x="15802" y="10800"/>
                  </a:lnTo>
                  <a:lnTo>
                    <a:pt x="15802" y="17511"/>
                  </a:lnTo>
                  <a:lnTo>
                    <a:pt x="5890" y="17511"/>
                  </a:lnTo>
                  <a:lnTo>
                    <a:pt x="5890" y="10800"/>
                  </a:lnTo>
                  <a:lnTo>
                    <a:pt x="4346" y="10800"/>
                  </a:lnTo>
                  <a:close/>
                </a:path>
                <a:path fill="darkenLess" w="21692" h="21600">
                  <a:moveTo>
                    <a:pt x="13251" y="6738"/>
                  </a:moveTo>
                  <a:lnTo>
                    <a:pt x="13251" y="5113"/>
                  </a:lnTo>
                  <a:lnTo>
                    <a:pt x="14908" y="5113"/>
                  </a:lnTo>
                  <a:lnTo>
                    <a:pt x="14908" y="8395"/>
                  </a:lnTo>
                  <a:close/>
                </a:path>
                <a:path fill="darkenLess" w="21692" h="21600">
                  <a:moveTo>
                    <a:pt x="9985" y="14066"/>
                  </a:moveTo>
                  <a:lnTo>
                    <a:pt x="11707" y="14066"/>
                  </a:lnTo>
                  <a:lnTo>
                    <a:pt x="11707" y="17511"/>
                  </a:lnTo>
                  <a:lnTo>
                    <a:pt x="15802" y="17511"/>
                  </a:lnTo>
                  <a:lnTo>
                    <a:pt x="15802" y="10800"/>
                  </a:lnTo>
                  <a:lnTo>
                    <a:pt x="5890" y="10800"/>
                  </a:lnTo>
                  <a:lnTo>
                    <a:pt x="5890" y="17511"/>
                  </a:lnTo>
                  <a:lnTo>
                    <a:pt x="9985" y="1751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29440" y="3048120"/>
              <a:ext cx="171720" cy="169560"/>
            </a:xfrm>
            <a:custGeom>
              <a:avLst/>
              <a:gdLst>
                <a:gd name="textAreaLeft" fmla="*/ 15840 w 171720"/>
                <a:gd name="textAreaRight" fmla="*/ 155880 w 171720"/>
                <a:gd name="textAreaTop" fmla="*/ 15840 h 169560"/>
                <a:gd name="textAreaBottom" fmla="*/ 153720 h 169560"/>
              </a:gdLst>
              <a:ahLst/>
              <a:rect l="textAreaLeft" t="textAreaTop" r="textAreaRight" b="textAreaBottom"/>
              <a:pathLst>
                <a:path w="21875" h="21600">
                  <a:moveTo>
                    <a:pt x="0" y="0"/>
                  </a:moveTo>
                  <a:lnTo>
                    <a:pt x="21875" y="0"/>
                  </a:lnTo>
                  <a:lnTo>
                    <a:pt x="21875" y="21600"/>
                  </a:lnTo>
                  <a:lnTo>
                    <a:pt x="0" y="21600"/>
                  </a:lnTo>
                  <a:close/>
                </a:path>
                <a:path fill="lightenLess" w="21875" h="21600">
                  <a:moveTo>
                    <a:pt x="0" y="0"/>
                  </a:moveTo>
                  <a:lnTo>
                    <a:pt x="21875" y="0"/>
                  </a:lnTo>
                  <a:lnTo>
                    <a:pt x="19850" y="2025"/>
                  </a:lnTo>
                  <a:lnTo>
                    <a:pt x="2025" y="2025"/>
                  </a:lnTo>
                  <a:close/>
                </a:path>
                <a:path fill="darken" w="21875" h="21600">
                  <a:moveTo>
                    <a:pt x="21875" y="0"/>
                  </a:moveTo>
                  <a:lnTo>
                    <a:pt x="21875" y="21600"/>
                  </a:lnTo>
                  <a:lnTo>
                    <a:pt x="19850" y="19575"/>
                  </a:lnTo>
                  <a:lnTo>
                    <a:pt x="19850" y="2025"/>
                  </a:lnTo>
                  <a:close/>
                </a:path>
                <a:path fill="darkenLess" w="21875" h="21600">
                  <a:moveTo>
                    <a:pt x="21875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850" y="19575"/>
                  </a:lnTo>
                  <a:close/>
                </a:path>
                <a:path fill="lighten" w="21875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875" h="21600">
                  <a:moveTo>
                    <a:pt x="10937" y="4300"/>
                  </a:moveTo>
                  <a:lnTo>
                    <a:pt x="13342" y="6738"/>
                  </a:lnTo>
                  <a:lnTo>
                    <a:pt x="13342" y="5113"/>
                  </a:lnTo>
                  <a:lnTo>
                    <a:pt x="15000" y="5113"/>
                  </a:lnTo>
                  <a:lnTo>
                    <a:pt x="15000" y="8395"/>
                  </a:lnTo>
                  <a:lnTo>
                    <a:pt x="17437" y="10800"/>
                  </a:lnTo>
                  <a:lnTo>
                    <a:pt x="15894" y="10800"/>
                  </a:lnTo>
                  <a:lnTo>
                    <a:pt x="15894" y="17511"/>
                  </a:lnTo>
                  <a:lnTo>
                    <a:pt x="5981" y="17511"/>
                  </a:lnTo>
                  <a:lnTo>
                    <a:pt x="5981" y="10800"/>
                  </a:lnTo>
                  <a:lnTo>
                    <a:pt x="4437" y="10800"/>
                  </a:lnTo>
                  <a:close/>
                </a:path>
                <a:path fill="darkenLess" w="21875" h="21600">
                  <a:moveTo>
                    <a:pt x="13342" y="6738"/>
                  </a:moveTo>
                  <a:lnTo>
                    <a:pt x="13342" y="5113"/>
                  </a:lnTo>
                  <a:lnTo>
                    <a:pt x="15000" y="5113"/>
                  </a:lnTo>
                  <a:lnTo>
                    <a:pt x="15000" y="8395"/>
                  </a:lnTo>
                  <a:close/>
                </a:path>
                <a:path fill="darkenLess" w="21875" h="21600">
                  <a:moveTo>
                    <a:pt x="10076" y="14066"/>
                  </a:moveTo>
                  <a:lnTo>
                    <a:pt x="11799" y="14066"/>
                  </a:lnTo>
                  <a:lnTo>
                    <a:pt x="11799" y="17511"/>
                  </a:lnTo>
                  <a:lnTo>
                    <a:pt x="15894" y="17511"/>
                  </a:lnTo>
                  <a:lnTo>
                    <a:pt x="15894" y="10800"/>
                  </a:lnTo>
                  <a:lnTo>
                    <a:pt x="5981" y="10800"/>
                  </a:lnTo>
                  <a:lnTo>
                    <a:pt x="5981" y="17511"/>
                  </a:lnTo>
                  <a:lnTo>
                    <a:pt x="10076" y="1751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43280" y="3301920"/>
              <a:ext cx="171720" cy="169560"/>
            </a:xfrm>
            <a:custGeom>
              <a:avLst/>
              <a:gdLst>
                <a:gd name="textAreaLeft" fmla="*/ 15840 w 171720"/>
                <a:gd name="textAreaRight" fmla="*/ 155880 w 171720"/>
                <a:gd name="textAreaTop" fmla="*/ 15840 h 169560"/>
                <a:gd name="textAreaBottom" fmla="*/ 153720 h 169560"/>
              </a:gdLst>
              <a:ahLst/>
              <a:rect l="textAreaLeft" t="textAreaTop" r="textAreaRight" b="textAreaBottom"/>
              <a:pathLst>
                <a:path w="21875" h="21600">
                  <a:moveTo>
                    <a:pt x="0" y="0"/>
                  </a:moveTo>
                  <a:lnTo>
                    <a:pt x="21875" y="0"/>
                  </a:lnTo>
                  <a:lnTo>
                    <a:pt x="21875" y="21600"/>
                  </a:lnTo>
                  <a:lnTo>
                    <a:pt x="0" y="21600"/>
                  </a:lnTo>
                  <a:close/>
                </a:path>
                <a:path fill="lightenLess" w="21875" h="21600">
                  <a:moveTo>
                    <a:pt x="0" y="0"/>
                  </a:moveTo>
                  <a:lnTo>
                    <a:pt x="21875" y="0"/>
                  </a:lnTo>
                  <a:lnTo>
                    <a:pt x="19850" y="2025"/>
                  </a:lnTo>
                  <a:lnTo>
                    <a:pt x="2025" y="2025"/>
                  </a:lnTo>
                  <a:close/>
                </a:path>
                <a:path fill="darken" w="21875" h="21600">
                  <a:moveTo>
                    <a:pt x="21875" y="0"/>
                  </a:moveTo>
                  <a:lnTo>
                    <a:pt x="21875" y="21600"/>
                  </a:lnTo>
                  <a:lnTo>
                    <a:pt x="19850" y="19575"/>
                  </a:lnTo>
                  <a:lnTo>
                    <a:pt x="19850" y="2025"/>
                  </a:lnTo>
                  <a:close/>
                </a:path>
                <a:path fill="darkenLess" w="21875" h="21600">
                  <a:moveTo>
                    <a:pt x="21875" y="21600"/>
                  </a:moveTo>
                  <a:lnTo>
                    <a:pt x="0" y="21600"/>
                  </a:lnTo>
                  <a:lnTo>
                    <a:pt x="2025" y="19575"/>
                  </a:lnTo>
                  <a:lnTo>
                    <a:pt x="19850" y="19575"/>
                  </a:lnTo>
                  <a:close/>
                </a:path>
                <a:path fill="lighten" w="21875" h="21600">
                  <a:moveTo>
                    <a:pt x="0" y="21600"/>
                  </a:moveTo>
                  <a:lnTo>
                    <a:pt x="0" y="0"/>
                  </a:lnTo>
                  <a:lnTo>
                    <a:pt x="2025" y="2025"/>
                  </a:lnTo>
                  <a:lnTo>
                    <a:pt x="2025" y="19575"/>
                  </a:lnTo>
                  <a:close/>
                </a:path>
                <a:path fill="darken" w="21875" h="21600">
                  <a:moveTo>
                    <a:pt x="10937" y="4300"/>
                  </a:moveTo>
                  <a:lnTo>
                    <a:pt x="13342" y="6738"/>
                  </a:lnTo>
                  <a:lnTo>
                    <a:pt x="13342" y="5113"/>
                  </a:lnTo>
                  <a:lnTo>
                    <a:pt x="15000" y="5113"/>
                  </a:lnTo>
                  <a:lnTo>
                    <a:pt x="15000" y="8395"/>
                  </a:lnTo>
                  <a:lnTo>
                    <a:pt x="17437" y="10800"/>
                  </a:lnTo>
                  <a:lnTo>
                    <a:pt x="15894" y="10800"/>
                  </a:lnTo>
                  <a:lnTo>
                    <a:pt x="15894" y="17511"/>
                  </a:lnTo>
                  <a:lnTo>
                    <a:pt x="5981" y="17511"/>
                  </a:lnTo>
                  <a:lnTo>
                    <a:pt x="5981" y="10800"/>
                  </a:lnTo>
                  <a:lnTo>
                    <a:pt x="4437" y="10800"/>
                  </a:lnTo>
                  <a:close/>
                </a:path>
                <a:path fill="darkenLess" w="21875" h="21600">
                  <a:moveTo>
                    <a:pt x="13342" y="6738"/>
                  </a:moveTo>
                  <a:lnTo>
                    <a:pt x="13342" y="5113"/>
                  </a:lnTo>
                  <a:lnTo>
                    <a:pt x="15000" y="5113"/>
                  </a:lnTo>
                  <a:lnTo>
                    <a:pt x="15000" y="8395"/>
                  </a:lnTo>
                  <a:close/>
                </a:path>
                <a:path fill="darkenLess" w="21875" h="21600">
                  <a:moveTo>
                    <a:pt x="10076" y="14066"/>
                  </a:moveTo>
                  <a:lnTo>
                    <a:pt x="11799" y="14066"/>
                  </a:lnTo>
                  <a:lnTo>
                    <a:pt x="11799" y="17511"/>
                  </a:lnTo>
                  <a:lnTo>
                    <a:pt x="15894" y="17511"/>
                  </a:lnTo>
                  <a:lnTo>
                    <a:pt x="15894" y="10800"/>
                  </a:lnTo>
                  <a:lnTo>
                    <a:pt x="5981" y="10800"/>
                  </a:lnTo>
                  <a:lnTo>
                    <a:pt x="5981" y="17511"/>
                  </a:lnTo>
                  <a:lnTo>
                    <a:pt x="10076" y="1751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876920" y="2965320"/>
            <a:ext cx="990360" cy="990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4355280"/>
            <a:ext cx="1916280" cy="520560"/>
          </a:xfrm>
          <a:prstGeom prst="borderCallout2">
            <a:avLst>
              <a:gd name="adj1" fmla="val 18750"/>
              <a:gd name="adj2" fmla="val -8333"/>
              <a:gd name="adj3" fmla="val 20990"/>
              <a:gd name="adj4" fmla="val 137532"/>
              <a:gd name="adj5" fmla="val -80092"/>
              <a:gd name="adj6" fmla="val 17240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บ้านน้ำก้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08" name="กลุ่มดินบ้านน้ำก้อ" descr=""/>
          <p:cNvPicPr/>
          <p:nvPr/>
        </p:nvPicPr>
        <p:blipFill>
          <a:blip r:embed="rId3"/>
          <a:stretch/>
        </p:blipFill>
        <p:spPr>
          <a:xfrm>
            <a:off x="152280" y="220680"/>
            <a:ext cx="89154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explain" descr=""/>
          <p:cNvPicPr/>
          <p:nvPr/>
        </p:nvPicPr>
        <p:blipFill>
          <a:blip r:embed="rId2"/>
          <a:stretch/>
        </p:blipFill>
        <p:spPr>
          <a:xfrm>
            <a:off x="304920" y="4800600"/>
            <a:ext cx="5771880" cy="174312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pic>
        <p:nvPicPr>
          <p:cNvPr id="310" name="name" descr=""/>
          <p:cNvPicPr/>
          <p:nvPr/>
        </p:nvPicPr>
        <p:blipFill>
          <a:blip r:embed="rId3"/>
          <a:stretch/>
        </p:blipFill>
        <p:spPr>
          <a:xfrm>
            <a:off x="609480" y="76320"/>
            <a:ext cx="815364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ประวัติ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7192800" cy="100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685800" y="1828800"/>
          <a:ext cx="8001000" cy="449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8001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286000" y="457200"/>
            <a:ext cx="5867280" cy="6089760"/>
            <a:chOff x="2286000" y="457200"/>
            <a:chExt cx="5867280" cy="6089760"/>
          </a:xfrm>
        </p:grpSpPr>
        <p:pic>
          <p:nvPicPr>
            <p:cNvPr id="55" name="vegetation2" descr=""/>
            <p:cNvPicPr/>
            <p:nvPr/>
          </p:nvPicPr>
          <p:blipFill>
            <a:blip r:embed="rId2"/>
            <a:stretch/>
          </p:blipFill>
          <p:spPr>
            <a:xfrm>
              <a:off x="2286000" y="1600200"/>
              <a:ext cx="5867280" cy="49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429000" y="457200"/>
              <a:ext cx="3581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6000" spc="-1" strike="noStrike">
                  <a:solidFill>
                    <a:srgbClr val="000000"/>
                  </a:solidFill>
                  <a:latin typeface="KodchiangUPC"/>
                </a:rPr>
                <a:t>การพิบัติที่ ญี่ปุ่น</a:t>
              </a:r>
              <a:endParaRPr b="0" lang="en-US" sz="6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80880" y="457200"/>
            <a:ext cx="8336160" cy="6095880"/>
            <a:chOff x="380880" y="457200"/>
            <a:chExt cx="8336160" cy="6095880"/>
          </a:xfrm>
        </p:grpSpPr>
        <p:pic>
          <p:nvPicPr>
            <p:cNvPr id="58" name="LandslideLA" descr=""/>
            <p:cNvPicPr/>
            <p:nvPr/>
          </p:nvPicPr>
          <p:blipFill>
            <a:blip r:embed="rId3"/>
            <a:stretch/>
          </p:blipFill>
          <p:spPr>
            <a:xfrm>
              <a:off x="4572000" y="457200"/>
              <a:ext cx="4145040" cy="6095880"/>
            </a:xfrm>
            <a:prstGeom prst="rect">
              <a:avLst/>
            </a:prstGeom>
            <a:ln w="44280">
              <a:solidFill>
                <a:srgbClr val="33cccc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80880" y="457200"/>
              <a:ext cx="3962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6000" spc="-1" strike="noStrike">
                  <a:solidFill>
                    <a:srgbClr val="000000"/>
                  </a:solidFill>
                  <a:latin typeface="KodchiangUPC"/>
                </a:rPr>
                <a:t>การพิบัติที่ อเมริกา</a:t>
              </a:r>
              <a:endParaRPr b="0" lang="en-US" sz="6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KodchiangUPC"/>
              </a:rPr>
              <a:t>พิบัติภัยจากดินถล่มและน้ำหลาก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46480"/>
            <a:ext cx="8839080" cy="1439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พฤศจิกายน   </a:t>
            </a: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2531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อ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พิปูน  จ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นครศรีธรรมราช   เสียชีวิตมากกว่า 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</a:rPr>
              <a:t>200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ราย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048120"/>
            <a:ext cx="8839080" cy="1439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สิงหาคม        </a:t>
            </a: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2542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อ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เขาคิชฌกูฏ  จ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จันทบุรี       เสียชีวิต   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</a:rPr>
              <a:t>1  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ราย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809880"/>
            <a:ext cx="8839080" cy="1439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พฤษภาคม    </a:t>
            </a: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2544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อ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วังชิ้น   จ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แพร่                     เสียชีวิตมากกว่า 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</a:rPr>
              <a:t>20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ราย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568760"/>
            <a:ext cx="8839080" cy="1439640"/>
          </a:xfrm>
          <a:prstGeom prst="rect">
            <a:avLst/>
          </a:prstGeom>
          <a:solidFill>
            <a:srgbClr val="cce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สิงหาคม       </a:t>
            </a: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2544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อ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หล่มสัก   จ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เพชรบรูณ์        เสียชีวิตมากกว่า 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</a:rPr>
              <a:t>100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</a:rPr>
              <a:t>ราย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จันทบุรี1%202copy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47920" y="1676520"/>
            <a:ext cx="6476760" cy="4857480"/>
          </a:xfrm>
          <a:prstGeom prst="rect">
            <a:avLst/>
          </a:prstGeom>
          <a:ln w="0">
            <a:noFill/>
          </a:ln>
        </p:spPr>
      </p:pic>
      <p:pic>
        <p:nvPicPr>
          <p:cNvPr id="66" name="จันทบุรี2%202copy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1447920" y="1676520"/>
            <a:ext cx="6476760" cy="4857480"/>
          </a:xfrm>
          <a:prstGeom prst="rect">
            <a:avLst/>
          </a:prstGeom>
          <a:ln w="0">
            <a:noFill/>
          </a:ln>
        </p:spPr>
      </p:pic>
      <p:pic>
        <p:nvPicPr>
          <p:cNvPr id="67" name="จันทบุรี312copy" descr=""/>
          <p:cNvPicPr/>
          <p:nvPr/>
        </p:nvPicPr>
        <p:blipFill>
          <a:blip r:embed="rId4"/>
          <a:stretch/>
        </p:blipFill>
        <p:spPr>
          <a:xfrm>
            <a:off x="1447920" y="1676520"/>
            <a:ext cx="6476760" cy="4857480"/>
          </a:xfrm>
          <a:prstGeom prst="rect">
            <a:avLst/>
          </a:prstGeom>
          <a:ln w="0">
            <a:noFill/>
          </a:ln>
        </p:spPr>
      </p:pic>
      <p:pic>
        <p:nvPicPr>
          <p:cNvPr id="68" name="จันทบุรี42%20copy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1447920" y="1676520"/>
            <a:ext cx="6476760" cy="4857480"/>
          </a:xfrm>
          <a:prstGeom prst="rect">
            <a:avLst/>
          </a:prstGeom>
          <a:ln w="0">
            <a:noFill/>
          </a:ln>
        </p:spPr>
      </p:pic>
      <p:pic>
        <p:nvPicPr>
          <p:cNvPr id="69" name="ตย.จันทบุรี" descr=""/>
          <p:cNvPicPr/>
          <p:nvPr/>
        </p:nvPicPr>
        <p:blipFill>
          <a:blip r:embed="rId6"/>
          <a:stretch/>
        </p:blipFill>
        <p:spPr>
          <a:xfrm>
            <a:off x="1905120" y="533520"/>
            <a:ext cx="6400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พิปูน%20copy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609480" y="1911240"/>
            <a:ext cx="8001000" cy="4413240"/>
          </a:xfrm>
          <a:prstGeom prst="rect">
            <a:avLst/>
          </a:prstGeom>
          <a:ln w="0">
            <a:noFill/>
          </a:ln>
        </p:spPr>
      </p:pic>
      <p:pic>
        <p:nvPicPr>
          <p:cNvPr id="71" name="อ.พิปูน" descr=""/>
          <p:cNvPicPr/>
          <p:nvPr/>
        </p:nvPicPr>
        <p:blipFill>
          <a:blip r:embed="rId3"/>
          <a:stretch/>
        </p:blipFill>
        <p:spPr>
          <a:xfrm>
            <a:off x="1676520" y="609480"/>
            <a:ext cx="7086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533520"/>
            <a:ext cx="396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KodchiangUPC"/>
              </a:rPr>
              <a:t>การดำเนินงานวิจัยขั้นแรก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8600" y="1219320"/>
            <a:ext cx="2362320" cy="4199040"/>
            <a:chOff x="228600" y="1219320"/>
            <a:chExt cx="2362320" cy="4199040"/>
          </a:xfrm>
        </p:grpSpPr>
        <p:grpSp>
          <p:nvGrpSpPr>
            <p:cNvPr id="74" name=""/>
            <p:cNvGrpSpPr/>
            <p:nvPr/>
          </p:nvGrpSpPr>
          <p:grpSpPr>
            <a:xfrm>
              <a:off x="914400" y="1219320"/>
              <a:ext cx="990360" cy="703440"/>
              <a:chOff x="914400" y="1219320"/>
              <a:chExt cx="990360" cy="703440"/>
            </a:xfrm>
          </p:grpSpPr>
          <p:sp>
            <p:nvSpPr>
              <p:cNvPr id="75" name=""/>
              <p:cNvSpPr/>
              <p:nvPr/>
            </p:nvSpPr>
            <p:spPr>
              <a:xfrm>
                <a:off x="914400" y="1371600"/>
                <a:ext cx="990360" cy="5335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236600" y="1219320"/>
                <a:ext cx="304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ngsana New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28600" y="3311640"/>
              <a:ext cx="2355840" cy="210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</a:rPr>
                <a:t>จัดจำแนกประเภท ของการพิบัติ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</a:rPr>
                <a:t>ศึกษาอิทธิพลที่เกี่ยวข้องกับการพิบัติ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" y="2025720"/>
              <a:ext cx="2362320" cy="124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</a:rPr>
                <a:t>จัดเก็บข้อมูลการพิบัติของลาดดิน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297180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3200" y="1219320"/>
            <a:ext cx="2895480" cy="4795920"/>
            <a:chOff x="2743200" y="1219320"/>
            <a:chExt cx="2895480" cy="4795920"/>
          </a:xfrm>
        </p:grpSpPr>
        <p:grpSp>
          <p:nvGrpSpPr>
            <p:cNvPr id="81" name=""/>
            <p:cNvGrpSpPr/>
            <p:nvPr/>
          </p:nvGrpSpPr>
          <p:grpSpPr>
            <a:xfrm>
              <a:off x="3733920" y="1219320"/>
              <a:ext cx="990360" cy="703440"/>
              <a:chOff x="3733920" y="1219320"/>
              <a:chExt cx="990360" cy="703440"/>
            </a:xfrm>
          </p:grpSpPr>
          <p:sp>
            <p:nvSpPr>
              <p:cNvPr id="82" name=""/>
              <p:cNvSpPr/>
              <p:nvPr/>
            </p:nvSpPr>
            <p:spPr>
              <a:xfrm>
                <a:off x="3733920" y="1371600"/>
                <a:ext cx="990360" cy="5335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55760" y="1219320"/>
                <a:ext cx="304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ngsana New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743200" y="3311640"/>
              <a:ext cx="2895480" cy="270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ประเมินสภาพปัญหาและความต้องการของหน่วยงาน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ประเมินวิธีวิเคราะห์และโปรแกรมที่ใช้อยู่ในปัจจุบัน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2025720"/>
              <a:ext cx="2895480" cy="124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ศึกษาสภาพการวิเคราะห์ความมั่นคงในปัจจุบัน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297180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791320" y="1219320"/>
            <a:ext cx="3200400" cy="4199040"/>
            <a:chOff x="5791320" y="1219320"/>
            <a:chExt cx="3200400" cy="4199040"/>
          </a:xfrm>
        </p:grpSpPr>
        <p:grpSp>
          <p:nvGrpSpPr>
            <p:cNvPr id="88" name=""/>
            <p:cNvGrpSpPr/>
            <p:nvPr/>
          </p:nvGrpSpPr>
          <p:grpSpPr>
            <a:xfrm>
              <a:off x="6858000" y="1219320"/>
              <a:ext cx="990720" cy="703440"/>
              <a:chOff x="6858000" y="1219320"/>
              <a:chExt cx="990720" cy="703440"/>
            </a:xfrm>
          </p:grpSpPr>
          <p:sp>
            <p:nvSpPr>
              <p:cNvPr id="89" name=""/>
              <p:cNvSpPr/>
              <p:nvPr/>
            </p:nvSpPr>
            <p:spPr>
              <a:xfrm>
                <a:off x="6858000" y="1371600"/>
                <a:ext cx="990720" cy="5335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80200" y="1219320"/>
                <a:ext cx="30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ngsana New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791320" y="3311640"/>
              <a:ext cx="3200400" cy="210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-</a:t>
              </a: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จัดหา </a:t>
              </a: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</a:rPr>
                <a:t>Expert Shell</a:t>
              </a: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ที่เหมาะสมเพื่อช่วยในการพัฒนาระบ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</a:rPr>
                <a:t>รวบรวมความเห็นจากผู้เชี่ยวชาญที่เกี่ยวข้อง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91320" y="2025720"/>
              <a:ext cx="3200400" cy="124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</a:rPr>
                <a:t>ศึกษาการนำเอาระบบผู้เชี่ยวชาญมาใช้กับการวิเคราะห์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920" y="297180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336680" y="4921200"/>
            <a:ext cx="6172200" cy="2400480"/>
            <a:chOff x="1336680" y="4921200"/>
            <a:chExt cx="6172200" cy="2400480"/>
          </a:xfrm>
        </p:grpSpPr>
        <p:grpSp>
          <p:nvGrpSpPr>
            <p:cNvPr id="95" name=""/>
            <p:cNvGrpSpPr/>
            <p:nvPr/>
          </p:nvGrpSpPr>
          <p:grpSpPr>
            <a:xfrm>
              <a:off x="1676520" y="5521320"/>
              <a:ext cx="4724280" cy="1800360"/>
              <a:chOff x="1676520" y="5521320"/>
              <a:chExt cx="4724280" cy="1800360"/>
            </a:xfrm>
          </p:grpSpPr>
          <p:sp>
            <p:nvSpPr>
              <p:cNvPr id="96" name=""/>
              <p:cNvSpPr/>
              <p:nvPr/>
            </p:nvSpPr>
            <p:spPr>
              <a:xfrm>
                <a:off x="2819520" y="5521320"/>
                <a:ext cx="3581280" cy="180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จัดฐานข้อมูล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ngsana New"/>
                  </a:rPr>
                  <a:t>(Data Base) 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และ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ฐานความรู้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ngsana New"/>
                  </a:rPr>
                  <a:t>(Knowledge Base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1676520" y="5562720"/>
                <a:ext cx="990360" cy="703440"/>
                <a:chOff x="1676520" y="5562720"/>
                <a:chExt cx="990360" cy="7034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676520" y="5715000"/>
                  <a:ext cx="990360" cy="5335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963800" y="5562720"/>
                  <a:ext cx="3045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ngsana New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  <p:grpSp>
          <p:nvGrpSpPr>
            <p:cNvPr id="100" name=""/>
            <p:cNvGrpSpPr/>
            <p:nvPr/>
          </p:nvGrpSpPr>
          <p:grpSpPr>
            <a:xfrm>
              <a:off x="1336680" y="4921200"/>
              <a:ext cx="6172200" cy="457200"/>
              <a:chOff x="1336680" y="4921200"/>
              <a:chExt cx="6172200" cy="457200"/>
            </a:xfrm>
          </p:grpSpPr>
          <p:sp>
            <p:nvSpPr>
              <p:cNvPr id="101" name=""/>
              <p:cNvSpPr/>
              <p:nvPr/>
            </p:nvSpPr>
            <p:spPr>
              <a:xfrm>
                <a:off x="1371600" y="4994280"/>
                <a:ext cx="304812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36680" y="4921200"/>
                <a:ext cx="22860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19720" y="4994280"/>
                <a:ext cx="304776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280280" y="4924440"/>
                <a:ext cx="22860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38480" y="4997520"/>
                <a:ext cx="457200" cy="380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47920" y="5006880"/>
                <a:ext cx="304560" cy="216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00760" y="5006880"/>
                <a:ext cx="533520" cy="216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52960" y="4927680"/>
                <a:ext cx="228600" cy="228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38480" y="5006880"/>
                <a:ext cx="533520" cy="216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2590920" y="30492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KodchiangUPC"/>
              </a:rPr>
              <a:t>Research </a:t>
            </a:r>
            <a:r>
              <a:rPr b="0" lang="en-US" sz="6000" spc="-1" strike="noStrike">
                <a:solidFill>
                  <a:srgbClr val="000000"/>
                </a:solidFill>
                <a:latin typeface="KodchiangUPC"/>
              </a:rPr>
              <a:t>R</a:t>
            </a:r>
            <a:r>
              <a:rPr b="0" lang="th-TH" sz="6000" spc="-1" strike="noStrike">
                <a:solidFill>
                  <a:srgbClr val="000000"/>
                </a:solidFill>
                <a:latin typeface="KodchiangUPC"/>
              </a:rPr>
              <a:t>esults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09880" y="1778040"/>
            <a:ext cx="3115800" cy="1688040"/>
            <a:chOff x="209880" y="1778040"/>
            <a:chExt cx="3115800" cy="1688040"/>
          </a:xfrm>
        </p:grpSpPr>
        <p:sp>
          <p:nvSpPr>
            <p:cNvPr id="112" name=""/>
            <p:cNvSpPr/>
            <p:nvPr/>
          </p:nvSpPr>
          <p:spPr>
            <a:xfrm>
              <a:off x="209880" y="2518920"/>
              <a:ext cx="311580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พัฒนาโปรแกรมที่ใช้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วิเคราะห์ความมั่นคง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533520" y="1778040"/>
              <a:ext cx="990360" cy="703440"/>
              <a:chOff x="533520" y="1778040"/>
              <a:chExt cx="990360" cy="703440"/>
            </a:xfrm>
          </p:grpSpPr>
          <p:sp>
            <p:nvSpPr>
              <p:cNvPr id="114" name=""/>
              <p:cNvSpPr/>
              <p:nvPr/>
            </p:nvSpPr>
            <p:spPr>
              <a:xfrm>
                <a:off x="533520" y="1930320"/>
                <a:ext cx="990360" cy="5335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5360" y="1778040"/>
                <a:ext cx="304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ngsana New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377440" y="3581280"/>
            <a:ext cx="4399200" cy="1367280"/>
            <a:chOff x="2377440" y="3581280"/>
            <a:chExt cx="4399200" cy="1367280"/>
          </a:xfrm>
        </p:grpSpPr>
        <p:sp>
          <p:nvSpPr>
            <p:cNvPr id="117" name=""/>
            <p:cNvSpPr/>
            <p:nvPr/>
          </p:nvSpPr>
          <p:spPr>
            <a:xfrm>
              <a:off x="2377440" y="4001400"/>
              <a:ext cx="439920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</a:rPr>
                <a:t>ทดสอบและประเมินสมรรถภาพ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</a:rPr>
                <a:t>ของระบ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25760" y="358128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787120" y="1778040"/>
            <a:ext cx="3611160" cy="1688040"/>
            <a:chOff x="2787120" y="1778040"/>
            <a:chExt cx="3611160" cy="1688040"/>
          </a:xfrm>
        </p:grpSpPr>
        <p:sp>
          <p:nvSpPr>
            <p:cNvPr id="120" name=""/>
            <p:cNvSpPr/>
            <p:nvPr/>
          </p:nvSpPr>
          <p:spPr>
            <a:xfrm>
              <a:off x="2787120" y="2518920"/>
              <a:ext cx="361116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</a:rPr>
                <a:t>พัฒนาระบบฐานข้อมูล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</a:rPr>
                <a:t>การพิบัติและลักษณะดิน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429000" y="1778040"/>
              <a:ext cx="990720" cy="703440"/>
              <a:chOff x="3429000" y="1778040"/>
              <a:chExt cx="990720" cy="703440"/>
            </a:xfrm>
          </p:grpSpPr>
          <p:sp>
            <p:nvSpPr>
              <p:cNvPr id="122" name=""/>
              <p:cNvSpPr/>
              <p:nvPr/>
            </p:nvSpPr>
            <p:spPr>
              <a:xfrm>
                <a:off x="3429000" y="1930320"/>
                <a:ext cx="990720" cy="5335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51200" y="1778040"/>
                <a:ext cx="30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ngsana New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5526000" y="1762200"/>
            <a:ext cx="3943440" cy="1703880"/>
            <a:chOff x="5526000" y="1762200"/>
            <a:chExt cx="3943440" cy="1703880"/>
          </a:xfrm>
        </p:grpSpPr>
        <p:sp>
          <p:nvSpPr>
            <p:cNvPr id="125" name=""/>
            <p:cNvSpPr/>
            <p:nvPr/>
          </p:nvSpPr>
          <p:spPr>
            <a:xfrm>
              <a:off x="5526000" y="2518920"/>
              <a:ext cx="394344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</a:rPr>
                <a:t>ออกแบบระบบผู้เชี่ยวชาญ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</a:rPr>
                <a:t>ต้นแบ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772400" y="1762200"/>
              <a:ext cx="990720" cy="703440"/>
              <a:chOff x="7772400" y="1762200"/>
              <a:chExt cx="990720" cy="703440"/>
            </a:xfrm>
          </p:grpSpPr>
          <p:sp>
            <p:nvSpPr>
              <p:cNvPr id="127" name=""/>
              <p:cNvSpPr/>
              <p:nvPr/>
            </p:nvSpPr>
            <p:spPr>
              <a:xfrm>
                <a:off x="7772400" y="1914480"/>
                <a:ext cx="990720" cy="5335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094600" y="1762200"/>
                <a:ext cx="30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ngsana New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2133720" y="5029200"/>
            <a:ext cx="4074840" cy="923040"/>
            <a:chOff x="2133720" y="5029200"/>
            <a:chExt cx="4074840" cy="923040"/>
          </a:xfrm>
        </p:grpSpPr>
        <p:sp>
          <p:nvSpPr>
            <p:cNvPr id="130" name=""/>
            <p:cNvSpPr/>
            <p:nvPr/>
          </p:nvSpPr>
          <p:spPr>
            <a:xfrm>
              <a:off x="2931120" y="5431680"/>
              <a:ext cx="3277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ngsana New"/>
                </a:rPr>
                <a:t>เผยแพร่และจัดอบรม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133720" y="5181480"/>
              <a:ext cx="990360" cy="703440"/>
              <a:chOff x="2133720" y="5181480"/>
              <a:chExt cx="990360" cy="703440"/>
            </a:xfrm>
          </p:grpSpPr>
          <p:sp>
            <p:nvSpPr>
              <p:cNvPr id="132" name=""/>
              <p:cNvSpPr/>
              <p:nvPr/>
            </p:nvSpPr>
            <p:spPr>
              <a:xfrm>
                <a:off x="2133720" y="5333760"/>
                <a:ext cx="990360" cy="5335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55560" y="5181480"/>
                <a:ext cx="304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ngsana New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343400" y="502920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838080"/>
            <a:ext cx="6172200" cy="1600200"/>
            <a:chOff x="1523880" y="838080"/>
            <a:chExt cx="6172200" cy="1600200"/>
          </a:xfrm>
        </p:grpSpPr>
        <p:sp>
          <p:nvSpPr>
            <p:cNvPr id="136" name=""/>
            <p:cNvSpPr/>
            <p:nvPr/>
          </p:nvSpPr>
          <p:spPr>
            <a:xfrm>
              <a:off x="1676520" y="1676520"/>
              <a:ext cx="2743200" cy="231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19720" y="1676520"/>
              <a:ext cx="304776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20574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57880" y="1600200"/>
              <a:ext cx="230040" cy="61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43400" y="1689120"/>
              <a:ext cx="53352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23880" y="2057400"/>
              <a:ext cx="4572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8880" y="1676520"/>
              <a:ext cx="457200" cy="761760"/>
            </a:xfrm>
            <a:prstGeom prst="downArrow">
              <a:avLst>
                <a:gd name="adj1" fmla="val 50000"/>
                <a:gd name="adj2" fmla="val 4165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8360" y="1676520"/>
              <a:ext cx="228600" cy="533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52480" y="1689120"/>
              <a:ext cx="30492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65960" y="1752480"/>
              <a:ext cx="216000" cy="533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10280" y="1689120"/>
              <a:ext cx="53352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50960" y="1968480"/>
              <a:ext cx="216000" cy="38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70480" y="1930320"/>
              <a:ext cx="216000" cy="38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57880" y="838080"/>
              <a:ext cx="228600" cy="762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76600" y="1371600"/>
              <a:ext cx="212760" cy="38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7:15:48Z</dcterms:created>
  <dc:creator>Atimon</dc:creator>
  <dc:description/>
  <dc:language>en-US</dc:language>
  <cp:lastModifiedBy>Atimon</cp:lastModifiedBy>
  <dcterms:modified xsi:type="dcterms:W3CDTF">2001-08-20T16:26:40Z</dcterms:modified>
  <cp:revision>51</cp:revision>
  <dc:subject/>
  <dc:title>ไม่มีชื่อเรื่องภาพนิ่ง</dc:title>
</cp:coreProperties>
</file>