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wmf" ContentType="image/x-wmf"/>
  <Override PartName="/ppt/media/image2.wmf" ContentType="image/x-wmf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8F74-EAC3-4541-9F2C-0AE520A7C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D23-6667-4183-BB68-98324196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5D9B-4949-4083-94A6-531612518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416E-E132-4CFE-AC86-A0833BD2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F2C-3722-499F-A64F-8C01F3B2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291E-9086-45FF-8185-74869E5A2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0239-EB23-4C6D-97D2-70976630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993D-05B1-415C-BE5E-89E15B1C0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6C88-F55C-4475-912A-0128EB1FD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E4B-BECF-430A-9B30-E3364462F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13D-DA0B-416A-91FE-582AC2803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E0FA-5F53-4E47-95A9-EE357065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BCFB-22CE-4CC6-8BA8-F76E0BA17249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660066"/>
                </a:solidFill>
                <a:latin typeface="Impact"/>
              </a:rPr>
              <a:t>sLOG </a:t>
            </a:r>
            <a:r>
              <a:rPr b="0" i="1" lang="en-US" sz="3200" spc="-1" strike="noStrike">
                <a:solidFill>
                  <a:srgbClr val="660066"/>
                </a:solidFill>
                <a:latin typeface="Impact"/>
              </a:rPr>
              <a:t>v2.00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124080" y="2590920"/>
            <a:ext cx="3000600" cy="2901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772400" y="5638680"/>
            <a:ext cx="10796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What have I done?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76212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ouch the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report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button or press the spacebar to instantly have a summary of a trainee’s work..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77" name="repall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6095880" cy="2286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47242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rological Surgery procedure codes lack a complexity rating, these can be added and give a useful indicator of trainee progress.  Each button on the screen will modify the report in some way.  Press the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‘Modify Report’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button to get extra options…(next screen)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Modify a Report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80" name="remod" descr=""/>
          <p:cNvPicPr/>
          <p:nvPr/>
        </p:nvPicPr>
        <p:blipFill>
          <a:blip r:embed="rId2"/>
          <a:stretch/>
        </p:blipFill>
        <p:spPr>
          <a:xfrm>
            <a:off x="1523880" y="1371600"/>
            <a:ext cx="6096240" cy="2286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762120" y="419112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By a few taps of the screen each drop down menu can be combined to produce useful queries.  E.g. All Emergency procedures with ASA 2 in the last 4 months under consultant x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Even more...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83" name="repcat" descr=""/>
          <p:cNvPicPr/>
          <p:nvPr/>
        </p:nvPicPr>
        <p:blipFill>
          <a:blip r:embed="rId2"/>
          <a:stretch/>
        </p:blipFill>
        <p:spPr>
          <a:xfrm>
            <a:off x="1371600" y="1295280"/>
            <a:ext cx="6095880" cy="2286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914400" y="365760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Higher detail can be produced and printed, which give totals, time and point calculations (if asked for).  The previous modifications can be applied to these report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Academic Logging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86" name="academ2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095880" cy="2286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85800" y="12193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cording of academic activity is performed in a similar way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88" name="academ1" descr=""/>
          <p:cNvPicPr/>
          <p:nvPr/>
        </p:nvPicPr>
        <p:blipFill>
          <a:blip r:embed="rId3"/>
          <a:stretch/>
        </p:blipFill>
        <p:spPr>
          <a:xfrm>
            <a:off x="1523880" y="4572000"/>
            <a:ext cx="6096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Academic Continued…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90" name="academ3" descr=""/>
          <p:cNvPicPr/>
          <p:nvPr/>
        </p:nvPicPr>
        <p:blipFill>
          <a:blip r:embed="rId2"/>
          <a:stretch/>
        </p:blipFill>
        <p:spPr>
          <a:xfrm>
            <a:off x="1447920" y="914400"/>
            <a:ext cx="609588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academfin" descr=""/>
          <p:cNvPicPr/>
          <p:nvPr/>
        </p:nvPicPr>
        <p:blipFill>
          <a:blip r:embed="rId3"/>
          <a:stretch/>
        </p:blipFill>
        <p:spPr>
          <a:xfrm>
            <a:off x="1447920" y="4343400"/>
            <a:ext cx="6095880" cy="2286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3520" y="34290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Reports and search queries can be applied as previously described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Job Experience Logbook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94" name="exper1" descr=""/>
          <p:cNvPicPr/>
          <p:nvPr/>
        </p:nvPicPr>
        <p:blipFill>
          <a:blip r:embed="rId2"/>
          <a:stretch/>
        </p:blipFill>
        <p:spPr>
          <a:xfrm>
            <a:off x="1523880" y="2514600"/>
            <a:ext cx="6096240" cy="2286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4920" y="7621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 decision tree type menu system allows you to enter special clinics and surgical runs.  Times and dates of these can be recorded and reported on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Many other features...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Import &amp; Export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Training summarie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Merging of logbook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Rapid entry options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990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sLOG has been in use for 2 years and most needs of a logbook system have been addressed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99" name="find" descr=""/>
          <p:cNvPicPr/>
          <p:nvPr/>
        </p:nvPicPr>
        <p:blipFill>
          <a:blip r:embed="rId2"/>
          <a:stretch/>
        </p:blipFill>
        <p:spPr>
          <a:xfrm>
            <a:off x="1447920" y="4343400"/>
            <a:ext cx="6095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Suggestions for Logbooks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Use more than one system i.e. PC, Mac, EPOC, Palm but agree on standard submission format e.g.. ASCII text in 3 table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ncrease number of sub-procedures, breakdown large procedures into multiple sub-procedures so trainee performance and involvement can be accurately assessed.  Computers can manage large amounts of data, avoid imprecise alternatives.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r poor example: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Revisiting trainees’ logbooks. RCS Bulletin 83(2): 54-55.  </a:t>
            </a:r>
            <a:endParaRPr b="0" lang="en-US" sz="20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Why EPOC?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Keyboard entry is fast.  Keyboard free machines favour data recall e.g.. Address books, and not data entry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Range of machines available to suit budget and personal requirements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dvanced operating system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Why sLOG?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ritten and used daily by surgeon.  Is always improving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roven track history and indispensable to those who use it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Is a complete package, no need for PC and other database software.  Palmtops can be bought by department and passed onto succeeding trainee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Try it and see for yourself! Download from </a:t>
            </a:r>
            <a:r>
              <a:rPr b="0" lang="en-US" sz="2800" spc="-1" strike="noStrike" u="sng">
                <a:solidFill>
                  <a:srgbClr val="660066"/>
                </a:solidFill>
                <a:uFillTx/>
                <a:latin typeface="Arial"/>
              </a:rPr>
              <a:t>www.palmaris.com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381400" cy="18669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000920" y="990720"/>
            <a:ext cx="2143080" cy="1962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781680" y="4191120"/>
            <a:ext cx="1905120" cy="2181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What is sLOG?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90720" y="10663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A total solution for an Electronic Surgical Logbook.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Will record data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Manipulate, show, print and email reports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Export to PC or Mac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Written for EPOC32 Operating system</a:t>
            </a:r>
            <a:endParaRPr b="0" lang="en-US" sz="3200" spc="-1" strike="noStrike">
              <a:solidFill>
                <a:srgbClr val="6600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Palmtops such as Psion series, Ericsson, Nokia &amp; Motorola Communicators.  Will run on new Crystal &amp; Pearl platforms.</a:t>
            </a:r>
            <a:endParaRPr b="0" lang="en-US" sz="28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85800" y="4952880"/>
            <a:ext cx="7142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Demonstration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19051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Vesico-uterine repair in 28 year old patient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2" name="titlescreen" descr=""/>
          <p:cNvPicPr/>
          <p:nvPr/>
        </p:nvPicPr>
        <p:blipFill>
          <a:blip r:embed="rId2"/>
          <a:stretch/>
        </p:blipFill>
        <p:spPr>
          <a:xfrm>
            <a:off x="1371600" y="3200400"/>
            <a:ext cx="6095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Enter Patient details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4" name="patiententry" descr=""/>
          <p:cNvPicPr/>
          <p:nvPr/>
        </p:nvPicPr>
        <p:blipFill>
          <a:blip r:embed="rId2"/>
          <a:stretch/>
        </p:blipFill>
        <p:spPr>
          <a:xfrm>
            <a:off x="1447920" y="1219320"/>
            <a:ext cx="6095880" cy="2286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43000" y="7621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ouch ‘New Patient’ button on screen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6" name="admin2" descr=""/>
          <p:cNvPicPr/>
          <p:nvPr/>
        </p:nvPicPr>
        <p:blipFill>
          <a:blip r:embed="rId3"/>
          <a:stretch/>
        </p:blipFill>
        <p:spPr>
          <a:xfrm>
            <a:off x="1523880" y="4267080"/>
            <a:ext cx="609624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9480" y="3657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hoose Consultant and hospital from drop down menu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oose a procedure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59" name="procentry1" descr=""/>
          <p:cNvPicPr/>
          <p:nvPr/>
        </p:nvPicPr>
        <p:blipFill>
          <a:blip r:embed="rId2"/>
          <a:stretch/>
        </p:blipFill>
        <p:spPr>
          <a:xfrm>
            <a:off x="1523880" y="2819520"/>
            <a:ext cx="6096240" cy="2286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33520" y="1143000"/>
            <a:ext cx="815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Use a variety of methods; type the keyword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‘Fistula’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or choose </a:t>
            </a:r>
            <a:r>
              <a:rPr b="1" lang="en-US" sz="2400" spc="-1" strike="noStrike">
                <a:solidFill>
                  <a:srgbClr val="660066"/>
                </a:solidFill>
                <a:latin typeface="Arial"/>
              </a:rPr>
              <a:t>‘Female Urology’</a:t>
            </a: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 category or use a single press ‘Quick key’ for common procedures. Or a combination of these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56386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The next screen shows your results..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Choose a procedure...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3" name="procentry2" descr=""/>
          <p:cNvPicPr/>
          <p:nvPr/>
        </p:nvPicPr>
        <p:blipFill>
          <a:blip r:embed="rId2"/>
          <a:stretch/>
        </p:blipFill>
        <p:spPr>
          <a:xfrm>
            <a:off x="1447920" y="990720"/>
            <a:ext cx="609588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procentry3" descr=""/>
          <p:cNvPicPr/>
          <p:nvPr/>
        </p:nvPicPr>
        <p:blipFill>
          <a:blip r:embed="rId3"/>
          <a:stretch/>
        </p:blipFill>
        <p:spPr>
          <a:xfrm>
            <a:off x="1523880" y="4191120"/>
            <a:ext cx="6096240" cy="2286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3520" y="33526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Choose from drop down menu’s for each field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Enter a time and date if required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67" name="proctime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609588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2120" y="4343400"/>
            <a:ext cx="76197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rocedures that have a duration less than 2 minutes will not be used in calculations, this makes analyses meaningful, for example average time calculations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Operation notes and additional options are available for each procedure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Final product!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70" name="ptentered" descr=""/>
          <p:cNvPicPr/>
          <p:nvPr/>
        </p:nvPicPr>
        <p:blipFill>
          <a:blip r:embed="rId2"/>
          <a:stretch/>
        </p:blipFill>
        <p:spPr>
          <a:xfrm>
            <a:off x="1523880" y="1752480"/>
            <a:ext cx="6096240" cy="2286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990720" y="41148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More than one procedure can be added per patient.  Important as the trainee may assist in one sub-procedure and perform another during the same operation.  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Arial"/>
              </a:rPr>
              <a:t>Logbook Security</a:t>
            </a:r>
            <a:endParaRPr b="0" lang="en-US" sz="44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838080"/>
            <a:ext cx="84582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Individual hospital policies must be checked.  sLOG has as standard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Encryption of logbook data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assword security in software and hardware i.e. Will not turn on without password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Anonymise feature which makes a copy of the logbook and removes all patient identifying fields.  Useful when submitting logbook to central body.</a:t>
            </a:r>
            <a:endParaRPr b="0" lang="en-US" sz="2400" spc="-1" strike="noStrike">
              <a:solidFill>
                <a:srgbClr val="660066"/>
              </a:solidFill>
              <a:latin typeface="Arial"/>
            </a:endParaRPr>
          </a:p>
        </p:txBody>
      </p:sp>
      <p:pic>
        <p:nvPicPr>
          <p:cNvPr id="74" name="menuanon" descr=""/>
          <p:cNvPicPr/>
          <p:nvPr/>
        </p:nvPicPr>
        <p:blipFill>
          <a:blip r:embed="rId2"/>
          <a:stretch/>
        </p:blipFill>
        <p:spPr>
          <a:xfrm>
            <a:off x="1523880" y="4572000"/>
            <a:ext cx="6096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7T05:04:14Z</dcterms:created>
  <dc:creator>Compaq Computer Corporation</dc:creator>
  <dc:description/>
  <dc:language>en-US</dc:language>
  <cp:lastModifiedBy>Gillingham</cp:lastModifiedBy>
  <dcterms:modified xsi:type="dcterms:W3CDTF">2001-09-22T09:25:42Z</dcterms:modified>
  <cp:revision>17</cp:revision>
  <dc:subject/>
  <dc:title>sLOG v2.00</dc:title>
</cp:coreProperties>
</file>