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18.png" ContentType="image/png"/>
  <Override PartName="/ppt/media/image21.wmf" ContentType="image/x-wmf"/>
  <Override PartName="/ppt/media/image17.wmf" ContentType="image/x-wmf"/>
  <Override PartName="/ppt/media/image11.gif" ContentType="image/gif"/>
  <Override PartName="/ppt/media/image6.gif" ContentType="image/gif"/>
  <Override PartName="/ppt/media/image32.wmf" ContentType="image/x-wmf"/>
  <Override PartName="/ppt/media/image20.wmf" ContentType="image/x-wmf"/>
  <Override PartName="/ppt/media/image7.gif" ContentType="image/gif"/>
  <Override PartName="/ppt/media/image33.wmf" ContentType="image/x-wmf"/>
  <Override PartName="/ppt/media/image10.gif" ContentType="image/gif"/>
  <Override PartName="/ppt/media/image12.gif" ContentType="image/gif"/>
  <Override PartName="/ppt/media/image16.jpeg" ContentType="image/jpeg"/>
  <Override PartName="/ppt/media/image35.wmf" ContentType="image/x-wmf"/>
  <Override PartName="/ppt/media/image19.wmf" ContentType="image/x-wmf"/>
  <Override PartName="/ppt/media/image34.wmf" ContentType="image/x-wmf"/>
  <Override PartName="/ppt/media/image8.gif" ContentType="image/gif"/>
  <Override PartName="/ppt/media/image36.wmf" ContentType="image/x-wmf"/>
  <Override PartName="/ppt/media/image37.wmf" ContentType="image/x-wmf"/>
  <Override PartName="/ppt/media/image13.wmf" ContentType="image/x-wmf"/>
  <Override PartName="/ppt/media/image31.wmf" ContentType="image/x-wmf"/>
  <Override PartName="/ppt/media/image5.gif" ContentType="image/gif"/>
  <Override PartName="/ppt/media/image30.wmf" ContentType="image/x-wmf"/>
  <Override PartName="/ppt/media/image4.gif" ContentType="image/gif"/>
  <Override PartName="/ppt/media/image3.gif" ContentType="image/gif"/>
  <Override PartName="/ppt/media/image14.wmf" ContentType="image/x-wmf"/>
  <Override PartName="/ppt/media/image9.jpeg" ContentType="image/jpeg"/>
  <Override PartName="/ppt/media/image23.wmf" ContentType="image/x-wmf"/>
  <Override PartName="/ppt/media/image2.png" ContentType="image/png"/>
  <Override PartName="/ppt/media/image29.wmf" ContentType="image/x-wmf"/>
  <Override PartName="/ppt/media/image1.png" ContentType="image/png"/>
  <Override PartName="/ppt/media/image26.wmf" ContentType="image/x-wmf"/>
  <Override PartName="/ppt/media/ANIS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DC8D8-FA28-4E3C-90FC-0C6C9B173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2E48D-EA06-41AB-B176-26598EA3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72C6-DD23-4A41-9AA0-1C2DFB2B4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ACC96-8BDF-467B-BEFF-0A59FC91E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F3630-B5CD-4609-B924-B93E9437D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F8799-E271-4423-A6F0-1B44B0838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DF370-E58F-41F1-84D5-7EE4B3711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A9F6B-5A66-46F8-B8C9-921A6EB29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AB72B-D0D2-4486-B648-3243DC8F2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BD2E-5F99-42AB-AEB0-661A925BF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80613-28B0-439E-9E81-40196DB50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02BC4-2D73-4DD2-B341-27A901E8C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0FA47-2DE7-4601-B3F5-1EF118A67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A1BE-8BCC-4267-B011-A014B45A2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882D-FDA8-4760-AF41-FCBEFDB20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D6DAB-64A7-47BE-87C8-093BF3D6D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B0CA4-DC64-41CA-844B-9B5C9E422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E77C-CC95-42FD-B0F4-BED1F3E4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1FDA-2D6D-4AC1-8C47-D15334BC9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DABB-8FAE-498C-AF6D-B74A70105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66CCA-BDE6-4EC3-919A-E52EB016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F16C-AAFB-4CEA-BA9B-9C01E4EC4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008E-11C8-4EC2-AF41-47B2650A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0F2F-C391-4AAD-AEFC-C48FCB788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321E-26AB-4058-B997-B90DF8F08D1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B2C5-4F51-41E2-AD16-CAC1A9B74F1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gif"/><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10.gif"/><Relationship Id="rId16" Type="http://schemas.openxmlformats.org/officeDocument/2006/relationships/image" Target="../media/image11.gif"/><Relationship Id="rId17" Type="http://schemas.openxmlformats.org/officeDocument/2006/relationships/image" Target="../media/image12.gif"/><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NISES.WAV"/><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7870680" y="44280"/>
            <a:ext cx="1238400" cy="1238400"/>
          </a:xfrm>
          <a:prstGeom prst="rect">
            <a:avLst/>
          </a:prstGeom>
          <a:ln w="0">
            <a:noFill/>
          </a:ln>
        </p:spPr>
      </p:pic>
      <p:pic>
        <p:nvPicPr>
          <p:cNvPr id="83" name="" descr=""/>
          <p:cNvPicPr/>
          <p:nvPr/>
        </p:nvPicPr>
        <p:blipFill>
          <a:blip r:embed="rId3"/>
          <a:stretch/>
        </p:blipFill>
        <p:spPr>
          <a:xfrm>
            <a:off x="34920" y="2276640"/>
            <a:ext cx="1238400" cy="1223640"/>
          </a:xfrm>
          <a:prstGeom prst="rect">
            <a:avLst/>
          </a:prstGeom>
          <a:ln w="0">
            <a:noFill/>
          </a:ln>
        </p:spPr>
      </p:pic>
      <p:pic>
        <p:nvPicPr>
          <p:cNvPr id="84" name="" descr=""/>
          <p:cNvPicPr/>
          <p:nvPr/>
        </p:nvPicPr>
        <p:blipFill>
          <a:blip r:embed="rId4"/>
          <a:stretch/>
        </p:blipFill>
        <p:spPr>
          <a:xfrm>
            <a:off x="8101080" y="2637000"/>
            <a:ext cx="977760" cy="1296720"/>
          </a:xfrm>
          <a:prstGeom prst="rect">
            <a:avLst/>
          </a:prstGeom>
          <a:ln w="0">
            <a:noFill/>
          </a:ln>
        </p:spPr>
      </p:pic>
      <p:pic>
        <p:nvPicPr>
          <p:cNvPr id="85" name="" descr=""/>
          <p:cNvPicPr/>
          <p:nvPr/>
        </p:nvPicPr>
        <p:blipFill>
          <a:blip r:embed="rId5"/>
          <a:stretch/>
        </p:blipFill>
        <p:spPr>
          <a:xfrm>
            <a:off x="3851280" y="54000"/>
            <a:ext cx="1333440" cy="1143000"/>
          </a:xfrm>
          <a:prstGeom prst="rect">
            <a:avLst/>
          </a:prstGeom>
          <a:ln w="0">
            <a:noFill/>
          </a:ln>
        </p:spPr>
      </p:pic>
      <p:pic>
        <p:nvPicPr>
          <p:cNvPr id="86" name="" descr=""/>
          <p:cNvPicPr/>
          <p:nvPr/>
        </p:nvPicPr>
        <p:blipFill>
          <a:blip r:embed="rId6"/>
          <a:stretch/>
        </p:blipFill>
        <p:spPr>
          <a:xfrm>
            <a:off x="34920" y="103320"/>
            <a:ext cx="1238400" cy="1238040"/>
          </a:xfrm>
          <a:prstGeom prst="rect">
            <a:avLst/>
          </a:prstGeom>
          <a:ln w="0">
            <a:noFill/>
          </a:ln>
        </p:spPr>
      </p:pic>
      <p:pic>
        <p:nvPicPr>
          <p:cNvPr id="87" name="" descr=""/>
          <p:cNvPicPr/>
          <p:nvPr/>
        </p:nvPicPr>
        <p:blipFill>
          <a:blip r:embed="rId7"/>
          <a:stretch/>
        </p:blipFill>
        <p:spPr>
          <a:xfrm>
            <a:off x="1763640" y="1268280"/>
            <a:ext cx="5472360" cy="4418280"/>
          </a:xfrm>
          <a:prstGeom prst="rect">
            <a:avLst/>
          </a:prstGeom>
          <a:ln w="0">
            <a:noFill/>
          </a:ln>
        </p:spPr>
      </p:pic>
      <p:sp>
        <p:nvSpPr>
          <p:cNvPr id="88" name=""/>
          <p:cNvSpPr txBox="1"/>
          <p:nvPr/>
        </p:nvSpPr>
        <p:spPr>
          <a:xfrm>
            <a:off x="2050920" y="1341360"/>
            <a:ext cx="7704360" cy="424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8"/>
                  <a:srcRect/>
                  <a:tile tx="0" ty="0" sx="100000" sy="100000" algn="ctr"/>
                </a:blipFill>
                <a:latin typeface="Arial Black"/>
              </a:rPr>
              <a:t>ÇOKLU</a:t>
            </a:r>
            <a:endParaRPr b="0" lang="en-US" sz="2400" spc="1" strike="noStrike">
              <a:ln w="12600">
                <a:solidFill>
                  <a:srgbClr val="eaeaea"/>
                </a:solidFill>
                <a:miter/>
              </a:ln>
              <a:blipFill rotWithShape="0">
                <a:blip r:embed="rId9"/>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10"/>
                  <a:srcRect/>
                  <a:tile tx="0" ty="0" sx="100000" sy="100000" algn="ctr"/>
                </a:blipFill>
                <a:latin typeface="Arial Black"/>
              </a:rPr>
              <a:t> </a:t>
            </a:r>
            <a:r>
              <a:rPr b="0" lang="en-US" sz="2400" spc="1" strike="noStrike">
                <a:ln w="12600">
                  <a:solidFill>
                    <a:srgbClr val="eaeaea"/>
                  </a:solidFill>
                  <a:miter/>
                </a:ln>
                <a:blipFill rotWithShape="0">
                  <a:blip r:embed="rId11"/>
                  <a:srcRect/>
                  <a:tile tx="0" ty="0" sx="100000" sy="100000" algn="ctr"/>
                </a:blipFill>
                <a:latin typeface="Arial Black"/>
              </a:rPr>
              <a:t>ZEKA </a:t>
            </a:r>
            <a:endParaRPr b="0" lang="en-US" sz="2400" spc="1" strike="noStrike">
              <a:ln w="12600">
                <a:solidFill>
                  <a:srgbClr val="eaeaea"/>
                </a:solidFill>
                <a:miter/>
              </a:ln>
              <a:blipFill rotWithShape="0">
                <a:blip r:embed="rId1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13"/>
                  <a:srcRect/>
                  <a:tile tx="0" ty="0" sx="100000" sy="100000" algn="ctr"/>
                </a:blipFill>
                <a:latin typeface="Arial Black"/>
              </a:rPr>
              <a:t>KURAMI</a:t>
            </a:r>
            <a:endParaRPr b="0" lang="en-US" sz="2400" spc="1" strike="noStrike">
              <a:ln w="12600">
                <a:solidFill>
                  <a:srgbClr val="eaeaea"/>
                </a:solidFill>
                <a:miter/>
              </a:ln>
              <a:blipFill rotWithShape="0">
                <a:blip r:embed="rId14"/>
                <a:srcRect/>
                <a:tile tx="0" ty="0" sx="100000" sy="100000" algn="ctr"/>
              </a:blipFill>
              <a:latin typeface="Arial Black"/>
              <a:ea typeface="Arial Black"/>
            </a:endParaRPr>
          </a:p>
        </p:txBody>
      </p:sp>
      <p:pic>
        <p:nvPicPr>
          <p:cNvPr id="89" name="" descr=""/>
          <p:cNvPicPr/>
          <p:nvPr/>
        </p:nvPicPr>
        <p:blipFill>
          <a:blip r:embed="rId15"/>
          <a:stretch/>
        </p:blipFill>
        <p:spPr>
          <a:xfrm>
            <a:off x="7561440" y="5589720"/>
            <a:ext cx="1547640" cy="1295280"/>
          </a:xfrm>
          <a:prstGeom prst="rect">
            <a:avLst/>
          </a:prstGeom>
          <a:ln w="0">
            <a:noFill/>
          </a:ln>
        </p:spPr>
      </p:pic>
      <p:pic>
        <p:nvPicPr>
          <p:cNvPr id="90" name="" descr=""/>
          <p:cNvPicPr/>
          <p:nvPr/>
        </p:nvPicPr>
        <p:blipFill>
          <a:blip r:embed="rId16"/>
          <a:stretch/>
        </p:blipFill>
        <p:spPr>
          <a:xfrm>
            <a:off x="4067280" y="5734080"/>
            <a:ext cx="1079280" cy="1096920"/>
          </a:xfrm>
          <a:prstGeom prst="rect">
            <a:avLst/>
          </a:prstGeom>
          <a:ln w="0">
            <a:noFill/>
          </a:ln>
        </p:spPr>
      </p:pic>
      <p:pic>
        <p:nvPicPr>
          <p:cNvPr id="91" name="" descr=""/>
          <p:cNvPicPr/>
          <p:nvPr/>
        </p:nvPicPr>
        <p:blipFill>
          <a:blip r:embed="rId17"/>
          <a:stretch/>
        </p:blipFill>
        <p:spPr>
          <a:xfrm>
            <a:off x="34920" y="5359320"/>
            <a:ext cx="1324080" cy="1285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100"/>
                                  </p:iterate>
                                  <p:childTnLst>
                                    <p:set>
                                      <p:cBhvr>
                                        <p:cTn id="6" dur="1" fill="hold">
                                          <p:stCondLst>
                                            <p:cond delay="0"/>
                                          </p:stCondLst>
                                        </p:cTn>
                                        <p:tgtEl>
                                          <p:spTgt spid="85"/>
                                        </p:tgtEl>
                                        <p:attrNameLst>
                                          <p:attrName>style.visibility</p:attrName>
                                        </p:attrNameLst>
                                      </p:cBhvr>
                                      <p:to>
                                        <p:strVal val="visible"/>
                                      </p:to>
                                    </p:set>
                                    <p:anim calcmode="lin" valueType="num">
                                      <p:cBhvr additive="repl">
                                        <p:cTn id="7" dur="2000" fill="hold"/>
                                        <p:tgtEl>
                                          <p:spTgt spid="85"/>
                                        </p:tgtEl>
                                        <p:attrNameLst>
                                          <p:attrName>ppt_w</p:attrName>
                                        </p:attrNameLst>
                                      </p:cBhvr>
                                      <p:tavLst>
                                        <p:tav tm="0">
                                          <p:val>
                                            <p:fltVal val="0"/>
                                          </p:val>
                                        </p:tav>
                                        <p:tav tm="100000">
                                          <p:val>
                                            <p:strVal val="#ppt_w"/>
                                          </p:val>
                                        </p:tav>
                                      </p:tavLst>
                                    </p:anim>
                                    <p:anim calcmode="lin" valueType="num">
                                      <p:cBhvr additive="repl">
                                        <p:cTn id="8" dur="2000" fill="hold"/>
                                        <p:tgtEl>
                                          <p:spTgt spid="85"/>
                                        </p:tgtEl>
                                        <p:attrNameLst>
                                          <p:attrName>ppt_h</p:attrName>
                                        </p:attrNameLst>
                                      </p:cBhvr>
                                      <p:tavLst>
                                        <p:tav tm="0">
                                          <p:val>
                                            <p:fltVal val="0"/>
                                          </p:val>
                                        </p:tav>
                                        <p:tav tm="100000">
                                          <p:val>
                                            <p:strVal val="#ppt_h"/>
                                          </p:val>
                                        </p:tav>
                                      </p:tavLst>
                                    </p:anim>
                                    <p:anim calcmode="lin" valueType="num">
                                      <p:cBhvr additive="repl">
                                        <p:cTn id="9" dur="2000" fill="hold"/>
                                        <p:tgtEl>
                                          <p:spTgt spid="85"/>
                                        </p:tgtEl>
                                        <p:attrNameLst>
                                          <p:attrName>r</p:attrName>
                                        </p:attrNameLst>
                                      </p:cBhvr>
                                      <p:tavLst>
                                        <p:tav tm="0">
                                          <p:val>
                                            <p:strVal val="90"/>
                                          </p:val>
                                        </p:tav>
                                        <p:tav tm="100000">
                                          <p:val>
                                            <p:strVal val="0"/>
                                          </p:val>
                                        </p:tav>
                                      </p:tavLst>
                                    </p:anim>
                                    <p:animEffect filter="fade" transition="in">
                                      <p:cBhvr additive="repl">
                                        <p:cTn id="10" dur="2000"/>
                                        <p:tgtEl>
                                          <p:spTgt spid="85"/>
                                        </p:tgtEl>
                                      </p:cBhvr>
                                    </p:animEffect>
                                  </p:childTnLst>
                                </p:cTn>
                              </p:par>
                            </p:childTnLst>
                          </p:cTn>
                        </p:par>
                        <p:par>
                          <p:cTn id="11"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86"/>
                                        </p:tgtEl>
                                        <p:attrNameLst>
                                          <p:attrName>style.visibility</p:attrName>
                                        </p:attrNameLst>
                                      </p:cBhvr>
                                      <p:to>
                                        <p:strVal val="visible"/>
                                      </p:to>
                                    </p:set>
                                    <p:animEffect filter="wheel(4)" transition="in">
                                      <p:cBhvr additive="repl">
                                        <p:cTn id="14" dur="2000"/>
                                        <p:tgtEl>
                                          <p:spTgt spid="86"/>
                                        </p:tgtEl>
                                      </p:cBhvr>
                                    </p:animEffect>
                                  </p:childTnLst>
                                </p:cTn>
                              </p:par>
                            </p:childTnLst>
                          </p:cTn>
                        </p:par>
                        <p:par>
                          <p:cTn id="15" fill="hold">
                            <p:stCondLst>
                              <p:cond delay="4000"/>
                            </p:stCondLst>
                            <p:childTnLst>
                              <p:par>
                                <p:cTn id="16" nodeType="afterEffect" fill="hold" presetClass="entr" presetID="47">
                                  <p:stCondLst>
                                    <p:cond delay="0"/>
                                  </p:stCondLst>
                                  <p:childTnLst>
                                    <p:set>
                                      <p:cBhvr>
                                        <p:cTn id="17" dur="1" fill="hold">
                                          <p:stCondLst>
                                            <p:cond delay="0"/>
                                          </p:stCondLst>
                                        </p:cTn>
                                        <p:tgtEl>
                                          <p:spTgt spid="84"/>
                                        </p:tgtEl>
                                        <p:attrNameLst>
                                          <p:attrName>style.visibility</p:attrName>
                                        </p:attrNameLst>
                                      </p:cBhvr>
                                      <p:to>
                                        <p:strVal val="visible"/>
                                      </p:to>
                                    </p:set>
                                    <p:animEffect filter="fade" transition="in">
                                      <p:cBhvr additive="repl">
                                        <p:cTn id="18" dur="2000"/>
                                        <p:tgtEl>
                                          <p:spTgt spid="84"/>
                                        </p:tgtEl>
                                      </p:cBhvr>
                                    </p:animEffect>
                                    <p:anim calcmode="lin" valueType="num">
                                      <p:cBhvr additive="repl">
                                        <p:cTn id="19" dur="2000" fill="hold"/>
                                        <p:tgtEl>
                                          <p:spTgt spid="84"/>
                                        </p:tgtEl>
                                        <p:attrNameLst>
                                          <p:attrName>ppt_x</p:attrName>
                                        </p:attrNameLst>
                                      </p:cBhvr>
                                      <p:tavLst>
                                        <p:tav tm="0">
                                          <p:val>
                                            <p:strVal val="#ppt_x"/>
                                          </p:val>
                                        </p:tav>
                                        <p:tav tm="100000">
                                          <p:val>
                                            <p:strVal val="#ppt_x"/>
                                          </p:val>
                                        </p:tav>
                                      </p:tavLst>
                                    </p:anim>
                                    <p:anim calcmode="lin" valueType="num">
                                      <p:cBhvr additive="repl">
                                        <p:cTn id="20" dur="2000" fill="hold"/>
                                        <p:tgtEl>
                                          <p:spTgt spid="84"/>
                                        </p:tgtEl>
                                        <p:attrNameLst>
                                          <p:attrName>ppt_y</p:attrName>
                                        </p:attrNameLst>
                                      </p:cBhvr>
                                      <p:tavLst>
                                        <p:tav tm="0">
                                          <p:val>
                                            <p:strVal val="#ppt_y-.1"/>
                                          </p:val>
                                        </p:tav>
                                        <p:tav tm="100000">
                                          <p:val>
                                            <p:strVal val="#ppt_y"/>
                                          </p:val>
                                        </p:tav>
                                      </p:tavLst>
                                    </p:anim>
                                  </p:childTnLst>
                                </p:cTn>
                              </p:par>
                            </p:childTnLst>
                          </p:cTn>
                        </p:par>
                        <p:par>
                          <p:cTn id="21" fill="hold">
                            <p:stCondLst>
                              <p:cond delay="6000"/>
                            </p:stCondLst>
                            <p:childTnLst>
                              <p:par>
                                <p:cTn id="22" nodeType="afterEffect" fill="hold" presetClass="entr" presetID="19" presetSubtype="10">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25" dur="5000" fill="hold"/>
                                        <p:tgtEl>
                                          <p:spTgt spid="91"/>
                                        </p:tgtEl>
                                        <p:attrNameLst>
                                          <p:attrName>ppt_h</p:attrName>
                                        </p:attrNameLst>
                                      </p:cBhvr>
                                      <p:tavLst>
                                        <p:tav tm="0">
                                          <p:val>
                                            <p:strVal val="#ppt_h"/>
                                          </p:val>
                                        </p:tav>
                                        <p:tav tm="100000">
                                          <p:val>
                                            <p:strVal val="#ppt_h"/>
                                          </p:val>
                                        </p:tav>
                                      </p:tavLst>
                                    </p:anim>
                                  </p:childTnLst>
                                </p:cTn>
                              </p:par>
                            </p:childTnLst>
                          </p:cTn>
                        </p:par>
                        <p:par>
                          <p:cTn id="26" fill="hold">
                            <p:stCondLst>
                              <p:cond delay="11000"/>
                            </p:stCondLst>
                            <p:childTnLst>
                              <p:par>
                                <p:cTn id="27" nodeType="afterEffect" fill="hold" presetClass="entr" presetID="26">
                                  <p:stCondLst>
                                    <p:cond delay="0"/>
                                  </p:stCondLst>
                                  <p:childTnLst>
                                    <p:set>
                                      <p:cBhvr>
                                        <p:cTn id="28" dur="1" fill="hold">
                                          <p:stCondLst>
                                            <p:cond delay="0"/>
                                          </p:stCondLst>
                                        </p:cTn>
                                        <p:tgtEl>
                                          <p:spTgt spid="89"/>
                                        </p:tgtEl>
                                        <p:attrNameLst>
                                          <p:attrName>style.visibility</p:attrName>
                                        </p:attrNameLst>
                                      </p:cBhvr>
                                      <p:to>
                                        <p:strVal val="visible"/>
                                      </p:to>
                                    </p:set>
                                    <p:animEffect filter="wipe(down)" transition="in">
                                      <p:cBhvr additive="repl">
                                        <p:cTn id="29" dur="580">
                                          <p:stCondLst>
                                            <p:cond delay="0"/>
                                          </p:stCondLst>
                                        </p:cTn>
                                        <p:tgtEl>
                                          <p:spTgt spid="89"/>
                                        </p:tgtEl>
                                      </p:cBhvr>
                                    </p:animEffect>
                                    <p:anim calcmode="lin" valueType="num">
                                      <p:cBhvr additive="repl">
                                        <p:cTn id="30"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1"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3"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4"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5" dur="26" fill="hold">
                                          <p:stCondLst>
                                            <p:cond delay="650"/>
                                          </p:stCondLst>
                                        </p:cTn>
                                        <p:tgtEl>
                                          <p:spTgt spid="89"/>
                                        </p:tgtEl>
                                      </p:cBhvr>
                                      <p:to x="100000" y="60000"/>
                                    </p:animScale>
                                    <p:animScale>
                                      <p:cBhvr>
                                        <p:cTn id="36" dur="166" fill="hold">
                                          <p:stCondLst>
                                            <p:cond delay="676"/>
                                          </p:stCondLst>
                                        </p:cTn>
                                        <p:tgtEl>
                                          <p:spTgt spid="89"/>
                                        </p:tgtEl>
                                      </p:cBhvr>
                                      <p:to x="100000" y="100000"/>
                                    </p:animScale>
                                    <p:animScale>
                                      <p:cBhvr>
                                        <p:cTn id="37" dur="26" fill="hold">
                                          <p:stCondLst>
                                            <p:cond delay="1312"/>
                                          </p:stCondLst>
                                        </p:cTn>
                                        <p:tgtEl>
                                          <p:spTgt spid="89"/>
                                        </p:tgtEl>
                                      </p:cBhvr>
                                      <p:to x="100000" y="80000"/>
                                    </p:animScale>
                                    <p:animScale>
                                      <p:cBhvr>
                                        <p:cTn id="38" dur="166" fill="hold">
                                          <p:stCondLst>
                                            <p:cond delay="1338"/>
                                          </p:stCondLst>
                                        </p:cTn>
                                        <p:tgtEl>
                                          <p:spTgt spid="89"/>
                                        </p:tgtEl>
                                      </p:cBhvr>
                                      <p:to x="100000" y="100000"/>
                                    </p:animScale>
                                    <p:animScale>
                                      <p:cBhvr>
                                        <p:cTn id="39" dur="26" fill="hold">
                                          <p:stCondLst>
                                            <p:cond delay="1642"/>
                                          </p:stCondLst>
                                        </p:cTn>
                                        <p:tgtEl>
                                          <p:spTgt spid="89"/>
                                        </p:tgtEl>
                                      </p:cBhvr>
                                      <p:to x="100000" y="90000"/>
                                    </p:animScale>
                                    <p:animScale>
                                      <p:cBhvr>
                                        <p:cTn id="40" dur="166" fill="hold">
                                          <p:stCondLst>
                                            <p:cond delay="1668"/>
                                          </p:stCondLst>
                                        </p:cTn>
                                        <p:tgtEl>
                                          <p:spTgt spid="89"/>
                                        </p:tgtEl>
                                      </p:cBhvr>
                                      <p:to x="100000" y="100000"/>
                                    </p:animScale>
                                    <p:animScale>
                                      <p:cBhvr>
                                        <p:cTn id="41" dur="26" fill="hold">
                                          <p:stCondLst>
                                            <p:cond delay="1808"/>
                                          </p:stCondLst>
                                        </p:cTn>
                                        <p:tgtEl>
                                          <p:spTgt spid="89"/>
                                        </p:tgtEl>
                                      </p:cBhvr>
                                      <p:to x="100000" y="95000"/>
                                    </p:animScale>
                                    <p:animScale>
                                      <p:cBhvr>
                                        <p:cTn id="42" dur="166" fill="hold">
                                          <p:stCondLst>
                                            <p:cond delay="1834"/>
                                          </p:stCondLst>
                                        </p:cTn>
                                        <p:tgtEl>
                                          <p:spTgt spid="89"/>
                                        </p:tgtEl>
                                      </p:cBhvr>
                                      <p:to x="100000" y="100000"/>
                                    </p:animScale>
                                  </p:childTnLst>
                                </p:cTn>
                              </p:par>
                            </p:childTnLst>
                          </p:cTn>
                        </p:par>
                        <p:par>
                          <p:cTn id="43" fill="hold">
                            <p:stCondLst>
                              <p:cond delay="15000"/>
                            </p:stCondLst>
                            <p:childTnLst>
                              <p:par>
                                <p:cTn id="44" nodeType="afterEffect" fill="hold" presetClass="entr" presetID="51">
                                  <p:stCondLst>
                                    <p:cond delay="0"/>
                                  </p:stCondLst>
                                  <p:childTnLst>
                                    <p:set>
                                      <p:cBhvr>
                                        <p:cTn id="45" dur="1" fill="hold">
                                          <p:stCondLst>
                                            <p:cond delay="0"/>
                                          </p:stCondLst>
                                        </p:cTn>
                                        <p:tgtEl>
                                          <p:spTgt spid="83"/>
                                        </p:tgtEl>
                                        <p:attrNameLst>
                                          <p:attrName>style.visibility</p:attrName>
                                        </p:attrNameLst>
                                      </p:cBhvr>
                                      <p:to>
                                        <p:strVal val="visible"/>
                                      </p:to>
                                    </p:set>
                                    <p:animEffect filter="fade" transition="in">
                                      <p:cBhvr additive="repl">
                                        <p:cTn id="46" dur="770"/>
                                        <p:tgtEl>
                                          <p:spTgt spid="83"/>
                                        </p:tgtEl>
                                      </p:cBhvr>
                                    </p:animEffect>
                                    <p:animScale>
                                      <p:cBhvr>
                                        <p:cTn id="47" dur="770" fill="hold"/>
                                        <p:tgtEl>
                                          <p:spTgt spid="83"/>
                                        </p:tgtEl>
                                      </p:cBhvr>
                                      <p:from x="10000" y="10000"/>
                                      <p:to x="200000" y="450000"/>
                                    </p:animScale>
                                    <p:animScale>
                                      <p:cBhvr>
                                        <p:cTn id="48" dur="1230" fill="hold">
                                          <p:stCondLst>
                                            <p:cond delay="770"/>
                                          </p:stCondLst>
                                        </p:cTn>
                                        <p:tgtEl>
                                          <p:spTgt spid="83"/>
                                        </p:tgtEl>
                                      </p:cBhvr>
                                      <p:from x="200000" y="450000"/>
                                      <p:to x="100000" y="100000"/>
                                    </p:animScale>
                                    <p:set>
                                      <p:cBhvr>
                                        <p:cTn id="49" dur="770" fill="hold"/>
                                        <p:tgtEl>
                                          <p:spTgt spid="83"/>
                                        </p:tgtEl>
                                        <p:attrNameLst>
                                          <p:attrName>ppt_x</p:attrName>
                                        </p:attrNameLst>
                                      </p:cBhvr>
                                      <p:to>
                                        <p:strVal val="(0.5)"/>
                                      </p:to>
                                    </p:set>
                                    <p:anim calcmode="lin" valueType="num" from="(0.5)" to="(#ppt_x)">
                                      <p:cBhvr additive="repl">
                                        <p:cTn id="50" dur="1230" fill="hold">
                                          <p:stCondLst>
                                            <p:cond delay="770"/>
                                          </p:stCondLst>
                                        </p:cTn>
                                        <p:tgtEl>
                                          <p:spTgt spid="83"/>
                                        </p:tgtEl>
                                        <p:attrNameLst>
                                          <p:attrName>ppt_x</p:attrName>
                                        </p:attrNameLst>
                                      </p:cBhvr>
                                    </p:anim>
                                    <p:set>
                                      <p:cBhvr>
                                        <p:cTn id="51" dur="770" fill="hold"/>
                                        <p:tgtEl>
                                          <p:spTgt spid="83"/>
                                        </p:tgtEl>
                                        <p:attrNameLst>
                                          <p:attrName>ppt_y</p:attrName>
                                        </p:attrNameLst>
                                      </p:cBhvr>
                                      <p:to>
                                        <p:strVal val="(#ppt_y+0.4)"/>
                                      </p:to>
                                    </p:set>
                                    <p:anim calcmode="lin" valueType="num" from="(#ppt_y+0.4)" to="(#ppt_y)">
                                      <p:cBhvr additive="repl">
                                        <p:cTn id="52" dur="1230" fill="hold">
                                          <p:stCondLst>
                                            <p:cond delay="770"/>
                                          </p:stCondLst>
                                        </p:cTn>
                                        <p:tgtEl>
                                          <p:spTgt spid="83"/>
                                        </p:tgtEl>
                                        <p:attrNameLst>
                                          <p:attrName>ppt_y</p:attrName>
                                        </p:attrNameLst>
                                      </p:cBhvr>
                                    </p:anim>
                                  </p:childTnLst>
                                </p:cTn>
                              </p:par>
                            </p:childTnLst>
                          </p:cTn>
                        </p:par>
                        <p:par>
                          <p:cTn id="53" fill="hold">
                            <p:stCondLst>
                              <p:cond delay="17000"/>
                            </p:stCondLst>
                            <p:childTnLst>
                              <p:par>
                                <p:cTn id="54" nodeType="afterEffect" fill="hold" presetClass="entr" presetID="54">
                                  <p:stCondLst>
                                    <p:cond delay="0"/>
                                  </p:stCondLst>
                                  <p:childTnLst>
                                    <p:set>
                                      <p:cBhvr>
                                        <p:cTn id="55" dur="1" fill="hold">
                                          <p:stCondLst>
                                            <p:cond delay="0"/>
                                          </p:stCondLst>
                                        </p:cTn>
                                        <p:tgtEl>
                                          <p:spTgt spid="82"/>
                                        </p:tgtEl>
                                        <p:attrNameLst>
                                          <p:attrName>style.visibility</p:attrName>
                                        </p:attrNameLst>
                                      </p:cBhvr>
                                      <p:to>
                                        <p:strVal val="visible"/>
                                      </p:to>
                                    </p:set>
                                    <p:anim calcmode="lin" valueType="num">
                                      <p:cBhvr additive="repl">
                                        <p:cTn id="56" dur="500" fill="hold"/>
                                        <p:tgtEl>
                                          <p:spTgt spid="82"/>
                                        </p:tgtEl>
                                        <p:attrNameLst>
                                          <p:attrName>ppt_w</p:attrName>
                                        </p:attrNameLst>
                                      </p:cBhvr>
                                      <p:tavLst>
                                        <p:tav tm="0">
                                          <p:val>
                                            <p:strVal val="#ppt_w*0.05"/>
                                          </p:val>
                                        </p:tav>
                                        <p:tav tm="100000">
                                          <p:val>
                                            <p:strVal val="#ppt_w"/>
                                          </p:val>
                                        </p:tav>
                                      </p:tavLst>
                                    </p:anim>
                                    <p:anim calcmode="lin" valueType="num">
                                      <p:cBhvr additive="repl">
                                        <p:cTn id="57" dur="500" fill="hold"/>
                                        <p:tgtEl>
                                          <p:spTgt spid="82"/>
                                        </p:tgtEl>
                                        <p:attrNameLst>
                                          <p:attrName>ppt_h</p:attrName>
                                        </p:attrNameLst>
                                      </p:cBhvr>
                                      <p:tavLst>
                                        <p:tav tm="0">
                                          <p:val>
                                            <p:strVal val="#ppt_h"/>
                                          </p:val>
                                        </p:tav>
                                        <p:tav tm="100000">
                                          <p:val>
                                            <p:strVal val="#ppt_h"/>
                                          </p:val>
                                        </p:tav>
                                      </p:tavLst>
                                    </p:anim>
                                    <p:anim calcmode="lin" valueType="num">
                                      <p:cBhvr additive="repl">
                                        <p:cTn id="58" dur="500" fill="hold"/>
                                        <p:tgtEl>
                                          <p:spTgt spid="82"/>
                                        </p:tgtEl>
                                        <p:attrNameLst>
                                          <p:attrName>ppt_x</p:attrName>
                                        </p:attrNameLst>
                                      </p:cBhvr>
                                      <p:tavLst>
                                        <p:tav tm="0">
                                          <p:val>
                                            <p:strVal val="#ppt_x-.2"/>
                                          </p:val>
                                        </p:tav>
                                        <p:tav tm="100000">
                                          <p:val>
                                            <p:strVal val="#ppt_x"/>
                                          </p:val>
                                        </p:tav>
                                      </p:tavLst>
                                    </p:anim>
                                    <p:anim calcmode="lin" valueType="num">
                                      <p:cBhvr additive="repl">
                                        <p:cTn id="59" dur="500" fill="hold"/>
                                        <p:tgtEl>
                                          <p:spTgt spid="82"/>
                                        </p:tgtEl>
                                        <p:attrNameLst>
                                          <p:attrName>ppt_y</p:attrName>
                                        </p:attrNameLst>
                                      </p:cBhvr>
                                      <p:tavLst>
                                        <p:tav tm="0">
                                          <p:val>
                                            <p:strVal val="#ppt_y"/>
                                          </p:val>
                                        </p:tav>
                                        <p:tav tm="100000">
                                          <p:val>
                                            <p:strVal val="#ppt_y"/>
                                          </p:val>
                                        </p:tav>
                                      </p:tavLst>
                                    </p:anim>
                                    <p:animEffect filter="fade" transition="in">
                                      <p:cBhvr additive="repl">
                                        <p:cTn id="60" dur="500"/>
                                        <p:tgtEl>
                                          <p:spTgt spid="82"/>
                                        </p:tgtEl>
                                      </p:cBhvr>
                                    </p:animEffect>
                                  </p:childTnLst>
                                </p:cTn>
                              </p:par>
                            </p:childTnLst>
                          </p:cTn>
                        </p:par>
                        <p:par>
                          <p:cTn id="61" fill="hold">
                            <p:stCondLst>
                              <p:cond delay="17500"/>
                            </p:stCondLst>
                            <p:childTnLst>
                              <p:par>
                                <p:cTn id="62" nodeType="afterEffect" fill="hold" presetClass="entr" presetID="19" presetSubtype="10">
                                  <p:stCondLst>
                                    <p:cond delay="0"/>
                                  </p:stCondLst>
                                  <p:childTnLst>
                                    <p:set>
                                      <p:cBhvr>
                                        <p:cTn id="63" dur="1" fill="hold">
                                          <p:stCondLst>
                                            <p:cond delay="0"/>
                                          </p:stCondLst>
                                        </p:cTn>
                                        <p:tgtEl>
                                          <p:spTgt spid="90"/>
                                        </p:tgtEl>
                                        <p:attrNameLst>
                                          <p:attrName>style.visibility</p:attrName>
                                        </p:attrNameLst>
                                      </p:cBhvr>
                                      <p:to>
                                        <p:strVal val="visible"/>
                                      </p:to>
                                    </p:set>
                                    <p:anim calcmode="lin" valueType="num">
                                      <p:cBhvr additive="repl">
                                        <p:cTn id="64"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65" dur="5000" fill="hold"/>
                                        <p:tgtEl>
                                          <p:spTgt spid="90"/>
                                        </p:tgtEl>
                                        <p:attrNameLst>
                                          <p:attrName>ppt_h</p:attrName>
                                        </p:attrNameLst>
                                      </p:cBhvr>
                                      <p:tavLst>
                                        <p:tav tm="0">
                                          <p:val>
                                            <p:strVal val="#ppt_h"/>
                                          </p:val>
                                        </p:tav>
                                        <p:tav tm="100000">
                                          <p:val>
                                            <p:strVal val="#ppt_h"/>
                                          </p:val>
                                        </p:tav>
                                      </p:tavLst>
                                    </p:anim>
                                  </p:childTnLst>
                                </p:cTn>
                              </p:par>
                            </p:childTnLst>
                          </p:cTn>
                        </p:par>
                        <p:par>
                          <p:cTn id="66" fill="hold">
                            <p:stCondLst>
                              <p:cond delay="22500"/>
                            </p:stCondLst>
                            <p:childTnLst>
                              <p:par>
                                <p:cTn id="67" nodeType="afterEffect" fill="hold" presetClass="entr" presetID="10">
                                  <p:stCondLst>
                                    <p:cond delay="0"/>
                                  </p:stCondLst>
                                  <p:childTnLst>
                                    <p:set>
                                      <p:cBhvr>
                                        <p:cTn id="68" dur="1" fill="hold">
                                          <p:stCondLst>
                                            <p:cond delay="0"/>
                                          </p:stCondLst>
                                        </p:cTn>
                                        <p:tgtEl>
                                          <p:spTgt spid="87"/>
                                        </p:tgtEl>
                                        <p:attrNameLst>
                                          <p:attrName>style.visibility</p:attrName>
                                        </p:attrNameLst>
                                      </p:cBhvr>
                                      <p:to>
                                        <p:strVal val="visible"/>
                                      </p:to>
                                    </p:set>
                                    <p:animEffect filter="fade" transition="in">
                                      <p:cBhvr additive="repl">
                                        <p:cTn id="69" dur="2000"/>
                                        <p:tgtEl>
                                          <p:spTgt spid="87"/>
                                        </p:tgtEl>
                                      </p:cBhvr>
                                    </p:animEffect>
                                  </p:childTnLst>
                                </p:cTn>
                              </p:par>
                            </p:childTnLst>
                          </p:cTn>
                        </p:par>
                        <p:par>
                          <p:cTn id="70" fill="hold">
                            <p:stCondLst>
                              <p:cond delay="24500"/>
                            </p:stCondLst>
                            <p:childTnLst>
                              <p:par>
                                <p:cTn id="71" nodeType="afterEffect" fill="hold" presetClass="entr" presetID="52">
                                  <p:stCondLst>
                                    <p:cond delay="0"/>
                                  </p:stCondLst>
                                  <p:childTnLst>
                                    <p:set>
                                      <p:cBhvr>
                                        <p:cTn id="72" dur="1" fill="hold">
                                          <p:stCondLst>
                                            <p:cond delay="0"/>
                                          </p:stCondLst>
                                        </p:cTn>
                                        <p:tgtEl>
                                          <p:spTgt spid="88"/>
                                        </p:tgtEl>
                                        <p:attrNameLst>
                                          <p:attrName>style.visibility</p:attrName>
                                        </p:attrNameLst>
                                      </p:cBhvr>
                                      <p:to>
                                        <p:strVal val="visible"/>
                                      </p:to>
                                    </p:set>
                                    <p:animScale>
                                      <p:cBhvr>
                                        <p:cTn id="73" dur="5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5000" fill="hold">
                                          <p:stCondLst>
                                            <p:cond delay="0"/>
                                          </p:stCondLst>
                                        </p:cTn>
                                        <p:tgtEl>
                                          <p:spTgt spid="88"/>
                                        </p:tgtEl>
                                      </p:cBhvr>
                                    </p:animMotion>
                                    <p:animEffect filter="fade" transition="in">
                                      <p:cBhvr additive="repl">
                                        <p:cTn id="75" dur="5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57200" y="1828800"/>
            <a:ext cx="8077320" cy="4333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a:t>
            </a:r>
            <a:r>
              <a:rPr b="0" lang="en-US" sz="2800" spc="-1" strike="noStrike">
                <a:solidFill>
                  <a:srgbClr val="ee941c"/>
                </a:solidFill>
                <a:latin typeface="Times New Roman"/>
              </a:rPr>
              <a:t> </a:t>
            </a:r>
            <a:r>
              <a:rPr b="1" lang="en-US" sz="3200" spc="-1" strike="noStrike">
                <a:solidFill>
                  <a:srgbClr val="0000a4"/>
                </a:solidFill>
                <a:latin typeface="Times New Roman"/>
              </a:rPr>
              <a:t>duyduysam</a:t>
            </a:r>
            <a:r>
              <a:rPr b="0" lang="en-US" sz="2800" spc="-1" strike="noStrike">
                <a:solidFill>
                  <a:srgbClr val="0000a4"/>
                </a:solidFill>
                <a:latin typeface="Times New Roman"/>
              </a:rPr>
              <a:t> </a:t>
            </a:r>
            <a:r>
              <a:rPr b="1" lang="en-US" sz="2800" spc="-1" strike="noStrike">
                <a:solidFill>
                  <a:srgbClr val="0000a4"/>
                </a:solidFill>
                <a:latin typeface="Times New Roman"/>
              </a:rPr>
              <a:t>unuttum.</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a:t>
            </a:r>
            <a:r>
              <a:rPr b="1" lang="en-US" sz="2800" spc="-1" strike="noStrike">
                <a:solidFill>
                  <a:srgbClr val="ffff00"/>
                </a:solidFill>
                <a:latin typeface="Times New Roman"/>
              </a:rPr>
              <a:t> </a:t>
            </a:r>
            <a:r>
              <a:rPr b="1" lang="en-US" sz="2800" spc="-1" strike="noStrike">
                <a:solidFill>
                  <a:srgbClr val="0000a4"/>
                </a:solidFill>
                <a:latin typeface="Times New Roman"/>
              </a:rPr>
              <a:t>duyar ve</a:t>
            </a:r>
            <a:r>
              <a:rPr b="0" lang="en-US" sz="2800" spc="-1" strike="noStrike">
                <a:solidFill>
                  <a:srgbClr val="0000a4"/>
                </a:solidFill>
                <a:latin typeface="Times New Roman"/>
              </a:rPr>
              <a:t> </a:t>
            </a:r>
            <a:r>
              <a:rPr b="1" lang="en-US" sz="3200" spc="-1" strike="noStrike">
                <a:solidFill>
                  <a:srgbClr val="0000a4"/>
                </a:solidFill>
                <a:latin typeface="Times New Roman"/>
              </a:rPr>
              <a:t>görürsem</a:t>
            </a:r>
            <a:r>
              <a:rPr b="0" lang="en-US" sz="2800" spc="-1" strike="noStrike">
                <a:solidFill>
                  <a:srgbClr val="0000a4"/>
                </a:solidFill>
                <a:latin typeface="Times New Roman"/>
              </a:rPr>
              <a:t>,</a:t>
            </a:r>
            <a:r>
              <a:rPr b="1" lang="en-US" sz="2800" spc="-1" strike="noStrike">
                <a:solidFill>
                  <a:srgbClr val="0000a4"/>
                </a:solidFill>
                <a:latin typeface="Times New Roman"/>
              </a:rPr>
              <a:t>biraz hatırlarım</a:t>
            </a:r>
            <a:r>
              <a:rPr b="0" lang="en-US" sz="2800" spc="-1" strike="noStrike">
                <a:solidFill>
                  <a:srgbClr val="0000a4"/>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a:t>
            </a:r>
            <a:r>
              <a:rPr b="1" lang="en-US" sz="2800" spc="-1" strike="noStrike">
                <a:solidFill>
                  <a:srgbClr val="0000a4"/>
                </a:solidFill>
                <a:latin typeface="Times New Roman"/>
              </a:rPr>
              <a:t> duyar, görür ve</a:t>
            </a:r>
            <a:r>
              <a:rPr b="0" lang="en-US" sz="2800" spc="-1" strike="noStrike">
                <a:solidFill>
                  <a:srgbClr val="0000a4"/>
                </a:solidFill>
                <a:latin typeface="Times New Roman"/>
              </a:rPr>
              <a:t> </a:t>
            </a:r>
            <a:r>
              <a:rPr b="1" lang="en-US" sz="3200" spc="-1" strike="noStrike">
                <a:solidFill>
                  <a:srgbClr val="0000a4"/>
                </a:solidFill>
                <a:latin typeface="Times New Roman"/>
              </a:rPr>
              <a:t>onunla ilgili soru sorar veya</a:t>
            </a:r>
            <a:r>
              <a:rPr b="0" lang="en-US" sz="2800" spc="-1" strike="noStrike">
                <a:solidFill>
                  <a:srgbClr val="0000a4"/>
                </a:solidFill>
                <a:latin typeface="Times New Roman"/>
              </a:rPr>
              <a:t> </a:t>
            </a:r>
            <a:r>
              <a:rPr b="1" lang="en-US" sz="2800" spc="-1" strike="noStrike">
                <a:solidFill>
                  <a:srgbClr val="0000a4"/>
                </a:solidFill>
                <a:latin typeface="Times New Roman"/>
              </a:rPr>
              <a:t>birisi ile</a:t>
            </a:r>
            <a:r>
              <a:rPr b="0" lang="en-US" sz="2800" spc="-1" strike="noStrike">
                <a:solidFill>
                  <a:srgbClr val="0000a4"/>
                </a:solidFill>
                <a:latin typeface="Times New Roman"/>
              </a:rPr>
              <a:t> </a:t>
            </a:r>
            <a:r>
              <a:rPr b="1" lang="en-US" sz="3200" spc="-1" strike="noStrike">
                <a:solidFill>
                  <a:srgbClr val="0000a4"/>
                </a:solidFill>
                <a:latin typeface="Times New Roman"/>
              </a:rPr>
              <a:t>tartışırsam</a:t>
            </a:r>
            <a:r>
              <a:rPr b="0" lang="en-US" sz="2800" spc="-1" strike="noStrike">
                <a:solidFill>
                  <a:srgbClr val="0000a4"/>
                </a:solidFill>
                <a:latin typeface="Times New Roman"/>
              </a:rPr>
              <a:t>, </a:t>
            </a:r>
            <a:r>
              <a:rPr b="1" lang="en-US" sz="2800" spc="-1" strike="noStrike">
                <a:solidFill>
                  <a:srgbClr val="0000a4"/>
                </a:solidFill>
                <a:latin typeface="Times New Roman"/>
              </a:rPr>
              <a:t>anlamaya başlarım.</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a:t>
            </a:r>
            <a:r>
              <a:rPr b="1" lang="en-US" sz="2800" spc="-1" strike="noStrike">
                <a:solidFill>
                  <a:srgbClr val="0000a4"/>
                </a:solidFill>
                <a:latin typeface="Times New Roman"/>
              </a:rPr>
              <a:t> duyar, görür, tartışır ve</a:t>
            </a:r>
            <a:r>
              <a:rPr b="0" lang="en-US" sz="2800" spc="-1" strike="noStrike">
                <a:solidFill>
                  <a:srgbClr val="0000a4"/>
                </a:solidFill>
                <a:latin typeface="Times New Roman"/>
              </a:rPr>
              <a:t> </a:t>
            </a:r>
            <a:r>
              <a:rPr b="1" lang="en-US" sz="3200" spc="-1" strike="noStrike">
                <a:solidFill>
                  <a:srgbClr val="0000a4"/>
                </a:solidFill>
                <a:latin typeface="Times New Roman"/>
              </a:rPr>
              <a:t>yaparsam</a:t>
            </a:r>
            <a:r>
              <a:rPr b="0" lang="en-US" sz="2800" spc="-1" strike="noStrike">
                <a:solidFill>
                  <a:srgbClr val="0000a4"/>
                </a:solidFill>
                <a:latin typeface="Times New Roman"/>
              </a:rPr>
              <a:t>, </a:t>
            </a:r>
            <a:r>
              <a:rPr b="1" lang="en-US" sz="2800" spc="-1" strike="noStrike">
                <a:solidFill>
                  <a:srgbClr val="0000a4"/>
                </a:solidFill>
                <a:latin typeface="Times New Roman"/>
              </a:rPr>
              <a:t>bilgi ve beceri kazanırım</a:t>
            </a:r>
            <a:r>
              <a:rPr b="0" lang="en-US" sz="2800" spc="-1" strike="noStrike">
                <a:solidFill>
                  <a:srgbClr val="0000a4"/>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Times New Roman"/>
              </a:rPr>
              <a:t>Başkasına ne</a:t>
            </a:r>
            <a:r>
              <a:rPr b="0" lang="en-US" sz="2800" spc="-1" strike="noStrike">
                <a:solidFill>
                  <a:srgbClr val="0000a4"/>
                </a:solidFill>
                <a:latin typeface="Times New Roman"/>
              </a:rPr>
              <a:t> </a:t>
            </a:r>
            <a:r>
              <a:rPr b="1" lang="en-US" sz="3200" spc="-1" strike="noStrike">
                <a:solidFill>
                  <a:srgbClr val="0000a4"/>
                </a:solidFill>
                <a:latin typeface="Times New Roman"/>
              </a:rPr>
              <a:t>öğretirsem</a:t>
            </a:r>
            <a:r>
              <a:rPr b="0" lang="en-US" sz="2800" spc="-1" strike="noStrike">
                <a:solidFill>
                  <a:srgbClr val="0000a4"/>
                </a:solidFill>
                <a:latin typeface="Times New Roman"/>
              </a:rPr>
              <a:t>, </a:t>
            </a:r>
            <a:r>
              <a:rPr b="1" lang="en-US" sz="2800" spc="-1" strike="noStrike">
                <a:solidFill>
                  <a:srgbClr val="0000a4"/>
                </a:solidFill>
                <a:latin typeface="Times New Roman"/>
              </a:rPr>
              <a:t>iyice öğrenirim</a:t>
            </a:r>
            <a:r>
              <a:rPr b="0" lang="en-US" sz="2800" spc="-1" strike="noStrike">
                <a:solidFill>
                  <a:srgbClr val="0000a4"/>
                </a:solidFill>
                <a:latin typeface="Times New Roman"/>
              </a:rPr>
              <a:t>.</a:t>
            </a:r>
            <a:endParaRPr b="0" lang="en-US" sz="2800" spc="-1" strike="noStrike">
              <a:solidFill>
                <a:srgbClr val="ffffff"/>
              </a:solidFill>
              <a:latin typeface="Times New Roman"/>
            </a:endParaRPr>
          </a:p>
        </p:txBody>
      </p:sp>
      <p:sp>
        <p:nvSpPr>
          <p:cNvPr id="123" name=""/>
          <p:cNvSpPr/>
          <p:nvPr/>
        </p:nvSpPr>
        <p:spPr>
          <a:xfrm>
            <a:off x="914400" y="380880"/>
            <a:ext cx="7467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a4"/>
                </a:solidFill>
                <a:uFillTx/>
                <a:latin typeface="Times New Roman"/>
              </a:rPr>
              <a:t>Bu söylemi aktif öğrenmeye uyarlayacak olursak</a:t>
            </a:r>
            <a:endParaRPr b="0" lang="en-US" sz="3200" spc="-1" strike="noStrike">
              <a:solidFill>
                <a:srgbClr val="ffffff"/>
              </a:solidFill>
              <a:latin typeface="Times New Roman"/>
            </a:endParaRPr>
          </a:p>
        </p:txBody>
      </p:sp>
    </p:spTree>
  </p:cSld>
  <p:transition>
    <p:dissolv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123"/>
                                        </p:tgtEl>
                                        <p:attrNameLst>
                                          <p:attrName>style.visibility</p:attrName>
                                        </p:attrNameLst>
                                      </p:cBhvr>
                                      <p:to>
                                        <p:strVal val="visible"/>
                                      </p:to>
                                    </p:set>
                                    <p:anim calcmode="lin" valueType="num">
                                      <p:cBhvr additive="repl">
                                        <p:cTn id="168" dur="1000" fill="hold"/>
                                        <p:tgtEl>
                                          <p:spTgt spid="123"/>
                                        </p:tgtEl>
                                        <p:attrNameLst>
                                          <p:attrName>ppt_w</p:attrName>
                                        </p:attrNameLst>
                                      </p:cBhvr>
                                      <p:tavLst>
                                        <p:tav tm="0">
                                          <p:val>
                                            <p:fltVal val="0"/>
                                          </p:val>
                                        </p:tav>
                                        <p:tav tm="100000">
                                          <p:val>
                                            <p:strVal val="#ppt_w"/>
                                          </p:val>
                                        </p:tav>
                                      </p:tavLst>
                                    </p:anim>
                                    <p:anim calcmode="lin" valueType="num">
                                      <p:cBhvr additive="repl">
                                        <p:cTn id="169" dur="1000" fill="hold"/>
                                        <p:tgtEl>
                                          <p:spTgt spid="123"/>
                                        </p:tgtEl>
                                        <p:attrNameLst>
                                          <p:attrName>ppt_h</p:attrName>
                                        </p:attrNameLst>
                                      </p:cBhvr>
                                      <p:tavLst>
                                        <p:tav tm="0">
                                          <p:val>
                                            <p:fltVal val="0"/>
                                          </p:val>
                                        </p:tav>
                                        <p:tav tm="100000">
                                          <p:val>
                                            <p:strVal val="#ppt_h"/>
                                          </p:val>
                                        </p:tav>
                                      </p:tavLst>
                                    </p:anim>
                                    <p:anim calcmode="lin" valueType="num">
                                      <p:cBhvr additive="repl">
                                        <p:cTn id="170"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5">
                                  <p:stCondLst>
                                    <p:cond delay="0"/>
                                  </p:stCondLst>
                                  <p:iterate type="wd">
                                    <p:tmAbs val="300"/>
                                  </p:iterate>
                                  <p:childTnLst>
                                    <p:set>
                                      <p:cBhvr>
                                        <p:cTn id="175" dur="1" fill="hold">
                                          <p:stCondLst>
                                            <p:cond delay="0"/>
                                          </p:stCondLst>
                                        </p:cTn>
                                        <p:tgtEl>
                                          <p:spTgt spid="122"/>
                                        </p:tgtEl>
                                        <p:attrNameLst>
                                          <p:attrName>style.visibility</p:attrName>
                                        </p:attrNameLst>
                                      </p:cBhvr>
                                      <p:to>
                                        <p:strVal val="visible"/>
                                      </p:to>
                                    </p:set>
                                    <p:animEffect filter="checkerboard(down)" transition="in">
                                      <p:cBhvr additive="repl">
                                        <p:cTn id="176"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0440" y="442800"/>
            <a:ext cx="818352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4"/>
                </a:solidFill>
                <a:latin typeface="Arial"/>
              </a:rPr>
              <a:t>ÖĞRENME NASIL OLUŞMAKTADIR?</a:t>
            </a:r>
            <a:br>
              <a:rPr sz="3200"/>
            </a:br>
            <a:endParaRPr b="0" lang="en-US" sz="3200" spc="-1" strike="noStrike">
              <a:solidFill>
                <a:srgbClr val="b7e7ff"/>
              </a:solidFill>
              <a:latin typeface="Arial"/>
            </a:endParaRPr>
          </a:p>
        </p:txBody>
      </p:sp>
      <p:sp>
        <p:nvSpPr>
          <p:cNvPr id="125" name="PlaceHolder 2"/>
          <p:cNvSpPr>
            <a:spLocks noGrp="1"/>
          </p:cNvSpPr>
          <p:nvPr>
            <p:ph/>
          </p:nvPr>
        </p:nvSpPr>
        <p:spPr>
          <a:xfrm>
            <a:off x="611280" y="1267920"/>
            <a:ext cx="8066160" cy="401652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	</a:t>
            </a:r>
            <a:r>
              <a:rPr b="1" lang="en-US" sz="2800" spc="-1" strike="noStrike">
                <a:solidFill>
                  <a:srgbClr val="0000a4"/>
                </a:solidFill>
                <a:latin typeface="Arial"/>
              </a:rPr>
              <a:t>Genellikle uyarıcı bombardımanı karşısında şu işlemler yapılmaktadır:</a:t>
            </a:r>
            <a:endParaRPr b="0" lang="en-US" sz="2800" spc="-1" strike="noStrike">
              <a:solidFill>
                <a:srgbClr val="ffffff"/>
              </a:solidFill>
              <a:latin typeface="Arial"/>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000" indent="-2880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öze, kulağa ve diğer duyu organlarına gelen</a:t>
            </a:r>
            <a:r>
              <a:rPr b="0" lang="en-US" sz="2800" spc="-1" strike="noStrike">
                <a:solidFill>
                  <a:srgbClr val="ff3300"/>
                </a:solidFill>
                <a:latin typeface="Arial"/>
              </a:rPr>
              <a:t> </a:t>
            </a:r>
            <a:r>
              <a:rPr b="1" lang="en-US" sz="2800" spc="-1" strike="noStrike">
                <a:solidFill>
                  <a:srgbClr val="ff3300"/>
                </a:solidFill>
                <a:latin typeface="Arial"/>
              </a:rPr>
              <a:t>fiziksel uyarıcılar</a:t>
            </a:r>
            <a:r>
              <a:rPr b="0" lang="en-US" sz="2800" spc="-1" strike="noStrike">
                <a:solidFill>
                  <a:srgbClr val="ff3300"/>
                </a:solidFill>
                <a:latin typeface="Arial"/>
              </a:rPr>
              <a:t> </a:t>
            </a:r>
            <a:r>
              <a:rPr b="1" lang="en-US" sz="2800" spc="-1" strike="noStrike">
                <a:solidFill>
                  <a:srgbClr val="ff3300"/>
                </a:solidFill>
                <a:latin typeface="Arial"/>
              </a:rPr>
              <a:t>seçilerek sinirsel iletilere</a:t>
            </a:r>
            <a:r>
              <a:rPr b="0" lang="en-US" sz="2800" spc="-1" strike="noStrike">
                <a:solidFill>
                  <a:srgbClr val="ff3300"/>
                </a:solidFill>
                <a:latin typeface="Arial"/>
              </a:rPr>
              <a:t> </a:t>
            </a:r>
            <a:r>
              <a:rPr b="1" lang="en-US" sz="2800" spc="-1" strike="noStrike">
                <a:solidFill>
                  <a:srgbClr val="ff3300"/>
                </a:solidFill>
                <a:latin typeface="Arial"/>
              </a:rPr>
              <a:t>(mesajlara) dönüştürülmekte;</a:t>
            </a:r>
            <a:endParaRPr b="0" lang="en-US" sz="2800" spc="-1" strike="noStrike">
              <a:solidFill>
                <a:srgbClr val="ffffff"/>
              </a:solidFill>
              <a:latin typeface="Arial"/>
            </a:endParaRPr>
          </a:p>
          <a:p>
            <a:pPr marL="288000" indent="-2880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Daha sonra bu</a:t>
            </a:r>
            <a:r>
              <a:rPr b="0" lang="en-US" sz="2800" spc="-1" strike="noStrike">
                <a:solidFill>
                  <a:srgbClr val="0000a4"/>
                </a:solidFill>
                <a:latin typeface="Arial"/>
              </a:rPr>
              <a:t> </a:t>
            </a:r>
            <a:r>
              <a:rPr b="1" lang="en-US" sz="2800" spc="-1" strike="noStrike">
                <a:solidFill>
                  <a:srgbClr val="0000a4"/>
                </a:solidFill>
                <a:latin typeface="Arial"/>
              </a:rPr>
              <a:t>mesajlar</a:t>
            </a:r>
            <a:r>
              <a:rPr b="0" lang="en-US" sz="2800" spc="-1" strike="noStrike">
                <a:solidFill>
                  <a:srgbClr val="0000a4"/>
                </a:solidFill>
                <a:latin typeface="Arial"/>
              </a:rPr>
              <a:t>, </a:t>
            </a:r>
            <a:r>
              <a:rPr b="1" lang="en-US" sz="2800" spc="-1" strike="noStrike">
                <a:solidFill>
                  <a:srgbClr val="0000a4"/>
                </a:solidFill>
                <a:latin typeface="Arial"/>
              </a:rPr>
              <a:t>depolanabilme ve hatırlanabilmeleri için</a:t>
            </a:r>
            <a:r>
              <a:rPr b="0" lang="en-US" sz="2800" spc="-1" strike="noStrike">
                <a:solidFill>
                  <a:srgbClr val="0000a4"/>
                </a:solidFill>
                <a:latin typeface="Arial"/>
              </a:rPr>
              <a:t> </a:t>
            </a:r>
            <a:r>
              <a:rPr b="1" lang="en-US" sz="2800" spc="-1" strike="noStrike">
                <a:solidFill>
                  <a:srgbClr val="0000a4"/>
                </a:solidFill>
                <a:latin typeface="Arial"/>
              </a:rPr>
              <a:t>sinir sisteminde</a:t>
            </a:r>
            <a:r>
              <a:rPr b="0" lang="en-US" sz="2800" spc="-1" strike="noStrike">
                <a:solidFill>
                  <a:srgbClr val="0000a4"/>
                </a:solidFill>
                <a:latin typeface="Arial"/>
              </a:rPr>
              <a:t> </a:t>
            </a:r>
            <a:r>
              <a:rPr b="1" lang="en-US" sz="2800" spc="-1" strike="noStrike">
                <a:solidFill>
                  <a:srgbClr val="0000a4"/>
                </a:solidFill>
                <a:latin typeface="Arial"/>
              </a:rPr>
              <a:t>başka değişimlere uğramakta;</a:t>
            </a:r>
            <a:endParaRPr b="0" lang="en-US" sz="2800" spc="-1" strike="noStrike">
              <a:solidFill>
                <a:srgbClr val="ffffff"/>
              </a:solidFill>
              <a:latin typeface="Arial"/>
            </a:endParaRPr>
          </a:p>
          <a:p>
            <a:pPr marL="288000" indent="-2880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ilgiyi hatırlamak</a:t>
            </a:r>
            <a:r>
              <a:rPr b="0" lang="en-US" sz="2800" spc="-1" strike="noStrike">
                <a:solidFill>
                  <a:srgbClr val="ff3300"/>
                </a:solidFill>
                <a:latin typeface="Arial"/>
              </a:rPr>
              <a:t> </a:t>
            </a:r>
            <a:r>
              <a:rPr b="1" lang="en-US" sz="2800" spc="-1" strike="noStrike">
                <a:solidFill>
                  <a:srgbClr val="ff3300"/>
                </a:solidFill>
                <a:latin typeface="Arial"/>
              </a:rPr>
              <a:t>için ise</a:t>
            </a:r>
            <a:r>
              <a:rPr b="0" lang="en-US" sz="2800" spc="-1" strike="noStrike">
                <a:solidFill>
                  <a:srgbClr val="ff3300"/>
                </a:solidFill>
                <a:latin typeface="Arial"/>
              </a:rPr>
              <a:t>; </a:t>
            </a:r>
            <a:r>
              <a:rPr b="1" lang="en-US" sz="2800" spc="-1" strike="noStrike">
                <a:solidFill>
                  <a:srgbClr val="ff3300"/>
                </a:solidFill>
                <a:latin typeface="Arial"/>
              </a:rPr>
              <a:t>depolanan mesajlar</a:t>
            </a:r>
            <a:r>
              <a:rPr b="0" lang="en-US" sz="2800" spc="-1" strike="noStrike">
                <a:solidFill>
                  <a:srgbClr val="ff3300"/>
                </a:solidFill>
                <a:latin typeface="Arial"/>
              </a:rPr>
              <a:t>, </a:t>
            </a:r>
            <a:r>
              <a:rPr b="1" lang="en-US" sz="2800" spc="-1" strike="noStrike">
                <a:solidFill>
                  <a:srgbClr val="ff3300"/>
                </a:solidFill>
                <a:latin typeface="Arial"/>
              </a:rPr>
              <a:t>kasların hareketini</a:t>
            </a:r>
            <a:r>
              <a:rPr b="0" lang="en-US" sz="2800" spc="-1" strike="noStrike">
                <a:solidFill>
                  <a:srgbClr val="ff3300"/>
                </a:solidFill>
                <a:latin typeface="Arial"/>
              </a:rPr>
              <a:t> </a:t>
            </a:r>
            <a:r>
              <a:rPr b="1" lang="en-US" sz="2800" spc="-1" strike="noStrike">
                <a:solidFill>
                  <a:srgbClr val="ff3300"/>
                </a:solidFill>
                <a:latin typeface="Arial"/>
              </a:rPr>
              <a:t>kontrol</a:t>
            </a:r>
            <a:r>
              <a:rPr b="0" lang="en-US" sz="2800" spc="-1" strike="noStrike">
                <a:solidFill>
                  <a:srgbClr val="ff3300"/>
                </a:solidFill>
                <a:latin typeface="Arial"/>
              </a:rPr>
              <a:t> </a:t>
            </a:r>
            <a:r>
              <a:rPr b="1" lang="en-US" sz="2800" spc="-1" strike="noStrike">
                <a:solidFill>
                  <a:srgbClr val="ff3300"/>
                </a:solidFill>
                <a:latin typeface="Arial"/>
              </a:rPr>
              <a:t>edebilecek bir başka mesaj türüne dönüştürülmektedi</a:t>
            </a:r>
            <a:r>
              <a:rPr b="0" lang="en-US" sz="2800" spc="-1" strike="noStrike">
                <a:solidFill>
                  <a:srgbClr val="ff3300"/>
                </a:solidFill>
                <a:latin typeface="Arial"/>
              </a:rPr>
              <a:t>r.</a:t>
            </a:r>
            <a:endParaRPr b="0"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25">
                                            <p:txEl>
                                              <p:pRg st="0" end="0"/>
                                            </p:txEl>
                                          </p:spTgt>
                                        </p:tgtEl>
                                        <p:attrNameLst>
                                          <p:attrName>style.visibility</p:attrName>
                                        </p:attrNameLst>
                                      </p:cBhvr>
                                      <p:to>
                                        <p:strVal val="visible"/>
                                      </p:to>
                                    </p:set>
                                    <p:animEffect filter="strips(downRight)" transition="in">
                                      <p:cBhvr additive="repl">
                                        <p:cTn id="183" dur="500"/>
                                        <p:tgtEl>
                                          <p:spTgt spid="12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25">
                                            <p:txEl>
                                              <p:pRg st="2" end="2"/>
                                            </p:txEl>
                                          </p:spTgt>
                                        </p:tgtEl>
                                        <p:attrNameLst>
                                          <p:attrName>style.visibility</p:attrName>
                                        </p:attrNameLst>
                                      </p:cBhvr>
                                      <p:to>
                                        <p:strVal val="visible"/>
                                      </p:to>
                                    </p:set>
                                    <p:animEffect filter="strips(downRight)" transition="in">
                                      <p:cBhvr additive="repl">
                                        <p:cTn id="188" dur="500"/>
                                        <p:tgtEl>
                                          <p:spTgt spid="125">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125">
                                            <p:txEl>
                                              <p:pRg st="3" end="3"/>
                                            </p:txEl>
                                          </p:spTgt>
                                        </p:tgtEl>
                                        <p:attrNameLst>
                                          <p:attrName>style.visibility</p:attrName>
                                        </p:attrNameLst>
                                      </p:cBhvr>
                                      <p:to>
                                        <p:strVal val="visible"/>
                                      </p:to>
                                    </p:set>
                                    <p:animEffect filter="strips(downRight)" transition="in">
                                      <p:cBhvr additive="repl">
                                        <p:cTn id="193" dur="500"/>
                                        <p:tgtEl>
                                          <p:spTgt spid="125">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6">
                                  <p:stCondLst>
                                    <p:cond delay="0"/>
                                  </p:stCondLst>
                                  <p:childTnLst>
                                    <p:set>
                                      <p:cBhvr>
                                        <p:cTn id="197" dur="1" fill="hold">
                                          <p:stCondLst>
                                            <p:cond delay="0"/>
                                          </p:stCondLst>
                                        </p:cTn>
                                        <p:tgtEl>
                                          <p:spTgt spid="125">
                                            <p:txEl>
                                              <p:pRg st="4" end="4"/>
                                            </p:txEl>
                                          </p:spTgt>
                                        </p:tgtEl>
                                        <p:attrNameLst>
                                          <p:attrName>style.visibility</p:attrName>
                                        </p:attrNameLst>
                                      </p:cBhvr>
                                      <p:to>
                                        <p:strVal val="visible"/>
                                      </p:to>
                                    </p:set>
                                    <p:animEffect filter="strips(downRight)" transition="in">
                                      <p:cBhvr additive="repl">
                                        <p:cTn id="198"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609120"/>
            <a:ext cx="8496000" cy="569916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Kodlanan bilginin uzun süreli bellekte depolanması</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Bilginin uzun süreli bellekten işleyen belleğe geri getirilmesi</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ilginin işleyen bellekten yani kısa süreli bellekten tepki üreticiye gönderilmesi</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Tepki üreticinin bilgiyi vericilere (kaslara) göndermesi </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Öğrencinin performansını göstermesi</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Yürütücü kontrol sistemi tarafından tüm bu süreçlerin kontrol edilmesi, düzenlenmesi.</a:t>
            </a:r>
            <a:endParaRPr b="0" lang="en-US" sz="2800" spc="-1" strike="noStrike">
              <a:solidFill>
                <a:srgbClr val="ffffff"/>
              </a:solidFill>
              <a:latin typeface="Arial"/>
            </a:endParaRPr>
          </a:p>
        </p:txBody>
      </p:sp>
    </p:spTree>
  </p:cSld>
  <p:transition>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05" dur="500"/>
                                        <p:tgtEl>
                                          <p:spTgt spid="12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126">
                                            <p:txEl>
                                              <p:pRg st="1" end="1"/>
                                            </p:txEl>
                                          </p:spTgt>
                                        </p:tgtEl>
                                        <p:attrNameLst>
                                          <p:attrName>style.visibility</p:attrName>
                                        </p:attrNameLst>
                                      </p:cBhvr>
                                      <p:to>
                                        <p:strVal val="visible"/>
                                      </p:to>
                                    </p:set>
                                    <p:animEffect filter="strips(downRight)" transition="in">
                                      <p:cBhvr additive="repl">
                                        <p:cTn id="210" dur="500"/>
                                        <p:tgtEl>
                                          <p:spTgt spid="126">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26">
                                            <p:txEl>
                                              <p:pRg st="2" end="2"/>
                                            </p:txEl>
                                          </p:spTgt>
                                        </p:tgtEl>
                                        <p:attrNameLst>
                                          <p:attrName>style.visibility</p:attrName>
                                        </p:attrNameLst>
                                      </p:cBhvr>
                                      <p:to>
                                        <p:strVal val="visible"/>
                                      </p:to>
                                    </p:set>
                                    <p:animEffect filter="strips(downRight)" transition="in">
                                      <p:cBhvr additive="repl">
                                        <p:cTn id="215" dur="500"/>
                                        <p:tgtEl>
                                          <p:spTgt spid="126">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126">
                                            <p:txEl>
                                              <p:pRg st="3" end="3"/>
                                            </p:txEl>
                                          </p:spTgt>
                                        </p:tgtEl>
                                        <p:attrNameLst>
                                          <p:attrName>style.visibility</p:attrName>
                                        </p:attrNameLst>
                                      </p:cBhvr>
                                      <p:to>
                                        <p:strVal val="visible"/>
                                      </p:to>
                                    </p:set>
                                    <p:animEffect filter="strips(downRight)" transition="in">
                                      <p:cBhvr additive="repl">
                                        <p:cTn id="220" dur="500"/>
                                        <p:tgtEl>
                                          <p:spTgt spid="126">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126">
                                            <p:txEl>
                                              <p:pRg st="4" end="4"/>
                                            </p:txEl>
                                          </p:spTgt>
                                        </p:tgtEl>
                                        <p:attrNameLst>
                                          <p:attrName>style.visibility</p:attrName>
                                        </p:attrNameLst>
                                      </p:cBhvr>
                                      <p:to>
                                        <p:strVal val="visible"/>
                                      </p:to>
                                    </p:set>
                                    <p:animEffect filter="strips(downRight)" transition="in">
                                      <p:cBhvr additive="repl">
                                        <p:cTn id="225" dur="500"/>
                                        <p:tgtEl>
                                          <p:spTgt spid="126">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6">
                                  <p:stCondLst>
                                    <p:cond delay="0"/>
                                  </p:stCondLst>
                                  <p:childTnLst>
                                    <p:set>
                                      <p:cBhvr>
                                        <p:cTn id="229" dur="1" fill="hold">
                                          <p:stCondLst>
                                            <p:cond delay="0"/>
                                          </p:stCondLst>
                                        </p:cTn>
                                        <p:tgtEl>
                                          <p:spTgt spid="126">
                                            <p:txEl>
                                              <p:pRg st="5" end="5"/>
                                            </p:txEl>
                                          </p:spTgt>
                                        </p:tgtEl>
                                        <p:attrNameLst>
                                          <p:attrName>style.visibility</p:attrName>
                                        </p:attrNameLst>
                                      </p:cBhvr>
                                      <p:to>
                                        <p:strVal val="visible"/>
                                      </p:to>
                                    </p:set>
                                    <p:animEffect filter="strips(downRight)" transition="in">
                                      <p:cBhvr additive="repl">
                                        <p:cTn id="230"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4000" y="466200"/>
            <a:ext cx="8496000" cy="5699160"/>
          </a:xfrm>
          <a:prstGeom prst="rect">
            <a:avLst/>
          </a:prstGeom>
          <a:noFill/>
          <a:ln w="0">
            <a:noFill/>
          </a:ln>
        </p:spPr>
        <p:txBody>
          <a:bodyPr lIns="90000" rIns="90000" tIns="46800" bIns="46800" anchor="t">
            <a:normAutofit fontScale="95000"/>
          </a:bodyPr>
          <a:p>
            <a:pPr marL="325800" indent="-32580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Çevredeki uyarıcıların alıcılar (duyu organları) yoluyla alınması</a:t>
            </a:r>
            <a:endParaRPr b="0" lang="en-US" sz="2800" spc="-1" strike="noStrike">
              <a:solidFill>
                <a:srgbClr val="ffffff"/>
              </a:solidFill>
              <a:latin typeface="Arial"/>
            </a:endParaRPr>
          </a:p>
          <a:p>
            <a:pPr marL="325800" indent="-32580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Duyusal kayıt yoluyla bilginin kaydedilmesi (Duyusal kayıt)</a:t>
            </a:r>
            <a:endParaRPr b="0" lang="en-US" sz="2800" spc="-1" strike="noStrike">
              <a:solidFill>
                <a:srgbClr val="ffffff"/>
              </a:solidFill>
              <a:latin typeface="Arial"/>
            </a:endParaRPr>
          </a:p>
          <a:p>
            <a:pPr marL="325800" indent="-32580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ikkat ve seçici algı süreçleri harekete geçirilerek duyusal kayıta gelen bilginin seçilmesi ve kısa süreli belleğe aktarılması</a:t>
            </a:r>
            <a:endParaRPr b="0" lang="en-US" sz="2800" spc="-1" strike="noStrike">
              <a:solidFill>
                <a:srgbClr val="ffffff"/>
              </a:solidFill>
              <a:latin typeface="Arial"/>
            </a:endParaRPr>
          </a:p>
          <a:p>
            <a:pPr marL="325800" indent="-32580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Bilginin bir müddet kısa süreli bellekte kalabilmesi için zihinsel tekrarın yapılması (Kısa süreli bellek / işleyen bellek)</a:t>
            </a:r>
            <a:endParaRPr b="0" lang="en-US" sz="2800" spc="-1" strike="noStrike">
              <a:solidFill>
                <a:srgbClr val="ffffff"/>
              </a:solidFill>
              <a:latin typeface="Arial"/>
            </a:endParaRPr>
          </a:p>
          <a:p>
            <a:pPr marL="325800" indent="-32580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ilginin uzun süreli bellekte depolanabilmesi için kısa süreli bellekte (işleyen bellek) anlamlı kodlamanın yapılması</a:t>
            </a:r>
            <a:endParaRPr b="0" lang="en-US" sz="2800" spc="-1" strike="noStrike">
              <a:solidFill>
                <a:srgbClr val="ffffff"/>
              </a:solidFill>
              <a:latin typeface="Arial"/>
            </a:endParaRPr>
          </a:p>
        </p:txBody>
      </p:sp>
    </p:spTree>
  </p:cSld>
  <p:transition>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8" presetSubtype="6">
                                  <p:stCondLst>
                                    <p:cond delay="0"/>
                                  </p:stCondLst>
                                  <p:childTnLst>
                                    <p:set>
                                      <p:cBhvr>
                                        <p:cTn id="236" dur="1" fill="hold">
                                          <p:stCondLst>
                                            <p:cond delay="0"/>
                                          </p:stCondLst>
                                        </p:cTn>
                                        <p:tgtEl>
                                          <p:spTgt spid="127">
                                            <p:txEl>
                                              <p:pRg st="0" end="0"/>
                                            </p:txEl>
                                          </p:spTgt>
                                        </p:tgtEl>
                                        <p:attrNameLst>
                                          <p:attrName>style.visibility</p:attrName>
                                        </p:attrNameLst>
                                      </p:cBhvr>
                                      <p:to>
                                        <p:strVal val="visible"/>
                                      </p:to>
                                    </p:set>
                                    <p:animEffect filter="strips(downRight)" transition="in">
                                      <p:cBhvr additive="repl">
                                        <p:cTn id="237" dur="500"/>
                                        <p:tgtEl>
                                          <p:spTgt spid="12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6">
                                  <p:stCondLst>
                                    <p:cond delay="0"/>
                                  </p:stCondLst>
                                  <p:childTnLst>
                                    <p:set>
                                      <p:cBhvr>
                                        <p:cTn id="241" dur="1" fill="hold">
                                          <p:stCondLst>
                                            <p:cond delay="0"/>
                                          </p:stCondLst>
                                        </p:cTn>
                                        <p:tgtEl>
                                          <p:spTgt spid="127">
                                            <p:txEl>
                                              <p:pRg st="1" end="1"/>
                                            </p:txEl>
                                          </p:spTgt>
                                        </p:tgtEl>
                                        <p:attrNameLst>
                                          <p:attrName>style.visibility</p:attrName>
                                        </p:attrNameLst>
                                      </p:cBhvr>
                                      <p:to>
                                        <p:strVal val="visible"/>
                                      </p:to>
                                    </p:set>
                                    <p:animEffect filter="strips(downRight)" transition="in">
                                      <p:cBhvr additive="repl">
                                        <p:cTn id="242" dur="500"/>
                                        <p:tgtEl>
                                          <p:spTgt spid="127">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7">
                                            <p:txEl>
                                              <p:pRg st="2" end="2"/>
                                            </p:txEl>
                                          </p:spTgt>
                                        </p:tgtEl>
                                        <p:attrNameLst>
                                          <p:attrName>style.visibility</p:attrName>
                                        </p:attrNameLst>
                                      </p:cBhvr>
                                      <p:to>
                                        <p:strVal val="visible"/>
                                      </p:to>
                                    </p:set>
                                    <p:animEffect filter="strips(downRight)" transition="in">
                                      <p:cBhvr additive="repl">
                                        <p:cTn id="247" dur="500"/>
                                        <p:tgtEl>
                                          <p:spTgt spid="127">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27">
                                            <p:txEl>
                                              <p:pRg st="3" end="3"/>
                                            </p:txEl>
                                          </p:spTgt>
                                        </p:tgtEl>
                                        <p:attrNameLst>
                                          <p:attrName>style.visibility</p:attrName>
                                        </p:attrNameLst>
                                      </p:cBhvr>
                                      <p:to>
                                        <p:strVal val="visible"/>
                                      </p:to>
                                    </p:set>
                                    <p:animEffect filter="strips(downRight)" transition="in">
                                      <p:cBhvr additive="repl">
                                        <p:cTn id="252" dur="500"/>
                                        <p:tgtEl>
                                          <p:spTgt spid="127">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127">
                                            <p:txEl>
                                              <p:pRg st="4" end="4"/>
                                            </p:txEl>
                                          </p:spTgt>
                                        </p:tgtEl>
                                        <p:attrNameLst>
                                          <p:attrName>style.visibility</p:attrName>
                                        </p:attrNameLst>
                                      </p:cBhvr>
                                      <p:to>
                                        <p:strVal val="visible"/>
                                      </p:to>
                                    </p:set>
                                    <p:animEffect filter="strips(downRight)" transition="in">
                                      <p:cBhvr additive="repl">
                                        <p:cTn id="25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08000" y="981000"/>
            <a:ext cx="1079280" cy="4608720"/>
          </a:xfrm>
          <a:prstGeom prst="cube">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203640" y="1484280"/>
            <a:ext cx="720720" cy="3889440"/>
          </a:xfrm>
          <a:prstGeom prst="cube">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8028000" y="2276640"/>
            <a:ext cx="1114560" cy="25923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796000" y="1773360"/>
            <a:ext cx="793800" cy="309564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16200000">
            <a:off x="-627480" y="299772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ÇEVRE</a:t>
            </a:r>
            <a:endParaRPr b="0" lang="en-US" sz="4000" spc="-1" strike="noStrike">
              <a:solidFill>
                <a:srgbClr val="ffffff"/>
              </a:solidFill>
              <a:latin typeface="Times New Roman"/>
            </a:endParaRPr>
          </a:p>
        </p:txBody>
      </p:sp>
      <p:sp>
        <p:nvSpPr>
          <p:cNvPr id="133" name=""/>
          <p:cNvSpPr/>
          <p:nvPr/>
        </p:nvSpPr>
        <p:spPr>
          <a:xfrm rot="16200000">
            <a:off x="1149840" y="1953360"/>
            <a:ext cx="2162160" cy="360360"/>
          </a:xfrm>
          <a:prstGeom prst="rect">
            <a:avLst/>
          </a:prstGeom>
          <a:solidFill>
            <a:srgbClr val="0099cc"/>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ERİCİLER</a:t>
            </a:r>
            <a:endParaRPr b="0" lang="en-US" sz="1800" spc="-1" strike="noStrike">
              <a:solidFill>
                <a:srgbClr val="ffffff"/>
              </a:solidFill>
              <a:latin typeface="Times New Roman"/>
            </a:endParaRPr>
          </a:p>
        </p:txBody>
      </p:sp>
      <p:sp>
        <p:nvSpPr>
          <p:cNvPr id="134" name=""/>
          <p:cNvSpPr/>
          <p:nvPr/>
        </p:nvSpPr>
        <p:spPr>
          <a:xfrm rot="16200000">
            <a:off x="1150560" y="4329000"/>
            <a:ext cx="2160720" cy="360360"/>
          </a:xfrm>
          <a:prstGeom prst="rect">
            <a:avLst/>
          </a:prstGeom>
          <a:solidFill>
            <a:srgbClr val="0099cc"/>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ICILAR</a:t>
            </a:r>
            <a:endParaRPr b="0" lang="en-US" sz="1800" spc="-1" strike="noStrike">
              <a:solidFill>
                <a:srgbClr val="ffffff"/>
              </a:solidFill>
              <a:latin typeface="Times New Roman"/>
            </a:endParaRPr>
          </a:p>
        </p:txBody>
      </p:sp>
      <p:sp>
        <p:nvSpPr>
          <p:cNvPr id="135" name=""/>
          <p:cNvSpPr/>
          <p:nvPr/>
        </p:nvSpPr>
        <p:spPr>
          <a:xfrm rot="10255800">
            <a:off x="1258920" y="1749240"/>
            <a:ext cx="719280" cy="215640"/>
          </a:xfrm>
          <a:prstGeom prst="rightArrow">
            <a:avLst>
              <a:gd name="adj1" fmla="val 50000"/>
              <a:gd name="adj2" fmla="val 8338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76360" y="465300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37" name=""/>
          <p:cNvSpPr/>
          <p:nvPr/>
        </p:nvSpPr>
        <p:spPr>
          <a:xfrm>
            <a:off x="1476360" y="486900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38" name=""/>
          <p:cNvSpPr/>
          <p:nvPr/>
        </p:nvSpPr>
        <p:spPr>
          <a:xfrm>
            <a:off x="1476360" y="530064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39" name=""/>
          <p:cNvSpPr/>
          <p:nvPr/>
        </p:nvSpPr>
        <p:spPr>
          <a:xfrm>
            <a:off x="1476360" y="371628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0" name=""/>
          <p:cNvSpPr/>
          <p:nvPr/>
        </p:nvSpPr>
        <p:spPr>
          <a:xfrm>
            <a:off x="1476360" y="400536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1" name=""/>
          <p:cNvSpPr/>
          <p:nvPr/>
        </p:nvSpPr>
        <p:spPr>
          <a:xfrm>
            <a:off x="1476360" y="4221000"/>
            <a:ext cx="431640" cy="144720"/>
          </a:xfrm>
          <a:prstGeom prst="rightArrow">
            <a:avLst>
              <a:gd name="adj1" fmla="val 50000"/>
              <a:gd name="adj2" fmla="val 74565"/>
            </a:avLst>
          </a:prstGeom>
          <a:solidFill>
            <a:srgbClr val="0099cc"/>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142" name=""/>
          <p:cNvSpPr/>
          <p:nvPr/>
        </p:nvSpPr>
        <p:spPr>
          <a:xfrm>
            <a:off x="1476360" y="443700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3" name=""/>
          <p:cNvSpPr/>
          <p:nvPr/>
        </p:nvSpPr>
        <p:spPr>
          <a:xfrm>
            <a:off x="2700360" y="371628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4" name=""/>
          <p:cNvSpPr/>
          <p:nvPr/>
        </p:nvSpPr>
        <p:spPr>
          <a:xfrm>
            <a:off x="1476360" y="5084640"/>
            <a:ext cx="431640" cy="144720"/>
          </a:xfrm>
          <a:prstGeom prst="rightArrow">
            <a:avLst>
              <a:gd name="adj1" fmla="val 50000"/>
              <a:gd name="adj2" fmla="val 74565"/>
            </a:avLst>
          </a:prstGeom>
          <a:solidFill>
            <a:srgbClr val="0099cc"/>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145" name=""/>
          <p:cNvSpPr/>
          <p:nvPr/>
        </p:nvSpPr>
        <p:spPr>
          <a:xfrm>
            <a:off x="2700360" y="400536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6" name=""/>
          <p:cNvSpPr/>
          <p:nvPr/>
        </p:nvSpPr>
        <p:spPr>
          <a:xfrm>
            <a:off x="2700360" y="4221000"/>
            <a:ext cx="431640" cy="144720"/>
          </a:xfrm>
          <a:prstGeom prst="rightArrow">
            <a:avLst>
              <a:gd name="adj1" fmla="val 50000"/>
              <a:gd name="adj2" fmla="val 74565"/>
            </a:avLst>
          </a:prstGeom>
          <a:solidFill>
            <a:srgbClr val="0099cc"/>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147" name=""/>
          <p:cNvSpPr/>
          <p:nvPr/>
        </p:nvSpPr>
        <p:spPr>
          <a:xfrm>
            <a:off x="2700360" y="4437000"/>
            <a:ext cx="431640" cy="144360"/>
          </a:xfrm>
          <a:prstGeom prst="rightArrow">
            <a:avLst>
              <a:gd name="adj1" fmla="val 50000"/>
              <a:gd name="adj2" fmla="val 74751"/>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48" name=""/>
          <p:cNvSpPr/>
          <p:nvPr/>
        </p:nvSpPr>
        <p:spPr>
          <a:xfrm rot="16200000">
            <a:off x="1872720" y="3319920"/>
            <a:ext cx="316836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UYUSAL KAYIT</a:t>
            </a:r>
            <a:endParaRPr b="0" lang="en-US" sz="1600" spc="-1" strike="noStrike">
              <a:solidFill>
                <a:srgbClr val="ffffff"/>
              </a:solidFill>
              <a:latin typeface="Times New Roman"/>
            </a:endParaRPr>
          </a:p>
        </p:txBody>
      </p:sp>
      <p:sp>
        <p:nvSpPr>
          <p:cNvPr id="149" name=""/>
          <p:cNvSpPr/>
          <p:nvPr/>
        </p:nvSpPr>
        <p:spPr>
          <a:xfrm rot="16200000">
            <a:off x="3312000" y="3248640"/>
            <a:ext cx="3168720" cy="36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KKAT VE SEÇİCİ ALGI</a:t>
            </a:r>
            <a:endParaRPr b="0" lang="en-US" sz="1600" spc="-1" strike="noStrike">
              <a:solidFill>
                <a:srgbClr val="ffffff"/>
              </a:solidFill>
              <a:latin typeface="Times New Roman"/>
            </a:endParaRPr>
          </a:p>
        </p:txBody>
      </p:sp>
      <p:sp>
        <p:nvSpPr>
          <p:cNvPr id="150" name=""/>
          <p:cNvSpPr/>
          <p:nvPr/>
        </p:nvSpPr>
        <p:spPr>
          <a:xfrm>
            <a:off x="4140360" y="234936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1" name=""/>
          <p:cNvSpPr/>
          <p:nvPr/>
        </p:nvSpPr>
        <p:spPr>
          <a:xfrm>
            <a:off x="4140360" y="270972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2" name=""/>
          <p:cNvSpPr/>
          <p:nvPr/>
        </p:nvSpPr>
        <p:spPr>
          <a:xfrm>
            <a:off x="4140360" y="307008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3" name=""/>
          <p:cNvSpPr/>
          <p:nvPr/>
        </p:nvSpPr>
        <p:spPr>
          <a:xfrm>
            <a:off x="4140360" y="414972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4" name=""/>
          <p:cNvSpPr/>
          <p:nvPr/>
        </p:nvSpPr>
        <p:spPr>
          <a:xfrm>
            <a:off x="4140360" y="379080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5" name=""/>
          <p:cNvSpPr/>
          <p:nvPr/>
        </p:nvSpPr>
        <p:spPr>
          <a:xfrm>
            <a:off x="4140360" y="343044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6" name=""/>
          <p:cNvSpPr/>
          <p:nvPr/>
        </p:nvSpPr>
        <p:spPr>
          <a:xfrm>
            <a:off x="5292720" y="256536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7" name=""/>
          <p:cNvSpPr/>
          <p:nvPr/>
        </p:nvSpPr>
        <p:spPr>
          <a:xfrm>
            <a:off x="5292720" y="292428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8" name=""/>
          <p:cNvSpPr/>
          <p:nvPr/>
        </p:nvSpPr>
        <p:spPr>
          <a:xfrm>
            <a:off x="5292720" y="328464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59" name=""/>
          <p:cNvSpPr/>
          <p:nvPr/>
        </p:nvSpPr>
        <p:spPr>
          <a:xfrm rot="16200000">
            <a:off x="4823640" y="3189960"/>
            <a:ext cx="2519280" cy="43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ISA SÜRELİ BELLEK</a:t>
            </a:r>
            <a:endParaRPr b="0" lang="en-US" sz="1600" spc="-1" strike="noStrike">
              <a:solidFill>
                <a:srgbClr val="ffffff"/>
              </a:solidFill>
              <a:latin typeface="Times New Roman"/>
            </a:endParaRPr>
          </a:p>
        </p:txBody>
      </p:sp>
      <p:sp>
        <p:nvSpPr>
          <p:cNvPr id="160" name=""/>
          <p:cNvSpPr/>
          <p:nvPr/>
        </p:nvSpPr>
        <p:spPr>
          <a:xfrm>
            <a:off x="5292720" y="3716280"/>
            <a:ext cx="431640" cy="142920"/>
          </a:xfrm>
          <a:prstGeom prst="rightArrow">
            <a:avLst>
              <a:gd name="adj1" fmla="val 50000"/>
              <a:gd name="adj2" fmla="val 75504"/>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61" name=""/>
          <p:cNvSpPr/>
          <p:nvPr/>
        </p:nvSpPr>
        <p:spPr>
          <a:xfrm>
            <a:off x="5292720" y="4078440"/>
            <a:ext cx="431640" cy="142560"/>
          </a:xfrm>
          <a:prstGeom prst="rightArrow">
            <a:avLst>
              <a:gd name="adj1" fmla="val 50000"/>
              <a:gd name="adj2" fmla="val 75694"/>
            </a:avLst>
          </a:prstGeom>
          <a:solidFill>
            <a:srgbClr val="0099cc"/>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62" name=""/>
          <p:cNvSpPr/>
          <p:nvPr/>
        </p:nvSpPr>
        <p:spPr>
          <a:xfrm>
            <a:off x="6730920" y="3068640"/>
            <a:ext cx="1081080" cy="144360"/>
          </a:xfrm>
          <a:prstGeom prst="rightArrow">
            <a:avLst>
              <a:gd name="adj1" fmla="val 50000"/>
              <a:gd name="adj2" fmla="val 187219"/>
            </a:avLst>
          </a:prstGeom>
          <a:solidFill>
            <a:srgbClr val="ff3300"/>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3" name=""/>
          <p:cNvSpPr/>
          <p:nvPr/>
        </p:nvSpPr>
        <p:spPr>
          <a:xfrm>
            <a:off x="6730920" y="3586320"/>
            <a:ext cx="1081080" cy="142560"/>
          </a:xfrm>
          <a:prstGeom prst="rightArrow">
            <a:avLst>
              <a:gd name="adj1" fmla="val 50000"/>
              <a:gd name="adj2" fmla="val 189583"/>
            </a:avLst>
          </a:prstGeom>
          <a:solidFill>
            <a:srgbClr val="ffff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64" name=""/>
          <p:cNvSpPr/>
          <p:nvPr/>
        </p:nvSpPr>
        <p:spPr>
          <a:xfrm rot="10800000">
            <a:off x="6732360" y="4149360"/>
            <a:ext cx="1152360" cy="142920"/>
          </a:xfrm>
          <a:prstGeom prst="rightArrow">
            <a:avLst>
              <a:gd name="adj1" fmla="val 50000"/>
              <a:gd name="adj2" fmla="val 201574"/>
            </a:avLst>
          </a:prstGeom>
          <a:solidFill>
            <a:srgbClr val="0099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65" name=""/>
          <p:cNvSpPr/>
          <p:nvPr/>
        </p:nvSpPr>
        <p:spPr>
          <a:xfrm>
            <a:off x="6716880" y="2781360"/>
            <a:ext cx="1225440" cy="28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ZİHİNSEL TEKRAR</a:t>
            </a:r>
            <a:endParaRPr b="0" lang="en-US" sz="900" spc="-1" strike="noStrike">
              <a:solidFill>
                <a:srgbClr val="ffffff"/>
              </a:solidFill>
              <a:latin typeface="Times New Roman"/>
            </a:endParaRPr>
          </a:p>
        </p:txBody>
      </p:sp>
      <p:sp>
        <p:nvSpPr>
          <p:cNvPr id="166" name=""/>
          <p:cNvSpPr/>
          <p:nvPr/>
        </p:nvSpPr>
        <p:spPr>
          <a:xfrm>
            <a:off x="6718320" y="3327480"/>
            <a:ext cx="1224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ODLAMA</a:t>
            </a:r>
            <a:endParaRPr b="0" lang="en-US" sz="900" spc="-1" strike="noStrike">
              <a:solidFill>
                <a:srgbClr val="ffffff"/>
              </a:solidFill>
              <a:latin typeface="Times New Roman"/>
            </a:endParaRPr>
          </a:p>
        </p:txBody>
      </p:sp>
      <p:sp>
        <p:nvSpPr>
          <p:cNvPr id="167" name=""/>
          <p:cNvSpPr/>
          <p:nvPr/>
        </p:nvSpPr>
        <p:spPr>
          <a:xfrm>
            <a:off x="6702480" y="3860640"/>
            <a:ext cx="1224000" cy="216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ATIRLAMA</a:t>
            </a:r>
            <a:endParaRPr b="0" lang="en-US" sz="900" spc="-1" strike="noStrike">
              <a:solidFill>
                <a:srgbClr val="ffffff"/>
              </a:solidFill>
              <a:latin typeface="Times New Roman"/>
            </a:endParaRPr>
          </a:p>
        </p:txBody>
      </p:sp>
      <p:sp>
        <p:nvSpPr>
          <p:cNvPr id="168" name=""/>
          <p:cNvSpPr/>
          <p:nvPr/>
        </p:nvSpPr>
        <p:spPr>
          <a:xfrm rot="16200000">
            <a:off x="7560360" y="3393000"/>
            <a:ext cx="1800360" cy="71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UZU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ÜREL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BELLEK</a:t>
            </a:r>
            <a:endParaRPr b="0" lang="en-US" sz="1800" spc="-1" strike="noStrike">
              <a:solidFill>
                <a:srgbClr val="ffffff"/>
              </a:solidFill>
              <a:latin typeface="Times New Roman"/>
            </a:endParaRPr>
          </a:p>
        </p:txBody>
      </p:sp>
    </p:spTree>
  </p:cSld>
  <p:transition>
    <p:dissolv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6" presetSubtype="16">
                                  <p:stCondLst>
                                    <p:cond delay="0"/>
                                  </p:stCondLst>
                                  <p:childTnLst>
                                    <p:set>
                                      <p:cBhvr>
                                        <p:cTn id="263" dur="1" fill="hold">
                                          <p:stCondLst>
                                            <p:cond delay="0"/>
                                          </p:stCondLst>
                                        </p:cTn>
                                        <p:tgtEl>
                                          <p:spTgt spid="128"/>
                                        </p:tgtEl>
                                        <p:attrNameLst>
                                          <p:attrName>style.visibility</p:attrName>
                                        </p:attrNameLst>
                                      </p:cBhvr>
                                      <p:to>
                                        <p:strVal val="visible"/>
                                      </p:to>
                                    </p:set>
                                    <p:animEffect filter="circle(in)" transition="in">
                                      <p:cBhvr additive="repl">
                                        <p:cTn id="264" dur="2000"/>
                                        <p:tgtEl>
                                          <p:spTgt spid="128"/>
                                        </p:tgtEl>
                                      </p:cBhvr>
                                    </p:animEffect>
                                  </p:childTnLst>
                                </p:cTn>
                              </p:par>
                            </p:childTnLst>
                          </p:cTn>
                        </p:par>
                        <p:par>
                          <p:cTn id="265" fill="hold">
                            <p:stCondLst>
                              <p:cond delay="2000"/>
                            </p:stCondLst>
                            <p:childTnLst>
                              <p:par>
                                <p:cTn id="266" nodeType="afterEffect" fill="hold" presetClass="entr" presetID="24">
                                  <p:stCondLst>
                                    <p:cond delay="0"/>
                                  </p:stCondLst>
                                  <p:childTnLst>
                                    <p:set>
                                      <p:cBhvr>
                                        <p:cTn id="267" dur="1" fill="hold">
                                          <p:stCondLst>
                                            <p:cond delay="0"/>
                                          </p:stCondLst>
                                        </p:cTn>
                                        <p:tgtEl>
                                          <p:spTgt spid="132"/>
                                        </p:tgtEl>
                                        <p:attrNameLst>
                                          <p:attrName>style.visibility</p:attrName>
                                        </p:attrNameLst>
                                      </p:cBhvr>
                                      <p:to>
                                        <p:strVal val="visible"/>
                                      </p:to>
                                    </p:set>
                                    <p:animEffect filter="slide(fromLeft)" transition="in">
                                      <p:cBhvr additive="repl">
                                        <p:cTn id="268" dur="500"/>
                                        <p:tgtEl>
                                          <p:spTgt spid="132"/>
                                        </p:tgtEl>
                                      </p:cBhvr>
                                    </p:animEffect>
                                  </p:childTnLst>
                                </p:cTn>
                              </p:par>
                            </p:childTnLst>
                          </p:cTn>
                        </p:par>
                        <p:par>
                          <p:cTn id="269" fill="hold">
                            <p:stCondLst>
                              <p:cond delay="2000"/>
                            </p:stCondLst>
                            <p:childTnLst>
                              <p:par>
                                <p:cTn id="270" nodeType="afterEffect" fill="hold" presetClass="entr" presetID="10">
                                  <p:stCondLst>
                                    <p:cond delay="0"/>
                                  </p:stCondLst>
                                  <p:childTnLst>
                                    <p:set>
                                      <p:cBhvr>
                                        <p:cTn id="271" dur="1" fill="hold">
                                          <p:stCondLst>
                                            <p:cond delay="0"/>
                                          </p:stCondLst>
                                        </p:cTn>
                                        <p:tgtEl>
                                          <p:spTgt spid="134"/>
                                        </p:tgtEl>
                                        <p:attrNameLst>
                                          <p:attrName>style.visibility</p:attrName>
                                        </p:attrNameLst>
                                      </p:cBhvr>
                                      <p:to>
                                        <p:strVal val="visible"/>
                                      </p:to>
                                    </p:set>
                                    <p:animEffect filter="fade" transition="in">
                                      <p:cBhvr additive="repl">
                                        <p:cTn id="272" dur="2000"/>
                                        <p:tgtEl>
                                          <p:spTgt spid="134"/>
                                        </p:tgtEl>
                                      </p:cBhvr>
                                    </p:animEffect>
                                  </p:childTnLst>
                                </p:cTn>
                              </p:par>
                            </p:childTnLst>
                          </p:cTn>
                        </p:par>
                        <p:par>
                          <p:cTn id="273" fill="hold">
                            <p:stCondLst>
                              <p:cond delay="4000"/>
                            </p:stCondLst>
                            <p:childTnLst>
                              <p:par>
                                <p:cTn id="274" nodeType="afterEffect" fill="hold" presetClass="entr" presetID="54">
                                  <p:stCondLst>
                                    <p:cond delay="0"/>
                                  </p:stCondLst>
                                  <p:childTnLst>
                                    <p:set>
                                      <p:cBhvr>
                                        <p:cTn id="275" dur="1" fill="hold">
                                          <p:stCondLst>
                                            <p:cond delay="0"/>
                                          </p:stCondLst>
                                        </p:cTn>
                                        <p:tgtEl>
                                          <p:spTgt spid="135"/>
                                        </p:tgtEl>
                                        <p:attrNameLst>
                                          <p:attrName>style.visibility</p:attrName>
                                        </p:attrNameLst>
                                      </p:cBhvr>
                                      <p:to>
                                        <p:strVal val="visible"/>
                                      </p:to>
                                    </p:set>
                                    <p:anim calcmode="lin" valueType="num">
                                      <p:cBhvr additive="repl">
                                        <p:cTn id="276" dur="500" fill="hold"/>
                                        <p:tgtEl>
                                          <p:spTgt spid="135"/>
                                        </p:tgtEl>
                                        <p:attrNameLst>
                                          <p:attrName>ppt_w</p:attrName>
                                        </p:attrNameLst>
                                      </p:cBhvr>
                                      <p:tavLst>
                                        <p:tav tm="0">
                                          <p:val>
                                            <p:strVal val="#ppt_w*0.05"/>
                                          </p:val>
                                        </p:tav>
                                        <p:tav tm="100000">
                                          <p:val>
                                            <p:strVal val="#ppt_w"/>
                                          </p:val>
                                        </p:tav>
                                      </p:tavLst>
                                    </p:anim>
                                    <p:anim calcmode="lin" valueType="num">
                                      <p:cBhvr additive="repl">
                                        <p:cTn id="277" dur="500" fill="hold"/>
                                        <p:tgtEl>
                                          <p:spTgt spid="135"/>
                                        </p:tgtEl>
                                        <p:attrNameLst>
                                          <p:attrName>ppt_h</p:attrName>
                                        </p:attrNameLst>
                                      </p:cBhvr>
                                      <p:tavLst>
                                        <p:tav tm="0">
                                          <p:val>
                                            <p:strVal val="#ppt_h"/>
                                          </p:val>
                                        </p:tav>
                                        <p:tav tm="100000">
                                          <p:val>
                                            <p:strVal val="#ppt_h"/>
                                          </p:val>
                                        </p:tav>
                                      </p:tavLst>
                                    </p:anim>
                                    <p:anim calcmode="lin" valueType="num">
                                      <p:cBhvr additive="repl">
                                        <p:cTn id="278" dur="500" fill="hold"/>
                                        <p:tgtEl>
                                          <p:spTgt spid="135"/>
                                        </p:tgtEl>
                                        <p:attrNameLst>
                                          <p:attrName>ppt_x</p:attrName>
                                        </p:attrNameLst>
                                      </p:cBhvr>
                                      <p:tavLst>
                                        <p:tav tm="0">
                                          <p:val>
                                            <p:strVal val="#ppt_x-.2"/>
                                          </p:val>
                                        </p:tav>
                                        <p:tav tm="100000">
                                          <p:val>
                                            <p:strVal val="#ppt_x"/>
                                          </p:val>
                                        </p:tav>
                                      </p:tavLst>
                                    </p:anim>
                                    <p:anim calcmode="lin" valueType="num">
                                      <p:cBhvr additive="repl">
                                        <p:cTn id="279" dur="500" fill="hold"/>
                                        <p:tgtEl>
                                          <p:spTgt spid="135"/>
                                        </p:tgtEl>
                                        <p:attrNameLst>
                                          <p:attrName>ppt_y</p:attrName>
                                        </p:attrNameLst>
                                      </p:cBhvr>
                                      <p:tavLst>
                                        <p:tav tm="0">
                                          <p:val>
                                            <p:strVal val="#ppt_y"/>
                                          </p:val>
                                        </p:tav>
                                        <p:tav tm="100000">
                                          <p:val>
                                            <p:strVal val="#ppt_y"/>
                                          </p:val>
                                        </p:tav>
                                      </p:tavLst>
                                    </p:anim>
                                    <p:animEffect filter="fade" transition="in">
                                      <p:cBhvr additive="repl">
                                        <p:cTn id="280" dur="500"/>
                                        <p:tgtEl>
                                          <p:spTgt spid="135"/>
                                        </p:tgtEl>
                                      </p:cBhvr>
                                    </p:animEffect>
                                  </p:childTnLst>
                                </p:cTn>
                              </p:par>
                            </p:childTnLst>
                          </p:cTn>
                        </p:par>
                        <p:par>
                          <p:cTn id="281" fill="hold">
                            <p:stCondLst>
                              <p:cond delay="4500"/>
                            </p:stCondLst>
                            <p:childTnLst>
                              <p:par>
                                <p:cTn id="282" nodeType="afterEffect" fill="hold" presetClass="entr" presetID="41">
                                  <p:stCondLst>
                                    <p:cond delay="0"/>
                                  </p:stCondLst>
                                  <p:iterate type="lt">
                                    <p:tmAbs val="50"/>
                                  </p:iterate>
                                  <p:childTnLst>
                                    <p:set>
                                      <p:cBhvr>
                                        <p:cTn id="283" dur="1" fill="hold">
                                          <p:stCondLst>
                                            <p:cond delay="0"/>
                                          </p:stCondLst>
                                        </p:cTn>
                                        <p:tgtEl>
                                          <p:spTgt spid="133"/>
                                        </p:tgtEl>
                                        <p:attrNameLst>
                                          <p:attrName>style.visibility</p:attrName>
                                        </p:attrNameLst>
                                      </p:cBhvr>
                                      <p:to>
                                        <p:strVal val="visible"/>
                                      </p:to>
                                    </p:set>
                                    <p:anim calcmode="lin" valueType="num">
                                      <p:cBhvr additive="repl">
                                        <p:cTn id="284"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133"/>
                                        </p:tgtEl>
                                        <p:attrNameLst>
                                          <p:attrName>ppt_y</p:attrName>
                                        </p:attrNameLst>
                                      </p:cBhvr>
                                      <p:tavLst>
                                        <p:tav tm="0">
                                          <p:val>
                                            <p:strVal val="#ppt_y"/>
                                          </p:val>
                                        </p:tav>
                                        <p:tav tm="100000">
                                          <p:val>
                                            <p:strVal val="#ppt_y"/>
                                          </p:val>
                                        </p:tav>
                                      </p:tavLst>
                                    </p:anim>
                                    <p:anim calcmode="lin" valueType="num">
                                      <p:cBhvr additive="repl">
                                        <p:cTn id="286"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133"/>
                                        </p:tgtEl>
                                      </p:cBhvr>
                                    </p:animEffect>
                                  </p:childTnLst>
                                </p:cTn>
                              </p:par>
                            </p:childTnLst>
                          </p:cTn>
                        </p:par>
                        <p:par>
                          <p:cTn id="289" fill="hold">
                            <p:stCondLst>
                              <p:cond delay="5400"/>
                            </p:stCondLst>
                            <p:childTnLst>
                              <p:par>
                                <p:cTn id="290" nodeType="afterEffect" fill="hold" presetClass="entr" presetID="5" presetSubtype="10">
                                  <p:stCondLst>
                                    <p:cond delay="0"/>
                                  </p:stCondLst>
                                  <p:childTnLst>
                                    <p:set>
                                      <p:cBhvr>
                                        <p:cTn id="291" dur="1" fill="hold">
                                          <p:stCondLst>
                                            <p:cond delay="0"/>
                                          </p:stCondLst>
                                        </p:cTn>
                                        <p:tgtEl>
                                          <p:spTgt spid="139"/>
                                        </p:tgtEl>
                                        <p:attrNameLst>
                                          <p:attrName>style.visibility</p:attrName>
                                        </p:attrNameLst>
                                      </p:cBhvr>
                                      <p:to>
                                        <p:strVal val="visible"/>
                                      </p:to>
                                    </p:set>
                                    <p:animEffect filter="checkerboard(across)" transition="in">
                                      <p:cBhvr additive="repl">
                                        <p:cTn id="292" dur="500"/>
                                        <p:tgtEl>
                                          <p:spTgt spid="139"/>
                                        </p:tgtEl>
                                      </p:cBhvr>
                                    </p:animEffect>
                                  </p:childTnLst>
                                </p:cTn>
                              </p:par>
                            </p:childTnLst>
                          </p:cTn>
                        </p:par>
                        <p:par>
                          <p:cTn id="293" fill="hold">
                            <p:stCondLst>
                              <p:cond delay="5900"/>
                            </p:stCondLst>
                            <p:childTnLst>
                              <p:par>
                                <p:cTn id="294" nodeType="afterEffect" fill="hold" presetClass="entr" presetID="5" presetSubtype="10">
                                  <p:stCondLst>
                                    <p:cond delay="0"/>
                                  </p:stCondLst>
                                  <p:childTnLst>
                                    <p:set>
                                      <p:cBhvr>
                                        <p:cTn id="295" dur="1" fill="hold">
                                          <p:stCondLst>
                                            <p:cond delay="0"/>
                                          </p:stCondLst>
                                        </p:cTn>
                                        <p:tgtEl>
                                          <p:spTgt spid="140"/>
                                        </p:tgtEl>
                                        <p:attrNameLst>
                                          <p:attrName>style.visibility</p:attrName>
                                        </p:attrNameLst>
                                      </p:cBhvr>
                                      <p:to>
                                        <p:strVal val="visible"/>
                                      </p:to>
                                    </p:set>
                                    <p:animEffect filter="checkerboard(across)" transition="in">
                                      <p:cBhvr additive="repl">
                                        <p:cTn id="296" dur="500"/>
                                        <p:tgtEl>
                                          <p:spTgt spid="140"/>
                                        </p:tgtEl>
                                      </p:cBhvr>
                                    </p:animEffect>
                                  </p:childTnLst>
                                </p:cTn>
                              </p:par>
                            </p:childTnLst>
                          </p:cTn>
                        </p:par>
                        <p:par>
                          <p:cTn id="297" fill="hold">
                            <p:stCondLst>
                              <p:cond delay="6400"/>
                            </p:stCondLst>
                            <p:childTnLst>
                              <p:par>
                                <p:cTn id="298" nodeType="afterEffect" fill="hold" presetClass="entr" presetID="5" presetSubtype="10">
                                  <p:stCondLst>
                                    <p:cond delay="0"/>
                                  </p:stCondLst>
                                  <p:childTnLst>
                                    <p:set>
                                      <p:cBhvr>
                                        <p:cTn id="299" dur="1" fill="hold">
                                          <p:stCondLst>
                                            <p:cond delay="0"/>
                                          </p:stCondLst>
                                        </p:cTn>
                                        <p:tgtEl>
                                          <p:spTgt spid="141"/>
                                        </p:tgtEl>
                                        <p:attrNameLst>
                                          <p:attrName>style.visibility</p:attrName>
                                        </p:attrNameLst>
                                      </p:cBhvr>
                                      <p:to>
                                        <p:strVal val="visible"/>
                                      </p:to>
                                    </p:set>
                                    <p:animEffect filter="checkerboard(across)" transition="in">
                                      <p:cBhvr additive="repl">
                                        <p:cTn id="300" dur="500"/>
                                        <p:tgtEl>
                                          <p:spTgt spid="141"/>
                                        </p:tgtEl>
                                      </p:cBhvr>
                                    </p:animEffect>
                                  </p:childTnLst>
                                </p:cTn>
                              </p:par>
                            </p:childTnLst>
                          </p:cTn>
                        </p:par>
                        <p:par>
                          <p:cTn id="301" fill="hold">
                            <p:stCondLst>
                              <p:cond delay="6900"/>
                            </p:stCondLst>
                            <p:childTnLst>
                              <p:par>
                                <p:cTn id="302" nodeType="afterEffect" fill="hold" presetClass="entr" presetID="5" presetSubtype="10">
                                  <p:stCondLst>
                                    <p:cond delay="0"/>
                                  </p:stCondLst>
                                  <p:childTnLst>
                                    <p:set>
                                      <p:cBhvr>
                                        <p:cTn id="303" dur="1" fill="hold">
                                          <p:stCondLst>
                                            <p:cond delay="0"/>
                                          </p:stCondLst>
                                        </p:cTn>
                                        <p:tgtEl>
                                          <p:spTgt spid="142"/>
                                        </p:tgtEl>
                                        <p:attrNameLst>
                                          <p:attrName>style.visibility</p:attrName>
                                        </p:attrNameLst>
                                      </p:cBhvr>
                                      <p:to>
                                        <p:strVal val="visible"/>
                                      </p:to>
                                    </p:set>
                                    <p:animEffect filter="checkerboard(across)" transition="in">
                                      <p:cBhvr additive="repl">
                                        <p:cTn id="304" dur="500"/>
                                        <p:tgtEl>
                                          <p:spTgt spid="142"/>
                                        </p:tgtEl>
                                      </p:cBhvr>
                                    </p:animEffect>
                                  </p:childTnLst>
                                </p:cTn>
                              </p:par>
                            </p:childTnLst>
                          </p:cTn>
                        </p:par>
                        <p:par>
                          <p:cTn id="305" fill="hold">
                            <p:stCondLst>
                              <p:cond delay="7400"/>
                            </p:stCondLst>
                            <p:childTnLst>
                              <p:par>
                                <p:cTn id="306" nodeType="afterEffect" fill="hold" presetClass="entr" presetID="5" presetSubtype="10">
                                  <p:stCondLst>
                                    <p:cond delay="0"/>
                                  </p:stCondLst>
                                  <p:childTnLst>
                                    <p:set>
                                      <p:cBhvr>
                                        <p:cTn id="307" dur="1" fill="hold">
                                          <p:stCondLst>
                                            <p:cond delay="0"/>
                                          </p:stCondLst>
                                        </p:cTn>
                                        <p:tgtEl>
                                          <p:spTgt spid="136"/>
                                        </p:tgtEl>
                                        <p:attrNameLst>
                                          <p:attrName>style.visibility</p:attrName>
                                        </p:attrNameLst>
                                      </p:cBhvr>
                                      <p:to>
                                        <p:strVal val="visible"/>
                                      </p:to>
                                    </p:set>
                                    <p:animEffect filter="checkerboard(across)" transition="in">
                                      <p:cBhvr additive="repl">
                                        <p:cTn id="308" dur="500"/>
                                        <p:tgtEl>
                                          <p:spTgt spid="136"/>
                                        </p:tgtEl>
                                      </p:cBhvr>
                                    </p:animEffect>
                                  </p:childTnLst>
                                </p:cTn>
                              </p:par>
                            </p:childTnLst>
                          </p:cTn>
                        </p:par>
                        <p:par>
                          <p:cTn id="309" fill="hold">
                            <p:stCondLst>
                              <p:cond delay="7900"/>
                            </p:stCondLst>
                            <p:childTnLst>
                              <p:par>
                                <p:cTn id="310" nodeType="afterEffect" fill="hold" presetClass="entr" presetID="5" presetSubtype="10">
                                  <p:stCondLst>
                                    <p:cond delay="0"/>
                                  </p:stCondLst>
                                  <p:childTnLst>
                                    <p:set>
                                      <p:cBhvr>
                                        <p:cTn id="311" dur="1" fill="hold">
                                          <p:stCondLst>
                                            <p:cond delay="0"/>
                                          </p:stCondLst>
                                        </p:cTn>
                                        <p:tgtEl>
                                          <p:spTgt spid="137"/>
                                        </p:tgtEl>
                                        <p:attrNameLst>
                                          <p:attrName>style.visibility</p:attrName>
                                        </p:attrNameLst>
                                      </p:cBhvr>
                                      <p:to>
                                        <p:strVal val="visible"/>
                                      </p:to>
                                    </p:set>
                                    <p:animEffect filter="checkerboard(across)" transition="in">
                                      <p:cBhvr additive="repl">
                                        <p:cTn id="312" dur="500"/>
                                        <p:tgtEl>
                                          <p:spTgt spid="137"/>
                                        </p:tgtEl>
                                      </p:cBhvr>
                                    </p:animEffect>
                                  </p:childTnLst>
                                </p:cTn>
                              </p:par>
                            </p:childTnLst>
                          </p:cTn>
                        </p:par>
                        <p:par>
                          <p:cTn id="313" fill="hold">
                            <p:stCondLst>
                              <p:cond delay="8400"/>
                            </p:stCondLst>
                            <p:childTnLst>
                              <p:par>
                                <p:cTn id="314" nodeType="afterEffect" fill="hold" presetClass="entr" presetID="5" presetSubtype="10">
                                  <p:stCondLst>
                                    <p:cond delay="0"/>
                                  </p:stCondLst>
                                  <p:childTnLst>
                                    <p:set>
                                      <p:cBhvr>
                                        <p:cTn id="315" dur="1" fill="hold">
                                          <p:stCondLst>
                                            <p:cond delay="0"/>
                                          </p:stCondLst>
                                        </p:cTn>
                                        <p:tgtEl>
                                          <p:spTgt spid="144"/>
                                        </p:tgtEl>
                                        <p:attrNameLst>
                                          <p:attrName>style.visibility</p:attrName>
                                        </p:attrNameLst>
                                      </p:cBhvr>
                                      <p:to>
                                        <p:strVal val="visible"/>
                                      </p:to>
                                    </p:set>
                                    <p:animEffect filter="checkerboard(across)" transition="in">
                                      <p:cBhvr additive="repl">
                                        <p:cTn id="316" dur="500"/>
                                        <p:tgtEl>
                                          <p:spTgt spid="144"/>
                                        </p:tgtEl>
                                      </p:cBhvr>
                                    </p:animEffect>
                                  </p:childTnLst>
                                </p:cTn>
                              </p:par>
                            </p:childTnLst>
                          </p:cTn>
                        </p:par>
                        <p:par>
                          <p:cTn id="317" fill="hold">
                            <p:stCondLst>
                              <p:cond delay="8900"/>
                            </p:stCondLst>
                            <p:childTnLst>
                              <p:par>
                                <p:cTn id="318" nodeType="afterEffect" fill="hold" presetClass="entr" presetID="5" presetSubtype="10">
                                  <p:stCondLst>
                                    <p:cond delay="0"/>
                                  </p:stCondLst>
                                  <p:childTnLst>
                                    <p:set>
                                      <p:cBhvr>
                                        <p:cTn id="319" dur="1" fill="hold">
                                          <p:stCondLst>
                                            <p:cond delay="0"/>
                                          </p:stCondLst>
                                        </p:cTn>
                                        <p:tgtEl>
                                          <p:spTgt spid="138"/>
                                        </p:tgtEl>
                                        <p:attrNameLst>
                                          <p:attrName>style.visibility</p:attrName>
                                        </p:attrNameLst>
                                      </p:cBhvr>
                                      <p:to>
                                        <p:strVal val="visible"/>
                                      </p:to>
                                    </p:set>
                                    <p:animEffect filter="checkerboard(across)" transition="in">
                                      <p:cBhvr additive="repl">
                                        <p:cTn id="320" dur="500"/>
                                        <p:tgtEl>
                                          <p:spTgt spid="138"/>
                                        </p:tgtEl>
                                      </p:cBhvr>
                                    </p:animEffect>
                                  </p:childTnLst>
                                </p:cTn>
                              </p:par>
                            </p:childTnLst>
                          </p:cTn>
                        </p:par>
                        <p:par>
                          <p:cTn id="321" fill="hold">
                            <p:stCondLst>
                              <p:cond delay="9400"/>
                            </p:stCondLst>
                            <p:childTnLst>
                              <p:par>
                                <p:cTn id="322" nodeType="afterEffect" fill="hold" presetClass="entr" presetID="5" presetSubtype="10">
                                  <p:stCondLst>
                                    <p:cond delay="0"/>
                                  </p:stCondLst>
                                  <p:childTnLst>
                                    <p:set>
                                      <p:cBhvr>
                                        <p:cTn id="323" dur="1" fill="hold">
                                          <p:stCondLst>
                                            <p:cond delay="0"/>
                                          </p:stCondLst>
                                        </p:cTn>
                                        <p:tgtEl>
                                          <p:spTgt spid="143"/>
                                        </p:tgtEl>
                                        <p:attrNameLst>
                                          <p:attrName>style.visibility</p:attrName>
                                        </p:attrNameLst>
                                      </p:cBhvr>
                                      <p:to>
                                        <p:strVal val="visible"/>
                                      </p:to>
                                    </p:set>
                                    <p:animEffect filter="checkerboard(across)" transition="in">
                                      <p:cBhvr additive="repl">
                                        <p:cTn id="324" dur="500"/>
                                        <p:tgtEl>
                                          <p:spTgt spid="143"/>
                                        </p:tgtEl>
                                      </p:cBhvr>
                                    </p:animEffect>
                                  </p:childTnLst>
                                </p:cTn>
                              </p:par>
                            </p:childTnLst>
                          </p:cTn>
                        </p:par>
                        <p:par>
                          <p:cTn id="325" fill="hold">
                            <p:stCondLst>
                              <p:cond delay="9900"/>
                            </p:stCondLst>
                            <p:childTnLst>
                              <p:par>
                                <p:cTn id="326" nodeType="afterEffect" fill="hold" presetClass="entr" presetID="5" presetSubtype="10">
                                  <p:stCondLst>
                                    <p:cond delay="0"/>
                                  </p:stCondLst>
                                  <p:childTnLst>
                                    <p:set>
                                      <p:cBhvr>
                                        <p:cTn id="327" dur="1" fill="hold">
                                          <p:stCondLst>
                                            <p:cond delay="0"/>
                                          </p:stCondLst>
                                        </p:cTn>
                                        <p:tgtEl>
                                          <p:spTgt spid="145"/>
                                        </p:tgtEl>
                                        <p:attrNameLst>
                                          <p:attrName>style.visibility</p:attrName>
                                        </p:attrNameLst>
                                      </p:cBhvr>
                                      <p:to>
                                        <p:strVal val="visible"/>
                                      </p:to>
                                    </p:set>
                                    <p:animEffect filter="checkerboard(across)" transition="in">
                                      <p:cBhvr additive="repl">
                                        <p:cTn id="328" dur="500"/>
                                        <p:tgtEl>
                                          <p:spTgt spid="145"/>
                                        </p:tgtEl>
                                      </p:cBhvr>
                                    </p:animEffect>
                                  </p:childTnLst>
                                </p:cTn>
                              </p:par>
                            </p:childTnLst>
                          </p:cTn>
                        </p:par>
                        <p:par>
                          <p:cTn id="329" fill="hold">
                            <p:stCondLst>
                              <p:cond delay="10400"/>
                            </p:stCondLst>
                            <p:childTnLst>
                              <p:par>
                                <p:cTn id="330" nodeType="afterEffect" fill="hold" presetClass="entr" presetID="5" presetSubtype="10">
                                  <p:stCondLst>
                                    <p:cond delay="0"/>
                                  </p:stCondLst>
                                  <p:childTnLst>
                                    <p:set>
                                      <p:cBhvr>
                                        <p:cTn id="331" dur="1" fill="hold">
                                          <p:stCondLst>
                                            <p:cond delay="0"/>
                                          </p:stCondLst>
                                        </p:cTn>
                                        <p:tgtEl>
                                          <p:spTgt spid="146"/>
                                        </p:tgtEl>
                                        <p:attrNameLst>
                                          <p:attrName>style.visibility</p:attrName>
                                        </p:attrNameLst>
                                      </p:cBhvr>
                                      <p:to>
                                        <p:strVal val="visible"/>
                                      </p:to>
                                    </p:set>
                                    <p:animEffect filter="checkerboard(across)" transition="in">
                                      <p:cBhvr additive="repl">
                                        <p:cTn id="332" dur="500"/>
                                        <p:tgtEl>
                                          <p:spTgt spid="146"/>
                                        </p:tgtEl>
                                      </p:cBhvr>
                                    </p:animEffect>
                                  </p:childTnLst>
                                </p:cTn>
                              </p:par>
                            </p:childTnLst>
                          </p:cTn>
                        </p:par>
                        <p:par>
                          <p:cTn id="333" fill="hold">
                            <p:stCondLst>
                              <p:cond delay="10900"/>
                            </p:stCondLst>
                            <p:childTnLst>
                              <p:par>
                                <p:cTn id="334" nodeType="afterEffect" fill="hold" presetClass="entr" presetID="5" presetSubtype="10">
                                  <p:stCondLst>
                                    <p:cond delay="0"/>
                                  </p:stCondLst>
                                  <p:childTnLst>
                                    <p:set>
                                      <p:cBhvr>
                                        <p:cTn id="335" dur="1" fill="hold">
                                          <p:stCondLst>
                                            <p:cond delay="0"/>
                                          </p:stCondLst>
                                        </p:cTn>
                                        <p:tgtEl>
                                          <p:spTgt spid="147"/>
                                        </p:tgtEl>
                                        <p:attrNameLst>
                                          <p:attrName>style.visibility</p:attrName>
                                        </p:attrNameLst>
                                      </p:cBhvr>
                                      <p:to>
                                        <p:strVal val="visible"/>
                                      </p:to>
                                    </p:set>
                                    <p:animEffect filter="checkerboard(across)" transition="in">
                                      <p:cBhvr additive="repl">
                                        <p:cTn id="336" dur="500"/>
                                        <p:tgtEl>
                                          <p:spTgt spid="147"/>
                                        </p:tgtEl>
                                      </p:cBhvr>
                                    </p:animEffect>
                                  </p:childTnLst>
                                </p:cTn>
                              </p:par>
                            </p:childTnLst>
                          </p:cTn>
                        </p:par>
                        <p:par>
                          <p:cTn id="337" fill="hold">
                            <p:stCondLst>
                              <p:cond delay="11400"/>
                            </p:stCondLst>
                            <p:childTnLst>
                              <p:par>
                                <p:cTn id="338" nodeType="afterEffect" fill="hold" presetClass="entr" presetID="12" presetSubtype="4">
                                  <p:stCondLst>
                                    <p:cond delay="0"/>
                                  </p:stCondLst>
                                  <p:childTnLst>
                                    <p:set>
                                      <p:cBhvr>
                                        <p:cTn id="339" dur="1" fill="hold">
                                          <p:stCondLst>
                                            <p:cond delay="0"/>
                                          </p:stCondLst>
                                        </p:cTn>
                                        <p:tgtEl>
                                          <p:spTgt spid="129"/>
                                        </p:tgtEl>
                                        <p:attrNameLst>
                                          <p:attrName>style.visibility</p:attrName>
                                        </p:attrNameLst>
                                      </p:cBhvr>
                                      <p:to>
                                        <p:strVal val="visible"/>
                                      </p:to>
                                    </p:set>
                                    <p:animEffect filter="slide(fromBottom)" transition="in">
                                      <p:cBhvr additive="repl">
                                        <p:cTn id="340" dur="500"/>
                                        <p:tgtEl>
                                          <p:spTgt spid="129"/>
                                        </p:tgtEl>
                                      </p:cBhvr>
                                    </p:animEffect>
                                  </p:childTnLst>
                                </p:cTn>
                              </p:par>
                            </p:childTnLst>
                          </p:cTn>
                        </p:par>
                        <p:par>
                          <p:cTn id="341" fill="hold">
                            <p:stCondLst>
                              <p:cond delay="11900"/>
                            </p:stCondLst>
                            <p:childTnLst>
                              <p:par>
                                <p:cTn id="342" nodeType="afterEffect" fill="hold" presetClass="entr" presetID="41">
                                  <p:stCondLst>
                                    <p:cond delay="0"/>
                                  </p:stCondLst>
                                  <p:iterate type="lt">
                                    <p:tmAbs val="50"/>
                                  </p:iterate>
                                  <p:childTnLst>
                                    <p:set>
                                      <p:cBhvr>
                                        <p:cTn id="343" dur="1" fill="hold">
                                          <p:stCondLst>
                                            <p:cond delay="0"/>
                                          </p:stCondLst>
                                        </p:cTn>
                                        <p:tgtEl>
                                          <p:spTgt spid="148"/>
                                        </p:tgtEl>
                                        <p:attrNameLst>
                                          <p:attrName>style.visibility</p:attrName>
                                        </p:attrNameLst>
                                      </p:cBhvr>
                                      <p:to>
                                        <p:strVal val="visible"/>
                                      </p:to>
                                    </p:set>
                                    <p:anim calcmode="lin" valueType="num">
                                      <p:cBhvr additive="repl">
                                        <p:cTn id="344"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 dur="500" fill="hold"/>
                                        <p:tgtEl>
                                          <p:spTgt spid="148"/>
                                        </p:tgtEl>
                                        <p:attrNameLst>
                                          <p:attrName>ppt_y</p:attrName>
                                        </p:attrNameLst>
                                      </p:cBhvr>
                                      <p:tavLst>
                                        <p:tav tm="0">
                                          <p:val>
                                            <p:strVal val="#ppt_y"/>
                                          </p:val>
                                        </p:tav>
                                        <p:tav tm="100000">
                                          <p:val>
                                            <p:strVal val="#ppt_y"/>
                                          </p:val>
                                        </p:tav>
                                      </p:tavLst>
                                    </p:anim>
                                    <p:anim calcmode="lin" valueType="num">
                                      <p:cBhvr additive="repl">
                                        <p:cTn id="346"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7"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8" dur="500"/>
                                        <p:tgtEl>
                                          <p:spTgt spid="148"/>
                                        </p:tgtEl>
                                      </p:cBhvr>
                                    </p:animEffect>
                                  </p:childTnLst>
                                </p:cTn>
                              </p:par>
                            </p:childTnLst>
                          </p:cTn>
                        </p:par>
                        <p:par>
                          <p:cTn id="349" fill="hold">
                            <p:stCondLst>
                              <p:cond delay="12950"/>
                            </p:stCondLst>
                            <p:childTnLst>
                              <p:par>
                                <p:cTn id="350" nodeType="afterEffect" fill="hold" presetClass="entr" presetID="5" presetSubtype="10">
                                  <p:stCondLst>
                                    <p:cond delay="0"/>
                                  </p:stCondLst>
                                  <p:childTnLst>
                                    <p:set>
                                      <p:cBhvr>
                                        <p:cTn id="351" dur="1" fill="hold">
                                          <p:stCondLst>
                                            <p:cond delay="0"/>
                                          </p:stCondLst>
                                        </p:cTn>
                                        <p:tgtEl>
                                          <p:spTgt spid="150"/>
                                        </p:tgtEl>
                                        <p:attrNameLst>
                                          <p:attrName>style.visibility</p:attrName>
                                        </p:attrNameLst>
                                      </p:cBhvr>
                                      <p:to>
                                        <p:strVal val="visible"/>
                                      </p:to>
                                    </p:set>
                                    <p:animEffect filter="checkerboard(across)" transition="in">
                                      <p:cBhvr additive="repl">
                                        <p:cTn id="352" dur="500"/>
                                        <p:tgtEl>
                                          <p:spTgt spid="150"/>
                                        </p:tgtEl>
                                      </p:cBhvr>
                                    </p:animEffect>
                                  </p:childTnLst>
                                </p:cTn>
                              </p:par>
                            </p:childTnLst>
                          </p:cTn>
                        </p:par>
                        <p:par>
                          <p:cTn id="353" fill="hold">
                            <p:stCondLst>
                              <p:cond delay="13450"/>
                            </p:stCondLst>
                            <p:childTnLst>
                              <p:par>
                                <p:cTn id="354" nodeType="afterEffect" fill="hold" presetClass="entr" presetID="5" presetSubtype="10">
                                  <p:stCondLst>
                                    <p:cond delay="0"/>
                                  </p:stCondLst>
                                  <p:childTnLst>
                                    <p:set>
                                      <p:cBhvr>
                                        <p:cTn id="355" dur="1" fill="hold">
                                          <p:stCondLst>
                                            <p:cond delay="0"/>
                                          </p:stCondLst>
                                        </p:cTn>
                                        <p:tgtEl>
                                          <p:spTgt spid="151"/>
                                        </p:tgtEl>
                                        <p:attrNameLst>
                                          <p:attrName>style.visibility</p:attrName>
                                        </p:attrNameLst>
                                      </p:cBhvr>
                                      <p:to>
                                        <p:strVal val="visible"/>
                                      </p:to>
                                    </p:set>
                                    <p:animEffect filter="checkerboard(across)" transition="in">
                                      <p:cBhvr additive="repl">
                                        <p:cTn id="356" dur="500"/>
                                        <p:tgtEl>
                                          <p:spTgt spid="151"/>
                                        </p:tgtEl>
                                      </p:cBhvr>
                                    </p:animEffect>
                                  </p:childTnLst>
                                </p:cTn>
                              </p:par>
                            </p:childTnLst>
                          </p:cTn>
                        </p:par>
                        <p:par>
                          <p:cTn id="357" fill="hold">
                            <p:stCondLst>
                              <p:cond delay="13950"/>
                            </p:stCondLst>
                            <p:childTnLst>
                              <p:par>
                                <p:cTn id="358" nodeType="afterEffect" fill="hold" presetClass="entr" presetID="5" presetSubtype="10">
                                  <p:stCondLst>
                                    <p:cond delay="0"/>
                                  </p:stCondLst>
                                  <p:childTnLst>
                                    <p:set>
                                      <p:cBhvr>
                                        <p:cTn id="359" dur="1" fill="hold">
                                          <p:stCondLst>
                                            <p:cond delay="0"/>
                                          </p:stCondLst>
                                        </p:cTn>
                                        <p:tgtEl>
                                          <p:spTgt spid="152"/>
                                        </p:tgtEl>
                                        <p:attrNameLst>
                                          <p:attrName>style.visibility</p:attrName>
                                        </p:attrNameLst>
                                      </p:cBhvr>
                                      <p:to>
                                        <p:strVal val="visible"/>
                                      </p:to>
                                    </p:set>
                                    <p:animEffect filter="checkerboard(across)" transition="in">
                                      <p:cBhvr additive="repl">
                                        <p:cTn id="360" dur="500"/>
                                        <p:tgtEl>
                                          <p:spTgt spid="152"/>
                                        </p:tgtEl>
                                      </p:cBhvr>
                                    </p:animEffect>
                                  </p:childTnLst>
                                </p:cTn>
                              </p:par>
                            </p:childTnLst>
                          </p:cTn>
                        </p:par>
                        <p:par>
                          <p:cTn id="361" fill="hold">
                            <p:stCondLst>
                              <p:cond delay="14450"/>
                            </p:stCondLst>
                            <p:childTnLst>
                              <p:par>
                                <p:cTn id="362" nodeType="afterEffect" fill="hold" presetClass="entr" presetID="5" presetSubtype="10">
                                  <p:stCondLst>
                                    <p:cond delay="0"/>
                                  </p:stCondLst>
                                  <p:childTnLst>
                                    <p:set>
                                      <p:cBhvr>
                                        <p:cTn id="363" dur="1" fill="hold">
                                          <p:stCondLst>
                                            <p:cond delay="0"/>
                                          </p:stCondLst>
                                        </p:cTn>
                                        <p:tgtEl>
                                          <p:spTgt spid="155"/>
                                        </p:tgtEl>
                                        <p:attrNameLst>
                                          <p:attrName>style.visibility</p:attrName>
                                        </p:attrNameLst>
                                      </p:cBhvr>
                                      <p:to>
                                        <p:strVal val="visible"/>
                                      </p:to>
                                    </p:set>
                                    <p:animEffect filter="checkerboard(across)" transition="in">
                                      <p:cBhvr additive="repl">
                                        <p:cTn id="364" dur="500"/>
                                        <p:tgtEl>
                                          <p:spTgt spid="155"/>
                                        </p:tgtEl>
                                      </p:cBhvr>
                                    </p:animEffect>
                                  </p:childTnLst>
                                </p:cTn>
                              </p:par>
                            </p:childTnLst>
                          </p:cTn>
                        </p:par>
                        <p:par>
                          <p:cTn id="365" fill="hold">
                            <p:stCondLst>
                              <p:cond delay="14950"/>
                            </p:stCondLst>
                            <p:childTnLst>
                              <p:par>
                                <p:cTn id="366" nodeType="afterEffect" fill="hold" presetClass="entr" presetID="5" presetSubtype="10">
                                  <p:stCondLst>
                                    <p:cond delay="0"/>
                                  </p:stCondLst>
                                  <p:childTnLst>
                                    <p:set>
                                      <p:cBhvr>
                                        <p:cTn id="367" dur="1" fill="hold">
                                          <p:stCondLst>
                                            <p:cond delay="0"/>
                                          </p:stCondLst>
                                        </p:cTn>
                                        <p:tgtEl>
                                          <p:spTgt spid="154"/>
                                        </p:tgtEl>
                                        <p:attrNameLst>
                                          <p:attrName>style.visibility</p:attrName>
                                        </p:attrNameLst>
                                      </p:cBhvr>
                                      <p:to>
                                        <p:strVal val="visible"/>
                                      </p:to>
                                    </p:set>
                                    <p:animEffect filter="checkerboard(across)" transition="in">
                                      <p:cBhvr additive="repl">
                                        <p:cTn id="368" dur="500"/>
                                        <p:tgtEl>
                                          <p:spTgt spid="154"/>
                                        </p:tgtEl>
                                      </p:cBhvr>
                                    </p:animEffect>
                                  </p:childTnLst>
                                </p:cTn>
                              </p:par>
                            </p:childTnLst>
                          </p:cTn>
                        </p:par>
                        <p:par>
                          <p:cTn id="369" fill="hold">
                            <p:stCondLst>
                              <p:cond delay="15450"/>
                            </p:stCondLst>
                            <p:childTnLst>
                              <p:par>
                                <p:cTn id="370" nodeType="afterEffect" fill="hold" presetClass="entr" presetID="5" presetSubtype="10">
                                  <p:stCondLst>
                                    <p:cond delay="0"/>
                                  </p:stCondLst>
                                  <p:childTnLst>
                                    <p:set>
                                      <p:cBhvr>
                                        <p:cTn id="371" dur="1" fill="hold">
                                          <p:stCondLst>
                                            <p:cond delay="0"/>
                                          </p:stCondLst>
                                        </p:cTn>
                                        <p:tgtEl>
                                          <p:spTgt spid="153"/>
                                        </p:tgtEl>
                                        <p:attrNameLst>
                                          <p:attrName>style.visibility</p:attrName>
                                        </p:attrNameLst>
                                      </p:cBhvr>
                                      <p:to>
                                        <p:strVal val="visible"/>
                                      </p:to>
                                    </p:set>
                                    <p:animEffect filter="checkerboard(across)" transition="in">
                                      <p:cBhvr additive="repl">
                                        <p:cTn id="372" dur="500"/>
                                        <p:tgtEl>
                                          <p:spTgt spid="153"/>
                                        </p:tgtEl>
                                      </p:cBhvr>
                                    </p:animEffect>
                                  </p:childTnLst>
                                </p:cTn>
                              </p:par>
                            </p:childTnLst>
                          </p:cTn>
                        </p:par>
                        <p:par>
                          <p:cTn id="373" fill="hold">
                            <p:stCondLst>
                              <p:cond delay="15950"/>
                            </p:stCondLst>
                            <p:childTnLst>
                              <p:par>
                                <p:cTn id="374" nodeType="afterEffect" fill="hold" presetClass="entr" presetID="56">
                                  <p:stCondLst>
                                    <p:cond delay="0"/>
                                  </p:stCondLst>
                                  <p:iterate type="lt">
                                    <p:tmAbs val="100"/>
                                  </p:iterate>
                                  <p:childTnLst>
                                    <p:set>
                                      <p:cBhvr>
                                        <p:cTn id="375" dur="1" fill="hold">
                                          <p:stCondLst>
                                            <p:cond delay="0"/>
                                          </p:stCondLst>
                                        </p:cTn>
                                        <p:tgtEl>
                                          <p:spTgt spid="149"/>
                                        </p:tgtEl>
                                        <p:attrNameLst>
                                          <p:attrName>style.visibility</p:attrName>
                                        </p:attrNameLst>
                                      </p:cBhvr>
                                      <p:to>
                                        <p:strVal val="visible"/>
                                      </p:to>
                                    </p:set>
                                    <p:anim calcmode="lin" valueType="num" by="(-#ppt_w*2)">
                                      <p:cBhvr additive="repl">
                                        <p:cTn id="376" dur="500" autoRev="1" fill="hold">
                                          <p:stCondLst>
                                            <p:cond delay="0"/>
                                          </p:stCondLst>
                                        </p:cTn>
                                        <p:tgtEl>
                                          <p:spTgt spid="149"/>
                                        </p:tgtEl>
                                        <p:attrNameLst>
                                          <p:attrName>ppt_w</p:attrName>
                                        </p:attrNameLst>
                                      </p:cBhvr>
                                    </p:anim>
                                    <p:anim calcmode="lin" valueType="num" by="(#ppt_w*0.50)">
                                      <p:cBhvr additive="repl">
                                        <p:cTn id="377" dur="500" autoRev="1" fill="hold">
                                          <p:stCondLst>
                                            <p:cond delay="0"/>
                                          </p:stCondLst>
                                        </p:cTn>
                                        <p:tgtEl>
                                          <p:spTgt spid="149"/>
                                        </p:tgtEl>
                                        <p:attrNameLst>
                                          <p:attrName>ppt_x</p:attrName>
                                        </p:attrNameLst>
                                      </p:cBhvr>
                                    </p:anim>
                                    <p:anim calcmode="lin" valueType="num" from="(-#ppt_h/2)" to="(#ppt_y)">
                                      <p:cBhvr additive="repl">
                                        <p:cTn id="378" dur="1000" fill="hold">
                                          <p:stCondLst>
                                            <p:cond delay="0"/>
                                          </p:stCondLst>
                                        </p:cTn>
                                        <p:tgtEl>
                                          <p:spTgt spid="149"/>
                                        </p:tgtEl>
                                        <p:attrNameLst>
                                          <p:attrName>ppt_y</p:attrName>
                                        </p:attrNameLst>
                                      </p:cBhvr>
                                    </p:anim>
                                    <p:animRot by="21600000">
                                      <p:cBhvr>
                                        <p:cTn id="379" dur="1000" fill="hold">
                                          <p:stCondLst>
                                            <p:cond delay="0"/>
                                          </p:stCondLst>
                                        </p:cTn>
                                        <p:tgtEl>
                                          <p:spTgt spid="149"/>
                                        </p:tgtEl>
                                        <p:attrNameLst>
                                          <p:attrName>r</p:attrName>
                                        </p:attrNameLst>
                                      </p:cBhvr>
                                    </p:animRot>
                                  </p:childTnLst>
                                </p:cTn>
                              </p:par>
                            </p:childTnLst>
                          </p:cTn>
                        </p:par>
                        <p:par>
                          <p:cTn id="380" fill="hold">
                            <p:stCondLst>
                              <p:cond delay="18650"/>
                            </p:stCondLst>
                            <p:childTnLst>
                              <p:par>
                                <p:cTn id="381" nodeType="afterEffect" fill="hold" presetClass="entr" presetID="5" presetSubtype="10">
                                  <p:stCondLst>
                                    <p:cond delay="0"/>
                                  </p:stCondLst>
                                  <p:childTnLst>
                                    <p:set>
                                      <p:cBhvr>
                                        <p:cTn id="382" dur="1" fill="hold">
                                          <p:stCondLst>
                                            <p:cond delay="0"/>
                                          </p:stCondLst>
                                        </p:cTn>
                                        <p:tgtEl>
                                          <p:spTgt spid="156"/>
                                        </p:tgtEl>
                                        <p:attrNameLst>
                                          <p:attrName>style.visibility</p:attrName>
                                        </p:attrNameLst>
                                      </p:cBhvr>
                                      <p:to>
                                        <p:strVal val="visible"/>
                                      </p:to>
                                    </p:set>
                                    <p:animEffect filter="checkerboard(across)" transition="in">
                                      <p:cBhvr additive="repl">
                                        <p:cTn id="383" dur="500"/>
                                        <p:tgtEl>
                                          <p:spTgt spid="156"/>
                                        </p:tgtEl>
                                      </p:cBhvr>
                                    </p:animEffect>
                                  </p:childTnLst>
                                </p:cTn>
                              </p:par>
                            </p:childTnLst>
                          </p:cTn>
                        </p:par>
                        <p:par>
                          <p:cTn id="384" fill="hold">
                            <p:stCondLst>
                              <p:cond delay="19150"/>
                            </p:stCondLst>
                            <p:childTnLst>
                              <p:par>
                                <p:cTn id="385" nodeType="afterEffect" fill="hold" presetClass="entr" presetID="5" presetSubtype="10">
                                  <p:stCondLst>
                                    <p:cond delay="0"/>
                                  </p:stCondLst>
                                  <p:childTnLst>
                                    <p:set>
                                      <p:cBhvr>
                                        <p:cTn id="386" dur="1" fill="hold">
                                          <p:stCondLst>
                                            <p:cond delay="0"/>
                                          </p:stCondLst>
                                        </p:cTn>
                                        <p:tgtEl>
                                          <p:spTgt spid="157"/>
                                        </p:tgtEl>
                                        <p:attrNameLst>
                                          <p:attrName>style.visibility</p:attrName>
                                        </p:attrNameLst>
                                      </p:cBhvr>
                                      <p:to>
                                        <p:strVal val="visible"/>
                                      </p:to>
                                    </p:set>
                                    <p:animEffect filter="checkerboard(across)" transition="in">
                                      <p:cBhvr additive="repl">
                                        <p:cTn id="387" dur="500"/>
                                        <p:tgtEl>
                                          <p:spTgt spid="157"/>
                                        </p:tgtEl>
                                      </p:cBhvr>
                                    </p:animEffect>
                                  </p:childTnLst>
                                </p:cTn>
                              </p:par>
                            </p:childTnLst>
                          </p:cTn>
                        </p:par>
                        <p:par>
                          <p:cTn id="388" fill="hold">
                            <p:stCondLst>
                              <p:cond delay="19650"/>
                            </p:stCondLst>
                            <p:childTnLst>
                              <p:par>
                                <p:cTn id="389" nodeType="afterEffect" fill="hold" presetClass="entr" presetID="5" presetSubtype="10">
                                  <p:stCondLst>
                                    <p:cond delay="0"/>
                                  </p:stCondLst>
                                  <p:childTnLst>
                                    <p:set>
                                      <p:cBhvr>
                                        <p:cTn id="390" dur="1" fill="hold">
                                          <p:stCondLst>
                                            <p:cond delay="0"/>
                                          </p:stCondLst>
                                        </p:cTn>
                                        <p:tgtEl>
                                          <p:spTgt spid="158"/>
                                        </p:tgtEl>
                                        <p:attrNameLst>
                                          <p:attrName>style.visibility</p:attrName>
                                        </p:attrNameLst>
                                      </p:cBhvr>
                                      <p:to>
                                        <p:strVal val="visible"/>
                                      </p:to>
                                    </p:set>
                                    <p:animEffect filter="checkerboard(across)" transition="in">
                                      <p:cBhvr additive="repl">
                                        <p:cTn id="391" dur="500"/>
                                        <p:tgtEl>
                                          <p:spTgt spid="158"/>
                                        </p:tgtEl>
                                      </p:cBhvr>
                                    </p:animEffect>
                                  </p:childTnLst>
                                </p:cTn>
                              </p:par>
                            </p:childTnLst>
                          </p:cTn>
                        </p:par>
                        <p:par>
                          <p:cTn id="392" fill="hold">
                            <p:stCondLst>
                              <p:cond delay="20150"/>
                            </p:stCondLst>
                            <p:childTnLst>
                              <p:par>
                                <p:cTn id="393" nodeType="afterEffect" fill="hold" presetClass="entr" presetID="5" presetSubtype="10">
                                  <p:stCondLst>
                                    <p:cond delay="0"/>
                                  </p:stCondLst>
                                  <p:childTnLst>
                                    <p:set>
                                      <p:cBhvr>
                                        <p:cTn id="394" dur="1" fill="hold">
                                          <p:stCondLst>
                                            <p:cond delay="0"/>
                                          </p:stCondLst>
                                        </p:cTn>
                                        <p:tgtEl>
                                          <p:spTgt spid="160"/>
                                        </p:tgtEl>
                                        <p:attrNameLst>
                                          <p:attrName>style.visibility</p:attrName>
                                        </p:attrNameLst>
                                      </p:cBhvr>
                                      <p:to>
                                        <p:strVal val="visible"/>
                                      </p:to>
                                    </p:set>
                                    <p:animEffect filter="checkerboard(across)" transition="in">
                                      <p:cBhvr additive="repl">
                                        <p:cTn id="395" dur="500"/>
                                        <p:tgtEl>
                                          <p:spTgt spid="160"/>
                                        </p:tgtEl>
                                      </p:cBhvr>
                                    </p:animEffect>
                                  </p:childTnLst>
                                </p:cTn>
                              </p:par>
                            </p:childTnLst>
                          </p:cTn>
                        </p:par>
                        <p:par>
                          <p:cTn id="396" fill="hold">
                            <p:stCondLst>
                              <p:cond delay="20650"/>
                            </p:stCondLst>
                            <p:childTnLst>
                              <p:par>
                                <p:cTn id="397" nodeType="afterEffect" fill="hold" presetClass="entr" presetID="5" presetSubtype="10">
                                  <p:stCondLst>
                                    <p:cond delay="0"/>
                                  </p:stCondLst>
                                  <p:childTnLst>
                                    <p:set>
                                      <p:cBhvr>
                                        <p:cTn id="398" dur="1" fill="hold">
                                          <p:stCondLst>
                                            <p:cond delay="0"/>
                                          </p:stCondLst>
                                        </p:cTn>
                                        <p:tgtEl>
                                          <p:spTgt spid="161"/>
                                        </p:tgtEl>
                                        <p:attrNameLst>
                                          <p:attrName>style.visibility</p:attrName>
                                        </p:attrNameLst>
                                      </p:cBhvr>
                                      <p:to>
                                        <p:strVal val="visible"/>
                                      </p:to>
                                    </p:set>
                                    <p:animEffect filter="checkerboard(across)" transition="in">
                                      <p:cBhvr additive="repl">
                                        <p:cTn id="399" dur="500"/>
                                        <p:tgtEl>
                                          <p:spTgt spid="161"/>
                                        </p:tgtEl>
                                      </p:cBhvr>
                                    </p:animEffect>
                                  </p:childTnLst>
                                </p:cTn>
                              </p:par>
                            </p:childTnLst>
                          </p:cTn>
                        </p:par>
                        <p:par>
                          <p:cTn id="400" fill="hold">
                            <p:stCondLst>
                              <p:cond delay="21150"/>
                            </p:stCondLst>
                            <p:childTnLst>
                              <p:par>
                                <p:cTn id="401" nodeType="afterEffect" fill="hold" presetClass="entr" presetID="53">
                                  <p:stCondLst>
                                    <p:cond delay="0"/>
                                  </p:stCondLst>
                                  <p:childTnLst>
                                    <p:set>
                                      <p:cBhvr>
                                        <p:cTn id="402" dur="1" fill="hold">
                                          <p:stCondLst>
                                            <p:cond delay="0"/>
                                          </p:stCondLst>
                                        </p:cTn>
                                        <p:tgtEl>
                                          <p:spTgt spid="131"/>
                                        </p:tgtEl>
                                        <p:attrNameLst>
                                          <p:attrName>style.visibility</p:attrName>
                                        </p:attrNameLst>
                                      </p:cBhvr>
                                      <p:to>
                                        <p:strVal val="visible"/>
                                      </p:to>
                                    </p:set>
                                    <p:anim calcmode="lin" valueType="num">
                                      <p:cBhvr additive="repl">
                                        <p:cTn id="403" dur="500" fill="hold"/>
                                        <p:tgtEl>
                                          <p:spTgt spid="131"/>
                                        </p:tgtEl>
                                        <p:attrNameLst>
                                          <p:attrName>ppt_w</p:attrName>
                                        </p:attrNameLst>
                                      </p:cBhvr>
                                      <p:tavLst>
                                        <p:tav tm="0">
                                          <p:val>
                                            <p:fltVal val="0"/>
                                          </p:val>
                                        </p:tav>
                                        <p:tav tm="100000">
                                          <p:val>
                                            <p:strVal val="#ppt_w"/>
                                          </p:val>
                                        </p:tav>
                                      </p:tavLst>
                                    </p:anim>
                                    <p:anim calcmode="lin" valueType="num">
                                      <p:cBhvr additive="repl">
                                        <p:cTn id="404" dur="500" fill="hold"/>
                                        <p:tgtEl>
                                          <p:spTgt spid="131"/>
                                        </p:tgtEl>
                                        <p:attrNameLst>
                                          <p:attrName>ppt_h</p:attrName>
                                        </p:attrNameLst>
                                      </p:cBhvr>
                                      <p:tavLst>
                                        <p:tav tm="0">
                                          <p:val>
                                            <p:fltVal val="0"/>
                                          </p:val>
                                        </p:tav>
                                        <p:tav tm="100000">
                                          <p:val>
                                            <p:strVal val="#ppt_h"/>
                                          </p:val>
                                        </p:tav>
                                      </p:tavLst>
                                    </p:anim>
                                    <p:animEffect filter="fade" transition="in">
                                      <p:cBhvr additive="repl">
                                        <p:cTn id="405" dur="500"/>
                                        <p:tgtEl>
                                          <p:spTgt spid="131"/>
                                        </p:tgtEl>
                                      </p:cBhvr>
                                    </p:animEffect>
                                  </p:childTnLst>
                                </p:cTn>
                              </p:par>
                            </p:childTnLst>
                          </p:cTn>
                        </p:par>
                        <p:par>
                          <p:cTn id="406" fill="hold">
                            <p:stCondLst>
                              <p:cond delay="21650"/>
                            </p:stCondLst>
                            <p:childTnLst>
                              <p:par>
                                <p:cTn id="407" nodeType="afterEffect" fill="hold" presetClass="entr" presetID="27">
                                  <p:stCondLst>
                                    <p:cond delay="0"/>
                                  </p:stCondLst>
                                  <p:iterate type="lt">
                                    <p:tmAbs val="40"/>
                                  </p:iterate>
                                  <p:childTnLst>
                                    <p:set>
                                      <p:cBhvr>
                                        <p:cTn id="408" dur="1" fill="hold">
                                          <p:stCondLst>
                                            <p:cond delay="0"/>
                                          </p:stCondLst>
                                        </p:cTn>
                                        <p:tgtEl>
                                          <p:spTgt spid="159"/>
                                        </p:tgtEl>
                                        <p:attrNameLst>
                                          <p:attrName>style.visibility</p:attrName>
                                        </p:attrNameLst>
                                      </p:cBhvr>
                                      <p:to>
                                        <p:strVal val="visible"/>
                                      </p:to>
                                    </p:set>
                                    <p:anim calcmode="discrete" valueType="clr">
                                      <p:cBhvr additive="repl">
                                        <p:cTn id="409" dur="80"/>
                                        <p:tgtEl>
                                          <p:spTgt spid="159"/>
                                        </p:tgtEl>
                                        <p:attrNameLst>
                                          <p:attrName>style.color</p:attrName>
                                        </p:attrNameLst>
                                      </p:cBhvr>
                                      <p:tavLst>
                                        <p:tav tm="0">
                                          <p:val>
                                            <p:strVal val="rgb(91,-123,94)"/>
                                          </p:val>
                                        </p:tav>
                                        <p:tav tm="50000">
                                          <p:val>
                                            <p:strVal val="rgb(94,-56,-18)"/>
                                          </p:val>
                                        </p:tav>
                                      </p:tavLst>
                                    </p:anim>
                                    <p:anim calcmode="discrete" valueType="clr">
                                      <p:cBhvr additive="repl">
                                        <p:cTn id="410" dur="80"/>
                                        <p:tgtEl>
                                          <p:spTgt spid="159"/>
                                        </p:tgtEl>
                                        <p:attrNameLst>
                                          <p:attrName>fillcolor</p:attrName>
                                        </p:attrNameLst>
                                      </p:cBhvr>
                                      <p:tavLst>
                                        <p:tav tm="0">
                                          <p:val>
                                            <p:strVal val="rgb(91,-123,94)"/>
                                          </p:val>
                                        </p:tav>
                                        <p:tav tm="50000">
                                          <p:val>
                                            <p:strVal val="rgb(94,-56,-18)"/>
                                          </p:val>
                                        </p:tav>
                                      </p:tavLst>
                                    </p:anim>
                                    <p:set>
                                      <p:cBhvr>
                                        <p:cTn id="411" dur="80"/>
                                        <p:tgtEl>
                                          <p:spTgt spid="159"/>
                                        </p:tgtEl>
                                        <p:attrNameLst>
                                          <p:attrName>fill.type</p:attrName>
                                        </p:attrNameLst>
                                      </p:cBhvr>
                                      <p:to>
                                        <p:strVal val="solid"/>
                                      </p:to>
                                    </p:set>
                                  </p:childTnLst>
                                </p:cTn>
                              </p:par>
                            </p:childTnLst>
                          </p:cTn>
                        </p:par>
                        <p:par>
                          <p:cTn id="412" fill="hold">
                            <p:stCondLst>
                              <p:cond delay="22330"/>
                            </p:stCondLst>
                            <p:childTnLst>
                              <p:par>
                                <p:cTn id="413" nodeType="afterEffect" fill="hold" presetClass="entr" presetID="54">
                                  <p:stCondLst>
                                    <p:cond delay="0"/>
                                  </p:stCondLst>
                                  <p:childTnLst>
                                    <p:set>
                                      <p:cBhvr>
                                        <p:cTn id="414" dur="1" fill="hold">
                                          <p:stCondLst>
                                            <p:cond delay="0"/>
                                          </p:stCondLst>
                                        </p:cTn>
                                        <p:tgtEl>
                                          <p:spTgt spid="165"/>
                                        </p:tgtEl>
                                        <p:attrNameLst>
                                          <p:attrName>style.visibility</p:attrName>
                                        </p:attrNameLst>
                                      </p:cBhvr>
                                      <p:to>
                                        <p:strVal val="visible"/>
                                      </p:to>
                                    </p:set>
                                    <p:anim calcmode="lin" valueType="num">
                                      <p:cBhvr additive="repl">
                                        <p:cTn id="415" dur="500" fill="hold"/>
                                        <p:tgtEl>
                                          <p:spTgt spid="165"/>
                                        </p:tgtEl>
                                        <p:attrNameLst>
                                          <p:attrName>ppt_w</p:attrName>
                                        </p:attrNameLst>
                                      </p:cBhvr>
                                      <p:tavLst>
                                        <p:tav tm="0">
                                          <p:val>
                                            <p:strVal val="#ppt_w*0.05"/>
                                          </p:val>
                                        </p:tav>
                                        <p:tav tm="100000">
                                          <p:val>
                                            <p:strVal val="#ppt_w"/>
                                          </p:val>
                                        </p:tav>
                                      </p:tavLst>
                                    </p:anim>
                                    <p:anim calcmode="lin" valueType="num">
                                      <p:cBhvr additive="repl">
                                        <p:cTn id="416" dur="500" fill="hold"/>
                                        <p:tgtEl>
                                          <p:spTgt spid="165"/>
                                        </p:tgtEl>
                                        <p:attrNameLst>
                                          <p:attrName>ppt_h</p:attrName>
                                        </p:attrNameLst>
                                      </p:cBhvr>
                                      <p:tavLst>
                                        <p:tav tm="0">
                                          <p:val>
                                            <p:strVal val="#ppt_h"/>
                                          </p:val>
                                        </p:tav>
                                        <p:tav tm="100000">
                                          <p:val>
                                            <p:strVal val="#ppt_h"/>
                                          </p:val>
                                        </p:tav>
                                      </p:tavLst>
                                    </p:anim>
                                    <p:anim calcmode="lin" valueType="num">
                                      <p:cBhvr additive="repl">
                                        <p:cTn id="417" dur="500" fill="hold"/>
                                        <p:tgtEl>
                                          <p:spTgt spid="165"/>
                                        </p:tgtEl>
                                        <p:attrNameLst>
                                          <p:attrName>ppt_x</p:attrName>
                                        </p:attrNameLst>
                                      </p:cBhvr>
                                      <p:tavLst>
                                        <p:tav tm="0">
                                          <p:val>
                                            <p:strVal val="#ppt_x-.2"/>
                                          </p:val>
                                        </p:tav>
                                        <p:tav tm="100000">
                                          <p:val>
                                            <p:strVal val="#ppt_x"/>
                                          </p:val>
                                        </p:tav>
                                      </p:tavLst>
                                    </p:anim>
                                    <p:anim calcmode="lin" valueType="num">
                                      <p:cBhvr additive="repl">
                                        <p:cTn id="418" dur="500" fill="hold"/>
                                        <p:tgtEl>
                                          <p:spTgt spid="165"/>
                                        </p:tgtEl>
                                        <p:attrNameLst>
                                          <p:attrName>ppt_y</p:attrName>
                                        </p:attrNameLst>
                                      </p:cBhvr>
                                      <p:tavLst>
                                        <p:tav tm="0">
                                          <p:val>
                                            <p:strVal val="#ppt_y"/>
                                          </p:val>
                                        </p:tav>
                                        <p:tav tm="100000">
                                          <p:val>
                                            <p:strVal val="#ppt_y"/>
                                          </p:val>
                                        </p:tav>
                                      </p:tavLst>
                                    </p:anim>
                                    <p:animEffect filter="fade" transition="in">
                                      <p:cBhvr additive="repl">
                                        <p:cTn id="419" dur="500"/>
                                        <p:tgtEl>
                                          <p:spTgt spid="165"/>
                                        </p:tgtEl>
                                      </p:cBhvr>
                                    </p:animEffect>
                                  </p:childTnLst>
                                </p:cTn>
                              </p:par>
                            </p:childTnLst>
                          </p:cTn>
                        </p:par>
                        <p:par>
                          <p:cTn id="420" fill="hold">
                            <p:stCondLst>
                              <p:cond delay="22830"/>
                            </p:stCondLst>
                            <p:childTnLst>
                              <p:par>
                                <p:cTn id="421" nodeType="afterEffect" fill="hold" presetClass="entr" presetID="54">
                                  <p:stCondLst>
                                    <p:cond delay="0"/>
                                  </p:stCondLst>
                                  <p:childTnLst>
                                    <p:set>
                                      <p:cBhvr>
                                        <p:cTn id="422" dur="1" fill="hold">
                                          <p:stCondLst>
                                            <p:cond delay="0"/>
                                          </p:stCondLst>
                                        </p:cTn>
                                        <p:tgtEl>
                                          <p:spTgt spid="162"/>
                                        </p:tgtEl>
                                        <p:attrNameLst>
                                          <p:attrName>style.visibility</p:attrName>
                                        </p:attrNameLst>
                                      </p:cBhvr>
                                      <p:to>
                                        <p:strVal val="visible"/>
                                      </p:to>
                                    </p:set>
                                    <p:anim calcmode="lin" valueType="num">
                                      <p:cBhvr additive="repl">
                                        <p:cTn id="423" dur="500" fill="hold"/>
                                        <p:tgtEl>
                                          <p:spTgt spid="162"/>
                                        </p:tgtEl>
                                        <p:attrNameLst>
                                          <p:attrName>ppt_w</p:attrName>
                                        </p:attrNameLst>
                                      </p:cBhvr>
                                      <p:tavLst>
                                        <p:tav tm="0">
                                          <p:val>
                                            <p:strVal val="#ppt_w*0.05"/>
                                          </p:val>
                                        </p:tav>
                                        <p:tav tm="100000">
                                          <p:val>
                                            <p:strVal val="#ppt_w"/>
                                          </p:val>
                                        </p:tav>
                                      </p:tavLst>
                                    </p:anim>
                                    <p:anim calcmode="lin" valueType="num">
                                      <p:cBhvr additive="repl">
                                        <p:cTn id="424" dur="500" fill="hold"/>
                                        <p:tgtEl>
                                          <p:spTgt spid="162"/>
                                        </p:tgtEl>
                                        <p:attrNameLst>
                                          <p:attrName>ppt_h</p:attrName>
                                        </p:attrNameLst>
                                      </p:cBhvr>
                                      <p:tavLst>
                                        <p:tav tm="0">
                                          <p:val>
                                            <p:strVal val="#ppt_h"/>
                                          </p:val>
                                        </p:tav>
                                        <p:tav tm="100000">
                                          <p:val>
                                            <p:strVal val="#ppt_h"/>
                                          </p:val>
                                        </p:tav>
                                      </p:tavLst>
                                    </p:anim>
                                    <p:anim calcmode="lin" valueType="num">
                                      <p:cBhvr additive="repl">
                                        <p:cTn id="425" dur="500" fill="hold"/>
                                        <p:tgtEl>
                                          <p:spTgt spid="162"/>
                                        </p:tgtEl>
                                        <p:attrNameLst>
                                          <p:attrName>ppt_x</p:attrName>
                                        </p:attrNameLst>
                                      </p:cBhvr>
                                      <p:tavLst>
                                        <p:tav tm="0">
                                          <p:val>
                                            <p:strVal val="#ppt_x-.2"/>
                                          </p:val>
                                        </p:tav>
                                        <p:tav tm="100000">
                                          <p:val>
                                            <p:strVal val="#ppt_x"/>
                                          </p:val>
                                        </p:tav>
                                      </p:tavLst>
                                    </p:anim>
                                    <p:anim calcmode="lin" valueType="num">
                                      <p:cBhvr additive="repl">
                                        <p:cTn id="426" dur="500" fill="hold"/>
                                        <p:tgtEl>
                                          <p:spTgt spid="162"/>
                                        </p:tgtEl>
                                        <p:attrNameLst>
                                          <p:attrName>ppt_y</p:attrName>
                                        </p:attrNameLst>
                                      </p:cBhvr>
                                      <p:tavLst>
                                        <p:tav tm="0">
                                          <p:val>
                                            <p:strVal val="#ppt_y"/>
                                          </p:val>
                                        </p:tav>
                                        <p:tav tm="100000">
                                          <p:val>
                                            <p:strVal val="#ppt_y"/>
                                          </p:val>
                                        </p:tav>
                                      </p:tavLst>
                                    </p:anim>
                                    <p:animEffect filter="fade" transition="in">
                                      <p:cBhvr additive="repl">
                                        <p:cTn id="427" dur="500"/>
                                        <p:tgtEl>
                                          <p:spTgt spid="162"/>
                                        </p:tgtEl>
                                      </p:cBhvr>
                                    </p:animEffect>
                                  </p:childTnLst>
                                </p:cTn>
                              </p:par>
                            </p:childTnLst>
                          </p:cTn>
                        </p:par>
                        <p:par>
                          <p:cTn id="428" fill="hold">
                            <p:stCondLst>
                              <p:cond delay="23330"/>
                            </p:stCondLst>
                            <p:childTnLst>
                              <p:par>
                                <p:cTn id="429" nodeType="afterEffect" fill="hold" presetClass="entr" presetID="54">
                                  <p:stCondLst>
                                    <p:cond delay="0"/>
                                  </p:stCondLst>
                                  <p:childTnLst>
                                    <p:set>
                                      <p:cBhvr>
                                        <p:cTn id="430" dur="1" fill="hold">
                                          <p:stCondLst>
                                            <p:cond delay="0"/>
                                          </p:stCondLst>
                                        </p:cTn>
                                        <p:tgtEl>
                                          <p:spTgt spid="166"/>
                                        </p:tgtEl>
                                        <p:attrNameLst>
                                          <p:attrName>style.visibility</p:attrName>
                                        </p:attrNameLst>
                                      </p:cBhvr>
                                      <p:to>
                                        <p:strVal val="visible"/>
                                      </p:to>
                                    </p:set>
                                    <p:anim calcmode="lin" valueType="num">
                                      <p:cBhvr additive="repl">
                                        <p:cTn id="431" dur="500" fill="hold"/>
                                        <p:tgtEl>
                                          <p:spTgt spid="166"/>
                                        </p:tgtEl>
                                        <p:attrNameLst>
                                          <p:attrName>ppt_w</p:attrName>
                                        </p:attrNameLst>
                                      </p:cBhvr>
                                      <p:tavLst>
                                        <p:tav tm="0">
                                          <p:val>
                                            <p:strVal val="#ppt_w*0.05"/>
                                          </p:val>
                                        </p:tav>
                                        <p:tav tm="100000">
                                          <p:val>
                                            <p:strVal val="#ppt_w"/>
                                          </p:val>
                                        </p:tav>
                                      </p:tavLst>
                                    </p:anim>
                                    <p:anim calcmode="lin" valueType="num">
                                      <p:cBhvr additive="repl">
                                        <p:cTn id="432" dur="500" fill="hold"/>
                                        <p:tgtEl>
                                          <p:spTgt spid="166"/>
                                        </p:tgtEl>
                                        <p:attrNameLst>
                                          <p:attrName>ppt_h</p:attrName>
                                        </p:attrNameLst>
                                      </p:cBhvr>
                                      <p:tavLst>
                                        <p:tav tm="0">
                                          <p:val>
                                            <p:strVal val="#ppt_h"/>
                                          </p:val>
                                        </p:tav>
                                        <p:tav tm="100000">
                                          <p:val>
                                            <p:strVal val="#ppt_h"/>
                                          </p:val>
                                        </p:tav>
                                      </p:tavLst>
                                    </p:anim>
                                    <p:anim calcmode="lin" valueType="num">
                                      <p:cBhvr additive="repl">
                                        <p:cTn id="433" dur="500" fill="hold"/>
                                        <p:tgtEl>
                                          <p:spTgt spid="166"/>
                                        </p:tgtEl>
                                        <p:attrNameLst>
                                          <p:attrName>ppt_x</p:attrName>
                                        </p:attrNameLst>
                                      </p:cBhvr>
                                      <p:tavLst>
                                        <p:tav tm="0">
                                          <p:val>
                                            <p:strVal val="#ppt_x-.2"/>
                                          </p:val>
                                        </p:tav>
                                        <p:tav tm="100000">
                                          <p:val>
                                            <p:strVal val="#ppt_x"/>
                                          </p:val>
                                        </p:tav>
                                      </p:tavLst>
                                    </p:anim>
                                    <p:anim calcmode="lin" valueType="num">
                                      <p:cBhvr additive="repl">
                                        <p:cTn id="434" dur="500" fill="hold"/>
                                        <p:tgtEl>
                                          <p:spTgt spid="166"/>
                                        </p:tgtEl>
                                        <p:attrNameLst>
                                          <p:attrName>ppt_y</p:attrName>
                                        </p:attrNameLst>
                                      </p:cBhvr>
                                      <p:tavLst>
                                        <p:tav tm="0">
                                          <p:val>
                                            <p:strVal val="#ppt_y"/>
                                          </p:val>
                                        </p:tav>
                                        <p:tav tm="100000">
                                          <p:val>
                                            <p:strVal val="#ppt_y"/>
                                          </p:val>
                                        </p:tav>
                                      </p:tavLst>
                                    </p:anim>
                                    <p:animEffect filter="fade" transition="in">
                                      <p:cBhvr additive="repl">
                                        <p:cTn id="435" dur="500"/>
                                        <p:tgtEl>
                                          <p:spTgt spid="166"/>
                                        </p:tgtEl>
                                      </p:cBhvr>
                                    </p:animEffect>
                                  </p:childTnLst>
                                </p:cTn>
                              </p:par>
                            </p:childTnLst>
                          </p:cTn>
                        </p:par>
                        <p:par>
                          <p:cTn id="436" fill="hold">
                            <p:stCondLst>
                              <p:cond delay="23830"/>
                            </p:stCondLst>
                            <p:childTnLst>
                              <p:par>
                                <p:cTn id="437" nodeType="afterEffect" fill="hold" presetClass="entr" presetID="54">
                                  <p:stCondLst>
                                    <p:cond delay="0"/>
                                  </p:stCondLst>
                                  <p:childTnLst>
                                    <p:set>
                                      <p:cBhvr>
                                        <p:cTn id="438" dur="1" fill="hold">
                                          <p:stCondLst>
                                            <p:cond delay="0"/>
                                          </p:stCondLst>
                                        </p:cTn>
                                        <p:tgtEl>
                                          <p:spTgt spid="163"/>
                                        </p:tgtEl>
                                        <p:attrNameLst>
                                          <p:attrName>style.visibility</p:attrName>
                                        </p:attrNameLst>
                                      </p:cBhvr>
                                      <p:to>
                                        <p:strVal val="visible"/>
                                      </p:to>
                                    </p:set>
                                    <p:anim calcmode="lin" valueType="num">
                                      <p:cBhvr additive="repl">
                                        <p:cTn id="439" dur="500" fill="hold"/>
                                        <p:tgtEl>
                                          <p:spTgt spid="163"/>
                                        </p:tgtEl>
                                        <p:attrNameLst>
                                          <p:attrName>ppt_w</p:attrName>
                                        </p:attrNameLst>
                                      </p:cBhvr>
                                      <p:tavLst>
                                        <p:tav tm="0">
                                          <p:val>
                                            <p:strVal val="#ppt_w*0.05"/>
                                          </p:val>
                                        </p:tav>
                                        <p:tav tm="100000">
                                          <p:val>
                                            <p:strVal val="#ppt_w"/>
                                          </p:val>
                                        </p:tav>
                                      </p:tavLst>
                                    </p:anim>
                                    <p:anim calcmode="lin" valueType="num">
                                      <p:cBhvr additive="repl">
                                        <p:cTn id="440" dur="500" fill="hold"/>
                                        <p:tgtEl>
                                          <p:spTgt spid="163"/>
                                        </p:tgtEl>
                                        <p:attrNameLst>
                                          <p:attrName>ppt_h</p:attrName>
                                        </p:attrNameLst>
                                      </p:cBhvr>
                                      <p:tavLst>
                                        <p:tav tm="0">
                                          <p:val>
                                            <p:strVal val="#ppt_h"/>
                                          </p:val>
                                        </p:tav>
                                        <p:tav tm="100000">
                                          <p:val>
                                            <p:strVal val="#ppt_h"/>
                                          </p:val>
                                        </p:tav>
                                      </p:tavLst>
                                    </p:anim>
                                    <p:anim calcmode="lin" valueType="num">
                                      <p:cBhvr additive="repl">
                                        <p:cTn id="441" dur="500" fill="hold"/>
                                        <p:tgtEl>
                                          <p:spTgt spid="163"/>
                                        </p:tgtEl>
                                        <p:attrNameLst>
                                          <p:attrName>ppt_x</p:attrName>
                                        </p:attrNameLst>
                                      </p:cBhvr>
                                      <p:tavLst>
                                        <p:tav tm="0">
                                          <p:val>
                                            <p:strVal val="#ppt_x-.2"/>
                                          </p:val>
                                        </p:tav>
                                        <p:tav tm="100000">
                                          <p:val>
                                            <p:strVal val="#ppt_x"/>
                                          </p:val>
                                        </p:tav>
                                      </p:tavLst>
                                    </p:anim>
                                    <p:anim calcmode="lin" valueType="num">
                                      <p:cBhvr additive="repl">
                                        <p:cTn id="442" dur="500" fill="hold"/>
                                        <p:tgtEl>
                                          <p:spTgt spid="163"/>
                                        </p:tgtEl>
                                        <p:attrNameLst>
                                          <p:attrName>ppt_y</p:attrName>
                                        </p:attrNameLst>
                                      </p:cBhvr>
                                      <p:tavLst>
                                        <p:tav tm="0">
                                          <p:val>
                                            <p:strVal val="#ppt_y"/>
                                          </p:val>
                                        </p:tav>
                                        <p:tav tm="100000">
                                          <p:val>
                                            <p:strVal val="#ppt_y"/>
                                          </p:val>
                                        </p:tav>
                                      </p:tavLst>
                                    </p:anim>
                                    <p:animEffect filter="fade" transition="in">
                                      <p:cBhvr additive="repl">
                                        <p:cTn id="443" dur="500"/>
                                        <p:tgtEl>
                                          <p:spTgt spid="163"/>
                                        </p:tgtEl>
                                      </p:cBhvr>
                                    </p:animEffect>
                                  </p:childTnLst>
                                </p:cTn>
                              </p:par>
                            </p:childTnLst>
                          </p:cTn>
                        </p:par>
                        <p:par>
                          <p:cTn id="444" fill="hold">
                            <p:stCondLst>
                              <p:cond delay="24330"/>
                            </p:stCondLst>
                            <p:childTnLst>
                              <p:par>
                                <p:cTn id="445" nodeType="afterEffect" fill="hold" presetClass="entr" presetID="39">
                                  <p:stCondLst>
                                    <p:cond delay="0"/>
                                  </p:stCondLst>
                                  <p:childTnLst>
                                    <p:set>
                                      <p:cBhvr>
                                        <p:cTn id="446" dur="1" fill="hold">
                                          <p:stCondLst>
                                            <p:cond delay="0"/>
                                          </p:stCondLst>
                                        </p:cTn>
                                        <p:tgtEl>
                                          <p:spTgt spid="130"/>
                                        </p:tgtEl>
                                        <p:attrNameLst>
                                          <p:attrName>style.visibility</p:attrName>
                                        </p:attrNameLst>
                                      </p:cBhvr>
                                      <p:to>
                                        <p:strVal val="visible"/>
                                      </p:to>
                                    </p:set>
                                    <p:anim calcmode="lin" valueType="num">
                                      <p:cBhvr additive="repl">
                                        <p:cTn id="44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130"/>
                                        </p:tgtEl>
                                        <p:attrNameLst>
                                          <p:attrName>ppt_y</p:attrName>
                                        </p:attrNameLst>
                                      </p:cBhvr>
                                      <p:tavLst>
                                        <p:tav tm="0">
                                          <p:val>
                                            <p:strVal val="#ppt_y"/>
                                          </p:val>
                                        </p:tav>
                                        <p:tav tm="100000">
                                          <p:val>
                                            <p:strVal val="#ppt_y"/>
                                          </p:val>
                                        </p:tav>
                                      </p:tavLst>
                                    </p:anim>
                                  </p:childTnLst>
                                </p:cTn>
                              </p:par>
                            </p:childTnLst>
                          </p:cTn>
                        </p:par>
                        <p:par>
                          <p:cTn id="451" fill="hold">
                            <p:stCondLst>
                              <p:cond delay="24830"/>
                            </p:stCondLst>
                            <p:childTnLst>
                              <p:par>
                                <p:cTn id="452" nodeType="afterEffect" fill="hold" presetClass="entr" presetID="10">
                                  <p:stCondLst>
                                    <p:cond delay="0"/>
                                  </p:stCondLst>
                                  <p:childTnLst>
                                    <p:set>
                                      <p:cBhvr>
                                        <p:cTn id="453" dur="1" fill="hold">
                                          <p:stCondLst>
                                            <p:cond delay="0"/>
                                          </p:stCondLst>
                                        </p:cTn>
                                        <p:tgtEl>
                                          <p:spTgt spid="168"/>
                                        </p:tgtEl>
                                        <p:attrNameLst>
                                          <p:attrName>style.visibility</p:attrName>
                                        </p:attrNameLst>
                                      </p:cBhvr>
                                      <p:to>
                                        <p:strVal val="visible"/>
                                      </p:to>
                                    </p:set>
                                    <p:animEffect filter="fade" transition="in">
                                      <p:cBhvr additive="repl">
                                        <p:cTn id="454" dur="2000"/>
                                        <p:tgtEl>
                                          <p:spTgt spid="168"/>
                                        </p:tgtEl>
                                      </p:cBhvr>
                                    </p:animEffect>
                                  </p:childTnLst>
                                </p:cTn>
                              </p:par>
                            </p:childTnLst>
                          </p:cTn>
                        </p:par>
                        <p:par>
                          <p:cTn id="455" fill="hold">
                            <p:stCondLst>
                              <p:cond delay="26830"/>
                            </p:stCondLst>
                            <p:childTnLst>
                              <p:par>
                                <p:cTn id="456" nodeType="afterEffect" fill="hold" presetClass="entr" presetID="54">
                                  <p:stCondLst>
                                    <p:cond delay="0"/>
                                  </p:stCondLst>
                                  <p:childTnLst>
                                    <p:set>
                                      <p:cBhvr>
                                        <p:cTn id="457" dur="1" fill="hold">
                                          <p:stCondLst>
                                            <p:cond delay="0"/>
                                          </p:stCondLst>
                                        </p:cTn>
                                        <p:tgtEl>
                                          <p:spTgt spid="167"/>
                                        </p:tgtEl>
                                        <p:attrNameLst>
                                          <p:attrName>style.visibility</p:attrName>
                                        </p:attrNameLst>
                                      </p:cBhvr>
                                      <p:to>
                                        <p:strVal val="visible"/>
                                      </p:to>
                                    </p:set>
                                    <p:anim calcmode="lin" valueType="num">
                                      <p:cBhvr additive="repl">
                                        <p:cTn id="458" dur="500" fill="hold"/>
                                        <p:tgtEl>
                                          <p:spTgt spid="167"/>
                                        </p:tgtEl>
                                        <p:attrNameLst>
                                          <p:attrName>ppt_w</p:attrName>
                                        </p:attrNameLst>
                                      </p:cBhvr>
                                      <p:tavLst>
                                        <p:tav tm="0">
                                          <p:val>
                                            <p:strVal val="#ppt_w*0.05"/>
                                          </p:val>
                                        </p:tav>
                                        <p:tav tm="100000">
                                          <p:val>
                                            <p:strVal val="#ppt_w"/>
                                          </p:val>
                                        </p:tav>
                                      </p:tavLst>
                                    </p:anim>
                                    <p:anim calcmode="lin" valueType="num">
                                      <p:cBhvr additive="repl">
                                        <p:cTn id="459" dur="500" fill="hold"/>
                                        <p:tgtEl>
                                          <p:spTgt spid="167"/>
                                        </p:tgtEl>
                                        <p:attrNameLst>
                                          <p:attrName>ppt_h</p:attrName>
                                        </p:attrNameLst>
                                      </p:cBhvr>
                                      <p:tavLst>
                                        <p:tav tm="0">
                                          <p:val>
                                            <p:strVal val="#ppt_h"/>
                                          </p:val>
                                        </p:tav>
                                        <p:tav tm="100000">
                                          <p:val>
                                            <p:strVal val="#ppt_h"/>
                                          </p:val>
                                        </p:tav>
                                      </p:tavLst>
                                    </p:anim>
                                    <p:anim calcmode="lin" valueType="num">
                                      <p:cBhvr additive="repl">
                                        <p:cTn id="460" dur="500" fill="hold"/>
                                        <p:tgtEl>
                                          <p:spTgt spid="167"/>
                                        </p:tgtEl>
                                        <p:attrNameLst>
                                          <p:attrName>ppt_x</p:attrName>
                                        </p:attrNameLst>
                                      </p:cBhvr>
                                      <p:tavLst>
                                        <p:tav tm="0">
                                          <p:val>
                                            <p:strVal val="#ppt_x-.2"/>
                                          </p:val>
                                        </p:tav>
                                        <p:tav tm="100000">
                                          <p:val>
                                            <p:strVal val="#ppt_x"/>
                                          </p:val>
                                        </p:tav>
                                      </p:tavLst>
                                    </p:anim>
                                    <p:anim calcmode="lin" valueType="num">
                                      <p:cBhvr additive="repl">
                                        <p:cTn id="461" dur="500" fill="hold"/>
                                        <p:tgtEl>
                                          <p:spTgt spid="167"/>
                                        </p:tgtEl>
                                        <p:attrNameLst>
                                          <p:attrName>ppt_y</p:attrName>
                                        </p:attrNameLst>
                                      </p:cBhvr>
                                      <p:tavLst>
                                        <p:tav tm="0">
                                          <p:val>
                                            <p:strVal val="#ppt_y"/>
                                          </p:val>
                                        </p:tav>
                                        <p:tav tm="100000">
                                          <p:val>
                                            <p:strVal val="#ppt_y"/>
                                          </p:val>
                                        </p:tav>
                                      </p:tavLst>
                                    </p:anim>
                                    <p:animEffect filter="fade" transition="in">
                                      <p:cBhvr additive="repl">
                                        <p:cTn id="462" dur="500"/>
                                        <p:tgtEl>
                                          <p:spTgt spid="167"/>
                                        </p:tgtEl>
                                      </p:cBhvr>
                                    </p:animEffect>
                                  </p:childTnLst>
                                </p:cTn>
                              </p:par>
                            </p:childTnLst>
                          </p:cTn>
                        </p:par>
                        <p:par>
                          <p:cTn id="463" fill="hold">
                            <p:stCondLst>
                              <p:cond delay="27330"/>
                            </p:stCondLst>
                            <p:childTnLst>
                              <p:par>
                                <p:cTn id="464" nodeType="afterEffect" fill="hold" presetClass="entr" presetID="54">
                                  <p:stCondLst>
                                    <p:cond delay="0"/>
                                  </p:stCondLst>
                                  <p:childTnLst>
                                    <p:set>
                                      <p:cBhvr>
                                        <p:cTn id="465" dur="1" fill="hold">
                                          <p:stCondLst>
                                            <p:cond delay="0"/>
                                          </p:stCondLst>
                                        </p:cTn>
                                        <p:tgtEl>
                                          <p:spTgt spid="164"/>
                                        </p:tgtEl>
                                        <p:attrNameLst>
                                          <p:attrName>style.visibility</p:attrName>
                                        </p:attrNameLst>
                                      </p:cBhvr>
                                      <p:to>
                                        <p:strVal val="visible"/>
                                      </p:to>
                                    </p:set>
                                    <p:anim calcmode="lin" valueType="num">
                                      <p:cBhvr additive="repl">
                                        <p:cTn id="466" dur="500" fill="hold"/>
                                        <p:tgtEl>
                                          <p:spTgt spid="164"/>
                                        </p:tgtEl>
                                        <p:attrNameLst>
                                          <p:attrName>ppt_w</p:attrName>
                                        </p:attrNameLst>
                                      </p:cBhvr>
                                      <p:tavLst>
                                        <p:tav tm="0">
                                          <p:val>
                                            <p:strVal val="#ppt_w*0.05"/>
                                          </p:val>
                                        </p:tav>
                                        <p:tav tm="100000">
                                          <p:val>
                                            <p:strVal val="#ppt_w"/>
                                          </p:val>
                                        </p:tav>
                                      </p:tavLst>
                                    </p:anim>
                                    <p:anim calcmode="lin" valueType="num">
                                      <p:cBhvr additive="repl">
                                        <p:cTn id="467" dur="500" fill="hold"/>
                                        <p:tgtEl>
                                          <p:spTgt spid="164"/>
                                        </p:tgtEl>
                                        <p:attrNameLst>
                                          <p:attrName>ppt_h</p:attrName>
                                        </p:attrNameLst>
                                      </p:cBhvr>
                                      <p:tavLst>
                                        <p:tav tm="0">
                                          <p:val>
                                            <p:strVal val="#ppt_h"/>
                                          </p:val>
                                        </p:tav>
                                        <p:tav tm="100000">
                                          <p:val>
                                            <p:strVal val="#ppt_h"/>
                                          </p:val>
                                        </p:tav>
                                      </p:tavLst>
                                    </p:anim>
                                    <p:anim calcmode="lin" valueType="num">
                                      <p:cBhvr additive="repl">
                                        <p:cTn id="468" dur="500" fill="hold"/>
                                        <p:tgtEl>
                                          <p:spTgt spid="164"/>
                                        </p:tgtEl>
                                        <p:attrNameLst>
                                          <p:attrName>ppt_x</p:attrName>
                                        </p:attrNameLst>
                                      </p:cBhvr>
                                      <p:tavLst>
                                        <p:tav tm="0">
                                          <p:val>
                                            <p:strVal val="#ppt_x-.2"/>
                                          </p:val>
                                        </p:tav>
                                        <p:tav tm="100000">
                                          <p:val>
                                            <p:strVal val="#ppt_x"/>
                                          </p:val>
                                        </p:tav>
                                      </p:tavLst>
                                    </p:anim>
                                    <p:anim calcmode="lin" valueType="num">
                                      <p:cBhvr additive="repl">
                                        <p:cTn id="469" dur="500" fill="hold"/>
                                        <p:tgtEl>
                                          <p:spTgt spid="164"/>
                                        </p:tgtEl>
                                        <p:attrNameLst>
                                          <p:attrName>ppt_y</p:attrName>
                                        </p:attrNameLst>
                                      </p:cBhvr>
                                      <p:tavLst>
                                        <p:tav tm="0">
                                          <p:val>
                                            <p:strVal val="#ppt_y"/>
                                          </p:val>
                                        </p:tav>
                                        <p:tav tm="100000">
                                          <p:val>
                                            <p:strVal val="#ppt_y"/>
                                          </p:val>
                                        </p:tav>
                                      </p:tavLst>
                                    </p:anim>
                                    <p:animEffect filter="fade" transition="in">
                                      <p:cBhvr additive="repl">
                                        <p:cTn id="47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250920" y="304920"/>
            <a:ext cx="8713800" cy="8100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00"/>
                </a:solidFill>
                <a:latin typeface="Times New Roman"/>
              </a:rPr>
              <a:t>HATIRLAMA  VE UNUTMA</a:t>
            </a:r>
            <a:r>
              <a:rPr b="1" lang="en-US" sz="4700" spc="-1" strike="noStrike">
                <a:solidFill>
                  <a:srgbClr val="0099cc"/>
                </a:solidFill>
                <a:latin typeface="Times New Roman"/>
              </a:rPr>
              <a:t> </a:t>
            </a:r>
            <a:endParaRPr b="0" lang="en-US" sz="4700" spc="-1" strike="noStrike">
              <a:solidFill>
                <a:srgbClr val="ffffff"/>
              </a:solidFill>
              <a:latin typeface="Times New Roman"/>
            </a:endParaRPr>
          </a:p>
        </p:txBody>
      </p:sp>
      <p:graphicFrame>
        <p:nvGraphicFramePr>
          <p:cNvPr id="170" name=""/>
          <p:cNvGraphicFramePr/>
          <p:nvPr/>
        </p:nvGraphicFramePr>
        <p:xfrm>
          <a:off x="250920" y="1268280"/>
          <a:ext cx="8713800" cy="5329440"/>
        </p:xfrm>
        <a:graphic>
          <a:graphicData uri="http://schemas.openxmlformats.org/presentationml/2006/ole">
            <p:oleObj r:id="rId2" spid="">
              <p:embed/>
              <p:pic>
                <p:nvPicPr>
                  <p:cNvPr id="171" name="" descr=""/>
                  <p:cNvPicPr/>
                  <p:nvPr/>
                </p:nvPicPr>
                <p:blipFill>
                  <a:blip r:embed="rId3"/>
                  <a:stretch/>
                </p:blipFill>
                <p:spPr>
                  <a:xfrm>
                    <a:off x="250920" y="1268280"/>
                    <a:ext cx="8713800" cy="5329440"/>
                  </a:xfrm>
                  <a:prstGeom prst="rect">
                    <a:avLst/>
                  </a:prstGeom>
                  <a:ln w="28440">
                    <a:solidFill>
                      <a:srgbClr val="ff0000"/>
                    </a:solidFill>
                    <a:miter/>
                  </a:ln>
                </p:spPr>
              </p:pic>
            </p:oleObj>
          </a:graphicData>
        </a:graphic>
      </p:graphicFrame>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250920" y="189000"/>
            <a:ext cx="8569080" cy="14346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a4"/>
                </a:solidFill>
                <a:latin typeface="Times New Roman"/>
              </a:rPr>
              <a:t>Öğrenmenin parmak izi kadar kişiye özgü bir olgu olduğunu, </a:t>
            </a:r>
            <a:endParaRPr b="0" lang="en-US" sz="4400" spc="-1" strike="noStrike">
              <a:solidFill>
                <a:srgbClr val="ffffff"/>
              </a:solidFill>
              <a:latin typeface="Times New Roman"/>
            </a:endParaRPr>
          </a:p>
        </p:txBody>
      </p:sp>
      <p:sp>
        <p:nvSpPr>
          <p:cNvPr id="173" name=""/>
          <p:cNvSpPr/>
          <p:nvPr/>
        </p:nvSpPr>
        <p:spPr>
          <a:xfrm>
            <a:off x="250920" y="2349360"/>
            <a:ext cx="8713800" cy="14346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Herkesin öğrenme tür, hız ve kapasitesinin farklı olduğunu,</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174" name=""/>
          <p:cNvSpPr/>
          <p:nvPr/>
        </p:nvSpPr>
        <p:spPr>
          <a:xfrm>
            <a:off x="250920" y="4292640"/>
            <a:ext cx="8642160" cy="21049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a4"/>
                </a:solidFill>
                <a:latin typeface="Times New Roman"/>
              </a:rPr>
              <a:t>Öğrenmenin kişi için bir anlamlandırma süreci olduğunu ortaya koymaktadır.</a:t>
            </a:r>
            <a:endParaRPr b="0" lang="en-US" sz="4400" spc="-1" strike="noStrike">
              <a:solidFill>
                <a:srgbClr val="ffffff"/>
              </a:solidFill>
              <a:latin typeface="Times New Roman"/>
            </a:endParaRPr>
          </a:p>
        </p:txBody>
      </p:sp>
    </p:spTree>
  </p:cSld>
  <p:transition>
    <p:dissolv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172"/>
                                        </p:tgtEl>
                                        <p:attrNameLst>
                                          <p:attrName>style.visibility</p:attrName>
                                        </p:attrNameLst>
                                      </p:cBhvr>
                                      <p:to>
                                        <p:strVal val="visible"/>
                                      </p:to>
                                    </p:set>
                                    <p:animEffect filter="slide(fromBottom)" transition="in">
                                      <p:cBhvr additive="repl">
                                        <p:cTn id="477" dur="500"/>
                                        <p:tgtEl>
                                          <p:spTgt spid="1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173"/>
                                        </p:tgtEl>
                                        <p:attrNameLst>
                                          <p:attrName>style.visibility</p:attrName>
                                        </p:attrNameLst>
                                      </p:cBhvr>
                                      <p:to>
                                        <p:strVal val="visible"/>
                                      </p:to>
                                    </p:set>
                                    <p:animEffect filter="slide(fromBottom)" transition="in">
                                      <p:cBhvr additive="repl">
                                        <p:cTn id="482" dur="500"/>
                                        <p:tgtEl>
                                          <p:spTgt spid="17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74"/>
                                        </p:tgtEl>
                                        <p:attrNameLst>
                                          <p:attrName>style.visibility</p:attrName>
                                        </p:attrNameLst>
                                      </p:cBhvr>
                                      <p:to>
                                        <p:strVal val="visible"/>
                                      </p:to>
                                    </p:set>
                                    <p:animEffect filter="slide(fromBottom)" transition="in">
                                      <p:cBhvr additive="repl">
                                        <p:cTn id="48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250920" y="1173240"/>
            <a:ext cx="856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a4"/>
                </a:solidFill>
                <a:latin typeface="Arial"/>
              </a:rPr>
              <a:t>ÖĞRETMENİN YENİ KONUMU</a:t>
            </a:r>
            <a:r>
              <a:rPr b="0" lang="en-US" sz="3200" spc="-1" strike="noStrike">
                <a:solidFill>
                  <a:srgbClr val="b7e7ff"/>
                </a:solidFill>
                <a:latin typeface="Bulmer BT"/>
              </a:rPr>
              <a:t> </a:t>
            </a:r>
            <a:endParaRPr b="0" lang="en-US" sz="3200" spc="-1" strike="noStrike">
              <a:solidFill>
                <a:srgbClr val="ffffff"/>
              </a:solidFill>
              <a:latin typeface="Times New Roman"/>
            </a:endParaRPr>
          </a:p>
        </p:txBody>
      </p:sp>
      <p:sp>
        <p:nvSpPr>
          <p:cNvPr id="176" name=""/>
          <p:cNvSpPr/>
          <p:nvPr/>
        </p:nvSpPr>
        <p:spPr>
          <a:xfrm>
            <a:off x="250920" y="3141720"/>
            <a:ext cx="2952720" cy="1312920"/>
          </a:xfrm>
          <a:prstGeom prst="rect">
            <a:avLst/>
          </a:prstGeom>
          <a:solidFill>
            <a:srgbClr val="ffff00"/>
          </a:solidFill>
          <a:ln w="12600">
            <a:solidFill>
              <a:srgbClr val="00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İLGİ AKTARAN</a:t>
            </a:r>
            <a:endParaRPr b="0" lang="en-US" sz="4000" spc="-1" strike="noStrike">
              <a:solidFill>
                <a:srgbClr val="ffffff"/>
              </a:solidFill>
              <a:latin typeface="Times New Roman"/>
            </a:endParaRPr>
          </a:p>
        </p:txBody>
      </p:sp>
      <p:sp>
        <p:nvSpPr>
          <p:cNvPr id="177" name=""/>
          <p:cNvSpPr/>
          <p:nvPr/>
        </p:nvSpPr>
        <p:spPr>
          <a:xfrm>
            <a:off x="5292720" y="3124080"/>
            <a:ext cx="3733920" cy="1312920"/>
          </a:xfrm>
          <a:prstGeom prst="rect">
            <a:avLst/>
          </a:prstGeom>
          <a:solidFill>
            <a:srgbClr val="ffff00"/>
          </a:solidFill>
          <a:ln w="12600">
            <a:solidFill>
              <a:srgbClr val="00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ÖĞRETİRKEN ÖĞRENEN</a:t>
            </a:r>
            <a:endParaRPr b="0" lang="en-US" sz="4000" spc="-1" strike="noStrike">
              <a:solidFill>
                <a:srgbClr val="ffffff"/>
              </a:solidFill>
              <a:latin typeface="Times New Roman"/>
            </a:endParaRPr>
          </a:p>
        </p:txBody>
      </p:sp>
      <p:sp>
        <p:nvSpPr>
          <p:cNvPr id="178" name=""/>
          <p:cNvSpPr/>
          <p:nvPr/>
        </p:nvSpPr>
        <p:spPr>
          <a:xfrm>
            <a:off x="3471840" y="3429000"/>
            <a:ext cx="1676520" cy="609480"/>
          </a:xfrm>
          <a:prstGeom prst="rightArrow">
            <a:avLst>
              <a:gd name="adj1" fmla="val 50000"/>
              <a:gd name="adj2" fmla="val 68768"/>
            </a:avLst>
          </a:prstGeom>
          <a:solidFill>
            <a:srgbClr val="ee941c"/>
          </a:solidFill>
          <a:ln w="12600">
            <a:solidFill>
              <a:srgbClr val="003300"/>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75"/>
                                        </p:tgtEl>
                                        <p:attrNameLst>
                                          <p:attrName>style.visibility</p:attrName>
                                        </p:attrNameLst>
                                      </p:cBhvr>
                                      <p:to>
                                        <p:strVal val="visible"/>
                                      </p:to>
                                    </p:set>
                                    <p:animEffect filter="fade" transition="in">
                                      <p:cBhvr additive="repl">
                                        <p:cTn id="494" dur="1000"/>
                                        <p:tgtEl>
                                          <p:spTgt spid="175"/>
                                        </p:tgtEl>
                                      </p:cBhvr>
                                    </p:animEffect>
                                    <p:anim calcmode="lin" valueType="num">
                                      <p:cBhvr additive="repl">
                                        <p:cTn id="495" dur="1000" fill="hold"/>
                                        <p:tgtEl>
                                          <p:spTgt spid="175"/>
                                        </p:tgtEl>
                                        <p:attrNameLst>
                                          <p:attrName>ppt_x</p:attrName>
                                        </p:attrNameLst>
                                      </p:cBhvr>
                                      <p:tavLst>
                                        <p:tav tm="0">
                                          <p:val>
                                            <p:strVal val="#ppt_x"/>
                                          </p:val>
                                        </p:tav>
                                        <p:tav tm="100000">
                                          <p:val>
                                            <p:strVal val="#ppt_x"/>
                                          </p:val>
                                        </p:tav>
                                      </p:tavLst>
                                    </p:anim>
                                    <p:anim calcmode="lin" valueType="num">
                                      <p:cBhvr additive="repl">
                                        <p:cTn id="49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76"/>
                                        </p:tgtEl>
                                        <p:attrNameLst>
                                          <p:attrName>style.visibility</p:attrName>
                                        </p:attrNameLst>
                                      </p:cBhvr>
                                      <p:to>
                                        <p:strVal val="visible"/>
                                      </p:to>
                                    </p:set>
                                    <p:animEffect filter="checkerboard(across)" transition="in">
                                      <p:cBhvr additive="repl">
                                        <p:cTn id="501" dur="500"/>
                                        <p:tgtEl>
                                          <p:spTgt spid="17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178"/>
                                        </p:tgtEl>
                                        <p:attrNameLst>
                                          <p:attrName>style.visibility</p:attrName>
                                        </p:attrNameLst>
                                      </p:cBhvr>
                                      <p:to>
                                        <p:strVal val="visible"/>
                                      </p:to>
                                    </p:set>
                                    <p:animEffect filter="box(out)" transition="in">
                                      <p:cBhvr additive="repl">
                                        <p:cTn id="506" dur="500"/>
                                        <p:tgtEl>
                                          <p:spTgt spid="17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177"/>
                                        </p:tgtEl>
                                        <p:attrNameLst>
                                          <p:attrName>style.visibility</p:attrName>
                                        </p:attrNameLst>
                                      </p:cBhvr>
                                      <p:to>
                                        <p:strVal val="visible"/>
                                      </p:to>
                                    </p:set>
                                    <p:anim calcmode="lin" valueType="num">
                                      <p:cBhvr additive="repl">
                                        <p:cTn id="511" dur="1000" fill="hold"/>
                                        <p:tgtEl>
                                          <p:spTgt spid="177"/>
                                        </p:tgtEl>
                                        <p:attrNameLst>
                                          <p:attrName>ppt_w</p:attrName>
                                        </p:attrNameLst>
                                      </p:cBhvr>
                                      <p:tavLst>
                                        <p:tav tm="0">
                                          <p:val>
                                            <p:strVal val="#ppt_w*0.70"/>
                                          </p:val>
                                        </p:tav>
                                        <p:tav tm="100000">
                                          <p:val>
                                            <p:strVal val="#ppt_w"/>
                                          </p:val>
                                        </p:tav>
                                      </p:tavLst>
                                    </p:anim>
                                    <p:anim calcmode="lin" valueType="num">
                                      <p:cBhvr additive="repl">
                                        <p:cTn id="512" dur="1000" fill="hold"/>
                                        <p:tgtEl>
                                          <p:spTgt spid="177"/>
                                        </p:tgtEl>
                                        <p:attrNameLst>
                                          <p:attrName>ppt_h</p:attrName>
                                        </p:attrNameLst>
                                      </p:cBhvr>
                                      <p:tavLst>
                                        <p:tav tm="0">
                                          <p:val>
                                            <p:strVal val="#ppt_h"/>
                                          </p:val>
                                        </p:tav>
                                        <p:tav tm="100000">
                                          <p:val>
                                            <p:strVal val="#ppt_h"/>
                                          </p:val>
                                        </p:tav>
                                      </p:tavLst>
                                    </p:anim>
                                    <p:animEffect filter="fade" transition="in">
                                      <p:cBhvr additive="repl">
                                        <p:cTn id="51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txBox="1"/>
          <p:nvPr/>
        </p:nvSpPr>
        <p:spPr>
          <a:xfrm rot="20268000">
            <a:off x="1173240" y="1483920"/>
            <a:ext cx="7145280" cy="32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rPr>
              <a:t>ÇOKLU</a:t>
            </a:r>
            <a:endPar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rPr>
              <a:t> </a:t>
            </a:r>
            <a:r>
              <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rPr>
              <a:t>ZEKA </a:t>
            </a:r>
            <a:endPar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rPr>
              <a:t>KURAMI</a:t>
            </a:r>
            <a:endParaRPr b="0" lang="en-US" sz="2400" spc="1" strike="noStrike">
              <a:ln w="12600">
                <a:solidFill>
                  <a:srgbClr val="003300"/>
                </a:solidFill>
                <a:miter/>
              </a:ln>
              <a:solidFill>
                <a:srgbClr val="ffff00"/>
              </a:solidFill>
              <a:effectLst>
                <a:outerShdw dist="153753" dir="2700000" blurRad="0" rotWithShape="0">
                  <a:srgbClr val="ff3300">
                    <a:alpha val="50000"/>
                  </a:srgbClr>
                </a:outerShdw>
              </a:effectLst>
              <a:latin typeface="Arial Black"/>
              <a:ea typeface="Arial Black"/>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20760" y="189000"/>
            <a:ext cx="8572320" cy="640872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a4"/>
                </a:solidFill>
                <a:latin typeface="Arial"/>
              </a:rPr>
              <a:t>	</a:t>
            </a:r>
            <a:r>
              <a:rPr b="1" lang="en-US" sz="2900" spc="-1" strike="noStrike">
                <a:solidFill>
                  <a:srgbClr val="0000a4"/>
                </a:solidFill>
                <a:latin typeface="Arial"/>
              </a:rPr>
              <a:t>Zekanın ne olduğu ve nasıl tanımlanması gerektiği konusu uzun yıllardan beri eğitimcilerin ilgi alanını oluşturmaktadır. </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a4"/>
                </a:solidFill>
                <a:latin typeface="Arial"/>
              </a:rPr>
              <a:t>Bazı eğitimciler zekayı, bireyin öğrenme gücü olarak yorumlarlarken, bazıları da bireyin zihinsel işlevlerini ve performanslarını baz alarak değişik testlerin ölçtüğü nitelik olarak tanımlamışlardır. Son yıllarda bir çok eğitimci geleneksel IQ testlerinin yetersizliğinden haberdar olmuşlardır. </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a4"/>
                </a:solidFill>
                <a:latin typeface="Arial"/>
              </a:rPr>
              <a:t>	</a:t>
            </a:r>
            <a:r>
              <a:rPr b="1" lang="en-US" sz="2900" spc="-1" strike="noStrike">
                <a:solidFill>
                  <a:srgbClr val="0000a4"/>
                </a:solidFill>
                <a:latin typeface="Arial"/>
              </a:rPr>
              <a:t>Bizler ise zekanın çok farklı şekillerde ifade edilebileceğine, sadece sözel ya da matematiksel yeteneklerle ifade edilemeyeceğini bilmekteyiz.</a:t>
            </a:r>
            <a:endParaRPr b="0" lang="en-US" sz="29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alphaModFix amt="50000"/>
          </a:blip>
          <a:stretch/>
        </p:blipFill>
        <p:spPr>
          <a:xfrm>
            <a:off x="3021120" y="2508120"/>
            <a:ext cx="3135240" cy="2144880"/>
          </a:xfrm>
          <a:prstGeom prst="rect">
            <a:avLst/>
          </a:prstGeom>
          <a:ln w="9360">
            <a:solidFill>
              <a:srgbClr val="ff0000"/>
            </a:solidFill>
            <a:miter/>
          </a:ln>
          <a:effectLst>
            <a:outerShdw dist="107932" dir="13500000" blurRad="0" rotWithShape="0">
              <a:srgbClr val="808080">
                <a:alpha val="50000"/>
              </a:srgbClr>
            </a:outerShdw>
          </a:effectLst>
        </p:spPr>
      </p:pic>
      <p:sp>
        <p:nvSpPr>
          <p:cNvPr id="93" name=""/>
          <p:cNvSpPr/>
          <p:nvPr/>
        </p:nvSpPr>
        <p:spPr>
          <a:xfrm>
            <a:off x="250920" y="981000"/>
            <a:ext cx="8642160" cy="1366920"/>
          </a:xfrm>
          <a:prstGeom prst="rect">
            <a:avLst/>
          </a:prstGeom>
          <a:solidFill>
            <a:srgbClr val="ffff00"/>
          </a:solidFill>
          <a:ln w="12600">
            <a:solidFill>
              <a:srgbClr val="ff0000"/>
            </a:solidFill>
            <a:miter/>
          </a:ln>
          <a:effectLst>
            <a:outerShdw dist="107932" dir="135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PLAM KALİTE YÖNETİMİ ŞUBESİ</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ÜTFÜ KENGEÇ</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 DURAN - MUHARREM GÖLE </a:t>
            </a:r>
            <a:endParaRPr b="0" lang="en-US" sz="2400" spc="-1" strike="noStrike">
              <a:solidFill>
                <a:srgbClr val="ffffff"/>
              </a:solidFill>
              <a:latin typeface="Times New Roman"/>
            </a:endParaRPr>
          </a:p>
        </p:txBody>
      </p:sp>
      <p:sp>
        <p:nvSpPr>
          <p:cNvPr id="94" name=""/>
          <p:cNvSpPr/>
          <p:nvPr/>
        </p:nvSpPr>
        <p:spPr>
          <a:xfrm>
            <a:off x="250920" y="152280"/>
            <a:ext cx="8642160" cy="609840"/>
          </a:xfrm>
          <a:prstGeom prst="rect">
            <a:avLst/>
          </a:prstGeom>
          <a:solidFill>
            <a:srgbClr val="0000a4"/>
          </a:solidFill>
          <a:ln w="12600">
            <a:solidFill>
              <a:srgbClr val="ff0000"/>
            </a:solidFill>
            <a:miter/>
          </a:ln>
          <a:effectLst>
            <a:outerShdw dist="107932" dir="13500000" blurRad="0" rotWithShape="0">
              <a:srgbClr val="4d4d4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NUMA HAZIRLAYANLAR:</a:t>
            </a:r>
            <a:endParaRPr b="0" lang="en-US" sz="3600" spc="-1" strike="noStrike">
              <a:solidFill>
                <a:srgbClr val="ffffff"/>
              </a:solidFill>
              <a:latin typeface="Times New Roman"/>
            </a:endParaRPr>
          </a:p>
        </p:txBody>
      </p:sp>
      <p:sp>
        <p:nvSpPr>
          <p:cNvPr id="95" name=""/>
          <p:cNvSpPr/>
          <p:nvPr/>
        </p:nvSpPr>
        <p:spPr>
          <a:xfrm>
            <a:off x="250920" y="4789440"/>
            <a:ext cx="8640720" cy="1923480"/>
          </a:xfrm>
          <a:prstGeom prst="rect">
            <a:avLst/>
          </a:prstGeom>
          <a:solidFill>
            <a:srgbClr val="0099cc"/>
          </a:solidFill>
          <a:ln w="31680">
            <a:solidFill>
              <a:srgbClr val="ff0000"/>
            </a:solidFill>
            <a:miter/>
          </a:ln>
          <a:effectLst>
            <a:outerShdw dist="107932" dir="13500000" blurRad="0" rotWithShape="0">
              <a:srgbClr val="4d4d4d">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KILARINDAN DOLAYI: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İLLİ EĞİTİM MÜDÜRLÜĞÜ KALİTE KURULU VE KALİTE GELİŞTİRME EKİBİN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L MÜFETTİŞLER KURULU BAŞKANLIĞINA</a:t>
            </a:r>
            <a:r>
              <a:rPr b="0" lang="en-US" sz="2000" spc="-1" strike="noStrike">
                <a:solidFill>
                  <a:srgbClr val="ffffff"/>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EVZİ PAŞA İLKÖĞRETİM OKULUNA</a:t>
            </a:r>
            <a:r>
              <a:rPr b="1" lang="en-US" sz="2000" spc="-1" strike="noStrike">
                <a:solidFill>
                  <a:srgbClr val="ffffff"/>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ŞEKKÜR EDERİZ.</a:t>
            </a:r>
            <a:endParaRPr b="0" lang="en-US" sz="2000" spc="-1" strike="noStrike">
              <a:solidFill>
                <a:srgbClr val="ffffff"/>
              </a:solidFill>
              <a:latin typeface="Times New Roman"/>
            </a:endParaRPr>
          </a:p>
        </p:txBody>
      </p:sp>
    </p:spTree>
  </p:cSld>
  <p:transition>
    <p:dissolv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92"/>
                                        </p:tgtEl>
                                        <p:attrNameLst>
                                          <p:attrName>style.visibility</p:attrName>
                                        </p:attrNameLst>
                                      </p:cBhvr>
                                      <p:to>
                                        <p:strVal val="visible"/>
                                      </p:to>
                                    </p:set>
                                    <p:animEffect filter="box(out)" transition="in">
                                      <p:cBhvr additive="repl">
                                        <p:cTn id="82" dur="500"/>
                                        <p:tgtEl>
                                          <p:spTgt spid="92"/>
                                        </p:tgtEl>
                                      </p:cBhvr>
                                    </p:animEffect>
                                  </p:childTnLst>
                                </p:cTn>
                              </p:par>
                            </p:childTnLst>
                          </p:cTn>
                        </p:par>
                        <p:par>
                          <p:cTn id="83" fill="hold">
                            <p:stCondLst>
                              <p:cond delay="500"/>
                            </p:stCondLst>
                            <p:childTnLst>
                              <p:par>
                                <p:cTn id="84" nodeType="afterEffect" fill="hold" presetClass="entr" presetID="2" presetSubtype="8">
                                  <p:stCondLst>
                                    <p:cond delay="0"/>
                                  </p:stCondLst>
                                  <p:iterate type="lt">
                                    <p:tmAbs val="75"/>
                                  </p:iterate>
                                  <p:childTnLst>
                                    <p:set>
                                      <p:cBhvr>
                                        <p:cTn id="85" dur="1" fill="hold">
                                          <p:stCondLst>
                                            <p:cond delay="0"/>
                                          </p:stCondLst>
                                        </p:cTn>
                                        <p:tgtEl>
                                          <p:spTgt spid="94"/>
                                        </p:tgtEl>
                                        <p:attrNameLst>
                                          <p:attrName>style.visibility</p:attrName>
                                        </p:attrNameLst>
                                      </p:cBhvr>
                                      <p:to>
                                        <p:strVal val="visible"/>
                                      </p:to>
                                    </p:set>
                                    <p:anim calcmode="lin" valueType="num">
                                      <p:cBhvr additive="base">
                                        <p:cTn id="86" dur="75" fill="hold"/>
                                        <p:tgtEl>
                                          <p:spTgt spid="94"/>
                                        </p:tgtEl>
                                        <p:attrNameLst>
                                          <p:attrName>ppt_x</p:attrName>
                                        </p:attrNameLst>
                                      </p:cBhvr>
                                      <p:tavLst>
                                        <p:tav tm="0">
                                          <p:val>
                                            <p:strVal val="0-#ppt_w/2"/>
                                          </p:val>
                                        </p:tav>
                                        <p:tav tm="100000">
                                          <p:val>
                                            <p:strVal val="#ppt_x"/>
                                          </p:val>
                                        </p:tav>
                                      </p:tavLst>
                                    </p:anim>
                                    <p:anim calcmode="lin" valueType="num">
                                      <p:cBhvr additive="base">
                                        <p:cTn id="87" dur="75" fill="hold"/>
                                        <p:tgtEl>
                                          <p:spTgt spid="94"/>
                                        </p:tgtEl>
                                        <p:attrNameLst>
                                          <p:attrName>ppt_y</p:attrName>
                                        </p:attrNameLst>
                                      </p:cBhvr>
                                      <p:tavLst>
                                        <p:tav tm="0">
                                          <p:val>
                                            <p:strVal val="#ppt_y"/>
                                          </p:val>
                                        </p:tav>
                                        <p:tav tm="100000">
                                          <p:val>
                                            <p:strVal val="#ppt_y"/>
                                          </p:val>
                                        </p:tav>
                                      </p:tavLst>
                                    </p:anim>
                                  </p:childTnLst>
                                </p:cTn>
                              </p:par>
                            </p:childTnLst>
                          </p:cTn>
                        </p:par>
                        <p:par>
                          <p:cTn id="88" fill="hold">
                            <p:stCondLst>
                              <p:cond delay="2000"/>
                            </p:stCondLst>
                            <p:childTnLst>
                              <p:par>
                                <p:cTn id="89" nodeType="afterEffect" fill="hold" presetClass="entr" presetID="2" presetSubtype="8">
                                  <p:stCondLst>
                                    <p:cond delay="0"/>
                                  </p:stCondLst>
                                  <p:iterate type="wd">
                                    <p:tmAbs val="300"/>
                                  </p:iterate>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300" fill="hold"/>
                                        <p:tgtEl>
                                          <p:spTgt spid="93"/>
                                        </p:tgtEl>
                                        <p:attrNameLst>
                                          <p:attrName>ppt_x</p:attrName>
                                        </p:attrNameLst>
                                      </p:cBhvr>
                                      <p:tavLst>
                                        <p:tav tm="0">
                                          <p:val>
                                            <p:strVal val="0-#ppt_w/2"/>
                                          </p:val>
                                        </p:tav>
                                        <p:tav tm="100000">
                                          <p:val>
                                            <p:strVal val="#ppt_x"/>
                                          </p:val>
                                        </p:tav>
                                      </p:tavLst>
                                    </p:anim>
                                    <p:anim calcmode="lin" valueType="num">
                                      <p:cBhvr additive="base">
                                        <p:cTn id="92" dur="300" fill="hold"/>
                                        <p:tgtEl>
                                          <p:spTgt spid="93"/>
                                        </p:tgtEl>
                                        <p:attrNameLst>
                                          <p:attrName>ppt_y</p:attrName>
                                        </p:attrNameLst>
                                      </p:cBhvr>
                                      <p:tavLst>
                                        <p:tav tm="0">
                                          <p:val>
                                            <p:strVal val="#ppt_y"/>
                                          </p:val>
                                        </p:tav>
                                        <p:tav tm="100000">
                                          <p:val>
                                            <p:strVal val="#ppt_y"/>
                                          </p:val>
                                        </p:tav>
                                      </p:tavLst>
                                    </p:anim>
                                  </p:childTnLst>
                                </p:cTn>
                              </p:par>
                            </p:childTnLst>
                          </p:cTn>
                        </p:par>
                        <p:par>
                          <p:cTn id="93" fill="hold">
                            <p:stCondLst>
                              <p:cond delay="5600"/>
                            </p:stCondLst>
                            <p:childTnLst>
                              <p:par>
                                <p:cTn id="94" nodeType="afterEffect" fill="hold" presetClass="entr" presetID="2" presetSubtype="8">
                                  <p:stCondLst>
                                    <p:cond delay="0"/>
                                  </p:stCondLst>
                                  <p:iterate type="wd">
                                    <p:tmAbs val="300"/>
                                  </p:iterate>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300" fill="hold"/>
                                        <p:tgtEl>
                                          <p:spTgt spid="95"/>
                                        </p:tgtEl>
                                        <p:attrNameLst>
                                          <p:attrName>ppt_x</p:attrName>
                                        </p:attrNameLst>
                                      </p:cBhvr>
                                      <p:tavLst>
                                        <p:tav tm="0">
                                          <p:val>
                                            <p:strVal val="0-#ppt_w/2"/>
                                          </p:val>
                                        </p:tav>
                                        <p:tav tm="100000">
                                          <p:val>
                                            <p:strVal val="#ppt_x"/>
                                          </p:val>
                                        </p:tav>
                                      </p:tavLst>
                                    </p:anim>
                                    <p:anim calcmode="lin" valueType="num">
                                      <p:cBhvr additive="base">
                                        <p:cTn id="97" dur="3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79280" y="189000"/>
            <a:ext cx="8893440" cy="645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3300"/>
                </a:solidFill>
                <a:latin typeface="Arial"/>
              </a:rPr>
              <a:t>Gardner zekayı;</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a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a4"/>
                </a:solidFill>
                <a:latin typeface="Arial"/>
              </a:rPr>
              <a:t>Bireyin gerçek hayatta karşılaştığı problemleri çözme yeteneği,</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a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a4"/>
                </a:solidFill>
                <a:latin typeface="Arial"/>
              </a:rPr>
              <a:t> </a:t>
            </a:r>
            <a:r>
              <a:rPr b="1" lang="tr-TR" sz="2800" spc="-1" strike="noStrike">
                <a:solidFill>
                  <a:srgbClr val="0000a4"/>
                </a:solidFill>
                <a:latin typeface="Arial"/>
              </a:rPr>
              <a:t>Çözmek için yeni problemler oluşturma yeteneği,</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100000"/>
              </a:lnSpc>
              <a:buClr>
                <a:srgbClr val="0000a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a4"/>
                </a:solidFill>
                <a:latin typeface="Arial"/>
              </a:rPr>
              <a:t> </a:t>
            </a:r>
            <a:r>
              <a:rPr b="1" lang="tr-TR" sz="2800" spc="-1" strike="noStrike">
                <a:solidFill>
                  <a:srgbClr val="0000a4"/>
                </a:solidFill>
                <a:latin typeface="Arial"/>
              </a:rPr>
              <a:t>Bireyin kendi kültüründe değer bulan bir şey yapma ya da bir hizmeti sunma yeteneği olarak tanımlamıştır.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3300"/>
                </a:solidFill>
                <a:latin typeface="Arial"/>
              </a:rPr>
              <a:t>BUNA GÖRE: “Zeka bir ya da daha fazla kültürel yapıda değeri olan bir ürüne şekil verme ya da problemleri çözme yeteneğidir”</a:t>
            </a:r>
            <a:endParaRPr b="0" lang="en-US" sz="3200" spc="-1" strike="noStrike">
              <a:solidFill>
                <a:srgbClr val="ffffff"/>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79280" y="260280"/>
            <a:ext cx="8893440" cy="633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HOWARD GARDNER’ a göre zekanın özellikleri:</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Her insan kendi zekasını artırma ve geliştirme yeteneğine sahipti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2. Zeka aynı zamanda değiştirilmekle kalmaz. Aynı zamanda öğretilebili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Zeka insandaki beyin ve zihin sistemlerinin birbiriyle etkileşimi sonucu ortaya çıkan çok yönlü bir olgudu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Zeka çok yönlülük göstermesine rağmen kendi içinde bir bütündü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Her insan çeşitli zeka alanlarının tümüne sahipti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Her insan, zeka alanlarından her birini belli bir düzeyde geliştirebili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buClr>
                <a:srgbClr val="0000a4"/>
              </a:buClr>
              <a:buFont typeface="Comic Sans MS"/>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 Çeşitli zeka alanları, genellikle bir arada belli bir uyum içinde çalışırlar.</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a4"/>
                </a:solidFill>
                <a:latin typeface="Comic Sans MS"/>
              </a:rPr>
              <a:t>8</a:t>
            </a:r>
            <a:r>
              <a:rPr b="1" lang="en-US" sz="1900" spc="-1" strike="noStrike">
                <a:solidFill>
                  <a:srgbClr val="0000a4"/>
                </a:solidFill>
                <a:latin typeface="Comic Sans MS"/>
              </a:rPr>
              <a:t>. Bir insanın her alanda zeki olabilmesinin birçok yolu bulunmaktadır.</a:t>
            </a:r>
            <a:endParaRPr b="0" lang="en-US" sz="1900" spc="-1" strike="noStrike">
              <a:solidFill>
                <a:srgbClr val="ffffff"/>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34920" y="-60120"/>
            <a:ext cx="9109080" cy="682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3300"/>
                </a:solidFill>
                <a:latin typeface="Times New Roman"/>
              </a:rPr>
              <a:t>ÇOKLU ZEKA KURAMININ AYIRT EDİCİ ÖZELLİKLERİ </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a4"/>
                </a:solidFill>
                <a:latin typeface="Times New Roman"/>
              </a:rPr>
              <a:t>	</a:t>
            </a:r>
            <a:r>
              <a:rPr b="1" lang="tr-TR" sz="2600" spc="-1" strike="noStrike">
                <a:solidFill>
                  <a:srgbClr val="0000a4"/>
                </a:solidFill>
                <a:latin typeface="Times New Roman"/>
              </a:rPr>
              <a:t>Çoklu zeka kuramını geleneksel zeka anlayışlarından ayıran iki temel özelliği gerçek yaşamda problem çözmeye, bir ürün elde etmeye dayanması ve zekanın çoğul olarak ele alınmasıdır. Çoklu zeka anlayışına göre tüm zekalar eşit değerdedir ve içlerinden bir ya da bir kaçı diğerlerinden daha önemli değildir. </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a4"/>
                </a:solidFill>
                <a:latin typeface="Times New Roman"/>
              </a:rPr>
              <a:t>	</a:t>
            </a:r>
            <a:r>
              <a:rPr b="1" lang="tr-TR" sz="2600" spc="-1" strike="noStrike">
                <a:solidFill>
                  <a:srgbClr val="0000a4"/>
                </a:solidFill>
                <a:latin typeface="Times New Roman"/>
              </a:rPr>
              <a:t>Zekalar her zaman birlikte çalışırlar ancak bu çok karmaşık yollarla gerçekleşir. Bir zeka dahiler ve zihinsel engelliler dışında her zaman birbiriyle etkileşim halindedir. </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a4"/>
                </a:solidFill>
                <a:latin typeface="Times New Roman"/>
              </a:rPr>
              <a:t>	</a:t>
            </a:r>
            <a:r>
              <a:rPr b="1" lang="tr-TR" sz="2600" spc="-1" strike="noStrike">
                <a:solidFill>
                  <a:srgbClr val="ff3300"/>
                </a:solidFill>
                <a:latin typeface="Times New Roman"/>
              </a:rPr>
              <a:t>Örneğin</a:t>
            </a:r>
            <a:r>
              <a:rPr b="1" lang="tr-TR" sz="2600" spc="-1" strike="noStrike">
                <a:solidFill>
                  <a:srgbClr val="0000a4"/>
                </a:solidFill>
                <a:latin typeface="Times New Roman"/>
              </a:rPr>
              <a:t> bir futbolcu bedensel zekayı koşar, yakalar ve vururken; uzamsal zekayı sahayı ve görevini tanırken; dil ve sosyal zekayı oyun kurallarını öğrenirken ve takımıyla tartışırken, paylaşırken öze dönük zekayı kendini değerlendirirken kullanmaktadır (Demirel,2002).</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a4"/>
                </a:solidFill>
                <a:latin typeface="Times New Roman"/>
              </a:rPr>
              <a:t> </a:t>
            </a:r>
            <a:endParaRPr b="0" lang="en-US" sz="2600" spc="-1" strike="noStrike">
              <a:solidFill>
                <a:srgbClr val="ffffff"/>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34920" y="74160"/>
            <a:ext cx="9109080" cy="6749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ff3300"/>
                </a:solidFill>
                <a:latin typeface="Times New Roman"/>
              </a:rPr>
              <a:t>ZEKA ALANLARININ GELİŞİMİNİ</a:t>
            </a:r>
            <a:endParaRPr b="0" lang="en-US" sz="2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ff3300"/>
                </a:solidFill>
                <a:latin typeface="Times New Roman"/>
              </a:rPr>
              <a:t> </a:t>
            </a:r>
            <a:r>
              <a:rPr b="1" lang="tr-TR" sz="2300" spc="-1" strike="noStrike">
                <a:solidFill>
                  <a:srgbClr val="ff3300"/>
                </a:solidFill>
                <a:latin typeface="Times New Roman"/>
              </a:rPr>
              <a:t>ETKİLEYEN FAKTÖRLER</a:t>
            </a:r>
            <a:endParaRPr b="0" lang="en-US" sz="23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Bireylerde belirtilen zekaların gelişim de farklılıklar göstermektedir. Armstrong zekaların gelişmesinde avantaj ya da dezavantaj yaratan çevresel etkenleri şu şekilde sıralamıştı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1- Kaynaklara ulaşım şansı: Örneğin aile fakirse ve keman, piyano gibi müzikal zekayı geliştirecek enstrümanlar olmadığından bu zekanın güçlenmesi zorlaşabili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2-Tarihsel- kültürel etkenler: Okulda matematik ve fene dayalı programlar varsa ve bunlar önemseniyorsa, mantık, matematik zekası gelişi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3-Coğrafi etkenler: Köyde yetişmiş bir çocuk, apartmanda büyümüş bir çocuğa oranla, bedensel ve doğacı zekalarını daha çok geliştirebili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4-Ailesel etkenler: Ressam olmak isteyen bir çocuğun ailesi onun avukat olmasını istiyorsa dil zekası desteklenecekti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a4"/>
                </a:solidFill>
                <a:latin typeface="Times New Roman"/>
              </a:rPr>
              <a:t>	</a:t>
            </a:r>
            <a:r>
              <a:rPr b="1" lang="tr-TR" sz="2300" spc="-1" strike="noStrike">
                <a:solidFill>
                  <a:srgbClr val="0000a4"/>
                </a:solidFill>
                <a:latin typeface="Times New Roman"/>
              </a:rPr>
              <a:t>5-Durumsal etkenler: Kalabalık bir ailede büyümüş ve kalabalık bir ailede yaşayan bireyler doğalarında sosyallik olmadıkça, kendilerini geliştirmek için daha az zamana sahip olurlar.</a:t>
            </a:r>
            <a:endParaRPr b="0" lang="en-US" sz="2300" spc="-1" strike="noStrike">
              <a:solidFill>
                <a:srgbClr val="ffffff"/>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08000" y="189000"/>
            <a:ext cx="8964720" cy="648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d4d4d"/>
                </a:solidFill>
                <a:latin typeface="Comic Sans MS"/>
              </a:rPr>
              <a:t>	</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d4d4d"/>
                </a:solidFill>
                <a:latin typeface="Comic Sans MS"/>
              </a:rPr>
              <a:t>	</a:t>
            </a:r>
            <a:r>
              <a:rPr b="0" lang="tr-TR" sz="5400" spc="-1" strike="noStrike">
                <a:solidFill>
                  <a:srgbClr val="4d4d4d"/>
                </a:solidFill>
                <a:latin typeface="Comic Sans MS"/>
              </a:rPr>
              <a:t>En akıllı kim</a:t>
            </a:r>
            <a:r>
              <a:rPr b="0" lang="tr-TR" sz="3200" spc="-1" strike="noStrike">
                <a:solidFill>
                  <a:srgbClr val="4d4d4d"/>
                </a:solidFill>
                <a:latin typeface="Comic Sans MS"/>
              </a:rPr>
              <a:t>, </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d4d4d"/>
                </a:solidFill>
                <a:latin typeface="Comic Sans MS"/>
              </a:rPr>
              <a:t> </a:t>
            </a:r>
            <a:r>
              <a:rPr b="0" lang="tr-TR" sz="3200" spc="-1" strike="noStrike">
                <a:solidFill>
                  <a:srgbClr val="4d4d4d"/>
                </a:solidFill>
                <a:latin typeface="Comic Sans MS"/>
              </a:rPr>
              <a:t>Shakespeare, Einstein, Picasso, Michael Jordan, Leonard Bernstein, Charles Darwin, ya da Martin Luther mi? Bu soruya zekanın geleneksel tanımlamasına dayanarak cevap verirsek, sözel dilsel ve mantıksal matematiksel alanda hangisi ağır basarsa en akıllı O’dur cevabını vermek zorunda kalırdık. Ne var ki, bu insanların hepsi de kendi alanlarında yüksek seviyeli zekaya sahip insanlardır.</a:t>
            </a:r>
            <a:endParaRPr b="0" lang="en-US" sz="3200" spc="-1" strike="noStrike">
              <a:solidFill>
                <a:srgbClr val="ffffff"/>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6" name=""/>
          <p:cNvGrpSpPr/>
          <p:nvPr/>
        </p:nvGrpSpPr>
        <p:grpSpPr>
          <a:xfrm>
            <a:off x="228600" y="304920"/>
            <a:ext cx="8667720" cy="6095880"/>
            <a:chOff x="228600" y="304920"/>
            <a:chExt cx="8667720" cy="6095880"/>
          </a:xfrm>
        </p:grpSpPr>
        <p:grpSp>
          <p:nvGrpSpPr>
            <p:cNvPr id="187" name=""/>
            <p:cNvGrpSpPr/>
            <p:nvPr/>
          </p:nvGrpSpPr>
          <p:grpSpPr>
            <a:xfrm>
              <a:off x="3404520" y="2472480"/>
              <a:ext cx="1939680" cy="1765440"/>
              <a:chOff x="3404520" y="2472480"/>
              <a:chExt cx="1939680" cy="1765440"/>
            </a:xfrm>
          </p:grpSpPr>
          <p:grpSp>
            <p:nvGrpSpPr>
              <p:cNvPr id="188" name=""/>
              <p:cNvGrpSpPr/>
              <p:nvPr/>
            </p:nvGrpSpPr>
            <p:grpSpPr>
              <a:xfrm>
                <a:off x="3404520" y="2472480"/>
                <a:ext cx="1939680" cy="1765440"/>
                <a:chOff x="3404520" y="2472480"/>
                <a:chExt cx="1939680" cy="1765440"/>
              </a:xfrm>
            </p:grpSpPr>
            <p:sp>
              <p:nvSpPr>
                <p:cNvPr id="189" name=""/>
                <p:cNvSpPr/>
                <p:nvPr/>
              </p:nvSpPr>
              <p:spPr>
                <a:xfrm rot="21021600">
                  <a:off x="3517920" y="2605320"/>
                  <a:ext cx="1712880" cy="1499760"/>
                </a:xfrm>
                <a:custGeom>
                  <a:avLst/>
                  <a:gdLst/>
                  <a:ahLst/>
                  <a:rect l="l" t="t" r="r" b="b"/>
                  <a:pathLst>
                    <a:path w="3968" h="2947">
                      <a:moveTo>
                        <a:pt x="2973" y="163"/>
                      </a:moveTo>
                      <a:lnTo>
                        <a:pt x="2954" y="144"/>
                      </a:lnTo>
                      <a:lnTo>
                        <a:pt x="2945" y="124"/>
                      </a:lnTo>
                      <a:lnTo>
                        <a:pt x="2926" y="105"/>
                      </a:lnTo>
                      <a:lnTo>
                        <a:pt x="2906" y="86"/>
                      </a:lnTo>
                      <a:lnTo>
                        <a:pt x="2887" y="76"/>
                      </a:lnTo>
                      <a:lnTo>
                        <a:pt x="2868" y="57"/>
                      </a:lnTo>
                      <a:lnTo>
                        <a:pt x="2849" y="48"/>
                      </a:lnTo>
                      <a:lnTo>
                        <a:pt x="2830" y="38"/>
                      </a:lnTo>
                      <a:lnTo>
                        <a:pt x="2811" y="28"/>
                      </a:lnTo>
                      <a:lnTo>
                        <a:pt x="2792" y="19"/>
                      </a:lnTo>
                      <a:lnTo>
                        <a:pt x="2773" y="9"/>
                      </a:lnTo>
                      <a:lnTo>
                        <a:pt x="2753" y="0"/>
                      </a:lnTo>
                      <a:lnTo>
                        <a:pt x="2734" y="0"/>
                      </a:lnTo>
                      <a:lnTo>
                        <a:pt x="2715" y="0"/>
                      </a:lnTo>
                      <a:lnTo>
                        <a:pt x="2687" y="0"/>
                      </a:lnTo>
                      <a:lnTo>
                        <a:pt x="2667" y="0"/>
                      </a:lnTo>
                      <a:lnTo>
                        <a:pt x="2648" y="0"/>
                      </a:lnTo>
                      <a:lnTo>
                        <a:pt x="2620" y="0"/>
                      </a:lnTo>
                      <a:lnTo>
                        <a:pt x="2600" y="9"/>
                      </a:lnTo>
                      <a:lnTo>
                        <a:pt x="2572" y="9"/>
                      </a:lnTo>
                      <a:lnTo>
                        <a:pt x="2553" y="19"/>
                      </a:lnTo>
                      <a:lnTo>
                        <a:pt x="2524" y="28"/>
                      </a:lnTo>
                      <a:lnTo>
                        <a:pt x="2505" y="38"/>
                      </a:lnTo>
                      <a:lnTo>
                        <a:pt x="2486" y="48"/>
                      </a:lnTo>
                      <a:lnTo>
                        <a:pt x="2467" y="67"/>
                      </a:lnTo>
                      <a:lnTo>
                        <a:pt x="2438" y="76"/>
                      </a:lnTo>
                      <a:lnTo>
                        <a:pt x="2419" y="96"/>
                      </a:lnTo>
                      <a:lnTo>
                        <a:pt x="2409" y="115"/>
                      </a:lnTo>
                      <a:lnTo>
                        <a:pt x="2390" y="134"/>
                      </a:lnTo>
                      <a:lnTo>
                        <a:pt x="2371" y="153"/>
                      </a:lnTo>
                      <a:lnTo>
                        <a:pt x="2361" y="172"/>
                      </a:lnTo>
                      <a:lnTo>
                        <a:pt x="2352" y="201"/>
                      </a:lnTo>
                      <a:lnTo>
                        <a:pt x="2333" y="182"/>
                      </a:lnTo>
                      <a:lnTo>
                        <a:pt x="2323" y="163"/>
                      </a:lnTo>
                      <a:lnTo>
                        <a:pt x="2314" y="153"/>
                      </a:lnTo>
                      <a:lnTo>
                        <a:pt x="2295" y="134"/>
                      </a:lnTo>
                      <a:lnTo>
                        <a:pt x="2285" y="124"/>
                      </a:lnTo>
                      <a:lnTo>
                        <a:pt x="2266" y="105"/>
                      </a:lnTo>
                      <a:lnTo>
                        <a:pt x="2247" y="96"/>
                      </a:lnTo>
                      <a:lnTo>
                        <a:pt x="2237" y="86"/>
                      </a:lnTo>
                      <a:lnTo>
                        <a:pt x="2218" y="76"/>
                      </a:lnTo>
                      <a:lnTo>
                        <a:pt x="2199" y="67"/>
                      </a:lnTo>
                      <a:lnTo>
                        <a:pt x="2180" y="57"/>
                      </a:lnTo>
                      <a:lnTo>
                        <a:pt x="2170" y="48"/>
                      </a:lnTo>
                      <a:lnTo>
                        <a:pt x="2151" y="48"/>
                      </a:lnTo>
                      <a:lnTo>
                        <a:pt x="2132" y="38"/>
                      </a:lnTo>
                      <a:lnTo>
                        <a:pt x="2113" y="38"/>
                      </a:lnTo>
                      <a:lnTo>
                        <a:pt x="2094" y="28"/>
                      </a:lnTo>
                      <a:lnTo>
                        <a:pt x="2075" y="28"/>
                      </a:lnTo>
                      <a:lnTo>
                        <a:pt x="2056" y="38"/>
                      </a:lnTo>
                      <a:lnTo>
                        <a:pt x="2036" y="38"/>
                      </a:lnTo>
                      <a:lnTo>
                        <a:pt x="2017" y="38"/>
                      </a:lnTo>
                      <a:lnTo>
                        <a:pt x="1998" y="48"/>
                      </a:lnTo>
                      <a:lnTo>
                        <a:pt x="1979" y="57"/>
                      </a:lnTo>
                      <a:lnTo>
                        <a:pt x="1969" y="57"/>
                      </a:lnTo>
                      <a:lnTo>
                        <a:pt x="1950" y="67"/>
                      </a:lnTo>
                      <a:lnTo>
                        <a:pt x="1931" y="76"/>
                      </a:lnTo>
                      <a:lnTo>
                        <a:pt x="1912" y="96"/>
                      </a:lnTo>
                      <a:lnTo>
                        <a:pt x="1903" y="105"/>
                      </a:lnTo>
                      <a:lnTo>
                        <a:pt x="1883" y="115"/>
                      </a:lnTo>
                      <a:lnTo>
                        <a:pt x="1874" y="124"/>
                      </a:lnTo>
                      <a:lnTo>
                        <a:pt x="1855" y="134"/>
                      </a:lnTo>
                      <a:lnTo>
                        <a:pt x="1845" y="153"/>
                      </a:lnTo>
                      <a:lnTo>
                        <a:pt x="1836" y="163"/>
                      </a:lnTo>
                      <a:lnTo>
                        <a:pt x="1817" y="163"/>
                      </a:lnTo>
                      <a:lnTo>
                        <a:pt x="1807" y="153"/>
                      </a:lnTo>
                      <a:lnTo>
                        <a:pt x="1788" y="153"/>
                      </a:lnTo>
                      <a:lnTo>
                        <a:pt x="1778" y="144"/>
                      </a:lnTo>
                      <a:lnTo>
                        <a:pt x="1759" y="144"/>
                      </a:lnTo>
                      <a:lnTo>
                        <a:pt x="1750" y="144"/>
                      </a:lnTo>
                      <a:lnTo>
                        <a:pt x="1730" y="144"/>
                      </a:lnTo>
                      <a:lnTo>
                        <a:pt x="1721" y="144"/>
                      </a:lnTo>
                      <a:lnTo>
                        <a:pt x="1702" y="144"/>
                      </a:lnTo>
                      <a:lnTo>
                        <a:pt x="1692" y="144"/>
                      </a:lnTo>
                      <a:lnTo>
                        <a:pt x="1673" y="153"/>
                      </a:lnTo>
                      <a:lnTo>
                        <a:pt x="1664" y="153"/>
                      </a:lnTo>
                      <a:lnTo>
                        <a:pt x="1644" y="153"/>
                      </a:lnTo>
                      <a:lnTo>
                        <a:pt x="1635" y="163"/>
                      </a:lnTo>
                      <a:lnTo>
                        <a:pt x="1616" y="163"/>
                      </a:lnTo>
                      <a:lnTo>
                        <a:pt x="1606" y="172"/>
                      </a:lnTo>
                      <a:lnTo>
                        <a:pt x="1577" y="192"/>
                      </a:lnTo>
                      <a:lnTo>
                        <a:pt x="1558" y="201"/>
                      </a:lnTo>
                      <a:lnTo>
                        <a:pt x="1539" y="220"/>
                      </a:lnTo>
                      <a:lnTo>
                        <a:pt x="1520" y="249"/>
                      </a:lnTo>
                      <a:lnTo>
                        <a:pt x="1501" y="268"/>
                      </a:lnTo>
                      <a:lnTo>
                        <a:pt x="1491" y="297"/>
                      </a:lnTo>
                      <a:lnTo>
                        <a:pt x="1472" y="326"/>
                      </a:lnTo>
                      <a:lnTo>
                        <a:pt x="1463" y="355"/>
                      </a:lnTo>
                      <a:lnTo>
                        <a:pt x="1444" y="355"/>
                      </a:lnTo>
                      <a:lnTo>
                        <a:pt x="1425" y="355"/>
                      </a:lnTo>
                      <a:lnTo>
                        <a:pt x="1405" y="355"/>
                      </a:lnTo>
                      <a:lnTo>
                        <a:pt x="1386" y="355"/>
                      </a:lnTo>
                      <a:lnTo>
                        <a:pt x="1367" y="355"/>
                      </a:lnTo>
                      <a:lnTo>
                        <a:pt x="1348" y="355"/>
                      </a:lnTo>
                      <a:lnTo>
                        <a:pt x="1329" y="355"/>
                      </a:lnTo>
                      <a:lnTo>
                        <a:pt x="1319" y="355"/>
                      </a:lnTo>
                      <a:lnTo>
                        <a:pt x="1300" y="364"/>
                      </a:lnTo>
                      <a:lnTo>
                        <a:pt x="1281" y="364"/>
                      </a:lnTo>
                      <a:lnTo>
                        <a:pt x="1272" y="374"/>
                      </a:lnTo>
                      <a:lnTo>
                        <a:pt x="1252" y="374"/>
                      </a:lnTo>
                      <a:lnTo>
                        <a:pt x="1243" y="384"/>
                      </a:lnTo>
                      <a:lnTo>
                        <a:pt x="1224" y="393"/>
                      </a:lnTo>
                      <a:lnTo>
                        <a:pt x="1214" y="403"/>
                      </a:lnTo>
                      <a:lnTo>
                        <a:pt x="1205" y="412"/>
                      </a:lnTo>
                      <a:lnTo>
                        <a:pt x="1166" y="451"/>
                      </a:lnTo>
                      <a:lnTo>
                        <a:pt x="1147" y="480"/>
                      </a:lnTo>
                      <a:lnTo>
                        <a:pt x="1119" y="528"/>
                      </a:lnTo>
                      <a:lnTo>
                        <a:pt x="1099" y="566"/>
                      </a:lnTo>
                      <a:lnTo>
                        <a:pt x="1090" y="614"/>
                      </a:lnTo>
                      <a:lnTo>
                        <a:pt x="1071" y="662"/>
                      </a:lnTo>
                      <a:lnTo>
                        <a:pt x="1061" y="710"/>
                      </a:lnTo>
                      <a:lnTo>
                        <a:pt x="1042" y="768"/>
                      </a:lnTo>
                      <a:lnTo>
                        <a:pt x="1033" y="768"/>
                      </a:lnTo>
                      <a:lnTo>
                        <a:pt x="1013" y="768"/>
                      </a:lnTo>
                      <a:lnTo>
                        <a:pt x="994" y="768"/>
                      </a:lnTo>
                      <a:lnTo>
                        <a:pt x="985" y="768"/>
                      </a:lnTo>
                      <a:lnTo>
                        <a:pt x="966" y="777"/>
                      </a:lnTo>
                      <a:lnTo>
                        <a:pt x="956" y="777"/>
                      </a:lnTo>
                      <a:lnTo>
                        <a:pt x="937" y="777"/>
                      </a:lnTo>
                      <a:lnTo>
                        <a:pt x="927" y="787"/>
                      </a:lnTo>
                      <a:lnTo>
                        <a:pt x="908" y="787"/>
                      </a:lnTo>
                      <a:lnTo>
                        <a:pt x="899" y="796"/>
                      </a:lnTo>
                      <a:lnTo>
                        <a:pt x="880" y="796"/>
                      </a:lnTo>
                      <a:lnTo>
                        <a:pt x="870" y="806"/>
                      </a:lnTo>
                      <a:lnTo>
                        <a:pt x="851" y="816"/>
                      </a:lnTo>
                      <a:lnTo>
                        <a:pt x="841" y="816"/>
                      </a:lnTo>
                      <a:lnTo>
                        <a:pt x="832" y="825"/>
                      </a:lnTo>
                      <a:lnTo>
                        <a:pt x="813" y="835"/>
                      </a:lnTo>
                      <a:lnTo>
                        <a:pt x="784" y="844"/>
                      </a:lnTo>
                      <a:lnTo>
                        <a:pt x="755" y="864"/>
                      </a:lnTo>
                      <a:lnTo>
                        <a:pt x="727" y="892"/>
                      </a:lnTo>
                      <a:lnTo>
                        <a:pt x="707" y="912"/>
                      </a:lnTo>
                      <a:lnTo>
                        <a:pt x="698" y="931"/>
                      </a:lnTo>
                      <a:lnTo>
                        <a:pt x="688" y="960"/>
                      </a:lnTo>
                      <a:lnTo>
                        <a:pt x="679" y="988"/>
                      </a:lnTo>
                      <a:lnTo>
                        <a:pt x="679" y="1027"/>
                      </a:lnTo>
                      <a:lnTo>
                        <a:pt x="650" y="1036"/>
                      </a:lnTo>
                      <a:lnTo>
                        <a:pt x="621" y="1056"/>
                      </a:lnTo>
                      <a:lnTo>
                        <a:pt x="593" y="1065"/>
                      </a:lnTo>
                      <a:lnTo>
                        <a:pt x="574" y="1084"/>
                      </a:lnTo>
                      <a:lnTo>
                        <a:pt x="555" y="1104"/>
                      </a:lnTo>
                      <a:lnTo>
                        <a:pt x="535" y="1123"/>
                      </a:lnTo>
                      <a:lnTo>
                        <a:pt x="516" y="1152"/>
                      </a:lnTo>
                      <a:lnTo>
                        <a:pt x="497" y="1171"/>
                      </a:lnTo>
                      <a:lnTo>
                        <a:pt x="488" y="1200"/>
                      </a:lnTo>
                      <a:lnTo>
                        <a:pt x="468" y="1219"/>
                      </a:lnTo>
                      <a:lnTo>
                        <a:pt x="459" y="1238"/>
                      </a:lnTo>
                      <a:lnTo>
                        <a:pt x="449" y="1257"/>
                      </a:lnTo>
                      <a:lnTo>
                        <a:pt x="440" y="1286"/>
                      </a:lnTo>
                      <a:lnTo>
                        <a:pt x="430" y="1315"/>
                      </a:lnTo>
                      <a:lnTo>
                        <a:pt x="430" y="1344"/>
                      </a:lnTo>
                      <a:lnTo>
                        <a:pt x="430" y="1382"/>
                      </a:lnTo>
                      <a:lnTo>
                        <a:pt x="402" y="1382"/>
                      </a:lnTo>
                      <a:lnTo>
                        <a:pt x="373" y="1382"/>
                      </a:lnTo>
                      <a:lnTo>
                        <a:pt x="354" y="1391"/>
                      </a:lnTo>
                      <a:lnTo>
                        <a:pt x="325" y="1391"/>
                      </a:lnTo>
                      <a:lnTo>
                        <a:pt x="306" y="1401"/>
                      </a:lnTo>
                      <a:lnTo>
                        <a:pt x="277" y="1411"/>
                      </a:lnTo>
                      <a:lnTo>
                        <a:pt x="258" y="1420"/>
                      </a:lnTo>
                      <a:lnTo>
                        <a:pt x="239" y="1430"/>
                      </a:lnTo>
                      <a:lnTo>
                        <a:pt x="220" y="1439"/>
                      </a:lnTo>
                      <a:lnTo>
                        <a:pt x="201" y="1449"/>
                      </a:lnTo>
                      <a:lnTo>
                        <a:pt x="182" y="1459"/>
                      </a:lnTo>
                      <a:lnTo>
                        <a:pt x="163" y="1478"/>
                      </a:lnTo>
                      <a:lnTo>
                        <a:pt x="143" y="1487"/>
                      </a:lnTo>
                      <a:lnTo>
                        <a:pt x="134" y="1507"/>
                      </a:lnTo>
                      <a:lnTo>
                        <a:pt x="115" y="1526"/>
                      </a:lnTo>
                      <a:lnTo>
                        <a:pt x="105" y="1545"/>
                      </a:lnTo>
                      <a:lnTo>
                        <a:pt x="86" y="1583"/>
                      </a:lnTo>
                      <a:lnTo>
                        <a:pt x="57" y="1622"/>
                      </a:lnTo>
                      <a:lnTo>
                        <a:pt x="48" y="1660"/>
                      </a:lnTo>
                      <a:lnTo>
                        <a:pt x="38" y="1708"/>
                      </a:lnTo>
                      <a:lnTo>
                        <a:pt x="29" y="1756"/>
                      </a:lnTo>
                      <a:lnTo>
                        <a:pt x="38" y="1804"/>
                      </a:lnTo>
                      <a:lnTo>
                        <a:pt x="57" y="1843"/>
                      </a:lnTo>
                      <a:lnTo>
                        <a:pt x="77" y="1891"/>
                      </a:lnTo>
                      <a:lnTo>
                        <a:pt x="57" y="1929"/>
                      </a:lnTo>
                      <a:lnTo>
                        <a:pt x="38" y="1958"/>
                      </a:lnTo>
                      <a:lnTo>
                        <a:pt x="19" y="1996"/>
                      </a:lnTo>
                      <a:lnTo>
                        <a:pt x="10" y="2025"/>
                      </a:lnTo>
                      <a:lnTo>
                        <a:pt x="0" y="2063"/>
                      </a:lnTo>
                      <a:lnTo>
                        <a:pt x="0" y="2092"/>
                      </a:lnTo>
                      <a:lnTo>
                        <a:pt x="0" y="2131"/>
                      </a:lnTo>
                      <a:lnTo>
                        <a:pt x="0" y="2169"/>
                      </a:lnTo>
                      <a:lnTo>
                        <a:pt x="10" y="2179"/>
                      </a:lnTo>
                      <a:lnTo>
                        <a:pt x="10" y="2188"/>
                      </a:lnTo>
                      <a:lnTo>
                        <a:pt x="19" y="2207"/>
                      </a:lnTo>
                      <a:lnTo>
                        <a:pt x="29" y="2217"/>
                      </a:lnTo>
                      <a:lnTo>
                        <a:pt x="38" y="2227"/>
                      </a:lnTo>
                      <a:lnTo>
                        <a:pt x="48" y="2236"/>
                      </a:lnTo>
                      <a:lnTo>
                        <a:pt x="57" y="2246"/>
                      </a:lnTo>
                      <a:lnTo>
                        <a:pt x="67" y="2255"/>
                      </a:lnTo>
                      <a:lnTo>
                        <a:pt x="77" y="2265"/>
                      </a:lnTo>
                      <a:lnTo>
                        <a:pt x="86" y="2275"/>
                      </a:lnTo>
                      <a:lnTo>
                        <a:pt x="105" y="2275"/>
                      </a:lnTo>
                      <a:lnTo>
                        <a:pt x="115" y="2284"/>
                      </a:lnTo>
                      <a:lnTo>
                        <a:pt x="134" y="2284"/>
                      </a:lnTo>
                      <a:lnTo>
                        <a:pt x="153" y="2294"/>
                      </a:lnTo>
                      <a:lnTo>
                        <a:pt x="172" y="2294"/>
                      </a:lnTo>
                      <a:lnTo>
                        <a:pt x="191" y="2294"/>
                      </a:lnTo>
                      <a:lnTo>
                        <a:pt x="182" y="2313"/>
                      </a:lnTo>
                      <a:lnTo>
                        <a:pt x="172" y="2342"/>
                      </a:lnTo>
                      <a:lnTo>
                        <a:pt x="172" y="2371"/>
                      </a:lnTo>
                      <a:lnTo>
                        <a:pt x="172" y="2390"/>
                      </a:lnTo>
                      <a:lnTo>
                        <a:pt x="172" y="2419"/>
                      </a:lnTo>
                      <a:lnTo>
                        <a:pt x="182" y="2447"/>
                      </a:lnTo>
                      <a:lnTo>
                        <a:pt x="191" y="2467"/>
                      </a:lnTo>
                      <a:lnTo>
                        <a:pt x="210" y="2486"/>
                      </a:lnTo>
                      <a:lnTo>
                        <a:pt x="220" y="2505"/>
                      </a:lnTo>
                      <a:lnTo>
                        <a:pt x="229" y="2515"/>
                      </a:lnTo>
                      <a:lnTo>
                        <a:pt x="249" y="2524"/>
                      </a:lnTo>
                      <a:lnTo>
                        <a:pt x="268" y="2524"/>
                      </a:lnTo>
                      <a:lnTo>
                        <a:pt x="287" y="2534"/>
                      </a:lnTo>
                      <a:lnTo>
                        <a:pt x="306" y="2534"/>
                      </a:lnTo>
                      <a:lnTo>
                        <a:pt x="325" y="2534"/>
                      </a:lnTo>
                      <a:lnTo>
                        <a:pt x="344" y="2534"/>
                      </a:lnTo>
                      <a:lnTo>
                        <a:pt x="344" y="2553"/>
                      </a:lnTo>
                      <a:lnTo>
                        <a:pt x="354" y="2572"/>
                      </a:lnTo>
                      <a:lnTo>
                        <a:pt x="354" y="2591"/>
                      </a:lnTo>
                      <a:lnTo>
                        <a:pt x="363" y="2601"/>
                      </a:lnTo>
                      <a:lnTo>
                        <a:pt x="373" y="2620"/>
                      </a:lnTo>
                      <a:lnTo>
                        <a:pt x="392" y="2630"/>
                      </a:lnTo>
                      <a:lnTo>
                        <a:pt x="402" y="2639"/>
                      </a:lnTo>
                      <a:lnTo>
                        <a:pt x="411" y="2639"/>
                      </a:lnTo>
                      <a:lnTo>
                        <a:pt x="430" y="2649"/>
                      </a:lnTo>
                      <a:lnTo>
                        <a:pt x="449" y="2659"/>
                      </a:lnTo>
                      <a:lnTo>
                        <a:pt x="459" y="2659"/>
                      </a:lnTo>
                      <a:lnTo>
                        <a:pt x="478" y="2659"/>
                      </a:lnTo>
                      <a:lnTo>
                        <a:pt x="497" y="2668"/>
                      </a:lnTo>
                      <a:lnTo>
                        <a:pt x="516" y="2668"/>
                      </a:lnTo>
                      <a:lnTo>
                        <a:pt x="535" y="2668"/>
                      </a:lnTo>
                      <a:lnTo>
                        <a:pt x="545" y="2668"/>
                      </a:lnTo>
                      <a:lnTo>
                        <a:pt x="564" y="2659"/>
                      </a:lnTo>
                      <a:lnTo>
                        <a:pt x="583" y="2659"/>
                      </a:lnTo>
                      <a:lnTo>
                        <a:pt x="602" y="2659"/>
                      </a:lnTo>
                      <a:lnTo>
                        <a:pt x="621" y="2649"/>
                      </a:lnTo>
                      <a:lnTo>
                        <a:pt x="641" y="2639"/>
                      </a:lnTo>
                      <a:lnTo>
                        <a:pt x="660" y="2630"/>
                      </a:lnTo>
                      <a:lnTo>
                        <a:pt x="679" y="2611"/>
                      </a:lnTo>
                      <a:lnTo>
                        <a:pt x="688" y="2601"/>
                      </a:lnTo>
                      <a:lnTo>
                        <a:pt x="707" y="2591"/>
                      </a:lnTo>
                      <a:lnTo>
                        <a:pt x="727" y="2572"/>
                      </a:lnTo>
                      <a:lnTo>
                        <a:pt x="746" y="2563"/>
                      </a:lnTo>
                      <a:lnTo>
                        <a:pt x="755" y="2543"/>
                      </a:lnTo>
                      <a:lnTo>
                        <a:pt x="774" y="2534"/>
                      </a:lnTo>
                      <a:lnTo>
                        <a:pt x="784" y="2515"/>
                      </a:lnTo>
                      <a:lnTo>
                        <a:pt x="803" y="2505"/>
                      </a:lnTo>
                      <a:lnTo>
                        <a:pt x="813" y="2486"/>
                      </a:lnTo>
                      <a:lnTo>
                        <a:pt x="822" y="2543"/>
                      </a:lnTo>
                      <a:lnTo>
                        <a:pt x="832" y="2601"/>
                      </a:lnTo>
                      <a:lnTo>
                        <a:pt x="841" y="2649"/>
                      </a:lnTo>
                      <a:lnTo>
                        <a:pt x="851" y="2697"/>
                      </a:lnTo>
                      <a:lnTo>
                        <a:pt x="870" y="2735"/>
                      </a:lnTo>
                      <a:lnTo>
                        <a:pt x="899" y="2774"/>
                      </a:lnTo>
                      <a:lnTo>
                        <a:pt x="927" y="2803"/>
                      </a:lnTo>
                      <a:lnTo>
                        <a:pt x="975" y="2831"/>
                      </a:lnTo>
                      <a:lnTo>
                        <a:pt x="994" y="2841"/>
                      </a:lnTo>
                      <a:lnTo>
                        <a:pt x="1013" y="2841"/>
                      </a:lnTo>
                      <a:lnTo>
                        <a:pt x="1033" y="2851"/>
                      </a:lnTo>
                      <a:lnTo>
                        <a:pt x="1061" y="2851"/>
                      </a:lnTo>
                      <a:lnTo>
                        <a:pt x="1080" y="2851"/>
                      </a:lnTo>
                      <a:lnTo>
                        <a:pt x="1109" y="2851"/>
                      </a:lnTo>
                      <a:lnTo>
                        <a:pt x="1128" y="2841"/>
                      </a:lnTo>
                      <a:lnTo>
                        <a:pt x="1147" y="2831"/>
                      </a:lnTo>
                      <a:lnTo>
                        <a:pt x="1176" y="2822"/>
                      </a:lnTo>
                      <a:lnTo>
                        <a:pt x="1195" y="2812"/>
                      </a:lnTo>
                      <a:lnTo>
                        <a:pt x="1224" y="2803"/>
                      </a:lnTo>
                      <a:lnTo>
                        <a:pt x="1243" y="2783"/>
                      </a:lnTo>
                      <a:lnTo>
                        <a:pt x="1262" y="2774"/>
                      </a:lnTo>
                      <a:lnTo>
                        <a:pt x="1281" y="2755"/>
                      </a:lnTo>
                      <a:lnTo>
                        <a:pt x="1300" y="2735"/>
                      </a:lnTo>
                      <a:lnTo>
                        <a:pt x="1319" y="2716"/>
                      </a:lnTo>
                      <a:lnTo>
                        <a:pt x="1329" y="2735"/>
                      </a:lnTo>
                      <a:lnTo>
                        <a:pt x="1338" y="2735"/>
                      </a:lnTo>
                      <a:lnTo>
                        <a:pt x="1358" y="2745"/>
                      </a:lnTo>
                      <a:lnTo>
                        <a:pt x="1367" y="2755"/>
                      </a:lnTo>
                      <a:lnTo>
                        <a:pt x="1386" y="2755"/>
                      </a:lnTo>
                      <a:lnTo>
                        <a:pt x="1396" y="2764"/>
                      </a:lnTo>
                      <a:lnTo>
                        <a:pt x="1415" y="2764"/>
                      </a:lnTo>
                      <a:lnTo>
                        <a:pt x="1434" y="2774"/>
                      </a:lnTo>
                      <a:lnTo>
                        <a:pt x="1444" y="2774"/>
                      </a:lnTo>
                      <a:lnTo>
                        <a:pt x="1463" y="2774"/>
                      </a:lnTo>
                      <a:lnTo>
                        <a:pt x="1482" y="2774"/>
                      </a:lnTo>
                      <a:lnTo>
                        <a:pt x="1491" y="2774"/>
                      </a:lnTo>
                      <a:lnTo>
                        <a:pt x="1511" y="2774"/>
                      </a:lnTo>
                      <a:lnTo>
                        <a:pt x="1520" y="2774"/>
                      </a:lnTo>
                      <a:lnTo>
                        <a:pt x="1539" y="2774"/>
                      </a:lnTo>
                      <a:lnTo>
                        <a:pt x="1549" y="2764"/>
                      </a:lnTo>
                      <a:lnTo>
                        <a:pt x="1568" y="2764"/>
                      </a:lnTo>
                      <a:lnTo>
                        <a:pt x="1587" y="2755"/>
                      </a:lnTo>
                      <a:lnTo>
                        <a:pt x="1606" y="2755"/>
                      </a:lnTo>
                      <a:lnTo>
                        <a:pt x="1616" y="2745"/>
                      </a:lnTo>
                      <a:lnTo>
                        <a:pt x="1635" y="2735"/>
                      </a:lnTo>
                      <a:lnTo>
                        <a:pt x="1644" y="2735"/>
                      </a:lnTo>
                      <a:lnTo>
                        <a:pt x="1664" y="2726"/>
                      </a:lnTo>
                      <a:lnTo>
                        <a:pt x="1683" y="2716"/>
                      </a:lnTo>
                      <a:lnTo>
                        <a:pt x="1692" y="2707"/>
                      </a:lnTo>
                      <a:lnTo>
                        <a:pt x="1702" y="2697"/>
                      </a:lnTo>
                      <a:lnTo>
                        <a:pt x="1721" y="2687"/>
                      </a:lnTo>
                      <a:lnTo>
                        <a:pt x="1730" y="2678"/>
                      </a:lnTo>
                      <a:lnTo>
                        <a:pt x="1750" y="2659"/>
                      </a:lnTo>
                      <a:lnTo>
                        <a:pt x="1759" y="2649"/>
                      </a:lnTo>
                      <a:lnTo>
                        <a:pt x="1778" y="2630"/>
                      </a:lnTo>
                      <a:lnTo>
                        <a:pt x="1788" y="2620"/>
                      </a:lnTo>
                      <a:lnTo>
                        <a:pt x="1797" y="2659"/>
                      </a:lnTo>
                      <a:lnTo>
                        <a:pt x="1807" y="2697"/>
                      </a:lnTo>
                      <a:lnTo>
                        <a:pt x="1826" y="2735"/>
                      </a:lnTo>
                      <a:lnTo>
                        <a:pt x="1855" y="2774"/>
                      </a:lnTo>
                      <a:lnTo>
                        <a:pt x="1874" y="2803"/>
                      </a:lnTo>
                      <a:lnTo>
                        <a:pt x="1903" y="2831"/>
                      </a:lnTo>
                      <a:lnTo>
                        <a:pt x="1931" y="2851"/>
                      </a:lnTo>
                      <a:lnTo>
                        <a:pt x="1960" y="2870"/>
                      </a:lnTo>
                      <a:lnTo>
                        <a:pt x="1979" y="2879"/>
                      </a:lnTo>
                      <a:lnTo>
                        <a:pt x="2008" y="2879"/>
                      </a:lnTo>
                      <a:lnTo>
                        <a:pt x="2027" y="2889"/>
                      </a:lnTo>
                      <a:lnTo>
                        <a:pt x="2046" y="2889"/>
                      </a:lnTo>
                      <a:lnTo>
                        <a:pt x="2075" y="2889"/>
                      </a:lnTo>
                      <a:lnTo>
                        <a:pt x="2094" y="2889"/>
                      </a:lnTo>
                      <a:lnTo>
                        <a:pt x="2122" y="2889"/>
                      </a:lnTo>
                      <a:lnTo>
                        <a:pt x="2142" y="2889"/>
                      </a:lnTo>
                      <a:lnTo>
                        <a:pt x="2170" y="2889"/>
                      </a:lnTo>
                      <a:lnTo>
                        <a:pt x="2189" y="2879"/>
                      </a:lnTo>
                      <a:lnTo>
                        <a:pt x="2208" y="2870"/>
                      </a:lnTo>
                      <a:lnTo>
                        <a:pt x="2237" y="2870"/>
                      </a:lnTo>
                      <a:lnTo>
                        <a:pt x="2256" y="2860"/>
                      </a:lnTo>
                      <a:lnTo>
                        <a:pt x="2275" y="2851"/>
                      </a:lnTo>
                      <a:lnTo>
                        <a:pt x="2304" y="2841"/>
                      </a:lnTo>
                      <a:lnTo>
                        <a:pt x="2323" y="2831"/>
                      </a:lnTo>
                      <a:lnTo>
                        <a:pt x="2342" y="2841"/>
                      </a:lnTo>
                      <a:lnTo>
                        <a:pt x="2371" y="2851"/>
                      </a:lnTo>
                      <a:lnTo>
                        <a:pt x="2390" y="2860"/>
                      </a:lnTo>
                      <a:lnTo>
                        <a:pt x="2419" y="2879"/>
                      </a:lnTo>
                      <a:lnTo>
                        <a:pt x="2447" y="2889"/>
                      </a:lnTo>
                      <a:lnTo>
                        <a:pt x="2467" y="2899"/>
                      </a:lnTo>
                      <a:lnTo>
                        <a:pt x="2495" y="2908"/>
                      </a:lnTo>
                      <a:lnTo>
                        <a:pt x="2514" y="2918"/>
                      </a:lnTo>
                      <a:lnTo>
                        <a:pt x="2543" y="2927"/>
                      </a:lnTo>
                      <a:lnTo>
                        <a:pt x="2562" y="2927"/>
                      </a:lnTo>
                      <a:lnTo>
                        <a:pt x="2591" y="2937"/>
                      </a:lnTo>
                      <a:lnTo>
                        <a:pt x="2620" y="2947"/>
                      </a:lnTo>
                      <a:lnTo>
                        <a:pt x="2639" y="2947"/>
                      </a:lnTo>
                      <a:lnTo>
                        <a:pt x="2667" y="2947"/>
                      </a:lnTo>
                      <a:lnTo>
                        <a:pt x="2687" y="2947"/>
                      </a:lnTo>
                      <a:lnTo>
                        <a:pt x="2715" y="2947"/>
                      </a:lnTo>
                      <a:lnTo>
                        <a:pt x="2744" y="2937"/>
                      </a:lnTo>
                      <a:lnTo>
                        <a:pt x="2773" y="2937"/>
                      </a:lnTo>
                      <a:lnTo>
                        <a:pt x="2792" y="2927"/>
                      </a:lnTo>
                      <a:lnTo>
                        <a:pt x="2820" y="2918"/>
                      </a:lnTo>
                      <a:lnTo>
                        <a:pt x="2839" y="2918"/>
                      </a:lnTo>
                      <a:lnTo>
                        <a:pt x="2868" y="2908"/>
                      </a:lnTo>
                      <a:lnTo>
                        <a:pt x="2887" y="2889"/>
                      </a:lnTo>
                      <a:lnTo>
                        <a:pt x="2916" y="2879"/>
                      </a:lnTo>
                      <a:lnTo>
                        <a:pt x="2935" y="2870"/>
                      </a:lnTo>
                      <a:lnTo>
                        <a:pt x="2964" y="2851"/>
                      </a:lnTo>
                      <a:lnTo>
                        <a:pt x="2983" y="2831"/>
                      </a:lnTo>
                      <a:lnTo>
                        <a:pt x="3002" y="2812"/>
                      </a:lnTo>
                      <a:lnTo>
                        <a:pt x="3031" y="2793"/>
                      </a:lnTo>
                      <a:lnTo>
                        <a:pt x="3050" y="2764"/>
                      </a:lnTo>
                      <a:lnTo>
                        <a:pt x="3069" y="2745"/>
                      </a:lnTo>
                      <a:lnTo>
                        <a:pt x="3088" y="2716"/>
                      </a:lnTo>
                      <a:lnTo>
                        <a:pt x="3107" y="2726"/>
                      </a:lnTo>
                      <a:lnTo>
                        <a:pt x="3126" y="2735"/>
                      </a:lnTo>
                      <a:lnTo>
                        <a:pt x="3145" y="2745"/>
                      </a:lnTo>
                      <a:lnTo>
                        <a:pt x="3165" y="2755"/>
                      </a:lnTo>
                      <a:lnTo>
                        <a:pt x="3174" y="2764"/>
                      </a:lnTo>
                      <a:lnTo>
                        <a:pt x="3193" y="2774"/>
                      </a:lnTo>
                      <a:lnTo>
                        <a:pt x="3212" y="2783"/>
                      </a:lnTo>
                      <a:lnTo>
                        <a:pt x="3231" y="2783"/>
                      </a:lnTo>
                      <a:lnTo>
                        <a:pt x="3260" y="2793"/>
                      </a:lnTo>
                      <a:lnTo>
                        <a:pt x="3279" y="2793"/>
                      </a:lnTo>
                      <a:lnTo>
                        <a:pt x="3298" y="2803"/>
                      </a:lnTo>
                      <a:lnTo>
                        <a:pt x="3317" y="2803"/>
                      </a:lnTo>
                      <a:lnTo>
                        <a:pt x="3337" y="2803"/>
                      </a:lnTo>
                      <a:lnTo>
                        <a:pt x="3356" y="2803"/>
                      </a:lnTo>
                      <a:lnTo>
                        <a:pt x="3375" y="2803"/>
                      </a:lnTo>
                      <a:lnTo>
                        <a:pt x="3394" y="2803"/>
                      </a:lnTo>
                      <a:lnTo>
                        <a:pt x="3413" y="2803"/>
                      </a:lnTo>
                      <a:lnTo>
                        <a:pt x="3432" y="2793"/>
                      </a:lnTo>
                      <a:lnTo>
                        <a:pt x="3451" y="2793"/>
                      </a:lnTo>
                      <a:lnTo>
                        <a:pt x="3470" y="2783"/>
                      </a:lnTo>
                      <a:lnTo>
                        <a:pt x="3490" y="2783"/>
                      </a:lnTo>
                      <a:lnTo>
                        <a:pt x="3509" y="2774"/>
                      </a:lnTo>
                      <a:lnTo>
                        <a:pt x="3528" y="2764"/>
                      </a:lnTo>
                      <a:lnTo>
                        <a:pt x="3547" y="2755"/>
                      </a:lnTo>
                      <a:lnTo>
                        <a:pt x="3566" y="2745"/>
                      </a:lnTo>
                      <a:lnTo>
                        <a:pt x="3576" y="2735"/>
                      </a:lnTo>
                      <a:lnTo>
                        <a:pt x="3595" y="2716"/>
                      </a:lnTo>
                      <a:lnTo>
                        <a:pt x="3614" y="2707"/>
                      </a:lnTo>
                      <a:lnTo>
                        <a:pt x="3633" y="2687"/>
                      </a:lnTo>
                      <a:lnTo>
                        <a:pt x="3643" y="2668"/>
                      </a:lnTo>
                      <a:lnTo>
                        <a:pt x="3662" y="2659"/>
                      </a:lnTo>
                      <a:lnTo>
                        <a:pt x="3671" y="2639"/>
                      </a:lnTo>
                      <a:lnTo>
                        <a:pt x="3690" y="2630"/>
                      </a:lnTo>
                      <a:lnTo>
                        <a:pt x="3719" y="2611"/>
                      </a:lnTo>
                      <a:lnTo>
                        <a:pt x="3738" y="2601"/>
                      </a:lnTo>
                      <a:lnTo>
                        <a:pt x="3757" y="2591"/>
                      </a:lnTo>
                      <a:lnTo>
                        <a:pt x="3776" y="2572"/>
                      </a:lnTo>
                      <a:lnTo>
                        <a:pt x="3786" y="2553"/>
                      </a:lnTo>
                      <a:lnTo>
                        <a:pt x="3805" y="2543"/>
                      </a:lnTo>
                      <a:lnTo>
                        <a:pt x="3824" y="2524"/>
                      </a:lnTo>
                      <a:lnTo>
                        <a:pt x="3834" y="2505"/>
                      </a:lnTo>
                      <a:lnTo>
                        <a:pt x="3853" y="2486"/>
                      </a:lnTo>
                      <a:lnTo>
                        <a:pt x="3862" y="2467"/>
                      </a:lnTo>
                      <a:lnTo>
                        <a:pt x="3872" y="2447"/>
                      </a:lnTo>
                      <a:lnTo>
                        <a:pt x="3882" y="2428"/>
                      </a:lnTo>
                      <a:lnTo>
                        <a:pt x="3891" y="2409"/>
                      </a:lnTo>
                      <a:lnTo>
                        <a:pt x="3901" y="2390"/>
                      </a:lnTo>
                      <a:lnTo>
                        <a:pt x="3910" y="2371"/>
                      </a:lnTo>
                      <a:lnTo>
                        <a:pt x="3920" y="2342"/>
                      </a:lnTo>
                      <a:lnTo>
                        <a:pt x="3920" y="2303"/>
                      </a:lnTo>
                      <a:lnTo>
                        <a:pt x="3920" y="2275"/>
                      </a:lnTo>
                      <a:lnTo>
                        <a:pt x="3910" y="2236"/>
                      </a:lnTo>
                      <a:lnTo>
                        <a:pt x="3901" y="2207"/>
                      </a:lnTo>
                      <a:lnTo>
                        <a:pt x="3891" y="2179"/>
                      </a:lnTo>
                      <a:lnTo>
                        <a:pt x="3872" y="2150"/>
                      </a:lnTo>
                      <a:lnTo>
                        <a:pt x="3853" y="2121"/>
                      </a:lnTo>
                      <a:lnTo>
                        <a:pt x="3882" y="2092"/>
                      </a:lnTo>
                      <a:lnTo>
                        <a:pt x="3901" y="2054"/>
                      </a:lnTo>
                      <a:lnTo>
                        <a:pt x="3920" y="2015"/>
                      </a:lnTo>
                      <a:lnTo>
                        <a:pt x="3939" y="1977"/>
                      </a:lnTo>
                      <a:lnTo>
                        <a:pt x="3948" y="1939"/>
                      </a:lnTo>
                      <a:lnTo>
                        <a:pt x="3958" y="1891"/>
                      </a:lnTo>
                      <a:lnTo>
                        <a:pt x="3968" y="1852"/>
                      </a:lnTo>
                      <a:lnTo>
                        <a:pt x="3968" y="1814"/>
                      </a:lnTo>
                      <a:lnTo>
                        <a:pt x="3968" y="1775"/>
                      </a:lnTo>
                      <a:lnTo>
                        <a:pt x="3958" y="1747"/>
                      </a:lnTo>
                      <a:lnTo>
                        <a:pt x="3948" y="1718"/>
                      </a:lnTo>
                      <a:lnTo>
                        <a:pt x="3939" y="1679"/>
                      </a:lnTo>
                      <a:lnTo>
                        <a:pt x="3920" y="1651"/>
                      </a:lnTo>
                      <a:lnTo>
                        <a:pt x="3901" y="1622"/>
                      </a:lnTo>
                      <a:lnTo>
                        <a:pt x="3882" y="1583"/>
                      </a:lnTo>
                      <a:lnTo>
                        <a:pt x="3853" y="1555"/>
                      </a:lnTo>
                      <a:lnTo>
                        <a:pt x="3882" y="1526"/>
                      </a:lnTo>
                      <a:lnTo>
                        <a:pt x="3901" y="1487"/>
                      </a:lnTo>
                      <a:lnTo>
                        <a:pt x="3920" y="1449"/>
                      </a:lnTo>
                      <a:lnTo>
                        <a:pt x="3929" y="1411"/>
                      </a:lnTo>
                      <a:lnTo>
                        <a:pt x="3939" y="1372"/>
                      </a:lnTo>
                      <a:lnTo>
                        <a:pt x="3948" y="1334"/>
                      </a:lnTo>
                      <a:lnTo>
                        <a:pt x="3948" y="1296"/>
                      </a:lnTo>
                      <a:lnTo>
                        <a:pt x="3948" y="1257"/>
                      </a:lnTo>
                      <a:lnTo>
                        <a:pt x="3939" y="1209"/>
                      </a:lnTo>
                      <a:lnTo>
                        <a:pt x="3929" y="1171"/>
                      </a:lnTo>
                      <a:lnTo>
                        <a:pt x="3910" y="1123"/>
                      </a:lnTo>
                      <a:lnTo>
                        <a:pt x="3891" y="1084"/>
                      </a:lnTo>
                      <a:lnTo>
                        <a:pt x="3872" y="1046"/>
                      </a:lnTo>
                      <a:lnTo>
                        <a:pt x="3853" y="998"/>
                      </a:lnTo>
                      <a:lnTo>
                        <a:pt x="3824" y="960"/>
                      </a:lnTo>
                      <a:lnTo>
                        <a:pt x="3796" y="921"/>
                      </a:lnTo>
                      <a:lnTo>
                        <a:pt x="3805" y="883"/>
                      </a:lnTo>
                      <a:lnTo>
                        <a:pt x="3815" y="854"/>
                      </a:lnTo>
                      <a:lnTo>
                        <a:pt x="3815" y="816"/>
                      </a:lnTo>
                      <a:lnTo>
                        <a:pt x="3824" y="787"/>
                      </a:lnTo>
                      <a:lnTo>
                        <a:pt x="3824" y="758"/>
                      </a:lnTo>
                      <a:lnTo>
                        <a:pt x="3815" y="720"/>
                      </a:lnTo>
                      <a:lnTo>
                        <a:pt x="3805" y="691"/>
                      </a:lnTo>
                      <a:lnTo>
                        <a:pt x="3805" y="652"/>
                      </a:lnTo>
                      <a:lnTo>
                        <a:pt x="3786" y="624"/>
                      </a:lnTo>
                      <a:lnTo>
                        <a:pt x="3776" y="595"/>
                      </a:lnTo>
                      <a:lnTo>
                        <a:pt x="3757" y="566"/>
                      </a:lnTo>
                      <a:lnTo>
                        <a:pt x="3738" y="537"/>
                      </a:lnTo>
                      <a:lnTo>
                        <a:pt x="3719" y="508"/>
                      </a:lnTo>
                      <a:lnTo>
                        <a:pt x="3700" y="480"/>
                      </a:lnTo>
                      <a:lnTo>
                        <a:pt x="3671" y="460"/>
                      </a:lnTo>
                      <a:lnTo>
                        <a:pt x="3643" y="451"/>
                      </a:lnTo>
                      <a:lnTo>
                        <a:pt x="3643" y="412"/>
                      </a:lnTo>
                      <a:lnTo>
                        <a:pt x="3633" y="374"/>
                      </a:lnTo>
                      <a:lnTo>
                        <a:pt x="3633" y="345"/>
                      </a:lnTo>
                      <a:lnTo>
                        <a:pt x="3614" y="307"/>
                      </a:lnTo>
                      <a:lnTo>
                        <a:pt x="3604" y="278"/>
                      </a:lnTo>
                      <a:lnTo>
                        <a:pt x="3585" y="249"/>
                      </a:lnTo>
                      <a:lnTo>
                        <a:pt x="3557" y="220"/>
                      </a:lnTo>
                      <a:lnTo>
                        <a:pt x="3537" y="201"/>
                      </a:lnTo>
                      <a:lnTo>
                        <a:pt x="3518" y="192"/>
                      </a:lnTo>
                      <a:lnTo>
                        <a:pt x="3499" y="182"/>
                      </a:lnTo>
                      <a:lnTo>
                        <a:pt x="3480" y="182"/>
                      </a:lnTo>
                      <a:lnTo>
                        <a:pt x="3461" y="172"/>
                      </a:lnTo>
                      <a:lnTo>
                        <a:pt x="3442" y="172"/>
                      </a:lnTo>
                      <a:lnTo>
                        <a:pt x="3423" y="172"/>
                      </a:lnTo>
                      <a:lnTo>
                        <a:pt x="3404" y="172"/>
                      </a:lnTo>
                      <a:lnTo>
                        <a:pt x="3384" y="172"/>
                      </a:lnTo>
                      <a:lnTo>
                        <a:pt x="3365" y="172"/>
                      </a:lnTo>
                      <a:lnTo>
                        <a:pt x="3346" y="172"/>
                      </a:lnTo>
                      <a:lnTo>
                        <a:pt x="3327" y="182"/>
                      </a:lnTo>
                      <a:lnTo>
                        <a:pt x="3308" y="182"/>
                      </a:lnTo>
                      <a:lnTo>
                        <a:pt x="3289" y="192"/>
                      </a:lnTo>
                      <a:lnTo>
                        <a:pt x="3270" y="192"/>
                      </a:lnTo>
                      <a:lnTo>
                        <a:pt x="3260" y="201"/>
                      </a:lnTo>
                      <a:lnTo>
                        <a:pt x="3241" y="211"/>
                      </a:lnTo>
                      <a:lnTo>
                        <a:pt x="3222" y="201"/>
                      </a:lnTo>
                      <a:lnTo>
                        <a:pt x="3212" y="192"/>
                      </a:lnTo>
                      <a:lnTo>
                        <a:pt x="3193" y="172"/>
                      </a:lnTo>
                      <a:lnTo>
                        <a:pt x="3184" y="163"/>
                      </a:lnTo>
                      <a:lnTo>
                        <a:pt x="3165" y="153"/>
                      </a:lnTo>
                      <a:lnTo>
                        <a:pt x="3155" y="144"/>
                      </a:lnTo>
                      <a:lnTo>
                        <a:pt x="3136" y="144"/>
                      </a:lnTo>
                      <a:lnTo>
                        <a:pt x="3117" y="134"/>
                      </a:lnTo>
                      <a:lnTo>
                        <a:pt x="3098" y="134"/>
                      </a:lnTo>
                      <a:lnTo>
                        <a:pt x="3078" y="134"/>
                      </a:lnTo>
                      <a:lnTo>
                        <a:pt x="3059" y="134"/>
                      </a:lnTo>
                      <a:lnTo>
                        <a:pt x="3040" y="134"/>
                      </a:lnTo>
                      <a:lnTo>
                        <a:pt x="3021" y="134"/>
                      </a:lnTo>
                      <a:lnTo>
                        <a:pt x="3002" y="144"/>
                      </a:lnTo>
                      <a:lnTo>
                        <a:pt x="2992" y="153"/>
                      </a:lnTo>
                      <a:lnTo>
                        <a:pt x="2973" y="163"/>
                      </a:lnTo>
                      <a:close/>
                    </a:path>
                  </a:pathLst>
                </a:custGeom>
                <a:solidFill>
                  <a:srgbClr val="eaf2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rot="21021600">
                  <a:off x="4544640" y="2539440"/>
                  <a:ext cx="140040" cy="102240"/>
                </a:xfrm>
                <a:custGeom>
                  <a:avLst/>
                  <a:gdLst/>
                  <a:ahLst/>
                  <a:rect l="l" t="t" r="r" b="b"/>
                  <a:pathLst>
                    <a:path w="325" h="201">
                      <a:moveTo>
                        <a:pt x="0" y="48"/>
                      </a:moveTo>
                      <a:lnTo>
                        <a:pt x="0" y="48"/>
                      </a:lnTo>
                      <a:lnTo>
                        <a:pt x="20" y="48"/>
                      </a:lnTo>
                      <a:lnTo>
                        <a:pt x="48" y="48"/>
                      </a:lnTo>
                      <a:lnTo>
                        <a:pt x="67" y="48"/>
                      </a:lnTo>
                      <a:lnTo>
                        <a:pt x="86" y="57"/>
                      </a:lnTo>
                      <a:lnTo>
                        <a:pt x="106" y="57"/>
                      </a:lnTo>
                      <a:lnTo>
                        <a:pt x="115" y="67"/>
                      </a:lnTo>
                      <a:lnTo>
                        <a:pt x="134" y="77"/>
                      </a:lnTo>
                      <a:lnTo>
                        <a:pt x="153" y="86"/>
                      </a:lnTo>
                      <a:lnTo>
                        <a:pt x="172" y="96"/>
                      </a:lnTo>
                      <a:lnTo>
                        <a:pt x="192" y="105"/>
                      </a:lnTo>
                      <a:lnTo>
                        <a:pt x="211" y="115"/>
                      </a:lnTo>
                      <a:lnTo>
                        <a:pt x="220" y="134"/>
                      </a:lnTo>
                      <a:lnTo>
                        <a:pt x="239" y="153"/>
                      </a:lnTo>
                      <a:lnTo>
                        <a:pt x="259" y="163"/>
                      </a:lnTo>
                      <a:lnTo>
                        <a:pt x="278" y="182"/>
                      </a:lnTo>
                      <a:lnTo>
                        <a:pt x="287" y="201"/>
                      </a:lnTo>
                      <a:lnTo>
                        <a:pt x="325" y="182"/>
                      </a:lnTo>
                      <a:lnTo>
                        <a:pt x="306" y="153"/>
                      </a:lnTo>
                      <a:lnTo>
                        <a:pt x="287" y="134"/>
                      </a:lnTo>
                      <a:lnTo>
                        <a:pt x="268" y="115"/>
                      </a:lnTo>
                      <a:lnTo>
                        <a:pt x="259" y="105"/>
                      </a:lnTo>
                      <a:lnTo>
                        <a:pt x="239" y="86"/>
                      </a:lnTo>
                      <a:lnTo>
                        <a:pt x="220" y="67"/>
                      </a:lnTo>
                      <a:lnTo>
                        <a:pt x="201" y="57"/>
                      </a:lnTo>
                      <a:lnTo>
                        <a:pt x="172" y="48"/>
                      </a:lnTo>
                      <a:lnTo>
                        <a:pt x="153" y="38"/>
                      </a:lnTo>
                      <a:lnTo>
                        <a:pt x="134" y="29"/>
                      </a:lnTo>
                      <a:lnTo>
                        <a:pt x="115" y="19"/>
                      </a:lnTo>
                      <a:lnTo>
                        <a:pt x="96" y="9"/>
                      </a:lnTo>
                      <a:lnTo>
                        <a:pt x="67" y="9"/>
                      </a:lnTo>
                      <a:lnTo>
                        <a:pt x="48" y="0"/>
                      </a:lnTo>
                      <a:lnTo>
                        <a:pt x="20" y="0"/>
                      </a:lnTo>
                      <a:lnTo>
                        <a:pt x="0" y="0"/>
                      </a:lnTo>
                      <a:lnTo>
                        <a:pt x="0" y="0"/>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rot="21021600">
                  <a:off x="4404240" y="2563200"/>
                  <a:ext cx="144000" cy="122040"/>
                </a:xfrm>
                <a:custGeom>
                  <a:avLst/>
                  <a:gdLst/>
                  <a:ahLst/>
                  <a:rect l="l" t="t" r="r" b="b"/>
                  <a:pathLst>
                    <a:path w="334" h="240">
                      <a:moveTo>
                        <a:pt x="0" y="240"/>
                      </a:moveTo>
                      <a:lnTo>
                        <a:pt x="38" y="240"/>
                      </a:lnTo>
                      <a:lnTo>
                        <a:pt x="48" y="211"/>
                      </a:lnTo>
                      <a:lnTo>
                        <a:pt x="57" y="192"/>
                      </a:lnTo>
                      <a:lnTo>
                        <a:pt x="76" y="173"/>
                      </a:lnTo>
                      <a:lnTo>
                        <a:pt x="86" y="163"/>
                      </a:lnTo>
                      <a:lnTo>
                        <a:pt x="105" y="144"/>
                      </a:lnTo>
                      <a:lnTo>
                        <a:pt x="124" y="125"/>
                      </a:lnTo>
                      <a:lnTo>
                        <a:pt x="143" y="115"/>
                      </a:lnTo>
                      <a:lnTo>
                        <a:pt x="162" y="96"/>
                      </a:lnTo>
                      <a:lnTo>
                        <a:pt x="181" y="86"/>
                      </a:lnTo>
                      <a:lnTo>
                        <a:pt x="201" y="77"/>
                      </a:lnTo>
                      <a:lnTo>
                        <a:pt x="220" y="67"/>
                      </a:lnTo>
                      <a:lnTo>
                        <a:pt x="248" y="57"/>
                      </a:lnTo>
                      <a:lnTo>
                        <a:pt x="267" y="57"/>
                      </a:lnTo>
                      <a:lnTo>
                        <a:pt x="296" y="48"/>
                      </a:lnTo>
                      <a:lnTo>
                        <a:pt x="315" y="48"/>
                      </a:lnTo>
                      <a:lnTo>
                        <a:pt x="334" y="48"/>
                      </a:lnTo>
                      <a:lnTo>
                        <a:pt x="334" y="0"/>
                      </a:lnTo>
                      <a:lnTo>
                        <a:pt x="306" y="9"/>
                      </a:lnTo>
                      <a:lnTo>
                        <a:pt x="287" y="9"/>
                      </a:lnTo>
                      <a:lnTo>
                        <a:pt x="258" y="9"/>
                      </a:lnTo>
                      <a:lnTo>
                        <a:pt x="239" y="19"/>
                      </a:lnTo>
                      <a:lnTo>
                        <a:pt x="210" y="29"/>
                      </a:lnTo>
                      <a:lnTo>
                        <a:pt x="181" y="38"/>
                      </a:lnTo>
                      <a:lnTo>
                        <a:pt x="162" y="48"/>
                      </a:lnTo>
                      <a:lnTo>
                        <a:pt x="143" y="57"/>
                      </a:lnTo>
                      <a:lnTo>
                        <a:pt x="114" y="77"/>
                      </a:lnTo>
                      <a:lnTo>
                        <a:pt x="95" y="96"/>
                      </a:lnTo>
                      <a:lnTo>
                        <a:pt x="76" y="105"/>
                      </a:lnTo>
                      <a:lnTo>
                        <a:pt x="57" y="125"/>
                      </a:lnTo>
                      <a:lnTo>
                        <a:pt x="38" y="144"/>
                      </a:lnTo>
                      <a:lnTo>
                        <a:pt x="19" y="173"/>
                      </a:lnTo>
                      <a:lnTo>
                        <a:pt x="9" y="192"/>
                      </a:lnTo>
                      <a:lnTo>
                        <a:pt x="0" y="221"/>
                      </a:lnTo>
                      <a:lnTo>
                        <a:pt x="38" y="221"/>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21021600">
                  <a:off x="4304160" y="2601360"/>
                  <a:ext cx="119520" cy="102600"/>
                </a:xfrm>
                <a:custGeom>
                  <a:avLst/>
                  <a:gdLst/>
                  <a:ahLst/>
                  <a:rect l="l" t="t" r="r" b="b"/>
                  <a:pathLst>
                    <a:path w="277" h="202">
                      <a:moveTo>
                        <a:pt x="0" y="48"/>
                      </a:moveTo>
                      <a:lnTo>
                        <a:pt x="0" y="48"/>
                      </a:lnTo>
                      <a:lnTo>
                        <a:pt x="19" y="48"/>
                      </a:lnTo>
                      <a:lnTo>
                        <a:pt x="28" y="48"/>
                      </a:lnTo>
                      <a:lnTo>
                        <a:pt x="48" y="58"/>
                      </a:lnTo>
                      <a:lnTo>
                        <a:pt x="67" y="58"/>
                      </a:lnTo>
                      <a:lnTo>
                        <a:pt x="76" y="67"/>
                      </a:lnTo>
                      <a:lnTo>
                        <a:pt x="95" y="77"/>
                      </a:lnTo>
                      <a:lnTo>
                        <a:pt x="114" y="87"/>
                      </a:lnTo>
                      <a:lnTo>
                        <a:pt x="134" y="96"/>
                      </a:lnTo>
                      <a:lnTo>
                        <a:pt x="143" y="106"/>
                      </a:lnTo>
                      <a:lnTo>
                        <a:pt x="162" y="115"/>
                      </a:lnTo>
                      <a:lnTo>
                        <a:pt x="172" y="125"/>
                      </a:lnTo>
                      <a:lnTo>
                        <a:pt x="191" y="144"/>
                      </a:lnTo>
                      <a:lnTo>
                        <a:pt x="201" y="154"/>
                      </a:lnTo>
                      <a:lnTo>
                        <a:pt x="210" y="173"/>
                      </a:lnTo>
                      <a:lnTo>
                        <a:pt x="229" y="183"/>
                      </a:lnTo>
                      <a:lnTo>
                        <a:pt x="239" y="202"/>
                      </a:lnTo>
                      <a:lnTo>
                        <a:pt x="277" y="183"/>
                      </a:lnTo>
                      <a:lnTo>
                        <a:pt x="258" y="163"/>
                      </a:lnTo>
                      <a:lnTo>
                        <a:pt x="248" y="144"/>
                      </a:lnTo>
                      <a:lnTo>
                        <a:pt x="229" y="125"/>
                      </a:lnTo>
                      <a:lnTo>
                        <a:pt x="220" y="115"/>
                      </a:lnTo>
                      <a:lnTo>
                        <a:pt x="201" y="96"/>
                      </a:lnTo>
                      <a:lnTo>
                        <a:pt x="191" y="87"/>
                      </a:lnTo>
                      <a:lnTo>
                        <a:pt x="172" y="67"/>
                      </a:lnTo>
                      <a:lnTo>
                        <a:pt x="153" y="58"/>
                      </a:lnTo>
                      <a:lnTo>
                        <a:pt x="134" y="48"/>
                      </a:lnTo>
                      <a:lnTo>
                        <a:pt x="114" y="39"/>
                      </a:lnTo>
                      <a:lnTo>
                        <a:pt x="95" y="29"/>
                      </a:lnTo>
                      <a:lnTo>
                        <a:pt x="76" y="19"/>
                      </a:lnTo>
                      <a:lnTo>
                        <a:pt x="57" y="10"/>
                      </a:lnTo>
                      <a:lnTo>
                        <a:pt x="38" y="10"/>
                      </a:lnTo>
                      <a:lnTo>
                        <a:pt x="19" y="0"/>
                      </a:lnTo>
                      <a:lnTo>
                        <a:pt x="0" y="0"/>
                      </a:lnTo>
                      <a:lnTo>
                        <a:pt x="0" y="0"/>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21021600">
                  <a:off x="4185000" y="2621520"/>
                  <a:ext cx="119520" cy="87840"/>
                </a:xfrm>
                <a:custGeom>
                  <a:avLst/>
                  <a:gdLst/>
                  <a:ahLst/>
                  <a:rect l="l" t="t" r="r" b="b"/>
                  <a:pathLst>
                    <a:path w="277" h="173">
                      <a:moveTo>
                        <a:pt x="9" y="173"/>
                      </a:moveTo>
                      <a:lnTo>
                        <a:pt x="38" y="163"/>
                      </a:lnTo>
                      <a:lnTo>
                        <a:pt x="47" y="154"/>
                      </a:lnTo>
                      <a:lnTo>
                        <a:pt x="57" y="144"/>
                      </a:lnTo>
                      <a:lnTo>
                        <a:pt x="66" y="135"/>
                      </a:lnTo>
                      <a:lnTo>
                        <a:pt x="76" y="125"/>
                      </a:lnTo>
                      <a:lnTo>
                        <a:pt x="95" y="115"/>
                      </a:lnTo>
                      <a:lnTo>
                        <a:pt x="105" y="96"/>
                      </a:lnTo>
                      <a:lnTo>
                        <a:pt x="124" y="87"/>
                      </a:lnTo>
                      <a:lnTo>
                        <a:pt x="143" y="77"/>
                      </a:lnTo>
                      <a:lnTo>
                        <a:pt x="162" y="67"/>
                      </a:lnTo>
                      <a:lnTo>
                        <a:pt x="172" y="67"/>
                      </a:lnTo>
                      <a:lnTo>
                        <a:pt x="191" y="58"/>
                      </a:lnTo>
                      <a:lnTo>
                        <a:pt x="210" y="48"/>
                      </a:lnTo>
                      <a:lnTo>
                        <a:pt x="219" y="48"/>
                      </a:lnTo>
                      <a:lnTo>
                        <a:pt x="239" y="48"/>
                      </a:lnTo>
                      <a:lnTo>
                        <a:pt x="258" y="48"/>
                      </a:lnTo>
                      <a:lnTo>
                        <a:pt x="277" y="48"/>
                      </a:lnTo>
                      <a:lnTo>
                        <a:pt x="277" y="0"/>
                      </a:lnTo>
                      <a:lnTo>
                        <a:pt x="258" y="0"/>
                      </a:lnTo>
                      <a:lnTo>
                        <a:pt x="239" y="0"/>
                      </a:lnTo>
                      <a:lnTo>
                        <a:pt x="219" y="10"/>
                      </a:lnTo>
                      <a:lnTo>
                        <a:pt x="200" y="10"/>
                      </a:lnTo>
                      <a:lnTo>
                        <a:pt x="181" y="19"/>
                      </a:lnTo>
                      <a:lnTo>
                        <a:pt x="162" y="29"/>
                      </a:lnTo>
                      <a:lnTo>
                        <a:pt x="143" y="29"/>
                      </a:lnTo>
                      <a:lnTo>
                        <a:pt x="124" y="39"/>
                      </a:lnTo>
                      <a:lnTo>
                        <a:pt x="105" y="58"/>
                      </a:lnTo>
                      <a:lnTo>
                        <a:pt x="86" y="67"/>
                      </a:lnTo>
                      <a:lnTo>
                        <a:pt x="66" y="77"/>
                      </a:lnTo>
                      <a:lnTo>
                        <a:pt x="57" y="87"/>
                      </a:lnTo>
                      <a:lnTo>
                        <a:pt x="38" y="96"/>
                      </a:lnTo>
                      <a:lnTo>
                        <a:pt x="28" y="115"/>
                      </a:lnTo>
                      <a:lnTo>
                        <a:pt x="9" y="125"/>
                      </a:lnTo>
                      <a:lnTo>
                        <a:pt x="0" y="144"/>
                      </a:lnTo>
                      <a:lnTo>
                        <a:pt x="28" y="135"/>
                      </a:lnTo>
                      <a:lnTo>
                        <a:pt x="9" y="17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94" name=""/>
                <p:cNvSpPr/>
                <p:nvPr/>
              </p:nvSpPr>
              <p:spPr>
                <a:xfrm rot="21021600">
                  <a:off x="4096440" y="2696760"/>
                  <a:ext cx="106920" cy="34560"/>
                </a:xfrm>
                <a:custGeom>
                  <a:avLst/>
                  <a:gdLst/>
                  <a:ahLst/>
                  <a:rect l="l" t="t" r="r" b="b"/>
                  <a:pathLst>
                    <a:path w="248" h="68">
                      <a:moveTo>
                        <a:pt x="19" y="68"/>
                      </a:moveTo>
                      <a:lnTo>
                        <a:pt x="19" y="68"/>
                      </a:lnTo>
                      <a:lnTo>
                        <a:pt x="28" y="58"/>
                      </a:lnTo>
                      <a:lnTo>
                        <a:pt x="38" y="58"/>
                      </a:lnTo>
                      <a:lnTo>
                        <a:pt x="57" y="48"/>
                      </a:lnTo>
                      <a:lnTo>
                        <a:pt x="67" y="48"/>
                      </a:lnTo>
                      <a:lnTo>
                        <a:pt x="76" y="48"/>
                      </a:lnTo>
                      <a:lnTo>
                        <a:pt x="95" y="48"/>
                      </a:lnTo>
                      <a:lnTo>
                        <a:pt x="105" y="39"/>
                      </a:lnTo>
                      <a:lnTo>
                        <a:pt x="124" y="39"/>
                      </a:lnTo>
                      <a:lnTo>
                        <a:pt x="133" y="39"/>
                      </a:lnTo>
                      <a:lnTo>
                        <a:pt x="153" y="39"/>
                      </a:lnTo>
                      <a:lnTo>
                        <a:pt x="162" y="39"/>
                      </a:lnTo>
                      <a:lnTo>
                        <a:pt x="181" y="48"/>
                      </a:lnTo>
                      <a:lnTo>
                        <a:pt x="191" y="48"/>
                      </a:lnTo>
                      <a:lnTo>
                        <a:pt x="200" y="48"/>
                      </a:lnTo>
                      <a:lnTo>
                        <a:pt x="220" y="58"/>
                      </a:lnTo>
                      <a:lnTo>
                        <a:pt x="229" y="58"/>
                      </a:lnTo>
                      <a:lnTo>
                        <a:pt x="248" y="20"/>
                      </a:lnTo>
                      <a:lnTo>
                        <a:pt x="229" y="10"/>
                      </a:lnTo>
                      <a:lnTo>
                        <a:pt x="210" y="10"/>
                      </a:lnTo>
                      <a:lnTo>
                        <a:pt x="200" y="0"/>
                      </a:lnTo>
                      <a:lnTo>
                        <a:pt x="181" y="0"/>
                      </a:lnTo>
                      <a:lnTo>
                        <a:pt x="172" y="0"/>
                      </a:lnTo>
                      <a:lnTo>
                        <a:pt x="153" y="0"/>
                      </a:lnTo>
                      <a:lnTo>
                        <a:pt x="133" y="0"/>
                      </a:lnTo>
                      <a:lnTo>
                        <a:pt x="124" y="0"/>
                      </a:lnTo>
                      <a:lnTo>
                        <a:pt x="105" y="0"/>
                      </a:lnTo>
                      <a:lnTo>
                        <a:pt x="86" y="0"/>
                      </a:lnTo>
                      <a:lnTo>
                        <a:pt x="76" y="0"/>
                      </a:lnTo>
                      <a:lnTo>
                        <a:pt x="57" y="10"/>
                      </a:lnTo>
                      <a:lnTo>
                        <a:pt x="38" y="10"/>
                      </a:lnTo>
                      <a:lnTo>
                        <a:pt x="28" y="20"/>
                      </a:lnTo>
                      <a:lnTo>
                        <a:pt x="9" y="20"/>
                      </a:lnTo>
                      <a:lnTo>
                        <a:pt x="0" y="29"/>
                      </a:lnTo>
                      <a:lnTo>
                        <a:pt x="0" y="29"/>
                      </a:lnTo>
                      <a:lnTo>
                        <a:pt x="19" y="6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5" name=""/>
                <p:cNvSpPr/>
                <p:nvPr/>
              </p:nvSpPr>
              <p:spPr>
                <a:xfrm rot="21021600">
                  <a:off x="4041360" y="2724480"/>
                  <a:ext cx="74160" cy="117360"/>
                </a:xfrm>
                <a:custGeom>
                  <a:avLst/>
                  <a:gdLst/>
                  <a:ahLst/>
                  <a:rect l="l" t="t" r="r" b="b"/>
                  <a:pathLst>
                    <a:path w="172" h="231">
                      <a:moveTo>
                        <a:pt x="19" y="231"/>
                      </a:moveTo>
                      <a:lnTo>
                        <a:pt x="47" y="211"/>
                      </a:lnTo>
                      <a:lnTo>
                        <a:pt x="47" y="183"/>
                      </a:lnTo>
                      <a:lnTo>
                        <a:pt x="67" y="154"/>
                      </a:lnTo>
                      <a:lnTo>
                        <a:pt x="76" y="125"/>
                      </a:lnTo>
                      <a:lnTo>
                        <a:pt x="95" y="106"/>
                      </a:lnTo>
                      <a:lnTo>
                        <a:pt x="105" y="87"/>
                      </a:lnTo>
                      <a:lnTo>
                        <a:pt x="124" y="67"/>
                      </a:lnTo>
                      <a:lnTo>
                        <a:pt x="153" y="48"/>
                      </a:lnTo>
                      <a:lnTo>
                        <a:pt x="172" y="39"/>
                      </a:lnTo>
                      <a:lnTo>
                        <a:pt x="153" y="0"/>
                      </a:lnTo>
                      <a:lnTo>
                        <a:pt x="124" y="19"/>
                      </a:lnTo>
                      <a:lnTo>
                        <a:pt x="105" y="39"/>
                      </a:lnTo>
                      <a:lnTo>
                        <a:pt x="76" y="58"/>
                      </a:lnTo>
                      <a:lnTo>
                        <a:pt x="57" y="77"/>
                      </a:lnTo>
                      <a:lnTo>
                        <a:pt x="38" y="106"/>
                      </a:lnTo>
                      <a:lnTo>
                        <a:pt x="19" y="135"/>
                      </a:lnTo>
                      <a:lnTo>
                        <a:pt x="9" y="163"/>
                      </a:lnTo>
                      <a:lnTo>
                        <a:pt x="0" y="202"/>
                      </a:lnTo>
                      <a:lnTo>
                        <a:pt x="19" y="183"/>
                      </a:lnTo>
                      <a:lnTo>
                        <a:pt x="19"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rot="21021600">
                  <a:off x="3940560" y="2831760"/>
                  <a:ext cx="119520" cy="48600"/>
                </a:xfrm>
                <a:custGeom>
                  <a:avLst/>
                  <a:gdLst/>
                  <a:ahLst/>
                  <a:rect l="l" t="t" r="r" b="b"/>
                  <a:pathLst>
                    <a:path w="277" h="96">
                      <a:moveTo>
                        <a:pt x="28" y="96"/>
                      </a:moveTo>
                      <a:lnTo>
                        <a:pt x="28" y="96"/>
                      </a:lnTo>
                      <a:lnTo>
                        <a:pt x="38" y="86"/>
                      </a:lnTo>
                      <a:lnTo>
                        <a:pt x="47" y="76"/>
                      </a:lnTo>
                      <a:lnTo>
                        <a:pt x="66" y="67"/>
                      </a:lnTo>
                      <a:lnTo>
                        <a:pt x="76" y="57"/>
                      </a:lnTo>
                      <a:lnTo>
                        <a:pt x="86" y="57"/>
                      </a:lnTo>
                      <a:lnTo>
                        <a:pt x="105" y="48"/>
                      </a:lnTo>
                      <a:lnTo>
                        <a:pt x="114" y="48"/>
                      </a:lnTo>
                      <a:lnTo>
                        <a:pt x="133" y="48"/>
                      </a:lnTo>
                      <a:lnTo>
                        <a:pt x="152" y="38"/>
                      </a:lnTo>
                      <a:lnTo>
                        <a:pt x="162" y="38"/>
                      </a:lnTo>
                      <a:lnTo>
                        <a:pt x="181" y="38"/>
                      </a:lnTo>
                      <a:lnTo>
                        <a:pt x="200" y="38"/>
                      </a:lnTo>
                      <a:lnTo>
                        <a:pt x="219" y="38"/>
                      </a:lnTo>
                      <a:lnTo>
                        <a:pt x="239" y="38"/>
                      </a:lnTo>
                      <a:lnTo>
                        <a:pt x="258" y="38"/>
                      </a:lnTo>
                      <a:lnTo>
                        <a:pt x="277" y="48"/>
                      </a:lnTo>
                      <a:lnTo>
                        <a:pt x="277" y="0"/>
                      </a:lnTo>
                      <a:lnTo>
                        <a:pt x="258" y="0"/>
                      </a:lnTo>
                      <a:lnTo>
                        <a:pt x="239" y="0"/>
                      </a:lnTo>
                      <a:lnTo>
                        <a:pt x="219" y="0"/>
                      </a:lnTo>
                      <a:lnTo>
                        <a:pt x="200" y="0"/>
                      </a:lnTo>
                      <a:lnTo>
                        <a:pt x="181" y="0"/>
                      </a:lnTo>
                      <a:lnTo>
                        <a:pt x="162" y="0"/>
                      </a:lnTo>
                      <a:lnTo>
                        <a:pt x="143" y="0"/>
                      </a:lnTo>
                      <a:lnTo>
                        <a:pt x="124" y="0"/>
                      </a:lnTo>
                      <a:lnTo>
                        <a:pt x="105" y="0"/>
                      </a:lnTo>
                      <a:lnTo>
                        <a:pt x="95" y="9"/>
                      </a:lnTo>
                      <a:lnTo>
                        <a:pt x="76" y="9"/>
                      </a:lnTo>
                      <a:lnTo>
                        <a:pt x="57" y="19"/>
                      </a:lnTo>
                      <a:lnTo>
                        <a:pt x="47" y="28"/>
                      </a:lnTo>
                      <a:lnTo>
                        <a:pt x="28" y="38"/>
                      </a:lnTo>
                      <a:lnTo>
                        <a:pt x="9" y="48"/>
                      </a:lnTo>
                      <a:lnTo>
                        <a:pt x="0" y="57"/>
                      </a:lnTo>
                      <a:lnTo>
                        <a:pt x="0" y="57"/>
                      </a:lnTo>
                      <a:lnTo>
                        <a:pt x="28" y="9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97" name=""/>
                <p:cNvSpPr/>
                <p:nvPr/>
              </p:nvSpPr>
              <p:spPr>
                <a:xfrm rot="21021600">
                  <a:off x="3889800" y="2873520"/>
                  <a:ext cx="82440" cy="200520"/>
                </a:xfrm>
                <a:custGeom>
                  <a:avLst/>
                  <a:gdLst/>
                  <a:ahLst/>
                  <a:rect l="l" t="t" r="r" b="b"/>
                  <a:pathLst>
                    <a:path w="191" h="394">
                      <a:moveTo>
                        <a:pt x="19" y="394"/>
                      </a:moveTo>
                      <a:lnTo>
                        <a:pt x="38" y="375"/>
                      </a:lnTo>
                      <a:lnTo>
                        <a:pt x="57" y="327"/>
                      </a:lnTo>
                      <a:lnTo>
                        <a:pt x="67" y="269"/>
                      </a:lnTo>
                      <a:lnTo>
                        <a:pt x="86" y="221"/>
                      </a:lnTo>
                      <a:lnTo>
                        <a:pt x="96" y="183"/>
                      </a:lnTo>
                      <a:lnTo>
                        <a:pt x="115" y="144"/>
                      </a:lnTo>
                      <a:lnTo>
                        <a:pt x="134" y="106"/>
                      </a:lnTo>
                      <a:lnTo>
                        <a:pt x="163" y="67"/>
                      </a:lnTo>
                      <a:lnTo>
                        <a:pt x="191" y="39"/>
                      </a:lnTo>
                      <a:lnTo>
                        <a:pt x="163" y="0"/>
                      </a:lnTo>
                      <a:lnTo>
                        <a:pt x="124" y="39"/>
                      </a:lnTo>
                      <a:lnTo>
                        <a:pt x="105" y="77"/>
                      </a:lnTo>
                      <a:lnTo>
                        <a:pt x="76" y="125"/>
                      </a:lnTo>
                      <a:lnTo>
                        <a:pt x="57" y="163"/>
                      </a:lnTo>
                      <a:lnTo>
                        <a:pt x="38" y="211"/>
                      </a:lnTo>
                      <a:lnTo>
                        <a:pt x="29" y="259"/>
                      </a:lnTo>
                      <a:lnTo>
                        <a:pt x="10" y="317"/>
                      </a:lnTo>
                      <a:lnTo>
                        <a:pt x="0" y="365"/>
                      </a:lnTo>
                      <a:lnTo>
                        <a:pt x="19" y="346"/>
                      </a:lnTo>
                      <a:lnTo>
                        <a:pt x="1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rot="21021600">
                  <a:off x="3813120" y="3062520"/>
                  <a:ext cx="102960" cy="58320"/>
                </a:xfrm>
                <a:custGeom>
                  <a:avLst/>
                  <a:gdLst/>
                  <a:ahLst/>
                  <a:rect l="l" t="t" r="r" b="b"/>
                  <a:pathLst>
                    <a:path w="239" h="115">
                      <a:moveTo>
                        <a:pt x="19" y="115"/>
                      </a:moveTo>
                      <a:lnTo>
                        <a:pt x="19" y="115"/>
                      </a:lnTo>
                      <a:lnTo>
                        <a:pt x="29" y="105"/>
                      </a:lnTo>
                      <a:lnTo>
                        <a:pt x="48" y="96"/>
                      </a:lnTo>
                      <a:lnTo>
                        <a:pt x="57" y="96"/>
                      </a:lnTo>
                      <a:lnTo>
                        <a:pt x="77" y="86"/>
                      </a:lnTo>
                      <a:lnTo>
                        <a:pt x="86" y="86"/>
                      </a:lnTo>
                      <a:lnTo>
                        <a:pt x="96" y="77"/>
                      </a:lnTo>
                      <a:lnTo>
                        <a:pt x="115" y="67"/>
                      </a:lnTo>
                      <a:lnTo>
                        <a:pt x="124" y="67"/>
                      </a:lnTo>
                      <a:lnTo>
                        <a:pt x="144" y="57"/>
                      </a:lnTo>
                      <a:lnTo>
                        <a:pt x="153" y="57"/>
                      </a:lnTo>
                      <a:lnTo>
                        <a:pt x="172" y="57"/>
                      </a:lnTo>
                      <a:lnTo>
                        <a:pt x="182" y="57"/>
                      </a:lnTo>
                      <a:lnTo>
                        <a:pt x="201" y="48"/>
                      </a:lnTo>
                      <a:lnTo>
                        <a:pt x="210" y="48"/>
                      </a:lnTo>
                      <a:lnTo>
                        <a:pt x="230" y="48"/>
                      </a:lnTo>
                      <a:lnTo>
                        <a:pt x="239" y="48"/>
                      </a:lnTo>
                      <a:lnTo>
                        <a:pt x="239" y="0"/>
                      </a:lnTo>
                      <a:lnTo>
                        <a:pt x="230" y="0"/>
                      </a:lnTo>
                      <a:lnTo>
                        <a:pt x="210" y="9"/>
                      </a:lnTo>
                      <a:lnTo>
                        <a:pt x="191" y="9"/>
                      </a:lnTo>
                      <a:lnTo>
                        <a:pt x="182" y="9"/>
                      </a:lnTo>
                      <a:lnTo>
                        <a:pt x="163" y="9"/>
                      </a:lnTo>
                      <a:lnTo>
                        <a:pt x="144" y="19"/>
                      </a:lnTo>
                      <a:lnTo>
                        <a:pt x="134" y="19"/>
                      </a:lnTo>
                      <a:lnTo>
                        <a:pt x="115" y="29"/>
                      </a:lnTo>
                      <a:lnTo>
                        <a:pt x="105" y="29"/>
                      </a:lnTo>
                      <a:lnTo>
                        <a:pt x="86" y="38"/>
                      </a:lnTo>
                      <a:lnTo>
                        <a:pt x="67" y="38"/>
                      </a:lnTo>
                      <a:lnTo>
                        <a:pt x="57" y="48"/>
                      </a:lnTo>
                      <a:lnTo>
                        <a:pt x="38" y="57"/>
                      </a:lnTo>
                      <a:lnTo>
                        <a:pt x="29" y="57"/>
                      </a:lnTo>
                      <a:lnTo>
                        <a:pt x="19" y="67"/>
                      </a:lnTo>
                      <a:lnTo>
                        <a:pt x="0" y="77"/>
                      </a:lnTo>
                      <a:lnTo>
                        <a:pt x="0" y="77"/>
                      </a:lnTo>
                      <a:lnTo>
                        <a:pt x="19" y="1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99" name=""/>
                <p:cNvSpPr/>
                <p:nvPr/>
              </p:nvSpPr>
              <p:spPr>
                <a:xfrm rot="21021600">
                  <a:off x="3759840" y="3114360"/>
                  <a:ext cx="74160" cy="117000"/>
                </a:xfrm>
                <a:custGeom>
                  <a:avLst/>
                  <a:gdLst/>
                  <a:ahLst/>
                  <a:rect l="l" t="t" r="r" b="b"/>
                  <a:pathLst>
                    <a:path w="172" h="230">
                      <a:moveTo>
                        <a:pt x="29" y="230"/>
                      </a:moveTo>
                      <a:lnTo>
                        <a:pt x="48" y="211"/>
                      </a:lnTo>
                      <a:lnTo>
                        <a:pt x="48" y="182"/>
                      </a:lnTo>
                      <a:lnTo>
                        <a:pt x="57" y="153"/>
                      </a:lnTo>
                      <a:lnTo>
                        <a:pt x="67" y="124"/>
                      </a:lnTo>
                      <a:lnTo>
                        <a:pt x="77" y="105"/>
                      </a:lnTo>
                      <a:lnTo>
                        <a:pt x="96" y="86"/>
                      </a:lnTo>
                      <a:lnTo>
                        <a:pt x="115" y="67"/>
                      </a:lnTo>
                      <a:lnTo>
                        <a:pt x="144" y="48"/>
                      </a:lnTo>
                      <a:lnTo>
                        <a:pt x="172" y="38"/>
                      </a:lnTo>
                      <a:lnTo>
                        <a:pt x="153" y="0"/>
                      </a:lnTo>
                      <a:lnTo>
                        <a:pt x="124" y="9"/>
                      </a:lnTo>
                      <a:lnTo>
                        <a:pt x="96" y="38"/>
                      </a:lnTo>
                      <a:lnTo>
                        <a:pt x="67" y="57"/>
                      </a:lnTo>
                      <a:lnTo>
                        <a:pt x="38" y="86"/>
                      </a:lnTo>
                      <a:lnTo>
                        <a:pt x="29" y="105"/>
                      </a:lnTo>
                      <a:lnTo>
                        <a:pt x="10" y="144"/>
                      </a:lnTo>
                      <a:lnTo>
                        <a:pt x="10" y="172"/>
                      </a:lnTo>
                      <a:lnTo>
                        <a:pt x="0" y="211"/>
                      </a:lnTo>
                      <a:lnTo>
                        <a:pt x="19" y="192"/>
                      </a:lnTo>
                      <a:lnTo>
                        <a:pt x="29"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rot="21021600">
                  <a:off x="3704760" y="3222000"/>
                  <a:ext cx="82440" cy="92520"/>
                </a:xfrm>
                <a:custGeom>
                  <a:avLst/>
                  <a:gdLst/>
                  <a:ahLst/>
                  <a:rect l="l" t="t" r="r" b="b"/>
                  <a:pathLst>
                    <a:path w="191" h="182">
                      <a:moveTo>
                        <a:pt x="28" y="182"/>
                      </a:moveTo>
                      <a:lnTo>
                        <a:pt x="28" y="182"/>
                      </a:lnTo>
                      <a:lnTo>
                        <a:pt x="47" y="153"/>
                      </a:lnTo>
                      <a:lnTo>
                        <a:pt x="67" y="134"/>
                      </a:lnTo>
                      <a:lnTo>
                        <a:pt x="86" y="115"/>
                      </a:lnTo>
                      <a:lnTo>
                        <a:pt x="105" y="96"/>
                      </a:lnTo>
                      <a:lnTo>
                        <a:pt x="124" y="76"/>
                      </a:lnTo>
                      <a:lnTo>
                        <a:pt x="143" y="57"/>
                      </a:lnTo>
                      <a:lnTo>
                        <a:pt x="162" y="48"/>
                      </a:lnTo>
                      <a:lnTo>
                        <a:pt x="191" y="38"/>
                      </a:lnTo>
                      <a:lnTo>
                        <a:pt x="181" y="0"/>
                      </a:lnTo>
                      <a:lnTo>
                        <a:pt x="153" y="9"/>
                      </a:lnTo>
                      <a:lnTo>
                        <a:pt x="124" y="28"/>
                      </a:lnTo>
                      <a:lnTo>
                        <a:pt x="95" y="38"/>
                      </a:lnTo>
                      <a:lnTo>
                        <a:pt x="76" y="57"/>
                      </a:lnTo>
                      <a:lnTo>
                        <a:pt x="47" y="86"/>
                      </a:lnTo>
                      <a:lnTo>
                        <a:pt x="28" y="105"/>
                      </a:lnTo>
                      <a:lnTo>
                        <a:pt x="9" y="124"/>
                      </a:lnTo>
                      <a:lnTo>
                        <a:pt x="0" y="153"/>
                      </a:lnTo>
                      <a:lnTo>
                        <a:pt x="0" y="153"/>
                      </a:lnTo>
                      <a:lnTo>
                        <a:pt x="28" y="182"/>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01" name=""/>
                <p:cNvSpPr/>
                <p:nvPr/>
              </p:nvSpPr>
              <p:spPr>
                <a:xfrm rot="21021600">
                  <a:off x="3684240" y="3307680"/>
                  <a:ext cx="48960" cy="122040"/>
                </a:xfrm>
                <a:custGeom>
                  <a:avLst/>
                  <a:gdLst/>
                  <a:ahLst/>
                  <a:rect l="l" t="t" r="r" b="b"/>
                  <a:pathLst>
                    <a:path w="114" h="240">
                      <a:moveTo>
                        <a:pt x="28" y="240"/>
                      </a:moveTo>
                      <a:lnTo>
                        <a:pt x="47" y="211"/>
                      </a:lnTo>
                      <a:lnTo>
                        <a:pt x="47" y="183"/>
                      </a:lnTo>
                      <a:lnTo>
                        <a:pt x="47" y="154"/>
                      </a:lnTo>
                      <a:lnTo>
                        <a:pt x="57" y="135"/>
                      </a:lnTo>
                      <a:lnTo>
                        <a:pt x="66" y="106"/>
                      </a:lnTo>
                      <a:lnTo>
                        <a:pt x="76" y="87"/>
                      </a:lnTo>
                      <a:lnTo>
                        <a:pt x="86" y="67"/>
                      </a:lnTo>
                      <a:lnTo>
                        <a:pt x="105" y="48"/>
                      </a:lnTo>
                      <a:lnTo>
                        <a:pt x="114" y="29"/>
                      </a:lnTo>
                      <a:lnTo>
                        <a:pt x="86" y="0"/>
                      </a:lnTo>
                      <a:lnTo>
                        <a:pt x="66" y="19"/>
                      </a:lnTo>
                      <a:lnTo>
                        <a:pt x="47" y="48"/>
                      </a:lnTo>
                      <a:lnTo>
                        <a:pt x="38" y="67"/>
                      </a:lnTo>
                      <a:lnTo>
                        <a:pt x="28" y="96"/>
                      </a:lnTo>
                      <a:lnTo>
                        <a:pt x="19" y="125"/>
                      </a:lnTo>
                      <a:lnTo>
                        <a:pt x="9" y="154"/>
                      </a:lnTo>
                      <a:lnTo>
                        <a:pt x="0" y="183"/>
                      </a:lnTo>
                      <a:lnTo>
                        <a:pt x="0" y="221"/>
                      </a:lnTo>
                      <a:lnTo>
                        <a:pt x="28" y="192"/>
                      </a:lnTo>
                      <a:lnTo>
                        <a:pt x="2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rot="21021600">
                  <a:off x="3564000" y="3418200"/>
                  <a:ext cx="148320" cy="102600"/>
                </a:xfrm>
                <a:custGeom>
                  <a:avLst/>
                  <a:gdLst/>
                  <a:ahLst/>
                  <a:rect l="l" t="t" r="r" b="b"/>
                  <a:pathLst>
                    <a:path w="344" h="202">
                      <a:moveTo>
                        <a:pt x="38" y="202"/>
                      </a:moveTo>
                      <a:lnTo>
                        <a:pt x="38" y="202"/>
                      </a:lnTo>
                      <a:lnTo>
                        <a:pt x="48" y="182"/>
                      </a:lnTo>
                      <a:lnTo>
                        <a:pt x="67" y="173"/>
                      </a:lnTo>
                      <a:lnTo>
                        <a:pt x="77" y="154"/>
                      </a:lnTo>
                      <a:lnTo>
                        <a:pt x="96" y="134"/>
                      </a:lnTo>
                      <a:lnTo>
                        <a:pt x="105" y="125"/>
                      </a:lnTo>
                      <a:lnTo>
                        <a:pt x="124" y="115"/>
                      </a:lnTo>
                      <a:lnTo>
                        <a:pt x="143" y="106"/>
                      </a:lnTo>
                      <a:lnTo>
                        <a:pt x="163" y="96"/>
                      </a:lnTo>
                      <a:lnTo>
                        <a:pt x="182" y="86"/>
                      </a:lnTo>
                      <a:lnTo>
                        <a:pt x="201" y="77"/>
                      </a:lnTo>
                      <a:lnTo>
                        <a:pt x="220" y="67"/>
                      </a:lnTo>
                      <a:lnTo>
                        <a:pt x="249" y="58"/>
                      </a:lnTo>
                      <a:lnTo>
                        <a:pt x="268" y="58"/>
                      </a:lnTo>
                      <a:lnTo>
                        <a:pt x="296" y="48"/>
                      </a:lnTo>
                      <a:lnTo>
                        <a:pt x="316" y="48"/>
                      </a:lnTo>
                      <a:lnTo>
                        <a:pt x="344" y="48"/>
                      </a:lnTo>
                      <a:lnTo>
                        <a:pt x="344" y="0"/>
                      </a:lnTo>
                      <a:lnTo>
                        <a:pt x="316" y="10"/>
                      </a:lnTo>
                      <a:lnTo>
                        <a:pt x="287" y="10"/>
                      </a:lnTo>
                      <a:lnTo>
                        <a:pt x="258" y="10"/>
                      </a:lnTo>
                      <a:lnTo>
                        <a:pt x="239" y="19"/>
                      </a:lnTo>
                      <a:lnTo>
                        <a:pt x="210" y="29"/>
                      </a:lnTo>
                      <a:lnTo>
                        <a:pt x="191" y="38"/>
                      </a:lnTo>
                      <a:lnTo>
                        <a:pt x="163" y="38"/>
                      </a:lnTo>
                      <a:lnTo>
                        <a:pt x="143" y="58"/>
                      </a:lnTo>
                      <a:lnTo>
                        <a:pt x="124" y="67"/>
                      </a:lnTo>
                      <a:lnTo>
                        <a:pt x="105" y="77"/>
                      </a:lnTo>
                      <a:lnTo>
                        <a:pt x="86" y="96"/>
                      </a:lnTo>
                      <a:lnTo>
                        <a:pt x="67" y="106"/>
                      </a:lnTo>
                      <a:lnTo>
                        <a:pt x="48" y="125"/>
                      </a:lnTo>
                      <a:lnTo>
                        <a:pt x="29" y="144"/>
                      </a:lnTo>
                      <a:lnTo>
                        <a:pt x="19" y="163"/>
                      </a:lnTo>
                      <a:lnTo>
                        <a:pt x="0" y="182"/>
                      </a:lnTo>
                      <a:lnTo>
                        <a:pt x="0" y="182"/>
                      </a:lnTo>
                      <a:lnTo>
                        <a:pt x="38"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21021600">
                  <a:off x="3555000" y="3522600"/>
                  <a:ext cx="48960" cy="190800"/>
                </a:xfrm>
                <a:custGeom>
                  <a:avLst/>
                  <a:gdLst/>
                  <a:ahLst/>
                  <a:rect l="l" t="t" r="r" b="b"/>
                  <a:pathLst>
                    <a:path w="114" h="375">
                      <a:moveTo>
                        <a:pt x="86" y="375"/>
                      </a:moveTo>
                      <a:lnTo>
                        <a:pt x="86" y="346"/>
                      </a:lnTo>
                      <a:lnTo>
                        <a:pt x="67" y="308"/>
                      </a:lnTo>
                      <a:lnTo>
                        <a:pt x="47" y="260"/>
                      </a:lnTo>
                      <a:lnTo>
                        <a:pt x="47" y="221"/>
                      </a:lnTo>
                      <a:lnTo>
                        <a:pt x="47" y="173"/>
                      </a:lnTo>
                      <a:lnTo>
                        <a:pt x="57" y="135"/>
                      </a:lnTo>
                      <a:lnTo>
                        <a:pt x="76" y="96"/>
                      </a:lnTo>
                      <a:lnTo>
                        <a:pt x="86" y="58"/>
                      </a:lnTo>
                      <a:lnTo>
                        <a:pt x="114" y="20"/>
                      </a:lnTo>
                      <a:lnTo>
                        <a:pt x="76" y="0"/>
                      </a:lnTo>
                      <a:lnTo>
                        <a:pt x="57" y="39"/>
                      </a:lnTo>
                      <a:lnTo>
                        <a:pt x="28" y="77"/>
                      </a:lnTo>
                      <a:lnTo>
                        <a:pt x="19" y="125"/>
                      </a:lnTo>
                      <a:lnTo>
                        <a:pt x="0" y="173"/>
                      </a:lnTo>
                      <a:lnTo>
                        <a:pt x="0" y="221"/>
                      </a:lnTo>
                      <a:lnTo>
                        <a:pt x="9" y="269"/>
                      </a:lnTo>
                      <a:lnTo>
                        <a:pt x="19" y="317"/>
                      </a:lnTo>
                      <a:lnTo>
                        <a:pt x="47" y="375"/>
                      </a:lnTo>
                      <a:lnTo>
                        <a:pt x="47" y="346"/>
                      </a:lnTo>
                      <a:lnTo>
                        <a:pt x="86"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rot="21021600">
                  <a:off x="3564720" y="3699360"/>
                  <a:ext cx="54000" cy="146520"/>
                </a:xfrm>
                <a:custGeom>
                  <a:avLst/>
                  <a:gdLst/>
                  <a:ahLst/>
                  <a:rect l="l" t="t" r="r" b="b"/>
                  <a:pathLst>
                    <a:path w="125" h="288">
                      <a:moveTo>
                        <a:pt x="58" y="278"/>
                      </a:moveTo>
                      <a:lnTo>
                        <a:pt x="58" y="278"/>
                      </a:lnTo>
                      <a:lnTo>
                        <a:pt x="48" y="250"/>
                      </a:lnTo>
                      <a:lnTo>
                        <a:pt x="48" y="211"/>
                      </a:lnTo>
                      <a:lnTo>
                        <a:pt x="48" y="182"/>
                      </a:lnTo>
                      <a:lnTo>
                        <a:pt x="58" y="154"/>
                      </a:lnTo>
                      <a:lnTo>
                        <a:pt x="67" y="125"/>
                      </a:lnTo>
                      <a:lnTo>
                        <a:pt x="86" y="86"/>
                      </a:lnTo>
                      <a:lnTo>
                        <a:pt x="106" y="58"/>
                      </a:lnTo>
                      <a:lnTo>
                        <a:pt x="125" y="29"/>
                      </a:lnTo>
                      <a:lnTo>
                        <a:pt x="86" y="0"/>
                      </a:lnTo>
                      <a:lnTo>
                        <a:pt x="67" y="38"/>
                      </a:lnTo>
                      <a:lnTo>
                        <a:pt x="48" y="67"/>
                      </a:lnTo>
                      <a:lnTo>
                        <a:pt x="29" y="106"/>
                      </a:lnTo>
                      <a:lnTo>
                        <a:pt x="19" y="144"/>
                      </a:lnTo>
                      <a:lnTo>
                        <a:pt x="10" y="173"/>
                      </a:lnTo>
                      <a:lnTo>
                        <a:pt x="0" y="211"/>
                      </a:lnTo>
                      <a:lnTo>
                        <a:pt x="0" y="250"/>
                      </a:lnTo>
                      <a:lnTo>
                        <a:pt x="10" y="288"/>
                      </a:lnTo>
                      <a:lnTo>
                        <a:pt x="10" y="288"/>
                      </a:lnTo>
                      <a:lnTo>
                        <a:pt x="58"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1021600">
                  <a:off x="3586320" y="3834720"/>
                  <a:ext cx="98640" cy="78120"/>
                </a:xfrm>
                <a:custGeom>
                  <a:avLst/>
                  <a:gdLst/>
                  <a:ahLst/>
                  <a:rect l="l" t="t" r="r" b="b"/>
                  <a:pathLst>
                    <a:path w="229" h="154">
                      <a:moveTo>
                        <a:pt x="229" y="144"/>
                      </a:moveTo>
                      <a:lnTo>
                        <a:pt x="210" y="116"/>
                      </a:lnTo>
                      <a:lnTo>
                        <a:pt x="191" y="116"/>
                      </a:lnTo>
                      <a:lnTo>
                        <a:pt x="172" y="116"/>
                      </a:lnTo>
                      <a:lnTo>
                        <a:pt x="162" y="106"/>
                      </a:lnTo>
                      <a:lnTo>
                        <a:pt x="143" y="106"/>
                      </a:lnTo>
                      <a:lnTo>
                        <a:pt x="134" y="96"/>
                      </a:lnTo>
                      <a:lnTo>
                        <a:pt x="115" y="96"/>
                      </a:lnTo>
                      <a:lnTo>
                        <a:pt x="105" y="87"/>
                      </a:lnTo>
                      <a:lnTo>
                        <a:pt x="96" y="77"/>
                      </a:lnTo>
                      <a:lnTo>
                        <a:pt x="86" y="68"/>
                      </a:lnTo>
                      <a:lnTo>
                        <a:pt x="76" y="68"/>
                      </a:lnTo>
                      <a:lnTo>
                        <a:pt x="76" y="58"/>
                      </a:lnTo>
                      <a:lnTo>
                        <a:pt x="67" y="48"/>
                      </a:lnTo>
                      <a:lnTo>
                        <a:pt x="57" y="39"/>
                      </a:lnTo>
                      <a:lnTo>
                        <a:pt x="48" y="20"/>
                      </a:lnTo>
                      <a:lnTo>
                        <a:pt x="48" y="10"/>
                      </a:lnTo>
                      <a:lnTo>
                        <a:pt x="48" y="0"/>
                      </a:lnTo>
                      <a:lnTo>
                        <a:pt x="0" y="10"/>
                      </a:lnTo>
                      <a:lnTo>
                        <a:pt x="9" y="29"/>
                      </a:lnTo>
                      <a:lnTo>
                        <a:pt x="9" y="39"/>
                      </a:lnTo>
                      <a:lnTo>
                        <a:pt x="19" y="58"/>
                      </a:lnTo>
                      <a:lnTo>
                        <a:pt x="29" y="68"/>
                      </a:lnTo>
                      <a:lnTo>
                        <a:pt x="38" y="77"/>
                      </a:lnTo>
                      <a:lnTo>
                        <a:pt x="48" y="96"/>
                      </a:lnTo>
                      <a:lnTo>
                        <a:pt x="57" y="106"/>
                      </a:lnTo>
                      <a:lnTo>
                        <a:pt x="76" y="116"/>
                      </a:lnTo>
                      <a:lnTo>
                        <a:pt x="86" y="125"/>
                      </a:lnTo>
                      <a:lnTo>
                        <a:pt x="105" y="135"/>
                      </a:lnTo>
                      <a:lnTo>
                        <a:pt x="115" y="144"/>
                      </a:lnTo>
                      <a:lnTo>
                        <a:pt x="134" y="144"/>
                      </a:lnTo>
                      <a:lnTo>
                        <a:pt x="153" y="154"/>
                      </a:lnTo>
                      <a:lnTo>
                        <a:pt x="172" y="154"/>
                      </a:lnTo>
                      <a:lnTo>
                        <a:pt x="191" y="154"/>
                      </a:lnTo>
                      <a:lnTo>
                        <a:pt x="210" y="154"/>
                      </a:lnTo>
                      <a:lnTo>
                        <a:pt x="191" y="125"/>
                      </a:lnTo>
                      <a:lnTo>
                        <a:pt x="229" y="14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6" name=""/>
                <p:cNvSpPr/>
                <p:nvPr/>
              </p:nvSpPr>
              <p:spPr>
                <a:xfrm rot="21021600">
                  <a:off x="3673440" y="3890520"/>
                  <a:ext cx="28800" cy="112320"/>
                </a:xfrm>
                <a:custGeom>
                  <a:avLst/>
                  <a:gdLst/>
                  <a:ahLst/>
                  <a:rect l="l" t="t" r="r" b="b"/>
                  <a:pathLst>
                    <a:path w="67" h="221">
                      <a:moveTo>
                        <a:pt x="67" y="192"/>
                      </a:moveTo>
                      <a:lnTo>
                        <a:pt x="67" y="192"/>
                      </a:lnTo>
                      <a:lnTo>
                        <a:pt x="57" y="173"/>
                      </a:lnTo>
                      <a:lnTo>
                        <a:pt x="48" y="154"/>
                      </a:lnTo>
                      <a:lnTo>
                        <a:pt x="48" y="135"/>
                      </a:lnTo>
                      <a:lnTo>
                        <a:pt x="38" y="106"/>
                      </a:lnTo>
                      <a:lnTo>
                        <a:pt x="38" y="87"/>
                      </a:lnTo>
                      <a:lnTo>
                        <a:pt x="48" y="58"/>
                      </a:lnTo>
                      <a:lnTo>
                        <a:pt x="48" y="39"/>
                      </a:lnTo>
                      <a:lnTo>
                        <a:pt x="57" y="19"/>
                      </a:lnTo>
                      <a:lnTo>
                        <a:pt x="19" y="0"/>
                      </a:lnTo>
                      <a:lnTo>
                        <a:pt x="10" y="29"/>
                      </a:lnTo>
                      <a:lnTo>
                        <a:pt x="0" y="58"/>
                      </a:lnTo>
                      <a:lnTo>
                        <a:pt x="0" y="87"/>
                      </a:lnTo>
                      <a:lnTo>
                        <a:pt x="0" y="106"/>
                      </a:lnTo>
                      <a:lnTo>
                        <a:pt x="0" y="135"/>
                      </a:lnTo>
                      <a:lnTo>
                        <a:pt x="10" y="163"/>
                      </a:lnTo>
                      <a:lnTo>
                        <a:pt x="19" y="192"/>
                      </a:lnTo>
                      <a:lnTo>
                        <a:pt x="38" y="221"/>
                      </a:lnTo>
                      <a:lnTo>
                        <a:pt x="38" y="221"/>
                      </a:lnTo>
                      <a:lnTo>
                        <a:pt x="6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rot="21021600">
                  <a:off x="3699720" y="3980880"/>
                  <a:ext cx="74160" cy="38880"/>
                </a:xfrm>
                <a:custGeom>
                  <a:avLst/>
                  <a:gdLst/>
                  <a:ahLst/>
                  <a:rect l="l" t="t" r="r" b="b"/>
                  <a:pathLst>
                    <a:path w="172" h="77">
                      <a:moveTo>
                        <a:pt x="172" y="58"/>
                      </a:moveTo>
                      <a:lnTo>
                        <a:pt x="153" y="39"/>
                      </a:lnTo>
                      <a:lnTo>
                        <a:pt x="134" y="39"/>
                      </a:lnTo>
                      <a:lnTo>
                        <a:pt x="125" y="39"/>
                      </a:lnTo>
                      <a:lnTo>
                        <a:pt x="96" y="29"/>
                      </a:lnTo>
                      <a:lnTo>
                        <a:pt x="86" y="29"/>
                      </a:lnTo>
                      <a:lnTo>
                        <a:pt x="67" y="29"/>
                      </a:lnTo>
                      <a:lnTo>
                        <a:pt x="58" y="19"/>
                      </a:lnTo>
                      <a:lnTo>
                        <a:pt x="38" y="10"/>
                      </a:lnTo>
                      <a:lnTo>
                        <a:pt x="29" y="0"/>
                      </a:lnTo>
                      <a:lnTo>
                        <a:pt x="0" y="29"/>
                      </a:lnTo>
                      <a:lnTo>
                        <a:pt x="10" y="39"/>
                      </a:lnTo>
                      <a:lnTo>
                        <a:pt x="29" y="58"/>
                      </a:lnTo>
                      <a:lnTo>
                        <a:pt x="48" y="67"/>
                      </a:lnTo>
                      <a:lnTo>
                        <a:pt x="77" y="67"/>
                      </a:lnTo>
                      <a:lnTo>
                        <a:pt x="96" y="77"/>
                      </a:lnTo>
                      <a:lnTo>
                        <a:pt x="115" y="77"/>
                      </a:lnTo>
                      <a:lnTo>
                        <a:pt x="134" y="77"/>
                      </a:lnTo>
                      <a:lnTo>
                        <a:pt x="153" y="77"/>
                      </a:lnTo>
                      <a:lnTo>
                        <a:pt x="134" y="58"/>
                      </a:lnTo>
                      <a:lnTo>
                        <a:pt x="172" y="5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08" name=""/>
                <p:cNvSpPr/>
                <p:nvPr/>
              </p:nvSpPr>
              <p:spPr>
                <a:xfrm rot="21021600">
                  <a:off x="3764520" y="3998520"/>
                  <a:ext cx="95040" cy="77760"/>
                </a:xfrm>
                <a:custGeom>
                  <a:avLst/>
                  <a:gdLst/>
                  <a:ahLst/>
                  <a:rect l="l" t="t" r="r" b="b"/>
                  <a:pathLst>
                    <a:path w="220" h="153">
                      <a:moveTo>
                        <a:pt x="220" y="105"/>
                      </a:moveTo>
                      <a:lnTo>
                        <a:pt x="220" y="105"/>
                      </a:lnTo>
                      <a:lnTo>
                        <a:pt x="210" y="105"/>
                      </a:lnTo>
                      <a:lnTo>
                        <a:pt x="191" y="105"/>
                      </a:lnTo>
                      <a:lnTo>
                        <a:pt x="172" y="105"/>
                      </a:lnTo>
                      <a:lnTo>
                        <a:pt x="163" y="105"/>
                      </a:lnTo>
                      <a:lnTo>
                        <a:pt x="143" y="105"/>
                      </a:lnTo>
                      <a:lnTo>
                        <a:pt x="124" y="96"/>
                      </a:lnTo>
                      <a:lnTo>
                        <a:pt x="115" y="96"/>
                      </a:lnTo>
                      <a:lnTo>
                        <a:pt x="96" y="86"/>
                      </a:lnTo>
                      <a:lnTo>
                        <a:pt x="86" y="86"/>
                      </a:lnTo>
                      <a:lnTo>
                        <a:pt x="77" y="77"/>
                      </a:lnTo>
                      <a:lnTo>
                        <a:pt x="67" y="67"/>
                      </a:lnTo>
                      <a:lnTo>
                        <a:pt x="57" y="57"/>
                      </a:lnTo>
                      <a:lnTo>
                        <a:pt x="48" y="48"/>
                      </a:lnTo>
                      <a:lnTo>
                        <a:pt x="48" y="38"/>
                      </a:lnTo>
                      <a:lnTo>
                        <a:pt x="48" y="19"/>
                      </a:lnTo>
                      <a:lnTo>
                        <a:pt x="38" y="0"/>
                      </a:lnTo>
                      <a:lnTo>
                        <a:pt x="0" y="0"/>
                      </a:lnTo>
                      <a:lnTo>
                        <a:pt x="0" y="19"/>
                      </a:lnTo>
                      <a:lnTo>
                        <a:pt x="10" y="48"/>
                      </a:lnTo>
                      <a:lnTo>
                        <a:pt x="10" y="67"/>
                      </a:lnTo>
                      <a:lnTo>
                        <a:pt x="19" y="77"/>
                      </a:lnTo>
                      <a:lnTo>
                        <a:pt x="38" y="96"/>
                      </a:lnTo>
                      <a:lnTo>
                        <a:pt x="48" y="105"/>
                      </a:lnTo>
                      <a:lnTo>
                        <a:pt x="67" y="125"/>
                      </a:lnTo>
                      <a:lnTo>
                        <a:pt x="77" y="125"/>
                      </a:lnTo>
                      <a:lnTo>
                        <a:pt x="96" y="134"/>
                      </a:lnTo>
                      <a:lnTo>
                        <a:pt x="115" y="144"/>
                      </a:lnTo>
                      <a:lnTo>
                        <a:pt x="134" y="144"/>
                      </a:lnTo>
                      <a:lnTo>
                        <a:pt x="153" y="153"/>
                      </a:lnTo>
                      <a:lnTo>
                        <a:pt x="172" y="153"/>
                      </a:lnTo>
                      <a:lnTo>
                        <a:pt x="191" y="153"/>
                      </a:lnTo>
                      <a:lnTo>
                        <a:pt x="210" y="153"/>
                      </a:lnTo>
                      <a:lnTo>
                        <a:pt x="220" y="153"/>
                      </a:lnTo>
                      <a:lnTo>
                        <a:pt x="220" y="153"/>
                      </a:lnTo>
                      <a:lnTo>
                        <a:pt x="220" y="10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 name=""/>
                <p:cNvSpPr/>
                <p:nvPr/>
              </p:nvSpPr>
              <p:spPr>
                <a:xfrm rot="21021600">
                  <a:off x="3855600" y="3951000"/>
                  <a:ext cx="123480" cy="107280"/>
                </a:xfrm>
                <a:custGeom>
                  <a:avLst/>
                  <a:gdLst/>
                  <a:ahLst/>
                  <a:rect l="l" t="t" r="r" b="b"/>
                  <a:pathLst>
                    <a:path w="287" h="211">
                      <a:moveTo>
                        <a:pt x="287" y="10"/>
                      </a:moveTo>
                      <a:lnTo>
                        <a:pt x="258" y="0"/>
                      </a:lnTo>
                      <a:lnTo>
                        <a:pt x="239" y="10"/>
                      </a:lnTo>
                      <a:lnTo>
                        <a:pt x="229" y="29"/>
                      </a:lnTo>
                      <a:lnTo>
                        <a:pt x="210" y="39"/>
                      </a:lnTo>
                      <a:lnTo>
                        <a:pt x="201" y="58"/>
                      </a:lnTo>
                      <a:lnTo>
                        <a:pt x="182" y="67"/>
                      </a:lnTo>
                      <a:lnTo>
                        <a:pt x="162" y="87"/>
                      </a:lnTo>
                      <a:lnTo>
                        <a:pt x="153" y="96"/>
                      </a:lnTo>
                      <a:lnTo>
                        <a:pt x="134" y="106"/>
                      </a:lnTo>
                      <a:lnTo>
                        <a:pt x="115" y="125"/>
                      </a:lnTo>
                      <a:lnTo>
                        <a:pt x="105" y="135"/>
                      </a:lnTo>
                      <a:lnTo>
                        <a:pt x="86" y="144"/>
                      </a:lnTo>
                      <a:lnTo>
                        <a:pt x="67" y="154"/>
                      </a:lnTo>
                      <a:lnTo>
                        <a:pt x="57" y="154"/>
                      </a:lnTo>
                      <a:lnTo>
                        <a:pt x="38" y="163"/>
                      </a:lnTo>
                      <a:lnTo>
                        <a:pt x="19" y="163"/>
                      </a:lnTo>
                      <a:lnTo>
                        <a:pt x="0" y="163"/>
                      </a:lnTo>
                      <a:lnTo>
                        <a:pt x="0" y="211"/>
                      </a:lnTo>
                      <a:lnTo>
                        <a:pt x="29" y="211"/>
                      </a:lnTo>
                      <a:lnTo>
                        <a:pt x="48" y="202"/>
                      </a:lnTo>
                      <a:lnTo>
                        <a:pt x="67" y="202"/>
                      </a:lnTo>
                      <a:lnTo>
                        <a:pt x="86" y="192"/>
                      </a:lnTo>
                      <a:lnTo>
                        <a:pt x="105" y="183"/>
                      </a:lnTo>
                      <a:lnTo>
                        <a:pt x="124" y="173"/>
                      </a:lnTo>
                      <a:lnTo>
                        <a:pt x="143" y="154"/>
                      </a:lnTo>
                      <a:lnTo>
                        <a:pt x="162" y="144"/>
                      </a:lnTo>
                      <a:lnTo>
                        <a:pt x="182" y="125"/>
                      </a:lnTo>
                      <a:lnTo>
                        <a:pt x="191" y="115"/>
                      </a:lnTo>
                      <a:lnTo>
                        <a:pt x="210" y="106"/>
                      </a:lnTo>
                      <a:lnTo>
                        <a:pt x="229" y="87"/>
                      </a:lnTo>
                      <a:lnTo>
                        <a:pt x="239" y="67"/>
                      </a:lnTo>
                      <a:lnTo>
                        <a:pt x="258" y="58"/>
                      </a:lnTo>
                      <a:lnTo>
                        <a:pt x="268" y="39"/>
                      </a:lnTo>
                      <a:lnTo>
                        <a:pt x="287" y="29"/>
                      </a:lnTo>
                      <a:lnTo>
                        <a:pt x="249" y="19"/>
                      </a:lnTo>
                      <a:lnTo>
                        <a:pt x="28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rot="21021600">
                  <a:off x="3969360" y="3940920"/>
                  <a:ext cx="77760" cy="185400"/>
                </a:xfrm>
                <a:custGeom>
                  <a:avLst/>
                  <a:gdLst/>
                  <a:ahLst/>
                  <a:rect l="l" t="t" r="r" b="b"/>
                  <a:pathLst>
                    <a:path w="181" h="365">
                      <a:moveTo>
                        <a:pt x="181" y="326"/>
                      </a:moveTo>
                      <a:lnTo>
                        <a:pt x="181" y="326"/>
                      </a:lnTo>
                      <a:lnTo>
                        <a:pt x="153" y="307"/>
                      </a:lnTo>
                      <a:lnTo>
                        <a:pt x="124" y="278"/>
                      </a:lnTo>
                      <a:lnTo>
                        <a:pt x="95" y="240"/>
                      </a:lnTo>
                      <a:lnTo>
                        <a:pt x="76" y="201"/>
                      </a:lnTo>
                      <a:lnTo>
                        <a:pt x="66" y="163"/>
                      </a:lnTo>
                      <a:lnTo>
                        <a:pt x="57" y="115"/>
                      </a:lnTo>
                      <a:lnTo>
                        <a:pt x="47" y="57"/>
                      </a:lnTo>
                      <a:lnTo>
                        <a:pt x="38" y="0"/>
                      </a:lnTo>
                      <a:lnTo>
                        <a:pt x="0" y="9"/>
                      </a:lnTo>
                      <a:lnTo>
                        <a:pt x="9" y="67"/>
                      </a:lnTo>
                      <a:lnTo>
                        <a:pt x="9" y="115"/>
                      </a:lnTo>
                      <a:lnTo>
                        <a:pt x="28" y="173"/>
                      </a:lnTo>
                      <a:lnTo>
                        <a:pt x="38" y="221"/>
                      </a:lnTo>
                      <a:lnTo>
                        <a:pt x="57" y="259"/>
                      </a:lnTo>
                      <a:lnTo>
                        <a:pt x="86" y="307"/>
                      </a:lnTo>
                      <a:lnTo>
                        <a:pt x="124" y="336"/>
                      </a:lnTo>
                      <a:lnTo>
                        <a:pt x="172" y="365"/>
                      </a:lnTo>
                      <a:lnTo>
                        <a:pt x="172" y="365"/>
                      </a:lnTo>
                      <a:lnTo>
                        <a:pt x="181" y="3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rot="21021600">
                  <a:off x="4052160" y="4033440"/>
                  <a:ext cx="160560" cy="82800"/>
                </a:xfrm>
                <a:custGeom>
                  <a:avLst/>
                  <a:gdLst/>
                  <a:ahLst/>
                  <a:rect l="l" t="t" r="r" b="b"/>
                  <a:pathLst>
                    <a:path w="372" h="163">
                      <a:moveTo>
                        <a:pt x="372" y="0"/>
                      </a:moveTo>
                      <a:lnTo>
                        <a:pt x="334" y="0"/>
                      </a:lnTo>
                      <a:lnTo>
                        <a:pt x="325" y="19"/>
                      </a:lnTo>
                      <a:lnTo>
                        <a:pt x="306" y="38"/>
                      </a:lnTo>
                      <a:lnTo>
                        <a:pt x="286" y="48"/>
                      </a:lnTo>
                      <a:lnTo>
                        <a:pt x="267" y="67"/>
                      </a:lnTo>
                      <a:lnTo>
                        <a:pt x="239" y="76"/>
                      </a:lnTo>
                      <a:lnTo>
                        <a:pt x="220" y="86"/>
                      </a:lnTo>
                      <a:lnTo>
                        <a:pt x="200" y="96"/>
                      </a:lnTo>
                      <a:lnTo>
                        <a:pt x="181" y="105"/>
                      </a:lnTo>
                      <a:lnTo>
                        <a:pt x="153" y="115"/>
                      </a:lnTo>
                      <a:lnTo>
                        <a:pt x="133" y="115"/>
                      </a:lnTo>
                      <a:lnTo>
                        <a:pt x="114" y="124"/>
                      </a:lnTo>
                      <a:lnTo>
                        <a:pt x="95" y="124"/>
                      </a:lnTo>
                      <a:lnTo>
                        <a:pt x="67" y="124"/>
                      </a:lnTo>
                      <a:lnTo>
                        <a:pt x="47" y="115"/>
                      </a:lnTo>
                      <a:lnTo>
                        <a:pt x="28" y="115"/>
                      </a:lnTo>
                      <a:lnTo>
                        <a:pt x="9" y="105"/>
                      </a:lnTo>
                      <a:lnTo>
                        <a:pt x="0" y="144"/>
                      </a:lnTo>
                      <a:lnTo>
                        <a:pt x="19" y="153"/>
                      </a:lnTo>
                      <a:lnTo>
                        <a:pt x="47" y="163"/>
                      </a:lnTo>
                      <a:lnTo>
                        <a:pt x="67" y="163"/>
                      </a:lnTo>
                      <a:lnTo>
                        <a:pt x="95" y="163"/>
                      </a:lnTo>
                      <a:lnTo>
                        <a:pt x="114" y="163"/>
                      </a:lnTo>
                      <a:lnTo>
                        <a:pt x="143" y="163"/>
                      </a:lnTo>
                      <a:lnTo>
                        <a:pt x="172" y="153"/>
                      </a:lnTo>
                      <a:lnTo>
                        <a:pt x="191" y="144"/>
                      </a:lnTo>
                      <a:lnTo>
                        <a:pt x="220" y="134"/>
                      </a:lnTo>
                      <a:lnTo>
                        <a:pt x="239" y="124"/>
                      </a:lnTo>
                      <a:lnTo>
                        <a:pt x="267" y="115"/>
                      </a:lnTo>
                      <a:lnTo>
                        <a:pt x="286" y="96"/>
                      </a:lnTo>
                      <a:lnTo>
                        <a:pt x="306" y="86"/>
                      </a:lnTo>
                      <a:lnTo>
                        <a:pt x="334" y="67"/>
                      </a:lnTo>
                      <a:lnTo>
                        <a:pt x="353" y="48"/>
                      </a:lnTo>
                      <a:lnTo>
                        <a:pt x="372" y="28"/>
                      </a:lnTo>
                      <a:lnTo>
                        <a:pt x="334" y="28"/>
                      </a:lnTo>
                      <a:lnTo>
                        <a:pt x="37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2" name=""/>
                <p:cNvSpPr/>
                <p:nvPr/>
              </p:nvSpPr>
              <p:spPr>
                <a:xfrm rot="21021600">
                  <a:off x="4191120" y="4013640"/>
                  <a:ext cx="111240" cy="43560"/>
                </a:xfrm>
                <a:custGeom>
                  <a:avLst/>
                  <a:gdLst/>
                  <a:ahLst/>
                  <a:rect l="l" t="t" r="r" b="b"/>
                  <a:pathLst>
                    <a:path w="258" h="86">
                      <a:moveTo>
                        <a:pt x="249" y="38"/>
                      </a:moveTo>
                      <a:lnTo>
                        <a:pt x="249" y="38"/>
                      </a:lnTo>
                      <a:lnTo>
                        <a:pt x="230" y="38"/>
                      </a:lnTo>
                      <a:lnTo>
                        <a:pt x="220" y="38"/>
                      </a:lnTo>
                      <a:lnTo>
                        <a:pt x="211" y="48"/>
                      </a:lnTo>
                      <a:lnTo>
                        <a:pt x="191" y="48"/>
                      </a:lnTo>
                      <a:lnTo>
                        <a:pt x="182" y="48"/>
                      </a:lnTo>
                      <a:lnTo>
                        <a:pt x="163" y="48"/>
                      </a:lnTo>
                      <a:lnTo>
                        <a:pt x="153" y="48"/>
                      </a:lnTo>
                      <a:lnTo>
                        <a:pt x="134" y="38"/>
                      </a:lnTo>
                      <a:lnTo>
                        <a:pt x="115" y="38"/>
                      </a:lnTo>
                      <a:lnTo>
                        <a:pt x="105" y="38"/>
                      </a:lnTo>
                      <a:lnTo>
                        <a:pt x="86" y="28"/>
                      </a:lnTo>
                      <a:lnTo>
                        <a:pt x="77" y="28"/>
                      </a:lnTo>
                      <a:lnTo>
                        <a:pt x="67" y="19"/>
                      </a:lnTo>
                      <a:lnTo>
                        <a:pt x="58" y="9"/>
                      </a:lnTo>
                      <a:lnTo>
                        <a:pt x="48" y="9"/>
                      </a:lnTo>
                      <a:lnTo>
                        <a:pt x="38" y="0"/>
                      </a:lnTo>
                      <a:lnTo>
                        <a:pt x="0" y="28"/>
                      </a:lnTo>
                      <a:lnTo>
                        <a:pt x="19" y="38"/>
                      </a:lnTo>
                      <a:lnTo>
                        <a:pt x="29" y="48"/>
                      </a:lnTo>
                      <a:lnTo>
                        <a:pt x="48" y="57"/>
                      </a:lnTo>
                      <a:lnTo>
                        <a:pt x="58" y="67"/>
                      </a:lnTo>
                      <a:lnTo>
                        <a:pt x="77" y="76"/>
                      </a:lnTo>
                      <a:lnTo>
                        <a:pt x="96" y="76"/>
                      </a:lnTo>
                      <a:lnTo>
                        <a:pt x="105" y="76"/>
                      </a:lnTo>
                      <a:lnTo>
                        <a:pt x="125" y="86"/>
                      </a:lnTo>
                      <a:lnTo>
                        <a:pt x="144" y="86"/>
                      </a:lnTo>
                      <a:lnTo>
                        <a:pt x="163" y="86"/>
                      </a:lnTo>
                      <a:lnTo>
                        <a:pt x="182" y="86"/>
                      </a:lnTo>
                      <a:lnTo>
                        <a:pt x="191" y="86"/>
                      </a:lnTo>
                      <a:lnTo>
                        <a:pt x="211" y="86"/>
                      </a:lnTo>
                      <a:lnTo>
                        <a:pt x="230" y="86"/>
                      </a:lnTo>
                      <a:lnTo>
                        <a:pt x="239" y="86"/>
                      </a:lnTo>
                      <a:lnTo>
                        <a:pt x="258" y="76"/>
                      </a:lnTo>
                      <a:lnTo>
                        <a:pt x="258" y="76"/>
                      </a:lnTo>
                      <a:lnTo>
                        <a:pt x="249" y="3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3" name=""/>
                <p:cNvSpPr/>
                <p:nvPr/>
              </p:nvSpPr>
              <p:spPr>
                <a:xfrm rot="21021600">
                  <a:off x="4292280" y="3942000"/>
                  <a:ext cx="111240" cy="92520"/>
                </a:xfrm>
                <a:custGeom>
                  <a:avLst/>
                  <a:gdLst/>
                  <a:ahLst/>
                  <a:rect l="l" t="t" r="r" b="b"/>
                  <a:pathLst>
                    <a:path w="258" h="182">
                      <a:moveTo>
                        <a:pt x="258" y="10"/>
                      </a:moveTo>
                      <a:lnTo>
                        <a:pt x="220" y="0"/>
                      </a:lnTo>
                      <a:lnTo>
                        <a:pt x="210" y="19"/>
                      </a:lnTo>
                      <a:lnTo>
                        <a:pt x="201" y="29"/>
                      </a:lnTo>
                      <a:lnTo>
                        <a:pt x="181" y="48"/>
                      </a:lnTo>
                      <a:lnTo>
                        <a:pt x="172" y="58"/>
                      </a:lnTo>
                      <a:lnTo>
                        <a:pt x="162" y="67"/>
                      </a:lnTo>
                      <a:lnTo>
                        <a:pt x="143" y="77"/>
                      </a:lnTo>
                      <a:lnTo>
                        <a:pt x="134" y="86"/>
                      </a:lnTo>
                      <a:lnTo>
                        <a:pt x="115" y="96"/>
                      </a:lnTo>
                      <a:lnTo>
                        <a:pt x="105" y="106"/>
                      </a:lnTo>
                      <a:lnTo>
                        <a:pt x="86" y="115"/>
                      </a:lnTo>
                      <a:lnTo>
                        <a:pt x="76" y="115"/>
                      </a:lnTo>
                      <a:lnTo>
                        <a:pt x="57" y="125"/>
                      </a:lnTo>
                      <a:lnTo>
                        <a:pt x="48" y="134"/>
                      </a:lnTo>
                      <a:lnTo>
                        <a:pt x="28" y="134"/>
                      </a:lnTo>
                      <a:lnTo>
                        <a:pt x="19" y="144"/>
                      </a:lnTo>
                      <a:lnTo>
                        <a:pt x="0" y="144"/>
                      </a:lnTo>
                      <a:lnTo>
                        <a:pt x="9" y="182"/>
                      </a:lnTo>
                      <a:lnTo>
                        <a:pt x="28" y="182"/>
                      </a:lnTo>
                      <a:lnTo>
                        <a:pt x="38" y="173"/>
                      </a:lnTo>
                      <a:lnTo>
                        <a:pt x="57" y="173"/>
                      </a:lnTo>
                      <a:lnTo>
                        <a:pt x="76" y="163"/>
                      </a:lnTo>
                      <a:lnTo>
                        <a:pt x="95" y="154"/>
                      </a:lnTo>
                      <a:lnTo>
                        <a:pt x="105" y="154"/>
                      </a:lnTo>
                      <a:lnTo>
                        <a:pt x="124" y="144"/>
                      </a:lnTo>
                      <a:lnTo>
                        <a:pt x="143" y="134"/>
                      </a:lnTo>
                      <a:lnTo>
                        <a:pt x="153" y="125"/>
                      </a:lnTo>
                      <a:lnTo>
                        <a:pt x="172" y="115"/>
                      </a:lnTo>
                      <a:lnTo>
                        <a:pt x="181" y="96"/>
                      </a:lnTo>
                      <a:lnTo>
                        <a:pt x="201" y="86"/>
                      </a:lnTo>
                      <a:lnTo>
                        <a:pt x="210" y="77"/>
                      </a:lnTo>
                      <a:lnTo>
                        <a:pt x="229" y="58"/>
                      </a:lnTo>
                      <a:lnTo>
                        <a:pt x="239" y="48"/>
                      </a:lnTo>
                      <a:lnTo>
                        <a:pt x="258" y="29"/>
                      </a:lnTo>
                      <a:lnTo>
                        <a:pt x="220" y="19"/>
                      </a:lnTo>
                      <a:lnTo>
                        <a:pt x="258" y="1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14" name=""/>
                <p:cNvSpPr/>
                <p:nvPr/>
              </p:nvSpPr>
              <p:spPr>
                <a:xfrm rot="21021600">
                  <a:off x="4391280" y="3932640"/>
                  <a:ext cx="86040" cy="141480"/>
                </a:xfrm>
                <a:custGeom>
                  <a:avLst/>
                  <a:gdLst/>
                  <a:ahLst/>
                  <a:rect l="l" t="t" r="r" b="b"/>
                  <a:pathLst>
                    <a:path w="200" h="278">
                      <a:moveTo>
                        <a:pt x="200" y="240"/>
                      </a:moveTo>
                      <a:lnTo>
                        <a:pt x="200" y="240"/>
                      </a:lnTo>
                      <a:lnTo>
                        <a:pt x="172" y="220"/>
                      </a:lnTo>
                      <a:lnTo>
                        <a:pt x="143" y="201"/>
                      </a:lnTo>
                      <a:lnTo>
                        <a:pt x="124" y="182"/>
                      </a:lnTo>
                      <a:lnTo>
                        <a:pt x="95" y="153"/>
                      </a:lnTo>
                      <a:lnTo>
                        <a:pt x="76" y="115"/>
                      </a:lnTo>
                      <a:lnTo>
                        <a:pt x="67" y="76"/>
                      </a:lnTo>
                      <a:lnTo>
                        <a:pt x="48" y="48"/>
                      </a:lnTo>
                      <a:lnTo>
                        <a:pt x="38" y="0"/>
                      </a:lnTo>
                      <a:lnTo>
                        <a:pt x="0" y="9"/>
                      </a:lnTo>
                      <a:lnTo>
                        <a:pt x="9" y="57"/>
                      </a:lnTo>
                      <a:lnTo>
                        <a:pt x="19" y="96"/>
                      </a:lnTo>
                      <a:lnTo>
                        <a:pt x="38" y="134"/>
                      </a:lnTo>
                      <a:lnTo>
                        <a:pt x="67" y="172"/>
                      </a:lnTo>
                      <a:lnTo>
                        <a:pt x="86" y="211"/>
                      </a:lnTo>
                      <a:lnTo>
                        <a:pt x="124" y="240"/>
                      </a:lnTo>
                      <a:lnTo>
                        <a:pt x="153" y="259"/>
                      </a:lnTo>
                      <a:lnTo>
                        <a:pt x="181" y="278"/>
                      </a:lnTo>
                      <a:lnTo>
                        <a:pt x="181" y="278"/>
                      </a:lnTo>
                      <a:lnTo>
                        <a:pt x="20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rot="21021600">
                  <a:off x="4477680" y="4014720"/>
                  <a:ext cx="165240" cy="54000"/>
                </a:xfrm>
                <a:custGeom>
                  <a:avLst/>
                  <a:gdLst/>
                  <a:ahLst/>
                  <a:rect l="l" t="t" r="r" b="b"/>
                  <a:pathLst>
                    <a:path w="383" h="106">
                      <a:moveTo>
                        <a:pt x="383" y="0"/>
                      </a:moveTo>
                      <a:lnTo>
                        <a:pt x="364" y="0"/>
                      </a:lnTo>
                      <a:lnTo>
                        <a:pt x="345" y="10"/>
                      </a:lnTo>
                      <a:lnTo>
                        <a:pt x="325" y="19"/>
                      </a:lnTo>
                      <a:lnTo>
                        <a:pt x="297" y="29"/>
                      </a:lnTo>
                      <a:lnTo>
                        <a:pt x="278" y="39"/>
                      </a:lnTo>
                      <a:lnTo>
                        <a:pt x="258" y="39"/>
                      </a:lnTo>
                      <a:lnTo>
                        <a:pt x="230" y="48"/>
                      </a:lnTo>
                      <a:lnTo>
                        <a:pt x="211" y="48"/>
                      </a:lnTo>
                      <a:lnTo>
                        <a:pt x="192" y="58"/>
                      </a:lnTo>
                      <a:lnTo>
                        <a:pt x="172" y="58"/>
                      </a:lnTo>
                      <a:lnTo>
                        <a:pt x="144" y="58"/>
                      </a:lnTo>
                      <a:lnTo>
                        <a:pt x="125" y="58"/>
                      </a:lnTo>
                      <a:lnTo>
                        <a:pt x="106" y="58"/>
                      </a:lnTo>
                      <a:lnTo>
                        <a:pt x="77" y="58"/>
                      </a:lnTo>
                      <a:lnTo>
                        <a:pt x="58" y="48"/>
                      </a:lnTo>
                      <a:lnTo>
                        <a:pt x="39" y="48"/>
                      </a:lnTo>
                      <a:lnTo>
                        <a:pt x="19" y="39"/>
                      </a:lnTo>
                      <a:lnTo>
                        <a:pt x="0" y="77"/>
                      </a:lnTo>
                      <a:lnTo>
                        <a:pt x="29" y="87"/>
                      </a:lnTo>
                      <a:lnTo>
                        <a:pt x="48" y="96"/>
                      </a:lnTo>
                      <a:lnTo>
                        <a:pt x="77" y="96"/>
                      </a:lnTo>
                      <a:lnTo>
                        <a:pt x="96" y="96"/>
                      </a:lnTo>
                      <a:lnTo>
                        <a:pt x="125" y="106"/>
                      </a:lnTo>
                      <a:lnTo>
                        <a:pt x="144" y="106"/>
                      </a:lnTo>
                      <a:lnTo>
                        <a:pt x="172" y="106"/>
                      </a:lnTo>
                      <a:lnTo>
                        <a:pt x="192" y="96"/>
                      </a:lnTo>
                      <a:lnTo>
                        <a:pt x="220" y="96"/>
                      </a:lnTo>
                      <a:lnTo>
                        <a:pt x="239" y="87"/>
                      </a:lnTo>
                      <a:lnTo>
                        <a:pt x="268" y="87"/>
                      </a:lnTo>
                      <a:lnTo>
                        <a:pt x="287" y="77"/>
                      </a:lnTo>
                      <a:lnTo>
                        <a:pt x="316" y="67"/>
                      </a:lnTo>
                      <a:lnTo>
                        <a:pt x="335" y="58"/>
                      </a:lnTo>
                      <a:lnTo>
                        <a:pt x="364" y="48"/>
                      </a:lnTo>
                      <a:lnTo>
                        <a:pt x="383" y="39"/>
                      </a:lnTo>
                      <a:lnTo>
                        <a:pt x="364" y="39"/>
                      </a:lnTo>
                      <a:lnTo>
                        <a:pt x="38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 name=""/>
                <p:cNvSpPr/>
                <p:nvPr/>
              </p:nvSpPr>
              <p:spPr>
                <a:xfrm rot="21021600">
                  <a:off x="4633920" y="3987720"/>
                  <a:ext cx="173160" cy="78120"/>
                </a:xfrm>
                <a:custGeom>
                  <a:avLst/>
                  <a:gdLst/>
                  <a:ahLst/>
                  <a:rect l="l" t="t" r="r" b="b"/>
                  <a:pathLst>
                    <a:path w="401" h="154">
                      <a:moveTo>
                        <a:pt x="401" y="106"/>
                      </a:moveTo>
                      <a:lnTo>
                        <a:pt x="401" y="106"/>
                      </a:lnTo>
                      <a:lnTo>
                        <a:pt x="373" y="115"/>
                      </a:lnTo>
                      <a:lnTo>
                        <a:pt x="353" y="115"/>
                      </a:lnTo>
                      <a:lnTo>
                        <a:pt x="325" y="115"/>
                      </a:lnTo>
                      <a:lnTo>
                        <a:pt x="306" y="106"/>
                      </a:lnTo>
                      <a:lnTo>
                        <a:pt x="277" y="106"/>
                      </a:lnTo>
                      <a:lnTo>
                        <a:pt x="258" y="96"/>
                      </a:lnTo>
                      <a:lnTo>
                        <a:pt x="229" y="87"/>
                      </a:lnTo>
                      <a:lnTo>
                        <a:pt x="210" y="87"/>
                      </a:lnTo>
                      <a:lnTo>
                        <a:pt x="181" y="77"/>
                      </a:lnTo>
                      <a:lnTo>
                        <a:pt x="162" y="67"/>
                      </a:lnTo>
                      <a:lnTo>
                        <a:pt x="133" y="58"/>
                      </a:lnTo>
                      <a:lnTo>
                        <a:pt x="114" y="48"/>
                      </a:lnTo>
                      <a:lnTo>
                        <a:pt x="86" y="29"/>
                      </a:lnTo>
                      <a:lnTo>
                        <a:pt x="67" y="19"/>
                      </a:lnTo>
                      <a:lnTo>
                        <a:pt x="38" y="10"/>
                      </a:lnTo>
                      <a:lnTo>
                        <a:pt x="19" y="0"/>
                      </a:lnTo>
                      <a:lnTo>
                        <a:pt x="0" y="39"/>
                      </a:lnTo>
                      <a:lnTo>
                        <a:pt x="28" y="48"/>
                      </a:lnTo>
                      <a:lnTo>
                        <a:pt x="47" y="58"/>
                      </a:lnTo>
                      <a:lnTo>
                        <a:pt x="76" y="77"/>
                      </a:lnTo>
                      <a:lnTo>
                        <a:pt x="95" y="87"/>
                      </a:lnTo>
                      <a:lnTo>
                        <a:pt x="124" y="96"/>
                      </a:lnTo>
                      <a:lnTo>
                        <a:pt x="143" y="106"/>
                      </a:lnTo>
                      <a:lnTo>
                        <a:pt x="172" y="115"/>
                      </a:lnTo>
                      <a:lnTo>
                        <a:pt x="200" y="125"/>
                      </a:lnTo>
                      <a:lnTo>
                        <a:pt x="220" y="135"/>
                      </a:lnTo>
                      <a:lnTo>
                        <a:pt x="248" y="144"/>
                      </a:lnTo>
                      <a:lnTo>
                        <a:pt x="277" y="144"/>
                      </a:lnTo>
                      <a:lnTo>
                        <a:pt x="296" y="154"/>
                      </a:lnTo>
                      <a:lnTo>
                        <a:pt x="325" y="154"/>
                      </a:lnTo>
                      <a:lnTo>
                        <a:pt x="353" y="154"/>
                      </a:lnTo>
                      <a:lnTo>
                        <a:pt x="373" y="154"/>
                      </a:lnTo>
                      <a:lnTo>
                        <a:pt x="401" y="154"/>
                      </a:lnTo>
                      <a:lnTo>
                        <a:pt x="401" y="154"/>
                      </a:lnTo>
                      <a:lnTo>
                        <a:pt x="401" y="1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17" name=""/>
                <p:cNvSpPr/>
                <p:nvPr/>
              </p:nvSpPr>
              <p:spPr>
                <a:xfrm rot="21021600">
                  <a:off x="4799880" y="3900960"/>
                  <a:ext cx="168840" cy="136800"/>
                </a:xfrm>
                <a:custGeom>
                  <a:avLst/>
                  <a:gdLst/>
                  <a:ahLst/>
                  <a:rect l="l" t="t" r="r" b="b"/>
                  <a:pathLst>
                    <a:path w="392" h="269">
                      <a:moveTo>
                        <a:pt x="392" y="0"/>
                      </a:moveTo>
                      <a:lnTo>
                        <a:pt x="363" y="0"/>
                      </a:lnTo>
                      <a:lnTo>
                        <a:pt x="335" y="29"/>
                      </a:lnTo>
                      <a:lnTo>
                        <a:pt x="316" y="58"/>
                      </a:lnTo>
                      <a:lnTo>
                        <a:pt x="297" y="77"/>
                      </a:lnTo>
                      <a:lnTo>
                        <a:pt x="277" y="106"/>
                      </a:lnTo>
                      <a:lnTo>
                        <a:pt x="249" y="125"/>
                      </a:lnTo>
                      <a:lnTo>
                        <a:pt x="230" y="134"/>
                      </a:lnTo>
                      <a:lnTo>
                        <a:pt x="211" y="154"/>
                      </a:lnTo>
                      <a:lnTo>
                        <a:pt x="191" y="163"/>
                      </a:lnTo>
                      <a:lnTo>
                        <a:pt x="163" y="173"/>
                      </a:lnTo>
                      <a:lnTo>
                        <a:pt x="144" y="192"/>
                      </a:lnTo>
                      <a:lnTo>
                        <a:pt x="124" y="192"/>
                      </a:lnTo>
                      <a:lnTo>
                        <a:pt x="96" y="202"/>
                      </a:lnTo>
                      <a:lnTo>
                        <a:pt x="77" y="211"/>
                      </a:lnTo>
                      <a:lnTo>
                        <a:pt x="48" y="211"/>
                      </a:lnTo>
                      <a:lnTo>
                        <a:pt x="19" y="221"/>
                      </a:lnTo>
                      <a:lnTo>
                        <a:pt x="0" y="221"/>
                      </a:lnTo>
                      <a:lnTo>
                        <a:pt x="0" y="269"/>
                      </a:lnTo>
                      <a:lnTo>
                        <a:pt x="29" y="259"/>
                      </a:lnTo>
                      <a:lnTo>
                        <a:pt x="58" y="259"/>
                      </a:lnTo>
                      <a:lnTo>
                        <a:pt x="86" y="250"/>
                      </a:lnTo>
                      <a:lnTo>
                        <a:pt x="105" y="250"/>
                      </a:lnTo>
                      <a:lnTo>
                        <a:pt x="134" y="240"/>
                      </a:lnTo>
                      <a:lnTo>
                        <a:pt x="163" y="230"/>
                      </a:lnTo>
                      <a:lnTo>
                        <a:pt x="182" y="221"/>
                      </a:lnTo>
                      <a:lnTo>
                        <a:pt x="211" y="202"/>
                      </a:lnTo>
                      <a:lnTo>
                        <a:pt x="230" y="192"/>
                      </a:lnTo>
                      <a:lnTo>
                        <a:pt x="258" y="173"/>
                      </a:lnTo>
                      <a:lnTo>
                        <a:pt x="277" y="154"/>
                      </a:lnTo>
                      <a:lnTo>
                        <a:pt x="306" y="134"/>
                      </a:lnTo>
                      <a:lnTo>
                        <a:pt x="325" y="115"/>
                      </a:lnTo>
                      <a:lnTo>
                        <a:pt x="344" y="86"/>
                      </a:lnTo>
                      <a:lnTo>
                        <a:pt x="373" y="58"/>
                      </a:lnTo>
                      <a:lnTo>
                        <a:pt x="392" y="29"/>
                      </a:lnTo>
                      <a:lnTo>
                        <a:pt x="363" y="29"/>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rot="21021600">
                  <a:off x="4948920" y="3877560"/>
                  <a:ext cx="136440" cy="68040"/>
                </a:xfrm>
                <a:custGeom>
                  <a:avLst/>
                  <a:gdLst/>
                  <a:ahLst/>
                  <a:rect l="l" t="t" r="r" b="b"/>
                  <a:pathLst>
                    <a:path w="316" h="134">
                      <a:moveTo>
                        <a:pt x="316" y="86"/>
                      </a:moveTo>
                      <a:lnTo>
                        <a:pt x="316" y="86"/>
                      </a:lnTo>
                      <a:lnTo>
                        <a:pt x="297" y="86"/>
                      </a:lnTo>
                      <a:lnTo>
                        <a:pt x="278" y="86"/>
                      </a:lnTo>
                      <a:lnTo>
                        <a:pt x="259" y="86"/>
                      </a:lnTo>
                      <a:lnTo>
                        <a:pt x="239" y="86"/>
                      </a:lnTo>
                      <a:lnTo>
                        <a:pt x="220" y="86"/>
                      </a:lnTo>
                      <a:lnTo>
                        <a:pt x="201" y="77"/>
                      </a:lnTo>
                      <a:lnTo>
                        <a:pt x="182" y="77"/>
                      </a:lnTo>
                      <a:lnTo>
                        <a:pt x="163" y="67"/>
                      </a:lnTo>
                      <a:lnTo>
                        <a:pt x="144" y="58"/>
                      </a:lnTo>
                      <a:lnTo>
                        <a:pt x="125" y="58"/>
                      </a:lnTo>
                      <a:lnTo>
                        <a:pt x="106" y="48"/>
                      </a:lnTo>
                      <a:lnTo>
                        <a:pt x="96" y="38"/>
                      </a:lnTo>
                      <a:lnTo>
                        <a:pt x="77" y="29"/>
                      </a:lnTo>
                      <a:lnTo>
                        <a:pt x="58" y="19"/>
                      </a:lnTo>
                      <a:lnTo>
                        <a:pt x="39" y="10"/>
                      </a:lnTo>
                      <a:lnTo>
                        <a:pt x="29" y="0"/>
                      </a:lnTo>
                      <a:lnTo>
                        <a:pt x="0" y="29"/>
                      </a:lnTo>
                      <a:lnTo>
                        <a:pt x="20" y="48"/>
                      </a:lnTo>
                      <a:lnTo>
                        <a:pt x="39" y="58"/>
                      </a:lnTo>
                      <a:lnTo>
                        <a:pt x="58" y="67"/>
                      </a:lnTo>
                      <a:lnTo>
                        <a:pt x="67" y="77"/>
                      </a:lnTo>
                      <a:lnTo>
                        <a:pt x="96" y="86"/>
                      </a:lnTo>
                      <a:lnTo>
                        <a:pt x="115" y="96"/>
                      </a:lnTo>
                      <a:lnTo>
                        <a:pt x="134" y="106"/>
                      </a:lnTo>
                      <a:lnTo>
                        <a:pt x="153" y="106"/>
                      </a:lnTo>
                      <a:lnTo>
                        <a:pt x="173" y="115"/>
                      </a:lnTo>
                      <a:lnTo>
                        <a:pt x="192" y="125"/>
                      </a:lnTo>
                      <a:lnTo>
                        <a:pt x="211" y="125"/>
                      </a:lnTo>
                      <a:lnTo>
                        <a:pt x="239" y="125"/>
                      </a:lnTo>
                      <a:lnTo>
                        <a:pt x="259" y="134"/>
                      </a:lnTo>
                      <a:lnTo>
                        <a:pt x="278" y="134"/>
                      </a:lnTo>
                      <a:lnTo>
                        <a:pt x="297" y="134"/>
                      </a:lnTo>
                      <a:lnTo>
                        <a:pt x="316" y="125"/>
                      </a:lnTo>
                      <a:lnTo>
                        <a:pt x="316" y="125"/>
                      </a:lnTo>
                      <a:lnTo>
                        <a:pt x="316"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9" name=""/>
                <p:cNvSpPr/>
                <p:nvPr/>
              </p:nvSpPr>
              <p:spPr>
                <a:xfrm rot="21021600">
                  <a:off x="5079960" y="3816720"/>
                  <a:ext cx="127440" cy="102600"/>
                </a:xfrm>
                <a:custGeom>
                  <a:avLst/>
                  <a:gdLst/>
                  <a:ahLst/>
                  <a:rect l="l" t="t" r="r" b="b"/>
                  <a:pathLst>
                    <a:path w="296" h="202">
                      <a:moveTo>
                        <a:pt x="268" y="0"/>
                      </a:moveTo>
                      <a:lnTo>
                        <a:pt x="258" y="0"/>
                      </a:lnTo>
                      <a:lnTo>
                        <a:pt x="249" y="19"/>
                      </a:lnTo>
                      <a:lnTo>
                        <a:pt x="229" y="39"/>
                      </a:lnTo>
                      <a:lnTo>
                        <a:pt x="220" y="58"/>
                      </a:lnTo>
                      <a:lnTo>
                        <a:pt x="201" y="67"/>
                      </a:lnTo>
                      <a:lnTo>
                        <a:pt x="191" y="77"/>
                      </a:lnTo>
                      <a:lnTo>
                        <a:pt x="172" y="96"/>
                      </a:lnTo>
                      <a:lnTo>
                        <a:pt x="153" y="106"/>
                      </a:lnTo>
                      <a:lnTo>
                        <a:pt x="143" y="115"/>
                      </a:lnTo>
                      <a:lnTo>
                        <a:pt x="124" y="125"/>
                      </a:lnTo>
                      <a:lnTo>
                        <a:pt x="105" y="135"/>
                      </a:lnTo>
                      <a:lnTo>
                        <a:pt x="86" y="135"/>
                      </a:lnTo>
                      <a:lnTo>
                        <a:pt x="76" y="144"/>
                      </a:lnTo>
                      <a:lnTo>
                        <a:pt x="57" y="154"/>
                      </a:lnTo>
                      <a:lnTo>
                        <a:pt x="38" y="154"/>
                      </a:lnTo>
                      <a:lnTo>
                        <a:pt x="19" y="154"/>
                      </a:lnTo>
                      <a:lnTo>
                        <a:pt x="0" y="163"/>
                      </a:lnTo>
                      <a:lnTo>
                        <a:pt x="0" y="202"/>
                      </a:lnTo>
                      <a:lnTo>
                        <a:pt x="29" y="202"/>
                      </a:lnTo>
                      <a:lnTo>
                        <a:pt x="48" y="202"/>
                      </a:lnTo>
                      <a:lnTo>
                        <a:pt x="67" y="192"/>
                      </a:lnTo>
                      <a:lnTo>
                        <a:pt x="86" y="183"/>
                      </a:lnTo>
                      <a:lnTo>
                        <a:pt x="105" y="183"/>
                      </a:lnTo>
                      <a:lnTo>
                        <a:pt x="124" y="173"/>
                      </a:lnTo>
                      <a:lnTo>
                        <a:pt x="143" y="163"/>
                      </a:lnTo>
                      <a:lnTo>
                        <a:pt x="163" y="154"/>
                      </a:lnTo>
                      <a:lnTo>
                        <a:pt x="182" y="144"/>
                      </a:lnTo>
                      <a:lnTo>
                        <a:pt x="201" y="125"/>
                      </a:lnTo>
                      <a:lnTo>
                        <a:pt x="220" y="115"/>
                      </a:lnTo>
                      <a:lnTo>
                        <a:pt x="229" y="96"/>
                      </a:lnTo>
                      <a:lnTo>
                        <a:pt x="249" y="87"/>
                      </a:lnTo>
                      <a:lnTo>
                        <a:pt x="268" y="67"/>
                      </a:lnTo>
                      <a:lnTo>
                        <a:pt x="277" y="48"/>
                      </a:lnTo>
                      <a:lnTo>
                        <a:pt x="296" y="29"/>
                      </a:lnTo>
                      <a:lnTo>
                        <a:pt x="287" y="39"/>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rot="21021600">
                  <a:off x="5176080" y="3668040"/>
                  <a:ext cx="115200" cy="151560"/>
                </a:xfrm>
                <a:custGeom>
                  <a:avLst/>
                  <a:gdLst/>
                  <a:ahLst/>
                  <a:rect l="l" t="t" r="r" b="b"/>
                  <a:pathLst>
                    <a:path w="267" h="298">
                      <a:moveTo>
                        <a:pt x="229" y="0"/>
                      </a:moveTo>
                      <a:lnTo>
                        <a:pt x="229" y="0"/>
                      </a:lnTo>
                      <a:lnTo>
                        <a:pt x="220" y="19"/>
                      </a:lnTo>
                      <a:lnTo>
                        <a:pt x="210" y="38"/>
                      </a:lnTo>
                      <a:lnTo>
                        <a:pt x="200" y="58"/>
                      </a:lnTo>
                      <a:lnTo>
                        <a:pt x="191" y="77"/>
                      </a:lnTo>
                      <a:lnTo>
                        <a:pt x="181" y="96"/>
                      </a:lnTo>
                      <a:lnTo>
                        <a:pt x="172" y="115"/>
                      </a:lnTo>
                      <a:lnTo>
                        <a:pt x="153" y="134"/>
                      </a:lnTo>
                      <a:lnTo>
                        <a:pt x="143" y="154"/>
                      </a:lnTo>
                      <a:lnTo>
                        <a:pt x="124" y="163"/>
                      </a:lnTo>
                      <a:lnTo>
                        <a:pt x="114" y="182"/>
                      </a:lnTo>
                      <a:lnTo>
                        <a:pt x="95" y="192"/>
                      </a:lnTo>
                      <a:lnTo>
                        <a:pt x="76" y="211"/>
                      </a:lnTo>
                      <a:lnTo>
                        <a:pt x="57" y="221"/>
                      </a:lnTo>
                      <a:lnTo>
                        <a:pt x="38" y="230"/>
                      </a:lnTo>
                      <a:lnTo>
                        <a:pt x="19" y="250"/>
                      </a:lnTo>
                      <a:lnTo>
                        <a:pt x="0" y="259"/>
                      </a:lnTo>
                      <a:lnTo>
                        <a:pt x="19" y="298"/>
                      </a:lnTo>
                      <a:lnTo>
                        <a:pt x="38" y="288"/>
                      </a:lnTo>
                      <a:lnTo>
                        <a:pt x="67" y="269"/>
                      </a:lnTo>
                      <a:lnTo>
                        <a:pt x="86" y="259"/>
                      </a:lnTo>
                      <a:lnTo>
                        <a:pt x="105" y="240"/>
                      </a:lnTo>
                      <a:lnTo>
                        <a:pt x="124" y="230"/>
                      </a:lnTo>
                      <a:lnTo>
                        <a:pt x="143" y="211"/>
                      </a:lnTo>
                      <a:lnTo>
                        <a:pt x="162" y="192"/>
                      </a:lnTo>
                      <a:lnTo>
                        <a:pt x="172" y="173"/>
                      </a:lnTo>
                      <a:lnTo>
                        <a:pt x="191" y="154"/>
                      </a:lnTo>
                      <a:lnTo>
                        <a:pt x="200" y="144"/>
                      </a:lnTo>
                      <a:lnTo>
                        <a:pt x="220" y="115"/>
                      </a:lnTo>
                      <a:lnTo>
                        <a:pt x="229" y="96"/>
                      </a:lnTo>
                      <a:lnTo>
                        <a:pt x="239" y="77"/>
                      </a:lnTo>
                      <a:lnTo>
                        <a:pt x="248" y="58"/>
                      </a:lnTo>
                      <a:lnTo>
                        <a:pt x="258" y="38"/>
                      </a:lnTo>
                      <a:lnTo>
                        <a:pt x="267" y="10"/>
                      </a:lnTo>
                      <a:lnTo>
                        <a:pt x="267" y="10"/>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rot="21021600">
                  <a:off x="5226480" y="3531600"/>
                  <a:ext cx="45000" cy="136800"/>
                </a:xfrm>
                <a:custGeom>
                  <a:avLst/>
                  <a:gdLst/>
                  <a:ahLst/>
                  <a:rect l="l" t="t" r="r" b="b"/>
                  <a:pathLst>
                    <a:path w="105" h="269">
                      <a:moveTo>
                        <a:pt x="9" y="0"/>
                      </a:moveTo>
                      <a:lnTo>
                        <a:pt x="0" y="29"/>
                      </a:lnTo>
                      <a:lnTo>
                        <a:pt x="19" y="57"/>
                      </a:lnTo>
                      <a:lnTo>
                        <a:pt x="38" y="86"/>
                      </a:lnTo>
                      <a:lnTo>
                        <a:pt x="48" y="115"/>
                      </a:lnTo>
                      <a:lnTo>
                        <a:pt x="57" y="144"/>
                      </a:lnTo>
                      <a:lnTo>
                        <a:pt x="57" y="173"/>
                      </a:lnTo>
                      <a:lnTo>
                        <a:pt x="67" y="201"/>
                      </a:lnTo>
                      <a:lnTo>
                        <a:pt x="67" y="230"/>
                      </a:lnTo>
                      <a:lnTo>
                        <a:pt x="57" y="259"/>
                      </a:lnTo>
                      <a:lnTo>
                        <a:pt x="95" y="269"/>
                      </a:lnTo>
                      <a:lnTo>
                        <a:pt x="105" y="240"/>
                      </a:lnTo>
                      <a:lnTo>
                        <a:pt x="105" y="201"/>
                      </a:lnTo>
                      <a:lnTo>
                        <a:pt x="105" y="173"/>
                      </a:lnTo>
                      <a:lnTo>
                        <a:pt x="95" y="134"/>
                      </a:lnTo>
                      <a:lnTo>
                        <a:pt x="86" y="96"/>
                      </a:lnTo>
                      <a:lnTo>
                        <a:pt x="76" y="67"/>
                      </a:lnTo>
                      <a:lnTo>
                        <a:pt x="57" y="38"/>
                      </a:lnTo>
                      <a:lnTo>
                        <a:pt x="38" y="9"/>
                      </a:lnTo>
                      <a:lnTo>
                        <a:pt x="38" y="2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rot="21021600">
                  <a:off x="5207760" y="3385080"/>
                  <a:ext cx="61920" cy="161280"/>
                </a:xfrm>
                <a:custGeom>
                  <a:avLst/>
                  <a:gdLst/>
                  <a:ahLst/>
                  <a:rect l="l" t="t" r="r" b="b"/>
                  <a:pathLst>
                    <a:path w="144" h="317">
                      <a:moveTo>
                        <a:pt x="105" y="0"/>
                      </a:moveTo>
                      <a:lnTo>
                        <a:pt x="105" y="0"/>
                      </a:lnTo>
                      <a:lnTo>
                        <a:pt x="96" y="38"/>
                      </a:lnTo>
                      <a:lnTo>
                        <a:pt x="96" y="77"/>
                      </a:lnTo>
                      <a:lnTo>
                        <a:pt x="86" y="115"/>
                      </a:lnTo>
                      <a:lnTo>
                        <a:pt x="67" y="153"/>
                      </a:lnTo>
                      <a:lnTo>
                        <a:pt x="58" y="192"/>
                      </a:lnTo>
                      <a:lnTo>
                        <a:pt x="39" y="230"/>
                      </a:lnTo>
                      <a:lnTo>
                        <a:pt x="19" y="259"/>
                      </a:lnTo>
                      <a:lnTo>
                        <a:pt x="0" y="288"/>
                      </a:lnTo>
                      <a:lnTo>
                        <a:pt x="29" y="317"/>
                      </a:lnTo>
                      <a:lnTo>
                        <a:pt x="48" y="288"/>
                      </a:lnTo>
                      <a:lnTo>
                        <a:pt x="77" y="249"/>
                      </a:lnTo>
                      <a:lnTo>
                        <a:pt x="96" y="211"/>
                      </a:lnTo>
                      <a:lnTo>
                        <a:pt x="115" y="173"/>
                      </a:lnTo>
                      <a:lnTo>
                        <a:pt x="125" y="125"/>
                      </a:lnTo>
                      <a:lnTo>
                        <a:pt x="134" y="86"/>
                      </a:lnTo>
                      <a:lnTo>
                        <a:pt x="144" y="38"/>
                      </a:lnTo>
                      <a:lnTo>
                        <a:pt x="144" y="0"/>
                      </a:lnTo>
                      <a:lnTo>
                        <a:pt x="144" y="0"/>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rot="21021600">
                  <a:off x="5178240" y="3245040"/>
                  <a:ext cx="65880" cy="141840"/>
                </a:xfrm>
                <a:custGeom>
                  <a:avLst/>
                  <a:gdLst/>
                  <a:ahLst/>
                  <a:rect l="l" t="t" r="r" b="b"/>
                  <a:pathLst>
                    <a:path w="153" h="279">
                      <a:moveTo>
                        <a:pt x="9" y="0"/>
                      </a:moveTo>
                      <a:lnTo>
                        <a:pt x="0" y="29"/>
                      </a:lnTo>
                      <a:lnTo>
                        <a:pt x="28" y="68"/>
                      </a:lnTo>
                      <a:lnTo>
                        <a:pt x="48" y="96"/>
                      </a:lnTo>
                      <a:lnTo>
                        <a:pt x="67" y="125"/>
                      </a:lnTo>
                      <a:lnTo>
                        <a:pt x="86" y="154"/>
                      </a:lnTo>
                      <a:lnTo>
                        <a:pt x="95" y="183"/>
                      </a:lnTo>
                      <a:lnTo>
                        <a:pt x="105" y="212"/>
                      </a:lnTo>
                      <a:lnTo>
                        <a:pt x="105" y="250"/>
                      </a:lnTo>
                      <a:lnTo>
                        <a:pt x="114" y="279"/>
                      </a:lnTo>
                      <a:lnTo>
                        <a:pt x="153" y="279"/>
                      </a:lnTo>
                      <a:lnTo>
                        <a:pt x="153" y="240"/>
                      </a:lnTo>
                      <a:lnTo>
                        <a:pt x="143" y="202"/>
                      </a:lnTo>
                      <a:lnTo>
                        <a:pt x="134" y="173"/>
                      </a:lnTo>
                      <a:lnTo>
                        <a:pt x="124" y="144"/>
                      </a:lnTo>
                      <a:lnTo>
                        <a:pt x="105" y="106"/>
                      </a:lnTo>
                      <a:lnTo>
                        <a:pt x="86" y="77"/>
                      </a:lnTo>
                      <a:lnTo>
                        <a:pt x="67" y="39"/>
                      </a:lnTo>
                      <a:lnTo>
                        <a:pt x="38" y="0"/>
                      </a:lnTo>
                      <a:lnTo>
                        <a:pt x="38" y="2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rot="21021600">
                  <a:off x="5159880" y="3106080"/>
                  <a:ext cx="53640" cy="156240"/>
                </a:xfrm>
                <a:custGeom>
                  <a:avLst/>
                  <a:gdLst/>
                  <a:ahLst/>
                  <a:rect l="l" t="t" r="r" b="b"/>
                  <a:pathLst>
                    <a:path w="125" h="307">
                      <a:moveTo>
                        <a:pt x="86" y="0"/>
                      </a:moveTo>
                      <a:lnTo>
                        <a:pt x="86" y="0"/>
                      </a:lnTo>
                      <a:lnTo>
                        <a:pt x="86" y="39"/>
                      </a:lnTo>
                      <a:lnTo>
                        <a:pt x="86" y="77"/>
                      </a:lnTo>
                      <a:lnTo>
                        <a:pt x="77" y="115"/>
                      </a:lnTo>
                      <a:lnTo>
                        <a:pt x="67" y="154"/>
                      </a:lnTo>
                      <a:lnTo>
                        <a:pt x="58" y="192"/>
                      </a:lnTo>
                      <a:lnTo>
                        <a:pt x="39" y="221"/>
                      </a:lnTo>
                      <a:lnTo>
                        <a:pt x="19" y="250"/>
                      </a:lnTo>
                      <a:lnTo>
                        <a:pt x="0" y="278"/>
                      </a:lnTo>
                      <a:lnTo>
                        <a:pt x="29" y="307"/>
                      </a:lnTo>
                      <a:lnTo>
                        <a:pt x="58" y="278"/>
                      </a:lnTo>
                      <a:lnTo>
                        <a:pt x="77" y="240"/>
                      </a:lnTo>
                      <a:lnTo>
                        <a:pt x="96" y="202"/>
                      </a:lnTo>
                      <a:lnTo>
                        <a:pt x="105" y="163"/>
                      </a:lnTo>
                      <a:lnTo>
                        <a:pt x="125" y="125"/>
                      </a:lnTo>
                      <a:lnTo>
                        <a:pt x="125" y="77"/>
                      </a:lnTo>
                      <a:lnTo>
                        <a:pt x="125" y="39"/>
                      </a:lnTo>
                      <a:lnTo>
                        <a:pt x="125" y="0"/>
                      </a:lnTo>
                      <a:lnTo>
                        <a:pt x="125"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rot="21021600">
                  <a:off x="5099400" y="2935800"/>
                  <a:ext cx="86400" cy="175320"/>
                </a:xfrm>
                <a:custGeom>
                  <a:avLst/>
                  <a:gdLst/>
                  <a:ahLst/>
                  <a:rect l="l" t="t" r="r" b="b"/>
                  <a:pathLst>
                    <a:path w="201" h="345">
                      <a:moveTo>
                        <a:pt x="0" y="0"/>
                      </a:moveTo>
                      <a:lnTo>
                        <a:pt x="9" y="28"/>
                      </a:lnTo>
                      <a:lnTo>
                        <a:pt x="38" y="67"/>
                      </a:lnTo>
                      <a:lnTo>
                        <a:pt x="67" y="105"/>
                      </a:lnTo>
                      <a:lnTo>
                        <a:pt x="86" y="144"/>
                      </a:lnTo>
                      <a:lnTo>
                        <a:pt x="105" y="182"/>
                      </a:lnTo>
                      <a:lnTo>
                        <a:pt x="124" y="220"/>
                      </a:lnTo>
                      <a:lnTo>
                        <a:pt x="143" y="259"/>
                      </a:lnTo>
                      <a:lnTo>
                        <a:pt x="153" y="307"/>
                      </a:lnTo>
                      <a:lnTo>
                        <a:pt x="162" y="345"/>
                      </a:lnTo>
                      <a:lnTo>
                        <a:pt x="201" y="345"/>
                      </a:lnTo>
                      <a:lnTo>
                        <a:pt x="191" y="297"/>
                      </a:lnTo>
                      <a:lnTo>
                        <a:pt x="181" y="249"/>
                      </a:lnTo>
                      <a:lnTo>
                        <a:pt x="172" y="201"/>
                      </a:lnTo>
                      <a:lnTo>
                        <a:pt x="153" y="163"/>
                      </a:lnTo>
                      <a:lnTo>
                        <a:pt x="124" y="115"/>
                      </a:lnTo>
                      <a:lnTo>
                        <a:pt x="95" y="76"/>
                      </a:lnTo>
                      <a:lnTo>
                        <a:pt x="67" y="38"/>
                      </a:lnTo>
                      <a:lnTo>
                        <a:pt x="38" y="0"/>
                      </a:lnTo>
                      <a:lnTo>
                        <a:pt x="48" y="1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rot="21021600">
                  <a:off x="5074560" y="2809800"/>
                  <a:ext cx="32760" cy="141840"/>
                </a:xfrm>
                <a:custGeom>
                  <a:avLst/>
                  <a:gdLst/>
                  <a:ahLst/>
                  <a:rect l="l" t="t" r="r" b="b"/>
                  <a:pathLst>
                    <a:path w="76" h="279">
                      <a:moveTo>
                        <a:pt x="9" y="10"/>
                      </a:moveTo>
                      <a:lnTo>
                        <a:pt x="9" y="10"/>
                      </a:lnTo>
                      <a:lnTo>
                        <a:pt x="19" y="39"/>
                      </a:lnTo>
                      <a:lnTo>
                        <a:pt x="29" y="77"/>
                      </a:lnTo>
                      <a:lnTo>
                        <a:pt x="29" y="106"/>
                      </a:lnTo>
                      <a:lnTo>
                        <a:pt x="29" y="135"/>
                      </a:lnTo>
                      <a:lnTo>
                        <a:pt x="29" y="164"/>
                      </a:lnTo>
                      <a:lnTo>
                        <a:pt x="19" y="192"/>
                      </a:lnTo>
                      <a:lnTo>
                        <a:pt x="19" y="231"/>
                      </a:lnTo>
                      <a:lnTo>
                        <a:pt x="0" y="260"/>
                      </a:lnTo>
                      <a:lnTo>
                        <a:pt x="48" y="279"/>
                      </a:lnTo>
                      <a:lnTo>
                        <a:pt x="57" y="240"/>
                      </a:lnTo>
                      <a:lnTo>
                        <a:pt x="67" y="202"/>
                      </a:lnTo>
                      <a:lnTo>
                        <a:pt x="76" y="173"/>
                      </a:lnTo>
                      <a:lnTo>
                        <a:pt x="76" y="135"/>
                      </a:lnTo>
                      <a:lnTo>
                        <a:pt x="76" y="106"/>
                      </a:lnTo>
                      <a:lnTo>
                        <a:pt x="67" y="68"/>
                      </a:lnTo>
                      <a:lnTo>
                        <a:pt x="67" y="29"/>
                      </a:lnTo>
                      <a:lnTo>
                        <a:pt x="57" y="0"/>
                      </a:lnTo>
                      <a:lnTo>
                        <a:pt x="57" y="0"/>
                      </a:lnTo>
                      <a:lnTo>
                        <a:pt x="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rot="21021600">
                  <a:off x="4992480" y="2705400"/>
                  <a:ext cx="86400" cy="117000"/>
                </a:xfrm>
                <a:custGeom>
                  <a:avLst/>
                  <a:gdLst/>
                  <a:ahLst/>
                  <a:rect l="l" t="t" r="r" b="b"/>
                  <a:pathLst>
                    <a:path w="201" h="230">
                      <a:moveTo>
                        <a:pt x="0" y="19"/>
                      </a:moveTo>
                      <a:lnTo>
                        <a:pt x="10" y="38"/>
                      </a:lnTo>
                      <a:lnTo>
                        <a:pt x="39" y="48"/>
                      </a:lnTo>
                      <a:lnTo>
                        <a:pt x="58" y="67"/>
                      </a:lnTo>
                      <a:lnTo>
                        <a:pt x="77" y="86"/>
                      </a:lnTo>
                      <a:lnTo>
                        <a:pt x="106" y="115"/>
                      </a:lnTo>
                      <a:lnTo>
                        <a:pt x="115" y="144"/>
                      </a:lnTo>
                      <a:lnTo>
                        <a:pt x="134" y="172"/>
                      </a:lnTo>
                      <a:lnTo>
                        <a:pt x="144" y="201"/>
                      </a:lnTo>
                      <a:lnTo>
                        <a:pt x="153" y="230"/>
                      </a:lnTo>
                      <a:lnTo>
                        <a:pt x="201" y="220"/>
                      </a:lnTo>
                      <a:lnTo>
                        <a:pt x="192" y="182"/>
                      </a:lnTo>
                      <a:lnTo>
                        <a:pt x="173" y="153"/>
                      </a:lnTo>
                      <a:lnTo>
                        <a:pt x="153" y="124"/>
                      </a:lnTo>
                      <a:lnTo>
                        <a:pt x="134" y="86"/>
                      </a:lnTo>
                      <a:lnTo>
                        <a:pt x="115" y="57"/>
                      </a:lnTo>
                      <a:lnTo>
                        <a:pt x="86" y="38"/>
                      </a:lnTo>
                      <a:lnTo>
                        <a:pt x="58" y="9"/>
                      </a:lnTo>
                      <a:lnTo>
                        <a:pt x="29" y="0"/>
                      </a:lnTo>
                      <a:lnTo>
                        <a:pt x="39"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rot="21021600">
                  <a:off x="4932360" y="2589480"/>
                  <a:ext cx="57600" cy="136800"/>
                </a:xfrm>
                <a:custGeom>
                  <a:avLst/>
                  <a:gdLst/>
                  <a:ahLst/>
                  <a:rect l="l" t="t" r="r" b="b"/>
                  <a:pathLst>
                    <a:path w="134" h="269">
                      <a:moveTo>
                        <a:pt x="0" y="38"/>
                      </a:moveTo>
                      <a:lnTo>
                        <a:pt x="0" y="38"/>
                      </a:lnTo>
                      <a:lnTo>
                        <a:pt x="19" y="58"/>
                      </a:lnTo>
                      <a:lnTo>
                        <a:pt x="38" y="77"/>
                      </a:lnTo>
                      <a:lnTo>
                        <a:pt x="57" y="106"/>
                      </a:lnTo>
                      <a:lnTo>
                        <a:pt x="67" y="134"/>
                      </a:lnTo>
                      <a:lnTo>
                        <a:pt x="76" y="163"/>
                      </a:lnTo>
                      <a:lnTo>
                        <a:pt x="86" y="202"/>
                      </a:lnTo>
                      <a:lnTo>
                        <a:pt x="95" y="230"/>
                      </a:lnTo>
                      <a:lnTo>
                        <a:pt x="95" y="269"/>
                      </a:lnTo>
                      <a:lnTo>
                        <a:pt x="134" y="269"/>
                      </a:lnTo>
                      <a:lnTo>
                        <a:pt x="134" y="230"/>
                      </a:lnTo>
                      <a:lnTo>
                        <a:pt x="134" y="192"/>
                      </a:lnTo>
                      <a:lnTo>
                        <a:pt x="124" y="154"/>
                      </a:lnTo>
                      <a:lnTo>
                        <a:pt x="115" y="115"/>
                      </a:lnTo>
                      <a:lnTo>
                        <a:pt x="95" y="86"/>
                      </a:lnTo>
                      <a:lnTo>
                        <a:pt x="76" y="48"/>
                      </a:lnTo>
                      <a:lnTo>
                        <a:pt x="48" y="19"/>
                      </a:lnTo>
                      <a:lnTo>
                        <a:pt x="19" y="0"/>
                      </a:lnTo>
                      <a:lnTo>
                        <a:pt x="19"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rot="21021600">
                  <a:off x="4794840" y="2590560"/>
                  <a:ext cx="136440" cy="38880"/>
                </a:xfrm>
                <a:custGeom>
                  <a:avLst/>
                  <a:gdLst/>
                  <a:ahLst/>
                  <a:rect l="l" t="t" r="r" b="b"/>
                  <a:pathLst>
                    <a:path w="316" h="77">
                      <a:moveTo>
                        <a:pt x="0" y="77"/>
                      </a:moveTo>
                      <a:lnTo>
                        <a:pt x="20" y="77"/>
                      </a:lnTo>
                      <a:lnTo>
                        <a:pt x="29" y="67"/>
                      </a:lnTo>
                      <a:lnTo>
                        <a:pt x="48" y="67"/>
                      </a:lnTo>
                      <a:lnTo>
                        <a:pt x="67" y="58"/>
                      </a:lnTo>
                      <a:lnTo>
                        <a:pt x="86" y="48"/>
                      </a:lnTo>
                      <a:lnTo>
                        <a:pt x="96" y="48"/>
                      </a:lnTo>
                      <a:lnTo>
                        <a:pt x="115" y="48"/>
                      </a:lnTo>
                      <a:lnTo>
                        <a:pt x="134" y="39"/>
                      </a:lnTo>
                      <a:lnTo>
                        <a:pt x="153" y="39"/>
                      </a:lnTo>
                      <a:lnTo>
                        <a:pt x="173" y="39"/>
                      </a:lnTo>
                      <a:lnTo>
                        <a:pt x="192" y="39"/>
                      </a:lnTo>
                      <a:lnTo>
                        <a:pt x="211" y="39"/>
                      </a:lnTo>
                      <a:lnTo>
                        <a:pt x="230" y="48"/>
                      </a:lnTo>
                      <a:lnTo>
                        <a:pt x="249" y="48"/>
                      </a:lnTo>
                      <a:lnTo>
                        <a:pt x="259" y="48"/>
                      </a:lnTo>
                      <a:lnTo>
                        <a:pt x="278" y="58"/>
                      </a:lnTo>
                      <a:lnTo>
                        <a:pt x="297" y="67"/>
                      </a:lnTo>
                      <a:lnTo>
                        <a:pt x="316" y="29"/>
                      </a:lnTo>
                      <a:lnTo>
                        <a:pt x="297" y="19"/>
                      </a:lnTo>
                      <a:lnTo>
                        <a:pt x="278" y="10"/>
                      </a:lnTo>
                      <a:lnTo>
                        <a:pt x="259" y="10"/>
                      </a:lnTo>
                      <a:lnTo>
                        <a:pt x="239" y="0"/>
                      </a:lnTo>
                      <a:lnTo>
                        <a:pt x="220" y="0"/>
                      </a:lnTo>
                      <a:lnTo>
                        <a:pt x="192" y="0"/>
                      </a:lnTo>
                      <a:lnTo>
                        <a:pt x="173" y="0"/>
                      </a:lnTo>
                      <a:lnTo>
                        <a:pt x="153" y="0"/>
                      </a:lnTo>
                      <a:lnTo>
                        <a:pt x="134" y="0"/>
                      </a:lnTo>
                      <a:lnTo>
                        <a:pt x="115" y="0"/>
                      </a:lnTo>
                      <a:lnTo>
                        <a:pt x="96" y="10"/>
                      </a:lnTo>
                      <a:lnTo>
                        <a:pt x="67" y="10"/>
                      </a:lnTo>
                      <a:lnTo>
                        <a:pt x="58" y="19"/>
                      </a:lnTo>
                      <a:lnTo>
                        <a:pt x="39" y="19"/>
                      </a:lnTo>
                      <a:lnTo>
                        <a:pt x="20" y="29"/>
                      </a:lnTo>
                      <a:lnTo>
                        <a:pt x="0" y="39"/>
                      </a:lnTo>
                      <a:lnTo>
                        <a:pt x="20" y="39"/>
                      </a:lnTo>
                      <a:lnTo>
                        <a:pt x="0"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30" name=""/>
                <p:cNvSpPr/>
                <p:nvPr/>
              </p:nvSpPr>
              <p:spPr>
                <a:xfrm rot="21021600">
                  <a:off x="4745160" y="2585880"/>
                  <a:ext cx="57600" cy="58320"/>
                </a:xfrm>
                <a:custGeom>
                  <a:avLst/>
                  <a:gdLst/>
                  <a:ahLst/>
                  <a:rect l="l" t="t" r="r" b="b"/>
                  <a:pathLst>
                    <a:path w="134" h="115">
                      <a:moveTo>
                        <a:pt x="0" y="38"/>
                      </a:moveTo>
                      <a:lnTo>
                        <a:pt x="0" y="38"/>
                      </a:lnTo>
                      <a:lnTo>
                        <a:pt x="9" y="48"/>
                      </a:lnTo>
                      <a:lnTo>
                        <a:pt x="28" y="48"/>
                      </a:lnTo>
                      <a:lnTo>
                        <a:pt x="38" y="57"/>
                      </a:lnTo>
                      <a:lnTo>
                        <a:pt x="57" y="67"/>
                      </a:lnTo>
                      <a:lnTo>
                        <a:pt x="67" y="77"/>
                      </a:lnTo>
                      <a:lnTo>
                        <a:pt x="76" y="86"/>
                      </a:lnTo>
                      <a:lnTo>
                        <a:pt x="95" y="105"/>
                      </a:lnTo>
                      <a:lnTo>
                        <a:pt x="114" y="115"/>
                      </a:lnTo>
                      <a:lnTo>
                        <a:pt x="134" y="77"/>
                      </a:lnTo>
                      <a:lnTo>
                        <a:pt x="124" y="67"/>
                      </a:lnTo>
                      <a:lnTo>
                        <a:pt x="105" y="57"/>
                      </a:lnTo>
                      <a:lnTo>
                        <a:pt x="95" y="48"/>
                      </a:lnTo>
                      <a:lnTo>
                        <a:pt x="76" y="29"/>
                      </a:lnTo>
                      <a:lnTo>
                        <a:pt x="57" y="19"/>
                      </a:lnTo>
                      <a:lnTo>
                        <a:pt x="48" y="9"/>
                      </a:lnTo>
                      <a:lnTo>
                        <a:pt x="28" y="0"/>
                      </a:lnTo>
                      <a:lnTo>
                        <a:pt x="9" y="0"/>
                      </a:lnTo>
                      <a:lnTo>
                        <a:pt x="9" y="0"/>
                      </a:lnTo>
                      <a:lnTo>
                        <a:pt x="0" y="3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31" name=""/>
                <p:cNvSpPr/>
                <p:nvPr/>
              </p:nvSpPr>
              <p:spPr>
                <a:xfrm rot="21021600">
                  <a:off x="4673520" y="2591280"/>
                  <a:ext cx="74160" cy="38880"/>
                </a:xfrm>
                <a:custGeom>
                  <a:avLst/>
                  <a:gdLst/>
                  <a:ahLst/>
                  <a:rect l="l" t="t" r="r" b="b"/>
                  <a:pathLst>
                    <a:path w="172" h="77">
                      <a:moveTo>
                        <a:pt x="0" y="67"/>
                      </a:moveTo>
                      <a:lnTo>
                        <a:pt x="38" y="77"/>
                      </a:lnTo>
                      <a:lnTo>
                        <a:pt x="48" y="67"/>
                      </a:lnTo>
                      <a:lnTo>
                        <a:pt x="58" y="58"/>
                      </a:lnTo>
                      <a:lnTo>
                        <a:pt x="77" y="48"/>
                      </a:lnTo>
                      <a:lnTo>
                        <a:pt x="86" y="48"/>
                      </a:lnTo>
                      <a:lnTo>
                        <a:pt x="105" y="48"/>
                      </a:lnTo>
                      <a:lnTo>
                        <a:pt x="124" y="48"/>
                      </a:lnTo>
                      <a:lnTo>
                        <a:pt x="144" y="48"/>
                      </a:lnTo>
                      <a:lnTo>
                        <a:pt x="163" y="48"/>
                      </a:lnTo>
                      <a:lnTo>
                        <a:pt x="172" y="10"/>
                      </a:lnTo>
                      <a:lnTo>
                        <a:pt x="153" y="10"/>
                      </a:lnTo>
                      <a:lnTo>
                        <a:pt x="124" y="0"/>
                      </a:lnTo>
                      <a:lnTo>
                        <a:pt x="105" y="0"/>
                      </a:lnTo>
                      <a:lnTo>
                        <a:pt x="86" y="0"/>
                      </a:lnTo>
                      <a:lnTo>
                        <a:pt x="67" y="10"/>
                      </a:lnTo>
                      <a:lnTo>
                        <a:pt x="38" y="19"/>
                      </a:lnTo>
                      <a:lnTo>
                        <a:pt x="19" y="29"/>
                      </a:lnTo>
                      <a:lnTo>
                        <a:pt x="0" y="39"/>
                      </a:lnTo>
                      <a:lnTo>
                        <a:pt x="38" y="48"/>
                      </a:lnTo>
                      <a:lnTo>
                        <a:pt x="0" y="6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32" name=""/>
                <p:cNvSpPr/>
                <p:nvPr/>
              </p:nvSpPr>
              <p:spPr>
                <a:xfrm rot="21021600">
                  <a:off x="4110120" y="3846600"/>
                  <a:ext cx="16200" cy="19080"/>
                </a:xfrm>
                <a:custGeom>
                  <a:avLst/>
                  <a:gdLst/>
                  <a:ahLst/>
                  <a:rect l="l" t="t" r="r" b="b"/>
                  <a:pathLst>
                    <a:path w="38" h="38">
                      <a:moveTo>
                        <a:pt x="28" y="38"/>
                      </a:moveTo>
                      <a:lnTo>
                        <a:pt x="38" y="29"/>
                      </a:lnTo>
                      <a:lnTo>
                        <a:pt x="38" y="19"/>
                      </a:lnTo>
                      <a:lnTo>
                        <a:pt x="38" y="9"/>
                      </a:lnTo>
                      <a:lnTo>
                        <a:pt x="28" y="0"/>
                      </a:lnTo>
                      <a:lnTo>
                        <a:pt x="28" y="0"/>
                      </a:lnTo>
                      <a:lnTo>
                        <a:pt x="19" y="0"/>
                      </a:lnTo>
                      <a:lnTo>
                        <a:pt x="9" y="0"/>
                      </a:lnTo>
                      <a:lnTo>
                        <a:pt x="0" y="0"/>
                      </a:lnTo>
                      <a:lnTo>
                        <a:pt x="28"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3" name=""/>
                <p:cNvSpPr/>
                <p:nvPr/>
              </p:nvSpPr>
              <p:spPr>
                <a:xfrm rot="21021600">
                  <a:off x="3948120" y="3860640"/>
                  <a:ext cx="181080" cy="87840"/>
                </a:xfrm>
                <a:custGeom>
                  <a:avLst/>
                  <a:gdLst/>
                  <a:ahLst/>
                  <a:rect l="l" t="t" r="r" b="b"/>
                  <a:pathLst>
                    <a:path w="420" h="173">
                      <a:moveTo>
                        <a:pt x="0" y="173"/>
                      </a:moveTo>
                      <a:lnTo>
                        <a:pt x="0" y="173"/>
                      </a:lnTo>
                      <a:lnTo>
                        <a:pt x="28" y="173"/>
                      </a:lnTo>
                      <a:lnTo>
                        <a:pt x="57" y="173"/>
                      </a:lnTo>
                      <a:lnTo>
                        <a:pt x="76" y="173"/>
                      </a:lnTo>
                      <a:lnTo>
                        <a:pt x="105" y="173"/>
                      </a:lnTo>
                      <a:lnTo>
                        <a:pt x="133" y="173"/>
                      </a:lnTo>
                      <a:lnTo>
                        <a:pt x="162" y="163"/>
                      </a:lnTo>
                      <a:lnTo>
                        <a:pt x="191" y="153"/>
                      </a:lnTo>
                      <a:lnTo>
                        <a:pt x="210" y="144"/>
                      </a:lnTo>
                      <a:lnTo>
                        <a:pt x="239" y="134"/>
                      </a:lnTo>
                      <a:lnTo>
                        <a:pt x="267" y="125"/>
                      </a:lnTo>
                      <a:lnTo>
                        <a:pt x="296" y="115"/>
                      </a:lnTo>
                      <a:lnTo>
                        <a:pt x="315" y="96"/>
                      </a:lnTo>
                      <a:lnTo>
                        <a:pt x="344" y="86"/>
                      </a:lnTo>
                      <a:lnTo>
                        <a:pt x="372" y="67"/>
                      </a:lnTo>
                      <a:lnTo>
                        <a:pt x="392" y="48"/>
                      </a:lnTo>
                      <a:lnTo>
                        <a:pt x="420" y="38"/>
                      </a:lnTo>
                      <a:lnTo>
                        <a:pt x="392" y="0"/>
                      </a:lnTo>
                      <a:lnTo>
                        <a:pt x="372" y="19"/>
                      </a:lnTo>
                      <a:lnTo>
                        <a:pt x="344" y="29"/>
                      </a:lnTo>
                      <a:lnTo>
                        <a:pt x="325" y="48"/>
                      </a:lnTo>
                      <a:lnTo>
                        <a:pt x="296" y="57"/>
                      </a:lnTo>
                      <a:lnTo>
                        <a:pt x="277" y="77"/>
                      </a:lnTo>
                      <a:lnTo>
                        <a:pt x="248" y="86"/>
                      </a:lnTo>
                      <a:lnTo>
                        <a:pt x="229" y="96"/>
                      </a:lnTo>
                      <a:lnTo>
                        <a:pt x="200" y="105"/>
                      </a:lnTo>
                      <a:lnTo>
                        <a:pt x="181" y="115"/>
                      </a:lnTo>
                      <a:lnTo>
                        <a:pt x="153" y="125"/>
                      </a:lnTo>
                      <a:lnTo>
                        <a:pt x="124" y="125"/>
                      </a:lnTo>
                      <a:lnTo>
                        <a:pt x="105" y="125"/>
                      </a:lnTo>
                      <a:lnTo>
                        <a:pt x="76" y="134"/>
                      </a:lnTo>
                      <a:lnTo>
                        <a:pt x="57" y="134"/>
                      </a:lnTo>
                      <a:lnTo>
                        <a:pt x="28" y="125"/>
                      </a:lnTo>
                      <a:lnTo>
                        <a:pt x="9" y="125"/>
                      </a:lnTo>
                      <a:lnTo>
                        <a:pt x="9" y="125"/>
                      </a:lnTo>
                      <a:lnTo>
                        <a:pt x="0" y="17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34" name=""/>
                <p:cNvSpPr/>
                <p:nvPr/>
              </p:nvSpPr>
              <p:spPr>
                <a:xfrm rot="21021600">
                  <a:off x="3850920" y="3834720"/>
                  <a:ext cx="98640" cy="136800"/>
                </a:xfrm>
                <a:custGeom>
                  <a:avLst/>
                  <a:gdLst/>
                  <a:ahLst/>
                  <a:rect l="l" t="t" r="r" b="b"/>
                  <a:pathLst>
                    <a:path w="229" h="269">
                      <a:moveTo>
                        <a:pt x="0" y="0"/>
                      </a:moveTo>
                      <a:lnTo>
                        <a:pt x="0" y="0"/>
                      </a:lnTo>
                      <a:lnTo>
                        <a:pt x="0" y="19"/>
                      </a:lnTo>
                      <a:lnTo>
                        <a:pt x="0" y="48"/>
                      </a:lnTo>
                      <a:lnTo>
                        <a:pt x="9" y="67"/>
                      </a:lnTo>
                      <a:lnTo>
                        <a:pt x="19" y="86"/>
                      </a:lnTo>
                      <a:lnTo>
                        <a:pt x="28" y="105"/>
                      </a:lnTo>
                      <a:lnTo>
                        <a:pt x="38" y="125"/>
                      </a:lnTo>
                      <a:lnTo>
                        <a:pt x="57" y="153"/>
                      </a:lnTo>
                      <a:lnTo>
                        <a:pt x="67" y="173"/>
                      </a:lnTo>
                      <a:lnTo>
                        <a:pt x="86" y="182"/>
                      </a:lnTo>
                      <a:lnTo>
                        <a:pt x="95" y="201"/>
                      </a:lnTo>
                      <a:lnTo>
                        <a:pt x="114" y="221"/>
                      </a:lnTo>
                      <a:lnTo>
                        <a:pt x="133" y="230"/>
                      </a:lnTo>
                      <a:lnTo>
                        <a:pt x="153" y="240"/>
                      </a:lnTo>
                      <a:lnTo>
                        <a:pt x="172" y="249"/>
                      </a:lnTo>
                      <a:lnTo>
                        <a:pt x="200" y="259"/>
                      </a:lnTo>
                      <a:lnTo>
                        <a:pt x="220" y="269"/>
                      </a:lnTo>
                      <a:lnTo>
                        <a:pt x="229" y="221"/>
                      </a:lnTo>
                      <a:lnTo>
                        <a:pt x="210" y="221"/>
                      </a:lnTo>
                      <a:lnTo>
                        <a:pt x="191" y="211"/>
                      </a:lnTo>
                      <a:lnTo>
                        <a:pt x="172" y="201"/>
                      </a:lnTo>
                      <a:lnTo>
                        <a:pt x="162" y="192"/>
                      </a:lnTo>
                      <a:lnTo>
                        <a:pt x="143" y="182"/>
                      </a:lnTo>
                      <a:lnTo>
                        <a:pt x="133" y="173"/>
                      </a:lnTo>
                      <a:lnTo>
                        <a:pt x="114" y="153"/>
                      </a:lnTo>
                      <a:lnTo>
                        <a:pt x="95" y="144"/>
                      </a:lnTo>
                      <a:lnTo>
                        <a:pt x="86" y="125"/>
                      </a:lnTo>
                      <a:lnTo>
                        <a:pt x="76" y="105"/>
                      </a:lnTo>
                      <a:lnTo>
                        <a:pt x="67" y="86"/>
                      </a:lnTo>
                      <a:lnTo>
                        <a:pt x="57" y="67"/>
                      </a:lnTo>
                      <a:lnTo>
                        <a:pt x="47" y="57"/>
                      </a:lnTo>
                      <a:lnTo>
                        <a:pt x="47" y="38"/>
                      </a:lnTo>
                      <a:lnTo>
                        <a:pt x="38" y="19"/>
                      </a:lnTo>
                      <a:lnTo>
                        <a:pt x="38" y="0"/>
                      </a:lnTo>
                      <a:lnTo>
                        <a:pt x="3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rot="21021600">
                  <a:off x="3818880" y="3593160"/>
                  <a:ext cx="102960" cy="244080"/>
                </a:xfrm>
                <a:custGeom>
                  <a:avLst/>
                  <a:gdLst/>
                  <a:ahLst/>
                  <a:rect l="l" t="t" r="r" b="b"/>
                  <a:pathLst>
                    <a:path w="239" h="480">
                      <a:moveTo>
                        <a:pt x="200" y="29"/>
                      </a:moveTo>
                      <a:lnTo>
                        <a:pt x="210" y="0"/>
                      </a:lnTo>
                      <a:lnTo>
                        <a:pt x="181" y="19"/>
                      </a:lnTo>
                      <a:lnTo>
                        <a:pt x="153" y="38"/>
                      </a:lnTo>
                      <a:lnTo>
                        <a:pt x="124" y="67"/>
                      </a:lnTo>
                      <a:lnTo>
                        <a:pt x="105" y="96"/>
                      </a:lnTo>
                      <a:lnTo>
                        <a:pt x="86" y="125"/>
                      </a:lnTo>
                      <a:lnTo>
                        <a:pt x="67" y="153"/>
                      </a:lnTo>
                      <a:lnTo>
                        <a:pt x="57" y="182"/>
                      </a:lnTo>
                      <a:lnTo>
                        <a:pt x="38" y="211"/>
                      </a:lnTo>
                      <a:lnTo>
                        <a:pt x="28" y="249"/>
                      </a:lnTo>
                      <a:lnTo>
                        <a:pt x="19" y="278"/>
                      </a:lnTo>
                      <a:lnTo>
                        <a:pt x="9" y="317"/>
                      </a:lnTo>
                      <a:lnTo>
                        <a:pt x="9" y="345"/>
                      </a:lnTo>
                      <a:lnTo>
                        <a:pt x="0" y="384"/>
                      </a:lnTo>
                      <a:lnTo>
                        <a:pt x="0" y="413"/>
                      </a:lnTo>
                      <a:lnTo>
                        <a:pt x="0" y="451"/>
                      </a:lnTo>
                      <a:lnTo>
                        <a:pt x="0" y="480"/>
                      </a:lnTo>
                      <a:lnTo>
                        <a:pt x="38" y="480"/>
                      </a:lnTo>
                      <a:lnTo>
                        <a:pt x="38" y="451"/>
                      </a:lnTo>
                      <a:lnTo>
                        <a:pt x="47" y="422"/>
                      </a:lnTo>
                      <a:lnTo>
                        <a:pt x="47" y="384"/>
                      </a:lnTo>
                      <a:lnTo>
                        <a:pt x="47" y="355"/>
                      </a:lnTo>
                      <a:lnTo>
                        <a:pt x="57" y="317"/>
                      </a:lnTo>
                      <a:lnTo>
                        <a:pt x="67" y="288"/>
                      </a:lnTo>
                      <a:lnTo>
                        <a:pt x="76" y="259"/>
                      </a:lnTo>
                      <a:lnTo>
                        <a:pt x="86" y="230"/>
                      </a:lnTo>
                      <a:lnTo>
                        <a:pt x="95" y="201"/>
                      </a:lnTo>
                      <a:lnTo>
                        <a:pt x="105" y="173"/>
                      </a:lnTo>
                      <a:lnTo>
                        <a:pt x="124" y="144"/>
                      </a:lnTo>
                      <a:lnTo>
                        <a:pt x="143" y="115"/>
                      </a:lnTo>
                      <a:lnTo>
                        <a:pt x="162" y="96"/>
                      </a:lnTo>
                      <a:lnTo>
                        <a:pt x="181" y="77"/>
                      </a:lnTo>
                      <a:lnTo>
                        <a:pt x="210" y="57"/>
                      </a:lnTo>
                      <a:lnTo>
                        <a:pt x="229" y="38"/>
                      </a:lnTo>
                      <a:lnTo>
                        <a:pt x="239" y="9"/>
                      </a:lnTo>
                      <a:lnTo>
                        <a:pt x="20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rot="21021600">
                  <a:off x="3850560" y="3414240"/>
                  <a:ext cx="37080" cy="190800"/>
                </a:xfrm>
                <a:custGeom>
                  <a:avLst/>
                  <a:gdLst/>
                  <a:ahLst/>
                  <a:rect l="l" t="t" r="r" b="b"/>
                  <a:pathLst>
                    <a:path w="86" h="375">
                      <a:moveTo>
                        <a:pt x="47" y="0"/>
                      </a:moveTo>
                      <a:lnTo>
                        <a:pt x="47" y="0"/>
                      </a:lnTo>
                      <a:lnTo>
                        <a:pt x="28" y="48"/>
                      </a:lnTo>
                      <a:lnTo>
                        <a:pt x="19" y="87"/>
                      </a:lnTo>
                      <a:lnTo>
                        <a:pt x="9" y="135"/>
                      </a:lnTo>
                      <a:lnTo>
                        <a:pt x="0" y="183"/>
                      </a:lnTo>
                      <a:lnTo>
                        <a:pt x="0" y="231"/>
                      </a:lnTo>
                      <a:lnTo>
                        <a:pt x="9" y="279"/>
                      </a:lnTo>
                      <a:lnTo>
                        <a:pt x="28" y="327"/>
                      </a:lnTo>
                      <a:lnTo>
                        <a:pt x="47" y="375"/>
                      </a:lnTo>
                      <a:lnTo>
                        <a:pt x="86" y="355"/>
                      </a:lnTo>
                      <a:lnTo>
                        <a:pt x="67" y="307"/>
                      </a:lnTo>
                      <a:lnTo>
                        <a:pt x="47" y="269"/>
                      </a:lnTo>
                      <a:lnTo>
                        <a:pt x="47" y="231"/>
                      </a:lnTo>
                      <a:lnTo>
                        <a:pt x="47" y="183"/>
                      </a:lnTo>
                      <a:lnTo>
                        <a:pt x="47" y="144"/>
                      </a:lnTo>
                      <a:lnTo>
                        <a:pt x="57" y="96"/>
                      </a:lnTo>
                      <a:lnTo>
                        <a:pt x="76" y="58"/>
                      </a:lnTo>
                      <a:lnTo>
                        <a:pt x="86" y="19"/>
                      </a:lnTo>
                      <a:lnTo>
                        <a:pt x="86" y="1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rot="21021600">
                  <a:off x="3845160" y="3293280"/>
                  <a:ext cx="128160" cy="121320"/>
                </a:xfrm>
                <a:custGeom>
                  <a:avLst/>
                  <a:gdLst/>
                  <a:ahLst/>
                  <a:rect l="l" t="t" r="r" b="b"/>
                  <a:pathLst>
                    <a:path w="297" h="239">
                      <a:moveTo>
                        <a:pt x="259" y="19"/>
                      </a:moveTo>
                      <a:lnTo>
                        <a:pt x="278" y="0"/>
                      </a:lnTo>
                      <a:lnTo>
                        <a:pt x="259" y="0"/>
                      </a:lnTo>
                      <a:lnTo>
                        <a:pt x="230" y="0"/>
                      </a:lnTo>
                      <a:lnTo>
                        <a:pt x="211" y="9"/>
                      </a:lnTo>
                      <a:lnTo>
                        <a:pt x="192" y="19"/>
                      </a:lnTo>
                      <a:lnTo>
                        <a:pt x="173" y="28"/>
                      </a:lnTo>
                      <a:lnTo>
                        <a:pt x="144" y="48"/>
                      </a:lnTo>
                      <a:lnTo>
                        <a:pt x="134" y="57"/>
                      </a:lnTo>
                      <a:lnTo>
                        <a:pt x="115" y="76"/>
                      </a:lnTo>
                      <a:lnTo>
                        <a:pt x="96" y="86"/>
                      </a:lnTo>
                      <a:lnTo>
                        <a:pt x="77" y="105"/>
                      </a:lnTo>
                      <a:lnTo>
                        <a:pt x="58" y="124"/>
                      </a:lnTo>
                      <a:lnTo>
                        <a:pt x="48" y="144"/>
                      </a:lnTo>
                      <a:lnTo>
                        <a:pt x="29" y="163"/>
                      </a:lnTo>
                      <a:lnTo>
                        <a:pt x="20" y="182"/>
                      </a:lnTo>
                      <a:lnTo>
                        <a:pt x="10" y="201"/>
                      </a:lnTo>
                      <a:lnTo>
                        <a:pt x="0" y="220"/>
                      </a:lnTo>
                      <a:lnTo>
                        <a:pt x="39" y="239"/>
                      </a:lnTo>
                      <a:lnTo>
                        <a:pt x="48" y="220"/>
                      </a:lnTo>
                      <a:lnTo>
                        <a:pt x="58" y="201"/>
                      </a:lnTo>
                      <a:lnTo>
                        <a:pt x="67" y="191"/>
                      </a:lnTo>
                      <a:lnTo>
                        <a:pt x="86" y="172"/>
                      </a:lnTo>
                      <a:lnTo>
                        <a:pt x="96" y="153"/>
                      </a:lnTo>
                      <a:lnTo>
                        <a:pt x="106" y="134"/>
                      </a:lnTo>
                      <a:lnTo>
                        <a:pt x="125" y="124"/>
                      </a:lnTo>
                      <a:lnTo>
                        <a:pt x="144" y="105"/>
                      </a:lnTo>
                      <a:lnTo>
                        <a:pt x="153" y="96"/>
                      </a:lnTo>
                      <a:lnTo>
                        <a:pt x="173" y="76"/>
                      </a:lnTo>
                      <a:lnTo>
                        <a:pt x="192" y="67"/>
                      </a:lnTo>
                      <a:lnTo>
                        <a:pt x="211" y="57"/>
                      </a:lnTo>
                      <a:lnTo>
                        <a:pt x="230" y="57"/>
                      </a:lnTo>
                      <a:lnTo>
                        <a:pt x="239" y="48"/>
                      </a:lnTo>
                      <a:lnTo>
                        <a:pt x="259" y="48"/>
                      </a:lnTo>
                      <a:lnTo>
                        <a:pt x="278" y="38"/>
                      </a:lnTo>
                      <a:lnTo>
                        <a:pt x="297" y="28"/>
                      </a:lnTo>
                      <a:lnTo>
                        <a:pt x="25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rot="21021600">
                  <a:off x="3940560" y="3203640"/>
                  <a:ext cx="53280" cy="92520"/>
                </a:xfrm>
                <a:custGeom>
                  <a:avLst/>
                  <a:gdLst/>
                  <a:ahLst/>
                  <a:rect l="l" t="t" r="r" b="b"/>
                  <a:pathLst>
                    <a:path w="124" h="182">
                      <a:moveTo>
                        <a:pt x="95" y="0"/>
                      </a:moveTo>
                      <a:lnTo>
                        <a:pt x="95" y="0"/>
                      </a:lnTo>
                      <a:lnTo>
                        <a:pt x="86" y="19"/>
                      </a:lnTo>
                      <a:lnTo>
                        <a:pt x="66" y="38"/>
                      </a:lnTo>
                      <a:lnTo>
                        <a:pt x="47" y="48"/>
                      </a:lnTo>
                      <a:lnTo>
                        <a:pt x="38" y="67"/>
                      </a:lnTo>
                      <a:lnTo>
                        <a:pt x="28" y="96"/>
                      </a:lnTo>
                      <a:lnTo>
                        <a:pt x="19" y="115"/>
                      </a:lnTo>
                      <a:lnTo>
                        <a:pt x="9" y="144"/>
                      </a:lnTo>
                      <a:lnTo>
                        <a:pt x="0" y="173"/>
                      </a:lnTo>
                      <a:lnTo>
                        <a:pt x="38" y="182"/>
                      </a:lnTo>
                      <a:lnTo>
                        <a:pt x="47" y="154"/>
                      </a:lnTo>
                      <a:lnTo>
                        <a:pt x="57" y="134"/>
                      </a:lnTo>
                      <a:lnTo>
                        <a:pt x="66" y="115"/>
                      </a:lnTo>
                      <a:lnTo>
                        <a:pt x="76" y="96"/>
                      </a:lnTo>
                      <a:lnTo>
                        <a:pt x="86" y="77"/>
                      </a:lnTo>
                      <a:lnTo>
                        <a:pt x="95" y="58"/>
                      </a:lnTo>
                      <a:lnTo>
                        <a:pt x="114" y="48"/>
                      </a:lnTo>
                      <a:lnTo>
                        <a:pt x="124" y="29"/>
                      </a:lnTo>
                      <a:lnTo>
                        <a:pt x="124" y="29"/>
                      </a:lnTo>
                      <a:lnTo>
                        <a:pt x="95" y="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39" name=""/>
                <p:cNvSpPr/>
                <p:nvPr/>
              </p:nvSpPr>
              <p:spPr>
                <a:xfrm rot="21021600">
                  <a:off x="3971880" y="3165120"/>
                  <a:ext cx="86760" cy="44280"/>
                </a:xfrm>
                <a:custGeom>
                  <a:avLst/>
                  <a:gdLst/>
                  <a:ahLst/>
                  <a:rect l="l" t="t" r="r" b="b"/>
                  <a:pathLst>
                    <a:path w="201" h="87">
                      <a:moveTo>
                        <a:pt x="163" y="10"/>
                      </a:moveTo>
                      <a:lnTo>
                        <a:pt x="182" y="0"/>
                      </a:lnTo>
                      <a:lnTo>
                        <a:pt x="153" y="0"/>
                      </a:lnTo>
                      <a:lnTo>
                        <a:pt x="134" y="0"/>
                      </a:lnTo>
                      <a:lnTo>
                        <a:pt x="105" y="10"/>
                      </a:lnTo>
                      <a:lnTo>
                        <a:pt x="86" y="10"/>
                      </a:lnTo>
                      <a:lnTo>
                        <a:pt x="58" y="20"/>
                      </a:lnTo>
                      <a:lnTo>
                        <a:pt x="38" y="39"/>
                      </a:lnTo>
                      <a:lnTo>
                        <a:pt x="19" y="48"/>
                      </a:lnTo>
                      <a:lnTo>
                        <a:pt x="0" y="58"/>
                      </a:lnTo>
                      <a:lnTo>
                        <a:pt x="29" y="87"/>
                      </a:lnTo>
                      <a:lnTo>
                        <a:pt x="48" y="77"/>
                      </a:lnTo>
                      <a:lnTo>
                        <a:pt x="58" y="68"/>
                      </a:lnTo>
                      <a:lnTo>
                        <a:pt x="77" y="58"/>
                      </a:lnTo>
                      <a:lnTo>
                        <a:pt x="96" y="58"/>
                      </a:lnTo>
                      <a:lnTo>
                        <a:pt x="115" y="48"/>
                      </a:lnTo>
                      <a:lnTo>
                        <a:pt x="134" y="48"/>
                      </a:lnTo>
                      <a:lnTo>
                        <a:pt x="163" y="39"/>
                      </a:lnTo>
                      <a:lnTo>
                        <a:pt x="182" y="39"/>
                      </a:lnTo>
                      <a:lnTo>
                        <a:pt x="201" y="20"/>
                      </a:lnTo>
                      <a:lnTo>
                        <a:pt x="163"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0" name=""/>
                <p:cNvSpPr/>
                <p:nvPr/>
              </p:nvSpPr>
              <p:spPr>
                <a:xfrm rot="21021600">
                  <a:off x="4023360" y="2980800"/>
                  <a:ext cx="77760" cy="185400"/>
                </a:xfrm>
                <a:custGeom>
                  <a:avLst/>
                  <a:gdLst/>
                  <a:ahLst/>
                  <a:rect l="l" t="t" r="r" b="b"/>
                  <a:pathLst>
                    <a:path w="181" h="365">
                      <a:moveTo>
                        <a:pt x="153" y="0"/>
                      </a:moveTo>
                      <a:lnTo>
                        <a:pt x="153" y="0"/>
                      </a:lnTo>
                      <a:lnTo>
                        <a:pt x="114" y="29"/>
                      </a:lnTo>
                      <a:lnTo>
                        <a:pt x="95" y="67"/>
                      </a:lnTo>
                      <a:lnTo>
                        <a:pt x="67" y="115"/>
                      </a:lnTo>
                      <a:lnTo>
                        <a:pt x="47" y="163"/>
                      </a:lnTo>
                      <a:lnTo>
                        <a:pt x="38" y="211"/>
                      </a:lnTo>
                      <a:lnTo>
                        <a:pt x="19" y="259"/>
                      </a:lnTo>
                      <a:lnTo>
                        <a:pt x="9" y="307"/>
                      </a:lnTo>
                      <a:lnTo>
                        <a:pt x="0" y="355"/>
                      </a:lnTo>
                      <a:lnTo>
                        <a:pt x="38" y="365"/>
                      </a:lnTo>
                      <a:lnTo>
                        <a:pt x="47" y="317"/>
                      </a:lnTo>
                      <a:lnTo>
                        <a:pt x="57" y="269"/>
                      </a:lnTo>
                      <a:lnTo>
                        <a:pt x="76" y="221"/>
                      </a:lnTo>
                      <a:lnTo>
                        <a:pt x="86" y="173"/>
                      </a:lnTo>
                      <a:lnTo>
                        <a:pt x="105" y="134"/>
                      </a:lnTo>
                      <a:lnTo>
                        <a:pt x="124" y="96"/>
                      </a:lnTo>
                      <a:lnTo>
                        <a:pt x="153" y="57"/>
                      </a:lnTo>
                      <a:lnTo>
                        <a:pt x="181" y="29"/>
                      </a:lnTo>
                      <a:lnTo>
                        <a:pt x="181" y="29"/>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21021600">
                  <a:off x="4068000" y="2890800"/>
                  <a:ext cx="160920" cy="87840"/>
                </a:xfrm>
                <a:custGeom>
                  <a:avLst/>
                  <a:gdLst/>
                  <a:ahLst/>
                  <a:rect l="l" t="t" r="r" b="b"/>
                  <a:pathLst>
                    <a:path w="373" h="173">
                      <a:moveTo>
                        <a:pt x="373" y="0"/>
                      </a:moveTo>
                      <a:lnTo>
                        <a:pt x="373" y="0"/>
                      </a:lnTo>
                      <a:lnTo>
                        <a:pt x="344" y="9"/>
                      </a:lnTo>
                      <a:lnTo>
                        <a:pt x="315" y="9"/>
                      </a:lnTo>
                      <a:lnTo>
                        <a:pt x="296" y="9"/>
                      </a:lnTo>
                      <a:lnTo>
                        <a:pt x="267" y="9"/>
                      </a:lnTo>
                      <a:lnTo>
                        <a:pt x="248" y="19"/>
                      </a:lnTo>
                      <a:lnTo>
                        <a:pt x="220" y="19"/>
                      </a:lnTo>
                      <a:lnTo>
                        <a:pt x="191" y="29"/>
                      </a:lnTo>
                      <a:lnTo>
                        <a:pt x="172" y="38"/>
                      </a:lnTo>
                      <a:lnTo>
                        <a:pt x="153" y="38"/>
                      </a:lnTo>
                      <a:lnTo>
                        <a:pt x="124" y="57"/>
                      </a:lnTo>
                      <a:lnTo>
                        <a:pt x="105" y="67"/>
                      </a:lnTo>
                      <a:lnTo>
                        <a:pt x="86" y="77"/>
                      </a:lnTo>
                      <a:lnTo>
                        <a:pt x="57" y="86"/>
                      </a:lnTo>
                      <a:lnTo>
                        <a:pt x="38" y="105"/>
                      </a:lnTo>
                      <a:lnTo>
                        <a:pt x="19" y="125"/>
                      </a:lnTo>
                      <a:lnTo>
                        <a:pt x="0" y="144"/>
                      </a:lnTo>
                      <a:lnTo>
                        <a:pt x="28" y="173"/>
                      </a:lnTo>
                      <a:lnTo>
                        <a:pt x="47" y="153"/>
                      </a:lnTo>
                      <a:lnTo>
                        <a:pt x="67" y="144"/>
                      </a:lnTo>
                      <a:lnTo>
                        <a:pt x="86" y="125"/>
                      </a:lnTo>
                      <a:lnTo>
                        <a:pt x="105" y="115"/>
                      </a:lnTo>
                      <a:lnTo>
                        <a:pt x="124" y="105"/>
                      </a:lnTo>
                      <a:lnTo>
                        <a:pt x="143" y="96"/>
                      </a:lnTo>
                      <a:lnTo>
                        <a:pt x="162" y="86"/>
                      </a:lnTo>
                      <a:lnTo>
                        <a:pt x="191" y="77"/>
                      </a:lnTo>
                      <a:lnTo>
                        <a:pt x="210" y="67"/>
                      </a:lnTo>
                      <a:lnTo>
                        <a:pt x="229" y="67"/>
                      </a:lnTo>
                      <a:lnTo>
                        <a:pt x="248" y="57"/>
                      </a:lnTo>
                      <a:lnTo>
                        <a:pt x="277" y="57"/>
                      </a:lnTo>
                      <a:lnTo>
                        <a:pt x="296" y="48"/>
                      </a:lnTo>
                      <a:lnTo>
                        <a:pt x="325" y="48"/>
                      </a:lnTo>
                      <a:lnTo>
                        <a:pt x="344" y="48"/>
                      </a:lnTo>
                      <a:lnTo>
                        <a:pt x="373" y="48"/>
                      </a:lnTo>
                      <a:lnTo>
                        <a:pt x="373" y="48"/>
                      </a:lnTo>
                      <a:lnTo>
                        <a:pt x="37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42" name=""/>
                <p:cNvSpPr/>
                <p:nvPr/>
              </p:nvSpPr>
              <p:spPr>
                <a:xfrm rot="21021600">
                  <a:off x="4228560" y="2865600"/>
                  <a:ext cx="140040" cy="112320"/>
                </a:xfrm>
                <a:custGeom>
                  <a:avLst/>
                  <a:gdLst/>
                  <a:ahLst/>
                  <a:rect l="l" t="t" r="r" b="b"/>
                  <a:pathLst>
                    <a:path w="325" h="221">
                      <a:moveTo>
                        <a:pt x="305" y="182"/>
                      </a:moveTo>
                      <a:lnTo>
                        <a:pt x="325" y="192"/>
                      </a:lnTo>
                      <a:lnTo>
                        <a:pt x="315" y="173"/>
                      </a:lnTo>
                      <a:lnTo>
                        <a:pt x="296" y="153"/>
                      </a:lnTo>
                      <a:lnTo>
                        <a:pt x="277" y="134"/>
                      </a:lnTo>
                      <a:lnTo>
                        <a:pt x="258" y="115"/>
                      </a:lnTo>
                      <a:lnTo>
                        <a:pt x="239" y="96"/>
                      </a:lnTo>
                      <a:lnTo>
                        <a:pt x="219" y="86"/>
                      </a:lnTo>
                      <a:lnTo>
                        <a:pt x="191" y="67"/>
                      </a:lnTo>
                      <a:lnTo>
                        <a:pt x="172" y="57"/>
                      </a:lnTo>
                      <a:lnTo>
                        <a:pt x="152" y="48"/>
                      </a:lnTo>
                      <a:lnTo>
                        <a:pt x="133" y="38"/>
                      </a:lnTo>
                      <a:lnTo>
                        <a:pt x="105" y="29"/>
                      </a:lnTo>
                      <a:lnTo>
                        <a:pt x="86" y="19"/>
                      </a:lnTo>
                      <a:lnTo>
                        <a:pt x="66" y="9"/>
                      </a:lnTo>
                      <a:lnTo>
                        <a:pt x="38" y="9"/>
                      </a:lnTo>
                      <a:lnTo>
                        <a:pt x="19" y="9"/>
                      </a:lnTo>
                      <a:lnTo>
                        <a:pt x="0" y="0"/>
                      </a:lnTo>
                      <a:lnTo>
                        <a:pt x="0" y="48"/>
                      </a:lnTo>
                      <a:lnTo>
                        <a:pt x="19" y="48"/>
                      </a:lnTo>
                      <a:lnTo>
                        <a:pt x="38" y="48"/>
                      </a:lnTo>
                      <a:lnTo>
                        <a:pt x="57" y="57"/>
                      </a:lnTo>
                      <a:lnTo>
                        <a:pt x="76" y="57"/>
                      </a:lnTo>
                      <a:lnTo>
                        <a:pt x="95" y="67"/>
                      </a:lnTo>
                      <a:lnTo>
                        <a:pt x="114" y="77"/>
                      </a:lnTo>
                      <a:lnTo>
                        <a:pt x="133" y="86"/>
                      </a:lnTo>
                      <a:lnTo>
                        <a:pt x="152" y="96"/>
                      </a:lnTo>
                      <a:lnTo>
                        <a:pt x="172" y="105"/>
                      </a:lnTo>
                      <a:lnTo>
                        <a:pt x="191" y="115"/>
                      </a:lnTo>
                      <a:lnTo>
                        <a:pt x="210" y="134"/>
                      </a:lnTo>
                      <a:lnTo>
                        <a:pt x="229" y="144"/>
                      </a:lnTo>
                      <a:lnTo>
                        <a:pt x="248" y="163"/>
                      </a:lnTo>
                      <a:lnTo>
                        <a:pt x="258" y="182"/>
                      </a:lnTo>
                      <a:lnTo>
                        <a:pt x="277" y="201"/>
                      </a:lnTo>
                      <a:lnTo>
                        <a:pt x="296" y="211"/>
                      </a:lnTo>
                      <a:lnTo>
                        <a:pt x="315" y="221"/>
                      </a:lnTo>
                      <a:lnTo>
                        <a:pt x="305"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rot="21021600">
                  <a:off x="4371120" y="2935080"/>
                  <a:ext cx="136080" cy="78120"/>
                </a:xfrm>
                <a:custGeom>
                  <a:avLst/>
                  <a:gdLst/>
                  <a:ahLst/>
                  <a:rect l="l" t="t" r="r" b="b"/>
                  <a:pathLst>
                    <a:path w="316" h="154">
                      <a:moveTo>
                        <a:pt x="316" y="125"/>
                      </a:moveTo>
                      <a:lnTo>
                        <a:pt x="316" y="125"/>
                      </a:lnTo>
                      <a:lnTo>
                        <a:pt x="306" y="106"/>
                      </a:lnTo>
                      <a:lnTo>
                        <a:pt x="287" y="87"/>
                      </a:lnTo>
                      <a:lnTo>
                        <a:pt x="278" y="77"/>
                      </a:lnTo>
                      <a:lnTo>
                        <a:pt x="249" y="58"/>
                      </a:lnTo>
                      <a:lnTo>
                        <a:pt x="230" y="48"/>
                      </a:lnTo>
                      <a:lnTo>
                        <a:pt x="211" y="39"/>
                      </a:lnTo>
                      <a:lnTo>
                        <a:pt x="192" y="29"/>
                      </a:lnTo>
                      <a:lnTo>
                        <a:pt x="173" y="19"/>
                      </a:lnTo>
                      <a:lnTo>
                        <a:pt x="153" y="10"/>
                      </a:lnTo>
                      <a:lnTo>
                        <a:pt x="125" y="10"/>
                      </a:lnTo>
                      <a:lnTo>
                        <a:pt x="106" y="0"/>
                      </a:lnTo>
                      <a:lnTo>
                        <a:pt x="86" y="0"/>
                      </a:lnTo>
                      <a:lnTo>
                        <a:pt x="67" y="0"/>
                      </a:lnTo>
                      <a:lnTo>
                        <a:pt x="39" y="0"/>
                      </a:lnTo>
                      <a:lnTo>
                        <a:pt x="20" y="0"/>
                      </a:lnTo>
                      <a:lnTo>
                        <a:pt x="0" y="0"/>
                      </a:lnTo>
                      <a:lnTo>
                        <a:pt x="10" y="39"/>
                      </a:lnTo>
                      <a:lnTo>
                        <a:pt x="20" y="39"/>
                      </a:lnTo>
                      <a:lnTo>
                        <a:pt x="39" y="39"/>
                      </a:lnTo>
                      <a:lnTo>
                        <a:pt x="58" y="39"/>
                      </a:lnTo>
                      <a:lnTo>
                        <a:pt x="77" y="39"/>
                      </a:lnTo>
                      <a:lnTo>
                        <a:pt x="106" y="48"/>
                      </a:lnTo>
                      <a:lnTo>
                        <a:pt x="115" y="48"/>
                      </a:lnTo>
                      <a:lnTo>
                        <a:pt x="134" y="58"/>
                      </a:lnTo>
                      <a:lnTo>
                        <a:pt x="163" y="58"/>
                      </a:lnTo>
                      <a:lnTo>
                        <a:pt x="182" y="67"/>
                      </a:lnTo>
                      <a:lnTo>
                        <a:pt x="192" y="77"/>
                      </a:lnTo>
                      <a:lnTo>
                        <a:pt x="211" y="87"/>
                      </a:lnTo>
                      <a:lnTo>
                        <a:pt x="230" y="96"/>
                      </a:lnTo>
                      <a:lnTo>
                        <a:pt x="249" y="106"/>
                      </a:lnTo>
                      <a:lnTo>
                        <a:pt x="259" y="115"/>
                      </a:lnTo>
                      <a:lnTo>
                        <a:pt x="268" y="135"/>
                      </a:lnTo>
                      <a:lnTo>
                        <a:pt x="278" y="154"/>
                      </a:lnTo>
                      <a:lnTo>
                        <a:pt x="278" y="154"/>
                      </a:lnTo>
                      <a:lnTo>
                        <a:pt x="316" y="1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44" name=""/>
                <p:cNvSpPr/>
                <p:nvPr/>
              </p:nvSpPr>
              <p:spPr>
                <a:xfrm rot="21021600">
                  <a:off x="4516200" y="2984400"/>
                  <a:ext cx="45000" cy="263520"/>
                </a:xfrm>
                <a:custGeom>
                  <a:avLst/>
                  <a:gdLst/>
                  <a:ahLst/>
                  <a:rect l="l" t="t" r="r" b="b"/>
                  <a:pathLst>
                    <a:path w="105" h="518">
                      <a:moveTo>
                        <a:pt x="76" y="480"/>
                      </a:moveTo>
                      <a:lnTo>
                        <a:pt x="76" y="499"/>
                      </a:lnTo>
                      <a:lnTo>
                        <a:pt x="95" y="442"/>
                      </a:lnTo>
                      <a:lnTo>
                        <a:pt x="105" y="374"/>
                      </a:lnTo>
                      <a:lnTo>
                        <a:pt x="105" y="307"/>
                      </a:lnTo>
                      <a:lnTo>
                        <a:pt x="105" y="240"/>
                      </a:lnTo>
                      <a:lnTo>
                        <a:pt x="105" y="182"/>
                      </a:lnTo>
                      <a:lnTo>
                        <a:pt x="86" y="115"/>
                      </a:lnTo>
                      <a:lnTo>
                        <a:pt x="67" y="58"/>
                      </a:lnTo>
                      <a:lnTo>
                        <a:pt x="38" y="0"/>
                      </a:lnTo>
                      <a:lnTo>
                        <a:pt x="0" y="29"/>
                      </a:lnTo>
                      <a:lnTo>
                        <a:pt x="28" y="77"/>
                      </a:lnTo>
                      <a:lnTo>
                        <a:pt x="47" y="125"/>
                      </a:lnTo>
                      <a:lnTo>
                        <a:pt x="57" y="182"/>
                      </a:lnTo>
                      <a:lnTo>
                        <a:pt x="67" y="240"/>
                      </a:lnTo>
                      <a:lnTo>
                        <a:pt x="67" y="307"/>
                      </a:lnTo>
                      <a:lnTo>
                        <a:pt x="57" y="365"/>
                      </a:lnTo>
                      <a:lnTo>
                        <a:pt x="47" y="432"/>
                      </a:lnTo>
                      <a:lnTo>
                        <a:pt x="38" y="490"/>
                      </a:lnTo>
                      <a:lnTo>
                        <a:pt x="47" y="518"/>
                      </a:lnTo>
                      <a:lnTo>
                        <a:pt x="76" y="4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rot="21021600">
                  <a:off x="4564080" y="3221280"/>
                  <a:ext cx="61920" cy="107280"/>
                </a:xfrm>
                <a:custGeom>
                  <a:avLst/>
                  <a:gdLst/>
                  <a:ahLst/>
                  <a:rect l="l" t="t" r="r" b="b"/>
                  <a:pathLst>
                    <a:path w="144" h="211">
                      <a:moveTo>
                        <a:pt x="144" y="211"/>
                      </a:moveTo>
                      <a:lnTo>
                        <a:pt x="144" y="211"/>
                      </a:lnTo>
                      <a:lnTo>
                        <a:pt x="134" y="182"/>
                      </a:lnTo>
                      <a:lnTo>
                        <a:pt x="134" y="144"/>
                      </a:lnTo>
                      <a:lnTo>
                        <a:pt x="125" y="115"/>
                      </a:lnTo>
                      <a:lnTo>
                        <a:pt x="106" y="86"/>
                      </a:lnTo>
                      <a:lnTo>
                        <a:pt x="87" y="67"/>
                      </a:lnTo>
                      <a:lnTo>
                        <a:pt x="67" y="38"/>
                      </a:lnTo>
                      <a:lnTo>
                        <a:pt x="48" y="19"/>
                      </a:lnTo>
                      <a:lnTo>
                        <a:pt x="29" y="0"/>
                      </a:lnTo>
                      <a:lnTo>
                        <a:pt x="0" y="38"/>
                      </a:lnTo>
                      <a:lnTo>
                        <a:pt x="20" y="48"/>
                      </a:lnTo>
                      <a:lnTo>
                        <a:pt x="39" y="67"/>
                      </a:lnTo>
                      <a:lnTo>
                        <a:pt x="58" y="86"/>
                      </a:lnTo>
                      <a:lnTo>
                        <a:pt x="67" y="115"/>
                      </a:lnTo>
                      <a:lnTo>
                        <a:pt x="77" y="134"/>
                      </a:lnTo>
                      <a:lnTo>
                        <a:pt x="87" y="163"/>
                      </a:lnTo>
                      <a:lnTo>
                        <a:pt x="96" y="182"/>
                      </a:lnTo>
                      <a:lnTo>
                        <a:pt x="96" y="211"/>
                      </a:lnTo>
                      <a:lnTo>
                        <a:pt x="96" y="211"/>
                      </a:lnTo>
                      <a:lnTo>
                        <a:pt x="144"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rot="21021600">
                  <a:off x="4597560" y="3325680"/>
                  <a:ext cx="53280" cy="185400"/>
                </a:xfrm>
                <a:custGeom>
                  <a:avLst/>
                  <a:gdLst/>
                  <a:ahLst/>
                  <a:rect l="l" t="t" r="r" b="b"/>
                  <a:pathLst>
                    <a:path w="124" h="365">
                      <a:moveTo>
                        <a:pt x="38" y="365"/>
                      </a:moveTo>
                      <a:lnTo>
                        <a:pt x="57" y="326"/>
                      </a:lnTo>
                      <a:lnTo>
                        <a:pt x="76" y="278"/>
                      </a:lnTo>
                      <a:lnTo>
                        <a:pt x="95" y="230"/>
                      </a:lnTo>
                      <a:lnTo>
                        <a:pt x="105" y="182"/>
                      </a:lnTo>
                      <a:lnTo>
                        <a:pt x="114" y="134"/>
                      </a:lnTo>
                      <a:lnTo>
                        <a:pt x="124" y="86"/>
                      </a:lnTo>
                      <a:lnTo>
                        <a:pt x="124" y="38"/>
                      </a:lnTo>
                      <a:lnTo>
                        <a:pt x="124" y="0"/>
                      </a:lnTo>
                      <a:lnTo>
                        <a:pt x="76" y="0"/>
                      </a:lnTo>
                      <a:lnTo>
                        <a:pt x="86" y="38"/>
                      </a:lnTo>
                      <a:lnTo>
                        <a:pt x="76" y="86"/>
                      </a:lnTo>
                      <a:lnTo>
                        <a:pt x="76" y="134"/>
                      </a:lnTo>
                      <a:lnTo>
                        <a:pt x="67" y="173"/>
                      </a:lnTo>
                      <a:lnTo>
                        <a:pt x="57" y="221"/>
                      </a:lnTo>
                      <a:lnTo>
                        <a:pt x="38" y="259"/>
                      </a:lnTo>
                      <a:lnTo>
                        <a:pt x="19" y="307"/>
                      </a:lnTo>
                      <a:lnTo>
                        <a:pt x="0" y="336"/>
                      </a:lnTo>
                      <a:lnTo>
                        <a:pt x="38"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rot="21021600">
                  <a:off x="4614840" y="3318840"/>
                  <a:ext cx="20520" cy="14760"/>
                </a:xfrm>
                <a:custGeom>
                  <a:avLst/>
                  <a:gdLst/>
                  <a:ahLst/>
                  <a:rect l="l" t="t" r="r" b="b"/>
                  <a:pathLst>
                    <a:path w="48" h="29">
                      <a:moveTo>
                        <a:pt x="10" y="0"/>
                      </a:moveTo>
                      <a:lnTo>
                        <a:pt x="0" y="10"/>
                      </a:lnTo>
                      <a:lnTo>
                        <a:pt x="0" y="20"/>
                      </a:lnTo>
                      <a:lnTo>
                        <a:pt x="10" y="20"/>
                      </a:lnTo>
                      <a:lnTo>
                        <a:pt x="10" y="29"/>
                      </a:lnTo>
                      <a:lnTo>
                        <a:pt x="19" y="29"/>
                      </a:lnTo>
                      <a:lnTo>
                        <a:pt x="29" y="29"/>
                      </a:lnTo>
                      <a:lnTo>
                        <a:pt x="38" y="29"/>
                      </a:lnTo>
                      <a:lnTo>
                        <a:pt x="48" y="20"/>
                      </a:lnTo>
                      <a:lnTo>
                        <a:pt x="1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48" name=""/>
                <p:cNvSpPr/>
                <p:nvPr/>
              </p:nvSpPr>
              <p:spPr>
                <a:xfrm rot="21021600">
                  <a:off x="4381920" y="3943800"/>
                  <a:ext cx="16200" cy="14760"/>
                </a:xfrm>
                <a:custGeom>
                  <a:avLst/>
                  <a:gdLst/>
                  <a:ahLst/>
                  <a:rect l="l" t="t" r="r" b="b"/>
                  <a:pathLst>
                    <a:path w="38" h="29">
                      <a:moveTo>
                        <a:pt x="0" y="0"/>
                      </a:moveTo>
                      <a:lnTo>
                        <a:pt x="0" y="10"/>
                      </a:lnTo>
                      <a:lnTo>
                        <a:pt x="0" y="19"/>
                      </a:lnTo>
                      <a:lnTo>
                        <a:pt x="9" y="29"/>
                      </a:lnTo>
                      <a:lnTo>
                        <a:pt x="19" y="29"/>
                      </a:lnTo>
                      <a:lnTo>
                        <a:pt x="19" y="29"/>
                      </a:lnTo>
                      <a:lnTo>
                        <a:pt x="28" y="29"/>
                      </a:lnTo>
                      <a:lnTo>
                        <a:pt x="38" y="19"/>
                      </a:lnTo>
                      <a:lnTo>
                        <a:pt x="38" y="1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49" name=""/>
                <p:cNvSpPr/>
                <p:nvPr/>
              </p:nvSpPr>
              <p:spPr>
                <a:xfrm rot="21021600">
                  <a:off x="4370040" y="3816720"/>
                  <a:ext cx="90360" cy="127080"/>
                </a:xfrm>
                <a:custGeom>
                  <a:avLst/>
                  <a:gdLst/>
                  <a:ahLst/>
                  <a:rect l="l" t="t" r="r" b="b"/>
                  <a:pathLst>
                    <a:path w="210" h="250">
                      <a:moveTo>
                        <a:pt x="162" y="19"/>
                      </a:moveTo>
                      <a:lnTo>
                        <a:pt x="172" y="0"/>
                      </a:lnTo>
                      <a:lnTo>
                        <a:pt x="134" y="19"/>
                      </a:lnTo>
                      <a:lnTo>
                        <a:pt x="105" y="48"/>
                      </a:lnTo>
                      <a:lnTo>
                        <a:pt x="76" y="77"/>
                      </a:lnTo>
                      <a:lnTo>
                        <a:pt x="57" y="106"/>
                      </a:lnTo>
                      <a:lnTo>
                        <a:pt x="38" y="135"/>
                      </a:lnTo>
                      <a:lnTo>
                        <a:pt x="19" y="173"/>
                      </a:lnTo>
                      <a:lnTo>
                        <a:pt x="9" y="202"/>
                      </a:lnTo>
                      <a:lnTo>
                        <a:pt x="0" y="240"/>
                      </a:lnTo>
                      <a:lnTo>
                        <a:pt x="38" y="250"/>
                      </a:lnTo>
                      <a:lnTo>
                        <a:pt x="48" y="221"/>
                      </a:lnTo>
                      <a:lnTo>
                        <a:pt x="67" y="183"/>
                      </a:lnTo>
                      <a:lnTo>
                        <a:pt x="76" y="154"/>
                      </a:lnTo>
                      <a:lnTo>
                        <a:pt x="86" y="125"/>
                      </a:lnTo>
                      <a:lnTo>
                        <a:pt x="105" y="96"/>
                      </a:lnTo>
                      <a:lnTo>
                        <a:pt x="134" y="77"/>
                      </a:lnTo>
                      <a:lnTo>
                        <a:pt x="162" y="58"/>
                      </a:lnTo>
                      <a:lnTo>
                        <a:pt x="191" y="39"/>
                      </a:lnTo>
                      <a:lnTo>
                        <a:pt x="210" y="10"/>
                      </a:lnTo>
                      <a:lnTo>
                        <a:pt x="16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rot="21021600">
                  <a:off x="4414680" y="3628800"/>
                  <a:ext cx="57600" cy="190080"/>
                </a:xfrm>
                <a:custGeom>
                  <a:avLst/>
                  <a:gdLst/>
                  <a:ahLst/>
                  <a:rect l="l" t="t" r="r" b="b"/>
                  <a:pathLst>
                    <a:path w="134" h="374">
                      <a:moveTo>
                        <a:pt x="105" y="0"/>
                      </a:moveTo>
                      <a:lnTo>
                        <a:pt x="105" y="0"/>
                      </a:lnTo>
                      <a:lnTo>
                        <a:pt x="77" y="38"/>
                      </a:lnTo>
                      <a:lnTo>
                        <a:pt x="48" y="86"/>
                      </a:lnTo>
                      <a:lnTo>
                        <a:pt x="29" y="125"/>
                      </a:lnTo>
                      <a:lnTo>
                        <a:pt x="10" y="173"/>
                      </a:lnTo>
                      <a:lnTo>
                        <a:pt x="0" y="230"/>
                      </a:lnTo>
                      <a:lnTo>
                        <a:pt x="0" y="278"/>
                      </a:lnTo>
                      <a:lnTo>
                        <a:pt x="0" y="326"/>
                      </a:lnTo>
                      <a:lnTo>
                        <a:pt x="0" y="374"/>
                      </a:lnTo>
                      <a:lnTo>
                        <a:pt x="48" y="365"/>
                      </a:lnTo>
                      <a:lnTo>
                        <a:pt x="38" y="326"/>
                      </a:lnTo>
                      <a:lnTo>
                        <a:pt x="38" y="278"/>
                      </a:lnTo>
                      <a:lnTo>
                        <a:pt x="48" y="230"/>
                      </a:lnTo>
                      <a:lnTo>
                        <a:pt x="48" y="182"/>
                      </a:lnTo>
                      <a:lnTo>
                        <a:pt x="67" y="144"/>
                      </a:lnTo>
                      <a:lnTo>
                        <a:pt x="86" y="106"/>
                      </a:lnTo>
                      <a:lnTo>
                        <a:pt x="105" y="67"/>
                      </a:lnTo>
                      <a:lnTo>
                        <a:pt x="134" y="38"/>
                      </a:lnTo>
                      <a:lnTo>
                        <a:pt x="134" y="29"/>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rot="21021600">
                  <a:off x="4434840" y="3509640"/>
                  <a:ext cx="189720" cy="117360"/>
                </a:xfrm>
                <a:custGeom>
                  <a:avLst/>
                  <a:gdLst/>
                  <a:ahLst/>
                  <a:rect l="l" t="t" r="r" b="b"/>
                  <a:pathLst>
                    <a:path w="440" h="231">
                      <a:moveTo>
                        <a:pt x="431" y="0"/>
                      </a:moveTo>
                      <a:lnTo>
                        <a:pt x="431" y="0"/>
                      </a:lnTo>
                      <a:lnTo>
                        <a:pt x="402" y="10"/>
                      </a:lnTo>
                      <a:lnTo>
                        <a:pt x="373" y="20"/>
                      </a:lnTo>
                      <a:lnTo>
                        <a:pt x="335" y="29"/>
                      </a:lnTo>
                      <a:lnTo>
                        <a:pt x="306" y="29"/>
                      </a:lnTo>
                      <a:lnTo>
                        <a:pt x="287" y="39"/>
                      </a:lnTo>
                      <a:lnTo>
                        <a:pt x="259" y="48"/>
                      </a:lnTo>
                      <a:lnTo>
                        <a:pt x="230" y="58"/>
                      </a:lnTo>
                      <a:lnTo>
                        <a:pt x="201" y="77"/>
                      </a:lnTo>
                      <a:lnTo>
                        <a:pt x="172" y="87"/>
                      </a:lnTo>
                      <a:lnTo>
                        <a:pt x="153" y="96"/>
                      </a:lnTo>
                      <a:lnTo>
                        <a:pt x="125" y="116"/>
                      </a:lnTo>
                      <a:lnTo>
                        <a:pt x="96" y="125"/>
                      </a:lnTo>
                      <a:lnTo>
                        <a:pt x="77" y="144"/>
                      </a:lnTo>
                      <a:lnTo>
                        <a:pt x="48" y="164"/>
                      </a:lnTo>
                      <a:lnTo>
                        <a:pt x="29" y="183"/>
                      </a:lnTo>
                      <a:lnTo>
                        <a:pt x="0" y="202"/>
                      </a:lnTo>
                      <a:lnTo>
                        <a:pt x="29" y="231"/>
                      </a:lnTo>
                      <a:lnTo>
                        <a:pt x="58" y="212"/>
                      </a:lnTo>
                      <a:lnTo>
                        <a:pt x="77" y="202"/>
                      </a:lnTo>
                      <a:lnTo>
                        <a:pt x="96" y="183"/>
                      </a:lnTo>
                      <a:lnTo>
                        <a:pt x="125" y="164"/>
                      </a:lnTo>
                      <a:lnTo>
                        <a:pt x="144" y="144"/>
                      </a:lnTo>
                      <a:lnTo>
                        <a:pt x="172" y="135"/>
                      </a:lnTo>
                      <a:lnTo>
                        <a:pt x="192" y="125"/>
                      </a:lnTo>
                      <a:lnTo>
                        <a:pt x="220" y="116"/>
                      </a:lnTo>
                      <a:lnTo>
                        <a:pt x="239" y="106"/>
                      </a:lnTo>
                      <a:lnTo>
                        <a:pt x="268" y="96"/>
                      </a:lnTo>
                      <a:lnTo>
                        <a:pt x="297" y="87"/>
                      </a:lnTo>
                      <a:lnTo>
                        <a:pt x="325" y="77"/>
                      </a:lnTo>
                      <a:lnTo>
                        <a:pt x="354" y="68"/>
                      </a:lnTo>
                      <a:lnTo>
                        <a:pt x="383" y="58"/>
                      </a:lnTo>
                      <a:lnTo>
                        <a:pt x="411" y="58"/>
                      </a:lnTo>
                      <a:lnTo>
                        <a:pt x="440" y="48"/>
                      </a:lnTo>
                      <a:lnTo>
                        <a:pt x="440" y="48"/>
                      </a:lnTo>
                      <a:lnTo>
                        <a:pt x="4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rot="21021600">
                  <a:off x="4612680" y="3489120"/>
                  <a:ext cx="69840" cy="38880"/>
                </a:xfrm>
                <a:custGeom>
                  <a:avLst/>
                  <a:gdLst/>
                  <a:ahLst/>
                  <a:rect l="l" t="t" r="r" b="b"/>
                  <a:pathLst>
                    <a:path w="162" h="77">
                      <a:moveTo>
                        <a:pt x="133" y="48"/>
                      </a:moveTo>
                      <a:lnTo>
                        <a:pt x="162" y="48"/>
                      </a:lnTo>
                      <a:lnTo>
                        <a:pt x="143" y="29"/>
                      </a:lnTo>
                      <a:lnTo>
                        <a:pt x="124" y="29"/>
                      </a:lnTo>
                      <a:lnTo>
                        <a:pt x="105" y="20"/>
                      </a:lnTo>
                      <a:lnTo>
                        <a:pt x="76" y="10"/>
                      </a:lnTo>
                      <a:lnTo>
                        <a:pt x="57" y="0"/>
                      </a:lnTo>
                      <a:lnTo>
                        <a:pt x="38" y="0"/>
                      </a:lnTo>
                      <a:lnTo>
                        <a:pt x="19" y="0"/>
                      </a:lnTo>
                      <a:lnTo>
                        <a:pt x="0" y="0"/>
                      </a:lnTo>
                      <a:lnTo>
                        <a:pt x="9" y="48"/>
                      </a:lnTo>
                      <a:lnTo>
                        <a:pt x="19" y="48"/>
                      </a:lnTo>
                      <a:lnTo>
                        <a:pt x="38" y="48"/>
                      </a:lnTo>
                      <a:lnTo>
                        <a:pt x="57" y="48"/>
                      </a:lnTo>
                      <a:lnTo>
                        <a:pt x="76" y="48"/>
                      </a:lnTo>
                      <a:lnTo>
                        <a:pt x="86" y="58"/>
                      </a:lnTo>
                      <a:lnTo>
                        <a:pt x="105" y="68"/>
                      </a:lnTo>
                      <a:lnTo>
                        <a:pt x="124" y="68"/>
                      </a:lnTo>
                      <a:lnTo>
                        <a:pt x="133" y="77"/>
                      </a:lnTo>
                      <a:lnTo>
                        <a:pt x="162" y="77"/>
                      </a:lnTo>
                      <a:lnTo>
                        <a:pt x="133" y="4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53" name=""/>
                <p:cNvSpPr/>
                <p:nvPr/>
              </p:nvSpPr>
              <p:spPr>
                <a:xfrm rot="21021600">
                  <a:off x="4665240" y="3432600"/>
                  <a:ext cx="111600" cy="82800"/>
                </a:xfrm>
                <a:custGeom>
                  <a:avLst/>
                  <a:gdLst/>
                  <a:ahLst/>
                  <a:rect l="l" t="t" r="r" b="b"/>
                  <a:pathLst>
                    <a:path w="259" h="163">
                      <a:moveTo>
                        <a:pt x="249" y="0"/>
                      </a:moveTo>
                      <a:lnTo>
                        <a:pt x="249" y="0"/>
                      </a:lnTo>
                      <a:lnTo>
                        <a:pt x="230" y="10"/>
                      </a:lnTo>
                      <a:lnTo>
                        <a:pt x="220" y="10"/>
                      </a:lnTo>
                      <a:lnTo>
                        <a:pt x="201" y="19"/>
                      </a:lnTo>
                      <a:lnTo>
                        <a:pt x="182" y="29"/>
                      </a:lnTo>
                      <a:lnTo>
                        <a:pt x="163" y="29"/>
                      </a:lnTo>
                      <a:lnTo>
                        <a:pt x="153" y="38"/>
                      </a:lnTo>
                      <a:lnTo>
                        <a:pt x="134" y="48"/>
                      </a:lnTo>
                      <a:lnTo>
                        <a:pt x="115" y="58"/>
                      </a:lnTo>
                      <a:lnTo>
                        <a:pt x="106" y="67"/>
                      </a:lnTo>
                      <a:lnTo>
                        <a:pt x="87" y="77"/>
                      </a:lnTo>
                      <a:lnTo>
                        <a:pt x="67" y="86"/>
                      </a:lnTo>
                      <a:lnTo>
                        <a:pt x="58" y="96"/>
                      </a:lnTo>
                      <a:lnTo>
                        <a:pt x="39" y="96"/>
                      </a:lnTo>
                      <a:lnTo>
                        <a:pt x="29" y="115"/>
                      </a:lnTo>
                      <a:lnTo>
                        <a:pt x="10" y="125"/>
                      </a:lnTo>
                      <a:lnTo>
                        <a:pt x="0" y="134"/>
                      </a:lnTo>
                      <a:lnTo>
                        <a:pt x="29" y="163"/>
                      </a:lnTo>
                      <a:lnTo>
                        <a:pt x="39" y="154"/>
                      </a:lnTo>
                      <a:lnTo>
                        <a:pt x="48" y="144"/>
                      </a:lnTo>
                      <a:lnTo>
                        <a:pt x="67" y="134"/>
                      </a:lnTo>
                      <a:lnTo>
                        <a:pt x="77" y="125"/>
                      </a:lnTo>
                      <a:lnTo>
                        <a:pt x="96" y="115"/>
                      </a:lnTo>
                      <a:lnTo>
                        <a:pt x="106" y="106"/>
                      </a:lnTo>
                      <a:lnTo>
                        <a:pt x="125" y="96"/>
                      </a:lnTo>
                      <a:lnTo>
                        <a:pt x="134" y="96"/>
                      </a:lnTo>
                      <a:lnTo>
                        <a:pt x="153" y="86"/>
                      </a:lnTo>
                      <a:lnTo>
                        <a:pt x="173" y="77"/>
                      </a:lnTo>
                      <a:lnTo>
                        <a:pt x="182" y="67"/>
                      </a:lnTo>
                      <a:lnTo>
                        <a:pt x="201" y="67"/>
                      </a:lnTo>
                      <a:lnTo>
                        <a:pt x="211" y="58"/>
                      </a:lnTo>
                      <a:lnTo>
                        <a:pt x="230" y="58"/>
                      </a:lnTo>
                      <a:lnTo>
                        <a:pt x="249" y="48"/>
                      </a:lnTo>
                      <a:lnTo>
                        <a:pt x="259" y="38"/>
                      </a:lnTo>
                      <a:lnTo>
                        <a:pt x="259" y="38"/>
                      </a:lnTo>
                      <a:lnTo>
                        <a:pt x="24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 name=""/>
                <p:cNvSpPr/>
                <p:nvPr/>
              </p:nvSpPr>
              <p:spPr>
                <a:xfrm rot="21021600">
                  <a:off x="4765680" y="3411720"/>
                  <a:ext cx="90360" cy="24120"/>
                </a:xfrm>
                <a:custGeom>
                  <a:avLst/>
                  <a:gdLst/>
                  <a:ahLst/>
                  <a:rect l="l" t="t" r="r" b="b"/>
                  <a:pathLst>
                    <a:path w="210" h="48">
                      <a:moveTo>
                        <a:pt x="172" y="10"/>
                      </a:moveTo>
                      <a:lnTo>
                        <a:pt x="191" y="0"/>
                      </a:lnTo>
                      <a:lnTo>
                        <a:pt x="182" y="0"/>
                      </a:lnTo>
                      <a:lnTo>
                        <a:pt x="163" y="0"/>
                      </a:lnTo>
                      <a:lnTo>
                        <a:pt x="153" y="0"/>
                      </a:lnTo>
                      <a:lnTo>
                        <a:pt x="143" y="0"/>
                      </a:lnTo>
                      <a:lnTo>
                        <a:pt x="134" y="0"/>
                      </a:lnTo>
                      <a:lnTo>
                        <a:pt x="115" y="0"/>
                      </a:lnTo>
                      <a:lnTo>
                        <a:pt x="105" y="0"/>
                      </a:lnTo>
                      <a:lnTo>
                        <a:pt x="96" y="0"/>
                      </a:lnTo>
                      <a:lnTo>
                        <a:pt x="86" y="0"/>
                      </a:lnTo>
                      <a:lnTo>
                        <a:pt x="67" y="0"/>
                      </a:lnTo>
                      <a:lnTo>
                        <a:pt x="57" y="0"/>
                      </a:lnTo>
                      <a:lnTo>
                        <a:pt x="48" y="0"/>
                      </a:lnTo>
                      <a:lnTo>
                        <a:pt x="38" y="0"/>
                      </a:lnTo>
                      <a:lnTo>
                        <a:pt x="19" y="0"/>
                      </a:lnTo>
                      <a:lnTo>
                        <a:pt x="10" y="10"/>
                      </a:lnTo>
                      <a:lnTo>
                        <a:pt x="0" y="10"/>
                      </a:lnTo>
                      <a:lnTo>
                        <a:pt x="10" y="48"/>
                      </a:lnTo>
                      <a:lnTo>
                        <a:pt x="19" y="48"/>
                      </a:lnTo>
                      <a:lnTo>
                        <a:pt x="29" y="48"/>
                      </a:lnTo>
                      <a:lnTo>
                        <a:pt x="38" y="48"/>
                      </a:lnTo>
                      <a:lnTo>
                        <a:pt x="48" y="39"/>
                      </a:lnTo>
                      <a:lnTo>
                        <a:pt x="57" y="39"/>
                      </a:lnTo>
                      <a:lnTo>
                        <a:pt x="67" y="39"/>
                      </a:lnTo>
                      <a:lnTo>
                        <a:pt x="86" y="39"/>
                      </a:lnTo>
                      <a:lnTo>
                        <a:pt x="96" y="39"/>
                      </a:lnTo>
                      <a:lnTo>
                        <a:pt x="105" y="39"/>
                      </a:lnTo>
                      <a:lnTo>
                        <a:pt x="115" y="39"/>
                      </a:lnTo>
                      <a:lnTo>
                        <a:pt x="134" y="39"/>
                      </a:lnTo>
                      <a:lnTo>
                        <a:pt x="143" y="39"/>
                      </a:lnTo>
                      <a:lnTo>
                        <a:pt x="153" y="39"/>
                      </a:lnTo>
                      <a:lnTo>
                        <a:pt x="163" y="48"/>
                      </a:lnTo>
                      <a:lnTo>
                        <a:pt x="182" y="39"/>
                      </a:lnTo>
                      <a:lnTo>
                        <a:pt x="191" y="39"/>
                      </a:lnTo>
                      <a:lnTo>
                        <a:pt x="210" y="29"/>
                      </a:lnTo>
                      <a:lnTo>
                        <a:pt x="172"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5" name=""/>
                <p:cNvSpPr/>
                <p:nvPr/>
              </p:nvSpPr>
              <p:spPr>
                <a:xfrm rot="21021600">
                  <a:off x="4832280" y="3331440"/>
                  <a:ext cx="156600" cy="77760"/>
                </a:xfrm>
                <a:custGeom>
                  <a:avLst/>
                  <a:gdLst/>
                  <a:ahLst/>
                  <a:rect l="l" t="t" r="r" b="b"/>
                  <a:pathLst>
                    <a:path w="363" h="153">
                      <a:moveTo>
                        <a:pt x="363" y="19"/>
                      </a:moveTo>
                      <a:lnTo>
                        <a:pt x="363" y="19"/>
                      </a:lnTo>
                      <a:lnTo>
                        <a:pt x="344" y="9"/>
                      </a:lnTo>
                      <a:lnTo>
                        <a:pt x="316" y="0"/>
                      </a:lnTo>
                      <a:lnTo>
                        <a:pt x="287" y="0"/>
                      </a:lnTo>
                      <a:lnTo>
                        <a:pt x="268" y="0"/>
                      </a:lnTo>
                      <a:lnTo>
                        <a:pt x="239" y="0"/>
                      </a:lnTo>
                      <a:lnTo>
                        <a:pt x="210" y="9"/>
                      </a:lnTo>
                      <a:lnTo>
                        <a:pt x="182" y="19"/>
                      </a:lnTo>
                      <a:lnTo>
                        <a:pt x="153" y="19"/>
                      </a:lnTo>
                      <a:lnTo>
                        <a:pt x="124" y="38"/>
                      </a:lnTo>
                      <a:lnTo>
                        <a:pt x="105" y="48"/>
                      </a:lnTo>
                      <a:lnTo>
                        <a:pt x="77" y="57"/>
                      </a:lnTo>
                      <a:lnTo>
                        <a:pt x="57" y="76"/>
                      </a:lnTo>
                      <a:lnTo>
                        <a:pt x="38" y="86"/>
                      </a:lnTo>
                      <a:lnTo>
                        <a:pt x="19" y="105"/>
                      </a:lnTo>
                      <a:lnTo>
                        <a:pt x="10" y="115"/>
                      </a:lnTo>
                      <a:lnTo>
                        <a:pt x="0" y="134"/>
                      </a:lnTo>
                      <a:lnTo>
                        <a:pt x="38" y="153"/>
                      </a:lnTo>
                      <a:lnTo>
                        <a:pt x="38" y="144"/>
                      </a:lnTo>
                      <a:lnTo>
                        <a:pt x="57" y="134"/>
                      </a:lnTo>
                      <a:lnTo>
                        <a:pt x="67" y="124"/>
                      </a:lnTo>
                      <a:lnTo>
                        <a:pt x="86" y="105"/>
                      </a:lnTo>
                      <a:lnTo>
                        <a:pt x="105" y="96"/>
                      </a:lnTo>
                      <a:lnTo>
                        <a:pt x="124" y="86"/>
                      </a:lnTo>
                      <a:lnTo>
                        <a:pt x="144" y="76"/>
                      </a:lnTo>
                      <a:lnTo>
                        <a:pt x="172" y="67"/>
                      </a:lnTo>
                      <a:lnTo>
                        <a:pt x="191" y="57"/>
                      </a:lnTo>
                      <a:lnTo>
                        <a:pt x="220" y="48"/>
                      </a:lnTo>
                      <a:lnTo>
                        <a:pt x="239" y="48"/>
                      </a:lnTo>
                      <a:lnTo>
                        <a:pt x="268" y="48"/>
                      </a:lnTo>
                      <a:lnTo>
                        <a:pt x="287" y="48"/>
                      </a:lnTo>
                      <a:lnTo>
                        <a:pt x="306" y="48"/>
                      </a:lnTo>
                      <a:lnTo>
                        <a:pt x="335" y="48"/>
                      </a:lnTo>
                      <a:lnTo>
                        <a:pt x="344" y="57"/>
                      </a:lnTo>
                      <a:lnTo>
                        <a:pt x="344" y="57"/>
                      </a:lnTo>
                      <a:lnTo>
                        <a:pt x="363"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6" name=""/>
                <p:cNvSpPr/>
                <p:nvPr/>
              </p:nvSpPr>
              <p:spPr>
                <a:xfrm rot="21021600">
                  <a:off x="4989240" y="3319200"/>
                  <a:ext cx="111240" cy="185400"/>
                </a:xfrm>
                <a:custGeom>
                  <a:avLst/>
                  <a:gdLst/>
                  <a:ahLst/>
                  <a:rect l="l" t="t" r="r" b="b"/>
                  <a:pathLst>
                    <a:path w="258" h="365">
                      <a:moveTo>
                        <a:pt x="258" y="365"/>
                      </a:moveTo>
                      <a:lnTo>
                        <a:pt x="258" y="365"/>
                      </a:lnTo>
                      <a:lnTo>
                        <a:pt x="249" y="336"/>
                      </a:lnTo>
                      <a:lnTo>
                        <a:pt x="249" y="307"/>
                      </a:lnTo>
                      <a:lnTo>
                        <a:pt x="239" y="278"/>
                      </a:lnTo>
                      <a:lnTo>
                        <a:pt x="230" y="249"/>
                      </a:lnTo>
                      <a:lnTo>
                        <a:pt x="230" y="221"/>
                      </a:lnTo>
                      <a:lnTo>
                        <a:pt x="211" y="192"/>
                      </a:lnTo>
                      <a:lnTo>
                        <a:pt x="201" y="173"/>
                      </a:lnTo>
                      <a:lnTo>
                        <a:pt x="192" y="144"/>
                      </a:lnTo>
                      <a:lnTo>
                        <a:pt x="172" y="125"/>
                      </a:lnTo>
                      <a:lnTo>
                        <a:pt x="163" y="96"/>
                      </a:lnTo>
                      <a:lnTo>
                        <a:pt x="144" y="77"/>
                      </a:lnTo>
                      <a:lnTo>
                        <a:pt x="125" y="57"/>
                      </a:lnTo>
                      <a:lnTo>
                        <a:pt x="96" y="38"/>
                      </a:lnTo>
                      <a:lnTo>
                        <a:pt x="77" y="29"/>
                      </a:lnTo>
                      <a:lnTo>
                        <a:pt x="48" y="9"/>
                      </a:lnTo>
                      <a:lnTo>
                        <a:pt x="19" y="0"/>
                      </a:lnTo>
                      <a:lnTo>
                        <a:pt x="0" y="38"/>
                      </a:lnTo>
                      <a:lnTo>
                        <a:pt x="29" y="48"/>
                      </a:lnTo>
                      <a:lnTo>
                        <a:pt x="48" y="57"/>
                      </a:lnTo>
                      <a:lnTo>
                        <a:pt x="77" y="77"/>
                      </a:lnTo>
                      <a:lnTo>
                        <a:pt x="96" y="86"/>
                      </a:lnTo>
                      <a:lnTo>
                        <a:pt x="115" y="105"/>
                      </a:lnTo>
                      <a:lnTo>
                        <a:pt x="125" y="125"/>
                      </a:lnTo>
                      <a:lnTo>
                        <a:pt x="144" y="144"/>
                      </a:lnTo>
                      <a:lnTo>
                        <a:pt x="153" y="163"/>
                      </a:lnTo>
                      <a:lnTo>
                        <a:pt x="163" y="192"/>
                      </a:lnTo>
                      <a:lnTo>
                        <a:pt x="172" y="211"/>
                      </a:lnTo>
                      <a:lnTo>
                        <a:pt x="182" y="230"/>
                      </a:lnTo>
                      <a:lnTo>
                        <a:pt x="192" y="259"/>
                      </a:lnTo>
                      <a:lnTo>
                        <a:pt x="201" y="288"/>
                      </a:lnTo>
                      <a:lnTo>
                        <a:pt x="201" y="307"/>
                      </a:lnTo>
                      <a:lnTo>
                        <a:pt x="211" y="336"/>
                      </a:lnTo>
                      <a:lnTo>
                        <a:pt x="211" y="365"/>
                      </a:lnTo>
                      <a:lnTo>
                        <a:pt x="211" y="365"/>
                      </a:lnTo>
                      <a:lnTo>
                        <a:pt x="258"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rot="21021600">
                  <a:off x="5045400" y="3499920"/>
                  <a:ext cx="86040" cy="185040"/>
                </a:xfrm>
                <a:custGeom>
                  <a:avLst/>
                  <a:gdLst/>
                  <a:ahLst/>
                  <a:rect l="l" t="t" r="r" b="b"/>
                  <a:pathLst>
                    <a:path w="200" h="364">
                      <a:moveTo>
                        <a:pt x="19" y="364"/>
                      </a:moveTo>
                      <a:lnTo>
                        <a:pt x="19" y="364"/>
                      </a:lnTo>
                      <a:lnTo>
                        <a:pt x="67" y="336"/>
                      </a:lnTo>
                      <a:lnTo>
                        <a:pt x="105" y="297"/>
                      </a:lnTo>
                      <a:lnTo>
                        <a:pt x="134" y="259"/>
                      </a:lnTo>
                      <a:lnTo>
                        <a:pt x="162" y="211"/>
                      </a:lnTo>
                      <a:lnTo>
                        <a:pt x="181" y="163"/>
                      </a:lnTo>
                      <a:lnTo>
                        <a:pt x="191" y="105"/>
                      </a:lnTo>
                      <a:lnTo>
                        <a:pt x="200" y="48"/>
                      </a:lnTo>
                      <a:lnTo>
                        <a:pt x="200" y="0"/>
                      </a:lnTo>
                      <a:lnTo>
                        <a:pt x="153" y="0"/>
                      </a:lnTo>
                      <a:lnTo>
                        <a:pt x="153" y="48"/>
                      </a:lnTo>
                      <a:lnTo>
                        <a:pt x="153" y="96"/>
                      </a:lnTo>
                      <a:lnTo>
                        <a:pt x="143" y="153"/>
                      </a:lnTo>
                      <a:lnTo>
                        <a:pt x="124" y="192"/>
                      </a:lnTo>
                      <a:lnTo>
                        <a:pt x="95" y="240"/>
                      </a:lnTo>
                      <a:lnTo>
                        <a:pt x="76" y="268"/>
                      </a:lnTo>
                      <a:lnTo>
                        <a:pt x="38" y="297"/>
                      </a:lnTo>
                      <a:lnTo>
                        <a:pt x="0" y="326"/>
                      </a:lnTo>
                      <a:lnTo>
                        <a:pt x="0" y="326"/>
                      </a:lnTo>
                      <a:lnTo>
                        <a:pt x="19"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rot="21021600">
                  <a:off x="4948200" y="3617280"/>
                  <a:ext cx="115560" cy="87840"/>
                </a:xfrm>
                <a:custGeom>
                  <a:avLst/>
                  <a:gdLst/>
                  <a:ahLst/>
                  <a:rect l="l" t="t" r="r" b="b"/>
                  <a:pathLst>
                    <a:path w="268" h="173">
                      <a:moveTo>
                        <a:pt x="0" y="39"/>
                      </a:moveTo>
                      <a:lnTo>
                        <a:pt x="0" y="39"/>
                      </a:lnTo>
                      <a:lnTo>
                        <a:pt x="19" y="48"/>
                      </a:lnTo>
                      <a:lnTo>
                        <a:pt x="29" y="58"/>
                      </a:lnTo>
                      <a:lnTo>
                        <a:pt x="48" y="67"/>
                      </a:lnTo>
                      <a:lnTo>
                        <a:pt x="57" y="77"/>
                      </a:lnTo>
                      <a:lnTo>
                        <a:pt x="77" y="87"/>
                      </a:lnTo>
                      <a:lnTo>
                        <a:pt x="96" y="96"/>
                      </a:lnTo>
                      <a:lnTo>
                        <a:pt x="105" y="115"/>
                      </a:lnTo>
                      <a:lnTo>
                        <a:pt x="124" y="125"/>
                      </a:lnTo>
                      <a:lnTo>
                        <a:pt x="134" y="135"/>
                      </a:lnTo>
                      <a:lnTo>
                        <a:pt x="153" y="154"/>
                      </a:lnTo>
                      <a:lnTo>
                        <a:pt x="172" y="154"/>
                      </a:lnTo>
                      <a:lnTo>
                        <a:pt x="191" y="163"/>
                      </a:lnTo>
                      <a:lnTo>
                        <a:pt x="210" y="173"/>
                      </a:lnTo>
                      <a:lnTo>
                        <a:pt x="230" y="173"/>
                      </a:lnTo>
                      <a:lnTo>
                        <a:pt x="249" y="173"/>
                      </a:lnTo>
                      <a:lnTo>
                        <a:pt x="268" y="163"/>
                      </a:lnTo>
                      <a:lnTo>
                        <a:pt x="249" y="125"/>
                      </a:lnTo>
                      <a:lnTo>
                        <a:pt x="239" y="125"/>
                      </a:lnTo>
                      <a:lnTo>
                        <a:pt x="230" y="125"/>
                      </a:lnTo>
                      <a:lnTo>
                        <a:pt x="210" y="125"/>
                      </a:lnTo>
                      <a:lnTo>
                        <a:pt x="201" y="125"/>
                      </a:lnTo>
                      <a:lnTo>
                        <a:pt x="191" y="115"/>
                      </a:lnTo>
                      <a:lnTo>
                        <a:pt x="172" y="115"/>
                      </a:lnTo>
                      <a:lnTo>
                        <a:pt x="163" y="106"/>
                      </a:lnTo>
                      <a:lnTo>
                        <a:pt x="153" y="96"/>
                      </a:lnTo>
                      <a:lnTo>
                        <a:pt x="134" y="77"/>
                      </a:lnTo>
                      <a:lnTo>
                        <a:pt x="115" y="67"/>
                      </a:lnTo>
                      <a:lnTo>
                        <a:pt x="105" y="58"/>
                      </a:lnTo>
                      <a:lnTo>
                        <a:pt x="86" y="39"/>
                      </a:lnTo>
                      <a:lnTo>
                        <a:pt x="77" y="29"/>
                      </a:lnTo>
                      <a:lnTo>
                        <a:pt x="57" y="19"/>
                      </a:lnTo>
                      <a:lnTo>
                        <a:pt x="38" y="10"/>
                      </a:lnTo>
                      <a:lnTo>
                        <a:pt x="19" y="0"/>
                      </a:lnTo>
                      <a:lnTo>
                        <a:pt x="19" y="0"/>
                      </a:lnTo>
                      <a:lnTo>
                        <a:pt x="0" y="3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59" name=""/>
                <p:cNvSpPr/>
                <p:nvPr/>
              </p:nvSpPr>
              <p:spPr>
                <a:xfrm rot="21021600">
                  <a:off x="4849200" y="3629880"/>
                  <a:ext cx="102960" cy="28800"/>
                </a:xfrm>
                <a:custGeom>
                  <a:avLst/>
                  <a:gdLst/>
                  <a:ahLst/>
                  <a:rect l="l" t="t" r="r" b="b"/>
                  <a:pathLst>
                    <a:path w="239" h="57">
                      <a:moveTo>
                        <a:pt x="19" y="48"/>
                      </a:moveTo>
                      <a:lnTo>
                        <a:pt x="10" y="57"/>
                      </a:lnTo>
                      <a:lnTo>
                        <a:pt x="19" y="57"/>
                      </a:lnTo>
                      <a:lnTo>
                        <a:pt x="38" y="57"/>
                      </a:lnTo>
                      <a:lnTo>
                        <a:pt x="58" y="57"/>
                      </a:lnTo>
                      <a:lnTo>
                        <a:pt x="67" y="57"/>
                      </a:lnTo>
                      <a:lnTo>
                        <a:pt x="86" y="57"/>
                      </a:lnTo>
                      <a:lnTo>
                        <a:pt x="96" y="48"/>
                      </a:lnTo>
                      <a:lnTo>
                        <a:pt x="115" y="48"/>
                      </a:lnTo>
                      <a:lnTo>
                        <a:pt x="124" y="48"/>
                      </a:lnTo>
                      <a:lnTo>
                        <a:pt x="144" y="48"/>
                      </a:lnTo>
                      <a:lnTo>
                        <a:pt x="153" y="48"/>
                      </a:lnTo>
                      <a:lnTo>
                        <a:pt x="163" y="48"/>
                      </a:lnTo>
                      <a:lnTo>
                        <a:pt x="182" y="48"/>
                      </a:lnTo>
                      <a:lnTo>
                        <a:pt x="191" y="48"/>
                      </a:lnTo>
                      <a:lnTo>
                        <a:pt x="201" y="48"/>
                      </a:lnTo>
                      <a:lnTo>
                        <a:pt x="211" y="48"/>
                      </a:lnTo>
                      <a:lnTo>
                        <a:pt x="220" y="48"/>
                      </a:lnTo>
                      <a:lnTo>
                        <a:pt x="239" y="9"/>
                      </a:lnTo>
                      <a:lnTo>
                        <a:pt x="220" y="9"/>
                      </a:lnTo>
                      <a:lnTo>
                        <a:pt x="211" y="0"/>
                      </a:lnTo>
                      <a:lnTo>
                        <a:pt x="191" y="0"/>
                      </a:lnTo>
                      <a:lnTo>
                        <a:pt x="182" y="0"/>
                      </a:lnTo>
                      <a:lnTo>
                        <a:pt x="163" y="0"/>
                      </a:lnTo>
                      <a:lnTo>
                        <a:pt x="153" y="0"/>
                      </a:lnTo>
                      <a:lnTo>
                        <a:pt x="134" y="0"/>
                      </a:lnTo>
                      <a:lnTo>
                        <a:pt x="124" y="9"/>
                      </a:lnTo>
                      <a:lnTo>
                        <a:pt x="105" y="9"/>
                      </a:lnTo>
                      <a:lnTo>
                        <a:pt x="96" y="9"/>
                      </a:lnTo>
                      <a:lnTo>
                        <a:pt x="86" y="9"/>
                      </a:lnTo>
                      <a:lnTo>
                        <a:pt x="67" y="9"/>
                      </a:lnTo>
                      <a:lnTo>
                        <a:pt x="58" y="9"/>
                      </a:lnTo>
                      <a:lnTo>
                        <a:pt x="38" y="9"/>
                      </a:lnTo>
                      <a:lnTo>
                        <a:pt x="29" y="9"/>
                      </a:lnTo>
                      <a:lnTo>
                        <a:pt x="10" y="9"/>
                      </a:lnTo>
                      <a:lnTo>
                        <a:pt x="0" y="19"/>
                      </a:lnTo>
                      <a:lnTo>
                        <a:pt x="19" y="4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0" name=""/>
                <p:cNvSpPr/>
                <p:nvPr/>
              </p:nvSpPr>
              <p:spPr>
                <a:xfrm rot="21021600">
                  <a:off x="4766760" y="3654720"/>
                  <a:ext cx="98640" cy="92520"/>
                </a:xfrm>
                <a:custGeom>
                  <a:avLst/>
                  <a:gdLst/>
                  <a:ahLst/>
                  <a:rect l="l" t="t" r="r" b="b"/>
                  <a:pathLst>
                    <a:path w="229" h="182">
                      <a:moveTo>
                        <a:pt x="9" y="182"/>
                      </a:moveTo>
                      <a:lnTo>
                        <a:pt x="9" y="182"/>
                      </a:lnTo>
                      <a:lnTo>
                        <a:pt x="29" y="173"/>
                      </a:lnTo>
                      <a:lnTo>
                        <a:pt x="48" y="173"/>
                      </a:lnTo>
                      <a:lnTo>
                        <a:pt x="57" y="163"/>
                      </a:lnTo>
                      <a:lnTo>
                        <a:pt x="76" y="153"/>
                      </a:lnTo>
                      <a:lnTo>
                        <a:pt x="95" y="144"/>
                      </a:lnTo>
                      <a:lnTo>
                        <a:pt x="105" y="134"/>
                      </a:lnTo>
                      <a:lnTo>
                        <a:pt x="115" y="125"/>
                      </a:lnTo>
                      <a:lnTo>
                        <a:pt x="134" y="115"/>
                      </a:lnTo>
                      <a:lnTo>
                        <a:pt x="143" y="105"/>
                      </a:lnTo>
                      <a:lnTo>
                        <a:pt x="153" y="86"/>
                      </a:lnTo>
                      <a:lnTo>
                        <a:pt x="172" y="77"/>
                      </a:lnTo>
                      <a:lnTo>
                        <a:pt x="182" y="67"/>
                      </a:lnTo>
                      <a:lnTo>
                        <a:pt x="191" y="57"/>
                      </a:lnTo>
                      <a:lnTo>
                        <a:pt x="210" y="48"/>
                      </a:lnTo>
                      <a:lnTo>
                        <a:pt x="220" y="38"/>
                      </a:lnTo>
                      <a:lnTo>
                        <a:pt x="229" y="29"/>
                      </a:lnTo>
                      <a:lnTo>
                        <a:pt x="210" y="0"/>
                      </a:lnTo>
                      <a:lnTo>
                        <a:pt x="191" y="0"/>
                      </a:lnTo>
                      <a:lnTo>
                        <a:pt x="182" y="19"/>
                      </a:lnTo>
                      <a:lnTo>
                        <a:pt x="172" y="29"/>
                      </a:lnTo>
                      <a:lnTo>
                        <a:pt x="153" y="38"/>
                      </a:lnTo>
                      <a:lnTo>
                        <a:pt x="143" y="48"/>
                      </a:lnTo>
                      <a:lnTo>
                        <a:pt x="134" y="57"/>
                      </a:lnTo>
                      <a:lnTo>
                        <a:pt x="115" y="67"/>
                      </a:lnTo>
                      <a:lnTo>
                        <a:pt x="105" y="77"/>
                      </a:lnTo>
                      <a:lnTo>
                        <a:pt x="95" y="86"/>
                      </a:lnTo>
                      <a:lnTo>
                        <a:pt x="76" y="96"/>
                      </a:lnTo>
                      <a:lnTo>
                        <a:pt x="67" y="105"/>
                      </a:lnTo>
                      <a:lnTo>
                        <a:pt x="57" y="115"/>
                      </a:lnTo>
                      <a:lnTo>
                        <a:pt x="38" y="125"/>
                      </a:lnTo>
                      <a:lnTo>
                        <a:pt x="29" y="134"/>
                      </a:lnTo>
                      <a:lnTo>
                        <a:pt x="19" y="134"/>
                      </a:lnTo>
                      <a:lnTo>
                        <a:pt x="0" y="144"/>
                      </a:lnTo>
                      <a:lnTo>
                        <a:pt x="0" y="144"/>
                      </a:lnTo>
                      <a:lnTo>
                        <a:pt x="9" y="182"/>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61" name=""/>
                <p:cNvSpPr/>
                <p:nvPr/>
              </p:nvSpPr>
              <p:spPr>
                <a:xfrm rot="21021600">
                  <a:off x="4659120" y="3744720"/>
                  <a:ext cx="119520" cy="28800"/>
                </a:xfrm>
                <a:custGeom>
                  <a:avLst/>
                  <a:gdLst/>
                  <a:ahLst/>
                  <a:rect l="l" t="t" r="r" b="b"/>
                  <a:pathLst>
                    <a:path w="277" h="57">
                      <a:moveTo>
                        <a:pt x="0" y="38"/>
                      </a:moveTo>
                      <a:lnTo>
                        <a:pt x="19" y="38"/>
                      </a:lnTo>
                      <a:lnTo>
                        <a:pt x="29" y="48"/>
                      </a:lnTo>
                      <a:lnTo>
                        <a:pt x="48" y="48"/>
                      </a:lnTo>
                      <a:lnTo>
                        <a:pt x="67" y="48"/>
                      </a:lnTo>
                      <a:lnTo>
                        <a:pt x="86" y="57"/>
                      </a:lnTo>
                      <a:lnTo>
                        <a:pt x="105" y="57"/>
                      </a:lnTo>
                      <a:lnTo>
                        <a:pt x="124" y="57"/>
                      </a:lnTo>
                      <a:lnTo>
                        <a:pt x="144" y="57"/>
                      </a:lnTo>
                      <a:lnTo>
                        <a:pt x="153" y="57"/>
                      </a:lnTo>
                      <a:lnTo>
                        <a:pt x="172" y="57"/>
                      </a:lnTo>
                      <a:lnTo>
                        <a:pt x="191" y="57"/>
                      </a:lnTo>
                      <a:lnTo>
                        <a:pt x="211" y="57"/>
                      </a:lnTo>
                      <a:lnTo>
                        <a:pt x="230" y="48"/>
                      </a:lnTo>
                      <a:lnTo>
                        <a:pt x="249" y="48"/>
                      </a:lnTo>
                      <a:lnTo>
                        <a:pt x="268" y="38"/>
                      </a:lnTo>
                      <a:lnTo>
                        <a:pt x="277" y="38"/>
                      </a:lnTo>
                      <a:lnTo>
                        <a:pt x="268" y="0"/>
                      </a:lnTo>
                      <a:lnTo>
                        <a:pt x="258" y="0"/>
                      </a:lnTo>
                      <a:lnTo>
                        <a:pt x="239" y="0"/>
                      </a:lnTo>
                      <a:lnTo>
                        <a:pt x="220" y="9"/>
                      </a:lnTo>
                      <a:lnTo>
                        <a:pt x="211" y="9"/>
                      </a:lnTo>
                      <a:lnTo>
                        <a:pt x="191" y="9"/>
                      </a:lnTo>
                      <a:lnTo>
                        <a:pt x="172" y="9"/>
                      </a:lnTo>
                      <a:lnTo>
                        <a:pt x="153" y="9"/>
                      </a:lnTo>
                      <a:lnTo>
                        <a:pt x="144" y="9"/>
                      </a:lnTo>
                      <a:lnTo>
                        <a:pt x="124" y="9"/>
                      </a:lnTo>
                      <a:lnTo>
                        <a:pt x="105" y="9"/>
                      </a:lnTo>
                      <a:lnTo>
                        <a:pt x="86" y="9"/>
                      </a:lnTo>
                      <a:lnTo>
                        <a:pt x="77" y="9"/>
                      </a:lnTo>
                      <a:lnTo>
                        <a:pt x="58" y="0"/>
                      </a:lnTo>
                      <a:lnTo>
                        <a:pt x="38" y="0"/>
                      </a:lnTo>
                      <a:lnTo>
                        <a:pt x="19" y="0"/>
                      </a:lnTo>
                      <a:lnTo>
                        <a:pt x="10" y="0"/>
                      </a:lnTo>
                      <a:lnTo>
                        <a:pt x="0"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2" name=""/>
                <p:cNvSpPr/>
                <p:nvPr/>
              </p:nvSpPr>
              <p:spPr>
                <a:xfrm rot="21021600">
                  <a:off x="4769280" y="3735360"/>
                  <a:ext cx="7920" cy="19080"/>
                </a:xfrm>
                <a:custGeom>
                  <a:avLst/>
                  <a:gdLst/>
                  <a:ahLst/>
                  <a:rect l="l" t="t" r="r" b="b"/>
                  <a:pathLst>
                    <a:path w="19" h="38">
                      <a:moveTo>
                        <a:pt x="19" y="0"/>
                      </a:moveTo>
                      <a:lnTo>
                        <a:pt x="10" y="0"/>
                      </a:lnTo>
                      <a:lnTo>
                        <a:pt x="0" y="0"/>
                      </a:lnTo>
                      <a:lnTo>
                        <a:pt x="0" y="9"/>
                      </a:lnTo>
                      <a:lnTo>
                        <a:pt x="0" y="9"/>
                      </a:lnTo>
                      <a:lnTo>
                        <a:pt x="0" y="19"/>
                      </a:lnTo>
                      <a:lnTo>
                        <a:pt x="0" y="29"/>
                      </a:lnTo>
                      <a:lnTo>
                        <a:pt x="10" y="38"/>
                      </a:lnTo>
                      <a:lnTo>
                        <a:pt x="10" y="38"/>
                      </a:lnTo>
                      <a:lnTo>
                        <a:pt x="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3" name=""/>
                <p:cNvSpPr/>
                <p:nvPr/>
              </p:nvSpPr>
              <p:spPr>
                <a:xfrm rot="21021600">
                  <a:off x="5090040" y="2941920"/>
                  <a:ext cx="16560" cy="14040"/>
                </a:xfrm>
                <a:custGeom>
                  <a:avLst/>
                  <a:gdLst/>
                  <a:ahLst/>
                  <a:rect l="l" t="t" r="r" b="b"/>
                  <a:pathLst>
                    <a:path w="39" h="28">
                      <a:moveTo>
                        <a:pt x="0" y="28"/>
                      </a:moveTo>
                      <a:lnTo>
                        <a:pt x="10" y="28"/>
                      </a:lnTo>
                      <a:lnTo>
                        <a:pt x="20" y="28"/>
                      </a:lnTo>
                      <a:lnTo>
                        <a:pt x="20" y="28"/>
                      </a:lnTo>
                      <a:lnTo>
                        <a:pt x="29" y="28"/>
                      </a:lnTo>
                      <a:lnTo>
                        <a:pt x="39" y="19"/>
                      </a:lnTo>
                      <a:lnTo>
                        <a:pt x="39" y="9"/>
                      </a:lnTo>
                      <a:lnTo>
                        <a:pt x="39" y="0"/>
                      </a:lnTo>
                      <a:lnTo>
                        <a:pt x="29" y="0"/>
                      </a:lnTo>
                      <a:lnTo>
                        <a:pt x="0"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4" name=""/>
                <p:cNvSpPr/>
                <p:nvPr/>
              </p:nvSpPr>
              <p:spPr>
                <a:xfrm rot="21021600">
                  <a:off x="4948560" y="2832120"/>
                  <a:ext cx="144360" cy="136080"/>
                </a:xfrm>
                <a:custGeom>
                  <a:avLst/>
                  <a:gdLst/>
                  <a:ahLst/>
                  <a:rect l="l" t="t" r="r" b="b"/>
                  <a:pathLst>
                    <a:path w="335" h="268">
                      <a:moveTo>
                        <a:pt x="0" y="38"/>
                      </a:moveTo>
                      <a:lnTo>
                        <a:pt x="0" y="38"/>
                      </a:lnTo>
                      <a:lnTo>
                        <a:pt x="20" y="48"/>
                      </a:lnTo>
                      <a:lnTo>
                        <a:pt x="48" y="57"/>
                      </a:lnTo>
                      <a:lnTo>
                        <a:pt x="67" y="67"/>
                      </a:lnTo>
                      <a:lnTo>
                        <a:pt x="87" y="76"/>
                      </a:lnTo>
                      <a:lnTo>
                        <a:pt x="106" y="86"/>
                      </a:lnTo>
                      <a:lnTo>
                        <a:pt x="125" y="96"/>
                      </a:lnTo>
                      <a:lnTo>
                        <a:pt x="144" y="115"/>
                      </a:lnTo>
                      <a:lnTo>
                        <a:pt x="163" y="124"/>
                      </a:lnTo>
                      <a:lnTo>
                        <a:pt x="182" y="144"/>
                      </a:lnTo>
                      <a:lnTo>
                        <a:pt x="201" y="153"/>
                      </a:lnTo>
                      <a:lnTo>
                        <a:pt x="220" y="172"/>
                      </a:lnTo>
                      <a:lnTo>
                        <a:pt x="239" y="192"/>
                      </a:lnTo>
                      <a:lnTo>
                        <a:pt x="249" y="211"/>
                      </a:lnTo>
                      <a:lnTo>
                        <a:pt x="268" y="230"/>
                      </a:lnTo>
                      <a:lnTo>
                        <a:pt x="287" y="249"/>
                      </a:lnTo>
                      <a:lnTo>
                        <a:pt x="306" y="268"/>
                      </a:lnTo>
                      <a:lnTo>
                        <a:pt x="335" y="240"/>
                      </a:lnTo>
                      <a:lnTo>
                        <a:pt x="316" y="220"/>
                      </a:lnTo>
                      <a:lnTo>
                        <a:pt x="306" y="201"/>
                      </a:lnTo>
                      <a:lnTo>
                        <a:pt x="287" y="182"/>
                      </a:lnTo>
                      <a:lnTo>
                        <a:pt x="268" y="163"/>
                      </a:lnTo>
                      <a:lnTo>
                        <a:pt x="249" y="144"/>
                      </a:lnTo>
                      <a:lnTo>
                        <a:pt x="230" y="124"/>
                      </a:lnTo>
                      <a:lnTo>
                        <a:pt x="211" y="105"/>
                      </a:lnTo>
                      <a:lnTo>
                        <a:pt x="192" y="96"/>
                      </a:lnTo>
                      <a:lnTo>
                        <a:pt x="173" y="76"/>
                      </a:lnTo>
                      <a:lnTo>
                        <a:pt x="153" y="57"/>
                      </a:lnTo>
                      <a:lnTo>
                        <a:pt x="134" y="48"/>
                      </a:lnTo>
                      <a:lnTo>
                        <a:pt x="106" y="38"/>
                      </a:lnTo>
                      <a:lnTo>
                        <a:pt x="87" y="28"/>
                      </a:lnTo>
                      <a:lnTo>
                        <a:pt x="58" y="9"/>
                      </a:lnTo>
                      <a:lnTo>
                        <a:pt x="39" y="9"/>
                      </a:lnTo>
                      <a:lnTo>
                        <a:pt x="10" y="0"/>
                      </a:lnTo>
                      <a:lnTo>
                        <a:pt x="10"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rot="21021600">
                  <a:off x="4836960" y="2847960"/>
                  <a:ext cx="111240" cy="68040"/>
                </a:xfrm>
                <a:custGeom>
                  <a:avLst/>
                  <a:gdLst/>
                  <a:ahLst/>
                  <a:rect l="l" t="t" r="r" b="b"/>
                  <a:pathLst>
                    <a:path w="258" h="134">
                      <a:moveTo>
                        <a:pt x="0" y="134"/>
                      </a:moveTo>
                      <a:lnTo>
                        <a:pt x="29" y="134"/>
                      </a:lnTo>
                      <a:lnTo>
                        <a:pt x="48" y="125"/>
                      </a:lnTo>
                      <a:lnTo>
                        <a:pt x="57" y="115"/>
                      </a:lnTo>
                      <a:lnTo>
                        <a:pt x="76" y="106"/>
                      </a:lnTo>
                      <a:lnTo>
                        <a:pt x="86" y="96"/>
                      </a:lnTo>
                      <a:lnTo>
                        <a:pt x="95" y="86"/>
                      </a:lnTo>
                      <a:lnTo>
                        <a:pt x="115" y="77"/>
                      </a:lnTo>
                      <a:lnTo>
                        <a:pt x="124" y="67"/>
                      </a:lnTo>
                      <a:lnTo>
                        <a:pt x="143" y="58"/>
                      </a:lnTo>
                      <a:lnTo>
                        <a:pt x="153" y="58"/>
                      </a:lnTo>
                      <a:lnTo>
                        <a:pt x="172" y="48"/>
                      </a:lnTo>
                      <a:lnTo>
                        <a:pt x="182" y="48"/>
                      </a:lnTo>
                      <a:lnTo>
                        <a:pt x="201" y="48"/>
                      </a:lnTo>
                      <a:lnTo>
                        <a:pt x="210" y="48"/>
                      </a:lnTo>
                      <a:lnTo>
                        <a:pt x="229" y="48"/>
                      </a:lnTo>
                      <a:lnTo>
                        <a:pt x="239" y="48"/>
                      </a:lnTo>
                      <a:lnTo>
                        <a:pt x="248" y="48"/>
                      </a:lnTo>
                      <a:lnTo>
                        <a:pt x="258" y="10"/>
                      </a:lnTo>
                      <a:lnTo>
                        <a:pt x="239" y="0"/>
                      </a:lnTo>
                      <a:lnTo>
                        <a:pt x="229" y="0"/>
                      </a:lnTo>
                      <a:lnTo>
                        <a:pt x="210" y="0"/>
                      </a:lnTo>
                      <a:lnTo>
                        <a:pt x="191" y="0"/>
                      </a:lnTo>
                      <a:lnTo>
                        <a:pt x="172" y="10"/>
                      </a:lnTo>
                      <a:lnTo>
                        <a:pt x="162" y="10"/>
                      </a:lnTo>
                      <a:lnTo>
                        <a:pt x="143" y="19"/>
                      </a:lnTo>
                      <a:lnTo>
                        <a:pt x="124" y="19"/>
                      </a:lnTo>
                      <a:lnTo>
                        <a:pt x="105" y="29"/>
                      </a:lnTo>
                      <a:lnTo>
                        <a:pt x="95" y="38"/>
                      </a:lnTo>
                      <a:lnTo>
                        <a:pt x="76" y="48"/>
                      </a:lnTo>
                      <a:lnTo>
                        <a:pt x="67" y="58"/>
                      </a:lnTo>
                      <a:lnTo>
                        <a:pt x="48" y="67"/>
                      </a:lnTo>
                      <a:lnTo>
                        <a:pt x="29" y="77"/>
                      </a:lnTo>
                      <a:lnTo>
                        <a:pt x="19" y="96"/>
                      </a:lnTo>
                      <a:lnTo>
                        <a:pt x="0" y="106"/>
                      </a:lnTo>
                      <a:lnTo>
                        <a:pt x="38" y="115"/>
                      </a:lnTo>
                      <a:lnTo>
                        <a:pt x="0" y="13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6" name=""/>
                <p:cNvSpPr/>
                <p:nvPr/>
              </p:nvSpPr>
              <p:spPr>
                <a:xfrm rot="21021600">
                  <a:off x="4685400" y="2810880"/>
                  <a:ext cx="164880" cy="126360"/>
                </a:xfrm>
                <a:custGeom>
                  <a:avLst/>
                  <a:gdLst/>
                  <a:ahLst/>
                  <a:rect l="l" t="t" r="r" b="b"/>
                  <a:pathLst>
                    <a:path w="382" h="249">
                      <a:moveTo>
                        <a:pt x="9" y="57"/>
                      </a:moveTo>
                      <a:lnTo>
                        <a:pt x="9" y="57"/>
                      </a:lnTo>
                      <a:lnTo>
                        <a:pt x="28" y="48"/>
                      </a:lnTo>
                      <a:lnTo>
                        <a:pt x="48" y="48"/>
                      </a:lnTo>
                      <a:lnTo>
                        <a:pt x="76" y="48"/>
                      </a:lnTo>
                      <a:lnTo>
                        <a:pt x="95" y="48"/>
                      </a:lnTo>
                      <a:lnTo>
                        <a:pt x="124" y="48"/>
                      </a:lnTo>
                      <a:lnTo>
                        <a:pt x="143" y="57"/>
                      </a:lnTo>
                      <a:lnTo>
                        <a:pt x="172" y="67"/>
                      </a:lnTo>
                      <a:lnTo>
                        <a:pt x="191" y="77"/>
                      </a:lnTo>
                      <a:lnTo>
                        <a:pt x="220" y="96"/>
                      </a:lnTo>
                      <a:lnTo>
                        <a:pt x="239" y="105"/>
                      </a:lnTo>
                      <a:lnTo>
                        <a:pt x="258" y="125"/>
                      </a:lnTo>
                      <a:lnTo>
                        <a:pt x="277" y="144"/>
                      </a:lnTo>
                      <a:lnTo>
                        <a:pt x="296" y="173"/>
                      </a:lnTo>
                      <a:lnTo>
                        <a:pt x="315" y="192"/>
                      </a:lnTo>
                      <a:lnTo>
                        <a:pt x="325" y="221"/>
                      </a:lnTo>
                      <a:lnTo>
                        <a:pt x="344" y="249"/>
                      </a:lnTo>
                      <a:lnTo>
                        <a:pt x="382" y="230"/>
                      </a:lnTo>
                      <a:lnTo>
                        <a:pt x="363" y="201"/>
                      </a:lnTo>
                      <a:lnTo>
                        <a:pt x="353" y="173"/>
                      </a:lnTo>
                      <a:lnTo>
                        <a:pt x="334" y="144"/>
                      </a:lnTo>
                      <a:lnTo>
                        <a:pt x="315" y="115"/>
                      </a:lnTo>
                      <a:lnTo>
                        <a:pt x="287" y="96"/>
                      </a:lnTo>
                      <a:lnTo>
                        <a:pt x="267" y="77"/>
                      </a:lnTo>
                      <a:lnTo>
                        <a:pt x="239" y="57"/>
                      </a:lnTo>
                      <a:lnTo>
                        <a:pt x="210" y="48"/>
                      </a:lnTo>
                      <a:lnTo>
                        <a:pt x="181" y="29"/>
                      </a:lnTo>
                      <a:lnTo>
                        <a:pt x="162" y="19"/>
                      </a:lnTo>
                      <a:lnTo>
                        <a:pt x="134" y="9"/>
                      </a:lnTo>
                      <a:lnTo>
                        <a:pt x="105" y="9"/>
                      </a:lnTo>
                      <a:lnTo>
                        <a:pt x="76" y="0"/>
                      </a:lnTo>
                      <a:lnTo>
                        <a:pt x="48" y="0"/>
                      </a:lnTo>
                      <a:lnTo>
                        <a:pt x="19" y="9"/>
                      </a:lnTo>
                      <a:lnTo>
                        <a:pt x="0" y="9"/>
                      </a:lnTo>
                      <a:lnTo>
                        <a:pt x="0" y="9"/>
                      </a:lnTo>
                      <a:lnTo>
                        <a:pt x="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rot="21021600">
                  <a:off x="4503240" y="2844360"/>
                  <a:ext cx="193680" cy="181080"/>
                </a:xfrm>
                <a:custGeom>
                  <a:avLst/>
                  <a:gdLst/>
                  <a:ahLst/>
                  <a:rect l="l" t="t" r="r" b="b"/>
                  <a:pathLst>
                    <a:path w="449" h="356">
                      <a:moveTo>
                        <a:pt x="38" y="356"/>
                      </a:moveTo>
                      <a:lnTo>
                        <a:pt x="57" y="327"/>
                      </a:lnTo>
                      <a:lnTo>
                        <a:pt x="67" y="298"/>
                      </a:lnTo>
                      <a:lnTo>
                        <a:pt x="86" y="279"/>
                      </a:lnTo>
                      <a:lnTo>
                        <a:pt x="105" y="250"/>
                      </a:lnTo>
                      <a:lnTo>
                        <a:pt x="134" y="231"/>
                      </a:lnTo>
                      <a:lnTo>
                        <a:pt x="153" y="212"/>
                      </a:lnTo>
                      <a:lnTo>
                        <a:pt x="182" y="183"/>
                      </a:lnTo>
                      <a:lnTo>
                        <a:pt x="210" y="164"/>
                      </a:lnTo>
                      <a:lnTo>
                        <a:pt x="239" y="144"/>
                      </a:lnTo>
                      <a:lnTo>
                        <a:pt x="268" y="125"/>
                      </a:lnTo>
                      <a:lnTo>
                        <a:pt x="296" y="116"/>
                      </a:lnTo>
                      <a:lnTo>
                        <a:pt x="325" y="96"/>
                      </a:lnTo>
                      <a:lnTo>
                        <a:pt x="354" y="77"/>
                      </a:lnTo>
                      <a:lnTo>
                        <a:pt x="392" y="68"/>
                      </a:lnTo>
                      <a:lnTo>
                        <a:pt x="421" y="58"/>
                      </a:lnTo>
                      <a:lnTo>
                        <a:pt x="449" y="48"/>
                      </a:lnTo>
                      <a:lnTo>
                        <a:pt x="440" y="0"/>
                      </a:lnTo>
                      <a:lnTo>
                        <a:pt x="401" y="10"/>
                      </a:lnTo>
                      <a:lnTo>
                        <a:pt x="373" y="29"/>
                      </a:lnTo>
                      <a:lnTo>
                        <a:pt x="335" y="39"/>
                      </a:lnTo>
                      <a:lnTo>
                        <a:pt x="306" y="58"/>
                      </a:lnTo>
                      <a:lnTo>
                        <a:pt x="277" y="68"/>
                      </a:lnTo>
                      <a:lnTo>
                        <a:pt x="249" y="87"/>
                      </a:lnTo>
                      <a:lnTo>
                        <a:pt x="210" y="106"/>
                      </a:lnTo>
                      <a:lnTo>
                        <a:pt x="182" y="125"/>
                      </a:lnTo>
                      <a:lnTo>
                        <a:pt x="153" y="154"/>
                      </a:lnTo>
                      <a:lnTo>
                        <a:pt x="124" y="173"/>
                      </a:lnTo>
                      <a:lnTo>
                        <a:pt x="105" y="202"/>
                      </a:lnTo>
                      <a:lnTo>
                        <a:pt x="76" y="221"/>
                      </a:lnTo>
                      <a:lnTo>
                        <a:pt x="57" y="250"/>
                      </a:lnTo>
                      <a:lnTo>
                        <a:pt x="38" y="279"/>
                      </a:lnTo>
                      <a:lnTo>
                        <a:pt x="19" y="308"/>
                      </a:lnTo>
                      <a:lnTo>
                        <a:pt x="0" y="336"/>
                      </a:lnTo>
                      <a:lnTo>
                        <a:pt x="38"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rot="21021600">
                  <a:off x="4671360" y="2834640"/>
                  <a:ext cx="16200" cy="19080"/>
                </a:xfrm>
                <a:custGeom>
                  <a:avLst/>
                  <a:gdLst/>
                  <a:ahLst/>
                  <a:rect l="l" t="t" r="r" b="b"/>
                  <a:pathLst>
                    <a:path w="38" h="38">
                      <a:moveTo>
                        <a:pt x="0" y="0"/>
                      </a:moveTo>
                      <a:lnTo>
                        <a:pt x="0" y="10"/>
                      </a:lnTo>
                      <a:lnTo>
                        <a:pt x="0" y="19"/>
                      </a:lnTo>
                      <a:lnTo>
                        <a:pt x="9" y="29"/>
                      </a:lnTo>
                      <a:lnTo>
                        <a:pt x="19" y="29"/>
                      </a:lnTo>
                      <a:lnTo>
                        <a:pt x="19" y="38"/>
                      </a:lnTo>
                      <a:lnTo>
                        <a:pt x="28" y="38"/>
                      </a:lnTo>
                      <a:lnTo>
                        <a:pt x="38" y="29"/>
                      </a:lnTo>
                      <a:lnTo>
                        <a:pt x="38" y="19"/>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9" name=""/>
                <p:cNvSpPr/>
                <p:nvPr/>
              </p:nvSpPr>
              <p:spPr>
                <a:xfrm rot="21021600">
                  <a:off x="4195800" y="3098520"/>
                  <a:ext cx="20520" cy="9360"/>
                </a:xfrm>
                <a:custGeom>
                  <a:avLst/>
                  <a:gdLst/>
                  <a:ahLst/>
                  <a:rect l="l" t="t" r="r" b="b"/>
                  <a:pathLst>
                    <a:path w="48" h="19">
                      <a:moveTo>
                        <a:pt x="48" y="19"/>
                      </a:moveTo>
                      <a:lnTo>
                        <a:pt x="48" y="10"/>
                      </a:lnTo>
                      <a:lnTo>
                        <a:pt x="38" y="0"/>
                      </a:lnTo>
                      <a:lnTo>
                        <a:pt x="29" y="0"/>
                      </a:lnTo>
                      <a:lnTo>
                        <a:pt x="19" y="0"/>
                      </a:lnTo>
                      <a:lnTo>
                        <a:pt x="19" y="0"/>
                      </a:lnTo>
                      <a:lnTo>
                        <a:pt x="10" y="10"/>
                      </a:lnTo>
                      <a:lnTo>
                        <a:pt x="0" y="10"/>
                      </a:lnTo>
                      <a:lnTo>
                        <a:pt x="0" y="19"/>
                      </a:lnTo>
                      <a:lnTo>
                        <a:pt x="48"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 name=""/>
                <p:cNvSpPr/>
                <p:nvPr/>
              </p:nvSpPr>
              <p:spPr>
                <a:xfrm rot="21021600">
                  <a:off x="4173840" y="3109680"/>
                  <a:ext cx="57600" cy="171000"/>
                </a:xfrm>
                <a:custGeom>
                  <a:avLst/>
                  <a:gdLst/>
                  <a:ahLst/>
                  <a:rect l="l" t="t" r="r" b="b"/>
                  <a:pathLst>
                    <a:path w="134" h="336">
                      <a:moveTo>
                        <a:pt x="38" y="336"/>
                      </a:moveTo>
                      <a:lnTo>
                        <a:pt x="38" y="336"/>
                      </a:lnTo>
                      <a:lnTo>
                        <a:pt x="57" y="308"/>
                      </a:lnTo>
                      <a:lnTo>
                        <a:pt x="86" y="269"/>
                      </a:lnTo>
                      <a:lnTo>
                        <a:pt x="105" y="231"/>
                      </a:lnTo>
                      <a:lnTo>
                        <a:pt x="115" y="183"/>
                      </a:lnTo>
                      <a:lnTo>
                        <a:pt x="124" y="144"/>
                      </a:lnTo>
                      <a:lnTo>
                        <a:pt x="134" y="96"/>
                      </a:lnTo>
                      <a:lnTo>
                        <a:pt x="134" y="48"/>
                      </a:lnTo>
                      <a:lnTo>
                        <a:pt x="134" y="0"/>
                      </a:lnTo>
                      <a:lnTo>
                        <a:pt x="86" y="0"/>
                      </a:lnTo>
                      <a:lnTo>
                        <a:pt x="86" y="48"/>
                      </a:lnTo>
                      <a:lnTo>
                        <a:pt x="86" y="96"/>
                      </a:lnTo>
                      <a:lnTo>
                        <a:pt x="86" y="135"/>
                      </a:lnTo>
                      <a:lnTo>
                        <a:pt x="77" y="173"/>
                      </a:lnTo>
                      <a:lnTo>
                        <a:pt x="57" y="212"/>
                      </a:lnTo>
                      <a:lnTo>
                        <a:pt x="48" y="250"/>
                      </a:lnTo>
                      <a:lnTo>
                        <a:pt x="29" y="279"/>
                      </a:lnTo>
                      <a:lnTo>
                        <a:pt x="0" y="317"/>
                      </a:lnTo>
                      <a:lnTo>
                        <a:pt x="0" y="317"/>
                      </a:lnTo>
                      <a:lnTo>
                        <a:pt x="3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rot="21021600">
                  <a:off x="4085280" y="3282120"/>
                  <a:ext cx="123480" cy="58320"/>
                </a:xfrm>
                <a:custGeom>
                  <a:avLst/>
                  <a:gdLst/>
                  <a:ahLst/>
                  <a:rect l="l" t="t" r="r" b="b"/>
                  <a:pathLst>
                    <a:path w="287" h="115">
                      <a:moveTo>
                        <a:pt x="39" y="87"/>
                      </a:moveTo>
                      <a:lnTo>
                        <a:pt x="10" y="106"/>
                      </a:lnTo>
                      <a:lnTo>
                        <a:pt x="29" y="106"/>
                      </a:lnTo>
                      <a:lnTo>
                        <a:pt x="48" y="106"/>
                      </a:lnTo>
                      <a:lnTo>
                        <a:pt x="67" y="115"/>
                      </a:lnTo>
                      <a:lnTo>
                        <a:pt x="87" y="115"/>
                      </a:lnTo>
                      <a:lnTo>
                        <a:pt x="106" y="106"/>
                      </a:lnTo>
                      <a:lnTo>
                        <a:pt x="125" y="106"/>
                      </a:lnTo>
                      <a:lnTo>
                        <a:pt x="144" y="106"/>
                      </a:lnTo>
                      <a:lnTo>
                        <a:pt x="163" y="96"/>
                      </a:lnTo>
                      <a:lnTo>
                        <a:pt x="173" y="96"/>
                      </a:lnTo>
                      <a:lnTo>
                        <a:pt x="192" y="87"/>
                      </a:lnTo>
                      <a:lnTo>
                        <a:pt x="211" y="77"/>
                      </a:lnTo>
                      <a:lnTo>
                        <a:pt x="230" y="67"/>
                      </a:lnTo>
                      <a:lnTo>
                        <a:pt x="239" y="58"/>
                      </a:lnTo>
                      <a:lnTo>
                        <a:pt x="259" y="48"/>
                      </a:lnTo>
                      <a:lnTo>
                        <a:pt x="268" y="39"/>
                      </a:lnTo>
                      <a:lnTo>
                        <a:pt x="287" y="19"/>
                      </a:lnTo>
                      <a:lnTo>
                        <a:pt x="249" y="0"/>
                      </a:lnTo>
                      <a:lnTo>
                        <a:pt x="239" y="0"/>
                      </a:lnTo>
                      <a:lnTo>
                        <a:pt x="230" y="10"/>
                      </a:lnTo>
                      <a:lnTo>
                        <a:pt x="220" y="29"/>
                      </a:lnTo>
                      <a:lnTo>
                        <a:pt x="211" y="29"/>
                      </a:lnTo>
                      <a:lnTo>
                        <a:pt x="192" y="39"/>
                      </a:lnTo>
                      <a:lnTo>
                        <a:pt x="182" y="48"/>
                      </a:lnTo>
                      <a:lnTo>
                        <a:pt x="163" y="48"/>
                      </a:lnTo>
                      <a:lnTo>
                        <a:pt x="144" y="58"/>
                      </a:lnTo>
                      <a:lnTo>
                        <a:pt x="134" y="58"/>
                      </a:lnTo>
                      <a:lnTo>
                        <a:pt x="115" y="67"/>
                      </a:lnTo>
                      <a:lnTo>
                        <a:pt x="96" y="67"/>
                      </a:lnTo>
                      <a:lnTo>
                        <a:pt x="87" y="67"/>
                      </a:lnTo>
                      <a:lnTo>
                        <a:pt x="67" y="67"/>
                      </a:lnTo>
                      <a:lnTo>
                        <a:pt x="48" y="67"/>
                      </a:lnTo>
                      <a:lnTo>
                        <a:pt x="39" y="67"/>
                      </a:lnTo>
                      <a:lnTo>
                        <a:pt x="20" y="58"/>
                      </a:lnTo>
                      <a:lnTo>
                        <a:pt x="0" y="77"/>
                      </a:lnTo>
                      <a:lnTo>
                        <a:pt x="39" y="8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2" name=""/>
                <p:cNvSpPr/>
                <p:nvPr/>
              </p:nvSpPr>
              <p:spPr>
                <a:xfrm rot="21021600">
                  <a:off x="4073040" y="3331440"/>
                  <a:ext cx="37080" cy="68040"/>
                </a:xfrm>
                <a:custGeom>
                  <a:avLst/>
                  <a:gdLst/>
                  <a:ahLst/>
                  <a:rect l="l" t="t" r="r" b="b"/>
                  <a:pathLst>
                    <a:path w="86" h="134">
                      <a:moveTo>
                        <a:pt x="38" y="105"/>
                      </a:moveTo>
                      <a:lnTo>
                        <a:pt x="38" y="125"/>
                      </a:lnTo>
                      <a:lnTo>
                        <a:pt x="47" y="115"/>
                      </a:lnTo>
                      <a:lnTo>
                        <a:pt x="47" y="96"/>
                      </a:lnTo>
                      <a:lnTo>
                        <a:pt x="57" y="86"/>
                      </a:lnTo>
                      <a:lnTo>
                        <a:pt x="57" y="67"/>
                      </a:lnTo>
                      <a:lnTo>
                        <a:pt x="67" y="57"/>
                      </a:lnTo>
                      <a:lnTo>
                        <a:pt x="76" y="38"/>
                      </a:lnTo>
                      <a:lnTo>
                        <a:pt x="76" y="29"/>
                      </a:lnTo>
                      <a:lnTo>
                        <a:pt x="86" y="10"/>
                      </a:lnTo>
                      <a:lnTo>
                        <a:pt x="47" y="0"/>
                      </a:lnTo>
                      <a:lnTo>
                        <a:pt x="38" y="10"/>
                      </a:lnTo>
                      <a:lnTo>
                        <a:pt x="38" y="29"/>
                      </a:lnTo>
                      <a:lnTo>
                        <a:pt x="28" y="38"/>
                      </a:lnTo>
                      <a:lnTo>
                        <a:pt x="19" y="57"/>
                      </a:lnTo>
                      <a:lnTo>
                        <a:pt x="19" y="67"/>
                      </a:lnTo>
                      <a:lnTo>
                        <a:pt x="9" y="77"/>
                      </a:lnTo>
                      <a:lnTo>
                        <a:pt x="0" y="96"/>
                      </a:lnTo>
                      <a:lnTo>
                        <a:pt x="0" y="105"/>
                      </a:lnTo>
                      <a:lnTo>
                        <a:pt x="0" y="134"/>
                      </a:lnTo>
                      <a:lnTo>
                        <a:pt x="38" y="10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3" name=""/>
                <p:cNvSpPr/>
                <p:nvPr/>
              </p:nvSpPr>
              <p:spPr>
                <a:xfrm rot="21021600">
                  <a:off x="4086360" y="3382920"/>
                  <a:ext cx="48960" cy="122040"/>
                </a:xfrm>
                <a:custGeom>
                  <a:avLst/>
                  <a:gdLst/>
                  <a:ahLst/>
                  <a:rect l="l" t="t" r="r" b="b"/>
                  <a:pathLst>
                    <a:path w="114" h="240">
                      <a:moveTo>
                        <a:pt x="114" y="240"/>
                      </a:moveTo>
                      <a:lnTo>
                        <a:pt x="114" y="240"/>
                      </a:lnTo>
                      <a:lnTo>
                        <a:pt x="114" y="212"/>
                      </a:lnTo>
                      <a:lnTo>
                        <a:pt x="114" y="183"/>
                      </a:lnTo>
                      <a:lnTo>
                        <a:pt x="105" y="144"/>
                      </a:lnTo>
                      <a:lnTo>
                        <a:pt x="95" y="116"/>
                      </a:lnTo>
                      <a:lnTo>
                        <a:pt x="86" y="77"/>
                      </a:lnTo>
                      <a:lnTo>
                        <a:pt x="67" y="48"/>
                      </a:lnTo>
                      <a:lnTo>
                        <a:pt x="57" y="20"/>
                      </a:lnTo>
                      <a:lnTo>
                        <a:pt x="38" y="0"/>
                      </a:lnTo>
                      <a:lnTo>
                        <a:pt x="0" y="29"/>
                      </a:lnTo>
                      <a:lnTo>
                        <a:pt x="19" y="48"/>
                      </a:lnTo>
                      <a:lnTo>
                        <a:pt x="28" y="68"/>
                      </a:lnTo>
                      <a:lnTo>
                        <a:pt x="47" y="96"/>
                      </a:lnTo>
                      <a:lnTo>
                        <a:pt x="57" y="125"/>
                      </a:lnTo>
                      <a:lnTo>
                        <a:pt x="67" y="154"/>
                      </a:lnTo>
                      <a:lnTo>
                        <a:pt x="67" y="183"/>
                      </a:lnTo>
                      <a:lnTo>
                        <a:pt x="76" y="212"/>
                      </a:lnTo>
                      <a:lnTo>
                        <a:pt x="67" y="240"/>
                      </a:lnTo>
                      <a:lnTo>
                        <a:pt x="67" y="240"/>
                      </a:lnTo>
                      <a:lnTo>
                        <a:pt x="114"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rot="21021600">
                  <a:off x="4085280" y="3504600"/>
                  <a:ext cx="69840" cy="112320"/>
                </a:xfrm>
                <a:custGeom>
                  <a:avLst/>
                  <a:gdLst/>
                  <a:ahLst/>
                  <a:rect l="l" t="t" r="r" b="b"/>
                  <a:pathLst>
                    <a:path w="162" h="221">
                      <a:moveTo>
                        <a:pt x="48" y="192"/>
                      </a:moveTo>
                      <a:lnTo>
                        <a:pt x="29" y="221"/>
                      </a:lnTo>
                      <a:lnTo>
                        <a:pt x="57" y="202"/>
                      </a:lnTo>
                      <a:lnTo>
                        <a:pt x="86" y="183"/>
                      </a:lnTo>
                      <a:lnTo>
                        <a:pt x="115" y="154"/>
                      </a:lnTo>
                      <a:lnTo>
                        <a:pt x="124" y="125"/>
                      </a:lnTo>
                      <a:lnTo>
                        <a:pt x="143" y="96"/>
                      </a:lnTo>
                      <a:lnTo>
                        <a:pt x="153" y="68"/>
                      </a:lnTo>
                      <a:lnTo>
                        <a:pt x="162" y="39"/>
                      </a:lnTo>
                      <a:lnTo>
                        <a:pt x="162" y="0"/>
                      </a:lnTo>
                      <a:lnTo>
                        <a:pt x="115" y="0"/>
                      </a:lnTo>
                      <a:lnTo>
                        <a:pt x="115" y="29"/>
                      </a:lnTo>
                      <a:lnTo>
                        <a:pt x="105" y="58"/>
                      </a:lnTo>
                      <a:lnTo>
                        <a:pt x="105" y="87"/>
                      </a:lnTo>
                      <a:lnTo>
                        <a:pt x="86" y="106"/>
                      </a:lnTo>
                      <a:lnTo>
                        <a:pt x="76" y="135"/>
                      </a:lnTo>
                      <a:lnTo>
                        <a:pt x="57" y="154"/>
                      </a:lnTo>
                      <a:lnTo>
                        <a:pt x="38" y="164"/>
                      </a:lnTo>
                      <a:lnTo>
                        <a:pt x="19" y="173"/>
                      </a:lnTo>
                      <a:lnTo>
                        <a:pt x="0" y="202"/>
                      </a:lnTo>
                      <a:lnTo>
                        <a:pt x="48"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rot="21021600">
                  <a:off x="4078080" y="3607200"/>
                  <a:ext cx="45000" cy="117360"/>
                </a:xfrm>
                <a:custGeom>
                  <a:avLst/>
                  <a:gdLst/>
                  <a:ahLst/>
                  <a:rect l="l" t="t" r="r" b="b"/>
                  <a:pathLst>
                    <a:path w="105" h="231">
                      <a:moveTo>
                        <a:pt x="28" y="231"/>
                      </a:moveTo>
                      <a:lnTo>
                        <a:pt x="28" y="231"/>
                      </a:lnTo>
                      <a:lnTo>
                        <a:pt x="47" y="212"/>
                      </a:lnTo>
                      <a:lnTo>
                        <a:pt x="66" y="183"/>
                      </a:lnTo>
                      <a:lnTo>
                        <a:pt x="86" y="154"/>
                      </a:lnTo>
                      <a:lnTo>
                        <a:pt x="95" y="125"/>
                      </a:lnTo>
                      <a:lnTo>
                        <a:pt x="105" y="96"/>
                      </a:lnTo>
                      <a:lnTo>
                        <a:pt x="105" y="68"/>
                      </a:lnTo>
                      <a:lnTo>
                        <a:pt x="105" y="39"/>
                      </a:lnTo>
                      <a:lnTo>
                        <a:pt x="105" y="0"/>
                      </a:lnTo>
                      <a:lnTo>
                        <a:pt x="57" y="10"/>
                      </a:lnTo>
                      <a:lnTo>
                        <a:pt x="57" y="39"/>
                      </a:lnTo>
                      <a:lnTo>
                        <a:pt x="66" y="68"/>
                      </a:lnTo>
                      <a:lnTo>
                        <a:pt x="57" y="96"/>
                      </a:lnTo>
                      <a:lnTo>
                        <a:pt x="57" y="116"/>
                      </a:lnTo>
                      <a:lnTo>
                        <a:pt x="47" y="144"/>
                      </a:lnTo>
                      <a:lnTo>
                        <a:pt x="38" y="164"/>
                      </a:lnTo>
                      <a:lnTo>
                        <a:pt x="19" y="183"/>
                      </a:lnTo>
                      <a:lnTo>
                        <a:pt x="0" y="202"/>
                      </a:lnTo>
                      <a:lnTo>
                        <a:pt x="0" y="202"/>
                      </a:lnTo>
                      <a:lnTo>
                        <a:pt x="2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rot="21021600">
                  <a:off x="4005000" y="3718800"/>
                  <a:ext cx="98640" cy="63360"/>
                </a:xfrm>
                <a:custGeom>
                  <a:avLst/>
                  <a:gdLst/>
                  <a:ahLst/>
                  <a:rect l="l" t="t" r="r" b="b"/>
                  <a:pathLst>
                    <a:path w="229" h="125">
                      <a:moveTo>
                        <a:pt x="0" y="125"/>
                      </a:moveTo>
                      <a:lnTo>
                        <a:pt x="19" y="125"/>
                      </a:lnTo>
                      <a:lnTo>
                        <a:pt x="28" y="125"/>
                      </a:lnTo>
                      <a:lnTo>
                        <a:pt x="48" y="125"/>
                      </a:lnTo>
                      <a:lnTo>
                        <a:pt x="67" y="125"/>
                      </a:lnTo>
                      <a:lnTo>
                        <a:pt x="76" y="115"/>
                      </a:lnTo>
                      <a:lnTo>
                        <a:pt x="95" y="115"/>
                      </a:lnTo>
                      <a:lnTo>
                        <a:pt x="105" y="106"/>
                      </a:lnTo>
                      <a:lnTo>
                        <a:pt x="124" y="106"/>
                      </a:lnTo>
                      <a:lnTo>
                        <a:pt x="134" y="96"/>
                      </a:lnTo>
                      <a:lnTo>
                        <a:pt x="153" y="86"/>
                      </a:lnTo>
                      <a:lnTo>
                        <a:pt x="162" y="77"/>
                      </a:lnTo>
                      <a:lnTo>
                        <a:pt x="181" y="77"/>
                      </a:lnTo>
                      <a:lnTo>
                        <a:pt x="191" y="67"/>
                      </a:lnTo>
                      <a:lnTo>
                        <a:pt x="210" y="58"/>
                      </a:lnTo>
                      <a:lnTo>
                        <a:pt x="220" y="38"/>
                      </a:lnTo>
                      <a:lnTo>
                        <a:pt x="229" y="29"/>
                      </a:lnTo>
                      <a:lnTo>
                        <a:pt x="201" y="0"/>
                      </a:lnTo>
                      <a:lnTo>
                        <a:pt x="191" y="10"/>
                      </a:lnTo>
                      <a:lnTo>
                        <a:pt x="181" y="19"/>
                      </a:lnTo>
                      <a:lnTo>
                        <a:pt x="172" y="29"/>
                      </a:lnTo>
                      <a:lnTo>
                        <a:pt x="153" y="38"/>
                      </a:lnTo>
                      <a:lnTo>
                        <a:pt x="143" y="48"/>
                      </a:lnTo>
                      <a:lnTo>
                        <a:pt x="134" y="48"/>
                      </a:lnTo>
                      <a:lnTo>
                        <a:pt x="124" y="58"/>
                      </a:lnTo>
                      <a:lnTo>
                        <a:pt x="105" y="67"/>
                      </a:lnTo>
                      <a:lnTo>
                        <a:pt x="95" y="67"/>
                      </a:lnTo>
                      <a:lnTo>
                        <a:pt x="86" y="67"/>
                      </a:lnTo>
                      <a:lnTo>
                        <a:pt x="67" y="77"/>
                      </a:lnTo>
                      <a:lnTo>
                        <a:pt x="57" y="77"/>
                      </a:lnTo>
                      <a:lnTo>
                        <a:pt x="48" y="77"/>
                      </a:lnTo>
                      <a:lnTo>
                        <a:pt x="28" y="77"/>
                      </a:lnTo>
                      <a:lnTo>
                        <a:pt x="19" y="77"/>
                      </a:lnTo>
                      <a:lnTo>
                        <a:pt x="9" y="77"/>
                      </a:lnTo>
                      <a:lnTo>
                        <a:pt x="0" y="1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7" name=""/>
                <p:cNvSpPr/>
                <p:nvPr/>
              </p:nvSpPr>
              <p:spPr>
                <a:xfrm rot="21021600">
                  <a:off x="4082400" y="3707640"/>
                  <a:ext cx="12240" cy="24120"/>
                </a:xfrm>
                <a:custGeom>
                  <a:avLst/>
                  <a:gdLst/>
                  <a:ahLst/>
                  <a:rect l="l" t="t" r="r" b="b"/>
                  <a:pathLst>
                    <a:path w="29" h="48">
                      <a:moveTo>
                        <a:pt x="29" y="0"/>
                      </a:moveTo>
                      <a:lnTo>
                        <a:pt x="10" y="10"/>
                      </a:lnTo>
                      <a:lnTo>
                        <a:pt x="0" y="20"/>
                      </a:lnTo>
                      <a:lnTo>
                        <a:pt x="10" y="39"/>
                      </a:lnTo>
                      <a:lnTo>
                        <a:pt x="19" y="48"/>
                      </a:lnTo>
                      <a:lnTo>
                        <a:pt x="2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78" name=""/>
                <p:cNvSpPr/>
                <p:nvPr/>
              </p:nvSpPr>
              <p:spPr>
                <a:xfrm rot="21021600">
                  <a:off x="4449960" y="3635280"/>
                  <a:ext cx="16200" cy="9360"/>
                </a:xfrm>
                <a:custGeom>
                  <a:avLst/>
                  <a:gdLst/>
                  <a:ahLst/>
                  <a:rect l="l" t="t" r="r" b="b"/>
                  <a:pathLst>
                    <a:path w="38" h="19">
                      <a:moveTo>
                        <a:pt x="0" y="0"/>
                      </a:moveTo>
                      <a:lnTo>
                        <a:pt x="0" y="10"/>
                      </a:lnTo>
                      <a:lnTo>
                        <a:pt x="10" y="19"/>
                      </a:lnTo>
                      <a:lnTo>
                        <a:pt x="10" y="19"/>
                      </a:lnTo>
                      <a:lnTo>
                        <a:pt x="19" y="19"/>
                      </a:lnTo>
                      <a:lnTo>
                        <a:pt x="29" y="19"/>
                      </a:lnTo>
                      <a:lnTo>
                        <a:pt x="38" y="10"/>
                      </a:lnTo>
                      <a:lnTo>
                        <a:pt x="38" y="10"/>
                      </a:lnTo>
                      <a:lnTo>
                        <a:pt x="3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 name=""/>
                <p:cNvSpPr/>
                <p:nvPr/>
              </p:nvSpPr>
              <p:spPr>
                <a:xfrm rot="21021600">
                  <a:off x="4403880" y="3536640"/>
                  <a:ext cx="53280" cy="102240"/>
                </a:xfrm>
                <a:custGeom>
                  <a:avLst/>
                  <a:gdLst/>
                  <a:ahLst/>
                  <a:rect l="l" t="t" r="r" b="b"/>
                  <a:pathLst>
                    <a:path w="124" h="201">
                      <a:moveTo>
                        <a:pt x="0" y="28"/>
                      </a:moveTo>
                      <a:lnTo>
                        <a:pt x="0" y="28"/>
                      </a:lnTo>
                      <a:lnTo>
                        <a:pt x="19" y="48"/>
                      </a:lnTo>
                      <a:lnTo>
                        <a:pt x="29" y="67"/>
                      </a:lnTo>
                      <a:lnTo>
                        <a:pt x="38" y="76"/>
                      </a:lnTo>
                      <a:lnTo>
                        <a:pt x="48" y="96"/>
                      </a:lnTo>
                      <a:lnTo>
                        <a:pt x="57" y="124"/>
                      </a:lnTo>
                      <a:lnTo>
                        <a:pt x="67" y="144"/>
                      </a:lnTo>
                      <a:lnTo>
                        <a:pt x="76" y="172"/>
                      </a:lnTo>
                      <a:lnTo>
                        <a:pt x="86" y="201"/>
                      </a:lnTo>
                      <a:lnTo>
                        <a:pt x="124" y="201"/>
                      </a:lnTo>
                      <a:lnTo>
                        <a:pt x="115" y="163"/>
                      </a:lnTo>
                      <a:lnTo>
                        <a:pt x="105" y="134"/>
                      </a:lnTo>
                      <a:lnTo>
                        <a:pt x="105" y="105"/>
                      </a:lnTo>
                      <a:lnTo>
                        <a:pt x="86" y="76"/>
                      </a:lnTo>
                      <a:lnTo>
                        <a:pt x="76" y="57"/>
                      </a:lnTo>
                      <a:lnTo>
                        <a:pt x="67" y="38"/>
                      </a:lnTo>
                      <a:lnTo>
                        <a:pt x="48" y="19"/>
                      </a:lnTo>
                      <a:lnTo>
                        <a:pt x="29" y="0"/>
                      </a:lnTo>
                      <a:lnTo>
                        <a:pt x="29" y="0"/>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rot="21021600">
                  <a:off x="4313160" y="3523680"/>
                  <a:ext cx="94680" cy="38520"/>
                </a:xfrm>
                <a:custGeom>
                  <a:avLst/>
                  <a:gdLst/>
                  <a:ahLst/>
                  <a:rect l="l" t="t" r="r" b="b"/>
                  <a:pathLst>
                    <a:path w="220" h="76">
                      <a:moveTo>
                        <a:pt x="0" y="9"/>
                      </a:moveTo>
                      <a:lnTo>
                        <a:pt x="19" y="38"/>
                      </a:lnTo>
                      <a:lnTo>
                        <a:pt x="38" y="38"/>
                      </a:lnTo>
                      <a:lnTo>
                        <a:pt x="48" y="38"/>
                      </a:lnTo>
                      <a:lnTo>
                        <a:pt x="57" y="38"/>
                      </a:lnTo>
                      <a:lnTo>
                        <a:pt x="76" y="38"/>
                      </a:lnTo>
                      <a:lnTo>
                        <a:pt x="86" y="38"/>
                      </a:lnTo>
                      <a:lnTo>
                        <a:pt x="95" y="38"/>
                      </a:lnTo>
                      <a:lnTo>
                        <a:pt x="105" y="48"/>
                      </a:lnTo>
                      <a:lnTo>
                        <a:pt x="114" y="48"/>
                      </a:lnTo>
                      <a:lnTo>
                        <a:pt x="124" y="48"/>
                      </a:lnTo>
                      <a:lnTo>
                        <a:pt x="134" y="48"/>
                      </a:lnTo>
                      <a:lnTo>
                        <a:pt x="153" y="57"/>
                      </a:lnTo>
                      <a:lnTo>
                        <a:pt x="153" y="57"/>
                      </a:lnTo>
                      <a:lnTo>
                        <a:pt x="162" y="67"/>
                      </a:lnTo>
                      <a:lnTo>
                        <a:pt x="172" y="67"/>
                      </a:lnTo>
                      <a:lnTo>
                        <a:pt x="181" y="76"/>
                      </a:lnTo>
                      <a:lnTo>
                        <a:pt x="191" y="76"/>
                      </a:lnTo>
                      <a:lnTo>
                        <a:pt x="220" y="48"/>
                      </a:lnTo>
                      <a:lnTo>
                        <a:pt x="210" y="38"/>
                      </a:lnTo>
                      <a:lnTo>
                        <a:pt x="200" y="28"/>
                      </a:lnTo>
                      <a:lnTo>
                        <a:pt x="181" y="28"/>
                      </a:lnTo>
                      <a:lnTo>
                        <a:pt x="172" y="19"/>
                      </a:lnTo>
                      <a:lnTo>
                        <a:pt x="162" y="19"/>
                      </a:lnTo>
                      <a:lnTo>
                        <a:pt x="153" y="9"/>
                      </a:lnTo>
                      <a:lnTo>
                        <a:pt x="134" y="9"/>
                      </a:lnTo>
                      <a:lnTo>
                        <a:pt x="124" y="0"/>
                      </a:lnTo>
                      <a:lnTo>
                        <a:pt x="114" y="0"/>
                      </a:lnTo>
                      <a:lnTo>
                        <a:pt x="95" y="0"/>
                      </a:lnTo>
                      <a:lnTo>
                        <a:pt x="86" y="0"/>
                      </a:lnTo>
                      <a:lnTo>
                        <a:pt x="76" y="0"/>
                      </a:lnTo>
                      <a:lnTo>
                        <a:pt x="57" y="0"/>
                      </a:lnTo>
                      <a:lnTo>
                        <a:pt x="48" y="0"/>
                      </a:lnTo>
                      <a:lnTo>
                        <a:pt x="38" y="0"/>
                      </a:lnTo>
                      <a:lnTo>
                        <a:pt x="19" y="0"/>
                      </a:lnTo>
                      <a:lnTo>
                        <a:pt x="38" y="28"/>
                      </a:lnTo>
                      <a:lnTo>
                        <a:pt x="0" y="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81" name=""/>
                <p:cNvSpPr/>
                <p:nvPr/>
              </p:nvSpPr>
              <p:spPr>
                <a:xfrm rot="21021600">
                  <a:off x="4299120" y="3382560"/>
                  <a:ext cx="40680" cy="160560"/>
                </a:xfrm>
                <a:custGeom>
                  <a:avLst/>
                  <a:gdLst/>
                  <a:ahLst/>
                  <a:rect l="l" t="t" r="r" b="b"/>
                  <a:pathLst>
                    <a:path w="95" h="316">
                      <a:moveTo>
                        <a:pt x="38" y="0"/>
                      </a:moveTo>
                      <a:lnTo>
                        <a:pt x="38" y="0"/>
                      </a:lnTo>
                      <a:lnTo>
                        <a:pt x="48" y="48"/>
                      </a:lnTo>
                      <a:lnTo>
                        <a:pt x="48" y="86"/>
                      </a:lnTo>
                      <a:lnTo>
                        <a:pt x="48" y="124"/>
                      </a:lnTo>
                      <a:lnTo>
                        <a:pt x="48" y="163"/>
                      </a:lnTo>
                      <a:lnTo>
                        <a:pt x="48" y="192"/>
                      </a:lnTo>
                      <a:lnTo>
                        <a:pt x="38" y="230"/>
                      </a:lnTo>
                      <a:lnTo>
                        <a:pt x="19" y="259"/>
                      </a:lnTo>
                      <a:lnTo>
                        <a:pt x="0" y="297"/>
                      </a:lnTo>
                      <a:lnTo>
                        <a:pt x="38" y="316"/>
                      </a:lnTo>
                      <a:lnTo>
                        <a:pt x="57" y="288"/>
                      </a:lnTo>
                      <a:lnTo>
                        <a:pt x="76" y="240"/>
                      </a:lnTo>
                      <a:lnTo>
                        <a:pt x="86" y="201"/>
                      </a:lnTo>
                      <a:lnTo>
                        <a:pt x="95" y="163"/>
                      </a:lnTo>
                      <a:lnTo>
                        <a:pt x="95" y="124"/>
                      </a:lnTo>
                      <a:lnTo>
                        <a:pt x="95" y="76"/>
                      </a:lnTo>
                      <a:lnTo>
                        <a:pt x="86" y="38"/>
                      </a:lnTo>
                      <a:lnTo>
                        <a:pt x="76" y="0"/>
                      </a:lnTo>
                      <a:lnTo>
                        <a:pt x="76"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rot="21021600">
                  <a:off x="4211640" y="3244320"/>
                  <a:ext cx="94680" cy="146520"/>
                </a:xfrm>
                <a:custGeom>
                  <a:avLst/>
                  <a:gdLst/>
                  <a:ahLst/>
                  <a:rect l="l" t="t" r="r" b="b"/>
                  <a:pathLst>
                    <a:path w="220" h="288">
                      <a:moveTo>
                        <a:pt x="0" y="38"/>
                      </a:moveTo>
                      <a:lnTo>
                        <a:pt x="10" y="38"/>
                      </a:lnTo>
                      <a:lnTo>
                        <a:pt x="29" y="57"/>
                      </a:lnTo>
                      <a:lnTo>
                        <a:pt x="39" y="67"/>
                      </a:lnTo>
                      <a:lnTo>
                        <a:pt x="48" y="77"/>
                      </a:lnTo>
                      <a:lnTo>
                        <a:pt x="67" y="96"/>
                      </a:lnTo>
                      <a:lnTo>
                        <a:pt x="77" y="105"/>
                      </a:lnTo>
                      <a:lnTo>
                        <a:pt x="86" y="125"/>
                      </a:lnTo>
                      <a:lnTo>
                        <a:pt x="105" y="144"/>
                      </a:lnTo>
                      <a:lnTo>
                        <a:pt x="115" y="153"/>
                      </a:lnTo>
                      <a:lnTo>
                        <a:pt x="125" y="172"/>
                      </a:lnTo>
                      <a:lnTo>
                        <a:pt x="134" y="192"/>
                      </a:lnTo>
                      <a:lnTo>
                        <a:pt x="153" y="211"/>
                      </a:lnTo>
                      <a:lnTo>
                        <a:pt x="163" y="230"/>
                      </a:lnTo>
                      <a:lnTo>
                        <a:pt x="163" y="259"/>
                      </a:lnTo>
                      <a:lnTo>
                        <a:pt x="172" y="278"/>
                      </a:lnTo>
                      <a:lnTo>
                        <a:pt x="182" y="288"/>
                      </a:lnTo>
                      <a:lnTo>
                        <a:pt x="220" y="288"/>
                      </a:lnTo>
                      <a:lnTo>
                        <a:pt x="211" y="259"/>
                      </a:lnTo>
                      <a:lnTo>
                        <a:pt x="211" y="240"/>
                      </a:lnTo>
                      <a:lnTo>
                        <a:pt x="201" y="220"/>
                      </a:lnTo>
                      <a:lnTo>
                        <a:pt x="192" y="201"/>
                      </a:lnTo>
                      <a:lnTo>
                        <a:pt x="182" y="172"/>
                      </a:lnTo>
                      <a:lnTo>
                        <a:pt x="163" y="153"/>
                      </a:lnTo>
                      <a:lnTo>
                        <a:pt x="153" y="134"/>
                      </a:lnTo>
                      <a:lnTo>
                        <a:pt x="134" y="115"/>
                      </a:lnTo>
                      <a:lnTo>
                        <a:pt x="125" y="96"/>
                      </a:lnTo>
                      <a:lnTo>
                        <a:pt x="115" y="77"/>
                      </a:lnTo>
                      <a:lnTo>
                        <a:pt x="96" y="67"/>
                      </a:lnTo>
                      <a:lnTo>
                        <a:pt x="86" y="48"/>
                      </a:lnTo>
                      <a:lnTo>
                        <a:pt x="67" y="29"/>
                      </a:lnTo>
                      <a:lnTo>
                        <a:pt x="58" y="19"/>
                      </a:lnTo>
                      <a:lnTo>
                        <a:pt x="39" y="9"/>
                      </a:lnTo>
                      <a:lnTo>
                        <a:pt x="29"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rot="21021600">
                  <a:off x="4301640" y="3372840"/>
                  <a:ext cx="12240" cy="19800"/>
                </a:xfrm>
                <a:custGeom>
                  <a:avLst/>
                  <a:gdLst/>
                  <a:ahLst/>
                  <a:rect l="l" t="t" r="r" b="b"/>
                  <a:pathLst>
                    <a:path w="29" h="39">
                      <a:moveTo>
                        <a:pt x="29" y="0"/>
                      </a:moveTo>
                      <a:lnTo>
                        <a:pt x="19" y="0"/>
                      </a:lnTo>
                      <a:lnTo>
                        <a:pt x="10" y="0"/>
                      </a:lnTo>
                      <a:lnTo>
                        <a:pt x="10" y="0"/>
                      </a:lnTo>
                      <a:lnTo>
                        <a:pt x="0" y="10"/>
                      </a:lnTo>
                      <a:lnTo>
                        <a:pt x="0" y="20"/>
                      </a:lnTo>
                      <a:lnTo>
                        <a:pt x="0" y="20"/>
                      </a:lnTo>
                      <a:lnTo>
                        <a:pt x="0" y="29"/>
                      </a:lnTo>
                      <a:lnTo>
                        <a:pt x="10" y="39"/>
                      </a:lnTo>
                      <a:lnTo>
                        <a:pt x="2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84" name=""/>
                <p:cNvSpPr/>
                <p:nvPr/>
              </p:nvSpPr>
              <p:spPr>
                <a:xfrm rot="21021600">
                  <a:off x="4280040" y="3049920"/>
                  <a:ext cx="16560" cy="19080"/>
                </a:xfrm>
                <a:custGeom>
                  <a:avLst/>
                  <a:gdLst/>
                  <a:ahLst/>
                  <a:rect l="l" t="t" r="r" b="b"/>
                  <a:pathLst>
                    <a:path w="39" h="38">
                      <a:moveTo>
                        <a:pt x="39" y="10"/>
                      </a:moveTo>
                      <a:lnTo>
                        <a:pt x="29" y="0"/>
                      </a:lnTo>
                      <a:lnTo>
                        <a:pt x="20" y="0"/>
                      </a:lnTo>
                      <a:lnTo>
                        <a:pt x="20" y="0"/>
                      </a:lnTo>
                      <a:lnTo>
                        <a:pt x="10" y="10"/>
                      </a:lnTo>
                      <a:lnTo>
                        <a:pt x="10" y="19"/>
                      </a:lnTo>
                      <a:lnTo>
                        <a:pt x="0" y="19"/>
                      </a:lnTo>
                      <a:lnTo>
                        <a:pt x="10" y="29"/>
                      </a:lnTo>
                      <a:lnTo>
                        <a:pt x="10" y="38"/>
                      </a:lnTo>
                      <a:lnTo>
                        <a:pt x="39"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5" name=""/>
                <p:cNvSpPr/>
                <p:nvPr/>
              </p:nvSpPr>
              <p:spPr>
                <a:xfrm rot="21021600">
                  <a:off x="4290120" y="3051360"/>
                  <a:ext cx="41400" cy="82800"/>
                </a:xfrm>
                <a:custGeom>
                  <a:avLst/>
                  <a:gdLst/>
                  <a:ahLst/>
                  <a:rect l="l" t="t" r="r" b="b"/>
                  <a:pathLst>
                    <a:path w="96" h="163">
                      <a:moveTo>
                        <a:pt x="76" y="124"/>
                      </a:moveTo>
                      <a:lnTo>
                        <a:pt x="96" y="134"/>
                      </a:lnTo>
                      <a:lnTo>
                        <a:pt x="86" y="124"/>
                      </a:lnTo>
                      <a:lnTo>
                        <a:pt x="86" y="105"/>
                      </a:lnTo>
                      <a:lnTo>
                        <a:pt x="76" y="86"/>
                      </a:lnTo>
                      <a:lnTo>
                        <a:pt x="76" y="67"/>
                      </a:lnTo>
                      <a:lnTo>
                        <a:pt x="67" y="48"/>
                      </a:lnTo>
                      <a:lnTo>
                        <a:pt x="57" y="28"/>
                      </a:lnTo>
                      <a:lnTo>
                        <a:pt x="48" y="9"/>
                      </a:lnTo>
                      <a:lnTo>
                        <a:pt x="29" y="0"/>
                      </a:lnTo>
                      <a:lnTo>
                        <a:pt x="0" y="28"/>
                      </a:lnTo>
                      <a:lnTo>
                        <a:pt x="10" y="38"/>
                      </a:lnTo>
                      <a:lnTo>
                        <a:pt x="19" y="48"/>
                      </a:lnTo>
                      <a:lnTo>
                        <a:pt x="29" y="67"/>
                      </a:lnTo>
                      <a:lnTo>
                        <a:pt x="29" y="86"/>
                      </a:lnTo>
                      <a:lnTo>
                        <a:pt x="38" y="96"/>
                      </a:lnTo>
                      <a:lnTo>
                        <a:pt x="38" y="115"/>
                      </a:lnTo>
                      <a:lnTo>
                        <a:pt x="48" y="124"/>
                      </a:lnTo>
                      <a:lnTo>
                        <a:pt x="48" y="144"/>
                      </a:lnTo>
                      <a:lnTo>
                        <a:pt x="57" y="163"/>
                      </a:lnTo>
                      <a:lnTo>
                        <a:pt x="76" y="12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6" name=""/>
                <p:cNvSpPr/>
                <p:nvPr/>
              </p:nvSpPr>
              <p:spPr>
                <a:xfrm rot="21021600">
                  <a:off x="4323240" y="3107160"/>
                  <a:ext cx="70200" cy="59040"/>
                </a:xfrm>
                <a:custGeom>
                  <a:avLst/>
                  <a:gdLst/>
                  <a:ahLst/>
                  <a:rect l="l" t="t" r="r" b="b"/>
                  <a:pathLst>
                    <a:path w="163" h="116">
                      <a:moveTo>
                        <a:pt x="163" y="96"/>
                      </a:moveTo>
                      <a:lnTo>
                        <a:pt x="163" y="96"/>
                      </a:lnTo>
                      <a:lnTo>
                        <a:pt x="153" y="77"/>
                      </a:lnTo>
                      <a:lnTo>
                        <a:pt x="134" y="58"/>
                      </a:lnTo>
                      <a:lnTo>
                        <a:pt x="115" y="48"/>
                      </a:lnTo>
                      <a:lnTo>
                        <a:pt x="96" y="29"/>
                      </a:lnTo>
                      <a:lnTo>
                        <a:pt x="77" y="20"/>
                      </a:lnTo>
                      <a:lnTo>
                        <a:pt x="58" y="10"/>
                      </a:lnTo>
                      <a:lnTo>
                        <a:pt x="39" y="0"/>
                      </a:lnTo>
                      <a:lnTo>
                        <a:pt x="19" y="0"/>
                      </a:lnTo>
                      <a:lnTo>
                        <a:pt x="0" y="39"/>
                      </a:lnTo>
                      <a:lnTo>
                        <a:pt x="19" y="48"/>
                      </a:lnTo>
                      <a:lnTo>
                        <a:pt x="39" y="48"/>
                      </a:lnTo>
                      <a:lnTo>
                        <a:pt x="58" y="58"/>
                      </a:lnTo>
                      <a:lnTo>
                        <a:pt x="77" y="68"/>
                      </a:lnTo>
                      <a:lnTo>
                        <a:pt x="96" y="77"/>
                      </a:lnTo>
                      <a:lnTo>
                        <a:pt x="106" y="87"/>
                      </a:lnTo>
                      <a:lnTo>
                        <a:pt x="115" y="96"/>
                      </a:lnTo>
                      <a:lnTo>
                        <a:pt x="125" y="116"/>
                      </a:lnTo>
                      <a:lnTo>
                        <a:pt x="125" y="116"/>
                      </a:lnTo>
                      <a:lnTo>
                        <a:pt x="163" y="9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87" name=""/>
                <p:cNvSpPr/>
                <p:nvPr/>
              </p:nvSpPr>
              <p:spPr>
                <a:xfrm rot="21021600">
                  <a:off x="4392360" y="3147840"/>
                  <a:ext cx="45360" cy="156240"/>
                </a:xfrm>
                <a:custGeom>
                  <a:avLst/>
                  <a:gdLst/>
                  <a:ahLst/>
                  <a:rect l="l" t="t" r="r" b="b"/>
                  <a:pathLst>
                    <a:path w="105" h="307">
                      <a:moveTo>
                        <a:pt x="67" y="279"/>
                      </a:moveTo>
                      <a:lnTo>
                        <a:pt x="105" y="288"/>
                      </a:lnTo>
                      <a:lnTo>
                        <a:pt x="95" y="250"/>
                      </a:lnTo>
                      <a:lnTo>
                        <a:pt x="95" y="212"/>
                      </a:lnTo>
                      <a:lnTo>
                        <a:pt x="86" y="173"/>
                      </a:lnTo>
                      <a:lnTo>
                        <a:pt x="86" y="135"/>
                      </a:lnTo>
                      <a:lnTo>
                        <a:pt x="76" y="106"/>
                      </a:lnTo>
                      <a:lnTo>
                        <a:pt x="67" y="68"/>
                      </a:lnTo>
                      <a:lnTo>
                        <a:pt x="47" y="29"/>
                      </a:lnTo>
                      <a:lnTo>
                        <a:pt x="38" y="0"/>
                      </a:lnTo>
                      <a:lnTo>
                        <a:pt x="0" y="20"/>
                      </a:lnTo>
                      <a:lnTo>
                        <a:pt x="9" y="48"/>
                      </a:lnTo>
                      <a:lnTo>
                        <a:pt x="19" y="77"/>
                      </a:lnTo>
                      <a:lnTo>
                        <a:pt x="28" y="116"/>
                      </a:lnTo>
                      <a:lnTo>
                        <a:pt x="38" y="144"/>
                      </a:lnTo>
                      <a:lnTo>
                        <a:pt x="47" y="183"/>
                      </a:lnTo>
                      <a:lnTo>
                        <a:pt x="47" y="221"/>
                      </a:lnTo>
                      <a:lnTo>
                        <a:pt x="57" y="260"/>
                      </a:lnTo>
                      <a:lnTo>
                        <a:pt x="57" y="298"/>
                      </a:lnTo>
                      <a:lnTo>
                        <a:pt x="95" y="307"/>
                      </a:lnTo>
                      <a:lnTo>
                        <a:pt x="67"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rot="21021600">
                  <a:off x="4428360" y="3228120"/>
                  <a:ext cx="69840" cy="68040"/>
                </a:xfrm>
                <a:custGeom>
                  <a:avLst/>
                  <a:gdLst/>
                  <a:ahLst/>
                  <a:rect l="l" t="t" r="r" b="b"/>
                  <a:pathLst>
                    <a:path w="162" h="134">
                      <a:moveTo>
                        <a:pt x="153" y="0"/>
                      </a:moveTo>
                      <a:lnTo>
                        <a:pt x="153" y="0"/>
                      </a:lnTo>
                      <a:lnTo>
                        <a:pt x="133" y="0"/>
                      </a:lnTo>
                      <a:lnTo>
                        <a:pt x="114" y="19"/>
                      </a:lnTo>
                      <a:lnTo>
                        <a:pt x="86" y="29"/>
                      </a:lnTo>
                      <a:lnTo>
                        <a:pt x="66" y="39"/>
                      </a:lnTo>
                      <a:lnTo>
                        <a:pt x="47" y="58"/>
                      </a:lnTo>
                      <a:lnTo>
                        <a:pt x="28" y="67"/>
                      </a:lnTo>
                      <a:lnTo>
                        <a:pt x="9" y="87"/>
                      </a:lnTo>
                      <a:lnTo>
                        <a:pt x="0" y="106"/>
                      </a:lnTo>
                      <a:lnTo>
                        <a:pt x="28" y="134"/>
                      </a:lnTo>
                      <a:lnTo>
                        <a:pt x="47" y="115"/>
                      </a:lnTo>
                      <a:lnTo>
                        <a:pt x="57" y="106"/>
                      </a:lnTo>
                      <a:lnTo>
                        <a:pt x="76" y="87"/>
                      </a:lnTo>
                      <a:lnTo>
                        <a:pt x="95" y="77"/>
                      </a:lnTo>
                      <a:lnTo>
                        <a:pt x="114" y="67"/>
                      </a:lnTo>
                      <a:lnTo>
                        <a:pt x="124" y="58"/>
                      </a:lnTo>
                      <a:lnTo>
                        <a:pt x="143" y="48"/>
                      </a:lnTo>
                      <a:lnTo>
                        <a:pt x="162" y="39"/>
                      </a:lnTo>
                      <a:lnTo>
                        <a:pt x="162" y="39"/>
                      </a:lnTo>
                      <a:lnTo>
                        <a:pt x="15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 name=""/>
                <p:cNvSpPr/>
                <p:nvPr/>
              </p:nvSpPr>
              <p:spPr>
                <a:xfrm rot="21021600">
                  <a:off x="4489920" y="3213000"/>
                  <a:ext cx="74160" cy="33840"/>
                </a:xfrm>
                <a:custGeom>
                  <a:avLst/>
                  <a:gdLst/>
                  <a:ahLst/>
                  <a:rect l="l" t="t" r="r" b="b"/>
                  <a:pathLst>
                    <a:path w="172" h="67">
                      <a:moveTo>
                        <a:pt x="172" y="28"/>
                      </a:moveTo>
                      <a:lnTo>
                        <a:pt x="152" y="19"/>
                      </a:lnTo>
                      <a:lnTo>
                        <a:pt x="124" y="9"/>
                      </a:lnTo>
                      <a:lnTo>
                        <a:pt x="105" y="0"/>
                      </a:lnTo>
                      <a:lnTo>
                        <a:pt x="86" y="0"/>
                      </a:lnTo>
                      <a:lnTo>
                        <a:pt x="66" y="0"/>
                      </a:lnTo>
                      <a:lnTo>
                        <a:pt x="47" y="0"/>
                      </a:lnTo>
                      <a:lnTo>
                        <a:pt x="19" y="0"/>
                      </a:lnTo>
                      <a:lnTo>
                        <a:pt x="0" y="9"/>
                      </a:lnTo>
                      <a:lnTo>
                        <a:pt x="9" y="48"/>
                      </a:lnTo>
                      <a:lnTo>
                        <a:pt x="28" y="48"/>
                      </a:lnTo>
                      <a:lnTo>
                        <a:pt x="47" y="38"/>
                      </a:lnTo>
                      <a:lnTo>
                        <a:pt x="66" y="38"/>
                      </a:lnTo>
                      <a:lnTo>
                        <a:pt x="76" y="48"/>
                      </a:lnTo>
                      <a:lnTo>
                        <a:pt x="95" y="48"/>
                      </a:lnTo>
                      <a:lnTo>
                        <a:pt x="114" y="48"/>
                      </a:lnTo>
                      <a:lnTo>
                        <a:pt x="133" y="57"/>
                      </a:lnTo>
                      <a:lnTo>
                        <a:pt x="152" y="67"/>
                      </a:lnTo>
                      <a:lnTo>
                        <a:pt x="172" y="2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rot="21021600">
                  <a:off x="4489920" y="3222360"/>
                  <a:ext cx="11880" cy="19800"/>
                </a:xfrm>
                <a:custGeom>
                  <a:avLst/>
                  <a:gdLst/>
                  <a:ahLst/>
                  <a:rect l="l" t="t" r="r" b="b"/>
                  <a:pathLst>
                    <a:path w="28" h="39">
                      <a:moveTo>
                        <a:pt x="0" y="39"/>
                      </a:moveTo>
                      <a:lnTo>
                        <a:pt x="9" y="39"/>
                      </a:lnTo>
                      <a:lnTo>
                        <a:pt x="19" y="39"/>
                      </a:lnTo>
                      <a:lnTo>
                        <a:pt x="19" y="29"/>
                      </a:lnTo>
                      <a:lnTo>
                        <a:pt x="28" y="29"/>
                      </a:lnTo>
                      <a:lnTo>
                        <a:pt x="28" y="19"/>
                      </a:lnTo>
                      <a:lnTo>
                        <a:pt x="28" y="10"/>
                      </a:lnTo>
                      <a:lnTo>
                        <a:pt x="28" y="0"/>
                      </a:lnTo>
                      <a:lnTo>
                        <a:pt x="19" y="0"/>
                      </a:lnTo>
                      <a:lnTo>
                        <a:pt x="0"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91" name=""/>
                <p:cNvSpPr/>
                <p:nvPr/>
              </p:nvSpPr>
              <p:spPr>
                <a:xfrm rot="21021600">
                  <a:off x="4096800" y="3596400"/>
                  <a:ext cx="12240" cy="19800"/>
                </a:xfrm>
                <a:custGeom>
                  <a:avLst/>
                  <a:gdLst/>
                  <a:ahLst/>
                  <a:rect l="l" t="t" r="r" b="b"/>
                  <a:pathLst>
                    <a:path w="29" h="39">
                      <a:moveTo>
                        <a:pt x="29" y="10"/>
                      </a:moveTo>
                      <a:lnTo>
                        <a:pt x="20" y="0"/>
                      </a:lnTo>
                      <a:lnTo>
                        <a:pt x="10" y="0"/>
                      </a:lnTo>
                      <a:lnTo>
                        <a:pt x="10" y="10"/>
                      </a:lnTo>
                      <a:lnTo>
                        <a:pt x="0" y="10"/>
                      </a:lnTo>
                      <a:lnTo>
                        <a:pt x="0" y="19"/>
                      </a:lnTo>
                      <a:lnTo>
                        <a:pt x="0" y="29"/>
                      </a:lnTo>
                      <a:lnTo>
                        <a:pt x="0" y="39"/>
                      </a:lnTo>
                      <a:lnTo>
                        <a:pt x="10" y="39"/>
                      </a:lnTo>
                      <a:lnTo>
                        <a:pt x="29"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92" name=""/>
                <p:cNvSpPr/>
                <p:nvPr/>
              </p:nvSpPr>
              <p:spPr>
                <a:xfrm rot="21021600">
                  <a:off x="4122360" y="3588120"/>
                  <a:ext cx="140040" cy="278280"/>
                </a:xfrm>
                <a:custGeom>
                  <a:avLst/>
                  <a:gdLst/>
                  <a:ahLst/>
                  <a:rect l="l" t="t" r="r" b="b"/>
                  <a:pathLst>
                    <a:path w="325" h="547">
                      <a:moveTo>
                        <a:pt x="306" y="547"/>
                      </a:moveTo>
                      <a:lnTo>
                        <a:pt x="315" y="489"/>
                      </a:lnTo>
                      <a:lnTo>
                        <a:pt x="325" y="432"/>
                      </a:lnTo>
                      <a:lnTo>
                        <a:pt x="325" y="384"/>
                      </a:lnTo>
                      <a:lnTo>
                        <a:pt x="325" y="336"/>
                      </a:lnTo>
                      <a:lnTo>
                        <a:pt x="315" y="297"/>
                      </a:lnTo>
                      <a:lnTo>
                        <a:pt x="306" y="259"/>
                      </a:lnTo>
                      <a:lnTo>
                        <a:pt x="296" y="230"/>
                      </a:lnTo>
                      <a:lnTo>
                        <a:pt x="277" y="192"/>
                      </a:lnTo>
                      <a:lnTo>
                        <a:pt x="258" y="163"/>
                      </a:lnTo>
                      <a:lnTo>
                        <a:pt x="229" y="134"/>
                      </a:lnTo>
                      <a:lnTo>
                        <a:pt x="201" y="115"/>
                      </a:lnTo>
                      <a:lnTo>
                        <a:pt x="172" y="86"/>
                      </a:lnTo>
                      <a:lnTo>
                        <a:pt x="143" y="67"/>
                      </a:lnTo>
                      <a:lnTo>
                        <a:pt x="105" y="48"/>
                      </a:lnTo>
                      <a:lnTo>
                        <a:pt x="67" y="19"/>
                      </a:lnTo>
                      <a:lnTo>
                        <a:pt x="19" y="0"/>
                      </a:lnTo>
                      <a:lnTo>
                        <a:pt x="0" y="29"/>
                      </a:lnTo>
                      <a:lnTo>
                        <a:pt x="38" y="57"/>
                      </a:lnTo>
                      <a:lnTo>
                        <a:pt x="86" y="77"/>
                      </a:lnTo>
                      <a:lnTo>
                        <a:pt x="115" y="105"/>
                      </a:lnTo>
                      <a:lnTo>
                        <a:pt x="143" y="125"/>
                      </a:lnTo>
                      <a:lnTo>
                        <a:pt x="172" y="144"/>
                      </a:lnTo>
                      <a:lnTo>
                        <a:pt x="201" y="173"/>
                      </a:lnTo>
                      <a:lnTo>
                        <a:pt x="220" y="192"/>
                      </a:lnTo>
                      <a:lnTo>
                        <a:pt x="239" y="221"/>
                      </a:lnTo>
                      <a:lnTo>
                        <a:pt x="258" y="249"/>
                      </a:lnTo>
                      <a:lnTo>
                        <a:pt x="268" y="278"/>
                      </a:lnTo>
                      <a:lnTo>
                        <a:pt x="277" y="307"/>
                      </a:lnTo>
                      <a:lnTo>
                        <a:pt x="287" y="345"/>
                      </a:lnTo>
                      <a:lnTo>
                        <a:pt x="287" y="384"/>
                      </a:lnTo>
                      <a:lnTo>
                        <a:pt x="287" y="432"/>
                      </a:lnTo>
                      <a:lnTo>
                        <a:pt x="277" y="480"/>
                      </a:lnTo>
                      <a:lnTo>
                        <a:pt x="268" y="537"/>
                      </a:lnTo>
                      <a:lnTo>
                        <a:pt x="306"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rot="21021600">
                  <a:off x="4098240" y="3605400"/>
                  <a:ext cx="16560" cy="14760"/>
                </a:xfrm>
                <a:custGeom>
                  <a:avLst/>
                  <a:gdLst/>
                  <a:ahLst/>
                  <a:rect l="l" t="t" r="r" b="b"/>
                  <a:pathLst>
                    <a:path w="39" h="29">
                      <a:moveTo>
                        <a:pt x="0" y="0"/>
                      </a:moveTo>
                      <a:lnTo>
                        <a:pt x="0" y="10"/>
                      </a:lnTo>
                      <a:lnTo>
                        <a:pt x="0" y="20"/>
                      </a:lnTo>
                      <a:lnTo>
                        <a:pt x="10" y="20"/>
                      </a:lnTo>
                      <a:lnTo>
                        <a:pt x="20" y="29"/>
                      </a:lnTo>
                      <a:lnTo>
                        <a:pt x="29" y="29"/>
                      </a:lnTo>
                      <a:lnTo>
                        <a:pt x="39" y="20"/>
                      </a:lnTo>
                      <a:lnTo>
                        <a:pt x="39" y="20"/>
                      </a:lnTo>
                      <a:lnTo>
                        <a:pt x="39" y="1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94" name=""/>
                <p:cNvSpPr/>
                <p:nvPr/>
              </p:nvSpPr>
              <p:spPr>
                <a:xfrm rot="21021600">
                  <a:off x="4218840" y="2886480"/>
                  <a:ext cx="16200" cy="14760"/>
                </a:xfrm>
                <a:custGeom>
                  <a:avLst/>
                  <a:gdLst/>
                  <a:ahLst/>
                  <a:rect l="l" t="t" r="r" b="b"/>
                  <a:pathLst>
                    <a:path w="38" h="29">
                      <a:moveTo>
                        <a:pt x="0" y="0"/>
                      </a:moveTo>
                      <a:lnTo>
                        <a:pt x="0" y="10"/>
                      </a:lnTo>
                      <a:lnTo>
                        <a:pt x="0" y="10"/>
                      </a:lnTo>
                      <a:lnTo>
                        <a:pt x="0" y="19"/>
                      </a:lnTo>
                      <a:lnTo>
                        <a:pt x="10" y="29"/>
                      </a:lnTo>
                      <a:lnTo>
                        <a:pt x="19" y="29"/>
                      </a:lnTo>
                      <a:lnTo>
                        <a:pt x="19" y="29"/>
                      </a:lnTo>
                      <a:lnTo>
                        <a:pt x="29" y="19"/>
                      </a:lnTo>
                      <a:lnTo>
                        <a:pt x="38" y="1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95" name=""/>
                <p:cNvSpPr/>
                <p:nvPr/>
              </p:nvSpPr>
              <p:spPr>
                <a:xfrm rot="21021600">
                  <a:off x="4208760" y="2775600"/>
                  <a:ext cx="123480" cy="112320"/>
                </a:xfrm>
                <a:custGeom>
                  <a:avLst/>
                  <a:gdLst/>
                  <a:ahLst/>
                  <a:rect l="l" t="t" r="r" b="b"/>
                  <a:pathLst>
                    <a:path w="287" h="221">
                      <a:moveTo>
                        <a:pt x="287" y="0"/>
                      </a:moveTo>
                      <a:lnTo>
                        <a:pt x="287" y="0"/>
                      </a:lnTo>
                      <a:lnTo>
                        <a:pt x="258" y="0"/>
                      </a:lnTo>
                      <a:lnTo>
                        <a:pt x="239" y="10"/>
                      </a:lnTo>
                      <a:lnTo>
                        <a:pt x="220" y="10"/>
                      </a:lnTo>
                      <a:lnTo>
                        <a:pt x="201" y="20"/>
                      </a:lnTo>
                      <a:lnTo>
                        <a:pt x="172" y="29"/>
                      </a:lnTo>
                      <a:lnTo>
                        <a:pt x="153" y="39"/>
                      </a:lnTo>
                      <a:lnTo>
                        <a:pt x="134" y="48"/>
                      </a:lnTo>
                      <a:lnTo>
                        <a:pt x="115" y="68"/>
                      </a:lnTo>
                      <a:lnTo>
                        <a:pt x="96" y="77"/>
                      </a:lnTo>
                      <a:lnTo>
                        <a:pt x="86" y="96"/>
                      </a:lnTo>
                      <a:lnTo>
                        <a:pt x="67" y="106"/>
                      </a:lnTo>
                      <a:lnTo>
                        <a:pt x="48" y="125"/>
                      </a:lnTo>
                      <a:lnTo>
                        <a:pt x="38" y="144"/>
                      </a:lnTo>
                      <a:lnTo>
                        <a:pt x="29" y="164"/>
                      </a:lnTo>
                      <a:lnTo>
                        <a:pt x="10" y="183"/>
                      </a:lnTo>
                      <a:lnTo>
                        <a:pt x="0" y="202"/>
                      </a:lnTo>
                      <a:lnTo>
                        <a:pt x="38" y="221"/>
                      </a:lnTo>
                      <a:lnTo>
                        <a:pt x="48" y="202"/>
                      </a:lnTo>
                      <a:lnTo>
                        <a:pt x="57" y="183"/>
                      </a:lnTo>
                      <a:lnTo>
                        <a:pt x="67" y="173"/>
                      </a:lnTo>
                      <a:lnTo>
                        <a:pt x="86" y="154"/>
                      </a:lnTo>
                      <a:lnTo>
                        <a:pt x="96" y="135"/>
                      </a:lnTo>
                      <a:lnTo>
                        <a:pt x="115" y="125"/>
                      </a:lnTo>
                      <a:lnTo>
                        <a:pt x="124" y="116"/>
                      </a:lnTo>
                      <a:lnTo>
                        <a:pt x="143" y="96"/>
                      </a:lnTo>
                      <a:lnTo>
                        <a:pt x="162" y="87"/>
                      </a:lnTo>
                      <a:lnTo>
                        <a:pt x="172" y="77"/>
                      </a:lnTo>
                      <a:lnTo>
                        <a:pt x="191" y="68"/>
                      </a:lnTo>
                      <a:lnTo>
                        <a:pt x="210" y="58"/>
                      </a:lnTo>
                      <a:lnTo>
                        <a:pt x="229" y="48"/>
                      </a:lnTo>
                      <a:lnTo>
                        <a:pt x="249" y="48"/>
                      </a:lnTo>
                      <a:lnTo>
                        <a:pt x="268" y="48"/>
                      </a:lnTo>
                      <a:lnTo>
                        <a:pt x="287" y="48"/>
                      </a:lnTo>
                      <a:lnTo>
                        <a:pt x="287" y="48"/>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rot="21021600">
                  <a:off x="4330080" y="2757240"/>
                  <a:ext cx="98640" cy="102600"/>
                </a:xfrm>
                <a:custGeom>
                  <a:avLst/>
                  <a:gdLst/>
                  <a:ahLst/>
                  <a:rect l="l" t="t" r="r" b="b"/>
                  <a:pathLst>
                    <a:path w="229" h="202">
                      <a:moveTo>
                        <a:pt x="191" y="173"/>
                      </a:moveTo>
                      <a:lnTo>
                        <a:pt x="229" y="183"/>
                      </a:lnTo>
                      <a:lnTo>
                        <a:pt x="220" y="164"/>
                      </a:lnTo>
                      <a:lnTo>
                        <a:pt x="210" y="144"/>
                      </a:lnTo>
                      <a:lnTo>
                        <a:pt x="201" y="135"/>
                      </a:lnTo>
                      <a:lnTo>
                        <a:pt x="191" y="116"/>
                      </a:lnTo>
                      <a:lnTo>
                        <a:pt x="181" y="96"/>
                      </a:lnTo>
                      <a:lnTo>
                        <a:pt x="162" y="87"/>
                      </a:lnTo>
                      <a:lnTo>
                        <a:pt x="153" y="68"/>
                      </a:lnTo>
                      <a:lnTo>
                        <a:pt x="134" y="58"/>
                      </a:lnTo>
                      <a:lnTo>
                        <a:pt x="124" y="48"/>
                      </a:lnTo>
                      <a:lnTo>
                        <a:pt x="105" y="39"/>
                      </a:lnTo>
                      <a:lnTo>
                        <a:pt x="86" y="29"/>
                      </a:lnTo>
                      <a:lnTo>
                        <a:pt x="67" y="20"/>
                      </a:lnTo>
                      <a:lnTo>
                        <a:pt x="48" y="10"/>
                      </a:lnTo>
                      <a:lnTo>
                        <a:pt x="38" y="0"/>
                      </a:lnTo>
                      <a:lnTo>
                        <a:pt x="19" y="0"/>
                      </a:lnTo>
                      <a:lnTo>
                        <a:pt x="0" y="0"/>
                      </a:lnTo>
                      <a:lnTo>
                        <a:pt x="0" y="48"/>
                      </a:lnTo>
                      <a:lnTo>
                        <a:pt x="9" y="48"/>
                      </a:lnTo>
                      <a:lnTo>
                        <a:pt x="28" y="48"/>
                      </a:lnTo>
                      <a:lnTo>
                        <a:pt x="38" y="48"/>
                      </a:lnTo>
                      <a:lnTo>
                        <a:pt x="57" y="58"/>
                      </a:lnTo>
                      <a:lnTo>
                        <a:pt x="67" y="68"/>
                      </a:lnTo>
                      <a:lnTo>
                        <a:pt x="86" y="77"/>
                      </a:lnTo>
                      <a:lnTo>
                        <a:pt x="95" y="77"/>
                      </a:lnTo>
                      <a:lnTo>
                        <a:pt x="105" y="87"/>
                      </a:lnTo>
                      <a:lnTo>
                        <a:pt x="124" y="106"/>
                      </a:lnTo>
                      <a:lnTo>
                        <a:pt x="134" y="116"/>
                      </a:lnTo>
                      <a:lnTo>
                        <a:pt x="143" y="125"/>
                      </a:lnTo>
                      <a:lnTo>
                        <a:pt x="153" y="144"/>
                      </a:lnTo>
                      <a:lnTo>
                        <a:pt x="162" y="154"/>
                      </a:lnTo>
                      <a:lnTo>
                        <a:pt x="172" y="173"/>
                      </a:lnTo>
                      <a:lnTo>
                        <a:pt x="181" y="183"/>
                      </a:lnTo>
                      <a:lnTo>
                        <a:pt x="191" y="202"/>
                      </a:lnTo>
                      <a:lnTo>
                        <a:pt x="220" y="202"/>
                      </a:lnTo>
                      <a:lnTo>
                        <a:pt x="191"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rot="21021600">
                  <a:off x="4416480" y="2804760"/>
                  <a:ext cx="61560" cy="43560"/>
                </a:xfrm>
                <a:custGeom>
                  <a:avLst/>
                  <a:gdLst/>
                  <a:ahLst/>
                  <a:rect l="l" t="t" r="r" b="b"/>
                  <a:pathLst>
                    <a:path w="143" h="86">
                      <a:moveTo>
                        <a:pt x="143" y="0"/>
                      </a:moveTo>
                      <a:lnTo>
                        <a:pt x="143" y="0"/>
                      </a:lnTo>
                      <a:lnTo>
                        <a:pt x="124" y="0"/>
                      </a:lnTo>
                      <a:lnTo>
                        <a:pt x="105" y="0"/>
                      </a:lnTo>
                      <a:lnTo>
                        <a:pt x="86" y="0"/>
                      </a:lnTo>
                      <a:lnTo>
                        <a:pt x="67" y="9"/>
                      </a:lnTo>
                      <a:lnTo>
                        <a:pt x="57" y="19"/>
                      </a:lnTo>
                      <a:lnTo>
                        <a:pt x="38" y="28"/>
                      </a:lnTo>
                      <a:lnTo>
                        <a:pt x="19" y="48"/>
                      </a:lnTo>
                      <a:lnTo>
                        <a:pt x="0" y="57"/>
                      </a:lnTo>
                      <a:lnTo>
                        <a:pt x="29" y="86"/>
                      </a:lnTo>
                      <a:lnTo>
                        <a:pt x="48" y="76"/>
                      </a:lnTo>
                      <a:lnTo>
                        <a:pt x="57" y="67"/>
                      </a:lnTo>
                      <a:lnTo>
                        <a:pt x="76" y="57"/>
                      </a:lnTo>
                      <a:lnTo>
                        <a:pt x="86" y="48"/>
                      </a:lnTo>
                      <a:lnTo>
                        <a:pt x="105" y="48"/>
                      </a:lnTo>
                      <a:lnTo>
                        <a:pt x="115" y="38"/>
                      </a:lnTo>
                      <a:lnTo>
                        <a:pt x="134" y="38"/>
                      </a:lnTo>
                      <a:lnTo>
                        <a:pt x="143" y="38"/>
                      </a:lnTo>
                      <a:lnTo>
                        <a:pt x="143" y="38"/>
                      </a:lnTo>
                      <a:lnTo>
                        <a:pt x="14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98" name=""/>
                <p:cNvSpPr/>
                <p:nvPr/>
              </p:nvSpPr>
              <p:spPr>
                <a:xfrm rot="21021600">
                  <a:off x="4479120" y="2794320"/>
                  <a:ext cx="61920" cy="58320"/>
                </a:xfrm>
                <a:custGeom>
                  <a:avLst/>
                  <a:gdLst/>
                  <a:ahLst/>
                  <a:rect l="l" t="t" r="r" b="b"/>
                  <a:pathLst>
                    <a:path w="144" h="115">
                      <a:moveTo>
                        <a:pt x="106" y="76"/>
                      </a:moveTo>
                      <a:lnTo>
                        <a:pt x="134" y="76"/>
                      </a:lnTo>
                      <a:lnTo>
                        <a:pt x="115" y="67"/>
                      </a:lnTo>
                      <a:lnTo>
                        <a:pt x="106" y="48"/>
                      </a:lnTo>
                      <a:lnTo>
                        <a:pt x="86" y="38"/>
                      </a:lnTo>
                      <a:lnTo>
                        <a:pt x="77" y="28"/>
                      </a:lnTo>
                      <a:lnTo>
                        <a:pt x="58" y="19"/>
                      </a:lnTo>
                      <a:lnTo>
                        <a:pt x="48" y="9"/>
                      </a:lnTo>
                      <a:lnTo>
                        <a:pt x="29" y="0"/>
                      </a:lnTo>
                      <a:lnTo>
                        <a:pt x="0" y="0"/>
                      </a:lnTo>
                      <a:lnTo>
                        <a:pt x="0" y="38"/>
                      </a:lnTo>
                      <a:lnTo>
                        <a:pt x="10" y="38"/>
                      </a:lnTo>
                      <a:lnTo>
                        <a:pt x="29" y="48"/>
                      </a:lnTo>
                      <a:lnTo>
                        <a:pt x="39" y="57"/>
                      </a:lnTo>
                      <a:lnTo>
                        <a:pt x="48" y="67"/>
                      </a:lnTo>
                      <a:lnTo>
                        <a:pt x="67" y="76"/>
                      </a:lnTo>
                      <a:lnTo>
                        <a:pt x="77" y="86"/>
                      </a:lnTo>
                      <a:lnTo>
                        <a:pt x="96" y="96"/>
                      </a:lnTo>
                      <a:lnTo>
                        <a:pt x="115" y="115"/>
                      </a:lnTo>
                      <a:lnTo>
                        <a:pt x="144" y="105"/>
                      </a:lnTo>
                      <a:lnTo>
                        <a:pt x="106" y="7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99" name=""/>
                <p:cNvSpPr/>
                <p:nvPr/>
              </p:nvSpPr>
              <p:spPr>
                <a:xfrm rot="21021600">
                  <a:off x="4518720" y="2729160"/>
                  <a:ext cx="115200" cy="107280"/>
                </a:xfrm>
                <a:custGeom>
                  <a:avLst/>
                  <a:gdLst/>
                  <a:ahLst/>
                  <a:rect l="l" t="t" r="r" b="b"/>
                  <a:pathLst>
                    <a:path w="267" h="211">
                      <a:moveTo>
                        <a:pt x="239" y="38"/>
                      </a:moveTo>
                      <a:lnTo>
                        <a:pt x="248" y="0"/>
                      </a:lnTo>
                      <a:lnTo>
                        <a:pt x="229" y="10"/>
                      </a:lnTo>
                      <a:lnTo>
                        <a:pt x="210" y="19"/>
                      </a:lnTo>
                      <a:lnTo>
                        <a:pt x="191" y="29"/>
                      </a:lnTo>
                      <a:lnTo>
                        <a:pt x="172" y="38"/>
                      </a:lnTo>
                      <a:lnTo>
                        <a:pt x="153" y="38"/>
                      </a:lnTo>
                      <a:lnTo>
                        <a:pt x="133" y="58"/>
                      </a:lnTo>
                      <a:lnTo>
                        <a:pt x="124" y="67"/>
                      </a:lnTo>
                      <a:lnTo>
                        <a:pt x="105" y="77"/>
                      </a:lnTo>
                      <a:lnTo>
                        <a:pt x="86" y="86"/>
                      </a:lnTo>
                      <a:lnTo>
                        <a:pt x="76" y="96"/>
                      </a:lnTo>
                      <a:lnTo>
                        <a:pt x="57" y="115"/>
                      </a:lnTo>
                      <a:lnTo>
                        <a:pt x="47" y="125"/>
                      </a:lnTo>
                      <a:lnTo>
                        <a:pt x="38" y="144"/>
                      </a:lnTo>
                      <a:lnTo>
                        <a:pt x="19" y="154"/>
                      </a:lnTo>
                      <a:lnTo>
                        <a:pt x="9" y="173"/>
                      </a:lnTo>
                      <a:lnTo>
                        <a:pt x="0" y="182"/>
                      </a:lnTo>
                      <a:lnTo>
                        <a:pt x="38" y="211"/>
                      </a:lnTo>
                      <a:lnTo>
                        <a:pt x="47" y="192"/>
                      </a:lnTo>
                      <a:lnTo>
                        <a:pt x="57" y="182"/>
                      </a:lnTo>
                      <a:lnTo>
                        <a:pt x="66" y="173"/>
                      </a:lnTo>
                      <a:lnTo>
                        <a:pt x="76" y="154"/>
                      </a:lnTo>
                      <a:lnTo>
                        <a:pt x="95" y="144"/>
                      </a:lnTo>
                      <a:lnTo>
                        <a:pt x="105" y="134"/>
                      </a:lnTo>
                      <a:lnTo>
                        <a:pt x="114" y="125"/>
                      </a:lnTo>
                      <a:lnTo>
                        <a:pt x="133" y="106"/>
                      </a:lnTo>
                      <a:lnTo>
                        <a:pt x="143" y="96"/>
                      </a:lnTo>
                      <a:lnTo>
                        <a:pt x="162" y="86"/>
                      </a:lnTo>
                      <a:lnTo>
                        <a:pt x="172" y="86"/>
                      </a:lnTo>
                      <a:lnTo>
                        <a:pt x="191" y="77"/>
                      </a:lnTo>
                      <a:lnTo>
                        <a:pt x="210" y="67"/>
                      </a:lnTo>
                      <a:lnTo>
                        <a:pt x="229" y="58"/>
                      </a:lnTo>
                      <a:lnTo>
                        <a:pt x="248" y="48"/>
                      </a:lnTo>
                      <a:lnTo>
                        <a:pt x="258" y="38"/>
                      </a:lnTo>
                      <a:lnTo>
                        <a:pt x="267" y="10"/>
                      </a:lnTo>
                      <a:lnTo>
                        <a:pt x="23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rot="21021600">
                  <a:off x="4581360" y="2675160"/>
                  <a:ext cx="40680" cy="68040"/>
                </a:xfrm>
                <a:custGeom>
                  <a:avLst/>
                  <a:gdLst/>
                  <a:ahLst/>
                  <a:rect l="l" t="t" r="r" b="b"/>
                  <a:pathLst>
                    <a:path w="95" h="134">
                      <a:moveTo>
                        <a:pt x="0" y="19"/>
                      </a:moveTo>
                      <a:lnTo>
                        <a:pt x="9" y="29"/>
                      </a:lnTo>
                      <a:lnTo>
                        <a:pt x="9" y="48"/>
                      </a:lnTo>
                      <a:lnTo>
                        <a:pt x="19" y="67"/>
                      </a:lnTo>
                      <a:lnTo>
                        <a:pt x="28" y="77"/>
                      </a:lnTo>
                      <a:lnTo>
                        <a:pt x="28" y="96"/>
                      </a:lnTo>
                      <a:lnTo>
                        <a:pt x="38" y="106"/>
                      </a:lnTo>
                      <a:lnTo>
                        <a:pt x="57" y="125"/>
                      </a:lnTo>
                      <a:lnTo>
                        <a:pt x="67" y="134"/>
                      </a:lnTo>
                      <a:lnTo>
                        <a:pt x="95" y="106"/>
                      </a:lnTo>
                      <a:lnTo>
                        <a:pt x="86" y="96"/>
                      </a:lnTo>
                      <a:lnTo>
                        <a:pt x="76" y="77"/>
                      </a:lnTo>
                      <a:lnTo>
                        <a:pt x="67" y="77"/>
                      </a:lnTo>
                      <a:lnTo>
                        <a:pt x="67" y="58"/>
                      </a:lnTo>
                      <a:lnTo>
                        <a:pt x="57" y="48"/>
                      </a:lnTo>
                      <a:lnTo>
                        <a:pt x="47" y="29"/>
                      </a:lnTo>
                      <a:lnTo>
                        <a:pt x="47" y="19"/>
                      </a:lnTo>
                      <a:lnTo>
                        <a:pt x="38" y="0"/>
                      </a:lnTo>
                      <a:lnTo>
                        <a:pt x="0" y="1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1" name=""/>
                <p:cNvSpPr/>
                <p:nvPr/>
              </p:nvSpPr>
              <p:spPr>
                <a:xfrm rot="21021600">
                  <a:off x="4609080" y="2720880"/>
                  <a:ext cx="20520" cy="14760"/>
                </a:xfrm>
                <a:custGeom>
                  <a:avLst/>
                  <a:gdLst/>
                  <a:ahLst/>
                  <a:rect l="l" t="t" r="r" b="b"/>
                  <a:pathLst>
                    <a:path w="48" h="29">
                      <a:moveTo>
                        <a:pt x="48" y="10"/>
                      </a:moveTo>
                      <a:lnTo>
                        <a:pt x="38" y="10"/>
                      </a:lnTo>
                      <a:lnTo>
                        <a:pt x="38" y="0"/>
                      </a:lnTo>
                      <a:lnTo>
                        <a:pt x="29" y="0"/>
                      </a:lnTo>
                      <a:lnTo>
                        <a:pt x="19" y="0"/>
                      </a:lnTo>
                      <a:lnTo>
                        <a:pt x="10" y="10"/>
                      </a:lnTo>
                      <a:lnTo>
                        <a:pt x="10" y="10"/>
                      </a:lnTo>
                      <a:lnTo>
                        <a:pt x="0" y="19"/>
                      </a:lnTo>
                      <a:lnTo>
                        <a:pt x="10" y="29"/>
                      </a:lnTo>
                      <a:lnTo>
                        <a:pt x="48"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02" name=""/>
                <p:cNvSpPr/>
                <p:nvPr/>
              </p:nvSpPr>
              <p:spPr>
                <a:xfrm rot="21021600">
                  <a:off x="4837320" y="2905560"/>
                  <a:ext cx="16560" cy="14760"/>
                </a:xfrm>
                <a:custGeom>
                  <a:avLst/>
                  <a:gdLst/>
                  <a:ahLst/>
                  <a:rect l="l" t="t" r="r" b="b"/>
                  <a:pathLst>
                    <a:path w="39" h="29">
                      <a:moveTo>
                        <a:pt x="39" y="29"/>
                      </a:moveTo>
                      <a:lnTo>
                        <a:pt x="39" y="19"/>
                      </a:lnTo>
                      <a:lnTo>
                        <a:pt x="39" y="10"/>
                      </a:lnTo>
                      <a:lnTo>
                        <a:pt x="29" y="10"/>
                      </a:lnTo>
                      <a:lnTo>
                        <a:pt x="19" y="0"/>
                      </a:lnTo>
                      <a:lnTo>
                        <a:pt x="10" y="10"/>
                      </a:lnTo>
                      <a:lnTo>
                        <a:pt x="0" y="10"/>
                      </a:lnTo>
                      <a:lnTo>
                        <a:pt x="0" y="10"/>
                      </a:lnTo>
                      <a:lnTo>
                        <a:pt x="0" y="19"/>
                      </a:lnTo>
                      <a:lnTo>
                        <a:pt x="39"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03" name=""/>
                <p:cNvSpPr/>
                <p:nvPr/>
              </p:nvSpPr>
              <p:spPr>
                <a:xfrm rot="21021600">
                  <a:off x="4826160" y="2916360"/>
                  <a:ext cx="37080" cy="102600"/>
                </a:xfrm>
                <a:custGeom>
                  <a:avLst/>
                  <a:gdLst/>
                  <a:ahLst/>
                  <a:rect l="l" t="t" r="r" b="b"/>
                  <a:pathLst>
                    <a:path w="86" h="202">
                      <a:moveTo>
                        <a:pt x="38" y="202"/>
                      </a:moveTo>
                      <a:lnTo>
                        <a:pt x="38" y="202"/>
                      </a:lnTo>
                      <a:lnTo>
                        <a:pt x="47" y="173"/>
                      </a:lnTo>
                      <a:lnTo>
                        <a:pt x="57" y="154"/>
                      </a:lnTo>
                      <a:lnTo>
                        <a:pt x="66" y="135"/>
                      </a:lnTo>
                      <a:lnTo>
                        <a:pt x="66" y="106"/>
                      </a:lnTo>
                      <a:lnTo>
                        <a:pt x="76" y="77"/>
                      </a:lnTo>
                      <a:lnTo>
                        <a:pt x="76" y="58"/>
                      </a:lnTo>
                      <a:lnTo>
                        <a:pt x="86" y="29"/>
                      </a:lnTo>
                      <a:lnTo>
                        <a:pt x="86" y="10"/>
                      </a:lnTo>
                      <a:lnTo>
                        <a:pt x="47" y="0"/>
                      </a:lnTo>
                      <a:lnTo>
                        <a:pt x="38" y="29"/>
                      </a:lnTo>
                      <a:lnTo>
                        <a:pt x="38" y="48"/>
                      </a:lnTo>
                      <a:lnTo>
                        <a:pt x="28" y="77"/>
                      </a:lnTo>
                      <a:lnTo>
                        <a:pt x="28" y="96"/>
                      </a:lnTo>
                      <a:lnTo>
                        <a:pt x="19" y="115"/>
                      </a:lnTo>
                      <a:lnTo>
                        <a:pt x="19" y="144"/>
                      </a:lnTo>
                      <a:lnTo>
                        <a:pt x="9" y="163"/>
                      </a:lnTo>
                      <a:lnTo>
                        <a:pt x="0" y="183"/>
                      </a:lnTo>
                      <a:lnTo>
                        <a:pt x="0" y="183"/>
                      </a:lnTo>
                      <a:lnTo>
                        <a:pt x="38"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rot="21021600">
                  <a:off x="4812840" y="3012120"/>
                  <a:ext cx="49320" cy="150840"/>
                </a:xfrm>
                <a:custGeom>
                  <a:avLst/>
                  <a:gdLst/>
                  <a:ahLst/>
                  <a:rect l="l" t="t" r="r" b="b"/>
                  <a:pathLst>
                    <a:path w="115" h="297">
                      <a:moveTo>
                        <a:pt x="48" y="297"/>
                      </a:moveTo>
                      <a:lnTo>
                        <a:pt x="48" y="297"/>
                      </a:lnTo>
                      <a:lnTo>
                        <a:pt x="48" y="259"/>
                      </a:lnTo>
                      <a:lnTo>
                        <a:pt x="48" y="230"/>
                      </a:lnTo>
                      <a:lnTo>
                        <a:pt x="57" y="192"/>
                      </a:lnTo>
                      <a:lnTo>
                        <a:pt x="67" y="153"/>
                      </a:lnTo>
                      <a:lnTo>
                        <a:pt x="77" y="124"/>
                      </a:lnTo>
                      <a:lnTo>
                        <a:pt x="86" y="86"/>
                      </a:lnTo>
                      <a:lnTo>
                        <a:pt x="105" y="57"/>
                      </a:lnTo>
                      <a:lnTo>
                        <a:pt x="115" y="19"/>
                      </a:lnTo>
                      <a:lnTo>
                        <a:pt x="77" y="0"/>
                      </a:lnTo>
                      <a:lnTo>
                        <a:pt x="57" y="38"/>
                      </a:lnTo>
                      <a:lnTo>
                        <a:pt x="48" y="76"/>
                      </a:lnTo>
                      <a:lnTo>
                        <a:pt x="29" y="115"/>
                      </a:lnTo>
                      <a:lnTo>
                        <a:pt x="19" y="153"/>
                      </a:lnTo>
                      <a:lnTo>
                        <a:pt x="10" y="182"/>
                      </a:lnTo>
                      <a:lnTo>
                        <a:pt x="10" y="220"/>
                      </a:lnTo>
                      <a:lnTo>
                        <a:pt x="0" y="259"/>
                      </a:lnTo>
                      <a:lnTo>
                        <a:pt x="0" y="297"/>
                      </a:lnTo>
                      <a:lnTo>
                        <a:pt x="0" y="297"/>
                      </a:lnTo>
                      <a:lnTo>
                        <a:pt x="48"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rot="21021600">
                  <a:off x="4831920" y="3161520"/>
                  <a:ext cx="49320" cy="78120"/>
                </a:xfrm>
                <a:custGeom>
                  <a:avLst/>
                  <a:gdLst/>
                  <a:ahLst/>
                  <a:rect l="l" t="t" r="r" b="b"/>
                  <a:pathLst>
                    <a:path w="115" h="154">
                      <a:moveTo>
                        <a:pt x="115" y="106"/>
                      </a:moveTo>
                      <a:lnTo>
                        <a:pt x="115" y="106"/>
                      </a:lnTo>
                      <a:lnTo>
                        <a:pt x="96" y="106"/>
                      </a:lnTo>
                      <a:lnTo>
                        <a:pt x="86" y="96"/>
                      </a:lnTo>
                      <a:lnTo>
                        <a:pt x="77" y="87"/>
                      </a:lnTo>
                      <a:lnTo>
                        <a:pt x="57" y="67"/>
                      </a:lnTo>
                      <a:lnTo>
                        <a:pt x="57" y="58"/>
                      </a:lnTo>
                      <a:lnTo>
                        <a:pt x="48" y="39"/>
                      </a:lnTo>
                      <a:lnTo>
                        <a:pt x="48" y="19"/>
                      </a:lnTo>
                      <a:lnTo>
                        <a:pt x="48" y="0"/>
                      </a:lnTo>
                      <a:lnTo>
                        <a:pt x="0" y="0"/>
                      </a:lnTo>
                      <a:lnTo>
                        <a:pt x="0" y="19"/>
                      </a:lnTo>
                      <a:lnTo>
                        <a:pt x="10" y="48"/>
                      </a:lnTo>
                      <a:lnTo>
                        <a:pt x="10" y="67"/>
                      </a:lnTo>
                      <a:lnTo>
                        <a:pt x="29" y="96"/>
                      </a:lnTo>
                      <a:lnTo>
                        <a:pt x="38" y="115"/>
                      </a:lnTo>
                      <a:lnTo>
                        <a:pt x="57" y="134"/>
                      </a:lnTo>
                      <a:lnTo>
                        <a:pt x="77" y="144"/>
                      </a:lnTo>
                      <a:lnTo>
                        <a:pt x="105" y="154"/>
                      </a:lnTo>
                      <a:lnTo>
                        <a:pt x="105" y="154"/>
                      </a:lnTo>
                      <a:lnTo>
                        <a:pt x="115" y="1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6" name=""/>
                <p:cNvSpPr/>
                <p:nvPr/>
              </p:nvSpPr>
              <p:spPr>
                <a:xfrm rot="21021600">
                  <a:off x="4877280" y="3164400"/>
                  <a:ext cx="99000" cy="63360"/>
                </a:xfrm>
                <a:custGeom>
                  <a:avLst/>
                  <a:gdLst/>
                  <a:ahLst/>
                  <a:rect l="l" t="t" r="r" b="b"/>
                  <a:pathLst>
                    <a:path w="230" h="125">
                      <a:moveTo>
                        <a:pt x="191" y="0"/>
                      </a:moveTo>
                      <a:lnTo>
                        <a:pt x="191" y="0"/>
                      </a:lnTo>
                      <a:lnTo>
                        <a:pt x="182" y="19"/>
                      </a:lnTo>
                      <a:lnTo>
                        <a:pt x="182" y="29"/>
                      </a:lnTo>
                      <a:lnTo>
                        <a:pt x="163" y="38"/>
                      </a:lnTo>
                      <a:lnTo>
                        <a:pt x="153" y="48"/>
                      </a:lnTo>
                      <a:lnTo>
                        <a:pt x="144" y="48"/>
                      </a:lnTo>
                      <a:lnTo>
                        <a:pt x="134" y="58"/>
                      </a:lnTo>
                      <a:lnTo>
                        <a:pt x="124" y="67"/>
                      </a:lnTo>
                      <a:lnTo>
                        <a:pt x="105" y="67"/>
                      </a:lnTo>
                      <a:lnTo>
                        <a:pt x="96" y="77"/>
                      </a:lnTo>
                      <a:lnTo>
                        <a:pt x="86" y="77"/>
                      </a:lnTo>
                      <a:lnTo>
                        <a:pt x="77" y="86"/>
                      </a:lnTo>
                      <a:lnTo>
                        <a:pt x="58" y="86"/>
                      </a:lnTo>
                      <a:lnTo>
                        <a:pt x="48" y="86"/>
                      </a:lnTo>
                      <a:lnTo>
                        <a:pt x="29" y="86"/>
                      </a:lnTo>
                      <a:lnTo>
                        <a:pt x="19" y="86"/>
                      </a:lnTo>
                      <a:lnTo>
                        <a:pt x="10" y="77"/>
                      </a:lnTo>
                      <a:lnTo>
                        <a:pt x="0" y="125"/>
                      </a:lnTo>
                      <a:lnTo>
                        <a:pt x="10" y="125"/>
                      </a:lnTo>
                      <a:lnTo>
                        <a:pt x="29" y="125"/>
                      </a:lnTo>
                      <a:lnTo>
                        <a:pt x="48" y="125"/>
                      </a:lnTo>
                      <a:lnTo>
                        <a:pt x="58" y="125"/>
                      </a:lnTo>
                      <a:lnTo>
                        <a:pt x="77" y="125"/>
                      </a:lnTo>
                      <a:lnTo>
                        <a:pt x="96" y="125"/>
                      </a:lnTo>
                      <a:lnTo>
                        <a:pt x="115" y="115"/>
                      </a:lnTo>
                      <a:lnTo>
                        <a:pt x="124" y="105"/>
                      </a:lnTo>
                      <a:lnTo>
                        <a:pt x="144" y="105"/>
                      </a:lnTo>
                      <a:lnTo>
                        <a:pt x="153" y="96"/>
                      </a:lnTo>
                      <a:lnTo>
                        <a:pt x="172" y="86"/>
                      </a:lnTo>
                      <a:lnTo>
                        <a:pt x="182" y="77"/>
                      </a:lnTo>
                      <a:lnTo>
                        <a:pt x="191" y="67"/>
                      </a:lnTo>
                      <a:lnTo>
                        <a:pt x="211" y="58"/>
                      </a:lnTo>
                      <a:lnTo>
                        <a:pt x="220" y="48"/>
                      </a:lnTo>
                      <a:lnTo>
                        <a:pt x="230" y="29"/>
                      </a:lnTo>
                      <a:lnTo>
                        <a:pt x="230" y="29"/>
                      </a:lnTo>
                      <a:lnTo>
                        <a:pt x="19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rot="21021600">
                  <a:off x="4941360" y="2994120"/>
                  <a:ext cx="61920" cy="176040"/>
                </a:xfrm>
                <a:custGeom>
                  <a:avLst/>
                  <a:gdLst/>
                  <a:ahLst/>
                  <a:rect l="l" t="t" r="r" b="b"/>
                  <a:pathLst>
                    <a:path w="144" h="346">
                      <a:moveTo>
                        <a:pt x="106" y="0"/>
                      </a:moveTo>
                      <a:lnTo>
                        <a:pt x="106" y="48"/>
                      </a:lnTo>
                      <a:lnTo>
                        <a:pt x="96" y="87"/>
                      </a:lnTo>
                      <a:lnTo>
                        <a:pt x="96" y="125"/>
                      </a:lnTo>
                      <a:lnTo>
                        <a:pt x="86" y="173"/>
                      </a:lnTo>
                      <a:lnTo>
                        <a:pt x="67" y="211"/>
                      </a:lnTo>
                      <a:lnTo>
                        <a:pt x="48" y="250"/>
                      </a:lnTo>
                      <a:lnTo>
                        <a:pt x="29" y="288"/>
                      </a:lnTo>
                      <a:lnTo>
                        <a:pt x="0" y="317"/>
                      </a:lnTo>
                      <a:lnTo>
                        <a:pt x="39" y="346"/>
                      </a:lnTo>
                      <a:lnTo>
                        <a:pt x="67" y="307"/>
                      </a:lnTo>
                      <a:lnTo>
                        <a:pt x="86" y="269"/>
                      </a:lnTo>
                      <a:lnTo>
                        <a:pt x="106" y="221"/>
                      </a:lnTo>
                      <a:lnTo>
                        <a:pt x="125" y="183"/>
                      </a:lnTo>
                      <a:lnTo>
                        <a:pt x="134" y="135"/>
                      </a:lnTo>
                      <a:lnTo>
                        <a:pt x="144" y="96"/>
                      </a:lnTo>
                      <a:lnTo>
                        <a:pt x="144" y="48"/>
                      </a:lnTo>
                      <a:lnTo>
                        <a:pt x="144"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rot="21021600">
                  <a:off x="4954680" y="3157560"/>
                  <a:ext cx="16560" cy="9360"/>
                </a:xfrm>
                <a:custGeom>
                  <a:avLst/>
                  <a:gdLst/>
                  <a:ahLst/>
                  <a:rect l="l" t="t" r="r" b="b"/>
                  <a:pathLst>
                    <a:path w="39" h="19">
                      <a:moveTo>
                        <a:pt x="39" y="19"/>
                      </a:moveTo>
                      <a:lnTo>
                        <a:pt x="39" y="10"/>
                      </a:lnTo>
                      <a:lnTo>
                        <a:pt x="39" y="0"/>
                      </a:lnTo>
                      <a:lnTo>
                        <a:pt x="29" y="0"/>
                      </a:lnTo>
                      <a:lnTo>
                        <a:pt x="20" y="0"/>
                      </a:lnTo>
                      <a:lnTo>
                        <a:pt x="10" y="0"/>
                      </a:lnTo>
                      <a:lnTo>
                        <a:pt x="0" y="0"/>
                      </a:lnTo>
                      <a:lnTo>
                        <a:pt x="0" y="10"/>
                      </a:lnTo>
                      <a:lnTo>
                        <a:pt x="0" y="19"/>
                      </a:lnTo>
                      <a:lnTo>
                        <a:pt x="3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 name=""/>
                <p:cNvSpPr/>
                <p:nvPr/>
              </p:nvSpPr>
              <p:spPr>
                <a:xfrm rot="21021600">
                  <a:off x="3782520" y="3348000"/>
                  <a:ext cx="12240" cy="19080"/>
                </a:xfrm>
                <a:custGeom>
                  <a:avLst/>
                  <a:gdLst/>
                  <a:ahLst/>
                  <a:rect l="l" t="t" r="r" b="b"/>
                  <a:pathLst>
                    <a:path w="29" h="38">
                      <a:moveTo>
                        <a:pt x="29" y="9"/>
                      </a:moveTo>
                      <a:lnTo>
                        <a:pt x="29" y="0"/>
                      </a:lnTo>
                      <a:lnTo>
                        <a:pt x="19" y="0"/>
                      </a:lnTo>
                      <a:lnTo>
                        <a:pt x="10" y="0"/>
                      </a:lnTo>
                      <a:lnTo>
                        <a:pt x="0" y="9"/>
                      </a:lnTo>
                      <a:lnTo>
                        <a:pt x="0" y="19"/>
                      </a:lnTo>
                      <a:lnTo>
                        <a:pt x="0" y="19"/>
                      </a:lnTo>
                      <a:lnTo>
                        <a:pt x="0" y="29"/>
                      </a:lnTo>
                      <a:lnTo>
                        <a:pt x="0" y="38"/>
                      </a:lnTo>
                      <a:lnTo>
                        <a:pt x="29"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 name=""/>
                <p:cNvSpPr/>
                <p:nvPr/>
              </p:nvSpPr>
              <p:spPr>
                <a:xfrm rot="21021600">
                  <a:off x="3791520" y="3346920"/>
                  <a:ext cx="65880" cy="122040"/>
                </a:xfrm>
                <a:custGeom>
                  <a:avLst/>
                  <a:gdLst/>
                  <a:ahLst/>
                  <a:rect l="l" t="t" r="r" b="b"/>
                  <a:pathLst>
                    <a:path w="153" h="240">
                      <a:moveTo>
                        <a:pt x="153" y="231"/>
                      </a:moveTo>
                      <a:lnTo>
                        <a:pt x="143" y="192"/>
                      </a:lnTo>
                      <a:lnTo>
                        <a:pt x="134" y="154"/>
                      </a:lnTo>
                      <a:lnTo>
                        <a:pt x="124" y="125"/>
                      </a:lnTo>
                      <a:lnTo>
                        <a:pt x="105" y="96"/>
                      </a:lnTo>
                      <a:lnTo>
                        <a:pt x="96" y="68"/>
                      </a:lnTo>
                      <a:lnTo>
                        <a:pt x="76" y="48"/>
                      </a:lnTo>
                      <a:lnTo>
                        <a:pt x="57" y="20"/>
                      </a:lnTo>
                      <a:lnTo>
                        <a:pt x="29" y="0"/>
                      </a:lnTo>
                      <a:lnTo>
                        <a:pt x="0" y="29"/>
                      </a:lnTo>
                      <a:lnTo>
                        <a:pt x="19" y="48"/>
                      </a:lnTo>
                      <a:lnTo>
                        <a:pt x="38" y="68"/>
                      </a:lnTo>
                      <a:lnTo>
                        <a:pt x="57" y="96"/>
                      </a:lnTo>
                      <a:lnTo>
                        <a:pt x="76" y="115"/>
                      </a:lnTo>
                      <a:lnTo>
                        <a:pt x="86" y="144"/>
                      </a:lnTo>
                      <a:lnTo>
                        <a:pt x="96" y="173"/>
                      </a:lnTo>
                      <a:lnTo>
                        <a:pt x="105" y="202"/>
                      </a:lnTo>
                      <a:lnTo>
                        <a:pt x="115" y="240"/>
                      </a:lnTo>
                      <a:lnTo>
                        <a:pt x="153"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rot="21021600">
                  <a:off x="3783960" y="3356640"/>
                  <a:ext cx="16200" cy="14760"/>
                </a:xfrm>
                <a:custGeom>
                  <a:avLst/>
                  <a:gdLst/>
                  <a:ahLst/>
                  <a:rect l="l" t="t" r="r" b="b"/>
                  <a:pathLst>
                    <a:path w="38" h="29">
                      <a:moveTo>
                        <a:pt x="0" y="10"/>
                      </a:moveTo>
                      <a:lnTo>
                        <a:pt x="0" y="19"/>
                      </a:lnTo>
                      <a:lnTo>
                        <a:pt x="0" y="19"/>
                      </a:lnTo>
                      <a:lnTo>
                        <a:pt x="10" y="29"/>
                      </a:lnTo>
                      <a:lnTo>
                        <a:pt x="19" y="29"/>
                      </a:lnTo>
                      <a:lnTo>
                        <a:pt x="29" y="29"/>
                      </a:lnTo>
                      <a:lnTo>
                        <a:pt x="38" y="19"/>
                      </a:lnTo>
                      <a:lnTo>
                        <a:pt x="38" y="10"/>
                      </a:lnTo>
                      <a:lnTo>
                        <a:pt x="38" y="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12" name=""/>
                <p:cNvSpPr/>
                <p:nvPr/>
              </p:nvSpPr>
              <p:spPr>
                <a:xfrm rot="21021600">
                  <a:off x="3697200" y="3411720"/>
                  <a:ext cx="12240" cy="19080"/>
                </a:xfrm>
                <a:custGeom>
                  <a:avLst/>
                  <a:gdLst/>
                  <a:ahLst/>
                  <a:rect l="l" t="t" r="r" b="b"/>
                  <a:pathLst>
                    <a:path w="29" h="38">
                      <a:moveTo>
                        <a:pt x="29" y="0"/>
                      </a:moveTo>
                      <a:lnTo>
                        <a:pt x="19" y="0"/>
                      </a:lnTo>
                      <a:lnTo>
                        <a:pt x="19" y="0"/>
                      </a:lnTo>
                      <a:lnTo>
                        <a:pt x="10" y="0"/>
                      </a:lnTo>
                      <a:lnTo>
                        <a:pt x="10" y="9"/>
                      </a:lnTo>
                      <a:lnTo>
                        <a:pt x="0" y="19"/>
                      </a:lnTo>
                      <a:lnTo>
                        <a:pt x="10" y="28"/>
                      </a:lnTo>
                      <a:lnTo>
                        <a:pt x="10" y="28"/>
                      </a:lnTo>
                      <a:lnTo>
                        <a:pt x="19" y="38"/>
                      </a:lnTo>
                      <a:lnTo>
                        <a:pt x="2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3" name=""/>
                <p:cNvSpPr/>
                <p:nvPr/>
              </p:nvSpPr>
              <p:spPr>
                <a:xfrm rot="21021600">
                  <a:off x="3710880" y="3405600"/>
                  <a:ext cx="61920" cy="92520"/>
                </a:xfrm>
                <a:custGeom>
                  <a:avLst/>
                  <a:gdLst/>
                  <a:ahLst/>
                  <a:rect l="l" t="t" r="r" b="b"/>
                  <a:pathLst>
                    <a:path w="144" h="182">
                      <a:moveTo>
                        <a:pt x="144" y="172"/>
                      </a:moveTo>
                      <a:lnTo>
                        <a:pt x="134" y="144"/>
                      </a:lnTo>
                      <a:lnTo>
                        <a:pt x="125" y="115"/>
                      </a:lnTo>
                      <a:lnTo>
                        <a:pt x="115" y="96"/>
                      </a:lnTo>
                      <a:lnTo>
                        <a:pt x="96" y="67"/>
                      </a:lnTo>
                      <a:lnTo>
                        <a:pt x="86" y="48"/>
                      </a:lnTo>
                      <a:lnTo>
                        <a:pt x="58" y="28"/>
                      </a:lnTo>
                      <a:lnTo>
                        <a:pt x="38" y="9"/>
                      </a:lnTo>
                      <a:lnTo>
                        <a:pt x="10" y="0"/>
                      </a:lnTo>
                      <a:lnTo>
                        <a:pt x="0" y="38"/>
                      </a:lnTo>
                      <a:lnTo>
                        <a:pt x="19" y="48"/>
                      </a:lnTo>
                      <a:lnTo>
                        <a:pt x="38" y="57"/>
                      </a:lnTo>
                      <a:lnTo>
                        <a:pt x="48" y="76"/>
                      </a:lnTo>
                      <a:lnTo>
                        <a:pt x="58" y="96"/>
                      </a:lnTo>
                      <a:lnTo>
                        <a:pt x="77" y="115"/>
                      </a:lnTo>
                      <a:lnTo>
                        <a:pt x="86" y="134"/>
                      </a:lnTo>
                      <a:lnTo>
                        <a:pt x="96" y="163"/>
                      </a:lnTo>
                      <a:lnTo>
                        <a:pt x="105" y="182"/>
                      </a:lnTo>
                      <a:lnTo>
                        <a:pt x="144" y="172"/>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314" name=""/>
                <p:cNvSpPr/>
                <p:nvPr/>
              </p:nvSpPr>
              <p:spPr>
                <a:xfrm rot="21021600">
                  <a:off x="3701880" y="3415320"/>
                  <a:ext cx="16200" cy="14760"/>
                </a:xfrm>
                <a:custGeom>
                  <a:avLst/>
                  <a:gdLst/>
                  <a:ahLst/>
                  <a:rect l="l" t="t" r="r" b="b"/>
                  <a:pathLst>
                    <a:path w="38" h="29">
                      <a:moveTo>
                        <a:pt x="0" y="19"/>
                      </a:moveTo>
                      <a:lnTo>
                        <a:pt x="0" y="19"/>
                      </a:lnTo>
                      <a:lnTo>
                        <a:pt x="9" y="29"/>
                      </a:lnTo>
                      <a:lnTo>
                        <a:pt x="19" y="29"/>
                      </a:lnTo>
                      <a:lnTo>
                        <a:pt x="19" y="29"/>
                      </a:lnTo>
                      <a:lnTo>
                        <a:pt x="28" y="19"/>
                      </a:lnTo>
                      <a:lnTo>
                        <a:pt x="38" y="19"/>
                      </a:lnTo>
                      <a:lnTo>
                        <a:pt x="38" y="10"/>
                      </a:lnTo>
                      <a:lnTo>
                        <a:pt x="38" y="0"/>
                      </a:lnTo>
                      <a:lnTo>
                        <a:pt x="0"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15" name=""/>
                <p:cNvSpPr/>
                <p:nvPr/>
              </p:nvSpPr>
              <p:spPr>
                <a:xfrm rot="21021600">
                  <a:off x="3682800" y="3572640"/>
                  <a:ext cx="11880" cy="19080"/>
                </a:xfrm>
                <a:custGeom>
                  <a:avLst/>
                  <a:gdLst/>
                  <a:ahLst/>
                  <a:rect l="l" t="t" r="r" b="b"/>
                  <a:pathLst>
                    <a:path w="28" h="38">
                      <a:moveTo>
                        <a:pt x="28" y="0"/>
                      </a:moveTo>
                      <a:lnTo>
                        <a:pt x="19" y="0"/>
                      </a:lnTo>
                      <a:lnTo>
                        <a:pt x="9" y="0"/>
                      </a:lnTo>
                      <a:lnTo>
                        <a:pt x="9" y="0"/>
                      </a:lnTo>
                      <a:lnTo>
                        <a:pt x="0" y="9"/>
                      </a:lnTo>
                      <a:lnTo>
                        <a:pt x="0" y="19"/>
                      </a:lnTo>
                      <a:lnTo>
                        <a:pt x="0" y="29"/>
                      </a:lnTo>
                      <a:lnTo>
                        <a:pt x="9" y="29"/>
                      </a:lnTo>
                      <a:lnTo>
                        <a:pt x="9" y="38"/>
                      </a:lnTo>
                      <a:lnTo>
                        <a:pt x="2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 name=""/>
                <p:cNvSpPr/>
                <p:nvPr/>
              </p:nvSpPr>
              <p:spPr>
                <a:xfrm rot="21021600">
                  <a:off x="3686040" y="3548160"/>
                  <a:ext cx="181440" cy="48600"/>
                </a:xfrm>
                <a:custGeom>
                  <a:avLst/>
                  <a:gdLst/>
                  <a:ahLst/>
                  <a:rect l="l" t="t" r="r" b="b"/>
                  <a:pathLst>
                    <a:path w="421" h="96">
                      <a:moveTo>
                        <a:pt x="411" y="0"/>
                      </a:moveTo>
                      <a:lnTo>
                        <a:pt x="392" y="0"/>
                      </a:lnTo>
                      <a:lnTo>
                        <a:pt x="363" y="9"/>
                      </a:lnTo>
                      <a:lnTo>
                        <a:pt x="344" y="19"/>
                      </a:lnTo>
                      <a:lnTo>
                        <a:pt x="325" y="28"/>
                      </a:lnTo>
                      <a:lnTo>
                        <a:pt x="296" y="28"/>
                      </a:lnTo>
                      <a:lnTo>
                        <a:pt x="277" y="38"/>
                      </a:lnTo>
                      <a:lnTo>
                        <a:pt x="249" y="38"/>
                      </a:lnTo>
                      <a:lnTo>
                        <a:pt x="230" y="48"/>
                      </a:lnTo>
                      <a:lnTo>
                        <a:pt x="201" y="48"/>
                      </a:lnTo>
                      <a:lnTo>
                        <a:pt x="172" y="48"/>
                      </a:lnTo>
                      <a:lnTo>
                        <a:pt x="153" y="48"/>
                      </a:lnTo>
                      <a:lnTo>
                        <a:pt x="124" y="48"/>
                      </a:lnTo>
                      <a:lnTo>
                        <a:pt x="96" y="38"/>
                      </a:lnTo>
                      <a:lnTo>
                        <a:pt x="77" y="38"/>
                      </a:lnTo>
                      <a:lnTo>
                        <a:pt x="48" y="28"/>
                      </a:lnTo>
                      <a:lnTo>
                        <a:pt x="19" y="19"/>
                      </a:lnTo>
                      <a:lnTo>
                        <a:pt x="0" y="57"/>
                      </a:lnTo>
                      <a:lnTo>
                        <a:pt x="29" y="67"/>
                      </a:lnTo>
                      <a:lnTo>
                        <a:pt x="57" y="76"/>
                      </a:lnTo>
                      <a:lnTo>
                        <a:pt x="96" y="86"/>
                      </a:lnTo>
                      <a:lnTo>
                        <a:pt x="124" y="86"/>
                      </a:lnTo>
                      <a:lnTo>
                        <a:pt x="143" y="86"/>
                      </a:lnTo>
                      <a:lnTo>
                        <a:pt x="172" y="96"/>
                      </a:lnTo>
                      <a:lnTo>
                        <a:pt x="201" y="86"/>
                      </a:lnTo>
                      <a:lnTo>
                        <a:pt x="230" y="86"/>
                      </a:lnTo>
                      <a:lnTo>
                        <a:pt x="258" y="86"/>
                      </a:lnTo>
                      <a:lnTo>
                        <a:pt x="277" y="86"/>
                      </a:lnTo>
                      <a:lnTo>
                        <a:pt x="306" y="76"/>
                      </a:lnTo>
                      <a:lnTo>
                        <a:pt x="335" y="67"/>
                      </a:lnTo>
                      <a:lnTo>
                        <a:pt x="354" y="57"/>
                      </a:lnTo>
                      <a:lnTo>
                        <a:pt x="382" y="57"/>
                      </a:lnTo>
                      <a:lnTo>
                        <a:pt x="402" y="48"/>
                      </a:lnTo>
                      <a:lnTo>
                        <a:pt x="421" y="38"/>
                      </a:lnTo>
                      <a:lnTo>
                        <a:pt x="41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17" name=""/>
                <p:cNvSpPr/>
                <p:nvPr/>
              </p:nvSpPr>
              <p:spPr>
                <a:xfrm rot="21021600">
                  <a:off x="3686760" y="3571920"/>
                  <a:ext cx="12240" cy="19080"/>
                </a:xfrm>
                <a:custGeom>
                  <a:avLst/>
                  <a:gdLst/>
                  <a:ahLst/>
                  <a:rect l="l" t="t" r="r" b="b"/>
                  <a:pathLst>
                    <a:path w="29" h="38">
                      <a:moveTo>
                        <a:pt x="19" y="38"/>
                      </a:moveTo>
                      <a:lnTo>
                        <a:pt x="29" y="29"/>
                      </a:lnTo>
                      <a:lnTo>
                        <a:pt x="29" y="29"/>
                      </a:lnTo>
                      <a:lnTo>
                        <a:pt x="29" y="19"/>
                      </a:lnTo>
                      <a:lnTo>
                        <a:pt x="29" y="9"/>
                      </a:lnTo>
                      <a:lnTo>
                        <a:pt x="29" y="0"/>
                      </a:lnTo>
                      <a:lnTo>
                        <a:pt x="19" y="0"/>
                      </a:lnTo>
                      <a:lnTo>
                        <a:pt x="10" y="0"/>
                      </a:lnTo>
                      <a:lnTo>
                        <a:pt x="0" y="0"/>
                      </a:lnTo>
                      <a:lnTo>
                        <a:pt x="19"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 name=""/>
                <p:cNvSpPr/>
                <p:nvPr/>
              </p:nvSpPr>
              <p:spPr>
                <a:xfrm rot="21021600">
                  <a:off x="3686040" y="3740040"/>
                  <a:ext cx="16200" cy="19800"/>
                </a:xfrm>
                <a:custGeom>
                  <a:avLst/>
                  <a:gdLst/>
                  <a:ahLst/>
                  <a:rect l="l" t="t" r="r" b="b"/>
                  <a:pathLst>
                    <a:path w="38" h="39">
                      <a:moveTo>
                        <a:pt x="10" y="0"/>
                      </a:moveTo>
                      <a:lnTo>
                        <a:pt x="10" y="0"/>
                      </a:lnTo>
                      <a:lnTo>
                        <a:pt x="0" y="10"/>
                      </a:lnTo>
                      <a:lnTo>
                        <a:pt x="0" y="19"/>
                      </a:lnTo>
                      <a:lnTo>
                        <a:pt x="10" y="29"/>
                      </a:lnTo>
                      <a:lnTo>
                        <a:pt x="10" y="29"/>
                      </a:lnTo>
                      <a:lnTo>
                        <a:pt x="19" y="39"/>
                      </a:lnTo>
                      <a:lnTo>
                        <a:pt x="29" y="39"/>
                      </a:lnTo>
                      <a:lnTo>
                        <a:pt x="38" y="39"/>
                      </a:lnTo>
                      <a:lnTo>
                        <a:pt x="1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19" name=""/>
                <p:cNvSpPr/>
                <p:nvPr/>
              </p:nvSpPr>
              <p:spPr>
                <a:xfrm rot="21021600">
                  <a:off x="3686040" y="3687840"/>
                  <a:ext cx="164880" cy="59040"/>
                </a:xfrm>
                <a:custGeom>
                  <a:avLst/>
                  <a:gdLst/>
                  <a:ahLst/>
                  <a:rect l="l" t="t" r="r" b="b"/>
                  <a:pathLst>
                    <a:path w="382" h="116">
                      <a:moveTo>
                        <a:pt x="382" y="39"/>
                      </a:moveTo>
                      <a:lnTo>
                        <a:pt x="353" y="29"/>
                      </a:lnTo>
                      <a:lnTo>
                        <a:pt x="325" y="20"/>
                      </a:lnTo>
                      <a:lnTo>
                        <a:pt x="296" y="10"/>
                      </a:lnTo>
                      <a:lnTo>
                        <a:pt x="277" y="10"/>
                      </a:lnTo>
                      <a:lnTo>
                        <a:pt x="248" y="0"/>
                      </a:lnTo>
                      <a:lnTo>
                        <a:pt x="229" y="0"/>
                      </a:lnTo>
                      <a:lnTo>
                        <a:pt x="210" y="0"/>
                      </a:lnTo>
                      <a:lnTo>
                        <a:pt x="181" y="0"/>
                      </a:lnTo>
                      <a:lnTo>
                        <a:pt x="162" y="10"/>
                      </a:lnTo>
                      <a:lnTo>
                        <a:pt x="143" y="10"/>
                      </a:lnTo>
                      <a:lnTo>
                        <a:pt x="114" y="20"/>
                      </a:lnTo>
                      <a:lnTo>
                        <a:pt x="95" y="29"/>
                      </a:lnTo>
                      <a:lnTo>
                        <a:pt x="76" y="39"/>
                      </a:lnTo>
                      <a:lnTo>
                        <a:pt x="48" y="48"/>
                      </a:lnTo>
                      <a:lnTo>
                        <a:pt x="28" y="58"/>
                      </a:lnTo>
                      <a:lnTo>
                        <a:pt x="0" y="77"/>
                      </a:lnTo>
                      <a:lnTo>
                        <a:pt x="28" y="116"/>
                      </a:lnTo>
                      <a:lnTo>
                        <a:pt x="48" y="96"/>
                      </a:lnTo>
                      <a:lnTo>
                        <a:pt x="67" y="87"/>
                      </a:lnTo>
                      <a:lnTo>
                        <a:pt x="95" y="77"/>
                      </a:lnTo>
                      <a:lnTo>
                        <a:pt x="114" y="68"/>
                      </a:lnTo>
                      <a:lnTo>
                        <a:pt x="134" y="58"/>
                      </a:lnTo>
                      <a:lnTo>
                        <a:pt x="153" y="58"/>
                      </a:lnTo>
                      <a:lnTo>
                        <a:pt x="172" y="48"/>
                      </a:lnTo>
                      <a:lnTo>
                        <a:pt x="191" y="48"/>
                      </a:lnTo>
                      <a:lnTo>
                        <a:pt x="210" y="48"/>
                      </a:lnTo>
                      <a:lnTo>
                        <a:pt x="229" y="48"/>
                      </a:lnTo>
                      <a:lnTo>
                        <a:pt x="248" y="48"/>
                      </a:lnTo>
                      <a:lnTo>
                        <a:pt x="267" y="48"/>
                      </a:lnTo>
                      <a:lnTo>
                        <a:pt x="287" y="48"/>
                      </a:lnTo>
                      <a:lnTo>
                        <a:pt x="315" y="58"/>
                      </a:lnTo>
                      <a:lnTo>
                        <a:pt x="334" y="68"/>
                      </a:lnTo>
                      <a:lnTo>
                        <a:pt x="363" y="77"/>
                      </a:lnTo>
                      <a:lnTo>
                        <a:pt x="382" y="3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20" name=""/>
                <p:cNvSpPr/>
                <p:nvPr/>
              </p:nvSpPr>
              <p:spPr>
                <a:xfrm rot="21021600">
                  <a:off x="3694320" y="3738960"/>
                  <a:ext cx="12240" cy="19800"/>
                </a:xfrm>
                <a:custGeom>
                  <a:avLst/>
                  <a:gdLst/>
                  <a:ahLst/>
                  <a:rect l="l" t="t" r="r" b="b"/>
                  <a:pathLst>
                    <a:path w="29" h="39">
                      <a:moveTo>
                        <a:pt x="0" y="39"/>
                      </a:moveTo>
                      <a:lnTo>
                        <a:pt x="10" y="39"/>
                      </a:lnTo>
                      <a:lnTo>
                        <a:pt x="10" y="39"/>
                      </a:lnTo>
                      <a:lnTo>
                        <a:pt x="19" y="29"/>
                      </a:lnTo>
                      <a:lnTo>
                        <a:pt x="29" y="29"/>
                      </a:lnTo>
                      <a:lnTo>
                        <a:pt x="29" y="19"/>
                      </a:lnTo>
                      <a:lnTo>
                        <a:pt x="29" y="10"/>
                      </a:lnTo>
                      <a:lnTo>
                        <a:pt x="19" y="0"/>
                      </a:lnTo>
                      <a:lnTo>
                        <a:pt x="10" y="0"/>
                      </a:lnTo>
                      <a:lnTo>
                        <a:pt x="0"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1" name=""/>
                <p:cNvSpPr/>
                <p:nvPr/>
              </p:nvSpPr>
              <p:spPr>
                <a:xfrm rot="21021600">
                  <a:off x="3754800" y="3827520"/>
                  <a:ext cx="16560" cy="14760"/>
                </a:xfrm>
                <a:custGeom>
                  <a:avLst/>
                  <a:gdLst/>
                  <a:ahLst/>
                  <a:rect l="l" t="t" r="r" b="b"/>
                  <a:pathLst>
                    <a:path w="39" h="29">
                      <a:moveTo>
                        <a:pt x="29" y="29"/>
                      </a:moveTo>
                      <a:lnTo>
                        <a:pt x="39" y="29"/>
                      </a:lnTo>
                      <a:lnTo>
                        <a:pt x="39" y="19"/>
                      </a:lnTo>
                      <a:lnTo>
                        <a:pt x="39" y="10"/>
                      </a:lnTo>
                      <a:lnTo>
                        <a:pt x="29" y="0"/>
                      </a:lnTo>
                      <a:lnTo>
                        <a:pt x="20" y="0"/>
                      </a:lnTo>
                      <a:lnTo>
                        <a:pt x="20" y="0"/>
                      </a:lnTo>
                      <a:lnTo>
                        <a:pt x="10" y="0"/>
                      </a:lnTo>
                      <a:lnTo>
                        <a:pt x="0" y="0"/>
                      </a:lnTo>
                      <a:lnTo>
                        <a:pt x="29"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22" name=""/>
                <p:cNvSpPr/>
                <p:nvPr/>
              </p:nvSpPr>
              <p:spPr>
                <a:xfrm rot="21021600">
                  <a:off x="3677040" y="3834360"/>
                  <a:ext cx="94680" cy="63360"/>
                </a:xfrm>
                <a:custGeom>
                  <a:avLst/>
                  <a:gdLst/>
                  <a:ahLst/>
                  <a:rect l="l" t="t" r="r" b="b"/>
                  <a:pathLst>
                    <a:path w="220" h="125">
                      <a:moveTo>
                        <a:pt x="10" y="125"/>
                      </a:moveTo>
                      <a:lnTo>
                        <a:pt x="19" y="125"/>
                      </a:lnTo>
                      <a:lnTo>
                        <a:pt x="38" y="125"/>
                      </a:lnTo>
                      <a:lnTo>
                        <a:pt x="58" y="115"/>
                      </a:lnTo>
                      <a:lnTo>
                        <a:pt x="67" y="115"/>
                      </a:lnTo>
                      <a:lnTo>
                        <a:pt x="77" y="106"/>
                      </a:lnTo>
                      <a:lnTo>
                        <a:pt x="96" y="106"/>
                      </a:lnTo>
                      <a:lnTo>
                        <a:pt x="105" y="106"/>
                      </a:lnTo>
                      <a:lnTo>
                        <a:pt x="125" y="96"/>
                      </a:lnTo>
                      <a:lnTo>
                        <a:pt x="134" y="87"/>
                      </a:lnTo>
                      <a:lnTo>
                        <a:pt x="153" y="87"/>
                      </a:lnTo>
                      <a:lnTo>
                        <a:pt x="163" y="77"/>
                      </a:lnTo>
                      <a:lnTo>
                        <a:pt x="172" y="67"/>
                      </a:lnTo>
                      <a:lnTo>
                        <a:pt x="191" y="67"/>
                      </a:lnTo>
                      <a:lnTo>
                        <a:pt x="201" y="58"/>
                      </a:lnTo>
                      <a:lnTo>
                        <a:pt x="211" y="48"/>
                      </a:lnTo>
                      <a:lnTo>
                        <a:pt x="220" y="29"/>
                      </a:lnTo>
                      <a:lnTo>
                        <a:pt x="191" y="0"/>
                      </a:lnTo>
                      <a:lnTo>
                        <a:pt x="182" y="10"/>
                      </a:lnTo>
                      <a:lnTo>
                        <a:pt x="172" y="19"/>
                      </a:lnTo>
                      <a:lnTo>
                        <a:pt x="163" y="29"/>
                      </a:lnTo>
                      <a:lnTo>
                        <a:pt x="153" y="39"/>
                      </a:lnTo>
                      <a:lnTo>
                        <a:pt x="144" y="39"/>
                      </a:lnTo>
                      <a:lnTo>
                        <a:pt x="134" y="48"/>
                      </a:lnTo>
                      <a:lnTo>
                        <a:pt x="125" y="48"/>
                      </a:lnTo>
                      <a:lnTo>
                        <a:pt x="105" y="58"/>
                      </a:lnTo>
                      <a:lnTo>
                        <a:pt x="96" y="58"/>
                      </a:lnTo>
                      <a:lnTo>
                        <a:pt x="86" y="67"/>
                      </a:lnTo>
                      <a:lnTo>
                        <a:pt x="67" y="67"/>
                      </a:lnTo>
                      <a:lnTo>
                        <a:pt x="58" y="67"/>
                      </a:lnTo>
                      <a:lnTo>
                        <a:pt x="48" y="77"/>
                      </a:lnTo>
                      <a:lnTo>
                        <a:pt x="29" y="77"/>
                      </a:lnTo>
                      <a:lnTo>
                        <a:pt x="10" y="87"/>
                      </a:lnTo>
                      <a:lnTo>
                        <a:pt x="0" y="87"/>
                      </a:lnTo>
                      <a:lnTo>
                        <a:pt x="10" y="12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3" name=""/>
                <p:cNvSpPr/>
                <p:nvPr/>
              </p:nvSpPr>
              <p:spPr>
                <a:xfrm rot="21021600">
                  <a:off x="3751560" y="3828600"/>
                  <a:ext cx="12240" cy="19800"/>
                </a:xfrm>
                <a:custGeom>
                  <a:avLst/>
                  <a:gdLst/>
                  <a:ahLst/>
                  <a:rect l="l" t="t" r="r" b="b"/>
                  <a:pathLst>
                    <a:path w="29" h="39">
                      <a:moveTo>
                        <a:pt x="19" y="0"/>
                      </a:moveTo>
                      <a:lnTo>
                        <a:pt x="9" y="0"/>
                      </a:lnTo>
                      <a:lnTo>
                        <a:pt x="9" y="10"/>
                      </a:lnTo>
                      <a:lnTo>
                        <a:pt x="0" y="10"/>
                      </a:lnTo>
                      <a:lnTo>
                        <a:pt x="0" y="19"/>
                      </a:lnTo>
                      <a:lnTo>
                        <a:pt x="9" y="29"/>
                      </a:lnTo>
                      <a:lnTo>
                        <a:pt x="9" y="39"/>
                      </a:lnTo>
                      <a:lnTo>
                        <a:pt x="19" y="39"/>
                      </a:lnTo>
                      <a:lnTo>
                        <a:pt x="29" y="39"/>
                      </a:lnTo>
                      <a:lnTo>
                        <a:pt x="1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4" name=""/>
                <p:cNvSpPr/>
                <p:nvPr/>
              </p:nvSpPr>
              <p:spPr>
                <a:xfrm rot="21021600">
                  <a:off x="3870360" y="3887640"/>
                  <a:ext cx="12240" cy="24120"/>
                </a:xfrm>
                <a:custGeom>
                  <a:avLst/>
                  <a:gdLst/>
                  <a:ahLst/>
                  <a:rect l="l" t="t" r="r" b="b"/>
                  <a:pathLst>
                    <a:path w="29" h="48">
                      <a:moveTo>
                        <a:pt x="0" y="48"/>
                      </a:moveTo>
                      <a:lnTo>
                        <a:pt x="10" y="48"/>
                      </a:lnTo>
                      <a:lnTo>
                        <a:pt x="20" y="38"/>
                      </a:lnTo>
                      <a:lnTo>
                        <a:pt x="20" y="38"/>
                      </a:lnTo>
                      <a:lnTo>
                        <a:pt x="29" y="29"/>
                      </a:lnTo>
                      <a:lnTo>
                        <a:pt x="29" y="19"/>
                      </a:lnTo>
                      <a:lnTo>
                        <a:pt x="29" y="9"/>
                      </a:lnTo>
                      <a:lnTo>
                        <a:pt x="20" y="9"/>
                      </a:lnTo>
                      <a:lnTo>
                        <a:pt x="10" y="0"/>
                      </a:lnTo>
                      <a:lnTo>
                        <a:pt x="0" y="4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25" name=""/>
                <p:cNvSpPr/>
                <p:nvPr/>
              </p:nvSpPr>
              <p:spPr>
                <a:xfrm rot="21021600">
                  <a:off x="3805920" y="3893760"/>
                  <a:ext cx="70200" cy="38880"/>
                </a:xfrm>
                <a:custGeom>
                  <a:avLst/>
                  <a:gdLst/>
                  <a:ahLst/>
                  <a:rect l="l" t="t" r="r" b="b"/>
                  <a:pathLst>
                    <a:path w="163" h="77">
                      <a:moveTo>
                        <a:pt x="29" y="77"/>
                      </a:moveTo>
                      <a:lnTo>
                        <a:pt x="48" y="67"/>
                      </a:lnTo>
                      <a:lnTo>
                        <a:pt x="58" y="57"/>
                      </a:lnTo>
                      <a:lnTo>
                        <a:pt x="77" y="48"/>
                      </a:lnTo>
                      <a:lnTo>
                        <a:pt x="87" y="38"/>
                      </a:lnTo>
                      <a:lnTo>
                        <a:pt x="106" y="38"/>
                      </a:lnTo>
                      <a:lnTo>
                        <a:pt x="115" y="38"/>
                      </a:lnTo>
                      <a:lnTo>
                        <a:pt x="134" y="38"/>
                      </a:lnTo>
                      <a:lnTo>
                        <a:pt x="153" y="48"/>
                      </a:lnTo>
                      <a:lnTo>
                        <a:pt x="163" y="0"/>
                      </a:lnTo>
                      <a:lnTo>
                        <a:pt x="144" y="0"/>
                      </a:lnTo>
                      <a:lnTo>
                        <a:pt x="115" y="0"/>
                      </a:lnTo>
                      <a:lnTo>
                        <a:pt x="96" y="0"/>
                      </a:lnTo>
                      <a:lnTo>
                        <a:pt x="77" y="0"/>
                      </a:lnTo>
                      <a:lnTo>
                        <a:pt x="58" y="9"/>
                      </a:lnTo>
                      <a:lnTo>
                        <a:pt x="39" y="19"/>
                      </a:lnTo>
                      <a:lnTo>
                        <a:pt x="20" y="29"/>
                      </a:lnTo>
                      <a:lnTo>
                        <a:pt x="0" y="38"/>
                      </a:lnTo>
                      <a:lnTo>
                        <a:pt x="29"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26" name=""/>
                <p:cNvSpPr/>
                <p:nvPr/>
              </p:nvSpPr>
              <p:spPr>
                <a:xfrm rot="21021600">
                  <a:off x="3862440" y="3893400"/>
                  <a:ext cx="16560" cy="19800"/>
                </a:xfrm>
                <a:custGeom>
                  <a:avLst/>
                  <a:gdLst/>
                  <a:ahLst/>
                  <a:rect l="l" t="t" r="r" b="b"/>
                  <a:pathLst>
                    <a:path w="39" h="39">
                      <a:moveTo>
                        <a:pt x="10" y="0"/>
                      </a:moveTo>
                      <a:lnTo>
                        <a:pt x="10" y="0"/>
                      </a:lnTo>
                      <a:lnTo>
                        <a:pt x="0" y="10"/>
                      </a:lnTo>
                      <a:lnTo>
                        <a:pt x="0" y="20"/>
                      </a:lnTo>
                      <a:lnTo>
                        <a:pt x="10" y="29"/>
                      </a:lnTo>
                      <a:lnTo>
                        <a:pt x="10" y="29"/>
                      </a:lnTo>
                      <a:lnTo>
                        <a:pt x="19" y="39"/>
                      </a:lnTo>
                      <a:lnTo>
                        <a:pt x="29" y="39"/>
                      </a:lnTo>
                      <a:lnTo>
                        <a:pt x="39" y="29"/>
                      </a:lnTo>
                      <a:lnTo>
                        <a:pt x="1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27" name=""/>
                <p:cNvSpPr/>
                <p:nvPr/>
              </p:nvSpPr>
              <p:spPr>
                <a:xfrm rot="21021600">
                  <a:off x="4199040" y="3905640"/>
                  <a:ext cx="20520" cy="14760"/>
                </a:xfrm>
                <a:custGeom>
                  <a:avLst/>
                  <a:gdLst/>
                  <a:ahLst/>
                  <a:rect l="l" t="t" r="r" b="b"/>
                  <a:pathLst>
                    <a:path w="48" h="29">
                      <a:moveTo>
                        <a:pt x="48" y="29"/>
                      </a:moveTo>
                      <a:lnTo>
                        <a:pt x="48" y="19"/>
                      </a:lnTo>
                      <a:lnTo>
                        <a:pt x="38" y="9"/>
                      </a:lnTo>
                      <a:lnTo>
                        <a:pt x="38" y="0"/>
                      </a:lnTo>
                      <a:lnTo>
                        <a:pt x="29" y="0"/>
                      </a:lnTo>
                      <a:lnTo>
                        <a:pt x="19" y="0"/>
                      </a:lnTo>
                      <a:lnTo>
                        <a:pt x="10" y="0"/>
                      </a:lnTo>
                      <a:lnTo>
                        <a:pt x="10" y="9"/>
                      </a:lnTo>
                      <a:lnTo>
                        <a:pt x="0" y="19"/>
                      </a:lnTo>
                      <a:lnTo>
                        <a:pt x="4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28" name=""/>
                <p:cNvSpPr/>
                <p:nvPr/>
              </p:nvSpPr>
              <p:spPr>
                <a:xfrm rot="21021600">
                  <a:off x="4180680" y="3917160"/>
                  <a:ext cx="49320" cy="117000"/>
                </a:xfrm>
                <a:custGeom>
                  <a:avLst/>
                  <a:gdLst/>
                  <a:ahLst/>
                  <a:rect l="l" t="t" r="r" b="b"/>
                  <a:pathLst>
                    <a:path w="115" h="230">
                      <a:moveTo>
                        <a:pt x="38" y="230"/>
                      </a:moveTo>
                      <a:lnTo>
                        <a:pt x="48" y="202"/>
                      </a:lnTo>
                      <a:lnTo>
                        <a:pt x="67" y="173"/>
                      </a:lnTo>
                      <a:lnTo>
                        <a:pt x="77" y="144"/>
                      </a:lnTo>
                      <a:lnTo>
                        <a:pt x="86" y="125"/>
                      </a:lnTo>
                      <a:lnTo>
                        <a:pt x="96" y="96"/>
                      </a:lnTo>
                      <a:lnTo>
                        <a:pt x="105" y="67"/>
                      </a:lnTo>
                      <a:lnTo>
                        <a:pt x="105" y="38"/>
                      </a:lnTo>
                      <a:lnTo>
                        <a:pt x="115" y="10"/>
                      </a:lnTo>
                      <a:lnTo>
                        <a:pt x="67" y="0"/>
                      </a:lnTo>
                      <a:lnTo>
                        <a:pt x="67" y="29"/>
                      </a:lnTo>
                      <a:lnTo>
                        <a:pt x="58" y="58"/>
                      </a:lnTo>
                      <a:lnTo>
                        <a:pt x="48" y="86"/>
                      </a:lnTo>
                      <a:lnTo>
                        <a:pt x="48" y="106"/>
                      </a:lnTo>
                      <a:lnTo>
                        <a:pt x="38" y="125"/>
                      </a:lnTo>
                      <a:lnTo>
                        <a:pt x="29" y="154"/>
                      </a:lnTo>
                      <a:lnTo>
                        <a:pt x="10" y="182"/>
                      </a:lnTo>
                      <a:lnTo>
                        <a:pt x="0" y="202"/>
                      </a:lnTo>
                      <a:lnTo>
                        <a:pt x="38"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rot="21021600">
                  <a:off x="4200120" y="3909600"/>
                  <a:ext cx="20520" cy="19800"/>
                </a:xfrm>
                <a:custGeom>
                  <a:avLst/>
                  <a:gdLst/>
                  <a:ahLst/>
                  <a:rect l="l" t="t" r="r" b="b"/>
                  <a:pathLst>
                    <a:path w="48" h="39">
                      <a:moveTo>
                        <a:pt x="10" y="0"/>
                      </a:moveTo>
                      <a:lnTo>
                        <a:pt x="0" y="10"/>
                      </a:lnTo>
                      <a:lnTo>
                        <a:pt x="10" y="20"/>
                      </a:lnTo>
                      <a:lnTo>
                        <a:pt x="10" y="29"/>
                      </a:lnTo>
                      <a:lnTo>
                        <a:pt x="10" y="29"/>
                      </a:lnTo>
                      <a:lnTo>
                        <a:pt x="19" y="39"/>
                      </a:lnTo>
                      <a:lnTo>
                        <a:pt x="29" y="39"/>
                      </a:lnTo>
                      <a:lnTo>
                        <a:pt x="38" y="29"/>
                      </a:lnTo>
                      <a:lnTo>
                        <a:pt x="48" y="29"/>
                      </a:lnTo>
                      <a:lnTo>
                        <a:pt x="1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30" name=""/>
                <p:cNvSpPr/>
                <p:nvPr/>
              </p:nvSpPr>
              <p:spPr>
                <a:xfrm rot="21021600">
                  <a:off x="4026960" y="3528720"/>
                  <a:ext cx="16200" cy="19080"/>
                </a:xfrm>
                <a:custGeom>
                  <a:avLst/>
                  <a:gdLst/>
                  <a:ahLst/>
                  <a:rect l="l" t="t" r="r" b="b"/>
                  <a:pathLst>
                    <a:path w="38" h="38">
                      <a:moveTo>
                        <a:pt x="28" y="38"/>
                      </a:moveTo>
                      <a:lnTo>
                        <a:pt x="38" y="28"/>
                      </a:lnTo>
                      <a:lnTo>
                        <a:pt x="38" y="19"/>
                      </a:lnTo>
                      <a:lnTo>
                        <a:pt x="38" y="19"/>
                      </a:lnTo>
                      <a:lnTo>
                        <a:pt x="28" y="9"/>
                      </a:lnTo>
                      <a:lnTo>
                        <a:pt x="28" y="0"/>
                      </a:lnTo>
                      <a:lnTo>
                        <a:pt x="19" y="0"/>
                      </a:lnTo>
                      <a:lnTo>
                        <a:pt x="9" y="0"/>
                      </a:lnTo>
                      <a:lnTo>
                        <a:pt x="0" y="9"/>
                      </a:lnTo>
                      <a:lnTo>
                        <a:pt x="28"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1" name=""/>
                <p:cNvSpPr/>
                <p:nvPr/>
              </p:nvSpPr>
              <p:spPr>
                <a:xfrm rot="21021600">
                  <a:off x="3892320" y="3545280"/>
                  <a:ext cx="152280" cy="63360"/>
                </a:xfrm>
                <a:custGeom>
                  <a:avLst/>
                  <a:gdLst/>
                  <a:ahLst/>
                  <a:rect l="l" t="t" r="r" b="b"/>
                  <a:pathLst>
                    <a:path w="353" h="125">
                      <a:moveTo>
                        <a:pt x="0" y="106"/>
                      </a:moveTo>
                      <a:lnTo>
                        <a:pt x="19" y="115"/>
                      </a:lnTo>
                      <a:lnTo>
                        <a:pt x="47" y="115"/>
                      </a:lnTo>
                      <a:lnTo>
                        <a:pt x="66" y="115"/>
                      </a:lnTo>
                      <a:lnTo>
                        <a:pt x="95" y="125"/>
                      </a:lnTo>
                      <a:lnTo>
                        <a:pt x="114" y="125"/>
                      </a:lnTo>
                      <a:lnTo>
                        <a:pt x="143" y="115"/>
                      </a:lnTo>
                      <a:lnTo>
                        <a:pt x="162" y="115"/>
                      </a:lnTo>
                      <a:lnTo>
                        <a:pt x="191" y="115"/>
                      </a:lnTo>
                      <a:lnTo>
                        <a:pt x="210" y="106"/>
                      </a:lnTo>
                      <a:lnTo>
                        <a:pt x="229" y="106"/>
                      </a:lnTo>
                      <a:lnTo>
                        <a:pt x="258" y="96"/>
                      </a:lnTo>
                      <a:lnTo>
                        <a:pt x="277" y="87"/>
                      </a:lnTo>
                      <a:lnTo>
                        <a:pt x="296" y="67"/>
                      </a:lnTo>
                      <a:lnTo>
                        <a:pt x="315" y="58"/>
                      </a:lnTo>
                      <a:lnTo>
                        <a:pt x="334" y="48"/>
                      </a:lnTo>
                      <a:lnTo>
                        <a:pt x="353" y="29"/>
                      </a:lnTo>
                      <a:lnTo>
                        <a:pt x="325" y="0"/>
                      </a:lnTo>
                      <a:lnTo>
                        <a:pt x="315" y="10"/>
                      </a:lnTo>
                      <a:lnTo>
                        <a:pt x="296" y="19"/>
                      </a:lnTo>
                      <a:lnTo>
                        <a:pt x="277" y="39"/>
                      </a:lnTo>
                      <a:lnTo>
                        <a:pt x="258" y="48"/>
                      </a:lnTo>
                      <a:lnTo>
                        <a:pt x="239" y="58"/>
                      </a:lnTo>
                      <a:lnTo>
                        <a:pt x="219" y="58"/>
                      </a:lnTo>
                      <a:lnTo>
                        <a:pt x="200" y="67"/>
                      </a:lnTo>
                      <a:lnTo>
                        <a:pt x="181" y="67"/>
                      </a:lnTo>
                      <a:lnTo>
                        <a:pt x="162" y="77"/>
                      </a:lnTo>
                      <a:lnTo>
                        <a:pt x="143" y="77"/>
                      </a:lnTo>
                      <a:lnTo>
                        <a:pt x="114" y="77"/>
                      </a:lnTo>
                      <a:lnTo>
                        <a:pt x="95" y="77"/>
                      </a:lnTo>
                      <a:lnTo>
                        <a:pt x="76" y="77"/>
                      </a:lnTo>
                      <a:lnTo>
                        <a:pt x="47" y="77"/>
                      </a:lnTo>
                      <a:lnTo>
                        <a:pt x="28" y="67"/>
                      </a:lnTo>
                      <a:lnTo>
                        <a:pt x="9" y="67"/>
                      </a:lnTo>
                      <a:lnTo>
                        <a:pt x="0"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rot="21021600">
                  <a:off x="4026960" y="3529440"/>
                  <a:ext cx="7920" cy="19080"/>
                </a:xfrm>
                <a:custGeom>
                  <a:avLst/>
                  <a:gdLst/>
                  <a:ahLst/>
                  <a:rect l="l" t="t" r="r" b="b"/>
                  <a:pathLst>
                    <a:path w="19" h="38">
                      <a:moveTo>
                        <a:pt x="19" y="0"/>
                      </a:moveTo>
                      <a:lnTo>
                        <a:pt x="9" y="0"/>
                      </a:lnTo>
                      <a:lnTo>
                        <a:pt x="0" y="9"/>
                      </a:lnTo>
                      <a:lnTo>
                        <a:pt x="0" y="9"/>
                      </a:lnTo>
                      <a:lnTo>
                        <a:pt x="0" y="19"/>
                      </a:lnTo>
                      <a:lnTo>
                        <a:pt x="0" y="28"/>
                      </a:lnTo>
                      <a:lnTo>
                        <a:pt x="0" y="38"/>
                      </a:lnTo>
                      <a:lnTo>
                        <a:pt x="0" y="38"/>
                      </a:lnTo>
                      <a:lnTo>
                        <a:pt x="9" y="38"/>
                      </a:lnTo>
                      <a:lnTo>
                        <a:pt x="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3" name=""/>
                <p:cNvSpPr/>
                <p:nvPr/>
              </p:nvSpPr>
              <p:spPr>
                <a:xfrm rot="21021600">
                  <a:off x="4085280" y="3380760"/>
                  <a:ext cx="7920" cy="19080"/>
                </a:xfrm>
                <a:custGeom>
                  <a:avLst/>
                  <a:gdLst/>
                  <a:ahLst/>
                  <a:rect l="l" t="t" r="r" b="b"/>
                  <a:pathLst>
                    <a:path w="19" h="38">
                      <a:moveTo>
                        <a:pt x="0" y="38"/>
                      </a:moveTo>
                      <a:lnTo>
                        <a:pt x="19" y="38"/>
                      </a:lnTo>
                      <a:lnTo>
                        <a:pt x="19" y="19"/>
                      </a:lnTo>
                      <a:lnTo>
                        <a:pt x="19" y="9"/>
                      </a:lnTo>
                      <a:lnTo>
                        <a:pt x="0" y="0"/>
                      </a:lnTo>
                      <a:lnTo>
                        <a:pt x="0"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rot="21021600">
                  <a:off x="4042080" y="3385080"/>
                  <a:ext cx="45000" cy="38880"/>
                </a:xfrm>
                <a:custGeom>
                  <a:avLst/>
                  <a:gdLst/>
                  <a:ahLst/>
                  <a:rect l="l" t="t" r="r" b="b"/>
                  <a:pathLst>
                    <a:path w="105" h="77">
                      <a:moveTo>
                        <a:pt x="28" y="77"/>
                      </a:moveTo>
                      <a:lnTo>
                        <a:pt x="38" y="67"/>
                      </a:lnTo>
                      <a:lnTo>
                        <a:pt x="47" y="57"/>
                      </a:lnTo>
                      <a:lnTo>
                        <a:pt x="57" y="57"/>
                      </a:lnTo>
                      <a:lnTo>
                        <a:pt x="57" y="48"/>
                      </a:lnTo>
                      <a:lnTo>
                        <a:pt x="67" y="48"/>
                      </a:lnTo>
                      <a:lnTo>
                        <a:pt x="76" y="48"/>
                      </a:lnTo>
                      <a:lnTo>
                        <a:pt x="86" y="38"/>
                      </a:lnTo>
                      <a:lnTo>
                        <a:pt x="105" y="38"/>
                      </a:lnTo>
                      <a:lnTo>
                        <a:pt x="105" y="0"/>
                      </a:lnTo>
                      <a:lnTo>
                        <a:pt x="86" y="0"/>
                      </a:lnTo>
                      <a:lnTo>
                        <a:pt x="76" y="0"/>
                      </a:lnTo>
                      <a:lnTo>
                        <a:pt x="57" y="0"/>
                      </a:lnTo>
                      <a:lnTo>
                        <a:pt x="38" y="9"/>
                      </a:lnTo>
                      <a:lnTo>
                        <a:pt x="28" y="19"/>
                      </a:lnTo>
                      <a:lnTo>
                        <a:pt x="19" y="29"/>
                      </a:lnTo>
                      <a:lnTo>
                        <a:pt x="9" y="38"/>
                      </a:lnTo>
                      <a:lnTo>
                        <a:pt x="0" y="48"/>
                      </a:lnTo>
                      <a:lnTo>
                        <a:pt x="28" y="7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35" name=""/>
                <p:cNvSpPr/>
                <p:nvPr/>
              </p:nvSpPr>
              <p:spPr>
                <a:xfrm rot="21021600">
                  <a:off x="4077720" y="3386160"/>
                  <a:ext cx="16200" cy="14760"/>
                </a:xfrm>
                <a:custGeom>
                  <a:avLst/>
                  <a:gdLst/>
                  <a:ahLst/>
                  <a:rect l="l" t="t" r="r" b="b"/>
                  <a:pathLst>
                    <a:path w="38" h="29">
                      <a:moveTo>
                        <a:pt x="0" y="0"/>
                      </a:moveTo>
                      <a:lnTo>
                        <a:pt x="0" y="10"/>
                      </a:lnTo>
                      <a:lnTo>
                        <a:pt x="0" y="10"/>
                      </a:lnTo>
                      <a:lnTo>
                        <a:pt x="0" y="20"/>
                      </a:lnTo>
                      <a:lnTo>
                        <a:pt x="9" y="29"/>
                      </a:lnTo>
                      <a:lnTo>
                        <a:pt x="9" y="29"/>
                      </a:lnTo>
                      <a:lnTo>
                        <a:pt x="19" y="29"/>
                      </a:lnTo>
                      <a:lnTo>
                        <a:pt x="28" y="29"/>
                      </a:lnTo>
                      <a:lnTo>
                        <a:pt x="38" y="2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36" name=""/>
                <p:cNvSpPr/>
                <p:nvPr/>
              </p:nvSpPr>
              <p:spPr>
                <a:xfrm rot="21021600">
                  <a:off x="4322520" y="3666600"/>
                  <a:ext cx="16200" cy="19800"/>
                </a:xfrm>
                <a:custGeom>
                  <a:avLst/>
                  <a:gdLst/>
                  <a:ahLst/>
                  <a:rect l="l" t="t" r="r" b="b"/>
                  <a:pathLst>
                    <a:path w="38" h="39">
                      <a:moveTo>
                        <a:pt x="38" y="0"/>
                      </a:moveTo>
                      <a:lnTo>
                        <a:pt x="29" y="0"/>
                      </a:lnTo>
                      <a:lnTo>
                        <a:pt x="19" y="0"/>
                      </a:lnTo>
                      <a:lnTo>
                        <a:pt x="10" y="0"/>
                      </a:lnTo>
                      <a:lnTo>
                        <a:pt x="10" y="10"/>
                      </a:lnTo>
                      <a:lnTo>
                        <a:pt x="0" y="20"/>
                      </a:lnTo>
                      <a:lnTo>
                        <a:pt x="0" y="29"/>
                      </a:lnTo>
                      <a:lnTo>
                        <a:pt x="10" y="39"/>
                      </a:lnTo>
                      <a:lnTo>
                        <a:pt x="19" y="39"/>
                      </a:lnTo>
                      <a:lnTo>
                        <a:pt x="38"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37" name=""/>
                <p:cNvSpPr/>
                <p:nvPr/>
              </p:nvSpPr>
              <p:spPr>
                <a:xfrm rot="21021600">
                  <a:off x="4342680" y="3657960"/>
                  <a:ext cx="90360" cy="171000"/>
                </a:xfrm>
                <a:custGeom>
                  <a:avLst/>
                  <a:gdLst/>
                  <a:ahLst/>
                  <a:rect l="l" t="t" r="r" b="b"/>
                  <a:pathLst>
                    <a:path w="210" h="336">
                      <a:moveTo>
                        <a:pt x="210" y="327"/>
                      </a:moveTo>
                      <a:lnTo>
                        <a:pt x="210" y="298"/>
                      </a:lnTo>
                      <a:lnTo>
                        <a:pt x="201" y="260"/>
                      </a:lnTo>
                      <a:lnTo>
                        <a:pt x="201" y="231"/>
                      </a:lnTo>
                      <a:lnTo>
                        <a:pt x="191" y="202"/>
                      </a:lnTo>
                      <a:lnTo>
                        <a:pt x="182" y="173"/>
                      </a:lnTo>
                      <a:lnTo>
                        <a:pt x="172" y="154"/>
                      </a:lnTo>
                      <a:lnTo>
                        <a:pt x="163" y="135"/>
                      </a:lnTo>
                      <a:lnTo>
                        <a:pt x="144" y="106"/>
                      </a:lnTo>
                      <a:lnTo>
                        <a:pt x="134" y="87"/>
                      </a:lnTo>
                      <a:lnTo>
                        <a:pt x="115" y="77"/>
                      </a:lnTo>
                      <a:lnTo>
                        <a:pt x="105" y="58"/>
                      </a:lnTo>
                      <a:lnTo>
                        <a:pt x="86" y="48"/>
                      </a:lnTo>
                      <a:lnTo>
                        <a:pt x="67" y="39"/>
                      </a:lnTo>
                      <a:lnTo>
                        <a:pt x="48" y="20"/>
                      </a:lnTo>
                      <a:lnTo>
                        <a:pt x="38" y="10"/>
                      </a:lnTo>
                      <a:lnTo>
                        <a:pt x="19" y="0"/>
                      </a:lnTo>
                      <a:lnTo>
                        <a:pt x="0" y="39"/>
                      </a:lnTo>
                      <a:lnTo>
                        <a:pt x="10" y="48"/>
                      </a:lnTo>
                      <a:lnTo>
                        <a:pt x="29" y="58"/>
                      </a:lnTo>
                      <a:lnTo>
                        <a:pt x="48" y="68"/>
                      </a:lnTo>
                      <a:lnTo>
                        <a:pt x="58" y="77"/>
                      </a:lnTo>
                      <a:lnTo>
                        <a:pt x="77" y="96"/>
                      </a:lnTo>
                      <a:lnTo>
                        <a:pt x="86" y="106"/>
                      </a:lnTo>
                      <a:lnTo>
                        <a:pt x="96" y="116"/>
                      </a:lnTo>
                      <a:lnTo>
                        <a:pt x="105" y="135"/>
                      </a:lnTo>
                      <a:lnTo>
                        <a:pt x="124" y="154"/>
                      </a:lnTo>
                      <a:lnTo>
                        <a:pt x="134" y="173"/>
                      </a:lnTo>
                      <a:lnTo>
                        <a:pt x="144" y="192"/>
                      </a:lnTo>
                      <a:lnTo>
                        <a:pt x="153" y="212"/>
                      </a:lnTo>
                      <a:lnTo>
                        <a:pt x="153" y="240"/>
                      </a:lnTo>
                      <a:lnTo>
                        <a:pt x="163" y="269"/>
                      </a:lnTo>
                      <a:lnTo>
                        <a:pt x="163" y="298"/>
                      </a:lnTo>
                      <a:lnTo>
                        <a:pt x="172" y="336"/>
                      </a:lnTo>
                      <a:lnTo>
                        <a:pt x="210"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rot="21021600">
                  <a:off x="4323240" y="3676680"/>
                  <a:ext cx="20520" cy="9360"/>
                </a:xfrm>
                <a:custGeom>
                  <a:avLst/>
                  <a:gdLst/>
                  <a:ahLst/>
                  <a:rect l="l" t="t" r="r" b="b"/>
                  <a:pathLst>
                    <a:path w="48" h="19">
                      <a:moveTo>
                        <a:pt x="0" y="0"/>
                      </a:moveTo>
                      <a:lnTo>
                        <a:pt x="10" y="9"/>
                      </a:lnTo>
                      <a:lnTo>
                        <a:pt x="10" y="19"/>
                      </a:lnTo>
                      <a:lnTo>
                        <a:pt x="19" y="19"/>
                      </a:lnTo>
                      <a:lnTo>
                        <a:pt x="29" y="19"/>
                      </a:lnTo>
                      <a:lnTo>
                        <a:pt x="38" y="19"/>
                      </a:lnTo>
                      <a:lnTo>
                        <a:pt x="38" y="19"/>
                      </a:lnTo>
                      <a:lnTo>
                        <a:pt x="48" y="9"/>
                      </a:lnTo>
                      <a:lnTo>
                        <a:pt x="4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9" name=""/>
                <p:cNvSpPr/>
                <p:nvPr/>
              </p:nvSpPr>
              <p:spPr>
                <a:xfrm rot="21021600">
                  <a:off x="4651200" y="3903120"/>
                  <a:ext cx="20160" cy="14760"/>
                </a:xfrm>
                <a:custGeom>
                  <a:avLst/>
                  <a:gdLst/>
                  <a:ahLst/>
                  <a:rect l="l" t="t" r="r" b="b"/>
                  <a:pathLst>
                    <a:path w="47" h="29">
                      <a:moveTo>
                        <a:pt x="38" y="29"/>
                      </a:moveTo>
                      <a:lnTo>
                        <a:pt x="47" y="29"/>
                      </a:lnTo>
                      <a:lnTo>
                        <a:pt x="38" y="19"/>
                      </a:lnTo>
                      <a:lnTo>
                        <a:pt x="38" y="9"/>
                      </a:lnTo>
                      <a:lnTo>
                        <a:pt x="28" y="0"/>
                      </a:lnTo>
                      <a:lnTo>
                        <a:pt x="28" y="0"/>
                      </a:lnTo>
                      <a:lnTo>
                        <a:pt x="19" y="0"/>
                      </a:lnTo>
                      <a:lnTo>
                        <a:pt x="9" y="9"/>
                      </a:lnTo>
                      <a:lnTo>
                        <a:pt x="0" y="9"/>
                      </a:lnTo>
                      <a:lnTo>
                        <a:pt x="3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40" name=""/>
                <p:cNvSpPr/>
                <p:nvPr/>
              </p:nvSpPr>
              <p:spPr>
                <a:xfrm rot="21021600">
                  <a:off x="4618080" y="3910680"/>
                  <a:ext cx="57600" cy="102600"/>
                </a:xfrm>
                <a:custGeom>
                  <a:avLst/>
                  <a:gdLst/>
                  <a:ahLst/>
                  <a:rect l="l" t="t" r="r" b="b"/>
                  <a:pathLst>
                    <a:path w="134" h="202">
                      <a:moveTo>
                        <a:pt x="38" y="202"/>
                      </a:moveTo>
                      <a:lnTo>
                        <a:pt x="48" y="183"/>
                      </a:lnTo>
                      <a:lnTo>
                        <a:pt x="67" y="154"/>
                      </a:lnTo>
                      <a:lnTo>
                        <a:pt x="77" y="135"/>
                      </a:lnTo>
                      <a:lnTo>
                        <a:pt x="86" y="116"/>
                      </a:lnTo>
                      <a:lnTo>
                        <a:pt x="96" y="87"/>
                      </a:lnTo>
                      <a:lnTo>
                        <a:pt x="115" y="68"/>
                      </a:lnTo>
                      <a:lnTo>
                        <a:pt x="124" y="48"/>
                      </a:lnTo>
                      <a:lnTo>
                        <a:pt x="134" y="20"/>
                      </a:lnTo>
                      <a:lnTo>
                        <a:pt x="96" y="0"/>
                      </a:lnTo>
                      <a:lnTo>
                        <a:pt x="86" y="29"/>
                      </a:lnTo>
                      <a:lnTo>
                        <a:pt x="77" y="48"/>
                      </a:lnTo>
                      <a:lnTo>
                        <a:pt x="67" y="68"/>
                      </a:lnTo>
                      <a:lnTo>
                        <a:pt x="48" y="87"/>
                      </a:lnTo>
                      <a:lnTo>
                        <a:pt x="38" y="116"/>
                      </a:lnTo>
                      <a:lnTo>
                        <a:pt x="29" y="135"/>
                      </a:lnTo>
                      <a:lnTo>
                        <a:pt x="10" y="154"/>
                      </a:lnTo>
                      <a:lnTo>
                        <a:pt x="0" y="183"/>
                      </a:lnTo>
                      <a:lnTo>
                        <a:pt x="38"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rot="21021600">
                  <a:off x="4652280" y="3907800"/>
                  <a:ext cx="16200" cy="19800"/>
                </a:xfrm>
                <a:custGeom>
                  <a:avLst/>
                  <a:gdLst/>
                  <a:ahLst/>
                  <a:rect l="l" t="t" r="r" b="b"/>
                  <a:pathLst>
                    <a:path w="38" h="39">
                      <a:moveTo>
                        <a:pt x="0" y="0"/>
                      </a:moveTo>
                      <a:lnTo>
                        <a:pt x="0" y="10"/>
                      </a:lnTo>
                      <a:lnTo>
                        <a:pt x="0" y="20"/>
                      </a:lnTo>
                      <a:lnTo>
                        <a:pt x="9" y="29"/>
                      </a:lnTo>
                      <a:lnTo>
                        <a:pt x="9" y="29"/>
                      </a:lnTo>
                      <a:lnTo>
                        <a:pt x="19" y="39"/>
                      </a:lnTo>
                      <a:lnTo>
                        <a:pt x="28" y="39"/>
                      </a:lnTo>
                      <a:lnTo>
                        <a:pt x="38" y="29"/>
                      </a:lnTo>
                      <a:lnTo>
                        <a:pt x="38" y="2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42" name=""/>
                <p:cNvSpPr/>
                <p:nvPr/>
              </p:nvSpPr>
              <p:spPr>
                <a:xfrm rot="21021600">
                  <a:off x="4466880" y="3825720"/>
                  <a:ext cx="16200" cy="19080"/>
                </a:xfrm>
                <a:custGeom>
                  <a:avLst/>
                  <a:gdLst/>
                  <a:ahLst/>
                  <a:rect l="l" t="t" r="r" b="b"/>
                  <a:pathLst>
                    <a:path w="38" h="38">
                      <a:moveTo>
                        <a:pt x="0" y="38"/>
                      </a:moveTo>
                      <a:lnTo>
                        <a:pt x="9" y="38"/>
                      </a:lnTo>
                      <a:lnTo>
                        <a:pt x="19" y="38"/>
                      </a:lnTo>
                      <a:lnTo>
                        <a:pt x="28" y="38"/>
                      </a:lnTo>
                      <a:lnTo>
                        <a:pt x="38" y="28"/>
                      </a:lnTo>
                      <a:lnTo>
                        <a:pt x="38" y="19"/>
                      </a:lnTo>
                      <a:lnTo>
                        <a:pt x="38" y="9"/>
                      </a:lnTo>
                      <a:lnTo>
                        <a:pt x="28" y="9"/>
                      </a:lnTo>
                      <a:lnTo>
                        <a:pt x="28" y="0"/>
                      </a:lnTo>
                      <a:lnTo>
                        <a:pt x="0"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3" name=""/>
                <p:cNvSpPr/>
                <p:nvPr/>
              </p:nvSpPr>
              <p:spPr>
                <a:xfrm rot="21021600">
                  <a:off x="4431600" y="3804840"/>
                  <a:ext cx="45360" cy="43560"/>
                </a:xfrm>
                <a:custGeom>
                  <a:avLst/>
                  <a:gdLst/>
                  <a:ahLst/>
                  <a:rect l="l" t="t" r="r" b="b"/>
                  <a:pathLst>
                    <a:path w="105" h="86">
                      <a:moveTo>
                        <a:pt x="0" y="38"/>
                      </a:moveTo>
                      <a:lnTo>
                        <a:pt x="19" y="48"/>
                      </a:lnTo>
                      <a:lnTo>
                        <a:pt x="19" y="57"/>
                      </a:lnTo>
                      <a:lnTo>
                        <a:pt x="38" y="57"/>
                      </a:lnTo>
                      <a:lnTo>
                        <a:pt x="48" y="67"/>
                      </a:lnTo>
                      <a:lnTo>
                        <a:pt x="48" y="67"/>
                      </a:lnTo>
                      <a:lnTo>
                        <a:pt x="58" y="76"/>
                      </a:lnTo>
                      <a:lnTo>
                        <a:pt x="77" y="76"/>
                      </a:lnTo>
                      <a:lnTo>
                        <a:pt x="77" y="86"/>
                      </a:lnTo>
                      <a:lnTo>
                        <a:pt x="105" y="48"/>
                      </a:lnTo>
                      <a:lnTo>
                        <a:pt x="96" y="38"/>
                      </a:lnTo>
                      <a:lnTo>
                        <a:pt x="86" y="38"/>
                      </a:lnTo>
                      <a:lnTo>
                        <a:pt x="77" y="28"/>
                      </a:lnTo>
                      <a:lnTo>
                        <a:pt x="67" y="28"/>
                      </a:lnTo>
                      <a:lnTo>
                        <a:pt x="58" y="19"/>
                      </a:lnTo>
                      <a:lnTo>
                        <a:pt x="48" y="19"/>
                      </a:lnTo>
                      <a:lnTo>
                        <a:pt x="38" y="9"/>
                      </a:lnTo>
                      <a:lnTo>
                        <a:pt x="29" y="0"/>
                      </a:lnTo>
                      <a:lnTo>
                        <a:pt x="0" y="3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44" name=""/>
                <p:cNvSpPr/>
                <p:nvPr/>
              </p:nvSpPr>
              <p:spPr>
                <a:xfrm rot="21021600">
                  <a:off x="4462560" y="3826440"/>
                  <a:ext cx="16200" cy="19080"/>
                </a:xfrm>
                <a:custGeom>
                  <a:avLst/>
                  <a:gdLst/>
                  <a:ahLst/>
                  <a:rect l="l" t="t" r="r" b="b"/>
                  <a:pathLst>
                    <a:path w="38" h="38">
                      <a:moveTo>
                        <a:pt x="38" y="0"/>
                      </a:moveTo>
                      <a:lnTo>
                        <a:pt x="29" y="0"/>
                      </a:lnTo>
                      <a:lnTo>
                        <a:pt x="19" y="0"/>
                      </a:lnTo>
                      <a:lnTo>
                        <a:pt x="10" y="0"/>
                      </a:lnTo>
                      <a:lnTo>
                        <a:pt x="10" y="9"/>
                      </a:lnTo>
                      <a:lnTo>
                        <a:pt x="0" y="19"/>
                      </a:lnTo>
                      <a:lnTo>
                        <a:pt x="0" y="19"/>
                      </a:lnTo>
                      <a:lnTo>
                        <a:pt x="10" y="28"/>
                      </a:lnTo>
                      <a:lnTo>
                        <a:pt x="10" y="38"/>
                      </a:lnTo>
                      <a:lnTo>
                        <a:pt x="3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rot="21021600">
                  <a:off x="4212720" y="3466800"/>
                  <a:ext cx="20520" cy="14400"/>
                </a:xfrm>
                <a:custGeom>
                  <a:avLst/>
                  <a:gdLst/>
                  <a:ahLst/>
                  <a:rect l="l" t="t" r="r" b="b"/>
                  <a:pathLst>
                    <a:path w="48" h="29">
                      <a:moveTo>
                        <a:pt x="0" y="0"/>
                      </a:moveTo>
                      <a:lnTo>
                        <a:pt x="0" y="10"/>
                      </a:lnTo>
                      <a:lnTo>
                        <a:pt x="9" y="19"/>
                      </a:lnTo>
                      <a:lnTo>
                        <a:pt x="9" y="19"/>
                      </a:lnTo>
                      <a:lnTo>
                        <a:pt x="19" y="29"/>
                      </a:lnTo>
                      <a:lnTo>
                        <a:pt x="29" y="19"/>
                      </a:lnTo>
                      <a:lnTo>
                        <a:pt x="38" y="19"/>
                      </a:lnTo>
                      <a:lnTo>
                        <a:pt x="38" y="10"/>
                      </a:lnTo>
                      <a:lnTo>
                        <a:pt x="48"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6" name=""/>
                <p:cNvSpPr/>
                <p:nvPr/>
              </p:nvSpPr>
              <p:spPr>
                <a:xfrm rot="21021600">
                  <a:off x="4107960" y="3314160"/>
                  <a:ext cx="111240" cy="161280"/>
                </a:xfrm>
                <a:custGeom>
                  <a:avLst/>
                  <a:gdLst/>
                  <a:ahLst/>
                  <a:rect l="l" t="t" r="r" b="b"/>
                  <a:pathLst>
                    <a:path w="258" h="317">
                      <a:moveTo>
                        <a:pt x="0" y="48"/>
                      </a:moveTo>
                      <a:lnTo>
                        <a:pt x="28" y="48"/>
                      </a:lnTo>
                      <a:lnTo>
                        <a:pt x="57" y="48"/>
                      </a:lnTo>
                      <a:lnTo>
                        <a:pt x="76" y="58"/>
                      </a:lnTo>
                      <a:lnTo>
                        <a:pt x="105" y="67"/>
                      </a:lnTo>
                      <a:lnTo>
                        <a:pt x="124" y="77"/>
                      </a:lnTo>
                      <a:lnTo>
                        <a:pt x="133" y="87"/>
                      </a:lnTo>
                      <a:lnTo>
                        <a:pt x="153" y="96"/>
                      </a:lnTo>
                      <a:lnTo>
                        <a:pt x="162" y="106"/>
                      </a:lnTo>
                      <a:lnTo>
                        <a:pt x="181" y="125"/>
                      </a:lnTo>
                      <a:lnTo>
                        <a:pt x="191" y="144"/>
                      </a:lnTo>
                      <a:lnTo>
                        <a:pt x="191" y="163"/>
                      </a:lnTo>
                      <a:lnTo>
                        <a:pt x="200" y="183"/>
                      </a:lnTo>
                      <a:lnTo>
                        <a:pt x="210" y="211"/>
                      </a:lnTo>
                      <a:lnTo>
                        <a:pt x="210" y="240"/>
                      </a:lnTo>
                      <a:lnTo>
                        <a:pt x="210" y="279"/>
                      </a:lnTo>
                      <a:lnTo>
                        <a:pt x="210" y="317"/>
                      </a:lnTo>
                      <a:lnTo>
                        <a:pt x="258" y="317"/>
                      </a:lnTo>
                      <a:lnTo>
                        <a:pt x="258" y="279"/>
                      </a:lnTo>
                      <a:lnTo>
                        <a:pt x="248" y="240"/>
                      </a:lnTo>
                      <a:lnTo>
                        <a:pt x="248" y="211"/>
                      </a:lnTo>
                      <a:lnTo>
                        <a:pt x="248" y="183"/>
                      </a:lnTo>
                      <a:lnTo>
                        <a:pt x="239" y="154"/>
                      </a:lnTo>
                      <a:lnTo>
                        <a:pt x="229" y="125"/>
                      </a:lnTo>
                      <a:lnTo>
                        <a:pt x="210" y="96"/>
                      </a:lnTo>
                      <a:lnTo>
                        <a:pt x="200" y="77"/>
                      </a:lnTo>
                      <a:lnTo>
                        <a:pt x="181" y="67"/>
                      </a:lnTo>
                      <a:lnTo>
                        <a:pt x="162" y="48"/>
                      </a:lnTo>
                      <a:lnTo>
                        <a:pt x="143" y="39"/>
                      </a:lnTo>
                      <a:lnTo>
                        <a:pt x="114" y="20"/>
                      </a:lnTo>
                      <a:lnTo>
                        <a:pt x="86" y="20"/>
                      </a:lnTo>
                      <a:lnTo>
                        <a:pt x="57" y="10"/>
                      </a:lnTo>
                      <a:lnTo>
                        <a:pt x="28" y="0"/>
                      </a:lnTo>
                      <a:lnTo>
                        <a:pt x="0" y="0"/>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rot="21021600">
                  <a:off x="4212000" y="3458520"/>
                  <a:ext cx="7920" cy="24120"/>
                </a:xfrm>
                <a:custGeom>
                  <a:avLst/>
                  <a:gdLst/>
                  <a:ahLst/>
                  <a:rect l="l" t="t" r="r" b="b"/>
                  <a:pathLst>
                    <a:path w="19" h="48">
                      <a:moveTo>
                        <a:pt x="19" y="0"/>
                      </a:moveTo>
                      <a:lnTo>
                        <a:pt x="9" y="9"/>
                      </a:lnTo>
                      <a:lnTo>
                        <a:pt x="0" y="19"/>
                      </a:lnTo>
                      <a:lnTo>
                        <a:pt x="9" y="38"/>
                      </a:lnTo>
                      <a:lnTo>
                        <a:pt x="19" y="48"/>
                      </a:lnTo>
                      <a:lnTo>
                        <a:pt x="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48" name=""/>
                <p:cNvSpPr/>
                <p:nvPr/>
              </p:nvSpPr>
              <p:spPr>
                <a:xfrm rot="21021600">
                  <a:off x="4332600" y="3214440"/>
                  <a:ext cx="16200" cy="9360"/>
                </a:xfrm>
                <a:custGeom>
                  <a:avLst/>
                  <a:gdLst/>
                  <a:ahLst/>
                  <a:rect l="l" t="t" r="r" b="b"/>
                  <a:pathLst>
                    <a:path w="38" h="19">
                      <a:moveTo>
                        <a:pt x="38" y="19"/>
                      </a:moveTo>
                      <a:lnTo>
                        <a:pt x="38" y="10"/>
                      </a:lnTo>
                      <a:lnTo>
                        <a:pt x="38" y="10"/>
                      </a:lnTo>
                      <a:lnTo>
                        <a:pt x="28" y="0"/>
                      </a:lnTo>
                      <a:lnTo>
                        <a:pt x="19" y="0"/>
                      </a:lnTo>
                      <a:lnTo>
                        <a:pt x="9" y="0"/>
                      </a:lnTo>
                      <a:lnTo>
                        <a:pt x="9" y="0"/>
                      </a:lnTo>
                      <a:lnTo>
                        <a:pt x="0" y="0"/>
                      </a:lnTo>
                      <a:lnTo>
                        <a:pt x="0" y="10"/>
                      </a:lnTo>
                      <a:lnTo>
                        <a:pt x="38"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9" name=""/>
                <p:cNvSpPr/>
                <p:nvPr/>
              </p:nvSpPr>
              <p:spPr>
                <a:xfrm rot="21021600">
                  <a:off x="4272840" y="3224520"/>
                  <a:ext cx="86400" cy="121320"/>
                </a:xfrm>
                <a:custGeom>
                  <a:avLst/>
                  <a:gdLst/>
                  <a:ahLst/>
                  <a:rect l="l" t="t" r="r" b="b"/>
                  <a:pathLst>
                    <a:path w="201" h="239">
                      <a:moveTo>
                        <a:pt x="29" y="239"/>
                      </a:moveTo>
                      <a:lnTo>
                        <a:pt x="58" y="211"/>
                      </a:lnTo>
                      <a:lnTo>
                        <a:pt x="86" y="191"/>
                      </a:lnTo>
                      <a:lnTo>
                        <a:pt x="115" y="163"/>
                      </a:lnTo>
                      <a:lnTo>
                        <a:pt x="134" y="144"/>
                      </a:lnTo>
                      <a:lnTo>
                        <a:pt x="153" y="115"/>
                      </a:lnTo>
                      <a:lnTo>
                        <a:pt x="172" y="76"/>
                      </a:lnTo>
                      <a:lnTo>
                        <a:pt x="191" y="48"/>
                      </a:lnTo>
                      <a:lnTo>
                        <a:pt x="201" y="9"/>
                      </a:lnTo>
                      <a:lnTo>
                        <a:pt x="163" y="0"/>
                      </a:lnTo>
                      <a:lnTo>
                        <a:pt x="144" y="28"/>
                      </a:lnTo>
                      <a:lnTo>
                        <a:pt x="134" y="57"/>
                      </a:lnTo>
                      <a:lnTo>
                        <a:pt x="115" y="86"/>
                      </a:lnTo>
                      <a:lnTo>
                        <a:pt x="96" y="115"/>
                      </a:lnTo>
                      <a:lnTo>
                        <a:pt x="77" y="134"/>
                      </a:lnTo>
                      <a:lnTo>
                        <a:pt x="58" y="163"/>
                      </a:lnTo>
                      <a:lnTo>
                        <a:pt x="29" y="182"/>
                      </a:lnTo>
                      <a:lnTo>
                        <a:pt x="0" y="201"/>
                      </a:lnTo>
                      <a:lnTo>
                        <a:pt x="29"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rot="21021600">
                  <a:off x="4329360" y="3214800"/>
                  <a:ext cx="16200" cy="19080"/>
                </a:xfrm>
                <a:custGeom>
                  <a:avLst/>
                  <a:gdLst/>
                  <a:ahLst/>
                  <a:rect l="l" t="t" r="r" b="b"/>
                  <a:pathLst>
                    <a:path w="38" h="38">
                      <a:moveTo>
                        <a:pt x="19" y="0"/>
                      </a:moveTo>
                      <a:lnTo>
                        <a:pt x="10" y="10"/>
                      </a:lnTo>
                      <a:lnTo>
                        <a:pt x="0" y="10"/>
                      </a:lnTo>
                      <a:lnTo>
                        <a:pt x="10" y="19"/>
                      </a:lnTo>
                      <a:lnTo>
                        <a:pt x="10" y="29"/>
                      </a:lnTo>
                      <a:lnTo>
                        <a:pt x="10" y="38"/>
                      </a:lnTo>
                      <a:lnTo>
                        <a:pt x="19" y="38"/>
                      </a:lnTo>
                      <a:lnTo>
                        <a:pt x="29" y="38"/>
                      </a:lnTo>
                      <a:lnTo>
                        <a:pt x="38" y="38"/>
                      </a:lnTo>
                      <a:lnTo>
                        <a:pt x="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1" name=""/>
                <p:cNvSpPr/>
                <p:nvPr/>
              </p:nvSpPr>
              <p:spPr>
                <a:xfrm rot="21021600">
                  <a:off x="4433040" y="3281040"/>
                  <a:ext cx="16200" cy="19080"/>
                </a:xfrm>
                <a:custGeom>
                  <a:avLst/>
                  <a:gdLst/>
                  <a:ahLst/>
                  <a:rect l="l" t="t" r="r" b="b"/>
                  <a:pathLst>
                    <a:path w="38" h="38">
                      <a:moveTo>
                        <a:pt x="38" y="38"/>
                      </a:moveTo>
                      <a:lnTo>
                        <a:pt x="38" y="29"/>
                      </a:lnTo>
                      <a:lnTo>
                        <a:pt x="38" y="19"/>
                      </a:lnTo>
                      <a:lnTo>
                        <a:pt x="38" y="19"/>
                      </a:lnTo>
                      <a:lnTo>
                        <a:pt x="28" y="10"/>
                      </a:lnTo>
                      <a:lnTo>
                        <a:pt x="19" y="10"/>
                      </a:lnTo>
                      <a:lnTo>
                        <a:pt x="19" y="0"/>
                      </a:lnTo>
                      <a:lnTo>
                        <a:pt x="9" y="10"/>
                      </a:lnTo>
                      <a:lnTo>
                        <a:pt x="0" y="10"/>
                      </a:lnTo>
                      <a:lnTo>
                        <a:pt x="38"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2" name=""/>
                <p:cNvSpPr/>
                <p:nvPr/>
              </p:nvSpPr>
              <p:spPr>
                <a:xfrm rot="21021600">
                  <a:off x="4379760" y="3290760"/>
                  <a:ext cx="82440" cy="160560"/>
                </a:xfrm>
                <a:custGeom>
                  <a:avLst/>
                  <a:gdLst/>
                  <a:ahLst/>
                  <a:rect l="l" t="t" r="r" b="b"/>
                  <a:pathLst>
                    <a:path w="191" h="316">
                      <a:moveTo>
                        <a:pt x="38" y="316"/>
                      </a:moveTo>
                      <a:lnTo>
                        <a:pt x="57" y="278"/>
                      </a:lnTo>
                      <a:lnTo>
                        <a:pt x="67" y="240"/>
                      </a:lnTo>
                      <a:lnTo>
                        <a:pt x="86" y="201"/>
                      </a:lnTo>
                      <a:lnTo>
                        <a:pt x="105" y="163"/>
                      </a:lnTo>
                      <a:lnTo>
                        <a:pt x="124" y="134"/>
                      </a:lnTo>
                      <a:lnTo>
                        <a:pt x="143" y="96"/>
                      </a:lnTo>
                      <a:lnTo>
                        <a:pt x="162" y="57"/>
                      </a:lnTo>
                      <a:lnTo>
                        <a:pt x="191" y="28"/>
                      </a:lnTo>
                      <a:lnTo>
                        <a:pt x="153" y="0"/>
                      </a:lnTo>
                      <a:lnTo>
                        <a:pt x="124" y="38"/>
                      </a:lnTo>
                      <a:lnTo>
                        <a:pt x="105" y="76"/>
                      </a:lnTo>
                      <a:lnTo>
                        <a:pt x="86" y="105"/>
                      </a:lnTo>
                      <a:lnTo>
                        <a:pt x="67" y="144"/>
                      </a:lnTo>
                      <a:lnTo>
                        <a:pt x="47" y="182"/>
                      </a:lnTo>
                      <a:lnTo>
                        <a:pt x="28" y="220"/>
                      </a:lnTo>
                      <a:lnTo>
                        <a:pt x="9" y="259"/>
                      </a:lnTo>
                      <a:lnTo>
                        <a:pt x="0" y="307"/>
                      </a:lnTo>
                      <a:lnTo>
                        <a:pt x="3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rot="21021600">
                  <a:off x="4434120" y="3290760"/>
                  <a:ext cx="16200" cy="14760"/>
                </a:xfrm>
                <a:custGeom>
                  <a:avLst/>
                  <a:gdLst/>
                  <a:ahLst/>
                  <a:rect l="l" t="t" r="r" b="b"/>
                  <a:pathLst>
                    <a:path w="38" h="29">
                      <a:moveTo>
                        <a:pt x="0" y="0"/>
                      </a:moveTo>
                      <a:lnTo>
                        <a:pt x="0" y="10"/>
                      </a:lnTo>
                      <a:lnTo>
                        <a:pt x="0" y="19"/>
                      </a:lnTo>
                      <a:lnTo>
                        <a:pt x="0" y="19"/>
                      </a:lnTo>
                      <a:lnTo>
                        <a:pt x="9" y="29"/>
                      </a:lnTo>
                      <a:lnTo>
                        <a:pt x="19" y="29"/>
                      </a:lnTo>
                      <a:lnTo>
                        <a:pt x="28" y="29"/>
                      </a:lnTo>
                      <a:lnTo>
                        <a:pt x="28" y="19"/>
                      </a:lnTo>
                      <a:lnTo>
                        <a:pt x="38" y="1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54" name=""/>
                <p:cNvSpPr/>
                <p:nvPr/>
              </p:nvSpPr>
              <p:spPr>
                <a:xfrm rot="21021600">
                  <a:off x="4524840" y="3384360"/>
                  <a:ext cx="16200" cy="10080"/>
                </a:xfrm>
                <a:custGeom>
                  <a:avLst/>
                  <a:gdLst/>
                  <a:ahLst/>
                  <a:rect l="l" t="t" r="r" b="b"/>
                  <a:pathLst>
                    <a:path w="38" h="20">
                      <a:moveTo>
                        <a:pt x="38" y="20"/>
                      </a:moveTo>
                      <a:lnTo>
                        <a:pt x="38" y="10"/>
                      </a:lnTo>
                      <a:lnTo>
                        <a:pt x="38" y="10"/>
                      </a:lnTo>
                      <a:lnTo>
                        <a:pt x="28" y="0"/>
                      </a:lnTo>
                      <a:lnTo>
                        <a:pt x="19" y="0"/>
                      </a:lnTo>
                      <a:lnTo>
                        <a:pt x="9" y="0"/>
                      </a:lnTo>
                      <a:lnTo>
                        <a:pt x="9" y="10"/>
                      </a:lnTo>
                      <a:lnTo>
                        <a:pt x="0" y="10"/>
                      </a:lnTo>
                      <a:lnTo>
                        <a:pt x="0" y="20"/>
                      </a:lnTo>
                      <a:lnTo>
                        <a:pt x="38" y="2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55" name=""/>
                <p:cNvSpPr/>
                <p:nvPr/>
              </p:nvSpPr>
              <p:spPr>
                <a:xfrm rot="21021600">
                  <a:off x="4502880" y="3396600"/>
                  <a:ext cx="53280" cy="165600"/>
                </a:xfrm>
                <a:custGeom>
                  <a:avLst/>
                  <a:gdLst/>
                  <a:ahLst/>
                  <a:rect l="l" t="t" r="r" b="b"/>
                  <a:pathLst>
                    <a:path w="124" h="326">
                      <a:moveTo>
                        <a:pt x="47" y="326"/>
                      </a:moveTo>
                      <a:lnTo>
                        <a:pt x="57" y="288"/>
                      </a:lnTo>
                      <a:lnTo>
                        <a:pt x="76" y="249"/>
                      </a:lnTo>
                      <a:lnTo>
                        <a:pt x="86" y="211"/>
                      </a:lnTo>
                      <a:lnTo>
                        <a:pt x="95" y="172"/>
                      </a:lnTo>
                      <a:lnTo>
                        <a:pt x="105" y="134"/>
                      </a:lnTo>
                      <a:lnTo>
                        <a:pt x="114" y="96"/>
                      </a:lnTo>
                      <a:lnTo>
                        <a:pt x="124" y="48"/>
                      </a:lnTo>
                      <a:lnTo>
                        <a:pt x="124" y="0"/>
                      </a:lnTo>
                      <a:lnTo>
                        <a:pt x="86" y="0"/>
                      </a:lnTo>
                      <a:lnTo>
                        <a:pt x="76" y="48"/>
                      </a:lnTo>
                      <a:lnTo>
                        <a:pt x="76" y="86"/>
                      </a:lnTo>
                      <a:lnTo>
                        <a:pt x="67" y="124"/>
                      </a:lnTo>
                      <a:lnTo>
                        <a:pt x="57" y="163"/>
                      </a:lnTo>
                      <a:lnTo>
                        <a:pt x="47" y="201"/>
                      </a:lnTo>
                      <a:lnTo>
                        <a:pt x="28" y="230"/>
                      </a:lnTo>
                      <a:lnTo>
                        <a:pt x="19" y="268"/>
                      </a:lnTo>
                      <a:lnTo>
                        <a:pt x="0" y="307"/>
                      </a:lnTo>
                      <a:lnTo>
                        <a:pt x="47" y="3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rot="21021600">
                  <a:off x="4526280" y="3389040"/>
                  <a:ext cx="16200" cy="14760"/>
                </a:xfrm>
                <a:custGeom>
                  <a:avLst/>
                  <a:gdLst/>
                  <a:ahLst/>
                  <a:rect l="l" t="t" r="r" b="b"/>
                  <a:pathLst>
                    <a:path w="38" h="29">
                      <a:moveTo>
                        <a:pt x="0" y="0"/>
                      </a:moveTo>
                      <a:lnTo>
                        <a:pt x="0" y="10"/>
                      </a:lnTo>
                      <a:lnTo>
                        <a:pt x="0" y="19"/>
                      </a:lnTo>
                      <a:lnTo>
                        <a:pt x="9" y="29"/>
                      </a:lnTo>
                      <a:lnTo>
                        <a:pt x="9" y="29"/>
                      </a:lnTo>
                      <a:lnTo>
                        <a:pt x="19" y="29"/>
                      </a:lnTo>
                      <a:lnTo>
                        <a:pt x="28" y="29"/>
                      </a:lnTo>
                      <a:lnTo>
                        <a:pt x="38" y="29"/>
                      </a:lnTo>
                      <a:lnTo>
                        <a:pt x="38" y="1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57" name=""/>
                <p:cNvSpPr/>
                <p:nvPr/>
              </p:nvSpPr>
              <p:spPr>
                <a:xfrm rot="21021600">
                  <a:off x="4698720" y="3291120"/>
                  <a:ext cx="12240" cy="24120"/>
                </a:xfrm>
                <a:custGeom>
                  <a:avLst/>
                  <a:gdLst/>
                  <a:ahLst/>
                  <a:rect l="l" t="t" r="r" b="b"/>
                  <a:pathLst>
                    <a:path w="29" h="48">
                      <a:moveTo>
                        <a:pt x="29" y="0"/>
                      </a:moveTo>
                      <a:lnTo>
                        <a:pt x="19" y="0"/>
                      </a:lnTo>
                      <a:lnTo>
                        <a:pt x="9" y="9"/>
                      </a:lnTo>
                      <a:lnTo>
                        <a:pt x="0" y="9"/>
                      </a:lnTo>
                      <a:lnTo>
                        <a:pt x="0" y="19"/>
                      </a:lnTo>
                      <a:lnTo>
                        <a:pt x="0" y="28"/>
                      </a:lnTo>
                      <a:lnTo>
                        <a:pt x="0" y="38"/>
                      </a:lnTo>
                      <a:lnTo>
                        <a:pt x="9" y="38"/>
                      </a:lnTo>
                      <a:lnTo>
                        <a:pt x="19" y="48"/>
                      </a:lnTo>
                      <a:lnTo>
                        <a:pt x="2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58" name=""/>
                <p:cNvSpPr/>
                <p:nvPr/>
              </p:nvSpPr>
              <p:spPr>
                <a:xfrm rot="21021600">
                  <a:off x="4717440" y="3285720"/>
                  <a:ext cx="53280" cy="156240"/>
                </a:xfrm>
                <a:custGeom>
                  <a:avLst/>
                  <a:gdLst/>
                  <a:ahLst/>
                  <a:rect l="l" t="t" r="r" b="b"/>
                  <a:pathLst>
                    <a:path w="124" h="307">
                      <a:moveTo>
                        <a:pt x="115" y="307"/>
                      </a:moveTo>
                      <a:lnTo>
                        <a:pt x="115" y="249"/>
                      </a:lnTo>
                      <a:lnTo>
                        <a:pt x="124" y="192"/>
                      </a:lnTo>
                      <a:lnTo>
                        <a:pt x="115" y="144"/>
                      </a:lnTo>
                      <a:lnTo>
                        <a:pt x="105" y="105"/>
                      </a:lnTo>
                      <a:lnTo>
                        <a:pt x="96" y="67"/>
                      </a:lnTo>
                      <a:lnTo>
                        <a:pt x="67" y="38"/>
                      </a:lnTo>
                      <a:lnTo>
                        <a:pt x="38" y="19"/>
                      </a:lnTo>
                      <a:lnTo>
                        <a:pt x="10" y="0"/>
                      </a:lnTo>
                      <a:lnTo>
                        <a:pt x="0" y="48"/>
                      </a:lnTo>
                      <a:lnTo>
                        <a:pt x="19" y="57"/>
                      </a:lnTo>
                      <a:lnTo>
                        <a:pt x="38" y="67"/>
                      </a:lnTo>
                      <a:lnTo>
                        <a:pt x="57" y="86"/>
                      </a:lnTo>
                      <a:lnTo>
                        <a:pt x="67" y="115"/>
                      </a:lnTo>
                      <a:lnTo>
                        <a:pt x="76" y="153"/>
                      </a:lnTo>
                      <a:lnTo>
                        <a:pt x="76" y="192"/>
                      </a:lnTo>
                      <a:lnTo>
                        <a:pt x="76" y="249"/>
                      </a:lnTo>
                      <a:lnTo>
                        <a:pt x="67" y="307"/>
                      </a:lnTo>
                      <a:lnTo>
                        <a:pt x="11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rot="21021600">
                  <a:off x="4699440" y="3300480"/>
                  <a:ext cx="16200" cy="14760"/>
                </a:xfrm>
                <a:custGeom>
                  <a:avLst/>
                  <a:gdLst/>
                  <a:ahLst/>
                  <a:rect l="l" t="t" r="r" b="b"/>
                  <a:pathLst>
                    <a:path w="38" h="29">
                      <a:moveTo>
                        <a:pt x="0" y="0"/>
                      </a:moveTo>
                      <a:lnTo>
                        <a:pt x="0" y="9"/>
                      </a:lnTo>
                      <a:lnTo>
                        <a:pt x="0" y="19"/>
                      </a:lnTo>
                      <a:lnTo>
                        <a:pt x="9" y="29"/>
                      </a:lnTo>
                      <a:lnTo>
                        <a:pt x="19" y="29"/>
                      </a:lnTo>
                      <a:lnTo>
                        <a:pt x="29" y="29"/>
                      </a:lnTo>
                      <a:lnTo>
                        <a:pt x="38" y="19"/>
                      </a:lnTo>
                      <a:lnTo>
                        <a:pt x="38" y="19"/>
                      </a:lnTo>
                      <a:lnTo>
                        <a:pt x="38" y="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0" name=""/>
                <p:cNvSpPr/>
                <p:nvPr/>
              </p:nvSpPr>
              <p:spPr>
                <a:xfrm rot="21021600">
                  <a:off x="4743360" y="3555720"/>
                  <a:ext cx="16200" cy="19080"/>
                </a:xfrm>
                <a:custGeom>
                  <a:avLst/>
                  <a:gdLst/>
                  <a:ahLst/>
                  <a:rect l="l" t="t" r="r" b="b"/>
                  <a:pathLst>
                    <a:path w="38" h="38">
                      <a:moveTo>
                        <a:pt x="0" y="28"/>
                      </a:moveTo>
                      <a:lnTo>
                        <a:pt x="9" y="38"/>
                      </a:lnTo>
                      <a:lnTo>
                        <a:pt x="19" y="38"/>
                      </a:lnTo>
                      <a:lnTo>
                        <a:pt x="19" y="38"/>
                      </a:lnTo>
                      <a:lnTo>
                        <a:pt x="29" y="28"/>
                      </a:lnTo>
                      <a:lnTo>
                        <a:pt x="38" y="28"/>
                      </a:lnTo>
                      <a:lnTo>
                        <a:pt x="38" y="19"/>
                      </a:lnTo>
                      <a:lnTo>
                        <a:pt x="38" y="9"/>
                      </a:lnTo>
                      <a:lnTo>
                        <a:pt x="29" y="0"/>
                      </a:lnTo>
                      <a:lnTo>
                        <a:pt x="0"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1" name=""/>
                <p:cNvSpPr/>
                <p:nvPr/>
              </p:nvSpPr>
              <p:spPr>
                <a:xfrm rot="21021600">
                  <a:off x="4676040" y="3502800"/>
                  <a:ext cx="74520" cy="73080"/>
                </a:xfrm>
                <a:custGeom>
                  <a:avLst/>
                  <a:gdLst/>
                  <a:ahLst/>
                  <a:rect l="l" t="t" r="r" b="b"/>
                  <a:pathLst>
                    <a:path w="173" h="144">
                      <a:moveTo>
                        <a:pt x="0" y="29"/>
                      </a:moveTo>
                      <a:lnTo>
                        <a:pt x="29" y="48"/>
                      </a:lnTo>
                      <a:lnTo>
                        <a:pt x="48" y="58"/>
                      </a:lnTo>
                      <a:lnTo>
                        <a:pt x="58" y="68"/>
                      </a:lnTo>
                      <a:lnTo>
                        <a:pt x="77" y="87"/>
                      </a:lnTo>
                      <a:lnTo>
                        <a:pt x="96" y="96"/>
                      </a:lnTo>
                      <a:lnTo>
                        <a:pt x="115" y="116"/>
                      </a:lnTo>
                      <a:lnTo>
                        <a:pt x="125" y="125"/>
                      </a:lnTo>
                      <a:lnTo>
                        <a:pt x="144" y="144"/>
                      </a:lnTo>
                      <a:lnTo>
                        <a:pt x="173" y="116"/>
                      </a:lnTo>
                      <a:lnTo>
                        <a:pt x="153" y="96"/>
                      </a:lnTo>
                      <a:lnTo>
                        <a:pt x="144" y="77"/>
                      </a:lnTo>
                      <a:lnTo>
                        <a:pt x="125" y="68"/>
                      </a:lnTo>
                      <a:lnTo>
                        <a:pt x="106" y="48"/>
                      </a:lnTo>
                      <a:lnTo>
                        <a:pt x="87" y="39"/>
                      </a:lnTo>
                      <a:lnTo>
                        <a:pt x="67" y="29"/>
                      </a:lnTo>
                      <a:lnTo>
                        <a:pt x="48" y="10"/>
                      </a:lnTo>
                      <a:lnTo>
                        <a:pt x="29" y="0"/>
                      </a:lnTo>
                      <a:lnTo>
                        <a:pt x="0"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 name=""/>
                <p:cNvSpPr/>
                <p:nvPr/>
              </p:nvSpPr>
              <p:spPr>
                <a:xfrm rot="21021600">
                  <a:off x="4738320" y="3551400"/>
                  <a:ext cx="16560" cy="19080"/>
                </a:xfrm>
                <a:custGeom>
                  <a:avLst/>
                  <a:gdLst/>
                  <a:ahLst/>
                  <a:rect l="l" t="t" r="r" b="b"/>
                  <a:pathLst>
                    <a:path w="39" h="38">
                      <a:moveTo>
                        <a:pt x="39" y="10"/>
                      </a:moveTo>
                      <a:lnTo>
                        <a:pt x="29" y="0"/>
                      </a:lnTo>
                      <a:lnTo>
                        <a:pt x="19" y="0"/>
                      </a:lnTo>
                      <a:lnTo>
                        <a:pt x="10" y="10"/>
                      </a:lnTo>
                      <a:lnTo>
                        <a:pt x="10" y="10"/>
                      </a:lnTo>
                      <a:lnTo>
                        <a:pt x="10" y="19"/>
                      </a:lnTo>
                      <a:lnTo>
                        <a:pt x="0" y="29"/>
                      </a:lnTo>
                      <a:lnTo>
                        <a:pt x="10" y="38"/>
                      </a:lnTo>
                      <a:lnTo>
                        <a:pt x="10" y="38"/>
                      </a:lnTo>
                      <a:lnTo>
                        <a:pt x="39"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3" name=""/>
                <p:cNvSpPr/>
                <p:nvPr/>
              </p:nvSpPr>
              <p:spPr>
                <a:xfrm rot="21021600">
                  <a:off x="4673520" y="3596760"/>
                  <a:ext cx="20520" cy="9360"/>
                </a:xfrm>
                <a:custGeom>
                  <a:avLst/>
                  <a:gdLst/>
                  <a:ahLst/>
                  <a:rect l="l" t="t" r="r" b="b"/>
                  <a:pathLst>
                    <a:path w="48" h="19">
                      <a:moveTo>
                        <a:pt x="48" y="19"/>
                      </a:moveTo>
                      <a:lnTo>
                        <a:pt x="48" y="10"/>
                      </a:lnTo>
                      <a:lnTo>
                        <a:pt x="38" y="0"/>
                      </a:lnTo>
                      <a:lnTo>
                        <a:pt x="28" y="0"/>
                      </a:lnTo>
                      <a:lnTo>
                        <a:pt x="28" y="0"/>
                      </a:lnTo>
                      <a:lnTo>
                        <a:pt x="19" y="0"/>
                      </a:lnTo>
                      <a:lnTo>
                        <a:pt x="9" y="0"/>
                      </a:lnTo>
                      <a:lnTo>
                        <a:pt x="0" y="10"/>
                      </a:lnTo>
                      <a:lnTo>
                        <a:pt x="0" y="19"/>
                      </a:lnTo>
                      <a:lnTo>
                        <a:pt x="48"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 name=""/>
                <p:cNvSpPr/>
                <p:nvPr/>
              </p:nvSpPr>
              <p:spPr>
                <a:xfrm rot="21021600">
                  <a:off x="4548960" y="3616920"/>
                  <a:ext cx="165240" cy="215280"/>
                </a:xfrm>
                <a:custGeom>
                  <a:avLst/>
                  <a:gdLst/>
                  <a:ahLst/>
                  <a:rect l="l" t="t" r="r" b="b"/>
                  <a:pathLst>
                    <a:path w="383" h="423">
                      <a:moveTo>
                        <a:pt x="10" y="423"/>
                      </a:moveTo>
                      <a:lnTo>
                        <a:pt x="38" y="423"/>
                      </a:lnTo>
                      <a:lnTo>
                        <a:pt x="77" y="413"/>
                      </a:lnTo>
                      <a:lnTo>
                        <a:pt x="105" y="404"/>
                      </a:lnTo>
                      <a:lnTo>
                        <a:pt x="144" y="384"/>
                      </a:lnTo>
                      <a:lnTo>
                        <a:pt x="172" y="375"/>
                      </a:lnTo>
                      <a:lnTo>
                        <a:pt x="201" y="356"/>
                      </a:lnTo>
                      <a:lnTo>
                        <a:pt x="230" y="327"/>
                      </a:lnTo>
                      <a:lnTo>
                        <a:pt x="258" y="308"/>
                      </a:lnTo>
                      <a:lnTo>
                        <a:pt x="287" y="279"/>
                      </a:lnTo>
                      <a:lnTo>
                        <a:pt x="306" y="250"/>
                      </a:lnTo>
                      <a:lnTo>
                        <a:pt x="325" y="212"/>
                      </a:lnTo>
                      <a:lnTo>
                        <a:pt x="344" y="173"/>
                      </a:lnTo>
                      <a:lnTo>
                        <a:pt x="354" y="135"/>
                      </a:lnTo>
                      <a:lnTo>
                        <a:pt x="373" y="96"/>
                      </a:lnTo>
                      <a:lnTo>
                        <a:pt x="373" y="48"/>
                      </a:lnTo>
                      <a:lnTo>
                        <a:pt x="383" y="0"/>
                      </a:lnTo>
                      <a:lnTo>
                        <a:pt x="335" y="0"/>
                      </a:lnTo>
                      <a:lnTo>
                        <a:pt x="335" y="39"/>
                      </a:lnTo>
                      <a:lnTo>
                        <a:pt x="325" y="87"/>
                      </a:lnTo>
                      <a:lnTo>
                        <a:pt x="316" y="125"/>
                      </a:lnTo>
                      <a:lnTo>
                        <a:pt x="306" y="164"/>
                      </a:lnTo>
                      <a:lnTo>
                        <a:pt x="287" y="192"/>
                      </a:lnTo>
                      <a:lnTo>
                        <a:pt x="268" y="221"/>
                      </a:lnTo>
                      <a:lnTo>
                        <a:pt x="249" y="250"/>
                      </a:lnTo>
                      <a:lnTo>
                        <a:pt x="230" y="279"/>
                      </a:lnTo>
                      <a:lnTo>
                        <a:pt x="210" y="298"/>
                      </a:lnTo>
                      <a:lnTo>
                        <a:pt x="182" y="317"/>
                      </a:lnTo>
                      <a:lnTo>
                        <a:pt x="153" y="336"/>
                      </a:lnTo>
                      <a:lnTo>
                        <a:pt x="124" y="346"/>
                      </a:lnTo>
                      <a:lnTo>
                        <a:pt x="96" y="356"/>
                      </a:lnTo>
                      <a:lnTo>
                        <a:pt x="67" y="365"/>
                      </a:lnTo>
                      <a:lnTo>
                        <a:pt x="38" y="375"/>
                      </a:lnTo>
                      <a:lnTo>
                        <a:pt x="0" y="384"/>
                      </a:lnTo>
                      <a:lnTo>
                        <a:pt x="10"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rot="21021600">
                  <a:off x="4674600" y="3597120"/>
                  <a:ext cx="11880" cy="19800"/>
                </a:xfrm>
                <a:custGeom>
                  <a:avLst/>
                  <a:gdLst/>
                  <a:ahLst/>
                  <a:rect l="l" t="t" r="r" b="b"/>
                  <a:pathLst>
                    <a:path w="28" h="39">
                      <a:moveTo>
                        <a:pt x="19" y="0"/>
                      </a:moveTo>
                      <a:lnTo>
                        <a:pt x="9" y="0"/>
                      </a:lnTo>
                      <a:lnTo>
                        <a:pt x="0" y="19"/>
                      </a:lnTo>
                      <a:lnTo>
                        <a:pt x="9" y="39"/>
                      </a:lnTo>
                      <a:lnTo>
                        <a:pt x="28" y="39"/>
                      </a:lnTo>
                      <a:lnTo>
                        <a:pt x="1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66" name=""/>
                <p:cNvSpPr/>
                <p:nvPr/>
              </p:nvSpPr>
              <p:spPr>
                <a:xfrm rot="21021600">
                  <a:off x="4801320" y="3877200"/>
                  <a:ext cx="20520" cy="14760"/>
                </a:xfrm>
                <a:custGeom>
                  <a:avLst/>
                  <a:gdLst/>
                  <a:ahLst/>
                  <a:rect l="l" t="t" r="r" b="b"/>
                  <a:pathLst>
                    <a:path w="48" h="29">
                      <a:moveTo>
                        <a:pt x="0" y="0"/>
                      </a:moveTo>
                      <a:lnTo>
                        <a:pt x="0" y="9"/>
                      </a:lnTo>
                      <a:lnTo>
                        <a:pt x="0" y="19"/>
                      </a:lnTo>
                      <a:lnTo>
                        <a:pt x="10" y="29"/>
                      </a:lnTo>
                      <a:lnTo>
                        <a:pt x="20" y="29"/>
                      </a:lnTo>
                      <a:lnTo>
                        <a:pt x="20" y="29"/>
                      </a:lnTo>
                      <a:lnTo>
                        <a:pt x="29" y="29"/>
                      </a:lnTo>
                      <a:lnTo>
                        <a:pt x="39" y="19"/>
                      </a:lnTo>
                      <a:lnTo>
                        <a:pt x="48" y="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7" name=""/>
                <p:cNvSpPr/>
                <p:nvPr/>
              </p:nvSpPr>
              <p:spPr>
                <a:xfrm rot="21021600">
                  <a:off x="4780440" y="3736800"/>
                  <a:ext cx="37080" cy="146520"/>
                </a:xfrm>
                <a:custGeom>
                  <a:avLst/>
                  <a:gdLst/>
                  <a:ahLst/>
                  <a:rect l="l" t="t" r="r" b="b"/>
                  <a:pathLst>
                    <a:path w="86" h="288">
                      <a:moveTo>
                        <a:pt x="0" y="20"/>
                      </a:moveTo>
                      <a:lnTo>
                        <a:pt x="10" y="48"/>
                      </a:lnTo>
                      <a:lnTo>
                        <a:pt x="29" y="87"/>
                      </a:lnTo>
                      <a:lnTo>
                        <a:pt x="39" y="116"/>
                      </a:lnTo>
                      <a:lnTo>
                        <a:pt x="39" y="144"/>
                      </a:lnTo>
                      <a:lnTo>
                        <a:pt x="39" y="173"/>
                      </a:lnTo>
                      <a:lnTo>
                        <a:pt x="39" y="212"/>
                      </a:lnTo>
                      <a:lnTo>
                        <a:pt x="29" y="240"/>
                      </a:lnTo>
                      <a:lnTo>
                        <a:pt x="19" y="279"/>
                      </a:lnTo>
                      <a:lnTo>
                        <a:pt x="67" y="288"/>
                      </a:lnTo>
                      <a:lnTo>
                        <a:pt x="77" y="250"/>
                      </a:lnTo>
                      <a:lnTo>
                        <a:pt x="86" y="212"/>
                      </a:lnTo>
                      <a:lnTo>
                        <a:pt x="86" y="173"/>
                      </a:lnTo>
                      <a:lnTo>
                        <a:pt x="86" y="144"/>
                      </a:lnTo>
                      <a:lnTo>
                        <a:pt x="77" y="106"/>
                      </a:lnTo>
                      <a:lnTo>
                        <a:pt x="67" y="68"/>
                      </a:lnTo>
                      <a:lnTo>
                        <a:pt x="58" y="39"/>
                      </a:lnTo>
                      <a:lnTo>
                        <a:pt x="39" y="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rot="21021600">
                  <a:off x="4800600" y="3872880"/>
                  <a:ext cx="16560" cy="14760"/>
                </a:xfrm>
                <a:custGeom>
                  <a:avLst/>
                  <a:gdLst/>
                  <a:ahLst/>
                  <a:rect l="l" t="t" r="r" b="b"/>
                  <a:pathLst>
                    <a:path w="39" h="29">
                      <a:moveTo>
                        <a:pt x="39" y="10"/>
                      </a:moveTo>
                      <a:lnTo>
                        <a:pt x="39" y="0"/>
                      </a:lnTo>
                      <a:lnTo>
                        <a:pt x="29" y="0"/>
                      </a:lnTo>
                      <a:lnTo>
                        <a:pt x="20" y="0"/>
                      </a:lnTo>
                      <a:lnTo>
                        <a:pt x="20" y="0"/>
                      </a:lnTo>
                      <a:lnTo>
                        <a:pt x="10" y="0"/>
                      </a:lnTo>
                      <a:lnTo>
                        <a:pt x="0" y="10"/>
                      </a:lnTo>
                      <a:lnTo>
                        <a:pt x="0" y="19"/>
                      </a:lnTo>
                      <a:lnTo>
                        <a:pt x="0" y="29"/>
                      </a:lnTo>
                      <a:lnTo>
                        <a:pt x="39"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rot="21021600">
                  <a:off x="4845240" y="3548160"/>
                  <a:ext cx="20520" cy="9360"/>
                </a:xfrm>
                <a:custGeom>
                  <a:avLst/>
                  <a:gdLst/>
                  <a:ahLst/>
                  <a:rect l="l" t="t" r="r" b="b"/>
                  <a:pathLst>
                    <a:path w="48" h="19">
                      <a:moveTo>
                        <a:pt x="48" y="19"/>
                      </a:moveTo>
                      <a:lnTo>
                        <a:pt x="38" y="9"/>
                      </a:lnTo>
                      <a:lnTo>
                        <a:pt x="38" y="0"/>
                      </a:lnTo>
                      <a:lnTo>
                        <a:pt x="29" y="0"/>
                      </a:lnTo>
                      <a:lnTo>
                        <a:pt x="19" y="0"/>
                      </a:lnTo>
                      <a:lnTo>
                        <a:pt x="9" y="0"/>
                      </a:lnTo>
                      <a:lnTo>
                        <a:pt x="9" y="0"/>
                      </a:lnTo>
                      <a:lnTo>
                        <a:pt x="0" y="9"/>
                      </a:lnTo>
                      <a:lnTo>
                        <a:pt x="0" y="19"/>
                      </a:lnTo>
                      <a:lnTo>
                        <a:pt x="48"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 name=""/>
                <p:cNvSpPr/>
                <p:nvPr/>
              </p:nvSpPr>
              <p:spPr>
                <a:xfrm rot="21021600">
                  <a:off x="4834800" y="3558600"/>
                  <a:ext cx="41400" cy="102600"/>
                </a:xfrm>
                <a:custGeom>
                  <a:avLst/>
                  <a:gdLst/>
                  <a:ahLst/>
                  <a:rect l="l" t="t" r="r" b="b"/>
                  <a:pathLst>
                    <a:path w="96" h="202">
                      <a:moveTo>
                        <a:pt x="38" y="202"/>
                      </a:moveTo>
                      <a:lnTo>
                        <a:pt x="57" y="173"/>
                      </a:lnTo>
                      <a:lnTo>
                        <a:pt x="67" y="154"/>
                      </a:lnTo>
                      <a:lnTo>
                        <a:pt x="77" y="125"/>
                      </a:lnTo>
                      <a:lnTo>
                        <a:pt x="86" y="96"/>
                      </a:lnTo>
                      <a:lnTo>
                        <a:pt x="86" y="77"/>
                      </a:lnTo>
                      <a:lnTo>
                        <a:pt x="96" y="48"/>
                      </a:lnTo>
                      <a:lnTo>
                        <a:pt x="96" y="19"/>
                      </a:lnTo>
                      <a:lnTo>
                        <a:pt x="96" y="0"/>
                      </a:lnTo>
                      <a:lnTo>
                        <a:pt x="48" y="0"/>
                      </a:lnTo>
                      <a:lnTo>
                        <a:pt x="48" y="19"/>
                      </a:lnTo>
                      <a:lnTo>
                        <a:pt x="48" y="48"/>
                      </a:lnTo>
                      <a:lnTo>
                        <a:pt x="48" y="67"/>
                      </a:lnTo>
                      <a:lnTo>
                        <a:pt x="38" y="86"/>
                      </a:lnTo>
                      <a:lnTo>
                        <a:pt x="38" y="115"/>
                      </a:lnTo>
                      <a:lnTo>
                        <a:pt x="29" y="134"/>
                      </a:lnTo>
                      <a:lnTo>
                        <a:pt x="19" y="154"/>
                      </a:lnTo>
                      <a:lnTo>
                        <a:pt x="0" y="182"/>
                      </a:lnTo>
                      <a:lnTo>
                        <a:pt x="38"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rot="21021600">
                  <a:off x="4846680" y="3552480"/>
                  <a:ext cx="16200" cy="14760"/>
                </a:xfrm>
                <a:custGeom>
                  <a:avLst/>
                  <a:gdLst/>
                  <a:ahLst/>
                  <a:rect l="l" t="t" r="r" b="b"/>
                  <a:pathLst>
                    <a:path w="38" h="29">
                      <a:moveTo>
                        <a:pt x="0" y="0"/>
                      </a:moveTo>
                      <a:lnTo>
                        <a:pt x="0" y="10"/>
                      </a:lnTo>
                      <a:lnTo>
                        <a:pt x="0" y="20"/>
                      </a:lnTo>
                      <a:lnTo>
                        <a:pt x="9" y="20"/>
                      </a:lnTo>
                      <a:lnTo>
                        <a:pt x="9" y="29"/>
                      </a:lnTo>
                      <a:lnTo>
                        <a:pt x="19" y="29"/>
                      </a:lnTo>
                      <a:lnTo>
                        <a:pt x="29" y="29"/>
                      </a:lnTo>
                      <a:lnTo>
                        <a:pt x="38" y="29"/>
                      </a:lnTo>
                      <a:lnTo>
                        <a:pt x="38" y="2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72" name=""/>
                <p:cNvSpPr/>
                <p:nvPr/>
              </p:nvSpPr>
              <p:spPr>
                <a:xfrm rot="21021600">
                  <a:off x="4941720" y="3893400"/>
                  <a:ext cx="20520" cy="9360"/>
                </a:xfrm>
                <a:custGeom>
                  <a:avLst/>
                  <a:gdLst/>
                  <a:ahLst/>
                  <a:rect l="l" t="t" r="r" b="b"/>
                  <a:pathLst>
                    <a:path w="48" h="19">
                      <a:moveTo>
                        <a:pt x="0" y="0"/>
                      </a:moveTo>
                      <a:lnTo>
                        <a:pt x="0" y="9"/>
                      </a:lnTo>
                      <a:lnTo>
                        <a:pt x="9" y="19"/>
                      </a:lnTo>
                      <a:lnTo>
                        <a:pt x="19" y="19"/>
                      </a:lnTo>
                      <a:lnTo>
                        <a:pt x="19" y="19"/>
                      </a:lnTo>
                      <a:lnTo>
                        <a:pt x="29" y="19"/>
                      </a:lnTo>
                      <a:lnTo>
                        <a:pt x="38" y="19"/>
                      </a:lnTo>
                      <a:lnTo>
                        <a:pt x="48" y="9"/>
                      </a:lnTo>
                      <a:lnTo>
                        <a:pt x="4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 name=""/>
                <p:cNvSpPr/>
                <p:nvPr/>
              </p:nvSpPr>
              <p:spPr>
                <a:xfrm rot="21021600">
                  <a:off x="4903200" y="3735360"/>
                  <a:ext cx="45000" cy="161280"/>
                </a:xfrm>
                <a:custGeom>
                  <a:avLst/>
                  <a:gdLst/>
                  <a:ahLst/>
                  <a:rect l="l" t="t" r="r" b="b"/>
                  <a:pathLst>
                    <a:path w="105" h="317">
                      <a:moveTo>
                        <a:pt x="0" y="0"/>
                      </a:moveTo>
                      <a:lnTo>
                        <a:pt x="0" y="38"/>
                      </a:lnTo>
                      <a:lnTo>
                        <a:pt x="0" y="86"/>
                      </a:lnTo>
                      <a:lnTo>
                        <a:pt x="9" y="125"/>
                      </a:lnTo>
                      <a:lnTo>
                        <a:pt x="28" y="153"/>
                      </a:lnTo>
                      <a:lnTo>
                        <a:pt x="38" y="192"/>
                      </a:lnTo>
                      <a:lnTo>
                        <a:pt x="47" y="230"/>
                      </a:lnTo>
                      <a:lnTo>
                        <a:pt x="57" y="269"/>
                      </a:lnTo>
                      <a:lnTo>
                        <a:pt x="57" y="317"/>
                      </a:lnTo>
                      <a:lnTo>
                        <a:pt x="105" y="317"/>
                      </a:lnTo>
                      <a:lnTo>
                        <a:pt x="105" y="269"/>
                      </a:lnTo>
                      <a:lnTo>
                        <a:pt x="95" y="221"/>
                      </a:lnTo>
                      <a:lnTo>
                        <a:pt x="76" y="182"/>
                      </a:lnTo>
                      <a:lnTo>
                        <a:pt x="66" y="144"/>
                      </a:lnTo>
                      <a:lnTo>
                        <a:pt x="47" y="105"/>
                      </a:lnTo>
                      <a:lnTo>
                        <a:pt x="47" y="77"/>
                      </a:lnTo>
                      <a:lnTo>
                        <a:pt x="38" y="38"/>
                      </a:lnTo>
                      <a:lnTo>
                        <a:pt x="47" y="9"/>
                      </a:lnTo>
                      <a:lnTo>
                        <a:pt x="0" y="0"/>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rot="21021600">
                  <a:off x="4940640" y="3883320"/>
                  <a:ext cx="20520" cy="14760"/>
                </a:xfrm>
                <a:custGeom>
                  <a:avLst/>
                  <a:gdLst/>
                  <a:ahLst/>
                  <a:rect l="l" t="t" r="r" b="b"/>
                  <a:pathLst>
                    <a:path w="48" h="29">
                      <a:moveTo>
                        <a:pt x="48" y="29"/>
                      </a:moveTo>
                      <a:lnTo>
                        <a:pt x="48" y="20"/>
                      </a:lnTo>
                      <a:lnTo>
                        <a:pt x="38" y="10"/>
                      </a:lnTo>
                      <a:lnTo>
                        <a:pt x="38" y="0"/>
                      </a:lnTo>
                      <a:lnTo>
                        <a:pt x="29" y="0"/>
                      </a:lnTo>
                      <a:lnTo>
                        <a:pt x="19" y="0"/>
                      </a:lnTo>
                      <a:lnTo>
                        <a:pt x="9" y="0"/>
                      </a:lnTo>
                      <a:lnTo>
                        <a:pt x="9" y="10"/>
                      </a:lnTo>
                      <a:lnTo>
                        <a:pt x="0" y="20"/>
                      </a:lnTo>
                      <a:lnTo>
                        <a:pt x="4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75" name=""/>
                <p:cNvSpPr/>
                <p:nvPr/>
              </p:nvSpPr>
              <p:spPr>
                <a:xfrm rot="21021600">
                  <a:off x="5187240" y="3802320"/>
                  <a:ext cx="16200" cy="19080"/>
                </a:xfrm>
                <a:custGeom>
                  <a:avLst/>
                  <a:gdLst/>
                  <a:ahLst/>
                  <a:rect l="l" t="t" r="r" b="b"/>
                  <a:pathLst>
                    <a:path w="38" h="38">
                      <a:moveTo>
                        <a:pt x="0" y="28"/>
                      </a:moveTo>
                      <a:lnTo>
                        <a:pt x="9" y="38"/>
                      </a:lnTo>
                      <a:lnTo>
                        <a:pt x="19" y="38"/>
                      </a:lnTo>
                      <a:lnTo>
                        <a:pt x="28" y="38"/>
                      </a:lnTo>
                      <a:lnTo>
                        <a:pt x="28" y="28"/>
                      </a:lnTo>
                      <a:lnTo>
                        <a:pt x="38" y="28"/>
                      </a:lnTo>
                      <a:lnTo>
                        <a:pt x="38" y="19"/>
                      </a:lnTo>
                      <a:lnTo>
                        <a:pt x="38" y="9"/>
                      </a:lnTo>
                      <a:lnTo>
                        <a:pt x="38" y="0"/>
                      </a:lnTo>
                      <a:lnTo>
                        <a:pt x="0"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6" name=""/>
                <p:cNvSpPr/>
                <p:nvPr/>
              </p:nvSpPr>
              <p:spPr>
                <a:xfrm rot="21021600">
                  <a:off x="5155200" y="3727080"/>
                  <a:ext cx="41400" cy="92520"/>
                </a:xfrm>
                <a:custGeom>
                  <a:avLst/>
                  <a:gdLst/>
                  <a:ahLst/>
                  <a:rect l="l" t="t" r="r" b="b"/>
                  <a:pathLst>
                    <a:path w="96" h="182">
                      <a:moveTo>
                        <a:pt x="0" y="0"/>
                      </a:moveTo>
                      <a:lnTo>
                        <a:pt x="0" y="29"/>
                      </a:lnTo>
                      <a:lnTo>
                        <a:pt x="0" y="48"/>
                      </a:lnTo>
                      <a:lnTo>
                        <a:pt x="10" y="77"/>
                      </a:lnTo>
                      <a:lnTo>
                        <a:pt x="10" y="96"/>
                      </a:lnTo>
                      <a:lnTo>
                        <a:pt x="19" y="115"/>
                      </a:lnTo>
                      <a:lnTo>
                        <a:pt x="29" y="144"/>
                      </a:lnTo>
                      <a:lnTo>
                        <a:pt x="39" y="163"/>
                      </a:lnTo>
                      <a:lnTo>
                        <a:pt x="58" y="182"/>
                      </a:lnTo>
                      <a:lnTo>
                        <a:pt x="96" y="154"/>
                      </a:lnTo>
                      <a:lnTo>
                        <a:pt x="77" y="134"/>
                      </a:lnTo>
                      <a:lnTo>
                        <a:pt x="67" y="125"/>
                      </a:lnTo>
                      <a:lnTo>
                        <a:pt x="58" y="106"/>
                      </a:lnTo>
                      <a:lnTo>
                        <a:pt x="58" y="86"/>
                      </a:lnTo>
                      <a:lnTo>
                        <a:pt x="48" y="67"/>
                      </a:lnTo>
                      <a:lnTo>
                        <a:pt x="48" y="48"/>
                      </a:lnTo>
                      <a:lnTo>
                        <a:pt x="48" y="29"/>
                      </a:lnTo>
                      <a:lnTo>
                        <a:pt x="48" y="0"/>
                      </a:lnTo>
                      <a:lnTo>
                        <a:pt x="0" y="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377" name=""/>
                <p:cNvSpPr/>
                <p:nvPr/>
              </p:nvSpPr>
              <p:spPr>
                <a:xfrm rot="21021600">
                  <a:off x="5186160" y="3797280"/>
                  <a:ext cx="16200" cy="14760"/>
                </a:xfrm>
                <a:custGeom>
                  <a:avLst/>
                  <a:gdLst/>
                  <a:ahLst/>
                  <a:rect l="l" t="t" r="r" b="b"/>
                  <a:pathLst>
                    <a:path w="38" h="29">
                      <a:moveTo>
                        <a:pt x="38" y="29"/>
                      </a:moveTo>
                      <a:lnTo>
                        <a:pt x="38" y="19"/>
                      </a:lnTo>
                      <a:lnTo>
                        <a:pt x="28" y="10"/>
                      </a:lnTo>
                      <a:lnTo>
                        <a:pt x="28" y="0"/>
                      </a:lnTo>
                      <a:lnTo>
                        <a:pt x="19" y="0"/>
                      </a:lnTo>
                      <a:lnTo>
                        <a:pt x="9" y="0"/>
                      </a:lnTo>
                      <a:lnTo>
                        <a:pt x="0" y="10"/>
                      </a:lnTo>
                      <a:lnTo>
                        <a:pt x="0" y="10"/>
                      </a:lnTo>
                      <a:lnTo>
                        <a:pt x="0" y="19"/>
                      </a:lnTo>
                      <a:lnTo>
                        <a:pt x="3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78" name=""/>
                <p:cNvSpPr/>
                <p:nvPr/>
              </p:nvSpPr>
              <p:spPr>
                <a:xfrm rot="21021600">
                  <a:off x="5020200" y="3810600"/>
                  <a:ext cx="16200" cy="14760"/>
                </a:xfrm>
                <a:custGeom>
                  <a:avLst/>
                  <a:gdLst/>
                  <a:ahLst/>
                  <a:rect l="l" t="t" r="r" b="b"/>
                  <a:pathLst>
                    <a:path w="38" h="29">
                      <a:moveTo>
                        <a:pt x="0" y="0"/>
                      </a:moveTo>
                      <a:lnTo>
                        <a:pt x="0" y="10"/>
                      </a:lnTo>
                      <a:lnTo>
                        <a:pt x="0" y="19"/>
                      </a:lnTo>
                      <a:lnTo>
                        <a:pt x="0" y="29"/>
                      </a:lnTo>
                      <a:lnTo>
                        <a:pt x="10" y="29"/>
                      </a:lnTo>
                      <a:lnTo>
                        <a:pt x="19" y="29"/>
                      </a:lnTo>
                      <a:lnTo>
                        <a:pt x="29" y="29"/>
                      </a:lnTo>
                      <a:lnTo>
                        <a:pt x="29" y="19"/>
                      </a:lnTo>
                      <a:lnTo>
                        <a:pt x="38" y="19"/>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79" name=""/>
                <p:cNvSpPr/>
                <p:nvPr/>
              </p:nvSpPr>
              <p:spPr>
                <a:xfrm rot="21021600">
                  <a:off x="4955400" y="3625560"/>
                  <a:ext cx="69840" cy="199800"/>
                </a:xfrm>
                <a:custGeom>
                  <a:avLst/>
                  <a:gdLst/>
                  <a:ahLst/>
                  <a:rect l="l" t="t" r="r" b="b"/>
                  <a:pathLst>
                    <a:path w="162" h="393">
                      <a:moveTo>
                        <a:pt x="0" y="29"/>
                      </a:moveTo>
                      <a:lnTo>
                        <a:pt x="38" y="77"/>
                      </a:lnTo>
                      <a:lnTo>
                        <a:pt x="66" y="115"/>
                      </a:lnTo>
                      <a:lnTo>
                        <a:pt x="95" y="163"/>
                      </a:lnTo>
                      <a:lnTo>
                        <a:pt x="114" y="211"/>
                      </a:lnTo>
                      <a:lnTo>
                        <a:pt x="114" y="259"/>
                      </a:lnTo>
                      <a:lnTo>
                        <a:pt x="124" y="297"/>
                      </a:lnTo>
                      <a:lnTo>
                        <a:pt x="114" y="345"/>
                      </a:lnTo>
                      <a:lnTo>
                        <a:pt x="114" y="374"/>
                      </a:lnTo>
                      <a:lnTo>
                        <a:pt x="152" y="393"/>
                      </a:lnTo>
                      <a:lnTo>
                        <a:pt x="162" y="345"/>
                      </a:lnTo>
                      <a:lnTo>
                        <a:pt x="162" y="297"/>
                      </a:lnTo>
                      <a:lnTo>
                        <a:pt x="162" y="249"/>
                      </a:lnTo>
                      <a:lnTo>
                        <a:pt x="152" y="201"/>
                      </a:lnTo>
                      <a:lnTo>
                        <a:pt x="133" y="153"/>
                      </a:lnTo>
                      <a:lnTo>
                        <a:pt x="105" y="96"/>
                      </a:lnTo>
                      <a:lnTo>
                        <a:pt x="76" y="48"/>
                      </a:lnTo>
                      <a:lnTo>
                        <a:pt x="28"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rot="21021600">
                  <a:off x="5019840" y="3806640"/>
                  <a:ext cx="12240" cy="19080"/>
                </a:xfrm>
                <a:custGeom>
                  <a:avLst/>
                  <a:gdLst/>
                  <a:ahLst/>
                  <a:rect l="l" t="t" r="r" b="b"/>
                  <a:pathLst>
                    <a:path w="29" h="38">
                      <a:moveTo>
                        <a:pt x="29" y="0"/>
                      </a:moveTo>
                      <a:lnTo>
                        <a:pt x="19" y="0"/>
                      </a:lnTo>
                      <a:lnTo>
                        <a:pt x="19" y="0"/>
                      </a:lnTo>
                      <a:lnTo>
                        <a:pt x="10" y="0"/>
                      </a:lnTo>
                      <a:lnTo>
                        <a:pt x="0" y="0"/>
                      </a:lnTo>
                      <a:lnTo>
                        <a:pt x="0" y="9"/>
                      </a:lnTo>
                      <a:lnTo>
                        <a:pt x="0" y="19"/>
                      </a:lnTo>
                      <a:lnTo>
                        <a:pt x="0" y="28"/>
                      </a:lnTo>
                      <a:lnTo>
                        <a:pt x="0" y="38"/>
                      </a:lnTo>
                      <a:lnTo>
                        <a:pt x="2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1" name=""/>
                <p:cNvSpPr/>
                <p:nvPr/>
              </p:nvSpPr>
              <p:spPr>
                <a:xfrm rot="21021600">
                  <a:off x="4839120" y="3405960"/>
                  <a:ext cx="12240" cy="19800"/>
                </a:xfrm>
                <a:custGeom>
                  <a:avLst/>
                  <a:gdLst/>
                  <a:ahLst/>
                  <a:rect l="l" t="t" r="r" b="b"/>
                  <a:pathLst>
                    <a:path w="29" h="39">
                      <a:moveTo>
                        <a:pt x="29" y="0"/>
                      </a:moveTo>
                      <a:lnTo>
                        <a:pt x="19" y="0"/>
                      </a:lnTo>
                      <a:lnTo>
                        <a:pt x="10" y="0"/>
                      </a:lnTo>
                      <a:lnTo>
                        <a:pt x="0" y="10"/>
                      </a:lnTo>
                      <a:lnTo>
                        <a:pt x="0" y="10"/>
                      </a:lnTo>
                      <a:lnTo>
                        <a:pt x="0" y="20"/>
                      </a:lnTo>
                      <a:lnTo>
                        <a:pt x="0" y="29"/>
                      </a:lnTo>
                      <a:lnTo>
                        <a:pt x="0" y="39"/>
                      </a:lnTo>
                      <a:lnTo>
                        <a:pt x="10" y="39"/>
                      </a:lnTo>
                      <a:lnTo>
                        <a:pt x="2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82" name=""/>
                <p:cNvSpPr/>
                <p:nvPr/>
              </p:nvSpPr>
              <p:spPr>
                <a:xfrm rot="21021600">
                  <a:off x="4857480" y="3392280"/>
                  <a:ext cx="152280" cy="205200"/>
                </a:xfrm>
                <a:custGeom>
                  <a:avLst/>
                  <a:gdLst/>
                  <a:ahLst/>
                  <a:rect l="l" t="t" r="r" b="b"/>
                  <a:pathLst>
                    <a:path w="353" h="404">
                      <a:moveTo>
                        <a:pt x="353" y="404"/>
                      </a:moveTo>
                      <a:lnTo>
                        <a:pt x="344" y="346"/>
                      </a:lnTo>
                      <a:lnTo>
                        <a:pt x="344" y="298"/>
                      </a:lnTo>
                      <a:lnTo>
                        <a:pt x="334" y="260"/>
                      </a:lnTo>
                      <a:lnTo>
                        <a:pt x="325" y="212"/>
                      </a:lnTo>
                      <a:lnTo>
                        <a:pt x="306" y="183"/>
                      </a:lnTo>
                      <a:lnTo>
                        <a:pt x="286" y="154"/>
                      </a:lnTo>
                      <a:lnTo>
                        <a:pt x="267" y="125"/>
                      </a:lnTo>
                      <a:lnTo>
                        <a:pt x="248" y="106"/>
                      </a:lnTo>
                      <a:lnTo>
                        <a:pt x="220" y="87"/>
                      </a:lnTo>
                      <a:lnTo>
                        <a:pt x="191" y="68"/>
                      </a:lnTo>
                      <a:lnTo>
                        <a:pt x="172" y="58"/>
                      </a:lnTo>
                      <a:lnTo>
                        <a:pt x="143" y="48"/>
                      </a:lnTo>
                      <a:lnTo>
                        <a:pt x="105" y="29"/>
                      </a:lnTo>
                      <a:lnTo>
                        <a:pt x="76" y="20"/>
                      </a:lnTo>
                      <a:lnTo>
                        <a:pt x="47" y="10"/>
                      </a:lnTo>
                      <a:lnTo>
                        <a:pt x="19" y="0"/>
                      </a:lnTo>
                      <a:lnTo>
                        <a:pt x="0" y="39"/>
                      </a:lnTo>
                      <a:lnTo>
                        <a:pt x="28" y="58"/>
                      </a:lnTo>
                      <a:lnTo>
                        <a:pt x="67" y="68"/>
                      </a:lnTo>
                      <a:lnTo>
                        <a:pt x="95" y="77"/>
                      </a:lnTo>
                      <a:lnTo>
                        <a:pt x="124" y="87"/>
                      </a:lnTo>
                      <a:lnTo>
                        <a:pt x="153" y="96"/>
                      </a:lnTo>
                      <a:lnTo>
                        <a:pt x="172" y="106"/>
                      </a:lnTo>
                      <a:lnTo>
                        <a:pt x="200" y="125"/>
                      </a:lnTo>
                      <a:lnTo>
                        <a:pt x="220" y="135"/>
                      </a:lnTo>
                      <a:lnTo>
                        <a:pt x="239" y="154"/>
                      </a:lnTo>
                      <a:lnTo>
                        <a:pt x="248" y="173"/>
                      </a:lnTo>
                      <a:lnTo>
                        <a:pt x="267" y="202"/>
                      </a:lnTo>
                      <a:lnTo>
                        <a:pt x="277" y="231"/>
                      </a:lnTo>
                      <a:lnTo>
                        <a:pt x="286" y="269"/>
                      </a:lnTo>
                      <a:lnTo>
                        <a:pt x="296" y="308"/>
                      </a:lnTo>
                      <a:lnTo>
                        <a:pt x="306" y="346"/>
                      </a:lnTo>
                      <a:lnTo>
                        <a:pt x="306" y="404"/>
                      </a:lnTo>
                      <a:lnTo>
                        <a:pt x="353"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rot="21021600">
                  <a:off x="4839480" y="3415680"/>
                  <a:ext cx="16200" cy="9360"/>
                </a:xfrm>
                <a:custGeom>
                  <a:avLst/>
                  <a:gdLst/>
                  <a:ahLst/>
                  <a:rect l="l" t="t" r="r" b="b"/>
                  <a:pathLst>
                    <a:path w="38" h="19">
                      <a:moveTo>
                        <a:pt x="0" y="0"/>
                      </a:moveTo>
                      <a:lnTo>
                        <a:pt x="0" y="9"/>
                      </a:lnTo>
                      <a:lnTo>
                        <a:pt x="0" y="19"/>
                      </a:lnTo>
                      <a:lnTo>
                        <a:pt x="10" y="19"/>
                      </a:lnTo>
                      <a:lnTo>
                        <a:pt x="19" y="19"/>
                      </a:lnTo>
                      <a:lnTo>
                        <a:pt x="29" y="19"/>
                      </a:lnTo>
                      <a:lnTo>
                        <a:pt x="29" y="19"/>
                      </a:lnTo>
                      <a:lnTo>
                        <a:pt x="38" y="9"/>
                      </a:lnTo>
                      <a:lnTo>
                        <a:pt x="3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 name=""/>
                <p:cNvSpPr/>
                <p:nvPr/>
              </p:nvSpPr>
              <p:spPr>
                <a:xfrm rot="21021600">
                  <a:off x="5220720" y="3534480"/>
                  <a:ext cx="12240" cy="19080"/>
                </a:xfrm>
                <a:custGeom>
                  <a:avLst/>
                  <a:gdLst/>
                  <a:ahLst/>
                  <a:rect l="l" t="t" r="r" b="b"/>
                  <a:pathLst>
                    <a:path w="29" h="38">
                      <a:moveTo>
                        <a:pt x="0" y="29"/>
                      </a:moveTo>
                      <a:lnTo>
                        <a:pt x="10" y="38"/>
                      </a:lnTo>
                      <a:lnTo>
                        <a:pt x="10" y="38"/>
                      </a:lnTo>
                      <a:lnTo>
                        <a:pt x="19" y="38"/>
                      </a:lnTo>
                      <a:lnTo>
                        <a:pt x="29" y="29"/>
                      </a:lnTo>
                      <a:lnTo>
                        <a:pt x="29" y="19"/>
                      </a:lnTo>
                      <a:lnTo>
                        <a:pt x="29" y="9"/>
                      </a:lnTo>
                      <a:lnTo>
                        <a:pt x="29" y="9"/>
                      </a:lnTo>
                      <a:lnTo>
                        <a:pt x="19" y="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 name=""/>
                <p:cNvSpPr/>
                <p:nvPr/>
              </p:nvSpPr>
              <p:spPr>
                <a:xfrm rot="21021600">
                  <a:off x="5178240" y="3524040"/>
                  <a:ext cx="48960" cy="29160"/>
                </a:xfrm>
                <a:custGeom>
                  <a:avLst/>
                  <a:gdLst/>
                  <a:ahLst/>
                  <a:rect l="l" t="t" r="r" b="b"/>
                  <a:pathLst>
                    <a:path w="114" h="58">
                      <a:moveTo>
                        <a:pt x="0" y="48"/>
                      </a:moveTo>
                      <a:lnTo>
                        <a:pt x="19" y="38"/>
                      </a:lnTo>
                      <a:lnTo>
                        <a:pt x="28" y="38"/>
                      </a:lnTo>
                      <a:lnTo>
                        <a:pt x="48" y="38"/>
                      </a:lnTo>
                      <a:lnTo>
                        <a:pt x="57" y="48"/>
                      </a:lnTo>
                      <a:lnTo>
                        <a:pt x="67" y="48"/>
                      </a:lnTo>
                      <a:lnTo>
                        <a:pt x="76" y="48"/>
                      </a:lnTo>
                      <a:lnTo>
                        <a:pt x="86" y="58"/>
                      </a:lnTo>
                      <a:lnTo>
                        <a:pt x="95" y="58"/>
                      </a:lnTo>
                      <a:lnTo>
                        <a:pt x="114" y="29"/>
                      </a:lnTo>
                      <a:lnTo>
                        <a:pt x="105" y="19"/>
                      </a:lnTo>
                      <a:lnTo>
                        <a:pt x="95" y="10"/>
                      </a:lnTo>
                      <a:lnTo>
                        <a:pt x="76" y="10"/>
                      </a:lnTo>
                      <a:lnTo>
                        <a:pt x="57" y="0"/>
                      </a:lnTo>
                      <a:lnTo>
                        <a:pt x="48" y="0"/>
                      </a:lnTo>
                      <a:lnTo>
                        <a:pt x="28" y="0"/>
                      </a:lnTo>
                      <a:lnTo>
                        <a:pt x="19" y="0"/>
                      </a:lnTo>
                      <a:lnTo>
                        <a:pt x="0" y="0"/>
                      </a:lnTo>
                      <a:lnTo>
                        <a:pt x="0" y="4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86" name=""/>
                <p:cNvSpPr/>
                <p:nvPr/>
              </p:nvSpPr>
              <p:spPr>
                <a:xfrm rot="21021600">
                  <a:off x="5216400" y="3530520"/>
                  <a:ext cx="7920" cy="24120"/>
                </a:xfrm>
                <a:custGeom>
                  <a:avLst/>
                  <a:gdLst/>
                  <a:ahLst/>
                  <a:rect l="l" t="t" r="r" b="b"/>
                  <a:pathLst>
                    <a:path w="19" h="48">
                      <a:moveTo>
                        <a:pt x="19" y="0"/>
                      </a:moveTo>
                      <a:lnTo>
                        <a:pt x="0" y="10"/>
                      </a:lnTo>
                      <a:lnTo>
                        <a:pt x="0" y="29"/>
                      </a:lnTo>
                      <a:lnTo>
                        <a:pt x="0" y="39"/>
                      </a:lnTo>
                      <a:lnTo>
                        <a:pt x="19" y="48"/>
                      </a:lnTo>
                      <a:lnTo>
                        <a:pt x="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87" name=""/>
                <p:cNvSpPr/>
                <p:nvPr/>
              </p:nvSpPr>
              <p:spPr>
                <a:xfrm rot="21021600">
                  <a:off x="5153760" y="3407400"/>
                  <a:ext cx="7920" cy="24120"/>
                </a:xfrm>
                <a:custGeom>
                  <a:avLst/>
                  <a:gdLst/>
                  <a:ahLst/>
                  <a:rect l="l" t="t" r="r" b="b"/>
                  <a:pathLst>
                    <a:path w="19" h="48">
                      <a:moveTo>
                        <a:pt x="0" y="48"/>
                      </a:moveTo>
                      <a:lnTo>
                        <a:pt x="10" y="48"/>
                      </a:lnTo>
                      <a:lnTo>
                        <a:pt x="10" y="38"/>
                      </a:lnTo>
                      <a:lnTo>
                        <a:pt x="19" y="38"/>
                      </a:lnTo>
                      <a:lnTo>
                        <a:pt x="19" y="29"/>
                      </a:lnTo>
                      <a:lnTo>
                        <a:pt x="19" y="19"/>
                      </a:lnTo>
                      <a:lnTo>
                        <a:pt x="19" y="10"/>
                      </a:lnTo>
                      <a:lnTo>
                        <a:pt x="10" y="10"/>
                      </a:lnTo>
                      <a:lnTo>
                        <a:pt x="0" y="0"/>
                      </a:lnTo>
                      <a:lnTo>
                        <a:pt x="0" y="4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88" name=""/>
                <p:cNvSpPr/>
                <p:nvPr/>
              </p:nvSpPr>
              <p:spPr>
                <a:xfrm rot="21021600">
                  <a:off x="5083560" y="3409200"/>
                  <a:ext cx="69840" cy="29520"/>
                </a:xfrm>
                <a:custGeom>
                  <a:avLst/>
                  <a:gdLst/>
                  <a:ahLst/>
                  <a:rect l="l" t="t" r="r" b="b"/>
                  <a:pathLst>
                    <a:path w="162" h="58">
                      <a:moveTo>
                        <a:pt x="9" y="58"/>
                      </a:moveTo>
                      <a:lnTo>
                        <a:pt x="28" y="48"/>
                      </a:lnTo>
                      <a:lnTo>
                        <a:pt x="47" y="48"/>
                      </a:lnTo>
                      <a:lnTo>
                        <a:pt x="67" y="48"/>
                      </a:lnTo>
                      <a:lnTo>
                        <a:pt x="86" y="48"/>
                      </a:lnTo>
                      <a:lnTo>
                        <a:pt x="95" y="48"/>
                      </a:lnTo>
                      <a:lnTo>
                        <a:pt x="114" y="48"/>
                      </a:lnTo>
                      <a:lnTo>
                        <a:pt x="133" y="58"/>
                      </a:lnTo>
                      <a:lnTo>
                        <a:pt x="162" y="58"/>
                      </a:lnTo>
                      <a:lnTo>
                        <a:pt x="162" y="10"/>
                      </a:lnTo>
                      <a:lnTo>
                        <a:pt x="143" y="10"/>
                      </a:lnTo>
                      <a:lnTo>
                        <a:pt x="124" y="10"/>
                      </a:lnTo>
                      <a:lnTo>
                        <a:pt x="105" y="0"/>
                      </a:lnTo>
                      <a:lnTo>
                        <a:pt x="86" y="0"/>
                      </a:lnTo>
                      <a:lnTo>
                        <a:pt x="57" y="0"/>
                      </a:lnTo>
                      <a:lnTo>
                        <a:pt x="38" y="10"/>
                      </a:lnTo>
                      <a:lnTo>
                        <a:pt x="19" y="10"/>
                      </a:lnTo>
                      <a:lnTo>
                        <a:pt x="0" y="10"/>
                      </a:lnTo>
                      <a:lnTo>
                        <a:pt x="9" y="5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389" name=""/>
              <p:cNvSpPr/>
              <p:nvPr/>
            </p:nvSpPr>
            <p:spPr>
              <a:xfrm rot="21021600">
                <a:off x="5145480" y="3408480"/>
                <a:ext cx="12240" cy="24120"/>
              </a:xfrm>
              <a:custGeom>
                <a:avLst/>
                <a:gdLst/>
                <a:ahLst/>
                <a:rect l="l" t="t" r="r" b="b"/>
                <a:pathLst>
                  <a:path w="29" h="48">
                    <a:moveTo>
                      <a:pt x="10" y="0"/>
                    </a:moveTo>
                    <a:lnTo>
                      <a:pt x="10" y="10"/>
                    </a:lnTo>
                    <a:lnTo>
                      <a:pt x="0" y="19"/>
                    </a:lnTo>
                    <a:lnTo>
                      <a:pt x="0" y="19"/>
                    </a:lnTo>
                    <a:lnTo>
                      <a:pt x="0" y="29"/>
                    </a:lnTo>
                    <a:lnTo>
                      <a:pt x="0" y="38"/>
                    </a:lnTo>
                    <a:lnTo>
                      <a:pt x="10" y="48"/>
                    </a:lnTo>
                    <a:lnTo>
                      <a:pt x="19" y="48"/>
                    </a:lnTo>
                    <a:lnTo>
                      <a:pt x="29" y="48"/>
                    </a:lnTo>
                    <a:lnTo>
                      <a:pt x="1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0" name=""/>
              <p:cNvSpPr/>
              <p:nvPr/>
            </p:nvSpPr>
            <p:spPr>
              <a:xfrm rot="21021600">
                <a:off x="4948920" y="3168360"/>
                <a:ext cx="20520" cy="14760"/>
              </a:xfrm>
              <a:custGeom>
                <a:avLst/>
                <a:gdLst/>
                <a:ahLst/>
                <a:rect l="l" t="t" r="r" b="b"/>
                <a:pathLst>
                  <a:path w="48" h="29">
                    <a:moveTo>
                      <a:pt x="48" y="29"/>
                    </a:moveTo>
                    <a:lnTo>
                      <a:pt x="48" y="19"/>
                    </a:lnTo>
                    <a:lnTo>
                      <a:pt x="39" y="10"/>
                    </a:lnTo>
                    <a:lnTo>
                      <a:pt x="39" y="10"/>
                    </a:lnTo>
                    <a:lnTo>
                      <a:pt x="29" y="0"/>
                    </a:lnTo>
                    <a:lnTo>
                      <a:pt x="19" y="0"/>
                    </a:lnTo>
                    <a:lnTo>
                      <a:pt x="10" y="10"/>
                    </a:lnTo>
                    <a:lnTo>
                      <a:pt x="10" y="10"/>
                    </a:lnTo>
                    <a:lnTo>
                      <a:pt x="0" y="19"/>
                    </a:lnTo>
                    <a:lnTo>
                      <a:pt x="4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91" name=""/>
              <p:cNvSpPr/>
              <p:nvPr/>
            </p:nvSpPr>
            <p:spPr>
              <a:xfrm rot="21021600">
                <a:off x="4950720" y="3178080"/>
                <a:ext cx="32760" cy="161280"/>
              </a:xfrm>
              <a:custGeom>
                <a:avLst/>
                <a:gdLst/>
                <a:ahLst/>
                <a:rect l="l" t="t" r="r" b="b"/>
                <a:pathLst>
                  <a:path w="76" h="317">
                    <a:moveTo>
                      <a:pt x="57" y="307"/>
                    </a:moveTo>
                    <a:lnTo>
                      <a:pt x="47" y="231"/>
                    </a:lnTo>
                    <a:lnTo>
                      <a:pt x="47" y="154"/>
                    </a:lnTo>
                    <a:lnTo>
                      <a:pt x="57" y="87"/>
                    </a:lnTo>
                    <a:lnTo>
                      <a:pt x="76" y="10"/>
                    </a:lnTo>
                    <a:lnTo>
                      <a:pt x="28" y="0"/>
                    </a:lnTo>
                    <a:lnTo>
                      <a:pt x="9" y="77"/>
                    </a:lnTo>
                    <a:lnTo>
                      <a:pt x="0" y="154"/>
                    </a:lnTo>
                    <a:lnTo>
                      <a:pt x="9" y="231"/>
                    </a:lnTo>
                    <a:lnTo>
                      <a:pt x="9" y="317"/>
                    </a:lnTo>
                    <a:lnTo>
                      <a:pt x="57"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rot="21021600">
                <a:off x="4950360" y="3178080"/>
                <a:ext cx="20520" cy="14760"/>
              </a:xfrm>
              <a:custGeom>
                <a:avLst/>
                <a:gdLst/>
                <a:ahLst/>
                <a:rect l="l" t="t" r="r" b="b"/>
                <a:pathLst>
                  <a:path w="48" h="29">
                    <a:moveTo>
                      <a:pt x="0" y="10"/>
                    </a:moveTo>
                    <a:lnTo>
                      <a:pt x="0" y="20"/>
                    </a:lnTo>
                    <a:lnTo>
                      <a:pt x="10" y="20"/>
                    </a:lnTo>
                    <a:lnTo>
                      <a:pt x="19" y="29"/>
                    </a:lnTo>
                    <a:lnTo>
                      <a:pt x="29" y="29"/>
                    </a:lnTo>
                    <a:lnTo>
                      <a:pt x="29" y="29"/>
                    </a:lnTo>
                    <a:lnTo>
                      <a:pt x="39" y="20"/>
                    </a:lnTo>
                    <a:lnTo>
                      <a:pt x="48" y="10"/>
                    </a:lnTo>
                    <a:lnTo>
                      <a:pt x="48" y="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93" name=""/>
              <p:cNvSpPr/>
              <p:nvPr/>
            </p:nvSpPr>
            <p:spPr>
              <a:xfrm rot="21021600">
                <a:off x="5046840" y="3132720"/>
                <a:ext cx="20520" cy="9360"/>
              </a:xfrm>
              <a:custGeom>
                <a:avLst/>
                <a:gdLst/>
                <a:ahLst/>
                <a:rect l="l" t="t" r="r" b="b"/>
                <a:pathLst>
                  <a:path w="48" h="19">
                    <a:moveTo>
                      <a:pt x="48" y="19"/>
                    </a:moveTo>
                    <a:lnTo>
                      <a:pt x="48" y="19"/>
                    </a:lnTo>
                    <a:lnTo>
                      <a:pt x="39" y="9"/>
                    </a:lnTo>
                    <a:lnTo>
                      <a:pt x="39" y="0"/>
                    </a:lnTo>
                    <a:lnTo>
                      <a:pt x="29" y="0"/>
                    </a:lnTo>
                    <a:lnTo>
                      <a:pt x="19" y="0"/>
                    </a:lnTo>
                    <a:lnTo>
                      <a:pt x="10" y="0"/>
                    </a:lnTo>
                    <a:lnTo>
                      <a:pt x="10" y="9"/>
                    </a:lnTo>
                    <a:lnTo>
                      <a:pt x="0" y="19"/>
                    </a:lnTo>
                    <a:lnTo>
                      <a:pt x="48"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4" name=""/>
              <p:cNvSpPr/>
              <p:nvPr/>
            </p:nvSpPr>
            <p:spPr>
              <a:xfrm rot="21021600">
                <a:off x="5059080" y="3132720"/>
                <a:ext cx="115560" cy="146520"/>
              </a:xfrm>
              <a:custGeom>
                <a:avLst/>
                <a:gdLst/>
                <a:ahLst/>
                <a:rect l="l" t="t" r="r" b="b"/>
                <a:pathLst>
                  <a:path w="268" h="288">
                    <a:moveTo>
                      <a:pt x="268" y="259"/>
                    </a:moveTo>
                    <a:lnTo>
                      <a:pt x="249" y="240"/>
                    </a:lnTo>
                    <a:lnTo>
                      <a:pt x="230" y="221"/>
                    </a:lnTo>
                    <a:lnTo>
                      <a:pt x="211" y="201"/>
                    </a:lnTo>
                    <a:lnTo>
                      <a:pt x="192" y="192"/>
                    </a:lnTo>
                    <a:lnTo>
                      <a:pt x="172" y="182"/>
                    </a:lnTo>
                    <a:lnTo>
                      <a:pt x="144" y="163"/>
                    </a:lnTo>
                    <a:lnTo>
                      <a:pt x="125" y="153"/>
                    </a:lnTo>
                    <a:lnTo>
                      <a:pt x="105" y="144"/>
                    </a:lnTo>
                    <a:lnTo>
                      <a:pt x="86" y="134"/>
                    </a:lnTo>
                    <a:lnTo>
                      <a:pt x="77" y="115"/>
                    </a:lnTo>
                    <a:lnTo>
                      <a:pt x="58" y="105"/>
                    </a:lnTo>
                    <a:lnTo>
                      <a:pt x="48" y="86"/>
                    </a:lnTo>
                    <a:lnTo>
                      <a:pt x="48" y="77"/>
                    </a:lnTo>
                    <a:lnTo>
                      <a:pt x="39" y="58"/>
                    </a:lnTo>
                    <a:lnTo>
                      <a:pt x="39" y="29"/>
                    </a:lnTo>
                    <a:lnTo>
                      <a:pt x="48" y="0"/>
                    </a:lnTo>
                    <a:lnTo>
                      <a:pt x="0" y="0"/>
                    </a:lnTo>
                    <a:lnTo>
                      <a:pt x="0" y="29"/>
                    </a:lnTo>
                    <a:lnTo>
                      <a:pt x="0" y="58"/>
                    </a:lnTo>
                    <a:lnTo>
                      <a:pt x="0" y="86"/>
                    </a:lnTo>
                    <a:lnTo>
                      <a:pt x="10" y="105"/>
                    </a:lnTo>
                    <a:lnTo>
                      <a:pt x="29" y="134"/>
                    </a:lnTo>
                    <a:lnTo>
                      <a:pt x="48" y="144"/>
                    </a:lnTo>
                    <a:lnTo>
                      <a:pt x="67" y="163"/>
                    </a:lnTo>
                    <a:lnTo>
                      <a:pt x="86" y="182"/>
                    </a:lnTo>
                    <a:lnTo>
                      <a:pt x="105" y="192"/>
                    </a:lnTo>
                    <a:lnTo>
                      <a:pt x="125" y="201"/>
                    </a:lnTo>
                    <a:lnTo>
                      <a:pt x="144" y="211"/>
                    </a:lnTo>
                    <a:lnTo>
                      <a:pt x="163" y="230"/>
                    </a:lnTo>
                    <a:lnTo>
                      <a:pt x="182" y="240"/>
                    </a:lnTo>
                    <a:lnTo>
                      <a:pt x="201" y="249"/>
                    </a:lnTo>
                    <a:lnTo>
                      <a:pt x="220" y="269"/>
                    </a:lnTo>
                    <a:lnTo>
                      <a:pt x="230" y="288"/>
                    </a:lnTo>
                    <a:lnTo>
                      <a:pt x="268"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rot="21021600">
                <a:off x="5052600" y="3135960"/>
                <a:ext cx="16200" cy="14760"/>
              </a:xfrm>
              <a:custGeom>
                <a:avLst/>
                <a:gdLst/>
                <a:ahLst/>
                <a:rect l="l" t="t" r="r" b="b"/>
                <a:pathLst>
                  <a:path w="38" h="29">
                    <a:moveTo>
                      <a:pt x="0" y="20"/>
                    </a:moveTo>
                    <a:lnTo>
                      <a:pt x="0" y="29"/>
                    </a:lnTo>
                    <a:lnTo>
                      <a:pt x="9" y="29"/>
                    </a:lnTo>
                    <a:lnTo>
                      <a:pt x="19" y="29"/>
                    </a:lnTo>
                    <a:lnTo>
                      <a:pt x="29" y="29"/>
                    </a:lnTo>
                    <a:lnTo>
                      <a:pt x="29" y="20"/>
                    </a:lnTo>
                    <a:lnTo>
                      <a:pt x="38" y="20"/>
                    </a:lnTo>
                    <a:lnTo>
                      <a:pt x="38" y="10"/>
                    </a:lnTo>
                    <a:lnTo>
                      <a:pt x="38" y="0"/>
                    </a:lnTo>
                    <a:lnTo>
                      <a:pt x="0" y="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96" name=""/>
              <p:cNvSpPr/>
              <p:nvPr/>
            </p:nvSpPr>
            <p:spPr>
              <a:xfrm rot="21021600">
                <a:off x="5055480" y="3076560"/>
                <a:ext cx="16200" cy="19800"/>
              </a:xfrm>
              <a:custGeom>
                <a:avLst/>
                <a:gdLst/>
                <a:ahLst/>
                <a:rect l="l" t="t" r="r" b="b"/>
                <a:pathLst>
                  <a:path w="38" h="39">
                    <a:moveTo>
                      <a:pt x="0" y="29"/>
                    </a:moveTo>
                    <a:lnTo>
                      <a:pt x="9" y="39"/>
                    </a:lnTo>
                    <a:lnTo>
                      <a:pt x="19" y="39"/>
                    </a:lnTo>
                    <a:lnTo>
                      <a:pt x="28" y="39"/>
                    </a:lnTo>
                    <a:lnTo>
                      <a:pt x="28" y="29"/>
                    </a:lnTo>
                    <a:lnTo>
                      <a:pt x="38" y="19"/>
                    </a:lnTo>
                    <a:lnTo>
                      <a:pt x="38" y="19"/>
                    </a:lnTo>
                    <a:lnTo>
                      <a:pt x="38" y="10"/>
                    </a:lnTo>
                    <a:lnTo>
                      <a:pt x="38" y="0"/>
                    </a:lnTo>
                    <a:lnTo>
                      <a:pt x="0" y="2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97" name=""/>
              <p:cNvSpPr/>
              <p:nvPr/>
            </p:nvSpPr>
            <p:spPr>
              <a:xfrm rot="21021600">
                <a:off x="4978800" y="3058920"/>
                <a:ext cx="90720" cy="38880"/>
              </a:xfrm>
              <a:custGeom>
                <a:avLst/>
                <a:gdLst/>
                <a:ahLst/>
                <a:rect l="l" t="t" r="r" b="b"/>
                <a:pathLst>
                  <a:path w="211" h="77">
                    <a:moveTo>
                      <a:pt x="29" y="58"/>
                    </a:moveTo>
                    <a:lnTo>
                      <a:pt x="48" y="48"/>
                    </a:lnTo>
                    <a:lnTo>
                      <a:pt x="58" y="39"/>
                    </a:lnTo>
                    <a:lnTo>
                      <a:pt x="77" y="39"/>
                    </a:lnTo>
                    <a:lnTo>
                      <a:pt x="106" y="39"/>
                    </a:lnTo>
                    <a:lnTo>
                      <a:pt x="125" y="48"/>
                    </a:lnTo>
                    <a:lnTo>
                      <a:pt x="144" y="48"/>
                    </a:lnTo>
                    <a:lnTo>
                      <a:pt x="163" y="58"/>
                    </a:lnTo>
                    <a:lnTo>
                      <a:pt x="173" y="77"/>
                    </a:lnTo>
                    <a:lnTo>
                      <a:pt x="211" y="48"/>
                    </a:lnTo>
                    <a:lnTo>
                      <a:pt x="182" y="29"/>
                    </a:lnTo>
                    <a:lnTo>
                      <a:pt x="163" y="10"/>
                    </a:lnTo>
                    <a:lnTo>
                      <a:pt x="134" y="0"/>
                    </a:lnTo>
                    <a:lnTo>
                      <a:pt x="106" y="0"/>
                    </a:lnTo>
                    <a:lnTo>
                      <a:pt x="77" y="0"/>
                    </a:lnTo>
                    <a:lnTo>
                      <a:pt x="48" y="0"/>
                    </a:lnTo>
                    <a:lnTo>
                      <a:pt x="29" y="10"/>
                    </a:lnTo>
                    <a:lnTo>
                      <a:pt x="0" y="29"/>
                    </a:lnTo>
                    <a:lnTo>
                      <a:pt x="29" y="5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98" name=""/>
              <p:cNvSpPr/>
              <p:nvPr/>
            </p:nvSpPr>
            <p:spPr>
              <a:xfrm rot="21021600">
                <a:off x="5055480" y="3076560"/>
                <a:ext cx="16200" cy="19800"/>
              </a:xfrm>
              <a:custGeom>
                <a:avLst/>
                <a:gdLst/>
                <a:ahLst/>
                <a:rect l="l" t="t" r="r" b="b"/>
                <a:pathLst>
                  <a:path w="38" h="39">
                    <a:moveTo>
                      <a:pt x="0" y="0"/>
                    </a:moveTo>
                    <a:lnTo>
                      <a:pt x="0" y="10"/>
                    </a:lnTo>
                    <a:lnTo>
                      <a:pt x="0" y="19"/>
                    </a:lnTo>
                    <a:lnTo>
                      <a:pt x="0" y="19"/>
                    </a:lnTo>
                    <a:lnTo>
                      <a:pt x="0" y="29"/>
                    </a:lnTo>
                    <a:lnTo>
                      <a:pt x="9" y="39"/>
                    </a:lnTo>
                    <a:lnTo>
                      <a:pt x="19" y="39"/>
                    </a:lnTo>
                    <a:lnTo>
                      <a:pt x="28" y="39"/>
                    </a:lnTo>
                    <a:lnTo>
                      <a:pt x="38" y="2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99" name=""/>
              <p:cNvSpPr/>
              <p:nvPr/>
            </p:nvSpPr>
            <p:spPr>
              <a:xfrm rot="21021600">
                <a:off x="4764600" y="2967840"/>
                <a:ext cx="12240" cy="19080"/>
              </a:xfrm>
              <a:custGeom>
                <a:avLst/>
                <a:gdLst/>
                <a:ahLst/>
                <a:rect l="l" t="t" r="r" b="b"/>
                <a:pathLst>
                  <a:path w="29" h="38">
                    <a:moveTo>
                      <a:pt x="19" y="38"/>
                    </a:moveTo>
                    <a:lnTo>
                      <a:pt x="29" y="38"/>
                    </a:lnTo>
                    <a:lnTo>
                      <a:pt x="29" y="29"/>
                    </a:lnTo>
                    <a:lnTo>
                      <a:pt x="29" y="19"/>
                    </a:lnTo>
                    <a:lnTo>
                      <a:pt x="29" y="10"/>
                    </a:lnTo>
                    <a:lnTo>
                      <a:pt x="19" y="10"/>
                    </a:lnTo>
                    <a:lnTo>
                      <a:pt x="10" y="0"/>
                    </a:lnTo>
                    <a:lnTo>
                      <a:pt x="10" y="0"/>
                    </a:lnTo>
                    <a:lnTo>
                      <a:pt x="0" y="0"/>
                    </a:lnTo>
                    <a:lnTo>
                      <a:pt x="19"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0" name=""/>
              <p:cNvSpPr/>
              <p:nvPr/>
            </p:nvSpPr>
            <p:spPr>
              <a:xfrm rot="21021600">
                <a:off x="4699800" y="2973600"/>
                <a:ext cx="82080" cy="127080"/>
              </a:xfrm>
              <a:custGeom>
                <a:avLst/>
                <a:gdLst/>
                <a:ahLst/>
                <a:rect l="l" t="t" r="r" b="b"/>
                <a:pathLst>
                  <a:path w="191" h="250">
                    <a:moveTo>
                      <a:pt x="48" y="250"/>
                    </a:moveTo>
                    <a:lnTo>
                      <a:pt x="48" y="250"/>
                    </a:lnTo>
                    <a:lnTo>
                      <a:pt x="48" y="221"/>
                    </a:lnTo>
                    <a:lnTo>
                      <a:pt x="57" y="192"/>
                    </a:lnTo>
                    <a:lnTo>
                      <a:pt x="77" y="163"/>
                    </a:lnTo>
                    <a:lnTo>
                      <a:pt x="96" y="134"/>
                    </a:lnTo>
                    <a:lnTo>
                      <a:pt x="115" y="106"/>
                    </a:lnTo>
                    <a:lnTo>
                      <a:pt x="134" y="86"/>
                    </a:lnTo>
                    <a:lnTo>
                      <a:pt x="163" y="58"/>
                    </a:lnTo>
                    <a:lnTo>
                      <a:pt x="191" y="38"/>
                    </a:lnTo>
                    <a:lnTo>
                      <a:pt x="172" y="0"/>
                    </a:lnTo>
                    <a:lnTo>
                      <a:pt x="134" y="29"/>
                    </a:lnTo>
                    <a:lnTo>
                      <a:pt x="105" y="48"/>
                    </a:lnTo>
                    <a:lnTo>
                      <a:pt x="77" y="77"/>
                    </a:lnTo>
                    <a:lnTo>
                      <a:pt x="57" y="106"/>
                    </a:lnTo>
                    <a:lnTo>
                      <a:pt x="38" y="144"/>
                    </a:lnTo>
                    <a:lnTo>
                      <a:pt x="19" y="173"/>
                    </a:lnTo>
                    <a:lnTo>
                      <a:pt x="10" y="211"/>
                    </a:lnTo>
                    <a:lnTo>
                      <a:pt x="0" y="240"/>
                    </a:lnTo>
                    <a:lnTo>
                      <a:pt x="0" y="240"/>
                    </a:lnTo>
                    <a:lnTo>
                      <a:pt x="48"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rot="21021600">
                <a:off x="4722840" y="3098880"/>
                <a:ext cx="24480" cy="150840"/>
              </a:xfrm>
              <a:custGeom>
                <a:avLst/>
                <a:gdLst/>
                <a:ahLst/>
                <a:rect l="l" t="t" r="r" b="b"/>
                <a:pathLst>
                  <a:path w="57" h="297">
                    <a:moveTo>
                      <a:pt x="57" y="297"/>
                    </a:moveTo>
                    <a:lnTo>
                      <a:pt x="57" y="297"/>
                    </a:lnTo>
                    <a:lnTo>
                      <a:pt x="57" y="259"/>
                    </a:lnTo>
                    <a:lnTo>
                      <a:pt x="57" y="221"/>
                    </a:lnTo>
                    <a:lnTo>
                      <a:pt x="57" y="182"/>
                    </a:lnTo>
                    <a:lnTo>
                      <a:pt x="57" y="154"/>
                    </a:lnTo>
                    <a:lnTo>
                      <a:pt x="48" y="115"/>
                    </a:lnTo>
                    <a:lnTo>
                      <a:pt x="48" y="77"/>
                    </a:lnTo>
                    <a:lnTo>
                      <a:pt x="48" y="38"/>
                    </a:lnTo>
                    <a:lnTo>
                      <a:pt x="48" y="10"/>
                    </a:lnTo>
                    <a:lnTo>
                      <a:pt x="0" y="0"/>
                    </a:lnTo>
                    <a:lnTo>
                      <a:pt x="0" y="38"/>
                    </a:lnTo>
                    <a:lnTo>
                      <a:pt x="0" y="77"/>
                    </a:lnTo>
                    <a:lnTo>
                      <a:pt x="10" y="115"/>
                    </a:lnTo>
                    <a:lnTo>
                      <a:pt x="10" y="154"/>
                    </a:lnTo>
                    <a:lnTo>
                      <a:pt x="19" y="192"/>
                    </a:lnTo>
                    <a:lnTo>
                      <a:pt x="19" y="221"/>
                    </a:lnTo>
                    <a:lnTo>
                      <a:pt x="19" y="259"/>
                    </a:lnTo>
                    <a:lnTo>
                      <a:pt x="10" y="288"/>
                    </a:lnTo>
                    <a:lnTo>
                      <a:pt x="10" y="288"/>
                    </a:lnTo>
                    <a:lnTo>
                      <a:pt x="57"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rot="21021600">
                <a:off x="4701600" y="3246840"/>
                <a:ext cx="61560" cy="48600"/>
              </a:xfrm>
              <a:custGeom>
                <a:avLst/>
                <a:gdLst/>
                <a:ahLst/>
                <a:rect l="l" t="t" r="r" b="b"/>
                <a:pathLst>
                  <a:path w="143" h="96">
                    <a:moveTo>
                      <a:pt x="29" y="96"/>
                    </a:moveTo>
                    <a:lnTo>
                      <a:pt x="29" y="96"/>
                    </a:lnTo>
                    <a:lnTo>
                      <a:pt x="38" y="86"/>
                    </a:lnTo>
                    <a:lnTo>
                      <a:pt x="57" y="86"/>
                    </a:lnTo>
                    <a:lnTo>
                      <a:pt x="67" y="77"/>
                    </a:lnTo>
                    <a:lnTo>
                      <a:pt x="86" y="67"/>
                    </a:lnTo>
                    <a:lnTo>
                      <a:pt x="105" y="57"/>
                    </a:lnTo>
                    <a:lnTo>
                      <a:pt x="115" y="48"/>
                    </a:lnTo>
                    <a:lnTo>
                      <a:pt x="134" y="29"/>
                    </a:lnTo>
                    <a:lnTo>
                      <a:pt x="143" y="9"/>
                    </a:lnTo>
                    <a:lnTo>
                      <a:pt x="96" y="0"/>
                    </a:lnTo>
                    <a:lnTo>
                      <a:pt x="96" y="9"/>
                    </a:lnTo>
                    <a:lnTo>
                      <a:pt x="86" y="19"/>
                    </a:lnTo>
                    <a:lnTo>
                      <a:pt x="76" y="19"/>
                    </a:lnTo>
                    <a:lnTo>
                      <a:pt x="67" y="29"/>
                    </a:lnTo>
                    <a:lnTo>
                      <a:pt x="57" y="38"/>
                    </a:lnTo>
                    <a:lnTo>
                      <a:pt x="38" y="38"/>
                    </a:lnTo>
                    <a:lnTo>
                      <a:pt x="19" y="48"/>
                    </a:lnTo>
                    <a:lnTo>
                      <a:pt x="0" y="57"/>
                    </a:lnTo>
                    <a:lnTo>
                      <a:pt x="0" y="67"/>
                    </a:lnTo>
                    <a:lnTo>
                      <a:pt x="29" y="96"/>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403" name=""/>
              <p:cNvSpPr/>
              <p:nvPr/>
            </p:nvSpPr>
            <p:spPr>
              <a:xfrm rot="21021600">
                <a:off x="4675680" y="3287520"/>
                <a:ext cx="45000" cy="58320"/>
              </a:xfrm>
              <a:custGeom>
                <a:avLst/>
                <a:gdLst/>
                <a:ahLst/>
                <a:rect l="l" t="t" r="r" b="b"/>
                <a:pathLst>
                  <a:path w="105" h="115">
                    <a:moveTo>
                      <a:pt x="0" y="115"/>
                    </a:moveTo>
                    <a:lnTo>
                      <a:pt x="0" y="115"/>
                    </a:lnTo>
                    <a:lnTo>
                      <a:pt x="19" y="106"/>
                    </a:lnTo>
                    <a:lnTo>
                      <a:pt x="38" y="96"/>
                    </a:lnTo>
                    <a:lnTo>
                      <a:pt x="57" y="86"/>
                    </a:lnTo>
                    <a:lnTo>
                      <a:pt x="66" y="77"/>
                    </a:lnTo>
                    <a:lnTo>
                      <a:pt x="76" y="58"/>
                    </a:lnTo>
                    <a:lnTo>
                      <a:pt x="86" y="48"/>
                    </a:lnTo>
                    <a:lnTo>
                      <a:pt x="95" y="38"/>
                    </a:lnTo>
                    <a:lnTo>
                      <a:pt x="105" y="29"/>
                    </a:lnTo>
                    <a:lnTo>
                      <a:pt x="76" y="0"/>
                    </a:lnTo>
                    <a:lnTo>
                      <a:pt x="66" y="10"/>
                    </a:lnTo>
                    <a:lnTo>
                      <a:pt x="57" y="19"/>
                    </a:lnTo>
                    <a:lnTo>
                      <a:pt x="47" y="38"/>
                    </a:lnTo>
                    <a:lnTo>
                      <a:pt x="38" y="48"/>
                    </a:lnTo>
                    <a:lnTo>
                      <a:pt x="28" y="58"/>
                    </a:lnTo>
                    <a:lnTo>
                      <a:pt x="19" y="67"/>
                    </a:lnTo>
                    <a:lnTo>
                      <a:pt x="9" y="67"/>
                    </a:lnTo>
                    <a:lnTo>
                      <a:pt x="0" y="77"/>
                    </a:lnTo>
                    <a:lnTo>
                      <a:pt x="0" y="77"/>
                    </a:lnTo>
                    <a:lnTo>
                      <a:pt x="0" y="11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04" name=""/>
              <p:cNvSpPr/>
              <p:nvPr/>
            </p:nvSpPr>
            <p:spPr>
              <a:xfrm rot="21021600">
                <a:off x="4623840" y="3314880"/>
                <a:ext cx="53640" cy="38880"/>
              </a:xfrm>
              <a:custGeom>
                <a:avLst/>
                <a:gdLst/>
                <a:ahLst/>
                <a:rect l="l" t="t" r="r" b="b"/>
                <a:pathLst>
                  <a:path w="125" h="77">
                    <a:moveTo>
                      <a:pt x="0" y="20"/>
                    </a:moveTo>
                    <a:lnTo>
                      <a:pt x="10" y="39"/>
                    </a:lnTo>
                    <a:lnTo>
                      <a:pt x="19" y="58"/>
                    </a:lnTo>
                    <a:lnTo>
                      <a:pt x="38" y="68"/>
                    </a:lnTo>
                    <a:lnTo>
                      <a:pt x="58" y="77"/>
                    </a:lnTo>
                    <a:lnTo>
                      <a:pt x="77" y="77"/>
                    </a:lnTo>
                    <a:lnTo>
                      <a:pt x="96" y="77"/>
                    </a:lnTo>
                    <a:lnTo>
                      <a:pt x="115" y="77"/>
                    </a:lnTo>
                    <a:lnTo>
                      <a:pt x="125" y="77"/>
                    </a:lnTo>
                    <a:lnTo>
                      <a:pt x="125" y="39"/>
                    </a:lnTo>
                    <a:lnTo>
                      <a:pt x="105" y="39"/>
                    </a:lnTo>
                    <a:lnTo>
                      <a:pt x="96" y="39"/>
                    </a:lnTo>
                    <a:lnTo>
                      <a:pt x="86" y="39"/>
                    </a:lnTo>
                    <a:lnTo>
                      <a:pt x="67" y="39"/>
                    </a:lnTo>
                    <a:lnTo>
                      <a:pt x="58" y="29"/>
                    </a:lnTo>
                    <a:lnTo>
                      <a:pt x="48" y="20"/>
                    </a:lnTo>
                    <a:lnTo>
                      <a:pt x="38" y="20"/>
                    </a:lnTo>
                    <a:lnTo>
                      <a:pt x="38" y="0"/>
                    </a:lnTo>
                    <a:lnTo>
                      <a:pt x="0" y="2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05" name=""/>
              <p:cNvSpPr/>
              <p:nvPr/>
            </p:nvSpPr>
            <p:spPr>
              <a:xfrm rot="21021600">
                <a:off x="4670640" y="3330360"/>
                <a:ext cx="16560" cy="14760"/>
              </a:xfrm>
              <a:custGeom>
                <a:avLst/>
                <a:gdLst/>
                <a:ahLst/>
                <a:rect l="l" t="t" r="r" b="b"/>
                <a:pathLst>
                  <a:path w="39" h="29">
                    <a:moveTo>
                      <a:pt x="39" y="9"/>
                    </a:moveTo>
                    <a:lnTo>
                      <a:pt x="39" y="0"/>
                    </a:lnTo>
                    <a:lnTo>
                      <a:pt x="29" y="0"/>
                    </a:lnTo>
                    <a:lnTo>
                      <a:pt x="20" y="0"/>
                    </a:lnTo>
                    <a:lnTo>
                      <a:pt x="10" y="0"/>
                    </a:lnTo>
                    <a:lnTo>
                      <a:pt x="10" y="0"/>
                    </a:lnTo>
                    <a:lnTo>
                      <a:pt x="0" y="9"/>
                    </a:lnTo>
                    <a:lnTo>
                      <a:pt x="0" y="19"/>
                    </a:lnTo>
                    <a:lnTo>
                      <a:pt x="0" y="29"/>
                    </a:lnTo>
                    <a:lnTo>
                      <a:pt x="39" y="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06" name=""/>
              <p:cNvSpPr/>
              <p:nvPr/>
            </p:nvSpPr>
            <p:spPr>
              <a:xfrm rot="21021600">
                <a:off x="4546080" y="3109320"/>
                <a:ext cx="7920" cy="19080"/>
              </a:xfrm>
              <a:custGeom>
                <a:avLst/>
                <a:gdLst/>
                <a:ahLst/>
                <a:rect l="l" t="t" r="r" b="b"/>
                <a:pathLst>
                  <a:path w="19" h="38">
                    <a:moveTo>
                      <a:pt x="19" y="0"/>
                    </a:moveTo>
                    <a:lnTo>
                      <a:pt x="0" y="0"/>
                    </a:lnTo>
                    <a:lnTo>
                      <a:pt x="0" y="19"/>
                    </a:lnTo>
                    <a:lnTo>
                      <a:pt x="9" y="38"/>
                    </a:lnTo>
                    <a:lnTo>
                      <a:pt x="19" y="38"/>
                    </a:lnTo>
                    <a:lnTo>
                      <a:pt x="1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7" name=""/>
              <p:cNvSpPr/>
              <p:nvPr/>
            </p:nvSpPr>
            <p:spPr>
              <a:xfrm rot="21021600">
                <a:off x="4560840" y="3099960"/>
                <a:ext cx="94680" cy="107280"/>
              </a:xfrm>
              <a:custGeom>
                <a:avLst/>
                <a:gdLst/>
                <a:ahLst/>
                <a:rect l="l" t="t" r="r" b="b"/>
                <a:pathLst>
                  <a:path w="220" h="211">
                    <a:moveTo>
                      <a:pt x="220" y="201"/>
                    </a:moveTo>
                    <a:lnTo>
                      <a:pt x="210" y="172"/>
                    </a:lnTo>
                    <a:lnTo>
                      <a:pt x="201" y="153"/>
                    </a:lnTo>
                    <a:lnTo>
                      <a:pt x="191" y="134"/>
                    </a:lnTo>
                    <a:lnTo>
                      <a:pt x="181" y="115"/>
                    </a:lnTo>
                    <a:lnTo>
                      <a:pt x="172" y="96"/>
                    </a:lnTo>
                    <a:lnTo>
                      <a:pt x="153" y="76"/>
                    </a:lnTo>
                    <a:lnTo>
                      <a:pt x="143" y="57"/>
                    </a:lnTo>
                    <a:lnTo>
                      <a:pt x="124" y="48"/>
                    </a:lnTo>
                    <a:lnTo>
                      <a:pt x="114" y="28"/>
                    </a:lnTo>
                    <a:lnTo>
                      <a:pt x="95" y="19"/>
                    </a:lnTo>
                    <a:lnTo>
                      <a:pt x="86" y="19"/>
                    </a:lnTo>
                    <a:lnTo>
                      <a:pt x="67" y="9"/>
                    </a:lnTo>
                    <a:lnTo>
                      <a:pt x="48" y="0"/>
                    </a:lnTo>
                    <a:lnTo>
                      <a:pt x="28" y="0"/>
                    </a:lnTo>
                    <a:lnTo>
                      <a:pt x="19" y="0"/>
                    </a:lnTo>
                    <a:lnTo>
                      <a:pt x="0" y="0"/>
                    </a:lnTo>
                    <a:lnTo>
                      <a:pt x="0" y="38"/>
                    </a:lnTo>
                    <a:lnTo>
                      <a:pt x="19" y="38"/>
                    </a:lnTo>
                    <a:lnTo>
                      <a:pt x="28" y="38"/>
                    </a:lnTo>
                    <a:lnTo>
                      <a:pt x="38" y="48"/>
                    </a:lnTo>
                    <a:lnTo>
                      <a:pt x="57" y="48"/>
                    </a:lnTo>
                    <a:lnTo>
                      <a:pt x="67" y="57"/>
                    </a:lnTo>
                    <a:lnTo>
                      <a:pt x="76" y="57"/>
                    </a:lnTo>
                    <a:lnTo>
                      <a:pt x="86" y="67"/>
                    </a:lnTo>
                    <a:lnTo>
                      <a:pt x="95" y="76"/>
                    </a:lnTo>
                    <a:lnTo>
                      <a:pt x="114" y="86"/>
                    </a:lnTo>
                    <a:lnTo>
                      <a:pt x="124" y="105"/>
                    </a:lnTo>
                    <a:lnTo>
                      <a:pt x="134" y="115"/>
                    </a:lnTo>
                    <a:lnTo>
                      <a:pt x="143" y="134"/>
                    </a:lnTo>
                    <a:lnTo>
                      <a:pt x="153" y="153"/>
                    </a:lnTo>
                    <a:lnTo>
                      <a:pt x="162" y="172"/>
                    </a:lnTo>
                    <a:lnTo>
                      <a:pt x="172" y="192"/>
                    </a:lnTo>
                    <a:lnTo>
                      <a:pt x="172" y="211"/>
                    </a:lnTo>
                    <a:lnTo>
                      <a:pt x="22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rot="21021600">
                <a:off x="4546440" y="3113280"/>
                <a:ext cx="16200" cy="14400"/>
              </a:xfrm>
              <a:custGeom>
                <a:avLst/>
                <a:gdLst/>
                <a:ahLst/>
                <a:rect l="l" t="t" r="r" b="b"/>
                <a:pathLst>
                  <a:path w="38" h="29">
                    <a:moveTo>
                      <a:pt x="0" y="19"/>
                    </a:moveTo>
                    <a:lnTo>
                      <a:pt x="0" y="29"/>
                    </a:lnTo>
                    <a:lnTo>
                      <a:pt x="9" y="29"/>
                    </a:lnTo>
                    <a:lnTo>
                      <a:pt x="19" y="29"/>
                    </a:lnTo>
                    <a:lnTo>
                      <a:pt x="28" y="29"/>
                    </a:lnTo>
                    <a:lnTo>
                      <a:pt x="38" y="29"/>
                    </a:lnTo>
                    <a:lnTo>
                      <a:pt x="38" y="19"/>
                    </a:lnTo>
                    <a:lnTo>
                      <a:pt x="38" y="10"/>
                    </a:lnTo>
                    <a:lnTo>
                      <a:pt x="38" y="0"/>
                    </a:lnTo>
                    <a:lnTo>
                      <a:pt x="0"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rot="21021600">
                <a:off x="4240440" y="3552840"/>
                <a:ext cx="7920" cy="24120"/>
              </a:xfrm>
              <a:custGeom>
                <a:avLst/>
                <a:gdLst/>
                <a:ahLst/>
                <a:rect l="l" t="t" r="r" b="b"/>
                <a:pathLst>
                  <a:path w="19" h="48">
                    <a:moveTo>
                      <a:pt x="19" y="0"/>
                    </a:moveTo>
                    <a:lnTo>
                      <a:pt x="0" y="9"/>
                    </a:lnTo>
                    <a:lnTo>
                      <a:pt x="0" y="19"/>
                    </a:lnTo>
                    <a:lnTo>
                      <a:pt x="9" y="38"/>
                    </a:lnTo>
                    <a:lnTo>
                      <a:pt x="19" y="48"/>
                    </a:lnTo>
                    <a:lnTo>
                      <a:pt x="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10" name=""/>
              <p:cNvSpPr/>
              <p:nvPr/>
            </p:nvSpPr>
            <p:spPr>
              <a:xfrm rot="21021600">
                <a:off x="4247640" y="3536280"/>
                <a:ext cx="74160" cy="33840"/>
              </a:xfrm>
              <a:custGeom>
                <a:avLst/>
                <a:gdLst/>
                <a:ahLst/>
                <a:rect l="l" t="t" r="r" b="b"/>
                <a:pathLst>
                  <a:path w="172" h="67">
                    <a:moveTo>
                      <a:pt x="172" y="0"/>
                    </a:moveTo>
                    <a:lnTo>
                      <a:pt x="143" y="0"/>
                    </a:lnTo>
                    <a:lnTo>
                      <a:pt x="124" y="0"/>
                    </a:lnTo>
                    <a:lnTo>
                      <a:pt x="105" y="0"/>
                    </a:lnTo>
                    <a:lnTo>
                      <a:pt x="86" y="9"/>
                    </a:lnTo>
                    <a:lnTo>
                      <a:pt x="67" y="9"/>
                    </a:lnTo>
                    <a:lnTo>
                      <a:pt x="48" y="9"/>
                    </a:lnTo>
                    <a:lnTo>
                      <a:pt x="19" y="19"/>
                    </a:lnTo>
                    <a:lnTo>
                      <a:pt x="0" y="19"/>
                    </a:lnTo>
                    <a:lnTo>
                      <a:pt x="0" y="67"/>
                    </a:lnTo>
                    <a:lnTo>
                      <a:pt x="28" y="57"/>
                    </a:lnTo>
                    <a:lnTo>
                      <a:pt x="48" y="57"/>
                    </a:lnTo>
                    <a:lnTo>
                      <a:pt x="67" y="57"/>
                    </a:lnTo>
                    <a:lnTo>
                      <a:pt x="86" y="48"/>
                    </a:lnTo>
                    <a:lnTo>
                      <a:pt x="105" y="48"/>
                    </a:lnTo>
                    <a:lnTo>
                      <a:pt x="124" y="48"/>
                    </a:lnTo>
                    <a:lnTo>
                      <a:pt x="153" y="48"/>
                    </a:lnTo>
                    <a:lnTo>
                      <a:pt x="172" y="38"/>
                    </a:lnTo>
                    <a:lnTo>
                      <a:pt x="17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rot="21021600">
                <a:off x="4248720" y="3551400"/>
                <a:ext cx="7920" cy="24120"/>
              </a:xfrm>
              <a:custGeom>
                <a:avLst/>
                <a:gdLst/>
                <a:ahLst/>
                <a:rect l="l" t="t" r="r" b="b"/>
                <a:pathLst>
                  <a:path w="19" h="48">
                    <a:moveTo>
                      <a:pt x="0" y="48"/>
                    </a:moveTo>
                    <a:lnTo>
                      <a:pt x="19" y="38"/>
                    </a:lnTo>
                    <a:lnTo>
                      <a:pt x="19" y="19"/>
                    </a:lnTo>
                    <a:lnTo>
                      <a:pt x="19" y="9"/>
                    </a:lnTo>
                    <a:lnTo>
                      <a:pt x="0" y="0"/>
                    </a:lnTo>
                    <a:lnTo>
                      <a:pt x="0" y="4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12" name=""/>
              <p:cNvSpPr/>
              <p:nvPr/>
            </p:nvSpPr>
            <p:spPr>
              <a:xfrm rot="21021600">
                <a:off x="4422240" y="2674440"/>
                <a:ext cx="7920" cy="24120"/>
              </a:xfrm>
              <a:custGeom>
                <a:avLst/>
                <a:gdLst/>
                <a:ahLst/>
                <a:rect l="l" t="t" r="r" b="b"/>
                <a:pathLst>
                  <a:path w="19" h="48">
                    <a:moveTo>
                      <a:pt x="0" y="48"/>
                    </a:moveTo>
                    <a:lnTo>
                      <a:pt x="9" y="39"/>
                    </a:lnTo>
                    <a:lnTo>
                      <a:pt x="19" y="29"/>
                    </a:lnTo>
                    <a:lnTo>
                      <a:pt x="9" y="10"/>
                    </a:lnTo>
                    <a:lnTo>
                      <a:pt x="0" y="0"/>
                    </a:lnTo>
                    <a:lnTo>
                      <a:pt x="0" y="4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13" name=""/>
              <p:cNvSpPr/>
              <p:nvPr/>
            </p:nvSpPr>
            <p:spPr>
              <a:xfrm rot="21021600">
                <a:off x="4365000" y="2680200"/>
                <a:ext cx="65880" cy="127080"/>
              </a:xfrm>
              <a:custGeom>
                <a:avLst/>
                <a:gdLst/>
                <a:ahLst/>
                <a:rect l="l" t="t" r="r" b="b"/>
                <a:pathLst>
                  <a:path w="153" h="250">
                    <a:moveTo>
                      <a:pt x="57" y="240"/>
                    </a:moveTo>
                    <a:lnTo>
                      <a:pt x="48" y="192"/>
                    </a:lnTo>
                    <a:lnTo>
                      <a:pt x="38" y="164"/>
                    </a:lnTo>
                    <a:lnTo>
                      <a:pt x="48" y="125"/>
                    </a:lnTo>
                    <a:lnTo>
                      <a:pt x="57" y="96"/>
                    </a:lnTo>
                    <a:lnTo>
                      <a:pt x="67" y="77"/>
                    </a:lnTo>
                    <a:lnTo>
                      <a:pt x="86" y="68"/>
                    </a:lnTo>
                    <a:lnTo>
                      <a:pt x="115" y="48"/>
                    </a:lnTo>
                    <a:lnTo>
                      <a:pt x="153" y="48"/>
                    </a:lnTo>
                    <a:lnTo>
                      <a:pt x="153" y="0"/>
                    </a:lnTo>
                    <a:lnTo>
                      <a:pt x="105" y="10"/>
                    </a:lnTo>
                    <a:lnTo>
                      <a:pt x="67" y="20"/>
                    </a:lnTo>
                    <a:lnTo>
                      <a:pt x="38" y="48"/>
                    </a:lnTo>
                    <a:lnTo>
                      <a:pt x="19" y="77"/>
                    </a:lnTo>
                    <a:lnTo>
                      <a:pt x="0" y="116"/>
                    </a:lnTo>
                    <a:lnTo>
                      <a:pt x="0" y="164"/>
                    </a:lnTo>
                    <a:lnTo>
                      <a:pt x="9" y="202"/>
                    </a:lnTo>
                    <a:lnTo>
                      <a:pt x="19" y="250"/>
                    </a:lnTo>
                    <a:lnTo>
                      <a:pt x="57"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rot="21021600">
                <a:off x="4414680" y="2684880"/>
                <a:ext cx="16200" cy="14040"/>
              </a:xfrm>
              <a:custGeom>
                <a:avLst/>
                <a:gdLst/>
                <a:ahLst/>
                <a:rect l="l" t="t" r="r" b="b"/>
                <a:pathLst>
                  <a:path w="38" h="28">
                    <a:moveTo>
                      <a:pt x="0" y="19"/>
                    </a:moveTo>
                    <a:lnTo>
                      <a:pt x="0" y="19"/>
                    </a:lnTo>
                    <a:lnTo>
                      <a:pt x="9" y="28"/>
                    </a:lnTo>
                    <a:lnTo>
                      <a:pt x="19" y="28"/>
                    </a:lnTo>
                    <a:lnTo>
                      <a:pt x="28" y="28"/>
                    </a:lnTo>
                    <a:lnTo>
                      <a:pt x="28" y="19"/>
                    </a:lnTo>
                    <a:lnTo>
                      <a:pt x="38" y="19"/>
                    </a:lnTo>
                    <a:lnTo>
                      <a:pt x="38" y="9"/>
                    </a:lnTo>
                    <a:lnTo>
                      <a:pt x="38" y="0"/>
                    </a:lnTo>
                    <a:lnTo>
                      <a:pt x="0"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5" name=""/>
              <p:cNvSpPr/>
              <p:nvPr/>
            </p:nvSpPr>
            <p:spPr>
              <a:xfrm rot="21021600">
                <a:off x="4305960" y="2708280"/>
                <a:ext cx="16200" cy="19800"/>
              </a:xfrm>
              <a:custGeom>
                <a:avLst/>
                <a:gdLst/>
                <a:ahLst/>
                <a:rect l="l" t="t" r="r" b="b"/>
                <a:pathLst>
                  <a:path w="38" h="39">
                    <a:moveTo>
                      <a:pt x="19" y="39"/>
                    </a:moveTo>
                    <a:lnTo>
                      <a:pt x="28" y="29"/>
                    </a:lnTo>
                    <a:lnTo>
                      <a:pt x="38" y="29"/>
                    </a:lnTo>
                    <a:lnTo>
                      <a:pt x="28" y="19"/>
                    </a:lnTo>
                    <a:lnTo>
                      <a:pt x="28" y="10"/>
                    </a:lnTo>
                    <a:lnTo>
                      <a:pt x="28" y="0"/>
                    </a:lnTo>
                    <a:lnTo>
                      <a:pt x="19" y="0"/>
                    </a:lnTo>
                    <a:lnTo>
                      <a:pt x="9" y="0"/>
                    </a:lnTo>
                    <a:lnTo>
                      <a:pt x="0" y="0"/>
                    </a:lnTo>
                    <a:lnTo>
                      <a:pt x="19"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416" name=""/>
              <p:cNvSpPr/>
              <p:nvPr/>
            </p:nvSpPr>
            <p:spPr>
              <a:xfrm rot="21021600">
                <a:off x="4282200" y="2710800"/>
                <a:ext cx="37080" cy="73080"/>
              </a:xfrm>
              <a:custGeom>
                <a:avLst/>
                <a:gdLst/>
                <a:ahLst/>
                <a:rect l="l" t="t" r="r" b="b"/>
                <a:pathLst>
                  <a:path w="86" h="144">
                    <a:moveTo>
                      <a:pt x="48" y="135"/>
                    </a:moveTo>
                    <a:lnTo>
                      <a:pt x="48" y="125"/>
                    </a:lnTo>
                    <a:lnTo>
                      <a:pt x="48" y="106"/>
                    </a:lnTo>
                    <a:lnTo>
                      <a:pt x="48" y="96"/>
                    </a:lnTo>
                    <a:lnTo>
                      <a:pt x="48" y="87"/>
                    </a:lnTo>
                    <a:lnTo>
                      <a:pt x="57" y="77"/>
                    </a:lnTo>
                    <a:lnTo>
                      <a:pt x="67" y="58"/>
                    </a:lnTo>
                    <a:lnTo>
                      <a:pt x="76" y="48"/>
                    </a:lnTo>
                    <a:lnTo>
                      <a:pt x="86" y="39"/>
                    </a:lnTo>
                    <a:lnTo>
                      <a:pt x="67" y="0"/>
                    </a:lnTo>
                    <a:lnTo>
                      <a:pt x="48" y="19"/>
                    </a:lnTo>
                    <a:lnTo>
                      <a:pt x="28" y="29"/>
                    </a:lnTo>
                    <a:lnTo>
                      <a:pt x="19" y="48"/>
                    </a:lnTo>
                    <a:lnTo>
                      <a:pt x="9" y="67"/>
                    </a:lnTo>
                    <a:lnTo>
                      <a:pt x="0" y="87"/>
                    </a:lnTo>
                    <a:lnTo>
                      <a:pt x="0" y="106"/>
                    </a:lnTo>
                    <a:lnTo>
                      <a:pt x="0" y="125"/>
                    </a:lnTo>
                    <a:lnTo>
                      <a:pt x="9" y="144"/>
                    </a:lnTo>
                    <a:lnTo>
                      <a:pt x="48" y="13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7" name=""/>
              <p:cNvSpPr/>
              <p:nvPr/>
            </p:nvSpPr>
            <p:spPr>
              <a:xfrm rot="21021600">
                <a:off x="4303080" y="2718360"/>
                <a:ext cx="16200" cy="14760"/>
              </a:xfrm>
              <a:custGeom>
                <a:avLst/>
                <a:gdLst/>
                <a:ahLst/>
                <a:rect l="l" t="t" r="r" b="b"/>
                <a:pathLst>
                  <a:path w="38" h="29">
                    <a:moveTo>
                      <a:pt x="0" y="10"/>
                    </a:moveTo>
                    <a:lnTo>
                      <a:pt x="10" y="20"/>
                    </a:lnTo>
                    <a:lnTo>
                      <a:pt x="10" y="20"/>
                    </a:lnTo>
                    <a:lnTo>
                      <a:pt x="19" y="29"/>
                    </a:lnTo>
                    <a:lnTo>
                      <a:pt x="29" y="20"/>
                    </a:lnTo>
                    <a:lnTo>
                      <a:pt x="38" y="20"/>
                    </a:lnTo>
                    <a:lnTo>
                      <a:pt x="38" y="10"/>
                    </a:lnTo>
                    <a:lnTo>
                      <a:pt x="38" y="10"/>
                    </a:lnTo>
                    <a:lnTo>
                      <a:pt x="38" y="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18" name=""/>
              <p:cNvSpPr/>
              <p:nvPr/>
            </p:nvSpPr>
            <p:spPr>
              <a:xfrm rot="21021600">
                <a:off x="4190760" y="2698200"/>
                <a:ext cx="20160" cy="14040"/>
              </a:xfrm>
              <a:custGeom>
                <a:avLst/>
                <a:gdLst/>
                <a:ahLst/>
                <a:rect l="l" t="t" r="r" b="b"/>
                <a:pathLst>
                  <a:path w="47" h="28">
                    <a:moveTo>
                      <a:pt x="47" y="28"/>
                    </a:moveTo>
                    <a:lnTo>
                      <a:pt x="47" y="19"/>
                    </a:lnTo>
                    <a:lnTo>
                      <a:pt x="47" y="9"/>
                    </a:lnTo>
                    <a:lnTo>
                      <a:pt x="38" y="9"/>
                    </a:lnTo>
                    <a:lnTo>
                      <a:pt x="38" y="0"/>
                    </a:lnTo>
                    <a:lnTo>
                      <a:pt x="28" y="0"/>
                    </a:lnTo>
                    <a:lnTo>
                      <a:pt x="19" y="0"/>
                    </a:lnTo>
                    <a:lnTo>
                      <a:pt x="9" y="0"/>
                    </a:lnTo>
                    <a:lnTo>
                      <a:pt x="0" y="9"/>
                    </a:lnTo>
                    <a:lnTo>
                      <a:pt x="4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rot="21021600">
                <a:off x="4182480" y="2703600"/>
                <a:ext cx="37080" cy="102600"/>
              </a:xfrm>
              <a:custGeom>
                <a:avLst/>
                <a:gdLst/>
                <a:ahLst/>
                <a:rect l="l" t="t" r="r" b="b"/>
                <a:pathLst>
                  <a:path w="86" h="202">
                    <a:moveTo>
                      <a:pt x="48" y="192"/>
                    </a:moveTo>
                    <a:lnTo>
                      <a:pt x="39" y="173"/>
                    </a:lnTo>
                    <a:lnTo>
                      <a:pt x="39" y="144"/>
                    </a:lnTo>
                    <a:lnTo>
                      <a:pt x="48" y="125"/>
                    </a:lnTo>
                    <a:lnTo>
                      <a:pt x="48" y="106"/>
                    </a:lnTo>
                    <a:lnTo>
                      <a:pt x="58" y="87"/>
                    </a:lnTo>
                    <a:lnTo>
                      <a:pt x="58" y="58"/>
                    </a:lnTo>
                    <a:lnTo>
                      <a:pt x="67" y="39"/>
                    </a:lnTo>
                    <a:lnTo>
                      <a:pt x="86" y="19"/>
                    </a:lnTo>
                    <a:lnTo>
                      <a:pt x="39" y="0"/>
                    </a:lnTo>
                    <a:lnTo>
                      <a:pt x="29" y="19"/>
                    </a:lnTo>
                    <a:lnTo>
                      <a:pt x="19" y="48"/>
                    </a:lnTo>
                    <a:lnTo>
                      <a:pt x="10" y="67"/>
                    </a:lnTo>
                    <a:lnTo>
                      <a:pt x="10" y="96"/>
                    </a:lnTo>
                    <a:lnTo>
                      <a:pt x="0" y="115"/>
                    </a:lnTo>
                    <a:lnTo>
                      <a:pt x="0" y="144"/>
                    </a:lnTo>
                    <a:lnTo>
                      <a:pt x="0" y="173"/>
                    </a:lnTo>
                    <a:lnTo>
                      <a:pt x="0" y="202"/>
                    </a:lnTo>
                    <a:lnTo>
                      <a:pt x="48"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rot="21021600">
                <a:off x="4192200" y="2707920"/>
                <a:ext cx="20160" cy="9360"/>
              </a:xfrm>
              <a:custGeom>
                <a:avLst/>
                <a:gdLst/>
                <a:ahLst/>
                <a:rect l="l" t="t" r="r" b="b"/>
                <a:pathLst>
                  <a:path w="47" h="19">
                    <a:moveTo>
                      <a:pt x="0" y="0"/>
                    </a:moveTo>
                    <a:lnTo>
                      <a:pt x="0" y="9"/>
                    </a:lnTo>
                    <a:lnTo>
                      <a:pt x="9" y="19"/>
                    </a:lnTo>
                    <a:lnTo>
                      <a:pt x="19" y="19"/>
                    </a:lnTo>
                    <a:lnTo>
                      <a:pt x="28" y="19"/>
                    </a:lnTo>
                    <a:lnTo>
                      <a:pt x="28" y="19"/>
                    </a:lnTo>
                    <a:lnTo>
                      <a:pt x="38" y="19"/>
                    </a:lnTo>
                    <a:lnTo>
                      <a:pt x="47" y="9"/>
                    </a:lnTo>
                    <a:lnTo>
                      <a:pt x="47"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1" name=""/>
              <p:cNvSpPr/>
              <p:nvPr/>
            </p:nvSpPr>
            <p:spPr>
              <a:xfrm rot="21021600">
                <a:off x="4003560" y="2923200"/>
                <a:ext cx="16200" cy="19080"/>
              </a:xfrm>
              <a:custGeom>
                <a:avLst/>
                <a:gdLst/>
                <a:ahLst/>
                <a:rect l="l" t="t" r="r" b="b"/>
                <a:pathLst>
                  <a:path w="38" h="38">
                    <a:moveTo>
                      <a:pt x="38" y="10"/>
                    </a:moveTo>
                    <a:lnTo>
                      <a:pt x="29" y="0"/>
                    </a:lnTo>
                    <a:lnTo>
                      <a:pt x="19" y="0"/>
                    </a:lnTo>
                    <a:lnTo>
                      <a:pt x="10" y="0"/>
                    </a:lnTo>
                    <a:lnTo>
                      <a:pt x="0" y="0"/>
                    </a:lnTo>
                    <a:lnTo>
                      <a:pt x="0" y="10"/>
                    </a:lnTo>
                    <a:lnTo>
                      <a:pt x="0" y="19"/>
                    </a:lnTo>
                    <a:lnTo>
                      <a:pt x="0" y="29"/>
                    </a:lnTo>
                    <a:lnTo>
                      <a:pt x="0" y="38"/>
                    </a:lnTo>
                    <a:lnTo>
                      <a:pt x="3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2" name=""/>
              <p:cNvSpPr/>
              <p:nvPr/>
            </p:nvSpPr>
            <p:spPr>
              <a:xfrm rot="21021600">
                <a:off x="4012920" y="2925360"/>
                <a:ext cx="45000" cy="126360"/>
              </a:xfrm>
              <a:custGeom>
                <a:avLst/>
                <a:gdLst/>
                <a:ahLst/>
                <a:rect l="l" t="t" r="r" b="b"/>
                <a:pathLst>
                  <a:path w="105" h="249">
                    <a:moveTo>
                      <a:pt x="96" y="249"/>
                    </a:moveTo>
                    <a:lnTo>
                      <a:pt x="105" y="201"/>
                    </a:lnTo>
                    <a:lnTo>
                      <a:pt x="96" y="163"/>
                    </a:lnTo>
                    <a:lnTo>
                      <a:pt x="96" y="134"/>
                    </a:lnTo>
                    <a:lnTo>
                      <a:pt x="86" y="105"/>
                    </a:lnTo>
                    <a:lnTo>
                      <a:pt x="77" y="76"/>
                    </a:lnTo>
                    <a:lnTo>
                      <a:pt x="67" y="48"/>
                    </a:lnTo>
                    <a:lnTo>
                      <a:pt x="48" y="19"/>
                    </a:lnTo>
                    <a:lnTo>
                      <a:pt x="38" y="0"/>
                    </a:lnTo>
                    <a:lnTo>
                      <a:pt x="0" y="28"/>
                    </a:lnTo>
                    <a:lnTo>
                      <a:pt x="19" y="48"/>
                    </a:lnTo>
                    <a:lnTo>
                      <a:pt x="29" y="67"/>
                    </a:lnTo>
                    <a:lnTo>
                      <a:pt x="38" y="86"/>
                    </a:lnTo>
                    <a:lnTo>
                      <a:pt x="48" y="115"/>
                    </a:lnTo>
                    <a:lnTo>
                      <a:pt x="48" y="134"/>
                    </a:lnTo>
                    <a:lnTo>
                      <a:pt x="58" y="172"/>
                    </a:lnTo>
                    <a:lnTo>
                      <a:pt x="58" y="201"/>
                    </a:lnTo>
                    <a:lnTo>
                      <a:pt x="58" y="240"/>
                    </a:lnTo>
                    <a:lnTo>
                      <a:pt x="96"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rot="21021600">
                <a:off x="4004640" y="2932920"/>
                <a:ext cx="16200" cy="14760"/>
              </a:xfrm>
              <a:custGeom>
                <a:avLst/>
                <a:gdLst/>
                <a:ahLst/>
                <a:rect l="l" t="t" r="r" b="b"/>
                <a:pathLst>
                  <a:path w="38" h="29">
                    <a:moveTo>
                      <a:pt x="0" y="0"/>
                    </a:moveTo>
                    <a:lnTo>
                      <a:pt x="0" y="10"/>
                    </a:lnTo>
                    <a:lnTo>
                      <a:pt x="0" y="19"/>
                    </a:lnTo>
                    <a:lnTo>
                      <a:pt x="10" y="19"/>
                    </a:lnTo>
                    <a:lnTo>
                      <a:pt x="19" y="29"/>
                    </a:lnTo>
                    <a:lnTo>
                      <a:pt x="29" y="19"/>
                    </a:lnTo>
                    <a:lnTo>
                      <a:pt x="29" y="19"/>
                    </a:lnTo>
                    <a:lnTo>
                      <a:pt x="38" y="10"/>
                    </a:lnTo>
                    <a:lnTo>
                      <a:pt x="38"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24" name=""/>
              <p:cNvSpPr/>
              <p:nvPr/>
            </p:nvSpPr>
            <p:spPr>
              <a:xfrm rot="21021600">
                <a:off x="3963960" y="3034440"/>
                <a:ext cx="12240" cy="19080"/>
              </a:xfrm>
              <a:custGeom>
                <a:avLst/>
                <a:gdLst/>
                <a:ahLst/>
                <a:rect l="l" t="t" r="r" b="b"/>
                <a:pathLst>
                  <a:path w="29" h="38">
                    <a:moveTo>
                      <a:pt x="0" y="38"/>
                    </a:moveTo>
                    <a:lnTo>
                      <a:pt x="10" y="38"/>
                    </a:lnTo>
                    <a:lnTo>
                      <a:pt x="20" y="38"/>
                    </a:lnTo>
                    <a:lnTo>
                      <a:pt x="20" y="38"/>
                    </a:lnTo>
                    <a:lnTo>
                      <a:pt x="29" y="28"/>
                    </a:lnTo>
                    <a:lnTo>
                      <a:pt x="29" y="19"/>
                    </a:lnTo>
                    <a:lnTo>
                      <a:pt x="29" y="9"/>
                    </a:lnTo>
                    <a:lnTo>
                      <a:pt x="29" y="0"/>
                    </a:lnTo>
                    <a:lnTo>
                      <a:pt x="20" y="0"/>
                    </a:lnTo>
                    <a:lnTo>
                      <a:pt x="0"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rot="21021600">
                <a:off x="3917880" y="2975400"/>
                <a:ext cx="49320" cy="82800"/>
              </a:xfrm>
              <a:custGeom>
                <a:avLst/>
                <a:gdLst/>
                <a:ahLst/>
                <a:rect l="l" t="t" r="r" b="b"/>
                <a:pathLst>
                  <a:path w="115" h="163">
                    <a:moveTo>
                      <a:pt x="0" y="9"/>
                    </a:moveTo>
                    <a:lnTo>
                      <a:pt x="9" y="38"/>
                    </a:lnTo>
                    <a:lnTo>
                      <a:pt x="19" y="57"/>
                    </a:lnTo>
                    <a:lnTo>
                      <a:pt x="19" y="86"/>
                    </a:lnTo>
                    <a:lnTo>
                      <a:pt x="38" y="105"/>
                    </a:lnTo>
                    <a:lnTo>
                      <a:pt x="48" y="125"/>
                    </a:lnTo>
                    <a:lnTo>
                      <a:pt x="57" y="134"/>
                    </a:lnTo>
                    <a:lnTo>
                      <a:pt x="76" y="153"/>
                    </a:lnTo>
                    <a:lnTo>
                      <a:pt x="95" y="163"/>
                    </a:lnTo>
                    <a:lnTo>
                      <a:pt x="115" y="125"/>
                    </a:lnTo>
                    <a:lnTo>
                      <a:pt x="105" y="115"/>
                    </a:lnTo>
                    <a:lnTo>
                      <a:pt x="95" y="105"/>
                    </a:lnTo>
                    <a:lnTo>
                      <a:pt x="76" y="96"/>
                    </a:lnTo>
                    <a:lnTo>
                      <a:pt x="67" y="77"/>
                    </a:lnTo>
                    <a:lnTo>
                      <a:pt x="67" y="67"/>
                    </a:lnTo>
                    <a:lnTo>
                      <a:pt x="57" y="48"/>
                    </a:lnTo>
                    <a:lnTo>
                      <a:pt x="48" y="29"/>
                    </a:lnTo>
                    <a:lnTo>
                      <a:pt x="48" y="0"/>
                    </a:lnTo>
                    <a:lnTo>
                      <a:pt x="0"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6" name=""/>
              <p:cNvSpPr/>
              <p:nvPr/>
            </p:nvSpPr>
            <p:spPr>
              <a:xfrm rot="21021600">
                <a:off x="3958560" y="3029760"/>
                <a:ext cx="16200" cy="14760"/>
              </a:xfrm>
              <a:custGeom>
                <a:avLst/>
                <a:gdLst/>
                <a:ahLst/>
                <a:rect l="l" t="t" r="r" b="b"/>
                <a:pathLst>
                  <a:path w="38" h="29">
                    <a:moveTo>
                      <a:pt x="38" y="29"/>
                    </a:moveTo>
                    <a:lnTo>
                      <a:pt x="38" y="19"/>
                    </a:lnTo>
                    <a:lnTo>
                      <a:pt x="29" y="10"/>
                    </a:lnTo>
                    <a:lnTo>
                      <a:pt x="29" y="10"/>
                    </a:lnTo>
                    <a:lnTo>
                      <a:pt x="19" y="0"/>
                    </a:lnTo>
                    <a:lnTo>
                      <a:pt x="9" y="10"/>
                    </a:lnTo>
                    <a:lnTo>
                      <a:pt x="0" y="10"/>
                    </a:lnTo>
                    <a:lnTo>
                      <a:pt x="0" y="19"/>
                    </a:lnTo>
                    <a:lnTo>
                      <a:pt x="0" y="29"/>
                    </a:lnTo>
                    <a:lnTo>
                      <a:pt x="38"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27" name=""/>
              <p:cNvSpPr/>
              <p:nvPr/>
            </p:nvSpPr>
            <p:spPr>
              <a:xfrm rot="21021600">
                <a:off x="3767760" y="3215520"/>
                <a:ext cx="20520" cy="14040"/>
              </a:xfrm>
              <a:custGeom>
                <a:avLst/>
                <a:gdLst/>
                <a:ahLst/>
                <a:rect l="l" t="t" r="r" b="b"/>
                <a:pathLst>
                  <a:path w="48" h="28">
                    <a:moveTo>
                      <a:pt x="48" y="19"/>
                    </a:moveTo>
                    <a:lnTo>
                      <a:pt x="38" y="9"/>
                    </a:lnTo>
                    <a:lnTo>
                      <a:pt x="38" y="0"/>
                    </a:lnTo>
                    <a:lnTo>
                      <a:pt x="29" y="0"/>
                    </a:lnTo>
                    <a:lnTo>
                      <a:pt x="19" y="0"/>
                    </a:lnTo>
                    <a:lnTo>
                      <a:pt x="10" y="0"/>
                    </a:lnTo>
                    <a:lnTo>
                      <a:pt x="10" y="9"/>
                    </a:lnTo>
                    <a:lnTo>
                      <a:pt x="0" y="19"/>
                    </a:lnTo>
                    <a:lnTo>
                      <a:pt x="0" y="28"/>
                    </a:lnTo>
                    <a:lnTo>
                      <a:pt x="48"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8" name=""/>
              <p:cNvSpPr/>
              <p:nvPr/>
            </p:nvSpPr>
            <p:spPr>
              <a:xfrm rot="21021600">
                <a:off x="3781800" y="3218040"/>
                <a:ext cx="94680" cy="165600"/>
              </a:xfrm>
              <a:custGeom>
                <a:avLst/>
                <a:gdLst/>
                <a:ahLst/>
                <a:rect l="l" t="t" r="r" b="b"/>
                <a:pathLst>
                  <a:path w="220" h="326">
                    <a:moveTo>
                      <a:pt x="220" y="297"/>
                    </a:moveTo>
                    <a:lnTo>
                      <a:pt x="191" y="259"/>
                    </a:lnTo>
                    <a:lnTo>
                      <a:pt x="163" y="230"/>
                    </a:lnTo>
                    <a:lnTo>
                      <a:pt x="144" y="192"/>
                    </a:lnTo>
                    <a:lnTo>
                      <a:pt x="115" y="153"/>
                    </a:lnTo>
                    <a:lnTo>
                      <a:pt x="96" y="125"/>
                    </a:lnTo>
                    <a:lnTo>
                      <a:pt x="77" y="86"/>
                    </a:lnTo>
                    <a:lnTo>
                      <a:pt x="57" y="38"/>
                    </a:lnTo>
                    <a:lnTo>
                      <a:pt x="48" y="0"/>
                    </a:lnTo>
                    <a:lnTo>
                      <a:pt x="0" y="9"/>
                    </a:lnTo>
                    <a:lnTo>
                      <a:pt x="19" y="57"/>
                    </a:lnTo>
                    <a:lnTo>
                      <a:pt x="38" y="96"/>
                    </a:lnTo>
                    <a:lnTo>
                      <a:pt x="57" y="144"/>
                    </a:lnTo>
                    <a:lnTo>
                      <a:pt x="77" y="182"/>
                    </a:lnTo>
                    <a:lnTo>
                      <a:pt x="105" y="211"/>
                    </a:lnTo>
                    <a:lnTo>
                      <a:pt x="124" y="249"/>
                    </a:lnTo>
                    <a:lnTo>
                      <a:pt x="153" y="288"/>
                    </a:lnTo>
                    <a:lnTo>
                      <a:pt x="191" y="326"/>
                    </a:lnTo>
                    <a:lnTo>
                      <a:pt x="22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21021600">
                <a:off x="3773160" y="3219840"/>
                <a:ext cx="16200" cy="14760"/>
              </a:xfrm>
              <a:custGeom>
                <a:avLst/>
                <a:gdLst/>
                <a:ahLst/>
                <a:rect l="l" t="t" r="r" b="b"/>
                <a:pathLst>
                  <a:path w="38" h="29">
                    <a:moveTo>
                      <a:pt x="0" y="29"/>
                    </a:moveTo>
                    <a:lnTo>
                      <a:pt x="9" y="29"/>
                    </a:lnTo>
                    <a:lnTo>
                      <a:pt x="9" y="29"/>
                    </a:lnTo>
                    <a:lnTo>
                      <a:pt x="19" y="29"/>
                    </a:lnTo>
                    <a:lnTo>
                      <a:pt x="28" y="29"/>
                    </a:lnTo>
                    <a:lnTo>
                      <a:pt x="28" y="19"/>
                    </a:lnTo>
                    <a:lnTo>
                      <a:pt x="38" y="10"/>
                    </a:lnTo>
                    <a:lnTo>
                      <a:pt x="38" y="10"/>
                    </a:lnTo>
                    <a:lnTo>
                      <a:pt x="28" y="0"/>
                    </a:lnTo>
                    <a:lnTo>
                      <a:pt x="0"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30" name=""/>
              <p:cNvSpPr/>
              <p:nvPr/>
            </p:nvSpPr>
            <p:spPr>
              <a:xfrm rot="21021600">
                <a:off x="3882960" y="3201120"/>
                <a:ext cx="16200" cy="14760"/>
              </a:xfrm>
              <a:custGeom>
                <a:avLst/>
                <a:gdLst/>
                <a:ahLst/>
                <a:rect l="l" t="t" r="r" b="b"/>
                <a:pathLst>
                  <a:path w="38" h="29">
                    <a:moveTo>
                      <a:pt x="38" y="19"/>
                    </a:moveTo>
                    <a:lnTo>
                      <a:pt x="38" y="10"/>
                    </a:lnTo>
                    <a:lnTo>
                      <a:pt x="29" y="0"/>
                    </a:lnTo>
                    <a:lnTo>
                      <a:pt x="19" y="0"/>
                    </a:lnTo>
                    <a:lnTo>
                      <a:pt x="19" y="0"/>
                    </a:lnTo>
                    <a:lnTo>
                      <a:pt x="9" y="10"/>
                    </a:lnTo>
                    <a:lnTo>
                      <a:pt x="0" y="10"/>
                    </a:lnTo>
                    <a:lnTo>
                      <a:pt x="0" y="19"/>
                    </a:lnTo>
                    <a:lnTo>
                      <a:pt x="0" y="29"/>
                    </a:lnTo>
                    <a:lnTo>
                      <a:pt x="38"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31" name=""/>
              <p:cNvSpPr/>
              <p:nvPr/>
            </p:nvSpPr>
            <p:spPr>
              <a:xfrm rot="21021600">
                <a:off x="3891600" y="3206160"/>
                <a:ext cx="65880" cy="102600"/>
              </a:xfrm>
              <a:custGeom>
                <a:avLst/>
                <a:gdLst/>
                <a:ahLst/>
                <a:rect l="l" t="t" r="r" b="b"/>
                <a:pathLst>
                  <a:path w="153" h="202">
                    <a:moveTo>
                      <a:pt x="153" y="164"/>
                    </a:moveTo>
                    <a:lnTo>
                      <a:pt x="134" y="144"/>
                    </a:lnTo>
                    <a:lnTo>
                      <a:pt x="115" y="125"/>
                    </a:lnTo>
                    <a:lnTo>
                      <a:pt x="95" y="106"/>
                    </a:lnTo>
                    <a:lnTo>
                      <a:pt x="86" y="87"/>
                    </a:lnTo>
                    <a:lnTo>
                      <a:pt x="67" y="68"/>
                    </a:lnTo>
                    <a:lnTo>
                      <a:pt x="57" y="48"/>
                    </a:lnTo>
                    <a:lnTo>
                      <a:pt x="48" y="20"/>
                    </a:lnTo>
                    <a:lnTo>
                      <a:pt x="38" y="0"/>
                    </a:lnTo>
                    <a:lnTo>
                      <a:pt x="0" y="10"/>
                    </a:lnTo>
                    <a:lnTo>
                      <a:pt x="9" y="39"/>
                    </a:lnTo>
                    <a:lnTo>
                      <a:pt x="19" y="68"/>
                    </a:lnTo>
                    <a:lnTo>
                      <a:pt x="29" y="87"/>
                    </a:lnTo>
                    <a:lnTo>
                      <a:pt x="48" y="116"/>
                    </a:lnTo>
                    <a:lnTo>
                      <a:pt x="57" y="135"/>
                    </a:lnTo>
                    <a:lnTo>
                      <a:pt x="76" y="164"/>
                    </a:lnTo>
                    <a:lnTo>
                      <a:pt x="105" y="183"/>
                    </a:lnTo>
                    <a:lnTo>
                      <a:pt x="124" y="202"/>
                    </a:lnTo>
                    <a:lnTo>
                      <a:pt x="153"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rot="21021600">
                <a:off x="3888000" y="3205800"/>
                <a:ext cx="12240" cy="19080"/>
              </a:xfrm>
              <a:custGeom>
                <a:avLst/>
                <a:gdLst/>
                <a:ahLst/>
                <a:rect l="l" t="t" r="r" b="b"/>
                <a:pathLst>
                  <a:path w="29" h="38">
                    <a:moveTo>
                      <a:pt x="0" y="29"/>
                    </a:moveTo>
                    <a:lnTo>
                      <a:pt x="0" y="38"/>
                    </a:lnTo>
                    <a:lnTo>
                      <a:pt x="10" y="38"/>
                    </a:lnTo>
                    <a:lnTo>
                      <a:pt x="20" y="29"/>
                    </a:lnTo>
                    <a:lnTo>
                      <a:pt x="29" y="29"/>
                    </a:lnTo>
                    <a:lnTo>
                      <a:pt x="29" y="19"/>
                    </a:lnTo>
                    <a:lnTo>
                      <a:pt x="29" y="9"/>
                    </a:lnTo>
                    <a:lnTo>
                      <a:pt x="29" y="0"/>
                    </a:lnTo>
                    <a:lnTo>
                      <a:pt x="20" y="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3" name=""/>
              <p:cNvSpPr/>
              <p:nvPr/>
            </p:nvSpPr>
            <p:spPr>
              <a:xfrm rot="21021600">
                <a:off x="4422600" y="3080520"/>
                <a:ext cx="16200" cy="9360"/>
              </a:xfrm>
              <a:custGeom>
                <a:avLst/>
                <a:gdLst/>
                <a:ahLst/>
                <a:rect l="l" t="t" r="r" b="b"/>
                <a:pathLst>
                  <a:path w="38" h="19">
                    <a:moveTo>
                      <a:pt x="0" y="0"/>
                    </a:moveTo>
                    <a:lnTo>
                      <a:pt x="0" y="9"/>
                    </a:lnTo>
                    <a:lnTo>
                      <a:pt x="0" y="9"/>
                    </a:lnTo>
                    <a:lnTo>
                      <a:pt x="9" y="19"/>
                    </a:lnTo>
                    <a:lnTo>
                      <a:pt x="19" y="19"/>
                    </a:lnTo>
                    <a:lnTo>
                      <a:pt x="29" y="19"/>
                    </a:lnTo>
                    <a:lnTo>
                      <a:pt x="29" y="9"/>
                    </a:lnTo>
                    <a:lnTo>
                      <a:pt x="38" y="9"/>
                    </a:lnTo>
                    <a:lnTo>
                      <a:pt x="3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4" name=""/>
              <p:cNvSpPr/>
              <p:nvPr/>
            </p:nvSpPr>
            <p:spPr>
              <a:xfrm rot="21021600">
                <a:off x="4373640" y="2947320"/>
                <a:ext cx="53280" cy="136800"/>
              </a:xfrm>
              <a:custGeom>
                <a:avLst/>
                <a:gdLst/>
                <a:ahLst/>
                <a:rect l="l" t="t" r="r" b="b"/>
                <a:pathLst>
                  <a:path w="124" h="269">
                    <a:moveTo>
                      <a:pt x="0" y="29"/>
                    </a:moveTo>
                    <a:lnTo>
                      <a:pt x="19" y="57"/>
                    </a:lnTo>
                    <a:lnTo>
                      <a:pt x="38" y="86"/>
                    </a:lnTo>
                    <a:lnTo>
                      <a:pt x="48" y="115"/>
                    </a:lnTo>
                    <a:lnTo>
                      <a:pt x="57" y="144"/>
                    </a:lnTo>
                    <a:lnTo>
                      <a:pt x="67" y="173"/>
                    </a:lnTo>
                    <a:lnTo>
                      <a:pt x="76" y="211"/>
                    </a:lnTo>
                    <a:lnTo>
                      <a:pt x="86" y="240"/>
                    </a:lnTo>
                    <a:lnTo>
                      <a:pt x="86" y="269"/>
                    </a:lnTo>
                    <a:lnTo>
                      <a:pt x="124" y="269"/>
                    </a:lnTo>
                    <a:lnTo>
                      <a:pt x="124" y="240"/>
                    </a:lnTo>
                    <a:lnTo>
                      <a:pt x="124" y="201"/>
                    </a:lnTo>
                    <a:lnTo>
                      <a:pt x="115" y="163"/>
                    </a:lnTo>
                    <a:lnTo>
                      <a:pt x="105" y="134"/>
                    </a:lnTo>
                    <a:lnTo>
                      <a:pt x="86" y="96"/>
                    </a:lnTo>
                    <a:lnTo>
                      <a:pt x="67" y="67"/>
                    </a:lnTo>
                    <a:lnTo>
                      <a:pt x="48" y="29"/>
                    </a:lnTo>
                    <a:lnTo>
                      <a:pt x="29"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rot="21021600">
                <a:off x="4421160" y="3065760"/>
                <a:ext cx="16200" cy="19080"/>
              </a:xfrm>
              <a:custGeom>
                <a:avLst/>
                <a:gdLst/>
                <a:ahLst/>
                <a:rect l="l" t="t" r="r" b="b"/>
                <a:pathLst>
                  <a:path w="38" h="38">
                    <a:moveTo>
                      <a:pt x="38" y="9"/>
                    </a:moveTo>
                    <a:lnTo>
                      <a:pt x="29" y="9"/>
                    </a:lnTo>
                    <a:lnTo>
                      <a:pt x="19" y="0"/>
                    </a:lnTo>
                    <a:lnTo>
                      <a:pt x="9" y="9"/>
                    </a:lnTo>
                    <a:lnTo>
                      <a:pt x="0" y="9"/>
                    </a:lnTo>
                    <a:lnTo>
                      <a:pt x="0" y="19"/>
                    </a:lnTo>
                    <a:lnTo>
                      <a:pt x="0" y="19"/>
                    </a:lnTo>
                    <a:lnTo>
                      <a:pt x="0" y="29"/>
                    </a:lnTo>
                    <a:lnTo>
                      <a:pt x="0" y="38"/>
                    </a:lnTo>
                    <a:lnTo>
                      <a:pt x="38"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6" name=""/>
              <p:cNvSpPr/>
              <p:nvPr/>
            </p:nvSpPr>
            <p:spPr>
              <a:xfrm rot="21021600">
                <a:off x="4674960" y="2616120"/>
                <a:ext cx="16200" cy="14040"/>
              </a:xfrm>
              <a:custGeom>
                <a:avLst/>
                <a:gdLst/>
                <a:ahLst/>
                <a:rect l="l" t="t" r="r" b="b"/>
                <a:pathLst>
                  <a:path w="38" h="28">
                    <a:moveTo>
                      <a:pt x="38" y="9"/>
                    </a:moveTo>
                    <a:lnTo>
                      <a:pt x="29" y="0"/>
                    </a:lnTo>
                    <a:lnTo>
                      <a:pt x="29" y="0"/>
                    </a:lnTo>
                    <a:lnTo>
                      <a:pt x="19" y="0"/>
                    </a:lnTo>
                    <a:lnTo>
                      <a:pt x="10" y="0"/>
                    </a:lnTo>
                    <a:lnTo>
                      <a:pt x="0" y="0"/>
                    </a:lnTo>
                    <a:lnTo>
                      <a:pt x="0" y="9"/>
                    </a:lnTo>
                    <a:lnTo>
                      <a:pt x="0" y="19"/>
                    </a:lnTo>
                    <a:lnTo>
                      <a:pt x="0" y="28"/>
                    </a:lnTo>
                    <a:lnTo>
                      <a:pt x="38"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37" name=""/>
              <p:cNvSpPr/>
              <p:nvPr/>
            </p:nvSpPr>
            <p:spPr>
              <a:xfrm rot="21021600">
                <a:off x="4685040" y="2617560"/>
                <a:ext cx="41400" cy="127080"/>
              </a:xfrm>
              <a:custGeom>
                <a:avLst/>
                <a:gdLst/>
                <a:ahLst/>
                <a:rect l="l" t="t" r="r" b="b"/>
                <a:pathLst>
                  <a:path w="96" h="250">
                    <a:moveTo>
                      <a:pt x="96" y="250"/>
                    </a:moveTo>
                    <a:lnTo>
                      <a:pt x="96" y="211"/>
                    </a:lnTo>
                    <a:lnTo>
                      <a:pt x="96" y="183"/>
                    </a:lnTo>
                    <a:lnTo>
                      <a:pt x="86" y="144"/>
                    </a:lnTo>
                    <a:lnTo>
                      <a:pt x="86" y="115"/>
                    </a:lnTo>
                    <a:lnTo>
                      <a:pt x="77" y="87"/>
                    </a:lnTo>
                    <a:lnTo>
                      <a:pt x="67" y="58"/>
                    </a:lnTo>
                    <a:lnTo>
                      <a:pt x="48" y="29"/>
                    </a:lnTo>
                    <a:lnTo>
                      <a:pt x="38" y="0"/>
                    </a:lnTo>
                    <a:lnTo>
                      <a:pt x="0" y="19"/>
                    </a:lnTo>
                    <a:lnTo>
                      <a:pt x="10" y="48"/>
                    </a:lnTo>
                    <a:lnTo>
                      <a:pt x="19" y="77"/>
                    </a:lnTo>
                    <a:lnTo>
                      <a:pt x="29" y="96"/>
                    </a:lnTo>
                    <a:lnTo>
                      <a:pt x="38" y="125"/>
                    </a:lnTo>
                    <a:lnTo>
                      <a:pt x="48" y="154"/>
                    </a:lnTo>
                    <a:lnTo>
                      <a:pt x="48" y="183"/>
                    </a:lnTo>
                    <a:lnTo>
                      <a:pt x="48" y="211"/>
                    </a:lnTo>
                    <a:lnTo>
                      <a:pt x="48" y="250"/>
                    </a:lnTo>
                    <a:lnTo>
                      <a:pt x="9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rot="21021600">
                <a:off x="4676400" y="2625840"/>
                <a:ext cx="16200" cy="9360"/>
              </a:xfrm>
              <a:custGeom>
                <a:avLst/>
                <a:gdLst/>
                <a:ahLst/>
                <a:rect l="l" t="t" r="r" b="b"/>
                <a:pathLst>
                  <a:path w="38" h="19">
                    <a:moveTo>
                      <a:pt x="0" y="0"/>
                    </a:moveTo>
                    <a:lnTo>
                      <a:pt x="0" y="9"/>
                    </a:lnTo>
                    <a:lnTo>
                      <a:pt x="0" y="19"/>
                    </a:lnTo>
                    <a:lnTo>
                      <a:pt x="10" y="19"/>
                    </a:lnTo>
                    <a:lnTo>
                      <a:pt x="19" y="19"/>
                    </a:lnTo>
                    <a:lnTo>
                      <a:pt x="29" y="19"/>
                    </a:lnTo>
                    <a:lnTo>
                      <a:pt x="29" y="19"/>
                    </a:lnTo>
                    <a:lnTo>
                      <a:pt x="38" y="9"/>
                    </a:lnTo>
                    <a:lnTo>
                      <a:pt x="3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 name=""/>
              <p:cNvSpPr/>
              <p:nvPr/>
            </p:nvSpPr>
            <p:spPr>
              <a:xfrm rot="21021600">
                <a:off x="4788720" y="2621520"/>
                <a:ext cx="16560" cy="14040"/>
              </a:xfrm>
              <a:custGeom>
                <a:avLst/>
                <a:gdLst/>
                <a:ahLst/>
                <a:rect l="l" t="t" r="r" b="b"/>
                <a:pathLst>
                  <a:path w="39" h="28">
                    <a:moveTo>
                      <a:pt x="39" y="9"/>
                    </a:moveTo>
                    <a:lnTo>
                      <a:pt x="39" y="0"/>
                    </a:lnTo>
                    <a:lnTo>
                      <a:pt x="29" y="0"/>
                    </a:lnTo>
                    <a:lnTo>
                      <a:pt x="19" y="0"/>
                    </a:lnTo>
                    <a:lnTo>
                      <a:pt x="19" y="0"/>
                    </a:lnTo>
                    <a:lnTo>
                      <a:pt x="10" y="0"/>
                    </a:lnTo>
                    <a:lnTo>
                      <a:pt x="0" y="9"/>
                    </a:lnTo>
                    <a:lnTo>
                      <a:pt x="0" y="19"/>
                    </a:lnTo>
                    <a:lnTo>
                      <a:pt x="0" y="28"/>
                    </a:lnTo>
                    <a:lnTo>
                      <a:pt x="39"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0" name=""/>
              <p:cNvSpPr/>
              <p:nvPr/>
            </p:nvSpPr>
            <p:spPr>
              <a:xfrm rot="21021600">
                <a:off x="4795920" y="2624040"/>
                <a:ext cx="37080" cy="92880"/>
              </a:xfrm>
              <a:custGeom>
                <a:avLst/>
                <a:gdLst/>
                <a:ahLst/>
                <a:rect l="l" t="t" r="r" b="b"/>
                <a:pathLst>
                  <a:path w="86" h="183">
                    <a:moveTo>
                      <a:pt x="86" y="183"/>
                    </a:moveTo>
                    <a:lnTo>
                      <a:pt x="86" y="163"/>
                    </a:lnTo>
                    <a:lnTo>
                      <a:pt x="86" y="135"/>
                    </a:lnTo>
                    <a:lnTo>
                      <a:pt x="77" y="106"/>
                    </a:lnTo>
                    <a:lnTo>
                      <a:pt x="77" y="87"/>
                    </a:lnTo>
                    <a:lnTo>
                      <a:pt x="67" y="67"/>
                    </a:lnTo>
                    <a:lnTo>
                      <a:pt x="58" y="39"/>
                    </a:lnTo>
                    <a:lnTo>
                      <a:pt x="48" y="19"/>
                    </a:lnTo>
                    <a:lnTo>
                      <a:pt x="39" y="0"/>
                    </a:lnTo>
                    <a:lnTo>
                      <a:pt x="0" y="19"/>
                    </a:lnTo>
                    <a:lnTo>
                      <a:pt x="10" y="39"/>
                    </a:lnTo>
                    <a:lnTo>
                      <a:pt x="19" y="58"/>
                    </a:lnTo>
                    <a:lnTo>
                      <a:pt x="29" y="77"/>
                    </a:lnTo>
                    <a:lnTo>
                      <a:pt x="39" y="96"/>
                    </a:lnTo>
                    <a:lnTo>
                      <a:pt x="39" y="115"/>
                    </a:lnTo>
                    <a:lnTo>
                      <a:pt x="39" y="135"/>
                    </a:lnTo>
                    <a:lnTo>
                      <a:pt x="39" y="163"/>
                    </a:lnTo>
                    <a:lnTo>
                      <a:pt x="39" y="183"/>
                    </a:lnTo>
                    <a:lnTo>
                      <a:pt x="86" y="18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441" name=""/>
              <p:cNvSpPr/>
              <p:nvPr/>
            </p:nvSpPr>
            <p:spPr>
              <a:xfrm rot="21021600">
                <a:off x="4790160" y="2630880"/>
                <a:ext cx="20520" cy="9360"/>
              </a:xfrm>
              <a:custGeom>
                <a:avLst/>
                <a:gdLst/>
                <a:ahLst/>
                <a:rect l="l" t="t" r="r" b="b"/>
                <a:pathLst>
                  <a:path w="48" h="19">
                    <a:moveTo>
                      <a:pt x="0" y="0"/>
                    </a:moveTo>
                    <a:lnTo>
                      <a:pt x="0" y="9"/>
                    </a:lnTo>
                    <a:lnTo>
                      <a:pt x="10" y="19"/>
                    </a:lnTo>
                    <a:lnTo>
                      <a:pt x="10" y="19"/>
                    </a:lnTo>
                    <a:lnTo>
                      <a:pt x="19" y="19"/>
                    </a:lnTo>
                    <a:lnTo>
                      <a:pt x="29" y="19"/>
                    </a:lnTo>
                    <a:lnTo>
                      <a:pt x="39" y="19"/>
                    </a:lnTo>
                    <a:lnTo>
                      <a:pt x="39" y="9"/>
                    </a:lnTo>
                    <a:lnTo>
                      <a:pt x="48"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 name=""/>
              <p:cNvSpPr/>
              <p:nvPr/>
            </p:nvSpPr>
            <p:spPr>
              <a:xfrm rot="21021600">
                <a:off x="4890600" y="2723040"/>
                <a:ext cx="16200" cy="19080"/>
              </a:xfrm>
              <a:custGeom>
                <a:avLst/>
                <a:gdLst/>
                <a:ahLst/>
                <a:rect l="l" t="t" r="r" b="b"/>
                <a:pathLst>
                  <a:path w="38" h="38">
                    <a:moveTo>
                      <a:pt x="38" y="10"/>
                    </a:moveTo>
                    <a:lnTo>
                      <a:pt x="28" y="0"/>
                    </a:lnTo>
                    <a:lnTo>
                      <a:pt x="19" y="0"/>
                    </a:lnTo>
                    <a:lnTo>
                      <a:pt x="9" y="0"/>
                    </a:lnTo>
                    <a:lnTo>
                      <a:pt x="9" y="10"/>
                    </a:lnTo>
                    <a:lnTo>
                      <a:pt x="0" y="19"/>
                    </a:lnTo>
                    <a:lnTo>
                      <a:pt x="0" y="19"/>
                    </a:lnTo>
                    <a:lnTo>
                      <a:pt x="0" y="29"/>
                    </a:lnTo>
                    <a:lnTo>
                      <a:pt x="9" y="38"/>
                    </a:lnTo>
                    <a:lnTo>
                      <a:pt x="3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 name=""/>
              <p:cNvSpPr/>
              <p:nvPr/>
            </p:nvSpPr>
            <p:spPr>
              <a:xfrm rot="21021600">
                <a:off x="4904640" y="2724120"/>
                <a:ext cx="45000" cy="136080"/>
              </a:xfrm>
              <a:custGeom>
                <a:avLst/>
                <a:gdLst/>
                <a:ahLst/>
                <a:rect l="l" t="t" r="r" b="b"/>
                <a:pathLst>
                  <a:path w="105" h="268">
                    <a:moveTo>
                      <a:pt x="105" y="268"/>
                    </a:moveTo>
                    <a:lnTo>
                      <a:pt x="105" y="220"/>
                    </a:lnTo>
                    <a:lnTo>
                      <a:pt x="105" y="182"/>
                    </a:lnTo>
                    <a:lnTo>
                      <a:pt x="96" y="144"/>
                    </a:lnTo>
                    <a:lnTo>
                      <a:pt x="86" y="115"/>
                    </a:lnTo>
                    <a:lnTo>
                      <a:pt x="77" y="76"/>
                    </a:lnTo>
                    <a:lnTo>
                      <a:pt x="67" y="48"/>
                    </a:lnTo>
                    <a:lnTo>
                      <a:pt x="48" y="19"/>
                    </a:lnTo>
                    <a:lnTo>
                      <a:pt x="29" y="0"/>
                    </a:lnTo>
                    <a:lnTo>
                      <a:pt x="0" y="28"/>
                    </a:lnTo>
                    <a:lnTo>
                      <a:pt x="10" y="48"/>
                    </a:lnTo>
                    <a:lnTo>
                      <a:pt x="29" y="76"/>
                    </a:lnTo>
                    <a:lnTo>
                      <a:pt x="38" y="96"/>
                    </a:lnTo>
                    <a:lnTo>
                      <a:pt x="48" y="124"/>
                    </a:lnTo>
                    <a:lnTo>
                      <a:pt x="57" y="153"/>
                    </a:lnTo>
                    <a:lnTo>
                      <a:pt x="57" y="192"/>
                    </a:lnTo>
                    <a:lnTo>
                      <a:pt x="57" y="220"/>
                    </a:lnTo>
                    <a:lnTo>
                      <a:pt x="57" y="259"/>
                    </a:lnTo>
                    <a:lnTo>
                      <a:pt x="10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rot="21021600">
                <a:off x="4892040" y="2732400"/>
                <a:ext cx="16200" cy="14760"/>
              </a:xfrm>
              <a:custGeom>
                <a:avLst/>
                <a:gdLst/>
                <a:ahLst/>
                <a:rect l="l" t="t" r="r" b="b"/>
                <a:pathLst>
                  <a:path w="38" h="29">
                    <a:moveTo>
                      <a:pt x="0" y="0"/>
                    </a:moveTo>
                    <a:lnTo>
                      <a:pt x="0" y="10"/>
                    </a:lnTo>
                    <a:lnTo>
                      <a:pt x="0" y="19"/>
                    </a:lnTo>
                    <a:lnTo>
                      <a:pt x="9" y="29"/>
                    </a:lnTo>
                    <a:lnTo>
                      <a:pt x="19" y="29"/>
                    </a:lnTo>
                    <a:lnTo>
                      <a:pt x="28" y="29"/>
                    </a:lnTo>
                    <a:lnTo>
                      <a:pt x="38" y="19"/>
                    </a:lnTo>
                    <a:lnTo>
                      <a:pt x="38" y="19"/>
                    </a:lnTo>
                    <a:lnTo>
                      <a:pt x="38" y="1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445" name=""/>
              <p:cNvSpPr/>
              <p:nvPr/>
            </p:nvSpPr>
            <p:spPr>
              <a:xfrm rot="21021600">
                <a:off x="4771440" y="3080880"/>
                <a:ext cx="8280" cy="24120"/>
              </a:xfrm>
              <a:custGeom>
                <a:avLst/>
                <a:gdLst/>
                <a:ahLst/>
                <a:rect l="l" t="t" r="r" b="b"/>
                <a:pathLst>
                  <a:path w="20" h="48">
                    <a:moveTo>
                      <a:pt x="20" y="0"/>
                    </a:moveTo>
                    <a:lnTo>
                      <a:pt x="0" y="9"/>
                    </a:lnTo>
                    <a:lnTo>
                      <a:pt x="0" y="29"/>
                    </a:lnTo>
                    <a:lnTo>
                      <a:pt x="0" y="38"/>
                    </a:lnTo>
                    <a:lnTo>
                      <a:pt x="20" y="48"/>
                    </a:lnTo>
                    <a:lnTo>
                      <a:pt x="2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46" name=""/>
              <p:cNvSpPr/>
              <p:nvPr/>
            </p:nvSpPr>
            <p:spPr>
              <a:xfrm rot="21021600">
                <a:off x="4777560" y="3050280"/>
                <a:ext cx="65880" cy="48600"/>
              </a:xfrm>
              <a:custGeom>
                <a:avLst/>
                <a:gdLst/>
                <a:ahLst/>
                <a:rect l="l" t="t" r="r" b="b"/>
                <a:pathLst>
                  <a:path w="153" h="96">
                    <a:moveTo>
                      <a:pt x="124" y="0"/>
                    </a:moveTo>
                    <a:lnTo>
                      <a:pt x="105" y="19"/>
                    </a:lnTo>
                    <a:lnTo>
                      <a:pt x="95" y="29"/>
                    </a:lnTo>
                    <a:lnTo>
                      <a:pt x="76" y="38"/>
                    </a:lnTo>
                    <a:lnTo>
                      <a:pt x="66" y="38"/>
                    </a:lnTo>
                    <a:lnTo>
                      <a:pt x="47" y="48"/>
                    </a:lnTo>
                    <a:lnTo>
                      <a:pt x="38" y="48"/>
                    </a:lnTo>
                    <a:lnTo>
                      <a:pt x="19" y="48"/>
                    </a:lnTo>
                    <a:lnTo>
                      <a:pt x="0" y="48"/>
                    </a:lnTo>
                    <a:lnTo>
                      <a:pt x="0" y="96"/>
                    </a:lnTo>
                    <a:lnTo>
                      <a:pt x="19" y="96"/>
                    </a:lnTo>
                    <a:lnTo>
                      <a:pt x="47" y="96"/>
                    </a:lnTo>
                    <a:lnTo>
                      <a:pt x="66" y="86"/>
                    </a:lnTo>
                    <a:lnTo>
                      <a:pt x="86" y="86"/>
                    </a:lnTo>
                    <a:lnTo>
                      <a:pt x="105" y="77"/>
                    </a:lnTo>
                    <a:lnTo>
                      <a:pt x="114" y="57"/>
                    </a:lnTo>
                    <a:lnTo>
                      <a:pt x="133" y="48"/>
                    </a:lnTo>
                    <a:lnTo>
                      <a:pt x="153" y="38"/>
                    </a:lnTo>
                    <a:lnTo>
                      <a:pt x="12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447" name=""/>
              <p:cNvSpPr/>
              <p:nvPr/>
            </p:nvSpPr>
            <p:spPr>
              <a:xfrm rot="21021600">
                <a:off x="4775400" y="3079800"/>
                <a:ext cx="12240" cy="19080"/>
              </a:xfrm>
              <a:custGeom>
                <a:avLst/>
                <a:gdLst/>
                <a:ahLst/>
                <a:rect l="l" t="t" r="r" b="b"/>
                <a:pathLst>
                  <a:path w="29" h="38">
                    <a:moveTo>
                      <a:pt x="29" y="38"/>
                    </a:moveTo>
                    <a:lnTo>
                      <a:pt x="29" y="38"/>
                    </a:lnTo>
                    <a:lnTo>
                      <a:pt x="29" y="29"/>
                    </a:lnTo>
                    <a:lnTo>
                      <a:pt x="29" y="19"/>
                    </a:lnTo>
                    <a:lnTo>
                      <a:pt x="29" y="9"/>
                    </a:lnTo>
                    <a:lnTo>
                      <a:pt x="19" y="9"/>
                    </a:lnTo>
                    <a:lnTo>
                      <a:pt x="10" y="0"/>
                    </a:lnTo>
                    <a:lnTo>
                      <a:pt x="0" y="9"/>
                    </a:lnTo>
                    <a:lnTo>
                      <a:pt x="0" y="9"/>
                    </a:lnTo>
                    <a:lnTo>
                      <a:pt x="29"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448" name=""/>
            <p:cNvSpPr txBox="1"/>
            <p:nvPr/>
          </p:nvSpPr>
          <p:spPr>
            <a:xfrm>
              <a:off x="3200400" y="2362320"/>
              <a:ext cx="2521080" cy="20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rPr>
                <a:t>ÇOKLU </a:t>
              </a:r>
              <a:endPar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rPr>
                <a:t>ZEKA </a:t>
              </a:r>
              <a:endPar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rPr>
                <a:t>KURAMI</a:t>
              </a:r>
              <a:endParaRPr b="0" lang="en-US" sz="2400" spc="1" strike="noStrike">
                <a:ln w="9360">
                  <a:solidFill>
                    <a:srgbClr val="ffffff"/>
                  </a:solidFill>
                  <a:miter/>
                </a:ln>
                <a:solidFill>
                  <a:srgbClr val="ff3399"/>
                </a:solidFill>
                <a:effectLst>
                  <a:outerShdw dist="40186" dir="1096358" blurRad="0" rotWithShape="0">
                    <a:srgbClr val="c0c0c0"/>
                  </a:outerShdw>
                </a:effectLst>
                <a:latin typeface="Times New Roman"/>
                <a:ea typeface="Times New Roman"/>
              </a:endParaRPr>
            </a:p>
          </p:txBody>
        </p:sp>
        <p:sp>
          <p:nvSpPr>
            <p:cNvPr id="449" name=""/>
            <p:cNvSpPr txBox="1"/>
            <p:nvPr/>
          </p:nvSpPr>
          <p:spPr>
            <a:xfrm>
              <a:off x="1905120" y="304920"/>
              <a:ext cx="2342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17819" dir="2700000" blurRad="0" rotWithShape="0">
                      <a:srgbClr val="c0c0c0"/>
                    </a:outerShdw>
                  </a:effectLst>
                  <a:latin typeface="Comic Sans MS"/>
                </a:rPr>
                <a:t>SÖZEL DİLSEL </a:t>
              </a:r>
              <a:endParaRPr b="0" lang="en-US" sz="2400" spc="1" strike="noStrike">
                <a:ln w="0">
                  <a:noFill/>
                </a:ln>
                <a:solidFill>
                  <a:srgbClr val="ffff00"/>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17819" dir="2700000" blurRad="0" rotWithShape="0">
                      <a:srgbClr val="c0c0c0"/>
                    </a:outerShdw>
                  </a:effectLst>
                  <a:latin typeface="Comic Sans MS"/>
                </a:rPr>
                <a:t>ZEKA</a:t>
              </a:r>
              <a:endParaRPr b="0" lang="en-US" sz="2400" spc="1" strike="noStrike">
                <a:ln w="0">
                  <a:noFill/>
                </a:ln>
                <a:solidFill>
                  <a:srgbClr val="ffff00"/>
                </a:solidFill>
                <a:effectLst>
                  <a:outerShdw dist="17819" dir="2700000" blurRad="0" rotWithShape="0">
                    <a:srgbClr val="c0c0c0"/>
                  </a:outerShdw>
                </a:effectLst>
                <a:latin typeface="Comic Sans MS"/>
                <a:ea typeface="Comic Sans MS"/>
              </a:endParaRPr>
            </a:p>
          </p:txBody>
        </p:sp>
        <p:sp>
          <p:nvSpPr>
            <p:cNvPr id="450" name=""/>
            <p:cNvSpPr txBox="1"/>
            <p:nvPr/>
          </p:nvSpPr>
          <p:spPr>
            <a:xfrm>
              <a:off x="228600" y="1523880"/>
              <a:ext cx="2343240" cy="1371600"/>
            </a:xfrm>
            <a:prstGeom prst="rect">
              <a:avLst/>
            </a:prstGeom>
          </p:spPr>
          <p:txBody>
            <a:bodyPr wrap="none" lIns="90000" rIns="90000" tIns="46800" bIns="46800" anchor="t" anchorCtr="1">
              <a:prstTxWarp prst="textDeflate">
                <a:avLst>
                  <a:gd name="adj" fmla="val 10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3399"/>
                  </a:solidFill>
                  <a:latin typeface="Impact"/>
                </a:rPr>
                <a:t>MANTIKSAL</a:t>
              </a:r>
              <a:endParaRPr b="0" lang="en-US" sz="2400" spc="1" strike="noStrike">
                <a:ln cap="sq" w="9360">
                  <a:solidFill>
                    <a:srgbClr val="000000"/>
                  </a:solidFill>
                  <a:miter/>
                </a:ln>
                <a:solidFill>
                  <a:srgbClr val="ff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3399"/>
                  </a:solidFill>
                  <a:latin typeface="Impact"/>
                </a:rPr>
                <a:t>MATEMATİKSEL </a:t>
              </a:r>
              <a:endParaRPr b="0" lang="en-US" sz="2400" spc="1" strike="noStrike">
                <a:ln cap="sq" w="9360">
                  <a:solidFill>
                    <a:srgbClr val="000000"/>
                  </a:solidFill>
                  <a:miter/>
                </a:ln>
                <a:solidFill>
                  <a:srgbClr val="ff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ff3399"/>
                  </a:solidFill>
                  <a:latin typeface="Impact"/>
                </a:rPr>
                <a:t>ZEKA</a:t>
              </a:r>
              <a:endParaRPr b="0" lang="en-US" sz="2400" spc="1" strike="noStrike">
                <a:ln cap="sq" w="9360">
                  <a:solidFill>
                    <a:srgbClr val="000000"/>
                  </a:solidFill>
                  <a:miter/>
                </a:ln>
                <a:solidFill>
                  <a:srgbClr val="ff3399"/>
                </a:solidFill>
                <a:latin typeface="Impact"/>
                <a:ea typeface="Impact"/>
              </a:endParaRPr>
            </a:p>
          </p:txBody>
        </p:sp>
        <p:sp>
          <p:nvSpPr>
            <p:cNvPr id="451" name=""/>
            <p:cNvSpPr txBox="1"/>
            <p:nvPr/>
          </p:nvSpPr>
          <p:spPr>
            <a:xfrm>
              <a:off x="533520" y="4038480"/>
              <a:ext cx="2342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ÖRSEL </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ZAMSAL </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ZEKA</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52" name=""/>
            <p:cNvSpPr txBox="1"/>
            <p:nvPr/>
          </p:nvSpPr>
          <p:spPr>
            <a:xfrm>
              <a:off x="5181480" y="380880"/>
              <a:ext cx="234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ccffcc"/>
                    </a:solidFill>
                    <a:miter/>
                  </a:ln>
                  <a:solidFill>
                    <a:srgbClr val="ff3399"/>
                  </a:solidFill>
                  <a:effectLst>
                    <a:outerShdw dist="17819" dir="2700000" blurRad="0" rotWithShape="0">
                      <a:srgbClr val="c0c0c0"/>
                    </a:outerShdw>
                  </a:effectLst>
                  <a:latin typeface="Comic Sans MS"/>
                </a:rPr>
                <a:t>KİŞİLERARASI </a:t>
              </a:r>
              <a:endParaRPr b="0" lang="en-US" sz="2400" spc="1" strike="noStrike">
                <a:ln cap="sq" w="19080">
                  <a:solidFill>
                    <a:srgbClr val="ccffcc"/>
                  </a:solidFill>
                  <a:miter/>
                </a:ln>
                <a:solidFill>
                  <a:srgbClr val="ff3399"/>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ccffcc"/>
                    </a:solidFill>
                    <a:miter/>
                  </a:ln>
                  <a:solidFill>
                    <a:srgbClr val="ff3399"/>
                  </a:solidFill>
                  <a:effectLst>
                    <a:outerShdw dist="17819" dir="2700000" blurRad="0" rotWithShape="0">
                      <a:srgbClr val="c0c0c0"/>
                    </a:outerShdw>
                  </a:effectLst>
                  <a:latin typeface="Comic Sans MS"/>
                </a:rPr>
                <a:t>ZEKA</a:t>
              </a:r>
              <a:endParaRPr b="0" lang="en-US" sz="2400" spc="1" strike="noStrike">
                <a:ln cap="sq" w="19080">
                  <a:solidFill>
                    <a:srgbClr val="ccffcc"/>
                  </a:solidFill>
                  <a:miter/>
                </a:ln>
                <a:solidFill>
                  <a:srgbClr val="ff3399"/>
                </a:solidFill>
                <a:effectLst>
                  <a:outerShdw dist="17819" dir="2700000" blurRad="0" rotWithShape="0">
                    <a:srgbClr val="c0c0c0"/>
                  </a:outerShdw>
                </a:effectLst>
                <a:latin typeface="Comic Sans MS"/>
                <a:ea typeface="Comic Sans MS"/>
              </a:endParaRPr>
            </a:p>
          </p:txBody>
        </p:sp>
        <p:sp>
          <p:nvSpPr>
            <p:cNvPr id="453" name=""/>
            <p:cNvSpPr txBox="1"/>
            <p:nvPr/>
          </p:nvSpPr>
          <p:spPr>
            <a:xfrm>
              <a:off x="6553080" y="3886200"/>
              <a:ext cx="234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c0000"/>
                  </a:solidFill>
                  <a:effectLst>
                    <a:outerShdw dist="17819" dir="2700000" blurRad="0" rotWithShape="0">
                      <a:srgbClr val="c0c0c0"/>
                    </a:outerShdw>
                  </a:effectLst>
                  <a:latin typeface="Comic Sans MS"/>
                </a:rPr>
                <a:t>BEDENSEL </a:t>
              </a:r>
              <a:endParaRPr b="0" lang="en-US" sz="2400" spc="1" strike="noStrike">
                <a:ln w="0">
                  <a:noFill/>
                </a:ln>
                <a:solidFill>
                  <a:srgbClr val="cc0000"/>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c0000"/>
                  </a:solidFill>
                  <a:effectLst>
                    <a:outerShdw dist="17819" dir="2700000" blurRad="0" rotWithShape="0">
                      <a:srgbClr val="c0c0c0"/>
                    </a:outerShdw>
                  </a:effectLst>
                  <a:latin typeface="Comic Sans MS"/>
                </a:rPr>
                <a:t>KİNESTETİK</a:t>
              </a:r>
              <a:endParaRPr b="0" lang="en-US" sz="2400" spc="1" strike="noStrike">
                <a:ln w="0">
                  <a:noFill/>
                </a:ln>
                <a:solidFill>
                  <a:srgbClr val="cc0000"/>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c0000"/>
                  </a:solidFill>
                  <a:effectLst>
                    <a:outerShdw dist="17819" dir="2700000" blurRad="0" rotWithShape="0">
                      <a:srgbClr val="c0c0c0"/>
                    </a:outerShdw>
                  </a:effectLst>
                  <a:latin typeface="Comic Sans MS"/>
                </a:rPr>
                <a:t>ZEKA</a:t>
              </a:r>
              <a:endParaRPr b="0" lang="en-US" sz="2400" spc="1" strike="noStrike">
                <a:ln w="0">
                  <a:noFill/>
                </a:ln>
                <a:solidFill>
                  <a:srgbClr val="cc0000"/>
                </a:solidFill>
                <a:effectLst>
                  <a:outerShdw dist="17819" dir="2700000" blurRad="0" rotWithShape="0">
                    <a:srgbClr val="c0c0c0"/>
                  </a:outerShdw>
                </a:effectLst>
                <a:latin typeface="Comic Sans MS"/>
                <a:ea typeface="Comic Sans MS"/>
              </a:endParaRPr>
            </a:p>
          </p:txBody>
        </p:sp>
        <p:sp>
          <p:nvSpPr>
            <p:cNvPr id="454" name=""/>
            <p:cNvSpPr txBox="1"/>
            <p:nvPr/>
          </p:nvSpPr>
          <p:spPr>
            <a:xfrm>
              <a:off x="5486400" y="5257800"/>
              <a:ext cx="2590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rPr>
                <a:t>MÜZİKSEL </a:t>
              </a:r>
              <a:endPar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rPr>
                <a:t>RİTMİK </a:t>
              </a:r>
              <a:endPar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rPr>
                <a:t>ZEKA</a:t>
              </a:r>
              <a:endParaRPr b="0" lang="en-US" sz="2400" spc="1" strike="noStrike">
                <a:ln cap="sq" w="9360">
                  <a:solidFill>
                    <a:srgbClr val="ff3399"/>
                  </a:solidFill>
                  <a:miter/>
                </a:ln>
                <a:solidFill>
                  <a:srgbClr val="ffff00"/>
                </a:solidFill>
                <a:effectLst>
                  <a:outerShdw dist="17819" dir="2700000" blurRad="0" rotWithShape="0">
                    <a:srgbClr val="c0c0c0"/>
                  </a:outerShdw>
                </a:effectLst>
                <a:latin typeface="Comic Sans MS"/>
                <a:ea typeface="Comic Sans MS"/>
              </a:endParaRPr>
            </a:p>
          </p:txBody>
        </p:sp>
        <p:sp>
          <p:nvSpPr>
            <p:cNvPr id="455" name=""/>
            <p:cNvSpPr txBox="1"/>
            <p:nvPr/>
          </p:nvSpPr>
          <p:spPr>
            <a:xfrm>
              <a:off x="6553080" y="1981080"/>
              <a:ext cx="2266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ff99"/>
                  </a:solidFill>
                  <a:effectLst>
                    <a:outerShdw dist="17819" dir="2700000" blurRad="0" rotWithShape="0">
                      <a:srgbClr val="c0c0c0"/>
                    </a:outerShdw>
                  </a:effectLst>
                  <a:latin typeface="Comic Sans MS"/>
                </a:rPr>
                <a:t>İÇSEL </a:t>
              </a:r>
              <a:endParaRPr b="0" lang="en-US" sz="2400" spc="1" strike="noStrike">
                <a:ln w="0">
                  <a:noFill/>
                </a:ln>
                <a:solidFill>
                  <a:srgbClr val="00ff99"/>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ff99"/>
                  </a:solidFill>
                  <a:effectLst>
                    <a:outerShdw dist="17819" dir="2700000" blurRad="0" rotWithShape="0">
                      <a:srgbClr val="c0c0c0"/>
                    </a:outerShdw>
                  </a:effectLst>
                  <a:latin typeface="Comic Sans MS"/>
                </a:rPr>
                <a:t>ZEKA</a:t>
              </a:r>
              <a:endParaRPr b="0" lang="en-US" sz="2400" spc="1" strike="noStrike">
                <a:ln w="0">
                  <a:noFill/>
                </a:ln>
                <a:solidFill>
                  <a:srgbClr val="00ff99"/>
                </a:solidFill>
                <a:effectLst>
                  <a:outerShdw dist="17819" dir="2700000" blurRad="0" rotWithShape="0">
                    <a:srgbClr val="c0c0c0"/>
                  </a:outerShdw>
                </a:effectLst>
                <a:latin typeface="Comic Sans MS"/>
                <a:ea typeface="Comic Sans MS"/>
              </a:endParaRPr>
            </a:p>
          </p:txBody>
        </p:sp>
        <p:sp>
          <p:nvSpPr>
            <p:cNvPr id="456" name=""/>
            <p:cNvSpPr txBox="1"/>
            <p:nvPr/>
          </p:nvSpPr>
          <p:spPr>
            <a:xfrm>
              <a:off x="2362320" y="5562720"/>
              <a:ext cx="2114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ff00"/>
                    </a:solidFill>
                    <a:miter/>
                  </a:ln>
                  <a:solidFill>
                    <a:srgbClr val="00cc99"/>
                  </a:solidFill>
                  <a:effectLst>
                    <a:outerShdw dist="17819" dir="2700000" blurRad="0" rotWithShape="0">
                      <a:srgbClr val="c0c0c0"/>
                    </a:outerShdw>
                  </a:effectLst>
                  <a:latin typeface="Comic Sans MS"/>
                </a:rPr>
                <a:t>DOĞA </a:t>
              </a:r>
              <a:endParaRPr b="0" lang="en-US" sz="2400" spc="1" strike="noStrike">
                <a:ln cap="sq" w="9360">
                  <a:solidFill>
                    <a:srgbClr val="ffff00"/>
                  </a:solidFill>
                  <a:miter/>
                </a:ln>
                <a:solidFill>
                  <a:srgbClr val="00cc99"/>
                </a:solid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ffff00"/>
                    </a:solidFill>
                    <a:miter/>
                  </a:ln>
                  <a:solidFill>
                    <a:srgbClr val="00cc99"/>
                  </a:solidFill>
                  <a:effectLst>
                    <a:outerShdw dist="17819" dir="2700000" blurRad="0" rotWithShape="0">
                      <a:srgbClr val="c0c0c0"/>
                    </a:outerShdw>
                  </a:effectLst>
                  <a:latin typeface="Comic Sans MS"/>
                </a:rPr>
                <a:t>ZEKA</a:t>
              </a:r>
              <a:endParaRPr b="0" lang="en-US" sz="2400" spc="1" strike="noStrike">
                <a:ln cap="sq" w="9360">
                  <a:solidFill>
                    <a:srgbClr val="ffff00"/>
                  </a:solidFill>
                  <a:miter/>
                </a:ln>
                <a:solidFill>
                  <a:srgbClr val="00cc99"/>
                </a:solidFill>
                <a:effectLst>
                  <a:outerShdw dist="17819" dir="2700000" blurRad="0" rotWithShape="0">
                    <a:srgbClr val="c0c0c0"/>
                  </a:outerShdw>
                </a:effectLst>
                <a:latin typeface="Comic Sans MS"/>
                <a:ea typeface="Comic Sans MS"/>
              </a:endParaRPr>
            </a:p>
          </p:txBody>
        </p:sp>
        <p:sp>
          <p:nvSpPr>
            <p:cNvPr id="457" name=""/>
            <p:cNvSpPr/>
            <p:nvPr/>
          </p:nvSpPr>
          <p:spPr>
            <a:xfrm>
              <a:off x="3657600" y="1371600"/>
              <a:ext cx="692280" cy="847800"/>
            </a:xfrm>
            <a:custGeom>
              <a:avLst/>
              <a:gdLst/>
              <a:ahLst/>
              <a:rect l="l" t="t" r="r" b="b"/>
              <a:pathLst>
                <a:path w="1090" h="1334">
                  <a:moveTo>
                    <a:pt x="0" y="0"/>
                  </a:moveTo>
                  <a:lnTo>
                    <a:pt x="1090" y="796"/>
                  </a:lnTo>
                  <a:lnTo>
                    <a:pt x="555" y="873"/>
                  </a:lnTo>
                  <a:lnTo>
                    <a:pt x="1023" y="1334"/>
                  </a:lnTo>
                  <a:lnTo>
                    <a:pt x="77" y="729"/>
                  </a:lnTo>
                  <a:lnTo>
                    <a:pt x="698" y="69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2362320" y="2514600"/>
              <a:ext cx="984240" cy="414360"/>
            </a:xfrm>
            <a:custGeom>
              <a:avLst/>
              <a:gdLst/>
              <a:ahLst/>
              <a:rect l="l" t="t" r="r" b="b"/>
              <a:pathLst>
                <a:path w="1549" h="653">
                  <a:moveTo>
                    <a:pt x="0" y="0"/>
                  </a:moveTo>
                  <a:lnTo>
                    <a:pt x="1348" y="154"/>
                  </a:lnTo>
                  <a:lnTo>
                    <a:pt x="908" y="480"/>
                  </a:lnTo>
                  <a:lnTo>
                    <a:pt x="1549" y="653"/>
                  </a:lnTo>
                  <a:lnTo>
                    <a:pt x="430" y="595"/>
                  </a:lnTo>
                  <a:lnTo>
                    <a:pt x="956" y="259"/>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057400" y="3505320"/>
              <a:ext cx="1031760" cy="579240"/>
            </a:xfrm>
            <a:custGeom>
              <a:avLst/>
              <a:gdLst/>
              <a:ahLst/>
              <a:rect l="l" t="t" r="r" b="b"/>
              <a:pathLst>
                <a:path w="1625" h="912">
                  <a:moveTo>
                    <a:pt x="0" y="701"/>
                  </a:moveTo>
                  <a:lnTo>
                    <a:pt x="1166" y="0"/>
                  </a:lnTo>
                  <a:lnTo>
                    <a:pt x="1023" y="528"/>
                  </a:lnTo>
                  <a:lnTo>
                    <a:pt x="1625" y="269"/>
                  </a:lnTo>
                  <a:lnTo>
                    <a:pt x="707" y="912"/>
                  </a:lnTo>
                  <a:lnTo>
                    <a:pt x="918" y="326"/>
                  </a:lnTo>
                  <a:lnTo>
                    <a:pt x="0" y="70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800600" y="1600200"/>
              <a:ext cx="868320" cy="622440"/>
            </a:xfrm>
            <a:custGeom>
              <a:avLst/>
              <a:gdLst/>
              <a:ahLst/>
              <a:rect l="l" t="t" r="r" b="b"/>
              <a:pathLst>
                <a:path w="1367" h="979">
                  <a:moveTo>
                    <a:pt x="1367" y="0"/>
                  </a:moveTo>
                  <a:lnTo>
                    <a:pt x="86" y="441"/>
                  </a:lnTo>
                  <a:lnTo>
                    <a:pt x="583" y="672"/>
                  </a:lnTo>
                  <a:lnTo>
                    <a:pt x="0" y="979"/>
                  </a:lnTo>
                  <a:lnTo>
                    <a:pt x="1080" y="672"/>
                  </a:lnTo>
                  <a:lnTo>
                    <a:pt x="497" y="461"/>
                  </a:lnTo>
                  <a:lnTo>
                    <a:pt x="13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410080" y="2666880"/>
              <a:ext cx="1062000" cy="433440"/>
            </a:xfrm>
            <a:custGeom>
              <a:avLst/>
              <a:gdLst/>
              <a:ahLst/>
              <a:rect l="l" t="t" r="r" b="b"/>
              <a:pathLst>
                <a:path w="1673" h="682">
                  <a:moveTo>
                    <a:pt x="1673" y="240"/>
                  </a:moveTo>
                  <a:lnTo>
                    <a:pt x="344" y="0"/>
                  </a:lnTo>
                  <a:lnTo>
                    <a:pt x="660" y="442"/>
                  </a:lnTo>
                  <a:lnTo>
                    <a:pt x="0" y="422"/>
                  </a:lnTo>
                  <a:lnTo>
                    <a:pt x="1090" y="682"/>
                  </a:lnTo>
                  <a:lnTo>
                    <a:pt x="688" y="211"/>
                  </a:lnTo>
                  <a:lnTo>
                    <a:pt x="1673" y="2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638680" y="3657600"/>
              <a:ext cx="1003320" cy="603360"/>
            </a:xfrm>
            <a:custGeom>
              <a:avLst/>
              <a:gdLst/>
              <a:ahLst/>
              <a:rect l="l" t="t" r="r" b="b"/>
              <a:pathLst>
                <a:path w="1578" h="951">
                  <a:moveTo>
                    <a:pt x="1578" y="816"/>
                  </a:moveTo>
                  <a:lnTo>
                    <a:pt x="497" y="0"/>
                  </a:lnTo>
                  <a:lnTo>
                    <a:pt x="583" y="547"/>
                  </a:lnTo>
                  <a:lnTo>
                    <a:pt x="0" y="221"/>
                  </a:lnTo>
                  <a:lnTo>
                    <a:pt x="851" y="951"/>
                  </a:lnTo>
                  <a:lnTo>
                    <a:pt x="708" y="346"/>
                  </a:lnTo>
                  <a:lnTo>
                    <a:pt x="1578" y="81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029200" y="4648320"/>
              <a:ext cx="612720" cy="877680"/>
            </a:xfrm>
            <a:custGeom>
              <a:avLst/>
              <a:gdLst/>
              <a:ahLst/>
              <a:rect l="l" t="t" r="r" b="b"/>
              <a:pathLst>
                <a:path w="966" h="1382">
                  <a:moveTo>
                    <a:pt x="966" y="1382"/>
                  </a:moveTo>
                  <a:lnTo>
                    <a:pt x="526" y="96"/>
                  </a:lnTo>
                  <a:lnTo>
                    <a:pt x="296" y="595"/>
                  </a:lnTo>
                  <a:lnTo>
                    <a:pt x="0" y="0"/>
                  </a:lnTo>
                  <a:lnTo>
                    <a:pt x="296" y="1084"/>
                  </a:lnTo>
                  <a:lnTo>
                    <a:pt x="507" y="499"/>
                  </a:lnTo>
                  <a:lnTo>
                    <a:pt x="966" y="13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3352680" y="4495680"/>
              <a:ext cx="614520" cy="876600"/>
            </a:xfrm>
            <a:custGeom>
              <a:avLst/>
              <a:gdLst/>
              <a:ahLst/>
              <a:rect l="l" t="t" r="r" b="b"/>
              <a:pathLst>
                <a:path w="966" h="1382">
                  <a:moveTo>
                    <a:pt x="0" y="1382"/>
                  </a:moveTo>
                  <a:lnTo>
                    <a:pt x="440" y="96"/>
                  </a:lnTo>
                  <a:lnTo>
                    <a:pt x="670" y="586"/>
                  </a:lnTo>
                  <a:lnTo>
                    <a:pt x="966" y="0"/>
                  </a:lnTo>
                  <a:lnTo>
                    <a:pt x="670" y="1085"/>
                  </a:lnTo>
                  <a:lnTo>
                    <a:pt x="459" y="499"/>
                  </a:lnTo>
                  <a:lnTo>
                    <a:pt x="0" y="13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p:nvPr/>
        </p:nvSpPr>
        <p:spPr>
          <a:xfrm>
            <a:off x="971640" y="2852640"/>
            <a:ext cx="7200720" cy="581400"/>
          </a:xfrm>
          <a:prstGeom prst="rect">
            <a:avLst/>
          </a:prstGeom>
          <a:solidFill>
            <a:srgbClr val="00cc99"/>
          </a:solid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4"/>
                </a:solidFill>
                <a:latin typeface="Arial"/>
              </a:rPr>
              <a:t>Beynin iki yarısı</a:t>
            </a:r>
            <a:r>
              <a:rPr b="0" lang="en-US" sz="2400" spc="-1" strike="noStrike">
                <a:solidFill>
                  <a:srgbClr val="b7e7ff"/>
                </a:solidFill>
                <a:latin typeface="Bulmer BT"/>
              </a:rPr>
              <a:t> </a:t>
            </a:r>
            <a:endParaRPr b="0" lang="en-US" sz="2400" spc="-1" strike="noStrike">
              <a:solidFill>
                <a:srgbClr val="ffffff"/>
              </a:solidFill>
              <a:latin typeface="Times New Roman"/>
            </a:endParaRPr>
          </a:p>
        </p:txBody>
      </p:sp>
      <p:sp>
        <p:nvSpPr>
          <p:cNvPr id="466" name=""/>
          <p:cNvSpPr/>
          <p:nvPr/>
        </p:nvSpPr>
        <p:spPr>
          <a:xfrm>
            <a:off x="1042920" y="1628640"/>
            <a:ext cx="7777080" cy="106884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00a4"/>
                </a:solidFill>
                <a:latin typeface="Times New Roman"/>
              </a:rPr>
              <a:t>Beynin hangi kısmı hangi tür zihinsel etkinlikleri yönetmektedir?</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7" name=""/>
          <p:cNvSpPr/>
          <p:nvPr/>
        </p:nvSpPr>
        <p:spPr>
          <a:xfrm flipH="1">
            <a:off x="4858560" y="3573360"/>
            <a:ext cx="3313080" cy="3020040"/>
          </a:xfrm>
          <a:prstGeom prst="rect">
            <a:avLst/>
          </a:prstGeom>
          <a:solidFill>
            <a:srgbClr val="ee941c"/>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Hayal gücü</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Ren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Müzi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Ahen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El Becerile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ve benzerle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250920" y="476280"/>
            <a:ext cx="864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  </a:t>
            </a:r>
            <a:r>
              <a:rPr b="1" lang="en-US" sz="4800" spc="-1" strike="noStrike">
                <a:solidFill>
                  <a:srgbClr val="ff3300"/>
                </a:solidFill>
                <a:latin typeface="Arial"/>
              </a:rPr>
              <a:t>BEYNİMİZ VE ÖĞRENME</a:t>
            </a:r>
            <a:endParaRPr b="0" lang="en-US" sz="4800" spc="-1" strike="noStrike">
              <a:solidFill>
                <a:srgbClr val="ffffff"/>
              </a:solidFill>
              <a:latin typeface="Times New Roman"/>
            </a:endParaRPr>
          </a:p>
        </p:txBody>
      </p:sp>
      <p:sp>
        <p:nvSpPr>
          <p:cNvPr id="469" name=""/>
          <p:cNvSpPr/>
          <p:nvPr/>
        </p:nvSpPr>
        <p:spPr>
          <a:xfrm flipH="1">
            <a:off x="970920" y="3573360"/>
            <a:ext cx="3327480" cy="3020040"/>
          </a:xfrm>
          <a:prstGeom prst="rect">
            <a:avLst/>
          </a:prstGeom>
          <a:solidFill>
            <a:srgbClr val="ff9966"/>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Matemati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D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Mantı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Anali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Yazmak</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4"/>
                </a:solidFill>
                <a:latin typeface="Times New Roman"/>
              </a:rPr>
              <a:t>ve benzerle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4" presetSubtype="32">
                                  <p:stCondLst>
                                    <p:cond delay="0"/>
                                  </p:stCondLst>
                                  <p:childTnLst>
                                    <p:set>
                                      <p:cBhvr>
                                        <p:cTn id="519" dur="1" fill="hold">
                                          <p:stCondLst>
                                            <p:cond delay="0"/>
                                          </p:stCondLst>
                                        </p:cTn>
                                        <p:tgtEl>
                                          <p:spTgt spid="468"/>
                                        </p:tgtEl>
                                        <p:attrNameLst>
                                          <p:attrName>style.visibility</p:attrName>
                                        </p:attrNameLst>
                                      </p:cBhvr>
                                      <p:to>
                                        <p:strVal val="visible"/>
                                      </p:to>
                                    </p:set>
                                    <p:animEffect filter="box(out)" transition="in">
                                      <p:cBhvr additive="repl">
                                        <p:cTn id="520" dur="500"/>
                                        <p:tgtEl>
                                          <p:spTgt spid="46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466"/>
                                        </p:tgtEl>
                                        <p:attrNameLst>
                                          <p:attrName>style.visibility</p:attrName>
                                        </p:attrNameLst>
                                      </p:cBhvr>
                                      <p:to>
                                        <p:strVal val="visible"/>
                                      </p:to>
                                    </p:set>
                                    <p:animEffect filter="randombar(horizontal)" transition="in">
                                      <p:cBhvr additive="repl">
                                        <p:cTn id="525" dur="500"/>
                                        <p:tgtEl>
                                          <p:spTgt spid="46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465"/>
                                        </p:tgtEl>
                                        <p:attrNameLst>
                                          <p:attrName>style.visibility</p:attrName>
                                        </p:attrNameLst>
                                      </p:cBhvr>
                                      <p:to>
                                        <p:strVal val="visible"/>
                                      </p:to>
                                    </p:set>
                                    <p:animEffect filter="box(out)" transition="in">
                                      <p:cBhvr additive="repl">
                                        <p:cTn id="530" dur="500"/>
                                        <p:tgtEl>
                                          <p:spTgt spid="465"/>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467"/>
                                        </p:tgtEl>
                                        <p:attrNameLst>
                                          <p:attrName>style.visibility</p:attrName>
                                        </p:attrNameLst>
                                      </p:cBhvr>
                                      <p:to>
                                        <p:strVal val="visible"/>
                                      </p:to>
                                    </p:set>
                                    <p:animEffect filter="box(in)" transition="in">
                                      <p:cBhvr additive="repl">
                                        <p:cTn id="535" dur="500"/>
                                        <p:tgtEl>
                                          <p:spTgt spid="46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469"/>
                                        </p:tgtEl>
                                        <p:attrNameLst>
                                          <p:attrName>style.visibility</p:attrName>
                                        </p:attrNameLst>
                                      </p:cBhvr>
                                      <p:to>
                                        <p:strVal val="visible"/>
                                      </p:to>
                                    </p:set>
                                    <p:animEffect filter="box(in)" transition="in">
                                      <p:cBhvr additive="repl">
                                        <p:cTn id="540"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1187280" y="1905120"/>
            <a:ext cx="7194600" cy="46479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589120" y="2347920"/>
            <a:ext cx="4227480" cy="3836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702320" y="2344680"/>
            <a:ext cx="0" cy="3832200"/>
          </a:xfrm>
          <a:prstGeom prst="line">
            <a:avLst/>
          </a:prstGeom>
          <a:ln w="12600">
            <a:solidFill>
              <a:srgbClr val="ee941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573280" y="4260960"/>
            <a:ext cx="4291200" cy="0"/>
          </a:xfrm>
          <a:prstGeom prst="line">
            <a:avLst/>
          </a:prstGeom>
          <a:ln w="1260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781360" y="2649600"/>
            <a:ext cx="1825560" cy="1995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 </a:t>
            </a:r>
            <a:r>
              <a:rPr b="0" lang="en-US" sz="2000" spc="-1" strike="noStrike">
                <a:solidFill>
                  <a:srgbClr val="3333cc"/>
                </a:solidFill>
                <a:latin typeface="Tahoma"/>
              </a:rPr>
              <a:t>Teknik</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ntıksal Eleştirel </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nalitik</a:t>
            </a:r>
            <a:endParaRPr b="0" lang="en-US" sz="20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ematiksel</a:t>
            </a:r>
            <a:r>
              <a:rPr b="1" lang="en-US" sz="2400" spc="-1" strike="noStrike">
                <a:solidFill>
                  <a:srgbClr val="3333cc"/>
                </a:solidFill>
                <a:latin typeface="Tahoma"/>
              </a:rPr>
              <a:t>     </a:t>
            </a:r>
            <a:endParaRPr b="0" lang="en-US" sz="2400" spc="-1" strike="noStrike">
              <a:solidFill>
                <a:srgbClr val="ffffff"/>
              </a:solidFill>
              <a:latin typeface="Times New Roman"/>
            </a:endParaRPr>
          </a:p>
        </p:txBody>
      </p:sp>
      <p:sp>
        <p:nvSpPr>
          <p:cNvPr id="475" name=""/>
          <p:cNvSpPr/>
          <p:nvPr/>
        </p:nvSpPr>
        <p:spPr>
          <a:xfrm>
            <a:off x="4830840" y="2649600"/>
            <a:ext cx="15382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ütünsel</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zgisel</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Yenilikçi</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Yaratıcı</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mgesel</a:t>
            </a:r>
            <a:endParaRPr b="0" lang="en-US" sz="2000" spc="-1" strike="noStrike">
              <a:solidFill>
                <a:srgbClr val="ffffff"/>
              </a:solidFill>
              <a:latin typeface="Times New Roman"/>
            </a:endParaRPr>
          </a:p>
        </p:txBody>
      </p:sp>
      <p:sp>
        <p:nvSpPr>
          <p:cNvPr id="476" name=""/>
          <p:cNvSpPr/>
          <p:nvPr/>
        </p:nvSpPr>
        <p:spPr>
          <a:xfrm>
            <a:off x="3036960" y="4233960"/>
            <a:ext cx="158112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rdışıkçı</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lanlı  </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rganize</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yrıntıcı</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ontrollü</a:t>
            </a:r>
            <a:endParaRPr b="0" lang="en-US" sz="2000" spc="-1" strike="noStrike">
              <a:solidFill>
                <a:srgbClr val="ffffff"/>
              </a:solidFill>
              <a:latin typeface="Times New Roman"/>
            </a:endParaRPr>
          </a:p>
        </p:txBody>
      </p:sp>
      <p:sp>
        <p:nvSpPr>
          <p:cNvPr id="477" name=""/>
          <p:cNvSpPr/>
          <p:nvPr/>
        </p:nvSpPr>
        <p:spPr>
          <a:xfrm>
            <a:off x="4830840" y="4245120"/>
            <a:ext cx="192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y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uygus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üzikle İlgil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uhan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onuşkan</a:t>
            </a:r>
            <a:endParaRPr b="0" lang="en-US" sz="2000" spc="-1" strike="noStrike">
              <a:solidFill>
                <a:srgbClr val="ffffff"/>
              </a:solidFill>
              <a:latin typeface="Times New Roman"/>
            </a:endParaRPr>
          </a:p>
        </p:txBody>
      </p:sp>
      <p:sp>
        <p:nvSpPr>
          <p:cNvPr id="478" name=""/>
          <p:cNvSpPr/>
          <p:nvPr/>
        </p:nvSpPr>
        <p:spPr>
          <a:xfrm>
            <a:off x="1434960" y="2430360"/>
            <a:ext cx="217836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A </a:t>
            </a:r>
            <a:endParaRPr b="0" lang="en-US" sz="3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eknik</a:t>
            </a:r>
            <a:endParaRPr b="0" lang="en-US" sz="2800" spc="-1" strike="noStrike">
              <a:solidFill>
                <a:srgbClr val="ffffff"/>
              </a:solidFill>
              <a:latin typeface="Times New Roman"/>
            </a:endParaRPr>
          </a:p>
        </p:txBody>
      </p:sp>
      <p:sp>
        <p:nvSpPr>
          <p:cNvPr id="479" name=""/>
          <p:cNvSpPr/>
          <p:nvPr/>
        </p:nvSpPr>
        <p:spPr>
          <a:xfrm>
            <a:off x="1371600" y="4983120"/>
            <a:ext cx="198612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B </a:t>
            </a:r>
            <a:endParaRPr b="0" lang="en-US" sz="3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Ardışık</a:t>
            </a:r>
            <a:endParaRPr b="0" lang="en-US" sz="2800" spc="-1" strike="noStrike">
              <a:solidFill>
                <a:srgbClr val="ffffff"/>
              </a:solidFill>
              <a:latin typeface="Times New Roman"/>
            </a:endParaRPr>
          </a:p>
        </p:txBody>
      </p:sp>
      <p:sp>
        <p:nvSpPr>
          <p:cNvPr id="480" name=""/>
          <p:cNvSpPr/>
          <p:nvPr/>
        </p:nvSpPr>
        <p:spPr>
          <a:xfrm>
            <a:off x="6688080" y="2557440"/>
            <a:ext cx="192240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D </a:t>
            </a:r>
            <a:r>
              <a:rPr b="1" lang="en-US" sz="2800" spc="-1" strike="noStrike">
                <a:solidFill>
                  <a:srgbClr val="3333cc"/>
                </a:solidFill>
                <a:latin typeface="Tahoma"/>
              </a:rPr>
              <a:t>Bütünsel </a:t>
            </a:r>
            <a:endParaRPr b="0" lang="en-US" sz="2800" spc="-1" strike="noStrike">
              <a:solidFill>
                <a:srgbClr val="ffffff"/>
              </a:solidFill>
              <a:latin typeface="Times New Roman"/>
            </a:endParaRPr>
          </a:p>
        </p:txBody>
      </p:sp>
      <p:sp>
        <p:nvSpPr>
          <p:cNvPr id="481" name=""/>
          <p:cNvSpPr/>
          <p:nvPr/>
        </p:nvSpPr>
        <p:spPr>
          <a:xfrm>
            <a:off x="6816600" y="4983120"/>
            <a:ext cx="179388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C </a:t>
            </a:r>
            <a:endParaRPr b="0" lang="en-US" sz="3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Sosyal </a:t>
            </a:r>
            <a:endParaRPr b="0" lang="en-US" sz="2800" spc="-1" strike="noStrike">
              <a:solidFill>
                <a:srgbClr val="ffffff"/>
              </a:solidFill>
              <a:latin typeface="Times New Roman"/>
            </a:endParaRPr>
          </a:p>
        </p:txBody>
      </p:sp>
      <p:sp>
        <p:nvSpPr>
          <p:cNvPr id="482" name=""/>
          <p:cNvSpPr/>
          <p:nvPr/>
        </p:nvSpPr>
        <p:spPr>
          <a:xfrm>
            <a:off x="1187280" y="609480"/>
            <a:ext cx="7201080" cy="1007640"/>
          </a:xfrm>
          <a:prstGeom prst="rect">
            <a:avLst/>
          </a:prstGeom>
          <a:noFill/>
          <a:ln w="28440">
            <a:solidFill>
              <a:srgbClr val="0000a4"/>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Dört Çeyrek Daireli                           Zihinsel Tercih Modeli</a:t>
            </a:r>
            <a:endParaRPr b="0" lang="en-US" sz="3000" spc="-1" strike="noStrike">
              <a:solidFill>
                <a:srgbClr val="ffffff"/>
              </a:solidFill>
              <a:latin typeface="Times New Roman"/>
            </a:endParaRPr>
          </a:p>
        </p:txBody>
      </p:sp>
    </p:spTree>
  </p:cSld>
  <p:transition>
    <p:dissolv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482"/>
                                        </p:tgtEl>
                                        <p:attrNameLst>
                                          <p:attrName>style.visibility</p:attrName>
                                        </p:attrNameLst>
                                      </p:cBhvr>
                                      <p:to>
                                        <p:strVal val="visible"/>
                                      </p:to>
                                    </p:set>
                                    <p:anim calcmode="lin" valueType="num">
                                      <p:cBhvr additive="base">
                                        <p:cTn id="547" dur="500" fill="hold"/>
                                        <p:tgtEl>
                                          <p:spTgt spid="482"/>
                                        </p:tgtEl>
                                        <p:attrNameLst>
                                          <p:attrName>ppt_x</p:attrName>
                                        </p:attrNameLst>
                                      </p:cBhvr>
                                      <p:tavLst>
                                        <p:tav tm="0">
                                          <p:val>
                                            <p:strVal val="0-#ppt_w/2"/>
                                          </p:val>
                                        </p:tav>
                                        <p:tav tm="100000">
                                          <p:val>
                                            <p:strVal val="#ppt_x"/>
                                          </p:val>
                                        </p:tav>
                                      </p:tavLst>
                                    </p:anim>
                                    <p:anim calcmode="lin" valueType="num">
                                      <p:cBhvr additive="base">
                                        <p:cTn id="548" dur="500" fill="hold"/>
                                        <p:tgtEl>
                                          <p:spTgt spid="482"/>
                                        </p:tgtEl>
                                        <p:attrNameLst>
                                          <p:attrName>ppt_y</p:attrName>
                                        </p:attrNameLst>
                                      </p:cBhvr>
                                      <p:tavLst>
                                        <p:tav tm="0">
                                          <p:val>
                                            <p:strVal val="#ppt_y"/>
                                          </p:val>
                                        </p:tav>
                                        <p:tav tm="100000">
                                          <p:val>
                                            <p:strVal val="#ppt_y"/>
                                          </p:val>
                                        </p:tav>
                                      </p:tavLst>
                                    </p:anim>
                                  </p:childTnLst>
                                </p:cTn>
                              </p:par>
                            </p:childTnLst>
                          </p:cTn>
                        </p:par>
                        <p:par>
                          <p:cTn id="549" fill="hold">
                            <p:stCondLst>
                              <p:cond delay="500"/>
                            </p:stCondLst>
                            <p:childTnLst>
                              <p:par>
                                <p:cTn id="550" nodeType="afterEffect" fill="hold" presetClass="entr" presetID="23" presetSubtype="528">
                                  <p:stCondLst>
                                    <p:cond delay="0"/>
                                  </p:stCondLst>
                                  <p:childTnLst>
                                    <p:set>
                                      <p:cBhvr>
                                        <p:cTn id="551" dur="1" fill="hold">
                                          <p:stCondLst>
                                            <p:cond delay="0"/>
                                          </p:stCondLst>
                                        </p:cTn>
                                        <p:tgtEl>
                                          <p:spTgt spid="470"/>
                                        </p:tgtEl>
                                        <p:attrNameLst>
                                          <p:attrName>style.visibility</p:attrName>
                                        </p:attrNameLst>
                                      </p:cBhvr>
                                      <p:to>
                                        <p:strVal val="visible"/>
                                      </p:to>
                                    </p:set>
                                    <p:anim calcmode="lin" valueType="num">
                                      <p:cBhvr additive="repl">
                                        <p:cTn id="552" dur="500" fill="hold"/>
                                        <p:tgtEl>
                                          <p:spTgt spid="470"/>
                                        </p:tgtEl>
                                        <p:attrNameLst>
                                          <p:attrName>ppt_w</p:attrName>
                                        </p:attrNameLst>
                                      </p:cBhvr>
                                      <p:tavLst>
                                        <p:tav tm="0">
                                          <p:val>
                                            <p:fltVal val="0"/>
                                          </p:val>
                                        </p:tav>
                                        <p:tav tm="100000">
                                          <p:val>
                                            <p:strVal val="#ppt_w"/>
                                          </p:val>
                                        </p:tav>
                                      </p:tavLst>
                                    </p:anim>
                                    <p:anim calcmode="lin" valueType="num">
                                      <p:cBhvr additive="repl">
                                        <p:cTn id="553" dur="500" fill="hold"/>
                                        <p:tgtEl>
                                          <p:spTgt spid="470"/>
                                        </p:tgtEl>
                                        <p:attrNameLst>
                                          <p:attrName>ppt_h</p:attrName>
                                        </p:attrNameLst>
                                      </p:cBhvr>
                                      <p:tavLst>
                                        <p:tav tm="0">
                                          <p:val>
                                            <p:fltVal val="0"/>
                                          </p:val>
                                        </p:tav>
                                        <p:tav tm="100000">
                                          <p:val>
                                            <p:strVal val="#ppt_h"/>
                                          </p:val>
                                        </p:tav>
                                      </p:tavLst>
                                    </p:anim>
                                    <p:anim calcmode="lin" valueType="num">
                                      <p:cBhvr additive="repl">
                                        <p:cTn id="554" dur="500" fill="hold"/>
                                        <p:tgtEl>
                                          <p:spTgt spid="470"/>
                                        </p:tgtEl>
                                        <p:attrNameLst>
                                          <p:attrName>ppt_x</p:attrName>
                                        </p:attrNameLst>
                                      </p:cBhvr>
                                      <p:tavLst>
                                        <p:tav tm="0">
                                          <p:val>
                                            <p:fltVal val="0.5"/>
                                          </p:val>
                                        </p:tav>
                                        <p:tav tm="100000">
                                          <p:val>
                                            <p:strVal val="#ppt_x"/>
                                          </p:val>
                                        </p:tav>
                                      </p:tavLst>
                                    </p:anim>
                                    <p:anim calcmode="lin" valueType="num">
                                      <p:cBhvr additive="repl">
                                        <p:cTn id="555" dur="500" fill="hold"/>
                                        <p:tgtEl>
                                          <p:spTgt spid="470"/>
                                        </p:tgtEl>
                                        <p:attrNameLst>
                                          <p:attrName>ppt_y</p:attrName>
                                        </p:attrNameLst>
                                      </p:cBhvr>
                                      <p:tavLst>
                                        <p:tav tm="0">
                                          <p:val>
                                            <p:fltVal val="0.5"/>
                                          </p:val>
                                        </p:tav>
                                        <p:tav tm="100000">
                                          <p:val>
                                            <p:strVal val="#ppt_y"/>
                                          </p:val>
                                        </p:tav>
                                      </p:tavLst>
                                    </p:anim>
                                  </p:childTnLst>
                                </p:cTn>
                              </p:par>
                            </p:childTnLst>
                          </p:cTn>
                        </p:par>
                        <p:par>
                          <p:cTn id="556" fill="hold">
                            <p:stCondLst>
                              <p:cond delay="1000"/>
                            </p:stCondLst>
                            <p:childTnLst>
                              <p:par>
                                <p:cTn id="557" nodeType="afterEffect" fill="hold" presetClass="entr" presetID="23" presetSubtype="528">
                                  <p:stCondLst>
                                    <p:cond delay="0"/>
                                  </p:stCondLst>
                                  <p:childTnLst>
                                    <p:set>
                                      <p:cBhvr>
                                        <p:cTn id="558" dur="1" fill="hold">
                                          <p:stCondLst>
                                            <p:cond delay="0"/>
                                          </p:stCondLst>
                                        </p:cTn>
                                        <p:tgtEl>
                                          <p:spTgt spid="471"/>
                                        </p:tgtEl>
                                        <p:attrNameLst>
                                          <p:attrName>style.visibility</p:attrName>
                                        </p:attrNameLst>
                                      </p:cBhvr>
                                      <p:to>
                                        <p:strVal val="visible"/>
                                      </p:to>
                                    </p:set>
                                    <p:anim calcmode="lin" valueType="num">
                                      <p:cBhvr additive="repl">
                                        <p:cTn id="559" dur="500" fill="hold"/>
                                        <p:tgtEl>
                                          <p:spTgt spid="471"/>
                                        </p:tgtEl>
                                        <p:attrNameLst>
                                          <p:attrName>ppt_w</p:attrName>
                                        </p:attrNameLst>
                                      </p:cBhvr>
                                      <p:tavLst>
                                        <p:tav tm="0">
                                          <p:val>
                                            <p:fltVal val="0"/>
                                          </p:val>
                                        </p:tav>
                                        <p:tav tm="100000">
                                          <p:val>
                                            <p:strVal val="#ppt_w"/>
                                          </p:val>
                                        </p:tav>
                                      </p:tavLst>
                                    </p:anim>
                                    <p:anim calcmode="lin" valueType="num">
                                      <p:cBhvr additive="repl">
                                        <p:cTn id="560" dur="500" fill="hold"/>
                                        <p:tgtEl>
                                          <p:spTgt spid="471"/>
                                        </p:tgtEl>
                                        <p:attrNameLst>
                                          <p:attrName>ppt_h</p:attrName>
                                        </p:attrNameLst>
                                      </p:cBhvr>
                                      <p:tavLst>
                                        <p:tav tm="0">
                                          <p:val>
                                            <p:fltVal val="0"/>
                                          </p:val>
                                        </p:tav>
                                        <p:tav tm="100000">
                                          <p:val>
                                            <p:strVal val="#ppt_h"/>
                                          </p:val>
                                        </p:tav>
                                      </p:tavLst>
                                    </p:anim>
                                    <p:anim calcmode="lin" valueType="num">
                                      <p:cBhvr additive="repl">
                                        <p:cTn id="561" dur="500" fill="hold"/>
                                        <p:tgtEl>
                                          <p:spTgt spid="471"/>
                                        </p:tgtEl>
                                        <p:attrNameLst>
                                          <p:attrName>ppt_x</p:attrName>
                                        </p:attrNameLst>
                                      </p:cBhvr>
                                      <p:tavLst>
                                        <p:tav tm="0">
                                          <p:val>
                                            <p:fltVal val="0.5"/>
                                          </p:val>
                                        </p:tav>
                                        <p:tav tm="100000">
                                          <p:val>
                                            <p:strVal val="#ppt_x"/>
                                          </p:val>
                                        </p:tav>
                                      </p:tavLst>
                                    </p:anim>
                                    <p:anim calcmode="lin" valueType="num">
                                      <p:cBhvr additive="repl">
                                        <p:cTn id="562" dur="500" fill="hold"/>
                                        <p:tgtEl>
                                          <p:spTgt spid="471"/>
                                        </p:tgtEl>
                                        <p:attrNameLst>
                                          <p:attrName>ppt_y</p:attrName>
                                        </p:attrNameLst>
                                      </p:cBhvr>
                                      <p:tavLst>
                                        <p:tav tm="0">
                                          <p:val>
                                            <p:fltVal val="0.5"/>
                                          </p:val>
                                        </p:tav>
                                        <p:tav tm="100000">
                                          <p:val>
                                            <p:strVal val="#ppt_y"/>
                                          </p:val>
                                        </p:tav>
                                      </p:tavLst>
                                    </p:anim>
                                  </p:childTnLst>
                                </p:cTn>
                              </p:par>
                            </p:childTnLst>
                          </p:cTn>
                        </p:par>
                        <p:par>
                          <p:cTn id="563" fill="hold">
                            <p:stCondLst>
                              <p:cond delay="1500"/>
                            </p:stCondLst>
                            <p:childTnLst>
                              <p:par>
                                <p:cTn id="564" nodeType="afterEffect" fill="hold" presetClass="entr" presetID="23" presetSubtype="528">
                                  <p:stCondLst>
                                    <p:cond delay="0"/>
                                  </p:stCondLst>
                                  <p:childTnLst>
                                    <p:set>
                                      <p:cBhvr>
                                        <p:cTn id="565" dur="1" fill="hold">
                                          <p:stCondLst>
                                            <p:cond delay="0"/>
                                          </p:stCondLst>
                                        </p:cTn>
                                        <p:tgtEl>
                                          <p:spTgt spid="472"/>
                                        </p:tgtEl>
                                        <p:attrNameLst>
                                          <p:attrName>style.visibility</p:attrName>
                                        </p:attrNameLst>
                                      </p:cBhvr>
                                      <p:to>
                                        <p:strVal val="visible"/>
                                      </p:to>
                                    </p:set>
                                    <p:anim calcmode="lin" valueType="num">
                                      <p:cBhvr additive="repl">
                                        <p:cTn id="566" dur="500" fill="hold"/>
                                        <p:tgtEl>
                                          <p:spTgt spid="472"/>
                                        </p:tgtEl>
                                        <p:attrNameLst>
                                          <p:attrName>ppt_w</p:attrName>
                                        </p:attrNameLst>
                                      </p:cBhvr>
                                      <p:tavLst>
                                        <p:tav tm="0">
                                          <p:val>
                                            <p:fltVal val="0"/>
                                          </p:val>
                                        </p:tav>
                                        <p:tav tm="100000">
                                          <p:val>
                                            <p:strVal val="#ppt_w"/>
                                          </p:val>
                                        </p:tav>
                                      </p:tavLst>
                                    </p:anim>
                                    <p:anim calcmode="lin" valueType="num">
                                      <p:cBhvr additive="repl">
                                        <p:cTn id="567" dur="500" fill="hold"/>
                                        <p:tgtEl>
                                          <p:spTgt spid="472"/>
                                        </p:tgtEl>
                                        <p:attrNameLst>
                                          <p:attrName>ppt_h</p:attrName>
                                        </p:attrNameLst>
                                      </p:cBhvr>
                                      <p:tavLst>
                                        <p:tav tm="0">
                                          <p:val>
                                            <p:fltVal val="0"/>
                                          </p:val>
                                        </p:tav>
                                        <p:tav tm="100000">
                                          <p:val>
                                            <p:strVal val="#ppt_h"/>
                                          </p:val>
                                        </p:tav>
                                      </p:tavLst>
                                    </p:anim>
                                    <p:anim calcmode="lin" valueType="num">
                                      <p:cBhvr additive="repl">
                                        <p:cTn id="568" dur="500" fill="hold"/>
                                        <p:tgtEl>
                                          <p:spTgt spid="472"/>
                                        </p:tgtEl>
                                        <p:attrNameLst>
                                          <p:attrName>ppt_x</p:attrName>
                                        </p:attrNameLst>
                                      </p:cBhvr>
                                      <p:tavLst>
                                        <p:tav tm="0">
                                          <p:val>
                                            <p:fltVal val="0.5"/>
                                          </p:val>
                                        </p:tav>
                                        <p:tav tm="100000">
                                          <p:val>
                                            <p:strVal val="#ppt_x"/>
                                          </p:val>
                                        </p:tav>
                                      </p:tavLst>
                                    </p:anim>
                                    <p:anim calcmode="lin" valueType="num">
                                      <p:cBhvr additive="repl">
                                        <p:cTn id="569" dur="500" fill="hold"/>
                                        <p:tgtEl>
                                          <p:spTgt spid="472"/>
                                        </p:tgtEl>
                                        <p:attrNameLst>
                                          <p:attrName>ppt_y</p:attrName>
                                        </p:attrNameLst>
                                      </p:cBhvr>
                                      <p:tavLst>
                                        <p:tav tm="0">
                                          <p:val>
                                            <p:fltVal val="0.5"/>
                                          </p:val>
                                        </p:tav>
                                        <p:tav tm="100000">
                                          <p:val>
                                            <p:strVal val="#ppt_y"/>
                                          </p:val>
                                        </p:tav>
                                      </p:tavLst>
                                    </p:anim>
                                  </p:childTnLst>
                                </p:cTn>
                              </p:par>
                            </p:childTnLst>
                          </p:cTn>
                        </p:par>
                        <p:par>
                          <p:cTn id="570" fill="hold">
                            <p:stCondLst>
                              <p:cond delay="2000"/>
                            </p:stCondLst>
                            <p:childTnLst>
                              <p:par>
                                <p:cTn id="571" nodeType="afterEffect" fill="hold" presetClass="entr" presetID="23" presetSubtype="528">
                                  <p:stCondLst>
                                    <p:cond delay="0"/>
                                  </p:stCondLst>
                                  <p:childTnLst>
                                    <p:set>
                                      <p:cBhvr>
                                        <p:cTn id="572" dur="1" fill="hold">
                                          <p:stCondLst>
                                            <p:cond delay="0"/>
                                          </p:stCondLst>
                                        </p:cTn>
                                        <p:tgtEl>
                                          <p:spTgt spid="473"/>
                                        </p:tgtEl>
                                        <p:attrNameLst>
                                          <p:attrName>style.visibility</p:attrName>
                                        </p:attrNameLst>
                                      </p:cBhvr>
                                      <p:to>
                                        <p:strVal val="visible"/>
                                      </p:to>
                                    </p:set>
                                    <p:anim calcmode="lin" valueType="num">
                                      <p:cBhvr additive="repl">
                                        <p:cTn id="573" dur="500" fill="hold"/>
                                        <p:tgtEl>
                                          <p:spTgt spid="473"/>
                                        </p:tgtEl>
                                        <p:attrNameLst>
                                          <p:attrName>ppt_w</p:attrName>
                                        </p:attrNameLst>
                                      </p:cBhvr>
                                      <p:tavLst>
                                        <p:tav tm="0">
                                          <p:val>
                                            <p:fltVal val="0"/>
                                          </p:val>
                                        </p:tav>
                                        <p:tav tm="100000">
                                          <p:val>
                                            <p:strVal val="#ppt_w"/>
                                          </p:val>
                                        </p:tav>
                                      </p:tavLst>
                                    </p:anim>
                                    <p:anim calcmode="lin" valueType="num">
                                      <p:cBhvr additive="repl">
                                        <p:cTn id="574" dur="500" fill="hold"/>
                                        <p:tgtEl>
                                          <p:spTgt spid="473"/>
                                        </p:tgtEl>
                                        <p:attrNameLst>
                                          <p:attrName>ppt_h</p:attrName>
                                        </p:attrNameLst>
                                      </p:cBhvr>
                                      <p:tavLst>
                                        <p:tav tm="0">
                                          <p:val>
                                            <p:fltVal val="0"/>
                                          </p:val>
                                        </p:tav>
                                        <p:tav tm="100000">
                                          <p:val>
                                            <p:strVal val="#ppt_h"/>
                                          </p:val>
                                        </p:tav>
                                      </p:tavLst>
                                    </p:anim>
                                    <p:anim calcmode="lin" valueType="num">
                                      <p:cBhvr additive="repl">
                                        <p:cTn id="575" dur="500" fill="hold"/>
                                        <p:tgtEl>
                                          <p:spTgt spid="473"/>
                                        </p:tgtEl>
                                        <p:attrNameLst>
                                          <p:attrName>ppt_x</p:attrName>
                                        </p:attrNameLst>
                                      </p:cBhvr>
                                      <p:tavLst>
                                        <p:tav tm="0">
                                          <p:val>
                                            <p:fltVal val="0.5"/>
                                          </p:val>
                                        </p:tav>
                                        <p:tav tm="100000">
                                          <p:val>
                                            <p:strVal val="#ppt_x"/>
                                          </p:val>
                                        </p:tav>
                                      </p:tavLst>
                                    </p:anim>
                                    <p:anim calcmode="lin" valueType="num">
                                      <p:cBhvr additive="repl">
                                        <p:cTn id="576" dur="500" fill="hold"/>
                                        <p:tgtEl>
                                          <p:spTgt spid="473"/>
                                        </p:tgtEl>
                                        <p:attrNameLst>
                                          <p:attrName>ppt_y</p:attrName>
                                        </p:attrNameLst>
                                      </p:cBhvr>
                                      <p:tavLst>
                                        <p:tav tm="0">
                                          <p:val>
                                            <p:fltVal val="0.5"/>
                                          </p:val>
                                        </p:tav>
                                        <p:tav tm="100000">
                                          <p:val>
                                            <p:strVal val="#ppt_y"/>
                                          </p:val>
                                        </p:tav>
                                      </p:tavLst>
                                    </p:anim>
                                  </p:childTnLst>
                                </p:cTn>
                              </p:par>
                            </p:childTnLst>
                          </p:cTn>
                        </p:par>
                        <p:par>
                          <p:cTn id="577" fill="hold">
                            <p:stCondLst>
                              <p:cond delay="2500"/>
                            </p:stCondLst>
                            <p:childTnLst>
                              <p:par>
                                <p:cTn id="578" nodeType="afterEffect" fill="hold" presetClass="entr" presetID="2" presetSubtype="8">
                                  <p:stCondLst>
                                    <p:cond delay="0"/>
                                  </p:stCondLst>
                                  <p:childTnLst>
                                    <p:set>
                                      <p:cBhvr>
                                        <p:cTn id="579" dur="1" fill="hold">
                                          <p:stCondLst>
                                            <p:cond delay="0"/>
                                          </p:stCondLst>
                                        </p:cTn>
                                        <p:tgtEl>
                                          <p:spTgt spid="478"/>
                                        </p:tgtEl>
                                        <p:attrNameLst>
                                          <p:attrName>style.visibility</p:attrName>
                                        </p:attrNameLst>
                                      </p:cBhvr>
                                      <p:to>
                                        <p:strVal val="visible"/>
                                      </p:to>
                                    </p:set>
                                    <p:anim calcmode="lin" valueType="num">
                                      <p:cBhvr additive="base">
                                        <p:cTn id="580" dur="500" fill="hold"/>
                                        <p:tgtEl>
                                          <p:spTgt spid="478"/>
                                        </p:tgtEl>
                                        <p:attrNameLst>
                                          <p:attrName>ppt_x</p:attrName>
                                        </p:attrNameLst>
                                      </p:cBhvr>
                                      <p:tavLst>
                                        <p:tav tm="0">
                                          <p:val>
                                            <p:strVal val="0-#ppt_w/2"/>
                                          </p:val>
                                        </p:tav>
                                        <p:tav tm="100000">
                                          <p:val>
                                            <p:strVal val="#ppt_x"/>
                                          </p:val>
                                        </p:tav>
                                      </p:tavLst>
                                    </p:anim>
                                    <p:anim calcmode="lin" valueType="num">
                                      <p:cBhvr additive="base">
                                        <p:cTn id="581" dur="500" fill="hold"/>
                                        <p:tgtEl>
                                          <p:spTgt spid="478"/>
                                        </p:tgtEl>
                                        <p:attrNameLst>
                                          <p:attrName>ppt_y</p:attrName>
                                        </p:attrNameLst>
                                      </p:cBhvr>
                                      <p:tavLst>
                                        <p:tav tm="0">
                                          <p:val>
                                            <p:strVal val="#ppt_y"/>
                                          </p:val>
                                        </p:tav>
                                        <p:tav tm="100000">
                                          <p:val>
                                            <p:strVal val="#ppt_y"/>
                                          </p:val>
                                        </p:tav>
                                      </p:tavLst>
                                    </p:anim>
                                  </p:childTnLst>
                                </p:cTn>
                              </p:par>
                            </p:childTnLst>
                          </p:cTn>
                        </p:par>
                        <p:par>
                          <p:cTn id="582" fill="hold">
                            <p:stCondLst>
                              <p:cond delay="3000"/>
                            </p:stCondLst>
                            <p:childTnLst>
                              <p:par>
                                <p:cTn id="583" nodeType="afterEffect" fill="hold" presetClass="entr" presetID="2" presetSubtype="8">
                                  <p:stCondLst>
                                    <p:cond delay="0"/>
                                  </p:stCondLst>
                                  <p:childTnLst>
                                    <p:set>
                                      <p:cBhvr>
                                        <p:cTn id="584" dur="1" fill="hold">
                                          <p:stCondLst>
                                            <p:cond delay="0"/>
                                          </p:stCondLst>
                                        </p:cTn>
                                        <p:tgtEl>
                                          <p:spTgt spid="479"/>
                                        </p:tgtEl>
                                        <p:attrNameLst>
                                          <p:attrName>style.visibility</p:attrName>
                                        </p:attrNameLst>
                                      </p:cBhvr>
                                      <p:to>
                                        <p:strVal val="visible"/>
                                      </p:to>
                                    </p:set>
                                    <p:anim calcmode="lin" valueType="num">
                                      <p:cBhvr additive="base">
                                        <p:cTn id="585" dur="500" fill="hold"/>
                                        <p:tgtEl>
                                          <p:spTgt spid="479"/>
                                        </p:tgtEl>
                                        <p:attrNameLst>
                                          <p:attrName>ppt_x</p:attrName>
                                        </p:attrNameLst>
                                      </p:cBhvr>
                                      <p:tavLst>
                                        <p:tav tm="0">
                                          <p:val>
                                            <p:strVal val="0-#ppt_w/2"/>
                                          </p:val>
                                        </p:tav>
                                        <p:tav tm="100000">
                                          <p:val>
                                            <p:strVal val="#ppt_x"/>
                                          </p:val>
                                        </p:tav>
                                      </p:tavLst>
                                    </p:anim>
                                    <p:anim calcmode="lin" valueType="num">
                                      <p:cBhvr additive="base">
                                        <p:cTn id="586" dur="500" fill="hold"/>
                                        <p:tgtEl>
                                          <p:spTgt spid="479"/>
                                        </p:tgtEl>
                                        <p:attrNameLst>
                                          <p:attrName>ppt_y</p:attrName>
                                        </p:attrNameLst>
                                      </p:cBhvr>
                                      <p:tavLst>
                                        <p:tav tm="0">
                                          <p:val>
                                            <p:strVal val="#ppt_y"/>
                                          </p:val>
                                        </p:tav>
                                        <p:tav tm="100000">
                                          <p:val>
                                            <p:strVal val="#ppt_y"/>
                                          </p:val>
                                        </p:tav>
                                      </p:tavLst>
                                    </p:anim>
                                  </p:childTnLst>
                                </p:cTn>
                              </p:par>
                            </p:childTnLst>
                          </p:cTn>
                        </p:par>
                        <p:par>
                          <p:cTn id="587" fill="hold">
                            <p:stCondLst>
                              <p:cond delay="3500"/>
                            </p:stCondLst>
                            <p:childTnLst>
                              <p:par>
                                <p:cTn id="588" nodeType="afterEffect" fill="hold" presetClass="entr" presetID="2" presetSubtype="1">
                                  <p:stCondLst>
                                    <p:cond delay="0"/>
                                  </p:stCondLst>
                                  <p:childTnLst>
                                    <p:set>
                                      <p:cBhvr>
                                        <p:cTn id="589" dur="1" fill="hold">
                                          <p:stCondLst>
                                            <p:cond delay="0"/>
                                          </p:stCondLst>
                                        </p:cTn>
                                        <p:tgtEl>
                                          <p:spTgt spid="481"/>
                                        </p:tgtEl>
                                        <p:attrNameLst>
                                          <p:attrName>style.visibility</p:attrName>
                                        </p:attrNameLst>
                                      </p:cBhvr>
                                      <p:to>
                                        <p:strVal val="visible"/>
                                      </p:to>
                                    </p:set>
                                    <p:anim calcmode="lin" valueType="num">
                                      <p:cBhvr additive="base">
                                        <p:cTn id="590" dur="500" fill="hold"/>
                                        <p:tgtEl>
                                          <p:spTgt spid="481"/>
                                        </p:tgtEl>
                                        <p:attrNameLst>
                                          <p:attrName>ppt_x</p:attrName>
                                        </p:attrNameLst>
                                      </p:cBhvr>
                                      <p:tavLst>
                                        <p:tav tm="0">
                                          <p:val>
                                            <p:strVal val="#ppt_x"/>
                                          </p:val>
                                        </p:tav>
                                        <p:tav tm="100000">
                                          <p:val>
                                            <p:strVal val="#ppt_x"/>
                                          </p:val>
                                        </p:tav>
                                      </p:tavLst>
                                    </p:anim>
                                    <p:anim calcmode="lin" valueType="num">
                                      <p:cBhvr additive="base">
                                        <p:cTn id="591" dur="500" fill="hold"/>
                                        <p:tgtEl>
                                          <p:spTgt spid="481"/>
                                        </p:tgtEl>
                                        <p:attrNameLst>
                                          <p:attrName>ppt_y</p:attrName>
                                        </p:attrNameLst>
                                      </p:cBhvr>
                                      <p:tavLst>
                                        <p:tav tm="0">
                                          <p:val>
                                            <p:strVal val="0-#ppt_h/2"/>
                                          </p:val>
                                        </p:tav>
                                        <p:tav tm="100000">
                                          <p:val>
                                            <p:strVal val="#ppt_y"/>
                                          </p:val>
                                        </p:tav>
                                      </p:tavLst>
                                    </p:anim>
                                  </p:childTnLst>
                                </p:cTn>
                              </p:par>
                            </p:childTnLst>
                          </p:cTn>
                        </p:par>
                        <p:par>
                          <p:cTn id="592" fill="hold">
                            <p:stCondLst>
                              <p:cond delay="4000"/>
                            </p:stCondLst>
                            <p:childTnLst>
                              <p:par>
                                <p:cTn id="593" nodeType="afterEffect" fill="hold" presetClass="entr" presetID="2" presetSubtype="2">
                                  <p:stCondLst>
                                    <p:cond delay="0"/>
                                  </p:stCondLst>
                                  <p:childTnLst>
                                    <p:set>
                                      <p:cBhvr>
                                        <p:cTn id="594" dur="1" fill="hold">
                                          <p:stCondLst>
                                            <p:cond delay="0"/>
                                          </p:stCondLst>
                                        </p:cTn>
                                        <p:tgtEl>
                                          <p:spTgt spid="480"/>
                                        </p:tgtEl>
                                        <p:attrNameLst>
                                          <p:attrName>style.visibility</p:attrName>
                                        </p:attrNameLst>
                                      </p:cBhvr>
                                      <p:to>
                                        <p:strVal val="visible"/>
                                      </p:to>
                                    </p:set>
                                    <p:anim calcmode="lin" valueType="num">
                                      <p:cBhvr additive="base">
                                        <p:cTn id="595" dur="500" fill="hold"/>
                                        <p:tgtEl>
                                          <p:spTgt spid="480"/>
                                        </p:tgtEl>
                                        <p:attrNameLst>
                                          <p:attrName>ppt_x</p:attrName>
                                        </p:attrNameLst>
                                      </p:cBhvr>
                                      <p:tavLst>
                                        <p:tav tm="0">
                                          <p:val>
                                            <p:strVal val="1+#ppt_w/2"/>
                                          </p:val>
                                        </p:tav>
                                        <p:tav tm="100000">
                                          <p:val>
                                            <p:strVal val="#ppt_x"/>
                                          </p:val>
                                        </p:tav>
                                      </p:tavLst>
                                    </p:anim>
                                    <p:anim calcmode="lin" valueType="num">
                                      <p:cBhvr additive="base">
                                        <p:cTn id="596" dur="500" fill="hold"/>
                                        <p:tgtEl>
                                          <p:spTgt spid="480"/>
                                        </p:tgtEl>
                                        <p:attrNameLst>
                                          <p:attrName>ppt_y</p:attrName>
                                        </p:attrNameLst>
                                      </p:cBhvr>
                                      <p:tavLst>
                                        <p:tav tm="0">
                                          <p:val>
                                            <p:strVal val="#ppt_y"/>
                                          </p:val>
                                        </p:tav>
                                        <p:tav tm="100000">
                                          <p:val>
                                            <p:strVal val="#ppt_y"/>
                                          </p:val>
                                        </p:tav>
                                      </p:tavLst>
                                    </p:anim>
                                  </p:childTnLst>
                                </p:cTn>
                              </p:par>
                            </p:childTnLst>
                          </p:cTn>
                        </p:par>
                        <p:par>
                          <p:cTn id="597" fill="hold">
                            <p:stCondLst>
                              <p:cond delay="4500"/>
                            </p:stCondLst>
                            <p:childTnLst>
                              <p:par>
                                <p:cTn id="598" nodeType="afterEffect" fill="hold" presetClass="entr" presetID="23" presetSubtype="528">
                                  <p:stCondLst>
                                    <p:cond delay="25000"/>
                                  </p:stCondLst>
                                  <p:childTnLst>
                                    <p:set>
                                      <p:cBhvr>
                                        <p:cTn id="599" dur="1" fill="hold">
                                          <p:stCondLst>
                                            <p:cond delay="0"/>
                                          </p:stCondLst>
                                        </p:cTn>
                                        <p:tgtEl>
                                          <p:spTgt spid="474"/>
                                        </p:tgtEl>
                                        <p:attrNameLst>
                                          <p:attrName>style.visibility</p:attrName>
                                        </p:attrNameLst>
                                      </p:cBhvr>
                                      <p:to>
                                        <p:strVal val="visible"/>
                                      </p:to>
                                    </p:set>
                                    <p:anim calcmode="lin" valueType="num">
                                      <p:cBhvr additive="repl">
                                        <p:cTn id="600" dur="500" fill="hold"/>
                                        <p:tgtEl>
                                          <p:spTgt spid="474"/>
                                        </p:tgtEl>
                                        <p:attrNameLst>
                                          <p:attrName>ppt_w</p:attrName>
                                        </p:attrNameLst>
                                      </p:cBhvr>
                                      <p:tavLst>
                                        <p:tav tm="0">
                                          <p:val>
                                            <p:fltVal val="0"/>
                                          </p:val>
                                        </p:tav>
                                        <p:tav tm="100000">
                                          <p:val>
                                            <p:strVal val="#ppt_w"/>
                                          </p:val>
                                        </p:tav>
                                      </p:tavLst>
                                    </p:anim>
                                    <p:anim calcmode="lin" valueType="num">
                                      <p:cBhvr additive="repl">
                                        <p:cTn id="601" dur="500" fill="hold"/>
                                        <p:tgtEl>
                                          <p:spTgt spid="474"/>
                                        </p:tgtEl>
                                        <p:attrNameLst>
                                          <p:attrName>ppt_h</p:attrName>
                                        </p:attrNameLst>
                                      </p:cBhvr>
                                      <p:tavLst>
                                        <p:tav tm="0">
                                          <p:val>
                                            <p:fltVal val="0"/>
                                          </p:val>
                                        </p:tav>
                                        <p:tav tm="100000">
                                          <p:val>
                                            <p:strVal val="#ppt_h"/>
                                          </p:val>
                                        </p:tav>
                                      </p:tavLst>
                                    </p:anim>
                                    <p:anim calcmode="lin" valueType="num">
                                      <p:cBhvr additive="repl">
                                        <p:cTn id="602" dur="500" fill="hold"/>
                                        <p:tgtEl>
                                          <p:spTgt spid="474"/>
                                        </p:tgtEl>
                                        <p:attrNameLst>
                                          <p:attrName>ppt_x</p:attrName>
                                        </p:attrNameLst>
                                      </p:cBhvr>
                                      <p:tavLst>
                                        <p:tav tm="0">
                                          <p:val>
                                            <p:fltVal val="0.5"/>
                                          </p:val>
                                        </p:tav>
                                        <p:tav tm="100000">
                                          <p:val>
                                            <p:strVal val="#ppt_x"/>
                                          </p:val>
                                        </p:tav>
                                      </p:tavLst>
                                    </p:anim>
                                    <p:anim calcmode="lin" valueType="num">
                                      <p:cBhvr additive="repl">
                                        <p:cTn id="603" dur="500" fill="hold"/>
                                        <p:tgtEl>
                                          <p:spTgt spid="474"/>
                                        </p:tgtEl>
                                        <p:attrNameLst>
                                          <p:attrName>ppt_y</p:attrName>
                                        </p:attrNameLst>
                                      </p:cBhvr>
                                      <p:tavLst>
                                        <p:tav tm="0">
                                          <p:val>
                                            <p:fltVal val="0.5"/>
                                          </p:val>
                                        </p:tav>
                                        <p:tav tm="100000">
                                          <p:val>
                                            <p:strVal val="#ppt_y"/>
                                          </p:val>
                                        </p:tav>
                                      </p:tavLst>
                                    </p:anim>
                                  </p:childTnLst>
                                </p:cTn>
                              </p:par>
                            </p:childTnLst>
                          </p:cTn>
                        </p:par>
                        <p:par>
                          <p:cTn id="604" fill="hold">
                            <p:stCondLst>
                              <p:cond delay="30000"/>
                            </p:stCondLst>
                            <p:childTnLst>
                              <p:par>
                                <p:cTn id="605" nodeType="afterEffect" fill="hold" presetClass="entr" presetID="23" presetSubtype="528">
                                  <p:stCondLst>
                                    <p:cond delay="25000"/>
                                  </p:stCondLst>
                                  <p:childTnLst>
                                    <p:set>
                                      <p:cBhvr>
                                        <p:cTn id="606" dur="1" fill="hold">
                                          <p:stCondLst>
                                            <p:cond delay="0"/>
                                          </p:stCondLst>
                                        </p:cTn>
                                        <p:tgtEl>
                                          <p:spTgt spid="476"/>
                                        </p:tgtEl>
                                        <p:attrNameLst>
                                          <p:attrName>style.visibility</p:attrName>
                                        </p:attrNameLst>
                                      </p:cBhvr>
                                      <p:to>
                                        <p:strVal val="visible"/>
                                      </p:to>
                                    </p:set>
                                    <p:anim calcmode="lin" valueType="num">
                                      <p:cBhvr additive="repl">
                                        <p:cTn id="607" dur="500" fill="hold"/>
                                        <p:tgtEl>
                                          <p:spTgt spid="476"/>
                                        </p:tgtEl>
                                        <p:attrNameLst>
                                          <p:attrName>ppt_w</p:attrName>
                                        </p:attrNameLst>
                                      </p:cBhvr>
                                      <p:tavLst>
                                        <p:tav tm="0">
                                          <p:val>
                                            <p:fltVal val="0"/>
                                          </p:val>
                                        </p:tav>
                                        <p:tav tm="100000">
                                          <p:val>
                                            <p:strVal val="#ppt_w"/>
                                          </p:val>
                                        </p:tav>
                                      </p:tavLst>
                                    </p:anim>
                                    <p:anim calcmode="lin" valueType="num">
                                      <p:cBhvr additive="repl">
                                        <p:cTn id="608" dur="500" fill="hold"/>
                                        <p:tgtEl>
                                          <p:spTgt spid="476"/>
                                        </p:tgtEl>
                                        <p:attrNameLst>
                                          <p:attrName>ppt_h</p:attrName>
                                        </p:attrNameLst>
                                      </p:cBhvr>
                                      <p:tavLst>
                                        <p:tav tm="0">
                                          <p:val>
                                            <p:fltVal val="0"/>
                                          </p:val>
                                        </p:tav>
                                        <p:tav tm="100000">
                                          <p:val>
                                            <p:strVal val="#ppt_h"/>
                                          </p:val>
                                        </p:tav>
                                      </p:tavLst>
                                    </p:anim>
                                    <p:anim calcmode="lin" valueType="num">
                                      <p:cBhvr additive="repl">
                                        <p:cTn id="609" dur="500" fill="hold"/>
                                        <p:tgtEl>
                                          <p:spTgt spid="476"/>
                                        </p:tgtEl>
                                        <p:attrNameLst>
                                          <p:attrName>ppt_x</p:attrName>
                                        </p:attrNameLst>
                                      </p:cBhvr>
                                      <p:tavLst>
                                        <p:tav tm="0">
                                          <p:val>
                                            <p:fltVal val="0.5"/>
                                          </p:val>
                                        </p:tav>
                                        <p:tav tm="100000">
                                          <p:val>
                                            <p:strVal val="#ppt_x"/>
                                          </p:val>
                                        </p:tav>
                                      </p:tavLst>
                                    </p:anim>
                                    <p:anim calcmode="lin" valueType="num">
                                      <p:cBhvr additive="repl">
                                        <p:cTn id="610" dur="500" fill="hold"/>
                                        <p:tgtEl>
                                          <p:spTgt spid="476"/>
                                        </p:tgtEl>
                                        <p:attrNameLst>
                                          <p:attrName>ppt_y</p:attrName>
                                        </p:attrNameLst>
                                      </p:cBhvr>
                                      <p:tavLst>
                                        <p:tav tm="0">
                                          <p:val>
                                            <p:fltVal val="0.5"/>
                                          </p:val>
                                        </p:tav>
                                        <p:tav tm="100000">
                                          <p:val>
                                            <p:strVal val="#ppt_y"/>
                                          </p:val>
                                        </p:tav>
                                      </p:tavLst>
                                    </p:anim>
                                  </p:childTnLst>
                                </p:cTn>
                              </p:par>
                            </p:childTnLst>
                          </p:cTn>
                        </p:par>
                        <p:par>
                          <p:cTn id="611" fill="hold">
                            <p:stCondLst>
                              <p:cond delay="55500"/>
                            </p:stCondLst>
                            <p:childTnLst>
                              <p:par>
                                <p:cTn id="612" nodeType="afterEffect" fill="hold" presetClass="entr" presetID="23" presetSubtype="528">
                                  <p:stCondLst>
                                    <p:cond delay="25000"/>
                                  </p:stCondLst>
                                  <p:childTnLst>
                                    <p:set>
                                      <p:cBhvr>
                                        <p:cTn id="613" dur="1" fill="hold">
                                          <p:stCondLst>
                                            <p:cond delay="0"/>
                                          </p:stCondLst>
                                        </p:cTn>
                                        <p:tgtEl>
                                          <p:spTgt spid="477"/>
                                        </p:tgtEl>
                                        <p:attrNameLst>
                                          <p:attrName>style.visibility</p:attrName>
                                        </p:attrNameLst>
                                      </p:cBhvr>
                                      <p:to>
                                        <p:strVal val="visible"/>
                                      </p:to>
                                    </p:set>
                                    <p:anim calcmode="lin" valueType="num">
                                      <p:cBhvr additive="repl">
                                        <p:cTn id="614" dur="500" fill="hold"/>
                                        <p:tgtEl>
                                          <p:spTgt spid="477"/>
                                        </p:tgtEl>
                                        <p:attrNameLst>
                                          <p:attrName>ppt_w</p:attrName>
                                        </p:attrNameLst>
                                      </p:cBhvr>
                                      <p:tavLst>
                                        <p:tav tm="0">
                                          <p:val>
                                            <p:fltVal val="0"/>
                                          </p:val>
                                        </p:tav>
                                        <p:tav tm="100000">
                                          <p:val>
                                            <p:strVal val="#ppt_w"/>
                                          </p:val>
                                        </p:tav>
                                      </p:tavLst>
                                    </p:anim>
                                    <p:anim calcmode="lin" valueType="num">
                                      <p:cBhvr additive="repl">
                                        <p:cTn id="615" dur="500" fill="hold"/>
                                        <p:tgtEl>
                                          <p:spTgt spid="477"/>
                                        </p:tgtEl>
                                        <p:attrNameLst>
                                          <p:attrName>ppt_h</p:attrName>
                                        </p:attrNameLst>
                                      </p:cBhvr>
                                      <p:tavLst>
                                        <p:tav tm="0">
                                          <p:val>
                                            <p:fltVal val="0"/>
                                          </p:val>
                                        </p:tav>
                                        <p:tav tm="100000">
                                          <p:val>
                                            <p:strVal val="#ppt_h"/>
                                          </p:val>
                                        </p:tav>
                                      </p:tavLst>
                                    </p:anim>
                                    <p:anim calcmode="lin" valueType="num">
                                      <p:cBhvr additive="repl">
                                        <p:cTn id="616" dur="500" fill="hold"/>
                                        <p:tgtEl>
                                          <p:spTgt spid="477"/>
                                        </p:tgtEl>
                                        <p:attrNameLst>
                                          <p:attrName>ppt_x</p:attrName>
                                        </p:attrNameLst>
                                      </p:cBhvr>
                                      <p:tavLst>
                                        <p:tav tm="0">
                                          <p:val>
                                            <p:fltVal val="0.5"/>
                                          </p:val>
                                        </p:tav>
                                        <p:tav tm="100000">
                                          <p:val>
                                            <p:strVal val="#ppt_x"/>
                                          </p:val>
                                        </p:tav>
                                      </p:tavLst>
                                    </p:anim>
                                    <p:anim calcmode="lin" valueType="num">
                                      <p:cBhvr additive="repl">
                                        <p:cTn id="617" dur="500" fill="hold"/>
                                        <p:tgtEl>
                                          <p:spTgt spid="477"/>
                                        </p:tgtEl>
                                        <p:attrNameLst>
                                          <p:attrName>ppt_y</p:attrName>
                                        </p:attrNameLst>
                                      </p:cBhvr>
                                      <p:tavLst>
                                        <p:tav tm="0">
                                          <p:val>
                                            <p:fltVal val="0.5"/>
                                          </p:val>
                                        </p:tav>
                                        <p:tav tm="100000">
                                          <p:val>
                                            <p:strVal val="#ppt_y"/>
                                          </p:val>
                                        </p:tav>
                                      </p:tavLst>
                                    </p:anim>
                                  </p:childTnLst>
                                </p:cTn>
                              </p:par>
                            </p:childTnLst>
                          </p:cTn>
                        </p:par>
                        <p:par>
                          <p:cTn id="618" fill="hold">
                            <p:stCondLst>
                              <p:cond delay="81000"/>
                            </p:stCondLst>
                            <p:childTnLst>
                              <p:par>
                                <p:cTn id="619" nodeType="afterEffect" fill="hold" presetClass="entr" presetID="23" presetSubtype="528">
                                  <p:stCondLst>
                                    <p:cond delay="25000"/>
                                  </p:stCondLst>
                                  <p:childTnLst>
                                    <p:set>
                                      <p:cBhvr>
                                        <p:cTn id="620" dur="1" fill="hold">
                                          <p:stCondLst>
                                            <p:cond delay="0"/>
                                          </p:stCondLst>
                                        </p:cTn>
                                        <p:tgtEl>
                                          <p:spTgt spid="475"/>
                                        </p:tgtEl>
                                        <p:attrNameLst>
                                          <p:attrName>style.visibility</p:attrName>
                                        </p:attrNameLst>
                                      </p:cBhvr>
                                      <p:to>
                                        <p:strVal val="visible"/>
                                      </p:to>
                                    </p:set>
                                    <p:anim calcmode="lin" valueType="num">
                                      <p:cBhvr additive="repl">
                                        <p:cTn id="621" dur="500" fill="hold"/>
                                        <p:tgtEl>
                                          <p:spTgt spid="475"/>
                                        </p:tgtEl>
                                        <p:attrNameLst>
                                          <p:attrName>ppt_w</p:attrName>
                                        </p:attrNameLst>
                                      </p:cBhvr>
                                      <p:tavLst>
                                        <p:tav tm="0">
                                          <p:val>
                                            <p:fltVal val="0"/>
                                          </p:val>
                                        </p:tav>
                                        <p:tav tm="100000">
                                          <p:val>
                                            <p:strVal val="#ppt_w"/>
                                          </p:val>
                                        </p:tav>
                                      </p:tavLst>
                                    </p:anim>
                                    <p:anim calcmode="lin" valueType="num">
                                      <p:cBhvr additive="repl">
                                        <p:cTn id="622" dur="500" fill="hold"/>
                                        <p:tgtEl>
                                          <p:spTgt spid="475"/>
                                        </p:tgtEl>
                                        <p:attrNameLst>
                                          <p:attrName>ppt_h</p:attrName>
                                        </p:attrNameLst>
                                      </p:cBhvr>
                                      <p:tavLst>
                                        <p:tav tm="0">
                                          <p:val>
                                            <p:fltVal val="0"/>
                                          </p:val>
                                        </p:tav>
                                        <p:tav tm="100000">
                                          <p:val>
                                            <p:strVal val="#ppt_h"/>
                                          </p:val>
                                        </p:tav>
                                      </p:tavLst>
                                    </p:anim>
                                    <p:anim calcmode="lin" valueType="num">
                                      <p:cBhvr additive="repl">
                                        <p:cTn id="623" dur="500" fill="hold"/>
                                        <p:tgtEl>
                                          <p:spTgt spid="475"/>
                                        </p:tgtEl>
                                        <p:attrNameLst>
                                          <p:attrName>ppt_x</p:attrName>
                                        </p:attrNameLst>
                                      </p:cBhvr>
                                      <p:tavLst>
                                        <p:tav tm="0">
                                          <p:val>
                                            <p:fltVal val="0.5"/>
                                          </p:val>
                                        </p:tav>
                                        <p:tav tm="100000">
                                          <p:val>
                                            <p:strVal val="#ppt_x"/>
                                          </p:val>
                                        </p:tav>
                                      </p:tavLst>
                                    </p:anim>
                                    <p:anim calcmode="lin" valueType="num">
                                      <p:cBhvr additive="repl">
                                        <p:cTn id="624" dur="500" fill="hold"/>
                                        <p:tgtEl>
                                          <p:spTgt spid="4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3" name=""/>
          <p:cNvGrpSpPr/>
          <p:nvPr/>
        </p:nvGrpSpPr>
        <p:grpSpPr>
          <a:xfrm>
            <a:off x="971640" y="1773360"/>
            <a:ext cx="7315200" cy="4800600"/>
            <a:chOff x="971640" y="1773360"/>
            <a:chExt cx="7315200" cy="4800600"/>
          </a:xfrm>
        </p:grpSpPr>
        <p:sp>
          <p:nvSpPr>
            <p:cNvPr id="484" name=""/>
            <p:cNvSpPr/>
            <p:nvPr/>
          </p:nvSpPr>
          <p:spPr>
            <a:xfrm>
              <a:off x="971640" y="1773360"/>
              <a:ext cx="731520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2270160" y="2232000"/>
              <a:ext cx="4513320" cy="3961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525920" y="2227320"/>
              <a:ext cx="0" cy="395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252520" y="4205520"/>
              <a:ext cx="458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681280" y="2811600"/>
              <a:ext cx="1844640" cy="1496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941c"/>
                  </a:solidFill>
                  <a:latin typeface="Tahoma"/>
                </a:rPr>
                <a:t> </a:t>
              </a:r>
              <a:r>
                <a:rPr b="0" lang="en-US" sz="1800" spc="-1" strike="noStrike">
                  <a:solidFill>
                    <a:srgbClr val="0000a4"/>
                  </a:solidFill>
                  <a:latin typeface="Tahoma"/>
                </a:rPr>
                <a:t>Hesaplama</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Analiz</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Problem çözme</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Tahoma"/>
                </a:rPr>
                <a:t>BİLMEK</a:t>
              </a:r>
              <a:r>
                <a:rPr b="1" lang="en-US" sz="2000" spc="-1" strike="noStrike">
                  <a:solidFill>
                    <a:srgbClr val="ee941c"/>
                  </a:solidFill>
                  <a:latin typeface="Tahoma"/>
                </a:rPr>
                <a:t> </a:t>
              </a:r>
              <a:r>
                <a:rPr b="0" lang="en-US" sz="1800" spc="-1" strike="noStrike">
                  <a:solidFill>
                    <a:srgbClr val="ee941c"/>
                  </a:solidFill>
                  <a:latin typeface="Tahoma"/>
                </a:rPr>
                <a:t>    </a:t>
              </a:r>
              <a:endParaRPr b="0" lang="en-US" sz="1800" spc="-1" strike="noStrike">
                <a:solidFill>
                  <a:srgbClr val="ffffff"/>
                </a:solidFill>
                <a:latin typeface="Times New Roman"/>
              </a:endParaRPr>
            </a:p>
          </p:txBody>
        </p:sp>
        <p:sp>
          <p:nvSpPr>
            <p:cNvPr id="489" name=""/>
            <p:cNvSpPr/>
            <p:nvPr/>
          </p:nvSpPr>
          <p:spPr>
            <a:xfrm>
              <a:off x="1039680" y="2032200"/>
              <a:ext cx="2324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A Analitik</a:t>
              </a:r>
              <a:endParaRPr b="0" lang="en-US" sz="2400" spc="-1" strike="noStrike">
                <a:solidFill>
                  <a:srgbClr val="ffffff"/>
                </a:solidFill>
                <a:latin typeface="Times New Roman"/>
              </a:endParaRPr>
            </a:p>
          </p:txBody>
        </p:sp>
        <p:sp>
          <p:nvSpPr>
            <p:cNvPr id="490" name=""/>
            <p:cNvSpPr/>
            <p:nvPr/>
          </p:nvSpPr>
          <p:spPr>
            <a:xfrm>
              <a:off x="971640" y="5859720"/>
              <a:ext cx="2119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B Ardışık</a:t>
              </a:r>
              <a:endParaRPr b="0" lang="en-US" sz="2400" spc="-1" strike="noStrike">
                <a:solidFill>
                  <a:srgbClr val="ffffff"/>
                </a:solidFill>
                <a:latin typeface="Times New Roman"/>
              </a:endParaRPr>
            </a:p>
          </p:txBody>
        </p:sp>
        <p:sp>
          <p:nvSpPr>
            <p:cNvPr id="491" name=""/>
            <p:cNvSpPr/>
            <p:nvPr/>
          </p:nvSpPr>
          <p:spPr>
            <a:xfrm>
              <a:off x="6440400" y="2097360"/>
              <a:ext cx="1846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D Görsel</a:t>
              </a:r>
              <a:r>
                <a:rPr b="1" lang="en-US" sz="2400" spc="-1" strike="noStrike">
                  <a:solidFill>
                    <a:srgbClr val="ee941c"/>
                  </a:solidFill>
                  <a:latin typeface="Tahoma"/>
                </a:rPr>
                <a:t> </a:t>
              </a:r>
              <a:endParaRPr b="0" lang="en-US" sz="2400" spc="-1" strike="noStrike">
                <a:solidFill>
                  <a:srgbClr val="ffffff"/>
                </a:solidFill>
                <a:latin typeface="Times New Roman"/>
              </a:endParaRPr>
            </a:p>
          </p:txBody>
        </p:sp>
        <p:sp>
          <p:nvSpPr>
            <p:cNvPr id="492" name=""/>
            <p:cNvSpPr/>
            <p:nvPr/>
          </p:nvSpPr>
          <p:spPr>
            <a:xfrm>
              <a:off x="6372360" y="5796000"/>
              <a:ext cx="191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941c"/>
                  </a:solidFill>
                  <a:latin typeface="Tahoma"/>
                </a:rPr>
                <a:t> </a:t>
              </a:r>
              <a:r>
                <a:rPr b="1" lang="en-US" sz="2400" spc="-1" strike="noStrike">
                  <a:solidFill>
                    <a:srgbClr val="ff3300"/>
                  </a:solidFill>
                  <a:latin typeface="Tahoma"/>
                </a:rPr>
                <a:t>C Sosyal</a:t>
              </a:r>
              <a:r>
                <a:rPr b="1" lang="en-US" sz="2400" spc="-1" strike="noStrike">
                  <a:solidFill>
                    <a:srgbClr val="ee941c"/>
                  </a:solidFill>
                  <a:latin typeface="Tahoma"/>
                </a:rPr>
                <a:t> </a:t>
              </a:r>
              <a:endParaRPr b="0" lang="en-US" sz="2400" spc="-1" strike="noStrike">
                <a:solidFill>
                  <a:srgbClr val="ffffff"/>
                </a:solidFill>
                <a:latin typeface="Times New Roman"/>
              </a:endParaRPr>
            </a:p>
          </p:txBody>
        </p:sp>
        <p:sp>
          <p:nvSpPr>
            <p:cNvPr id="493" name=""/>
            <p:cNvSpPr/>
            <p:nvPr/>
          </p:nvSpPr>
          <p:spPr>
            <a:xfrm>
              <a:off x="4525920" y="2811600"/>
              <a:ext cx="21193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Vizyon Geliştir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Tasarlam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Strateji Belirle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Tahoma"/>
                </a:rPr>
                <a:t>DENEMEK</a:t>
              </a:r>
              <a:r>
                <a:rPr b="0" lang="en-US" sz="1800" spc="-1" strike="noStrike">
                  <a:solidFill>
                    <a:srgbClr val="ee941c"/>
                  </a:solidFill>
                  <a:latin typeface="Tahoma"/>
                </a:rPr>
                <a:t>   </a:t>
              </a:r>
              <a:endParaRPr b="0" lang="en-US" sz="1800" spc="-1" strike="noStrike">
                <a:solidFill>
                  <a:srgbClr val="ffffff"/>
                </a:solidFill>
                <a:latin typeface="Times New Roman"/>
              </a:endParaRPr>
            </a:p>
          </p:txBody>
        </p:sp>
        <p:sp>
          <p:nvSpPr>
            <p:cNvPr id="494" name=""/>
            <p:cNvSpPr/>
            <p:nvPr/>
          </p:nvSpPr>
          <p:spPr>
            <a:xfrm>
              <a:off x="2612880" y="4459320"/>
              <a:ext cx="1844640" cy="1221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Tahoma"/>
                </a:rPr>
                <a:t>YAPMAK</a:t>
              </a:r>
              <a:r>
                <a:rPr b="0" lang="en-US" sz="1800" spc="-1" strike="noStrike">
                  <a:solidFill>
                    <a:srgbClr val="0000a4"/>
                  </a:solidFill>
                  <a:latin typeface="Tahoma"/>
                </a:rPr>
                <a:t> Planlama</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Düzenleme</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Uygulama</a:t>
              </a:r>
              <a:r>
                <a:rPr b="0" lang="en-US" sz="1800" spc="-1" strike="noStrike">
                  <a:solidFill>
                    <a:srgbClr val="ee941c"/>
                  </a:solidFill>
                  <a:latin typeface="Tahoma"/>
                </a:rPr>
                <a:t>     </a:t>
              </a:r>
              <a:endParaRPr b="0" lang="en-US" sz="1800" spc="-1" strike="noStrike">
                <a:solidFill>
                  <a:srgbClr val="ffffff"/>
                </a:solidFill>
                <a:latin typeface="Times New Roman"/>
              </a:endParaRPr>
            </a:p>
          </p:txBody>
        </p:sp>
        <p:sp>
          <p:nvSpPr>
            <p:cNvPr id="495" name=""/>
            <p:cNvSpPr/>
            <p:nvPr/>
          </p:nvSpPr>
          <p:spPr>
            <a:xfrm>
              <a:off x="4525920" y="4459320"/>
              <a:ext cx="25304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Tahoma"/>
                </a:rPr>
                <a:t>HİSSETME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Parçası olm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Yönlendir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ahoma"/>
                </a:rPr>
                <a:t>İletişim Kurma</a:t>
              </a:r>
              <a:endParaRPr b="0" lang="en-US" sz="1800" spc="-1" strike="noStrike">
                <a:solidFill>
                  <a:srgbClr val="ffffff"/>
                </a:solidFill>
                <a:latin typeface="Times New Roman"/>
              </a:endParaRPr>
            </a:p>
          </p:txBody>
        </p:sp>
      </p:grpSp>
      <p:sp>
        <p:nvSpPr>
          <p:cNvPr id="496" name=""/>
          <p:cNvSpPr/>
          <p:nvPr/>
        </p:nvSpPr>
        <p:spPr>
          <a:xfrm>
            <a:off x="971640" y="836640"/>
            <a:ext cx="7345440" cy="5508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imes New Roman"/>
              </a:rPr>
              <a:t> </a:t>
            </a:r>
            <a:r>
              <a:rPr b="1" lang="en-US" sz="2800" spc="-1" strike="noStrike">
                <a:solidFill>
                  <a:srgbClr val="ff3300"/>
                </a:solidFill>
                <a:latin typeface="Arial"/>
              </a:rPr>
              <a:t>Dört Çeyrek Daireli Zihinsel Tercih Modeli</a:t>
            </a:r>
            <a:endParaRPr b="0" lang="en-US" sz="2800" spc="-1" strike="noStrike">
              <a:solidFill>
                <a:srgbClr val="ffffff"/>
              </a:solidFill>
              <a:latin typeface="Times New Roman"/>
            </a:endParaRPr>
          </a:p>
        </p:txBody>
      </p:sp>
    </p:spTree>
  </p:cSld>
  <p:transition>
    <p:dissolv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496"/>
                                        </p:tgtEl>
                                        <p:attrNameLst>
                                          <p:attrName>style.visibility</p:attrName>
                                        </p:attrNameLst>
                                      </p:cBhvr>
                                      <p:to>
                                        <p:strVal val="visible"/>
                                      </p:to>
                                    </p:set>
                                    <p:anim calcmode="lin" valueType="num">
                                      <p:cBhvr additive="base">
                                        <p:cTn id="631" dur="500" fill="hold"/>
                                        <p:tgtEl>
                                          <p:spTgt spid="496"/>
                                        </p:tgtEl>
                                        <p:attrNameLst>
                                          <p:attrName>ppt_x</p:attrName>
                                        </p:attrNameLst>
                                      </p:cBhvr>
                                      <p:tavLst>
                                        <p:tav tm="0">
                                          <p:val>
                                            <p:strVal val="0-#ppt_w/2"/>
                                          </p:val>
                                        </p:tav>
                                        <p:tav tm="100000">
                                          <p:val>
                                            <p:strVal val="#ppt_x"/>
                                          </p:val>
                                        </p:tav>
                                      </p:tavLst>
                                    </p:anim>
                                    <p:anim calcmode="lin" valueType="num">
                                      <p:cBhvr additive="base">
                                        <p:cTn id="632"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1143000" y="2541600"/>
            <a:ext cx="695016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093160" y="2060640"/>
            <a:ext cx="0" cy="41670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143000" y="2060640"/>
            <a:ext cx="0" cy="41670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143000" y="6227640"/>
            <a:ext cx="6950160" cy="0"/>
          </a:xfrm>
          <a:prstGeom prst="line">
            <a:avLst/>
          </a:prstGeom>
          <a:ln w="38160">
            <a:solidFill>
              <a:srgbClr val="ee941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1143000" y="2057040"/>
            <a:ext cx="6934320" cy="3240"/>
          </a:xfrm>
          <a:prstGeom prst="line">
            <a:avLst/>
          </a:prstGeom>
          <a:ln w="38160">
            <a:solidFill>
              <a:srgbClr val="ffcc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02" name=""/>
          <p:cNvSpPr/>
          <p:nvPr/>
        </p:nvSpPr>
        <p:spPr>
          <a:xfrm>
            <a:off x="4068720" y="2060640"/>
            <a:ext cx="0" cy="416700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080040" y="2057400"/>
            <a:ext cx="0" cy="41673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1203480" y="2595600"/>
            <a:ext cx="286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Ayrıntıları sever.</a:t>
            </a:r>
            <a:endParaRPr b="0" lang="en-US" sz="2400" spc="-1" strike="noStrike">
              <a:solidFill>
                <a:srgbClr val="ffffff"/>
              </a:solidFill>
              <a:latin typeface="Times New Roman"/>
            </a:endParaRPr>
          </a:p>
        </p:txBody>
      </p:sp>
      <p:sp>
        <p:nvSpPr>
          <p:cNvPr id="505" name=""/>
          <p:cNvSpPr/>
          <p:nvPr/>
        </p:nvSpPr>
        <p:spPr>
          <a:xfrm>
            <a:off x="1143000" y="2060640"/>
            <a:ext cx="2620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Bireysel Tercihler</a:t>
            </a:r>
            <a:endParaRPr b="0" lang="en-US" sz="2400" spc="-1" strike="noStrike">
              <a:solidFill>
                <a:srgbClr val="ffffff"/>
              </a:solidFill>
              <a:latin typeface="Times New Roman"/>
            </a:endParaRPr>
          </a:p>
        </p:txBody>
      </p:sp>
      <p:sp>
        <p:nvSpPr>
          <p:cNvPr id="506" name=""/>
          <p:cNvSpPr/>
          <p:nvPr/>
        </p:nvSpPr>
        <p:spPr>
          <a:xfrm>
            <a:off x="4006800" y="2060640"/>
            <a:ext cx="213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Kişilik</a:t>
            </a:r>
            <a:endParaRPr b="0" lang="en-US" sz="2400" spc="-1" strike="noStrike">
              <a:solidFill>
                <a:srgbClr val="ffffff"/>
              </a:solidFill>
              <a:latin typeface="Times New Roman"/>
            </a:endParaRPr>
          </a:p>
        </p:txBody>
      </p:sp>
      <p:sp>
        <p:nvSpPr>
          <p:cNvPr id="507" name=""/>
          <p:cNvSpPr/>
          <p:nvPr/>
        </p:nvSpPr>
        <p:spPr>
          <a:xfrm>
            <a:off x="6141960" y="2608200"/>
            <a:ext cx="1889280" cy="43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Avukat</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Mühendis</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Teknisyen</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Bankacı</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Doktor</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Bilgisayar                                                 uzmanı</a:t>
            </a:r>
            <a:endParaRPr b="0" lang="en-US" sz="2400" spc="-1" strike="noStrike">
              <a:solidFill>
                <a:srgbClr val="ffffff"/>
              </a:solidFill>
              <a:latin typeface="Times New Roman"/>
            </a:endParaRPr>
          </a:p>
        </p:txBody>
      </p:sp>
      <p:sp>
        <p:nvSpPr>
          <p:cNvPr id="508" name=""/>
          <p:cNvSpPr/>
          <p:nvPr/>
        </p:nvSpPr>
        <p:spPr>
          <a:xfrm>
            <a:off x="6172200" y="206064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ahoma"/>
              </a:rPr>
              <a:t>Meslekler</a:t>
            </a:r>
            <a:endParaRPr b="0" lang="en-US" sz="2400" spc="-1" strike="noStrike">
              <a:solidFill>
                <a:srgbClr val="ffffff"/>
              </a:solidFill>
              <a:latin typeface="Times New Roman"/>
            </a:endParaRPr>
          </a:p>
        </p:txBody>
      </p:sp>
      <p:sp>
        <p:nvSpPr>
          <p:cNvPr id="509" name=""/>
          <p:cNvSpPr/>
          <p:nvPr/>
        </p:nvSpPr>
        <p:spPr>
          <a:xfrm>
            <a:off x="4130640" y="2820960"/>
            <a:ext cx="1949400" cy="26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Otoriter</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Akademik</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Materyalist</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Gerçekçi</a:t>
            </a:r>
            <a:endParaRPr b="0" lang="en-US" sz="2400" spc="-1" strike="noStrike">
              <a:solidFill>
                <a:srgbClr val="ffffff"/>
              </a:solidFill>
              <a:latin typeface="Times New Roman"/>
            </a:endParaRPr>
          </a:p>
          <a:p>
            <a:pPr>
              <a:lnSpc>
                <a:spcPct val="100000"/>
              </a:lnSpc>
              <a:spcBef>
                <a:spcPts val="711"/>
              </a:spcBef>
              <a:spcAft>
                <a:spcPts val="71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a4"/>
                </a:solidFill>
                <a:latin typeface="Tahoma"/>
              </a:rPr>
              <a:t>Entelektüel</a:t>
            </a:r>
            <a:endParaRPr b="0" lang="en-US" sz="2300" spc="-1" strike="noStrike">
              <a:solidFill>
                <a:srgbClr val="ffffff"/>
              </a:solidFill>
              <a:latin typeface="Times New Roman"/>
            </a:endParaRPr>
          </a:p>
        </p:txBody>
      </p:sp>
      <p:sp>
        <p:nvSpPr>
          <p:cNvPr id="510" name=""/>
          <p:cNvSpPr/>
          <p:nvPr/>
        </p:nvSpPr>
        <p:spPr>
          <a:xfrm>
            <a:off x="1203480" y="3343320"/>
            <a:ext cx="286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Teori üretmeye bayılır.</a:t>
            </a:r>
            <a:endParaRPr b="0" lang="en-US" sz="2400" spc="-1" strike="noStrike">
              <a:solidFill>
                <a:srgbClr val="ffffff"/>
              </a:solidFill>
              <a:latin typeface="Times New Roman"/>
            </a:endParaRPr>
          </a:p>
        </p:txBody>
      </p:sp>
      <p:sp>
        <p:nvSpPr>
          <p:cNvPr id="511" name=""/>
          <p:cNvSpPr/>
          <p:nvPr/>
        </p:nvSpPr>
        <p:spPr>
          <a:xfrm>
            <a:off x="1203480" y="4411800"/>
            <a:ext cx="286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İnsanlardan çok “şey”lerle ilgilenir</a:t>
            </a:r>
            <a:endParaRPr b="0" lang="en-US" sz="2400" spc="-1" strike="noStrike">
              <a:solidFill>
                <a:srgbClr val="ffffff"/>
              </a:solidFill>
              <a:latin typeface="Times New Roman"/>
            </a:endParaRPr>
          </a:p>
        </p:txBody>
      </p:sp>
      <p:sp>
        <p:nvSpPr>
          <p:cNvPr id="512" name=""/>
          <p:cNvSpPr/>
          <p:nvPr/>
        </p:nvSpPr>
        <p:spPr>
          <a:xfrm>
            <a:off x="1203480" y="5435640"/>
            <a:ext cx="286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Ders Kitaplarını severek okur.</a:t>
            </a:r>
            <a:endParaRPr b="0" lang="en-US" sz="2400" spc="-1" strike="noStrike">
              <a:solidFill>
                <a:srgbClr val="ffffff"/>
              </a:solidFill>
              <a:latin typeface="Times New Roman"/>
            </a:endParaRPr>
          </a:p>
        </p:txBody>
      </p:sp>
      <p:sp>
        <p:nvSpPr>
          <p:cNvPr id="513" name=""/>
          <p:cNvSpPr/>
          <p:nvPr/>
        </p:nvSpPr>
        <p:spPr>
          <a:xfrm>
            <a:off x="990720" y="92880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EKNİK DÜŞÜNENLERİN ÖZELLİKLERİ</a:t>
            </a:r>
            <a:endParaRPr b="0" lang="en-US" sz="2800" spc="-1" strike="noStrike">
              <a:solidFill>
                <a:srgbClr val="ffffff"/>
              </a:solidFill>
              <a:latin typeface="Times New Roman"/>
            </a:endParaRPr>
          </a:p>
        </p:txBody>
      </p:sp>
    </p:spTree>
  </p:cSld>
  <p:transition>
    <p:dissolve/>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32">
                                  <p:stCondLst>
                                    <p:cond delay="0"/>
                                  </p:stCondLst>
                                  <p:childTnLst>
                                    <p:set>
                                      <p:cBhvr>
                                        <p:cTn id="638" dur="1" fill="hold">
                                          <p:stCondLst>
                                            <p:cond delay="0"/>
                                          </p:stCondLst>
                                        </p:cTn>
                                        <p:tgtEl>
                                          <p:spTgt spid="513"/>
                                        </p:tgtEl>
                                        <p:attrNameLst>
                                          <p:attrName>style.visibility</p:attrName>
                                        </p:attrNameLst>
                                      </p:cBhvr>
                                      <p:to>
                                        <p:strVal val="visible"/>
                                      </p:to>
                                    </p:set>
                                    <p:animEffect filter="box(out)" transition="in">
                                      <p:cBhvr additive="repl">
                                        <p:cTn id="639" dur="500"/>
                                        <p:tgtEl>
                                          <p:spTgt spid="51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1">
                                  <p:stCondLst>
                                    <p:cond delay="0"/>
                                  </p:stCondLst>
                                  <p:childTnLst>
                                    <p:set>
                                      <p:cBhvr>
                                        <p:cTn id="643" dur="1" fill="hold">
                                          <p:stCondLst>
                                            <p:cond delay="0"/>
                                          </p:stCondLst>
                                        </p:cTn>
                                        <p:tgtEl>
                                          <p:spTgt spid="505"/>
                                        </p:tgtEl>
                                        <p:attrNameLst>
                                          <p:attrName>style.visibility</p:attrName>
                                        </p:attrNameLst>
                                      </p:cBhvr>
                                      <p:to>
                                        <p:strVal val="visible"/>
                                      </p:to>
                                    </p:set>
                                    <p:anim calcmode="lin" valueType="num">
                                      <p:cBhvr additive="base">
                                        <p:cTn id="644" dur="500" fill="hold"/>
                                        <p:tgtEl>
                                          <p:spTgt spid="505"/>
                                        </p:tgtEl>
                                        <p:attrNameLst>
                                          <p:attrName>ppt_x</p:attrName>
                                        </p:attrNameLst>
                                      </p:cBhvr>
                                      <p:tavLst>
                                        <p:tav tm="0">
                                          <p:val>
                                            <p:strVal val="#ppt_x"/>
                                          </p:val>
                                        </p:tav>
                                        <p:tav tm="100000">
                                          <p:val>
                                            <p:strVal val="#ppt_x"/>
                                          </p:val>
                                        </p:tav>
                                      </p:tavLst>
                                    </p:anim>
                                    <p:anim calcmode="lin" valueType="num">
                                      <p:cBhvr additive="base">
                                        <p:cTn id="645" dur="500" fill="hold"/>
                                        <p:tgtEl>
                                          <p:spTgt spid="505"/>
                                        </p:tgtEl>
                                        <p:attrNameLst>
                                          <p:attrName>ppt_y</p:attrName>
                                        </p:attrNameLst>
                                      </p:cBhvr>
                                      <p:tavLst>
                                        <p:tav tm="0">
                                          <p:val>
                                            <p:strVal val="0-#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32">
                                  <p:stCondLst>
                                    <p:cond delay="0"/>
                                  </p:stCondLst>
                                  <p:childTnLst>
                                    <p:set>
                                      <p:cBhvr>
                                        <p:cTn id="649" dur="1" fill="hold">
                                          <p:stCondLst>
                                            <p:cond delay="0"/>
                                          </p:stCondLst>
                                        </p:cTn>
                                        <p:tgtEl>
                                          <p:spTgt spid="504"/>
                                        </p:tgtEl>
                                        <p:attrNameLst>
                                          <p:attrName>style.visibility</p:attrName>
                                        </p:attrNameLst>
                                      </p:cBhvr>
                                      <p:to>
                                        <p:strVal val="visible"/>
                                      </p:to>
                                    </p:set>
                                    <p:animEffect filter="box(out)" transition="in">
                                      <p:cBhvr additive="repl">
                                        <p:cTn id="650" dur="500"/>
                                        <p:tgtEl>
                                          <p:spTgt spid="504"/>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 presetSubtype="32">
                                  <p:stCondLst>
                                    <p:cond delay="0"/>
                                  </p:stCondLst>
                                  <p:childTnLst>
                                    <p:set>
                                      <p:cBhvr>
                                        <p:cTn id="654" dur="1" fill="hold">
                                          <p:stCondLst>
                                            <p:cond delay="0"/>
                                          </p:stCondLst>
                                        </p:cTn>
                                        <p:tgtEl>
                                          <p:spTgt spid="510"/>
                                        </p:tgtEl>
                                        <p:attrNameLst>
                                          <p:attrName>style.visibility</p:attrName>
                                        </p:attrNameLst>
                                      </p:cBhvr>
                                      <p:to>
                                        <p:strVal val="visible"/>
                                      </p:to>
                                    </p:set>
                                    <p:animEffect filter="box(out)" transition="in">
                                      <p:cBhvr additive="repl">
                                        <p:cTn id="655" dur="500"/>
                                        <p:tgtEl>
                                          <p:spTgt spid="5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 presetSubtype="32">
                                  <p:stCondLst>
                                    <p:cond delay="0"/>
                                  </p:stCondLst>
                                  <p:childTnLst>
                                    <p:set>
                                      <p:cBhvr>
                                        <p:cTn id="659" dur="1" fill="hold">
                                          <p:stCondLst>
                                            <p:cond delay="0"/>
                                          </p:stCondLst>
                                        </p:cTn>
                                        <p:tgtEl>
                                          <p:spTgt spid="511"/>
                                        </p:tgtEl>
                                        <p:attrNameLst>
                                          <p:attrName>style.visibility</p:attrName>
                                        </p:attrNameLst>
                                      </p:cBhvr>
                                      <p:to>
                                        <p:strVal val="visible"/>
                                      </p:to>
                                    </p:set>
                                    <p:animEffect filter="box(out)" transition="in">
                                      <p:cBhvr additive="repl">
                                        <p:cTn id="660" dur="500"/>
                                        <p:tgtEl>
                                          <p:spTgt spid="51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 presetSubtype="32">
                                  <p:stCondLst>
                                    <p:cond delay="0"/>
                                  </p:stCondLst>
                                  <p:childTnLst>
                                    <p:set>
                                      <p:cBhvr>
                                        <p:cTn id="664" dur="1" fill="hold">
                                          <p:stCondLst>
                                            <p:cond delay="0"/>
                                          </p:stCondLst>
                                        </p:cTn>
                                        <p:tgtEl>
                                          <p:spTgt spid="512"/>
                                        </p:tgtEl>
                                        <p:attrNameLst>
                                          <p:attrName>style.visibility</p:attrName>
                                        </p:attrNameLst>
                                      </p:cBhvr>
                                      <p:to>
                                        <p:strVal val="visible"/>
                                      </p:to>
                                    </p:set>
                                    <p:animEffect filter="box(out)" transition="in">
                                      <p:cBhvr additive="repl">
                                        <p:cTn id="665" dur="500"/>
                                        <p:tgtEl>
                                          <p:spTgt spid="51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506"/>
                                        </p:tgtEl>
                                        <p:attrNameLst>
                                          <p:attrName>style.visibility</p:attrName>
                                        </p:attrNameLst>
                                      </p:cBhvr>
                                      <p:to>
                                        <p:strVal val="visible"/>
                                      </p:to>
                                    </p:set>
                                    <p:animEffect filter="checkerboard(across)" transition="in">
                                      <p:cBhvr additive="repl">
                                        <p:cTn id="670" dur="500"/>
                                        <p:tgtEl>
                                          <p:spTgt spid="506"/>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509"/>
                                        </p:tgtEl>
                                        <p:attrNameLst>
                                          <p:attrName>style.visibility</p:attrName>
                                        </p:attrNameLst>
                                      </p:cBhvr>
                                      <p:to>
                                        <p:strVal val="visible"/>
                                      </p:to>
                                    </p:set>
                                    <p:animEffect filter="box(in)" transition="in">
                                      <p:cBhvr additive="repl">
                                        <p:cTn id="675" dur="500"/>
                                        <p:tgtEl>
                                          <p:spTgt spid="509"/>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dur="1" fill="hold">
                                          <p:stCondLst>
                                            <p:cond delay="0"/>
                                          </p:stCondLst>
                                        </p:cTn>
                                        <p:tgtEl>
                                          <p:spTgt spid="508"/>
                                        </p:tgtEl>
                                        <p:attrNameLst>
                                          <p:attrName>style.visibility</p:attrName>
                                        </p:attrNameLst>
                                      </p:cBhvr>
                                      <p:to>
                                        <p:strVal val="visible"/>
                                      </p:to>
                                    </p:set>
                                    <p:animEffect filter="slide(fromBottom)" transition="in">
                                      <p:cBhvr additive="repl">
                                        <p:cTn id="680" dur="500"/>
                                        <p:tgtEl>
                                          <p:spTgt spid="508"/>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507"/>
                                        </p:tgtEl>
                                        <p:attrNameLst>
                                          <p:attrName>style.visibility</p:attrName>
                                        </p:attrNameLst>
                                      </p:cBhvr>
                                      <p:to>
                                        <p:strVal val="visible"/>
                                      </p:to>
                                    </p:set>
                                    <p:animEffect filter="checkerboard(across)" transition="in">
                                      <p:cBhvr additive="repl">
                                        <p:cTn id="685"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0" y="620640"/>
            <a:ext cx="8893080" cy="511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rPr>
              <a:t>BEYİN </a:t>
            </a:r>
            <a:endPar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rPr>
              <a:t>VE </a:t>
            </a:r>
            <a:endPar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rPr>
              <a:t> </a:t>
            </a:r>
            <a:r>
              <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rPr>
              <a:t>ÖĞRENME</a:t>
            </a:r>
            <a:endParaRPr b="1" lang="en-US" sz="2400" spc="1" strike="noStrike">
              <a:ln w="9360">
                <a:solidFill>
                  <a:srgbClr val="ffff00"/>
                </a:solidFill>
                <a:miter/>
              </a:ln>
              <a:solidFill>
                <a:srgbClr val="ff3300"/>
              </a:solidFill>
              <a:effectLst>
                <a:outerShdw dist="125228" dir="12234740" blurRad="0" rotWithShape="0">
                  <a:srgbClr val="ffff00">
                    <a:alpha val="50000"/>
                  </a:srgbClr>
                </a:outerShdw>
              </a:effectLst>
              <a:latin typeface="Arial"/>
              <a:ea typeface="Arial"/>
            </a:endParaRPr>
          </a:p>
        </p:txBody>
      </p:sp>
    </p:spTree>
  </p:cSld>
  <p:transition>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1">
                                  <p:stCondLst>
                                    <p:cond delay="0"/>
                                  </p:stCondLst>
                                  <p:iterate type="lt">
                                    <p:tmAbs val="50"/>
                                  </p:iterate>
                                  <p:childTnLst>
                                    <p:set>
                                      <p:cBhvr>
                                        <p:cTn id="103" dur="1" fill="hold">
                                          <p:stCondLst>
                                            <p:cond delay="0"/>
                                          </p:stCondLst>
                                        </p:cTn>
                                        <p:tgtEl>
                                          <p:spTgt spid="96"/>
                                        </p:tgtEl>
                                        <p:attrNameLst>
                                          <p:attrName>style.visibility</p:attrName>
                                        </p:attrNameLst>
                                      </p:cBhvr>
                                      <p:to>
                                        <p:strVal val="visible"/>
                                      </p:to>
                                    </p:set>
                                    <p:anim calcmode="lin" valueType="num">
                                      <p:cBhvr additive="repl">
                                        <p:cTn id="104" dur="1000" fill="hold"/>
                                        <p:tgtEl>
                                          <p:spTgt spid="96"/>
                                        </p:tgtEl>
                                        <p:attrNameLst>
                                          <p:attrName>ppt_w</p:attrName>
                                        </p:attrNameLst>
                                      </p:cBhvr>
                                      <p:tavLst>
                                        <p:tav tm="0">
                                          <p:val>
                                            <p:fltVal val="0"/>
                                          </p:val>
                                        </p:tav>
                                        <p:tav tm="100000">
                                          <p:val>
                                            <p:strVal val="#ppt_w"/>
                                          </p:val>
                                        </p:tav>
                                      </p:tavLst>
                                    </p:anim>
                                    <p:anim calcmode="lin" valueType="num">
                                      <p:cBhvr additive="repl">
                                        <p:cTn id="105" dur="1000" fill="hold"/>
                                        <p:tgtEl>
                                          <p:spTgt spid="96"/>
                                        </p:tgtEl>
                                        <p:attrNameLst>
                                          <p:attrName>ppt_h</p:attrName>
                                        </p:attrNameLst>
                                      </p:cBhvr>
                                      <p:tavLst>
                                        <p:tav tm="0">
                                          <p:val>
                                            <p:fltVal val="0"/>
                                          </p:val>
                                        </p:tav>
                                        <p:tav tm="100000">
                                          <p:val>
                                            <p:strVal val="#ppt_h"/>
                                          </p:val>
                                        </p:tav>
                                      </p:tavLst>
                                    </p:anim>
                                    <p:anim calcmode="lin" valueType="num">
                                      <p:cBhvr additive="repl">
                                        <p:cTn id="106" dur="1000" fill="hold"/>
                                        <p:tgtEl>
                                          <p:spTgt spid="96"/>
                                        </p:tgtEl>
                                        <p:attrNameLst>
                                          <p:attrName>r</p:attrName>
                                        </p:attrNameLst>
                                      </p:cBhvr>
                                      <p:tavLst>
                                        <p:tav tm="0">
                                          <p:val>
                                            <p:strVal val="90"/>
                                          </p:val>
                                        </p:tav>
                                        <p:tav tm="100000">
                                          <p:val>
                                            <p:strVal val="0"/>
                                          </p:val>
                                        </p:tav>
                                      </p:tavLst>
                                    </p:anim>
                                    <p:animEffect filter="fade" transition="in">
                                      <p:cBhvr additive="repl">
                                        <p:cTn id="10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
          <p:cNvSpPr/>
          <p:nvPr/>
        </p:nvSpPr>
        <p:spPr>
          <a:xfrm>
            <a:off x="993600" y="2459160"/>
            <a:ext cx="760428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597880" y="1938240"/>
            <a:ext cx="0" cy="45165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993600" y="1938240"/>
            <a:ext cx="0" cy="45165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993600" y="6454800"/>
            <a:ext cx="760428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993600" y="1938240"/>
            <a:ext cx="760428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95800" y="1938240"/>
            <a:ext cx="0" cy="451656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97560" y="1935000"/>
            <a:ext cx="0" cy="45151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074600" y="2492280"/>
            <a:ext cx="312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Planları oldukça ayrıntılıdır.</a:t>
            </a:r>
            <a:endParaRPr b="0" lang="en-US" sz="2400" spc="-1" strike="noStrike">
              <a:solidFill>
                <a:srgbClr val="ffffff"/>
              </a:solidFill>
              <a:latin typeface="Times New Roman"/>
            </a:endParaRPr>
          </a:p>
        </p:txBody>
      </p:sp>
      <p:sp>
        <p:nvSpPr>
          <p:cNvPr id="522" name=""/>
          <p:cNvSpPr/>
          <p:nvPr/>
        </p:nvSpPr>
        <p:spPr>
          <a:xfrm>
            <a:off x="993600" y="2014560"/>
            <a:ext cx="286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Tercihler</a:t>
            </a:r>
            <a:endParaRPr b="0" lang="en-US" sz="2400" spc="-1" strike="noStrike">
              <a:solidFill>
                <a:srgbClr val="ffffff"/>
              </a:solidFill>
              <a:latin typeface="Times New Roman"/>
            </a:endParaRPr>
          </a:p>
        </p:txBody>
      </p:sp>
      <p:sp>
        <p:nvSpPr>
          <p:cNvPr id="523" name=""/>
          <p:cNvSpPr/>
          <p:nvPr/>
        </p:nvSpPr>
        <p:spPr>
          <a:xfrm>
            <a:off x="4129200" y="1989000"/>
            <a:ext cx="233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şilik</a:t>
            </a:r>
            <a:endParaRPr b="0" lang="en-US" sz="2400" spc="-1" strike="noStrike">
              <a:solidFill>
                <a:srgbClr val="ffffff"/>
              </a:solidFill>
              <a:latin typeface="Times New Roman"/>
            </a:endParaRPr>
          </a:p>
        </p:txBody>
      </p:sp>
      <p:sp>
        <p:nvSpPr>
          <p:cNvPr id="524" name=""/>
          <p:cNvSpPr/>
          <p:nvPr/>
        </p:nvSpPr>
        <p:spPr>
          <a:xfrm>
            <a:off x="6464160" y="3106800"/>
            <a:ext cx="2068560" cy="21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Planlamacı</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Bürokrat</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Yönetici</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Muhasebeci</a:t>
            </a:r>
            <a:endParaRPr b="0" lang="en-US" sz="2400" spc="-1" strike="noStrike">
              <a:solidFill>
                <a:srgbClr val="ffffff"/>
              </a:solidFill>
              <a:latin typeface="Times New Roman"/>
            </a:endParaRPr>
          </a:p>
        </p:txBody>
      </p:sp>
      <p:sp>
        <p:nvSpPr>
          <p:cNvPr id="525" name=""/>
          <p:cNvSpPr/>
          <p:nvPr/>
        </p:nvSpPr>
        <p:spPr>
          <a:xfrm>
            <a:off x="6531120" y="198900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lekler</a:t>
            </a:r>
            <a:endParaRPr b="0" lang="en-US" sz="2400" spc="-1" strike="noStrike">
              <a:solidFill>
                <a:srgbClr val="ffffff"/>
              </a:solidFill>
              <a:latin typeface="Times New Roman"/>
            </a:endParaRPr>
          </a:p>
        </p:txBody>
      </p:sp>
      <p:sp>
        <p:nvSpPr>
          <p:cNvPr id="526" name=""/>
          <p:cNvSpPr/>
          <p:nvPr/>
        </p:nvSpPr>
        <p:spPr>
          <a:xfrm>
            <a:off x="4262400" y="2762280"/>
            <a:ext cx="2135160" cy="30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Gelenekçi</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Bürokrat</a:t>
            </a:r>
            <a:r>
              <a:rPr b="0" lang="en-US" sz="2400" spc="-1" strike="noStrike">
                <a:solidFill>
                  <a:srgbClr val="ee941c"/>
                </a:solidFill>
                <a:latin typeface="Tahoma"/>
              </a:rPr>
              <a:t> </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İş bitirici</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Göreve düşkün</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Titiz</a:t>
            </a:r>
            <a:endParaRPr b="0" lang="en-US" sz="2400" spc="-1" strike="noStrike">
              <a:solidFill>
                <a:srgbClr val="ffffff"/>
              </a:solidFill>
              <a:latin typeface="Times New Roman"/>
            </a:endParaRPr>
          </a:p>
        </p:txBody>
      </p:sp>
      <p:sp>
        <p:nvSpPr>
          <p:cNvPr id="527" name=""/>
          <p:cNvSpPr/>
          <p:nvPr/>
        </p:nvSpPr>
        <p:spPr>
          <a:xfrm>
            <a:off x="1060560" y="3387600"/>
            <a:ext cx="313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Hiç üşenmeden kullanma kılavuzunu  sonuna kadar okur.</a:t>
            </a:r>
            <a:endParaRPr b="0" lang="en-US" sz="2400" spc="-1" strike="noStrike">
              <a:solidFill>
                <a:srgbClr val="ffffff"/>
              </a:solidFill>
              <a:latin typeface="Times New Roman"/>
            </a:endParaRPr>
          </a:p>
        </p:txBody>
      </p:sp>
      <p:sp>
        <p:nvSpPr>
          <p:cNvPr id="528" name=""/>
          <p:cNvSpPr/>
          <p:nvPr/>
        </p:nvSpPr>
        <p:spPr>
          <a:xfrm>
            <a:off x="1060560" y="4626000"/>
            <a:ext cx="3136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Planladığı bir işi gerçekleştirmek için güzel bir arkadaş toplantısını terk edebilir..</a:t>
            </a:r>
            <a:endParaRPr b="0" lang="en-US" sz="2400" spc="-1" strike="noStrike">
              <a:solidFill>
                <a:srgbClr val="ffffff"/>
              </a:solidFill>
              <a:latin typeface="Times New Roman"/>
            </a:endParaRPr>
          </a:p>
        </p:txBody>
      </p:sp>
      <p:sp>
        <p:nvSpPr>
          <p:cNvPr id="529" name=""/>
          <p:cNvSpPr/>
          <p:nvPr/>
        </p:nvSpPr>
        <p:spPr>
          <a:xfrm>
            <a:off x="914400" y="9144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RDIŞIK DÜŞÜNENLERİN ÖZELLİKLERİ</a:t>
            </a:r>
            <a:endParaRPr b="0" lang="en-US" sz="2800" spc="-1" strike="noStrike">
              <a:solidFill>
                <a:srgbClr val="ffffff"/>
              </a:solidFill>
              <a:latin typeface="Times New Roman"/>
            </a:endParaRPr>
          </a:p>
        </p:txBody>
      </p:sp>
    </p:spTree>
  </p:cSld>
  <p:transition>
    <p:dissolv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529"/>
                                        </p:tgtEl>
                                        <p:attrNameLst>
                                          <p:attrName>style.visibility</p:attrName>
                                        </p:attrNameLst>
                                      </p:cBhvr>
                                      <p:to>
                                        <p:strVal val="visible"/>
                                      </p:to>
                                    </p:set>
                                    <p:animEffect filter="box(out)" transition="in">
                                      <p:cBhvr additive="repl">
                                        <p:cTn id="692" dur="500"/>
                                        <p:tgtEl>
                                          <p:spTgt spid="52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522"/>
                                        </p:tgtEl>
                                        <p:attrNameLst>
                                          <p:attrName>style.visibility</p:attrName>
                                        </p:attrNameLst>
                                      </p:cBhvr>
                                      <p:to>
                                        <p:strVal val="visible"/>
                                      </p:to>
                                    </p:set>
                                    <p:anim calcmode="lin" valueType="num">
                                      <p:cBhvr additive="base">
                                        <p:cTn id="697" dur="500" fill="hold"/>
                                        <p:tgtEl>
                                          <p:spTgt spid="522"/>
                                        </p:tgtEl>
                                        <p:attrNameLst>
                                          <p:attrName>ppt_x</p:attrName>
                                        </p:attrNameLst>
                                      </p:cBhvr>
                                      <p:tavLst>
                                        <p:tav tm="0">
                                          <p:val>
                                            <p:strVal val="#ppt_x"/>
                                          </p:val>
                                        </p:tav>
                                        <p:tav tm="100000">
                                          <p:val>
                                            <p:strVal val="#ppt_x"/>
                                          </p:val>
                                        </p:tav>
                                      </p:tavLst>
                                    </p:anim>
                                    <p:anim calcmode="lin" valueType="num">
                                      <p:cBhvr additive="base">
                                        <p:cTn id="6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 presetSubtype="32">
                                  <p:stCondLst>
                                    <p:cond delay="0"/>
                                  </p:stCondLst>
                                  <p:childTnLst>
                                    <p:set>
                                      <p:cBhvr>
                                        <p:cTn id="702" dur="1" fill="hold">
                                          <p:stCondLst>
                                            <p:cond delay="0"/>
                                          </p:stCondLst>
                                        </p:cTn>
                                        <p:tgtEl>
                                          <p:spTgt spid="521"/>
                                        </p:tgtEl>
                                        <p:attrNameLst>
                                          <p:attrName>style.visibility</p:attrName>
                                        </p:attrNameLst>
                                      </p:cBhvr>
                                      <p:to>
                                        <p:strVal val="visible"/>
                                      </p:to>
                                    </p:set>
                                    <p:animEffect filter="box(out)" transition="in">
                                      <p:cBhvr additive="repl">
                                        <p:cTn id="703" dur="500"/>
                                        <p:tgtEl>
                                          <p:spTgt spid="521"/>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 presetSubtype="32">
                                  <p:stCondLst>
                                    <p:cond delay="0"/>
                                  </p:stCondLst>
                                  <p:childTnLst>
                                    <p:set>
                                      <p:cBhvr>
                                        <p:cTn id="707" dur="1" fill="hold">
                                          <p:stCondLst>
                                            <p:cond delay="0"/>
                                          </p:stCondLst>
                                        </p:cTn>
                                        <p:tgtEl>
                                          <p:spTgt spid="527"/>
                                        </p:tgtEl>
                                        <p:attrNameLst>
                                          <p:attrName>style.visibility</p:attrName>
                                        </p:attrNameLst>
                                      </p:cBhvr>
                                      <p:to>
                                        <p:strVal val="visible"/>
                                      </p:to>
                                    </p:set>
                                    <p:animEffect filter="box(out)" transition="in">
                                      <p:cBhvr additive="repl">
                                        <p:cTn id="708" dur="500"/>
                                        <p:tgtEl>
                                          <p:spTgt spid="527"/>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 presetSubtype="32">
                                  <p:stCondLst>
                                    <p:cond delay="0"/>
                                  </p:stCondLst>
                                  <p:childTnLst>
                                    <p:set>
                                      <p:cBhvr>
                                        <p:cTn id="712" dur="1" fill="hold">
                                          <p:stCondLst>
                                            <p:cond delay="0"/>
                                          </p:stCondLst>
                                        </p:cTn>
                                        <p:tgtEl>
                                          <p:spTgt spid="528"/>
                                        </p:tgtEl>
                                        <p:attrNameLst>
                                          <p:attrName>style.visibility</p:attrName>
                                        </p:attrNameLst>
                                      </p:cBhvr>
                                      <p:to>
                                        <p:strVal val="visible"/>
                                      </p:to>
                                    </p:set>
                                    <p:animEffect filter="box(out)" transition="in">
                                      <p:cBhvr additive="repl">
                                        <p:cTn id="713" dur="500"/>
                                        <p:tgtEl>
                                          <p:spTgt spid="52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523"/>
                                        </p:tgtEl>
                                        <p:attrNameLst>
                                          <p:attrName>style.visibility</p:attrName>
                                        </p:attrNameLst>
                                      </p:cBhvr>
                                      <p:to>
                                        <p:strVal val="visible"/>
                                      </p:to>
                                    </p:set>
                                    <p:animEffect filter="checkerboard(across)" transition="in">
                                      <p:cBhvr additive="repl">
                                        <p:cTn id="718" dur="500"/>
                                        <p:tgtEl>
                                          <p:spTgt spid="52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 presetSubtype="16">
                                  <p:stCondLst>
                                    <p:cond delay="0"/>
                                  </p:stCondLst>
                                  <p:childTnLst>
                                    <p:set>
                                      <p:cBhvr>
                                        <p:cTn id="722" dur="1" fill="hold">
                                          <p:stCondLst>
                                            <p:cond delay="0"/>
                                          </p:stCondLst>
                                        </p:cTn>
                                        <p:tgtEl>
                                          <p:spTgt spid="526"/>
                                        </p:tgtEl>
                                        <p:attrNameLst>
                                          <p:attrName>style.visibility</p:attrName>
                                        </p:attrNameLst>
                                      </p:cBhvr>
                                      <p:to>
                                        <p:strVal val="visible"/>
                                      </p:to>
                                    </p:set>
                                    <p:animEffect filter="box(in)" transition="in">
                                      <p:cBhvr additive="repl">
                                        <p:cTn id="723" dur="500"/>
                                        <p:tgtEl>
                                          <p:spTgt spid="52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525"/>
                                        </p:tgtEl>
                                        <p:attrNameLst>
                                          <p:attrName>style.visibility</p:attrName>
                                        </p:attrNameLst>
                                      </p:cBhvr>
                                      <p:to>
                                        <p:strVal val="visible"/>
                                      </p:to>
                                    </p:set>
                                    <p:animEffect filter="slide(fromBottom)" transition="in">
                                      <p:cBhvr additive="repl">
                                        <p:cTn id="728" dur="500"/>
                                        <p:tgtEl>
                                          <p:spTgt spid="5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524"/>
                                        </p:tgtEl>
                                        <p:attrNameLst>
                                          <p:attrName>style.visibility</p:attrName>
                                        </p:attrNameLst>
                                      </p:cBhvr>
                                      <p:to>
                                        <p:strVal val="visible"/>
                                      </p:to>
                                    </p:set>
                                    <p:animEffect filter="checkerboard(across)" transition="in">
                                      <p:cBhvr additive="repl">
                                        <p:cTn id="733"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1143000" y="9907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4"/>
                </a:solidFill>
                <a:latin typeface="Arial"/>
              </a:rPr>
              <a:t>SOSYAL DÜŞÜNENLERİN ÖZELLİKLERİ</a:t>
            </a:r>
            <a:endParaRPr b="0" lang="en-US" sz="2800" spc="-1" strike="noStrike">
              <a:solidFill>
                <a:srgbClr val="ffffff"/>
              </a:solidFill>
              <a:latin typeface="Times New Roman"/>
            </a:endParaRPr>
          </a:p>
        </p:txBody>
      </p:sp>
      <p:grpSp>
        <p:nvGrpSpPr>
          <p:cNvPr id="531" name=""/>
          <p:cNvGrpSpPr/>
          <p:nvPr/>
        </p:nvGrpSpPr>
        <p:grpSpPr>
          <a:xfrm>
            <a:off x="914400" y="1557360"/>
            <a:ext cx="7772040" cy="4648320"/>
            <a:chOff x="914400" y="1557360"/>
            <a:chExt cx="7772040" cy="4648320"/>
          </a:xfrm>
        </p:grpSpPr>
        <p:sp>
          <p:nvSpPr>
            <p:cNvPr id="532" name=""/>
            <p:cNvSpPr/>
            <p:nvPr/>
          </p:nvSpPr>
          <p:spPr>
            <a:xfrm>
              <a:off x="914400" y="2096640"/>
              <a:ext cx="770472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8619120" y="1560960"/>
              <a:ext cx="0" cy="46447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914400" y="1560960"/>
              <a:ext cx="0" cy="46447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914400" y="6205680"/>
              <a:ext cx="770472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914400" y="1560960"/>
              <a:ext cx="770472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4158360" y="1560960"/>
              <a:ext cx="0" cy="4644720"/>
            </a:xfrm>
            <a:prstGeom prst="line">
              <a:avLst/>
            </a:prstGeom>
            <a:ln w="381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388560" y="1557360"/>
              <a:ext cx="0" cy="4644720"/>
            </a:xfrm>
            <a:prstGeom prst="line">
              <a:avLst/>
            </a:prstGeom>
            <a:ln w="381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982080" y="2154960"/>
              <a:ext cx="317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Dokunma, tatma ve koklama gibi duyusal girdilere önem verir.</a:t>
              </a:r>
              <a:endParaRPr b="0" lang="en-US" sz="2400" spc="-1" strike="noStrike">
                <a:solidFill>
                  <a:srgbClr val="ffffff"/>
                </a:solidFill>
                <a:latin typeface="Times New Roman"/>
              </a:endParaRPr>
            </a:p>
          </p:txBody>
        </p:sp>
        <p:sp>
          <p:nvSpPr>
            <p:cNvPr id="540" name=""/>
            <p:cNvSpPr/>
            <p:nvPr/>
          </p:nvSpPr>
          <p:spPr>
            <a:xfrm>
              <a:off x="914400" y="1679760"/>
              <a:ext cx="2906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Tercihler</a:t>
              </a:r>
              <a:endParaRPr b="0" lang="en-US" sz="2400" spc="-1" strike="noStrike">
                <a:solidFill>
                  <a:srgbClr val="ffffff"/>
                </a:solidFill>
                <a:latin typeface="Times New Roman"/>
              </a:endParaRPr>
            </a:p>
          </p:txBody>
        </p:sp>
        <p:sp>
          <p:nvSpPr>
            <p:cNvPr id="541" name=""/>
            <p:cNvSpPr/>
            <p:nvPr/>
          </p:nvSpPr>
          <p:spPr>
            <a:xfrm>
              <a:off x="4090680" y="1679760"/>
              <a:ext cx="236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şilik</a:t>
              </a:r>
              <a:endParaRPr b="0" lang="en-US" sz="2400" spc="-1" strike="noStrike">
                <a:solidFill>
                  <a:srgbClr val="ffffff"/>
                </a:solidFill>
                <a:latin typeface="Times New Roman"/>
              </a:endParaRPr>
            </a:p>
          </p:txBody>
        </p:sp>
        <p:sp>
          <p:nvSpPr>
            <p:cNvPr id="542" name=""/>
            <p:cNvSpPr/>
            <p:nvPr/>
          </p:nvSpPr>
          <p:spPr>
            <a:xfrm>
              <a:off x="6456240" y="2761920"/>
              <a:ext cx="2092320" cy="28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Öğretmen</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Hemşire</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Sosyal Hizmet Uzmanları </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Müzisyenler</a:t>
              </a:r>
              <a:endParaRPr b="0" lang="en-US" sz="2400" spc="-1" strike="noStrike">
                <a:solidFill>
                  <a:srgbClr val="ffffff"/>
                </a:solidFill>
                <a:latin typeface="Times New Roman"/>
              </a:endParaRPr>
            </a:p>
          </p:txBody>
        </p:sp>
        <p:sp>
          <p:nvSpPr>
            <p:cNvPr id="543" name=""/>
            <p:cNvSpPr/>
            <p:nvPr/>
          </p:nvSpPr>
          <p:spPr>
            <a:xfrm>
              <a:off x="6523560" y="1679760"/>
              <a:ext cx="216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lekler</a:t>
              </a:r>
              <a:endParaRPr b="0" lang="en-US" sz="2400" spc="-1" strike="noStrike">
                <a:solidFill>
                  <a:srgbClr val="ffffff"/>
                </a:solidFill>
                <a:latin typeface="Times New Roman"/>
              </a:endParaRPr>
            </a:p>
          </p:txBody>
        </p:sp>
        <p:sp>
          <p:nvSpPr>
            <p:cNvPr id="544" name=""/>
            <p:cNvSpPr/>
            <p:nvPr/>
          </p:nvSpPr>
          <p:spPr>
            <a:xfrm>
              <a:off x="4226040" y="2406960"/>
              <a:ext cx="216540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Takım Çalışmasına önem verir.</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Konuşmayı çok sever. </a:t>
              </a:r>
              <a:endParaRPr b="0" lang="en-US" sz="2400" spc="-1" strike="noStrike">
                <a:solidFill>
                  <a:srgbClr val="ffffff"/>
                </a:solidFill>
                <a:latin typeface="Times New Roman"/>
              </a:endParaRPr>
            </a:p>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Değerlerle ilgilidir.</a:t>
              </a:r>
              <a:endParaRPr b="0" lang="en-US" sz="2400" spc="-1" strike="noStrike">
                <a:solidFill>
                  <a:srgbClr val="ffffff"/>
                </a:solidFill>
                <a:latin typeface="Times New Roman"/>
              </a:endParaRPr>
            </a:p>
          </p:txBody>
        </p:sp>
        <p:sp>
          <p:nvSpPr>
            <p:cNvPr id="545" name=""/>
            <p:cNvSpPr/>
            <p:nvPr/>
          </p:nvSpPr>
          <p:spPr>
            <a:xfrm>
              <a:off x="982080" y="3524760"/>
              <a:ext cx="317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İnsanları tanımak için çaba sarf eder</a:t>
              </a:r>
              <a:endParaRPr b="0" lang="en-US" sz="2400" spc="-1" strike="noStrike">
                <a:solidFill>
                  <a:srgbClr val="ffffff"/>
                </a:solidFill>
                <a:latin typeface="Times New Roman"/>
              </a:endParaRPr>
            </a:p>
          </p:txBody>
        </p:sp>
        <p:sp>
          <p:nvSpPr>
            <p:cNvPr id="546" name=""/>
            <p:cNvSpPr/>
            <p:nvPr/>
          </p:nvSpPr>
          <p:spPr>
            <a:xfrm>
              <a:off x="982080" y="4595400"/>
              <a:ext cx="317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ahoma"/>
                </a:rPr>
                <a:t>Kitapların önsözlerini mutlaka okur.</a:t>
              </a:r>
              <a:endParaRPr b="0" lang="en-US" sz="2400" spc="-1" strike="noStrike">
                <a:solidFill>
                  <a:srgbClr val="ffffff"/>
                </a:solidFill>
                <a:latin typeface="Times New Roman"/>
              </a:endParaRPr>
            </a:p>
          </p:txBody>
        </p:sp>
      </p:grpSp>
    </p:spTree>
  </p:cSld>
  <p:transition>
    <p:dissolve/>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4" presetSubtype="32">
                                  <p:stCondLst>
                                    <p:cond delay="0"/>
                                  </p:stCondLst>
                                  <p:childTnLst>
                                    <p:set>
                                      <p:cBhvr>
                                        <p:cTn id="739" dur="1" fill="hold">
                                          <p:stCondLst>
                                            <p:cond delay="0"/>
                                          </p:stCondLst>
                                        </p:cTn>
                                        <p:tgtEl>
                                          <p:spTgt spid="530"/>
                                        </p:tgtEl>
                                        <p:attrNameLst>
                                          <p:attrName>style.visibility</p:attrName>
                                        </p:attrNameLst>
                                      </p:cBhvr>
                                      <p:to>
                                        <p:strVal val="visible"/>
                                      </p:to>
                                    </p:set>
                                    <p:animEffect filter="box(out)" transition="in">
                                      <p:cBhvr additive="repl">
                                        <p:cTn id="740"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1066680" y="2435400"/>
            <a:ext cx="72518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8318520" y="1908000"/>
            <a:ext cx="0" cy="45691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066680" y="1908000"/>
            <a:ext cx="0" cy="45691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066680" y="6477120"/>
            <a:ext cx="72518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066680" y="1908000"/>
            <a:ext cx="7251840" cy="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119480" y="1908000"/>
            <a:ext cx="0" cy="4569120"/>
          </a:xfrm>
          <a:prstGeom prst="line">
            <a:avLst/>
          </a:prstGeom>
          <a:ln w="381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219720" y="1905120"/>
            <a:ext cx="0" cy="4568760"/>
          </a:xfrm>
          <a:prstGeom prst="line">
            <a:avLst/>
          </a:prstGeom>
          <a:ln w="3816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128600" y="2492280"/>
            <a:ext cx="2992680" cy="94716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Ayrıntılardan çok bütüne önem verir.</a:t>
            </a:r>
            <a:endParaRPr b="0" lang="en-US" sz="2800" spc="-1" strike="noStrike">
              <a:solidFill>
                <a:srgbClr val="ffffff"/>
              </a:solidFill>
              <a:latin typeface="Times New Roman"/>
            </a:endParaRPr>
          </a:p>
        </p:txBody>
      </p:sp>
      <p:sp>
        <p:nvSpPr>
          <p:cNvPr id="555" name=""/>
          <p:cNvSpPr/>
          <p:nvPr/>
        </p:nvSpPr>
        <p:spPr>
          <a:xfrm>
            <a:off x="1066680" y="2025720"/>
            <a:ext cx="304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reysel Tercihler</a:t>
            </a:r>
            <a:endParaRPr b="0" lang="en-US" sz="2800" spc="-1" strike="noStrike">
              <a:solidFill>
                <a:srgbClr val="ffffff"/>
              </a:solidFill>
              <a:latin typeface="Times New Roman"/>
            </a:endParaRPr>
          </a:p>
        </p:txBody>
      </p:sp>
      <p:sp>
        <p:nvSpPr>
          <p:cNvPr id="556" name=""/>
          <p:cNvSpPr/>
          <p:nvPr/>
        </p:nvSpPr>
        <p:spPr>
          <a:xfrm>
            <a:off x="4056120" y="2025720"/>
            <a:ext cx="222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işilik</a:t>
            </a:r>
            <a:endParaRPr b="0" lang="en-US" sz="2800" spc="-1" strike="noStrike">
              <a:solidFill>
                <a:srgbClr val="ffffff"/>
              </a:solidFill>
              <a:latin typeface="Times New Roman"/>
            </a:endParaRPr>
          </a:p>
        </p:txBody>
      </p:sp>
      <p:sp>
        <p:nvSpPr>
          <p:cNvPr id="557" name=""/>
          <p:cNvSpPr/>
          <p:nvPr/>
        </p:nvSpPr>
        <p:spPr>
          <a:xfrm>
            <a:off x="6283440" y="2736720"/>
            <a:ext cx="1971720" cy="305172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imes New Roman"/>
              </a:rPr>
              <a:t>Güzel Sanatlar</a:t>
            </a:r>
            <a:endParaRPr b="0" lang="en-US" sz="2400" spc="-1" strike="noStrike">
              <a:solidFill>
                <a:srgbClr val="ffffff"/>
              </a:solidFill>
              <a:latin typeface="Times New Roman"/>
            </a:endParaRPr>
          </a:p>
          <a:p>
            <a:pPr>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imes New Roman"/>
              </a:rPr>
              <a:t>Mimarlık</a:t>
            </a:r>
            <a:endParaRPr b="0" lang="en-US" sz="2400" spc="-1" strike="noStrike">
              <a:solidFill>
                <a:srgbClr val="ffffff"/>
              </a:solidFill>
              <a:latin typeface="Times New Roman"/>
            </a:endParaRPr>
          </a:p>
          <a:p>
            <a:pPr>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imes New Roman"/>
              </a:rPr>
              <a:t>Tıp </a:t>
            </a:r>
            <a:endParaRPr b="0" lang="en-US" sz="2400" spc="-1" strike="noStrike">
              <a:solidFill>
                <a:srgbClr val="ffffff"/>
              </a:solidFill>
              <a:latin typeface="Times New Roman"/>
            </a:endParaRPr>
          </a:p>
          <a:p>
            <a:pPr>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imes New Roman"/>
              </a:rPr>
              <a:t>Fizik</a:t>
            </a:r>
            <a:endParaRPr b="0" lang="en-US" sz="2400" spc="-1" strike="noStrike">
              <a:solidFill>
                <a:srgbClr val="ffffff"/>
              </a:solidFill>
              <a:latin typeface="Times New Roman"/>
            </a:endParaRPr>
          </a:p>
          <a:p>
            <a:pPr>
              <a:spcBef>
                <a:spcPts val="751"/>
              </a:spcBef>
              <a:spcAft>
                <a:spcPts val="751"/>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Times New Roman"/>
              </a:rPr>
              <a:t>Edebiyat</a:t>
            </a:r>
            <a:endParaRPr b="0" lang="en-US" sz="2400" spc="-1" strike="noStrike">
              <a:solidFill>
                <a:srgbClr val="ffffff"/>
              </a:solidFill>
              <a:latin typeface="Times New Roman"/>
            </a:endParaRPr>
          </a:p>
        </p:txBody>
      </p:sp>
      <p:sp>
        <p:nvSpPr>
          <p:cNvPr id="558" name=""/>
          <p:cNvSpPr/>
          <p:nvPr/>
        </p:nvSpPr>
        <p:spPr>
          <a:xfrm>
            <a:off x="6346800" y="2025720"/>
            <a:ext cx="203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slekler</a:t>
            </a:r>
            <a:endParaRPr b="0" lang="en-US" sz="2800" spc="-1" strike="noStrike">
              <a:solidFill>
                <a:srgbClr val="ffffff"/>
              </a:solidFill>
              <a:latin typeface="Times New Roman"/>
            </a:endParaRPr>
          </a:p>
        </p:txBody>
      </p:sp>
      <p:sp>
        <p:nvSpPr>
          <p:cNvPr id="559" name=""/>
          <p:cNvSpPr/>
          <p:nvPr/>
        </p:nvSpPr>
        <p:spPr>
          <a:xfrm>
            <a:off x="4183200" y="2741760"/>
            <a:ext cx="2141280" cy="31168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Girişimci</a:t>
            </a:r>
            <a:endParaRPr b="0" lang="en-US" sz="2800" spc="-1" strike="noStrike">
              <a:solidFill>
                <a:srgbClr val="ffffff"/>
              </a:solidFill>
              <a:latin typeface="Times New Roman"/>
            </a:endParaRPr>
          </a:p>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Yaratıcı </a:t>
            </a:r>
            <a:endParaRPr b="0" lang="en-US" sz="2800" spc="-1" strike="noStrike">
              <a:solidFill>
                <a:srgbClr val="ffffff"/>
              </a:solidFill>
              <a:latin typeface="Times New Roman"/>
            </a:endParaRPr>
          </a:p>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Araştırıcı</a:t>
            </a:r>
            <a:endParaRPr b="0" lang="en-US" sz="2800" spc="-1" strike="noStrike">
              <a:solidFill>
                <a:srgbClr val="ffffff"/>
              </a:solidFill>
              <a:latin typeface="Times New Roman"/>
            </a:endParaRPr>
          </a:p>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Kaşif</a:t>
            </a:r>
            <a:endParaRPr b="0" lang="en-US" sz="2800" spc="-1" strike="noStrike">
              <a:solidFill>
                <a:srgbClr val="ffffff"/>
              </a:solidFill>
              <a:latin typeface="Times New Roman"/>
            </a:endParaRPr>
          </a:p>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Birleştirici</a:t>
            </a:r>
            <a:endParaRPr b="0" lang="en-US" sz="2800" spc="-1" strike="noStrike">
              <a:solidFill>
                <a:srgbClr val="ffffff"/>
              </a:solidFill>
              <a:latin typeface="Times New Roman"/>
            </a:endParaRPr>
          </a:p>
        </p:txBody>
      </p:sp>
      <p:sp>
        <p:nvSpPr>
          <p:cNvPr id="560" name=""/>
          <p:cNvSpPr/>
          <p:nvPr/>
        </p:nvSpPr>
        <p:spPr>
          <a:xfrm>
            <a:off x="1128600" y="3840120"/>
            <a:ext cx="2992680" cy="94716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Mantıktan çok sezgisine güvenir.</a:t>
            </a:r>
            <a:endParaRPr b="0" lang="en-US" sz="2800" spc="-1" strike="noStrike">
              <a:solidFill>
                <a:srgbClr val="ffffff"/>
              </a:solidFill>
              <a:latin typeface="Times New Roman"/>
            </a:endParaRPr>
          </a:p>
        </p:txBody>
      </p:sp>
      <p:sp>
        <p:nvSpPr>
          <p:cNvPr id="561" name=""/>
          <p:cNvSpPr/>
          <p:nvPr/>
        </p:nvSpPr>
        <p:spPr>
          <a:xfrm>
            <a:off x="1128600" y="4896000"/>
            <a:ext cx="2992680" cy="137376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buClr>
                <a:srgbClr val="0000a4"/>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4"/>
                </a:solidFill>
                <a:latin typeface="Times New Roman"/>
              </a:rPr>
              <a:t>Aykırı düşünmeye ve bu tür sorulara bayılır</a:t>
            </a:r>
            <a:r>
              <a:rPr b="0" lang="en-US" sz="2800" spc="-1" strike="noStrike">
                <a:solidFill>
                  <a:srgbClr val="ee941c"/>
                </a:solidFill>
                <a:latin typeface="Times New Roman"/>
              </a:rPr>
              <a:t>.</a:t>
            </a:r>
            <a:endParaRPr b="0" lang="en-US" sz="2800" spc="-1" strike="noStrike">
              <a:solidFill>
                <a:srgbClr val="ffffff"/>
              </a:solidFill>
              <a:latin typeface="Times New Roman"/>
            </a:endParaRPr>
          </a:p>
        </p:txBody>
      </p:sp>
      <p:sp>
        <p:nvSpPr>
          <p:cNvPr id="562" name=""/>
          <p:cNvSpPr/>
          <p:nvPr/>
        </p:nvSpPr>
        <p:spPr>
          <a:xfrm>
            <a:off x="914400" y="108108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ÜTÜNSEL DÜŞÜNENLERİN ÖZELLİKLERİ</a:t>
            </a:r>
            <a:endParaRPr b="0" lang="en-US" sz="2800" spc="-1" strike="noStrike">
              <a:solidFill>
                <a:srgbClr val="ffffff"/>
              </a:solidFill>
              <a:latin typeface="Times New Roman"/>
            </a:endParaRPr>
          </a:p>
        </p:txBody>
      </p:sp>
    </p:spTree>
  </p:cSld>
  <p:transition>
    <p:dissolv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4" presetSubtype="32">
                                  <p:stCondLst>
                                    <p:cond delay="0"/>
                                  </p:stCondLst>
                                  <p:childTnLst>
                                    <p:set>
                                      <p:cBhvr>
                                        <p:cTn id="746" dur="1" fill="hold">
                                          <p:stCondLst>
                                            <p:cond delay="0"/>
                                          </p:stCondLst>
                                        </p:cTn>
                                        <p:tgtEl>
                                          <p:spTgt spid="562"/>
                                        </p:tgtEl>
                                        <p:attrNameLst>
                                          <p:attrName>style.visibility</p:attrName>
                                        </p:attrNameLst>
                                      </p:cBhvr>
                                      <p:to>
                                        <p:strVal val="visible"/>
                                      </p:to>
                                    </p:set>
                                    <p:animEffect filter="box(out)" transition="in">
                                      <p:cBhvr additive="repl">
                                        <p:cTn id="747" dur="500"/>
                                        <p:tgtEl>
                                          <p:spTgt spid="56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1">
                                  <p:stCondLst>
                                    <p:cond delay="0"/>
                                  </p:stCondLst>
                                  <p:childTnLst>
                                    <p:set>
                                      <p:cBhvr>
                                        <p:cTn id="751" dur="1" fill="hold">
                                          <p:stCondLst>
                                            <p:cond delay="0"/>
                                          </p:stCondLst>
                                        </p:cTn>
                                        <p:tgtEl>
                                          <p:spTgt spid="555"/>
                                        </p:tgtEl>
                                        <p:attrNameLst>
                                          <p:attrName>style.visibility</p:attrName>
                                        </p:attrNameLst>
                                      </p:cBhvr>
                                      <p:to>
                                        <p:strVal val="visible"/>
                                      </p:to>
                                    </p:set>
                                    <p:anim calcmode="lin" valueType="num">
                                      <p:cBhvr additive="base">
                                        <p:cTn id="752" dur="500" fill="hold"/>
                                        <p:tgtEl>
                                          <p:spTgt spid="555"/>
                                        </p:tgtEl>
                                        <p:attrNameLst>
                                          <p:attrName>ppt_x</p:attrName>
                                        </p:attrNameLst>
                                      </p:cBhvr>
                                      <p:tavLst>
                                        <p:tav tm="0">
                                          <p:val>
                                            <p:strVal val="#ppt_x"/>
                                          </p:val>
                                        </p:tav>
                                        <p:tav tm="100000">
                                          <p:val>
                                            <p:strVal val="#ppt_x"/>
                                          </p:val>
                                        </p:tav>
                                      </p:tavLst>
                                    </p:anim>
                                    <p:anim calcmode="lin" valueType="num">
                                      <p:cBhvr additive="base">
                                        <p:cTn id="753" dur="500" fill="hold"/>
                                        <p:tgtEl>
                                          <p:spTgt spid="555"/>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 presetSubtype="32">
                                  <p:stCondLst>
                                    <p:cond delay="0"/>
                                  </p:stCondLst>
                                  <p:childTnLst>
                                    <p:set>
                                      <p:cBhvr>
                                        <p:cTn id="757" dur="1" fill="hold">
                                          <p:stCondLst>
                                            <p:cond delay="0"/>
                                          </p:stCondLst>
                                        </p:cTn>
                                        <p:tgtEl>
                                          <p:spTgt spid="554"/>
                                        </p:tgtEl>
                                        <p:attrNameLst>
                                          <p:attrName>style.visibility</p:attrName>
                                        </p:attrNameLst>
                                      </p:cBhvr>
                                      <p:to>
                                        <p:strVal val="visible"/>
                                      </p:to>
                                    </p:set>
                                    <p:animEffect filter="box(out)" transition="in">
                                      <p:cBhvr additive="repl">
                                        <p:cTn id="758" dur="500"/>
                                        <p:tgtEl>
                                          <p:spTgt spid="554"/>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4" presetSubtype="32">
                                  <p:stCondLst>
                                    <p:cond delay="0"/>
                                  </p:stCondLst>
                                  <p:childTnLst>
                                    <p:set>
                                      <p:cBhvr>
                                        <p:cTn id="762" dur="1" fill="hold">
                                          <p:stCondLst>
                                            <p:cond delay="0"/>
                                          </p:stCondLst>
                                        </p:cTn>
                                        <p:tgtEl>
                                          <p:spTgt spid="560"/>
                                        </p:tgtEl>
                                        <p:attrNameLst>
                                          <p:attrName>style.visibility</p:attrName>
                                        </p:attrNameLst>
                                      </p:cBhvr>
                                      <p:to>
                                        <p:strVal val="visible"/>
                                      </p:to>
                                    </p:set>
                                    <p:animEffect filter="box(out)" transition="in">
                                      <p:cBhvr additive="repl">
                                        <p:cTn id="763" dur="500"/>
                                        <p:tgtEl>
                                          <p:spTgt spid="560"/>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 presetSubtype="32">
                                  <p:stCondLst>
                                    <p:cond delay="0"/>
                                  </p:stCondLst>
                                  <p:childTnLst>
                                    <p:set>
                                      <p:cBhvr>
                                        <p:cTn id="767" dur="1" fill="hold">
                                          <p:stCondLst>
                                            <p:cond delay="0"/>
                                          </p:stCondLst>
                                        </p:cTn>
                                        <p:tgtEl>
                                          <p:spTgt spid="561"/>
                                        </p:tgtEl>
                                        <p:attrNameLst>
                                          <p:attrName>style.visibility</p:attrName>
                                        </p:attrNameLst>
                                      </p:cBhvr>
                                      <p:to>
                                        <p:strVal val="visible"/>
                                      </p:to>
                                    </p:set>
                                    <p:animEffect filter="box(out)" transition="in">
                                      <p:cBhvr additive="repl">
                                        <p:cTn id="768" dur="500"/>
                                        <p:tgtEl>
                                          <p:spTgt spid="561"/>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556"/>
                                        </p:tgtEl>
                                        <p:attrNameLst>
                                          <p:attrName>style.visibility</p:attrName>
                                        </p:attrNameLst>
                                      </p:cBhvr>
                                      <p:to>
                                        <p:strVal val="visible"/>
                                      </p:to>
                                    </p:set>
                                    <p:animEffect filter="checkerboard(across)" transition="in">
                                      <p:cBhvr additive="repl">
                                        <p:cTn id="773" dur="500"/>
                                        <p:tgtEl>
                                          <p:spTgt spid="556"/>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559"/>
                                        </p:tgtEl>
                                        <p:attrNameLst>
                                          <p:attrName>style.visibility</p:attrName>
                                        </p:attrNameLst>
                                      </p:cBhvr>
                                      <p:to>
                                        <p:strVal val="visible"/>
                                      </p:to>
                                    </p:set>
                                    <p:animEffect filter="box(in)" transition="in">
                                      <p:cBhvr additive="repl">
                                        <p:cTn id="778" dur="500"/>
                                        <p:tgtEl>
                                          <p:spTgt spid="55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2" presetSubtype="4">
                                  <p:stCondLst>
                                    <p:cond delay="0"/>
                                  </p:stCondLst>
                                  <p:childTnLst>
                                    <p:set>
                                      <p:cBhvr>
                                        <p:cTn id="782" dur="1" fill="hold">
                                          <p:stCondLst>
                                            <p:cond delay="0"/>
                                          </p:stCondLst>
                                        </p:cTn>
                                        <p:tgtEl>
                                          <p:spTgt spid="558"/>
                                        </p:tgtEl>
                                        <p:attrNameLst>
                                          <p:attrName>style.visibility</p:attrName>
                                        </p:attrNameLst>
                                      </p:cBhvr>
                                      <p:to>
                                        <p:strVal val="visible"/>
                                      </p:to>
                                    </p:set>
                                    <p:animEffect filter="slide(fromBottom)" transition="in">
                                      <p:cBhvr additive="repl">
                                        <p:cTn id="783" dur="500"/>
                                        <p:tgtEl>
                                          <p:spTgt spid="558"/>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 presetSubtype="10">
                                  <p:stCondLst>
                                    <p:cond delay="0"/>
                                  </p:stCondLst>
                                  <p:childTnLst>
                                    <p:set>
                                      <p:cBhvr>
                                        <p:cTn id="787" dur="1" fill="hold">
                                          <p:stCondLst>
                                            <p:cond delay="0"/>
                                          </p:stCondLst>
                                        </p:cTn>
                                        <p:tgtEl>
                                          <p:spTgt spid="557"/>
                                        </p:tgtEl>
                                        <p:attrNameLst>
                                          <p:attrName>style.visibility</p:attrName>
                                        </p:attrNameLst>
                                      </p:cBhvr>
                                      <p:to>
                                        <p:strVal val="visible"/>
                                      </p:to>
                                    </p:set>
                                    <p:animEffect filter="checkerboard(across)" transition="in">
                                      <p:cBhvr additive="repl">
                                        <p:cTn id="78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3" name=""/>
          <p:cNvGrpSpPr/>
          <p:nvPr/>
        </p:nvGrpSpPr>
        <p:grpSpPr>
          <a:xfrm>
            <a:off x="1212840" y="0"/>
            <a:ext cx="6254640" cy="6326280"/>
            <a:chOff x="1212840" y="0"/>
            <a:chExt cx="6254640" cy="6326280"/>
          </a:xfrm>
        </p:grpSpPr>
        <p:grpSp>
          <p:nvGrpSpPr>
            <p:cNvPr id="564" name=""/>
            <p:cNvGrpSpPr/>
            <p:nvPr/>
          </p:nvGrpSpPr>
          <p:grpSpPr>
            <a:xfrm>
              <a:off x="1212840" y="1647720"/>
              <a:ext cx="6254640" cy="4678560"/>
              <a:chOff x="1212840" y="1647720"/>
              <a:chExt cx="6254640" cy="4678560"/>
            </a:xfrm>
          </p:grpSpPr>
          <p:sp>
            <p:nvSpPr>
              <p:cNvPr id="565" name=""/>
              <p:cNvSpPr/>
              <p:nvPr/>
            </p:nvSpPr>
            <p:spPr>
              <a:xfrm>
                <a:off x="1212840" y="5958000"/>
                <a:ext cx="62485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İYİ BİR HAFIZASI VARDIR</a:t>
                </a:r>
                <a:r>
                  <a:rPr b="1" lang="en-US" sz="1800" spc="-1" strike="noStrike">
                    <a:solidFill>
                      <a:srgbClr val="0000a4"/>
                    </a:solidFill>
                    <a:latin typeface="Times New Roman"/>
                  </a:rPr>
                  <a:t> </a:t>
                </a:r>
                <a:endParaRPr b="0" lang="en-US" sz="1800" spc="-1" strike="noStrike">
                  <a:solidFill>
                    <a:srgbClr val="ffffff"/>
                  </a:solidFill>
                  <a:latin typeface="Times New Roman"/>
                </a:endParaRPr>
              </a:p>
            </p:txBody>
          </p:sp>
          <p:sp>
            <p:nvSpPr>
              <p:cNvPr id="566" name=""/>
              <p:cNvSpPr/>
              <p:nvPr/>
            </p:nvSpPr>
            <p:spPr>
              <a:xfrm>
                <a:off x="1212840" y="1647720"/>
                <a:ext cx="624852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Comic Sans MS"/>
                    <a:ea typeface="Times New Roman"/>
                  </a:rPr>
                  <a:t>DİNLEME BECERİSİ YÜKSEKTİR</a:t>
                </a:r>
                <a:endParaRPr b="0" lang="en-US" sz="2000" spc="-1" strike="noStrike">
                  <a:solidFill>
                    <a:srgbClr val="ffffff"/>
                  </a:solidFill>
                  <a:latin typeface="Times New Roman"/>
                </a:endParaRPr>
              </a:p>
            </p:txBody>
          </p:sp>
          <p:sp>
            <p:nvSpPr>
              <p:cNvPr id="567" name=""/>
              <p:cNvSpPr/>
              <p:nvPr/>
            </p:nvSpPr>
            <p:spPr>
              <a:xfrm>
                <a:off x="1212840" y="2287440"/>
                <a:ext cx="62485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ELİME OYUNLARINI SEVER</a:t>
                </a:r>
                <a:endParaRPr b="0" lang="en-US" sz="1800" spc="-1" strike="noStrike">
                  <a:solidFill>
                    <a:srgbClr val="ffffff"/>
                  </a:solidFill>
                  <a:latin typeface="Times New Roman"/>
                </a:endParaRPr>
              </a:p>
            </p:txBody>
          </p:sp>
          <p:sp>
            <p:nvSpPr>
              <p:cNvPr id="568" name=""/>
              <p:cNvSpPr/>
              <p:nvPr/>
            </p:nvSpPr>
            <p:spPr>
              <a:xfrm>
                <a:off x="1219320" y="2903400"/>
                <a:ext cx="62481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İYİ BİR FIKRA ANLATICISIDIR</a:t>
                </a:r>
                <a:endParaRPr b="0" lang="en-US" sz="1800" spc="-1" strike="noStrike">
                  <a:solidFill>
                    <a:srgbClr val="ffffff"/>
                  </a:solidFill>
                  <a:latin typeface="Times New Roman"/>
                </a:endParaRPr>
              </a:p>
            </p:txBody>
          </p:sp>
          <p:sp>
            <p:nvSpPr>
              <p:cNvPr id="569" name=""/>
              <p:cNvSpPr/>
              <p:nvPr/>
            </p:nvSpPr>
            <p:spPr>
              <a:xfrm>
                <a:off x="1219320" y="3495600"/>
                <a:ext cx="624816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İTAPLARLA İÇ İÇEDİR</a:t>
                </a:r>
                <a:endParaRPr b="0" lang="en-US" sz="1800" spc="-1" strike="noStrike">
                  <a:solidFill>
                    <a:srgbClr val="ffffff"/>
                  </a:solidFill>
                  <a:latin typeface="Times New Roman"/>
                </a:endParaRPr>
              </a:p>
            </p:txBody>
          </p:sp>
          <p:sp>
            <p:nvSpPr>
              <p:cNvPr id="570" name=""/>
              <p:cNvSpPr/>
              <p:nvPr/>
            </p:nvSpPr>
            <p:spPr>
              <a:xfrm>
                <a:off x="1212840" y="4111560"/>
                <a:ext cx="624852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İYİ BİR KELİME HAZNESİ VARDIR</a:t>
                </a:r>
                <a:endParaRPr b="0" lang="en-US" sz="1800" spc="-1" strike="noStrike">
                  <a:solidFill>
                    <a:srgbClr val="ffffff"/>
                  </a:solidFill>
                  <a:latin typeface="Times New Roman"/>
                </a:endParaRPr>
              </a:p>
            </p:txBody>
          </p:sp>
          <p:sp>
            <p:nvSpPr>
              <p:cNvPr id="571" name=""/>
              <p:cNvSpPr/>
              <p:nvPr/>
            </p:nvSpPr>
            <p:spPr>
              <a:xfrm>
                <a:off x="1219320" y="4738680"/>
                <a:ext cx="62481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ÖZEL OLARAK İYİ İLETİŞİM KURAR</a:t>
                </a:r>
                <a:endParaRPr b="0" lang="en-US" sz="1800" spc="-1" strike="noStrike">
                  <a:solidFill>
                    <a:srgbClr val="ffffff"/>
                  </a:solidFill>
                  <a:latin typeface="Times New Roman"/>
                </a:endParaRPr>
              </a:p>
            </p:txBody>
          </p:sp>
          <p:sp>
            <p:nvSpPr>
              <p:cNvPr id="572" name=""/>
              <p:cNvSpPr/>
              <p:nvPr/>
            </p:nvSpPr>
            <p:spPr>
              <a:xfrm>
                <a:off x="1212840" y="5348160"/>
                <a:ext cx="62485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ZMAKTAN HOŞLANIR</a:t>
                </a:r>
                <a:endParaRPr b="0" lang="en-US" sz="1800" spc="-1" strike="noStrike">
                  <a:solidFill>
                    <a:srgbClr val="ffffff"/>
                  </a:solidFill>
                  <a:latin typeface="Times New Roman"/>
                </a:endParaRPr>
              </a:p>
            </p:txBody>
          </p:sp>
        </p:grpSp>
        <p:sp>
          <p:nvSpPr>
            <p:cNvPr id="573" name=""/>
            <p:cNvSpPr txBox="1"/>
            <p:nvPr/>
          </p:nvSpPr>
          <p:spPr>
            <a:xfrm>
              <a:off x="2057400" y="0"/>
              <a:ext cx="5029200" cy="1247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ÖZEL DİLSEL ZEKA</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gr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4" name=""/>
          <p:cNvGrpSpPr/>
          <p:nvPr/>
        </p:nvGrpSpPr>
        <p:grpSpPr>
          <a:xfrm>
            <a:off x="611280" y="836640"/>
            <a:ext cx="7762320" cy="5409360"/>
            <a:chOff x="611280" y="836640"/>
            <a:chExt cx="7762320" cy="5409360"/>
          </a:xfrm>
        </p:grpSpPr>
        <p:grpSp>
          <p:nvGrpSpPr>
            <p:cNvPr id="575" name=""/>
            <p:cNvGrpSpPr/>
            <p:nvPr/>
          </p:nvGrpSpPr>
          <p:grpSpPr>
            <a:xfrm>
              <a:off x="611280" y="836640"/>
              <a:ext cx="1555200" cy="968040"/>
              <a:chOff x="611280" y="836640"/>
              <a:chExt cx="1555200" cy="968040"/>
            </a:xfrm>
          </p:grpSpPr>
          <p:sp>
            <p:nvSpPr>
              <p:cNvPr id="576" name=""/>
              <p:cNvSpPr/>
              <p:nvPr/>
            </p:nvSpPr>
            <p:spPr>
              <a:xfrm>
                <a:off x="611280" y="836640"/>
                <a:ext cx="1555200" cy="9680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7" name=""/>
              <p:cNvGrpSpPr/>
              <p:nvPr/>
            </p:nvGrpSpPr>
            <p:grpSpPr>
              <a:xfrm>
                <a:off x="611280" y="836640"/>
                <a:ext cx="1554840" cy="967680"/>
                <a:chOff x="611280" y="836640"/>
                <a:chExt cx="1554840" cy="967680"/>
              </a:xfrm>
            </p:grpSpPr>
            <p:sp>
              <p:nvSpPr>
                <p:cNvPr id="578" name=""/>
                <p:cNvSpPr/>
                <p:nvPr/>
              </p:nvSpPr>
              <p:spPr>
                <a:xfrm>
                  <a:off x="661320" y="836640"/>
                  <a:ext cx="1453680" cy="967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ESLEK</a:t>
                  </a:r>
                  <a:endParaRPr b="0" lang="en-US" sz="1800" spc="-1" strike="noStrike">
                    <a:solidFill>
                      <a:srgbClr val="ffffff"/>
                    </a:solidFill>
                    <a:latin typeface="Times New Roman"/>
                  </a:endParaRPr>
                </a:p>
              </p:txBody>
            </p:sp>
            <p:sp>
              <p:nvSpPr>
                <p:cNvPr id="579" name=""/>
                <p:cNvSpPr/>
                <p:nvPr/>
              </p:nvSpPr>
              <p:spPr>
                <a:xfrm>
                  <a:off x="611280" y="836640"/>
                  <a:ext cx="1554840" cy="9676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80" name=""/>
            <p:cNvGrpSpPr/>
            <p:nvPr/>
          </p:nvGrpSpPr>
          <p:grpSpPr>
            <a:xfrm>
              <a:off x="2166840" y="836640"/>
              <a:ext cx="2036520" cy="968040"/>
              <a:chOff x="2166840" y="836640"/>
              <a:chExt cx="2036520" cy="968040"/>
            </a:xfrm>
          </p:grpSpPr>
          <p:sp>
            <p:nvSpPr>
              <p:cNvPr id="581" name=""/>
              <p:cNvSpPr/>
              <p:nvPr/>
            </p:nvSpPr>
            <p:spPr>
              <a:xfrm>
                <a:off x="2166840" y="836640"/>
                <a:ext cx="2036520" cy="9680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2" name=""/>
              <p:cNvGrpSpPr/>
              <p:nvPr/>
            </p:nvGrpSpPr>
            <p:grpSpPr>
              <a:xfrm>
                <a:off x="2166840" y="836640"/>
                <a:ext cx="2036160" cy="967680"/>
                <a:chOff x="2166840" y="836640"/>
                <a:chExt cx="2036160" cy="967680"/>
              </a:xfrm>
            </p:grpSpPr>
            <p:sp>
              <p:nvSpPr>
                <p:cNvPr id="583" name=""/>
                <p:cNvSpPr/>
                <p:nvPr/>
              </p:nvSpPr>
              <p:spPr>
                <a:xfrm>
                  <a:off x="2216880" y="836640"/>
                  <a:ext cx="1935000" cy="967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İİL</a:t>
                  </a:r>
                  <a:endParaRPr b="0" lang="en-US" sz="1800" spc="-1" strike="noStrike">
                    <a:solidFill>
                      <a:srgbClr val="ffffff"/>
                    </a:solidFill>
                    <a:latin typeface="Times New Roman"/>
                  </a:endParaRPr>
                </a:p>
              </p:txBody>
            </p:sp>
            <p:sp>
              <p:nvSpPr>
                <p:cNvPr id="584" name=""/>
                <p:cNvSpPr/>
                <p:nvPr/>
              </p:nvSpPr>
              <p:spPr>
                <a:xfrm>
                  <a:off x="2166840" y="836640"/>
                  <a:ext cx="2036160" cy="9676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85" name=""/>
            <p:cNvGrpSpPr/>
            <p:nvPr/>
          </p:nvGrpSpPr>
          <p:grpSpPr>
            <a:xfrm>
              <a:off x="4192560" y="836640"/>
              <a:ext cx="2234880" cy="968040"/>
              <a:chOff x="4192560" y="836640"/>
              <a:chExt cx="2234880" cy="968040"/>
            </a:xfrm>
          </p:grpSpPr>
          <p:sp>
            <p:nvSpPr>
              <p:cNvPr id="586" name=""/>
              <p:cNvSpPr/>
              <p:nvPr/>
            </p:nvSpPr>
            <p:spPr>
              <a:xfrm>
                <a:off x="4192560" y="836640"/>
                <a:ext cx="2234880" cy="9680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7" name=""/>
              <p:cNvGrpSpPr/>
              <p:nvPr/>
            </p:nvGrpSpPr>
            <p:grpSpPr>
              <a:xfrm>
                <a:off x="4192560" y="836640"/>
                <a:ext cx="2234520" cy="967680"/>
                <a:chOff x="4192560" y="836640"/>
                <a:chExt cx="2234520" cy="967680"/>
              </a:xfrm>
            </p:grpSpPr>
            <p:sp>
              <p:nvSpPr>
                <p:cNvPr id="588" name=""/>
                <p:cNvSpPr/>
                <p:nvPr/>
              </p:nvSpPr>
              <p:spPr>
                <a:xfrm>
                  <a:off x="4242960" y="836640"/>
                  <a:ext cx="2133720" cy="967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9" name=""/>
                <p:cNvSpPr/>
                <p:nvPr/>
              </p:nvSpPr>
              <p:spPr>
                <a:xfrm>
                  <a:off x="4192560" y="836640"/>
                  <a:ext cx="2234520" cy="9676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90" name=""/>
            <p:cNvGrpSpPr/>
            <p:nvPr/>
          </p:nvGrpSpPr>
          <p:grpSpPr>
            <a:xfrm>
              <a:off x="611280" y="1805040"/>
              <a:ext cx="1555200" cy="4440960"/>
              <a:chOff x="611280" y="1805040"/>
              <a:chExt cx="1555200" cy="4440960"/>
            </a:xfrm>
          </p:grpSpPr>
          <p:sp>
            <p:nvSpPr>
              <p:cNvPr id="591" name=""/>
              <p:cNvSpPr/>
              <p:nvPr/>
            </p:nvSpPr>
            <p:spPr>
              <a:xfrm>
                <a:off x="661320" y="1805040"/>
                <a:ext cx="1454040" cy="444096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Times New Roman"/>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Öğretme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Gazete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z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Şa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Çevirme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Avuk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Edebiyat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Oyun yaz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yın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ati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Eğitim bilim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omedye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Romancı</a:t>
                </a:r>
                <a:r>
                  <a:rPr b="1" lang="en-US" sz="1800" spc="-1" strike="noStrike">
                    <a:solidFill>
                      <a:srgbClr val="0000a4"/>
                    </a:solidFill>
                    <a:latin typeface="Times New Roman"/>
                    <a:ea typeface="Times New Roman"/>
                  </a:rPr>
                  <a:t> </a:t>
                </a:r>
                <a:endParaRPr b="0" lang="en-US" sz="1800" spc="-1" strike="noStrike">
                  <a:solidFill>
                    <a:srgbClr val="ffffff"/>
                  </a:solidFill>
                  <a:latin typeface="Times New Roman"/>
                </a:endParaRPr>
              </a:p>
            </p:txBody>
          </p:sp>
          <p:sp>
            <p:nvSpPr>
              <p:cNvPr id="592" name=""/>
              <p:cNvSpPr/>
              <p:nvPr/>
            </p:nvSpPr>
            <p:spPr>
              <a:xfrm>
                <a:off x="611280" y="1805040"/>
                <a:ext cx="1555200" cy="444096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2166840" y="1805040"/>
              <a:ext cx="2036520" cy="4440960"/>
              <a:chOff x="2166840" y="1805040"/>
              <a:chExt cx="2036520" cy="4440960"/>
            </a:xfrm>
          </p:grpSpPr>
          <p:sp>
            <p:nvSpPr>
              <p:cNvPr id="594" name=""/>
              <p:cNvSpPr/>
              <p:nvPr/>
            </p:nvSpPr>
            <p:spPr>
              <a:xfrm>
                <a:off x="2217240" y="1805040"/>
                <a:ext cx="1935360" cy="444096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Tanım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Liste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Görü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ormüle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eniden ifade e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Tartı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Şiir,makale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unu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logan Bu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Röportaj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ktup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Talk-Show Sun</a:t>
                </a:r>
                <a:endParaRPr b="0" lang="en-US" sz="1800" spc="-1" strike="noStrike">
                  <a:solidFill>
                    <a:srgbClr val="ffffff"/>
                  </a:solidFill>
                  <a:latin typeface="Times New Roman"/>
                </a:endParaRPr>
              </a:p>
            </p:txBody>
          </p:sp>
          <p:sp>
            <p:nvSpPr>
              <p:cNvPr id="595" name=""/>
              <p:cNvSpPr/>
              <p:nvPr/>
            </p:nvSpPr>
            <p:spPr>
              <a:xfrm>
                <a:off x="2166840" y="1805040"/>
                <a:ext cx="2036520" cy="444096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6" name=""/>
            <p:cNvGrpSpPr/>
            <p:nvPr/>
          </p:nvGrpSpPr>
          <p:grpSpPr>
            <a:xfrm>
              <a:off x="4203720" y="1805040"/>
              <a:ext cx="2234880" cy="4440960"/>
              <a:chOff x="4203720" y="1805040"/>
              <a:chExt cx="2234880" cy="4440960"/>
            </a:xfrm>
          </p:grpSpPr>
          <p:sp>
            <p:nvSpPr>
              <p:cNvPr id="597" name=""/>
              <p:cNvSpPr/>
              <p:nvPr/>
            </p:nvSpPr>
            <p:spPr>
              <a:xfrm>
                <a:off x="4254120" y="1805040"/>
                <a:ext cx="2134080" cy="444096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Türkç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bancı Di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ilbilg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osyal Bilgi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8" name=""/>
              <p:cNvSpPr/>
              <p:nvPr/>
            </p:nvSpPr>
            <p:spPr>
              <a:xfrm>
                <a:off x="4203720" y="1805040"/>
                <a:ext cx="2234880" cy="444096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9" name=""/>
            <p:cNvGrpSpPr/>
            <p:nvPr/>
          </p:nvGrpSpPr>
          <p:grpSpPr>
            <a:xfrm>
              <a:off x="6438960" y="1805040"/>
              <a:ext cx="1934640" cy="4440960"/>
              <a:chOff x="6438960" y="1805040"/>
              <a:chExt cx="1934640" cy="4440960"/>
            </a:xfrm>
          </p:grpSpPr>
          <p:sp>
            <p:nvSpPr>
              <p:cNvPr id="600" name=""/>
              <p:cNvSpPr/>
              <p:nvPr/>
            </p:nvSpPr>
            <p:spPr>
              <a:xfrm>
                <a:off x="6489720" y="1805040"/>
                <a:ext cx="1833480" cy="444096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il Kulübü</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Okul Gazete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ıllı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ütüphan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ikaye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gi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Çizgi Roma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elime Oyun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enaryo Yazma</a:t>
                </a:r>
                <a:endParaRPr b="0" lang="en-US" sz="1800" spc="-1" strike="noStrike">
                  <a:solidFill>
                    <a:srgbClr val="ffffff"/>
                  </a:solidFill>
                  <a:latin typeface="Times New Roman"/>
                </a:endParaRPr>
              </a:p>
            </p:txBody>
          </p:sp>
          <p:sp>
            <p:nvSpPr>
              <p:cNvPr id="601" name=""/>
              <p:cNvSpPr/>
              <p:nvPr/>
            </p:nvSpPr>
            <p:spPr>
              <a:xfrm>
                <a:off x="6438960" y="1805040"/>
                <a:ext cx="1934640" cy="444096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2" name=""/>
            <p:cNvGrpSpPr/>
            <p:nvPr/>
          </p:nvGrpSpPr>
          <p:grpSpPr>
            <a:xfrm>
              <a:off x="6435720" y="844920"/>
              <a:ext cx="1934640" cy="968040"/>
              <a:chOff x="6435720" y="844920"/>
              <a:chExt cx="1934640" cy="968040"/>
            </a:xfrm>
          </p:grpSpPr>
          <p:sp>
            <p:nvSpPr>
              <p:cNvPr id="603" name=""/>
              <p:cNvSpPr/>
              <p:nvPr/>
            </p:nvSpPr>
            <p:spPr>
              <a:xfrm>
                <a:off x="6435720" y="844920"/>
                <a:ext cx="1934640" cy="9680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
              <p:cNvGrpSpPr/>
              <p:nvPr/>
            </p:nvGrpSpPr>
            <p:grpSpPr>
              <a:xfrm>
                <a:off x="6435720" y="844920"/>
                <a:ext cx="1934280" cy="967680"/>
                <a:chOff x="6435720" y="844920"/>
                <a:chExt cx="1934280" cy="967680"/>
              </a:xfrm>
            </p:grpSpPr>
            <p:sp>
              <p:nvSpPr>
                <p:cNvPr id="605" name=""/>
                <p:cNvSpPr/>
                <p:nvPr/>
              </p:nvSpPr>
              <p:spPr>
                <a:xfrm>
                  <a:off x="6486480" y="844920"/>
                  <a:ext cx="1833120" cy="967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ERS DIŞ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6" name=""/>
                <p:cNvSpPr/>
                <p:nvPr/>
              </p:nvSpPr>
              <p:spPr>
                <a:xfrm>
                  <a:off x="6435720" y="844920"/>
                  <a:ext cx="1934280" cy="9676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transition>
    <p:dissolve/>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3" presetSubtype="528">
                                  <p:stCondLst>
                                    <p:cond delay="0"/>
                                  </p:stCondLst>
                                  <p:childTnLst>
                                    <p:set>
                                      <p:cBhvr>
                                        <p:cTn id="794" dur="1" fill="hold">
                                          <p:stCondLst>
                                            <p:cond delay="0"/>
                                          </p:stCondLst>
                                        </p:cTn>
                                        <p:tgtEl>
                                          <p:spTgt spid="574"/>
                                        </p:tgtEl>
                                        <p:attrNameLst>
                                          <p:attrName>style.visibility</p:attrName>
                                        </p:attrNameLst>
                                      </p:cBhvr>
                                      <p:to>
                                        <p:strVal val="visible"/>
                                      </p:to>
                                    </p:set>
                                    <p:anim calcmode="lin" valueType="num">
                                      <p:cBhvr additive="repl">
                                        <p:cTn id="795" dur="500" fill="hold"/>
                                        <p:tgtEl>
                                          <p:spTgt spid="574"/>
                                        </p:tgtEl>
                                        <p:attrNameLst>
                                          <p:attrName>ppt_w</p:attrName>
                                        </p:attrNameLst>
                                      </p:cBhvr>
                                      <p:tavLst>
                                        <p:tav tm="0">
                                          <p:val>
                                            <p:fltVal val="0"/>
                                          </p:val>
                                        </p:tav>
                                        <p:tav tm="100000">
                                          <p:val>
                                            <p:strVal val="#ppt_w"/>
                                          </p:val>
                                        </p:tav>
                                      </p:tavLst>
                                    </p:anim>
                                    <p:anim calcmode="lin" valueType="num">
                                      <p:cBhvr additive="repl">
                                        <p:cTn id="796" dur="500" fill="hold"/>
                                        <p:tgtEl>
                                          <p:spTgt spid="574"/>
                                        </p:tgtEl>
                                        <p:attrNameLst>
                                          <p:attrName>ppt_h</p:attrName>
                                        </p:attrNameLst>
                                      </p:cBhvr>
                                      <p:tavLst>
                                        <p:tav tm="0">
                                          <p:val>
                                            <p:fltVal val="0"/>
                                          </p:val>
                                        </p:tav>
                                        <p:tav tm="100000">
                                          <p:val>
                                            <p:strVal val="#ppt_h"/>
                                          </p:val>
                                        </p:tav>
                                      </p:tavLst>
                                    </p:anim>
                                    <p:anim calcmode="lin" valueType="num">
                                      <p:cBhvr additive="repl">
                                        <p:cTn id="797" dur="500" fill="hold"/>
                                        <p:tgtEl>
                                          <p:spTgt spid="574"/>
                                        </p:tgtEl>
                                        <p:attrNameLst>
                                          <p:attrName>ppt_x</p:attrName>
                                        </p:attrNameLst>
                                      </p:cBhvr>
                                      <p:tavLst>
                                        <p:tav tm="0">
                                          <p:val>
                                            <p:fltVal val="0.5"/>
                                          </p:val>
                                        </p:tav>
                                        <p:tav tm="100000">
                                          <p:val>
                                            <p:strVal val="#ppt_x"/>
                                          </p:val>
                                        </p:tav>
                                      </p:tavLst>
                                    </p:anim>
                                    <p:anim calcmode="lin" valueType="num">
                                      <p:cBhvr additive="repl">
                                        <p:cTn id="798" dur="500" fill="hold"/>
                                        <p:tgtEl>
                                          <p:spTgt spid="5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07" name=""/>
          <p:cNvGrpSpPr/>
          <p:nvPr/>
        </p:nvGrpSpPr>
        <p:grpSpPr>
          <a:xfrm>
            <a:off x="1195560" y="380880"/>
            <a:ext cx="6957720" cy="6021360"/>
            <a:chOff x="1195560" y="380880"/>
            <a:chExt cx="6957720" cy="6021360"/>
          </a:xfrm>
        </p:grpSpPr>
        <p:sp>
          <p:nvSpPr>
            <p:cNvPr id="608" name=""/>
            <p:cNvSpPr txBox="1"/>
            <p:nvPr/>
          </p:nvSpPr>
          <p:spPr>
            <a:xfrm>
              <a:off x="2133720" y="380880"/>
              <a:ext cx="4876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GÖRSEL UZAMSAL ZEKA</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609" name=""/>
            <p:cNvGrpSpPr/>
            <p:nvPr/>
          </p:nvGrpSpPr>
          <p:grpSpPr>
            <a:xfrm>
              <a:off x="1195560" y="1219320"/>
              <a:ext cx="6957720" cy="5182920"/>
              <a:chOff x="1195560" y="1219320"/>
              <a:chExt cx="6957720" cy="5182920"/>
            </a:xfrm>
          </p:grpSpPr>
          <p:sp>
            <p:nvSpPr>
              <p:cNvPr id="610" name=""/>
              <p:cNvSpPr/>
              <p:nvPr/>
            </p:nvSpPr>
            <p:spPr>
              <a:xfrm>
                <a:off x="1212840" y="4967280"/>
                <a:ext cx="694044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İMLERDEN DAHA FAZLA ÖĞRENİRLER</a:t>
                </a:r>
                <a:endParaRPr b="0" lang="en-US" sz="1800" spc="-1" strike="noStrike">
                  <a:solidFill>
                    <a:srgbClr val="ffffff"/>
                  </a:solidFill>
                  <a:latin typeface="Times New Roman"/>
                </a:endParaRPr>
              </a:p>
            </p:txBody>
          </p:sp>
          <p:sp>
            <p:nvSpPr>
              <p:cNvPr id="611" name=""/>
              <p:cNvSpPr/>
              <p:nvPr/>
            </p:nvSpPr>
            <p:spPr>
              <a:xfrm>
                <a:off x="1212840" y="1219320"/>
                <a:ext cx="6940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HARİTA, TABLO VE DİYAGRAMLARI KOLAYLIKLA OKUR</a:t>
                </a:r>
                <a:endParaRPr b="0" lang="en-US" sz="1800" spc="-1" strike="noStrike">
                  <a:solidFill>
                    <a:srgbClr val="ffffff"/>
                  </a:solidFill>
                  <a:latin typeface="Times New Roman"/>
                </a:endParaRPr>
              </a:p>
            </p:txBody>
          </p:sp>
          <p:sp>
            <p:nvSpPr>
              <p:cNvPr id="612" name=""/>
              <p:cNvSpPr/>
              <p:nvPr/>
            </p:nvSpPr>
            <p:spPr>
              <a:xfrm>
                <a:off x="1212840" y="1766880"/>
                <a:ext cx="694044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ARKADAŞLARINA ORANLA DAHA ÇOK HAYAL KURAR</a:t>
                </a:r>
                <a:endParaRPr b="0" lang="en-US" sz="1800" spc="-1" strike="noStrike">
                  <a:solidFill>
                    <a:srgbClr val="ffffff"/>
                  </a:solidFill>
                  <a:latin typeface="Times New Roman"/>
                </a:endParaRPr>
              </a:p>
            </p:txBody>
          </p:sp>
          <p:sp>
            <p:nvSpPr>
              <p:cNvPr id="613" name=""/>
              <p:cNvSpPr/>
              <p:nvPr/>
            </p:nvSpPr>
            <p:spPr>
              <a:xfrm>
                <a:off x="1219320" y="2300400"/>
                <a:ext cx="69339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İM, SANAT ETKİNLİKLERİNDEN HOŞLANIR</a:t>
                </a:r>
                <a:endParaRPr b="0" lang="en-US" sz="1800" spc="-1" strike="noStrike">
                  <a:solidFill>
                    <a:srgbClr val="ffffff"/>
                  </a:solidFill>
                  <a:latin typeface="Times New Roman"/>
                </a:endParaRPr>
              </a:p>
            </p:txBody>
          </p:sp>
          <p:sp>
            <p:nvSpPr>
              <p:cNvPr id="614" name=""/>
              <p:cNvSpPr/>
              <p:nvPr/>
            </p:nvSpPr>
            <p:spPr>
              <a:xfrm>
                <a:off x="1219320" y="2833560"/>
                <a:ext cx="693396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YAŞINA ORANLA DAHA İYİ ŞEKİL ÇİZER.</a:t>
                </a:r>
                <a:endParaRPr b="0" lang="en-US" sz="1800" spc="-1" strike="noStrike">
                  <a:solidFill>
                    <a:srgbClr val="ffffff"/>
                  </a:solidFill>
                  <a:latin typeface="Times New Roman"/>
                </a:endParaRPr>
              </a:p>
            </p:txBody>
          </p:sp>
          <p:sp>
            <p:nvSpPr>
              <p:cNvPr id="615" name=""/>
              <p:cNvSpPr/>
              <p:nvPr/>
            </p:nvSpPr>
            <p:spPr>
              <a:xfrm>
                <a:off x="1212840" y="3367080"/>
                <a:ext cx="694044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ÖRSEL SUNULARI (FİLM, SLAYT) TERCİH EDER.</a:t>
                </a:r>
                <a:endParaRPr b="0" lang="en-US" sz="1800" spc="-1" strike="noStrike">
                  <a:solidFill>
                    <a:srgbClr val="ffffff"/>
                  </a:solidFill>
                  <a:latin typeface="Times New Roman"/>
                </a:endParaRPr>
              </a:p>
            </p:txBody>
          </p:sp>
          <p:sp>
            <p:nvSpPr>
              <p:cNvPr id="616" name=""/>
              <p:cNvSpPr/>
              <p:nvPr/>
            </p:nvSpPr>
            <p:spPr>
              <a:xfrm>
                <a:off x="1219320" y="3900600"/>
                <a:ext cx="69339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BULMACA ÇÖZMEKTEN HOŞLANIR</a:t>
                </a:r>
                <a:endParaRPr b="0" lang="en-US" sz="1800" spc="-1" strike="noStrike">
                  <a:solidFill>
                    <a:srgbClr val="ffffff"/>
                  </a:solidFill>
                  <a:latin typeface="Times New Roman"/>
                </a:endParaRPr>
              </a:p>
            </p:txBody>
          </p:sp>
          <p:sp>
            <p:nvSpPr>
              <p:cNvPr id="617" name=""/>
              <p:cNvSpPr/>
              <p:nvPr/>
            </p:nvSpPr>
            <p:spPr>
              <a:xfrm>
                <a:off x="1212840" y="4433760"/>
                <a:ext cx="6940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ÜÇ BOYUTLU YAPILAR KURMAKTAN HOŞLANIR (LEGO)</a:t>
                </a:r>
                <a:endParaRPr b="0" lang="en-US" sz="1800" spc="-1" strike="noStrike">
                  <a:solidFill>
                    <a:srgbClr val="ffffff"/>
                  </a:solidFill>
                  <a:latin typeface="Times New Roman"/>
                </a:endParaRPr>
              </a:p>
            </p:txBody>
          </p:sp>
          <p:sp>
            <p:nvSpPr>
              <p:cNvPr id="618" name=""/>
              <p:cNvSpPr/>
              <p:nvPr/>
            </p:nvSpPr>
            <p:spPr>
              <a:xfrm>
                <a:off x="1219320" y="5500800"/>
                <a:ext cx="69339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KİTAPLARINI VE DEFTERLERİNİ ÇİZER</a:t>
                </a:r>
                <a:endParaRPr b="0" lang="en-US" sz="1800" spc="-1" strike="noStrike">
                  <a:solidFill>
                    <a:srgbClr val="ffffff"/>
                  </a:solidFill>
                  <a:latin typeface="Times New Roman"/>
                </a:endParaRPr>
              </a:p>
            </p:txBody>
          </p:sp>
          <p:sp>
            <p:nvSpPr>
              <p:cNvPr id="619" name=""/>
              <p:cNvSpPr/>
              <p:nvPr/>
            </p:nvSpPr>
            <p:spPr>
              <a:xfrm>
                <a:off x="1195560" y="6033960"/>
                <a:ext cx="693396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NESNELERİN YERİNİ BİLİR</a:t>
                </a:r>
                <a:endParaRPr b="0" lang="en-US" sz="1800" spc="-1" strike="noStrike">
                  <a:solidFill>
                    <a:srgbClr val="ffffff"/>
                  </a:solidFill>
                  <a:latin typeface="Times New Roman"/>
                </a:endParaRPr>
              </a:p>
            </p:txBody>
          </p:sp>
        </p:grpSp>
      </p:gr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20" name=""/>
          <p:cNvGrpSpPr/>
          <p:nvPr/>
        </p:nvGrpSpPr>
        <p:grpSpPr>
          <a:xfrm>
            <a:off x="685800" y="762120"/>
            <a:ext cx="8000640" cy="5333400"/>
            <a:chOff x="685800" y="762120"/>
            <a:chExt cx="8000640" cy="5333400"/>
          </a:xfrm>
        </p:grpSpPr>
        <p:grpSp>
          <p:nvGrpSpPr>
            <p:cNvPr id="621" name=""/>
            <p:cNvGrpSpPr/>
            <p:nvPr/>
          </p:nvGrpSpPr>
          <p:grpSpPr>
            <a:xfrm>
              <a:off x="690840" y="767520"/>
              <a:ext cx="7989840" cy="5321160"/>
              <a:chOff x="690840" y="767520"/>
              <a:chExt cx="7989840" cy="5321160"/>
            </a:xfrm>
          </p:grpSpPr>
          <p:grpSp>
            <p:nvGrpSpPr>
              <p:cNvPr id="622" name=""/>
              <p:cNvGrpSpPr/>
              <p:nvPr/>
            </p:nvGrpSpPr>
            <p:grpSpPr>
              <a:xfrm>
                <a:off x="690840" y="767520"/>
                <a:ext cx="1714680" cy="857880"/>
                <a:chOff x="690840" y="767520"/>
                <a:chExt cx="1714680" cy="857880"/>
              </a:xfrm>
            </p:grpSpPr>
            <p:sp>
              <p:nvSpPr>
                <p:cNvPr id="623" name=""/>
                <p:cNvSpPr/>
                <p:nvPr/>
              </p:nvSpPr>
              <p:spPr>
                <a:xfrm>
                  <a:off x="690840" y="767520"/>
                  <a:ext cx="171468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4" name=""/>
                <p:cNvGrpSpPr/>
                <p:nvPr/>
              </p:nvGrpSpPr>
              <p:grpSpPr>
                <a:xfrm>
                  <a:off x="690840" y="767520"/>
                  <a:ext cx="1714320" cy="857520"/>
                  <a:chOff x="690840" y="767520"/>
                  <a:chExt cx="1714320" cy="857520"/>
                </a:xfrm>
              </p:grpSpPr>
              <p:sp>
                <p:nvSpPr>
                  <p:cNvPr id="625" name=""/>
                  <p:cNvSpPr/>
                  <p:nvPr/>
                </p:nvSpPr>
                <p:spPr>
                  <a:xfrm>
                    <a:off x="739080" y="767520"/>
                    <a:ext cx="161784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MESLEK</a:t>
                    </a:r>
                    <a:endParaRPr b="0" lang="en-US" sz="1800" spc="-1" strike="noStrike">
                      <a:solidFill>
                        <a:srgbClr val="ffffff"/>
                      </a:solidFill>
                      <a:latin typeface="Times New Roman"/>
                    </a:endParaRPr>
                  </a:p>
                </p:txBody>
              </p:sp>
              <p:sp>
                <p:nvSpPr>
                  <p:cNvPr id="626" name=""/>
                  <p:cNvSpPr/>
                  <p:nvPr/>
                </p:nvSpPr>
                <p:spPr>
                  <a:xfrm>
                    <a:off x="690840" y="767520"/>
                    <a:ext cx="171432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7" name=""/>
              <p:cNvGrpSpPr/>
              <p:nvPr/>
            </p:nvGrpSpPr>
            <p:grpSpPr>
              <a:xfrm>
                <a:off x="2405880" y="767520"/>
                <a:ext cx="1977480" cy="857880"/>
                <a:chOff x="2405880" y="767520"/>
                <a:chExt cx="1977480" cy="857880"/>
              </a:xfrm>
            </p:grpSpPr>
            <p:sp>
              <p:nvSpPr>
                <p:cNvPr id="628" name=""/>
                <p:cNvSpPr/>
                <p:nvPr/>
              </p:nvSpPr>
              <p:spPr>
                <a:xfrm>
                  <a:off x="2405880" y="767520"/>
                  <a:ext cx="197748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9" name=""/>
                <p:cNvGrpSpPr/>
                <p:nvPr/>
              </p:nvGrpSpPr>
              <p:grpSpPr>
                <a:xfrm>
                  <a:off x="2405880" y="767520"/>
                  <a:ext cx="1977120" cy="857520"/>
                  <a:chOff x="2405880" y="767520"/>
                  <a:chExt cx="1977120" cy="857520"/>
                </a:xfrm>
              </p:grpSpPr>
              <p:sp>
                <p:nvSpPr>
                  <p:cNvPr id="630" name=""/>
                  <p:cNvSpPr/>
                  <p:nvPr/>
                </p:nvSpPr>
                <p:spPr>
                  <a:xfrm>
                    <a:off x="2454480" y="767520"/>
                    <a:ext cx="188028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FİİL</a:t>
                    </a:r>
                    <a:endParaRPr b="0" lang="en-US" sz="1800" spc="-1" strike="noStrike">
                      <a:solidFill>
                        <a:srgbClr val="ffffff"/>
                      </a:solidFill>
                      <a:latin typeface="Times New Roman"/>
                    </a:endParaRPr>
                  </a:p>
                </p:txBody>
              </p:sp>
              <p:sp>
                <p:nvSpPr>
                  <p:cNvPr id="631" name=""/>
                  <p:cNvSpPr/>
                  <p:nvPr/>
                </p:nvSpPr>
                <p:spPr>
                  <a:xfrm>
                    <a:off x="2405880" y="767520"/>
                    <a:ext cx="197712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4383720" y="767520"/>
                <a:ext cx="1371960" cy="857880"/>
                <a:chOff x="4383720" y="767520"/>
                <a:chExt cx="1371960" cy="857880"/>
              </a:xfrm>
            </p:grpSpPr>
            <p:sp>
              <p:nvSpPr>
                <p:cNvPr id="633" name=""/>
                <p:cNvSpPr/>
                <p:nvPr/>
              </p:nvSpPr>
              <p:spPr>
                <a:xfrm>
                  <a:off x="4383720" y="767520"/>
                  <a:ext cx="137196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4" name=""/>
                <p:cNvGrpSpPr/>
                <p:nvPr/>
              </p:nvGrpSpPr>
              <p:grpSpPr>
                <a:xfrm>
                  <a:off x="4383720" y="767520"/>
                  <a:ext cx="1371600" cy="857520"/>
                  <a:chOff x="4383720" y="767520"/>
                  <a:chExt cx="1371600" cy="857520"/>
                </a:xfrm>
              </p:grpSpPr>
              <p:sp>
                <p:nvSpPr>
                  <p:cNvPr id="635" name=""/>
                  <p:cNvSpPr/>
                  <p:nvPr/>
                </p:nvSpPr>
                <p:spPr>
                  <a:xfrm>
                    <a:off x="4432320" y="767520"/>
                    <a:ext cx="127476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DERS</a:t>
                    </a:r>
                    <a:endParaRPr b="0" lang="en-US" sz="1800" spc="-1" strike="noStrike">
                      <a:solidFill>
                        <a:srgbClr val="ffffff"/>
                      </a:solidFill>
                      <a:latin typeface="Times New Roman"/>
                    </a:endParaRPr>
                  </a:p>
                </p:txBody>
              </p:sp>
              <p:sp>
                <p:nvSpPr>
                  <p:cNvPr id="636" name=""/>
                  <p:cNvSpPr/>
                  <p:nvPr/>
                </p:nvSpPr>
                <p:spPr>
                  <a:xfrm>
                    <a:off x="4383720" y="767520"/>
                    <a:ext cx="137160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7" name=""/>
              <p:cNvGrpSpPr/>
              <p:nvPr/>
            </p:nvGrpSpPr>
            <p:grpSpPr>
              <a:xfrm>
                <a:off x="5756040" y="767520"/>
                <a:ext cx="2924640" cy="857880"/>
                <a:chOff x="5756040" y="767520"/>
                <a:chExt cx="2924640" cy="857880"/>
              </a:xfrm>
            </p:grpSpPr>
            <p:sp>
              <p:nvSpPr>
                <p:cNvPr id="638" name=""/>
                <p:cNvSpPr/>
                <p:nvPr/>
              </p:nvSpPr>
              <p:spPr>
                <a:xfrm>
                  <a:off x="5756040" y="767520"/>
                  <a:ext cx="292464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9" name=""/>
                <p:cNvGrpSpPr/>
                <p:nvPr/>
              </p:nvGrpSpPr>
              <p:grpSpPr>
                <a:xfrm>
                  <a:off x="5756040" y="767520"/>
                  <a:ext cx="2924280" cy="857520"/>
                  <a:chOff x="5756040" y="767520"/>
                  <a:chExt cx="2924280" cy="857520"/>
                </a:xfrm>
              </p:grpSpPr>
              <p:sp>
                <p:nvSpPr>
                  <p:cNvPr id="640" name=""/>
                  <p:cNvSpPr/>
                  <p:nvPr/>
                </p:nvSpPr>
                <p:spPr>
                  <a:xfrm>
                    <a:off x="5804640" y="767520"/>
                    <a:ext cx="282708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DERS DIŞI</a:t>
                    </a:r>
                    <a:endParaRPr b="0" lang="en-US" sz="1800" spc="-1" strike="noStrike">
                      <a:solidFill>
                        <a:srgbClr val="ffffff"/>
                      </a:solidFill>
                      <a:latin typeface="Times New Roman"/>
                    </a:endParaRPr>
                  </a:p>
                </p:txBody>
              </p:sp>
              <p:sp>
                <p:nvSpPr>
                  <p:cNvPr id="641" name=""/>
                  <p:cNvSpPr/>
                  <p:nvPr/>
                </p:nvSpPr>
                <p:spPr>
                  <a:xfrm>
                    <a:off x="5756040" y="767520"/>
                    <a:ext cx="292428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42" name=""/>
              <p:cNvGrpSpPr/>
              <p:nvPr/>
            </p:nvGrpSpPr>
            <p:grpSpPr>
              <a:xfrm>
                <a:off x="690840" y="1625760"/>
                <a:ext cx="1714680" cy="4462920"/>
                <a:chOff x="690840" y="1625760"/>
                <a:chExt cx="1714680" cy="4462920"/>
              </a:xfrm>
            </p:grpSpPr>
            <p:sp>
              <p:nvSpPr>
                <p:cNvPr id="643" name=""/>
                <p:cNvSpPr/>
                <p:nvPr/>
              </p:nvSpPr>
              <p:spPr>
                <a:xfrm>
                  <a:off x="739080" y="1625760"/>
                  <a:ext cx="1618200" cy="446292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Kaşif</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Mim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Mühendi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Mekanikç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örsel Sanat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emi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Satranç uzman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ezgi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Fotoğraf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sa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Dekoratö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eometri uzmanı</a:t>
                  </a:r>
                  <a:endParaRPr b="0" lang="en-US" sz="1800" spc="-1" strike="noStrike">
                    <a:solidFill>
                      <a:srgbClr val="ffffff"/>
                    </a:solidFill>
                    <a:latin typeface="Times New Roman"/>
                  </a:endParaRPr>
                </a:p>
              </p:txBody>
            </p:sp>
            <p:sp>
              <p:nvSpPr>
                <p:cNvPr id="644" name=""/>
                <p:cNvSpPr/>
                <p:nvPr/>
              </p:nvSpPr>
              <p:spPr>
                <a:xfrm>
                  <a:off x="690840" y="1625760"/>
                  <a:ext cx="1714680" cy="44629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5" name=""/>
              <p:cNvGrpSpPr/>
              <p:nvPr/>
            </p:nvGrpSpPr>
            <p:grpSpPr>
              <a:xfrm>
                <a:off x="2405880" y="1625760"/>
                <a:ext cx="1977480" cy="4462920"/>
                <a:chOff x="2405880" y="1625760"/>
                <a:chExt cx="1977480" cy="4462920"/>
              </a:xfrm>
            </p:grpSpPr>
            <p:sp>
              <p:nvSpPr>
                <p:cNvPr id="646" name=""/>
                <p:cNvSpPr/>
                <p:nvPr/>
              </p:nvSpPr>
              <p:spPr>
                <a:xfrm>
                  <a:off x="2454480" y="1625760"/>
                  <a:ext cx="1880640" cy="446292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Çiz</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Hayal 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Şekil ya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İnşa 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mini ya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Poster ya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Örnek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Boy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Düzen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Görsel ayrıntı hatırl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Dekore 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nklendir</a:t>
                  </a:r>
                  <a:endParaRPr b="0" lang="en-US" sz="1800" spc="-1" strike="noStrike">
                    <a:solidFill>
                      <a:srgbClr val="ffffff"/>
                    </a:solidFill>
                    <a:latin typeface="Times New Roman"/>
                  </a:endParaRPr>
                </a:p>
              </p:txBody>
            </p:sp>
            <p:sp>
              <p:nvSpPr>
                <p:cNvPr id="647" name=""/>
                <p:cNvSpPr/>
                <p:nvPr/>
              </p:nvSpPr>
              <p:spPr>
                <a:xfrm>
                  <a:off x="2405880" y="1625760"/>
                  <a:ext cx="1977480" cy="44629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8" name=""/>
              <p:cNvGrpSpPr/>
              <p:nvPr/>
            </p:nvGrpSpPr>
            <p:grpSpPr>
              <a:xfrm>
                <a:off x="4383720" y="1625760"/>
                <a:ext cx="1371960" cy="4462920"/>
                <a:chOff x="4383720" y="1625760"/>
                <a:chExt cx="1371960" cy="4462920"/>
              </a:xfrm>
            </p:grpSpPr>
            <p:sp>
              <p:nvSpPr>
                <p:cNvPr id="649" name=""/>
                <p:cNvSpPr/>
                <p:nvPr/>
              </p:nvSpPr>
              <p:spPr>
                <a:xfrm>
                  <a:off x="4432320" y="1625760"/>
                  <a:ext cx="1275120" cy="446292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San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i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İş-Tekn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Fen Bilgisi</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0" name=""/>
                <p:cNvSpPr/>
                <p:nvPr/>
              </p:nvSpPr>
              <p:spPr>
                <a:xfrm>
                  <a:off x="4383720" y="1625760"/>
                  <a:ext cx="1371960" cy="44629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1" name=""/>
              <p:cNvGrpSpPr/>
              <p:nvPr/>
            </p:nvGrpSpPr>
            <p:grpSpPr>
              <a:xfrm>
                <a:off x="5756040" y="1625760"/>
                <a:ext cx="2924640" cy="4462920"/>
                <a:chOff x="5756040" y="1625760"/>
                <a:chExt cx="2924640" cy="4462920"/>
              </a:xfrm>
            </p:grpSpPr>
            <p:sp>
              <p:nvSpPr>
                <p:cNvPr id="652" name=""/>
                <p:cNvSpPr/>
                <p:nvPr/>
              </p:nvSpPr>
              <p:spPr>
                <a:xfrm>
                  <a:off x="5804640" y="1625760"/>
                  <a:ext cx="2827440" cy="446292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Satranç kulübü</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Fotoğrafçılı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sim kursu</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El sanatları</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Üç boyutlu çalı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Koleksiyonl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Legol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Blokl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Harital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Renkli kaleml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Kuklal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Karikatü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rPr>
                    <a:t>Model yapma</a:t>
                  </a:r>
                  <a:endParaRPr b="0" lang="en-US" sz="1800" spc="-1" strike="noStrike">
                    <a:solidFill>
                      <a:srgbClr val="ffffff"/>
                    </a:solidFill>
                    <a:latin typeface="Times New Roman"/>
                  </a:endParaRPr>
                </a:p>
              </p:txBody>
            </p:sp>
            <p:sp>
              <p:nvSpPr>
                <p:cNvPr id="653" name=""/>
                <p:cNvSpPr/>
                <p:nvPr/>
              </p:nvSpPr>
              <p:spPr>
                <a:xfrm>
                  <a:off x="5756040" y="1625760"/>
                  <a:ext cx="2924640" cy="4462920"/>
                </a:xfrm>
                <a:prstGeom prst="rect">
                  <a:avLst/>
                </a:prstGeom>
                <a:noFill/>
                <a:ln w="0">
                  <a:solidFill>
                    <a:srgbClr val="0000a4"/>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4" name=""/>
            <p:cNvSpPr/>
            <p:nvPr/>
          </p:nvSpPr>
          <p:spPr>
            <a:xfrm>
              <a:off x="685800" y="762120"/>
              <a:ext cx="8000640" cy="533340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3" presetSubtype="528">
                                  <p:stCondLst>
                                    <p:cond delay="0"/>
                                  </p:stCondLst>
                                  <p:childTnLst>
                                    <p:set>
                                      <p:cBhvr>
                                        <p:cTn id="804" dur="1" fill="hold">
                                          <p:stCondLst>
                                            <p:cond delay="0"/>
                                          </p:stCondLst>
                                        </p:cTn>
                                        <p:tgtEl>
                                          <p:spTgt spid="620"/>
                                        </p:tgtEl>
                                        <p:attrNameLst>
                                          <p:attrName>style.visibility</p:attrName>
                                        </p:attrNameLst>
                                      </p:cBhvr>
                                      <p:to>
                                        <p:strVal val="visible"/>
                                      </p:to>
                                    </p:set>
                                    <p:anim calcmode="lin" valueType="num">
                                      <p:cBhvr additive="repl">
                                        <p:cTn id="805" dur="500" fill="hold"/>
                                        <p:tgtEl>
                                          <p:spTgt spid="620"/>
                                        </p:tgtEl>
                                        <p:attrNameLst>
                                          <p:attrName>ppt_w</p:attrName>
                                        </p:attrNameLst>
                                      </p:cBhvr>
                                      <p:tavLst>
                                        <p:tav tm="0">
                                          <p:val>
                                            <p:fltVal val="0"/>
                                          </p:val>
                                        </p:tav>
                                        <p:tav tm="100000">
                                          <p:val>
                                            <p:strVal val="#ppt_w"/>
                                          </p:val>
                                        </p:tav>
                                      </p:tavLst>
                                    </p:anim>
                                    <p:anim calcmode="lin" valueType="num">
                                      <p:cBhvr additive="repl">
                                        <p:cTn id="806" dur="500" fill="hold"/>
                                        <p:tgtEl>
                                          <p:spTgt spid="620"/>
                                        </p:tgtEl>
                                        <p:attrNameLst>
                                          <p:attrName>ppt_h</p:attrName>
                                        </p:attrNameLst>
                                      </p:cBhvr>
                                      <p:tavLst>
                                        <p:tav tm="0">
                                          <p:val>
                                            <p:fltVal val="0"/>
                                          </p:val>
                                        </p:tav>
                                        <p:tav tm="100000">
                                          <p:val>
                                            <p:strVal val="#ppt_h"/>
                                          </p:val>
                                        </p:tav>
                                      </p:tavLst>
                                    </p:anim>
                                    <p:anim calcmode="lin" valueType="num">
                                      <p:cBhvr additive="repl">
                                        <p:cTn id="807" dur="500" fill="hold"/>
                                        <p:tgtEl>
                                          <p:spTgt spid="620"/>
                                        </p:tgtEl>
                                        <p:attrNameLst>
                                          <p:attrName>ppt_x</p:attrName>
                                        </p:attrNameLst>
                                      </p:cBhvr>
                                      <p:tavLst>
                                        <p:tav tm="0">
                                          <p:val>
                                            <p:fltVal val="0.5"/>
                                          </p:val>
                                        </p:tav>
                                        <p:tav tm="100000">
                                          <p:val>
                                            <p:strVal val="#ppt_x"/>
                                          </p:val>
                                        </p:tav>
                                      </p:tavLst>
                                    </p:anim>
                                    <p:anim calcmode="lin" valueType="num">
                                      <p:cBhvr additive="repl">
                                        <p:cTn id="808" dur="500" fill="hold"/>
                                        <p:tgtEl>
                                          <p:spTgt spid="62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55" name=""/>
          <p:cNvGrpSpPr/>
          <p:nvPr/>
        </p:nvGrpSpPr>
        <p:grpSpPr>
          <a:xfrm>
            <a:off x="468360" y="380880"/>
            <a:ext cx="8350920" cy="6159600"/>
            <a:chOff x="468360" y="380880"/>
            <a:chExt cx="8350920" cy="6159600"/>
          </a:xfrm>
        </p:grpSpPr>
        <p:grpSp>
          <p:nvGrpSpPr>
            <p:cNvPr id="656" name=""/>
            <p:cNvGrpSpPr/>
            <p:nvPr/>
          </p:nvGrpSpPr>
          <p:grpSpPr>
            <a:xfrm>
              <a:off x="468360" y="1219320"/>
              <a:ext cx="8350920" cy="5321160"/>
              <a:chOff x="468360" y="1219320"/>
              <a:chExt cx="8350920" cy="5321160"/>
            </a:xfrm>
          </p:grpSpPr>
          <p:sp>
            <p:nvSpPr>
              <p:cNvPr id="657" name=""/>
              <p:cNvSpPr/>
              <p:nvPr/>
            </p:nvSpPr>
            <p:spPr>
              <a:xfrm>
                <a:off x="468360" y="5529240"/>
                <a:ext cx="8350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SOYUT VE KAVRAMSAL DÜŞÜNEBİLİR</a:t>
                </a:r>
                <a:endParaRPr b="0" lang="en-US" sz="1800" spc="-1" strike="noStrike">
                  <a:solidFill>
                    <a:srgbClr val="ffffff"/>
                  </a:solidFill>
                  <a:latin typeface="Times New Roman"/>
                </a:endParaRPr>
              </a:p>
            </p:txBody>
          </p:sp>
          <p:sp>
            <p:nvSpPr>
              <p:cNvPr id="658" name=""/>
              <p:cNvSpPr/>
              <p:nvPr/>
            </p:nvSpPr>
            <p:spPr>
              <a:xfrm>
                <a:off x="468360" y="1219320"/>
                <a:ext cx="835092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ZİHİNDEN İŞLEMLERİ KOLAYCA YAPAR</a:t>
                </a:r>
                <a:endParaRPr b="0" lang="en-US" sz="2000" spc="-1" strike="noStrike">
                  <a:solidFill>
                    <a:srgbClr val="ffffff"/>
                  </a:solidFill>
                  <a:latin typeface="Times New Roman"/>
                </a:endParaRPr>
              </a:p>
            </p:txBody>
          </p:sp>
          <p:sp>
            <p:nvSpPr>
              <p:cNvPr id="659" name=""/>
              <p:cNvSpPr/>
              <p:nvPr/>
            </p:nvSpPr>
            <p:spPr>
              <a:xfrm>
                <a:off x="468360" y="1859040"/>
                <a:ext cx="8350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GÜÇLÜ BİR MUHAKEMESİ VARDIR </a:t>
                </a:r>
                <a:endParaRPr b="0" lang="en-US" sz="1800" spc="-1" strike="noStrike">
                  <a:solidFill>
                    <a:srgbClr val="ffffff"/>
                  </a:solidFill>
                  <a:latin typeface="Times New Roman"/>
                </a:endParaRPr>
              </a:p>
            </p:txBody>
          </p:sp>
          <p:sp>
            <p:nvSpPr>
              <p:cNvPr id="660" name=""/>
              <p:cNvSpPr/>
              <p:nvPr/>
            </p:nvSpPr>
            <p:spPr>
              <a:xfrm>
                <a:off x="475920" y="2475000"/>
                <a:ext cx="83433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KATEGORİLERİ, İLİŞKİLERİ FARKEDER, AÇIKLAR </a:t>
                </a:r>
                <a:endParaRPr b="0" lang="en-US" sz="1800" spc="-1" strike="noStrike">
                  <a:solidFill>
                    <a:srgbClr val="ffffff"/>
                  </a:solidFill>
                  <a:latin typeface="Times New Roman"/>
                </a:endParaRPr>
              </a:p>
            </p:txBody>
          </p:sp>
          <p:sp>
            <p:nvSpPr>
              <p:cNvPr id="661" name=""/>
              <p:cNvSpPr/>
              <p:nvPr/>
            </p:nvSpPr>
            <p:spPr>
              <a:xfrm>
                <a:off x="475920" y="3067200"/>
                <a:ext cx="8343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BİLGİLER ARASINDA BAĞLANTILAR KURAR</a:t>
                </a:r>
                <a:r>
                  <a:rPr b="0" lang="en-US" sz="1800" spc="-1" strike="noStrike">
                    <a:solidFill>
                      <a:srgbClr val="003300"/>
                    </a:solidFill>
                    <a:latin typeface="Times New Roman"/>
                  </a:rPr>
                  <a:t> </a:t>
                </a:r>
                <a:endParaRPr b="0" lang="en-US" sz="1800" spc="-1" strike="noStrike">
                  <a:solidFill>
                    <a:srgbClr val="ffffff"/>
                  </a:solidFill>
                  <a:latin typeface="Times New Roman"/>
                </a:endParaRPr>
              </a:p>
            </p:txBody>
          </p:sp>
          <p:sp>
            <p:nvSpPr>
              <p:cNvPr id="662" name=""/>
              <p:cNvSpPr/>
              <p:nvPr/>
            </p:nvSpPr>
            <p:spPr>
              <a:xfrm>
                <a:off x="468360" y="3683160"/>
                <a:ext cx="8350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RAKAMLARLA İLGİLİ İŞLEMLERİ YAPMAKTAN HOŞLANIR</a:t>
                </a:r>
                <a:endParaRPr b="0" lang="en-US" sz="1800" spc="-1" strike="noStrike">
                  <a:solidFill>
                    <a:srgbClr val="ffffff"/>
                  </a:solidFill>
                  <a:latin typeface="Times New Roman"/>
                </a:endParaRPr>
              </a:p>
            </p:txBody>
          </p:sp>
          <p:sp>
            <p:nvSpPr>
              <p:cNvPr id="663" name=""/>
              <p:cNvSpPr/>
              <p:nvPr/>
            </p:nvSpPr>
            <p:spPr>
              <a:xfrm>
                <a:off x="475920" y="4309920"/>
                <a:ext cx="83433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MATEMATİK OYUNLARDAN ZEVK ALIR</a:t>
                </a:r>
                <a:r>
                  <a:rPr b="1" lang="en-US" sz="1800" spc="-1" strike="noStrike">
                    <a:solidFill>
                      <a:srgbClr val="003300"/>
                    </a:solidFill>
                    <a:latin typeface="Times New Roman"/>
                    <a:ea typeface="Times New Roman"/>
                  </a:rPr>
                  <a:t> </a:t>
                </a:r>
                <a:endParaRPr b="0" lang="en-US" sz="1800" spc="-1" strike="noStrike">
                  <a:solidFill>
                    <a:srgbClr val="ffffff"/>
                  </a:solidFill>
                  <a:latin typeface="Times New Roman"/>
                </a:endParaRPr>
              </a:p>
            </p:txBody>
          </p:sp>
          <p:sp>
            <p:nvSpPr>
              <p:cNvPr id="664" name=""/>
              <p:cNvSpPr/>
              <p:nvPr/>
            </p:nvSpPr>
            <p:spPr>
              <a:xfrm>
                <a:off x="468360" y="4919760"/>
                <a:ext cx="8350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SATRANÇ VE DAMA GİBİ OYUNLARDAN ZEVK ALIR</a:t>
                </a:r>
                <a:endParaRPr b="0" lang="en-US" sz="1800" spc="-1" strike="noStrike">
                  <a:solidFill>
                    <a:srgbClr val="ffffff"/>
                  </a:solidFill>
                  <a:latin typeface="Times New Roman"/>
                </a:endParaRPr>
              </a:p>
            </p:txBody>
          </p:sp>
          <p:sp>
            <p:nvSpPr>
              <p:cNvPr id="665" name=""/>
              <p:cNvSpPr/>
              <p:nvPr/>
            </p:nvSpPr>
            <p:spPr>
              <a:xfrm>
                <a:off x="475920" y="6172200"/>
                <a:ext cx="83433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SEBEP-SONUÇ İLİŞKİLERİN KOLAYCA ANLAR</a:t>
                </a:r>
                <a:endParaRPr b="0" lang="en-US" sz="1800" spc="-1" strike="noStrike">
                  <a:solidFill>
                    <a:srgbClr val="ffffff"/>
                  </a:solidFill>
                  <a:latin typeface="Times New Roman"/>
                </a:endParaRPr>
              </a:p>
            </p:txBody>
          </p:sp>
        </p:grpSp>
        <p:sp>
          <p:nvSpPr>
            <p:cNvPr id="666" name=""/>
            <p:cNvSpPr txBox="1"/>
            <p:nvPr/>
          </p:nvSpPr>
          <p:spPr>
            <a:xfrm>
              <a:off x="842400" y="380880"/>
              <a:ext cx="751896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MANTIKSAL MATEMATİKSEL ZEKA</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67" name=""/>
          <p:cNvGrpSpPr/>
          <p:nvPr/>
        </p:nvGrpSpPr>
        <p:grpSpPr>
          <a:xfrm>
            <a:off x="685800" y="762120"/>
            <a:ext cx="8001000" cy="5333760"/>
            <a:chOff x="685800" y="762120"/>
            <a:chExt cx="8001000" cy="5333760"/>
          </a:xfrm>
        </p:grpSpPr>
        <p:grpSp>
          <p:nvGrpSpPr>
            <p:cNvPr id="668" name=""/>
            <p:cNvGrpSpPr/>
            <p:nvPr/>
          </p:nvGrpSpPr>
          <p:grpSpPr>
            <a:xfrm>
              <a:off x="690480" y="768240"/>
              <a:ext cx="1749240" cy="858600"/>
              <a:chOff x="690480" y="768240"/>
              <a:chExt cx="1749240" cy="858600"/>
            </a:xfrm>
          </p:grpSpPr>
          <p:sp>
            <p:nvSpPr>
              <p:cNvPr id="669" name=""/>
              <p:cNvSpPr/>
              <p:nvPr/>
            </p:nvSpPr>
            <p:spPr>
              <a:xfrm>
                <a:off x="690480" y="768240"/>
                <a:ext cx="174924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0" name=""/>
              <p:cNvGrpSpPr/>
              <p:nvPr/>
            </p:nvGrpSpPr>
            <p:grpSpPr>
              <a:xfrm>
                <a:off x="690480" y="768240"/>
                <a:ext cx="1748880" cy="858240"/>
                <a:chOff x="690480" y="768240"/>
                <a:chExt cx="1748880" cy="858240"/>
              </a:xfrm>
            </p:grpSpPr>
            <p:sp>
              <p:nvSpPr>
                <p:cNvPr id="671" name=""/>
                <p:cNvSpPr/>
                <p:nvPr/>
              </p:nvSpPr>
              <p:spPr>
                <a:xfrm>
                  <a:off x="739440" y="768240"/>
                  <a:ext cx="165060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MESLEK</a:t>
                  </a:r>
                  <a:endParaRPr b="0" lang="en-US" sz="1800" spc="-1" strike="noStrike">
                    <a:solidFill>
                      <a:srgbClr val="ffffff"/>
                    </a:solidFill>
                    <a:latin typeface="Times New Roman"/>
                  </a:endParaRPr>
                </a:p>
              </p:txBody>
            </p:sp>
            <p:sp>
              <p:nvSpPr>
                <p:cNvPr id="672" name=""/>
                <p:cNvSpPr/>
                <p:nvPr/>
              </p:nvSpPr>
              <p:spPr>
                <a:xfrm>
                  <a:off x="690480" y="768240"/>
                  <a:ext cx="174888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3" name=""/>
            <p:cNvGrpSpPr/>
            <p:nvPr/>
          </p:nvGrpSpPr>
          <p:grpSpPr>
            <a:xfrm>
              <a:off x="2440080" y="768240"/>
              <a:ext cx="1751040" cy="858600"/>
              <a:chOff x="2440080" y="768240"/>
              <a:chExt cx="1751040" cy="858600"/>
            </a:xfrm>
          </p:grpSpPr>
          <p:sp>
            <p:nvSpPr>
              <p:cNvPr id="674" name=""/>
              <p:cNvSpPr/>
              <p:nvPr/>
            </p:nvSpPr>
            <p:spPr>
              <a:xfrm>
                <a:off x="2440080" y="768240"/>
                <a:ext cx="175104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 name=""/>
              <p:cNvGrpSpPr/>
              <p:nvPr/>
            </p:nvGrpSpPr>
            <p:grpSpPr>
              <a:xfrm>
                <a:off x="2440080" y="768240"/>
                <a:ext cx="1751040" cy="858240"/>
                <a:chOff x="2440080" y="768240"/>
                <a:chExt cx="1751040" cy="858240"/>
              </a:xfrm>
            </p:grpSpPr>
            <p:sp>
              <p:nvSpPr>
                <p:cNvPr id="676" name=""/>
                <p:cNvSpPr/>
                <p:nvPr/>
              </p:nvSpPr>
              <p:spPr>
                <a:xfrm>
                  <a:off x="2482920" y="768240"/>
                  <a:ext cx="166500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FİİL</a:t>
                  </a:r>
                  <a:endParaRPr b="0" lang="en-US" sz="1800" spc="-1" strike="noStrike">
                    <a:solidFill>
                      <a:srgbClr val="ffffff"/>
                    </a:solidFill>
                    <a:latin typeface="Times New Roman"/>
                  </a:endParaRPr>
                </a:p>
              </p:txBody>
            </p:sp>
            <p:sp>
              <p:nvSpPr>
                <p:cNvPr id="677" name=""/>
                <p:cNvSpPr/>
                <p:nvPr/>
              </p:nvSpPr>
              <p:spPr>
                <a:xfrm>
                  <a:off x="2440080" y="768240"/>
                  <a:ext cx="175104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78" name=""/>
            <p:cNvGrpSpPr/>
            <p:nvPr/>
          </p:nvGrpSpPr>
          <p:grpSpPr>
            <a:xfrm>
              <a:off x="4191120" y="768240"/>
              <a:ext cx="1664640" cy="858600"/>
              <a:chOff x="4191120" y="768240"/>
              <a:chExt cx="1664640" cy="858600"/>
            </a:xfrm>
          </p:grpSpPr>
          <p:sp>
            <p:nvSpPr>
              <p:cNvPr id="679" name=""/>
              <p:cNvSpPr/>
              <p:nvPr/>
            </p:nvSpPr>
            <p:spPr>
              <a:xfrm>
                <a:off x="4191120" y="768240"/>
                <a:ext cx="166464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80" name=""/>
              <p:cNvGrpSpPr/>
              <p:nvPr/>
            </p:nvGrpSpPr>
            <p:grpSpPr>
              <a:xfrm>
                <a:off x="4191120" y="768240"/>
                <a:ext cx="1664280" cy="858240"/>
                <a:chOff x="4191120" y="768240"/>
                <a:chExt cx="1664280" cy="858240"/>
              </a:xfrm>
            </p:grpSpPr>
            <p:sp>
              <p:nvSpPr>
                <p:cNvPr id="681" name=""/>
                <p:cNvSpPr/>
                <p:nvPr/>
              </p:nvSpPr>
              <p:spPr>
                <a:xfrm>
                  <a:off x="4249800" y="768240"/>
                  <a:ext cx="154692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DERS</a:t>
                  </a:r>
                  <a:endParaRPr b="0" lang="en-US" sz="1800" spc="-1" strike="noStrike">
                    <a:solidFill>
                      <a:srgbClr val="ffffff"/>
                    </a:solidFill>
                    <a:latin typeface="Times New Roman"/>
                  </a:endParaRPr>
                </a:p>
              </p:txBody>
            </p:sp>
            <p:sp>
              <p:nvSpPr>
                <p:cNvPr id="682" name=""/>
                <p:cNvSpPr/>
                <p:nvPr/>
              </p:nvSpPr>
              <p:spPr>
                <a:xfrm>
                  <a:off x="4191120" y="768240"/>
                  <a:ext cx="166428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83" name=""/>
            <p:cNvGrpSpPr/>
            <p:nvPr/>
          </p:nvGrpSpPr>
          <p:grpSpPr>
            <a:xfrm>
              <a:off x="5856120" y="768240"/>
              <a:ext cx="2830320" cy="858600"/>
              <a:chOff x="5856120" y="768240"/>
              <a:chExt cx="2830320" cy="858600"/>
            </a:xfrm>
          </p:grpSpPr>
          <p:sp>
            <p:nvSpPr>
              <p:cNvPr id="684" name=""/>
              <p:cNvSpPr/>
              <p:nvPr/>
            </p:nvSpPr>
            <p:spPr>
              <a:xfrm>
                <a:off x="5856120" y="768240"/>
                <a:ext cx="283032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85" name=""/>
              <p:cNvGrpSpPr/>
              <p:nvPr/>
            </p:nvGrpSpPr>
            <p:grpSpPr>
              <a:xfrm>
                <a:off x="5856120" y="768240"/>
                <a:ext cx="2829960" cy="858240"/>
                <a:chOff x="5856120" y="768240"/>
                <a:chExt cx="2829960" cy="858240"/>
              </a:xfrm>
            </p:grpSpPr>
            <p:sp>
              <p:nvSpPr>
                <p:cNvPr id="686" name=""/>
                <p:cNvSpPr/>
                <p:nvPr/>
              </p:nvSpPr>
              <p:spPr>
                <a:xfrm>
                  <a:off x="5902920" y="768240"/>
                  <a:ext cx="273600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ea typeface="Times New Roman"/>
                    </a:rPr>
                    <a:t>DERS DIŞI</a:t>
                  </a:r>
                  <a:endParaRPr b="0" lang="en-US" sz="1800" spc="-1" strike="noStrike">
                    <a:solidFill>
                      <a:srgbClr val="ffffff"/>
                    </a:solidFill>
                    <a:latin typeface="Times New Roman"/>
                  </a:endParaRPr>
                </a:p>
              </p:txBody>
            </p:sp>
            <p:sp>
              <p:nvSpPr>
                <p:cNvPr id="687" name=""/>
                <p:cNvSpPr/>
                <p:nvPr/>
              </p:nvSpPr>
              <p:spPr>
                <a:xfrm>
                  <a:off x="5856120" y="768240"/>
                  <a:ext cx="282996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88" name=""/>
            <p:cNvGrpSpPr/>
            <p:nvPr/>
          </p:nvGrpSpPr>
          <p:grpSpPr>
            <a:xfrm>
              <a:off x="690480" y="1627200"/>
              <a:ext cx="1749240" cy="4462200"/>
              <a:chOff x="690480" y="1627200"/>
              <a:chExt cx="1749240" cy="4462200"/>
            </a:xfrm>
          </p:grpSpPr>
          <p:sp>
            <p:nvSpPr>
              <p:cNvPr id="689" name=""/>
              <p:cNvSpPr/>
              <p:nvPr/>
            </p:nvSpPr>
            <p:spPr>
              <a:xfrm>
                <a:off x="739440" y="1627200"/>
                <a:ext cx="165096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lim Adam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ühendi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lgisayar programcıs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İstatistikç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rgıç</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uci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atematikç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uhasebe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Polisiye roman yaz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Eleştirme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Ekonomis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atın alma görevlisi</a:t>
                </a:r>
                <a:endParaRPr b="0" lang="en-US" sz="1800" spc="-1" strike="noStrike">
                  <a:solidFill>
                    <a:srgbClr val="ffffff"/>
                  </a:solidFill>
                  <a:latin typeface="Times New Roman"/>
                </a:endParaRPr>
              </a:p>
            </p:txBody>
          </p:sp>
          <p:sp>
            <p:nvSpPr>
              <p:cNvPr id="690" name=""/>
              <p:cNvSpPr/>
              <p:nvPr/>
            </p:nvSpPr>
            <p:spPr>
              <a:xfrm>
                <a:off x="690480" y="1627200"/>
                <a:ext cx="174924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1" name=""/>
            <p:cNvGrpSpPr/>
            <p:nvPr/>
          </p:nvGrpSpPr>
          <p:grpSpPr>
            <a:xfrm>
              <a:off x="2440080" y="1627200"/>
              <a:ext cx="1751040" cy="4462200"/>
              <a:chOff x="2440080" y="1627200"/>
              <a:chExt cx="1751040" cy="4462200"/>
            </a:xfrm>
          </p:grpSpPr>
          <p:sp>
            <p:nvSpPr>
              <p:cNvPr id="692" name=""/>
              <p:cNvSpPr/>
              <p:nvPr/>
            </p:nvSpPr>
            <p:spPr>
              <a:xfrm>
                <a:off x="2482920" y="1627200"/>
                <a:ext cx="166500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Tahmin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Uygu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arşılaştı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ipotez k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Problem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Şifre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ınıf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Çözüm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esap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Keşf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n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o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Akıl yürüt</a:t>
                </a:r>
                <a:endParaRPr b="0" lang="en-US" sz="1800" spc="-1" strike="noStrike">
                  <a:solidFill>
                    <a:srgbClr val="ffffff"/>
                  </a:solidFill>
                  <a:latin typeface="Times New Roman"/>
                </a:endParaRPr>
              </a:p>
            </p:txBody>
          </p:sp>
          <p:sp>
            <p:nvSpPr>
              <p:cNvPr id="693" name=""/>
              <p:cNvSpPr/>
              <p:nvPr/>
            </p:nvSpPr>
            <p:spPr>
              <a:xfrm>
                <a:off x="2440080" y="1627200"/>
                <a:ext cx="175104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4" name=""/>
            <p:cNvGrpSpPr/>
            <p:nvPr/>
          </p:nvGrpSpPr>
          <p:grpSpPr>
            <a:xfrm>
              <a:off x="4191120" y="1627200"/>
              <a:ext cx="1664640" cy="4462200"/>
              <a:chOff x="4191120" y="1627200"/>
              <a:chExt cx="1664640" cy="4462200"/>
            </a:xfrm>
          </p:grpSpPr>
          <p:sp>
            <p:nvSpPr>
              <p:cNvPr id="695" name=""/>
              <p:cNvSpPr/>
              <p:nvPr/>
            </p:nvSpPr>
            <p:spPr>
              <a:xfrm>
                <a:off x="4249800" y="1627200"/>
                <a:ext cx="154728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atemati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en bilgis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ayat Bi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ilbilgisi</a:t>
                </a:r>
                <a:endParaRPr b="0" lang="en-US" sz="1800" spc="-1" strike="noStrike">
                  <a:solidFill>
                    <a:srgbClr val="ffffff"/>
                  </a:solidFill>
                  <a:latin typeface="Times New Roman"/>
                </a:endParaRPr>
              </a:p>
            </p:txBody>
          </p:sp>
          <p:sp>
            <p:nvSpPr>
              <p:cNvPr id="696" name=""/>
              <p:cNvSpPr/>
              <p:nvPr/>
            </p:nvSpPr>
            <p:spPr>
              <a:xfrm>
                <a:off x="4191120" y="1627200"/>
                <a:ext cx="166464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5856120" y="1627200"/>
              <a:ext cx="2830320" cy="4462200"/>
              <a:chOff x="5856120" y="1627200"/>
              <a:chExt cx="2830320" cy="4462200"/>
            </a:xfrm>
          </p:grpSpPr>
          <p:sp>
            <p:nvSpPr>
              <p:cNvPr id="698" name=""/>
              <p:cNvSpPr/>
              <p:nvPr/>
            </p:nvSpPr>
            <p:spPr>
              <a:xfrm>
                <a:off x="5902920" y="1627200"/>
                <a:ext cx="273636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lgisayar kulübü</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Ölçme birim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Lego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Hesap makineler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lmece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Oyun kart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Oyuncak para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ulmaca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trateji oyun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ney yap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Yap- boz</a:t>
                </a:r>
                <a:endParaRPr b="0" lang="en-US" sz="1800" spc="-1" strike="noStrike">
                  <a:solidFill>
                    <a:srgbClr val="ffffff"/>
                  </a:solidFill>
                  <a:latin typeface="Times New Roman"/>
                </a:endParaRPr>
              </a:p>
            </p:txBody>
          </p:sp>
          <p:sp>
            <p:nvSpPr>
              <p:cNvPr id="699" name=""/>
              <p:cNvSpPr/>
              <p:nvPr/>
            </p:nvSpPr>
            <p:spPr>
              <a:xfrm>
                <a:off x="5856120" y="1627200"/>
                <a:ext cx="283032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
            <p:cNvSpPr/>
            <p:nvPr/>
          </p:nvSpPr>
          <p:spPr>
            <a:xfrm>
              <a:off x="685800" y="762120"/>
              <a:ext cx="8001000" cy="533376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3" presetSubtype="16">
                                  <p:stCondLst>
                                    <p:cond delay="0"/>
                                  </p:stCondLst>
                                  <p:childTnLst>
                                    <p:set>
                                      <p:cBhvr>
                                        <p:cTn id="814" dur="1" fill="hold">
                                          <p:stCondLst>
                                            <p:cond delay="0"/>
                                          </p:stCondLst>
                                        </p:cTn>
                                        <p:tgtEl>
                                          <p:spTgt spid="667"/>
                                        </p:tgtEl>
                                        <p:attrNameLst>
                                          <p:attrName>style.visibility</p:attrName>
                                        </p:attrNameLst>
                                      </p:cBhvr>
                                      <p:to>
                                        <p:strVal val="visible"/>
                                      </p:to>
                                    </p:set>
                                    <p:anim calcmode="lin" valueType="num">
                                      <p:cBhvr additive="repl">
                                        <p:cTn id="815" dur="500" fill="hold"/>
                                        <p:tgtEl>
                                          <p:spTgt spid="667"/>
                                        </p:tgtEl>
                                        <p:attrNameLst>
                                          <p:attrName>ppt_w</p:attrName>
                                        </p:attrNameLst>
                                      </p:cBhvr>
                                      <p:tavLst>
                                        <p:tav tm="0">
                                          <p:val>
                                            <p:fltVal val="0"/>
                                          </p:val>
                                        </p:tav>
                                        <p:tav tm="100000">
                                          <p:val>
                                            <p:strVal val="#ppt_w"/>
                                          </p:val>
                                        </p:tav>
                                      </p:tavLst>
                                    </p:anim>
                                    <p:anim calcmode="lin" valueType="num">
                                      <p:cBhvr additive="repl">
                                        <p:cTn id="816" dur="500" fill="hold"/>
                                        <p:tgtEl>
                                          <p:spTgt spid="6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01" name=""/>
          <p:cNvGrpSpPr/>
          <p:nvPr/>
        </p:nvGrpSpPr>
        <p:grpSpPr>
          <a:xfrm>
            <a:off x="328680" y="304920"/>
            <a:ext cx="7824600" cy="6159240"/>
            <a:chOff x="328680" y="304920"/>
            <a:chExt cx="7824600" cy="6159240"/>
          </a:xfrm>
        </p:grpSpPr>
        <p:grpSp>
          <p:nvGrpSpPr>
            <p:cNvPr id="702" name=""/>
            <p:cNvGrpSpPr/>
            <p:nvPr/>
          </p:nvGrpSpPr>
          <p:grpSpPr>
            <a:xfrm>
              <a:off x="1143000" y="1219320"/>
              <a:ext cx="7010280" cy="5244840"/>
              <a:chOff x="1143000" y="1219320"/>
              <a:chExt cx="7010280" cy="5244840"/>
            </a:xfrm>
          </p:grpSpPr>
          <p:sp>
            <p:nvSpPr>
              <p:cNvPr id="703" name=""/>
              <p:cNvSpPr/>
              <p:nvPr/>
            </p:nvSpPr>
            <p:spPr>
              <a:xfrm>
                <a:off x="1212840" y="5529240"/>
                <a:ext cx="67881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AŞKALARINI DÜŞÜNÜR </a:t>
                </a:r>
                <a:endParaRPr b="0" lang="en-US" sz="1800" spc="-1" strike="noStrike">
                  <a:solidFill>
                    <a:srgbClr val="ffffff"/>
                  </a:solidFill>
                  <a:latin typeface="Times New Roman"/>
                </a:endParaRPr>
              </a:p>
            </p:txBody>
          </p:sp>
          <p:sp>
            <p:nvSpPr>
              <p:cNvPr id="704" name=""/>
              <p:cNvSpPr/>
              <p:nvPr/>
            </p:nvSpPr>
            <p:spPr>
              <a:xfrm>
                <a:off x="1212840" y="1219320"/>
                <a:ext cx="6940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SOSYAL İLİŞKİ KURMAKTAN HOŞLANIR.</a:t>
                </a:r>
                <a:endParaRPr b="0" lang="en-US" sz="1800" spc="-1" strike="noStrike">
                  <a:solidFill>
                    <a:srgbClr val="ffffff"/>
                  </a:solidFill>
                  <a:latin typeface="Times New Roman"/>
                </a:endParaRPr>
              </a:p>
            </p:txBody>
          </p:sp>
          <p:sp>
            <p:nvSpPr>
              <p:cNvPr id="705" name=""/>
              <p:cNvSpPr/>
              <p:nvPr/>
            </p:nvSpPr>
            <p:spPr>
              <a:xfrm>
                <a:off x="1212840" y="1859040"/>
                <a:ext cx="686448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OĞAL BİR LİDER OLARAK GÖRÜNÜR.</a:t>
                </a:r>
                <a:r>
                  <a:rPr b="0" lang="en-US" sz="1800" spc="-1" strike="noStrike">
                    <a:solidFill>
                      <a:srgbClr val="0000a4"/>
                    </a:solidFill>
                    <a:latin typeface="Times New Roman"/>
                  </a:rPr>
                  <a:t> </a:t>
                </a:r>
                <a:endParaRPr b="0" lang="en-US" sz="1800" spc="-1" strike="noStrike">
                  <a:solidFill>
                    <a:srgbClr val="ffffff"/>
                  </a:solidFill>
                  <a:latin typeface="Times New Roman"/>
                </a:endParaRPr>
              </a:p>
            </p:txBody>
          </p:sp>
          <p:sp>
            <p:nvSpPr>
              <p:cNvPr id="706" name=""/>
              <p:cNvSpPr/>
              <p:nvPr/>
            </p:nvSpPr>
            <p:spPr>
              <a:xfrm>
                <a:off x="1219320" y="2475000"/>
                <a:ext cx="685800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PROBLEMİ OLAN ARKADAŞLARINA ÖĞÜTLER VERİR. </a:t>
                </a:r>
                <a:endParaRPr b="0" lang="en-US" sz="1800" spc="-1" strike="noStrike">
                  <a:solidFill>
                    <a:srgbClr val="ffffff"/>
                  </a:solidFill>
                  <a:latin typeface="Times New Roman"/>
                </a:endParaRPr>
              </a:p>
            </p:txBody>
          </p:sp>
          <p:sp>
            <p:nvSpPr>
              <p:cNvPr id="707" name=""/>
              <p:cNvSpPr/>
              <p:nvPr/>
            </p:nvSpPr>
            <p:spPr>
              <a:xfrm>
                <a:off x="1219320" y="3067200"/>
                <a:ext cx="685800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ORGANİZASYONLARIN BAŞ ELEMANIDIR.</a:t>
                </a:r>
                <a:endParaRPr b="0" lang="en-US" sz="1800" spc="-1" strike="noStrike">
                  <a:solidFill>
                    <a:srgbClr val="ffffff"/>
                  </a:solidFill>
                  <a:latin typeface="Times New Roman"/>
                </a:endParaRPr>
              </a:p>
            </p:txBody>
          </p:sp>
          <p:sp>
            <p:nvSpPr>
              <p:cNvPr id="708" name=""/>
              <p:cNvSpPr/>
              <p:nvPr/>
            </p:nvSpPr>
            <p:spPr>
              <a:xfrm>
                <a:off x="1143000" y="3657600"/>
                <a:ext cx="685800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R ŞEYLER ANLATMAKTAN HOŞLANIR.</a:t>
                </a:r>
                <a:endParaRPr b="0" lang="en-US" sz="1800" spc="-1" strike="noStrike">
                  <a:solidFill>
                    <a:srgbClr val="ffffff"/>
                  </a:solidFill>
                  <a:latin typeface="Times New Roman"/>
                </a:endParaRPr>
              </a:p>
            </p:txBody>
          </p:sp>
          <p:sp>
            <p:nvSpPr>
              <p:cNvPr id="709" name=""/>
              <p:cNvSpPr/>
              <p:nvPr/>
            </p:nvSpPr>
            <p:spPr>
              <a:xfrm>
                <a:off x="1219320" y="4309920"/>
                <a:ext cx="678168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İĞER ÇOCUKLARLA OYNAMAKTAN HOŞLANIR.</a:t>
                </a:r>
                <a:r>
                  <a:rPr b="1" lang="en-US" sz="1800" spc="-1" strike="noStrike">
                    <a:solidFill>
                      <a:srgbClr val="0000a4"/>
                    </a:solidFill>
                    <a:latin typeface="Times New Roman"/>
                    <a:ea typeface="Times New Roman"/>
                  </a:rPr>
                  <a:t> </a:t>
                </a:r>
                <a:endParaRPr b="0" lang="en-US" sz="1800" spc="-1" strike="noStrike">
                  <a:solidFill>
                    <a:srgbClr val="ffffff"/>
                  </a:solidFill>
                  <a:latin typeface="Times New Roman"/>
                </a:endParaRPr>
              </a:p>
            </p:txBody>
          </p:sp>
          <p:sp>
            <p:nvSpPr>
              <p:cNvPr id="710" name=""/>
              <p:cNvSpPr/>
              <p:nvPr/>
            </p:nvSpPr>
            <p:spPr>
              <a:xfrm>
                <a:off x="1212840" y="4919760"/>
                <a:ext cx="6788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İKİ YA DA DAHA FAZLA YAKIN ARKADAŞI VARDIR.</a:t>
                </a:r>
                <a:r>
                  <a:rPr b="1" lang="en-US" sz="1800" spc="-1" strike="noStrike">
                    <a:solidFill>
                      <a:srgbClr val="0000a4"/>
                    </a:solidFill>
                    <a:latin typeface="Times New Roman"/>
                    <a:ea typeface="Times New Roman"/>
                  </a:rPr>
                  <a:t> </a:t>
                </a:r>
                <a:endParaRPr b="0" lang="en-US" sz="1800" spc="-1" strike="noStrike">
                  <a:solidFill>
                    <a:srgbClr val="ffffff"/>
                  </a:solidFill>
                  <a:latin typeface="Times New Roman"/>
                </a:endParaRPr>
              </a:p>
            </p:txBody>
          </p:sp>
          <p:sp>
            <p:nvSpPr>
              <p:cNvPr id="711" name=""/>
              <p:cNvSpPr/>
              <p:nvPr/>
            </p:nvSpPr>
            <p:spPr>
              <a:xfrm>
                <a:off x="1219320" y="6095880"/>
                <a:ext cx="678168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İĞERLERİ ONU ARKADAŞLIK İÇİN ARAR</a:t>
                </a:r>
                <a:endParaRPr b="0" lang="en-US" sz="1800" spc="-1" strike="noStrike">
                  <a:solidFill>
                    <a:srgbClr val="ffffff"/>
                  </a:solidFill>
                  <a:latin typeface="Times New Roman"/>
                </a:endParaRPr>
              </a:p>
            </p:txBody>
          </p:sp>
        </p:grpSp>
        <p:sp>
          <p:nvSpPr>
            <p:cNvPr id="712" name=""/>
            <p:cNvSpPr txBox="1"/>
            <p:nvPr/>
          </p:nvSpPr>
          <p:spPr>
            <a:xfrm>
              <a:off x="1523880" y="304920"/>
              <a:ext cx="59436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KİŞİLER ARASI ZEKA</a:t>
              </a:r>
              <a:endParaRPr b="0" lang="en-US" sz="2400" spc="1" strike="noStrike">
                <a:ln w="9360">
                  <a:solidFill>
                    <a:srgbClr val="000000"/>
                  </a:solidFill>
                  <a:miter/>
                </a:ln>
                <a:solidFill>
                  <a:srgbClr val="ffff99"/>
                </a:solidFill>
                <a:latin typeface="Arial Black"/>
                <a:ea typeface="Arial Black"/>
              </a:endParaRPr>
            </a:p>
          </p:txBody>
        </p:sp>
        <p:grpSp>
          <p:nvGrpSpPr>
            <p:cNvPr id="713" name=""/>
            <p:cNvGrpSpPr/>
            <p:nvPr/>
          </p:nvGrpSpPr>
          <p:grpSpPr>
            <a:xfrm>
              <a:off x="328680" y="343080"/>
              <a:ext cx="1135080" cy="536040"/>
              <a:chOff x="328680" y="343080"/>
              <a:chExt cx="1135080" cy="536040"/>
            </a:xfrm>
          </p:grpSpPr>
          <p:sp>
            <p:nvSpPr>
              <p:cNvPr id="714" name=""/>
              <p:cNvSpPr/>
              <p:nvPr/>
            </p:nvSpPr>
            <p:spPr>
              <a:xfrm>
                <a:off x="328680" y="353520"/>
                <a:ext cx="1135080" cy="525600"/>
              </a:xfrm>
              <a:custGeom>
                <a:avLst/>
                <a:gdLst/>
                <a:ahLst/>
                <a:rect l="l" t="t" r="r" b="b"/>
                <a:pathLst>
                  <a:path w="1788" h="829">
                    <a:moveTo>
                      <a:pt x="894" y="829"/>
                    </a:moveTo>
                    <a:lnTo>
                      <a:pt x="940" y="828"/>
                    </a:lnTo>
                    <a:lnTo>
                      <a:pt x="986" y="827"/>
                    </a:lnTo>
                    <a:lnTo>
                      <a:pt x="1030" y="824"/>
                    </a:lnTo>
                    <a:lnTo>
                      <a:pt x="1074" y="820"/>
                    </a:lnTo>
                    <a:lnTo>
                      <a:pt x="1117" y="816"/>
                    </a:lnTo>
                    <a:lnTo>
                      <a:pt x="1160" y="810"/>
                    </a:lnTo>
                    <a:lnTo>
                      <a:pt x="1201" y="803"/>
                    </a:lnTo>
                    <a:lnTo>
                      <a:pt x="1242" y="797"/>
                    </a:lnTo>
                    <a:lnTo>
                      <a:pt x="1281" y="788"/>
                    </a:lnTo>
                    <a:lnTo>
                      <a:pt x="1320" y="778"/>
                    </a:lnTo>
                    <a:lnTo>
                      <a:pt x="1357" y="768"/>
                    </a:lnTo>
                    <a:lnTo>
                      <a:pt x="1393" y="758"/>
                    </a:lnTo>
                    <a:lnTo>
                      <a:pt x="1428" y="747"/>
                    </a:lnTo>
                    <a:lnTo>
                      <a:pt x="1462" y="734"/>
                    </a:lnTo>
                    <a:lnTo>
                      <a:pt x="1495" y="721"/>
                    </a:lnTo>
                    <a:lnTo>
                      <a:pt x="1527" y="707"/>
                    </a:lnTo>
                    <a:lnTo>
                      <a:pt x="1556" y="693"/>
                    </a:lnTo>
                    <a:lnTo>
                      <a:pt x="1585" y="678"/>
                    </a:lnTo>
                    <a:lnTo>
                      <a:pt x="1611" y="662"/>
                    </a:lnTo>
                    <a:lnTo>
                      <a:pt x="1636" y="646"/>
                    </a:lnTo>
                    <a:lnTo>
                      <a:pt x="1659" y="629"/>
                    </a:lnTo>
                    <a:lnTo>
                      <a:pt x="1681" y="612"/>
                    </a:lnTo>
                    <a:lnTo>
                      <a:pt x="1700" y="594"/>
                    </a:lnTo>
                    <a:lnTo>
                      <a:pt x="1718" y="575"/>
                    </a:lnTo>
                    <a:lnTo>
                      <a:pt x="1734" y="556"/>
                    </a:lnTo>
                    <a:lnTo>
                      <a:pt x="1749" y="537"/>
                    </a:lnTo>
                    <a:lnTo>
                      <a:pt x="1761" y="518"/>
                    </a:lnTo>
                    <a:lnTo>
                      <a:pt x="1770" y="498"/>
                    </a:lnTo>
                    <a:lnTo>
                      <a:pt x="1778" y="478"/>
                    </a:lnTo>
                    <a:lnTo>
                      <a:pt x="1784" y="456"/>
                    </a:lnTo>
                    <a:lnTo>
                      <a:pt x="1787" y="436"/>
                    </a:lnTo>
                    <a:lnTo>
                      <a:pt x="1788" y="415"/>
                    </a:lnTo>
                    <a:lnTo>
                      <a:pt x="1787" y="393"/>
                    </a:lnTo>
                    <a:lnTo>
                      <a:pt x="1784" y="373"/>
                    </a:lnTo>
                    <a:lnTo>
                      <a:pt x="1778" y="351"/>
                    </a:lnTo>
                    <a:lnTo>
                      <a:pt x="1770" y="331"/>
                    </a:lnTo>
                    <a:lnTo>
                      <a:pt x="1761" y="311"/>
                    </a:lnTo>
                    <a:lnTo>
                      <a:pt x="1749" y="292"/>
                    </a:lnTo>
                    <a:lnTo>
                      <a:pt x="1734" y="273"/>
                    </a:lnTo>
                    <a:lnTo>
                      <a:pt x="1718" y="254"/>
                    </a:lnTo>
                    <a:lnTo>
                      <a:pt x="1700" y="235"/>
                    </a:lnTo>
                    <a:lnTo>
                      <a:pt x="1681" y="217"/>
                    </a:lnTo>
                    <a:lnTo>
                      <a:pt x="1659" y="200"/>
                    </a:lnTo>
                    <a:lnTo>
                      <a:pt x="1636" y="183"/>
                    </a:lnTo>
                    <a:lnTo>
                      <a:pt x="1611" y="167"/>
                    </a:lnTo>
                    <a:lnTo>
                      <a:pt x="1585" y="151"/>
                    </a:lnTo>
                    <a:lnTo>
                      <a:pt x="1556" y="136"/>
                    </a:lnTo>
                    <a:lnTo>
                      <a:pt x="1527" y="122"/>
                    </a:lnTo>
                    <a:lnTo>
                      <a:pt x="1495" y="108"/>
                    </a:lnTo>
                    <a:lnTo>
                      <a:pt x="1462" y="95"/>
                    </a:lnTo>
                    <a:lnTo>
                      <a:pt x="1428" y="82"/>
                    </a:lnTo>
                    <a:lnTo>
                      <a:pt x="1393" y="71"/>
                    </a:lnTo>
                    <a:lnTo>
                      <a:pt x="1357" y="61"/>
                    </a:lnTo>
                    <a:lnTo>
                      <a:pt x="1320" y="51"/>
                    </a:lnTo>
                    <a:lnTo>
                      <a:pt x="1281" y="41"/>
                    </a:lnTo>
                    <a:lnTo>
                      <a:pt x="1242" y="32"/>
                    </a:lnTo>
                    <a:lnTo>
                      <a:pt x="1201" y="26"/>
                    </a:lnTo>
                    <a:lnTo>
                      <a:pt x="1160" y="19"/>
                    </a:lnTo>
                    <a:lnTo>
                      <a:pt x="1117" y="13"/>
                    </a:lnTo>
                    <a:lnTo>
                      <a:pt x="1074" y="9"/>
                    </a:lnTo>
                    <a:lnTo>
                      <a:pt x="1030" y="5"/>
                    </a:lnTo>
                    <a:lnTo>
                      <a:pt x="986" y="2"/>
                    </a:lnTo>
                    <a:lnTo>
                      <a:pt x="940" y="1"/>
                    </a:lnTo>
                    <a:lnTo>
                      <a:pt x="894" y="0"/>
                    </a:lnTo>
                    <a:lnTo>
                      <a:pt x="848" y="1"/>
                    </a:lnTo>
                    <a:lnTo>
                      <a:pt x="802" y="2"/>
                    </a:lnTo>
                    <a:lnTo>
                      <a:pt x="758" y="5"/>
                    </a:lnTo>
                    <a:lnTo>
                      <a:pt x="714" y="9"/>
                    </a:lnTo>
                    <a:lnTo>
                      <a:pt x="671" y="13"/>
                    </a:lnTo>
                    <a:lnTo>
                      <a:pt x="628" y="19"/>
                    </a:lnTo>
                    <a:lnTo>
                      <a:pt x="587" y="26"/>
                    </a:lnTo>
                    <a:lnTo>
                      <a:pt x="546" y="32"/>
                    </a:lnTo>
                    <a:lnTo>
                      <a:pt x="507" y="41"/>
                    </a:lnTo>
                    <a:lnTo>
                      <a:pt x="468" y="51"/>
                    </a:lnTo>
                    <a:lnTo>
                      <a:pt x="431" y="61"/>
                    </a:lnTo>
                    <a:lnTo>
                      <a:pt x="395" y="71"/>
                    </a:lnTo>
                    <a:lnTo>
                      <a:pt x="360" y="82"/>
                    </a:lnTo>
                    <a:lnTo>
                      <a:pt x="326" y="95"/>
                    </a:lnTo>
                    <a:lnTo>
                      <a:pt x="293" y="108"/>
                    </a:lnTo>
                    <a:lnTo>
                      <a:pt x="261" y="122"/>
                    </a:lnTo>
                    <a:lnTo>
                      <a:pt x="232" y="136"/>
                    </a:lnTo>
                    <a:lnTo>
                      <a:pt x="203" y="151"/>
                    </a:lnTo>
                    <a:lnTo>
                      <a:pt x="177" y="167"/>
                    </a:lnTo>
                    <a:lnTo>
                      <a:pt x="152" y="183"/>
                    </a:lnTo>
                    <a:lnTo>
                      <a:pt x="129" y="200"/>
                    </a:lnTo>
                    <a:lnTo>
                      <a:pt x="107" y="217"/>
                    </a:lnTo>
                    <a:lnTo>
                      <a:pt x="88" y="235"/>
                    </a:lnTo>
                    <a:lnTo>
                      <a:pt x="70" y="254"/>
                    </a:lnTo>
                    <a:lnTo>
                      <a:pt x="54" y="273"/>
                    </a:lnTo>
                    <a:lnTo>
                      <a:pt x="39" y="292"/>
                    </a:lnTo>
                    <a:lnTo>
                      <a:pt x="27" y="311"/>
                    </a:lnTo>
                    <a:lnTo>
                      <a:pt x="18" y="331"/>
                    </a:lnTo>
                    <a:lnTo>
                      <a:pt x="10" y="351"/>
                    </a:lnTo>
                    <a:lnTo>
                      <a:pt x="4" y="373"/>
                    </a:lnTo>
                    <a:lnTo>
                      <a:pt x="1" y="393"/>
                    </a:lnTo>
                    <a:lnTo>
                      <a:pt x="0" y="415"/>
                    </a:lnTo>
                    <a:lnTo>
                      <a:pt x="1" y="436"/>
                    </a:lnTo>
                    <a:lnTo>
                      <a:pt x="4" y="456"/>
                    </a:lnTo>
                    <a:lnTo>
                      <a:pt x="10" y="478"/>
                    </a:lnTo>
                    <a:lnTo>
                      <a:pt x="18" y="498"/>
                    </a:lnTo>
                    <a:lnTo>
                      <a:pt x="27" y="518"/>
                    </a:lnTo>
                    <a:lnTo>
                      <a:pt x="39" y="537"/>
                    </a:lnTo>
                    <a:lnTo>
                      <a:pt x="54" y="556"/>
                    </a:lnTo>
                    <a:lnTo>
                      <a:pt x="70" y="575"/>
                    </a:lnTo>
                    <a:lnTo>
                      <a:pt x="88" y="594"/>
                    </a:lnTo>
                    <a:lnTo>
                      <a:pt x="107" y="612"/>
                    </a:lnTo>
                    <a:lnTo>
                      <a:pt x="129" y="629"/>
                    </a:lnTo>
                    <a:lnTo>
                      <a:pt x="152" y="646"/>
                    </a:lnTo>
                    <a:lnTo>
                      <a:pt x="177" y="662"/>
                    </a:lnTo>
                    <a:lnTo>
                      <a:pt x="203" y="678"/>
                    </a:lnTo>
                    <a:lnTo>
                      <a:pt x="232" y="693"/>
                    </a:lnTo>
                    <a:lnTo>
                      <a:pt x="261" y="707"/>
                    </a:lnTo>
                    <a:lnTo>
                      <a:pt x="293" y="721"/>
                    </a:lnTo>
                    <a:lnTo>
                      <a:pt x="326" y="734"/>
                    </a:lnTo>
                    <a:lnTo>
                      <a:pt x="360" y="747"/>
                    </a:lnTo>
                    <a:lnTo>
                      <a:pt x="395" y="758"/>
                    </a:lnTo>
                    <a:lnTo>
                      <a:pt x="431" y="768"/>
                    </a:lnTo>
                    <a:lnTo>
                      <a:pt x="468" y="778"/>
                    </a:lnTo>
                    <a:lnTo>
                      <a:pt x="507" y="788"/>
                    </a:lnTo>
                    <a:lnTo>
                      <a:pt x="546" y="797"/>
                    </a:lnTo>
                    <a:lnTo>
                      <a:pt x="587" y="803"/>
                    </a:lnTo>
                    <a:lnTo>
                      <a:pt x="628" y="810"/>
                    </a:lnTo>
                    <a:lnTo>
                      <a:pt x="671" y="816"/>
                    </a:lnTo>
                    <a:lnTo>
                      <a:pt x="714" y="820"/>
                    </a:lnTo>
                    <a:lnTo>
                      <a:pt x="758" y="824"/>
                    </a:lnTo>
                    <a:lnTo>
                      <a:pt x="802" y="827"/>
                    </a:lnTo>
                    <a:lnTo>
                      <a:pt x="848" y="828"/>
                    </a:lnTo>
                    <a:lnTo>
                      <a:pt x="894" y="8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49560" y="351720"/>
                <a:ext cx="1106640" cy="492120"/>
              </a:xfrm>
              <a:custGeom>
                <a:avLst/>
                <a:gdLst/>
                <a:ahLst/>
                <a:rect l="l" t="t" r="r" b="b"/>
                <a:pathLst>
                  <a:path w="1743" h="776">
                    <a:moveTo>
                      <a:pt x="872" y="776"/>
                    </a:moveTo>
                    <a:lnTo>
                      <a:pt x="916" y="776"/>
                    </a:lnTo>
                    <a:lnTo>
                      <a:pt x="960" y="774"/>
                    </a:lnTo>
                    <a:lnTo>
                      <a:pt x="1004" y="771"/>
                    </a:lnTo>
                    <a:lnTo>
                      <a:pt x="1046" y="768"/>
                    </a:lnTo>
                    <a:lnTo>
                      <a:pt x="1089" y="763"/>
                    </a:lnTo>
                    <a:lnTo>
                      <a:pt x="1130" y="759"/>
                    </a:lnTo>
                    <a:lnTo>
                      <a:pt x="1170" y="752"/>
                    </a:lnTo>
                    <a:lnTo>
                      <a:pt x="1210" y="745"/>
                    </a:lnTo>
                    <a:lnTo>
                      <a:pt x="1249" y="737"/>
                    </a:lnTo>
                    <a:lnTo>
                      <a:pt x="1286" y="729"/>
                    </a:lnTo>
                    <a:lnTo>
                      <a:pt x="1322" y="719"/>
                    </a:lnTo>
                    <a:lnTo>
                      <a:pt x="1358" y="710"/>
                    </a:lnTo>
                    <a:lnTo>
                      <a:pt x="1392" y="699"/>
                    </a:lnTo>
                    <a:lnTo>
                      <a:pt x="1425" y="687"/>
                    </a:lnTo>
                    <a:lnTo>
                      <a:pt x="1457" y="675"/>
                    </a:lnTo>
                    <a:lnTo>
                      <a:pt x="1487" y="662"/>
                    </a:lnTo>
                    <a:lnTo>
                      <a:pt x="1516" y="649"/>
                    </a:lnTo>
                    <a:lnTo>
                      <a:pt x="1543" y="634"/>
                    </a:lnTo>
                    <a:lnTo>
                      <a:pt x="1569" y="619"/>
                    </a:lnTo>
                    <a:lnTo>
                      <a:pt x="1594" y="605"/>
                    </a:lnTo>
                    <a:lnTo>
                      <a:pt x="1616" y="589"/>
                    </a:lnTo>
                    <a:lnTo>
                      <a:pt x="1637" y="573"/>
                    </a:lnTo>
                    <a:lnTo>
                      <a:pt x="1656" y="556"/>
                    </a:lnTo>
                    <a:lnTo>
                      <a:pt x="1674" y="539"/>
                    </a:lnTo>
                    <a:lnTo>
                      <a:pt x="1690" y="521"/>
                    </a:lnTo>
                    <a:lnTo>
                      <a:pt x="1704" y="504"/>
                    </a:lnTo>
                    <a:lnTo>
                      <a:pt x="1715" y="484"/>
                    </a:lnTo>
                    <a:lnTo>
                      <a:pt x="1725" y="466"/>
                    </a:lnTo>
                    <a:lnTo>
                      <a:pt x="1733" y="447"/>
                    </a:lnTo>
                    <a:lnTo>
                      <a:pt x="1739" y="428"/>
                    </a:lnTo>
                    <a:lnTo>
                      <a:pt x="1742" y="408"/>
                    </a:lnTo>
                    <a:lnTo>
                      <a:pt x="1743" y="388"/>
                    </a:lnTo>
                    <a:lnTo>
                      <a:pt x="1742" y="368"/>
                    </a:lnTo>
                    <a:lnTo>
                      <a:pt x="1739" y="348"/>
                    </a:lnTo>
                    <a:lnTo>
                      <a:pt x="1733" y="329"/>
                    </a:lnTo>
                    <a:lnTo>
                      <a:pt x="1725" y="310"/>
                    </a:lnTo>
                    <a:lnTo>
                      <a:pt x="1715" y="292"/>
                    </a:lnTo>
                    <a:lnTo>
                      <a:pt x="1704" y="272"/>
                    </a:lnTo>
                    <a:lnTo>
                      <a:pt x="1690" y="255"/>
                    </a:lnTo>
                    <a:lnTo>
                      <a:pt x="1674" y="237"/>
                    </a:lnTo>
                    <a:lnTo>
                      <a:pt x="1656" y="220"/>
                    </a:lnTo>
                    <a:lnTo>
                      <a:pt x="1637" y="203"/>
                    </a:lnTo>
                    <a:lnTo>
                      <a:pt x="1616" y="187"/>
                    </a:lnTo>
                    <a:lnTo>
                      <a:pt x="1594" y="171"/>
                    </a:lnTo>
                    <a:lnTo>
                      <a:pt x="1569" y="157"/>
                    </a:lnTo>
                    <a:lnTo>
                      <a:pt x="1543" y="142"/>
                    </a:lnTo>
                    <a:lnTo>
                      <a:pt x="1516" y="127"/>
                    </a:lnTo>
                    <a:lnTo>
                      <a:pt x="1487" y="114"/>
                    </a:lnTo>
                    <a:lnTo>
                      <a:pt x="1457" y="101"/>
                    </a:lnTo>
                    <a:lnTo>
                      <a:pt x="1425" y="89"/>
                    </a:lnTo>
                    <a:lnTo>
                      <a:pt x="1392" y="77"/>
                    </a:lnTo>
                    <a:lnTo>
                      <a:pt x="1358" y="66"/>
                    </a:lnTo>
                    <a:lnTo>
                      <a:pt x="1322" y="57"/>
                    </a:lnTo>
                    <a:lnTo>
                      <a:pt x="1286" y="47"/>
                    </a:lnTo>
                    <a:lnTo>
                      <a:pt x="1249" y="39"/>
                    </a:lnTo>
                    <a:lnTo>
                      <a:pt x="1210" y="31"/>
                    </a:lnTo>
                    <a:lnTo>
                      <a:pt x="1170" y="24"/>
                    </a:lnTo>
                    <a:lnTo>
                      <a:pt x="1130" y="17"/>
                    </a:lnTo>
                    <a:lnTo>
                      <a:pt x="1089" y="13"/>
                    </a:lnTo>
                    <a:lnTo>
                      <a:pt x="1046" y="8"/>
                    </a:lnTo>
                    <a:lnTo>
                      <a:pt x="1004" y="5"/>
                    </a:lnTo>
                    <a:lnTo>
                      <a:pt x="960" y="3"/>
                    </a:lnTo>
                    <a:lnTo>
                      <a:pt x="916" y="0"/>
                    </a:lnTo>
                    <a:lnTo>
                      <a:pt x="872" y="0"/>
                    </a:lnTo>
                    <a:lnTo>
                      <a:pt x="826" y="0"/>
                    </a:lnTo>
                    <a:lnTo>
                      <a:pt x="782" y="3"/>
                    </a:lnTo>
                    <a:lnTo>
                      <a:pt x="739" y="5"/>
                    </a:lnTo>
                    <a:lnTo>
                      <a:pt x="696" y="8"/>
                    </a:lnTo>
                    <a:lnTo>
                      <a:pt x="654" y="13"/>
                    </a:lnTo>
                    <a:lnTo>
                      <a:pt x="612" y="17"/>
                    </a:lnTo>
                    <a:lnTo>
                      <a:pt x="572" y="24"/>
                    </a:lnTo>
                    <a:lnTo>
                      <a:pt x="532" y="31"/>
                    </a:lnTo>
                    <a:lnTo>
                      <a:pt x="493" y="39"/>
                    </a:lnTo>
                    <a:lnTo>
                      <a:pt x="456" y="47"/>
                    </a:lnTo>
                    <a:lnTo>
                      <a:pt x="420" y="57"/>
                    </a:lnTo>
                    <a:lnTo>
                      <a:pt x="385" y="66"/>
                    </a:lnTo>
                    <a:lnTo>
                      <a:pt x="350" y="77"/>
                    </a:lnTo>
                    <a:lnTo>
                      <a:pt x="317" y="89"/>
                    </a:lnTo>
                    <a:lnTo>
                      <a:pt x="285" y="101"/>
                    </a:lnTo>
                    <a:lnTo>
                      <a:pt x="256" y="114"/>
                    </a:lnTo>
                    <a:lnTo>
                      <a:pt x="226" y="127"/>
                    </a:lnTo>
                    <a:lnTo>
                      <a:pt x="199" y="142"/>
                    </a:lnTo>
                    <a:lnTo>
                      <a:pt x="173" y="157"/>
                    </a:lnTo>
                    <a:lnTo>
                      <a:pt x="148" y="171"/>
                    </a:lnTo>
                    <a:lnTo>
                      <a:pt x="125" y="187"/>
                    </a:lnTo>
                    <a:lnTo>
                      <a:pt x="105" y="203"/>
                    </a:lnTo>
                    <a:lnTo>
                      <a:pt x="86" y="220"/>
                    </a:lnTo>
                    <a:lnTo>
                      <a:pt x="68" y="237"/>
                    </a:lnTo>
                    <a:lnTo>
                      <a:pt x="52" y="255"/>
                    </a:lnTo>
                    <a:lnTo>
                      <a:pt x="38" y="272"/>
                    </a:lnTo>
                    <a:lnTo>
                      <a:pt x="27" y="292"/>
                    </a:lnTo>
                    <a:lnTo>
                      <a:pt x="17" y="310"/>
                    </a:lnTo>
                    <a:lnTo>
                      <a:pt x="9" y="329"/>
                    </a:lnTo>
                    <a:lnTo>
                      <a:pt x="4" y="348"/>
                    </a:lnTo>
                    <a:lnTo>
                      <a:pt x="1" y="368"/>
                    </a:lnTo>
                    <a:lnTo>
                      <a:pt x="0" y="388"/>
                    </a:lnTo>
                    <a:lnTo>
                      <a:pt x="1" y="408"/>
                    </a:lnTo>
                    <a:lnTo>
                      <a:pt x="4" y="428"/>
                    </a:lnTo>
                    <a:lnTo>
                      <a:pt x="9" y="447"/>
                    </a:lnTo>
                    <a:lnTo>
                      <a:pt x="17" y="466"/>
                    </a:lnTo>
                    <a:lnTo>
                      <a:pt x="27" y="484"/>
                    </a:lnTo>
                    <a:lnTo>
                      <a:pt x="38" y="504"/>
                    </a:lnTo>
                    <a:lnTo>
                      <a:pt x="52" y="521"/>
                    </a:lnTo>
                    <a:lnTo>
                      <a:pt x="68" y="539"/>
                    </a:lnTo>
                    <a:lnTo>
                      <a:pt x="86" y="556"/>
                    </a:lnTo>
                    <a:lnTo>
                      <a:pt x="105" y="573"/>
                    </a:lnTo>
                    <a:lnTo>
                      <a:pt x="125" y="589"/>
                    </a:lnTo>
                    <a:lnTo>
                      <a:pt x="148" y="605"/>
                    </a:lnTo>
                    <a:lnTo>
                      <a:pt x="173" y="619"/>
                    </a:lnTo>
                    <a:lnTo>
                      <a:pt x="199" y="634"/>
                    </a:lnTo>
                    <a:lnTo>
                      <a:pt x="226" y="649"/>
                    </a:lnTo>
                    <a:lnTo>
                      <a:pt x="256" y="662"/>
                    </a:lnTo>
                    <a:lnTo>
                      <a:pt x="285" y="675"/>
                    </a:lnTo>
                    <a:lnTo>
                      <a:pt x="317" y="687"/>
                    </a:lnTo>
                    <a:lnTo>
                      <a:pt x="350" y="699"/>
                    </a:lnTo>
                    <a:lnTo>
                      <a:pt x="385" y="710"/>
                    </a:lnTo>
                    <a:lnTo>
                      <a:pt x="420" y="719"/>
                    </a:lnTo>
                    <a:lnTo>
                      <a:pt x="456" y="729"/>
                    </a:lnTo>
                    <a:lnTo>
                      <a:pt x="493" y="737"/>
                    </a:lnTo>
                    <a:lnTo>
                      <a:pt x="532" y="745"/>
                    </a:lnTo>
                    <a:lnTo>
                      <a:pt x="572" y="752"/>
                    </a:lnTo>
                    <a:lnTo>
                      <a:pt x="612" y="759"/>
                    </a:lnTo>
                    <a:lnTo>
                      <a:pt x="654" y="763"/>
                    </a:lnTo>
                    <a:lnTo>
                      <a:pt x="696" y="768"/>
                    </a:lnTo>
                    <a:lnTo>
                      <a:pt x="739" y="771"/>
                    </a:lnTo>
                    <a:lnTo>
                      <a:pt x="782" y="774"/>
                    </a:lnTo>
                    <a:lnTo>
                      <a:pt x="826" y="776"/>
                    </a:lnTo>
                    <a:lnTo>
                      <a:pt x="872" y="776"/>
                    </a:lnTo>
                    <a:close/>
                  </a:path>
                </a:pathLst>
              </a:custGeom>
              <a:solidFill>
                <a:srgbClr val="2916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50640" y="343080"/>
                <a:ext cx="1098360" cy="479880"/>
              </a:xfrm>
              <a:custGeom>
                <a:avLst/>
                <a:gdLst/>
                <a:ahLst/>
                <a:rect l="l" t="t" r="r" b="b"/>
                <a:pathLst>
                  <a:path w="1730" h="757">
                    <a:moveTo>
                      <a:pt x="865" y="757"/>
                    </a:moveTo>
                    <a:lnTo>
                      <a:pt x="909" y="757"/>
                    </a:lnTo>
                    <a:lnTo>
                      <a:pt x="953" y="756"/>
                    </a:lnTo>
                    <a:lnTo>
                      <a:pt x="996" y="754"/>
                    </a:lnTo>
                    <a:lnTo>
                      <a:pt x="1039" y="750"/>
                    </a:lnTo>
                    <a:lnTo>
                      <a:pt x="1080" y="746"/>
                    </a:lnTo>
                    <a:lnTo>
                      <a:pt x="1122" y="740"/>
                    </a:lnTo>
                    <a:lnTo>
                      <a:pt x="1162" y="734"/>
                    </a:lnTo>
                    <a:lnTo>
                      <a:pt x="1201" y="727"/>
                    </a:lnTo>
                    <a:lnTo>
                      <a:pt x="1240" y="719"/>
                    </a:lnTo>
                    <a:lnTo>
                      <a:pt x="1277" y="712"/>
                    </a:lnTo>
                    <a:lnTo>
                      <a:pt x="1313" y="702"/>
                    </a:lnTo>
                    <a:lnTo>
                      <a:pt x="1348" y="692"/>
                    </a:lnTo>
                    <a:lnTo>
                      <a:pt x="1381" y="682"/>
                    </a:lnTo>
                    <a:lnTo>
                      <a:pt x="1414" y="671"/>
                    </a:lnTo>
                    <a:lnTo>
                      <a:pt x="1446" y="658"/>
                    </a:lnTo>
                    <a:lnTo>
                      <a:pt x="1476" y="646"/>
                    </a:lnTo>
                    <a:lnTo>
                      <a:pt x="1505" y="633"/>
                    </a:lnTo>
                    <a:lnTo>
                      <a:pt x="1532" y="620"/>
                    </a:lnTo>
                    <a:lnTo>
                      <a:pt x="1558" y="605"/>
                    </a:lnTo>
                    <a:lnTo>
                      <a:pt x="1582" y="590"/>
                    </a:lnTo>
                    <a:lnTo>
                      <a:pt x="1604" y="574"/>
                    </a:lnTo>
                    <a:lnTo>
                      <a:pt x="1625" y="558"/>
                    </a:lnTo>
                    <a:lnTo>
                      <a:pt x="1644" y="543"/>
                    </a:lnTo>
                    <a:lnTo>
                      <a:pt x="1662" y="526"/>
                    </a:lnTo>
                    <a:lnTo>
                      <a:pt x="1677" y="509"/>
                    </a:lnTo>
                    <a:lnTo>
                      <a:pt x="1690" y="492"/>
                    </a:lnTo>
                    <a:lnTo>
                      <a:pt x="1703" y="473"/>
                    </a:lnTo>
                    <a:lnTo>
                      <a:pt x="1712" y="455"/>
                    </a:lnTo>
                    <a:lnTo>
                      <a:pt x="1720" y="436"/>
                    </a:lnTo>
                    <a:lnTo>
                      <a:pt x="1725" y="418"/>
                    </a:lnTo>
                    <a:lnTo>
                      <a:pt x="1729" y="399"/>
                    </a:lnTo>
                    <a:lnTo>
                      <a:pt x="1730" y="378"/>
                    </a:lnTo>
                    <a:lnTo>
                      <a:pt x="1729" y="359"/>
                    </a:lnTo>
                    <a:lnTo>
                      <a:pt x="1725" y="340"/>
                    </a:lnTo>
                    <a:lnTo>
                      <a:pt x="1720" y="322"/>
                    </a:lnTo>
                    <a:lnTo>
                      <a:pt x="1712" y="302"/>
                    </a:lnTo>
                    <a:lnTo>
                      <a:pt x="1703" y="284"/>
                    </a:lnTo>
                    <a:lnTo>
                      <a:pt x="1690" y="266"/>
                    </a:lnTo>
                    <a:lnTo>
                      <a:pt x="1677" y="249"/>
                    </a:lnTo>
                    <a:lnTo>
                      <a:pt x="1662" y="232"/>
                    </a:lnTo>
                    <a:lnTo>
                      <a:pt x="1644" y="215"/>
                    </a:lnTo>
                    <a:lnTo>
                      <a:pt x="1625" y="198"/>
                    </a:lnTo>
                    <a:lnTo>
                      <a:pt x="1604" y="183"/>
                    </a:lnTo>
                    <a:lnTo>
                      <a:pt x="1582" y="167"/>
                    </a:lnTo>
                    <a:lnTo>
                      <a:pt x="1558" y="153"/>
                    </a:lnTo>
                    <a:lnTo>
                      <a:pt x="1532" y="138"/>
                    </a:lnTo>
                    <a:lnTo>
                      <a:pt x="1505" y="124"/>
                    </a:lnTo>
                    <a:lnTo>
                      <a:pt x="1476" y="111"/>
                    </a:lnTo>
                    <a:lnTo>
                      <a:pt x="1446" y="98"/>
                    </a:lnTo>
                    <a:lnTo>
                      <a:pt x="1414" y="87"/>
                    </a:lnTo>
                    <a:lnTo>
                      <a:pt x="1381" y="75"/>
                    </a:lnTo>
                    <a:lnTo>
                      <a:pt x="1348" y="65"/>
                    </a:lnTo>
                    <a:lnTo>
                      <a:pt x="1313" y="55"/>
                    </a:lnTo>
                    <a:lnTo>
                      <a:pt x="1277" y="46"/>
                    </a:lnTo>
                    <a:lnTo>
                      <a:pt x="1240" y="38"/>
                    </a:lnTo>
                    <a:lnTo>
                      <a:pt x="1201" y="30"/>
                    </a:lnTo>
                    <a:lnTo>
                      <a:pt x="1162" y="23"/>
                    </a:lnTo>
                    <a:lnTo>
                      <a:pt x="1122" y="18"/>
                    </a:lnTo>
                    <a:lnTo>
                      <a:pt x="1080" y="12"/>
                    </a:lnTo>
                    <a:lnTo>
                      <a:pt x="1039" y="7"/>
                    </a:lnTo>
                    <a:lnTo>
                      <a:pt x="996" y="4"/>
                    </a:lnTo>
                    <a:lnTo>
                      <a:pt x="953" y="2"/>
                    </a:lnTo>
                    <a:lnTo>
                      <a:pt x="909" y="1"/>
                    </a:lnTo>
                    <a:lnTo>
                      <a:pt x="865" y="0"/>
                    </a:lnTo>
                    <a:lnTo>
                      <a:pt x="821" y="1"/>
                    </a:lnTo>
                    <a:lnTo>
                      <a:pt x="777" y="2"/>
                    </a:lnTo>
                    <a:lnTo>
                      <a:pt x="734" y="4"/>
                    </a:lnTo>
                    <a:lnTo>
                      <a:pt x="691" y="7"/>
                    </a:lnTo>
                    <a:lnTo>
                      <a:pt x="649" y="12"/>
                    </a:lnTo>
                    <a:lnTo>
                      <a:pt x="608" y="18"/>
                    </a:lnTo>
                    <a:lnTo>
                      <a:pt x="568" y="23"/>
                    </a:lnTo>
                    <a:lnTo>
                      <a:pt x="529" y="30"/>
                    </a:lnTo>
                    <a:lnTo>
                      <a:pt x="490" y="38"/>
                    </a:lnTo>
                    <a:lnTo>
                      <a:pt x="453" y="46"/>
                    </a:lnTo>
                    <a:lnTo>
                      <a:pt x="417" y="55"/>
                    </a:lnTo>
                    <a:lnTo>
                      <a:pt x="382" y="65"/>
                    </a:lnTo>
                    <a:lnTo>
                      <a:pt x="349" y="75"/>
                    </a:lnTo>
                    <a:lnTo>
                      <a:pt x="316" y="87"/>
                    </a:lnTo>
                    <a:lnTo>
                      <a:pt x="284" y="98"/>
                    </a:lnTo>
                    <a:lnTo>
                      <a:pt x="254" y="111"/>
                    </a:lnTo>
                    <a:lnTo>
                      <a:pt x="225" y="124"/>
                    </a:lnTo>
                    <a:lnTo>
                      <a:pt x="198" y="138"/>
                    </a:lnTo>
                    <a:lnTo>
                      <a:pt x="172" y="153"/>
                    </a:lnTo>
                    <a:lnTo>
                      <a:pt x="148" y="167"/>
                    </a:lnTo>
                    <a:lnTo>
                      <a:pt x="126" y="183"/>
                    </a:lnTo>
                    <a:lnTo>
                      <a:pt x="105" y="198"/>
                    </a:lnTo>
                    <a:lnTo>
                      <a:pt x="86" y="215"/>
                    </a:lnTo>
                    <a:lnTo>
                      <a:pt x="68" y="232"/>
                    </a:lnTo>
                    <a:lnTo>
                      <a:pt x="53" y="249"/>
                    </a:lnTo>
                    <a:lnTo>
                      <a:pt x="40" y="266"/>
                    </a:lnTo>
                    <a:lnTo>
                      <a:pt x="27" y="284"/>
                    </a:lnTo>
                    <a:lnTo>
                      <a:pt x="18" y="302"/>
                    </a:lnTo>
                    <a:lnTo>
                      <a:pt x="10" y="322"/>
                    </a:lnTo>
                    <a:lnTo>
                      <a:pt x="5" y="340"/>
                    </a:lnTo>
                    <a:lnTo>
                      <a:pt x="1" y="359"/>
                    </a:lnTo>
                    <a:lnTo>
                      <a:pt x="0" y="378"/>
                    </a:lnTo>
                    <a:lnTo>
                      <a:pt x="1" y="399"/>
                    </a:lnTo>
                    <a:lnTo>
                      <a:pt x="5" y="418"/>
                    </a:lnTo>
                    <a:lnTo>
                      <a:pt x="10" y="436"/>
                    </a:lnTo>
                    <a:lnTo>
                      <a:pt x="18" y="455"/>
                    </a:lnTo>
                    <a:lnTo>
                      <a:pt x="27" y="473"/>
                    </a:lnTo>
                    <a:lnTo>
                      <a:pt x="40" y="492"/>
                    </a:lnTo>
                    <a:lnTo>
                      <a:pt x="53" y="509"/>
                    </a:lnTo>
                    <a:lnTo>
                      <a:pt x="68" y="526"/>
                    </a:lnTo>
                    <a:lnTo>
                      <a:pt x="86" y="543"/>
                    </a:lnTo>
                    <a:lnTo>
                      <a:pt x="105" y="558"/>
                    </a:lnTo>
                    <a:lnTo>
                      <a:pt x="126" y="574"/>
                    </a:lnTo>
                    <a:lnTo>
                      <a:pt x="148" y="590"/>
                    </a:lnTo>
                    <a:lnTo>
                      <a:pt x="172" y="605"/>
                    </a:lnTo>
                    <a:lnTo>
                      <a:pt x="198" y="620"/>
                    </a:lnTo>
                    <a:lnTo>
                      <a:pt x="225" y="633"/>
                    </a:lnTo>
                    <a:lnTo>
                      <a:pt x="254" y="646"/>
                    </a:lnTo>
                    <a:lnTo>
                      <a:pt x="284" y="658"/>
                    </a:lnTo>
                    <a:lnTo>
                      <a:pt x="316" y="671"/>
                    </a:lnTo>
                    <a:lnTo>
                      <a:pt x="349" y="682"/>
                    </a:lnTo>
                    <a:lnTo>
                      <a:pt x="382" y="692"/>
                    </a:lnTo>
                    <a:lnTo>
                      <a:pt x="417" y="702"/>
                    </a:lnTo>
                    <a:lnTo>
                      <a:pt x="453" y="712"/>
                    </a:lnTo>
                    <a:lnTo>
                      <a:pt x="490" y="719"/>
                    </a:lnTo>
                    <a:lnTo>
                      <a:pt x="529" y="727"/>
                    </a:lnTo>
                    <a:lnTo>
                      <a:pt x="568" y="734"/>
                    </a:lnTo>
                    <a:lnTo>
                      <a:pt x="608" y="740"/>
                    </a:lnTo>
                    <a:lnTo>
                      <a:pt x="649" y="746"/>
                    </a:lnTo>
                    <a:lnTo>
                      <a:pt x="691" y="750"/>
                    </a:lnTo>
                    <a:lnTo>
                      <a:pt x="734" y="754"/>
                    </a:lnTo>
                    <a:lnTo>
                      <a:pt x="777" y="756"/>
                    </a:lnTo>
                    <a:lnTo>
                      <a:pt x="821" y="757"/>
                    </a:lnTo>
                    <a:lnTo>
                      <a:pt x="865" y="757"/>
                    </a:lnTo>
                    <a:close/>
                  </a:path>
                </a:pathLst>
              </a:custGeom>
              <a:solidFill>
                <a:srgbClr val="dad6e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851760" y="568800"/>
                <a:ext cx="81720" cy="81720"/>
              </a:xfrm>
              <a:custGeom>
                <a:avLst/>
                <a:gdLst/>
                <a:ahLst/>
                <a:rect l="l" t="t" r="r" b="b"/>
                <a:pathLst>
                  <a:path w="129" h="129">
                    <a:moveTo>
                      <a:pt x="65" y="0"/>
                    </a:moveTo>
                    <a:lnTo>
                      <a:pt x="71" y="1"/>
                    </a:lnTo>
                    <a:lnTo>
                      <a:pt x="77" y="2"/>
                    </a:lnTo>
                    <a:lnTo>
                      <a:pt x="84" y="3"/>
                    </a:lnTo>
                    <a:lnTo>
                      <a:pt x="90" y="5"/>
                    </a:lnTo>
                    <a:lnTo>
                      <a:pt x="95" y="7"/>
                    </a:lnTo>
                    <a:lnTo>
                      <a:pt x="101" y="11"/>
                    </a:lnTo>
                    <a:lnTo>
                      <a:pt x="105" y="14"/>
                    </a:lnTo>
                    <a:lnTo>
                      <a:pt x="110" y="19"/>
                    </a:lnTo>
                    <a:lnTo>
                      <a:pt x="114" y="23"/>
                    </a:lnTo>
                    <a:lnTo>
                      <a:pt x="118" y="29"/>
                    </a:lnTo>
                    <a:lnTo>
                      <a:pt x="121" y="34"/>
                    </a:lnTo>
                    <a:lnTo>
                      <a:pt x="124" y="39"/>
                    </a:lnTo>
                    <a:lnTo>
                      <a:pt x="126" y="45"/>
                    </a:lnTo>
                    <a:lnTo>
                      <a:pt x="128" y="52"/>
                    </a:lnTo>
                    <a:lnTo>
                      <a:pt x="129" y="59"/>
                    </a:lnTo>
                    <a:lnTo>
                      <a:pt x="129" y="64"/>
                    </a:lnTo>
                    <a:lnTo>
                      <a:pt x="129" y="71"/>
                    </a:lnTo>
                    <a:lnTo>
                      <a:pt x="128" y="78"/>
                    </a:lnTo>
                    <a:lnTo>
                      <a:pt x="126" y="83"/>
                    </a:lnTo>
                    <a:lnTo>
                      <a:pt x="124" y="90"/>
                    </a:lnTo>
                    <a:lnTo>
                      <a:pt x="121" y="96"/>
                    </a:lnTo>
                    <a:lnTo>
                      <a:pt x="118" y="100"/>
                    </a:lnTo>
                    <a:lnTo>
                      <a:pt x="114" y="106"/>
                    </a:lnTo>
                    <a:lnTo>
                      <a:pt x="110" y="111"/>
                    </a:lnTo>
                    <a:lnTo>
                      <a:pt x="105" y="114"/>
                    </a:lnTo>
                    <a:lnTo>
                      <a:pt x="101" y="119"/>
                    </a:lnTo>
                    <a:lnTo>
                      <a:pt x="95" y="121"/>
                    </a:lnTo>
                    <a:lnTo>
                      <a:pt x="90" y="124"/>
                    </a:lnTo>
                    <a:lnTo>
                      <a:pt x="84" y="127"/>
                    </a:lnTo>
                    <a:lnTo>
                      <a:pt x="77" y="128"/>
                    </a:lnTo>
                    <a:lnTo>
                      <a:pt x="71" y="129"/>
                    </a:lnTo>
                    <a:lnTo>
                      <a:pt x="65" y="129"/>
                    </a:lnTo>
                    <a:lnTo>
                      <a:pt x="58" y="129"/>
                    </a:lnTo>
                    <a:lnTo>
                      <a:pt x="51" y="128"/>
                    </a:lnTo>
                    <a:lnTo>
                      <a:pt x="45" y="127"/>
                    </a:lnTo>
                    <a:lnTo>
                      <a:pt x="40" y="124"/>
                    </a:lnTo>
                    <a:lnTo>
                      <a:pt x="34" y="121"/>
                    </a:lnTo>
                    <a:lnTo>
                      <a:pt x="28" y="119"/>
                    </a:lnTo>
                    <a:lnTo>
                      <a:pt x="24" y="114"/>
                    </a:lnTo>
                    <a:lnTo>
                      <a:pt x="19" y="111"/>
                    </a:lnTo>
                    <a:lnTo>
                      <a:pt x="15" y="106"/>
                    </a:lnTo>
                    <a:lnTo>
                      <a:pt x="11" y="100"/>
                    </a:lnTo>
                    <a:lnTo>
                      <a:pt x="8" y="96"/>
                    </a:lnTo>
                    <a:lnTo>
                      <a:pt x="5" y="90"/>
                    </a:lnTo>
                    <a:lnTo>
                      <a:pt x="2" y="83"/>
                    </a:lnTo>
                    <a:lnTo>
                      <a:pt x="1" y="78"/>
                    </a:lnTo>
                    <a:lnTo>
                      <a:pt x="0" y="71"/>
                    </a:lnTo>
                    <a:lnTo>
                      <a:pt x="0" y="64"/>
                    </a:lnTo>
                    <a:lnTo>
                      <a:pt x="0" y="59"/>
                    </a:lnTo>
                    <a:lnTo>
                      <a:pt x="1" y="52"/>
                    </a:lnTo>
                    <a:lnTo>
                      <a:pt x="2" y="45"/>
                    </a:lnTo>
                    <a:lnTo>
                      <a:pt x="5" y="39"/>
                    </a:lnTo>
                    <a:lnTo>
                      <a:pt x="8" y="34"/>
                    </a:lnTo>
                    <a:lnTo>
                      <a:pt x="11" y="29"/>
                    </a:lnTo>
                    <a:lnTo>
                      <a:pt x="15" y="23"/>
                    </a:lnTo>
                    <a:lnTo>
                      <a:pt x="19" y="19"/>
                    </a:lnTo>
                    <a:lnTo>
                      <a:pt x="24" y="14"/>
                    </a:lnTo>
                    <a:lnTo>
                      <a:pt x="28" y="11"/>
                    </a:lnTo>
                    <a:lnTo>
                      <a:pt x="34" y="7"/>
                    </a:lnTo>
                    <a:lnTo>
                      <a:pt x="40"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18" name=""/>
              <p:cNvSpPr/>
              <p:nvPr/>
            </p:nvSpPr>
            <p:spPr>
              <a:xfrm>
                <a:off x="785880" y="441720"/>
                <a:ext cx="213840" cy="247320"/>
              </a:xfrm>
              <a:custGeom>
                <a:avLst/>
                <a:gdLst/>
                <a:ahLst/>
                <a:rect l="l" t="t" r="r" b="b"/>
                <a:pathLst>
                  <a:path w="337" h="390">
                    <a:moveTo>
                      <a:pt x="169" y="0"/>
                    </a:moveTo>
                    <a:lnTo>
                      <a:pt x="178" y="0"/>
                    </a:lnTo>
                    <a:lnTo>
                      <a:pt x="186" y="1"/>
                    </a:lnTo>
                    <a:lnTo>
                      <a:pt x="195" y="3"/>
                    </a:lnTo>
                    <a:lnTo>
                      <a:pt x="203" y="7"/>
                    </a:lnTo>
                    <a:lnTo>
                      <a:pt x="211" y="10"/>
                    </a:lnTo>
                    <a:lnTo>
                      <a:pt x="218" y="15"/>
                    </a:lnTo>
                    <a:lnTo>
                      <a:pt x="226" y="20"/>
                    </a:lnTo>
                    <a:lnTo>
                      <a:pt x="234" y="26"/>
                    </a:lnTo>
                    <a:lnTo>
                      <a:pt x="241" y="33"/>
                    </a:lnTo>
                    <a:lnTo>
                      <a:pt x="249" y="40"/>
                    </a:lnTo>
                    <a:lnTo>
                      <a:pt x="256" y="49"/>
                    </a:lnTo>
                    <a:lnTo>
                      <a:pt x="263" y="57"/>
                    </a:lnTo>
                    <a:lnTo>
                      <a:pt x="276" y="76"/>
                    </a:lnTo>
                    <a:lnTo>
                      <a:pt x="288" y="98"/>
                    </a:lnTo>
                    <a:lnTo>
                      <a:pt x="299" y="121"/>
                    </a:lnTo>
                    <a:lnTo>
                      <a:pt x="309" y="147"/>
                    </a:lnTo>
                    <a:lnTo>
                      <a:pt x="317" y="175"/>
                    </a:lnTo>
                    <a:lnTo>
                      <a:pt x="324" y="204"/>
                    </a:lnTo>
                    <a:lnTo>
                      <a:pt x="329" y="235"/>
                    </a:lnTo>
                    <a:lnTo>
                      <a:pt x="334" y="268"/>
                    </a:lnTo>
                    <a:lnTo>
                      <a:pt x="336" y="300"/>
                    </a:lnTo>
                    <a:lnTo>
                      <a:pt x="337" y="334"/>
                    </a:lnTo>
                    <a:lnTo>
                      <a:pt x="337" y="348"/>
                    </a:lnTo>
                    <a:lnTo>
                      <a:pt x="337" y="363"/>
                    </a:lnTo>
                    <a:lnTo>
                      <a:pt x="336" y="376"/>
                    </a:lnTo>
                    <a:lnTo>
                      <a:pt x="335" y="390"/>
                    </a:lnTo>
                    <a:lnTo>
                      <a:pt x="332" y="361"/>
                    </a:lnTo>
                    <a:lnTo>
                      <a:pt x="327" y="332"/>
                    </a:lnTo>
                    <a:lnTo>
                      <a:pt x="322" y="305"/>
                    </a:lnTo>
                    <a:lnTo>
                      <a:pt x="315" y="279"/>
                    </a:lnTo>
                    <a:lnTo>
                      <a:pt x="308" y="255"/>
                    </a:lnTo>
                    <a:lnTo>
                      <a:pt x="299" y="231"/>
                    </a:lnTo>
                    <a:lnTo>
                      <a:pt x="289" y="210"/>
                    </a:lnTo>
                    <a:lnTo>
                      <a:pt x="278" y="190"/>
                    </a:lnTo>
                    <a:lnTo>
                      <a:pt x="267" y="172"/>
                    </a:lnTo>
                    <a:lnTo>
                      <a:pt x="255" y="156"/>
                    </a:lnTo>
                    <a:lnTo>
                      <a:pt x="241" y="143"/>
                    </a:lnTo>
                    <a:lnTo>
                      <a:pt x="228" y="132"/>
                    </a:lnTo>
                    <a:lnTo>
                      <a:pt x="221" y="127"/>
                    </a:lnTo>
                    <a:lnTo>
                      <a:pt x="214" y="122"/>
                    </a:lnTo>
                    <a:lnTo>
                      <a:pt x="206" y="119"/>
                    </a:lnTo>
                    <a:lnTo>
                      <a:pt x="199" y="116"/>
                    </a:lnTo>
                    <a:lnTo>
                      <a:pt x="191" y="113"/>
                    </a:lnTo>
                    <a:lnTo>
                      <a:pt x="185" y="111"/>
                    </a:lnTo>
                    <a:lnTo>
                      <a:pt x="177" y="110"/>
                    </a:lnTo>
                    <a:lnTo>
                      <a:pt x="169" y="110"/>
                    </a:lnTo>
                    <a:lnTo>
                      <a:pt x="161" y="110"/>
                    </a:lnTo>
                    <a:lnTo>
                      <a:pt x="153" y="111"/>
                    </a:lnTo>
                    <a:lnTo>
                      <a:pt x="145" y="113"/>
                    </a:lnTo>
                    <a:lnTo>
                      <a:pt x="138" y="116"/>
                    </a:lnTo>
                    <a:lnTo>
                      <a:pt x="130" y="119"/>
                    </a:lnTo>
                    <a:lnTo>
                      <a:pt x="123" y="122"/>
                    </a:lnTo>
                    <a:lnTo>
                      <a:pt x="117" y="127"/>
                    </a:lnTo>
                    <a:lnTo>
                      <a:pt x="109" y="132"/>
                    </a:lnTo>
                    <a:lnTo>
                      <a:pt x="95" y="143"/>
                    </a:lnTo>
                    <a:lnTo>
                      <a:pt x="83" y="156"/>
                    </a:lnTo>
                    <a:lnTo>
                      <a:pt x="70" y="172"/>
                    </a:lnTo>
                    <a:lnTo>
                      <a:pt x="59" y="190"/>
                    </a:lnTo>
                    <a:lnTo>
                      <a:pt x="49" y="210"/>
                    </a:lnTo>
                    <a:lnTo>
                      <a:pt x="38" y="231"/>
                    </a:lnTo>
                    <a:lnTo>
                      <a:pt x="29" y="255"/>
                    </a:lnTo>
                    <a:lnTo>
                      <a:pt x="22" y="279"/>
                    </a:lnTo>
                    <a:lnTo>
                      <a:pt x="15" y="305"/>
                    </a:lnTo>
                    <a:lnTo>
                      <a:pt x="9" y="332"/>
                    </a:lnTo>
                    <a:lnTo>
                      <a:pt x="5" y="361"/>
                    </a:lnTo>
                    <a:lnTo>
                      <a:pt x="2" y="390"/>
                    </a:lnTo>
                    <a:lnTo>
                      <a:pt x="1" y="376"/>
                    </a:lnTo>
                    <a:lnTo>
                      <a:pt x="0" y="363"/>
                    </a:lnTo>
                    <a:lnTo>
                      <a:pt x="0" y="348"/>
                    </a:lnTo>
                    <a:lnTo>
                      <a:pt x="0" y="334"/>
                    </a:lnTo>
                    <a:lnTo>
                      <a:pt x="0" y="300"/>
                    </a:lnTo>
                    <a:lnTo>
                      <a:pt x="3" y="268"/>
                    </a:lnTo>
                    <a:lnTo>
                      <a:pt x="7" y="235"/>
                    </a:lnTo>
                    <a:lnTo>
                      <a:pt x="12" y="204"/>
                    </a:lnTo>
                    <a:lnTo>
                      <a:pt x="20" y="175"/>
                    </a:lnTo>
                    <a:lnTo>
                      <a:pt x="28" y="147"/>
                    </a:lnTo>
                    <a:lnTo>
                      <a:pt x="38" y="121"/>
                    </a:lnTo>
                    <a:lnTo>
                      <a:pt x="49" y="98"/>
                    </a:lnTo>
                    <a:lnTo>
                      <a:pt x="61" y="76"/>
                    </a:lnTo>
                    <a:lnTo>
                      <a:pt x="74" y="57"/>
                    </a:lnTo>
                    <a:lnTo>
                      <a:pt x="82" y="49"/>
                    </a:lnTo>
                    <a:lnTo>
                      <a:pt x="88" y="40"/>
                    </a:lnTo>
                    <a:lnTo>
                      <a:pt x="95" y="33"/>
                    </a:lnTo>
                    <a:lnTo>
                      <a:pt x="103" y="26"/>
                    </a:lnTo>
                    <a:lnTo>
                      <a:pt x="111" y="20"/>
                    </a:lnTo>
                    <a:lnTo>
                      <a:pt x="119" y="15"/>
                    </a:lnTo>
                    <a:lnTo>
                      <a:pt x="127" y="10"/>
                    </a:lnTo>
                    <a:lnTo>
                      <a:pt x="135" y="7"/>
                    </a:lnTo>
                    <a:lnTo>
                      <a:pt x="143" y="3"/>
                    </a:lnTo>
                    <a:lnTo>
                      <a:pt x="152" y="1"/>
                    </a:lnTo>
                    <a:lnTo>
                      <a:pt x="160" y="0"/>
                    </a:lnTo>
                    <a:lnTo>
                      <a:pt x="16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187640" y="441720"/>
                <a:ext cx="214560" cy="247320"/>
              </a:xfrm>
              <a:custGeom>
                <a:avLst/>
                <a:gdLst/>
                <a:ahLst/>
                <a:rect l="l" t="t" r="r" b="b"/>
                <a:pathLst>
                  <a:path w="338" h="390">
                    <a:moveTo>
                      <a:pt x="170" y="0"/>
                    </a:moveTo>
                    <a:lnTo>
                      <a:pt x="178" y="0"/>
                    </a:lnTo>
                    <a:lnTo>
                      <a:pt x="187" y="1"/>
                    </a:lnTo>
                    <a:lnTo>
                      <a:pt x="195" y="3"/>
                    </a:lnTo>
                    <a:lnTo>
                      <a:pt x="204" y="7"/>
                    </a:lnTo>
                    <a:lnTo>
                      <a:pt x="212" y="10"/>
                    </a:lnTo>
                    <a:lnTo>
                      <a:pt x="219" y="15"/>
                    </a:lnTo>
                    <a:lnTo>
                      <a:pt x="227" y="20"/>
                    </a:lnTo>
                    <a:lnTo>
                      <a:pt x="235" y="26"/>
                    </a:lnTo>
                    <a:lnTo>
                      <a:pt x="242" y="33"/>
                    </a:lnTo>
                    <a:lnTo>
                      <a:pt x="250" y="40"/>
                    </a:lnTo>
                    <a:lnTo>
                      <a:pt x="257" y="49"/>
                    </a:lnTo>
                    <a:lnTo>
                      <a:pt x="264" y="57"/>
                    </a:lnTo>
                    <a:lnTo>
                      <a:pt x="277" y="76"/>
                    </a:lnTo>
                    <a:lnTo>
                      <a:pt x="289" y="98"/>
                    </a:lnTo>
                    <a:lnTo>
                      <a:pt x="300" y="121"/>
                    </a:lnTo>
                    <a:lnTo>
                      <a:pt x="309" y="147"/>
                    </a:lnTo>
                    <a:lnTo>
                      <a:pt x="318" y="175"/>
                    </a:lnTo>
                    <a:lnTo>
                      <a:pt x="325" y="204"/>
                    </a:lnTo>
                    <a:lnTo>
                      <a:pt x="330" y="235"/>
                    </a:lnTo>
                    <a:lnTo>
                      <a:pt x="335" y="268"/>
                    </a:lnTo>
                    <a:lnTo>
                      <a:pt x="337" y="300"/>
                    </a:lnTo>
                    <a:lnTo>
                      <a:pt x="338" y="334"/>
                    </a:lnTo>
                    <a:lnTo>
                      <a:pt x="338" y="348"/>
                    </a:lnTo>
                    <a:lnTo>
                      <a:pt x="337" y="363"/>
                    </a:lnTo>
                    <a:lnTo>
                      <a:pt x="337" y="376"/>
                    </a:lnTo>
                    <a:lnTo>
                      <a:pt x="336" y="390"/>
                    </a:lnTo>
                    <a:lnTo>
                      <a:pt x="333" y="361"/>
                    </a:lnTo>
                    <a:lnTo>
                      <a:pt x="328" y="332"/>
                    </a:lnTo>
                    <a:lnTo>
                      <a:pt x="322" y="305"/>
                    </a:lnTo>
                    <a:lnTo>
                      <a:pt x="316" y="279"/>
                    </a:lnTo>
                    <a:lnTo>
                      <a:pt x="308" y="255"/>
                    </a:lnTo>
                    <a:lnTo>
                      <a:pt x="300" y="231"/>
                    </a:lnTo>
                    <a:lnTo>
                      <a:pt x="290" y="210"/>
                    </a:lnTo>
                    <a:lnTo>
                      <a:pt x="279" y="190"/>
                    </a:lnTo>
                    <a:lnTo>
                      <a:pt x="267" y="172"/>
                    </a:lnTo>
                    <a:lnTo>
                      <a:pt x="256" y="156"/>
                    </a:lnTo>
                    <a:lnTo>
                      <a:pt x="242" y="143"/>
                    </a:lnTo>
                    <a:lnTo>
                      <a:pt x="229" y="132"/>
                    </a:lnTo>
                    <a:lnTo>
                      <a:pt x="222" y="127"/>
                    </a:lnTo>
                    <a:lnTo>
                      <a:pt x="215" y="122"/>
                    </a:lnTo>
                    <a:lnTo>
                      <a:pt x="207" y="119"/>
                    </a:lnTo>
                    <a:lnTo>
                      <a:pt x="200" y="116"/>
                    </a:lnTo>
                    <a:lnTo>
                      <a:pt x="192" y="113"/>
                    </a:lnTo>
                    <a:lnTo>
                      <a:pt x="184" y="111"/>
                    </a:lnTo>
                    <a:lnTo>
                      <a:pt x="178" y="110"/>
                    </a:lnTo>
                    <a:lnTo>
                      <a:pt x="170" y="110"/>
                    </a:lnTo>
                    <a:lnTo>
                      <a:pt x="162" y="110"/>
                    </a:lnTo>
                    <a:lnTo>
                      <a:pt x="154" y="111"/>
                    </a:lnTo>
                    <a:lnTo>
                      <a:pt x="146" y="113"/>
                    </a:lnTo>
                    <a:lnTo>
                      <a:pt x="139" y="116"/>
                    </a:lnTo>
                    <a:lnTo>
                      <a:pt x="131" y="119"/>
                    </a:lnTo>
                    <a:lnTo>
                      <a:pt x="124" y="122"/>
                    </a:lnTo>
                    <a:lnTo>
                      <a:pt x="116" y="127"/>
                    </a:lnTo>
                    <a:lnTo>
                      <a:pt x="110" y="132"/>
                    </a:lnTo>
                    <a:lnTo>
                      <a:pt x="96" y="143"/>
                    </a:lnTo>
                    <a:lnTo>
                      <a:pt x="84" y="156"/>
                    </a:lnTo>
                    <a:lnTo>
                      <a:pt x="71" y="172"/>
                    </a:lnTo>
                    <a:lnTo>
                      <a:pt x="60" y="190"/>
                    </a:lnTo>
                    <a:lnTo>
                      <a:pt x="49" y="210"/>
                    </a:lnTo>
                    <a:lnTo>
                      <a:pt x="39" y="231"/>
                    </a:lnTo>
                    <a:lnTo>
                      <a:pt x="30" y="255"/>
                    </a:lnTo>
                    <a:lnTo>
                      <a:pt x="22" y="279"/>
                    </a:lnTo>
                    <a:lnTo>
                      <a:pt x="16" y="305"/>
                    </a:lnTo>
                    <a:lnTo>
                      <a:pt x="10" y="332"/>
                    </a:lnTo>
                    <a:lnTo>
                      <a:pt x="5" y="361"/>
                    </a:lnTo>
                    <a:lnTo>
                      <a:pt x="2" y="390"/>
                    </a:lnTo>
                    <a:lnTo>
                      <a:pt x="2" y="376"/>
                    </a:lnTo>
                    <a:lnTo>
                      <a:pt x="1" y="363"/>
                    </a:lnTo>
                    <a:lnTo>
                      <a:pt x="1" y="348"/>
                    </a:lnTo>
                    <a:lnTo>
                      <a:pt x="0" y="334"/>
                    </a:lnTo>
                    <a:lnTo>
                      <a:pt x="1" y="300"/>
                    </a:lnTo>
                    <a:lnTo>
                      <a:pt x="3" y="268"/>
                    </a:lnTo>
                    <a:lnTo>
                      <a:pt x="8" y="235"/>
                    </a:lnTo>
                    <a:lnTo>
                      <a:pt x="13" y="204"/>
                    </a:lnTo>
                    <a:lnTo>
                      <a:pt x="20" y="175"/>
                    </a:lnTo>
                    <a:lnTo>
                      <a:pt x="29" y="147"/>
                    </a:lnTo>
                    <a:lnTo>
                      <a:pt x="39" y="121"/>
                    </a:lnTo>
                    <a:lnTo>
                      <a:pt x="50" y="98"/>
                    </a:lnTo>
                    <a:lnTo>
                      <a:pt x="62" y="76"/>
                    </a:lnTo>
                    <a:lnTo>
                      <a:pt x="75" y="57"/>
                    </a:lnTo>
                    <a:lnTo>
                      <a:pt x="81" y="49"/>
                    </a:lnTo>
                    <a:lnTo>
                      <a:pt x="89" y="40"/>
                    </a:lnTo>
                    <a:lnTo>
                      <a:pt x="96" y="33"/>
                    </a:lnTo>
                    <a:lnTo>
                      <a:pt x="104" y="26"/>
                    </a:lnTo>
                    <a:lnTo>
                      <a:pt x="111" y="20"/>
                    </a:lnTo>
                    <a:lnTo>
                      <a:pt x="119" y="15"/>
                    </a:lnTo>
                    <a:lnTo>
                      <a:pt x="127" y="10"/>
                    </a:lnTo>
                    <a:lnTo>
                      <a:pt x="136" y="7"/>
                    </a:lnTo>
                    <a:lnTo>
                      <a:pt x="144" y="3"/>
                    </a:lnTo>
                    <a:lnTo>
                      <a:pt x="152" y="1"/>
                    </a:lnTo>
                    <a:lnTo>
                      <a:pt x="161" y="0"/>
                    </a:lnTo>
                    <a:lnTo>
                      <a:pt x="1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1254240" y="568800"/>
                <a:ext cx="81720" cy="81720"/>
              </a:xfrm>
              <a:custGeom>
                <a:avLst/>
                <a:gdLst/>
                <a:ahLst/>
                <a:rect l="l" t="t" r="r" b="b"/>
                <a:pathLst>
                  <a:path w="129" h="129">
                    <a:moveTo>
                      <a:pt x="65" y="0"/>
                    </a:moveTo>
                    <a:lnTo>
                      <a:pt x="70" y="1"/>
                    </a:lnTo>
                    <a:lnTo>
                      <a:pt x="77" y="2"/>
                    </a:lnTo>
                    <a:lnTo>
                      <a:pt x="84" y="3"/>
                    </a:lnTo>
                    <a:lnTo>
                      <a:pt x="90" y="5"/>
                    </a:lnTo>
                    <a:lnTo>
                      <a:pt x="95" y="7"/>
                    </a:lnTo>
                    <a:lnTo>
                      <a:pt x="100" y="11"/>
                    </a:lnTo>
                    <a:lnTo>
                      <a:pt x="105" y="14"/>
                    </a:lnTo>
                    <a:lnTo>
                      <a:pt x="110" y="19"/>
                    </a:lnTo>
                    <a:lnTo>
                      <a:pt x="114" y="23"/>
                    </a:lnTo>
                    <a:lnTo>
                      <a:pt x="118" y="29"/>
                    </a:lnTo>
                    <a:lnTo>
                      <a:pt x="121" y="34"/>
                    </a:lnTo>
                    <a:lnTo>
                      <a:pt x="124" y="39"/>
                    </a:lnTo>
                    <a:lnTo>
                      <a:pt x="126" y="45"/>
                    </a:lnTo>
                    <a:lnTo>
                      <a:pt x="128" y="52"/>
                    </a:lnTo>
                    <a:lnTo>
                      <a:pt x="128" y="59"/>
                    </a:lnTo>
                    <a:lnTo>
                      <a:pt x="129" y="64"/>
                    </a:lnTo>
                    <a:lnTo>
                      <a:pt x="128" y="71"/>
                    </a:lnTo>
                    <a:lnTo>
                      <a:pt x="128" y="78"/>
                    </a:lnTo>
                    <a:lnTo>
                      <a:pt x="126" y="83"/>
                    </a:lnTo>
                    <a:lnTo>
                      <a:pt x="124" y="90"/>
                    </a:lnTo>
                    <a:lnTo>
                      <a:pt x="121" y="96"/>
                    </a:lnTo>
                    <a:lnTo>
                      <a:pt x="118" y="100"/>
                    </a:lnTo>
                    <a:lnTo>
                      <a:pt x="114" y="106"/>
                    </a:lnTo>
                    <a:lnTo>
                      <a:pt x="110" y="111"/>
                    </a:lnTo>
                    <a:lnTo>
                      <a:pt x="105" y="114"/>
                    </a:lnTo>
                    <a:lnTo>
                      <a:pt x="100" y="119"/>
                    </a:lnTo>
                    <a:lnTo>
                      <a:pt x="95" y="121"/>
                    </a:lnTo>
                    <a:lnTo>
                      <a:pt x="90" y="124"/>
                    </a:lnTo>
                    <a:lnTo>
                      <a:pt x="84" y="127"/>
                    </a:lnTo>
                    <a:lnTo>
                      <a:pt x="77" y="128"/>
                    </a:lnTo>
                    <a:lnTo>
                      <a:pt x="70" y="129"/>
                    </a:lnTo>
                    <a:lnTo>
                      <a:pt x="65" y="129"/>
                    </a:lnTo>
                    <a:lnTo>
                      <a:pt x="58" y="129"/>
                    </a:lnTo>
                    <a:lnTo>
                      <a:pt x="51" y="128"/>
                    </a:lnTo>
                    <a:lnTo>
                      <a:pt x="45" y="127"/>
                    </a:lnTo>
                    <a:lnTo>
                      <a:pt x="39" y="124"/>
                    </a:lnTo>
                    <a:lnTo>
                      <a:pt x="34" y="121"/>
                    </a:lnTo>
                    <a:lnTo>
                      <a:pt x="28" y="119"/>
                    </a:lnTo>
                    <a:lnTo>
                      <a:pt x="23" y="114"/>
                    </a:lnTo>
                    <a:lnTo>
                      <a:pt x="18" y="111"/>
                    </a:lnTo>
                    <a:lnTo>
                      <a:pt x="15" y="106"/>
                    </a:lnTo>
                    <a:lnTo>
                      <a:pt x="10" y="100"/>
                    </a:lnTo>
                    <a:lnTo>
                      <a:pt x="8" y="96"/>
                    </a:lnTo>
                    <a:lnTo>
                      <a:pt x="5" y="90"/>
                    </a:lnTo>
                    <a:lnTo>
                      <a:pt x="2" y="83"/>
                    </a:lnTo>
                    <a:lnTo>
                      <a:pt x="1" y="78"/>
                    </a:lnTo>
                    <a:lnTo>
                      <a:pt x="0" y="71"/>
                    </a:lnTo>
                    <a:lnTo>
                      <a:pt x="0" y="64"/>
                    </a:lnTo>
                    <a:lnTo>
                      <a:pt x="0" y="59"/>
                    </a:lnTo>
                    <a:lnTo>
                      <a:pt x="1" y="52"/>
                    </a:lnTo>
                    <a:lnTo>
                      <a:pt x="2" y="45"/>
                    </a:lnTo>
                    <a:lnTo>
                      <a:pt x="5" y="39"/>
                    </a:lnTo>
                    <a:lnTo>
                      <a:pt x="8" y="34"/>
                    </a:lnTo>
                    <a:lnTo>
                      <a:pt x="10" y="29"/>
                    </a:lnTo>
                    <a:lnTo>
                      <a:pt x="15" y="23"/>
                    </a:lnTo>
                    <a:lnTo>
                      <a:pt x="18" y="19"/>
                    </a:lnTo>
                    <a:lnTo>
                      <a:pt x="23" y="14"/>
                    </a:lnTo>
                    <a:lnTo>
                      <a:pt x="28" y="11"/>
                    </a:lnTo>
                    <a:lnTo>
                      <a:pt x="34" y="7"/>
                    </a:lnTo>
                    <a:lnTo>
                      <a:pt x="39"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21" name=""/>
              <p:cNvSpPr/>
              <p:nvPr/>
            </p:nvSpPr>
            <p:spPr>
              <a:xfrm>
                <a:off x="1053000" y="568800"/>
                <a:ext cx="81720" cy="81720"/>
              </a:xfrm>
              <a:custGeom>
                <a:avLst/>
                <a:gdLst/>
                <a:ahLst/>
                <a:rect l="l" t="t" r="r" b="b"/>
                <a:pathLst>
                  <a:path w="129" h="129">
                    <a:moveTo>
                      <a:pt x="65" y="0"/>
                    </a:moveTo>
                    <a:lnTo>
                      <a:pt x="71" y="1"/>
                    </a:lnTo>
                    <a:lnTo>
                      <a:pt x="77" y="2"/>
                    </a:lnTo>
                    <a:lnTo>
                      <a:pt x="84" y="3"/>
                    </a:lnTo>
                    <a:lnTo>
                      <a:pt x="90" y="5"/>
                    </a:lnTo>
                    <a:lnTo>
                      <a:pt x="95" y="7"/>
                    </a:lnTo>
                    <a:lnTo>
                      <a:pt x="101" y="11"/>
                    </a:lnTo>
                    <a:lnTo>
                      <a:pt x="105" y="14"/>
                    </a:lnTo>
                    <a:lnTo>
                      <a:pt x="110" y="19"/>
                    </a:lnTo>
                    <a:lnTo>
                      <a:pt x="114" y="23"/>
                    </a:lnTo>
                    <a:lnTo>
                      <a:pt x="118" y="29"/>
                    </a:lnTo>
                    <a:lnTo>
                      <a:pt x="121" y="34"/>
                    </a:lnTo>
                    <a:lnTo>
                      <a:pt x="124" y="39"/>
                    </a:lnTo>
                    <a:lnTo>
                      <a:pt x="126" y="45"/>
                    </a:lnTo>
                    <a:lnTo>
                      <a:pt x="128" y="52"/>
                    </a:lnTo>
                    <a:lnTo>
                      <a:pt x="128" y="59"/>
                    </a:lnTo>
                    <a:lnTo>
                      <a:pt x="129" y="64"/>
                    </a:lnTo>
                    <a:lnTo>
                      <a:pt x="128" y="71"/>
                    </a:lnTo>
                    <a:lnTo>
                      <a:pt x="128" y="78"/>
                    </a:lnTo>
                    <a:lnTo>
                      <a:pt x="126" y="83"/>
                    </a:lnTo>
                    <a:lnTo>
                      <a:pt x="124" y="90"/>
                    </a:lnTo>
                    <a:lnTo>
                      <a:pt x="121" y="96"/>
                    </a:lnTo>
                    <a:lnTo>
                      <a:pt x="118" y="100"/>
                    </a:lnTo>
                    <a:lnTo>
                      <a:pt x="114" y="106"/>
                    </a:lnTo>
                    <a:lnTo>
                      <a:pt x="110" y="111"/>
                    </a:lnTo>
                    <a:lnTo>
                      <a:pt x="105" y="114"/>
                    </a:lnTo>
                    <a:lnTo>
                      <a:pt x="101" y="119"/>
                    </a:lnTo>
                    <a:lnTo>
                      <a:pt x="95" y="121"/>
                    </a:lnTo>
                    <a:lnTo>
                      <a:pt x="90" y="124"/>
                    </a:lnTo>
                    <a:lnTo>
                      <a:pt x="84" y="127"/>
                    </a:lnTo>
                    <a:lnTo>
                      <a:pt x="77" y="128"/>
                    </a:lnTo>
                    <a:lnTo>
                      <a:pt x="71" y="129"/>
                    </a:lnTo>
                    <a:lnTo>
                      <a:pt x="65" y="129"/>
                    </a:lnTo>
                    <a:lnTo>
                      <a:pt x="58" y="129"/>
                    </a:lnTo>
                    <a:lnTo>
                      <a:pt x="51" y="128"/>
                    </a:lnTo>
                    <a:lnTo>
                      <a:pt x="45" y="127"/>
                    </a:lnTo>
                    <a:lnTo>
                      <a:pt x="40" y="124"/>
                    </a:lnTo>
                    <a:lnTo>
                      <a:pt x="34" y="121"/>
                    </a:lnTo>
                    <a:lnTo>
                      <a:pt x="28" y="119"/>
                    </a:lnTo>
                    <a:lnTo>
                      <a:pt x="23" y="114"/>
                    </a:lnTo>
                    <a:lnTo>
                      <a:pt x="18" y="111"/>
                    </a:lnTo>
                    <a:lnTo>
                      <a:pt x="15" y="106"/>
                    </a:lnTo>
                    <a:lnTo>
                      <a:pt x="10" y="100"/>
                    </a:lnTo>
                    <a:lnTo>
                      <a:pt x="8" y="96"/>
                    </a:lnTo>
                    <a:lnTo>
                      <a:pt x="5" y="90"/>
                    </a:lnTo>
                    <a:lnTo>
                      <a:pt x="2" y="83"/>
                    </a:lnTo>
                    <a:lnTo>
                      <a:pt x="1" y="78"/>
                    </a:lnTo>
                    <a:lnTo>
                      <a:pt x="0" y="71"/>
                    </a:lnTo>
                    <a:lnTo>
                      <a:pt x="0" y="64"/>
                    </a:lnTo>
                    <a:lnTo>
                      <a:pt x="0" y="59"/>
                    </a:lnTo>
                    <a:lnTo>
                      <a:pt x="1" y="52"/>
                    </a:lnTo>
                    <a:lnTo>
                      <a:pt x="2" y="45"/>
                    </a:lnTo>
                    <a:lnTo>
                      <a:pt x="5" y="39"/>
                    </a:lnTo>
                    <a:lnTo>
                      <a:pt x="8" y="34"/>
                    </a:lnTo>
                    <a:lnTo>
                      <a:pt x="10" y="29"/>
                    </a:lnTo>
                    <a:lnTo>
                      <a:pt x="15" y="23"/>
                    </a:lnTo>
                    <a:lnTo>
                      <a:pt x="18" y="19"/>
                    </a:lnTo>
                    <a:lnTo>
                      <a:pt x="23" y="14"/>
                    </a:lnTo>
                    <a:lnTo>
                      <a:pt x="28" y="11"/>
                    </a:lnTo>
                    <a:lnTo>
                      <a:pt x="34" y="7"/>
                    </a:lnTo>
                    <a:lnTo>
                      <a:pt x="40"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22" name=""/>
              <p:cNvSpPr/>
              <p:nvPr/>
            </p:nvSpPr>
            <p:spPr>
              <a:xfrm>
                <a:off x="401040" y="440640"/>
                <a:ext cx="360360" cy="247320"/>
              </a:xfrm>
              <a:custGeom>
                <a:avLst/>
                <a:gdLst/>
                <a:ahLst/>
                <a:rect l="l" t="t" r="r" b="b"/>
                <a:pathLst>
                  <a:path w="568" h="390">
                    <a:moveTo>
                      <a:pt x="420" y="0"/>
                    </a:moveTo>
                    <a:lnTo>
                      <a:pt x="428" y="1"/>
                    </a:lnTo>
                    <a:lnTo>
                      <a:pt x="436" y="2"/>
                    </a:lnTo>
                    <a:lnTo>
                      <a:pt x="443" y="4"/>
                    </a:lnTo>
                    <a:lnTo>
                      <a:pt x="450" y="7"/>
                    </a:lnTo>
                    <a:lnTo>
                      <a:pt x="458" y="11"/>
                    </a:lnTo>
                    <a:lnTo>
                      <a:pt x="464" y="14"/>
                    </a:lnTo>
                    <a:lnTo>
                      <a:pt x="471" y="20"/>
                    </a:lnTo>
                    <a:lnTo>
                      <a:pt x="478" y="26"/>
                    </a:lnTo>
                    <a:lnTo>
                      <a:pt x="491" y="41"/>
                    </a:lnTo>
                    <a:lnTo>
                      <a:pt x="503" y="58"/>
                    </a:lnTo>
                    <a:lnTo>
                      <a:pt x="514" y="77"/>
                    </a:lnTo>
                    <a:lnTo>
                      <a:pt x="524" y="98"/>
                    </a:lnTo>
                    <a:lnTo>
                      <a:pt x="534" y="122"/>
                    </a:lnTo>
                    <a:lnTo>
                      <a:pt x="543" y="148"/>
                    </a:lnTo>
                    <a:lnTo>
                      <a:pt x="549" y="175"/>
                    </a:lnTo>
                    <a:lnTo>
                      <a:pt x="556" y="205"/>
                    </a:lnTo>
                    <a:lnTo>
                      <a:pt x="561" y="236"/>
                    </a:lnTo>
                    <a:lnTo>
                      <a:pt x="565" y="267"/>
                    </a:lnTo>
                    <a:lnTo>
                      <a:pt x="566" y="300"/>
                    </a:lnTo>
                    <a:lnTo>
                      <a:pt x="568" y="334"/>
                    </a:lnTo>
                    <a:lnTo>
                      <a:pt x="568" y="349"/>
                    </a:lnTo>
                    <a:lnTo>
                      <a:pt x="568" y="363"/>
                    </a:lnTo>
                    <a:lnTo>
                      <a:pt x="566" y="376"/>
                    </a:lnTo>
                    <a:lnTo>
                      <a:pt x="565" y="390"/>
                    </a:lnTo>
                    <a:lnTo>
                      <a:pt x="563" y="360"/>
                    </a:lnTo>
                    <a:lnTo>
                      <a:pt x="560" y="332"/>
                    </a:lnTo>
                    <a:lnTo>
                      <a:pt x="554" y="306"/>
                    </a:lnTo>
                    <a:lnTo>
                      <a:pt x="548" y="280"/>
                    </a:lnTo>
                    <a:lnTo>
                      <a:pt x="541" y="255"/>
                    </a:lnTo>
                    <a:lnTo>
                      <a:pt x="534" y="232"/>
                    </a:lnTo>
                    <a:lnTo>
                      <a:pt x="526" y="211"/>
                    </a:lnTo>
                    <a:lnTo>
                      <a:pt x="517" y="190"/>
                    </a:lnTo>
                    <a:lnTo>
                      <a:pt x="506" y="173"/>
                    </a:lnTo>
                    <a:lnTo>
                      <a:pt x="495" y="157"/>
                    </a:lnTo>
                    <a:lnTo>
                      <a:pt x="484" y="144"/>
                    </a:lnTo>
                    <a:lnTo>
                      <a:pt x="472" y="131"/>
                    </a:lnTo>
                    <a:lnTo>
                      <a:pt x="467" y="127"/>
                    </a:lnTo>
                    <a:lnTo>
                      <a:pt x="460" y="122"/>
                    </a:lnTo>
                    <a:lnTo>
                      <a:pt x="453" y="119"/>
                    </a:lnTo>
                    <a:lnTo>
                      <a:pt x="448" y="115"/>
                    </a:lnTo>
                    <a:lnTo>
                      <a:pt x="441" y="113"/>
                    </a:lnTo>
                    <a:lnTo>
                      <a:pt x="434" y="112"/>
                    </a:lnTo>
                    <a:lnTo>
                      <a:pt x="427" y="111"/>
                    </a:lnTo>
                    <a:lnTo>
                      <a:pt x="420" y="111"/>
                    </a:lnTo>
                    <a:lnTo>
                      <a:pt x="414" y="111"/>
                    </a:lnTo>
                    <a:lnTo>
                      <a:pt x="406" y="112"/>
                    </a:lnTo>
                    <a:lnTo>
                      <a:pt x="398" y="114"/>
                    </a:lnTo>
                    <a:lnTo>
                      <a:pt x="391" y="118"/>
                    </a:lnTo>
                    <a:lnTo>
                      <a:pt x="384" y="121"/>
                    </a:lnTo>
                    <a:lnTo>
                      <a:pt x="376" y="126"/>
                    </a:lnTo>
                    <a:lnTo>
                      <a:pt x="369" y="131"/>
                    </a:lnTo>
                    <a:lnTo>
                      <a:pt x="363" y="137"/>
                    </a:lnTo>
                    <a:lnTo>
                      <a:pt x="357" y="144"/>
                    </a:lnTo>
                    <a:lnTo>
                      <a:pt x="350" y="152"/>
                    </a:lnTo>
                    <a:lnTo>
                      <a:pt x="343" y="160"/>
                    </a:lnTo>
                    <a:lnTo>
                      <a:pt x="338" y="169"/>
                    </a:lnTo>
                    <a:lnTo>
                      <a:pt x="326" y="188"/>
                    </a:lnTo>
                    <a:lnTo>
                      <a:pt x="316" y="211"/>
                    </a:lnTo>
                    <a:lnTo>
                      <a:pt x="323" y="215"/>
                    </a:lnTo>
                    <a:lnTo>
                      <a:pt x="330" y="221"/>
                    </a:lnTo>
                    <a:lnTo>
                      <a:pt x="335" y="226"/>
                    </a:lnTo>
                    <a:lnTo>
                      <a:pt x="340" y="233"/>
                    </a:lnTo>
                    <a:lnTo>
                      <a:pt x="343" y="241"/>
                    </a:lnTo>
                    <a:lnTo>
                      <a:pt x="347" y="249"/>
                    </a:lnTo>
                    <a:lnTo>
                      <a:pt x="348" y="258"/>
                    </a:lnTo>
                    <a:lnTo>
                      <a:pt x="349" y="266"/>
                    </a:lnTo>
                    <a:lnTo>
                      <a:pt x="348" y="273"/>
                    </a:lnTo>
                    <a:lnTo>
                      <a:pt x="348" y="280"/>
                    </a:lnTo>
                    <a:lnTo>
                      <a:pt x="346" y="285"/>
                    </a:lnTo>
                    <a:lnTo>
                      <a:pt x="343" y="292"/>
                    </a:lnTo>
                    <a:lnTo>
                      <a:pt x="341" y="298"/>
                    </a:lnTo>
                    <a:lnTo>
                      <a:pt x="338" y="302"/>
                    </a:lnTo>
                    <a:lnTo>
                      <a:pt x="334" y="308"/>
                    </a:lnTo>
                    <a:lnTo>
                      <a:pt x="330" y="313"/>
                    </a:lnTo>
                    <a:lnTo>
                      <a:pt x="325" y="316"/>
                    </a:lnTo>
                    <a:lnTo>
                      <a:pt x="321" y="321"/>
                    </a:lnTo>
                    <a:lnTo>
                      <a:pt x="315" y="323"/>
                    </a:lnTo>
                    <a:lnTo>
                      <a:pt x="309" y="326"/>
                    </a:lnTo>
                    <a:lnTo>
                      <a:pt x="304" y="329"/>
                    </a:lnTo>
                    <a:lnTo>
                      <a:pt x="297" y="330"/>
                    </a:lnTo>
                    <a:lnTo>
                      <a:pt x="291" y="331"/>
                    </a:lnTo>
                    <a:lnTo>
                      <a:pt x="284" y="331"/>
                    </a:lnTo>
                    <a:lnTo>
                      <a:pt x="278" y="331"/>
                    </a:lnTo>
                    <a:lnTo>
                      <a:pt x="271" y="330"/>
                    </a:lnTo>
                    <a:lnTo>
                      <a:pt x="265" y="329"/>
                    </a:lnTo>
                    <a:lnTo>
                      <a:pt x="260" y="326"/>
                    </a:lnTo>
                    <a:lnTo>
                      <a:pt x="254" y="323"/>
                    </a:lnTo>
                    <a:lnTo>
                      <a:pt x="248" y="321"/>
                    </a:lnTo>
                    <a:lnTo>
                      <a:pt x="243" y="316"/>
                    </a:lnTo>
                    <a:lnTo>
                      <a:pt x="238" y="313"/>
                    </a:lnTo>
                    <a:lnTo>
                      <a:pt x="235" y="308"/>
                    </a:lnTo>
                    <a:lnTo>
                      <a:pt x="230" y="302"/>
                    </a:lnTo>
                    <a:lnTo>
                      <a:pt x="228" y="298"/>
                    </a:lnTo>
                    <a:lnTo>
                      <a:pt x="224" y="292"/>
                    </a:lnTo>
                    <a:lnTo>
                      <a:pt x="222" y="285"/>
                    </a:lnTo>
                    <a:lnTo>
                      <a:pt x="221" y="280"/>
                    </a:lnTo>
                    <a:lnTo>
                      <a:pt x="220" y="273"/>
                    </a:lnTo>
                    <a:lnTo>
                      <a:pt x="220" y="266"/>
                    </a:lnTo>
                    <a:lnTo>
                      <a:pt x="220" y="258"/>
                    </a:lnTo>
                    <a:lnTo>
                      <a:pt x="222" y="249"/>
                    </a:lnTo>
                    <a:lnTo>
                      <a:pt x="224" y="241"/>
                    </a:lnTo>
                    <a:lnTo>
                      <a:pt x="229" y="233"/>
                    </a:lnTo>
                    <a:lnTo>
                      <a:pt x="234" y="226"/>
                    </a:lnTo>
                    <a:lnTo>
                      <a:pt x="239" y="221"/>
                    </a:lnTo>
                    <a:lnTo>
                      <a:pt x="245" y="215"/>
                    </a:lnTo>
                    <a:lnTo>
                      <a:pt x="253" y="211"/>
                    </a:lnTo>
                    <a:lnTo>
                      <a:pt x="241" y="188"/>
                    </a:lnTo>
                    <a:lnTo>
                      <a:pt x="230" y="169"/>
                    </a:lnTo>
                    <a:lnTo>
                      <a:pt x="224" y="160"/>
                    </a:lnTo>
                    <a:lnTo>
                      <a:pt x="219" y="152"/>
                    </a:lnTo>
                    <a:lnTo>
                      <a:pt x="212" y="144"/>
                    </a:lnTo>
                    <a:lnTo>
                      <a:pt x="205" y="137"/>
                    </a:lnTo>
                    <a:lnTo>
                      <a:pt x="198" y="131"/>
                    </a:lnTo>
                    <a:lnTo>
                      <a:pt x="192" y="126"/>
                    </a:lnTo>
                    <a:lnTo>
                      <a:pt x="185" y="121"/>
                    </a:lnTo>
                    <a:lnTo>
                      <a:pt x="178" y="118"/>
                    </a:lnTo>
                    <a:lnTo>
                      <a:pt x="170" y="114"/>
                    </a:lnTo>
                    <a:lnTo>
                      <a:pt x="163" y="112"/>
                    </a:lnTo>
                    <a:lnTo>
                      <a:pt x="155" y="111"/>
                    </a:lnTo>
                    <a:lnTo>
                      <a:pt x="148" y="111"/>
                    </a:lnTo>
                    <a:lnTo>
                      <a:pt x="141" y="111"/>
                    </a:lnTo>
                    <a:lnTo>
                      <a:pt x="134" y="112"/>
                    </a:lnTo>
                    <a:lnTo>
                      <a:pt x="127" y="113"/>
                    </a:lnTo>
                    <a:lnTo>
                      <a:pt x="121" y="115"/>
                    </a:lnTo>
                    <a:lnTo>
                      <a:pt x="115" y="119"/>
                    </a:lnTo>
                    <a:lnTo>
                      <a:pt x="108" y="122"/>
                    </a:lnTo>
                    <a:lnTo>
                      <a:pt x="102" y="127"/>
                    </a:lnTo>
                    <a:lnTo>
                      <a:pt x="95" y="131"/>
                    </a:lnTo>
                    <a:lnTo>
                      <a:pt x="84" y="144"/>
                    </a:lnTo>
                    <a:lnTo>
                      <a:pt x="73" y="157"/>
                    </a:lnTo>
                    <a:lnTo>
                      <a:pt x="63" y="173"/>
                    </a:lnTo>
                    <a:lnTo>
                      <a:pt x="52" y="190"/>
                    </a:lnTo>
                    <a:lnTo>
                      <a:pt x="43" y="211"/>
                    </a:lnTo>
                    <a:lnTo>
                      <a:pt x="34" y="232"/>
                    </a:lnTo>
                    <a:lnTo>
                      <a:pt x="26" y="255"/>
                    </a:lnTo>
                    <a:lnTo>
                      <a:pt x="20" y="280"/>
                    </a:lnTo>
                    <a:lnTo>
                      <a:pt x="14" y="306"/>
                    </a:lnTo>
                    <a:lnTo>
                      <a:pt x="9" y="332"/>
                    </a:lnTo>
                    <a:lnTo>
                      <a:pt x="6" y="360"/>
                    </a:lnTo>
                    <a:lnTo>
                      <a:pt x="3" y="390"/>
                    </a:lnTo>
                    <a:lnTo>
                      <a:pt x="1" y="376"/>
                    </a:lnTo>
                    <a:lnTo>
                      <a:pt x="1" y="363"/>
                    </a:lnTo>
                    <a:lnTo>
                      <a:pt x="0" y="349"/>
                    </a:lnTo>
                    <a:lnTo>
                      <a:pt x="0" y="334"/>
                    </a:lnTo>
                    <a:lnTo>
                      <a:pt x="1" y="300"/>
                    </a:lnTo>
                    <a:lnTo>
                      <a:pt x="4" y="267"/>
                    </a:lnTo>
                    <a:lnTo>
                      <a:pt x="7" y="236"/>
                    </a:lnTo>
                    <a:lnTo>
                      <a:pt x="13" y="205"/>
                    </a:lnTo>
                    <a:lnTo>
                      <a:pt x="18" y="175"/>
                    </a:lnTo>
                    <a:lnTo>
                      <a:pt x="26" y="148"/>
                    </a:lnTo>
                    <a:lnTo>
                      <a:pt x="34" y="122"/>
                    </a:lnTo>
                    <a:lnTo>
                      <a:pt x="43" y="98"/>
                    </a:lnTo>
                    <a:lnTo>
                      <a:pt x="55" y="77"/>
                    </a:lnTo>
                    <a:lnTo>
                      <a:pt x="66" y="58"/>
                    </a:lnTo>
                    <a:lnTo>
                      <a:pt x="77" y="41"/>
                    </a:lnTo>
                    <a:lnTo>
                      <a:pt x="91" y="26"/>
                    </a:lnTo>
                    <a:lnTo>
                      <a:pt x="98" y="20"/>
                    </a:lnTo>
                    <a:lnTo>
                      <a:pt x="104" y="14"/>
                    </a:lnTo>
                    <a:lnTo>
                      <a:pt x="111" y="11"/>
                    </a:lnTo>
                    <a:lnTo>
                      <a:pt x="118" y="7"/>
                    </a:lnTo>
                    <a:lnTo>
                      <a:pt x="125" y="4"/>
                    </a:lnTo>
                    <a:lnTo>
                      <a:pt x="133" y="2"/>
                    </a:lnTo>
                    <a:lnTo>
                      <a:pt x="140" y="1"/>
                    </a:lnTo>
                    <a:lnTo>
                      <a:pt x="148" y="0"/>
                    </a:lnTo>
                    <a:lnTo>
                      <a:pt x="159" y="1"/>
                    </a:lnTo>
                    <a:lnTo>
                      <a:pt x="170" y="4"/>
                    </a:lnTo>
                    <a:lnTo>
                      <a:pt x="180" y="9"/>
                    </a:lnTo>
                    <a:lnTo>
                      <a:pt x="192" y="14"/>
                    </a:lnTo>
                    <a:lnTo>
                      <a:pt x="202" y="22"/>
                    </a:lnTo>
                    <a:lnTo>
                      <a:pt x="211" y="33"/>
                    </a:lnTo>
                    <a:lnTo>
                      <a:pt x="221" y="44"/>
                    </a:lnTo>
                    <a:lnTo>
                      <a:pt x="230" y="56"/>
                    </a:lnTo>
                    <a:lnTo>
                      <a:pt x="238" y="70"/>
                    </a:lnTo>
                    <a:lnTo>
                      <a:pt x="246" y="86"/>
                    </a:lnTo>
                    <a:lnTo>
                      <a:pt x="254" y="102"/>
                    </a:lnTo>
                    <a:lnTo>
                      <a:pt x="262" y="120"/>
                    </a:lnTo>
                    <a:lnTo>
                      <a:pt x="268" y="139"/>
                    </a:lnTo>
                    <a:lnTo>
                      <a:pt x="274" y="158"/>
                    </a:lnTo>
                    <a:lnTo>
                      <a:pt x="279" y="180"/>
                    </a:lnTo>
                    <a:lnTo>
                      <a:pt x="283" y="202"/>
                    </a:lnTo>
                    <a:lnTo>
                      <a:pt x="284" y="202"/>
                    </a:lnTo>
                    <a:lnTo>
                      <a:pt x="286" y="202"/>
                    </a:lnTo>
                    <a:lnTo>
                      <a:pt x="290" y="180"/>
                    </a:lnTo>
                    <a:lnTo>
                      <a:pt x="295" y="158"/>
                    </a:lnTo>
                    <a:lnTo>
                      <a:pt x="300" y="139"/>
                    </a:lnTo>
                    <a:lnTo>
                      <a:pt x="307" y="120"/>
                    </a:lnTo>
                    <a:lnTo>
                      <a:pt x="314" y="102"/>
                    </a:lnTo>
                    <a:lnTo>
                      <a:pt x="322" y="86"/>
                    </a:lnTo>
                    <a:lnTo>
                      <a:pt x="330" y="70"/>
                    </a:lnTo>
                    <a:lnTo>
                      <a:pt x="339" y="56"/>
                    </a:lnTo>
                    <a:lnTo>
                      <a:pt x="348" y="44"/>
                    </a:lnTo>
                    <a:lnTo>
                      <a:pt x="357" y="33"/>
                    </a:lnTo>
                    <a:lnTo>
                      <a:pt x="367" y="22"/>
                    </a:lnTo>
                    <a:lnTo>
                      <a:pt x="377" y="14"/>
                    </a:lnTo>
                    <a:lnTo>
                      <a:pt x="388" y="9"/>
                    </a:lnTo>
                    <a:lnTo>
                      <a:pt x="399" y="4"/>
                    </a:lnTo>
                    <a:lnTo>
                      <a:pt x="409" y="1"/>
                    </a:lnTo>
                    <a:lnTo>
                      <a:pt x="4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927360" y="424080"/>
                <a:ext cx="333360" cy="140760"/>
              </a:xfrm>
              <a:custGeom>
                <a:avLst/>
                <a:gdLst/>
                <a:ahLst/>
                <a:rect l="l" t="t" r="r" b="b"/>
                <a:pathLst>
                  <a:path w="525" h="222">
                    <a:moveTo>
                      <a:pt x="263" y="222"/>
                    </a:moveTo>
                    <a:lnTo>
                      <a:pt x="259" y="222"/>
                    </a:lnTo>
                    <a:lnTo>
                      <a:pt x="255" y="221"/>
                    </a:lnTo>
                    <a:lnTo>
                      <a:pt x="251" y="220"/>
                    </a:lnTo>
                    <a:lnTo>
                      <a:pt x="248" y="217"/>
                    </a:lnTo>
                    <a:lnTo>
                      <a:pt x="243" y="213"/>
                    </a:lnTo>
                    <a:lnTo>
                      <a:pt x="239" y="207"/>
                    </a:lnTo>
                    <a:lnTo>
                      <a:pt x="234" y="199"/>
                    </a:lnTo>
                    <a:lnTo>
                      <a:pt x="229" y="189"/>
                    </a:lnTo>
                    <a:lnTo>
                      <a:pt x="221" y="166"/>
                    </a:lnTo>
                    <a:lnTo>
                      <a:pt x="213" y="147"/>
                    </a:lnTo>
                    <a:lnTo>
                      <a:pt x="203" y="130"/>
                    </a:lnTo>
                    <a:lnTo>
                      <a:pt x="192" y="114"/>
                    </a:lnTo>
                    <a:lnTo>
                      <a:pt x="181" y="101"/>
                    </a:lnTo>
                    <a:lnTo>
                      <a:pt x="170" y="89"/>
                    </a:lnTo>
                    <a:lnTo>
                      <a:pt x="156" y="79"/>
                    </a:lnTo>
                    <a:lnTo>
                      <a:pt x="143" y="70"/>
                    </a:lnTo>
                    <a:lnTo>
                      <a:pt x="128" y="62"/>
                    </a:lnTo>
                    <a:lnTo>
                      <a:pt x="113" y="55"/>
                    </a:lnTo>
                    <a:lnTo>
                      <a:pt x="96" y="50"/>
                    </a:lnTo>
                    <a:lnTo>
                      <a:pt x="79" y="44"/>
                    </a:lnTo>
                    <a:lnTo>
                      <a:pt x="42" y="33"/>
                    </a:lnTo>
                    <a:lnTo>
                      <a:pt x="0" y="20"/>
                    </a:lnTo>
                    <a:lnTo>
                      <a:pt x="9" y="14"/>
                    </a:lnTo>
                    <a:lnTo>
                      <a:pt x="19" y="11"/>
                    </a:lnTo>
                    <a:lnTo>
                      <a:pt x="29" y="8"/>
                    </a:lnTo>
                    <a:lnTo>
                      <a:pt x="40" y="4"/>
                    </a:lnTo>
                    <a:lnTo>
                      <a:pt x="50" y="2"/>
                    </a:lnTo>
                    <a:lnTo>
                      <a:pt x="60" y="1"/>
                    </a:lnTo>
                    <a:lnTo>
                      <a:pt x="71" y="0"/>
                    </a:lnTo>
                    <a:lnTo>
                      <a:pt x="82" y="0"/>
                    </a:lnTo>
                    <a:lnTo>
                      <a:pt x="104" y="1"/>
                    </a:lnTo>
                    <a:lnTo>
                      <a:pt x="126" y="4"/>
                    </a:lnTo>
                    <a:lnTo>
                      <a:pt x="147" y="9"/>
                    </a:lnTo>
                    <a:lnTo>
                      <a:pt x="168" y="17"/>
                    </a:lnTo>
                    <a:lnTo>
                      <a:pt x="187" y="26"/>
                    </a:lnTo>
                    <a:lnTo>
                      <a:pt x="205" y="36"/>
                    </a:lnTo>
                    <a:lnTo>
                      <a:pt x="213" y="42"/>
                    </a:lnTo>
                    <a:lnTo>
                      <a:pt x="221" y="48"/>
                    </a:lnTo>
                    <a:lnTo>
                      <a:pt x="228" y="55"/>
                    </a:lnTo>
                    <a:lnTo>
                      <a:pt x="234" y="62"/>
                    </a:lnTo>
                    <a:lnTo>
                      <a:pt x="241" y="69"/>
                    </a:lnTo>
                    <a:lnTo>
                      <a:pt x="246" y="77"/>
                    </a:lnTo>
                    <a:lnTo>
                      <a:pt x="251" y="85"/>
                    </a:lnTo>
                    <a:lnTo>
                      <a:pt x="255" y="93"/>
                    </a:lnTo>
                    <a:lnTo>
                      <a:pt x="258" y="101"/>
                    </a:lnTo>
                    <a:lnTo>
                      <a:pt x="260" y="110"/>
                    </a:lnTo>
                    <a:lnTo>
                      <a:pt x="262" y="119"/>
                    </a:lnTo>
                    <a:lnTo>
                      <a:pt x="262" y="128"/>
                    </a:lnTo>
                    <a:lnTo>
                      <a:pt x="263" y="128"/>
                    </a:lnTo>
                    <a:lnTo>
                      <a:pt x="263" y="128"/>
                    </a:lnTo>
                    <a:lnTo>
                      <a:pt x="263" y="129"/>
                    </a:lnTo>
                    <a:lnTo>
                      <a:pt x="263" y="128"/>
                    </a:lnTo>
                    <a:lnTo>
                      <a:pt x="263" y="128"/>
                    </a:lnTo>
                    <a:lnTo>
                      <a:pt x="264" y="128"/>
                    </a:lnTo>
                    <a:lnTo>
                      <a:pt x="264" y="119"/>
                    </a:lnTo>
                    <a:lnTo>
                      <a:pt x="265" y="110"/>
                    </a:lnTo>
                    <a:lnTo>
                      <a:pt x="267" y="101"/>
                    </a:lnTo>
                    <a:lnTo>
                      <a:pt x="271" y="93"/>
                    </a:lnTo>
                    <a:lnTo>
                      <a:pt x="275" y="85"/>
                    </a:lnTo>
                    <a:lnTo>
                      <a:pt x="280" y="77"/>
                    </a:lnTo>
                    <a:lnTo>
                      <a:pt x="284" y="69"/>
                    </a:lnTo>
                    <a:lnTo>
                      <a:pt x="291" y="62"/>
                    </a:lnTo>
                    <a:lnTo>
                      <a:pt x="298" y="55"/>
                    </a:lnTo>
                    <a:lnTo>
                      <a:pt x="305" y="48"/>
                    </a:lnTo>
                    <a:lnTo>
                      <a:pt x="312" y="42"/>
                    </a:lnTo>
                    <a:lnTo>
                      <a:pt x="320" y="36"/>
                    </a:lnTo>
                    <a:lnTo>
                      <a:pt x="339" y="26"/>
                    </a:lnTo>
                    <a:lnTo>
                      <a:pt x="358" y="17"/>
                    </a:lnTo>
                    <a:lnTo>
                      <a:pt x="378" y="9"/>
                    </a:lnTo>
                    <a:lnTo>
                      <a:pt x="400" y="4"/>
                    </a:lnTo>
                    <a:lnTo>
                      <a:pt x="421" y="1"/>
                    </a:lnTo>
                    <a:lnTo>
                      <a:pt x="444" y="0"/>
                    </a:lnTo>
                    <a:lnTo>
                      <a:pt x="454" y="0"/>
                    </a:lnTo>
                    <a:lnTo>
                      <a:pt x="465" y="1"/>
                    </a:lnTo>
                    <a:lnTo>
                      <a:pt x="475" y="2"/>
                    </a:lnTo>
                    <a:lnTo>
                      <a:pt x="487" y="4"/>
                    </a:lnTo>
                    <a:lnTo>
                      <a:pt x="497" y="8"/>
                    </a:lnTo>
                    <a:lnTo>
                      <a:pt x="506" y="11"/>
                    </a:lnTo>
                    <a:lnTo>
                      <a:pt x="516" y="14"/>
                    </a:lnTo>
                    <a:lnTo>
                      <a:pt x="525" y="20"/>
                    </a:lnTo>
                    <a:lnTo>
                      <a:pt x="483" y="33"/>
                    </a:lnTo>
                    <a:lnTo>
                      <a:pt x="446" y="44"/>
                    </a:lnTo>
                    <a:lnTo>
                      <a:pt x="429" y="50"/>
                    </a:lnTo>
                    <a:lnTo>
                      <a:pt x="412" y="55"/>
                    </a:lnTo>
                    <a:lnTo>
                      <a:pt x="397" y="62"/>
                    </a:lnTo>
                    <a:lnTo>
                      <a:pt x="383" y="70"/>
                    </a:lnTo>
                    <a:lnTo>
                      <a:pt x="369" y="79"/>
                    </a:lnTo>
                    <a:lnTo>
                      <a:pt x="357" y="89"/>
                    </a:lnTo>
                    <a:lnTo>
                      <a:pt x="344" y="101"/>
                    </a:lnTo>
                    <a:lnTo>
                      <a:pt x="333" y="114"/>
                    </a:lnTo>
                    <a:lnTo>
                      <a:pt x="323" y="130"/>
                    </a:lnTo>
                    <a:lnTo>
                      <a:pt x="314" y="147"/>
                    </a:lnTo>
                    <a:lnTo>
                      <a:pt x="305" y="166"/>
                    </a:lnTo>
                    <a:lnTo>
                      <a:pt x="297" y="189"/>
                    </a:lnTo>
                    <a:lnTo>
                      <a:pt x="291" y="199"/>
                    </a:lnTo>
                    <a:lnTo>
                      <a:pt x="286" y="207"/>
                    </a:lnTo>
                    <a:lnTo>
                      <a:pt x="282" y="213"/>
                    </a:lnTo>
                    <a:lnTo>
                      <a:pt x="277" y="217"/>
                    </a:lnTo>
                    <a:lnTo>
                      <a:pt x="274" y="220"/>
                    </a:lnTo>
                    <a:lnTo>
                      <a:pt x="271" y="221"/>
                    </a:lnTo>
                    <a:lnTo>
                      <a:pt x="267" y="222"/>
                    </a:lnTo>
                    <a:lnTo>
                      <a:pt x="263"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851760" y="561600"/>
                <a:ext cx="81720" cy="82080"/>
              </a:xfrm>
              <a:custGeom>
                <a:avLst/>
                <a:gdLst/>
                <a:ahLst/>
                <a:rect l="l" t="t" r="r" b="b"/>
                <a:pathLst>
                  <a:path w="129" h="130">
                    <a:moveTo>
                      <a:pt x="65" y="0"/>
                    </a:moveTo>
                    <a:lnTo>
                      <a:pt x="71" y="1"/>
                    </a:lnTo>
                    <a:lnTo>
                      <a:pt x="77" y="1"/>
                    </a:lnTo>
                    <a:lnTo>
                      <a:pt x="84" y="4"/>
                    </a:lnTo>
                    <a:lnTo>
                      <a:pt x="90" y="6"/>
                    </a:lnTo>
                    <a:lnTo>
                      <a:pt x="95" y="8"/>
                    </a:lnTo>
                    <a:lnTo>
                      <a:pt x="101" y="12"/>
                    </a:lnTo>
                    <a:lnTo>
                      <a:pt x="105" y="15"/>
                    </a:lnTo>
                    <a:lnTo>
                      <a:pt x="110" y="20"/>
                    </a:lnTo>
                    <a:lnTo>
                      <a:pt x="114" y="24"/>
                    </a:lnTo>
                    <a:lnTo>
                      <a:pt x="118" y="29"/>
                    </a:lnTo>
                    <a:lnTo>
                      <a:pt x="121" y="34"/>
                    </a:lnTo>
                    <a:lnTo>
                      <a:pt x="124" y="40"/>
                    </a:lnTo>
                    <a:lnTo>
                      <a:pt x="126" y="46"/>
                    </a:lnTo>
                    <a:lnTo>
                      <a:pt x="128" y="52"/>
                    </a:lnTo>
                    <a:lnTo>
                      <a:pt x="129" y="58"/>
                    </a:lnTo>
                    <a:lnTo>
                      <a:pt x="129" y="65"/>
                    </a:lnTo>
                    <a:lnTo>
                      <a:pt x="129" y="72"/>
                    </a:lnTo>
                    <a:lnTo>
                      <a:pt x="128" y="79"/>
                    </a:lnTo>
                    <a:lnTo>
                      <a:pt x="126" y="84"/>
                    </a:lnTo>
                    <a:lnTo>
                      <a:pt x="124" y="90"/>
                    </a:lnTo>
                    <a:lnTo>
                      <a:pt x="121" y="96"/>
                    </a:lnTo>
                    <a:lnTo>
                      <a:pt x="118" y="101"/>
                    </a:lnTo>
                    <a:lnTo>
                      <a:pt x="114" y="106"/>
                    </a:lnTo>
                    <a:lnTo>
                      <a:pt x="110" y="111"/>
                    </a:lnTo>
                    <a:lnTo>
                      <a:pt x="105" y="115"/>
                    </a:lnTo>
                    <a:lnTo>
                      <a:pt x="101" y="118"/>
                    </a:lnTo>
                    <a:lnTo>
                      <a:pt x="95" y="122"/>
                    </a:lnTo>
                    <a:lnTo>
                      <a:pt x="90" y="125"/>
                    </a:lnTo>
                    <a:lnTo>
                      <a:pt x="84" y="127"/>
                    </a:lnTo>
                    <a:lnTo>
                      <a:pt x="77" y="128"/>
                    </a:lnTo>
                    <a:lnTo>
                      <a:pt x="71" y="130"/>
                    </a:lnTo>
                    <a:lnTo>
                      <a:pt x="65" y="130"/>
                    </a:lnTo>
                    <a:lnTo>
                      <a:pt x="58" y="130"/>
                    </a:lnTo>
                    <a:lnTo>
                      <a:pt x="51" y="128"/>
                    </a:lnTo>
                    <a:lnTo>
                      <a:pt x="45" y="127"/>
                    </a:lnTo>
                    <a:lnTo>
                      <a:pt x="40" y="125"/>
                    </a:lnTo>
                    <a:lnTo>
                      <a:pt x="34" y="122"/>
                    </a:lnTo>
                    <a:lnTo>
                      <a:pt x="28" y="118"/>
                    </a:lnTo>
                    <a:lnTo>
                      <a:pt x="24" y="115"/>
                    </a:lnTo>
                    <a:lnTo>
                      <a:pt x="19" y="111"/>
                    </a:lnTo>
                    <a:lnTo>
                      <a:pt x="15" y="106"/>
                    </a:lnTo>
                    <a:lnTo>
                      <a:pt x="11" y="101"/>
                    </a:lnTo>
                    <a:lnTo>
                      <a:pt x="8" y="96"/>
                    </a:lnTo>
                    <a:lnTo>
                      <a:pt x="5" y="90"/>
                    </a:lnTo>
                    <a:lnTo>
                      <a:pt x="2" y="84"/>
                    </a:lnTo>
                    <a:lnTo>
                      <a:pt x="1" y="79"/>
                    </a:lnTo>
                    <a:lnTo>
                      <a:pt x="0" y="72"/>
                    </a:lnTo>
                    <a:lnTo>
                      <a:pt x="0" y="65"/>
                    </a:lnTo>
                    <a:lnTo>
                      <a:pt x="0" y="58"/>
                    </a:lnTo>
                    <a:lnTo>
                      <a:pt x="1" y="52"/>
                    </a:lnTo>
                    <a:lnTo>
                      <a:pt x="2" y="46"/>
                    </a:lnTo>
                    <a:lnTo>
                      <a:pt x="5" y="40"/>
                    </a:lnTo>
                    <a:lnTo>
                      <a:pt x="8" y="34"/>
                    </a:lnTo>
                    <a:lnTo>
                      <a:pt x="11" y="29"/>
                    </a:lnTo>
                    <a:lnTo>
                      <a:pt x="15" y="24"/>
                    </a:lnTo>
                    <a:lnTo>
                      <a:pt x="19" y="20"/>
                    </a:lnTo>
                    <a:lnTo>
                      <a:pt x="24" y="15"/>
                    </a:lnTo>
                    <a:lnTo>
                      <a:pt x="28" y="12"/>
                    </a:lnTo>
                    <a:lnTo>
                      <a:pt x="34" y="8"/>
                    </a:lnTo>
                    <a:lnTo>
                      <a:pt x="40"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5" name=""/>
              <p:cNvSpPr/>
              <p:nvPr/>
            </p:nvSpPr>
            <p:spPr>
              <a:xfrm>
                <a:off x="785880" y="435600"/>
                <a:ext cx="213840" cy="246960"/>
              </a:xfrm>
              <a:custGeom>
                <a:avLst/>
                <a:gdLst/>
                <a:ahLst/>
                <a:rect l="l" t="t" r="r" b="b"/>
                <a:pathLst>
                  <a:path w="337" h="390">
                    <a:moveTo>
                      <a:pt x="169" y="0"/>
                    </a:moveTo>
                    <a:lnTo>
                      <a:pt x="178" y="0"/>
                    </a:lnTo>
                    <a:lnTo>
                      <a:pt x="186" y="1"/>
                    </a:lnTo>
                    <a:lnTo>
                      <a:pt x="195" y="3"/>
                    </a:lnTo>
                    <a:lnTo>
                      <a:pt x="203" y="7"/>
                    </a:lnTo>
                    <a:lnTo>
                      <a:pt x="211" y="10"/>
                    </a:lnTo>
                    <a:lnTo>
                      <a:pt x="218" y="15"/>
                    </a:lnTo>
                    <a:lnTo>
                      <a:pt x="226" y="20"/>
                    </a:lnTo>
                    <a:lnTo>
                      <a:pt x="234" y="26"/>
                    </a:lnTo>
                    <a:lnTo>
                      <a:pt x="241" y="33"/>
                    </a:lnTo>
                    <a:lnTo>
                      <a:pt x="249" y="39"/>
                    </a:lnTo>
                    <a:lnTo>
                      <a:pt x="256" y="47"/>
                    </a:lnTo>
                    <a:lnTo>
                      <a:pt x="263" y="56"/>
                    </a:lnTo>
                    <a:lnTo>
                      <a:pt x="276" y="76"/>
                    </a:lnTo>
                    <a:lnTo>
                      <a:pt x="288" y="97"/>
                    </a:lnTo>
                    <a:lnTo>
                      <a:pt x="299" y="121"/>
                    </a:lnTo>
                    <a:lnTo>
                      <a:pt x="309" y="147"/>
                    </a:lnTo>
                    <a:lnTo>
                      <a:pt x="317" y="174"/>
                    </a:lnTo>
                    <a:lnTo>
                      <a:pt x="324" y="204"/>
                    </a:lnTo>
                    <a:lnTo>
                      <a:pt x="329" y="234"/>
                    </a:lnTo>
                    <a:lnTo>
                      <a:pt x="334" y="266"/>
                    </a:lnTo>
                    <a:lnTo>
                      <a:pt x="336" y="300"/>
                    </a:lnTo>
                    <a:lnTo>
                      <a:pt x="337" y="334"/>
                    </a:lnTo>
                    <a:lnTo>
                      <a:pt x="337" y="348"/>
                    </a:lnTo>
                    <a:lnTo>
                      <a:pt x="337" y="361"/>
                    </a:lnTo>
                    <a:lnTo>
                      <a:pt x="336" y="376"/>
                    </a:lnTo>
                    <a:lnTo>
                      <a:pt x="335" y="390"/>
                    </a:lnTo>
                    <a:lnTo>
                      <a:pt x="332" y="360"/>
                    </a:lnTo>
                    <a:lnTo>
                      <a:pt x="327" y="332"/>
                    </a:lnTo>
                    <a:lnTo>
                      <a:pt x="322" y="305"/>
                    </a:lnTo>
                    <a:lnTo>
                      <a:pt x="315" y="279"/>
                    </a:lnTo>
                    <a:lnTo>
                      <a:pt x="308" y="255"/>
                    </a:lnTo>
                    <a:lnTo>
                      <a:pt x="299" y="231"/>
                    </a:lnTo>
                    <a:lnTo>
                      <a:pt x="289" y="210"/>
                    </a:lnTo>
                    <a:lnTo>
                      <a:pt x="278" y="190"/>
                    </a:lnTo>
                    <a:lnTo>
                      <a:pt x="267" y="172"/>
                    </a:lnTo>
                    <a:lnTo>
                      <a:pt x="255" y="156"/>
                    </a:lnTo>
                    <a:lnTo>
                      <a:pt x="241" y="143"/>
                    </a:lnTo>
                    <a:lnTo>
                      <a:pt x="228" y="131"/>
                    </a:lnTo>
                    <a:lnTo>
                      <a:pt x="221" y="127"/>
                    </a:lnTo>
                    <a:lnTo>
                      <a:pt x="214" y="122"/>
                    </a:lnTo>
                    <a:lnTo>
                      <a:pt x="206" y="119"/>
                    </a:lnTo>
                    <a:lnTo>
                      <a:pt x="199" y="115"/>
                    </a:lnTo>
                    <a:lnTo>
                      <a:pt x="191" y="113"/>
                    </a:lnTo>
                    <a:lnTo>
                      <a:pt x="185" y="111"/>
                    </a:lnTo>
                    <a:lnTo>
                      <a:pt x="177" y="110"/>
                    </a:lnTo>
                    <a:lnTo>
                      <a:pt x="169" y="110"/>
                    </a:lnTo>
                    <a:lnTo>
                      <a:pt x="161" y="110"/>
                    </a:lnTo>
                    <a:lnTo>
                      <a:pt x="153" y="111"/>
                    </a:lnTo>
                    <a:lnTo>
                      <a:pt x="145" y="113"/>
                    </a:lnTo>
                    <a:lnTo>
                      <a:pt x="138" y="115"/>
                    </a:lnTo>
                    <a:lnTo>
                      <a:pt x="130" y="119"/>
                    </a:lnTo>
                    <a:lnTo>
                      <a:pt x="123" y="122"/>
                    </a:lnTo>
                    <a:lnTo>
                      <a:pt x="117" y="127"/>
                    </a:lnTo>
                    <a:lnTo>
                      <a:pt x="109" y="131"/>
                    </a:lnTo>
                    <a:lnTo>
                      <a:pt x="95" y="143"/>
                    </a:lnTo>
                    <a:lnTo>
                      <a:pt x="83" y="156"/>
                    </a:lnTo>
                    <a:lnTo>
                      <a:pt x="70" y="172"/>
                    </a:lnTo>
                    <a:lnTo>
                      <a:pt x="59" y="190"/>
                    </a:lnTo>
                    <a:lnTo>
                      <a:pt x="49" y="210"/>
                    </a:lnTo>
                    <a:lnTo>
                      <a:pt x="38" y="231"/>
                    </a:lnTo>
                    <a:lnTo>
                      <a:pt x="29" y="255"/>
                    </a:lnTo>
                    <a:lnTo>
                      <a:pt x="22" y="279"/>
                    </a:lnTo>
                    <a:lnTo>
                      <a:pt x="15" y="305"/>
                    </a:lnTo>
                    <a:lnTo>
                      <a:pt x="9" y="332"/>
                    </a:lnTo>
                    <a:lnTo>
                      <a:pt x="5" y="360"/>
                    </a:lnTo>
                    <a:lnTo>
                      <a:pt x="2" y="390"/>
                    </a:lnTo>
                    <a:lnTo>
                      <a:pt x="1" y="376"/>
                    </a:lnTo>
                    <a:lnTo>
                      <a:pt x="0" y="361"/>
                    </a:lnTo>
                    <a:lnTo>
                      <a:pt x="0" y="348"/>
                    </a:lnTo>
                    <a:lnTo>
                      <a:pt x="0" y="334"/>
                    </a:lnTo>
                    <a:lnTo>
                      <a:pt x="0" y="300"/>
                    </a:lnTo>
                    <a:lnTo>
                      <a:pt x="3" y="266"/>
                    </a:lnTo>
                    <a:lnTo>
                      <a:pt x="7" y="234"/>
                    </a:lnTo>
                    <a:lnTo>
                      <a:pt x="12" y="204"/>
                    </a:lnTo>
                    <a:lnTo>
                      <a:pt x="20" y="174"/>
                    </a:lnTo>
                    <a:lnTo>
                      <a:pt x="28" y="147"/>
                    </a:lnTo>
                    <a:lnTo>
                      <a:pt x="38" y="121"/>
                    </a:lnTo>
                    <a:lnTo>
                      <a:pt x="49" y="97"/>
                    </a:lnTo>
                    <a:lnTo>
                      <a:pt x="61" y="76"/>
                    </a:lnTo>
                    <a:lnTo>
                      <a:pt x="74" y="56"/>
                    </a:lnTo>
                    <a:lnTo>
                      <a:pt x="82" y="47"/>
                    </a:lnTo>
                    <a:lnTo>
                      <a:pt x="88" y="39"/>
                    </a:lnTo>
                    <a:lnTo>
                      <a:pt x="95" y="33"/>
                    </a:lnTo>
                    <a:lnTo>
                      <a:pt x="103" y="26"/>
                    </a:lnTo>
                    <a:lnTo>
                      <a:pt x="111" y="20"/>
                    </a:lnTo>
                    <a:lnTo>
                      <a:pt x="119" y="15"/>
                    </a:lnTo>
                    <a:lnTo>
                      <a:pt x="127" y="10"/>
                    </a:lnTo>
                    <a:lnTo>
                      <a:pt x="135" y="7"/>
                    </a:lnTo>
                    <a:lnTo>
                      <a:pt x="143" y="3"/>
                    </a:lnTo>
                    <a:lnTo>
                      <a:pt x="152" y="1"/>
                    </a:lnTo>
                    <a:lnTo>
                      <a:pt x="160" y="0"/>
                    </a:lnTo>
                    <a:lnTo>
                      <a:pt x="169"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187640" y="435600"/>
                <a:ext cx="214560" cy="246960"/>
              </a:xfrm>
              <a:custGeom>
                <a:avLst/>
                <a:gdLst/>
                <a:ahLst/>
                <a:rect l="l" t="t" r="r" b="b"/>
                <a:pathLst>
                  <a:path w="338" h="390">
                    <a:moveTo>
                      <a:pt x="170" y="0"/>
                    </a:moveTo>
                    <a:lnTo>
                      <a:pt x="178" y="0"/>
                    </a:lnTo>
                    <a:lnTo>
                      <a:pt x="187" y="1"/>
                    </a:lnTo>
                    <a:lnTo>
                      <a:pt x="195" y="3"/>
                    </a:lnTo>
                    <a:lnTo>
                      <a:pt x="204" y="7"/>
                    </a:lnTo>
                    <a:lnTo>
                      <a:pt x="212" y="10"/>
                    </a:lnTo>
                    <a:lnTo>
                      <a:pt x="219" y="15"/>
                    </a:lnTo>
                    <a:lnTo>
                      <a:pt x="227" y="20"/>
                    </a:lnTo>
                    <a:lnTo>
                      <a:pt x="235" y="26"/>
                    </a:lnTo>
                    <a:lnTo>
                      <a:pt x="242" y="33"/>
                    </a:lnTo>
                    <a:lnTo>
                      <a:pt x="250" y="39"/>
                    </a:lnTo>
                    <a:lnTo>
                      <a:pt x="257" y="47"/>
                    </a:lnTo>
                    <a:lnTo>
                      <a:pt x="264" y="56"/>
                    </a:lnTo>
                    <a:lnTo>
                      <a:pt x="277" y="76"/>
                    </a:lnTo>
                    <a:lnTo>
                      <a:pt x="289" y="97"/>
                    </a:lnTo>
                    <a:lnTo>
                      <a:pt x="300" y="121"/>
                    </a:lnTo>
                    <a:lnTo>
                      <a:pt x="309" y="147"/>
                    </a:lnTo>
                    <a:lnTo>
                      <a:pt x="318" y="174"/>
                    </a:lnTo>
                    <a:lnTo>
                      <a:pt x="325" y="204"/>
                    </a:lnTo>
                    <a:lnTo>
                      <a:pt x="330" y="234"/>
                    </a:lnTo>
                    <a:lnTo>
                      <a:pt x="335" y="266"/>
                    </a:lnTo>
                    <a:lnTo>
                      <a:pt x="337" y="300"/>
                    </a:lnTo>
                    <a:lnTo>
                      <a:pt x="338" y="334"/>
                    </a:lnTo>
                    <a:lnTo>
                      <a:pt x="338" y="348"/>
                    </a:lnTo>
                    <a:lnTo>
                      <a:pt x="337" y="361"/>
                    </a:lnTo>
                    <a:lnTo>
                      <a:pt x="337" y="376"/>
                    </a:lnTo>
                    <a:lnTo>
                      <a:pt x="336" y="390"/>
                    </a:lnTo>
                    <a:lnTo>
                      <a:pt x="333" y="360"/>
                    </a:lnTo>
                    <a:lnTo>
                      <a:pt x="328" y="332"/>
                    </a:lnTo>
                    <a:lnTo>
                      <a:pt x="322" y="305"/>
                    </a:lnTo>
                    <a:lnTo>
                      <a:pt x="316" y="279"/>
                    </a:lnTo>
                    <a:lnTo>
                      <a:pt x="308" y="255"/>
                    </a:lnTo>
                    <a:lnTo>
                      <a:pt x="300" y="231"/>
                    </a:lnTo>
                    <a:lnTo>
                      <a:pt x="290" y="210"/>
                    </a:lnTo>
                    <a:lnTo>
                      <a:pt x="279" y="190"/>
                    </a:lnTo>
                    <a:lnTo>
                      <a:pt x="267" y="172"/>
                    </a:lnTo>
                    <a:lnTo>
                      <a:pt x="256" y="156"/>
                    </a:lnTo>
                    <a:lnTo>
                      <a:pt x="242" y="143"/>
                    </a:lnTo>
                    <a:lnTo>
                      <a:pt x="229" y="131"/>
                    </a:lnTo>
                    <a:lnTo>
                      <a:pt x="222" y="127"/>
                    </a:lnTo>
                    <a:lnTo>
                      <a:pt x="215" y="122"/>
                    </a:lnTo>
                    <a:lnTo>
                      <a:pt x="207" y="119"/>
                    </a:lnTo>
                    <a:lnTo>
                      <a:pt x="200" y="115"/>
                    </a:lnTo>
                    <a:lnTo>
                      <a:pt x="192" y="113"/>
                    </a:lnTo>
                    <a:lnTo>
                      <a:pt x="184" y="111"/>
                    </a:lnTo>
                    <a:lnTo>
                      <a:pt x="178" y="110"/>
                    </a:lnTo>
                    <a:lnTo>
                      <a:pt x="170" y="110"/>
                    </a:lnTo>
                    <a:lnTo>
                      <a:pt x="162" y="110"/>
                    </a:lnTo>
                    <a:lnTo>
                      <a:pt x="154" y="111"/>
                    </a:lnTo>
                    <a:lnTo>
                      <a:pt x="146" y="113"/>
                    </a:lnTo>
                    <a:lnTo>
                      <a:pt x="139" y="115"/>
                    </a:lnTo>
                    <a:lnTo>
                      <a:pt x="131" y="119"/>
                    </a:lnTo>
                    <a:lnTo>
                      <a:pt x="124" y="122"/>
                    </a:lnTo>
                    <a:lnTo>
                      <a:pt x="116" y="127"/>
                    </a:lnTo>
                    <a:lnTo>
                      <a:pt x="110" y="131"/>
                    </a:lnTo>
                    <a:lnTo>
                      <a:pt x="96" y="143"/>
                    </a:lnTo>
                    <a:lnTo>
                      <a:pt x="84" y="156"/>
                    </a:lnTo>
                    <a:lnTo>
                      <a:pt x="71" y="172"/>
                    </a:lnTo>
                    <a:lnTo>
                      <a:pt x="60" y="190"/>
                    </a:lnTo>
                    <a:lnTo>
                      <a:pt x="49" y="210"/>
                    </a:lnTo>
                    <a:lnTo>
                      <a:pt x="39" y="231"/>
                    </a:lnTo>
                    <a:lnTo>
                      <a:pt x="30" y="255"/>
                    </a:lnTo>
                    <a:lnTo>
                      <a:pt x="22" y="279"/>
                    </a:lnTo>
                    <a:lnTo>
                      <a:pt x="16" y="305"/>
                    </a:lnTo>
                    <a:lnTo>
                      <a:pt x="10" y="332"/>
                    </a:lnTo>
                    <a:lnTo>
                      <a:pt x="5" y="360"/>
                    </a:lnTo>
                    <a:lnTo>
                      <a:pt x="2" y="390"/>
                    </a:lnTo>
                    <a:lnTo>
                      <a:pt x="2" y="376"/>
                    </a:lnTo>
                    <a:lnTo>
                      <a:pt x="1" y="361"/>
                    </a:lnTo>
                    <a:lnTo>
                      <a:pt x="1" y="348"/>
                    </a:lnTo>
                    <a:lnTo>
                      <a:pt x="0" y="334"/>
                    </a:lnTo>
                    <a:lnTo>
                      <a:pt x="1" y="300"/>
                    </a:lnTo>
                    <a:lnTo>
                      <a:pt x="3" y="266"/>
                    </a:lnTo>
                    <a:lnTo>
                      <a:pt x="8" y="234"/>
                    </a:lnTo>
                    <a:lnTo>
                      <a:pt x="13" y="204"/>
                    </a:lnTo>
                    <a:lnTo>
                      <a:pt x="20" y="174"/>
                    </a:lnTo>
                    <a:lnTo>
                      <a:pt x="29" y="147"/>
                    </a:lnTo>
                    <a:lnTo>
                      <a:pt x="39" y="121"/>
                    </a:lnTo>
                    <a:lnTo>
                      <a:pt x="50" y="97"/>
                    </a:lnTo>
                    <a:lnTo>
                      <a:pt x="62" y="76"/>
                    </a:lnTo>
                    <a:lnTo>
                      <a:pt x="75" y="56"/>
                    </a:lnTo>
                    <a:lnTo>
                      <a:pt x="81" y="47"/>
                    </a:lnTo>
                    <a:lnTo>
                      <a:pt x="89" y="39"/>
                    </a:lnTo>
                    <a:lnTo>
                      <a:pt x="96" y="33"/>
                    </a:lnTo>
                    <a:lnTo>
                      <a:pt x="104" y="26"/>
                    </a:lnTo>
                    <a:lnTo>
                      <a:pt x="111" y="20"/>
                    </a:lnTo>
                    <a:lnTo>
                      <a:pt x="119" y="15"/>
                    </a:lnTo>
                    <a:lnTo>
                      <a:pt x="127" y="10"/>
                    </a:lnTo>
                    <a:lnTo>
                      <a:pt x="136" y="7"/>
                    </a:lnTo>
                    <a:lnTo>
                      <a:pt x="144" y="3"/>
                    </a:lnTo>
                    <a:lnTo>
                      <a:pt x="152" y="1"/>
                    </a:lnTo>
                    <a:lnTo>
                      <a:pt x="161" y="0"/>
                    </a:lnTo>
                    <a:lnTo>
                      <a:pt x="170"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254240" y="561600"/>
                <a:ext cx="81720" cy="82080"/>
              </a:xfrm>
              <a:custGeom>
                <a:avLst/>
                <a:gdLst/>
                <a:ahLst/>
                <a:rect l="l" t="t" r="r" b="b"/>
                <a:pathLst>
                  <a:path w="129" h="130">
                    <a:moveTo>
                      <a:pt x="65" y="0"/>
                    </a:moveTo>
                    <a:lnTo>
                      <a:pt x="70" y="1"/>
                    </a:lnTo>
                    <a:lnTo>
                      <a:pt x="77" y="1"/>
                    </a:lnTo>
                    <a:lnTo>
                      <a:pt x="84" y="4"/>
                    </a:lnTo>
                    <a:lnTo>
                      <a:pt x="90" y="6"/>
                    </a:lnTo>
                    <a:lnTo>
                      <a:pt x="95" y="8"/>
                    </a:lnTo>
                    <a:lnTo>
                      <a:pt x="100" y="12"/>
                    </a:lnTo>
                    <a:lnTo>
                      <a:pt x="105" y="15"/>
                    </a:lnTo>
                    <a:lnTo>
                      <a:pt x="110" y="20"/>
                    </a:lnTo>
                    <a:lnTo>
                      <a:pt x="114" y="24"/>
                    </a:lnTo>
                    <a:lnTo>
                      <a:pt x="118" y="29"/>
                    </a:lnTo>
                    <a:lnTo>
                      <a:pt x="121" y="34"/>
                    </a:lnTo>
                    <a:lnTo>
                      <a:pt x="124" y="40"/>
                    </a:lnTo>
                    <a:lnTo>
                      <a:pt x="126" y="46"/>
                    </a:lnTo>
                    <a:lnTo>
                      <a:pt x="128" y="52"/>
                    </a:lnTo>
                    <a:lnTo>
                      <a:pt x="128" y="58"/>
                    </a:lnTo>
                    <a:lnTo>
                      <a:pt x="129" y="65"/>
                    </a:lnTo>
                    <a:lnTo>
                      <a:pt x="128" y="72"/>
                    </a:lnTo>
                    <a:lnTo>
                      <a:pt x="128" y="79"/>
                    </a:lnTo>
                    <a:lnTo>
                      <a:pt x="126" y="84"/>
                    </a:lnTo>
                    <a:lnTo>
                      <a:pt x="124" y="90"/>
                    </a:lnTo>
                    <a:lnTo>
                      <a:pt x="121" y="96"/>
                    </a:lnTo>
                    <a:lnTo>
                      <a:pt x="118" y="101"/>
                    </a:lnTo>
                    <a:lnTo>
                      <a:pt x="114" y="106"/>
                    </a:lnTo>
                    <a:lnTo>
                      <a:pt x="110" y="111"/>
                    </a:lnTo>
                    <a:lnTo>
                      <a:pt x="105" y="115"/>
                    </a:lnTo>
                    <a:lnTo>
                      <a:pt x="100" y="118"/>
                    </a:lnTo>
                    <a:lnTo>
                      <a:pt x="95" y="122"/>
                    </a:lnTo>
                    <a:lnTo>
                      <a:pt x="90" y="125"/>
                    </a:lnTo>
                    <a:lnTo>
                      <a:pt x="84" y="127"/>
                    </a:lnTo>
                    <a:lnTo>
                      <a:pt x="77" y="128"/>
                    </a:lnTo>
                    <a:lnTo>
                      <a:pt x="70" y="130"/>
                    </a:lnTo>
                    <a:lnTo>
                      <a:pt x="65" y="130"/>
                    </a:lnTo>
                    <a:lnTo>
                      <a:pt x="58" y="130"/>
                    </a:lnTo>
                    <a:lnTo>
                      <a:pt x="51" y="128"/>
                    </a:lnTo>
                    <a:lnTo>
                      <a:pt x="45" y="127"/>
                    </a:lnTo>
                    <a:lnTo>
                      <a:pt x="39" y="125"/>
                    </a:lnTo>
                    <a:lnTo>
                      <a:pt x="34" y="122"/>
                    </a:lnTo>
                    <a:lnTo>
                      <a:pt x="28" y="118"/>
                    </a:lnTo>
                    <a:lnTo>
                      <a:pt x="23" y="115"/>
                    </a:lnTo>
                    <a:lnTo>
                      <a:pt x="18" y="111"/>
                    </a:lnTo>
                    <a:lnTo>
                      <a:pt x="15" y="106"/>
                    </a:lnTo>
                    <a:lnTo>
                      <a:pt x="10" y="101"/>
                    </a:lnTo>
                    <a:lnTo>
                      <a:pt x="8" y="96"/>
                    </a:lnTo>
                    <a:lnTo>
                      <a:pt x="5" y="90"/>
                    </a:lnTo>
                    <a:lnTo>
                      <a:pt x="2" y="84"/>
                    </a:lnTo>
                    <a:lnTo>
                      <a:pt x="1" y="79"/>
                    </a:lnTo>
                    <a:lnTo>
                      <a:pt x="0" y="72"/>
                    </a:lnTo>
                    <a:lnTo>
                      <a:pt x="0" y="65"/>
                    </a:lnTo>
                    <a:lnTo>
                      <a:pt x="0" y="58"/>
                    </a:lnTo>
                    <a:lnTo>
                      <a:pt x="1" y="52"/>
                    </a:lnTo>
                    <a:lnTo>
                      <a:pt x="2" y="46"/>
                    </a:lnTo>
                    <a:lnTo>
                      <a:pt x="5" y="40"/>
                    </a:lnTo>
                    <a:lnTo>
                      <a:pt x="8" y="34"/>
                    </a:lnTo>
                    <a:lnTo>
                      <a:pt x="10" y="29"/>
                    </a:lnTo>
                    <a:lnTo>
                      <a:pt x="15" y="24"/>
                    </a:lnTo>
                    <a:lnTo>
                      <a:pt x="18" y="20"/>
                    </a:lnTo>
                    <a:lnTo>
                      <a:pt x="23" y="15"/>
                    </a:lnTo>
                    <a:lnTo>
                      <a:pt x="28" y="12"/>
                    </a:lnTo>
                    <a:lnTo>
                      <a:pt x="34" y="8"/>
                    </a:lnTo>
                    <a:lnTo>
                      <a:pt x="39"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8" name=""/>
              <p:cNvSpPr/>
              <p:nvPr/>
            </p:nvSpPr>
            <p:spPr>
              <a:xfrm>
                <a:off x="1053000" y="561600"/>
                <a:ext cx="81720" cy="82080"/>
              </a:xfrm>
              <a:custGeom>
                <a:avLst/>
                <a:gdLst/>
                <a:ahLst/>
                <a:rect l="l" t="t" r="r" b="b"/>
                <a:pathLst>
                  <a:path w="129" h="130">
                    <a:moveTo>
                      <a:pt x="65" y="0"/>
                    </a:moveTo>
                    <a:lnTo>
                      <a:pt x="71" y="1"/>
                    </a:lnTo>
                    <a:lnTo>
                      <a:pt x="77" y="1"/>
                    </a:lnTo>
                    <a:lnTo>
                      <a:pt x="84" y="4"/>
                    </a:lnTo>
                    <a:lnTo>
                      <a:pt x="90" y="6"/>
                    </a:lnTo>
                    <a:lnTo>
                      <a:pt x="95" y="8"/>
                    </a:lnTo>
                    <a:lnTo>
                      <a:pt x="101" y="12"/>
                    </a:lnTo>
                    <a:lnTo>
                      <a:pt x="105" y="15"/>
                    </a:lnTo>
                    <a:lnTo>
                      <a:pt x="110" y="20"/>
                    </a:lnTo>
                    <a:lnTo>
                      <a:pt x="114" y="24"/>
                    </a:lnTo>
                    <a:lnTo>
                      <a:pt x="118" y="29"/>
                    </a:lnTo>
                    <a:lnTo>
                      <a:pt x="121" y="34"/>
                    </a:lnTo>
                    <a:lnTo>
                      <a:pt x="124" y="40"/>
                    </a:lnTo>
                    <a:lnTo>
                      <a:pt x="126" y="46"/>
                    </a:lnTo>
                    <a:lnTo>
                      <a:pt x="128" y="52"/>
                    </a:lnTo>
                    <a:lnTo>
                      <a:pt x="128" y="58"/>
                    </a:lnTo>
                    <a:lnTo>
                      <a:pt x="129" y="65"/>
                    </a:lnTo>
                    <a:lnTo>
                      <a:pt x="128" y="72"/>
                    </a:lnTo>
                    <a:lnTo>
                      <a:pt x="128" y="79"/>
                    </a:lnTo>
                    <a:lnTo>
                      <a:pt x="126" y="84"/>
                    </a:lnTo>
                    <a:lnTo>
                      <a:pt x="124" y="90"/>
                    </a:lnTo>
                    <a:lnTo>
                      <a:pt x="121" y="96"/>
                    </a:lnTo>
                    <a:lnTo>
                      <a:pt x="118" y="101"/>
                    </a:lnTo>
                    <a:lnTo>
                      <a:pt x="114" y="106"/>
                    </a:lnTo>
                    <a:lnTo>
                      <a:pt x="110" y="111"/>
                    </a:lnTo>
                    <a:lnTo>
                      <a:pt x="105" y="115"/>
                    </a:lnTo>
                    <a:lnTo>
                      <a:pt x="101" y="118"/>
                    </a:lnTo>
                    <a:lnTo>
                      <a:pt x="95" y="122"/>
                    </a:lnTo>
                    <a:lnTo>
                      <a:pt x="90" y="125"/>
                    </a:lnTo>
                    <a:lnTo>
                      <a:pt x="84" y="127"/>
                    </a:lnTo>
                    <a:lnTo>
                      <a:pt x="77" y="128"/>
                    </a:lnTo>
                    <a:lnTo>
                      <a:pt x="71" y="130"/>
                    </a:lnTo>
                    <a:lnTo>
                      <a:pt x="65" y="130"/>
                    </a:lnTo>
                    <a:lnTo>
                      <a:pt x="58" y="130"/>
                    </a:lnTo>
                    <a:lnTo>
                      <a:pt x="51" y="128"/>
                    </a:lnTo>
                    <a:lnTo>
                      <a:pt x="45" y="127"/>
                    </a:lnTo>
                    <a:lnTo>
                      <a:pt x="40" y="125"/>
                    </a:lnTo>
                    <a:lnTo>
                      <a:pt x="34" y="122"/>
                    </a:lnTo>
                    <a:lnTo>
                      <a:pt x="28" y="118"/>
                    </a:lnTo>
                    <a:lnTo>
                      <a:pt x="23" y="115"/>
                    </a:lnTo>
                    <a:lnTo>
                      <a:pt x="18" y="111"/>
                    </a:lnTo>
                    <a:lnTo>
                      <a:pt x="15" y="106"/>
                    </a:lnTo>
                    <a:lnTo>
                      <a:pt x="10" y="101"/>
                    </a:lnTo>
                    <a:lnTo>
                      <a:pt x="8" y="96"/>
                    </a:lnTo>
                    <a:lnTo>
                      <a:pt x="5" y="90"/>
                    </a:lnTo>
                    <a:lnTo>
                      <a:pt x="2" y="84"/>
                    </a:lnTo>
                    <a:lnTo>
                      <a:pt x="1" y="79"/>
                    </a:lnTo>
                    <a:lnTo>
                      <a:pt x="0" y="72"/>
                    </a:lnTo>
                    <a:lnTo>
                      <a:pt x="0" y="65"/>
                    </a:lnTo>
                    <a:lnTo>
                      <a:pt x="0" y="58"/>
                    </a:lnTo>
                    <a:lnTo>
                      <a:pt x="1" y="52"/>
                    </a:lnTo>
                    <a:lnTo>
                      <a:pt x="2" y="46"/>
                    </a:lnTo>
                    <a:lnTo>
                      <a:pt x="5" y="40"/>
                    </a:lnTo>
                    <a:lnTo>
                      <a:pt x="8" y="34"/>
                    </a:lnTo>
                    <a:lnTo>
                      <a:pt x="10" y="29"/>
                    </a:lnTo>
                    <a:lnTo>
                      <a:pt x="15" y="24"/>
                    </a:lnTo>
                    <a:lnTo>
                      <a:pt x="18" y="20"/>
                    </a:lnTo>
                    <a:lnTo>
                      <a:pt x="23" y="15"/>
                    </a:lnTo>
                    <a:lnTo>
                      <a:pt x="28" y="12"/>
                    </a:lnTo>
                    <a:lnTo>
                      <a:pt x="34" y="8"/>
                    </a:lnTo>
                    <a:lnTo>
                      <a:pt x="40"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9" name=""/>
              <p:cNvSpPr/>
              <p:nvPr/>
            </p:nvSpPr>
            <p:spPr>
              <a:xfrm>
                <a:off x="401040" y="434160"/>
                <a:ext cx="360360" cy="247320"/>
              </a:xfrm>
              <a:custGeom>
                <a:avLst/>
                <a:gdLst/>
                <a:ahLst/>
                <a:rect l="l" t="t" r="r" b="b"/>
                <a:pathLst>
                  <a:path w="568" h="390">
                    <a:moveTo>
                      <a:pt x="420" y="0"/>
                    </a:moveTo>
                    <a:lnTo>
                      <a:pt x="428" y="0"/>
                    </a:lnTo>
                    <a:lnTo>
                      <a:pt x="436" y="2"/>
                    </a:lnTo>
                    <a:lnTo>
                      <a:pt x="443" y="3"/>
                    </a:lnTo>
                    <a:lnTo>
                      <a:pt x="450" y="6"/>
                    </a:lnTo>
                    <a:lnTo>
                      <a:pt x="458" y="10"/>
                    </a:lnTo>
                    <a:lnTo>
                      <a:pt x="464" y="14"/>
                    </a:lnTo>
                    <a:lnTo>
                      <a:pt x="471" y="20"/>
                    </a:lnTo>
                    <a:lnTo>
                      <a:pt x="478" y="26"/>
                    </a:lnTo>
                    <a:lnTo>
                      <a:pt x="491" y="40"/>
                    </a:lnTo>
                    <a:lnTo>
                      <a:pt x="503" y="57"/>
                    </a:lnTo>
                    <a:lnTo>
                      <a:pt x="514" y="77"/>
                    </a:lnTo>
                    <a:lnTo>
                      <a:pt x="524" y="98"/>
                    </a:lnTo>
                    <a:lnTo>
                      <a:pt x="534" y="122"/>
                    </a:lnTo>
                    <a:lnTo>
                      <a:pt x="543" y="147"/>
                    </a:lnTo>
                    <a:lnTo>
                      <a:pt x="549" y="175"/>
                    </a:lnTo>
                    <a:lnTo>
                      <a:pt x="556" y="205"/>
                    </a:lnTo>
                    <a:lnTo>
                      <a:pt x="561" y="235"/>
                    </a:lnTo>
                    <a:lnTo>
                      <a:pt x="565" y="267"/>
                    </a:lnTo>
                    <a:lnTo>
                      <a:pt x="566" y="300"/>
                    </a:lnTo>
                    <a:lnTo>
                      <a:pt x="568" y="334"/>
                    </a:lnTo>
                    <a:lnTo>
                      <a:pt x="568" y="349"/>
                    </a:lnTo>
                    <a:lnTo>
                      <a:pt x="568" y="362"/>
                    </a:lnTo>
                    <a:lnTo>
                      <a:pt x="566" y="376"/>
                    </a:lnTo>
                    <a:lnTo>
                      <a:pt x="565" y="390"/>
                    </a:lnTo>
                    <a:lnTo>
                      <a:pt x="563" y="360"/>
                    </a:lnTo>
                    <a:lnTo>
                      <a:pt x="560" y="332"/>
                    </a:lnTo>
                    <a:lnTo>
                      <a:pt x="554" y="305"/>
                    </a:lnTo>
                    <a:lnTo>
                      <a:pt x="548" y="280"/>
                    </a:lnTo>
                    <a:lnTo>
                      <a:pt x="541" y="255"/>
                    </a:lnTo>
                    <a:lnTo>
                      <a:pt x="534" y="232"/>
                    </a:lnTo>
                    <a:lnTo>
                      <a:pt x="526" y="210"/>
                    </a:lnTo>
                    <a:lnTo>
                      <a:pt x="517" y="190"/>
                    </a:lnTo>
                    <a:lnTo>
                      <a:pt x="506" y="173"/>
                    </a:lnTo>
                    <a:lnTo>
                      <a:pt x="495" y="157"/>
                    </a:lnTo>
                    <a:lnTo>
                      <a:pt x="484" y="144"/>
                    </a:lnTo>
                    <a:lnTo>
                      <a:pt x="472" y="131"/>
                    </a:lnTo>
                    <a:lnTo>
                      <a:pt x="467" y="127"/>
                    </a:lnTo>
                    <a:lnTo>
                      <a:pt x="460" y="122"/>
                    </a:lnTo>
                    <a:lnTo>
                      <a:pt x="453" y="119"/>
                    </a:lnTo>
                    <a:lnTo>
                      <a:pt x="448" y="115"/>
                    </a:lnTo>
                    <a:lnTo>
                      <a:pt x="441" y="113"/>
                    </a:lnTo>
                    <a:lnTo>
                      <a:pt x="434" y="112"/>
                    </a:lnTo>
                    <a:lnTo>
                      <a:pt x="427" y="111"/>
                    </a:lnTo>
                    <a:lnTo>
                      <a:pt x="420" y="110"/>
                    </a:lnTo>
                    <a:lnTo>
                      <a:pt x="414" y="111"/>
                    </a:lnTo>
                    <a:lnTo>
                      <a:pt x="406" y="112"/>
                    </a:lnTo>
                    <a:lnTo>
                      <a:pt x="398" y="114"/>
                    </a:lnTo>
                    <a:lnTo>
                      <a:pt x="391" y="117"/>
                    </a:lnTo>
                    <a:lnTo>
                      <a:pt x="384" y="121"/>
                    </a:lnTo>
                    <a:lnTo>
                      <a:pt x="376" y="125"/>
                    </a:lnTo>
                    <a:lnTo>
                      <a:pt x="369" y="131"/>
                    </a:lnTo>
                    <a:lnTo>
                      <a:pt x="363" y="137"/>
                    </a:lnTo>
                    <a:lnTo>
                      <a:pt x="357" y="144"/>
                    </a:lnTo>
                    <a:lnTo>
                      <a:pt x="350" y="151"/>
                    </a:lnTo>
                    <a:lnTo>
                      <a:pt x="343" y="159"/>
                    </a:lnTo>
                    <a:lnTo>
                      <a:pt x="338" y="168"/>
                    </a:lnTo>
                    <a:lnTo>
                      <a:pt x="326" y="188"/>
                    </a:lnTo>
                    <a:lnTo>
                      <a:pt x="316" y="210"/>
                    </a:lnTo>
                    <a:lnTo>
                      <a:pt x="323" y="215"/>
                    </a:lnTo>
                    <a:lnTo>
                      <a:pt x="330" y="221"/>
                    </a:lnTo>
                    <a:lnTo>
                      <a:pt x="335" y="226"/>
                    </a:lnTo>
                    <a:lnTo>
                      <a:pt x="340" y="233"/>
                    </a:lnTo>
                    <a:lnTo>
                      <a:pt x="343" y="241"/>
                    </a:lnTo>
                    <a:lnTo>
                      <a:pt x="347" y="249"/>
                    </a:lnTo>
                    <a:lnTo>
                      <a:pt x="348" y="257"/>
                    </a:lnTo>
                    <a:lnTo>
                      <a:pt x="349" y="266"/>
                    </a:lnTo>
                    <a:lnTo>
                      <a:pt x="348" y="273"/>
                    </a:lnTo>
                    <a:lnTo>
                      <a:pt x="348" y="280"/>
                    </a:lnTo>
                    <a:lnTo>
                      <a:pt x="346" y="285"/>
                    </a:lnTo>
                    <a:lnTo>
                      <a:pt x="343" y="291"/>
                    </a:lnTo>
                    <a:lnTo>
                      <a:pt x="341" y="297"/>
                    </a:lnTo>
                    <a:lnTo>
                      <a:pt x="338" y="302"/>
                    </a:lnTo>
                    <a:lnTo>
                      <a:pt x="334" y="307"/>
                    </a:lnTo>
                    <a:lnTo>
                      <a:pt x="330" y="312"/>
                    </a:lnTo>
                    <a:lnTo>
                      <a:pt x="325" y="316"/>
                    </a:lnTo>
                    <a:lnTo>
                      <a:pt x="321" y="319"/>
                    </a:lnTo>
                    <a:lnTo>
                      <a:pt x="315" y="323"/>
                    </a:lnTo>
                    <a:lnTo>
                      <a:pt x="309" y="326"/>
                    </a:lnTo>
                    <a:lnTo>
                      <a:pt x="304" y="328"/>
                    </a:lnTo>
                    <a:lnTo>
                      <a:pt x="297" y="329"/>
                    </a:lnTo>
                    <a:lnTo>
                      <a:pt x="291" y="331"/>
                    </a:lnTo>
                    <a:lnTo>
                      <a:pt x="284" y="331"/>
                    </a:lnTo>
                    <a:lnTo>
                      <a:pt x="278" y="331"/>
                    </a:lnTo>
                    <a:lnTo>
                      <a:pt x="271" y="329"/>
                    </a:lnTo>
                    <a:lnTo>
                      <a:pt x="265" y="328"/>
                    </a:lnTo>
                    <a:lnTo>
                      <a:pt x="260" y="326"/>
                    </a:lnTo>
                    <a:lnTo>
                      <a:pt x="254" y="323"/>
                    </a:lnTo>
                    <a:lnTo>
                      <a:pt x="248" y="319"/>
                    </a:lnTo>
                    <a:lnTo>
                      <a:pt x="243" y="316"/>
                    </a:lnTo>
                    <a:lnTo>
                      <a:pt x="238" y="312"/>
                    </a:lnTo>
                    <a:lnTo>
                      <a:pt x="235" y="307"/>
                    </a:lnTo>
                    <a:lnTo>
                      <a:pt x="230" y="302"/>
                    </a:lnTo>
                    <a:lnTo>
                      <a:pt x="228" y="297"/>
                    </a:lnTo>
                    <a:lnTo>
                      <a:pt x="224" y="291"/>
                    </a:lnTo>
                    <a:lnTo>
                      <a:pt x="222" y="285"/>
                    </a:lnTo>
                    <a:lnTo>
                      <a:pt x="221" y="280"/>
                    </a:lnTo>
                    <a:lnTo>
                      <a:pt x="220" y="273"/>
                    </a:lnTo>
                    <a:lnTo>
                      <a:pt x="220" y="266"/>
                    </a:lnTo>
                    <a:lnTo>
                      <a:pt x="220" y="257"/>
                    </a:lnTo>
                    <a:lnTo>
                      <a:pt x="222" y="249"/>
                    </a:lnTo>
                    <a:lnTo>
                      <a:pt x="224" y="241"/>
                    </a:lnTo>
                    <a:lnTo>
                      <a:pt x="229" y="233"/>
                    </a:lnTo>
                    <a:lnTo>
                      <a:pt x="234" y="226"/>
                    </a:lnTo>
                    <a:lnTo>
                      <a:pt x="239" y="221"/>
                    </a:lnTo>
                    <a:lnTo>
                      <a:pt x="245" y="215"/>
                    </a:lnTo>
                    <a:lnTo>
                      <a:pt x="253" y="210"/>
                    </a:lnTo>
                    <a:lnTo>
                      <a:pt x="241" y="188"/>
                    </a:lnTo>
                    <a:lnTo>
                      <a:pt x="230" y="168"/>
                    </a:lnTo>
                    <a:lnTo>
                      <a:pt x="224" y="159"/>
                    </a:lnTo>
                    <a:lnTo>
                      <a:pt x="219" y="151"/>
                    </a:lnTo>
                    <a:lnTo>
                      <a:pt x="212" y="144"/>
                    </a:lnTo>
                    <a:lnTo>
                      <a:pt x="205" y="137"/>
                    </a:lnTo>
                    <a:lnTo>
                      <a:pt x="198" y="131"/>
                    </a:lnTo>
                    <a:lnTo>
                      <a:pt x="192" y="125"/>
                    </a:lnTo>
                    <a:lnTo>
                      <a:pt x="185" y="121"/>
                    </a:lnTo>
                    <a:lnTo>
                      <a:pt x="178" y="117"/>
                    </a:lnTo>
                    <a:lnTo>
                      <a:pt x="170" y="114"/>
                    </a:lnTo>
                    <a:lnTo>
                      <a:pt x="163" y="112"/>
                    </a:lnTo>
                    <a:lnTo>
                      <a:pt x="155" y="111"/>
                    </a:lnTo>
                    <a:lnTo>
                      <a:pt x="148" y="110"/>
                    </a:lnTo>
                    <a:lnTo>
                      <a:pt x="141" y="111"/>
                    </a:lnTo>
                    <a:lnTo>
                      <a:pt x="134" y="112"/>
                    </a:lnTo>
                    <a:lnTo>
                      <a:pt x="127" y="113"/>
                    </a:lnTo>
                    <a:lnTo>
                      <a:pt x="121" y="115"/>
                    </a:lnTo>
                    <a:lnTo>
                      <a:pt x="115" y="119"/>
                    </a:lnTo>
                    <a:lnTo>
                      <a:pt x="108" y="122"/>
                    </a:lnTo>
                    <a:lnTo>
                      <a:pt x="102" y="127"/>
                    </a:lnTo>
                    <a:lnTo>
                      <a:pt x="95" y="131"/>
                    </a:lnTo>
                    <a:lnTo>
                      <a:pt x="84" y="144"/>
                    </a:lnTo>
                    <a:lnTo>
                      <a:pt x="73" y="157"/>
                    </a:lnTo>
                    <a:lnTo>
                      <a:pt x="63" y="173"/>
                    </a:lnTo>
                    <a:lnTo>
                      <a:pt x="52" y="190"/>
                    </a:lnTo>
                    <a:lnTo>
                      <a:pt x="43" y="210"/>
                    </a:lnTo>
                    <a:lnTo>
                      <a:pt x="34" y="232"/>
                    </a:lnTo>
                    <a:lnTo>
                      <a:pt x="26" y="255"/>
                    </a:lnTo>
                    <a:lnTo>
                      <a:pt x="20" y="280"/>
                    </a:lnTo>
                    <a:lnTo>
                      <a:pt x="14" y="305"/>
                    </a:lnTo>
                    <a:lnTo>
                      <a:pt x="9" y="332"/>
                    </a:lnTo>
                    <a:lnTo>
                      <a:pt x="6" y="360"/>
                    </a:lnTo>
                    <a:lnTo>
                      <a:pt x="3" y="390"/>
                    </a:lnTo>
                    <a:lnTo>
                      <a:pt x="1" y="376"/>
                    </a:lnTo>
                    <a:lnTo>
                      <a:pt x="1" y="362"/>
                    </a:lnTo>
                    <a:lnTo>
                      <a:pt x="0" y="349"/>
                    </a:lnTo>
                    <a:lnTo>
                      <a:pt x="0" y="334"/>
                    </a:lnTo>
                    <a:lnTo>
                      <a:pt x="1" y="300"/>
                    </a:lnTo>
                    <a:lnTo>
                      <a:pt x="4" y="267"/>
                    </a:lnTo>
                    <a:lnTo>
                      <a:pt x="7" y="235"/>
                    </a:lnTo>
                    <a:lnTo>
                      <a:pt x="13" y="205"/>
                    </a:lnTo>
                    <a:lnTo>
                      <a:pt x="18" y="175"/>
                    </a:lnTo>
                    <a:lnTo>
                      <a:pt x="26" y="147"/>
                    </a:lnTo>
                    <a:lnTo>
                      <a:pt x="34" y="122"/>
                    </a:lnTo>
                    <a:lnTo>
                      <a:pt x="43" y="98"/>
                    </a:lnTo>
                    <a:lnTo>
                      <a:pt x="55" y="77"/>
                    </a:lnTo>
                    <a:lnTo>
                      <a:pt x="66" y="57"/>
                    </a:lnTo>
                    <a:lnTo>
                      <a:pt x="77" y="40"/>
                    </a:lnTo>
                    <a:lnTo>
                      <a:pt x="91" y="26"/>
                    </a:lnTo>
                    <a:lnTo>
                      <a:pt x="98" y="20"/>
                    </a:lnTo>
                    <a:lnTo>
                      <a:pt x="104" y="14"/>
                    </a:lnTo>
                    <a:lnTo>
                      <a:pt x="111" y="10"/>
                    </a:lnTo>
                    <a:lnTo>
                      <a:pt x="118" y="6"/>
                    </a:lnTo>
                    <a:lnTo>
                      <a:pt x="125" y="3"/>
                    </a:lnTo>
                    <a:lnTo>
                      <a:pt x="133" y="2"/>
                    </a:lnTo>
                    <a:lnTo>
                      <a:pt x="140" y="0"/>
                    </a:lnTo>
                    <a:lnTo>
                      <a:pt x="148" y="0"/>
                    </a:lnTo>
                    <a:lnTo>
                      <a:pt x="159" y="1"/>
                    </a:lnTo>
                    <a:lnTo>
                      <a:pt x="170" y="3"/>
                    </a:lnTo>
                    <a:lnTo>
                      <a:pt x="180" y="9"/>
                    </a:lnTo>
                    <a:lnTo>
                      <a:pt x="192" y="14"/>
                    </a:lnTo>
                    <a:lnTo>
                      <a:pt x="202" y="22"/>
                    </a:lnTo>
                    <a:lnTo>
                      <a:pt x="211" y="32"/>
                    </a:lnTo>
                    <a:lnTo>
                      <a:pt x="221" y="44"/>
                    </a:lnTo>
                    <a:lnTo>
                      <a:pt x="230" y="56"/>
                    </a:lnTo>
                    <a:lnTo>
                      <a:pt x="238" y="70"/>
                    </a:lnTo>
                    <a:lnTo>
                      <a:pt x="246" y="86"/>
                    </a:lnTo>
                    <a:lnTo>
                      <a:pt x="254" y="102"/>
                    </a:lnTo>
                    <a:lnTo>
                      <a:pt x="262" y="120"/>
                    </a:lnTo>
                    <a:lnTo>
                      <a:pt x="268" y="139"/>
                    </a:lnTo>
                    <a:lnTo>
                      <a:pt x="274" y="158"/>
                    </a:lnTo>
                    <a:lnTo>
                      <a:pt x="279" y="180"/>
                    </a:lnTo>
                    <a:lnTo>
                      <a:pt x="283" y="201"/>
                    </a:lnTo>
                    <a:lnTo>
                      <a:pt x="284" y="201"/>
                    </a:lnTo>
                    <a:lnTo>
                      <a:pt x="286" y="201"/>
                    </a:lnTo>
                    <a:lnTo>
                      <a:pt x="290" y="180"/>
                    </a:lnTo>
                    <a:lnTo>
                      <a:pt x="295" y="158"/>
                    </a:lnTo>
                    <a:lnTo>
                      <a:pt x="300" y="139"/>
                    </a:lnTo>
                    <a:lnTo>
                      <a:pt x="307" y="120"/>
                    </a:lnTo>
                    <a:lnTo>
                      <a:pt x="314" y="102"/>
                    </a:lnTo>
                    <a:lnTo>
                      <a:pt x="322" y="86"/>
                    </a:lnTo>
                    <a:lnTo>
                      <a:pt x="330" y="70"/>
                    </a:lnTo>
                    <a:lnTo>
                      <a:pt x="339" y="56"/>
                    </a:lnTo>
                    <a:lnTo>
                      <a:pt x="348" y="44"/>
                    </a:lnTo>
                    <a:lnTo>
                      <a:pt x="357" y="32"/>
                    </a:lnTo>
                    <a:lnTo>
                      <a:pt x="367" y="22"/>
                    </a:lnTo>
                    <a:lnTo>
                      <a:pt x="377" y="14"/>
                    </a:lnTo>
                    <a:lnTo>
                      <a:pt x="388" y="9"/>
                    </a:lnTo>
                    <a:lnTo>
                      <a:pt x="399" y="3"/>
                    </a:lnTo>
                    <a:lnTo>
                      <a:pt x="409" y="1"/>
                    </a:lnTo>
                    <a:lnTo>
                      <a:pt x="420"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927360" y="417240"/>
                <a:ext cx="333360" cy="141120"/>
              </a:xfrm>
              <a:custGeom>
                <a:avLst/>
                <a:gdLst/>
                <a:ahLst/>
                <a:rect l="l" t="t" r="r" b="b"/>
                <a:pathLst>
                  <a:path w="525" h="223">
                    <a:moveTo>
                      <a:pt x="263" y="223"/>
                    </a:moveTo>
                    <a:lnTo>
                      <a:pt x="259" y="223"/>
                    </a:lnTo>
                    <a:lnTo>
                      <a:pt x="255" y="222"/>
                    </a:lnTo>
                    <a:lnTo>
                      <a:pt x="251" y="220"/>
                    </a:lnTo>
                    <a:lnTo>
                      <a:pt x="248" y="218"/>
                    </a:lnTo>
                    <a:lnTo>
                      <a:pt x="243" y="214"/>
                    </a:lnTo>
                    <a:lnTo>
                      <a:pt x="239" y="208"/>
                    </a:lnTo>
                    <a:lnTo>
                      <a:pt x="234" y="200"/>
                    </a:lnTo>
                    <a:lnTo>
                      <a:pt x="229" y="190"/>
                    </a:lnTo>
                    <a:lnTo>
                      <a:pt x="221" y="167"/>
                    </a:lnTo>
                    <a:lnTo>
                      <a:pt x="213" y="148"/>
                    </a:lnTo>
                    <a:lnTo>
                      <a:pt x="203" y="130"/>
                    </a:lnTo>
                    <a:lnTo>
                      <a:pt x="192" y="115"/>
                    </a:lnTo>
                    <a:lnTo>
                      <a:pt x="181" y="101"/>
                    </a:lnTo>
                    <a:lnTo>
                      <a:pt x="170" y="90"/>
                    </a:lnTo>
                    <a:lnTo>
                      <a:pt x="156" y="80"/>
                    </a:lnTo>
                    <a:lnTo>
                      <a:pt x="143" y="71"/>
                    </a:lnTo>
                    <a:lnTo>
                      <a:pt x="128" y="63"/>
                    </a:lnTo>
                    <a:lnTo>
                      <a:pt x="113" y="56"/>
                    </a:lnTo>
                    <a:lnTo>
                      <a:pt x="96" y="50"/>
                    </a:lnTo>
                    <a:lnTo>
                      <a:pt x="79" y="45"/>
                    </a:lnTo>
                    <a:lnTo>
                      <a:pt x="42" y="32"/>
                    </a:lnTo>
                    <a:lnTo>
                      <a:pt x="0" y="20"/>
                    </a:lnTo>
                    <a:lnTo>
                      <a:pt x="9" y="15"/>
                    </a:lnTo>
                    <a:lnTo>
                      <a:pt x="19" y="12"/>
                    </a:lnTo>
                    <a:lnTo>
                      <a:pt x="29" y="8"/>
                    </a:lnTo>
                    <a:lnTo>
                      <a:pt x="40" y="5"/>
                    </a:lnTo>
                    <a:lnTo>
                      <a:pt x="50" y="3"/>
                    </a:lnTo>
                    <a:lnTo>
                      <a:pt x="60" y="2"/>
                    </a:lnTo>
                    <a:lnTo>
                      <a:pt x="71" y="0"/>
                    </a:lnTo>
                    <a:lnTo>
                      <a:pt x="82" y="0"/>
                    </a:lnTo>
                    <a:lnTo>
                      <a:pt x="104" y="2"/>
                    </a:lnTo>
                    <a:lnTo>
                      <a:pt x="126" y="5"/>
                    </a:lnTo>
                    <a:lnTo>
                      <a:pt x="147" y="10"/>
                    </a:lnTo>
                    <a:lnTo>
                      <a:pt x="168" y="17"/>
                    </a:lnTo>
                    <a:lnTo>
                      <a:pt x="187" y="27"/>
                    </a:lnTo>
                    <a:lnTo>
                      <a:pt x="205" y="37"/>
                    </a:lnTo>
                    <a:lnTo>
                      <a:pt x="213" y="42"/>
                    </a:lnTo>
                    <a:lnTo>
                      <a:pt x="221" y="49"/>
                    </a:lnTo>
                    <a:lnTo>
                      <a:pt x="228" y="56"/>
                    </a:lnTo>
                    <a:lnTo>
                      <a:pt x="234" y="63"/>
                    </a:lnTo>
                    <a:lnTo>
                      <a:pt x="241" y="70"/>
                    </a:lnTo>
                    <a:lnTo>
                      <a:pt x="246" y="78"/>
                    </a:lnTo>
                    <a:lnTo>
                      <a:pt x="251" y="85"/>
                    </a:lnTo>
                    <a:lnTo>
                      <a:pt x="255" y="93"/>
                    </a:lnTo>
                    <a:lnTo>
                      <a:pt x="258" y="101"/>
                    </a:lnTo>
                    <a:lnTo>
                      <a:pt x="260" y="110"/>
                    </a:lnTo>
                    <a:lnTo>
                      <a:pt x="262" y="119"/>
                    </a:lnTo>
                    <a:lnTo>
                      <a:pt x="262" y="129"/>
                    </a:lnTo>
                    <a:lnTo>
                      <a:pt x="263" y="129"/>
                    </a:lnTo>
                    <a:lnTo>
                      <a:pt x="263" y="129"/>
                    </a:lnTo>
                    <a:lnTo>
                      <a:pt x="263" y="129"/>
                    </a:lnTo>
                    <a:lnTo>
                      <a:pt x="263" y="129"/>
                    </a:lnTo>
                    <a:lnTo>
                      <a:pt x="263" y="129"/>
                    </a:lnTo>
                    <a:lnTo>
                      <a:pt x="264" y="129"/>
                    </a:lnTo>
                    <a:lnTo>
                      <a:pt x="264" y="119"/>
                    </a:lnTo>
                    <a:lnTo>
                      <a:pt x="265" y="110"/>
                    </a:lnTo>
                    <a:lnTo>
                      <a:pt x="267" y="101"/>
                    </a:lnTo>
                    <a:lnTo>
                      <a:pt x="271" y="93"/>
                    </a:lnTo>
                    <a:lnTo>
                      <a:pt x="275" y="85"/>
                    </a:lnTo>
                    <a:lnTo>
                      <a:pt x="280" y="78"/>
                    </a:lnTo>
                    <a:lnTo>
                      <a:pt x="284" y="70"/>
                    </a:lnTo>
                    <a:lnTo>
                      <a:pt x="291" y="63"/>
                    </a:lnTo>
                    <a:lnTo>
                      <a:pt x="298" y="56"/>
                    </a:lnTo>
                    <a:lnTo>
                      <a:pt x="305" y="49"/>
                    </a:lnTo>
                    <a:lnTo>
                      <a:pt x="312" y="42"/>
                    </a:lnTo>
                    <a:lnTo>
                      <a:pt x="320" y="37"/>
                    </a:lnTo>
                    <a:lnTo>
                      <a:pt x="339" y="27"/>
                    </a:lnTo>
                    <a:lnTo>
                      <a:pt x="358" y="17"/>
                    </a:lnTo>
                    <a:lnTo>
                      <a:pt x="378" y="10"/>
                    </a:lnTo>
                    <a:lnTo>
                      <a:pt x="400" y="5"/>
                    </a:lnTo>
                    <a:lnTo>
                      <a:pt x="421" y="2"/>
                    </a:lnTo>
                    <a:lnTo>
                      <a:pt x="444" y="0"/>
                    </a:lnTo>
                    <a:lnTo>
                      <a:pt x="454" y="0"/>
                    </a:lnTo>
                    <a:lnTo>
                      <a:pt x="465" y="2"/>
                    </a:lnTo>
                    <a:lnTo>
                      <a:pt x="475" y="3"/>
                    </a:lnTo>
                    <a:lnTo>
                      <a:pt x="487" y="5"/>
                    </a:lnTo>
                    <a:lnTo>
                      <a:pt x="497" y="8"/>
                    </a:lnTo>
                    <a:lnTo>
                      <a:pt x="506" y="12"/>
                    </a:lnTo>
                    <a:lnTo>
                      <a:pt x="516" y="15"/>
                    </a:lnTo>
                    <a:lnTo>
                      <a:pt x="525" y="20"/>
                    </a:lnTo>
                    <a:lnTo>
                      <a:pt x="483" y="32"/>
                    </a:lnTo>
                    <a:lnTo>
                      <a:pt x="446" y="45"/>
                    </a:lnTo>
                    <a:lnTo>
                      <a:pt x="429" y="50"/>
                    </a:lnTo>
                    <a:lnTo>
                      <a:pt x="412" y="56"/>
                    </a:lnTo>
                    <a:lnTo>
                      <a:pt x="397" y="63"/>
                    </a:lnTo>
                    <a:lnTo>
                      <a:pt x="383" y="71"/>
                    </a:lnTo>
                    <a:lnTo>
                      <a:pt x="369" y="80"/>
                    </a:lnTo>
                    <a:lnTo>
                      <a:pt x="357" y="90"/>
                    </a:lnTo>
                    <a:lnTo>
                      <a:pt x="344" y="101"/>
                    </a:lnTo>
                    <a:lnTo>
                      <a:pt x="333" y="115"/>
                    </a:lnTo>
                    <a:lnTo>
                      <a:pt x="323" y="130"/>
                    </a:lnTo>
                    <a:lnTo>
                      <a:pt x="314" y="148"/>
                    </a:lnTo>
                    <a:lnTo>
                      <a:pt x="305" y="167"/>
                    </a:lnTo>
                    <a:lnTo>
                      <a:pt x="297" y="190"/>
                    </a:lnTo>
                    <a:lnTo>
                      <a:pt x="291" y="200"/>
                    </a:lnTo>
                    <a:lnTo>
                      <a:pt x="286" y="208"/>
                    </a:lnTo>
                    <a:lnTo>
                      <a:pt x="282" y="214"/>
                    </a:lnTo>
                    <a:lnTo>
                      <a:pt x="277" y="218"/>
                    </a:lnTo>
                    <a:lnTo>
                      <a:pt x="274" y="220"/>
                    </a:lnTo>
                    <a:lnTo>
                      <a:pt x="271" y="222"/>
                    </a:lnTo>
                    <a:lnTo>
                      <a:pt x="267" y="223"/>
                    </a:lnTo>
                    <a:lnTo>
                      <a:pt x="263" y="223"/>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1004040" y="384840"/>
                <a:ext cx="52560" cy="25200"/>
              </a:xfrm>
              <a:custGeom>
                <a:avLst/>
                <a:gdLst/>
                <a:ahLst/>
                <a:rect l="l" t="t" r="r" b="b"/>
                <a:pathLst>
                  <a:path w="83" h="40">
                    <a:moveTo>
                      <a:pt x="13" y="9"/>
                    </a:moveTo>
                    <a:lnTo>
                      <a:pt x="13" y="7"/>
                    </a:lnTo>
                    <a:lnTo>
                      <a:pt x="13" y="5"/>
                    </a:lnTo>
                    <a:lnTo>
                      <a:pt x="13" y="5"/>
                    </a:lnTo>
                    <a:lnTo>
                      <a:pt x="13" y="4"/>
                    </a:lnTo>
                    <a:lnTo>
                      <a:pt x="11" y="4"/>
                    </a:lnTo>
                    <a:lnTo>
                      <a:pt x="8" y="4"/>
                    </a:lnTo>
                    <a:lnTo>
                      <a:pt x="7" y="4"/>
                    </a:lnTo>
                    <a:lnTo>
                      <a:pt x="6" y="4"/>
                    </a:lnTo>
                    <a:lnTo>
                      <a:pt x="5" y="5"/>
                    </a:lnTo>
                    <a:lnTo>
                      <a:pt x="5" y="6"/>
                    </a:lnTo>
                    <a:lnTo>
                      <a:pt x="4" y="7"/>
                    </a:lnTo>
                    <a:lnTo>
                      <a:pt x="4" y="8"/>
                    </a:lnTo>
                    <a:lnTo>
                      <a:pt x="2" y="9"/>
                    </a:lnTo>
                    <a:lnTo>
                      <a:pt x="1" y="11"/>
                    </a:lnTo>
                    <a:lnTo>
                      <a:pt x="0" y="11"/>
                    </a:lnTo>
                    <a:lnTo>
                      <a:pt x="0" y="9"/>
                    </a:lnTo>
                    <a:lnTo>
                      <a:pt x="0" y="9"/>
                    </a:lnTo>
                    <a:lnTo>
                      <a:pt x="0" y="8"/>
                    </a:lnTo>
                    <a:lnTo>
                      <a:pt x="0" y="5"/>
                    </a:lnTo>
                    <a:lnTo>
                      <a:pt x="1" y="3"/>
                    </a:lnTo>
                    <a:lnTo>
                      <a:pt x="2" y="2"/>
                    </a:lnTo>
                    <a:lnTo>
                      <a:pt x="4" y="0"/>
                    </a:lnTo>
                    <a:lnTo>
                      <a:pt x="4" y="0"/>
                    </a:lnTo>
                    <a:lnTo>
                      <a:pt x="4" y="0"/>
                    </a:lnTo>
                    <a:lnTo>
                      <a:pt x="6" y="0"/>
                    </a:lnTo>
                    <a:lnTo>
                      <a:pt x="7" y="0"/>
                    </a:lnTo>
                    <a:lnTo>
                      <a:pt x="24" y="0"/>
                    </a:lnTo>
                    <a:lnTo>
                      <a:pt x="25" y="0"/>
                    </a:lnTo>
                    <a:lnTo>
                      <a:pt x="26" y="0"/>
                    </a:lnTo>
                    <a:lnTo>
                      <a:pt x="26" y="0"/>
                    </a:lnTo>
                    <a:lnTo>
                      <a:pt x="26" y="0"/>
                    </a:lnTo>
                    <a:lnTo>
                      <a:pt x="28" y="2"/>
                    </a:lnTo>
                    <a:lnTo>
                      <a:pt x="30" y="3"/>
                    </a:lnTo>
                    <a:lnTo>
                      <a:pt x="30" y="5"/>
                    </a:lnTo>
                    <a:lnTo>
                      <a:pt x="30" y="8"/>
                    </a:lnTo>
                    <a:lnTo>
                      <a:pt x="30" y="9"/>
                    </a:lnTo>
                    <a:lnTo>
                      <a:pt x="30" y="9"/>
                    </a:lnTo>
                    <a:lnTo>
                      <a:pt x="30" y="11"/>
                    </a:lnTo>
                    <a:lnTo>
                      <a:pt x="28" y="11"/>
                    </a:lnTo>
                    <a:lnTo>
                      <a:pt x="28" y="9"/>
                    </a:lnTo>
                    <a:lnTo>
                      <a:pt x="27" y="8"/>
                    </a:lnTo>
                    <a:lnTo>
                      <a:pt x="26" y="7"/>
                    </a:lnTo>
                    <a:lnTo>
                      <a:pt x="26" y="6"/>
                    </a:lnTo>
                    <a:lnTo>
                      <a:pt x="25" y="5"/>
                    </a:lnTo>
                    <a:lnTo>
                      <a:pt x="24" y="4"/>
                    </a:lnTo>
                    <a:lnTo>
                      <a:pt x="23" y="4"/>
                    </a:lnTo>
                    <a:lnTo>
                      <a:pt x="22" y="4"/>
                    </a:lnTo>
                    <a:lnTo>
                      <a:pt x="19" y="4"/>
                    </a:lnTo>
                    <a:lnTo>
                      <a:pt x="18" y="4"/>
                    </a:lnTo>
                    <a:lnTo>
                      <a:pt x="17" y="4"/>
                    </a:lnTo>
                    <a:lnTo>
                      <a:pt x="17" y="5"/>
                    </a:lnTo>
                    <a:lnTo>
                      <a:pt x="17" y="7"/>
                    </a:lnTo>
                    <a:lnTo>
                      <a:pt x="17" y="9"/>
                    </a:lnTo>
                    <a:lnTo>
                      <a:pt x="17" y="20"/>
                    </a:lnTo>
                    <a:lnTo>
                      <a:pt x="17" y="28"/>
                    </a:lnTo>
                    <a:lnTo>
                      <a:pt x="17" y="32"/>
                    </a:lnTo>
                    <a:lnTo>
                      <a:pt x="17" y="34"/>
                    </a:lnTo>
                    <a:lnTo>
                      <a:pt x="18" y="36"/>
                    </a:lnTo>
                    <a:lnTo>
                      <a:pt x="18" y="36"/>
                    </a:lnTo>
                    <a:lnTo>
                      <a:pt x="19" y="37"/>
                    </a:lnTo>
                    <a:lnTo>
                      <a:pt x="21" y="37"/>
                    </a:lnTo>
                    <a:lnTo>
                      <a:pt x="22" y="38"/>
                    </a:lnTo>
                    <a:lnTo>
                      <a:pt x="21" y="38"/>
                    </a:lnTo>
                    <a:lnTo>
                      <a:pt x="19" y="39"/>
                    </a:lnTo>
                    <a:lnTo>
                      <a:pt x="18" y="39"/>
                    </a:lnTo>
                    <a:lnTo>
                      <a:pt x="15" y="39"/>
                    </a:lnTo>
                    <a:lnTo>
                      <a:pt x="13" y="39"/>
                    </a:lnTo>
                    <a:lnTo>
                      <a:pt x="10" y="39"/>
                    </a:lnTo>
                    <a:lnTo>
                      <a:pt x="9" y="38"/>
                    </a:lnTo>
                    <a:lnTo>
                      <a:pt x="9" y="38"/>
                    </a:lnTo>
                    <a:lnTo>
                      <a:pt x="9" y="37"/>
                    </a:lnTo>
                    <a:lnTo>
                      <a:pt x="10" y="37"/>
                    </a:lnTo>
                    <a:lnTo>
                      <a:pt x="11" y="36"/>
                    </a:lnTo>
                    <a:lnTo>
                      <a:pt x="13" y="36"/>
                    </a:lnTo>
                    <a:lnTo>
                      <a:pt x="13" y="34"/>
                    </a:lnTo>
                    <a:lnTo>
                      <a:pt x="13" y="31"/>
                    </a:lnTo>
                    <a:lnTo>
                      <a:pt x="13" y="27"/>
                    </a:lnTo>
                    <a:lnTo>
                      <a:pt x="13" y="20"/>
                    </a:lnTo>
                    <a:lnTo>
                      <a:pt x="13" y="9"/>
                    </a:lnTo>
                    <a:close/>
                    <a:moveTo>
                      <a:pt x="27" y="37"/>
                    </a:moveTo>
                    <a:lnTo>
                      <a:pt x="28" y="36"/>
                    </a:lnTo>
                    <a:lnTo>
                      <a:pt x="28" y="34"/>
                    </a:lnTo>
                    <a:lnTo>
                      <a:pt x="30" y="34"/>
                    </a:lnTo>
                    <a:lnTo>
                      <a:pt x="31" y="33"/>
                    </a:lnTo>
                    <a:lnTo>
                      <a:pt x="32" y="34"/>
                    </a:lnTo>
                    <a:lnTo>
                      <a:pt x="33" y="34"/>
                    </a:lnTo>
                    <a:lnTo>
                      <a:pt x="34" y="36"/>
                    </a:lnTo>
                    <a:lnTo>
                      <a:pt x="34" y="37"/>
                    </a:lnTo>
                    <a:lnTo>
                      <a:pt x="34" y="38"/>
                    </a:lnTo>
                    <a:lnTo>
                      <a:pt x="33" y="39"/>
                    </a:lnTo>
                    <a:lnTo>
                      <a:pt x="32" y="40"/>
                    </a:lnTo>
                    <a:lnTo>
                      <a:pt x="31" y="40"/>
                    </a:lnTo>
                    <a:lnTo>
                      <a:pt x="30" y="40"/>
                    </a:lnTo>
                    <a:lnTo>
                      <a:pt x="28" y="39"/>
                    </a:lnTo>
                    <a:lnTo>
                      <a:pt x="28" y="38"/>
                    </a:lnTo>
                    <a:lnTo>
                      <a:pt x="27" y="37"/>
                    </a:lnTo>
                    <a:close/>
                    <a:moveTo>
                      <a:pt x="59" y="40"/>
                    </a:moveTo>
                    <a:lnTo>
                      <a:pt x="56" y="40"/>
                    </a:lnTo>
                    <a:lnTo>
                      <a:pt x="53" y="39"/>
                    </a:lnTo>
                    <a:lnTo>
                      <a:pt x="50" y="38"/>
                    </a:lnTo>
                    <a:lnTo>
                      <a:pt x="48" y="37"/>
                    </a:lnTo>
                    <a:lnTo>
                      <a:pt x="44" y="33"/>
                    </a:lnTo>
                    <a:lnTo>
                      <a:pt x="42" y="30"/>
                    </a:lnTo>
                    <a:lnTo>
                      <a:pt x="41" y="24"/>
                    </a:lnTo>
                    <a:lnTo>
                      <a:pt x="40" y="20"/>
                    </a:lnTo>
                    <a:lnTo>
                      <a:pt x="40" y="16"/>
                    </a:lnTo>
                    <a:lnTo>
                      <a:pt x="41" y="13"/>
                    </a:lnTo>
                    <a:lnTo>
                      <a:pt x="42" y="11"/>
                    </a:lnTo>
                    <a:lnTo>
                      <a:pt x="43" y="7"/>
                    </a:lnTo>
                    <a:lnTo>
                      <a:pt x="47" y="5"/>
                    </a:lnTo>
                    <a:lnTo>
                      <a:pt x="50" y="2"/>
                    </a:lnTo>
                    <a:lnTo>
                      <a:pt x="53" y="0"/>
                    </a:lnTo>
                    <a:lnTo>
                      <a:pt x="58" y="0"/>
                    </a:lnTo>
                    <a:lnTo>
                      <a:pt x="60" y="0"/>
                    </a:lnTo>
                    <a:lnTo>
                      <a:pt x="64" y="0"/>
                    </a:lnTo>
                    <a:lnTo>
                      <a:pt x="66" y="2"/>
                    </a:lnTo>
                    <a:lnTo>
                      <a:pt x="67" y="2"/>
                    </a:lnTo>
                    <a:lnTo>
                      <a:pt x="67" y="2"/>
                    </a:lnTo>
                    <a:lnTo>
                      <a:pt x="68" y="2"/>
                    </a:lnTo>
                    <a:lnTo>
                      <a:pt x="68" y="2"/>
                    </a:lnTo>
                    <a:lnTo>
                      <a:pt x="69" y="2"/>
                    </a:lnTo>
                    <a:lnTo>
                      <a:pt x="70" y="2"/>
                    </a:lnTo>
                    <a:lnTo>
                      <a:pt x="70" y="3"/>
                    </a:lnTo>
                    <a:lnTo>
                      <a:pt x="71" y="5"/>
                    </a:lnTo>
                    <a:lnTo>
                      <a:pt x="71" y="8"/>
                    </a:lnTo>
                    <a:lnTo>
                      <a:pt x="71" y="9"/>
                    </a:lnTo>
                    <a:lnTo>
                      <a:pt x="71" y="9"/>
                    </a:lnTo>
                    <a:lnTo>
                      <a:pt x="70" y="11"/>
                    </a:lnTo>
                    <a:lnTo>
                      <a:pt x="70" y="11"/>
                    </a:lnTo>
                    <a:lnTo>
                      <a:pt x="69" y="9"/>
                    </a:lnTo>
                    <a:lnTo>
                      <a:pt x="68" y="8"/>
                    </a:lnTo>
                    <a:lnTo>
                      <a:pt x="68" y="7"/>
                    </a:lnTo>
                    <a:lnTo>
                      <a:pt x="67" y="6"/>
                    </a:lnTo>
                    <a:lnTo>
                      <a:pt x="66" y="5"/>
                    </a:lnTo>
                    <a:lnTo>
                      <a:pt x="64" y="4"/>
                    </a:lnTo>
                    <a:lnTo>
                      <a:pt x="61" y="3"/>
                    </a:lnTo>
                    <a:lnTo>
                      <a:pt x="58" y="3"/>
                    </a:lnTo>
                    <a:lnTo>
                      <a:pt x="56" y="3"/>
                    </a:lnTo>
                    <a:lnTo>
                      <a:pt x="53" y="4"/>
                    </a:lnTo>
                    <a:lnTo>
                      <a:pt x="51" y="5"/>
                    </a:lnTo>
                    <a:lnTo>
                      <a:pt x="49" y="7"/>
                    </a:lnTo>
                    <a:lnTo>
                      <a:pt x="47" y="12"/>
                    </a:lnTo>
                    <a:lnTo>
                      <a:pt x="45" y="17"/>
                    </a:lnTo>
                    <a:lnTo>
                      <a:pt x="45" y="21"/>
                    </a:lnTo>
                    <a:lnTo>
                      <a:pt x="47" y="24"/>
                    </a:lnTo>
                    <a:lnTo>
                      <a:pt x="47" y="28"/>
                    </a:lnTo>
                    <a:lnTo>
                      <a:pt x="49" y="30"/>
                    </a:lnTo>
                    <a:lnTo>
                      <a:pt x="51" y="33"/>
                    </a:lnTo>
                    <a:lnTo>
                      <a:pt x="53" y="36"/>
                    </a:lnTo>
                    <a:lnTo>
                      <a:pt x="57" y="37"/>
                    </a:lnTo>
                    <a:lnTo>
                      <a:pt x="60" y="37"/>
                    </a:lnTo>
                    <a:lnTo>
                      <a:pt x="62" y="37"/>
                    </a:lnTo>
                    <a:lnTo>
                      <a:pt x="65" y="36"/>
                    </a:lnTo>
                    <a:lnTo>
                      <a:pt x="67" y="34"/>
                    </a:lnTo>
                    <a:lnTo>
                      <a:pt x="68" y="33"/>
                    </a:lnTo>
                    <a:lnTo>
                      <a:pt x="69" y="33"/>
                    </a:lnTo>
                    <a:lnTo>
                      <a:pt x="69" y="32"/>
                    </a:lnTo>
                    <a:lnTo>
                      <a:pt x="70" y="31"/>
                    </a:lnTo>
                    <a:lnTo>
                      <a:pt x="71" y="30"/>
                    </a:lnTo>
                    <a:lnTo>
                      <a:pt x="71" y="31"/>
                    </a:lnTo>
                    <a:lnTo>
                      <a:pt x="71" y="31"/>
                    </a:lnTo>
                    <a:lnTo>
                      <a:pt x="73" y="32"/>
                    </a:lnTo>
                    <a:lnTo>
                      <a:pt x="73" y="32"/>
                    </a:lnTo>
                    <a:lnTo>
                      <a:pt x="71" y="34"/>
                    </a:lnTo>
                    <a:lnTo>
                      <a:pt x="71" y="36"/>
                    </a:lnTo>
                    <a:lnTo>
                      <a:pt x="70" y="37"/>
                    </a:lnTo>
                    <a:lnTo>
                      <a:pt x="69" y="38"/>
                    </a:lnTo>
                    <a:lnTo>
                      <a:pt x="69" y="38"/>
                    </a:lnTo>
                    <a:lnTo>
                      <a:pt x="69" y="38"/>
                    </a:lnTo>
                    <a:lnTo>
                      <a:pt x="69" y="38"/>
                    </a:lnTo>
                    <a:lnTo>
                      <a:pt x="69" y="38"/>
                    </a:lnTo>
                    <a:lnTo>
                      <a:pt x="69" y="38"/>
                    </a:lnTo>
                    <a:lnTo>
                      <a:pt x="68" y="38"/>
                    </a:lnTo>
                    <a:lnTo>
                      <a:pt x="68" y="38"/>
                    </a:lnTo>
                    <a:lnTo>
                      <a:pt x="68" y="38"/>
                    </a:lnTo>
                    <a:lnTo>
                      <a:pt x="66" y="39"/>
                    </a:lnTo>
                    <a:lnTo>
                      <a:pt x="64" y="40"/>
                    </a:lnTo>
                    <a:lnTo>
                      <a:pt x="61" y="40"/>
                    </a:lnTo>
                    <a:lnTo>
                      <a:pt x="59" y="40"/>
                    </a:lnTo>
                    <a:close/>
                    <a:moveTo>
                      <a:pt x="77" y="37"/>
                    </a:moveTo>
                    <a:lnTo>
                      <a:pt x="77" y="36"/>
                    </a:lnTo>
                    <a:lnTo>
                      <a:pt x="78" y="34"/>
                    </a:lnTo>
                    <a:lnTo>
                      <a:pt x="79" y="34"/>
                    </a:lnTo>
                    <a:lnTo>
                      <a:pt x="81" y="33"/>
                    </a:lnTo>
                    <a:lnTo>
                      <a:pt x="82" y="34"/>
                    </a:lnTo>
                    <a:lnTo>
                      <a:pt x="83" y="34"/>
                    </a:lnTo>
                    <a:lnTo>
                      <a:pt x="83" y="36"/>
                    </a:lnTo>
                    <a:lnTo>
                      <a:pt x="83" y="37"/>
                    </a:lnTo>
                    <a:lnTo>
                      <a:pt x="83" y="38"/>
                    </a:lnTo>
                    <a:lnTo>
                      <a:pt x="83" y="39"/>
                    </a:lnTo>
                    <a:lnTo>
                      <a:pt x="82" y="40"/>
                    </a:lnTo>
                    <a:lnTo>
                      <a:pt x="81" y="40"/>
                    </a:lnTo>
                    <a:lnTo>
                      <a:pt x="79" y="40"/>
                    </a:lnTo>
                    <a:lnTo>
                      <a:pt x="78" y="39"/>
                    </a:lnTo>
                    <a:lnTo>
                      <a:pt x="77" y="38"/>
                    </a:lnTo>
                    <a:lnTo>
                      <a:pt x="77" y="37"/>
                    </a:lnTo>
                    <a:close/>
                  </a:path>
                </a:pathLst>
              </a:custGeom>
              <a:solidFill>
                <a:srgbClr val="29166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2" name=""/>
              <p:cNvSpPr/>
              <p:nvPr/>
            </p:nvSpPr>
            <p:spPr>
              <a:xfrm>
                <a:off x="1073160" y="384840"/>
                <a:ext cx="110880" cy="25200"/>
              </a:xfrm>
              <a:custGeom>
                <a:avLst/>
                <a:gdLst/>
                <a:ahLst/>
                <a:rect l="l" t="t" r="r" b="b"/>
                <a:pathLst>
                  <a:path w="175" h="40">
                    <a:moveTo>
                      <a:pt x="8" y="7"/>
                    </a:moveTo>
                    <a:lnTo>
                      <a:pt x="7" y="20"/>
                    </a:lnTo>
                    <a:lnTo>
                      <a:pt x="7" y="21"/>
                    </a:lnTo>
                    <a:lnTo>
                      <a:pt x="7" y="21"/>
                    </a:lnTo>
                    <a:lnTo>
                      <a:pt x="7" y="25"/>
                    </a:lnTo>
                    <a:lnTo>
                      <a:pt x="7" y="30"/>
                    </a:lnTo>
                    <a:lnTo>
                      <a:pt x="7" y="31"/>
                    </a:lnTo>
                    <a:lnTo>
                      <a:pt x="7" y="33"/>
                    </a:lnTo>
                    <a:lnTo>
                      <a:pt x="7" y="34"/>
                    </a:lnTo>
                    <a:lnTo>
                      <a:pt x="8" y="36"/>
                    </a:lnTo>
                    <a:lnTo>
                      <a:pt x="8" y="36"/>
                    </a:lnTo>
                    <a:lnTo>
                      <a:pt x="8" y="37"/>
                    </a:lnTo>
                    <a:lnTo>
                      <a:pt x="9" y="37"/>
                    </a:lnTo>
                    <a:lnTo>
                      <a:pt x="10" y="37"/>
                    </a:lnTo>
                    <a:lnTo>
                      <a:pt x="11" y="38"/>
                    </a:lnTo>
                    <a:lnTo>
                      <a:pt x="10" y="39"/>
                    </a:lnTo>
                    <a:lnTo>
                      <a:pt x="9" y="39"/>
                    </a:lnTo>
                    <a:lnTo>
                      <a:pt x="8" y="39"/>
                    </a:lnTo>
                    <a:lnTo>
                      <a:pt x="5" y="39"/>
                    </a:lnTo>
                    <a:lnTo>
                      <a:pt x="2" y="39"/>
                    </a:lnTo>
                    <a:lnTo>
                      <a:pt x="1" y="39"/>
                    </a:lnTo>
                    <a:lnTo>
                      <a:pt x="0" y="39"/>
                    </a:lnTo>
                    <a:lnTo>
                      <a:pt x="0" y="38"/>
                    </a:lnTo>
                    <a:lnTo>
                      <a:pt x="0" y="37"/>
                    </a:lnTo>
                    <a:lnTo>
                      <a:pt x="2" y="37"/>
                    </a:lnTo>
                    <a:lnTo>
                      <a:pt x="2" y="37"/>
                    </a:lnTo>
                    <a:lnTo>
                      <a:pt x="2" y="36"/>
                    </a:lnTo>
                    <a:lnTo>
                      <a:pt x="3" y="36"/>
                    </a:lnTo>
                    <a:lnTo>
                      <a:pt x="3" y="34"/>
                    </a:lnTo>
                    <a:lnTo>
                      <a:pt x="3" y="34"/>
                    </a:lnTo>
                    <a:lnTo>
                      <a:pt x="4" y="23"/>
                    </a:lnTo>
                    <a:lnTo>
                      <a:pt x="4" y="9"/>
                    </a:lnTo>
                    <a:lnTo>
                      <a:pt x="4" y="8"/>
                    </a:lnTo>
                    <a:lnTo>
                      <a:pt x="4" y="6"/>
                    </a:lnTo>
                    <a:lnTo>
                      <a:pt x="4" y="5"/>
                    </a:lnTo>
                    <a:lnTo>
                      <a:pt x="4" y="5"/>
                    </a:lnTo>
                    <a:lnTo>
                      <a:pt x="3" y="4"/>
                    </a:lnTo>
                    <a:lnTo>
                      <a:pt x="3" y="4"/>
                    </a:lnTo>
                    <a:lnTo>
                      <a:pt x="2" y="4"/>
                    </a:lnTo>
                    <a:lnTo>
                      <a:pt x="1" y="3"/>
                    </a:lnTo>
                    <a:lnTo>
                      <a:pt x="1" y="3"/>
                    </a:lnTo>
                    <a:lnTo>
                      <a:pt x="1" y="2"/>
                    </a:lnTo>
                    <a:lnTo>
                      <a:pt x="2" y="2"/>
                    </a:lnTo>
                    <a:lnTo>
                      <a:pt x="3" y="0"/>
                    </a:lnTo>
                    <a:lnTo>
                      <a:pt x="7" y="0"/>
                    </a:lnTo>
                    <a:lnTo>
                      <a:pt x="8" y="0"/>
                    </a:lnTo>
                    <a:lnTo>
                      <a:pt x="9" y="0"/>
                    </a:lnTo>
                    <a:lnTo>
                      <a:pt x="9" y="2"/>
                    </a:lnTo>
                    <a:lnTo>
                      <a:pt x="9" y="2"/>
                    </a:lnTo>
                    <a:lnTo>
                      <a:pt x="10" y="3"/>
                    </a:lnTo>
                    <a:lnTo>
                      <a:pt x="11" y="6"/>
                    </a:lnTo>
                    <a:lnTo>
                      <a:pt x="12" y="7"/>
                    </a:lnTo>
                    <a:lnTo>
                      <a:pt x="12" y="7"/>
                    </a:lnTo>
                    <a:lnTo>
                      <a:pt x="16" y="16"/>
                    </a:lnTo>
                    <a:lnTo>
                      <a:pt x="18" y="24"/>
                    </a:lnTo>
                    <a:lnTo>
                      <a:pt x="20" y="29"/>
                    </a:lnTo>
                    <a:lnTo>
                      <a:pt x="21" y="30"/>
                    </a:lnTo>
                    <a:lnTo>
                      <a:pt x="22" y="29"/>
                    </a:lnTo>
                    <a:lnTo>
                      <a:pt x="25" y="24"/>
                    </a:lnTo>
                    <a:lnTo>
                      <a:pt x="27" y="17"/>
                    </a:lnTo>
                    <a:lnTo>
                      <a:pt x="30" y="9"/>
                    </a:lnTo>
                    <a:lnTo>
                      <a:pt x="32" y="8"/>
                    </a:lnTo>
                    <a:lnTo>
                      <a:pt x="32" y="6"/>
                    </a:lnTo>
                    <a:lnTo>
                      <a:pt x="33" y="4"/>
                    </a:lnTo>
                    <a:lnTo>
                      <a:pt x="34" y="2"/>
                    </a:lnTo>
                    <a:lnTo>
                      <a:pt x="34" y="2"/>
                    </a:lnTo>
                    <a:lnTo>
                      <a:pt x="35" y="2"/>
                    </a:lnTo>
                    <a:lnTo>
                      <a:pt x="36" y="0"/>
                    </a:lnTo>
                    <a:lnTo>
                      <a:pt x="37" y="0"/>
                    </a:lnTo>
                    <a:lnTo>
                      <a:pt x="39" y="0"/>
                    </a:lnTo>
                    <a:lnTo>
                      <a:pt x="42" y="2"/>
                    </a:lnTo>
                    <a:lnTo>
                      <a:pt x="43" y="2"/>
                    </a:lnTo>
                    <a:lnTo>
                      <a:pt x="43" y="3"/>
                    </a:lnTo>
                    <a:lnTo>
                      <a:pt x="43" y="3"/>
                    </a:lnTo>
                    <a:lnTo>
                      <a:pt x="42" y="4"/>
                    </a:lnTo>
                    <a:lnTo>
                      <a:pt x="41" y="4"/>
                    </a:lnTo>
                    <a:lnTo>
                      <a:pt x="39" y="4"/>
                    </a:lnTo>
                    <a:lnTo>
                      <a:pt x="39" y="5"/>
                    </a:lnTo>
                    <a:lnTo>
                      <a:pt x="39" y="6"/>
                    </a:lnTo>
                    <a:lnTo>
                      <a:pt x="39" y="7"/>
                    </a:lnTo>
                    <a:lnTo>
                      <a:pt x="39" y="11"/>
                    </a:lnTo>
                    <a:lnTo>
                      <a:pt x="39" y="13"/>
                    </a:lnTo>
                    <a:lnTo>
                      <a:pt x="39" y="21"/>
                    </a:lnTo>
                    <a:lnTo>
                      <a:pt x="39" y="28"/>
                    </a:lnTo>
                    <a:lnTo>
                      <a:pt x="39" y="33"/>
                    </a:lnTo>
                    <a:lnTo>
                      <a:pt x="39" y="36"/>
                    </a:lnTo>
                    <a:lnTo>
                      <a:pt x="41" y="36"/>
                    </a:lnTo>
                    <a:lnTo>
                      <a:pt x="42" y="37"/>
                    </a:lnTo>
                    <a:lnTo>
                      <a:pt x="42" y="37"/>
                    </a:lnTo>
                    <a:lnTo>
                      <a:pt x="42" y="37"/>
                    </a:lnTo>
                    <a:lnTo>
                      <a:pt x="43" y="37"/>
                    </a:lnTo>
                    <a:lnTo>
                      <a:pt x="43" y="37"/>
                    </a:lnTo>
                    <a:lnTo>
                      <a:pt x="43" y="37"/>
                    </a:lnTo>
                    <a:lnTo>
                      <a:pt x="44" y="38"/>
                    </a:lnTo>
                    <a:lnTo>
                      <a:pt x="43" y="39"/>
                    </a:lnTo>
                    <a:lnTo>
                      <a:pt x="42" y="39"/>
                    </a:lnTo>
                    <a:lnTo>
                      <a:pt x="39" y="39"/>
                    </a:lnTo>
                    <a:lnTo>
                      <a:pt x="37" y="39"/>
                    </a:lnTo>
                    <a:lnTo>
                      <a:pt x="35" y="39"/>
                    </a:lnTo>
                    <a:lnTo>
                      <a:pt x="33" y="39"/>
                    </a:lnTo>
                    <a:lnTo>
                      <a:pt x="32" y="39"/>
                    </a:lnTo>
                    <a:lnTo>
                      <a:pt x="32" y="38"/>
                    </a:lnTo>
                    <a:lnTo>
                      <a:pt x="32" y="37"/>
                    </a:lnTo>
                    <a:lnTo>
                      <a:pt x="33" y="37"/>
                    </a:lnTo>
                    <a:lnTo>
                      <a:pt x="34" y="37"/>
                    </a:lnTo>
                    <a:lnTo>
                      <a:pt x="34" y="37"/>
                    </a:lnTo>
                    <a:lnTo>
                      <a:pt x="34" y="36"/>
                    </a:lnTo>
                    <a:lnTo>
                      <a:pt x="35" y="34"/>
                    </a:lnTo>
                    <a:lnTo>
                      <a:pt x="35" y="33"/>
                    </a:lnTo>
                    <a:lnTo>
                      <a:pt x="35" y="31"/>
                    </a:lnTo>
                    <a:lnTo>
                      <a:pt x="35" y="28"/>
                    </a:lnTo>
                    <a:lnTo>
                      <a:pt x="35" y="24"/>
                    </a:lnTo>
                    <a:lnTo>
                      <a:pt x="35" y="23"/>
                    </a:lnTo>
                    <a:lnTo>
                      <a:pt x="35" y="22"/>
                    </a:lnTo>
                    <a:lnTo>
                      <a:pt x="35" y="20"/>
                    </a:lnTo>
                    <a:lnTo>
                      <a:pt x="35" y="6"/>
                    </a:lnTo>
                    <a:lnTo>
                      <a:pt x="30" y="19"/>
                    </a:lnTo>
                    <a:lnTo>
                      <a:pt x="27" y="27"/>
                    </a:lnTo>
                    <a:lnTo>
                      <a:pt x="25" y="31"/>
                    </a:lnTo>
                    <a:lnTo>
                      <a:pt x="24" y="34"/>
                    </a:lnTo>
                    <a:lnTo>
                      <a:pt x="24" y="34"/>
                    </a:lnTo>
                    <a:lnTo>
                      <a:pt x="24" y="36"/>
                    </a:lnTo>
                    <a:lnTo>
                      <a:pt x="21" y="38"/>
                    </a:lnTo>
                    <a:lnTo>
                      <a:pt x="20" y="39"/>
                    </a:lnTo>
                    <a:lnTo>
                      <a:pt x="18" y="34"/>
                    </a:lnTo>
                    <a:lnTo>
                      <a:pt x="12" y="20"/>
                    </a:lnTo>
                    <a:lnTo>
                      <a:pt x="9" y="13"/>
                    </a:lnTo>
                    <a:lnTo>
                      <a:pt x="8" y="7"/>
                    </a:lnTo>
                    <a:close/>
                    <a:moveTo>
                      <a:pt x="49" y="37"/>
                    </a:moveTo>
                    <a:lnTo>
                      <a:pt x="49" y="36"/>
                    </a:lnTo>
                    <a:lnTo>
                      <a:pt x="50" y="34"/>
                    </a:lnTo>
                    <a:lnTo>
                      <a:pt x="50" y="34"/>
                    </a:lnTo>
                    <a:lnTo>
                      <a:pt x="52" y="34"/>
                    </a:lnTo>
                    <a:lnTo>
                      <a:pt x="53" y="34"/>
                    </a:lnTo>
                    <a:lnTo>
                      <a:pt x="53" y="34"/>
                    </a:lnTo>
                    <a:lnTo>
                      <a:pt x="54" y="36"/>
                    </a:lnTo>
                    <a:lnTo>
                      <a:pt x="54" y="37"/>
                    </a:lnTo>
                    <a:lnTo>
                      <a:pt x="54" y="38"/>
                    </a:lnTo>
                    <a:lnTo>
                      <a:pt x="53" y="39"/>
                    </a:lnTo>
                    <a:lnTo>
                      <a:pt x="53" y="40"/>
                    </a:lnTo>
                    <a:lnTo>
                      <a:pt x="52" y="40"/>
                    </a:lnTo>
                    <a:lnTo>
                      <a:pt x="50" y="40"/>
                    </a:lnTo>
                    <a:lnTo>
                      <a:pt x="50" y="39"/>
                    </a:lnTo>
                    <a:lnTo>
                      <a:pt x="49" y="38"/>
                    </a:lnTo>
                    <a:lnTo>
                      <a:pt x="49" y="37"/>
                    </a:lnTo>
                    <a:close/>
                    <a:moveTo>
                      <a:pt x="78" y="39"/>
                    </a:moveTo>
                    <a:lnTo>
                      <a:pt x="77" y="39"/>
                    </a:lnTo>
                    <a:lnTo>
                      <a:pt x="76" y="39"/>
                    </a:lnTo>
                    <a:lnTo>
                      <a:pt x="75" y="39"/>
                    </a:lnTo>
                    <a:lnTo>
                      <a:pt x="75" y="38"/>
                    </a:lnTo>
                    <a:lnTo>
                      <a:pt x="75" y="37"/>
                    </a:lnTo>
                    <a:lnTo>
                      <a:pt x="76" y="37"/>
                    </a:lnTo>
                    <a:lnTo>
                      <a:pt x="77" y="36"/>
                    </a:lnTo>
                    <a:lnTo>
                      <a:pt x="77" y="36"/>
                    </a:lnTo>
                    <a:lnTo>
                      <a:pt x="78" y="34"/>
                    </a:lnTo>
                    <a:lnTo>
                      <a:pt x="78" y="32"/>
                    </a:lnTo>
                    <a:lnTo>
                      <a:pt x="78" y="28"/>
                    </a:lnTo>
                    <a:lnTo>
                      <a:pt x="78" y="20"/>
                    </a:lnTo>
                    <a:lnTo>
                      <a:pt x="78" y="13"/>
                    </a:lnTo>
                    <a:lnTo>
                      <a:pt x="78" y="8"/>
                    </a:lnTo>
                    <a:lnTo>
                      <a:pt x="78" y="6"/>
                    </a:lnTo>
                    <a:lnTo>
                      <a:pt x="77" y="5"/>
                    </a:lnTo>
                    <a:lnTo>
                      <a:pt x="77" y="4"/>
                    </a:lnTo>
                    <a:lnTo>
                      <a:pt x="76" y="4"/>
                    </a:lnTo>
                    <a:lnTo>
                      <a:pt x="75" y="4"/>
                    </a:lnTo>
                    <a:lnTo>
                      <a:pt x="75" y="3"/>
                    </a:lnTo>
                    <a:lnTo>
                      <a:pt x="75" y="2"/>
                    </a:lnTo>
                    <a:lnTo>
                      <a:pt x="76" y="2"/>
                    </a:lnTo>
                    <a:lnTo>
                      <a:pt x="77" y="2"/>
                    </a:lnTo>
                    <a:lnTo>
                      <a:pt x="78" y="0"/>
                    </a:lnTo>
                    <a:lnTo>
                      <a:pt x="96" y="0"/>
                    </a:lnTo>
                    <a:lnTo>
                      <a:pt x="97" y="0"/>
                    </a:lnTo>
                    <a:lnTo>
                      <a:pt x="99" y="0"/>
                    </a:lnTo>
                    <a:lnTo>
                      <a:pt x="99" y="0"/>
                    </a:lnTo>
                    <a:lnTo>
                      <a:pt x="101" y="0"/>
                    </a:lnTo>
                    <a:lnTo>
                      <a:pt x="102" y="0"/>
                    </a:lnTo>
                    <a:lnTo>
                      <a:pt x="102" y="2"/>
                    </a:lnTo>
                    <a:lnTo>
                      <a:pt x="103" y="4"/>
                    </a:lnTo>
                    <a:lnTo>
                      <a:pt x="103" y="6"/>
                    </a:lnTo>
                    <a:lnTo>
                      <a:pt x="103" y="7"/>
                    </a:lnTo>
                    <a:lnTo>
                      <a:pt x="102" y="8"/>
                    </a:lnTo>
                    <a:lnTo>
                      <a:pt x="102" y="8"/>
                    </a:lnTo>
                    <a:lnTo>
                      <a:pt x="102" y="8"/>
                    </a:lnTo>
                    <a:lnTo>
                      <a:pt x="101" y="8"/>
                    </a:lnTo>
                    <a:lnTo>
                      <a:pt x="99" y="7"/>
                    </a:lnTo>
                    <a:lnTo>
                      <a:pt x="99" y="6"/>
                    </a:lnTo>
                    <a:lnTo>
                      <a:pt x="99" y="6"/>
                    </a:lnTo>
                    <a:lnTo>
                      <a:pt x="98" y="5"/>
                    </a:lnTo>
                    <a:lnTo>
                      <a:pt x="97" y="5"/>
                    </a:lnTo>
                    <a:lnTo>
                      <a:pt x="96" y="4"/>
                    </a:lnTo>
                    <a:lnTo>
                      <a:pt x="95" y="4"/>
                    </a:lnTo>
                    <a:lnTo>
                      <a:pt x="88" y="4"/>
                    </a:lnTo>
                    <a:lnTo>
                      <a:pt x="86" y="4"/>
                    </a:lnTo>
                    <a:lnTo>
                      <a:pt x="85" y="4"/>
                    </a:lnTo>
                    <a:lnTo>
                      <a:pt x="84" y="5"/>
                    </a:lnTo>
                    <a:lnTo>
                      <a:pt x="84" y="5"/>
                    </a:lnTo>
                    <a:lnTo>
                      <a:pt x="82" y="6"/>
                    </a:lnTo>
                    <a:lnTo>
                      <a:pt x="82" y="8"/>
                    </a:lnTo>
                    <a:lnTo>
                      <a:pt x="82" y="11"/>
                    </a:lnTo>
                    <a:lnTo>
                      <a:pt x="82" y="15"/>
                    </a:lnTo>
                    <a:lnTo>
                      <a:pt x="82" y="16"/>
                    </a:lnTo>
                    <a:lnTo>
                      <a:pt x="82" y="17"/>
                    </a:lnTo>
                    <a:lnTo>
                      <a:pt x="82" y="17"/>
                    </a:lnTo>
                    <a:lnTo>
                      <a:pt x="84" y="17"/>
                    </a:lnTo>
                    <a:lnTo>
                      <a:pt x="84" y="17"/>
                    </a:lnTo>
                    <a:lnTo>
                      <a:pt x="90" y="17"/>
                    </a:lnTo>
                    <a:lnTo>
                      <a:pt x="93" y="17"/>
                    </a:lnTo>
                    <a:lnTo>
                      <a:pt x="93" y="17"/>
                    </a:lnTo>
                    <a:lnTo>
                      <a:pt x="94" y="16"/>
                    </a:lnTo>
                    <a:lnTo>
                      <a:pt x="94" y="15"/>
                    </a:lnTo>
                    <a:lnTo>
                      <a:pt x="94" y="15"/>
                    </a:lnTo>
                    <a:lnTo>
                      <a:pt x="94" y="14"/>
                    </a:lnTo>
                    <a:lnTo>
                      <a:pt x="95" y="13"/>
                    </a:lnTo>
                    <a:lnTo>
                      <a:pt x="96" y="12"/>
                    </a:lnTo>
                    <a:lnTo>
                      <a:pt x="96" y="13"/>
                    </a:lnTo>
                    <a:lnTo>
                      <a:pt x="97" y="13"/>
                    </a:lnTo>
                    <a:lnTo>
                      <a:pt x="97" y="15"/>
                    </a:lnTo>
                    <a:lnTo>
                      <a:pt x="97" y="20"/>
                    </a:lnTo>
                    <a:lnTo>
                      <a:pt x="97" y="23"/>
                    </a:lnTo>
                    <a:lnTo>
                      <a:pt x="97" y="25"/>
                    </a:lnTo>
                    <a:lnTo>
                      <a:pt x="96" y="27"/>
                    </a:lnTo>
                    <a:lnTo>
                      <a:pt x="96" y="27"/>
                    </a:lnTo>
                    <a:lnTo>
                      <a:pt x="95" y="25"/>
                    </a:lnTo>
                    <a:lnTo>
                      <a:pt x="94" y="24"/>
                    </a:lnTo>
                    <a:lnTo>
                      <a:pt x="94" y="23"/>
                    </a:lnTo>
                    <a:lnTo>
                      <a:pt x="94" y="23"/>
                    </a:lnTo>
                    <a:lnTo>
                      <a:pt x="94" y="22"/>
                    </a:lnTo>
                    <a:lnTo>
                      <a:pt x="93" y="21"/>
                    </a:lnTo>
                    <a:lnTo>
                      <a:pt x="93" y="21"/>
                    </a:lnTo>
                    <a:lnTo>
                      <a:pt x="90" y="21"/>
                    </a:lnTo>
                    <a:lnTo>
                      <a:pt x="84" y="21"/>
                    </a:lnTo>
                    <a:lnTo>
                      <a:pt x="84" y="21"/>
                    </a:lnTo>
                    <a:lnTo>
                      <a:pt x="82" y="21"/>
                    </a:lnTo>
                    <a:lnTo>
                      <a:pt x="82" y="22"/>
                    </a:lnTo>
                    <a:lnTo>
                      <a:pt x="82" y="23"/>
                    </a:lnTo>
                    <a:lnTo>
                      <a:pt x="82" y="23"/>
                    </a:lnTo>
                    <a:lnTo>
                      <a:pt x="82" y="24"/>
                    </a:lnTo>
                    <a:lnTo>
                      <a:pt x="82" y="25"/>
                    </a:lnTo>
                    <a:lnTo>
                      <a:pt x="82" y="27"/>
                    </a:lnTo>
                    <a:lnTo>
                      <a:pt x="82" y="30"/>
                    </a:lnTo>
                    <a:lnTo>
                      <a:pt x="82" y="32"/>
                    </a:lnTo>
                    <a:lnTo>
                      <a:pt x="82" y="33"/>
                    </a:lnTo>
                    <a:lnTo>
                      <a:pt x="84" y="34"/>
                    </a:lnTo>
                    <a:lnTo>
                      <a:pt x="84" y="36"/>
                    </a:lnTo>
                    <a:lnTo>
                      <a:pt x="85" y="36"/>
                    </a:lnTo>
                    <a:lnTo>
                      <a:pt x="87" y="37"/>
                    </a:lnTo>
                    <a:lnTo>
                      <a:pt x="89" y="37"/>
                    </a:lnTo>
                    <a:lnTo>
                      <a:pt x="94" y="37"/>
                    </a:lnTo>
                    <a:lnTo>
                      <a:pt x="96" y="36"/>
                    </a:lnTo>
                    <a:lnTo>
                      <a:pt x="98" y="36"/>
                    </a:lnTo>
                    <a:lnTo>
                      <a:pt x="99" y="34"/>
                    </a:lnTo>
                    <a:lnTo>
                      <a:pt x="101" y="33"/>
                    </a:lnTo>
                    <a:lnTo>
                      <a:pt x="101" y="32"/>
                    </a:lnTo>
                    <a:lnTo>
                      <a:pt x="102" y="31"/>
                    </a:lnTo>
                    <a:lnTo>
                      <a:pt x="102" y="30"/>
                    </a:lnTo>
                    <a:lnTo>
                      <a:pt x="103" y="29"/>
                    </a:lnTo>
                    <a:lnTo>
                      <a:pt x="104" y="29"/>
                    </a:lnTo>
                    <a:lnTo>
                      <a:pt x="104" y="30"/>
                    </a:lnTo>
                    <a:lnTo>
                      <a:pt x="104" y="31"/>
                    </a:lnTo>
                    <a:lnTo>
                      <a:pt x="104" y="32"/>
                    </a:lnTo>
                    <a:lnTo>
                      <a:pt x="104" y="34"/>
                    </a:lnTo>
                    <a:lnTo>
                      <a:pt x="103" y="38"/>
                    </a:lnTo>
                    <a:lnTo>
                      <a:pt x="102" y="39"/>
                    </a:lnTo>
                    <a:lnTo>
                      <a:pt x="101" y="40"/>
                    </a:lnTo>
                    <a:lnTo>
                      <a:pt x="101" y="40"/>
                    </a:lnTo>
                    <a:lnTo>
                      <a:pt x="101" y="40"/>
                    </a:lnTo>
                    <a:lnTo>
                      <a:pt x="98" y="39"/>
                    </a:lnTo>
                    <a:lnTo>
                      <a:pt x="97" y="39"/>
                    </a:lnTo>
                    <a:lnTo>
                      <a:pt x="78" y="39"/>
                    </a:lnTo>
                    <a:close/>
                    <a:moveTo>
                      <a:pt x="109" y="37"/>
                    </a:moveTo>
                    <a:lnTo>
                      <a:pt x="109" y="36"/>
                    </a:lnTo>
                    <a:lnTo>
                      <a:pt x="110" y="34"/>
                    </a:lnTo>
                    <a:lnTo>
                      <a:pt x="111" y="34"/>
                    </a:lnTo>
                    <a:lnTo>
                      <a:pt x="112" y="34"/>
                    </a:lnTo>
                    <a:lnTo>
                      <a:pt x="113" y="34"/>
                    </a:lnTo>
                    <a:lnTo>
                      <a:pt x="114" y="34"/>
                    </a:lnTo>
                    <a:lnTo>
                      <a:pt x="114" y="36"/>
                    </a:lnTo>
                    <a:lnTo>
                      <a:pt x="114" y="37"/>
                    </a:lnTo>
                    <a:lnTo>
                      <a:pt x="114" y="38"/>
                    </a:lnTo>
                    <a:lnTo>
                      <a:pt x="114" y="39"/>
                    </a:lnTo>
                    <a:lnTo>
                      <a:pt x="113" y="40"/>
                    </a:lnTo>
                    <a:lnTo>
                      <a:pt x="112" y="40"/>
                    </a:lnTo>
                    <a:lnTo>
                      <a:pt x="111" y="40"/>
                    </a:lnTo>
                    <a:lnTo>
                      <a:pt x="110" y="39"/>
                    </a:lnTo>
                    <a:lnTo>
                      <a:pt x="109" y="38"/>
                    </a:lnTo>
                    <a:lnTo>
                      <a:pt x="109" y="37"/>
                    </a:lnTo>
                    <a:close/>
                    <a:moveTo>
                      <a:pt x="145" y="21"/>
                    </a:moveTo>
                    <a:lnTo>
                      <a:pt x="144" y="21"/>
                    </a:lnTo>
                    <a:lnTo>
                      <a:pt x="144" y="21"/>
                    </a:lnTo>
                    <a:lnTo>
                      <a:pt x="142" y="22"/>
                    </a:lnTo>
                    <a:lnTo>
                      <a:pt x="142" y="24"/>
                    </a:lnTo>
                    <a:lnTo>
                      <a:pt x="142" y="24"/>
                    </a:lnTo>
                    <a:lnTo>
                      <a:pt x="142" y="29"/>
                    </a:lnTo>
                    <a:lnTo>
                      <a:pt x="142" y="31"/>
                    </a:lnTo>
                    <a:lnTo>
                      <a:pt x="144" y="33"/>
                    </a:lnTo>
                    <a:lnTo>
                      <a:pt x="144" y="36"/>
                    </a:lnTo>
                    <a:lnTo>
                      <a:pt x="144" y="36"/>
                    </a:lnTo>
                    <a:lnTo>
                      <a:pt x="145" y="37"/>
                    </a:lnTo>
                    <a:lnTo>
                      <a:pt x="147" y="37"/>
                    </a:lnTo>
                    <a:lnTo>
                      <a:pt x="149" y="37"/>
                    </a:lnTo>
                    <a:lnTo>
                      <a:pt x="154" y="37"/>
                    </a:lnTo>
                    <a:lnTo>
                      <a:pt x="156" y="34"/>
                    </a:lnTo>
                    <a:lnTo>
                      <a:pt x="158" y="32"/>
                    </a:lnTo>
                    <a:lnTo>
                      <a:pt x="158" y="30"/>
                    </a:lnTo>
                    <a:lnTo>
                      <a:pt x="158" y="25"/>
                    </a:lnTo>
                    <a:lnTo>
                      <a:pt x="156" y="23"/>
                    </a:lnTo>
                    <a:lnTo>
                      <a:pt x="152" y="22"/>
                    </a:lnTo>
                    <a:lnTo>
                      <a:pt x="145" y="21"/>
                    </a:lnTo>
                    <a:close/>
                    <a:moveTo>
                      <a:pt x="142" y="13"/>
                    </a:moveTo>
                    <a:lnTo>
                      <a:pt x="142" y="16"/>
                    </a:lnTo>
                    <a:lnTo>
                      <a:pt x="142" y="17"/>
                    </a:lnTo>
                    <a:lnTo>
                      <a:pt x="144" y="17"/>
                    </a:lnTo>
                    <a:lnTo>
                      <a:pt x="144" y="19"/>
                    </a:lnTo>
                    <a:lnTo>
                      <a:pt x="145" y="19"/>
                    </a:lnTo>
                    <a:lnTo>
                      <a:pt x="150" y="17"/>
                    </a:lnTo>
                    <a:lnTo>
                      <a:pt x="154" y="16"/>
                    </a:lnTo>
                    <a:lnTo>
                      <a:pt x="156" y="14"/>
                    </a:lnTo>
                    <a:lnTo>
                      <a:pt x="157" y="11"/>
                    </a:lnTo>
                    <a:lnTo>
                      <a:pt x="156" y="7"/>
                    </a:lnTo>
                    <a:lnTo>
                      <a:pt x="155" y="5"/>
                    </a:lnTo>
                    <a:lnTo>
                      <a:pt x="152" y="4"/>
                    </a:lnTo>
                    <a:lnTo>
                      <a:pt x="148" y="4"/>
                    </a:lnTo>
                    <a:lnTo>
                      <a:pt x="146" y="4"/>
                    </a:lnTo>
                    <a:lnTo>
                      <a:pt x="145" y="4"/>
                    </a:lnTo>
                    <a:lnTo>
                      <a:pt x="144" y="4"/>
                    </a:lnTo>
                    <a:lnTo>
                      <a:pt x="144" y="4"/>
                    </a:lnTo>
                    <a:lnTo>
                      <a:pt x="144" y="5"/>
                    </a:lnTo>
                    <a:lnTo>
                      <a:pt x="142" y="7"/>
                    </a:lnTo>
                    <a:lnTo>
                      <a:pt x="142" y="9"/>
                    </a:lnTo>
                    <a:lnTo>
                      <a:pt x="142" y="13"/>
                    </a:lnTo>
                    <a:close/>
                    <a:moveTo>
                      <a:pt x="162" y="9"/>
                    </a:moveTo>
                    <a:lnTo>
                      <a:pt x="162" y="13"/>
                    </a:lnTo>
                    <a:lnTo>
                      <a:pt x="161" y="15"/>
                    </a:lnTo>
                    <a:lnTo>
                      <a:pt x="159" y="16"/>
                    </a:lnTo>
                    <a:lnTo>
                      <a:pt x="157" y="19"/>
                    </a:lnTo>
                    <a:lnTo>
                      <a:pt x="156" y="19"/>
                    </a:lnTo>
                    <a:lnTo>
                      <a:pt x="155" y="19"/>
                    </a:lnTo>
                    <a:lnTo>
                      <a:pt x="154" y="19"/>
                    </a:lnTo>
                    <a:lnTo>
                      <a:pt x="154" y="20"/>
                    </a:lnTo>
                    <a:lnTo>
                      <a:pt x="154" y="20"/>
                    </a:lnTo>
                    <a:lnTo>
                      <a:pt x="155" y="20"/>
                    </a:lnTo>
                    <a:lnTo>
                      <a:pt x="156" y="20"/>
                    </a:lnTo>
                    <a:lnTo>
                      <a:pt x="156" y="20"/>
                    </a:lnTo>
                    <a:lnTo>
                      <a:pt x="159" y="21"/>
                    </a:lnTo>
                    <a:lnTo>
                      <a:pt x="162" y="23"/>
                    </a:lnTo>
                    <a:lnTo>
                      <a:pt x="164" y="25"/>
                    </a:lnTo>
                    <a:lnTo>
                      <a:pt x="164" y="29"/>
                    </a:lnTo>
                    <a:lnTo>
                      <a:pt x="163" y="33"/>
                    </a:lnTo>
                    <a:lnTo>
                      <a:pt x="161" y="37"/>
                    </a:lnTo>
                    <a:lnTo>
                      <a:pt x="156" y="39"/>
                    </a:lnTo>
                    <a:lnTo>
                      <a:pt x="150" y="39"/>
                    </a:lnTo>
                    <a:lnTo>
                      <a:pt x="148" y="39"/>
                    </a:lnTo>
                    <a:lnTo>
                      <a:pt x="146" y="39"/>
                    </a:lnTo>
                    <a:lnTo>
                      <a:pt x="144" y="39"/>
                    </a:lnTo>
                    <a:lnTo>
                      <a:pt x="142" y="39"/>
                    </a:lnTo>
                    <a:lnTo>
                      <a:pt x="141" y="39"/>
                    </a:lnTo>
                    <a:lnTo>
                      <a:pt x="139" y="39"/>
                    </a:lnTo>
                    <a:lnTo>
                      <a:pt x="138" y="39"/>
                    </a:lnTo>
                    <a:lnTo>
                      <a:pt x="138" y="39"/>
                    </a:lnTo>
                    <a:lnTo>
                      <a:pt x="137" y="39"/>
                    </a:lnTo>
                    <a:lnTo>
                      <a:pt x="136" y="39"/>
                    </a:lnTo>
                    <a:lnTo>
                      <a:pt x="135" y="39"/>
                    </a:lnTo>
                    <a:lnTo>
                      <a:pt x="135" y="38"/>
                    </a:lnTo>
                    <a:lnTo>
                      <a:pt x="135" y="37"/>
                    </a:lnTo>
                    <a:lnTo>
                      <a:pt x="136" y="37"/>
                    </a:lnTo>
                    <a:lnTo>
                      <a:pt x="137" y="36"/>
                    </a:lnTo>
                    <a:lnTo>
                      <a:pt x="138" y="36"/>
                    </a:lnTo>
                    <a:lnTo>
                      <a:pt x="138" y="34"/>
                    </a:lnTo>
                    <a:lnTo>
                      <a:pt x="138" y="32"/>
                    </a:lnTo>
                    <a:lnTo>
                      <a:pt x="138" y="28"/>
                    </a:lnTo>
                    <a:lnTo>
                      <a:pt x="138" y="20"/>
                    </a:lnTo>
                    <a:lnTo>
                      <a:pt x="138" y="13"/>
                    </a:lnTo>
                    <a:lnTo>
                      <a:pt x="138" y="8"/>
                    </a:lnTo>
                    <a:lnTo>
                      <a:pt x="138" y="6"/>
                    </a:lnTo>
                    <a:lnTo>
                      <a:pt x="138" y="5"/>
                    </a:lnTo>
                    <a:lnTo>
                      <a:pt x="137" y="4"/>
                    </a:lnTo>
                    <a:lnTo>
                      <a:pt x="136" y="4"/>
                    </a:lnTo>
                    <a:lnTo>
                      <a:pt x="135" y="4"/>
                    </a:lnTo>
                    <a:lnTo>
                      <a:pt x="135" y="3"/>
                    </a:lnTo>
                    <a:lnTo>
                      <a:pt x="135" y="2"/>
                    </a:lnTo>
                    <a:lnTo>
                      <a:pt x="135" y="2"/>
                    </a:lnTo>
                    <a:lnTo>
                      <a:pt x="136" y="2"/>
                    </a:lnTo>
                    <a:lnTo>
                      <a:pt x="137" y="2"/>
                    </a:lnTo>
                    <a:lnTo>
                      <a:pt x="137" y="2"/>
                    </a:lnTo>
                    <a:lnTo>
                      <a:pt x="142" y="0"/>
                    </a:lnTo>
                    <a:lnTo>
                      <a:pt x="149" y="0"/>
                    </a:lnTo>
                    <a:lnTo>
                      <a:pt x="155" y="2"/>
                    </a:lnTo>
                    <a:lnTo>
                      <a:pt x="158" y="3"/>
                    </a:lnTo>
                    <a:lnTo>
                      <a:pt x="162" y="6"/>
                    </a:lnTo>
                    <a:lnTo>
                      <a:pt x="162" y="9"/>
                    </a:lnTo>
                    <a:close/>
                    <a:moveTo>
                      <a:pt x="170" y="37"/>
                    </a:moveTo>
                    <a:lnTo>
                      <a:pt x="170" y="36"/>
                    </a:lnTo>
                    <a:lnTo>
                      <a:pt x="171" y="34"/>
                    </a:lnTo>
                    <a:lnTo>
                      <a:pt x="171" y="34"/>
                    </a:lnTo>
                    <a:lnTo>
                      <a:pt x="173" y="34"/>
                    </a:lnTo>
                    <a:lnTo>
                      <a:pt x="174" y="34"/>
                    </a:lnTo>
                    <a:lnTo>
                      <a:pt x="175" y="34"/>
                    </a:lnTo>
                    <a:lnTo>
                      <a:pt x="175" y="36"/>
                    </a:lnTo>
                    <a:lnTo>
                      <a:pt x="175" y="37"/>
                    </a:lnTo>
                    <a:lnTo>
                      <a:pt x="175" y="38"/>
                    </a:lnTo>
                    <a:lnTo>
                      <a:pt x="175" y="39"/>
                    </a:lnTo>
                    <a:lnTo>
                      <a:pt x="174" y="40"/>
                    </a:lnTo>
                    <a:lnTo>
                      <a:pt x="173" y="40"/>
                    </a:lnTo>
                    <a:lnTo>
                      <a:pt x="172" y="40"/>
                    </a:lnTo>
                    <a:lnTo>
                      <a:pt x="171" y="39"/>
                    </a:lnTo>
                    <a:lnTo>
                      <a:pt x="170" y="38"/>
                    </a:lnTo>
                    <a:lnTo>
                      <a:pt x="170" y="37"/>
                    </a:lnTo>
                    <a:close/>
                  </a:path>
                </a:pathLst>
              </a:custGeom>
              <a:solidFill>
                <a:srgbClr val="29166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3" name=""/>
              <p:cNvSpPr/>
              <p:nvPr/>
            </p:nvSpPr>
            <p:spPr>
              <a:xfrm>
                <a:off x="524520" y="712800"/>
                <a:ext cx="355680" cy="100080"/>
              </a:xfrm>
              <a:custGeom>
                <a:avLst/>
                <a:gdLst/>
                <a:ahLst/>
                <a:rect l="l" t="t" r="r" b="b"/>
                <a:pathLst>
                  <a:path w="560" h="158">
                    <a:moveTo>
                      <a:pt x="39" y="48"/>
                    </a:moveTo>
                    <a:lnTo>
                      <a:pt x="40" y="42"/>
                    </a:lnTo>
                    <a:lnTo>
                      <a:pt x="41" y="38"/>
                    </a:lnTo>
                    <a:lnTo>
                      <a:pt x="41" y="33"/>
                    </a:lnTo>
                    <a:lnTo>
                      <a:pt x="41" y="30"/>
                    </a:lnTo>
                    <a:lnTo>
                      <a:pt x="40" y="25"/>
                    </a:lnTo>
                    <a:lnTo>
                      <a:pt x="37" y="23"/>
                    </a:lnTo>
                    <a:lnTo>
                      <a:pt x="35" y="21"/>
                    </a:lnTo>
                    <a:lnTo>
                      <a:pt x="32" y="19"/>
                    </a:lnTo>
                    <a:lnTo>
                      <a:pt x="29" y="17"/>
                    </a:lnTo>
                    <a:lnTo>
                      <a:pt x="26" y="17"/>
                    </a:lnTo>
                    <a:lnTo>
                      <a:pt x="24" y="19"/>
                    </a:lnTo>
                    <a:lnTo>
                      <a:pt x="22" y="20"/>
                    </a:lnTo>
                    <a:lnTo>
                      <a:pt x="16" y="23"/>
                    </a:lnTo>
                    <a:lnTo>
                      <a:pt x="13" y="29"/>
                    </a:lnTo>
                    <a:lnTo>
                      <a:pt x="11" y="34"/>
                    </a:lnTo>
                    <a:lnTo>
                      <a:pt x="10" y="39"/>
                    </a:lnTo>
                    <a:lnTo>
                      <a:pt x="10" y="44"/>
                    </a:lnTo>
                    <a:lnTo>
                      <a:pt x="10" y="47"/>
                    </a:lnTo>
                    <a:lnTo>
                      <a:pt x="11" y="51"/>
                    </a:lnTo>
                    <a:lnTo>
                      <a:pt x="14" y="54"/>
                    </a:lnTo>
                    <a:lnTo>
                      <a:pt x="16" y="56"/>
                    </a:lnTo>
                    <a:lnTo>
                      <a:pt x="18" y="58"/>
                    </a:lnTo>
                    <a:lnTo>
                      <a:pt x="22" y="59"/>
                    </a:lnTo>
                    <a:lnTo>
                      <a:pt x="24" y="59"/>
                    </a:lnTo>
                    <a:lnTo>
                      <a:pt x="27" y="59"/>
                    </a:lnTo>
                    <a:lnTo>
                      <a:pt x="29" y="58"/>
                    </a:lnTo>
                    <a:lnTo>
                      <a:pt x="32" y="56"/>
                    </a:lnTo>
                    <a:lnTo>
                      <a:pt x="34" y="54"/>
                    </a:lnTo>
                    <a:lnTo>
                      <a:pt x="36" y="51"/>
                    </a:lnTo>
                    <a:lnTo>
                      <a:pt x="39" y="48"/>
                    </a:lnTo>
                    <a:close/>
                    <a:moveTo>
                      <a:pt x="16" y="63"/>
                    </a:moveTo>
                    <a:lnTo>
                      <a:pt x="13" y="61"/>
                    </a:lnTo>
                    <a:lnTo>
                      <a:pt x="9" y="58"/>
                    </a:lnTo>
                    <a:lnTo>
                      <a:pt x="6" y="55"/>
                    </a:lnTo>
                    <a:lnTo>
                      <a:pt x="3" y="53"/>
                    </a:lnTo>
                    <a:lnTo>
                      <a:pt x="1" y="47"/>
                    </a:lnTo>
                    <a:lnTo>
                      <a:pt x="0" y="40"/>
                    </a:lnTo>
                    <a:lnTo>
                      <a:pt x="1" y="34"/>
                    </a:lnTo>
                    <a:lnTo>
                      <a:pt x="2" y="28"/>
                    </a:lnTo>
                    <a:lnTo>
                      <a:pt x="6" y="23"/>
                    </a:lnTo>
                    <a:lnTo>
                      <a:pt x="8" y="20"/>
                    </a:lnTo>
                    <a:lnTo>
                      <a:pt x="11" y="16"/>
                    </a:lnTo>
                    <a:lnTo>
                      <a:pt x="16" y="14"/>
                    </a:lnTo>
                    <a:lnTo>
                      <a:pt x="20" y="13"/>
                    </a:lnTo>
                    <a:lnTo>
                      <a:pt x="25" y="13"/>
                    </a:lnTo>
                    <a:lnTo>
                      <a:pt x="31" y="13"/>
                    </a:lnTo>
                    <a:lnTo>
                      <a:pt x="35" y="15"/>
                    </a:lnTo>
                    <a:lnTo>
                      <a:pt x="40" y="17"/>
                    </a:lnTo>
                    <a:lnTo>
                      <a:pt x="43" y="20"/>
                    </a:lnTo>
                    <a:lnTo>
                      <a:pt x="45" y="22"/>
                    </a:lnTo>
                    <a:lnTo>
                      <a:pt x="48" y="25"/>
                    </a:lnTo>
                    <a:lnTo>
                      <a:pt x="50" y="31"/>
                    </a:lnTo>
                    <a:lnTo>
                      <a:pt x="51" y="37"/>
                    </a:lnTo>
                    <a:lnTo>
                      <a:pt x="50" y="44"/>
                    </a:lnTo>
                    <a:lnTo>
                      <a:pt x="48" y="49"/>
                    </a:lnTo>
                    <a:lnTo>
                      <a:pt x="46" y="53"/>
                    </a:lnTo>
                    <a:lnTo>
                      <a:pt x="44" y="56"/>
                    </a:lnTo>
                    <a:lnTo>
                      <a:pt x="41" y="59"/>
                    </a:lnTo>
                    <a:lnTo>
                      <a:pt x="39" y="62"/>
                    </a:lnTo>
                    <a:lnTo>
                      <a:pt x="33" y="64"/>
                    </a:lnTo>
                    <a:lnTo>
                      <a:pt x="27" y="65"/>
                    </a:lnTo>
                    <a:lnTo>
                      <a:pt x="22" y="64"/>
                    </a:lnTo>
                    <a:lnTo>
                      <a:pt x="16" y="63"/>
                    </a:lnTo>
                    <a:close/>
                    <a:moveTo>
                      <a:pt x="41" y="7"/>
                    </a:moveTo>
                    <a:lnTo>
                      <a:pt x="42" y="6"/>
                    </a:lnTo>
                    <a:lnTo>
                      <a:pt x="43" y="5"/>
                    </a:lnTo>
                    <a:lnTo>
                      <a:pt x="44" y="5"/>
                    </a:lnTo>
                    <a:lnTo>
                      <a:pt x="46" y="5"/>
                    </a:lnTo>
                    <a:lnTo>
                      <a:pt x="48" y="6"/>
                    </a:lnTo>
                    <a:lnTo>
                      <a:pt x="48" y="7"/>
                    </a:lnTo>
                    <a:lnTo>
                      <a:pt x="49" y="8"/>
                    </a:lnTo>
                    <a:lnTo>
                      <a:pt x="48" y="10"/>
                    </a:lnTo>
                    <a:lnTo>
                      <a:pt x="48" y="11"/>
                    </a:lnTo>
                    <a:lnTo>
                      <a:pt x="46" y="12"/>
                    </a:lnTo>
                    <a:lnTo>
                      <a:pt x="44" y="12"/>
                    </a:lnTo>
                    <a:lnTo>
                      <a:pt x="43" y="12"/>
                    </a:lnTo>
                    <a:lnTo>
                      <a:pt x="42" y="11"/>
                    </a:lnTo>
                    <a:lnTo>
                      <a:pt x="41" y="10"/>
                    </a:lnTo>
                    <a:lnTo>
                      <a:pt x="41" y="8"/>
                    </a:lnTo>
                    <a:lnTo>
                      <a:pt x="41" y="7"/>
                    </a:lnTo>
                    <a:close/>
                    <a:moveTo>
                      <a:pt x="31" y="3"/>
                    </a:moveTo>
                    <a:lnTo>
                      <a:pt x="31" y="2"/>
                    </a:lnTo>
                    <a:lnTo>
                      <a:pt x="32" y="0"/>
                    </a:lnTo>
                    <a:lnTo>
                      <a:pt x="34" y="0"/>
                    </a:lnTo>
                    <a:lnTo>
                      <a:pt x="35" y="0"/>
                    </a:lnTo>
                    <a:lnTo>
                      <a:pt x="36" y="2"/>
                    </a:lnTo>
                    <a:lnTo>
                      <a:pt x="37" y="3"/>
                    </a:lnTo>
                    <a:lnTo>
                      <a:pt x="37" y="4"/>
                    </a:lnTo>
                    <a:lnTo>
                      <a:pt x="37" y="5"/>
                    </a:lnTo>
                    <a:lnTo>
                      <a:pt x="36" y="6"/>
                    </a:lnTo>
                    <a:lnTo>
                      <a:pt x="35" y="7"/>
                    </a:lnTo>
                    <a:lnTo>
                      <a:pt x="34" y="7"/>
                    </a:lnTo>
                    <a:lnTo>
                      <a:pt x="32" y="7"/>
                    </a:lnTo>
                    <a:lnTo>
                      <a:pt x="31" y="6"/>
                    </a:lnTo>
                    <a:lnTo>
                      <a:pt x="31" y="5"/>
                    </a:lnTo>
                    <a:lnTo>
                      <a:pt x="29" y="4"/>
                    </a:lnTo>
                    <a:lnTo>
                      <a:pt x="31" y="3"/>
                    </a:lnTo>
                    <a:close/>
                    <a:moveTo>
                      <a:pt x="67" y="74"/>
                    </a:moveTo>
                    <a:lnTo>
                      <a:pt x="76" y="78"/>
                    </a:lnTo>
                    <a:lnTo>
                      <a:pt x="78" y="79"/>
                    </a:lnTo>
                    <a:lnTo>
                      <a:pt x="80" y="79"/>
                    </a:lnTo>
                    <a:lnTo>
                      <a:pt x="83" y="78"/>
                    </a:lnTo>
                    <a:lnTo>
                      <a:pt x="84" y="76"/>
                    </a:lnTo>
                    <a:lnTo>
                      <a:pt x="85" y="75"/>
                    </a:lnTo>
                    <a:lnTo>
                      <a:pt x="86" y="74"/>
                    </a:lnTo>
                    <a:lnTo>
                      <a:pt x="88" y="73"/>
                    </a:lnTo>
                    <a:lnTo>
                      <a:pt x="89" y="73"/>
                    </a:lnTo>
                    <a:lnTo>
                      <a:pt x="91" y="73"/>
                    </a:lnTo>
                    <a:lnTo>
                      <a:pt x="91" y="74"/>
                    </a:lnTo>
                    <a:lnTo>
                      <a:pt x="91" y="74"/>
                    </a:lnTo>
                    <a:lnTo>
                      <a:pt x="91" y="75"/>
                    </a:lnTo>
                    <a:lnTo>
                      <a:pt x="89" y="80"/>
                    </a:lnTo>
                    <a:lnTo>
                      <a:pt x="87" y="83"/>
                    </a:lnTo>
                    <a:lnTo>
                      <a:pt x="85" y="85"/>
                    </a:lnTo>
                    <a:lnTo>
                      <a:pt x="83" y="87"/>
                    </a:lnTo>
                    <a:lnTo>
                      <a:pt x="83" y="85"/>
                    </a:lnTo>
                    <a:lnTo>
                      <a:pt x="83" y="85"/>
                    </a:lnTo>
                    <a:lnTo>
                      <a:pt x="79" y="84"/>
                    </a:lnTo>
                    <a:lnTo>
                      <a:pt x="76" y="83"/>
                    </a:lnTo>
                    <a:lnTo>
                      <a:pt x="53" y="75"/>
                    </a:lnTo>
                    <a:lnTo>
                      <a:pt x="51" y="74"/>
                    </a:lnTo>
                    <a:lnTo>
                      <a:pt x="50" y="73"/>
                    </a:lnTo>
                    <a:lnTo>
                      <a:pt x="50" y="72"/>
                    </a:lnTo>
                    <a:lnTo>
                      <a:pt x="50" y="71"/>
                    </a:lnTo>
                    <a:lnTo>
                      <a:pt x="51" y="70"/>
                    </a:lnTo>
                    <a:lnTo>
                      <a:pt x="53" y="67"/>
                    </a:lnTo>
                    <a:lnTo>
                      <a:pt x="54" y="67"/>
                    </a:lnTo>
                    <a:lnTo>
                      <a:pt x="86" y="44"/>
                    </a:lnTo>
                    <a:lnTo>
                      <a:pt x="86" y="44"/>
                    </a:lnTo>
                    <a:lnTo>
                      <a:pt x="88" y="42"/>
                    </a:lnTo>
                    <a:lnTo>
                      <a:pt x="88" y="42"/>
                    </a:lnTo>
                    <a:lnTo>
                      <a:pt x="88" y="41"/>
                    </a:lnTo>
                    <a:lnTo>
                      <a:pt x="88" y="40"/>
                    </a:lnTo>
                    <a:lnTo>
                      <a:pt x="86" y="39"/>
                    </a:lnTo>
                    <a:lnTo>
                      <a:pt x="84" y="39"/>
                    </a:lnTo>
                    <a:lnTo>
                      <a:pt x="79" y="37"/>
                    </a:lnTo>
                    <a:lnTo>
                      <a:pt x="76" y="36"/>
                    </a:lnTo>
                    <a:lnTo>
                      <a:pt x="74" y="36"/>
                    </a:lnTo>
                    <a:lnTo>
                      <a:pt x="73" y="36"/>
                    </a:lnTo>
                    <a:lnTo>
                      <a:pt x="70" y="37"/>
                    </a:lnTo>
                    <a:lnTo>
                      <a:pt x="69" y="38"/>
                    </a:lnTo>
                    <a:lnTo>
                      <a:pt x="68" y="39"/>
                    </a:lnTo>
                    <a:lnTo>
                      <a:pt x="67" y="40"/>
                    </a:lnTo>
                    <a:lnTo>
                      <a:pt x="66" y="40"/>
                    </a:lnTo>
                    <a:lnTo>
                      <a:pt x="66" y="41"/>
                    </a:lnTo>
                    <a:lnTo>
                      <a:pt x="65" y="41"/>
                    </a:lnTo>
                    <a:lnTo>
                      <a:pt x="65" y="41"/>
                    </a:lnTo>
                    <a:lnTo>
                      <a:pt x="63" y="41"/>
                    </a:lnTo>
                    <a:lnTo>
                      <a:pt x="62" y="41"/>
                    </a:lnTo>
                    <a:lnTo>
                      <a:pt x="62" y="40"/>
                    </a:lnTo>
                    <a:lnTo>
                      <a:pt x="62" y="39"/>
                    </a:lnTo>
                    <a:lnTo>
                      <a:pt x="62" y="38"/>
                    </a:lnTo>
                    <a:lnTo>
                      <a:pt x="63" y="36"/>
                    </a:lnTo>
                    <a:lnTo>
                      <a:pt x="65" y="34"/>
                    </a:lnTo>
                    <a:lnTo>
                      <a:pt x="66" y="32"/>
                    </a:lnTo>
                    <a:lnTo>
                      <a:pt x="67" y="30"/>
                    </a:lnTo>
                    <a:lnTo>
                      <a:pt x="68" y="29"/>
                    </a:lnTo>
                    <a:lnTo>
                      <a:pt x="69" y="29"/>
                    </a:lnTo>
                    <a:lnTo>
                      <a:pt x="70" y="28"/>
                    </a:lnTo>
                    <a:lnTo>
                      <a:pt x="70" y="29"/>
                    </a:lnTo>
                    <a:lnTo>
                      <a:pt x="70" y="29"/>
                    </a:lnTo>
                    <a:lnTo>
                      <a:pt x="71" y="29"/>
                    </a:lnTo>
                    <a:lnTo>
                      <a:pt x="74" y="30"/>
                    </a:lnTo>
                    <a:lnTo>
                      <a:pt x="77" y="31"/>
                    </a:lnTo>
                    <a:lnTo>
                      <a:pt x="95" y="38"/>
                    </a:lnTo>
                    <a:lnTo>
                      <a:pt x="99" y="39"/>
                    </a:lnTo>
                    <a:lnTo>
                      <a:pt x="101" y="40"/>
                    </a:lnTo>
                    <a:lnTo>
                      <a:pt x="102" y="41"/>
                    </a:lnTo>
                    <a:lnTo>
                      <a:pt x="102" y="42"/>
                    </a:lnTo>
                    <a:lnTo>
                      <a:pt x="100" y="45"/>
                    </a:lnTo>
                    <a:lnTo>
                      <a:pt x="95" y="49"/>
                    </a:lnTo>
                    <a:lnTo>
                      <a:pt x="94" y="49"/>
                    </a:lnTo>
                    <a:lnTo>
                      <a:pt x="66" y="70"/>
                    </a:lnTo>
                    <a:lnTo>
                      <a:pt x="65" y="71"/>
                    </a:lnTo>
                    <a:lnTo>
                      <a:pt x="63" y="71"/>
                    </a:lnTo>
                    <a:lnTo>
                      <a:pt x="63" y="71"/>
                    </a:lnTo>
                    <a:lnTo>
                      <a:pt x="63" y="72"/>
                    </a:lnTo>
                    <a:lnTo>
                      <a:pt x="63" y="72"/>
                    </a:lnTo>
                    <a:lnTo>
                      <a:pt x="63" y="73"/>
                    </a:lnTo>
                    <a:lnTo>
                      <a:pt x="65" y="74"/>
                    </a:lnTo>
                    <a:lnTo>
                      <a:pt x="67" y="74"/>
                    </a:lnTo>
                    <a:close/>
                    <a:moveTo>
                      <a:pt x="103" y="91"/>
                    </a:moveTo>
                    <a:lnTo>
                      <a:pt x="100" y="90"/>
                    </a:lnTo>
                    <a:lnTo>
                      <a:pt x="97" y="89"/>
                    </a:lnTo>
                    <a:lnTo>
                      <a:pt x="96" y="89"/>
                    </a:lnTo>
                    <a:lnTo>
                      <a:pt x="96" y="88"/>
                    </a:lnTo>
                    <a:lnTo>
                      <a:pt x="97" y="87"/>
                    </a:lnTo>
                    <a:lnTo>
                      <a:pt x="100" y="85"/>
                    </a:lnTo>
                    <a:lnTo>
                      <a:pt x="101" y="85"/>
                    </a:lnTo>
                    <a:lnTo>
                      <a:pt x="101" y="85"/>
                    </a:lnTo>
                    <a:lnTo>
                      <a:pt x="102" y="84"/>
                    </a:lnTo>
                    <a:lnTo>
                      <a:pt x="103" y="81"/>
                    </a:lnTo>
                    <a:lnTo>
                      <a:pt x="105" y="75"/>
                    </a:lnTo>
                    <a:lnTo>
                      <a:pt x="108" y="67"/>
                    </a:lnTo>
                    <a:lnTo>
                      <a:pt x="110" y="61"/>
                    </a:lnTo>
                    <a:lnTo>
                      <a:pt x="111" y="55"/>
                    </a:lnTo>
                    <a:lnTo>
                      <a:pt x="112" y="50"/>
                    </a:lnTo>
                    <a:lnTo>
                      <a:pt x="112" y="49"/>
                    </a:lnTo>
                    <a:lnTo>
                      <a:pt x="111" y="48"/>
                    </a:lnTo>
                    <a:lnTo>
                      <a:pt x="110" y="47"/>
                    </a:lnTo>
                    <a:lnTo>
                      <a:pt x="109" y="46"/>
                    </a:lnTo>
                    <a:lnTo>
                      <a:pt x="109" y="45"/>
                    </a:lnTo>
                    <a:lnTo>
                      <a:pt x="110" y="44"/>
                    </a:lnTo>
                    <a:lnTo>
                      <a:pt x="111" y="42"/>
                    </a:lnTo>
                    <a:lnTo>
                      <a:pt x="113" y="44"/>
                    </a:lnTo>
                    <a:lnTo>
                      <a:pt x="118" y="45"/>
                    </a:lnTo>
                    <a:lnTo>
                      <a:pt x="138" y="50"/>
                    </a:lnTo>
                    <a:lnTo>
                      <a:pt x="140" y="50"/>
                    </a:lnTo>
                    <a:lnTo>
                      <a:pt x="142" y="51"/>
                    </a:lnTo>
                    <a:lnTo>
                      <a:pt x="143" y="51"/>
                    </a:lnTo>
                    <a:lnTo>
                      <a:pt x="144" y="51"/>
                    </a:lnTo>
                    <a:lnTo>
                      <a:pt x="144" y="51"/>
                    </a:lnTo>
                    <a:lnTo>
                      <a:pt x="145" y="51"/>
                    </a:lnTo>
                    <a:lnTo>
                      <a:pt x="145" y="51"/>
                    </a:lnTo>
                    <a:lnTo>
                      <a:pt x="145" y="53"/>
                    </a:lnTo>
                    <a:lnTo>
                      <a:pt x="145" y="54"/>
                    </a:lnTo>
                    <a:lnTo>
                      <a:pt x="145" y="56"/>
                    </a:lnTo>
                    <a:lnTo>
                      <a:pt x="145" y="58"/>
                    </a:lnTo>
                    <a:lnTo>
                      <a:pt x="145" y="61"/>
                    </a:lnTo>
                    <a:lnTo>
                      <a:pt x="144" y="62"/>
                    </a:lnTo>
                    <a:lnTo>
                      <a:pt x="144" y="63"/>
                    </a:lnTo>
                    <a:lnTo>
                      <a:pt x="143" y="63"/>
                    </a:lnTo>
                    <a:lnTo>
                      <a:pt x="142" y="63"/>
                    </a:lnTo>
                    <a:lnTo>
                      <a:pt x="140" y="62"/>
                    </a:lnTo>
                    <a:lnTo>
                      <a:pt x="140" y="59"/>
                    </a:lnTo>
                    <a:lnTo>
                      <a:pt x="139" y="58"/>
                    </a:lnTo>
                    <a:lnTo>
                      <a:pt x="139" y="58"/>
                    </a:lnTo>
                    <a:lnTo>
                      <a:pt x="139" y="57"/>
                    </a:lnTo>
                    <a:lnTo>
                      <a:pt x="138" y="56"/>
                    </a:lnTo>
                    <a:lnTo>
                      <a:pt x="136" y="55"/>
                    </a:lnTo>
                    <a:lnTo>
                      <a:pt x="134" y="54"/>
                    </a:lnTo>
                    <a:lnTo>
                      <a:pt x="129" y="53"/>
                    </a:lnTo>
                    <a:lnTo>
                      <a:pt x="127" y="51"/>
                    </a:lnTo>
                    <a:lnTo>
                      <a:pt x="125" y="51"/>
                    </a:lnTo>
                    <a:lnTo>
                      <a:pt x="123" y="51"/>
                    </a:lnTo>
                    <a:lnTo>
                      <a:pt x="122" y="53"/>
                    </a:lnTo>
                    <a:lnTo>
                      <a:pt x="121" y="53"/>
                    </a:lnTo>
                    <a:lnTo>
                      <a:pt x="120" y="55"/>
                    </a:lnTo>
                    <a:lnTo>
                      <a:pt x="120" y="57"/>
                    </a:lnTo>
                    <a:lnTo>
                      <a:pt x="119" y="61"/>
                    </a:lnTo>
                    <a:lnTo>
                      <a:pt x="118" y="64"/>
                    </a:lnTo>
                    <a:lnTo>
                      <a:pt x="118" y="65"/>
                    </a:lnTo>
                    <a:lnTo>
                      <a:pt x="118" y="66"/>
                    </a:lnTo>
                    <a:lnTo>
                      <a:pt x="118" y="66"/>
                    </a:lnTo>
                    <a:lnTo>
                      <a:pt x="119" y="66"/>
                    </a:lnTo>
                    <a:lnTo>
                      <a:pt x="125" y="68"/>
                    </a:lnTo>
                    <a:lnTo>
                      <a:pt x="127" y="68"/>
                    </a:lnTo>
                    <a:lnTo>
                      <a:pt x="128" y="68"/>
                    </a:lnTo>
                    <a:lnTo>
                      <a:pt x="129" y="67"/>
                    </a:lnTo>
                    <a:lnTo>
                      <a:pt x="130" y="66"/>
                    </a:lnTo>
                    <a:lnTo>
                      <a:pt x="130" y="66"/>
                    </a:lnTo>
                    <a:lnTo>
                      <a:pt x="130" y="65"/>
                    </a:lnTo>
                    <a:lnTo>
                      <a:pt x="133" y="63"/>
                    </a:lnTo>
                    <a:lnTo>
                      <a:pt x="134" y="63"/>
                    </a:lnTo>
                    <a:lnTo>
                      <a:pt x="135" y="64"/>
                    </a:lnTo>
                    <a:lnTo>
                      <a:pt x="136" y="65"/>
                    </a:lnTo>
                    <a:lnTo>
                      <a:pt x="135" y="68"/>
                    </a:lnTo>
                    <a:lnTo>
                      <a:pt x="134" y="73"/>
                    </a:lnTo>
                    <a:lnTo>
                      <a:pt x="133" y="79"/>
                    </a:lnTo>
                    <a:lnTo>
                      <a:pt x="130" y="81"/>
                    </a:lnTo>
                    <a:lnTo>
                      <a:pt x="129" y="82"/>
                    </a:lnTo>
                    <a:lnTo>
                      <a:pt x="128" y="82"/>
                    </a:lnTo>
                    <a:lnTo>
                      <a:pt x="127" y="81"/>
                    </a:lnTo>
                    <a:lnTo>
                      <a:pt x="127" y="79"/>
                    </a:lnTo>
                    <a:lnTo>
                      <a:pt x="127" y="79"/>
                    </a:lnTo>
                    <a:lnTo>
                      <a:pt x="127" y="78"/>
                    </a:lnTo>
                    <a:lnTo>
                      <a:pt x="127" y="76"/>
                    </a:lnTo>
                    <a:lnTo>
                      <a:pt x="127" y="74"/>
                    </a:lnTo>
                    <a:lnTo>
                      <a:pt x="126" y="74"/>
                    </a:lnTo>
                    <a:lnTo>
                      <a:pt x="123" y="73"/>
                    </a:lnTo>
                    <a:lnTo>
                      <a:pt x="117" y="71"/>
                    </a:lnTo>
                    <a:lnTo>
                      <a:pt x="117" y="71"/>
                    </a:lnTo>
                    <a:lnTo>
                      <a:pt x="116" y="72"/>
                    </a:lnTo>
                    <a:lnTo>
                      <a:pt x="116" y="72"/>
                    </a:lnTo>
                    <a:lnTo>
                      <a:pt x="114" y="74"/>
                    </a:lnTo>
                    <a:lnTo>
                      <a:pt x="113" y="78"/>
                    </a:lnTo>
                    <a:lnTo>
                      <a:pt x="113" y="81"/>
                    </a:lnTo>
                    <a:lnTo>
                      <a:pt x="112" y="83"/>
                    </a:lnTo>
                    <a:lnTo>
                      <a:pt x="112" y="85"/>
                    </a:lnTo>
                    <a:lnTo>
                      <a:pt x="112" y="87"/>
                    </a:lnTo>
                    <a:lnTo>
                      <a:pt x="112" y="88"/>
                    </a:lnTo>
                    <a:lnTo>
                      <a:pt x="113" y="89"/>
                    </a:lnTo>
                    <a:lnTo>
                      <a:pt x="116" y="90"/>
                    </a:lnTo>
                    <a:lnTo>
                      <a:pt x="119" y="91"/>
                    </a:lnTo>
                    <a:lnTo>
                      <a:pt x="123" y="92"/>
                    </a:lnTo>
                    <a:lnTo>
                      <a:pt x="126" y="92"/>
                    </a:lnTo>
                    <a:lnTo>
                      <a:pt x="128" y="92"/>
                    </a:lnTo>
                    <a:lnTo>
                      <a:pt x="130" y="92"/>
                    </a:lnTo>
                    <a:lnTo>
                      <a:pt x="133" y="90"/>
                    </a:lnTo>
                    <a:lnTo>
                      <a:pt x="134" y="90"/>
                    </a:lnTo>
                    <a:lnTo>
                      <a:pt x="135" y="89"/>
                    </a:lnTo>
                    <a:lnTo>
                      <a:pt x="136" y="87"/>
                    </a:lnTo>
                    <a:lnTo>
                      <a:pt x="137" y="87"/>
                    </a:lnTo>
                    <a:lnTo>
                      <a:pt x="138" y="87"/>
                    </a:lnTo>
                    <a:lnTo>
                      <a:pt x="138" y="88"/>
                    </a:lnTo>
                    <a:lnTo>
                      <a:pt x="138" y="89"/>
                    </a:lnTo>
                    <a:lnTo>
                      <a:pt x="138" y="90"/>
                    </a:lnTo>
                    <a:lnTo>
                      <a:pt x="137" y="92"/>
                    </a:lnTo>
                    <a:lnTo>
                      <a:pt x="136" y="95"/>
                    </a:lnTo>
                    <a:lnTo>
                      <a:pt x="135" y="97"/>
                    </a:lnTo>
                    <a:lnTo>
                      <a:pt x="134" y="98"/>
                    </a:lnTo>
                    <a:lnTo>
                      <a:pt x="133" y="99"/>
                    </a:lnTo>
                    <a:lnTo>
                      <a:pt x="131" y="100"/>
                    </a:lnTo>
                    <a:lnTo>
                      <a:pt x="131" y="100"/>
                    </a:lnTo>
                    <a:lnTo>
                      <a:pt x="130" y="100"/>
                    </a:lnTo>
                    <a:lnTo>
                      <a:pt x="130" y="100"/>
                    </a:lnTo>
                    <a:lnTo>
                      <a:pt x="130" y="100"/>
                    </a:lnTo>
                    <a:lnTo>
                      <a:pt x="128" y="99"/>
                    </a:lnTo>
                    <a:lnTo>
                      <a:pt x="126" y="98"/>
                    </a:lnTo>
                    <a:lnTo>
                      <a:pt x="103" y="91"/>
                    </a:lnTo>
                    <a:close/>
                    <a:moveTo>
                      <a:pt x="166" y="104"/>
                    </a:moveTo>
                    <a:lnTo>
                      <a:pt x="170" y="104"/>
                    </a:lnTo>
                    <a:lnTo>
                      <a:pt x="172" y="104"/>
                    </a:lnTo>
                    <a:lnTo>
                      <a:pt x="174" y="104"/>
                    </a:lnTo>
                    <a:lnTo>
                      <a:pt x="177" y="101"/>
                    </a:lnTo>
                    <a:lnTo>
                      <a:pt x="177" y="101"/>
                    </a:lnTo>
                    <a:lnTo>
                      <a:pt x="178" y="100"/>
                    </a:lnTo>
                    <a:lnTo>
                      <a:pt x="180" y="98"/>
                    </a:lnTo>
                    <a:lnTo>
                      <a:pt x="181" y="98"/>
                    </a:lnTo>
                    <a:lnTo>
                      <a:pt x="182" y="98"/>
                    </a:lnTo>
                    <a:lnTo>
                      <a:pt x="182" y="99"/>
                    </a:lnTo>
                    <a:lnTo>
                      <a:pt x="182" y="100"/>
                    </a:lnTo>
                    <a:lnTo>
                      <a:pt x="182" y="101"/>
                    </a:lnTo>
                    <a:lnTo>
                      <a:pt x="181" y="104"/>
                    </a:lnTo>
                    <a:lnTo>
                      <a:pt x="180" y="106"/>
                    </a:lnTo>
                    <a:lnTo>
                      <a:pt x="179" y="108"/>
                    </a:lnTo>
                    <a:lnTo>
                      <a:pt x="178" y="110"/>
                    </a:lnTo>
                    <a:lnTo>
                      <a:pt x="177" y="112"/>
                    </a:lnTo>
                    <a:lnTo>
                      <a:pt x="177" y="112"/>
                    </a:lnTo>
                    <a:lnTo>
                      <a:pt x="176" y="112"/>
                    </a:lnTo>
                    <a:lnTo>
                      <a:pt x="174" y="112"/>
                    </a:lnTo>
                    <a:lnTo>
                      <a:pt x="172" y="110"/>
                    </a:lnTo>
                    <a:lnTo>
                      <a:pt x="170" y="109"/>
                    </a:lnTo>
                    <a:lnTo>
                      <a:pt x="151" y="105"/>
                    </a:lnTo>
                    <a:lnTo>
                      <a:pt x="146" y="104"/>
                    </a:lnTo>
                    <a:lnTo>
                      <a:pt x="144" y="102"/>
                    </a:lnTo>
                    <a:lnTo>
                      <a:pt x="144" y="101"/>
                    </a:lnTo>
                    <a:lnTo>
                      <a:pt x="144" y="100"/>
                    </a:lnTo>
                    <a:lnTo>
                      <a:pt x="145" y="99"/>
                    </a:lnTo>
                    <a:lnTo>
                      <a:pt x="146" y="99"/>
                    </a:lnTo>
                    <a:lnTo>
                      <a:pt x="147" y="98"/>
                    </a:lnTo>
                    <a:lnTo>
                      <a:pt x="148" y="98"/>
                    </a:lnTo>
                    <a:lnTo>
                      <a:pt x="148" y="97"/>
                    </a:lnTo>
                    <a:lnTo>
                      <a:pt x="149" y="95"/>
                    </a:lnTo>
                    <a:lnTo>
                      <a:pt x="152" y="89"/>
                    </a:lnTo>
                    <a:lnTo>
                      <a:pt x="154" y="80"/>
                    </a:lnTo>
                    <a:lnTo>
                      <a:pt x="156" y="73"/>
                    </a:lnTo>
                    <a:lnTo>
                      <a:pt x="157" y="67"/>
                    </a:lnTo>
                    <a:lnTo>
                      <a:pt x="159" y="63"/>
                    </a:lnTo>
                    <a:lnTo>
                      <a:pt x="159" y="62"/>
                    </a:lnTo>
                    <a:lnTo>
                      <a:pt x="157" y="61"/>
                    </a:lnTo>
                    <a:lnTo>
                      <a:pt x="156" y="59"/>
                    </a:lnTo>
                    <a:lnTo>
                      <a:pt x="155" y="58"/>
                    </a:lnTo>
                    <a:lnTo>
                      <a:pt x="155" y="57"/>
                    </a:lnTo>
                    <a:lnTo>
                      <a:pt x="156" y="56"/>
                    </a:lnTo>
                    <a:lnTo>
                      <a:pt x="157" y="56"/>
                    </a:lnTo>
                    <a:lnTo>
                      <a:pt x="160" y="56"/>
                    </a:lnTo>
                    <a:lnTo>
                      <a:pt x="164" y="57"/>
                    </a:lnTo>
                    <a:lnTo>
                      <a:pt x="170" y="58"/>
                    </a:lnTo>
                    <a:lnTo>
                      <a:pt x="172" y="59"/>
                    </a:lnTo>
                    <a:lnTo>
                      <a:pt x="173" y="61"/>
                    </a:lnTo>
                    <a:lnTo>
                      <a:pt x="173" y="62"/>
                    </a:lnTo>
                    <a:lnTo>
                      <a:pt x="172" y="63"/>
                    </a:lnTo>
                    <a:lnTo>
                      <a:pt x="170" y="64"/>
                    </a:lnTo>
                    <a:lnTo>
                      <a:pt x="170" y="64"/>
                    </a:lnTo>
                    <a:lnTo>
                      <a:pt x="169" y="64"/>
                    </a:lnTo>
                    <a:lnTo>
                      <a:pt x="168" y="65"/>
                    </a:lnTo>
                    <a:lnTo>
                      <a:pt x="166" y="67"/>
                    </a:lnTo>
                    <a:lnTo>
                      <a:pt x="165" y="72"/>
                    </a:lnTo>
                    <a:lnTo>
                      <a:pt x="164" y="78"/>
                    </a:lnTo>
                    <a:lnTo>
                      <a:pt x="162" y="85"/>
                    </a:lnTo>
                    <a:lnTo>
                      <a:pt x="160" y="91"/>
                    </a:lnTo>
                    <a:lnTo>
                      <a:pt x="160" y="96"/>
                    </a:lnTo>
                    <a:lnTo>
                      <a:pt x="159" y="98"/>
                    </a:lnTo>
                    <a:lnTo>
                      <a:pt x="160" y="100"/>
                    </a:lnTo>
                    <a:lnTo>
                      <a:pt x="160" y="101"/>
                    </a:lnTo>
                    <a:lnTo>
                      <a:pt x="162" y="102"/>
                    </a:lnTo>
                    <a:lnTo>
                      <a:pt x="165" y="104"/>
                    </a:lnTo>
                    <a:lnTo>
                      <a:pt x="166" y="104"/>
                    </a:lnTo>
                    <a:close/>
                    <a:moveTo>
                      <a:pt x="258" y="90"/>
                    </a:moveTo>
                    <a:lnTo>
                      <a:pt x="256" y="95"/>
                    </a:lnTo>
                    <a:lnTo>
                      <a:pt x="253" y="100"/>
                    </a:lnTo>
                    <a:lnTo>
                      <a:pt x="240" y="118"/>
                    </a:lnTo>
                    <a:lnTo>
                      <a:pt x="234" y="124"/>
                    </a:lnTo>
                    <a:lnTo>
                      <a:pt x="233" y="123"/>
                    </a:lnTo>
                    <a:lnTo>
                      <a:pt x="232" y="119"/>
                    </a:lnTo>
                    <a:lnTo>
                      <a:pt x="231" y="114"/>
                    </a:lnTo>
                    <a:lnTo>
                      <a:pt x="229" y="104"/>
                    </a:lnTo>
                    <a:lnTo>
                      <a:pt x="225" y="84"/>
                    </a:lnTo>
                    <a:lnTo>
                      <a:pt x="223" y="92"/>
                    </a:lnTo>
                    <a:lnTo>
                      <a:pt x="222" y="98"/>
                    </a:lnTo>
                    <a:lnTo>
                      <a:pt x="221" y="104"/>
                    </a:lnTo>
                    <a:lnTo>
                      <a:pt x="220" y="107"/>
                    </a:lnTo>
                    <a:lnTo>
                      <a:pt x="219" y="112"/>
                    </a:lnTo>
                    <a:lnTo>
                      <a:pt x="219" y="114"/>
                    </a:lnTo>
                    <a:lnTo>
                      <a:pt x="219" y="115"/>
                    </a:lnTo>
                    <a:lnTo>
                      <a:pt x="219" y="116"/>
                    </a:lnTo>
                    <a:lnTo>
                      <a:pt x="220" y="116"/>
                    </a:lnTo>
                    <a:lnTo>
                      <a:pt x="220" y="116"/>
                    </a:lnTo>
                    <a:lnTo>
                      <a:pt x="222" y="118"/>
                    </a:lnTo>
                    <a:lnTo>
                      <a:pt x="222" y="119"/>
                    </a:lnTo>
                    <a:lnTo>
                      <a:pt x="221" y="121"/>
                    </a:lnTo>
                    <a:lnTo>
                      <a:pt x="220" y="121"/>
                    </a:lnTo>
                    <a:lnTo>
                      <a:pt x="217" y="121"/>
                    </a:lnTo>
                    <a:lnTo>
                      <a:pt x="214" y="121"/>
                    </a:lnTo>
                    <a:lnTo>
                      <a:pt x="211" y="119"/>
                    </a:lnTo>
                    <a:lnTo>
                      <a:pt x="208" y="118"/>
                    </a:lnTo>
                    <a:lnTo>
                      <a:pt x="207" y="117"/>
                    </a:lnTo>
                    <a:lnTo>
                      <a:pt x="207" y="116"/>
                    </a:lnTo>
                    <a:lnTo>
                      <a:pt x="208" y="115"/>
                    </a:lnTo>
                    <a:lnTo>
                      <a:pt x="209" y="115"/>
                    </a:lnTo>
                    <a:lnTo>
                      <a:pt x="211" y="114"/>
                    </a:lnTo>
                    <a:lnTo>
                      <a:pt x="212" y="114"/>
                    </a:lnTo>
                    <a:lnTo>
                      <a:pt x="213" y="110"/>
                    </a:lnTo>
                    <a:lnTo>
                      <a:pt x="215" y="104"/>
                    </a:lnTo>
                    <a:lnTo>
                      <a:pt x="217" y="95"/>
                    </a:lnTo>
                    <a:lnTo>
                      <a:pt x="220" y="84"/>
                    </a:lnTo>
                    <a:lnTo>
                      <a:pt x="220" y="83"/>
                    </a:lnTo>
                    <a:lnTo>
                      <a:pt x="221" y="80"/>
                    </a:lnTo>
                    <a:lnTo>
                      <a:pt x="221" y="79"/>
                    </a:lnTo>
                    <a:lnTo>
                      <a:pt x="221" y="78"/>
                    </a:lnTo>
                    <a:lnTo>
                      <a:pt x="220" y="76"/>
                    </a:lnTo>
                    <a:lnTo>
                      <a:pt x="220" y="75"/>
                    </a:lnTo>
                    <a:lnTo>
                      <a:pt x="219" y="75"/>
                    </a:lnTo>
                    <a:lnTo>
                      <a:pt x="217" y="74"/>
                    </a:lnTo>
                    <a:lnTo>
                      <a:pt x="216" y="73"/>
                    </a:lnTo>
                    <a:lnTo>
                      <a:pt x="217" y="72"/>
                    </a:lnTo>
                    <a:lnTo>
                      <a:pt x="219" y="71"/>
                    </a:lnTo>
                    <a:lnTo>
                      <a:pt x="221" y="71"/>
                    </a:lnTo>
                    <a:lnTo>
                      <a:pt x="225" y="72"/>
                    </a:lnTo>
                    <a:lnTo>
                      <a:pt x="228" y="73"/>
                    </a:lnTo>
                    <a:lnTo>
                      <a:pt x="230" y="73"/>
                    </a:lnTo>
                    <a:lnTo>
                      <a:pt x="231" y="73"/>
                    </a:lnTo>
                    <a:lnTo>
                      <a:pt x="231" y="74"/>
                    </a:lnTo>
                    <a:lnTo>
                      <a:pt x="232" y="75"/>
                    </a:lnTo>
                    <a:lnTo>
                      <a:pt x="233" y="81"/>
                    </a:lnTo>
                    <a:lnTo>
                      <a:pt x="233" y="83"/>
                    </a:lnTo>
                    <a:lnTo>
                      <a:pt x="233" y="85"/>
                    </a:lnTo>
                    <a:lnTo>
                      <a:pt x="234" y="89"/>
                    </a:lnTo>
                    <a:lnTo>
                      <a:pt x="237" y="105"/>
                    </a:lnTo>
                    <a:lnTo>
                      <a:pt x="239" y="110"/>
                    </a:lnTo>
                    <a:lnTo>
                      <a:pt x="240" y="109"/>
                    </a:lnTo>
                    <a:lnTo>
                      <a:pt x="245" y="105"/>
                    </a:lnTo>
                    <a:lnTo>
                      <a:pt x="249" y="97"/>
                    </a:lnTo>
                    <a:lnTo>
                      <a:pt x="255" y="87"/>
                    </a:lnTo>
                    <a:lnTo>
                      <a:pt x="256" y="85"/>
                    </a:lnTo>
                    <a:lnTo>
                      <a:pt x="256" y="84"/>
                    </a:lnTo>
                    <a:lnTo>
                      <a:pt x="258" y="82"/>
                    </a:lnTo>
                    <a:lnTo>
                      <a:pt x="259" y="81"/>
                    </a:lnTo>
                    <a:lnTo>
                      <a:pt x="260" y="80"/>
                    </a:lnTo>
                    <a:lnTo>
                      <a:pt x="262" y="80"/>
                    </a:lnTo>
                    <a:lnTo>
                      <a:pt x="264" y="80"/>
                    </a:lnTo>
                    <a:lnTo>
                      <a:pt x="266" y="81"/>
                    </a:lnTo>
                    <a:lnTo>
                      <a:pt x="271" y="82"/>
                    </a:lnTo>
                    <a:lnTo>
                      <a:pt x="272" y="82"/>
                    </a:lnTo>
                    <a:lnTo>
                      <a:pt x="273" y="83"/>
                    </a:lnTo>
                    <a:lnTo>
                      <a:pt x="273" y="84"/>
                    </a:lnTo>
                    <a:lnTo>
                      <a:pt x="273" y="85"/>
                    </a:lnTo>
                    <a:lnTo>
                      <a:pt x="271" y="87"/>
                    </a:lnTo>
                    <a:lnTo>
                      <a:pt x="271" y="87"/>
                    </a:lnTo>
                    <a:lnTo>
                      <a:pt x="269" y="87"/>
                    </a:lnTo>
                    <a:lnTo>
                      <a:pt x="269" y="87"/>
                    </a:lnTo>
                    <a:lnTo>
                      <a:pt x="268" y="88"/>
                    </a:lnTo>
                    <a:lnTo>
                      <a:pt x="267" y="90"/>
                    </a:lnTo>
                    <a:lnTo>
                      <a:pt x="266" y="95"/>
                    </a:lnTo>
                    <a:lnTo>
                      <a:pt x="265" y="105"/>
                    </a:lnTo>
                    <a:lnTo>
                      <a:pt x="263" y="114"/>
                    </a:lnTo>
                    <a:lnTo>
                      <a:pt x="262" y="121"/>
                    </a:lnTo>
                    <a:lnTo>
                      <a:pt x="262" y="124"/>
                    </a:lnTo>
                    <a:lnTo>
                      <a:pt x="262" y="125"/>
                    </a:lnTo>
                    <a:lnTo>
                      <a:pt x="263" y="125"/>
                    </a:lnTo>
                    <a:lnTo>
                      <a:pt x="263" y="126"/>
                    </a:lnTo>
                    <a:lnTo>
                      <a:pt x="264" y="126"/>
                    </a:lnTo>
                    <a:lnTo>
                      <a:pt x="264" y="126"/>
                    </a:lnTo>
                    <a:lnTo>
                      <a:pt x="265" y="127"/>
                    </a:lnTo>
                    <a:lnTo>
                      <a:pt x="265" y="127"/>
                    </a:lnTo>
                    <a:lnTo>
                      <a:pt x="265" y="129"/>
                    </a:lnTo>
                    <a:lnTo>
                      <a:pt x="264" y="130"/>
                    </a:lnTo>
                    <a:lnTo>
                      <a:pt x="263" y="130"/>
                    </a:lnTo>
                    <a:lnTo>
                      <a:pt x="259" y="130"/>
                    </a:lnTo>
                    <a:lnTo>
                      <a:pt x="255" y="129"/>
                    </a:lnTo>
                    <a:lnTo>
                      <a:pt x="250" y="129"/>
                    </a:lnTo>
                    <a:lnTo>
                      <a:pt x="248" y="127"/>
                    </a:lnTo>
                    <a:lnTo>
                      <a:pt x="247" y="126"/>
                    </a:lnTo>
                    <a:lnTo>
                      <a:pt x="247" y="124"/>
                    </a:lnTo>
                    <a:lnTo>
                      <a:pt x="248" y="123"/>
                    </a:lnTo>
                    <a:lnTo>
                      <a:pt x="249" y="123"/>
                    </a:lnTo>
                    <a:lnTo>
                      <a:pt x="250" y="123"/>
                    </a:lnTo>
                    <a:lnTo>
                      <a:pt x="251" y="123"/>
                    </a:lnTo>
                    <a:lnTo>
                      <a:pt x="251" y="122"/>
                    </a:lnTo>
                    <a:lnTo>
                      <a:pt x="253" y="121"/>
                    </a:lnTo>
                    <a:lnTo>
                      <a:pt x="253" y="118"/>
                    </a:lnTo>
                    <a:lnTo>
                      <a:pt x="254" y="115"/>
                    </a:lnTo>
                    <a:lnTo>
                      <a:pt x="254" y="113"/>
                    </a:lnTo>
                    <a:lnTo>
                      <a:pt x="256" y="105"/>
                    </a:lnTo>
                    <a:lnTo>
                      <a:pt x="257" y="98"/>
                    </a:lnTo>
                    <a:lnTo>
                      <a:pt x="258" y="93"/>
                    </a:lnTo>
                    <a:lnTo>
                      <a:pt x="258" y="90"/>
                    </a:lnTo>
                    <a:close/>
                    <a:moveTo>
                      <a:pt x="305" y="116"/>
                    </a:moveTo>
                    <a:lnTo>
                      <a:pt x="305" y="112"/>
                    </a:lnTo>
                    <a:lnTo>
                      <a:pt x="303" y="107"/>
                    </a:lnTo>
                    <a:lnTo>
                      <a:pt x="302" y="102"/>
                    </a:lnTo>
                    <a:lnTo>
                      <a:pt x="301" y="98"/>
                    </a:lnTo>
                    <a:lnTo>
                      <a:pt x="300" y="98"/>
                    </a:lnTo>
                    <a:lnTo>
                      <a:pt x="298" y="101"/>
                    </a:lnTo>
                    <a:lnTo>
                      <a:pt x="296" y="106"/>
                    </a:lnTo>
                    <a:lnTo>
                      <a:pt x="293" y="109"/>
                    </a:lnTo>
                    <a:lnTo>
                      <a:pt x="290" y="114"/>
                    </a:lnTo>
                    <a:lnTo>
                      <a:pt x="292" y="114"/>
                    </a:lnTo>
                    <a:lnTo>
                      <a:pt x="294" y="115"/>
                    </a:lnTo>
                    <a:lnTo>
                      <a:pt x="296" y="115"/>
                    </a:lnTo>
                    <a:lnTo>
                      <a:pt x="298" y="115"/>
                    </a:lnTo>
                    <a:lnTo>
                      <a:pt x="300" y="115"/>
                    </a:lnTo>
                    <a:lnTo>
                      <a:pt x="301" y="116"/>
                    </a:lnTo>
                    <a:lnTo>
                      <a:pt x="303" y="116"/>
                    </a:lnTo>
                    <a:lnTo>
                      <a:pt x="305" y="116"/>
                    </a:lnTo>
                    <a:close/>
                    <a:moveTo>
                      <a:pt x="290" y="107"/>
                    </a:moveTo>
                    <a:lnTo>
                      <a:pt x="290" y="106"/>
                    </a:lnTo>
                    <a:lnTo>
                      <a:pt x="291" y="104"/>
                    </a:lnTo>
                    <a:lnTo>
                      <a:pt x="297" y="95"/>
                    </a:lnTo>
                    <a:lnTo>
                      <a:pt x="300" y="88"/>
                    </a:lnTo>
                    <a:lnTo>
                      <a:pt x="301" y="87"/>
                    </a:lnTo>
                    <a:lnTo>
                      <a:pt x="301" y="85"/>
                    </a:lnTo>
                    <a:lnTo>
                      <a:pt x="302" y="85"/>
                    </a:lnTo>
                    <a:lnTo>
                      <a:pt x="305" y="85"/>
                    </a:lnTo>
                    <a:lnTo>
                      <a:pt x="306" y="87"/>
                    </a:lnTo>
                    <a:lnTo>
                      <a:pt x="306" y="87"/>
                    </a:lnTo>
                    <a:lnTo>
                      <a:pt x="307" y="88"/>
                    </a:lnTo>
                    <a:lnTo>
                      <a:pt x="307" y="89"/>
                    </a:lnTo>
                    <a:lnTo>
                      <a:pt x="309" y="93"/>
                    </a:lnTo>
                    <a:lnTo>
                      <a:pt x="310" y="101"/>
                    </a:lnTo>
                    <a:lnTo>
                      <a:pt x="313" y="109"/>
                    </a:lnTo>
                    <a:lnTo>
                      <a:pt x="315" y="118"/>
                    </a:lnTo>
                    <a:lnTo>
                      <a:pt x="315" y="119"/>
                    </a:lnTo>
                    <a:lnTo>
                      <a:pt x="315" y="122"/>
                    </a:lnTo>
                    <a:lnTo>
                      <a:pt x="317" y="131"/>
                    </a:lnTo>
                    <a:lnTo>
                      <a:pt x="319" y="134"/>
                    </a:lnTo>
                    <a:lnTo>
                      <a:pt x="319" y="134"/>
                    </a:lnTo>
                    <a:lnTo>
                      <a:pt x="320" y="135"/>
                    </a:lnTo>
                    <a:lnTo>
                      <a:pt x="322" y="136"/>
                    </a:lnTo>
                    <a:lnTo>
                      <a:pt x="323" y="138"/>
                    </a:lnTo>
                    <a:lnTo>
                      <a:pt x="322" y="139"/>
                    </a:lnTo>
                    <a:lnTo>
                      <a:pt x="319" y="139"/>
                    </a:lnTo>
                    <a:lnTo>
                      <a:pt x="317" y="139"/>
                    </a:lnTo>
                    <a:lnTo>
                      <a:pt x="311" y="139"/>
                    </a:lnTo>
                    <a:lnTo>
                      <a:pt x="307" y="138"/>
                    </a:lnTo>
                    <a:lnTo>
                      <a:pt x="303" y="136"/>
                    </a:lnTo>
                    <a:lnTo>
                      <a:pt x="302" y="135"/>
                    </a:lnTo>
                    <a:lnTo>
                      <a:pt x="302" y="134"/>
                    </a:lnTo>
                    <a:lnTo>
                      <a:pt x="303" y="133"/>
                    </a:lnTo>
                    <a:lnTo>
                      <a:pt x="305" y="132"/>
                    </a:lnTo>
                    <a:lnTo>
                      <a:pt x="306" y="132"/>
                    </a:lnTo>
                    <a:lnTo>
                      <a:pt x="306" y="132"/>
                    </a:lnTo>
                    <a:lnTo>
                      <a:pt x="307" y="132"/>
                    </a:lnTo>
                    <a:lnTo>
                      <a:pt x="307" y="132"/>
                    </a:lnTo>
                    <a:lnTo>
                      <a:pt x="307" y="131"/>
                    </a:lnTo>
                    <a:lnTo>
                      <a:pt x="308" y="131"/>
                    </a:lnTo>
                    <a:lnTo>
                      <a:pt x="308" y="130"/>
                    </a:lnTo>
                    <a:lnTo>
                      <a:pt x="308" y="127"/>
                    </a:lnTo>
                    <a:lnTo>
                      <a:pt x="307" y="125"/>
                    </a:lnTo>
                    <a:lnTo>
                      <a:pt x="307" y="124"/>
                    </a:lnTo>
                    <a:lnTo>
                      <a:pt x="307" y="123"/>
                    </a:lnTo>
                    <a:lnTo>
                      <a:pt x="307" y="123"/>
                    </a:lnTo>
                    <a:lnTo>
                      <a:pt x="306" y="122"/>
                    </a:lnTo>
                    <a:lnTo>
                      <a:pt x="306" y="122"/>
                    </a:lnTo>
                    <a:lnTo>
                      <a:pt x="305" y="122"/>
                    </a:lnTo>
                    <a:lnTo>
                      <a:pt x="303" y="122"/>
                    </a:lnTo>
                    <a:lnTo>
                      <a:pt x="301" y="121"/>
                    </a:lnTo>
                    <a:lnTo>
                      <a:pt x="298" y="121"/>
                    </a:lnTo>
                    <a:lnTo>
                      <a:pt x="297" y="121"/>
                    </a:lnTo>
                    <a:lnTo>
                      <a:pt x="292" y="119"/>
                    </a:lnTo>
                    <a:lnTo>
                      <a:pt x="290" y="119"/>
                    </a:lnTo>
                    <a:lnTo>
                      <a:pt x="289" y="119"/>
                    </a:lnTo>
                    <a:lnTo>
                      <a:pt x="288" y="119"/>
                    </a:lnTo>
                    <a:lnTo>
                      <a:pt x="286" y="121"/>
                    </a:lnTo>
                    <a:lnTo>
                      <a:pt x="285" y="122"/>
                    </a:lnTo>
                    <a:lnTo>
                      <a:pt x="284" y="124"/>
                    </a:lnTo>
                    <a:lnTo>
                      <a:pt x="284" y="125"/>
                    </a:lnTo>
                    <a:lnTo>
                      <a:pt x="284" y="126"/>
                    </a:lnTo>
                    <a:lnTo>
                      <a:pt x="284" y="127"/>
                    </a:lnTo>
                    <a:lnTo>
                      <a:pt x="285" y="127"/>
                    </a:lnTo>
                    <a:lnTo>
                      <a:pt x="285" y="129"/>
                    </a:lnTo>
                    <a:lnTo>
                      <a:pt x="286" y="129"/>
                    </a:lnTo>
                    <a:lnTo>
                      <a:pt x="286" y="129"/>
                    </a:lnTo>
                    <a:lnTo>
                      <a:pt x="288" y="130"/>
                    </a:lnTo>
                    <a:lnTo>
                      <a:pt x="289" y="132"/>
                    </a:lnTo>
                    <a:lnTo>
                      <a:pt x="288" y="133"/>
                    </a:lnTo>
                    <a:lnTo>
                      <a:pt x="286" y="133"/>
                    </a:lnTo>
                    <a:lnTo>
                      <a:pt x="284" y="133"/>
                    </a:lnTo>
                    <a:lnTo>
                      <a:pt x="280" y="133"/>
                    </a:lnTo>
                    <a:lnTo>
                      <a:pt x="275" y="132"/>
                    </a:lnTo>
                    <a:lnTo>
                      <a:pt x="273" y="131"/>
                    </a:lnTo>
                    <a:lnTo>
                      <a:pt x="272" y="130"/>
                    </a:lnTo>
                    <a:lnTo>
                      <a:pt x="272" y="129"/>
                    </a:lnTo>
                    <a:lnTo>
                      <a:pt x="272" y="127"/>
                    </a:lnTo>
                    <a:lnTo>
                      <a:pt x="274" y="126"/>
                    </a:lnTo>
                    <a:lnTo>
                      <a:pt x="274" y="126"/>
                    </a:lnTo>
                    <a:lnTo>
                      <a:pt x="275" y="126"/>
                    </a:lnTo>
                    <a:lnTo>
                      <a:pt x="279" y="124"/>
                    </a:lnTo>
                    <a:lnTo>
                      <a:pt x="281" y="119"/>
                    </a:lnTo>
                    <a:lnTo>
                      <a:pt x="282" y="118"/>
                    </a:lnTo>
                    <a:lnTo>
                      <a:pt x="282" y="118"/>
                    </a:lnTo>
                    <a:lnTo>
                      <a:pt x="290" y="107"/>
                    </a:lnTo>
                    <a:close/>
                    <a:moveTo>
                      <a:pt x="349" y="114"/>
                    </a:moveTo>
                    <a:lnTo>
                      <a:pt x="352" y="109"/>
                    </a:lnTo>
                    <a:lnTo>
                      <a:pt x="356" y="106"/>
                    </a:lnTo>
                    <a:lnTo>
                      <a:pt x="357" y="104"/>
                    </a:lnTo>
                    <a:lnTo>
                      <a:pt x="358" y="102"/>
                    </a:lnTo>
                    <a:lnTo>
                      <a:pt x="358" y="101"/>
                    </a:lnTo>
                    <a:lnTo>
                      <a:pt x="358" y="100"/>
                    </a:lnTo>
                    <a:lnTo>
                      <a:pt x="357" y="100"/>
                    </a:lnTo>
                    <a:lnTo>
                      <a:pt x="356" y="99"/>
                    </a:lnTo>
                    <a:lnTo>
                      <a:pt x="354" y="98"/>
                    </a:lnTo>
                    <a:lnTo>
                      <a:pt x="354" y="98"/>
                    </a:lnTo>
                    <a:lnTo>
                      <a:pt x="353" y="97"/>
                    </a:lnTo>
                    <a:lnTo>
                      <a:pt x="353" y="97"/>
                    </a:lnTo>
                    <a:lnTo>
                      <a:pt x="354" y="96"/>
                    </a:lnTo>
                    <a:lnTo>
                      <a:pt x="356" y="95"/>
                    </a:lnTo>
                    <a:lnTo>
                      <a:pt x="358" y="95"/>
                    </a:lnTo>
                    <a:lnTo>
                      <a:pt x="362" y="96"/>
                    </a:lnTo>
                    <a:lnTo>
                      <a:pt x="367" y="96"/>
                    </a:lnTo>
                    <a:lnTo>
                      <a:pt x="369" y="97"/>
                    </a:lnTo>
                    <a:lnTo>
                      <a:pt x="370" y="98"/>
                    </a:lnTo>
                    <a:lnTo>
                      <a:pt x="370" y="99"/>
                    </a:lnTo>
                    <a:lnTo>
                      <a:pt x="370" y="100"/>
                    </a:lnTo>
                    <a:lnTo>
                      <a:pt x="368" y="100"/>
                    </a:lnTo>
                    <a:lnTo>
                      <a:pt x="367" y="101"/>
                    </a:lnTo>
                    <a:lnTo>
                      <a:pt x="366" y="101"/>
                    </a:lnTo>
                    <a:lnTo>
                      <a:pt x="363" y="104"/>
                    </a:lnTo>
                    <a:lnTo>
                      <a:pt x="360" y="107"/>
                    </a:lnTo>
                    <a:lnTo>
                      <a:pt x="356" y="113"/>
                    </a:lnTo>
                    <a:lnTo>
                      <a:pt x="350" y="119"/>
                    </a:lnTo>
                    <a:lnTo>
                      <a:pt x="350" y="122"/>
                    </a:lnTo>
                    <a:lnTo>
                      <a:pt x="349" y="125"/>
                    </a:lnTo>
                    <a:lnTo>
                      <a:pt x="348" y="134"/>
                    </a:lnTo>
                    <a:lnTo>
                      <a:pt x="349" y="138"/>
                    </a:lnTo>
                    <a:lnTo>
                      <a:pt x="349" y="138"/>
                    </a:lnTo>
                    <a:lnTo>
                      <a:pt x="350" y="139"/>
                    </a:lnTo>
                    <a:lnTo>
                      <a:pt x="351" y="140"/>
                    </a:lnTo>
                    <a:lnTo>
                      <a:pt x="352" y="141"/>
                    </a:lnTo>
                    <a:lnTo>
                      <a:pt x="351" y="142"/>
                    </a:lnTo>
                    <a:lnTo>
                      <a:pt x="350" y="143"/>
                    </a:lnTo>
                    <a:lnTo>
                      <a:pt x="346" y="143"/>
                    </a:lnTo>
                    <a:lnTo>
                      <a:pt x="342" y="142"/>
                    </a:lnTo>
                    <a:lnTo>
                      <a:pt x="337" y="142"/>
                    </a:lnTo>
                    <a:lnTo>
                      <a:pt x="335" y="141"/>
                    </a:lnTo>
                    <a:lnTo>
                      <a:pt x="334" y="140"/>
                    </a:lnTo>
                    <a:lnTo>
                      <a:pt x="333" y="139"/>
                    </a:lnTo>
                    <a:lnTo>
                      <a:pt x="334" y="138"/>
                    </a:lnTo>
                    <a:lnTo>
                      <a:pt x="336" y="136"/>
                    </a:lnTo>
                    <a:lnTo>
                      <a:pt x="336" y="136"/>
                    </a:lnTo>
                    <a:lnTo>
                      <a:pt x="337" y="136"/>
                    </a:lnTo>
                    <a:lnTo>
                      <a:pt x="339" y="132"/>
                    </a:lnTo>
                    <a:lnTo>
                      <a:pt x="341" y="122"/>
                    </a:lnTo>
                    <a:lnTo>
                      <a:pt x="341" y="119"/>
                    </a:lnTo>
                    <a:lnTo>
                      <a:pt x="341" y="118"/>
                    </a:lnTo>
                    <a:lnTo>
                      <a:pt x="339" y="112"/>
                    </a:lnTo>
                    <a:lnTo>
                      <a:pt x="335" y="105"/>
                    </a:lnTo>
                    <a:lnTo>
                      <a:pt x="333" y="100"/>
                    </a:lnTo>
                    <a:lnTo>
                      <a:pt x="332" y="98"/>
                    </a:lnTo>
                    <a:lnTo>
                      <a:pt x="331" y="96"/>
                    </a:lnTo>
                    <a:lnTo>
                      <a:pt x="329" y="96"/>
                    </a:lnTo>
                    <a:lnTo>
                      <a:pt x="328" y="95"/>
                    </a:lnTo>
                    <a:lnTo>
                      <a:pt x="327" y="93"/>
                    </a:lnTo>
                    <a:lnTo>
                      <a:pt x="327" y="92"/>
                    </a:lnTo>
                    <a:lnTo>
                      <a:pt x="327" y="91"/>
                    </a:lnTo>
                    <a:lnTo>
                      <a:pt x="328" y="91"/>
                    </a:lnTo>
                    <a:lnTo>
                      <a:pt x="332" y="91"/>
                    </a:lnTo>
                    <a:lnTo>
                      <a:pt x="337" y="91"/>
                    </a:lnTo>
                    <a:lnTo>
                      <a:pt x="342" y="92"/>
                    </a:lnTo>
                    <a:lnTo>
                      <a:pt x="345" y="93"/>
                    </a:lnTo>
                    <a:lnTo>
                      <a:pt x="346" y="95"/>
                    </a:lnTo>
                    <a:lnTo>
                      <a:pt x="346" y="96"/>
                    </a:lnTo>
                    <a:lnTo>
                      <a:pt x="345" y="97"/>
                    </a:lnTo>
                    <a:lnTo>
                      <a:pt x="343" y="98"/>
                    </a:lnTo>
                    <a:lnTo>
                      <a:pt x="343" y="98"/>
                    </a:lnTo>
                    <a:lnTo>
                      <a:pt x="343" y="98"/>
                    </a:lnTo>
                    <a:lnTo>
                      <a:pt x="342" y="98"/>
                    </a:lnTo>
                    <a:lnTo>
                      <a:pt x="342" y="98"/>
                    </a:lnTo>
                    <a:lnTo>
                      <a:pt x="342" y="99"/>
                    </a:lnTo>
                    <a:lnTo>
                      <a:pt x="342" y="100"/>
                    </a:lnTo>
                    <a:lnTo>
                      <a:pt x="343" y="102"/>
                    </a:lnTo>
                    <a:lnTo>
                      <a:pt x="344" y="107"/>
                    </a:lnTo>
                    <a:lnTo>
                      <a:pt x="349" y="114"/>
                    </a:lnTo>
                    <a:close/>
                    <a:moveTo>
                      <a:pt x="396" y="129"/>
                    </a:moveTo>
                    <a:lnTo>
                      <a:pt x="395" y="123"/>
                    </a:lnTo>
                    <a:lnTo>
                      <a:pt x="394" y="118"/>
                    </a:lnTo>
                    <a:lnTo>
                      <a:pt x="393" y="114"/>
                    </a:lnTo>
                    <a:lnTo>
                      <a:pt x="392" y="110"/>
                    </a:lnTo>
                    <a:lnTo>
                      <a:pt x="391" y="110"/>
                    </a:lnTo>
                    <a:lnTo>
                      <a:pt x="388" y="114"/>
                    </a:lnTo>
                    <a:lnTo>
                      <a:pt x="386" y="118"/>
                    </a:lnTo>
                    <a:lnTo>
                      <a:pt x="384" y="123"/>
                    </a:lnTo>
                    <a:lnTo>
                      <a:pt x="382" y="127"/>
                    </a:lnTo>
                    <a:lnTo>
                      <a:pt x="384" y="127"/>
                    </a:lnTo>
                    <a:lnTo>
                      <a:pt x="385" y="127"/>
                    </a:lnTo>
                    <a:lnTo>
                      <a:pt x="387" y="127"/>
                    </a:lnTo>
                    <a:lnTo>
                      <a:pt x="389" y="127"/>
                    </a:lnTo>
                    <a:lnTo>
                      <a:pt x="391" y="127"/>
                    </a:lnTo>
                    <a:lnTo>
                      <a:pt x="393" y="127"/>
                    </a:lnTo>
                    <a:lnTo>
                      <a:pt x="395" y="129"/>
                    </a:lnTo>
                    <a:lnTo>
                      <a:pt x="396" y="129"/>
                    </a:lnTo>
                    <a:close/>
                    <a:moveTo>
                      <a:pt x="380" y="119"/>
                    </a:moveTo>
                    <a:lnTo>
                      <a:pt x="380" y="118"/>
                    </a:lnTo>
                    <a:lnTo>
                      <a:pt x="382" y="117"/>
                    </a:lnTo>
                    <a:lnTo>
                      <a:pt x="386" y="107"/>
                    </a:lnTo>
                    <a:lnTo>
                      <a:pt x="389" y="100"/>
                    </a:lnTo>
                    <a:lnTo>
                      <a:pt x="389" y="99"/>
                    </a:lnTo>
                    <a:lnTo>
                      <a:pt x="391" y="98"/>
                    </a:lnTo>
                    <a:lnTo>
                      <a:pt x="392" y="98"/>
                    </a:lnTo>
                    <a:lnTo>
                      <a:pt x="393" y="98"/>
                    </a:lnTo>
                    <a:lnTo>
                      <a:pt x="394" y="98"/>
                    </a:lnTo>
                    <a:lnTo>
                      <a:pt x="395" y="99"/>
                    </a:lnTo>
                    <a:lnTo>
                      <a:pt x="396" y="99"/>
                    </a:lnTo>
                    <a:lnTo>
                      <a:pt x="396" y="100"/>
                    </a:lnTo>
                    <a:lnTo>
                      <a:pt x="399" y="106"/>
                    </a:lnTo>
                    <a:lnTo>
                      <a:pt x="401" y="113"/>
                    </a:lnTo>
                    <a:lnTo>
                      <a:pt x="403" y="121"/>
                    </a:lnTo>
                    <a:lnTo>
                      <a:pt x="405" y="130"/>
                    </a:lnTo>
                    <a:lnTo>
                      <a:pt x="406" y="131"/>
                    </a:lnTo>
                    <a:lnTo>
                      <a:pt x="406" y="133"/>
                    </a:lnTo>
                    <a:lnTo>
                      <a:pt x="410" y="142"/>
                    </a:lnTo>
                    <a:lnTo>
                      <a:pt x="412" y="146"/>
                    </a:lnTo>
                    <a:lnTo>
                      <a:pt x="412" y="146"/>
                    </a:lnTo>
                    <a:lnTo>
                      <a:pt x="413" y="146"/>
                    </a:lnTo>
                    <a:lnTo>
                      <a:pt x="414" y="147"/>
                    </a:lnTo>
                    <a:lnTo>
                      <a:pt x="416" y="148"/>
                    </a:lnTo>
                    <a:lnTo>
                      <a:pt x="414" y="149"/>
                    </a:lnTo>
                    <a:lnTo>
                      <a:pt x="412" y="150"/>
                    </a:lnTo>
                    <a:lnTo>
                      <a:pt x="410" y="150"/>
                    </a:lnTo>
                    <a:lnTo>
                      <a:pt x="404" y="150"/>
                    </a:lnTo>
                    <a:lnTo>
                      <a:pt x="400" y="149"/>
                    </a:lnTo>
                    <a:lnTo>
                      <a:pt x="396" y="149"/>
                    </a:lnTo>
                    <a:lnTo>
                      <a:pt x="395" y="148"/>
                    </a:lnTo>
                    <a:lnTo>
                      <a:pt x="395" y="146"/>
                    </a:lnTo>
                    <a:lnTo>
                      <a:pt x="395" y="144"/>
                    </a:lnTo>
                    <a:lnTo>
                      <a:pt x="397" y="144"/>
                    </a:lnTo>
                    <a:lnTo>
                      <a:pt x="397" y="144"/>
                    </a:lnTo>
                    <a:lnTo>
                      <a:pt x="397" y="144"/>
                    </a:lnTo>
                    <a:lnTo>
                      <a:pt x="399" y="143"/>
                    </a:lnTo>
                    <a:lnTo>
                      <a:pt x="400" y="143"/>
                    </a:lnTo>
                    <a:lnTo>
                      <a:pt x="400" y="143"/>
                    </a:lnTo>
                    <a:lnTo>
                      <a:pt x="400" y="142"/>
                    </a:lnTo>
                    <a:lnTo>
                      <a:pt x="400" y="141"/>
                    </a:lnTo>
                    <a:lnTo>
                      <a:pt x="400" y="139"/>
                    </a:lnTo>
                    <a:lnTo>
                      <a:pt x="400" y="138"/>
                    </a:lnTo>
                    <a:lnTo>
                      <a:pt x="399" y="135"/>
                    </a:lnTo>
                    <a:lnTo>
                      <a:pt x="399" y="134"/>
                    </a:lnTo>
                    <a:lnTo>
                      <a:pt x="399" y="134"/>
                    </a:lnTo>
                    <a:lnTo>
                      <a:pt x="397" y="134"/>
                    </a:lnTo>
                    <a:lnTo>
                      <a:pt x="397" y="134"/>
                    </a:lnTo>
                    <a:lnTo>
                      <a:pt x="396" y="134"/>
                    </a:lnTo>
                    <a:lnTo>
                      <a:pt x="395" y="133"/>
                    </a:lnTo>
                    <a:lnTo>
                      <a:pt x="393" y="133"/>
                    </a:lnTo>
                    <a:lnTo>
                      <a:pt x="389" y="133"/>
                    </a:lnTo>
                    <a:lnTo>
                      <a:pt x="388" y="133"/>
                    </a:lnTo>
                    <a:lnTo>
                      <a:pt x="384" y="132"/>
                    </a:lnTo>
                    <a:lnTo>
                      <a:pt x="382" y="132"/>
                    </a:lnTo>
                    <a:lnTo>
                      <a:pt x="379" y="132"/>
                    </a:lnTo>
                    <a:lnTo>
                      <a:pt x="379" y="133"/>
                    </a:lnTo>
                    <a:lnTo>
                      <a:pt x="378" y="134"/>
                    </a:lnTo>
                    <a:lnTo>
                      <a:pt x="377" y="135"/>
                    </a:lnTo>
                    <a:lnTo>
                      <a:pt x="376" y="138"/>
                    </a:lnTo>
                    <a:lnTo>
                      <a:pt x="376" y="139"/>
                    </a:lnTo>
                    <a:lnTo>
                      <a:pt x="376" y="140"/>
                    </a:lnTo>
                    <a:lnTo>
                      <a:pt x="376" y="140"/>
                    </a:lnTo>
                    <a:lnTo>
                      <a:pt x="377" y="141"/>
                    </a:lnTo>
                    <a:lnTo>
                      <a:pt x="378" y="142"/>
                    </a:lnTo>
                    <a:lnTo>
                      <a:pt x="378" y="142"/>
                    </a:lnTo>
                    <a:lnTo>
                      <a:pt x="379" y="142"/>
                    </a:lnTo>
                    <a:lnTo>
                      <a:pt x="380" y="143"/>
                    </a:lnTo>
                    <a:lnTo>
                      <a:pt x="380" y="144"/>
                    </a:lnTo>
                    <a:lnTo>
                      <a:pt x="380" y="146"/>
                    </a:lnTo>
                    <a:lnTo>
                      <a:pt x="379" y="147"/>
                    </a:lnTo>
                    <a:lnTo>
                      <a:pt x="376" y="147"/>
                    </a:lnTo>
                    <a:lnTo>
                      <a:pt x="371" y="147"/>
                    </a:lnTo>
                    <a:lnTo>
                      <a:pt x="368" y="146"/>
                    </a:lnTo>
                    <a:lnTo>
                      <a:pt x="365" y="146"/>
                    </a:lnTo>
                    <a:lnTo>
                      <a:pt x="363" y="144"/>
                    </a:lnTo>
                    <a:lnTo>
                      <a:pt x="363" y="143"/>
                    </a:lnTo>
                    <a:lnTo>
                      <a:pt x="365" y="142"/>
                    </a:lnTo>
                    <a:lnTo>
                      <a:pt x="366" y="141"/>
                    </a:lnTo>
                    <a:lnTo>
                      <a:pt x="367" y="141"/>
                    </a:lnTo>
                    <a:lnTo>
                      <a:pt x="367" y="140"/>
                    </a:lnTo>
                    <a:lnTo>
                      <a:pt x="370" y="138"/>
                    </a:lnTo>
                    <a:lnTo>
                      <a:pt x="373" y="133"/>
                    </a:lnTo>
                    <a:lnTo>
                      <a:pt x="374" y="132"/>
                    </a:lnTo>
                    <a:lnTo>
                      <a:pt x="374" y="132"/>
                    </a:lnTo>
                    <a:lnTo>
                      <a:pt x="380" y="119"/>
                    </a:lnTo>
                    <a:close/>
                    <a:moveTo>
                      <a:pt x="447" y="127"/>
                    </a:moveTo>
                    <a:lnTo>
                      <a:pt x="447" y="121"/>
                    </a:lnTo>
                    <a:lnTo>
                      <a:pt x="447" y="115"/>
                    </a:lnTo>
                    <a:lnTo>
                      <a:pt x="447" y="110"/>
                    </a:lnTo>
                    <a:lnTo>
                      <a:pt x="447" y="109"/>
                    </a:lnTo>
                    <a:lnTo>
                      <a:pt x="447" y="108"/>
                    </a:lnTo>
                    <a:lnTo>
                      <a:pt x="445" y="108"/>
                    </a:lnTo>
                    <a:lnTo>
                      <a:pt x="444" y="107"/>
                    </a:lnTo>
                    <a:lnTo>
                      <a:pt x="444" y="106"/>
                    </a:lnTo>
                    <a:lnTo>
                      <a:pt x="444" y="105"/>
                    </a:lnTo>
                    <a:lnTo>
                      <a:pt x="445" y="104"/>
                    </a:lnTo>
                    <a:lnTo>
                      <a:pt x="448" y="104"/>
                    </a:lnTo>
                    <a:lnTo>
                      <a:pt x="453" y="104"/>
                    </a:lnTo>
                    <a:lnTo>
                      <a:pt x="459" y="105"/>
                    </a:lnTo>
                    <a:lnTo>
                      <a:pt x="461" y="105"/>
                    </a:lnTo>
                    <a:lnTo>
                      <a:pt x="462" y="106"/>
                    </a:lnTo>
                    <a:lnTo>
                      <a:pt x="462" y="107"/>
                    </a:lnTo>
                    <a:lnTo>
                      <a:pt x="462" y="108"/>
                    </a:lnTo>
                    <a:lnTo>
                      <a:pt x="460" y="109"/>
                    </a:lnTo>
                    <a:lnTo>
                      <a:pt x="459" y="109"/>
                    </a:lnTo>
                    <a:lnTo>
                      <a:pt x="459" y="109"/>
                    </a:lnTo>
                    <a:lnTo>
                      <a:pt x="457" y="110"/>
                    </a:lnTo>
                    <a:lnTo>
                      <a:pt x="457" y="114"/>
                    </a:lnTo>
                    <a:lnTo>
                      <a:pt x="456" y="118"/>
                    </a:lnTo>
                    <a:lnTo>
                      <a:pt x="456" y="125"/>
                    </a:lnTo>
                    <a:lnTo>
                      <a:pt x="455" y="134"/>
                    </a:lnTo>
                    <a:lnTo>
                      <a:pt x="454" y="141"/>
                    </a:lnTo>
                    <a:lnTo>
                      <a:pt x="454" y="146"/>
                    </a:lnTo>
                    <a:lnTo>
                      <a:pt x="455" y="148"/>
                    </a:lnTo>
                    <a:lnTo>
                      <a:pt x="455" y="148"/>
                    </a:lnTo>
                    <a:lnTo>
                      <a:pt x="456" y="149"/>
                    </a:lnTo>
                    <a:lnTo>
                      <a:pt x="457" y="150"/>
                    </a:lnTo>
                    <a:lnTo>
                      <a:pt x="459" y="151"/>
                    </a:lnTo>
                    <a:lnTo>
                      <a:pt x="457" y="152"/>
                    </a:lnTo>
                    <a:lnTo>
                      <a:pt x="456" y="153"/>
                    </a:lnTo>
                    <a:lnTo>
                      <a:pt x="453" y="153"/>
                    </a:lnTo>
                    <a:lnTo>
                      <a:pt x="448" y="153"/>
                    </a:lnTo>
                    <a:lnTo>
                      <a:pt x="444" y="152"/>
                    </a:lnTo>
                    <a:lnTo>
                      <a:pt x="442" y="152"/>
                    </a:lnTo>
                    <a:lnTo>
                      <a:pt x="440" y="151"/>
                    </a:lnTo>
                    <a:lnTo>
                      <a:pt x="440" y="150"/>
                    </a:lnTo>
                    <a:lnTo>
                      <a:pt x="440" y="149"/>
                    </a:lnTo>
                    <a:lnTo>
                      <a:pt x="443" y="148"/>
                    </a:lnTo>
                    <a:lnTo>
                      <a:pt x="443" y="148"/>
                    </a:lnTo>
                    <a:lnTo>
                      <a:pt x="444" y="147"/>
                    </a:lnTo>
                    <a:lnTo>
                      <a:pt x="445" y="146"/>
                    </a:lnTo>
                    <a:lnTo>
                      <a:pt x="445" y="142"/>
                    </a:lnTo>
                    <a:lnTo>
                      <a:pt x="446" y="136"/>
                    </a:lnTo>
                    <a:lnTo>
                      <a:pt x="447" y="127"/>
                    </a:lnTo>
                    <a:close/>
                    <a:moveTo>
                      <a:pt x="449" y="93"/>
                    </a:moveTo>
                    <a:lnTo>
                      <a:pt x="451" y="91"/>
                    </a:lnTo>
                    <a:lnTo>
                      <a:pt x="452" y="90"/>
                    </a:lnTo>
                    <a:lnTo>
                      <a:pt x="453" y="89"/>
                    </a:lnTo>
                    <a:lnTo>
                      <a:pt x="454" y="89"/>
                    </a:lnTo>
                    <a:lnTo>
                      <a:pt x="456" y="90"/>
                    </a:lnTo>
                    <a:lnTo>
                      <a:pt x="457" y="91"/>
                    </a:lnTo>
                    <a:lnTo>
                      <a:pt x="459" y="92"/>
                    </a:lnTo>
                    <a:lnTo>
                      <a:pt x="459" y="93"/>
                    </a:lnTo>
                    <a:lnTo>
                      <a:pt x="459" y="96"/>
                    </a:lnTo>
                    <a:lnTo>
                      <a:pt x="457" y="97"/>
                    </a:lnTo>
                    <a:lnTo>
                      <a:pt x="455" y="98"/>
                    </a:lnTo>
                    <a:lnTo>
                      <a:pt x="454" y="98"/>
                    </a:lnTo>
                    <a:lnTo>
                      <a:pt x="452" y="98"/>
                    </a:lnTo>
                    <a:lnTo>
                      <a:pt x="451" y="97"/>
                    </a:lnTo>
                    <a:lnTo>
                      <a:pt x="449" y="95"/>
                    </a:lnTo>
                    <a:lnTo>
                      <a:pt x="449" y="93"/>
                    </a:lnTo>
                    <a:close/>
                    <a:moveTo>
                      <a:pt x="491" y="151"/>
                    </a:moveTo>
                    <a:lnTo>
                      <a:pt x="495" y="151"/>
                    </a:lnTo>
                    <a:lnTo>
                      <a:pt x="497" y="150"/>
                    </a:lnTo>
                    <a:lnTo>
                      <a:pt x="498" y="149"/>
                    </a:lnTo>
                    <a:lnTo>
                      <a:pt x="500" y="147"/>
                    </a:lnTo>
                    <a:lnTo>
                      <a:pt x="500" y="146"/>
                    </a:lnTo>
                    <a:lnTo>
                      <a:pt x="502" y="144"/>
                    </a:lnTo>
                    <a:lnTo>
                      <a:pt x="503" y="143"/>
                    </a:lnTo>
                    <a:lnTo>
                      <a:pt x="504" y="142"/>
                    </a:lnTo>
                    <a:lnTo>
                      <a:pt x="505" y="142"/>
                    </a:lnTo>
                    <a:lnTo>
                      <a:pt x="505" y="143"/>
                    </a:lnTo>
                    <a:lnTo>
                      <a:pt x="506" y="144"/>
                    </a:lnTo>
                    <a:lnTo>
                      <a:pt x="506" y="146"/>
                    </a:lnTo>
                    <a:lnTo>
                      <a:pt x="506" y="148"/>
                    </a:lnTo>
                    <a:lnTo>
                      <a:pt x="505" y="150"/>
                    </a:lnTo>
                    <a:lnTo>
                      <a:pt x="504" y="152"/>
                    </a:lnTo>
                    <a:lnTo>
                      <a:pt x="504" y="155"/>
                    </a:lnTo>
                    <a:lnTo>
                      <a:pt x="503" y="156"/>
                    </a:lnTo>
                    <a:lnTo>
                      <a:pt x="503" y="157"/>
                    </a:lnTo>
                    <a:lnTo>
                      <a:pt x="502" y="157"/>
                    </a:lnTo>
                    <a:lnTo>
                      <a:pt x="500" y="157"/>
                    </a:lnTo>
                    <a:lnTo>
                      <a:pt x="497" y="157"/>
                    </a:lnTo>
                    <a:lnTo>
                      <a:pt x="495" y="156"/>
                    </a:lnTo>
                    <a:lnTo>
                      <a:pt x="476" y="155"/>
                    </a:lnTo>
                    <a:lnTo>
                      <a:pt x="471" y="155"/>
                    </a:lnTo>
                    <a:lnTo>
                      <a:pt x="469" y="153"/>
                    </a:lnTo>
                    <a:lnTo>
                      <a:pt x="468" y="153"/>
                    </a:lnTo>
                    <a:lnTo>
                      <a:pt x="468" y="152"/>
                    </a:lnTo>
                    <a:lnTo>
                      <a:pt x="469" y="150"/>
                    </a:lnTo>
                    <a:lnTo>
                      <a:pt x="470" y="150"/>
                    </a:lnTo>
                    <a:lnTo>
                      <a:pt x="471" y="149"/>
                    </a:lnTo>
                    <a:lnTo>
                      <a:pt x="472" y="149"/>
                    </a:lnTo>
                    <a:lnTo>
                      <a:pt x="472" y="148"/>
                    </a:lnTo>
                    <a:lnTo>
                      <a:pt x="473" y="144"/>
                    </a:lnTo>
                    <a:lnTo>
                      <a:pt x="473" y="139"/>
                    </a:lnTo>
                    <a:lnTo>
                      <a:pt x="474" y="130"/>
                    </a:lnTo>
                    <a:lnTo>
                      <a:pt x="474" y="122"/>
                    </a:lnTo>
                    <a:lnTo>
                      <a:pt x="476" y="116"/>
                    </a:lnTo>
                    <a:lnTo>
                      <a:pt x="476" y="113"/>
                    </a:lnTo>
                    <a:lnTo>
                      <a:pt x="474" y="112"/>
                    </a:lnTo>
                    <a:lnTo>
                      <a:pt x="474" y="110"/>
                    </a:lnTo>
                    <a:lnTo>
                      <a:pt x="472" y="109"/>
                    </a:lnTo>
                    <a:lnTo>
                      <a:pt x="471" y="108"/>
                    </a:lnTo>
                    <a:lnTo>
                      <a:pt x="471" y="107"/>
                    </a:lnTo>
                    <a:lnTo>
                      <a:pt x="471" y="106"/>
                    </a:lnTo>
                    <a:lnTo>
                      <a:pt x="472" y="106"/>
                    </a:lnTo>
                    <a:lnTo>
                      <a:pt x="476" y="106"/>
                    </a:lnTo>
                    <a:lnTo>
                      <a:pt x="480" y="106"/>
                    </a:lnTo>
                    <a:lnTo>
                      <a:pt x="486" y="106"/>
                    </a:lnTo>
                    <a:lnTo>
                      <a:pt x="488" y="107"/>
                    </a:lnTo>
                    <a:lnTo>
                      <a:pt x="489" y="107"/>
                    </a:lnTo>
                    <a:lnTo>
                      <a:pt x="489" y="108"/>
                    </a:lnTo>
                    <a:lnTo>
                      <a:pt x="489" y="109"/>
                    </a:lnTo>
                    <a:lnTo>
                      <a:pt x="487" y="110"/>
                    </a:lnTo>
                    <a:lnTo>
                      <a:pt x="486" y="112"/>
                    </a:lnTo>
                    <a:lnTo>
                      <a:pt x="486" y="112"/>
                    </a:lnTo>
                    <a:lnTo>
                      <a:pt x="485" y="113"/>
                    </a:lnTo>
                    <a:lnTo>
                      <a:pt x="485" y="115"/>
                    </a:lnTo>
                    <a:lnTo>
                      <a:pt x="483" y="119"/>
                    </a:lnTo>
                    <a:lnTo>
                      <a:pt x="483" y="126"/>
                    </a:lnTo>
                    <a:lnTo>
                      <a:pt x="482" y="134"/>
                    </a:lnTo>
                    <a:lnTo>
                      <a:pt x="482" y="140"/>
                    </a:lnTo>
                    <a:lnTo>
                      <a:pt x="482" y="144"/>
                    </a:lnTo>
                    <a:lnTo>
                      <a:pt x="482" y="147"/>
                    </a:lnTo>
                    <a:lnTo>
                      <a:pt x="483" y="149"/>
                    </a:lnTo>
                    <a:lnTo>
                      <a:pt x="485" y="150"/>
                    </a:lnTo>
                    <a:lnTo>
                      <a:pt x="487" y="150"/>
                    </a:lnTo>
                    <a:lnTo>
                      <a:pt x="490" y="151"/>
                    </a:lnTo>
                    <a:lnTo>
                      <a:pt x="491" y="151"/>
                    </a:lnTo>
                    <a:close/>
                    <a:moveTo>
                      <a:pt x="537" y="129"/>
                    </a:moveTo>
                    <a:lnTo>
                      <a:pt x="537" y="130"/>
                    </a:lnTo>
                    <a:lnTo>
                      <a:pt x="537" y="130"/>
                    </a:lnTo>
                    <a:lnTo>
                      <a:pt x="537" y="130"/>
                    </a:lnTo>
                    <a:lnTo>
                      <a:pt x="537" y="130"/>
                    </a:lnTo>
                    <a:lnTo>
                      <a:pt x="537" y="131"/>
                    </a:lnTo>
                    <a:lnTo>
                      <a:pt x="537" y="131"/>
                    </a:lnTo>
                    <a:lnTo>
                      <a:pt x="537" y="131"/>
                    </a:lnTo>
                    <a:lnTo>
                      <a:pt x="537" y="131"/>
                    </a:lnTo>
                    <a:lnTo>
                      <a:pt x="545" y="140"/>
                    </a:lnTo>
                    <a:lnTo>
                      <a:pt x="549" y="147"/>
                    </a:lnTo>
                    <a:lnTo>
                      <a:pt x="554" y="151"/>
                    </a:lnTo>
                    <a:lnTo>
                      <a:pt x="556" y="153"/>
                    </a:lnTo>
                    <a:lnTo>
                      <a:pt x="557" y="153"/>
                    </a:lnTo>
                    <a:lnTo>
                      <a:pt x="558" y="153"/>
                    </a:lnTo>
                    <a:lnTo>
                      <a:pt x="559" y="155"/>
                    </a:lnTo>
                    <a:lnTo>
                      <a:pt x="560" y="156"/>
                    </a:lnTo>
                    <a:lnTo>
                      <a:pt x="559" y="157"/>
                    </a:lnTo>
                    <a:lnTo>
                      <a:pt x="558" y="158"/>
                    </a:lnTo>
                    <a:lnTo>
                      <a:pt x="556" y="158"/>
                    </a:lnTo>
                    <a:lnTo>
                      <a:pt x="553" y="158"/>
                    </a:lnTo>
                    <a:lnTo>
                      <a:pt x="551" y="158"/>
                    </a:lnTo>
                    <a:lnTo>
                      <a:pt x="550" y="158"/>
                    </a:lnTo>
                    <a:lnTo>
                      <a:pt x="549" y="158"/>
                    </a:lnTo>
                    <a:lnTo>
                      <a:pt x="548" y="157"/>
                    </a:lnTo>
                    <a:lnTo>
                      <a:pt x="546" y="156"/>
                    </a:lnTo>
                    <a:lnTo>
                      <a:pt x="542" y="151"/>
                    </a:lnTo>
                    <a:lnTo>
                      <a:pt x="539" y="147"/>
                    </a:lnTo>
                    <a:lnTo>
                      <a:pt x="534" y="141"/>
                    </a:lnTo>
                    <a:lnTo>
                      <a:pt x="530" y="136"/>
                    </a:lnTo>
                    <a:lnTo>
                      <a:pt x="530" y="135"/>
                    </a:lnTo>
                    <a:lnTo>
                      <a:pt x="530" y="135"/>
                    </a:lnTo>
                    <a:lnTo>
                      <a:pt x="530" y="135"/>
                    </a:lnTo>
                    <a:lnTo>
                      <a:pt x="530" y="135"/>
                    </a:lnTo>
                    <a:lnTo>
                      <a:pt x="530" y="135"/>
                    </a:lnTo>
                    <a:lnTo>
                      <a:pt x="529" y="135"/>
                    </a:lnTo>
                    <a:lnTo>
                      <a:pt x="529" y="135"/>
                    </a:lnTo>
                    <a:lnTo>
                      <a:pt x="529" y="135"/>
                    </a:lnTo>
                    <a:lnTo>
                      <a:pt x="529" y="136"/>
                    </a:lnTo>
                    <a:lnTo>
                      <a:pt x="529" y="139"/>
                    </a:lnTo>
                    <a:lnTo>
                      <a:pt x="529" y="142"/>
                    </a:lnTo>
                    <a:lnTo>
                      <a:pt x="529" y="149"/>
                    </a:lnTo>
                    <a:lnTo>
                      <a:pt x="530" y="152"/>
                    </a:lnTo>
                    <a:lnTo>
                      <a:pt x="531" y="152"/>
                    </a:lnTo>
                    <a:lnTo>
                      <a:pt x="531" y="152"/>
                    </a:lnTo>
                    <a:lnTo>
                      <a:pt x="533" y="153"/>
                    </a:lnTo>
                    <a:lnTo>
                      <a:pt x="533" y="155"/>
                    </a:lnTo>
                    <a:lnTo>
                      <a:pt x="533" y="157"/>
                    </a:lnTo>
                    <a:lnTo>
                      <a:pt x="531" y="157"/>
                    </a:lnTo>
                    <a:lnTo>
                      <a:pt x="529" y="158"/>
                    </a:lnTo>
                    <a:lnTo>
                      <a:pt x="524" y="158"/>
                    </a:lnTo>
                    <a:lnTo>
                      <a:pt x="520" y="157"/>
                    </a:lnTo>
                    <a:lnTo>
                      <a:pt x="516" y="157"/>
                    </a:lnTo>
                    <a:lnTo>
                      <a:pt x="515" y="156"/>
                    </a:lnTo>
                    <a:lnTo>
                      <a:pt x="515" y="155"/>
                    </a:lnTo>
                    <a:lnTo>
                      <a:pt x="515" y="153"/>
                    </a:lnTo>
                    <a:lnTo>
                      <a:pt x="517" y="152"/>
                    </a:lnTo>
                    <a:lnTo>
                      <a:pt x="519" y="152"/>
                    </a:lnTo>
                    <a:lnTo>
                      <a:pt x="519" y="151"/>
                    </a:lnTo>
                    <a:lnTo>
                      <a:pt x="520" y="150"/>
                    </a:lnTo>
                    <a:lnTo>
                      <a:pt x="520" y="147"/>
                    </a:lnTo>
                    <a:lnTo>
                      <a:pt x="521" y="141"/>
                    </a:lnTo>
                    <a:lnTo>
                      <a:pt x="521" y="132"/>
                    </a:lnTo>
                    <a:lnTo>
                      <a:pt x="521" y="125"/>
                    </a:lnTo>
                    <a:lnTo>
                      <a:pt x="521" y="119"/>
                    </a:lnTo>
                    <a:lnTo>
                      <a:pt x="521" y="115"/>
                    </a:lnTo>
                    <a:lnTo>
                      <a:pt x="521" y="114"/>
                    </a:lnTo>
                    <a:lnTo>
                      <a:pt x="520" y="113"/>
                    </a:lnTo>
                    <a:lnTo>
                      <a:pt x="519" y="112"/>
                    </a:lnTo>
                    <a:lnTo>
                      <a:pt x="517" y="112"/>
                    </a:lnTo>
                    <a:lnTo>
                      <a:pt x="516" y="110"/>
                    </a:lnTo>
                    <a:lnTo>
                      <a:pt x="517" y="109"/>
                    </a:lnTo>
                    <a:lnTo>
                      <a:pt x="519" y="108"/>
                    </a:lnTo>
                    <a:lnTo>
                      <a:pt x="521" y="108"/>
                    </a:lnTo>
                    <a:lnTo>
                      <a:pt x="525" y="108"/>
                    </a:lnTo>
                    <a:lnTo>
                      <a:pt x="531" y="108"/>
                    </a:lnTo>
                    <a:lnTo>
                      <a:pt x="533" y="108"/>
                    </a:lnTo>
                    <a:lnTo>
                      <a:pt x="534" y="109"/>
                    </a:lnTo>
                    <a:lnTo>
                      <a:pt x="536" y="110"/>
                    </a:lnTo>
                    <a:lnTo>
                      <a:pt x="534" y="112"/>
                    </a:lnTo>
                    <a:lnTo>
                      <a:pt x="533" y="113"/>
                    </a:lnTo>
                    <a:lnTo>
                      <a:pt x="532" y="113"/>
                    </a:lnTo>
                    <a:lnTo>
                      <a:pt x="531" y="114"/>
                    </a:lnTo>
                    <a:lnTo>
                      <a:pt x="531" y="115"/>
                    </a:lnTo>
                    <a:lnTo>
                      <a:pt x="530" y="117"/>
                    </a:lnTo>
                    <a:lnTo>
                      <a:pt x="530" y="122"/>
                    </a:lnTo>
                    <a:lnTo>
                      <a:pt x="530" y="127"/>
                    </a:lnTo>
                    <a:lnTo>
                      <a:pt x="530" y="129"/>
                    </a:lnTo>
                    <a:lnTo>
                      <a:pt x="530" y="129"/>
                    </a:lnTo>
                    <a:lnTo>
                      <a:pt x="530" y="129"/>
                    </a:lnTo>
                    <a:lnTo>
                      <a:pt x="530" y="129"/>
                    </a:lnTo>
                    <a:lnTo>
                      <a:pt x="531" y="127"/>
                    </a:lnTo>
                    <a:lnTo>
                      <a:pt x="533" y="125"/>
                    </a:lnTo>
                    <a:lnTo>
                      <a:pt x="536" y="123"/>
                    </a:lnTo>
                    <a:lnTo>
                      <a:pt x="538" y="122"/>
                    </a:lnTo>
                    <a:lnTo>
                      <a:pt x="541" y="117"/>
                    </a:lnTo>
                    <a:lnTo>
                      <a:pt x="542" y="116"/>
                    </a:lnTo>
                    <a:lnTo>
                      <a:pt x="543" y="115"/>
                    </a:lnTo>
                    <a:lnTo>
                      <a:pt x="543" y="114"/>
                    </a:lnTo>
                    <a:lnTo>
                      <a:pt x="545" y="114"/>
                    </a:lnTo>
                    <a:lnTo>
                      <a:pt x="543" y="113"/>
                    </a:lnTo>
                    <a:lnTo>
                      <a:pt x="542" y="113"/>
                    </a:lnTo>
                    <a:lnTo>
                      <a:pt x="541" y="112"/>
                    </a:lnTo>
                    <a:lnTo>
                      <a:pt x="541" y="110"/>
                    </a:lnTo>
                    <a:lnTo>
                      <a:pt x="541" y="109"/>
                    </a:lnTo>
                    <a:lnTo>
                      <a:pt x="542" y="109"/>
                    </a:lnTo>
                    <a:lnTo>
                      <a:pt x="545" y="108"/>
                    </a:lnTo>
                    <a:lnTo>
                      <a:pt x="549" y="108"/>
                    </a:lnTo>
                    <a:lnTo>
                      <a:pt x="554" y="109"/>
                    </a:lnTo>
                    <a:lnTo>
                      <a:pt x="556" y="109"/>
                    </a:lnTo>
                    <a:lnTo>
                      <a:pt x="557" y="110"/>
                    </a:lnTo>
                    <a:lnTo>
                      <a:pt x="558" y="112"/>
                    </a:lnTo>
                    <a:lnTo>
                      <a:pt x="557" y="113"/>
                    </a:lnTo>
                    <a:lnTo>
                      <a:pt x="555" y="113"/>
                    </a:lnTo>
                    <a:lnTo>
                      <a:pt x="555" y="113"/>
                    </a:lnTo>
                    <a:lnTo>
                      <a:pt x="554" y="114"/>
                    </a:lnTo>
                    <a:lnTo>
                      <a:pt x="551" y="115"/>
                    </a:lnTo>
                    <a:lnTo>
                      <a:pt x="549" y="116"/>
                    </a:lnTo>
                    <a:lnTo>
                      <a:pt x="546" y="119"/>
                    </a:lnTo>
                    <a:lnTo>
                      <a:pt x="540" y="125"/>
                    </a:lnTo>
                    <a:lnTo>
                      <a:pt x="537" y="129"/>
                    </a:lnTo>
                    <a:close/>
                  </a:path>
                </a:pathLst>
              </a:custGeom>
              <a:solidFill>
                <a:srgbClr val="2916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885240" y="725400"/>
                <a:ext cx="381600" cy="87840"/>
              </a:xfrm>
              <a:custGeom>
                <a:avLst/>
                <a:gdLst/>
                <a:ahLst/>
                <a:rect l="l" t="t" r="r" b="b"/>
                <a:pathLst>
                  <a:path w="601" h="139">
                    <a:moveTo>
                      <a:pt x="40" y="116"/>
                    </a:moveTo>
                    <a:lnTo>
                      <a:pt x="40" y="112"/>
                    </a:lnTo>
                    <a:lnTo>
                      <a:pt x="39" y="107"/>
                    </a:lnTo>
                    <a:lnTo>
                      <a:pt x="38" y="103"/>
                    </a:lnTo>
                    <a:lnTo>
                      <a:pt x="35" y="99"/>
                    </a:lnTo>
                    <a:lnTo>
                      <a:pt x="32" y="96"/>
                    </a:lnTo>
                    <a:lnTo>
                      <a:pt x="30" y="95"/>
                    </a:lnTo>
                    <a:lnTo>
                      <a:pt x="26" y="94"/>
                    </a:lnTo>
                    <a:lnTo>
                      <a:pt x="23" y="93"/>
                    </a:lnTo>
                    <a:lnTo>
                      <a:pt x="20" y="94"/>
                    </a:lnTo>
                    <a:lnTo>
                      <a:pt x="17" y="94"/>
                    </a:lnTo>
                    <a:lnTo>
                      <a:pt x="15" y="96"/>
                    </a:lnTo>
                    <a:lnTo>
                      <a:pt x="13" y="98"/>
                    </a:lnTo>
                    <a:lnTo>
                      <a:pt x="11" y="103"/>
                    </a:lnTo>
                    <a:lnTo>
                      <a:pt x="9" y="111"/>
                    </a:lnTo>
                    <a:lnTo>
                      <a:pt x="9" y="115"/>
                    </a:lnTo>
                    <a:lnTo>
                      <a:pt x="11" y="120"/>
                    </a:lnTo>
                    <a:lnTo>
                      <a:pt x="13" y="124"/>
                    </a:lnTo>
                    <a:lnTo>
                      <a:pt x="15" y="128"/>
                    </a:lnTo>
                    <a:lnTo>
                      <a:pt x="17" y="131"/>
                    </a:lnTo>
                    <a:lnTo>
                      <a:pt x="20" y="133"/>
                    </a:lnTo>
                    <a:lnTo>
                      <a:pt x="23" y="135"/>
                    </a:lnTo>
                    <a:lnTo>
                      <a:pt x="26" y="135"/>
                    </a:lnTo>
                    <a:lnTo>
                      <a:pt x="30" y="135"/>
                    </a:lnTo>
                    <a:lnTo>
                      <a:pt x="32" y="133"/>
                    </a:lnTo>
                    <a:lnTo>
                      <a:pt x="34" y="132"/>
                    </a:lnTo>
                    <a:lnTo>
                      <a:pt x="37" y="130"/>
                    </a:lnTo>
                    <a:lnTo>
                      <a:pt x="38" y="127"/>
                    </a:lnTo>
                    <a:lnTo>
                      <a:pt x="39" y="124"/>
                    </a:lnTo>
                    <a:lnTo>
                      <a:pt x="40" y="121"/>
                    </a:lnTo>
                    <a:lnTo>
                      <a:pt x="40" y="116"/>
                    </a:lnTo>
                    <a:close/>
                    <a:moveTo>
                      <a:pt x="25" y="139"/>
                    </a:moveTo>
                    <a:lnTo>
                      <a:pt x="22" y="139"/>
                    </a:lnTo>
                    <a:lnTo>
                      <a:pt x="17" y="138"/>
                    </a:lnTo>
                    <a:lnTo>
                      <a:pt x="14" y="137"/>
                    </a:lnTo>
                    <a:lnTo>
                      <a:pt x="11" y="135"/>
                    </a:lnTo>
                    <a:lnTo>
                      <a:pt x="6" y="131"/>
                    </a:lnTo>
                    <a:lnTo>
                      <a:pt x="3" y="126"/>
                    </a:lnTo>
                    <a:lnTo>
                      <a:pt x="0" y="120"/>
                    </a:lnTo>
                    <a:lnTo>
                      <a:pt x="0" y="113"/>
                    </a:lnTo>
                    <a:lnTo>
                      <a:pt x="0" y="109"/>
                    </a:lnTo>
                    <a:lnTo>
                      <a:pt x="1" y="103"/>
                    </a:lnTo>
                    <a:lnTo>
                      <a:pt x="4" y="99"/>
                    </a:lnTo>
                    <a:lnTo>
                      <a:pt x="6" y="95"/>
                    </a:lnTo>
                    <a:lnTo>
                      <a:pt x="11" y="93"/>
                    </a:lnTo>
                    <a:lnTo>
                      <a:pt x="14" y="90"/>
                    </a:lnTo>
                    <a:lnTo>
                      <a:pt x="20" y="88"/>
                    </a:lnTo>
                    <a:lnTo>
                      <a:pt x="24" y="88"/>
                    </a:lnTo>
                    <a:lnTo>
                      <a:pt x="29" y="88"/>
                    </a:lnTo>
                    <a:lnTo>
                      <a:pt x="33" y="89"/>
                    </a:lnTo>
                    <a:lnTo>
                      <a:pt x="37" y="90"/>
                    </a:lnTo>
                    <a:lnTo>
                      <a:pt x="40" y="93"/>
                    </a:lnTo>
                    <a:lnTo>
                      <a:pt x="45" y="97"/>
                    </a:lnTo>
                    <a:lnTo>
                      <a:pt x="47" y="102"/>
                    </a:lnTo>
                    <a:lnTo>
                      <a:pt x="49" y="109"/>
                    </a:lnTo>
                    <a:lnTo>
                      <a:pt x="50" y="114"/>
                    </a:lnTo>
                    <a:lnTo>
                      <a:pt x="50" y="119"/>
                    </a:lnTo>
                    <a:lnTo>
                      <a:pt x="49" y="122"/>
                    </a:lnTo>
                    <a:lnTo>
                      <a:pt x="48" y="126"/>
                    </a:lnTo>
                    <a:lnTo>
                      <a:pt x="46" y="129"/>
                    </a:lnTo>
                    <a:lnTo>
                      <a:pt x="42" y="133"/>
                    </a:lnTo>
                    <a:lnTo>
                      <a:pt x="37" y="137"/>
                    </a:lnTo>
                    <a:lnTo>
                      <a:pt x="32" y="139"/>
                    </a:lnTo>
                    <a:lnTo>
                      <a:pt x="25" y="139"/>
                    </a:lnTo>
                    <a:close/>
                    <a:moveTo>
                      <a:pt x="26" y="79"/>
                    </a:moveTo>
                    <a:lnTo>
                      <a:pt x="26" y="77"/>
                    </a:lnTo>
                    <a:lnTo>
                      <a:pt x="28" y="76"/>
                    </a:lnTo>
                    <a:lnTo>
                      <a:pt x="29" y="75"/>
                    </a:lnTo>
                    <a:lnTo>
                      <a:pt x="30" y="75"/>
                    </a:lnTo>
                    <a:lnTo>
                      <a:pt x="32" y="75"/>
                    </a:lnTo>
                    <a:lnTo>
                      <a:pt x="33" y="76"/>
                    </a:lnTo>
                    <a:lnTo>
                      <a:pt x="33" y="77"/>
                    </a:lnTo>
                    <a:lnTo>
                      <a:pt x="34" y="78"/>
                    </a:lnTo>
                    <a:lnTo>
                      <a:pt x="33" y="80"/>
                    </a:lnTo>
                    <a:lnTo>
                      <a:pt x="33" y="81"/>
                    </a:lnTo>
                    <a:lnTo>
                      <a:pt x="32" y="82"/>
                    </a:lnTo>
                    <a:lnTo>
                      <a:pt x="30" y="82"/>
                    </a:lnTo>
                    <a:lnTo>
                      <a:pt x="29" y="82"/>
                    </a:lnTo>
                    <a:lnTo>
                      <a:pt x="28" y="81"/>
                    </a:lnTo>
                    <a:lnTo>
                      <a:pt x="26" y="80"/>
                    </a:lnTo>
                    <a:lnTo>
                      <a:pt x="26" y="79"/>
                    </a:lnTo>
                    <a:close/>
                    <a:moveTo>
                      <a:pt x="14" y="79"/>
                    </a:moveTo>
                    <a:lnTo>
                      <a:pt x="15" y="77"/>
                    </a:lnTo>
                    <a:lnTo>
                      <a:pt x="15" y="76"/>
                    </a:lnTo>
                    <a:lnTo>
                      <a:pt x="17" y="76"/>
                    </a:lnTo>
                    <a:lnTo>
                      <a:pt x="18" y="75"/>
                    </a:lnTo>
                    <a:lnTo>
                      <a:pt x="20" y="76"/>
                    </a:lnTo>
                    <a:lnTo>
                      <a:pt x="21" y="76"/>
                    </a:lnTo>
                    <a:lnTo>
                      <a:pt x="22" y="77"/>
                    </a:lnTo>
                    <a:lnTo>
                      <a:pt x="22" y="79"/>
                    </a:lnTo>
                    <a:lnTo>
                      <a:pt x="22" y="80"/>
                    </a:lnTo>
                    <a:lnTo>
                      <a:pt x="21" y="81"/>
                    </a:lnTo>
                    <a:lnTo>
                      <a:pt x="20" y="82"/>
                    </a:lnTo>
                    <a:lnTo>
                      <a:pt x="18" y="82"/>
                    </a:lnTo>
                    <a:lnTo>
                      <a:pt x="17" y="82"/>
                    </a:lnTo>
                    <a:lnTo>
                      <a:pt x="16" y="81"/>
                    </a:lnTo>
                    <a:lnTo>
                      <a:pt x="15" y="80"/>
                    </a:lnTo>
                    <a:lnTo>
                      <a:pt x="14" y="79"/>
                    </a:lnTo>
                    <a:close/>
                    <a:moveTo>
                      <a:pt x="95" y="88"/>
                    </a:moveTo>
                    <a:lnTo>
                      <a:pt x="97" y="88"/>
                    </a:lnTo>
                    <a:lnTo>
                      <a:pt x="97" y="88"/>
                    </a:lnTo>
                    <a:lnTo>
                      <a:pt x="98" y="87"/>
                    </a:lnTo>
                    <a:lnTo>
                      <a:pt x="98" y="87"/>
                    </a:lnTo>
                    <a:lnTo>
                      <a:pt x="99" y="88"/>
                    </a:lnTo>
                    <a:lnTo>
                      <a:pt x="100" y="88"/>
                    </a:lnTo>
                    <a:lnTo>
                      <a:pt x="100" y="89"/>
                    </a:lnTo>
                    <a:lnTo>
                      <a:pt x="101" y="90"/>
                    </a:lnTo>
                    <a:lnTo>
                      <a:pt x="102" y="93"/>
                    </a:lnTo>
                    <a:lnTo>
                      <a:pt x="102" y="95"/>
                    </a:lnTo>
                    <a:lnTo>
                      <a:pt x="103" y="97"/>
                    </a:lnTo>
                    <a:lnTo>
                      <a:pt x="103" y="98"/>
                    </a:lnTo>
                    <a:lnTo>
                      <a:pt x="103" y="99"/>
                    </a:lnTo>
                    <a:lnTo>
                      <a:pt x="102" y="101"/>
                    </a:lnTo>
                    <a:lnTo>
                      <a:pt x="102" y="101"/>
                    </a:lnTo>
                    <a:lnTo>
                      <a:pt x="101" y="101"/>
                    </a:lnTo>
                    <a:lnTo>
                      <a:pt x="100" y="101"/>
                    </a:lnTo>
                    <a:lnTo>
                      <a:pt x="98" y="98"/>
                    </a:lnTo>
                    <a:lnTo>
                      <a:pt x="98" y="98"/>
                    </a:lnTo>
                    <a:lnTo>
                      <a:pt x="98" y="98"/>
                    </a:lnTo>
                    <a:lnTo>
                      <a:pt x="97" y="97"/>
                    </a:lnTo>
                    <a:lnTo>
                      <a:pt x="97" y="97"/>
                    </a:lnTo>
                    <a:lnTo>
                      <a:pt x="94" y="95"/>
                    </a:lnTo>
                    <a:lnTo>
                      <a:pt x="93" y="94"/>
                    </a:lnTo>
                    <a:lnTo>
                      <a:pt x="91" y="93"/>
                    </a:lnTo>
                    <a:lnTo>
                      <a:pt x="89" y="92"/>
                    </a:lnTo>
                    <a:lnTo>
                      <a:pt x="86" y="92"/>
                    </a:lnTo>
                    <a:lnTo>
                      <a:pt x="83" y="92"/>
                    </a:lnTo>
                    <a:lnTo>
                      <a:pt x="80" y="92"/>
                    </a:lnTo>
                    <a:lnTo>
                      <a:pt x="77" y="93"/>
                    </a:lnTo>
                    <a:lnTo>
                      <a:pt x="74" y="95"/>
                    </a:lnTo>
                    <a:lnTo>
                      <a:pt x="73" y="97"/>
                    </a:lnTo>
                    <a:lnTo>
                      <a:pt x="71" y="99"/>
                    </a:lnTo>
                    <a:lnTo>
                      <a:pt x="69" y="103"/>
                    </a:lnTo>
                    <a:lnTo>
                      <a:pt x="69" y="106"/>
                    </a:lnTo>
                    <a:lnTo>
                      <a:pt x="69" y="111"/>
                    </a:lnTo>
                    <a:lnTo>
                      <a:pt x="69" y="115"/>
                    </a:lnTo>
                    <a:lnTo>
                      <a:pt x="71" y="120"/>
                    </a:lnTo>
                    <a:lnTo>
                      <a:pt x="72" y="123"/>
                    </a:lnTo>
                    <a:lnTo>
                      <a:pt x="75" y="127"/>
                    </a:lnTo>
                    <a:lnTo>
                      <a:pt x="77" y="130"/>
                    </a:lnTo>
                    <a:lnTo>
                      <a:pt x="81" y="131"/>
                    </a:lnTo>
                    <a:lnTo>
                      <a:pt x="84" y="132"/>
                    </a:lnTo>
                    <a:lnTo>
                      <a:pt x="88" y="133"/>
                    </a:lnTo>
                    <a:lnTo>
                      <a:pt x="92" y="132"/>
                    </a:lnTo>
                    <a:lnTo>
                      <a:pt x="94" y="130"/>
                    </a:lnTo>
                    <a:lnTo>
                      <a:pt x="97" y="127"/>
                    </a:lnTo>
                    <a:lnTo>
                      <a:pt x="97" y="123"/>
                    </a:lnTo>
                    <a:lnTo>
                      <a:pt x="97" y="121"/>
                    </a:lnTo>
                    <a:lnTo>
                      <a:pt x="95" y="121"/>
                    </a:lnTo>
                    <a:lnTo>
                      <a:pt x="95" y="120"/>
                    </a:lnTo>
                    <a:lnTo>
                      <a:pt x="94" y="120"/>
                    </a:lnTo>
                    <a:lnTo>
                      <a:pt x="93" y="119"/>
                    </a:lnTo>
                    <a:lnTo>
                      <a:pt x="92" y="119"/>
                    </a:lnTo>
                    <a:lnTo>
                      <a:pt x="90" y="119"/>
                    </a:lnTo>
                    <a:lnTo>
                      <a:pt x="89" y="116"/>
                    </a:lnTo>
                    <a:lnTo>
                      <a:pt x="90" y="115"/>
                    </a:lnTo>
                    <a:lnTo>
                      <a:pt x="91" y="114"/>
                    </a:lnTo>
                    <a:lnTo>
                      <a:pt x="94" y="114"/>
                    </a:lnTo>
                    <a:lnTo>
                      <a:pt x="102" y="114"/>
                    </a:lnTo>
                    <a:lnTo>
                      <a:pt x="107" y="114"/>
                    </a:lnTo>
                    <a:lnTo>
                      <a:pt x="109" y="114"/>
                    </a:lnTo>
                    <a:lnTo>
                      <a:pt x="110" y="115"/>
                    </a:lnTo>
                    <a:lnTo>
                      <a:pt x="110" y="116"/>
                    </a:lnTo>
                    <a:lnTo>
                      <a:pt x="110" y="116"/>
                    </a:lnTo>
                    <a:lnTo>
                      <a:pt x="110" y="118"/>
                    </a:lnTo>
                    <a:lnTo>
                      <a:pt x="110" y="118"/>
                    </a:lnTo>
                    <a:lnTo>
                      <a:pt x="109" y="119"/>
                    </a:lnTo>
                    <a:lnTo>
                      <a:pt x="108" y="119"/>
                    </a:lnTo>
                    <a:lnTo>
                      <a:pt x="108" y="119"/>
                    </a:lnTo>
                    <a:lnTo>
                      <a:pt x="107" y="120"/>
                    </a:lnTo>
                    <a:lnTo>
                      <a:pt x="106" y="120"/>
                    </a:lnTo>
                    <a:lnTo>
                      <a:pt x="106" y="121"/>
                    </a:lnTo>
                    <a:lnTo>
                      <a:pt x="105" y="123"/>
                    </a:lnTo>
                    <a:lnTo>
                      <a:pt x="105" y="123"/>
                    </a:lnTo>
                    <a:lnTo>
                      <a:pt x="105" y="124"/>
                    </a:lnTo>
                    <a:lnTo>
                      <a:pt x="105" y="127"/>
                    </a:lnTo>
                    <a:lnTo>
                      <a:pt x="103" y="129"/>
                    </a:lnTo>
                    <a:lnTo>
                      <a:pt x="102" y="130"/>
                    </a:lnTo>
                    <a:lnTo>
                      <a:pt x="102" y="132"/>
                    </a:lnTo>
                    <a:lnTo>
                      <a:pt x="99" y="135"/>
                    </a:lnTo>
                    <a:lnTo>
                      <a:pt x="95" y="137"/>
                    </a:lnTo>
                    <a:lnTo>
                      <a:pt x="91" y="138"/>
                    </a:lnTo>
                    <a:lnTo>
                      <a:pt x="86" y="138"/>
                    </a:lnTo>
                    <a:lnTo>
                      <a:pt x="81" y="138"/>
                    </a:lnTo>
                    <a:lnTo>
                      <a:pt x="76" y="137"/>
                    </a:lnTo>
                    <a:lnTo>
                      <a:pt x="72" y="135"/>
                    </a:lnTo>
                    <a:lnTo>
                      <a:pt x="67" y="131"/>
                    </a:lnTo>
                    <a:lnTo>
                      <a:pt x="64" y="128"/>
                    </a:lnTo>
                    <a:lnTo>
                      <a:pt x="61" y="123"/>
                    </a:lnTo>
                    <a:lnTo>
                      <a:pt x="60" y="119"/>
                    </a:lnTo>
                    <a:lnTo>
                      <a:pt x="59" y="113"/>
                    </a:lnTo>
                    <a:lnTo>
                      <a:pt x="59" y="107"/>
                    </a:lnTo>
                    <a:lnTo>
                      <a:pt x="60" y="103"/>
                    </a:lnTo>
                    <a:lnTo>
                      <a:pt x="63" y="98"/>
                    </a:lnTo>
                    <a:lnTo>
                      <a:pt x="66" y="95"/>
                    </a:lnTo>
                    <a:lnTo>
                      <a:pt x="69" y="92"/>
                    </a:lnTo>
                    <a:lnTo>
                      <a:pt x="73" y="89"/>
                    </a:lnTo>
                    <a:lnTo>
                      <a:pt x="78" y="88"/>
                    </a:lnTo>
                    <a:lnTo>
                      <a:pt x="83" y="87"/>
                    </a:lnTo>
                    <a:lnTo>
                      <a:pt x="86" y="87"/>
                    </a:lnTo>
                    <a:lnTo>
                      <a:pt x="89" y="87"/>
                    </a:lnTo>
                    <a:lnTo>
                      <a:pt x="92" y="88"/>
                    </a:lnTo>
                    <a:lnTo>
                      <a:pt x="95" y="88"/>
                    </a:lnTo>
                    <a:close/>
                    <a:moveTo>
                      <a:pt x="83" y="77"/>
                    </a:moveTo>
                    <a:lnTo>
                      <a:pt x="85" y="77"/>
                    </a:lnTo>
                    <a:lnTo>
                      <a:pt x="88" y="76"/>
                    </a:lnTo>
                    <a:lnTo>
                      <a:pt x="89" y="76"/>
                    </a:lnTo>
                    <a:lnTo>
                      <a:pt x="90" y="73"/>
                    </a:lnTo>
                    <a:lnTo>
                      <a:pt x="90" y="73"/>
                    </a:lnTo>
                    <a:lnTo>
                      <a:pt x="90" y="73"/>
                    </a:lnTo>
                    <a:lnTo>
                      <a:pt x="91" y="72"/>
                    </a:lnTo>
                    <a:lnTo>
                      <a:pt x="91" y="72"/>
                    </a:lnTo>
                    <a:lnTo>
                      <a:pt x="92" y="72"/>
                    </a:lnTo>
                    <a:lnTo>
                      <a:pt x="92" y="72"/>
                    </a:lnTo>
                    <a:lnTo>
                      <a:pt x="92" y="72"/>
                    </a:lnTo>
                    <a:lnTo>
                      <a:pt x="92" y="73"/>
                    </a:lnTo>
                    <a:lnTo>
                      <a:pt x="92" y="77"/>
                    </a:lnTo>
                    <a:lnTo>
                      <a:pt x="90" y="79"/>
                    </a:lnTo>
                    <a:lnTo>
                      <a:pt x="88" y="81"/>
                    </a:lnTo>
                    <a:lnTo>
                      <a:pt x="83" y="82"/>
                    </a:lnTo>
                    <a:lnTo>
                      <a:pt x="78" y="81"/>
                    </a:lnTo>
                    <a:lnTo>
                      <a:pt x="76" y="80"/>
                    </a:lnTo>
                    <a:lnTo>
                      <a:pt x="74" y="77"/>
                    </a:lnTo>
                    <a:lnTo>
                      <a:pt x="73" y="73"/>
                    </a:lnTo>
                    <a:lnTo>
                      <a:pt x="73" y="73"/>
                    </a:lnTo>
                    <a:lnTo>
                      <a:pt x="73" y="72"/>
                    </a:lnTo>
                    <a:lnTo>
                      <a:pt x="74" y="72"/>
                    </a:lnTo>
                    <a:lnTo>
                      <a:pt x="74" y="72"/>
                    </a:lnTo>
                    <a:lnTo>
                      <a:pt x="75" y="72"/>
                    </a:lnTo>
                    <a:lnTo>
                      <a:pt x="75" y="73"/>
                    </a:lnTo>
                    <a:lnTo>
                      <a:pt x="76" y="75"/>
                    </a:lnTo>
                    <a:lnTo>
                      <a:pt x="76" y="75"/>
                    </a:lnTo>
                    <a:lnTo>
                      <a:pt x="77" y="76"/>
                    </a:lnTo>
                    <a:lnTo>
                      <a:pt x="78" y="77"/>
                    </a:lnTo>
                    <a:lnTo>
                      <a:pt x="81" y="77"/>
                    </a:lnTo>
                    <a:lnTo>
                      <a:pt x="83" y="77"/>
                    </a:lnTo>
                    <a:close/>
                    <a:moveTo>
                      <a:pt x="131" y="107"/>
                    </a:moveTo>
                    <a:lnTo>
                      <a:pt x="133" y="107"/>
                    </a:lnTo>
                    <a:lnTo>
                      <a:pt x="134" y="107"/>
                    </a:lnTo>
                    <a:lnTo>
                      <a:pt x="135" y="107"/>
                    </a:lnTo>
                    <a:lnTo>
                      <a:pt x="136" y="107"/>
                    </a:lnTo>
                    <a:lnTo>
                      <a:pt x="141" y="106"/>
                    </a:lnTo>
                    <a:lnTo>
                      <a:pt x="144" y="105"/>
                    </a:lnTo>
                    <a:lnTo>
                      <a:pt x="146" y="102"/>
                    </a:lnTo>
                    <a:lnTo>
                      <a:pt x="146" y="97"/>
                    </a:lnTo>
                    <a:lnTo>
                      <a:pt x="145" y="94"/>
                    </a:lnTo>
                    <a:lnTo>
                      <a:pt x="143" y="92"/>
                    </a:lnTo>
                    <a:lnTo>
                      <a:pt x="140" y="89"/>
                    </a:lnTo>
                    <a:lnTo>
                      <a:pt x="135" y="89"/>
                    </a:lnTo>
                    <a:lnTo>
                      <a:pt x="133" y="89"/>
                    </a:lnTo>
                    <a:lnTo>
                      <a:pt x="132" y="90"/>
                    </a:lnTo>
                    <a:lnTo>
                      <a:pt x="131" y="90"/>
                    </a:lnTo>
                    <a:lnTo>
                      <a:pt x="131" y="92"/>
                    </a:lnTo>
                    <a:lnTo>
                      <a:pt x="131" y="93"/>
                    </a:lnTo>
                    <a:lnTo>
                      <a:pt x="131" y="94"/>
                    </a:lnTo>
                    <a:lnTo>
                      <a:pt x="131" y="97"/>
                    </a:lnTo>
                    <a:lnTo>
                      <a:pt x="131" y="102"/>
                    </a:lnTo>
                    <a:lnTo>
                      <a:pt x="131" y="105"/>
                    </a:lnTo>
                    <a:lnTo>
                      <a:pt x="131" y="107"/>
                    </a:lnTo>
                    <a:close/>
                    <a:moveTo>
                      <a:pt x="148" y="110"/>
                    </a:moveTo>
                    <a:lnTo>
                      <a:pt x="148" y="110"/>
                    </a:lnTo>
                    <a:lnTo>
                      <a:pt x="151" y="111"/>
                    </a:lnTo>
                    <a:lnTo>
                      <a:pt x="153" y="112"/>
                    </a:lnTo>
                    <a:lnTo>
                      <a:pt x="155" y="115"/>
                    </a:lnTo>
                    <a:lnTo>
                      <a:pt x="158" y="120"/>
                    </a:lnTo>
                    <a:lnTo>
                      <a:pt x="158" y="121"/>
                    </a:lnTo>
                    <a:lnTo>
                      <a:pt x="159" y="123"/>
                    </a:lnTo>
                    <a:lnTo>
                      <a:pt x="160" y="127"/>
                    </a:lnTo>
                    <a:lnTo>
                      <a:pt x="162" y="128"/>
                    </a:lnTo>
                    <a:lnTo>
                      <a:pt x="162" y="128"/>
                    </a:lnTo>
                    <a:lnTo>
                      <a:pt x="163" y="128"/>
                    </a:lnTo>
                    <a:lnTo>
                      <a:pt x="163" y="128"/>
                    </a:lnTo>
                    <a:lnTo>
                      <a:pt x="165" y="128"/>
                    </a:lnTo>
                    <a:lnTo>
                      <a:pt x="165" y="128"/>
                    </a:lnTo>
                    <a:lnTo>
                      <a:pt x="166" y="129"/>
                    </a:lnTo>
                    <a:lnTo>
                      <a:pt x="166" y="129"/>
                    </a:lnTo>
                    <a:lnTo>
                      <a:pt x="167" y="130"/>
                    </a:lnTo>
                    <a:lnTo>
                      <a:pt x="166" y="131"/>
                    </a:lnTo>
                    <a:lnTo>
                      <a:pt x="165" y="132"/>
                    </a:lnTo>
                    <a:lnTo>
                      <a:pt x="162" y="133"/>
                    </a:lnTo>
                    <a:lnTo>
                      <a:pt x="159" y="133"/>
                    </a:lnTo>
                    <a:lnTo>
                      <a:pt x="157" y="133"/>
                    </a:lnTo>
                    <a:lnTo>
                      <a:pt x="153" y="131"/>
                    </a:lnTo>
                    <a:lnTo>
                      <a:pt x="151" y="129"/>
                    </a:lnTo>
                    <a:lnTo>
                      <a:pt x="149" y="124"/>
                    </a:lnTo>
                    <a:lnTo>
                      <a:pt x="149" y="124"/>
                    </a:lnTo>
                    <a:lnTo>
                      <a:pt x="145" y="118"/>
                    </a:lnTo>
                    <a:lnTo>
                      <a:pt x="143" y="114"/>
                    </a:lnTo>
                    <a:lnTo>
                      <a:pt x="140" y="112"/>
                    </a:lnTo>
                    <a:lnTo>
                      <a:pt x="136" y="112"/>
                    </a:lnTo>
                    <a:lnTo>
                      <a:pt x="133" y="112"/>
                    </a:lnTo>
                    <a:lnTo>
                      <a:pt x="132" y="112"/>
                    </a:lnTo>
                    <a:lnTo>
                      <a:pt x="132" y="113"/>
                    </a:lnTo>
                    <a:lnTo>
                      <a:pt x="132" y="113"/>
                    </a:lnTo>
                    <a:lnTo>
                      <a:pt x="132" y="115"/>
                    </a:lnTo>
                    <a:lnTo>
                      <a:pt x="132" y="116"/>
                    </a:lnTo>
                    <a:lnTo>
                      <a:pt x="132" y="123"/>
                    </a:lnTo>
                    <a:lnTo>
                      <a:pt x="133" y="127"/>
                    </a:lnTo>
                    <a:lnTo>
                      <a:pt x="133" y="129"/>
                    </a:lnTo>
                    <a:lnTo>
                      <a:pt x="134" y="130"/>
                    </a:lnTo>
                    <a:lnTo>
                      <a:pt x="134" y="130"/>
                    </a:lnTo>
                    <a:lnTo>
                      <a:pt x="135" y="130"/>
                    </a:lnTo>
                    <a:lnTo>
                      <a:pt x="136" y="131"/>
                    </a:lnTo>
                    <a:lnTo>
                      <a:pt x="137" y="132"/>
                    </a:lnTo>
                    <a:lnTo>
                      <a:pt x="137" y="133"/>
                    </a:lnTo>
                    <a:lnTo>
                      <a:pt x="136" y="135"/>
                    </a:lnTo>
                    <a:lnTo>
                      <a:pt x="133" y="135"/>
                    </a:lnTo>
                    <a:lnTo>
                      <a:pt x="128" y="136"/>
                    </a:lnTo>
                    <a:lnTo>
                      <a:pt x="124" y="136"/>
                    </a:lnTo>
                    <a:lnTo>
                      <a:pt x="121" y="136"/>
                    </a:lnTo>
                    <a:lnTo>
                      <a:pt x="119" y="135"/>
                    </a:lnTo>
                    <a:lnTo>
                      <a:pt x="119" y="133"/>
                    </a:lnTo>
                    <a:lnTo>
                      <a:pt x="119" y="132"/>
                    </a:lnTo>
                    <a:lnTo>
                      <a:pt x="121" y="131"/>
                    </a:lnTo>
                    <a:lnTo>
                      <a:pt x="121" y="131"/>
                    </a:lnTo>
                    <a:lnTo>
                      <a:pt x="123" y="130"/>
                    </a:lnTo>
                    <a:lnTo>
                      <a:pt x="123" y="129"/>
                    </a:lnTo>
                    <a:lnTo>
                      <a:pt x="123" y="126"/>
                    </a:lnTo>
                    <a:lnTo>
                      <a:pt x="123" y="120"/>
                    </a:lnTo>
                    <a:lnTo>
                      <a:pt x="123" y="111"/>
                    </a:lnTo>
                    <a:lnTo>
                      <a:pt x="121" y="104"/>
                    </a:lnTo>
                    <a:lnTo>
                      <a:pt x="121" y="97"/>
                    </a:lnTo>
                    <a:lnTo>
                      <a:pt x="120" y="94"/>
                    </a:lnTo>
                    <a:lnTo>
                      <a:pt x="120" y="93"/>
                    </a:lnTo>
                    <a:lnTo>
                      <a:pt x="119" y="92"/>
                    </a:lnTo>
                    <a:lnTo>
                      <a:pt x="118" y="92"/>
                    </a:lnTo>
                    <a:lnTo>
                      <a:pt x="116" y="90"/>
                    </a:lnTo>
                    <a:lnTo>
                      <a:pt x="116" y="89"/>
                    </a:lnTo>
                    <a:lnTo>
                      <a:pt x="116" y="88"/>
                    </a:lnTo>
                    <a:lnTo>
                      <a:pt x="117" y="87"/>
                    </a:lnTo>
                    <a:lnTo>
                      <a:pt x="118" y="87"/>
                    </a:lnTo>
                    <a:lnTo>
                      <a:pt x="120" y="86"/>
                    </a:lnTo>
                    <a:lnTo>
                      <a:pt x="127" y="86"/>
                    </a:lnTo>
                    <a:lnTo>
                      <a:pt x="131" y="86"/>
                    </a:lnTo>
                    <a:lnTo>
                      <a:pt x="134" y="85"/>
                    </a:lnTo>
                    <a:lnTo>
                      <a:pt x="137" y="85"/>
                    </a:lnTo>
                    <a:lnTo>
                      <a:pt x="140" y="85"/>
                    </a:lnTo>
                    <a:lnTo>
                      <a:pt x="146" y="85"/>
                    </a:lnTo>
                    <a:lnTo>
                      <a:pt x="152" y="87"/>
                    </a:lnTo>
                    <a:lnTo>
                      <a:pt x="153" y="89"/>
                    </a:lnTo>
                    <a:lnTo>
                      <a:pt x="154" y="90"/>
                    </a:lnTo>
                    <a:lnTo>
                      <a:pt x="155" y="94"/>
                    </a:lnTo>
                    <a:lnTo>
                      <a:pt x="157" y="96"/>
                    </a:lnTo>
                    <a:lnTo>
                      <a:pt x="155" y="101"/>
                    </a:lnTo>
                    <a:lnTo>
                      <a:pt x="154" y="104"/>
                    </a:lnTo>
                    <a:lnTo>
                      <a:pt x="151" y="107"/>
                    </a:lnTo>
                    <a:lnTo>
                      <a:pt x="148" y="110"/>
                    </a:lnTo>
                    <a:close/>
                    <a:moveTo>
                      <a:pt x="181" y="132"/>
                    </a:moveTo>
                    <a:lnTo>
                      <a:pt x="177" y="132"/>
                    </a:lnTo>
                    <a:lnTo>
                      <a:pt x="175" y="132"/>
                    </a:lnTo>
                    <a:lnTo>
                      <a:pt x="175" y="131"/>
                    </a:lnTo>
                    <a:lnTo>
                      <a:pt x="174" y="130"/>
                    </a:lnTo>
                    <a:lnTo>
                      <a:pt x="175" y="129"/>
                    </a:lnTo>
                    <a:lnTo>
                      <a:pt x="176" y="128"/>
                    </a:lnTo>
                    <a:lnTo>
                      <a:pt x="177" y="128"/>
                    </a:lnTo>
                    <a:lnTo>
                      <a:pt x="177" y="127"/>
                    </a:lnTo>
                    <a:lnTo>
                      <a:pt x="178" y="126"/>
                    </a:lnTo>
                    <a:lnTo>
                      <a:pt x="178" y="122"/>
                    </a:lnTo>
                    <a:lnTo>
                      <a:pt x="177" y="116"/>
                    </a:lnTo>
                    <a:lnTo>
                      <a:pt x="177" y="107"/>
                    </a:lnTo>
                    <a:lnTo>
                      <a:pt x="176" y="101"/>
                    </a:lnTo>
                    <a:lnTo>
                      <a:pt x="176" y="95"/>
                    </a:lnTo>
                    <a:lnTo>
                      <a:pt x="175" y="90"/>
                    </a:lnTo>
                    <a:lnTo>
                      <a:pt x="175" y="89"/>
                    </a:lnTo>
                    <a:lnTo>
                      <a:pt x="174" y="88"/>
                    </a:lnTo>
                    <a:lnTo>
                      <a:pt x="172" y="88"/>
                    </a:lnTo>
                    <a:lnTo>
                      <a:pt x="170" y="87"/>
                    </a:lnTo>
                    <a:lnTo>
                      <a:pt x="170" y="86"/>
                    </a:lnTo>
                    <a:lnTo>
                      <a:pt x="170" y="85"/>
                    </a:lnTo>
                    <a:lnTo>
                      <a:pt x="171" y="84"/>
                    </a:lnTo>
                    <a:lnTo>
                      <a:pt x="174" y="84"/>
                    </a:lnTo>
                    <a:lnTo>
                      <a:pt x="179" y="82"/>
                    </a:lnTo>
                    <a:lnTo>
                      <a:pt x="200" y="80"/>
                    </a:lnTo>
                    <a:lnTo>
                      <a:pt x="202" y="80"/>
                    </a:lnTo>
                    <a:lnTo>
                      <a:pt x="203" y="80"/>
                    </a:lnTo>
                    <a:lnTo>
                      <a:pt x="204" y="80"/>
                    </a:lnTo>
                    <a:lnTo>
                      <a:pt x="205" y="79"/>
                    </a:lnTo>
                    <a:lnTo>
                      <a:pt x="205" y="79"/>
                    </a:lnTo>
                    <a:lnTo>
                      <a:pt x="205" y="80"/>
                    </a:lnTo>
                    <a:lnTo>
                      <a:pt x="206" y="80"/>
                    </a:lnTo>
                    <a:lnTo>
                      <a:pt x="206" y="80"/>
                    </a:lnTo>
                    <a:lnTo>
                      <a:pt x="208" y="81"/>
                    </a:lnTo>
                    <a:lnTo>
                      <a:pt x="208" y="84"/>
                    </a:lnTo>
                    <a:lnTo>
                      <a:pt x="209" y="86"/>
                    </a:lnTo>
                    <a:lnTo>
                      <a:pt x="209" y="88"/>
                    </a:lnTo>
                    <a:lnTo>
                      <a:pt x="209" y="89"/>
                    </a:lnTo>
                    <a:lnTo>
                      <a:pt x="209" y="90"/>
                    </a:lnTo>
                    <a:lnTo>
                      <a:pt x="208" y="90"/>
                    </a:lnTo>
                    <a:lnTo>
                      <a:pt x="208" y="92"/>
                    </a:lnTo>
                    <a:lnTo>
                      <a:pt x="206" y="90"/>
                    </a:lnTo>
                    <a:lnTo>
                      <a:pt x="204" y="89"/>
                    </a:lnTo>
                    <a:lnTo>
                      <a:pt x="204" y="88"/>
                    </a:lnTo>
                    <a:lnTo>
                      <a:pt x="203" y="87"/>
                    </a:lnTo>
                    <a:lnTo>
                      <a:pt x="202" y="87"/>
                    </a:lnTo>
                    <a:lnTo>
                      <a:pt x="201" y="86"/>
                    </a:lnTo>
                    <a:lnTo>
                      <a:pt x="198" y="86"/>
                    </a:lnTo>
                    <a:lnTo>
                      <a:pt x="197" y="86"/>
                    </a:lnTo>
                    <a:lnTo>
                      <a:pt x="192" y="86"/>
                    </a:lnTo>
                    <a:lnTo>
                      <a:pt x="189" y="87"/>
                    </a:lnTo>
                    <a:lnTo>
                      <a:pt x="187" y="87"/>
                    </a:lnTo>
                    <a:lnTo>
                      <a:pt x="186" y="87"/>
                    </a:lnTo>
                    <a:lnTo>
                      <a:pt x="185" y="88"/>
                    </a:lnTo>
                    <a:lnTo>
                      <a:pt x="185" y="89"/>
                    </a:lnTo>
                    <a:lnTo>
                      <a:pt x="185" y="92"/>
                    </a:lnTo>
                    <a:lnTo>
                      <a:pt x="185" y="94"/>
                    </a:lnTo>
                    <a:lnTo>
                      <a:pt x="185" y="98"/>
                    </a:lnTo>
                    <a:lnTo>
                      <a:pt x="185" y="101"/>
                    </a:lnTo>
                    <a:lnTo>
                      <a:pt x="185" y="102"/>
                    </a:lnTo>
                    <a:lnTo>
                      <a:pt x="185" y="103"/>
                    </a:lnTo>
                    <a:lnTo>
                      <a:pt x="186" y="103"/>
                    </a:lnTo>
                    <a:lnTo>
                      <a:pt x="187" y="103"/>
                    </a:lnTo>
                    <a:lnTo>
                      <a:pt x="193" y="103"/>
                    </a:lnTo>
                    <a:lnTo>
                      <a:pt x="195" y="102"/>
                    </a:lnTo>
                    <a:lnTo>
                      <a:pt x="196" y="102"/>
                    </a:lnTo>
                    <a:lnTo>
                      <a:pt x="197" y="101"/>
                    </a:lnTo>
                    <a:lnTo>
                      <a:pt x="197" y="98"/>
                    </a:lnTo>
                    <a:lnTo>
                      <a:pt x="197" y="98"/>
                    </a:lnTo>
                    <a:lnTo>
                      <a:pt x="197" y="97"/>
                    </a:lnTo>
                    <a:lnTo>
                      <a:pt x="198" y="95"/>
                    </a:lnTo>
                    <a:lnTo>
                      <a:pt x="200" y="94"/>
                    </a:lnTo>
                    <a:lnTo>
                      <a:pt x="201" y="94"/>
                    </a:lnTo>
                    <a:lnTo>
                      <a:pt x="202" y="96"/>
                    </a:lnTo>
                    <a:lnTo>
                      <a:pt x="203" y="98"/>
                    </a:lnTo>
                    <a:lnTo>
                      <a:pt x="203" y="104"/>
                    </a:lnTo>
                    <a:lnTo>
                      <a:pt x="204" y="110"/>
                    </a:lnTo>
                    <a:lnTo>
                      <a:pt x="203" y="112"/>
                    </a:lnTo>
                    <a:lnTo>
                      <a:pt x="203" y="114"/>
                    </a:lnTo>
                    <a:lnTo>
                      <a:pt x="202" y="114"/>
                    </a:lnTo>
                    <a:lnTo>
                      <a:pt x="200" y="114"/>
                    </a:lnTo>
                    <a:lnTo>
                      <a:pt x="200" y="111"/>
                    </a:lnTo>
                    <a:lnTo>
                      <a:pt x="198" y="111"/>
                    </a:lnTo>
                    <a:lnTo>
                      <a:pt x="198" y="111"/>
                    </a:lnTo>
                    <a:lnTo>
                      <a:pt x="198" y="109"/>
                    </a:lnTo>
                    <a:lnTo>
                      <a:pt x="197" y="107"/>
                    </a:lnTo>
                    <a:lnTo>
                      <a:pt x="195" y="107"/>
                    </a:lnTo>
                    <a:lnTo>
                      <a:pt x="193" y="107"/>
                    </a:lnTo>
                    <a:lnTo>
                      <a:pt x="187" y="107"/>
                    </a:lnTo>
                    <a:lnTo>
                      <a:pt x="186" y="107"/>
                    </a:lnTo>
                    <a:lnTo>
                      <a:pt x="186" y="109"/>
                    </a:lnTo>
                    <a:lnTo>
                      <a:pt x="186" y="110"/>
                    </a:lnTo>
                    <a:lnTo>
                      <a:pt x="186" y="111"/>
                    </a:lnTo>
                    <a:lnTo>
                      <a:pt x="186" y="114"/>
                    </a:lnTo>
                    <a:lnTo>
                      <a:pt x="186" y="119"/>
                    </a:lnTo>
                    <a:lnTo>
                      <a:pt x="187" y="121"/>
                    </a:lnTo>
                    <a:lnTo>
                      <a:pt x="187" y="123"/>
                    </a:lnTo>
                    <a:lnTo>
                      <a:pt x="188" y="124"/>
                    </a:lnTo>
                    <a:lnTo>
                      <a:pt x="188" y="126"/>
                    </a:lnTo>
                    <a:lnTo>
                      <a:pt x="191" y="126"/>
                    </a:lnTo>
                    <a:lnTo>
                      <a:pt x="193" y="126"/>
                    </a:lnTo>
                    <a:lnTo>
                      <a:pt x="195" y="126"/>
                    </a:lnTo>
                    <a:lnTo>
                      <a:pt x="200" y="126"/>
                    </a:lnTo>
                    <a:lnTo>
                      <a:pt x="203" y="124"/>
                    </a:lnTo>
                    <a:lnTo>
                      <a:pt x="205" y="123"/>
                    </a:lnTo>
                    <a:lnTo>
                      <a:pt x="208" y="122"/>
                    </a:lnTo>
                    <a:lnTo>
                      <a:pt x="209" y="120"/>
                    </a:lnTo>
                    <a:lnTo>
                      <a:pt x="209" y="119"/>
                    </a:lnTo>
                    <a:lnTo>
                      <a:pt x="210" y="118"/>
                    </a:lnTo>
                    <a:lnTo>
                      <a:pt x="210" y="115"/>
                    </a:lnTo>
                    <a:lnTo>
                      <a:pt x="211" y="115"/>
                    </a:lnTo>
                    <a:lnTo>
                      <a:pt x="212" y="115"/>
                    </a:lnTo>
                    <a:lnTo>
                      <a:pt x="213" y="115"/>
                    </a:lnTo>
                    <a:lnTo>
                      <a:pt x="213" y="116"/>
                    </a:lnTo>
                    <a:lnTo>
                      <a:pt x="213" y="118"/>
                    </a:lnTo>
                    <a:lnTo>
                      <a:pt x="213" y="120"/>
                    </a:lnTo>
                    <a:lnTo>
                      <a:pt x="213" y="122"/>
                    </a:lnTo>
                    <a:lnTo>
                      <a:pt x="213" y="124"/>
                    </a:lnTo>
                    <a:lnTo>
                      <a:pt x="212" y="128"/>
                    </a:lnTo>
                    <a:lnTo>
                      <a:pt x="212" y="129"/>
                    </a:lnTo>
                    <a:lnTo>
                      <a:pt x="211" y="129"/>
                    </a:lnTo>
                    <a:lnTo>
                      <a:pt x="211" y="130"/>
                    </a:lnTo>
                    <a:lnTo>
                      <a:pt x="210" y="130"/>
                    </a:lnTo>
                    <a:lnTo>
                      <a:pt x="210" y="130"/>
                    </a:lnTo>
                    <a:lnTo>
                      <a:pt x="210" y="130"/>
                    </a:lnTo>
                    <a:lnTo>
                      <a:pt x="206" y="130"/>
                    </a:lnTo>
                    <a:lnTo>
                      <a:pt x="204" y="130"/>
                    </a:lnTo>
                    <a:lnTo>
                      <a:pt x="181" y="132"/>
                    </a:lnTo>
                    <a:close/>
                    <a:moveTo>
                      <a:pt x="246" y="76"/>
                    </a:moveTo>
                    <a:lnTo>
                      <a:pt x="249" y="75"/>
                    </a:lnTo>
                    <a:lnTo>
                      <a:pt x="253" y="73"/>
                    </a:lnTo>
                    <a:lnTo>
                      <a:pt x="253" y="73"/>
                    </a:lnTo>
                    <a:lnTo>
                      <a:pt x="253" y="73"/>
                    </a:lnTo>
                    <a:lnTo>
                      <a:pt x="255" y="75"/>
                    </a:lnTo>
                    <a:lnTo>
                      <a:pt x="256" y="76"/>
                    </a:lnTo>
                    <a:lnTo>
                      <a:pt x="257" y="79"/>
                    </a:lnTo>
                    <a:lnTo>
                      <a:pt x="258" y="84"/>
                    </a:lnTo>
                    <a:lnTo>
                      <a:pt x="258" y="85"/>
                    </a:lnTo>
                    <a:lnTo>
                      <a:pt x="258" y="86"/>
                    </a:lnTo>
                    <a:lnTo>
                      <a:pt x="257" y="87"/>
                    </a:lnTo>
                    <a:lnTo>
                      <a:pt x="257" y="87"/>
                    </a:lnTo>
                    <a:lnTo>
                      <a:pt x="256" y="87"/>
                    </a:lnTo>
                    <a:lnTo>
                      <a:pt x="256" y="87"/>
                    </a:lnTo>
                    <a:lnTo>
                      <a:pt x="255" y="87"/>
                    </a:lnTo>
                    <a:lnTo>
                      <a:pt x="255" y="86"/>
                    </a:lnTo>
                    <a:lnTo>
                      <a:pt x="254" y="85"/>
                    </a:lnTo>
                    <a:lnTo>
                      <a:pt x="253" y="84"/>
                    </a:lnTo>
                    <a:lnTo>
                      <a:pt x="253" y="82"/>
                    </a:lnTo>
                    <a:lnTo>
                      <a:pt x="252" y="82"/>
                    </a:lnTo>
                    <a:lnTo>
                      <a:pt x="251" y="81"/>
                    </a:lnTo>
                    <a:lnTo>
                      <a:pt x="249" y="80"/>
                    </a:lnTo>
                    <a:lnTo>
                      <a:pt x="247" y="80"/>
                    </a:lnTo>
                    <a:lnTo>
                      <a:pt x="246" y="80"/>
                    </a:lnTo>
                    <a:lnTo>
                      <a:pt x="244" y="80"/>
                    </a:lnTo>
                    <a:lnTo>
                      <a:pt x="243" y="80"/>
                    </a:lnTo>
                    <a:lnTo>
                      <a:pt x="243" y="81"/>
                    </a:lnTo>
                    <a:lnTo>
                      <a:pt x="241" y="81"/>
                    </a:lnTo>
                    <a:lnTo>
                      <a:pt x="241" y="82"/>
                    </a:lnTo>
                    <a:lnTo>
                      <a:pt x="241" y="85"/>
                    </a:lnTo>
                    <a:lnTo>
                      <a:pt x="243" y="88"/>
                    </a:lnTo>
                    <a:lnTo>
                      <a:pt x="243" y="92"/>
                    </a:lnTo>
                    <a:lnTo>
                      <a:pt x="244" y="97"/>
                    </a:lnTo>
                    <a:lnTo>
                      <a:pt x="245" y="106"/>
                    </a:lnTo>
                    <a:lnTo>
                      <a:pt x="246" y="113"/>
                    </a:lnTo>
                    <a:lnTo>
                      <a:pt x="247" y="118"/>
                    </a:lnTo>
                    <a:lnTo>
                      <a:pt x="247" y="119"/>
                    </a:lnTo>
                    <a:lnTo>
                      <a:pt x="248" y="120"/>
                    </a:lnTo>
                    <a:lnTo>
                      <a:pt x="249" y="120"/>
                    </a:lnTo>
                    <a:lnTo>
                      <a:pt x="251" y="121"/>
                    </a:lnTo>
                    <a:lnTo>
                      <a:pt x="252" y="122"/>
                    </a:lnTo>
                    <a:lnTo>
                      <a:pt x="252" y="123"/>
                    </a:lnTo>
                    <a:lnTo>
                      <a:pt x="251" y="124"/>
                    </a:lnTo>
                    <a:lnTo>
                      <a:pt x="247" y="126"/>
                    </a:lnTo>
                    <a:lnTo>
                      <a:pt x="243" y="126"/>
                    </a:lnTo>
                    <a:lnTo>
                      <a:pt x="238" y="127"/>
                    </a:lnTo>
                    <a:lnTo>
                      <a:pt x="236" y="127"/>
                    </a:lnTo>
                    <a:lnTo>
                      <a:pt x="234" y="126"/>
                    </a:lnTo>
                    <a:lnTo>
                      <a:pt x="234" y="124"/>
                    </a:lnTo>
                    <a:lnTo>
                      <a:pt x="234" y="123"/>
                    </a:lnTo>
                    <a:lnTo>
                      <a:pt x="235" y="122"/>
                    </a:lnTo>
                    <a:lnTo>
                      <a:pt x="236" y="121"/>
                    </a:lnTo>
                    <a:lnTo>
                      <a:pt x="237" y="121"/>
                    </a:lnTo>
                    <a:lnTo>
                      <a:pt x="237" y="119"/>
                    </a:lnTo>
                    <a:lnTo>
                      <a:pt x="237" y="114"/>
                    </a:lnTo>
                    <a:lnTo>
                      <a:pt x="236" y="107"/>
                    </a:lnTo>
                    <a:lnTo>
                      <a:pt x="235" y="98"/>
                    </a:lnTo>
                    <a:lnTo>
                      <a:pt x="234" y="94"/>
                    </a:lnTo>
                    <a:lnTo>
                      <a:pt x="234" y="89"/>
                    </a:lnTo>
                    <a:lnTo>
                      <a:pt x="232" y="86"/>
                    </a:lnTo>
                    <a:lnTo>
                      <a:pt x="232" y="84"/>
                    </a:lnTo>
                    <a:lnTo>
                      <a:pt x="232" y="82"/>
                    </a:lnTo>
                    <a:lnTo>
                      <a:pt x="231" y="82"/>
                    </a:lnTo>
                    <a:lnTo>
                      <a:pt x="230" y="82"/>
                    </a:lnTo>
                    <a:lnTo>
                      <a:pt x="229" y="82"/>
                    </a:lnTo>
                    <a:lnTo>
                      <a:pt x="228" y="82"/>
                    </a:lnTo>
                    <a:lnTo>
                      <a:pt x="226" y="84"/>
                    </a:lnTo>
                    <a:lnTo>
                      <a:pt x="225" y="84"/>
                    </a:lnTo>
                    <a:lnTo>
                      <a:pt x="223" y="85"/>
                    </a:lnTo>
                    <a:lnTo>
                      <a:pt x="222" y="86"/>
                    </a:lnTo>
                    <a:lnTo>
                      <a:pt x="222" y="87"/>
                    </a:lnTo>
                    <a:lnTo>
                      <a:pt x="221" y="88"/>
                    </a:lnTo>
                    <a:lnTo>
                      <a:pt x="221" y="90"/>
                    </a:lnTo>
                    <a:lnTo>
                      <a:pt x="221" y="90"/>
                    </a:lnTo>
                    <a:lnTo>
                      <a:pt x="220" y="92"/>
                    </a:lnTo>
                    <a:lnTo>
                      <a:pt x="220" y="93"/>
                    </a:lnTo>
                    <a:lnTo>
                      <a:pt x="220" y="93"/>
                    </a:lnTo>
                    <a:lnTo>
                      <a:pt x="219" y="93"/>
                    </a:lnTo>
                    <a:lnTo>
                      <a:pt x="218" y="93"/>
                    </a:lnTo>
                    <a:lnTo>
                      <a:pt x="218" y="92"/>
                    </a:lnTo>
                    <a:lnTo>
                      <a:pt x="217" y="90"/>
                    </a:lnTo>
                    <a:lnTo>
                      <a:pt x="217" y="89"/>
                    </a:lnTo>
                    <a:lnTo>
                      <a:pt x="217" y="85"/>
                    </a:lnTo>
                    <a:lnTo>
                      <a:pt x="217" y="81"/>
                    </a:lnTo>
                    <a:lnTo>
                      <a:pt x="218" y="79"/>
                    </a:lnTo>
                    <a:lnTo>
                      <a:pt x="219" y="79"/>
                    </a:lnTo>
                    <a:lnTo>
                      <a:pt x="219" y="79"/>
                    </a:lnTo>
                    <a:lnTo>
                      <a:pt x="219" y="79"/>
                    </a:lnTo>
                    <a:lnTo>
                      <a:pt x="222" y="78"/>
                    </a:lnTo>
                    <a:lnTo>
                      <a:pt x="226" y="78"/>
                    </a:lnTo>
                    <a:lnTo>
                      <a:pt x="246" y="76"/>
                    </a:lnTo>
                    <a:close/>
                    <a:moveTo>
                      <a:pt x="277" y="96"/>
                    </a:moveTo>
                    <a:lnTo>
                      <a:pt x="275" y="89"/>
                    </a:lnTo>
                    <a:lnTo>
                      <a:pt x="274" y="84"/>
                    </a:lnTo>
                    <a:lnTo>
                      <a:pt x="273" y="79"/>
                    </a:lnTo>
                    <a:lnTo>
                      <a:pt x="272" y="78"/>
                    </a:lnTo>
                    <a:lnTo>
                      <a:pt x="272" y="78"/>
                    </a:lnTo>
                    <a:lnTo>
                      <a:pt x="270" y="77"/>
                    </a:lnTo>
                    <a:lnTo>
                      <a:pt x="269" y="77"/>
                    </a:lnTo>
                    <a:lnTo>
                      <a:pt x="269" y="76"/>
                    </a:lnTo>
                    <a:lnTo>
                      <a:pt x="269" y="73"/>
                    </a:lnTo>
                    <a:lnTo>
                      <a:pt x="270" y="73"/>
                    </a:lnTo>
                    <a:lnTo>
                      <a:pt x="272" y="72"/>
                    </a:lnTo>
                    <a:lnTo>
                      <a:pt x="277" y="71"/>
                    </a:lnTo>
                    <a:lnTo>
                      <a:pt x="282" y="71"/>
                    </a:lnTo>
                    <a:lnTo>
                      <a:pt x="285" y="71"/>
                    </a:lnTo>
                    <a:lnTo>
                      <a:pt x="286" y="71"/>
                    </a:lnTo>
                    <a:lnTo>
                      <a:pt x="287" y="72"/>
                    </a:lnTo>
                    <a:lnTo>
                      <a:pt x="286" y="73"/>
                    </a:lnTo>
                    <a:lnTo>
                      <a:pt x="285" y="75"/>
                    </a:lnTo>
                    <a:lnTo>
                      <a:pt x="283" y="76"/>
                    </a:lnTo>
                    <a:lnTo>
                      <a:pt x="283" y="76"/>
                    </a:lnTo>
                    <a:lnTo>
                      <a:pt x="283" y="77"/>
                    </a:lnTo>
                    <a:lnTo>
                      <a:pt x="283" y="80"/>
                    </a:lnTo>
                    <a:lnTo>
                      <a:pt x="283" y="85"/>
                    </a:lnTo>
                    <a:lnTo>
                      <a:pt x="285" y="92"/>
                    </a:lnTo>
                    <a:lnTo>
                      <a:pt x="286" y="101"/>
                    </a:lnTo>
                    <a:lnTo>
                      <a:pt x="287" y="107"/>
                    </a:lnTo>
                    <a:lnTo>
                      <a:pt x="288" y="112"/>
                    </a:lnTo>
                    <a:lnTo>
                      <a:pt x="289" y="114"/>
                    </a:lnTo>
                    <a:lnTo>
                      <a:pt x="290" y="114"/>
                    </a:lnTo>
                    <a:lnTo>
                      <a:pt x="291" y="114"/>
                    </a:lnTo>
                    <a:lnTo>
                      <a:pt x="292" y="115"/>
                    </a:lnTo>
                    <a:lnTo>
                      <a:pt x="294" y="116"/>
                    </a:lnTo>
                    <a:lnTo>
                      <a:pt x="294" y="118"/>
                    </a:lnTo>
                    <a:lnTo>
                      <a:pt x="291" y="119"/>
                    </a:lnTo>
                    <a:lnTo>
                      <a:pt x="289" y="120"/>
                    </a:lnTo>
                    <a:lnTo>
                      <a:pt x="285" y="120"/>
                    </a:lnTo>
                    <a:lnTo>
                      <a:pt x="280" y="121"/>
                    </a:lnTo>
                    <a:lnTo>
                      <a:pt x="278" y="121"/>
                    </a:lnTo>
                    <a:lnTo>
                      <a:pt x="275" y="120"/>
                    </a:lnTo>
                    <a:lnTo>
                      <a:pt x="275" y="119"/>
                    </a:lnTo>
                    <a:lnTo>
                      <a:pt x="275" y="118"/>
                    </a:lnTo>
                    <a:lnTo>
                      <a:pt x="277" y="116"/>
                    </a:lnTo>
                    <a:lnTo>
                      <a:pt x="278" y="116"/>
                    </a:lnTo>
                    <a:lnTo>
                      <a:pt x="278" y="115"/>
                    </a:lnTo>
                    <a:lnTo>
                      <a:pt x="279" y="114"/>
                    </a:lnTo>
                    <a:lnTo>
                      <a:pt x="279" y="111"/>
                    </a:lnTo>
                    <a:lnTo>
                      <a:pt x="278" y="105"/>
                    </a:lnTo>
                    <a:lnTo>
                      <a:pt x="277" y="96"/>
                    </a:lnTo>
                    <a:close/>
                    <a:moveTo>
                      <a:pt x="271" y="62"/>
                    </a:moveTo>
                    <a:lnTo>
                      <a:pt x="271" y="60"/>
                    </a:lnTo>
                    <a:lnTo>
                      <a:pt x="272" y="59"/>
                    </a:lnTo>
                    <a:lnTo>
                      <a:pt x="273" y="58"/>
                    </a:lnTo>
                    <a:lnTo>
                      <a:pt x="274" y="56"/>
                    </a:lnTo>
                    <a:lnTo>
                      <a:pt x="277" y="56"/>
                    </a:lnTo>
                    <a:lnTo>
                      <a:pt x="278" y="58"/>
                    </a:lnTo>
                    <a:lnTo>
                      <a:pt x="279" y="59"/>
                    </a:lnTo>
                    <a:lnTo>
                      <a:pt x="280" y="61"/>
                    </a:lnTo>
                    <a:lnTo>
                      <a:pt x="280" y="62"/>
                    </a:lnTo>
                    <a:lnTo>
                      <a:pt x="279" y="63"/>
                    </a:lnTo>
                    <a:lnTo>
                      <a:pt x="278" y="64"/>
                    </a:lnTo>
                    <a:lnTo>
                      <a:pt x="275" y="65"/>
                    </a:lnTo>
                    <a:lnTo>
                      <a:pt x="274" y="65"/>
                    </a:lnTo>
                    <a:lnTo>
                      <a:pt x="273" y="64"/>
                    </a:lnTo>
                    <a:lnTo>
                      <a:pt x="272" y="63"/>
                    </a:lnTo>
                    <a:lnTo>
                      <a:pt x="271" y="62"/>
                    </a:lnTo>
                    <a:close/>
                    <a:moveTo>
                      <a:pt x="360" y="69"/>
                    </a:moveTo>
                    <a:lnTo>
                      <a:pt x="359" y="75"/>
                    </a:lnTo>
                    <a:lnTo>
                      <a:pt x="358" y="81"/>
                    </a:lnTo>
                    <a:lnTo>
                      <a:pt x="354" y="102"/>
                    </a:lnTo>
                    <a:lnTo>
                      <a:pt x="350" y="109"/>
                    </a:lnTo>
                    <a:lnTo>
                      <a:pt x="349" y="109"/>
                    </a:lnTo>
                    <a:lnTo>
                      <a:pt x="347" y="106"/>
                    </a:lnTo>
                    <a:lnTo>
                      <a:pt x="342" y="101"/>
                    </a:lnTo>
                    <a:lnTo>
                      <a:pt x="337" y="93"/>
                    </a:lnTo>
                    <a:lnTo>
                      <a:pt x="326" y="77"/>
                    </a:lnTo>
                    <a:lnTo>
                      <a:pt x="328" y="84"/>
                    </a:lnTo>
                    <a:lnTo>
                      <a:pt x="329" y="90"/>
                    </a:lnTo>
                    <a:lnTo>
                      <a:pt x="330" y="95"/>
                    </a:lnTo>
                    <a:lnTo>
                      <a:pt x="330" y="99"/>
                    </a:lnTo>
                    <a:lnTo>
                      <a:pt x="331" y="103"/>
                    </a:lnTo>
                    <a:lnTo>
                      <a:pt x="332" y="106"/>
                    </a:lnTo>
                    <a:lnTo>
                      <a:pt x="332" y="107"/>
                    </a:lnTo>
                    <a:lnTo>
                      <a:pt x="332" y="107"/>
                    </a:lnTo>
                    <a:lnTo>
                      <a:pt x="333" y="107"/>
                    </a:lnTo>
                    <a:lnTo>
                      <a:pt x="334" y="109"/>
                    </a:lnTo>
                    <a:lnTo>
                      <a:pt x="335" y="109"/>
                    </a:lnTo>
                    <a:lnTo>
                      <a:pt x="337" y="110"/>
                    </a:lnTo>
                    <a:lnTo>
                      <a:pt x="337" y="111"/>
                    </a:lnTo>
                    <a:lnTo>
                      <a:pt x="335" y="112"/>
                    </a:lnTo>
                    <a:lnTo>
                      <a:pt x="333" y="113"/>
                    </a:lnTo>
                    <a:lnTo>
                      <a:pt x="330" y="114"/>
                    </a:lnTo>
                    <a:lnTo>
                      <a:pt x="326" y="114"/>
                    </a:lnTo>
                    <a:lnTo>
                      <a:pt x="324" y="114"/>
                    </a:lnTo>
                    <a:lnTo>
                      <a:pt x="323" y="113"/>
                    </a:lnTo>
                    <a:lnTo>
                      <a:pt x="322" y="112"/>
                    </a:lnTo>
                    <a:lnTo>
                      <a:pt x="322" y="111"/>
                    </a:lnTo>
                    <a:lnTo>
                      <a:pt x="323" y="110"/>
                    </a:lnTo>
                    <a:lnTo>
                      <a:pt x="325" y="109"/>
                    </a:lnTo>
                    <a:lnTo>
                      <a:pt x="325" y="109"/>
                    </a:lnTo>
                    <a:lnTo>
                      <a:pt x="325" y="105"/>
                    </a:lnTo>
                    <a:lnTo>
                      <a:pt x="324" y="97"/>
                    </a:lnTo>
                    <a:lnTo>
                      <a:pt x="323" y="88"/>
                    </a:lnTo>
                    <a:lnTo>
                      <a:pt x="322" y="78"/>
                    </a:lnTo>
                    <a:lnTo>
                      <a:pt x="321" y="77"/>
                    </a:lnTo>
                    <a:lnTo>
                      <a:pt x="321" y="75"/>
                    </a:lnTo>
                    <a:lnTo>
                      <a:pt x="320" y="72"/>
                    </a:lnTo>
                    <a:lnTo>
                      <a:pt x="320" y="71"/>
                    </a:lnTo>
                    <a:lnTo>
                      <a:pt x="318" y="71"/>
                    </a:lnTo>
                    <a:lnTo>
                      <a:pt x="318" y="70"/>
                    </a:lnTo>
                    <a:lnTo>
                      <a:pt x="317" y="70"/>
                    </a:lnTo>
                    <a:lnTo>
                      <a:pt x="315" y="70"/>
                    </a:lnTo>
                    <a:lnTo>
                      <a:pt x="314" y="69"/>
                    </a:lnTo>
                    <a:lnTo>
                      <a:pt x="315" y="68"/>
                    </a:lnTo>
                    <a:lnTo>
                      <a:pt x="316" y="67"/>
                    </a:lnTo>
                    <a:lnTo>
                      <a:pt x="318" y="65"/>
                    </a:lnTo>
                    <a:lnTo>
                      <a:pt x="322" y="64"/>
                    </a:lnTo>
                    <a:lnTo>
                      <a:pt x="325" y="64"/>
                    </a:lnTo>
                    <a:lnTo>
                      <a:pt x="326" y="64"/>
                    </a:lnTo>
                    <a:lnTo>
                      <a:pt x="328" y="64"/>
                    </a:lnTo>
                    <a:lnTo>
                      <a:pt x="329" y="64"/>
                    </a:lnTo>
                    <a:lnTo>
                      <a:pt x="330" y="65"/>
                    </a:lnTo>
                    <a:lnTo>
                      <a:pt x="332" y="70"/>
                    </a:lnTo>
                    <a:lnTo>
                      <a:pt x="334" y="72"/>
                    </a:lnTo>
                    <a:lnTo>
                      <a:pt x="335" y="75"/>
                    </a:lnTo>
                    <a:lnTo>
                      <a:pt x="337" y="77"/>
                    </a:lnTo>
                    <a:lnTo>
                      <a:pt x="346" y="90"/>
                    </a:lnTo>
                    <a:lnTo>
                      <a:pt x="349" y="96"/>
                    </a:lnTo>
                    <a:lnTo>
                      <a:pt x="350" y="94"/>
                    </a:lnTo>
                    <a:lnTo>
                      <a:pt x="351" y="88"/>
                    </a:lnTo>
                    <a:lnTo>
                      <a:pt x="354" y="79"/>
                    </a:lnTo>
                    <a:lnTo>
                      <a:pt x="356" y="67"/>
                    </a:lnTo>
                    <a:lnTo>
                      <a:pt x="356" y="67"/>
                    </a:lnTo>
                    <a:lnTo>
                      <a:pt x="356" y="64"/>
                    </a:lnTo>
                    <a:lnTo>
                      <a:pt x="357" y="62"/>
                    </a:lnTo>
                    <a:lnTo>
                      <a:pt x="357" y="60"/>
                    </a:lnTo>
                    <a:lnTo>
                      <a:pt x="358" y="59"/>
                    </a:lnTo>
                    <a:lnTo>
                      <a:pt x="359" y="59"/>
                    </a:lnTo>
                    <a:lnTo>
                      <a:pt x="360" y="58"/>
                    </a:lnTo>
                    <a:lnTo>
                      <a:pt x="364" y="58"/>
                    </a:lnTo>
                    <a:lnTo>
                      <a:pt x="367" y="56"/>
                    </a:lnTo>
                    <a:lnTo>
                      <a:pt x="369" y="56"/>
                    </a:lnTo>
                    <a:lnTo>
                      <a:pt x="371" y="58"/>
                    </a:lnTo>
                    <a:lnTo>
                      <a:pt x="372" y="59"/>
                    </a:lnTo>
                    <a:lnTo>
                      <a:pt x="372" y="60"/>
                    </a:lnTo>
                    <a:lnTo>
                      <a:pt x="371" y="61"/>
                    </a:lnTo>
                    <a:lnTo>
                      <a:pt x="369" y="61"/>
                    </a:lnTo>
                    <a:lnTo>
                      <a:pt x="369" y="61"/>
                    </a:lnTo>
                    <a:lnTo>
                      <a:pt x="368" y="62"/>
                    </a:lnTo>
                    <a:lnTo>
                      <a:pt x="368" y="63"/>
                    </a:lnTo>
                    <a:lnTo>
                      <a:pt x="368" y="65"/>
                    </a:lnTo>
                    <a:lnTo>
                      <a:pt x="369" y="70"/>
                    </a:lnTo>
                    <a:lnTo>
                      <a:pt x="371" y="80"/>
                    </a:lnTo>
                    <a:lnTo>
                      <a:pt x="373" y="89"/>
                    </a:lnTo>
                    <a:lnTo>
                      <a:pt x="374" y="96"/>
                    </a:lnTo>
                    <a:lnTo>
                      <a:pt x="375" y="99"/>
                    </a:lnTo>
                    <a:lnTo>
                      <a:pt x="376" y="99"/>
                    </a:lnTo>
                    <a:lnTo>
                      <a:pt x="377" y="101"/>
                    </a:lnTo>
                    <a:lnTo>
                      <a:pt x="377" y="101"/>
                    </a:lnTo>
                    <a:lnTo>
                      <a:pt x="377" y="101"/>
                    </a:lnTo>
                    <a:lnTo>
                      <a:pt x="378" y="101"/>
                    </a:lnTo>
                    <a:lnTo>
                      <a:pt x="380" y="101"/>
                    </a:lnTo>
                    <a:lnTo>
                      <a:pt x="380" y="102"/>
                    </a:lnTo>
                    <a:lnTo>
                      <a:pt x="380" y="102"/>
                    </a:lnTo>
                    <a:lnTo>
                      <a:pt x="380" y="104"/>
                    </a:lnTo>
                    <a:lnTo>
                      <a:pt x="378" y="105"/>
                    </a:lnTo>
                    <a:lnTo>
                      <a:pt x="376" y="105"/>
                    </a:lnTo>
                    <a:lnTo>
                      <a:pt x="371" y="106"/>
                    </a:lnTo>
                    <a:lnTo>
                      <a:pt x="367" y="107"/>
                    </a:lnTo>
                    <a:lnTo>
                      <a:pt x="364" y="107"/>
                    </a:lnTo>
                    <a:lnTo>
                      <a:pt x="363" y="106"/>
                    </a:lnTo>
                    <a:lnTo>
                      <a:pt x="361" y="105"/>
                    </a:lnTo>
                    <a:lnTo>
                      <a:pt x="363" y="104"/>
                    </a:lnTo>
                    <a:lnTo>
                      <a:pt x="364" y="103"/>
                    </a:lnTo>
                    <a:lnTo>
                      <a:pt x="365" y="103"/>
                    </a:lnTo>
                    <a:lnTo>
                      <a:pt x="365" y="102"/>
                    </a:lnTo>
                    <a:lnTo>
                      <a:pt x="365" y="101"/>
                    </a:lnTo>
                    <a:lnTo>
                      <a:pt x="365" y="99"/>
                    </a:lnTo>
                    <a:lnTo>
                      <a:pt x="365" y="97"/>
                    </a:lnTo>
                    <a:lnTo>
                      <a:pt x="365" y="94"/>
                    </a:lnTo>
                    <a:lnTo>
                      <a:pt x="364" y="92"/>
                    </a:lnTo>
                    <a:lnTo>
                      <a:pt x="363" y="84"/>
                    </a:lnTo>
                    <a:lnTo>
                      <a:pt x="361" y="78"/>
                    </a:lnTo>
                    <a:lnTo>
                      <a:pt x="360" y="72"/>
                    </a:lnTo>
                    <a:lnTo>
                      <a:pt x="360" y="69"/>
                    </a:lnTo>
                    <a:close/>
                    <a:moveTo>
                      <a:pt x="442" y="68"/>
                    </a:moveTo>
                    <a:lnTo>
                      <a:pt x="441" y="63"/>
                    </a:lnTo>
                    <a:lnTo>
                      <a:pt x="438" y="59"/>
                    </a:lnTo>
                    <a:lnTo>
                      <a:pt x="436" y="55"/>
                    </a:lnTo>
                    <a:lnTo>
                      <a:pt x="433" y="53"/>
                    </a:lnTo>
                    <a:lnTo>
                      <a:pt x="429" y="51"/>
                    </a:lnTo>
                    <a:lnTo>
                      <a:pt x="426" y="48"/>
                    </a:lnTo>
                    <a:lnTo>
                      <a:pt x="423" y="48"/>
                    </a:lnTo>
                    <a:lnTo>
                      <a:pt x="419" y="48"/>
                    </a:lnTo>
                    <a:lnTo>
                      <a:pt x="417" y="50"/>
                    </a:lnTo>
                    <a:lnTo>
                      <a:pt x="415" y="52"/>
                    </a:lnTo>
                    <a:lnTo>
                      <a:pt x="412" y="53"/>
                    </a:lnTo>
                    <a:lnTo>
                      <a:pt x="411" y="56"/>
                    </a:lnTo>
                    <a:lnTo>
                      <a:pt x="410" y="62"/>
                    </a:lnTo>
                    <a:lnTo>
                      <a:pt x="411" y="69"/>
                    </a:lnTo>
                    <a:lnTo>
                      <a:pt x="412" y="75"/>
                    </a:lnTo>
                    <a:lnTo>
                      <a:pt x="415" y="78"/>
                    </a:lnTo>
                    <a:lnTo>
                      <a:pt x="417" y="82"/>
                    </a:lnTo>
                    <a:lnTo>
                      <a:pt x="420" y="85"/>
                    </a:lnTo>
                    <a:lnTo>
                      <a:pt x="423" y="87"/>
                    </a:lnTo>
                    <a:lnTo>
                      <a:pt x="426" y="88"/>
                    </a:lnTo>
                    <a:lnTo>
                      <a:pt x="429" y="89"/>
                    </a:lnTo>
                    <a:lnTo>
                      <a:pt x="433" y="88"/>
                    </a:lnTo>
                    <a:lnTo>
                      <a:pt x="436" y="87"/>
                    </a:lnTo>
                    <a:lnTo>
                      <a:pt x="438" y="86"/>
                    </a:lnTo>
                    <a:lnTo>
                      <a:pt x="440" y="84"/>
                    </a:lnTo>
                    <a:lnTo>
                      <a:pt x="442" y="81"/>
                    </a:lnTo>
                    <a:lnTo>
                      <a:pt x="443" y="78"/>
                    </a:lnTo>
                    <a:lnTo>
                      <a:pt x="443" y="76"/>
                    </a:lnTo>
                    <a:lnTo>
                      <a:pt x="443" y="72"/>
                    </a:lnTo>
                    <a:lnTo>
                      <a:pt x="442" y="68"/>
                    </a:lnTo>
                    <a:close/>
                    <a:moveTo>
                      <a:pt x="434" y="94"/>
                    </a:moveTo>
                    <a:lnTo>
                      <a:pt x="429" y="94"/>
                    </a:lnTo>
                    <a:lnTo>
                      <a:pt x="425" y="95"/>
                    </a:lnTo>
                    <a:lnTo>
                      <a:pt x="421" y="94"/>
                    </a:lnTo>
                    <a:lnTo>
                      <a:pt x="418" y="93"/>
                    </a:lnTo>
                    <a:lnTo>
                      <a:pt x="412" y="90"/>
                    </a:lnTo>
                    <a:lnTo>
                      <a:pt x="408" y="86"/>
                    </a:lnTo>
                    <a:lnTo>
                      <a:pt x="405" y="80"/>
                    </a:lnTo>
                    <a:lnTo>
                      <a:pt x="402" y="75"/>
                    </a:lnTo>
                    <a:lnTo>
                      <a:pt x="401" y="69"/>
                    </a:lnTo>
                    <a:lnTo>
                      <a:pt x="401" y="64"/>
                    </a:lnTo>
                    <a:lnTo>
                      <a:pt x="402" y="60"/>
                    </a:lnTo>
                    <a:lnTo>
                      <a:pt x="405" y="55"/>
                    </a:lnTo>
                    <a:lnTo>
                      <a:pt x="407" y="52"/>
                    </a:lnTo>
                    <a:lnTo>
                      <a:pt x="410" y="48"/>
                    </a:lnTo>
                    <a:lnTo>
                      <a:pt x="415" y="46"/>
                    </a:lnTo>
                    <a:lnTo>
                      <a:pt x="419" y="44"/>
                    </a:lnTo>
                    <a:lnTo>
                      <a:pt x="424" y="43"/>
                    </a:lnTo>
                    <a:lnTo>
                      <a:pt x="428" y="43"/>
                    </a:lnTo>
                    <a:lnTo>
                      <a:pt x="432" y="44"/>
                    </a:lnTo>
                    <a:lnTo>
                      <a:pt x="436" y="45"/>
                    </a:lnTo>
                    <a:lnTo>
                      <a:pt x="441" y="47"/>
                    </a:lnTo>
                    <a:lnTo>
                      <a:pt x="445" y="52"/>
                    </a:lnTo>
                    <a:lnTo>
                      <a:pt x="449" y="58"/>
                    </a:lnTo>
                    <a:lnTo>
                      <a:pt x="451" y="63"/>
                    </a:lnTo>
                    <a:lnTo>
                      <a:pt x="452" y="68"/>
                    </a:lnTo>
                    <a:lnTo>
                      <a:pt x="452" y="71"/>
                    </a:lnTo>
                    <a:lnTo>
                      <a:pt x="451" y="76"/>
                    </a:lnTo>
                    <a:lnTo>
                      <a:pt x="450" y="79"/>
                    </a:lnTo>
                    <a:lnTo>
                      <a:pt x="448" y="84"/>
                    </a:lnTo>
                    <a:lnTo>
                      <a:pt x="444" y="88"/>
                    </a:lnTo>
                    <a:lnTo>
                      <a:pt x="438" y="92"/>
                    </a:lnTo>
                    <a:lnTo>
                      <a:pt x="434" y="94"/>
                    </a:lnTo>
                    <a:close/>
                    <a:moveTo>
                      <a:pt x="479" y="51"/>
                    </a:moveTo>
                    <a:lnTo>
                      <a:pt x="479" y="51"/>
                    </a:lnTo>
                    <a:lnTo>
                      <a:pt x="479" y="52"/>
                    </a:lnTo>
                    <a:lnTo>
                      <a:pt x="479" y="52"/>
                    </a:lnTo>
                    <a:lnTo>
                      <a:pt x="479" y="52"/>
                    </a:lnTo>
                    <a:lnTo>
                      <a:pt x="479" y="52"/>
                    </a:lnTo>
                    <a:lnTo>
                      <a:pt x="479" y="52"/>
                    </a:lnTo>
                    <a:lnTo>
                      <a:pt x="479" y="53"/>
                    </a:lnTo>
                    <a:lnTo>
                      <a:pt x="479" y="53"/>
                    </a:lnTo>
                    <a:lnTo>
                      <a:pt x="489" y="60"/>
                    </a:lnTo>
                    <a:lnTo>
                      <a:pt x="496" y="63"/>
                    </a:lnTo>
                    <a:lnTo>
                      <a:pt x="502" y="67"/>
                    </a:lnTo>
                    <a:lnTo>
                      <a:pt x="504" y="68"/>
                    </a:lnTo>
                    <a:lnTo>
                      <a:pt x="505" y="68"/>
                    </a:lnTo>
                    <a:lnTo>
                      <a:pt x="506" y="68"/>
                    </a:lnTo>
                    <a:lnTo>
                      <a:pt x="509" y="68"/>
                    </a:lnTo>
                    <a:lnTo>
                      <a:pt x="510" y="69"/>
                    </a:lnTo>
                    <a:lnTo>
                      <a:pt x="510" y="70"/>
                    </a:lnTo>
                    <a:lnTo>
                      <a:pt x="509" y="71"/>
                    </a:lnTo>
                    <a:lnTo>
                      <a:pt x="506" y="72"/>
                    </a:lnTo>
                    <a:lnTo>
                      <a:pt x="503" y="73"/>
                    </a:lnTo>
                    <a:lnTo>
                      <a:pt x="502" y="75"/>
                    </a:lnTo>
                    <a:lnTo>
                      <a:pt x="501" y="75"/>
                    </a:lnTo>
                    <a:lnTo>
                      <a:pt x="500" y="75"/>
                    </a:lnTo>
                    <a:lnTo>
                      <a:pt x="498" y="75"/>
                    </a:lnTo>
                    <a:lnTo>
                      <a:pt x="496" y="72"/>
                    </a:lnTo>
                    <a:lnTo>
                      <a:pt x="492" y="70"/>
                    </a:lnTo>
                    <a:lnTo>
                      <a:pt x="486" y="67"/>
                    </a:lnTo>
                    <a:lnTo>
                      <a:pt x="480" y="63"/>
                    </a:lnTo>
                    <a:lnTo>
                      <a:pt x="475" y="60"/>
                    </a:lnTo>
                    <a:lnTo>
                      <a:pt x="475" y="60"/>
                    </a:lnTo>
                    <a:lnTo>
                      <a:pt x="475" y="59"/>
                    </a:lnTo>
                    <a:lnTo>
                      <a:pt x="475" y="59"/>
                    </a:lnTo>
                    <a:lnTo>
                      <a:pt x="474" y="59"/>
                    </a:lnTo>
                    <a:lnTo>
                      <a:pt x="474" y="60"/>
                    </a:lnTo>
                    <a:lnTo>
                      <a:pt x="474" y="60"/>
                    </a:lnTo>
                    <a:lnTo>
                      <a:pt x="474" y="60"/>
                    </a:lnTo>
                    <a:lnTo>
                      <a:pt x="474" y="60"/>
                    </a:lnTo>
                    <a:lnTo>
                      <a:pt x="474" y="60"/>
                    </a:lnTo>
                    <a:lnTo>
                      <a:pt x="475" y="62"/>
                    </a:lnTo>
                    <a:lnTo>
                      <a:pt x="476" y="65"/>
                    </a:lnTo>
                    <a:lnTo>
                      <a:pt x="478" y="72"/>
                    </a:lnTo>
                    <a:lnTo>
                      <a:pt x="479" y="75"/>
                    </a:lnTo>
                    <a:lnTo>
                      <a:pt x="480" y="75"/>
                    </a:lnTo>
                    <a:lnTo>
                      <a:pt x="481" y="75"/>
                    </a:lnTo>
                    <a:lnTo>
                      <a:pt x="483" y="76"/>
                    </a:lnTo>
                    <a:lnTo>
                      <a:pt x="484" y="77"/>
                    </a:lnTo>
                    <a:lnTo>
                      <a:pt x="484" y="78"/>
                    </a:lnTo>
                    <a:lnTo>
                      <a:pt x="483" y="79"/>
                    </a:lnTo>
                    <a:lnTo>
                      <a:pt x="480" y="80"/>
                    </a:lnTo>
                    <a:lnTo>
                      <a:pt x="476" y="81"/>
                    </a:lnTo>
                    <a:lnTo>
                      <a:pt x="471" y="82"/>
                    </a:lnTo>
                    <a:lnTo>
                      <a:pt x="468" y="84"/>
                    </a:lnTo>
                    <a:lnTo>
                      <a:pt x="467" y="82"/>
                    </a:lnTo>
                    <a:lnTo>
                      <a:pt x="466" y="81"/>
                    </a:lnTo>
                    <a:lnTo>
                      <a:pt x="466" y="80"/>
                    </a:lnTo>
                    <a:lnTo>
                      <a:pt x="468" y="79"/>
                    </a:lnTo>
                    <a:lnTo>
                      <a:pt x="468" y="78"/>
                    </a:lnTo>
                    <a:lnTo>
                      <a:pt x="469" y="78"/>
                    </a:lnTo>
                    <a:lnTo>
                      <a:pt x="469" y="77"/>
                    </a:lnTo>
                    <a:lnTo>
                      <a:pt x="468" y="73"/>
                    </a:lnTo>
                    <a:lnTo>
                      <a:pt x="467" y="68"/>
                    </a:lnTo>
                    <a:lnTo>
                      <a:pt x="465" y="59"/>
                    </a:lnTo>
                    <a:lnTo>
                      <a:pt x="462" y="52"/>
                    </a:lnTo>
                    <a:lnTo>
                      <a:pt x="461" y="46"/>
                    </a:lnTo>
                    <a:lnTo>
                      <a:pt x="459" y="43"/>
                    </a:lnTo>
                    <a:lnTo>
                      <a:pt x="459" y="41"/>
                    </a:lnTo>
                    <a:lnTo>
                      <a:pt x="458" y="41"/>
                    </a:lnTo>
                    <a:lnTo>
                      <a:pt x="457" y="41"/>
                    </a:lnTo>
                    <a:lnTo>
                      <a:pt x="454" y="39"/>
                    </a:lnTo>
                    <a:lnTo>
                      <a:pt x="453" y="38"/>
                    </a:lnTo>
                    <a:lnTo>
                      <a:pt x="453" y="37"/>
                    </a:lnTo>
                    <a:lnTo>
                      <a:pt x="454" y="37"/>
                    </a:lnTo>
                    <a:lnTo>
                      <a:pt x="457" y="36"/>
                    </a:lnTo>
                    <a:lnTo>
                      <a:pt x="462" y="34"/>
                    </a:lnTo>
                    <a:lnTo>
                      <a:pt x="467" y="33"/>
                    </a:lnTo>
                    <a:lnTo>
                      <a:pt x="469" y="33"/>
                    </a:lnTo>
                    <a:lnTo>
                      <a:pt x="471" y="33"/>
                    </a:lnTo>
                    <a:lnTo>
                      <a:pt x="471" y="34"/>
                    </a:lnTo>
                    <a:lnTo>
                      <a:pt x="471" y="35"/>
                    </a:lnTo>
                    <a:lnTo>
                      <a:pt x="470" y="36"/>
                    </a:lnTo>
                    <a:lnTo>
                      <a:pt x="469" y="37"/>
                    </a:lnTo>
                    <a:lnTo>
                      <a:pt x="469" y="37"/>
                    </a:lnTo>
                    <a:lnTo>
                      <a:pt x="469" y="39"/>
                    </a:lnTo>
                    <a:lnTo>
                      <a:pt x="469" y="42"/>
                    </a:lnTo>
                    <a:lnTo>
                      <a:pt x="470" y="46"/>
                    </a:lnTo>
                    <a:lnTo>
                      <a:pt x="471" y="52"/>
                    </a:lnTo>
                    <a:lnTo>
                      <a:pt x="471" y="52"/>
                    </a:lnTo>
                    <a:lnTo>
                      <a:pt x="471" y="52"/>
                    </a:lnTo>
                    <a:lnTo>
                      <a:pt x="472" y="53"/>
                    </a:lnTo>
                    <a:lnTo>
                      <a:pt x="472" y="53"/>
                    </a:lnTo>
                    <a:lnTo>
                      <a:pt x="474" y="52"/>
                    </a:lnTo>
                    <a:lnTo>
                      <a:pt x="475" y="48"/>
                    </a:lnTo>
                    <a:lnTo>
                      <a:pt x="476" y="45"/>
                    </a:lnTo>
                    <a:lnTo>
                      <a:pt x="477" y="43"/>
                    </a:lnTo>
                    <a:lnTo>
                      <a:pt x="479" y="38"/>
                    </a:lnTo>
                    <a:lnTo>
                      <a:pt x="480" y="37"/>
                    </a:lnTo>
                    <a:lnTo>
                      <a:pt x="480" y="36"/>
                    </a:lnTo>
                    <a:lnTo>
                      <a:pt x="481" y="35"/>
                    </a:lnTo>
                    <a:lnTo>
                      <a:pt x="481" y="34"/>
                    </a:lnTo>
                    <a:lnTo>
                      <a:pt x="480" y="34"/>
                    </a:lnTo>
                    <a:lnTo>
                      <a:pt x="479" y="33"/>
                    </a:lnTo>
                    <a:lnTo>
                      <a:pt x="478" y="33"/>
                    </a:lnTo>
                    <a:lnTo>
                      <a:pt x="477" y="31"/>
                    </a:lnTo>
                    <a:lnTo>
                      <a:pt x="477" y="30"/>
                    </a:lnTo>
                    <a:lnTo>
                      <a:pt x="478" y="30"/>
                    </a:lnTo>
                    <a:lnTo>
                      <a:pt x="480" y="29"/>
                    </a:lnTo>
                    <a:lnTo>
                      <a:pt x="485" y="27"/>
                    </a:lnTo>
                    <a:lnTo>
                      <a:pt x="489" y="26"/>
                    </a:lnTo>
                    <a:lnTo>
                      <a:pt x="492" y="26"/>
                    </a:lnTo>
                    <a:lnTo>
                      <a:pt x="493" y="27"/>
                    </a:lnTo>
                    <a:lnTo>
                      <a:pt x="493" y="27"/>
                    </a:lnTo>
                    <a:lnTo>
                      <a:pt x="493" y="28"/>
                    </a:lnTo>
                    <a:lnTo>
                      <a:pt x="492" y="29"/>
                    </a:lnTo>
                    <a:lnTo>
                      <a:pt x="491" y="30"/>
                    </a:lnTo>
                    <a:lnTo>
                      <a:pt x="489" y="30"/>
                    </a:lnTo>
                    <a:lnTo>
                      <a:pt x="488" y="33"/>
                    </a:lnTo>
                    <a:lnTo>
                      <a:pt x="486" y="35"/>
                    </a:lnTo>
                    <a:lnTo>
                      <a:pt x="484" y="39"/>
                    </a:lnTo>
                    <a:lnTo>
                      <a:pt x="481" y="46"/>
                    </a:lnTo>
                    <a:lnTo>
                      <a:pt x="479" y="51"/>
                    </a:lnTo>
                    <a:close/>
                    <a:moveTo>
                      <a:pt x="511" y="47"/>
                    </a:moveTo>
                    <a:lnTo>
                      <a:pt x="509" y="39"/>
                    </a:lnTo>
                    <a:lnTo>
                      <a:pt x="506" y="34"/>
                    </a:lnTo>
                    <a:lnTo>
                      <a:pt x="504" y="30"/>
                    </a:lnTo>
                    <a:lnTo>
                      <a:pt x="503" y="29"/>
                    </a:lnTo>
                    <a:lnTo>
                      <a:pt x="502" y="28"/>
                    </a:lnTo>
                    <a:lnTo>
                      <a:pt x="501" y="28"/>
                    </a:lnTo>
                    <a:lnTo>
                      <a:pt x="500" y="28"/>
                    </a:lnTo>
                    <a:lnTo>
                      <a:pt x="498" y="27"/>
                    </a:lnTo>
                    <a:lnTo>
                      <a:pt x="498" y="26"/>
                    </a:lnTo>
                    <a:lnTo>
                      <a:pt x="498" y="25"/>
                    </a:lnTo>
                    <a:lnTo>
                      <a:pt x="502" y="24"/>
                    </a:lnTo>
                    <a:lnTo>
                      <a:pt x="506" y="21"/>
                    </a:lnTo>
                    <a:lnTo>
                      <a:pt x="511" y="20"/>
                    </a:lnTo>
                    <a:lnTo>
                      <a:pt x="513" y="19"/>
                    </a:lnTo>
                    <a:lnTo>
                      <a:pt x="515" y="20"/>
                    </a:lnTo>
                    <a:lnTo>
                      <a:pt x="515" y="20"/>
                    </a:lnTo>
                    <a:lnTo>
                      <a:pt x="515" y="22"/>
                    </a:lnTo>
                    <a:lnTo>
                      <a:pt x="514" y="24"/>
                    </a:lnTo>
                    <a:lnTo>
                      <a:pt x="513" y="24"/>
                    </a:lnTo>
                    <a:lnTo>
                      <a:pt x="513" y="25"/>
                    </a:lnTo>
                    <a:lnTo>
                      <a:pt x="513" y="26"/>
                    </a:lnTo>
                    <a:lnTo>
                      <a:pt x="514" y="29"/>
                    </a:lnTo>
                    <a:lnTo>
                      <a:pt x="515" y="34"/>
                    </a:lnTo>
                    <a:lnTo>
                      <a:pt x="518" y="41"/>
                    </a:lnTo>
                    <a:lnTo>
                      <a:pt x="520" y="47"/>
                    </a:lnTo>
                    <a:lnTo>
                      <a:pt x="521" y="51"/>
                    </a:lnTo>
                    <a:lnTo>
                      <a:pt x="522" y="53"/>
                    </a:lnTo>
                    <a:lnTo>
                      <a:pt x="523" y="55"/>
                    </a:lnTo>
                    <a:lnTo>
                      <a:pt x="526" y="58"/>
                    </a:lnTo>
                    <a:lnTo>
                      <a:pt x="529" y="60"/>
                    </a:lnTo>
                    <a:lnTo>
                      <a:pt x="534" y="60"/>
                    </a:lnTo>
                    <a:lnTo>
                      <a:pt x="538" y="59"/>
                    </a:lnTo>
                    <a:lnTo>
                      <a:pt x="540" y="58"/>
                    </a:lnTo>
                    <a:lnTo>
                      <a:pt x="543" y="56"/>
                    </a:lnTo>
                    <a:lnTo>
                      <a:pt x="544" y="54"/>
                    </a:lnTo>
                    <a:lnTo>
                      <a:pt x="545" y="52"/>
                    </a:lnTo>
                    <a:lnTo>
                      <a:pt x="546" y="47"/>
                    </a:lnTo>
                    <a:lnTo>
                      <a:pt x="544" y="41"/>
                    </a:lnTo>
                    <a:lnTo>
                      <a:pt x="540" y="31"/>
                    </a:lnTo>
                    <a:lnTo>
                      <a:pt x="538" y="24"/>
                    </a:lnTo>
                    <a:lnTo>
                      <a:pt x="536" y="19"/>
                    </a:lnTo>
                    <a:lnTo>
                      <a:pt x="535" y="17"/>
                    </a:lnTo>
                    <a:lnTo>
                      <a:pt x="534" y="17"/>
                    </a:lnTo>
                    <a:lnTo>
                      <a:pt x="532" y="17"/>
                    </a:lnTo>
                    <a:lnTo>
                      <a:pt x="530" y="17"/>
                    </a:lnTo>
                    <a:lnTo>
                      <a:pt x="530" y="16"/>
                    </a:lnTo>
                    <a:lnTo>
                      <a:pt x="530" y="14"/>
                    </a:lnTo>
                    <a:lnTo>
                      <a:pt x="530" y="13"/>
                    </a:lnTo>
                    <a:lnTo>
                      <a:pt x="532" y="12"/>
                    </a:lnTo>
                    <a:lnTo>
                      <a:pt x="536" y="11"/>
                    </a:lnTo>
                    <a:lnTo>
                      <a:pt x="539" y="10"/>
                    </a:lnTo>
                    <a:lnTo>
                      <a:pt x="541" y="9"/>
                    </a:lnTo>
                    <a:lnTo>
                      <a:pt x="543" y="10"/>
                    </a:lnTo>
                    <a:lnTo>
                      <a:pt x="544" y="10"/>
                    </a:lnTo>
                    <a:lnTo>
                      <a:pt x="544" y="12"/>
                    </a:lnTo>
                    <a:lnTo>
                      <a:pt x="543" y="13"/>
                    </a:lnTo>
                    <a:lnTo>
                      <a:pt x="541" y="13"/>
                    </a:lnTo>
                    <a:lnTo>
                      <a:pt x="541" y="14"/>
                    </a:lnTo>
                    <a:lnTo>
                      <a:pt x="541" y="16"/>
                    </a:lnTo>
                    <a:lnTo>
                      <a:pt x="541" y="18"/>
                    </a:lnTo>
                    <a:lnTo>
                      <a:pt x="543" y="22"/>
                    </a:lnTo>
                    <a:lnTo>
                      <a:pt x="546" y="29"/>
                    </a:lnTo>
                    <a:lnTo>
                      <a:pt x="546" y="31"/>
                    </a:lnTo>
                    <a:lnTo>
                      <a:pt x="547" y="34"/>
                    </a:lnTo>
                    <a:lnTo>
                      <a:pt x="548" y="36"/>
                    </a:lnTo>
                    <a:lnTo>
                      <a:pt x="548" y="38"/>
                    </a:lnTo>
                    <a:lnTo>
                      <a:pt x="551" y="43"/>
                    </a:lnTo>
                    <a:lnTo>
                      <a:pt x="551" y="47"/>
                    </a:lnTo>
                    <a:lnTo>
                      <a:pt x="552" y="50"/>
                    </a:lnTo>
                    <a:lnTo>
                      <a:pt x="551" y="53"/>
                    </a:lnTo>
                    <a:lnTo>
                      <a:pt x="549" y="56"/>
                    </a:lnTo>
                    <a:lnTo>
                      <a:pt x="546" y="60"/>
                    </a:lnTo>
                    <a:lnTo>
                      <a:pt x="543" y="62"/>
                    </a:lnTo>
                    <a:lnTo>
                      <a:pt x="538" y="64"/>
                    </a:lnTo>
                    <a:lnTo>
                      <a:pt x="534" y="65"/>
                    </a:lnTo>
                    <a:lnTo>
                      <a:pt x="530" y="65"/>
                    </a:lnTo>
                    <a:lnTo>
                      <a:pt x="526" y="65"/>
                    </a:lnTo>
                    <a:lnTo>
                      <a:pt x="522" y="64"/>
                    </a:lnTo>
                    <a:lnTo>
                      <a:pt x="520" y="63"/>
                    </a:lnTo>
                    <a:lnTo>
                      <a:pt x="518" y="61"/>
                    </a:lnTo>
                    <a:lnTo>
                      <a:pt x="515" y="58"/>
                    </a:lnTo>
                    <a:lnTo>
                      <a:pt x="513" y="54"/>
                    </a:lnTo>
                    <a:lnTo>
                      <a:pt x="513" y="53"/>
                    </a:lnTo>
                    <a:lnTo>
                      <a:pt x="512" y="51"/>
                    </a:lnTo>
                    <a:lnTo>
                      <a:pt x="511" y="48"/>
                    </a:lnTo>
                    <a:lnTo>
                      <a:pt x="511" y="47"/>
                    </a:lnTo>
                    <a:close/>
                    <a:moveTo>
                      <a:pt x="589" y="38"/>
                    </a:moveTo>
                    <a:lnTo>
                      <a:pt x="591" y="37"/>
                    </a:lnTo>
                    <a:lnTo>
                      <a:pt x="594" y="36"/>
                    </a:lnTo>
                    <a:lnTo>
                      <a:pt x="595" y="34"/>
                    </a:lnTo>
                    <a:lnTo>
                      <a:pt x="595" y="31"/>
                    </a:lnTo>
                    <a:lnTo>
                      <a:pt x="595" y="30"/>
                    </a:lnTo>
                    <a:lnTo>
                      <a:pt x="595" y="29"/>
                    </a:lnTo>
                    <a:lnTo>
                      <a:pt x="596" y="27"/>
                    </a:lnTo>
                    <a:lnTo>
                      <a:pt x="597" y="26"/>
                    </a:lnTo>
                    <a:lnTo>
                      <a:pt x="598" y="26"/>
                    </a:lnTo>
                    <a:lnTo>
                      <a:pt x="598" y="26"/>
                    </a:lnTo>
                    <a:lnTo>
                      <a:pt x="599" y="27"/>
                    </a:lnTo>
                    <a:lnTo>
                      <a:pt x="599" y="28"/>
                    </a:lnTo>
                    <a:lnTo>
                      <a:pt x="600" y="30"/>
                    </a:lnTo>
                    <a:lnTo>
                      <a:pt x="600" y="33"/>
                    </a:lnTo>
                    <a:lnTo>
                      <a:pt x="601" y="35"/>
                    </a:lnTo>
                    <a:lnTo>
                      <a:pt x="601" y="37"/>
                    </a:lnTo>
                    <a:lnTo>
                      <a:pt x="601" y="38"/>
                    </a:lnTo>
                    <a:lnTo>
                      <a:pt x="601" y="39"/>
                    </a:lnTo>
                    <a:lnTo>
                      <a:pt x="600" y="41"/>
                    </a:lnTo>
                    <a:lnTo>
                      <a:pt x="599" y="41"/>
                    </a:lnTo>
                    <a:lnTo>
                      <a:pt x="597" y="42"/>
                    </a:lnTo>
                    <a:lnTo>
                      <a:pt x="595" y="42"/>
                    </a:lnTo>
                    <a:lnTo>
                      <a:pt x="575" y="50"/>
                    </a:lnTo>
                    <a:lnTo>
                      <a:pt x="572" y="51"/>
                    </a:lnTo>
                    <a:lnTo>
                      <a:pt x="570" y="51"/>
                    </a:lnTo>
                    <a:lnTo>
                      <a:pt x="569" y="51"/>
                    </a:lnTo>
                    <a:lnTo>
                      <a:pt x="568" y="50"/>
                    </a:lnTo>
                    <a:lnTo>
                      <a:pt x="568" y="48"/>
                    </a:lnTo>
                    <a:lnTo>
                      <a:pt x="569" y="47"/>
                    </a:lnTo>
                    <a:lnTo>
                      <a:pt x="570" y="46"/>
                    </a:lnTo>
                    <a:lnTo>
                      <a:pt x="570" y="46"/>
                    </a:lnTo>
                    <a:lnTo>
                      <a:pt x="570" y="44"/>
                    </a:lnTo>
                    <a:lnTo>
                      <a:pt x="570" y="42"/>
                    </a:lnTo>
                    <a:lnTo>
                      <a:pt x="568" y="36"/>
                    </a:lnTo>
                    <a:lnTo>
                      <a:pt x="564" y="27"/>
                    </a:lnTo>
                    <a:lnTo>
                      <a:pt x="562" y="20"/>
                    </a:lnTo>
                    <a:lnTo>
                      <a:pt x="560" y="14"/>
                    </a:lnTo>
                    <a:lnTo>
                      <a:pt x="557" y="11"/>
                    </a:lnTo>
                    <a:lnTo>
                      <a:pt x="556" y="10"/>
                    </a:lnTo>
                    <a:lnTo>
                      <a:pt x="556" y="10"/>
                    </a:lnTo>
                    <a:lnTo>
                      <a:pt x="554" y="10"/>
                    </a:lnTo>
                    <a:lnTo>
                      <a:pt x="553" y="9"/>
                    </a:lnTo>
                    <a:lnTo>
                      <a:pt x="552" y="8"/>
                    </a:lnTo>
                    <a:lnTo>
                      <a:pt x="552" y="7"/>
                    </a:lnTo>
                    <a:lnTo>
                      <a:pt x="553" y="5"/>
                    </a:lnTo>
                    <a:lnTo>
                      <a:pt x="555" y="4"/>
                    </a:lnTo>
                    <a:lnTo>
                      <a:pt x="560" y="2"/>
                    </a:lnTo>
                    <a:lnTo>
                      <a:pt x="564" y="1"/>
                    </a:lnTo>
                    <a:lnTo>
                      <a:pt x="566" y="0"/>
                    </a:lnTo>
                    <a:lnTo>
                      <a:pt x="569" y="1"/>
                    </a:lnTo>
                    <a:lnTo>
                      <a:pt x="569" y="2"/>
                    </a:lnTo>
                    <a:lnTo>
                      <a:pt x="569" y="3"/>
                    </a:lnTo>
                    <a:lnTo>
                      <a:pt x="568" y="4"/>
                    </a:lnTo>
                    <a:lnTo>
                      <a:pt x="568" y="5"/>
                    </a:lnTo>
                    <a:lnTo>
                      <a:pt x="566" y="5"/>
                    </a:lnTo>
                    <a:lnTo>
                      <a:pt x="566" y="7"/>
                    </a:lnTo>
                    <a:lnTo>
                      <a:pt x="568" y="10"/>
                    </a:lnTo>
                    <a:lnTo>
                      <a:pt x="569" y="13"/>
                    </a:lnTo>
                    <a:lnTo>
                      <a:pt x="571" y="20"/>
                    </a:lnTo>
                    <a:lnTo>
                      <a:pt x="573" y="27"/>
                    </a:lnTo>
                    <a:lnTo>
                      <a:pt x="577" y="33"/>
                    </a:lnTo>
                    <a:lnTo>
                      <a:pt x="578" y="37"/>
                    </a:lnTo>
                    <a:lnTo>
                      <a:pt x="579" y="39"/>
                    </a:lnTo>
                    <a:lnTo>
                      <a:pt x="580" y="41"/>
                    </a:lnTo>
                    <a:lnTo>
                      <a:pt x="581" y="41"/>
                    </a:lnTo>
                    <a:lnTo>
                      <a:pt x="585" y="41"/>
                    </a:lnTo>
                    <a:lnTo>
                      <a:pt x="588" y="39"/>
                    </a:lnTo>
                    <a:lnTo>
                      <a:pt x="589" y="38"/>
                    </a:lnTo>
                    <a:close/>
                  </a:path>
                </a:pathLst>
              </a:custGeom>
              <a:solidFill>
                <a:srgbClr val="29166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735" name=""/>
              <p:cNvSpPr/>
              <p:nvPr/>
            </p:nvSpPr>
            <p:spPr>
              <a:xfrm>
                <a:off x="1271520" y="703080"/>
                <a:ext cx="34920" cy="36000"/>
              </a:xfrm>
              <a:custGeom>
                <a:avLst/>
                <a:gdLst/>
                <a:ahLst/>
                <a:rect l="l" t="t" r="r" b="b"/>
                <a:pathLst>
                  <a:path w="55" h="57">
                    <a:moveTo>
                      <a:pt x="15" y="39"/>
                    </a:moveTo>
                    <a:lnTo>
                      <a:pt x="12" y="32"/>
                    </a:lnTo>
                    <a:lnTo>
                      <a:pt x="8" y="27"/>
                    </a:lnTo>
                    <a:lnTo>
                      <a:pt x="6" y="23"/>
                    </a:lnTo>
                    <a:lnTo>
                      <a:pt x="5" y="22"/>
                    </a:lnTo>
                    <a:lnTo>
                      <a:pt x="5" y="22"/>
                    </a:lnTo>
                    <a:lnTo>
                      <a:pt x="3" y="22"/>
                    </a:lnTo>
                    <a:lnTo>
                      <a:pt x="1" y="21"/>
                    </a:lnTo>
                    <a:lnTo>
                      <a:pt x="0" y="21"/>
                    </a:lnTo>
                    <a:lnTo>
                      <a:pt x="0" y="20"/>
                    </a:lnTo>
                    <a:lnTo>
                      <a:pt x="0" y="19"/>
                    </a:lnTo>
                    <a:lnTo>
                      <a:pt x="3" y="17"/>
                    </a:lnTo>
                    <a:lnTo>
                      <a:pt x="8" y="14"/>
                    </a:lnTo>
                    <a:lnTo>
                      <a:pt x="13" y="12"/>
                    </a:lnTo>
                    <a:lnTo>
                      <a:pt x="15" y="12"/>
                    </a:lnTo>
                    <a:lnTo>
                      <a:pt x="16" y="12"/>
                    </a:lnTo>
                    <a:lnTo>
                      <a:pt x="17" y="13"/>
                    </a:lnTo>
                    <a:lnTo>
                      <a:pt x="17" y="14"/>
                    </a:lnTo>
                    <a:lnTo>
                      <a:pt x="16" y="15"/>
                    </a:lnTo>
                    <a:lnTo>
                      <a:pt x="15" y="17"/>
                    </a:lnTo>
                    <a:lnTo>
                      <a:pt x="15" y="17"/>
                    </a:lnTo>
                    <a:lnTo>
                      <a:pt x="15" y="19"/>
                    </a:lnTo>
                    <a:lnTo>
                      <a:pt x="16" y="21"/>
                    </a:lnTo>
                    <a:lnTo>
                      <a:pt x="18" y="27"/>
                    </a:lnTo>
                    <a:lnTo>
                      <a:pt x="21" y="34"/>
                    </a:lnTo>
                    <a:lnTo>
                      <a:pt x="24" y="39"/>
                    </a:lnTo>
                    <a:lnTo>
                      <a:pt x="25" y="43"/>
                    </a:lnTo>
                    <a:lnTo>
                      <a:pt x="26" y="45"/>
                    </a:lnTo>
                    <a:lnTo>
                      <a:pt x="27" y="46"/>
                    </a:lnTo>
                    <a:lnTo>
                      <a:pt x="31" y="49"/>
                    </a:lnTo>
                    <a:lnTo>
                      <a:pt x="34" y="51"/>
                    </a:lnTo>
                    <a:lnTo>
                      <a:pt x="38" y="51"/>
                    </a:lnTo>
                    <a:lnTo>
                      <a:pt x="42" y="49"/>
                    </a:lnTo>
                    <a:lnTo>
                      <a:pt x="44" y="47"/>
                    </a:lnTo>
                    <a:lnTo>
                      <a:pt x="47" y="46"/>
                    </a:lnTo>
                    <a:lnTo>
                      <a:pt x="49" y="44"/>
                    </a:lnTo>
                    <a:lnTo>
                      <a:pt x="49" y="42"/>
                    </a:lnTo>
                    <a:lnTo>
                      <a:pt x="49" y="37"/>
                    </a:lnTo>
                    <a:lnTo>
                      <a:pt x="47" y="30"/>
                    </a:lnTo>
                    <a:lnTo>
                      <a:pt x="42" y="21"/>
                    </a:lnTo>
                    <a:lnTo>
                      <a:pt x="39" y="14"/>
                    </a:lnTo>
                    <a:lnTo>
                      <a:pt x="37" y="10"/>
                    </a:lnTo>
                    <a:lnTo>
                      <a:pt x="35" y="7"/>
                    </a:lnTo>
                    <a:lnTo>
                      <a:pt x="34" y="7"/>
                    </a:lnTo>
                    <a:lnTo>
                      <a:pt x="33" y="7"/>
                    </a:lnTo>
                    <a:lnTo>
                      <a:pt x="32" y="7"/>
                    </a:lnTo>
                    <a:lnTo>
                      <a:pt x="31" y="6"/>
                    </a:lnTo>
                    <a:lnTo>
                      <a:pt x="31" y="5"/>
                    </a:lnTo>
                    <a:lnTo>
                      <a:pt x="31" y="4"/>
                    </a:lnTo>
                    <a:lnTo>
                      <a:pt x="33" y="3"/>
                    </a:lnTo>
                    <a:lnTo>
                      <a:pt x="37" y="2"/>
                    </a:lnTo>
                    <a:lnTo>
                      <a:pt x="40" y="0"/>
                    </a:lnTo>
                    <a:lnTo>
                      <a:pt x="42" y="0"/>
                    </a:lnTo>
                    <a:lnTo>
                      <a:pt x="43" y="0"/>
                    </a:lnTo>
                    <a:lnTo>
                      <a:pt x="44" y="1"/>
                    </a:lnTo>
                    <a:lnTo>
                      <a:pt x="44" y="2"/>
                    </a:lnTo>
                    <a:lnTo>
                      <a:pt x="43" y="3"/>
                    </a:lnTo>
                    <a:lnTo>
                      <a:pt x="42" y="4"/>
                    </a:lnTo>
                    <a:lnTo>
                      <a:pt x="42" y="4"/>
                    </a:lnTo>
                    <a:lnTo>
                      <a:pt x="42" y="5"/>
                    </a:lnTo>
                    <a:lnTo>
                      <a:pt x="43" y="9"/>
                    </a:lnTo>
                    <a:lnTo>
                      <a:pt x="44" y="13"/>
                    </a:lnTo>
                    <a:lnTo>
                      <a:pt x="48" y="19"/>
                    </a:lnTo>
                    <a:lnTo>
                      <a:pt x="48" y="21"/>
                    </a:lnTo>
                    <a:lnTo>
                      <a:pt x="49" y="23"/>
                    </a:lnTo>
                    <a:lnTo>
                      <a:pt x="50" y="26"/>
                    </a:lnTo>
                    <a:lnTo>
                      <a:pt x="51" y="28"/>
                    </a:lnTo>
                    <a:lnTo>
                      <a:pt x="53" y="32"/>
                    </a:lnTo>
                    <a:lnTo>
                      <a:pt x="55" y="36"/>
                    </a:lnTo>
                    <a:lnTo>
                      <a:pt x="55" y="39"/>
                    </a:lnTo>
                    <a:lnTo>
                      <a:pt x="55" y="42"/>
                    </a:lnTo>
                    <a:lnTo>
                      <a:pt x="53" y="46"/>
                    </a:lnTo>
                    <a:lnTo>
                      <a:pt x="51" y="48"/>
                    </a:lnTo>
                    <a:lnTo>
                      <a:pt x="48" y="52"/>
                    </a:lnTo>
                    <a:lnTo>
                      <a:pt x="43" y="54"/>
                    </a:lnTo>
                    <a:lnTo>
                      <a:pt x="39" y="55"/>
                    </a:lnTo>
                    <a:lnTo>
                      <a:pt x="35" y="56"/>
                    </a:lnTo>
                    <a:lnTo>
                      <a:pt x="31" y="57"/>
                    </a:lnTo>
                    <a:lnTo>
                      <a:pt x="27" y="56"/>
                    </a:lnTo>
                    <a:lnTo>
                      <a:pt x="25" y="55"/>
                    </a:lnTo>
                    <a:lnTo>
                      <a:pt x="22" y="53"/>
                    </a:lnTo>
                    <a:lnTo>
                      <a:pt x="20" y="51"/>
                    </a:lnTo>
                    <a:lnTo>
                      <a:pt x="17" y="46"/>
                    </a:lnTo>
                    <a:lnTo>
                      <a:pt x="17" y="45"/>
                    </a:lnTo>
                    <a:lnTo>
                      <a:pt x="16" y="43"/>
                    </a:lnTo>
                    <a:lnTo>
                      <a:pt x="15" y="40"/>
                    </a:lnTo>
                    <a:lnTo>
                      <a:pt x="15" y="39"/>
                    </a:lnTo>
                    <a:close/>
                  </a:path>
                </a:pathLst>
              </a:custGeom>
              <a:solidFill>
                <a:srgbClr val="29166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36" name=""/>
              <p:cNvSpPr/>
              <p:nvPr/>
            </p:nvSpPr>
            <p:spPr>
              <a:xfrm>
                <a:off x="1058040" y="659880"/>
                <a:ext cx="73440" cy="22680"/>
              </a:xfrm>
              <a:custGeom>
                <a:avLst/>
                <a:gdLst/>
                <a:ahLst/>
                <a:rect l="l" t="t" r="r" b="b"/>
                <a:pathLst>
                  <a:path w="116" h="36">
                    <a:moveTo>
                      <a:pt x="2" y="34"/>
                    </a:moveTo>
                    <a:lnTo>
                      <a:pt x="1" y="34"/>
                    </a:lnTo>
                    <a:lnTo>
                      <a:pt x="0" y="34"/>
                    </a:lnTo>
                    <a:lnTo>
                      <a:pt x="0" y="34"/>
                    </a:lnTo>
                    <a:lnTo>
                      <a:pt x="0" y="32"/>
                    </a:lnTo>
                    <a:lnTo>
                      <a:pt x="0" y="31"/>
                    </a:lnTo>
                    <a:lnTo>
                      <a:pt x="3" y="28"/>
                    </a:lnTo>
                    <a:lnTo>
                      <a:pt x="5" y="27"/>
                    </a:lnTo>
                    <a:lnTo>
                      <a:pt x="7" y="24"/>
                    </a:lnTo>
                    <a:lnTo>
                      <a:pt x="13" y="19"/>
                    </a:lnTo>
                    <a:lnTo>
                      <a:pt x="15" y="15"/>
                    </a:lnTo>
                    <a:lnTo>
                      <a:pt x="17" y="12"/>
                    </a:lnTo>
                    <a:lnTo>
                      <a:pt x="17" y="10"/>
                    </a:lnTo>
                    <a:lnTo>
                      <a:pt x="17" y="7"/>
                    </a:lnTo>
                    <a:lnTo>
                      <a:pt x="16" y="5"/>
                    </a:lnTo>
                    <a:lnTo>
                      <a:pt x="14" y="4"/>
                    </a:lnTo>
                    <a:lnTo>
                      <a:pt x="11" y="4"/>
                    </a:lnTo>
                    <a:lnTo>
                      <a:pt x="10" y="4"/>
                    </a:lnTo>
                    <a:lnTo>
                      <a:pt x="9" y="5"/>
                    </a:lnTo>
                    <a:lnTo>
                      <a:pt x="7" y="5"/>
                    </a:lnTo>
                    <a:lnTo>
                      <a:pt x="6" y="6"/>
                    </a:lnTo>
                    <a:lnTo>
                      <a:pt x="6" y="7"/>
                    </a:lnTo>
                    <a:lnTo>
                      <a:pt x="5" y="7"/>
                    </a:lnTo>
                    <a:lnTo>
                      <a:pt x="3" y="10"/>
                    </a:lnTo>
                    <a:lnTo>
                      <a:pt x="2" y="10"/>
                    </a:lnTo>
                    <a:lnTo>
                      <a:pt x="1" y="10"/>
                    </a:lnTo>
                    <a:lnTo>
                      <a:pt x="1" y="10"/>
                    </a:lnTo>
                    <a:lnTo>
                      <a:pt x="1" y="9"/>
                    </a:lnTo>
                    <a:lnTo>
                      <a:pt x="1" y="9"/>
                    </a:lnTo>
                    <a:lnTo>
                      <a:pt x="1" y="7"/>
                    </a:lnTo>
                    <a:lnTo>
                      <a:pt x="1" y="6"/>
                    </a:lnTo>
                    <a:lnTo>
                      <a:pt x="2" y="5"/>
                    </a:lnTo>
                    <a:lnTo>
                      <a:pt x="2" y="4"/>
                    </a:lnTo>
                    <a:lnTo>
                      <a:pt x="5" y="3"/>
                    </a:lnTo>
                    <a:lnTo>
                      <a:pt x="8" y="1"/>
                    </a:lnTo>
                    <a:lnTo>
                      <a:pt x="10" y="0"/>
                    </a:lnTo>
                    <a:lnTo>
                      <a:pt x="14" y="0"/>
                    </a:lnTo>
                    <a:lnTo>
                      <a:pt x="18" y="1"/>
                    </a:lnTo>
                    <a:lnTo>
                      <a:pt x="22" y="2"/>
                    </a:lnTo>
                    <a:lnTo>
                      <a:pt x="24" y="5"/>
                    </a:lnTo>
                    <a:lnTo>
                      <a:pt x="25" y="9"/>
                    </a:lnTo>
                    <a:lnTo>
                      <a:pt x="24" y="11"/>
                    </a:lnTo>
                    <a:lnTo>
                      <a:pt x="24" y="13"/>
                    </a:lnTo>
                    <a:lnTo>
                      <a:pt x="22" y="17"/>
                    </a:lnTo>
                    <a:lnTo>
                      <a:pt x="19" y="19"/>
                    </a:lnTo>
                    <a:lnTo>
                      <a:pt x="17" y="20"/>
                    </a:lnTo>
                    <a:lnTo>
                      <a:pt x="15" y="23"/>
                    </a:lnTo>
                    <a:lnTo>
                      <a:pt x="11" y="26"/>
                    </a:lnTo>
                    <a:lnTo>
                      <a:pt x="9" y="28"/>
                    </a:lnTo>
                    <a:lnTo>
                      <a:pt x="9" y="28"/>
                    </a:lnTo>
                    <a:lnTo>
                      <a:pt x="9" y="28"/>
                    </a:lnTo>
                    <a:lnTo>
                      <a:pt x="9" y="28"/>
                    </a:lnTo>
                    <a:lnTo>
                      <a:pt x="9" y="28"/>
                    </a:lnTo>
                    <a:lnTo>
                      <a:pt x="9" y="28"/>
                    </a:lnTo>
                    <a:lnTo>
                      <a:pt x="9" y="28"/>
                    </a:lnTo>
                    <a:lnTo>
                      <a:pt x="10" y="28"/>
                    </a:lnTo>
                    <a:lnTo>
                      <a:pt x="10" y="28"/>
                    </a:lnTo>
                    <a:lnTo>
                      <a:pt x="18" y="28"/>
                    </a:lnTo>
                    <a:lnTo>
                      <a:pt x="19" y="28"/>
                    </a:lnTo>
                    <a:lnTo>
                      <a:pt x="20" y="28"/>
                    </a:lnTo>
                    <a:lnTo>
                      <a:pt x="22" y="28"/>
                    </a:lnTo>
                    <a:lnTo>
                      <a:pt x="22" y="28"/>
                    </a:lnTo>
                    <a:lnTo>
                      <a:pt x="23" y="27"/>
                    </a:lnTo>
                    <a:lnTo>
                      <a:pt x="23" y="26"/>
                    </a:lnTo>
                    <a:lnTo>
                      <a:pt x="24" y="24"/>
                    </a:lnTo>
                    <a:lnTo>
                      <a:pt x="25" y="24"/>
                    </a:lnTo>
                    <a:lnTo>
                      <a:pt x="26" y="24"/>
                    </a:lnTo>
                    <a:lnTo>
                      <a:pt x="26" y="24"/>
                    </a:lnTo>
                    <a:lnTo>
                      <a:pt x="26" y="24"/>
                    </a:lnTo>
                    <a:lnTo>
                      <a:pt x="26" y="26"/>
                    </a:lnTo>
                    <a:lnTo>
                      <a:pt x="26" y="27"/>
                    </a:lnTo>
                    <a:lnTo>
                      <a:pt x="26" y="28"/>
                    </a:lnTo>
                    <a:lnTo>
                      <a:pt x="26" y="30"/>
                    </a:lnTo>
                    <a:lnTo>
                      <a:pt x="25" y="31"/>
                    </a:lnTo>
                    <a:lnTo>
                      <a:pt x="24" y="34"/>
                    </a:lnTo>
                    <a:lnTo>
                      <a:pt x="24" y="35"/>
                    </a:lnTo>
                    <a:lnTo>
                      <a:pt x="23" y="35"/>
                    </a:lnTo>
                    <a:lnTo>
                      <a:pt x="22" y="36"/>
                    </a:lnTo>
                    <a:lnTo>
                      <a:pt x="22" y="35"/>
                    </a:lnTo>
                    <a:lnTo>
                      <a:pt x="22" y="35"/>
                    </a:lnTo>
                    <a:lnTo>
                      <a:pt x="20" y="35"/>
                    </a:lnTo>
                    <a:lnTo>
                      <a:pt x="20" y="34"/>
                    </a:lnTo>
                    <a:lnTo>
                      <a:pt x="2" y="34"/>
                    </a:lnTo>
                    <a:close/>
                    <a:moveTo>
                      <a:pt x="50" y="22"/>
                    </a:moveTo>
                    <a:lnTo>
                      <a:pt x="50" y="14"/>
                    </a:lnTo>
                    <a:lnTo>
                      <a:pt x="48" y="9"/>
                    </a:lnTo>
                    <a:lnTo>
                      <a:pt x="46" y="6"/>
                    </a:lnTo>
                    <a:lnTo>
                      <a:pt x="45" y="4"/>
                    </a:lnTo>
                    <a:lnTo>
                      <a:pt x="44" y="4"/>
                    </a:lnTo>
                    <a:lnTo>
                      <a:pt x="42" y="3"/>
                    </a:lnTo>
                    <a:lnTo>
                      <a:pt x="40" y="4"/>
                    </a:lnTo>
                    <a:lnTo>
                      <a:pt x="39" y="5"/>
                    </a:lnTo>
                    <a:lnTo>
                      <a:pt x="37" y="9"/>
                    </a:lnTo>
                    <a:lnTo>
                      <a:pt x="37" y="13"/>
                    </a:lnTo>
                    <a:lnTo>
                      <a:pt x="37" y="20"/>
                    </a:lnTo>
                    <a:lnTo>
                      <a:pt x="40" y="26"/>
                    </a:lnTo>
                    <a:lnTo>
                      <a:pt x="42" y="29"/>
                    </a:lnTo>
                    <a:lnTo>
                      <a:pt x="44" y="31"/>
                    </a:lnTo>
                    <a:lnTo>
                      <a:pt x="46" y="30"/>
                    </a:lnTo>
                    <a:lnTo>
                      <a:pt x="49" y="29"/>
                    </a:lnTo>
                    <a:lnTo>
                      <a:pt x="50" y="26"/>
                    </a:lnTo>
                    <a:lnTo>
                      <a:pt x="50" y="22"/>
                    </a:lnTo>
                    <a:close/>
                    <a:moveTo>
                      <a:pt x="31" y="17"/>
                    </a:moveTo>
                    <a:lnTo>
                      <a:pt x="31" y="10"/>
                    </a:lnTo>
                    <a:lnTo>
                      <a:pt x="34" y="4"/>
                    </a:lnTo>
                    <a:lnTo>
                      <a:pt x="36" y="2"/>
                    </a:lnTo>
                    <a:lnTo>
                      <a:pt x="37" y="1"/>
                    </a:lnTo>
                    <a:lnTo>
                      <a:pt x="41" y="0"/>
                    </a:lnTo>
                    <a:lnTo>
                      <a:pt x="43" y="0"/>
                    </a:lnTo>
                    <a:lnTo>
                      <a:pt x="46" y="0"/>
                    </a:lnTo>
                    <a:lnTo>
                      <a:pt x="49" y="1"/>
                    </a:lnTo>
                    <a:lnTo>
                      <a:pt x="51" y="3"/>
                    </a:lnTo>
                    <a:lnTo>
                      <a:pt x="53" y="4"/>
                    </a:lnTo>
                    <a:lnTo>
                      <a:pt x="56" y="10"/>
                    </a:lnTo>
                    <a:lnTo>
                      <a:pt x="57" y="18"/>
                    </a:lnTo>
                    <a:lnTo>
                      <a:pt x="56" y="24"/>
                    </a:lnTo>
                    <a:lnTo>
                      <a:pt x="53" y="30"/>
                    </a:lnTo>
                    <a:lnTo>
                      <a:pt x="51" y="31"/>
                    </a:lnTo>
                    <a:lnTo>
                      <a:pt x="49" y="34"/>
                    </a:lnTo>
                    <a:lnTo>
                      <a:pt x="46" y="35"/>
                    </a:lnTo>
                    <a:lnTo>
                      <a:pt x="44" y="35"/>
                    </a:lnTo>
                    <a:lnTo>
                      <a:pt x="41" y="35"/>
                    </a:lnTo>
                    <a:lnTo>
                      <a:pt x="39" y="34"/>
                    </a:lnTo>
                    <a:lnTo>
                      <a:pt x="36" y="31"/>
                    </a:lnTo>
                    <a:lnTo>
                      <a:pt x="34" y="29"/>
                    </a:lnTo>
                    <a:lnTo>
                      <a:pt x="31" y="23"/>
                    </a:lnTo>
                    <a:lnTo>
                      <a:pt x="31" y="17"/>
                    </a:lnTo>
                    <a:close/>
                    <a:moveTo>
                      <a:pt x="79" y="22"/>
                    </a:moveTo>
                    <a:lnTo>
                      <a:pt x="79" y="14"/>
                    </a:lnTo>
                    <a:lnTo>
                      <a:pt x="77" y="9"/>
                    </a:lnTo>
                    <a:lnTo>
                      <a:pt x="76" y="6"/>
                    </a:lnTo>
                    <a:lnTo>
                      <a:pt x="75" y="4"/>
                    </a:lnTo>
                    <a:lnTo>
                      <a:pt x="74" y="4"/>
                    </a:lnTo>
                    <a:lnTo>
                      <a:pt x="71" y="3"/>
                    </a:lnTo>
                    <a:lnTo>
                      <a:pt x="69" y="4"/>
                    </a:lnTo>
                    <a:lnTo>
                      <a:pt x="68" y="5"/>
                    </a:lnTo>
                    <a:lnTo>
                      <a:pt x="67" y="9"/>
                    </a:lnTo>
                    <a:lnTo>
                      <a:pt x="67" y="13"/>
                    </a:lnTo>
                    <a:lnTo>
                      <a:pt x="67" y="20"/>
                    </a:lnTo>
                    <a:lnTo>
                      <a:pt x="69" y="26"/>
                    </a:lnTo>
                    <a:lnTo>
                      <a:pt x="71" y="29"/>
                    </a:lnTo>
                    <a:lnTo>
                      <a:pt x="75" y="31"/>
                    </a:lnTo>
                    <a:lnTo>
                      <a:pt x="77" y="30"/>
                    </a:lnTo>
                    <a:lnTo>
                      <a:pt x="78" y="29"/>
                    </a:lnTo>
                    <a:lnTo>
                      <a:pt x="79" y="26"/>
                    </a:lnTo>
                    <a:lnTo>
                      <a:pt x="79" y="22"/>
                    </a:lnTo>
                    <a:close/>
                    <a:moveTo>
                      <a:pt x="60" y="17"/>
                    </a:moveTo>
                    <a:lnTo>
                      <a:pt x="61" y="10"/>
                    </a:lnTo>
                    <a:lnTo>
                      <a:pt x="63" y="4"/>
                    </a:lnTo>
                    <a:lnTo>
                      <a:pt x="66" y="2"/>
                    </a:lnTo>
                    <a:lnTo>
                      <a:pt x="68" y="1"/>
                    </a:lnTo>
                    <a:lnTo>
                      <a:pt x="70" y="0"/>
                    </a:lnTo>
                    <a:lnTo>
                      <a:pt x="73" y="0"/>
                    </a:lnTo>
                    <a:lnTo>
                      <a:pt x="76" y="0"/>
                    </a:lnTo>
                    <a:lnTo>
                      <a:pt x="78" y="1"/>
                    </a:lnTo>
                    <a:lnTo>
                      <a:pt x="80" y="3"/>
                    </a:lnTo>
                    <a:lnTo>
                      <a:pt x="83" y="4"/>
                    </a:lnTo>
                    <a:lnTo>
                      <a:pt x="85" y="10"/>
                    </a:lnTo>
                    <a:lnTo>
                      <a:pt x="86" y="18"/>
                    </a:lnTo>
                    <a:lnTo>
                      <a:pt x="86" y="24"/>
                    </a:lnTo>
                    <a:lnTo>
                      <a:pt x="83" y="30"/>
                    </a:lnTo>
                    <a:lnTo>
                      <a:pt x="80" y="31"/>
                    </a:lnTo>
                    <a:lnTo>
                      <a:pt x="79" y="34"/>
                    </a:lnTo>
                    <a:lnTo>
                      <a:pt x="76" y="35"/>
                    </a:lnTo>
                    <a:lnTo>
                      <a:pt x="74" y="35"/>
                    </a:lnTo>
                    <a:lnTo>
                      <a:pt x="70" y="35"/>
                    </a:lnTo>
                    <a:lnTo>
                      <a:pt x="68" y="34"/>
                    </a:lnTo>
                    <a:lnTo>
                      <a:pt x="66" y="31"/>
                    </a:lnTo>
                    <a:lnTo>
                      <a:pt x="63" y="29"/>
                    </a:lnTo>
                    <a:lnTo>
                      <a:pt x="61" y="23"/>
                    </a:lnTo>
                    <a:lnTo>
                      <a:pt x="60" y="17"/>
                    </a:lnTo>
                    <a:close/>
                    <a:moveTo>
                      <a:pt x="92" y="34"/>
                    </a:moveTo>
                    <a:lnTo>
                      <a:pt x="89" y="34"/>
                    </a:lnTo>
                    <a:lnTo>
                      <a:pt x="89" y="34"/>
                    </a:lnTo>
                    <a:lnTo>
                      <a:pt x="89" y="34"/>
                    </a:lnTo>
                    <a:lnTo>
                      <a:pt x="88" y="32"/>
                    </a:lnTo>
                    <a:lnTo>
                      <a:pt x="89" y="31"/>
                    </a:lnTo>
                    <a:lnTo>
                      <a:pt x="93" y="28"/>
                    </a:lnTo>
                    <a:lnTo>
                      <a:pt x="93" y="27"/>
                    </a:lnTo>
                    <a:lnTo>
                      <a:pt x="94" y="27"/>
                    </a:lnTo>
                    <a:lnTo>
                      <a:pt x="95" y="28"/>
                    </a:lnTo>
                    <a:lnTo>
                      <a:pt x="95" y="30"/>
                    </a:lnTo>
                    <a:lnTo>
                      <a:pt x="94" y="29"/>
                    </a:lnTo>
                    <a:lnTo>
                      <a:pt x="94" y="28"/>
                    </a:lnTo>
                    <a:lnTo>
                      <a:pt x="94" y="27"/>
                    </a:lnTo>
                    <a:lnTo>
                      <a:pt x="95" y="26"/>
                    </a:lnTo>
                    <a:lnTo>
                      <a:pt x="95" y="21"/>
                    </a:lnTo>
                    <a:lnTo>
                      <a:pt x="97" y="18"/>
                    </a:lnTo>
                    <a:lnTo>
                      <a:pt x="99" y="15"/>
                    </a:lnTo>
                    <a:lnTo>
                      <a:pt x="101" y="13"/>
                    </a:lnTo>
                    <a:lnTo>
                      <a:pt x="104" y="11"/>
                    </a:lnTo>
                    <a:lnTo>
                      <a:pt x="106" y="10"/>
                    </a:lnTo>
                    <a:lnTo>
                      <a:pt x="106" y="7"/>
                    </a:lnTo>
                    <a:lnTo>
                      <a:pt x="105" y="5"/>
                    </a:lnTo>
                    <a:lnTo>
                      <a:pt x="103" y="4"/>
                    </a:lnTo>
                    <a:lnTo>
                      <a:pt x="101" y="4"/>
                    </a:lnTo>
                    <a:lnTo>
                      <a:pt x="100" y="4"/>
                    </a:lnTo>
                    <a:lnTo>
                      <a:pt x="99" y="5"/>
                    </a:lnTo>
                    <a:lnTo>
                      <a:pt x="96" y="5"/>
                    </a:lnTo>
                    <a:lnTo>
                      <a:pt x="95" y="6"/>
                    </a:lnTo>
                    <a:lnTo>
                      <a:pt x="95" y="7"/>
                    </a:lnTo>
                    <a:lnTo>
                      <a:pt x="94" y="7"/>
                    </a:lnTo>
                    <a:lnTo>
                      <a:pt x="93" y="10"/>
                    </a:lnTo>
                    <a:lnTo>
                      <a:pt x="92" y="10"/>
                    </a:lnTo>
                    <a:lnTo>
                      <a:pt x="91" y="10"/>
                    </a:lnTo>
                    <a:lnTo>
                      <a:pt x="91" y="10"/>
                    </a:lnTo>
                    <a:lnTo>
                      <a:pt x="91" y="9"/>
                    </a:lnTo>
                    <a:lnTo>
                      <a:pt x="89" y="9"/>
                    </a:lnTo>
                    <a:lnTo>
                      <a:pt x="91" y="7"/>
                    </a:lnTo>
                    <a:lnTo>
                      <a:pt x="91" y="6"/>
                    </a:lnTo>
                    <a:lnTo>
                      <a:pt x="91" y="5"/>
                    </a:lnTo>
                    <a:lnTo>
                      <a:pt x="92" y="4"/>
                    </a:lnTo>
                    <a:lnTo>
                      <a:pt x="94" y="3"/>
                    </a:lnTo>
                    <a:lnTo>
                      <a:pt x="96" y="1"/>
                    </a:lnTo>
                    <a:lnTo>
                      <a:pt x="100" y="0"/>
                    </a:lnTo>
                    <a:lnTo>
                      <a:pt x="103" y="0"/>
                    </a:lnTo>
                    <a:lnTo>
                      <a:pt x="108" y="1"/>
                    </a:lnTo>
                    <a:lnTo>
                      <a:pt x="111" y="2"/>
                    </a:lnTo>
                    <a:lnTo>
                      <a:pt x="113" y="5"/>
                    </a:lnTo>
                    <a:lnTo>
                      <a:pt x="113" y="9"/>
                    </a:lnTo>
                    <a:lnTo>
                      <a:pt x="113" y="11"/>
                    </a:lnTo>
                    <a:lnTo>
                      <a:pt x="112" y="13"/>
                    </a:lnTo>
                    <a:lnTo>
                      <a:pt x="111" y="17"/>
                    </a:lnTo>
                    <a:lnTo>
                      <a:pt x="109" y="19"/>
                    </a:lnTo>
                    <a:lnTo>
                      <a:pt x="106" y="20"/>
                    </a:lnTo>
                    <a:lnTo>
                      <a:pt x="104" y="23"/>
                    </a:lnTo>
                    <a:lnTo>
                      <a:pt x="101" y="26"/>
                    </a:lnTo>
                    <a:lnTo>
                      <a:pt x="99" y="28"/>
                    </a:lnTo>
                    <a:lnTo>
                      <a:pt x="99" y="28"/>
                    </a:lnTo>
                    <a:lnTo>
                      <a:pt x="99" y="28"/>
                    </a:lnTo>
                    <a:lnTo>
                      <a:pt x="99" y="28"/>
                    </a:lnTo>
                    <a:lnTo>
                      <a:pt x="99" y="28"/>
                    </a:lnTo>
                    <a:lnTo>
                      <a:pt x="99" y="28"/>
                    </a:lnTo>
                    <a:lnTo>
                      <a:pt x="99" y="28"/>
                    </a:lnTo>
                    <a:lnTo>
                      <a:pt x="99" y="28"/>
                    </a:lnTo>
                    <a:lnTo>
                      <a:pt x="100" y="28"/>
                    </a:lnTo>
                    <a:lnTo>
                      <a:pt x="108" y="28"/>
                    </a:lnTo>
                    <a:lnTo>
                      <a:pt x="109" y="28"/>
                    </a:lnTo>
                    <a:lnTo>
                      <a:pt x="110" y="28"/>
                    </a:lnTo>
                    <a:lnTo>
                      <a:pt x="111" y="28"/>
                    </a:lnTo>
                    <a:lnTo>
                      <a:pt x="111" y="28"/>
                    </a:lnTo>
                    <a:lnTo>
                      <a:pt x="112" y="27"/>
                    </a:lnTo>
                    <a:lnTo>
                      <a:pt x="112" y="26"/>
                    </a:lnTo>
                    <a:lnTo>
                      <a:pt x="113" y="24"/>
                    </a:lnTo>
                    <a:lnTo>
                      <a:pt x="114" y="24"/>
                    </a:lnTo>
                    <a:lnTo>
                      <a:pt x="114" y="24"/>
                    </a:lnTo>
                    <a:lnTo>
                      <a:pt x="116" y="24"/>
                    </a:lnTo>
                    <a:lnTo>
                      <a:pt x="116" y="24"/>
                    </a:lnTo>
                    <a:lnTo>
                      <a:pt x="116" y="26"/>
                    </a:lnTo>
                    <a:lnTo>
                      <a:pt x="116" y="27"/>
                    </a:lnTo>
                    <a:lnTo>
                      <a:pt x="116" y="28"/>
                    </a:lnTo>
                    <a:lnTo>
                      <a:pt x="116" y="30"/>
                    </a:lnTo>
                    <a:lnTo>
                      <a:pt x="114" y="31"/>
                    </a:lnTo>
                    <a:lnTo>
                      <a:pt x="113" y="34"/>
                    </a:lnTo>
                    <a:lnTo>
                      <a:pt x="113" y="35"/>
                    </a:lnTo>
                    <a:lnTo>
                      <a:pt x="112" y="35"/>
                    </a:lnTo>
                    <a:lnTo>
                      <a:pt x="111" y="36"/>
                    </a:lnTo>
                    <a:lnTo>
                      <a:pt x="111" y="35"/>
                    </a:lnTo>
                    <a:lnTo>
                      <a:pt x="110" y="35"/>
                    </a:lnTo>
                    <a:lnTo>
                      <a:pt x="110" y="35"/>
                    </a:lnTo>
                    <a:lnTo>
                      <a:pt x="110" y="34"/>
                    </a:lnTo>
                    <a:lnTo>
                      <a:pt x="92" y="34"/>
                    </a:lnTo>
                    <a:close/>
                  </a:path>
                </a:pathLst>
              </a:custGeom>
              <a:solidFill>
                <a:srgbClr val="29166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60280"/>
            <a:ext cx="9036000" cy="2665440"/>
          </a:xfrm>
          <a:prstGeom prst="rect">
            <a:avLst/>
          </a:prstGeom>
          <a:noFill/>
          <a:ln w="0">
            <a:noFill/>
          </a:ln>
        </p:spPr>
        <p:txBody>
          <a:bodyPr anchor="ctr">
            <a:noAutofit/>
          </a:bodyPr>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 </a:t>
            </a:r>
            <a:r>
              <a:rPr b="1" lang="en-US" sz="6600" spc="-1" strike="noStrike">
                <a:solidFill>
                  <a:srgbClr val="ff3300"/>
                </a:solidFill>
                <a:latin typeface="Arial"/>
              </a:rPr>
              <a:t>Beyin Hücresi</a:t>
            </a:r>
            <a:br>
              <a:rPr sz="6600"/>
            </a:br>
            <a:r>
              <a:rPr b="1" lang="en-US" sz="6600" spc="-1" strike="noStrike">
                <a:solidFill>
                  <a:srgbClr val="ff3300"/>
                </a:solidFill>
                <a:latin typeface="Arial"/>
              </a:rPr>
              <a:t> ve </a:t>
            </a:r>
            <a:br>
              <a:rPr sz="6600"/>
            </a:br>
            <a:r>
              <a:rPr b="1" lang="en-US" sz="6600" spc="-1" strike="noStrike">
                <a:solidFill>
                  <a:srgbClr val="ff3300"/>
                </a:solidFill>
                <a:latin typeface="Arial"/>
              </a:rPr>
              <a:t>Öğrenme</a:t>
            </a:r>
            <a:r>
              <a:rPr b="1" lang="en-US" sz="4800" spc="-1" strike="noStrike">
                <a:solidFill>
                  <a:srgbClr val="ff3300"/>
                </a:solidFill>
                <a:latin typeface="Arial"/>
              </a:rPr>
              <a:t> </a:t>
            </a:r>
            <a:endParaRPr b="0" lang="en-US" sz="4800" spc="-1" strike="noStrike">
              <a:solidFill>
                <a:srgbClr val="b7e7ff"/>
              </a:solidFill>
              <a:latin typeface="Arial"/>
            </a:endParaRPr>
          </a:p>
        </p:txBody>
      </p:sp>
      <p:sp>
        <p:nvSpPr>
          <p:cNvPr id="98" name=""/>
          <p:cNvSpPr/>
          <p:nvPr/>
        </p:nvSpPr>
        <p:spPr>
          <a:xfrm>
            <a:off x="108000" y="3273480"/>
            <a:ext cx="8964720" cy="33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 </a:t>
            </a:r>
            <a:r>
              <a:rPr b="1" lang="en-US" sz="6000" spc="-1" strike="noStrike">
                <a:solidFill>
                  <a:srgbClr val="ffff00"/>
                </a:solidFill>
                <a:latin typeface="Arial"/>
              </a:rPr>
              <a:t>Beyin: SINIRSIZ ÖĞRENME KAPATİSESİ OLAN ÖĞRENME MERKEZİ </a:t>
            </a:r>
            <a:endParaRPr b="0" lang="en-US" sz="6000" spc="-1" strike="noStrike">
              <a:solidFill>
                <a:srgbClr val="ffffff"/>
              </a:solidFill>
              <a:latin typeface="Times New Roman"/>
            </a:endParaRPr>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base">
                                        <p:cTn id="114" dur="500" fill="hold"/>
                                        <p:tgtEl>
                                          <p:spTgt spid="97"/>
                                        </p:tgtEl>
                                        <p:attrNameLst>
                                          <p:attrName>ppt_x</p:attrName>
                                        </p:attrNameLst>
                                      </p:cBhvr>
                                      <p:tavLst>
                                        <p:tav tm="0">
                                          <p:val>
                                            <p:strVal val="0-#ppt_w/2"/>
                                          </p:val>
                                        </p:tav>
                                        <p:tav tm="100000">
                                          <p:val>
                                            <p:strVal val="#ppt_x"/>
                                          </p:val>
                                        </p:tav>
                                      </p:tavLst>
                                    </p:anim>
                                    <p:anim calcmode="lin" valueType="num">
                                      <p:cBhvr additive="base">
                                        <p:cTn id="11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98"/>
                                        </p:tgtEl>
                                        <p:attrNameLst>
                                          <p:attrName>style.visibility</p:attrName>
                                        </p:attrNameLst>
                                      </p:cBhvr>
                                      <p:to>
                                        <p:strVal val="visible"/>
                                      </p:to>
                                    </p:set>
                                    <p:anim calcmode="lin" valueType="num">
                                      <p:cBhvr additive="base">
                                        <p:cTn id="120" dur="500" fill="hold"/>
                                        <p:tgtEl>
                                          <p:spTgt spid="98"/>
                                        </p:tgtEl>
                                        <p:attrNameLst>
                                          <p:attrName>ppt_x</p:attrName>
                                        </p:attrNameLst>
                                      </p:cBhvr>
                                      <p:tavLst>
                                        <p:tav tm="0">
                                          <p:val>
                                            <p:strVal val="0-#ppt_w/2"/>
                                          </p:val>
                                        </p:tav>
                                        <p:tav tm="100000">
                                          <p:val>
                                            <p:strVal val="#ppt_x"/>
                                          </p:val>
                                        </p:tav>
                                      </p:tavLst>
                                    </p:anim>
                                    <p:anim calcmode="lin" valueType="num">
                                      <p:cBhvr additive="base">
                                        <p:cTn id="121"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
          <p:cNvSpPr/>
          <p:nvPr/>
        </p:nvSpPr>
        <p:spPr>
          <a:xfrm>
            <a:off x="8477280" y="6858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 name=""/>
          <p:cNvSpPr/>
          <p:nvPr/>
        </p:nvSpPr>
        <p:spPr>
          <a:xfrm>
            <a:off x="8477280" y="6858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9" name=""/>
          <p:cNvSpPr/>
          <p:nvPr/>
        </p:nvSpPr>
        <p:spPr>
          <a:xfrm>
            <a:off x="554040" y="11923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 name=""/>
          <p:cNvSpPr/>
          <p:nvPr/>
        </p:nvSpPr>
        <p:spPr>
          <a:xfrm>
            <a:off x="565200" y="1192320"/>
            <a:ext cx="2219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1" name=""/>
          <p:cNvSpPr/>
          <p:nvPr/>
        </p:nvSpPr>
        <p:spPr>
          <a:xfrm>
            <a:off x="2784600" y="11923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 name=""/>
          <p:cNvSpPr/>
          <p:nvPr/>
        </p:nvSpPr>
        <p:spPr>
          <a:xfrm>
            <a:off x="2797200" y="1192320"/>
            <a:ext cx="172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4521240" y="11923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 name=""/>
          <p:cNvSpPr/>
          <p:nvPr/>
        </p:nvSpPr>
        <p:spPr>
          <a:xfrm>
            <a:off x="4533840" y="1192320"/>
            <a:ext cx="1663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5" name=""/>
          <p:cNvSpPr/>
          <p:nvPr/>
        </p:nvSpPr>
        <p:spPr>
          <a:xfrm>
            <a:off x="6197760" y="11923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6" name=""/>
          <p:cNvSpPr/>
          <p:nvPr/>
        </p:nvSpPr>
        <p:spPr>
          <a:xfrm>
            <a:off x="6210360" y="1192320"/>
            <a:ext cx="2266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7" name=""/>
          <p:cNvSpPr/>
          <p:nvPr/>
        </p:nvSpPr>
        <p:spPr>
          <a:xfrm>
            <a:off x="8477280" y="11923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748" name=""/>
          <p:cNvGrpSpPr/>
          <p:nvPr/>
        </p:nvGrpSpPr>
        <p:grpSpPr>
          <a:xfrm>
            <a:off x="487440" y="768240"/>
            <a:ext cx="8014680" cy="5321160"/>
            <a:chOff x="487440" y="768240"/>
            <a:chExt cx="8014680" cy="5321160"/>
          </a:xfrm>
        </p:grpSpPr>
        <p:grpSp>
          <p:nvGrpSpPr>
            <p:cNvPr id="749" name=""/>
            <p:cNvGrpSpPr/>
            <p:nvPr/>
          </p:nvGrpSpPr>
          <p:grpSpPr>
            <a:xfrm>
              <a:off x="487440" y="768240"/>
              <a:ext cx="1715400" cy="858600"/>
              <a:chOff x="487440" y="768240"/>
              <a:chExt cx="1715400" cy="858600"/>
            </a:xfrm>
          </p:grpSpPr>
          <p:sp>
            <p:nvSpPr>
              <p:cNvPr id="750" name=""/>
              <p:cNvSpPr/>
              <p:nvPr/>
            </p:nvSpPr>
            <p:spPr>
              <a:xfrm>
                <a:off x="487440" y="768240"/>
                <a:ext cx="171540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1" name=""/>
              <p:cNvGrpSpPr/>
              <p:nvPr/>
            </p:nvGrpSpPr>
            <p:grpSpPr>
              <a:xfrm>
                <a:off x="487440" y="768240"/>
                <a:ext cx="1715040" cy="858240"/>
                <a:chOff x="487440" y="768240"/>
                <a:chExt cx="1715040" cy="858240"/>
              </a:xfrm>
            </p:grpSpPr>
            <p:sp>
              <p:nvSpPr>
                <p:cNvPr id="752" name=""/>
                <p:cNvSpPr/>
                <p:nvPr/>
              </p:nvSpPr>
              <p:spPr>
                <a:xfrm>
                  <a:off x="535680" y="768240"/>
                  <a:ext cx="161856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SLEK</a:t>
                  </a:r>
                  <a:endParaRPr b="0" lang="en-US" sz="1800" spc="-1" strike="noStrike">
                    <a:solidFill>
                      <a:srgbClr val="ffffff"/>
                    </a:solidFill>
                    <a:latin typeface="Times New Roman"/>
                  </a:endParaRPr>
                </a:p>
              </p:txBody>
            </p:sp>
            <p:sp>
              <p:nvSpPr>
                <p:cNvPr id="753" name=""/>
                <p:cNvSpPr/>
                <p:nvPr/>
              </p:nvSpPr>
              <p:spPr>
                <a:xfrm>
                  <a:off x="487440" y="768240"/>
                  <a:ext cx="171504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4" name=""/>
            <p:cNvGrpSpPr/>
            <p:nvPr/>
          </p:nvGrpSpPr>
          <p:grpSpPr>
            <a:xfrm>
              <a:off x="2203200" y="768240"/>
              <a:ext cx="1788840" cy="858600"/>
              <a:chOff x="2203200" y="768240"/>
              <a:chExt cx="1788840" cy="858600"/>
            </a:xfrm>
          </p:grpSpPr>
          <p:sp>
            <p:nvSpPr>
              <p:cNvPr id="755" name=""/>
              <p:cNvSpPr/>
              <p:nvPr/>
            </p:nvSpPr>
            <p:spPr>
              <a:xfrm>
                <a:off x="2203200" y="768240"/>
                <a:ext cx="178884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6" name=""/>
              <p:cNvGrpSpPr/>
              <p:nvPr/>
            </p:nvGrpSpPr>
            <p:grpSpPr>
              <a:xfrm>
                <a:off x="2203200" y="768240"/>
                <a:ext cx="1788840" cy="858240"/>
                <a:chOff x="2203200" y="768240"/>
                <a:chExt cx="1788840" cy="858240"/>
              </a:xfrm>
            </p:grpSpPr>
            <p:sp>
              <p:nvSpPr>
                <p:cNvPr id="757" name=""/>
                <p:cNvSpPr/>
                <p:nvPr/>
              </p:nvSpPr>
              <p:spPr>
                <a:xfrm>
                  <a:off x="2247120" y="768240"/>
                  <a:ext cx="170100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İİL</a:t>
                  </a:r>
                  <a:endParaRPr b="0" lang="en-US" sz="1800" spc="-1" strike="noStrike">
                    <a:solidFill>
                      <a:srgbClr val="ffffff"/>
                    </a:solidFill>
                    <a:latin typeface="Times New Roman"/>
                  </a:endParaRPr>
                </a:p>
              </p:txBody>
            </p:sp>
            <p:sp>
              <p:nvSpPr>
                <p:cNvPr id="758" name=""/>
                <p:cNvSpPr/>
                <p:nvPr/>
              </p:nvSpPr>
              <p:spPr>
                <a:xfrm>
                  <a:off x="2203200" y="768240"/>
                  <a:ext cx="178884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9" name=""/>
            <p:cNvGrpSpPr/>
            <p:nvPr/>
          </p:nvGrpSpPr>
          <p:grpSpPr>
            <a:xfrm>
              <a:off x="3916080" y="768240"/>
              <a:ext cx="2209320" cy="858600"/>
              <a:chOff x="3916080" y="768240"/>
              <a:chExt cx="2209320" cy="858600"/>
            </a:xfrm>
          </p:grpSpPr>
          <p:sp>
            <p:nvSpPr>
              <p:cNvPr id="760" name=""/>
              <p:cNvSpPr/>
              <p:nvPr/>
            </p:nvSpPr>
            <p:spPr>
              <a:xfrm>
                <a:off x="3916080" y="768240"/>
                <a:ext cx="220932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1" name=""/>
              <p:cNvGrpSpPr/>
              <p:nvPr/>
            </p:nvGrpSpPr>
            <p:grpSpPr>
              <a:xfrm>
                <a:off x="3916080" y="768240"/>
                <a:ext cx="2208960" cy="858240"/>
                <a:chOff x="3916080" y="768240"/>
                <a:chExt cx="2208960" cy="858240"/>
              </a:xfrm>
            </p:grpSpPr>
            <p:sp>
              <p:nvSpPr>
                <p:cNvPr id="762" name=""/>
                <p:cNvSpPr/>
                <p:nvPr/>
              </p:nvSpPr>
              <p:spPr>
                <a:xfrm>
                  <a:off x="3994200" y="768240"/>
                  <a:ext cx="205272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a:t>
                  </a:r>
                  <a:endParaRPr b="0" lang="en-US" sz="1800" spc="-1" strike="noStrike">
                    <a:solidFill>
                      <a:srgbClr val="ffffff"/>
                    </a:solidFill>
                    <a:latin typeface="Times New Roman"/>
                  </a:endParaRPr>
                </a:p>
              </p:txBody>
            </p:sp>
            <p:sp>
              <p:nvSpPr>
                <p:cNvPr id="763" name=""/>
                <p:cNvSpPr/>
                <p:nvPr/>
              </p:nvSpPr>
              <p:spPr>
                <a:xfrm>
                  <a:off x="3916080" y="768240"/>
                  <a:ext cx="220896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64" name=""/>
            <p:cNvGrpSpPr/>
            <p:nvPr/>
          </p:nvGrpSpPr>
          <p:grpSpPr>
            <a:xfrm>
              <a:off x="5997240" y="768240"/>
              <a:ext cx="2504880" cy="858600"/>
              <a:chOff x="5997240" y="768240"/>
              <a:chExt cx="2504880" cy="858600"/>
            </a:xfrm>
          </p:grpSpPr>
          <p:sp>
            <p:nvSpPr>
              <p:cNvPr id="765" name=""/>
              <p:cNvSpPr/>
              <p:nvPr/>
            </p:nvSpPr>
            <p:spPr>
              <a:xfrm>
                <a:off x="5997240" y="768240"/>
                <a:ext cx="2504880" cy="858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 name=""/>
              <p:cNvGrpSpPr/>
              <p:nvPr/>
            </p:nvGrpSpPr>
            <p:grpSpPr>
              <a:xfrm>
                <a:off x="5997240" y="768240"/>
                <a:ext cx="2504880" cy="858240"/>
                <a:chOff x="5997240" y="768240"/>
                <a:chExt cx="2504880" cy="858240"/>
              </a:xfrm>
            </p:grpSpPr>
            <p:sp>
              <p:nvSpPr>
                <p:cNvPr id="767" name=""/>
                <p:cNvSpPr/>
                <p:nvPr/>
              </p:nvSpPr>
              <p:spPr>
                <a:xfrm>
                  <a:off x="6038640" y="768240"/>
                  <a:ext cx="2421360" cy="858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 DIŞI</a:t>
                  </a:r>
                  <a:endParaRPr b="0" lang="en-US" sz="1800" spc="-1" strike="noStrike">
                    <a:solidFill>
                      <a:srgbClr val="ffffff"/>
                    </a:solidFill>
                    <a:latin typeface="Times New Roman"/>
                  </a:endParaRPr>
                </a:p>
              </p:txBody>
            </p:sp>
            <p:sp>
              <p:nvSpPr>
                <p:cNvPr id="768" name=""/>
                <p:cNvSpPr/>
                <p:nvPr/>
              </p:nvSpPr>
              <p:spPr>
                <a:xfrm>
                  <a:off x="5997240" y="768240"/>
                  <a:ext cx="2504880" cy="858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69" name=""/>
            <p:cNvGrpSpPr/>
            <p:nvPr/>
          </p:nvGrpSpPr>
          <p:grpSpPr>
            <a:xfrm>
              <a:off x="487440" y="1627200"/>
              <a:ext cx="1715400" cy="4462200"/>
              <a:chOff x="487440" y="1627200"/>
              <a:chExt cx="1715400" cy="4462200"/>
            </a:xfrm>
          </p:grpSpPr>
          <p:sp>
            <p:nvSpPr>
              <p:cNvPr id="770" name=""/>
              <p:cNvSpPr/>
              <p:nvPr/>
            </p:nvSpPr>
            <p:spPr>
              <a:xfrm>
                <a:off x="535680" y="1627200"/>
                <a:ext cx="161892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İş adam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Dini lid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Öğretme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Organizatö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Politika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satıcı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danışma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Antropolog</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Sosyolog</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Dokto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Parti Lider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Talk Showcu</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Pazarlama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Hemşire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Sosyal Çalışmacı</a:t>
                </a:r>
                <a:endParaRPr b="0" lang="en-US" sz="1800" spc="-1" strike="noStrike">
                  <a:solidFill>
                    <a:srgbClr val="ffffff"/>
                  </a:solidFill>
                  <a:latin typeface="Times New Roman"/>
                </a:endParaRPr>
              </a:p>
            </p:txBody>
          </p:sp>
          <p:sp>
            <p:nvSpPr>
              <p:cNvPr id="771" name=""/>
              <p:cNvSpPr/>
              <p:nvPr/>
            </p:nvSpPr>
            <p:spPr>
              <a:xfrm>
                <a:off x="487440" y="1627200"/>
                <a:ext cx="171540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2" name=""/>
            <p:cNvGrpSpPr/>
            <p:nvPr/>
          </p:nvGrpSpPr>
          <p:grpSpPr>
            <a:xfrm>
              <a:off x="2203200" y="1627200"/>
              <a:ext cx="1712520" cy="4462200"/>
              <a:chOff x="2203200" y="1627200"/>
              <a:chExt cx="1712520" cy="4462200"/>
            </a:xfrm>
          </p:grpSpPr>
          <p:sp>
            <p:nvSpPr>
              <p:cNvPr id="773" name=""/>
              <p:cNvSpPr/>
              <p:nvPr/>
            </p:nvSpPr>
            <p:spPr>
              <a:xfrm>
                <a:off x="2245320" y="1627200"/>
                <a:ext cx="162828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Göz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ayla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eğişt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artı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atı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Görü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ş birliği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rdım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Öğr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akım K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önlend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rabulucu o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m</a:t>
                </a:r>
                <a:r>
                  <a:rPr b="1" lang="en-US" sz="1800" spc="-1" strike="noStrike">
                    <a:solidFill>
                      <a:srgbClr val="000000"/>
                    </a:solidFill>
                    <a:latin typeface="Comic Sans MS"/>
                  </a:rPr>
                  <a:t>p</a:t>
                </a:r>
                <a:r>
                  <a:rPr b="1" lang="en-US" sz="1800" spc="-1" strike="noStrike">
                    <a:solidFill>
                      <a:srgbClr val="000000"/>
                    </a:solidFill>
                    <a:latin typeface="Comic Sans MS"/>
                    <a:ea typeface="Times New Roman"/>
                  </a:rPr>
                  <a:t>ati k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Çatışma çö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kna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4" name=""/>
              <p:cNvSpPr/>
              <p:nvPr/>
            </p:nvSpPr>
            <p:spPr>
              <a:xfrm>
                <a:off x="2203200" y="1627200"/>
                <a:ext cx="171252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5" name=""/>
            <p:cNvGrpSpPr/>
            <p:nvPr/>
          </p:nvGrpSpPr>
          <p:grpSpPr>
            <a:xfrm>
              <a:off x="3933720" y="1627200"/>
              <a:ext cx="2133000" cy="4462200"/>
              <a:chOff x="3933720" y="1627200"/>
              <a:chExt cx="2133000" cy="4462200"/>
            </a:xfrm>
          </p:grpSpPr>
          <p:sp>
            <p:nvSpPr>
              <p:cNvPr id="776" name=""/>
              <p:cNvSpPr/>
              <p:nvPr/>
            </p:nvSpPr>
            <p:spPr>
              <a:xfrm>
                <a:off x="4009320" y="1627200"/>
                <a:ext cx="198216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941c"/>
                    </a:solidFill>
                    <a:latin typeface="Comic Sans MS"/>
                    <a:ea typeface="Times New Roman"/>
                  </a:rPr>
                  <a:t>Hayat bilg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941c"/>
                    </a:solidFill>
                    <a:latin typeface="Comic Sans MS"/>
                    <a:ea typeface="Times New Roman"/>
                  </a:rPr>
                  <a:t>Sosyal bilgi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941c"/>
                    </a:solidFill>
                    <a:latin typeface="Comic Sans MS"/>
                    <a:ea typeface="Times New Roman"/>
                  </a:rPr>
                  <a:t>Halk oyun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941c"/>
                    </a:solidFill>
                    <a:latin typeface="Comic Sans MS"/>
                    <a:ea typeface="Times New Roman"/>
                  </a:rPr>
                  <a:t>Beden eğitim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7" name=""/>
              <p:cNvSpPr/>
              <p:nvPr/>
            </p:nvSpPr>
            <p:spPr>
              <a:xfrm>
                <a:off x="3933720" y="1627200"/>
                <a:ext cx="213300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8" name=""/>
            <p:cNvGrpSpPr/>
            <p:nvPr/>
          </p:nvGrpSpPr>
          <p:grpSpPr>
            <a:xfrm>
              <a:off x="6010200" y="1627200"/>
              <a:ext cx="2477520" cy="4462200"/>
              <a:chOff x="6010200" y="1627200"/>
              <a:chExt cx="2477520" cy="4462200"/>
            </a:xfrm>
          </p:grpSpPr>
          <p:sp>
            <p:nvSpPr>
              <p:cNvPr id="779" name=""/>
              <p:cNvSpPr/>
              <p:nvPr/>
            </p:nvSpPr>
            <p:spPr>
              <a:xfrm>
                <a:off x="6051240" y="1627200"/>
                <a:ext cx="2395080" cy="44622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Öğrenci konseyi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Kol çalışma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Takım oyunları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İzci kamp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Grup projeler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kukla göster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Tartışma grubu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Times New Roman"/>
                  </a:rPr>
                  <a:t>Mektup arkadaş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Gezi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yarışmaya katıl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Tiyatr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Ders Çalıştı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Beyin Fırtınası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kulüp ku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
              <p:cNvSpPr/>
              <p:nvPr/>
            </p:nvSpPr>
            <p:spPr>
              <a:xfrm>
                <a:off x="6010200" y="1627200"/>
                <a:ext cx="2477520" cy="44622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ransition>
    <p:dissolv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3" presetSubtype="528">
                                  <p:stCondLst>
                                    <p:cond delay="0"/>
                                  </p:stCondLst>
                                  <p:childTnLst>
                                    <p:set>
                                      <p:cBhvr>
                                        <p:cTn id="822" dur="1" fill="hold">
                                          <p:stCondLst>
                                            <p:cond delay="0"/>
                                          </p:stCondLst>
                                        </p:cTn>
                                        <p:tgtEl>
                                          <p:spTgt spid="748"/>
                                        </p:tgtEl>
                                        <p:attrNameLst>
                                          <p:attrName>style.visibility</p:attrName>
                                        </p:attrNameLst>
                                      </p:cBhvr>
                                      <p:to>
                                        <p:strVal val="visible"/>
                                      </p:to>
                                    </p:set>
                                    <p:anim calcmode="lin" valueType="num">
                                      <p:cBhvr additive="repl">
                                        <p:cTn id="823" dur="500" fill="hold"/>
                                        <p:tgtEl>
                                          <p:spTgt spid="748"/>
                                        </p:tgtEl>
                                        <p:attrNameLst>
                                          <p:attrName>ppt_w</p:attrName>
                                        </p:attrNameLst>
                                      </p:cBhvr>
                                      <p:tavLst>
                                        <p:tav tm="0">
                                          <p:val>
                                            <p:fltVal val="0"/>
                                          </p:val>
                                        </p:tav>
                                        <p:tav tm="100000">
                                          <p:val>
                                            <p:strVal val="#ppt_w"/>
                                          </p:val>
                                        </p:tav>
                                      </p:tavLst>
                                    </p:anim>
                                    <p:anim calcmode="lin" valueType="num">
                                      <p:cBhvr additive="repl">
                                        <p:cTn id="824" dur="500" fill="hold"/>
                                        <p:tgtEl>
                                          <p:spTgt spid="748"/>
                                        </p:tgtEl>
                                        <p:attrNameLst>
                                          <p:attrName>ppt_h</p:attrName>
                                        </p:attrNameLst>
                                      </p:cBhvr>
                                      <p:tavLst>
                                        <p:tav tm="0">
                                          <p:val>
                                            <p:fltVal val="0"/>
                                          </p:val>
                                        </p:tav>
                                        <p:tav tm="100000">
                                          <p:val>
                                            <p:strVal val="#ppt_h"/>
                                          </p:val>
                                        </p:tav>
                                      </p:tavLst>
                                    </p:anim>
                                    <p:anim calcmode="lin" valueType="num">
                                      <p:cBhvr additive="repl">
                                        <p:cTn id="825" dur="500" fill="hold"/>
                                        <p:tgtEl>
                                          <p:spTgt spid="748"/>
                                        </p:tgtEl>
                                        <p:attrNameLst>
                                          <p:attrName>ppt_x</p:attrName>
                                        </p:attrNameLst>
                                      </p:cBhvr>
                                      <p:tavLst>
                                        <p:tav tm="0">
                                          <p:val>
                                            <p:fltVal val="0.5"/>
                                          </p:val>
                                        </p:tav>
                                        <p:tav tm="100000">
                                          <p:val>
                                            <p:strVal val="#ppt_x"/>
                                          </p:val>
                                        </p:tav>
                                      </p:tavLst>
                                    </p:anim>
                                    <p:anim calcmode="lin" valueType="num">
                                      <p:cBhvr additive="repl">
                                        <p:cTn id="826" dur="500" fill="hold"/>
                                        <p:tgtEl>
                                          <p:spTgt spid="7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1" name=""/>
          <p:cNvGrpSpPr/>
          <p:nvPr/>
        </p:nvGrpSpPr>
        <p:grpSpPr>
          <a:xfrm>
            <a:off x="324000" y="333360"/>
            <a:ext cx="8053200" cy="6165720"/>
            <a:chOff x="324000" y="333360"/>
            <a:chExt cx="8053200" cy="6165720"/>
          </a:xfrm>
        </p:grpSpPr>
        <p:grpSp>
          <p:nvGrpSpPr>
            <p:cNvPr id="782" name=""/>
            <p:cNvGrpSpPr/>
            <p:nvPr/>
          </p:nvGrpSpPr>
          <p:grpSpPr>
            <a:xfrm>
              <a:off x="1208160" y="1247760"/>
              <a:ext cx="7169040" cy="5251320"/>
              <a:chOff x="1208160" y="1247760"/>
              <a:chExt cx="7169040" cy="5251320"/>
            </a:xfrm>
          </p:grpSpPr>
          <p:sp>
            <p:nvSpPr>
              <p:cNvPr id="783" name=""/>
              <p:cNvSpPr/>
              <p:nvPr/>
            </p:nvSpPr>
            <p:spPr>
              <a:xfrm>
                <a:off x="1208160" y="5605200"/>
                <a:ext cx="71690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HATALARINDAN VE BAŞARILARINDAN ÖĞRENEBİLİR</a:t>
                </a:r>
                <a:r>
                  <a:rPr b="1" lang="en-US" sz="1800" spc="-1" strike="noStrike">
                    <a:solidFill>
                      <a:srgbClr val="4d4d4d"/>
                    </a:solidFill>
                    <a:latin typeface="Times New Roman"/>
                  </a:rPr>
                  <a:t> </a:t>
                </a:r>
                <a:endParaRPr b="0" lang="en-US" sz="1800" spc="-1" strike="noStrike">
                  <a:solidFill>
                    <a:srgbClr val="ffffff"/>
                  </a:solidFill>
                  <a:latin typeface="Times New Roman"/>
                </a:endParaRPr>
              </a:p>
            </p:txBody>
          </p:sp>
          <p:sp>
            <p:nvSpPr>
              <p:cNvPr id="784" name=""/>
              <p:cNvSpPr/>
              <p:nvPr/>
            </p:nvSpPr>
            <p:spPr>
              <a:xfrm>
                <a:off x="1208160" y="1247760"/>
                <a:ext cx="71690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Times New Roman"/>
                  </a:rPr>
                  <a:t>BAĞIMSIZLIK DUYGUSU GÜÇLÜDÜR</a:t>
                </a:r>
                <a:endParaRPr b="0" lang="en-US" sz="1800" spc="-1" strike="noStrike">
                  <a:solidFill>
                    <a:srgbClr val="ffffff"/>
                  </a:solidFill>
                  <a:latin typeface="Times New Roman"/>
                </a:endParaRPr>
              </a:p>
            </p:txBody>
          </p:sp>
          <p:sp>
            <p:nvSpPr>
              <p:cNvPr id="785" name=""/>
              <p:cNvSpPr/>
              <p:nvPr/>
            </p:nvSpPr>
            <p:spPr>
              <a:xfrm>
                <a:off x="1208160" y="1887480"/>
                <a:ext cx="716904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GÜÇLÜ VE ZAYIF YÖNLERİ TANIR</a:t>
                </a:r>
                <a:endParaRPr b="0" lang="en-US" sz="1800" spc="-1" strike="noStrike">
                  <a:solidFill>
                    <a:srgbClr val="ffffff"/>
                  </a:solidFill>
                  <a:latin typeface="Times New Roman"/>
                </a:endParaRPr>
              </a:p>
            </p:txBody>
          </p:sp>
          <p:sp>
            <p:nvSpPr>
              <p:cNvPr id="786" name=""/>
              <p:cNvSpPr/>
              <p:nvPr/>
            </p:nvSpPr>
            <p:spPr>
              <a:xfrm>
                <a:off x="1214640" y="2503440"/>
                <a:ext cx="7162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GERÇEKÇİ AMAÇLAR OLUŞTURUR</a:t>
                </a:r>
                <a:endParaRPr b="0" lang="en-US" sz="1800" spc="-1" strike="noStrike">
                  <a:solidFill>
                    <a:srgbClr val="ffffff"/>
                  </a:solidFill>
                  <a:latin typeface="Times New Roman"/>
                </a:endParaRPr>
              </a:p>
            </p:txBody>
          </p:sp>
          <p:sp>
            <p:nvSpPr>
              <p:cNvPr id="787" name=""/>
              <p:cNvSpPr/>
              <p:nvPr/>
            </p:nvSpPr>
            <p:spPr>
              <a:xfrm>
                <a:off x="1214640" y="3095640"/>
                <a:ext cx="716256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BAŞKALARINA ANLATMADIĞI HOBİSİ VARDIR.</a:t>
                </a:r>
                <a:r>
                  <a:rPr b="0" lang="en-US" sz="1800" spc="-1" strike="noStrike">
                    <a:solidFill>
                      <a:srgbClr val="4d4d4d"/>
                    </a:solidFill>
                    <a:latin typeface="Times New Roman"/>
                  </a:rPr>
                  <a:t> </a:t>
                </a:r>
                <a:endParaRPr b="0" lang="en-US" sz="1800" spc="-1" strike="noStrike">
                  <a:solidFill>
                    <a:srgbClr val="ffffff"/>
                  </a:solidFill>
                  <a:latin typeface="Times New Roman"/>
                </a:endParaRPr>
              </a:p>
            </p:txBody>
          </p:sp>
          <p:sp>
            <p:nvSpPr>
              <p:cNvPr id="788" name=""/>
              <p:cNvSpPr/>
              <p:nvPr/>
            </p:nvSpPr>
            <p:spPr>
              <a:xfrm>
                <a:off x="1208160" y="3686040"/>
                <a:ext cx="716904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KENDİNİ İYİ MOTİVE EDER</a:t>
                </a:r>
                <a:endParaRPr b="0" lang="en-US" sz="1800" spc="-1" strike="noStrike">
                  <a:solidFill>
                    <a:srgbClr val="ffffff"/>
                  </a:solidFill>
                  <a:latin typeface="Times New Roman"/>
                </a:endParaRPr>
              </a:p>
            </p:txBody>
          </p:sp>
          <p:sp>
            <p:nvSpPr>
              <p:cNvPr id="789" name=""/>
              <p:cNvSpPr/>
              <p:nvPr/>
            </p:nvSpPr>
            <p:spPr>
              <a:xfrm>
                <a:off x="1214640" y="4268520"/>
                <a:ext cx="71625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KENDİ BAŞINA TERCİH EDER.</a:t>
                </a:r>
                <a:endParaRPr b="0" lang="en-US" sz="1800" spc="-1" strike="noStrike">
                  <a:solidFill>
                    <a:srgbClr val="ffffff"/>
                  </a:solidFill>
                  <a:latin typeface="Times New Roman"/>
                </a:endParaRPr>
              </a:p>
            </p:txBody>
          </p:sp>
          <p:sp>
            <p:nvSpPr>
              <p:cNvPr id="790" name=""/>
              <p:cNvSpPr/>
              <p:nvPr/>
            </p:nvSpPr>
            <p:spPr>
              <a:xfrm>
                <a:off x="1208160" y="4919400"/>
                <a:ext cx="71690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NE  HİSSETTİĞİNİ DOĞRU BİR ŞEKİLDE SÖYLER.</a:t>
                </a:r>
                <a:endParaRPr b="0" lang="en-US" sz="1800" spc="-1" strike="noStrike">
                  <a:solidFill>
                    <a:srgbClr val="ffffff"/>
                  </a:solidFill>
                  <a:latin typeface="Times New Roman"/>
                </a:endParaRPr>
              </a:p>
            </p:txBody>
          </p:sp>
          <p:sp>
            <p:nvSpPr>
              <p:cNvPr id="791" name=""/>
              <p:cNvSpPr/>
              <p:nvPr/>
            </p:nvSpPr>
            <p:spPr>
              <a:xfrm>
                <a:off x="1214640" y="6130800"/>
                <a:ext cx="71625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omic Sans MS"/>
                    <a:ea typeface="Times New Roman"/>
                  </a:rPr>
                  <a:t>ÖZ SAYGISI YÜKSEKTİR.</a:t>
                </a:r>
                <a:r>
                  <a:rPr b="1" lang="en-US" sz="1800" spc="-1" strike="noStrike">
                    <a:solidFill>
                      <a:srgbClr val="4d4d4d"/>
                    </a:solidFill>
                    <a:latin typeface="Times New Roman"/>
                  </a:rPr>
                  <a:t> </a:t>
                </a:r>
                <a:endParaRPr b="0" lang="en-US" sz="1800" spc="-1" strike="noStrike">
                  <a:solidFill>
                    <a:srgbClr val="ffffff"/>
                  </a:solidFill>
                  <a:latin typeface="Times New Roman"/>
                </a:endParaRPr>
              </a:p>
            </p:txBody>
          </p:sp>
        </p:grpSp>
        <p:sp>
          <p:nvSpPr>
            <p:cNvPr id="792" name=""/>
            <p:cNvSpPr txBox="1"/>
            <p:nvPr/>
          </p:nvSpPr>
          <p:spPr>
            <a:xfrm>
              <a:off x="2586240" y="333360"/>
              <a:ext cx="38862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ffff00"/>
                  </a:solidFill>
                  <a:effectLst>
                    <a:outerShdw dist="125751" dir="18900000" blurRad="0" rotWithShape="0">
                      <a:srgbClr val="000099"/>
                    </a:outerShdw>
                  </a:effectLst>
                  <a:latin typeface="Arial Black"/>
                </a:rPr>
                <a:t>İÇSEL ZEKA</a:t>
              </a:r>
              <a:endParaRPr b="0" lang="en-US" sz="2400" spc="1" strike="noStrike">
                <a:ln w="12600">
                  <a:solidFill>
                    <a:srgbClr val="ffff00"/>
                  </a:solidFill>
                  <a:miter/>
                </a:ln>
                <a:solidFill>
                  <a:srgbClr val="ffff00"/>
                </a:solidFill>
                <a:effectLst>
                  <a:outerShdw dist="125751" dir="18900000" blurRad="0" rotWithShape="0">
                    <a:srgbClr val="000099"/>
                  </a:outerShdw>
                </a:effectLst>
                <a:latin typeface="Arial Black"/>
                <a:ea typeface="Arial Black"/>
              </a:endParaRPr>
            </a:p>
          </p:txBody>
        </p:sp>
        <p:grpSp>
          <p:nvGrpSpPr>
            <p:cNvPr id="793" name=""/>
            <p:cNvGrpSpPr/>
            <p:nvPr/>
          </p:nvGrpSpPr>
          <p:grpSpPr>
            <a:xfrm>
              <a:off x="324000" y="371520"/>
              <a:ext cx="1135080" cy="536040"/>
              <a:chOff x="324000" y="371520"/>
              <a:chExt cx="1135080" cy="536040"/>
            </a:xfrm>
          </p:grpSpPr>
          <p:sp>
            <p:nvSpPr>
              <p:cNvPr id="794" name=""/>
              <p:cNvSpPr/>
              <p:nvPr/>
            </p:nvSpPr>
            <p:spPr>
              <a:xfrm>
                <a:off x="324000" y="381960"/>
                <a:ext cx="1135080" cy="525600"/>
              </a:xfrm>
              <a:custGeom>
                <a:avLst/>
                <a:gdLst/>
                <a:ahLst/>
                <a:rect l="l" t="t" r="r" b="b"/>
                <a:pathLst>
                  <a:path w="1788" h="829">
                    <a:moveTo>
                      <a:pt x="894" y="829"/>
                    </a:moveTo>
                    <a:lnTo>
                      <a:pt x="940" y="828"/>
                    </a:lnTo>
                    <a:lnTo>
                      <a:pt x="986" y="827"/>
                    </a:lnTo>
                    <a:lnTo>
                      <a:pt x="1030" y="824"/>
                    </a:lnTo>
                    <a:lnTo>
                      <a:pt x="1074" y="820"/>
                    </a:lnTo>
                    <a:lnTo>
                      <a:pt x="1117" y="816"/>
                    </a:lnTo>
                    <a:lnTo>
                      <a:pt x="1160" y="810"/>
                    </a:lnTo>
                    <a:lnTo>
                      <a:pt x="1201" y="803"/>
                    </a:lnTo>
                    <a:lnTo>
                      <a:pt x="1242" y="797"/>
                    </a:lnTo>
                    <a:lnTo>
                      <a:pt x="1281" y="788"/>
                    </a:lnTo>
                    <a:lnTo>
                      <a:pt x="1320" y="778"/>
                    </a:lnTo>
                    <a:lnTo>
                      <a:pt x="1357" y="768"/>
                    </a:lnTo>
                    <a:lnTo>
                      <a:pt x="1393" y="758"/>
                    </a:lnTo>
                    <a:lnTo>
                      <a:pt x="1428" y="747"/>
                    </a:lnTo>
                    <a:lnTo>
                      <a:pt x="1462" y="734"/>
                    </a:lnTo>
                    <a:lnTo>
                      <a:pt x="1495" y="721"/>
                    </a:lnTo>
                    <a:lnTo>
                      <a:pt x="1527" y="707"/>
                    </a:lnTo>
                    <a:lnTo>
                      <a:pt x="1556" y="693"/>
                    </a:lnTo>
                    <a:lnTo>
                      <a:pt x="1585" y="678"/>
                    </a:lnTo>
                    <a:lnTo>
                      <a:pt x="1611" y="662"/>
                    </a:lnTo>
                    <a:lnTo>
                      <a:pt x="1636" y="646"/>
                    </a:lnTo>
                    <a:lnTo>
                      <a:pt x="1659" y="629"/>
                    </a:lnTo>
                    <a:lnTo>
                      <a:pt x="1681" y="612"/>
                    </a:lnTo>
                    <a:lnTo>
                      <a:pt x="1700" y="594"/>
                    </a:lnTo>
                    <a:lnTo>
                      <a:pt x="1718" y="575"/>
                    </a:lnTo>
                    <a:lnTo>
                      <a:pt x="1734" y="556"/>
                    </a:lnTo>
                    <a:lnTo>
                      <a:pt x="1749" y="537"/>
                    </a:lnTo>
                    <a:lnTo>
                      <a:pt x="1761" y="518"/>
                    </a:lnTo>
                    <a:lnTo>
                      <a:pt x="1770" y="498"/>
                    </a:lnTo>
                    <a:lnTo>
                      <a:pt x="1778" y="478"/>
                    </a:lnTo>
                    <a:lnTo>
                      <a:pt x="1784" y="456"/>
                    </a:lnTo>
                    <a:lnTo>
                      <a:pt x="1787" y="436"/>
                    </a:lnTo>
                    <a:lnTo>
                      <a:pt x="1788" y="415"/>
                    </a:lnTo>
                    <a:lnTo>
                      <a:pt x="1787" y="393"/>
                    </a:lnTo>
                    <a:lnTo>
                      <a:pt x="1784" y="373"/>
                    </a:lnTo>
                    <a:lnTo>
                      <a:pt x="1778" y="351"/>
                    </a:lnTo>
                    <a:lnTo>
                      <a:pt x="1770" y="331"/>
                    </a:lnTo>
                    <a:lnTo>
                      <a:pt x="1761" y="311"/>
                    </a:lnTo>
                    <a:lnTo>
                      <a:pt x="1749" y="292"/>
                    </a:lnTo>
                    <a:lnTo>
                      <a:pt x="1734" y="273"/>
                    </a:lnTo>
                    <a:lnTo>
                      <a:pt x="1718" y="254"/>
                    </a:lnTo>
                    <a:lnTo>
                      <a:pt x="1700" y="235"/>
                    </a:lnTo>
                    <a:lnTo>
                      <a:pt x="1681" y="217"/>
                    </a:lnTo>
                    <a:lnTo>
                      <a:pt x="1659" y="200"/>
                    </a:lnTo>
                    <a:lnTo>
                      <a:pt x="1636" y="183"/>
                    </a:lnTo>
                    <a:lnTo>
                      <a:pt x="1611" y="167"/>
                    </a:lnTo>
                    <a:lnTo>
                      <a:pt x="1585" y="151"/>
                    </a:lnTo>
                    <a:lnTo>
                      <a:pt x="1556" y="136"/>
                    </a:lnTo>
                    <a:lnTo>
                      <a:pt x="1527" y="122"/>
                    </a:lnTo>
                    <a:lnTo>
                      <a:pt x="1495" y="108"/>
                    </a:lnTo>
                    <a:lnTo>
                      <a:pt x="1462" y="95"/>
                    </a:lnTo>
                    <a:lnTo>
                      <a:pt x="1428" y="82"/>
                    </a:lnTo>
                    <a:lnTo>
                      <a:pt x="1393" y="71"/>
                    </a:lnTo>
                    <a:lnTo>
                      <a:pt x="1357" y="61"/>
                    </a:lnTo>
                    <a:lnTo>
                      <a:pt x="1320" y="51"/>
                    </a:lnTo>
                    <a:lnTo>
                      <a:pt x="1281" y="41"/>
                    </a:lnTo>
                    <a:lnTo>
                      <a:pt x="1242" y="32"/>
                    </a:lnTo>
                    <a:lnTo>
                      <a:pt x="1201" y="26"/>
                    </a:lnTo>
                    <a:lnTo>
                      <a:pt x="1160" y="19"/>
                    </a:lnTo>
                    <a:lnTo>
                      <a:pt x="1117" y="13"/>
                    </a:lnTo>
                    <a:lnTo>
                      <a:pt x="1074" y="9"/>
                    </a:lnTo>
                    <a:lnTo>
                      <a:pt x="1030" y="5"/>
                    </a:lnTo>
                    <a:lnTo>
                      <a:pt x="986" y="2"/>
                    </a:lnTo>
                    <a:lnTo>
                      <a:pt x="940" y="1"/>
                    </a:lnTo>
                    <a:lnTo>
                      <a:pt x="894" y="0"/>
                    </a:lnTo>
                    <a:lnTo>
                      <a:pt x="848" y="1"/>
                    </a:lnTo>
                    <a:lnTo>
                      <a:pt x="802" y="2"/>
                    </a:lnTo>
                    <a:lnTo>
                      <a:pt x="758" y="5"/>
                    </a:lnTo>
                    <a:lnTo>
                      <a:pt x="714" y="9"/>
                    </a:lnTo>
                    <a:lnTo>
                      <a:pt x="671" y="13"/>
                    </a:lnTo>
                    <a:lnTo>
                      <a:pt x="628" y="19"/>
                    </a:lnTo>
                    <a:lnTo>
                      <a:pt x="587" y="26"/>
                    </a:lnTo>
                    <a:lnTo>
                      <a:pt x="546" y="32"/>
                    </a:lnTo>
                    <a:lnTo>
                      <a:pt x="507" y="41"/>
                    </a:lnTo>
                    <a:lnTo>
                      <a:pt x="468" y="51"/>
                    </a:lnTo>
                    <a:lnTo>
                      <a:pt x="431" y="61"/>
                    </a:lnTo>
                    <a:lnTo>
                      <a:pt x="395" y="71"/>
                    </a:lnTo>
                    <a:lnTo>
                      <a:pt x="360" y="82"/>
                    </a:lnTo>
                    <a:lnTo>
                      <a:pt x="326" y="95"/>
                    </a:lnTo>
                    <a:lnTo>
                      <a:pt x="293" y="108"/>
                    </a:lnTo>
                    <a:lnTo>
                      <a:pt x="261" y="122"/>
                    </a:lnTo>
                    <a:lnTo>
                      <a:pt x="232" y="136"/>
                    </a:lnTo>
                    <a:lnTo>
                      <a:pt x="203" y="151"/>
                    </a:lnTo>
                    <a:lnTo>
                      <a:pt x="177" y="167"/>
                    </a:lnTo>
                    <a:lnTo>
                      <a:pt x="152" y="183"/>
                    </a:lnTo>
                    <a:lnTo>
                      <a:pt x="129" y="200"/>
                    </a:lnTo>
                    <a:lnTo>
                      <a:pt x="107" y="217"/>
                    </a:lnTo>
                    <a:lnTo>
                      <a:pt x="88" y="235"/>
                    </a:lnTo>
                    <a:lnTo>
                      <a:pt x="70" y="254"/>
                    </a:lnTo>
                    <a:lnTo>
                      <a:pt x="54" y="273"/>
                    </a:lnTo>
                    <a:lnTo>
                      <a:pt x="39" y="292"/>
                    </a:lnTo>
                    <a:lnTo>
                      <a:pt x="27" y="311"/>
                    </a:lnTo>
                    <a:lnTo>
                      <a:pt x="18" y="331"/>
                    </a:lnTo>
                    <a:lnTo>
                      <a:pt x="10" y="351"/>
                    </a:lnTo>
                    <a:lnTo>
                      <a:pt x="4" y="373"/>
                    </a:lnTo>
                    <a:lnTo>
                      <a:pt x="1" y="393"/>
                    </a:lnTo>
                    <a:lnTo>
                      <a:pt x="0" y="415"/>
                    </a:lnTo>
                    <a:lnTo>
                      <a:pt x="1" y="436"/>
                    </a:lnTo>
                    <a:lnTo>
                      <a:pt x="4" y="456"/>
                    </a:lnTo>
                    <a:lnTo>
                      <a:pt x="10" y="478"/>
                    </a:lnTo>
                    <a:lnTo>
                      <a:pt x="18" y="498"/>
                    </a:lnTo>
                    <a:lnTo>
                      <a:pt x="27" y="518"/>
                    </a:lnTo>
                    <a:lnTo>
                      <a:pt x="39" y="537"/>
                    </a:lnTo>
                    <a:lnTo>
                      <a:pt x="54" y="556"/>
                    </a:lnTo>
                    <a:lnTo>
                      <a:pt x="70" y="575"/>
                    </a:lnTo>
                    <a:lnTo>
                      <a:pt x="88" y="594"/>
                    </a:lnTo>
                    <a:lnTo>
                      <a:pt x="107" y="612"/>
                    </a:lnTo>
                    <a:lnTo>
                      <a:pt x="129" y="629"/>
                    </a:lnTo>
                    <a:lnTo>
                      <a:pt x="152" y="646"/>
                    </a:lnTo>
                    <a:lnTo>
                      <a:pt x="177" y="662"/>
                    </a:lnTo>
                    <a:lnTo>
                      <a:pt x="203" y="678"/>
                    </a:lnTo>
                    <a:lnTo>
                      <a:pt x="232" y="693"/>
                    </a:lnTo>
                    <a:lnTo>
                      <a:pt x="261" y="707"/>
                    </a:lnTo>
                    <a:lnTo>
                      <a:pt x="293" y="721"/>
                    </a:lnTo>
                    <a:lnTo>
                      <a:pt x="326" y="734"/>
                    </a:lnTo>
                    <a:lnTo>
                      <a:pt x="360" y="747"/>
                    </a:lnTo>
                    <a:lnTo>
                      <a:pt x="395" y="758"/>
                    </a:lnTo>
                    <a:lnTo>
                      <a:pt x="431" y="768"/>
                    </a:lnTo>
                    <a:lnTo>
                      <a:pt x="468" y="778"/>
                    </a:lnTo>
                    <a:lnTo>
                      <a:pt x="507" y="788"/>
                    </a:lnTo>
                    <a:lnTo>
                      <a:pt x="546" y="797"/>
                    </a:lnTo>
                    <a:lnTo>
                      <a:pt x="587" y="803"/>
                    </a:lnTo>
                    <a:lnTo>
                      <a:pt x="628" y="810"/>
                    </a:lnTo>
                    <a:lnTo>
                      <a:pt x="671" y="816"/>
                    </a:lnTo>
                    <a:lnTo>
                      <a:pt x="714" y="820"/>
                    </a:lnTo>
                    <a:lnTo>
                      <a:pt x="758" y="824"/>
                    </a:lnTo>
                    <a:lnTo>
                      <a:pt x="802" y="827"/>
                    </a:lnTo>
                    <a:lnTo>
                      <a:pt x="848" y="828"/>
                    </a:lnTo>
                    <a:lnTo>
                      <a:pt x="894" y="8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344880" y="380160"/>
                <a:ext cx="1106640" cy="492120"/>
              </a:xfrm>
              <a:custGeom>
                <a:avLst/>
                <a:gdLst/>
                <a:ahLst/>
                <a:rect l="l" t="t" r="r" b="b"/>
                <a:pathLst>
                  <a:path w="1743" h="776">
                    <a:moveTo>
                      <a:pt x="872" y="776"/>
                    </a:moveTo>
                    <a:lnTo>
                      <a:pt x="916" y="776"/>
                    </a:lnTo>
                    <a:lnTo>
                      <a:pt x="960" y="774"/>
                    </a:lnTo>
                    <a:lnTo>
                      <a:pt x="1004" y="771"/>
                    </a:lnTo>
                    <a:lnTo>
                      <a:pt x="1046" y="768"/>
                    </a:lnTo>
                    <a:lnTo>
                      <a:pt x="1089" y="763"/>
                    </a:lnTo>
                    <a:lnTo>
                      <a:pt x="1130" y="759"/>
                    </a:lnTo>
                    <a:lnTo>
                      <a:pt x="1170" y="752"/>
                    </a:lnTo>
                    <a:lnTo>
                      <a:pt x="1210" y="745"/>
                    </a:lnTo>
                    <a:lnTo>
                      <a:pt x="1249" y="737"/>
                    </a:lnTo>
                    <a:lnTo>
                      <a:pt x="1286" y="729"/>
                    </a:lnTo>
                    <a:lnTo>
                      <a:pt x="1322" y="719"/>
                    </a:lnTo>
                    <a:lnTo>
                      <a:pt x="1358" y="710"/>
                    </a:lnTo>
                    <a:lnTo>
                      <a:pt x="1392" y="699"/>
                    </a:lnTo>
                    <a:lnTo>
                      <a:pt x="1425" y="687"/>
                    </a:lnTo>
                    <a:lnTo>
                      <a:pt x="1457" y="675"/>
                    </a:lnTo>
                    <a:lnTo>
                      <a:pt x="1487" y="662"/>
                    </a:lnTo>
                    <a:lnTo>
                      <a:pt x="1516" y="649"/>
                    </a:lnTo>
                    <a:lnTo>
                      <a:pt x="1543" y="634"/>
                    </a:lnTo>
                    <a:lnTo>
                      <a:pt x="1569" y="619"/>
                    </a:lnTo>
                    <a:lnTo>
                      <a:pt x="1594" y="605"/>
                    </a:lnTo>
                    <a:lnTo>
                      <a:pt x="1616" y="589"/>
                    </a:lnTo>
                    <a:lnTo>
                      <a:pt x="1637" y="573"/>
                    </a:lnTo>
                    <a:lnTo>
                      <a:pt x="1656" y="556"/>
                    </a:lnTo>
                    <a:lnTo>
                      <a:pt x="1674" y="539"/>
                    </a:lnTo>
                    <a:lnTo>
                      <a:pt x="1690" y="521"/>
                    </a:lnTo>
                    <a:lnTo>
                      <a:pt x="1704" y="504"/>
                    </a:lnTo>
                    <a:lnTo>
                      <a:pt x="1715" y="484"/>
                    </a:lnTo>
                    <a:lnTo>
                      <a:pt x="1725" y="466"/>
                    </a:lnTo>
                    <a:lnTo>
                      <a:pt x="1733" y="447"/>
                    </a:lnTo>
                    <a:lnTo>
                      <a:pt x="1739" y="428"/>
                    </a:lnTo>
                    <a:lnTo>
                      <a:pt x="1742" y="408"/>
                    </a:lnTo>
                    <a:lnTo>
                      <a:pt x="1743" y="388"/>
                    </a:lnTo>
                    <a:lnTo>
                      <a:pt x="1742" y="368"/>
                    </a:lnTo>
                    <a:lnTo>
                      <a:pt x="1739" y="348"/>
                    </a:lnTo>
                    <a:lnTo>
                      <a:pt x="1733" y="329"/>
                    </a:lnTo>
                    <a:lnTo>
                      <a:pt x="1725" y="310"/>
                    </a:lnTo>
                    <a:lnTo>
                      <a:pt x="1715" y="292"/>
                    </a:lnTo>
                    <a:lnTo>
                      <a:pt x="1704" y="272"/>
                    </a:lnTo>
                    <a:lnTo>
                      <a:pt x="1690" y="255"/>
                    </a:lnTo>
                    <a:lnTo>
                      <a:pt x="1674" y="237"/>
                    </a:lnTo>
                    <a:lnTo>
                      <a:pt x="1656" y="220"/>
                    </a:lnTo>
                    <a:lnTo>
                      <a:pt x="1637" y="203"/>
                    </a:lnTo>
                    <a:lnTo>
                      <a:pt x="1616" y="187"/>
                    </a:lnTo>
                    <a:lnTo>
                      <a:pt x="1594" y="171"/>
                    </a:lnTo>
                    <a:lnTo>
                      <a:pt x="1569" y="157"/>
                    </a:lnTo>
                    <a:lnTo>
                      <a:pt x="1543" y="142"/>
                    </a:lnTo>
                    <a:lnTo>
                      <a:pt x="1516" y="127"/>
                    </a:lnTo>
                    <a:lnTo>
                      <a:pt x="1487" y="114"/>
                    </a:lnTo>
                    <a:lnTo>
                      <a:pt x="1457" y="101"/>
                    </a:lnTo>
                    <a:lnTo>
                      <a:pt x="1425" y="89"/>
                    </a:lnTo>
                    <a:lnTo>
                      <a:pt x="1392" y="77"/>
                    </a:lnTo>
                    <a:lnTo>
                      <a:pt x="1358" y="66"/>
                    </a:lnTo>
                    <a:lnTo>
                      <a:pt x="1322" y="57"/>
                    </a:lnTo>
                    <a:lnTo>
                      <a:pt x="1286" y="47"/>
                    </a:lnTo>
                    <a:lnTo>
                      <a:pt x="1249" y="39"/>
                    </a:lnTo>
                    <a:lnTo>
                      <a:pt x="1210" y="31"/>
                    </a:lnTo>
                    <a:lnTo>
                      <a:pt x="1170" y="24"/>
                    </a:lnTo>
                    <a:lnTo>
                      <a:pt x="1130" y="17"/>
                    </a:lnTo>
                    <a:lnTo>
                      <a:pt x="1089" y="13"/>
                    </a:lnTo>
                    <a:lnTo>
                      <a:pt x="1046" y="8"/>
                    </a:lnTo>
                    <a:lnTo>
                      <a:pt x="1004" y="5"/>
                    </a:lnTo>
                    <a:lnTo>
                      <a:pt x="960" y="3"/>
                    </a:lnTo>
                    <a:lnTo>
                      <a:pt x="916" y="0"/>
                    </a:lnTo>
                    <a:lnTo>
                      <a:pt x="872" y="0"/>
                    </a:lnTo>
                    <a:lnTo>
                      <a:pt x="826" y="0"/>
                    </a:lnTo>
                    <a:lnTo>
                      <a:pt x="782" y="3"/>
                    </a:lnTo>
                    <a:lnTo>
                      <a:pt x="739" y="5"/>
                    </a:lnTo>
                    <a:lnTo>
                      <a:pt x="696" y="8"/>
                    </a:lnTo>
                    <a:lnTo>
                      <a:pt x="654" y="13"/>
                    </a:lnTo>
                    <a:lnTo>
                      <a:pt x="612" y="17"/>
                    </a:lnTo>
                    <a:lnTo>
                      <a:pt x="572" y="24"/>
                    </a:lnTo>
                    <a:lnTo>
                      <a:pt x="532" y="31"/>
                    </a:lnTo>
                    <a:lnTo>
                      <a:pt x="493" y="39"/>
                    </a:lnTo>
                    <a:lnTo>
                      <a:pt x="456" y="47"/>
                    </a:lnTo>
                    <a:lnTo>
                      <a:pt x="420" y="57"/>
                    </a:lnTo>
                    <a:lnTo>
                      <a:pt x="385" y="66"/>
                    </a:lnTo>
                    <a:lnTo>
                      <a:pt x="350" y="77"/>
                    </a:lnTo>
                    <a:lnTo>
                      <a:pt x="317" y="89"/>
                    </a:lnTo>
                    <a:lnTo>
                      <a:pt x="285" y="101"/>
                    </a:lnTo>
                    <a:lnTo>
                      <a:pt x="256" y="114"/>
                    </a:lnTo>
                    <a:lnTo>
                      <a:pt x="226" y="127"/>
                    </a:lnTo>
                    <a:lnTo>
                      <a:pt x="199" y="142"/>
                    </a:lnTo>
                    <a:lnTo>
                      <a:pt x="173" y="157"/>
                    </a:lnTo>
                    <a:lnTo>
                      <a:pt x="148" y="171"/>
                    </a:lnTo>
                    <a:lnTo>
                      <a:pt x="125" y="187"/>
                    </a:lnTo>
                    <a:lnTo>
                      <a:pt x="105" y="203"/>
                    </a:lnTo>
                    <a:lnTo>
                      <a:pt x="86" y="220"/>
                    </a:lnTo>
                    <a:lnTo>
                      <a:pt x="68" y="237"/>
                    </a:lnTo>
                    <a:lnTo>
                      <a:pt x="52" y="255"/>
                    </a:lnTo>
                    <a:lnTo>
                      <a:pt x="38" y="272"/>
                    </a:lnTo>
                    <a:lnTo>
                      <a:pt x="27" y="292"/>
                    </a:lnTo>
                    <a:lnTo>
                      <a:pt x="17" y="310"/>
                    </a:lnTo>
                    <a:lnTo>
                      <a:pt x="9" y="329"/>
                    </a:lnTo>
                    <a:lnTo>
                      <a:pt x="4" y="348"/>
                    </a:lnTo>
                    <a:lnTo>
                      <a:pt x="1" y="368"/>
                    </a:lnTo>
                    <a:lnTo>
                      <a:pt x="0" y="388"/>
                    </a:lnTo>
                    <a:lnTo>
                      <a:pt x="1" y="408"/>
                    </a:lnTo>
                    <a:lnTo>
                      <a:pt x="4" y="428"/>
                    </a:lnTo>
                    <a:lnTo>
                      <a:pt x="9" y="447"/>
                    </a:lnTo>
                    <a:lnTo>
                      <a:pt x="17" y="466"/>
                    </a:lnTo>
                    <a:lnTo>
                      <a:pt x="27" y="484"/>
                    </a:lnTo>
                    <a:lnTo>
                      <a:pt x="38" y="504"/>
                    </a:lnTo>
                    <a:lnTo>
                      <a:pt x="52" y="521"/>
                    </a:lnTo>
                    <a:lnTo>
                      <a:pt x="68" y="539"/>
                    </a:lnTo>
                    <a:lnTo>
                      <a:pt x="86" y="556"/>
                    </a:lnTo>
                    <a:lnTo>
                      <a:pt x="105" y="573"/>
                    </a:lnTo>
                    <a:lnTo>
                      <a:pt x="125" y="589"/>
                    </a:lnTo>
                    <a:lnTo>
                      <a:pt x="148" y="605"/>
                    </a:lnTo>
                    <a:lnTo>
                      <a:pt x="173" y="619"/>
                    </a:lnTo>
                    <a:lnTo>
                      <a:pt x="199" y="634"/>
                    </a:lnTo>
                    <a:lnTo>
                      <a:pt x="226" y="649"/>
                    </a:lnTo>
                    <a:lnTo>
                      <a:pt x="256" y="662"/>
                    </a:lnTo>
                    <a:lnTo>
                      <a:pt x="285" y="675"/>
                    </a:lnTo>
                    <a:lnTo>
                      <a:pt x="317" y="687"/>
                    </a:lnTo>
                    <a:lnTo>
                      <a:pt x="350" y="699"/>
                    </a:lnTo>
                    <a:lnTo>
                      <a:pt x="385" y="710"/>
                    </a:lnTo>
                    <a:lnTo>
                      <a:pt x="420" y="719"/>
                    </a:lnTo>
                    <a:lnTo>
                      <a:pt x="456" y="729"/>
                    </a:lnTo>
                    <a:lnTo>
                      <a:pt x="493" y="737"/>
                    </a:lnTo>
                    <a:lnTo>
                      <a:pt x="532" y="745"/>
                    </a:lnTo>
                    <a:lnTo>
                      <a:pt x="572" y="752"/>
                    </a:lnTo>
                    <a:lnTo>
                      <a:pt x="612" y="759"/>
                    </a:lnTo>
                    <a:lnTo>
                      <a:pt x="654" y="763"/>
                    </a:lnTo>
                    <a:lnTo>
                      <a:pt x="696" y="768"/>
                    </a:lnTo>
                    <a:lnTo>
                      <a:pt x="739" y="771"/>
                    </a:lnTo>
                    <a:lnTo>
                      <a:pt x="782" y="774"/>
                    </a:lnTo>
                    <a:lnTo>
                      <a:pt x="826" y="776"/>
                    </a:lnTo>
                    <a:lnTo>
                      <a:pt x="872" y="776"/>
                    </a:lnTo>
                    <a:close/>
                  </a:path>
                </a:pathLst>
              </a:custGeom>
              <a:solidFill>
                <a:srgbClr val="2916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45960" y="371520"/>
                <a:ext cx="1098360" cy="479880"/>
              </a:xfrm>
              <a:custGeom>
                <a:avLst/>
                <a:gdLst/>
                <a:ahLst/>
                <a:rect l="l" t="t" r="r" b="b"/>
                <a:pathLst>
                  <a:path w="1730" h="757">
                    <a:moveTo>
                      <a:pt x="865" y="757"/>
                    </a:moveTo>
                    <a:lnTo>
                      <a:pt x="909" y="757"/>
                    </a:lnTo>
                    <a:lnTo>
                      <a:pt x="953" y="756"/>
                    </a:lnTo>
                    <a:lnTo>
                      <a:pt x="996" y="754"/>
                    </a:lnTo>
                    <a:lnTo>
                      <a:pt x="1039" y="750"/>
                    </a:lnTo>
                    <a:lnTo>
                      <a:pt x="1080" y="746"/>
                    </a:lnTo>
                    <a:lnTo>
                      <a:pt x="1122" y="740"/>
                    </a:lnTo>
                    <a:lnTo>
                      <a:pt x="1162" y="734"/>
                    </a:lnTo>
                    <a:lnTo>
                      <a:pt x="1201" y="727"/>
                    </a:lnTo>
                    <a:lnTo>
                      <a:pt x="1240" y="719"/>
                    </a:lnTo>
                    <a:lnTo>
                      <a:pt x="1277" y="712"/>
                    </a:lnTo>
                    <a:lnTo>
                      <a:pt x="1313" y="702"/>
                    </a:lnTo>
                    <a:lnTo>
                      <a:pt x="1348" y="692"/>
                    </a:lnTo>
                    <a:lnTo>
                      <a:pt x="1381" y="682"/>
                    </a:lnTo>
                    <a:lnTo>
                      <a:pt x="1414" y="671"/>
                    </a:lnTo>
                    <a:lnTo>
                      <a:pt x="1446" y="658"/>
                    </a:lnTo>
                    <a:lnTo>
                      <a:pt x="1476" y="646"/>
                    </a:lnTo>
                    <a:lnTo>
                      <a:pt x="1505" y="633"/>
                    </a:lnTo>
                    <a:lnTo>
                      <a:pt x="1532" y="620"/>
                    </a:lnTo>
                    <a:lnTo>
                      <a:pt x="1558" y="605"/>
                    </a:lnTo>
                    <a:lnTo>
                      <a:pt x="1582" y="590"/>
                    </a:lnTo>
                    <a:lnTo>
                      <a:pt x="1604" y="574"/>
                    </a:lnTo>
                    <a:lnTo>
                      <a:pt x="1625" y="558"/>
                    </a:lnTo>
                    <a:lnTo>
                      <a:pt x="1644" y="543"/>
                    </a:lnTo>
                    <a:lnTo>
                      <a:pt x="1662" y="526"/>
                    </a:lnTo>
                    <a:lnTo>
                      <a:pt x="1677" y="509"/>
                    </a:lnTo>
                    <a:lnTo>
                      <a:pt x="1690" y="492"/>
                    </a:lnTo>
                    <a:lnTo>
                      <a:pt x="1703" y="473"/>
                    </a:lnTo>
                    <a:lnTo>
                      <a:pt x="1712" y="455"/>
                    </a:lnTo>
                    <a:lnTo>
                      <a:pt x="1720" y="436"/>
                    </a:lnTo>
                    <a:lnTo>
                      <a:pt x="1725" y="418"/>
                    </a:lnTo>
                    <a:lnTo>
                      <a:pt x="1729" y="399"/>
                    </a:lnTo>
                    <a:lnTo>
                      <a:pt x="1730" y="378"/>
                    </a:lnTo>
                    <a:lnTo>
                      <a:pt x="1729" y="359"/>
                    </a:lnTo>
                    <a:lnTo>
                      <a:pt x="1725" y="340"/>
                    </a:lnTo>
                    <a:lnTo>
                      <a:pt x="1720" y="322"/>
                    </a:lnTo>
                    <a:lnTo>
                      <a:pt x="1712" y="302"/>
                    </a:lnTo>
                    <a:lnTo>
                      <a:pt x="1703" y="284"/>
                    </a:lnTo>
                    <a:lnTo>
                      <a:pt x="1690" y="266"/>
                    </a:lnTo>
                    <a:lnTo>
                      <a:pt x="1677" y="249"/>
                    </a:lnTo>
                    <a:lnTo>
                      <a:pt x="1662" y="232"/>
                    </a:lnTo>
                    <a:lnTo>
                      <a:pt x="1644" y="215"/>
                    </a:lnTo>
                    <a:lnTo>
                      <a:pt x="1625" y="198"/>
                    </a:lnTo>
                    <a:lnTo>
                      <a:pt x="1604" y="183"/>
                    </a:lnTo>
                    <a:lnTo>
                      <a:pt x="1582" y="167"/>
                    </a:lnTo>
                    <a:lnTo>
                      <a:pt x="1558" y="153"/>
                    </a:lnTo>
                    <a:lnTo>
                      <a:pt x="1532" y="138"/>
                    </a:lnTo>
                    <a:lnTo>
                      <a:pt x="1505" y="124"/>
                    </a:lnTo>
                    <a:lnTo>
                      <a:pt x="1476" y="111"/>
                    </a:lnTo>
                    <a:lnTo>
                      <a:pt x="1446" y="98"/>
                    </a:lnTo>
                    <a:lnTo>
                      <a:pt x="1414" y="87"/>
                    </a:lnTo>
                    <a:lnTo>
                      <a:pt x="1381" y="75"/>
                    </a:lnTo>
                    <a:lnTo>
                      <a:pt x="1348" y="65"/>
                    </a:lnTo>
                    <a:lnTo>
                      <a:pt x="1313" y="55"/>
                    </a:lnTo>
                    <a:lnTo>
                      <a:pt x="1277" y="46"/>
                    </a:lnTo>
                    <a:lnTo>
                      <a:pt x="1240" y="38"/>
                    </a:lnTo>
                    <a:lnTo>
                      <a:pt x="1201" y="30"/>
                    </a:lnTo>
                    <a:lnTo>
                      <a:pt x="1162" y="23"/>
                    </a:lnTo>
                    <a:lnTo>
                      <a:pt x="1122" y="18"/>
                    </a:lnTo>
                    <a:lnTo>
                      <a:pt x="1080" y="12"/>
                    </a:lnTo>
                    <a:lnTo>
                      <a:pt x="1039" y="7"/>
                    </a:lnTo>
                    <a:lnTo>
                      <a:pt x="996" y="4"/>
                    </a:lnTo>
                    <a:lnTo>
                      <a:pt x="953" y="2"/>
                    </a:lnTo>
                    <a:lnTo>
                      <a:pt x="909" y="1"/>
                    </a:lnTo>
                    <a:lnTo>
                      <a:pt x="865" y="0"/>
                    </a:lnTo>
                    <a:lnTo>
                      <a:pt x="821" y="1"/>
                    </a:lnTo>
                    <a:lnTo>
                      <a:pt x="777" y="2"/>
                    </a:lnTo>
                    <a:lnTo>
                      <a:pt x="734" y="4"/>
                    </a:lnTo>
                    <a:lnTo>
                      <a:pt x="691" y="7"/>
                    </a:lnTo>
                    <a:lnTo>
                      <a:pt x="649" y="12"/>
                    </a:lnTo>
                    <a:lnTo>
                      <a:pt x="608" y="18"/>
                    </a:lnTo>
                    <a:lnTo>
                      <a:pt x="568" y="23"/>
                    </a:lnTo>
                    <a:lnTo>
                      <a:pt x="529" y="30"/>
                    </a:lnTo>
                    <a:lnTo>
                      <a:pt x="490" y="38"/>
                    </a:lnTo>
                    <a:lnTo>
                      <a:pt x="453" y="46"/>
                    </a:lnTo>
                    <a:lnTo>
                      <a:pt x="417" y="55"/>
                    </a:lnTo>
                    <a:lnTo>
                      <a:pt x="382" y="65"/>
                    </a:lnTo>
                    <a:lnTo>
                      <a:pt x="349" y="75"/>
                    </a:lnTo>
                    <a:lnTo>
                      <a:pt x="316" y="87"/>
                    </a:lnTo>
                    <a:lnTo>
                      <a:pt x="284" y="98"/>
                    </a:lnTo>
                    <a:lnTo>
                      <a:pt x="254" y="111"/>
                    </a:lnTo>
                    <a:lnTo>
                      <a:pt x="225" y="124"/>
                    </a:lnTo>
                    <a:lnTo>
                      <a:pt x="198" y="138"/>
                    </a:lnTo>
                    <a:lnTo>
                      <a:pt x="172" y="153"/>
                    </a:lnTo>
                    <a:lnTo>
                      <a:pt x="148" y="167"/>
                    </a:lnTo>
                    <a:lnTo>
                      <a:pt x="126" y="183"/>
                    </a:lnTo>
                    <a:lnTo>
                      <a:pt x="105" y="198"/>
                    </a:lnTo>
                    <a:lnTo>
                      <a:pt x="86" y="215"/>
                    </a:lnTo>
                    <a:lnTo>
                      <a:pt x="68" y="232"/>
                    </a:lnTo>
                    <a:lnTo>
                      <a:pt x="53" y="249"/>
                    </a:lnTo>
                    <a:lnTo>
                      <a:pt x="40" y="266"/>
                    </a:lnTo>
                    <a:lnTo>
                      <a:pt x="27" y="284"/>
                    </a:lnTo>
                    <a:lnTo>
                      <a:pt x="18" y="302"/>
                    </a:lnTo>
                    <a:lnTo>
                      <a:pt x="10" y="322"/>
                    </a:lnTo>
                    <a:lnTo>
                      <a:pt x="5" y="340"/>
                    </a:lnTo>
                    <a:lnTo>
                      <a:pt x="1" y="359"/>
                    </a:lnTo>
                    <a:lnTo>
                      <a:pt x="0" y="378"/>
                    </a:lnTo>
                    <a:lnTo>
                      <a:pt x="1" y="399"/>
                    </a:lnTo>
                    <a:lnTo>
                      <a:pt x="5" y="418"/>
                    </a:lnTo>
                    <a:lnTo>
                      <a:pt x="10" y="436"/>
                    </a:lnTo>
                    <a:lnTo>
                      <a:pt x="18" y="455"/>
                    </a:lnTo>
                    <a:lnTo>
                      <a:pt x="27" y="473"/>
                    </a:lnTo>
                    <a:lnTo>
                      <a:pt x="40" y="492"/>
                    </a:lnTo>
                    <a:lnTo>
                      <a:pt x="53" y="509"/>
                    </a:lnTo>
                    <a:lnTo>
                      <a:pt x="68" y="526"/>
                    </a:lnTo>
                    <a:lnTo>
                      <a:pt x="86" y="543"/>
                    </a:lnTo>
                    <a:lnTo>
                      <a:pt x="105" y="558"/>
                    </a:lnTo>
                    <a:lnTo>
                      <a:pt x="126" y="574"/>
                    </a:lnTo>
                    <a:lnTo>
                      <a:pt x="148" y="590"/>
                    </a:lnTo>
                    <a:lnTo>
                      <a:pt x="172" y="605"/>
                    </a:lnTo>
                    <a:lnTo>
                      <a:pt x="198" y="620"/>
                    </a:lnTo>
                    <a:lnTo>
                      <a:pt x="225" y="633"/>
                    </a:lnTo>
                    <a:lnTo>
                      <a:pt x="254" y="646"/>
                    </a:lnTo>
                    <a:lnTo>
                      <a:pt x="284" y="658"/>
                    </a:lnTo>
                    <a:lnTo>
                      <a:pt x="316" y="671"/>
                    </a:lnTo>
                    <a:lnTo>
                      <a:pt x="349" y="682"/>
                    </a:lnTo>
                    <a:lnTo>
                      <a:pt x="382" y="692"/>
                    </a:lnTo>
                    <a:lnTo>
                      <a:pt x="417" y="702"/>
                    </a:lnTo>
                    <a:lnTo>
                      <a:pt x="453" y="712"/>
                    </a:lnTo>
                    <a:lnTo>
                      <a:pt x="490" y="719"/>
                    </a:lnTo>
                    <a:lnTo>
                      <a:pt x="529" y="727"/>
                    </a:lnTo>
                    <a:lnTo>
                      <a:pt x="568" y="734"/>
                    </a:lnTo>
                    <a:lnTo>
                      <a:pt x="608" y="740"/>
                    </a:lnTo>
                    <a:lnTo>
                      <a:pt x="649" y="746"/>
                    </a:lnTo>
                    <a:lnTo>
                      <a:pt x="691" y="750"/>
                    </a:lnTo>
                    <a:lnTo>
                      <a:pt x="734" y="754"/>
                    </a:lnTo>
                    <a:lnTo>
                      <a:pt x="777" y="756"/>
                    </a:lnTo>
                    <a:lnTo>
                      <a:pt x="821" y="757"/>
                    </a:lnTo>
                    <a:lnTo>
                      <a:pt x="865" y="757"/>
                    </a:lnTo>
                    <a:close/>
                  </a:path>
                </a:pathLst>
              </a:custGeom>
              <a:solidFill>
                <a:srgbClr val="dad6e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847080" y="597240"/>
                <a:ext cx="81720" cy="81720"/>
              </a:xfrm>
              <a:custGeom>
                <a:avLst/>
                <a:gdLst/>
                <a:ahLst/>
                <a:rect l="l" t="t" r="r" b="b"/>
                <a:pathLst>
                  <a:path w="129" h="129">
                    <a:moveTo>
                      <a:pt x="65" y="0"/>
                    </a:moveTo>
                    <a:lnTo>
                      <a:pt x="71" y="1"/>
                    </a:lnTo>
                    <a:lnTo>
                      <a:pt x="77" y="2"/>
                    </a:lnTo>
                    <a:lnTo>
                      <a:pt x="84" y="3"/>
                    </a:lnTo>
                    <a:lnTo>
                      <a:pt x="90" y="5"/>
                    </a:lnTo>
                    <a:lnTo>
                      <a:pt x="95" y="7"/>
                    </a:lnTo>
                    <a:lnTo>
                      <a:pt x="101" y="11"/>
                    </a:lnTo>
                    <a:lnTo>
                      <a:pt x="105" y="14"/>
                    </a:lnTo>
                    <a:lnTo>
                      <a:pt x="110" y="19"/>
                    </a:lnTo>
                    <a:lnTo>
                      <a:pt x="114" y="23"/>
                    </a:lnTo>
                    <a:lnTo>
                      <a:pt x="118" y="29"/>
                    </a:lnTo>
                    <a:lnTo>
                      <a:pt x="121" y="34"/>
                    </a:lnTo>
                    <a:lnTo>
                      <a:pt x="124" y="39"/>
                    </a:lnTo>
                    <a:lnTo>
                      <a:pt x="126" y="45"/>
                    </a:lnTo>
                    <a:lnTo>
                      <a:pt x="128" y="52"/>
                    </a:lnTo>
                    <a:lnTo>
                      <a:pt x="129" y="59"/>
                    </a:lnTo>
                    <a:lnTo>
                      <a:pt x="129" y="64"/>
                    </a:lnTo>
                    <a:lnTo>
                      <a:pt x="129" y="71"/>
                    </a:lnTo>
                    <a:lnTo>
                      <a:pt x="128" y="78"/>
                    </a:lnTo>
                    <a:lnTo>
                      <a:pt x="126" y="83"/>
                    </a:lnTo>
                    <a:lnTo>
                      <a:pt x="124" y="90"/>
                    </a:lnTo>
                    <a:lnTo>
                      <a:pt x="121" y="96"/>
                    </a:lnTo>
                    <a:lnTo>
                      <a:pt x="118" y="100"/>
                    </a:lnTo>
                    <a:lnTo>
                      <a:pt x="114" y="106"/>
                    </a:lnTo>
                    <a:lnTo>
                      <a:pt x="110" y="111"/>
                    </a:lnTo>
                    <a:lnTo>
                      <a:pt x="105" y="114"/>
                    </a:lnTo>
                    <a:lnTo>
                      <a:pt x="101" y="119"/>
                    </a:lnTo>
                    <a:lnTo>
                      <a:pt x="95" y="121"/>
                    </a:lnTo>
                    <a:lnTo>
                      <a:pt x="90" y="124"/>
                    </a:lnTo>
                    <a:lnTo>
                      <a:pt x="84" y="127"/>
                    </a:lnTo>
                    <a:lnTo>
                      <a:pt x="77" y="128"/>
                    </a:lnTo>
                    <a:lnTo>
                      <a:pt x="71" y="129"/>
                    </a:lnTo>
                    <a:lnTo>
                      <a:pt x="65" y="129"/>
                    </a:lnTo>
                    <a:lnTo>
                      <a:pt x="58" y="129"/>
                    </a:lnTo>
                    <a:lnTo>
                      <a:pt x="51" y="128"/>
                    </a:lnTo>
                    <a:lnTo>
                      <a:pt x="45" y="127"/>
                    </a:lnTo>
                    <a:lnTo>
                      <a:pt x="40" y="124"/>
                    </a:lnTo>
                    <a:lnTo>
                      <a:pt x="34" y="121"/>
                    </a:lnTo>
                    <a:lnTo>
                      <a:pt x="28" y="119"/>
                    </a:lnTo>
                    <a:lnTo>
                      <a:pt x="24" y="114"/>
                    </a:lnTo>
                    <a:lnTo>
                      <a:pt x="19" y="111"/>
                    </a:lnTo>
                    <a:lnTo>
                      <a:pt x="15" y="106"/>
                    </a:lnTo>
                    <a:lnTo>
                      <a:pt x="11" y="100"/>
                    </a:lnTo>
                    <a:lnTo>
                      <a:pt x="8" y="96"/>
                    </a:lnTo>
                    <a:lnTo>
                      <a:pt x="5" y="90"/>
                    </a:lnTo>
                    <a:lnTo>
                      <a:pt x="2" y="83"/>
                    </a:lnTo>
                    <a:lnTo>
                      <a:pt x="1" y="78"/>
                    </a:lnTo>
                    <a:lnTo>
                      <a:pt x="0" y="71"/>
                    </a:lnTo>
                    <a:lnTo>
                      <a:pt x="0" y="64"/>
                    </a:lnTo>
                    <a:lnTo>
                      <a:pt x="0" y="59"/>
                    </a:lnTo>
                    <a:lnTo>
                      <a:pt x="1" y="52"/>
                    </a:lnTo>
                    <a:lnTo>
                      <a:pt x="2" y="45"/>
                    </a:lnTo>
                    <a:lnTo>
                      <a:pt x="5" y="39"/>
                    </a:lnTo>
                    <a:lnTo>
                      <a:pt x="8" y="34"/>
                    </a:lnTo>
                    <a:lnTo>
                      <a:pt x="11" y="29"/>
                    </a:lnTo>
                    <a:lnTo>
                      <a:pt x="15" y="23"/>
                    </a:lnTo>
                    <a:lnTo>
                      <a:pt x="19" y="19"/>
                    </a:lnTo>
                    <a:lnTo>
                      <a:pt x="24" y="14"/>
                    </a:lnTo>
                    <a:lnTo>
                      <a:pt x="28" y="11"/>
                    </a:lnTo>
                    <a:lnTo>
                      <a:pt x="34" y="7"/>
                    </a:lnTo>
                    <a:lnTo>
                      <a:pt x="40"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98" name=""/>
              <p:cNvSpPr/>
              <p:nvPr/>
            </p:nvSpPr>
            <p:spPr>
              <a:xfrm>
                <a:off x="781200" y="470160"/>
                <a:ext cx="213840" cy="247320"/>
              </a:xfrm>
              <a:custGeom>
                <a:avLst/>
                <a:gdLst/>
                <a:ahLst/>
                <a:rect l="l" t="t" r="r" b="b"/>
                <a:pathLst>
                  <a:path w="337" h="390">
                    <a:moveTo>
                      <a:pt x="169" y="0"/>
                    </a:moveTo>
                    <a:lnTo>
                      <a:pt x="178" y="0"/>
                    </a:lnTo>
                    <a:lnTo>
                      <a:pt x="186" y="1"/>
                    </a:lnTo>
                    <a:lnTo>
                      <a:pt x="195" y="3"/>
                    </a:lnTo>
                    <a:lnTo>
                      <a:pt x="203" y="7"/>
                    </a:lnTo>
                    <a:lnTo>
                      <a:pt x="211" y="10"/>
                    </a:lnTo>
                    <a:lnTo>
                      <a:pt x="218" y="15"/>
                    </a:lnTo>
                    <a:lnTo>
                      <a:pt x="226" y="20"/>
                    </a:lnTo>
                    <a:lnTo>
                      <a:pt x="234" y="26"/>
                    </a:lnTo>
                    <a:lnTo>
                      <a:pt x="241" y="33"/>
                    </a:lnTo>
                    <a:lnTo>
                      <a:pt x="249" y="40"/>
                    </a:lnTo>
                    <a:lnTo>
                      <a:pt x="256" y="49"/>
                    </a:lnTo>
                    <a:lnTo>
                      <a:pt x="263" y="57"/>
                    </a:lnTo>
                    <a:lnTo>
                      <a:pt x="276" y="76"/>
                    </a:lnTo>
                    <a:lnTo>
                      <a:pt x="288" y="98"/>
                    </a:lnTo>
                    <a:lnTo>
                      <a:pt x="299" y="121"/>
                    </a:lnTo>
                    <a:lnTo>
                      <a:pt x="309" y="147"/>
                    </a:lnTo>
                    <a:lnTo>
                      <a:pt x="317" y="175"/>
                    </a:lnTo>
                    <a:lnTo>
                      <a:pt x="324" y="204"/>
                    </a:lnTo>
                    <a:lnTo>
                      <a:pt x="329" y="235"/>
                    </a:lnTo>
                    <a:lnTo>
                      <a:pt x="334" y="268"/>
                    </a:lnTo>
                    <a:lnTo>
                      <a:pt x="336" y="300"/>
                    </a:lnTo>
                    <a:lnTo>
                      <a:pt x="337" y="334"/>
                    </a:lnTo>
                    <a:lnTo>
                      <a:pt x="337" y="348"/>
                    </a:lnTo>
                    <a:lnTo>
                      <a:pt x="337" y="363"/>
                    </a:lnTo>
                    <a:lnTo>
                      <a:pt x="336" y="376"/>
                    </a:lnTo>
                    <a:lnTo>
                      <a:pt x="335" y="390"/>
                    </a:lnTo>
                    <a:lnTo>
                      <a:pt x="332" y="361"/>
                    </a:lnTo>
                    <a:lnTo>
                      <a:pt x="327" y="332"/>
                    </a:lnTo>
                    <a:lnTo>
                      <a:pt x="322" y="305"/>
                    </a:lnTo>
                    <a:lnTo>
                      <a:pt x="315" y="279"/>
                    </a:lnTo>
                    <a:lnTo>
                      <a:pt x="308" y="255"/>
                    </a:lnTo>
                    <a:lnTo>
                      <a:pt x="299" y="231"/>
                    </a:lnTo>
                    <a:lnTo>
                      <a:pt x="289" y="210"/>
                    </a:lnTo>
                    <a:lnTo>
                      <a:pt x="278" y="190"/>
                    </a:lnTo>
                    <a:lnTo>
                      <a:pt x="267" y="172"/>
                    </a:lnTo>
                    <a:lnTo>
                      <a:pt x="255" y="156"/>
                    </a:lnTo>
                    <a:lnTo>
                      <a:pt x="241" y="143"/>
                    </a:lnTo>
                    <a:lnTo>
                      <a:pt x="228" y="132"/>
                    </a:lnTo>
                    <a:lnTo>
                      <a:pt x="221" y="127"/>
                    </a:lnTo>
                    <a:lnTo>
                      <a:pt x="214" y="122"/>
                    </a:lnTo>
                    <a:lnTo>
                      <a:pt x="206" y="119"/>
                    </a:lnTo>
                    <a:lnTo>
                      <a:pt x="199" y="116"/>
                    </a:lnTo>
                    <a:lnTo>
                      <a:pt x="191" y="113"/>
                    </a:lnTo>
                    <a:lnTo>
                      <a:pt x="185" y="111"/>
                    </a:lnTo>
                    <a:lnTo>
                      <a:pt x="177" y="110"/>
                    </a:lnTo>
                    <a:lnTo>
                      <a:pt x="169" y="110"/>
                    </a:lnTo>
                    <a:lnTo>
                      <a:pt x="161" y="110"/>
                    </a:lnTo>
                    <a:lnTo>
                      <a:pt x="153" y="111"/>
                    </a:lnTo>
                    <a:lnTo>
                      <a:pt x="145" y="113"/>
                    </a:lnTo>
                    <a:lnTo>
                      <a:pt x="138" y="116"/>
                    </a:lnTo>
                    <a:lnTo>
                      <a:pt x="130" y="119"/>
                    </a:lnTo>
                    <a:lnTo>
                      <a:pt x="123" y="122"/>
                    </a:lnTo>
                    <a:lnTo>
                      <a:pt x="117" y="127"/>
                    </a:lnTo>
                    <a:lnTo>
                      <a:pt x="109" y="132"/>
                    </a:lnTo>
                    <a:lnTo>
                      <a:pt x="95" y="143"/>
                    </a:lnTo>
                    <a:lnTo>
                      <a:pt x="83" y="156"/>
                    </a:lnTo>
                    <a:lnTo>
                      <a:pt x="70" y="172"/>
                    </a:lnTo>
                    <a:lnTo>
                      <a:pt x="59" y="190"/>
                    </a:lnTo>
                    <a:lnTo>
                      <a:pt x="49" y="210"/>
                    </a:lnTo>
                    <a:lnTo>
                      <a:pt x="38" y="231"/>
                    </a:lnTo>
                    <a:lnTo>
                      <a:pt x="29" y="255"/>
                    </a:lnTo>
                    <a:lnTo>
                      <a:pt x="22" y="279"/>
                    </a:lnTo>
                    <a:lnTo>
                      <a:pt x="15" y="305"/>
                    </a:lnTo>
                    <a:lnTo>
                      <a:pt x="9" y="332"/>
                    </a:lnTo>
                    <a:lnTo>
                      <a:pt x="5" y="361"/>
                    </a:lnTo>
                    <a:lnTo>
                      <a:pt x="2" y="390"/>
                    </a:lnTo>
                    <a:lnTo>
                      <a:pt x="1" y="376"/>
                    </a:lnTo>
                    <a:lnTo>
                      <a:pt x="0" y="363"/>
                    </a:lnTo>
                    <a:lnTo>
                      <a:pt x="0" y="348"/>
                    </a:lnTo>
                    <a:lnTo>
                      <a:pt x="0" y="334"/>
                    </a:lnTo>
                    <a:lnTo>
                      <a:pt x="0" y="300"/>
                    </a:lnTo>
                    <a:lnTo>
                      <a:pt x="3" y="268"/>
                    </a:lnTo>
                    <a:lnTo>
                      <a:pt x="7" y="235"/>
                    </a:lnTo>
                    <a:lnTo>
                      <a:pt x="12" y="204"/>
                    </a:lnTo>
                    <a:lnTo>
                      <a:pt x="20" y="175"/>
                    </a:lnTo>
                    <a:lnTo>
                      <a:pt x="28" y="147"/>
                    </a:lnTo>
                    <a:lnTo>
                      <a:pt x="38" y="121"/>
                    </a:lnTo>
                    <a:lnTo>
                      <a:pt x="49" y="98"/>
                    </a:lnTo>
                    <a:lnTo>
                      <a:pt x="61" y="76"/>
                    </a:lnTo>
                    <a:lnTo>
                      <a:pt x="74" y="57"/>
                    </a:lnTo>
                    <a:lnTo>
                      <a:pt x="82" y="49"/>
                    </a:lnTo>
                    <a:lnTo>
                      <a:pt x="88" y="40"/>
                    </a:lnTo>
                    <a:lnTo>
                      <a:pt x="95" y="33"/>
                    </a:lnTo>
                    <a:lnTo>
                      <a:pt x="103" y="26"/>
                    </a:lnTo>
                    <a:lnTo>
                      <a:pt x="111" y="20"/>
                    </a:lnTo>
                    <a:lnTo>
                      <a:pt x="119" y="15"/>
                    </a:lnTo>
                    <a:lnTo>
                      <a:pt x="127" y="10"/>
                    </a:lnTo>
                    <a:lnTo>
                      <a:pt x="135" y="7"/>
                    </a:lnTo>
                    <a:lnTo>
                      <a:pt x="143" y="3"/>
                    </a:lnTo>
                    <a:lnTo>
                      <a:pt x="152" y="1"/>
                    </a:lnTo>
                    <a:lnTo>
                      <a:pt x="160" y="0"/>
                    </a:lnTo>
                    <a:lnTo>
                      <a:pt x="16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1182960" y="470160"/>
                <a:ext cx="214560" cy="247320"/>
              </a:xfrm>
              <a:custGeom>
                <a:avLst/>
                <a:gdLst/>
                <a:ahLst/>
                <a:rect l="l" t="t" r="r" b="b"/>
                <a:pathLst>
                  <a:path w="338" h="390">
                    <a:moveTo>
                      <a:pt x="170" y="0"/>
                    </a:moveTo>
                    <a:lnTo>
                      <a:pt x="178" y="0"/>
                    </a:lnTo>
                    <a:lnTo>
                      <a:pt x="187" y="1"/>
                    </a:lnTo>
                    <a:lnTo>
                      <a:pt x="195" y="3"/>
                    </a:lnTo>
                    <a:lnTo>
                      <a:pt x="204" y="7"/>
                    </a:lnTo>
                    <a:lnTo>
                      <a:pt x="212" y="10"/>
                    </a:lnTo>
                    <a:lnTo>
                      <a:pt x="219" y="15"/>
                    </a:lnTo>
                    <a:lnTo>
                      <a:pt x="227" y="20"/>
                    </a:lnTo>
                    <a:lnTo>
                      <a:pt x="235" y="26"/>
                    </a:lnTo>
                    <a:lnTo>
                      <a:pt x="242" y="33"/>
                    </a:lnTo>
                    <a:lnTo>
                      <a:pt x="250" y="40"/>
                    </a:lnTo>
                    <a:lnTo>
                      <a:pt x="257" y="49"/>
                    </a:lnTo>
                    <a:lnTo>
                      <a:pt x="264" y="57"/>
                    </a:lnTo>
                    <a:lnTo>
                      <a:pt x="277" y="76"/>
                    </a:lnTo>
                    <a:lnTo>
                      <a:pt x="289" y="98"/>
                    </a:lnTo>
                    <a:lnTo>
                      <a:pt x="300" y="121"/>
                    </a:lnTo>
                    <a:lnTo>
                      <a:pt x="309" y="147"/>
                    </a:lnTo>
                    <a:lnTo>
                      <a:pt x="318" y="175"/>
                    </a:lnTo>
                    <a:lnTo>
                      <a:pt x="325" y="204"/>
                    </a:lnTo>
                    <a:lnTo>
                      <a:pt x="330" y="235"/>
                    </a:lnTo>
                    <a:lnTo>
                      <a:pt x="335" y="268"/>
                    </a:lnTo>
                    <a:lnTo>
                      <a:pt x="337" y="300"/>
                    </a:lnTo>
                    <a:lnTo>
                      <a:pt x="338" y="334"/>
                    </a:lnTo>
                    <a:lnTo>
                      <a:pt x="338" y="348"/>
                    </a:lnTo>
                    <a:lnTo>
                      <a:pt x="337" y="363"/>
                    </a:lnTo>
                    <a:lnTo>
                      <a:pt x="337" y="376"/>
                    </a:lnTo>
                    <a:lnTo>
                      <a:pt x="336" y="390"/>
                    </a:lnTo>
                    <a:lnTo>
                      <a:pt x="333" y="361"/>
                    </a:lnTo>
                    <a:lnTo>
                      <a:pt x="328" y="332"/>
                    </a:lnTo>
                    <a:lnTo>
                      <a:pt x="322" y="305"/>
                    </a:lnTo>
                    <a:lnTo>
                      <a:pt x="316" y="279"/>
                    </a:lnTo>
                    <a:lnTo>
                      <a:pt x="308" y="255"/>
                    </a:lnTo>
                    <a:lnTo>
                      <a:pt x="300" y="231"/>
                    </a:lnTo>
                    <a:lnTo>
                      <a:pt x="290" y="210"/>
                    </a:lnTo>
                    <a:lnTo>
                      <a:pt x="279" y="190"/>
                    </a:lnTo>
                    <a:lnTo>
                      <a:pt x="267" y="172"/>
                    </a:lnTo>
                    <a:lnTo>
                      <a:pt x="256" y="156"/>
                    </a:lnTo>
                    <a:lnTo>
                      <a:pt x="242" y="143"/>
                    </a:lnTo>
                    <a:lnTo>
                      <a:pt x="229" y="132"/>
                    </a:lnTo>
                    <a:lnTo>
                      <a:pt x="222" y="127"/>
                    </a:lnTo>
                    <a:lnTo>
                      <a:pt x="215" y="122"/>
                    </a:lnTo>
                    <a:lnTo>
                      <a:pt x="207" y="119"/>
                    </a:lnTo>
                    <a:lnTo>
                      <a:pt x="200" y="116"/>
                    </a:lnTo>
                    <a:lnTo>
                      <a:pt x="192" y="113"/>
                    </a:lnTo>
                    <a:lnTo>
                      <a:pt x="184" y="111"/>
                    </a:lnTo>
                    <a:lnTo>
                      <a:pt x="178" y="110"/>
                    </a:lnTo>
                    <a:lnTo>
                      <a:pt x="170" y="110"/>
                    </a:lnTo>
                    <a:lnTo>
                      <a:pt x="162" y="110"/>
                    </a:lnTo>
                    <a:lnTo>
                      <a:pt x="154" y="111"/>
                    </a:lnTo>
                    <a:lnTo>
                      <a:pt x="146" y="113"/>
                    </a:lnTo>
                    <a:lnTo>
                      <a:pt x="139" y="116"/>
                    </a:lnTo>
                    <a:lnTo>
                      <a:pt x="131" y="119"/>
                    </a:lnTo>
                    <a:lnTo>
                      <a:pt x="124" y="122"/>
                    </a:lnTo>
                    <a:lnTo>
                      <a:pt x="116" y="127"/>
                    </a:lnTo>
                    <a:lnTo>
                      <a:pt x="110" y="132"/>
                    </a:lnTo>
                    <a:lnTo>
                      <a:pt x="96" y="143"/>
                    </a:lnTo>
                    <a:lnTo>
                      <a:pt x="84" y="156"/>
                    </a:lnTo>
                    <a:lnTo>
                      <a:pt x="71" y="172"/>
                    </a:lnTo>
                    <a:lnTo>
                      <a:pt x="60" y="190"/>
                    </a:lnTo>
                    <a:lnTo>
                      <a:pt x="49" y="210"/>
                    </a:lnTo>
                    <a:lnTo>
                      <a:pt x="39" y="231"/>
                    </a:lnTo>
                    <a:lnTo>
                      <a:pt x="30" y="255"/>
                    </a:lnTo>
                    <a:lnTo>
                      <a:pt x="22" y="279"/>
                    </a:lnTo>
                    <a:lnTo>
                      <a:pt x="16" y="305"/>
                    </a:lnTo>
                    <a:lnTo>
                      <a:pt x="10" y="332"/>
                    </a:lnTo>
                    <a:lnTo>
                      <a:pt x="5" y="361"/>
                    </a:lnTo>
                    <a:lnTo>
                      <a:pt x="2" y="390"/>
                    </a:lnTo>
                    <a:lnTo>
                      <a:pt x="2" y="376"/>
                    </a:lnTo>
                    <a:lnTo>
                      <a:pt x="1" y="363"/>
                    </a:lnTo>
                    <a:lnTo>
                      <a:pt x="1" y="348"/>
                    </a:lnTo>
                    <a:lnTo>
                      <a:pt x="0" y="334"/>
                    </a:lnTo>
                    <a:lnTo>
                      <a:pt x="1" y="300"/>
                    </a:lnTo>
                    <a:lnTo>
                      <a:pt x="3" y="268"/>
                    </a:lnTo>
                    <a:lnTo>
                      <a:pt x="8" y="235"/>
                    </a:lnTo>
                    <a:lnTo>
                      <a:pt x="13" y="204"/>
                    </a:lnTo>
                    <a:lnTo>
                      <a:pt x="20" y="175"/>
                    </a:lnTo>
                    <a:lnTo>
                      <a:pt x="29" y="147"/>
                    </a:lnTo>
                    <a:lnTo>
                      <a:pt x="39" y="121"/>
                    </a:lnTo>
                    <a:lnTo>
                      <a:pt x="50" y="98"/>
                    </a:lnTo>
                    <a:lnTo>
                      <a:pt x="62" y="76"/>
                    </a:lnTo>
                    <a:lnTo>
                      <a:pt x="75" y="57"/>
                    </a:lnTo>
                    <a:lnTo>
                      <a:pt x="81" y="49"/>
                    </a:lnTo>
                    <a:lnTo>
                      <a:pt x="89" y="40"/>
                    </a:lnTo>
                    <a:lnTo>
                      <a:pt x="96" y="33"/>
                    </a:lnTo>
                    <a:lnTo>
                      <a:pt x="104" y="26"/>
                    </a:lnTo>
                    <a:lnTo>
                      <a:pt x="111" y="20"/>
                    </a:lnTo>
                    <a:lnTo>
                      <a:pt x="119" y="15"/>
                    </a:lnTo>
                    <a:lnTo>
                      <a:pt x="127" y="10"/>
                    </a:lnTo>
                    <a:lnTo>
                      <a:pt x="136" y="7"/>
                    </a:lnTo>
                    <a:lnTo>
                      <a:pt x="144" y="3"/>
                    </a:lnTo>
                    <a:lnTo>
                      <a:pt x="152" y="1"/>
                    </a:lnTo>
                    <a:lnTo>
                      <a:pt x="161" y="0"/>
                    </a:lnTo>
                    <a:lnTo>
                      <a:pt x="1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1249560" y="597240"/>
                <a:ext cx="81720" cy="81720"/>
              </a:xfrm>
              <a:custGeom>
                <a:avLst/>
                <a:gdLst/>
                <a:ahLst/>
                <a:rect l="l" t="t" r="r" b="b"/>
                <a:pathLst>
                  <a:path w="129" h="129">
                    <a:moveTo>
                      <a:pt x="65" y="0"/>
                    </a:moveTo>
                    <a:lnTo>
                      <a:pt x="70" y="1"/>
                    </a:lnTo>
                    <a:lnTo>
                      <a:pt x="77" y="2"/>
                    </a:lnTo>
                    <a:lnTo>
                      <a:pt x="84" y="3"/>
                    </a:lnTo>
                    <a:lnTo>
                      <a:pt x="90" y="5"/>
                    </a:lnTo>
                    <a:lnTo>
                      <a:pt x="95" y="7"/>
                    </a:lnTo>
                    <a:lnTo>
                      <a:pt x="100" y="11"/>
                    </a:lnTo>
                    <a:lnTo>
                      <a:pt x="105" y="14"/>
                    </a:lnTo>
                    <a:lnTo>
                      <a:pt x="110" y="19"/>
                    </a:lnTo>
                    <a:lnTo>
                      <a:pt x="114" y="23"/>
                    </a:lnTo>
                    <a:lnTo>
                      <a:pt x="118" y="29"/>
                    </a:lnTo>
                    <a:lnTo>
                      <a:pt x="121" y="34"/>
                    </a:lnTo>
                    <a:lnTo>
                      <a:pt x="124" y="39"/>
                    </a:lnTo>
                    <a:lnTo>
                      <a:pt x="126" y="45"/>
                    </a:lnTo>
                    <a:lnTo>
                      <a:pt x="128" y="52"/>
                    </a:lnTo>
                    <a:lnTo>
                      <a:pt x="128" y="59"/>
                    </a:lnTo>
                    <a:lnTo>
                      <a:pt x="129" y="64"/>
                    </a:lnTo>
                    <a:lnTo>
                      <a:pt x="128" y="71"/>
                    </a:lnTo>
                    <a:lnTo>
                      <a:pt x="128" y="78"/>
                    </a:lnTo>
                    <a:lnTo>
                      <a:pt x="126" y="83"/>
                    </a:lnTo>
                    <a:lnTo>
                      <a:pt x="124" y="90"/>
                    </a:lnTo>
                    <a:lnTo>
                      <a:pt x="121" y="96"/>
                    </a:lnTo>
                    <a:lnTo>
                      <a:pt x="118" y="100"/>
                    </a:lnTo>
                    <a:lnTo>
                      <a:pt x="114" y="106"/>
                    </a:lnTo>
                    <a:lnTo>
                      <a:pt x="110" y="111"/>
                    </a:lnTo>
                    <a:lnTo>
                      <a:pt x="105" y="114"/>
                    </a:lnTo>
                    <a:lnTo>
                      <a:pt x="100" y="119"/>
                    </a:lnTo>
                    <a:lnTo>
                      <a:pt x="95" y="121"/>
                    </a:lnTo>
                    <a:lnTo>
                      <a:pt x="90" y="124"/>
                    </a:lnTo>
                    <a:lnTo>
                      <a:pt x="84" y="127"/>
                    </a:lnTo>
                    <a:lnTo>
                      <a:pt x="77" y="128"/>
                    </a:lnTo>
                    <a:lnTo>
                      <a:pt x="70" y="129"/>
                    </a:lnTo>
                    <a:lnTo>
                      <a:pt x="65" y="129"/>
                    </a:lnTo>
                    <a:lnTo>
                      <a:pt x="58" y="129"/>
                    </a:lnTo>
                    <a:lnTo>
                      <a:pt x="51" y="128"/>
                    </a:lnTo>
                    <a:lnTo>
                      <a:pt x="45" y="127"/>
                    </a:lnTo>
                    <a:lnTo>
                      <a:pt x="39" y="124"/>
                    </a:lnTo>
                    <a:lnTo>
                      <a:pt x="34" y="121"/>
                    </a:lnTo>
                    <a:lnTo>
                      <a:pt x="28" y="119"/>
                    </a:lnTo>
                    <a:lnTo>
                      <a:pt x="23" y="114"/>
                    </a:lnTo>
                    <a:lnTo>
                      <a:pt x="18" y="111"/>
                    </a:lnTo>
                    <a:lnTo>
                      <a:pt x="15" y="106"/>
                    </a:lnTo>
                    <a:lnTo>
                      <a:pt x="10" y="100"/>
                    </a:lnTo>
                    <a:lnTo>
                      <a:pt x="8" y="96"/>
                    </a:lnTo>
                    <a:lnTo>
                      <a:pt x="5" y="90"/>
                    </a:lnTo>
                    <a:lnTo>
                      <a:pt x="2" y="83"/>
                    </a:lnTo>
                    <a:lnTo>
                      <a:pt x="1" y="78"/>
                    </a:lnTo>
                    <a:lnTo>
                      <a:pt x="0" y="71"/>
                    </a:lnTo>
                    <a:lnTo>
                      <a:pt x="0" y="64"/>
                    </a:lnTo>
                    <a:lnTo>
                      <a:pt x="0" y="59"/>
                    </a:lnTo>
                    <a:lnTo>
                      <a:pt x="1" y="52"/>
                    </a:lnTo>
                    <a:lnTo>
                      <a:pt x="2" y="45"/>
                    </a:lnTo>
                    <a:lnTo>
                      <a:pt x="5" y="39"/>
                    </a:lnTo>
                    <a:lnTo>
                      <a:pt x="8" y="34"/>
                    </a:lnTo>
                    <a:lnTo>
                      <a:pt x="10" y="29"/>
                    </a:lnTo>
                    <a:lnTo>
                      <a:pt x="15" y="23"/>
                    </a:lnTo>
                    <a:lnTo>
                      <a:pt x="18" y="19"/>
                    </a:lnTo>
                    <a:lnTo>
                      <a:pt x="23" y="14"/>
                    </a:lnTo>
                    <a:lnTo>
                      <a:pt x="28" y="11"/>
                    </a:lnTo>
                    <a:lnTo>
                      <a:pt x="34" y="7"/>
                    </a:lnTo>
                    <a:lnTo>
                      <a:pt x="39"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801" name=""/>
              <p:cNvSpPr/>
              <p:nvPr/>
            </p:nvSpPr>
            <p:spPr>
              <a:xfrm>
                <a:off x="1048320" y="597240"/>
                <a:ext cx="81720" cy="81720"/>
              </a:xfrm>
              <a:custGeom>
                <a:avLst/>
                <a:gdLst/>
                <a:ahLst/>
                <a:rect l="l" t="t" r="r" b="b"/>
                <a:pathLst>
                  <a:path w="129" h="129">
                    <a:moveTo>
                      <a:pt x="65" y="0"/>
                    </a:moveTo>
                    <a:lnTo>
                      <a:pt x="71" y="1"/>
                    </a:lnTo>
                    <a:lnTo>
                      <a:pt x="77" y="2"/>
                    </a:lnTo>
                    <a:lnTo>
                      <a:pt x="84" y="3"/>
                    </a:lnTo>
                    <a:lnTo>
                      <a:pt x="90" y="5"/>
                    </a:lnTo>
                    <a:lnTo>
                      <a:pt x="95" y="7"/>
                    </a:lnTo>
                    <a:lnTo>
                      <a:pt x="101" y="11"/>
                    </a:lnTo>
                    <a:lnTo>
                      <a:pt x="105" y="14"/>
                    </a:lnTo>
                    <a:lnTo>
                      <a:pt x="110" y="19"/>
                    </a:lnTo>
                    <a:lnTo>
                      <a:pt x="114" y="23"/>
                    </a:lnTo>
                    <a:lnTo>
                      <a:pt x="118" y="29"/>
                    </a:lnTo>
                    <a:lnTo>
                      <a:pt x="121" y="34"/>
                    </a:lnTo>
                    <a:lnTo>
                      <a:pt x="124" y="39"/>
                    </a:lnTo>
                    <a:lnTo>
                      <a:pt x="126" y="45"/>
                    </a:lnTo>
                    <a:lnTo>
                      <a:pt x="128" y="52"/>
                    </a:lnTo>
                    <a:lnTo>
                      <a:pt x="128" y="59"/>
                    </a:lnTo>
                    <a:lnTo>
                      <a:pt x="129" y="64"/>
                    </a:lnTo>
                    <a:lnTo>
                      <a:pt x="128" y="71"/>
                    </a:lnTo>
                    <a:lnTo>
                      <a:pt x="128" y="78"/>
                    </a:lnTo>
                    <a:lnTo>
                      <a:pt x="126" y="83"/>
                    </a:lnTo>
                    <a:lnTo>
                      <a:pt x="124" y="90"/>
                    </a:lnTo>
                    <a:lnTo>
                      <a:pt x="121" y="96"/>
                    </a:lnTo>
                    <a:lnTo>
                      <a:pt x="118" y="100"/>
                    </a:lnTo>
                    <a:lnTo>
                      <a:pt x="114" y="106"/>
                    </a:lnTo>
                    <a:lnTo>
                      <a:pt x="110" y="111"/>
                    </a:lnTo>
                    <a:lnTo>
                      <a:pt x="105" y="114"/>
                    </a:lnTo>
                    <a:lnTo>
                      <a:pt x="101" y="119"/>
                    </a:lnTo>
                    <a:lnTo>
                      <a:pt x="95" y="121"/>
                    </a:lnTo>
                    <a:lnTo>
                      <a:pt x="90" y="124"/>
                    </a:lnTo>
                    <a:lnTo>
                      <a:pt x="84" y="127"/>
                    </a:lnTo>
                    <a:lnTo>
                      <a:pt x="77" y="128"/>
                    </a:lnTo>
                    <a:lnTo>
                      <a:pt x="71" y="129"/>
                    </a:lnTo>
                    <a:lnTo>
                      <a:pt x="65" y="129"/>
                    </a:lnTo>
                    <a:lnTo>
                      <a:pt x="58" y="129"/>
                    </a:lnTo>
                    <a:lnTo>
                      <a:pt x="51" y="128"/>
                    </a:lnTo>
                    <a:lnTo>
                      <a:pt x="45" y="127"/>
                    </a:lnTo>
                    <a:lnTo>
                      <a:pt x="40" y="124"/>
                    </a:lnTo>
                    <a:lnTo>
                      <a:pt x="34" y="121"/>
                    </a:lnTo>
                    <a:lnTo>
                      <a:pt x="28" y="119"/>
                    </a:lnTo>
                    <a:lnTo>
                      <a:pt x="23" y="114"/>
                    </a:lnTo>
                    <a:lnTo>
                      <a:pt x="18" y="111"/>
                    </a:lnTo>
                    <a:lnTo>
                      <a:pt x="15" y="106"/>
                    </a:lnTo>
                    <a:lnTo>
                      <a:pt x="10" y="100"/>
                    </a:lnTo>
                    <a:lnTo>
                      <a:pt x="8" y="96"/>
                    </a:lnTo>
                    <a:lnTo>
                      <a:pt x="5" y="90"/>
                    </a:lnTo>
                    <a:lnTo>
                      <a:pt x="2" y="83"/>
                    </a:lnTo>
                    <a:lnTo>
                      <a:pt x="1" y="78"/>
                    </a:lnTo>
                    <a:lnTo>
                      <a:pt x="0" y="71"/>
                    </a:lnTo>
                    <a:lnTo>
                      <a:pt x="0" y="64"/>
                    </a:lnTo>
                    <a:lnTo>
                      <a:pt x="0" y="59"/>
                    </a:lnTo>
                    <a:lnTo>
                      <a:pt x="1" y="52"/>
                    </a:lnTo>
                    <a:lnTo>
                      <a:pt x="2" y="45"/>
                    </a:lnTo>
                    <a:lnTo>
                      <a:pt x="5" y="39"/>
                    </a:lnTo>
                    <a:lnTo>
                      <a:pt x="8" y="34"/>
                    </a:lnTo>
                    <a:lnTo>
                      <a:pt x="10" y="29"/>
                    </a:lnTo>
                    <a:lnTo>
                      <a:pt x="15" y="23"/>
                    </a:lnTo>
                    <a:lnTo>
                      <a:pt x="18" y="19"/>
                    </a:lnTo>
                    <a:lnTo>
                      <a:pt x="23" y="14"/>
                    </a:lnTo>
                    <a:lnTo>
                      <a:pt x="28" y="11"/>
                    </a:lnTo>
                    <a:lnTo>
                      <a:pt x="34" y="7"/>
                    </a:lnTo>
                    <a:lnTo>
                      <a:pt x="40" y="5"/>
                    </a:lnTo>
                    <a:lnTo>
                      <a:pt x="45" y="3"/>
                    </a:lnTo>
                    <a:lnTo>
                      <a:pt x="51" y="2"/>
                    </a:lnTo>
                    <a:lnTo>
                      <a:pt x="58" y="1"/>
                    </a:lnTo>
                    <a:lnTo>
                      <a:pt x="65" y="0"/>
                    </a:lnTo>
                    <a:close/>
                  </a:path>
                </a:pathLst>
              </a:custGeom>
              <a:solidFill>
                <a:srgbClr val="1f1a17"/>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802" name=""/>
              <p:cNvSpPr/>
              <p:nvPr/>
            </p:nvSpPr>
            <p:spPr>
              <a:xfrm>
                <a:off x="396360" y="469080"/>
                <a:ext cx="360360" cy="247320"/>
              </a:xfrm>
              <a:custGeom>
                <a:avLst/>
                <a:gdLst/>
                <a:ahLst/>
                <a:rect l="l" t="t" r="r" b="b"/>
                <a:pathLst>
                  <a:path w="568" h="390">
                    <a:moveTo>
                      <a:pt x="420" y="0"/>
                    </a:moveTo>
                    <a:lnTo>
                      <a:pt x="428" y="1"/>
                    </a:lnTo>
                    <a:lnTo>
                      <a:pt x="436" y="2"/>
                    </a:lnTo>
                    <a:lnTo>
                      <a:pt x="443" y="4"/>
                    </a:lnTo>
                    <a:lnTo>
                      <a:pt x="450" y="7"/>
                    </a:lnTo>
                    <a:lnTo>
                      <a:pt x="458" y="11"/>
                    </a:lnTo>
                    <a:lnTo>
                      <a:pt x="464" y="14"/>
                    </a:lnTo>
                    <a:lnTo>
                      <a:pt x="471" y="20"/>
                    </a:lnTo>
                    <a:lnTo>
                      <a:pt x="478" y="26"/>
                    </a:lnTo>
                    <a:lnTo>
                      <a:pt x="491" y="41"/>
                    </a:lnTo>
                    <a:lnTo>
                      <a:pt x="503" y="58"/>
                    </a:lnTo>
                    <a:lnTo>
                      <a:pt x="514" y="77"/>
                    </a:lnTo>
                    <a:lnTo>
                      <a:pt x="524" y="98"/>
                    </a:lnTo>
                    <a:lnTo>
                      <a:pt x="534" y="122"/>
                    </a:lnTo>
                    <a:lnTo>
                      <a:pt x="543" y="148"/>
                    </a:lnTo>
                    <a:lnTo>
                      <a:pt x="549" y="175"/>
                    </a:lnTo>
                    <a:lnTo>
                      <a:pt x="556" y="205"/>
                    </a:lnTo>
                    <a:lnTo>
                      <a:pt x="561" y="236"/>
                    </a:lnTo>
                    <a:lnTo>
                      <a:pt x="565" y="267"/>
                    </a:lnTo>
                    <a:lnTo>
                      <a:pt x="566" y="300"/>
                    </a:lnTo>
                    <a:lnTo>
                      <a:pt x="568" y="334"/>
                    </a:lnTo>
                    <a:lnTo>
                      <a:pt x="568" y="349"/>
                    </a:lnTo>
                    <a:lnTo>
                      <a:pt x="568" y="363"/>
                    </a:lnTo>
                    <a:lnTo>
                      <a:pt x="566" y="376"/>
                    </a:lnTo>
                    <a:lnTo>
                      <a:pt x="565" y="390"/>
                    </a:lnTo>
                    <a:lnTo>
                      <a:pt x="563" y="360"/>
                    </a:lnTo>
                    <a:lnTo>
                      <a:pt x="560" y="332"/>
                    </a:lnTo>
                    <a:lnTo>
                      <a:pt x="554" y="306"/>
                    </a:lnTo>
                    <a:lnTo>
                      <a:pt x="548" y="280"/>
                    </a:lnTo>
                    <a:lnTo>
                      <a:pt x="541" y="255"/>
                    </a:lnTo>
                    <a:lnTo>
                      <a:pt x="534" y="232"/>
                    </a:lnTo>
                    <a:lnTo>
                      <a:pt x="526" y="211"/>
                    </a:lnTo>
                    <a:lnTo>
                      <a:pt x="517" y="190"/>
                    </a:lnTo>
                    <a:lnTo>
                      <a:pt x="506" y="173"/>
                    </a:lnTo>
                    <a:lnTo>
                      <a:pt x="495" y="157"/>
                    </a:lnTo>
                    <a:lnTo>
                      <a:pt x="484" y="144"/>
                    </a:lnTo>
                    <a:lnTo>
                      <a:pt x="472" y="131"/>
                    </a:lnTo>
                    <a:lnTo>
                      <a:pt x="467" y="127"/>
                    </a:lnTo>
                    <a:lnTo>
                      <a:pt x="460" y="122"/>
                    </a:lnTo>
                    <a:lnTo>
                      <a:pt x="453" y="119"/>
                    </a:lnTo>
                    <a:lnTo>
                      <a:pt x="448" y="115"/>
                    </a:lnTo>
                    <a:lnTo>
                      <a:pt x="441" y="113"/>
                    </a:lnTo>
                    <a:lnTo>
                      <a:pt x="434" y="112"/>
                    </a:lnTo>
                    <a:lnTo>
                      <a:pt x="427" y="111"/>
                    </a:lnTo>
                    <a:lnTo>
                      <a:pt x="420" y="111"/>
                    </a:lnTo>
                    <a:lnTo>
                      <a:pt x="414" y="111"/>
                    </a:lnTo>
                    <a:lnTo>
                      <a:pt x="406" y="112"/>
                    </a:lnTo>
                    <a:lnTo>
                      <a:pt x="398" y="114"/>
                    </a:lnTo>
                    <a:lnTo>
                      <a:pt x="391" y="118"/>
                    </a:lnTo>
                    <a:lnTo>
                      <a:pt x="384" y="121"/>
                    </a:lnTo>
                    <a:lnTo>
                      <a:pt x="376" y="126"/>
                    </a:lnTo>
                    <a:lnTo>
                      <a:pt x="369" y="131"/>
                    </a:lnTo>
                    <a:lnTo>
                      <a:pt x="363" y="137"/>
                    </a:lnTo>
                    <a:lnTo>
                      <a:pt x="357" y="144"/>
                    </a:lnTo>
                    <a:lnTo>
                      <a:pt x="350" y="152"/>
                    </a:lnTo>
                    <a:lnTo>
                      <a:pt x="343" y="160"/>
                    </a:lnTo>
                    <a:lnTo>
                      <a:pt x="338" y="169"/>
                    </a:lnTo>
                    <a:lnTo>
                      <a:pt x="326" y="188"/>
                    </a:lnTo>
                    <a:lnTo>
                      <a:pt x="316" y="211"/>
                    </a:lnTo>
                    <a:lnTo>
                      <a:pt x="323" y="215"/>
                    </a:lnTo>
                    <a:lnTo>
                      <a:pt x="330" y="221"/>
                    </a:lnTo>
                    <a:lnTo>
                      <a:pt x="335" y="226"/>
                    </a:lnTo>
                    <a:lnTo>
                      <a:pt x="340" y="233"/>
                    </a:lnTo>
                    <a:lnTo>
                      <a:pt x="343" y="241"/>
                    </a:lnTo>
                    <a:lnTo>
                      <a:pt x="347" y="249"/>
                    </a:lnTo>
                    <a:lnTo>
                      <a:pt x="348" y="258"/>
                    </a:lnTo>
                    <a:lnTo>
                      <a:pt x="349" y="266"/>
                    </a:lnTo>
                    <a:lnTo>
                      <a:pt x="348" y="273"/>
                    </a:lnTo>
                    <a:lnTo>
                      <a:pt x="348" y="280"/>
                    </a:lnTo>
                    <a:lnTo>
                      <a:pt x="346" y="285"/>
                    </a:lnTo>
                    <a:lnTo>
                      <a:pt x="343" y="292"/>
                    </a:lnTo>
                    <a:lnTo>
                      <a:pt x="341" y="298"/>
                    </a:lnTo>
                    <a:lnTo>
                      <a:pt x="338" y="302"/>
                    </a:lnTo>
                    <a:lnTo>
                      <a:pt x="334" y="308"/>
                    </a:lnTo>
                    <a:lnTo>
                      <a:pt x="330" y="313"/>
                    </a:lnTo>
                    <a:lnTo>
                      <a:pt x="325" y="316"/>
                    </a:lnTo>
                    <a:lnTo>
                      <a:pt x="321" y="321"/>
                    </a:lnTo>
                    <a:lnTo>
                      <a:pt x="315" y="323"/>
                    </a:lnTo>
                    <a:lnTo>
                      <a:pt x="309" y="326"/>
                    </a:lnTo>
                    <a:lnTo>
                      <a:pt x="304" y="329"/>
                    </a:lnTo>
                    <a:lnTo>
                      <a:pt x="297" y="330"/>
                    </a:lnTo>
                    <a:lnTo>
                      <a:pt x="291" y="331"/>
                    </a:lnTo>
                    <a:lnTo>
                      <a:pt x="284" y="331"/>
                    </a:lnTo>
                    <a:lnTo>
                      <a:pt x="278" y="331"/>
                    </a:lnTo>
                    <a:lnTo>
                      <a:pt x="271" y="330"/>
                    </a:lnTo>
                    <a:lnTo>
                      <a:pt x="265" y="329"/>
                    </a:lnTo>
                    <a:lnTo>
                      <a:pt x="260" y="326"/>
                    </a:lnTo>
                    <a:lnTo>
                      <a:pt x="254" y="323"/>
                    </a:lnTo>
                    <a:lnTo>
                      <a:pt x="248" y="321"/>
                    </a:lnTo>
                    <a:lnTo>
                      <a:pt x="243" y="316"/>
                    </a:lnTo>
                    <a:lnTo>
                      <a:pt x="238" y="313"/>
                    </a:lnTo>
                    <a:lnTo>
                      <a:pt x="235" y="308"/>
                    </a:lnTo>
                    <a:lnTo>
                      <a:pt x="230" y="302"/>
                    </a:lnTo>
                    <a:lnTo>
                      <a:pt x="228" y="298"/>
                    </a:lnTo>
                    <a:lnTo>
                      <a:pt x="224" y="292"/>
                    </a:lnTo>
                    <a:lnTo>
                      <a:pt x="222" y="285"/>
                    </a:lnTo>
                    <a:lnTo>
                      <a:pt x="221" y="280"/>
                    </a:lnTo>
                    <a:lnTo>
                      <a:pt x="220" y="273"/>
                    </a:lnTo>
                    <a:lnTo>
                      <a:pt x="220" y="266"/>
                    </a:lnTo>
                    <a:lnTo>
                      <a:pt x="220" y="258"/>
                    </a:lnTo>
                    <a:lnTo>
                      <a:pt x="222" y="249"/>
                    </a:lnTo>
                    <a:lnTo>
                      <a:pt x="224" y="241"/>
                    </a:lnTo>
                    <a:lnTo>
                      <a:pt x="229" y="233"/>
                    </a:lnTo>
                    <a:lnTo>
                      <a:pt x="234" y="226"/>
                    </a:lnTo>
                    <a:lnTo>
                      <a:pt x="239" y="221"/>
                    </a:lnTo>
                    <a:lnTo>
                      <a:pt x="245" y="215"/>
                    </a:lnTo>
                    <a:lnTo>
                      <a:pt x="253" y="211"/>
                    </a:lnTo>
                    <a:lnTo>
                      <a:pt x="241" y="188"/>
                    </a:lnTo>
                    <a:lnTo>
                      <a:pt x="230" y="169"/>
                    </a:lnTo>
                    <a:lnTo>
                      <a:pt x="224" y="160"/>
                    </a:lnTo>
                    <a:lnTo>
                      <a:pt x="219" y="152"/>
                    </a:lnTo>
                    <a:lnTo>
                      <a:pt x="212" y="144"/>
                    </a:lnTo>
                    <a:lnTo>
                      <a:pt x="205" y="137"/>
                    </a:lnTo>
                    <a:lnTo>
                      <a:pt x="198" y="131"/>
                    </a:lnTo>
                    <a:lnTo>
                      <a:pt x="192" y="126"/>
                    </a:lnTo>
                    <a:lnTo>
                      <a:pt x="185" y="121"/>
                    </a:lnTo>
                    <a:lnTo>
                      <a:pt x="178" y="118"/>
                    </a:lnTo>
                    <a:lnTo>
                      <a:pt x="170" y="114"/>
                    </a:lnTo>
                    <a:lnTo>
                      <a:pt x="163" y="112"/>
                    </a:lnTo>
                    <a:lnTo>
                      <a:pt x="155" y="111"/>
                    </a:lnTo>
                    <a:lnTo>
                      <a:pt x="148" y="111"/>
                    </a:lnTo>
                    <a:lnTo>
                      <a:pt x="141" y="111"/>
                    </a:lnTo>
                    <a:lnTo>
                      <a:pt x="134" y="112"/>
                    </a:lnTo>
                    <a:lnTo>
                      <a:pt x="127" y="113"/>
                    </a:lnTo>
                    <a:lnTo>
                      <a:pt x="121" y="115"/>
                    </a:lnTo>
                    <a:lnTo>
                      <a:pt x="115" y="119"/>
                    </a:lnTo>
                    <a:lnTo>
                      <a:pt x="108" y="122"/>
                    </a:lnTo>
                    <a:lnTo>
                      <a:pt x="102" y="127"/>
                    </a:lnTo>
                    <a:lnTo>
                      <a:pt x="95" y="131"/>
                    </a:lnTo>
                    <a:lnTo>
                      <a:pt x="84" y="144"/>
                    </a:lnTo>
                    <a:lnTo>
                      <a:pt x="73" y="157"/>
                    </a:lnTo>
                    <a:lnTo>
                      <a:pt x="63" y="173"/>
                    </a:lnTo>
                    <a:lnTo>
                      <a:pt x="52" y="190"/>
                    </a:lnTo>
                    <a:lnTo>
                      <a:pt x="43" y="211"/>
                    </a:lnTo>
                    <a:lnTo>
                      <a:pt x="34" y="232"/>
                    </a:lnTo>
                    <a:lnTo>
                      <a:pt x="26" y="255"/>
                    </a:lnTo>
                    <a:lnTo>
                      <a:pt x="20" y="280"/>
                    </a:lnTo>
                    <a:lnTo>
                      <a:pt x="14" y="306"/>
                    </a:lnTo>
                    <a:lnTo>
                      <a:pt x="9" y="332"/>
                    </a:lnTo>
                    <a:lnTo>
                      <a:pt x="6" y="360"/>
                    </a:lnTo>
                    <a:lnTo>
                      <a:pt x="3" y="390"/>
                    </a:lnTo>
                    <a:lnTo>
                      <a:pt x="1" y="376"/>
                    </a:lnTo>
                    <a:lnTo>
                      <a:pt x="1" y="363"/>
                    </a:lnTo>
                    <a:lnTo>
                      <a:pt x="0" y="349"/>
                    </a:lnTo>
                    <a:lnTo>
                      <a:pt x="0" y="334"/>
                    </a:lnTo>
                    <a:lnTo>
                      <a:pt x="1" y="300"/>
                    </a:lnTo>
                    <a:lnTo>
                      <a:pt x="4" y="267"/>
                    </a:lnTo>
                    <a:lnTo>
                      <a:pt x="7" y="236"/>
                    </a:lnTo>
                    <a:lnTo>
                      <a:pt x="13" y="205"/>
                    </a:lnTo>
                    <a:lnTo>
                      <a:pt x="18" y="175"/>
                    </a:lnTo>
                    <a:lnTo>
                      <a:pt x="26" y="148"/>
                    </a:lnTo>
                    <a:lnTo>
                      <a:pt x="34" y="122"/>
                    </a:lnTo>
                    <a:lnTo>
                      <a:pt x="43" y="98"/>
                    </a:lnTo>
                    <a:lnTo>
                      <a:pt x="55" y="77"/>
                    </a:lnTo>
                    <a:lnTo>
                      <a:pt x="66" y="58"/>
                    </a:lnTo>
                    <a:lnTo>
                      <a:pt x="77" y="41"/>
                    </a:lnTo>
                    <a:lnTo>
                      <a:pt x="91" y="26"/>
                    </a:lnTo>
                    <a:lnTo>
                      <a:pt x="98" y="20"/>
                    </a:lnTo>
                    <a:lnTo>
                      <a:pt x="104" y="14"/>
                    </a:lnTo>
                    <a:lnTo>
                      <a:pt x="111" y="11"/>
                    </a:lnTo>
                    <a:lnTo>
                      <a:pt x="118" y="7"/>
                    </a:lnTo>
                    <a:lnTo>
                      <a:pt x="125" y="4"/>
                    </a:lnTo>
                    <a:lnTo>
                      <a:pt x="133" y="2"/>
                    </a:lnTo>
                    <a:lnTo>
                      <a:pt x="140" y="1"/>
                    </a:lnTo>
                    <a:lnTo>
                      <a:pt x="148" y="0"/>
                    </a:lnTo>
                    <a:lnTo>
                      <a:pt x="159" y="1"/>
                    </a:lnTo>
                    <a:lnTo>
                      <a:pt x="170" y="4"/>
                    </a:lnTo>
                    <a:lnTo>
                      <a:pt x="180" y="9"/>
                    </a:lnTo>
                    <a:lnTo>
                      <a:pt x="192" y="14"/>
                    </a:lnTo>
                    <a:lnTo>
                      <a:pt x="202" y="22"/>
                    </a:lnTo>
                    <a:lnTo>
                      <a:pt x="211" y="33"/>
                    </a:lnTo>
                    <a:lnTo>
                      <a:pt x="221" y="44"/>
                    </a:lnTo>
                    <a:lnTo>
                      <a:pt x="230" y="56"/>
                    </a:lnTo>
                    <a:lnTo>
                      <a:pt x="238" y="70"/>
                    </a:lnTo>
                    <a:lnTo>
                      <a:pt x="246" y="86"/>
                    </a:lnTo>
                    <a:lnTo>
                      <a:pt x="254" y="102"/>
                    </a:lnTo>
                    <a:lnTo>
                      <a:pt x="262" y="120"/>
                    </a:lnTo>
                    <a:lnTo>
                      <a:pt x="268" y="139"/>
                    </a:lnTo>
                    <a:lnTo>
                      <a:pt x="274" y="158"/>
                    </a:lnTo>
                    <a:lnTo>
                      <a:pt x="279" y="180"/>
                    </a:lnTo>
                    <a:lnTo>
                      <a:pt x="283" y="202"/>
                    </a:lnTo>
                    <a:lnTo>
                      <a:pt x="284" y="202"/>
                    </a:lnTo>
                    <a:lnTo>
                      <a:pt x="286" y="202"/>
                    </a:lnTo>
                    <a:lnTo>
                      <a:pt x="290" y="180"/>
                    </a:lnTo>
                    <a:lnTo>
                      <a:pt x="295" y="158"/>
                    </a:lnTo>
                    <a:lnTo>
                      <a:pt x="300" y="139"/>
                    </a:lnTo>
                    <a:lnTo>
                      <a:pt x="307" y="120"/>
                    </a:lnTo>
                    <a:lnTo>
                      <a:pt x="314" y="102"/>
                    </a:lnTo>
                    <a:lnTo>
                      <a:pt x="322" y="86"/>
                    </a:lnTo>
                    <a:lnTo>
                      <a:pt x="330" y="70"/>
                    </a:lnTo>
                    <a:lnTo>
                      <a:pt x="339" y="56"/>
                    </a:lnTo>
                    <a:lnTo>
                      <a:pt x="348" y="44"/>
                    </a:lnTo>
                    <a:lnTo>
                      <a:pt x="357" y="33"/>
                    </a:lnTo>
                    <a:lnTo>
                      <a:pt x="367" y="22"/>
                    </a:lnTo>
                    <a:lnTo>
                      <a:pt x="377" y="14"/>
                    </a:lnTo>
                    <a:lnTo>
                      <a:pt x="388" y="9"/>
                    </a:lnTo>
                    <a:lnTo>
                      <a:pt x="399" y="4"/>
                    </a:lnTo>
                    <a:lnTo>
                      <a:pt x="409" y="1"/>
                    </a:lnTo>
                    <a:lnTo>
                      <a:pt x="4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22680" y="452520"/>
                <a:ext cx="333360" cy="140760"/>
              </a:xfrm>
              <a:custGeom>
                <a:avLst/>
                <a:gdLst/>
                <a:ahLst/>
                <a:rect l="l" t="t" r="r" b="b"/>
                <a:pathLst>
                  <a:path w="525" h="222">
                    <a:moveTo>
                      <a:pt x="263" y="222"/>
                    </a:moveTo>
                    <a:lnTo>
                      <a:pt x="259" y="222"/>
                    </a:lnTo>
                    <a:lnTo>
                      <a:pt x="255" y="221"/>
                    </a:lnTo>
                    <a:lnTo>
                      <a:pt x="251" y="220"/>
                    </a:lnTo>
                    <a:lnTo>
                      <a:pt x="248" y="217"/>
                    </a:lnTo>
                    <a:lnTo>
                      <a:pt x="243" y="213"/>
                    </a:lnTo>
                    <a:lnTo>
                      <a:pt x="239" y="207"/>
                    </a:lnTo>
                    <a:lnTo>
                      <a:pt x="234" y="199"/>
                    </a:lnTo>
                    <a:lnTo>
                      <a:pt x="229" y="189"/>
                    </a:lnTo>
                    <a:lnTo>
                      <a:pt x="221" y="166"/>
                    </a:lnTo>
                    <a:lnTo>
                      <a:pt x="213" y="147"/>
                    </a:lnTo>
                    <a:lnTo>
                      <a:pt x="203" y="130"/>
                    </a:lnTo>
                    <a:lnTo>
                      <a:pt x="192" y="114"/>
                    </a:lnTo>
                    <a:lnTo>
                      <a:pt x="181" y="101"/>
                    </a:lnTo>
                    <a:lnTo>
                      <a:pt x="170" y="89"/>
                    </a:lnTo>
                    <a:lnTo>
                      <a:pt x="156" y="79"/>
                    </a:lnTo>
                    <a:lnTo>
                      <a:pt x="143" y="70"/>
                    </a:lnTo>
                    <a:lnTo>
                      <a:pt x="128" y="62"/>
                    </a:lnTo>
                    <a:lnTo>
                      <a:pt x="113" y="55"/>
                    </a:lnTo>
                    <a:lnTo>
                      <a:pt x="96" y="50"/>
                    </a:lnTo>
                    <a:lnTo>
                      <a:pt x="79" y="44"/>
                    </a:lnTo>
                    <a:lnTo>
                      <a:pt x="42" y="33"/>
                    </a:lnTo>
                    <a:lnTo>
                      <a:pt x="0" y="20"/>
                    </a:lnTo>
                    <a:lnTo>
                      <a:pt x="9" y="14"/>
                    </a:lnTo>
                    <a:lnTo>
                      <a:pt x="19" y="11"/>
                    </a:lnTo>
                    <a:lnTo>
                      <a:pt x="29" y="8"/>
                    </a:lnTo>
                    <a:lnTo>
                      <a:pt x="40" y="4"/>
                    </a:lnTo>
                    <a:lnTo>
                      <a:pt x="50" y="2"/>
                    </a:lnTo>
                    <a:lnTo>
                      <a:pt x="60" y="1"/>
                    </a:lnTo>
                    <a:lnTo>
                      <a:pt x="71" y="0"/>
                    </a:lnTo>
                    <a:lnTo>
                      <a:pt x="82" y="0"/>
                    </a:lnTo>
                    <a:lnTo>
                      <a:pt x="104" y="1"/>
                    </a:lnTo>
                    <a:lnTo>
                      <a:pt x="126" y="4"/>
                    </a:lnTo>
                    <a:lnTo>
                      <a:pt x="147" y="9"/>
                    </a:lnTo>
                    <a:lnTo>
                      <a:pt x="168" y="17"/>
                    </a:lnTo>
                    <a:lnTo>
                      <a:pt x="187" y="26"/>
                    </a:lnTo>
                    <a:lnTo>
                      <a:pt x="205" y="36"/>
                    </a:lnTo>
                    <a:lnTo>
                      <a:pt x="213" y="42"/>
                    </a:lnTo>
                    <a:lnTo>
                      <a:pt x="221" y="48"/>
                    </a:lnTo>
                    <a:lnTo>
                      <a:pt x="228" y="55"/>
                    </a:lnTo>
                    <a:lnTo>
                      <a:pt x="234" y="62"/>
                    </a:lnTo>
                    <a:lnTo>
                      <a:pt x="241" y="69"/>
                    </a:lnTo>
                    <a:lnTo>
                      <a:pt x="246" y="77"/>
                    </a:lnTo>
                    <a:lnTo>
                      <a:pt x="251" y="85"/>
                    </a:lnTo>
                    <a:lnTo>
                      <a:pt x="255" y="93"/>
                    </a:lnTo>
                    <a:lnTo>
                      <a:pt x="258" y="101"/>
                    </a:lnTo>
                    <a:lnTo>
                      <a:pt x="260" y="110"/>
                    </a:lnTo>
                    <a:lnTo>
                      <a:pt x="262" y="119"/>
                    </a:lnTo>
                    <a:lnTo>
                      <a:pt x="262" y="128"/>
                    </a:lnTo>
                    <a:lnTo>
                      <a:pt x="263" y="128"/>
                    </a:lnTo>
                    <a:lnTo>
                      <a:pt x="263" y="128"/>
                    </a:lnTo>
                    <a:lnTo>
                      <a:pt x="263" y="129"/>
                    </a:lnTo>
                    <a:lnTo>
                      <a:pt x="263" y="128"/>
                    </a:lnTo>
                    <a:lnTo>
                      <a:pt x="263" y="128"/>
                    </a:lnTo>
                    <a:lnTo>
                      <a:pt x="264" y="128"/>
                    </a:lnTo>
                    <a:lnTo>
                      <a:pt x="264" y="119"/>
                    </a:lnTo>
                    <a:lnTo>
                      <a:pt x="265" y="110"/>
                    </a:lnTo>
                    <a:lnTo>
                      <a:pt x="267" y="101"/>
                    </a:lnTo>
                    <a:lnTo>
                      <a:pt x="271" y="93"/>
                    </a:lnTo>
                    <a:lnTo>
                      <a:pt x="275" y="85"/>
                    </a:lnTo>
                    <a:lnTo>
                      <a:pt x="280" y="77"/>
                    </a:lnTo>
                    <a:lnTo>
                      <a:pt x="284" y="69"/>
                    </a:lnTo>
                    <a:lnTo>
                      <a:pt x="291" y="62"/>
                    </a:lnTo>
                    <a:lnTo>
                      <a:pt x="298" y="55"/>
                    </a:lnTo>
                    <a:lnTo>
                      <a:pt x="305" y="48"/>
                    </a:lnTo>
                    <a:lnTo>
                      <a:pt x="312" y="42"/>
                    </a:lnTo>
                    <a:lnTo>
                      <a:pt x="320" y="36"/>
                    </a:lnTo>
                    <a:lnTo>
                      <a:pt x="339" y="26"/>
                    </a:lnTo>
                    <a:lnTo>
                      <a:pt x="358" y="17"/>
                    </a:lnTo>
                    <a:lnTo>
                      <a:pt x="378" y="9"/>
                    </a:lnTo>
                    <a:lnTo>
                      <a:pt x="400" y="4"/>
                    </a:lnTo>
                    <a:lnTo>
                      <a:pt x="421" y="1"/>
                    </a:lnTo>
                    <a:lnTo>
                      <a:pt x="444" y="0"/>
                    </a:lnTo>
                    <a:lnTo>
                      <a:pt x="454" y="0"/>
                    </a:lnTo>
                    <a:lnTo>
                      <a:pt x="465" y="1"/>
                    </a:lnTo>
                    <a:lnTo>
                      <a:pt x="475" y="2"/>
                    </a:lnTo>
                    <a:lnTo>
                      <a:pt x="487" y="4"/>
                    </a:lnTo>
                    <a:lnTo>
                      <a:pt x="497" y="8"/>
                    </a:lnTo>
                    <a:lnTo>
                      <a:pt x="506" y="11"/>
                    </a:lnTo>
                    <a:lnTo>
                      <a:pt x="516" y="14"/>
                    </a:lnTo>
                    <a:lnTo>
                      <a:pt x="525" y="20"/>
                    </a:lnTo>
                    <a:lnTo>
                      <a:pt x="483" y="33"/>
                    </a:lnTo>
                    <a:lnTo>
                      <a:pt x="446" y="44"/>
                    </a:lnTo>
                    <a:lnTo>
                      <a:pt x="429" y="50"/>
                    </a:lnTo>
                    <a:lnTo>
                      <a:pt x="412" y="55"/>
                    </a:lnTo>
                    <a:lnTo>
                      <a:pt x="397" y="62"/>
                    </a:lnTo>
                    <a:lnTo>
                      <a:pt x="383" y="70"/>
                    </a:lnTo>
                    <a:lnTo>
                      <a:pt x="369" y="79"/>
                    </a:lnTo>
                    <a:lnTo>
                      <a:pt x="357" y="89"/>
                    </a:lnTo>
                    <a:lnTo>
                      <a:pt x="344" y="101"/>
                    </a:lnTo>
                    <a:lnTo>
                      <a:pt x="333" y="114"/>
                    </a:lnTo>
                    <a:lnTo>
                      <a:pt x="323" y="130"/>
                    </a:lnTo>
                    <a:lnTo>
                      <a:pt x="314" y="147"/>
                    </a:lnTo>
                    <a:lnTo>
                      <a:pt x="305" y="166"/>
                    </a:lnTo>
                    <a:lnTo>
                      <a:pt x="297" y="189"/>
                    </a:lnTo>
                    <a:lnTo>
                      <a:pt x="291" y="199"/>
                    </a:lnTo>
                    <a:lnTo>
                      <a:pt x="286" y="207"/>
                    </a:lnTo>
                    <a:lnTo>
                      <a:pt x="282" y="213"/>
                    </a:lnTo>
                    <a:lnTo>
                      <a:pt x="277" y="217"/>
                    </a:lnTo>
                    <a:lnTo>
                      <a:pt x="274" y="220"/>
                    </a:lnTo>
                    <a:lnTo>
                      <a:pt x="271" y="221"/>
                    </a:lnTo>
                    <a:lnTo>
                      <a:pt x="267" y="222"/>
                    </a:lnTo>
                    <a:lnTo>
                      <a:pt x="263"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47080" y="590040"/>
                <a:ext cx="81720" cy="82080"/>
              </a:xfrm>
              <a:custGeom>
                <a:avLst/>
                <a:gdLst/>
                <a:ahLst/>
                <a:rect l="l" t="t" r="r" b="b"/>
                <a:pathLst>
                  <a:path w="129" h="130">
                    <a:moveTo>
                      <a:pt x="65" y="0"/>
                    </a:moveTo>
                    <a:lnTo>
                      <a:pt x="71" y="1"/>
                    </a:lnTo>
                    <a:lnTo>
                      <a:pt x="77" y="1"/>
                    </a:lnTo>
                    <a:lnTo>
                      <a:pt x="84" y="4"/>
                    </a:lnTo>
                    <a:lnTo>
                      <a:pt x="90" y="6"/>
                    </a:lnTo>
                    <a:lnTo>
                      <a:pt x="95" y="8"/>
                    </a:lnTo>
                    <a:lnTo>
                      <a:pt x="101" y="12"/>
                    </a:lnTo>
                    <a:lnTo>
                      <a:pt x="105" y="15"/>
                    </a:lnTo>
                    <a:lnTo>
                      <a:pt x="110" y="20"/>
                    </a:lnTo>
                    <a:lnTo>
                      <a:pt x="114" y="24"/>
                    </a:lnTo>
                    <a:lnTo>
                      <a:pt x="118" y="29"/>
                    </a:lnTo>
                    <a:lnTo>
                      <a:pt x="121" y="34"/>
                    </a:lnTo>
                    <a:lnTo>
                      <a:pt x="124" y="40"/>
                    </a:lnTo>
                    <a:lnTo>
                      <a:pt x="126" y="46"/>
                    </a:lnTo>
                    <a:lnTo>
                      <a:pt x="128" y="52"/>
                    </a:lnTo>
                    <a:lnTo>
                      <a:pt x="129" y="58"/>
                    </a:lnTo>
                    <a:lnTo>
                      <a:pt x="129" y="65"/>
                    </a:lnTo>
                    <a:lnTo>
                      <a:pt x="129" y="72"/>
                    </a:lnTo>
                    <a:lnTo>
                      <a:pt x="128" y="79"/>
                    </a:lnTo>
                    <a:lnTo>
                      <a:pt x="126" y="84"/>
                    </a:lnTo>
                    <a:lnTo>
                      <a:pt x="124" y="90"/>
                    </a:lnTo>
                    <a:lnTo>
                      <a:pt x="121" y="96"/>
                    </a:lnTo>
                    <a:lnTo>
                      <a:pt x="118" y="101"/>
                    </a:lnTo>
                    <a:lnTo>
                      <a:pt x="114" y="106"/>
                    </a:lnTo>
                    <a:lnTo>
                      <a:pt x="110" y="111"/>
                    </a:lnTo>
                    <a:lnTo>
                      <a:pt x="105" y="115"/>
                    </a:lnTo>
                    <a:lnTo>
                      <a:pt x="101" y="118"/>
                    </a:lnTo>
                    <a:lnTo>
                      <a:pt x="95" y="122"/>
                    </a:lnTo>
                    <a:lnTo>
                      <a:pt x="90" y="125"/>
                    </a:lnTo>
                    <a:lnTo>
                      <a:pt x="84" y="127"/>
                    </a:lnTo>
                    <a:lnTo>
                      <a:pt x="77" y="128"/>
                    </a:lnTo>
                    <a:lnTo>
                      <a:pt x="71" y="130"/>
                    </a:lnTo>
                    <a:lnTo>
                      <a:pt x="65" y="130"/>
                    </a:lnTo>
                    <a:lnTo>
                      <a:pt x="58" y="130"/>
                    </a:lnTo>
                    <a:lnTo>
                      <a:pt x="51" y="128"/>
                    </a:lnTo>
                    <a:lnTo>
                      <a:pt x="45" y="127"/>
                    </a:lnTo>
                    <a:lnTo>
                      <a:pt x="40" y="125"/>
                    </a:lnTo>
                    <a:lnTo>
                      <a:pt x="34" y="122"/>
                    </a:lnTo>
                    <a:lnTo>
                      <a:pt x="28" y="118"/>
                    </a:lnTo>
                    <a:lnTo>
                      <a:pt x="24" y="115"/>
                    </a:lnTo>
                    <a:lnTo>
                      <a:pt x="19" y="111"/>
                    </a:lnTo>
                    <a:lnTo>
                      <a:pt x="15" y="106"/>
                    </a:lnTo>
                    <a:lnTo>
                      <a:pt x="11" y="101"/>
                    </a:lnTo>
                    <a:lnTo>
                      <a:pt x="8" y="96"/>
                    </a:lnTo>
                    <a:lnTo>
                      <a:pt x="5" y="90"/>
                    </a:lnTo>
                    <a:lnTo>
                      <a:pt x="2" y="84"/>
                    </a:lnTo>
                    <a:lnTo>
                      <a:pt x="1" y="79"/>
                    </a:lnTo>
                    <a:lnTo>
                      <a:pt x="0" y="72"/>
                    </a:lnTo>
                    <a:lnTo>
                      <a:pt x="0" y="65"/>
                    </a:lnTo>
                    <a:lnTo>
                      <a:pt x="0" y="58"/>
                    </a:lnTo>
                    <a:lnTo>
                      <a:pt x="1" y="52"/>
                    </a:lnTo>
                    <a:lnTo>
                      <a:pt x="2" y="46"/>
                    </a:lnTo>
                    <a:lnTo>
                      <a:pt x="5" y="40"/>
                    </a:lnTo>
                    <a:lnTo>
                      <a:pt x="8" y="34"/>
                    </a:lnTo>
                    <a:lnTo>
                      <a:pt x="11" y="29"/>
                    </a:lnTo>
                    <a:lnTo>
                      <a:pt x="15" y="24"/>
                    </a:lnTo>
                    <a:lnTo>
                      <a:pt x="19" y="20"/>
                    </a:lnTo>
                    <a:lnTo>
                      <a:pt x="24" y="15"/>
                    </a:lnTo>
                    <a:lnTo>
                      <a:pt x="28" y="12"/>
                    </a:lnTo>
                    <a:lnTo>
                      <a:pt x="34" y="8"/>
                    </a:lnTo>
                    <a:lnTo>
                      <a:pt x="40"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05" name=""/>
              <p:cNvSpPr/>
              <p:nvPr/>
            </p:nvSpPr>
            <p:spPr>
              <a:xfrm>
                <a:off x="781200" y="464040"/>
                <a:ext cx="213840" cy="246960"/>
              </a:xfrm>
              <a:custGeom>
                <a:avLst/>
                <a:gdLst/>
                <a:ahLst/>
                <a:rect l="l" t="t" r="r" b="b"/>
                <a:pathLst>
                  <a:path w="337" h="390">
                    <a:moveTo>
                      <a:pt x="169" y="0"/>
                    </a:moveTo>
                    <a:lnTo>
                      <a:pt x="178" y="0"/>
                    </a:lnTo>
                    <a:lnTo>
                      <a:pt x="186" y="1"/>
                    </a:lnTo>
                    <a:lnTo>
                      <a:pt x="195" y="3"/>
                    </a:lnTo>
                    <a:lnTo>
                      <a:pt x="203" y="7"/>
                    </a:lnTo>
                    <a:lnTo>
                      <a:pt x="211" y="10"/>
                    </a:lnTo>
                    <a:lnTo>
                      <a:pt x="218" y="15"/>
                    </a:lnTo>
                    <a:lnTo>
                      <a:pt x="226" y="20"/>
                    </a:lnTo>
                    <a:lnTo>
                      <a:pt x="234" y="26"/>
                    </a:lnTo>
                    <a:lnTo>
                      <a:pt x="241" y="33"/>
                    </a:lnTo>
                    <a:lnTo>
                      <a:pt x="249" y="39"/>
                    </a:lnTo>
                    <a:lnTo>
                      <a:pt x="256" y="47"/>
                    </a:lnTo>
                    <a:lnTo>
                      <a:pt x="263" y="56"/>
                    </a:lnTo>
                    <a:lnTo>
                      <a:pt x="276" y="76"/>
                    </a:lnTo>
                    <a:lnTo>
                      <a:pt x="288" y="97"/>
                    </a:lnTo>
                    <a:lnTo>
                      <a:pt x="299" y="121"/>
                    </a:lnTo>
                    <a:lnTo>
                      <a:pt x="309" y="147"/>
                    </a:lnTo>
                    <a:lnTo>
                      <a:pt x="317" y="174"/>
                    </a:lnTo>
                    <a:lnTo>
                      <a:pt x="324" y="204"/>
                    </a:lnTo>
                    <a:lnTo>
                      <a:pt x="329" y="234"/>
                    </a:lnTo>
                    <a:lnTo>
                      <a:pt x="334" y="266"/>
                    </a:lnTo>
                    <a:lnTo>
                      <a:pt x="336" y="300"/>
                    </a:lnTo>
                    <a:lnTo>
                      <a:pt x="337" y="334"/>
                    </a:lnTo>
                    <a:lnTo>
                      <a:pt x="337" y="348"/>
                    </a:lnTo>
                    <a:lnTo>
                      <a:pt x="337" y="361"/>
                    </a:lnTo>
                    <a:lnTo>
                      <a:pt x="336" y="376"/>
                    </a:lnTo>
                    <a:lnTo>
                      <a:pt x="335" y="390"/>
                    </a:lnTo>
                    <a:lnTo>
                      <a:pt x="332" y="360"/>
                    </a:lnTo>
                    <a:lnTo>
                      <a:pt x="327" y="332"/>
                    </a:lnTo>
                    <a:lnTo>
                      <a:pt x="322" y="305"/>
                    </a:lnTo>
                    <a:lnTo>
                      <a:pt x="315" y="279"/>
                    </a:lnTo>
                    <a:lnTo>
                      <a:pt x="308" y="255"/>
                    </a:lnTo>
                    <a:lnTo>
                      <a:pt x="299" y="231"/>
                    </a:lnTo>
                    <a:lnTo>
                      <a:pt x="289" y="210"/>
                    </a:lnTo>
                    <a:lnTo>
                      <a:pt x="278" y="190"/>
                    </a:lnTo>
                    <a:lnTo>
                      <a:pt x="267" y="172"/>
                    </a:lnTo>
                    <a:lnTo>
                      <a:pt x="255" y="156"/>
                    </a:lnTo>
                    <a:lnTo>
                      <a:pt x="241" y="143"/>
                    </a:lnTo>
                    <a:lnTo>
                      <a:pt x="228" y="131"/>
                    </a:lnTo>
                    <a:lnTo>
                      <a:pt x="221" y="127"/>
                    </a:lnTo>
                    <a:lnTo>
                      <a:pt x="214" y="122"/>
                    </a:lnTo>
                    <a:lnTo>
                      <a:pt x="206" y="119"/>
                    </a:lnTo>
                    <a:lnTo>
                      <a:pt x="199" y="115"/>
                    </a:lnTo>
                    <a:lnTo>
                      <a:pt x="191" y="113"/>
                    </a:lnTo>
                    <a:lnTo>
                      <a:pt x="185" y="111"/>
                    </a:lnTo>
                    <a:lnTo>
                      <a:pt x="177" y="110"/>
                    </a:lnTo>
                    <a:lnTo>
                      <a:pt x="169" y="110"/>
                    </a:lnTo>
                    <a:lnTo>
                      <a:pt x="161" y="110"/>
                    </a:lnTo>
                    <a:lnTo>
                      <a:pt x="153" y="111"/>
                    </a:lnTo>
                    <a:lnTo>
                      <a:pt x="145" y="113"/>
                    </a:lnTo>
                    <a:lnTo>
                      <a:pt x="138" y="115"/>
                    </a:lnTo>
                    <a:lnTo>
                      <a:pt x="130" y="119"/>
                    </a:lnTo>
                    <a:lnTo>
                      <a:pt x="123" y="122"/>
                    </a:lnTo>
                    <a:lnTo>
                      <a:pt x="117" y="127"/>
                    </a:lnTo>
                    <a:lnTo>
                      <a:pt x="109" y="131"/>
                    </a:lnTo>
                    <a:lnTo>
                      <a:pt x="95" y="143"/>
                    </a:lnTo>
                    <a:lnTo>
                      <a:pt x="83" y="156"/>
                    </a:lnTo>
                    <a:lnTo>
                      <a:pt x="70" y="172"/>
                    </a:lnTo>
                    <a:lnTo>
                      <a:pt x="59" y="190"/>
                    </a:lnTo>
                    <a:lnTo>
                      <a:pt x="49" y="210"/>
                    </a:lnTo>
                    <a:lnTo>
                      <a:pt x="38" y="231"/>
                    </a:lnTo>
                    <a:lnTo>
                      <a:pt x="29" y="255"/>
                    </a:lnTo>
                    <a:lnTo>
                      <a:pt x="22" y="279"/>
                    </a:lnTo>
                    <a:lnTo>
                      <a:pt x="15" y="305"/>
                    </a:lnTo>
                    <a:lnTo>
                      <a:pt x="9" y="332"/>
                    </a:lnTo>
                    <a:lnTo>
                      <a:pt x="5" y="360"/>
                    </a:lnTo>
                    <a:lnTo>
                      <a:pt x="2" y="390"/>
                    </a:lnTo>
                    <a:lnTo>
                      <a:pt x="1" y="376"/>
                    </a:lnTo>
                    <a:lnTo>
                      <a:pt x="0" y="361"/>
                    </a:lnTo>
                    <a:lnTo>
                      <a:pt x="0" y="348"/>
                    </a:lnTo>
                    <a:lnTo>
                      <a:pt x="0" y="334"/>
                    </a:lnTo>
                    <a:lnTo>
                      <a:pt x="0" y="300"/>
                    </a:lnTo>
                    <a:lnTo>
                      <a:pt x="3" y="266"/>
                    </a:lnTo>
                    <a:lnTo>
                      <a:pt x="7" y="234"/>
                    </a:lnTo>
                    <a:lnTo>
                      <a:pt x="12" y="204"/>
                    </a:lnTo>
                    <a:lnTo>
                      <a:pt x="20" y="174"/>
                    </a:lnTo>
                    <a:lnTo>
                      <a:pt x="28" y="147"/>
                    </a:lnTo>
                    <a:lnTo>
                      <a:pt x="38" y="121"/>
                    </a:lnTo>
                    <a:lnTo>
                      <a:pt x="49" y="97"/>
                    </a:lnTo>
                    <a:lnTo>
                      <a:pt x="61" y="76"/>
                    </a:lnTo>
                    <a:lnTo>
                      <a:pt x="74" y="56"/>
                    </a:lnTo>
                    <a:lnTo>
                      <a:pt x="82" y="47"/>
                    </a:lnTo>
                    <a:lnTo>
                      <a:pt x="88" y="39"/>
                    </a:lnTo>
                    <a:lnTo>
                      <a:pt x="95" y="33"/>
                    </a:lnTo>
                    <a:lnTo>
                      <a:pt x="103" y="26"/>
                    </a:lnTo>
                    <a:lnTo>
                      <a:pt x="111" y="20"/>
                    </a:lnTo>
                    <a:lnTo>
                      <a:pt x="119" y="15"/>
                    </a:lnTo>
                    <a:lnTo>
                      <a:pt x="127" y="10"/>
                    </a:lnTo>
                    <a:lnTo>
                      <a:pt x="135" y="7"/>
                    </a:lnTo>
                    <a:lnTo>
                      <a:pt x="143" y="3"/>
                    </a:lnTo>
                    <a:lnTo>
                      <a:pt x="152" y="1"/>
                    </a:lnTo>
                    <a:lnTo>
                      <a:pt x="160" y="0"/>
                    </a:lnTo>
                    <a:lnTo>
                      <a:pt x="169"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1182960" y="464040"/>
                <a:ext cx="214560" cy="246960"/>
              </a:xfrm>
              <a:custGeom>
                <a:avLst/>
                <a:gdLst/>
                <a:ahLst/>
                <a:rect l="l" t="t" r="r" b="b"/>
                <a:pathLst>
                  <a:path w="338" h="390">
                    <a:moveTo>
                      <a:pt x="170" y="0"/>
                    </a:moveTo>
                    <a:lnTo>
                      <a:pt x="178" y="0"/>
                    </a:lnTo>
                    <a:lnTo>
                      <a:pt x="187" y="1"/>
                    </a:lnTo>
                    <a:lnTo>
                      <a:pt x="195" y="3"/>
                    </a:lnTo>
                    <a:lnTo>
                      <a:pt x="204" y="7"/>
                    </a:lnTo>
                    <a:lnTo>
                      <a:pt x="212" y="10"/>
                    </a:lnTo>
                    <a:lnTo>
                      <a:pt x="219" y="15"/>
                    </a:lnTo>
                    <a:lnTo>
                      <a:pt x="227" y="20"/>
                    </a:lnTo>
                    <a:lnTo>
                      <a:pt x="235" y="26"/>
                    </a:lnTo>
                    <a:lnTo>
                      <a:pt x="242" y="33"/>
                    </a:lnTo>
                    <a:lnTo>
                      <a:pt x="250" y="39"/>
                    </a:lnTo>
                    <a:lnTo>
                      <a:pt x="257" y="47"/>
                    </a:lnTo>
                    <a:lnTo>
                      <a:pt x="264" y="56"/>
                    </a:lnTo>
                    <a:lnTo>
                      <a:pt x="277" y="76"/>
                    </a:lnTo>
                    <a:lnTo>
                      <a:pt x="289" y="97"/>
                    </a:lnTo>
                    <a:lnTo>
                      <a:pt x="300" y="121"/>
                    </a:lnTo>
                    <a:lnTo>
                      <a:pt x="309" y="147"/>
                    </a:lnTo>
                    <a:lnTo>
                      <a:pt x="318" y="174"/>
                    </a:lnTo>
                    <a:lnTo>
                      <a:pt x="325" y="204"/>
                    </a:lnTo>
                    <a:lnTo>
                      <a:pt x="330" y="234"/>
                    </a:lnTo>
                    <a:lnTo>
                      <a:pt x="335" y="266"/>
                    </a:lnTo>
                    <a:lnTo>
                      <a:pt x="337" y="300"/>
                    </a:lnTo>
                    <a:lnTo>
                      <a:pt x="338" y="334"/>
                    </a:lnTo>
                    <a:lnTo>
                      <a:pt x="338" y="348"/>
                    </a:lnTo>
                    <a:lnTo>
                      <a:pt x="337" y="361"/>
                    </a:lnTo>
                    <a:lnTo>
                      <a:pt x="337" y="376"/>
                    </a:lnTo>
                    <a:lnTo>
                      <a:pt x="336" y="390"/>
                    </a:lnTo>
                    <a:lnTo>
                      <a:pt x="333" y="360"/>
                    </a:lnTo>
                    <a:lnTo>
                      <a:pt x="328" y="332"/>
                    </a:lnTo>
                    <a:lnTo>
                      <a:pt x="322" y="305"/>
                    </a:lnTo>
                    <a:lnTo>
                      <a:pt x="316" y="279"/>
                    </a:lnTo>
                    <a:lnTo>
                      <a:pt x="308" y="255"/>
                    </a:lnTo>
                    <a:lnTo>
                      <a:pt x="300" y="231"/>
                    </a:lnTo>
                    <a:lnTo>
                      <a:pt x="290" y="210"/>
                    </a:lnTo>
                    <a:lnTo>
                      <a:pt x="279" y="190"/>
                    </a:lnTo>
                    <a:lnTo>
                      <a:pt x="267" y="172"/>
                    </a:lnTo>
                    <a:lnTo>
                      <a:pt x="256" y="156"/>
                    </a:lnTo>
                    <a:lnTo>
                      <a:pt x="242" y="143"/>
                    </a:lnTo>
                    <a:lnTo>
                      <a:pt x="229" y="131"/>
                    </a:lnTo>
                    <a:lnTo>
                      <a:pt x="222" y="127"/>
                    </a:lnTo>
                    <a:lnTo>
                      <a:pt x="215" y="122"/>
                    </a:lnTo>
                    <a:lnTo>
                      <a:pt x="207" y="119"/>
                    </a:lnTo>
                    <a:lnTo>
                      <a:pt x="200" y="115"/>
                    </a:lnTo>
                    <a:lnTo>
                      <a:pt x="192" y="113"/>
                    </a:lnTo>
                    <a:lnTo>
                      <a:pt x="184" y="111"/>
                    </a:lnTo>
                    <a:lnTo>
                      <a:pt x="178" y="110"/>
                    </a:lnTo>
                    <a:lnTo>
                      <a:pt x="170" y="110"/>
                    </a:lnTo>
                    <a:lnTo>
                      <a:pt x="162" y="110"/>
                    </a:lnTo>
                    <a:lnTo>
                      <a:pt x="154" y="111"/>
                    </a:lnTo>
                    <a:lnTo>
                      <a:pt x="146" y="113"/>
                    </a:lnTo>
                    <a:lnTo>
                      <a:pt x="139" y="115"/>
                    </a:lnTo>
                    <a:lnTo>
                      <a:pt x="131" y="119"/>
                    </a:lnTo>
                    <a:lnTo>
                      <a:pt x="124" y="122"/>
                    </a:lnTo>
                    <a:lnTo>
                      <a:pt x="116" y="127"/>
                    </a:lnTo>
                    <a:lnTo>
                      <a:pt x="110" y="131"/>
                    </a:lnTo>
                    <a:lnTo>
                      <a:pt x="96" y="143"/>
                    </a:lnTo>
                    <a:lnTo>
                      <a:pt x="84" y="156"/>
                    </a:lnTo>
                    <a:lnTo>
                      <a:pt x="71" y="172"/>
                    </a:lnTo>
                    <a:lnTo>
                      <a:pt x="60" y="190"/>
                    </a:lnTo>
                    <a:lnTo>
                      <a:pt x="49" y="210"/>
                    </a:lnTo>
                    <a:lnTo>
                      <a:pt x="39" y="231"/>
                    </a:lnTo>
                    <a:lnTo>
                      <a:pt x="30" y="255"/>
                    </a:lnTo>
                    <a:lnTo>
                      <a:pt x="22" y="279"/>
                    </a:lnTo>
                    <a:lnTo>
                      <a:pt x="16" y="305"/>
                    </a:lnTo>
                    <a:lnTo>
                      <a:pt x="10" y="332"/>
                    </a:lnTo>
                    <a:lnTo>
                      <a:pt x="5" y="360"/>
                    </a:lnTo>
                    <a:lnTo>
                      <a:pt x="2" y="390"/>
                    </a:lnTo>
                    <a:lnTo>
                      <a:pt x="2" y="376"/>
                    </a:lnTo>
                    <a:lnTo>
                      <a:pt x="1" y="361"/>
                    </a:lnTo>
                    <a:lnTo>
                      <a:pt x="1" y="348"/>
                    </a:lnTo>
                    <a:lnTo>
                      <a:pt x="0" y="334"/>
                    </a:lnTo>
                    <a:lnTo>
                      <a:pt x="1" y="300"/>
                    </a:lnTo>
                    <a:lnTo>
                      <a:pt x="3" y="266"/>
                    </a:lnTo>
                    <a:lnTo>
                      <a:pt x="8" y="234"/>
                    </a:lnTo>
                    <a:lnTo>
                      <a:pt x="13" y="204"/>
                    </a:lnTo>
                    <a:lnTo>
                      <a:pt x="20" y="174"/>
                    </a:lnTo>
                    <a:lnTo>
                      <a:pt x="29" y="147"/>
                    </a:lnTo>
                    <a:lnTo>
                      <a:pt x="39" y="121"/>
                    </a:lnTo>
                    <a:lnTo>
                      <a:pt x="50" y="97"/>
                    </a:lnTo>
                    <a:lnTo>
                      <a:pt x="62" y="76"/>
                    </a:lnTo>
                    <a:lnTo>
                      <a:pt x="75" y="56"/>
                    </a:lnTo>
                    <a:lnTo>
                      <a:pt x="81" y="47"/>
                    </a:lnTo>
                    <a:lnTo>
                      <a:pt x="89" y="39"/>
                    </a:lnTo>
                    <a:lnTo>
                      <a:pt x="96" y="33"/>
                    </a:lnTo>
                    <a:lnTo>
                      <a:pt x="104" y="26"/>
                    </a:lnTo>
                    <a:lnTo>
                      <a:pt x="111" y="20"/>
                    </a:lnTo>
                    <a:lnTo>
                      <a:pt x="119" y="15"/>
                    </a:lnTo>
                    <a:lnTo>
                      <a:pt x="127" y="10"/>
                    </a:lnTo>
                    <a:lnTo>
                      <a:pt x="136" y="7"/>
                    </a:lnTo>
                    <a:lnTo>
                      <a:pt x="144" y="3"/>
                    </a:lnTo>
                    <a:lnTo>
                      <a:pt x="152" y="1"/>
                    </a:lnTo>
                    <a:lnTo>
                      <a:pt x="161" y="0"/>
                    </a:lnTo>
                    <a:lnTo>
                      <a:pt x="170"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1249560" y="590040"/>
                <a:ext cx="81720" cy="82080"/>
              </a:xfrm>
              <a:custGeom>
                <a:avLst/>
                <a:gdLst/>
                <a:ahLst/>
                <a:rect l="l" t="t" r="r" b="b"/>
                <a:pathLst>
                  <a:path w="129" h="130">
                    <a:moveTo>
                      <a:pt x="65" y="0"/>
                    </a:moveTo>
                    <a:lnTo>
                      <a:pt x="70" y="1"/>
                    </a:lnTo>
                    <a:lnTo>
                      <a:pt x="77" y="1"/>
                    </a:lnTo>
                    <a:lnTo>
                      <a:pt x="84" y="4"/>
                    </a:lnTo>
                    <a:lnTo>
                      <a:pt x="90" y="6"/>
                    </a:lnTo>
                    <a:lnTo>
                      <a:pt x="95" y="8"/>
                    </a:lnTo>
                    <a:lnTo>
                      <a:pt x="100" y="12"/>
                    </a:lnTo>
                    <a:lnTo>
                      <a:pt x="105" y="15"/>
                    </a:lnTo>
                    <a:lnTo>
                      <a:pt x="110" y="20"/>
                    </a:lnTo>
                    <a:lnTo>
                      <a:pt x="114" y="24"/>
                    </a:lnTo>
                    <a:lnTo>
                      <a:pt x="118" y="29"/>
                    </a:lnTo>
                    <a:lnTo>
                      <a:pt x="121" y="34"/>
                    </a:lnTo>
                    <a:lnTo>
                      <a:pt x="124" y="40"/>
                    </a:lnTo>
                    <a:lnTo>
                      <a:pt x="126" y="46"/>
                    </a:lnTo>
                    <a:lnTo>
                      <a:pt x="128" y="52"/>
                    </a:lnTo>
                    <a:lnTo>
                      <a:pt x="128" y="58"/>
                    </a:lnTo>
                    <a:lnTo>
                      <a:pt x="129" y="65"/>
                    </a:lnTo>
                    <a:lnTo>
                      <a:pt x="128" y="72"/>
                    </a:lnTo>
                    <a:lnTo>
                      <a:pt x="128" y="79"/>
                    </a:lnTo>
                    <a:lnTo>
                      <a:pt x="126" y="84"/>
                    </a:lnTo>
                    <a:lnTo>
                      <a:pt x="124" y="90"/>
                    </a:lnTo>
                    <a:lnTo>
                      <a:pt x="121" y="96"/>
                    </a:lnTo>
                    <a:lnTo>
                      <a:pt x="118" y="101"/>
                    </a:lnTo>
                    <a:lnTo>
                      <a:pt x="114" y="106"/>
                    </a:lnTo>
                    <a:lnTo>
                      <a:pt x="110" y="111"/>
                    </a:lnTo>
                    <a:lnTo>
                      <a:pt x="105" y="115"/>
                    </a:lnTo>
                    <a:lnTo>
                      <a:pt x="100" y="118"/>
                    </a:lnTo>
                    <a:lnTo>
                      <a:pt x="95" y="122"/>
                    </a:lnTo>
                    <a:lnTo>
                      <a:pt x="90" y="125"/>
                    </a:lnTo>
                    <a:lnTo>
                      <a:pt x="84" y="127"/>
                    </a:lnTo>
                    <a:lnTo>
                      <a:pt x="77" y="128"/>
                    </a:lnTo>
                    <a:lnTo>
                      <a:pt x="70" y="130"/>
                    </a:lnTo>
                    <a:lnTo>
                      <a:pt x="65" y="130"/>
                    </a:lnTo>
                    <a:lnTo>
                      <a:pt x="58" y="130"/>
                    </a:lnTo>
                    <a:lnTo>
                      <a:pt x="51" y="128"/>
                    </a:lnTo>
                    <a:lnTo>
                      <a:pt x="45" y="127"/>
                    </a:lnTo>
                    <a:lnTo>
                      <a:pt x="39" y="125"/>
                    </a:lnTo>
                    <a:lnTo>
                      <a:pt x="34" y="122"/>
                    </a:lnTo>
                    <a:lnTo>
                      <a:pt x="28" y="118"/>
                    </a:lnTo>
                    <a:lnTo>
                      <a:pt x="23" y="115"/>
                    </a:lnTo>
                    <a:lnTo>
                      <a:pt x="18" y="111"/>
                    </a:lnTo>
                    <a:lnTo>
                      <a:pt x="15" y="106"/>
                    </a:lnTo>
                    <a:lnTo>
                      <a:pt x="10" y="101"/>
                    </a:lnTo>
                    <a:lnTo>
                      <a:pt x="8" y="96"/>
                    </a:lnTo>
                    <a:lnTo>
                      <a:pt x="5" y="90"/>
                    </a:lnTo>
                    <a:lnTo>
                      <a:pt x="2" y="84"/>
                    </a:lnTo>
                    <a:lnTo>
                      <a:pt x="1" y="79"/>
                    </a:lnTo>
                    <a:lnTo>
                      <a:pt x="0" y="72"/>
                    </a:lnTo>
                    <a:lnTo>
                      <a:pt x="0" y="65"/>
                    </a:lnTo>
                    <a:lnTo>
                      <a:pt x="0" y="58"/>
                    </a:lnTo>
                    <a:lnTo>
                      <a:pt x="1" y="52"/>
                    </a:lnTo>
                    <a:lnTo>
                      <a:pt x="2" y="46"/>
                    </a:lnTo>
                    <a:lnTo>
                      <a:pt x="5" y="40"/>
                    </a:lnTo>
                    <a:lnTo>
                      <a:pt x="8" y="34"/>
                    </a:lnTo>
                    <a:lnTo>
                      <a:pt x="10" y="29"/>
                    </a:lnTo>
                    <a:lnTo>
                      <a:pt x="15" y="24"/>
                    </a:lnTo>
                    <a:lnTo>
                      <a:pt x="18" y="20"/>
                    </a:lnTo>
                    <a:lnTo>
                      <a:pt x="23" y="15"/>
                    </a:lnTo>
                    <a:lnTo>
                      <a:pt x="28" y="12"/>
                    </a:lnTo>
                    <a:lnTo>
                      <a:pt x="34" y="8"/>
                    </a:lnTo>
                    <a:lnTo>
                      <a:pt x="39"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08" name=""/>
              <p:cNvSpPr/>
              <p:nvPr/>
            </p:nvSpPr>
            <p:spPr>
              <a:xfrm>
                <a:off x="1048320" y="590040"/>
                <a:ext cx="81720" cy="82080"/>
              </a:xfrm>
              <a:custGeom>
                <a:avLst/>
                <a:gdLst/>
                <a:ahLst/>
                <a:rect l="l" t="t" r="r" b="b"/>
                <a:pathLst>
                  <a:path w="129" h="130">
                    <a:moveTo>
                      <a:pt x="65" y="0"/>
                    </a:moveTo>
                    <a:lnTo>
                      <a:pt x="71" y="1"/>
                    </a:lnTo>
                    <a:lnTo>
                      <a:pt x="77" y="1"/>
                    </a:lnTo>
                    <a:lnTo>
                      <a:pt x="84" y="4"/>
                    </a:lnTo>
                    <a:lnTo>
                      <a:pt x="90" y="6"/>
                    </a:lnTo>
                    <a:lnTo>
                      <a:pt x="95" y="8"/>
                    </a:lnTo>
                    <a:lnTo>
                      <a:pt x="101" y="12"/>
                    </a:lnTo>
                    <a:lnTo>
                      <a:pt x="105" y="15"/>
                    </a:lnTo>
                    <a:lnTo>
                      <a:pt x="110" y="20"/>
                    </a:lnTo>
                    <a:lnTo>
                      <a:pt x="114" y="24"/>
                    </a:lnTo>
                    <a:lnTo>
                      <a:pt x="118" y="29"/>
                    </a:lnTo>
                    <a:lnTo>
                      <a:pt x="121" y="34"/>
                    </a:lnTo>
                    <a:lnTo>
                      <a:pt x="124" y="40"/>
                    </a:lnTo>
                    <a:lnTo>
                      <a:pt x="126" y="46"/>
                    </a:lnTo>
                    <a:lnTo>
                      <a:pt x="128" y="52"/>
                    </a:lnTo>
                    <a:lnTo>
                      <a:pt x="128" y="58"/>
                    </a:lnTo>
                    <a:lnTo>
                      <a:pt x="129" y="65"/>
                    </a:lnTo>
                    <a:lnTo>
                      <a:pt x="128" y="72"/>
                    </a:lnTo>
                    <a:lnTo>
                      <a:pt x="128" y="79"/>
                    </a:lnTo>
                    <a:lnTo>
                      <a:pt x="126" y="84"/>
                    </a:lnTo>
                    <a:lnTo>
                      <a:pt x="124" y="90"/>
                    </a:lnTo>
                    <a:lnTo>
                      <a:pt x="121" y="96"/>
                    </a:lnTo>
                    <a:lnTo>
                      <a:pt x="118" y="101"/>
                    </a:lnTo>
                    <a:lnTo>
                      <a:pt x="114" y="106"/>
                    </a:lnTo>
                    <a:lnTo>
                      <a:pt x="110" y="111"/>
                    </a:lnTo>
                    <a:lnTo>
                      <a:pt x="105" y="115"/>
                    </a:lnTo>
                    <a:lnTo>
                      <a:pt x="101" y="118"/>
                    </a:lnTo>
                    <a:lnTo>
                      <a:pt x="95" y="122"/>
                    </a:lnTo>
                    <a:lnTo>
                      <a:pt x="90" y="125"/>
                    </a:lnTo>
                    <a:lnTo>
                      <a:pt x="84" y="127"/>
                    </a:lnTo>
                    <a:lnTo>
                      <a:pt x="77" y="128"/>
                    </a:lnTo>
                    <a:lnTo>
                      <a:pt x="71" y="130"/>
                    </a:lnTo>
                    <a:lnTo>
                      <a:pt x="65" y="130"/>
                    </a:lnTo>
                    <a:lnTo>
                      <a:pt x="58" y="130"/>
                    </a:lnTo>
                    <a:lnTo>
                      <a:pt x="51" y="128"/>
                    </a:lnTo>
                    <a:lnTo>
                      <a:pt x="45" y="127"/>
                    </a:lnTo>
                    <a:lnTo>
                      <a:pt x="40" y="125"/>
                    </a:lnTo>
                    <a:lnTo>
                      <a:pt x="34" y="122"/>
                    </a:lnTo>
                    <a:lnTo>
                      <a:pt x="28" y="118"/>
                    </a:lnTo>
                    <a:lnTo>
                      <a:pt x="23" y="115"/>
                    </a:lnTo>
                    <a:lnTo>
                      <a:pt x="18" y="111"/>
                    </a:lnTo>
                    <a:lnTo>
                      <a:pt x="15" y="106"/>
                    </a:lnTo>
                    <a:lnTo>
                      <a:pt x="10" y="101"/>
                    </a:lnTo>
                    <a:lnTo>
                      <a:pt x="8" y="96"/>
                    </a:lnTo>
                    <a:lnTo>
                      <a:pt x="5" y="90"/>
                    </a:lnTo>
                    <a:lnTo>
                      <a:pt x="2" y="84"/>
                    </a:lnTo>
                    <a:lnTo>
                      <a:pt x="1" y="79"/>
                    </a:lnTo>
                    <a:lnTo>
                      <a:pt x="0" y="72"/>
                    </a:lnTo>
                    <a:lnTo>
                      <a:pt x="0" y="65"/>
                    </a:lnTo>
                    <a:lnTo>
                      <a:pt x="0" y="58"/>
                    </a:lnTo>
                    <a:lnTo>
                      <a:pt x="1" y="52"/>
                    </a:lnTo>
                    <a:lnTo>
                      <a:pt x="2" y="46"/>
                    </a:lnTo>
                    <a:lnTo>
                      <a:pt x="5" y="40"/>
                    </a:lnTo>
                    <a:lnTo>
                      <a:pt x="8" y="34"/>
                    </a:lnTo>
                    <a:lnTo>
                      <a:pt x="10" y="29"/>
                    </a:lnTo>
                    <a:lnTo>
                      <a:pt x="15" y="24"/>
                    </a:lnTo>
                    <a:lnTo>
                      <a:pt x="18" y="20"/>
                    </a:lnTo>
                    <a:lnTo>
                      <a:pt x="23" y="15"/>
                    </a:lnTo>
                    <a:lnTo>
                      <a:pt x="28" y="12"/>
                    </a:lnTo>
                    <a:lnTo>
                      <a:pt x="34" y="8"/>
                    </a:lnTo>
                    <a:lnTo>
                      <a:pt x="40" y="6"/>
                    </a:lnTo>
                    <a:lnTo>
                      <a:pt x="45" y="4"/>
                    </a:lnTo>
                    <a:lnTo>
                      <a:pt x="51" y="1"/>
                    </a:lnTo>
                    <a:lnTo>
                      <a:pt x="58" y="1"/>
                    </a:lnTo>
                    <a:lnTo>
                      <a:pt x="65" y="0"/>
                    </a:lnTo>
                    <a:close/>
                  </a:path>
                </a:pathLst>
              </a:custGeom>
              <a:solidFill>
                <a:srgbClr val="252275"/>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09" name=""/>
              <p:cNvSpPr/>
              <p:nvPr/>
            </p:nvSpPr>
            <p:spPr>
              <a:xfrm>
                <a:off x="396360" y="462600"/>
                <a:ext cx="360360" cy="247320"/>
              </a:xfrm>
              <a:custGeom>
                <a:avLst/>
                <a:gdLst/>
                <a:ahLst/>
                <a:rect l="l" t="t" r="r" b="b"/>
                <a:pathLst>
                  <a:path w="568" h="390">
                    <a:moveTo>
                      <a:pt x="420" y="0"/>
                    </a:moveTo>
                    <a:lnTo>
                      <a:pt x="428" y="0"/>
                    </a:lnTo>
                    <a:lnTo>
                      <a:pt x="436" y="2"/>
                    </a:lnTo>
                    <a:lnTo>
                      <a:pt x="443" y="3"/>
                    </a:lnTo>
                    <a:lnTo>
                      <a:pt x="450" y="6"/>
                    </a:lnTo>
                    <a:lnTo>
                      <a:pt x="458" y="10"/>
                    </a:lnTo>
                    <a:lnTo>
                      <a:pt x="464" y="14"/>
                    </a:lnTo>
                    <a:lnTo>
                      <a:pt x="471" y="20"/>
                    </a:lnTo>
                    <a:lnTo>
                      <a:pt x="478" y="26"/>
                    </a:lnTo>
                    <a:lnTo>
                      <a:pt x="491" y="40"/>
                    </a:lnTo>
                    <a:lnTo>
                      <a:pt x="503" y="57"/>
                    </a:lnTo>
                    <a:lnTo>
                      <a:pt x="514" y="77"/>
                    </a:lnTo>
                    <a:lnTo>
                      <a:pt x="524" y="98"/>
                    </a:lnTo>
                    <a:lnTo>
                      <a:pt x="534" y="122"/>
                    </a:lnTo>
                    <a:lnTo>
                      <a:pt x="543" y="147"/>
                    </a:lnTo>
                    <a:lnTo>
                      <a:pt x="549" y="175"/>
                    </a:lnTo>
                    <a:lnTo>
                      <a:pt x="556" y="205"/>
                    </a:lnTo>
                    <a:lnTo>
                      <a:pt x="561" y="235"/>
                    </a:lnTo>
                    <a:lnTo>
                      <a:pt x="565" y="267"/>
                    </a:lnTo>
                    <a:lnTo>
                      <a:pt x="566" y="300"/>
                    </a:lnTo>
                    <a:lnTo>
                      <a:pt x="568" y="334"/>
                    </a:lnTo>
                    <a:lnTo>
                      <a:pt x="568" y="349"/>
                    </a:lnTo>
                    <a:lnTo>
                      <a:pt x="568" y="362"/>
                    </a:lnTo>
                    <a:lnTo>
                      <a:pt x="566" y="376"/>
                    </a:lnTo>
                    <a:lnTo>
                      <a:pt x="565" y="390"/>
                    </a:lnTo>
                    <a:lnTo>
                      <a:pt x="563" y="360"/>
                    </a:lnTo>
                    <a:lnTo>
                      <a:pt x="560" y="332"/>
                    </a:lnTo>
                    <a:lnTo>
                      <a:pt x="554" y="305"/>
                    </a:lnTo>
                    <a:lnTo>
                      <a:pt x="548" y="280"/>
                    </a:lnTo>
                    <a:lnTo>
                      <a:pt x="541" y="255"/>
                    </a:lnTo>
                    <a:lnTo>
                      <a:pt x="534" y="232"/>
                    </a:lnTo>
                    <a:lnTo>
                      <a:pt x="526" y="210"/>
                    </a:lnTo>
                    <a:lnTo>
                      <a:pt x="517" y="190"/>
                    </a:lnTo>
                    <a:lnTo>
                      <a:pt x="506" y="173"/>
                    </a:lnTo>
                    <a:lnTo>
                      <a:pt x="495" y="157"/>
                    </a:lnTo>
                    <a:lnTo>
                      <a:pt x="484" y="144"/>
                    </a:lnTo>
                    <a:lnTo>
                      <a:pt x="472" y="131"/>
                    </a:lnTo>
                    <a:lnTo>
                      <a:pt x="467" y="127"/>
                    </a:lnTo>
                    <a:lnTo>
                      <a:pt x="460" y="122"/>
                    </a:lnTo>
                    <a:lnTo>
                      <a:pt x="453" y="119"/>
                    </a:lnTo>
                    <a:lnTo>
                      <a:pt x="448" y="115"/>
                    </a:lnTo>
                    <a:lnTo>
                      <a:pt x="441" y="113"/>
                    </a:lnTo>
                    <a:lnTo>
                      <a:pt x="434" y="112"/>
                    </a:lnTo>
                    <a:lnTo>
                      <a:pt x="427" y="111"/>
                    </a:lnTo>
                    <a:lnTo>
                      <a:pt x="420" y="110"/>
                    </a:lnTo>
                    <a:lnTo>
                      <a:pt x="414" y="111"/>
                    </a:lnTo>
                    <a:lnTo>
                      <a:pt x="406" y="112"/>
                    </a:lnTo>
                    <a:lnTo>
                      <a:pt x="398" y="114"/>
                    </a:lnTo>
                    <a:lnTo>
                      <a:pt x="391" y="117"/>
                    </a:lnTo>
                    <a:lnTo>
                      <a:pt x="384" y="121"/>
                    </a:lnTo>
                    <a:lnTo>
                      <a:pt x="376" y="125"/>
                    </a:lnTo>
                    <a:lnTo>
                      <a:pt x="369" y="131"/>
                    </a:lnTo>
                    <a:lnTo>
                      <a:pt x="363" y="137"/>
                    </a:lnTo>
                    <a:lnTo>
                      <a:pt x="357" y="144"/>
                    </a:lnTo>
                    <a:lnTo>
                      <a:pt x="350" y="151"/>
                    </a:lnTo>
                    <a:lnTo>
                      <a:pt x="343" y="159"/>
                    </a:lnTo>
                    <a:lnTo>
                      <a:pt x="338" y="168"/>
                    </a:lnTo>
                    <a:lnTo>
                      <a:pt x="326" y="188"/>
                    </a:lnTo>
                    <a:lnTo>
                      <a:pt x="316" y="210"/>
                    </a:lnTo>
                    <a:lnTo>
                      <a:pt x="323" y="215"/>
                    </a:lnTo>
                    <a:lnTo>
                      <a:pt x="330" y="221"/>
                    </a:lnTo>
                    <a:lnTo>
                      <a:pt x="335" y="226"/>
                    </a:lnTo>
                    <a:lnTo>
                      <a:pt x="340" y="233"/>
                    </a:lnTo>
                    <a:lnTo>
                      <a:pt x="343" y="241"/>
                    </a:lnTo>
                    <a:lnTo>
                      <a:pt x="347" y="249"/>
                    </a:lnTo>
                    <a:lnTo>
                      <a:pt x="348" y="257"/>
                    </a:lnTo>
                    <a:lnTo>
                      <a:pt x="349" y="266"/>
                    </a:lnTo>
                    <a:lnTo>
                      <a:pt x="348" y="273"/>
                    </a:lnTo>
                    <a:lnTo>
                      <a:pt x="348" y="280"/>
                    </a:lnTo>
                    <a:lnTo>
                      <a:pt x="346" y="285"/>
                    </a:lnTo>
                    <a:lnTo>
                      <a:pt x="343" y="291"/>
                    </a:lnTo>
                    <a:lnTo>
                      <a:pt x="341" y="297"/>
                    </a:lnTo>
                    <a:lnTo>
                      <a:pt x="338" y="302"/>
                    </a:lnTo>
                    <a:lnTo>
                      <a:pt x="334" y="307"/>
                    </a:lnTo>
                    <a:lnTo>
                      <a:pt x="330" y="312"/>
                    </a:lnTo>
                    <a:lnTo>
                      <a:pt x="325" y="316"/>
                    </a:lnTo>
                    <a:lnTo>
                      <a:pt x="321" y="319"/>
                    </a:lnTo>
                    <a:lnTo>
                      <a:pt x="315" y="323"/>
                    </a:lnTo>
                    <a:lnTo>
                      <a:pt x="309" y="326"/>
                    </a:lnTo>
                    <a:lnTo>
                      <a:pt x="304" y="328"/>
                    </a:lnTo>
                    <a:lnTo>
                      <a:pt x="297" y="329"/>
                    </a:lnTo>
                    <a:lnTo>
                      <a:pt x="291" y="331"/>
                    </a:lnTo>
                    <a:lnTo>
                      <a:pt x="284" y="331"/>
                    </a:lnTo>
                    <a:lnTo>
                      <a:pt x="278" y="331"/>
                    </a:lnTo>
                    <a:lnTo>
                      <a:pt x="271" y="329"/>
                    </a:lnTo>
                    <a:lnTo>
                      <a:pt x="265" y="328"/>
                    </a:lnTo>
                    <a:lnTo>
                      <a:pt x="260" y="326"/>
                    </a:lnTo>
                    <a:lnTo>
                      <a:pt x="254" y="323"/>
                    </a:lnTo>
                    <a:lnTo>
                      <a:pt x="248" y="319"/>
                    </a:lnTo>
                    <a:lnTo>
                      <a:pt x="243" y="316"/>
                    </a:lnTo>
                    <a:lnTo>
                      <a:pt x="238" y="312"/>
                    </a:lnTo>
                    <a:lnTo>
                      <a:pt x="235" y="307"/>
                    </a:lnTo>
                    <a:lnTo>
                      <a:pt x="230" y="302"/>
                    </a:lnTo>
                    <a:lnTo>
                      <a:pt x="228" y="297"/>
                    </a:lnTo>
                    <a:lnTo>
                      <a:pt x="224" y="291"/>
                    </a:lnTo>
                    <a:lnTo>
                      <a:pt x="222" y="285"/>
                    </a:lnTo>
                    <a:lnTo>
                      <a:pt x="221" y="280"/>
                    </a:lnTo>
                    <a:lnTo>
                      <a:pt x="220" y="273"/>
                    </a:lnTo>
                    <a:lnTo>
                      <a:pt x="220" y="266"/>
                    </a:lnTo>
                    <a:lnTo>
                      <a:pt x="220" y="257"/>
                    </a:lnTo>
                    <a:lnTo>
                      <a:pt x="222" y="249"/>
                    </a:lnTo>
                    <a:lnTo>
                      <a:pt x="224" y="241"/>
                    </a:lnTo>
                    <a:lnTo>
                      <a:pt x="229" y="233"/>
                    </a:lnTo>
                    <a:lnTo>
                      <a:pt x="234" y="226"/>
                    </a:lnTo>
                    <a:lnTo>
                      <a:pt x="239" y="221"/>
                    </a:lnTo>
                    <a:lnTo>
                      <a:pt x="245" y="215"/>
                    </a:lnTo>
                    <a:lnTo>
                      <a:pt x="253" y="210"/>
                    </a:lnTo>
                    <a:lnTo>
                      <a:pt x="241" y="188"/>
                    </a:lnTo>
                    <a:lnTo>
                      <a:pt x="230" y="168"/>
                    </a:lnTo>
                    <a:lnTo>
                      <a:pt x="224" y="159"/>
                    </a:lnTo>
                    <a:lnTo>
                      <a:pt x="219" y="151"/>
                    </a:lnTo>
                    <a:lnTo>
                      <a:pt x="212" y="144"/>
                    </a:lnTo>
                    <a:lnTo>
                      <a:pt x="205" y="137"/>
                    </a:lnTo>
                    <a:lnTo>
                      <a:pt x="198" y="131"/>
                    </a:lnTo>
                    <a:lnTo>
                      <a:pt x="192" y="125"/>
                    </a:lnTo>
                    <a:lnTo>
                      <a:pt x="185" y="121"/>
                    </a:lnTo>
                    <a:lnTo>
                      <a:pt x="178" y="117"/>
                    </a:lnTo>
                    <a:lnTo>
                      <a:pt x="170" y="114"/>
                    </a:lnTo>
                    <a:lnTo>
                      <a:pt x="163" y="112"/>
                    </a:lnTo>
                    <a:lnTo>
                      <a:pt x="155" y="111"/>
                    </a:lnTo>
                    <a:lnTo>
                      <a:pt x="148" y="110"/>
                    </a:lnTo>
                    <a:lnTo>
                      <a:pt x="141" y="111"/>
                    </a:lnTo>
                    <a:lnTo>
                      <a:pt x="134" y="112"/>
                    </a:lnTo>
                    <a:lnTo>
                      <a:pt x="127" y="113"/>
                    </a:lnTo>
                    <a:lnTo>
                      <a:pt x="121" y="115"/>
                    </a:lnTo>
                    <a:lnTo>
                      <a:pt x="115" y="119"/>
                    </a:lnTo>
                    <a:lnTo>
                      <a:pt x="108" y="122"/>
                    </a:lnTo>
                    <a:lnTo>
                      <a:pt x="102" y="127"/>
                    </a:lnTo>
                    <a:lnTo>
                      <a:pt x="95" y="131"/>
                    </a:lnTo>
                    <a:lnTo>
                      <a:pt x="84" y="144"/>
                    </a:lnTo>
                    <a:lnTo>
                      <a:pt x="73" y="157"/>
                    </a:lnTo>
                    <a:lnTo>
                      <a:pt x="63" y="173"/>
                    </a:lnTo>
                    <a:lnTo>
                      <a:pt x="52" y="190"/>
                    </a:lnTo>
                    <a:lnTo>
                      <a:pt x="43" y="210"/>
                    </a:lnTo>
                    <a:lnTo>
                      <a:pt x="34" y="232"/>
                    </a:lnTo>
                    <a:lnTo>
                      <a:pt x="26" y="255"/>
                    </a:lnTo>
                    <a:lnTo>
                      <a:pt x="20" y="280"/>
                    </a:lnTo>
                    <a:lnTo>
                      <a:pt x="14" y="305"/>
                    </a:lnTo>
                    <a:lnTo>
                      <a:pt x="9" y="332"/>
                    </a:lnTo>
                    <a:lnTo>
                      <a:pt x="6" y="360"/>
                    </a:lnTo>
                    <a:lnTo>
                      <a:pt x="3" y="390"/>
                    </a:lnTo>
                    <a:lnTo>
                      <a:pt x="1" y="376"/>
                    </a:lnTo>
                    <a:lnTo>
                      <a:pt x="1" y="362"/>
                    </a:lnTo>
                    <a:lnTo>
                      <a:pt x="0" y="349"/>
                    </a:lnTo>
                    <a:lnTo>
                      <a:pt x="0" y="334"/>
                    </a:lnTo>
                    <a:lnTo>
                      <a:pt x="1" y="300"/>
                    </a:lnTo>
                    <a:lnTo>
                      <a:pt x="4" y="267"/>
                    </a:lnTo>
                    <a:lnTo>
                      <a:pt x="7" y="235"/>
                    </a:lnTo>
                    <a:lnTo>
                      <a:pt x="13" y="205"/>
                    </a:lnTo>
                    <a:lnTo>
                      <a:pt x="18" y="175"/>
                    </a:lnTo>
                    <a:lnTo>
                      <a:pt x="26" y="147"/>
                    </a:lnTo>
                    <a:lnTo>
                      <a:pt x="34" y="122"/>
                    </a:lnTo>
                    <a:lnTo>
                      <a:pt x="43" y="98"/>
                    </a:lnTo>
                    <a:lnTo>
                      <a:pt x="55" y="77"/>
                    </a:lnTo>
                    <a:lnTo>
                      <a:pt x="66" y="57"/>
                    </a:lnTo>
                    <a:lnTo>
                      <a:pt x="77" y="40"/>
                    </a:lnTo>
                    <a:lnTo>
                      <a:pt x="91" y="26"/>
                    </a:lnTo>
                    <a:lnTo>
                      <a:pt x="98" y="20"/>
                    </a:lnTo>
                    <a:lnTo>
                      <a:pt x="104" y="14"/>
                    </a:lnTo>
                    <a:lnTo>
                      <a:pt x="111" y="10"/>
                    </a:lnTo>
                    <a:lnTo>
                      <a:pt x="118" y="6"/>
                    </a:lnTo>
                    <a:lnTo>
                      <a:pt x="125" y="3"/>
                    </a:lnTo>
                    <a:lnTo>
                      <a:pt x="133" y="2"/>
                    </a:lnTo>
                    <a:lnTo>
                      <a:pt x="140" y="0"/>
                    </a:lnTo>
                    <a:lnTo>
                      <a:pt x="148" y="0"/>
                    </a:lnTo>
                    <a:lnTo>
                      <a:pt x="159" y="1"/>
                    </a:lnTo>
                    <a:lnTo>
                      <a:pt x="170" y="3"/>
                    </a:lnTo>
                    <a:lnTo>
                      <a:pt x="180" y="9"/>
                    </a:lnTo>
                    <a:lnTo>
                      <a:pt x="192" y="14"/>
                    </a:lnTo>
                    <a:lnTo>
                      <a:pt x="202" y="22"/>
                    </a:lnTo>
                    <a:lnTo>
                      <a:pt x="211" y="32"/>
                    </a:lnTo>
                    <a:lnTo>
                      <a:pt x="221" y="44"/>
                    </a:lnTo>
                    <a:lnTo>
                      <a:pt x="230" y="56"/>
                    </a:lnTo>
                    <a:lnTo>
                      <a:pt x="238" y="70"/>
                    </a:lnTo>
                    <a:lnTo>
                      <a:pt x="246" y="86"/>
                    </a:lnTo>
                    <a:lnTo>
                      <a:pt x="254" y="102"/>
                    </a:lnTo>
                    <a:lnTo>
                      <a:pt x="262" y="120"/>
                    </a:lnTo>
                    <a:lnTo>
                      <a:pt x="268" y="139"/>
                    </a:lnTo>
                    <a:lnTo>
                      <a:pt x="274" y="158"/>
                    </a:lnTo>
                    <a:lnTo>
                      <a:pt x="279" y="180"/>
                    </a:lnTo>
                    <a:lnTo>
                      <a:pt x="283" y="201"/>
                    </a:lnTo>
                    <a:lnTo>
                      <a:pt x="284" y="201"/>
                    </a:lnTo>
                    <a:lnTo>
                      <a:pt x="286" y="201"/>
                    </a:lnTo>
                    <a:lnTo>
                      <a:pt x="290" y="180"/>
                    </a:lnTo>
                    <a:lnTo>
                      <a:pt x="295" y="158"/>
                    </a:lnTo>
                    <a:lnTo>
                      <a:pt x="300" y="139"/>
                    </a:lnTo>
                    <a:lnTo>
                      <a:pt x="307" y="120"/>
                    </a:lnTo>
                    <a:lnTo>
                      <a:pt x="314" y="102"/>
                    </a:lnTo>
                    <a:lnTo>
                      <a:pt x="322" y="86"/>
                    </a:lnTo>
                    <a:lnTo>
                      <a:pt x="330" y="70"/>
                    </a:lnTo>
                    <a:lnTo>
                      <a:pt x="339" y="56"/>
                    </a:lnTo>
                    <a:lnTo>
                      <a:pt x="348" y="44"/>
                    </a:lnTo>
                    <a:lnTo>
                      <a:pt x="357" y="32"/>
                    </a:lnTo>
                    <a:lnTo>
                      <a:pt x="367" y="22"/>
                    </a:lnTo>
                    <a:lnTo>
                      <a:pt x="377" y="14"/>
                    </a:lnTo>
                    <a:lnTo>
                      <a:pt x="388" y="9"/>
                    </a:lnTo>
                    <a:lnTo>
                      <a:pt x="399" y="3"/>
                    </a:lnTo>
                    <a:lnTo>
                      <a:pt x="409" y="1"/>
                    </a:lnTo>
                    <a:lnTo>
                      <a:pt x="420" y="0"/>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22680" y="445680"/>
                <a:ext cx="333360" cy="141120"/>
              </a:xfrm>
              <a:custGeom>
                <a:avLst/>
                <a:gdLst/>
                <a:ahLst/>
                <a:rect l="l" t="t" r="r" b="b"/>
                <a:pathLst>
                  <a:path w="525" h="223">
                    <a:moveTo>
                      <a:pt x="263" y="223"/>
                    </a:moveTo>
                    <a:lnTo>
                      <a:pt x="259" y="223"/>
                    </a:lnTo>
                    <a:lnTo>
                      <a:pt x="255" y="222"/>
                    </a:lnTo>
                    <a:lnTo>
                      <a:pt x="251" y="220"/>
                    </a:lnTo>
                    <a:lnTo>
                      <a:pt x="248" y="218"/>
                    </a:lnTo>
                    <a:lnTo>
                      <a:pt x="243" y="214"/>
                    </a:lnTo>
                    <a:lnTo>
                      <a:pt x="239" y="208"/>
                    </a:lnTo>
                    <a:lnTo>
                      <a:pt x="234" y="200"/>
                    </a:lnTo>
                    <a:lnTo>
                      <a:pt x="229" y="190"/>
                    </a:lnTo>
                    <a:lnTo>
                      <a:pt x="221" y="167"/>
                    </a:lnTo>
                    <a:lnTo>
                      <a:pt x="213" y="148"/>
                    </a:lnTo>
                    <a:lnTo>
                      <a:pt x="203" y="130"/>
                    </a:lnTo>
                    <a:lnTo>
                      <a:pt x="192" y="115"/>
                    </a:lnTo>
                    <a:lnTo>
                      <a:pt x="181" y="101"/>
                    </a:lnTo>
                    <a:lnTo>
                      <a:pt x="170" y="90"/>
                    </a:lnTo>
                    <a:lnTo>
                      <a:pt x="156" y="80"/>
                    </a:lnTo>
                    <a:lnTo>
                      <a:pt x="143" y="71"/>
                    </a:lnTo>
                    <a:lnTo>
                      <a:pt x="128" y="63"/>
                    </a:lnTo>
                    <a:lnTo>
                      <a:pt x="113" y="56"/>
                    </a:lnTo>
                    <a:lnTo>
                      <a:pt x="96" y="50"/>
                    </a:lnTo>
                    <a:lnTo>
                      <a:pt x="79" y="45"/>
                    </a:lnTo>
                    <a:lnTo>
                      <a:pt x="42" y="32"/>
                    </a:lnTo>
                    <a:lnTo>
                      <a:pt x="0" y="20"/>
                    </a:lnTo>
                    <a:lnTo>
                      <a:pt x="9" y="15"/>
                    </a:lnTo>
                    <a:lnTo>
                      <a:pt x="19" y="12"/>
                    </a:lnTo>
                    <a:lnTo>
                      <a:pt x="29" y="8"/>
                    </a:lnTo>
                    <a:lnTo>
                      <a:pt x="40" y="5"/>
                    </a:lnTo>
                    <a:lnTo>
                      <a:pt x="50" y="3"/>
                    </a:lnTo>
                    <a:lnTo>
                      <a:pt x="60" y="2"/>
                    </a:lnTo>
                    <a:lnTo>
                      <a:pt x="71" y="0"/>
                    </a:lnTo>
                    <a:lnTo>
                      <a:pt x="82" y="0"/>
                    </a:lnTo>
                    <a:lnTo>
                      <a:pt x="104" y="2"/>
                    </a:lnTo>
                    <a:lnTo>
                      <a:pt x="126" y="5"/>
                    </a:lnTo>
                    <a:lnTo>
                      <a:pt x="147" y="10"/>
                    </a:lnTo>
                    <a:lnTo>
                      <a:pt x="168" y="17"/>
                    </a:lnTo>
                    <a:lnTo>
                      <a:pt x="187" y="27"/>
                    </a:lnTo>
                    <a:lnTo>
                      <a:pt x="205" y="37"/>
                    </a:lnTo>
                    <a:lnTo>
                      <a:pt x="213" y="42"/>
                    </a:lnTo>
                    <a:lnTo>
                      <a:pt x="221" y="49"/>
                    </a:lnTo>
                    <a:lnTo>
                      <a:pt x="228" y="56"/>
                    </a:lnTo>
                    <a:lnTo>
                      <a:pt x="234" y="63"/>
                    </a:lnTo>
                    <a:lnTo>
                      <a:pt x="241" y="70"/>
                    </a:lnTo>
                    <a:lnTo>
                      <a:pt x="246" y="78"/>
                    </a:lnTo>
                    <a:lnTo>
                      <a:pt x="251" y="85"/>
                    </a:lnTo>
                    <a:lnTo>
                      <a:pt x="255" y="93"/>
                    </a:lnTo>
                    <a:lnTo>
                      <a:pt x="258" y="101"/>
                    </a:lnTo>
                    <a:lnTo>
                      <a:pt x="260" y="110"/>
                    </a:lnTo>
                    <a:lnTo>
                      <a:pt x="262" y="119"/>
                    </a:lnTo>
                    <a:lnTo>
                      <a:pt x="262" y="129"/>
                    </a:lnTo>
                    <a:lnTo>
                      <a:pt x="263" y="129"/>
                    </a:lnTo>
                    <a:lnTo>
                      <a:pt x="263" y="129"/>
                    </a:lnTo>
                    <a:lnTo>
                      <a:pt x="263" y="129"/>
                    </a:lnTo>
                    <a:lnTo>
                      <a:pt x="263" y="129"/>
                    </a:lnTo>
                    <a:lnTo>
                      <a:pt x="263" y="129"/>
                    </a:lnTo>
                    <a:lnTo>
                      <a:pt x="264" y="129"/>
                    </a:lnTo>
                    <a:lnTo>
                      <a:pt x="264" y="119"/>
                    </a:lnTo>
                    <a:lnTo>
                      <a:pt x="265" y="110"/>
                    </a:lnTo>
                    <a:lnTo>
                      <a:pt x="267" y="101"/>
                    </a:lnTo>
                    <a:lnTo>
                      <a:pt x="271" y="93"/>
                    </a:lnTo>
                    <a:lnTo>
                      <a:pt x="275" y="85"/>
                    </a:lnTo>
                    <a:lnTo>
                      <a:pt x="280" y="78"/>
                    </a:lnTo>
                    <a:lnTo>
                      <a:pt x="284" y="70"/>
                    </a:lnTo>
                    <a:lnTo>
                      <a:pt x="291" y="63"/>
                    </a:lnTo>
                    <a:lnTo>
                      <a:pt x="298" y="56"/>
                    </a:lnTo>
                    <a:lnTo>
                      <a:pt x="305" y="49"/>
                    </a:lnTo>
                    <a:lnTo>
                      <a:pt x="312" y="42"/>
                    </a:lnTo>
                    <a:lnTo>
                      <a:pt x="320" y="37"/>
                    </a:lnTo>
                    <a:lnTo>
                      <a:pt x="339" y="27"/>
                    </a:lnTo>
                    <a:lnTo>
                      <a:pt x="358" y="17"/>
                    </a:lnTo>
                    <a:lnTo>
                      <a:pt x="378" y="10"/>
                    </a:lnTo>
                    <a:lnTo>
                      <a:pt x="400" y="5"/>
                    </a:lnTo>
                    <a:lnTo>
                      <a:pt x="421" y="2"/>
                    </a:lnTo>
                    <a:lnTo>
                      <a:pt x="444" y="0"/>
                    </a:lnTo>
                    <a:lnTo>
                      <a:pt x="454" y="0"/>
                    </a:lnTo>
                    <a:lnTo>
                      <a:pt x="465" y="2"/>
                    </a:lnTo>
                    <a:lnTo>
                      <a:pt x="475" y="3"/>
                    </a:lnTo>
                    <a:lnTo>
                      <a:pt x="487" y="5"/>
                    </a:lnTo>
                    <a:lnTo>
                      <a:pt x="497" y="8"/>
                    </a:lnTo>
                    <a:lnTo>
                      <a:pt x="506" y="12"/>
                    </a:lnTo>
                    <a:lnTo>
                      <a:pt x="516" y="15"/>
                    </a:lnTo>
                    <a:lnTo>
                      <a:pt x="525" y="20"/>
                    </a:lnTo>
                    <a:lnTo>
                      <a:pt x="483" y="32"/>
                    </a:lnTo>
                    <a:lnTo>
                      <a:pt x="446" y="45"/>
                    </a:lnTo>
                    <a:lnTo>
                      <a:pt x="429" y="50"/>
                    </a:lnTo>
                    <a:lnTo>
                      <a:pt x="412" y="56"/>
                    </a:lnTo>
                    <a:lnTo>
                      <a:pt x="397" y="63"/>
                    </a:lnTo>
                    <a:lnTo>
                      <a:pt x="383" y="71"/>
                    </a:lnTo>
                    <a:lnTo>
                      <a:pt x="369" y="80"/>
                    </a:lnTo>
                    <a:lnTo>
                      <a:pt x="357" y="90"/>
                    </a:lnTo>
                    <a:lnTo>
                      <a:pt x="344" y="101"/>
                    </a:lnTo>
                    <a:lnTo>
                      <a:pt x="333" y="115"/>
                    </a:lnTo>
                    <a:lnTo>
                      <a:pt x="323" y="130"/>
                    </a:lnTo>
                    <a:lnTo>
                      <a:pt x="314" y="148"/>
                    </a:lnTo>
                    <a:lnTo>
                      <a:pt x="305" y="167"/>
                    </a:lnTo>
                    <a:lnTo>
                      <a:pt x="297" y="190"/>
                    </a:lnTo>
                    <a:lnTo>
                      <a:pt x="291" y="200"/>
                    </a:lnTo>
                    <a:lnTo>
                      <a:pt x="286" y="208"/>
                    </a:lnTo>
                    <a:lnTo>
                      <a:pt x="282" y="214"/>
                    </a:lnTo>
                    <a:lnTo>
                      <a:pt x="277" y="218"/>
                    </a:lnTo>
                    <a:lnTo>
                      <a:pt x="274" y="220"/>
                    </a:lnTo>
                    <a:lnTo>
                      <a:pt x="271" y="222"/>
                    </a:lnTo>
                    <a:lnTo>
                      <a:pt x="267" y="223"/>
                    </a:lnTo>
                    <a:lnTo>
                      <a:pt x="263" y="223"/>
                    </a:lnTo>
                    <a:close/>
                  </a:path>
                </a:pathLst>
              </a:custGeom>
              <a:solidFill>
                <a:srgbClr val="2522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9360" y="413280"/>
                <a:ext cx="52560" cy="25200"/>
              </a:xfrm>
              <a:custGeom>
                <a:avLst/>
                <a:gdLst/>
                <a:ahLst/>
                <a:rect l="l" t="t" r="r" b="b"/>
                <a:pathLst>
                  <a:path w="83" h="40">
                    <a:moveTo>
                      <a:pt x="13" y="9"/>
                    </a:moveTo>
                    <a:lnTo>
                      <a:pt x="13" y="7"/>
                    </a:lnTo>
                    <a:lnTo>
                      <a:pt x="13" y="5"/>
                    </a:lnTo>
                    <a:lnTo>
                      <a:pt x="13" y="5"/>
                    </a:lnTo>
                    <a:lnTo>
                      <a:pt x="13" y="4"/>
                    </a:lnTo>
                    <a:lnTo>
                      <a:pt x="11" y="4"/>
                    </a:lnTo>
                    <a:lnTo>
                      <a:pt x="8" y="4"/>
                    </a:lnTo>
                    <a:lnTo>
                      <a:pt x="7" y="4"/>
                    </a:lnTo>
                    <a:lnTo>
                      <a:pt x="6" y="4"/>
                    </a:lnTo>
                    <a:lnTo>
                      <a:pt x="5" y="5"/>
                    </a:lnTo>
                    <a:lnTo>
                      <a:pt x="5" y="6"/>
                    </a:lnTo>
                    <a:lnTo>
                      <a:pt x="4" y="7"/>
                    </a:lnTo>
                    <a:lnTo>
                      <a:pt x="4" y="8"/>
                    </a:lnTo>
                    <a:lnTo>
                      <a:pt x="2" y="9"/>
                    </a:lnTo>
                    <a:lnTo>
                      <a:pt x="1" y="11"/>
                    </a:lnTo>
                    <a:lnTo>
                      <a:pt x="0" y="11"/>
                    </a:lnTo>
                    <a:lnTo>
                      <a:pt x="0" y="9"/>
                    </a:lnTo>
                    <a:lnTo>
                      <a:pt x="0" y="9"/>
                    </a:lnTo>
                    <a:lnTo>
                      <a:pt x="0" y="8"/>
                    </a:lnTo>
                    <a:lnTo>
                      <a:pt x="0" y="5"/>
                    </a:lnTo>
                    <a:lnTo>
                      <a:pt x="1" y="3"/>
                    </a:lnTo>
                    <a:lnTo>
                      <a:pt x="2" y="2"/>
                    </a:lnTo>
                    <a:lnTo>
                      <a:pt x="4" y="0"/>
                    </a:lnTo>
                    <a:lnTo>
                      <a:pt x="4" y="0"/>
                    </a:lnTo>
                    <a:lnTo>
                      <a:pt x="4" y="0"/>
                    </a:lnTo>
                    <a:lnTo>
                      <a:pt x="6" y="0"/>
                    </a:lnTo>
                    <a:lnTo>
                      <a:pt x="7" y="0"/>
                    </a:lnTo>
                    <a:lnTo>
                      <a:pt x="24" y="0"/>
                    </a:lnTo>
                    <a:lnTo>
                      <a:pt x="25" y="0"/>
                    </a:lnTo>
                    <a:lnTo>
                      <a:pt x="26" y="0"/>
                    </a:lnTo>
                    <a:lnTo>
                      <a:pt x="26" y="0"/>
                    </a:lnTo>
                    <a:lnTo>
                      <a:pt x="26" y="0"/>
                    </a:lnTo>
                    <a:lnTo>
                      <a:pt x="28" y="2"/>
                    </a:lnTo>
                    <a:lnTo>
                      <a:pt x="30" y="3"/>
                    </a:lnTo>
                    <a:lnTo>
                      <a:pt x="30" y="5"/>
                    </a:lnTo>
                    <a:lnTo>
                      <a:pt x="30" y="8"/>
                    </a:lnTo>
                    <a:lnTo>
                      <a:pt x="30" y="9"/>
                    </a:lnTo>
                    <a:lnTo>
                      <a:pt x="30" y="9"/>
                    </a:lnTo>
                    <a:lnTo>
                      <a:pt x="30" y="11"/>
                    </a:lnTo>
                    <a:lnTo>
                      <a:pt x="28" y="11"/>
                    </a:lnTo>
                    <a:lnTo>
                      <a:pt x="28" y="9"/>
                    </a:lnTo>
                    <a:lnTo>
                      <a:pt x="27" y="8"/>
                    </a:lnTo>
                    <a:lnTo>
                      <a:pt x="26" y="7"/>
                    </a:lnTo>
                    <a:lnTo>
                      <a:pt x="26" y="6"/>
                    </a:lnTo>
                    <a:lnTo>
                      <a:pt x="25" y="5"/>
                    </a:lnTo>
                    <a:lnTo>
                      <a:pt x="24" y="4"/>
                    </a:lnTo>
                    <a:lnTo>
                      <a:pt x="23" y="4"/>
                    </a:lnTo>
                    <a:lnTo>
                      <a:pt x="22" y="4"/>
                    </a:lnTo>
                    <a:lnTo>
                      <a:pt x="19" y="4"/>
                    </a:lnTo>
                    <a:lnTo>
                      <a:pt x="18" y="4"/>
                    </a:lnTo>
                    <a:lnTo>
                      <a:pt x="17" y="4"/>
                    </a:lnTo>
                    <a:lnTo>
                      <a:pt x="17" y="5"/>
                    </a:lnTo>
                    <a:lnTo>
                      <a:pt x="17" y="7"/>
                    </a:lnTo>
                    <a:lnTo>
                      <a:pt x="17" y="9"/>
                    </a:lnTo>
                    <a:lnTo>
                      <a:pt x="17" y="20"/>
                    </a:lnTo>
                    <a:lnTo>
                      <a:pt x="17" y="28"/>
                    </a:lnTo>
                    <a:lnTo>
                      <a:pt x="17" y="32"/>
                    </a:lnTo>
                    <a:lnTo>
                      <a:pt x="17" y="34"/>
                    </a:lnTo>
                    <a:lnTo>
                      <a:pt x="18" y="36"/>
                    </a:lnTo>
                    <a:lnTo>
                      <a:pt x="18" y="36"/>
                    </a:lnTo>
                    <a:lnTo>
                      <a:pt x="19" y="37"/>
                    </a:lnTo>
                    <a:lnTo>
                      <a:pt x="21" y="37"/>
                    </a:lnTo>
                    <a:lnTo>
                      <a:pt x="22" y="38"/>
                    </a:lnTo>
                    <a:lnTo>
                      <a:pt x="21" y="38"/>
                    </a:lnTo>
                    <a:lnTo>
                      <a:pt x="19" y="39"/>
                    </a:lnTo>
                    <a:lnTo>
                      <a:pt x="18" y="39"/>
                    </a:lnTo>
                    <a:lnTo>
                      <a:pt x="15" y="39"/>
                    </a:lnTo>
                    <a:lnTo>
                      <a:pt x="13" y="39"/>
                    </a:lnTo>
                    <a:lnTo>
                      <a:pt x="10" y="39"/>
                    </a:lnTo>
                    <a:lnTo>
                      <a:pt x="9" y="38"/>
                    </a:lnTo>
                    <a:lnTo>
                      <a:pt x="9" y="38"/>
                    </a:lnTo>
                    <a:lnTo>
                      <a:pt x="9" y="37"/>
                    </a:lnTo>
                    <a:lnTo>
                      <a:pt x="10" y="37"/>
                    </a:lnTo>
                    <a:lnTo>
                      <a:pt x="11" y="36"/>
                    </a:lnTo>
                    <a:lnTo>
                      <a:pt x="13" y="36"/>
                    </a:lnTo>
                    <a:lnTo>
                      <a:pt x="13" y="34"/>
                    </a:lnTo>
                    <a:lnTo>
                      <a:pt x="13" y="31"/>
                    </a:lnTo>
                    <a:lnTo>
                      <a:pt x="13" y="27"/>
                    </a:lnTo>
                    <a:lnTo>
                      <a:pt x="13" y="20"/>
                    </a:lnTo>
                    <a:lnTo>
                      <a:pt x="13" y="9"/>
                    </a:lnTo>
                    <a:close/>
                    <a:moveTo>
                      <a:pt x="27" y="37"/>
                    </a:moveTo>
                    <a:lnTo>
                      <a:pt x="28" y="36"/>
                    </a:lnTo>
                    <a:lnTo>
                      <a:pt x="28" y="34"/>
                    </a:lnTo>
                    <a:lnTo>
                      <a:pt x="30" y="34"/>
                    </a:lnTo>
                    <a:lnTo>
                      <a:pt x="31" y="33"/>
                    </a:lnTo>
                    <a:lnTo>
                      <a:pt x="32" y="34"/>
                    </a:lnTo>
                    <a:lnTo>
                      <a:pt x="33" y="34"/>
                    </a:lnTo>
                    <a:lnTo>
                      <a:pt x="34" y="36"/>
                    </a:lnTo>
                    <a:lnTo>
                      <a:pt x="34" y="37"/>
                    </a:lnTo>
                    <a:lnTo>
                      <a:pt x="34" y="38"/>
                    </a:lnTo>
                    <a:lnTo>
                      <a:pt x="33" y="39"/>
                    </a:lnTo>
                    <a:lnTo>
                      <a:pt x="32" y="40"/>
                    </a:lnTo>
                    <a:lnTo>
                      <a:pt x="31" y="40"/>
                    </a:lnTo>
                    <a:lnTo>
                      <a:pt x="30" y="40"/>
                    </a:lnTo>
                    <a:lnTo>
                      <a:pt x="28" y="39"/>
                    </a:lnTo>
                    <a:lnTo>
                      <a:pt x="28" y="38"/>
                    </a:lnTo>
                    <a:lnTo>
                      <a:pt x="27" y="37"/>
                    </a:lnTo>
                    <a:close/>
                    <a:moveTo>
                      <a:pt x="59" y="40"/>
                    </a:moveTo>
                    <a:lnTo>
                      <a:pt x="56" y="40"/>
                    </a:lnTo>
                    <a:lnTo>
                      <a:pt x="53" y="39"/>
                    </a:lnTo>
                    <a:lnTo>
                      <a:pt x="50" y="38"/>
                    </a:lnTo>
                    <a:lnTo>
                      <a:pt x="48" y="37"/>
                    </a:lnTo>
                    <a:lnTo>
                      <a:pt x="44" y="33"/>
                    </a:lnTo>
                    <a:lnTo>
                      <a:pt x="42" y="30"/>
                    </a:lnTo>
                    <a:lnTo>
                      <a:pt x="41" y="24"/>
                    </a:lnTo>
                    <a:lnTo>
                      <a:pt x="40" y="20"/>
                    </a:lnTo>
                    <a:lnTo>
                      <a:pt x="40" y="16"/>
                    </a:lnTo>
                    <a:lnTo>
                      <a:pt x="41" y="13"/>
                    </a:lnTo>
                    <a:lnTo>
                      <a:pt x="42" y="11"/>
                    </a:lnTo>
                    <a:lnTo>
                      <a:pt x="43" y="7"/>
                    </a:lnTo>
                    <a:lnTo>
                      <a:pt x="47" y="5"/>
                    </a:lnTo>
                    <a:lnTo>
                      <a:pt x="50" y="2"/>
                    </a:lnTo>
                    <a:lnTo>
                      <a:pt x="53" y="0"/>
                    </a:lnTo>
                    <a:lnTo>
                      <a:pt x="58" y="0"/>
                    </a:lnTo>
                    <a:lnTo>
                      <a:pt x="60" y="0"/>
                    </a:lnTo>
                    <a:lnTo>
                      <a:pt x="64" y="0"/>
                    </a:lnTo>
                    <a:lnTo>
                      <a:pt x="66" y="2"/>
                    </a:lnTo>
                    <a:lnTo>
                      <a:pt x="67" y="2"/>
                    </a:lnTo>
                    <a:lnTo>
                      <a:pt x="67" y="2"/>
                    </a:lnTo>
                    <a:lnTo>
                      <a:pt x="68" y="2"/>
                    </a:lnTo>
                    <a:lnTo>
                      <a:pt x="68" y="2"/>
                    </a:lnTo>
                    <a:lnTo>
                      <a:pt x="69" y="2"/>
                    </a:lnTo>
                    <a:lnTo>
                      <a:pt x="70" y="2"/>
                    </a:lnTo>
                    <a:lnTo>
                      <a:pt x="70" y="3"/>
                    </a:lnTo>
                    <a:lnTo>
                      <a:pt x="71" y="5"/>
                    </a:lnTo>
                    <a:lnTo>
                      <a:pt x="71" y="8"/>
                    </a:lnTo>
                    <a:lnTo>
                      <a:pt x="71" y="9"/>
                    </a:lnTo>
                    <a:lnTo>
                      <a:pt x="71" y="9"/>
                    </a:lnTo>
                    <a:lnTo>
                      <a:pt x="70" y="11"/>
                    </a:lnTo>
                    <a:lnTo>
                      <a:pt x="70" y="11"/>
                    </a:lnTo>
                    <a:lnTo>
                      <a:pt x="69" y="9"/>
                    </a:lnTo>
                    <a:lnTo>
                      <a:pt x="68" y="8"/>
                    </a:lnTo>
                    <a:lnTo>
                      <a:pt x="68" y="7"/>
                    </a:lnTo>
                    <a:lnTo>
                      <a:pt x="67" y="6"/>
                    </a:lnTo>
                    <a:lnTo>
                      <a:pt x="66" y="5"/>
                    </a:lnTo>
                    <a:lnTo>
                      <a:pt x="64" y="4"/>
                    </a:lnTo>
                    <a:lnTo>
                      <a:pt x="61" y="3"/>
                    </a:lnTo>
                    <a:lnTo>
                      <a:pt x="58" y="3"/>
                    </a:lnTo>
                    <a:lnTo>
                      <a:pt x="56" y="3"/>
                    </a:lnTo>
                    <a:lnTo>
                      <a:pt x="53" y="4"/>
                    </a:lnTo>
                    <a:lnTo>
                      <a:pt x="51" y="5"/>
                    </a:lnTo>
                    <a:lnTo>
                      <a:pt x="49" y="7"/>
                    </a:lnTo>
                    <a:lnTo>
                      <a:pt x="47" y="12"/>
                    </a:lnTo>
                    <a:lnTo>
                      <a:pt x="45" y="17"/>
                    </a:lnTo>
                    <a:lnTo>
                      <a:pt x="45" y="21"/>
                    </a:lnTo>
                    <a:lnTo>
                      <a:pt x="47" y="24"/>
                    </a:lnTo>
                    <a:lnTo>
                      <a:pt x="47" y="28"/>
                    </a:lnTo>
                    <a:lnTo>
                      <a:pt x="49" y="30"/>
                    </a:lnTo>
                    <a:lnTo>
                      <a:pt x="51" y="33"/>
                    </a:lnTo>
                    <a:lnTo>
                      <a:pt x="53" y="36"/>
                    </a:lnTo>
                    <a:lnTo>
                      <a:pt x="57" y="37"/>
                    </a:lnTo>
                    <a:lnTo>
                      <a:pt x="60" y="37"/>
                    </a:lnTo>
                    <a:lnTo>
                      <a:pt x="62" y="37"/>
                    </a:lnTo>
                    <a:lnTo>
                      <a:pt x="65" y="36"/>
                    </a:lnTo>
                    <a:lnTo>
                      <a:pt x="67" y="34"/>
                    </a:lnTo>
                    <a:lnTo>
                      <a:pt x="68" y="33"/>
                    </a:lnTo>
                    <a:lnTo>
                      <a:pt x="69" y="33"/>
                    </a:lnTo>
                    <a:lnTo>
                      <a:pt x="69" y="32"/>
                    </a:lnTo>
                    <a:lnTo>
                      <a:pt x="70" y="31"/>
                    </a:lnTo>
                    <a:lnTo>
                      <a:pt x="71" y="30"/>
                    </a:lnTo>
                    <a:lnTo>
                      <a:pt x="71" y="31"/>
                    </a:lnTo>
                    <a:lnTo>
                      <a:pt x="71" y="31"/>
                    </a:lnTo>
                    <a:lnTo>
                      <a:pt x="73" y="32"/>
                    </a:lnTo>
                    <a:lnTo>
                      <a:pt x="73" y="32"/>
                    </a:lnTo>
                    <a:lnTo>
                      <a:pt x="71" y="34"/>
                    </a:lnTo>
                    <a:lnTo>
                      <a:pt x="71" y="36"/>
                    </a:lnTo>
                    <a:lnTo>
                      <a:pt x="70" y="37"/>
                    </a:lnTo>
                    <a:lnTo>
                      <a:pt x="69" y="38"/>
                    </a:lnTo>
                    <a:lnTo>
                      <a:pt x="69" y="38"/>
                    </a:lnTo>
                    <a:lnTo>
                      <a:pt x="69" y="38"/>
                    </a:lnTo>
                    <a:lnTo>
                      <a:pt x="69" y="38"/>
                    </a:lnTo>
                    <a:lnTo>
                      <a:pt x="69" y="38"/>
                    </a:lnTo>
                    <a:lnTo>
                      <a:pt x="69" y="38"/>
                    </a:lnTo>
                    <a:lnTo>
                      <a:pt x="68" y="38"/>
                    </a:lnTo>
                    <a:lnTo>
                      <a:pt x="68" y="38"/>
                    </a:lnTo>
                    <a:lnTo>
                      <a:pt x="68" y="38"/>
                    </a:lnTo>
                    <a:lnTo>
                      <a:pt x="66" y="39"/>
                    </a:lnTo>
                    <a:lnTo>
                      <a:pt x="64" y="40"/>
                    </a:lnTo>
                    <a:lnTo>
                      <a:pt x="61" y="40"/>
                    </a:lnTo>
                    <a:lnTo>
                      <a:pt x="59" y="40"/>
                    </a:lnTo>
                    <a:close/>
                    <a:moveTo>
                      <a:pt x="77" y="37"/>
                    </a:moveTo>
                    <a:lnTo>
                      <a:pt x="77" y="36"/>
                    </a:lnTo>
                    <a:lnTo>
                      <a:pt x="78" y="34"/>
                    </a:lnTo>
                    <a:lnTo>
                      <a:pt x="79" y="34"/>
                    </a:lnTo>
                    <a:lnTo>
                      <a:pt x="81" y="33"/>
                    </a:lnTo>
                    <a:lnTo>
                      <a:pt x="82" y="34"/>
                    </a:lnTo>
                    <a:lnTo>
                      <a:pt x="83" y="34"/>
                    </a:lnTo>
                    <a:lnTo>
                      <a:pt x="83" y="36"/>
                    </a:lnTo>
                    <a:lnTo>
                      <a:pt x="83" y="37"/>
                    </a:lnTo>
                    <a:lnTo>
                      <a:pt x="83" y="38"/>
                    </a:lnTo>
                    <a:lnTo>
                      <a:pt x="83" y="39"/>
                    </a:lnTo>
                    <a:lnTo>
                      <a:pt x="82" y="40"/>
                    </a:lnTo>
                    <a:lnTo>
                      <a:pt x="81" y="40"/>
                    </a:lnTo>
                    <a:lnTo>
                      <a:pt x="79" y="40"/>
                    </a:lnTo>
                    <a:lnTo>
                      <a:pt x="78" y="39"/>
                    </a:lnTo>
                    <a:lnTo>
                      <a:pt x="77" y="38"/>
                    </a:lnTo>
                    <a:lnTo>
                      <a:pt x="77" y="37"/>
                    </a:lnTo>
                    <a:close/>
                  </a:path>
                </a:pathLst>
              </a:custGeom>
              <a:solidFill>
                <a:srgbClr val="29166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12" name=""/>
              <p:cNvSpPr/>
              <p:nvPr/>
            </p:nvSpPr>
            <p:spPr>
              <a:xfrm>
                <a:off x="1068480" y="413280"/>
                <a:ext cx="110880" cy="25200"/>
              </a:xfrm>
              <a:custGeom>
                <a:avLst/>
                <a:gdLst/>
                <a:ahLst/>
                <a:rect l="l" t="t" r="r" b="b"/>
                <a:pathLst>
                  <a:path w="175" h="40">
                    <a:moveTo>
                      <a:pt x="8" y="7"/>
                    </a:moveTo>
                    <a:lnTo>
                      <a:pt x="7" y="20"/>
                    </a:lnTo>
                    <a:lnTo>
                      <a:pt x="7" y="21"/>
                    </a:lnTo>
                    <a:lnTo>
                      <a:pt x="7" y="21"/>
                    </a:lnTo>
                    <a:lnTo>
                      <a:pt x="7" y="25"/>
                    </a:lnTo>
                    <a:lnTo>
                      <a:pt x="7" y="30"/>
                    </a:lnTo>
                    <a:lnTo>
                      <a:pt x="7" y="31"/>
                    </a:lnTo>
                    <a:lnTo>
                      <a:pt x="7" y="33"/>
                    </a:lnTo>
                    <a:lnTo>
                      <a:pt x="7" y="34"/>
                    </a:lnTo>
                    <a:lnTo>
                      <a:pt x="8" y="36"/>
                    </a:lnTo>
                    <a:lnTo>
                      <a:pt x="8" y="36"/>
                    </a:lnTo>
                    <a:lnTo>
                      <a:pt x="8" y="37"/>
                    </a:lnTo>
                    <a:lnTo>
                      <a:pt x="9" y="37"/>
                    </a:lnTo>
                    <a:lnTo>
                      <a:pt x="10" y="37"/>
                    </a:lnTo>
                    <a:lnTo>
                      <a:pt x="11" y="38"/>
                    </a:lnTo>
                    <a:lnTo>
                      <a:pt x="10" y="39"/>
                    </a:lnTo>
                    <a:lnTo>
                      <a:pt x="9" y="39"/>
                    </a:lnTo>
                    <a:lnTo>
                      <a:pt x="8" y="39"/>
                    </a:lnTo>
                    <a:lnTo>
                      <a:pt x="5" y="39"/>
                    </a:lnTo>
                    <a:lnTo>
                      <a:pt x="2" y="39"/>
                    </a:lnTo>
                    <a:lnTo>
                      <a:pt x="1" y="39"/>
                    </a:lnTo>
                    <a:lnTo>
                      <a:pt x="0" y="39"/>
                    </a:lnTo>
                    <a:lnTo>
                      <a:pt x="0" y="38"/>
                    </a:lnTo>
                    <a:lnTo>
                      <a:pt x="0" y="37"/>
                    </a:lnTo>
                    <a:lnTo>
                      <a:pt x="2" y="37"/>
                    </a:lnTo>
                    <a:lnTo>
                      <a:pt x="2" y="37"/>
                    </a:lnTo>
                    <a:lnTo>
                      <a:pt x="2" y="36"/>
                    </a:lnTo>
                    <a:lnTo>
                      <a:pt x="3" y="36"/>
                    </a:lnTo>
                    <a:lnTo>
                      <a:pt x="3" y="34"/>
                    </a:lnTo>
                    <a:lnTo>
                      <a:pt x="3" y="34"/>
                    </a:lnTo>
                    <a:lnTo>
                      <a:pt x="4" y="23"/>
                    </a:lnTo>
                    <a:lnTo>
                      <a:pt x="4" y="9"/>
                    </a:lnTo>
                    <a:lnTo>
                      <a:pt x="4" y="8"/>
                    </a:lnTo>
                    <a:lnTo>
                      <a:pt x="4" y="6"/>
                    </a:lnTo>
                    <a:lnTo>
                      <a:pt x="4" y="5"/>
                    </a:lnTo>
                    <a:lnTo>
                      <a:pt x="4" y="5"/>
                    </a:lnTo>
                    <a:lnTo>
                      <a:pt x="3" y="4"/>
                    </a:lnTo>
                    <a:lnTo>
                      <a:pt x="3" y="4"/>
                    </a:lnTo>
                    <a:lnTo>
                      <a:pt x="2" y="4"/>
                    </a:lnTo>
                    <a:lnTo>
                      <a:pt x="1" y="3"/>
                    </a:lnTo>
                    <a:lnTo>
                      <a:pt x="1" y="3"/>
                    </a:lnTo>
                    <a:lnTo>
                      <a:pt x="1" y="2"/>
                    </a:lnTo>
                    <a:lnTo>
                      <a:pt x="2" y="2"/>
                    </a:lnTo>
                    <a:lnTo>
                      <a:pt x="3" y="0"/>
                    </a:lnTo>
                    <a:lnTo>
                      <a:pt x="7" y="0"/>
                    </a:lnTo>
                    <a:lnTo>
                      <a:pt x="8" y="0"/>
                    </a:lnTo>
                    <a:lnTo>
                      <a:pt x="9" y="0"/>
                    </a:lnTo>
                    <a:lnTo>
                      <a:pt x="9" y="2"/>
                    </a:lnTo>
                    <a:lnTo>
                      <a:pt x="9" y="2"/>
                    </a:lnTo>
                    <a:lnTo>
                      <a:pt x="10" y="3"/>
                    </a:lnTo>
                    <a:lnTo>
                      <a:pt x="11" y="6"/>
                    </a:lnTo>
                    <a:lnTo>
                      <a:pt x="12" y="7"/>
                    </a:lnTo>
                    <a:lnTo>
                      <a:pt x="12" y="7"/>
                    </a:lnTo>
                    <a:lnTo>
                      <a:pt x="16" y="16"/>
                    </a:lnTo>
                    <a:lnTo>
                      <a:pt x="18" y="24"/>
                    </a:lnTo>
                    <a:lnTo>
                      <a:pt x="20" y="29"/>
                    </a:lnTo>
                    <a:lnTo>
                      <a:pt x="21" y="30"/>
                    </a:lnTo>
                    <a:lnTo>
                      <a:pt x="22" y="29"/>
                    </a:lnTo>
                    <a:lnTo>
                      <a:pt x="25" y="24"/>
                    </a:lnTo>
                    <a:lnTo>
                      <a:pt x="27" y="17"/>
                    </a:lnTo>
                    <a:lnTo>
                      <a:pt x="30" y="9"/>
                    </a:lnTo>
                    <a:lnTo>
                      <a:pt x="32" y="8"/>
                    </a:lnTo>
                    <a:lnTo>
                      <a:pt x="32" y="6"/>
                    </a:lnTo>
                    <a:lnTo>
                      <a:pt x="33" y="4"/>
                    </a:lnTo>
                    <a:lnTo>
                      <a:pt x="34" y="2"/>
                    </a:lnTo>
                    <a:lnTo>
                      <a:pt x="34" y="2"/>
                    </a:lnTo>
                    <a:lnTo>
                      <a:pt x="35" y="2"/>
                    </a:lnTo>
                    <a:lnTo>
                      <a:pt x="36" y="0"/>
                    </a:lnTo>
                    <a:lnTo>
                      <a:pt x="37" y="0"/>
                    </a:lnTo>
                    <a:lnTo>
                      <a:pt x="39" y="0"/>
                    </a:lnTo>
                    <a:lnTo>
                      <a:pt x="42" y="2"/>
                    </a:lnTo>
                    <a:lnTo>
                      <a:pt x="43" y="2"/>
                    </a:lnTo>
                    <a:lnTo>
                      <a:pt x="43" y="3"/>
                    </a:lnTo>
                    <a:lnTo>
                      <a:pt x="43" y="3"/>
                    </a:lnTo>
                    <a:lnTo>
                      <a:pt x="42" y="4"/>
                    </a:lnTo>
                    <a:lnTo>
                      <a:pt x="41" y="4"/>
                    </a:lnTo>
                    <a:lnTo>
                      <a:pt x="39" y="4"/>
                    </a:lnTo>
                    <a:lnTo>
                      <a:pt x="39" y="5"/>
                    </a:lnTo>
                    <a:lnTo>
                      <a:pt x="39" y="6"/>
                    </a:lnTo>
                    <a:lnTo>
                      <a:pt x="39" y="7"/>
                    </a:lnTo>
                    <a:lnTo>
                      <a:pt x="39" y="11"/>
                    </a:lnTo>
                    <a:lnTo>
                      <a:pt x="39" y="13"/>
                    </a:lnTo>
                    <a:lnTo>
                      <a:pt x="39" y="21"/>
                    </a:lnTo>
                    <a:lnTo>
                      <a:pt x="39" y="28"/>
                    </a:lnTo>
                    <a:lnTo>
                      <a:pt x="39" y="33"/>
                    </a:lnTo>
                    <a:lnTo>
                      <a:pt x="39" y="36"/>
                    </a:lnTo>
                    <a:lnTo>
                      <a:pt x="41" y="36"/>
                    </a:lnTo>
                    <a:lnTo>
                      <a:pt x="42" y="37"/>
                    </a:lnTo>
                    <a:lnTo>
                      <a:pt x="42" y="37"/>
                    </a:lnTo>
                    <a:lnTo>
                      <a:pt x="42" y="37"/>
                    </a:lnTo>
                    <a:lnTo>
                      <a:pt x="43" y="37"/>
                    </a:lnTo>
                    <a:lnTo>
                      <a:pt x="43" y="37"/>
                    </a:lnTo>
                    <a:lnTo>
                      <a:pt x="43" y="37"/>
                    </a:lnTo>
                    <a:lnTo>
                      <a:pt x="44" y="38"/>
                    </a:lnTo>
                    <a:lnTo>
                      <a:pt x="43" y="39"/>
                    </a:lnTo>
                    <a:lnTo>
                      <a:pt x="42" y="39"/>
                    </a:lnTo>
                    <a:lnTo>
                      <a:pt x="39" y="39"/>
                    </a:lnTo>
                    <a:lnTo>
                      <a:pt x="37" y="39"/>
                    </a:lnTo>
                    <a:lnTo>
                      <a:pt x="35" y="39"/>
                    </a:lnTo>
                    <a:lnTo>
                      <a:pt x="33" y="39"/>
                    </a:lnTo>
                    <a:lnTo>
                      <a:pt x="32" y="39"/>
                    </a:lnTo>
                    <a:lnTo>
                      <a:pt x="32" y="38"/>
                    </a:lnTo>
                    <a:lnTo>
                      <a:pt x="32" y="37"/>
                    </a:lnTo>
                    <a:lnTo>
                      <a:pt x="33" y="37"/>
                    </a:lnTo>
                    <a:lnTo>
                      <a:pt x="34" y="37"/>
                    </a:lnTo>
                    <a:lnTo>
                      <a:pt x="34" y="37"/>
                    </a:lnTo>
                    <a:lnTo>
                      <a:pt x="34" y="36"/>
                    </a:lnTo>
                    <a:lnTo>
                      <a:pt x="35" y="34"/>
                    </a:lnTo>
                    <a:lnTo>
                      <a:pt x="35" y="33"/>
                    </a:lnTo>
                    <a:lnTo>
                      <a:pt x="35" y="31"/>
                    </a:lnTo>
                    <a:lnTo>
                      <a:pt x="35" y="28"/>
                    </a:lnTo>
                    <a:lnTo>
                      <a:pt x="35" y="24"/>
                    </a:lnTo>
                    <a:lnTo>
                      <a:pt x="35" y="23"/>
                    </a:lnTo>
                    <a:lnTo>
                      <a:pt x="35" y="22"/>
                    </a:lnTo>
                    <a:lnTo>
                      <a:pt x="35" y="20"/>
                    </a:lnTo>
                    <a:lnTo>
                      <a:pt x="35" y="6"/>
                    </a:lnTo>
                    <a:lnTo>
                      <a:pt x="30" y="19"/>
                    </a:lnTo>
                    <a:lnTo>
                      <a:pt x="27" y="27"/>
                    </a:lnTo>
                    <a:lnTo>
                      <a:pt x="25" y="31"/>
                    </a:lnTo>
                    <a:lnTo>
                      <a:pt x="24" y="34"/>
                    </a:lnTo>
                    <a:lnTo>
                      <a:pt x="24" y="34"/>
                    </a:lnTo>
                    <a:lnTo>
                      <a:pt x="24" y="36"/>
                    </a:lnTo>
                    <a:lnTo>
                      <a:pt x="21" y="38"/>
                    </a:lnTo>
                    <a:lnTo>
                      <a:pt x="20" y="39"/>
                    </a:lnTo>
                    <a:lnTo>
                      <a:pt x="18" y="34"/>
                    </a:lnTo>
                    <a:lnTo>
                      <a:pt x="12" y="20"/>
                    </a:lnTo>
                    <a:lnTo>
                      <a:pt x="9" y="13"/>
                    </a:lnTo>
                    <a:lnTo>
                      <a:pt x="8" y="7"/>
                    </a:lnTo>
                    <a:close/>
                    <a:moveTo>
                      <a:pt x="49" y="37"/>
                    </a:moveTo>
                    <a:lnTo>
                      <a:pt x="49" y="36"/>
                    </a:lnTo>
                    <a:lnTo>
                      <a:pt x="50" y="34"/>
                    </a:lnTo>
                    <a:lnTo>
                      <a:pt x="50" y="34"/>
                    </a:lnTo>
                    <a:lnTo>
                      <a:pt x="52" y="34"/>
                    </a:lnTo>
                    <a:lnTo>
                      <a:pt x="53" y="34"/>
                    </a:lnTo>
                    <a:lnTo>
                      <a:pt x="53" y="34"/>
                    </a:lnTo>
                    <a:lnTo>
                      <a:pt x="54" y="36"/>
                    </a:lnTo>
                    <a:lnTo>
                      <a:pt x="54" y="37"/>
                    </a:lnTo>
                    <a:lnTo>
                      <a:pt x="54" y="38"/>
                    </a:lnTo>
                    <a:lnTo>
                      <a:pt x="53" y="39"/>
                    </a:lnTo>
                    <a:lnTo>
                      <a:pt x="53" y="40"/>
                    </a:lnTo>
                    <a:lnTo>
                      <a:pt x="52" y="40"/>
                    </a:lnTo>
                    <a:lnTo>
                      <a:pt x="50" y="40"/>
                    </a:lnTo>
                    <a:lnTo>
                      <a:pt x="50" y="39"/>
                    </a:lnTo>
                    <a:lnTo>
                      <a:pt x="49" y="38"/>
                    </a:lnTo>
                    <a:lnTo>
                      <a:pt x="49" y="37"/>
                    </a:lnTo>
                    <a:close/>
                    <a:moveTo>
                      <a:pt x="78" y="39"/>
                    </a:moveTo>
                    <a:lnTo>
                      <a:pt x="77" y="39"/>
                    </a:lnTo>
                    <a:lnTo>
                      <a:pt x="76" y="39"/>
                    </a:lnTo>
                    <a:lnTo>
                      <a:pt x="75" y="39"/>
                    </a:lnTo>
                    <a:lnTo>
                      <a:pt x="75" y="38"/>
                    </a:lnTo>
                    <a:lnTo>
                      <a:pt x="75" y="37"/>
                    </a:lnTo>
                    <a:lnTo>
                      <a:pt x="76" y="37"/>
                    </a:lnTo>
                    <a:lnTo>
                      <a:pt x="77" y="36"/>
                    </a:lnTo>
                    <a:lnTo>
                      <a:pt x="77" y="36"/>
                    </a:lnTo>
                    <a:lnTo>
                      <a:pt x="78" y="34"/>
                    </a:lnTo>
                    <a:lnTo>
                      <a:pt x="78" y="32"/>
                    </a:lnTo>
                    <a:lnTo>
                      <a:pt x="78" y="28"/>
                    </a:lnTo>
                    <a:lnTo>
                      <a:pt x="78" y="20"/>
                    </a:lnTo>
                    <a:lnTo>
                      <a:pt x="78" y="13"/>
                    </a:lnTo>
                    <a:lnTo>
                      <a:pt x="78" y="8"/>
                    </a:lnTo>
                    <a:lnTo>
                      <a:pt x="78" y="6"/>
                    </a:lnTo>
                    <a:lnTo>
                      <a:pt x="77" y="5"/>
                    </a:lnTo>
                    <a:lnTo>
                      <a:pt x="77" y="4"/>
                    </a:lnTo>
                    <a:lnTo>
                      <a:pt x="76" y="4"/>
                    </a:lnTo>
                    <a:lnTo>
                      <a:pt x="75" y="4"/>
                    </a:lnTo>
                    <a:lnTo>
                      <a:pt x="75" y="3"/>
                    </a:lnTo>
                    <a:lnTo>
                      <a:pt x="75" y="2"/>
                    </a:lnTo>
                    <a:lnTo>
                      <a:pt x="76" y="2"/>
                    </a:lnTo>
                    <a:lnTo>
                      <a:pt x="77" y="2"/>
                    </a:lnTo>
                    <a:lnTo>
                      <a:pt x="78" y="0"/>
                    </a:lnTo>
                    <a:lnTo>
                      <a:pt x="96" y="0"/>
                    </a:lnTo>
                    <a:lnTo>
                      <a:pt x="97" y="0"/>
                    </a:lnTo>
                    <a:lnTo>
                      <a:pt x="99" y="0"/>
                    </a:lnTo>
                    <a:lnTo>
                      <a:pt x="99" y="0"/>
                    </a:lnTo>
                    <a:lnTo>
                      <a:pt x="101" y="0"/>
                    </a:lnTo>
                    <a:lnTo>
                      <a:pt x="102" y="0"/>
                    </a:lnTo>
                    <a:lnTo>
                      <a:pt x="102" y="2"/>
                    </a:lnTo>
                    <a:lnTo>
                      <a:pt x="103" y="4"/>
                    </a:lnTo>
                    <a:lnTo>
                      <a:pt x="103" y="6"/>
                    </a:lnTo>
                    <a:lnTo>
                      <a:pt x="103" y="7"/>
                    </a:lnTo>
                    <a:lnTo>
                      <a:pt x="102" y="8"/>
                    </a:lnTo>
                    <a:lnTo>
                      <a:pt x="102" y="8"/>
                    </a:lnTo>
                    <a:lnTo>
                      <a:pt x="102" y="8"/>
                    </a:lnTo>
                    <a:lnTo>
                      <a:pt x="101" y="8"/>
                    </a:lnTo>
                    <a:lnTo>
                      <a:pt x="99" y="7"/>
                    </a:lnTo>
                    <a:lnTo>
                      <a:pt x="99" y="6"/>
                    </a:lnTo>
                    <a:lnTo>
                      <a:pt x="99" y="6"/>
                    </a:lnTo>
                    <a:lnTo>
                      <a:pt x="98" y="5"/>
                    </a:lnTo>
                    <a:lnTo>
                      <a:pt x="97" y="5"/>
                    </a:lnTo>
                    <a:lnTo>
                      <a:pt x="96" y="4"/>
                    </a:lnTo>
                    <a:lnTo>
                      <a:pt x="95" y="4"/>
                    </a:lnTo>
                    <a:lnTo>
                      <a:pt x="88" y="4"/>
                    </a:lnTo>
                    <a:lnTo>
                      <a:pt x="86" y="4"/>
                    </a:lnTo>
                    <a:lnTo>
                      <a:pt x="85" y="4"/>
                    </a:lnTo>
                    <a:lnTo>
                      <a:pt x="84" y="5"/>
                    </a:lnTo>
                    <a:lnTo>
                      <a:pt x="84" y="5"/>
                    </a:lnTo>
                    <a:lnTo>
                      <a:pt x="82" y="6"/>
                    </a:lnTo>
                    <a:lnTo>
                      <a:pt x="82" y="8"/>
                    </a:lnTo>
                    <a:lnTo>
                      <a:pt x="82" y="11"/>
                    </a:lnTo>
                    <a:lnTo>
                      <a:pt x="82" y="15"/>
                    </a:lnTo>
                    <a:lnTo>
                      <a:pt x="82" y="16"/>
                    </a:lnTo>
                    <a:lnTo>
                      <a:pt x="82" y="17"/>
                    </a:lnTo>
                    <a:lnTo>
                      <a:pt x="82" y="17"/>
                    </a:lnTo>
                    <a:lnTo>
                      <a:pt x="84" y="17"/>
                    </a:lnTo>
                    <a:lnTo>
                      <a:pt x="84" y="17"/>
                    </a:lnTo>
                    <a:lnTo>
                      <a:pt x="90" y="17"/>
                    </a:lnTo>
                    <a:lnTo>
                      <a:pt x="93" y="17"/>
                    </a:lnTo>
                    <a:lnTo>
                      <a:pt x="93" y="17"/>
                    </a:lnTo>
                    <a:lnTo>
                      <a:pt x="94" y="16"/>
                    </a:lnTo>
                    <a:lnTo>
                      <a:pt x="94" y="15"/>
                    </a:lnTo>
                    <a:lnTo>
                      <a:pt x="94" y="15"/>
                    </a:lnTo>
                    <a:lnTo>
                      <a:pt x="94" y="14"/>
                    </a:lnTo>
                    <a:lnTo>
                      <a:pt x="95" y="13"/>
                    </a:lnTo>
                    <a:lnTo>
                      <a:pt x="96" y="12"/>
                    </a:lnTo>
                    <a:lnTo>
                      <a:pt x="96" y="13"/>
                    </a:lnTo>
                    <a:lnTo>
                      <a:pt x="97" y="13"/>
                    </a:lnTo>
                    <a:lnTo>
                      <a:pt x="97" y="15"/>
                    </a:lnTo>
                    <a:lnTo>
                      <a:pt x="97" y="20"/>
                    </a:lnTo>
                    <a:lnTo>
                      <a:pt x="97" y="23"/>
                    </a:lnTo>
                    <a:lnTo>
                      <a:pt x="97" y="25"/>
                    </a:lnTo>
                    <a:lnTo>
                      <a:pt x="96" y="27"/>
                    </a:lnTo>
                    <a:lnTo>
                      <a:pt x="96" y="27"/>
                    </a:lnTo>
                    <a:lnTo>
                      <a:pt x="95" y="25"/>
                    </a:lnTo>
                    <a:lnTo>
                      <a:pt x="94" y="24"/>
                    </a:lnTo>
                    <a:lnTo>
                      <a:pt x="94" y="23"/>
                    </a:lnTo>
                    <a:lnTo>
                      <a:pt x="94" y="23"/>
                    </a:lnTo>
                    <a:lnTo>
                      <a:pt x="94" y="22"/>
                    </a:lnTo>
                    <a:lnTo>
                      <a:pt x="93" y="21"/>
                    </a:lnTo>
                    <a:lnTo>
                      <a:pt x="93" y="21"/>
                    </a:lnTo>
                    <a:lnTo>
                      <a:pt x="90" y="21"/>
                    </a:lnTo>
                    <a:lnTo>
                      <a:pt x="84" y="21"/>
                    </a:lnTo>
                    <a:lnTo>
                      <a:pt x="84" y="21"/>
                    </a:lnTo>
                    <a:lnTo>
                      <a:pt x="82" y="21"/>
                    </a:lnTo>
                    <a:lnTo>
                      <a:pt x="82" y="22"/>
                    </a:lnTo>
                    <a:lnTo>
                      <a:pt x="82" y="23"/>
                    </a:lnTo>
                    <a:lnTo>
                      <a:pt x="82" y="23"/>
                    </a:lnTo>
                    <a:lnTo>
                      <a:pt x="82" y="24"/>
                    </a:lnTo>
                    <a:lnTo>
                      <a:pt x="82" y="25"/>
                    </a:lnTo>
                    <a:lnTo>
                      <a:pt x="82" y="27"/>
                    </a:lnTo>
                    <a:lnTo>
                      <a:pt x="82" y="30"/>
                    </a:lnTo>
                    <a:lnTo>
                      <a:pt x="82" y="32"/>
                    </a:lnTo>
                    <a:lnTo>
                      <a:pt x="82" y="33"/>
                    </a:lnTo>
                    <a:lnTo>
                      <a:pt x="84" y="34"/>
                    </a:lnTo>
                    <a:lnTo>
                      <a:pt x="84" y="36"/>
                    </a:lnTo>
                    <a:lnTo>
                      <a:pt x="85" y="36"/>
                    </a:lnTo>
                    <a:lnTo>
                      <a:pt x="87" y="37"/>
                    </a:lnTo>
                    <a:lnTo>
                      <a:pt x="89" y="37"/>
                    </a:lnTo>
                    <a:lnTo>
                      <a:pt x="94" y="37"/>
                    </a:lnTo>
                    <a:lnTo>
                      <a:pt x="96" y="36"/>
                    </a:lnTo>
                    <a:lnTo>
                      <a:pt x="98" y="36"/>
                    </a:lnTo>
                    <a:lnTo>
                      <a:pt x="99" y="34"/>
                    </a:lnTo>
                    <a:lnTo>
                      <a:pt x="101" y="33"/>
                    </a:lnTo>
                    <a:lnTo>
                      <a:pt x="101" y="32"/>
                    </a:lnTo>
                    <a:lnTo>
                      <a:pt x="102" y="31"/>
                    </a:lnTo>
                    <a:lnTo>
                      <a:pt x="102" y="30"/>
                    </a:lnTo>
                    <a:lnTo>
                      <a:pt x="103" y="29"/>
                    </a:lnTo>
                    <a:lnTo>
                      <a:pt x="104" y="29"/>
                    </a:lnTo>
                    <a:lnTo>
                      <a:pt x="104" y="30"/>
                    </a:lnTo>
                    <a:lnTo>
                      <a:pt x="104" y="31"/>
                    </a:lnTo>
                    <a:lnTo>
                      <a:pt x="104" y="32"/>
                    </a:lnTo>
                    <a:lnTo>
                      <a:pt x="104" y="34"/>
                    </a:lnTo>
                    <a:lnTo>
                      <a:pt x="103" y="38"/>
                    </a:lnTo>
                    <a:lnTo>
                      <a:pt x="102" y="39"/>
                    </a:lnTo>
                    <a:lnTo>
                      <a:pt x="101" y="40"/>
                    </a:lnTo>
                    <a:lnTo>
                      <a:pt x="101" y="40"/>
                    </a:lnTo>
                    <a:lnTo>
                      <a:pt x="101" y="40"/>
                    </a:lnTo>
                    <a:lnTo>
                      <a:pt x="98" y="39"/>
                    </a:lnTo>
                    <a:lnTo>
                      <a:pt x="97" y="39"/>
                    </a:lnTo>
                    <a:lnTo>
                      <a:pt x="78" y="39"/>
                    </a:lnTo>
                    <a:close/>
                    <a:moveTo>
                      <a:pt x="109" y="37"/>
                    </a:moveTo>
                    <a:lnTo>
                      <a:pt x="109" y="36"/>
                    </a:lnTo>
                    <a:lnTo>
                      <a:pt x="110" y="34"/>
                    </a:lnTo>
                    <a:lnTo>
                      <a:pt x="111" y="34"/>
                    </a:lnTo>
                    <a:lnTo>
                      <a:pt x="112" y="34"/>
                    </a:lnTo>
                    <a:lnTo>
                      <a:pt x="113" y="34"/>
                    </a:lnTo>
                    <a:lnTo>
                      <a:pt x="114" y="34"/>
                    </a:lnTo>
                    <a:lnTo>
                      <a:pt x="114" y="36"/>
                    </a:lnTo>
                    <a:lnTo>
                      <a:pt x="114" y="37"/>
                    </a:lnTo>
                    <a:lnTo>
                      <a:pt x="114" y="38"/>
                    </a:lnTo>
                    <a:lnTo>
                      <a:pt x="114" y="39"/>
                    </a:lnTo>
                    <a:lnTo>
                      <a:pt x="113" y="40"/>
                    </a:lnTo>
                    <a:lnTo>
                      <a:pt x="112" y="40"/>
                    </a:lnTo>
                    <a:lnTo>
                      <a:pt x="111" y="40"/>
                    </a:lnTo>
                    <a:lnTo>
                      <a:pt x="110" y="39"/>
                    </a:lnTo>
                    <a:lnTo>
                      <a:pt x="109" y="38"/>
                    </a:lnTo>
                    <a:lnTo>
                      <a:pt x="109" y="37"/>
                    </a:lnTo>
                    <a:close/>
                    <a:moveTo>
                      <a:pt x="145" y="21"/>
                    </a:moveTo>
                    <a:lnTo>
                      <a:pt x="144" y="21"/>
                    </a:lnTo>
                    <a:lnTo>
                      <a:pt x="144" y="21"/>
                    </a:lnTo>
                    <a:lnTo>
                      <a:pt x="142" y="22"/>
                    </a:lnTo>
                    <a:lnTo>
                      <a:pt x="142" y="24"/>
                    </a:lnTo>
                    <a:lnTo>
                      <a:pt x="142" y="24"/>
                    </a:lnTo>
                    <a:lnTo>
                      <a:pt x="142" y="29"/>
                    </a:lnTo>
                    <a:lnTo>
                      <a:pt x="142" y="31"/>
                    </a:lnTo>
                    <a:lnTo>
                      <a:pt x="144" y="33"/>
                    </a:lnTo>
                    <a:lnTo>
                      <a:pt x="144" y="36"/>
                    </a:lnTo>
                    <a:lnTo>
                      <a:pt x="144" y="36"/>
                    </a:lnTo>
                    <a:lnTo>
                      <a:pt x="145" y="37"/>
                    </a:lnTo>
                    <a:lnTo>
                      <a:pt x="147" y="37"/>
                    </a:lnTo>
                    <a:lnTo>
                      <a:pt x="149" y="37"/>
                    </a:lnTo>
                    <a:lnTo>
                      <a:pt x="154" y="37"/>
                    </a:lnTo>
                    <a:lnTo>
                      <a:pt x="156" y="34"/>
                    </a:lnTo>
                    <a:lnTo>
                      <a:pt x="158" y="32"/>
                    </a:lnTo>
                    <a:lnTo>
                      <a:pt x="158" y="30"/>
                    </a:lnTo>
                    <a:lnTo>
                      <a:pt x="158" y="25"/>
                    </a:lnTo>
                    <a:lnTo>
                      <a:pt x="156" y="23"/>
                    </a:lnTo>
                    <a:lnTo>
                      <a:pt x="152" y="22"/>
                    </a:lnTo>
                    <a:lnTo>
                      <a:pt x="145" y="21"/>
                    </a:lnTo>
                    <a:close/>
                    <a:moveTo>
                      <a:pt x="142" y="13"/>
                    </a:moveTo>
                    <a:lnTo>
                      <a:pt x="142" y="16"/>
                    </a:lnTo>
                    <a:lnTo>
                      <a:pt x="142" y="17"/>
                    </a:lnTo>
                    <a:lnTo>
                      <a:pt x="144" y="17"/>
                    </a:lnTo>
                    <a:lnTo>
                      <a:pt x="144" y="19"/>
                    </a:lnTo>
                    <a:lnTo>
                      <a:pt x="145" y="19"/>
                    </a:lnTo>
                    <a:lnTo>
                      <a:pt x="150" y="17"/>
                    </a:lnTo>
                    <a:lnTo>
                      <a:pt x="154" y="16"/>
                    </a:lnTo>
                    <a:lnTo>
                      <a:pt x="156" y="14"/>
                    </a:lnTo>
                    <a:lnTo>
                      <a:pt x="157" y="11"/>
                    </a:lnTo>
                    <a:lnTo>
                      <a:pt x="156" y="7"/>
                    </a:lnTo>
                    <a:lnTo>
                      <a:pt x="155" y="5"/>
                    </a:lnTo>
                    <a:lnTo>
                      <a:pt x="152" y="4"/>
                    </a:lnTo>
                    <a:lnTo>
                      <a:pt x="148" y="4"/>
                    </a:lnTo>
                    <a:lnTo>
                      <a:pt x="146" y="4"/>
                    </a:lnTo>
                    <a:lnTo>
                      <a:pt x="145" y="4"/>
                    </a:lnTo>
                    <a:lnTo>
                      <a:pt x="144" y="4"/>
                    </a:lnTo>
                    <a:lnTo>
                      <a:pt x="144" y="4"/>
                    </a:lnTo>
                    <a:lnTo>
                      <a:pt x="144" y="5"/>
                    </a:lnTo>
                    <a:lnTo>
                      <a:pt x="142" y="7"/>
                    </a:lnTo>
                    <a:lnTo>
                      <a:pt x="142" y="9"/>
                    </a:lnTo>
                    <a:lnTo>
                      <a:pt x="142" y="13"/>
                    </a:lnTo>
                    <a:close/>
                    <a:moveTo>
                      <a:pt x="162" y="9"/>
                    </a:moveTo>
                    <a:lnTo>
                      <a:pt x="162" y="13"/>
                    </a:lnTo>
                    <a:lnTo>
                      <a:pt x="161" y="15"/>
                    </a:lnTo>
                    <a:lnTo>
                      <a:pt x="159" y="16"/>
                    </a:lnTo>
                    <a:lnTo>
                      <a:pt x="157" y="19"/>
                    </a:lnTo>
                    <a:lnTo>
                      <a:pt x="156" y="19"/>
                    </a:lnTo>
                    <a:lnTo>
                      <a:pt x="155" y="19"/>
                    </a:lnTo>
                    <a:lnTo>
                      <a:pt x="154" y="19"/>
                    </a:lnTo>
                    <a:lnTo>
                      <a:pt x="154" y="20"/>
                    </a:lnTo>
                    <a:lnTo>
                      <a:pt x="154" y="20"/>
                    </a:lnTo>
                    <a:lnTo>
                      <a:pt x="155" y="20"/>
                    </a:lnTo>
                    <a:lnTo>
                      <a:pt x="156" y="20"/>
                    </a:lnTo>
                    <a:lnTo>
                      <a:pt x="156" y="20"/>
                    </a:lnTo>
                    <a:lnTo>
                      <a:pt x="159" y="21"/>
                    </a:lnTo>
                    <a:lnTo>
                      <a:pt x="162" y="23"/>
                    </a:lnTo>
                    <a:lnTo>
                      <a:pt x="164" y="25"/>
                    </a:lnTo>
                    <a:lnTo>
                      <a:pt x="164" y="29"/>
                    </a:lnTo>
                    <a:lnTo>
                      <a:pt x="163" y="33"/>
                    </a:lnTo>
                    <a:lnTo>
                      <a:pt x="161" y="37"/>
                    </a:lnTo>
                    <a:lnTo>
                      <a:pt x="156" y="39"/>
                    </a:lnTo>
                    <a:lnTo>
                      <a:pt x="150" y="39"/>
                    </a:lnTo>
                    <a:lnTo>
                      <a:pt x="148" y="39"/>
                    </a:lnTo>
                    <a:lnTo>
                      <a:pt x="146" y="39"/>
                    </a:lnTo>
                    <a:lnTo>
                      <a:pt x="144" y="39"/>
                    </a:lnTo>
                    <a:lnTo>
                      <a:pt x="142" y="39"/>
                    </a:lnTo>
                    <a:lnTo>
                      <a:pt x="141" y="39"/>
                    </a:lnTo>
                    <a:lnTo>
                      <a:pt x="139" y="39"/>
                    </a:lnTo>
                    <a:lnTo>
                      <a:pt x="138" y="39"/>
                    </a:lnTo>
                    <a:lnTo>
                      <a:pt x="138" y="39"/>
                    </a:lnTo>
                    <a:lnTo>
                      <a:pt x="137" y="39"/>
                    </a:lnTo>
                    <a:lnTo>
                      <a:pt x="136" y="39"/>
                    </a:lnTo>
                    <a:lnTo>
                      <a:pt x="135" y="39"/>
                    </a:lnTo>
                    <a:lnTo>
                      <a:pt x="135" y="38"/>
                    </a:lnTo>
                    <a:lnTo>
                      <a:pt x="135" y="37"/>
                    </a:lnTo>
                    <a:lnTo>
                      <a:pt x="136" y="37"/>
                    </a:lnTo>
                    <a:lnTo>
                      <a:pt x="137" y="36"/>
                    </a:lnTo>
                    <a:lnTo>
                      <a:pt x="138" y="36"/>
                    </a:lnTo>
                    <a:lnTo>
                      <a:pt x="138" y="34"/>
                    </a:lnTo>
                    <a:lnTo>
                      <a:pt x="138" y="32"/>
                    </a:lnTo>
                    <a:lnTo>
                      <a:pt x="138" y="28"/>
                    </a:lnTo>
                    <a:lnTo>
                      <a:pt x="138" y="20"/>
                    </a:lnTo>
                    <a:lnTo>
                      <a:pt x="138" y="13"/>
                    </a:lnTo>
                    <a:lnTo>
                      <a:pt x="138" y="8"/>
                    </a:lnTo>
                    <a:lnTo>
                      <a:pt x="138" y="6"/>
                    </a:lnTo>
                    <a:lnTo>
                      <a:pt x="138" y="5"/>
                    </a:lnTo>
                    <a:lnTo>
                      <a:pt x="137" y="4"/>
                    </a:lnTo>
                    <a:lnTo>
                      <a:pt x="136" y="4"/>
                    </a:lnTo>
                    <a:lnTo>
                      <a:pt x="135" y="4"/>
                    </a:lnTo>
                    <a:lnTo>
                      <a:pt x="135" y="3"/>
                    </a:lnTo>
                    <a:lnTo>
                      <a:pt x="135" y="2"/>
                    </a:lnTo>
                    <a:lnTo>
                      <a:pt x="135" y="2"/>
                    </a:lnTo>
                    <a:lnTo>
                      <a:pt x="136" y="2"/>
                    </a:lnTo>
                    <a:lnTo>
                      <a:pt x="137" y="2"/>
                    </a:lnTo>
                    <a:lnTo>
                      <a:pt x="137" y="2"/>
                    </a:lnTo>
                    <a:lnTo>
                      <a:pt x="142" y="0"/>
                    </a:lnTo>
                    <a:lnTo>
                      <a:pt x="149" y="0"/>
                    </a:lnTo>
                    <a:lnTo>
                      <a:pt x="155" y="2"/>
                    </a:lnTo>
                    <a:lnTo>
                      <a:pt x="158" y="3"/>
                    </a:lnTo>
                    <a:lnTo>
                      <a:pt x="162" y="6"/>
                    </a:lnTo>
                    <a:lnTo>
                      <a:pt x="162" y="9"/>
                    </a:lnTo>
                    <a:close/>
                    <a:moveTo>
                      <a:pt x="170" y="37"/>
                    </a:moveTo>
                    <a:lnTo>
                      <a:pt x="170" y="36"/>
                    </a:lnTo>
                    <a:lnTo>
                      <a:pt x="171" y="34"/>
                    </a:lnTo>
                    <a:lnTo>
                      <a:pt x="171" y="34"/>
                    </a:lnTo>
                    <a:lnTo>
                      <a:pt x="173" y="34"/>
                    </a:lnTo>
                    <a:lnTo>
                      <a:pt x="174" y="34"/>
                    </a:lnTo>
                    <a:lnTo>
                      <a:pt x="175" y="34"/>
                    </a:lnTo>
                    <a:lnTo>
                      <a:pt x="175" y="36"/>
                    </a:lnTo>
                    <a:lnTo>
                      <a:pt x="175" y="37"/>
                    </a:lnTo>
                    <a:lnTo>
                      <a:pt x="175" y="38"/>
                    </a:lnTo>
                    <a:lnTo>
                      <a:pt x="175" y="39"/>
                    </a:lnTo>
                    <a:lnTo>
                      <a:pt x="174" y="40"/>
                    </a:lnTo>
                    <a:lnTo>
                      <a:pt x="173" y="40"/>
                    </a:lnTo>
                    <a:lnTo>
                      <a:pt x="172" y="40"/>
                    </a:lnTo>
                    <a:lnTo>
                      <a:pt x="171" y="39"/>
                    </a:lnTo>
                    <a:lnTo>
                      <a:pt x="170" y="38"/>
                    </a:lnTo>
                    <a:lnTo>
                      <a:pt x="170" y="37"/>
                    </a:lnTo>
                    <a:close/>
                  </a:path>
                </a:pathLst>
              </a:custGeom>
              <a:solidFill>
                <a:srgbClr val="29166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13" name=""/>
              <p:cNvSpPr/>
              <p:nvPr/>
            </p:nvSpPr>
            <p:spPr>
              <a:xfrm>
                <a:off x="519840" y="741240"/>
                <a:ext cx="355680" cy="100080"/>
              </a:xfrm>
              <a:custGeom>
                <a:avLst/>
                <a:gdLst/>
                <a:ahLst/>
                <a:rect l="l" t="t" r="r" b="b"/>
                <a:pathLst>
                  <a:path w="560" h="158">
                    <a:moveTo>
                      <a:pt x="39" y="48"/>
                    </a:moveTo>
                    <a:lnTo>
                      <a:pt x="40" y="42"/>
                    </a:lnTo>
                    <a:lnTo>
                      <a:pt x="41" y="38"/>
                    </a:lnTo>
                    <a:lnTo>
                      <a:pt x="41" y="33"/>
                    </a:lnTo>
                    <a:lnTo>
                      <a:pt x="41" y="30"/>
                    </a:lnTo>
                    <a:lnTo>
                      <a:pt x="40" y="25"/>
                    </a:lnTo>
                    <a:lnTo>
                      <a:pt x="37" y="23"/>
                    </a:lnTo>
                    <a:lnTo>
                      <a:pt x="35" y="21"/>
                    </a:lnTo>
                    <a:lnTo>
                      <a:pt x="32" y="19"/>
                    </a:lnTo>
                    <a:lnTo>
                      <a:pt x="29" y="17"/>
                    </a:lnTo>
                    <a:lnTo>
                      <a:pt x="26" y="17"/>
                    </a:lnTo>
                    <a:lnTo>
                      <a:pt x="24" y="19"/>
                    </a:lnTo>
                    <a:lnTo>
                      <a:pt x="22" y="20"/>
                    </a:lnTo>
                    <a:lnTo>
                      <a:pt x="16" y="23"/>
                    </a:lnTo>
                    <a:lnTo>
                      <a:pt x="13" y="29"/>
                    </a:lnTo>
                    <a:lnTo>
                      <a:pt x="11" y="34"/>
                    </a:lnTo>
                    <a:lnTo>
                      <a:pt x="10" y="39"/>
                    </a:lnTo>
                    <a:lnTo>
                      <a:pt x="10" y="44"/>
                    </a:lnTo>
                    <a:lnTo>
                      <a:pt x="10" y="47"/>
                    </a:lnTo>
                    <a:lnTo>
                      <a:pt x="11" y="51"/>
                    </a:lnTo>
                    <a:lnTo>
                      <a:pt x="14" y="54"/>
                    </a:lnTo>
                    <a:lnTo>
                      <a:pt x="16" y="56"/>
                    </a:lnTo>
                    <a:lnTo>
                      <a:pt x="18" y="58"/>
                    </a:lnTo>
                    <a:lnTo>
                      <a:pt x="22" y="59"/>
                    </a:lnTo>
                    <a:lnTo>
                      <a:pt x="24" y="59"/>
                    </a:lnTo>
                    <a:lnTo>
                      <a:pt x="27" y="59"/>
                    </a:lnTo>
                    <a:lnTo>
                      <a:pt x="29" y="58"/>
                    </a:lnTo>
                    <a:lnTo>
                      <a:pt x="32" y="56"/>
                    </a:lnTo>
                    <a:lnTo>
                      <a:pt x="34" y="54"/>
                    </a:lnTo>
                    <a:lnTo>
                      <a:pt x="36" y="51"/>
                    </a:lnTo>
                    <a:lnTo>
                      <a:pt x="39" y="48"/>
                    </a:lnTo>
                    <a:close/>
                    <a:moveTo>
                      <a:pt x="16" y="63"/>
                    </a:moveTo>
                    <a:lnTo>
                      <a:pt x="13" y="61"/>
                    </a:lnTo>
                    <a:lnTo>
                      <a:pt x="9" y="58"/>
                    </a:lnTo>
                    <a:lnTo>
                      <a:pt x="6" y="55"/>
                    </a:lnTo>
                    <a:lnTo>
                      <a:pt x="3" y="53"/>
                    </a:lnTo>
                    <a:lnTo>
                      <a:pt x="1" y="47"/>
                    </a:lnTo>
                    <a:lnTo>
                      <a:pt x="0" y="40"/>
                    </a:lnTo>
                    <a:lnTo>
                      <a:pt x="1" y="34"/>
                    </a:lnTo>
                    <a:lnTo>
                      <a:pt x="2" y="28"/>
                    </a:lnTo>
                    <a:lnTo>
                      <a:pt x="6" y="23"/>
                    </a:lnTo>
                    <a:lnTo>
                      <a:pt x="8" y="20"/>
                    </a:lnTo>
                    <a:lnTo>
                      <a:pt x="11" y="16"/>
                    </a:lnTo>
                    <a:lnTo>
                      <a:pt x="16" y="14"/>
                    </a:lnTo>
                    <a:lnTo>
                      <a:pt x="20" y="13"/>
                    </a:lnTo>
                    <a:lnTo>
                      <a:pt x="25" y="13"/>
                    </a:lnTo>
                    <a:lnTo>
                      <a:pt x="31" y="13"/>
                    </a:lnTo>
                    <a:lnTo>
                      <a:pt x="35" y="15"/>
                    </a:lnTo>
                    <a:lnTo>
                      <a:pt x="40" y="17"/>
                    </a:lnTo>
                    <a:lnTo>
                      <a:pt x="43" y="20"/>
                    </a:lnTo>
                    <a:lnTo>
                      <a:pt x="45" y="22"/>
                    </a:lnTo>
                    <a:lnTo>
                      <a:pt x="48" y="25"/>
                    </a:lnTo>
                    <a:lnTo>
                      <a:pt x="50" y="31"/>
                    </a:lnTo>
                    <a:lnTo>
                      <a:pt x="51" y="37"/>
                    </a:lnTo>
                    <a:lnTo>
                      <a:pt x="50" y="44"/>
                    </a:lnTo>
                    <a:lnTo>
                      <a:pt x="48" y="49"/>
                    </a:lnTo>
                    <a:lnTo>
                      <a:pt x="46" y="53"/>
                    </a:lnTo>
                    <a:lnTo>
                      <a:pt x="44" y="56"/>
                    </a:lnTo>
                    <a:lnTo>
                      <a:pt x="41" y="59"/>
                    </a:lnTo>
                    <a:lnTo>
                      <a:pt x="39" y="62"/>
                    </a:lnTo>
                    <a:lnTo>
                      <a:pt x="33" y="64"/>
                    </a:lnTo>
                    <a:lnTo>
                      <a:pt x="27" y="65"/>
                    </a:lnTo>
                    <a:lnTo>
                      <a:pt x="22" y="64"/>
                    </a:lnTo>
                    <a:lnTo>
                      <a:pt x="16" y="63"/>
                    </a:lnTo>
                    <a:close/>
                    <a:moveTo>
                      <a:pt x="41" y="7"/>
                    </a:moveTo>
                    <a:lnTo>
                      <a:pt x="42" y="6"/>
                    </a:lnTo>
                    <a:lnTo>
                      <a:pt x="43" y="5"/>
                    </a:lnTo>
                    <a:lnTo>
                      <a:pt x="44" y="5"/>
                    </a:lnTo>
                    <a:lnTo>
                      <a:pt x="46" y="5"/>
                    </a:lnTo>
                    <a:lnTo>
                      <a:pt x="48" y="6"/>
                    </a:lnTo>
                    <a:lnTo>
                      <a:pt x="48" y="7"/>
                    </a:lnTo>
                    <a:lnTo>
                      <a:pt x="49" y="8"/>
                    </a:lnTo>
                    <a:lnTo>
                      <a:pt x="48" y="10"/>
                    </a:lnTo>
                    <a:lnTo>
                      <a:pt x="48" y="11"/>
                    </a:lnTo>
                    <a:lnTo>
                      <a:pt x="46" y="12"/>
                    </a:lnTo>
                    <a:lnTo>
                      <a:pt x="44" y="12"/>
                    </a:lnTo>
                    <a:lnTo>
                      <a:pt x="43" y="12"/>
                    </a:lnTo>
                    <a:lnTo>
                      <a:pt x="42" y="11"/>
                    </a:lnTo>
                    <a:lnTo>
                      <a:pt x="41" y="10"/>
                    </a:lnTo>
                    <a:lnTo>
                      <a:pt x="41" y="8"/>
                    </a:lnTo>
                    <a:lnTo>
                      <a:pt x="41" y="7"/>
                    </a:lnTo>
                    <a:close/>
                    <a:moveTo>
                      <a:pt x="31" y="3"/>
                    </a:moveTo>
                    <a:lnTo>
                      <a:pt x="31" y="2"/>
                    </a:lnTo>
                    <a:lnTo>
                      <a:pt x="32" y="0"/>
                    </a:lnTo>
                    <a:lnTo>
                      <a:pt x="34" y="0"/>
                    </a:lnTo>
                    <a:lnTo>
                      <a:pt x="35" y="0"/>
                    </a:lnTo>
                    <a:lnTo>
                      <a:pt x="36" y="2"/>
                    </a:lnTo>
                    <a:lnTo>
                      <a:pt x="37" y="3"/>
                    </a:lnTo>
                    <a:lnTo>
                      <a:pt x="37" y="4"/>
                    </a:lnTo>
                    <a:lnTo>
                      <a:pt x="37" y="5"/>
                    </a:lnTo>
                    <a:lnTo>
                      <a:pt x="36" y="6"/>
                    </a:lnTo>
                    <a:lnTo>
                      <a:pt x="35" y="7"/>
                    </a:lnTo>
                    <a:lnTo>
                      <a:pt x="34" y="7"/>
                    </a:lnTo>
                    <a:lnTo>
                      <a:pt x="32" y="7"/>
                    </a:lnTo>
                    <a:lnTo>
                      <a:pt x="31" y="6"/>
                    </a:lnTo>
                    <a:lnTo>
                      <a:pt x="31" y="5"/>
                    </a:lnTo>
                    <a:lnTo>
                      <a:pt x="29" y="4"/>
                    </a:lnTo>
                    <a:lnTo>
                      <a:pt x="31" y="3"/>
                    </a:lnTo>
                    <a:close/>
                    <a:moveTo>
                      <a:pt x="67" y="74"/>
                    </a:moveTo>
                    <a:lnTo>
                      <a:pt x="76" y="78"/>
                    </a:lnTo>
                    <a:lnTo>
                      <a:pt x="78" y="79"/>
                    </a:lnTo>
                    <a:lnTo>
                      <a:pt x="80" y="79"/>
                    </a:lnTo>
                    <a:lnTo>
                      <a:pt x="83" y="78"/>
                    </a:lnTo>
                    <a:lnTo>
                      <a:pt x="84" y="76"/>
                    </a:lnTo>
                    <a:lnTo>
                      <a:pt x="85" y="75"/>
                    </a:lnTo>
                    <a:lnTo>
                      <a:pt x="86" y="74"/>
                    </a:lnTo>
                    <a:lnTo>
                      <a:pt x="88" y="73"/>
                    </a:lnTo>
                    <a:lnTo>
                      <a:pt x="89" y="73"/>
                    </a:lnTo>
                    <a:lnTo>
                      <a:pt x="91" y="73"/>
                    </a:lnTo>
                    <a:lnTo>
                      <a:pt x="91" y="74"/>
                    </a:lnTo>
                    <a:lnTo>
                      <a:pt x="91" y="74"/>
                    </a:lnTo>
                    <a:lnTo>
                      <a:pt x="91" y="75"/>
                    </a:lnTo>
                    <a:lnTo>
                      <a:pt x="89" y="80"/>
                    </a:lnTo>
                    <a:lnTo>
                      <a:pt x="87" y="83"/>
                    </a:lnTo>
                    <a:lnTo>
                      <a:pt x="85" y="85"/>
                    </a:lnTo>
                    <a:lnTo>
                      <a:pt x="83" y="87"/>
                    </a:lnTo>
                    <a:lnTo>
                      <a:pt x="83" y="85"/>
                    </a:lnTo>
                    <a:lnTo>
                      <a:pt x="83" y="85"/>
                    </a:lnTo>
                    <a:lnTo>
                      <a:pt x="79" y="84"/>
                    </a:lnTo>
                    <a:lnTo>
                      <a:pt x="76" y="83"/>
                    </a:lnTo>
                    <a:lnTo>
                      <a:pt x="53" y="75"/>
                    </a:lnTo>
                    <a:lnTo>
                      <a:pt x="51" y="74"/>
                    </a:lnTo>
                    <a:lnTo>
                      <a:pt x="50" y="73"/>
                    </a:lnTo>
                    <a:lnTo>
                      <a:pt x="50" y="72"/>
                    </a:lnTo>
                    <a:lnTo>
                      <a:pt x="50" y="71"/>
                    </a:lnTo>
                    <a:lnTo>
                      <a:pt x="51" y="70"/>
                    </a:lnTo>
                    <a:lnTo>
                      <a:pt x="53" y="67"/>
                    </a:lnTo>
                    <a:lnTo>
                      <a:pt x="54" y="67"/>
                    </a:lnTo>
                    <a:lnTo>
                      <a:pt x="86" y="44"/>
                    </a:lnTo>
                    <a:lnTo>
                      <a:pt x="86" y="44"/>
                    </a:lnTo>
                    <a:lnTo>
                      <a:pt x="88" y="42"/>
                    </a:lnTo>
                    <a:lnTo>
                      <a:pt x="88" y="42"/>
                    </a:lnTo>
                    <a:lnTo>
                      <a:pt x="88" y="41"/>
                    </a:lnTo>
                    <a:lnTo>
                      <a:pt x="88" y="40"/>
                    </a:lnTo>
                    <a:lnTo>
                      <a:pt x="86" y="39"/>
                    </a:lnTo>
                    <a:lnTo>
                      <a:pt x="84" y="39"/>
                    </a:lnTo>
                    <a:lnTo>
                      <a:pt x="79" y="37"/>
                    </a:lnTo>
                    <a:lnTo>
                      <a:pt x="76" y="36"/>
                    </a:lnTo>
                    <a:lnTo>
                      <a:pt x="74" y="36"/>
                    </a:lnTo>
                    <a:lnTo>
                      <a:pt x="73" y="36"/>
                    </a:lnTo>
                    <a:lnTo>
                      <a:pt x="70" y="37"/>
                    </a:lnTo>
                    <a:lnTo>
                      <a:pt x="69" y="38"/>
                    </a:lnTo>
                    <a:lnTo>
                      <a:pt x="68" y="39"/>
                    </a:lnTo>
                    <a:lnTo>
                      <a:pt x="67" y="40"/>
                    </a:lnTo>
                    <a:lnTo>
                      <a:pt x="66" y="40"/>
                    </a:lnTo>
                    <a:lnTo>
                      <a:pt x="66" y="41"/>
                    </a:lnTo>
                    <a:lnTo>
                      <a:pt x="65" y="41"/>
                    </a:lnTo>
                    <a:lnTo>
                      <a:pt x="65" y="41"/>
                    </a:lnTo>
                    <a:lnTo>
                      <a:pt x="63" y="41"/>
                    </a:lnTo>
                    <a:lnTo>
                      <a:pt x="62" y="41"/>
                    </a:lnTo>
                    <a:lnTo>
                      <a:pt x="62" y="40"/>
                    </a:lnTo>
                    <a:lnTo>
                      <a:pt x="62" y="39"/>
                    </a:lnTo>
                    <a:lnTo>
                      <a:pt x="62" y="38"/>
                    </a:lnTo>
                    <a:lnTo>
                      <a:pt x="63" y="36"/>
                    </a:lnTo>
                    <a:lnTo>
                      <a:pt x="65" y="34"/>
                    </a:lnTo>
                    <a:lnTo>
                      <a:pt x="66" y="32"/>
                    </a:lnTo>
                    <a:lnTo>
                      <a:pt x="67" y="30"/>
                    </a:lnTo>
                    <a:lnTo>
                      <a:pt x="68" y="29"/>
                    </a:lnTo>
                    <a:lnTo>
                      <a:pt x="69" y="29"/>
                    </a:lnTo>
                    <a:lnTo>
                      <a:pt x="70" y="28"/>
                    </a:lnTo>
                    <a:lnTo>
                      <a:pt x="70" y="29"/>
                    </a:lnTo>
                    <a:lnTo>
                      <a:pt x="70" y="29"/>
                    </a:lnTo>
                    <a:lnTo>
                      <a:pt x="71" y="29"/>
                    </a:lnTo>
                    <a:lnTo>
                      <a:pt x="74" y="30"/>
                    </a:lnTo>
                    <a:lnTo>
                      <a:pt x="77" y="31"/>
                    </a:lnTo>
                    <a:lnTo>
                      <a:pt x="95" y="38"/>
                    </a:lnTo>
                    <a:lnTo>
                      <a:pt x="99" y="39"/>
                    </a:lnTo>
                    <a:lnTo>
                      <a:pt x="101" y="40"/>
                    </a:lnTo>
                    <a:lnTo>
                      <a:pt x="102" y="41"/>
                    </a:lnTo>
                    <a:lnTo>
                      <a:pt x="102" y="42"/>
                    </a:lnTo>
                    <a:lnTo>
                      <a:pt x="100" y="45"/>
                    </a:lnTo>
                    <a:lnTo>
                      <a:pt x="95" y="49"/>
                    </a:lnTo>
                    <a:lnTo>
                      <a:pt x="94" y="49"/>
                    </a:lnTo>
                    <a:lnTo>
                      <a:pt x="66" y="70"/>
                    </a:lnTo>
                    <a:lnTo>
                      <a:pt x="65" y="71"/>
                    </a:lnTo>
                    <a:lnTo>
                      <a:pt x="63" y="71"/>
                    </a:lnTo>
                    <a:lnTo>
                      <a:pt x="63" y="71"/>
                    </a:lnTo>
                    <a:lnTo>
                      <a:pt x="63" y="72"/>
                    </a:lnTo>
                    <a:lnTo>
                      <a:pt x="63" y="72"/>
                    </a:lnTo>
                    <a:lnTo>
                      <a:pt x="63" y="73"/>
                    </a:lnTo>
                    <a:lnTo>
                      <a:pt x="65" y="74"/>
                    </a:lnTo>
                    <a:lnTo>
                      <a:pt x="67" y="74"/>
                    </a:lnTo>
                    <a:close/>
                    <a:moveTo>
                      <a:pt x="103" y="91"/>
                    </a:moveTo>
                    <a:lnTo>
                      <a:pt x="100" y="90"/>
                    </a:lnTo>
                    <a:lnTo>
                      <a:pt x="97" y="89"/>
                    </a:lnTo>
                    <a:lnTo>
                      <a:pt x="96" y="89"/>
                    </a:lnTo>
                    <a:lnTo>
                      <a:pt x="96" y="88"/>
                    </a:lnTo>
                    <a:lnTo>
                      <a:pt x="97" y="87"/>
                    </a:lnTo>
                    <a:lnTo>
                      <a:pt x="100" y="85"/>
                    </a:lnTo>
                    <a:lnTo>
                      <a:pt x="101" y="85"/>
                    </a:lnTo>
                    <a:lnTo>
                      <a:pt x="101" y="85"/>
                    </a:lnTo>
                    <a:lnTo>
                      <a:pt x="102" y="84"/>
                    </a:lnTo>
                    <a:lnTo>
                      <a:pt x="103" y="81"/>
                    </a:lnTo>
                    <a:lnTo>
                      <a:pt x="105" y="75"/>
                    </a:lnTo>
                    <a:lnTo>
                      <a:pt x="108" y="67"/>
                    </a:lnTo>
                    <a:lnTo>
                      <a:pt x="110" y="61"/>
                    </a:lnTo>
                    <a:lnTo>
                      <a:pt x="111" y="55"/>
                    </a:lnTo>
                    <a:lnTo>
                      <a:pt x="112" y="50"/>
                    </a:lnTo>
                    <a:lnTo>
                      <a:pt x="112" y="49"/>
                    </a:lnTo>
                    <a:lnTo>
                      <a:pt x="111" y="48"/>
                    </a:lnTo>
                    <a:lnTo>
                      <a:pt x="110" y="47"/>
                    </a:lnTo>
                    <a:lnTo>
                      <a:pt x="109" y="46"/>
                    </a:lnTo>
                    <a:lnTo>
                      <a:pt x="109" y="45"/>
                    </a:lnTo>
                    <a:lnTo>
                      <a:pt x="110" y="44"/>
                    </a:lnTo>
                    <a:lnTo>
                      <a:pt x="111" y="42"/>
                    </a:lnTo>
                    <a:lnTo>
                      <a:pt x="113" y="44"/>
                    </a:lnTo>
                    <a:lnTo>
                      <a:pt x="118" y="45"/>
                    </a:lnTo>
                    <a:lnTo>
                      <a:pt x="138" y="50"/>
                    </a:lnTo>
                    <a:lnTo>
                      <a:pt x="140" y="50"/>
                    </a:lnTo>
                    <a:lnTo>
                      <a:pt x="142" y="51"/>
                    </a:lnTo>
                    <a:lnTo>
                      <a:pt x="143" y="51"/>
                    </a:lnTo>
                    <a:lnTo>
                      <a:pt x="144" y="51"/>
                    </a:lnTo>
                    <a:lnTo>
                      <a:pt x="144" y="51"/>
                    </a:lnTo>
                    <a:lnTo>
                      <a:pt x="145" y="51"/>
                    </a:lnTo>
                    <a:lnTo>
                      <a:pt x="145" y="51"/>
                    </a:lnTo>
                    <a:lnTo>
                      <a:pt x="145" y="53"/>
                    </a:lnTo>
                    <a:lnTo>
                      <a:pt x="145" y="54"/>
                    </a:lnTo>
                    <a:lnTo>
                      <a:pt x="145" y="56"/>
                    </a:lnTo>
                    <a:lnTo>
                      <a:pt x="145" y="58"/>
                    </a:lnTo>
                    <a:lnTo>
                      <a:pt x="145" y="61"/>
                    </a:lnTo>
                    <a:lnTo>
                      <a:pt x="144" y="62"/>
                    </a:lnTo>
                    <a:lnTo>
                      <a:pt x="144" y="63"/>
                    </a:lnTo>
                    <a:lnTo>
                      <a:pt x="143" y="63"/>
                    </a:lnTo>
                    <a:lnTo>
                      <a:pt x="142" y="63"/>
                    </a:lnTo>
                    <a:lnTo>
                      <a:pt x="140" y="62"/>
                    </a:lnTo>
                    <a:lnTo>
                      <a:pt x="140" y="59"/>
                    </a:lnTo>
                    <a:lnTo>
                      <a:pt x="139" y="58"/>
                    </a:lnTo>
                    <a:lnTo>
                      <a:pt x="139" y="58"/>
                    </a:lnTo>
                    <a:lnTo>
                      <a:pt x="139" y="57"/>
                    </a:lnTo>
                    <a:lnTo>
                      <a:pt x="138" y="56"/>
                    </a:lnTo>
                    <a:lnTo>
                      <a:pt x="136" y="55"/>
                    </a:lnTo>
                    <a:lnTo>
                      <a:pt x="134" y="54"/>
                    </a:lnTo>
                    <a:lnTo>
                      <a:pt x="129" y="53"/>
                    </a:lnTo>
                    <a:lnTo>
                      <a:pt x="127" y="51"/>
                    </a:lnTo>
                    <a:lnTo>
                      <a:pt x="125" y="51"/>
                    </a:lnTo>
                    <a:lnTo>
                      <a:pt x="123" y="51"/>
                    </a:lnTo>
                    <a:lnTo>
                      <a:pt x="122" y="53"/>
                    </a:lnTo>
                    <a:lnTo>
                      <a:pt x="121" y="53"/>
                    </a:lnTo>
                    <a:lnTo>
                      <a:pt x="120" y="55"/>
                    </a:lnTo>
                    <a:lnTo>
                      <a:pt x="120" y="57"/>
                    </a:lnTo>
                    <a:lnTo>
                      <a:pt x="119" y="61"/>
                    </a:lnTo>
                    <a:lnTo>
                      <a:pt x="118" y="64"/>
                    </a:lnTo>
                    <a:lnTo>
                      <a:pt x="118" y="65"/>
                    </a:lnTo>
                    <a:lnTo>
                      <a:pt x="118" y="66"/>
                    </a:lnTo>
                    <a:lnTo>
                      <a:pt x="118" y="66"/>
                    </a:lnTo>
                    <a:lnTo>
                      <a:pt x="119" y="66"/>
                    </a:lnTo>
                    <a:lnTo>
                      <a:pt x="125" y="68"/>
                    </a:lnTo>
                    <a:lnTo>
                      <a:pt x="127" y="68"/>
                    </a:lnTo>
                    <a:lnTo>
                      <a:pt x="128" y="68"/>
                    </a:lnTo>
                    <a:lnTo>
                      <a:pt x="129" y="67"/>
                    </a:lnTo>
                    <a:lnTo>
                      <a:pt x="130" y="66"/>
                    </a:lnTo>
                    <a:lnTo>
                      <a:pt x="130" y="66"/>
                    </a:lnTo>
                    <a:lnTo>
                      <a:pt x="130" y="65"/>
                    </a:lnTo>
                    <a:lnTo>
                      <a:pt x="133" y="63"/>
                    </a:lnTo>
                    <a:lnTo>
                      <a:pt x="134" y="63"/>
                    </a:lnTo>
                    <a:lnTo>
                      <a:pt x="135" y="64"/>
                    </a:lnTo>
                    <a:lnTo>
                      <a:pt x="136" y="65"/>
                    </a:lnTo>
                    <a:lnTo>
                      <a:pt x="135" y="68"/>
                    </a:lnTo>
                    <a:lnTo>
                      <a:pt x="134" y="73"/>
                    </a:lnTo>
                    <a:lnTo>
                      <a:pt x="133" y="79"/>
                    </a:lnTo>
                    <a:lnTo>
                      <a:pt x="130" y="81"/>
                    </a:lnTo>
                    <a:lnTo>
                      <a:pt x="129" y="82"/>
                    </a:lnTo>
                    <a:lnTo>
                      <a:pt x="128" y="82"/>
                    </a:lnTo>
                    <a:lnTo>
                      <a:pt x="127" y="81"/>
                    </a:lnTo>
                    <a:lnTo>
                      <a:pt x="127" y="79"/>
                    </a:lnTo>
                    <a:lnTo>
                      <a:pt x="127" y="79"/>
                    </a:lnTo>
                    <a:lnTo>
                      <a:pt x="127" y="78"/>
                    </a:lnTo>
                    <a:lnTo>
                      <a:pt x="127" y="76"/>
                    </a:lnTo>
                    <a:lnTo>
                      <a:pt x="127" y="74"/>
                    </a:lnTo>
                    <a:lnTo>
                      <a:pt x="126" y="74"/>
                    </a:lnTo>
                    <a:lnTo>
                      <a:pt x="123" y="73"/>
                    </a:lnTo>
                    <a:lnTo>
                      <a:pt x="117" y="71"/>
                    </a:lnTo>
                    <a:lnTo>
                      <a:pt x="117" y="71"/>
                    </a:lnTo>
                    <a:lnTo>
                      <a:pt x="116" y="72"/>
                    </a:lnTo>
                    <a:lnTo>
                      <a:pt x="116" y="72"/>
                    </a:lnTo>
                    <a:lnTo>
                      <a:pt x="114" y="74"/>
                    </a:lnTo>
                    <a:lnTo>
                      <a:pt x="113" y="78"/>
                    </a:lnTo>
                    <a:lnTo>
                      <a:pt x="113" y="81"/>
                    </a:lnTo>
                    <a:lnTo>
                      <a:pt x="112" y="83"/>
                    </a:lnTo>
                    <a:lnTo>
                      <a:pt x="112" y="85"/>
                    </a:lnTo>
                    <a:lnTo>
                      <a:pt x="112" y="87"/>
                    </a:lnTo>
                    <a:lnTo>
                      <a:pt x="112" y="88"/>
                    </a:lnTo>
                    <a:lnTo>
                      <a:pt x="113" y="89"/>
                    </a:lnTo>
                    <a:lnTo>
                      <a:pt x="116" y="90"/>
                    </a:lnTo>
                    <a:lnTo>
                      <a:pt x="119" y="91"/>
                    </a:lnTo>
                    <a:lnTo>
                      <a:pt x="123" y="92"/>
                    </a:lnTo>
                    <a:lnTo>
                      <a:pt x="126" y="92"/>
                    </a:lnTo>
                    <a:lnTo>
                      <a:pt x="128" y="92"/>
                    </a:lnTo>
                    <a:lnTo>
                      <a:pt x="130" y="92"/>
                    </a:lnTo>
                    <a:lnTo>
                      <a:pt x="133" y="90"/>
                    </a:lnTo>
                    <a:lnTo>
                      <a:pt x="134" y="90"/>
                    </a:lnTo>
                    <a:lnTo>
                      <a:pt x="135" y="89"/>
                    </a:lnTo>
                    <a:lnTo>
                      <a:pt x="136" y="87"/>
                    </a:lnTo>
                    <a:lnTo>
                      <a:pt x="137" y="87"/>
                    </a:lnTo>
                    <a:lnTo>
                      <a:pt x="138" y="87"/>
                    </a:lnTo>
                    <a:lnTo>
                      <a:pt x="138" y="88"/>
                    </a:lnTo>
                    <a:lnTo>
                      <a:pt x="138" y="89"/>
                    </a:lnTo>
                    <a:lnTo>
                      <a:pt x="138" y="90"/>
                    </a:lnTo>
                    <a:lnTo>
                      <a:pt x="137" y="92"/>
                    </a:lnTo>
                    <a:lnTo>
                      <a:pt x="136" y="95"/>
                    </a:lnTo>
                    <a:lnTo>
                      <a:pt x="135" y="97"/>
                    </a:lnTo>
                    <a:lnTo>
                      <a:pt x="134" y="98"/>
                    </a:lnTo>
                    <a:lnTo>
                      <a:pt x="133" y="99"/>
                    </a:lnTo>
                    <a:lnTo>
                      <a:pt x="131" y="100"/>
                    </a:lnTo>
                    <a:lnTo>
                      <a:pt x="131" y="100"/>
                    </a:lnTo>
                    <a:lnTo>
                      <a:pt x="130" y="100"/>
                    </a:lnTo>
                    <a:lnTo>
                      <a:pt x="130" y="100"/>
                    </a:lnTo>
                    <a:lnTo>
                      <a:pt x="130" y="100"/>
                    </a:lnTo>
                    <a:lnTo>
                      <a:pt x="128" y="99"/>
                    </a:lnTo>
                    <a:lnTo>
                      <a:pt x="126" y="98"/>
                    </a:lnTo>
                    <a:lnTo>
                      <a:pt x="103" y="91"/>
                    </a:lnTo>
                    <a:close/>
                    <a:moveTo>
                      <a:pt x="166" y="104"/>
                    </a:moveTo>
                    <a:lnTo>
                      <a:pt x="170" y="104"/>
                    </a:lnTo>
                    <a:lnTo>
                      <a:pt x="172" y="104"/>
                    </a:lnTo>
                    <a:lnTo>
                      <a:pt x="174" y="104"/>
                    </a:lnTo>
                    <a:lnTo>
                      <a:pt x="177" y="101"/>
                    </a:lnTo>
                    <a:lnTo>
                      <a:pt x="177" y="101"/>
                    </a:lnTo>
                    <a:lnTo>
                      <a:pt x="178" y="100"/>
                    </a:lnTo>
                    <a:lnTo>
                      <a:pt x="180" y="98"/>
                    </a:lnTo>
                    <a:lnTo>
                      <a:pt x="181" y="98"/>
                    </a:lnTo>
                    <a:lnTo>
                      <a:pt x="182" y="98"/>
                    </a:lnTo>
                    <a:lnTo>
                      <a:pt x="182" y="99"/>
                    </a:lnTo>
                    <a:lnTo>
                      <a:pt x="182" y="100"/>
                    </a:lnTo>
                    <a:lnTo>
                      <a:pt x="182" y="101"/>
                    </a:lnTo>
                    <a:lnTo>
                      <a:pt x="181" y="104"/>
                    </a:lnTo>
                    <a:lnTo>
                      <a:pt x="180" y="106"/>
                    </a:lnTo>
                    <a:lnTo>
                      <a:pt x="179" y="108"/>
                    </a:lnTo>
                    <a:lnTo>
                      <a:pt x="178" y="110"/>
                    </a:lnTo>
                    <a:lnTo>
                      <a:pt x="177" y="112"/>
                    </a:lnTo>
                    <a:lnTo>
                      <a:pt x="177" y="112"/>
                    </a:lnTo>
                    <a:lnTo>
                      <a:pt x="176" y="112"/>
                    </a:lnTo>
                    <a:lnTo>
                      <a:pt x="174" y="112"/>
                    </a:lnTo>
                    <a:lnTo>
                      <a:pt x="172" y="110"/>
                    </a:lnTo>
                    <a:lnTo>
                      <a:pt x="170" y="109"/>
                    </a:lnTo>
                    <a:lnTo>
                      <a:pt x="151" y="105"/>
                    </a:lnTo>
                    <a:lnTo>
                      <a:pt x="146" y="104"/>
                    </a:lnTo>
                    <a:lnTo>
                      <a:pt x="144" y="102"/>
                    </a:lnTo>
                    <a:lnTo>
                      <a:pt x="144" y="101"/>
                    </a:lnTo>
                    <a:lnTo>
                      <a:pt x="144" y="100"/>
                    </a:lnTo>
                    <a:lnTo>
                      <a:pt x="145" y="99"/>
                    </a:lnTo>
                    <a:lnTo>
                      <a:pt x="146" y="99"/>
                    </a:lnTo>
                    <a:lnTo>
                      <a:pt x="147" y="98"/>
                    </a:lnTo>
                    <a:lnTo>
                      <a:pt x="148" y="98"/>
                    </a:lnTo>
                    <a:lnTo>
                      <a:pt x="148" y="97"/>
                    </a:lnTo>
                    <a:lnTo>
                      <a:pt x="149" y="95"/>
                    </a:lnTo>
                    <a:lnTo>
                      <a:pt x="152" y="89"/>
                    </a:lnTo>
                    <a:lnTo>
                      <a:pt x="154" y="80"/>
                    </a:lnTo>
                    <a:lnTo>
                      <a:pt x="156" y="73"/>
                    </a:lnTo>
                    <a:lnTo>
                      <a:pt x="157" y="67"/>
                    </a:lnTo>
                    <a:lnTo>
                      <a:pt x="159" y="63"/>
                    </a:lnTo>
                    <a:lnTo>
                      <a:pt x="159" y="62"/>
                    </a:lnTo>
                    <a:lnTo>
                      <a:pt x="157" y="61"/>
                    </a:lnTo>
                    <a:lnTo>
                      <a:pt x="156" y="59"/>
                    </a:lnTo>
                    <a:lnTo>
                      <a:pt x="155" y="58"/>
                    </a:lnTo>
                    <a:lnTo>
                      <a:pt x="155" y="57"/>
                    </a:lnTo>
                    <a:lnTo>
                      <a:pt x="156" y="56"/>
                    </a:lnTo>
                    <a:lnTo>
                      <a:pt x="157" y="56"/>
                    </a:lnTo>
                    <a:lnTo>
                      <a:pt x="160" y="56"/>
                    </a:lnTo>
                    <a:lnTo>
                      <a:pt x="164" y="57"/>
                    </a:lnTo>
                    <a:lnTo>
                      <a:pt x="170" y="58"/>
                    </a:lnTo>
                    <a:lnTo>
                      <a:pt x="172" y="59"/>
                    </a:lnTo>
                    <a:lnTo>
                      <a:pt x="173" y="61"/>
                    </a:lnTo>
                    <a:lnTo>
                      <a:pt x="173" y="62"/>
                    </a:lnTo>
                    <a:lnTo>
                      <a:pt x="172" y="63"/>
                    </a:lnTo>
                    <a:lnTo>
                      <a:pt x="170" y="64"/>
                    </a:lnTo>
                    <a:lnTo>
                      <a:pt x="170" y="64"/>
                    </a:lnTo>
                    <a:lnTo>
                      <a:pt x="169" y="64"/>
                    </a:lnTo>
                    <a:lnTo>
                      <a:pt x="168" y="65"/>
                    </a:lnTo>
                    <a:lnTo>
                      <a:pt x="166" y="67"/>
                    </a:lnTo>
                    <a:lnTo>
                      <a:pt x="165" y="72"/>
                    </a:lnTo>
                    <a:lnTo>
                      <a:pt x="164" y="78"/>
                    </a:lnTo>
                    <a:lnTo>
                      <a:pt x="162" y="85"/>
                    </a:lnTo>
                    <a:lnTo>
                      <a:pt x="160" y="91"/>
                    </a:lnTo>
                    <a:lnTo>
                      <a:pt x="160" y="96"/>
                    </a:lnTo>
                    <a:lnTo>
                      <a:pt x="159" y="98"/>
                    </a:lnTo>
                    <a:lnTo>
                      <a:pt x="160" y="100"/>
                    </a:lnTo>
                    <a:lnTo>
                      <a:pt x="160" y="101"/>
                    </a:lnTo>
                    <a:lnTo>
                      <a:pt x="162" y="102"/>
                    </a:lnTo>
                    <a:lnTo>
                      <a:pt x="165" y="104"/>
                    </a:lnTo>
                    <a:lnTo>
                      <a:pt x="166" y="104"/>
                    </a:lnTo>
                    <a:close/>
                    <a:moveTo>
                      <a:pt x="258" y="90"/>
                    </a:moveTo>
                    <a:lnTo>
                      <a:pt x="256" y="95"/>
                    </a:lnTo>
                    <a:lnTo>
                      <a:pt x="253" y="100"/>
                    </a:lnTo>
                    <a:lnTo>
                      <a:pt x="240" y="118"/>
                    </a:lnTo>
                    <a:lnTo>
                      <a:pt x="234" y="124"/>
                    </a:lnTo>
                    <a:lnTo>
                      <a:pt x="233" y="123"/>
                    </a:lnTo>
                    <a:lnTo>
                      <a:pt x="232" y="119"/>
                    </a:lnTo>
                    <a:lnTo>
                      <a:pt x="231" y="114"/>
                    </a:lnTo>
                    <a:lnTo>
                      <a:pt x="229" y="104"/>
                    </a:lnTo>
                    <a:lnTo>
                      <a:pt x="225" y="84"/>
                    </a:lnTo>
                    <a:lnTo>
                      <a:pt x="223" y="92"/>
                    </a:lnTo>
                    <a:lnTo>
                      <a:pt x="222" y="98"/>
                    </a:lnTo>
                    <a:lnTo>
                      <a:pt x="221" y="104"/>
                    </a:lnTo>
                    <a:lnTo>
                      <a:pt x="220" y="107"/>
                    </a:lnTo>
                    <a:lnTo>
                      <a:pt x="219" y="112"/>
                    </a:lnTo>
                    <a:lnTo>
                      <a:pt x="219" y="114"/>
                    </a:lnTo>
                    <a:lnTo>
                      <a:pt x="219" y="115"/>
                    </a:lnTo>
                    <a:lnTo>
                      <a:pt x="219" y="116"/>
                    </a:lnTo>
                    <a:lnTo>
                      <a:pt x="220" y="116"/>
                    </a:lnTo>
                    <a:lnTo>
                      <a:pt x="220" y="116"/>
                    </a:lnTo>
                    <a:lnTo>
                      <a:pt x="222" y="118"/>
                    </a:lnTo>
                    <a:lnTo>
                      <a:pt x="222" y="119"/>
                    </a:lnTo>
                    <a:lnTo>
                      <a:pt x="221" y="121"/>
                    </a:lnTo>
                    <a:lnTo>
                      <a:pt x="220" y="121"/>
                    </a:lnTo>
                    <a:lnTo>
                      <a:pt x="217" y="121"/>
                    </a:lnTo>
                    <a:lnTo>
                      <a:pt x="214" y="121"/>
                    </a:lnTo>
                    <a:lnTo>
                      <a:pt x="211" y="119"/>
                    </a:lnTo>
                    <a:lnTo>
                      <a:pt x="208" y="118"/>
                    </a:lnTo>
                    <a:lnTo>
                      <a:pt x="207" y="117"/>
                    </a:lnTo>
                    <a:lnTo>
                      <a:pt x="207" y="116"/>
                    </a:lnTo>
                    <a:lnTo>
                      <a:pt x="208" y="115"/>
                    </a:lnTo>
                    <a:lnTo>
                      <a:pt x="209" y="115"/>
                    </a:lnTo>
                    <a:lnTo>
                      <a:pt x="211" y="114"/>
                    </a:lnTo>
                    <a:lnTo>
                      <a:pt x="212" y="114"/>
                    </a:lnTo>
                    <a:lnTo>
                      <a:pt x="213" y="110"/>
                    </a:lnTo>
                    <a:lnTo>
                      <a:pt x="215" y="104"/>
                    </a:lnTo>
                    <a:lnTo>
                      <a:pt x="217" y="95"/>
                    </a:lnTo>
                    <a:lnTo>
                      <a:pt x="220" y="84"/>
                    </a:lnTo>
                    <a:lnTo>
                      <a:pt x="220" y="83"/>
                    </a:lnTo>
                    <a:lnTo>
                      <a:pt x="221" y="80"/>
                    </a:lnTo>
                    <a:lnTo>
                      <a:pt x="221" y="79"/>
                    </a:lnTo>
                    <a:lnTo>
                      <a:pt x="221" y="78"/>
                    </a:lnTo>
                    <a:lnTo>
                      <a:pt x="220" y="76"/>
                    </a:lnTo>
                    <a:lnTo>
                      <a:pt x="220" y="75"/>
                    </a:lnTo>
                    <a:lnTo>
                      <a:pt x="219" y="75"/>
                    </a:lnTo>
                    <a:lnTo>
                      <a:pt x="217" y="74"/>
                    </a:lnTo>
                    <a:lnTo>
                      <a:pt x="216" y="73"/>
                    </a:lnTo>
                    <a:lnTo>
                      <a:pt x="217" y="72"/>
                    </a:lnTo>
                    <a:lnTo>
                      <a:pt x="219" y="71"/>
                    </a:lnTo>
                    <a:lnTo>
                      <a:pt x="221" y="71"/>
                    </a:lnTo>
                    <a:lnTo>
                      <a:pt x="225" y="72"/>
                    </a:lnTo>
                    <a:lnTo>
                      <a:pt x="228" y="73"/>
                    </a:lnTo>
                    <a:lnTo>
                      <a:pt x="230" y="73"/>
                    </a:lnTo>
                    <a:lnTo>
                      <a:pt x="231" y="73"/>
                    </a:lnTo>
                    <a:lnTo>
                      <a:pt x="231" y="74"/>
                    </a:lnTo>
                    <a:lnTo>
                      <a:pt x="232" y="75"/>
                    </a:lnTo>
                    <a:lnTo>
                      <a:pt x="233" y="81"/>
                    </a:lnTo>
                    <a:lnTo>
                      <a:pt x="233" y="83"/>
                    </a:lnTo>
                    <a:lnTo>
                      <a:pt x="233" y="85"/>
                    </a:lnTo>
                    <a:lnTo>
                      <a:pt x="234" y="89"/>
                    </a:lnTo>
                    <a:lnTo>
                      <a:pt x="237" y="105"/>
                    </a:lnTo>
                    <a:lnTo>
                      <a:pt x="239" y="110"/>
                    </a:lnTo>
                    <a:lnTo>
                      <a:pt x="240" y="109"/>
                    </a:lnTo>
                    <a:lnTo>
                      <a:pt x="245" y="105"/>
                    </a:lnTo>
                    <a:lnTo>
                      <a:pt x="249" y="97"/>
                    </a:lnTo>
                    <a:lnTo>
                      <a:pt x="255" y="87"/>
                    </a:lnTo>
                    <a:lnTo>
                      <a:pt x="256" y="85"/>
                    </a:lnTo>
                    <a:lnTo>
                      <a:pt x="256" y="84"/>
                    </a:lnTo>
                    <a:lnTo>
                      <a:pt x="258" y="82"/>
                    </a:lnTo>
                    <a:lnTo>
                      <a:pt x="259" y="81"/>
                    </a:lnTo>
                    <a:lnTo>
                      <a:pt x="260" y="80"/>
                    </a:lnTo>
                    <a:lnTo>
                      <a:pt x="262" y="80"/>
                    </a:lnTo>
                    <a:lnTo>
                      <a:pt x="264" y="80"/>
                    </a:lnTo>
                    <a:lnTo>
                      <a:pt x="266" y="81"/>
                    </a:lnTo>
                    <a:lnTo>
                      <a:pt x="271" y="82"/>
                    </a:lnTo>
                    <a:lnTo>
                      <a:pt x="272" y="82"/>
                    </a:lnTo>
                    <a:lnTo>
                      <a:pt x="273" y="83"/>
                    </a:lnTo>
                    <a:lnTo>
                      <a:pt x="273" y="84"/>
                    </a:lnTo>
                    <a:lnTo>
                      <a:pt x="273" y="85"/>
                    </a:lnTo>
                    <a:lnTo>
                      <a:pt x="271" y="87"/>
                    </a:lnTo>
                    <a:lnTo>
                      <a:pt x="271" y="87"/>
                    </a:lnTo>
                    <a:lnTo>
                      <a:pt x="269" y="87"/>
                    </a:lnTo>
                    <a:lnTo>
                      <a:pt x="269" y="87"/>
                    </a:lnTo>
                    <a:lnTo>
                      <a:pt x="268" y="88"/>
                    </a:lnTo>
                    <a:lnTo>
                      <a:pt x="267" y="90"/>
                    </a:lnTo>
                    <a:lnTo>
                      <a:pt x="266" y="95"/>
                    </a:lnTo>
                    <a:lnTo>
                      <a:pt x="265" y="105"/>
                    </a:lnTo>
                    <a:lnTo>
                      <a:pt x="263" y="114"/>
                    </a:lnTo>
                    <a:lnTo>
                      <a:pt x="262" y="121"/>
                    </a:lnTo>
                    <a:lnTo>
                      <a:pt x="262" y="124"/>
                    </a:lnTo>
                    <a:lnTo>
                      <a:pt x="262" y="125"/>
                    </a:lnTo>
                    <a:lnTo>
                      <a:pt x="263" y="125"/>
                    </a:lnTo>
                    <a:lnTo>
                      <a:pt x="263" y="126"/>
                    </a:lnTo>
                    <a:lnTo>
                      <a:pt x="264" y="126"/>
                    </a:lnTo>
                    <a:lnTo>
                      <a:pt x="264" y="126"/>
                    </a:lnTo>
                    <a:lnTo>
                      <a:pt x="265" y="127"/>
                    </a:lnTo>
                    <a:lnTo>
                      <a:pt x="265" y="127"/>
                    </a:lnTo>
                    <a:lnTo>
                      <a:pt x="265" y="129"/>
                    </a:lnTo>
                    <a:lnTo>
                      <a:pt x="264" y="130"/>
                    </a:lnTo>
                    <a:lnTo>
                      <a:pt x="263" y="130"/>
                    </a:lnTo>
                    <a:lnTo>
                      <a:pt x="259" y="130"/>
                    </a:lnTo>
                    <a:lnTo>
                      <a:pt x="255" y="129"/>
                    </a:lnTo>
                    <a:lnTo>
                      <a:pt x="250" y="129"/>
                    </a:lnTo>
                    <a:lnTo>
                      <a:pt x="248" y="127"/>
                    </a:lnTo>
                    <a:lnTo>
                      <a:pt x="247" y="126"/>
                    </a:lnTo>
                    <a:lnTo>
                      <a:pt x="247" y="124"/>
                    </a:lnTo>
                    <a:lnTo>
                      <a:pt x="248" y="123"/>
                    </a:lnTo>
                    <a:lnTo>
                      <a:pt x="249" y="123"/>
                    </a:lnTo>
                    <a:lnTo>
                      <a:pt x="250" y="123"/>
                    </a:lnTo>
                    <a:lnTo>
                      <a:pt x="251" y="123"/>
                    </a:lnTo>
                    <a:lnTo>
                      <a:pt x="251" y="122"/>
                    </a:lnTo>
                    <a:lnTo>
                      <a:pt x="253" y="121"/>
                    </a:lnTo>
                    <a:lnTo>
                      <a:pt x="253" y="118"/>
                    </a:lnTo>
                    <a:lnTo>
                      <a:pt x="254" y="115"/>
                    </a:lnTo>
                    <a:lnTo>
                      <a:pt x="254" y="113"/>
                    </a:lnTo>
                    <a:lnTo>
                      <a:pt x="256" y="105"/>
                    </a:lnTo>
                    <a:lnTo>
                      <a:pt x="257" y="98"/>
                    </a:lnTo>
                    <a:lnTo>
                      <a:pt x="258" y="93"/>
                    </a:lnTo>
                    <a:lnTo>
                      <a:pt x="258" y="90"/>
                    </a:lnTo>
                    <a:close/>
                    <a:moveTo>
                      <a:pt x="305" y="116"/>
                    </a:moveTo>
                    <a:lnTo>
                      <a:pt x="305" y="112"/>
                    </a:lnTo>
                    <a:lnTo>
                      <a:pt x="303" y="107"/>
                    </a:lnTo>
                    <a:lnTo>
                      <a:pt x="302" y="102"/>
                    </a:lnTo>
                    <a:lnTo>
                      <a:pt x="301" y="98"/>
                    </a:lnTo>
                    <a:lnTo>
                      <a:pt x="300" y="98"/>
                    </a:lnTo>
                    <a:lnTo>
                      <a:pt x="298" y="101"/>
                    </a:lnTo>
                    <a:lnTo>
                      <a:pt x="296" y="106"/>
                    </a:lnTo>
                    <a:lnTo>
                      <a:pt x="293" y="109"/>
                    </a:lnTo>
                    <a:lnTo>
                      <a:pt x="290" y="114"/>
                    </a:lnTo>
                    <a:lnTo>
                      <a:pt x="292" y="114"/>
                    </a:lnTo>
                    <a:lnTo>
                      <a:pt x="294" y="115"/>
                    </a:lnTo>
                    <a:lnTo>
                      <a:pt x="296" y="115"/>
                    </a:lnTo>
                    <a:lnTo>
                      <a:pt x="298" y="115"/>
                    </a:lnTo>
                    <a:lnTo>
                      <a:pt x="300" y="115"/>
                    </a:lnTo>
                    <a:lnTo>
                      <a:pt x="301" y="116"/>
                    </a:lnTo>
                    <a:lnTo>
                      <a:pt x="303" y="116"/>
                    </a:lnTo>
                    <a:lnTo>
                      <a:pt x="305" y="116"/>
                    </a:lnTo>
                    <a:close/>
                    <a:moveTo>
                      <a:pt x="290" y="107"/>
                    </a:moveTo>
                    <a:lnTo>
                      <a:pt x="290" y="106"/>
                    </a:lnTo>
                    <a:lnTo>
                      <a:pt x="291" y="104"/>
                    </a:lnTo>
                    <a:lnTo>
                      <a:pt x="297" y="95"/>
                    </a:lnTo>
                    <a:lnTo>
                      <a:pt x="300" y="88"/>
                    </a:lnTo>
                    <a:lnTo>
                      <a:pt x="301" y="87"/>
                    </a:lnTo>
                    <a:lnTo>
                      <a:pt x="301" y="85"/>
                    </a:lnTo>
                    <a:lnTo>
                      <a:pt x="302" y="85"/>
                    </a:lnTo>
                    <a:lnTo>
                      <a:pt x="305" y="85"/>
                    </a:lnTo>
                    <a:lnTo>
                      <a:pt x="306" y="87"/>
                    </a:lnTo>
                    <a:lnTo>
                      <a:pt x="306" y="87"/>
                    </a:lnTo>
                    <a:lnTo>
                      <a:pt x="307" y="88"/>
                    </a:lnTo>
                    <a:lnTo>
                      <a:pt x="307" y="89"/>
                    </a:lnTo>
                    <a:lnTo>
                      <a:pt x="309" y="93"/>
                    </a:lnTo>
                    <a:lnTo>
                      <a:pt x="310" y="101"/>
                    </a:lnTo>
                    <a:lnTo>
                      <a:pt x="313" y="109"/>
                    </a:lnTo>
                    <a:lnTo>
                      <a:pt x="315" y="118"/>
                    </a:lnTo>
                    <a:lnTo>
                      <a:pt x="315" y="119"/>
                    </a:lnTo>
                    <a:lnTo>
                      <a:pt x="315" y="122"/>
                    </a:lnTo>
                    <a:lnTo>
                      <a:pt x="317" y="131"/>
                    </a:lnTo>
                    <a:lnTo>
                      <a:pt x="319" y="134"/>
                    </a:lnTo>
                    <a:lnTo>
                      <a:pt x="319" y="134"/>
                    </a:lnTo>
                    <a:lnTo>
                      <a:pt x="320" y="135"/>
                    </a:lnTo>
                    <a:lnTo>
                      <a:pt x="322" y="136"/>
                    </a:lnTo>
                    <a:lnTo>
                      <a:pt x="323" y="138"/>
                    </a:lnTo>
                    <a:lnTo>
                      <a:pt x="322" y="139"/>
                    </a:lnTo>
                    <a:lnTo>
                      <a:pt x="319" y="139"/>
                    </a:lnTo>
                    <a:lnTo>
                      <a:pt x="317" y="139"/>
                    </a:lnTo>
                    <a:lnTo>
                      <a:pt x="311" y="139"/>
                    </a:lnTo>
                    <a:lnTo>
                      <a:pt x="307" y="138"/>
                    </a:lnTo>
                    <a:lnTo>
                      <a:pt x="303" y="136"/>
                    </a:lnTo>
                    <a:lnTo>
                      <a:pt x="302" y="135"/>
                    </a:lnTo>
                    <a:lnTo>
                      <a:pt x="302" y="134"/>
                    </a:lnTo>
                    <a:lnTo>
                      <a:pt x="303" y="133"/>
                    </a:lnTo>
                    <a:lnTo>
                      <a:pt x="305" y="132"/>
                    </a:lnTo>
                    <a:lnTo>
                      <a:pt x="306" y="132"/>
                    </a:lnTo>
                    <a:lnTo>
                      <a:pt x="306" y="132"/>
                    </a:lnTo>
                    <a:lnTo>
                      <a:pt x="307" y="132"/>
                    </a:lnTo>
                    <a:lnTo>
                      <a:pt x="307" y="132"/>
                    </a:lnTo>
                    <a:lnTo>
                      <a:pt x="307" y="131"/>
                    </a:lnTo>
                    <a:lnTo>
                      <a:pt x="308" y="131"/>
                    </a:lnTo>
                    <a:lnTo>
                      <a:pt x="308" y="130"/>
                    </a:lnTo>
                    <a:lnTo>
                      <a:pt x="308" y="127"/>
                    </a:lnTo>
                    <a:lnTo>
                      <a:pt x="307" y="125"/>
                    </a:lnTo>
                    <a:lnTo>
                      <a:pt x="307" y="124"/>
                    </a:lnTo>
                    <a:lnTo>
                      <a:pt x="307" y="123"/>
                    </a:lnTo>
                    <a:lnTo>
                      <a:pt x="307" y="123"/>
                    </a:lnTo>
                    <a:lnTo>
                      <a:pt x="306" y="122"/>
                    </a:lnTo>
                    <a:lnTo>
                      <a:pt x="306" y="122"/>
                    </a:lnTo>
                    <a:lnTo>
                      <a:pt x="305" y="122"/>
                    </a:lnTo>
                    <a:lnTo>
                      <a:pt x="303" y="122"/>
                    </a:lnTo>
                    <a:lnTo>
                      <a:pt x="301" y="121"/>
                    </a:lnTo>
                    <a:lnTo>
                      <a:pt x="298" y="121"/>
                    </a:lnTo>
                    <a:lnTo>
                      <a:pt x="297" y="121"/>
                    </a:lnTo>
                    <a:lnTo>
                      <a:pt x="292" y="119"/>
                    </a:lnTo>
                    <a:lnTo>
                      <a:pt x="290" y="119"/>
                    </a:lnTo>
                    <a:lnTo>
                      <a:pt x="289" y="119"/>
                    </a:lnTo>
                    <a:lnTo>
                      <a:pt x="288" y="119"/>
                    </a:lnTo>
                    <a:lnTo>
                      <a:pt x="286" y="121"/>
                    </a:lnTo>
                    <a:lnTo>
                      <a:pt x="285" y="122"/>
                    </a:lnTo>
                    <a:lnTo>
                      <a:pt x="284" y="124"/>
                    </a:lnTo>
                    <a:lnTo>
                      <a:pt x="284" y="125"/>
                    </a:lnTo>
                    <a:lnTo>
                      <a:pt x="284" y="126"/>
                    </a:lnTo>
                    <a:lnTo>
                      <a:pt x="284" y="127"/>
                    </a:lnTo>
                    <a:lnTo>
                      <a:pt x="285" y="127"/>
                    </a:lnTo>
                    <a:lnTo>
                      <a:pt x="285" y="129"/>
                    </a:lnTo>
                    <a:lnTo>
                      <a:pt x="286" y="129"/>
                    </a:lnTo>
                    <a:lnTo>
                      <a:pt x="286" y="129"/>
                    </a:lnTo>
                    <a:lnTo>
                      <a:pt x="288" y="130"/>
                    </a:lnTo>
                    <a:lnTo>
                      <a:pt x="289" y="132"/>
                    </a:lnTo>
                    <a:lnTo>
                      <a:pt x="288" y="133"/>
                    </a:lnTo>
                    <a:lnTo>
                      <a:pt x="286" y="133"/>
                    </a:lnTo>
                    <a:lnTo>
                      <a:pt x="284" y="133"/>
                    </a:lnTo>
                    <a:lnTo>
                      <a:pt x="280" y="133"/>
                    </a:lnTo>
                    <a:lnTo>
                      <a:pt x="275" y="132"/>
                    </a:lnTo>
                    <a:lnTo>
                      <a:pt x="273" y="131"/>
                    </a:lnTo>
                    <a:lnTo>
                      <a:pt x="272" y="130"/>
                    </a:lnTo>
                    <a:lnTo>
                      <a:pt x="272" y="129"/>
                    </a:lnTo>
                    <a:lnTo>
                      <a:pt x="272" y="127"/>
                    </a:lnTo>
                    <a:lnTo>
                      <a:pt x="274" y="126"/>
                    </a:lnTo>
                    <a:lnTo>
                      <a:pt x="274" y="126"/>
                    </a:lnTo>
                    <a:lnTo>
                      <a:pt x="275" y="126"/>
                    </a:lnTo>
                    <a:lnTo>
                      <a:pt x="279" y="124"/>
                    </a:lnTo>
                    <a:lnTo>
                      <a:pt x="281" y="119"/>
                    </a:lnTo>
                    <a:lnTo>
                      <a:pt x="282" y="118"/>
                    </a:lnTo>
                    <a:lnTo>
                      <a:pt x="282" y="118"/>
                    </a:lnTo>
                    <a:lnTo>
                      <a:pt x="290" y="107"/>
                    </a:lnTo>
                    <a:close/>
                    <a:moveTo>
                      <a:pt x="349" y="114"/>
                    </a:moveTo>
                    <a:lnTo>
                      <a:pt x="352" y="109"/>
                    </a:lnTo>
                    <a:lnTo>
                      <a:pt x="356" y="106"/>
                    </a:lnTo>
                    <a:lnTo>
                      <a:pt x="357" y="104"/>
                    </a:lnTo>
                    <a:lnTo>
                      <a:pt x="358" y="102"/>
                    </a:lnTo>
                    <a:lnTo>
                      <a:pt x="358" y="101"/>
                    </a:lnTo>
                    <a:lnTo>
                      <a:pt x="358" y="100"/>
                    </a:lnTo>
                    <a:lnTo>
                      <a:pt x="357" y="100"/>
                    </a:lnTo>
                    <a:lnTo>
                      <a:pt x="356" y="99"/>
                    </a:lnTo>
                    <a:lnTo>
                      <a:pt x="354" y="98"/>
                    </a:lnTo>
                    <a:lnTo>
                      <a:pt x="354" y="98"/>
                    </a:lnTo>
                    <a:lnTo>
                      <a:pt x="353" y="97"/>
                    </a:lnTo>
                    <a:lnTo>
                      <a:pt x="353" y="97"/>
                    </a:lnTo>
                    <a:lnTo>
                      <a:pt x="354" y="96"/>
                    </a:lnTo>
                    <a:lnTo>
                      <a:pt x="356" y="95"/>
                    </a:lnTo>
                    <a:lnTo>
                      <a:pt x="358" y="95"/>
                    </a:lnTo>
                    <a:lnTo>
                      <a:pt x="362" y="96"/>
                    </a:lnTo>
                    <a:lnTo>
                      <a:pt x="367" y="96"/>
                    </a:lnTo>
                    <a:lnTo>
                      <a:pt x="369" y="97"/>
                    </a:lnTo>
                    <a:lnTo>
                      <a:pt x="370" y="98"/>
                    </a:lnTo>
                    <a:lnTo>
                      <a:pt x="370" y="99"/>
                    </a:lnTo>
                    <a:lnTo>
                      <a:pt x="370" y="100"/>
                    </a:lnTo>
                    <a:lnTo>
                      <a:pt x="368" y="100"/>
                    </a:lnTo>
                    <a:lnTo>
                      <a:pt x="367" y="101"/>
                    </a:lnTo>
                    <a:lnTo>
                      <a:pt x="366" y="101"/>
                    </a:lnTo>
                    <a:lnTo>
                      <a:pt x="363" y="104"/>
                    </a:lnTo>
                    <a:lnTo>
                      <a:pt x="360" y="107"/>
                    </a:lnTo>
                    <a:lnTo>
                      <a:pt x="356" y="113"/>
                    </a:lnTo>
                    <a:lnTo>
                      <a:pt x="350" y="119"/>
                    </a:lnTo>
                    <a:lnTo>
                      <a:pt x="350" y="122"/>
                    </a:lnTo>
                    <a:lnTo>
                      <a:pt x="349" y="125"/>
                    </a:lnTo>
                    <a:lnTo>
                      <a:pt x="348" y="134"/>
                    </a:lnTo>
                    <a:lnTo>
                      <a:pt x="349" y="138"/>
                    </a:lnTo>
                    <a:lnTo>
                      <a:pt x="349" y="138"/>
                    </a:lnTo>
                    <a:lnTo>
                      <a:pt x="350" y="139"/>
                    </a:lnTo>
                    <a:lnTo>
                      <a:pt x="351" y="140"/>
                    </a:lnTo>
                    <a:lnTo>
                      <a:pt x="352" y="141"/>
                    </a:lnTo>
                    <a:lnTo>
                      <a:pt x="351" y="142"/>
                    </a:lnTo>
                    <a:lnTo>
                      <a:pt x="350" y="143"/>
                    </a:lnTo>
                    <a:lnTo>
                      <a:pt x="346" y="143"/>
                    </a:lnTo>
                    <a:lnTo>
                      <a:pt x="342" y="142"/>
                    </a:lnTo>
                    <a:lnTo>
                      <a:pt x="337" y="142"/>
                    </a:lnTo>
                    <a:lnTo>
                      <a:pt x="335" y="141"/>
                    </a:lnTo>
                    <a:lnTo>
                      <a:pt x="334" y="140"/>
                    </a:lnTo>
                    <a:lnTo>
                      <a:pt x="333" y="139"/>
                    </a:lnTo>
                    <a:lnTo>
                      <a:pt x="334" y="138"/>
                    </a:lnTo>
                    <a:lnTo>
                      <a:pt x="336" y="136"/>
                    </a:lnTo>
                    <a:lnTo>
                      <a:pt x="336" y="136"/>
                    </a:lnTo>
                    <a:lnTo>
                      <a:pt x="337" y="136"/>
                    </a:lnTo>
                    <a:lnTo>
                      <a:pt x="339" y="132"/>
                    </a:lnTo>
                    <a:lnTo>
                      <a:pt x="341" y="122"/>
                    </a:lnTo>
                    <a:lnTo>
                      <a:pt x="341" y="119"/>
                    </a:lnTo>
                    <a:lnTo>
                      <a:pt x="341" y="118"/>
                    </a:lnTo>
                    <a:lnTo>
                      <a:pt x="339" y="112"/>
                    </a:lnTo>
                    <a:lnTo>
                      <a:pt x="335" y="105"/>
                    </a:lnTo>
                    <a:lnTo>
                      <a:pt x="333" y="100"/>
                    </a:lnTo>
                    <a:lnTo>
                      <a:pt x="332" y="98"/>
                    </a:lnTo>
                    <a:lnTo>
                      <a:pt x="331" y="96"/>
                    </a:lnTo>
                    <a:lnTo>
                      <a:pt x="329" y="96"/>
                    </a:lnTo>
                    <a:lnTo>
                      <a:pt x="328" y="95"/>
                    </a:lnTo>
                    <a:lnTo>
                      <a:pt x="327" y="93"/>
                    </a:lnTo>
                    <a:lnTo>
                      <a:pt x="327" y="92"/>
                    </a:lnTo>
                    <a:lnTo>
                      <a:pt x="327" y="91"/>
                    </a:lnTo>
                    <a:lnTo>
                      <a:pt x="328" y="91"/>
                    </a:lnTo>
                    <a:lnTo>
                      <a:pt x="332" y="91"/>
                    </a:lnTo>
                    <a:lnTo>
                      <a:pt x="337" y="91"/>
                    </a:lnTo>
                    <a:lnTo>
                      <a:pt x="342" y="92"/>
                    </a:lnTo>
                    <a:lnTo>
                      <a:pt x="345" y="93"/>
                    </a:lnTo>
                    <a:lnTo>
                      <a:pt x="346" y="95"/>
                    </a:lnTo>
                    <a:lnTo>
                      <a:pt x="346" y="96"/>
                    </a:lnTo>
                    <a:lnTo>
                      <a:pt x="345" y="97"/>
                    </a:lnTo>
                    <a:lnTo>
                      <a:pt x="343" y="98"/>
                    </a:lnTo>
                    <a:lnTo>
                      <a:pt x="343" y="98"/>
                    </a:lnTo>
                    <a:lnTo>
                      <a:pt x="343" y="98"/>
                    </a:lnTo>
                    <a:lnTo>
                      <a:pt x="342" y="98"/>
                    </a:lnTo>
                    <a:lnTo>
                      <a:pt x="342" y="98"/>
                    </a:lnTo>
                    <a:lnTo>
                      <a:pt x="342" y="99"/>
                    </a:lnTo>
                    <a:lnTo>
                      <a:pt x="342" y="100"/>
                    </a:lnTo>
                    <a:lnTo>
                      <a:pt x="343" y="102"/>
                    </a:lnTo>
                    <a:lnTo>
                      <a:pt x="344" y="107"/>
                    </a:lnTo>
                    <a:lnTo>
                      <a:pt x="349" y="114"/>
                    </a:lnTo>
                    <a:close/>
                    <a:moveTo>
                      <a:pt x="396" y="129"/>
                    </a:moveTo>
                    <a:lnTo>
                      <a:pt x="395" y="123"/>
                    </a:lnTo>
                    <a:lnTo>
                      <a:pt x="394" y="118"/>
                    </a:lnTo>
                    <a:lnTo>
                      <a:pt x="393" y="114"/>
                    </a:lnTo>
                    <a:lnTo>
                      <a:pt x="392" y="110"/>
                    </a:lnTo>
                    <a:lnTo>
                      <a:pt x="391" y="110"/>
                    </a:lnTo>
                    <a:lnTo>
                      <a:pt x="388" y="114"/>
                    </a:lnTo>
                    <a:lnTo>
                      <a:pt x="386" y="118"/>
                    </a:lnTo>
                    <a:lnTo>
                      <a:pt x="384" y="123"/>
                    </a:lnTo>
                    <a:lnTo>
                      <a:pt x="382" y="127"/>
                    </a:lnTo>
                    <a:lnTo>
                      <a:pt x="384" y="127"/>
                    </a:lnTo>
                    <a:lnTo>
                      <a:pt x="385" y="127"/>
                    </a:lnTo>
                    <a:lnTo>
                      <a:pt x="387" y="127"/>
                    </a:lnTo>
                    <a:lnTo>
                      <a:pt x="389" y="127"/>
                    </a:lnTo>
                    <a:lnTo>
                      <a:pt x="391" y="127"/>
                    </a:lnTo>
                    <a:lnTo>
                      <a:pt x="393" y="127"/>
                    </a:lnTo>
                    <a:lnTo>
                      <a:pt x="395" y="129"/>
                    </a:lnTo>
                    <a:lnTo>
                      <a:pt x="396" y="129"/>
                    </a:lnTo>
                    <a:close/>
                    <a:moveTo>
                      <a:pt x="380" y="119"/>
                    </a:moveTo>
                    <a:lnTo>
                      <a:pt x="380" y="118"/>
                    </a:lnTo>
                    <a:lnTo>
                      <a:pt x="382" y="117"/>
                    </a:lnTo>
                    <a:lnTo>
                      <a:pt x="386" y="107"/>
                    </a:lnTo>
                    <a:lnTo>
                      <a:pt x="389" y="100"/>
                    </a:lnTo>
                    <a:lnTo>
                      <a:pt x="389" y="99"/>
                    </a:lnTo>
                    <a:lnTo>
                      <a:pt x="391" y="98"/>
                    </a:lnTo>
                    <a:lnTo>
                      <a:pt x="392" y="98"/>
                    </a:lnTo>
                    <a:lnTo>
                      <a:pt x="393" y="98"/>
                    </a:lnTo>
                    <a:lnTo>
                      <a:pt x="394" y="98"/>
                    </a:lnTo>
                    <a:lnTo>
                      <a:pt x="395" y="99"/>
                    </a:lnTo>
                    <a:lnTo>
                      <a:pt x="396" y="99"/>
                    </a:lnTo>
                    <a:lnTo>
                      <a:pt x="396" y="100"/>
                    </a:lnTo>
                    <a:lnTo>
                      <a:pt x="399" y="106"/>
                    </a:lnTo>
                    <a:lnTo>
                      <a:pt x="401" y="113"/>
                    </a:lnTo>
                    <a:lnTo>
                      <a:pt x="403" y="121"/>
                    </a:lnTo>
                    <a:lnTo>
                      <a:pt x="405" y="130"/>
                    </a:lnTo>
                    <a:lnTo>
                      <a:pt x="406" y="131"/>
                    </a:lnTo>
                    <a:lnTo>
                      <a:pt x="406" y="133"/>
                    </a:lnTo>
                    <a:lnTo>
                      <a:pt x="410" y="142"/>
                    </a:lnTo>
                    <a:lnTo>
                      <a:pt x="412" y="146"/>
                    </a:lnTo>
                    <a:lnTo>
                      <a:pt x="412" y="146"/>
                    </a:lnTo>
                    <a:lnTo>
                      <a:pt x="413" y="146"/>
                    </a:lnTo>
                    <a:lnTo>
                      <a:pt x="414" y="147"/>
                    </a:lnTo>
                    <a:lnTo>
                      <a:pt x="416" y="148"/>
                    </a:lnTo>
                    <a:lnTo>
                      <a:pt x="414" y="149"/>
                    </a:lnTo>
                    <a:lnTo>
                      <a:pt x="412" y="150"/>
                    </a:lnTo>
                    <a:lnTo>
                      <a:pt x="410" y="150"/>
                    </a:lnTo>
                    <a:lnTo>
                      <a:pt x="404" y="150"/>
                    </a:lnTo>
                    <a:lnTo>
                      <a:pt x="400" y="149"/>
                    </a:lnTo>
                    <a:lnTo>
                      <a:pt x="396" y="149"/>
                    </a:lnTo>
                    <a:lnTo>
                      <a:pt x="395" y="148"/>
                    </a:lnTo>
                    <a:lnTo>
                      <a:pt x="395" y="146"/>
                    </a:lnTo>
                    <a:lnTo>
                      <a:pt x="395" y="144"/>
                    </a:lnTo>
                    <a:lnTo>
                      <a:pt x="397" y="144"/>
                    </a:lnTo>
                    <a:lnTo>
                      <a:pt x="397" y="144"/>
                    </a:lnTo>
                    <a:lnTo>
                      <a:pt x="397" y="144"/>
                    </a:lnTo>
                    <a:lnTo>
                      <a:pt x="399" y="143"/>
                    </a:lnTo>
                    <a:lnTo>
                      <a:pt x="400" y="143"/>
                    </a:lnTo>
                    <a:lnTo>
                      <a:pt x="400" y="143"/>
                    </a:lnTo>
                    <a:lnTo>
                      <a:pt x="400" y="142"/>
                    </a:lnTo>
                    <a:lnTo>
                      <a:pt x="400" y="141"/>
                    </a:lnTo>
                    <a:lnTo>
                      <a:pt x="400" y="139"/>
                    </a:lnTo>
                    <a:lnTo>
                      <a:pt x="400" y="138"/>
                    </a:lnTo>
                    <a:lnTo>
                      <a:pt x="399" y="135"/>
                    </a:lnTo>
                    <a:lnTo>
                      <a:pt x="399" y="134"/>
                    </a:lnTo>
                    <a:lnTo>
                      <a:pt x="399" y="134"/>
                    </a:lnTo>
                    <a:lnTo>
                      <a:pt x="397" y="134"/>
                    </a:lnTo>
                    <a:lnTo>
                      <a:pt x="397" y="134"/>
                    </a:lnTo>
                    <a:lnTo>
                      <a:pt x="396" y="134"/>
                    </a:lnTo>
                    <a:lnTo>
                      <a:pt x="395" y="133"/>
                    </a:lnTo>
                    <a:lnTo>
                      <a:pt x="393" y="133"/>
                    </a:lnTo>
                    <a:lnTo>
                      <a:pt x="389" y="133"/>
                    </a:lnTo>
                    <a:lnTo>
                      <a:pt x="388" y="133"/>
                    </a:lnTo>
                    <a:lnTo>
                      <a:pt x="384" y="132"/>
                    </a:lnTo>
                    <a:lnTo>
                      <a:pt x="382" y="132"/>
                    </a:lnTo>
                    <a:lnTo>
                      <a:pt x="379" y="132"/>
                    </a:lnTo>
                    <a:lnTo>
                      <a:pt x="379" y="133"/>
                    </a:lnTo>
                    <a:lnTo>
                      <a:pt x="378" y="134"/>
                    </a:lnTo>
                    <a:lnTo>
                      <a:pt x="377" y="135"/>
                    </a:lnTo>
                    <a:lnTo>
                      <a:pt x="376" y="138"/>
                    </a:lnTo>
                    <a:lnTo>
                      <a:pt x="376" y="139"/>
                    </a:lnTo>
                    <a:lnTo>
                      <a:pt x="376" y="140"/>
                    </a:lnTo>
                    <a:lnTo>
                      <a:pt x="376" y="140"/>
                    </a:lnTo>
                    <a:lnTo>
                      <a:pt x="377" y="141"/>
                    </a:lnTo>
                    <a:lnTo>
                      <a:pt x="378" y="142"/>
                    </a:lnTo>
                    <a:lnTo>
                      <a:pt x="378" y="142"/>
                    </a:lnTo>
                    <a:lnTo>
                      <a:pt x="379" y="142"/>
                    </a:lnTo>
                    <a:lnTo>
                      <a:pt x="380" y="143"/>
                    </a:lnTo>
                    <a:lnTo>
                      <a:pt x="380" y="144"/>
                    </a:lnTo>
                    <a:lnTo>
                      <a:pt x="380" y="146"/>
                    </a:lnTo>
                    <a:lnTo>
                      <a:pt x="379" y="147"/>
                    </a:lnTo>
                    <a:lnTo>
                      <a:pt x="376" y="147"/>
                    </a:lnTo>
                    <a:lnTo>
                      <a:pt x="371" y="147"/>
                    </a:lnTo>
                    <a:lnTo>
                      <a:pt x="368" y="146"/>
                    </a:lnTo>
                    <a:lnTo>
                      <a:pt x="365" y="146"/>
                    </a:lnTo>
                    <a:lnTo>
                      <a:pt x="363" y="144"/>
                    </a:lnTo>
                    <a:lnTo>
                      <a:pt x="363" y="143"/>
                    </a:lnTo>
                    <a:lnTo>
                      <a:pt x="365" y="142"/>
                    </a:lnTo>
                    <a:lnTo>
                      <a:pt x="366" y="141"/>
                    </a:lnTo>
                    <a:lnTo>
                      <a:pt x="367" y="141"/>
                    </a:lnTo>
                    <a:lnTo>
                      <a:pt x="367" y="140"/>
                    </a:lnTo>
                    <a:lnTo>
                      <a:pt x="370" y="138"/>
                    </a:lnTo>
                    <a:lnTo>
                      <a:pt x="373" y="133"/>
                    </a:lnTo>
                    <a:lnTo>
                      <a:pt x="374" y="132"/>
                    </a:lnTo>
                    <a:lnTo>
                      <a:pt x="374" y="132"/>
                    </a:lnTo>
                    <a:lnTo>
                      <a:pt x="380" y="119"/>
                    </a:lnTo>
                    <a:close/>
                    <a:moveTo>
                      <a:pt x="447" y="127"/>
                    </a:moveTo>
                    <a:lnTo>
                      <a:pt x="447" y="121"/>
                    </a:lnTo>
                    <a:lnTo>
                      <a:pt x="447" y="115"/>
                    </a:lnTo>
                    <a:lnTo>
                      <a:pt x="447" y="110"/>
                    </a:lnTo>
                    <a:lnTo>
                      <a:pt x="447" y="109"/>
                    </a:lnTo>
                    <a:lnTo>
                      <a:pt x="447" y="108"/>
                    </a:lnTo>
                    <a:lnTo>
                      <a:pt x="445" y="108"/>
                    </a:lnTo>
                    <a:lnTo>
                      <a:pt x="444" y="107"/>
                    </a:lnTo>
                    <a:lnTo>
                      <a:pt x="444" y="106"/>
                    </a:lnTo>
                    <a:lnTo>
                      <a:pt x="444" y="105"/>
                    </a:lnTo>
                    <a:lnTo>
                      <a:pt x="445" y="104"/>
                    </a:lnTo>
                    <a:lnTo>
                      <a:pt x="448" y="104"/>
                    </a:lnTo>
                    <a:lnTo>
                      <a:pt x="453" y="104"/>
                    </a:lnTo>
                    <a:lnTo>
                      <a:pt x="459" y="105"/>
                    </a:lnTo>
                    <a:lnTo>
                      <a:pt x="461" y="105"/>
                    </a:lnTo>
                    <a:lnTo>
                      <a:pt x="462" y="106"/>
                    </a:lnTo>
                    <a:lnTo>
                      <a:pt x="462" y="107"/>
                    </a:lnTo>
                    <a:lnTo>
                      <a:pt x="462" y="108"/>
                    </a:lnTo>
                    <a:lnTo>
                      <a:pt x="460" y="109"/>
                    </a:lnTo>
                    <a:lnTo>
                      <a:pt x="459" y="109"/>
                    </a:lnTo>
                    <a:lnTo>
                      <a:pt x="459" y="109"/>
                    </a:lnTo>
                    <a:lnTo>
                      <a:pt x="457" y="110"/>
                    </a:lnTo>
                    <a:lnTo>
                      <a:pt x="457" y="114"/>
                    </a:lnTo>
                    <a:lnTo>
                      <a:pt x="456" y="118"/>
                    </a:lnTo>
                    <a:lnTo>
                      <a:pt x="456" y="125"/>
                    </a:lnTo>
                    <a:lnTo>
                      <a:pt x="455" y="134"/>
                    </a:lnTo>
                    <a:lnTo>
                      <a:pt x="454" y="141"/>
                    </a:lnTo>
                    <a:lnTo>
                      <a:pt x="454" y="146"/>
                    </a:lnTo>
                    <a:lnTo>
                      <a:pt x="455" y="148"/>
                    </a:lnTo>
                    <a:lnTo>
                      <a:pt x="455" y="148"/>
                    </a:lnTo>
                    <a:lnTo>
                      <a:pt x="456" y="149"/>
                    </a:lnTo>
                    <a:lnTo>
                      <a:pt x="457" y="150"/>
                    </a:lnTo>
                    <a:lnTo>
                      <a:pt x="459" y="151"/>
                    </a:lnTo>
                    <a:lnTo>
                      <a:pt x="457" y="152"/>
                    </a:lnTo>
                    <a:lnTo>
                      <a:pt x="456" y="153"/>
                    </a:lnTo>
                    <a:lnTo>
                      <a:pt x="453" y="153"/>
                    </a:lnTo>
                    <a:lnTo>
                      <a:pt x="448" y="153"/>
                    </a:lnTo>
                    <a:lnTo>
                      <a:pt x="444" y="152"/>
                    </a:lnTo>
                    <a:lnTo>
                      <a:pt x="442" y="152"/>
                    </a:lnTo>
                    <a:lnTo>
                      <a:pt x="440" y="151"/>
                    </a:lnTo>
                    <a:lnTo>
                      <a:pt x="440" y="150"/>
                    </a:lnTo>
                    <a:lnTo>
                      <a:pt x="440" y="149"/>
                    </a:lnTo>
                    <a:lnTo>
                      <a:pt x="443" y="148"/>
                    </a:lnTo>
                    <a:lnTo>
                      <a:pt x="443" y="148"/>
                    </a:lnTo>
                    <a:lnTo>
                      <a:pt x="444" y="147"/>
                    </a:lnTo>
                    <a:lnTo>
                      <a:pt x="445" y="146"/>
                    </a:lnTo>
                    <a:lnTo>
                      <a:pt x="445" y="142"/>
                    </a:lnTo>
                    <a:lnTo>
                      <a:pt x="446" y="136"/>
                    </a:lnTo>
                    <a:lnTo>
                      <a:pt x="447" y="127"/>
                    </a:lnTo>
                    <a:close/>
                    <a:moveTo>
                      <a:pt x="449" y="93"/>
                    </a:moveTo>
                    <a:lnTo>
                      <a:pt x="451" y="91"/>
                    </a:lnTo>
                    <a:lnTo>
                      <a:pt x="452" y="90"/>
                    </a:lnTo>
                    <a:lnTo>
                      <a:pt x="453" y="89"/>
                    </a:lnTo>
                    <a:lnTo>
                      <a:pt x="454" y="89"/>
                    </a:lnTo>
                    <a:lnTo>
                      <a:pt x="456" y="90"/>
                    </a:lnTo>
                    <a:lnTo>
                      <a:pt x="457" y="91"/>
                    </a:lnTo>
                    <a:lnTo>
                      <a:pt x="459" y="92"/>
                    </a:lnTo>
                    <a:lnTo>
                      <a:pt x="459" y="93"/>
                    </a:lnTo>
                    <a:lnTo>
                      <a:pt x="459" y="96"/>
                    </a:lnTo>
                    <a:lnTo>
                      <a:pt x="457" y="97"/>
                    </a:lnTo>
                    <a:lnTo>
                      <a:pt x="455" y="98"/>
                    </a:lnTo>
                    <a:lnTo>
                      <a:pt x="454" y="98"/>
                    </a:lnTo>
                    <a:lnTo>
                      <a:pt x="452" y="98"/>
                    </a:lnTo>
                    <a:lnTo>
                      <a:pt x="451" y="97"/>
                    </a:lnTo>
                    <a:lnTo>
                      <a:pt x="449" y="95"/>
                    </a:lnTo>
                    <a:lnTo>
                      <a:pt x="449" y="93"/>
                    </a:lnTo>
                    <a:close/>
                    <a:moveTo>
                      <a:pt x="491" y="151"/>
                    </a:moveTo>
                    <a:lnTo>
                      <a:pt x="495" y="151"/>
                    </a:lnTo>
                    <a:lnTo>
                      <a:pt x="497" y="150"/>
                    </a:lnTo>
                    <a:lnTo>
                      <a:pt x="498" y="149"/>
                    </a:lnTo>
                    <a:lnTo>
                      <a:pt x="500" y="147"/>
                    </a:lnTo>
                    <a:lnTo>
                      <a:pt x="500" y="146"/>
                    </a:lnTo>
                    <a:lnTo>
                      <a:pt x="502" y="144"/>
                    </a:lnTo>
                    <a:lnTo>
                      <a:pt x="503" y="143"/>
                    </a:lnTo>
                    <a:lnTo>
                      <a:pt x="504" y="142"/>
                    </a:lnTo>
                    <a:lnTo>
                      <a:pt x="505" y="142"/>
                    </a:lnTo>
                    <a:lnTo>
                      <a:pt x="505" y="143"/>
                    </a:lnTo>
                    <a:lnTo>
                      <a:pt x="506" y="144"/>
                    </a:lnTo>
                    <a:lnTo>
                      <a:pt x="506" y="146"/>
                    </a:lnTo>
                    <a:lnTo>
                      <a:pt x="506" y="148"/>
                    </a:lnTo>
                    <a:lnTo>
                      <a:pt x="505" y="150"/>
                    </a:lnTo>
                    <a:lnTo>
                      <a:pt x="504" y="152"/>
                    </a:lnTo>
                    <a:lnTo>
                      <a:pt x="504" y="155"/>
                    </a:lnTo>
                    <a:lnTo>
                      <a:pt x="503" y="156"/>
                    </a:lnTo>
                    <a:lnTo>
                      <a:pt x="503" y="157"/>
                    </a:lnTo>
                    <a:lnTo>
                      <a:pt x="502" y="157"/>
                    </a:lnTo>
                    <a:lnTo>
                      <a:pt x="500" y="157"/>
                    </a:lnTo>
                    <a:lnTo>
                      <a:pt x="497" y="157"/>
                    </a:lnTo>
                    <a:lnTo>
                      <a:pt x="495" y="156"/>
                    </a:lnTo>
                    <a:lnTo>
                      <a:pt x="476" y="155"/>
                    </a:lnTo>
                    <a:lnTo>
                      <a:pt x="471" y="155"/>
                    </a:lnTo>
                    <a:lnTo>
                      <a:pt x="469" y="153"/>
                    </a:lnTo>
                    <a:lnTo>
                      <a:pt x="468" y="153"/>
                    </a:lnTo>
                    <a:lnTo>
                      <a:pt x="468" y="152"/>
                    </a:lnTo>
                    <a:lnTo>
                      <a:pt x="469" y="150"/>
                    </a:lnTo>
                    <a:lnTo>
                      <a:pt x="470" y="150"/>
                    </a:lnTo>
                    <a:lnTo>
                      <a:pt x="471" y="149"/>
                    </a:lnTo>
                    <a:lnTo>
                      <a:pt x="472" y="149"/>
                    </a:lnTo>
                    <a:lnTo>
                      <a:pt x="472" y="148"/>
                    </a:lnTo>
                    <a:lnTo>
                      <a:pt x="473" y="144"/>
                    </a:lnTo>
                    <a:lnTo>
                      <a:pt x="473" y="139"/>
                    </a:lnTo>
                    <a:lnTo>
                      <a:pt x="474" y="130"/>
                    </a:lnTo>
                    <a:lnTo>
                      <a:pt x="474" y="122"/>
                    </a:lnTo>
                    <a:lnTo>
                      <a:pt x="476" y="116"/>
                    </a:lnTo>
                    <a:lnTo>
                      <a:pt x="476" y="113"/>
                    </a:lnTo>
                    <a:lnTo>
                      <a:pt x="474" y="112"/>
                    </a:lnTo>
                    <a:lnTo>
                      <a:pt x="474" y="110"/>
                    </a:lnTo>
                    <a:lnTo>
                      <a:pt x="472" y="109"/>
                    </a:lnTo>
                    <a:lnTo>
                      <a:pt x="471" y="108"/>
                    </a:lnTo>
                    <a:lnTo>
                      <a:pt x="471" y="107"/>
                    </a:lnTo>
                    <a:lnTo>
                      <a:pt x="471" y="106"/>
                    </a:lnTo>
                    <a:lnTo>
                      <a:pt x="472" y="106"/>
                    </a:lnTo>
                    <a:lnTo>
                      <a:pt x="476" y="106"/>
                    </a:lnTo>
                    <a:lnTo>
                      <a:pt x="480" y="106"/>
                    </a:lnTo>
                    <a:lnTo>
                      <a:pt x="486" y="106"/>
                    </a:lnTo>
                    <a:lnTo>
                      <a:pt x="488" y="107"/>
                    </a:lnTo>
                    <a:lnTo>
                      <a:pt x="489" y="107"/>
                    </a:lnTo>
                    <a:lnTo>
                      <a:pt x="489" y="108"/>
                    </a:lnTo>
                    <a:lnTo>
                      <a:pt x="489" y="109"/>
                    </a:lnTo>
                    <a:lnTo>
                      <a:pt x="487" y="110"/>
                    </a:lnTo>
                    <a:lnTo>
                      <a:pt x="486" y="112"/>
                    </a:lnTo>
                    <a:lnTo>
                      <a:pt x="486" y="112"/>
                    </a:lnTo>
                    <a:lnTo>
                      <a:pt x="485" y="113"/>
                    </a:lnTo>
                    <a:lnTo>
                      <a:pt x="485" y="115"/>
                    </a:lnTo>
                    <a:lnTo>
                      <a:pt x="483" y="119"/>
                    </a:lnTo>
                    <a:lnTo>
                      <a:pt x="483" y="126"/>
                    </a:lnTo>
                    <a:lnTo>
                      <a:pt x="482" y="134"/>
                    </a:lnTo>
                    <a:lnTo>
                      <a:pt x="482" y="140"/>
                    </a:lnTo>
                    <a:lnTo>
                      <a:pt x="482" y="144"/>
                    </a:lnTo>
                    <a:lnTo>
                      <a:pt x="482" y="147"/>
                    </a:lnTo>
                    <a:lnTo>
                      <a:pt x="483" y="149"/>
                    </a:lnTo>
                    <a:lnTo>
                      <a:pt x="485" y="150"/>
                    </a:lnTo>
                    <a:lnTo>
                      <a:pt x="487" y="150"/>
                    </a:lnTo>
                    <a:lnTo>
                      <a:pt x="490" y="151"/>
                    </a:lnTo>
                    <a:lnTo>
                      <a:pt x="491" y="151"/>
                    </a:lnTo>
                    <a:close/>
                    <a:moveTo>
                      <a:pt x="537" y="129"/>
                    </a:moveTo>
                    <a:lnTo>
                      <a:pt x="537" y="130"/>
                    </a:lnTo>
                    <a:lnTo>
                      <a:pt x="537" y="130"/>
                    </a:lnTo>
                    <a:lnTo>
                      <a:pt x="537" y="130"/>
                    </a:lnTo>
                    <a:lnTo>
                      <a:pt x="537" y="130"/>
                    </a:lnTo>
                    <a:lnTo>
                      <a:pt x="537" y="131"/>
                    </a:lnTo>
                    <a:lnTo>
                      <a:pt x="537" y="131"/>
                    </a:lnTo>
                    <a:lnTo>
                      <a:pt x="537" y="131"/>
                    </a:lnTo>
                    <a:lnTo>
                      <a:pt x="537" y="131"/>
                    </a:lnTo>
                    <a:lnTo>
                      <a:pt x="545" y="140"/>
                    </a:lnTo>
                    <a:lnTo>
                      <a:pt x="549" y="147"/>
                    </a:lnTo>
                    <a:lnTo>
                      <a:pt x="554" y="151"/>
                    </a:lnTo>
                    <a:lnTo>
                      <a:pt x="556" y="153"/>
                    </a:lnTo>
                    <a:lnTo>
                      <a:pt x="557" y="153"/>
                    </a:lnTo>
                    <a:lnTo>
                      <a:pt x="558" y="153"/>
                    </a:lnTo>
                    <a:lnTo>
                      <a:pt x="559" y="155"/>
                    </a:lnTo>
                    <a:lnTo>
                      <a:pt x="560" y="156"/>
                    </a:lnTo>
                    <a:lnTo>
                      <a:pt x="559" y="157"/>
                    </a:lnTo>
                    <a:lnTo>
                      <a:pt x="558" y="158"/>
                    </a:lnTo>
                    <a:lnTo>
                      <a:pt x="556" y="158"/>
                    </a:lnTo>
                    <a:lnTo>
                      <a:pt x="553" y="158"/>
                    </a:lnTo>
                    <a:lnTo>
                      <a:pt x="551" y="158"/>
                    </a:lnTo>
                    <a:lnTo>
                      <a:pt x="550" y="158"/>
                    </a:lnTo>
                    <a:lnTo>
                      <a:pt x="549" y="158"/>
                    </a:lnTo>
                    <a:lnTo>
                      <a:pt x="548" y="157"/>
                    </a:lnTo>
                    <a:lnTo>
                      <a:pt x="546" y="156"/>
                    </a:lnTo>
                    <a:lnTo>
                      <a:pt x="542" y="151"/>
                    </a:lnTo>
                    <a:lnTo>
                      <a:pt x="539" y="147"/>
                    </a:lnTo>
                    <a:lnTo>
                      <a:pt x="534" y="141"/>
                    </a:lnTo>
                    <a:lnTo>
                      <a:pt x="530" y="136"/>
                    </a:lnTo>
                    <a:lnTo>
                      <a:pt x="530" y="135"/>
                    </a:lnTo>
                    <a:lnTo>
                      <a:pt x="530" y="135"/>
                    </a:lnTo>
                    <a:lnTo>
                      <a:pt x="530" y="135"/>
                    </a:lnTo>
                    <a:lnTo>
                      <a:pt x="530" y="135"/>
                    </a:lnTo>
                    <a:lnTo>
                      <a:pt x="530" y="135"/>
                    </a:lnTo>
                    <a:lnTo>
                      <a:pt x="529" y="135"/>
                    </a:lnTo>
                    <a:lnTo>
                      <a:pt x="529" y="135"/>
                    </a:lnTo>
                    <a:lnTo>
                      <a:pt x="529" y="135"/>
                    </a:lnTo>
                    <a:lnTo>
                      <a:pt x="529" y="136"/>
                    </a:lnTo>
                    <a:lnTo>
                      <a:pt x="529" y="139"/>
                    </a:lnTo>
                    <a:lnTo>
                      <a:pt x="529" y="142"/>
                    </a:lnTo>
                    <a:lnTo>
                      <a:pt x="529" y="149"/>
                    </a:lnTo>
                    <a:lnTo>
                      <a:pt x="530" y="152"/>
                    </a:lnTo>
                    <a:lnTo>
                      <a:pt x="531" y="152"/>
                    </a:lnTo>
                    <a:lnTo>
                      <a:pt x="531" y="152"/>
                    </a:lnTo>
                    <a:lnTo>
                      <a:pt x="533" y="153"/>
                    </a:lnTo>
                    <a:lnTo>
                      <a:pt x="533" y="155"/>
                    </a:lnTo>
                    <a:lnTo>
                      <a:pt x="533" y="157"/>
                    </a:lnTo>
                    <a:lnTo>
                      <a:pt x="531" y="157"/>
                    </a:lnTo>
                    <a:lnTo>
                      <a:pt x="529" y="158"/>
                    </a:lnTo>
                    <a:lnTo>
                      <a:pt x="524" y="158"/>
                    </a:lnTo>
                    <a:lnTo>
                      <a:pt x="520" y="157"/>
                    </a:lnTo>
                    <a:lnTo>
                      <a:pt x="516" y="157"/>
                    </a:lnTo>
                    <a:lnTo>
                      <a:pt x="515" y="156"/>
                    </a:lnTo>
                    <a:lnTo>
                      <a:pt x="515" y="155"/>
                    </a:lnTo>
                    <a:lnTo>
                      <a:pt x="515" y="153"/>
                    </a:lnTo>
                    <a:lnTo>
                      <a:pt x="517" y="152"/>
                    </a:lnTo>
                    <a:lnTo>
                      <a:pt x="519" y="152"/>
                    </a:lnTo>
                    <a:lnTo>
                      <a:pt x="519" y="151"/>
                    </a:lnTo>
                    <a:lnTo>
                      <a:pt x="520" y="150"/>
                    </a:lnTo>
                    <a:lnTo>
                      <a:pt x="520" y="147"/>
                    </a:lnTo>
                    <a:lnTo>
                      <a:pt x="521" y="141"/>
                    </a:lnTo>
                    <a:lnTo>
                      <a:pt x="521" y="132"/>
                    </a:lnTo>
                    <a:lnTo>
                      <a:pt x="521" y="125"/>
                    </a:lnTo>
                    <a:lnTo>
                      <a:pt x="521" y="119"/>
                    </a:lnTo>
                    <a:lnTo>
                      <a:pt x="521" y="115"/>
                    </a:lnTo>
                    <a:lnTo>
                      <a:pt x="521" y="114"/>
                    </a:lnTo>
                    <a:lnTo>
                      <a:pt x="520" y="113"/>
                    </a:lnTo>
                    <a:lnTo>
                      <a:pt x="519" y="112"/>
                    </a:lnTo>
                    <a:lnTo>
                      <a:pt x="517" y="112"/>
                    </a:lnTo>
                    <a:lnTo>
                      <a:pt x="516" y="110"/>
                    </a:lnTo>
                    <a:lnTo>
                      <a:pt x="517" y="109"/>
                    </a:lnTo>
                    <a:lnTo>
                      <a:pt x="519" y="108"/>
                    </a:lnTo>
                    <a:lnTo>
                      <a:pt x="521" y="108"/>
                    </a:lnTo>
                    <a:lnTo>
                      <a:pt x="525" y="108"/>
                    </a:lnTo>
                    <a:lnTo>
                      <a:pt x="531" y="108"/>
                    </a:lnTo>
                    <a:lnTo>
                      <a:pt x="533" y="108"/>
                    </a:lnTo>
                    <a:lnTo>
                      <a:pt x="534" y="109"/>
                    </a:lnTo>
                    <a:lnTo>
                      <a:pt x="536" y="110"/>
                    </a:lnTo>
                    <a:lnTo>
                      <a:pt x="534" y="112"/>
                    </a:lnTo>
                    <a:lnTo>
                      <a:pt x="533" y="113"/>
                    </a:lnTo>
                    <a:lnTo>
                      <a:pt x="532" y="113"/>
                    </a:lnTo>
                    <a:lnTo>
                      <a:pt x="531" y="114"/>
                    </a:lnTo>
                    <a:lnTo>
                      <a:pt x="531" y="115"/>
                    </a:lnTo>
                    <a:lnTo>
                      <a:pt x="530" y="117"/>
                    </a:lnTo>
                    <a:lnTo>
                      <a:pt x="530" y="122"/>
                    </a:lnTo>
                    <a:lnTo>
                      <a:pt x="530" y="127"/>
                    </a:lnTo>
                    <a:lnTo>
                      <a:pt x="530" y="129"/>
                    </a:lnTo>
                    <a:lnTo>
                      <a:pt x="530" y="129"/>
                    </a:lnTo>
                    <a:lnTo>
                      <a:pt x="530" y="129"/>
                    </a:lnTo>
                    <a:lnTo>
                      <a:pt x="530" y="129"/>
                    </a:lnTo>
                    <a:lnTo>
                      <a:pt x="531" y="127"/>
                    </a:lnTo>
                    <a:lnTo>
                      <a:pt x="533" y="125"/>
                    </a:lnTo>
                    <a:lnTo>
                      <a:pt x="536" y="123"/>
                    </a:lnTo>
                    <a:lnTo>
                      <a:pt x="538" y="122"/>
                    </a:lnTo>
                    <a:lnTo>
                      <a:pt x="541" y="117"/>
                    </a:lnTo>
                    <a:lnTo>
                      <a:pt x="542" y="116"/>
                    </a:lnTo>
                    <a:lnTo>
                      <a:pt x="543" y="115"/>
                    </a:lnTo>
                    <a:lnTo>
                      <a:pt x="543" y="114"/>
                    </a:lnTo>
                    <a:lnTo>
                      <a:pt x="545" y="114"/>
                    </a:lnTo>
                    <a:lnTo>
                      <a:pt x="543" y="113"/>
                    </a:lnTo>
                    <a:lnTo>
                      <a:pt x="542" y="113"/>
                    </a:lnTo>
                    <a:lnTo>
                      <a:pt x="541" y="112"/>
                    </a:lnTo>
                    <a:lnTo>
                      <a:pt x="541" y="110"/>
                    </a:lnTo>
                    <a:lnTo>
                      <a:pt x="541" y="109"/>
                    </a:lnTo>
                    <a:lnTo>
                      <a:pt x="542" y="109"/>
                    </a:lnTo>
                    <a:lnTo>
                      <a:pt x="545" y="108"/>
                    </a:lnTo>
                    <a:lnTo>
                      <a:pt x="549" y="108"/>
                    </a:lnTo>
                    <a:lnTo>
                      <a:pt x="554" y="109"/>
                    </a:lnTo>
                    <a:lnTo>
                      <a:pt x="556" y="109"/>
                    </a:lnTo>
                    <a:lnTo>
                      <a:pt x="557" y="110"/>
                    </a:lnTo>
                    <a:lnTo>
                      <a:pt x="558" y="112"/>
                    </a:lnTo>
                    <a:lnTo>
                      <a:pt x="557" y="113"/>
                    </a:lnTo>
                    <a:lnTo>
                      <a:pt x="555" y="113"/>
                    </a:lnTo>
                    <a:lnTo>
                      <a:pt x="555" y="113"/>
                    </a:lnTo>
                    <a:lnTo>
                      <a:pt x="554" y="114"/>
                    </a:lnTo>
                    <a:lnTo>
                      <a:pt x="551" y="115"/>
                    </a:lnTo>
                    <a:lnTo>
                      <a:pt x="549" y="116"/>
                    </a:lnTo>
                    <a:lnTo>
                      <a:pt x="546" y="119"/>
                    </a:lnTo>
                    <a:lnTo>
                      <a:pt x="540" y="125"/>
                    </a:lnTo>
                    <a:lnTo>
                      <a:pt x="537" y="129"/>
                    </a:lnTo>
                    <a:close/>
                  </a:path>
                </a:pathLst>
              </a:custGeom>
              <a:solidFill>
                <a:srgbClr val="2916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880560" y="753840"/>
                <a:ext cx="381600" cy="87840"/>
              </a:xfrm>
              <a:custGeom>
                <a:avLst/>
                <a:gdLst/>
                <a:ahLst/>
                <a:rect l="l" t="t" r="r" b="b"/>
                <a:pathLst>
                  <a:path w="601" h="139">
                    <a:moveTo>
                      <a:pt x="40" y="116"/>
                    </a:moveTo>
                    <a:lnTo>
                      <a:pt x="40" y="112"/>
                    </a:lnTo>
                    <a:lnTo>
                      <a:pt x="39" y="107"/>
                    </a:lnTo>
                    <a:lnTo>
                      <a:pt x="38" y="103"/>
                    </a:lnTo>
                    <a:lnTo>
                      <a:pt x="35" y="99"/>
                    </a:lnTo>
                    <a:lnTo>
                      <a:pt x="32" y="96"/>
                    </a:lnTo>
                    <a:lnTo>
                      <a:pt x="30" y="95"/>
                    </a:lnTo>
                    <a:lnTo>
                      <a:pt x="26" y="94"/>
                    </a:lnTo>
                    <a:lnTo>
                      <a:pt x="23" y="93"/>
                    </a:lnTo>
                    <a:lnTo>
                      <a:pt x="20" y="94"/>
                    </a:lnTo>
                    <a:lnTo>
                      <a:pt x="17" y="94"/>
                    </a:lnTo>
                    <a:lnTo>
                      <a:pt x="15" y="96"/>
                    </a:lnTo>
                    <a:lnTo>
                      <a:pt x="13" y="98"/>
                    </a:lnTo>
                    <a:lnTo>
                      <a:pt x="11" y="103"/>
                    </a:lnTo>
                    <a:lnTo>
                      <a:pt x="9" y="111"/>
                    </a:lnTo>
                    <a:lnTo>
                      <a:pt x="9" y="115"/>
                    </a:lnTo>
                    <a:lnTo>
                      <a:pt x="11" y="120"/>
                    </a:lnTo>
                    <a:lnTo>
                      <a:pt x="13" y="124"/>
                    </a:lnTo>
                    <a:lnTo>
                      <a:pt x="15" y="128"/>
                    </a:lnTo>
                    <a:lnTo>
                      <a:pt x="17" y="131"/>
                    </a:lnTo>
                    <a:lnTo>
                      <a:pt x="20" y="133"/>
                    </a:lnTo>
                    <a:lnTo>
                      <a:pt x="23" y="135"/>
                    </a:lnTo>
                    <a:lnTo>
                      <a:pt x="26" y="135"/>
                    </a:lnTo>
                    <a:lnTo>
                      <a:pt x="30" y="135"/>
                    </a:lnTo>
                    <a:lnTo>
                      <a:pt x="32" y="133"/>
                    </a:lnTo>
                    <a:lnTo>
                      <a:pt x="34" y="132"/>
                    </a:lnTo>
                    <a:lnTo>
                      <a:pt x="37" y="130"/>
                    </a:lnTo>
                    <a:lnTo>
                      <a:pt x="38" y="127"/>
                    </a:lnTo>
                    <a:lnTo>
                      <a:pt x="39" y="124"/>
                    </a:lnTo>
                    <a:lnTo>
                      <a:pt x="40" y="121"/>
                    </a:lnTo>
                    <a:lnTo>
                      <a:pt x="40" y="116"/>
                    </a:lnTo>
                    <a:close/>
                    <a:moveTo>
                      <a:pt x="25" y="139"/>
                    </a:moveTo>
                    <a:lnTo>
                      <a:pt x="22" y="139"/>
                    </a:lnTo>
                    <a:lnTo>
                      <a:pt x="17" y="138"/>
                    </a:lnTo>
                    <a:lnTo>
                      <a:pt x="14" y="137"/>
                    </a:lnTo>
                    <a:lnTo>
                      <a:pt x="11" y="135"/>
                    </a:lnTo>
                    <a:lnTo>
                      <a:pt x="6" y="131"/>
                    </a:lnTo>
                    <a:lnTo>
                      <a:pt x="3" y="126"/>
                    </a:lnTo>
                    <a:lnTo>
                      <a:pt x="0" y="120"/>
                    </a:lnTo>
                    <a:lnTo>
                      <a:pt x="0" y="113"/>
                    </a:lnTo>
                    <a:lnTo>
                      <a:pt x="0" y="109"/>
                    </a:lnTo>
                    <a:lnTo>
                      <a:pt x="1" y="103"/>
                    </a:lnTo>
                    <a:lnTo>
                      <a:pt x="4" y="99"/>
                    </a:lnTo>
                    <a:lnTo>
                      <a:pt x="6" y="95"/>
                    </a:lnTo>
                    <a:lnTo>
                      <a:pt x="11" y="93"/>
                    </a:lnTo>
                    <a:lnTo>
                      <a:pt x="14" y="90"/>
                    </a:lnTo>
                    <a:lnTo>
                      <a:pt x="20" y="88"/>
                    </a:lnTo>
                    <a:lnTo>
                      <a:pt x="24" y="88"/>
                    </a:lnTo>
                    <a:lnTo>
                      <a:pt x="29" y="88"/>
                    </a:lnTo>
                    <a:lnTo>
                      <a:pt x="33" y="89"/>
                    </a:lnTo>
                    <a:lnTo>
                      <a:pt x="37" y="90"/>
                    </a:lnTo>
                    <a:lnTo>
                      <a:pt x="40" y="93"/>
                    </a:lnTo>
                    <a:lnTo>
                      <a:pt x="45" y="97"/>
                    </a:lnTo>
                    <a:lnTo>
                      <a:pt x="47" y="102"/>
                    </a:lnTo>
                    <a:lnTo>
                      <a:pt x="49" y="109"/>
                    </a:lnTo>
                    <a:lnTo>
                      <a:pt x="50" y="114"/>
                    </a:lnTo>
                    <a:lnTo>
                      <a:pt x="50" y="119"/>
                    </a:lnTo>
                    <a:lnTo>
                      <a:pt x="49" y="122"/>
                    </a:lnTo>
                    <a:lnTo>
                      <a:pt x="48" y="126"/>
                    </a:lnTo>
                    <a:lnTo>
                      <a:pt x="46" y="129"/>
                    </a:lnTo>
                    <a:lnTo>
                      <a:pt x="42" y="133"/>
                    </a:lnTo>
                    <a:lnTo>
                      <a:pt x="37" y="137"/>
                    </a:lnTo>
                    <a:lnTo>
                      <a:pt x="32" y="139"/>
                    </a:lnTo>
                    <a:lnTo>
                      <a:pt x="25" y="139"/>
                    </a:lnTo>
                    <a:close/>
                    <a:moveTo>
                      <a:pt x="26" y="79"/>
                    </a:moveTo>
                    <a:lnTo>
                      <a:pt x="26" y="77"/>
                    </a:lnTo>
                    <a:lnTo>
                      <a:pt x="28" y="76"/>
                    </a:lnTo>
                    <a:lnTo>
                      <a:pt x="29" y="75"/>
                    </a:lnTo>
                    <a:lnTo>
                      <a:pt x="30" y="75"/>
                    </a:lnTo>
                    <a:lnTo>
                      <a:pt x="32" y="75"/>
                    </a:lnTo>
                    <a:lnTo>
                      <a:pt x="33" y="76"/>
                    </a:lnTo>
                    <a:lnTo>
                      <a:pt x="33" y="77"/>
                    </a:lnTo>
                    <a:lnTo>
                      <a:pt x="34" y="78"/>
                    </a:lnTo>
                    <a:lnTo>
                      <a:pt x="33" y="80"/>
                    </a:lnTo>
                    <a:lnTo>
                      <a:pt x="33" y="81"/>
                    </a:lnTo>
                    <a:lnTo>
                      <a:pt x="32" y="82"/>
                    </a:lnTo>
                    <a:lnTo>
                      <a:pt x="30" y="82"/>
                    </a:lnTo>
                    <a:lnTo>
                      <a:pt x="29" y="82"/>
                    </a:lnTo>
                    <a:lnTo>
                      <a:pt x="28" y="81"/>
                    </a:lnTo>
                    <a:lnTo>
                      <a:pt x="26" y="80"/>
                    </a:lnTo>
                    <a:lnTo>
                      <a:pt x="26" y="79"/>
                    </a:lnTo>
                    <a:close/>
                    <a:moveTo>
                      <a:pt x="14" y="79"/>
                    </a:moveTo>
                    <a:lnTo>
                      <a:pt x="15" y="77"/>
                    </a:lnTo>
                    <a:lnTo>
                      <a:pt x="15" y="76"/>
                    </a:lnTo>
                    <a:lnTo>
                      <a:pt x="17" y="76"/>
                    </a:lnTo>
                    <a:lnTo>
                      <a:pt x="18" y="75"/>
                    </a:lnTo>
                    <a:lnTo>
                      <a:pt x="20" y="76"/>
                    </a:lnTo>
                    <a:lnTo>
                      <a:pt x="21" y="76"/>
                    </a:lnTo>
                    <a:lnTo>
                      <a:pt x="22" y="77"/>
                    </a:lnTo>
                    <a:lnTo>
                      <a:pt x="22" y="79"/>
                    </a:lnTo>
                    <a:lnTo>
                      <a:pt x="22" y="80"/>
                    </a:lnTo>
                    <a:lnTo>
                      <a:pt x="21" y="81"/>
                    </a:lnTo>
                    <a:lnTo>
                      <a:pt x="20" y="82"/>
                    </a:lnTo>
                    <a:lnTo>
                      <a:pt x="18" y="82"/>
                    </a:lnTo>
                    <a:lnTo>
                      <a:pt x="17" y="82"/>
                    </a:lnTo>
                    <a:lnTo>
                      <a:pt x="16" y="81"/>
                    </a:lnTo>
                    <a:lnTo>
                      <a:pt x="15" y="80"/>
                    </a:lnTo>
                    <a:lnTo>
                      <a:pt x="14" y="79"/>
                    </a:lnTo>
                    <a:close/>
                    <a:moveTo>
                      <a:pt x="95" y="88"/>
                    </a:moveTo>
                    <a:lnTo>
                      <a:pt x="97" y="88"/>
                    </a:lnTo>
                    <a:lnTo>
                      <a:pt x="97" y="88"/>
                    </a:lnTo>
                    <a:lnTo>
                      <a:pt x="98" y="87"/>
                    </a:lnTo>
                    <a:lnTo>
                      <a:pt x="98" y="87"/>
                    </a:lnTo>
                    <a:lnTo>
                      <a:pt x="99" y="88"/>
                    </a:lnTo>
                    <a:lnTo>
                      <a:pt x="100" y="88"/>
                    </a:lnTo>
                    <a:lnTo>
                      <a:pt x="100" y="89"/>
                    </a:lnTo>
                    <a:lnTo>
                      <a:pt x="101" y="90"/>
                    </a:lnTo>
                    <a:lnTo>
                      <a:pt x="102" y="93"/>
                    </a:lnTo>
                    <a:lnTo>
                      <a:pt x="102" y="95"/>
                    </a:lnTo>
                    <a:lnTo>
                      <a:pt x="103" y="97"/>
                    </a:lnTo>
                    <a:lnTo>
                      <a:pt x="103" y="98"/>
                    </a:lnTo>
                    <a:lnTo>
                      <a:pt x="103" y="99"/>
                    </a:lnTo>
                    <a:lnTo>
                      <a:pt x="102" y="101"/>
                    </a:lnTo>
                    <a:lnTo>
                      <a:pt x="102" y="101"/>
                    </a:lnTo>
                    <a:lnTo>
                      <a:pt x="101" y="101"/>
                    </a:lnTo>
                    <a:lnTo>
                      <a:pt x="100" y="101"/>
                    </a:lnTo>
                    <a:lnTo>
                      <a:pt x="98" y="98"/>
                    </a:lnTo>
                    <a:lnTo>
                      <a:pt x="98" y="98"/>
                    </a:lnTo>
                    <a:lnTo>
                      <a:pt x="98" y="98"/>
                    </a:lnTo>
                    <a:lnTo>
                      <a:pt x="97" y="97"/>
                    </a:lnTo>
                    <a:lnTo>
                      <a:pt x="97" y="97"/>
                    </a:lnTo>
                    <a:lnTo>
                      <a:pt x="94" y="95"/>
                    </a:lnTo>
                    <a:lnTo>
                      <a:pt x="93" y="94"/>
                    </a:lnTo>
                    <a:lnTo>
                      <a:pt x="91" y="93"/>
                    </a:lnTo>
                    <a:lnTo>
                      <a:pt x="89" y="92"/>
                    </a:lnTo>
                    <a:lnTo>
                      <a:pt x="86" y="92"/>
                    </a:lnTo>
                    <a:lnTo>
                      <a:pt x="83" y="92"/>
                    </a:lnTo>
                    <a:lnTo>
                      <a:pt x="80" y="92"/>
                    </a:lnTo>
                    <a:lnTo>
                      <a:pt x="77" y="93"/>
                    </a:lnTo>
                    <a:lnTo>
                      <a:pt x="74" y="95"/>
                    </a:lnTo>
                    <a:lnTo>
                      <a:pt x="73" y="97"/>
                    </a:lnTo>
                    <a:lnTo>
                      <a:pt x="71" y="99"/>
                    </a:lnTo>
                    <a:lnTo>
                      <a:pt x="69" y="103"/>
                    </a:lnTo>
                    <a:lnTo>
                      <a:pt x="69" y="106"/>
                    </a:lnTo>
                    <a:lnTo>
                      <a:pt x="69" y="111"/>
                    </a:lnTo>
                    <a:lnTo>
                      <a:pt x="69" y="115"/>
                    </a:lnTo>
                    <a:lnTo>
                      <a:pt x="71" y="120"/>
                    </a:lnTo>
                    <a:lnTo>
                      <a:pt x="72" y="123"/>
                    </a:lnTo>
                    <a:lnTo>
                      <a:pt x="75" y="127"/>
                    </a:lnTo>
                    <a:lnTo>
                      <a:pt x="77" y="130"/>
                    </a:lnTo>
                    <a:lnTo>
                      <a:pt x="81" y="131"/>
                    </a:lnTo>
                    <a:lnTo>
                      <a:pt x="84" y="132"/>
                    </a:lnTo>
                    <a:lnTo>
                      <a:pt x="88" y="133"/>
                    </a:lnTo>
                    <a:lnTo>
                      <a:pt x="92" y="132"/>
                    </a:lnTo>
                    <a:lnTo>
                      <a:pt x="94" y="130"/>
                    </a:lnTo>
                    <a:lnTo>
                      <a:pt x="97" y="127"/>
                    </a:lnTo>
                    <a:lnTo>
                      <a:pt x="97" y="123"/>
                    </a:lnTo>
                    <a:lnTo>
                      <a:pt x="97" y="121"/>
                    </a:lnTo>
                    <a:lnTo>
                      <a:pt x="95" y="121"/>
                    </a:lnTo>
                    <a:lnTo>
                      <a:pt x="95" y="120"/>
                    </a:lnTo>
                    <a:lnTo>
                      <a:pt x="94" y="120"/>
                    </a:lnTo>
                    <a:lnTo>
                      <a:pt x="93" y="119"/>
                    </a:lnTo>
                    <a:lnTo>
                      <a:pt x="92" y="119"/>
                    </a:lnTo>
                    <a:lnTo>
                      <a:pt x="90" y="119"/>
                    </a:lnTo>
                    <a:lnTo>
                      <a:pt x="89" y="116"/>
                    </a:lnTo>
                    <a:lnTo>
                      <a:pt x="90" y="115"/>
                    </a:lnTo>
                    <a:lnTo>
                      <a:pt x="91" y="114"/>
                    </a:lnTo>
                    <a:lnTo>
                      <a:pt x="94" y="114"/>
                    </a:lnTo>
                    <a:lnTo>
                      <a:pt x="102" y="114"/>
                    </a:lnTo>
                    <a:lnTo>
                      <a:pt x="107" y="114"/>
                    </a:lnTo>
                    <a:lnTo>
                      <a:pt x="109" y="114"/>
                    </a:lnTo>
                    <a:lnTo>
                      <a:pt x="110" y="115"/>
                    </a:lnTo>
                    <a:lnTo>
                      <a:pt x="110" y="116"/>
                    </a:lnTo>
                    <a:lnTo>
                      <a:pt x="110" y="116"/>
                    </a:lnTo>
                    <a:lnTo>
                      <a:pt x="110" y="118"/>
                    </a:lnTo>
                    <a:lnTo>
                      <a:pt x="110" y="118"/>
                    </a:lnTo>
                    <a:lnTo>
                      <a:pt x="109" y="119"/>
                    </a:lnTo>
                    <a:lnTo>
                      <a:pt x="108" y="119"/>
                    </a:lnTo>
                    <a:lnTo>
                      <a:pt x="108" y="119"/>
                    </a:lnTo>
                    <a:lnTo>
                      <a:pt x="107" y="120"/>
                    </a:lnTo>
                    <a:lnTo>
                      <a:pt x="106" y="120"/>
                    </a:lnTo>
                    <a:lnTo>
                      <a:pt x="106" y="121"/>
                    </a:lnTo>
                    <a:lnTo>
                      <a:pt x="105" y="123"/>
                    </a:lnTo>
                    <a:lnTo>
                      <a:pt x="105" y="123"/>
                    </a:lnTo>
                    <a:lnTo>
                      <a:pt x="105" y="124"/>
                    </a:lnTo>
                    <a:lnTo>
                      <a:pt x="105" y="127"/>
                    </a:lnTo>
                    <a:lnTo>
                      <a:pt x="103" y="129"/>
                    </a:lnTo>
                    <a:lnTo>
                      <a:pt x="102" y="130"/>
                    </a:lnTo>
                    <a:lnTo>
                      <a:pt x="102" y="132"/>
                    </a:lnTo>
                    <a:lnTo>
                      <a:pt x="99" y="135"/>
                    </a:lnTo>
                    <a:lnTo>
                      <a:pt x="95" y="137"/>
                    </a:lnTo>
                    <a:lnTo>
                      <a:pt x="91" y="138"/>
                    </a:lnTo>
                    <a:lnTo>
                      <a:pt x="86" y="138"/>
                    </a:lnTo>
                    <a:lnTo>
                      <a:pt x="81" y="138"/>
                    </a:lnTo>
                    <a:lnTo>
                      <a:pt x="76" y="137"/>
                    </a:lnTo>
                    <a:lnTo>
                      <a:pt x="72" y="135"/>
                    </a:lnTo>
                    <a:lnTo>
                      <a:pt x="67" y="131"/>
                    </a:lnTo>
                    <a:lnTo>
                      <a:pt x="64" y="128"/>
                    </a:lnTo>
                    <a:lnTo>
                      <a:pt x="61" y="123"/>
                    </a:lnTo>
                    <a:lnTo>
                      <a:pt x="60" y="119"/>
                    </a:lnTo>
                    <a:lnTo>
                      <a:pt x="59" y="113"/>
                    </a:lnTo>
                    <a:lnTo>
                      <a:pt x="59" y="107"/>
                    </a:lnTo>
                    <a:lnTo>
                      <a:pt x="60" y="103"/>
                    </a:lnTo>
                    <a:lnTo>
                      <a:pt x="63" y="98"/>
                    </a:lnTo>
                    <a:lnTo>
                      <a:pt x="66" y="95"/>
                    </a:lnTo>
                    <a:lnTo>
                      <a:pt x="69" y="92"/>
                    </a:lnTo>
                    <a:lnTo>
                      <a:pt x="73" y="89"/>
                    </a:lnTo>
                    <a:lnTo>
                      <a:pt x="78" y="88"/>
                    </a:lnTo>
                    <a:lnTo>
                      <a:pt x="83" y="87"/>
                    </a:lnTo>
                    <a:lnTo>
                      <a:pt x="86" y="87"/>
                    </a:lnTo>
                    <a:lnTo>
                      <a:pt x="89" y="87"/>
                    </a:lnTo>
                    <a:lnTo>
                      <a:pt x="92" y="88"/>
                    </a:lnTo>
                    <a:lnTo>
                      <a:pt x="95" y="88"/>
                    </a:lnTo>
                    <a:close/>
                    <a:moveTo>
                      <a:pt x="83" y="77"/>
                    </a:moveTo>
                    <a:lnTo>
                      <a:pt x="85" y="77"/>
                    </a:lnTo>
                    <a:lnTo>
                      <a:pt x="88" y="76"/>
                    </a:lnTo>
                    <a:lnTo>
                      <a:pt x="89" y="76"/>
                    </a:lnTo>
                    <a:lnTo>
                      <a:pt x="90" y="73"/>
                    </a:lnTo>
                    <a:lnTo>
                      <a:pt x="90" y="73"/>
                    </a:lnTo>
                    <a:lnTo>
                      <a:pt x="90" y="73"/>
                    </a:lnTo>
                    <a:lnTo>
                      <a:pt x="91" y="72"/>
                    </a:lnTo>
                    <a:lnTo>
                      <a:pt x="91" y="72"/>
                    </a:lnTo>
                    <a:lnTo>
                      <a:pt x="92" y="72"/>
                    </a:lnTo>
                    <a:lnTo>
                      <a:pt x="92" y="72"/>
                    </a:lnTo>
                    <a:lnTo>
                      <a:pt x="92" y="72"/>
                    </a:lnTo>
                    <a:lnTo>
                      <a:pt x="92" y="73"/>
                    </a:lnTo>
                    <a:lnTo>
                      <a:pt x="92" y="77"/>
                    </a:lnTo>
                    <a:lnTo>
                      <a:pt x="90" y="79"/>
                    </a:lnTo>
                    <a:lnTo>
                      <a:pt x="88" y="81"/>
                    </a:lnTo>
                    <a:lnTo>
                      <a:pt x="83" y="82"/>
                    </a:lnTo>
                    <a:lnTo>
                      <a:pt x="78" y="81"/>
                    </a:lnTo>
                    <a:lnTo>
                      <a:pt x="76" y="80"/>
                    </a:lnTo>
                    <a:lnTo>
                      <a:pt x="74" y="77"/>
                    </a:lnTo>
                    <a:lnTo>
                      <a:pt x="73" y="73"/>
                    </a:lnTo>
                    <a:lnTo>
                      <a:pt x="73" y="73"/>
                    </a:lnTo>
                    <a:lnTo>
                      <a:pt x="73" y="72"/>
                    </a:lnTo>
                    <a:lnTo>
                      <a:pt x="74" y="72"/>
                    </a:lnTo>
                    <a:lnTo>
                      <a:pt x="74" y="72"/>
                    </a:lnTo>
                    <a:lnTo>
                      <a:pt x="75" y="72"/>
                    </a:lnTo>
                    <a:lnTo>
                      <a:pt x="75" y="73"/>
                    </a:lnTo>
                    <a:lnTo>
                      <a:pt x="76" y="75"/>
                    </a:lnTo>
                    <a:lnTo>
                      <a:pt x="76" y="75"/>
                    </a:lnTo>
                    <a:lnTo>
                      <a:pt x="77" y="76"/>
                    </a:lnTo>
                    <a:lnTo>
                      <a:pt x="78" y="77"/>
                    </a:lnTo>
                    <a:lnTo>
                      <a:pt x="81" y="77"/>
                    </a:lnTo>
                    <a:lnTo>
                      <a:pt x="83" y="77"/>
                    </a:lnTo>
                    <a:close/>
                    <a:moveTo>
                      <a:pt x="131" y="107"/>
                    </a:moveTo>
                    <a:lnTo>
                      <a:pt x="133" y="107"/>
                    </a:lnTo>
                    <a:lnTo>
                      <a:pt x="134" y="107"/>
                    </a:lnTo>
                    <a:lnTo>
                      <a:pt x="135" y="107"/>
                    </a:lnTo>
                    <a:lnTo>
                      <a:pt x="136" y="107"/>
                    </a:lnTo>
                    <a:lnTo>
                      <a:pt x="141" y="106"/>
                    </a:lnTo>
                    <a:lnTo>
                      <a:pt x="144" y="105"/>
                    </a:lnTo>
                    <a:lnTo>
                      <a:pt x="146" y="102"/>
                    </a:lnTo>
                    <a:lnTo>
                      <a:pt x="146" y="97"/>
                    </a:lnTo>
                    <a:lnTo>
                      <a:pt x="145" y="94"/>
                    </a:lnTo>
                    <a:lnTo>
                      <a:pt x="143" y="92"/>
                    </a:lnTo>
                    <a:lnTo>
                      <a:pt x="140" y="89"/>
                    </a:lnTo>
                    <a:lnTo>
                      <a:pt x="135" y="89"/>
                    </a:lnTo>
                    <a:lnTo>
                      <a:pt x="133" y="89"/>
                    </a:lnTo>
                    <a:lnTo>
                      <a:pt x="132" y="90"/>
                    </a:lnTo>
                    <a:lnTo>
                      <a:pt x="131" y="90"/>
                    </a:lnTo>
                    <a:lnTo>
                      <a:pt x="131" y="92"/>
                    </a:lnTo>
                    <a:lnTo>
                      <a:pt x="131" y="93"/>
                    </a:lnTo>
                    <a:lnTo>
                      <a:pt x="131" y="94"/>
                    </a:lnTo>
                    <a:lnTo>
                      <a:pt x="131" y="97"/>
                    </a:lnTo>
                    <a:lnTo>
                      <a:pt x="131" y="102"/>
                    </a:lnTo>
                    <a:lnTo>
                      <a:pt x="131" y="105"/>
                    </a:lnTo>
                    <a:lnTo>
                      <a:pt x="131" y="107"/>
                    </a:lnTo>
                    <a:close/>
                    <a:moveTo>
                      <a:pt x="148" y="110"/>
                    </a:moveTo>
                    <a:lnTo>
                      <a:pt x="148" y="110"/>
                    </a:lnTo>
                    <a:lnTo>
                      <a:pt x="151" y="111"/>
                    </a:lnTo>
                    <a:lnTo>
                      <a:pt x="153" y="112"/>
                    </a:lnTo>
                    <a:lnTo>
                      <a:pt x="155" y="115"/>
                    </a:lnTo>
                    <a:lnTo>
                      <a:pt x="158" y="120"/>
                    </a:lnTo>
                    <a:lnTo>
                      <a:pt x="158" y="121"/>
                    </a:lnTo>
                    <a:lnTo>
                      <a:pt x="159" y="123"/>
                    </a:lnTo>
                    <a:lnTo>
                      <a:pt x="160" y="127"/>
                    </a:lnTo>
                    <a:lnTo>
                      <a:pt x="162" y="128"/>
                    </a:lnTo>
                    <a:lnTo>
                      <a:pt x="162" y="128"/>
                    </a:lnTo>
                    <a:lnTo>
                      <a:pt x="163" y="128"/>
                    </a:lnTo>
                    <a:lnTo>
                      <a:pt x="163" y="128"/>
                    </a:lnTo>
                    <a:lnTo>
                      <a:pt x="165" y="128"/>
                    </a:lnTo>
                    <a:lnTo>
                      <a:pt x="165" y="128"/>
                    </a:lnTo>
                    <a:lnTo>
                      <a:pt x="166" y="129"/>
                    </a:lnTo>
                    <a:lnTo>
                      <a:pt x="166" y="129"/>
                    </a:lnTo>
                    <a:lnTo>
                      <a:pt x="167" y="130"/>
                    </a:lnTo>
                    <a:lnTo>
                      <a:pt x="166" y="131"/>
                    </a:lnTo>
                    <a:lnTo>
                      <a:pt x="165" y="132"/>
                    </a:lnTo>
                    <a:lnTo>
                      <a:pt x="162" y="133"/>
                    </a:lnTo>
                    <a:lnTo>
                      <a:pt x="159" y="133"/>
                    </a:lnTo>
                    <a:lnTo>
                      <a:pt x="157" y="133"/>
                    </a:lnTo>
                    <a:lnTo>
                      <a:pt x="153" y="131"/>
                    </a:lnTo>
                    <a:lnTo>
                      <a:pt x="151" y="129"/>
                    </a:lnTo>
                    <a:lnTo>
                      <a:pt x="149" y="124"/>
                    </a:lnTo>
                    <a:lnTo>
                      <a:pt x="149" y="124"/>
                    </a:lnTo>
                    <a:lnTo>
                      <a:pt x="145" y="118"/>
                    </a:lnTo>
                    <a:lnTo>
                      <a:pt x="143" y="114"/>
                    </a:lnTo>
                    <a:lnTo>
                      <a:pt x="140" y="112"/>
                    </a:lnTo>
                    <a:lnTo>
                      <a:pt x="136" y="112"/>
                    </a:lnTo>
                    <a:lnTo>
                      <a:pt x="133" y="112"/>
                    </a:lnTo>
                    <a:lnTo>
                      <a:pt x="132" y="112"/>
                    </a:lnTo>
                    <a:lnTo>
                      <a:pt x="132" y="113"/>
                    </a:lnTo>
                    <a:lnTo>
                      <a:pt x="132" y="113"/>
                    </a:lnTo>
                    <a:lnTo>
                      <a:pt x="132" y="115"/>
                    </a:lnTo>
                    <a:lnTo>
                      <a:pt x="132" y="116"/>
                    </a:lnTo>
                    <a:lnTo>
                      <a:pt x="132" y="123"/>
                    </a:lnTo>
                    <a:lnTo>
                      <a:pt x="133" y="127"/>
                    </a:lnTo>
                    <a:lnTo>
                      <a:pt x="133" y="129"/>
                    </a:lnTo>
                    <a:lnTo>
                      <a:pt x="134" y="130"/>
                    </a:lnTo>
                    <a:lnTo>
                      <a:pt x="134" y="130"/>
                    </a:lnTo>
                    <a:lnTo>
                      <a:pt x="135" y="130"/>
                    </a:lnTo>
                    <a:lnTo>
                      <a:pt x="136" y="131"/>
                    </a:lnTo>
                    <a:lnTo>
                      <a:pt x="137" y="132"/>
                    </a:lnTo>
                    <a:lnTo>
                      <a:pt x="137" y="133"/>
                    </a:lnTo>
                    <a:lnTo>
                      <a:pt x="136" y="135"/>
                    </a:lnTo>
                    <a:lnTo>
                      <a:pt x="133" y="135"/>
                    </a:lnTo>
                    <a:lnTo>
                      <a:pt x="128" y="136"/>
                    </a:lnTo>
                    <a:lnTo>
                      <a:pt x="124" y="136"/>
                    </a:lnTo>
                    <a:lnTo>
                      <a:pt x="121" y="136"/>
                    </a:lnTo>
                    <a:lnTo>
                      <a:pt x="119" y="135"/>
                    </a:lnTo>
                    <a:lnTo>
                      <a:pt x="119" y="133"/>
                    </a:lnTo>
                    <a:lnTo>
                      <a:pt x="119" y="132"/>
                    </a:lnTo>
                    <a:lnTo>
                      <a:pt x="121" y="131"/>
                    </a:lnTo>
                    <a:lnTo>
                      <a:pt x="121" y="131"/>
                    </a:lnTo>
                    <a:lnTo>
                      <a:pt x="123" y="130"/>
                    </a:lnTo>
                    <a:lnTo>
                      <a:pt x="123" y="129"/>
                    </a:lnTo>
                    <a:lnTo>
                      <a:pt x="123" y="126"/>
                    </a:lnTo>
                    <a:lnTo>
                      <a:pt x="123" y="120"/>
                    </a:lnTo>
                    <a:lnTo>
                      <a:pt x="123" y="111"/>
                    </a:lnTo>
                    <a:lnTo>
                      <a:pt x="121" y="104"/>
                    </a:lnTo>
                    <a:lnTo>
                      <a:pt x="121" y="97"/>
                    </a:lnTo>
                    <a:lnTo>
                      <a:pt x="120" y="94"/>
                    </a:lnTo>
                    <a:lnTo>
                      <a:pt x="120" y="93"/>
                    </a:lnTo>
                    <a:lnTo>
                      <a:pt x="119" y="92"/>
                    </a:lnTo>
                    <a:lnTo>
                      <a:pt x="118" y="92"/>
                    </a:lnTo>
                    <a:lnTo>
                      <a:pt x="116" y="90"/>
                    </a:lnTo>
                    <a:lnTo>
                      <a:pt x="116" y="89"/>
                    </a:lnTo>
                    <a:lnTo>
                      <a:pt x="116" y="88"/>
                    </a:lnTo>
                    <a:lnTo>
                      <a:pt x="117" y="87"/>
                    </a:lnTo>
                    <a:lnTo>
                      <a:pt x="118" y="87"/>
                    </a:lnTo>
                    <a:lnTo>
                      <a:pt x="120" y="86"/>
                    </a:lnTo>
                    <a:lnTo>
                      <a:pt x="127" y="86"/>
                    </a:lnTo>
                    <a:lnTo>
                      <a:pt x="131" y="86"/>
                    </a:lnTo>
                    <a:lnTo>
                      <a:pt x="134" y="85"/>
                    </a:lnTo>
                    <a:lnTo>
                      <a:pt x="137" y="85"/>
                    </a:lnTo>
                    <a:lnTo>
                      <a:pt x="140" y="85"/>
                    </a:lnTo>
                    <a:lnTo>
                      <a:pt x="146" y="85"/>
                    </a:lnTo>
                    <a:lnTo>
                      <a:pt x="152" y="87"/>
                    </a:lnTo>
                    <a:lnTo>
                      <a:pt x="153" y="89"/>
                    </a:lnTo>
                    <a:lnTo>
                      <a:pt x="154" y="90"/>
                    </a:lnTo>
                    <a:lnTo>
                      <a:pt x="155" y="94"/>
                    </a:lnTo>
                    <a:lnTo>
                      <a:pt x="157" y="96"/>
                    </a:lnTo>
                    <a:lnTo>
                      <a:pt x="155" y="101"/>
                    </a:lnTo>
                    <a:lnTo>
                      <a:pt x="154" y="104"/>
                    </a:lnTo>
                    <a:lnTo>
                      <a:pt x="151" y="107"/>
                    </a:lnTo>
                    <a:lnTo>
                      <a:pt x="148" y="110"/>
                    </a:lnTo>
                    <a:close/>
                    <a:moveTo>
                      <a:pt x="181" y="132"/>
                    </a:moveTo>
                    <a:lnTo>
                      <a:pt x="177" y="132"/>
                    </a:lnTo>
                    <a:lnTo>
                      <a:pt x="175" y="132"/>
                    </a:lnTo>
                    <a:lnTo>
                      <a:pt x="175" y="131"/>
                    </a:lnTo>
                    <a:lnTo>
                      <a:pt x="174" y="130"/>
                    </a:lnTo>
                    <a:lnTo>
                      <a:pt x="175" y="129"/>
                    </a:lnTo>
                    <a:lnTo>
                      <a:pt x="176" y="128"/>
                    </a:lnTo>
                    <a:lnTo>
                      <a:pt x="177" y="128"/>
                    </a:lnTo>
                    <a:lnTo>
                      <a:pt x="177" y="127"/>
                    </a:lnTo>
                    <a:lnTo>
                      <a:pt x="178" y="126"/>
                    </a:lnTo>
                    <a:lnTo>
                      <a:pt x="178" y="122"/>
                    </a:lnTo>
                    <a:lnTo>
                      <a:pt x="177" y="116"/>
                    </a:lnTo>
                    <a:lnTo>
                      <a:pt x="177" y="107"/>
                    </a:lnTo>
                    <a:lnTo>
                      <a:pt x="176" y="101"/>
                    </a:lnTo>
                    <a:lnTo>
                      <a:pt x="176" y="95"/>
                    </a:lnTo>
                    <a:lnTo>
                      <a:pt x="175" y="90"/>
                    </a:lnTo>
                    <a:lnTo>
                      <a:pt x="175" y="89"/>
                    </a:lnTo>
                    <a:lnTo>
                      <a:pt x="174" y="88"/>
                    </a:lnTo>
                    <a:lnTo>
                      <a:pt x="172" y="88"/>
                    </a:lnTo>
                    <a:lnTo>
                      <a:pt x="170" y="87"/>
                    </a:lnTo>
                    <a:lnTo>
                      <a:pt x="170" y="86"/>
                    </a:lnTo>
                    <a:lnTo>
                      <a:pt x="170" y="85"/>
                    </a:lnTo>
                    <a:lnTo>
                      <a:pt x="171" y="84"/>
                    </a:lnTo>
                    <a:lnTo>
                      <a:pt x="174" y="84"/>
                    </a:lnTo>
                    <a:lnTo>
                      <a:pt x="179" y="82"/>
                    </a:lnTo>
                    <a:lnTo>
                      <a:pt x="200" y="80"/>
                    </a:lnTo>
                    <a:lnTo>
                      <a:pt x="202" y="80"/>
                    </a:lnTo>
                    <a:lnTo>
                      <a:pt x="203" y="80"/>
                    </a:lnTo>
                    <a:lnTo>
                      <a:pt x="204" y="80"/>
                    </a:lnTo>
                    <a:lnTo>
                      <a:pt x="205" y="79"/>
                    </a:lnTo>
                    <a:lnTo>
                      <a:pt x="205" y="79"/>
                    </a:lnTo>
                    <a:lnTo>
                      <a:pt x="205" y="80"/>
                    </a:lnTo>
                    <a:lnTo>
                      <a:pt x="206" y="80"/>
                    </a:lnTo>
                    <a:lnTo>
                      <a:pt x="206" y="80"/>
                    </a:lnTo>
                    <a:lnTo>
                      <a:pt x="208" y="81"/>
                    </a:lnTo>
                    <a:lnTo>
                      <a:pt x="208" y="84"/>
                    </a:lnTo>
                    <a:lnTo>
                      <a:pt x="209" y="86"/>
                    </a:lnTo>
                    <a:lnTo>
                      <a:pt x="209" y="88"/>
                    </a:lnTo>
                    <a:lnTo>
                      <a:pt x="209" y="89"/>
                    </a:lnTo>
                    <a:lnTo>
                      <a:pt x="209" y="90"/>
                    </a:lnTo>
                    <a:lnTo>
                      <a:pt x="208" y="90"/>
                    </a:lnTo>
                    <a:lnTo>
                      <a:pt x="208" y="92"/>
                    </a:lnTo>
                    <a:lnTo>
                      <a:pt x="206" y="90"/>
                    </a:lnTo>
                    <a:lnTo>
                      <a:pt x="204" y="89"/>
                    </a:lnTo>
                    <a:lnTo>
                      <a:pt x="204" y="88"/>
                    </a:lnTo>
                    <a:lnTo>
                      <a:pt x="203" y="87"/>
                    </a:lnTo>
                    <a:lnTo>
                      <a:pt x="202" y="87"/>
                    </a:lnTo>
                    <a:lnTo>
                      <a:pt x="201" y="86"/>
                    </a:lnTo>
                    <a:lnTo>
                      <a:pt x="198" y="86"/>
                    </a:lnTo>
                    <a:lnTo>
                      <a:pt x="197" y="86"/>
                    </a:lnTo>
                    <a:lnTo>
                      <a:pt x="192" y="86"/>
                    </a:lnTo>
                    <a:lnTo>
                      <a:pt x="189" y="87"/>
                    </a:lnTo>
                    <a:lnTo>
                      <a:pt x="187" y="87"/>
                    </a:lnTo>
                    <a:lnTo>
                      <a:pt x="186" y="87"/>
                    </a:lnTo>
                    <a:lnTo>
                      <a:pt x="185" y="88"/>
                    </a:lnTo>
                    <a:lnTo>
                      <a:pt x="185" y="89"/>
                    </a:lnTo>
                    <a:lnTo>
                      <a:pt x="185" y="92"/>
                    </a:lnTo>
                    <a:lnTo>
                      <a:pt x="185" y="94"/>
                    </a:lnTo>
                    <a:lnTo>
                      <a:pt x="185" y="98"/>
                    </a:lnTo>
                    <a:lnTo>
                      <a:pt x="185" y="101"/>
                    </a:lnTo>
                    <a:lnTo>
                      <a:pt x="185" y="102"/>
                    </a:lnTo>
                    <a:lnTo>
                      <a:pt x="185" y="103"/>
                    </a:lnTo>
                    <a:lnTo>
                      <a:pt x="186" y="103"/>
                    </a:lnTo>
                    <a:lnTo>
                      <a:pt x="187" y="103"/>
                    </a:lnTo>
                    <a:lnTo>
                      <a:pt x="193" y="103"/>
                    </a:lnTo>
                    <a:lnTo>
                      <a:pt x="195" y="102"/>
                    </a:lnTo>
                    <a:lnTo>
                      <a:pt x="196" y="102"/>
                    </a:lnTo>
                    <a:lnTo>
                      <a:pt x="197" y="101"/>
                    </a:lnTo>
                    <a:lnTo>
                      <a:pt x="197" y="98"/>
                    </a:lnTo>
                    <a:lnTo>
                      <a:pt x="197" y="98"/>
                    </a:lnTo>
                    <a:lnTo>
                      <a:pt x="197" y="97"/>
                    </a:lnTo>
                    <a:lnTo>
                      <a:pt x="198" y="95"/>
                    </a:lnTo>
                    <a:lnTo>
                      <a:pt x="200" y="94"/>
                    </a:lnTo>
                    <a:lnTo>
                      <a:pt x="201" y="94"/>
                    </a:lnTo>
                    <a:lnTo>
                      <a:pt x="202" y="96"/>
                    </a:lnTo>
                    <a:lnTo>
                      <a:pt x="203" y="98"/>
                    </a:lnTo>
                    <a:lnTo>
                      <a:pt x="203" y="104"/>
                    </a:lnTo>
                    <a:lnTo>
                      <a:pt x="204" y="110"/>
                    </a:lnTo>
                    <a:lnTo>
                      <a:pt x="203" y="112"/>
                    </a:lnTo>
                    <a:lnTo>
                      <a:pt x="203" y="114"/>
                    </a:lnTo>
                    <a:lnTo>
                      <a:pt x="202" y="114"/>
                    </a:lnTo>
                    <a:lnTo>
                      <a:pt x="200" y="114"/>
                    </a:lnTo>
                    <a:lnTo>
                      <a:pt x="200" y="111"/>
                    </a:lnTo>
                    <a:lnTo>
                      <a:pt x="198" y="111"/>
                    </a:lnTo>
                    <a:lnTo>
                      <a:pt x="198" y="111"/>
                    </a:lnTo>
                    <a:lnTo>
                      <a:pt x="198" y="109"/>
                    </a:lnTo>
                    <a:lnTo>
                      <a:pt x="197" y="107"/>
                    </a:lnTo>
                    <a:lnTo>
                      <a:pt x="195" y="107"/>
                    </a:lnTo>
                    <a:lnTo>
                      <a:pt x="193" y="107"/>
                    </a:lnTo>
                    <a:lnTo>
                      <a:pt x="187" y="107"/>
                    </a:lnTo>
                    <a:lnTo>
                      <a:pt x="186" y="107"/>
                    </a:lnTo>
                    <a:lnTo>
                      <a:pt x="186" y="109"/>
                    </a:lnTo>
                    <a:lnTo>
                      <a:pt x="186" y="110"/>
                    </a:lnTo>
                    <a:lnTo>
                      <a:pt x="186" y="111"/>
                    </a:lnTo>
                    <a:lnTo>
                      <a:pt x="186" y="114"/>
                    </a:lnTo>
                    <a:lnTo>
                      <a:pt x="186" y="119"/>
                    </a:lnTo>
                    <a:lnTo>
                      <a:pt x="187" y="121"/>
                    </a:lnTo>
                    <a:lnTo>
                      <a:pt x="187" y="123"/>
                    </a:lnTo>
                    <a:lnTo>
                      <a:pt x="188" y="124"/>
                    </a:lnTo>
                    <a:lnTo>
                      <a:pt x="188" y="126"/>
                    </a:lnTo>
                    <a:lnTo>
                      <a:pt x="191" y="126"/>
                    </a:lnTo>
                    <a:lnTo>
                      <a:pt x="193" y="126"/>
                    </a:lnTo>
                    <a:lnTo>
                      <a:pt x="195" y="126"/>
                    </a:lnTo>
                    <a:lnTo>
                      <a:pt x="200" y="126"/>
                    </a:lnTo>
                    <a:lnTo>
                      <a:pt x="203" y="124"/>
                    </a:lnTo>
                    <a:lnTo>
                      <a:pt x="205" y="123"/>
                    </a:lnTo>
                    <a:lnTo>
                      <a:pt x="208" y="122"/>
                    </a:lnTo>
                    <a:lnTo>
                      <a:pt x="209" y="120"/>
                    </a:lnTo>
                    <a:lnTo>
                      <a:pt x="209" y="119"/>
                    </a:lnTo>
                    <a:lnTo>
                      <a:pt x="210" y="118"/>
                    </a:lnTo>
                    <a:lnTo>
                      <a:pt x="210" y="115"/>
                    </a:lnTo>
                    <a:lnTo>
                      <a:pt x="211" y="115"/>
                    </a:lnTo>
                    <a:lnTo>
                      <a:pt x="212" y="115"/>
                    </a:lnTo>
                    <a:lnTo>
                      <a:pt x="213" y="115"/>
                    </a:lnTo>
                    <a:lnTo>
                      <a:pt x="213" y="116"/>
                    </a:lnTo>
                    <a:lnTo>
                      <a:pt x="213" y="118"/>
                    </a:lnTo>
                    <a:lnTo>
                      <a:pt x="213" y="120"/>
                    </a:lnTo>
                    <a:lnTo>
                      <a:pt x="213" y="122"/>
                    </a:lnTo>
                    <a:lnTo>
                      <a:pt x="213" y="124"/>
                    </a:lnTo>
                    <a:lnTo>
                      <a:pt x="212" y="128"/>
                    </a:lnTo>
                    <a:lnTo>
                      <a:pt x="212" y="129"/>
                    </a:lnTo>
                    <a:lnTo>
                      <a:pt x="211" y="129"/>
                    </a:lnTo>
                    <a:lnTo>
                      <a:pt x="211" y="130"/>
                    </a:lnTo>
                    <a:lnTo>
                      <a:pt x="210" y="130"/>
                    </a:lnTo>
                    <a:lnTo>
                      <a:pt x="210" y="130"/>
                    </a:lnTo>
                    <a:lnTo>
                      <a:pt x="210" y="130"/>
                    </a:lnTo>
                    <a:lnTo>
                      <a:pt x="206" y="130"/>
                    </a:lnTo>
                    <a:lnTo>
                      <a:pt x="204" y="130"/>
                    </a:lnTo>
                    <a:lnTo>
                      <a:pt x="181" y="132"/>
                    </a:lnTo>
                    <a:close/>
                    <a:moveTo>
                      <a:pt x="246" y="76"/>
                    </a:moveTo>
                    <a:lnTo>
                      <a:pt x="249" y="75"/>
                    </a:lnTo>
                    <a:lnTo>
                      <a:pt x="253" y="73"/>
                    </a:lnTo>
                    <a:lnTo>
                      <a:pt x="253" y="73"/>
                    </a:lnTo>
                    <a:lnTo>
                      <a:pt x="253" y="73"/>
                    </a:lnTo>
                    <a:lnTo>
                      <a:pt x="255" y="75"/>
                    </a:lnTo>
                    <a:lnTo>
                      <a:pt x="256" y="76"/>
                    </a:lnTo>
                    <a:lnTo>
                      <a:pt x="257" y="79"/>
                    </a:lnTo>
                    <a:lnTo>
                      <a:pt x="258" y="84"/>
                    </a:lnTo>
                    <a:lnTo>
                      <a:pt x="258" y="85"/>
                    </a:lnTo>
                    <a:lnTo>
                      <a:pt x="258" y="86"/>
                    </a:lnTo>
                    <a:lnTo>
                      <a:pt x="257" y="87"/>
                    </a:lnTo>
                    <a:lnTo>
                      <a:pt x="257" y="87"/>
                    </a:lnTo>
                    <a:lnTo>
                      <a:pt x="256" y="87"/>
                    </a:lnTo>
                    <a:lnTo>
                      <a:pt x="256" y="87"/>
                    </a:lnTo>
                    <a:lnTo>
                      <a:pt x="255" y="87"/>
                    </a:lnTo>
                    <a:lnTo>
                      <a:pt x="255" y="86"/>
                    </a:lnTo>
                    <a:lnTo>
                      <a:pt x="254" y="85"/>
                    </a:lnTo>
                    <a:lnTo>
                      <a:pt x="253" y="84"/>
                    </a:lnTo>
                    <a:lnTo>
                      <a:pt x="253" y="82"/>
                    </a:lnTo>
                    <a:lnTo>
                      <a:pt x="252" y="82"/>
                    </a:lnTo>
                    <a:lnTo>
                      <a:pt x="251" y="81"/>
                    </a:lnTo>
                    <a:lnTo>
                      <a:pt x="249" y="80"/>
                    </a:lnTo>
                    <a:lnTo>
                      <a:pt x="247" y="80"/>
                    </a:lnTo>
                    <a:lnTo>
                      <a:pt x="246" y="80"/>
                    </a:lnTo>
                    <a:lnTo>
                      <a:pt x="244" y="80"/>
                    </a:lnTo>
                    <a:lnTo>
                      <a:pt x="243" y="80"/>
                    </a:lnTo>
                    <a:lnTo>
                      <a:pt x="243" y="81"/>
                    </a:lnTo>
                    <a:lnTo>
                      <a:pt x="241" y="81"/>
                    </a:lnTo>
                    <a:lnTo>
                      <a:pt x="241" y="82"/>
                    </a:lnTo>
                    <a:lnTo>
                      <a:pt x="241" y="85"/>
                    </a:lnTo>
                    <a:lnTo>
                      <a:pt x="243" y="88"/>
                    </a:lnTo>
                    <a:lnTo>
                      <a:pt x="243" y="92"/>
                    </a:lnTo>
                    <a:lnTo>
                      <a:pt x="244" y="97"/>
                    </a:lnTo>
                    <a:lnTo>
                      <a:pt x="245" y="106"/>
                    </a:lnTo>
                    <a:lnTo>
                      <a:pt x="246" y="113"/>
                    </a:lnTo>
                    <a:lnTo>
                      <a:pt x="247" y="118"/>
                    </a:lnTo>
                    <a:lnTo>
                      <a:pt x="247" y="119"/>
                    </a:lnTo>
                    <a:lnTo>
                      <a:pt x="248" y="120"/>
                    </a:lnTo>
                    <a:lnTo>
                      <a:pt x="249" y="120"/>
                    </a:lnTo>
                    <a:lnTo>
                      <a:pt x="251" y="121"/>
                    </a:lnTo>
                    <a:lnTo>
                      <a:pt x="252" y="122"/>
                    </a:lnTo>
                    <a:lnTo>
                      <a:pt x="252" y="123"/>
                    </a:lnTo>
                    <a:lnTo>
                      <a:pt x="251" y="124"/>
                    </a:lnTo>
                    <a:lnTo>
                      <a:pt x="247" y="126"/>
                    </a:lnTo>
                    <a:lnTo>
                      <a:pt x="243" y="126"/>
                    </a:lnTo>
                    <a:lnTo>
                      <a:pt x="238" y="127"/>
                    </a:lnTo>
                    <a:lnTo>
                      <a:pt x="236" y="127"/>
                    </a:lnTo>
                    <a:lnTo>
                      <a:pt x="234" y="126"/>
                    </a:lnTo>
                    <a:lnTo>
                      <a:pt x="234" y="124"/>
                    </a:lnTo>
                    <a:lnTo>
                      <a:pt x="234" y="123"/>
                    </a:lnTo>
                    <a:lnTo>
                      <a:pt x="235" y="122"/>
                    </a:lnTo>
                    <a:lnTo>
                      <a:pt x="236" y="121"/>
                    </a:lnTo>
                    <a:lnTo>
                      <a:pt x="237" y="121"/>
                    </a:lnTo>
                    <a:lnTo>
                      <a:pt x="237" y="119"/>
                    </a:lnTo>
                    <a:lnTo>
                      <a:pt x="237" y="114"/>
                    </a:lnTo>
                    <a:lnTo>
                      <a:pt x="236" y="107"/>
                    </a:lnTo>
                    <a:lnTo>
                      <a:pt x="235" y="98"/>
                    </a:lnTo>
                    <a:lnTo>
                      <a:pt x="234" y="94"/>
                    </a:lnTo>
                    <a:lnTo>
                      <a:pt x="234" y="89"/>
                    </a:lnTo>
                    <a:lnTo>
                      <a:pt x="232" y="86"/>
                    </a:lnTo>
                    <a:lnTo>
                      <a:pt x="232" y="84"/>
                    </a:lnTo>
                    <a:lnTo>
                      <a:pt x="232" y="82"/>
                    </a:lnTo>
                    <a:lnTo>
                      <a:pt x="231" y="82"/>
                    </a:lnTo>
                    <a:lnTo>
                      <a:pt x="230" y="82"/>
                    </a:lnTo>
                    <a:lnTo>
                      <a:pt x="229" y="82"/>
                    </a:lnTo>
                    <a:lnTo>
                      <a:pt x="228" y="82"/>
                    </a:lnTo>
                    <a:lnTo>
                      <a:pt x="226" y="84"/>
                    </a:lnTo>
                    <a:lnTo>
                      <a:pt x="225" y="84"/>
                    </a:lnTo>
                    <a:lnTo>
                      <a:pt x="223" y="85"/>
                    </a:lnTo>
                    <a:lnTo>
                      <a:pt x="222" y="86"/>
                    </a:lnTo>
                    <a:lnTo>
                      <a:pt x="222" y="87"/>
                    </a:lnTo>
                    <a:lnTo>
                      <a:pt x="221" y="88"/>
                    </a:lnTo>
                    <a:lnTo>
                      <a:pt x="221" y="90"/>
                    </a:lnTo>
                    <a:lnTo>
                      <a:pt x="221" y="90"/>
                    </a:lnTo>
                    <a:lnTo>
                      <a:pt x="220" y="92"/>
                    </a:lnTo>
                    <a:lnTo>
                      <a:pt x="220" y="93"/>
                    </a:lnTo>
                    <a:lnTo>
                      <a:pt x="220" y="93"/>
                    </a:lnTo>
                    <a:lnTo>
                      <a:pt x="219" y="93"/>
                    </a:lnTo>
                    <a:lnTo>
                      <a:pt x="218" y="93"/>
                    </a:lnTo>
                    <a:lnTo>
                      <a:pt x="218" y="92"/>
                    </a:lnTo>
                    <a:lnTo>
                      <a:pt x="217" y="90"/>
                    </a:lnTo>
                    <a:lnTo>
                      <a:pt x="217" y="89"/>
                    </a:lnTo>
                    <a:lnTo>
                      <a:pt x="217" y="85"/>
                    </a:lnTo>
                    <a:lnTo>
                      <a:pt x="217" y="81"/>
                    </a:lnTo>
                    <a:lnTo>
                      <a:pt x="218" y="79"/>
                    </a:lnTo>
                    <a:lnTo>
                      <a:pt x="219" y="79"/>
                    </a:lnTo>
                    <a:lnTo>
                      <a:pt x="219" y="79"/>
                    </a:lnTo>
                    <a:lnTo>
                      <a:pt x="219" y="79"/>
                    </a:lnTo>
                    <a:lnTo>
                      <a:pt x="222" y="78"/>
                    </a:lnTo>
                    <a:lnTo>
                      <a:pt x="226" y="78"/>
                    </a:lnTo>
                    <a:lnTo>
                      <a:pt x="246" y="76"/>
                    </a:lnTo>
                    <a:close/>
                    <a:moveTo>
                      <a:pt x="277" y="96"/>
                    </a:moveTo>
                    <a:lnTo>
                      <a:pt x="275" y="89"/>
                    </a:lnTo>
                    <a:lnTo>
                      <a:pt x="274" y="84"/>
                    </a:lnTo>
                    <a:lnTo>
                      <a:pt x="273" y="79"/>
                    </a:lnTo>
                    <a:lnTo>
                      <a:pt x="272" y="78"/>
                    </a:lnTo>
                    <a:lnTo>
                      <a:pt x="272" y="78"/>
                    </a:lnTo>
                    <a:lnTo>
                      <a:pt x="270" y="77"/>
                    </a:lnTo>
                    <a:lnTo>
                      <a:pt x="269" y="77"/>
                    </a:lnTo>
                    <a:lnTo>
                      <a:pt x="269" y="76"/>
                    </a:lnTo>
                    <a:lnTo>
                      <a:pt x="269" y="73"/>
                    </a:lnTo>
                    <a:lnTo>
                      <a:pt x="270" y="73"/>
                    </a:lnTo>
                    <a:lnTo>
                      <a:pt x="272" y="72"/>
                    </a:lnTo>
                    <a:lnTo>
                      <a:pt x="277" y="71"/>
                    </a:lnTo>
                    <a:lnTo>
                      <a:pt x="282" y="71"/>
                    </a:lnTo>
                    <a:lnTo>
                      <a:pt x="285" y="71"/>
                    </a:lnTo>
                    <a:lnTo>
                      <a:pt x="286" y="71"/>
                    </a:lnTo>
                    <a:lnTo>
                      <a:pt x="287" y="72"/>
                    </a:lnTo>
                    <a:lnTo>
                      <a:pt x="286" y="73"/>
                    </a:lnTo>
                    <a:lnTo>
                      <a:pt x="285" y="75"/>
                    </a:lnTo>
                    <a:lnTo>
                      <a:pt x="283" y="76"/>
                    </a:lnTo>
                    <a:lnTo>
                      <a:pt x="283" y="76"/>
                    </a:lnTo>
                    <a:lnTo>
                      <a:pt x="283" y="77"/>
                    </a:lnTo>
                    <a:lnTo>
                      <a:pt x="283" y="80"/>
                    </a:lnTo>
                    <a:lnTo>
                      <a:pt x="283" y="85"/>
                    </a:lnTo>
                    <a:lnTo>
                      <a:pt x="285" y="92"/>
                    </a:lnTo>
                    <a:lnTo>
                      <a:pt x="286" y="101"/>
                    </a:lnTo>
                    <a:lnTo>
                      <a:pt x="287" y="107"/>
                    </a:lnTo>
                    <a:lnTo>
                      <a:pt x="288" y="112"/>
                    </a:lnTo>
                    <a:lnTo>
                      <a:pt x="289" y="114"/>
                    </a:lnTo>
                    <a:lnTo>
                      <a:pt x="290" y="114"/>
                    </a:lnTo>
                    <a:lnTo>
                      <a:pt x="291" y="114"/>
                    </a:lnTo>
                    <a:lnTo>
                      <a:pt x="292" y="115"/>
                    </a:lnTo>
                    <a:lnTo>
                      <a:pt x="294" y="116"/>
                    </a:lnTo>
                    <a:lnTo>
                      <a:pt x="294" y="118"/>
                    </a:lnTo>
                    <a:lnTo>
                      <a:pt x="291" y="119"/>
                    </a:lnTo>
                    <a:lnTo>
                      <a:pt x="289" y="120"/>
                    </a:lnTo>
                    <a:lnTo>
                      <a:pt x="285" y="120"/>
                    </a:lnTo>
                    <a:lnTo>
                      <a:pt x="280" y="121"/>
                    </a:lnTo>
                    <a:lnTo>
                      <a:pt x="278" y="121"/>
                    </a:lnTo>
                    <a:lnTo>
                      <a:pt x="275" y="120"/>
                    </a:lnTo>
                    <a:lnTo>
                      <a:pt x="275" y="119"/>
                    </a:lnTo>
                    <a:lnTo>
                      <a:pt x="275" y="118"/>
                    </a:lnTo>
                    <a:lnTo>
                      <a:pt x="277" y="116"/>
                    </a:lnTo>
                    <a:lnTo>
                      <a:pt x="278" y="116"/>
                    </a:lnTo>
                    <a:lnTo>
                      <a:pt x="278" y="115"/>
                    </a:lnTo>
                    <a:lnTo>
                      <a:pt x="279" y="114"/>
                    </a:lnTo>
                    <a:lnTo>
                      <a:pt x="279" y="111"/>
                    </a:lnTo>
                    <a:lnTo>
                      <a:pt x="278" y="105"/>
                    </a:lnTo>
                    <a:lnTo>
                      <a:pt x="277" y="96"/>
                    </a:lnTo>
                    <a:close/>
                    <a:moveTo>
                      <a:pt x="271" y="62"/>
                    </a:moveTo>
                    <a:lnTo>
                      <a:pt x="271" y="60"/>
                    </a:lnTo>
                    <a:lnTo>
                      <a:pt x="272" y="59"/>
                    </a:lnTo>
                    <a:lnTo>
                      <a:pt x="273" y="58"/>
                    </a:lnTo>
                    <a:lnTo>
                      <a:pt x="274" y="56"/>
                    </a:lnTo>
                    <a:lnTo>
                      <a:pt x="277" y="56"/>
                    </a:lnTo>
                    <a:lnTo>
                      <a:pt x="278" y="58"/>
                    </a:lnTo>
                    <a:lnTo>
                      <a:pt x="279" y="59"/>
                    </a:lnTo>
                    <a:lnTo>
                      <a:pt x="280" y="61"/>
                    </a:lnTo>
                    <a:lnTo>
                      <a:pt x="280" y="62"/>
                    </a:lnTo>
                    <a:lnTo>
                      <a:pt x="279" y="63"/>
                    </a:lnTo>
                    <a:lnTo>
                      <a:pt x="278" y="64"/>
                    </a:lnTo>
                    <a:lnTo>
                      <a:pt x="275" y="65"/>
                    </a:lnTo>
                    <a:lnTo>
                      <a:pt x="274" y="65"/>
                    </a:lnTo>
                    <a:lnTo>
                      <a:pt x="273" y="64"/>
                    </a:lnTo>
                    <a:lnTo>
                      <a:pt x="272" y="63"/>
                    </a:lnTo>
                    <a:lnTo>
                      <a:pt x="271" y="62"/>
                    </a:lnTo>
                    <a:close/>
                    <a:moveTo>
                      <a:pt x="360" y="69"/>
                    </a:moveTo>
                    <a:lnTo>
                      <a:pt x="359" y="75"/>
                    </a:lnTo>
                    <a:lnTo>
                      <a:pt x="358" y="81"/>
                    </a:lnTo>
                    <a:lnTo>
                      <a:pt x="354" y="102"/>
                    </a:lnTo>
                    <a:lnTo>
                      <a:pt x="350" y="109"/>
                    </a:lnTo>
                    <a:lnTo>
                      <a:pt x="349" y="109"/>
                    </a:lnTo>
                    <a:lnTo>
                      <a:pt x="347" y="106"/>
                    </a:lnTo>
                    <a:lnTo>
                      <a:pt x="342" y="101"/>
                    </a:lnTo>
                    <a:lnTo>
                      <a:pt x="337" y="93"/>
                    </a:lnTo>
                    <a:lnTo>
                      <a:pt x="326" y="77"/>
                    </a:lnTo>
                    <a:lnTo>
                      <a:pt x="328" y="84"/>
                    </a:lnTo>
                    <a:lnTo>
                      <a:pt x="329" y="90"/>
                    </a:lnTo>
                    <a:lnTo>
                      <a:pt x="330" y="95"/>
                    </a:lnTo>
                    <a:lnTo>
                      <a:pt x="330" y="99"/>
                    </a:lnTo>
                    <a:lnTo>
                      <a:pt x="331" y="103"/>
                    </a:lnTo>
                    <a:lnTo>
                      <a:pt x="332" y="106"/>
                    </a:lnTo>
                    <a:lnTo>
                      <a:pt x="332" y="107"/>
                    </a:lnTo>
                    <a:lnTo>
                      <a:pt x="332" y="107"/>
                    </a:lnTo>
                    <a:lnTo>
                      <a:pt x="333" y="107"/>
                    </a:lnTo>
                    <a:lnTo>
                      <a:pt x="334" y="109"/>
                    </a:lnTo>
                    <a:lnTo>
                      <a:pt x="335" y="109"/>
                    </a:lnTo>
                    <a:lnTo>
                      <a:pt x="337" y="110"/>
                    </a:lnTo>
                    <a:lnTo>
                      <a:pt x="337" y="111"/>
                    </a:lnTo>
                    <a:lnTo>
                      <a:pt x="335" y="112"/>
                    </a:lnTo>
                    <a:lnTo>
                      <a:pt x="333" y="113"/>
                    </a:lnTo>
                    <a:lnTo>
                      <a:pt x="330" y="114"/>
                    </a:lnTo>
                    <a:lnTo>
                      <a:pt x="326" y="114"/>
                    </a:lnTo>
                    <a:lnTo>
                      <a:pt x="324" y="114"/>
                    </a:lnTo>
                    <a:lnTo>
                      <a:pt x="323" y="113"/>
                    </a:lnTo>
                    <a:lnTo>
                      <a:pt x="322" y="112"/>
                    </a:lnTo>
                    <a:lnTo>
                      <a:pt x="322" y="111"/>
                    </a:lnTo>
                    <a:lnTo>
                      <a:pt x="323" y="110"/>
                    </a:lnTo>
                    <a:lnTo>
                      <a:pt x="325" y="109"/>
                    </a:lnTo>
                    <a:lnTo>
                      <a:pt x="325" y="109"/>
                    </a:lnTo>
                    <a:lnTo>
                      <a:pt x="325" y="105"/>
                    </a:lnTo>
                    <a:lnTo>
                      <a:pt x="324" y="97"/>
                    </a:lnTo>
                    <a:lnTo>
                      <a:pt x="323" y="88"/>
                    </a:lnTo>
                    <a:lnTo>
                      <a:pt x="322" y="78"/>
                    </a:lnTo>
                    <a:lnTo>
                      <a:pt x="321" y="77"/>
                    </a:lnTo>
                    <a:lnTo>
                      <a:pt x="321" y="75"/>
                    </a:lnTo>
                    <a:lnTo>
                      <a:pt x="320" y="72"/>
                    </a:lnTo>
                    <a:lnTo>
                      <a:pt x="320" y="71"/>
                    </a:lnTo>
                    <a:lnTo>
                      <a:pt x="318" y="71"/>
                    </a:lnTo>
                    <a:lnTo>
                      <a:pt x="318" y="70"/>
                    </a:lnTo>
                    <a:lnTo>
                      <a:pt x="317" y="70"/>
                    </a:lnTo>
                    <a:lnTo>
                      <a:pt x="315" y="70"/>
                    </a:lnTo>
                    <a:lnTo>
                      <a:pt x="314" y="69"/>
                    </a:lnTo>
                    <a:lnTo>
                      <a:pt x="315" y="68"/>
                    </a:lnTo>
                    <a:lnTo>
                      <a:pt x="316" y="67"/>
                    </a:lnTo>
                    <a:lnTo>
                      <a:pt x="318" y="65"/>
                    </a:lnTo>
                    <a:lnTo>
                      <a:pt x="322" y="64"/>
                    </a:lnTo>
                    <a:lnTo>
                      <a:pt x="325" y="64"/>
                    </a:lnTo>
                    <a:lnTo>
                      <a:pt x="326" y="64"/>
                    </a:lnTo>
                    <a:lnTo>
                      <a:pt x="328" y="64"/>
                    </a:lnTo>
                    <a:lnTo>
                      <a:pt x="329" y="64"/>
                    </a:lnTo>
                    <a:lnTo>
                      <a:pt x="330" y="65"/>
                    </a:lnTo>
                    <a:lnTo>
                      <a:pt x="332" y="70"/>
                    </a:lnTo>
                    <a:lnTo>
                      <a:pt x="334" y="72"/>
                    </a:lnTo>
                    <a:lnTo>
                      <a:pt x="335" y="75"/>
                    </a:lnTo>
                    <a:lnTo>
                      <a:pt x="337" y="77"/>
                    </a:lnTo>
                    <a:lnTo>
                      <a:pt x="346" y="90"/>
                    </a:lnTo>
                    <a:lnTo>
                      <a:pt x="349" y="96"/>
                    </a:lnTo>
                    <a:lnTo>
                      <a:pt x="350" y="94"/>
                    </a:lnTo>
                    <a:lnTo>
                      <a:pt x="351" y="88"/>
                    </a:lnTo>
                    <a:lnTo>
                      <a:pt x="354" y="79"/>
                    </a:lnTo>
                    <a:lnTo>
                      <a:pt x="356" y="67"/>
                    </a:lnTo>
                    <a:lnTo>
                      <a:pt x="356" y="67"/>
                    </a:lnTo>
                    <a:lnTo>
                      <a:pt x="356" y="64"/>
                    </a:lnTo>
                    <a:lnTo>
                      <a:pt x="357" y="62"/>
                    </a:lnTo>
                    <a:lnTo>
                      <a:pt x="357" y="60"/>
                    </a:lnTo>
                    <a:lnTo>
                      <a:pt x="358" y="59"/>
                    </a:lnTo>
                    <a:lnTo>
                      <a:pt x="359" y="59"/>
                    </a:lnTo>
                    <a:lnTo>
                      <a:pt x="360" y="58"/>
                    </a:lnTo>
                    <a:lnTo>
                      <a:pt x="364" y="58"/>
                    </a:lnTo>
                    <a:lnTo>
                      <a:pt x="367" y="56"/>
                    </a:lnTo>
                    <a:lnTo>
                      <a:pt x="369" y="56"/>
                    </a:lnTo>
                    <a:lnTo>
                      <a:pt x="371" y="58"/>
                    </a:lnTo>
                    <a:lnTo>
                      <a:pt x="372" y="59"/>
                    </a:lnTo>
                    <a:lnTo>
                      <a:pt x="372" y="60"/>
                    </a:lnTo>
                    <a:lnTo>
                      <a:pt x="371" y="61"/>
                    </a:lnTo>
                    <a:lnTo>
                      <a:pt x="369" y="61"/>
                    </a:lnTo>
                    <a:lnTo>
                      <a:pt x="369" y="61"/>
                    </a:lnTo>
                    <a:lnTo>
                      <a:pt x="368" y="62"/>
                    </a:lnTo>
                    <a:lnTo>
                      <a:pt x="368" y="63"/>
                    </a:lnTo>
                    <a:lnTo>
                      <a:pt x="368" y="65"/>
                    </a:lnTo>
                    <a:lnTo>
                      <a:pt x="369" y="70"/>
                    </a:lnTo>
                    <a:lnTo>
                      <a:pt x="371" y="80"/>
                    </a:lnTo>
                    <a:lnTo>
                      <a:pt x="373" y="89"/>
                    </a:lnTo>
                    <a:lnTo>
                      <a:pt x="374" y="96"/>
                    </a:lnTo>
                    <a:lnTo>
                      <a:pt x="375" y="99"/>
                    </a:lnTo>
                    <a:lnTo>
                      <a:pt x="376" y="99"/>
                    </a:lnTo>
                    <a:lnTo>
                      <a:pt x="377" y="101"/>
                    </a:lnTo>
                    <a:lnTo>
                      <a:pt x="377" y="101"/>
                    </a:lnTo>
                    <a:lnTo>
                      <a:pt x="377" y="101"/>
                    </a:lnTo>
                    <a:lnTo>
                      <a:pt x="378" y="101"/>
                    </a:lnTo>
                    <a:lnTo>
                      <a:pt x="380" y="101"/>
                    </a:lnTo>
                    <a:lnTo>
                      <a:pt x="380" y="102"/>
                    </a:lnTo>
                    <a:lnTo>
                      <a:pt x="380" y="102"/>
                    </a:lnTo>
                    <a:lnTo>
                      <a:pt x="380" y="104"/>
                    </a:lnTo>
                    <a:lnTo>
                      <a:pt x="378" y="105"/>
                    </a:lnTo>
                    <a:lnTo>
                      <a:pt x="376" y="105"/>
                    </a:lnTo>
                    <a:lnTo>
                      <a:pt x="371" y="106"/>
                    </a:lnTo>
                    <a:lnTo>
                      <a:pt x="367" y="107"/>
                    </a:lnTo>
                    <a:lnTo>
                      <a:pt x="364" y="107"/>
                    </a:lnTo>
                    <a:lnTo>
                      <a:pt x="363" y="106"/>
                    </a:lnTo>
                    <a:lnTo>
                      <a:pt x="361" y="105"/>
                    </a:lnTo>
                    <a:lnTo>
                      <a:pt x="363" y="104"/>
                    </a:lnTo>
                    <a:lnTo>
                      <a:pt x="364" y="103"/>
                    </a:lnTo>
                    <a:lnTo>
                      <a:pt x="365" y="103"/>
                    </a:lnTo>
                    <a:lnTo>
                      <a:pt x="365" y="102"/>
                    </a:lnTo>
                    <a:lnTo>
                      <a:pt x="365" y="101"/>
                    </a:lnTo>
                    <a:lnTo>
                      <a:pt x="365" y="99"/>
                    </a:lnTo>
                    <a:lnTo>
                      <a:pt x="365" y="97"/>
                    </a:lnTo>
                    <a:lnTo>
                      <a:pt x="365" y="94"/>
                    </a:lnTo>
                    <a:lnTo>
                      <a:pt x="364" y="92"/>
                    </a:lnTo>
                    <a:lnTo>
                      <a:pt x="363" y="84"/>
                    </a:lnTo>
                    <a:lnTo>
                      <a:pt x="361" y="78"/>
                    </a:lnTo>
                    <a:lnTo>
                      <a:pt x="360" y="72"/>
                    </a:lnTo>
                    <a:lnTo>
                      <a:pt x="360" y="69"/>
                    </a:lnTo>
                    <a:close/>
                    <a:moveTo>
                      <a:pt x="442" y="68"/>
                    </a:moveTo>
                    <a:lnTo>
                      <a:pt x="441" y="63"/>
                    </a:lnTo>
                    <a:lnTo>
                      <a:pt x="438" y="59"/>
                    </a:lnTo>
                    <a:lnTo>
                      <a:pt x="436" y="55"/>
                    </a:lnTo>
                    <a:lnTo>
                      <a:pt x="433" y="53"/>
                    </a:lnTo>
                    <a:lnTo>
                      <a:pt x="429" y="51"/>
                    </a:lnTo>
                    <a:lnTo>
                      <a:pt x="426" y="48"/>
                    </a:lnTo>
                    <a:lnTo>
                      <a:pt x="423" y="48"/>
                    </a:lnTo>
                    <a:lnTo>
                      <a:pt x="419" y="48"/>
                    </a:lnTo>
                    <a:lnTo>
                      <a:pt x="417" y="50"/>
                    </a:lnTo>
                    <a:lnTo>
                      <a:pt x="415" y="52"/>
                    </a:lnTo>
                    <a:lnTo>
                      <a:pt x="412" y="53"/>
                    </a:lnTo>
                    <a:lnTo>
                      <a:pt x="411" y="56"/>
                    </a:lnTo>
                    <a:lnTo>
                      <a:pt x="410" y="62"/>
                    </a:lnTo>
                    <a:lnTo>
                      <a:pt x="411" y="69"/>
                    </a:lnTo>
                    <a:lnTo>
                      <a:pt x="412" y="75"/>
                    </a:lnTo>
                    <a:lnTo>
                      <a:pt x="415" y="78"/>
                    </a:lnTo>
                    <a:lnTo>
                      <a:pt x="417" y="82"/>
                    </a:lnTo>
                    <a:lnTo>
                      <a:pt x="420" y="85"/>
                    </a:lnTo>
                    <a:lnTo>
                      <a:pt x="423" y="87"/>
                    </a:lnTo>
                    <a:lnTo>
                      <a:pt x="426" y="88"/>
                    </a:lnTo>
                    <a:lnTo>
                      <a:pt x="429" y="89"/>
                    </a:lnTo>
                    <a:lnTo>
                      <a:pt x="433" y="88"/>
                    </a:lnTo>
                    <a:lnTo>
                      <a:pt x="436" y="87"/>
                    </a:lnTo>
                    <a:lnTo>
                      <a:pt x="438" y="86"/>
                    </a:lnTo>
                    <a:lnTo>
                      <a:pt x="440" y="84"/>
                    </a:lnTo>
                    <a:lnTo>
                      <a:pt x="442" y="81"/>
                    </a:lnTo>
                    <a:lnTo>
                      <a:pt x="443" y="78"/>
                    </a:lnTo>
                    <a:lnTo>
                      <a:pt x="443" y="76"/>
                    </a:lnTo>
                    <a:lnTo>
                      <a:pt x="443" y="72"/>
                    </a:lnTo>
                    <a:lnTo>
                      <a:pt x="442" y="68"/>
                    </a:lnTo>
                    <a:close/>
                    <a:moveTo>
                      <a:pt x="434" y="94"/>
                    </a:moveTo>
                    <a:lnTo>
                      <a:pt x="429" y="94"/>
                    </a:lnTo>
                    <a:lnTo>
                      <a:pt x="425" y="95"/>
                    </a:lnTo>
                    <a:lnTo>
                      <a:pt x="421" y="94"/>
                    </a:lnTo>
                    <a:lnTo>
                      <a:pt x="418" y="93"/>
                    </a:lnTo>
                    <a:lnTo>
                      <a:pt x="412" y="90"/>
                    </a:lnTo>
                    <a:lnTo>
                      <a:pt x="408" y="86"/>
                    </a:lnTo>
                    <a:lnTo>
                      <a:pt x="405" y="80"/>
                    </a:lnTo>
                    <a:lnTo>
                      <a:pt x="402" y="75"/>
                    </a:lnTo>
                    <a:lnTo>
                      <a:pt x="401" y="69"/>
                    </a:lnTo>
                    <a:lnTo>
                      <a:pt x="401" y="64"/>
                    </a:lnTo>
                    <a:lnTo>
                      <a:pt x="402" y="60"/>
                    </a:lnTo>
                    <a:lnTo>
                      <a:pt x="405" y="55"/>
                    </a:lnTo>
                    <a:lnTo>
                      <a:pt x="407" y="52"/>
                    </a:lnTo>
                    <a:lnTo>
                      <a:pt x="410" y="48"/>
                    </a:lnTo>
                    <a:lnTo>
                      <a:pt x="415" y="46"/>
                    </a:lnTo>
                    <a:lnTo>
                      <a:pt x="419" y="44"/>
                    </a:lnTo>
                    <a:lnTo>
                      <a:pt x="424" y="43"/>
                    </a:lnTo>
                    <a:lnTo>
                      <a:pt x="428" y="43"/>
                    </a:lnTo>
                    <a:lnTo>
                      <a:pt x="432" y="44"/>
                    </a:lnTo>
                    <a:lnTo>
                      <a:pt x="436" y="45"/>
                    </a:lnTo>
                    <a:lnTo>
                      <a:pt x="441" y="47"/>
                    </a:lnTo>
                    <a:lnTo>
                      <a:pt x="445" y="52"/>
                    </a:lnTo>
                    <a:lnTo>
                      <a:pt x="449" y="58"/>
                    </a:lnTo>
                    <a:lnTo>
                      <a:pt x="451" y="63"/>
                    </a:lnTo>
                    <a:lnTo>
                      <a:pt x="452" y="68"/>
                    </a:lnTo>
                    <a:lnTo>
                      <a:pt x="452" y="71"/>
                    </a:lnTo>
                    <a:lnTo>
                      <a:pt x="451" y="76"/>
                    </a:lnTo>
                    <a:lnTo>
                      <a:pt x="450" y="79"/>
                    </a:lnTo>
                    <a:lnTo>
                      <a:pt x="448" y="84"/>
                    </a:lnTo>
                    <a:lnTo>
                      <a:pt x="444" y="88"/>
                    </a:lnTo>
                    <a:lnTo>
                      <a:pt x="438" y="92"/>
                    </a:lnTo>
                    <a:lnTo>
                      <a:pt x="434" y="94"/>
                    </a:lnTo>
                    <a:close/>
                    <a:moveTo>
                      <a:pt x="479" y="51"/>
                    </a:moveTo>
                    <a:lnTo>
                      <a:pt x="479" y="51"/>
                    </a:lnTo>
                    <a:lnTo>
                      <a:pt x="479" y="52"/>
                    </a:lnTo>
                    <a:lnTo>
                      <a:pt x="479" y="52"/>
                    </a:lnTo>
                    <a:lnTo>
                      <a:pt x="479" y="52"/>
                    </a:lnTo>
                    <a:lnTo>
                      <a:pt x="479" y="52"/>
                    </a:lnTo>
                    <a:lnTo>
                      <a:pt x="479" y="52"/>
                    </a:lnTo>
                    <a:lnTo>
                      <a:pt x="479" y="53"/>
                    </a:lnTo>
                    <a:lnTo>
                      <a:pt x="479" y="53"/>
                    </a:lnTo>
                    <a:lnTo>
                      <a:pt x="489" y="60"/>
                    </a:lnTo>
                    <a:lnTo>
                      <a:pt x="496" y="63"/>
                    </a:lnTo>
                    <a:lnTo>
                      <a:pt x="502" y="67"/>
                    </a:lnTo>
                    <a:lnTo>
                      <a:pt x="504" y="68"/>
                    </a:lnTo>
                    <a:lnTo>
                      <a:pt x="505" y="68"/>
                    </a:lnTo>
                    <a:lnTo>
                      <a:pt x="506" y="68"/>
                    </a:lnTo>
                    <a:lnTo>
                      <a:pt x="509" y="68"/>
                    </a:lnTo>
                    <a:lnTo>
                      <a:pt x="510" y="69"/>
                    </a:lnTo>
                    <a:lnTo>
                      <a:pt x="510" y="70"/>
                    </a:lnTo>
                    <a:lnTo>
                      <a:pt x="509" y="71"/>
                    </a:lnTo>
                    <a:lnTo>
                      <a:pt x="506" y="72"/>
                    </a:lnTo>
                    <a:lnTo>
                      <a:pt x="503" y="73"/>
                    </a:lnTo>
                    <a:lnTo>
                      <a:pt x="502" y="75"/>
                    </a:lnTo>
                    <a:lnTo>
                      <a:pt x="501" y="75"/>
                    </a:lnTo>
                    <a:lnTo>
                      <a:pt x="500" y="75"/>
                    </a:lnTo>
                    <a:lnTo>
                      <a:pt x="498" y="75"/>
                    </a:lnTo>
                    <a:lnTo>
                      <a:pt x="496" y="72"/>
                    </a:lnTo>
                    <a:lnTo>
                      <a:pt x="492" y="70"/>
                    </a:lnTo>
                    <a:lnTo>
                      <a:pt x="486" y="67"/>
                    </a:lnTo>
                    <a:lnTo>
                      <a:pt x="480" y="63"/>
                    </a:lnTo>
                    <a:lnTo>
                      <a:pt x="475" y="60"/>
                    </a:lnTo>
                    <a:lnTo>
                      <a:pt x="475" y="60"/>
                    </a:lnTo>
                    <a:lnTo>
                      <a:pt x="475" y="59"/>
                    </a:lnTo>
                    <a:lnTo>
                      <a:pt x="475" y="59"/>
                    </a:lnTo>
                    <a:lnTo>
                      <a:pt x="474" y="59"/>
                    </a:lnTo>
                    <a:lnTo>
                      <a:pt x="474" y="60"/>
                    </a:lnTo>
                    <a:lnTo>
                      <a:pt x="474" y="60"/>
                    </a:lnTo>
                    <a:lnTo>
                      <a:pt x="474" y="60"/>
                    </a:lnTo>
                    <a:lnTo>
                      <a:pt x="474" y="60"/>
                    </a:lnTo>
                    <a:lnTo>
                      <a:pt x="474" y="60"/>
                    </a:lnTo>
                    <a:lnTo>
                      <a:pt x="475" y="62"/>
                    </a:lnTo>
                    <a:lnTo>
                      <a:pt x="476" y="65"/>
                    </a:lnTo>
                    <a:lnTo>
                      <a:pt x="478" y="72"/>
                    </a:lnTo>
                    <a:lnTo>
                      <a:pt x="479" y="75"/>
                    </a:lnTo>
                    <a:lnTo>
                      <a:pt x="480" y="75"/>
                    </a:lnTo>
                    <a:lnTo>
                      <a:pt x="481" y="75"/>
                    </a:lnTo>
                    <a:lnTo>
                      <a:pt x="483" y="76"/>
                    </a:lnTo>
                    <a:lnTo>
                      <a:pt x="484" y="77"/>
                    </a:lnTo>
                    <a:lnTo>
                      <a:pt x="484" y="78"/>
                    </a:lnTo>
                    <a:lnTo>
                      <a:pt x="483" y="79"/>
                    </a:lnTo>
                    <a:lnTo>
                      <a:pt x="480" y="80"/>
                    </a:lnTo>
                    <a:lnTo>
                      <a:pt x="476" y="81"/>
                    </a:lnTo>
                    <a:lnTo>
                      <a:pt x="471" y="82"/>
                    </a:lnTo>
                    <a:lnTo>
                      <a:pt x="468" y="84"/>
                    </a:lnTo>
                    <a:lnTo>
                      <a:pt x="467" y="82"/>
                    </a:lnTo>
                    <a:lnTo>
                      <a:pt x="466" y="81"/>
                    </a:lnTo>
                    <a:lnTo>
                      <a:pt x="466" y="80"/>
                    </a:lnTo>
                    <a:lnTo>
                      <a:pt x="468" y="79"/>
                    </a:lnTo>
                    <a:lnTo>
                      <a:pt x="468" y="78"/>
                    </a:lnTo>
                    <a:lnTo>
                      <a:pt x="469" y="78"/>
                    </a:lnTo>
                    <a:lnTo>
                      <a:pt x="469" y="77"/>
                    </a:lnTo>
                    <a:lnTo>
                      <a:pt x="468" y="73"/>
                    </a:lnTo>
                    <a:lnTo>
                      <a:pt x="467" y="68"/>
                    </a:lnTo>
                    <a:lnTo>
                      <a:pt x="465" y="59"/>
                    </a:lnTo>
                    <a:lnTo>
                      <a:pt x="462" y="52"/>
                    </a:lnTo>
                    <a:lnTo>
                      <a:pt x="461" y="46"/>
                    </a:lnTo>
                    <a:lnTo>
                      <a:pt x="459" y="43"/>
                    </a:lnTo>
                    <a:lnTo>
                      <a:pt x="459" y="41"/>
                    </a:lnTo>
                    <a:lnTo>
                      <a:pt x="458" y="41"/>
                    </a:lnTo>
                    <a:lnTo>
                      <a:pt x="457" y="41"/>
                    </a:lnTo>
                    <a:lnTo>
                      <a:pt x="454" y="39"/>
                    </a:lnTo>
                    <a:lnTo>
                      <a:pt x="453" y="38"/>
                    </a:lnTo>
                    <a:lnTo>
                      <a:pt x="453" y="37"/>
                    </a:lnTo>
                    <a:lnTo>
                      <a:pt x="454" y="37"/>
                    </a:lnTo>
                    <a:lnTo>
                      <a:pt x="457" y="36"/>
                    </a:lnTo>
                    <a:lnTo>
                      <a:pt x="462" y="34"/>
                    </a:lnTo>
                    <a:lnTo>
                      <a:pt x="467" y="33"/>
                    </a:lnTo>
                    <a:lnTo>
                      <a:pt x="469" y="33"/>
                    </a:lnTo>
                    <a:lnTo>
                      <a:pt x="471" y="33"/>
                    </a:lnTo>
                    <a:lnTo>
                      <a:pt x="471" y="34"/>
                    </a:lnTo>
                    <a:lnTo>
                      <a:pt x="471" y="35"/>
                    </a:lnTo>
                    <a:lnTo>
                      <a:pt x="470" y="36"/>
                    </a:lnTo>
                    <a:lnTo>
                      <a:pt x="469" y="37"/>
                    </a:lnTo>
                    <a:lnTo>
                      <a:pt x="469" y="37"/>
                    </a:lnTo>
                    <a:lnTo>
                      <a:pt x="469" y="39"/>
                    </a:lnTo>
                    <a:lnTo>
                      <a:pt x="469" y="42"/>
                    </a:lnTo>
                    <a:lnTo>
                      <a:pt x="470" y="46"/>
                    </a:lnTo>
                    <a:lnTo>
                      <a:pt x="471" y="52"/>
                    </a:lnTo>
                    <a:lnTo>
                      <a:pt x="471" y="52"/>
                    </a:lnTo>
                    <a:lnTo>
                      <a:pt x="471" y="52"/>
                    </a:lnTo>
                    <a:lnTo>
                      <a:pt x="472" y="53"/>
                    </a:lnTo>
                    <a:lnTo>
                      <a:pt x="472" y="53"/>
                    </a:lnTo>
                    <a:lnTo>
                      <a:pt x="474" y="52"/>
                    </a:lnTo>
                    <a:lnTo>
                      <a:pt x="475" y="48"/>
                    </a:lnTo>
                    <a:lnTo>
                      <a:pt x="476" y="45"/>
                    </a:lnTo>
                    <a:lnTo>
                      <a:pt x="477" y="43"/>
                    </a:lnTo>
                    <a:lnTo>
                      <a:pt x="479" y="38"/>
                    </a:lnTo>
                    <a:lnTo>
                      <a:pt x="480" y="37"/>
                    </a:lnTo>
                    <a:lnTo>
                      <a:pt x="480" y="36"/>
                    </a:lnTo>
                    <a:lnTo>
                      <a:pt x="481" y="35"/>
                    </a:lnTo>
                    <a:lnTo>
                      <a:pt x="481" y="34"/>
                    </a:lnTo>
                    <a:lnTo>
                      <a:pt x="480" y="34"/>
                    </a:lnTo>
                    <a:lnTo>
                      <a:pt x="479" y="33"/>
                    </a:lnTo>
                    <a:lnTo>
                      <a:pt x="478" y="33"/>
                    </a:lnTo>
                    <a:lnTo>
                      <a:pt x="477" y="31"/>
                    </a:lnTo>
                    <a:lnTo>
                      <a:pt x="477" y="30"/>
                    </a:lnTo>
                    <a:lnTo>
                      <a:pt x="478" y="30"/>
                    </a:lnTo>
                    <a:lnTo>
                      <a:pt x="480" y="29"/>
                    </a:lnTo>
                    <a:lnTo>
                      <a:pt x="485" y="27"/>
                    </a:lnTo>
                    <a:lnTo>
                      <a:pt x="489" y="26"/>
                    </a:lnTo>
                    <a:lnTo>
                      <a:pt x="492" y="26"/>
                    </a:lnTo>
                    <a:lnTo>
                      <a:pt x="493" y="27"/>
                    </a:lnTo>
                    <a:lnTo>
                      <a:pt x="493" y="27"/>
                    </a:lnTo>
                    <a:lnTo>
                      <a:pt x="493" y="28"/>
                    </a:lnTo>
                    <a:lnTo>
                      <a:pt x="492" y="29"/>
                    </a:lnTo>
                    <a:lnTo>
                      <a:pt x="491" y="30"/>
                    </a:lnTo>
                    <a:lnTo>
                      <a:pt x="489" y="30"/>
                    </a:lnTo>
                    <a:lnTo>
                      <a:pt x="488" y="33"/>
                    </a:lnTo>
                    <a:lnTo>
                      <a:pt x="486" y="35"/>
                    </a:lnTo>
                    <a:lnTo>
                      <a:pt x="484" y="39"/>
                    </a:lnTo>
                    <a:lnTo>
                      <a:pt x="481" y="46"/>
                    </a:lnTo>
                    <a:lnTo>
                      <a:pt x="479" y="51"/>
                    </a:lnTo>
                    <a:close/>
                    <a:moveTo>
                      <a:pt x="511" y="47"/>
                    </a:moveTo>
                    <a:lnTo>
                      <a:pt x="509" y="39"/>
                    </a:lnTo>
                    <a:lnTo>
                      <a:pt x="506" y="34"/>
                    </a:lnTo>
                    <a:lnTo>
                      <a:pt x="504" y="30"/>
                    </a:lnTo>
                    <a:lnTo>
                      <a:pt x="503" y="29"/>
                    </a:lnTo>
                    <a:lnTo>
                      <a:pt x="502" y="28"/>
                    </a:lnTo>
                    <a:lnTo>
                      <a:pt x="501" y="28"/>
                    </a:lnTo>
                    <a:lnTo>
                      <a:pt x="500" y="28"/>
                    </a:lnTo>
                    <a:lnTo>
                      <a:pt x="498" y="27"/>
                    </a:lnTo>
                    <a:lnTo>
                      <a:pt x="498" y="26"/>
                    </a:lnTo>
                    <a:lnTo>
                      <a:pt x="498" y="25"/>
                    </a:lnTo>
                    <a:lnTo>
                      <a:pt x="502" y="24"/>
                    </a:lnTo>
                    <a:lnTo>
                      <a:pt x="506" y="21"/>
                    </a:lnTo>
                    <a:lnTo>
                      <a:pt x="511" y="20"/>
                    </a:lnTo>
                    <a:lnTo>
                      <a:pt x="513" y="19"/>
                    </a:lnTo>
                    <a:lnTo>
                      <a:pt x="515" y="20"/>
                    </a:lnTo>
                    <a:lnTo>
                      <a:pt x="515" y="20"/>
                    </a:lnTo>
                    <a:lnTo>
                      <a:pt x="515" y="22"/>
                    </a:lnTo>
                    <a:lnTo>
                      <a:pt x="514" y="24"/>
                    </a:lnTo>
                    <a:lnTo>
                      <a:pt x="513" y="24"/>
                    </a:lnTo>
                    <a:lnTo>
                      <a:pt x="513" y="25"/>
                    </a:lnTo>
                    <a:lnTo>
                      <a:pt x="513" y="26"/>
                    </a:lnTo>
                    <a:lnTo>
                      <a:pt x="514" y="29"/>
                    </a:lnTo>
                    <a:lnTo>
                      <a:pt x="515" y="34"/>
                    </a:lnTo>
                    <a:lnTo>
                      <a:pt x="518" y="41"/>
                    </a:lnTo>
                    <a:lnTo>
                      <a:pt x="520" y="47"/>
                    </a:lnTo>
                    <a:lnTo>
                      <a:pt x="521" y="51"/>
                    </a:lnTo>
                    <a:lnTo>
                      <a:pt x="522" y="53"/>
                    </a:lnTo>
                    <a:lnTo>
                      <a:pt x="523" y="55"/>
                    </a:lnTo>
                    <a:lnTo>
                      <a:pt x="526" y="58"/>
                    </a:lnTo>
                    <a:lnTo>
                      <a:pt x="529" y="60"/>
                    </a:lnTo>
                    <a:lnTo>
                      <a:pt x="534" y="60"/>
                    </a:lnTo>
                    <a:lnTo>
                      <a:pt x="538" y="59"/>
                    </a:lnTo>
                    <a:lnTo>
                      <a:pt x="540" y="58"/>
                    </a:lnTo>
                    <a:lnTo>
                      <a:pt x="543" y="56"/>
                    </a:lnTo>
                    <a:lnTo>
                      <a:pt x="544" y="54"/>
                    </a:lnTo>
                    <a:lnTo>
                      <a:pt x="545" y="52"/>
                    </a:lnTo>
                    <a:lnTo>
                      <a:pt x="546" y="47"/>
                    </a:lnTo>
                    <a:lnTo>
                      <a:pt x="544" y="41"/>
                    </a:lnTo>
                    <a:lnTo>
                      <a:pt x="540" y="31"/>
                    </a:lnTo>
                    <a:lnTo>
                      <a:pt x="538" y="24"/>
                    </a:lnTo>
                    <a:lnTo>
                      <a:pt x="536" y="19"/>
                    </a:lnTo>
                    <a:lnTo>
                      <a:pt x="535" y="17"/>
                    </a:lnTo>
                    <a:lnTo>
                      <a:pt x="534" y="17"/>
                    </a:lnTo>
                    <a:lnTo>
                      <a:pt x="532" y="17"/>
                    </a:lnTo>
                    <a:lnTo>
                      <a:pt x="530" y="17"/>
                    </a:lnTo>
                    <a:lnTo>
                      <a:pt x="530" y="16"/>
                    </a:lnTo>
                    <a:lnTo>
                      <a:pt x="530" y="14"/>
                    </a:lnTo>
                    <a:lnTo>
                      <a:pt x="530" y="13"/>
                    </a:lnTo>
                    <a:lnTo>
                      <a:pt x="532" y="12"/>
                    </a:lnTo>
                    <a:lnTo>
                      <a:pt x="536" y="11"/>
                    </a:lnTo>
                    <a:lnTo>
                      <a:pt x="539" y="10"/>
                    </a:lnTo>
                    <a:lnTo>
                      <a:pt x="541" y="9"/>
                    </a:lnTo>
                    <a:lnTo>
                      <a:pt x="543" y="10"/>
                    </a:lnTo>
                    <a:lnTo>
                      <a:pt x="544" y="10"/>
                    </a:lnTo>
                    <a:lnTo>
                      <a:pt x="544" y="12"/>
                    </a:lnTo>
                    <a:lnTo>
                      <a:pt x="543" y="13"/>
                    </a:lnTo>
                    <a:lnTo>
                      <a:pt x="541" y="13"/>
                    </a:lnTo>
                    <a:lnTo>
                      <a:pt x="541" y="14"/>
                    </a:lnTo>
                    <a:lnTo>
                      <a:pt x="541" y="16"/>
                    </a:lnTo>
                    <a:lnTo>
                      <a:pt x="541" y="18"/>
                    </a:lnTo>
                    <a:lnTo>
                      <a:pt x="543" y="22"/>
                    </a:lnTo>
                    <a:lnTo>
                      <a:pt x="546" y="29"/>
                    </a:lnTo>
                    <a:lnTo>
                      <a:pt x="546" y="31"/>
                    </a:lnTo>
                    <a:lnTo>
                      <a:pt x="547" y="34"/>
                    </a:lnTo>
                    <a:lnTo>
                      <a:pt x="548" y="36"/>
                    </a:lnTo>
                    <a:lnTo>
                      <a:pt x="548" y="38"/>
                    </a:lnTo>
                    <a:lnTo>
                      <a:pt x="551" y="43"/>
                    </a:lnTo>
                    <a:lnTo>
                      <a:pt x="551" y="47"/>
                    </a:lnTo>
                    <a:lnTo>
                      <a:pt x="552" y="50"/>
                    </a:lnTo>
                    <a:lnTo>
                      <a:pt x="551" y="53"/>
                    </a:lnTo>
                    <a:lnTo>
                      <a:pt x="549" y="56"/>
                    </a:lnTo>
                    <a:lnTo>
                      <a:pt x="546" y="60"/>
                    </a:lnTo>
                    <a:lnTo>
                      <a:pt x="543" y="62"/>
                    </a:lnTo>
                    <a:lnTo>
                      <a:pt x="538" y="64"/>
                    </a:lnTo>
                    <a:lnTo>
                      <a:pt x="534" y="65"/>
                    </a:lnTo>
                    <a:lnTo>
                      <a:pt x="530" y="65"/>
                    </a:lnTo>
                    <a:lnTo>
                      <a:pt x="526" y="65"/>
                    </a:lnTo>
                    <a:lnTo>
                      <a:pt x="522" y="64"/>
                    </a:lnTo>
                    <a:lnTo>
                      <a:pt x="520" y="63"/>
                    </a:lnTo>
                    <a:lnTo>
                      <a:pt x="518" y="61"/>
                    </a:lnTo>
                    <a:lnTo>
                      <a:pt x="515" y="58"/>
                    </a:lnTo>
                    <a:lnTo>
                      <a:pt x="513" y="54"/>
                    </a:lnTo>
                    <a:lnTo>
                      <a:pt x="513" y="53"/>
                    </a:lnTo>
                    <a:lnTo>
                      <a:pt x="512" y="51"/>
                    </a:lnTo>
                    <a:lnTo>
                      <a:pt x="511" y="48"/>
                    </a:lnTo>
                    <a:lnTo>
                      <a:pt x="511" y="47"/>
                    </a:lnTo>
                    <a:close/>
                    <a:moveTo>
                      <a:pt x="589" y="38"/>
                    </a:moveTo>
                    <a:lnTo>
                      <a:pt x="591" y="37"/>
                    </a:lnTo>
                    <a:lnTo>
                      <a:pt x="594" y="36"/>
                    </a:lnTo>
                    <a:lnTo>
                      <a:pt x="595" y="34"/>
                    </a:lnTo>
                    <a:lnTo>
                      <a:pt x="595" y="31"/>
                    </a:lnTo>
                    <a:lnTo>
                      <a:pt x="595" y="30"/>
                    </a:lnTo>
                    <a:lnTo>
                      <a:pt x="595" y="29"/>
                    </a:lnTo>
                    <a:lnTo>
                      <a:pt x="596" y="27"/>
                    </a:lnTo>
                    <a:lnTo>
                      <a:pt x="597" y="26"/>
                    </a:lnTo>
                    <a:lnTo>
                      <a:pt x="598" y="26"/>
                    </a:lnTo>
                    <a:lnTo>
                      <a:pt x="598" y="26"/>
                    </a:lnTo>
                    <a:lnTo>
                      <a:pt x="599" y="27"/>
                    </a:lnTo>
                    <a:lnTo>
                      <a:pt x="599" y="28"/>
                    </a:lnTo>
                    <a:lnTo>
                      <a:pt x="600" y="30"/>
                    </a:lnTo>
                    <a:lnTo>
                      <a:pt x="600" y="33"/>
                    </a:lnTo>
                    <a:lnTo>
                      <a:pt x="601" y="35"/>
                    </a:lnTo>
                    <a:lnTo>
                      <a:pt x="601" y="37"/>
                    </a:lnTo>
                    <a:lnTo>
                      <a:pt x="601" y="38"/>
                    </a:lnTo>
                    <a:lnTo>
                      <a:pt x="601" y="39"/>
                    </a:lnTo>
                    <a:lnTo>
                      <a:pt x="600" y="41"/>
                    </a:lnTo>
                    <a:lnTo>
                      <a:pt x="599" y="41"/>
                    </a:lnTo>
                    <a:lnTo>
                      <a:pt x="597" y="42"/>
                    </a:lnTo>
                    <a:lnTo>
                      <a:pt x="595" y="42"/>
                    </a:lnTo>
                    <a:lnTo>
                      <a:pt x="575" y="50"/>
                    </a:lnTo>
                    <a:lnTo>
                      <a:pt x="572" y="51"/>
                    </a:lnTo>
                    <a:lnTo>
                      <a:pt x="570" y="51"/>
                    </a:lnTo>
                    <a:lnTo>
                      <a:pt x="569" y="51"/>
                    </a:lnTo>
                    <a:lnTo>
                      <a:pt x="568" y="50"/>
                    </a:lnTo>
                    <a:lnTo>
                      <a:pt x="568" y="48"/>
                    </a:lnTo>
                    <a:lnTo>
                      <a:pt x="569" y="47"/>
                    </a:lnTo>
                    <a:lnTo>
                      <a:pt x="570" y="46"/>
                    </a:lnTo>
                    <a:lnTo>
                      <a:pt x="570" y="46"/>
                    </a:lnTo>
                    <a:lnTo>
                      <a:pt x="570" y="44"/>
                    </a:lnTo>
                    <a:lnTo>
                      <a:pt x="570" y="42"/>
                    </a:lnTo>
                    <a:lnTo>
                      <a:pt x="568" y="36"/>
                    </a:lnTo>
                    <a:lnTo>
                      <a:pt x="564" y="27"/>
                    </a:lnTo>
                    <a:lnTo>
                      <a:pt x="562" y="20"/>
                    </a:lnTo>
                    <a:lnTo>
                      <a:pt x="560" y="14"/>
                    </a:lnTo>
                    <a:lnTo>
                      <a:pt x="557" y="11"/>
                    </a:lnTo>
                    <a:lnTo>
                      <a:pt x="556" y="10"/>
                    </a:lnTo>
                    <a:lnTo>
                      <a:pt x="556" y="10"/>
                    </a:lnTo>
                    <a:lnTo>
                      <a:pt x="554" y="10"/>
                    </a:lnTo>
                    <a:lnTo>
                      <a:pt x="553" y="9"/>
                    </a:lnTo>
                    <a:lnTo>
                      <a:pt x="552" y="8"/>
                    </a:lnTo>
                    <a:lnTo>
                      <a:pt x="552" y="7"/>
                    </a:lnTo>
                    <a:lnTo>
                      <a:pt x="553" y="5"/>
                    </a:lnTo>
                    <a:lnTo>
                      <a:pt x="555" y="4"/>
                    </a:lnTo>
                    <a:lnTo>
                      <a:pt x="560" y="2"/>
                    </a:lnTo>
                    <a:lnTo>
                      <a:pt x="564" y="1"/>
                    </a:lnTo>
                    <a:lnTo>
                      <a:pt x="566" y="0"/>
                    </a:lnTo>
                    <a:lnTo>
                      <a:pt x="569" y="1"/>
                    </a:lnTo>
                    <a:lnTo>
                      <a:pt x="569" y="2"/>
                    </a:lnTo>
                    <a:lnTo>
                      <a:pt x="569" y="3"/>
                    </a:lnTo>
                    <a:lnTo>
                      <a:pt x="568" y="4"/>
                    </a:lnTo>
                    <a:lnTo>
                      <a:pt x="568" y="5"/>
                    </a:lnTo>
                    <a:lnTo>
                      <a:pt x="566" y="5"/>
                    </a:lnTo>
                    <a:lnTo>
                      <a:pt x="566" y="7"/>
                    </a:lnTo>
                    <a:lnTo>
                      <a:pt x="568" y="10"/>
                    </a:lnTo>
                    <a:lnTo>
                      <a:pt x="569" y="13"/>
                    </a:lnTo>
                    <a:lnTo>
                      <a:pt x="571" y="20"/>
                    </a:lnTo>
                    <a:lnTo>
                      <a:pt x="573" y="27"/>
                    </a:lnTo>
                    <a:lnTo>
                      <a:pt x="577" y="33"/>
                    </a:lnTo>
                    <a:lnTo>
                      <a:pt x="578" y="37"/>
                    </a:lnTo>
                    <a:lnTo>
                      <a:pt x="579" y="39"/>
                    </a:lnTo>
                    <a:lnTo>
                      <a:pt x="580" y="41"/>
                    </a:lnTo>
                    <a:lnTo>
                      <a:pt x="581" y="41"/>
                    </a:lnTo>
                    <a:lnTo>
                      <a:pt x="585" y="41"/>
                    </a:lnTo>
                    <a:lnTo>
                      <a:pt x="588" y="39"/>
                    </a:lnTo>
                    <a:lnTo>
                      <a:pt x="589" y="38"/>
                    </a:lnTo>
                    <a:close/>
                  </a:path>
                </a:pathLst>
              </a:custGeom>
              <a:solidFill>
                <a:srgbClr val="29166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815" name=""/>
              <p:cNvSpPr/>
              <p:nvPr/>
            </p:nvSpPr>
            <p:spPr>
              <a:xfrm>
                <a:off x="1266840" y="731520"/>
                <a:ext cx="34920" cy="36000"/>
              </a:xfrm>
              <a:custGeom>
                <a:avLst/>
                <a:gdLst/>
                <a:ahLst/>
                <a:rect l="l" t="t" r="r" b="b"/>
                <a:pathLst>
                  <a:path w="55" h="57">
                    <a:moveTo>
                      <a:pt x="15" y="39"/>
                    </a:moveTo>
                    <a:lnTo>
                      <a:pt x="12" y="32"/>
                    </a:lnTo>
                    <a:lnTo>
                      <a:pt x="8" y="27"/>
                    </a:lnTo>
                    <a:lnTo>
                      <a:pt x="6" y="23"/>
                    </a:lnTo>
                    <a:lnTo>
                      <a:pt x="5" y="22"/>
                    </a:lnTo>
                    <a:lnTo>
                      <a:pt x="5" y="22"/>
                    </a:lnTo>
                    <a:lnTo>
                      <a:pt x="3" y="22"/>
                    </a:lnTo>
                    <a:lnTo>
                      <a:pt x="1" y="21"/>
                    </a:lnTo>
                    <a:lnTo>
                      <a:pt x="0" y="21"/>
                    </a:lnTo>
                    <a:lnTo>
                      <a:pt x="0" y="20"/>
                    </a:lnTo>
                    <a:lnTo>
                      <a:pt x="0" y="19"/>
                    </a:lnTo>
                    <a:lnTo>
                      <a:pt x="3" y="17"/>
                    </a:lnTo>
                    <a:lnTo>
                      <a:pt x="8" y="14"/>
                    </a:lnTo>
                    <a:lnTo>
                      <a:pt x="13" y="12"/>
                    </a:lnTo>
                    <a:lnTo>
                      <a:pt x="15" y="12"/>
                    </a:lnTo>
                    <a:lnTo>
                      <a:pt x="16" y="12"/>
                    </a:lnTo>
                    <a:lnTo>
                      <a:pt x="17" y="13"/>
                    </a:lnTo>
                    <a:lnTo>
                      <a:pt x="17" y="14"/>
                    </a:lnTo>
                    <a:lnTo>
                      <a:pt x="16" y="15"/>
                    </a:lnTo>
                    <a:lnTo>
                      <a:pt x="15" y="17"/>
                    </a:lnTo>
                    <a:lnTo>
                      <a:pt x="15" y="17"/>
                    </a:lnTo>
                    <a:lnTo>
                      <a:pt x="15" y="19"/>
                    </a:lnTo>
                    <a:lnTo>
                      <a:pt x="16" y="21"/>
                    </a:lnTo>
                    <a:lnTo>
                      <a:pt x="18" y="27"/>
                    </a:lnTo>
                    <a:lnTo>
                      <a:pt x="21" y="34"/>
                    </a:lnTo>
                    <a:lnTo>
                      <a:pt x="24" y="39"/>
                    </a:lnTo>
                    <a:lnTo>
                      <a:pt x="25" y="43"/>
                    </a:lnTo>
                    <a:lnTo>
                      <a:pt x="26" y="45"/>
                    </a:lnTo>
                    <a:lnTo>
                      <a:pt x="27" y="46"/>
                    </a:lnTo>
                    <a:lnTo>
                      <a:pt x="31" y="49"/>
                    </a:lnTo>
                    <a:lnTo>
                      <a:pt x="34" y="51"/>
                    </a:lnTo>
                    <a:lnTo>
                      <a:pt x="38" y="51"/>
                    </a:lnTo>
                    <a:lnTo>
                      <a:pt x="42" y="49"/>
                    </a:lnTo>
                    <a:lnTo>
                      <a:pt x="44" y="47"/>
                    </a:lnTo>
                    <a:lnTo>
                      <a:pt x="47" y="46"/>
                    </a:lnTo>
                    <a:lnTo>
                      <a:pt x="49" y="44"/>
                    </a:lnTo>
                    <a:lnTo>
                      <a:pt x="49" y="42"/>
                    </a:lnTo>
                    <a:lnTo>
                      <a:pt x="49" y="37"/>
                    </a:lnTo>
                    <a:lnTo>
                      <a:pt x="47" y="30"/>
                    </a:lnTo>
                    <a:lnTo>
                      <a:pt x="42" y="21"/>
                    </a:lnTo>
                    <a:lnTo>
                      <a:pt x="39" y="14"/>
                    </a:lnTo>
                    <a:lnTo>
                      <a:pt x="37" y="10"/>
                    </a:lnTo>
                    <a:lnTo>
                      <a:pt x="35" y="7"/>
                    </a:lnTo>
                    <a:lnTo>
                      <a:pt x="34" y="7"/>
                    </a:lnTo>
                    <a:lnTo>
                      <a:pt x="33" y="7"/>
                    </a:lnTo>
                    <a:lnTo>
                      <a:pt x="32" y="7"/>
                    </a:lnTo>
                    <a:lnTo>
                      <a:pt x="31" y="6"/>
                    </a:lnTo>
                    <a:lnTo>
                      <a:pt x="31" y="5"/>
                    </a:lnTo>
                    <a:lnTo>
                      <a:pt x="31" y="4"/>
                    </a:lnTo>
                    <a:lnTo>
                      <a:pt x="33" y="3"/>
                    </a:lnTo>
                    <a:lnTo>
                      <a:pt x="37" y="2"/>
                    </a:lnTo>
                    <a:lnTo>
                      <a:pt x="40" y="0"/>
                    </a:lnTo>
                    <a:lnTo>
                      <a:pt x="42" y="0"/>
                    </a:lnTo>
                    <a:lnTo>
                      <a:pt x="43" y="0"/>
                    </a:lnTo>
                    <a:lnTo>
                      <a:pt x="44" y="1"/>
                    </a:lnTo>
                    <a:lnTo>
                      <a:pt x="44" y="2"/>
                    </a:lnTo>
                    <a:lnTo>
                      <a:pt x="43" y="3"/>
                    </a:lnTo>
                    <a:lnTo>
                      <a:pt x="42" y="4"/>
                    </a:lnTo>
                    <a:lnTo>
                      <a:pt x="42" y="4"/>
                    </a:lnTo>
                    <a:lnTo>
                      <a:pt x="42" y="5"/>
                    </a:lnTo>
                    <a:lnTo>
                      <a:pt x="43" y="9"/>
                    </a:lnTo>
                    <a:lnTo>
                      <a:pt x="44" y="13"/>
                    </a:lnTo>
                    <a:lnTo>
                      <a:pt x="48" y="19"/>
                    </a:lnTo>
                    <a:lnTo>
                      <a:pt x="48" y="21"/>
                    </a:lnTo>
                    <a:lnTo>
                      <a:pt x="49" y="23"/>
                    </a:lnTo>
                    <a:lnTo>
                      <a:pt x="50" y="26"/>
                    </a:lnTo>
                    <a:lnTo>
                      <a:pt x="51" y="28"/>
                    </a:lnTo>
                    <a:lnTo>
                      <a:pt x="53" y="32"/>
                    </a:lnTo>
                    <a:lnTo>
                      <a:pt x="55" y="36"/>
                    </a:lnTo>
                    <a:lnTo>
                      <a:pt x="55" y="39"/>
                    </a:lnTo>
                    <a:lnTo>
                      <a:pt x="55" y="42"/>
                    </a:lnTo>
                    <a:lnTo>
                      <a:pt x="53" y="46"/>
                    </a:lnTo>
                    <a:lnTo>
                      <a:pt x="51" y="48"/>
                    </a:lnTo>
                    <a:lnTo>
                      <a:pt x="48" y="52"/>
                    </a:lnTo>
                    <a:lnTo>
                      <a:pt x="43" y="54"/>
                    </a:lnTo>
                    <a:lnTo>
                      <a:pt x="39" y="55"/>
                    </a:lnTo>
                    <a:lnTo>
                      <a:pt x="35" y="56"/>
                    </a:lnTo>
                    <a:lnTo>
                      <a:pt x="31" y="57"/>
                    </a:lnTo>
                    <a:lnTo>
                      <a:pt x="27" y="56"/>
                    </a:lnTo>
                    <a:lnTo>
                      <a:pt x="25" y="55"/>
                    </a:lnTo>
                    <a:lnTo>
                      <a:pt x="22" y="53"/>
                    </a:lnTo>
                    <a:lnTo>
                      <a:pt x="20" y="51"/>
                    </a:lnTo>
                    <a:lnTo>
                      <a:pt x="17" y="46"/>
                    </a:lnTo>
                    <a:lnTo>
                      <a:pt x="17" y="45"/>
                    </a:lnTo>
                    <a:lnTo>
                      <a:pt x="16" y="43"/>
                    </a:lnTo>
                    <a:lnTo>
                      <a:pt x="15" y="40"/>
                    </a:lnTo>
                    <a:lnTo>
                      <a:pt x="15" y="39"/>
                    </a:lnTo>
                    <a:close/>
                  </a:path>
                </a:pathLst>
              </a:custGeom>
              <a:solidFill>
                <a:srgbClr val="29166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16" name=""/>
              <p:cNvSpPr/>
              <p:nvPr/>
            </p:nvSpPr>
            <p:spPr>
              <a:xfrm>
                <a:off x="1053360" y="688320"/>
                <a:ext cx="73440" cy="22680"/>
              </a:xfrm>
              <a:custGeom>
                <a:avLst/>
                <a:gdLst/>
                <a:ahLst/>
                <a:rect l="l" t="t" r="r" b="b"/>
                <a:pathLst>
                  <a:path w="116" h="36">
                    <a:moveTo>
                      <a:pt x="2" y="34"/>
                    </a:moveTo>
                    <a:lnTo>
                      <a:pt x="1" y="34"/>
                    </a:lnTo>
                    <a:lnTo>
                      <a:pt x="0" y="34"/>
                    </a:lnTo>
                    <a:lnTo>
                      <a:pt x="0" y="34"/>
                    </a:lnTo>
                    <a:lnTo>
                      <a:pt x="0" y="32"/>
                    </a:lnTo>
                    <a:lnTo>
                      <a:pt x="0" y="31"/>
                    </a:lnTo>
                    <a:lnTo>
                      <a:pt x="3" y="28"/>
                    </a:lnTo>
                    <a:lnTo>
                      <a:pt x="5" y="27"/>
                    </a:lnTo>
                    <a:lnTo>
                      <a:pt x="7" y="24"/>
                    </a:lnTo>
                    <a:lnTo>
                      <a:pt x="13" y="19"/>
                    </a:lnTo>
                    <a:lnTo>
                      <a:pt x="15" y="15"/>
                    </a:lnTo>
                    <a:lnTo>
                      <a:pt x="17" y="12"/>
                    </a:lnTo>
                    <a:lnTo>
                      <a:pt x="17" y="10"/>
                    </a:lnTo>
                    <a:lnTo>
                      <a:pt x="17" y="7"/>
                    </a:lnTo>
                    <a:lnTo>
                      <a:pt x="16" y="5"/>
                    </a:lnTo>
                    <a:lnTo>
                      <a:pt x="14" y="4"/>
                    </a:lnTo>
                    <a:lnTo>
                      <a:pt x="11" y="4"/>
                    </a:lnTo>
                    <a:lnTo>
                      <a:pt x="10" y="4"/>
                    </a:lnTo>
                    <a:lnTo>
                      <a:pt x="9" y="5"/>
                    </a:lnTo>
                    <a:lnTo>
                      <a:pt x="7" y="5"/>
                    </a:lnTo>
                    <a:lnTo>
                      <a:pt x="6" y="6"/>
                    </a:lnTo>
                    <a:lnTo>
                      <a:pt x="6" y="7"/>
                    </a:lnTo>
                    <a:lnTo>
                      <a:pt x="5" y="7"/>
                    </a:lnTo>
                    <a:lnTo>
                      <a:pt x="3" y="10"/>
                    </a:lnTo>
                    <a:lnTo>
                      <a:pt x="2" y="10"/>
                    </a:lnTo>
                    <a:lnTo>
                      <a:pt x="1" y="10"/>
                    </a:lnTo>
                    <a:lnTo>
                      <a:pt x="1" y="10"/>
                    </a:lnTo>
                    <a:lnTo>
                      <a:pt x="1" y="9"/>
                    </a:lnTo>
                    <a:lnTo>
                      <a:pt x="1" y="9"/>
                    </a:lnTo>
                    <a:lnTo>
                      <a:pt x="1" y="7"/>
                    </a:lnTo>
                    <a:lnTo>
                      <a:pt x="1" y="6"/>
                    </a:lnTo>
                    <a:lnTo>
                      <a:pt x="2" y="5"/>
                    </a:lnTo>
                    <a:lnTo>
                      <a:pt x="2" y="4"/>
                    </a:lnTo>
                    <a:lnTo>
                      <a:pt x="5" y="3"/>
                    </a:lnTo>
                    <a:lnTo>
                      <a:pt x="8" y="1"/>
                    </a:lnTo>
                    <a:lnTo>
                      <a:pt x="10" y="0"/>
                    </a:lnTo>
                    <a:lnTo>
                      <a:pt x="14" y="0"/>
                    </a:lnTo>
                    <a:lnTo>
                      <a:pt x="18" y="1"/>
                    </a:lnTo>
                    <a:lnTo>
                      <a:pt x="22" y="2"/>
                    </a:lnTo>
                    <a:lnTo>
                      <a:pt x="24" y="5"/>
                    </a:lnTo>
                    <a:lnTo>
                      <a:pt x="25" y="9"/>
                    </a:lnTo>
                    <a:lnTo>
                      <a:pt x="24" y="11"/>
                    </a:lnTo>
                    <a:lnTo>
                      <a:pt x="24" y="13"/>
                    </a:lnTo>
                    <a:lnTo>
                      <a:pt x="22" y="17"/>
                    </a:lnTo>
                    <a:lnTo>
                      <a:pt x="19" y="19"/>
                    </a:lnTo>
                    <a:lnTo>
                      <a:pt x="17" y="20"/>
                    </a:lnTo>
                    <a:lnTo>
                      <a:pt x="15" y="23"/>
                    </a:lnTo>
                    <a:lnTo>
                      <a:pt x="11" y="26"/>
                    </a:lnTo>
                    <a:lnTo>
                      <a:pt x="9" y="28"/>
                    </a:lnTo>
                    <a:lnTo>
                      <a:pt x="9" y="28"/>
                    </a:lnTo>
                    <a:lnTo>
                      <a:pt x="9" y="28"/>
                    </a:lnTo>
                    <a:lnTo>
                      <a:pt x="9" y="28"/>
                    </a:lnTo>
                    <a:lnTo>
                      <a:pt x="9" y="28"/>
                    </a:lnTo>
                    <a:lnTo>
                      <a:pt x="9" y="28"/>
                    </a:lnTo>
                    <a:lnTo>
                      <a:pt x="9" y="28"/>
                    </a:lnTo>
                    <a:lnTo>
                      <a:pt x="10" y="28"/>
                    </a:lnTo>
                    <a:lnTo>
                      <a:pt x="10" y="28"/>
                    </a:lnTo>
                    <a:lnTo>
                      <a:pt x="18" y="28"/>
                    </a:lnTo>
                    <a:lnTo>
                      <a:pt x="19" y="28"/>
                    </a:lnTo>
                    <a:lnTo>
                      <a:pt x="20" y="28"/>
                    </a:lnTo>
                    <a:lnTo>
                      <a:pt x="22" y="28"/>
                    </a:lnTo>
                    <a:lnTo>
                      <a:pt x="22" y="28"/>
                    </a:lnTo>
                    <a:lnTo>
                      <a:pt x="23" y="27"/>
                    </a:lnTo>
                    <a:lnTo>
                      <a:pt x="23" y="26"/>
                    </a:lnTo>
                    <a:lnTo>
                      <a:pt x="24" y="24"/>
                    </a:lnTo>
                    <a:lnTo>
                      <a:pt x="25" y="24"/>
                    </a:lnTo>
                    <a:lnTo>
                      <a:pt x="26" y="24"/>
                    </a:lnTo>
                    <a:lnTo>
                      <a:pt x="26" y="24"/>
                    </a:lnTo>
                    <a:lnTo>
                      <a:pt x="26" y="24"/>
                    </a:lnTo>
                    <a:lnTo>
                      <a:pt x="26" y="26"/>
                    </a:lnTo>
                    <a:lnTo>
                      <a:pt x="26" y="27"/>
                    </a:lnTo>
                    <a:lnTo>
                      <a:pt x="26" y="28"/>
                    </a:lnTo>
                    <a:lnTo>
                      <a:pt x="26" y="30"/>
                    </a:lnTo>
                    <a:lnTo>
                      <a:pt x="25" y="31"/>
                    </a:lnTo>
                    <a:lnTo>
                      <a:pt x="24" y="34"/>
                    </a:lnTo>
                    <a:lnTo>
                      <a:pt x="24" y="35"/>
                    </a:lnTo>
                    <a:lnTo>
                      <a:pt x="23" y="35"/>
                    </a:lnTo>
                    <a:lnTo>
                      <a:pt x="22" y="36"/>
                    </a:lnTo>
                    <a:lnTo>
                      <a:pt x="22" y="35"/>
                    </a:lnTo>
                    <a:lnTo>
                      <a:pt x="22" y="35"/>
                    </a:lnTo>
                    <a:lnTo>
                      <a:pt x="20" y="35"/>
                    </a:lnTo>
                    <a:lnTo>
                      <a:pt x="20" y="34"/>
                    </a:lnTo>
                    <a:lnTo>
                      <a:pt x="2" y="34"/>
                    </a:lnTo>
                    <a:close/>
                    <a:moveTo>
                      <a:pt x="50" y="22"/>
                    </a:moveTo>
                    <a:lnTo>
                      <a:pt x="50" y="14"/>
                    </a:lnTo>
                    <a:lnTo>
                      <a:pt x="48" y="9"/>
                    </a:lnTo>
                    <a:lnTo>
                      <a:pt x="46" y="6"/>
                    </a:lnTo>
                    <a:lnTo>
                      <a:pt x="45" y="4"/>
                    </a:lnTo>
                    <a:lnTo>
                      <a:pt x="44" y="4"/>
                    </a:lnTo>
                    <a:lnTo>
                      <a:pt x="42" y="3"/>
                    </a:lnTo>
                    <a:lnTo>
                      <a:pt x="40" y="4"/>
                    </a:lnTo>
                    <a:lnTo>
                      <a:pt x="39" y="5"/>
                    </a:lnTo>
                    <a:lnTo>
                      <a:pt x="37" y="9"/>
                    </a:lnTo>
                    <a:lnTo>
                      <a:pt x="37" y="13"/>
                    </a:lnTo>
                    <a:lnTo>
                      <a:pt x="37" y="20"/>
                    </a:lnTo>
                    <a:lnTo>
                      <a:pt x="40" y="26"/>
                    </a:lnTo>
                    <a:lnTo>
                      <a:pt x="42" y="29"/>
                    </a:lnTo>
                    <a:lnTo>
                      <a:pt x="44" y="31"/>
                    </a:lnTo>
                    <a:lnTo>
                      <a:pt x="46" y="30"/>
                    </a:lnTo>
                    <a:lnTo>
                      <a:pt x="49" y="29"/>
                    </a:lnTo>
                    <a:lnTo>
                      <a:pt x="50" y="26"/>
                    </a:lnTo>
                    <a:lnTo>
                      <a:pt x="50" y="22"/>
                    </a:lnTo>
                    <a:close/>
                    <a:moveTo>
                      <a:pt x="31" y="17"/>
                    </a:moveTo>
                    <a:lnTo>
                      <a:pt x="31" y="10"/>
                    </a:lnTo>
                    <a:lnTo>
                      <a:pt x="34" y="4"/>
                    </a:lnTo>
                    <a:lnTo>
                      <a:pt x="36" y="2"/>
                    </a:lnTo>
                    <a:lnTo>
                      <a:pt x="37" y="1"/>
                    </a:lnTo>
                    <a:lnTo>
                      <a:pt x="41" y="0"/>
                    </a:lnTo>
                    <a:lnTo>
                      <a:pt x="43" y="0"/>
                    </a:lnTo>
                    <a:lnTo>
                      <a:pt x="46" y="0"/>
                    </a:lnTo>
                    <a:lnTo>
                      <a:pt x="49" y="1"/>
                    </a:lnTo>
                    <a:lnTo>
                      <a:pt x="51" y="3"/>
                    </a:lnTo>
                    <a:lnTo>
                      <a:pt x="53" y="4"/>
                    </a:lnTo>
                    <a:lnTo>
                      <a:pt x="56" y="10"/>
                    </a:lnTo>
                    <a:lnTo>
                      <a:pt x="57" y="18"/>
                    </a:lnTo>
                    <a:lnTo>
                      <a:pt x="56" y="24"/>
                    </a:lnTo>
                    <a:lnTo>
                      <a:pt x="53" y="30"/>
                    </a:lnTo>
                    <a:lnTo>
                      <a:pt x="51" y="31"/>
                    </a:lnTo>
                    <a:lnTo>
                      <a:pt x="49" y="34"/>
                    </a:lnTo>
                    <a:lnTo>
                      <a:pt x="46" y="35"/>
                    </a:lnTo>
                    <a:lnTo>
                      <a:pt x="44" y="35"/>
                    </a:lnTo>
                    <a:lnTo>
                      <a:pt x="41" y="35"/>
                    </a:lnTo>
                    <a:lnTo>
                      <a:pt x="39" y="34"/>
                    </a:lnTo>
                    <a:lnTo>
                      <a:pt x="36" y="31"/>
                    </a:lnTo>
                    <a:lnTo>
                      <a:pt x="34" y="29"/>
                    </a:lnTo>
                    <a:lnTo>
                      <a:pt x="31" y="23"/>
                    </a:lnTo>
                    <a:lnTo>
                      <a:pt x="31" y="17"/>
                    </a:lnTo>
                    <a:close/>
                    <a:moveTo>
                      <a:pt x="79" y="22"/>
                    </a:moveTo>
                    <a:lnTo>
                      <a:pt x="79" y="14"/>
                    </a:lnTo>
                    <a:lnTo>
                      <a:pt x="77" y="9"/>
                    </a:lnTo>
                    <a:lnTo>
                      <a:pt x="76" y="6"/>
                    </a:lnTo>
                    <a:lnTo>
                      <a:pt x="75" y="4"/>
                    </a:lnTo>
                    <a:lnTo>
                      <a:pt x="74" y="4"/>
                    </a:lnTo>
                    <a:lnTo>
                      <a:pt x="71" y="3"/>
                    </a:lnTo>
                    <a:lnTo>
                      <a:pt x="69" y="4"/>
                    </a:lnTo>
                    <a:lnTo>
                      <a:pt x="68" y="5"/>
                    </a:lnTo>
                    <a:lnTo>
                      <a:pt x="67" y="9"/>
                    </a:lnTo>
                    <a:lnTo>
                      <a:pt x="67" y="13"/>
                    </a:lnTo>
                    <a:lnTo>
                      <a:pt x="67" y="20"/>
                    </a:lnTo>
                    <a:lnTo>
                      <a:pt x="69" y="26"/>
                    </a:lnTo>
                    <a:lnTo>
                      <a:pt x="71" y="29"/>
                    </a:lnTo>
                    <a:lnTo>
                      <a:pt x="75" y="31"/>
                    </a:lnTo>
                    <a:lnTo>
                      <a:pt x="77" y="30"/>
                    </a:lnTo>
                    <a:lnTo>
                      <a:pt x="78" y="29"/>
                    </a:lnTo>
                    <a:lnTo>
                      <a:pt x="79" y="26"/>
                    </a:lnTo>
                    <a:lnTo>
                      <a:pt x="79" y="22"/>
                    </a:lnTo>
                    <a:close/>
                    <a:moveTo>
                      <a:pt x="60" y="17"/>
                    </a:moveTo>
                    <a:lnTo>
                      <a:pt x="61" y="10"/>
                    </a:lnTo>
                    <a:lnTo>
                      <a:pt x="63" y="4"/>
                    </a:lnTo>
                    <a:lnTo>
                      <a:pt x="66" y="2"/>
                    </a:lnTo>
                    <a:lnTo>
                      <a:pt x="68" y="1"/>
                    </a:lnTo>
                    <a:lnTo>
                      <a:pt x="70" y="0"/>
                    </a:lnTo>
                    <a:lnTo>
                      <a:pt x="73" y="0"/>
                    </a:lnTo>
                    <a:lnTo>
                      <a:pt x="76" y="0"/>
                    </a:lnTo>
                    <a:lnTo>
                      <a:pt x="78" y="1"/>
                    </a:lnTo>
                    <a:lnTo>
                      <a:pt x="80" y="3"/>
                    </a:lnTo>
                    <a:lnTo>
                      <a:pt x="83" y="4"/>
                    </a:lnTo>
                    <a:lnTo>
                      <a:pt x="85" y="10"/>
                    </a:lnTo>
                    <a:lnTo>
                      <a:pt x="86" y="18"/>
                    </a:lnTo>
                    <a:lnTo>
                      <a:pt x="86" y="24"/>
                    </a:lnTo>
                    <a:lnTo>
                      <a:pt x="83" y="30"/>
                    </a:lnTo>
                    <a:lnTo>
                      <a:pt x="80" y="31"/>
                    </a:lnTo>
                    <a:lnTo>
                      <a:pt x="79" y="34"/>
                    </a:lnTo>
                    <a:lnTo>
                      <a:pt x="76" y="35"/>
                    </a:lnTo>
                    <a:lnTo>
                      <a:pt x="74" y="35"/>
                    </a:lnTo>
                    <a:lnTo>
                      <a:pt x="70" y="35"/>
                    </a:lnTo>
                    <a:lnTo>
                      <a:pt x="68" y="34"/>
                    </a:lnTo>
                    <a:lnTo>
                      <a:pt x="66" y="31"/>
                    </a:lnTo>
                    <a:lnTo>
                      <a:pt x="63" y="29"/>
                    </a:lnTo>
                    <a:lnTo>
                      <a:pt x="61" y="23"/>
                    </a:lnTo>
                    <a:lnTo>
                      <a:pt x="60" y="17"/>
                    </a:lnTo>
                    <a:close/>
                    <a:moveTo>
                      <a:pt x="92" y="34"/>
                    </a:moveTo>
                    <a:lnTo>
                      <a:pt x="89" y="34"/>
                    </a:lnTo>
                    <a:lnTo>
                      <a:pt x="89" y="34"/>
                    </a:lnTo>
                    <a:lnTo>
                      <a:pt x="89" y="34"/>
                    </a:lnTo>
                    <a:lnTo>
                      <a:pt x="88" y="32"/>
                    </a:lnTo>
                    <a:lnTo>
                      <a:pt x="89" y="31"/>
                    </a:lnTo>
                    <a:lnTo>
                      <a:pt x="93" y="28"/>
                    </a:lnTo>
                    <a:lnTo>
                      <a:pt x="93" y="27"/>
                    </a:lnTo>
                    <a:lnTo>
                      <a:pt x="94" y="27"/>
                    </a:lnTo>
                    <a:lnTo>
                      <a:pt x="95" y="28"/>
                    </a:lnTo>
                    <a:lnTo>
                      <a:pt x="95" y="30"/>
                    </a:lnTo>
                    <a:lnTo>
                      <a:pt x="94" y="29"/>
                    </a:lnTo>
                    <a:lnTo>
                      <a:pt x="94" y="28"/>
                    </a:lnTo>
                    <a:lnTo>
                      <a:pt x="94" y="27"/>
                    </a:lnTo>
                    <a:lnTo>
                      <a:pt x="95" y="26"/>
                    </a:lnTo>
                    <a:lnTo>
                      <a:pt x="95" y="21"/>
                    </a:lnTo>
                    <a:lnTo>
                      <a:pt x="97" y="18"/>
                    </a:lnTo>
                    <a:lnTo>
                      <a:pt x="99" y="15"/>
                    </a:lnTo>
                    <a:lnTo>
                      <a:pt x="101" y="13"/>
                    </a:lnTo>
                    <a:lnTo>
                      <a:pt x="104" y="11"/>
                    </a:lnTo>
                    <a:lnTo>
                      <a:pt x="106" y="10"/>
                    </a:lnTo>
                    <a:lnTo>
                      <a:pt x="106" y="7"/>
                    </a:lnTo>
                    <a:lnTo>
                      <a:pt x="105" y="5"/>
                    </a:lnTo>
                    <a:lnTo>
                      <a:pt x="103" y="4"/>
                    </a:lnTo>
                    <a:lnTo>
                      <a:pt x="101" y="4"/>
                    </a:lnTo>
                    <a:lnTo>
                      <a:pt x="100" y="4"/>
                    </a:lnTo>
                    <a:lnTo>
                      <a:pt x="99" y="5"/>
                    </a:lnTo>
                    <a:lnTo>
                      <a:pt x="96" y="5"/>
                    </a:lnTo>
                    <a:lnTo>
                      <a:pt x="95" y="6"/>
                    </a:lnTo>
                    <a:lnTo>
                      <a:pt x="95" y="7"/>
                    </a:lnTo>
                    <a:lnTo>
                      <a:pt x="94" y="7"/>
                    </a:lnTo>
                    <a:lnTo>
                      <a:pt x="93" y="10"/>
                    </a:lnTo>
                    <a:lnTo>
                      <a:pt x="92" y="10"/>
                    </a:lnTo>
                    <a:lnTo>
                      <a:pt x="91" y="10"/>
                    </a:lnTo>
                    <a:lnTo>
                      <a:pt x="91" y="10"/>
                    </a:lnTo>
                    <a:lnTo>
                      <a:pt x="91" y="9"/>
                    </a:lnTo>
                    <a:lnTo>
                      <a:pt x="89" y="9"/>
                    </a:lnTo>
                    <a:lnTo>
                      <a:pt x="91" y="7"/>
                    </a:lnTo>
                    <a:lnTo>
                      <a:pt x="91" y="6"/>
                    </a:lnTo>
                    <a:lnTo>
                      <a:pt x="91" y="5"/>
                    </a:lnTo>
                    <a:lnTo>
                      <a:pt x="92" y="4"/>
                    </a:lnTo>
                    <a:lnTo>
                      <a:pt x="94" y="3"/>
                    </a:lnTo>
                    <a:lnTo>
                      <a:pt x="96" y="1"/>
                    </a:lnTo>
                    <a:lnTo>
                      <a:pt x="100" y="0"/>
                    </a:lnTo>
                    <a:lnTo>
                      <a:pt x="103" y="0"/>
                    </a:lnTo>
                    <a:lnTo>
                      <a:pt x="108" y="1"/>
                    </a:lnTo>
                    <a:lnTo>
                      <a:pt x="111" y="2"/>
                    </a:lnTo>
                    <a:lnTo>
                      <a:pt x="113" y="5"/>
                    </a:lnTo>
                    <a:lnTo>
                      <a:pt x="113" y="9"/>
                    </a:lnTo>
                    <a:lnTo>
                      <a:pt x="113" y="11"/>
                    </a:lnTo>
                    <a:lnTo>
                      <a:pt x="112" y="13"/>
                    </a:lnTo>
                    <a:lnTo>
                      <a:pt x="111" y="17"/>
                    </a:lnTo>
                    <a:lnTo>
                      <a:pt x="109" y="19"/>
                    </a:lnTo>
                    <a:lnTo>
                      <a:pt x="106" y="20"/>
                    </a:lnTo>
                    <a:lnTo>
                      <a:pt x="104" y="23"/>
                    </a:lnTo>
                    <a:lnTo>
                      <a:pt x="101" y="26"/>
                    </a:lnTo>
                    <a:lnTo>
                      <a:pt x="99" y="28"/>
                    </a:lnTo>
                    <a:lnTo>
                      <a:pt x="99" y="28"/>
                    </a:lnTo>
                    <a:lnTo>
                      <a:pt x="99" y="28"/>
                    </a:lnTo>
                    <a:lnTo>
                      <a:pt x="99" y="28"/>
                    </a:lnTo>
                    <a:lnTo>
                      <a:pt x="99" y="28"/>
                    </a:lnTo>
                    <a:lnTo>
                      <a:pt x="99" y="28"/>
                    </a:lnTo>
                    <a:lnTo>
                      <a:pt x="99" y="28"/>
                    </a:lnTo>
                    <a:lnTo>
                      <a:pt x="99" y="28"/>
                    </a:lnTo>
                    <a:lnTo>
                      <a:pt x="100" y="28"/>
                    </a:lnTo>
                    <a:lnTo>
                      <a:pt x="108" y="28"/>
                    </a:lnTo>
                    <a:lnTo>
                      <a:pt x="109" y="28"/>
                    </a:lnTo>
                    <a:lnTo>
                      <a:pt x="110" y="28"/>
                    </a:lnTo>
                    <a:lnTo>
                      <a:pt x="111" y="28"/>
                    </a:lnTo>
                    <a:lnTo>
                      <a:pt x="111" y="28"/>
                    </a:lnTo>
                    <a:lnTo>
                      <a:pt x="112" y="27"/>
                    </a:lnTo>
                    <a:lnTo>
                      <a:pt x="112" y="26"/>
                    </a:lnTo>
                    <a:lnTo>
                      <a:pt x="113" y="24"/>
                    </a:lnTo>
                    <a:lnTo>
                      <a:pt x="114" y="24"/>
                    </a:lnTo>
                    <a:lnTo>
                      <a:pt x="114" y="24"/>
                    </a:lnTo>
                    <a:lnTo>
                      <a:pt x="116" y="24"/>
                    </a:lnTo>
                    <a:lnTo>
                      <a:pt x="116" y="24"/>
                    </a:lnTo>
                    <a:lnTo>
                      <a:pt x="116" y="26"/>
                    </a:lnTo>
                    <a:lnTo>
                      <a:pt x="116" y="27"/>
                    </a:lnTo>
                    <a:lnTo>
                      <a:pt x="116" y="28"/>
                    </a:lnTo>
                    <a:lnTo>
                      <a:pt x="116" y="30"/>
                    </a:lnTo>
                    <a:lnTo>
                      <a:pt x="114" y="31"/>
                    </a:lnTo>
                    <a:lnTo>
                      <a:pt x="113" y="34"/>
                    </a:lnTo>
                    <a:lnTo>
                      <a:pt x="113" y="35"/>
                    </a:lnTo>
                    <a:lnTo>
                      <a:pt x="112" y="35"/>
                    </a:lnTo>
                    <a:lnTo>
                      <a:pt x="111" y="36"/>
                    </a:lnTo>
                    <a:lnTo>
                      <a:pt x="111" y="35"/>
                    </a:lnTo>
                    <a:lnTo>
                      <a:pt x="110" y="35"/>
                    </a:lnTo>
                    <a:lnTo>
                      <a:pt x="110" y="35"/>
                    </a:lnTo>
                    <a:lnTo>
                      <a:pt x="110" y="34"/>
                    </a:lnTo>
                    <a:lnTo>
                      <a:pt x="92" y="34"/>
                    </a:lnTo>
                    <a:close/>
                  </a:path>
                </a:pathLst>
              </a:custGeom>
              <a:solidFill>
                <a:srgbClr val="29166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17" name=""/>
          <p:cNvGrpSpPr/>
          <p:nvPr/>
        </p:nvGrpSpPr>
        <p:grpSpPr>
          <a:xfrm>
            <a:off x="380880" y="838080"/>
            <a:ext cx="8153280" cy="5333760"/>
            <a:chOff x="380880" y="838080"/>
            <a:chExt cx="8153280" cy="5333760"/>
          </a:xfrm>
        </p:grpSpPr>
        <p:grpSp>
          <p:nvGrpSpPr>
            <p:cNvPr id="818" name=""/>
            <p:cNvGrpSpPr/>
            <p:nvPr/>
          </p:nvGrpSpPr>
          <p:grpSpPr>
            <a:xfrm>
              <a:off x="386280" y="843480"/>
              <a:ext cx="8141400" cy="5321520"/>
              <a:chOff x="386280" y="843480"/>
              <a:chExt cx="8141400" cy="5321520"/>
            </a:xfrm>
          </p:grpSpPr>
          <p:grpSp>
            <p:nvGrpSpPr>
              <p:cNvPr id="819" name=""/>
              <p:cNvGrpSpPr/>
              <p:nvPr/>
            </p:nvGrpSpPr>
            <p:grpSpPr>
              <a:xfrm>
                <a:off x="386280" y="843480"/>
                <a:ext cx="1752120" cy="857880"/>
                <a:chOff x="386280" y="843480"/>
                <a:chExt cx="1752120" cy="857880"/>
              </a:xfrm>
            </p:grpSpPr>
            <p:sp>
              <p:nvSpPr>
                <p:cNvPr id="820" name=""/>
                <p:cNvSpPr/>
                <p:nvPr/>
              </p:nvSpPr>
              <p:spPr>
                <a:xfrm>
                  <a:off x="386280" y="843480"/>
                  <a:ext cx="175212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1" name=""/>
                <p:cNvGrpSpPr/>
                <p:nvPr/>
              </p:nvGrpSpPr>
              <p:grpSpPr>
                <a:xfrm>
                  <a:off x="386280" y="843480"/>
                  <a:ext cx="1751760" cy="857520"/>
                  <a:chOff x="386280" y="843480"/>
                  <a:chExt cx="1751760" cy="857520"/>
                </a:xfrm>
              </p:grpSpPr>
              <p:sp>
                <p:nvSpPr>
                  <p:cNvPr id="822" name=""/>
                  <p:cNvSpPr/>
                  <p:nvPr/>
                </p:nvSpPr>
                <p:spPr>
                  <a:xfrm>
                    <a:off x="438480" y="843480"/>
                    <a:ext cx="164736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SLEK</a:t>
                    </a:r>
                    <a:endParaRPr b="0" lang="en-US" sz="1800" spc="-1" strike="noStrike">
                      <a:solidFill>
                        <a:srgbClr val="ffffff"/>
                      </a:solidFill>
                      <a:latin typeface="Times New Roman"/>
                    </a:endParaRPr>
                  </a:p>
                </p:txBody>
              </p:sp>
              <p:sp>
                <p:nvSpPr>
                  <p:cNvPr id="823" name=""/>
                  <p:cNvSpPr/>
                  <p:nvPr/>
                </p:nvSpPr>
                <p:spPr>
                  <a:xfrm>
                    <a:off x="386280" y="843480"/>
                    <a:ext cx="175176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24" name=""/>
              <p:cNvGrpSpPr/>
              <p:nvPr/>
            </p:nvGrpSpPr>
            <p:grpSpPr>
              <a:xfrm>
                <a:off x="2138760" y="843480"/>
                <a:ext cx="2122920" cy="857880"/>
                <a:chOff x="2138760" y="843480"/>
                <a:chExt cx="2122920" cy="857880"/>
              </a:xfrm>
            </p:grpSpPr>
            <p:sp>
              <p:nvSpPr>
                <p:cNvPr id="825" name=""/>
                <p:cNvSpPr/>
                <p:nvPr/>
              </p:nvSpPr>
              <p:spPr>
                <a:xfrm>
                  <a:off x="2138760" y="843480"/>
                  <a:ext cx="212292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6" name=""/>
                <p:cNvGrpSpPr/>
                <p:nvPr/>
              </p:nvGrpSpPr>
              <p:grpSpPr>
                <a:xfrm>
                  <a:off x="2138760" y="843480"/>
                  <a:ext cx="2122560" cy="857520"/>
                  <a:chOff x="2138760" y="843480"/>
                  <a:chExt cx="2122560" cy="857520"/>
                </a:xfrm>
              </p:grpSpPr>
              <p:sp>
                <p:nvSpPr>
                  <p:cNvPr id="827" name=""/>
                  <p:cNvSpPr/>
                  <p:nvPr/>
                </p:nvSpPr>
                <p:spPr>
                  <a:xfrm>
                    <a:off x="2191320" y="843480"/>
                    <a:ext cx="201780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İİL</a:t>
                    </a:r>
                    <a:endParaRPr b="0" lang="en-US" sz="1800" spc="-1" strike="noStrike">
                      <a:solidFill>
                        <a:srgbClr val="ffffff"/>
                      </a:solidFill>
                      <a:latin typeface="Times New Roman"/>
                    </a:endParaRPr>
                  </a:p>
                </p:txBody>
              </p:sp>
              <p:sp>
                <p:nvSpPr>
                  <p:cNvPr id="828" name=""/>
                  <p:cNvSpPr/>
                  <p:nvPr/>
                </p:nvSpPr>
                <p:spPr>
                  <a:xfrm>
                    <a:off x="2138760" y="843480"/>
                    <a:ext cx="212256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29" name=""/>
              <p:cNvGrpSpPr/>
              <p:nvPr/>
            </p:nvGrpSpPr>
            <p:grpSpPr>
              <a:xfrm>
                <a:off x="4262040" y="843480"/>
                <a:ext cx="2142000" cy="857880"/>
                <a:chOff x="4262040" y="843480"/>
                <a:chExt cx="2142000" cy="857880"/>
              </a:xfrm>
            </p:grpSpPr>
            <p:sp>
              <p:nvSpPr>
                <p:cNvPr id="830" name=""/>
                <p:cNvSpPr/>
                <p:nvPr/>
              </p:nvSpPr>
              <p:spPr>
                <a:xfrm>
                  <a:off x="4262040" y="843480"/>
                  <a:ext cx="214200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1" name=""/>
                <p:cNvGrpSpPr/>
                <p:nvPr/>
              </p:nvGrpSpPr>
              <p:grpSpPr>
                <a:xfrm>
                  <a:off x="4262040" y="843480"/>
                  <a:ext cx="2141640" cy="857520"/>
                  <a:chOff x="4262040" y="843480"/>
                  <a:chExt cx="2141640" cy="857520"/>
                </a:xfrm>
              </p:grpSpPr>
              <p:sp>
                <p:nvSpPr>
                  <p:cNvPr id="832" name=""/>
                  <p:cNvSpPr/>
                  <p:nvPr/>
                </p:nvSpPr>
                <p:spPr>
                  <a:xfrm>
                    <a:off x="4314600" y="843480"/>
                    <a:ext cx="203652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a:t>
                    </a:r>
                    <a:endParaRPr b="0" lang="en-US" sz="1800" spc="-1" strike="noStrike">
                      <a:solidFill>
                        <a:srgbClr val="ffffff"/>
                      </a:solidFill>
                      <a:latin typeface="Times New Roman"/>
                    </a:endParaRPr>
                  </a:p>
                </p:txBody>
              </p:sp>
              <p:sp>
                <p:nvSpPr>
                  <p:cNvPr id="833" name=""/>
                  <p:cNvSpPr/>
                  <p:nvPr/>
                </p:nvSpPr>
                <p:spPr>
                  <a:xfrm>
                    <a:off x="4262040" y="843480"/>
                    <a:ext cx="214164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34" name=""/>
              <p:cNvGrpSpPr/>
              <p:nvPr/>
            </p:nvGrpSpPr>
            <p:grpSpPr>
              <a:xfrm>
                <a:off x="6404760" y="843480"/>
                <a:ext cx="2122920" cy="857880"/>
                <a:chOff x="6404760" y="843480"/>
                <a:chExt cx="2122920" cy="857880"/>
              </a:xfrm>
            </p:grpSpPr>
            <p:sp>
              <p:nvSpPr>
                <p:cNvPr id="835" name=""/>
                <p:cNvSpPr/>
                <p:nvPr/>
              </p:nvSpPr>
              <p:spPr>
                <a:xfrm>
                  <a:off x="6404760" y="843480"/>
                  <a:ext cx="2122920" cy="8578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6" name=""/>
                <p:cNvGrpSpPr/>
                <p:nvPr/>
              </p:nvGrpSpPr>
              <p:grpSpPr>
                <a:xfrm>
                  <a:off x="6404760" y="843480"/>
                  <a:ext cx="2122560" cy="857520"/>
                  <a:chOff x="6404760" y="843480"/>
                  <a:chExt cx="2122560" cy="857520"/>
                </a:xfrm>
              </p:grpSpPr>
              <p:sp>
                <p:nvSpPr>
                  <p:cNvPr id="837" name=""/>
                  <p:cNvSpPr/>
                  <p:nvPr/>
                </p:nvSpPr>
                <p:spPr>
                  <a:xfrm>
                    <a:off x="6456960" y="843480"/>
                    <a:ext cx="2017800" cy="8575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 DIŞI</a:t>
                    </a:r>
                    <a:endParaRPr b="0" lang="en-US" sz="1800" spc="-1" strike="noStrike">
                      <a:solidFill>
                        <a:srgbClr val="ffffff"/>
                      </a:solidFill>
                      <a:latin typeface="Times New Roman"/>
                    </a:endParaRPr>
                  </a:p>
                </p:txBody>
              </p:sp>
              <p:sp>
                <p:nvSpPr>
                  <p:cNvPr id="838" name=""/>
                  <p:cNvSpPr/>
                  <p:nvPr/>
                </p:nvSpPr>
                <p:spPr>
                  <a:xfrm>
                    <a:off x="6404760" y="843480"/>
                    <a:ext cx="2122560" cy="857520"/>
                  </a:xfrm>
                  <a:prstGeom prst="rect">
                    <a:avLst/>
                  </a:prstGeom>
                  <a:noFill/>
                  <a:ln w="0">
                    <a:solidFill>
                      <a:srgbClr val="0000a4"/>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9" name=""/>
              <p:cNvGrpSpPr/>
              <p:nvPr/>
            </p:nvGrpSpPr>
            <p:grpSpPr>
              <a:xfrm>
                <a:off x="386280" y="1701720"/>
                <a:ext cx="1752120" cy="4463280"/>
                <a:chOff x="386280" y="1701720"/>
                <a:chExt cx="1752120" cy="4463280"/>
              </a:xfrm>
            </p:grpSpPr>
            <p:sp>
              <p:nvSpPr>
                <p:cNvPr id="840" name=""/>
                <p:cNvSpPr/>
                <p:nvPr/>
              </p:nvSpPr>
              <p:spPr>
                <a:xfrm>
                  <a:off x="438480" y="1701720"/>
                  <a:ext cx="1647720" cy="44632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sikolog</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ini Lid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raştırma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uram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elsefe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Şa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lahiyat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olitik lid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anat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Zanaat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z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1" name=""/>
                <p:cNvSpPr/>
                <p:nvPr/>
              </p:nvSpPr>
              <p:spPr>
                <a:xfrm>
                  <a:off x="386280" y="1701720"/>
                  <a:ext cx="1752120" cy="44632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2" name=""/>
              <p:cNvGrpSpPr/>
              <p:nvPr/>
            </p:nvGrpSpPr>
            <p:grpSpPr>
              <a:xfrm>
                <a:off x="2138760" y="1701720"/>
                <a:ext cx="2122920" cy="4463280"/>
                <a:chOff x="2138760" y="1701720"/>
                <a:chExt cx="2122920" cy="4463280"/>
              </a:xfrm>
            </p:grpSpPr>
            <p:sp>
              <p:nvSpPr>
                <p:cNvPr id="843" name=""/>
                <p:cNvSpPr/>
                <p:nvPr/>
              </p:nvSpPr>
              <p:spPr>
                <a:xfrm>
                  <a:off x="2191320" y="1701720"/>
                  <a:ext cx="2018160" cy="44632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in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n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Ölç</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eğerlend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leşt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edef oluşt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fade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Günlük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maç belir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ayal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ireysel çalı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üşü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uyums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lan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essiz ka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
                <p:cNvSpPr/>
                <p:nvPr/>
              </p:nvSpPr>
              <p:spPr>
                <a:xfrm>
                  <a:off x="2138760" y="1701720"/>
                  <a:ext cx="2122920" cy="4463280"/>
                </a:xfrm>
                <a:prstGeom prst="rect">
                  <a:avLst/>
                </a:prstGeom>
                <a:noFill/>
                <a:ln w="0">
                  <a:solidFill>
                    <a:srgbClr val="0000a4"/>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5" name=""/>
              <p:cNvGrpSpPr/>
              <p:nvPr/>
            </p:nvGrpSpPr>
            <p:grpSpPr>
              <a:xfrm>
                <a:off x="4262040" y="1701720"/>
                <a:ext cx="2142000" cy="4463280"/>
                <a:chOff x="4262040" y="1701720"/>
                <a:chExt cx="2142000" cy="4463280"/>
              </a:xfrm>
            </p:grpSpPr>
            <p:sp>
              <p:nvSpPr>
                <p:cNvPr id="846" name=""/>
                <p:cNvSpPr/>
                <p:nvPr/>
              </p:nvSpPr>
              <p:spPr>
                <a:xfrm>
                  <a:off x="4314600" y="1701720"/>
                  <a:ext cx="2036880" cy="44632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ompozisyo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atemat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ürkç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in Bilg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Resi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
                <p:cNvSpPr/>
                <p:nvPr/>
              </p:nvSpPr>
              <p:spPr>
                <a:xfrm>
                  <a:off x="4262040" y="1701720"/>
                  <a:ext cx="2142000" cy="44632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8" name=""/>
              <p:cNvGrpSpPr/>
              <p:nvPr/>
            </p:nvGrpSpPr>
            <p:grpSpPr>
              <a:xfrm>
                <a:off x="6404760" y="1701720"/>
                <a:ext cx="2122920" cy="4463280"/>
                <a:chOff x="6404760" y="1701720"/>
                <a:chExt cx="2122920" cy="4463280"/>
              </a:xfrm>
            </p:grpSpPr>
            <p:sp>
              <p:nvSpPr>
                <p:cNvPr id="849" name=""/>
                <p:cNvSpPr/>
                <p:nvPr/>
              </p:nvSpPr>
              <p:spPr>
                <a:xfrm>
                  <a:off x="6456960" y="1701720"/>
                  <a:ext cx="2018160" cy="44632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lgi grup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ilgisay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ulmaca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ilm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Okuma köşeler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işisel öğreti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l sanatları</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0" name=""/>
                <p:cNvSpPr/>
                <p:nvPr/>
              </p:nvSpPr>
              <p:spPr>
                <a:xfrm>
                  <a:off x="6404760" y="1701720"/>
                  <a:ext cx="2122920" cy="44632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51" name=""/>
            <p:cNvSpPr/>
            <p:nvPr/>
          </p:nvSpPr>
          <p:spPr>
            <a:xfrm>
              <a:off x="380880" y="838080"/>
              <a:ext cx="8153280" cy="533376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3" presetSubtype="528">
                                  <p:stCondLst>
                                    <p:cond delay="0"/>
                                  </p:stCondLst>
                                  <p:childTnLst>
                                    <p:set>
                                      <p:cBhvr>
                                        <p:cTn id="832" dur="1" fill="hold">
                                          <p:stCondLst>
                                            <p:cond delay="0"/>
                                          </p:stCondLst>
                                        </p:cTn>
                                        <p:tgtEl>
                                          <p:spTgt spid="817"/>
                                        </p:tgtEl>
                                        <p:attrNameLst>
                                          <p:attrName>style.visibility</p:attrName>
                                        </p:attrNameLst>
                                      </p:cBhvr>
                                      <p:to>
                                        <p:strVal val="visible"/>
                                      </p:to>
                                    </p:set>
                                    <p:anim calcmode="lin" valueType="num">
                                      <p:cBhvr additive="repl">
                                        <p:cTn id="833" dur="500" fill="hold"/>
                                        <p:tgtEl>
                                          <p:spTgt spid="817"/>
                                        </p:tgtEl>
                                        <p:attrNameLst>
                                          <p:attrName>ppt_w</p:attrName>
                                        </p:attrNameLst>
                                      </p:cBhvr>
                                      <p:tavLst>
                                        <p:tav tm="0">
                                          <p:val>
                                            <p:fltVal val="0"/>
                                          </p:val>
                                        </p:tav>
                                        <p:tav tm="100000">
                                          <p:val>
                                            <p:strVal val="#ppt_w"/>
                                          </p:val>
                                        </p:tav>
                                      </p:tavLst>
                                    </p:anim>
                                    <p:anim calcmode="lin" valueType="num">
                                      <p:cBhvr additive="repl">
                                        <p:cTn id="834" dur="500" fill="hold"/>
                                        <p:tgtEl>
                                          <p:spTgt spid="817"/>
                                        </p:tgtEl>
                                        <p:attrNameLst>
                                          <p:attrName>ppt_h</p:attrName>
                                        </p:attrNameLst>
                                      </p:cBhvr>
                                      <p:tavLst>
                                        <p:tav tm="0">
                                          <p:val>
                                            <p:fltVal val="0"/>
                                          </p:val>
                                        </p:tav>
                                        <p:tav tm="100000">
                                          <p:val>
                                            <p:strVal val="#ppt_h"/>
                                          </p:val>
                                        </p:tav>
                                      </p:tavLst>
                                    </p:anim>
                                    <p:anim calcmode="lin" valueType="num">
                                      <p:cBhvr additive="repl">
                                        <p:cTn id="835" dur="500" fill="hold"/>
                                        <p:tgtEl>
                                          <p:spTgt spid="817"/>
                                        </p:tgtEl>
                                        <p:attrNameLst>
                                          <p:attrName>ppt_x</p:attrName>
                                        </p:attrNameLst>
                                      </p:cBhvr>
                                      <p:tavLst>
                                        <p:tav tm="0">
                                          <p:val>
                                            <p:fltVal val="0.5"/>
                                          </p:val>
                                        </p:tav>
                                        <p:tav tm="100000">
                                          <p:val>
                                            <p:strVal val="#ppt_x"/>
                                          </p:val>
                                        </p:tav>
                                      </p:tavLst>
                                    </p:anim>
                                    <p:anim calcmode="lin" valueType="num">
                                      <p:cBhvr additive="repl">
                                        <p:cTn id="836" dur="500" fill="hold"/>
                                        <p:tgtEl>
                                          <p:spTgt spid="81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52" name=""/>
          <p:cNvGrpSpPr/>
          <p:nvPr/>
        </p:nvGrpSpPr>
        <p:grpSpPr>
          <a:xfrm>
            <a:off x="1212840" y="228600"/>
            <a:ext cx="6254640" cy="6235560"/>
            <a:chOff x="1212840" y="228600"/>
            <a:chExt cx="6254640" cy="6235560"/>
          </a:xfrm>
        </p:grpSpPr>
        <p:grpSp>
          <p:nvGrpSpPr>
            <p:cNvPr id="853" name=""/>
            <p:cNvGrpSpPr/>
            <p:nvPr/>
          </p:nvGrpSpPr>
          <p:grpSpPr>
            <a:xfrm>
              <a:off x="1212840" y="1219320"/>
              <a:ext cx="6254640" cy="5244840"/>
              <a:chOff x="1212840" y="1219320"/>
              <a:chExt cx="6254640" cy="5244840"/>
            </a:xfrm>
          </p:grpSpPr>
          <p:sp>
            <p:nvSpPr>
              <p:cNvPr id="854" name=""/>
              <p:cNvSpPr/>
              <p:nvPr/>
            </p:nvSpPr>
            <p:spPr>
              <a:xfrm>
                <a:off x="1212840" y="5529240"/>
                <a:ext cx="6248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OĞA OLAYLARINA MERAKLIDIR</a:t>
                </a:r>
                <a:endParaRPr b="0" lang="en-US" sz="1800" spc="-1" strike="noStrike">
                  <a:solidFill>
                    <a:srgbClr val="ffffff"/>
                  </a:solidFill>
                  <a:latin typeface="Times New Roman"/>
                </a:endParaRPr>
              </a:p>
            </p:txBody>
          </p:sp>
          <p:sp>
            <p:nvSpPr>
              <p:cNvPr id="855" name=""/>
              <p:cNvSpPr/>
              <p:nvPr/>
            </p:nvSpPr>
            <p:spPr>
              <a:xfrm>
                <a:off x="1212840" y="1219320"/>
                <a:ext cx="62485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AYVANLARA KARŞI ÇOK MERAKLIDIR</a:t>
                </a:r>
                <a:endParaRPr b="0" lang="en-US" sz="1800" spc="-1" strike="noStrike">
                  <a:solidFill>
                    <a:srgbClr val="ffffff"/>
                  </a:solidFill>
                  <a:latin typeface="Times New Roman"/>
                </a:endParaRPr>
              </a:p>
            </p:txBody>
          </p:sp>
          <p:sp>
            <p:nvSpPr>
              <p:cNvPr id="856" name=""/>
              <p:cNvSpPr/>
              <p:nvPr/>
            </p:nvSpPr>
            <p:spPr>
              <a:xfrm>
                <a:off x="1212840" y="1859040"/>
                <a:ext cx="62485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ÇIK HAVADA OLMAKTAN HOŞLANIR</a:t>
                </a: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857" name=""/>
              <p:cNvSpPr/>
              <p:nvPr/>
            </p:nvSpPr>
            <p:spPr>
              <a:xfrm>
                <a:off x="1219320" y="2475000"/>
                <a:ext cx="62481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AHÇE İŞLERİNİ SEVER</a:t>
                </a:r>
                <a:endParaRPr b="0" lang="en-US" sz="1800" spc="-1" strike="noStrike">
                  <a:solidFill>
                    <a:srgbClr val="ffffff"/>
                  </a:solidFill>
                  <a:latin typeface="Times New Roman"/>
                </a:endParaRPr>
              </a:p>
            </p:txBody>
          </p:sp>
          <p:sp>
            <p:nvSpPr>
              <p:cNvPr id="858" name=""/>
              <p:cNvSpPr/>
              <p:nvPr/>
            </p:nvSpPr>
            <p:spPr>
              <a:xfrm>
                <a:off x="1219320" y="3067200"/>
                <a:ext cx="624816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VARLIKLARI SINIFLANDIRMAYA MERAKLIDIR.</a:t>
                </a:r>
                <a:endParaRPr b="0" lang="en-US" sz="1800" spc="-1" strike="noStrike">
                  <a:solidFill>
                    <a:srgbClr val="ffffff"/>
                  </a:solidFill>
                  <a:latin typeface="Times New Roman"/>
                </a:endParaRPr>
              </a:p>
            </p:txBody>
          </p:sp>
          <p:sp>
            <p:nvSpPr>
              <p:cNvPr id="859" name=""/>
              <p:cNvSpPr/>
              <p:nvPr/>
            </p:nvSpPr>
            <p:spPr>
              <a:xfrm>
                <a:off x="1212840" y="3683160"/>
                <a:ext cx="624852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ARKLI BİTKİ VE HAYVANLARA İLGİ DUYAR</a:t>
                </a: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p:txBody>
          </p:sp>
          <p:sp>
            <p:nvSpPr>
              <p:cNvPr id="860" name=""/>
              <p:cNvSpPr/>
              <p:nvPr/>
            </p:nvSpPr>
            <p:spPr>
              <a:xfrm>
                <a:off x="1219320" y="4309920"/>
                <a:ext cx="62481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ÇEVRE KİRLİLİĞİNE DUYARLIDIR</a:t>
                </a:r>
                <a:endParaRPr b="0" lang="en-US" sz="1800" spc="-1" strike="noStrike">
                  <a:solidFill>
                    <a:srgbClr val="ffffff"/>
                  </a:solidFill>
                  <a:latin typeface="Times New Roman"/>
                </a:endParaRPr>
              </a:p>
            </p:txBody>
          </p:sp>
          <p:sp>
            <p:nvSpPr>
              <p:cNvPr id="861" name=""/>
              <p:cNvSpPr/>
              <p:nvPr/>
            </p:nvSpPr>
            <p:spPr>
              <a:xfrm>
                <a:off x="1212840" y="4919760"/>
                <a:ext cx="62485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OĞA DERGİLERİNİ VE BELGESELLERİ İZLER</a:t>
                </a: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p:txBody>
          </p:sp>
          <p:sp>
            <p:nvSpPr>
              <p:cNvPr id="862" name=""/>
              <p:cNvSpPr/>
              <p:nvPr/>
            </p:nvSpPr>
            <p:spPr>
              <a:xfrm>
                <a:off x="1219320" y="6095880"/>
                <a:ext cx="62481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OĞAYLA BAŞBAŞA KALMAYI SEVER</a:t>
                </a:r>
                <a:endParaRPr b="0" lang="en-US" sz="1800" spc="-1" strike="noStrike">
                  <a:solidFill>
                    <a:srgbClr val="ffffff"/>
                  </a:solidFill>
                  <a:latin typeface="Times New Roman"/>
                </a:endParaRPr>
              </a:p>
            </p:txBody>
          </p:sp>
        </p:grpSp>
        <p:sp>
          <p:nvSpPr>
            <p:cNvPr id="863" name=""/>
            <p:cNvSpPr txBox="1"/>
            <p:nvPr/>
          </p:nvSpPr>
          <p:spPr>
            <a:xfrm>
              <a:off x="1828800" y="2286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00"/>
                    </a:solidFill>
                    <a:miter/>
                  </a:ln>
                  <a:solidFill>
                    <a:srgbClr val="000000">
                      <a:alpha val="50000"/>
                    </a:srgbClr>
                  </a:solidFill>
                  <a:effectLst>
                    <a:outerShdw dist="40186" dir="1096358" blurRad="0" rotWithShape="0">
                      <a:srgbClr val="9999ff"/>
                    </a:outerShdw>
                  </a:effectLst>
                  <a:latin typeface="Arial Black"/>
                </a:rPr>
                <a:t>DOĞA ZEKASI</a:t>
              </a:r>
              <a:endParaRPr b="0" lang="en-US" sz="2400" spc="1" strike="noStrike">
                <a:ln w="12600">
                  <a:solidFill>
                    <a:srgbClr val="ffff00"/>
                  </a:solidFill>
                  <a:miter/>
                </a:ln>
                <a:solidFill>
                  <a:srgbClr val="000000">
                    <a:alpha val="50000"/>
                  </a:srgbClr>
                </a:solidFill>
                <a:effectLst>
                  <a:outerShdw dist="40186" dir="1096358" blurRad="0" rotWithShape="0">
                    <a:srgbClr val="9999ff"/>
                  </a:outerShdw>
                </a:effectLst>
                <a:latin typeface="Arial Black"/>
                <a:ea typeface="Arial Black"/>
              </a:endParaRPr>
            </a:p>
          </p:txBody>
        </p:sp>
      </p:gr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4" name=""/>
          <p:cNvGrpSpPr/>
          <p:nvPr/>
        </p:nvGrpSpPr>
        <p:grpSpPr>
          <a:xfrm>
            <a:off x="609480" y="304920"/>
            <a:ext cx="7924680" cy="6247800"/>
            <a:chOff x="609480" y="304920"/>
            <a:chExt cx="7924680" cy="6247800"/>
          </a:xfrm>
        </p:grpSpPr>
        <p:grpSp>
          <p:nvGrpSpPr>
            <p:cNvPr id="865" name=""/>
            <p:cNvGrpSpPr/>
            <p:nvPr/>
          </p:nvGrpSpPr>
          <p:grpSpPr>
            <a:xfrm>
              <a:off x="614880" y="310680"/>
              <a:ext cx="7912800" cy="6234840"/>
              <a:chOff x="614880" y="310680"/>
              <a:chExt cx="7912800" cy="6234840"/>
            </a:xfrm>
          </p:grpSpPr>
          <p:grpSp>
            <p:nvGrpSpPr>
              <p:cNvPr id="866" name=""/>
              <p:cNvGrpSpPr/>
              <p:nvPr/>
            </p:nvGrpSpPr>
            <p:grpSpPr>
              <a:xfrm>
                <a:off x="614880" y="310680"/>
                <a:ext cx="1882800" cy="876600"/>
                <a:chOff x="614880" y="310680"/>
                <a:chExt cx="1882800" cy="876600"/>
              </a:xfrm>
            </p:grpSpPr>
            <p:sp>
              <p:nvSpPr>
                <p:cNvPr id="867" name=""/>
                <p:cNvSpPr/>
                <p:nvPr/>
              </p:nvSpPr>
              <p:spPr>
                <a:xfrm>
                  <a:off x="614880" y="310680"/>
                  <a:ext cx="1882800" cy="876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614880" y="310680"/>
                  <a:ext cx="1882440" cy="876240"/>
                  <a:chOff x="614880" y="310680"/>
                  <a:chExt cx="1882440" cy="876240"/>
                </a:xfrm>
              </p:grpSpPr>
              <p:sp>
                <p:nvSpPr>
                  <p:cNvPr id="869" name=""/>
                  <p:cNvSpPr/>
                  <p:nvPr/>
                </p:nvSpPr>
                <p:spPr>
                  <a:xfrm>
                    <a:off x="667800" y="310680"/>
                    <a:ext cx="1776600" cy="876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SLEK</a:t>
                    </a:r>
                    <a:endParaRPr b="0" lang="en-US" sz="1800" spc="-1" strike="noStrike">
                      <a:solidFill>
                        <a:srgbClr val="ffffff"/>
                      </a:solidFill>
                      <a:latin typeface="Times New Roman"/>
                    </a:endParaRPr>
                  </a:p>
                </p:txBody>
              </p:sp>
              <p:sp>
                <p:nvSpPr>
                  <p:cNvPr id="870" name=""/>
                  <p:cNvSpPr/>
                  <p:nvPr/>
                </p:nvSpPr>
                <p:spPr>
                  <a:xfrm>
                    <a:off x="614880" y="310680"/>
                    <a:ext cx="1882440" cy="876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71" name=""/>
              <p:cNvGrpSpPr/>
              <p:nvPr/>
            </p:nvGrpSpPr>
            <p:grpSpPr>
              <a:xfrm>
                <a:off x="2498040" y="310680"/>
                <a:ext cx="1939680" cy="876600"/>
                <a:chOff x="2498040" y="310680"/>
                <a:chExt cx="1939680" cy="876600"/>
              </a:xfrm>
            </p:grpSpPr>
            <p:sp>
              <p:nvSpPr>
                <p:cNvPr id="872" name=""/>
                <p:cNvSpPr/>
                <p:nvPr/>
              </p:nvSpPr>
              <p:spPr>
                <a:xfrm>
                  <a:off x="2498040" y="310680"/>
                  <a:ext cx="1939680" cy="876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3" name=""/>
                <p:cNvGrpSpPr/>
                <p:nvPr/>
              </p:nvGrpSpPr>
              <p:grpSpPr>
                <a:xfrm>
                  <a:off x="2498040" y="310680"/>
                  <a:ext cx="1939320" cy="876240"/>
                  <a:chOff x="2498040" y="310680"/>
                  <a:chExt cx="1939320" cy="876240"/>
                </a:xfrm>
              </p:grpSpPr>
              <p:sp>
                <p:nvSpPr>
                  <p:cNvPr id="874" name=""/>
                  <p:cNvSpPr/>
                  <p:nvPr/>
                </p:nvSpPr>
                <p:spPr>
                  <a:xfrm>
                    <a:off x="2551320" y="310680"/>
                    <a:ext cx="1833120" cy="876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EYLEM</a:t>
                    </a:r>
                    <a:endParaRPr b="0" lang="en-US" sz="1800" spc="-1" strike="noStrike">
                      <a:solidFill>
                        <a:srgbClr val="ffffff"/>
                      </a:solidFill>
                      <a:latin typeface="Times New Roman"/>
                    </a:endParaRPr>
                  </a:p>
                </p:txBody>
              </p:sp>
              <p:sp>
                <p:nvSpPr>
                  <p:cNvPr id="875" name=""/>
                  <p:cNvSpPr/>
                  <p:nvPr/>
                </p:nvSpPr>
                <p:spPr>
                  <a:xfrm>
                    <a:off x="2498040" y="310680"/>
                    <a:ext cx="1939320" cy="876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76" name=""/>
              <p:cNvGrpSpPr/>
              <p:nvPr/>
            </p:nvGrpSpPr>
            <p:grpSpPr>
              <a:xfrm>
                <a:off x="4438080" y="310680"/>
                <a:ext cx="1747800" cy="876600"/>
                <a:chOff x="4438080" y="310680"/>
                <a:chExt cx="1747800" cy="876600"/>
              </a:xfrm>
            </p:grpSpPr>
            <p:sp>
              <p:nvSpPr>
                <p:cNvPr id="877" name=""/>
                <p:cNvSpPr/>
                <p:nvPr/>
              </p:nvSpPr>
              <p:spPr>
                <a:xfrm>
                  <a:off x="4438080" y="310680"/>
                  <a:ext cx="1747800" cy="876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8" name=""/>
                <p:cNvGrpSpPr/>
                <p:nvPr/>
              </p:nvGrpSpPr>
              <p:grpSpPr>
                <a:xfrm>
                  <a:off x="4438080" y="310680"/>
                  <a:ext cx="1747440" cy="876240"/>
                  <a:chOff x="4438080" y="310680"/>
                  <a:chExt cx="1747440" cy="876240"/>
                </a:xfrm>
              </p:grpSpPr>
              <p:sp>
                <p:nvSpPr>
                  <p:cNvPr id="879" name=""/>
                  <p:cNvSpPr/>
                  <p:nvPr/>
                </p:nvSpPr>
                <p:spPr>
                  <a:xfrm>
                    <a:off x="4491360" y="310680"/>
                    <a:ext cx="1641240" cy="876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a:t>
                    </a:r>
                    <a:endParaRPr b="0" lang="en-US" sz="1800" spc="-1" strike="noStrike">
                      <a:solidFill>
                        <a:srgbClr val="ffffff"/>
                      </a:solidFill>
                      <a:latin typeface="Times New Roman"/>
                    </a:endParaRPr>
                  </a:p>
                </p:txBody>
              </p:sp>
              <p:sp>
                <p:nvSpPr>
                  <p:cNvPr id="880" name=""/>
                  <p:cNvSpPr/>
                  <p:nvPr/>
                </p:nvSpPr>
                <p:spPr>
                  <a:xfrm>
                    <a:off x="4438080" y="310680"/>
                    <a:ext cx="1747440" cy="876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81" name=""/>
              <p:cNvGrpSpPr/>
              <p:nvPr/>
            </p:nvGrpSpPr>
            <p:grpSpPr>
              <a:xfrm>
                <a:off x="6186600" y="310680"/>
                <a:ext cx="2341080" cy="876600"/>
                <a:chOff x="6186600" y="310680"/>
                <a:chExt cx="2341080" cy="876600"/>
              </a:xfrm>
            </p:grpSpPr>
            <p:sp>
              <p:nvSpPr>
                <p:cNvPr id="882" name=""/>
                <p:cNvSpPr/>
                <p:nvPr/>
              </p:nvSpPr>
              <p:spPr>
                <a:xfrm>
                  <a:off x="6186600" y="310680"/>
                  <a:ext cx="2341080" cy="87660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3" name=""/>
                <p:cNvGrpSpPr/>
                <p:nvPr/>
              </p:nvGrpSpPr>
              <p:grpSpPr>
                <a:xfrm>
                  <a:off x="6186600" y="310680"/>
                  <a:ext cx="2340720" cy="876240"/>
                  <a:chOff x="6186600" y="310680"/>
                  <a:chExt cx="2340720" cy="876240"/>
                </a:xfrm>
              </p:grpSpPr>
              <p:sp>
                <p:nvSpPr>
                  <p:cNvPr id="884" name=""/>
                  <p:cNvSpPr/>
                  <p:nvPr/>
                </p:nvSpPr>
                <p:spPr>
                  <a:xfrm>
                    <a:off x="6239880" y="310680"/>
                    <a:ext cx="2234520" cy="87624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 DIŞI</a:t>
                    </a:r>
                    <a:endParaRPr b="0" lang="en-US" sz="1800" spc="-1" strike="noStrike">
                      <a:solidFill>
                        <a:srgbClr val="ffffff"/>
                      </a:solidFill>
                      <a:latin typeface="Times New Roman"/>
                    </a:endParaRPr>
                  </a:p>
                </p:txBody>
              </p:sp>
              <p:sp>
                <p:nvSpPr>
                  <p:cNvPr id="885" name=""/>
                  <p:cNvSpPr/>
                  <p:nvPr/>
                </p:nvSpPr>
                <p:spPr>
                  <a:xfrm>
                    <a:off x="6186600" y="310680"/>
                    <a:ext cx="2340720" cy="87624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86" name=""/>
              <p:cNvGrpSpPr/>
              <p:nvPr/>
            </p:nvGrpSpPr>
            <p:grpSpPr>
              <a:xfrm>
                <a:off x="614880" y="1187640"/>
                <a:ext cx="1882800" cy="5357880"/>
                <a:chOff x="614880" y="1187640"/>
                <a:chExt cx="1882800" cy="5357880"/>
              </a:xfrm>
            </p:grpSpPr>
            <p:sp>
              <p:nvSpPr>
                <p:cNvPr id="887" name=""/>
                <p:cNvSpPr/>
                <p:nvPr/>
              </p:nvSpPr>
              <p:spPr>
                <a:xfrm>
                  <a:off x="667800" y="1187640"/>
                  <a:ext cx="1776960" cy="53578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Ziraat Mühendi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Çiçekç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Zoolog</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ahçıva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Ziraat teknisyen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iyolo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Pet shop sahib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Jeolog</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Veterin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Çevre bilim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Peyzaj mim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itki bilim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Astrono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Hayvan terbiyecisi</a:t>
                  </a:r>
                  <a:endParaRPr b="0" lang="en-US" sz="1800" spc="-1" strike="noStrike">
                    <a:solidFill>
                      <a:srgbClr val="ffffff"/>
                    </a:solidFill>
                    <a:latin typeface="Times New Roman"/>
                  </a:endParaRPr>
                </a:p>
              </p:txBody>
            </p:sp>
            <p:sp>
              <p:nvSpPr>
                <p:cNvPr id="888" name=""/>
                <p:cNvSpPr/>
                <p:nvPr/>
              </p:nvSpPr>
              <p:spPr>
                <a:xfrm>
                  <a:off x="614880" y="1187640"/>
                  <a:ext cx="1882800" cy="53578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2498040" y="1187640"/>
                <a:ext cx="1939680" cy="5357880"/>
                <a:chOff x="2498040" y="1187640"/>
                <a:chExt cx="1939680" cy="5357880"/>
              </a:xfrm>
            </p:grpSpPr>
            <p:sp>
              <p:nvSpPr>
                <p:cNvPr id="890" name=""/>
                <p:cNvSpPr/>
                <p:nvPr/>
              </p:nvSpPr>
              <p:spPr>
                <a:xfrm>
                  <a:off x="2551320" y="1187640"/>
                  <a:ext cx="1833480" cy="53578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Göz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ahmin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ınıflandı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ategorize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Çözüm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otoğraf çe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eyahat 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z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itki yetişti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ayvan eği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oleksiyon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raştı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eşfet</a:t>
                  </a:r>
                  <a:endParaRPr b="0" lang="en-US" sz="1800" spc="-1" strike="noStrike">
                    <a:solidFill>
                      <a:srgbClr val="ffffff"/>
                    </a:solidFill>
                    <a:latin typeface="Times New Roman"/>
                  </a:endParaRPr>
                </a:p>
              </p:txBody>
            </p:sp>
            <p:sp>
              <p:nvSpPr>
                <p:cNvPr id="891" name=""/>
                <p:cNvSpPr/>
                <p:nvPr/>
              </p:nvSpPr>
              <p:spPr>
                <a:xfrm>
                  <a:off x="2498040" y="1187640"/>
                  <a:ext cx="1939680" cy="53578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2" name=""/>
              <p:cNvGrpSpPr/>
              <p:nvPr/>
            </p:nvGrpSpPr>
            <p:grpSpPr>
              <a:xfrm>
                <a:off x="4438080" y="1187640"/>
                <a:ext cx="1747800" cy="5357880"/>
                <a:chOff x="4438080" y="1187640"/>
                <a:chExt cx="1747800" cy="5357880"/>
              </a:xfrm>
            </p:grpSpPr>
            <p:sp>
              <p:nvSpPr>
                <p:cNvPr id="893" name=""/>
                <p:cNvSpPr/>
                <p:nvPr/>
              </p:nvSpPr>
              <p:spPr>
                <a:xfrm>
                  <a:off x="4491360" y="1187640"/>
                  <a:ext cx="1641600" cy="53578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ayat </a:t>
                  </a:r>
                  <a:r>
                    <a:rPr b="1" lang="en-US" sz="1800" spc="-1" strike="noStrike">
                      <a:solidFill>
                        <a:srgbClr val="000000"/>
                      </a:solidFill>
                      <a:latin typeface="Comic Sans MS"/>
                    </a:rPr>
                    <a:t>     B</a:t>
                  </a:r>
                  <a:r>
                    <a:rPr b="1" lang="en-US" sz="1800" spc="-1" strike="noStrike">
                      <a:solidFill>
                        <a:srgbClr val="000000"/>
                      </a:solidFill>
                      <a:latin typeface="Comic Sans MS"/>
                      <a:ea typeface="Times New Roman"/>
                    </a:rPr>
                    <a:t>ilgis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en</a:t>
                  </a:r>
                  <a:r>
                    <a:rPr b="1" lang="en-US" sz="1800" spc="-1" strike="noStrike">
                      <a:solidFill>
                        <a:srgbClr val="000000"/>
                      </a:solidFill>
                      <a:latin typeface="Comic Sans MS"/>
                    </a:rPr>
                    <a:t> B</a:t>
                  </a:r>
                  <a:r>
                    <a:rPr b="1" lang="en-US" sz="1800" spc="-1" strike="noStrike">
                      <a:solidFill>
                        <a:srgbClr val="000000"/>
                      </a:solidFill>
                      <a:latin typeface="Comic Sans MS"/>
                      <a:ea typeface="Times New Roman"/>
                    </a:rPr>
                    <a:t>ilgisi Matemat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ağlı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ürkçe</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4" name=""/>
                <p:cNvSpPr/>
                <p:nvPr/>
              </p:nvSpPr>
              <p:spPr>
                <a:xfrm>
                  <a:off x="4438080" y="1187640"/>
                  <a:ext cx="1747800" cy="53578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5" name=""/>
              <p:cNvGrpSpPr/>
              <p:nvPr/>
            </p:nvGrpSpPr>
            <p:grpSpPr>
              <a:xfrm>
                <a:off x="6186600" y="1187640"/>
                <a:ext cx="2341080" cy="5357880"/>
                <a:chOff x="6186600" y="1187640"/>
                <a:chExt cx="2341080" cy="5357880"/>
              </a:xfrm>
            </p:grpSpPr>
            <p:sp>
              <p:nvSpPr>
                <p:cNvPr id="896" name=""/>
                <p:cNvSpPr/>
                <p:nvPr/>
              </p:nvSpPr>
              <p:spPr>
                <a:xfrm>
                  <a:off x="6239880" y="1187640"/>
                  <a:ext cx="2234880" cy="53578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oğa gez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üze gez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iknik yap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oleksiyon yap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zcilik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ağcılı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amp yap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u alt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ncelem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kvaryum bakım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otoğrafçılık</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
                <p:cNvSpPr/>
                <p:nvPr/>
              </p:nvSpPr>
              <p:spPr>
                <a:xfrm>
                  <a:off x="6186600" y="1187640"/>
                  <a:ext cx="2341080" cy="53578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98" name=""/>
            <p:cNvSpPr/>
            <p:nvPr/>
          </p:nvSpPr>
          <p:spPr>
            <a:xfrm>
              <a:off x="609480" y="304920"/>
              <a:ext cx="7924680" cy="624780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dissolv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3" presetSubtype="528">
                                  <p:stCondLst>
                                    <p:cond delay="0"/>
                                  </p:stCondLst>
                                  <p:childTnLst>
                                    <p:set>
                                      <p:cBhvr>
                                        <p:cTn id="842" dur="1" fill="hold">
                                          <p:stCondLst>
                                            <p:cond delay="0"/>
                                          </p:stCondLst>
                                        </p:cTn>
                                        <p:tgtEl>
                                          <p:spTgt spid="864"/>
                                        </p:tgtEl>
                                        <p:attrNameLst>
                                          <p:attrName>style.visibility</p:attrName>
                                        </p:attrNameLst>
                                      </p:cBhvr>
                                      <p:to>
                                        <p:strVal val="visible"/>
                                      </p:to>
                                    </p:set>
                                    <p:anim calcmode="lin" valueType="num">
                                      <p:cBhvr additive="repl">
                                        <p:cTn id="843" dur="500" fill="hold"/>
                                        <p:tgtEl>
                                          <p:spTgt spid="864"/>
                                        </p:tgtEl>
                                        <p:attrNameLst>
                                          <p:attrName>ppt_w</p:attrName>
                                        </p:attrNameLst>
                                      </p:cBhvr>
                                      <p:tavLst>
                                        <p:tav tm="0">
                                          <p:val>
                                            <p:fltVal val="0"/>
                                          </p:val>
                                        </p:tav>
                                        <p:tav tm="100000">
                                          <p:val>
                                            <p:strVal val="#ppt_w"/>
                                          </p:val>
                                        </p:tav>
                                      </p:tavLst>
                                    </p:anim>
                                    <p:anim calcmode="lin" valueType="num">
                                      <p:cBhvr additive="repl">
                                        <p:cTn id="844" dur="500" fill="hold"/>
                                        <p:tgtEl>
                                          <p:spTgt spid="864"/>
                                        </p:tgtEl>
                                        <p:attrNameLst>
                                          <p:attrName>ppt_h</p:attrName>
                                        </p:attrNameLst>
                                      </p:cBhvr>
                                      <p:tavLst>
                                        <p:tav tm="0">
                                          <p:val>
                                            <p:fltVal val="0"/>
                                          </p:val>
                                        </p:tav>
                                        <p:tav tm="100000">
                                          <p:val>
                                            <p:strVal val="#ppt_h"/>
                                          </p:val>
                                        </p:tav>
                                      </p:tavLst>
                                    </p:anim>
                                    <p:anim calcmode="lin" valueType="num">
                                      <p:cBhvr additive="repl">
                                        <p:cTn id="845" dur="500" fill="hold"/>
                                        <p:tgtEl>
                                          <p:spTgt spid="864"/>
                                        </p:tgtEl>
                                        <p:attrNameLst>
                                          <p:attrName>ppt_x</p:attrName>
                                        </p:attrNameLst>
                                      </p:cBhvr>
                                      <p:tavLst>
                                        <p:tav tm="0">
                                          <p:val>
                                            <p:fltVal val="0.5"/>
                                          </p:val>
                                        </p:tav>
                                        <p:tav tm="100000">
                                          <p:val>
                                            <p:strVal val="#ppt_x"/>
                                          </p:val>
                                        </p:tav>
                                      </p:tavLst>
                                    </p:anim>
                                    <p:anim calcmode="lin" valueType="num">
                                      <p:cBhvr additive="repl">
                                        <p:cTn id="846" dur="500" fill="hold"/>
                                        <p:tgtEl>
                                          <p:spTgt spid="8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9" name=""/>
          <p:cNvGrpSpPr/>
          <p:nvPr/>
        </p:nvGrpSpPr>
        <p:grpSpPr>
          <a:xfrm>
            <a:off x="533520" y="304920"/>
            <a:ext cx="8305560" cy="5646240"/>
            <a:chOff x="533520" y="304920"/>
            <a:chExt cx="8305560" cy="5646240"/>
          </a:xfrm>
        </p:grpSpPr>
        <p:grpSp>
          <p:nvGrpSpPr>
            <p:cNvPr id="900" name=""/>
            <p:cNvGrpSpPr/>
            <p:nvPr/>
          </p:nvGrpSpPr>
          <p:grpSpPr>
            <a:xfrm>
              <a:off x="533520" y="1447920"/>
              <a:ext cx="8305560" cy="4503240"/>
              <a:chOff x="533520" y="1447920"/>
              <a:chExt cx="8305560" cy="4503240"/>
            </a:xfrm>
          </p:grpSpPr>
          <p:sp>
            <p:nvSpPr>
              <p:cNvPr id="901" name=""/>
              <p:cNvSpPr/>
              <p:nvPr/>
            </p:nvSpPr>
            <p:spPr>
              <a:xfrm>
                <a:off x="533520" y="1447920"/>
                <a:ext cx="83055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UYGULARINI BELİRGİN OLARAK VUCUT DİLİYLE İFADE </a:t>
                </a:r>
                <a:r>
                  <a:rPr b="1" lang="en-US" sz="1800" spc="-1" strike="noStrike">
                    <a:solidFill>
                      <a:srgbClr val="000000"/>
                    </a:solidFill>
                    <a:latin typeface="Comic Sans MS"/>
                  </a:rPr>
                  <a:t>E</a:t>
                </a:r>
                <a:r>
                  <a:rPr b="1" lang="en-US" sz="1800" spc="-1" strike="noStrike">
                    <a:solidFill>
                      <a:srgbClr val="000000"/>
                    </a:solidFill>
                    <a:latin typeface="Comic Sans MS"/>
                    <a:ea typeface="Times New Roman"/>
                  </a:rPr>
                  <a:t>DER</a:t>
                </a:r>
                <a:endParaRPr b="0" lang="en-US" sz="1800" spc="-1" strike="noStrike">
                  <a:solidFill>
                    <a:srgbClr val="ffffff"/>
                  </a:solidFill>
                  <a:latin typeface="Times New Roman"/>
                </a:endParaRPr>
              </a:p>
            </p:txBody>
          </p:sp>
          <p:sp>
            <p:nvSpPr>
              <p:cNvPr id="902" name=""/>
              <p:cNvSpPr/>
              <p:nvPr/>
            </p:nvSpPr>
            <p:spPr>
              <a:xfrm>
                <a:off x="533520" y="2230560"/>
                <a:ext cx="830556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OYA VE HAMURLA OYNAMAYI SEVER </a:t>
                </a:r>
                <a:endParaRPr b="0" lang="en-US" sz="1800" spc="-1" strike="noStrike">
                  <a:solidFill>
                    <a:srgbClr val="ffffff"/>
                  </a:solidFill>
                  <a:latin typeface="Times New Roman"/>
                </a:endParaRPr>
              </a:p>
            </p:txBody>
          </p:sp>
          <p:sp>
            <p:nvSpPr>
              <p:cNvPr id="903" name=""/>
              <p:cNvSpPr/>
              <p:nvPr/>
            </p:nvSpPr>
            <p:spPr>
              <a:xfrm>
                <a:off x="539640" y="2986200"/>
                <a:ext cx="82994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NESNELERİ PARÇALAYIP BÜTÜNLEŞTİRMEYİ SEVER</a:t>
                </a:r>
                <a:endParaRPr b="0" lang="en-US" sz="1800" spc="-1" strike="noStrike">
                  <a:solidFill>
                    <a:srgbClr val="ffffff"/>
                  </a:solidFill>
                  <a:latin typeface="Times New Roman"/>
                </a:endParaRPr>
              </a:p>
            </p:txBody>
          </p:sp>
          <p:sp>
            <p:nvSpPr>
              <p:cNvPr id="904" name=""/>
              <p:cNvSpPr/>
              <p:nvPr/>
            </p:nvSpPr>
            <p:spPr>
              <a:xfrm>
                <a:off x="539640" y="3747960"/>
                <a:ext cx="8299440" cy="368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BİR VEYA DAHA FAZLA SPORLA UĞRAŞIR </a:t>
                </a:r>
                <a:endParaRPr b="0" lang="en-US" sz="1800" spc="-1" strike="noStrike">
                  <a:solidFill>
                    <a:srgbClr val="ffffff"/>
                  </a:solidFill>
                  <a:latin typeface="Times New Roman"/>
                </a:endParaRPr>
              </a:p>
            </p:txBody>
          </p:sp>
          <p:sp>
            <p:nvSpPr>
              <p:cNvPr id="905" name=""/>
              <p:cNvSpPr/>
              <p:nvPr/>
            </p:nvSpPr>
            <p:spPr>
              <a:xfrm>
                <a:off x="533520" y="4537080"/>
                <a:ext cx="83055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ÜÇÜK KAS GELİŞİMİ MÜKEMMELDİR</a:t>
                </a:r>
                <a:endParaRPr b="0" lang="en-US" sz="1800" spc="-1" strike="noStrike">
                  <a:solidFill>
                    <a:srgbClr val="ffffff"/>
                  </a:solidFill>
                  <a:latin typeface="Times New Roman"/>
                </a:endParaRPr>
              </a:p>
            </p:txBody>
          </p:sp>
          <p:sp>
            <p:nvSpPr>
              <p:cNvPr id="906" name=""/>
              <p:cNvSpPr/>
              <p:nvPr/>
            </p:nvSpPr>
            <p:spPr>
              <a:xfrm>
                <a:off x="539640" y="5308560"/>
                <a:ext cx="82994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UZUN SÜRE OTURDUĞUNDA ELLERİ VE AYAKLARIYLA</a:t>
                </a:r>
                <a:r>
                  <a:rPr b="1" lang="en-US" sz="1800" spc="-1" strike="noStrike">
                    <a:solidFill>
                      <a:srgbClr val="0000a4"/>
                    </a:solidFill>
                    <a:latin typeface="Comic Sans MS"/>
                  </a:rPr>
                  <a:t> </a:t>
                </a:r>
                <a:r>
                  <a:rPr b="1" lang="en-US" sz="1800" spc="-1" strike="noStrike">
                    <a:solidFill>
                      <a:srgbClr val="0000a4"/>
                    </a:solidFill>
                    <a:latin typeface="Comic Sans MS"/>
                    <a:ea typeface="Times New Roman"/>
                  </a:rPr>
                  <a:t>OYNAR YERİNDE DURAMAZ</a:t>
                </a:r>
                <a:endParaRPr b="0" lang="en-US" sz="1800" spc="-1" strike="noStrike">
                  <a:solidFill>
                    <a:srgbClr val="ffffff"/>
                  </a:solidFill>
                  <a:latin typeface="Times New Roman"/>
                </a:endParaRPr>
              </a:p>
            </p:txBody>
          </p:sp>
        </p:grpSp>
        <p:sp>
          <p:nvSpPr>
            <p:cNvPr id="907" name=""/>
            <p:cNvSpPr txBox="1"/>
            <p:nvPr/>
          </p:nvSpPr>
          <p:spPr>
            <a:xfrm>
              <a:off x="1676520" y="304920"/>
              <a:ext cx="5790960" cy="761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Arial Black"/>
                </a:rPr>
                <a:t>BEDENSEL KİNESTETİK</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p:txBody>
        </p:sp>
      </p:gr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8" name=""/>
          <p:cNvGrpSpPr/>
          <p:nvPr/>
        </p:nvGrpSpPr>
        <p:grpSpPr>
          <a:xfrm>
            <a:off x="457200" y="762120"/>
            <a:ext cx="8152920" cy="5409720"/>
            <a:chOff x="457200" y="762120"/>
            <a:chExt cx="8152920" cy="5409720"/>
          </a:xfrm>
        </p:grpSpPr>
        <p:grpSp>
          <p:nvGrpSpPr>
            <p:cNvPr id="909" name=""/>
            <p:cNvGrpSpPr/>
            <p:nvPr/>
          </p:nvGrpSpPr>
          <p:grpSpPr>
            <a:xfrm>
              <a:off x="462960" y="768600"/>
              <a:ext cx="8140320" cy="5395320"/>
              <a:chOff x="462960" y="768600"/>
              <a:chExt cx="8140320" cy="5395320"/>
            </a:xfrm>
          </p:grpSpPr>
          <p:grpSp>
            <p:nvGrpSpPr>
              <p:cNvPr id="910" name=""/>
              <p:cNvGrpSpPr/>
              <p:nvPr/>
            </p:nvGrpSpPr>
            <p:grpSpPr>
              <a:xfrm>
                <a:off x="462960" y="768600"/>
                <a:ext cx="1734120" cy="1023480"/>
                <a:chOff x="462960" y="768600"/>
                <a:chExt cx="1734120" cy="1023480"/>
              </a:xfrm>
            </p:grpSpPr>
            <p:sp>
              <p:nvSpPr>
                <p:cNvPr id="911" name=""/>
                <p:cNvSpPr/>
                <p:nvPr/>
              </p:nvSpPr>
              <p:spPr>
                <a:xfrm>
                  <a:off x="462960" y="768600"/>
                  <a:ext cx="1734120" cy="10234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2" name=""/>
                <p:cNvGrpSpPr/>
                <p:nvPr/>
              </p:nvGrpSpPr>
              <p:grpSpPr>
                <a:xfrm>
                  <a:off x="462960" y="768600"/>
                  <a:ext cx="1733760" cy="1023120"/>
                  <a:chOff x="462960" y="768600"/>
                  <a:chExt cx="1733760" cy="1023120"/>
                </a:xfrm>
              </p:grpSpPr>
              <p:sp>
                <p:nvSpPr>
                  <p:cNvPr id="913" name=""/>
                  <p:cNvSpPr/>
                  <p:nvPr/>
                </p:nvSpPr>
                <p:spPr>
                  <a:xfrm>
                    <a:off x="517320" y="768600"/>
                    <a:ext cx="1624680" cy="10231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SLE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4" name=""/>
                  <p:cNvSpPr/>
                  <p:nvPr/>
                </p:nvSpPr>
                <p:spPr>
                  <a:xfrm>
                    <a:off x="462960" y="768600"/>
                    <a:ext cx="1733760" cy="10231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15" name=""/>
              <p:cNvGrpSpPr/>
              <p:nvPr/>
            </p:nvGrpSpPr>
            <p:grpSpPr>
              <a:xfrm>
                <a:off x="2197440" y="768600"/>
                <a:ext cx="2170800" cy="1023480"/>
                <a:chOff x="2197440" y="768600"/>
                <a:chExt cx="2170800" cy="1023480"/>
              </a:xfrm>
            </p:grpSpPr>
            <p:sp>
              <p:nvSpPr>
                <p:cNvPr id="916" name=""/>
                <p:cNvSpPr/>
                <p:nvPr/>
              </p:nvSpPr>
              <p:spPr>
                <a:xfrm>
                  <a:off x="2197440" y="768600"/>
                  <a:ext cx="2170800" cy="10234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7" name=""/>
                <p:cNvGrpSpPr/>
                <p:nvPr/>
              </p:nvGrpSpPr>
              <p:grpSpPr>
                <a:xfrm>
                  <a:off x="2197440" y="768600"/>
                  <a:ext cx="2170440" cy="1023120"/>
                  <a:chOff x="2197440" y="768600"/>
                  <a:chExt cx="2170440" cy="1023120"/>
                </a:xfrm>
              </p:grpSpPr>
              <p:sp>
                <p:nvSpPr>
                  <p:cNvPr id="918" name=""/>
                  <p:cNvSpPr/>
                  <p:nvPr/>
                </p:nvSpPr>
                <p:spPr>
                  <a:xfrm>
                    <a:off x="2251800" y="768600"/>
                    <a:ext cx="2061360" cy="10231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İ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9" name=""/>
                  <p:cNvSpPr/>
                  <p:nvPr/>
                </p:nvSpPr>
                <p:spPr>
                  <a:xfrm>
                    <a:off x="2197440" y="768600"/>
                    <a:ext cx="2170440" cy="10231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0" name=""/>
              <p:cNvGrpSpPr/>
              <p:nvPr/>
            </p:nvGrpSpPr>
            <p:grpSpPr>
              <a:xfrm>
                <a:off x="4368600" y="768600"/>
                <a:ext cx="1955880" cy="1023480"/>
                <a:chOff x="4368600" y="768600"/>
                <a:chExt cx="1955880" cy="1023480"/>
              </a:xfrm>
            </p:grpSpPr>
            <p:sp>
              <p:nvSpPr>
                <p:cNvPr id="921" name=""/>
                <p:cNvSpPr/>
                <p:nvPr/>
              </p:nvSpPr>
              <p:spPr>
                <a:xfrm>
                  <a:off x="4368600" y="768600"/>
                  <a:ext cx="1955880" cy="10234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22" name=""/>
                <p:cNvGrpSpPr/>
                <p:nvPr/>
              </p:nvGrpSpPr>
              <p:grpSpPr>
                <a:xfrm>
                  <a:off x="4368600" y="768600"/>
                  <a:ext cx="1955520" cy="1023120"/>
                  <a:chOff x="4368600" y="768600"/>
                  <a:chExt cx="1955520" cy="1023120"/>
                </a:xfrm>
              </p:grpSpPr>
              <p:sp>
                <p:nvSpPr>
                  <p:cNvPr id="923" name=""/>
                  <p:cNvSpPr/>
                  <p:nvPr/>
                </p:nvSpPr>
                <p:spPr>
                  <a:xfrm>
                    <a:off x="4423320" y="768600"/>
                    <a:ext cx="1845360" cy="10231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4" name=""/>
                  <p:cNvSpPr/>
                  <p:nvPr/>
                </p:nvSpPr>
                <p:spPr>
                  <a:xfrm>
                    <a:off x="4368600" y="768600"/>
                    <a:ext cx="1955520" cy="10231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6324840" y="768600"/>
                <a:ext cx="2278440" cy="1023480"/>
                <a:chOff x="6324840" y="768600"/>
                <a:chExt cx="2278440" cy="1023480"/>
              </a:xfrm>
            </p:grpSpPr>
            <p:sp>
              <p:nvSpPr>
                <p:cNvPr id="926" name=""/>
                <p:cNvSpPr/>
                <p:nvPr/>
              </p:nvSpPr>
              <p:spPr>
                <a:xfrm>
                  <a:off x="6324840" y="768600"/>
                  <a:ext cx="2278440" cy="10234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27" name=""/>
                <p:cNvGrpSpPr/>
                <p:nvPr/>
              </p:nvGrpSpPr>
              <p:grpSpPr>
                <a:xfrm>
                  <a:off x="6324840" y="768600"/>
                  <a:ext cx="2278080" cy="1023120"/>
                  <a:chOff x="6324840" y="768600"/>
                  <a:chExt cx="2278080" cy="1023120"/>
                </a:xfrm>
              </p:grpSpPr>
              <p:sp>
                <p:nvSpPr>
                  <p:cNvPr id="928" name=""/>
                  <p:cNvSpPr/>
                  <p:nvPr/>
                </p:nvSpPr>
                <p:spPr>
                  <a:xfrm>
                    <a:off x="6379200" y="768600"/>
                    <a:ext cx="2168640" cy="10231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 DIŞ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9" name=""/>
                  <p:cNvSpPr/>
                  <p:nvPr/>
                </p:nvSpPr>
                <p:spPr>
                  <a:xfrm>
                    <a:off x="6324840" y="768600"/>
                    <a:ext cx="2278080" cy="10231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0" name=""/>
              <p:cNvGrpSpPr/>
              <p:nvPr/>
            </p:nvGrpSpPr>
            <p:grpSpPr>
              <a:xfrm>
                <a:off x="462960" y="1792440"/>
                <a:ext cx="1734120" cy="4371480"/>
                <a:chOff x="462960" y="1792440"/>
                <a:chExt cx="1734120" cy="4371480"/>
              </a:xfrm>
            </p:grpSpPr>
            <p:sp>
              <p:nvSpPr>
                <p:cNvPr id="931" name=""/>
                <p:cNvSpPr/>
                <p:nvPr/>
              </p:nvSpPr>
              <p:spPr>
                <a:xfrm>
                  <a:off x="517320" y="1792440"/>
                  <a:ext cx="1625040" cy="43714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tl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ansç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ktö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aleri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Heykeltıraş</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antomim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al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im sanatçıs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Cerrah</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oreograf</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ihirb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2" name=""/>
                <p:cNvSpPr/>
                <p:nvPr/>
              </p:nvSpPr>
              <p:spPr>
                <a:xfrm>
                  <a:off x="462960" y="1792440"/>
                  <a:ext cx="1734120" cy="43714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3" name=""/>
              <p:cNvGrpSpPr/>
              <p:nvPr/>
            </p:nvGrpSpPr>
            <p:grpSpPr>
              <a:xfrm>
                <a:off x="2197440" y="1792440"/>
                <a:ext cx="2170800" cy="4371480"/>
                <a:chOff x="2197440" y="1792440"/>
                <a:chExt cx="2170800" cy="4371480"/>
              </a:xfrm>
            </p:grpSpPr>
            <p:sp>
              <p:nvSpPr>
                <p:cNvPr id="934" name=""/>
                <p:cNvSpPr/>
                <p:nvPr/>
              </p:nvSpPr>
              <p:spPr>
                <a:xfrm>
                  <a:off x="2251800" y="1792440"/>
                  <a:ext cx="2061720" cy="43714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Göst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Öğre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yarl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Parçalara ayı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en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Rol oyn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pı oluşt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lan gezisi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odelini yap</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5" name=""/>
                <p:cNvSpPr/>
                <p:nvPr/>
              </p:nvSpPr>
              <p:spPr>
                <a:xfrm>
                  <a:off x="2197440" y="1792440"/>
                  <a:ext cx="2170800" cy="4371480"/>
                </a:xfrm>
                <a:prstGeom prst="rect">
                  <a:avLst/>
                </a:prstGeom>
                <a:noFill/>
                <a:ln w="0">
                  <a:solidFill>
                    <a:srgbClr val="0000a4"/>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6" name=""/>
              <p:cNvGrpSpPr/>
              <p:nvPr/>
            </p:nvGrpSpPr>
            <p:grpSpPr>
              <a:xfrm>
                <a:off x="4368600" y="1792440"/>
                <a:ext cx="1955880" cy="4371480"/>
                <a:chOff x="4368600" y="1792440"/>
                <a:chExt cx="1955880" cy="4371480"/>
              </a:xfrm>
            </p:grpSpPr>
            <p:sp>
              <p:nvSpPr>
                <p:cNvPr id="937" name=""/>
                <p:cNvSpPr/>
                <p:nvPr/>
              </p:nvSpPr>
              <p:spPr>
                <a:xfrm>
                  <a:off x="4423320" y="1792440"/>
                  <a:ext cx="1845720" cy="43714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Jimnast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eden Eğitim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üzm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8" name=""/>
                <p:cNvSpPr/>
                <p:nvPr/>
              </p:nvSpPr>
              <p:spPr>
                <a:xfrm>
                  <a:off x="4368600" y="1792440"/>
                  <a:ext cx="1955880" cy="43714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9" name=""/>
              <p:cNvGrpSpPr/>
              <p:nvPr/>
            </p:nvGrpSpPr>
            <p:grpSpPr>
              <a:xfrm>
                <a:off x="6324840" y="1792440"/>
                <a:ext cx="2278440" cy="4371480"/>
                <a:chOff x="6324840" y="1792440"/>
                <a:chExt cx="2278440" cy="4371480"/>
              </a:xfrm>
            </p:grpSpPr>
            <p:sp>
              <p:nvSpPr>
                <p:cNvPr id="940" name=""/>
                <p:cNvSpPr/>
                <p:nvPr/>
              </p:nvSpPr>
              <p:spPr>
                <a:xfrm>
                  <a:off x="6379200" y="1792440"/>
                  <a:ext cx="2169000" cy="437148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Tiyatr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ra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Spor takım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ukla oyunu</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erob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il çalışmal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im sanat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eden dil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Vücut geliştirm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l sanatları</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1" name=""/>
                <p:cNvSpPr/>
                <p:nvPr/>
              </p:nvSpPr>
              <p:spPr>
                <a:xfrm>
                  <a:off x="6324840" y="1792440"/>
                  <a:ext cx="2278440" cy="437148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42" name=""/>
            <p:cNvSpPr/>
            <p:nvPr/>
          </p:nvSpPr>
          <p:spPr>
            <a:xfrm>
              <a:off x="457200" y="762120"/>
              <a:ext cx="8152920" cy="540972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3" presetSubtype="528">
                                  <p:stCondLst>
                                    <p:cond delay="0"/>
                                  </p:stCondLst>
                                  <p:childTnLst>
                                    <p:set>
                                      <p:cBhvr>
                                        <p:cTn id="852" dur="1" fill="hold">
                                          <p:stCondLst>
                                            <p:cond delay="0"/>
                                          </p:stCondLst>
                                        </p:cTn>
                                        <p:tgtEl>
                                          <p:spTgt spid="908"/>
                                        </p:tgtEl>
                                        <p:attrNameLst>
                                          <p:attrName>style.visibility</p:attrName>
                                        </p:attrNameLst>
                                      </p:cBhvr>
                                      <p:to>
                                        <p:strVal val="visible"/>
                                      </p:to>
                                    </p:set>
                                    <p:anim calcmode="lin" valueType="num">
                                      <p:cBhvr additive="repl">
                                        <p:cTn id="853" dur="500" fill="hold"/>
                                        <p:tgtEl>
                                          <p:spTgt spid="908"/>
                                        </p:tgtEl>
                                        <p:attrNameLst>
                                          <p:attrName>ppt_w</p:attrName>
                                        </p:attrNameLst>
                                      </p:cBhvr>
                                      <p:tavLst>
                                        <p:tav tm="0">
                                          <p:val>
                                            <p:fltVal val="0"/>
                                          </p:val>
                                        </p:tav>
                                        <p:tav tm="100000">
                                          <p:val>
                                            <p:strVal val="#ppt_w"/>
                                          </p:val>
                                        </p:tav>
                                      </p:tavLst>
                                    </p:anim>
                                    <p:anim calcmode="lin" valueType="num">
                                      <p:cBhvr additive="repl">
                                        <p:cTn id="854" dur="500" fill="hold"/>
                                        <p:tgtEl>
                                          <p:spTgt spid="908"/>
                                        </p:tgtEl>
                                        <p:attrNameLst>
                                          <p:attrName>ppt_h</p:attrName>
                                        </p:attrNameLst>
                                      </p:cBhvr>
                                      <p:tavLst>
                                        <p:tav tm="0">
                                          <p:val>
                                            <p:fltVal val="0"/>
                                          </p:val>
                                        </p:tav>
                                        <p:tav tm="100000">
                                          <p:val>
                                            <p:strVal val="#ppt_h"/>
                                          </p:val>
                                        </p:tav>
                                      </p:tavLst>
                                    </p:anim>
                                    <p:anim calcmode="lin" valueType="num">
                                      <p:cBhvr additive="repl">
                                        <p:cTn id="855" dur="500" fill="hold"/>
                                        <p:tgtEl>
                                          <p:spTgt spid="908"/>
                                        </p:tgtEl>
                                        <p:attrNameLst>
                                          <p:attrName>ppt_x</p:attrName>
                                        </p:attrNameLst>
                                      </p:cBhvr>
                                      <p:tavLst>
                                        <p:tav tm="0">
                                          <p:val>
                                            <p:fltVal val="0.5"/>
                                          </p:val>
                                        </p:tav>
                                        <p:tav tm="100000">
                                          <p:val>
                                            <p:strVal val="#ppt_x"/>
                                          </p:val>
                                        </p:tav>
                                      </p:tavLst>
                                    </p:anim>
                                    <p:anim calcmode="lin" valueType="num">
                                      <p:cBhvr additive="repl">
                                        <p:cTn id="856" dur="500" fill="hold"/>
                                        <p:tgtEl>
                                          <p:spTgt spid="9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3" name=""/>
          <p:cNvGrpSpPr/>
          <p:nvPr/>
        </p:nvGrpSpPr>
        <p:grpSpPr>
          <a:xfrm>
            <a:off x="671400" y="228600"/>
            <a:ext cx="7939080" cy="6280920"/>
            <a:chOff x="671400" y="228600"/>
            <a:chExt cx="7939080" cy="6280920"/>
          </a:xfrm>
        </p:grpSpPr>
        <p:grpSp>
          <p:nvGrpSpPr>
            <p:cNvPr id="944" name=""/>
            <p:cNvGrpSpPr/>
            <p:nvPr/>
          </p:nvGrpSpPr>
          <p:grpSpPr>
            <a:xfrm>
              <a:off x="671400" y="1187280"/>
              <a:ext cx="7939080" cy="5322240"/>
              <a:chOff x="671400" y="1187280"/>
              <a:chExt cx="7939080" cy="5322240"/>
            </a:xfrm>
          </p:grpSpPr>
          <p:sp>
            <p:nvSpPr>
              <p:cNvPr id="945" name=""/>
              <p:cNvSpPr/>
              <p:nvPr/>
            </p:nvSpPr>
            <p:spPr>
              <a:xfrm>
                <a:off x="677880" y="5105520"/>
                <a:ext cx="7932600" cy="3373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ea typeface="Times New Roman"/>
                  </a:rPr>
                  <a:t>ÇEVRESEL GÜRÜLTÜLERE DUYARLIDIR</a:t>
                </a:r>
                <a:endParaRPr b="0" lang="en-US" sz="1600" spc="-1" strike="noStrike">
                  <a:solidFill>
                    <a:srgbClr val="ffffff"/>
                  </a:solidFill>
                  <a:latin typeface="Times New Roman"/>
                </a:endParaRPr>
              </a:p>
            </p:txBody>
          </p:sp>
          <p:sp>
            <p:nvSpPr>
              <p:cNvPr id="946" name=""/>
              <p:cNvSpPr/>
              <p:nvPr/>
            </p:nvSpPr>
            <p:spPr>
              <a:xfrm>
                <a:off x="671400" y="1187280"/>
                <a:ext cx="79390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ŞARKILARIN MELODİLERİNİ HATIRLAR</a:t>
                </a:r>
                <a:endParaRPr b="0" lang="en-US" sz="1600" spc="-1" strike="noStrike">
                  <a:solidFill>
                    <a:srgbClr val="ffffff"/>
                  </a:solidFill>
                  <a:latin typeface="Times New Roman"/>
                </a:endParaRPr>
              </a:p>
            </p:txBody>
          </p:sp>
          <p:sp>
            <p:nvSpPr>
              <p:cNvPr id="947" name=""/>
              <p:cNvSpPr/>
              <p:nvPr/>
            </p:nvSpPr>
            <p:spPr>
              <a:xfrm>
                <a:off x="671400" y="1720800"/>
                <a:ext cx="793908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ea typeface="Times New Roman"/>
                  </a:rPr>
                  <a:t>GÜZEL ŞARKI SÖYLER</a:t>
                </a:r>
                <a:endParaRPr b="0" lang="en-US" sz="1600" spc="-1" strike="noStrike">
                  <a:solidFill>
                    <a:srgbClr val="ffffff"/>
                  </a:solidFill>
                  <a:latin typeface="Times New Roman"/>
                </a:endParaRPr>
              </a:p>
            </p:txBody>
          </p:sp>
          <p:sp>
            <p:nvSpPr>
              <p:cNvPr id="948" name=""/>
              <p:cNvSpPr/>
              <p:nvPr/>
            </p:nvSpPr>
            <p:spPr>
              <a:xfrm>
                <a:off x="677880" y="2254320"/>
                <a:ext cx="79326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MÜZİK ALETİ ÇALAR </a:t>
                </a:r>
                <a:endParaRPr b="0" lang="en-US" sz="1600" spc="-1" strike="noStrike">
                  <a:solidFill>
                    <a:srgbClr val="ffffff"/>
                  </a:solidFill>
                  <a:latin typeface="Times New Roman"/>
                </a:endParaRPr>
              </a:p>
            </p:txBody>
          </p:sp>
          <p:sp>
            <p:nvSpPr>
              <p:cNvPr id="949" name=""/>
              <p:cNvSpPr/>
              <p:nvPr/>
            </p:nvSpPr>
            <p:spPr>
              <a:xfrm>
                <a:off x="677880" y="2787480"/>
                <a:ext cx="7932600" cy="3373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ea typeface="Times New Roman"/>
                  </a:rPr>
                  <a:t>VURMALI ALETLERDEN HOŞLANIR</a:t>
                </a:r>
                <a:endParaRPr b="0" lang="en-US" sz="1600" spc="-1" strike="noStrike">
                  <a:solidFill>
                    <a:srgbClr val="ffffff"/>
                  </a:solidFill>
                  <a:latin typeface="Times New Roman"/>
                </a:endParaRPr>
              </a:p>
            </p:txBody>
          </p:sp>
          <p:sp>
            <p:nvSpPr>
              <p:cNvPr id="950" name=""/>
              <p:cNvSpPr/>
              <p:nvPr/>
            </p:nvSpPr>
            <p:spPr>
              <a:xfrm>
                <a:off x="671400" y="3321000"/>
                <a:ext cx="7939080" cy="33732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İTMİK KONUŞUR YA DA HAREKET EDER</a:t>
                </a:r>
                <a:endParaRPr b="0" lang="en-US" sz="1600" spc="-1" strike="noStrike">
                  <a:solidFill>
                    <a:srgbClr val="ffffff"/>
                  </a:solidFill>
                  <a:latin typeface="Times New Roman"/>
                </a:endParaRPr>
              </a:p>
            </p:txBody>
          </p:sp>
          <p:sp>
            <p:nvSpPr>
              <p:cNvPr id="951" name=""/>
              <p:cNvSpPr/>
              <p:nvPr/>
            </p:nvSpPr>
            <p:spPr>
              <a:xfrm>
                <a:off x="677880" y="3930480"/>
                <a:ext cx="79326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ea typeface="Times New Roman"/>
                  </a:rPr>
                  <a:t>FARKINDA OLMADAN MIRILDANIR</a:t>
                </a:r>
                <a:endParaRPr b="0" lang="en-US" sz="1600" spc="-1" strike="noStrike">
                  <a:solidFill>
                    <a:srgbClr val="ffffff"/>
                  </a:solidFill>
                  <a:latin typeface="Times New Roman"/>
                </a:endParaRPr>
              </a:p>
            </p:txBody>
          </p:sp>
          <p:sp>
            <p:nvSpPr>
              <p:cNvPr id="952" name=""/>
              <p:cNvSpPr/>
              <p:nvPr/>
            </p:nvSpPr>
            <p:spPr>
              <a:xfrm>
                <a:off x="671400" y="4540320"/>
                <a:ext cx="79390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ÇALIŞIRKEN MASAYA VURARAK RİTİM TUTAR</a:t>
                </a:r>
                <a:endParaRPr b="0" lang="en-US" sz="1600" spc="-1" strike="noStrike">
                  <a:solidFill>
                    <a:srgbClr val="ffffff"/>
                  </a:solidFill>
                  <a:latin typeface="Times New Roman"/>
                </a:endParaRPr>
              </a:p>
            </p:txBody>
          </p:sp>
          <p:sp>
            <p:nvSpPr>
              <p:cNvPr id="953" name=""/>
              <p:cNvSpPr/>
              <p:nvPr/>
            </p:nvSpPr>
            <p:spPr>
              <a:xfrm>
                <a:off x="677880" y="5638680"/>
                <a:ext cx="7932600" cy="3373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MÜZİK DİNLEYEREK ÇALIŞIR</a:t>
                </a:r>
                <a:endParaRPr b="0" lang="en-US" sz="1600" spc="-1" strike="noStrike">
                  <a:solidFill>
                    <a:srgbClr val="ffffff"/>
                  </a:solidFill>
                  <a:latin typeface="Times New Roman"/>
                </a:endParaRPr>
              </a:p>
            </p:txBody>
          </p:sp>
          <p:sp>
            <p:nvSpPr>
              <p:cNvPr id="954" name=""/>
              <p:cNvSpPr/>
              <p:nvPr/>
            </p:nvSpPr>
            <p:spPr>
              <a:xfrm>
                <a:off x="677880" y="6172200"/>
                <a:ext cx="7932600" cy="33732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ea typeface="Times New Roman"/>
                  </a:rPr>
                  <a:t>ÖĞRENDİĞİ ŞARKILARI SINIFTA SÖYLER</a:t>
                </a:r>
                <a:endParaRPr b="0" lang="en-US" sz="1600" spc="-1" strike="noStrike">
                  <a:solidFill>
                    <a:srgbClr val="ffffff"/>
                  </a:solidFill>
                  <a:latin typeface="Times New Roman"/>
                </a:endParaRPr>
              </a:p>
            </p:txBody>
          </p:sp>
        </p:grpSp>
        <p:sp>
          <p:nvSpPr>
            <p:cNvPr id="955" name=""/>
            <p:cNvSpPr txBox="1"/>
            <p:nvPr/>
          </p:nvSpPr>
          <p:spPr>
            <a:xfrm>
              <a:off x="1828800" y="228600"/>
              <a:ext cx="5029200" cy="733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Arial Black"/>
                </a:rPr>
                <a:t>MÜZİKSEL RİTMİK</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p:txBody>
        </p:sp>
      </p:gr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6" name=""/>
          <p:cNvGrpSpPr/>
          <p:nvPr/>
        </p:nvGrpSpPr>
        <p:grpSpPr>
          <a:xfrm>
            <a:off x="685800" y="685800"/>
            <a:ext cx="7924320" cy="5562360"/>
            <a:chOff x="685800" y="685800"/>
            <a:chExt cx="7924320" cy="5562360"/>
          </a:xfrm>
        </p:grpSpPr>
        <p:grpSp>
          <p:nvGrpSpPr>
            <p:cNvPr id="957" name=""/>
            <p:cNvGrpSpPr/>
            <p:nvPr/>
          </p:nvGrpSpPr>
          <p:grpSpPr>
            <a:xfrm>
              <a:off x="691200" y="691920"/>
              <a:ext cx="7912440" cy="5549040"/>
              <a:chOff x="691200" y="691920"/>
              <a:chExt cx="7912440" cy="5549040"/>
            </a:xfrm>
          </p:grpSpPr>
          <p:grpSp>
            <p:nvGrpSpPr>
              <p:cNvPr id="958" name=""/>
              <p:cNvGrpSpPr/>
              <p:nvPr/>
            </p:nvGrpSpPr>
            <p:grpSpPr>
              <a:xfrm>
                <a:off x="691200" y="691920"/>
                <a:ext cx="2045880" cy="940680"/>
                <a:chOff x="691200" y="691920"/>
                <a:chExt cx="2045880" cy="940680"/>
              </a:xfrm>
            </p:grpSpPr>
            <p:sp>
              <p:nvSpPr>
                <p:cNvPr id="959" name=""/>
                <p:cNvSpPr/>
                <p:nvPr/>
              </p:nvSpPr>
              <p:spPr>
                <a:xfrm>
                  <a:off x="691200" y="691920"/>
                  <a:ext cx="2045880" cy="940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0" name=""/>
                <p:cNvGrpSpPr/>
                <p:nvPr/>
              </p:nvGrpSpPr>
              <p:grpSpPr>
                <a:xfrm>
                  <a:off x="691200" y="691920"/>
                  <a:ext cx="2045520" cy="940320"/>
                  <a:chOff x="691200" y="691920"/>
                  <a:chExt cx="2045520" cy="940320"/>
                </a:xfrm>
              </p:grpSpPr>
              <p:sp>
                <p:nvSpPr>
                  <p:cNvPr id="961" name=""/>
                  <p:cNvSpPr/>
                  <p:nvPr/>
                </p:nvSpPr>
                <p:spPr>
                  <a:xfrm>
                    <a:off x="743400" y="691920"/>
                    <a:ext cx="1941120" cy="9403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MESLE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
                  <p:cNvSpPr/>
                  <p:nvPr/>
                </p:nvSpPr>
                <p:spPr>
                  <a:xfrm>
                    <a:off x="691200" y="691920"/>
                    <a:ext cx="2045520" cy="9403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2737440" y="691920"/>
                <a:ext cx="1859040" cy="940680"/>
                <a:chOff x="2737440" y="691920"/>
                <a:chExt cx="1859040" cy="940680"/>
              </a:xfrm>
            </p:grpSpPr>
            <p:sp>
              <p:nvSpPr>
                <p:cNvPr id="964" name=""/>
                <p:cNvSpPr/>
                <p:nvPr/>
              </p:nvSpPr>
              <p:spPr>
                <a:xfrm>
                  <a:off x="2737440" y="691920"/>
                  <a:ext cx="1859040" cy="940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5" name=""/>
                <p:cNvGrpSpPr/>
                <p:nvPr/>
              </p:nvGrpSpPr>
              <p:grpSpPr>
                <a:xfrm>
                  <a:off x="2737440" y="691920"/>
                  <a:ext cx="1858680" cy="940320"/>
                  <a:chOff x="2737440" y="691920"/>
                  <a:chExt cx="1858680" cy="940320"/>
                </a:xfrm>
              </p:grpSpPr>
              <p:sp>
                <p:nvSpPr>
                  <p:cNvPr id="966" name=""/>
                  <p:cNvSpPr/>
                  <p:nvPr/>
                </p:nvSpPr>
                <p:spPr>
                  <a:xfrm>
                    <a:off x="2790000" y="691920"/>
                    <a:ext cx="1753560" cy="9403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Fİ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7" name=""/>
                  <p:cNvSpPr/>
                  <p:nvPr/>
                </p:nvSpPr>
                <p:spPr>
                  <a:xfrm>
                    <a:off x="2737440" y="691920"/>
                    <a:ext cx="1858680" cy="9403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68" name=""/>
              <p:cNvGrpSpPr/>
              <p:nvPr/>
            </p:nvGrpSpPr>
            <p:grpSpPr>
              <a:xfrm>
                <a:off x="4597200" y="691920"/>
                <a:ext cx="1562760" cy="940680"/>
                <a:chOff x="4597200" y="691920"/>
                <a:chExt cx="1562760" cy="940680"/>
              </a:xfrm>
            </p:grpSpPr>
            <p:sp>
              <p:nvSpPr>
                <p:cNvPr id="969" name=""/>
                <p:cNvSpPr/>
                <p:nvPr/>
              </p:nvSpPr>
              <p:spPr>
                <a:xfrm>
                  <a:off x="4597200" y="691920"/>
                  <a:ext cx="1562760" cy="940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0" name=""/>
                <p:cNvGrpSpPr/>
                <p:nvPr/>
              </p:nvGrpSpPr>
              <p:grpSpPr>
                <a:xfrm>
                  <a:off x="4597200" y="691920"/>
                  <a:ext cx="1562400" cy="940320"/>
                  <a:chOff x="4597200" y="691920"/>
                  <a:chExt cx="1562400" cy="940320"/>
                </a:xfrm>
              </p:grpSpPr>
              <p:sp>
                <p:nvSpPr>
                  <p:cNvPr id="971" name=""/>
                  <p:cNvSpPr/>
                  <p:nvPr/>
                </p:nvSpPr>
                <p:spPr>
                  <a:xfrm>
                    <a:off x="4649400" y="691920"/>
                    <a:ext cx="1457640" cy="9403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2" name=""/>
                  <p:cNvSpPr/>
                  <p:nvPr/>
                </p:nvSpPr>
                <p:spPr>
                  <a:xfrm>
                    <a:off x="4597200" y="691920"/>
                    <a:ext cx="1562400" cy="9403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73" name=""/>
              <p:cNvGrpSpPr/>
              <p:nvPr/>
            </p:nvGrpSpPr>
            <p:grpSpPr>
              <a:xfrm>
                <a:off x="6160320" y="691920"/>
                <a:ext cx="2443320" cy="940680"/>
                <a:chOff x="6160320" y="691920"/>
                <a:chExt cx="2443320" cy="940680"/>
              </a:xfrm>
            </p:grpSpPr>
            <p:sp>
              <p:nvSpPr>
                <p:cNvPr id="974" name=""/>
                <p:cNvSpPr/>
                <p:nvPr/>
              </p:nvSpPr>
              <p:spPr>
                <a:xfrm>
                  <a:off x="6160320" y="691920"/>
                  <a:ext cx="2443320" cy="94068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5" name=""/>
                <p:cNvGrpSpPr/>
                <p:nvPr/>
              </p:nvGrpSpPr>
              <p:grpSpPr>
                <a:xfrm>
                  <a:off x="6160320" y="691920"/>
                  <a:ext cx="2442960" cy="940320"/>
                  <a:chOff x="6160320" y="691920"/>
                  <a:chExt cx="2442960" cy="940320"/>
                </a:xfrm>
              </p:grpSpPr>
              <p:sp>
                <p:nvSpPr>
                  <p:cNvPr id="976" name=""/>
                  <p:cNvSpPr/>
                  <p:nvPr/>
                </p:nvSpPr>
                <p:spPr>
                  <a:xfrm>
                    <a:off x="6212520" y="691920"/>
                    <a:ext cx="2338200" cy="940320"/>
                  </a:xfrm>
                  <a:prstGeom prst="rect">
                    <a:avLst/>
                  </a:prstGeom>
                  <a:solidFill>
                    <a:srgbClr val="d9d9d9"/>
                  </a:solidFill>
                  <a:ln w="9360">
                    <a:solidFill>
                      <a:srgbClr val="0000a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4"/>
                        </a:solidFill>
                        <a:latin typeface="Comic Sans MS"/>
                        <a:ea typeface="Times New Roman"/>
                      </a:rPr>
                      <a:t>DERS DIŞ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7" name=""/>
                  <p:cNvSpPr/>
                  <p:nvPr/>
                </p:nvSpPr>
                <p:spPr>
                  <a:xfrm>
                    <a:off x="6160320" y="691920"/>
                    <a:ext cx="2442960" cy="94032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78" name=""/>
              <p:cNvGrpSpPr/>
              <p:nvPr/>
            </p:nvGrpSpPr>
            <p:grpSpPr>
              <a:xfrm>
                <a:off x="691200" y="1632960"/>
                <a:ext cx="2045880" cy="4608000"/>
                <a:chOff x="691200" y="1632960"/>
                <a:chExt cx="2045880" cy="4608000"/>
              </a:xfrm>
            </p:grpSpPr>
            <p:sp>
              <p:nvSpPr>
                <p:cNvPr id="979" name=""/>
                <p:cNvSpPr/>
                <p:nvPr/>
              </p:nvSpPr>
              <p:spPr>
                <a:xfrm>
                  <a:off x="743400" y="1632960"/>
                  <a:ext cx="1941480" cy="46080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Kompozitö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Koris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üzik Öğretmen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estec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ando eleman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Disk Jokey</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Tiyatrocu</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Şarkıc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Söz yazar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üzik aleti yapımcıs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Udi,gitarist v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üzik marketi sahib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0" name=""/>
                <p:cNvSpPr/>
                <p:nvPr/>
              </p:nvSpPr>
              <p:spPr>
                <a:xfrm>
                  <a:off x="691200" y="1632960"/>
                  <a:ext cx="2045880" cy="46080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1" name=""/>
              <p:cNvGrpSpPr/>
              <p:nvPr/>
            </p:nvGrpSpPr>
            <p:grpSpPr>
              <a:xfrm>
                <a:off x="2737440" y="1632960"/>
                <a:ext cx="1859040" cy="4608000"/>
                <a:chOff x="2737440" y="1632960"/>
                <a:chExt cx="1859040" cy="4608000"/>
              </a:xfrm>
            </p:grpSpPr>
            <p:sp>
              <p:nvSpPr>
                <p:cNvPr id="982" name=""/>
                <p:cNvSpPr/>
                <p:nvPr/>
              </p:nvSpPr>
              <p:spPr>
                <a:xfrm>
                  <a:off x="2790000" y="1632960"/>
                  <a:ext cx="1753920" cy="46080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este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Kayd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Şarkı sözü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Ritim tu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ırılda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Şarkı söyl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Nota yaz</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Islık ça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yaklarını vu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elodi tan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nstrüman tanı</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3" name=""/>
                <p:cNvSpPr/>
                <p:nvPr/>
              </p:nvSpPr>
              <p:spPr>
                <a:xfrm>
                  <a:off x="2737440" y="1632960"/>
                  <a:ext cx="1859040" cy="46080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4" name=""/>
              <p:cNvGrpSpPr/>
              <p:nvPr/>
            </p:nvGrpSpPr>
            <p:grpSpPr>
              <a:xfrm>
                <a:off x="4597200" y="1632960"/>
                <a:ext cx="1562760" cy="4608000"/>
                <a:chOff x="4597200" y="1632960"/>
                <a:chExt cx="1562760" cy="4608000"/>
              </a:xfrm>
            </p:grpSpPr>
            <p:sp>
              <p:nvSpPr>
                <p:cNvPr id="985" name=""/>
                <p:cNvSpPr/>
                <p:nvPr/>
              </p:nvSpPr>
              <p:spPr>
                <a:xfrm>
                  <a:off x="4649400" y="1632960"/>
                  <a:ext cx="1458000" cy="46080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Müz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Dra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Fen bilgisi</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Beden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Eğitim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ea typeface="Times New Roman"/>
                    </a:rPr>
                    <a:t>Matematik</a:t>
                  </a: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p:txBody>
            </p:sp>
            <p:sp>
              <p:nvSpPr>
                <p:cNvPr id="986" name=""/>
                <p:cNvSpPr/>
                <p:nvPr/>
              </p:nvSpPr>
              <p:spPr>
                <a:xfrm>
                  <a:off x="4597200" y="1632960"/>
                  <a:ext cx="1562760" cy="46080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7" name=""/>
              <p:cNvGrpSpPr/>
              <p:nvPr/>
            </p:nvGrpSpPr>
            <p:grpSpPr>
              <a:xfrm>
                <a:off x="6160320" y="1632960"/>
                <a:ext cx="2443320" cy="4608000"/>
                <a:chOff x="6160320" y="1632960"/>
                <a:chExt cx="2443320" cy="4608000"/>
              </a:xfrm>
            </p:grpSpPr>
            <p:sp>
              <p:nvSpPr>
                <p:cNvPr id="988" name=""/>
                <p:cNvSpPr/>
                <p:nvPr/>
              </p:nvSpPr>
              <p:spPr>
                <a:xfrm>
                  <a:off x="6212520" y="1632960"/>
                  <a:ext cx="2338560" cy="4608000"/>
                </a:xfrm>
                <a:prstGeom prst="rect">
                  <a:avLst/>
                </a:prstGeom>
                <a:noFill/>
                <a:ln w="9360">
                  <a:solidFill>
                    <a:srgbClr val="0000a4"/>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Orff Programı</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Band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Orkestr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üzik kolu</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Kor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Gitar kulübü</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Aerobik</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Şarkıla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üzikal geziler</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Times New Roman"/>
                    </a:rPr>
                    <a:t>Misafir şarkıcı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9" name=""/>
                <p:cNvSpPr/>
                <p:nvPr/>
              </p:nvSpPr>
              <p:spPr>
                <a:xfrm>
                  <a:off x="6160320" y="1632960"/>
                  <a:ext cx="2443320" cy="4608000"/>
                </a:xfrm>
                <a:prstGeom prst="rect">
                  <a:avLst/>
                </a:prstGeom>
                <a:noFill/>
                <a:ln w="0">
                  <a:solidFill>
                    <a:srgbClr val="0000a4"/>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0" name=""/>
            <p:cNvSpPr/>
            <p:nvPr/>
          </p:nvSpPr>
          <p:spPr>
            <a:xfrm>
              <a:off x="685800" y="685800"/>
              <a:ext cx="7924320" cy="5562360"/>
            </a:xfrm>
            <a:prstGeom prst="rect">
              <a:avLst/>
            </a:prstGeom>
            <a:noFill/>
            <a:ln w="11160">
              <a:solidFill>
                <a:srgbClr val="0000a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dissolve/>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3" presetSubtype="528">
                                  <p:stCondLst>
                                    <p:cond delay="0"/>
                                  </p:stCondLst>
                                  <p:childTnLst>
                                    <p:set>
                                      <p:cBhvr>
                                        <p:cTn id="862" dur="1" fill="hold">
                                          <p:stCondLst>
                                            <p:cond delay="0"/>
                                          </p:stCondLst>
                                        </p:cTn>
                                        <p:tgtEl>
                                          <p:spTgt spid="956"/>
                                        </p:tgtEl>
                                        <p:attrNameLst>
                                          <p:attrName>style.visibility</p:attrName>
                                        </p:attrNameLst>
                                      </p:cBhvr>
                                      <p:to>
                                        <p:strVal val="visible"/>
                                      </p:to>
                                    </p:set>
                                    <p:anim calcmode="lin" valueType="num">
                                      <p:cBhvr additive="repl">
                                        <p:cTn id="863" dur="500" fill="hold"/>
                                        <p:tgtEl>
                                          <p:spTgt spid="956"/>
                                        </p:tgtEl>
                                        <p:attrNameLst>
                                          <p:attrName>ppt_w</p:attrName>
                                        </p:attrNameLst>
                                      </p:cBhvr>
                                      <p:tavLst>
                                        <p:tav tm="0">
                                          <p:val>
                                            <p:fltVal val="0"/>
                                          </p:val>
                                        </p:tav>
                                        <p:tav tm="100000">
                                          <p:val>
                                            <p:strVal val="#ppt_w"/>
                                          </p:val>
                                        </p:tav>
                                      </p:tavLst>
                                    </p:anim>
                                    <p:anim calcmode="lin" valueType="num">
                                      <p:cBhvr additive="repl">
                                        <p:cTn id="864" dur="500" fill="hold"/>
                                        <p:tgtEl>
                                          <p:spTgt spid="956"/>
                                        </p:tgtEl>
                                        <p:attrNameLst>
                                          <p:attrName>ppt_h</p:attrName>
                                        </p:attrNameLst>
                                      </p:cBhvr>
                                      <p:tavLst>
                                        <p:tav tm="0">
                                          <p:val>
                                            <p:fltVal val="0"/>
                                          </p:val>
                                        </p:tav>
                                        <p:tav tm="100000">
                                          <p:val>
                                            <p:strVal val="#ppt_h"/>
                                          </p:val>
                                        </p:tav>
                                      </p:tavLst>
                                    </p:anim>
                                    <p:anim calcmode="lin" valueType="num">
                                      <p:cBhvr additive="repl">
                                        <p:cTn id="865" dur="500" fill="hold"/>
                                        <p:tgtEl>
                                          <p:spTgt spid="956"/>
                                        </p:tgtEl>
                                        <p:attrNameLst>
                                          <p:attrName>ppt_x</p:attrName>
                                        </p:attrNameLst>
                                      </p:cBhvr>
                                      <p:tavLst>
                                        <p:tav tm="0">
                                          <p:val>
                                            <p:fltVal val="0.5"/>
                                          </p:val>
                                        </p:tav>
                                        <p:tav tm="100000">
                                          <p:val>
                                            <p:strVal val="#ppt_x"/>
                                          </p:val>
                                        </p:tav>
                                      </p:tavLst>
                                    </p:anim>
                                    <p:anim calcmode="lin" valueType="num">
                                      <p:cBhvr additive="repl">
                                        <p:cTn id="866" dur="500" fill="hold"/>
                                        <p:tgtEl>
                                          <p:spTgt spid="9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1" name=""/>
          <p:cNvSpPr/>
          <p:nvPr/>
        </p:nvSpPr>
        <p:spPr>
          <a:xfrm>
            <a:off x="609480" y="609480"/>
            <a:ext cx="8077320" cy="5486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Öğrencinin Adı Soyadı:</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Tari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Cinsiyeti:</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	</a:t>
            </a:r>
            <a:r>
              <a:rPr b="1" lang="tr-TR" sz="1800" spc="-1" strike="noStrike">
                <a:solidFill>
                  <a:srgbClr val="003300"/>
                </a:solidFill>
                <a:latin typeface="Comic Sans MS"/>
              </a:rPr>
              <a:t>Sınıfı:</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Lütfen formda yer alan her ifadenin sizin için ne derece uygun olup olmadığını aşağıdaki beşli dereceleme ölçeği üzerinde belirtiniz. Bunun için uygun gördüğünüz rakamın altına X işareti koymanız yeterlidir. Her bir rakamın ifade ettiği anlam aşağıda verilmiştir. Burada X işareti konulan seçeneklerin karşılığı olan rakamlar, bu formun sonunda yer alan “Çocuklar için çoklu zeka gözlem formunu değerlendirme profili” nde ilgili boşluğa işaretlenmeli ve toplam puanlara ulaşılmalıdır. Bu puanların ne anlama geldiği adı geçen profilde belirtilmişti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___________________________________________________</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	</a:t>
            </a:r>
            <a:r>
              <a:rPr b="0" lang="tr-TR" sz="1800" spc="-1" strike="noStrike">
                <a:solidFill>
                  <a:srgbClr val="003300"/>
                </a:solidFill>
                <a:latin typeface="Comic Sans MS"/>
              </a:rPr>
              <a:t>	</a:t>
            </a:r>
            <a:r>
              <a:rPr b="1" lang="tr-TR" sz="1800" spc="-1" strike="noStrike">
                <a:solidFill>
                  <a:srgbClr val="003300"/>
                </a:solidFill>
                <a:latin typeface="Comic Sans MS"/>
              </a:rPr>
              <a:t>0=</a:t>
            </a:r>
            <a:r>
              <a:rPr b="0" lang="tr-TR" sz="1800" spc="-1" strike="noStrike">
                <a:solidFill>
                  <a:srgbClr val="003300"/>
                </a:solidFill>
                <a:latin typeface="Comic Sans MS"/>
              </a:rPr>
              <a:t> Benim için hiç uygun deği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	</a:t>
            </a:r>
            <a:r>
              <a:rPr b="0" lang="tr-TR" sz="1800" spc="-1" strike="noStrike">
                <a:solidFill>
                  <a:srgbClr val="003300"/>
                </a:solidFill>
                <a:latin typeface="Comic Sans MS"/>
              </a:rPr>
              <a:t>	</a:t>
            </a:r>
            <a:r>
              <a:rPr b="1" lang="tr-TR" sz="1800" spc="-1" strike="noStrike">
                <a:solidFill>
                  <a:srgbClr val="003300"/>
                </a:solidFill>
                <a:latin typeface="Comic Sans MS"/>
              </a:rPr>
              <a:t>1=</a:t>
            </a:r>
            <a:r>
              <a:rPr b="0" lang="tr-TR" sz="1800" spc="-1" strike="noStrike">
                <a:solidFill>
                  <a:srgbClr val="003300"/>
                </a:solidFill>
                <a:latin typeface="Comic Sans MS"/>
              </a:rPr>
              <a:t> Çok az Uygu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	</a:t>
            </a:r>
            <a:r>
              <a:rPr b="0" lang="tr-TR" sz="1800" spc="-1" strike="noStrike">
                <a:solidFill>
                  <a:srgbClr val="003300"/>
                </a:solidFill>
                <a:latin typeface="Comic Sans MS"/>
              </a:rPr>
              <a:t>	</a:t>
            </a:r>
            <a:r>
              <a:rPr b="1" lang="tr-TR" sz="1800" spc="-1" strike="noStrike">
                <a:solidFill>
                  <a:srgbClr val="003300"/>
                </a:solidFill>
                <a:latin typeface="Comic Sans MS"/>
              </a:rPr>
              <a:t>2=</a:t>
            </a:r>
            <a:r>
              <a:rPr b="0" lang="tr-TR" sz="1800" spc="-1" strike="noStrike">
                <a:solidFill>
                  <a:srgbClr val="003300"/>
                </a:solidFill>
                <a:latin typeface="Comic Sans MS"/>
              </a:rPr>
              <a:t> Kısmen uygu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	</a:t>
            </a:r>
            <a:r>
              <a:rPr b="0" lang="tr-TR" sz="1800" spc="-1" strike="noStrike">
                <a:solidFill>
                  <a:srgbClr val="003300"/>
                </a:solidFill>
                <a:latin typeface="Comic Sans MS"/>
              </a:rPr>
              <a:t>	</a:t>
            </a:r>
            <a:r>
              <a:rPr b="1" lang="tr-TR" sz="1800" spc="-1" strike="noStrike">
                <a:solidFill>
                  <a:srgbClr val="003300"/>
                </a:solidFill>
                <a:latin typeface="Comic Sans MS"/>
              </a:rPr>
              <a:t>3=</a:t>
            </a:r>
            <a:r>
              <a:rPr b="0" lang="tr-TR" sz="1800" spc="-1" strike="noStrike">
                <a:solidFill>
                  <a:srgbClr val="003300"/>
                </a:solidFill>
                <a:latin typeface="Comic Sans MS"/>
              </a:rPr>
              <a:t> Oldukça uygu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1800" spc="-1" strike="noStrike">
                <a:solidFill>
                  <a:srgbClr val="003300"/>
                </a:solidFill>
                <a:latin typeface="Comic Sans MS"/>
              </a:rPr>
              <a:t>	</a:t>
            </a:r>
            <a:r>
              <a:rPr b="0" lang="tr-TR" sz="1800" spc="-1" strike="noStrike">
                <a:solidFill>
                  <a:srgbClr val="003300"/>
                </a:solidFill>
                <a:latin typeface="Comic Sans MS"/>
              </a:rPr>
              <a:t>	</a:t>
            </a:r>
            <a:r>
              <a:rPr b="1" lang="tr-TR" sz="1800" spc="-1" strike="noStrike">
                <a:solidFill>
                  <a:srgbClr val="003300"/>
                </a:solidFill>
                <a:latin typeface="Comic Sans MS"/>
              </a:rPr>
              <a:t>4=</a:t>
            </a:r>
            <a:r>
              <a:rPr b="0" lang="tr-TR" sz="1800" spc="-1" strike="noStrike">
                <a:solidFill>
                  <a:srgbClr val="003300"/>
                </a:solidFill>
                <a:latin typeface="Comic Sans MS"/>
              </a:rPr>
              <a:t> Tamamen uygun </a:t>
            </a:r>
            <a:endParaRPr b="0" lang="en-US" sz="1800" spc="-1" strike="noStrike">
              <a:solidFill>
                <a:srgbClr val="ffffff"/>
              </a:solidFill>
              <a:latin typeface="Times New Roman"/>
            </a:endParaRPr>
          </a:p>
        </p:txBody>
      </p:sp>
    </p:spTree>
  </p:cSld>
  <p:transition>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4" presetSubtype="5">
                                  <p:stCondLst>
                                    <p:cond delay="0"/>
                                  </p:stCondLst>
                                  <p:childTnLst>
                                    <p:set>
                                      <p:cBhvr>
                                        <p:cTn id="872" dur="1" fill="hold">
                                          <p:stCondLst>
                                            <p:cond delay="0"/>
                                          </p:stCondLst>
                                        </p:cTn>
                                        <p:tgtEl>
                                          <p:spTgt spid="991"/>
                                        </p:tgtEl>
                                        <p:attrNameLst>
                                          <p:attrName>style.visibility</p:attrName>
                                        </p:attrNameLst>
                                      </p:cBhvr>
                                      <p:to>
                                        <p:strVal val="visible"/>
                                      </p:to>
                                    </p:set>
                                    <p:animEffect filter="randombar(vertical)" transition="in">
                                      <p:cBhvr additive="repl">
                                        <p:cTn id="873" dur="5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1280" y="1601640"/>
            <a:ext cx="3276720" cy="3915000"/>
          </a:xfrm>
          <a:prstGeom prst="rect">
            <a:avLst/>
          </a:prstGeom>
          <a:ln w="0">
            <a:noFill/>
          </a:ln>
        </p:spPr>
      </p:pic>
      <p:sp>
        <p:nvSpPr>
          <p:cNvPr id="100" name=""/>
          <p:cNvSpPr/>
          <p:nvPr/>
        </p:nvSpPr>
        <p:spPr>
          <a:xfrm>
            <a:off x="4643280" y="1413000"/>
            <a:ext cx="4105440" cy="4321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6012000" y="692280"/>
            <a:ext cx="136836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SEREBRAL </a:t>
            </a:r>
            <a:endParaRPr b="0" lang="en-US" sz="1100" spc="-1" strike="noStrike">
              <a:solidFill>
                <a:srgbClr val="ffffff"/>
              </a:solidFill>
              <a:latin typeface="Times New Roman"/>
            </a:endParaRPr>
          </a:p>
        </p:txBody>
      </p:sp>
      <p:sp>
        <p:nvSpPr>
          <p:cNvPr id="102" name=""/>
          <p:cNvSpPr/>
          <p:nvPr/>
        </p:nvSpPr>
        <p:spPr>
          <a:xfrm>
            <a:off x="5940360" y="6237360"/>
            <a:ext cx="1368360" cy="216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İMBİK </a:t>
            </a:r>
            <a:endParaRPr b="0" lang="en-US" sz="1100" spc="-1" strike="noStrike">
              <a:solidFill>
                <a:srgbClr val="ffffff"/>
              </a:solidFill>
              <a:latin typeface="Times New Roman"/>
            </a:endParaRPr>
          </a:p>
        </p:txBody>
      </p:sp>
      <p:sp>
        <p:nvSpPr>
          <p:cNvPr id="103" name=""/>
          <p:cNvSpPr/>
          <p:nvPr/>
        </p:nvSpPr>
        <p:spPr>
          <a:xfrm>
            <a:off x="3995640" y="1413000"/>
            <a:ext cx="136836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SOL SEREBRAL </a:t>
            </a:r>
            <a:endParaRPr b="0" lang="en-US" sz="1100" spc="-1" strike="noStrike">
              <a:solidFill>
                <a:srgbClr val="ffffff"/>
              </a:solidFill>
              <a:latin typeface="Times New Roman"/>
            </a:endParaRPr>
          </a:p>
        </p:txBody>
      </p:sp>
      <p:sp>
        <p:nvSpPr>
          <p:cNvPr id="104" name=""/>
          <p:cNvSpPr/>
          <p:nvPr/>
        </p:nvSpPr>
        <p:spPr>
          <a:xfrm>
            <a:off x="7524720" y="1268280"/>
            <a:ext cx="1368360" cy="216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SAĞ SEREBRAL </a:t>
            </a:r>
            <a:endParaRPr b="0" lang="en-US" sz="1100" spc="-1" strike="noStrike">
              <a:solidFill>
                <a:srgbClr val="ffffff"/>
              </a:solidFill>
              <a:latin typeface="Times New Roman"/>
            </a:endParaRPr>
          </a:p>
        </p:txBody>
      </p:sp>
      <p:sp>
        <p:nvSpPr>
          <p:cNvPr id="105" name=""/>
          <p:cNvSpPr/>
          <p:nvPr/>
        </p:nvSpPr>
        <p:spPr>
          <a:xfrm>
            <a:off x="7667640" y="5661000"/>
            <a:ext cx="1368360" cy="216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SAĞ LİMBİK  </a:t>
            </a:r>
            <a:endParaRPr b="0" lang="en-US" sz="1100" spc="-1" strike="noStrike">
              <a:solidFill>
                <a:srgbClr val="ffffff"/>
              </a:solidFill>
              <a:latin typeface="Times New Roman"/>
            </a:endParaRPr>
          </a:p>
        </p:txBody>
      </p:sp>
      <p:sp>
        <p:nvSpPr>
          <p:cNvPr id="106" name=""/>
          <p:cNvSpPr/>
          <p:nvPr/>
        </p:nvSpPr>
        <p:spPr>
          <a:xfrm>
            <a:off x="4140360" y="5661000"/>
            <a:ext cx="1368360" cy="216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SOL LİMBİK</a:t>
            </a:r>
            <a:endParaRPr b="0" lang="en-US" sz="1100" spc="-1" strike="noStrike">
              <a:solidFill>
                <a:srgbClr val="ffffff"/>
              </a:solidFill>
              <a:latin typeface="Times New Roman"/>
            </a:endParaRPr>
          </a:p>
        </p:txBody>
      </p:sp>
      <p:sp>
        <p:nvSpPr>
          <p:cNvPr id="107" name=""/>
          <p:cNvSpPr/>
          <p:nvPr/>
        </p:nvSpPr>
        <p:spPr>
          <a:xfrm>
            <a:off x="4643280" y="3573360"/>
            <a:ext cx="41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30560" y="1413000"/>
            <a:ext cx="180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2" name=""/>
          <p:cNvGrpSpPr/>
          <p:nvPr/>
        </p:nvGrpSpPr>
        <p:grpSpPr>
          <a:xfrm>
            <a:off x="380880" y="520560"/>
            <a:ext cx="8457840" cy="5727960"/>
            <a:chOff x="380880" y="520560"/>
            <a:chExt cx="8457840" cy="5727960"/>
          </a:xfrm>
        </p:grpSpPr>
        <p:sp>
          <p:nvSpPr>
            <p:cNvPr id="993"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994"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ÖZEL / DİLSEL ZEKA</a:t>
              </a:r>
              <a:endParaRPr b="0" lang="en-US" sz="2000" spc="-1" strike="noStrike">
                <a:solidFill>
                  <a:srgbClr val="ffffff"/>
                </a:solidFill>
                <a:latin typeface="Times New Roman"/>
              </a:endParaRPr>
            </a:p>
          </p:txBody>
        </p:sp>
        <p:sp>
          <p:nvSpPr>
            <p:cNvPr id="995"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996"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997"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998"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999"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imlerde çok yazılar dikkatini çeker.</a:t>
              </a:r>
              <a:endParaRPr b="0" lang="en-US" sz="2000" spc="-1" strike="noStrike">
                <a:solidFill>
                  <a:srgbClr val="ffffff"/>
                </a:solidFill>
                <a:latin typeface="Times New Roman"/>
              </a:endParaRPr>
            </a:p>
          </p:txBody>
        </p:sp>
        <p:sp>
          <p:nvSpPr>
            <p:cNvPr id="1000"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İsimler, yerler, tarihler konusunda belleği iyidir.</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1001"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itap okumayı sever.</a:t>
              </a:r>
              <a:endParaRPr b="0" lang="en-US" sz="2000" spc="-1" strike="noStrike">
                <a:solidFill>
                  <a:srgbClr val="ffffff"/>
                </a:solidFill>
                <a:latin typeface="Times New Roman"/>
              </a:endParaRPr>
            </a:p>
          </p:txBody>
        </p:sp>
        <p:sp>
          <p:nvSpPr>
            <p:cNvPr id="1002"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elimeleri doğru şekilde telaffuz eder.</a:t>
              </a:r>
              <a:endParaRPr b="0" lang="en-US" sz="2000" spc="-1" strike="noStrike">
                <a:solidFill>
                  <a:srgbClr val="ffffff"/>
                </a:solidFill>
                <a:latin typeface="Times New Roman"/>
              </a:endParaRPr>
            </a:p>
          </p:txBody>
        </p:sp>
        <p:sp>
          <p:nvSpPr>
            <p:cNvPr id="1003"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lmecelerden, kelime oyunlarından hoşlanır.</a:t>
              </a:r>
              <a:endParaRPr b="0" lang="en-US" sz="2000" spc="-1" strike="noStrike">
                <a:solidFill>
                  <a:srgbClr val="ffffff"/>
                </a:solidFill>
                <a:latin typeface="Times New Roman"/>
              </a:endParaRPr>
            </a:p>
          </p:txBody>
        </p:sp>
        <p:sp>
          <p:nvSpPr>
            <p:cNvPr id="1004"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inleyerek daha iyi öğrenir.</a:t>
              </a:r>
              <a:endParaRPr b="0" lang="en-US" sz="2000" spc="-1" strike="noStrike">
                <a:solidFill>
                  <a:srgbClr val="ffffff"/>
                </a:solidFill>
                <a:latin typeface="Times New Roman"/>
              </a:endParaRPr>
            </a:p>
          </p:txBody>
        </p:sp>
        <p:sp>
          <p:nvSpPr>
            <p:cNvPr id="1005"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şına göre kelime hazinesi iyidir. </a:t>
              </a:r>
              <a:endParaRPr b="0" lang="en-US" sz="2000" spc="-1" strike="noStrike">
                <a:solidFill>
                  <a:srgbClr val="ffffff"/>
                </a:solidFill>
                <a:latin typeface="Times New Roman"/>
              </a:endParaRPr>
            </a:p>
          </p:txBody>
        </p:sp>
        <p:sp>
          <p:nvSpPr>
            <p:cNvPr id="1006"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zı yazmaktan hoşlanır.</a:t>
              </a:r>
              <a:endParaRPr b="0" lang="en-US" sz="2000" spc="-1" strike="noStrike">
                <a:solidFill>
                  <a:srgbClr val="ffffff"/>
                </a:solidFill>
                <a:latin typeface="Times New Roman"/>
              </a:endParaRPr>
            </a:p>
          </p:txBody>
        </p:sp>
        <p:sp>
          <p:nvSpPr>
            <p:cNvPr id="1007"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Öğrendiği yeni kelimeleri kullanmayı sever.</a:t>
              </a:r>
              <a:endParaRPr b="0" lang="en-US" sz="2000" spc="-1" strike="noStrike">
                <a:solidFill>
                  <a:srgbClr val="ffffff"/>
                </a:solidFill>
                <a:latin typeface="Times New Roman"/>
              </a:endParaRPr>
            </a:p>
          </p:txBody>
        </p:sp>
        <p:sp>
          <p:nvSpPr>
            <p:cNvPr id="1008"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özel tartışmalarda başarılıdır.</a:t>
              </a:r>
              <a:endParaRPr b="0" lang="en-US" sz="2000" spc="-1" strike="noStrike">
                <a:solidFill>
                  <a:srgbClr val="ffffff"/>
                </a:solidFill>
                <a:latin typeface="Times New Roman"/>
              </a:endParaRPr>
            </a:p>
          </p:txBody>
        </p:sp>
        <p:grpSp>
          <p:nvGrpSpPr>
            <p:cNvPr id="1009" name=""/>
            <p:cNvGrpSpPr/>
            <p:nvPr/>
          </p:nvGrpSpPr>
          <p:grpSpPr>
            <a:xfrm>
              <a:off x="6278400" y="1125360"/>
              <a:ext cx="512640" cy="5114880"/>
              <a:chOff x="6278400" y="1125360"/>
              <a:chExt cx="512640" cy="5114880"/>
            </a:xfrm>
          </p:grpSpPr>
          <p:sp>
            <p:nvSpPr>
              <p:cNvPr id="1010"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1"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3"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5"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7"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9"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0" name=""/>
            <p:cNvGrpSpPr/>
            <p:nvPr/>
          </p:nvGrpSpPr>
          <p:grpSpPr>
            <a:xfrm>
              <a:off x="6792840" y="1108080"/>
              <a:ext cx="512640" cy="5113080"/>
              <a:chOff x="6792840" y="1108080"/>
              <a:chExt cx="512640" cy="5113080"/>
            </a:xfrm>
          </p:grpSpPr>
          <p:sp>
            <p:nvSpPr>
              <p:cNvPr id="1021"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31" name=""/>
            <p:cNvGrpSpPr/>
            <p:nvPr/>
          </p:nvGrpSpPr>
          <p:grpSpPr>
            <a:xfrm>
              <a:off x="7311960" y="1108080"/>
              <a:ext cx="512640" cy="5113080"/>
              <a:chOff x="7311960" y="1108080"/>
              <a:chExt cx="512640" cy="5113080"/>
            </a:xfrm>
          </p:grpSpPr>
          <p:sp>
            <p:nvSpPr>
              <p:cNvPr id="1032"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42" name=""/>
            <p:cNvGrpSpPr/>
            <p:nvPr/>
          </p:nvGrpSpPr>
          <p:grpSpPr>
            <a:xfrm>
              <a:off x="7826400" y="1108080"/>
              <a:ext cx="512280" cy="5113080"/>
              <a:chOff x="7826400" y="1108080"/>
              <a:chExt cx="512280" cy="5113080"/>
            </a:xfrm>
          </p:grpSpPr>
          <p:sp>
            <p:nvSpPr>
              <p:cNvPr id="1043"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3" name=""/>
            <p:cNvGrpSpPr/>
            <p:nvPr/>
          </p:nvGrpSpPr>
          <p:grpSpPr>
            <a:xfrm>
              <a:off x="8326440" y="1108080"/>
              <a:ext cx="512280" cy="5113080"/>
              <a:chOff x="8326440" y="1108080"/>
              <a:chExt cx="512280" cy="5113080"/>
            </a:xfrm>
          </p:grpSpPr>
          <p:sp>
            <p:nvSpPr>
              <p:cNvPr id="1054"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64" name=""/>
          <p:cNvGrpSpPr/>
          <p:nvPr/>
        </p:nvGrpSpPr>
        <p:grpSpPr>
          <a:xfrm>
            <a:off x="380880" y="520560"/>
            <a:ext cx="8457840" cy="5727960"/>
            <a:chOff x="380880" y="520560"/>
            <a:chExt cx="8457840" cy="5727960"/>
          </a:xfrm>
        </p:grpSpPr>
        <p:sp>
          <p:nvSpPr>
            <p:cNvPr id="1065"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066"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MANTIKSAL / MATEMATİKSEL ZEKA</a:t>
              </a:r>
              <a:endParaRPr b="0" lang="en-US" sz="2000" spc="-1" strike="noStrike">
                <a:solidFill>
                  <a:srgbClr val="ffffff"/>
                </a:solidFill>
                <a:latin typeface="Times New Roman"/>
              </a:endParaRPr>
            </a:p>
          </p:txBody>
        </p:sp>
        <p:sp>
          <p:nvSpPr>
            <p:cNvPr id="1067"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068"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069"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070"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071"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kinelerin nasıl çalıştığına dair sorular sorar.</a:t>
              </a:r>
              <a:endParaRPr b="0" lang="en-US" sz="2000" spc="-1" strike="noStrike">
                <a:solidFill>
                  <a:srgbClr val="ffffff"/>
                </a:solidFill>
                <a:latin typeface="Times New Roman"/>
              </a:endParaRPr>
            </a:p>
          </p:txBody>
        </p:sp>
        <p:sp>
          <p:nvSpPr>
            <p:cNvPr id="1072"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itmetik problemleri kafadan hesaplar </a:t>
              </a:r>
              <a:endParaRPr b="0" lang="en-US" sz="2000" spc="-1" strike="noStrike">
                <a:solidFill>
                  <a:srgbClr val="ffffff"/>
                </a:solidFill>
                <a:latin typeface="Times New Roman"/>
              </a:endParaRPr>
            </a:p>
          </p:txBody>
        </p:sp>
        <p:sp>
          <p:nvSpPr>
            <p:cNvPr id="1073"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tematik ve fen derslerinden hoşlanır.</a:t>
              </a:r>
              <a:endParaRPr b="0" lang="en-US" sz="2000" spc="-1" strike="noStrike">
                <a:solidFill>
                  <a:srgbClr val="ffffff"/>
                </a:solidFill>
                <a:latin typeface="Times New Roman"/>
              </a:endParaRPr>
            </a:p>
          </p:txBody>
        </p:sp>
        <p:sp>
          <p:nvSpPr>
            <p:cNvPr id="1074"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ranç ve benzeri strateji oyunları sever.</a:t>
              </a:r>
              <a:endParaRPr b="0" lang="en-US" sz="2000" spc="-1" strike="noStrike">
                <a:solidFill>
                  <a:srgbClr val="ffffff"/>
                </a:solidFill>
                <a:latin typeface="Times New Roman"/>
              </a:endParaRPr>
            </a:p>
          </p:txBody>
        </p:sp>
        <p:sp>
          <p:nvSpPr>
            <p:cNvPr id="1075"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ntık bulmacalarını, beyin jimnastiğini sever.</a:t>
              </a:r>
              <a:endParaRPr b="0" lang="en-US" sz="2000" spc="-1" strike="noStrike">
                <a:solidFill>
                  <a:srgbClr val="ffffff"/>
                </a:solidFill>
                <a:latin typeface="Times New Roman"/>
              </a:endParaRPr>
            </a:p>
          </p:txBody>
        </p:sp>
        <p:sp>
          <p:nvSpPr>
            <p:cNvPr id="1076"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lgisayara oyunlarından hoşlanır.</a:t>
              </a:r>
              <a:endParaRPr b="0" lang="en-US" sz="2000" spc="-1" strike="noStrike">
                <a:solidFill>
                  <a:srgbClr val="ffffff"/>
                </a:solidFill>
                <a:latin typeface="Times New Roman"/>
              </a:endParaRPr>
            </a:p>
          </p:txBody>
        </p:sp>
        <p:sp>
          <p:nvSpPr>
            <p:cNvPr id="1077"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Deneylerden, yeni denemeler yapmaktan hoşlanır.</a:t>
              </a:r>
              <a:endParaRPr b="0" lang="en-US" sz="1900" spc="-1" strike="noStrike">
                <a:solidFill>
                  <a:srgbClr val="ffffff"/>
                </a:solidFill>
                <a:latin typeface="Times New Roman"/>
              </a:endParaRPr>
            </a:p>
          </p:txBody>
        </p:sp>
        <p:sp>
          <p:nvSpPr>
            <p:cNvPr id="1078"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na oranla daha soyut düşünebilir.</a:t>
              </a:r>
              <a:endParaRPr b="0" lang="en-US" sz="2000" spc="-1" strike="noStrike">
                <a:solidFill>
                  <a:srgbClr val="ffffff"/>
                </a:solidFill>
                <a:latin typeface="Times New Roman"/>
              </a:endParaRPr>
            </a:p>
          </p:txBody>
        </p:sp>
        <p:sp>
          <p:nvSpPr>
            <p:cNvPr id="1079"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tematik oyunlarından hoşlanır.</a:t>
              </a:r>
              <a:endParaRPr b="0" lang="en-US" sz="2000" spc="-1" strike="noStrike">
                <a:solidFill>
                  <a:srgbClr val="ffffff"/>
                </a:solidFill>
                <a:latin typeface="Times New Roman"/>
              </a:endParaRPr>
            </a:p>
          </p:txBody>
        </p:sp>
        <p:sp>
          <p:nvSpPr>
            <p:cNvPr id="1080"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bep - sonuç ilişkilerini kurmaktan zevk alır.</a:t>
              </a:r>
              <a:endParaRPr b="0" lang="en-US" sz="2000" spc="-1" strike="noStrike">
                <a:solidFill>
                  <a:srgbClr val="ffffff"/>
                </a:solidFill>
                <a:latin typeface="Times New Roman"/>
              </a:endParaRPr>
            </a:p>
          </p:txBody>
        </p:sp>
        <p:grpSp>
          <p:nvGrpSpPr>
            <p:cNvPr id="1081" name=""/>
            <p:cNvGrpSpPr/>
            <p:nvPr/>
          </p:nvGrpSpPr>
          <p:grpSpPr>
            <a:xfrm>
              <a:off x="6278400" y="1125360"/>
              <a:ext cx="512640" cy="5114880"/>
              <a:chOff x="6278400" y="1125360"/>
              <a:chExt cx="512640" cy="5114880"/>
            </a:xfrm>
          </p:grpSpPr>
          <p:sp>
            <p:nvSpPr>
              <p:cNvPr id="1082"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2" name=""/>
            <p:cNvGrpSpPr/>
            <p:nvPr/>
          </p:nvGrpSpPr>
          <p:grpSpPr>
            <a:xfrm>
              <a:off x="6792840" y="1108080"/>
              <a:ext cx="512640" cy="5113080"/>
              <a:chOff x="6792840" y="1108080"/>
              <a:chExt cx="512640" cy="5113080"/>
            </a:xfrm>
          </p:grpSpPr>
          <p:sp>
            <p:nvSpPr>
              <p:cNvPr id="1093"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3" name=""/>
            <p:cNvGrpSpPr/>
            <p:nvPr/>
          </p:nvGrpSpPr>
          <p:grpSpPr>
            <a:xfrm>
              <a:off x="7311960" y="1108080"/>
              <a:ext cx="512640" cy="5113080"/>
              <a:chOff x="7311960" y="1108080"/>
              <a:chExt cx="512640" cy="5113080"/>
            </a:xfrm>
          </p:grpSpPr>
          <p:sp>
            <p:nvSpPr>
              <p:cNvPr id="1104"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7"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8"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9"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1"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14" name=""/>
            <p:cNvGrpSpPr/>
            <p:nvPr/>
          </p:nvGrpSpPr>
          <p:grpSpPr>
            <a:xfrm>
              <a:off x="7826400" y="1108080"/>
              <a:ext cx="512280" cy="5113080"/>
              <a:chOff x="7826400" y="1108080"/>
              <a:chExt cx="512280" cy="5113080"/>
            </a:xfrm>
          </p:grpSpPr>
          <p:sp>
            <p:nvSpPr>
              <p:cNvPr id="1115"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6"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7"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8"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9"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0"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1"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2"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5" name=""/>
            <p:cNvGrpSpPr/>
            <p:nvPr/>
          </p:nvGrpSpPr>
          <p:grpSpPr>
            <a:xfrm>
              <a:off x="8326440" y="1108080"/>
              <a:ext cx="512280" cy="5113080"/>
              <a:chOff x="8326440" y="1108080"/>
              <a:chExt cx="512280" cy="5113080"/>
            </a:xfrm>
          </p:grpSpPr>
          <p:sp>
            <p:nvSpPr>
              <p:cNvPr id="1126"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6" name=""/>
          <p:cNvGrpSpPr/>
          <p:nvPr/>
        </p:nvGrpSpPr>
        <p:grpSpPr>
          <a:xfrm>
            <a:off x="380880" y="533520"/>
            <a:ext cx="8534160" cy="5727600"/>
            <a:chOff x="380880" y="533520"/>
            <a:chExt cx="8534160" cy="5727600"/>
          </a:xfrm>
        </p:grpSpPr>
        <p:sp>
          <p:nvSpPr>
            <p:cNvPr id="1137" name=""/>
            <p:cNvSpPr/>
            <p:nvPr/>
          </p:nvSpPr>
          <p:spPr>
            <a:xfrm>
              <a:off x="631980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138" name=""/>
            <p:cNvSpPr/>
            <p:nvPr/>
          </p:nvSpPr>
          <p:spPr>
            <a:xfrm>
              <a:off x="380880" y="533520"/>
              <a:ext cx="5932440" cy="56808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ÖRSEL VE UZAMSAL ZEKA</a:t>
              </a:r>
              <a:endParaRPr b="0" lang="en-US" sz="2000" spc="-1" strike="noStrike">
                <a:solidFill>
                  <a:srgbClr val="ffffff"/>
                </a:solidFill>
                <a:latin typeface="Times New Roman"/>
              </a:endParaRPr>
            </a:p>
          </p:txBody>
        </p:sp>
        <p:sp>
          <p:nvSpPr>
            <p:cNvPr id="1139" name=""/>
            <p:cNvSpPr/>
            <p:nvPr/>
          </p:nvSpPr>
          <p:spPr>
            <a:xfrm>
              <a:off x="685656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140" name=""/>
            <p:cNvSpPr/>
            <p:nvPr/>
          </p:nvSpPr>
          <p:spPr>
            <a:xfrm>
              <a:off x="737388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141" name=""/>
            <p:cNvSpPr/>
            <p:nvPr/>
          </p:nvSpPr>
          <p:spPr>
            <a:xfrm>
              <a:off x="789480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142" name=""/>
            <p:cNvSpPr/>
            <p:nvPr/>
          </p:nvSpPr>
          <p:spPr>
            <a:xfrm>
              <a:off x="8397720" y="533520"/>
              <a:ext cx="481320" cy="568080"/>
            </a:xfrm>
            <a:custGeom>
              <a:avLst/>
              <a:gdLst>
                <a:gd name="textAreaLeft" fmla="*/ 23400 w 481320"/>
                <a:gd name="textAreaRight" fmla="*/ 457920 w 481320"/>
                <a:gd name="textAreaTop" fmla="*/ 23400 h 568080"/>
                <a:gd name="textAreaBottom" fmla="*/ 544680 h 568080"/>
              </a:gdLst>
              <a:ahLst/>
              <a:rect l="textAreaLeft" t="textAreaTop" r="textAreaRight" b="textAreaBottom"/>
              <a:pathLst>
                <a:path w="21600" h="25491">
                  <a:moveTo>
                    <a:pt x="3600" y="0"/>
                  </a:moveTo>
                  <a:arcTo wR="3600" hR="3600" stAng="16200000" swAng="-5400000"/>
                  <a:lnTo>
                    <a:pt x="0" y="21891"/>
                  </a:lnTo>
                  <a:arcTo wR="3600" hR="3600" stAng="10800000" swAng="-5400000"/>
                  <a:lnTo>
                    <a:pt x="18000" y="25491"/>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143" name=""/>
            <p:cNvSpPr/>
            <p:nvPr/>
          </p:nvSpPr>
          <p:spPr>
            <a:xfrm>
              <a:off x="380880" y="11635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nklere karşı çok duyarlıdır.</a:t>
              </a:r>
              <a:endParaRPr b="0" lang="en-US" sz="2000" spc="-1" strike="noStrike">
                <a:solidFill>
                  <a:srgbClr val="ffffff"/>
                </a:solidFill>
                <a:latin typeface="Times New Roman"/>
              </a:endParaRPr>
            </a:p>
          </p:txBody>
        </p:sp>
        <p:sp>
          <p:nvSpPr>
            <p:cNvPr id="1144" name=""/>
            <p:cNvSpPr/>
            <p:nvPr/>
          </p:nvSpPr>
          <p:spPr>
            <a:xfrm>
              <a:off x="380880" y="166356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Harita, tablo türü materyalleri daha kolay algılar.</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1145" name=""/>
            <p:cNvSpPr/>
            <p:nvPr/>
          </p:nvSpPr>
          <p:spPr>
            <a:xfrm>
              <a:off x="387360" y="216864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na oranla daha fazla hayal kurar.</a:t>
              </a:r>
              <a:endParaRPr b="0" lang="en-US" sz="2000" spc="-1" strike="noStrike">
                <a:solidFill>
                  <a:srgbClr val="ffffff"/>
                </a:solidFill>
                <a:latin typeface="Times New Roman"/>
              </a:endParaRPr>
            </a:p>
          </p:txBody>
        </p:sp>
        <p:sp>
          <p:nvSpPr>
            <p:cNvPr id="1146" name=""/>
            <p:cNvSpPr/>
            <p:nvPr/>
          </p:nvSpPr>
          <p:spPr>
            <a:xfrm>
              <a:off x="380880" y="270504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im yapmayı ve boyamayı çok sever.</a:t>
              </a:r>
              <a:endParaRPr b="0" lang="en-US" sz="2000" spc="-1" strike="noStrike">
                <a:solidFill>
                  <a:srgbClr val="ffffff"/>
                </a:solidFill>
                <a:latin typeface="Times New Roman"/>
              </a:endParaRPr>
            </a:p>
          </p:txBody>
        </p:sp>
        <p:sp>
          <p:nvSpPr>
            <p:cNvPr id="1147" name=""/>
            <p:cNvSpPr/>
            <p:nvPr/>
          </p:nvSpPr>
          <p:spPr>
            <a:xfrm>
              <a:off x="380880" y="323208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Comic Sans MS"/>
                </a:rPr>
                <a:t>Yap-boz, lego gibi oyunlardan hoşlanır.</a:t>
              </a:r>
              <a:endParaRPr b="0" lang="en-US" sz="2000" spc="-1" strike="noStrike">
                <a:solidFill>
                  <a:srgbClr val="ffffff"/>
                </a:solidFill>
                <a:latin typeface="Times New Roman"/>
              </a:endParaRPr>
            </a:p>
          </p:txBody>
        </p:sp>
        <p:sp>
          <p:nvSpPr>
            <p:cNvPr id="1148" name=""/>
            <p:cNvSpPr/>
            <p:nvPr/>
          </p:nvSpPr>
          <p:spPr>
            <a:xfrm>
              <a:off x="382680" y="374796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ha önce gittiği yerleri kolayca hatırlar.</a:t>
              </a:r>
              <a:endParaRPr b="0" lang="en-US" sz="2000" spc="-1" strike="noStrike">
                <a:solidFill>
                  <a:srgbClr val="ffffff"/>
                </a:solidFill>
                <a:latin typeface="Times New Roman"/>
              </a:endParaRPr>
            </a:p>
          </p:txBody>
        </p:sp>
        <p:sp>
          <p:nvSpPr>
            <p:cNvPr id="1149" name=""/>
            <p:cNvSpPr/>
            <p:nvPr/>
          </p:nvSpPr>
          <p:spPr>
            <a:xfrm>
              <a:off x="380880" y="428472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ulmaca çözmekten hoşlanır. </a:t>
              </a:r>
              <a:endParaRPr b="0" lang="en-US" sz="2000" spc="-1" strike="noStrike">
                <a:solidFill>
                  <a:srgbClr val="ffffff"/>
                </a:solidFill>
                <a:latin typeface="Times New Roman"/>
              </a:endParaRPr>
            </a:p>
          </p:txBody>
        </p:sp>
        <p:sp>
          <p:nvSpPr>
            <p:cNvPr id="1150" name=""/>
            <p:cNvSpPr/>
            <p:nvPr/>
          </p:nvSpPr>
          <p:spPr>
            <a:xfrm>
              <a:off x="380880" y="48211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iyalarını çok net ve ayrıntılarıyla hatırlar.</a:t>
              </a:r>
              <a:endParaRPr b="0" lang="en-US" sz="2000" spc="-1" strike="noStrike">
                <a:solidFill>
                  <a:srgbClr val="ffffff"/>
                </a:solidFill>
                <a:latin typeface="Times New Roman"/>
              </a:endParaRPr>
            </a:p>
          </p:txBody>
        </p:sp>
        <p:sp>
          <p:nvSpPr>
            <p:cNvPr id="1151" name=""/>
            <p:cNvSpPr/>
            <p:nvPr/>
          </p:nvSpPr>
          <p:spPr>
            <a:xfrm>
              <a:off x="380880" y="53593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imli kitapları daha çok sever.</a:t>
              </a:r>
              <a:endParaRPr b="0" lang="en-US" sz="2000" spc="-1" strike="noStrike">
                <a:solidFill>
                  <a:srgbClr val="ffffff"/>
                </a:solidFill>
                <a:latin typeface="Times New Roman"/>
              </a:endParaRPr>
            </a:p>
          </p:txBody>
        </p:sp>
        <p:sp>
          <p:nvSpPr>
            <p:cNvPr id="1152" name=""/>
            <p:cNvSpPr/>
            <p:nvPr/>
          </p:nvSpPr>
          <p:spPr>
            <a:xfrm>
              <a:off x="380880" y="589932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Kitaplarını, defterlerini, diğer materyalleri çizer.</a:t>
              </a:r>
              <a:endParaRPr b="0" lang="en-US" sz="1900" spc="-1" strike="noStrike">
                <a:solidFill>
                  <a:srgbClr val="ffffff"/>
                </a:solidFill>
                <a:latin typeface="Times New Roman"/>
              </a:endParaRPr>
            </a:p>
          </p:txBody>
        </p:sp>
        <p:grpSp>
          <p:nvGrpSpPr>
            <p:cNvPr id="1153" name=""/>
            <p:cNvGrpSpPr/>
            <p:nvPr/>
          </p:nvGrpSpPr>
          <p:grpSpPr>
            <a:xfrm>
              <a:off x="6330960" y="1138320"/>
              <a:ext cx="518760" cy="5114520"/>
              <a:chOff x="6330960" y="1138320"/>
              <a:chExt cx="518760" cy="5114520"/>
            </a:xfrm>
          </p:grpSpPr>
          <p:sp>
            <p:nvSpPr>
              <p:cNvPr id="1154" name=""/>
              <p:cNvSpPr/>
              <p:nvPr/>
            </p:nvSpPr>
            <p:spPr>
              <a:xfrm>
                <a:off x="6349320" y="113832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
              <p:cNvSpPr/>
              <p:nvPr/>
            </p:nvSpPr>
            <p:spPr>
              <a:xfrm>
                <a:off x="6349320" y="16506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
              <p:cNvSpPr/>
              <p:nvPr/>
            </p:nvSpPr>
            <p:spPr>
              <a:xfrm>
                <a:off x="6367680" y="216828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
              <p:cNvSpPr/>
              <p:nvPr/>
            </p:nvSpPr>
            <p:spPr>
              <a:xfrm>
                <a:off x="6349320" y="27000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
              <p:cNvSpPr/>
              <p:nvPr/>
            </p:nvSpPr>
            <p:spPr>
              <a:xfrm>
                <a:off x="6349320" y="3231000"/>
                <a:ext cx="4820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
              <p:cNvSpPr/>
              <p:nvPr/>
            </p:nvSpPr>
            <p:spPr>
              <a:xfrm>
                <a:off x="6349320" y="3743640"/>
                <a:ext cx="4820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
              <p:cNvSpPr/>
              <p:nvPr/>
            </p:nvSpPr>
            <p:spPr>
              <a:xfrm>
                <a:off x="6349320" y="426168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
              <p:cNvSpPr/>
              <p:nvPr/>
            </p:nvSpPr>
            <p:spPr>
              <a:xfrm>
                <a:off x="6349320" y="48114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a:off x="6330960" y="534276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p:nvPr/>
            </p:nvSpPr>
            <p:spPr>
              <a:xfrm>
                <a:off x="6330960" y="589284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4" name=""/>
            <p:cNvGrpSpPr/>
            <p:nvPr/>
          </p:nvGrpSpPr>
          <p:grpSpPr>
            <a:xfrm>
              <a:off x="6851520" y="1120680"/>
              <a:ext cx="517320" cy="5113080"/>
              <a:chOff x="6851520" y="1120680"/>
              <a:chExt cx="517320" cy="5113080"/>
            </a:xfrm>
          </p:grpSpPr>
          <p:sp>
            <p:nvSpPr>
              <p:cNvPr id="1165" name=""/>
              <p:cNvSpPr/>
              <p:nvPr/>
            </p:nvSpPr>
            <p:spPr>
              <a:xfrm>
                <a:off x="686988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
              <p:cNvSpPr/>
              <p:nvPr/>
            </p:nvSpPr>
            <p:spPr>
              <a:xfrm>
                <a:off x="686988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
              <p:cNvSpPr/>
              <p:nvPr/>
            </p:nvSpPr>
            <p:spPr>
              <a:xfrm>
                <a:off x="688824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
              <p:cNvSpPr/>
              <p:nvPr/>
            </p:nvSpPr>
            <p:spPr>
              <a:xfrm>
                <a:off x="686988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
              <p:cNvSpPr/>
              <p:nvPr/>
            </p:nvSpPr>
            <p:spPr>
              <a:xfrm>
                <a:off x="686988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
              <p:cNvSpPr/>
              <p:nvPr/>
            </p:nvSpPr>
            <p:spPr>
              <a:xfrm>
                <a:off x="686988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
              <p:cNvSpPr/>
              <p:nvPr/>
            </p:nvSpPr>
            <p:spPr>
              <a:xfrm>
                <a:off x="686988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
              <p:cNvSpPr/>
              <p:nvPr/>
            </p:nvSpPr>
            <p:spPr>
              <a:xfrm>
                <a:off x="686988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
              <p:cNvSpPr/>
              <p:nvPr/>
            </p:nvSpPr>
            <p:spPr>
              <a:xfrm>
                <a:off x="685152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
              <p:cNvSpPr/>
              <p:nvPr/>
            </p:nvSpPr>
            <p:spPr>
              <a:xfrm>
                <a:off x="685152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5" name=""/>
            <p:cNvGrpSpPr/>
            <p:nvPr/>
          </p:nvGrpSpPr>
          <p:grpSpPr>
            <a:xfrm>
              <a:off x="7373880" y="1120680"/>
              <a:ext cx="517320" cy="5113080"/>
              <a:chOff x="7373880" y="1120680"/>
              <a:chExt cx="517320" cy="5113080"/>
            </a:xfrm>
          </p:grpSpPr>
          <p:sp>
            <p:nvSpPr>
              <p:cNvPr id="1176" name=""/>
              <p:cNvSpPr/>
              <p:nvPr/>
            </p:nvSpPr>
            <p:spPr>
              <a:xfrm>
                <a:off x="739224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
              <p:cNvSpPr/>
              <p:nvPr/>
            </p:nvSpPr>
            <p:spPr>
              <a:xfrm>
                <a:off x="739224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
              <p:cNvSpPr/>
              <p:nvPr/>
            </p:nvSpPr>
            <p:spPr>
              <a:xfrm>
                <a:off x="741060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39224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39224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
              <p:cNvSpPr/>
              <p:nvPr/>
            </p:nvSpPr>
            <p:spPr>
              <a:xfrm>
                <a:off x="739224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
              <p:cNvSpPr/>
              <p:nvPr/>
            </p:nvSpPr>
            <p:spPr>
              <a:xfrm>
                <a:off x="739224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
              <p:cNvSpPr/>
              <p:nvPr/>
            </p:nvSpPr>
            <p:spPr>
              <a:xfrm>
                <a:off x="739224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
              <p:cNvSpPr/>
              <p:nvPr/>
            </p:nvSpPr>
            <p:spPr>
              <a:xfrm>
                <a:off x="737388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
              <p:cNvSpPr/>
              <p:nvPr/>
            </p:nvSpPr>
            <p:spPr>
              <a:xfrm>
                <a:off x="737388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86" name=""/>
            <p:cNvGrpSpPr/>
            <p:nvPr/>
          </p:nvGrpSpPr>
          <p:grpSpPr>
            <a:xfrm>
              <a:off x="7893000" y="1120680"/>
              <a:ext cx="517320" cy="5113080"/>
              <a:chOff x="7893000" y="1120680"/>
              <a:chExt cx="517320" cy="5113080"/>
            </a:xfrm>
          </p:grpSpPr>
          <p:sp>
            <p:nvSpPr>
              <p:cNvPr id="1187" name=""/>
              <p:cNvSpPr/>
              <p:nvPr/>
            </p:nvSpPr>
            <p:spPr>
              <a:xfrm>
                <a:off x="791136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
              <p:cNvSpPr/>
              <p:nvPr/>
            </p:nvSpPr>
            <p:spPr>
              <a:xfrm>
                <a:off x="791136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
              <p:cNvSpPr/>
              <p:nvPr/>
            </p:nvSpPr>
            <p:spPr>
              <a:xfrm>
                <a:off x="792972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
              <p:cNvSpPr/>
              <p:nvPr/>
            </p:nvSpPr>
            <p:spPr>
              <a:xfrm>
                <a:off x="791136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
              <p:cNvSpPr/>
              <p:nvPr/>
            </p:nvSpPr>
            <p:spPr>
              <a:xfrm>
                <a:off x="791136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
              <p:cNvSpPr/>
              <p:nvPr/>
            </p:nvSpPr>
            <p:spPr>
              <a:xfrm>
                <a:off x="791136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
              <p:cNvSpPr/>
              <p:nvPr/>
            </p:nvSpPr>
            <p:spPr>
              <a:xfrm>
                <a:off x="791136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
              <p:cNvSpPr/>
              <p:nvPr/>
            </p:nvSpPr>
            <p:spPr>
              <a:xfrm>
                <a:off x="791136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
              <p:cNvSpPr/>
              <p:nvPr/>
            </p:nvSpPr>
            <p:spPr>
              <a:xfrm>
                <a:off x="789300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
              <p:cNvSpPr/>
              <p:nvPr/>
            </p:nvSpPr>
            <p:spPr>
              <a:xfrm>
                <a:off x="789300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97" name=""/>
            <p:cNvGrpSpPr/>
            <p:nvPr/>
          </p:nvGrpSpPr>
          <p:grpSpPr>
            <a:xfrm>
              <a:off x="8397720" y="1120680"/>
              <a:ext cx="517320" cy="5113080"/>
              <a:chOff x="8397720" y="1120680"/>
              <a:chExt cx="517320" cy="5113080"/>
            </a:xfrm>
          </p:grpSpPr>
          <p:sp>
            <p:nvSpPr>
              <p:cNvPr id="1198" name=""/>
              <p:cNvSpPr/>
              <p:nvPr/>
            </p:nvSpPr>
            <p:spPr>
              <a:xfrm>
                <a:off x="841608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
              <p:cNvSpPr/>
              <p:nvPr/>
            </p:nvSpPr>
            <p:spPr>
              <a:xfrm>
                <a:off x="841608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p:nvPr/>
            </p:nvSpPr>
            <p:spPr>
              <a:xfrm>
                <a:off x="843444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
              <p:cNvSpPr/>
              <p:nvPr/>
            </p:nvSpPr>
            <p:spPr>
              <a:xfrm>
                <a:off x="841608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
              <p:cNvSpPr/>
              <p:nvPr/>
            </p:nvSpPr>
            <p:spPr>
              <a:xfrm>
                <a:off x="841608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
              <p:cNvSpPr/>
              <p:nvPr/>
            </p:nvSpPr>
            <p:spPr>
              <a:xfrm>
                <a:off x="841608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
              <p:cNvSpPr/>
              <p:nvPr/>
            </p:nvSpPr>
            <p:spPr>
              <a:xfrm>
                <a:off x="841608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
              <p:cNvSpPr/>
              <p:nvPr/>
            </p:nvSpPr>
            <p:spPr>
              <a:xfrm>
                <a:off x="841608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
              <p:cNvSpPr/>
              <p:nvPr/>
            </p:nvSpPr>
            <p:spPr>
              <a:xfrm>
                <a:off x="839772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
              <p:cNvSpPr/>
              <p:nvPr/>
            </p:nvSpPr>
            <p:spPr>
              <a:xfrm>
                <a:off x="839772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08" name=""/>
          <p:cNvGrpSpPr/>
          <p:nvPr/>
        </p:nvGrpSpPr>
        <p:grpSpPr>
          <a:xfrm>
            <a:off x="380880" y="520560"/>
            <a:ext cx="8457840" cy="5727960"/>
            <a:chOff x="380880" y="520560"/>
            <a:chExt cx="8457840" cy="5727960"/>
          </a:xfrm>
        </p:grpSpPr>
        <p:sp>
          <p:nvSpPr>
            <p:cNvPr id="1209"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210"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MÜZİKSEL / RİTMİK ZEKA</a:t>
              </a:r>
              <a:endParaRPr b="0" lang="en-US" sz="2000" spc="-1" strike="noStrike">
                <a:solidFill>
                  <a:srgbClr val="ffffff"/>
                </a:solidFill>
                <a:latin typeface="Times New Roman"/>
              </a:endParaRPr>
            </a:p>
          </p:txBody>
        </p:sp>
        <p:sp>
          <p:nvSpPr>
            <p:cNvPr id="1211"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212"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213"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214"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215"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Şarkıların melodilerini rahatlıkla hatırlar.</a:t>
              </a:r>
              <a:endParaRPr b="0" lang="en-US" sz="2000" spc="-1" strike="noStrike">
                <a:solidFill>
                  <a:srgbClr val="ffffff"/>
                </a:solidFill>
                <a:latin typeface="Times New Roman"/>
              </a:endParaRPr>
            </a:p>
          </p:txBody>
        </p:sp>
        <p:sp>
          <p:nvSpPr>
            <p:cNvPr id="1216"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Güzel şarkı söyler. </a:t>
              </a:r>
              <a:endParaRPr b="0" lang="en-US" sz="2000" spc="-1" strike="noStrike">
                <a:solidFill>
                  <a:srgbClr val="ffffff"/>
                </a:solidFill>
                <a:latin typeface="Times New Roman"/>
              </a:endParaRPr>
            </a:p>
          </p:txBody>
        </p:sp>
        <p:sp>
          <p:nvSpPr>
            <p:cNvPr id="1217"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üzik aleti çalar ya da çalmayı çok ister.</a:t>
              </a:r>
              <a:endParaRPr b="0" lang="en-US" sz="2000" spc="-1" strike="noStrike">
                <a:solidFill>
                  <a:srgbClr val="ffffff"/>
                </a:solidFill>
                <a:latin typeface="Times New Roman"/>
              </a:endParaRPr>
            </a:p>
          </p:txBody>
        </p:sp>
        <p:sp>
          <p:nvSpPr>
            <p:cNvPr id="1218"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üzik dersini çok sever.</a:t>
              </a:r>
              <a:endParaRPr b="0" lang="en-US" sz="2000" spc="-1" strike="noStrike">
                <a:solidFill>
                  <a:srgbClr val="ffffff"/>
                </a:solidFill>
                <a:latin typeface="Times New Roman"/>
              </a:endParaRPr>
            </a:p>
          </p:txBody>
        </p:sp>
        <p:sp>
          <p:nvSpPr>
            <p:cNvPr id="1219"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itmik konuşur ya da hareket eder.</a:t>
              </a:r>
              <a:endParaRPr b="0" lang="en-US" sz="2000" spc="-1" strike="noStrike">
                <a:solidFill>
                  <a:srgbClr val="ffffff"/>
                </a:solidFill>
                <a:latin typeface="Times New Roman"/>
              </a:endParaRPr>
            </a:p>
          </p:txBody>
        </p:sp>
        <p:sp>
          <p:nvSpPr>
            <p:cNvPr id="1220"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arkında olmadan mırıldanır.</a:t>
              </a:r>
              <a:endParaRPr b="0" lang="en-US" sz="2000" spc="-1" strike="noStrike">
                <a:solidFill>
                  <a:srgbClr val="ffffff"/>
                </a:solidFill>
                <a:latin typeface="Times New Roman"/>
              </a:endParaRPr>
            </a:p>
          </p:txBody>
        </p:sp>
        <p:sp>
          <p:nvSpPr>
            <p:cNvPr id="1221"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alışırken eliyle ya da ayağıyla ritim tutar.</a:t>
              </a:r>
              <a:endParaRPr b="0" lang="en-US" sz="2000" spc="-1" strike="noStrike">
                <a:solidFill>
                  <a:srgbClr val="ffffff"/>
                </a:solidFill>
                <a:latin typeface="Times New Roman"/>
              </a:endParaRPr>
            </a:p>
          </p:txBody>
        </p:sp>
        <p:sp>
          <p:nvSpPr>
            <p:cNvPr id="1222"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evredeki sesler çok dikkatini çeker.</a:t>
              </a:r>
              <a:endParaRPr b="0" lang="en-US" sz="2000" spc="-1" strike="noStrike">
                <a:solidFill>
                  <a:srgbClr val="ffffff"/>
                </a:solidFill>
                <a:latin typeface="Times New Roman"/>
              </a:endParaRPr>
            </a:p>
          </p:txBody>
        </p:sp>
        <p:sp>
          <p:nvSpPr>
            <p:cNvPr id="1223"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alışırken müzik dinlemek çok hoşuna gider.</a:t>
              </a:r>
              <a:endParaRPr b="0" lang="en-US" sz="2000" spc="-1" strike="noStrike">
                <a:solidFill>
                  <a:srgbClr val="ffffff"/>
                </a:solidFill>
                <a:latin typeface="Times New Roman"/>
              </a:endParaRPr>
            </a:p>
          </p:txBody>
        </p:sp>
        <p:sp>
          <p:nvSpPr>
            <p:cNvPr id="1224"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Öğrendiği şarkıları paylaşmayı sever.</a:t>
              </a:r>
              <a:endParaRPr b="0" lang="en-US" sz="2000" spc="-1" strike="noStrike">
                <a:solidFill>
                  <a:srgbClr val="ffffff"/>
                </a:solidFill>
                <a:latin typeface="Times New Roman"/>
              </a:endParaRPr>
            </a:p>
          </p:txBody>
        </p:sp>
        <p:grpSp>
          <p:nvGrpSpPr>
            <p:cNvPr id="1225" name=""/>
            <p:cNvGrpSpPr/>
            <p:nvPr/>
          </p:nvGrpSpPr>
          <p:grpSpPr>
            <a:xfrm>
              <a:off x="6278400" y="1125360"/>
              <a:ext cx="512640" cy="5114880"/>
              <a:chOff x="6278400" y="1125360"/>
              <a:chExt cx="512640" cy="5114880"/>
            </a:xfrm>
          </p:grpSpPr>
          <p:sp>
            <p:nvSpPr>
              <p:cNvPr id="1226"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9"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0"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36" name=""/>
            <p:cNvGrpSpPr/>
            <p:nvPr/>
          </p:nvGrpSpPr>
          <p:grpSpPr>
            <a:xfrm>
              <a:off x="6792840" y="1108080"/>
              <a:ext cx="512640" cy="5113080"/>
              <a:chOff x="6792840" y="1108080"/>
              <a:chExt cx="512640" cy="5113080"/>
            </a:xfrm>
          </p:grpSpPr>
          <p:sp>
            <p:nvSpPr>
              <p:cNvPr id="1237"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7" name=""/>
            <p:cNvGrpSpPr/>
            <p:nvPr/>
          </p:nvGrpSpPr>
          <p:grpSpPr>
            <a:xfrm>
              <a:off x="7311960" y="1108080"/>
              <a:ext cx="512640" cy="5113080"/>
              <a:chOff x="7311960" y="1108080"/>
              <a:chExt cx="512640" cy="5113080"/>
            </a:xfrm>
          </p:grpSpPr>
          <p:sp>
            <p:nvSpPr>
              <p:cNvPr id="1248"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58" name=""/>
            <p:cNvGrpSpPr/>
            <p:nvPr/>
          </p:nvGrpSpPr>
          <p:grpSpPr>
            <a:xfrm>
              <a:off x="7826400" y="1108080"/>
              <a:ext cx="512280" cy="5113080"/>
              <a:chOff x="7826400" y="1108080"/>
              <a:chExt cx="512280" cy="5113080"/>
            </a:xfrm>
          </p:grpSpPr>
          <p:sp>
            <p:nvSpPr>
              <p:cNvPr id="1259"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69" name=""/>
            <p:cNvGrpSpPr/>
            <p:nvPr/>
          </p:nvGrpSpPr>
          <p:grpSpPr>
            <a:xfrm>
              <a:off x="8326440" y="1108080"/>
              <a:ext cx="512280" cy="5113080"/>
              <a:chOff x="8326440" y="1108080"/>
              <a:chExt cx="512280" cy="5113080"/>
            </a:xfrm>
          </p:grpSpPr>
          <p:sp>
            <p:nvSpPr>
              <p:cNvPr id="1270"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80" name=""/>
          <p:cNvGrpSpPr/>
          <p:nvPr/>
        </p:nvGrpSpPr>
        <p:grpSpPr>
          <a:xfrm>
            <a:off x="304920" y="533520"/>
            <a:ext cx="8533440" cy="5727600"/>
            <a:chOff x="304920" y="533520"/>
            <a:chExt cx="8533440" cy="5727600"/>
          </a:xfrm>
        </p:grpSpPr>
        <p:sp>
          <p:nvSpPr>
            <p:cNvPr id="1281" name=""/>
            <p:cNvSpPr/>
            <p:nvPr/>
          </p:nvSpPr>
          <p:spPr>
            <a:xfrm>
              <a:off x="6243480" y="533520"/>
              <a:ext cx="481320" cy="568080"/>
            </a:xfrm>
            <a:custGeom>
              <a:avLst/>
              <a:gdLst>
                <a:gd name="textAreaLeft" fmla="*/ 23400 w 481320"/>
                <a:gd name="textAreaRight" fmla="*/ 457920 w 481320"/>
                <a:gd name="textAreaTop" fmla="*/ 23400 h 568080"/>
                <a:gd name="textAreaBottom" fmla="*/ 544680 h 568080"/>
              </a:gdLst>
              <a:ahLst/>
              <a:rect l="textAreaLeft" t="textAreaTop" r="textAreaRight" b="textAreaBottom"/>
              <a:pathLst>
                <a:path w="21600" h="25491">
                  <a:moveTo>
                    <a:pt x="3600" y="0"/>
                  </a:moveTo>
                  <a:arcTo wR="3600" hR="3600" stAng="16200000" swAng="-5400000"/>
                  <a:lnTo>
                    <a:pt x="0" y="21891"/>
                  </a:lnTo>
                  <a:arcTo wR="3600" hR="3600" stAng="10800000" swAng="-5400000"/>
                  <a:lnTo>
                    <a:pt x="18000" y="25491"/>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282" name=""/>
            <p:cNvSpPr/>
            <p:nvPr/>
          </p:nvSpPr>
          <p:spPr>
            <a:xfrm>
              <a:off x="304920" y="533520"/>
              <a:ext cx="5932440" cy="56808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DENSEL / KİNESTETİK ZEKA</a:t>
              </a:r>
              <a:endParaRPr b="0" lang="en-US" sz="2000" spc="-1" strike="noStrike">
                <a:solidFill>
                  <a:srgbClr val="ffffff"/>
                </a:solidFill>
                <a:latin typeface="Times New Roman"/>
              </a:endParaRPr>
            </a:p>
          </p:txBody>
        </p:sp>
        <p:sp>
          <p:nvSpPr>
            <p:cNvPr id="1283" name=""/>
            <p:cNvSpPr/>
            <p:nvPr/>
          </p:nvSpPr>
          <p:spPr>
            <a:xfrm>
              <a:off x="678024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284" name=""/>
            <p:cNvSpPr/>
            <p:nvPr/>
          </p:nvSpPr>
          <p:spPr>
            <a:xfrm>
              <a:off x="7297560" y="533520"/>
              <a:ext cx="481320" cy="568080"/>
            </a:xfrm>
            <a:custGeom>
              <a:avLst/>
              <a:gdLst>
                <a:gd name="textAreaLeft" fmla="*/ 23400 w 481320"/>
                <a:gd name="textAreaRight" fmla="*/ 457920 w 481320"/>
                <a:gd name="textAreaTop" fmla="*/ 23400 h 568080"/>
                <a:gd name="textAreaBottom" fmla="*/ 544680 h 568080"/>
              </a:gdLst>
              <a:ahLst/>
              <a:rect l="textAreaLeft" t="textAreaTop" r="textAreaRight" b="textAreaBottom"/>
              <a:pathLst>
                <a:path w="21600" h="25491">
                  <a:moveTo>
                    <a:pt x="3600" y="0"/>
                  </a:moveTo>
                  <a:arcTo wR="3600" hR="3600" stAng="16200000" swAng="-5400000"/>
                  <a:lnTo>
                    <a:pt x="0" y="21891"/>
                  </a:lnTo>
                  <a:arcTo wR="3600" hR="3600" stAng="10800000" swAng="-5400000"/>
                  <a:lnTo>
                    <a:pt x="18000" y="25491"/>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285" name=""/>
            <p:cNvSpPr/>
            <p:nvPr/>
          </p:nvSpPr>
          <p:spPr>
            <a:xfrm>
              <a:off x="781848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286" name=""/>
            <p:cNvSpPr/>
            <p:nvPr/>
          </p:nvSpPr>
          <p:spPr>
            <a:xfrm>
              <a:off x="8321760" y="533520"/>
              <a:ext cx="480960" cy="568080"/>
            </a:xfrm>
            <a:custGeom>
              <a:avLst/>
              <a:gdLst>
                <a:gd name="textAreaLeft" fmla="*/ 23400 w 480960"/>
                <a:gd name="textAreaRight" fmla="*/ 457560 w 480960"/>
                <a:gd name="textAreaTop" fmla="*/ 23400 h 568080"/>
                <a:gd name="textAreaBottom" fmla="*/ 544680 h 568080"/>
              </a:gdLst>
              <a:ahLst/>
              <a:rect l="textAreaLeft" t="textAreaTop" r="textAreaRight" b="textAreaBottom"/>
              <a:pathLst>
                <a:path w="21600" h="25510">
                  <a:moveTo>
                    <a:pt x="3600" y="0"/>
                  </a:moveTo>
                  <a:arcTo wR="3600" hR="3600" stAng="16200000" swAng="-5400000"/>
                  <a:lnTo>
                    <a:pt x="0" y="21910"/>
                  </a:lnTo>
                  <a:arcTo wR="3600" hR="3600" stAng="10800000" swAng="-5400000"/>
                  <a:lnTo>
                    <a:pt x="18000" y="25510"/>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287" name=""/>
            <p:cNvSpPr/>
            <p:nvPr/>
          </p:nvSpPr>
          <p:spPr>
            <a:xfrm>
              <a:off x="304920" y="11635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oşmayı, atlamayı ve güreşmeyi çok sever.</a:t>
              </a:r>
              <a:endParaRPr b="0" lang="en-US" sz="2000" spc="-1" strike="noStrike">
                <a:solidFill>
                  <a:srgbClr val="ffffff"/>
                </a:solidFill>
                <a:latin typeface="Times New Roman"/>
              </a:endParaRPr>
            </a:p>
          </p:txBody>
        </p:sp>
        <p:sp>
          <p:nvSpPr>
            <p:cNvPr id="1288" name=""/>
            <p:cNvSpPr/>
            <p:nvPr/>
          </p:nvSpPr>
          <p:spPr>
            <a:xfrm>
              <a:off x="304920" y="166356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turduğu yerde duramaz, kımıldanır. </a:t>
              </a:r>
              <a:endParaRPr b="0" lang="en-US" sz="2000" spc="-1" strike="noStrike">
                <a:solidFill>
                  <a:srgbClr val="ffffff"/>
                </a:solidFill>
                <a:latin typeface="Times New Roman"/>
              </a:endParaRPr>
            </a:p>
          </p:txBody>
        </p:sp>
        <p:sp>
          <p:nvSpPr>
            <p:cNvPr id="1289" name=""/>
            <p:cNvSpPr/>
            <p:nvPr/>
          </p:nvSpPr>
          <p:spPr>
            <a:xfrm>
              <a:off x="311040" y="216864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Düşüncelerini mimik-davranışlarla rahat ifade eder.</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1290" name=""/>
            <p:cNvSpPr/>
            <p:nvPr/>
          </p:nvSpPr>
          <p:spPr>
            <a:xfrm>
              <a:off x="304920" y="270504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Bir şeyi okumak yerine yaparak öğrenmeyi sever.</a:t>
              </a:r>
              <a:endParaRPr b="0" lang="en-US" sz="1900" spc="-1" strike="noStrike">
                <a:solidFill>
                  <a:srgbClr val="ffffff"/>
                </a:solidFill>
                <a:latin typeface="Times New Roman"/>
              </a:endParaRPr>
            </a:p>
          </p:txBody>
        </p:sp>
        <p:sp>
          <p:nvSpPr>
            <p:cNvPr id="1291" name=""/>
            <p:cNvSpPr/>
            <p:nvPr/>
          </p:nvSpPr>
          <p:spPr>
            <a:xfrm>
              <a:off x="304920" y="323208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Merak ettiği şeyleri eline alarak incelemek ister.</a:t>
              </a:r>
              <a:endParaRPr b="0" lang="en-US" sz="1900" spc="-1" strike="noStrike">
                <a:solidFill>
                  <a:srgbClr val="ffffff"/>
                </a:solidFill>
                <a:latin typeface="Times New Roman"/>
              </a:endParaRPr>
            </a:p>
          </p:txBody>
        </p:sp>
        <p:sp>
          <p:nvSpPr>
            <p:cNvPr id="1292" name=""/>
            <p:cNvSpPr/>
            <p:nvPr/>
          </p:nvSpPr>
          <p:spPr>
            <a:xfrm>
              <a:off x="306360" y="374796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oş vakitlerini dışarıda geçirmek ister.</a:t>
              </a:r>
              <a:endParaRPr b="0" lang="en-US" sz="2000" spc="-1" strike="noStrike">
                <a:solidFill>
                  <a:srgbClr val="ffffff"/>
                </a:solidFill>
                <a:latin typeface="Times New Roman"/>
              </a:endParaRPr>
            </a:p>
          </p:txBody>
        </p:sp>
        <p:sp>
          <p:nvSpPr>
            <p:cNvPr id="1293" name=""/>
            <p:cNvSpPr/>
            <p:nvPr/>
          </p:nvSpPr>
          <p:spPr>
            <a:xfrm>
              <a:off x="304920" y="428472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yla fiziksel oyunlar oynamayı sever.  </a:t>
              </a:r>
              <a:endParaRPr b="0" lang="en-US" sz="2000" spc="-1" strike="noStrike">
                <a:solidFill>
                  <a:srgbClr val="ffffff"/>
                </a:solidFill>
                <a:latin typeface="Times New Roman"/>
              </a:endParaRPr>
            </a:p>
          </p:txBody>
        </p:sp>
        <p:sp>
          <p:nvSpPr>
            <p:cNvPr id="1294" name=""/>
            <p:cNvSpPr/>
            <p:nvPr/>
          </p:nvSpPr>
          <p:spPr>
            <a:xfrm>
              <a:off x="304920" y="48211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l becerileri gelişmiştir.</a:t>
              </a:r>
              <a:endParaRPr b="0" lang="en-US" sz="2000" spc="-1" strike="noStrike">
                <a:solidFill>
                  <a:srgbClr val="ffffff"/>
                </a:solidFill>
                <a:latin typeface="Times New Roman"/>
              </a:endParaRPr>
            </a:p>
          </p:txBody>
        </p:sp>
        <p:sp>
          <p:nvSpPr>
            <p:cNvPr id="1295" name=""/>
            <p:cNvSpPr/>
            <p:nvPr/>
          </p:nvSpPr>
          <p:spPr>
            <a:xfrm>
              <a:off x="304920" y="5359320"/>
              <a:ext cx="59324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eramını anlatırken vücut hareketlerini kullanır.</a:t>
              </a:r>
              <a:endParaRPr b="0" lang="en-US" sz="2000" spc="-1" strike="noStrike">
                <a:solidFill>
                  <a:srgbClr val="ffffff"/>
                </a:solidFill>
                <a:latin typeface="Times New Roman"/>
              </a:endParaRPr>
            </a:p>
          </p:txBody>
        </p:sp>
        <p:sp>
          <p:nvSpPr>
            <p:cNvPr id="1296" name=""/>
            <p:cNvSpPr/>
            <p:nvPr/>
          </p:nvSpPr>
          <p:spPr>
            <a:xfrm>
              <a:off x="304920" y="5899320"/>
              <a:ext cx="59324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nsanlara ve eşyalara dokunmaktan hoşlanır.</a:t>
              </a:r>
              <a:endParaRPr b="0" lang="en-US" sz="2000" spc="-1" strike="noStrike">
                <a:solidFill>
                  <a:srgbClr val="ffffff"/>
                </a:solidFill>
                <a:latin typeface="Times New Roman"/>
              </a:endParaRPr>
            </a:p>
          </p:txBody>
        </p:sp>
        <p:grpSp>
          <p:nvGrpSpPr>
            <p:cNvPr id="1297" name=""/>
            <p:cNvGrpSpPr/>
            <p:nvPr/>
          </p:nvGrpSpPr>
          <p:grpSpPr>
            <a:xfrm>
              <a:off x="6254640" y="1138320"/>
              <a:ext cx="518760" cy="5114520"/>
              <a:chOff x="6254640" y="1138320"/>
              <a:chExt cx="518760" cy="5114520"/>
            </a:xfrm>
          </p:grpSpPr>
          <p:sp>
            <p:nvSpPr>
              <p:cNvPr id="1298" name=""/>
              <p:cNvSpPr/>
              <p:nvPr/>
            </p:nvSpPr>
            <p:spPr>
              <a:xfrm>
                <a:off x="6273000" y="113832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
              <p:cNvSpPr/>
              <p:nvPr/>
            </p:nvSpPr>
            <p:spPr>
              <a:xfrm>
                <a:off x="6273000" y="16506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
              <p:cNvSpPr/>
              <p:nvPr/>
            </p:nvSpPr>
            <p:spPr>
              <a:xfrm>
                <a:off x="6291360" y="216828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
              <p:cNvSpPr/>
              <p:nvPr/>
            </p:nvSpPr>
            <p:spPr>
              <a:xfrm>
                <a:off x="6273000" y="27000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
              <p:cNvSpPr/>
              <p:nvPr/>
            </p:nvSpPr>
            <p:spPr>
              <a:xfrm>
                <a:off x="6273000" y="3231000"/>
                <a:ext cx="4820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
              <p:cNvSpPr/>
              <p:nvPr/>
            </p:nvSpPr>
            <p:spPr>
              <a:xfrm>
                <a:off x="6273000" y="3743640"/>
                <a:ext cx="4820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
              <p:cNvSpPr/>
              <p:nvPr/>
            </p:nvSpPr>
            <p:spPr>
              <a:xfrm>
                <a:off x="6273000" y="426168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
              <p:cNvSpPr/>
              <p:nvPr/>
            </p:nvSpPr>
            <p:spPr>
              <a:xfrm>
                <a:off x="6273000" y="481140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
              <p:cNvSpPr/>
              <p:nvPr/>
            </p:nvSpPr>
            <p:spPr>
              <a:xfrm>
                <a:off x="6254640" y="534276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
              <p:cNvSpPr/>
              <p:nvPr/>
            </p:nvSpPr>
            <p:spPr>
              <a:xfrm>
                <a:off x="6254640" y="5892840"/>
                <a:ext cx="4820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8" name=""/>
            <p:cNvGrpSpPr/>
            <p:nvPr/>
          </p:nvGrpSpPr>
          <p:grpSpPr>
            <a:xfrm>
              <a:off x="6775560" y="1120680"/>
              <a:ext cx="516600" cy="5113080"/>
              <a:chOff x="6775560" y="1120680"/>
              <a:chExt cx="516600" cy="5113080"/>
            </a:xfrm>
          </p:grpSpPr>
          <p:sp>
            <p:nvSpPr>
              <p:cNvPr id="1309" name=""/>
              <p:cNvSpPr/>
              <p:nvPr/>
            </p:nvSpPr>
            <p:spPr>
              <a:xfrm>
                <a:off x="6793920" y="112068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6793920" y="16329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6811920" y="21506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
              <p:cNvSpPr/>
              <p:nvPr/>
            </p:nvSpPr>
            <p:spPr>
              <a:xfrm>
                <a:off x="6793920" y="26816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
              <p:cNvSpPr/>
              <p:nvPr/>
            </p:nvSpPr>
            <p:spPr>
              <a:xfrm>
                <a:off x="6793920" y="3212640"/>
                <a:ext cx="4802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
              <p:cNvSpPr/>
              <p:nvPr/>
            </p:nvSpPr>
            <p:spPr>
              <a:xfrm>
                <a:off x="6793920" y="3725280"/>
                <a:ext cx="4802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
              <p:cNvSpPr/>
              <p:nvPr/>
            </p:nvSpPr>
            <p:spPr>
              <a:xfrm>
                <a:off x="6793920" y="42429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6793920" y="479268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
              <p:cNvSpPr/>
              <p:nvPr/>
            </p:nvSpPr>
            <p:spPr>
              <a:xfrm>
                <a:off x="6775560" y="53240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
              <p:cNvSpPr/>
              <p:nvPr/>
            </p:nvSpPr>
            <p:spPr>
              <a:xfrm>
                <a:off x="6775560" y="58737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19" name=""/>
            <p:cNvGrpSpPr/>
            <p:nvPr/>
          </p:nvGrpSpPr>
          <p:grpSpPr>
            <a:xfrm>
              <a:off x="7297560" y="1120680"/>
              <a:ext cx="517320" cy="5113080"/>
              <a:chOff x="7297560" y="1120680"/>
              <a:chExt cx="517320" cy="5113080"/>
            </a:xfrm>
          </p:grpSpPr>
          <p:sp>
            <p:nvSpPr>
              <p:cNvPr id="1320" name=""/>
              <p:cNvSpPr/>
              <p:nvPr/>
            </p:nvSpPr>
            <p:spPr>
              <a:xfrm>
                <a:off x="731592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
              <p:cNvSpPr/>
              <p:nvPr/>
            </p:nvSpPr>
            <p:spPr>
              <a:xfrm>
                <a:off x="731592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733428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
              <p:cNvSpPr/>
              <p:nvPr/>
            </p:nvSpPr>
            <p:spPr>
              <a:xfrm>
                <a:off x="731592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
              <p:cNvSpPr/>
              <p:nvPr/>
            </p:nvSpPr>
            <p:spPr>
              <a:xfrm>
                <a:off x="731592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
              <p:cNvSpPr/>
              <p:nvPr/>
            </p:nvSpPr>
            <p:spPr>
              <a:xfrm>
                <a:off x="731592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
              <p:cNvSpPr/>
              <p:nvPr/>
            </p:nvSpPr>
            <p:spPr>
              <a:xfrm>
                <a:off x="731592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7" name=""/>
              <p:cNvSpPr/>
              <p:nvPr/>
            </p:nvSpPr>
            <p:spPr>
              <a:xfrm>
                <a:off x="731592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29756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9" name=""/>
              <p:cNvSpPr/>
              <p:nvPr/>
            </p:nvSpPr>
            <p:spPr>
              <a:xfrm>
                <a:off x="729756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0" name=""/>
            <p:cNvGrpSpPr/>
            <p:nvPr/>
          </p:nvGrpSpPr>
          <p:grpSpPr>
            <a:xfrm>
              <a:off x="7816680" y="1120680"/>
              <a:ext cx="517320" cy="5113080"/>
              <a:chOff x="7816680" y="1120680"/>
              <a:chExt cx="517320" cy="5113080"/>
            </a:xfrm>
          </p:grpSpPr>
          <p:sp>
            <p:nvSpPr>
              <p:cNvPr id="1331" name=""/>
              <p:cNvSpPr/>
              <p:nvPr/>
            </p:nvSpPr>
            <p:spPr>
              <a:xfrm>
                <a:off x="7835040" y="1120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7835040" y="163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3" name=""/>
              <p:cNvSpPr/>
              <p:nvPr/>
            </p:nvSpPr>
            <p:spPr>
              <a:xfrm>
                <a:off x="7853400" y="2150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7835040" y="26816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
              <p:cNvSpPr/>
              <p:nvPr/>
            </p:nvSpPr>
            <p:spPr>
              <a:xfrm>
                <a:off x="7835040" y="321264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7835040" y="3725280"/>
                <a:ext cx="480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
              <p:cNvSpPr/>
              <p:nvPr/>
            </p:nvSpPr>
            <p:spPr>
              <a:xfrm>
                <a:off x="7835040" y="42429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8" name=""/>
              <p:cNvSpPr/>
              <p:nvPr/>
            </p:nvSpPr>
            <p:spPr>
              <a:xfrm>
                <a:off x="7835040" y="479268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
              <p:cNvSpPr/>
              <p:nvPr/>
            </p:nvSpPr>
            <p:spPr>
              <a:xfrm>
                <a:off x="7816680" y="532404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
              <p:cNvSpPr/>
              <p:nvPr/>
            </p:nvSpPr>
            <p:spPr>
              <a:xfrm>
                <a:off x="7816680" y="5873760"/>
                <a:ext cx="48060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41" name=""/>
            <p:cNvGrpSpPr/>
            <p:nvPr/>
          </p:nvGrpSpPr>
          <p:grpSpPr>
            <a:xfrm>
              <a:off x="8321760" y="1120680"/>
              <a:ext cx="516600" cy="5113080"/>
              <a:chOff x="8321760" y="1120680"/>
              <a:chExt cx="516600" cy="5113080"/>
            </a:xfrm>
          </p:grpSpPr>
          <p:sp>
            <p:nvSpPr>
              <p:cNvPr id="1342" name=""/>
              <p:cNvSpPr/>
              <p:nvPr/>
            </p:nvSpPr>
            <p:spPr>
              <a:xfrm>
                <a:off x="8340120" y="112068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
              <p:cNvSpPr/>
              <p:nvPr/>
            </p:nvSpPr>
            <p:spPr>
              <a:xfrm>
                <a:off x="8340120" y="16329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
              <p:cNvSpPr/>
              <p:nvPr/>
            </p:nvSpPr>
            <p:spPr>
              <a:xfrm>
                <a:off x="8358120" y="21506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
              <p:cNvSpPr/>
              <p:nvPr/>
            </p:nvSpPr>
            <p:spPr>
              <a:xfrm>
                <a:off x="8340120" y="26816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8340120" y="3212640"/>
                <a:ext cx="4802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
              <p:cNvSpPr/>
              <p:nvPr/>
            </p:nvSpPr>
            <p:spPr>
              <a:xfrm>
                <a:off x="8340120" y="3725280"/>
                <a:ext cx="48024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
              <p:cNvSpPr/>
              <p:nvPr/>
            </p:nvSpPr>
            <p:spPr>
              <a:xfrm>
                <a:off x="8340120" y="42429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
              <p:cNvSpPr/>
              <p:nvPr/>
            </p:nvSpPr>
            <p:spPr>
              <a:xfrm>
                <a:off x="8340120" y="479268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
              <p:cNvSpPr/>
              <p:nvPr/>
            </p:nvSpPr>
            <p:spPr>
              <a:xfrm>
                <a:off x="8321760" y="532404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
              <p:cNvSpPr/>
              <p:nvPr/>
            </p:nvSpPr>
            <p:spPr>
              <a:xfrm>
                <a:off x="8321760" y="5873760"/>
                <a:ext cx="48024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52" name=""/>
          <p:cNvGrpSpPr/>
          <p:nvPr/>
        </p:nvGrpSpPr>
        <p:grpSpPr>
          <a:xfrm>
            <a:off x="380880" y="520560"/>
            <a:ext cx="8457840" cy="5727960"/>
            <a:chOff x="380880" y="520560"/>
            <a:chExt cx="8457840" cy="5727960"/>
          </a:xfrm>
        </p:grpSpPr>
        <p:sp>
          <p:nvSpPr>
            <p:cNvPr id="1353"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354"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OĞA ZEKASI</a:t>
              </a:r>
              <a:endParaRPr b="0" lang="en-US" sz="2000" spc="-1" strike="noStrike">
                <a:solidFill>
                  <a:srgbClr val="ffffff"/>
                </a:solidFill>
                <a:latin typeface="Times New Roman"/>
              </a:endParaRPr>
            </a:p>
          </p:txBody>
        </p:sp>
        <p:sp>
          <p:nvSpPr>
            <p:cNvPr id="1355"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356"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357"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358"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359"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Hayvanlara karşı çok meraklıdır.</a:t>
              </a:r>
              <a:endParaRPr b="0" lang="en-US" sz="2000" spc="-1" strike="noStrike">
                <a:solidFill>
                  <a:srgbClr val="ffffff"/>
                </a:solidFill>
                <a:latin typeface="Times New Roman"/>
              </a:endParaRPr>
            </a:p>
          </p:txBody>
        </p:sp>
        <p:sp>
          <p:nvSpPr>
            <p:cNvPr id="1360"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ğaya karşı duyarsız olanlara kızar. </a:t>
              </a:r>
              <a:endParaRPr b="0" lang="en-US" sz="2000" spc="-1" strike="noStrike">
                <a:solidFill>
                  <a:srgbClr val="ffffff"/>
                </a:solidFill>
                <a:latin typeface="Times New Roman"/>
              </a:endParaRPr>
            </a:p>
          </p:txBody>
        </p:sp>
        <p:sp>
          <p:nvSpPr>
            <p:cNvPr id="1361"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vde hayvan besler ya da beslemeyi çok ister.</a:t>
              </a:r>
              <a:endParaRPr b="0" lang="en-US" sz="2000" spc="-1" strike="noStrike">
                <a:solidFill>
                  <a:srgbClr val="ffffff"/>
                </a:solidFill>
                <a:latin typeface="Times New Roman"/>
              </a:endParaRPr>
            </a:p>
          </p:txBody>
        </p:sp>
        <p:sp>
          <p:nvSpPr>
            <p:cNvPr id="1362"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Bahçede toprakla, bitkilerle oynamayı çok sever.</a:t>
              </a:r>
              <a:endParaRPr b="0" lang="en-US" sz="1900" spc="-1" strike="noStrike">
                <a:solidFill>
                  <a:srgbClr val="ffffff"/>
                </a:solidFill>
                <a:latin typeface="Times New Roman"/>
              </a:endParaRPr>
            </a:p>
          </p:txBody>
        </p:sp>
        <p:sp>
          <p:nvSpPr>
            <p:cNvPr id="1363"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tki beslemeyi sever.</a:t>
              </a:r>
              <a:endParaRPr b="0" lang="en-US" sz="2000" spc="-1" strike="noStrike">
                <a:solidFill>
                  <a:srgbClr val="ffffff"/>
                </a:solidFill>
                <a:latin typeface="Times New Roman"/>
              </a:endParaRPr>
            </a:p>
          </p:txBody>
        </p:sp>
        <p:sp>
          <p:nvSpPr>
            <p:cNvPr id="1364"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evre kirliliğine karşı çok duyarlıdır.</a:t>
              </a:r>
              <a:endParaRPr b="0" lang="en-US" sz="2000" spc="-1" strike="noStrike">
                <a:solidFill>
                  <a:srgbClr val="ffffff"/>
                </a:solidFill>
                <a:latin typeface="Times New Roman"/>
              </a:endParaRPr>
            </a:p>
          </p:txBody>
        </p:sp>
        <p:sp>
          <p:nvSpPr>
            <p:cNvPr id="1365"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Bitki ya da hayvanlarla ilgili belgesellere ilgi duyar.</a:t>
              </a:r>
              <a:endParaRPr b="0" lang="en-US" sz="1800" spc="-1" strike="noStrike">
                <a:solidFill>
                  <a:srgbClr val="ffffff"/>
                </a:solidFill>
                <a:latin typeface="Times New Roman"/>
              </a:endParaRPr>
            </a:p>
          </p:txBody>
        </p:sp>
        <p:sp>
          <p:nvSpPr>
            <p:cNvPr id="1366"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evsimlerle ve iklim olaylarıyla çok ilgilidir. </a:t>
              </a:r>
              <a:endParaRPr b="0" lang="en-US" sz="2000" spc="-1" strike="noStrike">
                <a:solidFill>
                  <a:srgbClr val="ffffff"/>
                </a:solidFill>
                <a:latin typeface="Times New Roman"/>
              </a:endParaRPr>
            </a:p>
          </p:txBody>
        </p:sp>
        <p:sp>
          <p:nvSpPr>
            <p:cNvPr id="1367"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eğişik meyve ve sebzelere karşı ilgilidir. </a:t>
              </a:r>
              <a:endParaRPr b="0" lang="en-US" sz="2000" spc="-1" strike="noStrike">
                <a:solidFill>
                  <a:srgbClr val="ffffff"/>
                </a:solidFill>
                <a:latin typeface="Times New Roman"/>
              </a:endParaRPr>
            </a:p>
          </p:txBody>
        </p:sp>
        <p:sp>
          <p:nvSpPr>
            <p:cNvPr id="1368"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ğa olaylarıyla çok ilgilidir. </a:t>
              </a:r>
              <a:endParaRPr b="0" lang="en-US" sz="2000" spc="-1" strike="noStrike">
                <a:solidFill>
                  <a:srgbClr val="ffffff"/>
                </a:solidFill>
                <a:latin typeface="Times New Roman"/>
              </a:endParaRPr>
            </a:p>
          </p:txBody>
        </p:sp>
        <p:grpSp>
          <p:nvGrpSpPr>
            <p:cNvPr id="1369" name=""/>
            <p:cNvGrpSpPr/>
            <p:nvPr/>
          </p:nvGrpSpPr>
          <p:grpSpPr>
            <a:xfrm>
              <a:off x="6278400" y="1125360"/>
              <a:ext cx="512640" cy="5114880"/>
              <a:chOff x="6278400" y="1125360"/>
              <a:chExt cx="512640" cy="5114880"/>
            </a:xfrm>
          </p:grpSpPr>
          <p:sp>
            <p:nvSpPr>
              <p:cNvPr id="1370"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80" name=""/>
            <p:cNvGrpSpPr/>
            <p:nvPr/>
          </p:nvGrpSpPr>
          <p:grpSpPr>
            <a:xfrm>
              <a:off x="6792840" y="1108080"/>
              <a:ext cx="512640" cy="5113080"/>
              <a:chOff x="6792840" y="1108080"/>
              <a:chExt cx="512640" cy="5113080"/>
            </a:xfrm>
          </p:grpSpPr>
          <p:sp>
            <p:nvSpPr>
              <p:cNvPr id="1381"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1" name=""/>
            <p:cNvGrpSpPr/>
            <p:nvPr/>
          </p:nvGrpSpPr>
          <p:grpSpPr>
            <a:xfrm>
              <a:off x="7311960" y="1108080"/>
              <a:ext cx="512640" cy="5113080"/>
              <a:chOff x="7311960" y="1108080"/>
              <a:chExt cx="512640" cy="5113080"/>
            </a:xfrm>
          </p:grpSpPr>
          <p:sp>
            <p:nvSpPr>
              <p:cNvPr id="1392"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02" name=""/>
            <p:cNvGrpSpPr/>
            <p:nvPr/>
          </p:nvGrpSpPr>
          <p:grpSpPr>
            <a:xfrm>
              <a:off x="7826400" y="1108080"/>
              <a:ext cx="512280" cy="5113080"/>
              <a:chOff x="7826400" y="1108080"/>
              <a:chExt cx="512280" cy="5113080"/>
            </a:xfrm>
          </p:grpSpPr>
          <p:sp>
            <p:nvSpPr>
              <p:cNvPr id="1403"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13" name=""/>
            <p:cNvGrpSpPr/>
            <p:nvPr/>
          </p:nvGrpSpPr>
          <p:grpSpPr>
            <a:xfrm>
              <a:off x="8326440" y="1108080"/>
              <a:ext cx="512280" cy="5113080"/>
              <a:chOff x="8326440" y="1108080"/>
              <a:chExt cx="512280" cy="5113080"/>
            </a:xfrm>
          </p:grpSpPr>
          <p:sp>
            <p:nvSpPr>
              <p:cNvPr id="1414"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24" name=""/>
          <p:cNvGrpSpPr/>
          <p:nvPr/>
        </p:nvGrpSpPr>
        <p:grpSpPr>
          <a:xfrm>
            <a:off x="380880" y="520560"/>
            <a:ext cx="8457840" cy="5727960"/>
            <a:chOff x="380880" y="520560"/>
            <a:chExt cx="8457840" cy="5727960"/>
          </a:xfrm>
        </p:grpSpPr>
        <p:sp>
          <p:nvSpPr>
            <p:cNvPr id="1425"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426"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KİŞİLERARASI ZEKA</a:t>
              </a:r>
              <a:endParaRPr b="0" lang="en-US" sz="2000" spc="-1" strike="noStrike">
                <a:solidFill>
                  <a:srgbClr val="ffffff"/>
                </a:solidFill>
                <a:latin typeface="Times New Roman"/>
              </a:endParaRPr>
            </a:p>
          </p:txBody>
        </p:sp>
        <p:sp>
          <p:nvSpPr>
            <p:cNvPr id="1427"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428"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429"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430"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431"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yla oyun oynamaktan hoşlanır.</a:t>
              </a:r>
              <a:endParaRPr b="0" lang="en-US" sz="2000" spc="-1" strike="noStrike">
                <a:solidFill>
                  <a:srgbClr val="ffffff"/>
                </a:solidFill>
                <a:latin typeface="Times New Roman"/>
              </a:endParaRPr>
            </a:p>
          </p:txBody>
        </p:sp>
        <p:sp>
          <p:nvSpPr>
            <p:cNvPr id="1432"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Çevresinde bir lider olarak görülür.</a:t>
              </a: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1433"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roblemi olan arkadaşlarına öğütler verir. </a:t>
              </a:r>
              <a:endParaRPr b="0" lang="en-US" sz="2000" spc="-1" strike="noStrike">
                <a:solidFill>
                  <a:srgbClr val="ffffff"/>
                </a:solidFill>
                <a:latin typeface="Times New Roman"/>
              </a:endParaRPr>
            </a:p>
          </p:txBody>
        </p:sp>
        <p:sp>
          <p:nvSpPr>
            <p:cNvPr id="1434"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 onun fikirlerine değer verir. </a:t>
              </a:r>
              <a:endParaRPr b="0" lang="en-US" sz="2000" spc="-1" strike="noStrike">
                <a:solidFill>
                  <a:srgbClr val="ffffff"/>
                </a:solidFill>
                <a:latin typeface="Times New Roman"/>
              </a:endParaRPr>
            </a:p>
          </p:txBody>
        </p:sp>
        <p:sp>
          <p:nvSpPr>
            <p:cNvPr id="1435"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rganizasyonların vazgeçilmez elamanıdır.</a:t>
              </a:r>
              <a:endParaRPr b="0" lang="en-US" sz="2000" spc="-1" strike="noStrike">
                <a:solidFill>
                  <a:srgbClr val="ffffff"/>
                </a:solidFill>
                <a:latin typeface="Times New Roman"/>
              </a:endParaRPr>
            </a:p>
          </p:txBody>
        </p:sp>
        <p:sp>
          <p:nvSpPr>
            <p:cNvPr id="1436"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na bir şeyler anlatmaktan hoşlanır.</a:t>
              </a:r>
              <a:endParaRPr b="0" lang="en-US" sz="2000" spc="-1" strike="noStrike">
                <a:solidFill>
                  <a:srgbClr val="ffffff"/>
                </a:solidFill>
                <a:latin typeface="Times New Roman"/>
              </a:endParaRPr>
            </a:p>
          </p:txBody>
        </p:sp>
        <p:sp>
          <p:nvSpPr>
            <p:cNvPr id="1437"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rkadaşlarını sık sık arar. </a:t>
              </a:r>
              <a:endParaRPr b="0" lang="en-US" sz="2000" spc="-1" strike="noStrike">
                <a:solidFill>
                  <a:srgbClr val="ffffff"/>
                </a:solidFill>
                <a:latin typeface="Times New Roman"/>
              </a:endParaRPr>
            </a:p>
          </p:txBody>
        </p:sp>
        <p:sp>
          <p:nvSpPr>
            <p:cNvPr id="1438"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mic Sans MS"/>
                </a:rPr>
                <a:t>Arkadaşlarının sorunlarına yardımcı olmaktan hoşlanır.</a:t>
              </a:r>
              <a:endParaRPr b="0" lang="en-US" sz="1700" spc="-1" strike="noStrike">
                <a:solidFill>
                  <a:srgbClr val="ffffff"/>
                </a:solidFill>
                <a:latin typeface="Times New Roman"/>
              </a:endParaRPr>
            </a:p>
          </p:txBody>
        </p:sp>
        <p:sp>
          <p:nvSpPr>
            <p:cNvPr id="1439"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evresindekiler onunla arkadaşlık kurmak ister.</a:t>
              </a:r>
              <a:endParaRPr b="0" lang="en-US" sz="2000" spc="-1" strike="noStrike">
                <a:solidFill>
                  <a:srgbClr val="ffffff"/>
                </a:solidFill>
                <a:latin typeface="Times New Roman"/>
              </a:endParaRPr>
            </a:p>
          </p:txBody>
        </p:sp>
        <p:sp>
          <p:nvSpPr>
            <p:cNvPr id="1440"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nsanlara selam verir, hatır sorar.</a:t>
              </a:r>
              <a:endParaRPr b="0" lang="en-US" sz="2000" spc="-1" strike="noStrike">
                <a:solidFill>
                  <a:srgbClr val="ffffff"/>
                </a:solidFill>
                <a:latin typeface="Times New Roman"/>
              </a:endParaRPr>
            </a:p>
          </p:txBody>
        </p:sp>
        <p:grpSp>
          <p:nvGrpSpPr>
            <p:cNvPr id="1441" name=""/>
            <p:cNvGrpSpPr/>
            <p:nvPr/>
          </p:nvGrpSpPr>
          <p:grpSpPr>
            <a:xfrm>
              <a:off x="6278400" y="1125360"/>
              <a:ext cx="512640" cy="5114880"/>
              <a:chOff x="6278400" y="1125360"/>
              <a:chExt cx="512640" cy="5114880"/>
            </a:xfrm>
          </p:grpSpPr>
          <p:sp>
            <p:nvSpPr>
              <p:cNvPr id="1442"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3"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4"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5"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6"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7"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8"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9"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0"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1"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2" name=""/>
            <p:cNvGrpSpPr/>
            <p:nvPr/>
          </p:nvGrpSpPr>
          <p:grpSpPr>
            <a:xfrm>
              <a:off x="6792840" y="1108080"/>
              <a:ext cx="512640" cy="5113080"/>
              <a:chOff x="6792840" y="1108080"/>
              <a:chExt cx="512640" cy="5113080"/>
            </a:xfrm>
          </p:grpSpPr>
          <p:sp>
            <p:nvSpPr>
              <p:cNvPr id="1453"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4"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5"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6"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7"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8"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0"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2"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63" name=""/>
            <p:cNvGrpSpPr/>
            <p:nvPr/>
          </p:nvGrpSpPr>
          <p:grpSpPr>
            <a:xfrm>
              <a:off x="7311960" y="1108080"/>
              <a:ext cx="512640" cy="5113080"/>
              <a:chOff x="7311960" y="1108080"/>
              <a:chExt cx="512640" cy="5113080"/>
            </a:xfrm>
          </p:grpSpPr>
          <p:sp>
            <p:nvSpPr>
              <p:cNvPr id="1464"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6"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8"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9"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0"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1"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2"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3"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74" name=""/>
            <p:cNvGrpSpPr/>
            <p:nvPr/>
          </p:nvGrpSpPr>
          <p:grpSpPr>
            <a:xfrm>
              <a:off x="7826400" y="1108080"/>
              <a:ext cx="512280" cy="5113080"/>
              <a:chOff x="7826400" y="1108080"/>
              <a:chExt cx="512280" cy="5113080"/>
            </a:xfrm>
          </p:grpSpPr>
          <p:sp>
            <p:nvSpPr>
              <p:cNvPr id="1475"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6"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7"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8"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9"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0"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1"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3"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4"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85" name=""/>
            <p:cNvGrpSpPr/>
            <p:nvPr/>
          </p:nvGrpSpPr>
          <p:grpSpPr>
            <a:xfrm>
              <a:off x="8326440" y="1108080"/>
              <a:ext cx="512280" cy="5113080"/>
              <a:chOff x="8326440" y="1108080"/>
              <a:chExt cx="512280" cy="5113080"/>
            </a:xfrm>
          </p:grpSpPr>
          <p:sp>
            <p:nvSpPr>
              <p:cNvPr id="1486"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7"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8"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9"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0"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1"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2"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3"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4"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5"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96" name=""/>
          <p:cNvGrpSpPr/>
          <p:nvPr/>
        </p:nvGrpSpPr>
        <p:grpSpPr>
          <a:xfrm>
            <a:off x="380880" y="520560"/>
            <a:ext cx="8457840" cy="5727960"/>
            <a:chOff x="380880" y="520560"/>
            <a:chExt cx="8457840" cy="5727960"/>
          </a:xfrm>
        </p:grpSpPr>
        <p:sp>
          <p:nvSpPr>
            <p:cNvPr id="1497" name=""/>
            <p:cNvSpPr/>
            <p:nvPr/>
          </p:nvSpPr>
          <p:spPr>
            <a:xfrm>
              <a:off x="626760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498" name=""/>
            <p:cNvSpPr/>
            <p:nvPr/>
          </p:nvSpPr>
          <p:spPr>
            <a:xfrm>
              <a:off x="380880" y="520560"/>
              <a:ext cx="5880240" cy="56844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İÇSEL ZEKA</a:t>
              </a:r>
              <a:endParaRPr b="0" lang="en-US" sz="2000" spc="-1" strike="noStrike">
                <a:solidFill>
                  <a:srgbClr val="ffffff"/>
                </a:solidFill>
                <a:latin typeface="Times New Roman"/>
              </a:endParaRPr>
            </a:p>
          </p:txBody>
        </p:sp>
        <p:sp>
          <p:nvSpPr>
            <p:cNvPr id="1499" name=""/>
            <p:cNvSpPr/>
            <p:nvPr/>
          </p:nvSpPr>
          <p:spPr>
            <a:xfrm>
              <a:off x="6797520" y="520560"/>
              <a:ext cx="478080" cy="568440"/>
            </a:xfrm>
            <a:custGeom>
              <a:avLst/>
              <a:gdLst>
                <a:gd name="textAreaLeft" fmla="*/ 23040 w 478080"/>
                <a:gd name="textAreaRight" fmla="*/ 455040 w 478080"/>
                <a:gd name="textAreaTop" fmla="*/ 23040 h 568440"/>
                <a:gd name="textAreaBottom" fmla="*/ 545400 h 568440"/>
              </a:gdLst>
              <a:ahLst/>
              <a:rect l="textAreaLeft" t="textAreaTop" r="textAreaRight" b="textAreaBottom"/>
              <a:pathLst>
                <a:path w="21600" h="25679">
                  <a:moveTo>
                    <a:pt x="3600" y="0"/>
                  </a:moveTo>
                  <a:arcTo wR="3600" hR="3600" stAng="16200000" swAng="-5400000"/>
                  <a:lnTo>
                    <a:pt x="0" y="22079"/>
                  </a:lnTo>
                  <a:arcTo wR="3600" hR="3600" stAng="10800000" swAng="-5400000"/>
                  <a:lnTo>
                    <a:pt x="18000" y="25679"/>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500" name=""/>
            <p:cNvSpPr/>
            <p:nvPr/>
          </p:nvSpPr>
          <p:spPr>
            <a:xfrm>
              <a:off x="731196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501" name=""/>
            <p:cNvSpPr/>
            <p:nvPr/>
          </p:nvSpPr>
          <p:spPr>
            <a:xfrm>
              <a:off x="78278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502" name=""/>
            <p:cNvSpPr/>
            <p:nvPr/>
          </p:nvSpPr>
          <p:spPr>
            <a:xfrm>
              <a:off x="8326440" y="520560"/>
              <a:ext cx="476280" cy="568440"/>
            </a:xfrm>
            <a:custGeom>
              <a:avLst/>
              <a:gdLst>
                <a:gd name="textAreaLeft" fmla="*/ 23040 w 476280"/>
                <a:gd name="textAreaRight" fmla="*/ 453240 w 476280"/>
                <a:gd name="textAreaTop" fmla="*/ 23040 h 568440"/>
                <a:gd name="textAreaBottom" fmla="*/ 545400 h 568440"/>
              </a:gdLst>
              <a:ahLst/>
              <a:rect l="textAreaLeft" t="textAreaTop" r="textAreaRight" b="textAreaBottom"/>
              <a:pathLst>
                <a:path w="21600" h="25776">
                  <a:moveTo>
                    <a:pt x="3600" y="0"/>
                  </a:moveTo>
                  <a:arcTo wR="3600" hR="3600" stAng="16200000" swAng="-5400000"/>
                  <a:lnTo>
                    <a:pt x="0" y="22176"/>
                  </a:lnTo>
                  <a:arcTo wR="3600" hR="3600" stAng="10800000" swAng="-5400000"/>
                  <a:lnTo>
                    <a:pt x="18000" y="25776"/>
                  </a:lnTo>
                  <a:arcTo wR="3600" hR="3600" stAng="5400000" swAng="-5400000"/>
                  <a:lnTo>
                    <a:pt x="21600" y="3600"/>
                  </a:lnTo>
                  <a:arcTo wR="3600" hR="3600" stAng="0" swAng="-5400000"/>
                  <a:close/>
                </a:path>
              </a:pathLst>
            </a:cu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sp>
          <p:nvSpPr>
            <p:cNvPr id="1503" name=""/>
            <p:cNvSpPr/>
            <p:nvPr/>
          </p:nvSpPr>
          <p:spPr>
            <a:xfrm>
              <a:off x="380880" y="11509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ağımsız olmayı sever.</a:t>
              </a:r>
              <a:endParaRPr b="0" lang="en-US" sz="2000" spc="-1" strike="noStrike">
                <a:solidFill>
                  <a:srgbClr val="ffffff"/>
                </a:solidFill>
                <a:latin typeface="Times New Roman"/>
              </a:endParaRPr>
            </a:p>
          </p:txBody>
        </p:sp>
        <p:sp>
          <p:nvSpPr>
            <p:cNvPr id="1504" name=""/>
            <p:cNvSpPr/>
            <p:nvPr/>
          </p:nvSpPr>
          <p:spPr>
            <a:xfrm>
              <a:off x="380880" y="16509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endisinin güçlü ve zayıf yanlarını bilir. </a:t>
              </a:r>
              <a:endParaRPr b="0" lang="en-US" sz="2000" spc="-1" strike="noStrike">
                <a:solidFill>
                  <a:srgbClr val="ffffff"/>
                </a:solidFill>
                <a:latin typeface="Times New Roman"/>
              </a:endParaRPr>
            </a:p>
          </p:txBody>
        </p:sp>
        <p:sp>
          <p:nvSpPr>
            <p:cNvPr id="1505" name=""/>
            <p:cNvSpPr/>
            <p:nvPr/>
          </p:nvSpPr>
          <p:spPr>
            <a:xfrm>
              <a:off x="387360" y="215568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lnız çalışmayı daha çok sever.</a:t>
              </a:r>
              <a:endParaRPr b="0" lang="en-US" sz="2000" spc="-1" strike="noStrike">
                <a:solidFill>
                  <a:srgbClr val="ffffff"/>
                </a:solidFill>
                <a:latin typeface="Times New Roman"/>
              </a:endParaRPr>
            </a:p>
          </p:txBody>
        </p:sp>
        <p:sp>
          <p:nvSpPr>
            <p:cNvPr id="1506" name=""/>
            <p:cNvSpPr/>
            <p:nvPr/>
          </p:nvSpPr>
          <p:spPr>
            <a:xfrm>
              <a:off x="380880" y="269244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lnız oynamayı sever.</a:t>
              </a:r>
              <a:endParaRPr b="0" lang="en-US" sz="2000" spc="-1" strike="noStrike">
                <a:solidFill>
                  <a:srgbClr val="ffffff"/>
                </a:solidFill>
                <a:latin typeface="Times New Roman"/>
              </a:endParaRPr>
            </a:p>
          </p:txBody>
        </p:sp>
        <p:sp>
          <p:nvSpPr>
            <p:cNvPr id="1507" name=""/>
            <p:cNvSpPr/>
            <p:nvPr/>
          </p:nvSpPr>
          <p:spPr>
            <a:xfrm>
              <a:off x="380880" y="321948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ptığı işleri arkadaşlarıyla paylaşmayı sevmez.</a:t>
              </a:r>
              <a:endParaRPr b="0" lang="en-US" sz="2000" spc="-1" strike="noStrike">
                <a:solidFill>
                  <a:srgbClr val="ffffff"/>
                </a:solidFill>
                <a:latin typeface="Times New Roman"/>
              </a:endParaRPr>
            </a:p>
          </p:txBody>
        </p:sp>
        <p:sp>
          <p:nvSpPr>
            <p:cNvPr id="1508" name=""/>
            <p:cNvSpPr/>
            <p:nvPr/>
          </p:nvSpPr>
          <p:spPr>
            <a:xfrm>
              <a:off x="382680" y="3735360"/>
              <a:ext cx="58798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ptığı işlerin bilincindedir.</a:t>
              </a:r>
              <a:endParaRPr b="0" lang="en-US" sz="2000" spc="-1" strike="noStrike">
                <a:solidFill>
                  <a:srgbClr val="ffffff"/>
                </a:solidFill>
                <a:latin typeface="Times New Roman"/>
              </a:endParaRPr>
            </a:p>
          </p:txBody>
        </p:sp>
        <p:sp>
          <p:nvSpPr>
            <p:cNvPr id="1509" name=""/>
            <p:cNvSpPr/>
            <p:nvPr/>
          </p:nvSpPr>
          <p:spPr>
            <a:xfrm>
              <a:off x="380880" y="42721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ek kimseye akıl danışmaz.</a:t>
              </a:r>
              <a:endParaRPr b="0" lang="en-US" sz="2000" spc="-1" strike="noStrike">
                <a:solidFill>
                  <a:srgbClr val="ffffff"/>
                </a:solidFill>
                <a:latin typeface="Times New Roman"/>
              </a:endParaRPr>
            </a:p>
          </p:txBody>
        </p:sp>
        <p:sp>
          <p:nvSpPr>
            <p:cNvPr id="1510" name=""/>
            <p:cNvSpPr/>
            <p:nvPr/>
          </p:nvSpPr>
          <p:spPr>
            <a:xfrm>
              <a:off x="380880" y="48085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endine saygısı yüksektir.</a:t>
              </a:r>
              <a:endParaRPr b="0" lang="en-US" sz="2000" spc="-1" strike="noStrike">
                <a:solidFill>
                  <a:srgbClr val="ffffff"/>
                </a:solidFill>
                <a:latin typeface="Times New Roman"/>
              </a:endParaRPr>
            </a:p>
          </p:txBody>
        </p:sp>
        <p:sp>
          <p:nvSpPr>
            <p:cNvPr id="1511" name=""/>
            <p:cNvSpPr/>
            <p:nvPr/>
          </p:nvSpPr>
          <p:spPr>
            <a:xfrm>
              <a:off x="380880" y="5346720"/>
              <a:ext cx="58802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Yoğun olarak ulaştığı bir ilgi alanı, hobisi vardır.</a:t>
              </a:r>
              <a:endParaRPr b="0" lang="en-US" sz="1900" spc="-1" strike="noStrike">
                <a:solidFill>
                  <a:srgbClr val="ffffff"/>
                </a:solidFill>
                <a:latin typeface="Times New Roman"/>
              </a:endParaRPr>
            </a:p>
          </p:txBody>
        </p:sp>
        <p:sp>
          <p:nvSpPr>
            <p:cNvPr id="1512" name=""/>
            <p:cNvSpPr/>
            <p:nvPr/>
          </p:nvSpPr>
          <p:spPr>
            <a:xfrm>
              <a:off x="380880" y="5886360"/>
              <a:ext cx="58802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ardım istemeden kendi başına ürünler ortaya koyar.</a:t>
              </a:r>
              <a:endParaRPr b="0" lang="en-US" sz="1800" spc="-1" strike="noStrike">
                <a:solidFill>
                  <a:srgbClr val="ffffff"/>
                </a:solidFill>
                <a:latin typeface="Times New Roman"/>
              </a:endParaRPr>
            </a:p>
          </p:txBody>
        </p:sp>
        <p:grpSp>
          <p:nvGrpSpPr>
            <p:cNvPr id="1513" name=""/>
            <p:cNvGrpSpPr/>
            <p:nvPr/>
          </p:nvGrpSpPr>
          <p:grpSpPr>
            <a:xfrm>
              <a:off x="6278400" y="1125360"/>
              <a:ext cx="512640" cy="5114880"/>
              <a:chOff x="6278400" y="1125360"/>
              <a:chExt cx="512640" cy="5114880"/>
            </a:xfrm>
          </p:grpSpPr>
          <p:sp>
            <p:nvSpPr>
              <p:cNvPr id="1514" name=""/>
              <p:cNvSpPr/>
              <p:nvPr/>
            </p:nvSpPr>
            <p:spPr>
              <a:xfrm>
                <a:off x="6296760" y="1125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5" name=""/>
              <p:cNvSpPr/>
              <p:nvPr/>
            </p:nvSpPr>
            <p:spPr>
              <a:xfrm>
                <a:off x="6296760" y="16380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6" name=""/>
              <p:cNvSpPr/>
              <p:nvPr/>
            </p:nvSpPr>
            <p:spPr>
              <a:xfrm>
                <a:off x="6314760" y="21556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7" name=""/>
              <p:cNvSpPr/>
              <p:nvPr/>
            </p:nvSpPr>
            <p:spPr>
              <a:xfrm>
                <a:off x="6296760" y="2687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8" name=""/>
              <p:cNvSpPr/>
              <p:nvPr/>
            </p:nvSpPr>
            <p:spPr>
              <a:xfrm>
                <a:off x="6296760" y="3218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9" name=""/>
              <p:cNvSpPr/>
              <p:nvPr/>
            </p:nvSpPr>
            <p:spPr>
              <a:xfrm>
                <a:off x="6296760" y="3730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0" name=""/>
              <p:cNvSpPr/>
              <p:nvPr/>
            </p:nvSpPr>
            <p:spPr>
              <a:xfrm>
                <a:off x="6296760" y="424872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1" name=""/>
              <p:cNvSpPr/>
              <p:nvPr/>
            </p:nvSpPr>
            <p:spPr>
              <a:xfrm>
                <a:off x="6296760" y="479880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2" name=""/>
              <p:cNvSpPr/>
              <p:nvPr/>
            </p:nvSpPr>
            <p:spPr>
              <a:xfrm>
                <a:off x="6278400" y="5330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3" name=""/>
              <p:cNvSpPr/>
              <p:nvPr/>
            </p:nvSpPr>
            <p:spPr>
              <a:xfrm>
                <a:off x="6278400" y="58802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24" name=""/>
            <p:cNvGrpSpPr/>
            <p:nvPr/>
          </p:nvGrpSpPr>
          <p:grpSpPr>
            <a:xfrm>
              <a:off x="6792840" y="1108080"/>
              <a:ext cx="512640" cy="5113080"/>
              <a:chOff x="6792840" y="1108080"/>
              <a:chExt cx="512640" cy="5113080"/>
            </a:xfrm>
          </p:grpSpPr>
          <p:sp>
            <p:nvSpPr>
              <p:cNvPr id="1525" name=""/>
              <p:cNvSpPr/>
              <p:nvPr/>
            </p:nvSpPr>
            <p:spPr>
              <a:xfrm>
                <a:off x="681120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6" name=""/>
              <p:cNvSpPr/>
              <p:nvPr/>
            </p:nvSpPr>
            <p:spPr>
              <a:xfrm>
                <a:off x="681120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7" name=""/>
              <p:cNvSpPr/>
              <p:nvPr/>
            </p:nvSpPr>
            <p:spPr>
              <a:xfrm>
                <a:off x="682920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8" name=""/>
              <p:cNvSpPr/>
              <p:nvPr/>
            </p:nvSpPr>
            <p:spPr>
              <a:xfrm>
                <a:off x="681120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681120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0" name=""/>
              <p:cNvSpPr/>
              <p:nvPr/>
            </p:nvSpPr>
            <p:spPr>
              <a:xfrm>
                <a:off x="681120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1" name=""/>
              <p:cNvSpPr/>
              <p:nvPr/>
            </p:nvSpPr>
            <p:spPr>
              <a:xfrm>
                <a:off x="681120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2" name=""/>
              <p:cNvSpPr/>
              <p:nvPr/>
            </p:nvSpPr>
            <p:spPr>
              <a:xfrm>
                <a:off x="681120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3" name=""/>
              <p:cNvSpPr/>
              <p:nvPr/>
            </p:nvSpPr>
            <p:spPr>
              <a:xfrm>
                <a:off x="679284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4" name=""/>
              <p:cNvSpPr/>
              <p:nvPr/>
            </p:nvSpPr>
            <p:spPr>
              <a:xfrm>
                <a:off x="679284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35" name=""/>
            <p:cNvGrpSpPr/>
            <p:nvPr/>
          </p:nvGrpSpPr>
          <p:grpSpPr>
            <a:xfrm>
              <a:off x="7311960" y="1108080"/>
              <a:ext cx="512640" cy="5113080"/>
              <a:chOff x="7311960" y="1108080"/>
              <a:chExt cx="512640" cy="5113080"/>
            </a:xfrm>
          </p:grpSpPr>
          <p:sp>
            <p:nvSpPr>
              <p:cNvPr id="1536" name=""/>
              <p:cNvSpPr/>
              <p:nvPr/>
            </p:nvSpPr>
            <p:spPr>
              <a:xfrm>
                <a:off x="7330320" y="1108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7" name=""/>
              <p:cNvSpPr/>
              <p:nvPr/>
            </p:nvSpPr>
            <p:spPr>
              <a:xfrm>
                <a:off x="7330320" y="162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348320" y="2138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9" name=""/>
              <p:cNvSpPr/>
              <p:nvPr/>
            </p:nvSpPr>
            <p:spPr>
              <a:xfrm>
                <a:off x="7330320" y="26690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7330320" y="320004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1" name=""/>
              <p:cNvSpPr/>
              <p:nvPr/>
            </p:nvSpPr>
            <p:spPr>
              <a:xfrm>
                <a:off x="7330320" y="3712680"/>
                <a:ext cx="4762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7330320" y="42303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3" name=""/>
              <p:cNvSpPr/>
              <p:nvPr/>
            </p:nvSpPr>
            <p:spPr>
              <a:xfrm>
                <a:off x="7330320" y="478008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7311960" y="531144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5" name=""/>
              <p:cNvSpPr/>
              <p:nvPr/>
            </p:nvSpPr>
            <p:spPr>
              <a:xfrm>
                <a:off x="7311960" y="5861160"/>
                <a:ext cx="47628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46" name=""/>
            <p:cNvGrpSpPr/>
            <p:nvPr/>
          </p:nvGrpSpPr>
          <p:grpSpPr>
            <a:xfrm>
              <a:off x="7826400" y="1108080"/>
              <a:ext cx="512280" cy="5113080"/>
              <a:chOff x="7826400" y="1108080"/>
              <a:chExt cx="512280" cy="5113080"/>
            </a:xfrm>
          </p:grpSpPr>
          <p:sp>
            <p:nvSpPr>
              <p:cNvPr id="1547" name=""/>
              <p:cNvSpPr/>
              <p:nvPr/>
            </p:nvSpPr>
            <p:spPr>
              <a:xfrm>
                <a:off x="784476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8" name=""/>
              <p:cNvSpPr/>
              <p:nvPr/>
            </p:nvSpPr>
            <p:spPr>
              <a:xfrm>
                <a:off x="784476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9" name=""/>
              <p:cNvSpPr/>
              <p:nvPr/>
            </p:nvSpPr>
            <p:spPr>
              <a:xfrm>
                <a:off x="786276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0" name=""/>
              <p:cNvSpPr/>
              <p:nvPr/>
            </p:nvSpPr>
            <p:spPr>
              <a:xfrm>
                <a:off x="784476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1" name=""/>
              <p:cNvSpPr/>
              <p:nvPr/>
            </p:nvSpPr>
            <p:spPr>
              <a:xfrm>
                <a:off x="784476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2" name=""/>
              <p:cNvSpPr/>
              <p:nvPr/>
            </p:nvSpPr>
            <p:spPr>
              <a:xfrm>
                <a:off x="784476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3" name=""/>
              <p:cNvSpPr/>
              <p:nvPr/>
            </p:nvSpPr>
            <p:spPr>
              <a:xfrm>
                <a:off x="784476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4" name=""/>
              <p:cNvSpPr/>
              <p:nvPr/>
            </p:nvSpPr>
            <p:spPr>
              <a:xfrm>
                <a:off x="784476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5" name=""/>
              <p:cNvSpPr/>
              <p:nvPr/>
            </p:nvSpPr>
            <p:spPr>
              <a:xfrm>
                <a:off x="782640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6" name=""/>
              <p:cNvSpPr/>
              <p:nvPr/>
            </p:nvSpPr>
            <p:spPr>
              <a:xfrm>
                <a:off x="782640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57" name=""/>
            <p:cNvGrpSpPr/>
            <p:nvPr/>
          </p:nvGrpSpPr>
          <p:grpSpPr>
            <a:xfrm>
              <a:off x="8326440" y="1108080"/>
              <a:ext cx="512280" cy="5113080"/>
              <a:chOff x="8326440" y="1108080"/>
              <a:chExt cx="512280" cy="5113080"/>
            </a:xfrm>
          </p:grpSpPr>
          <p:sp>
            <p:nvSpPr>
              <p:cNvPr id="1558" name=""/>
              <p:cNvSpPr/>
              <p:nvPr/>
            </p:nvSpPr>
            <p:spPr>
              <a:xfrm>
                <a:off x="8344800" y="1108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9" name=""/>
              <p:cNvSpPr/>
              <p:nvPr/>
            </p:nvSpPr>
            <p:spPr>
              <a:xfrm>
                <a:off x="8344800" y="162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0" name=""/>
              <p:cNvSpPr/>
              <p:nvPr/>
            </p:nvSpPr>
            <p:spPr>
              <a:xfrm>
                <a:off x="8362800" y="2138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1" name=""/>
              <p:cNvSpPr/>
              <p:nvPr/>
            </p:nvSpPr>
            <p:spPr>
              <a:xfrm>
                <a:off x="8344800" y="26690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2" name=""/>
              <p:cNvSpPr/>
              <p:nvPr/>
            </p:nvSpPr>
            <p:spPr>
              <a:xfrm>
                <a:off x="8344800" y="320004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3" name=""/>
              <p:cNvSpPr/>
              <p:nvPr/>
            </p:nvSpPr>
            <p:spPr>
              <a:xfrm>
                <a:off x="8344800" y="3712680"/>
                <a:ext cx="4759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4" name=""/>
              <p:cNvSpPr/>
              <p:nvPr/>
            </p:nvSpPr>
            <p:spPr>
              <a:xfrm>
                <a:off x="8344800" y="42303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5" name=""/>
              <p:cNvSpPr/>
              <p:nvPr/>
            </p:nvSpPr>
            <p:spPr>
              <a:xfrm>
                <a:off x="8344800" y="478008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6" name=""/>
              <p:cNvSpPr/>
              <p:nvPr/>
            </p:nvSpPr>
            <p:spPr>
              <a:xfrm>
                <a:off x="8326440" y="531144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7" name=""/>
              <p:cNvSpPr/>
              <p:nvPr/>
            </p:nvSpPr>
            <p:spPr>
              <a:xfrm>
                <a:off x="8326440" y="5861160"/>
                <a:ext cx="475920" cy="3600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
          <p:cNvSpPr/>
          <p:nvPr/>
        </p:nvSpPr>
        <p:spPr>
          <a:xfrm>
            <a:off x="914400" y="380880"/>
            <a:ext cx="7391520" cy="685800"/>
          </a:xfrm>
          <a:prstGeom prst="roundRect">
            <a:avLst>
              <a:gd name="adj" fmla="val 16667"/>
            </a:avLst>
          </a:prstGeom>
          <a:solidFill>
            <a:srgbClr val="ffffcc"/>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ea typeface="Times New Roman"/>
              </a:rPr>
              <a:t>ÇOCUKLAR İÇİN ÇOKLU ZEKA GÖZLEM FORMUNU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ea typeface="Times New Roman"/>
              </a:rPr>
              <a:t>DEĞERLENDİRME PROFİLİ</a:t>
            </a:r>
            <a:endParaRPr b="0" lang="en-US" sz="2000" spc="-1" strike="noStrike">
              <a:solidFill>
                <a:srgbClr val="ffffff"/>
              </a:solidFill>
              <a:latin typeface="Times New Roman"/>
            </a:endParaRPr>
          </a:p>
        </p:txBody>
      </p:sp>
      <p:grpSp>
        <p:nvGrpSpPr>
          <p:cNvPr id="1569" name=""/>
          <p:cNvGrpSpPr/>
          <p:nvPr/>
        </p:nvGrpSpPr>
        <p:grpSpPr>
          <a:xfrm>
            <a:off x="206280" y="1271520"/>
            <a:ext cx="8823600" cy="5281200"/>
            <a:chOff x="206280" y="1271520"/>
            <a:chExt cx="8823600" cy="5281200"/>
          </a:xfrm>
        </p:grpSpPr>
        <p:sp>
          <p:nvSpPr>
            <p:cNvPr id="1570" name=""/>
            <p:cNvSpPr/>
            <p:nvPr/>
          </p:nvSpPr>
          <p:spPr>
            <a:xfrm>
              <a:off x="3119400" y="1752480"/>
              <a:ext cx="436680" cy="568440"/>
            </a:xfrm>
            <a:custGeom>
              <a:avLst/>
              <a:gdLst>
                <a:gd name="textAreaLeft" fmla="*/ 21240 w 436680"/>
                <a:gd name="textAreaRight" fmla="*/ 415440 w 436680"/>
                <a:gd name="textAreaTop" fmla="*/ 21240 h 568440"/>
                <a:gd name="textAreaBottom" fmla="*/ 547200 h 56844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0</a:t>
              </a:r>
              <a:endParaRPr b="0" lang="en-US" sz="2000" spc="-1" strike="noStrike">
                <a:solidFill>
                  <a:srgbClr val="ffffff"/>
                </a:solidFill>
                <a:latin typeface="Times New Roman"/>
              </a:endParaRPr>
            </a:p>
          </p:txBody>
        </p:sp>
        <p:sp>
          <p:nvSpPr>
            <p:cNvPr id="1571" name=""/>
            <p:cNvSpPr/>
            <p:nvPr/>
          </p:nvSpPr>
          <p:spPr>
            <a:xfrm>
              <a:off x="206280" y="1295280"/>
              <a:ext cx="2862360" cy="1025640"/>
            </a:xfrm>
            <a:prstGeom prst="roundRect">
              <a:avLst>
                <a:gd name="adj" fmla="val 16667"/>
              </a:avLst>
            </a:pr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ZEKA ALANLARI</a:t>
              </a:r>
              <a:endParaRPr b="0" lang="en-US" sz="2000" spc="-1" strike="noStrike">
                <a:solidFill>
                  <a:srgbClr val="ffffff"/>
                </a:solidFill>
                <a:latin typeface="Times New Roman"/>
              </a:endParaRPr>
            </a:p>
          </p:txBody>
        </p:sp>
        <p:sp>
          <p:nvSpPr>
            <p:cNvPr id="1572" name=""/>
            <p:cNvSpPr/>
            <p:nvPr/>
          </p:nvSpPr>
          <p:spPr>
            <a:xfrm>
              <a:off x="3605040" y="1752480"/>
              <a:ext cx="438480" cy="568440"/>
            </a:xfrm>
            <a:custGeom>
              <a:avLst/>
              <a:gdLst>
                <a:gd name="textAreaLeft" fmla="*/ 21240 w 438480"/>
                <a:gd name="textAreaRight" fmla="*/ 417240 w 438480"/>
                <a:gd name="textAreaTop" fmla="*/ 21240 h 568440"/>
                <a:gd name="textAreaBottom" fmla="*/ 547200 h 568440"/>
              </a:gdLst>
              <a:ahLst/>
              <a:rect l="textAreaLeft" t="textAreaTop" r="textAreaRight" b="textAreaBottom"/>
              <a:pathLst>
                <a:path w="21600" h="27997">
                  <a:moveTo>
                    <a:pt x="3600" y="0"/>
                  </a:moveTo>
                  <a:arcTo wR="3600" hR="3600" stAng="16200000" swAng="-5400000"/>
                  <a:lnTo>
                    <a:pt x="0" y="24397"/>
                  </a:lnTo>
                  <a:arcTo wR="3600" hR="3600" stAng="10800000" swAng="-5400000"/>
                  <a:lnTo>
                    <a:pt x="18000" y="27997"/>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a:t>
              </a:r>
              <a:endParaRPr b="0" lang="en-US" sz="2000" spc="-1" strike="noStrike">
                <a:solidFill>
                  <a:srgbClr val="ffffff"/>
                </a:solidFill>
                <a:latin typeface="Times New Roman"/>
              </a:endParaRPr>
            </a:p>
          </p:txBody>
        </p:sp>
        <p:sp>
          <p:nvSpPr>
            <p:cNvPr id="1573" name=""/>
            <p:cNvSpPr/>
            <p:nvPr/>
          </p:nvSpPr>
          <p:spPr>
            <a:xfrm>
              <a:off x="4076640" y="1752480"/>
              <a:ext cx="436680" cy="568440"/>
            </a:xfrm>
            <a:custGeom>
              <a:avLst/>
              <a:gdLst>
                <a:gd name="textAreaLeft" fmla="*/ 21240 w 436680"/>
                <a:gd name="textAreaRight" fmla="*/ 415440 w 436680"/>
                <a:gd name="textAreaTop" fmla="*/ 21240 h 568440"/>
                <a:gd name="textAreaBottom" fmla="*/ 547200 h 56844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2</a:t>
              </a:r>
              <a:endParaRPr b="0" lang="en-US" sz="2000" spc="-1" strike="noStrike">
                <a:solidFill>
                  <a:srgbClr val="ffffff"/>
                </a:solidFill>
                <a:latin typeface="Times New Roman"/>
              </a:endParaRPr>
            </a:p>
          </p:txBody>
        </p:sp>
        <p:sp>
          <p:nvSpPr>
            <p:cNvPr id="1574" name=""/>
            <p:cNvSpPr/>
            <p:nvPr/>
          </p:nvSpPr>
          <p:spPr>
            <a:xfrm>
              <a:off x="4549680" y="1752480"/>
              <a:ext cx="436680" cy="568440"/>
            </a:xfrm>
            <a:custGeom>
              <a:avLst/>
              <a:gdLst>
                <a:gd name="textAreaLeft" fmla="*/ 21240 w 436680"/>
                <a:gd name="textAreaRight" fmla="*/ 415440 w 436680"/>
                <a:gd name="textAreaTop" fmla="*/ 21240 h 568440"/>
                <a:gd name="textAreaBottom" fmla="*/ 547200 h 56844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3</a:t>
              </a:r>
              <a:endParaRPr b="0" lang="en-US" sz="2000" spc="-1" strike="noStrike">
                <a:solidFill>
                  <a:srgbClr val="ffffff"/>
                </a:solidFill>
                <a:latin typeface="Times New Roman"/>
              </a:endParaRPr>
            </a:p>
          </p:txBody>
        </p:sp>
        <p:sp>
          <p:nvSpPr>
            <p:cNvPr id="1575" name=""/>
            <p:cNvSpPr/>
            <p:nvPr/>
          </p:nvSpPr>
          <p:spPr>
            <a:xfrm>
              <a:off x="5006880" y="1752480"/>
              <a:ext cx="436680" cy="568440"/>
            </a:xfrm>
            <a:custGeom>
              <a:avLst/>
              <a:gdLst>
                <a:gd name="textAreaLeft" fmla="*/ 21240 w 436680"/>
                <a:gd name="textAreaRight" fmla="*/ 415440 w 436680"/>
                <a:gd name="textAreaTop" fmla="*/ 21240 h 568440"/>
                <a:gd name="textAreaBottom" fmla="*/ 547200 h 568440"/>
              </a:gdLst>
              <a:ahLst/>
              <a:rect l="textAreaLeft" t="textAreaTop" r="textAreaRight" b="textAreaBottom"/>
              <a:pathLst>
                <a:path w="21600" h="28112">
                  <a:moveTo>
                    <a:pt x="3600" y="0"/>
                  </a:moveTo>
                  <a:arcTo wR="3600" hR="3600" stAng="16200000" swAng="-5400000"/>
                  <a:lnTo>
                    <a:pt x="0" y="24512"/>
                  </a:lnTo>
                  <a:arcTo wR="3600" hR="3600" stAng="10800000" swAng="-5400000"/>
                  <a:lnTo>
                    <a:pt x="18000" y="28112"/>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4</a:t>
              </a:r>
              <a:endParaRPr b="0" lang="en-US" sz="2000" spc="-1" strike="noStrike">
                <a:solidFill>
                  <a:srgbClr val="ffffff"/>
                </a:solidFill>
                <a:latin typeface="Times New Roman"/>
              </a:endParaRPr>
            </a:p>
          </p:txBody>
        </p:sp>
        <p:grpSp>
          <p:nvGrpSpPr>
            <p:cNvPr id="1576" name=""/>
            <p:cNvGrpSpPr/>
            <p:nvPr/>
          </p:nvGrpSpPr>
          <p:grpSpPr>
            <a:xfrm>
              <a:off x="206280" y="2460600"/>
              <a:ext cx="2862000" cy="4092120"/>
              <a:chOff x="206280" y="2460600"/>
              <a:chExt cx="2862000" cy="4092120"/>
            </a:xfrm>
          </p:grpSpPr>
          <p:sp>
            <p:nvSpPr>
              <p:cNvPr id="1577" name=""/>
              <p:cNvSpPr/>
              <p:nvPr/>
            </p:nvSpPr>
            <p:spPr>
              <a:xfrm>
                <a:off x="209160" y="2460600"/>
                <a:ext cx="285912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özel Dilsel</a:t>
                </a:r>
                <a:endParaRPr b="0" lang="en-US" sz="2000" spc="-1" strike="noStrike">
                  <a:solidFill>
                    <a:srgbClr val="ffffff"/>
                  </a:solidFill>
                  <a:latin typeface="Times New Roman"/>
                </a:endParaRPr>
              </a:p>
            </p:txBody>
          </p:sp>
          <p:sp>
            <p:nvSpPr>
              <p:cNvPr id="1578" name=""/>
              <p:cNvSpPr/>
              <p:nvPr/>
            </p:nvSpPr>
            <p:spPr>
              <a:xfrm>
                <a:off x="206280" y="299700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Mantıksal Matematiksel</a:t>
                </a:r>
                <a:endParaRPr b="0" lang="en-US" sz="1900" spc="-1" strike="noStrike">
                  <a:solidFill>
                    <a:srgbClr val="ffffff"/>
                  </a:solidFill>
                  <a:latin typeface="Times New Roman"/>
                </a:endParaRPr>
              </a:p>
            </p:txBody>
          </p:sp>
          <p:sp>
            <p:nvSpPr>
              <p:cNvPr id="1579" name=""/>
              <p:cNvSpPr/>
              <p:nvPr/>
            </p:nvSpPr>
            <p:spPr>
              <a:xfrm>
                <a:off x="206280" y="352404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Görsel Uzamsal</a:t>
                </a:r>
                <a:endParaRPr b="0" lang="en-US" sz="2000" spc="-1" strike="noStrike">
                  <a:solidFill>
                    <a:srgbClr val="ffffff"/>
                  </a:solidFill>
                  <a:latin typeface="Times New Roman"/>
                </a:endParaRPr>
              </a:p>
            </p:txBody>
          </p:sp>
          <p:sp>
            <p:nvSpPr>
              <p:cNvPr id="1580" name=""/>
              <p:cNvSpPr/>
              <p:nvPr/>
            </p:nvSpPr>
            <p:spPr>
              <a:xfrm>
                <a:off x="207000" y="403992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üziksel Ritmik</a:t>
                </a:r>
                <a:endParaRPr b="0" lang="en-US" sz="2000" spc="-1" strike="noStrike">
                  <a:solidFill>
                    <a:srgbClr val="ffffff"/>
                  </a:solidFill>
                  <a:latin typeface="Times New Roman"/>
                </a:endParaRPr>
              </a:p>
            </p:txBody>
          </p:sp>
          <p:sp>
            <p:nvSpPr>
              <p:cNvPr id="1581" name=""/>
              <p:cNvSpPr/>
              <p:nvPr/>
            </p:nvSpPr>
            <p:spPr>
              <a:xfrm>
                <a:off x="206280" y="457668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Comic Sans MS"/>
                  </a:rPr>
                  <a:t>Bedensel Kinestetik</a:t>
                </a:r>
                <a:endParaRPr b="0" lang="en-US" sz="2000" spc="-1" strike="noStrike">
                  <a:solidFill>
                    <a:srgbClr val="ffffff"/>
                  </a:solidFill>
                  <a:latin typeface="Times New Roman"/>
                </a:endParaRPr>
              </a:p>
            </p:txBody>
          </p:sp>
          <p:sp>
            <p:nvSpPr>
              <p:cNvPr id="1582" name=""/>
              <p:cNvSpPr/>
              <p:nvPr/>
            </p:nvSpPr>
            <p:spPr>
              <a:xfrm>
                <a:off x="206280" y="511308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ğa</a:t>
                </a:r>
                <a:endParaRPr b="0" lang="en-US" sz="2000" spc="-1" strike="noStrike">
                  <a:solidFill>
                    <a:srgbClr val="ffffff"/>
                  </a:solidFill>
                  <a:latin typeface="Times New Roman"/>
                </a:endParaRPr>
              </a:p>
            </p:txBody>
          </p:sp>
          <p:sp>
            <p:nvSpPr>
              <p:cNvPr id="1583" name=""/>
              <p:cNvSpPr/>
              <p:nvPr/>
            </p:nvSpPr>
            <p:spPr>
              <a:xfrm>
                <a:off x="206280" y="5651280"/>
                <a:ext cx="2859120" cy="3614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Kişilerarası</a:t>
                </a:r>
                <a:endParaRPr b="0" lang="en-US" sz="1900" spc="-1" strike="noStrike">
                  <a:solidFill>
                    <a:srgbClr val="ffffff"/>
                  </a:solidFill>
                  <a:latin typeface="Times New Roman"/>
                </a:endParaRPr>
              </a:p>
            </p:txBody>
          </p:sp>
          <p:sp>
            <p:nvSpPr>
              <p:cNvPr id="1584" name=""/>
              <p:cNvSpPr/>
              <p:nvPr/>
            </p:nvSpPr>
            <p:spPr>
              <a:xfrm>
                <a:off x="206280" y="6190920"/>
                <a:ext cx="285912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çsel</a:t>
                </a:r>
                <a:endParaRPr b="0" lang="en-US" sz="1800" spc="-1" strike="noStrike">
                  <a:solidFill>
                    <a:srgbClr val="ffffff"/>
                  </a:solidFill>
                  <a:latin typeface="Times New Roman"/>
                </a:endParaRPr>
              </a:p>
            </p:txBody>
          </p:sp>
        </p:grpSp>
        <p:grpSp>
          <p:nvGrpSpPr>
            <p:cNvPr id="1585" name=""/>
            <p:cNvGrpSpPr/>
            <p:nvPr/>
          </p:nvGrpSpPr>
          <p:grpSpPr>
            <a:xfrm>
              <a:off x="3090960" y="2454120"/>
              <a:ext cx="469440" cy="4084560"/>
              <a:chOff x="3090960" y="2454120"/>
              <a:chExt cx="469440" cy="4084560"/>
            </a:xfrm>
          </p:grpSpPr>
          <p:sp>
            <p:nvSpPr>
              <p:cNvPr id="1586" name=""/>
              <p:cNvSpPr/>
              <p:nvPr/>
            </p:nvSpPr>
            <p:spPr>
              <a:xfrm>
                <a:off x="3124080" y="24541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7" name=""/>
              <p:cNvSpPr/>
              <p:nvPr/>
            </p:nvSpPr>
            <p:spPr>
              <a:xfrm>
                <a:off x="3106440" y="29858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8" name=""/>
              <p:cNvSpPr/>
              <p:nvPr/>
            </p:nvSpPr>
            <p:spPr>
              <a:xfrm>
                <a:off x="3106440" y="351612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9" name=""/>
              <p:cNvSpPr/>
              <p:nvPr/>
            </p:nvSpPr>
            <p:spPr>
              <a:xfrm>
                <a:off x="3106440" y="402912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0" name=""/>
              <p:cNvSpPr/>
              <p:nvPr/>
            </p:nvSpPr>
            <p:spPr>
              <a:xfrm>
                <a:off x="3106440" y="45482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1" name=""/>
              <p:cNvSpPr/>
              <p:nvPr/>
            </p:nvSpPr>
            <p:spPr>
              <a:xfrm>
                <a:off x="3106440" y="50972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2" name=""/>
              <p:cNvSpPr/>
              <p:nvPr/>
            </p:nvSpPr>
            <p:spPr>
              <a:xfrm>
                <a:off x="3090960" y="5629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3" name=""/>
              <p:cNvSpPr/>
              <p:nvPr/>
            </p:nvSpPr>
            <p:spPr>
              <a:xfrm>
                <a:off x="3090960" y="6178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94" name=""/>
            <p:cNvGrpSpPr/>
            <p:nvPr/>
          </p:nvGrpSpPr>
          <p:grpSpPr>
            <a:xfrm>
              <a:off x="3573360" y="2455920"/>
              <a:ext cx="469800" cy="4083120"/>
              <a:chOff x="3573360" y="2455920"/>
              <a:chExt cx="469800" cy="4083120"/>
            </a:xfrm>
          </p:grpSpPr>
          <p:sp>
            <p:nvSpPr>
              <p:cNvPr id="1595" name=""/>
              <p:cNvSpPr/>
              <p:nvPr/>
            </p:nvSpPr>
            <p:spPr>
              <a:xfrm>
                <a:off x="3606840" y="24559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6" name=""/>
              <p:cNvSpPr/>
              <p:nvPr/>
            </p:nvSpPr>
            <p:spPr>
              <a:xfrm>
                <a:off x="3589200" y="29862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7" name=""/>
              <p:cNvSpPr/>
              <p:nvPr/>
            </p:nvSpPr>
            <p:spPr>
              <a:xfrm>
                <a:off x="3589200" y="3517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8" name=""/>
              <p:cNvSpPr/>
              <p:nvPr/>
            </p:nvSpPr>
            <p:spPr>
              <a:xfrm>
                <a:off x="3589200" y="4030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9" name=""/>
              <p:cNvSpPr/>
              <p:nvPr/>
            </p:nvSpPr>
            <p:spPr>
              <a:xfrm>
                <a:off x="3589200" y="454824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0" name=""/>
              <p:cNvSpPr/>
              <p:nvPr/>
            </p:nvSpPr>
            <p:spPr>
              <a:xfrm>
                <a:off x="3589200" y="50976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1" name=""/>
              <p:cNvSpPr/>
              <p:nvPr/>
            </p:nvSpPr>
            <p:spPr>
              <a:xfrm>
                <a:off x="3573360" y="5629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2" name=""/>
              <p:cNvSpPr/>
              <p:nvPr/>
            </p:nvSpPr>
            <p:spPr>
              <a:xfrm>
                <a:off x="3573360" y="61786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03" name=""/>
            <p:cNvGrpSpPr/>
            <p:nvPr/>
          </p:nvGrpSpPr>
          <p:grpSpPr>
            <a:xfrm>
              <a:off x="4046400" y="2455920"/>
              <a:ext cx="469800" cy="4083120"/>
              <a:chOff x="4046400" y="2455920"/>
              <a:chExt cx="469800" cy="4083120"/>
            </a:xfrm>
          </p:grpSpPr>
          <p:sp>
            <p:nvSpPr>
              <p:cNvPr id="1604" name=""/>
              <p:cNvSpPr/>
              <p:nvPr/>
            </p:nvSpPr>
            <p:spPr>
              <a:xfrm>
                <a:off x="4079880" y="24559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5" name=""/>
              <p:cNvSpPr/>
              <p:nvPr/>
            </p:nvSpPr>
            <p:spPr>
              <a:xfrm>
                <a:off x="4062240" y="29862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6" name=""/>
              <p:cNvSpPr/>
              <p:nvPr/>
            </p:nvSpPr>
            <p:spPr>
              <a:xfrm>
                <a:off x="4062240" y="3517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7" name=""/>
              <p:cNvSpPr/>
              <p:nvPr/>
            </p:nvSpPr>
            <p:spPr>
              <a:xfrm>
                <a:off x="4062240" y="4030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8" name=""/>
              <p:cNvSpPr/>
              <p:nvPr/>
            </p:nvSpPr>
            <p:spPr>
              <a:xfrm>
                <a:off x="4062240" y="454824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9" name=""/>
              <p:cNvSpPr/>
              <p:nvPr/>
            </p:nvSpPr>
            <p:spPr>
              <a:xfrm>
                <a:off x="4062240" y="50976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0" name=""/>
              <p:cNvSpPr/>
              <p:nvPr/>
            </p:nvSpPr>
            <p:spPr>
              <a:xfrm>
                <a:off x="4046400" y="5629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1" name=""/>
              <p:cNvSpPr/>
              <p:nvPr/>
            </p:nvSpPr>
            <p:spPr>
              <a:xfrm>
                <a:off x="4046400" y="61786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12" name=""/>
            <p:cNvGrpSpPr/>
            <p:nvPr/>
          </p:nvGrpSpPr>
          <p:grpSpPr>
            <a:xfrm>
              <a:off x="4535640" y="2455920"/>
              <a:ext cx="469440" cy="4083120"/>
              <a:chOff x="4535640" y="2455920"/>
              <a:chExt cx="469440" cy="4083120"/>
            </a:xfrm>
          </p:grpSpPr>
          <p:sp>
            <p:nvSpPr>
              <p:cNvPr id="1613" name=""/>
              <p:cNvSpPr/>
              <p:nvPr/>
            </p:nvSpPr>
            <p:spPr>
              <a:xfrm>
                <a:off x="4568760" y="24559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4" name=""/>
              <p:cNvSpPr/>
              <p:nvPr/>
            </p:nvSpPr>
            <p:spPr>
              <a:xfrm>
                <a:off x="4551120" y="298620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5" name=""/>
              <p:cNvSpPr/>
              <p:nvPr/>
            </p:nvSpPr>
            <p:spPr>
              <a:xfrm>
                <a:off x="4551120" y="351792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6" name=""/>
              <p:cNvSpPr/>
              <p:nvPr/>
            </p:nvSpPr>
            <p:spPr>
              <a:xfrm>
                <a:off x="4551120" y="40305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7" name=""/>
              <p:cNvSpPr/>
              <p:nvPr/>
            </p:nvSpPr>
            <p:spPr>
              <a:xfrm>
                <a:off x="4551120" y="45482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8" name=""/>
              <p:cNvSpPr/>
              <p:nvPr/>
            </p:nvSpPr>
            <p:spPr>
              <a:xfrm>
                <a:off x="4551120" y="509760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9" name=""/>
              <p:cNvSpPr/>
              <p:nvPr/>
            </p:nvSpPr>
            <p:spPr>
              <a:xfrm>
                <a:off x="4535640" y="5629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0" name=""/>
              <p:cNvSpPr/>
              <p:nvPr/>
            </p:nvSpPr>
            <p:spPr>
              <a:xfrm>
                <a:off x="4535640" y="61786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21" name=""/>
            <p:cNvGrpSpPr/>
            <p:nvPr/>
          </p:nvGrpSpPr>
          <p:grpSpPr>
            <a:xfrm>
              <a:off x="4992840" y="2455920"/>
              <a:ext cx="469440" cy="4083120"/>
              <a:chOff x="4992840" y="2455920"/>
              <a:chExt cx="469440" cy="4083120"/>
            </a:xfrm>
          </p:grpSpPr>
          <p:sp>
            <p:nvSpPr>
              <p:cNvPr id="1622" name=""/>
              <p:cNvSpPr/>
              <p:nvPr/>
            </p:nvSpPr>
            <p:spPr>
              <a:xfrm>
                <a:off x="5025960" y="24559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3" name=""/>
              <p:cNvSpPr/>
              <p:nvPr/>
            </p:nvSpPr>
            <p:spPr>
              <a:xfrm>
                <a:off x="5008680" y="29862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4" name=""/>
              <p:cNvSpPr/>
              <p:nvPr/>
            </p:nvSpPr>
            <p:spPr>
              <a:xfrm>
                <a:off x="5008680" y="3517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5" name=""/>
              <p:cNvSpPr/>
              <p:nvPr/>
            </p:nvSpPr>
            <p:spPr>
              <a:xfrm>
                <a:off x="5008680" y="403092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6" name=""/>
              <p:cNvSpPr/>
              <p:nvPr/>
            </p:nvSpPr>
            <p:spPr>
              <a:xfrm>
                <a:off x="5008680" y="454824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7" name=""/>
              <p:cNvSpPr/>
              <p:nvPr/>
            </p:nvSpPr>
            <p:spPr>
              <a:xfrm>
                <a:off x="5008680" y="50976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8" name=""/>
              <p:cNvSpPr/>
              <p:nvPr/>
            </p:nvSpPr>
            <p:spPr>
              <a:xfrm>
                <a:off x="4992840" y="562932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9" name=""/>
              <p:cNvSpPr/>
              <p:nvPr/>
            </p:nvSpPr>
            <p:spPr>
              <a:xfrm>
                <a:off x="4992840" y="61786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0" name=""/>
            <p:cNvSpPr/>
            <p:nvPr/>
          </p:nvSpPr>
          <p:spPr>
            <a:xfrm>
              <a:off x="5481720" y="1754280"/>
              <a:ext cx="434880" cy="568080"/>
            </a:xfrm>
            <a:custGeom>
              <a:avLst/>
              <a:gdLst>
                <a:gd name="textAreaLeft" fmla="*/ 21240 w 434880"/>
                <a:gd name="textAreaRight" fmla="*/ 413640 w 434880"/>
                <a:gd name="textAreaTop" fmla="*/ 21240 h 568080"/>
                <a:gd name="textAreaBottom" fmla="*/ 546840 h 568080"/>
              </a:gdLst>
              <a:ahLst/>
              <a:rect l="textAreaLeft" t="textAreaTop" r="textAreaRight" b="textAreaBottom"/>
              <a:pathLst>
                <a:path w="21600" h="28210">
                  <a:moveTo>
                    <a:pt x="3600" y="0"/>
                  </a:moveTo>
                  <a:arcTo wR="3600" hR="3600" stAng="16200000" swAng="-5400000"/>
                  <a:lnTo>
                    <a:pt x="0" y="24610"/>
                  </a:lnTo>
                  <a:arcTo wR="3600" hR="3600" stAng="10800000" swAng="-5400000"/>
                  <a:lnTo>
                    <a:pt x="18000" y="28210"/>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5</a:t>
              </a:r>
              <a:endParaRPr b="0" lang="en-US" sz="2000" spc="-1" strike="noStrike">
                <a:solidFill>
                  <a:srgbClr val="ffffff"/>
                </a:solidFill>
                <a:latin typeface="Times New Roman"/>
              </a:endParaRPr>
            </a:p>
          </p:txBody>
        </p:sp>
        <p:sp>
          <p:nvSpPr>
            <p:cNvPr id="1631" name=""/>
            <p:cNvSpPr/>
            <p:nvPr/>
          </p:nvSpPr>
          <p:spPr>
            <a:xfrm>
              <a:off x="5950080" y="1754280"/>
              <a:ext cx="438120" cy="568080"/>
            </a:xfrm>
            <a:custGeom>
              <a:avLst/>
              <a:gdLst>
                <a:gd name="textAreaLeft" fmla="*/ 21240 w 438120"/>
                <a:gd name="textAreaRight" fmla="*/ 416880 w 438120"/>
                <a:gd name="textAreaTop" fmla="*/ 21240 h 568080"/>
                <a:gd name="textAreaBottom" fmla="*/ 546840 h 568080"/>
              </a:gdLst>
              <a:ahLst/>
              <a:rect l="textAreaLeft" t="textAreaTop" r="textAreaRight" b="textAreaBottom"/>
              <a:pathLst>
                <a:path w="21600" h="28002">
                  <a:moveTo>
                    <a:pt x="3600" y="0"/>
                  </a:moveTo>
                  <a:arcTo wR="3600" hR="3600" stAng="16200000" swAng="-5400000"/>
                  <a:lnTo>
                    <a:pt x="0" y="24402"/>
                  </a:lnTo>
                  <a:arcTo wR="3600" hR="3600" stAng="10800000" swAng="-5400000"/>
                  <a:lnTo>
                    <a:pt x="18000" y="28002"/>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6</a:t>
              </a:r>
              <a:endParaRPr b="0" lang="en-US" sz="2000" spc="-1" strike="noStrike">
                <a:solidFill>
                  <a:srgbClr val="ffffff"/>
                </a:solidFill>
                <a:latin typeface="Times New Roman"/>
              </a:endParaRPr>
            </a:p>
          </p:txBody>
        </p:sp>
        <p:sp>
          <p:nvSpPr>
            <p:cNvPr id="1632" name=""/>
            <p:cNvSpPr/>
            <p:nvPr/>
          </p:nvSpPr>
          <p:spPr>
            <a:xfrm>
              <a:off x="6421320" y="1754280"/>
              <a:ext cx="436680" cy="568080"/>
            </a:xfrm>
            <a:custGeom>
              <a:avLst/>
              <a:gdLst>
                <a:gd name="textAreaLeft" fmla="*/ 21240 w 436680"/>
                <a:gd name="textAreaRight" fmla="*/ 415440 w 436680"/>
                <a:gd name="textAreaTop" fmla="*/ 21240 h 568080"/>
                <a:gd name="textAreaBottom" fmla="*/ 546840 h 568080"/>
              </a:gdLst>
              <a:ahLst/>
              <a:rect l="textAreaLeft" t="textAreaTop" r="textAreaRight" b="textAreaBottom"/>
              <a:pathLst>
                <a:path w="21600" h="28094">
                  <a:moveTo>
                    <a:pt x="3600" y="0"/>
                  </a:moveTo>
                  <a:arcTo wR="3600" hR="3600" stAng="16200000" swAng="-5400000"/>
                  <a:lnTo>
                    <a:pt x="0" y="24494"/>
                  </a:lnTo>
                  <a:arcTo wR="3600" hR="3600" stAng="10800000" swAng="-5400000"/>
                  <a:lnTo>
                    <a:pt x="18000" y="28094"/>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7</a:t>
              </a:r>
              <a:endParaRPr b="0" lang="en-US" sz="2000" spc="-1" strike="noStrike">
                <a:solidFill>
                  <a:srgbClr val="ffffff"/>
                </a:solidFill>
                <a:latin typeface="Times New Roman"/>
              </a:endParaRPr>
            </a:p>
          </p:txBody>
        </p:sp>
        <p:sp>
          <p:nvSpPr>
            <p:cNvPr id="1633" name=""/>
            <p:cNvSpPr/>
            <p:nvPr/>
          </p:nvSpPr>
          <p:spPr>
            <a:xfrm>
              <a:off x="6894360" y="1754280"/>
              <a:ext cx="436680" cy="568080"/>
            </a:xfrm>
            <a:custGeom>
              <a:avLst/>
              <a:gdLst>
                <a:gd name="textAreaLeft" fmla="*/ 21240 w 436680"/>
                <a:gd name="textAreaRight" fmla="*/ 415440 w 436680"/>
                <a:gd name="textAreaTop" fmla="*/ 21240 h 568080"/>
                <a:gd name="textAreaBottom" fmla="*/ 546840 h 568080"/>
              </a:gdLst>
              <a:ahLst/>
              <a:rect l="textAreaLeft" t="textAreaTop" r="textAreaRight" b="textAreaBottom"/>
              <a:pathLst>
                <a:path w="21600" h="28094">
                  <a:moveTo>
                    <a:pt x="3600" y="0"/>
                  </a:moveTo>
                  <a:arcTo wR="3600" hR="3600" stAng="16200000" swAng="-5400000"/>
                  <a:lnTo>
                    <a:pt x="0" y="24494"/>
                  </a:lnTo>
                  <a:arcTo wR="3600" hR="3600" stAng="10800000" swAng="-5400000"/>
                  <a:lnTo>
                    <a:pt x="18000" y="28094"/>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8</a:t>
              </a:r>
              <a:endParaRPr b="0" lang="en-US" sz="2000" spc="-1" strike="noStrike">
                <a:solidFill>
                  <a:srgbClr val="ffffff"/>
                </a:solidFill>
                <a:latin typeface="Times New Roman"/>
              </a:endParaRPr>
            </a:p>
          </p:txBody>
        </p:sp>
        <p:sp>
          <p:nvSpPr>
            <p:cNvPr id="1634" name=""/>
            <p:cNvSpPr/>
            <p:nvPr/>
          </p:nvSpPr>
          <p:spPr>
            <a:xfrm>
              <a:off x="7351560" y="1754280"/>
              <a:ext cx="436680" cy="568080"/>
            </a:xfrm>
            <a:custGeom>
              <a:avLst/>
              <a:gdLst>
                <a:gd name="textAreaLeft" fmla="*/ 21240 w 436680"/>
                <a:gd name="textAreaRight" fmla="*/ 415440 w 436680"/>
                <a:gd name="textAreaTop" fmla="*/ 21240 h 568080"/>
                <a:gd name="textAreaBottom" fmla="*/ 546840 h 568080"/>
              </a:gdLst>
              <a:ahLst/>
              <a:rect l="textAreaLeft" t="textAreaTop" r="textAreaRight" b="textAreaBottom"/>
              <a:pathLst>
                <a:path w="21600" h="28094">
                  <a:moveTo>
                    <a:pt x="3600" y="0"/>
                  </a:moveTo>
                  <a:arcTo wR="3600" hR="3600" stAng="16200000" swAng="-5400000"/>
                  <a:lnTo>
                    <a:pt x="0" y="24494"/>
                  </a:lnTo>
                  <a:arcTo wR="3600" hR="3600" stAng="10800000" swAng="-5400000"/>
                  <a:lnTo>
                    <a:pt x="18000" y="28094"/>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9</a:t>
              </a:r>
              <a:endParaRPr b="0" lang="en-US" sz="2000" spc="-1" strike="noStrike">
                <a:solidFill>
                  <a:srgbClr val="ffffff"/>
                </a:solidFill>
                <a:latin typeface="Times New Roman"/>
              </a:endParaRPr>
            </a:p>
          </p:txBody>
        </p:sp>
        <p:grpSp>
          <p:nvGrpSpPr>
            <p:cNvPr id="1635" name=""/>
            <p:cNvGrpSpPr/>
            <p:nvPr/>
          </p:nvGrpSpPr>
          <p:grpSpPr>
            <a:xfrm>
              <a:off x="5450040" y="2436840"/>
              <a:ext cx="469440" cy="4084560"/>
              <a:chOff x="5450040" y="2436840"/>
              <a:chExt cx="469440" cy="4084560"/>
            </a:xfrm>
          </p:grpSpPr>
          <p:sp>
            <p:nvSpPr>
              <p:cNvPr id="1636" name=""/>
              <p:cNvSpPr/>
              <p:nvPr/>
            </p:nvSpPr>
            <p:spPr>
              <a:xfrm>
                <a:off x="5483160" y="243684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7" name=""/>
              <p:cNvSpPr/>
              <p:nvPr/>
            </p:nvSpPr>
            <p:spPr>
              <a:xfrm>
                <a:off x="5465520" y="29685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8" name=""/>
              <p:cNvSpPr/>
              <p:nvPr/>
            </p:nvSpPr>
            <p:spPr>
              <a:xfrm>
                <a:off x="5465520" y="34988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9" name=""/>
              <p:cNvSpPr/>
              <p:nvPr/>
            </p:nvSpPr>
            <p:spPr>
              <a:xfrm>
                <a:off x="5465520" y="401184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0" name=""/>
              <p:cNvSpPr/>
              <p:nvPr/>
            </p:nvSpPr>
            <p:spPr>
              <a:xfrm>
                <a:off x="5465520" y="45309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1" name=""/>
              <p:cNvSpPr/>
              <p:nvPr/>
            </p:nvSpPr>
            <p:spPr>
              <a:xfrm>
                <a:off x="5465520" y="50799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2" name=""/>
              <p:cNvSpPr/>
              <p:nvPr/>
            </p:nvSpPr>
            <p:spPr>
              <a:xfrm>
                <a:off x="5450040" y="561204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
              <p:cNvSpPr/>
              <p:nvPr/>
            </p:nvSpPr>
            <p:spPr>
              <a:xfrm>
                <a:off x="5450040" y="616104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44" name=""/>
            <p:cNvGrpSpPr/>
            <p:nvPr/>
          </p:nvGrpSpPr>
          <p:grpSpPr>
            <a:xfrm>
              <a:off x="5934240" y="2438280"/>
              <a:ext cx="468000" cy="4083120"/>
              <a:chOff x="5934240" y="2438280"/>
              <a:chExt cx="468000" cy="4083120"/>
            </a:xfrm>
          </p:grpSpPr>
          <p:sp>
            <p:nvSpPr>
              <p:cNvPr id="1645" name=""/>
              <p:cNvSpPr/>
              <p:nvPr/>
            </p:nvSpPr>
            <p:spPr>
              <a:xfrm>
                <a:off x="5967720" y="2438280"/>
                <a:ext cx="4345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
              <p:cNvSpPr/>
              <p:nvPr/>
            </p:nvSpPr>
            <p:spPr>
              <a:xfrm>
                <a:off x="5950080" y="2968560"/>
                <a:ext cx="435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7" name=""/>
              <p:cNvSpPr/>
              <p:nvPr/>
            </p:nvSpPr>
            <p:spPr>
              <a:xfrm>
                <a:off x="5950080" y="3500280"/>
                <a:ext cx="435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8" name=""/>
              <p:cNvSpPr/>
              <p:nvPr/>
            </p:nvSpPr>
            <p:spPr>
              <a:xfrm>
                <a:off x="5950080" y="4013280"/>
                <a:ext cx="435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9" name=""/>
              <p:cNvSpPr/>
              <p:nvPr/>
            </p:nvSpPr>
            <p:spPr>
              <a:xfrm>
                <a:off x="5950080" y="4530600"/>
                <a:ext cx="435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0" name=""/>
              <p:cNvSpPr/>
              <p:nvPr/>
            </p:nvSpPr>
            <p:spPr>
              <a:xfrm>
                <a:off x="5950080" y="5079960"/>
                <a:ext cx="435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1" name=""/>
              <p:cNvSpPr/>
              <p:nvPr/>
            </p:nvSpPr>
            <p:spPr>
              <a:xfrm>
                <a:off x="5934240" y="5611680"/>
                <a:ext cx="4345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2" name=""/>
              <p:cNvSpPr/>
              <p:nvPr/>
            </p:nvSpPr>
            <p:spPr>
              <a:xfrm>
                <a:off x="5934240" y="6161040"/>
                <a:ext cx="4345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53" name=""/>
            <p:cNvGrpSpPr/>
            <p:nvPr/>
          </p:nvGrpSpPr>
          <p:grpSpPr>
            <a:xfrm>
              <a:off x="6405480" y="2438280"/>
              <a:ext cx="469800" cy="4083120"/>
              <a:chOff x="6405480" y="2438280"/>
              <a:chExt cx="469800" cy="4083120"/>
            </a:xfrm>
          </p:grpSpPr>
          <p:sp>
            <p:nvSpPr>
              <p:cNvPr id="1654" name=""/>
              <p:cNvSpPr/>
              <p:nvPr/>
            </p:nvSpPr>
            <p:spPr>
              <a:xfrm>
                <a:off x="6438960" y="24382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5" name=""/>
              <p:cNvSpPr/>
              <p:nvPr/>
            </p:nvSpPr>
            <p:spPr>
              <a:xfrm>
                <a:off x="6421320" y="296856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6" name=""/>
              <p:cNvSpPr/>
              <p:nvPr/>
            </p:nvSpPr>
            <p:spPr>
              <a:xfrm>
                <a:off x="6421320" y="350028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7" name=""/>
              <p:cNvSpPr/>
              <p:nvPr/>
            </p:nvSpPr>
            <p:spPr>
              <a:xfrm>
                <a:off x="6421320" y="401328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8" name=""/>
              <p:cNvSpPr/>
              <p:nvPr/>
            </p:nvSpPr>
            <p:spPr>
              <a:xfrm>
                <a:off x="6421320" y="453060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9" name=""/>
              <p:cNvSpPr/>
              <p:nvPr/>
            </p:nvSpPr>
            <p:spPr>
              <a:xfrm>
                <a:off x="6421320" y="5079960"/>
                <a:ext cx="43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0" name=""/>
              <p:cNvSpPr/>
              <p:nvPr/>
            </p:nvSpPr>
            <p:spPr>
              <a:xfrm>
                <a:off x="6405480" y="561168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1" name=""/>
              <p:cNvSpPr/>
              <p:nvPr/>
            </p:nvSpPr>
            <p:spPr>
              <a:xfrm>
                <a:off x="6405480" y="6161040"/>
                <a:ext cx="4363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62" name=""/>
            <p:cNvGrpSpPr/>
            <p:nvPr/>
          </p:nvGrpSpPr>
          <p:grpSpPr>
            <a:xfrm>
              <a:off x="6894360" y="2438280"/>
              <a:ext cx="469800" cy="4083120"/>
              <a:chOff x="6894360" y="2438280"/>
              <a:chExt cx="469800" cy="4083120"/>
            </a:xfrm>
          </p:grpSpPr>
          <p:sp>
            <p:nvSpPr>
              <p:cNvPr id="1663" name=""/>
              <p:cNvSpPr/>
              <p:nvPr/>
            </p:nvSpPr>
            <p:spPr>
              <a:xfrm>
                <a:off x="6927480" y="243828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4" name=""/>
              <p:cNvSpPr/>
              <p:nvPr/>
            </p:nvSpPr>
            <p:spPr>
              <a:xfrm>
                <a:off x="6910200" y="2968560"/>
                <a:ext cx="4384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5" name=""/>
              <p:cNvSpPr/>
              <p:nvPr/>
            </p:nvSpPr>
            <p:spPr>
              <a:xfrm>
                <a:off x="6910200" y="3500280"/>
                <a:ext cx="4384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6" name=""/>
              <p:cNvSpPr/>
              <p:nvPr/>
            </p:nvSpPr>
            <p:spPr>
              <a:xfrm>
                <a:off x="6910200" y="4012920"/>
                <a:ext cx="4384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7" name=""/>
              <p:cNvSpPr/>
              <p:nvPr/>
            </p:nvSpPr>
            <p:spPr>
              <a:xfrm>
                <a:off x="6910200" y="4530600"/>
                <a:ext cx="4384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8" name=""/>
              <p:cNvSpPr/>
              <p:nvPr/>
            </p:nvSpPr>
            <p:spPr>
              <a:xfrm>
                <a:off x="6910200" y="5079960"/>
                <a:ext cx="4384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9" name=""/>
              <p:cNvSpPr/>
              <p:nvPr/>
            </p:nvSpPr>
            <p:spPr>
              <a:xfrm>
                <a:off x="6894360" y="561168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0" name=""/>
              <p:cNvSpPr/>
              <p:nvPr/>
            </p:nvSpPr>
            <p:spPr>
              <a:xfrm>
                <a:off x="6894360" y="616104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1" name=""/>
            <p:cNvGrpSpPr/>
            <p:nvPr/>
          </p:nvGrpSpPr>
          <p:grpSpPr>
            <a:xfrm>
              <a:off x="7351560" y="2438280"/>
              <a:ext cx="469800" cy="4083120"/>
              <a:chOff x="7351560" y="2438280"/>
              <a:chExt cx="469800" cy="4083120"/>
            </a:xfrm>
          </p:grpSpPr>
          <p:sp>
            <p:nvSpPr>
              <p:cNvPr id="1672" name=""/>
              <p:cNvSpPr/>
              <p:nvPr/>
            </p:nvSpPr>
            <p:spPr>
              <a:xfrm>
                <a:off x="7384680" y="243828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3" name=""/>
              <p:cNvSpPr/>
              <p:nvPr/>
            </p:nvSpPr>
            <p:spPr>
              <a:xfrm>
                <a:off x="7367400" y="29685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4" name=""/>
              <p:cNvSpPr/>
              <p:nvPr/>
            </p:nvSpPr>
            <p:spPr>
              <a:xfrm>
                <a:off x="7367400" y="350028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5" name=""/>
              <p:cNvSpPr/>
              <p:nvPr/>
            </p:nvSpPr>
            <p:spPr>
              <a:xfrm>
                <a:off x="7367400" y="401328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6" name=""/>
              <p:cNvSpPr/>
              <p:nvPr/>
            </p:nvSpPr>
            <p:spPr>
              <a:xfrm>
                <a:off x="7367400" y="453060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7" name=""/>
              <p:cNvSpPr/>
              <p:nvPr/>
            </p:nvSpPr>
            <p:spPr>
              <a:xfrm>
                <a:off x="7367400" y="507996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8" name=""/>
              <p:cNvSpPr/>
              <p:nvPr/>
            </p:nvSpPr>
            <p:spPr>
              <a:xfrm>
                <a:off x="7351560" y="561168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9" name=""/>
              <p:cNvSpPr/>
              <p:nvPr/>
            </p:nvSpPr>
            <p:spPr>
              <a:xfrm>
                <a:off x="7351560" y="616104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80" name=""/>
            <p:cNvSpPr/>
            <p:nvPr/>
          </p:nvSpPr>
          <p:spPr>
            <a:xfrm>
              <a:off x="7837560" y="1738440"/>
              <a:ext cx="436320" cy="568080"/>
            </a:xfrm>
            <a:custGeom>
              <a:avLst/>
              <a:gdLst>
                <a:gd name="textAreaLeft" fmla="*/ 21240 w 436320"/>
                <a:gd name="textAreaRight" fmla="*/ 415080 w 436320"/>
                <a:gd name="textAreaTop" fmla="*/ 21240 h 568080"/>
                <a:gd name="textAreaBottom" fmla="*/ 546840 h 568080"/>
              </a:gdLst>
              <a:ahLst/>
              <a:rect l="textAreaLeft" t="textAreaTop" r="textAreaRight" b="textAreaBottom"/>
              <a:pathLst>
                <a:path w="21600" h="28117">
                  <a:moveTo>
                    <a:pt x="3600" y="0"/>
                  </a:moveTo>
                  <a:arcTo wR="3600" hR="3600" stAng="16200000" swAng="-5400000"/>
                  <a:lnTo>
                    <a:pt x="0" y="24517"/>
                  </a:lnTo>
                  <a:arcTo wR="3600" hR="3600" stAng="10800000" swAng="-5400000"/>
                  <a:lnTo>
                    <a:pt x="18000" y="28117"/>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10</a:t>
              </a:r>
              <a:endParaRPr b="0" lang="en-US" sz="2000" spc="-1" strike="noStrike">
                <a:solidFill>
                  <a:srgbClr val="ffffff"/>
                </a:solidFill>
                <a:latin typeface="Times New Roman"/>
              </a:endParaRPr>
            </a:p>
          </p:txBody>
        </p:sp>
        <p:grpSp>
          <p:nvGrpSpPr>
            <p:cNvPr id="1681" name=""/>
            <p:cNvGrpSpPr/>
            <p:nvPr/>
          </p:nvGrpSpPr>
          <p:grpSpPr>
            <a:xfrm>
              <a:off x="7835760" y="2421000"/>
              <a:ext cx="469800" cy="4083120"/>
              <a:chOff x="7835760" y="2421000"/>
              <a:chExt cx="469800" cy="4083120"/>
            </a:xfrm>
          </p:grpSpPr>
          <p:sp>
            <p:nvSpPr>
              <p:cNvPr id="1682" name=""/>
              <p:cNvSpPr/>
              <p:nvPr/>
            </p:nvSpPr>
            <p:spPr>
              <a:xfrm>
                <a:off x="7868880" y="242100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3" name=""/>
              <p:cNvSpPr/>
              <p:nvPr/>
            </p:nvSpPr>
            <p:spPr>
              <a:xfrm>
                <a:off x="7851600" y="295128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4" name=""/>
              <p:cNvSpPr/>
              <p:nvPr/>
            </p:nvSpPr>
            <p:spPr>
              <a:xfrm>
                <a:off x="7851600" y="348300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5" name=""/>
              <p:cNvSpPr/>
              <p:nvPr/>
            </p:nvSpPr>
            <p:spPr>
              <a:xfrm>
                <a:off x="7851600" y="399600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6" name=""/>
              <p:cNvSpPr/>
              <p:nvPr/>
            </p:nvSpPr>
            <p:spPr>
              <a:xfrm>
                <a:off x="7851600" y="451332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7" name=""/>
              <p:cNvSpPr/>
              <p:nvPr/>
            </p:nvSpPr>
            <p:spPr>
              <a:xfrm>
                <a:off x="7851600" y="5062680"/>
                <a:ext cx="43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8" name=""/>
              <p:cNvSpPr/>
              <p:nvPr/>
            </p:nvSpPr>
            <p:spPr>
              <a:xfrm>
                <a:off x="7835760" y="559440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9" name=""/>
              <p:cNvSpPr/>
              <p:nvPr/>
            </p:nvSpPr>
            <p:spPr>
              <a:xfrm>
                <a:off x="7835760" y="6143760"/>
                <a:ext cx="43668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90" name=""/>
            <p:cNvSpPr/>
            <p:nvPr/>
          </p:nvSpPr>
          <p:spPr>
            <a:xfrm>
              <a:off x="8312040" y="1295280"/>
              <a:ext cx="717840" cy="1008360"/>
            </a:xfrm>
            <a:custGeom>
              <a:avLst/>
              <a:gdLst>
                <a:gd name="textAreaLeft" fmla="*/ 34920 w 717840"/>
                <a:gd name="textAreaRight" fmla="*/ 682920 w 717840"/>
                <a:gd name="textAreaTop" fmla="*/ 34920 h 1008360"/>
                <a:gd name="textAreaBottom" fmla="*/ 973440 h 1008360"/>
              </a:gdLst>
              <a:ahLst/>
              <a:rect l="textAreaLeft" t="textAreaTop" r="textAreaRight" b="textAreaBottom"/>
              <a:pathLst>
                <a:path w="21600" h="30337">
                  <a:moveTo>
                    <a:pt x="3600" y="0"/>
                  </a:moveTo>
                  <a:arcTo wR="3600" hR="3600" stAng="16200000" swAng="-5400000"/>
                  <a:lnTo>
                    <a:pt x="0" y="26737"/>
                  </a:lnTo>
                  <a:arcTo wR="3600" hR="3600" stAng="10800000" swAng="-5400000"/>
                  <a:lnTo>
                    <a:pt x="18000" y="30337"/>
                  </a:lnTo>
                  <a:arcTo wR="3600" hR="3600" stAng="5400000" swAng="-5400000"/>
                  <a:lnTo>
                    <a:pt x="21600" y="3600"/>
                  </a:lnTo>
                  <a:arcTo wR="3600" hR="3600" stAng="0" swAng="-5400000"/>
                  <a:close/>
                </a:path>
              </a:pathLst>
            </a:custGeom>
            <a:solidFill>
              <a:srgbClr val="ffcc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Topl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Puan</a:t>
              </a:r>
              <a:endParaRPr b="0" lang="en-US" sz="1800" spc="-1" strike="noStrike">
                <a:solidFill>
                  <a:srgbClr val="ffffff"/>
                </a:solidFill>
                <a:latin typeface="Times New Roman"/>
              </a:endParaRPr>
            </a:p>
          </p:txBody>
        </p:sp>
        <p:grpSp>
          <p:nvGrpSpPr>
            <p:cNvPr id="1691" name=""/>
            <p:cNvGrpSpPr/>
            <p:nvPr/>
          </p:nvGrpSpPr>
          <p:grpSpPr>
            <a:xfrm>
              <a:off x="8348760" y="2403360"/>
              <a:ext cx="645480" cy="4083120"/>
              <a:chOff x="8348760" y="2403360"/>
              <a:chExt cx="645480" cy="4083120"/>
            </a:xfrm>
          </p:grpSpPr>
          <p:sp>
            <p:nvSpPr>
              <p:cNvPr id="1692" name=""/>
              <p:cNvSpPr/>
              <p:nvPr/>
            </p:nvSpPr>
            <p:spPr>
              <a:xfrm>
                <a:off x="8394480" y="2403360"/>
                <a:ext cx="599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3" name=""/>
              <p:cNvSpPr/>
              <p:nvPr/>
            </p:nvSpPr>
            <p:spPr>
              <a:xfrm>
                <a:off x="8370720" y="2933640"/>
                <a:ext cx="6015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4" name=""/>
              <p:cNvSpPr/>
              <p:nvPr/>
            </p:nvSpPr>
            <p:spPr>
              <a:xfrm>
                <a:off x="8370720" y="3465360"/>
                <a:ext cx="6015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5" name=""/>
              <p:cNvSpPr/>
              <p:nvPr/>
            </p:nvSpPr>
            <p:spPr>
              <a:xfrm>
                <a:off x="8370720" y="3978360"/>
                <a:ext cx="6015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6" name=""/>
              <p:cNvSpPr/>
              <p:nvPr/>
            </p:nvSpPr>
            <p:spPr>
              <a:xfrm>
                <a:off x="8370720" y="4495680"/>
                <a:ext cx="6015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8370720" y="5045040"/>
                <a:ext cx="6015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8" name=""/>
              <p:cNvSpPr/>
              <p:nvPr/>
            </p:nvSpPr>
            <p:spPr>
              <a:xfrm>
                <a:off x="8348760" y="5576760"/>
                <a:ext cx="599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9" name=""/>
              <p:cNvSpPr/>
              <p:nvPr/>
            </p:nvSpPr>
            <p:spPr>
              <a:xfrm>
                <a:off x="8348760" y="6126120"/>
                <a:ext cx="599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00" name=""/>
            <p:cNvSpPr/>
            <p:nvPr/>
          </p:nvSpPr>
          <p:spPr>
            <a:xfrm>
              <a:off x="3124080" y="1271520"/>
              <a:ext cx="5105520" cy="457200"/>
            </a:xfrm>
            <a:prstGeom prst="roundRect">
              <a:avLst>
                <a:gd name="adj" fmla="val 16667"/>
              </a:avLst>
            </a:prstGeom>
            <a:solidFill>
              <a:srgbClr val="ffff99"/>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İFADELER</a:t>
              </a:r>
              <a:endParaRPr b="0" lang="en-US" sz="2000" spc="-1" strike="noStrike">
                <a:solidFill>
                  <a:srgbClr val="ffffff"/>
                </a:solidFill>
                <a:latin typeface="Times New Roman"/>
              </a:endParaRPr>
            </a:p>
          </p:txBody>
        </p:sp>
      </p:gr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1568"/>
                                        </p:tgtEl>
                                        <p:attrNameLst>
                                          <p:attrName>style.visibility</p:attrName>
                                        </p:attrNameLst>
                                      </p:cBhvr>
                                      <p:to>
                                        <p:strVal val="visible"/>
                                      </p:to>
                                    </p:set>
                                    <p:anim calcmode="lin" valueType="num">
                                      <p:cBhvr additive="repl">
                                        <p:cTn id="880" dur="500" fill="hold"/>
                                        <p:tgtEl>
                                          <p:spTgt spid="1568"/>
                                        </p:tgtEl>
                                        <p:attrNameLst>
                                          <p:attrName>ppt_w</p:attrName>
                                        </p:attrNameLst>
                                      </p:cBhvr>
                                      <p:tavLst>
                                        <p:tav tm="0">
                                          <p:val>
                                            <p:fltVal val="0"/>
                                          </p:val>
                                        </p:tav>
                                        <p:tav tm="100000">
                                          <p:val>
                                            <p:strVal val="#ppt_w"/>
                                          </p:val>
                                        </p:tav>
                                      </p:tavLst>
                                    </p:anim>
                                    <p:anim calcmode="lin" valueType="num">
                                      <p:cBhvr additive="repl">
                                        <p:cTn id="881" dur="500" fill="hold"/>
                                        <p:tgtEl>
                                          <p:spTgt spid="1568"/>
                                        </p:tgtEl>
                                        <p:attrNameLst>
                                          <p:attrName>ppt_h</p:attrName>
                                        </p:attrNameLst>
                                      </p:cBhvr>
                                      <p:tavLst>
                                        <p:tav tm="0">
                                          <p:val>
                                            <p:fltVal val="0"/>
                                          </p:val>
                                        </p:tav>
                                        <p:tav tm="100000">
                                          <p:val>
                                            <p:strVal val="#ppt_h"/>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5">
                                  <p:stCondLst>
                                    <p:cond delay="0"/>
                                  </p:stCondLst>
                                  <p:childTnLst>
                                    <p:set>
                                      <p:cBhvr>
                                        <p:cTn id="885" dur="1" fill="hold">
                                          <p:stCondLst>
                                            <p:cond delay="0"/>
                                          </p:stCondLst>
                                        </p:cTn>
                                        <p:tgtEl>
                                          <p:spTgt spid="1569"/>
                                        </p:tgtEl>
                                        <p:attrNameLst>
                                          <p:attrName>style.visibility</p:attrName>
                                        </p:attrNameLst>
                                      </p:cBhvr>
                                      <p:to>
                                        <p:strVal val="visible"/>
                                      </p:to>
                                    </p:set>
                                    <p:animEffect filter="blinds(vertical)" transition="in">
                                      <p:cBhvr additive="repl">
                                        <p:cTn id="886"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01" name=""/>
          <p:cNvGrpSpPr/>
          <p:nvPr/>
        </p:nvGrpSpPr>
        <p:grpSpPr>
          <a:xfrm>
            <a:off x="304920" y="1295280"/>
            <a:ext cx="8533800" cy="3697560"/>
            <a:chOff x="304920" y="1295280"/>
            <a:chExt cx="8533800" cy="3697560"/>
          </a:xfrm>
        </p:grpSpPr>
        <p:grpSp>
          <p:nvGrpSpPr>
            <p:cNvPr id="1702" name=""/>
            <p:cNvGrpSpPr/>
            <p:nvPr/>
          </p:nvGrpSpPr>
          <p:grpSpPr>
            <a:xfrm>
              <a:off x="304920" y="1295280"/>
              <a:ext cx="2590560" cy="3697560"/>
              <a:chOff x="304920" y="1295280"/>
              <a:chExt cx="2590560" cy="3697560"/>
            </a:xfrm>
          </p:grpSpPr>
          <p:sp>
            <p:nvSpPr>
              <p:cNvPr id="1703" name=""/>
              <p:cNvSpPr/>
              <p:nvPr/>
            </p:nvSpPr>
            <p:spPr>
              <a:xfrm>
                <a:off x="304920" y="1295280"/>
                <a:ext cx="2590560" cy="102564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Comic Sans MS"/>
                  </a:rPr>
                  <a:t>SEÇENEKLER</a:t>
                </a:r>
                <a:endParaRPr b="0" lang="en-US" sz="2000" spc="-1" strike="noStrike">
                  <a:solidFill>
                    <a:srgbClr val="ffffff"/>
                  </a:solidFill>
                  <a:latin typeface="Times New Roman"/>
                </a:endParaRPr>
              </a:p>
            </p:txBody>
          </p:sp>
          <p:sp>
            <p:nvSpPr>
              <p:cNvPr id="1704" name=""/>
              <p:cNvSpPr/>
              <p:nvPr/>
            </p:nvSpPr>
            <p:spPr>
              <a:xfrm>
                <a:off x="307440" y="2514600"/>
                <a:ext cx="25876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4= Tamamen Uygun</a:t>
                </a:r>
                <a:endParaRPr b="0" lang="en-US" sz="2000" spc="-1" strike="noStrike">
                  <a:solidFill>
                    <a:srgbClr val="ffffff"/>
                  </a:solidFill>
                  <a:latin typeface="Times New Roman"/>
                </a:endParaRPr>
              </a:p>
            </p:txBody>
          </p:sp>
          <p:sp>
            <p:nvSpPr>
              <p:cNvPr id="1705" name=""/>
              <p:cNvSpPr/>
              <p:nvPr/>
            </p:nvSpPr>
            <p:spPr>
              <a:xfrm>
                <a:off x="304920" y="3051000"/>
                <a:ext cx="258768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3= Oldukça Uygun</a:t>
                </a:r>
                <a:endParaRPr b="0" lang="en-US" sz="1900" spc="-1" strike="noStrike">
                  <a:solidFill>
                    <a:srgbClr val="ffffff"/>
                  </a:solidFill>
                  <a:latin typeface="Times New Roman"/>
                </a:endParaRPr>
              </a:p>
            </p:txBody>
          </p:sp>
          <p:sp>
            <p:nvSpPr>
              <p:cNvPr id="1706" name=""/>
              <p:cNvSpPr/>
              <p:nvPr/>
            </p:nvSpPr>
            <p:spPr>
              <a:xfrm>
                <a:off x="304920" y="3578400"/>
                <a:ext cx="25876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2= Kısmen Uygun</a:t>
                </a:r>
                <a:endParaRPr b="0" lang="en-US" sz="2000" spc="-1" strike="noStrike">
                  <a:solidFill>
                    <a:srgbClr val="ffffff"/>
                  </a:solidFill>
                  <a:latin typeface="Times New Roman"/>
                </a:endParaRPr>
              </a:p>
            </p:txBody>
          </p:sp>
          <p:sp>
            <p:nvSpPr>
              <p:cNvPr id="1707" name=""/>
              <p:cNvSpPr/>
              <p:nvPr/>
            </p:nvSpPr>
            <p:spPr>
              <a:xfrm>
                <a:off x="304920" y="4094280"/>
                <a:ext cx="258912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 Çok Az Uygun</a:t>
                </a:r>
                <a:endParaRPr b="0" lang="en-US" sz="2000" spc="-1" strike="noStrike">
                  <a:solidFill>
                    <a:srgbClr val="ffffff"/>
                  </a:solidFill>
                  <a:latin typeface="Times New Roman"/>
                </a:endParaRPr>
              </a:p>
            </p:txBody>
          </p:sp>
          <p:sp>
            <p:nvSpPr>
              <p:cNvPr id="1708" name=""/>
              <p:cNvSpPr/>
              <p:nvPr/>
            </p:nvSpPr>
            <p:spPr>
              <a:xfrm>
                <a:off x="304920" y="4630680"/>
                <a:ext cx="258768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0= Hiç Uygun Değil</a:t>
                </a:r>
                <a:endParaRPr b="0" lang="en-US" sz="2000" spc="-1" strike="noStrike">
                  <a:solidFill>
                    <a:srgbClr val="ffffff"/>
                  </a:solidFill>
                  <a:latin typeface="Times New Roman"/>
                </a:endParaRPr>
              </a:p>
            </p:txBody>
          </p:sp>
        </p:grpSp>
        <p:grpSp>
          <p:nvGrpSpPr>
            <p:cNvPr id="1709" name=""/>
            <p:cNvGrpSpPr/>
            <p:nvPr/>
          </p:nvGrpSpPr>
          <p:grpSpPr>
            <a:xfrm>
              <a:off x="2971800" y="1295280"/>
              <a:ext cx="2819520" cy="3697560"/>
              <a:chOff x="2971800" y="1295280"/>
              <a:chExt cx="2819520" cy="3697560"/>
            </a:xfrm>
          </p:grpSpPr>
          <p:sp>
            <p:nvSpPr>
              <p:cNvPr id="1710" name=""/>
              <p:cNvSpPr/>
              <p:nvPr/>
            </p:nvSpPr>
            <p:spPr>
              <a:xfrm>
                <a:off x="2971800" y="1295280"/>
                <a:ext cx="2819520" cy="102564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Comic Sans MS"/>
                  </a:rPr>
                  <a:t>HER BİR ALANDA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Comic Sans MS"/>
                  </a:rPr>
                  <a:t>ELDE EDİLE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Comic Sans MS"/>
                  </a:rPr>
                  <a:t>TOPLAM PUAN</a:t>
                </a:r>
                <a:endParaRPr b="0" lang="en-US" sz="2000" spc="-1" strike="noStrike">
                  <a:solidFill>
                    <a:srgbClr val="ffffff"/>
                  </a:solidFill>
                  <a:latin typeface="Times New Roman"/>
                </a:endParaRPr>
              </a:p>
            </p:txBody>
          </p:sp>
          <p:sp>
            <p:nvSpPr>
              <p:cNvPr id="1711" name=""/>
              <p:cNvSpPr/>
              <p:nvPr/>
            </p:nvSpPr>
            <p:spPr>
              <a:xfrm>
                <a:off x="2974320" y="2514600"/>
                <a:ext cx="28166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32 - 40 arası</a:t>
                </a:r>
                <a:endParaRPr b="0" lang="en-US" sz="2000" spc="-1" strike="noStrike">
                  <a:solidFill>
                    <a:srgbClr val="ffffff"/>
                  </a:solidFill>
                  <a:latin typeface="Times New Roman"/>
                </a:endParaRPr>
              </a:p>
            </p:txBody>
          </p:sp>
          <p:sp>
            <p:nvSpPr>
              <p:cNvPr id="1712" name=""/>
              <p:cNvSpPr/>
              <p:nvPr/>
            </p:nvSpPr>
            <p:spPr>
              <a:xfrm>
                <a:off x="2971800" y="3051000"/>
                <a:ext cx="28166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24 - 31 arası</a:t>
                </a:r>
                <a:endParaRPr b="0" lang="en-US" sz="2000" spc="-1" strike="noStrike">
                  <a:solidFill>
                    <a:srgbClr val="ffffff"/>
                  </a:solidFill>
                  <a:latin typeface="Times New Roman"/>
                </a:endParaRPr>
              </a:p>
            </p:txBody>
          </p:sp>
          <p:sp>
            <p:nvSpPr>
              <p:cNvPr id="1713" name=""/>
              <p:cNvSpPr/>
              <p:nvPr/>
            </p:nvSpPr>
            <p:spPr>
              <a:xfrm>
                <a:off x="2971800" y="3578400"/>
                <a:ext cx="281664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6 - 23 arası</a:t>
                </a:r>
                <a:endParaRPr b="0" lang="en-US" sz="2000" spc="-1" strike="noStrike">
                  <a:solidFill>
                    <a:srgbClr val="ffffff"/>
                  </a:solidFill>
                  <a:latin typeface="Times New Roman"/>
                </a:endParaRPr>
              </a:p>
            </p:txBody>
          </p:sp>
          <p:sp>
            <p:nvSpPr>
              <p:cNvPr id="1714" name=""/>
              <p:cNvSpPr/>
              <p:nvPr/>
            </p:nvSpPr>
            <p:spPr>
              <a:xfrm>
                <a:off x="2971800" y="4094280"/>
                <a:ext cx="281808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8 - 15 arası</a:t>
                </a:r>
                <a:endParaRPr b="0" lang="en-US" sz="2000" spc="-1" strike="noStrike">
                  <a:solidFill>
                    <a:srgbClr val="ffffff"/>
                  </a:solidFill>
                  <a:latin typeface="Times New Roman"/>
                </a:endParaRPr>
              </a:p>
            </p:txBody>
          </p:sp>
          <p:sp>
            <p:nvSpPr>
              <p:cNvPr id="1715" name=""/>
              <p:cNvSpPr/>
              <p:nvPr/>
            </p:nvSpPr>
            <p:spPr>
              <a:xfrm>
                <a:off x="2971800" y="4630680"/>
                <a:ext cx="281664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0 - 7 arası</a:t>
                </a:r>
                <a:endParaRPr b="0" lang="en-US" sz="2000" spc="-1" strike="noStrike">
                  <a:solidFill>
                    <a:srgbClr val="ffffff"/>
                  </a:solidFill>
                  <a:latin typeface="Times New Roman"/>
                </a:endParaRPr>
              </a:p>
            </p:txBody>
          </p:sp>
        </p:grpSp>
        <p:grpSp>
          <p:nvGrpSpPr>
            <p:cNvPr id="1716" name=""/>
            <p:cNvGrpSpPr/>
            <p:nvPr/>
          </p:nvGrpSpPr>
          <p:grpSpPr>
            <a:xfrm>
              <a:off x="5867280" y="1295280"/>
              <a:ext cx="2971440" cy="3697560"/>
              <a:chOff x="5867280" y="1295280"/>
              <a:chExt cx="2971440" cy="3697560"/>
            </a:xfrm>
          </p:grpSpPr>
          <p:sp>
            <p:nvSpPr>
              <p:cNvPr id="1717" name=""/>
              <p:cNvSpPr/>
              <p:nvPr/>
            </p:nvSpPr>
            <p:spPr>
              <a:xfrm>
                <a:off x="5867280" y="1295280"/>
                <a:ext cx="2971440" cy="102564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BU ZEKA ALANINDAKİ </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a4"/>
                    </a:solidFill>
                    <a:latin typeface="Comic Sans MS"/>
                  </a:rPr>
                  <a:t>GELİŞMİŞLİK DÜZEYİ</a:t>
                </a:r>
                <a:endParaRPr b="0" lang="en-US" sz="1900" spc="-1" strike="noStrike">
                  <a:solidFill>
                    <a:srgbClr val="ffffff"/>
                  </a:solidFill>
                  <a:latin typeface="Times New Roman"/>
                </a:endParaRPr>
              </a:p>
            </p:txBody>
          </p:sp>
          <p:sp>
            <p:nvSpPr>
              <p:cNvPr id="1718" name=""/>
              <p:cNvSpPr/>
              <p:nvPr/>
            </p:nvSpPr>
            <p:spPr>
              <a:xfrm>
                <a:off x="5870160" y="2514600"/>
                <a:ext cx="296856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Çok gelişmiş</a:t>
                </a:r>
                <a:endParaRPr b="0" lang="en-US" sz="2000" spc="-1" strike="noStrike">
                  <a:solidFill>
                    <a:srgbClr val="ffffff"/>
                  </a:solidFill>
                  <a:latin typeface="Times New Roman"/>
                </a:endParaRPr>
              </a:p>
            </p:txBody>
          </p:sp>
          <p:sp>
            <p:nvSpPr>
              <p:cNvPr id="1719" name=""/>
              <p:cNvSpPr/>
              <p:nvPr/>
            </p:nvSpPr>
            <p:spPr>
              <a:xfrm>
                <a:off x="5867280" y="3051000"/>
                <a:ext cx="296856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mic Sans MS"/>
                  </a:rPr>
                  <a:t>Gelişmiş </a:t>
                </a:r>
                <a:endParaRPr b="0" lang="en-US" sz="1900" spc="-1" strike="noStrike">
                  <a:solidFill>
                    <a:srgbClr val="ffffff"/>
                  </a:solidFill>
                  <a:latin typeface="Times New Roman"/>
                </a:endParaRPr>
              </a:p>
            </p:txBody>
          </p:sp>
          <p:sp>
            <p:nvSpPr>
              <p:cNvPr id="1720" name=""/>
              <p:cNvSpPr/>
              <p:nvPr/>
            </p:nvSpPr>
            <p:spPr>
              <a:xfrm>
                <a:off x="5867280" y="3578400"/>
                <a:ext cx="296856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rta düzeyde gelişmiş</a:t>
                </a:r>
                <a:endParaRPr b="0" lang="en-US" sz="2000" spc="-1" strike="noStrike">
                  <a:solidFill>
                    <a:srgbClr val="ffffff"/>
                  </a:solidFill>
                  <a:latin typeface="Times New Roman"/>
                </a:endParaRPr>
              </a:p>
            </p:txBody>
          </p:sp>
          <p:sp>
            <p:nvSpPr>
              <p:cNvPr id="1721" name=""/>
              <p:cNvSpPr/>
              <p:nvPr/>
            </p:nvSpPr>
            <p:spPr>
              <a:xfrm>
                <a:off x="5867280" y="4094280"/>
                <a:ext cx="2970000" cy="361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raz gelişmiş</a:t>
                </a:r>
                <a:endParaRPr b="0" lang="en-US" sz="2000" spc="-1" strike="noStrike">
                  <a:solidFill>
                    <a:srgbClr val="ffffff"/>
                  </a:solidFill>
                  <a:latin typeface="Times New Roman"/>
                </a:endParaRPr>
              </a:p>
            </p:txBody>
          </p:sp>
          <p:sp>
            <p:nvSpPr>
              <p:cNvPr id="1722" name=""/>
              <p:cNvSpPr/>
              <p:nvPr/>
            </p:nvSpPr>
            <p:spPr>
              <a:xfrm>
                <a:off x="5867280" y="4630680"/>
                <a:ext cx="2968560" cy="3621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Gelişmemiş </a:t>
                </a:r>
                <a:endParaRPr b="0" lang="en-US" sz="2000" spc="-1" strike="noStrike">
                  <a:solidFill>
                    <a:srgbClr val="ffffff"/>
                  </a:solidFill>
                  <a:latin typeface="Times New Roman"/>
                </a:endParaRPr>
              </a:p>
            </p:txBody>
          </p:sp>
        </p:grpSp>
      </p:grpSp>
    </p:spTree>
  </p:cSld>
  <p:transition>
    <p:dissolv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1701"/>
                                        </p:tgtEl>
                                        <p:attrNameLst>
                                          <p:attrName>style.visibility</p:attrName>
                                        </p:attrNameLst>
                                      </p:cBhvr>
                                      <p:to>
                                        <p:strVal val="visible"/>
                                      </p:to>
                                    </p:set>
                                    <p:animEffect filter="checkerboard(across)" transition="in">
                                      <p:cBhvr additive="repl">
                                        <p:cTn id="893" dur="500"/>
                                        <p:tgtEl>
                                          <p:spTgt spid="1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alphaModFix amt="92000"/>
          </a:blip>
          <a:stretch/>
        </p:blipFill>
        <p:spPr>
          <a:xfrm>
            <a:off x="250920" y="189000"/>
            <a:ext cx="6121440" cy="6408720"/>
          </a:xfrm>
          <a:prstGeom prst="rect">
            <a:avLst/>
          </a:prstGeom>
          <a:ln w="25560">
            <a:solidFill>
              <a:srgbClr val="ff0000"/>
            </a:solidFill>
            <a:miter/>
          </a:ln>
        </p:spPr>
      </p:pic>
      <p:sp>
        <p:nvSpPr>
          <p:cNvPr id="110" name=""/>
          <p:cNvSpPr/>
          <p:nvPr/>
        </p:nvSpPr>
        <p:spPr>
          <a:xfrm>
            <a:off x="6443640" y="1414440"/>
            <a:ext cx="2612880" cy="3751560"/>
          </a:xfrm>
          <a:prstGeom prst="rect">
            <a:avLst/>
          </a:prstGeom>
          <a:solidFill>
            <a:srgbClr val="ffff00"/>
          </a:solidFill>
          <a:ln w="255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Arial"/>
                <a:ea typeface="Times New Roman"/>
              </a:rPr>
              <a:t>Dendritlerin dallanması ve kom</a:t>
            </a:r>
            <a:r>
              <a:rPr b="1" lang="tr-TR" sz="2400" spc="-1" strike="noStrike">
                <a:solidFill>
                  <a:srgbClr val="ff3300"/>
                </a:solidFill>
                <a:latin typeface="Arial"/>
              </a:rPr>
              <a:t>ş</a:t>
            </a:r>
            <a:r>
              <a:rPr b="1" lang="tr-TR" sz="2400" spc="-1" strike="noStrike">
                <a:solidFill>
                  <a:srgbClr val="ff3300"/>
                </a:solidFill>
                <a:latin typeface="Arial"/>
                <a:ea typeface="Times New Roman"/>
              </a:rPr>
              <a:t>u hücrelerle sinaptik ba</a:t>
            </a:r>
            <a:r>
              <a:rPr b="1" lang="tr-TR" sz="2400" spc="-1" strike="noStrike">
                <a:solidFill>
                  <a:srgbClr val="ff3300"/>
                </a:solidFill>
                <a:latin typeface="Arial"/>
              </a:rPr>
              <a:t>ğ</a:t>
            </a:r>
            <a:r>
              <a:rPr b="1" lang="tr-TR" sz="2400" spc="-1" strike="noStrike">
                <a:solidFill>
                  <a:srgbClr val="ff3300"/>
                </a:solidFill>
                <a:latin typeface="Arial"/>
                <a:ea typeface="Times New Roman"/>
              </a:rPr>
              <a:t>lar olu</a:t>
            </a:r>
            <a:r>
              <a:rPr b="1" lang="tr-TR" sz="2400" spc="-1" strike="noStrike">
                <a:solidFill>
                  <a:srgbClr val="ff3300"/>
                </a:solidFill>
                <a:latin typeface="Arial"/>
              </a:rPr>
              <a:t>ş</a:t>
            </a:r>
            <a:r>
              <a:rPr b="1" lang="tr-TR" sz="2400" spc="-1" strike="noStrike">
                <a:solidFill>
                  <a:srgbClr val="ff3300"/>
                </a:solidFill>
                <a:latin typeface="Arial"/>
                <a:ea typeface="Times New Roman"/>
              </a:rPr>
              <a:t>turulmas</a:t>
            </a:r>
            <a:r>
              <a:rPr b="1" lang="tr-TR" sz="2400" spc="-1" strike="noStrike">
                <a:solidFill>
                  <a:srgbClr val="ff3300"/>
                </a:solidFill>
                <a:latin typeface="Arial"/>
              </a:rPr>
              <a:t>ı</a:t>
            </a:r>
            <a:r>
              <a:rPr b="1" lang="tr-TR" sz="2400" spc="-1" strike="noStrike">
                <a:solidFill>
                  <a:srgbClr val="ff3300"/>
                </a:solidFill>
                <a:latin typeface="Arial"/>
                <a:ea typeface="Times New Roman"/>
              </a:rPr>
              <a:t> zekan</a:t>
            </a:r>
            <a:r>
              <a:rPr b="1" lang="tr-TR" sz="2400" spc="-1" strike="noStrike">
                <a:solidFill>
                  <a:srgbClr val="ff3300"/>
                </a:solidFill>
                <a:latin typeface="Arial"/>
              </a:rPr>
              <a:t>ı</a:t>
            </a:r>
            <a:r>
              <a:rPr b="1" lang="tr-TR" sz="2400" spc="-1" strike="noStrike">
                <a:solidFill>
                  <a:srgbClr val="ff3300"/>
                </a:solidFill>
                <a:latin typeface="Arial"/>
                <a:ea typeface="Times New Roman"/>
              </a:rPr>
              <a:t>n geli</a:t>
            </a:r>
            <a:r>
              <a:rPr b="1" lang="tr-TR" sz="2400" spc="-1" strike="noStrike">
                <a:solidFill>
                  <a:srgbClr val="ff3300"/>
                </a:solidFill>
                <a:latin typeface="Arial"/>
              </a:rPr>
              <a:t>ş</a:t>
            </a:r>
            <a:r>
              <a:rPr b="1" lang="tr-TR" sz="2400" spc="-1" strike="noStrike">
                <a:solidFill>
                  <a:srgbClr val="ff3300"/>
                </a:solidFill>
                <a:latin typeface="Arial"/>
                <a:ea typeface="Times New Roman"/>
              </a:rPr>
              <a:t>mesi demekti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base">
                                        <p:cTn id="128" dur="500" fill="hold"/>
                                        <p:tgtEl>
                                          <p:spTgt spid="109"/>
                                        </p:tgtEl>
                                        <p:attrNameLst>
                                          <p:attrName>ppt_x</p:attrName>
                                        </p:attrNameLst>
                                      </p:cBhvr>
                                      <p:tavLst>
                                        <p:tav tm="0">
                                          <p:val>
                                            <p:strVal val="0-#ppt_w/2"/>
                                          </p:val>
                                        </p:tav>
                                        <p:tav tm="100000">
                                          <p:val>
                                            <p:strVal val="#ppt_x"/>
                                          </p:val>
                                        </p:tav>
                                      </p:tavLst>
                                    </p:anim>
                                    <p:anim calcmode="lin" valueType="num">
                                      <p:cBhvr additive="base">
                                        <p:cTn id="12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base">
                                        <p:cTn id="134" dur="500" fill="hold"/>
                                        <p:tgtEl>
                                          <p:spTgt spid="110"/>
                                        </p:tgtEl>
                                        <p:attrNameLst>
                                          <p:attrName>ppt_x</p:attrName>
                                        </p:attrNameLst>
                                      </p:cBhvr>
                                      <p:tavLst>
                                        <p:tav tm="0">
                                          <p:val>
                                            <p:strVal val="0-#ppt_w/2"/>
                                          </p:val>
                                        </p:tav>
                                        <p:tav tm="100000">
                                          <p:val>
                                            <p:strVal val="#ppt_x"/>
                                          </p:val>
                                        </p:tav>
                                      </p:tavLst>
                                    </p:anim>
                                    <p:anim calcmode="lin" valueType="num">
                                      <p:cBhvr additive="base">
                                        <p:cTn id="13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3" name=""/>
          <p:cNvSpPr/>
          <p:nvPr/>
        </p:nvSpPr>
        <p:spPr>
          <a:xfrm>
            <a:off x="762120" y="1828800"/>
            <a:ext cx="7848360" cy="153684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Bir adam, bir fotoğrafı göstererek, “bu fotoğraftak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damın babası benim babamın tek oğludur” diy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toğraftaki adam kimdir?</a:t>
            </a:r>
            <a:endParaRPr b="0" lang="en-US" sz="2000" spc="-1" strike="noStrike">
              <a:solidFill>
                <a:srgbClr val="ffffff"/>
              </a:solidFill>
              <a:latin typeface="Times New Roman"/>
            </a:endParaRPr>
          </a:p>
        </p:txBody>
      </p:sp>
      <p:sp>
        <p:nvSpPr>
          <p:cNvPr id="1724" name=""/>
          <p:cNvSpPr/>
          <p:nvPr/>
        </p:nvSpPr>
        <p:spPr>
          <a:xfrm>
            <a:off x="685800" y="3886200"/>
            <a:ext cx="7848720" cy="182880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Bu problemi çözerken bir sonraki slaytta verilen tablod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irinci sütuna sizin için uygunsa X işareti koyun. İkinci sütun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bu maddeyi kaçıncı derecede seçtiğinizi rakamla belirti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Üçüncü sütunda ilgili zeka alanlarının baş harfleri kısaltılarak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verilmiştir.    </a:t>
            </a:r>
            <a:endParaRPr b="0" lang="en-US" sz="2000" spc="-1" strike="noStrike">
              <a:solidFill>
                <a:srgbClr val="ffffff"/>
              </a:solidFill>
              <a:latin typeface="Times New Roman"/>
            </a:endParaRPr>
          </a:p>
        </p:txBody>
      </p:sp>
      <p:sp>
        <p:nvSpPr>
          <p:cNvPr id="1725" name=""/>
          <p:cNvSpPr txBox="1"/>
          <p:nvPr/>
        </p:nvSpPr>
        <p:spPr>
          <a:xfrm>
            <a:off x="1905120" y="685800"/>
            <a:ext cx="4724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17819" dir="2700000" blurRad="0" rotWithShape="0">
                    <a:srgbClr val="c0c0c0"/>
                  </a:outerShdw>
                </a:effectLst>
                <a:latin typeface="Impact"/>
              </a:rPr>
              <a:t>Bir sorumuz var</a:t>
            </a:r>
            <a:endParaRPr b="0" lang="en-US" sz="2400" spc="1" strike="noStrike">
              <a:ln w="0">
                <a:noFill/>
              </a:ln>
              <a:solidFill>
                <a:srgbClr val="800000"/>
              </a:solidFill>
              <a:effectLst>
                <a:outerShdw dist="17819" dir="2700000" blurRad="0" rotWithShape="0">
                  <a:srgbClr val="c0c0c0"/>
                </a:outerShdw>
              </a:effectLst>
              <a:latin typeface="Impact"/>
              <a:ea typeface="Impact"/>
            </a:endParaRPr>
          </a:p>
        </p:txBody>
      </p:sp>
    </p:spTree>
  </p:cSld>
  <p:transition>
    <p:dissolve/>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9" presetSubtype="10">
                                  <p:stCondLst>
                                    <p:cond delay="0"/>
                                  </p:stCondLst>
                                  <p:childTnLst>
                                    <p:set>
                                      <p:cBhvr>
                                        <p:cTn id="899" dur="1" fill="hold">
                                          <p:stCondLst>
                                            <p:cond delay="0"/>
                                          </p:stCondLst>
                                        </p:cTn>
                                        <p:tgtEl>
                                          <p:spTgt spid="1725"/>
                                        </p:tgtEl>
                                        <p:attrNameLst>
                                          <p:attrName>style.visibility</p:attrName>
                                        </p:attrNameLst>
                                      </p:cBhvr>
                                      <p:to>
                                        <p:strVal val="visible"/>
                                      </p:to>
                                    </p:set>
                                    <p:anim calcmode="lin" valueType="num">
                                      <p:cBhvr additive="repl">
                                        <p:cTn id="900" dur="5000" fill="hold"/>
                                        <p:tgtEl>
                                          <p:spTgt spid="1725"/>
                                        </p:tgtEl>
                                        <p:attrNameLst>
                                          <p:attrName>ppt_w</p:attrName>
                                        </p:attrNameLst>
                                      </p:cBhvr>
                                      <p:tavLst>
                                        <p:tav fmla="width*sin(2.5*pi*$)" tm="0">
                                          <p:val>
                                            <p:fltVal val="0"/>
                                          </p:val>
                                        </p:tav>
                                        <p:tav fmla="width*sin(2.5*pi*$)" tm="100000">
                                          <p:val>
                                            <p:fltVal val="1"/>
                                          </p:val>
                                        </p:tav>
                                      </p:tavLst>
                                    </p:anim>
                                    <p:anim calcmode="lin" valueType="num">
                                      <p:cBhvr additive="repl">
                                        <p:cTn id="901" dur="5000" fill="hold"/>
                                        <p:tgtEl>
                                          <p:spTgt spid="1725"/>
                                        </p:tgtEl>
                                        <p:attrNameLst>
                                          <p:attrName>ppt_h</p:attrName>
                                        </p:attrNameLst>
                                      </p:cBhvr>
                                      <p:tavLst>
                                        <p:tav tm="0">
                                          <p:val>
                                            <p:strVal val="#ppt_h"/>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723"/>
                                        </p:tgtEl>
                                        <p:attrNameLst>
                                          <p:attrName>style.visibility</p:attrName>
                                        </p:attrNameLst>
                                      </p:cBhvr>
                                      <p:to>
                                        <p:strVal val="visible"/>
                                      </p:to>
                                    </p:set>
                                    <p:animEffect filter="wipe(left)" transition="in">
                                      <p:cBhvr additive="repl">
                                        <p:cTn id="906" dur="500"/>
                                        <p:tgtEl>
                                          <p:spTgt spid="172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1724"/>
                                        </p:tgtEl>
                                        <p:attrNameLst>
                                          <p:attrName>style.visibility</p:attrName>
                                        </p:attrNameLst>
                                      </p:cBhvr>
                                      <p:to>
                                        <p:strVal val="visible"/>
                                      </p:to>
                                    </p:set>
                                    <p:animEffect filter="wipe(left)" transition="in">
                                      <p:cBhvr additive="repl">
                                        <p:cTn id="911" dur="500"/>
                                        <p:tgtEl>
                                          <p:spTgt spid="1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26" name=""/>
          <p:cNvGrpSpPr/>
          <p:nvPr/>
        </p:nvGrpSpPr>
        <p:grpSpPr>
          <a:xfrm>
            <a:off x="223920" y="287280"/>
            <a:ext cx="8603640" cy="6194520"/>
            <a:chOff x="223920" y="287280"/>
            <a:chExt cx="8603640" cy="6194520"/>
          </a:xfrm>
        </p:grpSpPr>
        <p:grpSp>
          <p:nvGrpSpPr>
            <p:cNvPr id="1727" name=""/>
            <p:cNvGrpSpPr/>
            <p:nvPr/>
          </p:nvGrpSpPr>
          <p:grpSpPr>
            <a:xfrm>
              <a:off x="2503440" y="287280"/>
              <a:ext cx="6324120" cy="6149880"/>
              <a:chOff x="2503440" y="287280"/>
              <a:chExt cx="6324120" cy="6149880"/>
            </a:xfrm>
          </p:grpSpPr>
          <p:sp>
            <p:nvSpPr>
              <p:cNvPr id="1728" name=""/>
              <p:cNvSpPr/>
              <p:nvPr/>
            </p:nvSpPr>
            <p:spPr>
              <a:xfrm>
                <a:off x="2503440" y="287280"/>
                <a:ext cx="6319440" cy="563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YLEM</a:t>
                </a:r>
                <a:endParaRPr b="0" lang="en-US" sz="2000" spc="-1" strike="noStrike">
                  <a:solidFill>
                    <a:srgbClr val="ffffff"/>
                  </a:solidFill>
                  <a:latin typeface="Times New Roman"/>
                </a:endParaRPr>
              </a:p>
            </p:txBody>
          </p:sp>
          <p:sp>
            <p:nvSpPr>
              <p:cNvPr id="1729" name=""/>
              <p:cNvSpPr/>
              <p:nvPr/>
            </p:nvSpPr>
            <p:spPr>
              <a:xfrm>
                <a:off x="2503440" y="91116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roblemi birkaç kez okudum.</a:t>
                </a:r>
                <a:endParaRPr b="0" lang="en-US" sz="2000" spc="-1" strike="noStrike">
                  <a:solidFill>
                    <a:srgbClr val="ffffff"/>
                  </a:solidFill>
                  <a:latin typeface="Times New Roman"/>
                </a:endParaRPr>
              </a:p>
            </p:txBody>
          </p:sp>
          <p:sp>
            <p:nvSpPr>
              <p:cNvPr id="1730" name=""/>
              <p:cNvSpPr/>
              <p:nvPr/>
            </p:nvSpPr>
            <p:spPr>
              <a:xfrm>
                <a:off x="2503440" y="140652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afamda problemi resimleştirdim. </a:t>
                </a:r>
                <a:endParaRPr b="0" lang="en-US" sz="2000" spc="-1" strike="noStrike">
                  <a:solidFill>
                    <a:srgbClr val="ffffff"/>
                  </a:solidFill>
                  <a:latin typeface="Times New Roman"/>
                </a:endParaRPr>
              </a:p>
            </p:txBody>
          </p:sp>
          <p:sp>
            <p:nvSpPr>
              <p:cNvPr id="1731" name=""/>
              <p:cNvSpPr/>
              <p:nvPr/>
            </p:nvSpPr>
            <p:spPr>
              <a:xfrm>
                <a:off x="2508120" y="190656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Kağıda çizerek resimle yapmaya çalıştım.</a:t>
                </a:r>
                <a:endParaRPr b="0" lang="en-US" sz="2000" spc="-1" strike="noStrike">
                  <a:solidFill>
                    <a:srgbClr val="ffffff"/>
                  </a:solidFill>
                  <a:latin typeface="Times New Roman"/>
                </a:endParaRPr>
              </a:p>
            </p:txBody>
          </p:sp>
          <p:sp>
            <p:nvSpPr>
              <p:cNvPr id="1732" name=""/>
              <p:cNvSpPr/>
              <p:nvPr/>
            </p:nvSpPr>
            <p:spPr>
              <a:xfrm>
                <a:off x="2503440" y="243828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ntıksal işlemler yürüttüm.</a:t>
                </a:r>
                <a:endParaRPr b="0" lang="en-US" sz="2000" spc="-1" strike="noStrike">
                  <a:solidFill>
                    <a:srgbClr val="ffffff"/>
                  </a:solidFill>
                  <a:latin typeface="Times New Roman"/>
                </a:endParaRPr>
              </a:p>
            </p:txBody>
          </p:sp>
          <p:sp>
            <p:nvSpPr>
              <p:cNvPr id="1733" name=""/>
              <p:cNvSpPr/>
              <p:nvPr/>
            </p:nvSpPr>
            <p:spPr>
              <a:xfrm>
                <a:off x="2503440" y="296064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htimalleri sıralayıp onları tek tek sıraladım.</a:t>
                </a:r>
                <a:endParaRPr b="0" lang="en-US" sz="2000" spc="-1" strike="noStrike">
                  <a:solidFill>
                    <a:srgbClr val="ffffff"/>
                  </a:solidFill>
                  <a:latin typeface="Times New Roman"/>
                </a:endParaRPr>
              </a:p>
            </p:txBody>
          </p:sp>
          <p:sp>
            <p:nvSpPr>
              <p:cNvPr id="1734" name=""/>
              <p:cNvSpPr/>
              <p:nvPr/>
            </p:nvSpPr>
            <p:spPr>
              <a:xfrm>
                <a:off x="2504880" y="3471840"/>
                <a:ext cx="631800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nımdakiyle konuşarak anlamaya çalıştım.</a:t>
                </a:r>
                <a:endParaRPr b="0" lang="en-US" sz="2000" spc="-1" strike="noStrike">
                  <a:solidFill>
                    <a:srgbClr val="ffffff"/>
                  </a:solidFill>
                  <a:latin typeface="Times New Roman"/>
                </a:endParaRPr>
              </a:p>
            </p:txBody>
          </p:sp>
          <p:sp>
            <p:nvSpPr>
              <p:cNvPr id="1735" name=""/>
              <p:cNvSpPr/>
              <p:nvPr/>
            </p:nvSpPr>
            <p:spPr>
              <a:xfrm>
                <a:off x="2503440" y="4003560"/>
                <a:ext cx="6319440" cy="3585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Yardım aradım.</a:t>
                </a:r>
                <a:endParaRPr b="0" lang="en-US" sz="2000" spc="-1" strike="noStrike">
                  <a:solidFill>
                    <a:srgbClr val="ffffff"/>
                  </a:solidFill>
                  <a:latin typeface="Times New Roman"/>
                </a:endParaRPr>
              </a:p>
            </p:txBody>
          </p:sp>
          <p:sp>
            <p:nvSpPr>
              <p:cNvPr id="1736" name=""/>
              <p:cNvSpPr/>
              <p:nvPr/>
            </p:nvSpPr>
            <p:spPr>
              <a:xfrm>
                <a:off x="2503440" y="4535280"/>
                <a:ext cx="6319440" cy="35712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Vücudumu yada başkasının vücudunu örnekleyerek yaptım.</a:t>
                </a:r>
                <a:endParaRPr b="0" lang="en-US" sz="1800" spc="-1" strike="noStrike">
                  <a:solidFill>
                    <a:srgbClr val="ffffff"/>
                  </a:solidFill>
                  <a:latin typeface="Times New Roman"/>
                </a:endParaRPr>
              </a:p>
            </p:txBody>
          </p:sp>
          <p:sp>
            <p:nvSpPr>
              <p:cNvPr id="1737" name=""/>
              <p:cNvSpPr/>
              <p:nvPr/>
            </p:nvSpPr>
            <p:spPr>
              <a:xfrm>
                <a:off x="2503440" y="5067000"/>
                <a:ext cx="6319440" cy="35892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damı ve fotoğrafı somutlaştırarak anlamaya çalıştım.</a:t>
                </a:r>
                <a:endParaRPr b="0" lang="en-US" sz="1800" spc="-1" strike="noStrike">
                  <a:solidFill>
                    <a:srgbClr val="ffffff"/>
                  </a:solidFill>
                  <a:latin typeface="Times New Roman"/>
                </a:endParaRPr>
              </a:p>
            </p:txBody>
          </p:sp>
          <p:sp>
            <p:nvSpPr>
              <p:cNvPr id="1738" name=""/>
              <p:cNvSpPr/>
              <p:nvPr/>
            </p:nvSpPr>
            <p:spPr>
              <a:xfrm>
                <a:off x="2503440" y="5601960"/>
                <a:ext cx="6319440" cy="35892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Kendi içimden konuşarak yaptım.</a:t>
                </a:r>
                <a:endParaRPr b="0" lang="en-US" sz="1800" spc="-1" strike="noStrike">
                  <a:solidFill>
                    <a:srgbClr val="ffffff"/>
                  </a:solidFill>
                  <a:latin typeface="Times New Roman"/>
                </a:endParaRPr>
              </a:p>
            </p:txBody>
          </p:sp>
          <p:sp>
            <p:nvSpPr>
              <p:cNvPr id="1739" name=""/>
              <p:cNvSpPr/>
              <p:nvPr/>
            </p:nvSpPr>
            <p:spPr>
              <a:xfrm>
                <a:off x="2503440" y="6078240"/>
                <a:ext cx="6319440" cy="35892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şleme başlamadan önce zihnimde hazırlık yaptım.</a:t>
                </a:r>
                <a:endParaRPr b="0" lang="en-US" sz="1800" spc="-1" strike="noStrike">
                  <a:solidFill>
                    <a:srgbClr val="ffffff"/>
                  </a:solidFill>
                  <a:latin typeface="Times New Roman"/>
                </a:endParaRPr>
              </a:p>
            </p:txBody>
          </p:sp>
        </p:grpSp>
        <p:grpSp>
          <p:nvGrpSpPr>
            <p:cNvPr id="1740" name=""/>
            <p:cNvGrpSpPr/>
            <p:nvPr/>
          </p:nvGrpSpPr>
          <p:grpSpPr>
            <a:xfrm>
              <a:off x="223920" y="304920"/>
              <a:ext cx="646200" cy="6176880"/>
              <a:chOff x="223920" y="304920"/>
              <a:chExt cx="646200" cy="6176880"/>
            </a:xfrm>
          </p:grpSpPr>
          <p:sp>
            <p:nvSpPr>
              <p:cNvPr id="1741" name=""/>
              <p:cNvSpPr/>
              <p:nvPr/>
            </p:nvSpPr>
            <p:spPr>
              <a:xfrm>
                <a:off x="228600" y="304920"/>
                <a:ext cx="617400" cy="5680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X</a:t>
                </a:r>
                <a:endParaRPr b="0" lang="en-US" sz="2000" spc="-1" strike="noStrike">
                  <a:solidFill>
                    <a:srgbClr val="ffffff"/>
                  </a:solidFill>
                  <a:latin typeface="Times New Roman"/>
                </a:endParaRPr>
              </a:p>
            </p:txBody>
          </p:sp>
          <p:sp>
            <p:nvSpPr>
              <p:cNvPr id="1742" name=""/>
              <p:cNvSpPr/>
              <p:nvPr/>
            </p:nvSpPr>
            <p:spPr>
              <a:xfrm>
                <a:off x="252360" y="892080"/>
                <a:ext cx="61776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3" name=""/>
              <p:cNvSpPr/>
              <p:nvPr/>
            </p:nvSpPr>
            <p:spPr>
              <a:xfrm>
                <a:off x="235080" y="140508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4" name=""/>
              <p:cNvSpPr/>
              <p:nvPr/>
            </p:nvSpPr>
            <p:spPr>
              <a:xfrm>
                <a:off x="223920" y="192240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5" name=""/>
              <p:cNvSpPr/>
              <p:nvPr/>
            </p:nvSpPr>
            <p:spPr>
              <a:xfrm>
                <a:off x="235080" y="245268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6" name=""/>
              <p:cNvSpPr/>
              <p:nvPr/>
            </p:nvSpPr>
            <p:spPr>
              <a:xfrm>
                <a:off x="235080" y="298440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7" name=""/>
              <p:cNvSpPr/>
              <p:nvPr/>
            </p:nvSpPr>
            <p:spPr>
              <a:xfrm>
                <a:off x="235080" y="349740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8" name=""/>
              <p:cNvSpPr/>
              <p:nvPr/>
            </p:nvSpPr>
            <p:spPr>
              <a:xfrm>
                <a:off x="235080" y="401472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9" name=""/>
              <p:cNvSpPr/>
              <p:nvPr/>
            </p:nvSpPr>
            <p:spPr>
              <a:xfrm>
                <a:off x="235080" y="456408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0" name=""/>
              <p:cNvSpPr/>
              <p:nvPr/>
            </p:nvSpPr>
            <p:spPr>
              <a:xfrm>
                <a:off x="228600" y="509580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1" name=""/>
              <p:cNvSpPr/>
              <p:nvPr/>
            </p:nvSpPr>
            <p:spPr>
              <a:xfrm>
                <a:off x="228600" y="564516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2" name=""/>
              <p:cNvSpPr/>
              <p:nvPr/>
            </p:nvSpPr>
            <p:spPr>
              <a:xfrm>
                <a:off x="228600" y="6121440"/>
                <a:ext cx="617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53" name=""/>
            <p:cNvGrpSpPr/>
            <p:nvPr/>
          </p:nvGrpSpPr>
          <p:grpSpPr>
            <a:xfrm>
              <a:off x="906480" y="304920"/>
              <a:ext cx="725400" cy="6176880"/>
              <a:chOff x="906480" y="304920"/>
              <a:chExt cx="725400" cy="6176880"/>
            </a:xfrm>
          </p:grpSpPr>
          <p:sp>
            <p:nvSpPr>
              <p:cNvPr id="1754" name=""/>
              <p:cNvSpPr/>
              <p:nvPr/>
            </p:nvSpPr>
            <p:spPr>
              <a:xfrm>
                <a:off x="915840" y="304920"/>
                <a:ext cx="708120" cy="5680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erece</a:t>
                </a:r>
                <a:endParaRPr b="0" lang="en-US" sz="1700" spc="-1" strike="noStrike">
                  <a:solidFill>
                    <a:srgbClr val="ffffff"/>
                  </a:solidFill>
                  <a:latin typeface="Times New Roman"/>
                </a:endParaRPr>
              </a:p>
            </p:txBody>
          </p:sp>
          <p:sp>
            <p:nvSpPr>
              <p:cNvPr id="1755" name=""/>
              <p:cNvSpPr/>
              <p:nvPr/>
            </p:nvSpPr>
            <p:spPr>
              <a:xfrm>
                <a:off x="923760" y="89208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6" name=""/>
              <p:cNvSpPr/>
              <p:nvPr/>
            </p:nvSpPr>
            <p:spPr>
              <a:xfrm>
                <a:off x="906480" y="140508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7" name=""/>
              <p:cNvSpPr/>
              <p:nvPr/>
            </p:nvSpPr>
            <p:spPr>
              <a:xfrm>
                <a:off x="915840" y="192240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8" name=""/>
              <p:cNvSpPr/>
              <p:nvPr/>
            </p:nvSpPr>
            <p:spPr>
              <a:xfrm>
                <a:off x="923760" y="245268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9" name=""/>
              <p:cNvSpPr/>
              <p:nvPr/>
            </p:nvSpPr>
            <p:spPr>
              <a:xfrm>
                <a:off x="923760" y="298440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0" name=""/>
              <p:cNvSpPr/>
              <p:nvPr/>
            </p:nvSpPr>
            <p:spPr>
              <a:xfrm>
                <a:off x="923760" y="349740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1" name=""/>
              <p:cNvSpPr/>
              <p:nvPr/>
            </p:nvSpPr>
            <p:spPr>
              <a:xfrm>
                <a:off x="923760" y="401472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2" name=""/>
              <p:cNvSpPr/>
              <p:nvPr/>
            </p:nvSpPr>
            <p:spPr>
              <a:xfrm>
                <a:off x="923760" y="456408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3" name=""/>
              <p:cNvSpPr/>
              <p:nvPr/>
            </p:nvSpPr>
            <p:spPr>
              <a:xfrm>
                <a:off x="914400" y="509580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4" name=""/>
              <p:cNvSpPr/>
              <p:nvPr/>
            </p:nvSpPr>
            <p:spPr>
              <a:xfrm>
                <a:off x="914400" y="564516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5" name=""/>
              <p:cNvSpPr/>
              <p:nvPr/>
            </p:nvSpPr>
            <p:spPr>
              <a:xfrm>
                <a:off x="914400" y="6121440"/>
                <a:ext cx="70812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6" name=""/>
            <p:cNvGrpSpPr/>
            <p:nvPr/>
          </p:nvGrpSpPr>
          <p:grpSpPr>
            <a:xfrm>
              <a:off x="1689120" y="304920"/>
              <a:ext cx="790200" cy="6151320"/>
              <a:chOff x="1689120" y="304920"/>
              <a:chExt cx="790200" cy="6151320"/>
            </a:xfrm>
          </p:grpSpPr>
          <p:sp>
            <p:nvSpPr>
              <p:cNvPr id="1767" name=""/>
              <p:cNvSpPr/>
              <p:nvPr/>
            </p:nvSpPr>
            <p:spPr>
              <a:xfrm>
                <a:off x="1699920" y="304920"/>
                <a:ext cx="777600" cy="5680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Zek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anı</a:t>
                </a:r>
                <a:endParaRPr b="0" lang="en-US" sz="1800" spc="-1" strike="noStrike">
                  <a:solidFill>
                    <a:srgbClr val="ffffff"/>
                  </a:solidFill>
                  <a:latin typeface="Times New Roman"/>
                </a:endParaRPr>
              </a:p>
            </p:txBody>
          </p:sp>
          <p:sp>
            <p:nvSpPr>
              <p:cNvPr id="1768" name=""/>
              <p:cNvSpPr/>
              <p:nvPr/>
            </p:nvSpPr>
            <p:spPr>
              <a:xfrm>
                <a:off x="1695240" y="89208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D</a:t>
                </a:r>
                <a:endParaRPr b="0" lang="en-US" sz="1800" spc="-1" strike="noStrike">
                  <a:solidFill>
                    <a:srgbClr val="ffffff"/>
                  </a:solidFill>
                  <a:latin typeface="Times New Roman"/>
                </a:endParaRPr>
              </a:p>
            </p:txBody>
          </p:sp>
          <p:sp>
            <p:nvSpPr>
              <p:cNvPr id="1769" name=""/>
              <p:cNvSpPr/>
              <p:nvPr/>
            </p:nvSpPr>
            <p:spPr>
              <a:xfrm>
                <a:off x="1695240" y="140508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U</a:t>
                </a:r>
                <a:endParaRPr b="0" lang="en-US" sz="1800" spc="-1" strike="noStrike">
                  <a:solidFill>
                    <a:srgbClr val="ffffff"/>
                  </a:solidFill>
                  <a:latin typeface="Times New Roman"/>
                </a:endParaRPr>
              </a:p>
            </p:txBody>
          </p:sp>
          <p:sp>
            <p:nvSpPr>
              <p:cNvPr id="1770" name=""/>
              <p:cNvSpPr/>
              <p:nvPr/>
            </p:nvSpPr>
            <p:spPr>
              <a:xfrm>
                <a:off x="1689120" y="1922400"/>
                <a:ext cx="779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U</a:t>
                </a:r>
                <a:endParaRPr b="0" lang="en-US" sz="1800" spc="-1" strike="noStrike">
                  <a:solidFill>
                    <a:srgbClr val="ffffff"/>
                  </a:solidFill>
                  <a:latin typeface="Times New Roman"/>
                </a:endParaRPr>
              </a:p>
            </p:txBody>
          </p:sp>
          <p:sp>
            <p:nvSpPr>
              <p:cNvPr id="1771" name=""/>
              <p:cNvSpPr/>
              <p:nvPr/>
            </p:nvSpPr>
            <p:spPr>
              <a:xfrm>
                <a:off x="1695240" y="245268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M/M</a:t>
                </a:r>
                <a:endParaRPr b="0" lang="en-US" sz="1800" spc="-1" strike="noStrike">
                  <a:solidFill>
                    <a:srgbClr val="ffffff"/>
                  </a:solidFill>
                  <a:latin typeface="Times New Roman"/>
                </a:endParaRPr>
              </a:p>
            </p:txBody>
          </p:sp>
          <p:sp>
            <p:nvSpPr>
              <p:cNvPr id="1772" name=""/>
              <p:cNvSpPr/>
              <p:nvPr/>
            </p:nvSpPr>
            <p:spPr>
              <a:xfrm>
                <a:off x="1695240" y="298440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M/M</a:t>
                </a:r>
                <a:endParaRPr b="0" lang="en-US" sz="1800" spc="-1" strike="noStrike">
                  <a:solidFill>
                    <a:srgbClr val="ffffff"/>
                  </a:solidFill>
                  <a:latin typeface="Times New Roman"/>
                </a:endParaRPr>
              </a:p>
            </p:txBody>
          </p:sp>
          <p:sp>
            <p:nvSpPr>
              <p:cNvPr id="1773" name=""/>
              <p:cNvSpPr/>
              <p:nvPr/>
            </p:nvSpPr>
            <p:spPr>
              <a:xfrm>
                <a:off x="1695240" y="349740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KA</a:t>
                </a:r>
                <a:endParaRPr b="0" lang="en-US" sz="1800" spc="-1" strike="noStrike">
                  <a:solidFill>
                    <a:srgbClr val="ffffff"/>
                  </a:solidFill>
                  <a:latin typeface="Times New Roman"/>
                </a:endParaRPr>
              </a:p>
            </p:txBody>
          </p:sp>
          <p:sp>
            <p:nvSpPr>
              <p:cNvPr id="1774" name=""/>
              <p:cNvSpPr/>
              <p:nvPr/>
            </p:nvSpPr>
            <p:spPr>
              <a:xfrm>
                <a:off x="1695240" y="401472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KA</a:t>
                </a:r>
                <a:endParaRPr b="0" lang="en-US" sz="1800" spc="-1" strike="noStrike">
                  <a:solidFill>
                    <a:srgbClr val="ffffff"/>
                  </a:solidFill>
                  <a:latin typeface="Times New Roman"/>
                </a:endParaRPr>
              </a:p>
            </p:txBody>
          </p:sp>
          <p:sp>
            <p:nvSpPr>
              <p:cNvPr id="1775" name=""/>
              <p:cNvSpPr/>
              <p:nvPr/>
            </p:nvSpPr>
            <p:spPr>
              <a:xfrm>
                <a:off x="1695240" y="4564080"/>
                <a:ext cx="7776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B/K</a:t>
                </a:r>
                <a:endParaRPr b="0" lang="en-US" sz="1800" spc="-1" strike="noStrike">
                  <a:solidFill>
                    <a:srgbClr val="ffffff"/>
                  </a:solidFill>
                  <a:latin typeface="Times New Roman"/>
                </a:endParaRPr>
              </a:p>
            </p:txBody>
          </p:sp>
          <p:sp>
            <p:nvSpPr>
              <p:cNvPr id="1776" name=""/>
              <p:cNvSpPr/>
              <p:nvPr/>
            </p:nvSpPr>
            <p:spPr>
              <a:xfrm>
                <a:off x="1699920" y="5095800"/>
                <a:ext cx="779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B/K</a:t>
                </a:r>
                <a:endParaRPr b="0" lang="en-US" sz="1800" spc="-1" strike="noStrike">
                  <a:solidFill>
                    <a:srgbClr val="ffffff"/>
                  </a:solidFill>
                  <a:latin typeface="Times New Roman"/>
                </a:endParaRPr>
              </a:p>
            </p:txBody>
          </p:sp>
          <p:sp>
            <p:nvSpPr>
              <p:cNvPr id="1777" name=""/>
              <p:cNvSpPr/>
              <p:nvPr/>
            </p:nvSpPr>
            <p:spPr>
              <a:xfrm>
                <a:off x="1699920" y="5645160"/>
                <a:ext cx="779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Times New Roman"/>
                </a:endParaRPr>
              </a:p>
            </p:txBody>
          </p:sp>
          <p:sp>
            <p:nvSpPr>
              <p:cNvPr id="1778" name=""/>
              <p:cNvSpPr/>
              <p:nvPr/>
            </p:nvSpPr>
            <p:spPr>
              <a:xfrm>
                <a:off x="1699920" y="6095880"/>
                <a:ext cx="779400" cy="360360"/>
              </a:xfrm>
              <a:prstGeom prst="roundRect">
                <a:avLst>
                  <a:gd name="adj" fmla="val 16667"/>
                </a:avLst>
              </a:prstGeom>
              <a:solidFill>
                <a:srgbClr val="0000a4"/>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Times New Roman"/>
                </a:endParaRPr>
              </a:p>
            </p:txBody>
          </p:sp>
        </p:grpSp>
      </p:gr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9" name=""/>
          <p:cNvSpPr txBox="1"/>
          <p:nvPr/>
        </p:nvSpPr>
        <p:spPr>
          <a:xfrm>
            <a:off x="1143000" y="1700280"/>
            <a:ext cx="70326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757575"/>
                    </a:gs>
                    <a:gs pos="50000">
                      <a:srgbClr val="ffffff"/>
                    </a:gs>
                    <a:gs pos="100000">
                      <a:srgbClr val="757575"/>
                    </a:gs>
                  </a:gsLst>
                  <a:lin ang="5400000"/>
                </a:gradFill>
                <a:effectLst>
                  <a:outerShdw dist="17819" dir="2700000" blurRad="0" rotWithShape="0">
                    <a:srgbClr val="808080"/>
                  </a:outerShdw>
                </a:effectLst>
                <a:latin typeface="Arial Black"/>
              </a:rPr>
              <a:t>ÇOKLU ZEKA ETKİNLİKLERİ</a:t>
            </a:r>
            <a:endParaRPr b="0" i="1" lang="en-US" sz="2400" spc="1" strike="noStrike">
              <a:ln w="9360">
                <a:solidFill>
                  <a:srgbClr val="000000"/>
                </a:solidFill>
                <a:miter/>
              </a:ln>
              <a:gradFill rotWithShape="0">
                <a:gsLst>
                  <a:gs pos="0">
                    <a:srgbClr val="757575"/>
                  </a:gs>
                  <a:gs pos="50000">
                    <a:srgbClr val="ffffff"/>
                  </a:gs>
                  <a:gs pos="100000">
                    <a:srgbClr val="757575"/>
                  </a:gs>
                </a:gsLst>
                <a:lin ang="5400000"/>
              </a:gradFill>
              <a:effectLst>
                <a:outerShdw dist="17819" dir="2700000" blurRad="0" rotWithShape="0">
                  <a:srgbClr val="808080"/>
                </a:outerShdw>
              </a:effectLst>
              <a:latin typeface="Arial Black"/>
              <a:ea typeface="Arial Black"/>
            </a:endParaRPr>
          </a:p>
        </p:txBody>
      </p:sp>
    </p:spTree>
  </p:cSld>
  <p:transition>
    <p:dissolve/>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6" presetSubtype="21">
                                  <p:stCondLst>
                                    <p:cond delay="0"/>
                                  </p:stCondLst>
                                  <p:childTnLst>
                                    <p:set>
                                      <p:cBhvr>
                                        <p:cTn id="917" dur="1" fill="hold">
                                          <p:stCondLst>
                                            <p:cond delay="0"/>
                                          </p:stCondLst>
                                        </p:cTn>
                                        <p:tgtEl>
                                          <p:spTgt spid="1779"/>
                                        </p:tgtEl>
                                        <p:attrNameLst>
                                          <p:attrName>style.visibility</p:attrName>
                                        </p:attrNameLst>
                                      </p:cBhvr>
                                      <p:to>
                                        <p:strVal val="visible"/>
                                      </p:to>
                                    </p:set>
                                    <p:animEffect filter="barn(inVertical)" transition="in">
                                      <p:cBhvr additive="repl">
                                        <p:cTn id="918" dur="5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0" name=""/>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81" name=""/>
          <p:cNvGrpSpPr/>
          <p:nvPr/>
        </p:nvGrpSpPr>
        <p:grpSpPr>
          <a:xfrm>
            <a:off x="228600" y="609480"/>
            <a:ext cx="4190760" cy="5943600"/>
            <a:chOff x="228600" y="609480"/>
            <a:chExt cx="4190760" cy="5943600"/>
          </a:xfrm>
        </p:grpSpPr>
        <p:grpSp>
          <p:nvGrpSpPr>
            <p:cNvPr id="1782" name=""/>
            <p:cNvGrpSpPr/>
            <p:nvPr/>
          </p:nvGrpSpPr>
          <p:grpSpPr>
            <a:xfrm>
              <a:off x="234360" y="611640"/>
              <a:ext cx="4177800" cy="5938560"/>
              <a:chOff x="234360" y="611640"/>
              <a:chExt cx="4177800" cy="5938560"/>
            </a:xfrm>
          </p:grpSpPr>
          <p:grpSp>
            <p:nvGrpSpPr>
              <p:cNvPr id="1783" name=""/>
              <p:cNvGrpSpPr/>
              <p:nvPr/>
            </p:nvGrpSpPr>
            <p:grpSpPr>
              <a:xfrm>
                <a:off x="234360" y="611640"/>
                <a:ext cx="4177800" cy="324000"/>
                <a:chOff x="234360" y="611640"/>
                <a:chExt cx="4177800" cy="324000"/>
              </a:xfrm>
            </p:grpSpPr>
            <p:sp>
              <p:nvSpPr>
                <p:cNvPr id="1784" name=""/>
                <p:cNvSpPr/>
                <p:nvPr/>
              </p:nvSpPr>
              <p:spPr>
                <a:xfrm>
                  <a:off x="289800" y="6116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Resim yorumlama çalışması</a:t>
                  </a:r>
                  <a:endParaRPr b="0" lang="en-US" sz="1600" spc="-1" strike="noStrike">
                    <a:solidFill>
                      <a:srgbClr val="ffffff"/>
                    </a:solidFill>
                    <a:latin typeface="Times New Roman"/>
                  </a:endParaRPr>
                </a:p>
              </p:txBody>
            </p:sp>
            <p:sp>
              <p:nvSpPr>
                <p:cNvPr id="1785" name=""/>
                <p:cNvSpPr/>
                <p:nvPr/>
              </p:nvSpPr>
              <p:spPr>
                <a:xfrm>
                  <a:off x="234360" y="6116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6" name=""/>
              <p:cNvGrpSpPr/>
              <p:nvPr/>
            </p:nvGrpSpPr>
            <p:grpSpPr>
              <a:xfrm>
                <a:off x="234360" y="935640"/>
                <a:ext cx="4177800" cy="324000"/>
                <a:chOff x="234360" y="935640"/>
                <a:chExt cx="4177800" cy="324000"/>
              </a:xfrm>
            </p:grpSpPr>
            <p:sp>
              <p:nvSpPr>
                <p:cNvPr id="1787" name=""/>
                <p:cNvSpPr/>
                <p:nvPr/>
              </p:nvSpPr>
              <p:spPr>
                <a:xfrm>
                  <a:off x="289800" y="9356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Yaratıcı yazma çalışması</a:t>
                  </a:r>
                  <a:endParaRPr b="0" lang="en-US" sz="1600" spc="-1" strike="noStrike">
                    <a:solidFill>
                      <a:srgbClr val="ffffff"/>
                    </a:solidFill>
                    <a:latin typeface="Times New Roman"/>
                  </a:endParaRPr>
                </a:p>
              </p:txBody>
            </p:sp>
            <p:sp>
              <p:nvSpPr>
                <p:cNvPr id="1788" name=""/>
                <p:cNvSpPr/>
                <p:nvPr/>
              </p:nvSpPr>
              <p:spPr>
                <a:xfrm>
                  <a:off x="234360" y="9356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9" name=""/>
              <p:cNvGrpSpPr/>
              <p:nvPr/>
            </p:nvGrpSpPr>
            <p:grpSpPr>
              <a:xfrm>
                <a:off x="234360" y="1260000"/>
                <a:ext cx="4177800" cy="324000"/>
                <a:chOff x="234360" y="1260000"/>
                <a:chExt cx="4177800" cy="324000"/>
              </a:xfrm>
            </p:grpSpPr>
            <p:sp>
              <p:nvSpPr>
                <p:cNvPr id="1790" name=""/>
                <p:cNvSpPr/>
                <p:nvPr/>
              </p:nvSpPr>
              <p:spPr>
                <a:xfrm>
                  <a:off x="289800" y="126000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Reklam-slogan yazma çalışması</a:t>
                  </a:r>
                  <a:endParaRPr b="0" lang="en-US" sz="1600" spc="-1" strike="noStrike">
                    <a:solidFill>
                      <a:srgbClr val="ffffff"/>
                    </a:solidFill>
                    <a:latin typeface="Times New Roman"/>
                  </a:endParaRPr>
                </a:p>
              </p:txBody>
            </p:sp>
            <p:sp>
              <p:nvSpPr>
                <p:cNvPr id="1791" name=""/>
                <p:cNvSpPr/>
                <p:nvPr/>
              </p:nvSpPr>
              <p:spPr>
                <a:xfrm>
                  <a:off x="234360" y="126000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2" name=""/>
              <p:cNvGrpSpPr/>
              <p:nvPr/>
            </p:nvGrpSpPr>
            <p:grpSpPr>
              <a:xfrm>
                <a:off x="234360" y="1584360"/>
                <a:ext cx="4177800" cy="324000"/>
                <a:chOff x="234360" y="1584360"/>
                <a:chExt cx="4177800" cy="324000"/>
              </a:xfrm>
            </p:grpSpPr>
            <p:sp>
              <p:nvSpPr>
                <p:cNvPr id="1793" name=""/>
                <p:cNvSpPr/>
                <p:nvPr/>
              </p:nvSpPr>
              <p:spPr>
                <a:xfrm>
                  <a:off x="289800" y="158436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Anı yazma çalışması</a:t>
                  </a:r>
                  <a:endParaRPr b="0" lang="en-US" sz="1600" spc="-1" strike="noStrike">
                    <a:solidFill>
                      <a:srgbClr val="ffffff"/>
                    </a:solidFill>
                    <a:latin typeface="Times New Roman"/>
                  </a:endParaRPr>
                </a:p>
              </p:txBody>
            </p:sp>
            <p:sp>
              <p:nvSpPr>
                <p:cNvPr id="1794" name=""/>
                <p:cNvSpPr/>
                <p:nvPr/>
              </p:nvSpPr>
              <p:spPr>
                <a:xfrm>
                  <a:off x="234360" y="158436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5" name=""/>
              <p:cNvGrpSpPr/>
              <p:nvPr/>
            </p:nvGrpSpPr>
            <p:grpSpPr>
              <a:xfrm>
                <a:off x="234360" y="1908360"/>
                <a:ext cx="4177800" cy="324000"/>
                <a:chOff x="234360" y="1908360"/>
                <a:chExt cx="4177800" cy="324000"/>
              </a:xfrm>
            </p:grpSpPr>
            <p:sp>
              <p:nvSpPr>
                <p:cNvPr id="1796" name=""/>
                <p:cNvSpPr/>
                <p:nvPr/>
              </p:nvSpPr>
              <p:spPr>
                <a:xfrm>
                  <a:off x="289800" y="190836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Cümle tamamlama çalışması</a:t>
                  </a:r>
                  <a:endParaRPr b="0" lang="en-US" sz="1600" spc="-1" strike="noStrike">
                    <a:solidFill>
                      <a:srgbClr val="ffffff"/>
                    </a:solidFill>
                    <a:latin typeface="Times New Roman"/>
                  </a:endParaRPr>
                </a:p>
              </p:txBody>
            </p:sp>
            <p:sp>
              <p:nvSpPr>
                <p:cNvPr id="1797" name=""/>
                <p:cNvSpPr/>
                <p:nvPr/>
              </p:nvSpPr>
              <p:spPr>
                <a:xfrm>
                  <a:off x="234360" y="190836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8" name=""/>
              <p:cNvGrpSpPr/>
              <p:nvPr/>
            </p:nvGrpSpPr>
            <p:grpSpPr>
              <a:xfrm>
                <a:off x="234360" y="2232720"/>
                <a:ext cx="4177800" cy="324000"/>
                <a:chOff x="234360" y="2232720"/>
                <a:chExt cx="4177800" cy="324000"/>
              </a:xfrm>
            </p:grpSpPr>
            <p:sp>
              <p:nvSpPr>
                <p:cNvPr id="1799" name=""/>
                <p:cNvSpPr/>
                <p:nvPr/>
              </p:nvSpPr>
              <p:spPr>
                <a:xfrm>
                  <a:off x="289800" y="223272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Gazete haberi yazma çalışması</a:t>
                  </a:r>
                  <a:endParaRPr b="0" lang="en-US" sz="1600" spc="-1" strike="noStrike">
                    <a:solidFill>
                      <a:srgbClr val="ffffff"/>
                    </a:solidFill>
                    <a:latin typeface="Times New Roman"/>
                  </a:endParaRPr>
                </a:p>
              </p:txBody>
            </p:sp>
            <p:sp>
              <p:nvSpPr>
                <p:cNvPr id="1800" name=""/>
                <p:cNvSpPr/>
                <p:nvPr/>
              </p:nvSpPr>
              <p:spPr>
                <a:xfrm>
                  <a:off x="234360" y="223272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1" name=""/>
              <p:cNvGrpSpPr/>
              <p:nvPr/>
            </p:nvGrpSpPr>
            <p:grpSpPr>
              <a:xfrm>
                <a:off x="234360" y="2556720"/>
                <a:ext cx="4177800" cy="324000"/>
                <a:chOff x="234360" y="2556720"/>
                <a:chExt cx="4177800" cy="324000"/>
              </a:xfrm>
            </p:grpSpPr>
            <p:sp>
              <p:nvSpPr>
                <p:cNvPr id="1802" name=""/>
                <p:cNvSpPr/>
                <p:nvPr/>
              </p:nvSpPr>
              <p:spPr>
                <a:xfrm>
                  <a:off x="289800" y="255672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Örneklendirme çalışması</a:t>
                  </a:r>
                  <a:endParaRPr b="0" lang="en-US" sz="1600" spc="-1" strike="noStrike">
                    <a:solidFill>
                      <a:srgbClr val="ffffff"/>
                    </a:solidFill>
                    <a:latin typeface="Times New Roman"/>
                  </a:endParaRPr>
                </a:p>
              </p:txBody>
            </p:sp>
            <p:sp>
              <p:nvSpPr>
                <p:cNvPr id="1803" name=""/>
                <p:cNvSpPr/>
                <p:nvPr/>
              </p:nvSpPr>
              <p:spPr>
                <a:xfrm>
                  <a:off x="234360" y="255672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4" name=""/>
              <p:cNvGrpSpPr/>
              <p:nvPr/>
            </p:nvGrpSpPr>
            <p:grpSpPr>
              <a:xfrm>
                <a:off x="234360" y="2881080"/>
                <a:ext cx="4177800" cy="324000"/>
                <a:chOff x="234360" y="2881080"/>
                <a:chExt cx="4177800" cy="324000"/>
              </a:xfrm>
            </p:grpSpPr>
            <p:sp>
              <p:nvSpPr>
                <p:cNvPr id="1805" name=""/>
                <p:cNvSpPr/>
                <p:nvPr/>
              </p:nvSpPr>
              <p:spPr>
                <a:xfrm>
                  <a:off x="289800" y="288108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A-Z çalışması</a:t>
                  </a:r>
                  <a:endParaRPr b="0" lang="en-US" sz="1600" spc="-1" strike="noStrike">
                    <a:solidFill>
                      <a:srgbClr val="ffffff"/>
                    </a:solidFill>
                    <a:latin typeface="Times New Roman"/>
                  </a:endParaRPr>
                </a:p>
              </p:txBody>
            </p:sp>
            <p:sp>
              <p:nvSpPr>
                <p:cNvPr id="1806" name=""/>
                <p:cNvSpPr/>
                <p:nvPr/>
              </p:nvSpPr>
              <p:spPr>
                <a:xfrm>
                  <a:off x="234360" y="288108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7" name=""/>
              <p:cNvGrpSpPr/>
              <p:nvPr/>
            </p:nvGrpSpPr>
            <p:grpSpPr>
              <a:xfrm>
                <a:off x="234360" y="3205440"/>
                <a:ext cx="4177800" cy="324000"/>
                <a:chOff x="234360" y="3205440"/>
                <a:chExt cx="4177800" cy="324000"/>
              </a:xfrm>
            </p:grpSpPr>
            <p:sp>
              <p:nvSpPr>
                <p:cNvPr id="1808" name=""/>
                <p:cNvSpPr/>
                <p:nvPr/>
              </p:nvSpPr>
              <p:spPr>
                <a:xfrm>
                  <a:off x="289800" y="32054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Tanımlayıcı cümle çalışması</a:t>
                  </a:r>
                  <a:endParaRPr b="0" lang="en-US" sz="1600" spc="-1" strike="noStrike">
                    <a:solidFill>
                      <a:srgbClr val="ffffff"/>
                    </a:solidFill>
                    <a:latin typeface="Times New Roman"/>
                  </a:endParaRPr>
                </a:p>
              </p:txBody>
            </p:sp>
            <p:sp>
              <p:nvSpPr>
                <p:cNvPr id="1809" name=""/>
                <p:cNvSpPr/>
                <p:nvPr/>
              </p:nvSpPr>
              <p:spPr>
                <a:xfrm>
                  <a:off x="234360" y="32054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0" name=""/>
              <p:cNvGrpSpPr/>
              <p:nvPr/>
            </p:nvGrpSpPr>
            <p:grpSpPr>
              <a:xfrm>
                <a:off x="234360" y="3529440"/>
                <a:ext cx="4177800" cy="324000"/>
                <a:chOff x="234360" y="3529440"/>
                <a:chExt cx="4177800" cy="324000"/>
              </a:xfrm>
            </p:grpSpPr>
            <p:sp>
              <p:nvSpPr>
                <p:cNvPr id="1811" name=""/>
                <p:cNvSpPr/>
                <p:nvPr/>
              </p:nvSpPr>
              <p:spPr>
                <a:xfrm>
                  <a:off x="289800" y="35294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Cümle üretme çalışması</a:t>
                  </a:r>
                  <a:endParaRPr b="0" lang="en-US" sz="1600" spc="-1" strike="noStrike">
                    <a:solidFill>
                      <a:srgbClr val="ffffff"/>
                    </a:solidFill>
                    <a:latin typeface="Times New Roman"/>
                  </a:endParaRPr>
                </a:p>
              </p:txBody>
            </p:sp>
            <p:sp>
              <p:nvSpPr>
                <p:cNvPr id="1812" name=""/>
                <p:cNvSpPr/>
                <p:nvPr/>
              </p:nvSpPr>
              <p:spPr>
                <a:xfrm>
                  <a:off x="234360" y="35294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3" name=""/>
              <p:cNvGrpSpPr/>
              <p:nvPr/>
            </p:nvGrpSpPr>
            <p:grpSpPr>
              <a:xfrm>
                <a:off x="234360" y="3853800"/>
                <a:ext cx="4177800" cy="324000"/>
                <a:chOff x="234360" y="3853800"/>
                <a:chExt cx="4177800" cy="324000"/>
              </a:xfrm>
            </p:grpSpPr>
            <p:sp>
              <p:nvSpPr>
                <p:cNvPr id="1814" name=""/>
                <p:cNvSpPr/>
                <p:nvPr/>
              </p:nvSpPr>
              <p:spPr>
                <a:xfrm>
                  <a:off x="289800" y="385380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Sözcük türetme çalışması</a:t>
                  </a:r>
                  <a:endParaRPr b="0" lang="en-US" sz="1600" spc="-1" strike="noStrike">
                    <a:solidFill>
                      <a:srgbClr val="ffffff"/>
                    </a:solidFill>
                    <a:latin typeface="Times New Roman"/>
                  </a:endParaRPr>
                </a:p>
              </p:txBody>
            </p:sp>
            <p:sp>
              <p:nvSpPr>
                <p:cNvPr id="1815" name=""/>
                <p:cNvSpPr/>
                <p:nvPr/>
              </p:nvSpPr>
              <p:spPr>
                <a:xfrm>
                  <a:off x="234360" y="385380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6" name=""/>
              <p:cNvGrpSpPr/>
              <p:nvPr/>
            </p:nvGrpSpPr>
            <p:grpSpPr>
              <a:xfrm>
                <a:off x="234360" y="4178160"/>
                <a:ext cx="4177800" cy="324000"/>
                <a:chOff x="234360" y="4178160"/>
                <a:chExt cx="4177800" cy="324000"/>
              </a:xfrm>
            </p:grpSpPr>
            <p:sp>
              <p:nvSpPr>
                <p:cNvPr id="1817" name=""/>
                <p:cNvSpPr/>
                <p:nvPr/>
              </p:nvSpPr>
              <p:spPr>
                <a:xfrm>
                  <a:off x="289800" y="417816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2. Akrostiş çalışması</a:t>
                  </a:r>
                  <a:endParaRPr b="0" lang="en-US" sz="1600" spc="-1" strike="noStrike">
                    <a:solidFill>
                      <a:srgbClr val="ffffff"/>
                    </a:solidFill>
                    <a:latin typeface="Times New Roman"/>
                  </a:endParaRPr>
                </a:p>
              </p:txBody>
            </p:sp>
            <p:sp>
              <p:nvSpPr>
                <p:cNvPr id="1818" name=""/>
                <p:cNvSpPr/>
                <p:nvPr/>
              </p:nvSpPr>
              <p:spPr>
                <a:xfrm>
                  <a:off x="234360" y="417816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9" name=""/>
              <p:cNvGrpSpPr/>
              <p:nvPr/>
            </p:nvGrpSpPr>
            <p:grpSpPr>
              <a:xfrm>
                <a:off x="234360" y="4502160"/>
                <a:ext cx="4177800" cy="426960"/>
                <a:chOff x="234360" y="4502160"/>
                <a:chExt cx="4177800" cy="426960"/>
              </a:xfrm>
            </p:grpSpPr>
            <p:sp>
              <p:nvSpPr>
                <p:cNvPr id="1820" name=""/>
                <p:cNvSpPr/>
                <p:nvPr/>
              </p:nvSpPr>
              <p:spPr>
                <a:xfrm>
                  <a:off x="289800" y="4502160"/>
                  <a:ext cx="4066920" cy="4269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3. Venn şemasında verilen bilgileri </a:t>
                  </a:r>
                  <a:r>
                    <a:rPr b="1" lang="en-US" sz="1600" spc="-1" strike="noStrike">
                      <a:solidFill>
                        <a:srgbClr val="ffff00"/>
                      </a:solidFill>
                      <a:latin typeface="Comic Sans MS"/>
                    </a:rPr>
                    <a:t>	</a:t>
                  </a:r>
                  <a:r>
                    <a:rPr b="1" lang="en-US" sz="1600" spc="-1" strike="noStrike">
                      <a:solidFill>
                        <a:srgbClr val="ffff00"/>
                      </a:solidFill>
                      <a:latin typeface="Comic Sans MS"/>
                    </a:rPr>
                    <a:t>	</a:t>
                  </a:r>
                  <a:r>
                    <a:rPr b="1" lang="en-US" sz="1600" spc="-1" strike="noStrike">
                      <a:solidFill>
                        <a:srgbClr val="ffff00"/>
                      </a:solidFill>
                      <a:latin typeface="Comic Sans MS"/>
                    </a:rPr>
                    <a:t>	</a:t>
                  </a:r>
                  <a:r>
                    <a:rPr b="1" lang="en-US" sz="1600" spc="-1" strike="noStrike">
                      <a:solidFill>
                        <a:srgbClr val="ffff00"/>
                      </a:solidFill>
                      <a:latin typeface="Comic Sans MS"/>
                      <a:ea typeface="Times New Roman"/>
                    </a:rPr>
                    <a:t>listeleme</a:t>
                  </a:r>
                  <a:endParaRPr b="0" lang="en-US" sz="1600" spc="-1" strike="noStrike">
                    <a:solidFill>
                      <a:srgbClr val="ffffff"/>
                    </a:solidFill>
                    <a:latin typeface="Times New Roman"/>
                  </a:endParaRPr>
                </a:p>
              </p:txBody>
            </p:sp>
            <p:sp>
              <p:nvSpPr>
                <p:cNvPr id="1821" name=""/>
                <p:cNvSpPr/>
                <p:nvPr/>
              </p:nvSpPr>
              <p:spPr>
                <a:xfrm>
                  <a:off x="234360" y="4502160"/>
                  <a:ext cx="4177800" cy="4269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2" name=""/>
              <p:cNvGrpSpPr/>
              <p:nvPr/>
            </p:nvGrpSpPr>
            <p:grpSpPr>
              <a:xfrm>
                <a:off x="234360" y="4929480"/>
                <a:ext cx="4177800" cy="324000"/>
                <a:chOff x="234360" y="4929480"/>
                <a:chExt cx="4177800" cy="324000"/>
              </a:xfrm>
            </p:grpSpPr>
            <p:sp>
              <p:nvSpPr>
                <p:cNvPr id="1823" name=""/>
                <p:cNvSpPr/>
                <p:nvPr/>
              </p:nvSpPr>
              <p:spPr>
                <a:xfrm>
                  <a:off x="289800" y="492948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4. Kavram harit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4" name=""/>
                <p:cNvSpPr/>
                <p:nvPr/>
              </p:nvSpPr>
              <p:spPr>
                <a:xfrm>
                  <a:off x="234360" y="492948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5" name=""/>
              <p:cNvGrpSpPr/>
              <p:nvPr/>
            </p:nvGrpSpPr>
            <p:grpSpPr>
              <a:xfrm>
                <a:off x="234360" y="5253840"/>
                <a:ext cx="4177800" cy="324000"/>
                <a:chOff x="234360" y="5253840"/>
                <a:chExt cx="4177800" cy="324000"/>
              </a:xfrm>
            </p:grpSpPr>
            <p:sp>
              <p:nvSpPr>
                <p:cNvPr id="1826" name=""/>
                <p:cNvSpPr/>
                <p:nvPr/>
              </p:nvSpPr>
              <p:spPr>
                <a:xfrm>
                  <a:off x="289800" y="52538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5. Çift sütun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7" name=""/>
                <p:cNvSpPr/>
                <p:nvPr/>
              </p:nvSpPr>
              <p:spPr>
                <a:xfrm>
                  <a:off x="234360" y="52538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8" name=""/>
              <p:cNvGrpSpPr/>
              <p:nvPr/>
            </p:nvGrpSpPr>
            <p:grpSpPr>
              <a:xfrm>
                <a:off x="234360" y="5577840"/>
                <a:ext cx="4177800" cy="324000"/>
                <a:chOff x="234360" y="5577840"/>
                <a:chExt cx="4177800" cy="324000"/>
              </a:xfrm>
            </p:grpSpPr>
            <p:sp>
              <p:nvSpPr>
                <p:cNvPr id="1829" name=""/>
                <p:cNvSpPr/>
                <p:nvPr/>
              </p:nvSpPr>
              <p:spPr>
                <a:xfrm>
                  <a:off x="289800" y="557784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6. Soru bankası oluştu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30" name=""/>
                <p:cNvSpPr/>
                <p:nvPr/>
              </p:nvSpPr>
              <p:spPr>
                <a:xfrm>
                  <a:off x="234360" y="557784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31" name=""/>
              <p:cNvGrpSpPr/>
              <p:nvPr/>
            </p:nvGrpSpPr>
            <p:grpSpPr>
              <a:xfrm>
                <a:off x="234360" y="5902200"/>
                <a:ext cx="4177800" cy="324000"/>
                <a:chOff x="234360" y="5902200"/>
                <a:chExt cx="4177800" cy="324000"/>
              </a:xfrm>
            </p:grpSpPr>
            <p:sp>
              <p:nvSpPr>
                <p:cNvPr id="1832" name=""/>
                <p:cNvSpPr/>
                <p:nvPr/>
              </p:nvSpPr>
              <p:spPr>
                <a:xfrm>
                  <a:off x="289800" y="590220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7. Bulmaca çözme çalışması </a:t>
                  </a:r>
                  <a:endParaRPr b="0" lang="en-US" sz="1600" spc="-1" strike="noStrike">
                    <a:solidFill>
                      <a:srgbClr val="ffffff"/>
                    </a:solidFill>
                    <a:latin typeface="Times New Roman"/>
                  </a:endParaRPr>
                </a:p>
              </p:txBody>
            </p:sp>
            <p:sp>
              <p:nvSpPr>
                <p:cNvPr id="1833" name=""/>
                <p:cNvSpPr/>
                <p:nvPr/>
              </p:nvSpPr>
              <p:spPr>
                <a:xfrm>
                  <a:off x="234360" y="590220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34" name=""/>
              <p:cNvGrpSpPr/>
              <p:nvPr/>
            </p:nvGrpSpPr>
            <p:grpSpPr>
              <a:xfrm>
                <a:off x="234360" y="6226200"/>
                <a:ext cx="4177800" cy="324000"/>
                <a:chOff x="234360" y="6226200"/>
                <a:chExt cx="4177800" cy="324000"/>
              </a:xfrm>
            </p:grpSpPr>
            <p:sp>
              <p:nvSpPr>
                <p:cNvPr id="1835" name=""/>
                <p:cNvSpPr/>
                <p:nvPr/>
              </p:nvSpPr>
              <p:spPr>
                <a:xfrm>
                  <a:off x="289800" y="6226200"/>
                  <a:ext cx="4066920" cy="324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8. Bireysel okuma (sesli ve sessiz)</a:t>
                  </a:r>
                  <a:endParaRPr b="0" lang="en-US" sz="1600" spc="-1" strike="noStrike">
                    <a:solidFill>
                      <a:srgbClr val="ffffff"/>
                    </a:solidFill>
                    <a:latin typeface="Times New Roman"/>
                  </a:endParaRPr>
                </a:p>
              </p:txBody>
            </p:sp>
            <p:sp>
              <p:nvSpPr>
                <p:cNvPr id="1836" name=""/>
                <p:cNvSpPr/>
                <p:nvPr/>
              </p:nvSpPr>
              <p:spPr>
                <a:xfrm>
                  <a:off x="234360" y="6226200"/>
                  <a:ext cx="4177800" cy="324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37" name=""/>
            <p:cNvSpPr/>
            <p:nvPr/>
          </p:nvSpPr>
          <p:spPr>
            <a:xfrm>
              <a:off x="228600" y="609480"/>
              <a:ext cx="4190760" cy="594360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8" name=""/>
          <p:cNvSpPr/>
          <p:nvPr/>
        </p:nvSpPr>
        <p:spPr>
          <a:xfrm>
            <a:off x="1216080" y="20484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SÖZEL-DİLSEL ZEKA</a:t>
            </a:r>
            <a:endParaRPr b="0" lang="en-US" sz="1800" spc="-1" strike="noStrike">
              <a:solidFill>
                <a:srgbClr val="ffffff"/>
              </a:solidFill>
              <a:latin typeface="Times New Roman"/>
            </a:endParaRPr>
          </a:p>
        </p:txBody>
      </p:sp>
      <p:sp>
        <p:nvSpPr>
          <p:cNvPr id="1839" name=""/>
          <p:cNvSpPr/>
          <p:nvPr/>
        </p:nvSpPr>
        <p:spPr>
          <a:xfrm>
            <a:off x="4876920" y="2286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GÖRSEL-UZAMSAL ZEKA</a:t>
            </a:r>
            <a:r>
              <a:rPr b="1" lang="en-US" sz="1400" spc="-1" strike="noStrike">
                <a:solidFill>
                  <a:srgbClr val="ffff00"/>
                </a:solidFill>
                <a:latin typeface="Times New Roman"/>
              </a:rPr>
              <a:t> </a:t>
            </a:r>
            <a:endParaRPr b="0" lang="en-US" sz="1400" spc="-1" strike="noStrike">
              <a:solidFill>
                <a:srgbClr val="ffffff"/>
              </a:solidFill>
              <a:latin typeface="Times New Roman"/>
            </a:endParaRPr>
          </a:p>
        </p:txBody>
      </p:sp>
      <p:grpSp>
        <p:nvGrpSpPr>
          <p:cNvPr id="1840" name=""/>
          <p:cNvGrpSpPr/>
          <p:nvPr/>
        </p:nvGrpSpPr>
        <p:grpSpPr>
          <a:xfrm>
            <a:off x="4876920" y="609480"/>
            <a:ext cx="3961800" cy="5943600"/>
            <a:chOff x="4876920" y="609480"/>
            <a:chExt cx="3961800" cy="5943600"/>
          </a:xfrm>
        </p:grpSpPr>
        <p:grpSp>
          <p:nvGrpSpPr>
            <p:cNvPr id="1841" name=""/>
            <p:cNvGrpSpPr/>
            <p:nvPr/>
          </p:nvGrpSpPr>
          <p:grpSpPr>
            <a:xfrm>
              <a:off x="4882320" y="612720"/>
              <a:ext cx="3949560" cy="5936400"/>
              <a:chOff x="4882320" y="612720"/>
              <a:chExt cx="3949560" cy="5936400"/>
            </a:xfrm>
          </p:grpSpPr>
          <p:grpSp>
            <p:nvGrpSpPr>
              <p:cNvPr id="1842" name=""/>
              <p:cNvGrpSpPr/>
              <p:nvPr/>
            </p:nvGrpSpPr>
            <p:grpSpPr>
              <a:xfrm>
                <a:off x="4882320" y="612720"/>
                <a:ext cx="3949560" cy="494640"/>
                <a:chOff x="4882320" y="612720"/>
                <a:chExt cx="3949560" cy="494640"/>
              </a:xfrm>
            </p:grpSpPr>
            <p:sp>
              <p:nvSpPr>
                <p:cNvPr id="1843" name=""/>
                <p:cNvSpPr/>
                <p:nvPr/>
              </p:nvSpPr>
              <p:spPr>
                <a:xfrm>
                  <a:off x="4934520" y="61272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Zihin harit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44" name=""/>
                <p:cNvSpPr/>
                <p:nvPr/>
              </p:nvSpPr>
              <p:spPr>
                <a:xfrm>
                  <a:off x="4882320" y="61272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5" name=""/>
              <p:cNvGrpSpPr/>
              <p:nvPr/>
            </p:nvGrpSpPr>
            <p:grpSpPr>
              <a:xfrm>
                <a:off x="4882320" y="1107360"/>
                <a:ext cx="3949560" cy="494640"/>
                <a:chOff x="4882320" y="1107360"/>
                <a:chExt cx="3949560" cy="494640"/>
              </a:xfrm>
            </p:grpSpPr>
            <p:sp>
              <p:nvSpPr>
                <p:cNvPr id="1846" name=""/>
                <p:cNvSpPr/>
                <p:nvPr/>
              </p:nvSpPr>
              <p:spPr>
                <a:xfrm>
                  <a:off x="4934520" y="110736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Resimle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47" name=""/>
                <p:cNvSpPr/>
                <p:nvPr/>
              </p:nvSpPr>
              <p:spPr>
                <a:xfrm>
                  <a:off x="4882320" y="110736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8" name=""/>
              <p:cNvGrpSpPr/>
              <p:nvPr/>
            </p:nvGrpSpPr>
            <p:grpSpPr>
              <a:xfrm>
                <a:off x="4882320" y="1602000"/>
                <a:ext cx="3949560" cy="494640"/>
                <a:chOff x="4882320" y="1602000"/>
                <a:chExt cx="3949560" cy="494640"/>
              </a:xfrm>
            </p:grpSpPr>
            <p:sp>
              <p:nvSpPr>
                <p:cNvPr id="1849" name=""/>
                <p:cNvSpPr/>
                <p:nvPr/>
              </p:nvSpPr>
              <p:spPr>
                <a:xfrm>
                  <a:off x="4934520" y="160200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Resim yorumlama çalışması</a:t>
                  </a:r>
                  <a:endParaRPr b="0" lang="en-US" sz="1600" spc="-1" strike="noStrike">
                    <a:solidFill>
                      <a:srgbClr val="ffffff"/>
                    </a:solidFill>
                    <a:latin typeface="Times New Roman"/>
                  </a:endParaRPr>
                </a:p>
              </p:txBody>
            </p:sp>
            <p:sp>
              <p:nvSpPr>
                <p:cNvPr id="1850" name=""/>
                <p:cNvSpPr/>
                <p:nvPr/>
              </p:nvSpPr>
              <p:spPr>
                <a:xfrm>
                  <a:off x="4882320" y="160200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1" name=""/>
              <p:cNvGrpSpPr/>
              <p:nvPr/>
            </p:nvGrpSpPr>
            <p:grpSpPr>
              <a:xfrm>
                <a:off x="4882320" y="2097000"/>
                <a:ext cx="3949560" cy="494640"/>
                <a:chOff x="4882320" y="2097000"/>
                <a:chExt cx="3949560" cy="494640"/>
              </a:xfrm>
            </p:grpSpPr>
            <p:sp>
              <p:nvSpPr>
                <p:cNvPr id="1852" name=""/>
                <p:cNvSpPr/>
                <p:nvPr/>
              </p:nvSpPr>
              <p:spPr>
                <a:xfrm>
                  <a:off x="4934520" y="209700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Akış harit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53" name=""/>
                <p:cNvSpPr/>
                <p:nvPr/>
              </p:nvSpPr>
              <p:spPr>
                <a:xfrm>
                  <a:off x="4882320" y="209700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4" name=""/>
              <p:cNvGrpSpPr/>
              <p:nvPr/>
            </p:nvGrpSpPr>
            <p:grpSpPr>
              <a:xfrm>
                <a:off x="4882320" y="2591640"/>
                <a:ext cx="3949560" cy="494640"/>
                <a:chOff x="4882320" y="2591640"/>
                <a:chExt cx="3949560" cy="494640"/>
              </a:xfrm>
            </p:grpSpPr>
            <p:sp>
              <p:nvSpPr>
                <p:cNvPr id="1855" name=""/>
                <p:cNvSpPr/>
                <p:nvPr/>
              </p:nvSpPr>
              <p:spPr>
                <a:xfrm>
                  <a:off x="4934520" y="259164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Tanıma dayalı resimle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56" name=""/>
                <p:cNvSpPr/>
                <p:nvPr/>
              </p:nvSpPr>
              <p:spPr>
                <a:xfrm>
                  <a:off x="4882320" y="259164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7" name=""/>
              <p:cNvGrpSpPr/>
              <p:nvPr/>
            </p:nvGrpSpPr>
            <p:grpSpPr>
              <a:xfrm>
                <a:off x="4882320" y="3086280"/>
                <a:ext cx="3949560" cy="494280"/>
                <a:chOff x="4882320" y="3086280"/>
                <a:chExt cx="3949560" cy="494280"/>
              </a:xfrm>
            </p:grpSpPr>
            <p:sp>
              <p:nvSpPr>
                <p:cNvPr id="1858" name=""/>
                <p:cNvSpPr/>
                <p:nvPr/>
              </p:nvSpPr>
              <p:spPr>
                <a:xfrm>
                  <a:off x="4934520" y="3086280"/>
                  <a:ext cx="3844800" cy="494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Hikaye harit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59" name=""/>
                <p:cNvSpPr/>
                <p:nvPr/>
              </p:nvSpPr>
              <p:spPr>
                <a:xfrm>
                  <a:off x="4882320" y="3086280"/>
                  <a:ext cx="3949560" cy="49428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0" name=""/>
              <p:cNvGrpSpPr/>
              <p:nvPr/>
            </p:nvGrpSpPr>
            <p:grpSpPr>
              <a:xfrm>
                <a:off x="4882320" y="3580920"/>
                <a:ext cx="3949560" cy="494640"/>
                <a:chOff x="4882320" y="3580920"/>
                <a:chExt cx="3949560" cy="494640"/>
              </a:xfrm>
            </p:grpSpPr>
            <p:sp>
              <p:nvSpPr>
                <p:cNvPr id="1861" name=""/>
                <p:cNvSpPr/>
                <p:nvPr/>
              </p:nvSpPr>
              <p:spPr>
                <a:xfrm>
                  <a:off x="4934520" y="358092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Kupür sergileme çalışması</a:t>
                  </a:r>
                  <a:endParaRPr b="0" lang="en-US" sz="1600" spc="-1" strike="noStrike">
                    <a:solidFill>
                      <a:srgbClr val="ffffff"/>
                    </a:solidFill>
                    <a:latin typeface="Times New Roman"/>
                  </a:endParaRPr>
                </a:p>
              </p:txBody>
            </p:sp>
            <p:sp>
              <p:nvSpPr>
                <p:cNvPr id="1862" name=""/>
                <p:cNvSpPr/>
                <p:nvPr/>
              </p:nvSpPr>
              <p:spPr>
                <a:xfrm>
                  <a:off x="4882320" y="358092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3" name=""/>
              <p:cNvGrpSpPr/>
              <p:nvPr/>
            </p:nvGrpSpPr>
            <p:grpSpPr>
              <a:xfrm>
                <a:off x="4882320" y="4075560"/>
                <a:ext cx="3949560" cy="494640"/>
                <a:chOff x="4882320" y="4075560"/>
                <a:chExt cx="3949560" cy="494640"/>
              </a:xfrm>
            </p:grpSpPr>
            <p:sp>
              <p:nvSpPr>
                <p:cNvPr id="1864" name=""/>
                <p:cNvSpPr/>
                <p:nvPr/>
              </p:nvSpPr>
              <p:spPr>
                <a:xfrm>
                  <a:off x="4934520" y="407556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Poster oluşturma çalışması</a:t>
                  </a:r>
                  <a:endParaRPr b="0" lang="en-US" sz="1600" spc="-1" strike="noStrike">
                    <a:solidFill>
                      <a:srgbClr val="ffffff"/>
                    </a:solidFill>
                    <a:latin typeface="Times New Roman"/>
                  </a:endParaRPr>
                </a:p>
              </p:txBody>
            </p:sp>
            <p:sp>
              <p:nvSpPr>
                <p:cNvPr id="1865" name=""/>
                <p:cNvSpPr/>
                <p:nvPr/>
              </p:nvSpPr>
              <p:spPr>
                <a:xfrm>
                  <a:off x="4882320" y="407556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6" name=""/>
              <p:cNvGrpSpPr/>
              <p:nvPr/>
            </p:nvGrpSpPr>
            <p:grpSpPr>
              <a:xfrm>
                <a:off x="4882320" y="4570200"/>
                <a:ext cx="3949560" cy="494640"/>
                <a:chOff x="4882320" y="4570200"/>
                <a:chExt cx="3949560" cy="494640"/>
              </a:xfrm>
            </p:grpSpPr>
            <p:sp>
              <p:nvSpPr>
                <p:cNvPr id="1867" name=""/>
                <p:cNvSpPr/>
                <p:nvPr/>
              </p:nvSpPr>
              <p:spPr>
                <a:xfrm>
                  <a:off x="4934520" y="457020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Slogan yazma çalışması</a:t>
                  </a:r>
                  <a:endParaRPr b="0" lang="en-US" sz="1600" spc="-1" strike="noStrike">
                    <a:solidFill>
                      <a:srgbClr val="ffffff"/>
                    </a:solidFill>
                    <a:latin typeface="Times New Roman"/>
                  </a:endParaRPr>
                </a:p>
              </p:txBody>
            </p:sp>
            <p:sp>
              <p:nvSpPr>
                <p:cNvPr id="1868" name=""/>
                <p:cNvSpPr/>
                <p:nvPr/>
              </p:nvSpPr>
              <p:spPr>
                <a:xfrm>
                  <a:off x="4882320" y="457020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9" name=""/>
              <p:cNvGrpSpPr/>
              <p:nvPr/>
            </p:nvGrpSpPr>
            <p:grpSpPr>
              <a:xfrm>
                <a:off x="4882320" y="5065200"/>
                <a:ext cx="3949560" cy="494640"/>
                <a:chOff x="4882320" y="5065200"/>
                <a:chExt cx="3949560" cy="494640"/>
              </a:xfrm>
            </p:grpSpPr>
            <p:sp>
              <p:nvSpPr>
                <p:cNvPr id="1870" name=""/>
                <p:cNvSpPr/>
                <p:nvPr/>
              </p:nvSpPr>
              <p:spPr>
                <a:xfrm>
                  <a:off x="4934520" y="506520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Zaman çizelgesi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1" name=""/>
                <p:cNvSpPr/>
                <p:nvPr/>
              </p:nvSpPr>
              <p:spPr>
                <a:xfrm>
                  <a:off x="4882320" y="506520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2" name=""/>
              <p:cNvGrpSpPr/>
              <p:nvPr/>
            </p:nvGrpSpPr>
            <p:grpSpPr>
              <a:xfrm>
                <a:off x="4882320" y="5559840"/>
                <a:ext cx="3949560" cy="494640"/>
                <a:chOff x="4882320" y="5559840"/>
                <a:chExt cx="3949560" cy="494640"/>
              </a:xfrm>
            </p:grpSpPr>
            <p:sp>
              <p:nvSpPr>
                <p:cNvPr id="1873" name=""/>
                <p:cNvSpPr/>
                <p:nvPr/>
              </p:nvSpPr>
              <p:spPr>
                <a:xfrm>
                  <a:off x="4934520" y="555984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Grafik yorumlama çalışması </a:t>
                  </a:r>
                  <a:endParaRPr b="0" lang="en-US" sz="1600" spc="-1" strike="noStrike">
                    <a:solidFill>
                      <a:srgbClr val="ffffff"/>
                    </a:solidFill>
                    <a:latin typeface="Times New Roman"/>
                  </a:endParaRPr>
                </a:p>
              </p:txBody>
            </p:sp>
            <p:sp>
              <p:nvSpPr>
                <p:cNvPr id="1874" name=""/>
                <p:cNvSpPr/>
                <p:nvPr/>
              </p:nvSpPr>
              <p:spPr>
                <a:xfrm>
                  <a:off x="4882320" y="555984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5" name=""/>
              <p:cNvGrpSpPr/>
              <p:nvPr/>
            </p:nvGrpSpPr>
            <p:grpSpPr>
              <a:xfrm>
                <a:off x="4882320" y="6054480"/>
                <a:ext cx="3949560" cy="494640"/>
                <a:chOff x="4882320" y="6054480"/>
                <a:chExt cx="3949560" cy="494640"/>
              </a:xfrm>
            </p:grpSpPr>
            <p:sp>
              <p:nvSpPr>
                <p:cNvPr id="1876" name=""/>
                <p:cNvSpPr/>
                <p:nvPr/>
              </p:nvSpPr>
              <p:spPr>
                <a:xfrm>
                  <a:off x="4934520" y="6054480"/>
                  <a:ext cx="3844800" cy="494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2. Gözlem çalışması</a:t>
                  </a:r>
                  <a:endParaRPr b="0" lang="en-US" sz="1600" spc="-1" strike="noStrike">
                    <a:solidFill>
                      <a:srgbClr val="ffffff"/>
                    </a:solidFill>
                    <a:latin typeface="Times New Roman"/>
                  </a:endParaRPr>
                </a:p>
              </p:txBody>
            </p:sp>
            <p:sp>
              <p:nvSpPr>
                <p:cNvPr id="1877" name=""/>
                <p:cNvSpPr/>
                <p:nvPr/>
              </p:nvSpPr>
              <p:spPr>
                <a:xfrm>
                  <a:off x="4882320" y="6054480"/>
                  <a:ext cx="3949560" cy="494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78" name=""/>
            <p:cNvSpPr/>
            <p:nvPr/>
          </p:nvSpPr>
          <p:spPr>
            <a:xfrm>
              <a:off x="4876920" y="609480"/>
              <a:ext cx="3961800" cy="594360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9" name=""/>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0" name="PlaceHolder 1"/>
          <p:cNvSpPr>
            <a:spLocks noGrp="1"/>
          </p:cNvSpPr>
          <p:nvPr>
            <p:ph type="title"/>
          </p:nvPr>
        </p:nvSpPr>
        <p:spPr>
          <a:xfrm>
            <a:off x="304560" y="152280"/>
            <a:ext cx="3809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Comic Sans MS"/>
                <a:ea typeface="Times New Roman"/>
              </a:rPr>
              <a:t>KİŞİLERARASI ZEKA</a:t>
            </a:r>
            <a:r>
              <a:rPr b="0" lang="en-US" sz="4400" spc="-1" strike="noStrike">
                <a:solidFill>
                  <a:srgbClr val="b7e7ff"/>
                </a:solidFill>
                <a:latin typeface="Arial"/>
              </a:rPr>
              <a:t> </a:t>
            </a:r>
            <a:endParaRPr b="0" lang="en-US" sz="4400" spc="-1" strike="noStrike">
              <a:solidFill>
                <a:srgbClr val="b7e7ff"/>
              </a:solidFill>
              <a:latin typeface="Arial"/>
            </a:endParaRPr>
          </a:p>
        </p:txBody>
      </p:sp>
      <p:grpSp>
        <p:nvGrpSpPr>
          <p:cNvPr id="1881" name=""/>
          <p:cNvGrpSpPr/>
          <p:nvPr/>
        </p:nvGrpSpPr>
        <p:grpSpPr>
          <a:xfrm>
            <a:off x="533520" y="762120"/>
            <a:ext cx="3733200" cy="5790960"/>
            <a:chOff x="533520" y="762120"/>
            <a:chExt cx="3733200" cy="5790960"/>
          </a:xfrm>
        </p:grpSpPr>
        <p:grpSp>
          <p:nvGrpSpPr>
            <p:cNvPr id="1882" name=""/>
            <p:cNvGrpSpPr/>
            <p:nvPr/>
          </p:nvGrpSpPr>
          <p:grpSpPr>
            <a:xfrm>
              <a:off x="538560" y="764280"/>
              <a:ext cx="3721680" cy="5786280"/>
              <a:chOff x="538560" y="764280"/>
              <a:chExt cx="3721680" cy="5786280"/>
            </a:xfrm>
          </p:grpSpPr>
          <p:grpSp>
            <p:nvGrpSpPr>
              <p:cNvPr id="1883" name=""/>
              <p:cNvGrpSpPr/>
              <p:nvPr/>
            </p:nvGrpSpPr>
            <p:grpSpPr>
              <a:xfrm>
                <a:off x="538560" y="764280"/>
                <a:ext cx="3721680" cy="361440"/>
                <a:chOff x="538560" y="764280"/>
                <a:chExt cx="3721680" cy="361440"/>
              </a:xfrm>
            </p:grpSpPr>
            <p:sp>
              <p:nvSpPr>
                <p:cNvPr id="1884" name=""/>
                <p:cNvSpPr/>
                <p:nvPr/>
              </p:nvSpPr>
              <p:spPr>
                <a:xfrm>
                  <a:off x="587880" y="76428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Röportaj yap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5" name=""/>
                <p:cNvSpPr/>
                <p:nvPr/>
              </p:nvSpPr>
              <p:spPr>
                <a:xfrm>
                  <a:off x="538560" y="76428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6" name=""/>
              <p:cNvGrpSpPr/>
              <p:nvPr/>
            </p:nvGrpSpPr>
            <p:grpSpPr>
              <a:xfrm>
                <a:off x="538560" y="1125720"/>
                <a:ext cx="3721680" cy="361440"/>
                <a:chOff x="538560" y="1125720"/>
                <a:chExt cx="3721680" cy="361440"/>
              </a:xfrm>
            </p:grpSpPr>
            <p:sp>
              <p:nvSpPr>
                <p:cNvPr id="1887" name=""/>
                <p:cNvSpPr/>
                <p:nvPr/>
              </p:nvSpPr>
              <p:spPr>
                <a:xfrm>
                  <a:off x="587880" y="112572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Çatışma çöz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8" name=""/>
                <p:cNvSpPr/>
                <p:nvPr/>
              </p:nvSpPr>
              <p:spPr>
                <a:xfrm>
                  <a:off x="538560" y="112572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9" name=""/>
              <p:cNvGrpSpPr/>
              <p:nvPr/>
            </p:nvGrpSpPr>
            <p:grpSpPr>
              <a:xfrm>
                <a:off x="538560" y="1487520"/>
                <a:ext cx="3721680" cy="361440"/>
                <a:chOff x="538560" y="1487520"/>
                <a:chExt cx="3721680" cy="361440"/>
              </a:xfrm>
            </p:grpSpPr>
            <p:sp>
              <p:nvSpPr>
                <p:cNvPr id="1890" name=""/>
                <p:cNvSpPr/>
                <p:nvPr/>
              </p:nvSpPr>
              <p:spPr>
                <a:xfrm>
                  <a:off x="587880" y="148752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Kişiyi-nesneyi bul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91" name=""/>
                <p:cNvSpPr/>
                <p:nvPr/>
              </p:nvSpPr>
              <p:spPr>
                <a:xfrm>
                  <a:off x="538560" y="148752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2" name=""/>
              <p:cNvGrpSpPr/>
              <p:nvPr/>
            </p:nvGrpSpPr>
            <p:grpSpPr>
              <a:xfrm>
                <a:off x="538560" y="1848960"/>
                <a:ext cx="3721680" cy="361440"/>
                <a:chOff x="538560" y="1848960"/>
                <a:chExt cx="3721680" cy="361440"/>
              </a:xfrm>
            </p:grpSpPr>
            <p:sp>
              <p:nvSpPr>
                <p:cNvPr id="1893" name=""/>
                <p:cNvSpPr/>
                <p:nvPr/>
              </p:nvSpPr>
              <p:spPr>
                <a:xfrm>
                  <a:off x="587880" y="184896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Diyalog tamamla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94" name=""/>
                <p:cNvSpPr/>
                <p:nvPr/>
              </p:nvSpPr>
              <p:spPr>
                <a:xfrm>
                  <a:off x="538560" y="184896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5" name=""/>
              <p:cNvGrpSpPr/>
              <p:nvPr/>
            </p:nvGrpSpPr>
            <p:grpSpPr>
              <a:xfrm>
                <a:off x="538560" y="2210760"/>
                <a:ext cx="3721680" cy="361440"/>
                <a:chOff x="538560" y="2210760"/>
                <a:chExt cx="3721680" cy="361440"/>
              </a:xfrm>
            </p:grpSpPr>
            <p:sp>
              <p:nvSpPr>
                <p:cNvPr id="1896" name=""/>
                <p:cNvSpPr/>
                <p:nvPr/>
              </p:nvSpPr>
              <p:spPr>
                <a:xfrm>
                  <a:off x="587880" y="221076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Telefon et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97" name=""/>
                <p:cNvSpPr/>
                <p:nvPr/>
              </p:nvSpPr>
              <p:spPr>
                <a:xfrm>
                  <a:off x="538560" y="221076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8" name=""/>
              <p:cNvGrpSpPr/>
              <p:nvPr/>
            </p:nvGrpSpPr>
            <p:grpSpPr>
              <a:xfrm>
                <a:off x="538560" y="2572200"/>
                <a:ext cx="3721680" cy="361800"/>
                <a:chOff x="538560" y="2572200"/>
                <a:chExt cx="3721680" cy="361800"/>
              </a:xfrm>
            </p:grpSpPr>
            <p:sp>
              <p:nvSpPr>
                <p:cNvPr id="1899" name=""/>
                <p:cNvSpPr/>
                <p:nvPr/>
              </p:nvSpPr>
              <p:spPr>
                <a:xfrm>
                  <a:off x="587880" y="2572200"/>
                  <a:ext cx="3623040" cy="3618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Eşli tartış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00" name=""/>
                <p:cNvSpPr/>
                <p:nvPr/>
              </p:nvSpPr>
              <p:spPr>
                <a:xfrm>
                  <a:off x="538560" y="2572200"/>
                  <a:ext cx="3721680" cy="3618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1" name=""/>
              <p:cNvGrpSpPr/>
              <p:nvPr/>
            </p:nvGrpSpPr>
            <p:grpSpPr>
              <a:xfrm>
                <a:off x="538560" y="2934000"/>
                <a:ext cx="3721680" cy="361440"/>
                <a:chOff x="538560" y="2934000"/>
                <a:chExt cx="3721680" cy="361440"/>
              </a:xfrm>
            </p:grpSpPr>
            <p:sp>
              <p:nvSpPr>
                <p:cNvPr id="1902" name=""/>
                <p:cNvSpPr/>
                <p:nvPr/>
              </p:nvSpPr>
              <p:spPr>
                <a:xfrm>
                  <a:off x="587880" y="293400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Grup paslaşm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03" name=""/>
                <p:cNvSpPr/>
                <p:nvPr/>
              </p:nvSpPr>
              <p:spPr>
                <a:xfrm>
                  <a:off x="538560" y="293400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4" name=""/>
              <p:cNvGrpSpPr/>
              <p:nvPr/>
            </p:nvGrpSpPr>
            <p:grpSpPr>
              <a:xfrm>
                <a:off x="538560" y="3295800"/>
                <a:ext cx="3721680" cy="361440"/>
                <a:chOff x="538560" y="3295800"/>
                <a:chExt cx="3721680" cy="361440"/>
              </a:xfrm>
            </p:grpSpPr>
            <p:sp>
              <p:nvSpPr>
                <p:cNvPr id="1905" name=""/>
                <p:cNvSpPr/>
                <p:nvPr/>
              </p:nvSpPr>
              <p:spPr>
                <a:xfrm>
                  <a:off x="587880" y="329580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Tek kelime söyl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06" name=""/>
                <p:cNvSpPr/>
                <p:nvPr/>
              </p:nvSpPr>
              <p:spPr>
                <a:xfrm>
                  <a:off x="538560" y="329580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7" name=""/>
              <p:cNvGrpSpPr/>
              <p:nvPr/>
            </p:nvGrpSpPr>
            <p:grpSpPr>
              <a:xfrm>
                <a:off x="538560" y="3657240"/>
                <a:ext cx="3721680" cy="361440"/>
                <a:chOff x="538560" y="3657240"/>
                <a:chExt cx="3721680" cy="361440"/>
              </a:xfrm>
            </p:grpSpPr>
            <p:sp>
              <p:nvSpPr>
                <p:cNvPr id="1908" name=""/>
                <p:cNvSpPr/>
                <p:nvPr/>
              </p:nvSpPr>
              <p:spPr>
                <a:xfrm>
                  <a:off x="587880" y="365724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Nesi var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09" name=""/>
                <p:cNvSpPr/>
                <p:nvPr/>
              </p:nvSpPr>
              <p:spPr>
                <a:xfrm>
                  <a:off x="538560" y="365724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0" name=""/>
              <p:cNvGrpSpPr/>
              <p:nvPr/>
            </p:nvGrpSpPr>
            <p:grpSpPr>
              <a:xfrm>
                <a:off x="538560" y="4019040"/>
                <a:ext cx="3721680" cy="361440"/>
                <a:chOff x="538560" y="4019040"/>
                <a:chExt cx="3721680" cy="361440"/>
              </a:xfrm>
            </p:grpSpPr>
            <p:sp>
              <p:nvSpPr>
                <p:cNvPr id="1911" name=""/>
                <p:cNvSpPr/>
                <p:nvPr/>
              </p:nvSpPr>
              <p:spPr>
                <a:xfrm>
                  <a:off x="587880" y="401904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Eşli öğren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2" name=""/>
                <p:cNvSpPr/>
                <p:nvPr/>
              </p:nvSpPr>
              <p:spPr>
                <a:xfrm>
                  <a:off x="538560" y="401904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3" name=""/>
              <p:cNvGrpSpPr/>
              <p:nvPr/>
            </p:nvGrpSpPr>
            <p:grpSpPr>
              <a:xfrm>
                <a:off x="538560" y="4380480"/>
                <a:ext cx="3721680" cy="361440"/>
                <a:chOff x="538560" y="4380480"/>
                <a:chExt cx="3721680" cy="361440"/>
              </a:xfrm>
            </p:grpSpPr>
            <p:sp>
              <p:nvSpPr>
                <p:cNvPr id="1914" name=""/>
                <p:cNvSpPr/>
                <p:nvPr/>
              </p:nvSpPr>
              <p:spPr>
                <a:xfrm>
                  <a:off x="587880" y="438048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Akvaryum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5" name=""/>
                <p:cNvSpPr/>
                <p:nvPr/>
              </p:nvSpPr>
              <p:spPr>
                <a:xfrm>
                  <a:off x="538560" y="438048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6" name=""/>
              <p:cNvGrpSpPr/>
              <p:nvPr/>
            </p:nvGrpSpPr>
            <p:grpSpPr>
              <a:xfrm>
                <a:off x="538560" y="4742280"/>
                <a:ext cx="3721680" cy="361440"/>
                <a:chOff x="538560" y="4742280"/>
                <a:chExt cx="3721680" cy="361440"/>
              </a:xfrm>
            </p:grpSpPr>
            <p:sp>
              <p:nvSpPr>
                <p:cNvPr id="1917" name=""/>
                <p:cNvSpPr/>
                <p:nvPr/>
              </p:nvSpPr>
              <p:spPr>
                <a:xfrm>
                  <a:off x="587880" y="474228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2. Evet-hayır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8" name=""/>
                <p:cNvSpPr/>
                <p:nvPr/>
              </p:nvSpPr>
              <p:spPr>
                <a:xfrm>
                  <a:off x="538560" y="474228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9" name=""/>
              <p:cNvGrpSpPr/>
              <p:nvPr/>
            </p:nvGrpSpPr>
            <p:grpSpPr>
              <a:xfrm>
                <a:off x="538560" y="5103720"/>
                <a:ext cx="3721680" cy="361440"/>
                <a:chOff x="538560" y="5103720"/>
                <a:chExt cx="3721680" cy="361440"/>
              </a:xfrm>
            </p:grpSpPr>
            <p:sp>
              <p:nvSpPr>
                <p:cNvPr id="1920" name=""/>
                <p:cNvSpPr/>
                <p:nvPr/>
              </p:nvSpPr>
              <p:spPr>
                <a:xfrm>
                  <a:off x="587880" y="510372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3. Grup portfolyo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21" name=""/>
                <p:cNvSpPr/>
                <p:nvPr/>
              </p:nvSpPr>
              <p:spPr>
                <a:xfrm>
                  <a:off x="538560" y="510372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2" name=""/>
              <p:cNvGrpSpPr/>
              <p:nvPr/>
            </p:nvGrpSpPr>
            <p:grpSpPr>
              <a:xfrm>
                <a:off x="538560" y="5465520"/>
                <a:ext cx="3721680" cy="361440"/>
                <a:chOff x="538560" y="5465520"/>
                <a:chExt cx="3721680" cy="361440"/>
              </a:xfrm>
            </p:grpSpPr>
            <p:sp>
              <p:nvSpPr>
                <p:cNvPr id="1923" name=""/>
                <p:cNvSpPr/>
                <p:nvPr/>
              </p:nvSpPr>
              <p:spPr>
                <a:xfrm>
                  <a:off x="587880" y="546552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4. Beyin fırtın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24" name=""/>
                <p:cNvSpPr/>
                <p:nvPr/>
              </p:nvSpPr>
              <p:spPr>
                <a:xfrm>
                  <a:off x="538560" y="546552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5" name=""/>
              <p:cNvGrpSpPr/>
              <p:nvPr/>
            </p:nvGrpSpPr>
            <p:grpSpPr>
              <a:xfrm>
                <a:off x="538560" y="5826960"/>
                <a:ext cx="3721680" cy="361440"/>
                <a:chOff x="538560" y="5826960"/>
                <a:chExt cx="3721680" cy="361440"/>
              </a:xfrm>
            </p:grpSpPr>
            <p:sp>
              <p:nvSpPr>
                <p:cNvPr id="1926" name=""/>
                <p:cNvSpPr/>
                <p:nvPr/>
              </p:nvSpPr>
              <p:spPr>
                <a:xfrm>
                  <a:off x="587880" y="5826960"/>
                  <a:ext cx="3623040" cy="361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5. Altı şapk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27" name=""/>
                <p:cNvSpPr/>
                <p:nvPr/>
              </p:nvSpPr>
              <p:spPr>
                <a:xfrm>
                  <a:off x="538560" y="5826960"/>
                  <a:ext cx="3721680" cy="361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8" name=""/>
              <p:cNvGrpSpPr/>
              <p:nvPr/>
            </p:nvGrpSpPr>
            <p:grpSpPr>
              <a:xfrm>
                <a:off x="538560" y="6188760"/>
                <a:ext cx="3721680" cy="361800"/>
                <a:chOff x="538560" y="6188760"/>
                <a:chExt cx="3721680" cy="361800"/>
              </a:xfrm>
            </p:grpSpPr>
            <p:sp>
              <p:nvSpPr>
                <p:cNvPr id="1929" name=""/>
                <p:cNvSpPr/>
                <p:nvPr/>
              </p:nvSpPr>
              <p:spPr>
                <a:xfrm>
                  <a:off x="587880" y="6188760"/>
                  <a:ext cx="3623040" cy="3618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6. Toplu oku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30" name=""/>
                <p:cNvSpPr/>
                <p:nvPr/>
              </p:nvSpPr>
              <p:spPr>
                <a:xfrm>
                  <a:off x="538560" y="6188760"/>
                  <a:ext cx="3721680" cy="3618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31" name=""/>
            <p:cNvSpPr/>
            <p:nvPr/>
          </p:nvSpPr>
          <p:spPr>
            <a:xfrm>
              <a:off x="533520" y="762120"/>
              <a:ext cx="3733200" cy="579096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2" name=""/>
          <p:cNvSpPr/>
          <p:nvPr/>
        </p:nvSpPr>
        <p:spPr>
          <a:xfrm>
            <a:off x="4952880" y="30492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İÇSEL ZEKA</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1933" name=""/>
          <p:cNvGrpSpPr/>
          <p:nvPr/>
        </p:nvGrpSpPr>
        <p:grpSpPr>
          <a:xfrm>
            <a:off x="4800600" y="838080"/>
            <a:ext cx="4038120" cy="5715000"/>
            <a:chOff x="4800600" y="838080"/>
            <a:chExt cx="4038120" cy="5715000"/>
          </a:xfrm>
        </p:grpSpPr>
        <p:grpSp>
          <p:nvGrpSpPr>
            <p:cNvPr id="1934" name=""/>
            <p:cNvGrpSpPr/>
            <p:nvPr/>
          </p:nvGrpSpPr>
          <p:grpSpPr>
            <a:xfrm>
              <a:off x="4806000" y="840960"/>
              <a:ext cx="4025880" cy="5708160"/>
              <a:chOff x="4806000" y="840960"/>
              <a:chExt cx="4025880" cy="5708160"/>
            </a:xfrm>
          </p:grpSpPr>
          <p:grpSp>
            <p:nvGrpSpPr>
              <p:cNvPr id="1935" name=""/>
              <p:cNvGrpSpPr/>
              <p:nvPr/>
            </p:nvGrpSpPr>
            <p:grpSpPr>
              <a:xfrm>
                <a:off x="4806000" y="840960"/>
                <a:ext cx="4025880" cy="460440"/>
                <a:chOff x="4806000" y="840960"/>
                <a:chExt cx="4025880" cy="460440"/>
              </a:xfrm>
            </p:grpSpPr>
            <p:sp>
              <p:nvSpPr>
                <p:cNvPr id="1936" name=""/>
                <p:cNvSpPr/>
                <p:nvPr/>
              </p:nvSpPr>
              <p:spPr>
                <a:xfrm>
                  <a:off x="4859280" y="84096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Önceliklerin listelenmes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37" name=""/>
                <p:cNvSpPr/>
                <p:nvPr/>
              </p:nvSpPr>
              <p:spPr>
                <a:xfrm>
                  <a:off x="4806000" y="84096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8" name=""/>
              <p:cNvGrpSpPr/>
              <p:nvPr/>
            </p:nvGrpSpPr>
            <p:grpSpPr>
              <a:xfrm>
                <a:off x="4806000" y="1301400"/>
                <a:ext cx="4025880" cy="460440"/>
                <a:chOff x="4806000" y="1301400"/>
                <a:chExt cx="4025880" cy="460440"/>
              </a:xfrm>
            </p:grpSpPr>
            <p:sp>
              <p:nvSpPr>
                <p:cNvPr id="1939" name=""/>
                <p:cNvSpPr/>
                <p:nvPr/>
              </p:nvSpPr>
              <p:spPr>
                <a:xfrm>
                  <a:off x="4859280" y="130140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Sen olsaydın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40" name=""/>
                <p:cNvSpPr/>
                <p:nvPr/>
              </p:nvSpPr>
              <p:spPr>
                <a:xfrm>
                  <a:off x="4806000" y="130140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1" name=""/>
              <p:cNvGrpSpPr/>
              <p:nvPr/>
            </p:nvGrpSpPr>
            <p:grpSpPr>
              <a:xfrm>
                <a:off x="4806000" y="1761840"/>
                <a:ext cx="4025880" cy="460440"/>
                <a:chOff x="4806000" y="1761840"/>
                <a:chExt cx="4025880" cy="460440"/>
              </a:xfrm>
            </p:grpSpPr>
            <p:sp>
              <p:nvSpPr>
                <p:cNvPr id="1942" name=""/>
                <p:cNvSpPr/>
                <p:nvPr/>
              </p:nvSpPr>
              <p:spPr>
                <a:xfrm>
                  <a:off x="4859280" y="176184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Durum savunma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43" name=""/>
                <p:cNvSpPr/>
                <p:nvPr/>
              </p:nvSpPr>
              <p:spPr>
                <a:xfrm>
                  <a:off x="4806000" y="176184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4" name=""/>
              <p:cNvGrpSpPr/>
              <p:nvPr/>
            </p:nvGrpSpPr>
            <p:grpSpPr>
              <a:xfrm>
                <a:off x="4806000" y="2222640"/>
                <a:ext cx="4025880" cy="621000"/>
                <a:chOff x="4806000" y="2222640"/>
                <a:chExt cx="4025880" cy="621000"/>
              </a:xfrm>
            </p:grpSpPr>
            <p:sp>
              <p:nvSpPr>
                <p:cNvPr id="1945" name=""/>
                <p:cNvSpPr/>
                <p:nvPr/>
              </p:nvSpPr>
              <p:spPr>
                <a:xfrm>
                  <a:off x="4859280" y="2222640"/>
                  <a:ext cx="3918960" cy="62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Hoşlandığım-hoşlanmadıklarım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46" name=""/>
                <p:cNvSpPr/>
                <p:nvPr/>
              </p:nvSpPr>
              <p:spPr>
                <a:xfrm>
                  <a:off x="4806000" y="2222640"/>
                  <a:ext cx="4025880" cy="62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7" name=""/>
              <p:cNvGrpSpPr/>
              <p:nvPr/>
            </p:nvGrpSpPr>
            <p:grpSpPr>
              <a:xfrm>
                <a:off x="4806000" y="2843640"/>
                <a:ext cx="4025880" cy="460800"/>
                <a:chOff x="4806000" y="2843640"/>
                <a:chExt cx="4025880" cy="460800"/>
              </a:xfrm>
            </p:grpSpPr>
            <p:sp>
              <p:nvSpPr>
                <p:cNvPr id="1948" name=""/>
                <p:cNvSpPr/>
                <p:nvPr/>
              </p:nvSpPr>
              <p:spPr>
                <a:xfrm>
                  <a:off x="4859280" y="2843640"/>
                  <a:ext cx="3918960" cy="4608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Ne hissediyorsun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49" name=""/>
                <p:cNvSpPr/>
                <p:nvPr/>
              </p:nvSpPr>
              <p:spPr>
                <a:xfrm>
                  <a:off x="4806000" y="2843640"/>
                  <a:ext cx="4025880" cy="4608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0" name=""/>
              <p:cNvGrpSpPr/>
              <p:nvPr/>
            </p:nvGrpSpPr>
            <p:grpSpPr>
              <a:xfrm>
                <a:off x="4806000" y="3304440"/>
                <a:ext cx="4025880" cy="621000"/>
                <a:chOff x="4806000" y="3304440"/>
                <a:chExt cx="4025880" cy="621000"/>
              </a:xfrm>
            </p:grpSpPr>
            <p:sp>
              <p:nvSpPr>
                <p:cNvPr id="1951" name=""/>
                <p:cNvSpPr/>
                <p:nvPr/>
              </p:nvSpPr>
              <p:spPr>
                <a:xfrm>
                  <a:off x="4859280" y="3304440"/>
                  <a:ext cx="3918960" cy="62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Kişisel deneyimle ilişkilendirm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52" name=""/>
                <p:cNvSpPr/>
                <p:nvPr/>
              </p:nvSpPr>
              <p:spPr>
                <a:xfrm>
                  <a:off x="4806000" y="3304440"/>
                  <a:ext cx="4025880" cy="62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3" name=""/>
              <p:cNvGrpSpPr/>
              <p:nvPr/>
            </p:nvGrpSpPr>
            <p:grpSpPr>
              <a:xfrm>
                <a:off x="4806000" y="3925440"/>
                <a:ext cx="4025880" cy="621000"/>
                <a:chOff x="4806000" y="3925440"/>
                <a:chExt cx="4025880" cy="621000"/>
              </a:xfrm>
            </p:grpSpPr>
            <p:sp>
              <p:nvSpPr>
                <p:cNvPr id="1954" name=""/>
                <p:cNvSpPr/>
                <p:nvPr/>
              </p:nvSpPr>
              <p:spPr>
                <a:xfrm>
                  <a:off x="4859280" y="3925440"/>
                  <a:ext cx="3918960" cy="62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Alternatif değerlendirme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55" name=""/>
                <p:cNvSpPr/>
                <p:nvPr/>
              </p:nvSpPr>
              <p:spPr>
                <a:xfrm>
                  <a:off x="4806000" y="3925440"/>
                  <a:ext cx="4025880" cy="62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6" name=""/>
              <p:cNvGrpSpPr/>
              <p:nvPr/>
            </p:nvGrpSpPr>
            <p:grpSpPr>
              <a:xfrm>
                <a:off x="4806000" y="4546440"/>
                <a:ext cx="4025880" cy="460440"/>
                <a:chOff x="4806000" y="4546440"/>
                <a:chExt cx="4025880" cy="460440"/>
              </a:xfrm>
            </p:grpSpPr>
            <p:sp>
              <p:nvSpPr>
                <p:cNvPr id="1957" name=""/>
                <p:cNvSpPr/>
                <p:nvPr/>
              </p:nvSpPr>
              <p:spPr>
                <a:xfrm>
                  <a:off x="4859280" y="454644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Alternatif oluşturma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58" name=""/>
                <p:cNvSpPr/>
                <p:nvPr/>
              </p:nvSpPr>
              <p:spPr>
                <a:xfrm>
                  <a:off x="4806000" y="454644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9" name=""/>
              <p:cNvGrpSpPr/>
              <p:nvPr/>
            </p:nvGrpSpPr>
            <p:grpSpPr>
              <a:xfrm>
                <a:off x="4806000" y="5007240"/>
                <a:ext cx="4025880" cy="460440"/>
                <a:chOff x="4806000" y="5007240"/>
                <a:chExt cx="4025880" cy="460440"/>
              </a:xfrm>
            </p:grpSpPr>
            <p:sp>
              <p:nvSpPr>
                <p:cNvPr id="1960" name=""/>
                <p:cNvSpPr/>
                <p:nvPr/>
              </p:nvSpPr>
              <p:spPr>
                <a:xfrm>
                  <a:off x="4859280" y="500724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Neler öğrendim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61" name=""/>
                <p:cNvSpPr/>
                <p:nvPr/>
              </p:nvSpPr>
              <p:spPr>
                <a:xfrm>
                  <a:off x="4806000" y="500724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2" name=""/>
              <p:cNvGrpSpPr/>
              <p:nvPr/>
            </p:nvGrpSpPr>
            <p:grpSpPr>
              <a:xfrm>
                <a:off x="4806000" y="5467680"/>
                <a:ext cx="4025880" cy="621000"/>
                <a:chOff x="4806000" y="5467680"/>
                <a:chExt cx="4025880" cy="621000"/>
              </a:xfrm>
            </p:grpSpPr>
            <p:sp>
              <p:nvSpPr>
                <p:cNvPr id="1963" name=""/>
                <p:cNvSpPr/>
                <p:nvPr/>
              </p:nvSpPr>
              <p:spPr>
                <a:xfrm>
                  <a:off x="4859280" y="5467680"/>
                  <a:ext cx="3918960" cy="62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Benzerlikler oluşturma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64" name=""/>
                <p:cNvSpPr/>
                <p:nvPr/>
              </p:nvSpPr>
              <p:spPr>
                <a:xfrm>
                  <a:off x="4806000" y="5467680"/>
                  <a:ext cx="4025880" cy="62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5" name=""/>
              <p:cNvGrpSpPr/>
              <p:nvPr/>
            </p:nvGrpSpPr>
            <p:grpSpPr>
              <a:xfrm>
                <a:off x="4806000" y="6088680"/>
                <a:ext cx="4025880" cy="460440"/>
                <a:chOff x="4806000" y="6088680"/>
                <a:chExt cx="4025880" cy="460440"/>
              </a:xfrm>
            </p:grpSpPr>
            <p:sp>
              <p:nvSpPr>
                <p:cNvPr id="1966" name=""/>
                <p:cNvSpPr/>
                <p:nvPr/>
              </p:nvSpPr>
              <p:spPr>
                <a:xfrm>
                  <a:off x="4859280" y="6088680"/>
                  <a:ext cx="3918960" cy="460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Bireysel portfolyo 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67" name=""/>
                <p:cNvSpPr/>
                <p:nvPr/>
              </p:nvSpPr>
              <p:spPr>
                <a:xfrm>
                  <a:off x="4806000" y="6088680"/>
                  <a:ext cx="4025880" cy="4604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68" name=""/>
            <p:cNvSpPr/>
            <p:nvPr/>
          </p:nvSpPr>
          <p:spPr>
            <a:xfrm>
              <a:off x="4800600" y="838080"/>
              <a:ext cx="4038120" cy="571500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9" name=""/>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152280" y="1522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MANTIKSAL MATEMATİKSEL ZEKA</a:t>
            </a:r>
            <a:r>
              <a:rPr b="1" lang="en-US" sz="1400" spc="-1" strike="noStrike">
                <a:solidFill>
                  <a:srgbClr val="ffff00"/>
                </a:solidFill>
                <a:latin typeface="Comic Sans MS"/>
              </a:rPr>
              <a:t> </a:t>
            </a:r>
            <a:endParaRPr b="0" lang="en-US" sz="1400" spc="-1" strike="noStrike">
              <a:solidFill>
                <a:srgbClr val="ffffff"/>
              </a:solidFill>
              <a:latin typeface="Times New Roman"/>
            </a:endParaRPr>
          </a:p>
        </p:txBody>
      </p:sp>
      <p:grpSp>
        <p:nvGrpSpPr>
          <p:cNvPr id="1971" name=""/>
          <p:cNvGrpSpPr/>
          <p:nvPr/>
        </p:nvGrpSpPr>
        <p:grpSpPr>
          <a:xfrm>
            <a:off x="173160" y="506520"/>
            <a:ext cx="4038120" cy="6248160"/>
            <a:chOff x="173160" y="506520"/>
            <a:chExt cx="4038120" cy="6248160"/>
          </a:xfrm>
        </p:grpSpPr>
        <p:grpSp>
          <p:nvGrpSpPr>
            <p:cNvPr id="1972" name=""/>
            <p:cNvGrpSpPr/>
            <p:nvPr/>
          </p:nvGrpSpPr>
          <p:grpSpPr>
            <a:xfrm>
              <a:off x="178560" y="509040"/>
              <a:ext cx="4025880" cy="6242400"/>
              <a:chOff x="178560" y="509040"/>
              <a:chExt cx="4025880" cy="6242400"/>
            </a:xfrm>
          </p:grpSpPr>
          <p:grpSp>
            <p:nvGrpSpPr>
              <p:cNvPr id="1973" name=""/>
              <p:cNvGrpSpPr/>
              <p:nvPr/>
            </p:nvGrpSpPr>
            <p:grpSpPr>
              <a:xfrm>
                <a:off x="178560" y="509040"/>
                <a:ext cx="4025880" cy="375120"/>
                <a:chOff x="178560" y="509040"/>
                <a:chExt cx="4025880" cy="375120"/>
              </a:xfrm>
            </p:grpSpPr>
            <p:sp>
              <p:nvSpPr>
                <p:cNvPr id="1974" name=""/>
                <p:cNvSpPr/>
                <p:nvPr/>
              </p:nvSpPr>
              <p:spPr>
                <a:xfrm>
                  <a:off x="231840" y="5090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Venn şemas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5" name=""/>
                <p:cNvSpPr/>
                <p:nvPr/>
              </p:nvSpPr>
              <p:spPr>
                <a:xfrm>
                  <a:off x="178560" y="5090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6" name=""/>
              <p:cNvGrpSpPr/>
              <p:nvPr/>
            </p:nvGrpSpPr>
            <p:grpSpPr>
              <a:xfrm>
                <a:off x="178560" y="884160"/>
                <a:ext cx="4025880" cy="375120"/>
                <a:chOff x="178560" y="884160"/>
                <a:chExt cx="4025880" cy="375120"/>
              </a:xfrm>
            </p:grpSpPr>
            <p:sp>
              <p:nvSpPr>
                <p:cNvPr id="1977" name=""/>
                <p:cNvSpPr/>
                <p:nvPr/>
              </p:nvSpPr>
              <p:spPr>
                <a:xfrm>
                  <a:off x="231840" y="88416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Neden sonuç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8" name=""/>
                <p:cNvSpPr/>
                <p:nvPr/>
              </p:nvSpPr>
              <p:spPr>
                <a:xfrm>
                  <a:off x="178560" y="88416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178560" y="1259640"/>
                <a:ext cx="4025880" cy="375120"/>
                <a:chOff x="178560" y="1259640"/>
                <a:chExt cx="4025880" cy="375120"/>
              </a:xfrm>
            </p:grpSpPr>
            <p:sp>
              <p:nvSpPr>
                <p:cNvPr id="1980" name=""/>
                <p:cNvSpPr/>
                <p:nvPr/>
              </p:nvSpPr>
              <p:spPr>
                <a:xfrm>
                  <a:off x="231840" y="12596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Kavram eşleştir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81" name=""/>
                <p:cNvSpPr/>
                <p:nvPr/>
              </p:nvSpPr>
              <p:spPr>
                <a:xfrm>
                  <a:off x="178560" y="12596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2" name=""/>
              <p:cNvGrpSpPr/>
              <p:nvPr/>
            </p:nvGrpSpPr>
            <p:grpSpPr>
              <a:xfrm>
                <a:off x="178560" y="1634760"/>
                <a:ext cx="4025880" cy="375120"/>
                <a:chOff x="178560" y="1634760"/>
                <a:chExt cx="4025880" cy="375120"/>
              </a:xfrm>
            </p:grpSpPr>
            <p:sp>
              <p:nvSpPr>
                <p:cNvPr id="1983" name=""/>
                <p:cNvSpPr/>
                <p:nvPr/>
              </p:nvSpPr>
              <p:spPr>
                <a:xfrm>
                  <a:off x="231840" y="163476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Kuralı bul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84" name=""/>
                <p:cNvSpPr/>
                <p:nvPr/>
              </p:nvSpPr>
              <p:spPr>
                <a:xfrm>
                  <a:off x="178560" y="163476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5" name=""/>
              <p:cNvGrpSpPr/>
              <p:nvPr/>
            </p:nvGrpSpPr>
            <p:grpSpPr>
              <a:xfrm>
                <a:off x="178560" y="2010240"/>
                <a:ext cx="4025880" cy="375120"/>
                <a:chOff x="178560" y="2010240"/>
                <a:chExt cx="4025880" cy="375120"/>
              </a:xfrm>
            </p:grpSpPr>
            <p:sp>
              <p:nvSpPr>
                <p:cNvPr id="1986" name=""/>
                <p:cNvSpPr/>
                <p:nvPr/>
              </p:nvSpPr>
              <p:spPr>
                <a:xfrm>
                  <a:off x="231840" y="20102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Çift kutulu tüme varım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87" name=""/>
                <p:cNvSpPr/>
                <p:nvPr/>
              </p:nvSpPr>
              <p:spPr>
                <a:xfrm>
                  <a:off x="178560" y="20102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8" name=""/>
              <p:cNvGrpSpPr/>
              <p:nvPr/>
            </p:nvGrpSpPr>
            <p:grpSpPr>
              <a:xfrm>
                <a:off x="178560" y="2385360"/>
                <a:ext cx="4025880" cy="374760"/>
                <a:chOff x="178560" y="2385360"/>
                <a:chExt cx="4025880" cy="374760"/>
              </a:xfrm>
            </p:grpSpPr>
            <p:sp>
              <p:nvSpPr>
                <p:cNvPr id="1989" name=""/>
                <p:cNvSpPr/>
                <p:nvPr/>
              </p:nvSpPr>
              <p:spPr>
                <a:xfrm>
                  <a:off x="231840" y="2385360"/>
                  <a:ext cx="3918960" cy="3747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Grafik yap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0" name=""/>
                <p:cNvSpPr/>
                <p:nvPr/>
              </p:nvSpPr>
              <p:spPr>
                <a:xfrm>
                  <a:off x="178560" y="2385360"/>
                  <a:ext cx="4025880" cy="3747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1" name=""/>
              <p:cNvGrpSpPr/>
              <p:nvPr/>
            </p:nvGrpSpPr>
            <p:grpSpPr>
              <a:xfrm>
                <a:off x="178560" y="2760480"/>
                <a:ext cx="4025880" cy="494280"/>
                <a:chOff x="178560" y="2760480"/>
                <a:chExt cx="4025880" cy="494280"/>
              </a:xfrm>
            </p:grpSpPr>
            <p:sp>
              <p:nvSpPr>
                <p:cNvPr id="1992" name=""/>
                <p:cNvSpPr/>
                <p:nvPr/>
              </p:nvSpPr>
              <p:spPr>
                <a:xfrm>
                  <a:off x="231840" y="2760480"/>
                  <a:ext cx="3918960" cy="494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Problem üretme ve çözme </a:t>
                  </a:r>
                  <a:r>
                    <a:rPr b="1" lang="en-US" sz="1600" spc="-1" strike="noStrike">
                      <a:solidFill>
                        <a:srgbClr val="ffff00"/>
                      </a:solidFill>
                      <a:latin typeface="Comic Sans MS"/>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3" name=""/>
                <p:cNvSpPr/>
                <p:nvPr/>
              </p:nvSpPr>
              <p:spPr>
                <a:xfrm>
                  <a:off x="178560" y="2760480"/>
                  <a:ext cx="4025880" cy="49428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178560" y="3255120"/>
                <a:ext cx="4025880" cy="375120"/>
                <a:chOff x="178560" y="3255120"/>
                <a:chExt cx="4025880" cy="375120"/>
              </a:xfrm>
            </p:grpSpPr>
            <p:sp>
              <p:nvSpPr>
                <p:cNvPr id="1995" name=""/>
                <p:cNvSpPr/>
                <p:nvPr/>
              </p:nvSpPr>
              <p:spPr>
                <a:xfrm>
                  <a:off x="231840" y="325512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Kronolojik sırala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6" name=""/>
                <p:cNvSpPr/>
                <p:nvPr/>
              </p:nvSpPr>
              <p:spPr>
                <a:xfrm>
                  <a:off x="178560" y="325512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7" name=""/>
              <p:cNvGrpSpPr/>
              <p:nvPr/>
            </p:nvGrpSpPr>
            <p:grpSpPr>
              <a:xfrm>
                <a:off x="178560" y="3630240"/>
                <a:ext cx="4025880" cy="375120"/>
                <a:chOff x="178560" y="3630240"/>
                <a:chExt cx="4025880" cy="375120"/>
              </a:xfrm>
            </p:grpSpPr>
            <p:sp>
              <p:nvSpPr>
                <p:cNvPr id="1998" name=""/>
                <p:cNvSpPr/>
                <p:nvPr/>
              </p:nvSpPr>
              <p:spPr>
                <a:xfrm>
                  <a:off x="231840" y="36302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Kanıt yaz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9" name=""/>
                <p:cNvSpPr/>
                <p:nvPr/>
              </p:nvSpPr>
              <p:spPr>
                <a:xfrm>
                  <a:off x="178560" y="36302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0" name=""/>
              <p:cNvGrpSpPr/>
              <p:nvPr/>
            </p:nvGrpSpPr>
            <p:grpSpPr>
              <a:xfrm>
                <a:off x="178560" y="4005720"/>
                <a:ext cx="4025880" cy="375120"/>
                <a:chOff x="178560" y="4005720"/>
                <a:chExt cx="4025880" cy="375120"/>
              </a:xfrm>
            </p:grpSpPr>
            <p:sp>
              <p:nvSpPr>
                <p:cNvPr id="2001" name=""/>
                <p:cNvSpPr/>
                <p:nvPr/>
              </p:nvSpPr>
              <p:spPr>
                <a:xfrm>
                  <a:off x="231840" y="400572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İlişkiler oluştu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2" name=""/>
                <p:cNvSpPr/>
                <p:nvPr/>
              </p:nvSpPr>
              <p:spPr>
                <a:xfrm>
                  <a:off x="178560" y="400572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3" name=""/>
              <p:cNvGrpSpPr/>
              <p:nvPr/>
            </p:nvGrpSpPr>
            <p:grpSpPr>
              <a:xfrm>
                <a:off x="178560" y="4380840"/>
                <a:ext cx="4025880" cy="375120"/>
                <a:chOff x="178560" y="4380840"/>
                <a:chExt cx="4025880" cy="375120"/>
              </a:xfrm>
            </p:grpSpPr>
            <p:sp>
              <p:nvSpPr>
                <p:cNvPr id="2004" name=""/>
                <p:cNvSpPr/>
                <p:nvPr/>
              </p:nvSpPr>
              <p:spPr>
                <a:xfrm>
                  <a:off x="231840" y="43808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Yalanı bul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5" name=""/>
                <p:cNvSpPr/>
                <p:nvPr/>
              </p:nvSpPr>
              <p:spPr>
                <a:xfrm>
                  <a:off x="178560" y="43808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6" name=""/>
              <p:cNvGrpSpPr/>
              <p:nvPr/>
            </p:nvGrpSpPr>
            <p:grpSpPr>
              <a:xfrm>
                <a:off x="178560" y="4756320"/>
                <a:ext cx="4025880" cy="375120"/>
                <a:chOff x="178560" y="4756320"/>
                <a:chExt cx="4025880" cy="375120"/>
              </a:xfrm>
            </p:grpSpPr>
            <p:sp>
              <p:nvSpPr>
                <p:cNvPr id="2007" name=""/>
                <p:cNvSpPr/>
                <p:nvPr/>
              </p:nvSpPr>
              <p:spPr>
                <a:xfrm>
                  <a:off x="231840" y="475632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2. Kör sırala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8" name=""/>
                <p:cNvSpPr/>
                <p:nvPr/>
              </p:nvSpPr>
              <p:spPr>
                <a:xfrm>
                  <a:off x="178560" y="475632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9" name=""/>
              <p:cNvGrpSpPr/>
              <p:nvPr/>
            </p:nvGrpSpPr>
            <p:grpSpPr>
              <a:xfrm>
                <a:off x="178560" y="5131440"/>
                <a:ext cx="4025880" cy="375120"/>
                <a:chOff x="178560" y="5131440"/>
                <a:chExt cx="4025880" cy="375120"/>
              </a:xfrm>
            </p:grpSpPr>
            <p:sp>
              <p:nvSpPr>
                <p:cNvPr id="2010" name=""/>
                <p:cNvSpPr/>
                <p:nvPr/>
              </p:nvSpPr>
              <p:spPr>
                <a:xfrm>
                  <a:off x="231840" y="513144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3. 5N 1K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11" name=""/>
                <p:cNvSpPr/>
                <p:nvPr/>
              </p:nvSpPr>
              <p:spPr>
                <a:xfrm>
                  <a:off x="178560" y="513144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2" name=""/>
              <p:cNvGrpSpPr/>
              <p:nvPr/>
            </p:nvGrpSpPr>
            <p:grpSpPr>
              <a:xfrm>
                <a:off x="178560" y="5506920"/>
                <a:ext cx="4025880" cy="375120"/>
                <a:chOff x="178560" y="5506920"/>
                <a:chExt cx="4025880" cy="375120"/>
              </a:xfrm>
            </p:grpSpPr>
            <p:sp>
              <p:nvSpPr>
                <p:cNvPr id="2013" name=""/>
                <p:cNvSpPr/>
                <p:nvPr/>
              </p:nvSpPr>
              <p:spPr>
                <a:xfrm>
                  <a:off x="231840" y="550692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4. Balık kılçığ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14" name=""/>
                <p:cNvSpPr/>
                <p:nvPr/>
              </p:nvSpPr>
              <p:spPr>
                <a:xfrm>
                  <a:off x="178560" y="550692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5" name=""/>
              <p:cNvGrpSpPr/>
              <p:nvPr/>
            </p:nvGrpSpPr>
            <p:grpSpPr>
              <a:xfrm>
                <a:off x="178560" y="5882040"/>
                <a:ext cx="4025880" cy="494280"/>
                <a:chOff x="178560" y="5882040"/>
                <a:chExt cx="4025880" cy="494280"/>
              </a:xfrm>
            </p:grpSpPr>
            <p:sp>
              <p:nvSpPr>
                <p:cNvPr id="2016" name=""/>
                <p:cNvSpPr/>
                <p:nvPr/>
              </p:nvSpPr>
              <p:spPr>
                <a:xfrm>
                  <a:off x="231840" y="5882040"/>
                  <a:ext cx="3918960" cy="494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5. Hikaye problemi oluşturma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17" name=""/>
                <p:cNvSpPr/>
                <p:nvPr/>
              </p:nvSpPr>
              <p:spPr>
                <a:xfrm>
                  <a:off x="178560" y="5882040"/>
                  <a:ext cx="4025880" cy="49428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8" name=""/>
              <p:cNvGrpSpPr/>
              <p:nvPr/>
            </p:nvGrpSpPr>
            <p:grpSpPr>
              <a:xfrm>
                <a:off x="178560" y="6376320"/>
                <a:ext cx="4025880" cy="375120"/>
                <a:chOff x="178560" y="6376320"/>
                <a:chExt cx="4025880" cy="375120"/>
              </a:xfrm>
            </p:grpSpPr>
            <p:sp>
              <p:nvSpPr>
                <p:cNvPr id="2019" name=""/>
                <p:cNvSpPr/>
                <p:nvPr/>
              </p:nvSpPr>
              <p:spPr>
                <a:xfrm>
                  <a:off x="231840" y="6376320"/>
                  <a:ext cx="3918960" cy="375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6. Talimat yaz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20" name=""/>
                <p:cNvSpPr/>
                <p:nvPr/>
              </p:nvSpPr>
              <p:spPr>
                <a:xfrm>
                  <a:off x="178560" y="6376320"/>
                  <a:ext cx="4025880" cy="375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21" name=""/>
            <p:cNvSpPr/>
            <p:nvPr/>
          </p:nvSpPr>
          <p:spPr>
            <a:xfrm>
              <a:off x="173160" y="506520"/>
              <a:ext cx="4038120" cy="624816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22" name=""/>
          <p:cNvSpPr/>
          <p:nvPr/>
        </p:nvSpPr>
        <p:spPr>
          <a:xfrm>
            <a:off x="4873680" y="16668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BEDENSEL KİNESTETİK ZEKA</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2023" name=""/>
          <p:cNvGrpSpPr/>
          <p:nvPr/>
        </p:nvGrpSpPr>
        <p:grpSpPr>
          <a:xfrm>
            <a:off x="4800600" y="700200"/>
            <a:ext cx="3962160" cy="5852880"/>
            <a:chOff x="4800600" y="700200"/>
            <a:chExt cx="3962160" cy="5852880"/>
          </a:xfrm>
        </p:grpSpPr>
        <p:grpSp>
          <p:nvGrpSpPr>
            <p:cNvPr id="2024" name=""/>
            <p:cNvGrpSpPr/>
            <p:nvPr/>
          </p:nvGrpSpPr>
          <p:grpSpPr>
            <a:xfrm>
              <a:off x="4806000" y="703800"/>
              <a:ext cx="3949920" cy="5845320"/>
              <a:chOff x="4806000" y="703800"/>
              <a:chExt cx="3949920" cy="5845320"/>
            </a:xfrm>
          </p:grpSpPr>
          <p:grpSp>
            <p:nvGrpSpPr>
              <p:cNvPr id="2025" name=""/>
              <p:cNvGrpSpPr/>
              <p:nvPr/>
            </p:nvGrpSpPr>
            <p:grpSpPr>
              <a:xfrm>
                <a:off x="4806000" y="703800"/>
                <a:ext cx="3949920" cy="516240"/>
                <a:chOff x="4806000" y="703800"/>
                <a:chExt cx="3949920" cy="516240"/>
              </a:xfrm>
            </p:grpSpPr>
            <p:sp>
              <p:nvSpPr>
                <p:cNvPr id="2026" name=""/>
                <p:cNvSpPr/>
                <p:nvPr/>
              </p:nvSpPr>
              <p:spPr>
                <a:xfrm>
                  <a:off x="4858200" y="70380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Vücut grafiği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27" name=""/>
                <p:cNvSpPr/>
                <p:nvPr/>
              </p:nvSpPr>
              <p:spPr>
                <a:xfrm>
                  <a:off x="4806000" y="70380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8" name=""/>
              <p:cNvGrpSpPr/>
              <p:nvPr/>
            </p:nvGrpSpPr>
            <p:grpSpPr>
              <a:xfrm>
                <a:off x="4806000" y="1220040"/>
                <a:ext cx="3949920" cy="516240"/>
                <a:chOff x="4806000" y="1220040"/>
                <a:chExt cx="3949920" cy="516240"/>
              </a:xfrm>
            </p:grpSpPr>
            <p:sp>
              <p:nvSpPr>
                <p:cNvPr id="2029" name=""/>
                <p:cNvSpPr/>
                <p:nvPr/>
              </p:nvSpPr>
              <p:spPr>
                <a:xfrm>
                  <a:off x="4858200" y="122004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Nesneyi tan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30" name=""/>
                <p:cNvSpPr/>
                <p:nvPr/>
              </p:nvSpPr>
              <p:spPr>
                <a:xfrm>
                  <a:off x="4806000" y="122004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1" name=""/>
              <p:cNvGrpSpPr/>
              <p:nvPr/>
            </p:nvGrpSpPr>
            <p:grpSpPr>
              <a:xfrm>
                <a:off x="4806000" y="1736640"/>
                <a:ext cx="3949920" cy="516240"/>
                <a:chOff x="4806000" y="1736640"/>
                <a:chExt cx="3949920" cy="516240"/>
              </a:xfrm>
            </p:grpSpPr>
            <p:sp>
              <p:nvSpPr>
                <p:cNvPr id="2032" name=""/>
                <p:cNvSpPr/>
                <p:nvPr/>
              </p:nvSpPr>
              <p:spPr>
                <a:xfrm>
                  <a:off x="4858200" y="173664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Mimle canlandı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33" name=""/>
                <p:cNvSpPr/>
                <p:nvPr/>
              </p:nvSpPr>
              <p:spPr>
                <a:xfrm>
                  <a:off x="4806000" y="173664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4" name=""/>
              <p:cNvGrpSpPr/>
              <p:nvPr/>
            </p:nvGrpSpPr>
            <p:grpSpPr>
              <a:xfrm>
                <a:off x="4806000" y="2253240"/>
                <a:ext cx="3949920" cy="516240"/>
                <a:chOff x="4806000" y="2253240"/>
                <a:chExt cx="3949920" cy="516240"/>
              </a:xfrm>
            </p:grpSpPr>
            <p:sp>
              <p:nvSpPr>
                <p:cNvPr id="2035" name=""/>
                <p:cNvSpPr/>
                <p:nvPr/>
              </p:nvSpPr>
              <p:spPr>
                <a:xfrm>
                  <a:off x="4858200" y="225324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Rol canlandı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36" name=""/>
                <p:cNvSpPr/>
                <p:nvPr/>
              </p:nvSpPr>
              <p:spPr>
                <a:xfrm>
                  <a:off x="4806000" y="225324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7" name=""/>
              <p:cNvGrpSpPr/>
              <p:nvPr/>
            </p:nvGrpSpPr>
            <p:grpSpPr>
              <a:xfrm>
                <a:off x="4806000" y="2769840"/>
                <a:ext cx="3949920" cy="516240"/>
                <a:chOff x="4806000" y="2769840"/>
                <a:chExt cx="3949920" cy="516240"/>
              </a:xfrm>
            </p:grpSpPr>
            <p:sp>
              <p:nvSpPr>
                <p:cNvPr id="2038" name=""/>
                <p:cNvSpPr/>
                <p:nvPr/>
              </p:nvSpPr>
              <p:spPr>
                <a:xfrm>
                  <a:off x="4858200" y="276984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Kesme, yapıştı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39" name=""/>
                <p:cNvSpPr/>
                <p:nvPr/>
              </p:nvSpPr>
              <p:spPr>
                <a:xfrm>
                  <a:off x="4806000" y="276984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0" name=""/>
              <p:cNvGrpSpPr/>
              <p:nvPr/>
            </p:nvGrpSpPr>
            <p:grpSpPr>
              <a:xfrm>
                <a:off x="4806000" y="3286440"/>
                <a:ext cx="3949920" cy="516240"/>
                <a:chOff x="4806000" y="3286440"/>
                <a:chExt cx="3949920" cy="516240"/>
              </a:xfrm>
            </p:grpSpPr>
            <p:sp>
              <p:nvSpPr>
                <p:cNvPr id="2041" name=""/>
                <p:cNvSpPr/>
                <p:nvPr/>
              </p:nvSpPr>
              <p:spPr>
                <a:xfrm>
                  <a:off x="4858200" y="328644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Deney yap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42" name=""/>
                <p:cNvSpPr/>
                <p:nvPr/>
              </p:nvSpPr>
              <p:spPr>
                <a:xfrm>
                  <a:off x="4806000" y="328644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3" name=""/>
              <p:cNvGrpSpPr/>
              <p:nvPr/>
            </p:nvGrpSpPr>
            <p:grpSpPr>
              <a:xfrm>
                <a:off x="4806000" y="3802680"/>
                <a:ext cx="3949920" cy="516240"/>
                <a:chOff x="4806000" y="3802680"/>
                <a:chExt cx="3949920" cy="516240"/>
              </a:xfrm>
            </p:grpSpPr>
            <p:sp>
              <p:nvSpPr>
                <p:cNvPr id="2044" name=""/>
                <p:cNvSpPr/>
                <p:nvPr/>
              </p:nvSpPr>
              <p:spPr>
                <a:xfrm>
                  <a:off x="4858200" y="380268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İşaret dili kullan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45" name=""/>
                <p:cNvSpPr/>
                <p:nvPr/>
              </p:nvSpPr>
              <p:spPr>
                <a:xfrm>
                  <a:off x="4806000" y="380268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6" name=""/>
              <p:cNvGrpSpPr/>
              <p:nvPr/>
            </p:nvGrpSpPr>
            <p:grpSpPr>
              <a:xfrm>
                <a:off x="4806000" y="4319280"/>
                <a:ext cx="3949920" cy="516240"/>
                <a:chOff x="4806000" y="4319280"/>
                <a:chExt cx="3949920" cy="516240"/>
              </a:xfrm>
            </p:grpSpPr>
            <p:sp>
              <p:nvSpPr>
                <p:cNvPr id="2047" name=""/>
                <p:cNvSpPr/>
                <p:nvPr/>
              </p:nvSpPr>
              <p:spPr>
                <a:xfrm>
                  <a:off x="4858200" y="431928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Oyun hamuru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48" name=""/>
                <p:cNvSpPr/>
                <p:nvPr/>
              </p:nvSpPr>
              <p:spPr>
                <a:xfrm>
                  <a:off x="4806000" y="431928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9" name=""/>
              <p:cNvGrpSpPr/>
              <p:nvPr/>
            </p:nvGrpSpPr>
            <p:grpSpPr>
              <a:xfrm>
                <a:off x="4806000" y="4835880"/>
                <a:ext cx="3949920" cy="516240"/>
                <a:chOff x="4806000" y="4835880"/>
                <a:chExt cx="3949920" cy="516240"/>
              </a:xfrm>
            </p:grpSpPr>
            <p:sp>
              <p:nvSpPr>
                <p:cNvPr id="2050" name=""/>
                <p:cNvSpPr/>
                <p:nvPr/>
              </p:nvSpPr>
              <p:spPr>
                <a:xfrm>
                  <a:off x="4858200" y="483588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9. Yap-boz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51" name=""/>
                <p:cNvSpPr/>
                <p:nvPr/>
              </p:nvSpPr>
              <p:spPr>
                <a:xfrm>
                  <a:off x="4806000" y="483588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2" name=""/>
              <p:cNvGrpSpPr/>
              <p:nvPr/>
            </p:nvGrpSpPr>
            <p:grpSpPr>
              <a:xfrm>
                <a:off x="4806000" y="5352120"/>
                <a:ext cx="3949920" cy="516240"/>
                <a:chOff x="4806000" y="5352120"/>
                <a:chExt cx="3949920" cy="516240"/>
              </a:xfrm>
            </p:grpSpPr>
            <p:sp>
              <p:nvSpPr>
                <p:cNvPr id="2053" name=""/>
                <p:cNvSpPr/>
                <p:nvPr/>
              </p:nvSpPr>
              <p:spPr>
                <a:xfrm>
                  <a:off x="4858200" y="5352120"/>
                  <a:ext cx="3845160" cy="516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Kukl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54" name=""/>
                <p:cNvSpPr/>
                <p:nvPr/>
              </p:nvSpPr>
              <p:spPr>
                <a:xfrm>
                  <a:off x="4806000" y="5352120"/>
                  <a:ext cx="3949920" cy="516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5" name=""/>
              <p:cNvGrpSpPr/>
              <p:nvPr/>
            </p:nvGrpSpPr>
            <p:grpSpPr>
              <a:xfrm>
                <a:off x="4806000" y="5868720"/>
                <a:ext cx="3949920" cy="680400"/>
                <a:chOff x="4806000" y="5868720"/>
                <a:chExt cx="3949920" cy="680400"/>
              </a:xfrm>
            </p:grpSpPr>
            <p:sp>
              <p:nvSpPr>
                <p:cNvPr id="2056" name=""/>
                <p:cNvSpPr/>
                <p:nvPr/>
              </p:nvSpPr>
              <p:spPr>
                <a:xfrm>
                  <a:off x="4858200" y="5868720"/>
                  <a:ext cx="3845160" cy="6804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1. Farklı mekanda ders yapma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57" name=""/>
                <p:cNvSpPr/>
                <p:nvPr/>
              </p:nvSpPr>
              <p:spPr>
                <a:xfrm>
                  <a:off x="4806000" y="5868720"/>
                  <a:ext cx="3949920" cy="6804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58" name=""/>
            <p:cNvSpPr/>
            <p:nvPr/>
          </p:nvSpPr>
          <p:spPr>
            <a:xfrm>
              <a:off x="4800600" y="700200"/>
              <a:ext cx="3962160" cy="585288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
          <p:cNvSpPr/>
          <p:nvPr/>
        </p:nvSpPr>
        <p:spPr>
          <a:xfrm>
            <a:off x="0" y="0"/>
            <a:ext cx="9144000" cy="68580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PlaceHolder 1"/>
          <p:cNvSpPr>
            <a:spLocks noGrp="1"/>
          </p:cNvSpPr>
          <p:nvPr>
            <p:ph type="title"/>
          </p:nvPr>
        </p:nvSpPr>
        <p:spPr>
          <a:xfrm>
            <a:off x="380880" y="304560"/>
            <a:ext cx="38102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Comic Sans MS"/>
                <a:ea typeface="Times New Roman"/>
              </a:rPr>
              <a:t>MÜZİKSEL-RİTMİK ZEKA</a:t>
            </a:r>
            <a:r>
              <a:rPr b="1" lang="en-US" sz="4400" spc="-1" strike="noStrike">
                <a:solidFill>
                  <a:srgbClr val="ffff00"/>
                </a:solidFill>
                <a:latin typeface="Arial"/>
              </a:rPr>
              <a:t> </a:t>
            </a:r>
            <a:endParaRPr b="0" lang="en-US" sz="4400" spc="-1" strike="noStrike">
              <a:solidFill>
                <a:srgbClr val="b7e7ff"/>
              </a:solidFill>
              <a:latin typeface="Arial"/>
            </a:endParaRPr>
          </a:p>
        </p:txBody>
      </p:sp>
      <p:grpSp>
        <p:nvGrpSpPr>
          <p:cNvPr id="2061" name=""/>
          <p:cNvGrpSpPr/>
          <p:nvPr/>
        </p:nvGrpSpPr>
        <p:grpSpPr>
          <a:xfrm>
            <a:off x="304920" y="1079640"/>
            <a:ext cx="3885840" cy="4698720"/>
            <a:chOff x="304920" y="1079640"/>
            <a:chExt cx="3885840" cy="4698720"/>
          </a:xfrm>
        </p:grpSpPr>
        <p:grpSp>
          <p:nvGrpSpPr>
            <p:cNvPr id="2062" name=""/>
            <p:cNvGrpSpPr/>
            <p:nvPr/>
          </p:nvGrpSpPr>
          <p:grpSpPr>
            <a:xfrm>
              <a:off x="310320" y="1083960"/>
              <a:ext cx="3873960" cy="4688640"/>
              <a:chOff x="310320" y="1083960"/>
              <a:chExt cx="3873960" cy="4688640"/>
            </a:xfrm>
          </p:grpSpPr>
          <p:grpSp>
            <p:nvGrpSpPr>
              <p:cNvPr id="2063" name=""/>
              <p:cNvGrpSpPr/>
              <p:nvPr/>
            </p:nvGrpSpPr>
            <p:grpSpPr>
              <a:xfrm>
                <a:off x="310320" y="1083960"/>
                <a:ext cx="3873960" cy="669600"/>
                <a:chOff x="310320" y="1083960"/>
                <a:chExt cx="3873960" cy="669600"/>
              </a:xfrm>
            </p:grpSpPr>
            <p:sp>
              <p:nvSpPr>
                <p:cNvPr id="2064" name=""/>
                <p:cNvSpPr/>
                <p:nvPr/>
              </p:nvSpPr>
              <p:spPr>
                <a:xfrm>
                  <a:off x="361440" y="108396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Ritimlerle ilişkilendir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65" name=""/>
                <p:cNvSpPr/>
                <p:nvPr/>
              </p:nvSpPr>
              <p:spPr>
                <a:xfrm>
                  <a:off x="310320" y="108396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6" name=""/>
              <p:cNvGrpSpPr/>
              <p:nvPr/>
            </p:nvGrpSpPr>
            <p:grpSpPr>
              <a:xfrm>
                <a:off x="310320" y="1753560"/>
                <a:ext cx="3873960" cy="669600"/>
                <a:chOff x="310320" y="1753560"/>
                <a:chExt cx="3873960" cy="669600"/>
              </a:xfrm>
            </p:grpSpPr>
            <p:sp>
              <p:nvSpPr>
                <p:cNvPr id="2067" name=""/>
                <p:cNvSpPr/>
                <p:nvPr/>
              </p:nvSpPr>
              <p:spPr>
                <a:xfrm>
                  <a:off x="361440" y="175356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Ritimle tanı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68" name=""/>
                <p:cNvSpPr/>
                <p:nvPr/>
              </p:nvSpPr>
              <p:spPr>
                <a:xfrm>
                  <a:off x="310320" y="175356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9" name=""/>
              <p:cNvGrpSpPr/>
              <p:nvPr/>
            </p:nvGrpSpPr>
            <p:grpSpPr>
              <a:xfrm>
                <a:off x="310320" y="2423520"/>
                <a:ext cx="3873960" cy="669600"/>
                <a:chOff x="310320" y="2423520"/>
                <a:chExt cx="3873960" cy="669600"/>
              </a:xfrm>
            </p:grpSpPr>
            <p:sp>
              <p:nvSpPr>
                <p:cNvPr id="2070" name=""/>
                <p:cNvSpPr/>
                <p:nvPr/>
              </p:nvSpPr>
              <p:spPr>
                <a:xfrm>
                  <a:off x="361440" y="242352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 Bestele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71" name=""/>
                <p:cNvSpPr/>
                <p:nvPr/>
              </p:nvSpPr>
              <p:spPr>
                <a:xfrm>
                  <a:off x="310320" y="242352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2" name=""/>
              <p:cNvGrpSpPr/>
              <p:nvPr/>
            </p:nvGrpSpPr>
            <p:grpSpPr>
              <a:xfrm>
                <a:off x="310320" y="3093480"/>
                <a:ext cx="3873960" cy="669600"/>
                <a:chOff x="310320" y="3093480"/>
                <a:chExt cx="3873960" cy="669600"/>
              </a:xfrm>
            </p:grpSpPr>
            <p:sp>
              <p:nvSpPr>
                <p:cNvPr id="2073" name=""/>
                <p:cNvSpPr/>
                <p:nvPr/>
              </p:nvSpPr>
              <p:spPr>
                <a:xfrm>
                  <a:off x="361440" y="309348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Efekt oluştu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74" name=""/>
                <p:cNvSpPr/>
                <p:nvPr/>
              </p:nvSpPr>
              <p:spPr>
                <a:xfrm>
                  <a:off x="310320" y="309348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5" name=""/>
              <p:cNvGrpSpPr/>
              <p:nvPr/>
            </p:nvGrpSpPr>
            <p:grpSpPr>
              <a:xfrm>
                <a:off x="310320" y="3763440"/>
                <a:ext cx="3873960" cy="669600"/>
                <a:chOff x="310320" y="3763440"/>
                <a:chExt cx="3873960" cy="669600"/>
              </a:xfrm>
            </p:grpSpPr>
            <p:sp>
              <p:nvSpPr>
                <p:cNvPr id="2076" name=""/>
                <p:cNvSpPr/>
                <p:nvPr/>
              </p:nvSpPr>
              <p:spPr>
                <a:xfrm>
                  <a:off x="361440" y="376344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Konuyla ilgili şarkı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77" name=""/>
                <p:cNvSpPr/>
                <p:nvPr/>
              </p:nvSpPr>
              <p:spPr>
                <a:xfrm>
                  <a:off x="310320" y="376344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8" name=""/>
              <p:cNvGrpSpPr/>
              <p:nvPr/>
            </p:nvGrpSpPr>
            <p:grpSpPr>
              <a:xfrm>
                <a:off x="310320" y="4433400"/>
                <a:ext cx="3873960" cy="669240"/>
                <a:chOff x="310320" y="4433400"/>
                <a:chExt cx="3873960" cy="669240"/>
              </a:xfrm>
            </p:grpSpPr>
            <p:sp>
              <p:nvSpPr>
                <p:cNvPr id="2079" name=""/>
                <p:cNvSpPr/>
                <p:nvPr/>
              </p:nvSpPr>
              <p:spPr>
                <a:xfrm>
                  <a:off x="361440" y="4433400"/>
                  <a:ext cx="3771000" cy="669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Efekt dinle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0" name=""/>
                <p:cNvSpPr/>
                <p:nvPr/>
              </p:nvSpPr>
              <p:spPr>
                <a:xfrm>
                  <a:off x="310320" y="4433400"/>
                  <a:ext cx="3873960" cy="669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1" name=""/>
              <p:cNvGrpSpPr/>
              <p:nvPr/>
            </p:nvGrpSpPr>
            <p:grpSpPr>
              <a:xfrm>
                <a:off x="310320" y="5103000"/>
                <a:ext cx="3873960" cy="669600"/>
                <a:chOff x="310320" y="5103000"/>
                <a:chExt cx="3873960" cy="669600"/>
              </a:xfrm>
            </p:grpSpPr>
            <p:sp>
              <p:nvSpPr>
                <p:cNvPr id="2082" name=""/>
                <p:cNvSpPr/>
                <p:nvPr/>
              </p:nvSpPr>
              <p:spPr>
                <a:xfrm>
                  <a:off x="361440" y="5103000"/>
                  <a:ext cx="3771000" cy="6696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Fon müziği kullan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3" name=""/>
                <p:cNvSpPr/>
                <p:nvPr/>
              </p:nvSpPr>
              <p:spPr>
                <a:xfrm>
                  <a:off x="310320" y="5103000"/>
                  <a:ext cx="3873960" cy="6696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84" name=""/>
            <p:cNvSpPr/>
            <p:nvPr/>
          </p:nvSpPr>
          <p:spPr>
            <a:xfrm>
              <a:off x="304920" y="1079640"/>
              <a:ext cx="3885840" cy="469872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85" name=""/>
          <p:cNvSpPr/>
          <p:nvPr/>
        </p:nvSpPr>
        <p:spPr>
          <a:xfrm>
            <a:off x="5029200" y="45720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Times New Roman"/>
              </a:rPr>
              <a:t>DOĞA ZEKASI</a:t>
            </a:r>
            <a:r>
              <a:rPr b="1" lang="en-US" sz="1800" spc="-1" strike="noStrike">
                <a:solidFill>
                  <a:srgbClr val="ffff00"/>
                </a:solidFill>
                <a:latin typeface="Comic Sans MS"/>
              </a:rPr>
              <a:t> </a:t>
            </a:r>
            <a:endParaRPr b="0" lang="en-US" sz="1800" spc="-1" strike="noStrike">
              <a:solidFill>
                <a:srgbClr val="ffffff"/>
              </a:solidFill>
              <a:latin typeface="Times New Roman"/>
            </a:endParaRPr>
          </a:p>
        </p:txBody>
      </p:sp>
      <p:grpSp>
        <p:nvGrpSpPr>
          <p:cNvPr id="2086" name=""/>
          <p:cNvGrpSpPr/>
          <p:nvPr/>
        </p:nvGrpSpPr>
        <p:grpSpPr>
          <a:xfrm>
            <a:off x="4876920" y="1066680"/>
            <a:ext cx="3809520" cy="5486400"/>
            <a:chOff x="4876920" y="1066680"/>
            <a:chExt cx="3809520" cy="5486400"/>
          </a:xfrm>
        </p:grpSpPr>
        <p:grpSp>
          <p:nvGrpSpPr>
            <p:cNvPr id="2087" name=""/>
            <p:cNvGrpSpPr/>
            <p:nvPr/>
          </p:nvGrpSpPr>
          <p:grpSpPr>
            <a:xfrm>
              <a:off x="4881960" y="1070280"/>
              <a:ext cx="3798000" cy="5478840"/>
              <a:chOff x="4881960" y="1070280"/>
              <a:chExt cx="3798000" cy="5478840"/>
            </a:xfrm>
          </p:grpSpPr>
          <p:grpSp>
            <p:nvGrpSpPr>
              <p:cNvPr id="2088" name=""/>
              <p:cNvGrpSpPr/>
              <p:nvPr/>
            </p:nvGrpSpPr>
            <p:grpSpPr>
              <a:xfrm>
                <a:off x="4881960" y="1070280"/>
                <a:ext cx="3798000" cy="531000"/>
                <a:chOff x="4881960" y="1070280"/>
                <a:chExt cx="3798000" cy="531000"/>
              </a:xfrm>
            </p:grpSpPr>
            <p:sp>
              <p:nvSpPr>
                <p:cNvPr id="2089" name=""/>
                <p:cNvSpPr/>
                <p:nvPr/>
              </p:nvSpPr>
              <p:spPr>
                <a:xfrm>
                  <a:off x="4932360" y="107028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 Kategorilere ayır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90" name=""/>
                <p:cNvSpPr/>
                <p:nvPr/>
              </p:nvSpPr>
              <p:spPr>
                <a:xfrm>
                  <a:off x="4881960" y="107028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1" name=""/>
              <p:cNvGrpSpPr/>
              <p:nvPr/>
            </p:nvGrpSpPr>
            <p:grpSpPr>
              <a:xfrm>
                <a:off x="4881960" y="1601280"/>
                <a:ext cx="3798000" cy="531000"/>
                <a:chOff x="4881960" y="1601280"/>
                <a:chExt cx="3798000" cy="531000"/>
              </a:xfrm>
            </p:grpSpPr>
            <p:sp>
              <p:nvSpPr>
                <p:cNvPr id="2092" name=""/>
                <p:cNvSpPr/>
                <p:nvPr/>
              </p:nvSpPr>
              <p:spPr>
                <a:xfrm>
                  <a:off x="4932360" y="160128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2. Matris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93" name=""/>
                <p:cNvSpPr/>
                <p:nvPr/>
              </p:nvSpPr>
              <p:spPr>
                <a:xfrm>
                  <a:off x="4881960" y="160128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4" name=""/>
              <p:cNvGrpSpPr/>
              <p:nvPr/>
            </p:nvGrpSpPr>
            <p:grpSpPr>
              <a:xfrm>
                <a:off x="4881960" y="2132280"/>
                <a:ext cx="3798000" cy="531000"/>
                <a:chOff x="4881960" y="2132280"/>
                <a:chExt cx="3798000" cy="531000"/>
              </a:xfrm>
            </p:grpSpPr>
            <p:sp>
              <p:nvSpPr>
                <p:cNvPr id="2095" name=""/>
                <p:cNvSpPr/>
                <p:nvPr/>
              </p:nvSpPr>
              <p:spPr>
                <a:xfrm>
                  <a:off x="4932360" y="213228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3.</a:t>
                  </a:r>
                  <a:r>
                    <a:rPr b="1" lang="en-US" sz="1600" spc="-1" strike="noStrike">
                      <a:solidFill>
                        <a:srgbClr val="ffff00"/>
                      </a:solidFill>
                      <a:latin typeface="Comic Sans MS"/>
                    </a:rPr>
                    <a:t> </a:t>
                  </a:r>
                  <a:r>
                    <a:rPr b="1" lang="en-US" sz="1600" spc="-1" strike="noStrike">
                      <a:solidFill>
                        <a:srgbClr val="ffff00"/>
                      </a:solidFill>
                      <a:latin typeface="Comic Sans MS"/>
                      <a:ea typeface="Times New Roman"/>
                    </a:rPr>
                    <a:t>Hat düzeninde kategori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96" name=""/>
                <p:cNvSpPr/>
                <p:nvPr/>
              </p:nvSpPr>
              <p:spPr>
                <a:xfrm>
                  <a:off x="4881960" y="213228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7" name=""/>
              <p:cNvGrpSpPr/>
              <p:nvPr/>
            </p:nvGrpSpPr>
            <p:grpSpPr>
              <a:xfrm>
                <a:off x="4881960" y="2663280"/>
                <a:ext cx="3798000" cy="531000"/>
                <a:chOff x="4881960" y="2663280"/>
                <a:chExt cx="3798000" cy="531000"/>
              </a:xfrm>
            </p:grpSpPr>
            <p:sp>
              <p:nvSpPr>
                <p:cNvPr id="2098" name=""/>
                <p:cNvSpPr/>
                <p:nvPr/>
              </p:nvSpPr>
              <p:spPr>
                <a:xfrm>
                  <a:off x="4932360" y="266328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4. Özellik yaz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99" name=""/>
                <p:cNvSpPr/>
                <p:nvPr/>
              </p:nvSpPr>
              <p:spPr>
                <a:xfrm>
                  <a:off x="4881960" y="266328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0" name=""/>
              <p:cNvGrpSpPr/>
              <p:nvPr/>
            </p:nvGrpSpPr>
            <p:grpSpPr>
              <a:xfrm>
                <a:off x="4881960" y="3194280"/>
                <a:ext cx="3798000" cy="699120"/>
                <a:chOff x="4881960" y="3194280"/>
                <a:chExt cx="3798000" cy="699120"/>
              </a:xfrm>
            </p:grpSpPr>
            <p:sp>
              <p:nvSpPr>
                <p:cNvPr id="2101" name=""/>
                <p:cNvSpPr/>
                <p:nvPr/>
              </p:nvSpPr>
              <p:spPr>
                <a:xfrm>
                  <a:off x="4932360" y="3194280"/>
                  <a:ext cx="3697200" cy="6991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5. Gezi-gözlem sonuçlarını yazma </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    </a:t>
                  </a:r>
                  <a:r>
                    <a:rPr b="1" lang="en-US" sz="1600" spc="-1" strike="noStrike">
                      <a:solidFill>
                        <a:srgbClr val="ffff00"/>
                      </a:solidFill>
                      <a:latin typeface="Comic Sans MS"/>
                      <a:ea typeface="Times New Roman"/>
                    </a:rPr>
                    <a:t>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02" name=""/>
                <p:cNvSpPr/>
                <p:nvPr/>
              </p:nvSpPr>
              <p:spPr>
                <a:xfrm>
                  <a:off x="4881960" y="3194280"/>
                  <a:ext cx="3798000" cy="6991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3" name=""/>
              <p:cNvGrpSpPr/>
              <p:nvPr/>
            </p:nvGrpSpPr>
            <p:grpSpPr>
              <a:xfrm>
                <a:off x="4881960" y="3893760"/>
                <a:ext cx="3798000" cy="531000"/>
                <a:chOff x="4881960" y="3893760"/>
                <a:chExt cx="3798000" cy="531000"/>
              </a:xfrm>
            </p:grpSpPr>
            <p:sp>
              <p:nvSpPr>
                <p:cNvPr id="2104" name=""/>
                <p:cNvSpPr/>
                <p:nvPr/>
              </p:nvSpPr>
              <p:spPr>
                <a:xfrm>
                  <a:off x="4932360" y="389376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6. Koleksiyon hazırlama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05" name=""/>
                <p:cNvSpPr/>
                <p:nvPr/>
              </p:nvSpPr>
              <p:spPr>
                <a:xfrm>
                  <a:off x="4881960" y="389376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6" name=""/>
              <p:cNvGrpSpPr/>
              <p:nvPr/>
            </p:nvGrpSpPr>
            <p:grpSpPr>
              <a:xfrm>
                <a:off x="4881960" y="4424760"/>
                <a:ext cx="3798000" cy="531000"/>
                <a:chOff x="4881960" y="4424760"/>
                <a:chExt cx="3798000" cy="531000"/>
              </a:xfrm>
            </p:grpSpPr>
            <p:sp>
              <p:nvSpPr>
                <p:cNvPr id="2107" name=""/>
                <p:cNvSpPr/>
                <p:nvPr/>
              </p:nvSpPr>
              <p:spPr>
                <a:xfrm>
                  <a:off x="4932360" y="442476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7. Doğa ile ilişkilendir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08" name=""/>
                <p:cNvSpPr/>
                <p:nvPr/>
              </p:nvSpPr>
              <p:spPr>
                <a:xfrm>
                  <a:off x="4881960" y="442476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9" name=""/>
              <p:cNvGrpSpPr/>
              <p:nvPr/>
            </p:nvGrpSpPr>
            <p:grpSpPr>
              <a:xfrm>
                <a:off x="4881960" y="4955760"/>
                <a:ext cx="3798000" cy="531000"/>
                <a:chOff x="4881960" y="4955760"/>
                <a:chExt cx="3798000" cy="531000"/>
              </a:xfrm>
            </p:grpSpPr>
            <p:sp>
              <p:nvSpPr>
                <p:cNvPr id="2110" name=""/>
                <p:cNvSpPr/>
                <p:nvPr/>
              </p:nvSpPr>
              <p:spPr>
                <a:xfrm>
                  <a:off x="4932360" y="495576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8. Dinle-yaz-tartış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1" name=""/>
                <p:cNvSpPr/>
                <p:nvPr/>
              </p:nvSpPr>
              <p:spPr>
                <a:xfrm>
                  <a:off x="4881960" y="495576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12" name=""/>
              <p:cNvGrpSpPr/>
              <p:nvPr/>
            </p:nvGrpSpPr>
            <p:grpSpPr>
              <a:xfrm>
                <a:off x="4881960" y="5486760"/>
                <a:ext cx="3798000" cy="531000"/>
                <a:chOff x="4881960" y="5486760"/>
                <a:chExt cx="3798000" cy="531000"/>
              </a:xfrm>
            </p:grpSpPr>
            <p:sp>
              <p:nvSpPr>
                <p:cNvPr id="2113" name=""/>
                <p:cNvSpPr/>
                <p:nvPr/>
              </p:nvSpPr>
              <p:spPr>
                <a:xfrm>
                  <a:off x="4932360" y="548676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00"/>
                      </a:solidFill>
                      <a:latin typeface="Comic Sans MS"/>
                      <a:ea typeface="Times New Roman"/>
                    </a:rPr>
                    <a:t>9. Grid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4" name=""/>
                <p:cNvSpPr/>
                <p:nvPr/>
              </p:nvSpPr>
              <p:spPr>
                <a:xfrm>
                  <a:off x="4881960" y="548676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15" name=""/>
              <p:cNvGrpSpPr/>
              <p:nvPr/>
            </p:nvGrpSpPr>
            <p:grpSpPr>
              <a:xfrm>
                <a:off x="4881960" y="6018120"/>
                <a:ext cx="3798000" cy="531000"/>
                <a:chOff x="4881960" y="6018120"/>
                <a:chExt cx="3798000" cy="531000"/>
              </a:xfrm>
            </p:grpSpPr>
            <p:sp>
              <p:nvSpPr>
                <p:cNvPr id="2116" name=""/>
                <p:cNvSpPr/>
                <p:nvPr/>
              </p:nvSpPr>
              <p:spPr>
                <a:xfrm>
                  <a:off x="4932360" y="6018120"/>
                  <a:ext cx="3697200" cy="53100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ea typeface="Times New Roman"/>
                    </a:rPr>
                    <a:t>10. Kümeleme çalışması</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7" name=""/>
                <p:cNvSpPr/>
                <p:nvPr/>
              </p:nvSpPr>
              <p:spPr>
                <a:xfrm>
                  <a:off x="4881960" y="6018120"/>
                  <a:ext cx="3798000" cy="5310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18" name=""/>
            <p:cNvSpPr/>
            <p:nvPr/>
          </p:nvSpPr>
          <p:spPr>
            <a:xfrm>
              <a:off x="4876920" y="1066680"/>
              <a:ext cx="3809520" cy="5486400"/>
            </a:xfrm>
            <a:prstGeom prst="rect">
              <a:avLst/>
            </a:prstGeom>
            <a:no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9" name=""/>
          <p:cNvSpPr/>
          <p:nvPr/>
        </p:nvSpPr>
        <p:spPr>
          <a:xfrm>
            <a:off x="228600" y="228600"/>
            <a:ext cx="8534520" cy="624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ÖRNEK İŞLENİŞ</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u:</a:t>
            </a:r>
            <a:r>
              <a:rPr b="0" lang="en-US" sz="1600" spc="-1" strike="noStrike">
                <a:solidFill>
                  <a:srgbClr val="0000a4"/>
                </a:solidFill>
                <a:latin typeface="Comic Sans MS"/>
              </a:rPr>
              <a:t> Kare Prizm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Süre:</a:t>
            </a:r>
            <a:r>
              <a:rPr b="0" lang="en-US" sz="1600" spc="-1" strike="noStrike">
                <a:solidFill>
                  <a:srgbClr val="0000a4"/>
                </a:solidFill>
                <a:latin typeface="Comic Sans MS"/>
              </a:rPr>
              <a:t> 1 ders saat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Yöntem ve teknikler:</a:t>
            </a:r>
            <a:r>
              <a:rPr b="0" lang="en-US" sz="1600" spc="-1" strike="noStrike">
                <a:solidFill>
                  <a:srgbClr val="0000a4"/>
                </a:solidFill>
                <a:latin typeface="Comic Sans MS"/>
              </a:rPr>
              <a:t> Anlatım, soru – cevap, göster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Araçlar ve gereçler:</a:t>
            </a:r>
            <a:r>
              <a:rPr b="0" lang="en-US" sz="1600" spc="-1" strike="noStrike">
                <a:solidFill>
                  <a:srgbClr val="0000a4"/>
                </a:solidFill>
                <a:latin typeface="Comic Sans MS"/>
              </a:rPr>
              <a:t> Kibrit kutusu, deterjan kutusu, zeytinyağı tenekesi, kare prizma model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Hedef 2</a:t>
            </a:r>
            <a:r>
              <a:rPr b="0" lang="en-US" sz="1600" spc="-1" strike="noStrike">
                <a:solidFill>
                  <a:srgbClr val="0000a4"/>
                </a:solidFill>
                <a:latin typeface="Comic Sans MS"/>
              </a:rPr>
              <a:t>: Küpün, prizmanın, silindirin ve kürenin özelliklerini kavrayabil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Davranışlar:</a:t>
            </a:r>
            <a:endParaRPr b="0" lang="en-US" sz="1600" spc="-1" strike="noStrike">
              <a:solidFill>
                <a:srgbClr val="ffffff"/>
              </a:solidFill>
              <a:latin typeface="Times New Roman"/>
            </a:endParaRPr>
          </a:p>
          <a:p>
            <a:pPr>
              <a:lnSpc>
                <a:spcPct val="100000"/>
              </a:lnSpc>
              <a:buClr>
                <a:srgbClr val="0000a4"/>
              </a:buClr>
              <a:buFont typeface="Comic Sans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Küreye, silindire, küpe, kare prizmaya, dikdörtgenler prizmasına ve üçgen prizmaya çevredeki varlıklardan örnekler söyle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Kürenin, silindirin, küpün, kare prizmanın, dikdörtgenler prizmasının ve üçgen prizmanın geometrik cisim olduğunu söyleme yazm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4.Kare prizmanın, dikdörtgenler prizmasının ve üçgen prizmanın; yüzeylerini, ayrıtlarını ve köşelerini gösterip söyle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5.Belirtilen geometrik cismi, en çok dört geometrik cisim arasından seçip işaretle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6.Küpün, dikdörtgenler prizmasının, üçgen prizma, kare prizmanın yüz, ayrıtlarını ve köşe sayılarını söyleyip yazma.</a:t>
            </a:r>
            <a:endParaRPr b="0" lang="en-US" sz="1600" spc="-1" strike="noStrike">
              <a:solidFill>
                <a:srgbClr val="ffffff"/>
              </a:solidFill>
              <a:latin typeface="Times New Roman"/>
            </a:endParaRPr>
          </a:p>
        </p:txBody>
      </p:sp>
    </p:spTree>
  </p:cSld>
  <p:transition>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
          <p:cNvSpPr/>
          <p:nvPr/>
        </p:nvSpPr>
        <p:spPr>
          <a:xfrm>
            <a:off x="457200" y="533520"/>
            <a:ext cx="8077320" cy="563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Öğretmen; kare prizma modelini, açılmamış bisküvi kutusunu, peynir veya zeytinyağı tenekelerini göstererek kapalı yüzey olup almadıklarını öğrencilere </a:t>
            </a:r>
            <a:r>
              <a:rPr b="1" lang="en-US" sz="1600" spc="-1" strike="noStrike" u="sng">
                <a:solidFill>
                  <a:srgbClr val="0000a4"/>
                </a:solidFill>
                <a:uFillTx/>
                <a:latin typeface="Comic Sans MS"/>
              </a:rPr>
              <a:t>sorar</a:t>
            </a:r>
            <a:r>
              <a:rPr b="0" lang="en-US" sz="1600" spc="-1" strike="noStrike">
                <a:solidFill>
                  <a:srgbClr val="0000a4"/>
                </a:solidFill>
                <a:latin typeface="Comic Sans MS"/>
              </a:rPr>
              <a:t>. Alının cevapları değerlendirir. Öğrencilerden, kapalı yüzeye sahip başka cisim örnekleri vermelerini </a:t>
            </a:r>
            <a:r>
              <a:rPr b="1" lang="en-US" sz="1600" spc="-1" strike="noStrike" u="sng">
                <a:solidFill>
                  <a:srgbClr val="0000a4"/>
                </a:solidFill>
                <a:uFillTx/>
                <a:latin typeface="Comic Sans MS"/>
              </a:rPr>
              <a:t>ister.</a:t>
            </a:r>
            <a:r>
              <a:rPr b="1" lang="en-US" sz="1600" spc="-1" strike="noStrike">
                <a:solidFill>
                  <a:srgbClr val="0000a4"/>
                </a:solidFill>
                <a:latin typeface="Comic Sans MS"/>
              </a:rPr>
              <a:t>	</a:t>
            </a:r>
            <a:r>
              <a:rPr b="1" lang="en-US" sz="1600" spc="-1" strike="noStrike">
                <a:solidFill>
                  <a:srgbClr val="0000a4"/>
                </a:solidFill>
                <a:latin typeface="Comic Sans MS"/>
              </a:rPr>
              <a:t>	</a:t>
            </a:r>
            <a:r>
              <a:rPr b="1" lang="en-US" sz="1600" spc="-1" strike="noStrike">
                <a:solidFill>
                  <a:srgbClr val="0000a4"/>
                </a:solidFill>
                <a:latin typeface="Comic Sans MS"/>
              </a:rPr>
              <a:t>	</a:t>
            </a:r>
            <a:r>
              <a:rPr b="1" lang="en-US" sz="1600" spc="-1" strike="noStrike">
                <a:solidFill>
                  <a:srgbClr val="0000a4"/>
                </a:solidFill>
                <a:latin typeface="Comic Sans MS"/>
              </a:rPr>
              <a:t>Sözel Dil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0" lang="en-US" sz="1600" spc="-1" strike="noStrike">
                <a:solidFill>
                  <a:srgbClr val="0000a4"/>
                </a:solidFill>
                <a:latin typeface="Comic Sans MS"/>
              </a:rPr>
              <a:t>Sonra kare prizmanın geometrik bir cisim olduğunu belir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0" lang="en-US" sz="1600" spc="-1" strike="noStrike">
                <a:solidFill>
                  <a:srgbClr val="0000a4"/>
                </a:solidFill>
                <a:latin typeface="Comic Sans MS"/>
              </a:rPr>
              <a:t>Öğretmen, öğrencilere kare prizma modeli veya getirdikleri kare prizmaya benzer kutunun: </a:t>
            </a:r>
            <a:endParaRPr b="0" lang="en-US" sz="1600" spc="-1" strike="noStrike">
              <a:solidFill>
                <a:srgbClr val="ffffff"/>
              </a:solidFill>
              <a:latin typeface="Times New Roman"/>
            </a:endParaRPr>
          </a:p>
          <a:p>
            <a:pPr>
              <a:lnSpc>
                <a:spcPct val="100000"/>
              </a:lnSpc>
              <a:buClr>
                <a:srgbClr val="0000a4"/>
              </a:buClr>
              <a:buFont typeface="Comic Sans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lt ve üst taban yüzeylerinin kenarlarını,</a:t>
            </a:r>
            <a:endParaRPr b="0" lang="en-US" sz="1600" spc="-1" strike="noStrike">
              <a:solidFill>
                <a:srgbClr val="ffffff"/>
              </a:solidFill>
              <a:latin typeface="Times New Roman"/>
            </a:endParaRPr>
          </a:p>
          <a:p>
            <a:pPr>
              <a:lnSpc>
                <a:spcPct val="100000"/>
              </a:lnSpc>
              <a:buClr>
                <a:srgbClr val="0000a4"/>
              </a:buClr>
              <a:buFont typeface="Comic Sans M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Yan yüzeylerinin kenarlarını cetvelle </a:t>
            </a:r>
            <a:r>
              <a:rPr b="1" lang="en-US" sz="1600" spc="-1" strike="noStrike" u="sng">
                <a:solidFill>
                  <a:srgbClr val="0000a4"/>
                </a:solidFill>
                <a:uFillTx/>
                <a:latin typeface="Comic Sans MS"/>
              </a:rPr>
              <a:t>ölçtürür</a:t>
            </a: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Ölçüm sonuçlarını deftere </a:t>
            </a:r>
            <a:r>
              <a:rPr b="1" lang="en-US" sz="1600" spc="-1" strike="noStrike" u="sng">
                <a:solidFill>
                  <a:srgbClr val="0000a4"/>
                </a:solidFill>
                <a:uFillTx/>
                <a:latin typeface="Comic Sans MS"/>
              </a:rPr>
              <a:t>yazdırır</a:t>
            </a:r>
            <a:r>
              <a:rPr b="0" lang="en-US" sz="1600" spc="-1" strike="noStrike">
                <a:solidFill>
                  <a:srgbClr val="0000a4"/>
                </a:solidFill>
                <a:latin typeface="Comic Sans MS"/>
              </a:rPr>
              <a:t>. Alt ve üst taban yüzeylerinin kenar uzunluklarını birbirine eşit olup olmadıklarını </a:t>
            </a:r>
            <a:r>
              <a:rPr b="1" lang="en-US" sz="1600" spc="-1" strike="noStrike" u="sng">
                <a:solidFill>
                  <a:srgbClr val="0000a4"/>
                </a:solidFill>
                <a:uFillTx/>
                <a:latin typeface="Comic Sans MS"/>
              </a:rPr>
              <a:t>sorar</a:t>
            </a:r>
            <a:r>
              <a:rPr b="0" lang="en-US" sz="1600" spc="-1" strike="noStrike">
                <a:solidFill>
                  <a:srgbClr val="0000a4"/>
                </a:solidFill>
                <a:latin typeface="Comic Sans MS"/>
              </a:rPr>
              <a:t>. Alınan cevapları değerlendirir. Taban yüzeylerinin kenar uzunluklarının eşit olduğunu </a:t>
            </a:r>
            <a:r>
              <a:rPr b="1" lang="en-US" sz="1600" spc="-1" strike="noStrike" u="sng">
                <a:solidFill>
                  <a:srgbClr val="0000a4"/>
                </a:solidFill>
                <a:uFillTx/>
                <a:latin typeface="Comic Sans MS"/>
              </a:rPr>
              <a:t>söyler</a:t>
            </a:r>
            <a:r>
              <a:rPr b="0" lang="en-US" sz="1600" spc="-1" strike="noStrike">
                <a:solidFill>
                  <a:srgbClr val="0000a4"/>
                </a:solidFill>
                <a:latin typeface="Comic Sans MS"/>
              </a:rPr>
              <a:t>. Bu iki taban yüzün, karesel bölge olduğunu belirtir. Öğretmen, aynı işlemi yan yüzeyler içinde yaptırır. Yan yüzeylerinde birer dikdörtgensel bölge olduğunu </a:t>
            </a:r>
            <a:r>
              <a:rPr b="1" lang="en-US" sz="1600" spc="-1" strike="noStrike" u="sng">
                <a:solidFill>
                  <a:srgbClr val="0000a4"/>
                </a:solidFill>
                <a:uFillTx/>
                <a:latin typeface="Comic Sans MS"/>
              </a:rPr>
              <a:t>söyler</a:t>
            </a:r>
            <a:r>
              <a:rPr b="0" lang="en-US" sz="1600" spc="-1" strike="noStrike">
                <a:solidFill>
                  <a:srgbClr val="0000a4"/>
                </a:solidFill>
                <a:latin typeface="Comic Sans MS"/>
              </a:rPr>
              <a:t>.</a:t>
            </a:r>
            <a:endParaRPr b="0" lang="en-US" sz="1600" spc="-1" strike="noStrike">
              <a:solidFill>
                <a:srgbClr val="ffffff"/>
              </a:solidFill>
              <a:latin typeface="Times New Roman"/>
            </a:endParaRPr>
          </a:p>
        </p:txBody>
      </p:sp>
      <p:sp>
        <p:nvSpPr>
          <p:cNvPr id="2121" name=""/>
          <p:cNvSpPr/>
          <p:nvPr/>
        </p:nvSpPr>
        <p:spPr>
          <a:xfrm>
            <a:off x="457200" y="142920"/>
            <a:ext cx="3747960" cy="31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Öğrenme ve Öğretme Etkinlikleri</a:t>
            </a:r>
            <a:endParaRPr b="0" lang="en-US" sz="1600" spc="-1" strike="noStrike">
              <a:solidFill>
                <a:srgbClr val="ffffff"/>
              </a:solidFill>
              <a:latin typeface="Times New Roman"/>
            </a:endParaRPr>
          </a:p>
        </p:txBody>
      </p:sp>
      <p:sp>
        <p:nvSpPr>
          <p:cNvPr id="2122" name=""/>
          <p:cNvSpPr/>
          <p:nvPr/>
        </p:nvSpPr>
        <p:spPr>
          <a:xfrm>
            <a:off x="1295280" y="762120"/>
            <a:ext cx="762120" cy="11430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3124080" y="1295280"/>
            <a:ext cx="685800" cy="60984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4724280" y="990720"/>
            <a:ext cx="685800" cy="9144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6095880" y="1447920"/>
            <a:ext cx="1828800" cy="53316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6" name=""/>
          <p:cNvGrpSpPr/>
          <p:nvPr/>
        </p:nvGrpSpPr>
        <p:grpSpPr>
          <a:xfrm>
            <a:off x="2362320" y="2514600"/>
            <a:ext cx="4876560" cy="457200"/>
            <a:chOff x="2362320" y="2514600"/>
            <a:chExt cx="4876560" cy="457200"/>
          </a:xfrm>
        </p:grpSpPr>
        <p:sp>
          <p:nvSpPr>
            <p:cNvPr id="2127" name=""/>
            <p:cNvSpPr/>
            <p:nvPr/>
          </p:nvSpPr>
          <p:spPr>
            <a:xfrm>
              <a:off x="2362320" y="29718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723276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flipH="1">
              <a:off x="5562720" y="29718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30" name=""/>
          <p:cNvSpPr/>
          <p:nvPr/>
        </p:nvSpPr>
        <p:spPr>
          <a:xfrm flipV="1">
            <a:off x="4929120" y="392760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5562720" y="3809880"/>
            <a:ext cx="1295280" cy="2606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2" name=""/>
          <p:cNvSpPr/>
          <p:nvPr/>
        </p:nvSpPr>
        <p:spPr>
          <a:xfrm>
            <a:off x="5591880" y="378468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a4"/>
                </a:solidFill>
                <a:latin typeface="Comic Sans MS"/>
              </a:rPr>
              <a:t>Bedensel Kinestetik</a:t>
            </a:r>
            <a:endParaRPr b="0" lang="en-US" sz="1600" spc="-1" strike="noStrike">
              <a:solidFill>
                <a:srgbClr val="ffffff"/>
              </a:solidFill>
              <a:latin typeface="Times New Roman"/>
            </a:endParaRPr>
          </a:p>
        </p:txBody>
      </p:sp>
      <p:sp>
        <p:nvSpPr>
          <p:cNvPr id="2133" name=""/>
          <p:cNvSpPr/>
          <p:nvPr/>
        </p:nvSpPr>
        <p:spPr>
          <a:xfrm flipV="1">
            <a:off x="3657600" y="4419720"/>
            <a:ext cx="2514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flipV="1">
            <a:off x="5105520" y="4495680"/>
            <a:ext cx="10666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flipV="1">
            <a:off x="5843160" y="4623840"/>
            <a:ext cx="429480" cy="58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flipV="1">
            <a:off x="5943600" y="464796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6344280" y="426708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Sözel-Dilsel</a:t>
            </a:r>
            <a:endParaRPr b="0" lang="en-US" sz="1600" spc="-1" strike="noStrike">
              <a:solidFill>
                <a:srgbClr val="ffffff"/>
              </a:solidFill>
              <a:latin typeface="Times New Roman"/>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8" name=""/>
          <p:cNvSpPr/>
          <p:nvPr/>
        </p:nvSpPr>
        <p:spPr>
          <a:xfrm>
            <a:off x="380880" y="304920"/>
            <a:ext cx="8382240" cy="632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0" lang="en-US" sz="1600" spc="-1" strike="noStrike">
                <a:solidFill>
                  <a:srgbClr val="0000a4"/>
                </a:solidFill>
                <a:latin typeface="Comic Sans MS"/>
              </a:rPr>
              <a:t>Öğretmen, öğrencilerden kare prizmaya benzeyen varlıklarla, benzemeyen varlıkları </a:t>
            </a:r>
            <a:r>
              <a:rPr b="1" lang="en-US" sz="1600" spc="-1" strike="noStrike" u="sng">
                <a:solidFill>
                  <a:srgbClr val="0000a4"/>
                </a:solidFill>
                <a:uFillTx/>
                <a:latin typeface="Comic Sans MS"/>
              </a:rPr>
              <a:t>karşılaştırmalarını ist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Kare prizmaya benzeyen varlıklar                 Kare prizmaya benzemeyen varlıkla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0" lang="en-US" sz="1600" spc="-1" strike="noStrike">
                <a:solidFill>
                  <a:srgbClr val="0000a4"/>
                </a:solidFill>
                <a:latin typeface="Comic Sans MS"/>
              </a:rPr>
              <a:t>Öğretmen, kare prizma modeli, zeytinyağı tenekesi, bisküvi kutusu, peynir tenekesi şeklindeki varlıkların;</a:t>
            </a:r>
            <a:endParaRPr b="0" lang="en-US" sz="1600" spc="-1" strike="noStrike">
              <a:solidFill>
                <a:srgbClr val="ffffff"/>
              </a:solidFill>
              <a:latin typeface="Times New Roman"/>
            </a:endParaRPr>
          </a:p>
          <a:p>
            <a:pPr>
              <a:lnSpc>
                <a:spcPct val="100000"/>
              </a:lnSpc>
              <a:buClr>
                <a:srgbClr val="0000a4"/>
              </a:buClr>
              <a:buFont typeface="Comic Sans M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öşe sayılarını söyletip </a:t>
            </a:r>
            <a:r>
              <a:rPr b="1" lang="en-US" sz="1600" spc="-1" strike="noStrike" u="sng">
                <a:solidFill>
                  <a:srgbClr val="0000a4"/>
                </a:solidFill>
                <a:uFillTx/>
                <a:latin typeface="Comic Sans MS"/>
              </a:rPr>
              <a:t>yazdırı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yrıt sayılarını söyletip </a:t>
            </a:r>
            <a:r>
              <a:rPr b="1" lang="en-US" sz="1600" spc="-1" strike="noStrike" u="sng">
                <a:solidFill>
                  <a:srgbClr val="0000a4"/>
                </a:solidFill>
                <a:uFillTx/>
                <a:latin typeface="Comic Sans MS"/>
              </a:rPr>
              <a:t>yazdırı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are prizmanın, hangi yüzeylerinin kenar özellikleri bakımından birbirine benzediğini </a:t>
            </a:r>
            <a:r>
              <a:rPr b="1" lang="en-US" sz="1600" spc="-1" strike="noStrike" u="sng">
                <a:solidFill>
                  <a:srgbClr val="0000a4"/>
                </a:solidFill>
                <a:uFillTx/>
                <a:latin typeface="Comic Sans MS"/>
              </a:rPr>
              <a:t>sorar</a:t>
            </a:r>
            <a:r>
              <a:rPr b="0" lang="en-US" sz="1600" spc="-1" strike="noStrike">
                <a:solidFill>
                  <a:srgbClr val="0000a4"/>
                </a:solidFill>
                <a:latin typeface="Comic Sans MS"/>
              </a:rPr>
              <a:t>. Yüzey sayılarını  </a:t>
            </a:r>
            <a:r>
              <a:rPr b="1" lang="en-US" sz="1600" spc="-1" strike="noStrike" u="sng">
                <a:solidFill>
                  <a:srgbClr val="0000a4"/>
                </a:solidFill>
                <a:uFillTx/>
                <a:latin typeface="Comic Sans MS"/>
              </a:rPr>
              <a:t>yazdırır</a:t>
            </a: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Öğretmen, prizmanın taban yüzeylerinin şekillerine göre adlandırıldıklarını </a:t>
            </a:r>
            <a:r>
              <a:rPr b="1" lang="en-US" sz="1600" spc="-1" strike="noStrike" u="sng">
                <a:solidFill>
                  <a:srgbClr val="0000a4"/>
                </a:solidFill>
                <a:uFillTx/>
                <a:latin typeface="Comic Sans MS"/>
              </a:rPr>
              <a:t>belirtir</a:t>
            </a: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39" name=""/>
          <p:cNvSpPr/>
          <p:nvPr/>
        </p:nvSpPr>
        <p:spPr>
          <a:xfrm>
            <a:off x="3809880" y="762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4518000" y="609480"/>
            <a:ext cx="2654280" cy="337320"/>
          </a:xfrm>
          <a:prstGeom prst="rect">
            <a:avLst/>
          </a:prstGeom>
          <a:noFill/>
          <a:ln w="93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Mantıksal-Matematiksel</a:t>
            </a:r>
            <a:endParaRPr b="0" lang="en-US" sz="1600" spc="-1" strike="noStrike">
              <a:solidFill>
                <a:srgbClr val="ffffff"/>
              </a:solidFill>
              <a:latin typeface="Times New Roman"/>
            </a:endParaRPr>
          </a:p>
        </p:txBody>
      </p:sp>
      <p:sp>
        <p:nvSpPr>
          <p:cNvPr id="2141" name=""/>
          <p:cNvSpPr/>
          <p:nvPr/>
        </p:nvSpPr>
        <p:spPr>
          <a:xfrm>
            <a:off x="838080" y="1371600"/>
            <a:ext cx="762120" cy="114300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838080" y="2614680"/>
            <a:ext cx="685800" cy="6094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86400" y="1600200"/>
            <a:ext cx="1447920" cy="457200"/>
          </a:xfrm>
          <a:prstGeom prst="cube">
            <a:avLst>
              <a:gd name="adj" fmla="val 3680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838080" y="3352680"/>
            <a:ext cx="685800" cy="457200"/>
          </a:xfrm>
          <a:prstGeom prst="cube">
            <a:avLst>
              <a:gd name="adj" fmla="val 36805"/>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638680" y="1828800"/>
            <a:ext cx="800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a4"/>
                </a:solidFill>
                <a:latin typeface="Comic Sans MS"/>
              </a:rPr>
              <a:t>KİBRİT</a:t>
            </a:r>
            <a:endParaRPr b="0" lang="en-US" sz="900" spc="-1" strike="noStrike">
              <a:solidFill>
                <a:srgbClr val="ffffff"/>
              </a:solidFill>
              <a:latin typeface="Times New Roman"/>
            </a:endParaRPr>
          </a:p>
        </p:txBody>
      </p:sp>
      <p:sp>
        <p:nvSpPr>
          <p:cNvPr id="2146" name=""/>
          <p:cNvSpPr/>
          <p:nvPr/>
        </p:nvSpPr>
        <p:spPr>
          <a:xfrm>
            <a:off x="797040" y="2819520"/>
            <a:ext cx="799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PEYNİR</a:t>
            </a:r>
            <a:endParaRPr b="0" lang="en-US" sz="900" spc="-1" strike="noStrike">
              <a:solidFill>
                <a:srgbClr val="ffffff"/>
              </a:solidFill>
              <a:latin typeface="Times New Roman"/>
            </a:endParaRPr>
          </a:p>
        </p:txBody>
      </p:sp>
      <p:sp>
        <p:nvSpPr>
          <p:cNvPr id="2147" name=""/>
          <p:cNvSpPr/>
          <p:nvPr/>
        </p:nvSpPr>
        <p:spPr>
          <a:xfrm>
            <a:off x="838080" y="1828800"/>
            <a:ext cx="800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YAĞ</a:t>
            </a:r>
            <a:endParaRPr b="0" lang="en-US" sz="900" spc="-1" strike="noStrike">
              <a:solidFill>
                <a:srgbClr val="ffffff"/>
              </a:solidFill>
              <a:latin typeface="Times New Roman"/>
            </a:endParaRPr>
          </a:p>
        </p:txBody>
      </p:sp>
      <p:sp>
        <p:nvSpPr>
          <p:cNvPr id="2148" name=""/>
          <p:cNvSpPr/>
          <p:nvPr/>
        </p:nvSpPr>
        <p:spPr>
          <a:xfrm>
            <a:off x="800280" y="3505320"/>
            <a:ext cx="799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BÜSKÜVİ</a:t>
            </a:r>
            <a:endParaRPr b="0" lang="en-US" sz="900" spc="-1" strike="noStrike">
              <a:solidFill>
                <a:srgbClr val="ffffff"/>
              </a:solidFill>
              <a:latin typeface="Times New Roman"/>
            </a:endParaRPr>
          </a:p>
        </p:txBody>
      </p:sp>
      <p:sp>
        <p:nvSpPr>
          <p:cNvPr id="2149" name=""/>
          <p:cNvSpPr/>
          <p:nvPr/>
        </p:nvSpPr>
        <p:spPr>
          <a:xfrm>
            <a:off x="5486400" y="3200400"/>
            <a:ext cx="1447920" cy="457200"/>
          </a:xfrm>
          <a:prstGeom prst="cube">
            <a:avLst>
              <a:gd name="adj" fmla="val 3680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0" name=""/>
          <p:cNvSpPr/>
          <p:nvPr/>
        </p:nvSpPr>
        <p:spPr>
          <a:xfrm>
            <a:off x="5638680" y="340524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a4"/>
                </a:solidFill>
                <a:latin typeface="Comic Sans MS"/>
              </a:rPr>
              <a:t>ASPiRİN</a:t>
            </a:r>
            <a:endParaRPr b="0" lang="en-US" sz="900" spc="-1" strike="noStrike">
              <a:solidFill>
                <a:srgbClr val="ffffff"/>
              </a:solidFill>
              <a:latin typeface="Times New Roman"/>
            </a:endParaRPr>
          </a:p>
        </p:txBody>
      </p:sp>
      <p:sp>
        <p:nvSpPr>
          <p:cNvPr id="2151" name=""/>
          <p:cNvSpPr/>
          <p:nvPr/>
        </p:nvSpPr>
        <p:spPr>
          <a:xfrm>
            <a:off x="1828800" y="190512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1905120" y="2743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a:off x="1905120" y="35812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4" name=""/>
          <p:cNvGrpSpPr/>
          <p:nvPr/>
        </p:nvGrpSpPr>
        <p:grpSpPr>
          <a:xfrm>
            <a:off x="5791320" y="2438280"/>
            <a:ext cx="914400" cy="571320"/>
            <a:chOff x="5791320" y="2438280"/>
            <a:chExt cx="914400" cy="571320"/>
          </a:xfrm>
        </p:grpSpPr>
        <p:sp>
          <p:nvSpPr>
            <p:cNvPr id="2155" name=""/>
            <p:cNvSpPr/>
            <p:nvPr/>
          </p:nvSpPr>
          <p:spPr>
            <a:xfrm>
              <a:off x="5924880" y="2676600"/>
              <a:ext cx="541800" cy="231120"/>
            </a:xfrm>
            <a:custGeom>
              <a:avLst/>
              <a:gdLst/>
              <a:ahLst/>
              <a:rect l="l" t="t" r="r" b="b"/>
              <a:pathLst>
                <a:path w="1050" h="620">
                  <a:moveTo>
                    <a:pt x="0" y="31"/>
                  </a:moveTo>
                  <a:lnTo>
                    <a:pt x="480" y="620"/>
                  </a:lnTo>
                  <a:lnTo>
                    <a:pt x="1050" y="492"/>
                  </a:lnTo>
                  <a:lnTo>
                    <a:pt x="1014" y="368"/>
                  </a:lnTo>
                  <a:lnTo>
                    <a:pt x="1014" y="366"/>
                  </a:lnTo>
                  <a:lnTo>
                    <a:pt x="1019" y="356"/>
                  </a:lnTo>
                  <a:lnTo>
                    <a:pt x="1024" y="352"/>
                  </a:lnTo>
                  <a:lnTo>
                    <a:pt x="1026" y="345"/>
                  </a:lnTo>
                  <a:lnTo>
                    <a:pt x="1031" y="340"/>
                  </a:lnTo>
                  <a:lnTo>
                    <a:pt x="1033" y="333"/>
                  </a:lnTo>
                  <a:lnTo>
                    <a:pt x="1033" y="328"/>
                  </a:lnTo>
                  <a:lnTo>
                    <a:pt x="1036" y="321"/>
                  </a:lnTo>
                  <a:lnTo>
                    <a:pt x="1038" y="314"/>
                  </a:lnTo>
                  <a:lnTo>
                    <a:pt x="1038" y="309"/>
                  </a:lnTo>
                  <a:lnTo>
                    <a:pt x="1036" y="304"/>
                  </a:lnTo>
                  <a:lnTo>
                    <a:pt x="1033" y="302"/>
                  </a:lnTo>
                  <a:lnTo>
                    <a:pt x="1031" y="299"/>
                  </a:lnTo>
                  <a:lnTo>
                    <a:pt x="1026" y="299"/>
                  </a:lnTo>
                  <a:lnTo>
                    <a:pt x="1019" y="299"/>
                  </a:lnTo>
                  <a:lnTo>
                    <a:pt x="1014" y="299"/>
                  </a:lnTo>
                  <a:lnTo>
                    <a:pt x="1005" y="299"/>
                  </a:lnTo>
                  <a:lnTo>
                    <a:pt x="995" y="302"/>
                  </a:lnTo>
                  <a:lnTo>
                    <a:pt x="991" y="302"/>
                  </a:lnTo>
                  <a:lnTo>
                    <a:pt x="986" y="304"/>
                  </a:lnTo>
                  <a:lnTo>
                    <a:pt x="979" y="304"/>
                  </a:lnTo>
                  <a:lnTo>
                    <a:pt x="974" y="307"/>
                  </a:lnTo>
                  <a:lnTo>
                    <a:pt x="967" y="307"/>
                  </a:lnTo>
                  <a:lnTo>
                    <a:pt x="962" y="309"/>
                  </a:lnTo>
                  <a:lnTo>
                    <a:pt x="955" y="311"/>
                  </a:lnTo>
                  <a:lnTo>
                    <a:pt x="948" y="314"/>
                  </a:lnTo>
                  <a:lnTo>
                    <a:pt x="941" y="314"/>
                  </a:lnTo>
                  <a:lnTo>
                    <a:pt x="931" y="316"/>
                  </a:lnTo>
                  <a:lnTo>
                    <a:pt x="924" y="318"/>
                  </a:lnTo>
                  <a:lnTo>
                    <a:pt x="917" y="321"/>
                  </a:lnTo>
                  <a:lnTo>
                    <a:pt x="910" y="321"/>
                  </a:lnTo>
                  <a:lnTo>
                    <a:pt x="900" y="323"/>
                  </a:lnTo>
                  <a:lnTo>
                    <a:pt x="893" y="326"/>
                  </a:lnTo>
                  <a:lnTo>
                    <a:pt x="886" y="328"/>
                  </a:lnTo>
                  <a:lnTo>
                    <a:pt x="877" y="330"/>
                  </a:lnTo>
                  <a:lnTo>
                    <a:pt x="867" y="333"/>
                  </a:lnTo>
                  <a:lnTo>
                    <a:pt x="858" y="333"/>
                  </a:lnTo>
                  <a:lnTo>
                    <a:pt x="850" y="337"/>
                  </a:lnTo>
                  <a:lnTo>
                    <a:pt x="841" y="337"/>
                  </a:lnTo>
                  <a:lnTo>
                    <a:pt x="834" y="340"/>
                  </a:lnTo>
                  <a:lnTo>
                    <a:pt x="824" y="342"/>
                  </a:lnTo>
                  <a:lnTo>
                    <a:pt x="817" y="345"/>
                  </a:lnTo>
                  <a:lnTo>
                    <a:pt x="808" y="347"/>
                  </a:lnTo>
                  <a:lnTo>
                    <a:pt x="800" y="349"/>
                  </a:lnTo>
                  <a:lnTo>
                    <a:pt x="791" y="352"/>
                  </a:lnTo>
                  <a:lnTo>
                    <a:pt x="784" y="354"/>
                  </a:lnTo>
                  <a:lnTo>
                    <a:pt x="774" y="354"/>
                  </a:lnTo>
                  <a:lnTo>
                    <a:pt x="765" y="356"/>
                  </a:lnTo>
                  <a:lnTo>
                    <a:pt x="755" y="359"/>
                  </a:lnTo>
                  <a:lnTo>
                    <a:pt x="751" y="361"/>
                  </a:lnTo>
                  <a:lnTo>
                    <a:pt x="741" y="364"/>
                  </a:lnTo>
                  <a:lnTo>
                    <a:pt x="734" y="366"/>
                  </a:lnTo>
                  <a:lnTo>
                    <a:pt x="727" y="368"/>
                  </a:lnTo>
                  <a:lnTo>
                    <a:pt x="720" y="371"/>
                  </a:lnTo>
                  <a:lnTo>
                    <a:pt x="713" y="371"/>
                  </a:lnTo>
                  <a:lnTo>
                    <a:pt x="705" y="373"/>
                  </a:lnTo>
                  <a:lnTo>
                    <a:pt x="698" y="375"/>
                  </a:lnTo>
                  <a:lnTo>
                    <a:pt x="694" y="378"/>
                  </a:lnTo>
                  <a:lnTo>
                    <a:pt x="686" y="378"/>
                  </a:lnTo>
                  <a:lnTo>
                    <a:pt x="679" y="380"/>
                  </a:lnTo>
                  <a:lnTo>
                    <a:pt x="675" y="380"/>
                  </a:lnTo>
                  <a:lnTo>
                    <a:pt x="670" y="383"/>
                  </a:lnTo>
                  <a:lnTo>
                    <a:pt x="660" y="385"/>
                  </a:lnTo>
                  <a:lnTo>
                    <a:pt x="653" y="387"/>
                  </a:lnTo>
                  <a:lnTo>
                    <a:pt x="646" y="390"/>
                  </a:lnTo>
                  <a:lnTo>
                    <a:pt x="641" y="390"/>
                  </a:lnTo>
                  <a:lnTo>
                    <a:pt x="639" y="392"/>
                  </a:lnTo>
                  <a:lnTo>
                    <a:pt x="639" y="392"/>
                  </a:lnTo>
                  <a:lnTo>
                    <a:pt x="12" y="0"/>
                  </a:lnTo>
                  <a:lnTo>
                    <a:pt x="0" y="31"/>
                  </a:lnTo>
                  <a:lnTo>
                    <a:pt x="0" y="31"/>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6555240" y="2600280"/>
              <a:ext cx="143280" cy="147240"/>
            </a:xfrm>
            <a:custGeom>
              <a:avLst/>
              <a:gdLst/>
              <a:ahLst/>
              <a:rect l="l" t="t" r="r" b="b"/>
              <a:pathLst>
                <a:path w="278" h="395">
                  <a:moveTo>
                    <a:pt x="0" y="326"/>
                  </a:moveTo>
                  <a:lnTo>
                    <a:pt x="152" y="276"/>
                  </a:lnTo>
                  <a:lnTo>
                    <a:pt x="152" y="274"/>
                  </a:lnTo>
                  <a:lnTo>
                    <a:pt x="155" y="271"/>
                  </a:lnTo>
                  <a:lnTo>
                    <a:pt x="162" y="262"/>
                  </a:lnTo>
                  <a:lnTo>
                    <a:pt x="169" y="255"/>
                  </a:lnTo>
                  <a:lnTo>
                    <a:pt x="171" y="250"/>
                  </a:lnTo>
                  <a:lnTo>
                    <a:pt x="176" y="243"/>
                  </a:lnTo>
                  <a:lnTo>
                    <a:pt x="178" y="236"/>
                  </a:lnTo>
                  <a:lnTo>
                    <a:pt x="183" y="231"/>
                  </a:lnTo>
                  <a:lnTo>
                    <a:pt x="185" y="222"/>
                  </a:lnTo>
                  <a:lnTo>
                    <a:pt x="188" y="217"/>
                  </a:lnTo>
                  <a:lnTo>
                    <a:pt x="193" y="207"/>
                  </a:lnTo>
                  <a:lnTo>
                    <a:pt x="195" y="200"/>
                  </a:lnTo>
                  <a:lnTo>
                    <a:pt x="195" y="191"/>
                  </a:lnTo>
                  <a:lnTo>
                    <a:pt x="197" y="183"/>
                  </a:lnTo>
                  <a:lnTo>
                    <a:pt x="197" y="174"/>
                  </a:lnTo>
                  <a:lnTo>
                    <a:pt x="197" y="164"/>
                  </a:lnTo>
                  <a:lnTo>
                    <a:pt x="195" y="155"/>
                  </a:lnTo>
                  <a:lnTo>
                    <a:pt x="195" y="145"/>
                  </a:lnTo>
                  <a:lnTo>
                    <a:pt x="193" y="136"/>
                  </a:lnTo>
                  <a:lnTo>
                    <a:pt x="188" y="126"/>
                  </a:lnTo>
                  <a:lnTo>
                    <a:pt x="183" y="117"/>
                  </a:lnTo>
                  <a:lnTo>
                    <a:pt x="178" y="107"/>
                  </a:lnTo>
                  <a:lnTo>
                    <a:pt x="169" y="96"/>
                  </a:lnTo>
                  <a:lnTo>
                    <a:pt x="162" y="86"/>
                  </a:lnTo>
                  <a:lnTo>
                    <a:pt x="152" y="77"/>
                  </a:lnTo>
                  <a:lnTo>
                    <a:pt x="140" y="67"/>
                  </a:lnTo>
                  <a:lnTo>
                    <a:pt x="133" y="60"/>
                  </a:lnTo>
                  <a:lnTo>
                    <a:pt x="126" y="57"/>
                  </a:lnTo>
                  <a:lnTo>
                    <a:pt x="119" y="50"/>
                  </a:lnTo>
                  <a:lnTo>
                    <a:pt x="114" y="48"/>
                  </a:lnTo>
                  <a:lnTo>
                    <a:pt x="188" y="0"/>
                  </a:lnTo>
                  <a:lnTo>
                    <a:pt x="193" y="5"/>
                  </a:lnTo>
                  <a:lnTo>
                    <a:pt x="197" y="10"/>
                  </a:lnTo>
                  <a:lnTo>
                    <a:pt x="204" y="17"/>
                  </a:lnTo>
                  <a:lnTo>
                    <a:pt x="214" y="27"/>
                  </a:lnTo>
                  <a:lnTo>
                    <a:pt x="223" y="38"/>
                  </a:lnTo>
                  <a:lnTo>
                    <a:pt x="228" y="43"/>
                  </a:lnTo>
                  <a:lnTo>
                    <a:pt x="233" y="50"/>
                  </a:lnTo>
                  <a:lnTo>
                    <a:pt x="240" y="57"/>
                  </a:lnTo>
                  <a:lnTo>
                    <a:pt x="245" y="67"/>
                  </a:lnTo>
                  <a:lnTo>
                    <a:pt x="250" y="74"/>
                  </a:lnTo>
                  <a:lnTo>
                    <a:pt x="254" y="81"/>
                  </a:lnTo>
                  <a:lnTo>
                    <a:pt x="257" y="91"/>
                  </a:lnTo>
                  <a:lnTo>
                    <a:pt x="261" y="100"/>
                  </a:lnTo>
                  <a:lnTo>
                    <a:pt x="264" y="110"/>
                  </a:lnTo>
                  <a:lnTo>
                    <a:pt x="269" y="119"/>
                  </a:lnTo>
                  <a:lnTo>
                    <a:pt x="271" y="129"/>
                  </a:lnTo>
                  <a:lnTo>
                    <a:pt x="276" y="141"/>
                  </a:lnTo>
                  <a:lnTo>
                    <a:pt x="276" y="150"/>
                  </a:lnTo>
                  <a:lnTo>
                    <a:pt x="278" y="162"/>
                  </a:lnTo>
                  <a:lnTo>
                    <a:pt x="278" y="174"/>
                  </a:lnTo>
                  <a:lnTo>
                    <a:pt x="278" y="186"/>
                  </a:lnTo>
                  <a:lnTo>
                    <a:pt x="276" y="193"/>
                  </a:lnTo>
                  <a:lnTo>
                    <a:pt x="276" y="198"/>
                  </a:lnTo>
                  <a:lnTo>
                    <a:pt x="273" y="205"/>
                  </a:lnTo>
                  <a:lnTo>
                    <a:pt x="273" y="212"/>
                  </a:lnTo>
                  <a:lnTo>
                    <a:pt x="271" y="219"/>
                  </a:lnTo>
                  <a:lnTo>
                    <a:pt x="271" y="226"/>
                  </a:lnTo>
                  <a:lnTo>
                    <a:pt x="269" y="233"/>
                  </a:lnTo>
                  <a:lnTo>
                    <a:pt x="269" y="241"/>
                  </a:lnTo>
                  <a:lnTo>
                    <a:pt x="164" y="355"/>
                  </a:lnTo>
                  <a:lnTo>
                    <a:pt x="10" y="395"/>
                  </a:lnTo>
                  <a:lnTo>
                    <a:pt x="0" y="326"/>
                  </a:lnTo>
                  <a:lnTo>
                    <a:pt x="0" y="326"/>
                  </a:lnTo>
                  <a:close/>
                </a:path>
              </a:pathLst>
            </a:custGeom>
            <a:solidFill>
              <a:srgbClr val="7573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5897520" y="2438280"/>
              <a:ext cx="780120" cy="238320"/>
            </a:xfrm>
            <a:custGeom>
              <a:avLst/>
              <a:gdLst/>
              <a:ahLst/>
              <a:rect l="l" t="t" r="r" b="b"/>
              <a:pathLst>
                <a:path w="1512" h="640">
                  <a:moveTo>
                    <a:pt x="0" y="188"/>
                  </a:moveTo>
                  <a:lnTo>
                    <a:pt x="801" y="640"/>
                  </a:lnTo>
                  <a:lnTo>
                    <a:pt x="804" y="637"/>
                  </a:lnTo>
                  <a:lnTo>
                    <a:pt x="806" y="635"/>
                  </a:lnTo>
                  <a:lnTo>
                    <a:pt x="813" y="633"/>
                  </a:lnTo>
                  <a:lnTo>
                    <a:pt x="825" y="628"/>
                  </a:lnTo>
                  <a:lnTo>
                    <a:pt x="832" y="626"/>
                  </a:lnTo>
                  <a:lnTo>
                    <a:pt x="839" y="623"/>
                  </a:lnTo>
                  <a:lnTo>
                    <a:pt x="844" y="621"/>
                  </a:lnTo>
                  <a:lnTo>
                    <a:pt x="853" y="618"/>
                  </a:lnTo>
                  <a:lnTo>
                    <a:pt x="863" y="616"/>
                  </a:lnTo>
                  <a:lnTo>
                    <a:pt x="872" y="611"/>
                  </a:lnTo>
                  <a:lnTo>
                    <a:pt x="882" y="609"/>
                  </a:lnTo>
                  <a:lnTo>
                    <a:pt x="894" y="604"/>
                  </a:lnTo>
                  <a:lnTo>
                    <a:pt x="903" y="599"/>
                  </a:lnTo>
                  <a:lnTo>
                    <a:pt x="913" y="595"/>
                  </a:lnTo>
                  <a:lnTo>
                    <a:pt x="925" y="590"/>
                  </a:lnTo>
                  <a:lnTo>
                    <a:pt x="939" y="588"/>
                  </a:lnTo>
                  <a:lnTo>
                    <a:pt x="949" y="583"/>
                  </a:lnTo>
                  <a:lnTo>
                    <a:pt x="963" y="578"/>
                  </a:lnTo>
                  <a:lnTo>
                    <a:pt x="977" y="573"/>
                  </a:lnTo>
                  <a:lnTo>
                    <a:pt x="989" y="571"/>
                  </a:lnTo>
                  <a:lnTo>
                    <a:pt x="1003" y="564"/>
                  </a:lnTo>
                  <a:lnTo>
                    <a:pt x="1017" y="559"/>
                  </a:lnTo>
                  <a:lnTo>
                    <a:pt x="1032" y="554"/>
                  </a:lnTo>
                  <a:lnTo>
                    <a:pt x="1046" y="550"/>
                  </a:lnTo>
                  <a:lnTo>
                    <a:pt x="1060" y="545"/>
                  </a:lnTo>
                  <a:lnTo>
                    <a:pt x="1077" y="540"/>
                  </a:lnTo>
                  <a:lnTo>
                    <a:pt x="1091" y="535"/>
                  </a:lnTo>
                  <a:lnTo>
                    <a:pt x="1108" y="531"/>
                  </a:lnTo>
                  <a:lnTo>
                    <a:pt x="1120" y="526"/>
                  </a:lnTo>
                  <a:lnTo>
                    <a:pt x="1136" y="519"/>
                  </a:lnTo>
                  <a:lnTo>
                    <a:pt x="1151" y="514"/>
                  </a:lnTo>
                  <a:lnTo>
                    <a:pt x="1167" y="509"/>
                  </a:lnTo>
                  <a:lnTo>
                    <a:pt x="1181" y="504"/>
                  </a:lnTo>
                  <a:lnTo>
                    <a:pt x="1196" y="500"/>
                  </a:lnTo>
                  <a:lnTo>
                    <a:pt x="1212" y="492"/>
                  </a:lnTo>
                  <a:lnTo>
                    <a:pt x="1227" y="490"/>
                  </a:lnTo>
                  <a:lnTo>
                    <a:pt x="1241" y="483"/>
                  </a:lnTo>
                  <a:lnTo>
                    <a:pt x="1257" y="478"/>
                  </a:lnTo>
                  <a:lnTo>
                    <a:pt x="1272" y="473"/>
                  </a:lnTo>
                  <a:lnTo>
                    <a:pt x="1288" y="469"/>
                  </a:lnTo>
                  <a:lnTo>
                    <a:pt x="1300" y="464"/>
                  </a:lnTo>
                  <a:lnTo>
                    <a:pt x="1317" y="459"/>
                  </a:lnTo>
                  <a:lnTo>
                    <a:pt x="1329" y="457"/>
                  </a:lnTo>
                  <a:lnTo>
                    <a:pt x="1345" y="452"/>
                  </a:lnTo>
                  <a:lnTo>
                    <a:pt x="1357" y="447"/>
                  </a:lnTo>
                  <a:lnTo>
                    <a:pt x="1369" y="445"/>
                  </a:lnTo>
                  <a:lnTo>
                    <a:pt x="1383" y="440"/>
                  </a:lnTo>
                  <a:lnTo>
                    <a:pt x="1395" y="438"/>
                  </a:lnTo>
                  <a:lnTo>
                    <a:pt x="1407" y="435"/>
                  </a:lnTo>
                  <a:lnTo>
                    <a:pt x="1419" y="431"/>
                  </a:lnTo>
                  <a:lnTo>
                    <a:pt x="1431" y="428"/>
                  </a:lnTo>
                  <a:lnTo>
                    <a:pt x="1443" y="426"/>
                  </a:lnTo>
                  <a:lnTo>
                    <a:pt x="1452" y="424"/>
                  </a:lnTo>
                  <a:lnTo>
                    <a:pt x="1462" y="421"/>
                  </a:lnTo>
                  <a:lnTo>
                    <a:pt x="1471" y="419"/>
                  </a:lnTo>
                  <a:lnTo>
                    <a:pt x="1481" y="416"/>
                  </a:lnTo>
                  <a:lnTo>
                    <a:pt x="1490" y="414"/>
                  </a:lnTo>
                  <a:lnTo>
                    <a:pt x="1497" y="414"/>
                  </a:lnTo>
                  <a:lnTo>
                    <a:pt x="1505" y="414"/>
                  </a:lnTo>
                  <a:lnTo>
                    <a:pt x="1512" y="414"/>
                  </a:lnTo>
                  <a:lnTo>
                    <a:pt x="737" y="0"/>
                  </a:lnTo>
                  <a:lnTo>
                    <a:pt x="735" y="0"/>
                  </a:lnTo>
                  <a:lnTo>
                    <a:pt x="732" y="0"/>
                  </a:lnTo>
                  <a:lnTo>
                    <a:pt x="725" y="3"/>
                  </a:lnTo>
                  <a:lnTo>
                    <a:pt x="718" y="3"/>
                  </a:lnTo>
                  <a:lnTo>
                    <a:pt x="706" y="5"/>
                  </a:lnTo>
                  <a:lnTo>
                    <a:pt x="697" y="5"/>
                  </a:lnTo>
                  <a:lnTo>
                    <a:pt x="690" y="8"/>
                  </a:lnTo>
                  <a:lnTo>
                    <a:pt x="682" y="10"/>
                  </a:lnTo>
                  <a:lnTo>
                    <a:pt x="675" y="10"/>
                  </a:lnTo>
                  <a:lnTo>
                    <a:pt x="668" y="12"/>
                  </a:lnTo>
                  <a:lnTo>
                    <a:pt x="659" y="15"/>
                  </a:lnTo>
                  <a:lnTo>
                    <a:pt x="651" y="17"/>
                  </a:lnTo>
                  <a:lnTo>
                    <a:pt x="642" y="17"/>
                  </a:lnTo>
                  <a:lnTo>
                    <a:pt x="632" y="19"/>
                  </a:lnTo>
                  <a:lnTo>
                    <a:pt x="623" y="22"/>
                  </a:lnTo>
                  <a:lnTo>
                    <a:pt x="613" y="24"/>
                  </a:lnTo>
                  <a:lnTo>
                    <a:pt x="604" y="24"/>
                  </a:lnTo>
                  <a:lnTo>
                    <a:pt x="597" y="29"/>
                  </a:lnTo>
                  <a:lnTo>
                    <a:pt x="585" y="29"/>
                  </a:lnTo>
                  <a:lnTo>
                    <a:pt x="573" y="31"/>
                  </a:lnTo>
                  <a:lnTo>
                    <a:pt x="564" y="34"/>
                  </a:lnTo>
                  <a:lnTo>
                    <a:pt x="554" y="38"/>
                  </a:lnTo>
                  <a:lnTo>
                    <a:pt x="542" y="41"/>
                  </a:lnTo>
                  <a:lnTo>
                    <a:pt x="533" y="41"/>
                  </a:lnTo>
                  <a:lnTo>
                    <a:pt x="521" y="46"/>
                  </a:lnTo>
                  <a:lnTo>
                    <a:pt x="509" y="48"/>
                  </a:lnTo>
                  <a:lnTo>
                    <a:pt x="497" y="48"/>
                  </a:lnTo>
                  <a:lnTo>
                    <a:pt x="485" y="50"/>
                  </a:lnTo>
                  <a:lnTo>
                    <a:pt x="473" y="53"/>
                  </a:lnTo>
                  <a:lnTo>
                    <a:pt x="464" y="57"/>
                  </a:lnTo>
                  <a:lnTo>
                    <a:pt x="450" y="60"/>
                  </a:lnTo>
                  <a:lnTo>
                    <a:pt x="438" y="62"/>
                  </a:lnTo>
                  <a:lnTo>
                    <a:pt x="428" y="65"/>
                  </a:lnTo>
                  <a:lnTo>
                    <a:pt x="416" y="67"/>
                  </a:lnTo>
                  <a:lnTo>
                    <a:pt x="402" y="69"/>
                  </a:lnTo>
                  <a:lnTo>
                    <a:pt x="390" y="72"/>
                  </a:lnTo>
                  <a:lnTo>
                    <a:pt x="381" y="74"/>
                  </a:lnTo>
                  <a:lnTo>
                    <a:pt x="369" y="76"/>
                  </a:lnTo>
                  <a:lnTo>
                    <a:pt x="357" y="79"/>
                  </a:lnTo>
                  <a:lnTo>
                    <a:pt x="345" y="81"/>
                  </a:lnTo>
                  <a:lnTo>
                    <a:pt x="335" y="84"/>
                  </a:lnTo>
                  <a:lnTo>
                    <a:pt x="324" y="86"/>
                  </a:lnTo>
                  <a:lnTo>
                    <a:pt x="314" y="88"/>
                  </a:lnTo>
                  <a:lnTo>
                    <a:pt x="302" y="91"/>
                  </a:lnTo>
                  <a:lnTo>
                    <a:pt x="290" y="93"/>
                  </a:lnTo>
                  <a:lnTo>
                    <a:pt x="281" y="95"/>
                  </a:lnTo>
                  <a:lnTo>
                    <a:pt x="271" y="95"/>
                  </a:lnTo>
                  <a:lnTo>
                    <a:pt x="259" y="100"/>
                  </a:lnTo>
                  <a:lnTo>
                    <a:pt x="250" y="100"/>
                  </a:lnTo>
                  <a:lnTo>
                    <a:pt x="243" y="105"/>
                  </a:lnTo>
                  <a:lnTo>
                    <a:pt x="233" y="105"/>
                  </a:lnTo>
                  <a:lnTo>
                    <a:pt x="224" y="107"/>
                  </a:lnTo>
                  <a:lnTo>
                    <a:pt x="217" y="110"/>
                  </a:lnTo>
                  <a:lnTo>
                    <a:pt x="210" y="112"/>
                  </a:lnTo>
                  <a:lnTo>
                    <a:pt x="200" y="115"/>
                  </a:lnTo>
                  <a:lnTo>
                    <a:pt x="193" y="115"/>
                  </a:lnTo>
                  <a:lnTo>
                    <a:pt x="186" y="117"/>
                  </a:lnTo>
                  <a:lnTo>
                    <a:pt x="181" y="119"/>
                  </a:lnTo>
                  <a:lnTo>
                    <a:pt x="174" y="119"/>
                  </a:lnTo>
                  <a:lnTo>
                    <a:pt x="167" y="122"/>
                  </a:lnTo>
                  <a:lnTo>
                    <a:pt x="162" y="124"/>
                  </a:lnTo>
                  <a:lnTo>
                    <a:pt x="155" y="126"/>
                  </a:lnTo>
                  <a:lnTo>
                    <a:pt x="143" y="129"/>
                  </a:lnTo>
                  <a:lnTo>
                    <a:pt x="133" y="131"/>
                  </a:lnTo>
                  <a:lnTo>
                    <a:pt x="122" y="134"/>
                  </a:lnTo>
                  <a:lnTo>
                    <a:pt x="112" y="138"/>
                  </a:lnTo>
                  <a:lnTo>
                    <a:pt x="103" y="141"/>
                  </a:lnTo>
                  <a:lnTo>
                    <a:pt x="95" y="145"/>
                  </a:lnTo>
                  <a:lnTo>
                    <a:pt x="84" y="148"/>
                  </a:lnTo>
                  <a:lnTo>
                    <a:pt x="76" y="148"/>
                  </a:lnTo>
                  <a:lnTo>
                    <a:pt x="69" y="150"/>
                  </a:lnTo>
                  <a:lnTo>
                    <a:pt x="62" y="155"/>
                  </a:lnTo>
                  <a:lnTo>
                    <a:pt x="55" y="157"/>
                  </a:lnTo>
                  <a:lnTo>
                    <a:pt x="48" y="160"/>
                  </a:lnTo>
                  <a:lnTo>
                    <a:pt x="43" y="162"/>
                  </a:lnTo>
                  <a:lnTo>
                    <a:pt x="38" y="167"/>
                  </a:lnTo>
                  <a:lnTo>
                    <a:pt x="29" y="169"/>
                  </a:lnTo>
                  <a:lnTo>
                    <a:pt x="19" y="174"/>
                  </a:lnTo>
                  <a:lnTo>
                    <a:pt x="12" y="179"/>
                  </a:lnTo>
                  <a:lnTo>
                    <a:pt x="10" y="181"/>
                  </a:lnTo>
                  <a:lnTo>
                    <a:pt x="0" y="183"/>
                  </a:lnTo>
                  <a:lnTo>
                    <a:pt x="0" y="188"/>
                  </a:lnTo>
                  <a:lnTo>
                    <a:pt x="0" y="18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5791320" y="2584800"/>
              <a:ext cx="655920" cy="237960"/>
            </a:xfrm>
            <a:custGeom>
              <a:avLst/>
              <a:gdLst/>
              <a:ahLst/>
              <a:rect l="l" t="t" r="r" b="b"/>
              <a:pathLst>
                <a:path w="1271" h="639">
                  <a:moveTo>
                    <a:pt x="156" y="0"/>
                  </a:moveTo>
                  <a:lnTo>
                    <a:pt x="0" y="95"/>
                  </a:lnTo>
                  <a:lnTo>
                    <a:pt x="874" y="639"/>
                  </a:lnTo>
                  <a:lnTo>
                    <a:pt x="1254" y="551"/>
                  </a:lnTo>
                  <a:lnTo>
                    <a:pt x="1271" y="451"/>
                  </a:lnTo>
                  <a:lnTo>
                    <a:pt x="948" y="544"/>
                  </a:lnTo>
                  <a:lnTo>
                    <a:pt x="152" y="76"/>
                  </a:lnTo>
                  <a:lnTo>
                    <a:pt x="156" y="0"/>
                  </a:lnTo>
                  <a:lnTo>
                    <a:pt x="156" y="0"/>
                  </a:lnTo>
                  <a:close/>
                </a:path>
              </a:pathLst>
            </a:custGeom>
            <a:solidFill>
              <a:srgbClr val="7573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6548040" y="2759760"/>
              <a:ext cx="131040" cy="79560"/>
            </a:xfrm>
            <a:custGeom>
              <a:avLst/>
              <a:gdLst/>
              <a:ahLst/>
              <a:rect l="l" t="t" r="r" b="b"/>
              <a:pathLst>
                <a:path w="254" h="214">
                  <a:moveTo>
                    <a:pt x="0" y="43"/>
                  </a:moveTo>
                  <a:lnTo>
                    <a:pt x="16" y="214"/>
                  </a:lnTo>
                  <a:lnTo>
                    <a:pt x="254" y="193"/>
                  </a:lnTo>
                  <a:lnTo>
                    <a:pt x="131" y="0"/>
                  </a:lnTo>
                  <a:lnTo>
                    <a:pt x="0" y="43"/>
                  </a:lnTo>
                  <a:lnTo>
                    <a:pt x="0" y="43"/>
                  </a:lnTo>
                  <a:close/>
                </a:path>
              </a:pathLst>
            </a:custGeom>
            <a:solidFill>
              <a:srgbClr val="ff404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60" name=""/>
            <p:cNvSpPr/>
            <p:nvPr/>
          </p:nvSpPr>
          <p:spPr>
            <a:xfrm>
              <a:off x="6184440" y="2841480"/>
              <a:ext cx="456120" cy="140760"/>
            </a:xfrm>
            <a:custGeom>
              <a:avLst/>
              <a:gdLst/>
              <a:ahLst/>
              <a:rect l="l" t="t" r="r" b="b"/>
              <a:pathLst>
                <a:path w="884" h="378">
                  <a:moveTo>
                    <a:pt x="861" y="0"/>
                  </a:moveTo>
                  <a:lnTo>
                    <a:pt x="0" y="183"/>
                  </a:lnTo>
                  <a:lnTo>
                    <a:pt x="17" y="378"/>
                  </a:lnTo>
                  <a:lnTo>
                    <a:pt x="884" y="200"/>
                  </a:lnTo>
                  <a:lnTo>
                    <a:pt x="861" y="0"/>
                  </a:lnTo>
                  <a:lnTo>
                    <a:pt x="861" y="0"/>
                  </a:lnTo>
                  <a:close/>
                </a:path>
              </a:pathLst>
            </a:custGeom>
            <a:solidFill>
              <a:srgbClr val="f7d4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5900040" y="2545560"/>
              <a:ext cx="768960" cy="237240"/>
            </a:xfrm>
            <a:custGeom>
              <a:avLst/>
              <a:gdLst/>
              <a:ahLst/>
              <a:rect l="l" t="t" r="r" b="b"/>
              <a:pathLst>
                <a:path w="1490" h="637">
                  <a:moveTo>
                    <a:pt x="24" y="0"/>
                  </a:moveTo>
                  <a:lnTo>
                    <a:pt x="0" y="174"/>
                  </a:lnTo>
                  <a:lnTo>
                    <a:pt x="765" y="637"/>
                  </a:lnTo>
                  <a:lnTo>
                    <a:pt x="1112" y="544"/>
                  </a:lnTo>
                  <a:lnTo>
                    <a:pt x="1020" y="430"/>
                  </a:lnTo>
                  <a:lnTo>
                    <a:pt x="1143" y="342"/>
                  </a:lnTo>
                  <a:lnTo>
                    <a:pt x="1245" y="492"/>
                  </a:lnTo>
                  <a:lnTo>
                    <a:pt x="1433" y="456"/>
                  </a:lnTo>
                  <a:lnTo>
                    <a:pt x="1433" y="454"/>
                  </a:lnTo>
                  <a:lnTo>
                    <a:pt x="1435" y="452"/>
                  </a:lnTo>
                  <a:lnTo>
                    <a:pt x="1438" y="447"/>
                  </a:lnTo>
                  <a:lnTo>
                    <a:pt x="1443" y="440"/>
                  </a:lnTo>
                  <a:lnTo>
                    <a:pt x="1445" y="433"/>
                  </a:lnTo>
                  <a:lnTo>
                    <a:pt x="1452" y="426"/>
                  </a:lnTo>
                  <a:lnTo>
                    <a:pt x="1457" y="414"/>
                  </a:lnTo>
                  <a:lnTo>
                    <a:pt x="1462" y="404"/>
                  </a:lnTo>
                  <a:lnTo>
                    <a:pt x="1466" y="395"/>
                  </a:lnTo>
                  <a:lnTo>
                    <a:pt x="1471" y="383"/>
                  </a:lnTo>
                  <a:lnTo>
                    <a:pt x="1476" y="371"/>
                  </a:lnTo>
                  <a:lnTo>
                    <a:pt x="1483" y="361"/>
                  </a:lnTo>
                  <a:lnTo>
                    <a:pt x="1485" y="349"/>
                  </a:lnTo>
                  <a:lnTo>
                    <a:pt x="1488" y="340"/>
                  </a:lnTo>
                  <a:lnTo>
                    <a:pt x="1488" y="330"/>
                  </a:lnTo>
                  <a:lnTo>
                    <a:pt x="1490" y="323"/>
                  </a:lnTo>
                  <a:lnTo>
                    <a:pt x="1485" y="314"/>
                  </a:lnTo>
                  <a:lnTo>
                    <a:pt x="1481" y="304"/>
                  </a:lnTo>
                  <a:lnTo>
                    <a:pt x="1473" y="295"/>
                  </a:lnTo>
                  <a:lnTo>
                    <a:pt x="1466" y="283"/>
                  </a:lnTo>
                  <a:lnTo>
                    <a:pt x="1457" y="271"/>
                  </a:lnTo>
                  <a:lnTo>
                    <a:pt x="1445" y="259"/>
                  </a:lnTo>
                  <a:lnTo>
                    <a:pt x="1433" y="247"/>
                  </a:lnTo>
                  <a:lnTo>
                    <a:pt x="1424" y="235"/>
                  </a:lnTo>
                  <a:lnTo>
                    <a:pt x="1412" y="224"/>
                  </a:lnTo>
                  <a:lnTo>
                    <a:pt x="1400" y="214"/>
                  </a:lnTo>
                  <a:lnTo>
                    <a:pt x="1390" y="202"/>
                  </a:lnTo>
                  <a:lnTo>
                    <a:pt x="1383" y="195"/>
                  </a:lnTo>
                  <a:lnTo>
                    <a:pt x="1374" y="188"/>
                  </a:lnTo>
                  <a:lnTo>
                    <a:pt x="1369" y="183"/>
                  </a:lnTo>
                  <a:lnTo>
                    <a:pt x="1364" y="181"/>
                  </a:lnTo>
                  <a:lnTo>
                    <a:pt x="784" y="392"/>
                  </a:lnTo>
                  <a:lnTo>
                    <a:pt x="706" y="390"/>
                  </a:lnTo>
                  <a:lnTo>
                    <a:pt x="24" y="0"/>
                  </a:lnTo>
                  <a:lnTo>
                    <a:pt x="24" y="0"/>
                  </a:lnTo>
                  <a:close/>
                </a:path>
              </a:pathLst>
            </a:custGeom>
            <a:solidFill>
              <a:srgbClr val="8ae6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5843880" y="2441880"/>
              <a:ext cx="861840" cy="318960"/>
            </a:xfrm>
            <a:custGeom>
              <a:avLst/>
              <a:gdLst/>
              <a:ahLst/>
              <a:rect l="l" t="t" r="r" b="b"/>
              <a:pathLst>
                <a:path w="1670" h="856">
                  <a:moveTo>
                    <a:pt x="0" y="200"/>
                  </a:moveTo>
                  <a:lnTo>
                    <a:pt x="0" y="200"/>
                  </a:lnTo>
                  <a:lnTo>
                    <a:pt x="5" y="197"/>
                  </a:lnTo>
                  <a:lnTo>
                    <a:pt x="12" y="192"/>
                  </a:lnTo>
                  <a:lnTo>
                    <a:pt x="21" y="190"/>
                  </a:lnTo>
                  <a:lnTo>
                    <a:pt x="26" y="188"/>
                  </a:lnTo>
                  <a:lnTo>
                    <a:pt x="31" y="185"/>
                  </a:lnTo>
                  <a:lnTo>
                    <a:pt x="38" y="183"/>
                  </a:lnTo>
                  <a:lnTo>
                    <a:pt x="45" y="181"/>
                  </a:lnTo>
                  <a:lnTo>
                    <a:pt x="52" y="178"/>
                  </a:lnTo>
                  <a:lnTo>
                    <a:pt x="62" y="173"/>
                  </a:lnTo>
                  <a:lnTo>
                    <a:pt x="69" y="171"/>
                  </a:lnTo>
                  <a:lnTo>
                    <a:pt x="81" y="169"/>
                  </a:lnTo>
                  <a:lnTo>
                    <a:pt x="88" y="164"/>
                  </a:lnTo>
                  <a:lnTo>
                    <a:pt x="100" y="159"/>
                  </a:lnTo>
                  <a:lnTo>
                    <a:pt x="109" y="154"/>
                  </a:lnTo>
                  <a:lnTo>
                    <a:pt x="119" y="152"/>
                  </a:lnTo>
                  <a:lnTo>
                    <a:pt x="131" y="147"/>
                  </a:lnTo>
                  <a:lnTo>
                    <a:pt x="142" y="143"/>
                  </a:lnTo>
                  <a:lnTo>
                    <a:pt x="154" y="138"/>
                  </a:lnTo>
                  <a:lnTo>
                    <a:pt x="169" y="135"/>
                  </a:lnTo>
                  <a:lnTo>
                    <a:pt x="180" y="131"/>
                  </a:lnTo>
                  <a:lnTo>
                    <a:pt x="192" y="126"/>
                  </a:lnTo>
                  <a:lnTo>
                    <a:pt x="207" y="121"/>
                  </a:lnTo>
                  <a:lnTo>
                    <a:pt x="221" y="116"/>
                  </a:lnTo>
                  <a:lnTo>
                    <a:pt x="235" y="112"/>
                  </a:lnTo>
                  <a:lnTo>
                    <a:pt x="249" y="107"/>
                  </a:lnTo>
                  <a:lnTo>
                    <a:pt x="264" y="105"/>
                  </a:lnTo>
                  <a:lnTo>
                    <a:pt x="280" y="100"/>
                  </a:lnTo>
                  <a:lnTo>
                    <a:pt x="292" y="95"/>
                  </a:lnTo>
                  <a:lnTo>
                    <a:pt x="309" y="90"/>
                  </a:lnTo>
                  <a:lnTo>
                    <a:pt x="323" y="85"/>
                  </a:lnTo>
                  <a:lnTo>
                    <a:pt x="340" y="81"/>
                  </a:lnTo>
                  <a:lnTo>
                    <a:pt x="354" y="74"/>
                  </a:lnTo>
                  <a:lnTo>
                    <a:pt x="371" y="71"/>
                  </a:lnTo>
                  <a:lnTo>
                    <a:pt x="385" y="64"/>
                  </a:lnTo>
                  <a:lnTo>
                    <a:pt x="401" y="62"/>
                  </a:lnTo>
                  <a:lnTo>
                    <a:pt x="418" y="57"/>
                  </a:lnTo>
                  <a:lnTo>
                    <a:pt x="432" y="52"/>
                  </a:lnTo>
                  <a:lnTo>
                    <a:pt x="449" y="47"/>
                  </a:lnTo>
                  <a:lnTo>
                    <a:pt x="466" y="45"/>
                  </a:lnTo>
                  <a:lnTo>
                    <a:pt x="482" y="40"/>
                  </a:lnTo>
                  <a:lnTo>
                    <a:pt x="499" y="38"/>
                  </a:lnTo>
                  <a:lnTo>
                    <a:pt x="515" y="36"/>
                  </a:lnTo>
                  <a:lnTo>
                    <a:pt x="532" y="31"/>
                  </a:lnTo>
                  <a:lnTo>
                    <a:pt x="549" y="26"/>
                  </a:lnTo>
                  <a:lnTo>
                    <a:pt x="565" y="24"/>
                  </a:lnTo>
                  <a:lnTo>
                    <a:pt x="582" y="19"/>
                  </a:lnTo>
                  <a:lnTo>
                    <a:pt x="596" y="17"/>
                  </a:lnTo>
                  <a:lnTo>
                    <a:pt x="613" y="14"/>
                  </a:lnTo>
                  <a:lnTo>
                    <a:pt x="630" y="12"/>
                  </a:lnTo>
                  <a:lnTo>
                    <a:pt x="646" y="9"/>
                  </a:lnTo>
                  <a:lnTo>
                    <a:pt x="663" y="7"/>
                  </a:lnTo>
                  <a:lnTo>
                    <a:pt x="677" y="5"/>
                  </a:lnTo>
                  <a:lnTo>
                    <a:pt x="694" y="2"/>
                  </a:lnTo>
                  <a:lnTo>
                    <a:pt x="708" y="0"/>
                  </a:lnTo>
                  <a:lnTo>
                    <a:pt x="725" y="0"/>
                  </a:lnTo>
                  <a:lnTo>
                    <a:pt x="736" y="0"/>
                  </a:lnTo>
                  <a:lnTo>
                    <a:pt x="753" y="0"/>
                  </a:lnTo>
                  <a:lnTo>
                    <a:pt x="767" y="0"/>
                  </a:lnTo>
                  <a:lnTo>
                    <a:pt x="782" y="0"/>
                  </a:lnTo>
                  <a:lnTo>
                    <a:pt x="786" y="0"/>
                  </a:lnTo>
                  <a:lnTo>
                    <a:pt x="796" y="2"/>
                  </a:lnTo>
                  <a:lnTo>
                    <a:pt x="801" y="2"/>
                  </a:lnTo>
                  <a:lnTo>
                    <a:pt x="805" y="5"/>
                  </a:lnTo>
                  <a:lnTo>
                    <a:pt x="813" y="9"/>
                  </a:lnTo>
                  <a:lnTo>
                    <a:pt x="822" y="12"/>
                  </a:lnTo>
                  <a:lnTo>
                    <a:pt x="829" y="14"/>
                  </a:lnTo>
                  <a:lnTo>
                    <a:pt x="839" y="19"/>
                  </a:lnTo>
                  <a:lnTo>
                    <a:pt x="848" y="24"/>
                  </a:lnTo>
                  <a:lnTo>
                    <a:pt x="858" y="28"/>
                  </a:lnTo>
                  <a:lnTo>
                    <a:pt x="870" y="31"/>
                  </a:lnTo>
                  <a:lnTo>
                    <a:pt x="879" y="36"/>
                  </a:lnTo>
                  <a:lnTo>
                    <a:pt x="891" y="43"/>
                  </a:lnTo>
                  <a:lnTo>
                    <a:pt x="905" y="50"/>
                  </a:lnTo>
                  <a:lnTo>
                    <a:pt x="917" y="55"/>
                  </a:lnTo>
                  <a:lnTo>
                    <a:pt x="929" y="59"/>
                  </a:lnTo>
                  <a:lnTo>
                    <a:pt x="943" y="66"/>
                  </a:lnTo>
                  <a:lnTo>
                    <a:pt x="957" y="74"/>
                  </a:lnTo>
                  <a:lnTo>
                    <a:pt x="972" y="81"/>
                  </a:lnTo>
                  <a:lnTo>
                    <a:pt x="986" y="88"/>
                  </a:lnTo>
                  <a:lnTo>
                    <a:pt x="1000" y="95"/>
                  </a:lnTo>
                  <a:lnTo>
                    <a:pt x="1017" y="102"/>
                  </a:lnTo>
                  <a:lnTo>
                    <a:pt x="1031" y="109"/>
                  </a:lnTo>
                  <a:lnTo>
                    <a:pt x="1048" y="116"/>
                  </a:lnTo>
                  <a:lnTo>
                    <a:pt x="1062" y="126"/>
                  </a:lnTo>
                  <a:lnTo>
                    <a:pt x="1079" y="133"/>
                  </a:lnTo>
                  <a:lnTo>
                    <a:pt x="1095" y="140"/>
                  </a:lnTo>
                  <a:lnTo>
                    <a:pt x="1112" y="150"/>
                  </a:lnTo>
                  <a:lnTo>
                    <a:pt x="1129" y="159"/>
                  </a:lnTo>
                  <a:lnTo>
                    <a:pt x="1145" y="169"/>
                  </a:lnTo>
                  <a:lnTo>
                    <a:pt x="1162" y="173"/>
                  </a:lnTo>
                  <a:lnTo>
                    <a:pt x="1178" y="183"/>
                  </a:lnTo>
                  <a:lnTo>
                    <a:pt x="1193" y="192"/>
                  </a:lnTo>
                  <a:lnTo>
                    <a:pt x="1212" y="202"/>
                  </a:lnTo>
                  <a:lnTo>
                    <a:pt x="1226" y="209"/>
                  </a:lnTo>
                  <a:lnTo>
                    <a:pt x="1245" y="219"/>
                  </a:lnTo>
                  <a:lnTo>
                    <a:pt x="1259" y="228"/>
                  </a:lnTo>
                  <a:lnTo>
                    <a:pt x="1278" y="238"/>
                  </a:lnTo>
                  <a:lnTo>
                    <a:pt x="1293" y="245"/>
                  </a:lnTo>
                  <a:lnTo>
                    <a:pt x="1309" y="254"/>
                  </a:lnTo>
                  <a:lnTo>
                    <a:pt x="1326" y="261"/>
                  </a:lnTo>
                  <a:lnTo>
                    <a:pt x="1342" y="271"/>
                  </a:lnTo>
                  <a:lnTo>
                    <a:pt x="1357" y="280"/>
                  </a:lnTo>
                  <a:lnTo>
                    <a:pt x="1373" y="288"/>
                  </a:lnTo>
                  <a:lnTo>
                    <a:pt x="1388" y="297"/>
                  </a:lnTo>
                  <a:lnTo>
                    <a:pt x="1404" y="307"/>
                  </a:lnTo>
                  <a:lnTo>
                    <a:pt x="1416" y="314"/>
                  </a:lnTo>
                  <a:lnTo>
                    <a:pt x="1430" y="321"/>
                  </a:lnTo>
                  <a:lnTo>
                    <a:pt x="1445" y="328"/>
                  </a:lnTo>
                  <a:lnTo>
                    <a:pt x="1459" y="337"/>
                  </a:lnTo>
                  <a:lnTo>
                    <a:pt x="1471" y="345"/>
                  </a:lnTo>
                  <a:lnTo>
                    <a:pt x="1483" y="354"/>
                  </a:lnTo>
                  <a:lnTo>
                    <a:pt x="1495" y="359"/>
                  </a:lnTo>
                  <a:lnTo>
                    <a:pt x="1506" y="368"/>
                  </a:lnTo>
                  <a:lnTo>
                    <a:pt x="1518" y="373"/>
                  </a:lnTo>
                  <a:lnTo>
                    <a:pt x="1528" y="380"/>
                  </a:lnTo>
                  <a:lnTo>
                    <a:pt x="1537" y="387"/>
                  </a:lnTo>
                  <a:lnTo>
                    <a:pt x="1547" y="395"/>
                  </a:lnTo>
                  <a:lnTo>
                    <a:pt x="1556" y="399"/>
                  </a:lnTo>
                  <a:lnTo>
                    <a:pt x="1566" y="406"/>
                  </a:lnTo>
                  <a:lnTo>
                    <a:pt x="1571" y="414"/>
                  </a:lnTo>
                  <a:lnTo>
                    <a:pt x="1580" y="418"/>
                  </a:lnTo>
                  <a:lnTo>
                    <a:pt x="1582" y="421"/>
                  </a:lnTo>
                  <a:lnTo>
                    <a:pt x="1587" y="425"/>
                  </a:lnTo>
                  <a:lnTo>
                    <a:pt x="1592" y="430"/>
                  </a:lnTo>
                  <a:lnTo>
                    <a:pt x="1597" y="435"/>
                  </a:lnTo>
                  <a:lnTo>
                    <a:pt x="1604" y="442"/>
                  </a:lnTo>
                  <a:lnTo>
                    <a:pt x="1611" y="449"/>
                  </a:lnTo>
                  <a:lnTo>
                    <a:pt x="1616" y="456"/>
                  </a:lnTo>
                  <a:lnTo>
                    <a:pt x="1623" y="466"/>
                  </a:lnTo>
                  <a:lnTo>
                    <a:pt x="1630" y="475"/>
                  </a:lnTo>
                  <a:lnTo>
                    <a:pt x="1637" y="487"/>
                  </a:lnTo>
                  <a:lnTo>
                    <a:pt x="1642" y="497"/>
                  </a:lnTo>
                  <a:lnTo>
                    <a:pt x="1649" y="509"/>
                  </a:lnTo>
                  <a:lnTo>
                    <a:pt x="1651" y="516"/>
                  </a:lnTo>
                  <a:lnTo>
                    <a:pt x="1656" y="523"/>
                  </a:lnTo>
                  <a:lnTo>
                    <a:pt x="1658" y="530"/>
                  </a:lnTo>
                  <a:lnTo>
                    <a:pt x="1661" y="537"/>
                  </a:lnTo>
                  <a:lnTo>
                    <a:pt x="1663" y="542"/>
                  </a:lnTo>
                  <a:lnTo>
                    <a:pt x="1666" y="549"/>
                  </a:lnTo>
                  <a:lnTo>
                    <a:pt x="1666" y="556"/>
                  </a:lnTo>
                  <a:lnTo>
                    <a:pt x="1668" y="563"/>
                  </a:lnTo>
                  <a:lnTo>
                    <a:pt x="1670" y="570"/>
                  </a:lnTo>
                  <a:lnTo>
                    <a:pt x="1670" y="578"/>
                  </a:lnTo>
                  <a:lnTo>
                    <a:pt x="1670" y="587"/>
                  </a:lnTo>
                  <a:lnTo>
                    <a:pt x="1670" y="594"/>
                  </a:lnTo>
                  <a:lnTo>
                    <a:pt x="1670" y="601"/>
                  </a:lnTo>
                  <a:lnTo>
                    <a:pt x="1670" y="608"/>
                  </a:lnTo>
                  <a:lnTo>
                    <a:pt x="1670" y="618"/>
                  </a:lnTo>
                  <a:lnTo>
                    <a:pt x="1670" y="627"/>
                  </a:lnTo>
                  <a:lnTo>
                    <a:pt x="1668" y="635"/>
                  </a:lnTo>
                  <a:lnTo>
                    <a:pt x="1666" y="644"/>
                  </a:lnTo>
                  <a:lnTo>
                    <a:pt x="1663" y="651"/>
                  </a:lnTo>
                  <a:lnTo>
                    <a:pt x="1663" y="661"/>
                  </a:lnTo>
                  <a:lnTo>
                    <a:pt x="1658" y="670"/>
                  </a:lnTo>
                  <a:lnTo>
                    <a:pt x="1654" y="677"/>
                  </a:lnTo>
                  <a:lnTo>
                    <a:pt x="1649" y="687"/>
                  </a:lnTo>
                  <a:lnTo>
                    <a:pt x="1647" y="696"/>
                  </a:lnTo>
                  <a:lnTo>
                    <a:pt x="1639" y="706"/>
                  </a:lnTo>
                  <a:lnTo>
                    <a:pt x="1635" y="715"/>
                  </a:lnTo>
                  <a:lnTo>
                    <a:pt x="1630" y="723"/>
                  </a:lnTo>
                  <a:lnTo>
                    <a:pt x="1623" y="734"/>
                  </a:lnTo>
                  <a:lnTo>
                    <a:pt x="1616" y="744"/>
                  </a:lnTo>
                  <a:lnTo>
                    <a:pt x="1606" y="751"/>
                  </a:lnTo>
                  <a:lnTo>
                    <a:pt x="1599" y="761"/>
                  </a:lnTo>
                  <a:lnTo>
                    <a:pt x="1590" y="773"/>
                  </a:lnTo>
                  <a:lnTo>
                    <a:pt x="1580" y="782"/>
                  </a:lnTo>
                  <a:lnTo>
                    <a:pt x="1571" y="789"/>
                  </a:lnTo>
                  <a:lnTo>
                    <a:pt x="1559" y="801"/>
                  </a:lnTo>
                  <a:lnTo>
                    <a:pt x="1547" y="811"/>
                  </a:lnTo>
                  <a:lnTo>
                    <a:pt x="1366" y="856"/>
                  </a:lnTo>
                  <a:lnTo>
                    <a:pt x="1364" y="808"/>
                  </a:lnTo>
                  <a:lnTo>
                    <a:pt x="1533" y="758"/>
                  </a:lnTo>
                  <a:lnTo>
                    <a:pt x="1535" y="756"/>
                  </a:lnTo>
                  <a:lnTo>
                    <a:pt x="1540" y="751"/>
                  </a:lnTo>
                  <a:lnTo>
                    <a:pt x="1549" y="744"/>
                  </a:lnTo>
                  <a:lnTo>
                    <a:pt x="1561" y="732"/>
                  </a:lnTo>
                  <a:lnTo>
                    <a:pt x="1566" y="725"/>
                  </a:lnTo>
                  <a:lnTo>
                    <a:pt x="1571" y="718"/>
                  </a:lnTo>
                  <a:lnTo>
                    <a:pt x="1578" y="711"/>
                  </a:lnTo>
                  <a:lnTo>
                    <a:pt x="1585" y="704"/>
                  </a:lnTo>
                  <a:lnTo>
                    <a:pt x="1590" y="694"/>
                  </a:lnTo>
                  <a:lnTo>
                    <a:pt x="1597" y="685"/>
                  </a:lnTo>
                  <a:lnTo>
                    <a:pt x="1601" y="677"/>
                  </a:lnTo>
                  <a:lnTo>
                    <a:pt x="1609" y="668"/>
                  </a:lnTo>
                  <a:lnTo>
                    <a:pt x="1611" y="656"/>
                  </a:lnTo>
                  <a:lnTo>
                    <a:pt x="1616" y="644"/>
                  </a:lnTo>
                  <a:lnTo>
                    <a:pt x="1620" y="632"/>
                  </a:lnTo>
                  <a:lnTo>
                    <a:pt x="1623" y="620"/>
                  </a:lnTo>
                  <a:lnTo>
                    <a:pt x="1623" y="613"/>
                  </a:lnTo>
                  <a:lnTo>
                    <a:pt x="1625" y="608"/>
                  </a:lnTo>
                  <a:lnTo>
                    <a:pt x="1625" y="601"/>
                  </a:lnTo>
                  <a:lnTo>
                    <a:pt x="1625" y="597"/>
                  </a:lnTo>
                  <a:lnTo>
                    <a:pt x="1625" y="589"/>
                  </a:lnTo>
                  <a:lnTo>
                    <a:pt x="1625" y="582"/>
                  </a:lnTo>
                  <a:lnTo>
                    <a:pt x="1625" y="575"/>
                  </a:lnTo>
                  <a:lnTo>
                    <a:pt x="1625" y="570"/>
                  </a:lnTo>
                  <a:lnTo>
                    <a:pt x="1623" y="563"/>
                  </a:lnTo>
                  <a:lnTo>
                    <a:pt x="1623" y="556"/>
                  </a:lnTo>
                  <a:lnTo>
                    <a:pt x="1620" y="549"/>
                  </a:lnTo>
                  <a:lnTo>
                    <a:pt x="1618" y="542"/>
                  </a:lnTo>
                  <a:lnTo>
                    <a:pt x="1616" y="535"/>
                  </a:lnTo>
                  <a:lnTo>
                    <a:pt x="1613" y="528"/>
                  </a:lnTo>
                  <a:lnTo>
                    <a:pt x="1611" y="521"/>
                  </a:lnTo>
                  <a:lnTo>
                    <a:pt x="1609" y="513"/>
                  </a:lnTo>
                  <a:lnTo>
                    <a:pt x="1604" y="506"/>
                  </a:lnTo>
                  <a:lnTo>
                    <a:pt x="1599" y="499"/>
                  </a:lnTo>
                  <a:lnTo>
                    <a:pt x="1594" y="492"/>
                  </a:lnTo>
                  <a:lnTo>
                    <a:pt x="1590" y="485"/>
                  </a:lnTo>
                  <a:lnTo>
                    <a:pt x="1582" y="475"/>
                  </a:lnTo>
                  <a:lnTo>
                    <a:pt x="1578" y="468"/>
                  </a:lnTo>
                  <a:lnTo>
                    <a:pt x="1571" y="463"/>
                  </a:lnTo>
                  <a:lnTo>
                    <a:pt x="1566" y="456"/>
                  </a:lnTo>
                  <a:lnTo>
                    <a:pt x="1563" y="454"/>
                  </a:lnTo>
                  <a:lnTo>
                    <a:pt x="1559" y="452"/>
                  </a:lnTo>
                  <a:lnTo>
                    <a:pt x="1549" y="447"/>
                  </a:lnTo>
                  <a:lnTo>
                    <a:pt x="1540" y="442"/>
                  </a:lnTo>
                  <a:lnTo>
                    <a:pt x="1533" y="440"/>
                  </a:lnTo>
                  <a:lnTo>
                    <a:pt x="1528" y="435"/>
                  </a:lnTo>
                  <a:lnTo>
                    <a:pt x="1521" y="433"/>
                  </a:lnTo>
                  <a:lnTo>
                    <a:pt x="1514" y="430"/>
                  </a:lnTo>
                  <a:lnTo>
                    <a:pt x="1504" y="425"/>
                  </a:lnTo>
                  <a:lnTo>
                    <a:pt x="1497" y="421"/>
                  </a:lnTo>
                  <a:lnTo>
                    <a:pt x="1487" y="416"/>
                  </a:lnTo>
                  <a:lnTo>
                    <a:pt x="1480" y="411"/>
                  </a:lnTo>
                  <a:lnTo>
                    <a:pt x="1468" y="406"/>
                  </a:lnTo>
                  <a:lnTo>
                    <a:pt x="1459" y="399"/>
                  </a:lnTo>
                  <a:lnTo>
                    <a:pt x="1447" y="395"/>
                  </a:lnTo>
                  <a:lnTo>
                    <a:pt x="1435" y="390"/>
                  </a:lnTo>
                  <a:lnTo>
                    <a:pt x="1423" y="383"/>
                  </a:lnTo>
                  <a:lnTo>
                    <a:pt x="1411" y="376"/>
                  </a:lnTo>
                  <a:lnTo>
                    <a:pt x="1397" y="368"/>
                  </a:lnTo>
                  <a:lnTo>
                    <a:pt x="1388" y="364"/>
                  </a:lnTo>
                  <a:lnTo>
                    <a:pt x="1373" y="356"/>
                  </a:lnTo>
                  <a:lnTo>
                    <a:pt x="1359" y="349"/>
                  </a:lnTo>
                  <a:lnTo>
                    <a:pt x="1345" y="342"/>
                  </a:lnTo>
                  <a:lnTo>
                    <a:pt x="1333" y="335"/>
                  </a:lnTo>
                  <a:lnTo>
                    <a:pt x="1319" y="328"/>
                  </a:lnTo>
                  <a:lnTo>
                    <a:pt x="1304" y="321"/>
                  </a:lnTo>
                  <a:lnTo>
                    <a:pt x="1290" y="314"/>
                  </a:lnTo>
                  <a:lnTo>
                    <a:pt x="1276" y="307"/>
                  </a:lnTo>
                  <a:lnTo>
                    <a:pt x="1259" y="297"/>
                  </a:lnTo>
                  <a:lnTo>
                    <a:pt x="1245" y="290"/>
                  </a:lnTo>
                  <a:lnTo>
                    <a:pt x="1228" y="280"/>
                  </a:lnTo>
                  <a:lnTo>
                    <a:pt x="1214" y="273"/>
                  </a:lnTo>
                  <a:lnTo>
                    <a:pt x="1197" y="264"/>
                  </a:lnTo>
                  <a:lnTo>
                    <a:pt x="1181" y="257"/>
                  </a:lnTo>
                  <a:lnTo>
                    <a:pt x="1164" y="247"/>
                  </a:lnTo>
                  <a:lnTo>
                    <a:pt x="1150" y="240"/>
                  </a:lnTo>
                  <a:lnTo>
                    <a:pt x="1133" y="230"/>
                  </a:lnTo>
                  <a:lnTo>
                    <a:pt x="1117" y="223"/>
                  </a:lnTo>
                  <a:lnTo>
                    <a:pt x="1100" y="214"/>
                  </a:lnTo>
                  <a:lnTo>
                    <a:pt x="1086" y="207"/>
                  </a:lnTo>
                  <a:lnTo>
                    <a:pt x="1069" y="200"/>
                  </a:lnTo>
                  <a:lnTo>
                    <a:pt x="1053" y="190"/>
                  </a:lnTo>
                  <a:lnTo>
                    <a:pt x="1038" y="183"/>
                  </a:lnTo>
                  <a:lnTo>
                    <a:pt x="1022" y="176"/>
                  </a:lnTo>
                  <a:lnTo>
                    <a:pt x="1005" y="166"/>
                  </a:lnTo>
                  <a:lnTo>
                    <a:pt x="991" y="159"/>
                  </a:lnTo>
                  <a:lnTo>
                    <a:pt x="974" y="150"/>
                  </a:lnTo>
                  <a:lnTo>
                    <a:pt x="960" y="143"/>
                  </a:lnTo>
                  <a:lnTo>
                    <a:pt x="946" y="135"/>
                  </a:lnTo>
                  <a:lnTo>
                    <a:pt x="929" y="128"/>
                  </a:lnTo>
                  <a:lnTo>
                    <a:pt x="915" y="121"/>
                  </a:lnTo>
                  <a:lnTo>
                    <a:pt x="900" y="114"/>
                  </a:lnTo>
                  <a:lnTo>
                    <a:pt x="886" y="107"/>
                  </a:lnTo>
                  <a:lnTo>
                    <a:pt x="872" y="100"/>
                  </a:lnTo>
                  <a:lnTo>
                    <a:pt x="858" y="93"/>
                  </a:lnTo>
                  <a:lnTo>
                    <a:pt x="846" y="85"/>
                  </a:lnTo>
                  <a:lnTo>
                    <a:pt x="832" y="78"/>
                  </a:lnTo>
                  <a:lnTo>
                    <a:pt x="820" y="71"/>
                  </a:lnTo>
                  <a:lnTo>
                    <a:pt x="805" y="66"/>
                  </a:lnTo>
                  <a:lnTo>
                    <a:pt x="796" y="62"/>
                  </a:lnTo>
                  <a:lnTo>
                    <a:pt x="791" y="62"/>
                  </a:lnTo>
                  <a:lnTo>
                    <a:pt x="782" y="62"/>
                  </a:lnTo>
                  <a:lnTo>
                    <a:pt x="775" y="62"/>
                  </a:lnTo>
                  <a:lnTo>
                    <a:pt x="770" y="62"/>
                  </a:lnTo>
                  <a:lnTo>
                    <a:pt x="760" y="62"/>
                  </a:lnTo>
                  <a:lnTo>
                    <a:pt x="753" y="62"/>
                  </a:lnTo>
                  <a:lnTo>
                    <a:pt x="746" y="62"/>
                  </a:lnTo>
                  <a:lnTo>
                    <a:pt x="741" y="62"/>
                  </a:lnTo>
                  <a:lnTo>
                    <a:pt x="734" y="62"/>
                  </a:lnTo>
                  <a:lnTo>
                    <a:pt x="729" y="62"/>
                  </a:lnTo>
                  <a:lnTo>
                    <a:pt x="722" y="62"/>
                  </a:lnTo>
                  <a:lnTo>
                    <a:pt x="715" y="62"/>
                  </a:lnTo>
                  <a:lnTo>
                    <a:pt x="706" y="62"/>
                  </a:lnTo>
                  <a:lnTo>
                    <a:pt x="701" y="62"/>
                  </a:lnTo>
                  <a:lnTo>
                    <a:pt x="691" y="62"/>
                  </a:lnTo>
                  <a:lnTo>
                    <a:pt x="682" y="62"/>
                  </a:lnTo>
                  <a:lnTo>
                    <a:pt x="672" y="64"/>
                  </a:lnTo>
                  <a:lnTo>
                    <a:pt x="665" y="64"/>
                  </a:lnTo>
                  <a:lnTo>
                    <a:pt x="656" y="64"/>
                  </a:lnTo>
                  <a:lnTo>
                    <a:pt x="646" y="66"/>
                  </a:lnTo>
                  <a:lnTo>
                    <a:pt x="637" y="69"/>
                  </a:lnTo>
                  <a:lnTo>
                    <a:pt x="627" y="69"/>
                  </a:lnTo>
                  <a:lnTo>
                    <a:pt x="613" y="69"/>
                  </a:lnTo>
                  <a:lnTo>
                    <a:pt x="601" y="71"/>
                  </a:lnTo>
                  <a:lnTo>
                    <a:pt x="589" y="74"/>
                  </a:lnTo>
                  <a:lnTo>
                    <a:pt x="577" y="76"/>
                  </a:lnTo>
                  <a:lnTo>
                    <a:pt x="563" y="78"/>
                  </a:lnTo>
                  <a:lnTo>
                    <a:pt x="551" y="81"/>
                  </a:lnTo>
                  <a:lnTo>
                    <a:pt x="537" y="83"/>
                  </a:lnTo>
                  <a:lnTo>
                    <a:pt x="525" y="85"/>
                  </a:lnTo>
                  <a:lnTo>
                    <a:pt x="511" y="88"/>
                  </a:lnTo>
                  <a:lnTo>
                    <a:pt x="494" y="93"/>
                  </a:lnTo>
                  <a:lnTo>
                    <a:pt x="480" y="95"/>
                  </a:lnTo>
                  <a:lnTo>
                    <a:pt x="463" y="100"/>
                  </a:lnTo>
                  <a:lnTo>
                    <a:pt x="447" y="102"/>
                  </a:lnTo>
                  <a:lnTo>
                    <a:pt x="430" y="105"/>
                  </a:lnTo>
                  <a:lnTo>
                    <a:pt x="413" y="109"/>
                  </a:lnTo>
                  <a:lnTo>
                    <a:pt x="397" y="114"/>
                  </a:lnTo>
                  <a:lnTo>
                    <a:pt x="378" y="119"/>
                  </a:lnTo>
                  <a:lnTo>
                    <a:pt x="359" y="124"/>
                  </a:lnTo>
                  <a:lnTo>
                    <a:pt x="340" y="128"/>
                  </a:lnTo>
                  <a:lnTo>
                    <a:pt x="321" y="135"/>
                  </a:lnTo>
                  <a:lnTo>
                    <a:pt x="299" y="138"/>
                  </a:lnTo>
                  <a:lnTo>
                    <a:pt x="278" y="145"/>
                  </a:lnTo>
                  <a:lnTo>
                    <a:pt x="256" y="152"/>
                  </a:lnTo>
                  <a:lnTo>
                    <a:pt x="237" y="159"/>
                  </a:lnTo>
                  <a:lnTo>
                    <a:pt x="214" y="164"/>
                  </a:lnTo>
                  <a:lnTo>
                    <a:pt x="192" y="171"/>
                  </a:lnTo>
                  <a:lnTo>
                    <a:pt x="169" y="178"/>
                  </a:lnTo>
                  <a:lnTo>
                    <a:pt x="145" y="185"/>
                  </a:lnTo>
                  <a:lnTo>
                    <a:pt x="121" y="192"/>
                  </a:lnTo>
                  <a:lnTo>
                    <a:pt x="97" y="202"/>
                  </a:lnTo>
                  <a:lnTo>
                    <a:pt x="71" y="211"/>
                  </a:lnTo>
                  <a:lnTo>
                    <a:pt x="45" y="221"/>
                  </a:lnTo>
                  <a:lnTo>
                    <a:pt x="38" y="221"/>
                  </a:lnTo>
                  <a:lnTo>
                    <a:pt x="28" y="219"/>
                  </a:lnTo>
                  <a:lnTo>
                    <a:pt x="21" y="216"/>
                  </a:lnTo>
                  <a:lnTo>
                    <a:pt x="14" y="211"/>
                  </a:lnTo>
                  <a:lnTo>
                    <a:pt x="5" y="204"/>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5843880" y="2512080"/>
              <a:ext cx="808200" cy="182160"/>
            </a:xfrm>
            <a:custGeom>
              <a:avLst/>
              <a:gdLst/>
              <a:ahLst/>
              <a:rect l="l" t="t" r="r" b="b"/>
              <a:pathLst>
                <a:path w="1566" h="489">
                  <a:moveTo>
                    <a:pt x="0" y="12"/>
                  </a:moveTo>
                  <a:lnTo>
                    <a:pt x="9" y="40"/>
                  </a:lnTo>
                  <a:lnTo>
                    <a:pt x="836" y="489"/>
                  </a:lnTo>
                  <a:lnTo>
                    <a:pt x="836" y="489"/>
                  </a:lnTo>
                  <a:lnTo>
                    <a:pt x="841" y="487"/>
                  </a:lnTo>
                  <a:lnTo>
                    <a:pt x="846" y="482"/>
                  </a:lnTo>
                  <a:lnTo>
                    <a:pt x="855" y="480"/>
                  </a:lnTo>
                  <a:lnTo>
                    <a:pt x="860" y="475"/>
                  </a:lnTo>
                  <a:lnTo>
                    <a:pt x="867" y="473"/>
                  </a:lnTo>
                  <a:lnTo>
                    <a:pt x="874" y="470"/>
                  </a:lnTo>
                  <a:lnTo>
                    <a:pt x="879" y="468"/>
                  </a:lnTo>
                  <a:lnTo>
                    <a:pt x="886" y="466"/>
                  </a:lnTo>
                  <a:lnTo>
                    <a:pt x="896" y="461"/>
                  </a:lnTo>
                  <a:lnTo>
                    <a:pt x="903" y="459"/>
                  </a:lnTo>
                  <a:lnTo>
                    <a:pt x="912" y="456"/>
                  </a:lnTo>
                  <a:lnTo>
                    <a:pt x="922" y="451"/>
                  </a:lnTo>
                  <a:lnTo>
                    <a:pt x="931" y="447"/>
                  </a:lnTo>
                  <a:lnTo>
                    <a:pt x="943" y="442"/>
                  </a:lnTo>
                  <a:lnTo>
                    <a:pt x="953" y="439"/>
                  </a:lnTo>
                  <a:lnTo>
                    <a:pt x="962" y="435"/>
                  </a:lnTo>
                  <a:lnTo>
                    <a:pt x="974" y="430"/>
                  </a:lnTo>
                  <a:lnTo>
                    <a:pt x="986" y="425"/>
                  </a:lnTo>
                  <a:lnTo>
                    <a:pt x="998" y="420"/>
                  </a:lnTo>
                  <a:lnTo>
                    <a:pt x="1010" y="416"/>
                  </a:lnTo>
                  <a:lnTo>
                    <a:pt x="1022" y="411"/>
                  </a:lnTo>
                  <a:lnTo>
                    <a:pt x="1036" y="406"/>
                  </a:lnTo>
                  <a:lnTo>
                    <a:pt x="1048" y="401"/>
                  </a:lnTo>
                  <a:lnTo>
                    <a:pt x="1062" y="397"/>
                  </a:lnTo>
                  <a:lnTo>
                    <a:pt x="1076" y="392"/>
                  </a:lnTo>
                  <a:lnTo>
                    <a:pt x="1088" y="387"/>
                  </a:lnTo>
                  <a:lnTo>
                    <a:pt x="1105" y="385"/>
                  </a:lnTo>
                  <a:lnTo>
                    <a:pt x="1119" y="378"/>
                  </a:lnTo>
                  <a:lnTo>
                    <a:pt x="1131" y="373"/>
                  </a:lnTo>
                  <a:lnTo>
                    <a:pt x="1145" y="368"/>
                  </a:lnTo>
                  <a:lnTo>
                    <a:pt x="1159" y="363"/>
                  </a:lnTo>
                  <a:lnTo>
                    <a:pt x="1174" y="356"/>
                  </a:lnTo>
                  <a:lnTo>
                    <a:pt x="1188" y="352"/>
                  </a:lnTo>
                  <a:lnTo>
                    <a:pt x="1205" y="347"/>
                  </a:lnTo>
                  <a:lnTo>
                    <a:pt x="1221" y="342"/>
                  </a:lnTo>
                  <a:lnTo>
                    <a:pt x="1233" y="337"/>
                  </a:lnTo>
                  <a:lnTo>
                    <a:pt x="1250" y="333"/>
                  </a:lnTo>
                  <a:lnTo>
                    <a:pt x="1264" y="328"/>
                  </a:lnTo>
                  <a:lnTo>
                    <a:pt x="1281" y="323"/>
                  </a:lnTo>
                  <a:lnTo>
                    <a:pt x="1295" y="318"/>
                  </a:lnTo>
                  <a:lnTo>
                    <a:pt x="1312" y="314"/>
                  </a:lnTo>
                  <a:lnTo>
                    <a:pt x="1326" y="311"/>
                  </a:lnTo>
                  <a:lnTo>
                    <a:pt x="1342" y="309"/>
                  </a:lnTo>
                  <a:lnTo>
                    <a:pt x="1357" y="304"/>
                  </a:lnTo>
                  <a:lnTo>
                    <a:pt x="1371" y="299"/>
                  </a:lnTo>
                  <a:lnTo>
                    <a:pt x="1385" y="294"/>
                  </a:lnTo>
                  <a:lnTo>
                    <a:pt x="1399" y="292"/>
                  </a:lnTo>
                  <a:lnTo>
                    <a:pt x="1414" y="287"/>
                  </a:lnTo>
                  <a:lnTo>
                    <a:pt x="1430" y="285"/>
                  </a:lnTo>
                  <a:lnTo>
                    <a:pt x="1445" y="283"/>
                  </a:lnTo>
                  <a:lnTo>
                    <a:pt x="1459" y="280"/>
                  </a:lnTo>
                  <a:lnTo>
                    <a:pt x="1471" y="275"/>
                  </a:lnTo>
                  <a:lnTo>
                    <a:pt x="1485" y="275"/>
                  </a:lnTo>
                  <a:lnTo>
                    <a:pt x="1499" y="273"/>
                  </a:lnTo>
                  <a:lnTo>
                    <a:pt x="1514" y="271"/>
                  </a:lnTo>
                  <a:lnTo>
                    <a:pt x="1525" y="268"/>
                  </a:lnTo>
                  <a:lnTo>
                    <a:pt x="1540" y="268"/>
                  </a:lnTo>
                  <a:lnTo>
                    <a:pt x="1552" y="268"/>
                  </a:lnTo>
                  <a:lnTo>
                    <a:pt x="1566" y="268"/>
                  </a:lnTo>
                  <a:lnTo>
                    <a:pt x="1556" y="230"/>
                  </a:lnTo>
                  <a:lnTo>
                    <a:pt x="1506" y="235"/>
                  </a:lnTo>
                  <a:lnTo>
                    <a:pt x="1504" y="235"/>
                  </a:lnTo>
                  <a:lnTo>
                    <a:pt x="1499" y="235"/>
                  </a:lnTo>
                  <a:lnTo>
                    <a:pt x="1495" y="235"/>
                  </a:lnTo>
                  <a:lnTo>
                    <a:pt x="1487" y="237"/>
                  </a:lnTo>
                  <a:lnTo>
                    <a:pt x="1478" y="237"/>
                  </a:lnTo>
                  <a:lnTo>
                    <a:pt x="1466" y="240"/>
                  </a:lnTo>
                  <a:lnTo>
                    <a:pt x="1461" y="242"/>
                  </a:lnTo>
                  <a:lnTo>
                    <a:pt x="1454" y="242"/>
                  </a:lnTo>
                  <a:lnTo>
                    <a:pt x="1447" y="245"/>
                  </a:lnTo>
                  <a:lnTo>
                    <a:pt x="1440" y="247"/>
                  </a:lnTo>
                  <a:lnTo>
                    <a:pt x="1430" y="247"/>
                  </a:lnTo>
                  <a:lnTo>
                    <a:pt x="1423" y="249"/>
                  </a:lnTo>
                  <a:lnTo>
                    <a:pt x="1414" y="249"/>
                  </a:lnTo>
                  <a:lnTo>
                    <a:pt x="1404" y="252"/>
                  </a:lnTo>
                  <a:lnTo>
                    <a:pt x="1395" y="254"/>
                  </a:lnTo>
                  <a:lnTo>
                    <a:pt x="1385" y="256"/>
                  </a:lnTo>
                  <a:lnTo>
                    <a:pt x="1376" y="259"/>
                  </a:lnTo>
                  <a:lnTo>
                    <a:pt x="1366" y="261"/>
                  </a:lnTo>
                  <a:lnTo>
                    <a:pt x="1354" y="264"/>
                  </a:lnTo>
                  <a:lnTo>
                    <a:pt x="1345" y="266"/>
                  </a:lnTo>
                  <a:lnTo>
                    <a:pt x="1333" y="268"/>
                  </a:lnTo>
                  <a:lnTo>
                    <a:pt x="1321" y="273"/>
                  </a:lnTo>
                  <a:lnTo>
                    <a:pt x="1309" y="275"/>
                  </a:lnTo>
                  <a:lnTo>
                    <a:pt x="1297" y="278"/>
                  </a:lnTo>
                  <a:lnTo>
                    <a:pt x="1288" y="280"/>
                  </a:lnTo>
                  <a:lnTo>
                    <a:pt x="1276" y="285"/>
                  </a:lnTo>
                  <a:lnTo>
                    <a:pt x="1262" y="287"/>
                  </a:lnTo>
                  <a:lnTo>
                    <a:pt x="1250" y="290"/>
                  </a:lnTo>
                  <a:lnTo>
                    <a:pt x="1235" y="294"/>
                  </a:lnTo>
                  <a:lnTo>
                    <a:pt x="1224" y="297"/>
                  </a:lnTo>
                  <a:lnTo>
                    <a:pt x="1209" y="302"/>
                  </a:lnTo>
                  <a:lnTo>
                    <a:pt x="1197" y="304"/>
                  </a:lnTo>
                  <a:lnTo>
                    <a:pt x="1183" y="309"/>
                  </a:lnTo>
                  <a:lnTo>
                    <a:pt x="1171" y="311"/>
                  </a:lnTo>
                  <a:lnTo>
                    <a:pt x="1157" y="316"/>
                  </a:lnTo>
                  <a:lnTo>
                    <a:pt x="1143" y="318"/>
                  </a:lnTo>
                  <a:lnTo>
                    <a:pt x="1129" y="323"/>
                  </a:lnTo>
                  <a:lnTo>
                    <a:pt x="1117" y="328"/>
                  </a:lnTo>
                  <a:lnTo>
                    <a:pt x="1102" y="333"/>
                  </a:lnTo>
                  <a:lnTo>
                    <a:pt x="1088" y="337"/>
                  </a:lnTo>
                  <a:lnTo>
                    <a:pt x="1074" y="342"/>
                  </a:lnTo>
                  <a:lnTo>
                    <a:pt x="1060" y="347"/>
                  </a:lnTo>
                  <a:lnTo>
                    <a:pt x="1048" y="349"/>
                  </a:lnTo>
                  <a:lnTo>
                    <a:pt x="1034" y="354"/>
                  </a:lnTo>
                  <a:lnTo>
                    <a:pt x="1019" y="359"/>
                  </a:lnTo>
                  <a:lnTo>
                    <a:pt x="1005" y="366"/>
                  </a:lnTo>
                  <a:lnTo>
                    <a:pt x="991" y="371"/>
                  </a:lnTo>
                  <a:lnTo>
                    <a:pt x="979" y="375"/>
                  </a:lnTo>
                  <a:lnTo>
                    <a:pt x="965" y="380"/>
                  </a:lnTo>
                  <a:lnTo>
                    <a:pt x="950" y="385"/>
                  </a:lnTo>
                  <a:lnTo>
                    <a:pt x="938" y="390"/>
                  </a:lnTo>
                  <a:lnTo>
                    <a:pt x="924" y="397"/>
                  </a:lnTo>
                  <a:lnTo>
                    <a:pt x="910" y="401"/>
                  </a:lnTo>
                  <a:lnTo>
                    <a:pt x="898" y="409"/>
                  </a:lnTo>
                  <a:lnTo>
                    <a:pt x="884" y="413"/>
                  </a:lnTo>
                  <a:lnTo>
                    <a:pt x="874" y="420"/>
                  </a:lnTo>
                  <a:lnTo>
                    <a:pt x="860" y="425"/>
                  </a:lnTo>
                  <a:lnTo>
                    <a:pt x="848" y="432"/>
                  </a:lnTo>
                  <a:lnTo>
                    <a:pt x="841" y="428"/>
                  </a:lnTo>
                  <a:lnTo>
                    <a:pt x="834" y="423"/>
                  </a:lnTo>
                  <a:lnTo>
                    <a:pt x="827" y="420"/>
                  </a:lnTo>
                  <a:lnTo>
                    <a:pt x="820" y="416"/>
                  </a:lnTo>
                  <a:lnTo>
                    <a:pt x="810" y="411"/>
                  </a:lnTo>
                  <a:lnTo>
                    <a:pt x="803" y="409"/>
                  </a:lnTo>
                  <a:lnTo>
                    <a:pt x="794" y="401"/>
                  </a:lnTo>
                  <a:lnTo>
                    <a:pt x="782" y="397"/>
                  </a:lnTo>
                  <a:lnTo>
                    <a:pt x="770" y="390"/>
                  </a:lnTo>
                  <a:lnTo>
                    <a:pt x="760" y="385"/>
                  </a:lnTo>
                  <a:lnTo>
                    <a:pt x="746" y="378"/>
                  </a:lnTo>
                  <a:lnTo>
                    <a:pt x="736" y="371"/>
                  </a:lnTo>
                  <a:lnTo>
                    <a:pt x="722" y="363"/>
                  </a:lnTo>
                  <a:lnTo>
                    <a:pt x="708" y="356"/>
                  </a:lnTo>
                  <a:lnTo>
                    <a:pt x="694" y="347"/>
                  </a:lnTo>
                  <a:lnTo>
                    <a:pt x="677" y="340"/>
                  </a:lnTo>
                  <a:lnTo>
                    <a:pt x="663" y="330"/>
                  </a:lnTo>
                  <a:lnTo>
                    <a:pt x="649" y="323"/>
                  </a:lnTo>
                  <a:lnTo>
                    <a:pt x="632" y="311"/>
                  </a:lnTo>
                  <a:lnTo>
                    <a:pt x="615" y="304"/>
                  </a:lnTo>
                  <a:lnTo>
                    <a:pt x="599" y="294"/>
                  </a:lnTo>
                  <a:lnTo>
                    <a:pt x="582" y="285"/>
                  </a:lnTo>
                  <a:lnTo>
                    <a:pt x="563" y="275"/>
                  </a:lnTo>
                  <a:lnTo>
                    <a:pt x="546" y="266"/>
                  </a:lnTo>
                  <a:lnTo>
                    <a:pt x="530" y="256"/>
                  </a:lnTo>
                  <a:lnTo>
                    <a:pt x="513" y="247"/>
                  </a:lnTo>
                  <a:lnTo>
                    <a:pt x="494" y="237"/>
                  </a:lnTo>
                  <a:lnTo>
                    <a:pt x="477" y="228"/>
                  </a:lnTo>
                  <a:lnTo>
                    <a:pt x="458" y="218"/>
                  </a:lnTo>
                  <a:lnTo>
                    <a:pt x="442" y="209"/>
                  </a:lnTo>
                  <a:lnTo>
                    <a:pt x="423" y="199"/>
                  </a:lnTo>
                  <a:lnTo>
                    <a:pt x="406" y="188"/>
                  </a:lnTo>
                  <a:lnTo>
                    <a:pt x="387" y="178"/>
                  </a:lnTo>
                  <a:lnTo>
                    <a:pt x="371" y="168"/>
                  </a:lnTo>
                  <a:lnTo>
                    <a:pt x="354" y="159"/>
                  </a:lnTo>
                  <a:lnTo>
                    <a:pt x="335" y="149"/>
                  </a:lnTo>
                  <a:lnTo>
                    <a:pt x="318" y="140"/>
                  </a:lnTo>
                  <a:lnTo>
                    <a:pt x="302" y="130"/>
                  </a:lnTo>
                  <a:lnTo>
                    <a:pt x="285" y="121"/>
                  </a:lnTo>
                  <a:lnTo>
                    <a:pt x="268" y="111"/>
                  </a:lnTo>
                  <a:lnTo>
                    <a:pt x="254" y="102"/>
                  </a:lnTo>
                  <a:lnTo>
                    <a:pt x="240" y="95"/>
                  </a:lnTo>
                  <a:lnTo>
                    <a:pt x="223" y="85"/>
                  </a:lnTo>
                  <a:lnTo>
                    <a:pt x="209" y="78"/>
                  </a:lnTo>
                  <a:lnTo>
                    <a:pt x="195" y="71"/>
                  </a:lnTo>
                  <a:lnTo>
                    <a:pt x="183" y="64"/>
                  </a:lnTo>
                  <a:lnTo>
                    <a:pt x="169" y="57"/>
                  </a:lnTo>
                  <a:lnTo>
                    <a:pt x="157" y="50"/>
                  </a:lnTo>
                  <a:lnTo>
                    <a:pt x="145" y="42"/>
                  </a:lnTo>
                  <a:lnTo>
                    <a:pt x="135" y="35"/>
                  </a:lnTo>
                  <a:lnTo>
                    <a:pt x="123" y="31"/>
                  </a:lnTo>
                  <a:lnTo>
                    <a:pt x="114" y="26"/>
                  </a:lnTo>
                  <a:lnTo>
                    <a:pt x="104" y="21"/>
                  </a:lnTo>
                  <a:lnTo>
                    <a:pt x="97" y="16"/>
                  </a:lnTo>
                  <a:lnTo>
                    <a:pt x="90" y="12"/>
                  </a:lnTo>
                  <a:lnTo>
                    <a:pt x="83" y="9"/>
                  </a:lnTo>
                  <a:lnTo>
                    <a:pt x="78" y="4"/>
                  </a:lnTo>
                  <a:lnTo>
                    <a:pt x="76" y="2"/>
                  </a:lnTo>
                  <a:lnTo>
                    <a:pt x="69" y="0"/>
                  </a:lnTo>
                  <a:lnTo>
                    <a:pt x="66"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5874120" y="2537640"/>
              <a:ext cx="576360" cy="248760"/>
            </a:xfrm>
            <a:custGeom>
              <a:avLst/>
              <a:gdLst/>
              <a:ahLst/>
              <a:rect l="l" t="t" r="r" b="b"/>
              <a:pathLst>
                <a:path w="1117" h="668">
                  <a:moveTo>
                    <a:pt x="811" y="404"/>
                  </a:moveTo>
                  <a:lnTo>
                    <a:pt x="815" y="406"/>
                  </a:lnTo>
                  <a:lnTo>
                    <a:pt x="818" y="413"/>
                  </a:lnTo>
                  <a:lnTo>
                    <a:pt x="822" y="420"/>
                  </a:lnTo>
                  <a:lnTo>
                    <a:pt x="830" y="428"/>
                  </a:lnTo>
                  <a:lnTo>
                    <a:pt x="834" y="439"/>
                  </a:lnTo>
                  <a:lnTo>
                    <a:pt x="837" y="444"/>
                  </a:lnTo>
                  <a:lnTo>
                    <a:pt x="839" y="451"/>
                  </a:lnTo>
                  <a:lnTo>
                    <a:pt x="841" y="458"/>
                  </a:lnTo>
                  <a:lnTo>
                    <a:pt x="846" y="466"/>
                  </a:lnTo>
                  <a:lnTo>
                    <a:pt x="846" y="473"/>
                  </a:lnTo>
                  <a:lnTo>
                    <a:pt x="849" y="480"/>
                  </a:lnTo>
                  <a:lnTo>
                    <a:pt x="849" y="489"/>
                  </a:lnTo>
                  <a:lnTo>
                    <a:pt x="851" y="496"/>
                  </a:lnTo>
                  <a:lnTo>
                    <a:pt x="851" y="504"/>
                  </a:lnTo>
                  <a:lnTo>
                    <a:pt x="851" y="513"/>
                  </a:lnTo>
                  <a:lnTo>
                    <a:pt x="849" y="523"/>
                  </a:lnTo>
                  <a:lnTo>
                    <a:pt x="849" y="532"/>
                  </a:lnTo>
                  <a:lnTo>
                    <a:pt x="844" y="542"/>
                  </a:lnTo>
                  <a:lnTo>
                    <a:pt x="841" y="551"/>
                  </a:lnTo>
                  <a:lnTo>
                    <a:pt x="837" y="561"/>
                  </a:lnTo>
                  <a:lnTo>
                    <a:pt x="834" y="570"/>
                  </a:lnTo>
                  <a:lnTo>
                    <a:pt x="827" y="580"/>
                  </a:lnTo>
                  <a:lnTo>
                    <a:pt x="820" y="589"/>
                  </a:lnTo>
                  <a:lnTo>
                    <a:pt x="813" y="601"/>
                  </a:lnTo>
                  <a:lnTo>
                    <a:pt x="806" y="611"/>
                  </a:lnTo>
                  <a:lnTo>
                    <a:pt x="60" y="152"/>
                  </a:lnTo>
                  <a:lnTo>
                    <a:pt x="60" y="149"/>
                  </a:lnTo>
                  <a:lnTo>
                    <a:pt x="64" y="142"/>
                  </a:lnTo>
                  <a:lnTo>
                    <a:pt x="69" y="138"/>
                  </a:lnTo>
                  <a:lnTo>
                    <a:pt x="72" y="133"/>
                  </a:lnTo>
                  <a:lnTo>
                    <a:pt x="76" y="126"/>
                  </a:lnTo>
                  <a:lnTo>
                    <a:pt x="79" y="119"/>
                  </a:lnTo>
                  <a:lnTo>
                    <a:pt x="81" y="109"/>
                  </a:lnTo>
                  <a:lnTo>
                    <a:pt x="83" y="99"/>
                  </a:lnTo>
                  <a:lnTo>
                    <a:pt x="86" y="88"/>
                  </a:lnTo>
                  <a:lnTo>
                    <a:pt x="86" y="76"/>
                  </a:lnTo>
                  <a:lnTo>
                    <a:pt x="86" y="69"/>
                  </a:lnTo>
                  <a:lnTo>
                    <a:pt x="86" y="61"/>
                  </a:lnTo>
                  <a:lnTo>
                    <a:pt x="86" y="54"/>
                  </a:lnTo>
                  <a:lnTo>
                    <a:pt x="86" y="47"/>
                  </a:lnTo>
                  <a:lnTo>
                    <a:pt x="83" y="40"/>
                  </a:lnTo>
                  <a:lnTo>
                    <a:pt x="81" y="31"/>
                  </a:lnTo>
                  <a:lnTo>
                    <a:pt x="79" y="23"/>
                  </a:lnTo>
                  <a:lnTo>
                    <a:pt x="79" y="16"/>
                  </a:lnTo>
                  <a:lnTo>
                    <a:pt x="17" y="0"/>
                  </a:lnTo>
                  <a:lnTo>
                    <a:pt x="17" y="2"/>
                  </a:lnTo>
                  <a:lnTo>
                    <a:pt x="22" y="14"/>
                  </a:lnTo>
                  <a:lnTo>
                    <a:pt x="24" y="21"/>
                  </a:lnTo>
                  <a:lnTo>
                    <a:pt x="26" y="28"/>
                  </a:lnTo>
                  <a:lnTo>
                    <a:pt x="29" y="38"/>
                  </a:lnTo>
                  <a:lnTo>
                    <a:pt x="31" y="50"/>
                  </a:lnTo>
                  <a:lnTo>
                    <a:pt x="31" y="59"/>
                  </a:lnTo>
                  <a:lnTo>
                    <a:pt x="34" y="73"/>
                  </a:lnTo>
                  <a:lnTo>
                    <a:pt x="31" y="80"/>
                  </a:lnTo>
                  <a:lnTo>
                    <a:pt x="31" y="88"/>
                  </a:lnTo>
                  <a:lnTo>
                    <a:pt x="31" y="95"/>
                  </a:lnTo>
                  <a:lnTo>
                    <a:pt x="29" y="99"/>
                  </a:lnTo>
                  <a:lnTo>
                    <a:pt x="26" y="107"/>
                  </a:lnTo>
                  <a:lnTo>
                    <a:pt x="24" y="114"/>
                  </a:lnTo>
                  <a:lnTo>
                    <a:pt x="22" y="121"/>
                  </a:lnTo>
                  <a:lnTo>
                    <a:pt x="19" y="128"/>
                  </a:lnTo>
                  <a:lnTo>
                    <a:pt x="14" y="135"/>
                  </a:lnTo>
                  <a:lnTo>
                    <a:pt x="12" y="142"/>
                  </a:lnTo>
                  <a:lnTo>
                    <a:pt x="5" y="152"/>
                  </a:lnTo>
                  <a:lnTo>
                    <a:pt x="0" y="159"/>
                  </a:lnTo>
                  <a:lnTo>
                    <a:pt x="14" y="187"/>
                  </a:lnTo>
                  <a:lnTo>
                    <a:pt x="801" y="668"/>
                  </a:lnTo>
                  <a:lnTo>
                    <a:pt x="1117" y="589"/>
                  </a:lnTo>
                  <a:lnTo>
                    <a:pt x="1112" y="535"/>
                  </a:lnTo>
                  <a:lnTo>
                    <a:pt x="875" y="606"/>
                  </a:lnTo>
                  <a:lnTo>
                    <a:pt x="875" y="603"/>
                  </a:lnTo>
                  <a:lnTo>
                    <a:pt x="877" y="599"/>
                  </a:lnTo>
                  <a:lnTo>
                    <a:pt x="882" y="589"/>
                  </a:lnTo>
                  <a:lnTo>
                    <a:pt x="887" y="577"/>
                  </a:lnTo>
                  <a:lnTo>
                    <a:pt x="889" y="570"/>
                  </a:lnTo>
                  <a:lnTo>
                    <a:pt x="891" y="563"/>
                  </a:lnTo>
                  <a:lnTo>
                    <a:pt x="894" y="556"/>
                  </a:lnTo>
                  <a:lnTo>
                    <a:pt x="896" y="549"/>
                  </a:lnTo>
                  <a:lnTo>
                    <a:pt x="898" y="539"/>
                  </a:lnTo>
                  <a:lnTo>
                    <a:pt x="901" y="532"/>
                  </a:lnTo>
                  <a:lnTo>
                    <a:pt x="903" y="523"/>
                  </a:lnTo>
                  <a:lnTo>
                    <a:pt x="908" y="516"/>
                  </a:lnTo>
                  <a:lnTo>
                    <a:pt x="908" y="504"/>
                  </a:lnTo>
                  <a:lnTo>
                    <a:pt x="910" y="494"/>
                  </a:lnTo>
                  <a:lnTo>
                    <a:pt x="910" y="485"/>
                  </a:lnTo>
                  <a:lnTo>
                    <a:pt x="910" y="475"/>
                  </a:lnTo>
                  <a:lnTo>
                    <a:pt x="910" y="466"/>
                  </a:lnTo>
                  <a:lnTo>
                    <a:pt x="910" y="456"/>
                  </a:lnTo>
                  <a:lnTo>
                    <a:pt x="908" y="447"/>
                  </a:lnTo>
                  <a:lnTo>
                    <a:pt x="908" y="437"/>
                  </a:lnTo>
                  <a:lnTo>
                    <a:pt x="903" y="428"/>
                  </a:lnTo>
                  <a:lnTo>
                    <a:pt x="901" y="420"/>
                  </a:lnTo>
                  <a:lnTo>
                    <a:pt x="896" y="411"/>
                  </a:lnTo>
                  <a:lnTo>
                    <a:pt x="891" y="401"/>
                  </a:lnTo>
                  <a:lnTo>
                    <a:pt x="884" y="394"/>
                  </a:lnTo>
                  <a:lnTo>
                    <a:pt x="877" y="387"/>
                  </a:lnTo>
                  <a:lnTo>
                    <a:pt x="870" y="380"/>
                  </a:lnTo>
                  <a:lnTo>
                    <a:pt x="860" y="375"/>
                  </a:lnTo>
                  <a:lnTo>
                    <a:pt x="811" y="404"/>
                  </a:lnTo>
                  <a:lnTo>
                    <a:pt x="811"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6555240" y="2608560"/>
              <a:ext cx="118800" cy="124560"/>
            </a:xfrm>
            <a:custGeom>
              <a:avLst/>
              <a:gdLst/>
              <a:ahLst/>
              <a:rect l="l" t="t" r="r" b="b"/>
              <a:pathLst>
                <a:path w="231" h="335">
                  <a:moveTo>
                    <a:pt x="83" y="21"/>
                  </a:moveTo>
                  <a:lnTo>
                    <a:pt x="86" y="21"/>
                  </a:lnTo>
                  <a:lnTo>
                    <a:pt x="90" y="24"/>
                  </a:lnTo>
                  <a:lnTo>
                    <a:pt x="98" y="28"/>
                  </a:lnTo>
                  <a:lnTo>
                    <a:pt x="109" y="35"/>
                  </a:lnTo>
                  <a:lnTo>
                    <a:pt x="114" y="40"/>
                  </a:lnTo>
                  <a:lnTo>
                    <a:pt x="119" y="45"/>
                  </a:lnTo>
                  <a:lnTo>
                    <a:pt x="126" y="50"/>
                  </a:lnTo>
                  <a:lnTo>
                    <a:pt x="133" y="55"/>
                  </a:lnTo>
                  <a:lnTo>
                    <a:pt x="140" y="59"/>
                  </a:lnTo>
                  <a:lnTo>
                    <a:pt x="145" y="66"/>
                  </a:lnTo>
                  <a:lnTo>
                    <a:pt x="152" y="74"/>
                  </a:lnTo>
                  <a:lnTo>
                    <a:pt x="157" y="81"/>
                  </a:lnTo>
                  <a:lnTo>
                    <a:pt x="162" y="88"/>
                  </a:lnTo>
                  <a:lnTo>
                    <a:pt x="166" y="95"/>
                  </a:lnTo>
                  <a:lnTo>
                    <a:pt x="171" y="102"/>
                  </a:lnTo>
                  <a:lnTo>
                    <a:pt x="174" y="112"/>
                  </a:lnTo>
                  <a:lnTo>
                    <a:pt x="176" y="121"/>
                  </a:lnTo>
                  <a:lnTo>
                    <a:pt x="178" y="131"/>
                  </a:lnTo>
                  <a:lnTo>
                    <a:pt x="181" y="140"/>
                  </a:lnTo>
                  <a:lnTo>
                    <a:pt x="181" y="152"/>
                  </a:lnTo>
                  <a:lnTo>
                    <a:pt x="178" y="161"/>
                  </a:lnTo>
                  <a:lnTo>
                    <a:pt x="176" y="171"/>
                  </a:lnTo>
                  <a:lnTo>
                    <a:pt x="174" y="183"/>
                  </a:lnTo>
                  <a:lnTo>
                    <a:pt x="169" y="195"/>
                  </a:lnTo>
                  <a:lnTo>
                    <a:pt x="162" y="207"/>
                  </a:lnTo>
                  <a:lnTo>
                    <a:pt x="155" y="221"/>
                  </a:lnTo>
                  <a:lnTo>
                    <a:pt x="150" y="226"/>
                  </a:lnTo>
                  <a:lnTo>
                    <a:pt x="145" y="233"/>
                  </a:lnTo>
                  <a:lnTo>
                    <a:pt x="140" y="240"/>
                  </a:lnTo>
                  <a:lnTo>
                    <a:pt x="136" y="247"/>
                  </a:lnTo>
                  <a:lnTo>
                    <a:pt x="0" y="287"/>
                  </a:lnTo>
                  <a:lnTo>
                    <a:pt x="0" y="335"/>
                  </a:lnTo>
                  <a:lnTo>
                    <a:pt x="162" y="287"/>
                  </a:lnTo>
                  <a:lnTo>
                    <a:pt x="162" y="285"/>
                  </a:lnTo>
                  <a:lnTo>
                    <a:pt x="166" y="283"/>
                  </a:lnTo>
                  <a:lnTo>
                    <a:pt x="171" y="278"/>
                  </a:lnTo>
                  <a:lnTo>
                    <a:pt x="178" y="271"/>
                  </a:lnTo>
                  <a:lnTo>
                    <a:pt x="185" y="264"/>
                  </a:lnTo>
                  <a:lnTo>
                    <a:pt x="193" y="252"/>
                  </a:lnTo>
                  <a:lnTo>
                    <a:pt x="197" y="247"/>
                  </a:lnTo>
                  <a:lnTo>
                    <a:pt x="202" y="240"/>
                  </a:lnTo>
                  <a:lnTo>
                    <a:pt x="207" y="235"/>
                  </a:lnTo>
                  <a:lnTo>
                    <a:pt x="212" y="228"/>
                  </a:lnTo>
                  <a:lnTo>
                    <a:pt x="214" y="221"/>
                  </a:lnTo>
                  <a:lnTo>
                    <a:pt x="216" y="211"/>
                  </a:lnTo>
                  <a:lnTo>
                    <a:pt x="221" y="204"/>
                  </a:lnTo>
                  <a:lnTo>
                    <a:pt x="223" y="195"/>
                  </a:lnTo>
                  <a:lnTo>
                    <a:pt x="226" y="188"/>
                  </a:lnTo>
                  <a:lnTo>
                    <a:pt x="228" y="178"/>
                  </a:lnTo>
                  <a:lnTo>
                    <a:pt x="228" y="169"/>
                  </a:lnTo>
                  <a:lnTo>
                    <a:pt x="231" y="161"/>
                  </a:lnTo>
                  <a:lnTo>
                    <a:pt x="231" y="150"/>
                  </a:lnTo>
                  <a:lnTo>
                    <a:pt x="231" y="140"/>
                  </a:lnTo>
                  <a:lnTo>
                    <a:pt x="231" y="128"/>
                  </a:lnTo>
                  <a:lnTo>
                    <a:pt x="228" y="119"/>
                  </a:lnTo>
                  <a:lnTo>
                    <a:pt x="226" y="107"/>
                  </a:lnTo>
                  <a:lnTo>
                    <a:pt x="221" y="97"/>
                  </a:lnTo>
                  <a:lnTo>
                    <a:pt x="219" y="85"/>
                  </a:lnTo>
                  <a:lnTo>
                    <a:pt x="214" y="76"/>
                  </a:lnTo>
                  <a:lnTo>
                    <a:pt x="152" y="0"/>
                  </a:lnTo>
                  <a:lnTo>
                    <a:pt x="83" y="21"/>
                  </a:lnTo>
                  <a:lnTo>
                    <a:pt x="8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6406920" y="2657520"/>
              <a:ext cx="182520" cy="217440"/>
            </a:xfrm>
            <a:custGeom>
              <a:avLst/>
              <a:gdLst/>
              <a:ahLst/>
              <a:rect l="l" t="t" r="r" b="b"/>
              <a:pathLst>
                <a:path w="354" h="584">
                  <a:moveTo>
                    <a:pt x="180" y="584"/>
                  </a:moveTo>
                  <a:lnTo>
                    <a:pt x="178" y="582"/>
                  </a:lnTo>
                  <a:lnTo>
                    <a:pt x="173" y="580"/>
                  </a:lnTo>
                  <a:lnTo>
                    <a:pt x="166" y="572"/>
                  </a:lnTo>
                  <a:lnTo>
                    <a:pt x="159" y="568"/>
                  </a:lnTo>
                  <a:lnTo>
                    <a:pt x="147" y="556"/>
                  </a:lnTo>
                  <a:lnTo>
                    <a:pt x="137" y="546"/>
                  </a:lnTo>
                  <a:lnTo>
                    <a:pt x="130" y="539"/>
                  </a:lnTo>
                  <a:lnTo>
                    <a:pt x="125" y="534"/>
                  </a:lnTo>
                  <a:lnTo>
                    <a:pt x="121" y="527"/>
                  </a:lnTo>
                  <a:lnTo>
                    <a:pt x="116" y="523"/>
                  </a:lnTo>
                  <a:lnTo>
                    <a:pt x="109" y="513"/>
                  </a:lnTo>
                  <a:lnTo>
                    <a:pt x="102" y="506"/>
                  </a:lnTo>
                  <a:lnTo>
                    <a:pt x="97" y="499"/>
                  </a:lnTo>
                  <a:lnTo>
                    <a:pt x="92" y="492"/>
                  </a:lnTo>
                  <a:lnTo>
                    <a:pt x="87" y="482"/>
                  </a:lnTo>
                  <a:lnTo>
                    <a:pt x="83" y="475"/>
                  </a:lnTo>
                  <a:lnTo>
                    <a:pt x="78" y="466"/>
                  </a:lnTo>
                  <a:lnTo>
                    <a:pt x="73" y="458"/>
                  </a:lnTo>
                  <a:lnTo>
                    <a:pt x="68" y="449"/>
                  </a:lnTo>
                  <a:lnTo>
                    <a:pt x="66" y="439"/>
                  </a:lnTo>
                  <a:lnTo>
                    <a:pt x="61" y="430"/>
                  </a:lnTo>
                  <a:lnTo>
                    <a:pt x="61" y="423"/>
                  </a:lnTo>
                  <a:lnTo>
                    <a:pt x="59" y="413"/>
                  </a:lnTo>
                  <a:lnTo>
                    <a:pt x="59" y="404"/>
                  </a:lnTo>
                  <a:lnTo>
                    <a:pt x="57" y="394"/>
                  </a:lnTo>
                  <a:lnTo>
                    <a:pt x="61" y="387"/>
                  </a:lnTo>
                  <a:lnTo>
                    <a:pt x="61" y="378"/>
                  </a:lnTo>
                  <a:lnTo>
                    <a:pt x="61" y="368"/>
                  </a:lnTo>
                  <a:lnTo>
                    <a:pt x="61" y="359"/>
                  </a:lnTo>
                  <a:lnTo>
                    <a:pt x="64" y="349"/>
                  </a:lnTo>
                  <a:lnTo>
                    <a:pt x="66" y="340"/>
                  </a:lnTo>
                  <a:lnTo>
                    <a:pt x="68" y="330"/>
                  </a:lnTo>
                  <a:lnTo>
                    <a:pt x="71" y="321"/>
                  </a:lnTo>
                  <a:lnTo>
                    <a:pt x="73" y="311"/>
                  </a:lnTo>
                  <a:lnTo>
                    <a:pt x="73" y="301"/>
                  </a:lnTo>
                  <a:lnTo>
                    <a:pt x="76" y="292"/>
                  </a:lnTo>
                  <a:lnTo>
                    <a:pt x="78" y="282"/>
                  </a:lnTo>
                  <a:lnTo>
                    <a:pt x="80" y="273"/>
                  </a:lnTo>
                  <a:lnTo>
                    <a:pt x="83" y="263"/>
                  </a:lnTo>
                  <a:lnTo>
                    <a:pt x="83" y="254"/>
                  </a:lnTo>
                  <a:lnTo>
                    <a:pt x="85" y="247"/>
                  </a:lnTo>
                  <a:lnTo>
                    <a:pt x="85" y="237"/>
                  </a:lnTo>
                  <a:lnTo>
                    <a:pt x="85" y="228"/>
                  </a:lnTo>
                  <a:lnTo>
                    <a:pt x="85" y="218"/>
                  </a:lnTo>
                  <a:lnTo>
                    <a:pt x="83" y="209"/>
                  </a:lnTo>
                  <a:lnTo>
                    <a:pt x="83" y="202"/>
                  </a:lnTo>
                  <a:lnTo>
                    <a:pt x="80" y="192"/>
                  </a:lnTo>
                  <a:lnTo>
                    <a:pt x="78" y="185"/>
                  </a:lnTo>
                  <a:lnTo>
                    <a:pt x="73" y="175"/>
                  </a:lnTo>
                  <a:lnTo>
                    <a:pt x="71" y="171"/>
                  </a:lnTo>
                  <a:lnTo>
                    <a:pt x="64" y="161"/>
                  </a:lnTo>
                  <a:lnTo>
                    <a:pt x="61" y="154"/>
                  </a:lnTo>
                  <a:lnTo>
                    <a:pt x="54" y="147"/>
                  </a:lnTo>
                  <a:lnTo>
                    <a:pt x="47" y="140"/>
                  </a:lnTo>
                  <a:lnTo>
                    <a:pt x="38" y="133"/>
                  </a:lnTo>
                  <a:lnTo>
                    <a:pt x="30" y="126"/>
                  </a:lnTo>
                  <a:lnTo>
                    <a:pt x="21" y="121"/>
                  </a:lnTo>
                  <a:lnTo>
                    <a:pt x="11" y="116"/>
                  </a:lnTo>
                  <a:lnTo>
                    <a:pt x="0" y="66"/>
                  </a:lnTo>
                  <a:lnTo>
                    <a:pt x="0" y="64"/>
                  </a:lnTo>
                  <a:lnTo>
                    <a:pt x="4" y="61"/>
                  </a:lnTo>
                  <a:lnTo>
                    <a:pt x="9" y="57"/>
                  </a:lnTo>
                  <a:lnTo>
                    <a:pt x="16" y="52"/>
                  </a:lnTo>
                  <a:lnTo>
                    <a:pt x="26" y="45"/>
                  </a:lnTo>
                  <a:lnTo>
                    <a:pt x="35" y="38"/>
                  </a:lnTo>
                  <a:lnTo>
                    <a:pt x="40" y="33"/>
                  </a:lnTo>
                  <a:lnTo>
                    <a:pt x="47" y="30"/>
                  </a:lnTo>
                  <a:lnTo>
                    <a:pt x="54" y="28"/>
                  </a:lnTo>
                  <a:lnTo>
                    <a:pt x="61" y="23"/>
                  </a:lnTo>
                  <a:lnTo>
                    <a:pt x="66" y="21"/>
                  </a:lnTo>
                  <a:lnTo>
                    <a:pt x="73" y="16"/>
                  </a:lnTo>
                  <a:lnTo>
                    <a:pt x="80" y="14"/>
                  </a:lnTo>
                  <a:lnTo>
                    <a:pt x="87" y="11"/>
                  </a:lnTo>
                  <a:lnTo>
                    <a:pt x="95" y="7"/>
                  </a:lnTo>
                  <a:lnTo>
                    <a:pt x="104" y="4"/>
                  </a:lnTo>
                  <a:lnTo>
                    <a:pt x="111" y="2"/>
                  </a:lnTo>
                  <a:lnTo>
                    <a:pt x="121" y="2"/>
                  </a:lnTo>
                  <a:lnTo>
                    <a:pt x="130" y="0"/>
                  </a:lnTo>
                  <a:lnTo>
                    <a:pt x="137" y="0"/>
                  </a:lnTo>
                  <a:lnTo>
                    <a:pt x="147" y="0"/>
                  </a:lnTo>
                  <a:lnTo>
                    <a:pt x="156" y="0"/>
                  </a:lnTo>
                  <a:lnTo>
                    <a:pt x="166" y="0"/>
                  </a:lnTo>
                  <a:lnTo>
                    <a:pt x="173" y="2"/>
                  </a:lnTo>
                  <a:lnTo>
                    <a:pt x="183" y="7"/>
                  </a:lnTo>
                  <a:lnTo>
                    <a:pt x="194" y="9"/>
                  </a:lnTo>
                  <a:lnTo>
                    <a:pt x="202" y="14"/>
                  </a:lnTo>
                  <a:lnTo>
                    <a:pt x="209" y="16"/>
                  </a:lnTo>
                  <a:lnTo>
                    <a:pt x="218" y="21"/>
                  </a:lnTo>
                  <a:lnTo>
                    <a:pt x="225" y="28"/>
                  </a:lnTo>
                  <a:lnTo>
                    <a:pt x="230" y="33"/>
                  </a:lnTo>
                  <a:lnTo>
                    <a:pt x="237" y="40"/>
                  </a:lnTo>
                  <a:lnTo>
                    <a:pt x="244" y="47"/>
                  </a:lnTo>
                  <a:lnTo>
                    <a:pt x="251" y="54"/>
                  </a:lnTo>
                  <a:lnTo>
                    <a:pt x="256" y="61"/>
                  </a:lnTo>
                  <a:lnTo>
                    <a:pt x="261" y="69"/>
                  </a:lnTo>
                  <a:lnTo>
                    <a:pt x="266" y="78"/>
                  </a:lnTo>
                  <a:lnTo>
                    <a:pt x="270" y="88"/>
                  </a:lnTo>
                  <a:lnTo>
                    <a:pt x="273" y="95"/>
                  </a:lnTo>
                  <a:lnTo>
                    <a:pt x="275" y="104"/>
                  </a:lnTo>
                  <a:lnTo>
                    <a:pt x="280" y="111"/>
                  </a:lnTo>
                  <a:lnTo>
                    <a:pt x="282" y="123"/>
                  </a:lnTo>
                  <a:lnTo>
                    <a:pt x="285" y="130"/>
                  </a:lnTo>
                  <a:lnTo>
                    <a:pt x="287" y="140"/>
                  </a:lnTo>
                  <a:lnTo>
                    <a:pt x="289" y="149"/>
                  </a:lnTo>
                  <a:lnTo>
                    <a:pt x="292" y="159"/>
                  </a:lnTo>
                  <a:lnTo>
                    <a:pt x="292" y="166"/>
                  </a:lnTo>
                  <a:lnTo>
                    <a:pt x="294" y="175"/>
                  </a:lnTo>
                  <a:lnTo>
                    <a:pt x="294" y="183"/>
                  </a:lnTo>
                  <a:lnTo>
                    <a:pt x="297" y="192"/>
                  </a:lnTo>
                  <a:lnTo>
                    <a:pt x="297" y="199"/>
                  </a:lnTo>
                  <a:lnTo>
                    <a:pt x="297" y="206"/>
                  </a:lnTo>
                  <a:lnTo>
                    <a:pt x="297" y="214"/>
                  </a:lnTo>
                  <a:lnTo>
                    <a:pt x="297" y="223"/>
                  </a:lnTo>
                  <a:lnTo>
                    <a:pt x="297" y="228"/>
                  </a:lnTo>
                  <a:lnTo>
                    <a:pt x="297" y="235"/>
                  </a:lnTo>
                  <a:lnTo>
                    <a:pt x="297" y="242"/>
                  </a:lnTo>
                  <a:lnTo>
                    <a:pt x="299" y="247"/>
                  </a:lnTo>
                  <a:lnTo>
                    <a:pt x="297" y="256"/>
                  </a:lnTo>
                  <a:lnTo>
                    <a:pt x="297" y="268"/>
                  </a:lnTo>
                  <a:lnTo>
                    <a:pt x="294" y="275"/>
                  </a:lnTo>
                  <a:lnTo>
                    <a:pt x="294" y="280"/>
                  </a:lnTo>
                  <a:lnTo>
                    <a:pt x="294" y="287"/>
                  </a:lnTo>
                  <a:lnTo>
                    <a:pt x="294" y="297"/>
                  </a:lnTo>
                  <a:lnTo>
                    <a:pt x="294" y="304"/>
                  </a:lnTo>
                  <a:lnTo>
                    <a:pt x="294" y="311"/>
                  </a:lnTo>
                  <a:lnTo>
                    <a:pt x="294" y="318"/>
                  </a:lnTo>
                  <a:lnTo>
                    <a:pt x="294" y="325"/>
                  </a:lnTo>
                  <a:lnTo>
                    <a:pt x="294" y="335"/>
                  </a:lnTo>
                  <a:lnTo>
                    <a:pt x="294" y="342"/>
                  </a:lnTo>
                  <a:lnTo>
                    <a:pt x="294" y="351"/>
                  </a:lnTo>
                  <a:lnTo>
                    <a:pt x="297" y="359"/>
                  </a:lnTo>
                  <a:lnTo>
                    <a:pt x="297" y="366"/>
                  </a:lnTo>
                  <a:lnTo>
                    <a:pt x="297" y="375"/>
                  </a:lnTo>
                  <a:lnTo>
                    <a:pt x="299" y="382"/>
                  </a:lnTo>
                  <a:lnTo>
                    <a:pt x="301" y="392"/>
                  </a:lnTo>
                  <a:lnTo>
                    <a:pt x="301" y="399"/>
                  </a:lnTo>
                  <a:lnTo>
                    <a:pt x="304" y="408"/>
                  </a:lnTo>
                  <a:lnTo>
                    <a:pt x="308" y="416"/>
                  </a:lnTo>
                  <a:lnTo>
                    <a:pt x="311" y="425"/>
                  </a:lnTo>
                  <a:lnTo>
                    <a:pt x="316" y="430"/>
                  </a:lnTo>
                  <a:lnTo>
                    <a:pt x="318" y="437"/>
                  </a:lnTo>
                  <a:lnTo>
                    <a:pt x="323" y="444"/>
                  </a:lnTo>
                  <a:lnTo>
                    <a:pt x="327" y="454"/>
                  </a:lnTo>
                  <a:lnTo>
                    <a:pt x="332" y="458"/>
                  </a:lnTo>
                  <a:lnTo>
                    <a:pt x="339" y="466"/>
                  </a:lnTo>
                  <a:lnTo>
                    <a:pt x="344" y="470"/>
                  </a:lnTo>
                  <a:lnTo>
                    <a:pt x="354" y="477"/>
                  </a:lnTo>
                  <a:lnTo>
                    <a:pt x="320" y="523"/>
                  </a:lnTo>
                  <a:lnTo>
                    <a:pt x="318" y="523"/>
                  </a:lnTo>
                  <a:lnTo>
                    <a:pt x="316" y="520"/>
                  </a:lnTo>
                  <a:lnTo>
                    <a:pt x="308" y="515"/>
                  </a:lnTo>
                  <a:lnTo>
                    <a:pt x="304" y="511"/>
                  </a:lnTo>
                  <a:lnTo>
                    <a:pt x="297" y="501"/>
                  </a:lnTo>
                  <a:lnTo>
                    <a:pt x="287" y="494"/>
                  </a:lnTo>
                  <a:lnTo>
                    <a:pt x="282" y="487"/>
                  </a:lnTo>
                  <a:lnTo>
                    <a:pt x="278" y="482"/>
                  </a:lnTo>
                  <a:lnTo>
                    <a:pt x="273" y="475"/>
                  </a:lnTo>
                  <a:lnTo>
                    <a:pt x="270" y="468"/>
                  </a:lnTo>
                  <a:lnTo>
                    <a:pt x="263" y="458"/>
                  </a:lnTo>
                  <a:lnTo>
                    <a:pt x="259" y="449"/>
                  </a:lnTo>
                  <a:lnTo>
                    <a:pt x="254" y="439"/>
                  </a:lnTo>
                  <a:lnTo>
                    <a:pt x="251" y="427"/>
                  </a:lnTo>
                  <a:lnTo>
                    <a:pt x="247" y="416"/>
                  </a:lnTo>
                  <a:lnTo>
                    <a:pt x="242" y="404"/>
                  </a:lnTo>
                  <a:lnTo>
                    <a:pt x="240" y="397"/>
                  </a:lnTo>
                  <a:lnTo>
                    <a:pt x="240" y="389"/>
                  </a:lnTo>
                  <a:lnTo>
                    <a:pt x="237" y="385"/>
                  </a:lnTo>
                  <a:lnTo>
                    <a:pt x="237" y="378"/>
                  </a:lnTo>
                  <a:lnTo>
                    <a:pt x="235" y="368"/>
                  </a:lnTo>
                  <a:lnTo>
                    <a:pt x="235" y="361"/>
                  </a:lnTo>
                  <a:lnTo>
                    <a:pt x="230" y="351"/>
                  </a:lnTo>
                  <a:lnTo>
                    <a:pt x="230" y="344"/>
                  </a:lnTo>
                  <a:lnTo>
                    <a:pt x="230" y="335"/>
                  </a:lnTo>
                  <a:lnTo>
                    <a:pt x="230" y="328"/>
                  </a:lnTo>
                  <a:lnTo>
                    <a:pt x="228" y="318"/>
                  </a:lnTo>
                  <a:lnTo>
                    <a:pt x="228" y="311"/>
                  </a:lnTo>
                  <a:lnTo>
                    <a:pt x="228" y="299"/>
                  </a:lnTo>
                  <a:lnTo>
                    <a:pt x="228" y="290"/>
                  </a:lnTo>
                  <a:lnTo>
                    <a:pt x="228" y="280"/>
                  </a:lnTo>
                  <a:lnTo>
                    <a:pt x="228" y="271"/>
                  </a:lnTo>
                  <a:lnTo>
                    <a:pt x="228" y="259"/>
                  </a:lnTo>
                  <a:lnTo>
                    <a:pt x="228" y="247"/>
                  </a:lnTo>
                  <a:lnTo>
                    <a:pt x="228" y="237"/>
                  </a:lnTo>
                  <a:lnTo>
                    <a:pt x="230" y="225"/>
                  </a:lnTo>
                  <a:lnTo>
                    <a:pt x="230" y="214"/>
                  </a:lnTo>
                  <a:lnTo>
                    <a:pt x="230" y="202"/>
                  </a:lnTo>
                  <a:lnTo>
                    <a:pt x="230" y="192"/>
                  </a:lnTo>
                  <a:lnTo>
                    <a:pt x="230" y="183"/>
                  </a:lnTo>
                  <a:lnTo>
                    <a:pt x="228" y="173"/>
                  </a:lnTo>
                  <a:lnTo>
                    <a:pt x="228" y="164"/>
                  </a:lnTo>
                  <a:lnTo>
                    <a:pt x="225" y="154"/>
                  </a:lnTo>
                  <a:lnTo>
                    <a:pt x="225" y="147"/>
                  </a:lnTo>
                  <a:lnTo>
                    <a:pt x="223" y="137"/>
                  </a:lnTo>
                  <a:lnTo>
                    <a:pt x="223" y="133"/>
                  </a:lnTo>
                  <a:lnTo>
                    <a:pt x="221" y="126"/>
                  </a:lnTo>
                  <a:lnTo>
                    <a:pt x="218" y="118"/>
                  </a:lnTo>
                  <a:lnTo>
                    <a:pt x="213" y="107"/>
                  </a:lnTo>
                  <a:lnTo>
                    <a:pt x="209" y="97"/>
                  </a:lnTo>
                  <a:lnTo>
                    <a:pt x="202" y="88"/>
                  </a:lnTo>
                  <a:lnTo>
                    <a:pt x="194" y="80"/>
                  </a:lnTo>
                  <a:lnTo>
                    <a:pt x="187" y="73"/>
                  </a:lnTo>
                  <a:lnTo>
                    <a:pt x="183" y="69"/>
                  </a:lnTo>
                  <a:lnTo>
                    <a:pt x="173" y="64"/>
                  </a:lnTo>
                  <a:lnTo>
                    <a:pt x="166" y="64"/>
                  </a:lnTo>
                  <a:lnTo>
                    <a:pt x="159" y="61"/>
                  </a:lnTo>
                  <a:lnTo>
                    <a:pt x="152" y="61"/>
                  </a:lnTo>
                  <a:lnTo>
                    <a:pt x="142" y="59"/>
                  </a:lnTo>
                  <a:lnTo>
                    <a:pt x="133" y="59"/>
                  </a:lnTo>
                  <a:lnTo>
                    <a:pt x="125" y="59"/>
                  </a:lnTo>
                  <a:lnTo>
                    <a:pt x="116" y="61"/>
                  </a:lnTo>
                  <a:lnTo>
                    <a:pt x="109" y="61"/>
                  </a:lnTo>
                  <a:lnTo>
                    <a:pt x="99" y="64"/>
                  </a:lnTo>
                  <a:lnTo>
                    <a:pt x="95" y="66"/>
                  </a:lnTo>
                  <a:lnTo>
                    <a:pt x="87" y="69"/>
                  </a:lnTo>
                  <a:lnTo>
                    <a:pt x="76" y="73"/>
                  </a:lnTo>
                  <a:lnTo>
                    <a:pt x="66" y="78"/>
                  </a:lnTo>
                  <a:lnTo>
                    <a:pt x="61" y="80"/>
                  </a:lnTo>
                  <a:lnTo>
                    <a:pt x="61" y="83"/>
                  </a:lnTo>
                  <a:lnTo>
                    <a:pt x="61" y="83"/>
                  </a:lnTo>
                  <a:lnTo>
                    <a:pt x="73" y="88"/>
                  </a:lnTo>
                  <a:lnTo>
                    <a:pt x="78" y="92"/>
                  </a:lnTo>
                  <a:lnTo>
                    <a:pt x="87" y="97"/>
                  </a:lnTo>
                  <a:lnTo>
                    <a:pt x="95" y="104"/>
                  </a:lnTo>
                  <a:lnTo>
                    <a:pt x="102" y="111"/>
                  </a:lnTo>
                  <a:lnTo>
                    <a:pt x="109" y="118"/>
                  </a:lnTo>
                  <a:lnTo>
                    <a:pt x="118" y="130"/>
                  </a:lnTo>
                  <a:lnTo>
                    <a:pt x="121" y="135"/>
                  </a:lnTo>
                  <a:lnTo>
                    <a:pt x="123" y="140"/>
                  </a:lnTo>
                  <a:lnTo>
                    <a:pt x="128" y="147"/>
                  </a:lnTo>
                  <a:lnTo>
                    <a:pt x="130" y="156"/>
                  </a:lnTo>
                  <a:lnTo>
                    <a:pt x="130" y="164"/>
                  </a:lnTo>
                  <a:lnTo>
                    <a:pt x="133" y="171"/>
                  </a:lnTo>
                  <a:lnTo>
                    <a:pt x="135" y="178"/>
                  </a:lnTo>
                  <a:lnTo>
                    <a:pt x="137" y="187"/>
                  </a:lnTo>
                  <a:lnTo>
                    <a:pt x="137" y="197"/>
                  </a:lnTo>
                  <a:lnTo>
                    <a:pt x="140" y="206"/>
                  </a:lnTo>
                  <a:lnTo>
                    <a:pt x="140" y="216"/>
                  </a:lnTo>
                  <a:lnTo>
                    <a:pt x="140" y="228"/>
                  </a:lnTo>
                  <a:lnTo>
                    <a:pt x="137" y="237"/>
                  </a:lnTo>
                  <a:lnTo>
                    <a:pt x="135" y="247"/>
                  </a:lnTo>
                  <a:lnTo>
                    <a:pt x="135" y="256"/>
                  </a:lnTo>
                  <a:lnTo>
                    <a:pt x="133" y="268"/>
                  </a:lnTo>
                  <a:lnTo>
                    <a:pt x="130" y="278"/>
                  </a:lnTo>
                  <a:lnTo>
                    <a:pt x="130" y="285"/>
                  </a:lnTo>
                  <a:lnTo>
                    <a:pt x="130" y="294"/>
                  </a:lnTo>
                  <a:lnTo>
                    <a:pt x="130" y="304"/>
                  </a:lnTo>
                  <a:lnTo>
                    <a:pt x="128" y="311"/>
                  </a:lnTo>
                  <a:lnTo>
                    <a:pt x="125" y="318"/>
                  </a:lnTo>
                  <a:lnTo>
                    <a:pt x="123" y="328"/>
                  </a:lnTo>
                  <a:lnTo>
                    <a:pt x="123" y="335"/>
                  </a:lnTo>
                  <a:lnTo>
                    <a:pt x="121" y="342"/>
                  </a:lnTo>
                  <a:lnTo>
                    <a:pt x="121" y="349"/>
                  </a:lnTo>
                  <a:lnTo>
                    <a:pt x="118" y="356"/>
                  </a:lnTo>
                  <a:lnTo>
                    <a:pt x="118" y="363"/>
                  </a:lnTo>
                  <a:lnTo>
                    <a:pt x="118" y="370"/>
                  </a:lnTo>
                  <a:lnTo>
                    <a:pt x="116" y="378"/>
                  </a:lnTo>
                  <a:lnTo>
                    <a:pt x="116" y="382"/>
                  </a:lnTo>
                  <a:lnTo>
                    <a:pt x="116" y="389"/>
                  </a:lnTo>
                  <a:lnTo>
                    <a:pt x="116" y="401"/>
                  </a:lnTo>
                  <a:lnTo>
                    <a:pt x="116" y="413"/>
                  </a:lnTo>
                  <a:lnTo>
                    <a:pt x="118" y="425"/>
                  </a:lnTo>
                  <a:lnTo>
                    <a:pt x="121" y="437"/>
                  </a:lnTo>
                  <a:lnTo>
                    <a:pt x="125" y="449"/>
                  </a:lnTo>
                  <a:lnTo>
                    <a:pt x="133" y="458"/>
                  </a:lnTo>
                  <a:lnTo>
                    <a:pt x="140" y="470"/>
                  </a:lnTo>
                  <a:lnTo>
                    <a:pt x="147" y="480"/>
                  </a:lnTo>
                  <a:lnTo>
                    <a:pt x="152" y="489"/>
                  </a:lnTo>
                  <a:lnTo>
                    <a:pt x="159" y="499"/>
                  </a:lnTo>
                  <a:lnTo>
                    <a:pt x="164" y="504"/>
                  </a:lnTo>
                  <a:lnTo>
                    <a:pt x="168" y="513"/>
                  </a:lnTo>
                  <a:lnTo>
                    <a:pt x="173" y="518"/>
                  </a:lnTo>
                  <a:lnTo>
                    <a:pt x="178" y="525"/>
                  </a:lnTo>
                  <a:lnTo>
                    <a:pt x="185" y="532"/>
                  </a:lnTo>
                  <a:lnTo>
                    <a:pt x="192" y="539"/>
                  </a:lnTo>
                  <a:lnTo>
                    <a:pt x="194" y="542"/>
                  </a:lnTo>
                  <a:lnTo>
                    <a:pt x="197" y="544"/>
                  </a:lnTo>
                  <a:lnTo>
                    <a:pt x="180" y="584"/>
                  </a:lnTo>
                  <a:lnTo>
                    <a:pt x="180" y="5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a:off x="6483960" y="2798280"/>
              <a:ext cx="88200" cy="76680"/>
            </a:xfrm>
            <a:custGeom>
              <a:avLst/>
              <a:gdLst/>
              <a:ahLst/>
              <a:rect l="l" t="t" r="r" b="b"/>
              <a:pathLst>
                <a:path w="171" h="206">
                  <a:moveTo>
                    <a:pt x="0" y="159"/>
                  </a:moveTo>
                  <a:lnTo>
                    <a:pt x="31" y="0"/>
                  </a:lnTo>
                  <a:lnTo>
                    <a:pt x="140" y="61"/>
                  </a:lnTo>
                  <a:lnTo>
                    <a:pt x="171" y="145"/>
                  </a:lnTo>
                  <a:lnTo>
                    <a:pt x="64" y="76"/>
                  </a:lnTo>
                  <a:lnTo>
                    <a:pt x="31" y="206"/>
                  </a:lnTo>
                  <a:lnTo>
                    <a:pt x="0" y="159"/>
                  </a:lnTo>
                  <a:lnTo>
                    <a:pt x="0" y="15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168" name=""/>
            <p:cNvSpPr/>
            <p:nvPr/>
          </p:nvSpPr>
          <p:spPr>
            <a:xfrm>
              <a:off x="5796000" y="2557800"/>
              <a:ext cx="652320" cy="262440"/>
            </a:xfrm>
            <a:custGeom>
              <a:avLst/>
              <a:gdLst/>
              <a:ahLst/>
              <a:rect l="l" t="t" r="r" b="b"/>
              <a:pathLst>
                <a:path w="1264" h="704">
                  <a:moveTo>
                    <a:pt x="190" y="0"/>
                  </a:moveTo>
                  <a:lnTo>
                    <a:pt x="0" y="136"/>
                  </a:lnTo>
                  <a:lnTo>
                    <a:pt x="891" y="704"/>
                  </a:lnTo>
                  <a:lnTo>
                    <a:pt x="1260" y="604"/>
                  </a:lnTo>
                  <a:lnTo>
                    <a:pt x="1264" y="557"/>
                  </a:lnTo>
                  <a:lnTo>
                    <a:pt x="910" y="649"/>
                  </a:lnTo>
                  <a:lnTo>
                    <a:pt x="88" y="122"/>
                  </a:lnTo>
                  <a:lnTo>
                    <a:pt x="195" y="48"/>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9" name=""/>
            <p:cNvSpPr/>
            <p:nvPr/>
          </p:nvSpPr>
          <p:spPr>
            <a:xfrm>
              <a:off x="5877000" y="2655360"/>
              <a:ext cx="826920" cy="354240"/>
            </a:xfrm>
            <a:custGeom>
              <a:avLst/>
              <a:gdLst/>
              <a:ahLst/>
              <a:rect l="l" t="t" r="r" b="b"/>
              <a:pathLst>
                <a:path w="1602" h="951">
                  <a:moveTo>
                    <a:pt x="45" y="0"/>
                  </a:moveTo>
                  <a:lnTo>
                    <a:pt x="40" y="0"/>
                  </a:lnTo>
                  <a:lnTo>
                    <a:pt x="31" y="9"/>
                  </a:lnTo>
                  <a:lnTo>
                    <a:pt x="26" y="14"/>
                  </a:lnTo>
                  <a:lnTo>
                    <a:pt x="19" y="24"/>
                  </a:lnTo>
                  <a:lnTo>
                    <a:pt x="17" y="28"/>
                  </a:lnTo>
                  <a:lnTo>
                    <a:pt x="14" y="35"/>
                  </a:lnTo>
                  <a:lnTo>
                    <a:pt x="12" y="40"/>
                  </a:lnTo>
                  <a:lnTo>
                    <a:pt x="9" y="50"/>
                  </a:lnTo>
                  <a:lnTo>
                    <a:pt x="7" y="57"/>
                  </a:lnTo>
                  <a:lnTo>
                    <a:pt x="5" y="64"/>
                  </a:lnTo>
                  <a:lnTo>
                    <a:pt x="2" y="74"/>
                  </a:lnTo>
                  <a:lnTo>
                    <a:pt x="2" y="83"/>
                  </a:lnTo>
                  <a:lnTo>
                    <a:pt x="0" y="95"/>
                  </a:lnTo>
                  <a:lnTo>
                    <a:pt x="0" y="107"/>
                  </a:lnTo>
                  <a:lnTo>
                    <a:pt x="0" y="112"/>
                  </a:lnTo>
                  <a:lnTo>
                    <a:pt x="0" y="119"/>
                  </a:lnTo>
                  <a:lnTo>
                    <a:pt x="0" y="126"/>
                  </a:lnTo>
                  <a:lnTo>
                    <a:pt x="0" y="133"/>
                  </a:lnTo>
                  <a:lnTo>
                    <a:pt x="0" y="140"/>
                  </a:lnTo>
                  <a:lnTo>
                    <a:pt x="0" y="147"/>
                  </a:lnTo>
                  <a:lnTo>
                    <a:pt x="0" y="154"/>
                  </a:lnTo>
                  <a:lnTo>
                    <a:pt x="2" y="161"/>
                  </a:lnTo>
                  <a:lnTo>
                    <a:pt x="2" y="169"/>
                  </a:lnTo>
                  <a:lnTo>
                    <a:pt x="2" y="178"/>
                  </a:lnTo>
                  <a:lnTo>
                    <a:pt x="5" y="185"/>
                  </a:lnTo>
                  <a:lnTo>
                    <a:pt x="7" y="197"/>
                  </a:lnTo>
                  <a:lnTo>
                    <a:pt x="7" y="204"/>
                  </a:lnTo>
                  <a:lnTo>
                    <a:pt x="9" y="214"/>
                  </a:lnTo>
                  <a:lnTo>
                    <a:pt x="12" y="223"/>
                  </a:lnTo>
                  <a:lnTo>
                    <a:pt x="14" y="233"/>
                  </a:lnTo>
                  <a:lnTo>
                    <a:pt x="17" y="245"/>
                  </a:lnTo>
                  <a:lnTo>
                    <a:pt x="19" y="254"/>
                  </a:lnTo>
                  <a:lnTo>
                    <a:pt x="21" y="266"/>
                  </a:lnTo>
                  <a:lnTo>
                    <a:pt x="26" y="278"/>
                  </a:lnTo>
                  <a:lnTo>
                    <a:pt x="26" y="278"/>
                  </a:lnTo>
                  <a:lnTo>
                    <a:pt x="29" y="283"/>
                  </a:lnTo>
                  <a:lnTo>
                    <a:pt x="33" y="290"/>
                  </a:lnTo>
                  <a:lnTo>
                    <a:pt x="43" y="302"/>
                  </a:lnTo>
                  <a:lnTo>
                    <a:pt x="45" y="309"/>
                  </a:lnTo>
                  <a:lnTo>
                    <a:pt x="50" y="316"/>
                  </a:lnTo>
                  <a:lnTo>
                    <a:pt x="55" y="323"/>
                  </a:lnTo>
                  <a:lnTo>
                    <a:pt x="62" y="333"/>
                  </a:lnTo>
                  <a:lnTo>
                    <a:pt x="67" y="342"/>
                  </a:lnTo>
                  <a:lnTo>
                    <a:pt x="74" y="352"/>
                  </a:lnTo>
                  <a:lnTo>
                    <a:pt x="81" y="361"/>
                  </a:lnTo>
                  <a:lnTo>
                    <a:pt x="88" y="373"/>
                  </a:lnTo>
                  <a:lnTo>
                    <a:pt x="95" y="385"/>
                  </a:lnTo>
                  <a:lnTo>
                    <a:pt x="102" y="394"/>
                  </a:lnTo>
                  <a:lnTo>
                    <a:pt x="109" y="406"/>
                  </a:lnTo>
                  <a:lnTo>
                    <a:pt x="119" y="421"/>
                  </a:lnTo>
                  <a:lnTo>
                    <a:pt x="126" y="432"/>
                  </a:lnTo>
                  <a:lnTo>
                    <a:pt x="135" y="447"/>
                  </a:lnTo>
                  <a:lnTo>
                    <a:pt x="145" y="461"/>
                  </a:lnTo>
                  <a:lnTo>
                    <a:pt x="154" y="473"/>
                  </a:lnTo>
                  <a:lnTo>
                    <a:pt x="164" y="487"/>
                  </a:lnTo>
                  <a:lnTo>
                    <a:pt x="173" y="501"/>
                  </a:lnTo>
                  <a:lnTo>
                    <a:pt x="185" y="516"/>
                  </a:lnTo>
                  <a:lnTo>
                    <a:pt x="195" y="532"/>
                  </a:lnTo>
                  <a:lnTo>
                    <a:pt x="204" y="547"/>
                  </a:lnTo>
                  <a:lnTo>
                    <a:pt x="216" y="561"/>
                  </a:lnTo>
                  <a:lnTo>
                    <a:pt x="226" y="575"/>
                  </a:lnTo>
                  <a:lnTo>
                    <a:pt x="238" y="592"/>
                  </a:lnTo>
                  <a:lnTo>
                    <a:pt x="250" y="606"/>
                  </a:lnTo>
                  <a:lnTo>
                    <a:pt x="259" y="620"/>
                  </a:lnTo>
                  <a:lnTo>
                    <a:pt x="271" y="637"/>
                  </a:lnTo>
                  <a:lnTo>
                    <a:pt x="283" y="651"/>
                  </a:lnTo>
                  <a:lnTo>
                    <a:pt x="292" y="665"/>
                  </a:lnTo>
                  <a:lnTo>
                    <a:pt x="304" y="680"/>
                  </a:lnTo>
                  <a:lnTo>
                    <a:pt x="316" y="694"/>
                  </a:lnTo>
                  <a:lnTo>
                    <a:pt x="328" y="711"/>
                  </a:lnTo>
                  <a:lnTo>
                    <a:pt x="337" y="723"/>
                  </a:lnTo>
                  <a:lnTo>
                    <a:pt x="349" y="737"/>
                  </a:lnTo>
                  <a:lnTo>
                    <a:pt x="359" y="751"/>
                  </a:lnTo>
                  <a:lnTo>
                    <a:pt x="371" y="765"/>
                  </a:lnTo>
                  <a:lnTo>
                    <a:pt x="380" y="780"/>
                  </a:lnTo>
                  <a:lnTo>
                    <a:pt x="392" y="791"/>
                  </a:lnTo>
                  <a:lnTo>
                    <a:pt x="404" y="806"/>
                  </a:lnTo>
                  <a:lnTo>
                    <a:pt x="416" y="818"/>
                  </a:lnTo>
                  <a:lnTo>
                    <a:pt x="425" y="829"/>
                  </a:lnTo>
                  <a:lnTo>
                    <a:pt x="435" y="841"/>
                  </a:lnTo>
                  <a:lnTo>
                    <a:pt x="447" y="851"/>
                  </a:lnTo>
                  <a:lnTo>
                    <a:pt x="456" y="860"/>
                  </a:lnTo>
                  <a:lnTo>
                    <a:pt x="466" y="870"/>
                  </a:lnTo>
                  <a:lnTo>
                    <a:pt x="475" y="882"/>
                  </a:lnTo>
                  <a:lnTo>
                    <a:pt x="485" y="891"/>
                  </a:lnTo>
                  <a:lnTo>
                    <a:pt x="497" y="898"/>
                  </a:lnTo>
                  <a:lnTo>
                    <a:pt x="504" y="906"/>
                  </a:lnTo>
                  <a:lnTo>
                    <a:pt x="513" y="913"/>
                  </a:lnTo>
                  <a:lnTo>
                    <a:pt x="520" y="920"/>
                  </a:lnTo>
                  <a:lnTo>
                    <a:pt x="530" y="927"/>
                  </a:lnTo>
                  <a:lnTo>
                    <a:pt x="537" y="932"/>
                  </a:lnTo>
                  <a:lnTo>
                    <a:pt x="547" y="934"/>
                  </a:lnTo>
                  <a:lnTo>
                    <a:pt x="554" y="939"/>
                  </a:lnTo>
                  <a:lnTo>
                    <a:pt x="563" y="941"/>
                  </a:lnTo>
                  <a:lnTo>
                    <a:pt x="566" y="944"/>
                  </a:lnTo>
                  <a:lnTo>
                    <a:pt x="568" y="944"/>
                  </a:lnTo>
                  <a:lnTo>
                    <a:pt x="575" y="946"/>
                  </a:lnTo>
                  <a:lnTo>
                    <a:pt x="580" y="946"/>
                  </a:lnTo>
                  <a:lnTo>
                    <a:pt x="585" y="948"/>
                  </a:lnTo>
                  <a:lnTo>
                    <a:pt x="592" y="948"/>
                  </a:lnTo>
                  <a:lnTo>
                    <a:pt x="599" y="948"/>
                  </a:lnTo>
                  <a:lnTo>
                    <a:pt x="606" y="948"/>
                  </a:lnTo>
                  <a:lnTo>
                    <a:pt x="615" y="948"/>
                  </a:lnTo>
                  <a:lnTo>
                    <a:pt x="627" y="948"/>
                  </a:lnTo>
                  <a:lnTo>
                    <a:pt x="639" y="951"/>
                  </a:lnTo>
                  <a:lnTo>
                    <a:pt x="644" y="948"/>
                  </a:lnTo>
                  <a:lnTo>
                    <a:pt x="649" y="948"/>
                  </a:lnTo>
                  <a:lnTo>
                    <a:pt x="656" y="948"/>
                  </a:lnTo>
                  <a:lnTo>
                    <a:pt x="663" y="948"/>
                  </a:lnTo>
                  <a:lnTo>
                    <a:pt x="670" y="946"/>
                  </a:lnTo>
                  <a:lnTo>
                    <a:pt x="677" y="946"/>
                  </a:lnTo>
                  <a:lnTo>
                    <a:pt x="687" y="946"/>
                  </a:lnTo>
                  <a:lnTo>
                    <a:pt x="696" y="946"/>
                  </a:lnTo>
                  <a:lnTo>
                    <a:pt x="703" y="944"/>
                  </a:lnTo>
                  <a:lnTo>
                    <a:pt x="711" y="941"/>
                  </a:lnTo>
                  <a:lnTo>
                    <a:pt x="720" y="941"/>
                  </a:lnTo>
                  <a:lnTo>
                    <a:pt x="732" y="939"/>
                  </a:lnTo>
                  <a:lnTo>
                    <a:pt x="741" y="936"/>
                  </a:lnTo>
                  <a:lnTo>
                    <a:pt x="751" y="936"/>
                  </a:lnTo>
                  <a:lnTo>
                    <a:pt x="763" y="934"/>
                  </a:lnTo>
                  <a:lnTo>
                    <a:pt x="775" y="934"/>
                  </a:lnTo>
                  <a:lnTo>
                    <a:pt x="784" y="932"/>
                  </a:lnTo>
                  <a:lnTo>
                    <a:pt x="798" y="927"/>
                  </a:lnTo>
                  <a:lnTo>
                    <a:pt x="810" y="927"/>
                  </a:lnTo>
                  <a:lnTo>
                    <a:pt x="822" y="925"/>
                  </a:lnTo>
                  <a:lnTo>
                    <a:pt x="836" y="920"/>
                  </a:lnTo>
                  <a:lnTo>
                    <a:pt x="848" y="917"/>
                  </a:lnTo>
                  <a:lnTo>
                    <a:pt x="863" y="915"/>
                  </a:lnTo>
                  <a:lnTo>
                    <a:pt x="879" y="913"/>
                  </a:lnTo>
                  <a:lnTo>
                    <a:pt x="891" y="910"/>
                  </a:lnTo>
                  <a:lnTo>
                    <a:pt x="908" y="906"/>
                  </a:lnTo>
                  <a:lnTo>
                    <a:pt x="922" y="903"/>
                  </a:lnTo>
                  <a:lnTo>
                    <a:pt x="941" y="898"/>
                  </a:lnTo>
                  <a:lnTo>
                    <a:pt x="955" y="894"/>
                  </a:lnTo>
                  <a:lnTo>
                    <a:pt x="974" y="891"/>
                  </a:lnTo>
                  <a:lnTo>
                    <a:pt x="991" y="887"/>
                  </a:lnTo>
                  <a:lnTo>
                    <a:pt x="1010" y="882"/>
                  </a:lnTo>
                  <a:lnTo>
                    <a:pt x="1027" y="877"/>
                  </a:lnTo>
                  <a:lnTo>
                    <a:pt x="1046" y="872"/>
                  </a:lnTo>
                  <a:lnTo>
                    <a:pt x="1062" y="868"/>
                  </a:lnTo>
                  <a:lnTo>
                    <a:pt x="1081" y="863"/>
                  </a:lnTo>
                  <a:lnTo>
                    <a:pt x="1095" y="858"/>
                  </a:lnTo>
                  <a:lnTo>
                    <a:pt x="1114" y="853"/>
                  </a:lnTo>
                  <a:lnTo>
                    <a:pt x="1129" y="851"/>
                  </a:lnTo>
                  <a:lnTo>
                    <a:pt x="1148" y="846"/>
                  </a:lnTo>
                  <a:lnTo>
                    <a:pt x="1162" y="841"/>
                  </a:lnTo>
                  <a:lnTo>
                    <a:pt x="1176" y="837"/>
                  </a:lnTo>
                  <a:lnTo>
                    <a:pt x="1193" y="834"/>
                  </a:lnTo>
                  <a:lnTo>
                    <a:pt x="1207" y="829"/>
                  </a:lnTo>
                  <a:lnTo>
                    <a:pt x="1224" y="827"/>
                  </a:lnTo>
                  <a:lnTo>
                    <a:pt x="1238" y="825"/>
                  </a:lnTo>
                  <a:lnTo>
                    <a:pt x="1252" y="820"/>
                  </a:lnTo>
                  <a:lnTo>
                    <a:pt x="1267" y="818"/>
                  </a:lnTo>
                  <a:lnTo>
                    <a:pt x="1278" y="813"/>
                  </a:lnTo>
                  <a:lnTo>
                    <a:pt x="1293" y="810"/>
                  </a:lnTo>
                  <a:lnTo>
                    <a:pt x="1305" y="806"/>
                  </a:lnTo>
                  <a:lnTo>
                    <a:pt x="1319" y="803"/>
                  </a:lnTo>
                  <a:lnTo>
                    <a:pt x="1328" y="799"/>
                  </a:lnTo>
                  <a:lnTo>
                    <a:pt x="1343" y="796"/>
                  </a:lnTo>
                  <a:lnTo>
                    <a:pt x="1354" y="794"/>
                  </a:lnTo>
                  <a:lnTo>
                    <a:pt x="1366" y="791"/>
                  </a:lnTo>
                  <a:lnTo>
                    <a:pt x="1376" y="789"/>
                  </a:lnTo>
                  <a:lnTo>
                    <a:pt x="1388" y="784"/>
                  </a:lnTo>
                  <a:lnTo>
                    <a:pt x="1397" y="782"/>
                  </a:lnTo>
                  <a:lnTo>
                    <a:pt x="1409" y="780"/>
                  </a:lnTo>
                  <a:lnTo>
                    <a:pt x="1419" y="777"/>
                  </a:lnTo>
                  <a:lnTo>
                    <a:pt x="1431" y="775"/>
                  </a:lnTo>
                  <a:lnTo>
                    <a:pt x="1440" y="772"/>
                  </a:lnTo>
                  <a:lnTo>
                    <a:pt x="1450" y="772"/>
                  </a:lnTo>
                  <a:lnTo>
                    <a:pt x="1459" y="768"/>
                  </a:lnTo>
                  <a:lnTo>
                    <a:pt x="1466" y="768"/>
                  </a:lnTo>
                  <a:lnTo>
                    <a:pt x="1473" y="763"/>
                  </a:lnTo>
                  <a:lnTo>
                    <a:pt x="1483" y="763"/>
                  </a:lnTo>
                  <a:lnTo>
                    <a:pt x="1492" y="761"/>
                  </a:lnTo>
                  <a:lnTo>
                    <a:pt x="1499" y="758"/>
                  </a:lnTo>
                  <a:lnTo>
                    <a:pt x="1507" y="756"/>
                  </a:lnTo>
                  <a:lnTo>
                    <a:pt x="1514" y="756"/>
                  </a:lnTo>
                  <a:lnTo>
                    <a:pt x="1521" y="753"/>
                  </a:lnTo>
                  <a:lnTo>
                    <a:pt x="1528" y="751"/>
                  </a:lnTo>
                  <a:lnTo>
                    <a:pt x="1533" y="751"/>
                  </a:lnTo>
                  <a:lnTo>
                    <a:pt x="1537" y="751"/>
                  </a:lnTo>
                  <a:lnTo>
                    <a:pt x="1549" y="749"/>
                  </a:lnTo>
                  <a:lnTo>
                    <a:pt x="1561" y="746"/>
                  </a:lnTo>
                  <a:lnTo>
                    <a:pt x="1568" y="744"/>
                  </a:lnTo>
                  <a:lnTo>
                    <a:pt x="1575" y="742"/>
                  </a:lnTo>
                  <a:lnTo>
                    <a:pt x="1583" y="739"/>
                  </a:lnTo>
                  <a:lnTo>
                    <a:pt x="1587" y="739"/>
                  </a:lnTo>
                  <a:lnTo>
                    <a:pt x="1594" y="739"/>
                  </a:lnTo>
                  <a:lnTo>
                    <a:pt x="1599" y="739"/>
                  </a:lnTo>
                  <a:lnTo>
                    <a:pt x="1602" y="689"/>
                  </a:lnTo>
                  <a:lnTo>
                    <a:pt x="1488" y="573"/>
                  </a:lnTo>
                  <a:lnTo>
                    <a:pt x="1476" y="658"/>
                  </a:lnTo>
                  <a:lnTo>
                    <a:pt x="1552" y="703"/>
                  </a:lnTo>
                  <a:lnTo>
                    <a:pt x="1549" y="703"/>
                  </a:lnTo>
                  <a:lnTo>
                    <a:pt x="1542" y="703"/>
                  </a:lnTo>
                  <a:lnTo>
                    <a:pt x="1537" y="703"/>
                  </a:lnTo>
                  <a:lnTo>
                    <a:pt x="1533" y="706"/>
                  </a:lnTo>
                  <a:lnTo>
                    <a:pt x="1523" y="708"/>
                  </a:lnTo>
                  <a:lnTo>
                    <a:pt x="1516" y="711"/>
                  </a:lnTo>
                  <a:lnTo>
                    <a:pt x="1507" y="713"/>
                  </a:lnTo>
                  <a:lnTo>
                    <a:pt x="1497" y="715"/>
                  </a:lnTo>
                  <a:lnTo>
                    <a:pt x="1488" y="718"/>
                  </a:lnTo>
                  <a:lnTo>
                    <a:pt x="1476" y="720"/>
                  </a:lnTo>
                  <a:lnTo>
                    <a:pt x="1464" y="723"/>
                  </a:lnTo>
                  <a:lnTo>
                    <a:pt x="1452" y="727"/>
                  </a:lnTo>
                  <a:lnTo>
                    <a:pt x="1438" y="730"/>
                  </a:lnTo>
                  <a:lnTo>
                    <a:pt x="1423" y="734"/>
                  </a:lnTo>
                  <a:lnTo>
                    <a:pt x="1407" y="739"/>
                  </a:lnTo>
                  <a:lnTo>
                    <a:pt x="1392" y="742"/>
                  </a:lnTo>
                  <a:lnTo>
                    <a:pt x="1376" y="746"/>
                  </a:lnTo>
                  <a:lnTo>
                    <a:pt x="1359" y="751"/>
                  </a:lnTo>
                  <a:lnTo>
                    <a:pt x="1340" y="753"/>
                  </a:lnTo>
                  <a:lnTo>
                    <a:pt x="1324" y="758"/>
                  </a:lnTo>
                  <a:lnTo>
                    <a:pt x="1305" y="763"/>
                  </a:lnTo>
                  <a:lnTo>
                    <a:pt x="1288" y="768"/>
                  </a:lnTo>
                  <a:lnTo>
                    <a:pt x="1267" y="772"/>
                  </a:lnTo>
                  <a:lnTo>
                    <a:pt x="1248" y="777"/>
                  </a:lnTo>
                  <a:lnTo>
                    <a:pt x="1229" y="782"/>
                  </a:lnTo>
                  <a:lnTo>
                    <a:pt x="1210" y="787"/>
                  </a:lnTo>
                  <a:lnTo>
                    <a:pt x="1188" y="789"/>
                  </a:lnTo>
                  <a:lnTo>
                    <a:pt x="1167" y="796"/>
                  </a:lnTo>
                  <a:lnTo>
                    <a:pt x="1148" y="801"/>
                  </a:lnTo>
                  <a:lnTo>
                    <a:pt x="1126" y="806"/>
                  </a:lnTo>
                  <a:lnTo>
                    <a:pt x="1105" y="810"/>
                  </a:lnTo>
                  <a:lnTo>
                    <a:pt x="1084" y="815"/>
                  </a:lnTo>
                  <a:lnTo>
                    <a:pt x="1062" y="820"/>
                  </a:lnTo>
                  <a:lnTo>
                    <a:pt x="1041" y="825"/>
                  </a:lnTo>
                  <a:lnTo>
                    <a:pt x="1019" y="827"/>
                  </a:lnTo>
                  <a:lnTo>
                    <a:pt x="998" y="834"/>
                  </a:lnTo>
                  <a:lnTo>
                    <a:pt x="977" y="837"/>
                  </a:lnTo>
                  <a:lnTo>
                    <a:pt x="955" y="844"/>
                  </a:lnTo>
                  <a:lnTo>
                    <a:pt x="934" y="846"/>
                  </a:lnTo>
                  <a:lnTo>
                    <a:pt x="915" y="851"/>
                  </a:lnTo>
                  <a:lnTo>
                    <a:pt x="893" y="856"/>
                  </a:lnTo>
                  <a:lnTo>
                    <a:pt x="872" y="858"/>
                  </a:lnTo>
                  <a:lnTo>
                    <a:pt x="851" y="863"/>
                  </a:lnTo>
                  <a:lnTo>
                    <a:pt x="832" y="865"/>
                  </a:lnTo>
                  <a:lnTo>
                    <a:pt x="813" y="870"/>
                  </a:lnTo>
                  <a:lnTo>
                    <a:pt x="794" y="875"/>
                  </a:lnTo>
                  <a:lnTo>
                    <a:pt x="775" y="877"/>
                  </a:lnTo>
                  <a:lnTo>
                    <a:pt x="756" y="879"/>
                  </a:lnTo>
                  <a:lnTo>
                    <a:pt x="737" y="882"/>
                  </a:lnTo>
                  <a:lnTo>
                    <a:pt x="720" y="884"/>
                  </a:lnTo>
                  <a:lnTo>
                    <a:pt x="703" y="887"/>
                  </a:lnTo>
                  <a:lnTo>
                    <a:pt x="684" y="889"/>
                  </a:lnTo>
                  <a:lnTo>
                    <a:pt x="670" y="891"/>
                  </a:lnTo>
                  <a:lnTo>
                    <a:pt x="656" y="894"/>
                  </a:lnTo>
                  <a:lnTo>
                    <a:pt x="639" y="894"/>
                  </a:lnTo>
                  <a:lnTo>
                    <a:pt x="625" y="894"/>
                  </a:lnTo>
                  <a:lnTo>
                    <a:pt x="611" y="894"/>
                  </a:lnTo>
                  <a:lnTo>
                    <a:pt x="601" y="896"/>
                  </a:lnTo>
                  <a:lnTo>
                    <a:pt x="587" y="896"/>
                  </a:lnTo>
                  <a:lnTo>
                    <a:pt x="577" y="896"/>
                  </a:lnTo>
                  <a:lnTo>
                    <a:pt x="566" y="896"/>
                  </a:lnTo>
                  <a:lnTo>
                    <a:pt x="558" y="896"/>
                  </a:lnTo>
                  <a:lnTo>
                    <a:pt x="554" y="894"/>
                  </a:lnTo>
                  <a:lnTo>
                    <a:pt x="547" y="891"/>
                  </a:lnTo>
                  <a:lnTo>
                    <a:pt x="539" y="887"/>
                  </a:lnTo>
                  <a:lnTo>
                    <a:pt x="532" y="879"/>
                  </a:lnTo>
                  <a:lnTo>
                    <a:pt x="523" y="872"/>
                  </a:lnTo>
                  <a:lnTo>
                    <a:pt x="513" y="863"/>
                  </a:lnTo>
                  <a:lnTo>
                    <a:pt x="501" y="853"/>
                  </a:lnTo>
                  <a:lnTo>
                    <a:pt x="492" y="841"/>
                  </a:lnTo>
                  <a:lnTo>
                    <a:pt x="485" y="832"/>
                  </a:lnTo>
                  <a:lnTo>
                    <a:pt x="478" y="825"/>
                  </a:lnTo>
                  <a:lnTo>
                    <a:pt x="470" y="818"/>
                  </a:lnTo>
                  <a:lnTo>
                    <a:pt x="463" y="810"/>
                  </a:lnTo>
                  <a:lnTo>
                    <a:pt x="456" y="801"/>
                  </a:lnTo>
                  <a:lnTo>
                    <a:pt x="449" y="794"/>
                  </a:lnTo>
                  <a:lnTo>
                    <a:pt x="442" y="784"/>
                  </a:lnTo>
                  <a:lnTo>
                    <a:pt x="435" y="777"/>
                  </a:lnTo>
                  <a:lnTo>
                    <a:pt x="428" y="768"/>
                  </a:lnTo>
                  <a:lnTo>
                    <a:pt x="418" y="758"/>
                  </a:lnTo>
                  <a:lnTo>
                    <a:pt x="411" y="749"/>
                  </a:lnTo>
                  <a:lnTo>
                    <a:pt x="402" y="739"/>
                  </a:lnTo>
                  <a:lnTo>
                    <a:pt x="394" y="727"/>
                  </a:lnTo>
                  <a:lnTo>
                    <a:pt x="385" y="718"/>
                  </a:lnTo>
                  <a:lnTo>
                    <a:pt x="378" y="708"/>
                  </a:lnTo>
                  <a:lnTo>
                    <a:pt x="368" y="696"/>
                  </a:lnTo>
                  <a:lnTo>
                    <a:pt x="359" y="684"/>
                  </a:lnTo>
                  <a:lnTo>
                    <a:pt x="349" y="673"/>
                  </a:lnTo>
                  <a:lnTo>
                    <a:pt x="340" y="661"/>
                  </a:lnTo>
                  <a:lnTo>
                    <a:pt x="330" y="649"/>
                  </a:lnTo>
                  <a:lnTo>
                    <a:pt x="323" y="635"/>
                  </a:lnTo>
                  <a:lnTo>
                    <a:pt x="314" y="623"/>
                  </a:lnTo>
                  <a:lnTo>
                    <a:pt x="304" y="608"/>
                  </a:lnTo>
                  <a:lnTo>
                    <a:pt x="295" y="597"/>
                  </a:lnTo>
                  <a:lnTo>
                    <a:pt x="285" y="582"/>
                  </a:lnTo>
                  <a:lnTo>
                    <a:pt x="273" y="570"/>
                  </a:lnTo>
                  <a:lnTo>
                    <a:pt x="264" y="556"/>
                  </a:lnTo>
                  <a:lnTo>
                    <a:pt x="257" y="542"/>
                  </a:lnTo>
                  <a:lnTo>
                    <a:pt x="245" y="528"/>
                  </a:lnTo>
                  <a:lnTo>
                    <a:pt x="235" y="511"/>
                  </a:lnTo>
                  <a:lnTo>
                    <a:pt x="226" y="497"/>
                  </a:lnTo>
                  <a:lnTo>
                    <a:pt x="216" y="482"/>
                  </a:lnTo>
                  <a:lnTo>
                    <a:pt x="207" y="466"/>
                  </a:lnTo>
                  <a:lnTo>
                    <a:pt x="195" y="451"/>
                  </a:lnTo>
                  <a:lnTo>
                    <a:pt x="185" y="435"/>
                  </a:lnTo>
                  <a:lnTo>
                    <a:pt x="176" y="421"/>
                  </a:lnTo>
                  <a:lnTo>
                    <a:pt x="166" y="404"/>
                  </a:lnTo>
                  <a:lnTo>
                    <a:pt x="157" y="390"/>
                  </a:lnTo>
                  <a:lnTo>
                    <a:pt x="147" y="373"/>
                  </a:lnTo>
                  <a:lnTo>
                    <a:pt x="138" y="356"/>
                  </a:lnTo>
                  <a:lnTo>
                    <a:pt x="128" y="340"/>
                  </a:lnTo>
                  <a:lnTo>
                    <a:pt x="119" y="323"/>
                  </a:lnTo>
                  <a:lnTo>
                    <a:pt x="109" y="309"/>
                  </a:lnTo>
                  <a:lnTo>
                    <a:pt x="100" y="292"/>
                  </a:lnTo>
                  <a:lnTo>
                    <a:pt x="90" y="276"/>
                  </a:lnTo>
                  <a:lnTo>
                    <a:pt x="83" y="259"/>
                  </a:lnTo>
                  <a:lnTo>
                    <a:pt x="74" y="242"/>
                  </a:lnTo>
                  <a:lnTo>
                    <a:pt x="64" y="226"/>
                  </a:lnTo>
                  <a:lnTo>
                    <a:pt x="64" y="223"/>
                  </a:lnTo>
                  <a:lnTo>
                    <a:pt x="62" y="219"/>
                  </a:lnTo>
                  <a:lnTo>
                    <a:pt x="62" y="214"/>
                  </a:lnTo>
                  <a:lnTo>
                    <a:pt x="59" y="209"/>
                  </a:lnTo>
                  <a:lnTo>
                    <a:pt x="57" y="200"/>
                  </a:lnTo>
                  <a:lnTo>
                    <a:pt x="55" y="188"/>
                  </a:lnTo>
                  <a:lnTo>
                    <a:pt x="52" y="178"/>
                  </a:lnTo>
                  <a:lnTo>
                    <a:pt x="52" y="166"/>
                  </a:lnTo>
                  <a:lnTo>
                    <a:pt x="52" y="159"/>
                  </a:lnTo>
                  <a:lnTo>
                    <a:pt x="52" y="152"/>
                  </a:lnTo>
                  <a:lnTo>
                    <a:pt x="52" y="145"/>
                  </a:lnTo>
                  <a:lnTo>
                    <a:pt x="52" y="138"/>
                  </a:lnTo>
                  <a:lnTo>
                    <a:pt x="52" y="131"/>
                  </a:lnTo>
                  <a:lnTo>
                    <a:pt x="52" y="123"/>
                  </a:lnTo>
                  <a:lnTo>
                    <a:pt x="52" y="116"/>
                  </a:lnTo>
                  <a:lnTo>
                    <a:pt x="52" y="109"/>
                  </a:lnTo>
                  <a:lnTo>
                    <a:pt x="52" y="102"/>
                  </a:lnTo>
                  <a:lnTo>
                    <a:pt x="52" y="93"/>
                  </a:lnTo>
                  <a:lnTo>
                    <a:pt x="55" y="85"/>
                  </a:lnTo>
                  <a:lnTo>
                    <a:pt x="57" y="78"/>
                  </a:lnTo>
                  <a:lnTo>
                    <a:pt x="57" y="71"/>
                  </a:lnTo>
                  <a:lnTo>
                    <a:pt x="59" y="64"/>
                  </a:lnTo>
                  <a:lnTo>
                    <a:pt x="64" y="57"/>
                  </a:lnTo>
                  <a:lnTo>
                    <a:pt x="67" y="50"/>
                  </a:lnTo>
                  <a:lnTo>
                    <a:pt x="107" y="19"/>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5901480" y="2662560"/>
              <a:ext cx="566280" cy="337680"/>
            </a:xfrm>
            <a:custGeom>
              <a:avLst/>
              <a:gdLst/>
              <a:ahLst/>
              <a:rect l="l" t="t" r="r" b="b"/>
              <a:pathLst>
                <a:path w="1097" h="906">
                  <a:moveTo>
                    <a:pt x="0" y="7"/>
                  </a:moveTo>
                  <a:lnTo>
                    <a:pt x="480" y="606"/>
                  </a:lnTo>
                  <a:lnTo>
                    <a:pt x="477" y="608"/>
                  </a:lnTo>
                  <a:lnTo>
                    <a:pt x="477" y="613"/>
                  </a:lnTo>
                  <a:lnTo>
                    <a:pt x="472" y="623"/>
                  </a:lnTo>
                  <a:lnTo>
                    <a:pt x="470" y="632"/>
                  </a:lnTo>
                  <a:lnTo>
                    <a:pt x="468" y="639"/>
                  </a:lnTo>
                  <a:lnTo>
                    <a:pt x="465" y="646"/>
                  </a:lnTo>
                  <a:lnTo>
                    <a:pt x="463" y="654"/>
                  </a:lnTo>
                  <a:lnTo>
                    <a:pt x="463" y="663"/>
                  </a:lnTo>
                  <a:lnTo>
                    <a:pt x="461" y="670"/>
                  </a:lnTo>
                  <a:lnTo>
                    <a:pt x="458" y="682"/>
                  </a:lnTo>
                  <a:lnTo>
                    <a:pt x="456" y="692"/>
                  </a:lnTo>
                  <a:lnTo>
                    <a:pt x="456" y="701"/>
                  </a:lnTo>
                  <a:lnTo>
                    <a:pt x="456" y="711"/>
                  </a:lnTo>
                  <a:lnTo>
                    <a:pt x="453" y="723"/>
                  </a:lnTo>
                  <a:lnTo>
                    <a:pt x="451" y="732"/>
                  </a:lnTo>
                  <a:lnTo>
                    <a:pt x="451" y="744"/>
                  </a:lnTo>
                  <a:lnTo>
                    <a:pt x="451" y="753"/>
                  </a:lnTo>
                  <a:lnTo>
                    <a:pt x="451" y="765"/>
                  </a:lnTo>
                  <a:lnTo>
                    <a:pt x="451" y="777"/>
                  </a:lnTo>
                  <a:lnTo>
                    <a:pt x="453" y="789"/>
                  </a:lnTo>
                  <a:lnTo>
                    <a:pt x="453" y="799"/>
                  </a:lnTo>
                  <a:lnTo>
                    <a:pt x="456" y="810"/>
                  </a:lnTo>
                  <a:lnTo>
                    <a:pt x="456" y="820"/>
                  </a:lnTo>
                  <a:lnTo>
                    <a:pt x="458" y="832"/>
                  </a:lnTo>
                  <a:lnTo>
                    <a:pt x="461" y="841"/>
                  </a:lnTo>
                  <a:lnTo>
                    <a:pt x="465" y="853"/>
                  </a:lnTo>
                  <a:lnTo>
                    <a:pt x="468" y="863"/>
                  </a:lnTo>
                  <a:lnTo>
                    <a:pt x="475" y="875"/>
                  </a:lnTo>
                  <a:lnTo>
                    <a:pt x="480" y="882"/>
                  </a:lnTo>
                  <a:lnTo>
                    <a:pt x="484" y="889"/>
                  </a:lnTo>
                  <a:lnTo>
                    <a:pt x="489" y="894"/>
                  </a:lnTo>
                  <a:lnTo>
                    <a:pt x="494" y="898"/>
                  </a:lnTo>
                  <a:lnTo>
                    <a:pt x="506" y="903"/>
                  </a:lnTo>
                  <a:lnTo>
                    <a:pt x="515" y="906"/>
                  </a:lnTo>
                  <a:lnTo>
                    <a:pt x="522" y="903"/>
                  </a:lnTo>
                  <a:lnTo>
                    <a:pt x="529" y="903"/>
                  </a:lnTo>
                  <a:lnTo>
                    <a:pt x="534" y="901"/>
                  </a:lnTo>
                  <a:lnTo>
                    <a:pt x="537" y="901"/>
                  </a:lnTo>
                  <a:lnTo>
                    <a:pt x="534" y="898"/>
                  </a:lnTo>
                  <a:lnTo>
                    <a:pt x="532" y="891"/>
                  </a:lnTo>
                  <a:lnTo>
                    <a:pt x="529" y="884"/>
                  </a:lnTo>
                  <a:lnTo>
                    <a:pt x="525" y="875"/>
                  </a:lnTo>
                  <a:lnTo>
                    <a:pt x="522" y="868"/>
                  </a:lnTo>
                  <a:lnTo>
                    <a:pt x="520" y="860"/>
                  </a:lnTo>
                  <a:lnTo>
                    <a:pt x="518" y="853"/>
                  </a:lnTo>
                  <a:lnTo>
                    <a:pt x="518" y="846"/>
                  </a:lnTo>
                  <a:lnTo>
                    <a:pt x="513" y="837"/>
                  </a:lnTo>
                  <a:lnTo>
                    <a:pt x="513" y="830"/>
                  </a:lnTo>
                  <a:lnTo>
                    <a:pt x="510" y="820"/>
                  </a:lnTo>
                  <a:lnTo>
                    <a:pt x="510" y="810"/>
                  </a:lnTo>
                  <a:lnTo>
                    <a:pt x="508" y="801"/>
                  </a:lnTo>
                  <a:lnTo>
                    <a:pt x="506" y="791"/>
                  </a:lnTo>
                  <a:lnTo>
                    <a:pt x="503" y="780"/>
                  </a:lnTo>
                  <a:lnTo>
                    <a:pt x="503" y="770"/>
                  </a:lnTo>
                  <a:lnTo>
                    <a:pt x="503" y="761"/>
                  </a:lnTo>
                  <a:lnTo>
                    <a:pt x="503" y="751"/>
                  </a:lnTo>
                  <a:lnTo>
                    <a:pt x="503" y="739"/>
                  </a:lnTo>
                  <a:lnTo>
                    <a:pt x="506" y="730"/>
                  </a:lnTo>
                  <a:lnTo>
                    <a:pt x="506" y="718"/>
                  </a:lnTo>
                  <a:lnTo>
                    <a:pt x="508" y="708"/>
                  </a:lnTo>
                  <a:lnTo>
                    <a:pt x="510" y="696"/>
                  </a:lnTo>
                  <a:lnTo>
                    <a:pt x="515" y="687"/>
                  </a:lnTo>
                  <a:lnTo>
                    <a:pt x="518" y="677"/>
                  </a:lnTo>
                  <a:lnTo>
                    <a:pt x="522" y="665"/>
                  </a:lnTo>
                  <a:lnTo>
                    <a:pt x="527" y="658"/>
                  </a:lnTo>
                  <a:lnTo>
                    <a:pt x="534" y="649"/>
                  </a:lnTo>
                  <a:lnTo>
                    <a:pt x="1097" y="513"/>
                  </a:lnTo>
                  <a:lnTo>
                    <a:pt x="1097" y="509"/>
                  </a:lnTo>
                  <a:lnTo>
                    <a:pt x="1095" y="501"/>
                  </a:lnTo>
                  <a:lnTo>
                    <a:pt x="1090" y="492"/>
                  </a:lnTo>
                  <a:lnTo>
                    <a:pt x="1085" y="482"/>
                  </a:lnTo>
                  <a:lnTo>
                    <a:pt x="1081" y="473"/>
                  </a:lnTo>
                  <a:lnTo>
                    <a:pt x="1076" y="463"/>
                  </a:lnTo>
                  <a:lnTo>
                    <a:pt x="1071" y="456"/>
                  </a:lnTo>
                  <a:lnTo>
                    <a:pt x="1066" y="456"/>
                  </a:lnTo>
                  <a:lnTo>
                    <a:pt x="1064" y="456"/>
                  </a:lnTo>
                  <a:lnTo>
                    <a:pt x="1057" y="456"/>
                  </a:lnTo>
                  <a:lnTo>
                    <a:pt x="1050" y="456"/>
                  </a:lnTo>
                  <a:lnTo>
                    <a:pt x="1040" y="461"/>
                  </a:lnTo>
                  <a:lnTo>
                    <a:pt x="1033" y="461"/>
                  </a:lnTo>
                  <a:lnTo>
                    <a:pt x="1028" y="463"/>
                  </a:lnTo>
                  <a:lnTo>
                    <a:pt x="1021" y="463"/>
                  </a:lnTo>
                  <a:lnTo>
                    <a:pt x="1014" y="466"/>
                  </a:lnTo>
                  <a:lnTo>
                    <a:pt x="1007" y="468"/>
                  </a:lnTo>
                  <a:lnTo>
                    <a:pt x="998" y="471"/>
                  </a:lnTo>
                  <a:lnTo>
                    <a:pt x="990" y="471"/>
                  </a:lnTo>
                  <a:lnTo>
                    <a:pt x="981" y="475"/>
                  </a:lnTo>
                  <a:lnTo>
                    <a:pt x="971" y="475"/>
                  </a:lnTo>
                  <a:lnTo>
                    <a:pt x="962" y="478"/>
                  </a:lnTo>
                  <a:lnTo>
                    <a:pt x="952" y="480"/>
                  </a:lnTo>
                  <a:lnTo>
                    <a:pt x="941" y="482"/>
                  </a:lnTo>
                  <a:lnTo>
                    <a:pt x="931" y="485"/>
                  </a:lnTo>
                  <a:lnTo>
                    <a:pt x="919" y="487"/>
                  </a:lnTo>
                  <a:lnTo>
                    <a:pt x="910" y="490"/>
                  </a:lnTo>
                  <a:lnTo>
                    <a:pt x="900" y="492"/>
                  </a:lnTo>
                  <a:lnTo>
                    <a:pt x="888" y="494"/>
                  </a:lnTo>
                  <a:lnTo>
                    <a:pt x="876" y="497"/>
                  </a:lnTo>
                  <a:lnTo>
                    <a:pt x="864" y="501"/>
                  </a:lnTo>
                  <a:lnTo>
                    <a:pt x="853" y="504"/>
                  </a:lnTo>
                  <a:lnTo>
                    <a:pt x="841" y="506"/>
                  </a:lnTo>
                  <a:lnTo>
                    <a:pt x="831" y="509"/>
                  </a:lnTo>
                  <a:lnTo>
                    <a:pt x="817" y="513"/>
                  </a:lnTo>
                  <a:lnTo>
                    <a:pt x="807" y="516"/>
                  </a:lnTo>
                  <a:lnTo>
                    <a:pt x="796" y="518"/>
                  </a:lnTo>
                  <a:lnTo>
                    <a:pt x="781" y="520"/>
                  </a:lnTo>
                  <a:lnTo>
                    <a:pt x="769" y="523"/>
                  </a:lnTo>
                  <a:lnTo>
                    <a:pt x="758" y="525"/>
                  </a:lnTo>
                  <a:lnTo>
                    <a:pt x="746" y="528"/>
                  </a:lnTo>
                  <a:lnTo>
                    <a:pt x="734" y="532"/>
                  </a:lnTo>
                  <a:lnTo>
                    <a:pt x="722" y="535"/>
                  </a:lnTo>
                  <a:lnTo>
                    <a:pt x="712" y="537"/>
                  </a:lnTo>
                  <a:lnTo>
                    <a:pt x="698" y="539"/>
                  </a:lnTo>
                  <a:lnTo>
                    <a:pt x="689" y="542"/>
                  </a:lnTo>
                  <a:lnTo>
                    <a:pt x="677" y="544"/>
                  </a:lnTo>
                  <a:lnTo>
                    <a:pt x="667" y="549"/>
                  </a:lnTo>
                  <a:lnTo>
                    <a:pt x="655" y="551"/>
                  </a:lnTo>
                  <a:lnTo>
                    <a:pt x="646" y="554"/>
                  </a:lnTo>
                  <a:lnTo>
                    <a:pt x="636" y="556"/>
                  </a:lnTo>
                  <a:lnTo>
                    <a:pt x="627" y="558"/>
                  </a:lnTo>
                  <a:lnTo>
                    <a:pt x="617" y="561"/>
                  </a:lnTo>
                  <a:lnTo>
                    <a:pt x="608" y="563"/>
                  </a:lnTo>
                  <a:lnTo>
                    <a:pt x="598" y="566"/>
                  </a:lnTo>
                  <a:lnTo>
                    <a:pt x="589" y="568"/>
                  </a:lnTo>
                  <a:lnTo>
                    <a:pt x="582" y="568"/>
                  </a:lnTo>
                  <a:lnTo>
                    <a:pt x="575" y="570"/>
                  </a:lnTo>
                  <a:lnTo>
                    <a:pt x="567" y="573"/>
                  </a:lnTo>
                  <a:lnTo>
                    <a:pt x="560" y="575"/>
                  </a:lnTo>
                  <a:lnTo>
                    <a:pt x="551" y="578"/>
                  </a:lnTo>
                  <a:lnTo>
                    <a:pt x="541" y="582"/>
                  </a:lnTo>
                  <a:lnTo>
                    <a:pt x="534" y="585"/>
                  </a:lnTo>
                  <a:lnTo>
                    <a:pt x="529" y="587"/>
                  </a:lnTo>
                  <a:lnTo>
                    <a:pt x="5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6566040" y="2745720"/>
              <a:ext cx="128880" cy="95760"/>
            </a:xfrm>
            <a:custGeom>
              <a:avLst/>
              <a:gdLst/>
              <a:ahLst/>
              <a:rect l="l" t="t" r="r" b="b"/>
              <a:pathLst>
                <a:path w="250" h="257">
                  <a:moveTo>
                    <a:pt x="43" y="17"/>
                  </a:moveTo>
                  <a:lnTo>
                    <a:pt x="172" y="183"/>
                  </a:lnTo>
                  <a:lnTo>
                    <a:pt x="0" y="205"/>
                  </a:lnTo>
                  <a:lnTo>
                    <a:pt x="31" y="257"/>
                  </a:lnTo>
                  <a:lnTo>
                    <a:pt x="250" y="221"/>
                  </a:lnTo>
                  <a:lnTo>
                    <a:pt x="115" y="0"/>
                  </a:lnTo>
                  <a:lnTo>
                    <a:pt x="43" y="17"/>
                  </a:lnTo>
                  <a:lnTo>
                    <a:pt x="4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6167520" y="2829960"/>
              <a:ext cx="487080" cy="145440"/>
            </a:xfrm>
            <a:custGeom>
              <a:avLst/>
              <a:gdLst/>
              <a:ahLst/>
              <a:rect l="l" t="t" r="r" b="b"/>
              <a:pathLst>
                <a:path w="944" h="390">
                  <a:moveTo>
                    <a:pt x="870" y="0"/>
                  </a:moveTo>
                  <a:lnTo>
                    <a:pt x="877" y="171"/>
                  </a:lnTo>
                  <a:lnTo>
                    <a:pt x="69" y="347"/>
                  </a:lnTo>
                  <a:lnTo>
                    <a:pt x="69" y="345"/>
                  </a:lnTo>
                  <a:lnTo>
                    <a:pt x="67" y="342"/>
                  </a:lnTo>
                  <a:lnTo>
                    <a:pt x="64" y="335"/>
                  </a:lnTo>
                  <a:lnTo>
                    <a:pt x="64" y="328"/>
                  </a:lnTo>
                  <a:lnTo>
                    <a:pt x="62" y="316"/>
                  </a:lnTo>
                  <a:lnTo>
                    <a:pt x="60" y="307"/>
                  </a:lnTo>
                  <a:lnTo>
                    <a:pt x="57" y="300"/>
                  </a:lnTo>
                  <a:lnTo>
                    <a:pt x="57" y="293"/>
                  </a:lnTo>
                  <a:lnTo>
                    <a:pt x="55" y="285"/>
                  </a:lnTo>
                  <a:lnTo>
                    <a:pt x="55" y="281"/>
                  </a:lnTo>
                  <a:lnTo>
                    <a:pt x="55" y="274"/>
                  </a:lnTo>
                  <a:lnTo>
                    <a:pt x="52" y="266"/>
                  </a:lnTo>
                  <a:lnTo>
                    <a:pt x="52" y="259"/>
                  </a:lnTo>
                  <a:lnTo>
                    <a:pt x="52" y="252"/>
                  </a:lnTo>
                  <a:lnTo>
                    <a:pt x="52" y="245"/>
                  </a:lnTo>
                  <a:lnTo>
                    <a:pt x="52" y="238"/>
                  </a:lnTo>
                  <a:lnTo>
                    <a:pt x="55" y="231"/>
                  </a:lnTo>
                  <a:lnTo>
                    <a:pt x="55" y="224"/>
                  </a:lnTo>
                  <a:lnTo>
                    <a:pt x="55" y="216"/>
                  </a:lnTo>
                  <a:lnTo>
                    <a:pt x="57" y="209"/>
                  </a:lnTo>
                  <a:lnTo>
                    <a:pt x="60" y="202"/>
                  </a:lnTo>
                  <a:lnTo>
                    <a:pt x="62" y="197"/>
                  </a:lnTo>
                  <a:lnTo>
                    <a:pt x="69" y="186"/>
                  </a:lnTo>
                  <a:lnTo>
                    <a:pt x="76" y="176"/>
                  </a:lnTo>
                  <a:lnTo>
                    <a:pt x="12" y="181"/>
                  </a:lnTo>
                  <a:lnTo>
                    <a:pt x="12" y="181"/>
                  </a:lnTo>
                  <a:lnTo>
                    <a:pt x="10" y="188"/>
                  </a:lnTo>
                  <a:lnTo>
                    <a:pt x="10" y="190"/>
                  </a:lnTo>
                  <a:lnTo>
                    <a:pt x="10" y="195"/>
                  </a:lnTo>
                  <a:lnTo>
                    <a:pt x="5" y="202"/>
                  </a:lnTo>
                  <a:lnTo>
                    <a:pt x="5" y="209"/>
                  </a:lnTo>
                  <a:lnTo>
                    <a:pt x="5" y="214"/>
                  </a:lnTo>
                  <a:lnTo>
                    <a:pt x="5" y="221"/>
                  </a:lnTo>
                  <a:lnTo>
                    <a:pt x="3" y="231"/>
                  </a:lnTo>
                  <a:lnTo>
                    <a:pt x="3" y="238"/>
                  </a:lnTo>
                  <a:lnTo>
                    <a:pt x="0" y="247"/>
                  </a:lnTo>
                  <a:lnTo>
                    <a:pt x="0" y="255"/>
                  </a:lnTo>
                  <a:lnTo>
                    <a:pt x="0" y="264"/>
                  </a:lnTo>
                  <a:lnTo>
                    <a:pt x="0" y="276"/>
                  </a:lnTo>
                  <a:lnTo>
                    <a:pt x="0" y="283"/>
                  </a:lnTo>
                  <a:lnTo>
                    <a:pt x="0" y="293"/>
                  </a:lnTo>
                  <a:lnTo>
                    <a:pt x="0" y="302"/>
                  </a:lnTo>
                  <a:lnTo>
                    <a:pt x="0" y="312"/>
                  </a:lnTo>
                  <a:lnTo>
                    <a:pt x="3" y="319"/>
                  </a:lnTo>
                  <a:lnTo>
                    <a:pt x="5" y="328"/>
                  </a:lnTo>
                  <a:lnTo>
                    <a:pt x="5" y="338"/>
                  </a:lnTo>
                  <a:lnTo>
                    <a:pt x="10" y="347"/>
                  </a:lnTo>
                  <a:lnTo>
                    <a:pt x="10" y="354"/>
                  </a:lnTo>
                  <a:lnTo>
                    <a:pt x="14" y="359"/>
                  </a:lnTo>
                  <a:lnTo>
                    <a:pt x="19" y="366"/>
                  </a:lnTo>
                  <a:lnTo>
                    <a:pt x="24" y="373"/>
                  </a:lnTo>
                  <a:lnTo>
                    <a:pt x="29" y="378"/>
                  </a:lnTo>
                  <a:lnTo>
                    <a:pt x="36" y="383"/>
                  </a:lnTo>
                  <a:lnTo>
                    <a:pt x="41" y="388"/>
                  </a:lnTo>
                  <a:lnTo>
                    <a:pt x="50" y="390"/>
                  </a:lnTo>
                  <a:lnTo>
                    <a:pt x="944" y="202"/>
                  </a:lnTo>
                  <a:lnTo>
                    <a:pt x="920" y="7"/>
                  </a:lnTo>
                  <a:lnTo>
                    <a:pt x="870" y="0"/>
                  </a:lnTo>
                  <a:lnTo>
                    <a:pt x="8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3" name=""/>
          <p:cNvSpPr/>
          <p:nvPr/>
        </p:nvSpPr>
        <p:spPr>
          <a:xfrm>
            <a:off x="5510880" y="4648320"/>
            <a:ext cx="1322280" cy="337320"/>
          </a:xfrm>
          <a:prstGeom prst="rect">
            <a:avLst/>
          </a:prstGeom>
          <a:noFill/>
          <a:ln w="93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Sözel-Dilsel</a:t>
            </a:r>
            <a:endParaRPr b="0" lang="en-US" sz="1600" spc="-1" strike="noStrike">
              <a:solidFill>
                <a:srgbClr val="ffffff"/>
              </a:solidFill>
              <a:latin typeface="Times New Roman"/>
            </a:endParaRPr>
          </a:p>
        </p:txBody>
      </p:sp>
      <p:sp>
        <p:nvSpPr>
          <p:cNvPr id="2174" name=""/>
          <p:cNvSpPr/>
          <p:nvPr/>
        </p:nvSpPr>
        <p:spPr>
          <a:xfrm>
            <a:off x="3962520" y="46483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flipV="1">
            <a:off x="3962520" y="4952880"/>
            <a:ext cx="144756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flipH="1" flipV="1">
            <a:off x="6705360" y="5105160"/>
            <a:ext cx="10666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flipV="1">
            <a:off x="3505320" y="5105520"/>
            <a:ext cx="24382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flipV="1">
            <a:off x="685800" y="5105160"/>
            <a:ext cx="4800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09480" y="380880"/>
            <a:ext cx="8077320" cy="4970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ea typeface="Times New Roman"/>
              </a:rPr>
              <a:t>BİZDEN BİRİ</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 </a:t>
            </a:r>
            <a:r>
              <a:rPr b="0" i="1" lang="en-US" sz="1800" spc="-1" strike="noStrike">
                <a:solidFill>
                  <a:srgbClr val="ffff00"/>
                </a:solidFill>
                <a:latin typeface="Arial Black"/>
                <a:ea typeface="Times New Roman"/>
              </a:rPr>
              <a:t>Toplumuzda “</a:t>
            </a:r>
            <a:r>
              <a:rPr b="0" i="1" lang="en-US" sz="2000" spc="-1" strike="noStrike">
                <a:solidFill>
                  <a:srgbClr val="ffffff"/>
                </a:solidFill>
                <a:latin typeface="Arial Black"/>
                <a:ea typeface="Times New Roman"/>
              </a:rPr>
              <a:t>KIRKI ÇIKMA</a:t>
            </a:r>
            <a:r>
              <a:rPr b="0" i="1" lang="en-US" sz="1800" spc="-1" strike="noStrike">
                <a:solidFill>
                  <a:srgbClr val="ffff00"/>
                </a:solidFill>
                <a:latin typeface="Arial Black"/>
                <a:ea typeface="Times New Roman"/>
              </a:rPr>
              <a:t>” diye bir deyim var. çoğu zaman bu sürenin daha da arttığını gözleriz. Bunun başlıca nedenleri, bebeğin hasta olmaması ve ona nazar değmemesidi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r>
              <a:rPr b="0" i="1" lang="en-US" sz="1800" spc="-1" strike="noStrike">
                <a:solidFill>
                  <a:srgbClr val="ffff00"/>
                </a:solidFill>
                <a:latin typeface="Arial Black"/>
                <a:ea typeface="Times New Roman"/>
              </a:rPr>
              <a:t>Nesrin Hanım iki önce sağlıklı bir bebek dünyaya getirmiştir. Bebeğini evin en sessiz köşesine yatırır, bahçedeki çocukları kovar, eşini kahveye gönderir, televizyonun sesini kısar, perdeleri kapatır, bebeğin yüzünü tülbentle örter, alçak sesle konuşur vb.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r>
              <a:rPr b="0" i="1" lang="en-US" sz="1800" spc="-1" strike="noStrike">
                <a:solidFill>
                  <a:srgbClr val="ffff00"/>
                </a:solidFill>
                <a:latin typeface="Arial Black"/>
                <a:ea typeface="Times New Roman"/>
              </a:rPr>
              <a:t>Tatil yörelerine gittiğinde iki aylık bebeğini tatile getiren yabancılara garip ve biraz da suçlar gibi bakması, sıklıkla yaptığı şeyler arasındadır. Ona göre bu yabancılar, kendi zevkleri için bebeklerini perişan etmektedirler. Oysa bu dönemde bebeklerin son derece yoğun uyarıcıya gereksinmesi vardır ve bu yabancılar doğru olanı yapmaktadırlar.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r>
              <a:rPr b="0" i="1" lang="en-US" sz="1800" spc="-1" strike="noStrike">
                <a:solidFill>
                  <a:srgbClr val="ffff00"/>
                </a:solidFill>
                <a:latin typeface="Arial Black"/>
                <a:ea typeface="Times New Roman"/>
              </a:rPr>
              <a:t>Nesrin Hanım ise, yavrusunu dış etkenlerden korumakta ve “aman </a:t>
            </a:r>
            <a:r>
              <a:rPr b="0" i="1" lang="en-US" sz="2000" spc="-1" strike="noStrike">
                <a:solidFill>
                  <a:srgbClr val="ffffff"/>
                </a:solidFill>
                <a:latin typeface="Arial"/>
                <a:ea typeface="Times New Roman"/>
              </a:rPr>
              <a:t>BEBEĞİN ZEKASI</a:t>
            </a:r>
            <a:r>
              <a:rPr b="0" i="1" lang="en-US" sz="1800" spc="-1" strike="noStrike">
                <a:solidFill>
                  <a:srgbClr val="ffff00"/>
                </a:solidFill>
                <a:latin typeface="Arial Black"/>
                <a:ea typeface="Times New Roman"/>
              </a:rPr>
              <a:t> gelişmesin” diye yoğun bir çaba harcamaktadır.</a:t>
            </a:r>
            <a:r>
              <a:rPr b="0" i="1" lang="en-US" sz="1800" spc="-1" strike="noStrike">
                <a:solidFill>
                  <a:srgbClr val="ffff00"/>
                </a:solidFill>
                <a:latin typeface="Arial Black"/>
              </a:rPr>
              <a:t>   ”</a:t>
            </a:r>
            <a:r>
              <a:rPr b="0" i="1" lang="en-US" sz="1800" spc="-1" strike="noStrike">
                <a:solidFill>
                  <a:srgbClr val="ffff00"/>
                </a:solidFill>
                <a:latin typeface="Arial Black"/>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11"/>
                                        </p:tgtEl>
                                        <p:attrNameLst>
                                          <p:attrName>style.visibility</p:attrName>
                                        </p:attrNameLst>
                                      </p:cBhvr>
                                      <p:to>
                                        <p:strVal val="visible"/>
                                      </p:to>
                                    </p:set>
                                    <p:anim calcmode="lin" valueType="num">
                                      <p:cBhvr additive="repl">
                                        <p:cTn id="142" dur="500" fill="hold"/>
                                        <p:tgtEl>
                                          <p:spTgt spid="111"/>
                                        </p:tgtEl>
                                        <p:attrNameLst>
                                          <p:attrName>ppt_w</p:attrName>
                                        </p:attrNameLst>
                                      </p:cBhvr>
                                      <p:tavLst>
                                        <p:tav tm="0">
                                          <p:val>
                                            <p:fltVal val="0"/>
                                          </p:val>
                                        </p:tav>
                                        <p:tav tm="100000">
                                          <p:val>
                                            <p:strVal val="#ppt_w"/>
                                          </p:val>
                                        </p:tav>
                                      </p:tavLst>
                                    </p:anim>
                                    <p:anim calcmode="lin" valueType="num">
                                      <p:cBhvr additive="repl">
                                        <p:cTn id="14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9" name=""/>
          <p:cNvSpPr/>
          <p:nvPr/>
        </p:nvSpPr>
        <p:spPr>
          <a:xfrm>
            <a:off x="304920" y="457200"/>
            <a:ext cx="8610480" cy="59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ÖLÇME DEĞERLENDİR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Ölçme Soruları</a:t>
            </a:r>
            <a:endParaRPr b="0" lang="en-US" sz="1600" spc="-1" strike="noStrike">
              <a:solidFill>
                <a:srgbClr val="ffffff"/>
              </a:solidFill>
              <a:latin typeface="Times New Roman"/>
            </a:endParaRPr>
          </a:p>
          <a:p>
            <a:pPr>
              <a:lnSpc>
                <a:spcPct val="100000"/>
              </a:lnSpc>
              <a:buClr>
                <a:srgbClr val="0000a4"/>
              </a:buClr>
              <a:buFont typeface="Comic Sans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r>
              <a:rPr b="1" lang="en-US" sz="1600" spc="-1" strike="noStrike">
                <a:solidFill>
                  <a:srgbClr val="0000a4"/>
                </a:solidFill>
                <a:latin typeface="Comic Sans MS"/>
              </a:rPr>
              <a:t>Çevrenizden, kare prizmaya benzeyen varlıklardan örnekler verini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r>
              <a:rPr b="1" lang="en-US" sz="1600" spc="-1" strike="noStrike">
                <a:solidFill>
                  <a:srgbClr val="0000a4"/>
                </a:solidFill>
                <a:latin typeface="Comic Sans MS"/>
              </a:rPr>
              <a:t>Aşağıda prizmalar verilmiştir. Kare olan yüzeyleri aynı renge boyayını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1" lang="en-US" sz="1600" spc="-1" strike="noStrike">
                <a:solidFill>
                  <a:srgbClr val="0000a4"/>
                </a:solidFill>
                <a:latin typeface="Comic Sans MS"/>
              </a:rPr>
              <a:t>Aşağıdaki ifadelerden hangisi yanlıştı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are prizmanın alt ve üst tabanları karesel bölged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are prizmada iki tane karesel bölge vardı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are prizmanın yan yüzleri altı tane dikdörtgensel bölgeden oluşmuştu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buClr>
                <a:srgbClr val="0000a4"/>
              </a:buClr>
              <a:buFont typeface="Comic Sans MS"/>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Kare prizmanın yan yüzleri, dikdörtgensel bölged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Değerlendir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Öğretmen, ölçme sonuçlarından yararlanarak öğrencilerin başarıları hakkında karar verir.</a:t>
            </a:r>
            <a:endParaRPr b="0" lang="en-US" sz="1600" spc="-1" strike="noStrike">
              <a:solidFill>
                <a:srgbClr val="ffffff"/>
              </a:solidFill>
              <a:latin typeface="Times New Roman"/>
            </a:endParaRPr>
          </a:p>
        </p:txBody>
      </p:sp>
      <p:sp>
        <p:nvSpPr>
          <p:cNvPr id="2180" name=""/>
          <p:cNvSpPr/>
          <p:nvPr/>
        </p:nvSpPr>
        <p:spPr>
          <a:xfrm>
            <a:off x="1066680" y="1981080"/>
            <a:ext cx="762120" cy="114300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a:off x="2666880" y="2438280"/>
            <a:ext cx="762120" cy="60984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4038480" y="2438280"/>
            <a:ext cx="1752840" cy="60984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rot="10809000">
            <a:off x="6324120" y="2208960"/>
            <a:ext cx="1676520" cy="83844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7375680" y="1143000"/>
            <a:ext cx="631800" cy="337320"/>
          </a:xfrm>
          <a:prstGeom prst="rect">
            <a:avLst/>
          </a:prstGeom>
          <a:noFill/>
          <a:ln w="93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omic Sans MS"/>
              </a:rPr>
              <a:t>Bilgi</a:t>
            </a:r>
            <a:endParaRPr b="0" lang="en-US" sz="1600" spc="-1" strike="noStrike">
              <a:solidFill>
                <a:srgbClr val="ffffff"/>
              </a:solidFill>
              <a:latin typeface="Times New Roman"/>
            </a:endParaRPr>
          </a:p>
        </p:txBody>
      </p:sp>
      <p:sp>
        <p:nvSpPr>
          <p:cNvPr id="2185" name=""/>
          <p:cNvSpPr/>
          <p:nvPr/>
        </p:nvSpPr>
        <p:spPr>
          <a:xfrm>
            <a:off x="7696080" y="1676520"/>
            <a:ext cx="1067040" cy="5806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omic Sans MS"/>
              </a:rPr>
              <a:t>Kavrama</a:t>
            </a:r>
            <a:endParaRPr b="0" lang="en-US" sz="1600" spc="-1" strike="noStrike">
              <a:solidFill>
                <a:srgbClr val="ffffff"/>
              </a:solidFill>
              <a:latin typeface="Times New Roman"/>
            </a:endParaRPr>
          </a:p>
        </p:txBody>
      </p:sp>
      <p:sp>
        <p:nvSpPr>
          <p:cNvPr id="2186" name=""/>
          <p:cNvSpPr/>
          <p:nvPr/>
        </p:nvSpPr>
        <p:spPr>
          <a:xfrm>
            <a:off x="4952880" y="3124080"/>
            <a:ext cx="1447920" cy="33732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omic Sans MS"/>
              </a:rPr>
              <a:t>Bilgi</a:t>
            </a:r>
            <a:endParaRPr b="0" lang="en-US" sz="1600" spc="-1" strike="noStrike">
              <a:solidFill>
                <a:srgbClr val="ffffff"/>
              </a:solidFill>
              <a:latin typeface="Times New Roman"/>
            </a:endParaRPr>
          </a:p>
        </p:txBody>
      </p:sp>
      <p:sp>
        <p:nvSpPr>
          <p:cNvPr id="2187" name=""/>
          <p:cNvSpPr/>
          <p:nvPr/>
        </p:nvSpPr>
        <p:spPr>
          <a:xfrm>
            <a:off x="7086600" y="1371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457200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9" name=""/>
          <p:cNvSpPr/>
          <p:nvPr/>
        </p:nvSpPr>
        <p:spPr>
          <a:xfrm>
            <a:off x="328680" y="66600"/>
            <a:ext cx="8586720" cy="914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Sınıf</a:t>
            </a:r>
            <a:r>
              <a:rPr b="0" lang="en-US" sz="1400" spc="-1" strike="noStrike">
                <a:solidFill>
                  <a:srgbClr val="0000a4"/>
                </a:solidFill>
                <a:latin typeface="Comic Sans MS"/>
              </a:rPr>
              <a:t>: 5</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Süre</a:t>
            </a:r>
            <a:r>
              <a:rPr b="0" lang="en-US" sz="1400" spc="-1" strike="noStrike">
                <a:solidFill>
                  <a:srgbClr val="0000a4"/>
                </a:solidFill>
                <a:latin typeface="Comic Sans MS"/>
              </a:rPr>
              <a:t>: 40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ers</a:t>
            </a:r>
            <a:r>
              <a:rPr b="0" lang="en-US" sz="1400" spc="-1" strike="noStrike">
                <a:solidFill>
                  <a:srgbClr val="0000a4"/>
                </a:solidFill>
                <a:latin typeface="Comic Sans MS"/>
              </a:rPr>
              <a:t>: Matematik</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Tarih</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Ünite</a:t>
            </a:r>
            <a:r>
              <a:rPr b="0" lang="en-US" sz="1400" spc="-1" strike="noStrike">
                <a:solidFill>
                  <a:srgbClr val="0000a4"/>
                </a:solidFill>
                <a:latin typeface="Comic Sans MS"/>
              </a:rPr>
              <a:t>:İslamiyet’in  Doğuşu,</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Konu</a:t>
            </a:r>
            <a:r>
              <a:rPr b="0" lang="en-US" sz="1400" spc="-1" strike="noStrike">
                <a:solidFill>
                  <a:srgbClr val="0000a4"/>
                </a:solidFill>
                <a:latin typeface="Comic Sans MS"/>
              </a:rPr>
              <a:t>: Kare Prizm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ayılışı ve Türkler.</a:t>
            </a:r>
            <a:endParaRPr b="0" lang="en-US" sz="1400" spc="-1" strike="noStrike">
              <a:solidFill>
                <a:srgbClr val="ffffff"/>
              </a:solidFill>
              <a:latin typeface="Times New Roman"/>
            </a:endParaRPr>
          </a:p>
        </p:txBody>
      </p:sp>
      <p:sp>
        <p:nvSpPr>
          <p:cNvPr id="2190" name=""/>
          <p:cNvSpPr/>
          <p:nvPr/>
        </p:nvSpPr>
        <p:spPr>
          <a:xfrm>
            <a:off x="328680" y="995400"/>
            <a:ext cx="8586720" cy="20732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Hedef ve Davranışlar: </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Hedef: </a:t>
            </a:r>
            <a:r>
              <a:rPr b="0" lang="en-US" sz="1400" spc="-1" strike="noStrike">
                <a:solidFill>
                  <a:srgbClr val="0000a4"/>
                </a:solidFill>
                <a:latin typeface="Comic Sans MS"/>
              </a:rPr>
              <a:t>Küpün, prizmanın, silindirin ve kürenin özelliklerini kavrayabilm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AVRANIŞL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1.</a:t>
            </a:r>
            <a:r>
              <a:rPr b="0" lang="en-US" sz="1400" spc="-1" strike="noStrike">
                <a:solidFill>
                  <a:srgbClr val="0000a4"/>
                </a:solidFill>
                <a:latin typeface="Comic Sans MS"/>
              </a:rPr>
              <a:t>Kare prizmaya çevresindeki varlıklardan örnekler söyleme</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2.</a:t>
            </a:r>
            <a:r>
              <a:rPr b="0" lang="en-US" sz="1400" spc="-1" strike="noStrike">
                <a:solidFill>
                  <a:srgbClr val="0000a4"/>
                </a:solidFill>
                <a:latin typeface="Comic Sans MS"/>
              </a:rPr>
              <a:t>Kare prizmanın geometrik cisim olduğunu söylem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3.</a:t>
            </a:r>
            <a:r>
              <a:rPr b="0" lang="en-US" sz="1400" spc="-1" strike="noStrike">
                <a:solidFill>
                  <a:srgbClr val="0000a4"/>
                </a:solidFill>
                <a:latin typeface="Comic Sans MS"/>
              </a:rPr>
              <a:t>Kare prizmanın yüzeylerini, ayrıtlarını ve köşelerini gösterip söylem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4.</a:t>
            </a:r>
            <a:r>
              <a:rPr b="0" lang="en-US" sz="1400" spc="-1" strike="noStrike">
                <a:solidFill>
                  <a:srgbClr val="0000a4"/>
                </a:solidFill>
                <a:latin typeface="Comic Sans MS"/>
              </a:rPr>
              <a:t>Belirtilen geometrik cismi, en çok dört geometrik cisim arasından seçip işaretlem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5.</a:t>
            </a:r>
            <a:r>
              <a:rPr b="0" lang="en-US" sz="1400" spc="-1" strike="noStrike">
                <a:solidFill>
                  <a:srgbClr val="0000a4"/>
                </a:solidFill>
                <a:latin typeface="Comic Sans MS"/>
              </a:rPr>
              <a:t>Kare prizmanın yüz, ayrıtlarını ve köşe sayılarını söyleyip yazm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1" name=""/>
          <p:cNvSpPr/>
          <p:nvPr/>
        </p:nvSpPr>
        <p:spPr>
          <a:xfrm>
            <a:off x="304920" y="3127320"/>
            <a:ext cx="8586720" cy="517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Ders Öncesi Hazırlık: </a:t>
            </a:r>
            <a:r>
              <a:rPr b="0" lang="tr-TR" sz="1400" spc="-1" strike="noStrike">
                <a:solidFill>
                  <a:srgbClr val="0000a4"/>
                </a:solidFill>
                <a:latin typeface="Comic Sans MS"/>
              </a:rPr>
              <a:t>Ders kitabı, çalışma defteri, geobord tahtaları, pipet, kibrit çöpleri, oyun hamuru, çeşitli kutular, kare prizma modeli.</a:t>
            </a:r>
            <a:endParaRPr b="0" lang="en-US" sz="1400" spc="-1" strike="noStrike">
              <a:solidFill>
                <a:srgbClr val="ffffff"/>
              </a:solidFill>
              <a:latin typeface="Times New Roman"/>
            </a:endParaRPr>
          </a:p>
        </p:txBody>
      </p:sp>
      <p:sp>
        <p:nvSpPr>
          <p:cNvPr id="2192" name=""/>
          <p:cNvSpPr/>
          <p:nvPr/>
        </p:nvSpPr>
        <p:spPr>
          <a:xfrm>
            <a:off x="307800" y="3699000"/>
            <a:ext cx="8587080" cy="306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İşleniş: </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p:txBody>
      </p:sp>
      <p:sp>
        <p:nvSpPr>
          <p:cNvPr id="2193" name=""/>
          <p:cNvSpPr/>
          <p:nvPr/>
        </p:nvSpPr>
        <p:spPr>
          <a:xfrm>
            <a:off x="311040" y="4067280"/>
            <a:ext cx="3983040" cy="1325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S/D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e prizmanın özelliklerini  listeleme  çalışması.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e prizmanın özelliklerini  listelem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onu ile ilgili örneklendirme çalışması.</a:t>
            </a:r>
            <a:endParaRPr b="0" lang="en-US" sz="1400" spc="-1" strike="noStrike">
              <a:solidFill>
                <a:srgbClr val="ffffff"/>
              </a:solidFill>
              <a:latin typeface="Times New Roman"/>
            </a:endParaRPr>
          </a:p>
        </p:txBody>
      </p:sp>
      <p:sp>
        <p:nvSpPr>
          <p:cNvPr id="2194" name=""/>
          <p:cNvSpPr/>
          <p:nvPr/>
        </p:nvSpPr>
        <p:spPr>
          <a:xfrm>
            <a:off x="4905360" y="4064040"/>
            <a:ext cx="3983040" cy="13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G/U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Prizmalarla ilgili resim yorumla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Prizma konulu zihin haritası çalışması.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5" name=""/>
          <p:cNvSpPr/>
          <p:nvPr/>
        </p:nvSpPr>
        <p:spPr>
          <a:xfrm>
            <a:off x="398520" y="5532480"/>
            <a:ext cx="3981240" cy="1096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K/A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Prizmalar ve kare prizma ile ilgili  nesi var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6" name=""/>
          <p:cNvSpPr/>
          <p:nvPr/>
        </p:nvSpPr>
        <p:spPr>
          <a:xfrm>
            <a:off x="4878360" y="5532480"/>
            <a:ext cx="3981600" cy="1096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İ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e prizma ile ilgili  öğrendim çalışması. </a:t>
            </a:r>
            <a:endParaRPr b="0" lang="en-US" sz="1400" spc="-1" strike="noStrike">
              <a:solidFill>
                <a:srgbClr val="ffffff"/>
              </a:solidFill>
              <a:latin typeface="Times New Roman"/>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97" name=""/>
          <p:cNvGrpSpPr/>
          <p:nvPr/>
        </p:nvGrpSpPr>
        <p:grpSpPr>
          <a:xfrm>
            <a:off x="304920" y="152280"/>
            <a:ext cx="8458200" cy="6476760"/>
            <a:chOff x="304920" y="152280"/>
            <a:chExt cx="8458200" cy="6476760"/>
          </a:xfrm>
        </p:grpSpPr>
        <p:sp>
          <p:nvSpPr>
            <p:cNvPr id="2198" name=""/>
            <p:cNvSpPr/>
            <p:nvPr/>
          </p:nvSpPr>
          <p:spPr>
            <a:xfrm>
              <a:off x="304920" y="155880"/>
              <a:ext cx="3916080" cy="1363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M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e prizmanın yüzey ve kenar özellikleri  ile ilgili kuralı bul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e prizma ile dikdörtgenler  prizması ile ilgili Venn şeması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9" name=""/>
            <p:cNvSpPr/>
            <p:nvPr/>
          </p:nvSpPr>
          <p:spPr>
            <a:xfrm>
              <a:off x="4806000" y="152280"/>
              <a:ext cx="3916080" cy="1363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B/K__</a:t>
              </a:r>
              <a:r>
                <a:rPr b="0" lang="tr-TR"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Pipet, kibrit çöpü ve oyun hamuru ile kare prizma modeli yap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Geobord tahtaları üzerinde kapalı yüzey ve kare prizma oluştur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0" name=""/>
            <p:cNvSpPr/>
            <p:nvPr/>
          </p:nvSpPr>
          <p:spPr>
            <a:xfrm>
              <a:off x="318600" y="1764360"/>
              <a:ext cx="3916080" cy="13640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R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Özellik yazma ve prizma modeli yapma etkinlikleri sırasında fon müziği kullanma.</a:t>
              </a:r>
              <a:endParaRPr b="0" lang="en-US" sz="1400" spc="-1" strike="noStrike">
                <a:solidFill>
                  <a:srgbClr val="ffffff"/>
                </a:solidFill>
                <a:latin typeface="Times New Roman"/>
              </a:endParaRPr>
            </a:p>
          </p:txBody>
        </p:sp>
        <p:sp>
          <p:nvSpPr>
            <p:cNvPr id="2201" name=""/>
            <p:cNvSpPr/>
            <p:nvPr/>
          </p:nvSpPr>
          <p:spPr>
            <a:xfrm>
              <a:off x="4812480" y="1764360"/>
              <a:ext cx="3916080" cy="13640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Verilen prizma çeşitlerini inceleyerek özellik yaz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Prizma çeşitleriyle ilgili kategorilendirm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2" name=""/>
            <p:cNvSpPr/>
            <p:nvPr/>
          </p:nvSpPr>
          <p:spPr>
            <a:xfrm>
              <a:off x="318600" y="3331800"/>
              <a:ext cx="8444520" cy="471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Yaratıcı Etkinlik:</a:t>
              </a:r>
              <a:r>
                <a:rPr b="0" lang="en-US" sz="1400" spc="-1" strike="noStrike">
                  <a:solidFill>
                    <a:srgbClr val="0000a4"/>
                  </a:solidFill>
                  <a:latin typeface="Comic Sans MS"/>
                </a:rPr>
                <a:t>   Kare prizmadan başka  kapalı yüzey olmasaydı bugünkü yaşadığımız çevrede neler farklı olurdu?</a:t>
              </a:r>
              <a:endParaRPr b="0" lang="en-US" sz="1400" spc="-1" strike="noStrike">
                <a:solidFill>
                  <a:srgbClr val="ffffff"/>
                </a:solidFill>
                <a:latin typeface="Times New Roman"/>
              </a:endParaRPr>
            </a:p>
          </p:txBody>
        </p:sp>
        <p:sp>
          <p:nvSpPr>
            <p:cNvPr id="2203" name=""/>
            <p:cNvSpPr/>
            <p:nvPr/>
          </p:nvSpPr>
          <p:spPr>
            <a:xfrm>
              <a:off x="311400" y="3967920"/>
              <a:ext cx="8444520" cy="2661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EĞERLENDİR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1.</a:t>
              </a:r>
              <a:r>
                <a:rPr b="1" lang="en-US" sz="1400" spc="-1" strike="noStrike">
                  <a:solidFill>
                    <a:srgbClr val="0000a4"/>
                  </a:solidFill>
                  <a:latin typeface="Comic Sans MS"/>
                </a:rPr>
                <a:t> </a:t>
              </a:r>
              <a:r>
                <a:rPr b="0" lang="en-US" sz="1400" spc="-1" strike="noStrike">
                  <a:solidFill>
                    <a:srgbClr val="0000a4"/>
                  </a:solidFill>
                  <a:latin typeface="Comic Sans MS"/>
                </a:rPr>
                <a:t>Kare prizmanın özelliklerini listel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2.</a:t>
              </a:r>
              <a:r>
                <a:rPr b="1" lang="en-US" sz="1400" spc="-1" strike="noStrike">
                  <a:solidFill>
                    <a:srgbClr val="0000a4"/>
                  </a:solidFill>
                  <a:latin typeface="Comic Sans MS"/>
                </a:rPr>
                <a:t> </a:t>
              </a:r>
              <a:r>
                <a:rPr b="0" lang="en-US" sz="1400" spc="-1" strike="noStrike">
                  <a:solidFill>
                    <a:srgbClr val="0000a4"/>
                  </a:solidFill>
                  <a:latin typeface="Comic Sans MS"/>
                </a:rPr>
                <a:t>Kare prizmaya benzer kapalı yüzeylere örnek 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3.</a:t>
              </a:r>
              <a:r>
                <a:rPr b="1" lang="en-US" sz="1400" spc="-1" strike="noStrike">
                  <a:solidFill>
                    <a:srgbClr val="0000a4"/>
                  </a:solidFill>
                  <a:latin typeface="Comic Sans MS"/>
                </a:rPr>
                <a:t> </a:t>
              </a:r>
              <a:r>
                <a:rPr b="0" lang="en-US" sz="1400" spc="-1" strike="noStrike">
                  <a:solidFill>
                    <a:srgbClr val="0000a4"/>
                  </a:solidFill>
                  <a:latin typeface="Comic Sans MS"/>
                </a:rPr>
                <a:t>Pipet ve kibrit çöpleri ve oyun hamurunu kullanarak bir kare prizma modeli inşa e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4.</a:t>
              </a:r>
              <a:r>
                <a:rPr b="1" lang="en-US" sz="1400" spc="-1" strike="noStrike">
                  <a:solidFill>
                    <a:srgbClr val="0000a4"/>
                  </a:solidFill>
                  <a:latin typeface="Comic Sans MS"/>
                </a:rPr>
                <a:t> </a:t>
              </a:r>
              <a:r>
                <a:rPr b="0" lang="en-US" sz="1400" spc="-1" strike="noStrike">
                  <a:solidFill>
                    <a:srgbClr val="0000a4"/>
                  </a:solidFill>
                  <a:latin typeface="Comic Sans MS"/>
                </a:rPr>
                <a:t>Kare prizması ile küpün ortak noktalarını  bu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5. </a:t>
              </a:r>
              <a:r>
                <a:rPr b="0" lang="en-US" sz="1400" spc="-1" strike="noStrike">
                  <a:solidFill>
                    <a:srgbClr val="0000a4"/>
                  </a:solidFill>
                  <a:latin typeface="Comic Sans MS"/>
                </a:rPr>
                <a:t>İki boyutlu prizma ve kare prizma modelleri oluştu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6.</a:t>
              </a:r>
              <a:r>
                <a:rPr b="0" lang="en-US" sz="1400" spc="-1" strike="noStrike">
                  <a:solidFill>
                    <a:srgbClr val="0000a4"/>
                  </a:solidFill>
                  <a:latin typeface="Comic Sans MS"/>
                </a:rPr>
                <a:t>Ağır kütleli yağ, reçel, peynir kaplarının kare prizması şeklinde yapılmasının nedenini nasıl açıklarsınız? Yorumlayı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04" name=""/>
          <p:cNvGrpSpPr/>
          <p:nvPr/>
        </p:nvGrpSpPr>
        <p:grpSpPr>
          <a:xfrm>
            <a:off x="614520" y="228600"/>
            <a:ext cx="7919640" cy="6324120"/>
            <a:chOff x="614520" y="228600"/>
            <a:chExt cx="7919640" cy="6324120"/>
          </a:xfrm>
        </p:grpSpPr>
        <p:sp>
          <p:nvSpPr>
            <p:cNvPr id="2205" name=""/>
            <p:cNvSpPr/>
            <p:nvPr/>
          </p:nvSpPr>
          <p:spPr>
            <a:xfrm>
              <a:off x="636120" y="228600"/>
              <a:ext cx="7898040" cy="6552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Sınıf</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1" lang="en-US" sz="1200" spc="-1" strike="noStrike">
                  <a:solidFill>
                    <a:srgbClr val="0000a4"/>
                  </a:solidFill>
                  <a:latin typeface="Comic Sans MS"/>
                </a:rPr>
                <a:t>Süre</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Ders</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1" lang="en-US" sz="1200" spc="-1" strike="noStrike">
                  <a:solidFill>
                    <a:srgbClr val="0000a4"/>
                  </a:solidFill>
                  <a:latin typeface="Comic Sans MS"/>
                </a:rPr>
                <a:t>Tarih</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Ünite</a:t>
              </a:r>
              <a:r>
                <a:rPr b="0" lang="en-US" sz="1200" spc="-1" strike="noStrike">
                  <a:solidFill>
                    <a:srgbClr val="0000a4"/>
                  </a:solidFill>
                  <a:latin typeface="Comic Sans MS"/>
                </a:rPr>
                <a:t>:</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1" lang="en-US" sz="1200" spc="-1" strike="noStrike">
                  <a:solidFill>
                    <a:srgbClr val="0000a4"/>
                  </a:solidFill>
                  <a:latin typeface="Comic Sans MS"/>
                </a:rPr>
                <a:t>Konu</a:t>
              </a: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206" name=""/>
            <p:cNvSpPr/>
            <p:nvPr/>
          </p:nvSpPr>
          <p:spPr>
            <a:xfrm>
              <a:off x="636120" y="1115640"/>
              <a:ext cx="7898040" cy="1632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Hedef ve Davranışl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07" name=""/>
            <p:cNvSpPr/>
            <p:nvPr/>
          </p:nvSpPr>
          <p:spPr>
            <a:xfrm>
              <a:off x="614520" y="2963160"/>
              <a:ext cx="7897680" cy="294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Ders Öncesi Hazırlık: </a:t>
              </a:r>
              <a:endParaRPr b="0" lang="en-US" sz="1200" spc="-1" strike="noStrike">
                <a:solidFill>
                  <a:srgbClr val="ffffff"/>
                </a:solidFill>
                <a:latin typeface="Times New Roman"/>
              </a:endParaRPr>
            </a:p>
          </p:txBody>
        </p:sp>
        <p:sp>
          <p:nvSpPr>
            <p:cNvPr id="2208" name=""/>
            <p:cNvSpPr/>
            <p:nvPr/>
          </p:nvSpPr>
          <p:spPr>
            <a:xfrm>
              <a:off x="618120" y="3406320"/>
              <a:ext cx="7896240" cy="292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İşleniş: </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209" name=""/>
            <p:cNvSpPr/>
            <p:nvPr/>
          </p:nvSpPr>
          <p:spPr>
            <a:xfrm>
              <a:off x="620280" y="3883680"/>
              <a:ext cx="3663360" cy="1266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S/D__</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210" name=""/>
            <p:cNvSpPr/>
            <p:nvPr/>
          </p:nvSpPr>
          <p:spPr>
            <a:xfrm>
              <a:off x="4846320" y="3879360"/>
              <a:ext cx="3661560" cy="1268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G/U__</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1" name=""/>
            <p:cNvSpPr/>
            <p:nvPr/>
          </p:nvSpPr>
          <p:spPr>
            <a:xfrm>
              <a:off x="699480" y="5285880"/>
              <a:ext cx="3664080" cy="1266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K/A__</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212" name=""/>
            <p:cNvSpPr/>
            <p:nvPr/>
          </p:nvSpPr>
          <p:spPr>
            <a:xfrm>
              <a:off x="4820400" y="5285880"/>
              <a:ext cx="3661560" cy="1266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İ__</a:t>
              </a:r>
              <a:r>
                <a:rPr b="0" lang="en-US" sz="1200" spc="-1" strike="noStrike">
                  <a:solidFill>
                    <a:srgbClr val="0000a4"/>
                  </a:solidFill>
                  <a:latin typeface="Comic Sans MS"/>
                </a:rPr>
                <a:t> </a:t>
              </a:r>
              <a:r>
                <a:rPr b="1" lang="en-US" sz="1200" spc="-1" strike="noStrike">
                  <a:solidFill>
                    <a:srgbClr val="0000a4"/>
                  </a:solidFill>
                  <a:latin typeface="Comic Sans MS"/>
                </a:rPr>
                <a:t> </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3" name=""/>
          <p:cNvGrpSpPr/>
          <p:nvPr/>
        </p:nvGrpSpPr>
        <p:grpSpPr>
          <a:xfrm>
            <a:off x="557280" y="228600"/>
            <a:ext cx="8205120" cy="6248520"/>
            <a:chOff x="557280" y="228600"/>
            <a:chExt cx="8205120" cy="6248520"/>
          </a:xfrm>
        </p:grpSpPr>
        <p:sp>
          <p:nvSpPr>
            <p:cNvPr id="2214" name=""/>
            <p:cNvSpPr/>
            <p:nvPr/>
          </p:nvSpPr>
          <p:spPr>
            <a:xfrm>
              <a:off x="650520" y="232560"/>
              <a:ext cx="3736800" cy="1222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M/M__</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5" name=""/>
            <p:cNvSpPr/>
            <p:nvPr/>
          </p:nvSpPr>
          <p:spPr>
            <a:xfrm>
              <a:off x="4944600" y="228600"/>
              <a:ext cx="3737160" cy="1224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B/K__</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Times New Roman"/>
                </a:rPr>
                <a:t> </a:t>
              </a:r>
              <a:endParaRPr b="0" lang="en-US" sz="1200" spc="-1" strike="noStrike">
                <a:solidFill>
                  <a:srgbClr val="ffffff"/>
                </a:solidFill>
                <a:latin typeface="Times New Roman"/>
              </a:endParaRPr>
            </a:p>
          </p:txBody>
        </p:sp>
        <p:sp>
          <p:nvSpPr>
            <p:cNvPr id="2216" name=""/>
            <p:cNvSpPr/>
            <p:nvPr/>
          </p:nvSpPr>
          <p:spPr>
            <a:xfrm>
              <a:off x="662400" y="1555200"/>
              <a:ext cx="3736800" cy="1224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M/R__</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7" name=""/>
            <p:cNvSpPr/>
            <p:nvPr/>
          </p:nvSpPr>
          <p:spPr>
            <a:xfrm>
              <a:off x="4951080" y="1555200"/>
              <a:ext cx="3738600" cy="1224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D__</a:t>
              </a:r>
              <a:r>
                <a:rPr b="0" lang="en-US" sz="1200" spc="-1" strike="noStrike">
                  <a:solidFill>
                    <a:srgbClr val="0000a4"/>
                  </a:solidFill>
                  <a:latin typeface="Comic Sans MS"/>
                </a:rPr>
                <a:t> </a:t>
              </a:r>
              <a:r>
                <a:rPr b="1" lang="en-US" sz="1200" spc="-1" strike="noStrike">
                  <a:solidFill>
                    <a:srgbClr val="0000a4"/>
                  </a:solidFill>
                  <a:latin typeface="Comic Sans MS"/>
                </a:rPr>
                <a:t> </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8" name=""/>
            <p:cNvSpPr/>
            <p:nvPr/>
          </p:nvSpPr>
          <p:spPr>
            <a:xfrm>
              <a:off x="702720" y="2897640"/>
              <a:ext cx="8059680" cy="33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Yaratıcı Etkinlik:</a:t>
              </a: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219" name=""/>
            <p:cNvSpPr/>
            <p:nvPr/>
          </p:nvSpPr>
          <p:spPr>
            <a:xfrm>
              <a:off x="557280" y="3345120"/>
              <a:ext cx="8059320" cy="208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DEĞERLENDİRME:</a:t>
              </a:r>
              <a:endParaRPr b="0" lang="en-US" sz="1200" spc="-1" strike="noStrike">
                <a:solidFill>
                  <a:srgbClr val="ffffff"/>
                </a:solidFill>
                <a:latin typeface="Times New Roman"/>
              </a:endParaRPr>
            </a:p>
          </p:txBody>
        </p:sp>
        <p:sp>
          <p:nvSpPr>
            <p:cNvPr id="2220" name=""/>
            <p:cNvSpPr/>
            <p:nvPr/>
          </p:nvSpPr>
          <p:spPr>
            <a:xfrm>
              <a:off x="994680" y="5880600"/>
              <a:ext cx="3649680" cy="44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a4"/>
                  </a:solidFill>
                  <a:latin typeface="Comic Sans MS"/>
                </a:rPr>
                <a:t>DERS  ÖĞRETMENİ</a:t>
              </a:r>
              <a:endParaRPr b="0" lang="en-US" sz="1100" spc="-1" strike="noStrike">
                <a:solidFill>
                  <a:srgbClr val="ffffff"/>
                </a:solidFill>
                <a:latin typeface="Times New Roman"/>
              </a:endParaRPr>
            </a:p>
          </p:txBody>
        </p:sp>
        <p:sp>
          <p:nvSpPr>
            <p:cNvPr id="2221" name=""/>
            <p:cNvSpPr/>
            <p:nvPr/>
          </p:nvSpPr>
          <p:spPr>
            <a:xfrm>
              <a:off x="5082480" y="5880600"/>
              <a:ext cx="3649680" cy="59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a4"/>
                  </a:solidFill>
                  <a:latin typeface="Comic Sans MS"/>
                </a:rPr>
                <a:t>UYGUNDUR. ......../ ....... / 2003</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a4"/>
                  </a:solidFill>
                  <a:latin typeface="Comic Sans MS"/>
                </a:rPr>
                <a:t>OKUL MÜDÜRÜ</a:t>
              </a:r>
              <a:endParaRPr b="0" lang="en-US" sz="1100" spc="-1" strike="noStrike">
                <a:solidFill>
                  <a:srgbClr val="ffffff"/>
                </a:solidFill>
                <a:latin typeface="Times New Roman"/>
              </a:endParaRPr>
            </a:p>
          </p:txBody>
        </p:sp>
        <p:sp>
          <p:nvSpPr>
            <p:cNvPr id="2222" name=""/>
            <p:cNvSpPr/>
            <p:nvPr/>
          </p:nvSpPr>
          <p:spPr>
            <a:xfrm>
              <a:off x="702720" y="5507640"/>
              <a:ext cx="7913520" cy="33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Planın uygulaması ile ilgili açıklamalar ve öneriler:</a:t>
              </a:r>
              <a:r>
                <a:rPr b="1" lang="en-US" sz="1000" spc="-1" strike="noStrike">
                  <a:solidFill>
                    <a:srgbClr val="0000a4"/>
                  </a:solidFill>
                  <a:latin typeface="Comic Sans MS"/>
                </a:rPr>
                <a:t>  </a:t>
              </a:r>
              <a:endParaRPr b="0" lang="en-US" sz="1000" spc="-1" strike="noStrike">
                <a:solidFill>
                  <a:srgbClr val="ffffff"/>
                </a:solidFill>
                <a:latin typeface="Times New Roman"/>
              </a:endParaRPr>
            </a:p>
          </p:txBody>
        </p:sp>
      </p:gr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23" name=""/>
          <p:cNvGrpSpPr/>
          <p:nvPr/>
        </p:nvGrpSpPr>
        <p:grpSpPr>
          <a:xfrm>
            <a:off x="380880" y="152280"/>
            <a:ext cx="8458200" cy="6324840"/>
            <a:chOff x="380880" y="152280"/>
            <a:chExt cx="8458200" cy="6324840"/>
          </a:xfrm>
        </p:grpSpPr>
        <p:sp>
          <p:nvSpPr>
            <p:cNvPr id="2224" name=""/>
            <p:cNvSpPr/>
            <p:nvPr/>
          </p:nvSpPr>
          <p:spPr>
            <a:xfrm>
              <a:off x="457200" y="152280"/>
              <a:ext cx="8305920" cy="914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Sınıf</a:t>
              </a:r>
              <a:r>
                <a:rPr b="0" lang="tr-TR" sz="1400" spc="-1" strike="noStrike">
                  <a:solidFill>
                    <a:srgbClr val="0000a4"/>
                  </a:solidFill>
                  <a:latin typeface="Comic Sans MS"/>
                </a:rPr>
                <a:t>: 5</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1" lang="tr-TR" sz="1400" spc="-1" strike="noStrike">
                  <a:solidFill>
                    <a:srgbClr val="0000a4"/>
                  </a:solidFill>
                  <a:latin typeface="Comic Sans MS"/>
                </a:rPr>
                <a:t>Süre </a:t>
              </a:r>
              <a:r>
                <a:rPr b="0" lang="tr-TR" sz="1400" spc="-1" strike="noStrike">
                  <a:solidFill>
                    <a:srgbClr val="0000a4"/>
                  </a:solidFill>
                  <a:latin typeface="Comic Sans MS"/>
                </a:rPr>
                <a:t>: 40+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Ders</a:t>
              </a:r>
              <a:r>
                <a:rPr b="0" lang="tr-TR" sz="1400" spc="-1" strike="noStrike">
                  <a:solidFill>
                    <a:srgbClr val="0000a4"/>
                  </a:solidFill>
                  <a:latin typeface="Comic Sans MS"/>
                </a:rPr>
                <a:t>: Sosyal Bilgiler</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1" lang="tr-TR" sz="1400" spc="-1" strike="noStrike">
                  <a:solidFill>
                    <a:srgbClr val="0000a4"/>
                  </a:solidFill>
                  <a:latin typeface="Comic Sans MS"/>
                </a:rPr>
                <a:t>Tarih</a:t>
              </a:r>
              <a:r>
                <a:rPr b="0" lang="tr-TR"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Ünite</a:t>
              </a:r>
              <a:r>
                <a:rPr b="0" lang="tr-TR" sz="1400" spc="-1" strike="noStrike">
                  <a:solidFill>
                    <a:srgbClr val="0000a4"/>
                  </a:solidFill>
                  <a:latin typeface="Comic Sans MS"/>
                </a:rPr>
                <a:t>: Cumhuriyete Nasıl Kavuştuk?  </a:t>
              </a:r>
              <a:r>
                <a:rPr b="0" lang="tr-TR" sz="1400" spc="-1" strike="noStrike">
                  <a:solidFill>
                    <a:srgbClr val="0000a4"/>
                  </a:solidFill>
                  <a:latin typeface="Comic Sans MS"/>
                </a:rPr>
                <a:t>	</a:t>
              </a:r>
              <a:r>
                <a:rPr b="1" lang="tr-TR" sz="1400" spc="-1" strike="noStrike">
                  <a:solidFill>
                    <a:srgbClr val="0000a4"/>
                  </a:solidFill>
                  <a:latin typeface="Comic Sans MS"/>
                </a:rPr>
                <a:t>Konu </a:t>
              </a:r>
              <a:r>
                <a:rPr b="0" lang="tr-TR" sz="1400" spc="-1" strike="noStrike">
                  <a:solidFill>
                    <a:srgbClr val="0000a4"/>
                  </a:solidFill>
                  <a:latin typeface="Comic Sans MS"/>
                </a:rPr>
                <a:t>: </a:t>
              </a:r>
              <a:r>
                <a:rPr b="0" sz="1400" spc="-1" strike="noStrike">
                  <a:solidFill>
                    <a:srgbClr val="0000a4"/>
                  </a:solidFill>
                  <a:latin typeface="Comic Sans MS"/>
                </a:rPr>
                <a:t>Mondros Ateşkes Antlaşması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0" lang="tr-TR" sz="1400" spc="-1" strike="noStrike">
                  <a:solidFill>
                    <a:srgbClr val="0000a4"/>
                  </a:solidFill>
                  <a:latin typeface="Comic Sans MS"/>
                </a:rPr>
                <a:t>          </a:t>
              </a:r>
              <a:r>
                <a:rPr b="0" sz="1400" spc="-1" strike="noStrike">
                  <a:solidFill>
                    <a:srgbClr val="0000a4"/>
                  </a:solidFill>
                  <a:latin typeface="Comic Sans MS"/>
                </a:rPr>
                <a:t> </a:t>
              </a:r>
              <a:r>
                <a:rPr b="0" sz="1400" spc="-1" strike="noStrike">
                  <a:solidFill>
                    <a:srgbClr val="0000a4"/>
                  </a:solidFill>
                  <a:latin typeface="Comic Sans MS"/>
                </a:rPr>
                <a:t>Yurdumuzun İşgali</a:t>
              </a:r>
              <a:endParaRPr b="0" lang="en-US" sz="1400" spc="-1" strike="noStrike">
                <a:solidFill>
                  <a:srgbClr val="ffffff"/>
                </a:solidFill>
                <a:latin typeface="Times New Roman"/>
              </a:endParaRPr>
            </a:p>
          </p:txBody>
        </p:sp>
        <p:sp>
          <p:nvSpPr>
            <p:cNvPr id="2225" name=""/>
            <p:cNvSpPr/>
            <p:nvPr/>
          </p:nvSpPr>
          <p:spPr>
            <a:xfrm>
              <a:off x="380880" y="1311120"/>
              <a:ext cx="8382240" cy="974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Hedef ve Davranışl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a:t>
              </a:r>
              <a:r>
                <a:rPr b="0" lang="tr-TR" sz="1400" spc="-1" strike="noStrike">
                  <a:solidFill>
                    <a:srgbClr val="0000a4"/>
                  </a:solidFill>
                  <a:latin typeface="Comic Sans MS"/>
                </a:rPr>
                <a:t>Mondros Ateşkes Anlaşması ile ilgili temel olgular bilgisi</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Times New Roman"/>
                </a:rPr>
                <a:t>.</a:t>
              </a:r>
              <a:r>
                <a:rPr b="0" lang="tr-TR" sz="1400" spc="-1" strike="noStrike">
                  <a:solidFill>
                    <a:srgbClr val="0000a4"/>
                  </a:solidFill>
                  <a:latin typeface="Comic Sans MS"/>
                </a:rPr>
                <a:t>Mondros Ateşkes Anlaşması ile ilgili olguları açıklayabilm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26" name=""/>
            <p:cNvSpPr/>
            <p:nvPr/>
          </p:nvSpPr>
          <p:spPr>
            <a:xfrm>
              <a:off x="457200" y="2438280"/>
              <a:ext cx="8381880" cy="4572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ers Öncesi Hazırlık: </a:t>
              </a:r>
              <a:r>
                <a:rPr b="0" lang="en-US" sz="1400" spc="-1" strike="noStrike">
                  <a:solidFill>
                    <a:srgbClr val="0000a4"/>
                  </a:solidFill>
                  <a:latin typeface="Comic Sans MS"/>
                </a:rPr>
                <a:t>Ders kitabı, çalışma kağıdı, asetat</a:t>
              </a:r>
              <a:endParaRPr b="0" lang="en-US" sz="1400" spc="-1" strike="noStrike">
                <a:solidFill>
                  <a:srgbClr val="ffffff"/>
                </a:solidFill>
                <a:latin typeface="Times New Roman"/>
              </a:endParaRPr>
            </a:p>
          </p:txBody>
        </p:sp>
        <p:sp>
          <p:nvSpPr>
            <p:cNvPr id="2227" name=""/>
            <p:cNvSpPr/>
            <p:nvPr/>
          </p:nvSpPr>
          <p:spPr>
            <a:xfrm>
              <a:off x="457200" y="3048120"/>
              <a:ext cx="8305920" cy="434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İşleniş: </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p:txBody>
        </p:sp>
        <p:sp>
          <p:nvSpPr>
            <p:cNvPr id="2228" name=""/>
            <p:cNvSpPr/>
            <p:nvPr/>
          </p:nvSpPr>
          <p:spPr>
            <a:xfrm>
              <a:off x="457200" y="3581280"/>
              <a:ext cx="3886200" cy="1371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S/D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Mondros Ateşke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ntlaşması  koşullarının listelenmes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9" name=""/>
            <p:cNvSpPr/>
            <p:nvPr/>
          </p:nvSpPr>
          <p:spPr>
            <a:xfrm>
              <a:off x="4876920" y="3581280"/>
              <a:ext cx="3886200" cy="1447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G/U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avaş sonrası oluşan durumla ilgili resim yorumla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İşgalleri göstermek üzere tanıma uygun resimlem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Resimleme çalışması .</a:t>
              </a:r>
              <a:endParaRPr b="0" lang="en-US" sz="1400" spc="-1" strike="noStrike">
                <a:solidFill>
                  <a:srgbClr val="ffffff"/>
                </a:solidFill>
                <a:latin typeface="Times New Roman"/>
              </a:endParaRPr>
            </a:p>
          </p:txBody>
        </p:sp>
        <p:sp>
          <p:nvSpPr>
            <p:cNvPr id="2230" name=""/>
            <p:cNvSpPr/>
            <p:nvPr/>
          </p:nvSpPr>
          <p:spPr>
            <a:xfrm>
              <a:off x="457200" y="5181480"/>
              <a:ext cx="3921120" cy="12956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K/A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1. Dünya Savaşı ve Mondros Ateşkes Antlaşmasıyla ilgili ben neyim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ntlaşmadan sonra yurdumuzun durumu ile ilgili grup paslaşması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231" name=""/>
            <p:cNvSpPr/>
            <p:nvPr/>
          </p:nvSpPr>
          <p:spPr>
            <a:xfrm>
              <a:off x="4800600" y="5181480"/>
              <a:ext cx="3962520" cy="12956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İ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Mondros Ateşkes Antlaşması ile ilgili ne hissediyorsun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Mondros A.A.ile ilgili sen olsaydın çalışması.</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2" name=""/>
          <p:cNvSpPr/>
          <p:nvPr/>
        </p:nvSpPr>
        <p:spPr>
          <a:xfrm>
            <a:off x="228600" y="158760"/>
            <a:ext cx="4114800" cy="12891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M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ntlaşma koşullarını yorumla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urdumuzun işgali ile ilgili neden sonuç  çalışması.</a:t>
            </a:r>
            <a:endParaRPr b="0" lang="en-US" sz="1400" spc="-1" strike="noStrike">
              <a:solidFill>
                <a:srgbClr val="ffffff"/>
              </a:solidFill>
              <a:latin typeface="Times New Roman"/>
            </a:endParaRPr>
          </a:p>
        </p:txBody>
      </p:sp>
      <p:sp>
        <p:nvSpPr>
          <p:cNvPr id="2233" name=""/>
          <p:cNvSpPr/>
          <p:nvPr/>
        </p:nvSpPr>
        <p:spPr>
          <a:xfrm>
            <a:off x="4876920" y="152280"/>
            <a:ext cx="4038480" cy="12956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B/K__</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urdumuz işgali ile ilgili rol canlandırma  çalışması.</a:t>
            </a:r>
            <a:endParaRPr b="0" lang="en-US" sz="1400" spc="-1" strike="noStrike">
              <a:solidFill>
                <a:srgbClr val="ffffff"/>
              </a:solidFill>
              <a:latin typeface="Times New Roman"/>
            </a:endParaRPr>
          </a:p>
        </p:txBody>
      </p:sp>
      <p:sp>
        <p:nvSpPr>
          <p:cNvPr id="2234" name=""/>
          <p:cNvSpPr/>
          <p:nvPr/>
        </p:nvSpPr>
        <p:spPr>
          <a:xfrm>
            <a:off x="228600" y="1517760"/>
            <a:ext cx="4114800" cy="11142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R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urdun işgali karşısında halkın tepki ve duygusunu anlatan ritim oluşturma çalışması.</a:t>
            </a:r>
            <a:endParaRPr b="0" lang="en-US" sz="1400" spc="-1" strike="noStrike">
              <a:solidFill>
                <a:srgbClr val="ffffff"/>
              </a:solidFill>
              <a:latin typeface="Times New Roman"/>
            </a:endParaRPr>
          </a:p>
        </p:txBody>
      </p:sp>
      <p:sp>
        <p:nvSpPr>
          <p:cNvPr id="2235" name=""/>
          <p:cNvSpPr/>
          <p:nvPr/>
        </p:nvSpPr>
        <p:spPr>
          <a:xfrm>
            <a:off x="4917960" y="1517760"/>
            <a:ext cx="3962520" cy="1093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İşgali doğa ile ilişkilendirme çalışması</a:t>
            </a:r>
            <a:r>
              <a:rPr b="0" lang="en-US" sz="1100" spc="-1" strike="noStrike">
                <a:solidFill>
                  <a:srgbClr val="0000a4"/>
                </a:solidFill>
                <a:latin typeface="Comic Sans MS"/>
              </a:rPr>
              <a:t>.</a:t>
            </a:r>
            <a:endParaRPr b="0" lang="en-US" sz="1100" spc="-1" strike="noStrike">
              <a:solidFill>
                <a:srgbClr val="ffffff"/>
              </a:solidFill>
              <a:latin typeface="Times New Roman"/>
            </a:endParaRPr>
          </a:p>
        </p:txBody>
      </p:sp>
      <p:sp>
        <p:nvSpPr>
          <p:cNvPr id="2236" name=""/>
          <p:cNvSpPr/>
          <p:nvPr/>
        </p:nvSpPr>
        <p:spPr>
          <a:xfrm>
            <a:off x="304920" y="2743200"/>
            <a:ext cx="8534160" cy="3747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Yaratıcı Etkinlik:</a:t>
            </a:r>
            <a:r>
              <a:rPr b="0" lang="en-US" sz="1400" spc="-1" strike="noStrike">
                <a:solidFill>
                  <a:srgbClr val="0000a4"/>
                </a:solidFill>
                <a:latin typeface="Comic Sans MS"/>
              </a:rPr>
              <a:t>  Yurdumuz işgal edilmemiş olsaydı yaşadığımız neler sorun olmaktan çıkardı?</a:t>
            </a:r>
            <a:endParaRPr b="0" lang="en-US" sz="1400" spc="-1" strike="noStrike">
              <a:solidFill>
                <a:srgbClr val="ffffff"/>
              </a:solidFill>
              <a:latin typeface="Times New Roman"/>
            </a:endParaRPr>
          </a:p>
        </p:txBody>
      </p:sp>
      <p:sp>
        <p:nvSpPr>
          <p:cNvPr id="2237" name=""/>
          <p:cNvSpPr/>
          <p:nvPr/>
        </p:nvSpPr>
        <p:spPr>
          <a:xfrm>
            <a:off x="304920" y="3352680"/>
            <a:ext cx="8534160" cy="3200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EĞERLENDİR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1- </a:t>
            </a:r>
            <a:r>
              <a:rPr b="0" lang="en-US" sz="1400" spc="-1" strike="noStrike">
                <a:solidFill>
                  <a:srgbClr val="0000a4"/>
                </a:solidFill>
                <a:latin typeface="Comic Sans MS"/>
              </a:rPr>
              <a:t>Mondros Ateşkes antlaşması hangi tarihte imzalanmıştı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2- </a:t>
            </a:r>
            <a:r>
              <a:rPr b="0" lang="en-US" sz="1400" spc="-1" strike="noStrike">
                <a:solidFill>
                  <a:srgbClr val="0000a4"/>
                </a:solidFill>
                <a:latin typeface="Comic Sans MS"/>
              </a:rPr>
              <a:t>Mondros Ateşkes anlaşmasının koşullarını söyl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3- </a:t>
            </a:r>
            <a:r>
              <a:rPr b="0" lang="en-US" sz="1400" spc="-1" strike="noStrike">
                <a:solidFill>
                  <a:srgbClr val="0000a4"/>
                </a:solidFill>
                <a:latin typeface="Comic Sans MS"/>
              </a:rPr>
              <a:t>Yurdumuzun işgal edilen bölgelerini harita üzerinde göster.</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4- </a:t>
            </a:r>
            <a:r>
              <a:rPr b="0" lang="en-US" sz="1400" spc="-1" strike="noStrike">
                <a:solidFill>
                  <a:srgbClr val="0000a4"/>
                </a:solidFill>
                <a:latin typeface="Comic Sans MS"/>
              </a:rPr>
              <a:t>İşgallerden sonra Osm. Dev. yönetimi ile halkın</a:t>
            </a:r>
            <a:r>
              <a:rPr b="1" lang="en-US" sz="1400" spc="-1" strike="noStrike">
                <a:solidFill>
                  <a:srgbClr val="0000a4"/>
                </a:solidFill>
                <a:latin typeface="Comic Sans MS"/>
              </a:rPr>
              <a:t> </a:t>
            </a:r>
            <a:r>
              <a:rPr b="0" lang="en-US" sz="1400" spc="-1" strike="noStrike">
                <a:solidFill>
                  <a:srgbClr val="0000a4"/>
                </a:solidFill>
                <a:latin typeface="Comic Sans MS"/>
              </a:rPr>
              <a:t>tepkilerini</a:t>
            </a:r>
            <a:r>
              <a:rPr b="1" lang="en-US" sz="1400" spc="-1" strike="noStrike">
                <a:solidFill>
                  <a:srgbClr val="0000a4"/>
                </a:solidFill>
                <a:latin typeface="Comic Sans MS"/>
              </a:rPr>
              <a:t> </a:t>
            </a:r>
            <a:r>
              <a:rPr b="0" lang="en-US" sz="1400" spc="-1" strike="noStrike">
                <a:solidFill>
                  <a:srgbClr val="0000a4"/>
                </a:solidFill>
                <a:latin typeface="Comic Sans MS"/>
              </a:rPr>
              <a:t>karşılaştır.</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5- </a:t>
            </a:r>
            <a:r>
              <a:rPr b="0" lang="en-US" sz="1400" spc="-1" strike="noStrike">
                <a:solidFill>
                  <a:srgbClr val="0000a4"/>
                </a:solidFill>
                <a:latin typeface="Comic Sans MS"/>
              </a:rPr>
              <a:t>İşgallere karşı sen olsaydın farklı neler yapardın?</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6- </a:t>
            </a:r>
            <a:r>
              <a:rPr b="0" lang="en-US" sz="1400" spc="-1" strike="noStrike">
                <a:solidFill>
                  <a:srgbClr val="0000a4"/>
                </a:solidFill>
                <a:latin typeface="Comic Sans MS"/>
              </a:rPr>
              <a:t>Ülkeyi işgalden kurtarıp size teslim edilen bu ülke için neler yapmayı düşünüyorsun?</a:t>
            </a:r>
            <a:r>
              <a:rPr b="1" lang="en-US" sz="1200" spc="-1" strike="noStrike">
                <a:solidFill>
                  <a:srgbClr val="0000a4"/>
                </a:solidFill>
                <a:latin typeface="Comic Sans MS"/>
              </a:rPr>
              <a:t> </a:t>
            </a:r>
            <a:endParaRPr b="0" lang="en-US" sz="1200" spc="-1" strike="noStrike">
              <a:solidFill>
                <a:srgbClr val="ffffff"/>
              </a:solidFill>
              <a:latin typeface="Times New Roman"/>
            </a:endParaRPr>
          </a:p>
        </p:txBody>
      </p:sp>
    </p:spTree>
  </p:cSld>
  <p:transition>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38" name=""/>
          <p:cNvGrpSpPr/>
          <p:nvPr/>
        </p:nvGrpSpPr>
        <p:grpSpPr>
          <a:xfrm>
            <a:off x="95400" y="990720"/>
            <a:ext cx="8800920" cy="4773600"/>
            <a:chOff x="95400" y="990720"/>
            <a:chExt cx="8800920" cy="4773600"/>
          </a:xfrm>
        </p:grpSpPr>
        <p:sp>
          <p:nvSpPr>
            <p:cNvPr id="2239" name=""/>
            <p:cNvSpPr/>
            <p:nvPr/>
          </p:nvSpPr>
          <p:spPr>
            <a:xfrm>
              <a:off x="1289160" y="2246400"/>
              <a:ext cx="452160" cy="484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2104920" y="1954080"/>
              <a:ext cx="452520" cy="48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1" name=""/>
            <p:cNvGrpSpPr/>
            <p:nvPr/>
          </p:nvGrpSpPr>
          <p:grpSpPr>
            <a:xfrm>
              <a:off x="1055520" y="1007640"/>
              <a:ext cx="7342920" cy="4756680"/>
              <a:chOff x="1055520" y="1007640"/>
              <a:chExt cx="7342920" cy="4756680"/>
            </a:xfrm>
          </p:grpSpPr>
          <p:sp>
            <p:nvSpPr>
              <p:cNvPr id="2242" name=""/>
              <p:cNvSpPr/>
              <p:nvPr/>
            </p:nvSpPr>
            <p:spPr>
              <a:xfrm rot="669000">
                <a:off x="1330560" y="1631160"/>
                <a:ext cx="6792480" cy="3509280"/>
              </a:xfrm>
              <a:custGeom>
                <a:avLst/>
                <a:gdLst/>
                <a:ahLst/>
                <a:rect l="l" t="t" r="r" b="b"/>
                <a:pathLst>
                  <a:path w="3873" h="1906">
                    <a:moveTo>
                      <a:pt x="1718" y="193"/>
                    </a:moveTo>
                    <a:lnTo>
                      <a:pt x="1672" y="245"/>
                    </a:lnTo>
                    <a:lnTo>
                      <a:pt x="1528" y="251"/>
                    </a:lnTo>
                    <a:lnTo>
                      <a:pt x="1483" y="271"/>
                    </a:lnTo>
                    <a:lnTo>
                      <a:pt x="1380" y="267"/>
                    </a:lnTo>
                    <a:lnTo>
                      <a:pt x="1364" y="296"/>
                    </a:lnTo>
                    <a:lnTo>
                      <a:pt x="1271" y="340"/>
                    </a:lnTo>
                    <a:lnTo>
                      <a:pt x="1155" y="428"/>
                    </a:lnTo>
                    <a:lnTo>
                      <a:pt x="1016" y="479"/>
                    </a:lnTo>
                    <a:lnTo>
                      <a:pt x="1016" y="512"/>
                    </a:lnTo>
                    <a:lnTo>
                      <a:pt x="965" y="564"/>
                    </a:lnTo>
                    <a:lnTo>
                      <a:pt x="903" y="567"/>
                    </a:lnTo>
                    <a:lnTo>
                      <a:pt x="896" y="557"/>
                    </a:lnTo>
                    <a:lnTo>
                      <a:pt x="848" y="560"/>
                    </a:lnTo>
                    <a:lnTo>
                      <a:pt x="787" y="580"/>
                    </a:lnTo>
                    <a:lnTo>
                      <a:pt x="749" y="567"/>
                    </a:lnTo>
                    <a:lnTo>
                      <a:pt x="681" y="567"/>
                    </a:lnTo>
                    <a:lnTo>
                      <a:pt x="633" y="583"/>
                    </a:lnTo>
                    <a:lnTo>
                      <a:pt x="600" y="573"/>
                    </a:lnTo>
                    <a:lnTo>
                      <a:pt x="558" y="640"/>
                    </a:lnTo>
                    <a:lnTo>
                      <a:pt x="598" y="666"/>
                    </a:lnTo>
                    <a:lnTo>
                      <a:pt x="728" y="667"/>
                    </a:lnTo>
                    <a:lnTo>
                      <a:pt x="736" y="695"/>
                    </a:lnTo>
                    <a:lnTo>
                      <a:pt x="610" y="695"/>
                    </a:lnTo>
                    <a:lnTo>
                      <a:pt x="581" y="727"/>
                    </a:lnTo>
                    <a:lnTo>
                      <a:pt x="543" y="724"/>
                    </a:lnTo>
                    <a:lnTo>
                      <a:pt x="511" y="743"/>
                    </a:lnTo>
                    <a:lnTo>
                      <a:pt x="514" y="787"/>
                    </a:lnTo>
                    <a:lnTo>
                      <a:pt x="479" y="808"/>
                    </a:lnTo>
                    <a:lnTo>
                      <a:pt x="450" y="798"/>
                    </a:lnTo>
                    <a:lnTo>
                      <a:pt x="395" y="822"/>
                    </a:lnTo>
                    <a:lnTo>
                      <a:pt x="382" y="795"/>
                    </a:lnTo>
                    <a:lnTo>
                      <a:pt x="353" y="786"/>
                    </a:lnTo>
                    <a:lnTo>
                      <a:pt x="318" y="795"/>
                    </a:lnTo>
                    <a:lnTo>
                      <a:pt x="321" y="824"/>
                    </a:lnTo>
                    <a:lnTo>
                      <a:pt x="247" y="811"/>
                    </a:lnTo>
                    <a:lnTo>
                      <a:pt x="221" y="795"/>
                    </a:lnTo>
                    <a:lnTo>
                      <a:pt x="151" y="816"/>
                    </a:lnTo>
                    <a:lnTo>
                      <a:pt x="74" y="865"/>
                    </a:lnTo>
                    <a:lnTo>
                      <a:pt x="64" y="901"/>
                    </a:lnTo>
                    <a:lnTo>
                      <a:pt x="16" y="933"/>
                    </a:lnTo>
                    <a:lnTo>
                      <a:pt x="26" y="968"/>
                    </a:lnTo>
                    <a:lnTo>
                      <a:pt x="0" y="1032"/>
                    </a:lnTo>
                    <a:lnTo>
                      <a:pt x="106" y="1006"/>
                    </a:lnTo>
                    <a:lnTo>
                      <a:pt x="131" y="1022"/>
                    </a:lnTo>
                    <a:lnTo>
                      <a:pt x="148" y="1064"/>
                    </a:lnTo>
                    <a:lnTo>
                      <a:pt x="112" y="1058"/>
                    </a:lnTo>
                    <a:lnTo>
                      <a:pt x="90" y="1103"/>
                    </a:lnTo>
                    <a:lnTo>
                      <a:pt x="119" y="1122"/>
                    </a:lnTo>
                    <a:lnTo>
                      <a:pt x="122" y="1180"/>
                    </a:lnTo>
                    <a:lnTo>
                      <a:pt x="180" y="1212"/>
                    </a:lnTo>
                    <a:lnTo>
                      <a:pt x="135" y="1253"/>
                    </a:lnTo>
                    <a:lnTo>
                      <a:pt x="160" y="1308"/>
                    </a:lnTo>
                    <a:lnTo>
                      <a:pt x="194" y="1323"/>
                    </a:lnTo>
                    <a:lnTo>
                      <a:pt x="148" y="1350"/>
                    </a:lnTo>
                    <a:lnTo>
                      <a:pt x="106" y="1340"/>
                    </a:lnTo>
                    <a:lnTo>
                      <a:pt x="90" y="1286"/>
                    </a:lnTo>
                    <a:lnTo>
                      <a:pt x="74" y="1289"/>
                    </a:lnTo>
                    <a:lnTo>
                      <a:pt x="75" y="1344"/>
                    </a:lnTo>
                    <a:lnTo>
                      <a:pt x="41" y="1379"/>
                    </a:lnTo>
                    <a:lnTo>
                      <a:pt x="80" y="1398"/>
                    </a:lnTo>
                    <a:lnTo>
                      <a:pt x="99" y="1420"/>
                    </a:lnTo>
                    <a:lnTo>
                      <a:pt x="135" y="1382"/>
                    </a:lnTo>
                    <a:lnTo>
                      <a:pt x="151" y="1404"/>
                    </a:lnTo>
                    <a:lnTo>
                      <a:pt x="148" y="1420"/>
                    </a:lnTo>
                    <a:lnTo>
                      <a:pt x="233" y="1458"/>
                    </a:lnTo>
                    <a:lnTo>
                      <a:pt x="221" y="1495"/>
                    </a:lnTo>
                    <a:lnTo>
                      <a:pt x="183" y="1540"/>
                    </a:lnTo>
                    <a:lnTo>
                      <a:pt x="209" y="1537"/>
                    </a:lnTo>
                    <a:lnTo>
                      <a:pt x="240" y="1644"/>
                    </a:lnTo>
                    <a:lnTo>
                      <a:pt x="286" y="1604"/>
                    </a:lnTo>
                    <a:lnTo>
                      <a:pt x="331" y="1636"/>
                    </a:lnTo>
                    <a:lnTo>
                      <a:pt x="305" y="1665"/>
                    </a:lnTo>
                    <a:lnTo>
                      <a:pt x="257" y="1681"/>
                    </a:lnTo>
                    <a:lnTo>
                      <a:pt x="254" y="1717"/>
                    </a:lnTo>
                    <a:lnTo>
                      <a:pt x="337" y="1739"/>
                    </a:lnTo>
                    <a:lnTo>
                      <a:pt x="434" y="1688"/>
                    </a:lnTo>
                    <a:lnTo>
                      <a:pt x="456" y="1710"/>
                    </a:lnTo>
                    <a:lnTo>
                      <a:pt x="401" y="1752"/>
                    </a:lnTo>
                    <a:lnTo>
                      <a:pt x="345" y="1753"/>
                    </a:lnTo>
                    <a:lnTo>
                      <a:pt x="305" y="1791"/>
                    </a:lnTo>
                    <a:lnTo>
                      <a:pt x="328" y="1820"/>
                    </a:lnTo>
                    <a:lnTo>
                      <a:pt x="440" y="1763"/>
                    </a:lnTo>
                    <a:lnTo>
                      <a:pt x="424" y="1827"/>
                    </a:lnTo>
                    <a:lnTo>
                      <a:pt x="508" y="1763"/>
                    </a:lnTo>
                    <a:lnTo>
                      <a:pt x="640" y="1788"/>
                    </a:lnTo>
                    <a:lnTo>
                      <a:pt x="585" y="1820"/>
                    </a:lnTo>
                    <a:lnTo>
                      <a:pt x="652" y="1836"/>
                    </a:lnTo>
                    <a:lnTo>
                      <a:pt x="722" y="1906"/>
                    </a:lnTo>
                    <a:lnTo>
                      <a:pt x="842" y="1891"/>
                    </a:lnTo>
                    <a:lnTo>
                      <a:pt x="946" y="1869"/>
                    </a:lnTo>
                    <a:lnTo>
                      <a:pt x="1007" y="1766"/>
                    </a:lnTo>
                    <a:lnTo>
                      <a:pt x="988" y="1711"/>
                    </a:lnTo>
                    <a:lnTo>
                      <a:pt x="1052" y="1678"/>
                    </a:lnTo>
                    <a:lnTo>
                      <a:pt x="1145" y="1679"/>
                    </a:lnTo>
                    <a:lnTo>
                      <a:pt x="1216" y="1705"/>
                    </a:lnTo>
                    <a:lnTo>
                      <a:pt x="1258" y="1750"/>
                    </a:lnTo>
                    <a:lnTo>
                      <a:pt x="1322" y="1750"/>
                    </a:lnTo>
                    <a:lnTo>
                      <a:pt x="1412" y="1830"/>
                    </a:lnTo>
                    <a:lnTo>
                      <a:pt x="1450" y="1805"/>
                    </a:lnTo>
                    <a:lnTo>
                      <a:pt x="1526" y="1797"/>
                    </a:lnTo>
                    <a:lnTo>
                      <a:pt x="1588" y="1774"/>
                    </a:lnTo>
                    <a:lnTo>
                      <a:pt x="1642" y="1787"/>
                    </a:lnTo>
                    <a:lnTo>
                      <a:pt x="1715" y="1747"/>
                    </a:lnTo>
                    <a:lnTo>
                      <a:pt x="1745" y="1749"/>
                    </a:lnTo>
                    <a:lnTo>
                      <a:pt x="1729" y="1720"/>
                    </a:lnTo>
                    <a:lnTo>
                      <a:pt x="1784" y="1656"/>
                    </a:lnTo>
                    <a:lnTo>
                      <a:pt x="1816" y="1611"/>
                    </a:lnTo>
                    <a:lnTo>
                      <a:pt x="1863" y="1609"/>
                    </a:lnTo>
                    <a:lnTo>
                      <a:pt x="1899" y="1624"/>
                    </a:lnTo>
                    <a:lnTo>
                      <a:pt x="1955" y="1635"/>
                    </a:lnTo>
                    <a:lnTo>
                      <a:pt x="1989" y="1620"/>
                    </a:lnTo>
                    <a:lnTo>
                      <a:pt x="2033" y="1621"/>
                    </a:lnTo>
                    <a:lnTo>
                      <a:pt x="2038" y="1563"/>
                    </a:lnTo>
                    <a:lnTo>
                      <a:pt x="2079" y="1550"/>
                    </a:lnTo>
                    <a:lnTo>
                      <a:pt x="2108" y="1498"/>
                    </a:lnTo>
                    <a:lnTo>
                      <a:pt x="2150" y="1543"/>
                    </a:lnTo>
                    <a:lnTo>
                      <a:pt x="2190" y="1544"/>
                    </a:lnTo>
                    <a:lnTo>
                      <a:pt x="2156" y="1624"/>
                    </a:lnTo>
                    <a:lnTo>
                      <a:pt x="2102" y="1630"/>
                    </a:lnTo>
                    <a:lnTo>
                      <a:pt x="2073" y="1695"/>
                    </a:lnTo>
                    <a:lnTo>
                      <a:pt x="2131" y="1755"/>
                    </a:lnTo>
                    <a:lnTo>
                      <a:pt x="2108" y="1829"/>
                    </a:lnTo>
                    <a:lnTo>
                      <a:pt x="2126" y="1832"/>
                    </a:lnTo>
                    <a:lnTo>
                      <a:pt x="2156" y="1803"/>
                    </a:lnTo>
                    <a:lnTo>
                      <a:pt x="2195" y="1813"/>
                    </a:lnTo>
                    <a:lnTo>
                      <a:pt x="2214" y="1781"/>
                    </a:lnTo>
                    <a:lnTo>
                      <a:pt x="2230" y="1717"/>
                    </a:lnTo>
                    <a:lnTo>
                      <a:pt x="2264" y="1708"/>
                    </a:lnTo>
                    <a:lnTo>
                      <a:pt x="2273" y="1670"/>
                    </a:lnTo>
                    <a:lnTo>
                      <a:pt x="2238" y="1601"/>
                    </a:lnTo>
                    <a:lnTo>
                      <a:pt x="2280" y="1569"/>
                    </a:lnTo>
                    <a:lnTo>
                      <a:pt x="2280" y="1518"/>
                    </a:lnTo>
                    <a:lnTo>
                      <a:pt x="2315" y="1507"/>
                    </a:lnTo>
                    <a:lnTo>
                      <a:pt x="2379" y="1518"/>
                    </a:lnTo>
                    <a:lnTo>
                      <a:pt x="2469" y="1495"/>
                    </a:lnTo>
                    <a:lnTo>
                      <a:pt x="2505" y="1502"/>
                    </a:lnTo>
                    <a:lnTo>
                      <a:pt x="2534" y="1486"/>
                    </a:lnTo>
                    <a:lnTo>
                      <a:pt x="2588" y="1444"/>
                    </a:lnTo>
                    <a:lnTo>
                      <a:pt x="2692" y="1432"/>
                    </a:lnTo>
                    <a:lnTo>
                      <a:pt x="2813" y="1424"/>
                    </a:lnTo>
                    <a:lnTo>
                      <a:pt x="2885" y="1411"/>
                    </a:lnTo>
                    <a:lnTo>
                      <a:pt x="2917" y="1364"/>
                    </a:lnTo>
                    <a:lnTo>
                      <a:pt x="2991" y="1366"/>
                    </a:lnTo>
                    <a:lnTo>
                      <a:pt x="3120" y="1244"/>
                    </a:lnTo>
                    <a:lnTo>
                      <a:pt x="3190" y="1247"/>
                    </a:lnTo>
                    <a:lnTo>
                      <a:pt x="3206" y="1186"/>
                    </a:lnTo>
                    <a:lnTo>
                      <a:pt x="3306" y="1154"/>
                    </a:lnTo>
                    <a:lnTo>
                      <a:pt x="3360" y="1111"/>
                    </a:lnTo>
                    <a:lnTo>
                      <a:pt x="3396" y="1151"/>
                    </a:lnTo>
                    <a:lnTo>
                      <a:pt x="3464" y="1135"/>
                    </a:lnTo>
                    <a:lnTo>
                      <a:pt x="3466" y="1092"/>
                    </a:lnTo>
                    <a:lnTo>
                      <a:pt x="3495" y="1035"/>
                    </a:lnTo>
                    <a:lnTo>
                      <a:pt x="3618" y="1042"/>
                    </a:lnTo>
                    <a:lnTo>
                      <a:pt x="3653" y="1016"/>
                    </a:lnTo>
                    <a:lnTo>
                      <a:pt x="3679" y="1019"/>
                    </a:lnTo>
                    <a:lnTo>
                      <a:pt x="3737" y="974"/>
                    </a:lnTo>
                    <a:lnTo>
                      <a:pt x="3772" y="968"/>
                    </a:lnTo>
                    <a:lnTo>
                      <a:pt x="3778" y="1022"/>
                    </a:lnTo>
                    <a:lnTo>
                      <a:pt x="3795" y="1028"/>
                    </a:lnTo>
                    <a:lnTo>
                      <a:pt x="3824" y="997"/>
                    </a:lnTo>
                    <a:lnTo>
                      <a:pt x="3833" y="945"/>
                    </a:lnTo>
                    <a:lnTo>
                      <a:pt x="3873" y="910"/>
                    </a:lnTo>
                    <a:lnTo>
                      <a:pt x="3849" y="870"/>
                    </a:lnTo>
                    <a:lnTo>
                      <a:pt x="3811" y="852"/>
                    </a:lnTo>
                    <a:lnTo>
                      <a:pt x="3734" y="855"/>
                    </a:lnTo>
                    <a:lnTo>
                      <a:pt x="3737" y="788"/>
                    </a:lnTo>
                    <a:lnTo>
                      <a:pt x="3756" y="753"/>
                    </a:lnTo>
                    <a:lnTo>
                      <a:pt x="3733" y="719"/>
                    </a:lnTo>
                    <a:lnTo>
                      <a:pt x="3705" y="689"/>
                    </a:lnTo>
                    <a:lnTo>
                      <a:pt x="3714" y="676"/>
                    </a:lnTo>
                    <a:lnTo>
                      <a:pt x="3689" y="637"/>
                    </a:lnTo>
                    <a:lnTo>
                      <a:pt x="3695" y="605"/>
                    </a:lnTo>
                    <a:lnTo>
                      <a:pt x="3676" y="560"/>
                    </a:lnTo>
                    <a:lnTo>
                      <a:pt x="3636" y="505"/>
                    </a:lnTo>
                    <a:lnTo>
                      <a:pt x="3611" y="496"/>
                    </a:lnTo>
                    <a:lnTo>
                      <a:pt x="3660" y="470"/>
                    </a:lnTo>
                    <a:lnTo>
                      <a:pt x="3689" y="425"/>
                    </a:lnTo>
                    <a:lnTo>
                      <a:pt x="3676" y="402"/>
                    </a:lnTo>
                    <a:lnTo>
                      <a:pt x="3692" y="370"/>
                    </a:lnTo>
                    <a:lnTo>
                      <a:pt x="3685" y="344"/>
                    </a:lnTo>
                    <a:lnTo>
                      <a:pt x="3676" y="326"/>
                    </a:lnTo>
                    <a:lnTo>
                      <a:pt x="3611" y="309"/>
                    </a:lnTo>
                    <a:lnTo>
                      <a:pt x="3611" y="309"/>
                    </a:lnTo>
                    <a:lnTo>
                      <a:pt x="3512" y="312"/>
                    </a:lnTo>
                    <a:lnTo>
                      <a:pt x="3472" y="281"/>
                    </a:lnTo>
                    <a:lnTo>
                      <a:pt x="3412" y="170"/>
                    </a:lnTo>
                    <a:lnTo>
                      <a:pt x="3440" y="127"/>
                    </a:lnTo>
                    <a:lnTo>
                      <a:pt x="3335" y="69"/>
                    </a:lnTo>
                    <a:lnTo>
                      <a:pt x="3268" y="75"/>
                    </a:lnTo>
                    <a:lnTo>
                      <a:pt x="3242" y="52"/>
                    </a:lnTo>
                    <a:lnTo>
                      <a:pt x="3248" y="56"/>
                    </a:lnTo>
                    <a:lnTo>
                      <a:pt x="3300" y="36"/>
                    </a:lnTo>
                    <a:lnTo>
                      <a:pt x="3251" y="17"/>
                    </a:lnTo>
                    <a:lnTo>
                      <a:pt x="3229" y="24"/>
                    </a:lnTo>
                    <a:lnTo>
                      <a:pt x="3239" y="11"/>
                    </a:lnTo>
                    <a:lnTo>
                      <a:pt x="3204" y="0"/>
                    </a:lnTo>
                    <a:lnTo>
                      <a:pt x="3155" y="30"/>
                    </a:lnTo>
                    <a:lnTo>
                      <a:pt x="3078" y="40"/>
                    </a:lnTo>
                    <a:lnTo>
                      <a:pt x="3055" y="27"/>
                    </a:lnTo>
                    <a:lnTo>
                      <a:pt x="3036" y="72"/>
                    </a:lnTo>
                    <a:lnTo>
                      <a:pt x="3006" y="62"/>
                    </a:lnTo>
                    <a:lnTo>
                      <a:pt x="2933" y="117"/>
                    </a:lnTo>
                    <a:lnTo>
                      <a:pt x="2914" y="168"/>
                    </a:lnTo>
                    <a:lnTo>
                      <a:pt x="2881" y="165"/>
                    </a:lnTo>
                    <a:lnTo>
                      <a:pt x="2804" y="248"/>
                    </a:lnTo>
                    <a:lnTo>
                      <a:pt x="2765" y="261"/>
                    </a:lnTo>
                    <a:lnTo>
                      <a:pt x="2747" y="295"/>
                    </a:lnTo>
                    <a:lnTo>
                      <a:pt x="2662" y="296"/>
                    </a:lnTo>
                    <a:lnTo>
                      <a:pt x="2598" y="280"/>
                    </a:lnTo>
                    <a:lnTo>
                      <a:pt x="2530" y="293"/>
                    </a:lnTo>
                    <a:lnTo>
                      <a:pt x="2461" y="311"/>
                    </a:lnTo>
                    <a:lnTo>
                      <a:pt x="2418" y="357"/>
                    </a:lnTo>
                    <a:lnTo>
                      <a:pt x="2383" y="368"/>
                    </a:lnTo>
                    <a:lnTo>
                      <a:pt x="2293" y="370"/>
                    </a:lnTo>
                    <a:lnTo>
                      <a:pt x="2280" y="332"/>
                    </a:lnTo>
                    <a:lnTo>
                      <a:pt x="2260" y="373"/>
                    </a:lnTo>
                    <a:lnTo>
                      <a:pt x="2209" y="338"/>
                    </a:lnTo>
                    <a:lnTo>
                      <a:pt x="2154" y="377"/>
                    </a:lnTo>
                    <a:lnTo>
                      <a:pt x="2126" y="341"/>
                    </a:lnTo>
                    <a:lnTo>
                      <a:pt x="2051" y="322"/>
                    </a:lnTo>
                    <a:lnTo>
                      <a:pt x="2013" y="373"/>
                    </a:lnTo>
                    <a:lnTo>
                      <a:pt x="1923" y="332"/>
                    </a:lnTo>
                    <a:lnTo>
                      <a:pt x="1914" y="273"/>
                    </a:lnTo>
                    <a:lnTo>
                      <a:pt x="1865" y="293"/>
                    </a:lnTo>
                    <a:lnTo>
                      <a:pt x="1820" y="296"/>
                    </a:lnTo>
                    <a:lnTo>
                      <a:pt x="1746" y="248"/>
                    </a:lnTo>
                    <a:lnTo>
                      <a:pt x="1749" y="197"/>
                    </a:lnTo>
                    <a:lnTo>
                      <a:pt x="1718" y="193"/>
                    </a:lnTo>
                    <a:close/>
                  </a:path>
                </a:pathLst>
              </a:custGeom>
              <a:solidFill>
                <a:srgbClr val="ffff99"/>
              </a:solidFill>
              <a:ln w="5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rot="669000">
                <a:off x="1365840" y="1651320"/>
                <a:ext cx="1143360" cy="1115640"/>
              </a:xfrm>
              <a:custGeom>
                <a:avLst/>
                <a:gdLst/>
                <a:ahLst/>
                <a:rect l="l" t="t" r="r" b="b"/>
                <a:pathLst>
                  <a:path w="652" h="606">
                    <a:moveTo>
                      <a:pt x="248" y="0"/>
                    </a:moveTo>
                    <a:lnTo>
                      <a:pt x="0" y="68"/>
                    </a:lnTo>
                    <a:lnTo>
                      <a:pt x="51" y="408"/>
                    </a:lnTo>
                    <a:lnTo>
                      <a:pt x="60" y="402"/>
                    </a:lnTo>
                    <a:lnTo>
                      <a:pt x="57" y="453"/>
                    </a:lnTo>
                    <a:lnTo>
                      <a:pt x="80" y="462"/>
                    </a:lnTo>
                    <a:lnTo>
                      <a:pt x="138" y="466"/>
                    </a:lnTo>
                    <a:lnTo>
                      <a:pt x="186" y="456"/>
                    </a:lnTo>
                    <a:lnTo>
                      <a:pt x="188" y="467"/>
                    </a:lnTo>
                    <a:lnTo>
                      <a:pt x="90" y="525"/>
                    </a:lnTo>
                    <a:lnTo>
                      <a:pt x="88" y="606"/>
                    </a:lnTo>
                    <a:lnTo>
                      <a:pt x="138" y="540"/>
                    </a:lnTo>
                    <a:lnTo>
                      <a:pt x="160" y="511"/>
                    </a:lnTo>
                    <a:lnTo>
                      <a:pt x="183" y="498"/>
                    </a:lnTo>
                    <a:lnTo>
                      <a:pt x="205" y="472"/>
                    </a:lnTo>
                    <a:lnTo>
                      <a:pt x="264" y="447"/>
                    </a:lnTo>
                    <a:lnTo>
                      <a:pt x="298" y="376"/>
                    </a:lnTo>
                    <a:lnTo>
                      <a:pt x="381" y="335"/>
                    </a:lnTo>
                    <a:lnTo>
                      <a:pt x="443" y="331"/>
                    </a:lnTo>
                    <a:lnTo>
                      <a:pt x="514" y="317"/>
                    </a:lnTo>
                    <a:lnTo>
                      <a:pt x="539" y="338"/>
                    </a:lnTo>
                    <a:lnTo>
                      <a:pt x="575" y="328"/>
                    </a:lnTo>
                    <a:lnTo>
                      <a:pt x="611" y="327"/>
                    </a:lnTo>
                    <a:lnTo>
                      <a:pt x="652" y="247"/>
                    </a:lnTo>
                    <a:lnTo>
                      <a:pt x="578" y="241"/>
                    </a:lnTo>
                    <a:lnTo>
                      <a:pt x="578" y="228"/>
                    </a:lnTo>
                    <a:lnTo>
                      <a:pt x="517" y="190"/>
                    </a:lnTo>
                    <a:lnTo>
                      <a:pt x="487" y="200"/>
                    </a:lnTo>
                    <a:lnTo>
                      <a:pt x="416" y="78"/>
                    </a:lnTo>
                    <a:lnTo>
                      <a:pt x="248" y="0"/>
                    </a:lnTo>
                    <a:close/>
                  </a:path>
                </a:pathLst>
              </a:custGeom>
              <a:solidFill>
                <a:srgbClr val="ffff99"/>
              </a:solidFill>
              <a:ln w="5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44" name=""/>
            <p:cNvSpPr/>
            <p:nvPr/>
          </p:nvSpPr>
          <p:spPr>
            <a:xfrm>
              <a:off x="3922560" y="3654360"/>
              <a:ext cx="1951200" cy="982800"/>
            </a:xfrm>
            <a:custGeom>
              <a:avLst/>
              <a:gdLst/>
              <a:ahLst/>
              <a:rect l="l" t="t" r="r" b="b"/>
              <a:pathLst>
                <a:path w="2919" h="1024">
                  <a:moveTo>
                    <a:pt x="39" y="945"/>
                  </a:moveTo>
                  <a:cubicBezTo>
                    <a:pt x="152" y="606"/>
                    <a:pt x="0" y="1024"/>
                    <a:pt x="174" y="675"/>
                  </a:cubicBezTo>
                  <a:cubicBezTo>
                    <a:pt x="260" y="503"/>
                    <a:pt x="164" y="523"/>
                    <a:pt x="354" y="360"/>
                  </a:cubicBezTo>
                  <a:cubicBezTo>
                    <a:pt x="405" y="316"/>
                    <a:pt x="477" y="306"/>
                    <a:pt x="534" y="270"/>
                  </a:cubicBezTo>
                  <a:cubicBezTo>
                    <a:pt x="598" y="230"/>
                    <a:pt x="647" y="169"/>
                    <a:pt x="714" y="135"/>
                  </a:cubicBezTo>
                  <a:cubicBezTo>
                    <a:pt x="879" y="52"/>
                    <a:pt x="1115" y="61"/>
                    <a:pt x="1299" y="0"/>
                  </a:cubicBezTo>
                  <a:cubicBezTo>
                    <a:pt x="1509" y="23"/>
                    <a:pt x="1860" y="21"/>
                    <a:pt x="2064" y="135"/>
                  </a:cubicBezTo>
                  <a:cubicBezTo>
                    <a:pt x="2159" y="188"/>
                    <a:pt x="2334" y="315"/>
                    <a:pt x="2334" y="315"/>
                  </a:cubicBezTo>
                  <a:cubicBezTo>
                    <a:pt x="2447" y="484"/>
                    <a:pt x="2531" y="558"/>
                    <a:pt x="2694" y="675"/>
                  </a:cubicBezTo>
                  <a:cubicBezTo>
                    <a:pt x="2896" y="819"/>
                    <a:pt x="2797" y="810"/>
                    <a:pt x="2919" y="8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1846440" y="3747960"/>
              <a:ext cx="1645920" cy="754200"/>
            </a:xfrm>
            <a:custGeom>
              <a:avLst/>
              <a:gdLst/>
              <a:ahLst/>
              <a:rect l="l" t="t" r="r" b="b"/>
              <a:pathLst>
                <a:path w="2184" h="1170">
                  <a:moveTo>
                    <a:pt x="2172" y="1170"/>
                  </a:moveTo>
                  <a:cubicBezTo>
                    <a:pt x="2102" y="680"/>
                    <a:pt x="2184" y="1019"/>
                    <a:pt x="2037" y="675"/>
                  </a:cubicBezTo>
                  <a:cubicBezTo>
                    <a:pt x="2018" y="631"/>
                    <a:pt x="2016" y="581"/>
                    <a:pt x="1992" y="540"/>
                  </a:cubicBezTo>
                  <a:cubicBezTo>
                    <a:pt x="1955" y="475"/>
                    <a:pt x="1897" y="424"/>
                    <a:pt x="1857" y="360"/>
                  </a:cubicBezTo>
                  <a:cubicBezTo>
                    <a:pt x="1821" y="303"/>
                    <a:pt x="1821" y="220"/>
                    <a:pt x="1767" y="180"/>
                  </a:cubicBezTo>
                  <a:cubicBezTo>
                    <a:pt x="1691" y="123"/>
                    <a:pt x="1582" y="132"/>
                    <a:pt x="1497" y="90"/>
                  </a:cubicBezTo>
                  <a:cubicBezTo>
                    <a:pt x="1437" y="60"/>
                    <a:pt x="1377" y="30"/>
                    <a:pt x="1317" y="0"/>
                  </a:cubicBezTo>
                  <a:cubicBezTo>
                    <a:pt x="1197" y="15"/>
                    <a:pt x="1076" y="25"/>
                    <a:pt x="957" y="45"/>
                  </a:cubicBezTo>
                  <a:cubicBezTo>
                    <a:pt x="896" y="55"/>
                    <a:pt x="828" y="56"/>
                    <a:pt x="777" y="90"/>
                  </a:cubicBezTo>
                  <a:cubicBezTo>
                    <a:pt x="732" y="120"/>
                    <a:pt x="733" y="196"/>
                    <a:pt x="687" y="225"/>
                  </a:cubicBezTo>
                  <a:cubicBezTo>
                    <a:pt x="614" y="271"/>
                    <a:pt x="342" y="334"/>
                    <a:pt x="237" y="360"/>
                  </a:cubicBezTo>
                  <a:cubicBezTo>
                    <a:pt x="207" y="405"/>
                    <a:pt x="185" y="457"/>
                    <a:pt x="147" y="495"/>
                  </a:cubicBezTo>
                  <a:cubicBezTo>
                    <a:pt x="0" y="642"/>
                    <a:pt x="12" y="517"/>
                    <a:pt x="12" y="63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1379520" y="2050920"/>
              <a:ext cx="9036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2014560" y="1857240"/>
              <a:ext cx="27144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1574640" y="2894040"/>
              <a:ext cx="793800" cy="927000"/>
            </a:xfrm>
            <a:custGeom>
              <a:avLst/>
              <a:gdLst/>
              <a:ahLst/>
              <a:rect l="l" t="t" r="r" b="b"/>
              <a:pathLst>
                <a:path w="1009" h="1240">
                  <a:moveTo>
                    <a:pt x="0" y="0"/>
                  </a:moveTo>
                  <a:cubicBezTo>
                    <a:pt x="113" y="7"/>
                    <a:pt x="227" y="10"/>
                    <a:pt x="340" y="20"/>
                  </a:cubicBezTo>
                  <a:cubicBezTo>
                    <a:pt x="380" y="24"/>
                    <a:pt x="421" y="30"/>
                    <a:pt x="460" y="40"/>
                  </a:cubicBezTo>
                  <a:cubicBezTo>
                    <a:pt x="501" y="50"/>
                    <a:pt x="580" y="80"/>
                    <a:pt x="580" y="80"/>
                  </a:cubicBezTo>
                  <a:cubicBezTo>
                    <a:pt x="634" y="161"/>
                    <a:pt x="719" y="226"/>
                    <a:pt x="800" y="280"/>
                  </a:cubicBezTo>
                  <a:cubicBezTo>
                    <a:pt x="816" y="395"/>
                    <a:pt x="844" y="491"/>
                    <a:pt x="880" y="600"/>
                  </a:cubicBezTo>
                  <a:cubicBezTo>
                    <a:pt x="887" y="620"/>
                    <a:pt x="920" y="613"/>
                    <a:pt x="940" y="620"/>
                  </a:cubicBezTo>
                  <a:cubicBezTo>
                    <a:pt x="1009" y="827"/>
                    <a:pt x="1000" y="1019"/>
                    <a:pt x="1000" y="1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6889680" y="2481120"/>
              <a:ext cx="566640" cy="941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5911920" y="3922560"/>
              <a:ext cx="2417760" cy="1401840"/>
            </a:xfrm>
            <a:custGeom>
              <a:avLst/>
              <a:gdLst/>
              <a:ahLst/>
              <a:rect l="l" t="t" r="r" b="b"/>
              <a:pathLst>
                <a:path w="2820" h="1500">
                  <a:moveTo>
                    <a:pt x="0" y="720"/>
                  </a:moveTo>
                  <a:cubicBezTo>
                    <a:pt x="150" y="1050"/>
                    <a:pt x="300" y="1380"/>
                    <a:pt x="720" y="1440"/>
                  </a:cubicBezTo>
                  <a:cubicBezTo>
                    <a:pt x="1140" y="1500"/>
                    <a:pt x="2220" y="1320"/>
                    <a:pt x="2520" y="1080"/>
                  </a:cubicBezTo>
                  <a:cubicBezTo>
                    <a:pt x="2820" y="840"/>
                    <a:pt x="2520" y="180"/>
                    <a:pt x="25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7661160" y="2144880"/>
              <a:ext cx="1235160" cy="841320"/>
            </a:xfrm>
            <a:prstGeom prst="borderCallout1">
              <a:avLst>
                <a:gd name="adj1" fmla="val 18750"/>
                <a:gd name="adj2" fmla="val -8333"/>
                <a:gd name="adj3" fmla="val 115555"/>
                <a:gd name="adj4" fmla="val -23611"/>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2" name=""/>
            <p:cNvSpPr/>
            <p:nvPr/>
          </p:nvSpPr>
          <p:spPr>
            <a:xfrm>
              <a:off x="7043760" y="1976400"/>
              <a:ext cx="307800" cy="33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7507440" y="1135080"/>
              <a:ext cx="1234800" cy="841320"/>
            </a:xfrm>
            <a:prstGeom prst="borderCallout1">
              <a:avLst>
                <a:gd name="adj1" fmla="val 18750"/>
                <a:gd name="adj2" fmla="val -8333"/>
                <a:gd name="adj3" fmla="val 115555"/>
                <a:gd name="adj4" fmla="val -23611"/>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4" name=""/>
            <p:cNvSpPr/>
            <p:nvPr/>
          </p:nvSpPr>
          <p:spPr>
            <a:xfrm>
              <a:off x="5138640" y="5006880"/>
              <a:ext cx="2212920" cy="708120"/>
            </a:xfrm>
            <a:prstGeom prst="borderCallout1">
              <a:avLst>
                <a:gd name="adj1" fmla="val 18750"/>
                <a:gd name="adj2" fmla="val -8333"/>
                <a:gd name="adj3" fmla="val -26421"/>
                <a:gd name="adj4" fmla="val 113953"/>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5" name=""/>
            <p:cNvSpPr/>
            <p:nvPr/>
          </p:nvSpPr>
          <p:spPr>
            <a:xfrm>
              <a:off x="5003640" y="3176640"/>
              <a:ext cx="1576440" cy="539640"/>
            </a:xfrm>
            <a:prstGeom prst="borderCallout1">
              <a:avLst>
                <a:gd name="adj1" fmla="val 18750"/>
                <a:gd name="adj2" fmla="val -8333"/>
                <a:gd name="adj3" fmla="val 180240"/>
                <a:gd name="adj4" fmla="val -18509"/>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6" name=""/>
            <p:cNvSpPr/>
            <p:nvPr/>
          </p:nvSpPr>
          <p:spPr>
            <a:xfrm>
              <a:off x="712800" y="4838760"/>
              <a:ext cx="2055960" cy="708120"/>
            </a:xfrm>
            <a:prstGeom prst="borderCallout1">
              <a:avLst>
                <a:gd name="adj1" fmla="val 18750"/>
                <a:gd name="adj2" fmla="val -8333"/>
                <a:gd name="adj3" fmla="val -81902"/>
                <a:gd name="adj4" fmla="val 111680"/>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7" name=""/>
            <p:cNvSpPr/>
            <p:nvPr/>
          </p:nvSpPr>
          <p:spPr>
            <a:xfrm>
              <a:off x="1176480" y="1135080"/>
              <a:ext cx="1698480" cy="6732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8" name=""/>
            <p:cNvSpPr/>
            <p:nvPr/>
          </p:nvSpPr>
          <p:spPr>
            <a:xfrm>
              <a:off x="95400" y="2986200"/>
              <a:ext cx="1234800" cy="842760"/>
            </a:xfrm>
            <a:prstGeom prst="borderCallout1">
              <a:avLst>
                <a:gd name="adj1" fmla="val 18750"/>
                <a:gd name="adj2" fmla="val -8333"/>
                <a:gd name="adj3" fmla="val 78111"/>
                <a:gd name="adj4" fmla="val 141666"/>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59" name="" descr=""/>
            <p:cNvPicPr/>
            <p:nvPr/>
          </p:nvPicPr>
          <p:blipFill>
            <a:blip r:embed="rId2"/>
            <a:stretch/>
          </p:blipFill>
          <p:spPr>
            <a:xfrm flipH="1" rot="10800000">
              <a:off x="7043760" y="2817720"/>
              <a:ext cx="1077840" cy="1084320"/>
            </a:xfrm>
            <a:prstGeom prst="rect">
              <a:avLst/>
            </a:prstGeom>
            <a:ln w="0">
              <a:noFill/>
            </a:ln>
          </p:spPr>
        </p:pic>
        <p:pic>
          <p:nvPicPr>
            <p:cNvPr id="2260" name="" descr=""/>
            <p:cNvPicPr/>
            <p:nvPr/>
          </p:nvPicPr>
          <p:blipFill>
            <a:blip r:embed="rId3"/>
            <a:stretch/>
          </p:blipFill>
          <p:spPr>
            <a:xfrm flipH="1" rot="10800000">
              <a:off x="5962680" y="1134720"/>
              <a:ext cx="1231920" cy="1236600"/>
            </a:xfrm>
            <a:prstGeom prst="rect">
              <a:avLst/>
            </a:prstGeom>
            <a:ln w="0">
              <a:noFill/>
            </a:ln>
          </p:spPr>
        </p:pic>
        <p:pic>
          <p:nvPicPr>
            <p:cNvPr id="2261" name="" descr=""/>
            <p:cNvPicPr/>
            <p:nvPr/>
          </p:nvPicPr>
          <p:blipFill>
            <a:blip r:embed="rId4"/>
            <a:stretch/>
          </p:blipFill>
          <p:spPr>
            <a:xfrm flipH="1" rot="10800000">
              <a:off x="5962680" y="3490920"/>
              <a:ext cx="1077840" cy="1084320"/>
            </a:xfrm>
            <a:prstGeom prst="rect">
              <a:avLst/>
            </a:prstGeom>
            <a:ln w="0">
              <a:noFill/>
            </a:ln>
          </p:spPr>
        </p:pic>
        <p:pic>
          <p:nvPicPr>
            <p:cNvPr id="2262" name="" descr=""/>
            <p:cNvPicPr/>
            <p:nvPr/>
          </p:nvPicPr>
          <p:blipFill>
            <a:blip r:embed="rId5"/>
            <a:stretch/>
          </p:blipFill>
          <p:spPr>
            <a:xfrm flipH="1" rot="10800000">
              <a:off x="3338640" y="2986200"/>
              <a:ext cx="1079280" cy="1085760"/>
            </a:xfrm>
            <a:prstGeom prst="rect">
              <a:avLst/>
            </a:prstGeom>
            <a:ln w="0">
              <a:noFill/>
            </a:ln>
          </p:spPr>
        </p:pic>
        <p:pic>
          <p:nvPicPr>
            <p:cNvPr id="2263" name="" descr=""/>
            <p:cNvPicPr/>
            <p:nvPr/>
          </p:nvPicPr>
          <p:blipFill>
            <a:blip r:embed="rId6"/>
            <a:stretch/>
          </p:blipFill>
          <p:spPr>
            <a:xfrm flipH="1" rot="10800000">
              <a:off x="2874960" y="990720"/>
              <a:ext cx="1081080" cy="1084320"/>
            </a:xfrm>
            <a:prstGeom prst="rect">
              <a:avLst/>
            </a:prstGeom>
            <a:ln w="0">
              <a:noFill/>
            </a:ln>
          </p:spPr>
        </p:pic>
        <p:grpSp>
          <p:nvGrpSpPr>
            <p:cNvPr id="2264" name=""/>
            <p:cNvGrpSpPr/>
            <p:nvPr/>
          </p:nvGrpSpPr>
          <p:grpSpPr>
            <a:xfrm>
              <a:off x="712440" y="3660840"/>
              <a:ext cx="927000" cy="1009440"/>
              <a:chOff x="712440" y="3660840"/>
              <a:chExt cx="927000" cy="1009440"/>
            </a:xfrm>
          </p:grpSpPr>
          <p:sp>
            <p:nvSpPr>
              <p:cNvPr id="2265" name=""/>
              <p:cNvSpPr/>
              <p:nvPr/>
            </p:nvSpPr>
            <p:spPr>
              <a:xfrm flipH="1">
                <a:off x="712080" y="3660840"/>
                <a:ext cx="927000" cy="1009440"/>
              </a:xfrm>
              <a:custGeom>
                <a:avLst/>
                <a:gdLst/>
                <a:ahLst/>
                <a:rect l="l" t="t" r="r" b="b"/>
                <a:pathLst>
                  <a:path w="4466" h="4110">
                    <a:moveTo>
                      <a:pt x="3524" y="35"/>
                    </a:moveTo>
                    <a:lnTo>
                      <a:pt x="3530" y="48"/>
                    </a:lnTo>
                    <a:lnTo>
                      <a:pt x="3539" y="60"/>
                    </a:lnTo>
                    <a:lnTo>
                      <a:pt x="3549" y="72"/>
                    </a:lnTo>
                    <a:lnTo>
                      <a:pt x="3560" y="82"/>
                    </a:lnTo>
                    <a:lnTo>
                      <a:pt x="3570" y="94"/>
                    </a:lnTo>
                    <a:lnTo>
                      <a:pt x="3578" y="107"/>
                    </a:lnTo>
                    <a:lnTo>
                      <a:pt x="3585" y="120"/>
                    </a:lnTo>
                    <a:lnTo>
                      <a:pt x="3588" y="135"/>
                    </a:lnTo>
                    <a:lnTo>
                      <a:pt x="3615" y="204"/>
                    </a:lnTo>
                    <a:lnTo>
                      <a:pt x="3638" y="274"/>
                    </a:lnTo>
                    <a:lnTo>
                      <a:pt x="3660" y="345"/>
                    </a:lnTo>
                    <a:lnTo>
                      <a:pt x="3678" y="417"/>
                    </a:lnTo>
                    <a:lnTo>
                      <a:pt x="3694" y="489"/>
                    </a:lnTo>
                    <a:lnTo>
                      <a:pt x="3709" y="563"/>
                    </a:lnTo>
                    <a:lnTo>
                      <a:pt x="3722" y="638"/>
                    </a:lnTo>
                    <a:lnTo>
                      <a:pt x="3735" y="714"/>
                    </a:lnTo>
                    <a:lnTo>
                      <a:pt x="3745" y="708"/>
                    </a:lnTo>
                    <a:lnTo>
                      <a:pt x="3755" y="701"/>
                    </a:lnTo>
                    <a:lnTo>
                      <a:pt x="3762" y="691"/>
                    </a:lnTo>
                    <a:lnTo>
                      <a:pt x="3771" y="683"/>
                    </a:lnTo>
                    <a:lnTo>
                      <a:pt x="3779" y="674"/>
                    </a:lnTo>
                    <a:lnTo>
                      <a:pt x="3788" y="667"/>
                    </a:lnTo>
                    <a:lnTo>
                      <a:pt x="3800" y="663"/>
                    </a:lnTo>
                    <a:lnTo>
                      <a:pt x="3814" y="660"/>
                    </a:lnTo>
                    <a:lnTo>
                      <a:pt x="3828" y="666"/>
                    </a:lnTo>
                    <a:lnTo>
                      <a:pt x="3837" y="675"/>
                    </a:lnTo>
                    <a:lnTo>
                      <a:pt x="3843" y="688"/>
                    </a:lnTo>
                    <a:lnTo>
                      <a:pt x="3845" y="702"/>
                    </a:lnTo>
                    <a:lnTo>
                      <a:pt x="3846" y="717"/>
                    </a:lnTo>
                    <a:lnTo>
                      <a:pt x="3847" y="733"/>
                    </a:lnTo>
                    <a:lnTo>
                      <a:pt x="3848" y="748"/>
                    </a:lnTo>
                    <a:lnTo>
                      <a:pt x="3852" y="761"/>
                    </a:lnTo>
                    <a:lnTo>
                      <a:pt x="3866" y="828"/>
                    </a:lnTo>
                    <a:lnTo>
                      <a:pt x="3880" y="899"/>
                    </a:lnTo>
                    <a:lnTo>
                      <a:pt x="3893" y="970"/>
                    </a:lnTo>
                    <a:lnTo>
                      <a:pt x="3901" y="1042"/>
                    </a:lnTo>
                    <a:lnTo>
                      <a:pt x="3901" y="1112"/>
                    </a:lnTo>
                    <a:lnTo>
                      <a:pt x="3892" y="1182"/>
                    </a:lnTo>
                    <a:lnTo>
                      <a:pt x="3871" y="1248"/>
                    </a:lnTo>
                    <a:lnTo>
                      <a:pt x="3834" y="1310"/>
                    </a:lnTo>
                    <a:lnTo>
                      <a:pt x="3840" y="1314"/>
                    </a:lnTo>
                    <a:lnTo>
                      <a:pt x="3850" y="1310"/>
                    </a:lnTo>
                    <a:lnTo>
                      <a:pt x="3860" y="1304"/>
                    </a:lnTo>
                    <a:lnTo>
                      <a:pt x="3872" y="1297"/>
                    </a:lnTo>
                    <a:lnTo>
                      <a:pt x="3882" y="1292"/>
                    </a:lnTo>
                    <a:lnTo>
                      <a:pt x="3894" y="1285"/>
                    </a:lnTo>
                    <a:lnTo>
                      <a:pt x="3905" y="1281"/>
                    </a:lnTo>
                    <a:lnTo>
                      <a:pt x="3917" y="1279"/>
                    </a:lnTo>
                    <a:lnTo>
                      <a:pt x="3928" y="1279"/>
                    </a:lnTo>
                    <a:lnTo>
                      <a:pt x="3932" y="1295"/>
                    </a:lnTo>
                    <a:lnTo>
                      <a:pt x="3931" y="1310"/>
                    </a:lnTo>
                    <a:lnTo>
                      <a:pt x="3926" y="1326"/>
                    </a:lnTo>
                    <a:lnTo>
                      <a:pt x="3921" y="1340"/>
                    </a:lnTo>
                    <a:lnTo>
                      <a:pt x="3920" y="1414"/>
                    </a:lnTo>
                    <a:lnTo>
                      <a:pt x="3914" y="1489"/>
                    </a:lnTo>
                    <a:lnTo>
                      <a:pt x="3907" y="1564"/>
                    </a:lnTo>
                    <a:lnTo>
                      <a:pt x="3895" y="1637"/>
                    </a:lnTo>
                    <a:lnTo>
                      <a:pt x="3877" y="1656"/>
                    </a:lnTo>
                    <a:lnTo>
                      <a:pt x="3860" y="1676"/>
                    </a:lnTo>
                    <a:lnTo>
                      <a:pt x="3843" y="1694"/>
                    </a:lnTo>
                    <a:lnTo>
                      <a:pt x="3826" y="1712"/>
                    </a:lnTo>
                    <a:lnTo>
                      <a:pt x="3810" y="1729"/>
                    </a:lnTo>
                    <a:lnTo>
                      <a:pt x="3792" y="1746"/>
                    </a:lnTo>
                    <a:lnTo>
                      <a:pt x="3775" y="1763"/>
                    </a:lnTo>
                    <a:lnTo>
                      <a:pt x="3758" y="1779"/>
                    </a:lnTo>
                    <a:lnTo>
                      <a:pt x="3740" y="1795"/>
                    </a:lnTo>
                    <a:lnTo>
                      <a:pt x="3722" y="1811"/>
                    </a:lnTo>
                    <a:lnTo>
                      <a:pt x="3704" y="1827"/>
                    </a:lnTo>
                    <a:lnTo>
                      <a:pt x="3684" y="1842"/>
                    </a:lnTo>
                    <a:lnTo>
                      <a:pt x="3664" y="1858"/>
                    </a:lnTo>
                    <a:lnTo>
                      <a:pt x="3644" y="1873"/>
                    </a:lnTo>
                    <a:lnTo>
                      <a:pt x="3621" y="1889"/>
                    </a:lnTo>
                    <a:lnTo>
                      <a:pt x="3599" y="1904"/>
                    </a:lnTo>
                    <a:lnTo>
                      <a:pt x="3599" y="1908"/>
                    </a:lnTo>
                    <a:lnTo>
                      <a:pt x="3614" y="1906"/>
                    </a:lnTo>
                    <a:lnTo>
                      <a:pt x="3629" y="1903"/>
                    </a:lnTo>
                    <a:lnTo>
                      <a:pt x="3644" y="1900"/>
                    </a:lnTo>
                    <a:lnTo>
                      <a:pt x="3660" y="1896"/>
                    </a:lnTo>
                    <a:lnTo>
                      <a:pt x="3675" y="1891"/>
                    </a:lnTo>
                    <a:lnTo>
                      <a:pt x="3690" y="1887"/>
                    </a:lnTo>
                    <a:lnTo>
                      <a:pt x="3705" y="1884"/>
                    </a:lnTo>
                    <a:lnTo>
                      <a:pt x="3720" y="1883"/>
                    </a:lnTo>
                    <a:lnTo>
                      <a:pt x="3730" y="1889"/>
                    </a:lnTo>
                    <a:lnTo>
                      <a:pt x="3741" y="1895"/>
                    </a:lnTo>
                    <a:lnTo>
                      <a:pt x="3752" y="1899"/>
                    </a:lnTo>
                    <a:lnTo>
                      <a:pt x="3764" y="1902"/>
                    </a:lnTo>
                    <a:lnTo>
                      <a:pt x="3774" y="1906"/>
                    </a:lnTo>
                    <a:lnTo>
                      <a:pt x="3785" y="1911"/>
                    </a:lnTo>
                    <a:lnTo>
                      <a:pt x="3796" y="1916"/>
                    </a:lnTo>
                    <a:lnTo>
                      <a:pt x="3806" y="1921"/>
                    </a:lnTo>
                    <a:lnTo>
                      <a:pt x="3817" y="1921"/>
                    </a:lnTo>
                    <a:lnTo>
                      <a:pt x="3835" y="1935"/>
                    </a:lnTo>
                    <a:lnTo>
                      <a:pt x="3852" y="1949"/>
                    </a:lnTo>
                    <a:lnTo>
                      <a:pt x="3868" y="1962"/>
                    </a:lnTo>
                    <a:lnTo>
                      <a:pt x="3885" y="1976"/>
                    </a:lnTo>
                    <a:lnTo>
                      <a:pt x="3901" y="1990"/>
                    </a:lnTo>
                    <a:lnTo>
                      <a:pt x="3916" y="2004"/>
                    </a:lnTo>
                    <a:lnTo>
                      <a:pt x="3931" y="2017"/>
                    </a:lnTo>
                    <a:lnTo>
                      <a:pt x="3947" y="2032"/>
                    </a:lnTo>
                    <a:lnTo>
                      <a:pt x="3937" y="2056"/>
                    </a:lnTo>
                    <a:lnTo>
                      <a:pt x="3925" y="2075"/>
                    </a:lnTo>
                    <a:lnTo>
                      <a:pt x="3911" y="2092"/>
                    </a:lnTo>
                    <a:lnTo>
                      <a:pt x="3895" y="2107"/>
                    </a:lnTo>
                    <a:lnTo>
                      <a:pt x="3880" y="2123"/>
                    </a:lnTo>
                    <a:lnTo>
                      <a:pt x="3864" y="2139"/>
                    </a:lnTo>
                    <a:lnTo>
                      <a:pt x="3848" y="2157"/>
                    </a:lnTo>
                    <a:lnTo>
                      <a:pt x="3834" y="2180"/>
                    </a:lnTo>
                    <a:lnTo>
                      <a:pt x="3820" y="2191"/>
                    </a:lnTo>
                    <a:lnTo>
                      <a:pt x="3807" y="2201"/>
                    </a:lnTo>
                    <a:lnTo>
                      <a:pt x="3793" y="2211"/>
                    </a:lnTo>
                    <a:lnTo>
                      <a:pt x="3780" y="2220"/>
                    </a:lnTo>
                    <a:lnTo>
                      <a:pt x="3766" y="2230"/>
                    </a:lnTo>
                    <a:lnTo>
                      <a:pt x="3752" y="2240"/>
                    </a:lnTo>
                    <a:lnTo>
                      <a:pt x="3738" y="2250"/>
                    </a:lnTo>
                    <a:lnTo>
                      <a:pt x="3725" y="2261"/>
                    </a:lnTo>
                    <a:lnTo>
                      <a:pt x="3713" y="2260"/>
                    </a:lnTo>
                    <a:lnTo>
                      <a:pt x="3701" y="2260"/>
                    </a:lnTo>
                    <a:lnTo>
                      <a:pt x="3690" y="2262"/>
                    </a:lnTo>
                    <a:lnTo>
                      <a:pt x="3677" y="2264"/>
                    </a:lnTo>
                    <a:lnTo>
                      <a:pt x="3665" y="2267"/>
                    </a:lnTo>
                    <a:lnTo>
                      <a:pt x="3653" y="2271"/>
                    </a:lnTo>
                    <a:lnTo>
                      <a:pt x="3641" y="2275"/>
                    </a:lnTo>
                    <a:lnTo>
                      <a:pt x="3631" y="2279"/>
                    </a:lnTo>
                    <a:lnTo>
                      <a:pt x="3615" y="2280"/>
                    </a:lnTo>
                    <a:lnTo>
                      <a:pt x="3601" y="2284"/>
                    </a:lnTo>
                    <a:lnTo>
                      <a:pt x="3586" y="2289"/>
                    </a:lnTo>
                    <a:lnTo>
                      <a:pt x="3572" y="2293"/>
                    </a:lnTo>
                    <a:lnTo>
                      <a:pt x="3558" y="2298"/>
                    </a:lnTo>
                    <a:lnTo>
                      <a:pt x="3544" y="2303"/>
                    </a:lnTo>
                    <a:lnTo>
                      <a:pt x="3529" y="2306"/>
                    </a:lnTo>
                    <a:lnTo>
                      <a:pt x="3513" y="2307"/>
                    </a:lnTo>
                    <a:lnTo>
                      <a:pt x="3508" y="2308"/>
                    </a:lnTo>
                    <a:lnTo>
                      <a:pt x="3501" y="2308"/>
                    </a:lnTo>
                    <a:lnTo>
                      <a:pt x="3494" y="2307"/>
                    </a:lnTo>
                    <a:lnTo>
                      <a:pt x="3486" y="2307"/>
                    </a:lnTo>
                    <a:lnTo>
                      <a:pt x="3479" y="2307"/>
                    </a:lnTo>
                    <a:lnTo>
                      <a:pt x="3472" y="2308"/>
                    </a:lnTo>
                    <a:lnTo>
                      <a:pt x="3465" y="2310"/>
                    </a:lnTo>
                    <a:lnTo>
                      <a:pt x="3459" y="2315"/>
                    </a:lnTo>
                    <a:lnTo>
                      <a:pt x="3474" y="2320"/>
                    </a:lnTo>
                    <a:lnTo>
                      <a:pt x="3489" y="2324"/>
                    </a:lnTo>
                    <a:lnTo>
                      <a:pt x="3507" y="2325"/>
                    </a:lnTo>
                    <a:lnTo>
                      <a:pt x="3523" y="2327"/>
                    </a:lnTo>
                    <a:lnTo>
                      <a:pt x="3539" y="2329"/>
                    </a:lnTo>
                    <a:lnTo>
                      <a:pt x="3554" y="2334"/>
                    </a:lnTo>
                    <a:lnTo>
                      <a:pt x="3567" y="2340"/>
                    </a:lnTo>
                    <a:lnTo>
                      <a:pt x="3577" y="2351"/>
                    </a:lnTo>
                    <a:lnTo>
                      <a:pt x="3582" y="2378"/>
                    </a:lnTo>
                    <a:lnTo>
                      <a:pt x="3578" y="2403"/>
                    </a:lnTo>
                    <a:lnTo>
                      <a:pt x="3571" y="2426"/>
                    </a:lnTo>
                    <a:lnTo>
                      <a:pt x="3560" y="2447"/>
                    </a:lnTo>
                    <a:lnTo>
                      <a:pt x="3546" y="2467"/>
                    </a:lnTo>
                    <a:lnTo>
                      <a:pt x="3530" y="2487"/>
                    </a:lnTo>
                    <a:lnTo>
                      <a:pt x="3514" y="2507"/>
                    </a:lnTo>
                    <a:lnTo>
                      <a:pt x="3499" y="2526"/>
                    </a:lnTo>
                    <a:lnTo>
                      <a:pt x="3485" y="2535"/>
                    </a:lnTo>
                    <a:lnTo>
                      <a:pt x="3471" y="2543"/>
                    </a:lnTo>
                    <a:lnTo>
                      <a:pt x="3457" y="2551"/>
                    </a:lnTo>
                    <a:lnTo>
                      <a:pt x="3442" y="2558"/>
                    </a:lnTo>
                    <a:lnTo>
                      <a:pt x="3427" y="2565"/>
                    </a:lnTo>
                    <a:lnTo>
                      <a:pt x="3412" y="2571"/>
                    </a:lnTo>
                    <a:lnTo>
                      <a:pt x="3396" y="2577"/>
                    </a:lnTo>
                    <a:lnTo>
                      <a:pt x="3380" y="2583"/>
                    </a:lnTo>
                    <a:lnTo>
                      <a:pt x="3364" y="2587"/>
                    </a:lnTo>
                    <a:lnTo>
                      <a:pt x="3348" y="2591"/>
                    </a:lnTo>
                    <a:lnTo>
                      <a:pt x="3332" y="2594"/>
                    </a:lnTo>
                    <a:lnTo>
                      <a:pt x="3315" y="2598"/>
                    </a:lnTo>
                    <a:lnTo>
                      <a:pt x="3299" y="2601"/>
                    </a:lnTo>
                    <a:lnTo>
                      <a:pt x="3282" y="2602"/>
                    </a:lnTo>
                    <a:lnTo>
                      <a:pt x="3265" y="2603"/>
                    </a:lnTo>
                    <a:lnTo>
                      <a:pt x="3247" y="2604"/>
                    </a:lnTo>
                    <a:lnTo>
                      <a:pt x="3257" y="2611"/>
                    </a:lnTo>
                    <a:lnTo>
                      <a:pt x="3267" y="2619"/>
                    </a:lnTo>
                    <a:lnTo>
                      <a:pt x="3275" y="2629"/>
                    </a:lnTo>
                    <a:lnTo>
                      <a:pt x="3284" y="2638"/>
                    </a:lnTo>
                    <a:lnTo>
                      <a:pt x="3293" y="2646"/>
                    </a:lnTo>
                    <a:lnTo>
                      <a:pt x="3303" y="2651"/>
                    </a:lnTo>
                    <a:lnTo>
                      <a:pt x="3313" y="2652"/>
                    </a:lnTo>
                    <a:lnTo>
                      <a:pt x="3323" y="2647"/>
                    </a:lnTo>
                    <a:lnTo>
                      <a:pt x="3343" y="2644"/>
                    </a:lnTo>
                    <a:lnTo>
                      <a:pt x="3362" y="2643"/>
                    </a:lnTo>
                    <a:lnTo>
                      <a:pt x="3381" y="2644"/>
                    </a:lnTo>
                    <a:lnTo>
                      <a:pt x="3399" y="2648"/>
                    </a:lnTo>
                    <a:lnTo>
                      <a:pt x="3417" y="2654"/>
                    </a:lnTo>
                    <a:lnTo>
                      <a:pt x="3433" y="2665"/>
                    </a:lnTo>
                    <a:lnTo>
                      <a:pt x="3447" y="2678"/>
                    </a:lnTo>
                    <a:lnTo>
                      <a:pt x="3459" y="2694"/>
                    </a:lnTo>
                    <a:lnTo>
                      <a:pt x="3459" y="2700"/>
                    </a:lnTo>
                    <a:lnTo>
                      <a:pt x="3471" y="2698"/>
                    </a:lnTo>
                    <a:lnTo>
                      <a:pt x="3483" y="2696"/>
                    </a:lnTo>
                    <a:lnTo>
                      <a:pt x="3495" y="2695"/>
                    </a:lnTo>
                    <a:lnTo>
                      <a:pt x="3507" y="2694"/>
                    </a:lnTo>
                    <a:lnTo>
                      <a:pt x="3517" y="2693"/>
                    </a:lnTo>
                    <a:lnTo>
                      <a:pt x="3528" y="2693"/>
                    </a:lnTo>
                    <a:lnTo>
                      <a:pt x="3539" y="2693"/>
                    </a:lnTo>
                    <a:lnTo>
                      <a:pt x="3549" y="2693"/>
                    </a:lnTo>
                    <a:lnTo>
                      <a:pt x="3560" y="2694"/>
                    </a:lnTo>
                    <a:lnTo>
                      <a:pt x="3571" y="2694"/>
                    </a:lnTo>
                    <a:lnTo>
                      <a:pt x="3583" y="2695"/>
                    </a:lnTo>
                    <a:lnTo>
                      <a:pt x="3593" y="2697"/>
                    </a:lnTo>
                    <a:lnTo>
                      <a:pt x="3605" y="2698"/>
                    </a:lnTo>
                    <a:lnTo>
                      <a:pt x="3617" y="2700"/>
                    </a:lnTo>
                    <a:lnTo>
                      <a:pt x="3629" y="2703"/>
                    </a:lnTo>
                    <a:lnTo>
                      <a:pt x="3641" y="2706"/>
                    </a:lnTo>
                    <a:lnTo>
                      <a:pt x="3653" y="2712"/>
                    </a:lnTo>
                    <a:lnTo>
                      <a:pt x="3662" y="2724"/>
                    </a:lnTo>
                    <a:lnTo>
                      <a:pt x="3669" y="2738"/>
                    </a:lnTo>
                    <a:lnTo>
                      <a:pt x="3677" y="2753"/>
                    </a:lnTo>
                    <a:lnTo>
                      <a:pt x="3684" y="2764"/>
                    </a:lnTo>
                    <a:lnTo>
                      <a:pt x="3695" y="2771"/>
                    </a:lnTo>
                    <a:lnTo>
                      <a:pt x="3708" y="2768"/>
                    </a:lnTo>
                    <a:lnTo>
                      <a:pt x="3725" y="2754"/>
                    </a:lnTo>
                    <a:lnTo>
                      <a:pt x="3730" y="2754"/>
                    </a:lnTo>
                    <a:lnTo>
                      <a:pt x="3735" y="2754"/>
                    </a:lnTo>
                    <a:lnTo>
                      <a:pt x="3740" y="2754"/>
                    </a:lnTo>
                    <a:lnTo>
                      <a:pt x="3745" y="2755"/>
                    </a:lnTo>
                    <a:lnTo>
                      <a:pt x="3751" y="2754"/>
                    </a:lnTo>
                    <a:lnTo>
                      <a:pt x="3755" y="2753"/>
                    </a:lnTo>
                    <a:lnTo>
                      <a:pt x="3759" y="2750"/>
                    </a:lnTo>
                    <a:lnTo>
                      <a:pt x="3764" y="2746"/>
                    </a:lnTo>
                    <a:lnTo>
                      <a:pt x="3780" y="2744"/>
                    </a:lnTo>
                    <a:lnTo>
                      <a:pt x="3796" y="2743"/>
                    </a:lnTo>
                    <a:lnTo>
                      <a:pt x="3811" y="2743"/>
                    </a:lnTo>
                    <a:lnTo>
                      <a:pt x="3827" y="2745"/>
                    </a:lnTo>
                    <a:lnTo>
                      <a:pt x="3842" y="2747"/>
                    </a:lnTo>
                    <a:lnTo>
                      <a:pt x="3857" y="2752"/>
                    </a:lnTo>
                    <a:lnTo>
                      <a:pt x="3872" y="2757"/>
                    </a:lnTo>
                    <a:lnTo>
                      <a:pt x="3887" y="2763"/>
                    </a:lnTo>
                    <a:lnTo>
                      <a:pt x="3901" y="2771"/>
                    </a:lnTo>
                    <a:lnTo>
                      <a:pt x="3914" y="2779"/>
                    </a:lnTo>
                    <a:lnTo>
                      <a:pt x="3927" y="2789"/>
                    </a:lnTo>
                    <a:lnTo>
                      <a:pt x="3939" y="2799"/>
                    </a:lnTo>
                    <a:lnTo>
                      <a:pt x="3951" y="2810"/>
                    </a:lnTo>
                    <a:lnTo>
                      <a:pt x="3963" y="2822"/>
                    </a:lnTo>
                    <a:lnTo>
                      <a:pt x="3972" y="2835"/>
                    </a:lnTo>
                    <a:lnTo>
                      <a:pt x="3982" y="2848"/>
                    </a:lnTo>
                    <a:lnTo>
                      <a:pt x="3992" y="2846"/>
                    </a:lnTo>
                    <a:lnTo>
                      <a:pt x="4000" y="2842"/>
                    </a:lnTo>
                    <a:lnTo>
                      <a:pt x="4009" y="2839"/>
                    </a:lnTo>
                    <a:lnTo>
                      <a:pt x="4017" y="2835"/>
                    </a:lnTo>
                    <a:lnTo>
                      <a:pt x="4024" y="2830"/>
                    </a:lnTo>
                    <a:lnTo>
                      <a:pt x="4031" y="2824"/>
                    </a:lnTo>
                    <a:lnTo>
                      <a:pt x="4038" y="2819"/>
                    </a:lnTo>
                    <a:lnTo>
                      <a:pt x="4043" y="2812"/>
                    </a:lnTo>
                    <a:lnTo>
                      <a:pt x="4054" y="2809"/>
                    </a:lnTo>
                    <a:lnTo>
                      <a:pt x="4064" y="2805"/>
                    </a:lnTo>
                    <a:lnTo>
                      <a:pt x="4075" y="2801"/>
                    </a:lnTo>
                    <a:lnTo>
                      <a:pt x="4085" y="2795"/>
                    </a:lnTo>
                    <a:lnTo>
                      <a:pt x="4094" y="2789"/>
                    </a:lnTo>
                    <a:lnTo>
                      <a:pt x="4103" y="2783"/>
                    </a:lnTo>
                    <a:lnTo>
                      <a:pt x="4113" y="2776"/>
                    </a:lnTo>
                    <a:lnTo>
                      <a:pt x="4121" y="2769"/>
                    </a:lnTo>
                    <a:lnTo>
                      <a:pt x="4136" y="2762"/>
                    </a:lnTo>
                    <a:lnTo>
                      <a:pt x="4152" y="2756"/>
                    </a:lnTo>
                    <a:lnTo>
                      <a:pt x="4167" y="2749"/>
                    </a:lnTo>
                    <a:lnTo>
                      <a:pt x="4183" y="2743"/>
                    </a:lnTo>
                    <a:lnTo>
                      <a:pt x="4199" y="2736"/>
                    </a:lnTo>
                    <a:lnTo>
                      <a:pt x="4214" y="2729"/>
                    </a:lnTo>
                    <a:lnTo>
                      <a:pt x="4230" y="2722"/>
                    </a:lnTo>
                    <a:lnTo>
                      <a:pt x="4246" y="2715"/>
                    </a:lnTo>
                    <a:lnTo>
                      <a:pt x="4262" y="2708"/>
                    </a:lnTo>
                    <a:lnTo>
                      <a:pt x="4279" y="2701"/>
                    </a:lnTo>
                    <a:lnTo>
                      <a:pt x="4295" y="2695"/>
                    </a:lnTo>
                    <a:lnTo>
                      <a:pt x="4311" y="2689"/>
                    </a:lnTo>
                    <a:lnTo>
                      <a:pt x="4327" y="2683"/>
                    </a:lnTo>
                    <a:lnTo>
                      <a:pt x="4343" y="2678"/>
                    </a:lnTo>
                    <a:lnTo>
                      <a:pt x="4359" y="2672"/>
                    </a:lnTo>
                    <a:lnTo>
                      <a:pt x="4376" y="2668"/>
                    </a:lnTo>
                    <a:lnTo>
                      <a:pt x="4387" y="2669"/>
                    </a:lnTo>
                    <a:lnTo>
                      <a:pt x="4398" y="2669"/>
                    </a:lnTo>
                    <a:lnTo>
                      <a:pt x="4411" y="2668"/>
                    </a:lnTo>
                    <a:lnTo>
                      <a:pt x="4424" y="2668"/>
                    </a:lnTo>
                    <a:lnTo>
                      <a:pt x="4437" y="2669"/>
                    </a:lnTo>
                    <a:lnTo>
                      <a:pt x="4448" y="2672"/>
                    </a:lnTo>
                    <a:lnTo>
                      <a:pt x="4457" y="2680"/>
                    </a:lnTo>
                    <a:lnTo>
                      <a:pt x="4464" y="2691"/>
                    </a:lnTo>
                    <a:lnTo>
                      <a:pt x="4466" y="2714"/>
                    </a:lnTo>
                    <a:lnTo>
                      <a:pt x="4464" y="2737"/>
                    </a:lnTo>
                    <a:lnTo>
                      <a:pt x="4459" y="2756"/>
                    </a:lnTo>
                    <a:lnTo>
                      <a:pt x="4451" y="2775"/>
                    </a:lnTo>
                    <a:lnTo>
                      <a:pt x="4441" y="2791"/>
                    </a:lnTo>
                    <a:lnTo>
                      <a:pt x="4428" y="2807"/>
                    </a:lnTo>
                    <a:lnTo>
                      <a:pt x="4414" y="2821"/>
                    </a:lnTo>
                    <a:lnTo>
                      <a:pt x="4398" y="2834"/>
                    </a:lnTo>
                    <a:lnTo>
                      <a:pt x="4381" y="2847"/>
                    </a:lnTo>
                    <a:lnTo>
                      <a:pt x="4363" y="2858"/>
                    </a:lnTo>
                    <a:lnTo>
                      <a:pt x="4344" y="2869"/>
                    </a:lnTo>
                    <a:lnTo>
                      <a:pt x="4325" y="2881"/>
                    </a:lnTo>
                    <a:lnTo>
                      <a:pt x="4305" y="2892"/>
                    </a:lnTo>
                    <a:lnTo>
                      <a:pt x="4286" y="2903"/>
                    </a:lnTo>
                    <a:lnTo>
                      <a:pt x="4268" y="2915"/>
                    </a:lnTo>
                    <a:lnTo>
                      <a:pt x="4251" y="2927"/>
                    </a:lnTo>
                    <a:lnTo>
                      <a:pt x="4240" y="2925"/>
                    </a:lnTo>
                    <a:lnTo>
                      <a:pt x="4230" y="2926"/>
                    </a:lnTo>
                    <a:lnTo>
                      <a:pt x="4221" y="2929"/>
                    </a:lnTo>
                    <a:lnTo>
                      <a:pt x="4212" y="2933"/>
                    </a:lnTo>
                    <a:lnTo>
                      <a:pt x="4204" y="2939"/>
                    </a:lnTo>
                    <a:lnTo>
                      <a:pt x="4194" y="2944"/>
                    </a:lnTo>
                    <a:lnTo>
                      <a:pt x="4185" y="2948"/>
                    </a:lnTo>
                    <a:lnTo>
                      <a:pt x="4176" y="2951"/>
                    </a:lnTo>
                    <a:lnTo>
                      <a:pt x="4141" y="2965"/>
                    </a:lnTo>
                    <a:lnTo>
                      <a:pt x="4106" y="2978"/>
                    </a:lnTo>
                    <a:lnTo>
                      <a:pt x="4071" y="2989"/>
                    </a:lnTo>
                    <a:lnTo>
                      <a:pt x="4035" y="2999"/>
                    </a:lnTo>
                    <a:lnTo>
                      <a:pt x="3999" y="3008"/>
                    </a:lnTo>
                    <a:lnTo>
                      <a:pt x="3963" y="3015"/>
                    </a:lnTo>
                    <a:lnTo>
                      <a:pt x="3926" y="3023"/>
                    </a:lnTo>
                    <a:lnTo>
                      <a:pt x="3890" y="3028"/>
                    </a:lnTo>
                    <a:lnTo>
                      <a:pt x="3853" y="3034"/>
                    </a:lnTo>
                    <a:lnTo>
                      <a:pt x="3816" y="3038"/>
                    </a:lnTo>
                    <a:lnTo>
                      <a:pt x="3780" y="3042"/>
                    </a:lnTo>
                    <a:lnTo>
                      <a:pt x="3742" y="3045"/>
                    </a:lnTo>
                    <a:lnTo>
                      <a:pt x="3706" y="3048"/>
                    </a:lnTo>
                    <a:lnTo>
                      <a:pt x="3669" y="3051"/>
                    </a:lnTo>
                    <a:lnTo>
                      <a:pt x="3632" y="3053"/>
                    </a:lnTo>
                    <a:lnTo>
                      <a:pt x="3595" y="3055"/>
                    </a:lnTo>
                    <a:lnTo>
                      <a:pt x="3590" y="3049"/>
                    </a:lnTo>
                    <a:lnTo>
                      <a:pt x="3584" y="3049"/>
                    </a:lnTo>
                    <a:lnTo>
                      <a:pt x="3577" y="3053"/>
                    </a:lnTo>
                    <a:lnTo>
                      <a:pt x="3570" y="3055"/>
                    </a:lnTo>
                    <a:lnTo>
                      <a:pt x="3549" y="3053"/>
                    </a:lnTo>
                    <a:lnTo>
                      <a:pt x="3528" y="3051"/>
                    </a:lnTo>
                    <a:lnTo>
                      <a:pt x="3507" y="3050"/>
                    </a:lnTo>
                    <a:lnTo>
                      <a:pt x="3485" y="3049"/>
                    </a:lnTo>
                    <a:lnTo>
                      <a:pt x="3464" y="3048"/>
                    </a:lnTo>
                    <a:lnTo>
                      <a:pt x="3441" y="3048"/>
                    </a:lnTo>
                    <a:lnTo>
                      <a:pt x="3420" y="3048"/>
                    </a:lnTo>
                    <a:lnTo>
                      <a:pt x="3398" y="3048"/>
                    </a:lnTo>
                    <a:lnTo>
                      <a:pt x="3376" y="3049"/>
                    </a:lnTo>
                    <a:lnTo>
                      <a:pt x="3355" y="3050"/>
                    </a:lnTo>
                    <a:lnTo>
                      <a:pt x="3333" y="3052"/>
                    </a:lnTo>
                    <a:lnTo>
                      <a:pt x="3312" y="3054"/>
                    </a:lnTo>
                    <a:lnTo>
                      <a:pt x="3290" y="3057"/>
                    </a:lnTo>
                    <a:lnTo>
                      <a:pt x="3270" y="3060"/>
                    </a:lnTo>
                    <a:lnTo>
                      <a:pt x="3250" y="3065"/>
                    </a:lnTo>
                    <a:lnTo>
                      <a:pt x="3229" y="3069"/>
                    </a:lnTo>
                    <a:lnTo>
                      <a:pt x="3200" y="3088"/>
                    </a:lnTo>
                    <a:lnTo>
                      <a:pt x="3171" y="3106"/>
                    </a:lnTo>
                    <a:lnTo>
                      <a:pt x="3141" y="3124"/>
                    </a:lnTo>
                    <a:lnTo>
                      <a:pt x="3111" y="3141"/>
                    </a:lnTo>
                    <a:lnTo>
                      <a:pt x="3080" y="3157"/>
                    </a:lnTo>
                    <a:lnTo>
                      <a:pt x="3049" y="3173"/>
                    </a:lnTo>
                    <a:lnTo>
                      <a:pt x="3018" y="3186"/>
                    </a:lnTo>
                    <a:lnTo>
                      <a:pt x="2986" y="3200"/>
                    </a:lnTo>
                    <a:lnTo>
                      <a:pt x="2954" y="3213"/>
                    </a:lnTo>
                    <a:lnTo>
                      <a:pt x="2922" y="3226"/>
                    </a:lnTo>
                    <a:lnTo>
                      <a:pt x="2889" y="3238"/>
                    </a:lnTo>
                    <a:lnTo>
                      <a:pt x="2856" y="3250"/>
                    </a:lnTo>
                    <a:lnTo>
                      <a:pt x="2822" y="3260"/>
                    </a:lnTo>
                    <a:lnTo>
                      <a:pt x="2789" y="3271"/>
                    </a:lnTo>
                    <a:lnTo>
                      <a:pt x="2755" y="3280"/>
                    </a:lnTo>
                    <a:lnTo>
                      <a:pt x="2721" y="3290"/>
                    </a:lnTo>
                    <a:lnTo>
                      <a:pt x="2697" y="3295"/>
                    </a:lnTo>
                    <a:lnTo>
                      <a:pt x="2674" y="3300"/>
                    </a:lnTo>
                    <a:lnTo>
                      <a:pt x="2651" y="3304"/>
                    </a:lnTo>
                    <a:lnTo>
                      <a:pt x="2628" y="3307"/>
                    </a:lnTo>
                    <a:lnTo>
                      <a:pt x="2604" y="3311"/>
                    </a:lnTo>
                    <a:lnTo>
                      <a:pt x="2582" y="3314"/>
                    </a:lnTo>
                    <a:lnTo>
                      <a:pt x="2558" y="3317"/>
                    </a:lnTo>
                    <a:lnTo>
                      <a:pt x="2535" y="3319"/>
                    </a:lnTo>
                    <a:lnTo>
                      <a:pt x="2512" y="3321"/>
                    </a:lnTo>
                    <a:lnTo>
                      <a:pt x="2489" y="3322"/>
                    </a:lnTo>
                    <a:lnTo>
                      <a:pt x="2466" y="3323"/>
                    </a:lnTo>
                    <a:lnTo>
                      <a:pt x="2443" y="3323"/>
                    </a:lnTo>
                    <a:lnTo>
                      <a:pt x="2420" y="3324"/>
                    </a:lnTo>
                    <a:lnTo>
                      <a:pt x="2396" y="3323"/>
                    </a:lnTo>
                    <a:lnTo>
                      <a:pt x="2373" y="3323"/>
                    </a:lnTo>
                    <a:lnTo>
                      <a:pt x="2349" y="3322"/>
                    </a:lnTo>
                    <a:lnTo>
                      <a:pt x="2337" y="3339"/>
                    </a:lnTo>
                    <a:lnTo>
                      <a:pt x="2323" y="3355"/>
                    </a:lnTo>
                    <a:lnTo>
                      <a:pt x="2308" y="3370"/>
                    </a:lnTo>
                    <a:lnTo>
                      <a:pt x="2291" y="3382"/>
                    </a:lnTo>
                    <a:lnTo>
                      <a:pt x="2273" y="3394"/>
                    </a:lnTo>
                    <a:lnTo>
                      <a:pt x="2255" y="3403"/>
                    </a:lnTo>
                    <a:lnTo>
                      <a:pt x="2235" y="3412"/>
                    </a:lnTo>
                    <a:lnTo>
                      <a:pt x="2214" y="3419"/>
                    </a:lnTo>
                    <a:lnTo>
                      <a:pt x="2105" y="3409"/>
                    </a:lnTo>
                    <a:lnTo>
                      <a:pt x="2109" y="3426"/>
                    </a:lnTo>
                    <a:lnTo>
                      <a:pt x="2110" y="3442"/>
                    </a:lnTo>
                    <a:lnTo>
                      <a:pt x="2108" y="3458"/>
                    </a:lnTo>
                    <a:lnTo>
                      <a:pt x="2104" y="3475"/>
                    </a:lnTo>
                    <a:lnTo>
                      <a:pt x="2098" y="3491"/>
                    </a:lnTo>
                    <a:lnTo>
                      <a:pt x="2090" y="3507"/>
                    </a:lnTo>
                    <a:lnTo>
                      <a:pt x="2084" y="3522"/>
                    </a:lnTo>
                    <a:lnTo>
                      <a:pt x="2077" y="3538"/>
                    </a:lnTo>
                    <a:lnTo>
                      <a:pt x="2065" y="3551"/>
                    </a:lnTo>
                    <a:lnTo>
                      <a:pt x="2050" y="3562"/>
                    </a:lnTo>
                    <a:lnTo>
                      <a:pt x="2034" y="3569"/>
                    </a:lnTo>
                    <a:lnTo>
                      <a:pt x="2017" y="3575"/>
                    </a:lnTo>
                    <a:lnTo>
                      <a:pt x="2000" y="3582"/>
                    </a:lnTo>
                    <a:lnTo>
                      <a:pt x="1982" y="3587"/>
                    </a:lnTo>
                    <a:lnTo>
                      <a:pt x="1965" y="3594"/>
                    </a:lnTo>
                    <a:lnTo>
                      <a:pt x="1948" y="3602"/>
                    </a:lnTo>
                    <a:lnTo>
                      <a:pt x="1935" y="3614"/>
                    </a:lnTo>
                    <a:lnTo>
                      <a:pt x="1923" y="3626"/>
                    </a:lnTo>
                    <a:lnTo>
                      <a:pt x="1910" y="3636"/>
                    </a:lnTo>
                    <a:lnTo>
                      <a:pt x="1897" y="3648"/>
                    </a:lnTo>
                    <a:lnTo>
                      <a:pt x="1885" y="3659"/>
                    </a:lnTo>
                    <a:lnTo>
                      <a:pt x="1872" y="3669"/>
                    </a:lnTo>
                    <a:lnTo>
                      <a:pt x="1859" y="3679"/>
                    </a:lnTo>
                    <a:lnTo>
                      <a:pt x="1846" y="3689"/>
                    </a:lnTo>
                    <a:lnTo>
                      <a:pt x="1832" y="3698"/>
                    </a:lnTo>
                    <a:lnTo>
                      <a:pt x="1818" y="3707"/>
                    </a:lnTo>
                    <a:lnTo>
                      <a:pt x="1804" y="3714"/>
                    </a:lnTo>
                    <a:lnTo>
                      <a:pt x="1789" y="3722"/>
                    </a:lnTo>
                    <a:lnTo>
                      <a:pt x="1774" y="3728"/>
                    </a:lnTo>
                    <a:lnTo>
                      <a:pt x="1759" y="3735"/>
                    </a:lnTo>
                    <a:lnTo>
                      <a:pt x="1743" y="3740"/>
                    </a:lnTo>
                    <a:lnTo>
                      <a:pt x="1726" y="3744"/>
                    </a:lnTo>
                    <a:lnTo>
                      <a:pt x="1717" y="3758"/>
                    </a:lnTo>
                    <a:lnTo>
                      <a:pt x="1711" y="3771"/>
                    </a:lnTo>
                    <a:lnTo>
                      <a:pt x="1708" y="3786"/>
                    </a:lnTo>
                    <a:lnTo>
                      <a:pt x="1711" y="3802"/>
                    </a:lnTo>
                    <a:lnTo>
                      <a:pt x="1693" y="3817"/>
                    </a:lnTo>
                    <a:lnTo>
                      <a:pt x="1675" y="3831"/>
                    </a:lnTo>
                    <a:lnTo>
                      <a:pt x="1655" y="3843"/>
                    </a:lnTo>
                    <a:lnTo>
                      <a:pt x="1636" y="3853"/>
                    </a:lnTo>
                    <a:lnTo>
                      <a:pt x="1616" y="3863"/>
                    </a:lnTo>
                    <a:lnTo>
                      <a:pt x="1594" y="3871"/>
                    </a:lnTo>
                    <a:lnTo>
                      <a:pt x="1573" y="3880"/>
                    </a:lnTo>
                    <a:lnTo>
                      <a:pt x="1552" y="3887"/>
                    </a:lnTo>
                    <a:lnTo>
                      <a:pt x="1530" y="3894"/>
                    </a:lnTo>
                    <a:lnTo>
                      <a:pt x="1508" y="3900"/>
                    </a:lnTo>
                    <a:lnTo>
                      <a:pt x="1486" y="3907"/>
                    </a:lnTo>
                    <a:lnTo>
                      <a:pt x="1464" y="3913"/>
                    </a:lnTo>
                    <a:lnTo>
                      <a:pt x="1442" y="3919"/>
                    </a:lnTo>
                    <a:lnTo>
                      <a:pt x="1421" y="3927"/>
                    </a:lnTo>
                    <a:lnTo>
                      <a:pt x="1399" y="3934"/>
                    </a:lnTo>
                    <a:lnTo>
                      <a:pt x="1378" y="3942"/>
                    </a:lnTo>
                    <a:lnTo>
                      <a:pt x="1362" y="3944"/>
                    </a:lnTo>
                    <a:lnTo>
                      <a:pt x="1346" y="3947"/>
                    </a:lnTo>
                    <a:lnTo>
                      <a:pt x="1329" y="3952"/>
                    </a:lnTo>
                    <a:lnTo>
                      <a:pt x="1312" y="3954"/>
                    </a:lnTo>
                    <a:lnTo>
                      <a:pt x="1295" y="3955"/>
                    </a:lnTo>
                    <a:lnTo>
                      <a:pt x="1279" y="3954"/>
                    </a:lnTo>
                    <a:lnTo>
                      <a:pt x="1265" y="3947"/>
                    </a:lnTo>
                    <a:lnTo>
                      <a:pt x="1253" y="3937"/>
                    </a:lnTo>
                    <a:lnTo>
                      <a:pt x="1251" y="3928"/>
                    </a:lnTo>
                    <a:lnTo>
                      <a:pt x="1249" y="3918"/>
                    </a:lnTo>
                    <a:lnTo>
                      <a:pt x="1246" y="3910"/>
                    </a:lnTo>
                    <a:lnTo>
                      <a:pt x="1240" y="3901"/>
                    </a:lnTo>
                    <a:lnTo>
                      <a:pt x="1234" y="3915"/>
                    </a:lnTo>
                    <a:lnTo>
                      <a:pt x="1226" y="3928"/>
                    </a:lnTo>
                    <a:lnTo>
                      <a:pt x="1217" y="3942"/>
                    </a:lnTo>
                    <a:lnTo>
                      <a:pt x="1209" y="3955"/>
                    </a:lnTo>
                    <a:lnTo>
                      <a:pt x="1199" y="3967"/>
                    </a:lnTo>
                    <a:lnTo>
                      <a:pt x="1190" y="3979"/>
                    </a:lnTo>
                    <a:lnTo>
                      <a:pt x="1179" y="3990"/>
                    </a:lnTo>
                    <a:lnTo>
                      <a:pt x="1168" y="4002"/>
                    </a:lnTo>
                    <a:lnTo>
                      <a:pt x="1156" y="4012"/>
                    </a:lnTo>
                    <a:lnTo>
                      <a:pt x="1145" y="4023"/>
                    </a:lnTo>
                    <a:lnTo>
                      <a:pt x="1132" y="4033"/>
                    </a:lnTo>
                    <a:lnTo>
                      <a:pt x="1120" y="4042"/>
                    </a:lnTo>
                    <a:lnTo>
                      <a:pt x="1107" y="4051"/>
                    </a:lnTo>
                    <a:lnTo>
                      <a:pt x="1094" y="4058"/>
                    </a:lnTo>
                    <a:lnTo>
                      <a:pt x="1080" y="4067"/>
                    </a:lnTo>
                    <a:lnTo>
                      <a:pt x="1068" y="4073"/>
                    </a:lnTo>
                    <a:lnTo>
                      <a:pt x="1052" y="4077"/>
                    </a:lnTo>
                    <a:lnTo>
                      <a:pt x="1035" y="4081"/>
                    </a:lnTo>
                    <a:lnTo>
                      <a:pt x="1019" y="4085"/>
                    </a:lnTo>
                    <a:lnTo>
                      <a:pt x="1003" y="4089"/>
                    </a:lnTo>
                    <a:lnTo>
                      <a:pt x="987" y="4093"/>
                    </a:lnTo>
                    <a:lnTo>
                      <a:pt x="971" y="4097"/>
                    </a:lnTo>
                    <a:lnTo>
                      <a:pt x="955" y="4100"/>
                    </a:lnTo>
                    <a:lnTo>
                      <a:pt x="938" y="4102"/>
                    </a:lnTo>
                    <a:lnTo>
                      <a:pt x="927" y="4101"/>
                    </a:lnTo>
                    <a:lnTo>
                      <a:pt x="917" y="4102"/>
                    </a:lnTo>
                    <a:lnTo>
                      <a:pt x="906" y="4102"/>
                    </a:lnTo>
                    <a:lnTo>
                      <a:pt x="894" y="4103"/>
                    </a:lnTo>
                    <a:lnTo>
                      <a:pt x="882" y="4105"/>
                    </a:lnTo>
                    <a:lnTo>
                      <a:pt x="871" y="4106"/>
                    </a:lnTo>
                    <a:lnTo>
                      <a:pt x="859" y="4108"/>
                    </a:lnTo>
                    <a:lnTo>
                      <a:pt x="847" y="4109"/>
                    </a:lnTo>
                    <a:lnTo>
                      <a:pt x="835" y="4110"/>
                    </a:lnTo>
                    <a:lnTo>
                      <a:pt x="823" y="4110"/>
                    </a:lnTo>
                    <a:lnTo>
                      <a:pt x="813" y="4109"/>
                    </a:lnTo>
                    <a:lnTo>
                      <a:pt x="801" y="4106"/>
                    </a:lnTo>
                    <a:lnTo>
                      <a:pt x="790" y="4104"/>
                    </a:lnTo>
                    <a:lnTo>
                      <a:pt x="781" y="4100"/>
                    </a:lnTo>
                    <a:lnTo>
                      <a:pt x="771" y="4095"/>
                    </a:lnTo>
                    <a:lnTo>
                      <a:pt x="762" y="4087"/>
                    </a:lnTo>
                    <a:lnTo>
                      <a:pt x="762" y="4073"/>
                    </a:lnTo>
                    <a:lnTo>
                      <a:pt x="766" y="4059"/>
                    </a:lnTo>
                    <a:lnTo>
                      <a:pt x="771" y="4049"/>
                    </a:lnTo>
                    <a:lnTo>
                      <a:pt x="779" y="4038"/>
                    </a:lnTo>
                    <a:lnTo>
                      <a:pt x="786" y="4028"/>
                    </a:lnTo>
                    <a:lnTo>
                      <a:pt x="795" y="4019"/>
                    </a:lnTo>
                    <a:lnTo>
                      <a:pt x="803" y="4010"/>
                    </a:lnTo>
                    <a:lnTo>
                      <a:pt x="810" y="4002"/>
                    </a:lnTo>
                    <a:lnTo>
                      <a:pt x="799" y="4003"/>
                    </a:lnTo>
                    <a:lnTo>
                      <a:pt x="789" y="4006"/>
                    </a:lnTo>
                    <a:lnTo>
                      <a:pt x="780" y="4010"/>
                    </a:lnTo>
                    <a:lnTo>
                      <a:pt x="770" y="4016"/>
                    </a:lnTo>
                    <a:lnTo>
                      <a:pt x="760" y="4022"/>
                    </a:lnTo>
                    <a:lnTo>
                      <a:pt x="750" y="4026"/>
                    </a:lnTo>
                    <a:lnTo>
                      <a:pt x="739" y="4030"/>
                    </a:lnTo>
                    <a:lnTo>
                      <a:pt x="727" y="4031"/>
                    </a:lnTo>
                    <a:lnTo>
                      <a:pt x="711" y="4033"/>
                    </a:lnTo>
                    <a:lnTo>
                      <a:pt x="696" y="4034"/>
                    </a:lnTo>
                    <a:lnTo>
                      <a:pt x="680" y="4036"/>
                    </a:lnTo>
                    <a:lnTo>
                      <a:pt x="664" y="4037"/>
                    </a:lnTo>
                    <a:lnTo>
                      <a:pt x="647" y="4038"/>
                    </a:lnTo>
                    <a:lnTo>
                      <a:pt x="631" y="4038"/>
                    </a:lnTo>
                    <a:lnTo>
                      <a:pt x="615" y="4039"/>
                    </a:lnTo>
                    <a:lnTo>
                      <a:pt x="598" y="4039"/>
                    </a:lnTo>
                    <a:lnTo>
                      <a:pt x="580" y="4039"/>
                    </a:lnTo>
                    <a:lnTo>
                      <a:pt x="564" y="4038"/>
                    </a:lnTo>
                    <a:lnTo>
                      <a:pt x="547" y="4037"/>
                    </a:lnTo>
                    <a:lnTo>
                      <a:pt x="531" y="4036"/>
                    </a:lnTo>
                    <a:lnTo>
                      <a:pt x="514" y="4034"/>
                    </a:lnTo>
                    <a:lnTo>
                      <a:pt x="498" y="4032"/>
                    </a:lnTo>
                    <a:lnTo>
                      <a:pt x="481" y="4030"/>
                    </a:lnTo>
                    <a:lnTo>
                      <a:pt x="465" y="4026"/>
                    </a:lnTo>
                    <a:lnTo>
                      <a:pt x="448" y="4026"/>
                    </a:lnTo>
                    <a:lnTo>
                      <a:pt x="431" y="4025"/>
                    </a:lnTo>
                    <a:lnTo>
                      <a:pt x="414" y="4022"/>
                    </a:lnTo>
                    <a:lnTo>
                      <a:pt x="399" y="4018"/>
                    </a:lnTo>
                    <a:lnTo>
                      <a:pt x="383" y="4012"/>
                    </a:lnTo>
                    <a:lnTo>
                      <a:pt x="368" y="4007"/>
                    </a:lnTo>
                    <a:lnTo>
                      <a:pt x="353" y="4002"/>
                    </a:lnTo>
                    <a:lnTo>
                      <a:pt x="337" y="3997"/>
                    </a:lnTo>
                    <a:lnTo>
                      <a:pt x="330" y="3986"/>
                    </a:lnTo>
                    <a:lnTo>
                      <a:pt x="325" y="3975"/>
                    </a:lnTo>
                    <a:lnTo>
                      <a:pt x="323" y="3963"/>
                    </a:lnTo>
                    <a:lnTo>
                      <a:pt x="330" y="3952"/>
                    </a:lnTo>
                    <a:lnTo>
                      <a:pt x="345" y="3945"/>
                    </a:lnTo>
                    <a:lnTo>
                      <a:pt x="360" y="3941"/>
                    </a:lnTo>
                    <a:lnTo>
                      <a:pt x="376" y="3936"/>
                    </a:lnTo>
                    <a:lnTo>
                      <a:pt x="391" y="3930"/>
                    </a:lnTo>
                    <a:lnTo>
                      <a:pt x="407" y="3925"/>
                    </a:lnTo>
                    <a:lnTo>
                      <a:pt x="421" y="3918"/>
                    </a:lnTo>
                    <a:lnTo>
                      <a:pt x="435" y="3911"/>
                    </a:lnTo>
                    <a:lnTo>
                      <a:pt x="448" y="3901"/>
                    </a:lnTo>
                    <a:lnTo>
                      <a:pt x="446" y="3898"/>
                    </a:lnTo>
                    <a:lnTo>
                      <a:pt x="443" y="3896"/>
                    </a:lnTo>
                    <a:lnTo>
                      <a:pt x="440" y="3894"/>
                    </a:lnTo>
                    <a:lnTo>
                      <a:pt x="437" y="3894"/>
                    </a:lnTo>
                    <a:lnTo>
                      <a:pt x="425" y="3897"/>
                    </a:lnTo>
                    <a:lnTo>
                      <a:pt x="412" y="3898"/>
                    </a:lnTo>
                    <a:lnTo>
                      <a:pt x="398" y="3896"/>
                    </a:lnTo>
                    <a:lnTo>
                      <a:pt x="383" y="3893"/>
                    </a:lnTo>
                    <a:lnTo>
                      <a:pt x="368" y="3890"/>
                    </a:lnTo>
                    <a:lnTo>
                      <a:pt x="353" y="3885"/>
                    </a:lnTo>
                    <a:lnTo>
                      <a:pt x="338" y="3882"/>
                    </a:lnTo>
                    <a:lnTo>
                      <a:pt x="322" y="3881"/>
                    </a:lnTo>
                    <a:lnTo>
                      <a:pt x="298" y="3874"/>
                    </a:lnTo>
                    <a:lnTo>
                      <a:pt x="274" y="3865"/>
                    </a:lnTo>
                    <a:lnTo>
                      <a:pt x="251" y="3856"/>
                    </a:lnTo>
                    <a:lnTo>
                      <a:pt x="227" y="3847"/>
                    </a:lnTo>
                    <a:lnTo>
                      <a:pt x="204" y="3837"/>
                    </a:lnTo>
                    <a:lnTo>
                      <a:pt x="181" y="3827"/>
                    </a:lnTo>
                    <a:lnTo>
                      <a:pt x="159" y="3815"/>
                    </a:lnTo>
                    <a:lnTo>
                      <a:pt x="137" y="3802"/>
                    </a:lnTo>
                    <a:lnTo>
                      <a:pt x="116" y="3789"/>
                    </a:lnTo>
                    <a:lnTo>
                      <a:pt x="97" y="3774"/>
                    </a:lnTo>
                    <a:lnTo>
                      <a:pt x="77" y="3758"/>
                    </a:lnTo>
                    <a:lnTo>
                      <a:pt x="59" y="3741"/>
                    </a:lnTo>
                    <a:lnTo>
                      <a:pt x="42" y="3723"/>
                    </a:lnTo>
                    <a:lnTo>
                      <a:pt x="27" y="3703"/>
                    </a:lnTo>
                    <a:lnTo>
                      <a:pt x="13" y="3681"/>
                    </a:lnTo>
                    <a:lnTo>
                      <a:pt x="0" y="3658"/>
                    </a:lnTo>
                    <a:lnTo>
                      <a:pt x="0" y="3642"/>
                    </a:lnTo>
                    <a:lnTo>
                      <a:pt x="3" y="3628"/>
                    </a:lnTo>
                    <a:lnTo>
                      <a:pt x="10" y="3615"/>
                    </a:lnTo>
                    <a:lnTo>
                      <a:pt x="22" y="3604"/>
                    </a:lnTo>
                    <a:lnTo>
                      <a:pt x="44" y="3603"/>
                    </a:lnTo>
                    <a:lnTo>
                      <a:pt x="65" y="3605"/>
                    </a:lnTo>
                    <a:lnTo>
                      <a:pt x="87" y="3611"/>
                    </a:lnTo>
                    <a:lnTo>
                      <a:pt x="107" y="3618"/>
                    </a:lnTo>
                    <a:lnTo>
                      <a:pt x="128" y="3627"/>
                    </a:lnTo>
                    <a:lnTo>
                      <a:pt x="148" y="3636"/>
                    </a:lnTo>
                    <a:lnTo>
                      <a:pt x="167" y="3645"/>
                    </a:lnTo>
                    <a:lnTo>
                      <a:pt x="186" y="3652"/>
                    </a:lnTo>
                    <a:lnTo>
                      <a:pt x="192" y="3661"/>
                    </a:lnTo>
                    <a:lnTo>
                      <a:pt x="198" y="3667"/>
                    </a:lnTo>
                    <a:lnTo>
                      <a:pt x="207" y="3672"/>
                    </a:lnTo>
                    <a:lnTo>
                      <a:pt x="215" y="3675"/>
                    </a:lnTo>
                    <a:lnTo>
                      <a:pt x="225" y="3678"/>
                    </a:lnTo>
                    <a:lnTo>
                      <a:pt x="234" y="3682"/>
                    </a:lnTo>
                    <a:lnTo>
                      <a:pt x="241" y="3688"/>
                    </a:lnTo>
                    <a:lnTo>
                      <a:pt x="247" y="3695"/>
                    </a:lnTo>
                    <a:lnTo>
                      <a:pt x="255" y="3697"/>
                    </a:lnTo>
                    <a:lnTo>
                      <a:pt x="264" y="3699"/>
                    </a:lnTo>
                    <a:lnTo>
                      <a:pt x="271" y="3702"/>
                    </a:lnTo>
                    <a:lnTo>
                      <a:pt x="279" y="3705"/>
                    </a:lnTo>
                    <a:lnTo>
                      <a:pt x="286" y="3708"/>
                    </a:lnTo>
                    <a:lnTo>
                      <a:pt x="292" y="3710"/>
                    </a:lnTo>
                    <a:lnTo>
                      <a:pt x="300" y="3713"/>
                    </a:lnTo>
                    <a:lnTo>
                      <a:pt x="307" y="3715"/>
                    </a:lnTo>
                    <a:lnTo>
                      <a:pt x="305" y="3699"/>
                    </a:lnTo>
                    <a:lnTo>
                      <a:pt x="301" y="3684"/>
                    </a:lnTo>
                    <a:lnTo>
                      <a:pt x="294" y="3672"/>
                    </a:lnTo>
                    <a:lnTo>
                      <a:pt x="286" y="3658"/>
                    </a:lnTo>
                    <a:lnTo>
                      <a:pt x="279" y="3644"/>
                    </a:lnTo>
                    <a:lnTo>
                      <a:pt x="272" y="3630"/>
                    </a:lnTo>
                    <a:lnTo>
                      <a:pt x="267" y="3613"/>
                    </a:lnTo>
                    <a:lnTo>
                      <a:pt x="266" y="3595"/>
                    </a:lnTo>
                    <a:lnTo>
                      <a:pt x="268" y="3587"/>
                    </a:lnTo>
                    <a:lnTo>
                      <a:pt x="271" y="3581"/>
                    </a:lnTo>
                    <a:lnTo>
                      <a:pt x="274" y="3573"/>
                    </a:lnTo>
                    <a:lnTo>
                      <a:pt x="279" y="3567"/>
                    </a:lnTo>
                    <a:lnTo>
                      <a:pt x="284" y="3560"/>
                    </a:lnTo>
                    <a:lnTo>
                      <a:pt x="289" y="3555"/>
                    </a:lnTo>
                    <a:lnTo>
                      <a:pt x="295" y="3551"/>
                    </a:lnTo>
                    <a:lnTo>
                      <a:pt x="301" y="3548"/>
                    </a:lnTo>
                    <a:lnTo>
                      <a:pt x="314" y="3551"/>
                    </a:lnTo>
                    <a:lnTo>
                      <a:pt x="326" y="3556"/>
                    </a:lnTo>
                    <a:lnTo>
                      <a:pt x="336" y="3564"/>
                    </a:lnTo>
                    <a:lnTo>
                      <a:pt x="346" y="3571"/>
                    </a:lnTo>
                    <a:lnTo>
                      <a:pt x="357" y="3580"/>
                    </a:lnTo>
                    <a:lnTo>
                      <a:pt x="366" y="3588"/>
                    </a:lnTo>
                    <a:lnTo>
                      <a:pt x="378" y="3596"/>
                    </a:lnTo>
                    <a:lnTo>
                      <a:pt x="391" y="3602"/>
                    </a:lnTo>
                    <a:lnTo>
                      <a:pt x="404" y="3611"/>
                    </a:lnTo>
                    <a:lnTo>
                      <a:pt x="417" y="3619"/>
                    </a:lnTo>
                    <a:lnTo>
                      <a:pt x="431" y="3628"/>
                    </a:lnTo>
                    <a:lnTo>
                      <a:pt x="443" y="3636"/>
                    </a:lnTo>
                    <a:lnTo>
                      <a:pt x="456" y="3645"/>
                    </a:lnTo>
                    <a:lnTo>
                      <a:pt x="470" y="3653"/>
                    </a:lnTo>
                    <a:lnTo>
                      <a:pt x="484" y="3661"/>
                    </a:lnTo>
                    <a:lnTo>
                      <a:pt x="498" y="3667"/>
                    </a:lnTo>
                    <a:lnTo>
                      <a:pt x="512" y="3675"/>
                    </a:lnTo>
                    <a:lnTo>
                      <a:pt x="526" y="3680"/>
                    </a:lnTo>
                    <a:lnTo>
                      <a:pt x="540" y="3685"/>
                    </a:lnTo>
                    <a:lnTo>
                      <a:pt x="555" y="3690"/>
                    </a:lnTo>
                    <a:lnTo>
                      <a:pt x="570" y="3694"/>
                    </a:lnTo>
                    <a:lnTo>
                      <a:pt x="585" y="3696"/>
                    </a:lnTo>
                    <a:lnTo>
                      <a:pt x="601" y="3698"/>
                    </a:lnTo>
                    <a:lnTo>
                      <a:pt x="617" y="3698"/>
                    </a:lnTo>
                    <a:lnTo>
                      <a:pt x="610" y="3689"/>
                    </a:lnTo>
                    <a:lnTo>
                      <a:pt x="603" y="3679"/>
                    </a:lnTo>
                    <a:lnTo>
                      <a:pt x="596" y="3669"/>
                    </a:lnTo>
                    <a:lnTo>
                      <a:pt x="594" y="3658"/>
                    </a:lnTo>
                    <a:lnTo>
                      <a:pt x="608" y="3646"/>
                    </a:lnTo>
                    <a:lnTo>
                      <a:pt x="622" y="3635"/>
                    </a:lnTo>
                    <a:lnTo>
                      <a:pt x="637" y="3626"/>
                    </a:lnTo>
                    <a:lnTo>
                      <a:pt x="653" y="3618"/>
                    </a:lnTo>
                    <a:lnTo>
                      <a:pt x="670" y="3611"/>
                    </a:lnTo>
                    <a:lnTo>
                      <a:pt x="688" y="3604"/>
                    </a:lnTo>
                    <a:lnTo>
                      <a:pt x="706" y="3599"/>
                    </a:lnTo>
                    <a:lnTo>
                      <a:pt x="724" y="3594"/>
                    </a:lnTo>
                    <a:lnTo>
                      <a:pt x="742" y="3588"/>
                    </a:lnTo>
                    <a:lnTo>
                      <a:pt x="760" y="3583"/>
                    </a:lnTo>
                    <a:lnTo>
                      <a:pt x="779" y="3578"/>
                    </a:lnTo>
                    <a:lnTo>
                      <a:pt x="796" y="3571"/>
                    </a:lnTo>
                    <a:lnTo>
                      <a:pt x="814" y="3565"/>
                    </a:lnTo>
                    <a:lnTo>
                      <a:pt x="831" y="3556"/>
                    </a:lnTo>
                    <a:lnTo>
                      <a:pt x="847" y="3548"/>
                    </a:lnTo>
                    <a:lnTo>
                      <a:pt x="863" y="3538"/>
                    </a:lnTo>
                    <a:lnTo>
                      <a:pt x="873" y="3532"/>
                    </a:lnTo>
                    <a:lnTo>
                      <a:pt x="883" y="3526"/>
                    </a:lnTo>
                    <a:lnTo>
                      <a:pt x="894" y="3522"/>
                    </a:lnTo>
                    <a:lnTo>
                      <a:pt x="905" y="3518"/>
                    </a:lnTo>
                    <a:lnTo>
                      <a:pt x="916" y="3515"/>
                    </a:lnTo>
                    <a:lnTo>
                      <a:pt x="926" y="3511"/>
                    </a:lnTo>
                    <a:lnTo>
                      <a:pt x="938" y="3508"/>
                    </a:lnTo>
                    <a:lnTo>
                      <a:pt x="949" y="3505"/>
                    </a:lnTo>
                    <a:lnTo>
                      <a:pt x="980" y="3493"/>
                    </a:lnTo>
                    <a:lnTo>
                      <a:pt x="1010" y="3479"/>
                    </a:lnTo>
                    <a:lnTo>
                      <a:pt x="1039" y="3465"/>
                    </a:lnTo>
                    <a:lnTo>
                      <a:pt x="1069" y="3450"/>
                    </a:lnTo>
                    <a:lnTo>
                      <a:pt x="1098" y="3434"/>
                    </a:lnTo>
                    <a:lnTo>
                      <a:pt x="1125" y="3418"/>
                    </a:lnTo>
                    <a:lnTo>
                      <a:pt x="1154" y="3401"/>
                    </a:lnTo>
                    <a:lnTo>
                      <a:pt x="1182" y="3384"/>
                    </a:lnTo>
                    <a:lnTo>
                      <a:pt x="1211" y="3366"/>
                    </a:lnTo>
                    <a:lnTo>
                      <a:pt x="1239" y="3348"/>
                    </a:lnTo>
                    <a:lnTo>
                      <a:pt x="1267" y="3331"/>
                    </a:lnTo>
                    <a:lnTo>
                      <a:pt x="1296" y="3313"/>
                    </a:lnTo>
                    <a:lnTo>
                      <a:pt x="1323" y="3294"/>
                    </a:lnTo>
                    <a:lnTo>
                      <a:pt x="1352" y="3277"/>
                    </a:lnTo>
                    <a:lnTo>
                      <a:pt x="1381" y="3260"/>
                    </a:lnTo>
                    <a:lnTo>
                      <a:pt x="1411" y="3244"/>
                    </a:lnTo>
                    <a:lnTo>
                      <a:pt x="1427" y="3229"/>
                    </a:lnTo>
                    <a:lnTo>
                      <a:pt x="1444" y="3217"/>
                    </a:lnTo>
                    <a:lnTo>
                      <a:pt x="1463" y="3206"/>
                    </a:lnTo>
                    <a:lnTo>
                      <a:pt x="1481" y="3196"/>
                    </a:lnTo>
                    <a:lnTo>
                      <a:pt x="1499" y="3188"/>
                    </a:lnTo>
                    <a:lnTo>
                      <a:pt x="1518" y="3180"/>
                    </a:lnTo>
                    <a:lnTo>
                      <a:pt x="1538" y="3175"/>
                    </a:lnTo>
                    <a:lnTo>
                      <a:pt x="1558" y="3169"/>
                    </a:lnTo>
                    <a:lnTo>
                      <a:pt x="1578" y="3164"/>
                    </a:lnTo>
                    <a:lnTo>
                      <a:pt x="1599" y="3161"/>
                    </a:lnTo>
                    <a:lnTo>
                      <a:pt x="1619" y="3157"/>
                    </a:lnTo>
                    <a:lnTo>
                      <a:pt x="1640" y="3153"/>
                    </a:lnTo>
                    <a:lnTo>
                      <a:pt x="1662" y="3150"/>
                    </a:lnTo>
                    <a:lnTo>
                      <a:pt x="1683" y="3147"/>
                    </a:lnTo>
                    <a:lnTo>
                      <a:pt x="1705" y="3144"/>
                    </a:lnTo>
                    <a:lnTo>
                      <a:pt x="1726" y="3141"/>
                    </a:lnTo>
                    <a:lnTo>
                      <a:pt x="1737" y="3141"/>
                    </a:lnTo>
                    <a:lnTo>
                      <a:pt x="1749" y="3141"/>
                    </a:lnTo>
                    <a:lnTo>
                      <a:pt x="1760" y="3141"/>
                    </a:lnTo>
                    <a:lnTo>
                      <a:pt x="1772" y="3139"/>
                    </a:lnTo>
                    <a:lnTo>
                      <a:pt x="1785" y="3139"/>
                    </a:lnTo>
                    <a:lnTo>
                      <a:pt x="1797" y="3138"/>
                    </a:lnTo>
                    <a:lnTo>
                      <a:pt x="1810" y="3137"/>
                    </a:lnTo>
                    <a:lnTo>
                      <a:pt x="1822" y="3136"/>
                    </a:lnTo>
                    <a:lnTo>
                      <a:pt x="1835" y="3135"/>
                    </a:lnTo>
                    <a:lnTo>
                      <a:pt x="1847" y="3133"/>
                    </a:lnTo>
                    <a:lnTo>
                      <a:pt x="1860" y="3132"/>
                    </a:lnTo>
                    <a:lnTo>
                      <a:pt x="1873" y="3131"/>
                    </a:lnTo>
                    <a:lnTo>
                      <a:pt x="1885" y="3130"/>
                    </a:lnTo>
                    <a:lnTo>
                      <a:pt x="1896" y="3129"/>
                    </a:lnTo>
                    <a:lnTo>
                      <a:pt x="1908" y="3128"/>
                    </a:lnTo>
                    <a:lnTo>
                      <a:pt x="1920" y="3127"/>
                    </a:lnTo>
                    <a:lnTo>
                      <a:pt x="1920" y="3115"/>
                    </a:lnTo>
                    <a:lnTo>
                      <a:pt x="1908" y="3108"/>
                    </a:lnTo>
                    <a:lnTo>
                      <a:pt x="1895" y="3101"/>
                    </a:lnTo>
                    <a:lnTo>
                      <a:pt x="1883" y="3093"/>
                    </a:lnTo>
                    <a:lnTo>
                      <a:pt x="1873" y="3085"/>
                    </a:lnTo>
                    <a:lnTo>
                      <a:pt x="1861" y="3077"/>
                    </a:lnTo>
                    <a:lnTo>
                      <a:pt x="1849" y="3069"/>
                    </a:lnTo>
                    <a:lnTo>
                      <a:pt x="1837" y="3060"/>
                    </a:lnTo>
                    <a:lnTo>
                      <a:pt x="1826" y="3053"/>
                    </a:lnTo>
                    <a:lnTo>
                      <a:pt x="1814" y="3045"/>
                    </a:lnTo>
                    <a:lnTo>
                      <a:pt x="1801" y="3039"/>
                    </a:lnTo>
                    <a:lnTo>
                      <a:pt x="1788" y="3034"/>
                    </a:lnTo>
                    <a:lnTo>
                      <a:pt x="1775" y="3029"/>
                    </a:lnTo>
                    <a:lnTo>
                      <a:pt x="1761" y="3027"/>
                    </a:lnTo>
                    <a:lnTo>
                      <a:pt x="1746" y="3026"/>
                    </a:lnTo>
                    <a:lnTo>
                      <a:pt x="1731" y="3027"/>
                    </a:lnTo>
                    <a:lnTo>
                      <a:pt x="1715" y="3030"/>
                    </a:lnTo>
                    <a:lnTo>
                      <a:pt x="1695" y="3036"/>
                    </a:lnTo>
                    <a:lnTo>
                      <a:pt x="1676" y="3042"/>
                    </a:lnTo>
                    <a:lnTo>
                      <a:pt x="1656" y="3049"/>
                    </a:lnTo>
                    <a:lnTo>
                      <a:pt x="1637" y="3056"/>
                    </a:lnTo>
                    <a:lnTo>
                      <a:pt x="1619" y="3066"/>
                    </a:lnTo>
                    <a:lnTo>
                      <a:pt x="1602" y="3076"/>
                    </a:lnTo>
                    <a:lnTo>
                      <a:pt x="1585" y="3089"/>
                    </a:lnTo>
                    <a:lnTo>
                      <a:pt x="1569" y="3104"/>
                    </a:lnTo>
                    <a:lnTo>
                      <a:pt x="1559" y="3101"/>
                    </a:lnTo>
                    <a:lnTo>
                      <a:pt x="1556" y="3092"/>
                    </a:lnTo>
                    <a:lnTo>
                      <a:pt x="1554" y="3083"/>
                    </a:lnTo>
                    <a:lnTo>
                      <a:pt x="1550" y="3073"/>
                    </a:lnTo>
                    <a:lnTo>
                      <a:pt x="1557" y="3061"/>
                    </a:lnTo>
                    <a:lnTo>
                      <a:pt x="1560" y="3046"/>
                    </a:lnTo>
                    <a:lnTo>
                      <a:pt x="1563" y="3030"/>
                    </a:lnTo>
                    <a:lnTo>
                      <a:pt x="1565" y="3015"/>
                    </a:lnTo>
                    <a:lnTo>
                      <a:pt x="1570" y="3002"/>
                    </a:lnTo>
                    <a:lnTo>
                      <a:pt x="1574" y="2990"/>
                    </a:lnTo>
                    <a:lnTo>
                      <a:pt x="1578" y="2978"/>
                    </a:lnTo>
                    <a:lnTo>
                      <a:pt x="1584" y="2966"/>
                    </a:lnTo>
                    <a:lnTo>
                      <a:pt x="1590" y="2956"/>
                    </a:lnTo>
                    <a:lnTo>
                      <a:pt x="1598" y="2944"/>
                    </a:lnTo>
                    <a:lnTo>
                      <a:pt x="1605" y="2933"/>
                    </a:lnTo>
                    <a:lnTo>
                      <a:pt x="1615" y="2921"/>
                    </a:lnTo>
                    <a:lnTo>
                      <a:pt x="1631" y="2916"/>
                    </a:lnTo>
                    <a:lnTo>
                      <a:pt x="1647" y="2912"/>
                    </a:lnTo>
                    <a:lnTo>
                      <a:pt x="1664" y="2908"/>
                    </a:lnTo>
                    <a:lnTo>
                      <a:pt x="1681" y="2904"/>
                    </a:lnTo>
                    <a:lnTo>
                      <a:pt x="1697" y="2902"/>
                    </a:lnTo>
                    <a:lnTo>
                      <a:pt x="1714" y="2900"/>
                    </a:lnTo>
                    <a:lnTo>
                      <a:pt x="1730" y="2900"/>
                    </a:lnTo>
                    <a:lnTo>
                      <a:pt x="1746" y="2901"/>
                    </a:lnTo>
                    <a:lnTo>
                      <a:pt x="1764" y="2882"/>
                    </a:lnTo>
                    <a:lnTo>
                      <a:pt x="1780" y="2861"/>
                    </a:lnTo>
                    <a:lnTo>
                      <a:pt x="1796" y="2840"/>
                    </a:lnTo>
                    <a:lnTo>
                      <a:pt x="1814" y="2822"/>
                    </a:lnTo>
                    <a:lnTo>
                      <a:pt x="1833" y="2806"/>
                    </a:lnTo>
                    <a:lnTo>
                      <a:pt x="1855" y="2794"/>
                    </a:lnTo>
                    <a:lnTo>
                      <a:pt x="1880" y="2787"/>
                    </a:lnTo>
                    <a:lnTo>
                      <a:pt x="1909" y="2787"/>
                    </a:lnTo>
                    <a:lnTo>
                      <a:pt x="1927" y="2786"/>
                    </a:lnTo>
                    <a:lnTo>
                      <a:pt x="1946" y="2786"/>
                    </a:lnTo>
                    <a:lnTo>
                      <a:pt x="1964" y="2785"/>
                    </a:lnTo>
                    <a:lnTo>
                      <a:pt x="1981" y="2785"/>
                    </a:lnTo>
                    <a:lnTo>
                      <a:pt x="1998" y="2784"/>
                    </a:lnTo>
                    <a:lnTo>
                      <a:pt x="2015" y="2783"/>
                    </a:lnTo>
                    <a:lnTo>
                      <a:pt x="2032" y="2783"/>
                    </a:lnTo>
                    <a:lnTo>
                      <a:pt x="2049" y="2781"/>
                    </a:lnTo>
                    <a:lnTo>
                      <a:pt x="2067" y="2781"/>
                    </a:lnTo>
                    <a:lnTo>
                      <a:pt x="2084" y="2780"/>
                    </a:lnTo>
                    <a:lnTo>
                      <a:pt x="2102" y="2779"/>
                    </a:lnTo>
                    <a:lnTo>
                      <a:pt x="2119" y="2778"/>
                    </a:lnTo>
                    <a:lnTo>
                      <a:pt x="2137" y="2777"/>
                    </a:lnTo>
                    <a:lnTo>
                      <a:pt x="2155" y="2775"/>
                    </a:lnTo>
                    <a:lnTo>
                      <a:pt x="2175" y="2774"/>
                    </a:lnTo>
                    <a:lnTo>
                      <a:pt x="2194" y="2772"/>
                    </a:lnTo>
                    <a:lnTo>
                      <a:pt x="2210" y="2758"/>
                    </a:lnTo>
                    <a:lnTo>
                      <a:pt x="2225" y="2744"/>
                    </a:lnTo>
                    <a:lnTo>
                      <a:pt x="2239" y="2728"/>
                    </a:lnTo>
                    <a:lnTo>
                      <a:pt x="2253" y="2712"/>
                    </a:lnTo>
                    <a:lnTo>
                      <a:pt x="2267" y="2695"/>
                    </a:lnTo>
                    <a:lnTo>
                      <a:pt x="2281" y="2678"/>
                    </a:lnTo>
                    <a:lnTo>
                      <a:pt x="2296" y="2662"/>
                    </a:lnTo>
                    <a:lnTo>
                      <a:pt x="2311" y="2645"/>
                    </a:lnTo>
                    <a:lnTo>
                      <a:pt x="2327" y="2624"/>
                    </a:lnTo>
                    <a:lnTo>
                      <a:pt x="2341" y="2604"/>
                    </a:lnTo>
                    <a:lnTo>
                      <a:pt x="2356" y="2583"/>
                    </a:lnTo>
                    <a:lnTo>
                      <a:pt x="2370" y="2561"/>
                    </a:lnTo>
                    <a:lnTo>
                      <a:pt x="2382" y="2539"/>
                    </a:lnTo>
                    <a:lnTo>
                      <a:pt x="2395" y="2516"/>
                    </a:lnTo>
                    <a:lnTo>
                      <a:pt x="2407" y="2494"/>
                    </a:lnTo>
                    <a:lnTo>
                      <a:pt x="2418" y="2471"/>
                    </a:lnTo>
                    <a:lnTo>
                      <a:pt x="2428" y="2447"/>
                    </a:lnTo>
                    <a:lnTo>
                      <a:pt x="2439" y="2424"/>
                    </a:lnTo>
                    <a:lnTo>
                      <a:pt x="2449" y="2400"/>
                    </a:lnTo>
                    <a:lnTo>
                      <a:pt x="2457" y="2376"/>
                    </a:lnTo>
                    <a:lnTo>
                      <a:pt x="2466" y="2353"/>
                    </a:lnTo>
                    <a:lnTo>
                      <a:pt x="2474" y="2329"/>
                    </a:lnTo>
                    <a:lnTo>
                      <a:pt x="2482" y="2306"/>
                    </a:lnTo>
                    <a:lnTo>
                      <a:pt x="2488" y="2282"/>
                    </a:lnTo>
                    <a:lnTo>
                      <a:pt x="2490" y="2253"/>
                    </a:lnTo>
                    <a:lnTo>
                      <a:pt x="2496" y="2225"/>
                    </a:lnTo>
                    <a:lnTo>
                      <a:pt x="2501" y="2198"/>
                    </a:lnTo>
                    <a:lnTo>
                      <a:pt x="2503" y="2172"/>
                    </a:lnTo>
                    <a:lnTo>
                      <a:pt x="2511" y="2144"/>
                    </a:lnTo>
                    <a:lnTo>
                      <a:pt x="2517" y="2115"/>
                    </a:lnTo>
                    <a:lnTo>
                      <a:pt x="2523" y="2085"/>
                    </a:lnTo>
                    <a:lnTo>
                      <a:pt x="2525" y="2054"/>
                    </a:lnTo>
                    <a:lnTo>
                      <a:pt x="2531" y="2047"/>
                    </a:lnTo>
                    <a:lnTo>
                      <a:pt x="2532" y="2037"/>
                    </a:lnTo>
                    <a:lnTo>
                      <a:pt x="2532" y="2025"/>
                    </a:lnTo>
                    <a:lnTo>
                      <a:pt x="2535" y="2015"/>
                    </a:lnTo>
                    <a:lnTo>
                      <a:pt x="2544" y="2000"/>
                    </a:lnTo>
                    <a:lnTo>
                      <a:pt x="2553" y="1986"/>
                    </a:lnTo>
                    <a:lnTo>
                      <a:pt x="2561" y="1973"/>
                    </a:lnTo>
                    <a:lnTo>
                      <a:pt x="2572" y="1960"/>
                    </a:lnTo>
                    <a:lnTo>
                      <a:pt x="2582" y="1948"/>
                    </a:lnTo>
                    <a:lnTo>
                      <a:pt x="2593" y="1935"/>
                    </a:lnTo>
                    <a:lnTo>
                      <a:pt x="2605" y="1922"/>
                    </a:lnTo>
                    <a:lnTo>
                      <a:pt x="2618" y="1908"/>
                    </a:lnTo>
                    <a:lnTo>
                      <a:pt x="2618" y="1901"/>
                    </a:lnTo>
                    <a:lnTo>
                      <a:pt x="2624" y="1896"/>
                    </a:lnTo>
                    <a:lnTo>
                      <a:pt x="2630" y="1890"/>
                    </a:lnTo>
                    <a:lnTo>
                      <a:pt x="2635" y="1883"/>
                    </a:lnTo>
                    <a:lnTo>
                      <a:pt x="2640" y="1876"/>
                    </a:lnTo>
                    <a:lnTo>
                      <a:pt x="2646" y="1869"/>
                    </a:lnTo>
                    <a:lnTo>
                      <a:pt x="2652" y="1863"/>
                    </a:lnTo>
                    <a:lnTo>
                      <a:pt x="2659" y="1857"/>
                    </a:lnTo>
                    <a:lnTo>
                      <a:pt x="2667" y="1853"/>
                    </a:lnTo>
                    <a:lnTo>
                      <a:pt x="2678" y="1838"/>
                    </a:lnTo>
                    <a:lnTo>
                      <a:pt x="2689" y="1825"/>
                    </a:lnTo>
                    <a:lnTo>
                      <a:pt x="2699" y="1812"/>
                    </a:lnTo>
                    <a:lnTo>
                      <a:pt x="2711" y="1799"/>
                    </a:lnTo>
                    <a:lnTo>
                      <a:pt x="2722" y="1789"/>
                    </a:lnTo>
                    <a:lnTo>
                      <a:pt x="2734" y="1777"/>
                    </a:lnTo>
                    <a:lnTo>
                      <a:pt x="2745" y="1765"/>
                    </a:lnTo>
                    <a:lnTo>
                      <a:pt x="2758" y="1754"/>
                    </a:lnTo>
                    <a:lnTo>
                      <a:pt x="2768" y="1739"/>
                    </a:lnTo>
                    <a:lnTo>
                      <a:pt x="2779" y="1724"/>
                    </a:lnTo>
                    <a:lnTo>
                      <a:pt x="2791" y="1709"/>
                    </a:lnTo>
                    <a:lnTo>
                      <a:pt x="2804" y="1694"/>
                    </a:lnTo>
                    <a:lnTo>
                      <a:pt x="2817" y="1678"/>
                    </a:lnTo>
                    <a:lnTo>
                      <a:pt x="2830" y="1661"/>
                    </a:lnTo>
                    <a:lnTo>
                      <a:pt x="2843" y="1643"/>
                    </a:lnTo>
                    <a:lnTo>
                      <a:pt x="2855" y="1625"/>
                    </a:lnTo>
                    <a:lnTo>
                      <a:pt x="2868" y="1605"/>
                    </a:lnTo>
                    <a:lnTo>
                      <a:pt x="2882" y="1584"/>
                    </a:lnTo>
                    <a:lnTo>
                      <a:pt x="2895" y="1563"/>
                    </a:lnTo>
                    <a:lnTo>
                      <a:pt x="2908" y="1542"/>
                    </a:lnTo>
                    <a:lnTo>
                      <a:pt x="2921" y="1522"/>
                    </a:lnTo>
                    <a:lnTo>
                      <a:pt x="2935" y="1501"/>
                    </a:lnTo>
                    <a:lnTo>
                      <a:pt x="2948" y="1481"/>
                    </a:lnTo>
                    <a:lnTo>
                      <a:pt x="2962" y="1462"/>
                    </a:lnTo>
                    <a:lnTo>
                      <a:pt x="2962" y="1447"/>
                    </a:lnTo>
                    <a:lnTo>
                      <a:pt x="2965" y="1447"/>
                    </a:lnTo>
                    <a:lnTo>
                      <a:pt x="2978" y="1418"/>
                    </a:lnTo>
                    <a:lnTo>
                      <a:pt x="2992" y="1390"/>
                    </a:lnTo>
                    <a:lnTo>
                      <a:pt x="3005" y="1361"/>
                    </a:lnTo>
                    <a:lnTo>
                      <a:pt x="3019" y="1331"/>
                    </a:lnTo>
                    <a:lnTo>
                      <a:pt x="3032" y="1303"/>
                    </a:lnTo>
                    <a:lnTo>
                      <a:pt x="3044" y="1273"/>
                    </a:lnTo>
                    <a:lnTo>
                      <a:pt x="3054" y="1242"/>
                    </a:lnTo>
                    <a:lnTo>
                      <a:pt x="3061" y="1211"/>
                    </a:lnTo>
                    <a:lnTo>
                      <a:pt x="3073" y="1195"/>
                    </a:lnTo>
                    <a:lnTo>
                      <a:pt x="3079" y="1174"/>
                    </a:lnTo>
                    <a:lnTo>
                      <a:pt x="3085" y="1153"/>
                    </a:lnTo>
                    <a:lnTo>
                      <a:pt x="3091" y="1132"/>
                    </a:lnTo>
                    <a:lnTo>
                      <a:pt x="3099" y="1113"/>
                    </a:lnTo>
                    <a:lnTo>
                      <a:pt x="3110" y="1101"/>
                    </a:lnTo>
                    <a:lnTo>
                      <a:pt x="3129" y="1097"/>
                    </a:lnTo>
                    <a:lnTo>
                      <a:pt x="3155" y="1104"/>
                    </a:lnTo>
                    <a:lnTo>
                      <a:pt x="3178" y="1126"/>
                    </a:lnTo>
                    <a:lnTo>
                      <a:pt x="3195" y="1151"/>
                    </a:lnTo>
                    <a:lnTo>
                      <a:pt x="3209" y="1178"/>
                    </a:lnTo>
                    <a:lnTo>
                      <a:pt x="3221" y="1204"/>
                    </a:lnTo>
                    <a:lnTo>
                      <a:pt x="3230" y="1233"/>
                    </a:lnTo>
                    <a:lnTo>
                      <a:pt x="3239" y="1263"/>
                    </a:lnTo>
                    <a:lnTo>
                      <a:pt x="3249" y="1292"/>
                    </a:lnTo>
                    <a:lnTo>
                      <a:pt x="3259" y="1322"/>
                    </a:lnTo>
                    <a:lnTo>
                      <a:pt x="3272" y="1308"/>
                    </a:lnTo>
                    <a:lnTo>
                      <a:pt x="3279" y="1289"/>
                    </a:lnTo>
                    <a:lnTo>
                      <a:pt x="3282" y="1267"/>
                    </a:lnTo>
                    <a:lnTo>
                      <a:pt x="3285" y="1246"/>
                    </a:lnTo>
                    <a:lnTo>
                      <a:pt x="3290" y="1230"/>
                    </a:lnTo>
                    <a:lnTo>
                      <a:pt x="3292" y="1212"/>
                    </a:lnTo>
                    <a:lnTo>
                      <a:pt x="3296" y="1195"/>
                    </a:lnTo>
                    <a:lnTo>
                      <a:pt x="3302" y="1178"/>
                    </a:lnTo>
                    <a:lnTo>
                      <a:pt x="3316" y="1085"/>
                    </a:lnTo>
                    <a:lnTo>
                      <a:pt x="3329" y="993"/>
                    </a:lnTo>
                    <a:lnTo>
                      <a:pt x="3343" y="901"/>
                    </a:lnTo>
                    <a:lnTo>
                      <a:pt x="3355" y="809"/>
                    </a:lnTo>
                    <a:lnTo>
                      <a:pt x="3366" y="716"/>
                    </a:lnTo>
                    <a:lnTo>
                      <a:pt x="3378" y="624"/>
                    </a:lnTo>
                    <a:lnTo>
                      <a:pt x="3389" y="530"/>
                    </a:lnTo>
                    <a:lnTo>
                      <a:pt x="3398" y="435"/>
                    </a:lnTo>
                    <a:lnTo>
                      <a:pt x="3402" y="355"/>
                    </a:lnTo>
                    <a:lnTo>
                      <a:pt x="3408" y="268"/>
                    </a:lnTo>
                    <a:lnTo>
                      <a:pt x="3413" y="182"/>
                    </a:lnTo>
                    <a:lnTo>
                      <a:pt x="3412" y="96"/>
                    </a:lnTo>
                    <a:lnTo>
                      <a:pt x="3416" y="71"/>
                    </a:lnTo>
                    <a:lnTo>
                      <a:pt x="3418" y="43"/>
                    </a:lnTo>
                    <a:lnTo>
                      <a:pt x="3423" y="19"/>
                    </a:lnTo>
                    <a:lnTo>
                      <a:pt x="3438" y="0"/>
                    </a:lnTo>
                    <a:lnTo>
                      <a:pt x="3450" y="3"/>
                    </a:lnTo>
                    <a:lnTo>
                      <a:pt x="3462" y="5"/>
                    </a:lnTo>
                    <a:lnTo>
                      <a:pt x="3473" y="7"/>
                    </a:lnTo>
                    <a:lnTo>
                      <a:pt x="3485" y="10"/>
                    </a:lnTo>
                    <a:lnTo>
                      <a:pt x="3497" y="13"/>
                    </a:lnTo>
                    <a:lnTo>
                      <a:pt x="3508" y="18"/>
                    </a:lnTo>
                    <a:lnTo>
                      <a:pt x="3516" y="26"/>
                    </a:lnTo>
                    <a:lnTo>
                      <a:pt x="352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a:off x="875160" y="3714840"/>
                <a:ext cx="312120" cy="748800"/>
              </a:xfrm>
              <a:custGeom>
                <a:avLst/>
                <a:gdLst/>
                <a:ahLst/>
                <a:rect l="l" t="t" r="r" b="b"/>
                <a:pathLst>
                  <a:path w="1508" h="3054">
                    <a:moveTo>
                      <a:pt x="1411" y="72"/>
                    </a:moveTo>
                    <a:lnTo>
                      <a:pt x="1444" y="156"/>
                    </a:lnTo>
                    <a:lnTo>
                      <a:pt x="1472" y="243"/>
                    </a:lnTo>
                    <a:lnTo>
                      <a:pt x="1492" y="330"/>
                    </a:lnTo>
                    <a:lnTo>
                      <a:pt x="1505" y="419"/>
                    </a:lnTo>
                    <a:lnTo>
                      <a:pt x="1508" y="509"/>
                    </a:lnTo>
                    <a:lnTo>
                      <a:pt x="1501" y="597"/>
                    </a:lnTo>
                    <a:lnTo>
                      <a:pt x="1484" y="687"/>
                    </a:lnTo>
                    <a:lnTo>
                      <a:pt x="1454" y="775"/>
                    </a:lnTo>
                    <a:lnTo>
                      <a:pt x="1448" y="800"/>
                    </a:lnTo>
                    <a:lnTo>
                      <a:pt x="1442" y="824"/>
                    </a:lnTo>
                    <a:lnTo>
                      <a:pt x="1433" y="847"/>
                    </a:lnTo>
                    <a:lnTo>
                      <a:pt x="1424" y="871"/>
                    </a:lnTo>
                    <a:lnTo>
                      <a:pt x="1414" y="894"/>
                    </a:lnTo>
                    <a:lnTo>
                      <a:pt x="1406" y="917"/>
                    </a:lnTo>
                    <a:lnTo>
                      <a:pt x="1397" y="940"/>
                    </a:lnTo>
                    <a:lnTo>
                      <a:pt x="1390" y="965"/>
                    </a:lnTo>
                    <a:lnTo>
                      <a:pt x="1382" y="979"/>
                    </a:lnTo>
                    <a:lnTo>
                      <a:pt x="1376" y="993"/>
                    </a:lnTo>
                    <a:lnTo>
                      <a:pt x="1369" y="1006"/>
                    </a:lnTo>
                    <a:lnTo>
                      <a:pt x="1363" y="1018"/>
                    </a:lnTo>
                    <a:lnTo>
                      <a:pt x="1356" y="1031"/>
                    </a:lnTo>
                    <a:lnTo>
                      <a:pt x="1349" y="1044"/>
                    </a:lnTo>
                    <a:lnTo>
                      <a:pt x="1342" y="1058"/>
                    </a:lnTo>
                    <a:lnTo>
                      <a:pt x="1336" y="1072"/>
                    </a:lnTo>
                    <a:lnTo>
                      <a:pt x="1322" y="1098"/>
                    </a:lnTo>
                    <a:lnTo>
                      <a:pt x="1308" y="1125"/>
                    </a:lnTo>
                    <a:lnTo>
                      <a:pt x="1295" y="1153"/>
                    </a:lnTo>
                    <a:lnTo>
                      <a:pt x="1284" y="1181"/>
                    </a:lnTo>
                    <a:lnTo>
                      <a:pt x="1270" y="1209"/>
                    </a:lnTo>
                    <a:lnTo>
                      <a:pt x="1255" y="1235"/>
                    </a:lnTo>
                    <a:lnTo>
                      <a:pt x="1237" y="1261"/>
                    </a:lnTo>
                    <a:lnTo>
                      <a:pt x="1217" y="1285"/>
                    </a:lnTo>
                    <a:lnTo>
                      <a:pt x="1212" y="1278"/>
                    </a:lnTo>
                    <a:lnTo>
                      <a:pt x="1210" y="1271"/>
                    </a:lnTo>
                    <a:lnTo>
                      <a:pt x="1212" y="1263"/>
                    </a:lnTo>
                    <a:lnTo>
                      <a:pt x="1215" y="1256"/>
                    </a:lnTo>
                    <a:lnTo>
                      <a:pt x="1220" y="1248"/>
                    </a:lnTo>
                    <a:lnTo>
                      <a:pt x="1226" y="1241"/>
                    </a:lnTo>
                    <a:lnTo>
                      <a:pt x="1230" y="1232"/>
                    </a:lnTo>
                    <a:lnTo>
                      <a:pt x="1232" y="1225"/>
                    </a:lnTo>
                    <a:lnTo>
                      <a:pt x="1242" y="1183"/>
                    </a:lnTo>
                    <a:lnTo>
                      <a:pt x="1254" y="1142"/>
                    </a:lnTo>
                    <a:lnTo>
                      <a:pt x="1266" y="1102"/>
                    </a:lnTo>
                    <a:lnTo>
                      <a:pt x="1280" y="1062"/>
                    </a:lnTo>
                    <a:lnTo>
                      <a:pt x="1293" y="1022"/>
                    </a:lnTo>
                    <a:lnTo>
                      <a:pt x="1304" y="981"/>
                    </a:lnTo>
                    <a:lnTo>
                      <a:pt x="1313" y="939"/>
                    </a:lnTo>
                    <a:lnTo>
                      <a:pt x="1319" y="897"/>
                    </a:lnTo>
                    <a:lnTo>
                      <a:pt x="1332" y="844"/>
                    </a:lnTo>
                    <a:lnTo>
                      <a:pt x="1342" y="790"/>
                    </a:lnTo>
                    <a:lnTo>
                      <a:pt x="1350" y="735"/>
                    </a:lnTo>
                    <a:lnTo>
                      <a:pt x="1355" y="679"/>
                    </a:lnTo>
                    <a:lnTo>
                      <a:pt x="1360" y="622"/>
                    </a:lnTo>
                    <a:lnTo>
                      <a:pt x="1363" y="566"/>
                    </a:lnTo>
                    <a:lnTo>
                      <a:pt x="1366" y="511"/>
                    </a:lnTo>
                    <a:lnTo>
                      <a:pt x="1368" y="457"/>
                    </a:lnTo>
                    <a:lnTo>
                      <a:pt x="1365" y="336"/>
                    </a:lnTo>
                    <a:lnTo>
                      <a:pt x="1367" y="336"/>
                    </a:lnTo>
                    <a:lnTo>
                      <a:pt x="1369" y="334"/>
                    </a:lnTo>
                    <a:lnTo>
                      <a:pt x="1370" y="333"/>
                    </a:lnTo>
                    <a:lnTo>
                      <a:pt x="1372" y="331"/>
                    </a:lnTo>
                    <a:lnTo>
                      <a:pt x="1362" y="308"/>
                    </a:lnTo>
                    <a:lnTo>
                      <a:pt x="1358" y="280"/>
                    </a:lnTo>
                    <a:lnTo>
                      <a:pt x="1357" y="252"/>
                    </a:lnTo>
                    <a:lnTo>
                      <a:pt x="1354" y="224"/>
                    </a:lnTo>
                    <a:lnTo>
                      <a:pt x="1347" y="224"/>
                    </a:lnTo>
                    <a:lnTo>
                      <a:pt x="1339" y="343"/>
                    </a:lnTo>
                    <a:lnTo>
                      <a:pt x="1346" y="349"/>
                    </a:lnTo>
                    <a:lnTo>
                      <a:pt x="1347" y="357"/>
                    </a:lnTo>
                    <a:lnTo>
                      <a:pt x="1346" y="367"/>
                    </a:lnTo>
                    <a:lnTo>
                      <a:pt x="1342" y="374"/>
                    </a:lnTo>
                    <a:lnTo>
                      <a:pt x="1340" y="383"/>
                    </a:lnTo>
                    <a:lnTo>
                      <a:pt x="1337" y="393"/>
                    </a:lnTo>
                    <a:lnTo>
                      <a:pt x="1335" y="406"/>
                    </a:lnTo>
                    <a:lnTo>
                      <a:pt x="1332" y="417"/>
                    </a:lnTo>
                    <a:lnTo>
                      <a:pt x="1328" y="471"/>
                    </a:lnTo>
                    <a:lnTo>
                      <a:pt x="1324" y="526"/>
                    </a:lnTo>
                    <a:lnTo>
                      <a:pt x="1318" y="580"/>
                    </a:lnTo>
                    <a:lnTo>
                      <a:pt x="1310" y="634"/>
                    </a:lnTo>
                    <a:lnTo>
                      <a:pt x="1302" y="687"/>
                    </a:lnTo>
                    <a:lnTo>
                      <a:pt x="1291" y="741"/>
                    </a:lnTo>
                    <a:lnTo>
                      <a:pt x="1279" y="793"/>
                    </a:lnTo>
                    <a:lnTo>
                      <a:pt x="1267" y="845"/>
                    </a:lnTo>
                    <a:lnTo>
                      <a:pt x="1254" y="898"/>
                    </a:lnTo>
                    <a:lnTo>
                      <a:pt x="1237" y="949"/>
                    </a:lnTo>
                    <a:lnTo>
                      <a:pt x="1221" y="1000"/>
                    </a:lnTo>
                    <a:lnTo>
                      <a:pt x="1205" y="1050"/>
                    </a:lnTo>
                    <a:lnTo>
                      <a:pt x="1187" y="1101"/>
                    </a:lnTo>
                    <a:lnTo>
                      <a:pt x="1168" y="1151"/>
                    </a:lnTo>
                    <a:lnTo>
                      <a:pt x="1149" y="1200"/>
                    </a:lnTo>
                    <a:lnTo>
                      <a:pt x="1128" y="1249"/>
                    </a:lnTo>
                    <a:lnTo>
                      <a:pt x="1113" y="1271"/>
                    </a:lnTo>
                    <a:lnTo>
                      <a:pt x="1099" y="1291"/>
                    </a:lnTo>
                    <a:lnTo>
                      <a:pt x="1088" y="1312"/>
                    </a:lnTo>
                    <a:lnTo>
                      <a:pt x="1075" y="1332"/>
                    </a:lnTo>
                    <a:lnTo>
                      <a:pt x="1063" y="1353"/>
                    </a:lnTo>
                    <a:lnTo>
                      <a:pt x="1049" y="1373"/>
                    </a:lnTo>
                    <a:lnTo>
                      <a:pt x="1034" y="1392"/>
                    </a:lnTo>
                    <a:lnTo>
                      <a:pt x="1017" y="1412"/>
                    </a:lnTo>
                    <a:lnTo>
                      <a:pt x="1016" y="1365"/>
                    </a:lnTo>
                    <a:lnTo>
                      <a:pt x="1016" y="1316"/>
                    </a:lnTo>
                    <a:lnTo>
                      <a:pt x="1017" y="1267"/>
                    </a:lnTo>
                    <a:lnTo>
                      <a:pt x="1017" y="1217"/>
                    </a:lnTo>
                    <a:lnTo>
                      <a:pt x="1015" y="1168"/>
                    </a:lnTo>
                    <a:lnTo>
                      <a:pt x="1008" y="1119"/>
                    </a:lnTo>
                    <a:lnTo>
                      <a:pt x="998" y="1072"/>
                    </a:lnTo>
                    <a:lnTo>
                      <a:pt x="981" y="1028"/>
                    </a:lnTo>
                    <a:lnTo>
                      <a:pt x="961" y="1034"/>
                    </a:lnTo>
                    <a:lnTo>
                      <a:pt x="947" y="1046"/>
                    </a:lnTo>
                    <a:lnTo>
                      <a:pt x="940" y="1062"/>
                    </a:lnTo>
                    <a:lnTo>
                      <a:pt x="936" y="1080"/>
                    </a:lnTo>
                    <a:lnTo>
                      <a:pt x="932" y="1100"/>
                    </a:lnTo>
                    <a:lnTo>
                      <a:pt x="928" y="1119"/>
                    </a:lnTo>
                    <a:lnTo>
                      <a:pt x="923" y="1137"/>
                    </a:lnTo>
                    <a:lnTo>
                      <a:pt x="913" y="1153"/>
                    </a:lnTo>
                    <a:lnTo>
                      <a:pt x="900" y="1200"/>
                    </a:lnTo>
                    <a:lnTo>
                      <a:pt x="882" y="1245"/>
                    </a:lnTo>
                    <a:lnTo>
                      <a:pt x="861" y="1288"/>
                    </a:lnTo>
                    <a:lnTo>
                      <a:pt x="837" y="1328"/>
                    </a:lnTo>
                    <a:lnTo>
                      <a:pt x="812" y="1370"/>
                    </a:lnTo>
                    <a:lnTo>
                      <a:pt x="789" y="1412"/>
                    </a:lnTo>
                    <a:lnTo>
                      <a:pt x="767" y="1454"/>
                    </a:lnTo>
                    <a:lnTo>
                      <a:pt x="749" y="1500"/>
                    </a:lnTo>
                    <a:lnTo>
                      <a:pt x="737" y="1519"/>
                    </a:lnTo>
                    <a:lnTo>
                      <a:pt x="726" y="1538"/>
                    </a:lnTo>
                    <a:lnTo>
                      <a:pt x="713" y="1557"/>
                    </a:lnTo>
                    <a:lnTo>
                      <a:pt x="701" y="1575"/>
                    </a:lnTo>
                    <a:lnTo>
                      <a:pt x="688" y="1593"/>
                    </a:lnTo>
                    <a:lnTo>
                      <a:pt x="676" y="1612"/>
                    </a:lnTo>
                    <a:lnTo>
                      <a:pt x="664" y="1631"/>
                    </a:lnTo>
                    <a:lnTo>
                      <a:pt x="650" y="1648"/>
                    </a:lnTo>
                    <a:lnTo>
                      <a:pt x="636" y="1666"/>
                    </a:lnTo>
                    <a:lnTo>
                      <a:pt x="622" y="1683"/>
                    </a:lnTo>
                    <a:lnTo>
                      <a:pt x="608" y="1700"/>
                    </a:lnTo>
                    <a:lnTo>
                      <a:pt x="592" y="1717"/>
                    </a:lnTo>
                    <a:lnTo>
                      <a:pt x="576" y="1733"/>
                    </a:lnTo>
                    <a:lnTo>
                      <a:pt x="560" y="1749"/>
                    </a:lnTo>
                    <a:lnTo>
                      <a:pt x="542" y="1764"/>
                    </a:lnTo>
                    <a:lnTo>
                      <a:pt x="523" y="1779"/>
                    </a:lnTo>
                    <a:lnTo>
                      <a:pt x="508" y="1802"/>
                    </a:lnTo>
                    <a:lnTo>
                      <a:pt x="502" y="1827"/>
                    </a:lnTo>
                    <a:lnTo>
                      <a:pt x="503" y="1855"/>
                    </a:lnTo>
                    <a:lnTo>
                      <a:pt x="508" y="1883"/>
                    </a:lnTo>
                    <a:lnTo>
                      <a:pt x="522" y="1927"/>
                    </a:lnTo>
                    <a:lnTo>
                      <a:pt x="529" y="1970"/>
                    </a:lnTo>
                    <a:lnTo>
                      <a:pt x="530" y="2014"/>
                    </a:lnTo>
                    <a:lnTo>
                      <a:pt x="527" y="2058"/>
                    </a:lnTo>
                    <a:lnTo>
                      <a:pt x="520" y="2103"/>
                    </a:lnTo>
                    <a:lnTo>
                      <a:pt x="511" y="2147"/>
                    </a:lnTo>
                    <a:lnTo>
                      <a:pt x="500" y="2192"/>
                    </a:lnTo>
                    <a:lnTo>
                      <a:pt x="490" y="2236"/>
                    </a:lnTo>
                    <a:lnTo>
                      <a:pt x="479" y="2257"/>
                    </a:lnTo>
                    <a:lnTo>
                      <a:pt x="469" y="2278"/>
                    </a:lnTo>
                    <a:lnTo>
                      <a:pt x="459" y="2300"/>
                    </a:lnTo>
                    <a:lnTo>
                      <a:pt x="451" y="2321"/>
                    </a:lnTo>
                    <a:lnTo>
                      <a:pt x="441" y="2342"/>
                    </a:lnTo>
                    <a:lnTo>
                      <a:pt x="430" y="2364"/>
                    </a:lnTo>
                    <a:lnTo>
                      <a:pt x="418" y="2384"/>
                    </a:lnTo>
                    <a:lnTo>
                      <a:pt x="406" y="2404"/>
                    </a:lnTo>
                    <a:lnTo>
                      <a:pt x="388" y="2426"/>
                    </a:lnTo>
                    <a:lnTo>
                      <a:pt x="372" y="2446"/>
                    </a:lnTo>
                    <a:lnTo>
                      <a:pt x="357" y="2466"/>
                    </a:lnTo>
                    <a:lnTo>
                      <a:pt x="341" y="2487"/>
                    </a:lnTo>
                    <a:lnTo>
                      <a:pt x="325" y="2505"/>
                    </a:lnTo>
                    <a:lnTo>
                      <a:pt x="307" y="2523"/>
                    </a:lnTo>
                    <a:lnTo>
                      <a:pt x="288" y="2539"/>
                    </a:lnTo>
                    <a:lnTo>
                      <a:pt x="265" y="2554"/>
                    </a:lnTo>
                    <a:lnTo>
                      <a:pt x="277" y="2583"/>
                    </a:lnTo>
                    <a:lnTo>
                      <a:pt x="290" y="2610"/>
                    </a:lnTo>
                    <a:lnTo>
                      <a:pt x="302" y="2637"/>
                    </a:lnTo>
                    <a:lnTo>
                      <a:pt x="315" y="2664"/>
                    </a:lnTo>
                    <a:lnTo>
                      <a:pt x="328" y="2691"/>
                    </a:lnTo>
                    <a:lnTo>
                      <a:pt x="343" y="2716"/>
                    </a:lnTo>
                    <a:lnTo>
                      <a:pt x="358" y="2743"/>
                    </a:lnTo>
                    <a:lnTo>
                      <a:pt x="376" y="2770"/>
                    </a:lnTo>
                    <a:lnTo>
                      <a:pt x="386" y="2768"/>
                    </a:lnTo>
                    <a:lnTo>
                      <a:pt x="396" y="2764"/>
                    </a:lnTo>
                    <a:lnTo>
                      <a:pt x="405" y="2760"/>
                    </a:lnTo>
                    <a:lnTo>
                      <a:pt x="411" y="2755"/>
                    </a:lnTo>
                    <a:lnTo>
                      <a:pt x="417" y="2748"/>
                    </a:lnTo>
                    <a:lnTo>
                      <a:pt x="422" y="2741"/>
                    </a:lnTo>
                    <a:lnTo>
                      <a:pt x="426" y="2732"/>
                    </a:lnTo>
                    <a:lnTo>
                      <a:pt x="429" y="2722"/>
                    </a:lnTo>
                    <a:lnTo>
                      <a:pt x="431" y="2707"/>
                    </a:lnTo>
                    <a:lnTo>
                      <a:pt x="433" y="2691"/>
                    </a:lnTo>
                    <a:lnTo>
                      <a:pt x="439" y="2674"/>
                    </a:lnTo>
                    <a:lnTo>
                      <a:pt x="444" y="2658"/>
                    </a:lnTo>
                    <a:lnTo>
                      <a:pt x="452" y="2643"/>
                    </a:lnTo>
                    <a:lnTo>
                      <a:pt x="461" y="2628"/>
                    </a:lnTo>
                    <a:lnTo>
                      <a:pt x="472" y="2615"/>
                    </a:lnTo>
                    <a:lnTo>
                      <a:pt x="485" y="2604"/>
                    </a:lnTo>
                    <a:lnTo>
                      <a:pt x="501" y="2600"/>
                    </a:lnTo>
                    <a:lnTo>
                      <a:pt x="516" y="2598"/>
                    </a:lnTo>
                    <a:lnTo>
                      <a:pt x="532" y="2597"/>
                    </a:lnTo>
                    <a:lnTo>
                      <a:pt x="547" y="2598"/>
                    </a:lnTo>
                    <a:lnTo>
                      <a:pt x="562" y="2600"/>
                    </a:lnTo>
                    <a:lnTo>
                      <a:pt x="577" y="2604"/>
                    </a:lnTo>
                    <a:lnTo>
                      <a:pt x="592" y="2608"/>
                    </a:lnTo>
                    <a:lnTo>
                      <a:pt x="606" y="2613"/>
                    </a:lnTo>
                    <a:lnTo>
                      <a:pt x="621" y="2618"/>
                    </a:lnTo>
                    <a:lnTo>
                      <a:pt x="636" y="2623"/>
                    </a:lnTo>
                    <a:lnTo>
                      <a:pt x="651" y="2629"/>
                    </a:lnTo>
                    <a:lnTo>
                      <a:pt x="666" y="2634"/>
                    </a:lnTo>
                    <a:lnTo>
                      <a:pt x="681" y="2639"/>
                    </a:lnTo>
                    <a:lnTo>
                      <a:pt x="696" y="2643"/>
                    </a:lnTo>
                    <a:lnTo>
                      <a:pt x="711" y="2646"/>
                    </a:lnTo>
                    <a:lnTo>
                      <a:pt x="727" y="2648"/>
                    </a:lnTo>
                    <a:lnTo>
                      <a:pt x="745" y="2654"/>
                    </a:lnTo>
                    <a:lnTo>
                      <a:pt x="765" y="2658"/>
                    </a:lnTo>
                    <a:lnTo>
                      <a:pt x="786" y="2660"/>
                    </a:lnTo>
                    <a:lnTo>
                      <a:pt x="806" y="2661"/>
                    </a:lnTo>
                    <a:lnTo>
                      <a:pt x="827" y="2662"/>
                    </a:lnTo>
                    <a:lnTo>
                      <a:pt x="849" y="2662"/>
                    </a:lnTo>
                    <a:lnTo>
                      <a:pt x="869" y="2662"/>
                    </a:lnTo>
                    <a:lnTo>
                      <a:pt x="888" y="2662"/>
                    </a:lnTo>
                    <a:lnTo>
                      <a:pt x="897" y="2670"/>
                    </a:lnTo>
                    <a:lnTo>
                      <a:pt x="899" y="2682"/>
                    </a:lnTo>
                    <a:lnTo>
                      <a:pt x="902" y="2695"/>
                    </a:lnTo>
                    <a:lnTo>
                      <a:pt x="913" y="2703"/>
                    </a:lnTo>
                    <a:lnTo>
                      <a:pt x="930" y="2707"/>
                    </a:lnTo>
                    <a:lnTo>
                      <a:pt x="947" y="2711"/>
                    </a:lnTo>
                    <a:lnTo>
                      <a:pt x="962" y="2716"/>
                    </a:lnTo>
                    <a:lnTo>
                      <a:pt x="977" y="2724"/>
                    </a:lnTo>
                    <a:lnTo>
                      <a:pt x="991" y="2733"/>
                    </a:lnTo>
                    <a:lnTo>
                      <a:pt x="1004" y="2744"/>
                    </a:lnTo>
                    <a:lnTo>
                      <a:pt x="1015" y="2756"/>
                    </a:lnTo>
                    <a:lnTo>
                      <a:pt x="1024" y="2770"/>
                    </a:lnTo>
                    <a:lnTo>
                      <a:pt x="1023" y="2780"/>
                    </a:lnTo>
                    <a:lnTo>
                      <a:pt x="1021" y="2792"/>
                    </a:lnTo>
                    <a:lnTo>
                      <a:pt x="1019" y="2803"/>
                    </a:lnTo>
                    <a:lnTo>
                      <a:pt x="1017" y="2814"/>
                    </a:lnTo>
                    <a:lnTo>
                      <a:pt x="1012" y="2824"/>
                    </a:lnTo>
                    <a:lnTo>
                      <a:pt x="1006" y="2832"/>
                    </a:lnTo>
                    <a:lnTo>
                      <a:pt x="998" y="2839"/>
                    </a:lnTo>
                    <a:lnTo>
                      <a:pt x="986" y="2843"/>
                    </a:lnTo>
                    <a:lnTo>
                      <a:pt x="985" y="2849"/>
                    </a:lnTo>
                    <a:lnTo>
                      <a:pt x="982" y="2852"/>
                    </a:lnTo>
                    <a:lnTo>
                      <a:pt x="977" y="2854"/>
                    </a:lnTo>
                    <a:lnTo>
                      <a:pt x="973" y="2856"/>
                    </a:lnTo>
                    <a:lnTo>
                      <a:pt x="968" y="2857"/>
                    </a:lnTo>
                    <a:lnTo>
                      <a:pt x="962" y="2858"/>
                    </a:lnTo>
                    <a:lnTo>
                      <a:pt x="957" y="2859"/>
                    </a:lnTo>
                    <a:lnTo>
                      <a:pt x="953" y="2862"/>
                    </a:lnTo>
                    <a:lnTo>
                      <a:pt x="871" y="2862"/>
                    </a:lnTo>
                    <a:lnTo>
                      <a:pt x="879" y="2842"/>
                    </a:lnTo>
                    <a:lnTo>
                      <a:pt x="886" y="2822"/>
                    </a:lnTo>
                    <a:lnTo>
                      <a:pt x="895" y="2801"/>
                    </a:lnTo>
                    <a:lnTo>
                      <a:pt x="902" y="2779"/>
                    </a:lnTo>
                    <a:lnTo>
                      <a:pt x="895" y="2772"/>
                    </a:lnTo>
                    <a:lnTo>
                      <a:pt x="873" y="2776"/>
                    </a:lnTo>
                    <a:lnTo>
                      <a:pt x="852" y="2781"/>
                    </a:lnTo>
                    <a:lnTo>
                      <a:pt x="831" y="2786"/>
                    </a:lnTo>
                    <a:lnTo>
                      <a:pt x="809" y="2791"/>
                    </a:lnTo>
                    <a:lnTo>
                      <a:pt x="788" y="2795"/>
                    </a:lnTo>
                    <a:lnTo>
                      <a:pt x="766" y="2801"/>
                    </a:lnTo>
                    <a:lnTo>
                      <a:pt x="745" y="2805"/>
                    </a:lnTo>
                    <a:lnTo>
                      <a:pt x="724" y="2809"/>
                    </a:lnTo>
                    <a:lnTo>
                      <a:pt x="701" y="2814"/>
                    </a:lnTo>
                    <a:lnTo>
                      <a:pt x="680" y="2818"/>
                    </a:lnTo>
                    <a:lnTo>
                      <a:pt x="657" y="2821"/>
                    </a:lnTo>
                    <a:lnTo>
                      <a:pt x="636" y="2824"/>
                    </a:lnTo>
                    <a:lnTo>
                      <a:pt x="613" y="2827"/>
                    </a:lnTo>
                    <a:lnTo>
                      <a:pt x="590" y="2830"/>
                    </a:lnTo>
                    <a:lnTo>
                      <a:pt x="567" y="2832"/>
                    </a:lnTo>
                    <a:lnTo>
                      <a:pt x="544" y="2833"/>
                    </a:lnTo>
                    <a:lnTo>
                      <a:pt x="542" y="2836"/>
                    </a:lnTo>
                    <a:lnTo>
                      <a:pt x="539" y="2838"/>
                    </a:lnTo>
                    <a:lnTo>
                      <a:pt x="537" y="2840"/>
                    </a:lnTo>
                    <a:lnTo>
                      <a:pt x="538" y="2843"/>
                    </a:lnTo>
                    <a:lnTo>
                      <a:pt x="552" y="2850"/>
                    </a:lnTo>
                    <a:lnTo>
                      <a:pt x="567" y="2853"/>
                    </a:lnTo>
                    <a:lnTo>
                      <a:pt x="584" y="2855"/>
                    </a:lnTo>
                    <a:lnTo>
                      <a:pt x="602" y="2854"/>
                    </a:lnTo>
                    <a:lnTo>
                      <a:pt x="618" y="2854"/>
                    </a:lnTo>
                    <a:lnTo>
                      <a:pt x="634" y="2856"/>
                    </a:lnTo>
                    <a:lnTo>
                      <a:pt x="648" y="2859"/>
                    </a:lnTo>
                    <a:lnTo>
                      <a:pt x="660" y="2866"/>
                    </a:lnTo>
                    <a:lnTo>
                      <a:pt x="742" y="2866"/>
                    </a:lnTo>
                    <a:lnTo>
                      <a:pt x="727" y="2880"/>
                    </a:lnTo>
                    <a:lnTo>
                      <a:pt x="711" y="2892"/>
                    </a:lnTo>
                    <a:lnTo>
                      <a:pt x="695" y="2903"/>
                    </a:lnTo>
                    <a:lnTo>
                      <a:pt x="679" y="2915"/>
                    </a:lnTo>
                    <a:lnTo>
                      <a:pt x="663" y="2925"/>
                    </a:lnTo>
                    <a:lnTo>
                      <a:pt x="645" y="2935"/>
                    </a:lnTo>
                    <a:lnTo>
                      <a:pt x="629" y="2945"/>
                    </a:lnTo>
                    <a:lnTo>
                      <a:pt x="612" y="2955"/>
                    </a:lnTo>
                    <a:lnTo>
                      <a:pt x="619" y="2967"/>
                    </a:lnTo>
                    <a:lnTo>
                      <a:pt x="629" y="2974"/>
                    </a:lnTo>
                    <a:lnTo>
                      <a:pt x="643" y="2976"/>
                    </a:lnTo>
                    <a:lnTo>
                      <a:pt x="659" y="2975"/>
                    </a:lnTo>
                    <a:lnTo>
                      <a:pt x="675" y="2973"/>
                    </a:lnTo>
                    <a:lnTo>
                      <a:pt x="693" y="2971"/>
                    </a:lnTo>
                    <a:lnTo>
                      <a:pt x="710" y="2971"/>
                    </a:lnTo>
                    <a:lnTo>
                      <a:pt x="724" y="2973"/>
                    </a:lnTo>
                    <a:lnTo>
                      <a:pt x="727" y="2973"/>
                    </a:lnTo>
                    <a:lnTo>
                      <a:pt x="716" y="2975"/>
                    </a:lnTo>
                    <a:lnTo>
                      <a:pt x="706" y="2978"/>
                    </a:lnTo>
                    <a:lnTo>
                      <a:pt x="696" y="2981"/>
                    </a:lnTo>
                    <a:lnTo>
                      <a:pt x="685" y="2984"/>
                    </a:lnTo>
                    <a:lnTo>
                      <a:pt x="673" y="2989"/>
                    </a:lnTo>
                    <a:lnTo>
                      <a:pt x="663" y="2993"/>
                    </a:lnTo>
                    <a:lnTo>
                      <a:pt x="651" y="2997"/>
                    </a:lnTo>
                    <a:lnTo>
                      <a:pt x="640" y="3001"/>
                    </a:lnTo>
                    <a:lnTo>
                      <a:pt x="627" y="3004"/>
                    </a:lnTo>
                    <a:lnTo>
                      <a:pt x="613" y="3006"/>
                    </a:lnTo>
                    <a:lnTo>
                      <a:pt x="599" y="3008"/>
                    </a:lnTo>
                    <a:lnTo>
                      <a:pt x="584" y="3009"/>
                    </a:lnTo>
                    <a:lnTo>
                      <a:pt x="569" y="3010"/>
                    </a:lnTo>
                    <a:lnTo>
                      <a:pt x="553" y="3010"/>
                    </a:lnTo>
                    <a:lnTo>
                      <a:pt x="537" y="3010"/>
                    </a:lnTo>
                    <a:lnTo>
                      <a:pt x="521" y="3009"/>
                    </a:lnTo>
                    <a:lnTo>
                      <a:pt x="505" y="3008"/>
                    </a:lnTo>
                    <a:lnTo>
                      <a:pt x="489" y="3007"/>
                    </a:lnTo>
                    <a:lnTo>
                      <a:pt x="472" y="3005"/>
                    </a:lnTo>
                    <a:lnTo>
                      <a:pt x="456" y="3003"/>
                    </a:lnTo>
                    <a:lnTo>
                      <a:pt x="440" y="2999"/>
                    </a:lnTo>
                    <a:lnTo>
                      <a:pt x="424" y="2997"/>
                    </a:lnTo>
                    <a:lnTo>
                      <a:pt x="409" y="2993"/>
                    </a:lnTo>
                    <a:lnTo>
                      <a:pt x="394" y="2990"/>
                    </a:lnTo>
                    <a:lnTo>
                      <a:pt x="387" y="2990"/>
                    </a:lnTo>
                    <a:lnTo>
                      <a:pt x="410" y="2984"/>
                    </a:lnTo>
                    <a:lnTo>
                      <a:pt x="431" y="2977"/>
                    </a:lnTo>
                    <a:lnTo>
                      <a:pt x="452" y="2968"/>
                    </a:lnTo>
                    <a:lnTo>
                      <a:pt x="472" y="2959"/>
                    </a:lnTo>
                    <a:lnTo>
                      <a:pt x="491" y="2948"/>
                    </a:lnTo>
                    <a:lnTo>
                      <a:pt x="509" y="2937"/>
                    </a:lnTo>
                    <a:lnTo>
                      <a:pt x="527" y="2925"/>
                    </a:lnTo>
                    <a:lnTo>
                      <a:pt x="544" y="2912"/>
                    </a:lnTo>
                    <a:lnTo>
                      <a:pt x="530" y="2906"/>
                    </a:lnTo>
                    <a:lnTo>
                      <a:pt x="516" y="2903"/>
                    </a:lnTo>
                    <a:lnTo>
                      <a:pt x="502" y="2900"/>
                    </a:lnTo>
                    <a:lnTo>
                      <a:pt x="488" y="2899"/>
                    </a:lnTo>
                    <a:lnTo>
                      <a:pt x="473" y="2898"/>
                    </a:lnTo>
                    <a:lnTo>
                      <a:pt x="459" y="2897"/>
                    </a:lnTo>
                    <a:lnTo>
                      <a:pt x="444" y="2897"/>
                    </a:lnTo>
                    <a:lnTo>
                      <a:pt x="429" y="2897"/>
                    </a:lnTo>
                    <a:lnTo>
                      <a:pt x="412" y="2894"/>
                    </a:lnTo>
                    <a:lnTo>
                      <a:pt x="394" y="2892"/>
                    </a:lnTo>
                    <a:lnTo>
                      <a:pt x="375" y="2890"/>
                    </a:lnTo>
                    <a:lnTo>
                      <a:pt x="355" y="2888"/>
                    </a:lnTo>
                    <a:lnTo>
                      <a:pt x="336" y="2885"/>
                    </a:lnTo>
                    <a:lnTo>
                      <a:pt x="318" y="2880"/>
                    </a:lnTo>
                    <a:lnTo>
                      <a:pt x="300" y="2872"/>
                    </a:lnTo>
                    <a:lnTo>
                      <a:pt x="284" y="2862"/>
                    </a:lnTo>
                    <a:lnTo>
                      <a:pt x="279" y="2866"/>
                    </a:lnTo>
                    <a:lnTo>
                      <a:pt x="277" y="2870"/>
                    </a:lnTo>
                    <a:lnTo>
                      <a:pt x="276" y="2877"/>
                    </a:lnTo>
                    <a:lnTo>
                      <a:pt x="276" y="2883"/>
                    </a:lnTo>
                    <a:lnTo>
                      <a:pt x="284" y="2889"/>
                    </a:lnTo>
                    <a:lnTo>
                      <a:pt x="292" y="2897"/>
                    </a:lnTo>
                    <a:lnTo>
                      <a:pt x="300" y="2904"/>
                    </a:lnTo>
                    <a:lnTo>
                      <a:pt x="308" y="2912"/>
                    </a:lnTo>
                    <a:lnTo>
                      <a:pt x="317" y="2918"/>
                    </a:lnTo>
                    <a:lnTo>
                      <a:pt x="325" y="2924"/>
                    </a:lnTo>
                    <a:lnTo>
                      <a:pt x="335" y="2927"/>
                    </a:lnTo>
                    <a:lnTo>
                      <a:pt x="345" y="2929"/>
                    </a:lnTo>
                    <a:lnTo>
                      <a:pt x="350" y="2932"/>
                    </a:lnTo>
                    <a:lnTo>
                      <a:pt x="355" y="2934"/>
                    </a:lnTo>
                    <a:lnTo>
                      <a:pt x="360" y="2939"/>
                    </a:lnTo>
                    <a:lnTo>
                      <a:pt x="363" y="2944"/>
                    </a:lnTo>
                    <a:lnTo>
                      <a:pt x="350" y="2950"/>
                    </a:lnTo>
                    <a:lnTo>
                      <a:pt x="336" y="2955"/>
                    </a:lnTo>
                    <a:lnTo>
                      <a:pt x="322" y="2959"/>
                    </a:lnTo>
                    <a:lnTo>
                      <a:pt x="308" y="2962"/>
                    </a:lnTo>
                    <a:lnTo>
                      <a:pt x="294" y="2964"/>
                    </a:lnTo>
                    <a:lnTo>
                      <a:pt x="280" y="2966"/>
                    </a:lnTo>
                    <a:lnTo>
                      <a:pt x="265" y="2967"/>
                    </a:lnTo>
                    <a:lnTo>
                      <a:pt x="251" y="2968"/>
                    </a:lnTo>
                    <a:lnTo>
                      <a:pt x="236" y="2968"/>
                    </a:lnTo>
                    <a:lnTo>
                      <a:pt x="221" y="2970"/>
                    </a:lnTo>
                    <a:lnTo>
                      <a:pt x="208" y="2970"/>
                    </a:lnTo>
                    <a:lnTo>
                      <a:pt x="194" y="2968"/>
                    </a:lnTo>
                    <a:lnTo>
                      <a:pt x="180" y="2968"/>
                    </a:lnTo>
                    <a:lnTo>
                      <a:pt x="166" y="2968"/>
                    </a:lnTo>
                    <a:lnTo>
                      <a:pt x="152" y="2970"/>
                    </a:lnTo>
                    <a:lnTo>
                      <a:pt x="139" y="2970"/>
                    </a:lnTo>
                    <a:lnTo>
                      <a:pt x="137" y="2974"/>
                    </a:lnTo>
                    <a:lnTo>
                      <a:pt x="137" y="2978"/>
                    </a:lnTo>
                    <a:lnTo>
                      <a:pt x="137" y="2984"/>
                    </a:lnTo>
                    <a:lnTo>
                      <a:pt x="137" y="2990"/>
                    </a:lnTo>
                    <a:lnTo>
                      <a:pt x="251" y="3054"/>
                    </a:lnTo>
                    <a:lnTo>
                      <a:pt x="237" y="3053"/>
                    </a:lnTo>
                    <a:lnTo>
                      <a:pt x="224" y="3053"/>
                    </a:lnTo>
                    <a:lnTo>
                      <a:pt x="209" y="3052"/>
                    </a:lnTo>
                    <a:lnTo>
                      <a:pt x="195" y="3052"/>
                    </a:lnTo>
                    <a:lnTo>
                      <a:pt x="181" y="3051"/>
                    </a:lnTo>
                    <a:lnTo>
                      <a:pt x="166" y="3051"/>
                    </a:lnTo>
                    <a:lnTo>
                      <a:pt x="151" y="3050"/>
                    </a:lnTo>
                    <a:lnTo>
                      <a:pt x="137" y="3049"/>
                    </a:lnTo>
                    <a:lnTo>
                      <a:pt x="122" y="3048"/>
                    </a:lnTo>
                    <a:lnTo>
                      <a:pt x="108" y="3045"/>
                    </a:lnTo>
                    <a:lnTo>
                      <a:pt x="94" y="3043"/>
                    </a:lnTo>
                    <a:lnTo>
                      <a:pt x="79" y="3041"/>
                    </a:lnTo>
                    <a:lnTo>
                      <a:pt x="65" y="3038"/>
                    </a:lnTo>
                    <a:lnTo>
                      <a:pt x="51" y="3035"/>
                    </a:lnTo>
                    <a:lnTo>
                      <a:pt x="37" y="3030"/>
                    </a:lnTo>
                    <a:lnTo>
                      <a:pt x="24" y="3026"/>
                    </a:lnTo>
                    <a:lnTo>
                      <a:pt x="22" y="3030"/>
                    </a:lnTo>
                    <a:lnTo>
                      <a:pt x="14" y="3023"/>
                    </a:lnTo>
                    <a:lnTo>
                      <a:pt x="14" y="3015"/>
                    </a:lnTo>
                    <a:lnTo>
                      <a:pt x="15" y="3007"/>
                    </a:lnTo>
                    <a:lnTo>
                      <a:pt x="12" y="2997"/>
                    </a:lnTo>
                    <a:lnTo>
                      <a:pt x="0" y="2919"/>
                    </a:lnTo>
                    <a:lnTo>
                      <a:pt x="14" y="2919"/>
                    </a:lnTo>
                    <a:lnTo>
                      <a:pt x="28" y="2919"/>
                    </a:lnTo>
                    <a:lnTo>
                      <a:pt x="42" y="2919"/>
                    </a:lnTo>
                    <a:lnTo>
                      <a:pt x="57" y="2919"/>
                    </a:lnTo>
                    <a:lnTo>
                      <a:pt x="70" y="2920"/>
                    </a:lnTo>
                    <a:lnTo>
                      <a:pt x="85" y="2919"/>
                    </a:lnTo>
                    <a:lnTo>
                      <a:pt x="100" y="2919"/>
                    </a:lnTo>
                    <a:lnTo>
                      <a:pt x="115" y="2919"/>
                    </a:lnTo>
                    <a:lnTo>
                      <a:pt x="130" y="2919"/>
                    </a:lnTo>
                    <a:lnTo>
                      <a:pt x="145" y="2919"/>
                    </a:lnTo>
                    <a:lnTo>
                      <a:pt x="160" y="2918"/>
                    </a:lnTo>
                    <a:lnTo>
                      <a:pt x="175" y="2918"/>
                    </a:lnTo>
                    <a:lnTo>
                      <a:pt x="189" y="2917"/>
                    </a:lnTo>
                    <a:lnTo>
                      <a:pt x="204" y="2917"/>
                    </a:lnTo>
                    <a:lnTo>
                      <a:pt x="219" y="2916"/>
                    </a:lnTo>
                    <a:lnTo>
                      <a:pt x="233" y="2915"/>
                    </a:lnTo>
                    <a:lnTo>
                      <a:pt x="232" y="2904"/>
                    </a:lnTo>
                    <a:lnTo>
                      <a:pt x="228" y="2895"/>
                    </a:lnTo>
                    <a:lnTo>
                      <a:pt x="219" y="2887"/>
                    </a:lnTo>
                    <a:lnTo>
                      <a:pt x="211" y="2880"/>
                    </a:lnTo>
                    <a:lnTo>
                      <a:pt x="200" y="2874"/>
                    </a:lnTo>
                    <a:lnTo>
                      <a:pt x="190" y="2868"/>
                    </a:lnTo>
                    <a:lnTo>
                      <a:pt x="182" y="2862"/>
                    </a:lnTo>
                    <a:lnTo>
                      <a:pt x="175" y="2855"/>
                    </a:lnTo>
                    <a:lnTo>
                      <a:pt x="164" y="2846"/>
                    </a:lnTo>
                    <a:lnTo>
                      <a:pt x="153" y="2835"/>
                    </a:lnTo>
                    <a:lnTo>
                      <a:pt x="141" y="2823"/>
                    </a:lnTo>
                    <a:lnTo>
                      <a:pt x="130" y="2811"/>
                    </a:lnTo>
                    <a:lnTo>
                      <a:pt x="121" y="2800"/>
                    </a:lnTo>
                    <a:lnTo>
                      <a:pt x="113" y="2788"/>
                    </a:lnTo>
                    <a:lnTo>
                      <a:pt x="107" y="2776"/>
                    </a:lnTo>
                    <a:lnTo>
                      <a:pt x="104" y="2764"/>
                    </a:lnTo>
                    <a:lnTo>
                      <a:pt x="122" y="2761"/>
                    </a:lnTo>
                    <a:lnTo>
                      <a:pt x="140" y="2760"/>
                    </a:lnTo>
                    <a:lnTo>
                      <a:pt x="159" y="2760"/>
                    </a:lnTo>
                    <a:lnTo>
                      <a:pt x="179" y="2760"/>
                    </a:lnTo>
                    <a:lnTo>
                      <a:pt x="198" y="2759"/>
                    </a:lnTo>
                    <a:lnTo>
                      <a:pt x="216" y="2756"/>
                    </a:lnTo>
                    <a:lnTo>
                      <a:pt x="233" y="2750"/>
                    </a:lnTo>
                    <a:lnTo>
                      <a:pt x="248" y="2740"/>
                    </a:lnTo>
                    <a:lnTo>
                      <a:pt x="245" y="2736"/>
                    </a:lnTo>
                    <a:lnTo>
                      <a:pt x="241" y="2733"/>
                    </a:lnTo>
                    <a:lnTo>
                      <a:pt x="236" y="2732"/>
                    </a:lnTo>
                    <a:lnTo>
                      <a:pt x="232" y="2732"/>
                    </a:lnTo>
                    <a:lnTo>
                      <a:pt x="228" y="2732"/>
                    </a:lnTo>
                    <a:lnTo>
                      <a:pt x="224" y="2732"/>
                    </a:lnTo>
                    <a:lnTo>
                      <a:pt x="219" y="2731"/>
                    </a:lnTo>
                    <a:lnTo>
                      <a:pt x="215" y="2729"/>
                    </a:lnTo>
                    <a:lnTo>
                      <a:pt x="198" y="2717"/>
                    </a:lnTo>
                    <a:lnTo>
                      <a:pt x="181" y="2707"/>
                    </a:lnTo>
                    <a:lnTo>
                      <a:pt x="163" y="2696"/>
                    </a:lnTo>
                    <a:lnTo>
                      <a:pt x="144" y="2684"/>
                    </a:lnTo>
                    <a:lnTo>
                      <a:pt x="126" y="2671"/>
                    </a:lnTo>
                    <a:lnTo>
                      <a:pt x="109" y="2658"/>
                    </a:lnTo>
                    <a:lnTo>
                      <a:pt x="93" y="2643"/>
                    </a:lnTo>
                    <a:lnTo>
                      <a:pt x="78" y="2625"/>
                    </a:lnTo>
                    <a:lnTo>
                      <a:pt x="104" y="2599"/>
                    </a:lnTo>
                    <a:lnTo>
                      <a:pt x="129" y="2572"/>
                    </a:lnTo>
                    <a:lnTo>
                      <a:pt x="155" y="2543"/>
                    </a:lnTo>
                    <a:lnTo>
                      <a:pt x="180" y="2513"/>
                    </a:lnTo>
                    <a:lnTo>
                      <a:pt x="204" y="2482"/>
                    </a:lnTo>
                    <a:lnTo>
                      <a:pt x="228" y="2450"/>
                    </a:lnTo>
                    <a:lnTo>
                      <a:pt x="250" y="2417"/>
                    </a:lnTo>
                    <a:lnTo>
                      <a:pt x="272" y="2384"/>
                    </a:lnTo>
                    <a:lnTo>
                      <a:pt x="291" y="2350"/>
                    </a:lnTo>
                    <a:lnTo>
                      <a:pt x="310" y="2314"/>
                    </a:lnTo>
                    <a:lnTo>
                      <a:pt x="327" y="2279"/>
                    </a:lnTo>
                    <a:lnTo>
                      <a:pt x="342" y="2243"/>
                    </a:lnTo>
                    <a:lnTo>
                      <a:pt x="355" y="2207"/>
                    </a:lnTo>
                    <a:lnTo>
                      <a:pt x="367" y="2169"/>
                    </a:lnTo>
                    <a:lnTo>
                      <a:pt x="377" y="2132"/>
                    </a:lnTo>
                    <a:lnTo>
                      <a:pt x="383" y="2094"/>
                    </a:lnTo>
                    <a:lnTo>
                      <a:pt x="393" y="2059"/>
                    </a:lnTo>
                    <a:lnTo>
                      <a:pt x="400" y="2023"/>
                    </a:lnTo>
                    <a:lnTo>
                      <a:pt x="407" y="1986"/>
                    </a:lnTo>
                    <a:lnTo>
                      <a:pt x="412" y="1949"/>
                    </a:lnTo>
                    <a:lnTo>
                      <a:pt x="417" y="1913"/>
                    </a:lnTo>
                    <a:lnTo>
                      <a:pt x="423" y="1877"/>
                    </a:lnTo>
                    <a:lnTo>
                      <a:pt x="429" y="1842"/>
                    </a:lnTo>
                    <a:lnTo>
                      <a:pt x="437" y="1808"/>
                    </a:lnTo>
                    <a:lnTo>
                      <a:pt x="453" y="1786"/>
                    </a:lnTo>
                    <a:lnTo>
                      <a:pt x="468" y="1764"/>
                    </a:lnTo>
                    <a:lnTo>
                      <a:pt x="484" y="1743"/>
                    </a:lnTo>
                    <a:lnTo>
                      <a:pt x="500" y="1721"/>
                    </a:lnTo>
                    <a:lnTo>
                      <a:pt x="516" y="1700"/>
                    </a:lnTo>
                    <a:lnTo>
                      <a:pt x="531" y="1679"/>
                    </a:lnTo>
                    <a:lnTo>
                      <a:pt x="547" y="1658"/>
                    </a:lnTo>
                    <a:lnTo>
                      <a:pt x="563" y="1637"/>
                    </a:lnTo>
                    <a:lnTo>
                      <a:pt x="579" y="1617"/>
                    </a:lnTo>
                    <a:lnTo>
                      <a:pt x="595" y="1595"/>
                    </a:lnTo>
                    <a:lnTo>
                      <a:pt x="611" y="1575"/>
                    </a:lnTo>
                    <a:lnTo>
                      <a:pt x="627" y="1555"/>
                    </a:lnTo>
                    <a:lnTo>
                      <a:pt x="643" y="1533"/>
                    </a:lnTo>
                    <a:lnTo>
                      <a:pt x="659" y="1513"/>
                    </a:lnTo>
                    <a:lnTo>
                      <a:pt x="675" y="1493"/>
                    </a:lnTo>
                    <a:lnTo>
                      <a:pt x="691" y="1472"/>
                    </a:lnTo>
                    <a:lnTo>
                      <a:pt x="712" y="1438"/>
                    </a:lnTo>
                    <a:lnTo>
                      <a:pt x="732" y="1404"/>
                    </a:lnTo>
                    <a:lnTo>
                      <a:pt x="751" y="1370"/>
                    </a:lnTo>
                    <a:lnTo>
                      <a:pt x="772" y="1336"/>
                    </a:lnTo>
                    <a:lnTo>
                      <a:pt x="790" y="1303"/>
                    </a:lnTo>
                    <a:lnTo>
                      <a:pt x="808" y="1268"/>
                    </a:lnTo>
                    <a:lnTo>
                      <a:pt x="825" y="1234"/>
                    </a:lnTo>
                    <a:lnTo>
                      <a:pt x="841" y="1200"/>
                    </a:lnTo>
                    <a:lnTo>
                      <a:pt x="850" y="1186"/>
                    </a:lnTo>
                    <a:lnTo>
                      <a:pt x="856" y="1170"/>
                    </a:lnTo>
                    <a:lnTo>
                      <a:pt x="863" y="1154"/>
                    </a:lnTo>
                    <a:lnTo>
                      <a:pt x="867" y="1138"/>
                    </a:lnTo>
                    <a:lnTo>
                      <a:pt x="872" y="1122"/>
                    </a:lnTo>
                    <a:lnTo>
                      <a:pt x="878" y="1107"/>
                    </a:lnTo>
                    <a:lnTo>
                      <a:pt x="884" y="1092"/>
                    </a:lnTo>
                    <a:lnTo>
                      <a:pt x="892" y="1079"/>
                    </a:lnTo>
                    <a:lnTo>
                      <a:pt x="896" y="1062"/>
                    </a:lnTo>
                    <a:lnTo>
                      <a:pt x="899" y="1046"/>
                    </a:lnTo>
                    <a:lnTo>
                      <a:pt x="905" y="1031"/>
                    </a:lnTo>
                    <a:lnTo>
                      <a:pt x="909" y="1016"/>
                    </a:lnTo>
                    <a:lnTo>
                      <a:pt x="914" y="1001"/>
                    </a:lnTo>
                    <a:lnTo>
                      <a:pt x="921" y="986"/>
                    </a:lnTo>
                    <a:lnTo>
                      <a:pt x="927" y="972"/>
                    </a:lnTo>
                    <a:lnTo>
                      <a:pt x="934" y="957"/>
                    </a:lnTo>
                    <a:lnTo>
                      <a:pt x="954" y="956"/>
                    </a:lnTo>
                    <a:lnTo>
                      <a:pt x="969" y="962"/>
                    </a:lnTo>
                    <a:lnTo>
                      <a:pt x="982" y="971"/>
                    </a:lnTo>
                    <a:lnTo>
                      <a:pt x="992" y="985"/>
                    </a:lnTo>
                    <a:lnTo>
                      <a:pt x="1001" y="1001"/>
                    </a:lnTo>
                    <a:lnTo>
                      <a:pt x="1008" y="1017"/>
                    </a:lnTo>
                    <a:lnTo>
                      <a:pt x="1016" y="1034"/>
                    </a:lnTo>
                    <a:lnTo>
                      <a:pt x="1024" y="1050"/>
                    </a:lnTo>
                    <a:lnTo>
                      <a:pt x="1033" y="1095"/>
                    </a:lnTo>
                    <a:lnTo>
                      <a:pt x="1040" y="1138"/>
                    </a:lnTo>
                    <a:lnTo>
                      <a:pt x="1048" y="1182"/>
                    </a:lnTo>
                    <a:lnTo>
                      <a:pt x="1052" y="1229"/>
                    </a:lnTo>
                    <a:lnTo>
                      <a:pt x="1057" y="1236"/>
                    </a:lnTo>
                    <a:lnTo>
                      <a:pt x="1054" y="1245"/>
                    </a:lnTo>
                    <a:lnTo>
                      <a:pt x="1052" y="1252"/>
                    </a:lnTo>
                    <a:lnTo>
                      <a:pt x="1057" y="1261"/>
                    </a:lnTo>
                    <a:lnTo>
                      <a:pt x="1063" y="1266"/>
                    </a:lnTo>
                    <a:lnTo>
                      <a:pt x="1069" y="1271"/>
                    </a:lnTo>
                    <a:lnTo>
                      <a:pt x="1078" y="1271"/>
                    </a:lnTo>
                    <a:lnTo>
                      <a:pt x="1085" y="1267"/>
                    </a:lnTo>
                    <a:lnTo>
                      <a:pt x="1092" y="1248"/>
                    </a:lnTo>
                    <a:lnTo>
                      <a:pt x="1094" y="1228"/>
                    </a:lnTo>
                    <a:lnTo>
                      <a:pt x="1096" y="1207"/>
                    </a:lnTo>
                    <a:lnTo>
                      <a:pt x="1103" y="1188"/>
                    </a:lnTo>
                    <a:lnTo>
                      <a:pt x="1111" y="1172"/>
                    </a:lnTo>
                    <a:lnTo>
                      <a:pt x="1118" y="1156"/>
                    </a:lnTo>
                    <a:lnTo>
                      <a:pt x="1125" y="1139"/>
                    </a:lnTo>
                    <a:lnTo>
                      <a:pt x="1131" y="1122"/>
                    </a:lnTo>
                    <a:lnTo>
                      <a:pt x="1134" y="1100"/>
                    </a:lnTo>
                    <a:lnTo>
                      <a:pt x="1141" y="1079"/>
                    </a:lnTo>
                    <a:lnTo>
                      <a:pt x="1149" y="1060"/>
                    </a:lnTo>
                    <a:lnTo>
                      <a:pt x="1154" y="1039"/>
                    </a:lnTo>
                    <a:lnTo>
                      <a:pt x="1158" y="1001"/>
                    </a:lnTo>
                    <a:lnTo>
                      <a:pt x="1164" y="964"/>
                    </a:lnTo>
                    <a:lnTo>
                      <a:pt x="1171" y="925"/>
                    </a:lnTo>
                    <a:lnTo>
                      <a:pt x="1180" y="888"/>
                    </a:lnTo>
                    <a:lnTo>
                      <a:pt x="1188" y="851"/>
                    </a:lnTo>
                    <a:lnTo>
                      <a:pt x="1196" y="812"/>
                    </a:lnTo>
                    <a:lnTo>
                      <a:pt x="1203" y="775"/>
                    </a:lnTo>
                    <a:lnTo>
                      <a:pt x="1210" y="736"/>
                    </a:lnTo>
                    <a:lnTo>
                      <a:pt x="1218" y="697"/>
                    </a:lnTo>
                    <a:lnTo>
                      <a:pt x="1225" y="658"/>
                    </a:lnTo>
                    <a:lnTo>
                      <a:pt x="1229" y="619"/>
                    </a:lnTo>
                    <a:lnTo>
                      <a:pt x="1232" y="579"/>
                    </a:lnTo>
                    <a:lnTo>
                      <a:pt x="1234" y="540"/>
                    </a:lnTo>
                    <a:lnTo>
                      <a:pt x="1236" y="500"/>
                    </a:lnTo>
                    <a:lnTo>
                      <a:pt x="1240" y="461"/>
                    </a:lnTo>
                    <a:lnTo>
                      <a:pt x="1243" y="421"/>
                    </a:lnTo>
                    <a:lnTo>
                      <a:pt x="1249" y="385"/>
                    </a:lnTo>
                    <a:lnTo>
                      <a:pt x="1254" y="345"/>
                    </a:lnTo>
                    <a:lnTo>
                      <a:pt x="1254" y="305"/>
                    </a:lnTo>
                    <a:lnTo>
                      <a:pt x="1254" y="264"/>
                    </a:lnTo>
                    <a:lnTo>
                      <a:pt x="1259" y="239"/>
                    </a:lnTo>
                    <a:lnTo>
                      <a:pt x="1263" y="213"/>
                    </a:lnTo>
                    <a:lnTo>
                      <a:pt x="1265" y="184"/>
                    </a:lnTo>
                    <a:lnTo>
                      <a:pt x="1269" y="156"/>
                    </a:lnTo>
                    <a:lnTo>
                      <a:pt x="1271" y="139"/>
                    </a:lnTo>
                    <a:lnTo>
                      <a:pt x="1273" y="122"/>
                    </a:lnTo>
                    <a:lnTo>
                      <a:pt x="1276" y="104"/>
                    </a:lnTo>
                    <a:lnTo>
                      <a:pt x="1280" y="87"/>
                    </a:lnTo>
                    <a:lnTo>
                      <a:pt x="1285" y="69"/>
                    </a:lnTo>
                    <a:lnTo>
                      <a:pt x="1290" y="51"/>
                    </a:lnTo>
                    <a:lnTo>
                      <a:pt x="1295" y="34"/>
                    </a:lnTo>
                    <a:lnTo>
                      <a:pt x="1301" y="17"/>
                    </a:lnTo>
                    <a:lnTo>
                      <a:pt x="1306" y="12"/>
                    </a:lnTo>
                    <a:lnTo>
                      <a:pt x="1312" y="6"/>
                    </a:lnTo>
                    <a:lnTo>
                      <a:pt x="1319" y="3"/>
                    </a:lnTo>
                    <a:lnTo>
                      <a:pt x="1327" y="1"/>
                    </a:lnTo>
                    <a:lnTo>
                      <a:pt x="1335" y="0"/>
                    </a:lnTo>
                    <a:lnTo>
                      <a:pt x="1343" y="1"/>
                    </a:lnTo>
                    <a:lnTo>
                      <a:pt x="1352" y="2"/>
                    </a:lnTo>
                    <a:lnTo>
                      <a:pt x="1361" y="5"/>
                    </a:lnTo>
                    <a:lnTo>
                      <a:pt x="1370" y="12"/>
                    </a:lnTo>
                    <a:lnTo>
                      <a:pt x="1378" y="18"/>
                    </a:lnTo>
                    <a:lnTo>
                      <a:pt x="1384" y="27"/>
                    </a:lnTo>
                    <a:lnTo>
                      <a:pt x="1391" y="35"/>
                    </a:lnTo>
                    <a:lnTo>
                      <a:pt x="1395" y="45"/>
                    </a:lnTo>
                    <a:lnTo>
                      <a:pt x="1400" y="53"/>
                    </a:lnTo>
                    <a:lnTo>
                      <a:pt x="1406" y="63"/>
                    </a:lnTo>
                    <a:lnTo>
                      <a:pt x="1411" y="72"/>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a:off x="851760" y="3868200"/>
                <a:ext cx="97200" cy="218520"/>
              </a:xfrm>
              <a:custGeom>
                <a:avLst/>
                <a:gdLst/>
                <a:ahLst/>
                <a:rect l="l" t="t" r="r" b="b"/>
                <a:pathLst>
                  <a:path w="473" h="893">
                    <a:moveTo>
                      <a:pt x="455" y="60"/>
                    </a:moveTo>
                    <a:lnTo>
                      <a:pt x="467" y="122"/>
                    </a:lnTo>
                    <a:lnTo>
                      <a:pt x="473" y="183"/>
                    </a:lnTo>
                    <a:lnTo>
                      <a:pt x="472" y="244"/>
                    </a:lnTo>
                    <a:lnTo>
                      <a:pt x="464" y="304"/>
                    </a:lnTo>
                    <a:lnTo>
                      <a:pt x="451" y="361"/>
                    </a:lnTo>
                    <a:lnTo>
                      <a:pt x="433" y="418"/>
                    </a:lnTo>
                    <a:lnTo>
                      <a:pt x="409" y="472"/>
                    </a:lnTo>
                    <a:lnTo>
                      <a:pt x="381" y="525"/>
                    </a:lnTo>
                    <a:lnTo>
                      <a:pt x="363" y="553"/>
                    </a:lnTo>
                    <a:lnTo>
                      <a:pt x="343" y="579"/>
                    </a:lnTo>
                    <a:lnTo>
                      <a:pt x="324" y="605"/>
                    </a:lnTo>
                    <a:lnTo>
                      <a:pt x="304" y="631"/>
                    </a:lnTo>
                    <a:lnTo>
                      <a:pt x="283" y="656"/>
                    </a:lnTo>
                    <a:lnTo>
                      <a:pt x="263" y="682"/>
                    </a:lnTo>
                    <a:lnTo>
                      <a:pt x="243" y="707"/>
                    </a:lnTo>
                    <a:lnTo>
                      <a:pt x="223" y="733"/>
                    </a:lnTo>
                    <a:lnTo>
                      <a:pt x="122" y="833"/>
                    </a:lnTo>
                    <a:lnTo>
                      <a:pt x="120" y="829"/>
                    </a:lnTo>
                    <a:lnTo>
                      <a:pt x="106" y="840"/>
                    </a:lnTo>
                    <a:lnTo>
                      <a:pt x="93" y="851"/>
                    </a:lnTo>
                    <a:lnTo>
                      <a:pt x="79" y="861"/>
                    </a:lnTo>
                    <a:lnTo>
                      <a:pt x="65" y="871"/>
                    </a:lnTo>
                    <a:lnTo>
                      <a:pt x="51" y="881"/>
                    </a:lnTo>
                    <a:lnTo>
                      <a:pt x="35" y="887"/>
                    </a:lnTo>
                    <a:lnTo>
                      <a:pt x="18" y="891"/>
                    </a:lnTo>
                    <a:lnTo>
                      <a:pt x="0" y="893"/>
                    </a:lnTo>
                    <a:lnTo>
                      <a:pt x="6" y="869"/>
                    </a:lnTo>
                    <a:lnTo>
                      <a:pt x="17" y="846"/>
                    </a:lnTo>
                    <a:lnTo>
                      <a:pt x="31" y="827"/>
                    </a:lnTo>
                    <a:lnTo>
                      <a:pt x="47" y="809"/>
                    </a:lnTo>
                    <a:lnTo>
                      <a:pt x="62" y="791"/>
                    </a:lnTo>
                    <a:lnTo>
                      <a:pt x="77" y="772"/>
                    </a:lnTo>
                    <a:lnTo>
                      <a:pt x="88" y="751"/>
                    </a:lnTo>
                    <a:lnTo>
                      <a:pt x="97" y="728"/>
                    </a:lnTo>
                    <a:lnTo>
                      <a:pt x="120" y="689"/>
                    </a:lnTo>
                    <a:lnTo>
                      <a:pt x="141" y="650"/>
                    </a:lnTo>
                    <a:lnTo>
                      <a:pt x="161" y="610"/>
                    </a:lnTo>
                    <a:lnTo>
                      <a:pt x="182" y="570"/>
                    </a:lnTo>
                    <a:lnTo>
                      <a:pt x="201" y="529"/>
                    </a:lnTo>
                    <a:lnTo>
                      <a:pt x="220" y="488"/>
                    </a:lnTo>
                    <a:lnTo>
                      <a:pt x="239" y="448"/>
                    </a:lnTo>
                    <a:lnTo>
                      <a:pt x="258" y="407"/>
                    </a:lnTo>
                    <a:lnTo>
                      <a:pt x="276" y="366"/>
                    </a:lnTo>
                    <a:lnTo>
                      <a:pt x="293" y="324"/>
                    </a:lnTo>
                    <a:lnTo>
                      <a:pt x="310" y="283"/>
                    </a:lnTo>
                    <a:lnTo>
                      <a:pt x="327" y="242"/>
                    </a:lnTo>
                    <a:lnTo>
                      <a:pt x="344" y="200"/>
                    </a:lnTo>
                    <a:lnTo>
                      <a:pt x="360" y="158"/>
                    </a:lnTo>
                    <a:lnTo>
                      <a:pt x="375" y="117"/>
                    </a:lnTo>
                    <a:lnTo>
                      <a:pt x="391" y="75"/>
                    </a:lnTo>
                    <a:lnTo>
                      <a:pt x="397" y="65"/>
                    </a:lnTo>
                    <a:lnTo>
                      <a:pt x="400" y="56"/>
                    </a:lnTo>
                    <a:lnTo>
                      <a:pt x="403" y="45"/>
                    </a:lnTo>
                    <a:lnTo>
                      <a:pt x="405" y="34"/>
                    </a:lnTo>
                    <a:lnTo>
                      <a:pt x="409" y="24"/>
                    </a:lnTo>
                    <a:lnTo>
                      <a:pt x="412" y="14"/>
                    </a:lnTo>
                    <a:lnTo>
                      <a:pt x="417" y="7"/>
                    </a:lnTo>
                    <a:lnTo>
                      <a:pt x="424" y="0"/>
                    </a:lnTo>
                    <a:lnTo>
                      <a:pt x="435" y="14"/>
                    </a:lnTo>
                    <a:lnTo>
                      <a:pt x="444" y="28"/>
                    </a:lnTo>
                    <a:lnTo>
                      <a:pt x="449" y="43"/>
                    </a:lnTo>
                    <a:lnTo>
                      <a:pt x="455" y="6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a:off x="839160" y="4009320"/>
                <a:ext cx="127440" cy="142560"/>
              </a:xfrm>
              <a:custGeom>
                <a:avLst/>
                <a:gdLst/>
                <a:ahLst/>
                <a:rect l="l" t="t" r="r" b="b"/>
                <a:pathLst>
                  <a:path w="619" h="580">
                    <a:moveTo>
                      <a:pt x="619" y="101"/>
                    </a:moveTo>
                    <a:lnTo>
                      <a:pt x="610" y="140"/>
                    </a:lnTo>
                    <a:lnTo>
                      <a:pt x="597" y="176"/>
                    </a:lnTo>
                    <a:lnTo>
                      <a:pt x="582" y="212"/>
                    </a:lnTo>
                    <a:lnTo>
                      <a:pt x="564" y="245"/>
                    </a:lnTo>
                    <a:lnTo>
                      <a:pt x="544" y="277"/>
                    </a:lnTo>
                    <a:lnTo>
                      <a:pt x="521" y="307"/>
                    </a:lnTo>
                    <a:lnTo>
                      <a:pt x="497" y="335"/>
                    </a:lnTo>
                    <a:lnTo>
                      <a:pt x="471" y="361"/>
                    </a:lnTo>
                    <a:lnTo>
                      <a:pt x="443" y="387"/>
                    </a:lnTo>
                    <a:lnTo>
                      <a:pt x="413" y="412"/>
                    </a:lnTo>
                    <a:lnTo>
                      <a:pt x="383" y="434"/>
                    </a:lnTo>
                    <a:lnTo>
                      <a:pt x="352" y="456"/>
                    </a:lnTo>
                    <a:lnTo>
                      <a:pt x="320" y="477"/>
                    </a:lnTo>
                    <a:lnTo>
                      <a:pt x="287" y="497"/>
                    </a:lnTo>
                    <a:lnTo>
                      <a:pt x="255" y="516"/>
                    </a:lnTo>
                    <a:lnTo>
                      <a:pt x="222" y="534"/>
                    </a:lnTo>
                    <a:lnTo>
                      <a:pt x="210" y="541"/>
                    </a:lnTo>
                    <a:lnTo>
                      <a:pt x="197" y="546"/>
                    </a:lnTo>
                    <a:lnTo>
                      <a:pt x="184" y="552"/>
                    </a:lnTo>
                    <a:lnTo>
                      <a:pt x="171" y="556"/>
                    </a:lnTo>
                    <a:lnTo>
                      <a:pt x="157" y="559"/>
                    </a:lnTo>
                    <a:lnTo>
                      <a:pt x="144" y="561"/>
                    </a:lnTo>
                    <a:lnTo>
                      <a:pt x="130" y="564"/>
                    </a:lnTo>
                    <a:lnTo>
                      <a:pt x="116" y="565"/>
                    </a:lnTo>
                    <a:lnTo>
                      <a:pt x="102" y="568"/>
                    </a:lnTo>
                    <a:lnTo>
                      <a:pt x="87" y="569"/>
                    </a:lnTo>
                    <a:lnTo>
                      <a:pt x="72" y="571"/>
                    </a:lnTo>
                    <a:lnTo>
                      <a:pt x="58" y="572"/>
                    </a:lnTo>
                    <a:lnTo>
                      <a:pt x="43" y="574"/>
                    </a:lnTo>
                    <a:lnTo>
                      <a:pt x="29" y="576"/>
                    </a:lnTo>
                    <a:lnTo>
                      <a:pt x="14" y="578"/>
                    </a:lnTo>
                    <a:lnTo>
                      <a:pt x="0" y="580"/>
                    </a:lnTo>
                    <a:lnTo>
                      <a:pt x="18" y="572"/>
                    </a:lnTo>
                    <a:lnTo>
                      <a:pt x="36" y="563"/>
                    </a:lnTo>
                    <a:lnTo>
                      <a:pt x="54" y="554"/>
                    </a:lnTo>
                    <a:lnTo>
                      <a:pt x="72" y="544"/>
                    </a:lnTo>
                    <a:lnTo>
                      <a:pt x="89" y="533"/>
                    </a:lnTo>
                    <a:lnTo>
                      <a:pt x="105" y="523"/>
                    </a:lnTo>
                    <a:lnTo>
                      <a:pt x="121" y="512"/>
                    </a:lnTo>
                    <a:lnTo>
                      <a:pt x="136" y="501"/>
                    </a:lnTo>
                    <a:lnTo>
                      <a:pt x="149" y="498"/>
                    </a:lnTo>
                    <a:lnTo>
                      <a:pt x="160" y="493"/>
                    </a:lnTo>
                    <a:lnTo>
                      <a:pt x="170" y="486"/>
                    </a:lnTo>
                    <a:lnTo>
                      <a:pt x="181" y="479"/>
                    </a:lnTo>
                    <a:lnTo>
                      <a:pt x="191" y="471"/>
                    </a:lnTo>
                    <a:lnTo>
                      <a:pt x="200" y="465"/>
                    </a:lnTo>
                    <a:lnTo>
                      <a:pt x="211" y="460"/>
                    </a:lnTo>
                    <a:lnTo>
                      <a:pt x="222" y="455"/>
                    </a:lnTo>
                    <a:lnTo>
                      <a:pt x="233" y="445"/>
                    </a:lnTo>
                    <a:lnTo>
                      <a:pt x="246" y="434"/>
                    </a:lnTo>
                    <a:lnTo>
                      <a:pt x="259" y="424"/>
                    </a:lnTo>
                    <a:lnTo>
                      <a:pt x="273" y="415"/>
                    </a:lnTo>
                    <a:lnTo>
                      <a:pt x="286" y="405"/>
                    </a:lnTo>
                    <a:lnTo>
                      <a:pt x="300" y="395"/>
                    </a:lnTo>
                    <a:lnTo>
                      <a:pt x="314" y="386"/>
                    </a:lnTo>
                    <a:lnTo>
                      <a:pt x="328" y="376"/>
                    </a:lnTo>
                    <a:lnTo>
                      <a:pt x="342" y="368"/>
                    </a:lnTo>
                    <a:lnTo>
                      <a:pt x="355" y="358"/>
                    </a:lnTo>
                    <a:lnTo>
                      <a:pt x="369" y="348"/>
                    </a:lnTo>
                    <a:lnTo>
                      <a:pt x="383" y="339"/>
                    </a:lnTo>
                    <a:lnTo>
                      <a:pt x="397" y="329"/>
                    </a:lnTo>
                    <a:lnTo>
                      <a:pt x="410" y="320"/>
                    </a:lnTo>
                    <a:lnTo>
                      <a:pt x="423" y="309"/>
                    </a:lnTo>
                    <a:lnTo>
                      <a:pt x="436" y="298"/>
                    </a:lnTo>
                    <a:lnTo>
                      <a:pt x="450" y="290"/>
                    </a:lnTo>
                    <a:lnTo>
                      <a:pt x="465" y="281"/>
                    </a:lnTo>
                    <a:lnTo>
                      <a:pt x="480" y="272"/>
                    </a:lnTo>
                    <a:lnTo>
                      <a:pt x="495" y="261"/>
                    </a:lnTo>
                    <a:lnTo>
                      <a:pt x="509" y="250"/>
                    </a:lnTo>
                    <a:lnTo>
                      <a:pt x="519" y="238"/>
                    </a:lnTo>
                    <a:lnTo>
                      <a:pt x="528" y="226"/>
                    </a:lnTo>
                    <a:lnTo>
                      <a:pt x="533" y="212"/>
                    </a:lnTo>
                    <a:lnTo>
                      <a:pt x="538" y="200"/>
                    </a:lnTo>
                    <a:lnTo>
                      <a:pt x="545" y="188"/>
                    </a:lnTo>
                    <a:lnTo>
                      <a:pt x="554" y="178"/>
                    </a:lnTo>
                    <a:lnTo>
                      <a:pt x="563" y="167"/>
                    </a:lnTo>
                    <a:lnTo>
                      <a:pt x="571" y="156"/>
                    </a:lnTo>
                    <a:lnTo>
                      <a:pt x="575" y="144"/>
                    </a:lnTo>
                    <a:lnTo>
                      <a:pt x="574" y="133"/>
                    </a:lnTo>
                    <a:lnTo>
                      <a:pt x="565" y="120"/>
                    </a:lnTo>
                    <a:lnTo>
                      <a:pt x="557" y="121"/>
                    </a:lnTo>
                    <a:lnTo>
                      <a:pt x="554" y="126"/>
                    </a:lnTo>
                    <a:lnTo>
                      <a:pt x="550" y="133"/>
                    </a:lnTo>
                    <a:lnTo>
                      <a:pt x="545" y="138"/>
                    </a:lnTo>
                    <a:lnTo>
                      <a:pt x="531" y="153"/>
                    </a:lnTo>
                    <a:lnTo>
                      <a:pt x="516" y="167"/>
                    </a:lnTo>
                    <a:lnTo>
                      <a:pt x="501" y="181"/>
                    </a:lnTo>
                    <a:lnTo>
                      <a:pt x="486" y="195"/>
                    </a:lnTo>
                    <a:lnTo>
                      <a:pt x="471" y="207"/>
                    </a:lnTo>
                    <a:lnTo>
                      <a:pt x="456" y="220"/>
                    </a:lnTo>
                    <a:lnTo>
                      <a:pt x="440" y="233"/>
                    </a:lnTo>
                    <a:lnTo>
                      <a:pt x="425" y="245"/>
                    </a:lnTo>
                    <a:lnTo>
                      <a:pt x="409" y="258"/>
                    </a:lnTo>
                    <a:lnTo>
                      <a:pt x="393" y="269"/>
                    </a:lnTo>
                    <a:lnTo>
                      <a:pt x="377" y="281"/>
                    </a:lnTo>
                    <a:lnTo>
                      <a:pt x="361" y="293"/>
                    </a:lnTo>
                    <a:lnTo>
                      <a:pt x="344" y="305"/>
                    </a:lnTo>
                    <a:lnTo>
                      <a:pt x="328" y="316"/>
                    </a:lnTo>
                    <a:lnTo>
                      <a:pt x="311" y="329"/>
                    </a:lnTo>
                    <a:lnTo>
                      <a:pt x="293" y="341"/>
                    </a:lnTo>
                    <a:lnTo>
                      <a:pt x="293" y="348"/>
                    </a:lnTo>
                    <a:lnTo>
                      <a:pt x="282" y="357"/>
                    </a:lnTo>
                    <a:lnTo>
                      <a:pt x="271" y="366"/>
                    </a:lnTo>
                    <a:lnTo>
                      <a:pt x="259" y="373"/>
                    </a:lnTo>
                    <a:lnTo>
                      <a:pt x="246" y="381"/>
                    </a:lnTo>
                    <a:lnTo>
                      <a:pt x="235" y="388"/>
                    </a:lnTo>
                    <a:lnTo>
                      <a:pt x="223" y="394"/>
                    </a:lnTo>
                    <a:lnTo>
                      <a:pt x="210" y="401"/>
                    </a:lnTo>
                    <a:lnTo>
                      <a:pt x="198" y="407"/>
                    </a:lnTo>
                    <a:lnTo>
                      <a:pt x="185" y="414"/>
                    </a:lnTo>
                    <a:lnTo>
                      <a:pt x="172" y="419"/>
                    </a:lnTo>
                    <a:lnTo>
                      <a:pt x="161" y="425"/>
                    </a:lnTo>
                    <a:lnTo>
                      <a:pt x="148" y="431"/>
                    </a:lnTo>
                    <a:lnTo>
                      <a:pt x="136" y="437"/>
                    </a:lnTo>
                    <a:lnTo>
                      <a:pt x="123" y="443"/>
                    </a:lnTo>
                    <a:lnTo>
                      <a:pt x="111" y="449"/>
                    </a:lnTo>
                    <a:lnTo>
                      <a:pt x="100" y="455"/>
                    </a:lnTo>
                    <a:lnTo>
                      <a:pt x="101" y="448"/>
                    </a:lnTo>
                    <a:lnTo>
                      <a:pt x="104" y="441"/>
                    </a:lnTo>
                    <a:lnTo>
                      <a:pt x="108" y="435"/>
                    </a:lnTo>
                    <a:lnTo>
                      <a:pt x="115" y="429"/>
                    </a:lnTo>
                    <a:lnTo>
                      <a:pt x="121" y="423"/>
                    </a:lnTo>
                    <a:lnTo>
                      <a:pt x="127" y="418"/>
                    </a:lnTo>
                    <a:lnTo>
                      <a:pt x="132" y="414"/>
                    </a:lnTo>
                    <a:lnTo>
                      <a:pt x="136" y="409"/>
                    </a:lnTo>
                    <a:lnTo>
                      <a:pt x="149" y="397"/>
                    </a:lnTo>
                    <a:lnTo>
                      <a:pt x="162" y="384"/>
                    </a:lnTo>
                    <a:lnTo>
                      <a:pt x="176" y="370"/>
                    </a:lnTo>
                    <a:lnTo>
                      <a:pt x="188" y="356"/>
                    </a:lnTo>
                    <a:lnTo>
                      <a:pt x="202" y="342"/>
                    </a:lnTo>
                    <a:lnTo>
                      <a:pt x="216" y="330"/>
                    </a:lnTo>
                    <a:lnTo>
                      <a:pt x="229" y="319"/>
                    </a:lnTo>
                    <a:lnTo>
                      <a:pt x="243" y="309"/>
                    </a:lnTo>
                    <a:lnTo>
                      <a:pt x="254" y="298"/>
                    </a:lnTo>
                    <a:lnTo>
                      <a:pt x="264" y="286"/>
                    </a:lnTo>
                    <a:lnTo>
                      <a:pt x="275" y="276"/>
                    </a:lnTo>
                    <a:lnTo>
                      <a:pt x="287" y="265"/>
                    </a:lnTo>
                    <a:lnTo>
                      <a:pt x="299" y="253"/>
                    </a:lnTo>
                    <a:lnTo>
                      <a:pt x="311" y="243"/>
                    </a:lnTo>
                    <a:lnTo>
                      <a:pt x="322" y="232"/>
                    </a:lnTo>
                    <a:lnTo>
                      <a:pt x="334" y="220"/>
                    </a:lnTo>
                    <a:lnTo>
                      <a:pt x="346" y="210"/>
                    </a:lnTo>
                    <a:lnTo>
                      <a:pt x="358" y="198"/>
                    </a:lnTo>
                    <a:lnTo>
                      <a:pt x="369" y="187"/>
                    </a:lnTo>
                    <a:lnTo>
                      <a:pt x="381" y="175"/>
                    </a:lnTo>
                    <a:lnTo>
                      <a:pt x="392" y="164"/>
                    </a:lnTo>
                    <a:lnTo>
                      <a:pt x="403" y="151"/>
                    </a:lnTo>
                    <a:lnTo>
                      <a:pt x="413" y="139"/>
                    </a:lnTo>
                    <a:lnTo>
                      <a:pt x="423" y="126"/>
                    </a:lnTo>
                    <a:lnTo>
                      <a:pt x="441" y="108"/>
                    </a:lnTo>
                    <a:lnTo>
                      <a:pt x="458" y="87"/>
                    </a:lnTo>
                    <a:lnTo>
                      <a:pt x="474" y="63"/>
                    </a:lnTo>
                    <a:lnTo>
                      <a:pt x="490" y="40"/>
                    </a:lnTo>
                    <a:lnTo>
                      <a:pt x="510" y="20"/>
                    </a:lnTo>
                    <a:lnTo>
                      <a:pt x="531" y="7"/>
                    </a:lnTo>
                    <a:lnTo>
                      <a:pt x="558" y="0"/>
                    </a:lnTo>
                    <a:lnTo>
                      <a:pt x="591" y="4"/>
                    </a:lnTo>
                    <a:lnTo>
                      <a:pt x="603" y="12"/>
                    </a:lnTo>
                    <a:lnTo>
                      <a:pt x="609" y="23"/>
                    </a:lnTo>
                    <a:lnTo>
                      <a:pt x="614" y="34"/>
                    </a:lnTo>
                    <a:lnTo>
                      <a:pt x="616" y="46"/>
                    </a:lnTo>
                    <a:lnTo>
                      <a:pt x="616" y="60"/>
                    </a:lnTo>
                    <a:lnTo>
                      <a:pt x="616" y="74"/>
                    </a:lnTo>
                    <a:lnTo>
                      <a:pt x="617" y="88"/>
                    </a:lnTo>
                    <a:lnTo>
                      <a:pt x="619" y="101"/>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a:off x="846000" y="4144680"/>
                <a:ext cx="140760" cy="75960"/>
              </a:xfrm>
              <a:custGeom>
                <a:avLst/>
                <a:gdLst/>
                <a:ahLst/>
                <a:rect l="l" t="t" r="r" b="b"/>
                <a:pathLst>
                  <a:path w="680" h="309">
                    <a:moveTo>
                      <a:pt x="658" y="49"/>
                    </a:moveTo>
                    <a:lnTo>
                      <a:pt x="660" y="54"/>
                    </a:lnTo>
                    <a:lnTo>
                      <a:pt x="663" y="59"/>
                    </a:lnTo>
                    <a:lnTo>
                      <a:pt x="667" y="63"/>
                    </a:lnTo>
                    <a:lnTo>
                      <a:pt x="672" y="66"/>
                    </a:lnTo>
                    <a:lnTo>
                      <a:pt x="680" y="66"/>
                    </a:lnTo>
                    <a:lnTo>
                      <a:pt x="671" y="85"/>
                    </a:lnTo>
                    <a:lnTo>
                      <a:pt x="660" y="101"/>
                    </a:lnTo>
                    <a:lnTo>
                      <a:pt x="646" y="117"/>
                    </a:lnTo>
                    <a:lnTo>
                      <a:pt x="632" y="131"/>
                    </a:lnTo>
                    <a:lnTo>
                      <a:pt x="616" y="144"/>
                    </a:lnTo>
                    <a:lnTo>
                      <a:pt x="600" y="156"/>
                    </a:lnTo>
                    <a:lnTo>
                      <a:pt x="584" y="170"/>
                    </a:lnTo>
                    <a:lnTo>
                      <a:pt x="568" y="184"/>
                    </a:lnTo>
                    <a:lnTo>
                      <a:pt x="552" y="196"/>
                    </a:lnTo>
                    <a:lnTo>
                      <a:pt x="535" y="208"/>
                    </a:lnTo>
                    <a:lnTo>
                      <a:pt x="519" y="217"/>
                    </a:lnTo>
                    <a:lnTo>
                      <a:pt x="502" y="227"/>
                    </a:lnTo>
                    <a:lnTo>
                      <a:pt x="484" y="236"/>
                    </a:lnTo>
                    <a:lnTo>
                      <a:pt x="466" y="244"/>
                    </a:lnTo>
                    <a:lnTo>
                      <a:pt x="448" y="252"/>
                    </a:lnTo>
                    <a:lnTo>
                      <a:pt x="430" y="258"/>
                    </a:lnTo>
                    <a:lnTo>
                      <a:pt x="411" y="264"/>
                    </a:lnTo>
                    <a:lnTo>
                      <a:pt x="393" y="270"/>
                    </a:lnTo>
                    <a:lnTo>
                      <a:pt x="373" y="275"/>
                    </a:lnTo>
                    <a:lnTo>
                      <a:pt x="354" y="280"/>
                    </a:lnTo>
                    <a:lnTo>
                      <a:pt x="335" y="285"/>
                    </a:lnTo>
                    <a:lnTo>
                      <a:pt x="314" y="290"/>
                    </a:lnTo>
                    <a:lnTo>
                      <a:pt x="295" y="294"/>
                    </a:lnTo>
                    <a:lnTo>
                      <a:pt x="275" y="299"/>
                    </a:lnTo>
                    <a:lnTo>
                      <a:pt x="264" y="300"/>
                    </a:lnTo>
                    <a:lnTo>
                      <a:pt x="253" y="302"/>
                    </a:lnTo>
                    <a:lnTo>
                      <a:pt x="242" y="303"/>
                    </a:lnTo>
                    <a:lnTo>
                      <a:pt x="231" y="305"/>
                    </a:lnTo>
                    <a:lnTo>
                      <a:pt x="219" y="306"/>
                    </a:lnTo>
                    <a:lnTo>
                      <a:pt x="208" y="307"/>
                    </a:lnTo>
                    <a:lnTo>
                      <a:pt x="198" y="308"/>
                    </a:lnTo>
                    <a:lnTo>
                      <a:pt x="186" y="309"/>
                    </a:lnTo>
                    <a:lnTo>
                      <a:pt x="175" y="309"/>
                    </a:lnTo>
                    <a:lnTo>
                      <a:pt x="165" y="308"/>
                    </a:lnTo>
                    <a:lnTo>
                      <a:pt x="154" y="307"/>
                    </a:lnTo>
                    <a:lnTo>
                      <a:pt x="143" y="306"/>
                    </a:lnTo>
                    <a:lnTo>
                      <a:pt x="132" y="304"/>
                    </a:lnTo>
                    <a:lnTo>
                      <a:pt x="122" y="301"/>
                    </a:lnTo>
                    <a:lnTo>
                      <a:pt x="112" y="296"/>
                    </a:lnTo>
                    <a:lnTo>
                      <a:pt x="102" y="291"/>
                    </a:lnTo>
                    <a:lnTo>
                      <a:pt x="93" y="290"/>
                    </a:lnTo>
                    <a:lnTo>
                      <a:pt x="82" y="289"/>
                    </a:lnTo>
                    <a:lnTo>
                      <a:pt x="72" y="288"/>
                    </a:lnTo>
                    <a:lnTo>
                      <a:pt x="63" y="285"/>
                    </a:lnTo>
                    <a:lnTo>
                      <a:pt x="53" y="283"/>
                    </a:lnTo>
                    <a:lnTo>
                      <a:pt x="45" y="278"/>
                    </a:lnTo>
                    <a:lnTo>
                      <a:pt x="36" y="273"/>
                    </a:lnTo>
                    <a:lnTo>
                      <a:pt x="28" y="267"/>
                    </a:lnTo>
                    <a:lnTo>
                      <a:pt x="46" y="258"/>
                    </a:lnTo>
                    <a:lnTo>
                      <a:pt x="65" y="249"/>
                    </a:lnTo>
                    <a:lnTo>
                      <a:pt x="83" y="243"/>
                    </a:lnTo>
                    <a:lnTo>
                      <a:pt x="102" y="237"/>
                    </a:lnTo>
                    <a:lnTo>
                      <a:pt x="122" y="230"/>
                    </a:lnTo>
                    <a:lnTo>
                      <a:pt x="141" y="223"/>
                    </a:lnTo>
                    <a:lnTo>
                      <a:pt x="160" y="215"/>
                    </a:lnTo>
                    <a:lnTo>
                      <a:pt x="178" y="206"/>
                    </a:lnTo>
                    <a:lnTo>
                      <a:pt x="195" y="201"/>
                    </a:lnTo>
                    <a:lnTo>
                      <a:pt x="211" y="196"/>
                    </a:lnTo>
                    <a:lnTo>
                      <a:pt x="227" y="192"/>
                    </a:lnTo>
                    <a:lnTo>
                      <a:pt x="243" y="186"/>
                    </a:lnTo>
                    <a:lnTo>
                      <a:pt x="260" y="182"/>
                    </a:lnTo>
                    <a:lnTo>
                      <a:pt x="276" y="177"/>
                    </a:lnTo>
                    <a:lnTo>
                      <a:pt x="292" y="172"/>
                    </a:lnTo>
                    <a:lnTo>
                      <a:pt x="308" y="168"/>
                    </a:lnTo>
                    <a:lnTo>
                      <a:pt x="325" y="163"/>
                    </a:lnTo>
                    <a:lnTo>
                      <a:pt x="341" y="159"/>
                    </a:lnTo>
                    <a:lnTo>
                      <a:pt x="357" y="154"/>
                    </a:lnTo>
                    <a:lnTo>
                      <a:pt x="374" y="149"/>
                    </a:lnTo>
                    <a:lnTo>
                      <a:pt x="390" y="145"/>
                    </a:lnTo>
                    <a:lnTo>
                      <a:pt x="407" y="140"/>
                    </a:lnTo>
                    <a:lnTo>
                      <a:pt x="424" y="135"/>
                    </a:lnTo>
                    <a:lnTo>
                      <a:pt x="440" y="131"/>
                    </a:lnTo>
                    <a:lnTo>
                      <a:pt x="457" y="128"/>
                    </a:lnTo>
                    <a:lnTo>
                      <a:pt x="474" y="123"/>
                    </a:lnTo>
                    <a:lnTo>
                      <a:pt x="490" y="118"/>
                    </a:lnTo>
                    <a:lnTo>
                      <a:pt x="507" y="113"/>
                    </a:lnTo>
                    <a:lnTo>
                      <a:pt x="523" y="107"/>
                    </a:lnTo>
                    <a:lnTo>
                      <a:pt x="539" y="102"/>
                    </a:lnTo>
                    <a:lnTo>
                      <a:pt x="556" y="98"/>
                    </a:lnTo>
                    <a:lnTo>
                      <a:pt x="572" y="94"/>
                    </a:lnTo>
                    <a:lnTo>
                      <a:pt x="577" y="92"/>
                    </a:lnTo>
                    <a:lnTo>
                      <a:pt x="582" y="91"/>
                    </a:lnTo>
                    <a:lnTo>
                      <a:pt x="587" y="91"/>
                    </a:lnTo>
                    <a:lnTo>
                      <a:pt x="594" y="90"/>
                    </a:lnTo>
                    <a:lnTo>
                      <a:pt x="598" y="89"/>
                    </a:lnTo>
                    <a:lnTo>
                      <a:pt x="602" y="87"/>
                    </a:lnTo>
                    <a:lnTo>
                      <a:pt x="606" y="83"/>
                    </a:lnTo>
                    <a:lnTo>
                      <a:pt x="608" y="76"/>
                    </a:lnTo>
                    <a:lnTo>
                      <a:pt x="600" y="71"/>
                    </a:lnTo>
                    <a:lnTo>
                      <a:pt x="592" y="67"/>
                    </a:lnTo>
                    <a:lnTo>
                      <a:pt x="582" y="65"/>
                    </a:lnTo>
                    <a:lnTo>
                      <a:pt x="572" y="63"/>
                    </a:lnTo>
                    <a:lnTo>
                      <a:pt x="563" y="63"/>
                    </a:lnTo>
                    <a:lnTo>
                      <a:pt x="552" y="63"/>
                    </a:lnTo>
                    <a:lnTo>
                      <a:pt x="541" y="63"/>
                    </a:lnTo>
                    <a:lnTo>
                      <a:pt x="532" y="62"/>
                    </a:lnTo>
                    <a:lnTo>
                      <a:pt x="520" y="67"/>
                    </a:lnTo>
                    <a:lnTo>
                      <a:pt x="508" y="71"/>
                    </a:lnTo>
                    <a:lnTo>
                      <a:pt x="496" y="74"/>
                    </a:lnTo>
                    <a:lnTo>
                      <a:pt x="486" y="77"/>
                    </a:lnTo>
                    <a:lnTo>
                      <a:pt x="474" y="80"/>
                    </a:lnTo>
                    <a:lnTo>
                      <a:pt x="462" y="82"/>
                    </a:lnTo>
                    <a:lnTo>
                      <a:pt x="450" y="84"/>
                    </a:lnTo>
                    <a:lnTo>
                      <a:pt x="439" y="86"/>
                    </a:lnTo>
                    <a:lnTo>
                      <a:pt x="427" y="88"/>
                    </a:lnTo>
                    <a:lnTo>
                      <a:pt x="415" y="90"/>
                    </a:lnTo>
                    <a:lnTo>
                      <a:pt x="403" y="91"/>
                    </a:lnTo>
                    <a:lnTo>
                      <a:pt x="392" y="94"/>
                    </a:lnTo>
                    <a:lnTo>
                      <a:pt x="380" y="97"/>
                    </a:lnTo>
                    <a:lnTo>
                      <a:pt x="368" y="99"/>
                    </a:lnTo>
                    <a:lnTo>
                      <a:pt x="355" y="103"/>
                    </a:lnTo>
                    <a:lnTo>
                      <a:pt x="343" y="106"/>
                    </a:lnTo>
                    <a:lnTo>
                      <a:pt x="331" y="108"/>
                    </a:lnTo>
                    <a:lnTo>
                      <a:pt x="319" y="110"/>
                    </a:lnTo>
                    <a:lnTo>
                      <a:pt x="306" y="114"/>
                    </a:lnTo>
                    <a:lnTo>
                      <a:pt x="294" y="116"/>
                    </a:lnTo>
                    <a:lnTo>
                      <a:pt x="282" y="119"/>
                    </a:lnTo>
                    <a:lnTo>
                      <a:pt x="271" y="122"/>
                    </a:lnTo>
                    <a:lnTo>
                      <a:pt x="259" y="124"/>
                    </a:lnTo>
                    <a:lnTo>
                      <a:pt x="247" y="128"/>
                    </a:lnTo>
                    <a:lnTo>
                      <a:pt x="235" y="132"/>
                    </a:lnTo>
                    <a:lnTo>
                      <a:pt x="225" y="135"/>
                    </a:lnTo>
                    <a:lnTo>
                      <a:pt x="213" y="138"/>
                    </a:lnTo>
                    <a:lnTo>
                      <a:pt x="201" y="143"/>
                    </a:lnTo>
                    <a:lnTo>
                      <a:pt x="189" y="147"/>
                    </a:lnTo>
                    <a:lnTo>
                      <a:pt x="177" y="151"/>
                    </a:lnTo>
                    <a:lnTo>
                      <a:pt x="165" y="155"/>
                    </a:lnTo>
                    <a:lnTo>
                      <a:pt x="153" y="160"/>
                    </a:lnTo>
                    <a:lnTo>
                      <a:pt x="134" y="164"/>
                    </a:lnTo>
                    <a:lnTo>
                      <a:pt x="114" y="168"/>
                    </a:lnTo>
                    <a:lnTo>
                      <a:pt x="94" y="172"/>
                    </a:lnTo>
                    <a:lnTo>
                      <a:pt x="75" y="177"/>
                    </a:lnTo>
                    <a:lnTo>
                      <a:pt x="54" y="181"/>
                    </a:lnTo>
                    <a:lnTo>
                      <a:pt x="35" y="184"/>
                    </a:lnTo>
                    <a:lnTo>
                      <a:pt x="17" y="188"/>
                    </a:lnTo>
                    <a:lnTo>
                      <a:pt x="0" y="192"/>
                    </a:lnTo>
                    <a:lnTo>
                      <a:pt x="4" y="185"/>
                    </a:lnTo>
                    <a:lnTo>
                      <a:pt x="10" y="180"/>
                    </a:lnTo>
                    <a:lnTo>
                      <a:pt x="17" y="175"/>
                    </a:lnTo>
                    <a:lnTo>
                      <a:pt x="24" y="169"/>
                    </a:lnTo>
                    <a:lnTo>
                      <a:pt x="32" y="164"/>
                    </a:lnTo>
                    <a:lnTo>
                      <a:pt x="40" y="160"/>
                    </a:lnTo>
                    <a:lnTo>
                      <a:pt x="48" y="155"/>
                    </a:lnTo>
                    <a:lnTo>
                      <a:pt x="56" y="152"/>
                    </a:lnTo>
                    <a:lnTo>
                      <a:pt x="76" y="141"/>
                    </a:lnTo>
                    <a:lnTo>
                      <a:pt x="95" y="132"/>
                    </a:lnTo>
                    <a:lnTo>
                      <a:pt x="115" y="122"/>
                    </a:lnTo>
                    <a:lnTo>
                      <a:pt x="136" y="114"/>
                    </a:lnTo>
                    <a:lnTo>
                      <a:pt x="156" y="105"/>
                    </a:lnTo>
                    <a:lnTo>
                      <a:pt x="175" y="96"/>
                    </a:lnTo>
                    <a:lnTo>
                      <a:pt x="193" y="85"/>
                    </a:lnTo>
                    <a:lnTo>
                      <a:pt x="211" y="73"/>
                    </a:lnTo>
                    <a:lnTo>
                      <a:pt x="221" y="68"/>
                    </a:lnTo>
                    <a:lnTo>
                      <a:pt x="233" y="63"/>
                    </a:lnTo>
                    <a:lnTo>
                      <a:pt x="245" y="60"/>
                    </a:lnTo>
                    <a:lnTo>
                      <a:pt x="258" y="56"/>
                    </a:lnTo>
                    <a:lnTo>
                      <a:pt x="268" y="53"/>
                    </a:lnTo>
                    <a:lnTo>
                      <a:pt x="280" y="47"/>
                    </a:lnTo>
                    <a:lnTo>
                      <a:pt x="291" y="42"/>
                    </a:lnTo>
                    <a:lnTo>
                      <a:pt x="301" y="35"/>
                    </a:lnTo>
                    <a:lnTo>
                      <a:pt x="311" y="36"/>
                    </a:lnTo>
                    <a:lnTo>
                      <a:pt x="320" y="35"/>
                    </a:lnTo>
                    <a:lnTo>
                      <a:pt x="329" y="32"/>
                    </a:lnTo>
                    <a:lnTo>
                      <a:pt x="338" y="28"/>
                    </a:lnTo>
                    <a:lnTo>
                      <a:pt x="345" y="25"/>
                    </a:lnTo>
                    <a:lnTo>
                      <a:pt x="354" y="21"/>
                    </a:lnTo>
                    <a:lnTo>
                      <a:pt x="363" y="19"/>
                    </a:lnTo>
                    <a:lnTo>
                      <a:pt x="371" y="16"/>
                    </a:lnTo>
                    <a:lnTo>
                      <a:pt x="388" y="13"/>
                    </a:lnTo>
                    <a:lnTo>
                      <a:pt x="407" y="10"/>
                    </a:lnTo>
                    <a:lnTo>
                      <a:pt x="425" y="8"/>
                    </a:lnTo>
                    <a:lnTo>
                      <a:pt x="444" y="5"/>
                    </a:lnTo>
                    <a:lnTo>
                      <a:pt x="463" y="3"/>
                    </a:lnTo>
                    <a:lnTo>
                      <a:pt x="481" y="0"/>
                    </a:lnTo>
                    <a:lnTo>
                      <a:pt x="501" y="0"/>
                    </a:lnTo>
                    <a:lnTo>
                      <a:pt x="520" y="0"/>
                    </a:lnTo>
                    <a:lnTo>
                      <a:pt x="539" y="2"/>
                    </a:lnTo>
                    <a:lnTo>
                      <a:pt x="557" y="4"/>
                    </a:lnTo>
                    <a:lnTo>
                      <a:pt x="577" y="7"/>
                    </a:lnTo>
                    <a:lnTo>
                      <a:pt x="594" y="11"/>
                    </a:lnTo>
                    <a:lnTo>
                      <a:pt x="611" y="18"/>
                    </a:lnTo>
                    <a:lnTo>
                      <a:pt x="628" y="26"/>
                    </a:lnTo>
                    <a:lnTo>
                      <a:pt x="643" y="37"/>
                    </a:lnTo>
                    <a:lnTo>
                      <a:pt x="658" y="49"/>
                    </a:lnTo>
                    <a:close/>
                  </a:path>
                </a:pathLst>
              </a:custGeom>
              <a:solidFill>
                <a:srgbClr val="8959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0" name=""/>
              <p:cNvSpPr/>
              <p:nvPr/>
            </p:nvSpPr>
            <p:spPr>
              <a:xfrm flipH="1">
                <a:off x="923040" y="4237920"/>
                <a:ext cx="98280" cy="55080"/>
              </a:xfrm>
              <a:custGeom>
                <a:avLst/>
                <a:gdLst/>
                <a:ahLst/>
                <a:rect l="l" t="t" r="r" b="b"/>
                <a:pathLst>
                  <a:path w="479" h="225">
                    <a:moveTo>
                      <a:pt x="386" y="18"/>
                    </a:moveTo>
                    <a:lnTo>
                      <a:pt x="400" y="22"/>
                    </a:lnTo>
                    <a:lnTo>
                      <a:pt x="414" y="27"/>
                    </a:lnTo>
                    <a:lnTo>
                      <a:pt x="427" y="34"/>
                    </a:lnTo>
                    <a:lnTo>
                      <a:pt x="440" y="41"/>
                    </a:lnTo>
                    <a:lnTo>
                      <a:pt x="451" y="50"/>
                    </a:lnTo>
                    <a:lnTo>
                      <a:pt x="461" y="58"/>
                    </a:lnTo>
                    <a:lnTo>
                      <a:pt x="471" y="69"/>
                    </a:lnTo>
                    <a:lnTo>
                      <a:pt x="479" y="81"/>
                    </a:lnTo>
                    <a:lnTo>
                      <a:pt x="473" y="99"/>
                    </a:lnTo>
                    <a:lnTo>
                      <a:pt x="464" y="118"/>
                    </a:lnTo>
                    <a:lnTo>
                      <a:pt x="456" y="136"/>
                    </a:lnTo>
                    <a:lnTo>
                      <a:pt x="444" y="154"/>
                    </a:lnTo>
                    <a:lnTo>
                      <a:pt x="431" y="170"/>
                    </a:lnTo>
                    <a:lnTo>
                      <a:pt x="417" y="181"/>
                    </a:lnTo>
                    <a:lnTo>
                      <a:pt x="400" y="191"/>
                    </a:lnTo>
                    <a:lnTo>
                      <a:pt x="380" y="195"/>
                    </a:lnTo>
                    <a:lnTo>
                      <a:pt x="368" y="204"/>
                    </a:lnTo>
                    <a:lnTo>
                      <a:pt x="356" y="210"/>
                    </a:lnTo>
                    <a:lnTo>
                      <a:pt x="344" y="215"/>
                    </a:lnTo>
                    <a:lnTo>
                      <a:pt x="331" y="220"/>
                    </a:lnTo>
                    <a:lnTo>
                      <a:pt x="320" y="223"/>
                    </a:lnTo>
                    <a:lnTo>
                      <a:pt x="307" y="225"/>
                    </a:lnTo>
                    <a:lnTo>
                      <a:pt x="294" y="225"/>
                    </a:lnTo>
                    <a:lnTo>
                      <a:pt x="281" y="225"/>
                    </a:lnTo>
                    <a:lnTo>
                      <a:pt x="267" y="225"/>
                    </a:lnTo>
                    <a:lnTo>
                      <a:pt x="254" y="224"/>
                    </a:lnTo>
                    <a:lnTo>
                      <a:pt x="240" y="223"/>
                    </a:lnTo>
                    <a:lnTo>
                      <a:pt x="226" y="222"/>
                    </a:lnTo>
                    <a:lnTo>
                      <a:pt x="213" y="220"/>
                    </a:lnTo>
                    <a:lnTo>
                      <a:pt x="198" y="219"/>
                    </a:lnTo>
                    <a:lnTo>
                      <a:pt x="184" y="218"/>
                    </a:lnTo>
                    <a:lnTo>
                      <a:pt x="169" y="218"/>
                    </a:lnTo>
                    <a:lnTo>
                      <a:pt x="163" y="211"/>
                    </a:lnTo>
                    <a:lnTo>
                      <a:pt x="158" y="209"/>
                    </a:lnTo>
                    <a:lnTo>
                      <a:pt x="154" y="210"/>
                    </a:lnTo>
                    <a:lnTo>
                      <a:pt x="148" y="213"/>
                    </a:lnTo>
                    <a:lnTo>
                      <a:pt x="144" y="217"/>
                    </a:lnTo>
                    <a:lnTo>
                      <a:pt x="139" y="218"/>
                    </a:lnTo>
                    <a:lnTo>
                      <a:pt x="134" y="217"/>
                    </a:lnTo>
                    <a:lnTo>
                      <a:pt x="129" y="210"/>
                    </a:lnTo>
                    <a:lnTo>
                      <a:pt x="112" y="209"/>
                    </a:lnTo>
                    <a:lnTo>
                      <a:pt x="97" y="204"/>
                    </a:lnTo>
                    <a:lnTo>
                      <a:pt x="85" y="195"/>
                    </a:lnTo>
                    <a:lnTo>
                      <a:pt x="74" y="186"/>
                    </a:lnTo>
                    <a:lnTo>
                      <a:pt x="64" y="174"/>
                    </a:lnTo>
                    <a:lnTo>
                      <a:pt x="54" y="162"/>
                    </a:lnTo>
                    <a:lnTo>
                      <a:pt x="42" y="152"/>
                    </a:lnTo>
                    <a:lnTo>
                      <a:pt x="28" y="145"/>
                    </a:lnTo>
                    <a:lnTo>
                      <a:pt x="17" y="127"/>
                    </a:lnTo>
                    <a:lnTo>
                      <a:pt x="27" y="123"/>
                    </a:lnTo>
                    <a:lnTo>
                      <a:pt x="38" y="119"/>
                    </a:lnTo>
                    <a:lnTo>
                      <a:pt x="49" y="117"/>
                    </a:lnTo>
                    <a:lnTo>
                      <a:pt x="59" y="115"/>
                    </a:lnTo>
                    <a:lnTo>
                      <a:pt x="71" y="114"/>
                    </a:lnTo>
                    <a:lnTo>
                      <a:pt x="82" y="113"/>
                    </a:lnTo>
                    <a:lnTo>
                      <a:pt x="93" y="112"/>
                    </a:lnTo>
                    <a:lnTo>
                      <a:pt x="104" y="112"/>
                    </a:lnTo>
                    <a:lnTo>
                      <a:pt x="115" y="111"/>
                    </a:lnTo>
                    <a:lnTo>
                      <a:pt x="126" y="111"/>
                    </a:lnTo>
                    <a:lnTo>
                      <a:pt x="138" y="111"/>
                    </a:lnTo>
                    <a:lnTo>
                      <a:pt x="148" y="112"/>
                    </a:lnTo>
                    <a:lnTo>
                      <a:pt x="159" y="111"/>
                    </a:lnTo>
                    <a:lnTo>
                      <a:pt x="171" y="111"/>
                    </a:lnTo>
                    <a:lnTo>
                      <a:pt x="182" y="111"/>
                    </a:lnTo>
                    <a:lnTo>
                      <a:pt x="192" y="110"/>
                    </a:lnTo>
                    <a:lnTo>
                      <a:pt x="355" y="106"/>
                    </a:lnTo>
                    <a:lnTo>
                      <a:pt x="359" y="108"/>
                    </a:lnTo>
                    <a:lnTo>
                      <a:pt x="364" y="110"/>
                    </a:lnTo>
                    <a:lnTo>
                      <a:pt x="368" y="111"/>
                    </a:lnTo>
                    <a:lnTo>
                      <a:pt x="371" y="113"/>
                    </a:lnTo>
                    <a:lnTo>
                      <a:pt x="375" y="114"/>
                    </a:lnTo>
                    <a:lnTo>
                      <a:pt x="380" y="115"/>
                    </a:lnTo>
                    <a:lnTo>
                      <a:pt x="385" y="115"/>
                    </a:lnTo>
                    <a:lnTo>
                      <a:pt x="390" y="114"/>
                    </a:lnTo>
                    <a:lnTo>
                      <a:pt x="401" y="103"/>
                    </a:lnTo>
                    <a:lnTo>
                      <a:pt x="390" y="97"/>
                    </a:lnTo>
                    <a:lnTo>
                      <a:pt x="380" y="92"/>
                    </a:lnTo>
                    <a:lnTo>
                      <a:pt x="369" y="87"/>
                    </a:lnTo>
                    <a:lnTo>
                      <a:pt x="358" y="84"/>
                    </a:lnTo>
                    <a:lnTo>
                      <a:pt x="347" y="82"/>
                    </a:lnTo>
                    <a:lnTo>
                      <a:pt x="337" y="81"/>
                    </a:lnTo>
                    <a:lnTo>
                      <a:pt x="326" y="80"/>
                    </a:lnTo>
                    <a:lnTo>
                      <a:pt x="314" y="79"/>
                    </a:lnTo>
                    <a:lnTo>
                      <a:pt x="295" y="76"/>
                    </a:lnTo>
                    <a:lnTo>
                      <a:pt x="275" y="72"/>
                    </a:lnTo>
                    <a:lnTo>
                      <a:pt x="254" y="69"/>
                    </a:lnTo>
                    <a:lnTo>
                      <a:pt x="235" y="67"/>
                    </a:lnTo>
                    <a:lnTo>
                      <a:pt x="215" y="65"/>
                    </a:lnTo>
                    <a:lnTo>
                      <a:pt x="194" y="63"/>
                    </a:lnTo>
                    <a:lnTo>
                      <a:pt x="174" y="61"/>
                    </a:lnTo>
                    <a:lnTo>
                      <a:pt x="154" y="57"/>
                    </a:lnTo>
                    <a:lnTo>
                      <a:pt x="133" y="55"/>
                    </a:lnTo>
                    <a:lnTo>
                      <a:pt x="114" y="52"/>
                    </a:lnTo>
                    <a:lnTo>
                      <a:pt x="94" y="49"/>
                    </a:lnTo>
                    <a:lnTo>
                      <a:pt x="74" y="45"/>
                    </a:lnTo>
                    <a:lnTo>
                      <a:pt x="55" y="39"/>
                    </a:lnTo>
                    <a:lnTo>
                      <a:pt x="36" y="33"/>
                    </a:lnTo>
                    <a:lnTo>
                      <a:pt x="18" y="26"/>
                    </a:lnTo>
                    <a:lnTo>
                      <a:pt x="0" y="18"/>
                    </a:lnTo>
                    <a:lnTo>
                      <a:pt x="3" y="12"/>
                    </a:lnTo>
                    <a:lnTo>
                      <a:pt x="7" y="8"/>
                    </a:lnTo>
                    <a:lnTo>
                      <a:pt x="13" y="6"/>
                    </a:lnTo>
                    <a:lnTo>
                      <a:pt x="21" y="5"/>
                    </a:lnTo>
                    <a:lnTo>
                      <a:pt x="28" y="4"/>
                    </a:lnTo>
                    <a:lnTo>
                      <a:pt x="36" y="3"/>
                    </a:lnTo>
                    <a:lnTo>
                      <a:pt x="43" y="2"/>
                    </a:lnTo>
                    <a:lnTo>
                      <a:pt x="50" y="0"/>
                    </a:lnTo>
                    <a:lnTo>
                      <a:pt x="72" y="0"/>
                    </a:lnTo>
                    <a:lnTo>
                      <a:pt x="94" y="0"/>
                    </a:lnTo>
                    <a:lnTo>
                      <a:pt x="115" y="0"/>
                    </a:lnTo>
                    <a:lnTo>
                      <a:pt x="135" y="1"/>
                    </a:lnTo>
                    <a:lnTo>
                      <a:pt x="157" y="2"/>
                    </a:lnTo>
                    <a:lnTo>
                      <a:pt x="177" y="3"/>
                    </a:lnTo>
                    <a:lnTo>
                      <a:pt x="198" y="4"/>
                    </a:lnTo>
                    <a:lnTo>
                      <a:pt x="218" y="5"/>
                    </a:lnTo>
                    <a:lnTo>
                      <a:pt x="238" y="7"/>
                    </a:lnTo>
                    <a:lnTo>
                      <a:pt x="259" y="9"/>
                    </a:lnTo>
                    <a:lnTo>
                      <a:pt x="279" y="10"/>
                    </a:lnTo>
                    <a:lnTo>
                      <a:pt x="299" y="12"/>
                    </a:lnTo>
                    <a:lnTo>
                      <a:pt x="321" y="14"/>
                    </a:lnTo>
                    <a:lnTo>
                      <a:pt x="342" y="16"/>
                    </a:lnTo>
                    <a:lnTo>
                      <a:pt x="364" y="17"/>
                    </a:lnTo>
                    <a:lnTo>
                      <a:pt x="386" y="18"/>
                    </a:lnTo>
                    <a:close/>
                  </a:path>
                </a:pathLst>
              </a:custGeom>
              <a:solidFill>
                <a:srgbClr val="d6c4a5"/>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71" name=""/>
              <p:cNvSpPr/>
              <p:nvPr/>
            </p:nvSpPr>
            <p:spPr>
              <a:xfrm flipH="1">
                <a:off x="968760" y="4291920"/>
                <a:ext cx="90000" cy="63720"/>
              </a:xfrm>
              <a:custGeom>
                <a:avLst/>
                <a:gdLst/>
                <a:ahLst/>
                <a:rect l="l" t="t" r="r" b="b"/>
                <a:pathLst>
                  <a:path w="434" h="260">
                    <a:moveTo>
                      <a:pt x="330" y="36"/>
                    </a:moveTo>
                    <a:lnTo>
                      <a:pt x="339" y="39"/>
                    </a:lnTo>
                    <a:lnTo>
                      <a:pt x="349" y="42"/>
                    </a:lnTo>
                    <a:lnTo>
                      <a:pt x="358" y="45"/>
                    </a:lnTo>
                    <a:lnTo>
                      <a:pt x="367" y="47"/>
                    </a:lnTo>
                    <a:lnTo>
                      <a:pt x="376" y="50"/>
                    </a:lnTo>
                    <a:lnTo>
                      <a:pt x="385" y="52"/>
                    </a:lnTo>
                    <a:lnTo>
                      <a:pt x="395" y="53"/>
                    </a:lnTo>
                    <a:lnTo>
                      <a:pt x="406" y="55"/>
                    </a:lnTo>
                    <a:lnTo>
                      <a:pt x="417" y="65"/>
                    </a:lnTo>
                    <a:lnTo>
                      <a:pt x="425" y="76"/>
                    </a:lnTo>
                    <a:lnTo>
                      <a:pt x="430" y="89"/>
                    </a:lnTo>
                    <a:lnTo>
                      <a:pt x="434" y="104"/>
                    </a:lnTo>
                    <a:lnTo>
                      <a:pt x="420" y="122"/>
                    </a:lnTo>
                    <a:lnTo>
                      <a:pt x="407" y="141"/>
                    </a:lnTo>
                    <a:lnTo>
                      <a:pt x="394" y="159"/>
                    </a:lnTo>
                    <a:lnTo>
                      <a:pt x="381" y="177"/>
                    </a:lnTo>
                    <a:lnTo>
                      <a:pt x="366" y="193"/>
                    </a:lnTo>
                    <a:lnTo>
                      <a:pt x="351" y="208"/>
                    </a:lnTo>
                    <a:lnTo>
                      <a:pt x="333" y="222"/>
                    </a:lnTo>
                    <a:lnTo>
                      <a:pt x="311" y="233"/>
                    </a:lnTo>
                    <a:lnTo>
                      <a:pt x="292" y="238"/>
                    </a:lnTo>
                    <a:lnTo>
                      <a:pt x="273" y="244"/>
                    </a:lnTo>
                    <a:lnTo>
                      <a:pt x="253" y="248"/>
                    </a:lnTo>
                    <a:lnTo>
                      <a:pt x="233" y="253"/>
                    </a:lnTo>
                    <a:lnTo>
                      <a:pt x="213" y="256"/>
                    </a:lnTo>
                    <a:lnTo>
                      <a:pt x="193" y="259"/>
                    </a:lnTo>
                    <a:lnTo>
                      <a:pt x="171" y="260"/>
                    </a:lnTo>
                    <a:lnTo>
                      <a:pt x="151" y="258"/>
                    </a:lnTo>
                    <a:lnTo>
                      <a:pt x="138" y="248"/>
                    </a:lnTo>
                    <a:lnTo>
                      <a:pt x="125" y="242"/>
                    </a:lnTo>
                    <a:lnTo>
                      <a:pt x="110" y="235"/>
                    </a:lnTo>
                    <a:lnTo>
                      <a:pt x="96" y="230"/>
                    </a:lnTo>
                    <a:lnTo>
                      <a:pt x="82" y="223"/>
                    </a:lnTo>
                    <a:lnTo>
                      <a:pt x="70" y="216"/>
                    </a:lnTo>
                    <a:lnTo>
                      <a:pt x="59" y="205"/>
                    </a:lnTo>
                    <a:lnTo>
                      <a:pt x="50" y="192"/>
                    </a:lnTo>
                    <a:lnTo>
                      <a:pt x="44" y="188"/>
                    </a:lnTo>
                    <a:lnTo>
                      <a:pt x="36" y="182"/>
                    </a:lnTo>
                    <a:lnTo>
                      <a:pt x="30" y="175"/>
                    </a:lnTo>
                    <a:lnTo>
                      <a:pt x="23" y="168"/>
                    </a:lnTo>
                    <a:lnTo>
                      <a:pt x="17" y="160"/>
                    </a:lnTo>
                    <a:lnTo>
                      <a:pt x="11" y="153"/>
                    </a:lnTo>
                    <a:lnTo>
                      <a:pt x="5" y="145"/>
                    </a:lnTo>
                    <a:lnTo>
                      <a:pt x="0" y="139"/>
                    </a:lnTo>
                    <a:lnTo>
                      <a:pt x="0" y="96"/>
                    </a:lnTo>
                    <a:lnTo>
                      <a:pt x="15" y="95"/>
                    </a:lnTo>
                    <a:lnTo>
                      <a:pt x="30" y="94"/>
                    </a:lnTo>
                    <a:lnTo>
                      <a:pt x="45" y="94"/>
                    </a:lnTo>
                    <a:lnTo>
                      <a:pt x="61" y="95"/>
                    </a:lnTo>
                    <a:lnTo>
                      <a:pt x="76" y="96"/>
                    </a:lnTo>
                    <a:lnTo>
                      <a:pt x="92" y="97"/>
                    </a:lnTo>
                    <a:lnTo>
                      <a:pt x="108" y="100"/>
                    </a:lnTo>
                    <a:lnTo>
                      <a:pt x="124" y="103"/>
                    </a:lnTo>
                    <a:lnTo>
                      <a:pt x="139" y="107"/>
                    </a:lnTo>
                    <a:lnTo>
                      <a:pt x="154" y="111"/>
                    </a:lnTo>
                    <a:lnTo>
                      <a:pt x="170" y="117"/>
                    </a:lnTo>
                    <a:lnTo>
                      <a:pt x="185" y="122"/>
                    </a:lnTo>
                    <a:lnTo>
                      <a:pt x="199" y="128"/>
                    </a:lnTo>
                    <a:lnTo>
                      <a:pt x="214" y="135"/>
                    </a:lnTo>
                    <a:lnTo>
                      <a:pt x="228" y="142"/>
                    </a:lnTo>
                    <a:lnTo>
                      <a:pt x="241" y="151"/>
                    </a:lnTo>
                    <a:lnTo>
                      <a:pt x="249" y="151"/>
                    </a:lnTo>
                    <a:lnTo>
                      <a:pt x="257" y="153"/>
                    </a:lnTo>
                    <a:lnTo>
                      <a:pt x="264" y="155"/>
                    </a:lnTo>
                    <a:lnTo>
                      <a:pt x="272" y="157"/>
                    </a:lnTo>
                    <a:lnTo>
                      <a:pt x="279" y="160"/>
                    </a:lnTo>
                    <a:lnTo>
                      <a:pt x="287" y="162"/>
                    </a:lnTo>
                    <a:lnTo>
                      <a:pt x="294" y="166"/>
                    </a:lnTo>
                    <a:lnTo>
                      <a:pt x="302" y="169"/>
                    </a:lnTo>
                    <a:lnTo>
                      <a:pt x="308" y="160"/>
                    </a:lnTo>
                    <a:lnTo>
                      <a:pt x="308" y="151"/>
                    </a:lnTo>
                    <a:lnTo>
                      <a:pt x="304" y="141"/>
                    </a:lnTo>
                    <a:lnTo>
                      <a:pt x="298" y="134"/>
                    </a:lnTo>
                    <a:lnTo>
                      <a:pt x="285" y="124"/>
                    </a:lnTo>
                    <a:lnTo>
                      <a:pt x="272" y="115"/>
                    </a:lnTo>
                    <a:lnTo>
                      <a:pt x="259" y="107"/>
                    </a:lnTo>
                    <a:lnTo>
                      <a:pt x="245" y="98"/>
                    </a:lnTo>
                    <a:lnTo>
                      <a:pt x="232" y="91"/>
                    </a:lnTo>
                    <a:lnTo>
                      <a:pt x="219" y="83"/>
                    </a:lnTo>
                    <a:lnTo>
                      <a:pt x="207" y="76"/>
                    </a:lnTo>
                    <a:lnTo>
                      <a:pt x="193" y="68"/>
                    </a:lnTo>
                    <a:lnTo>
                      <a:pt x="180" y="62"/>
                    </a:lnTo>
                    <a:lnTo>
                      <a:pt x="166" y="55"/>
                    </a:lnTo>
                    <a:lnTo>
                      <a:pt x="153" y="48"/>
                    </a:lnTo>
                    <a:lnTo>
                      <a:pt x="139" y="42"/>
                    </a:lnTo>
                    <a:lnTo>
                      <a:pt x="126" y="35"/>
                    </a:lnTo>
                    <a:lnTo>
                      <a:pt x="112" y="29"/>
                    </a:lnTo>
                    <a:lnTo>
                      <a:pt x="99" y="21"/>
                    </a:lnTo>
                    <a:lnTo>
                      <a:pt x="86" y="15"/>
                    </a:lnTo>
                    <a:lnTo>
                      <a:pt x="91" y="9"/>
                    </a:lnTo>
                    <a:lnTo>
                      <a:pt x="98" y="3"/>
                    </a:lnTo>
                    <a:lnTo>
                      <a:pt x="106" y="1"/>
                    </a:lnTo>
                    <a:lnTo>
                      <a:pt x="114" y="0"/>
                    </a:lnTo>
                    <a:lnTo>
                      <a:pt x="123" y="0"/>
                    </a:lnTo>
                    <a:lnTo>
                      <a:pt x="133" y="1"/>
                    </a:lnTo>
                    <a:lnTo>
                      <a:pt x="141" y="2"/>
                    </a:lnTo>
                    <a:lnTo>
                      <a:pt x="151" y="4"/>
                    </a:lnTo>
                    <a:lnTo>
                      <a:pt x="163" y="9"/>
                    </a:lnTo>
                    <a:lnTo>
                      <a:pt x="176" y="10"/>
                    </a:lnTo>
                    <a:lnTo>
                      <a:pt x="188" y="11"/>
                    </a:lnTo>
                    <a:lnTo>
                      <a:pt x="202" y="11"/>
                    </a:lnTo>
                    <a:lnTo>
                      <a:pt x="215" y="11"/>
                    </a:lnTo>
                    <a:lnTo>
                      <a:pt x="229" y="11"/>
                    </a:lnTo>
                    <a:lnTo>
                      <a:pt x="242" y="12"/>
                    </a:lnTo>
                    <a:lnTo>
                      <a:pt x="254" y="15"/>
                    </a:lnTo>
                    <a:lnTo>
                      <a:pt x="330" y="36"/>
                    </a:lnTo>
                    <a:close/>
                  </a:path>
                </a:pathLst>
              </a:custGeom>
              <a:solidFill>
                <a:srgbClr val="d6c4a5"/>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72" name=""/>
              <p:cNvSpPr/>
              <p:nvPr/>
            </p:nvSpPr>
            <p:spPr>
              <a:xfrm flipH="1">
                <a:off x="832680" y="4322520"/>
                <a:ext cx="152280" cy="72360"/>
              </a:xfrm>
              <a:custGeom>
                <a:avLst/>
                <a:gdLst/>
                <a:ahLst/>
                <a:rect l="l" t="t" r="r" b="b"/>
                <a:pathLst>
                  <a:path w="735" h="295">
                    <a:moveTo>
                      <a:pt x="251" y="29"/>
                    </a:moveTo>
                    <a:lnTo>
                      <a:pt x="250" y="44"/>
                    </a:lnTo>
                    <a:lnTo>
                      <a:pt x="248" y="59"/>
                    </a:lnTo>
                    <a:lnTo>
                      <a:pt x="250" y="74"/>
                    </a:lnTo>
                    <a:lnTo>
                      <a:pt x="258" y="87"/>
                    </a:lnTo>
                    <a:lnTo>
                      <a:pt x="265" y="86"/>
                    </a:lnTo>
                    <a:lnTo>
                      <a:pt x="270" y="83"/>
                    </a:lnTo>
                    <a:lnTo>
                      <a:pt x="275" y="80"/>
                    </a:lnTo>
                    <a:lnTo>
                      <a:pt x="280" y="76"/>
                    </a:lnTo>
                    <a:lnTo>
                      <a:pt x="283" y="72"/>
                    </a:lnTo>
                    <a:lnTo>
                      <a:pt x="287" y="66"/>
                    </a:lnTo>
                    <a:lnTo>
                      <a:pt x="291" y="62"/>
                    </a:lnTo>
                    <a:lnTo>
                      <a:pt x="297" y="57"/>
                    </a:lnTo>
                    <a:lnTo>
                      <a:pt x="316" y="51"/>
                    </a:lnTo>
                    <a:lnTo>
                      <a:pt x="335" y="46"/>
                    </a:lnTo>
                    <a:lnTo>
                      <a:pt x="357" y="42"/>
                    </a:lnTo>
                    <a:lnTo>
                      <a:pt x="378" y="40"/>
                    </a:lnTo>
                    <a:lnTo>
                      <a:pt x="399" y="40"/>
                    </a:lnTo>
                    <a:lnTo>
                      <a:pt x="421" y="42"/>
                    </a:lnTo>
                    <a:lnTo>
                      <a:pt x="440" y="46"/>
                    </a:lnTo>
                    <a:lnTo>
                      <a:pt x="459" y="55"/>
                    </a:lnTo>
                    <a:lnTo>
                      <a:pt x="463" y="68"/>
                    </a:lnTo>
                    <a:lnTo>
                      <a:pt x="458" y="80"/>
                    </a:lnTo>
                    <a:lnTo>
                      <a:pt x="450" y="92"/>
                    </a:lnTo>
                    <a:lnTo>
                      <a:pt x="440" y="103"/>
                    </a:lnTo>
                    <a:lnTo>
                      <a:pt x="433" y="114"/>
                    </a:lnTo>
                    <a:lnTo>
                      <a:pt x="428" y="125"/>
                    </a:lnTo>
                    <a:lnTo>
                      <a:pt x="432" y="138"/>
                    </a:lnTo>
                    <a:lnTo>
                      <a:pt x="444" y="151"/>
                    </a:lnTo>
                    <a:lnTo>
                      <a:pt x="454" y="152"/>
                    </a:lnTo>
                    <a:lnTo>
                      <a:pt x="463" y="151"/>
                    </a:lnTo>
                    <a:lnTo>
                      <a:pt x="470" y="146"/>
                    </a:lnTo>
                    <a:lnTo>
                      <a:pt x="478" y="142"/>
                    </a:lnTo>
                    <a:lnTo>
                      <a:pt x="485" y="137"/>
                    </a:lnTo>
                    <a:lnTo>
                      <a:pt x="493" y="133"/>
                    </a:lnTo>
                    <a:lnTo>
                      <a:pt x="500" y="129"/>
                    </a:lnTo>
                    <a:lnTo>
                      <a:pt x="509" y="128"/>
                    </a:lnTo>
                    <a:lnTo>
                      <a:pt x="524" y="125"/>
                    </a:lnTo>
                    <a:lnTo>
                      <a:pt x="538" y="122"/>
                    </a:lnTo>
                    <a:lnTo>
                      <a:pt x="553" y="119"/>
                    </a:lnTo>
                    <a:lnTo>
                      <a:pt x="568" y="117"/>
                    </a:lnTo>
                    <a:lnTo>
                      <a:pt x="581" y="114"/>
                    </a:lnTo>
                    <a:lnTo>
                      <a:pt x="596" y="114"/>
                    </a:lnTo>
                    <a:lnTo>
                      <a:pt x="610" y="114"/>
                    </a:lnTo>
                    <a:lnTo>
                      <a:pt x="625" y="114"/>
                    </a:lnTo>
                    <a:lnTo>
                      <a:pt x="639" y="117"/>
                    </a:lnTo>
                    <a:lnTo>
                      <a:pt x="653" y="120"/>
                    </a:lnTo>
                    <a:lnTo>
                      <a:pt x="666" y="123"/>
                    </a:lnTo>
                    <a:lnTo>
                      <a:pt x="679" y="128"/>
                    </a:lnTo>
                    <a:lnTo>
                      <a:pt x="692" y="135"/>
                    </a:lnTo>
                    <a:lnTo>
                      <a:pt x="705" y="142"/>
                    </a:lnTo>
                    <a:lnTo>
                      <a:pt x="716" y="151"/>
                    </a:lnTo>
                    <a:lnTo>
                      <a:pt x="727" y="161"/>
                    </a:lnTo>
                    <a:lnTo>
                      <a:pt x="735" y="189"/>
                    </a:lnTo>
                    <a:lnTo>
                      <a:pt x="713" y="198"/>
                    </a:lnTo>
                    <a:lnTo>
                      <a:pt x="692" y="206"/>
                    </a:lnTo>
                    <a:lnTo>
                      <a:pt x="669" y="215"/>
                    </a:lnTo>
                    <a:lnTo>
                      <a:pt x="648" y="222"/>
                    </a:lnTo>
                    <a:lnTo>
                      <a:pt x="625" y="230"/>
                    </a:lnTo>
                    <a:lnTo>
                      <a:pt x="603" y="237"/>
                    </a:lnTo>
                    <a:lnTo>
                      <a:pt x="580" y="244"/>
                    </a:lnTo>
                    <a:lnTo>
                      <a:pt x="558" y="250"/>
                    </a:lnTo>
                    <a:lnTo>
                      <a:pt x="535" y="255"/>
                    </a:lnTo>
                    <a:lnTo>
                      <a:pt x="512" y="262"/>
                    </a:lnTo>
                    <a:lnTo>
                      <a:pt x="489" y="267"/>
                    </a:lnTo>
                    <a:lnTo>
                      <a:pt x="466" y="273"/>
                    </a:lnTo>
                    <a:lnTo>
                      <a:pt x="443" y="277"/>
                    </a:lnTo>
                    <a:lnTo>
                      <a:pt x="420" y="282"/>
                    </a:lnTo>
                    <a:lnTo>
                      <a:pt x="396" y="286"/>
                    </a:lnTo>
                    <a:lnTo>
                      <a:pt x="373" y="291"/>
                    </a:lnTo>
                    <a:lnTo>
                      <a:pt x="361" y="293"/>
                    </a:lnTo>
                    <a:lnTo>
                      <a:pt x="349" y="294"/>
                    </a:lnTo>
                    <a:lnTo>
                      <a:pt x="338" y="295"/>
                    </a:lnTo>
                    <a:lnTo>
                      <a:pt x="327" y="295"/>
                    </a:lnTo>
                    <a:lnTo>
                      <a:pt x="316" y="294"/>
                    </a:lnTo>
                    <a:lnTo>
                      <a:pt x="304" y="293"/>
                    </a:lnTo>
                    <a:lnTo>
                      <a:pt x="293" y="292"/>
                    </a:lnTo>
                    <a:lnTo>
                      <a:pt x="282" y="291"/>
                    </a:lnTo>
                    <a:lnTo>
                      <a:pt x="271" y="289"/>
                    </a:lnTo>
                    <a:lnTo>
                      <a:pt x="259" y="287"/>
                    </a:lnTo>
                    <a:lnTo>
                      <a:pt x="248" y="286"/>
                    </a:lnTo>
                    <a:lnTo>
                      <a:pt x="238" y="285"/>
                    </a:lnTo>
                    <a:lnTo>
                      <a:pt x="226" y="284"/>
                    </a:lnTo>
                    <a:lnTo>
                      <a:pt x="215" y="283"/>
                    </a:lnTo>
                    <a:lnTo>
                      <a:pt x="204" y="283"/>
                    </a:lnTo>
                    <a:lnTo>
                      <a:pt x="193" y="283"/>
                    </a:lnTo>
                    <a:lnTo>
                      <a:pt x="209" y="278"/>
                    </a:lnTo>
                    <a:lnTo>
                      <a:pt x="224" y="273"/>
                    </a:lnTo>
                    <a:lnTo>
                      <a:pt x="240" y="267"/>
                    </a:lnTo>
                    <a:lnTo>
                      <a:pt x="255" y="262"/>
                    </a:lnTo>
                    <a:lnTo>
                      <a:pt x="270" y="255"/>
                    </a:lnTo>
                    <a:lnTo>
                      <a:pt x="286" y="250"/>
                    </a:lnTo>
                    <a:lnTo>
                      <a:pt x="301" y="245"/>
                    </a:lnTo>
                    <a:lnTo>
                      <a:pt x="317" y="239"/>
                    </a:lnTo>
                    <a:lnTo>
                      <a:pt x="332" y="234"/>
                    </a:lnTo>
                    <a:lnTo>
                      <a:pt x="347" y="229"/>
                    </a:lnTo>
                    <a:lnTo>
                      <a:pt x="363" y="224"/>
                    </a:lnTo>
                    <a:lnTo>
                      <a:pt x="378" y="219"/>
                    </a:lnTo>
                    <a:lnTo>
                      <a:pt x="394" y="215"/>
                    </a:lnTo>
                    <a:lnTo>
                      <a:pt x="410" y="209"/>
                    </a:lnTo>
                    <a:lnTo>
                      <a:pt x="425" y="205"/>
                    </a:lnTo>
                    <a:lnTo>
                      <a:pt x="441" y="201"/>
                    </a:lnTo>
                    <a:lnTo>
                      <a:pt x="441" y="183"/>
                    </a:lnTo>
                    <a:lnTo>
                      <a:pt x="422" y="183"/>
                    </a:lnTo>
                    <a:lnTo>
                      <a:pt x="404" y="182"/>
                    </a:lnTo>
                    <a:lnTo>
                      <a:pt x="384" y="183"/>
                    </a:lnTo>
                    <a:lnTo>
                      <a:pt x="366" y="184"/>
                    </a:lnTo>
                    <a:lnTo>
                      <a:pt x="347" y="185"/>
                    </a:lnTo>
                    <a:lnTo>
                      <a:pt x="329" y="187"/>
                    </a:lnTo>
                    <a:lnTo>
                      <a:pt x="311" y="189"/>
                    </a:lnTo>
                    <a:lnTo>
                      <a:pt x="291" y="191"/>
                    </a:lnTo>
                    <a:lnTo>
                      <a:pt x="273" y="195"/>
                    </a:lnTo>
                    <a:lnTo>
                      <a:pt x="255" y="198"/>
                    </a:lnTo>
                    <a:lnTo>
                      <a:pt x="237" y="201"/>
                    </a:lnTo>
                    <a:lnTo>
                      <a:pt x="219" y="205"/>
                    </a:lnTo>
                    <a:lnTo>
                      <a:pt x="200" y="209"/>
                    </a:lnTo>
                    <a:lnTo>
                      <a:pt x="182" y="214"/>
                    </a:lnTo>
                    <a:lnTo>
                      <a:pt x="165" y="218"/>
                    </a:lnTo>
                    <a:lnTo>
                      <a:pt x="147" y="222"/>
                    </a:lnTo>
                    <a:lnTo>
                      <a:pt x="157" y="213"/>
                    </a:lnTo>
                    <a:lnTo>
                      <a:pt x="169" y="204"/>
                    </a:lnTo>
                    <a:lnTo>
                      <a:pt x="181" y="197"/>
                    </a:lnTo>
                    <a:lnTo>
                      <a:pt x="194" y="189"/>
                    </a:lnTo>
                    <a:lnTo>
                      <a:pt x="206" y="182"/>
                    </a:lnTo>
                    <a:lnTo>
                      <a:pt x="219" y="175"/>
                    </a:lnTo>
                    <a:lnTo>
                      <a:pt x="231" y="169"/>
                    </a:lnTo>
                    <a:lnTo>
                      <a:pt x="244" y="161"/>
                    </a:lnTo>
                    <a:lnTo>
                      <a:pt x="257" y="155"/>
                    </a:lnTo>
                    <a:lnTo>
                      <a:pt x="270" y="148"/>
                    </a:lnTo>
                    <a:lnTo>
                      <a:pt x="282" y="140"/>
                    </a:lnTo>
                    <a:lnTo>
                      <a:pt x="295" y="133"/>
                    </a:lnTo>
                    <a:lnTo>
                      <a:pt x="306" y="124"/>
                    </a:lnTo>
                    <a:lnTo>
                      <a:pt x="318" y="114"/>
                    </a:lnTo>
                    <a:lnTo>
                      <a:pt x="330" y="104"/>
                    </a:lnTo>
                    <a:lnTo>
                      <a:pt x="341" y="93"/>
                    </a:lnTo>
                    <a:lnTo>
                      <a:pt x="336" y="87"/>
                    </a:lnTo>
                    <a:lnTo>
                      <a:pt x="332" y="79"/>
                    </a:lnTo>
                    <a:lnTo>
                      <a:pt x="326" y="75"/>
                    </a:lnTo>
                    <a:lnTo>
                      <a:pt x="315" y="75"/>
                    </a:lnTo>
                    <a:lnTo>
                      <a:pt x="303" y="79"/>
                    </a:lnTo>
                    <a:lnTo>
                      <a:pt x="291" y="84"/>
                    </a:lnTo>
                    <a:lnTo>
                      <a:pt x="280" y="89"/>
                    </a:lnTo>
                    <a:lnTo>
                      <a:pt x="268" y="95"/>
                    </a:lnTo>
                    <a:lnTo>
                      <a:pt x="256" y="101"/>
                    </a:lnTo>
                    <a:lnTo>
                      <a:pt x="245" y="106"/>
                    </a:lnTo>
                    <a:lnTo>
                      <a:pt x="235" y="112"/>
                    </a:lnTo>
                    <a:lnTo>
                      <a:pt x="223" y="118"/>
                    </a:lnTo>
                    <a:lnTo>
                      <a:pt x="212" y="124"/>
                    </a:lnTo>
                    <a:lnTo>
                      <a:pt x="201" y="129"/>
                    </a:lnTo>
                    <a:lnTo>
                      <a:pt x="191" y="135"/>
                    </a:lnTo>
                    <a:lnTo>
                      <a:pt x="179" y="140"/>
                    </a:lnTo>
                    <a:lnTo>
                      <a:pt x="168" y="145"/>
                    </a:lnTo>
                    <a:lnTo>
                      <a:pt x="156" y="150"/>
                    </a:lnTo>
                    <a:lnTo>
                      <a:pt x="146" y="154"/>
                    </a:lnTo>
                    <a:lnTo>
                      <a:pt x="134" y="158"/>
                    </a:lnTo>
                    <a:lnTo>
                      <a:pt x="108" y="171"/>
                    </a:lnTo>
                    <a:lnTo>
                      <a:pt x="115" y="167"/>
                    </a:lnTo>
                    <a:lnTo>
                      <a:pt x="121" y="161"/>
                    </a:lnTo>
                    <a:lnTo>
                      <a:pt x="129" y="154"/>
                    </a:lnTo>
                    <a:lnTo>
                      <a:pt x="135" y="145"/>
                    </a:lnTo>
                    <a:lnTo>
                      <a:pt x="141" y="136"/>
                    </a:lnTo>
                    <a:lnTo>
                      <a:pt x="147" y="126"/>
                    </a:lnTo>
                    <a:lnTo>
                      <a:pt x="150" y="115"/>
                    </a:lnTo>
                    <a:lnTo>
                      <a:pt x="151" y="105"/>
                    </a:lnTo>
                    <a:lnTo>
                      <a:pt x="147" y="101"/>
                    </a:lnTo>
                    <a:lnTo>
                      <a:pt x="141" y="97"/>
                    </a:lnTo>
                    <a:lnTo>
                      <a:pt x="136" y="97"/>
                    </a:lnTo>
                    <a:lnTo>
                      <a:pt x="129" y="97"/>
                    </a:lnTo>
                    <a:lnTo>
                      <a:pt x="113" y="105"/>
                    </a:lnTo>
                    <a:lnTo>
                      <a:pt x="96" y="113"/>
                    </a:lnTo>
                    <a:lnTo>
                      <a:pt x="81" y="122"/>
                    </a:lnTo>
                    <a:lnTo>
                      <a:pt x="68" y="130"/>
                    </a:lnTo>
                    <a:lnTo>
                      <a:pt x="53" y="138"/>
                    </a:lnTo>
                    <a:lnTo>
                      <a:pt x="36" y="144"/>
                    </a:lnTo>
                    <a:lnTo>
                      <a:pt x="19" y="149"/>
                    </a:lnTo>
                    <a:lnTo>
                      <a:pt x="0" y="151"/>
                    </a:lnTo>
                    <a:lnTo>
                      <a:pt x="23" y="138"/>
                    </a:lnTo>
                    <a:lnTo>
                      <a:pt x="44" y="123"/>
                    </a:lnTo>
                    <a:lnTo>
                      <a:pt x="64" y="106"/>
                    </a:lnTo>
                    <a:lnTo>
                      <a:pt x="84" y="87"/>
                    </a:lnTo>
                    <a:lnTo>
                      <a:pt x="102" y="67"/>
                    </a:lnTo>
                    <a:lnTo>
                      <a:pt x="119" y="48"/>
                    </a:lnTo>
                    <a:lnTo>
                      <a:pt x="134" y="28"/>
                    </a:lnTo>
                    <a:lnTo>
                      <a:pt x="147" y="9"/>
                    </a:lnTo>
                    <a:lnTo>
                      <a:pt x="160" y="5"/>
                    </a:lnTo>
                    <a:lnTo>
                      <a:pt x="175" y="2"/>
                    </a:lnTo>
                    <a:lnTo>
                      <a:pt x="190" y="0"/>
                    </a:lnTo>
                    <a:lnTo>
                      <a:pt x="204" y="1"/>
                    </a:lnTo>
                    <a:lnTo>
                      <a:pt x="219" y="3"/>
                    </a:lnTo>
                    <a:lnTo>
                      <a:pt x="231" y="9"/>
                    </a:lnTo>
                    <a:lnTo>
                      <a:pt x="242" y="17"/>
                    </a:lnTo>
                    <a:lnTo>
                      <a:pt x="251" y="29"/>
                    </a:lnTo>
                    <a:close/>
                  </a:path>
                </a:pathLst>
              </a:custGeom>
              <a:solidFill>
                <a:srgbClr val="bf8e3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273" name=""/>
              <p:cNvSpPr/>
              <p:nvPr/>
            </p:nvSpPr>
            <p:spPr>
              <a:xfrm flipH="1">
                <a:off x="738360" y="4339800"/>
                <a:ext cx="142920" cy="57600"/>
              </a:xfrm>
              <a:custGeom>
                <a:avLst/>
                <a:gdLst/>
                <a:ahLst/>
                <a:rect l="l" t="t" r="r" b="b"/>
                <a:pathLst>
                  <a:path w="689" h="237">
                    <a:moveTo>
                      <a:pt x="689" y="30"/>
                    </a:moveTo>
                    <a:lnTo>
                      <a:pt x="681" y="38"/>
                    </a:lnTo>
                    <a:lnTo>
                      <a:pt x="674" y="45"/>
                    </a:lnTo>
                    <a:lnTo>
                      <a:pt x="664" y="54"/>
                    </a:lnTo>
                    <a:lnTo>
                      <a:pt x="655" y="60"/>
                    </a:lnTo>
                    <a:lnTo>
                      <a:pt x="645" y="68"/>
                    </a:lnTo>
                    <a:lnTo>
                      <a:pt x="635" y="74"/>
                    </a:lnTo>
                    <a:lnTo>
                      <a:pt x="623" y="79"/>
                    </a:lnTo>
                    <a:lnTo>
                      <a:pt x="613" y="84"/>
                    </a:lnTo>
                    <a:lnTo>
                      <a:pt x="578" y="101"/>
                    </a:lnTo>
                    <a:lnTo>
                      <a:pt x="543" y="118"/>
                    </a:lnTo>
                    <a:lnTo>
                      <a:pt x="508" y="134"/>
                    </a:lnTo>
                    <a:lnTo>
                      <a:pt x="471" y="149"/>
                    </a:lnTo>
                    <a:lnTo>
                      <a:pt x="435" y="163"/>
                    </a:lnTo>
                    <a:lnTo>
                      <a:pt x="397" y="176"/>
                    </a:lnTo>
                    <a:lnTo>
                      <a:pt x="360" y="187"/>
                    </a:lnTo>
                    <a:lnTo>
                      <a:pt x="321" y="198"/>
                    </a:lnTo>
                    <a:lnTo>
                      <a:pt x="283" y="208"/>
                    </a:lnTo>
                    <a:lnTo>
                      <a:pt x="244" y="216"/>
                    </a:lnTo>
                    <a:lnTo>
                      <a:pt x="205" y="223"/>
                    </a:lnTo>
                    <a:lnTo>
                      <a:pt x="165" y="229"/>
                    </a:lnTo>
                    <a:lnTo>
                      <a:pt x="124" y="233"/>
                    </a:lnTo>
                    <a:lnTo>
                      <a:pt x="84" y="235"/>
                    </a:lnTo>
                    <a:lnTo>
                      <a:pt x="43" y="237"/>
                    </a:lnTo>
                    <a:lnTo>
                      <a:pt x="1" y="237"/>
                    </a:lnTo>
                    <a:lnTo>
                      <a:pt x="0" y="237"/>
                    </a:lnTo>
                    <a:lnTo>
                      <a:pt x="1" y="235"/>
                    </a:lnTo>
                    <a:lnTo>
                      <a:pt x="6" y="234"/>
                    </a:lnTo>
                    <a:lnTo>
                      <a:pt x="11" y="232"/>
                    </a:lnTo>
                    <a:lnTo>
                      <a:pt x="16" y="230"/>
                    </a:lnTo>
                    <a:lnTo>
                      <a:pt x="23" y="228"/>
                    </a:lnTo>
                    <a:lnTo>
                      <a:pt x="28" y="226"/>
                    </a:lnTo>
                    <a:lnTo>
                      <a:pt x="32" y="224"/>
                    </a:lnTo>
                    <a:lnTo>
                      <a:pt x="49" y="217"/>
                    </a:lnTo>
                    <a:lnTo>
                      <a:pt x="67" y="212"/>
                    </a:lnTo>
                    <a:lnTo>
                      <a:pt x="85" y="208"/>
                    </a:lnTo>
                    <a:lnTo>
                      <a:pt x="103" y="203"/>
                    </a:lnTo>
                    <a:lnTo>
                      <a:pt x="120" y="199"/>
                    </a:lnTo>
                    <a:lnTo>
                      <a:pt x="138" y="195"/>
                    </a:lnTo>
                    <a:lnTo>
                      <a:pt x="155" y="190"/>
                    </a:lnTo>
                    <a:lnTo>
                      <a:pt x="173" y="183"/>
                    </a:lnTo>
                    <a:lnTo>
                      <a:pt x="203" y="172"/>
                    </a:lnTo>
                    <a:lnTo>
                      <a:pt x="233" y="162"/>
                    </a:lnTo>
                    <a:lnTo>
                      <a:pt x="261" y="150"/>
                    </a:lnTo>
                    <a:lnTo>
                      <a:pt x="290" y="138"/>
                    </a:lnTo>
                    <a:lnTo>
                      <a:pt x="319" y="126"/>
                    </a:lnTo>
                    <a:lnTo>
                      <a:pt x="347" y="115"/>
                    </a:lnTo>
                    <a:lnTo>
                      <a:pt x="376" y="102"/>
                    </a:lnTo>
                    <a:lnTo>
                      <a:pt x="404" y="90"/>
                    </a:lnTo>
                    <a:lnTo>
                      <a:pt x="432" y="78"/>
                    </a:lnTo>
                    <a:lnTo>
                      <a:pt x="461" y="66"/>
                    </a:lnTo>
                    <a:lnTo>
                      <a:pt x="488" y="54"/>
                    </a:lnTo>
                    <a:lnTo>
                      <a:pt x="517" y="42"/>
                    </a:lnTo>
                    <a:lnTo>
                      <a:pt x="546" y="31"/>
                    </a:lnTo>
                    <a:lnTo>
                      <a:pt x="575" y="21"/>
                    </a:lnTo>
                    <a:lnTo>
                      <a:pt x="605" y="10"/>
                    </a:lnTo>
                    <a:lnTo>
                      <a:pt x="635" y="0"/>
                    </a:lnTo>
                    <a:lnTo>
                      <a:pt x="643" y="4"/>
                    </a:lnTo>
                    <a:lnTo>
                      <a:pt x="650" y="6"/>
                    </a:lnTo>
                    <a:lnTo>
                      <a:pt x="658" y="8"/>
                    </a:lnTo>
                    <a:lnTo>
                      <a:pt x="665" y="10"/>
                    </a:lnTo>
                    <a:lnTo>
                      <a:pt x="671" y="13"/>
                    </a:lnTo>
                    <a:lnTo>
                      <a:pt x="678" y="17"/>
                    </a:lnTo>
                    <a:lnTo>
                      <a:pt x="683" y="23"/>
                    </a:lnTo>
                    <a:lnTo>
                      <a:pt x="689" y="30"/>
                    </a:lnTo>
                    <a:close/>
                  </a:path>
                </a:pathLst>
              </a:custGeom>
              <a:solidFill>
                <a:srgbClr val="8959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74" name=""/>
              <p:cNvSpPr/>
              <p:nvPr/>
            </p:nvSpPr>
            <p:spPr>
              <a:xfrm flipH="1">
                <a:off x="1166040" y="4355640"/>
                <a:ext cx="97200" cy="84600"/>
              </a:xfrm>
              <a:custGeom>
                <a:avLst/>
                <a:gdLst/>
                <a:ahLst/>
                <a:rect l="l" t="t" r="r" b="b"/>
                <a:pathLst>
                  <a:path w="466" h="346">
                    <a:moveTo>
                      <a:pt x="374" y="53"/>
                    </a:moveTo>
                    <a:lnTo>
                      <a:pt x="382" y="57"/>
                    </a:lnTo>
                    <a:lnTo>
                      <a:pt x="390" y="64"/>
                    </a:lnTo>
                    <a:lnTo>
                      <a:pt x="397" y="70"/>
                    </a:lnTo>
                    <a:lnTo>
                      <a:pt x="404" y="76"/>
                    </a:lnTo>
                    <a:lnTo>
                      <a:pt x="411" y="84"/>
                    </a:lnTo>
                    <a:lnTo>
                      <a:pt x="417" y="89"/>
                    </a:lnTo>
                    <a:lnTo>
                      <a:pt x="424" y="95"/>
                    </a:lnTo>
                    <a:lnTo>
                      <a:pt x="430" y="99"/>
                    </a:lnTo>
                    <a:lnTo>
                      <a:pt x="429" y="102"/>
                    </a:lnTo>
                    <a:lnTo>
                      <a:pt x="425" y="104"/>
                    </a:lnTo>
                    <a:lnTo>
                      <a:pt x="421" y="104"/>
                    </a:lnTo>
                    <a:lnTo>
                      <a:pt x="416" y="106"/>
                    </a:lnTo>
                    <a:lnTo>
                      <a:pt x="412" y="103"/>
                    </a:lnTo>
                    <a:lnTo>
                      <a:pt x="405" y="107"/>
                    </a:lnTo>
                    <a:lnTo>
                      <a:pt x="396" y="110"/>
                    </a:lnTo>
                    <a:lnTo>
                      <a:pt x="386" y="111"/>
                    </a:lnTo>
                    <a:lnTo>
                      <a:pt x="377" y="111"/>
                    </a:lnTo>
                    <a:lnTo>
                      <a:pt x="367" y="111"/>
                    </a:lnTo>
                    <a:lnTo>
                      <a:pt x="359" y="112"/>
                    </a:lnTo>
                    <a:lnTo>
                      <a:pt x="350" y="115"/>
                    </a:lnTo>
                    <a:lnTo>
                      <a:pt x="344" y="121"/>
                    </a:lnTo>
                    <a:lnTo>
                      <a:pt x="345" y="134"/>
                    </a:lnTo>
                    <a:lnTo>
                      <a:pt x="348" y="143"/>
                    </a:lnTo>
                    <a:lnTo>
                      <a:pt x="355" y="149"/>
                    </a:lnTo>
                    <a:lnTo>
                      <a:pt x="364" y="154"/>
                    </a:lnTo>
                    <a:lnTo>
                      <a:pt x="374" y="159"/>
                    </a:lnTo>
                    <a:lnTo>
                      <a:pt x="383" y="163"/>
                    </a:lnTo>
                    <a:lnTo>
                      <a:pt x="393" y="169"/>
                    </a:lnTo>
                    <a:lnTo>
                      <a:pt x="399" y="178"/>
                    </a:lnTo>
                    <a:lnTo>
                      <a:pt x="408" y="188"/>
                    </a:lnTo>
                    <a:lnTo>
                      <a:pt x="416" y="196"/>
                    </a:lnTo>
                    <a:lnTo>
                      <a:pt x="425" y="205"/>
                    </a:lnTo>
                    <a:lnTo>
                      <a:pt x="434" y="212"/>
                    </a:lnTo>
                    <a:lnTo>
                      <a:pt x="442" y="220"/>
                    </a:lnTo>
                    <a:lnTo>
                      <a:pt x="451" y="228"/>
                    </a:lnTo>
                    <a:lnTo>
                      <a:pt x="458" y="237"/>
                    </a:lnTo>
                    <a:lnTo>
                      <a:pt x="466" y="246"/>
                    </a:lnTo>
                    <a:lnTo>
                      <a:pt x="444" y="246"/>
                    </a:lnTo>
                    <a:lnTo>
                      <a:pt x="423" y="244"/>
                    </a:lnTo>
                    <a:lnTo>
                      <a:pt x="401" y="242"/>
                    </a:lnTo>
                    <a:lnTo>
                      <a:pt x="380" y="238"/>
                    </a:lnTo>
                    <a:lnTo>
                      <a:pt x="360" y="234"/>
                    </a:lnTo>
                    <a:lnTo>
                      <a:pt x="338" y="228"/>
                    </a:lnTo>
                    <a:lnTo>
                      <a:pt x="318" y="223"/>
                    </a:lnTo>
                    <a:lnTo>
                      <a:pt x="298" y="218"/>
                    </a:lnTo>
                    <a:lnTo>
                      <a:pt x="291" y="228"/>
                    </a:lnTo>
                    <a:lnTo>
                      <a:pt x="290" y="240"/>
                    </a:lnTo>
                    <a:lnTo>
                      <a:pt x="291" y="254"/>
                    </a:lnTo>
                    <a:lnTo>
                      <a:pt x="294" y="267"/>
                    </a:lnTo>
                    <a:lnTo>
                      <a:pt x="303" y="285"/>
                    </a:lnTo>
                    <a:lnTo>
                      <a:pt x="307" y="306"/>
                    </a:lnTo>
                    <a:lnTo>
                      <a:pt x="308" y="327"/>
                    </a:lnTo>
                    <a:lnTo>
                      <a:pt x="308" y="346"/>
                    </a:lnTo>
                    <a:lnTo>
                      <a:pt x="296" y="337"/>
                    </a:lnTo>
                    <a:lnTo>
                      <a:pt x="286" y="331"/>
                    </a:lnTo>
                    <a:lnTo>
                      <a:pt x="274" y="324"/>
                    </a:lnTo>
                    <a:lnTo>
                      <a:pt x="263" y="319"/>
                    </a:lnTo>
                    <a:lnTo>
                      <a:pt x="252" y="313"/>
                    </a:lnTo>
                    <a:lnTo>
                      <a:pt x="241" y="307"/>
                    </a:lnTo>
                    <a:lnTo>
                      <a:pt x="230" y="300"/>
                    </a:lnTo>
                    <a:lnTo>
                      <a:pt x="219" y="292"/>
                    </a:lnTo>
                    <a:lnTo>
                      <a:pt x="209" y="291"/>
                    </a:lnTo>
                    <a:lnTo>
                      <a:pt x="198" y="292"/>
                    </a:lnTo>
                    <a:lnTo>
                      <a:pt x="187" y="292"/>
                    </a:lnTo>
                    <a:lnTo>
                      <a:pt x="178" y="293"/>
                    </a:lnTo>
                    <a:lnTo>
                      <a:pt x="168" y="292"/>
                    </a:lnTo>
                    <a:lnTo>
                      <a:pt x="158" y="291"/>
                    </a:lnTo>
                    <a:lnTo>
                      <a:pt x="149" y="287"/>
                    </a:lnTo>
                    <a:lnTo>
                      <a:pt x="140" y="282"/>
                    </a:lnTo>
                    <a:lnTo>
                      <a:pt x="163" y="280"/>
                    </a:lnTo>
                    <a:lnTo>
                      <a:pt x="184" y="274"/>
                    </a:lnTo>
                    <a:lnTo>
                      <a:pt x="203" y="265"/>
                    </a:lnTo>
                    <a:lnTo>
                      <a:pt x="223" y="252"/>
                    </a:lnTo>
                    <a:lnTo>
                      <a:pt x="239" y="237"/>
                    </a:lnTo>
                    <a:lnTo>
                      <a:pt x="255" y="220"/>
                    </a:lnTo>
                    <a:lnTo>
                      <a:pt x="268" y="203"/>
                    </a:lnTo>
                    <a:lnTo>
                      <a:pt x="279" y="185"/>
                    </a:lnTo>
                    <a:lnTo>
                      <a:pt x="287" y="166"/>
                    </a:lnTo>
                    <a:lnTo>
                      <a:pt x="290" y="145"/>
                    </a:lnTo>
                    <a:lnTo>
                      <a:pt x="289" y="124"/>
                    </a:lnTo>
                    <a:lnTo>
                      <a:pt x="283" y="103"/>
                    </a:lnTo>
                    <a:lnTo>
                      <a:pt x="273" y="88"/>
                    </a:lnTo>
                    <a:lnTo>
                      <a:pt x="262" y="75"/>
                    </a:lnTo>
                    <a:lnTo>
                      <a:pt x="249" y="64"/>
                    </a:lnTo>
                    <a:lnTo>
                      <a:pt x="235" y="54"/>
                    </a:lnTo>
                    <a:lnTo>
                      <a:pt x="220" y="46"/>
                    </a:lnTo>
                    <a:lnTo>
                      <a:pt x="205" y="38"/>
                    </a:lnTo>
                    <a:lnTo>
                      <a:pt x="189" y="32"/>
                    </a:lnTo>
                    <a:lnTo>
                      <a:pt x="172" y="25"/>
                    </a:lnTo>
                    <a:lnTo>
                      <a:pt x="162" y="25"/>
                    </a:lnTo>
                    <a:lnTo>
                      <a:pt x="150" y="25"/>
                    </a:lnTo>
                    <a:lnTo>
                      <a:pt x="139" y="24"/>
                    </a:lnTo>
                    <a:lnTo>
                      <a:pt x="128" y="24"/>
                    </a:lnTo>
                    <a:lnTo>
                      <a:pt x="117" y="23"/>
                    </a:lnTo>
                    <a:lnTo>
                      <a:pt x="105" y="22"/>
                    </a:lnTo>
                    <a:lnTo>
                      <a:pt x="94" y="21"/>
                    </a:lnTo>
                    <a:lnTo>
                      <a:pt x="83" y="21"/>
                    </a:lnTo>
                    <a:lnTo>
                      <a:pt x="72" y="20"/>
                    </a:lnTo>
                    <a:lnTo>
                      <a:pt x="61" y="20"/>
                    </a:lnTo>
                    <a:lnTo>
                      <a:pt x="50" y="21"/>
                    </a:lnTo>
                    <a:lnTo>
                      <a:pt x="40" y="21"/>
                    </a:lnTo>
                    <a:lnTo>
                      <a:pt x="29" y="23"/>
                    </a:lnTo>
                    <a:lnTo>
                      <a:pt x="19" y="24"/>
                    </a:lnTo>
                    <a:lnTo>
                      <a:pt x="10" y="27"/>
                    </a:lnTo>
                    <a:lnTo>
                      <a:pt x="0" y="31"/>
                    </a:lnTo>
                    <a:lnTo>
                      <a:pt x="14" y="19"/>
                    </a:lnTo>
                    <a:lnTo>
                      <a:pt x="31" y="12"/>
                    </a:lnTo>
                    <a:lnTo>
                      <a:pt x="48" y="10"/>
                    </a:lnTo>
                    <a:lnTo>
                      <a:pt x="67" y="10"/>
                    </a:lnTo>
                    <a:lnTo>
                      <a:pt x="87" y="10"/>
                    </a:lnTo>
                    <a:lnTo>
                      <a:pt x="106" y="9"/>
                    </a:lnTo>
                    <a:lnTo>
                      <a:pt x="124" y="7"/>
                    </a:lnTo>
                    <a:lnTo>
                      <a:pt x="140" y="0"/>
                    </a:lnTo>
                    <a:lnTo>
                      <a:pt x="157" y="2"/>
                    </a:lnTo>
                    <a:lnTo>
                      <a:pt x="174" y="3"/>
                    </a:lnTo>
                    <a:lnTo>
                      <a:pt x="192" y="4"/>
                    </a:lnTo>
                    <a:lnTo>
                      <a:pt x="210" y="3"/>
                    </a:lnTo>
                    <a:lnTo>
                      <a:pt x="227" y="2"/>
                    </a:lnTo>
                    <a:lnTo>
                      <a:pt x="243" y="1"/>
                    </a:lnTo>
                    <a:lnTo>
                      <a:pt x="260" y="0"/>
                    </a:lnTo>
                    <a:lnTo>
                      <a:pt x="276" y="0"/>
                    </a:lnTo>
                    <a:lnTo>
                      <a:pt x="291" y="1"/>
                    </a:lnTo>
                    <a:lnTo>
                      <a:pt x="306" y="2"/>
                    </a:lnTo>
                    <a:lnTo>
                      <a:pt x="320" y="5"/>
                    </a:lnTo>
                    <a:lnTo>
                      <a:pt x="333" y="10"/>
                    </a:lnTo>
                    <a:lnTo>
                      <a:pt x="345" y="17"/>
                    </a:lnTo>
                    <a:lnTo>
                      <a:pt x="355" y="26"/>
                    </a:lnTo>
                    <a:lnTo>
                      <a:pt x="365" y="38"/>
                    </a:lnTo>
                    <a:lnTo>
                      <a:pt x="374" y="53"/>
                    </a:lnTo>
                    <a:close/>
                  </a:path>
                </a:pathLst>
              </a:custGeom>
              <a:solidFill>
                <a:srgbClr val="d6c4a5"/>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275" name=""/>
              <p:cNvSpPr/>
              <p:nvPr/>
            </p:nvSpPr>
            <p:spPr>
              <a:xfrm flipH="1">
                <a:off x="1229400" y="4370400"/>
                <a:ext cx="7920" cy="7200"/>
              </a:xfrm>
              <a:custGeom>
                <a:avLst/>
                <a:gdLst/>
                <a:ahLst/>
                <a:rect l="l" t="t" r="r" b="b"/>
                <a:pathLst>
                  <a:path w="36" h="29">
                    <a:moveTo>
                      <a:pt x="21" y="2"/>
                    </a:moveTo>
                    <a:lnTo>
                      <a:pt x="27" y="0"/>
                    </a:lnTo>
                    <a:lnTo>
                      <a:pt x="30" y="3"/>
                    </a:lnTo>
                    <a:lnTo>
                      <a:pt x="33" y="7"/>
                    </a:lnTo>
                    <a:lnTo>
                      <a:pt x="36" y="11"/>
                    </a:lnTo>
                    <a:lnTo>
                      <a:pt x="36" y="21"/>
                    </a:lnTo>
                    <a:lnTo>
                      <a:pt x="34" y="26"/>
                    </a:lnTo>
                    <a:lnTo>
                      <a:pt x="30" y="29"/>
                    </a:lnTo>
                    <a:lnTo>
                      <a:pt x="26" y="29"/>
                    </a:lnTo>
                    <a:lnTo>
                      <a:pt x="21" y="29"/>
                    </a:lnTo>
                    <a:lnTo>
                      <a:pt x="14" y="29"/>
                    </a:lnTo>
                    <a:lnTo>
                      <a:pt x="7" y="28"/>
                    </a:lnTo>
                    <a:lnTo>
                      <a:pt x="0" y="29"/>
                    </a:lnTo>
                    <a:lnTo>
                      <a:pt x="1" y="20"/>
                    </a:lnTo>
                    <a:lnTo>
                      <a:pt x="7" y="12"/>
                    </a:lnTo>
                    <a:lnTo>
                      <a:pt x="14" y="6"/>
                    </a:lnTo>
                    <a:lnTo>
                      <a:pt x="21" y="2"/>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276" name=""/>
              <p:cNvSpPr/>
              <p:nvPr/>
            </p:nvSpPr>
            <p:spPr>
              <a:xfrm flipH="1">
                <a:off x="1236240" y="4377600"/>
                <a:ext cx="70200" cy="33120"/>
              </a:xfrm>
              <a:custGeom>
                <a:avLst/>
                <a:gdLst/>
                <a:ahLst/>
                <a:rect l="l" t="t" r="r" b="b"/>
                <a:pathLst>
                  <a:path w="340" h="136">
                    <a:moveTo>
                      <a:pt x="183" y="2"/>
                    </a:moveTo>
                    <a:lnTo>
                      <a:pt x="200" y="7"/>
                    </a:lnTo>
                    <a:lnTo>
                      <a:pt x="215" y="13"/>
                    </a:lnTo>
                    <a:lnTo>
                      <a:pt x="230" y="22"/>
                    </a:lnTo>
                    <a:lnTo>
                      <a:pt x="244" y="31"/>
                    </a:lnTo>
                    <a:lnTo>
                      <a:pt x="258" y="41"/>
                    </a:lnTo>
                    <a:lnTo>
                      <a:pt x="272" y="52"/>
                    </a:lnTo>
                    <a:lnTo>
                      <a:pt x="286" y="61"/>
                    </a:lnTo>
                    <a:lnTo>
                      <a:pt x="301" y="69"/>
                    </a:lnTo>
                    <a:lnTo>
                      <a:pt x="305" y="74"/>
                    </a:lnTo>
                    <a:lnTo>
                      <a:pt x="313" y="78"/>
                    </a:lnTo>
                    <a:lnTo>
                      <a:pt x="320" y="83"/>
                    </a:lnTo>
                    <a:lnTo>
                      <a:pt x="328" y="86"/>
                    </a:lnTo>
                    <a:lnTo>
                      <a:pt x="335" y="91"/>
                    </a:lnTo>
                    <a:lnTo>
                      <a:pt x="339" y="98"/>
                    </a:lnTo>
                    <a:lnTo>
                      <a:pt x="340" y="106"/>
                    </a:lnTo>
                    <a:lnTo>
                      <a:pt x="337" y="117"/>
                    </a:lnTo>
                    <a:lnTo>
                      <a:pt x="331" y="122"/>
                    </a:lnTo>
                    <a:lnTo>
                      <a:pt x="323" y="126"/>
                    </a:lnTo>
                    <a:lnTo>
                      <a:pt x="315" y="131"/>
                    </a:lnTo>
                    <a:lnTo>
                      <a:pt x="306" y="134"/>
                    </a:lnTo>
                    <a:lnTo>
                      <a:pt x="298" y="135"/>
                    </a:lnTo>
                    <a:lnTo>
                      <a:pt x="288" y="136"/>
                    </a:lnTo>
                    <a:lnTo>
                      <a:pt x="278" y="135"/>
                    </a:lnTo>
                    <a:lnTo>
                      <a:pt x="270" y="132"/>
                    </a:lnTo>
                    <a:lnTo>
                      <a:pt x="263" y="130"/>
                    </a:lnTo>
                    <a:lnTo>
                      <a:pt x="258" y="126"/>
                    </a:lnTo>
                    <a:lnTo>
                      <a:pt x="254" y="122"/>
                    </a:lnTo>
                    <a:lnTo>
                      <a:pt x="249" y="118"/>
                    </a:lnTo>
                    <a:lnTo>
                      <a:pt x="245" y="115"/>
                    </a:lnTo>
                    <a:lnTo>
                      <a:pt x="240" y="111"/>
                    </a:lnTo>
                    <a:lnTo>
                      <a:pt x="233" y="110"/>
                    </a:lnTo>
                    <a:lnTo>
                      <a:pt x="226" y="111"/>
                    </a:lnTo>
                    <a:lnTo>
                      <a:pt x="237" y="107"/>
                    </a:lnTo>
                    <a:lnTo>
                      <a:pt x="249" y="108"/>
                    </a:lnTo>
                    <a:lnTo>
                      <a:pt x="261" y="111"/>
                    </a:lnTo>
                    <a:lnTo>
                      <a:pt x="273" y="116"/>
                    </a:lnTo>
                    <a:lnTo>
                      <a:pt x="284" y="118"/>
                    </a:lnTo>
                    <a:lnTo>
                      <a:pt x="291" y="116"/>
                    </a:lnTo>
                    <a:lnTo>
                      <a:pt x="295" y="108"/>
                    </a:lnTo>
                    <a:lnTo>
                      <a:pt x="294" y="93"/>
                    </a:lnTo>
                    <a:lnTo>
                      <a:pt x="282" y="86"/>
                    </a:lnTo>
                    <a:lnTo>
                      <a:pt x="268" y="80"/>
                    </a:lnTo>
                    <a:lnTo>
                      <a:pt x="252" y="77"/>
                    </a:lnTo>
                    <a:lnTo>
                      <a:pt x="236" y="76"/>
                    </a:lnTo>
                    <a:lnTo>
                      <a:pt x="218" y="75"/>
                    </a:lnTo>
                    <a:lnTo>
                      <a:pt x="201" y="75"/>
                    </a:lnTo>
                    <a:lnTo>
                      <a:pt x="186" y="75"/>
                    </a:lnTo>
                    <a:lnTo>
                      <a:pt x="172" y="75"/>
                    </a:lnTo>
                    <a:lnTo>
                      <a:pt x="162" y="75"/>
                    </a:lnTo>
                    <a:lnTo>
                      <a:pt x="150" y="75"/>
                    </a:lnTo>
                    <a:lnTo>
                      <a:pt x="139" y="75"/>
                    </a:lnTo>
                    <a:lnTo>
                      <a:pt x="127" y="75"/>
                    </a:lnTo>
                    <a:lnTo>
                      <a:pt x="117" y="75"/>
                    </a:lnTo>
                    <a:lnTo>
                      <a:pt x="105" y="75"/>
                    </a:lnTo>
                    <a:lnTo>
                      <a:pt x="94" y="76"/>
                    </a:lnTo>
                    <a:lnTo>
                      <a:pt x="82" y="77"/>
                    </a:lnTo>
                    <a:lnTo>
                      <a:pt x="72" y="78"/>
                    </a:lnTo>
                    <a:lnTo>
                      <a:pt x="60" y="80"/>
                    </a:lnTo>
                    <a:lnTo>
                      <a:pt x="49" y="84"/>
                    </a:lnTo>
                    <a:lnTo>
                      <a:pt x="40" y="87"/>
                    </a:lnTo>
                    <a:lnTo>
                      <a:pt x="29" y="90"/>
                    </a:lnTo>
                    <a:lnTo>
                      <a:pt x="19" y="95"/>
                    </a:lnTo>
                    <a:lnTo>
                      <a:pt x="10" y="101"/>
                    </a:lnTo>
                    <a:lnTo>
                      <a:pt x="0" y="107"/>
                    </a:lnTo>
                    <a:lnTo>
                      <a:pt x="0" y="89"/>
                    </a:lnTo>
                    <a:lnTo>
                      <a:pt x="5" y="83"/>
                    </a:lnTo>
                    <a:lnTo>
                      <a:pt x="11" y="75"/>
                    </a:lnTo>
                    <a:lnTo>
                      <a:pt x="15" y="67"/>
                    </a:lnTo>
                    <a:lnTo>
                      <a:pt x="18" y="58"/>
                    </a:lnTo>
                    <a:lnTo>
                      <a:pt x="26" y="44"/>
                    </a:lnTo>
                    <a:lnTo>
                      <a:pt x="35" y="33"/>
                    </a:lnTo>
                    <a:lnTo>
                      <a:pt x="48" y="26"/>
                    </a:lnTo>
                    <a:lnTo>
                      <a:pt x="62" y="20"/>
                    </a:lnTo>
                    <a:lnTo>
                      <a:pt x="77" y="15"/>
                    </a:lnTo>
                    <a:lnTo>
                      <a:pt x="92" y="11"/>
                    </a:lnTo>
                    <a:lnTo>
                      <a:pt x="107" y="7"/>
                    </a:lnTo>
                    <a:lnTo>
                      <a:pt x="122" y="2"/>
                    </a:lnTo>
                    <a:lnTo>
                      <a:pt x="131" y="0"/>
                    </a:lnTo>
                    <a:lnTo>
                      <a:pt x="139" y="1"/>
                    </a:lnTo>
                    <a:lnTo>
                      <a:pt x="147" y="5"/>
                    </a:lnTo>
                    <a:lnTo>
                      <a:pt x="153" y="10"/>
                    </a:lnTo>
                    <a:lnTo>
                      <a:pt x="161" y="13"/>
                    </a:lnTo>
                    <a:lnTo>
                      <a:pt x="167" y="14"/>
                    </a:lnTo>
                    <a:lnTo>
                      <a:pt x="175" y="11"/>
                    </a:lnTo>
                    <a:lnTo>
                      <a:pt x="183" y="2"/>
                    </a:lnTo>
                    <a:close/>
                  </a:path>
                </a:pathLst>
              </a:custGeom>
              <a:solidFill>
                <a:srgbClr val="ffeab2"/>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77" name=""/>
              <p:cNvSpPr/>
              <p:nvPr/>
            </p:nvSpPr>
            <p:spPr>
              <a:xfrm flipH="1">
                <a:off x="1168920" y="4460040"/>
                <a:ext cx="51840" cy="24480"/>
              </a:xfrm>
              <a:custGeom>
                <a:avLst/>
                <a:gdLst/>
                <a:ahLst/>
                <a:rect l="l" t="t" r="r" b="b"/>
                <a:pathLst>
                  <a:path w="249" h="101">
                    <a:moveTo>
                      <a:pt x="104" y="0"/>
                    </a:moveTo>
                    <a:lnTo>
                      <a:pt x="102" y="16"/>
                    </a:lnTo>
                    <a:lnTo>
                      <a:pt x="105" y="25"/>
                    </a:lnTo>
                    <a:lnTo>
                      <a:pt x="113" y="31"/>
                    </a:lnTo>
                    <a:lnTo>
                      <a:pt x="124" y="32"/>
                    </a:lnTo>
                    <a:lnTo>
                      <a:pt x="135" y="32"/>
                    </a:lnTo>
                    <a:lnTo>
                      <a:pt x="148" y="32"/>
                    </a:lnTo>
                    <a:lnTo>
                      <a:pt x="160" y="33"/>
                    </a:lnTo>
                    <a:lnTo>
                      <a:pt x="170" y="36"/>
                    </a:lnTo>
                    <a:lnTo>
                      <a:pt x="181" y="36"/>
                    </a:lnTo>
                    <a:lnTo>
                      <a:pt x="192" y="38"/>
                    </a:lnTo>
                    <a:lnTo>
                      <a:pt x="201" y="41"/>
                    </a:lnTo>
                    <a:lnTo>
                      <a:pt x="209" y="46"/>
                    </a:lnTo>
                    <a:lnTo>
                      <a:pt x="218" y="51"/>
                    </a:lnTo>
                    <a:lnTo>
                      <a:pt x="226" y="55"/>
                    </a:lnTo>
                    <a:lnTo>
                      <a:pt x="237" y="57"/>
                    </a:lnTo>
                    <a:lnTo>
                      <a:pt x="249" y="59"/>
                    </a:lnTo>
                    <a:lnTo>
                      <a:pt x="240" y="72"/>
                    </a:lnTo>
                    <a:lnTo>
                      <a:pt x="228" y="82"/>
                    </a:lnTo>
                    <a:lnTo>
                      <a:pt x="216" y="88"/>
                    </a:lnTo>
                    <a:lnTo>
                      <a:pt x="200" y="92"/>
                    </a:lnTo>
                    <a:lnTo>
                      <a:pt x="183" y="94"/>
                    </a:lnTo>
                    <a:lnTo>
                      <a:pt x="167" y="95"/>
                    </a:lnTo>
                    <a:lnTo>
                      <a:pt x="151" y="97"/>
                    </a:lnTo>
                    <a:lnTo>
                      <a:pt x="136" y="101"/>
                    </a:lnTo>
                    <a:lnTo>
                      <a:pt x="118" y="100"/>
                    </a:lnTo>
                    <a:lnTo>
                      <a:pt x="99" y="99"/>
                    </a:lnTo>
                    <a:lnTo>
                      <a:pt x="80" y="97"/>
                    </a:lnTo>
                    <a:lnTo>
                      <a:pt x="60" y="94"/>
                    </a:lnTo>
                    <a:lnTo>
                      <a:pt x="42" y="90"/>
                    </a:lnTo>
                    <a:lnTo>
                      <a:pt x="26" y="82"/>
                    </a:lnTo>
                    <a:lnTo>
                      <a:pt x="11" y="72"/>
                    </a:lnTo>
                    <a:lnTo>
                      <a:pt x="0" y="59"/>
                    </a:lnTo>
                    <a:lnTo>
                      <a:pt x="15" y="52"/>
                    </a:lnTo>
                    <a:lnTo>
                      <a:pt x="28" y="44"/>
                    </a:lnTo>
                    <a:lnTo>
                      <a:pt x="40" y="34"/>
                    </a:lnTo>
                    <a:lnTo>
                      <a:pt x="51" y="23"/>
                    </a:lnTo>
                    <a:lnTo>
                      <a:pt x="63" y="15"/>
                    </a:lnTo>
                    <a:lnTo>
                      <a:pt x="74" y="6"/>
                    </a:lnTo>
                    <a:lnTo>
                      <a:pt x="88" y="2"/>
                    </a:lnTo>
                    <a:lnTo>
                      <a:pt x="104" y="0"/>
                    </a:lnTo>
                    <a:close/>
                  </a:path>
                </a:pathLst>
              </a:custGeom>
              <a:solidFill>
                <a:srgbClr val="d6c4a5"/>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278" name=""/>
              <p:cNvSpPr/>
              <p:nvPr/>
            </p:nvSpPr>
            <p:spPr>
              <a:xfrm flipH="1">
                <a:off x="1325520" y="4464000"/>
                <a:ext cx="164520" cy="100800"/>
              </a:xfrm>
              <a:custGeom>
                <a:avLst/>
                <a:gdLst/>
                <a:ahLst/>
                <a:rect l="l" t="t" r="r" b="b"/>
                <a:pathLst>
                  <a:path w="796" h="408">
                    <a:moveTo>
                      <a:pt x="796" y="0"/>
                    </a:moveTo>
                    <a:lnTo>
                      <a:pt x="767" y="18"/>
                    </a:lnTo>
                    <a:lnTo>
                      <a:pt x="739" y="38"/>
                    </a:lnTo>
                    <a:lnTo>
                      <a:pt x="712" y="59"/>
                    </a:lnTo>
                    <a:lnTo>
                      <a:pt x="686" y="80"/>
                    </a:lnTo>
                    <a:lnTo>
                      <a:pt x="659" y="101"/>
                    </a:lnTo>
                    <a:lnTo>
                      <a:pt x="633" y="124"/>
                    </a:lnTo>
                    <a:lnTo>
                      <a:pt x="607" y="145"/>
                    </a:lnTo>
                    <a:lnTo>
                      <a:pt x="581" y="168"/>
                    </a:lnTo>
                    <a:lnTo>
                      <a:pt x="555" y="188"/>
                    </a:lnTo>
                    <a:lnTo>
                      <a:pt x="528" y="208"/>
                    </a:lnTo>
                    <a:lnTo>
                      <a:pt x="500" y="228"/>
                    </a:lnTo>
                    <a:lnTo>
                      <a:pt x="473" y="245"/>
                    </a:lnTo>
                    <a:lnTo>
                      <a:pt x="443" y="261"/>
                    </a:lnTo>
                    <a:lnTo>
                      <a:pt x="413" y="276"/>
                    </a:lnTo>
                    <a:lnTo>
                      <a:pt x="382" y="287"/>
                    </a:lnTo>
                    <a:lnTo>
                      <a:pt x="348" y="297"/>
                    </a:lnTo>
                    <a:lnTo>
                      <a:pt x="328" y="306"/>
                    </a:lnTo>
                    <a:lnTo>
                      <a:pt x="308" y="315"/>
                    </a:lnTo>
                    <a:lnTo>
                      <a:pt x="286" y="324"/>
                    </a:lnTo>
                    <a:lnTo>
                      <a:pt x="265" y="332"/>
                    </a:lnTo>
                    <a:lnTo>
                      <a:pt x="243" y="341"/>
                    </a:lnTo>
                    <a:lnTo>
                      <a:pt x="222" y="349"/>
                    </a:lnTo>
                    <a:lnTo>
                      <a:pt x="201" y="357"/>
                    </a:lnTo>
                    <a:lnTo>
                      <a:pt x="179" y="364"/>
                    </a:lnTo>
                    <a:lnTo>
                      <a:pt x="157" y="372"/>
                    </a:lnTo>
                    <a:lnTo>
                      <a:pt x="134" y="379"/>
                    </a:lnTo>
                    <a:lnTo>
                      <a:pt x="113" y="386"/>
                    </a:lnTo>
                    <a:lnTo>
                      <a:pt x="90" y="391"/>
                    </a:lnTo>
                    <a:lnTo>
                      <a:pt x="68" y="396"/>
                    </a:lnTo>
                    <a:lnTo>
                      <a:pt x="45" y="401"/>
                    </a:lnTo>
                    <a:lnTo>
                      <a:pt x="23" y="405"/>
                    </a:lnTo>
                    <a:lnTo>
                      <a:pt x="0" y="408"/>
                    </a:lnTo>
                    <a:lnTo>
                      <a:pt x="29" y="394"/>
                    </a:lnTo>
                    <a:lnTo>
                      <a:pt x="57" y="380"/>
                    </a:lnTo>
                    <a:lnTo>
                      <a:pt x="86" y="366"/>
                    </a:lnTo>
                    <a:lnTo>
                      <a:pt x="113" y="353"/>
                    </a:lnTo>
                    <a:lnTo>
                      <a:pt x="141" y="339"/>
                    </a:lnTo>
                    <a:lnTo>
                      <a:pt x="169" y="325"/>
                    </a:lnTo>
                    <a:lnTo>
                      <a:pt x="195" y="311"/>
                    </a:lnTo>
                    <a:lnTo>
                      <a:pt x="223" y="297"/>
                    </a:lnTo>
                    <a:lnTo>
                      <a:pt x="250" y="283"/>
                    </a:lnTo>
                    <a:lnTo>
                      <a:pt x="278" y="269"/>
                    </a:lnTo>
                    <a:lnTo>
                      <a:pt x="304" y="255"/>
                    </a:lnTo>
                    <a:lnTo>
                      <a:pt x="332" y="241"/>
                    </a:lnTo>
                    <a:lnTo>
                      <a:pt x="360" y="228"/>
                    </a:lnTo>
                    <a:lnTo>
                      <a:pt x="388" y="214"/>
                    </a:lnTo>
                    <a:lnTo>
                      <a:pt x="416" y="201"/>
                    </a:lnTo>
                    <a:lnTo>
                      <a:pt x="445" y="187"/>
                    </a:lnTo>
                    <a:lnTo>
                      <a:pt x="459" y="178"/>
                    </a:lnTo>
                    <a:lnTo>
                      <a:pt x="474" y="170"/>
                    </a:lnTo>
                    <a:lnTo>
                      <a:pt x="489" y="162"/>
                    </a:lnTo>
                    <a:lnTo>
                      <a:pt x="504" y="154"/>
                    </a:lnTo>
                    <a:lnTo>
                      <a:pt x="519" y="146"/>
                    </a:lnTo>
                    <a:lnTo>
                      <a:pt x="534" y="139"/>
                    </a:lnTo>
                    <a:lnTo>
                      <a:pt x="549" y="130"/>
                    </a:lnTo>
                    <a:lnTo>
                      <a:pt x="564" y="123"/>
                    </a:lnTo>
                    <a:lnTo>
                      <a:pt x="579" y="114"/>
                    </a:lnTo>
                    <a:lnTo>
                      <a:pt x="592" y="107"/>
                    </a:lnTo>
                    <a:lnTo>
                      <a:pt x="607" y="98"/>
                    </a:lnTo>
                    <a:lnTo>
                      <a:pt x="621" y="89"/>
                    </a:lnTo>
                    <a:lnTo>
                      <a:pt x="635" y="79"/>
                    </a:lnTo>
                    <a:lnTo>
                      <a:pt x="648" y="69"/>
                    </a:lnTo>
                    <a:lnTo>
                      <a:pt x="661" y="59"/>
                    </a:lnTo>
                    <a:lnTo>
                      <a:pt x="674" y="48"/>
                    </a:lnTo>
                    <a:lnTo>
                      <a:pt x="689" y="41"/>
                    </a:lnTo>
                    <a:lnTo>
                      <a:pt x="703" y="33"/>
                    </a:lnTo>
                    <a:lnTo>
                      <a:pt x="718" y="27"/>
                    </a:lnTo>
                    <a:lnTo>
                      <a:pt x="734" y="20"/>
                    </a:lnTo>
                    <a:lnTo>
                      <a:pt x="749" y="15"/>
                    </a:lnTo>
                    <a:lnTo>
                      <a:pt x="764" y="10"/>
                    </a:lnTo>
                    <a:lnTo>
                      <a:pt x="780" y="4"/>
                    </a:lnTo>
                    <a:lnTo>
                      <a:pt x="796" y="0"/>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flipH="1">
                <a:off x="1216440" y="4487040"/>
                <a:ext cx="34920" cy="42840"/>
              </a:xfrm>
              <a:custGeom>
                <a:avLst/>
                <a:gdLst/>
                <a:ahLst/>
                <a:rect l="l" t="t" r="r" b="b"/>
                <a:pathLst>
                  <a:path w="171" h="178">
                    <a:moveTo>
                      <a:pt x="171" y="114"/>
                    </a:moveTo>
                    <a:lnTo>
                      <a:pt x="87" y="178"/>
                    </a:lnTo>
                    <a:lnTo>
                      <a:pt x="73" y="171"/>
                    </a:lnTo>
                    <a:lnTo>
                      <a:pt x="58" y="164"/>
                    </a:lnTo>
                    <a:lnTo>
                      <a:pt x="42" y="158"/>
                    </a:lnTo>
                    <a:lnTo>
                      <a:pt x="27" y="150"/>
                    </a:lnTo>
                    <a:lnTo>
                      <a:pt x="14" y="142"/>
                    </a:lnTo>
                    <a:lnTo>
                      <a:pt x="5" y="130"/>
                    </a:lnTo>
                    <a:lnTo>
                      <a:pt x="0" y="115"/>
                    </a:lnTo>
                    <a:lnTo>
                      <a:pt x="0" y="96"/>
                    </a:lnTo>
                    <a:lnTo>
                      <a:pt x="11" y="83"/>
                    </a:lnTo>
                    <a:lnTo>
                      <a:pt x="22" y="71"/>
                    </a:lnTo>
                    <a:lnTo>
                      <a:pt x="34" y="60"/>
                    </a:lnTo>
                    <a:lnTo>
                      <a:pt x="45" y="48"/>
                    </a:lnTo>
                    <a:lnTo>
                      <a:pt x="57" y="37"/>
                    </a:lnTo>
                    <a:lnTo>
                      <a:pt x="68" y="24"/>
                    </a:lnTo>
                    <a:lnTo>
                      <a:pt x="79" y="13"/>
                    </a:lnTo>
                    <a:lnTo>
                      <a:pt x="87" y="0"/>
                    </a:lnTo>
                    <a:lnTo>
                      <a:pt x="103" y="9"/>
                    </a:lnTo>
                    <a:lnTo>
                      <a:pt x="118" y="20"/>
                    </a:lnTo>
                    <a:lnTo>
                      <a:pt x="132" y="33"/>
                    </a:lnTo>
                    <a:lnTo>
                      <a:pt x="144" y="47"/>
                    </a:lnTo>
                    <a:lnTo>
                      <a:pt x="154" y="62"/>
                    </a:lnTo>
                    <a:lnTo>
                      <a:pt x="161" y="79"/>
                    </a:lnTo>
                    <a:lnTo>
                      <a:pt x="166" y="96"/>
                    </a:lnTo>
                    <a:lnTo>
                      <a:pt x="171" y="114"/>
                    </a:lnTo>
                    <a:close/>
                  </a:path>
                </a:pathLst>
              </a:custGeom>
              <a:solidFill>
                <a:srgbClr val="d6c4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80" name=""/>
              <p:cNvSpPr/>
              <p:nvPr/>
            </p:nvSpPr>
            <p:spPr>
              <a:xfrm flipH="1">
                <a:off x="1251720" y="4504320"/>
                <a:ext cx="32040" cy="64800"/>
              </a:xfrm>
              <a:custGeom>
                <a:avLst/>
                <a:gdLst/>
                <a:ahLst/>
                <a:rect l="l" t="t" r="r" b="b"/>
                <a:pathLst>
                  <a:path w="153" h="265">
                    <a:moveTo>
                      <a:pt x="100" y="0"/>
                    </a:moveTo>
                    <a:lnTo>
                      <a:pt x="98" y="17"/>
                    </a:lnTo>
                    <a:lnTo>
                      <a:pt x="98" y="34"/>
                    </a:lnTo>
                    <a:lnTo>
                      <a:pt x="100" y="49"/>
                    </a:lnTo>
                    <a:lnTo>
                      <a:pt x="104" y="64"/>
                    </a:lnTo>
                    <a:lnTo>
                      <a:pt x="109" y="79"/>
                    </a:lnTo>
                    <a:lnTo>
                      <a:pt x="115" y="92"/>
                    </a:lnTo>
                    <a:lnTo>
                      <a:pt x="119" y="107"/>
                    </a:lnTo>
                    <a:lnTo>
                      <a:pt x="124" y="121"/>
                    </a:lnTo>
                    <a:lnTo>
                      <a:pt x="129" y="130"/>
                    </a:lnTo>
                    <a:lnTo>
                      <a:pt x="134" y="138"/>
                    </a:lnTo>
                    <a:lnTo>
                      <a:pt x="142" y="147"/>
                    </a:lnTo>
                    <a:lnTo>
                      <a:pt x="148" y="156"/>
                    </a:lnTo>
                    <a:lnTo>
                      <a:pt x="152" y="164"/>
                    </a:lnTo>
                    <a:lnTo>
                      <a:pt x="153" y="173"/>
                    </a:lnTo>
                    <a:lnTo>
                      <a:pt x="151" y="181"/>
                    </a:lnTo>
                    <a:lnTo>
                      <a:pt x="143" y="190"/>
                    </a:lnTo>
                    <a:lnTo>
                      <a:pt x="132" y="203"/>
                    </a:lnTo>
                    <a:lnTo>
                      <a:pt x="118" y="213"/>
                    </a:lnTo>
                    <a:lnTo>
                      <a:pt x="103" y="223"/>
                    </a:lnTo>
                    <a:lnTo>
                      <a:pt x="87" y="231"/>
                    </a:lnTo>
                    <a:lnTo>
                      <a:pt x="71" y="240"/>
                    </a:lnTo>
                    <a:lnTo>
                      <a:pt x="54" y="248"/>
                    </a:lnTo>
                    <a:lnTo>
                      <a:pt x="37" y="256"/>
                    </a:lnTo>
                    <a:lnTo>
                      <a:pt x="21" y="265"/>
                    </a:lnTo>
                    <a:lnTo>
                      <a:pt x="9" y="246"/>
                    </a:lnTo>
                    <a:lnTo>
                      <a:pt x="2" y="227"/>
                    </a:lnTo>
                    <a:lnTo>
                      <a:pt x="0" y="207"/>
                    </a:lnTo>
                    <a:lnTo>
                      <a:pt x="2" y="185"/>
                    </a:lnTo>
                    <a:lnTo>
                      <a:pt x="6" y="165"/>
                    </a:lnTo>
                    <a:lnTo>
                      <a:pt x="9" y="144"/>
                    </a:lnTo>
                    <a:lnTo>
                      <a:pt x="11" y="122"/>
                    </a:lnTo>
                    <a:lnTo>
                      <a:pt x="10" y="101"/>
                    </a:lnTo>
                    <a:lnTo>
                      <a:pt x="11" y="84"/>
                    </a:lnTo>
                    <a:lnTo>
                      <a:pt x="16" y="68"/>
                    </a:lnTo>
                    <a:lnTo>
                      <a:pt x="23" y="54"/>
                    </a:lnTo>
                    <a:lnTo>
                      <a:pt x="31" y="42"/>
                    </a:lnTo>
                    <a:lnTo>
                      <a:pt x="42" y="32"/>
                    </a:lnTo>
                    <a:lnTo>
                      <a:pt x="55" y="21"/>
                    </a:lnTo>
                    <a:lnTo>
                      <a:pt x="68" y="10"/>
                    </a:lnTo>
                    <a:lnTo>
                      <a:pt x="82" y="0"/>
                    </a:lnTo>
                    <a:lnTo>
                      <a:pt x="100" y="0"/>
                    </a:lnTo>
                    <a:close/>
                  </a:path>
                </a:pathLst>
              </a:custGeom>
              <a:solidFill>
                <a:srgbClr val="d6c4a5"/>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81" name=""/>
              <p:cNvSpPr/>
              <p:nvPr/>
            </p:nvSpPr>
            <p:spPr>
              <a:xfrm flipH="1">
                <a:off x="1287720" y="4510440"/>
                <a:ext cx="86040" cy="109080"/>
              </a:xfrm>
              <a:custGeom>
                <a:avLst/>
                <a:gdLst/>
                <a:ahLst/>
                <a:rect l="l" t="t" r="r" b="b"/>
                <a:pathLst>
                  <a:path w="414" h="447">
                    <a:moveTo>
                      <a:pt x="383" y="275"/>
                    </a:moveTo>
                    <a:lnTo>
                      <a:pt x="373" y="294"/>
                    </a:lnTo>
                    <a:lnTo>
                      <a:pt x="361" y="310"/>
                    </a:lnTo>
                    <a:lnTo>
                      <a:pt x="349" y="325"/>
                    </a:lnTo>
                    <a:lnTo>
                      <a:pt x="334" y="337"/>
                    </a:lnTo>
                    <a:lnTo>
                      <a:pt x="319" y="347"/>
                    </a:lnTo>
                    <a:lnTo>
                      <a:pt x="301" y="357"/>
                    </a:lnTo>
                    <a:lnTo>
                      <a:pt x="284" y="365"/>
                    </a:lnTo>
                    <a:lnTo>
                      <a:pt x="266" y="373"/>
                    </a:lnTo>
                    <a:lnTo>
                      <a:pt x="247" y="379"/>
                    </a:lnTo>
                    <a:lnTo>
                      <a:pt x="228" y="386"/>
                    </a:lnTo>
                    <a:lnTo>
                      <a:pt x="208" y="391"/>
                    </a:lnTo>
                    <a:lnTo>
                      <a:pt x="189" y="396"/>
                    </a:lnTo>
                    <a:lnTo>
                      <a:pt x="170" y="402"/>
                    </a:lnTo>
                    <a:lnTo>
                      <a:pt x="150" y="408"/>
                    </a:lnTo>
                    <a:lnTo>
                      <a:pt x="132" y="415"/>
                    </a:lnTo>
                    <a:lnTo>
                      <a:pt x="114" y="422"/>
                    </a:lnTo>
                    <a:lnTo>
                      <a:pt x="107" y="420"/>
                    </a:lnTo>
                    <a:lnTo>
                      <a:pt x="99" y="421"/>
                    </a:lnTo>
                    <a:lnTo>
                      <a:pt x="94" y="423"/>
                    </a:lnTo>
                    <a:lnTo>
                      <a:pt x="87" y="426"/>
                    </a:lnTo>
                    <a:lnTo>
                      <a:pt x="82" y="431"/>
                    </a:lnTo>
                    <a:lnTo>
                      <a:pt x="77" y="433"/>
                    </a:lnTo>
                    <a:lnTo>
                      <a:pt x="70" y="434"/>
                    </a:lnTo>
                    <a:lnTo>
                      <a:pt x="64" y="432"/>
                    </a:lnTo>
                    <a:lnTo>
                      <a:pt x="57" y="436"/>
                    </a:lnTo>
                    <a:lnTo>
                      <a:pt x="50" y="439"/>
                    </a:lnTo>
                    <a:lnTo>
                      <a:pt x="41" y="441"/>
                    </a:lnTo>
                    <a:lnTo>
                      <a:pt x="33" y="442"/>
                    </a:lnTo>
                    <a:lnTo>
                      <a:pt x="24" y="442"/>
                    </a:lnTo>
                    <a:lnTo>
                      <a:pt x="16" y="443"/>
                    </a:lnTo>
                    <a:lnTo>
                      <a:pt x="7" y="444"/>
                    </a:lnTo>
                    <a:lnTo>
                      <a:pt x="0" y="447"/>
                    </a:lnTo>
                    <a:lnTo>
                      <a:pt x="5" y="422"/>
                    </a:lnTo>
                    <a:lnTo>
                      <a:pt x="12" y="399"/>
                    </a:lnTo>
                    <a:lnTo>
                      <a:pt x="21" y="376"/>
                    </a:lnTo>
                    <a:lnTo>
                      <a:pt x="32" y="355"/>
                    </a:lnTo>
                    <a:lnTo>
                      <a:pt x="42" y="332"/>
                    </a:lnTo>
                    <a:lnTo>
                      <a:pt x="54" y="311"/>
                    </a:lnTo>
                    <a:lnTo>
                      <a:pt x="65" y="290"/>
                    </a:lnTo>
                    <a:lnTo>
                      <a:pt x="76" y="267"/>
                    </a:lnTo>
                    <a:lnTo>
                      <a:pt x="84" y="252"/>
                    </a:lnTo>
                    <a:lnTo>
                      <a:pt x="93" y="236"/>
                    </a:lnTo>
                    <a:lnTo>
                      <a:pt x="101" y="220"/>
                    </a:lnTo>
                    <a:lnTo>
                      <a:pt x="110" y="204"/>
                    </a:lnTo>
                    <a:lnTo>
                      <a:pt x="119" y="188"/>
                    </a:lnTo>
                    <a:lnTo>
                      <a:pt x="131" y="173"/>
                    </a:lnTo>
                    <a:lnTo>
                      <a:pt x="143" y="160"/>
                    </a:lnTo>
                    <a:lnTo>
                      <a:pt x="157" y="150"/>
                    </a:lnTo>
                    <a:lnTo>
                      <a:pt x="169" y="131"/>
                    </a:lnTo>
                    <a:lnTo>
                      <a:pt x="184" y="115"/>
                    </a:lnTo>
                    <a:lnTo>
                      <a:pt x="200" y="103"/>
                    </a:lnTo>
                    <a:lnTo>
                      <a:pt x="217" y="92"/>
                    </a:lnTo>
                    <a:lnTo>
                      <a:pt x="234" y="81"/>
                    </a:lnTo>
                    <a:lnTo>
                      <a:pt x="252" y="72"/>
                    </a:lnTo>
                    <a:lnTo>
                      <a:pt x="269" y="61"/>
                    </a:lnTo>
                    <a:lnTo>
                      <a:pt x="286" y="49"/>
                    </a:lnTo>
                    <a:lnTo>
                      <a:pt x="286" y="63"/>
                    </a:lnTo>
                    <a:lnTo>
                      <a:pt x="282" y="77"/>
                    </a:lnTo>
                    <a:lnTo>
                      <a:pt x="277" y="90"/>
                    </a:lnTo>
                    <a:lnTo>
                      <a:pt x="270" y="104"/>
                    </a:lnTo>
                    <a:lnTo>
                      <a:pt x="263" y="117"/>
                    </a:lnTo>
                    <a:lnTo>
                      <a:pt x="258" y="131"/>
                    </a:lnTo>
                    <a:lnTo>
                      <a:pt x="253" y="147"/>
                    </a:lnTo>
                    <a:lnTo>
                      <a:pt x="253" y="163"/>
                    </a:lnTo>
                    <a:lnTo>
                      <a:pt x="247" y="175"/>
                    </a:lnTo>
                    <a:lnTo>
                      <a:pt x="241" y="188"/>
                    </a:lnTo>
                    <a:lnTo>
                      <a:pt x="238" y="202"/>
                    </a:lnTo>
                    <a:lnTo>
                      <a:pt x="234" y="215"/>
                    </a:lnTo>
                    <a:lnTo>
                      <a:pt x="231" y="228"/>
                    </a:lnTo>
                    <a:lnTo>
                      <a:pt x="225" y="240"/>
                    </a:lnTo>
                    <a:lnTo>
                      <a:pt x="219" y="253"/>
                    </a:lnTo>
                    <a:lnTo>
                      <a:pt x="210" y="264"/>
                    </a:lnTo>
                    <a:lnTo>
                      <a:pt x="212" y="272"/>
                    </a:lnTo>
                    <a:lnTo>
                      <a:pt x="210" y="283"/>
                    </a:lnTo>
                    <a:lnTo>
                      <a:pt x="212" y="291"/>
                    </a:lnTo>
                    <a:lnTo>
                      <a:pt x="218" y="296"/>
                    </a:lnTo>
                    <a:lnTo>
                      <a:pt x="225" y="293"/>
                    </a:lnTo>
                    <a:lnTo>
                      <a:pt x="232" y="287"/>
                    </a:lnTo>
                    <a:lnTo>
                      <a:pt x="237" y="281"/>
                    </a:lnTo>
                    <a:lnTo>
                      <a:pt x="241" y="273"/>
                    </a:lnTo>
                    <a:lnTo>
                      <a:pt x="245" y="265"/>
                    </a:lnTo>
                    <a:lnTo>
                      <a:pt x="248" y="257"/>
                    </a:lnTo>
                    <a:lnTo>
                      <a:pt x="252" y="249"/>
                    </a:lnTo>
                    <a:lnTo>
                      <a:pt x="256" y="243"/>
                    </a:lnTo>
                    <a:lnTo>
                      <a:pt x="269" y="218"/>
                    </a:lnTo>
                    <a:lnTo>
                      <a:pt x="283" y="192"/>
                    </a:lnTo>
                    <a:lnTo>
                      <a:pt x="297" y="167"/>
                    </a:lnTo>
                    <a:lnTo>
                      <a:pt x="312" y="141"/>
                    </a:lnTo>
                    <a:lnTo>
                      <a:pt x="327" y="115"/>
                    </a:lnTo>
                    <a:lnTo>
                      <a:pt x="343" y="91"/>
                    </a:lnTo>
                    <a:lnTo>
                      <a:pt x="359" y="66"/>
                    </a:lnTo>
                    <a:lnTo>
                      <a:pt x="375" y="43"/>
                    </a:lnTo>
                    <a:lnTo>
                      <a:pt x="379" y="43"/>
                    </a:lnTo>
                    <a:lnTo>
                      <a:pt x="382" y="42"/>
                    </a:lnTo>
                    <a:lnTo>
                      <a:pt x="384" y="41"/>
                    </a:lnTo>
                    <a:lnTo>
                      <a:pt x="386" y="38"/>
                    </a:lnTo>
                    <a:lnTo>
                      <a:pt x="386" y="31"/>
                    </a:lnTo>
                    <a:lnTo>
                      <a:pt x="395" y="26"/>
                    </a:lnTo>
                    <a:lnTo>
                      <a:pt x="402" y="18"/>
                    </a:lnTo>
                    <a:lnTo>
                      <a:pt x="407" y="10"/>
                    </a:lnTo>
                    <a:lnTo>
                      <a:pt x="414" y="0"/>
                    </a:lnTo>
                    <a:lnTo>
                      <a:pt x="409" y="32"/>
                    </a:lnTo>
                    <a:lnTo>
                      <a:pt x="401" y="65"/>
                    </a:lnTo>
                    <a:lnTo>
                      <a:pt x="395" y="100"/>
                    </a:lnTo>
                    <a:lnTo>
                      <a:pt x="389" y="136"/>
                    </a:lnTo>
                    <a:lnTo>
                      <a:pt x="384" y="171"/>
                    </a:lnTo>
                    <a:lnTo>
                      <a:pt x="381" y="206"/>
                    </a:lnTo>
                    <a:lnTo>
                      <a:pt x="381" y="241"/>
                    </a:lnTo>
                    <a:lnTo>
                      <a:pt x="383" y="275"/>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flipH="1">
                <a:off x="1345320" y="4526640"/>
                <a:ext cx="105480" cy="114120"/>
              </a:xfrm>
              <a:custGeom>
                <a:avLst/>
                <a:gdLst/>
                <a:ahLst/>
                <a:rect l="l" t="t" r="r" b="b"/>
                <a:pathLst>
                  <a:path w="509" h="466">
                    <a:moveTo>
                      <a:pt x="509" y="0"/>
                    </a:moveTo>
                    <a:lnTo>
                      <a:pt x="499" y="24"/>
                    </a:lnTo>
                    <a:lnTo>
                      <a:pt x="488" y="46"/>
                    </a:lnTo>
                    <a:lnTo>
                      <a:pt x="477" y="68"/>
                    </a:lnTo>
                    <a:lnTo>
                      <a:pt x="465" y="91"/>
                    </a:lnTo>
                    <a:lnTo>
                      <a:pt x="452" y="113"/>
                    </a:lnTo>
                    <a:lnTo>
                      <a:pt x="439" y="135"/>
                    </a:lnTo>
                    <a:lnTo>
                      <a:pt x="425" y="156"/>
                    </a:lnTo>
                    <a:lnTo>
                      <a:pt x="412" y="177"/>
                    </a:lnTo>
                    <a:lnTo>
                      <a:pt x="398" y="200"/>
                    </a:lnTo>
                    <a:lnTo>
                      <a:pt x="385" y="221"/>
                    </a:lnTo>
                    <a:lnTo>
                      <a:pt x="372" y="243"/>
                    </a:lnTo>
                    <a:lnTo>
                      <a:pt x="359" y="264"/>
                    </a:lnTo>
                    <a:lnTo>
                      <a:pt x="347" y="286"/>
                    </a:lnTo>
                    <a:lnTo>
                      <a:pt x="336" y="308"/>
                    </a:lnTo>
                    <a:lnTo>
                      <a:pt x="326" y="330"/>
                    </a:lnTo>
                    <a:lnTo>
                      <a:pt x="316" y="353"/>
                    </a:lnTo>
                    <a:lnTo>
                      <a:pt x="305" y="369"/>
                    </a:lnTo>
                    <a:lnTo>
                      <a:pt x="295" y="384"/>
                    </a:lnTo>
                    <a:lnTo>
                      <a:pt x="282" y="396"/>
                    </a:lnTo>
                    <a:lnTo>
                      <a:pt x="269" y="408"/>
                    </a:lnTo>
                    <a:lnTo>
                      <a:pt x="255" y="419"/>
                    </a:lnTo>
                    <a:lnTo>
                      <a:pt x="240" y="427"/>
                    </a:lnTo>
                    <a:lnTo>
                      <a:pt x="225" y="435"/>
                    </a:lnTo>
                    <a:lnTo>
                      <a:pt x="209" y="441"/>
                    </a:lnTo>
                    <a:lnTo>
                      <a:pt x="192" y="447"/>
                    </a:lnTo>
                    <a:lnTo>
                      <a:pt x="175" y="452"/>
                    </a:lnTo>
                    <a:lnTo>
                      <a:pt x="158" y="455"/>
                    </a:lnTo>
                    <a:lnTo>
                      <a:pt x="139" y="457"/>
                    </a:lnTo>
                    <a:lnTo>
                      <a:pt x="121" y="460"/>
                    </a:lnTo>
                    <a:lnTo>
                      <a:pt x="102" y="461"/>
                    </a:lnTo>
                    <a:lnTo>
                      <a:pt x="84" y="462"/>
                    </a:lnTo>
                    <a:lnTo>
                      <a:pt x="64" y="462"/>
                    </a:lnTo>
                    <a:lnTo>
                      <a:pt x="57" y="463"/>
                    </a:lnTo>
                    <a:lnTo>
                      <a:pt x="48" y="465"/>
                    </a:lnTo>
                    <a:lnTo>
                      <a:pt x="40" y="465"/>
                    </a:lnTo>
                    <a:lnTo>
                      <a:pt x="31" y="466"/>
                    </a:lnTo>
                    <a:lnTo>
                      <a:pt x="23" y="465"/>
                    </a:lnTo>
                    <a:lnTo>
                      <a:pt x="15" y="464"/>
                    </a:lnTo>
                    <a:lnTo>
                      <a:pt x="7" y="461"/>
                    </a:lnTo>
                    <a:lnTo>
                      <a:pt x="0" y="457"/>
                    </a:lnTo>
                    <a:lnTo>
                      <a:pt x="9" y="440"/>
                    </a:lnTo>
                    <a:lnTo>
                      <a:pt x="17" y="423"/>
                    </a:lnTo>
                    <a:lnTo>
                      <a:pt x="28" y="407"/>
                    </a:lnTo>
                    <a:lnTo>
                      <a:pt x="38" y="391"/>
                    </a:lnTo>
                    <a:lnTo>
                      <a:pt x="48" y="375"/>
                    </a:lnTo>
                    <a:lnTo>
                      <a:pt x="59" y="360"/>
                    </a:lnTo>
                    <a:lnTo>
                      <a:pt x="71" y="344"/>
                    </a:lnTo>
                    <a:lnTo>
                      <a:pt x="83" y="329"/>
                    </a:lnTo>
                    <a:lnTo>
                      <a:pt x="94" y="314"/>
                    </a:lnTo>
                    <a:lnTo>
                      <a:pt x="107" y="299"/>
                    </a:lnTo>
                    <a:lnTo>
                      <a:pt x="119" y="284"/>
                    </a:lnTo>
                    <a:lnTo>
                      <a:pt x="132" y="269"/>
                    </a:lnTo>
                    <a:lnTo>
                      <a:pt x="145" y="254"/>
                    </a:lnTo>
                    <a:lnTo>
                      <a:pt x="158" y="240"/>
                    </a:lnTo>
                    <a:lnTo>
                      <a:pt x="170" y="226"/>
                    </a:lnTo>
                    <a:lnTo>
                      <a:pt x="183" y="211"/>
                    </a:lnTo>
                    <a:lnTo>
                      <a:pt x="192" y="200"/>
                    </a:lnTo>
                    <a:lnTo>
                      <a:pt x="201" y="189"/>
                    </a:lnTo>
                    <a:lnTo>
                      <a:pt x="211" y="180"/>
                    </a:lnTo>
                    <a:lnTo>
                      <a:pt x="221" y="169"/>
                    </a:lnTo>
                    <a:lnTo>
                      <a:pt x="231" y="159"/>
                    </a:lnTo>
                    <a:lnTo>
                      <a:pt x="241" y="150"/>
                    </a:lnTo>
                    <a:lnTo>
                      <a:pt x="252" y="140"/>
                    </a:lnTo>
                    <a:lnTo>
                      <a:pt x="262" y="131"/>
                    </a:lnTo>
                    <a:lnTo>
                      <a:pt x="266" y="135"/>
                    </a:lnTo>
                    <a:lnTo>
                      <a:pt x="273" y="129"/>
                    </a:lnTo>
                    <a:lnTo>
                      <a:pt x="270" y="125"/>
                    </a:lnTo>
                    <a:lnTo>
                      <a:pt x="349" y="76"/>
                    </a:lnTo>
                    <a:lnTo>
                      <a:pt x="329" y="105"/>
                    </a:lnTo>
                    <a:lnTo>
                      <a:pt x="310" y="134"/>
                    </a:lnTo>
                    <a:lnTo>
                      <a:pt x="290" y="162"/>
                    </a:lnTo>
                    <a:lnTo>
                      <a:pt x="271" y="191"/>
                    </a:lnTo>
                    <a:lnTo>
                      <a:pt x="253" y="220"/>
                    </a:lnTo>
                    <a:lnTo>
                      <a:pt x="235" y="249"/>
                    </a:lnTo>
                    <a:lnTo>
                      <a:pt x="217" y="278"/>
                    </a:lnTo>
                    <a:lnTo>
                      <a:pt x="201" y="307"/>
                    </a:lnTo>
                    <a:lnTo>
                      <a:pt x="202" y="315"/>
                    </a:lnTo>
                    <a:lnTo>
                      <a:pt x="206" y="324"/>
                    </a:lnTo>
                    <a:lnTo>
                      <a:pt x="212" y="331"/>
                    </a:lnTo>
                    <a:lnTo>
                      <a:pt x="220" y="336"/>
                    </a:lnTo>
                    <a:lnTo>
                      <a:pt x="243" y="315"/>
                    </a:lnTo>
                    <a:lnTo>
                      <a:pt x="262" y="293"/>
                    </a:lnTo>
                    <a:lnTo>
                      <a:pt x="279" y="269"/>
                    </a:lnTo>
                    <a:lnTo>
                      <a:pt x="292" y="244"/>
                    </a:lnTo>
                    <a:lnTo>
                      <a:pt x="305" y="218"/>
                    </a:lnTo>
                    <a:lnTo>
                      <a:pt x="320" y="193"/>
                    </a:lnTo>
                    <a:lnTo>
                      <a:pt x="337" y="169"/>
                    </a:lnTo>
                    <a:lnTo>
                      <a:pt x="359" y="146"/>
                    </a:lnTo>
                    <a:lnTo>
                      <a:pt x="374" y="127"/>
                    </a:lnTo>
                    <a:lnTo>
                      <a:pt x="389" y="105"/>
                    </a:lnTo>
                    <a:lnTo>
                      <a:pt x="403" y="81"/>
                    </a:lnTo>
                    <a:lnTo>
                      <a:pt x="418" y="59"/>
                    </a:lnTo>
                    <a:lnTo>
                      <a:pt x="436" y="37"/>
                    </a:lnTo>
                    <a:lnTo>
                      <a:pt x="455" y="19"/>
                    </a:lnTo>
                    <a:lnTo>
                      <a:pt x="480" y="6"/>
                    </a:lnTo>
                    <a:lnTo>
                      <a:pt x="509" y="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flipH="1">
                <a:off x="1389240" y="4536360"/>
                <a:ext cx="140040" cy="98280"/>
              </a:xfrm>
              <a:custGeom>
                <a:avLst/>
                <a:gdLst/>
                <a:ahLst/>
                <a:rect l="l" t="t" r="r" b="b"/>
                <a:pathLst>
                  <a:path w="673" h="403">
                    <a:moveTo>
                      <a:pt x="673" y="2"/>
                    </a:moveTo>
                    <a:lnTo>
                      <a:pt x="668" y="8"/>
                    </a:lnTo>
                    <a:lnTo>
                      <a:pt x="662" y="15"/>
                    </a:lnTo>
                    <a:lnTo>
                      <a:pt x="654" y="22"/>
                    </a:lnTo>
                    <a:lnTo>
                      <a:pt x="648" y="30"/>
                    </a:lnTo>
                    <a:lnTo>
                      <a:pt x="639" y="37"/>
                    </a:lnTo>
                    <a:lnTo>
                      <a:pt x="632" y="43"/>
                    </a:lnTo>
                    <a:lnTo>
                      <a:pt x="623" y="50"/>
                    </a:lnTo>
                    <a:lnTo>
                      <a:pt x="615" y="55"/>
                    </a:lnTo>
                    <a:lnTo>
                      <a:pt x="601" y="69"/>
                    </a:lnTo>
                    <a:lnTo>
                      <a:pt x="587" y="83"/>
                    </a:lnTo>
                    <a:lnTo>
                      <a:pt x="574" y="96"/>
                    </a:lnTo>
                    <a:lnTo>
                      <a:pt x="560" y="110"/>
                    </a:lnTo>
                    <a:lnTo>
                      <a:pt x="547" y="123"/>
                    </a:lnTo>
                    <a:lnTo>
                      <a:pt x="533" y="135"/>
                    </a:lnTo>
                    <a:lnTo>
                      <a:pt x="518" y="147"/>
                    </a:lnTo>
                    <a:lnTo>
                      <a:pt x="502" y="159"/>
                    </a:lnTo>
                    <a:lnTo>
                      <a:pt x="490" y="172"/>
                    </a:lnTo>
                    <a:lnTo>
                      <a:pt x="479" y="185"/>
                    </a:lnTo>
                    <a:lnTo>
                      <a:pt x="466" y="198"/>
                    </a:lnTo>
                    <a:lnTo>
                      <a:pt x="454" y="212"/>
                    </a:lnTo>
                    <a:lnTo>
                      <a:pt x="441" y="225"/>
                    </a:lnTo>
                    <a:lnTo>
                      <a:pt x="429" y="239"/>
                    </a:lnTo>
                    <a:lnTo>
                      <a:pt x="417" y="253"/>
                    </a:lnTo>
                    <a:lnTo>
                      <a:pt x="404" y="268"/>
                    </a:lnTo>
                    <a:lnTo>
                      <a:pt x="391" y="282"/>
                    </a:lnTo>
                    <a:lnTo>
                      <a:pt x="378" y="296"/>
                    </a:lnTo>
                    <a:lnTo>
                      <a:pt x="365" y="310"/>
                    </a:lnTo>
                    <a:lnTo>
                      <a:pt x="352" y="325"/>
                    </a:lnTo>
                    <a:lnTo>
                      <a:pt x="338" y="338"/>
                    </a:lnTo>
                    <a:lnTo>
                      <a:pt x="326" y="352"/>
                    </a:lnTo>
                    <a:lnTo>
                      <a:pt x="313" y="366"/>
                    </a:lnTo>
                    <a:lnTo>
                      <a:pt x="299" y="380"/>
                    </a:lnTo>
                    <a:lnTo>
                      <a:pt x="283" y="388"/>
                    </a:lnTo>
                    <a:lnTo>
                      <a:pt x="267" y="394"/>
                    </a:lnTo>
                    <a:lnTo>
                      <a:pt x="251" y="397"/>
                    </a:lnTo>
                    <a:lnTo>
                      <a:pt x="232" y="400"/>
                    </a:lnTo>
                    <a:lnTo>
                      <a:pt x="215" y="401"/>
                    </a:lnTo>
                    <a:lnTo>
                      <a:pt x="197" y="403"/>
                    </a:lnTo>
                    <a:lnTo>
                      <a:pt x="179" y="401"/>
                    </a:lnTo>
                    <a:lnTo>
                      <a:pt x="161" y="400"/>
                    </a:lnTo>
                    <a:lnTo>
                      <a:pt x="142" y="398"/>
                    </a:lnTo>
                    <a:lnTo>
                      <a:pt x="123" y="396"/>
                    </a:lnTo>
                    <a:lnTo>
                      <a:pt x="105" y="394"/>
                    </a:lnTo>
                    <a:lnTo>
                      <a:pt x="87" y="392"/>
                    </a:lnTo>
                    <a:lnTo>
                      <a:pt x="69" y="390"/>
                    </a:lnTo>
                    <a:lnTo>
                      <a:pt x="50" y="389"/>
                    </a:lnTo>
                    <a:lnTo>
                      <a:pt x="32" y="388"/>
                    </a:lnTo>
                    <a:lnTo>
                      <a:pt x="15" y="388"/>
                    </a:lnTo>
                    <a:lnTo>
                      <a:pt x="12" y="380"/>
                    </a:lnTo>
                    <a:lnTo>
                      <a:pt x="5" y="377"/>
                    </a:lnTo>
                    <a:lnTo>
                      <a:pt x="0" y="373"/>
                    </a:lnTo>
                    <a:lnTo>
                      <a:pt x="1" y="363"/>
                    </a:lnTo>
                    <a:lnTo>
                      <a:pt x="19" y="355"/>
                    </a:lnTo>
                    <a:lnTo>
                      <a:pt x="38" y="347"/>
                    </a:lnTo>
                    <a:lnTo>
                      <a:pt x="56" y="338"/>
                    </a:lnTo>
                    <a:lnTo>
                      <a:pt x="73" y="330"/>
                    </a:lnTo>
                    <a:lnTo>
                      <a:pt x="91" y="320"/>
                    </a:lnTo>
                    <a:lnTo>
                      <a:pt x="108" y="312"/>
                    </a:lnTo>
                    <a:lnTo>
                      <a:pt x="125" y="302"/>
                    </a:lnTo>
                    <a:lnTo>
                      <a:pt x="142" y="292"/>
                    </a:lnTo>
                    <a:lnTo>
                      <a:pt x="160" y="283"/>
                    </a:lnTo>
                    <a:lnTo>
                      <a:pt x="176" y="273"/>
                    </a:lnTo>
                    <a:lnTo>
                      <a:pt x="192" y="264"/>
                    </a:lnTo>
                    <a:lnTo>
                      <a:pt x="208" y="253"/>
                    </a:lnTo>
                    <a:lnTo>
                      <a:pt x="224" y="243"/>
                    </a:lnTo>
                    <a:lnTo>
                      <a:pt x="239" y="233"/>
                    </a:lnTo>
                    <a:lnTo>
                      <a:pt x="254" y="223"/>
                    </a:lnTo>
                    <a:lnTo>
                      <a:pt x="269" y="212"/>
                    </a:lnTo>
                    <a:lnTo>
                      <a:pt x="286" y="204"/>
                    </a:lnTo>
                    <a:lnTo>
                      <a:pt x="303" y="194"/>
                    </a:lnTo>
                    <a:lnTo>
                      <a:pt x="320" y="183"/>
                    </a:lnTo>
                    <a:lnTo>
                      <a:pt x="337" y="173"/>
                    </a:lnTo>
                    <a:lnTo>
                      <a:pt x="354" y="162"/>
                    </a:lnTo>
                    <a:lnTo>
                      <a:pt x="370" y="150"/>
                    </a:lnTo>
                    <a:lnTo>
                      <a:pt x="388" y="140"/>
                    </a:lnTo>
                    <a:lnTo>
                      <a:pt x="405" y="128"/>
                    </a:lnTo>
                    <a:lnTo>
                      <a:pt x="422" y="117"/>
                    </a:lnTo>
                    <a:lnTo>
                      <a:pt x="439" y="105"/>
                    </a:lnTo>
                    <a:lnTo>
                      <a:pt x="456" y="95"/>
                    </a:lnTo>
                    <a:lnTo>
                      <a:pt x="473" y="84"/>
                    </a:lnTo>
                    <a:lnTo>
                      <a:pt x="491" y="74"/>
                    </a:lnTo>
                    <a:lnTo>
                      <a:pt x="510" y="65"/>
                    </a:lnTo>
                    <a:lnTo>
                      <a:pt x="529" y="56"/>
                    </a:lnTo>
                    <a:lnTo>
                      <a:pt x="548" y="48"/>
                    </a:lnTo>
                    <a:lnTo>
                      <a:pt x="558" y="47"/>
                    </a:lnTo>
                    <a:lnTo>
                      <a:pt x="569" y="45"/>
                    </a:lnTo>
                    <a:lnTo>
                      <a:pt x="579" y="41"/>
                    </a:lnTo>
                    <a:lnTo>
                      <a:pt x="590" y="37"/>
                    </a:lnTo>
                    <a:lnTo>
                      <a:pt x="600" y="32"/>
                    </a:lnTo>
                    <a:lnTo>
                      <a:pt x="610" y="27"/>
                    </a:lnTo>
                    <a:lnTo>
                      <a:pt x="621" y="23"/>
                    </a:lnTo>
                    <a:lnTo>
                      <a:pt x="632" y="20"/>
                    </a:lnTo>
                    <a:lnTo>
                      <a:pt x="636" y="18"/>
                    </a:lnTo>
                    <a:lnTo>
                      <a:pt x="640" y="15"/>
                    </a:lnTo>
                    <a:lnTo>
                      <a:pt x="645" y="10"/>
                    </a:lnTo>
                    <a:lnTo>
                      <a:pt x="650" y="6"/>
                    </a:lnTo>
                    <a:lnTo>
                      <a:pt x="654" y="3"/>
                    </a:lnTo>
                    <a:lnTo>
                      <a:pt x="661" y="1"/>
                    </a:lnTo>
                    <a:lnTo>
                      <a:pt x="667" y="0"/>
                    </a:lnTo>
                    <a:lnTo>
                      <a:pt x="673" y="2"/>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flipH="1">
                <a:off x="1533240" y="4557240"/>
                <a:ext cx="33840" cy="20880"/>
              </a:xfrm>
              <a:custGeom>
                <a:avLst/>
                <a:gdLst/>
                <a:ahLst/>
                <a:rect l="l" t="t" r="r" b="b"/>
                <a:pathLst>
                  <a:path w="165" h="85">
                    <a:moveTo>
                      <a:pt x="165" y="85"/>
                    </a:moveTo>
                    <a:lnTo>
                      <a:pt x="146" y="78"/>
                    </a:lnTo>
                    <a:lnTo>
                      <a:pt x="124" y="77"/>
                    </a:lnTo>
                    <a:lnTo>
                      <a:pt x="103" y="78"/>
                    </a:lnTo>
                    <a:lnTo>
                      <a:pt x="81" y="79"/>
                    </a:lnTo>
                    <a:lnTo>
                      <a:pt x="61" y="79"/>
                    </a:lnTo>
                    <a:lnTo>
                      <a:pt x="43" y="75"/>
                    </a:lnTo>
                    <a:lnTo>
                      <a:pt x="28" y="64"/>
                    </a:lnTo>
                    <a:lnTo>
                      <a:pt x="17" y="46"/>
                    </a:lnTo>
                    <a:lnTo>
                      <a:pt x="0" y="0"/>
                    </a:lnTo>
                    <a:lnTo>
                      <a:pt x="24" y="8"/>
                    </a:lnTo>
                    <a:lnTo>
                      <a:pt x="45" y="17"/>
                    </a:lnTo>
                    <a:lnTo>
                      <a:pt x="65" y="30"/>
                    </a:lnTo>
                    <a:lnTo>
                      <a:pt x="85" y="43"/>
                    </a:lnTo>
                    <a:lnTo>
                      <a:pt x="103" y="56"/>
                    </a:lnTo>
                    <a:lnTo>
                      <a:pt x="122" y="68"/>
                    </a:lnTo>
                    <a:lnTo>
                      <a:pt x="144" y="77"/>
                    </a:lnTo>
                    <a:lnTo>
                      <a:pt x="165" y="85"/>
                    </a:lnTo>
                    <a:close/>
                  </a:path>
                </a:pathLst>
              </a:custGeom>
              <a:solidFill>
                <a:srgbClr val="8959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85" name=""/>
              <p:cNvSpPr/>
              <p:nvPr/>
            </p:nvSpPr>
            <p:spPr>
              <a:xfrm flipH="1">
                <a:off x="1474560" y="4577040"/>
                <a:ext cx="135720" cy="30600"/>
              </a:xfrm>
              <a:custGeom>
                <a:avLst/>
                <a:gdLst/>
                <a:ahLst/>
                <a:rect l="l" t="t" r="r" b="b"/>
                <a:pathLst>
                  <a:path w="653" h="127">
                    <a:moveTo>
                      <a:pt x="130" y="16"/>
                    </a:moveTo>
                    <a:lnTo>
                      <a:pt x="136" y="15"/>
                    </a:lnTo>
                    <a:lnTo>
                      <a:pt x="144" y="15"/>
                    </a:lnTo>
                    <a:lnTo>
                      <a:pt x="150" y="17"/>
                    </a:lnTo>
                    <a:lnTo>
                      <a:pt x="157" y="19"/>
                    </a:lnTo>
                    <a:lnTo>
                      <a:pt x="163" y="23"/>
                    </a:lnTo>
                    <a:lnTo>
                      <a:pt x="169" y="25"/>
                    </a:lnTo>
                    <a:lnTo>
                      <a:pt x="177" y="25"/>
                    </a:lnTo>
                    <a:lnTo>
                      <a:pt x="183" y="24"/>
                    </a:lnTo>
                    <a:lnTo>
                      <a:pt x="196" y="25"/>
                    </a:lnTo>
                    <a:lnTo>
                      <a:pt x="208" y="26"/>
                    </a:lnTo>
                    <a:lnTo>
                      <a:pt x="222" y="28"/>
                    </a:lnTo>
                    <a:lnTo>
                      <a:pt x="235" y="30"/>
                    </a:lnTo>
                    <a:lnTo>
                      <a:pt x="249" y="33"/>
                    </a:lnTo>
                    <a:lnTo>
                      <a:pt x="262" y="37"/>
                    </a:lnTo>
                    <a:lnTo>
                      <a:pt x="275" y="40"/>
                    </a:lnTo>
                    <a:lnTo>
                      <a:pt x="289" y="43"/>
                    </a:lnTo>
                    <a:lnTo>
                      <a:pt x="303" y="45"/>
                    </a:lnTo>
                    <a:lnTo>
                      <a:pt x="317" y="48"/>
                    </a:lnTo>
                    <a:lnTo>
                      <a:pt x="331" y="49"/>
                    </a:lnTo>
                    <a:lnTo>
                      <a:pt x="345" y="50"/>
                    </a:lnTo>
                    <a:lnTo>
                      <a:pt x="359" y="52"/>
                    </a:lnTo>
                    <a:lnTo>
                      <a:pt x="372" y="50"/>
                    </a:lnTo>
                    <a:lnTo>
                      <a:pt x="386" y="49"/>
                    </a:lnTo>
                    <a:lnTo>
                      <a:pt x="399" y="46"/>
                    </a:lnTo>
                    <a:lnTo>
                      <a:pt x="414" y="44"/>
                    </a:lnTo>
                    <a:lnTo>
                      <a:pt x="429" y="41"/>
                    </a:lnTo>
                    <a:lnTo>
                      <a:pt x="445" y="39"/>
                    </a:lnTo>
                    <a:lnTo>
                      <a:pt x="460" y="38"/>
                    </a:lnTo>
                    <a:lnTo>
                      <a:pt x="476" y="35"/>
                    </a:lnTo>
                    <a:lnTo>
                      <a:pt x="491" y="33"/>
                    </a:lnTo>
                    <a:lnTo>
                      <a:pt x="507" y="32"/>
                    </a:lnTo>
                    <a:lnTo>
                      <a:pt x="523" y="30"/>
                    </a:lnTo>
                    <a:lnTo>
                      <a:pt x="539" y="28"/>
                    </a:lnTo>
                    <a:lnTo>
                      <a:pt x="556" y="26"/>
                    </a:lnTo>
                    <a:lnTo>
                      <a:pt x="572" y="23"/>
                    </a:lnTo>
                    <a:lnTo>
                      <a:pt x="588" y="19"/>
                    </a:lnTo>
                    <a:lnTo>
                      <a:pt x="604" y="16"/>
                    </a:lnTo>
                    <a:lnTo>
                      <a:pt x="621" y="12"/>
                    </a:lnTo>
                    <a:lnTo>
                      <a:pt x="637" y="8"/>
                    </a:lnTo>
                    <a:lnTo>
                      <a:pt x="653" y="2"/>
                    </a:lnTo>
                    <a:lnTo>
                      <a:pt x="642" y="14"/>
                    </a:lnTo>
                    <a:lnTo>
                      <a:pt x="629" y="25"/>
                    </a:lnTo>
                    <a:lnTo>
                      <a:pt x="615" y="34"/>
                    </a:lnTo>
                    <a:lnTo>
                      <a:pt x="601" y="42"/>
                    </a:lnTo>
                    <a:lnTo>
                      <a:pt x="586" y="49"/>
                    </a:lnTo>
                    <a:lnTo>
                      <a:pt x="572" y="56"/>
                    </a:lnTo>
                    <a:lnTo>
                      <a:pt x="557" y="63"/>
                    </a:lnTo>
                    <a:lnTo>
                      <a:pt x="542" y="70"/>
                    </a:lnTo>
                    <a:lnTo>
                      <a:pt x="530" y="75"/>
                    </a:lnTo>
                    <a:lnTo>
                      <a:pt x="517" y="80"/>
                    </a:lnTo>
                    <a:lnTo>
                      <a:pt x="505" y="86"/>
                    </a:lnTo>
                    <a:lnTo>
                      <a:pt x="493" y="91"/>
                    </a:lnTo>
                    <a:lnTo>
                      <a:pt x="480" y="97"/>
                    </a:lnTo>
                    <a:lnTo>
                      <a:pt x="466" y="103"/>
                    </a:lnTo>
                    <a:lnTo>
                      <a:pt x="453" y="107"/>
                    </a:lnTo>
                    <a:lnTo>
                      <a:pt x="440" y="112"/>
                    </a:lnTo>
                    <a:lnTo>
                      <a:pt x="426" y="117"/>
                    </a:lnTo>
                    <a:lnTo>
                      <a:pt x="414" y="120"/>
                    </a:lnTo>
                    <a:lnTo>
                      <a:pt x="400" y="123"/>
                    </a:lnTo>
                    <a:lnTo>
                      <a:pt x="386" y="125"/>
                    </a:lnTo>
                    <a:lnTo>
                      <a:pt x="372" y="126"/>
                    </a:lnTo>
                    <a:lnTo>
                      <a:pt x="358" y="127"/>
                    </a:lnTo>
                    <a:lnTo>
                      <a:pt x="344" y="126"/>
                    </a:lnTo>
                    <a:lnTo>
                      <a:pt x="330" y="124"/>
                    </a:lnTo>
                    <a:lnTo>
                      <a:pt x="310" y="123"/>
                    </a:lnTo>
                    <a:lnTo>
                      <a:pt x="290" y="121"/>
                    </a:lnTo>
                    <a:lnTo>
                      <a:pt x="271" y="119"/>
                    </a:lnTo>
                    <a:lnTo>
                      <a:pt x="253" y="115"/>
                    </a:lnTo>
                    <a:lnTo>
                      <a:pt x="234" y="110"/>
                    </a:lnTo>
                    <a:lnTo>
                      <a:pt x="216" y="106"/>
                    </a:lnTo>
                    <a:lnTo>
                      <a:pt x="197" y="101"/>
                    </a:lnTo>
                    <a:lnTo>
                      <a:pt x="180" y="94"/>
                    </a:lnTo>
                    <a:lnTo>
                      <a:pt x="162" y="89"/>
                    </a:lnTo>
                    <a:lnTo>
                      <a:pt x="145" y="81"/>
                    </a:lnTo>
                    <a:lnTo>
                      <a:pt x="128" y="75"/>
                    </a:lnTo>
                    <a:lnTo>
                      <a:pt x="110" y="68"/>
                    </a:lnTo>
                    <a:lnTo>
                      <a:pt x="92" y="60"/>
                    </a:lnTo>
                    <a:lnTo>
                      <a:pt x="75" y="54"/>
                    </a:lnTo>
                    <a:lnTo>
                      <a:pt x="58" y="46"/>
                    </a:lnTo>
                    <a:lnTo>
                      <a:pt x="41" y="39"/>
                    </a:lnTo>
                    <a:lnTo>
                      <a:pt x="36" y="35"/>
                    </a:lnTo>
                    <a:lnTo>
                      <a:pt x="29" y="32"/>
                    </a:lnTo>
                    <a:lnTo>
                      <a:pt x="24" y="29"/>
                    </a:lnTo>
                    <a:lnTo>
                      <a:pt x="19" y="25"/>
                    </a:lnTo>
                    <a:lnTo>
                      <a:pt x="13" y="22"/>
                    </a:lnTo>
                    <a:lnTo>
                      <a:pt x="8" y="16"/>
                    </a:lnTo>
                    <a:lnTo>
                      <a:pt x="4" y="11"/>
                    </a:lnTo>
                    <a:lnTo>
                      <a:pt x="0" y="6"/>
                    </a:lnTo>
                    <a:lnTo>
                      <a:pt x="7" y="1"/>
                    </a:lnTo>
                    <a:lnTo>
                      <a:pt x="12" y="0"/>
                    </a:lnTo>
                    <a:lnTo>
                      <a:pt x="19" y="0"/>
                    </a:lnTo>
                    <a:lnTo>
                      <a:pt x="26" y="2"/>
                    </a:lnTo>
                    <a:lnTo>
                      <a:pt x="32" y="4"/>
                    </a:lnTo>
                    <a:lnTo>
                      <a:pt x="39" y="7"/>
                    </a:lnTo>
                    <a:lnTo>
                      <a:pt x="46" y="7"/>
                    </a:lnTo>
                    <a:lnTo>
                      <a:pt x="54" y="6"/>
                    </a:lnTo>
                    <a:lnTo>
                      <a:pt x="65" y="7"/>
                    </a:lnTo>
                    <a:lnTo>
                      <a:pt x="75" y="6"/>
                    </a:lnTo>
                    <a:lnTo>
                      <a:pt x="85" y="6"/>
                    </a:lnTo>
                    <a:lnTo>
                      <a:pt x="95" y="4"/>
                    </a:lnTo>
                    <a:lnTo>
                      <a:pt x="103" y="6"/>
                    </a:lnTo>
                    <a:lnTo>
                      <a:pt x="113" y="7"/>
                    </a:lnTo>
                    <a:lnTo>
                      <a:pt x="121" y="11"/>
                    </a:lnTo>
                    <a:lnTo>
                      <a:pt x="130" y="16"/>
                    </a:lnTo>
                    <a:close/>
                  </a:path>
                </a:pathLst>
              </a:custGeom>
              <a:solidFill>
                <a:srgbClr val="8959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grpSp>
          <p:nvGrpSpPr>
            <p:cNvPr id="2286" name=""/>
            <p:cNvGrpSpPr/>
            <p:nvPr/>
          </p:nvGrpSpPr>
          <p:grpSpPr>
            <a:xfrm>
              <a:off x="404280" y="1808280"/>
              <a:ext cx="925560" cy="1009440"/>
              <a:chOff x="404280" y="1808280"/>
              <a:chExt cx="925560" cy="1009440"/>
            </a:xfrm>
          </p:grpSpPr>
          <p:sp>
            <p:nvSpPr>
              <p:cNvPr id="2287" name=""/>
              <p:cNvSpPr/>
              <p:nvPr/>
            </p:nvSpPr>
            <p:spPr>
              <a:xfrm flipH="1">
                <a:off x="403920" y="1808280"/>
                <a:ext cx="925560" cy="1009440"/>
              </a:xfrm>
              <a:custGeom>
                <a:avLst/>
                <a:gdLst/>
                <a:ahLst/>
                <a:rect l="l" t="t" r="r" b="b"/>
                <a:pathLst>
                  <a:path w="4466" h="4110">
                    <a:moveTo>
                      <a:pt x="3524" y="35"/>
                    </a:moveTo>
                    <a:lnTo>
                      <a:pt x="3530" y="48"/>
                    </a:lnTo>
                    <a:lnTo>
                      <a:pt x="3539" y="60"/>
                    </a:lnTo>
                    <a:lnTo>
                      <a:pt x="3549" y="72"/>
                    </a:lnTo>
                    <a:lnTo>
                      <a:pt x="3560" y="82"/>
                    </a:lnTo>
                    <a:lnTo>
                      <a:pt x="3570" y="94"/>
                    </a:lnTo>
                    <a:lnTo>
                      <a:pt x="3578" y="107"/>
                    </a:lnTo>
                    <a:lnTo>
                      <a:pt x="3585" y="120"/>
                    </a:lnTo>
                    <a:lnTo>
                      <a:pt x="3588" y="135"/>
                    </a:lnTo>
                    <a:lnTo>
                      <a:pt x="3615" y="204"/>
                    </a:lnTo>
                    <a:lnTo>
                      <a:pt x="3638" y="274"/>
                    </a:lnTo>
                    <a:lnTo>
                      <a:pt x="3660" y="345"/>
                    </a:lnTo>
                    <a:lnTo>
                      <a:pt x="3678" y="417"/>
                    </a:lnTo>
                    <a:lnTo>
                      <a:pt x="3694" y="489"/>
                    </a:lnTo>
                    <a:lnTo>
                      <a:pt x="3709" y="563"/>
                    </a:lnTo>
                    <a:lnTo>
                      <a:pt x="3722" y="638"/>
                    </a:lnTo>
                    <a:lnTo>
                      <a:pt x="3735" y="714"/>
                    </a:lnTo>
                    <a:lnTo>
                      <a:pt x="3745" y="708"/>
                    </a:lnTo>
                    <a:lnTo>
                      <a:pt x="3755" y="701"/>
                    </a:lnTo>
                    <a:lnTo>
                      <a:pt x="3762" y="691"/>
                    </a:lnTo>
                    <a:lnTo>
                      <a:pt x="3771" y="683"/>
                    </a:lnTo>
                    <a:lnTo>
                      <a:pt x="3779" y="674"/>
                    </a:lnTo>
                    <a:lnTo>
                      <a:pt x="3788" y="667"/>
                    </a:lnTo>
                    <a:lnTo>
                      <a:pt x="3800" y="663"/>
                    </a:lnTo>
                    <a:lnTo>
                      <a:pt x="3814" y="660"/>
                    </a:lnTo>
                    <a:lnTo>
                      <a:pt x="3828" y="666"/>
                    </a:lnTo>
                    <a:lnTo>
                      <a:pt x="3837" y="675"/>
                    </a:lnTo>
                    <a:lnTo>
                      <a:pt x="3843" y="688"/>
                    </a:lnTo>
                    <a:lnTo>
                      <a:pt x="3845" y="702"/>
                    </a:lnTo>
                    <a:lnTo>
                      <a:pt x="3846" y="717"/>
                    </a:lnTo>
                    <a:lnTo>
                      <a:pt x="3847" y="733"/>
                    </a:lnTo>
                    <a:lnTo>
                      <a:pt x="3848" y="748"/>
                    </a:lnTo>
                    <a:lnTo>
                      <a:pt x="3852" y="761"/>
                    </a:lnTo>
                    <a:lnTo>
                      <a:pt x="3866" y="828"/>
                    </a:lnTo>
                    <a:lnTo>
                      <a:pt x="3880" y="899"/>
                    </a:lnTo>
                    <a:lnTo>
                      <a:pt x="3893" y="970"/>
                    </a:lnTo>
                    <a:lnTo>
                      <a:pt x="3901" y="1042"/>
                    </a:lnTo>
                    <a:lnTo>
                      <a:pt x="3901" y="1112"/>
                    </a:lnTo>
                    <a:lnTo>
                      <a:pt x="3892" y="1182"/>
                    </a:lnTo>
                    <a:lnTo>
                      <a:pt x="3871" y="1248"/>
                    </a:lnTo>
                    <a:lnTo>
                      <a:pt x="3834" y="1310"/>
                    </a:lnTo>
                    <a:lnTo>
                      <a:pt x="3840" y="1314"/>
                    </a:lnTo>
                    <a:lnTo>
                      <a:pt x="3850" y="1310"/>
                    </a:lnTo>
                    <a:lnTo>
                      <a:pt x="3860" y="1304"/>
                    </a:lnTo>
                    <a:lnTo>
                      <a:pt x="3872" y="1297"/>
                    </a:lnTo>
                    <a:lnTo>
                      <a:pt x="3882" y="1292"/>
                    </a:lnTo>
                    <a:lnTo>
                      <a:pt x="3894" y="1285"/>
                    </a:lnTo>
                    <a:lnTo>
                      <a:pt x="3905" y="1281"/>
                    </a:lnTo>
                    <a:lnTo>
                      <a:pt x="3917" y="1279"/>
                    </a:lnTo>
                    <a:lnTo>
                      <a:pt x="3928" y="1279"/>
                    </a:lnTo>
                    <a:lnTo>
                      <a:pt x="3932" y="1295"/>
                    </a:lnTo>
                    <a:lnTo>
                      <a:pt x="3931" y="1310"/>
                    </a:lnTo>
                    <a:lnTo>
                      <a:pt x="3926" y="1326"/>
                    </a:lnTo>
                    <a:lnTo>
                      <a:pt x="3921" y="1340"/>
                    </a:lnTo>
                    <a:lnTo>
                      <a:pt x="3920" y="1414"/>
                    </a:lnTo>
                    <a:lnTo>
                      <a:pt x="3914" y="1489"/>
                    </a:lnTo>
                    <a:lnTo>
                      <a:pt x="3907" y="1564"/>
                    </a:lnTo>
                    <a:lnTo>
                      <a:pt x="3895" y="1637"/>
                    </a:lnTo>
                    <a:lnTo>
                      <a:pt x="3877" y="1656"/>
                    </a:lnTo>
                    <a:lnTo>
                      <a:pt x="3860" y="1676"/>
                    </a:lnTo>
                    <a:lnTo>
                      <a:pt x="3843" y="1694"/>
                    </a:lnTo>
                    <a:lnTo>
                      <a:pt x="3826" y="1712"/>
                    </a:lnTo>
                    <a:lnTo>
                      <a:pt x="3810" y="1729"/>
                    </a:lnTo>
                    <a:lnTo>
                      <a:pt x="3792" y="1746"/>
                    </a:lnTo>
                    <a:lnTo>
                      <a:pt x="3775" y="1763"/>
                    </a:lnTo>
                    <a:lnTo>
                      <a:pt x="3758" y="1779"/>
                    </a:lnTo>
                    <a:lnTo>
                      <a:pt x="3740" y="1795"/>
                    </a:lnTo>
                    <a:lnTo>
                      <a:pt x="3722" y="1811"/>
                    </a:lnTo>
                    <a:lnTo>
                      <a:pt x="3704" y="1827"/>
                    </a:lnTo>
                    <a:lnTo>
                      <a:pt x="3684" y="1842"/>
                    </a:lnTo>
                    <a:lnTo>
                      <a:pt x="3664" y="1858"/>
                    </a:lnTo>
                    <a:lnTo>
                      <a:pt x="3644" y="1873"/>
                    </a:lnTo>
                    <a:lnTo>
                      <a:pt x="3621" y="1889"/>
                    </a:lnTo>
                    <a:lnTo>
                      <a:pt x="3599" y="1904"/>
                    </a:lnTo>
                    <a:lnTo>
                      <a:pt x="3599" y="1908"/>
                    </a:lnTo>
                    <a:lnTo>
                      <a:pt x="3614" y="1906"/>
                    </a:lnTo>
                    <a:lnTo>
                      <a:pt x="3629" y="1903"/>
                    </a:lnTo>
                    <a:lnTo>
                      <a:pt x="3644" y="1900"/>
                    </a:lnTo>
                    <a:lnTo>
                      <a:pt x="3660" y="1896"/>
                    </a:lnTo>
                    <a:lnTo>
                      <a:pt x="3675" y="1891"/>
                    </a:lnTo>
                    <a:lnTo>
                      <a:pt x="3690" y="1887"/>
                    </a:lnTo>
                    <a:lnTo>
                      <a:pt x="3705" y="1884"/>
                    </a:lnTo>
                    <a:lnTo>
                      <a:pt x="3720" y="1883"/>
                    </a:lnTo>
                    <a:lnTo>
                      <a:pt x="3730" y="1889"/>
                    </a:lnTo>
                    <a:lnTo>
                      <a:pt x="3741" y="1895"/>
                    </a:lnTo>
                    <a:lnTo>
                      <a:pt x="3752" y="1899"/>
                    </a:lnTo>
                    <a:lnTo>
                      <a:pt x="3764" y="1902"/>
                    </a:lnTo>
                    <a:lnTo>
                      <a:pt x="3774" y="1906"/>
                    </a:lnTo>
                    <a:lnTo>
                      <a:pt x="3785" y="1911"/>
                    </a:lnTo>
                    <a:lnTo>
                      <a:pt x="3796" y="1916"/>
                    </a:lnTo>
                    <a:lnTo>
                      <a:pt x="3806" y="1921"/>
                    </a:lnTo>
                    <a:lnTo>
                      <a:pt x="3817" y="1921"/>
                    </a:lnTo>
                    <a:lnTo>
                      <a:pt x="3835" y="1935"/>
                    </a:lnTo>
                    <a:lnTo>
                      <a:pt x="3852" y="1949"/>
                    </a:lnTo>
                    <a:lnTo>
                      <a:pt x="3868" y="1962"/>
                    </a:lnTo>
                    <a:lnTo>
                      <a:pt x="3885" y="1976"/>
                    </a:lnTo>
                    <a:lnTo>
                      <a:pt x="3901" y="1990"/>
                    </a:lnTo>
                    <a:lnTo>
                      <a:pt x="3916" y="2004"/>
                    </a:lnTo>
                    <a:lnTo>
                      <a:pt x="3931" y="2017"/>
                    </a:lnTo>
                    <a:lnTo>
                      <a:pt x="3947" y="2032"/>
                    </a:lnTo>
                    <a:lnTo>
                      <a:pt x="3937" y="2056"/>
                    </a:lnTo>
                    <a:lnTo>
                      <a:pt x="3925" y="2075"/>
                    </a:lnTo>
                    <a:lnTo>
                      <a:pt x="3911" y="2092"/>
                    </a:lnTo>
                    <a:lnTo>
                      <a:pt x="3895" y="2107"/>
                    </a:lnTo>
                    <a:lnTo>
                      <a:pt x="3880" y="2123"/>
                    </a:lnTo>
                    <a:lnTo>
                      <a:pt x="3864" y="2139"/>
                    </a:lnTo>
                    <a:lnTo>
                      <a:pt x="3848" y="2157"/>
                    </a:lnTo>
                    <a:lnTo>
                      <a:pt x="3834" y="2180"/>
                    </a:lnTo>
                    <a:lnTo>
                      <a:pt x="3820" y="2191"/>
                    </a:lnTo>
                    <a:lnTo>
                      <a:pt x="3807" y="2201"/>
                    </a:lnTo>
                    <a:lnTo>
                      <a:pt x="3793" y="2211"/>
                    </a:lnTo>
                    <a:lnTo>
                      <a:pt x="3780" y="2220"/>
                    </a:lnTo>
                    <a:lnTo>
                      <a:pt x="3766" y="2230"/>
                    </a:lnTo>
                    <a:lnTo>
                      <a:pt x="3752" y="2240"/>
                    </a:lnTo>
                    <a:lnTo>
                      <a:pt x="3738" y="2250"/>
                    </a:lnTo>
                    <a:lnTo>
                      <a:pt x="3725" y="2261"/>
                    </a:lnTo>
                    <a:lnTo>
                      <a:pt x="3713" y="2260"/>
                    </a:lnTo>
                    <a:lnTo>
                      <a:pt x="3701" y="2260"/>
                    </a:lnTo>
                    <a:lnTo>
                      <a:pt x="3690" y="2262"/>
                    </a:lnTo>
                    <a:lnTo>
                      <a:pt x="3677" y="2264"/>
                    </a:lnTo>
                    <a:lnTo>
                      <a:pt x="3665" y="2267"/>
                    </a:lnTo>
                    <a:lnTo>
                      <a:pt x="3653" y="2271"/>
                    </a:lnTo>
                    <a:lnTo>
                      <a:pt x="3641" y="2275"/>
                    </a:lnTo>
                    <a:lnTo>
                      <a:pt x="3631" y="2279"/>
                    </a:lnTo>
                    <a:lnTo>
                      <a:pt x="3615" y="2280"/>
                    </a:lnTo>
                    <a:lnTo>
                      <a:pt x="3601" y="2284"/>
                    </a:lnTo>
                    <a:lnTo>
                      <a:pt x="3586" y="2289"/>
                    </a:lnTo>
                    <a:lnTo>
                      <a:pt x="3572" y="2293"/>
                    </a:lnTo>
                    <a:lnTo>
                      <a:pt x="3558" y="2298"/>
                    </a:lnTo>
                    <a:lnTo>
                      <a:pt x="3544" y="2303"/>
                    </a:lnTo>
                    <a:lnTo>
                      <a:pt x="3529" y="2306"/>
                    </a:lnTo>
                    <a:lnTo>
                      <a:pt x="3513" y="2307"/>
                    </a:lnTo>
                    <a:lnTo>
                      <a:pt x="3508" y="2308"/>
                    </a:lnTo>
                    <a:lnTo>
                      <a:pt x="3501" y="2308"/>
                    </a:lnTo>
                    <a:lnTo>
                      <a:pt x="3494" y="2307"/>
                    </a:lnTo>
                    <a:lnTo>
                      <a:pt x="3486" y="2307"/>
                    </a:lnTo>
                    <a:lnTo>
                      <a:pt x="3479" y="2307"/>
                    </a:lnTo>
                    <a:lnTo>
                      <a:pt x="3472" y="2308"/>
                    </a:lnTo>
                    <a:lnTo>
                      <a:pt x="3465" y="2310"/>
                    </a:lnTo>
                    <a:lnTo>
                      <a:pt x="3459" y="2315"/>
                    </a:lnTo>
                    <a:lnTo>
                      <a:pt x="3474" y="2320"/>
                    </a:lnTo>
                    <a:lnTo>
                      <a:pt x="3489" y="2324"/>
                    </a:lnTo>
                    <a:lnTo>
                      <a:pt x="3507" y="2325"/>
                    </a:lnTo>
                    <a:lnTo>
                      <a:pt x="3523" y="2327"/>
                    </a:lnTo>
                    <a:lnTo>
                      <a:pt x="3539" y="2329"/>
                    </a:lnTo>
                    <a:lnTo>
                      <a:pt x="3554" y="2334"/>
                    </a:lnTo>
                    <a:lnTo>
                      <a:pt x="3567" y="2340"/>
                    </a:lnTo>
                    <a:lnTo>
                      <a:pt x="3577" y="2351"/>
                    </a:lnTo>
                    <a:lnTo>
                      <a:pt x="3582" y="2378"/>
                    </a:lnTo>
                    <a:lnTo>
                      <a:pt x="3578" y="2403"/>
                    </a:lnTo>
                    <a:lnTo>
                      <a:pt x="3571" y="2426"/>
                    </a:lnTo>
                    <a:lnTo>
                      <a:pt x="3560" y="2447"/>
                    </a:lnTo>
                    <a:lnTo>
                      <a:pt x="3546" y="2467"/>
                    </a:lnTo>
                    <a:lnTo>
                      <a:pt x="3530" y="2487"/>
                    </a:lnTo>
                    <a:lnTo>
                      <a:pt x="3514" y="2507"/>
                    </a:lnTo>
                    <a:lnTo>
                      <a:pt x="3499" y="2526"/>
                    </a:lnTo>
                    <a:lnTo>
                      <a:pt x="3485" y="2535"/>
                    </a:lnTo>
                    <a:lnTo>
                      <a:pt x="3471" y="2543"/>
                    </a:lnTo>
                    <a:lnTo>
                      <a:pt x="3457" y="2551"/>
                    </a:lnTo>
                    <a:lnTo>
                      <a:pt x="3442" y="2558"/>
                    </a:lnTo>
                    <a:lnTo>
                      <a:pt x="3427" y="2565"/>
                    </a:lnTo>
                    <a:lnTo>
                      <a:pt x="3412" y="2571"/>
                    </a:lnTo>
                    <a:lnTo>
                      <a:pt x="3396" y="2577"/>
                    </a:lnTo>
                    <a:lnTo>
                      <a:pt x="3380" y="2583"/>
                    </a:lnTo>
                    <a:lnTo>
                      <a:pt x="3364" y="2587"/>
                    </a:lnTo>
                    <a:lnTo>
                      <a:pt x="3348" y="2591"/>
                    </a:lnTo>
                    <a:lnTo>
                      <a:pt x="3332" y="2594"/>
                    </a:lnTo>
                    <a:lnTo>
                      <a:pt x="3315" y="2598"/>
                    </a:lnTo>
                    <a:lnTo>
                      <a:pt x="3299" y="2601"/>
                    </a:lnTo>
                    <a:lnTo>
                      <a:pt x="3282" y="2602"/>
                    </a:lnTo>
                    <a:lnTo>
                      <a:pt x="3265" y="2603"/>
                    </a:lnTo>
                    <a:lnTo>
                      <a:pt x="3247" y="2604"/>
                    </a:lnTo>
                    <a:lnTo>
                      <a:pt x="3257" y="2611"/>
                    </a:lnTo>
                    <a:lnTo>
                      <a:pt x="3267" y="2619"/>
                    </a:lnTo>
                    <a:lnTo>
                      <a:pt x="3275" y="2629"/>
                    </a:lnTo>
                    <a:lnTo>
                      <a:pt x="3284" y="2638"/>
                    </a:lnTo>
                    <a:lnTo>
                      <a:pt x="3293" y="2646"/>
                    </a:lnTo>
                    <a:lnTo>
                      <a:pt x="3303" y="2651"/>
                    </a:lnTo>
                    <a:lnTo>
                      <a:pt x="3313" y="2652"/>
                    </a:lnTo>
                    <a:lnTo>
                      <a:pt x="3323" y="2647"/>
                    </a:lnTo>
                    <a:lnTo>
                      <a:pt x="3343" y="2644"/>
                    </a:lnTo>
                    <a:lnTo>
                      <a:pt x="3362" y="2643"/>
                    </a:lnTo>
                    <a:lnTo>
                      <a:pt x="3381" y="2644"/>
                    </a:lnTo>
                    <a:lnTo>
                      <a:pt x="3399" y="2648"/>
                    </a:lnTo>
                    <a:lnTo>
                      <a:pt x="3417" y="2654"/>
                    </a:lnTo>
                    <a:lnTo>
                      <a:pt x="3433" y="2665"/>
                    </a:lnTo>
                    <a:lnTo>
                      <a:pt x="3447" y="2678"/>
                    </a:lnTo>
                    <a:lnTo>
                      <a:pt x="3459" y="2694"/>
                    </a:lnTo>
                    <a:lnTo>
                      <a:pt x="3459" y="2700"/>
                    </a:lnTo>
                    <a:lnTo>
                      <a:pt x="3471" y="2698"/>
                    </a:lnTo>
                    <a:lnTo>
                      <a:pt x="3483" y="2696"/>
                    </a:lnTo>
                    <a:lnTo>
                      <a:pt x="3495" y="2695"/>
                    </a:lnTo>
                    <a:lnTo>
                      <a:pt x="3507" y="2694"/>
                    </a:lnTo>
                    <a:lnTo>
                      <a:pt x="3517" y="2693"/>
                    </a:lnTo>
                    <a:lnTo>
                      <a:pt x="3528" y="2693"/>
                    </a:lnTo>
                    <a:lnTo>
                      <a:pt x="3539" y="2693"/>
                    </a:lnTo>
                    <a:lnTo>
                      <a:pt x="3549" y="2693"/>
                    </a:lnTo>
                    <a:lnTo>
                      <a:pt x="3560" y="2694"/>
                    </a:lnTo>
                    <a:lnTo>
                      <a:pt x="3571" y="2694"/>
                    </a:lnTo>
                    <a:lnTo>
                      <a:pt x="3583" y="2695"/>
                    </a:lnTo>
                    <a:lnTo>
                      <a:pt x="3593" y="2697"/>
                    </a:lnTo>
                    <a:lnTo>
                      <a:pt x="3605" y="2698"/>
                    </a:lnTo>
                    <a:lnTo>
                      <a:pt x="3617" y="2700"/>
                    </a:lnTo>
                    <a:lnTo>
                      <a:pt x="3629" y="2703"/>
                    </a:lnTo>
                    <a:lnTo>
                      <a:pt x="3641" y="2706"/>
                    </a:lnTo>
                    <a:lnTo>
                      <a:pt x="3653" y="2712"/>
                    </a:lnTo>
                    <a:lnTo>
                      <a:pt x="3662" y="2724"/>
                    </a:lnTo>
                    <a:lnTo>
                      <a:pt x="3669" y="2738"/>
                    </a:lnTo>
                    <a:lnTo>
                      <a:pt x="3677" y="2753"/>
                    </a:lnTo>
                    <a:lnTo>
                      <a:pt x="3684" y="2764"/>
                    </a:lnTo>
                    <a:lnTo>
                      <a:pt x="3695" y="2771"/>
                    </a:lnTo>
                    <a:lnTo>
                      <a:pt x="3708" y="2768"/>
                    </a:lnTo>
                    <a:lnTo>
                      <a:pt x="3725" y="2754"/>
                    </a:lnTo>
                    <a:lnTo>
                      <a:pt x="3730" y="2754"/>
                    </a:lnTo>
                    <a:lnTo>
                      <a:pt x="3735" y="2754"/>
                    </a:lnTo>
                    <a:lnTo>
                      <a:pt x="3740" y="2754"/>
                    </a:lnTo>
                    <a:lnTo>
                      <a:pt x="3745" y="2755"/>
                    </a:lnTo>
                    <a:lnTo>
                      <a:pt x="3751" y="2754"/>
                    </a:lnTo>
                    <a:lnTo>
                      <a:pt x="3755" y="2753"/>
                    </a:lnTo>
                    <a:lnTo>
                      <a:pt x="3759" y="2750"/>
                    </a:lnTo>
                    <a:lnTo>
                      <a:pt x="3764" y="2746"/>
                    </a:lnTo>
                    <a:lnTo>
                      <a:pt x="3780" y="2744"/>
                    </a:lnTo>
                    <a:lnTo>
                      <a:pt x="3796" y="2743"/>
                    </a:lnTo>
                    <a:lnTo>
                      <a:pt x="3811" y="2743"/>
                    </a:lnTo>
                    <a:lnTo>
                      <a:pt x="3827" y="2745"/>
                    </a:lnTo>
                    <a:lnTo>
                      <a:pt x="3842" y="2747"/>
                    </a:lnTo>
                    <a:lnTo>
                      <a:pt x="3857" y="2752"/>
                    </a:lnTo>
                    <a:lnTo>
                      <a:pt x="3872" y="2757"/>
                    </a:lnTo>
                    <a:lnTo>
                      <a:pt x="3887" y="2763"/>
                    </a:lnTo>
                    <a:lnTo>
                      <a:pt x="3901" y="2771"/>
                    </a:lnTo>
                    <a:lnTo>
                      <a:pt x="3914" y="2779"/>
                    </a:lnTo>
                    <a:lnTo>
                      <a:pt x="3927" y="2789"/>
                    </a:lnTo>
                    <a:lnTo>
                      <a:pt x="3939" y="2799"/>
                    </a:lnTo>
                    <a:lnTo>
                      <a:pt x="3951" y="2810"/>
                    </a:lnTo>
                    <a:lnTo>
                      <a:pt x="3963" y="2822"/>
                    </a:lnTo>
                    <a:lnTo>
                      <a:pt x="3972" y="2835"/>
                    </a:lnTo>
                    <a:lnTo>
                      <a:pt x="3982" y="2848"/>
                    </a:lnTo>
                    <a:lnTo>
                      <a:pt x="3992" y="2846"/>
                    </a:lnTo>
                    <a:lnTo>
                      <a:pt x="4000" y="2842"/>
                    </a:lnTo>
                    <a:lnTo>
                      <a:pt x="4009" y="2839"/>
                    </a:lnTo>
                    <a:lnTo>
                      <a:pt x="4017" y="2835"/>
                    </a:lnTo>
                    <a:lnTo>
                      <a:pt x="4024" y="2830"/>
                    </a:lnTo>
                    <a:lnTo>
                      <a:pt x="4031" y="2824"/>
                    </a:lnTo>
                    <a:lnTo>
                      <a:pt x="4038" y="2819"/>
                    </a:lnTo>
                    <a:lnTo>
                      <a:pt x="4043" y="2812"/>
                    </a:lnTo>
                    <a:lnTo>
                      <a:pt x="4054" y="2809"/>
                    </a:lnTo>
                    <a:lnTo>
                      <a:pt x="4064" y="2805"/>
                    </a:lnTo>
                    <a:lnTo>
                      <a:pt x="4075" y="2801"/>
                    </a:lnTo>
                    <a:lnTo>
                      <a:pt x="4085" y="2795"/>
                    </a:lnTo>
                    <a:lnTo>
                      <a:pt x="4094" y="2789"/>
                    </a:lnTo>
                    <a:lnTo>
                      <a:pt x="4103" y="2783"/>
                    </a:lnTo>
                    <a:lnTo>
                      <a:pt x="4113" y="2776"/>
                    </a:lnTo>
                    <a:lnTo>
                      <a:pt x="4121" y="2769"/>
                    </a:lnTo>
                    <a:lnTo>
                      <a:pt x="4136" y="2762"/>
                    </a:lnTo>
                    <a:lnTo>
                      <a:pt x="4152" y="2756"/>
                    </a:lnTo>
                    <a:lnTo>
                      <a:pt x="4167" y="2749"/>
                    </a:lnTo>
                    <a:lnTo>
                      <a:pt x="4183" y="2743"/>
                    </a:lnTo>
                    <a:lnTo>
                      <a:pt x="4199" y="2736"/>
                    </a:lnTo>
                    <a:lnTo>
                      <a:pt x="4214" y="2729"/>
                    </a:lnTo>
                    <a:lnTo>
                      <a:pt x="4230" y="2722"/>
                    </a:lnTo>
                    <a:lnTo>
                      <a:pt x="4246" y="2715"/>
                    </a:lnTo>
                    <a:lnTo>
                      <a:pt x="4262" y="2708"/>
                    </a:lnTo>
                    <a:lnTo>
                      <a:pt x="4279" y="2701"/>
                    </a:lnTo>
                    <a:lnTo>
                      <a:pt x="4295" y="2695"/>
                    </a:lnTo>
                    <a:lnTo>
                      <a:pt x="4311" y="2689"/>
                    </a:lnTo>
                    <a:lnTo>
                      <a:pt x="4327" y="2683"/>
                    </a:lnTo>
                    <a:lnTo>
                      <a:pt x="4343" y="2678"/>
                    </a:lnTo>
                    <a:lnTo>
                      <a:pt x="4359" y="2672"/>
                    </a:lnTo>
                    <a:lnTo>
                      <a:pt x="4376" y="2668"/>
                    </a:lnTo>
                    <a:lnTo>
                      <a:pt x="4387" y="2669"/>
                    </a:lnTo>
                    <a:lnTo>
                      <a:pt x="4398" y="2669"/>
                    </a:lnTo>
                    <a:lnTo>
                      <a:pt x="4411" y="2668"/>
                    </a:lnTo>
                    <a:lnTo>
                      <a:pt x="4424" y="2668"/>
                    </a:lnTo>
                    <a:lnTo>
                      <a:pt x="4437" y="2669"/>
                    </a:lnTo>
                    <a:lnTo>
                      <a:pt x="4448" y="2672"/>
                    </a:lnTo>
                    <a:lnTo>
                      <a:pt x="4457" y="2680"/>
                    </a:lnTo>
                    <a:lnTo>
                      <a:pt x="4464" y="2691"/>
                    </a:lnTo>
                    <a:lnTo>
                      <a:pt x="4466" y="2714"/>
                    </a:lnTo>
                    <a:lnTo>
                      <a:pt x="4464" y="2737"/>
                    </a:lnTo>
                    <a:lnTo>
                      <a:pt x="4459" y="2756"/>
                    </a:lnTo>
                    <a:lnTo>
                      <a:pt x="4451" y="2775"/>
                    </a:lnTo>
                    <a:lnTo>
                      <a:pt x="4441" y="2791"/>
                    </a:lnTo>
                    <a:lnTo>
                      <a:pt x="4428" y="2807"/>
                    </a:lnTo>
                    <a:lnTo>
                      <a:pt x="4414" y="2821"/>
                    </a:lnTo>
                    <a:lnTo>
                      <a:pt x="4398" y="2834"/>
                    </a:lnTo>
                    <a:lnTo>
                      <a:pt x="4381" y="2847"/>
                    </a:lnTo>
                    <a:lnTo>
                      <a:pt x="4363" y="2858"/>
                    </a:lnTo>
                    <a:lnTo>
                      <a:pt x="4344" y="2869"/>
                    </a:lnTo>
                    <a:lnTo>
                      <a:pt x="4325" y="2881"/>
                    </a:lnTo>
                    <a:lnTo>
                      <a:pt x="4305" y="2892"/>
                    </a:lnTo>
                    <a:lnTo>
                      <a:pt x="4286" y="2903"/>
                    </a:lnTo>
                    <a:lnTo>
                      <a:pt x="4268" y="2915"/>
                    </a:lnTo>
                    <a:lnTo>
                      <a:pt x="4251" y="2927"/>
                    </a:lnTo>
                    <a:lnTo>
                      <a:pt x="4240" y="2925"/>
                    </a:lnTo>
                    <a:lnTo>
                      <a:pt x="4230" y="2926"/>
                    </a:lnTo>
                    <a:lnTo>
                      <a:pt x="4221" y="2929"/>
                    </a:lnTo>
                    <a:lnTo>
                      <a:pt x="4212" y="2933"/>
                    </a:lnTo>
                    <a:lnTo>
                      <a:pt x="4204" y="2939"/>
                    </a:lnTo>
                    <a:lnTo>
                      <a:pt x="4194" y="2944"/>
                    </a:lnTo>
                    <a:lnTo>
                      <a:pt x="4185" y="2948"/>
                    </a:lnTo>
                    <a:lnTo>
                      <a:pt x="4176" y="2951"/>
                    </a:lnTo>
                    <a:lnTo>
                      <a:pt x="4141" y="2965"/>
                    </a:lnTo>
                    <a:lnTo>
                      <a:pt x="4106" y="2978"/>
                    </a:lnTo>
                    <a:lnTo>
                      <a:pt x="4071" y="2989"/>
                    </a:lnTo>
                    <a:lnTo>
                      <a:pt x="4035" y="2999"/>
                    </a:lnTo>
                    <a:lnTo>
                      <a:pt x="3999" y="3008"/>
                    </a:lnTo>
                    <a:lnTo>
                      <a:pt x="3963" y="3015"/>
                    </a:lnTo>
                    <a:lnTo>
                      <a:pt x="3926" y="3023"/>
                    </a:lnTo>
                    <a:lnTo>
                      <a:pt x="3890" y="3028"/>
                    </a:lnTo>
                    <a:lnTo>
                      <a:pt x="3853" y="3034"/>
                    </a:lnTo>
                    <a:lnTo>
                      <a:pt x="3816" y="3038"/>
                    </a:lnTo>
                    <a:lnTo>
                      <a:pt x="3780" y="3042"/>
                    </a:lnTo>
                    <a:lnTo>
                      <a:pt x="3742" y="3045"/>
                    </a:lnTo>
                    <a:lnTo>
                      <a:pt x="3706" y="3048"/>
                    </a:lnTo>
                    <a:lnTo>
                      <a:pt x="3669" y="3051"/>
                    </a:lnTo>
                    <a:lnTo>
                      <a:pt x="3632" y="3053"/>
                    </a:lnTo>
                    <a:lnTo>
                      <a:pt x="3595" y="3055"/>
                    </a:lnTo>
                    <a:lnTo>
                      <a:pt x="3590" y="3049"/>
                    </a:lnTo>
                    <a:lnTo>
                      <a:pt x="3584" y="3049"/>
                    </a:lnTo>
                    <a:lnTo>
                      <a:pt x="3577" y="3053"/>
                    </a:lnTo>
                    <a:lnTo>
                      <a:pt x="3570" y="3055"/>
                    </a:lnTo>
                    <a:lnTo>
                      <a:pt x="3549" y="3053"/>
                    </a:lnTo>
                    <a:lnTo>
                      <a:pt x="3528" y="3051"/>
                    </a:lnTo>
                    <a:lnTo>
                      <a:pt x="3507" y="3050"/>
                    </a:lnTo>
                    <a:lnTo>
                      <a:pt x="3485" y="3049"/>
                    </a:lnTo>
                    <a:lnTo>
                      <a:pt x="3464" y="3048"/>
                    </a:lnTo>
                    <a:lnTo>
                      <a:pt x="3441" y="3048"/>
                    </a:lnTo>
                    <a:lnTo>
                      <a:pt x="3420" y="3048"/>
                    </a:lnTo>
                    <a:lnTo>
                      <a:pt x="3398" y="3048"/>
                    </a:lnTo>
                    <a:lnTo>
                      <a:pt x="3376" y="3049"/>
                    </a:lnTo>
                    <a:lnTo>
                      <a:pt x="3355" y="3050"/>
                    </a:lnTo>
                    <a:lnTo>
                      <a:pt x="3333" y="3052"/>
                    </a:lnTo>
                    <a:lnTo>
                      <a:pt x="3312" y="3054"/>
                    </a:lnTo>
                    <a:lnTo>
                      <a:pt x="3290" y="3057"/>
                    </a:lnTo>
                    <a:lnTo>
                      <a:pt x="3270" y="3060"/>
                    </a:lnTo>
                    <a:lnTo>
                      <a:pt x="3250" y="3065"/>
                    </a:lnTo>
                    <a:lnTo>
                      <a:pt x="3229" y="3069"/>
                    </a:lnTo>
                    <a:lnTo>
                      <a:pt x="3200" y="3088"/>
                    </a:lnTo>
                    <a:lnTo>
                      <a:pt x="3171" y="3106"/>
                    </a:lnTo>
                    <a:lnTo>
                      <a:pt x="3141" y="3124"/>
                    </a:lnTo>
                    <a:lnTo>
                      <a:pt x="3111" y="3141"/>
                    </a:lnTo>
                    <a:lnTo>
                      <a:pt x="3080" y="3157"/>
                    </a:lnTo>
                    <a:lnTo>
                      <a:pt x="3049" y="3173"/>
                    </a:lnTo>
                    <a:lnTo>
                      <a:pt x="3018" y="3186"/>
                    </a:lnTo>
                    <a:lnTo>
                      <a:pt x="2986" y="3200"/>
                    </a:lnTo>
                    <a:lnTo>
                      <a:pt x="2954" y="3213"/>
                    </a:lnTo>
                    <a:lnTo>
                      <a:pt x="2922" y="3226"/>
                    </a:lnTo>
                    <a:lnTo>
                      <a:pt x="2889" y="3238"/>
                    </a:lnTo>
                    <a:lnTo>
                      <a:pt x="2856" y="3250"/>
                    </a:lnTo>
                    <a:lnTo>
                      <a:pt x="2822" y="3260"/>
                    </a:lnTo>
                    <a:lnTo>
                      <a:pt x="2789" y="3271"/>
                    </a:lnTo>
                    <a:lnTo>
                      <a:pt x="2755" y="3280"/>
                    </a:lnTo>
                    <a:lnTo>
                      <a:pt x="2721" y="3290"/>
                    </a:lnTo>
                    <a:lnTo>
                      <a:pt x="2697" y="3295"/>
                    </a:lnTo>
                    <a:lnTo>
                      <a:pt x="2674" y="3300"/>
                    </a:lnTo>
                    <a:lnTo>
                      <a:pt x="2651" y="3304"/>
                    </a:lnTo>
                    <a:lnTo>
                      <a:pt x="2628" y="3307"/>
                    </a:lnTo>
                    <a:lnTo>
                      <a:pt x="2604" y="3311"/>
                    </a:lnTo>
                    <a:lnTo>
                      <a:pt x="2582" y="3314"/>
                    </a:lnTo>
                    <a:lnTo>
                      <a:pt x="2558" y="3317"/>
                    </a:lnTo>
                    <a:lnTo>
                      <a:pt x="2535" y="3319"/>
                    </a:lnTo>
                    <a:lnTo>
                      <a:pt x="2512" y="3321"/>
                    </a:lnTo>
                    <a:lnTo>
                      <a:pt x="2489" y="3322"/>
                    </a:lnTo>
                    <a:lnTo>
                      <a:pt x="2466" y="3323"/>
                    </a:lnTo>
                    <a:lnTo>
                      <a:pt x="2443" y="3323"/>
                    </a:lnTo>
                    <a:lnTo>
                      <a:pt x="2420" y="3324"/>
                    </a:lnTo>
                    <a:lnTo>
                      <a:pt x="2396" y="3323"/>
                    </a:lnTo>
                    <a:lnTo>
                      <a:pt x="2373" y="3323"/>
                    </a:lnTo>
                    <a:lnTo>
                      <a:pt x="2349" y="3322"/>
                    </a:lnTo>
                    <a:lnTo>
                      <a:pt x="2337" y="3339"/>
                    </a:lnTo>
                    <a:lnTo>
                      <a:pt x="2323" y="3355"/>
                    </a:lnTo>
                    <a:lnTo>
                      <a:pt x="2308" y="3370"/>
                    </a:lnTo>
                    <a:lnTo>
                      <a:pt x="2291" y="3382"/>
                    </a:lnTo>
                    <a:lnTo>
                      <a:pt x="2273" y="3394"/>
                    </a:lnTo>
                    <a:lnTo>
                      <a:pt x="2255" y="3403"/>
                    </a:lnTo>
                    <a:lnTo>
                      <a:pt x="2235" y="3412"/>
                    </a:lnTo>
                    <a:lnTo>
                      <a:pt x="2214" y="3419"/>
                    </a:lnTo>
                    <a:lnTo>
                      <a:pt x="2105" y="3409"/>
                    </a:lnTo>
                    <a:lnTo>
                      <a:pt x="2109" y="3426"/>
                    </a:lnTo>
                    <a:lnTo>
                      <a:pt x="2110" y="3442"/>
                    </a:lnTo>
                    <a:lnTo>
                      <a:pt x="2108" y="3458"/>
                    </a:lnTo>
                    <a:lnTo>
                      <a:pt x="2104" y="3475"/>
                    </a:lnTo>
                    <a:lnTo>
                      <a:pt x="2098" y="3491"/>
                    </a:lnTo>
                    <a:lnTo>
                      <a:pt x="2090" y="3507"/>
                    </a:lnTo>
                    <a:lnTo>
                      <a:pt x="2084" y="3522"/>
                    </a:lnTo>
                    <a:lnTo>
                      <a:pt x="2077" y="3538"/>
                    </a:lnTo>
                    <a:lnTo>
                      <a:pt x="2065" y="3551"/>
                    </a:lnTo>
                    <a:lnTo>
                      <a:pt x="2050" y="3562"/>
                    </a:lnTo>
                    <a:lnTo>
                      <a:pt x="2034" y="3569"/>
                    </a:lnTo>
                    <a:lnTo>
                      <a:pt x="2017" y="3575"/>
                    </a:lnTo>
                    <a:lnTo>
                      <a:pt x="2000" y="3582"/>
                    </a:lnTo>
                    <a:lnTo>
                      <a:pt x="1982" y="3587"/>
                    </a:lnTo>
                    <a:lnTo>
                      <a:pt x="1965" y="3594"/>
                    </a:lnTo>
                    <a:lnTo>
                      <a:pt x="1948" y="3602"/>
                    </a:lnTo>
                    <a:lnTo>
                      <a:pt x="1935" y="3614"/>
                    </a:lnTo>
                    <a:lnTo>
                      <a:pt x="1923" y="3626"/>
                    </a:lnTo>
                    <a:lnTo>
                      <a:pt x="1910" y="3636"/>
                    </a:lnTo>
                    <a:lnTo>
                      <a:pt x="1897" y="3648"/>
                    </a:lnTo>
                    <a:lnTo>
                      <a:pt x="1885" y="3659"/>
                    </a:lnTo>
                    <a:lnTo>
                      <a:pt x="1872" y="3669"/>
                    </a:lnTo>
                    <a:lnTo>
                      <a:pt x="1859" y="3679"/>
                    </a:lnTo>
                    <a:lnTo>
                      <a:pt x="1846" y="3689"/>
                    </a:lnTo>
                    <a:lnTo>
                      <a:pt x="1832" y="3698"/>
                    </a:lnTo>
                    <a:lnTo>
                      <a:pt x="1818" y="3707"/>
                    </a:lnTo>
                    <a:lnTo>
                      <a:pt x="1804" y="3714"/>
                    </a:lnTo>
                    <a:lnTo>
                      <a:pt x="1789" y="3722"/>
                    </a:lnTo>
                    <a:lnTo>
                      <a:pt x="1774" y="3728"/>
                    </a:lnTo>
                    <a:lnTo>
                      <a:pt x="1759" y="3735"/>
                    </a:lnTo>
                    <a:lnTo>
                      <a:pt x="1743" y="3740"/>
                    </a:lnTo>
                    <a:lnTo>
                      <a:pt x="1726" y="3744"/>
                    </a:lnTo>
                    <a:lnTo>
                      <a:pt x="1717" y="3758"/>
                    </a:lnTo>
                    <a:lnTo>
                      <a:pt x="1711" y="3771"/>
                    </a:lnTo>
                    <a:lnTo>
                      <a:pt x="1708" y="3786"/>
                    </a:lnTo>
                    <a:lnTo>
                      <a:pt x="1711" y="3802"/>
                    </a:lnTo>
                    <a:lnTo>
                      <a:pt x="1693" y="3817"/>
                    </a:lnTo>
                    <a:lnTo>
                      <a:pt x="1675" y="3831"/>
                    </a:lnTo>
                    <a:lnTo>
                      <a:pt x="1655" y="3843"/>
                    </a:lnTo>
                    <a:lnTo>
                      <a:pt x="1636" y="3853"/>
                    </a:lnTo>
                    <a:lnTo>
                      <a:pt x="1616" y="3863"/>
                    </a:lnTo>
                    <a:lnTo>
                      <a:pt x="1594" y="3871"/>
                    </a:lnTo>
                    <a:lnTo>
                      <a:pt x="1573" y="3880"/>
                    </a:lnTo>
                    <a:lnTo>
                      <a:pt x="1552" y="3887"/>
                    </a:lnTo>
                    <a:lnTo>
                      <a:pt x="1530" y="3894"/>
                    </a:lnTo>
                    <a:lnTo>
                      <a:pt x="1508" y="3900"/>
                    </a:lnTo>
                    <a:lnTo>
                      <a:pt x="1486" y="3907"/>
                    </a:lnTo>
                    <a:lnTo>
                      <a:pt x="1464" y="3913"/>
                    </a:lnTo>
                    <a:lnTo>
                      <a:pt x="1442" y="3919"/>
                    </a:lnTo>
                    <a:lnTo>
                      <a:pt x="1421" y="3927"/>
                    </a:lnTo>
                    <a:lnTo>
                      <a:pt x="1399" y="3934"/>
                    </a:lnTo>
                    <a:lnTo>
                      <a:pt x="1378" y="3942"/>
                    </a:lnTo>
                    <a:lnTo>
                      <a:pt x="1362" y="3944"/>
                    </a:lnTo>
                    <a:lnTo>
                      <a:pt x="1346" y="3947"/>
                    </a:lnTo>
                    <a:lnTo>
                      <a:pt x="1329" y="3952"/>
                    </a:lnTo>
                    <a:lnTo>
                      <a:pt x="1312" y="3954"/>
                    </a:lnTo>
                    <a:lnTo>
                      <a:pt x="1295" y="3955"/>
                    </a:lnTo>
                    <a:lnTo>
                      <a:pt x="1279" y="3954"/>
                    </a:lnTo>
                    <a:lnTo>
                      <a:pt x="1265" y="3947"/>
                    </a:lnTo>
                    <a:lnTo>
                      <a:pt x="1253" y="3937"/>
                    </a:lnTo>
                    <a:lnTo>
                      <a:pt x="1251" y="3928"/>
                    </a:lnTo>
                    <a:lnTo>
                      <a:pt x="1249" y="3918"/>
                    </a:lnTo>
                    <a:lnTo>
                      <a:pt x="1246" y="3910"/>
                    </a:lnTo>
                    <a:lnTo>
                      <a:pt x="1240" y="3901"/>
                    </a:lnTo>
                    <a:lnTo>
                      <a:pt x="1234" y="3915"/>
                    </a:lnTo>
                    <a:lnTo>
                      <a:pt x="1226" y="3928"/>
                    </a:lnTo>
                    <a:lnTo>
                      <a:pt x="1217" y="3942"/>
                    </a:lnTo>
                    <a:lnTo>
                      <a:pt x="1209" y="3955"/>
                    </a:lnTo>
                    <a:lnTo>
                      <a:pt x="1199" y="3967"/>
                    </a:lnTo>
                    <a:lnTo>
                      <a:pt x="1190" y="3979"/>
                    </a:lnTo>
                    <a:lnTo>
                      <a:pt x="1179" y="3990"/>
                    </a:lnTo>
                    <a:lnTo>
                      <a:pt x="1168" y="4002"/>
                    </a:lnTo>
                    <a:lnTo>
                      <a:pt x="1156" y="4012"/>
                    </a:lnTo>
                    <a:lnTo>
                      <a:pt x="1145" y="4023"/>
                    </a:lnTo>
                    <a:lnTo>
                      <a:pt x="1132" y="4033"/>
                    </a:lnTo>
                    <a:lnTo>
                      <a:pt x="1120" y="4042"/>
                    </a:lnTo>
                    <a:lnTo>
                      <a:pt x="1107" y="4051"/>
                    </a:lnTo>
                    <a:lnTo>
                      <a:pt x="1094" y="4058"/>
                    </a:lnTo>
                    <a:lnTo>
                      <a:pt x="1080" y="4067"/>
                    </a:lnTo>
                    <a:lnTo>
                      <a:pt x="1068" y="4073"/>
                    </a:lnTo>
                    <a:lnTo>
                      <a:pt x="1052" y="4077"/>
                    </a:lnTo>
                    <a:lnTo>
                      <a:pt x="1035" y="4081"/>
                    </a:lnTo>
                    <a:lnTo>
                      <a:pt x="1019" y="4085"/>
                    </a:lnTo>
                    <a:lnTo>
                      <a:pt x="1003" y="4089"/>
                    </a:lnTo>
                    <a:lnTo>
                      <a:pt x="987" y="4093"/>
                    </a:lnTo>
                    <a:lnTo>
                      <a:pt x="971" y="4097"/>
                    </a:lnTo>
                    <a:lnTo>
                      <a:pt x="955" y="4100"/>
                    </a:lnTo>
                    <a:lnTo>
                      <a:pt x="938" y="4102"/>
                    </a:lnTo>
                    <a:lnTo>
                      <a:pt x="927" y="4101"/>
                    </a:lnTo>
                    <a:lnTo>
                      <a:pt x="917" y="4102"/>
                    </a:lnTo>
                    <a:lnTo>
                      <a:pt x="906" y="4102"/>
                    </a:lnTo>
                    <a:lnTo>
                      <a:pt x="894" y="4103"/>
                    </a:lnTo>
                    <a:lnTo>
                      <a:pt x="882" y="4105"/>
                    </a:lnTo>
                    <a:lnTo>
                      <a:pt x="871" y="4106"/>
                    </a:lnTo>
                    <a:lnTo>
                      <a:pt x="859" y="4108"/>
                    </a:lnTo>
                    <a:lnTo>
                      <a:pt x="847" y="4109"/>
                    </a:lnTo>
                    <a:lnTo>
                      <a:pt x="835" y="4110"/>
                    </a:lnTo>
                    <a:lnTo>
                      <a:pt x="823" y="4110"/>
                    </a:lnTo>
                    <a:lnTo>
                      <a:pt x="813" y="4109"/>
                    </a:lnTo>
                    <a:lnTo>
                      <a:pt x="801" y="4106"/>
                    </a:lnTo>
                    <a:lnTo>
                      <a:pt x="790" y="4104"/>
                    </a:lnTo>
                    <a:lnTo>
                      <a:pt x="781" y="4100"/>
                    </a:lnTo>
                    <a:lnTo>
                      <a:pt x="771" y="4095"/>
                    </a:lnTo>
                    <a:lnTo>
                      <a:pt x="762" y="4087"/>
                    </a:lnTo>
                    <a:lnTo>
                      <a:pt x="762" y="4073"/>
                    </a:lnTo>
                    <a:lnTo>
                      <a:pt x="766" y="4059"/>
                    </a:lnTo>
                    <a:lnTo>
                      <a:pt x="771" y="4049"/>
                    </a:lnTo>
                    <a:lnTo>
                      <a:pt x="779" y="4038"/>
                    </a:lnTo>
                    <a:lnTo>
                      <a:pt x="786" y="4028"/>
                    </a:lnTo>
                    <a:lnTo>
                      <a:pt x="795" y="4019"/>
                    </a:lnTo>
                    <a:lnTo>
                      <a:pt x="803" y="4010"/>
                    </a:lnTo>
                    <a:lnTo>
                      <a:pt x="810" y="4002"/>
                    </a:lnTo>
                    <a:lnTo>
                      <a:pt x="799" y="4003"/>
                    </a:lnTo>
                    <a:lnTo>
                      <a:pt x="789" y="4006"/>
                    </a:lnTo>
                    <a:lnTo>
                      <a:pt x="780" y="4010"/>
                    </a:lnTo>
                    <a:lnTo>
                      <a:pt x="770" y="4016"/>
                    </a:lnTo>
                    <a:lnTo>
                      <a:pt x="760" y="4022"/>
                    </a:lnTo>
                    <a:lnTo>
                      <a:pt x="750" y="4026"/>
                    </a:lnTo>
                    <a:lnTo>
                      <a:pt x="739" y="4030"/>
                    </a:lnTo>
                    <a:lnTo>
                      <a:pt x="727" y="4031"/>
                    </a:lnTo>
                    <a:lnTo>
                      <a:pt x="711" y="4033"/>
                    </a:lnTo>
                    <a:lnTo>
                      <a:pt x="696" y="4034"/>
                    </a:lnTo>
                    <a:lnTo>
                      <a:pt x="680" y="4036"/>
                    </a:lnTo>
                    <a:lnTo>
                      <a:pt x="664" y="4037"/>
                    </a:lnTo>
                    <a:lnTo>
                      <a:pt x="647" y="4038"/>
                    </a:lnTo>
                    <a:lnTo>
                      <a:pt x="631" y="4038"/>
                    </a:lnTo>
                    <a:lnTo>
                      <a:pt x="615" y="4039"/>
                    </a:lnTo>
                    <a:lnTo>
                      <a:pt x="598" y="4039"/>
                    </a:lnTo>
                    <a:lnTo>
                      <a:pt x="580" y="4039"/>
                    </a:lnTo>
                    <a:lnTo>
                      <a:pt x="564" y="4038"/>
                    </a:lnTo>
                    <a:lnTo>
                      <a:pt x="547" y="4037"/>
                    </a:lnTo>
                    <a:lnTo>
                      <a:pt x="531" y="4036"/>
                    </a:lnTo>
                    <a:lnTo>
                      <a:pt x="514" y="4034"/>
                    </a:lnTo>
                    <a:lnTo>
                      <a:pt x="498" y="4032"/>
                    </a:lnTo>
                    <a:lnTo>
                      <a:pt x="481" y="4030"/>
                    </a:lnTo>
                    <a:lnTo>
                      <a:pt x="465" y="4026"/>
                    </a:lnTo>
                    <a:lnTo>
                      <a:pt x="448" y="4026"/>
                    </a:lnTo>
                    <a:lnTo>
                      <a:pt x="431" y="4025"/>
                    </a:lnTo>
                    <a:lnTo>
                      <a:pt x="414" y="4022"/>
                    </a:lnTo>
                    <a:lnTo>
                      <a:pt x="399" y="4018"/>
                    </a:lnTo>
                    <a:lnTo>
                      <a:pt x="383" y="4012"/>
                    </a:lnTo>
                    <a:lnTo>
                      <a:pt x="368" y="4007"/>
                    </a:lnTo>
                    <a:lnTo>
                      <a:pt x="353" y="4002"/>
                    </a:lnTo>
                    <a:lnTo>
                      <a:pt x="337" y="3997"/>
                    </a:lnTo>
                    <a:lnTo>
                      <a:pt x="330" y="3986"/>
                    </a:lnTo>
                    <a:lnTo>
                      <a:pt x="325" y="3975"/>
                    </a:lnTo>
                    <a:lnTo>
                      <a:pt x="323" y="3963"/>
                    </a:lnTo>
                    <a:lnTo>
                      <a:pt x="330" y="3952"/>
                    </a:lnTo>
                    <a:lnTo>
                      <a:pt x="345" y="3945"/>
                    </a:lnTo>
                    <a:lnTo>
                      <a:pt x="360" y="3941"/>
                    </a:lnTo>
                    <a:lnTo>
                      <a:pt x="376" y="3936"/>
                    </a:lnTo>
                    <a:lnTo>
                      <a:pt x="391" y="3930"/>
                    </a:lnTo>
                    <a:lnTo>
                      <a:pt x="407" y="3925"/>
                    </a:lnTo>
                    <a:lnTo>
                      <a:pt x="421" y="3918"/>
                    </a:lnTo>
                    <a:lnTo>
                      <a:pt x="435" y="3911"/>
                    </a:lnTo>
                    <a:lnTo>
                      <a:pt x="448" y="3901"/>
                    </a:lnTo>
                    <a:lnTo>
                      <a:pt x="446" y="3898"/>
                    </a:lnTo>
                    <a:lnTo>
                      <a:pt x="443" y="3896"/>
                    </a:lnTo>
                    <a:lnTo>
                      <a:pt x="440" y="3894"/>
                    </a:lnTo>
                    <a:lnTo>
                      <a:pt x="437" y="3894"/>
                    </a:lnTo>
                    <a:lnTo>
                      <a:pt x="425" y="3897"/>
                    </a:lnTo>
                    <a:lnTo>
                      <a:pt x="412" y="3898"/>
                    </a:lnTo>
                    <a:lnTo>
                      <a:pt x="398" y="3896"/>
                    </a:lnTo>
                    <a:lnTo>
                      <a:pt x="383" y="3893"/>
                    </a:lnTo>
                    <a:lnTo>
                      <a:pt x="368" y="3890"/>
                    </a:lnTo>
                    <a:lnTo>
                      <a:pt x="353" y="3885"/>
                    </a:lnTo>
                    <a:lnTo>
                      <a:pt x="338" y="3882"/>
                    </a:lnTo>
                    <a:lnTo>
                      <a:pt x="322" y="3881"/>
                    </a:lnTo>
                    <a:lnTo>
                      <a:pt x="298" y="3874"/>
                    </a:lnTo>
                    <a:lnTo>
                      <a:pt x="274" y="3865"/>
                    </a:lnTo>
                    <a:lnTo>
                      <a:pt x="251" y="3856"/>
                    </a:lnTo>
                    <a:lnTo>
                      <a:pt x="227" y="3847"/>
                    </a:lnTo>
                    <a:lnTo>
                      <a:pt x="204" y="3837"/>
                    </a:lnTo>
                    <a:lnTo>
                      <a:pt x="181" y="3827"/>
                    </a:lnTo>
                    <a:lnTo>
                      <a:pt x="159" y="3815"/>
                    </a:lnTo>
                    <a:lnTo>
                      <a:pt x="137" y="3802"/>
                    </a:lnTo>
                    <a:lnTo>
                      <a:pt x="116" y="3789"/>
                    </a:lnTo>
                    <a:lnTo>
                      <a:pt x="97" y="3774"/>
                    </a:lnTo>
                    <a:lnTo>
                      <a:pt x="77" y="3758"/>
                    </a:lnTo>
                    <a:lnTo>
                      <a:pt x="59" y="3741"/>
                    </a:lnTo>
                    <a:lnTo>
                      <a:pt x="42" y="3723"/>
                    </a:lnTo>
                    <a:lnTo>
                      <a:pt x="27" y="3703"/>
                    </a:lnTo>
                    <a:lnTo>
                      <a:pt x="13" y="3681"/>
                    </a:lnTo>
                    <a:lnTo>
                      <a:pt x="0" y="3658"/>
                    </a:lnTo>
                    <a:lnTo>
                      <a:pt x="0" y="3642"/>
                    </a:lnTo>
                    <a:lnTo>
                      <a:pt x="3" y="3628"/>
                    </a:lnTo>
                    <a:lnTo>
                      <a:pt x="10" y="3615"/>
                    </a:lnTo>
                    <a:lnTo>
                      <a:pt x="22" y="3604"/>
                    </a:lnTo>
                    <a:lnTo>
                      <a:pt x="44" y="3603"/>
                    </a:lnTo>
                    <a:lnTo>
                      <a:pt x="65" y="3605"/>
                    </a:lnTo>
                    <a:lnTo>
                      <a:pt x="87" y="3611"/>
                    </a:lnTo>
                    <a:lnTo>
                      <a:pt x="107" y="3618"/>
                    </a:lnTo>
                    <a:lnTo>
                      <a:pt x="128" y="3627"/>
                    </a:lnTo>
                    <a:lnTo>
                      <a:pt x="148" y="3636"/>
                    </a:lnTo>
                    <a:lnTo>
                      <a:pt x="167" y="3645"/>
                    </a:lnTo>
                    <a:lnTo>
                      <a:pt x="186" y="3652"/>
                    </a:lnTo>
                    <a:lnTo>
                      <a:pt x="192" y="3661"/>
                    </a:lnTo>
                    <a:lnTo>
                      <a:pt x="198" y="3667"/>
                    </a:lnTo>
                    <a:lnTo>
                      <a:pt x="207" y="3672"/>
                    </a:lnTo>
                    <a:lnTo>
                      <a:pt x="215" y="3675"/>
                    </a:lnTo>
                    <a:lnTo>
                      <a:pt x="225" y="3678"/>
                    </a:lnTo>
                    <a:lnTo>
                      <a:pt x="234" y="3682"/>
                    </a:lnTo>
                    <a:lnTo>
                      <a:pt x="241" y="3688"/>
                    </a:lnTo>
                    <a:lnTo>
                      <a:pt x="247" y="3695"/>
                    </a:lnTo>
                    <a:lnTo>
                      <a:pt x="255" y="3697"/>
                    </a:lnTo>
                    <a:lnTo>
                      <a:pt x="264" y="3699"/>
                    </a:lnTo>
                    <a:lnTo>
                      <a:pt x="271" y="3702"/>
                    </a:lnTo>
                    <a:lnTo>
                      <a:pt x="279" y="3705"/>
                    </a:lnTo>
                    <a:lnTo>
                      <a:pt x="286" y="3708"/>
                    </a:lnTo>
                    <a:lnTo>
                      <a:pt x="292" y="3710"/>
                    </a:lnTo>
                    <a:lnTo>
                      <a:pt x="300" y="3713"/>
                    </a:lnTo>
                    <a:lnTo>
                      <a:pt x="307" y="3715"/>
                    </a:lnTo>
                    <a:lnTo>
                      <a:pt x="305" y="3699"/>
                    </a:lnTo>
                    <a:lnTo>
                      <a:pt x="301" y="3684"/>
                    </a:lnTo>
                    <a:lnTo>
                      <a:pt x="294" y="3672"/>
                    </a:lnTo>
                    <a:lnTo>
                      <a:pt x="286" y="3658"/>
                    </a:lnTo>
                    <a:lnTo>
                      <a:pt x="279" y="3644"/>
                    </a:lnTo>
                    <a:lnTo>
                      <a:pt x="272" y="3630"/>
                    </a:lnTo>
                    <a:lnTo>
                      <a:pt x="267" y="3613"/>
                    </a:lnTo>
                    <a:lnTo>
                      <a:pt x="266" y="3595"/>
                    </a:lnTo>
                    <a:lnTo>
                      <a:pt x="268" y="3587"/>
                    </a:lnTo>
                    <a:lnTo>
                      <a:pt x="271" y="3581"/>
                    </a:lnTo>
                    <a:lnTo>
                      <a:pt x="274" y="3573"/>
                    </a:lnTo>
                    <a:lnTo>
                      <a:pt x="279" y="3567"/>
                    </a:lnTo>
                    <a:lnTo>
                      <a:pt x="284" y="3560"/>
                    </a:lnTo>
                    <a:lnTo>
                      <a:pt x="289" y="3555"/>
                    </a:lnTo>
                    <a:lnTo>
                      <a:pt x="295" y="3551"/>
                    </a:lnTo>
                    <a:lnTo>
                      <a:pt x="301" y="3548"/>
                    </a:lnTo>
                    <a:lnTo>
                      <a:pt x="314" y="3551"/>
                    </a:lnTo>
                    <a:lnTo>
                      <a:pt x="326" y="3556"/>
                    </a:lnTo>
                    <a:lnTo>
                      <a:pt x="336" y="3564"/>
                    </a:lnTo>
                    <a:lnTo>
                      <a:pt x="346" y="3571"/>
                    </a:lnTo>
                    <a:lnTo>
                      <a:pt x="357" y="3580"/>
                    </a:lnTo>
                    <a:lnTo>
                      <a:pt x="366" y="3588"/>
                    </a:lnTo>
                    <a:lnTo>
                      <a:pt x="378" y="3596"/>
                    </a:lnTo>
                    <a:lnTo>
                      <a:pt x="391" y="3602"/>
                    </a:lnTo>
                    <a:lnTo>
                      <a:pt x="404" y="3611"/>
                    </a:lnTo>
                    <a:lnTo>
                      <a:pt x="417" y="3619"/>
                    </a:lnTo>
                    <a:lnTo>
                      <a:pt x="431" y="3628"/>
                    </a:lnTo>
                    <a:lnTo>
                      <a:pt x="443" y="3636"/>
                    </a:lnTo>
                    <a:lnTo>
                      <a:pt x="456" y="3645"/>
                    </a:lnTo>
                    <a:lnTo>
                      <a:pt x="470" y="3653"/>
                    </a:lnTo>
                    <a:lnTo>
                      <a:pt x="484" y="3661"/>
                    </a:lnTo>
                    <a:lnTo>
                      <a:pt x="498" y="3667"/>
                    </a:lnTo>
                    <a:lnTo>
                      <a:pt x="512" y="3675"/>
                    </a:lnTo>
                    <a:lnTo>
                      <a:pt x="526" y="3680"/>
                    </a:lnTo>
                    <a:lnTo>
                      <a:pt x="540" y="3685"/>
                    </a:lnTo>
                    <a:lnTo>
                      <a:pt x="555" y="3690"/>
                    </a:lnTo>
                    <a:lnTo>
                      <a:pt x="570" y="3694"/>
                    </a:lnTo>
                    <a:lnTo>
                      <a:pt x="585" y="3696"/>
                    </a:lnTo>
                    <a:lnTo>
                      <a:pt x="601" y="3698"/>
                    </a:lnTo>
                    <a:lnTo>
                      <a:pt x="617" y="3698"/>
                    </a:lnTo>
                    <a:lnTo>
                      <a:pt x="610" y="3689"/>
                    </a:lnTo>
                    <a:lnTo>
                      <a:pt x="603" y="3679"/>
                    </a:lnTo>
                    <a:lnTo>
                      <a:pt x="596" y="3669"/>
                    </a:lnTo>
                    <a:lnTo>
                      <a:pt x="594" y="3658"/>
                    </a:lnTo>
                    <a:lnTo>
                      <a:pt x="608" y="3646"/>
                    </a:lnTo>
                    <a:lnTo>
                      <a:pt x="622" y="3635"/>
                    </a:lnTo>
                    <a:lnTo>
                      <a:pt x="637" y="3626"/>
                    </a:lnTo>
                    <a:lnTo>
                      <a:pt x="653" y="3618"/>
                    </a:lnTo>
                    <a:lnTo>
                      <a:pt x="670" y="3611"/>
                    </a:lnTo>
                    <a:lnTo>
                      <a:pt x="688" y="3604"/>
                    </a:lnTo>
                    <a:lnTo>
                      <a:pt x="706" y="3599"/>
                    </a:lnTo>
                    <a:lnTo>
                      <a:pt x="724" y="3594"/>
                    </a:lnTo>
                    <a:lnTo>
                      <a:pt x="742" y="3588"/>
                    </a:lnTo>
                    <a:lnTo>
                      <a:pt x="760" y="3583"/>
                    </a:lnTo>
                    <a:lnTo>
                      <a:pt x="779" y="3578"/>
                    </a:lnTo>
                    <a:lnTo>
                      <a:pt x="796" y="3571"/>
                    </a:lnTo>
                    <a:lnTo>
                      <a:pt x="814" y="3565"/>
                    </a:lnTo>
                    <a:lnTo>
                      <a:pt x="831" y="3556"/>
                    </a:lnTo>
                    <a:lnTo>
                      <a:pt x="847" y="3548"/>
                    </a:lnTo>
                    <a:lnTo>
                      <a:pt x="863" y="3538"/>
                    </a:lnTo>
                    <a:lnTo>
                      <a:pt x="873" y="3532"/>
                    </a:lnTo>
                    <a:lnTo>
                      <a:pt x="883" y="3526"/>
                    </a:lnTo>
                    <a:lnTo>
                      <a:pt x="894" y="3522"/>
                    </a:lnTo>
                    <a:lnTo>
                      <a:pt x="905" y="3518"/>
                    </a:lnTo>
                    <a:lnTo>
                      <a:pt x="916" y="3515"/>
                    </a:lnTo>
                    <a:lnTo>
                      <a:pt x="926" y="3511"/>
                    </a:lnTo>
                    <a:lnTo>
                      <a:pt x="938" y="3508"/>
                    </a:lnTo>
                    <a:lnTo>
                      <a:pt x="949" y="3505"/>
                    </a:lnTo>
                    <a:lnTo>
                      <a:pt x="980" y="3493"/>
                    </a:lnTo>
                    <a:lnTo>
                      <a:pt x="1010" y="3479"/>
                    </a:lnTo>
                    <a:lnTo>
                      <a:pt x="1039" y="3465"/>
                    </a:lnTo>
                    <a:lnTo>
                      <a:pt x="1069" y="3450"/>
                    </a:lnTo>
                    <a:lnTo>
                      <a:pt x="1098" y="3434"/>
                    </a:lnTo>
                    <a:lnTo>
                      <a:pt x="1125" y="3418"/>
                    </a:lnTo>
                    <a:lnTo>
                      <a:pt x="1154" y="3401"/>
                    </a:lnTo>
                    <a:lnTo>
                      <a:pt x="1182" y="3384"/>
                    </a:lnTo>
                    <a:lnTo>
                      <a:pt x="1211" y="3366"/>
                    </a:lnTo>
                    <a:lnTo>
                      <a:pt x="1239" y="3348"/>
                    </a:lnTo>
                    <a:lnTo>
                      <a:pt x="1267" y="3331"/>
                    </a:lnTo>
                    <a:lnTo>
                      <a:pt x="1296" y="3313"/>
                    </a:lnTo>
                    <a:lnTo>
                      <a:pt x="1323" y="3294"/>
                    </a:lnTo>
                    <a:lnTo>
                      <a:pt x="1352" y="3277"/>
                    </a:lnTo>
                    <a:lnTo>
                      <a:pt x="1381" y="3260"/>
                    </a:lnTo>
                    <a:lnTo>
                      <a:pt x="1411" y="3244"/>
                    </a:lnTo>
                    <a:lnTo>
                      <a:pt x="1427" y="3229"/>
                    </a:lnTo>
                    <a:lnTo>
                      <a:pt x="1444" y="3217"/>
                    </a:lnTo>
                    <a:lnTo>
                      <a:pt x="1463" y="3206"/>
                    </a:lnTo>
                    <a:lnTo>
                      <a:pt x="1481" y="3196"/>
                    </a:lnTo>
                    <a:lnTo>
                      <a:pt x="1499" y="3188"/>
                    </a:lnTo>
                    <a:lnTo>
                      <a:pt x="1518" y="3180"/>
                    </a:lnTo>
                    <a:lnTo>
                      <a:pt x="1538" y="3175"/>
                    </a:lnTo>
                    <a:lnTo>
                      <a:pt x="1558" y="3169"/>
                    </a:lnTo>
                    <a:lnTo>
                      <a:pt x="1578" y="3164"/>
                    </a:lnTo>
                    <a:lnTo>
                      <a:pt x="1599" y="3161"/>
                    </a:lnTo>
                    <a:lnTo>
                      <a:pt x="1619" y="3157"/>
                    </a:lnTo>
                    <a:lnTo>
                      <a:pt x="1640" y="3153"/>
                    </a:lnTo>
                    <a:lnTo>
                      <a:pt x="1662" y="3150"/>
                    </a:lnTo>
                    <a:lnTo>
                      <a:pt x="1683" y="3147"/>
                    </a:lnTo>
                    <a:lnTo>
                      <a:pt x="1705" y="3144"/>
                    </a:lnTo>
                    <a:lnTo>
                      <a:pt x="1726" y="3141"/>
                    </a:lnTo>
                    <a:lnTo>
                      <a:pt x="1737" y="3141"/>
                    </a:lnTo>
                    <a:lnTo>
                      <a:pt x="1749" y="3141"/>
                    </a:lnTo>
                    <a:lnTo>
                      <a:pt x="1760" y="3141"/>
                    </a:lnTo>
                    <a:lnTo>
                      <a:pt x="1772" y="3139"/>
                    </a:lnTo>
                    <a:lnTo>
                      <a:pt x="1785" y="3139"/>
                    </a:lnTo>
                    <a:lnTo>
                      <a:pt x="1797" y="3138"/>
                    </a:lnTo>
                    <a:lnTo>
                      <a:pt x="1810" y="3137"/>
                    </a:lnTo>
                    <a:lnTo>
                      <a:pt x="1822" y="3136"/>
                    </a:lnTo>
                    <a:lnTo>
                      <a:pt x="1835" y="3135"/>
                    </a:lnTo>
                    <a:lnTo>
                      <a:pt x="1847" y="3133"/>
                    </a:lnTo>
                    <a:lnTo>
                      <a:pt x="1860" y="3132"/>
                    </a:lnTo>
                    <a:lnTo>
                      <a:pt x="1873" y="3131"/>
                    </a:lnTo>
                    <a:lnTo>
                      <a:pt x="1885" y="3130"/>
                    </a:lnTo>
                    <a:lnTo>
                      <a:pt x="1896" y="3129"/>
                    </a:lnTo>
                    <a:lnTo>
                      <a:pt x="1908" y="3128"/>
                    </a:lnTo>
                    <a:lnTo>
                      <a:pt x="1920" y="3127"/>
                    </a:lnTo>
                    <a:lnTo>
                      <a:pt x="1920" y="3115"/>
                    </a:lnTo>
                    <a:lnTo>
                      <a:pt x="1908" y="3108"/>
                    </a:lnTo>
                    <a:lnTo>
                      <a:pt x="1895" y="3101"/>
                    </a:lnTo>
                    <a:lnTo>
                      <a:pt x="1883" y="3093"/>
                    </a:lnTo>
                    <a:lnTo>
                      <a:pt x="1873" y="3085"/>
                    </a:lnTo>
                    <a:lnTo>
                      <a:pt x="1861" y="3077"/>
                    </a:lnTo>
                    <a:lnTo>
                      <a:pt x="1849" y="3069"/>
                    </a:lnTo>
                    <a:lnTo>
                      <a:pt x="1837" y="3060"/>
                    </a:lnTo>
                    <a:lnTo>
                      <a:pt x="1826" y="3053"/>
                    </a:lnTo>
                    <a:lnTo>
                      <a:pt x="1814" y="3045"/>
                    </a:lnTo>
                    <a:lnTo>
                      <a:pt x="1801" y="3039"/>
                    </a:lnTo>
                    <a:lnTo>
                      <a:pt x="1788" y="3034"/>
                    </a:lnTo>
                    <a:lnTo>
                      <a:pt x="1775" y="3029"/>
                    </a:lnTo>
                    <a:lnTo>
                      <a:pt x="1761" y="3027"/>
                    </a:lnTo>
                    <a:lnTo>
                      <a:pt x="1746" y="3026"/>
                    </a:lnTo>
                    <a:lnTo>
                      <a:pt x="1731" y="3027"/>
                    </a:lnTo>
                    <a:lnTo>
                      <a:pt x="1715" y="3030"/>
                    </a:lnTo>
                    <a:lnTo>
                      <a:pt x="1695" y="3036"/>
                    </a:lnTo>
                    <a:lnTo>
                      <a:pt x="1676" y="3042"/>
                    </a:lnTo>
                    <a:lnTo>
                      <a:pt x="1656" y="3049"/>
                    </a:lnTo>
                    <a:lnTo>
                      <a:pt x="1637" y="3056"/>
                    </a:lnTo>
                    <a:lnTo>
                      <a:pt x="1619" y="3066"/>
                    </a:lnTo>
                    <a:lnTo>
                      <a:pt x="1602" y="3076"/>
                    </a:lnTo>
                    <a:lnTo>
                      <a:pt x="1585" y="3089"/>
                    </a:lnTo>
                    <a:lnTo>
                      <a:pt x="1569" y="3104"/>
                    </a:lnTo>
                    <a:lnTo>
                      <a:pt x="1559" y="3101"/>
                    </a:lnTo>
                    <a:lnTo>
                      <a:pt x="1556" y="3092"/>
                    </a:lnTo>
                    <a:lnTo>
                      <a:pt x="1554" y="3083"/>
                    </a:lnTo>
                    <a:lnTo>
                      <a:pt x="1550" y="3073"/>
                    </a:lnTo>
                    <a:lnTo>
                      <a:pt x="1557" y="3061"/>
                    </a:lnTo>
                    <a:lnTo>
                      <a:pt x="1560" y="3046"/>
                    </a:lnTo>
                    <a:lnTo>
                      <a:pt x="1563" y="3030"/>
                    </a:lnTo>
                    <a:lnTo>
                      <a:pt x="1565" y="3015"/>
                    </a:lnTo>
                    <a:lnTo>
                      <a:pt x="1570" y="3002"/>
                    </a:lnTo>
                    <a:lnTo>
                      <a:pt x="1574" y="2990"/>
                    </a:lnTo>
                    <a:lnTo>
                      <a:pt x="1578" y="2978"/>
                    </a:lnTo>
                    <a:lnTo>
                      <a:pt x="1584" y="2966"/>
                    </a:lnTo>
                    <a:lnTo>
                      <a:pt x="1590" y="2956"/>
                    </a:lnTo>
                    <a:lnTo>
                      <a:pt x="1598" y="2944"/>
                    </a:lnTo>
                    <a:lnTo>
                      <a:pt x="1605" y="2933"/>
                    </a:lnTo>
                    <a:lnTo>
                      <a:pt x="1615" y="2921"/>
                    </a:lnTo>
                    <a:lnTo>
                      <a:pt x="1631" y="2916"/>
                    </a:lnTo>
                    <a:lnTo>
                      <a:pt x="1647" y="2912"/>
                    </a:lnTo>
                    <a:lnTo>
                      <a:pt x="1664" y="2908"/>
                    </a:lnTo>
                    <a:lnTo>
                      <a:pt x="1681" y="2904"/>
                    </a:lnTo>
                    <a:lnTo>
                      <a:pt x="1697" y="2902"/>
                    </a:lnTo>
                    <a:lnTo>
                      <a:pt x="1714" y="2900"/>
                    </a:lnTo>
                    <a:lnTo>
                      <a:pt x="1730" y="2900"/>
                    </a:lnTo>
                    <a:lnTo>
                      <a:pt x="1746" y="2901"/>
                    </a:lnTo>
                    <a:lnTo>
                      <a:pt x="1764" y="2882"/>
                    </a:lnTo>
                    <a:lnTo>
                      <a:pt x="1780" y="2861"/>
                    </a:lnTo>
                    <a:lnTo>
                      <a:pt x="1796" y="2840"/>
                    </a:lnTo>
                    <a:lnTo>
                      <a:pt x="1814" y="2822"/>
                    </a:lnTo>
                    <a:lnTo>
                      <a:pt x="1833" y="2806"/>
                    </a:lnTo>
                    <a:lnTo>
                      <a:pt x="1855" y="2794"/>
                    </a:lnTo>
                    <a:lnTo>
                      <a:pt x="1880" y="2787"/>
                    </a:lnTo>
                    <a:lnTo>
                      <a:pt x="1909" y="2787"/>
                    </a:lnTo>
                    <a:lnTo>
                      <a:pt x="1927" y="2786"/>
                    </a:lnTo>
                    <a:lnTo>
                      <a:pt x="1946" y="2786"/>
                    </a:lnTo>
                    <a:lnTo>
                      <a:pt x="1964" y="2785"/>
                    </a:lnTo>
                    <a:lnTo>
                      <a:pt x="1981" y="2785"/>
                    </a:lnTo>
                    <a:lnTo>
                      <a:pt x="1998" y="2784"/>
                    </a:lnTo>
                    <a:lnTo>
                      <a:pt x="2015" y="2783"/>
                    </a:lnTo>
                    <a:lnTo>
                      <a:pt x="2032" y="2783"/>
                    </a:lnTo>
                    <a:lnTo>
                      <a:pt x="2049" y="2781"/>
                    </a:lnTo>
                    <a:lnTo>
                      <a:pt x="2067" y="2781"/>
                    </a:lnTo>
                    <a:lnTo>
                      <a:pt x="2084" y="2780"/>
                    </a:lnTo>
                    <a:lnTo>
                      <a:pt x="2102" y="2779"/>
                    </a:lnTo>
                    <a:lnTo>
                      <a:pt x="2119" y="2778"/>
                    </a:lnTo>
                    <a:lnTo>
                      <a:pt x="2137" y="2777"/>
                    </a:lnTo>
                    <a:lnTo>
                      <a:pt x="2155" y="2775"/>
                    </a:lnTo>
                    <a:lnTo>
                      <a:pt x="2175" y="2774"/>
                    </a:lnTo>
                    <a:lnTo>
                      <a:pt x="2194" y="2772"/>
                    </a:lnTo>
                    <a:lnTo>
                      <a:pt x="2210" y="2758"/>
                    </a:lnTo>
                    <a:lnTo>
                      <a:pt x="2225" y="2744"/>
                    </a:lnTo>
                    <a:lnTo>
                      <a:pt x="2239" y="2728"/>
                    </a:lnTo>
                    <a:lnTo>
                      <a:pt x="2253" y="2712"/>
                    </a:lnTo>
                    <a:lnTo>
                      <a:pt x="2267" y="2695"/>
                    </a:lnTo>
                    <a:lnTo>
                      <a:pt x="2281" y="2678"/>
                    </a:lnTo>
                    <a:lnTo>
                      <a:pt x="2296" y="2662"/>
                    </a:lnTo>
                    <a:lnTo>
                      <a:pt x="2311" y="2645"/>
                    </a:lnTo>
                    <a:lnTo>
                      <a:pt x="2327" y="2624"/>
                    </a:lnTo>
                    <a:lnTo>
                      <a:pt x="2341" y="2604"/>
                    </a:lnTo>
                    <a:lnTo>
                      <a:pt x="2356" y="2583"/>
                    </a:lnTo>
                    <a:lnTo>
                      <a:pt x="2370" y="2561"/>
                    </a:lnTo>
                    <a:lnTo>
                      <a:pt x="2382" y="2539"/>
                    </a:lnTo>
                    <a:lnTo>
                      <a:pt x="2395" y="2516"/>
                    </a:lnTo>
                    <a:lnTo>
                      <a:pt x="2407" y="2494"/>
                    </a:lnTo>
                    <a:lnTo>
                      <a:pt x="2418" y="2471"/>
                    </a:lnTo>
                    <a:lnTo>
                      <a:pt x="2428" y="2447"/>
                    </a:lnTo>
                    <a:lnTo>
                      <a:pt x="2439" y="2424"/>
                    </a:lnTo>
                    <a:lnTo>
                      <a:pt x="2449" y="2400"/>
                    </a:lnTo>
                    <a:lnTo>
                      <a:pt x="2457" y="2376"/>
                    </a:lnTo>
                    <a:lnTo>
                      <a:pt x="2466" y="2353"/>
                    </a:lnTo>
                    <a:lnTo>
                      <a:pt x="2474" y="2329"/>
                    </a:lnTo>
                    <a:lnTo>
                      <a:pt x="2482" y="2306"/>
                    </a:lnTo>
                    <a:lnTo>
                      <a:pt x="2488" y="2282"/>
                    </a:lnTo>
                    <a:lnTo>
                      <a:pt x="2490" y="2253"/>
                    </a:lnTo>
                    <a:lnTo>
                      <a:pt x="2496" y="2225"/>
                    </a:lnTo>
                    <a:lnTo>
                      <a:pt x="2501" y="2198"/>
                    </a:lnTo>
                    <a:lnTo>
                      <a:pt x="2503" y="2172"/>
                    </a:lnTo>
                    <a:lnTo>
                      <a:pt x="2511" y="2144"/>
                    </a:lnTo>
                    <a:lnTo>
                      <a:pt x="2517" y="2115"/>
                    </a:lnTo>
                    <a:lnTo>
                      <a:pt x="2523" y="2085"/>
                    </a:lnTo>
                    <a:lnTo>
                      <a:pt x="2525" y="2054"/>
                    </a:lnTo>
                    <a:lnTo>
                      <a:pt x="2531" y="2047"/>
                    </a:lnTo>
                    <a:lnTo>
                      <a:pt x="2532" y="2037"/>
                    </a:lnTo>
                    <a:lnTo>
                      <a:pt x="2532" y="2025"/>
                    </a:lnTo>
                    <a:lnTo>
                      <a:pt x="2535" y="2015"/>
                    </a:lnTo>
                    <a:lnTo>
                      <a:pt x="2544" y="2000"/>
                    </a:lnTo>
                    <a:lnTo>
                      <a:pt x="2553" y="1986"/>
                    </a:lnTo>
                    <a:lnTo>
                      <a:pt x="2561" y="1973"/>
                    </a:lnTo>
                    <a:lnTo>
                      <a:pt x="2572" y="1960"/>
                    </a:lnTo>
                    <a:lnTo>
                      <a:pt x="2582" y="1948"/>
                    </a:lnTo>
                    <a:lnTo>
                      <a:pt x="2593" y="1935"/>
                    </a:lnTo>
                    <a:lnTo>
                      <a:pt x="2605" y="1922"/>
                    </a:lnTo>
                    <a:lnTo>
                      <a:pt x="2618" y="1908"/>
                    </a:lnTo>
                    <a:lnTo>
                      <a:pt x="2618" y="1901"/>
                    </a:lnTo>
                    <a:lnTo>
                      <a:pt x="2624" y="1896"/>
                    </a:lnTo>
                    <a:lnTo>
                      <a:pt x="2630" y="1890"/>
                    </a:lnTo>
                    <a:lnTo>
                      <a:pt x="2635" y="1883"/>
                    </a:lnTo>
                    <a:lnTo>
                      <a:pt x="2640" y="1876"/>
                    </a:lnTo>
                    <a:lnTo>
                      <a:pt x="2646" y="1869"/>
                    </a:lnTo>
                    <a:lnTo>
                      <a:pt x="2652" y="1863"/>
                    </a:lnTo>
                    <a:lnTo>
                      <a:pt x="2659" y="1857"/>
                    </a:lnTo>
                    <a:lnTo>
                      <a:pt x="2667" y="1853"/>
                    </a:lnTo>
                    <a:lnTo>
                      <a:pt x="2678" y="1838"/>
                    </a:lnTo>
                    <a:lnTo>
                      <a:pt x="2689" y="1825"/>
                    </a:lnTo>
                    <a:lnTo>
                      <a:pt x="2699" y="1812"/>
                    </a:lnTo>
                    <a:lnTo>
                      <a:pt x="2711" y="1799"/>
                    </a:lnTo>
                    <a:lnTo>
                      <a:pt x="2722" y="1789"/>
                    </a:lnTo>
                    <a:lnTo>
                      <a:pt x="2734" y="1777"/>
                    </a:lnTo>
                    <a:lnTo>
                      <a:pt x="2745" y="1765"/>
                    </a:lnTo>
                    <a:lnTo>
                      <a:pt x="2758" y="1754"/>
                    </a:lnTo>
                    <a:lnTo>
                      <a:pt x="2768" y="1739"/>
                    </a:lnTo>
                    <a:lnTo>
                      <a:pt x="2779" y="1724"/>
                    </a:lnTo>
                    <a:lnTo>
                      <a:pt x="2791" y="1709"/>
                    </a:lnTo>
                    <a:lnTo>
                      <a:pt x="2804" y="1694"/>
                    </a:lnTo>
                    <a:lnTo>
                      <a:pt x="2817" y="1678"/>
                    </a:lnTo>
                    <a:lnTo>
                      <a:pt x="2830" y="1661"/>
                    </a:lnTo>
                    <a:lnTo>
                      <a:pt x="2843" y="1643"/>
                    </a:lnTo>
                    <a:lnTo>
                      <a:pt x="2855" y="1625"/>
                    </a:lnTo>
                    <a:lnTo>
                      <a:pt x="2868" y="1605"/>
                    </a:lnTo>
                    <a:lnTo>
                      <a:pt x="2882" y="1584"/>
                    </a:lnTo>
                    <a:lnTo>
                      <a:pt x="2895" y="1563"/>
                    </a:lnTo>
                    <a:lnTo>
                      <a:pt x="2908" y="1542"/>
                    </a:lnTo>
                    <a:lnTo>
                      <a:pt x="2921" y="1522"/>
                    </a:lnTo>
                    <a:lnTo>
                      <a:pt x="2935" y="1501"/>
                    </a:lnTo>
                    <a:lnTo>
                      <a:pt x="2948" y="1481"/>
                    </a:lnTo>
                    <a:lnTo>
                      <a:pt x="2962" y="1462"/>
                    </a:lnTo>
                    <a:lnTo>
                      <a:pt x="2962" y="1447"/>
                    </a:lnTo>
                    <a:lnTo>
                      <a:pt x="2965" y="1447"/>
                    </a:lnTo>
                    <a:lnTo>
                      <a:pt x="2978" y="1418"/>
                    </a:lnTo>
                    <a:lnTo>
                      <a:pt x="2992" y="1390"/>
                    </a:lnTo>
                    <a:lnTo>
                      <a:pt x="3005" y="1361"/>
                    </a:lnTo>
                    <a:lnTo>
                      <a:pt x="3019" y="1331"/>
                    </a:lnTo>
                    <a:lnTo>
                      <a:pt x="3032" y="1303"/>
                    </a:lnTo>
                    <a:lnTo>
                      <a:pt x="3044" y="1273"/>
                    </a:lnTo>
                    <a:lnTo>
                      <a:pt x="3054" y="1242"/>
                    </a:lnTo>
                    <a:lnTo>
                      <a:pt x="3061" y="1211"/>
                    </a:lnTo>
                    <a:lnTo>
                      <a:pt x="3073" y="1195"/>
                    </a:lnTo>
                    <a:lnTo>
                      <a:pt x="3079" y="1174"/>
                    </a:lnTo>
                    <a:lnTo>
                      <a:pt x="3085" y="1153"/>
                    </a:lnTo>
                    <a:lnTo>
                      <a:pt x="3091" y="1132"/>
                    </a:lnTo>
                    <a:lnTo>
                      <a:pt x="3099" y="1113"/>
                    </a:lnTo>
                    <a:lnTo>
                      <a:pt x="3110" y="1101"/>
                    </a:lnTo>
                    <a:lnTo>
                      <a:pt x="3129" y="1097"/>
                    </a:lnTo>
                    <a:lnTo>
                      <a:pt x="3155" y="1104"/>
                    </a:lnTo>
                    <a:lnTo>
                      <a:pt x="3178" y="1126"/>
                    </a:lnTo>
                    <a:lnTo>
                      <a:pt x="3195" y="1151"/>
                    </a:lnTo>
                    <a:lnTo>
                      <a:pt x="3209" y="1178"/>
                    </a:lnTo>
                    <a:lnTo>
                      <a:pt x="3221" y="1204"/>
                    </a:lnTo>
                    <a:lnTo>
                      <a:pt x="3230" y="1233"/>
                    </a:lnTo>
                    <a:lnTo>
                      <a:pt x="3239" y="1263"/>
                    </a:lnTo>
                    <a:lnTo>
                      <a:pt x="3249" y="1292"/>
                    </a:lnTo>
                    <a:lnTo>
                      <a:pt x="3259" y="1322"/>
                    </a:lnTo>
                    <a:lnTo>
                      <a:pt x="3272" y="1308"/>
                    </a:lnTo>
                    <a:lnTo>
                      <a:pt x="3279" y="1289"/>
                    </a:lnTo>
                    <a:lnTo>
                      <a:pt x="3282" y="1267"/>
                    </a:lnTo>
                    <a:lnTo>
                      <a:pt x="3285" y="1246"/>
                    </a:lnTo>
                    <a:lnTo>
                      <a:pt x="3290" y="1230"/>
                    </a:lnTo>
                    <a:lnTo>
                      <a:pt x="3292" y="1212"/>
                    </a:lnTo>
                    <a:lnTo>
                      <a:pt x="3296" y="1195"/>
                    </a:lnTo>
                    <a:lnTo>
                      <a:pt x="3302" y="1178"/>
                    </a:lnTo>
                    <a:lnTo>
                      <a:pt x="3316" y="1085"/>
                    </a:lnTo>
                    <a:lnTo>
                      <a:pt x="3329" y="993"/>
                    </a:lnTo>
                    <a:lnTo>
                      <a:pt x="3343" y="901"/>
                    </a:lnTo>
                    <a:lnTo>
                      <a:pt x="3355" y="809"/>
                    </a:lnTo>
                    <a:lnTo>
                      <a:pt x="3366" y="716"/>
                    </a:lnTo>
                    <a:lnTo>
                      <a:pt x="3378" y="624"/>
                    </a:lnTo>
                    <a:lnTo>
                      <a:pt x="3389" y="530"/>
                    </a:lnTo>
                    <a:lnTo>
                      <a:pt x="3398" y="435"/>
                    </a:lnTo>
                    <a:lnTo>
                      <a:pt x="3402" y="355"/>
                    </a:lnTo>
                    <a:lnTo>
                      <a:pt x="3408" y="268"/>
                    </a:lnTo>
                    <a:lnTo>
                      <a:pt x="3413" y="182"/>
                    </a:lnTo>
                    <a:lnTo>
                      <a:pt x="3412" y="96"/>
                    </a:lnTo>
                    <a:lnTo>
                      <a:pt x="3416" y="71"/>
                    </a:lnTo>
                    <a:lnTo>
                      <a:pt x="3418" y="43"/>
                    </a:lnTo>
                    <a:lnTo>
                      <a:pt x="3423" y="19"/>
                    </a:lnTo>
                    <a:lnTo>
                      <a:pt x="3438" y="0"/>
                    </a:lnTo>
                    <a:lnTo>
                      <a:pt x="3450" y="3"/>
                    </a:lnTo>
                    <a:lnTo>
                      <a:pt x="3462" y="5"/>
                    </a:lnTo>
                    <a:lnTo>
                      <a:pt x="3473" y="7"/>
                    </a:lnTo>
                    <a:lnTo>
                      <a:pt x="3485" y="10"/>
                    </a:lnTo>
                    <a:lnTo>
                      <a:pt x="3497" y="13"/>
                    </a:lnTo>
                    <a:lnTo>
                      <a:pt x="3508" y="18"/>
                    </a:lnTo>
                    <a:lnTo>
                      <a:pt x="3516" y="26"/>
                    </a:lnTo>
                    <a:lnTo>
                      <a:pt x="352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flipH="1">
                <a:off x="567000" y="1862280"/>
                <a:ext cx="311760" cy="748800"/>
              </a:xfrm>
              <a:custGeom>
                <a:avLst/>
                <a:gdLst/>
                <a:ahLst/>
                <a:rect l="l" t="t" r="r" b="b"/>
                <a:pathLst>
                  <a:path w="1508" h="3054">
                    <a:moveTo>
                      <a:pt x="1411" y="72"/>
                    </a:moveTo>
                    <a:lnTo>
                      <a:pt x="1444" y="156"/>
                    </a:lnTo>
                    <a:lnTo>
                      <a:pt x="1472" y="243"/>
                    </a:lnTo>
                    <a:lnTo>
                      <a:pt x="1492" y="330"/>
                    </a:lnTo>
                    <a:lnTo>
                      <a:pt x="1505" y="419"/>
                    </a:lnTo>
                    <a:lnTo>
                      <a:pt x="1508" y="509"/>
                    </a:lnTo>
                    <a:lnTo>
                      <a:pt x="1501" y="597"/>
                    </a:lnTo>
                    <a:lnTo>
                      <a:pt x="1484" y="687"/>
                    </a:lnTo>
                    <a:lnTo>
                      <a:pt x="1454" y="775"/>
                    </a:lnTo>
                    <a:lnTo>
                      <a:pt x="1448" y="800"/>
                    </a:lnTo>
                    <a:lnTo>
                      <a:pt x="1442" y="824"/>
                    </a:lnTo>
                    <a:lnTo>
                      <a:pt x="1433" y="847"/>
                    </a:lnTo>
                    <a:lnTo>
                      <a:pt x="1424" y="871"/>
                    </a:lnTo>
                    <a:lnTo>
                      <a:pt x="1414" y="894"/>
                    </a:lnTo>
                    <a:lnTo>
                      <a:pt x="1406" y="917"/>
                    </a:lnTo>
                    <a:lnTo>
                      <a:pt x="1397" y="940"/>
                    </a:lnTo>
                    <a:lnTo>
                      <a:pt x="1390" y="965"/>
                    </a:lnTo>
                    <a:lnTo>
                      <a:pt x="1382" y="979"/>
                    </a:lnTo>
                    <a:lnTo>
                      <a:pt x="1376" y="993"/>
                    </a:lnTo>
                    <a:lnTo>
                      <a:pt x="1369" y="1006"/>
                    </a:lnTo>
                    <a:lnTo>
                      <a:pt x="1363" y="1018"/>
                    </a:lnTo>
                    <a:lnTo>
                      <a:pt x="1356" y="1031"/>
                    </a:lnTo>
                    <a:lnTo>
                      <a:pt x="1349" y="1044"/>
                    </a:lnTo>
                    <a:lnTo>
                      <a:pt x="1342" y="1058"/>
                    </a:lnTo>
                    <a:lnTo>
                      <a:pt x="1336" y="1072"/>
                    </a:lnTo>
                    <a:lnTo>
                      <a:pt x="1322" y="1098"/>
                    </a:lnTo>
                    <a:lnTo>
                      <a:pt x="1308" y="1125"/>
                    </a:lnTo>
                    <a:lnTo>
                      <a:pt x="1295" y="1153"/>
                    </a:lnTo>
                    <a:lnTo>
                      <a:pt x="1284" y="1181"/>
                    </a:lnTo>
                    <a:lnTo>
                      <a:pt x="1270" y="1209"/>
                    </a:lnTo>
                    <a:lnTo>
                      <a:pt x="1255" y="1235"/>
                    </a:lnTo>
                    <a:lnTo>
                      <a:pt x="1237" y="1261"/>
                    </a:lnTo>
                    <a:lnTo>
                      <a:pt x="1217" y="1285"/>
                    </a:lnTo>
                    <a:lnTo>
                      <a:pt x="1212" y="1278"/>
                    </a:lnTo>
                    <a:lnTo>
                      <a:pt x="1210" y="1271"/>
                    </a:lnTo>
                    <a:lnTo>
                      <a:pt x="1212" y="1263"/>
                    </a:lnTo>
                    <a:lnTo>
                      <a:pt x="1215" y="1256"/>
                    </a:lnTo>
                    <a:lnTo>
                      <a:pt x="1220" y="1248"/>
                    </a:lnTo>
                    <a:lnTo>
                      <a:pt x="1226" y="1241"/>
                    </a:lnTo>
                    <a:lnTo>
                      <a:pt x="1230" y="1232"/>
                    </a:lnTo>
                    <a:lnTo>
                      <a:pt x="1232" y="1225"/>
                    </a:lnTo>
                    <a:lnTo>
                      <a:pt x="1242" y="1183"/>
                    </a:lnTo>
                    <a:lnTo>
                      <a:pt x="1254" y="1142"/>
                    </a:lnTo>
                    <a:lnTo>
                      <a:pt x="1266" y="1102"/>
                    </a:lnTo>
                    <a:lnTo>
                      <a:pt x="1280" y="1062"/>
                    </a:lnTo>
                    <a:lnTo>
                      <a:pt x="1293" y="1022"/>
                    </a:lnTo>
                    <a:lnTo>
                      <a:pt x="1304" y="981"/>
                    </a:lnTo>
                    <a:lnTo>
                      <a:pt x="1313" y="939"/>
                    </a:lnTo>
                    <a:lnTo>
                      <a:pt x="1319" y="897"/>
                    </a:lnTo>
                    <a:lnTo>
                      <a:pt x="1332" y="844"/>
                    </a:lnTo>
                    <a:lnTo>
                      <a:pt x="1342" y="790"/>
                    </a:lnTo>
                    <a:lnTo>
                      <a:pt x="1350" y="735"/>
                    </a:lnTo>
                    <a:lnTo>
                      <a:pt x="1355" y="679"/>
                    </a:lnTo>
                    <a:lnTo>
                      <a:pt x="1360" y="622"/>
                    </a:lnTo>
                    <a:lnTo>
                      <a:pt x="1363" y="566"/>
                    </a:lnTo>
                    <a:lnTo>
                      <a:pt x="1366" y="511"/>
                    </a:lnTo>
                    <a:lnTo>
                      <a:pt x="1368" y="457"/>
                    </a:lnTo>
                    <a:lnTo>
                      <a:pt x="1365" y="336"/>
                    </a:lnTo>
                    <a:lnTo>
                      <a:pt x="1367" y="336"/>
                    </a:lnTo>
                    <a:lnTo>
                      <a:pt x="1369" y="334"/>
                    </a:lnTo>
                    <a:lnTo>
                      <a:pt x="1370" y="333"/>
                    </a:lnTo>
                    <a:lnTo>
                      <a:pt x="1372" y="331"/>
                    </a:lnTo>
                    <a:lnTo>
                      <a:pt x="1362" y="308"/>
                    </a:lnTo>
                    <a:lnTo>
                      <a:pt x="1358" y="280"/>
                    </a:lnTo>
                    <a:lnTo>
                      <a:pt x="1357" y="252"/>
                    </a:lnTo>
                    <a:lnTo>
                      <a:pt x="1354" y="224"/>
                    </a:lnTo>
                    <a:lnTo>
                      <a:pt x="1347" y="224"/>
                    </a:lnTo>
                    <a:lnTo>
                      <a:pt x="1339" y="343"/>
                    </a:lnTo>
                    <a:lnTo>
                      <a:pt x="1346" y="349"/>
                    </a:lnTo>
                    <a:lnTo>
                      <a:pt x="1347" y="357"/>
                    </a:lnTo>
                    <a:lnTo>
                      <a:pt x="1346" y="367"/>
                    </a:lnTo>
                    <a:lnTo>
                      <a:pt x="1342" y="374"/>
                    </a:lnTo>
                    <a:lnTo>
                      <a:pt x="1340" y="383"/>
                    </a:lnTo>
                    <a:lnTo>
                      <a:pt x="1337" y="393"/>
                    </a:lnTo>
                    <a:lnTo>
                      <a:pt x="1335" y="406"/>
                    </a:lnTo>
                    <a:lnTo>
                      <a:pt x="1332" y="417"/>
                    </a:lnTo>
                    <a:lnTo>
                      <a:pt x="1328" y="471"/>
                    </a:lnTo>
                    <a:lnTo>
                      <a:pt x="1324" y="526"/>
                    </a:lnTo>
                    <a:lnTo>
                      <a:pt x="1318" y="580"/>
                    </a:lnTo>
                    <a:lnTo>
                      <a:pt x="1310" y="634"/>
                    </a:lnTo>
                    <a:lnTo>
                      <a:pt x="1302" y="687"/>
                    </a:lnTo>
                    <a:lnTo>
                      <a:pt x="1291" y="741"/>
                    </a:lnTo>
                    <a:lnTo>
                      <a:pt x="1279" y="793"/>
                    </a:lnTo>
                    <a:lnTo>
                      <a:pt x="1267" y="845"/>
                    </a:lnTo>
                    <a:lnTo>
                      <a:pt x="1254" y="898"/>
                    </a:lnTo>
                    <a:lnTo>
                      <a:pt x="1237" y="949"/>
                    </a:lnTo>
                    <a:lnTo>
                      <a:pt x="1221" y="1000"/>
                    </a:lnTo>
                    <a:lnTo>
                      <a:pt x="1205" y="1050"/>
                    </a:lnTo>
                    <a:lnTo>
                      <a:pt x="1187" y="1101"/>
                    </a:lnTo>
                    <a:lnTo>
                      <a:pt x="1168" y="1151"/>
                    </a:lnTo>
                    <a:lnTo>
                      <a:pt x="1149" y="1200"/>
                    </a:lnTo>
                    <a:lnTo>
                      <a:pt x="1128" y="1249"/>
                    </a:lnTo>
                    <a:lnTo>
                      <a:pt x="1113" y="1271"/>
                    </a:lnTo>
                    <a:lnTo>
                      <a:pt x="1099" y="1291"/>
                    </a:lnTo>
                    <a:lnTo>
                      <a:pt x="1088" y="1312"/>
                    </a:lnTo>
                    <a:lnTo>
                      <a:pt x="1075" y="1332"/>
                    </a:lnTo>
                    <a:lnTo>
                      <a:pt x="1063" y="1353"/>
                    </a:lnTo>
                    <a:lnTo>
                      <a:pt x="1049" y="1373"/>
                    </a:lnTo>
                    <a:lnTo>
                      <a:pt x="1034" y="1392"/>
                    </a:lnTo>
                    <a:lnTo>
                      <a:pt x="1017" y="1412"/>
                    </a:lnTo>
                    <a:lnTo>
                      <a:pt x="1016" y="1365"/>
                    </a:lnTo>
                    <a:lnTo>
                      <a:pt x="1016" y="1316"/>
                    </a:lnTo>
                    <a:lnTo>
                      <a:pt x="1017" y="1267"/>
                    </a:lnTo>
                    <a:lnTo>
                      <a:pt x="1017" y="1217"/>
                    </a:lnTo>
                    <a:lnTo>
                      <a:pt x="1015" y="1168"/>
                    </a:lnTo>
                    <a:lnTo>
                      <a:pt x="1008" y="1119"/>
                    </a:lnTo>
                    <a:lnTo>
                      <a:pt x="998" y="1072"/>
                    </a:lnTo>
                    <a:lnTo>
                      <a:pt x="981" y="1028"/>
                    </a:lnTo>
                    <a:lnTo>
                      <a:pt x="961" y="1034"/>
                    </a:lnTo>
                    <a:lnTo>
                      <a:pt x="947" y="1046"/>
                    </a:lnTo>
                    <a:lnTo>
                      <a:pt x="940" y="1062"/>
                    </a:lnTo>
                    <a:lnTo>
                      <a:pt x="936" y="1080"/>
                    </a:lnTo>
                    <a:lnTo>
                      <a:pt x="932" y="1100"/>
                    </a:lnTo>
                    <a:lnTo>
                      <a:pt x="928" y="1119"/>
                    </a:lnTo>
                    <a:lnTo>
                      <a:pt x="923" y="1137"/>
                    </a:lnTo>
                    <a:lnTo>
                      <a:pt x="913" y="1153"/>
                    </a:lnTo>
                    <a:lnTo>
                      <a:pt x="900" y="1200"/>
                    </a:lnTo>
                    <a:lnTo>
                      <a:pt x="882" y="1245"/>
                    </a:lnTo>
                    <a:lnTo>
                      <a:pt x="861" y="1288"/>
                    </a:lnTo>
                    <a:lnTo>
                      <a:pt x="837" y="1328"/>
                    </a:lnTo>
                    <a:lnTo>
                      <a:pt x="812" y="1370"/>
                    </a:lnTo>
                    <a:lnTo>
                      <a:pt x="789" y="1412"/>
                    </a:lnTo>
                    <a:lnTo>
                      <a:pt x="767" y="1454"/>
                    </a:lnTo>
                    <a:lnTo>
                      <a:pt x="749" y="1500"/>
                    </a:lnTo>
                    <a:lnTo>
                      <a:pt x="737" y="1519"/>
                    </a:lnTo>
                    <a:lnTo>
                      <a:pt x="726" y="1538"/>
                    </a:lnTo>
                    <a:lnTo>
                      <a:pt x="713" y="1557"/>
                    </a:lnTo>
                    <a:lnTo>
                      <a:pt x="701" y="1575"/>
                    </a:lnTo>
                    <a:lnTo>
                      <a:pt x="688" y="1593"/>
                    </a:lnTo>
                    <a:lnTo>
                      <a:pt x="676" y="1612"/>
                    </a:lnTo>
                    <a:lnTo>
                      <a:pt x="664" y="1631"/>
                    </a:lnTo>
                    <a:lnTo>
                      <a:pt x="650" y="1648"/>
                    </a:lnTo>
                    <a:lnTo>
                      <a:pt x="636" y="1666"/>
                    </a:lnTo>
                    <a:lnTo>
                      <a:pt x="622" y="1683"/>
                    </a:lnTo>
                    <a:lnTo>
                      <a:pt x="608" y="1700"/>
                    </a:lnTo>
                    <a:lnTo>
                      <a:pt x="592" y="1717"/>
                    </a:lnTo>
                    <a:lnTo>
                      <a:pt x="576" y="1733"/>
                    </a:lnTo>
                    <a:lnTo>
                      <a:pt x="560" y="1749"/>
                    </a:lnTo>
                    <a:lnTo>
                      <a:pt x="542" y="1764"/>
                    </a:lnTo>
                    <a:lnTo>
                      <a:pt x="523" y="1779"/>
                    </a:lnTo>
                    <a:lnTo>
                      <a:pt x="508" y="1802"/>
                    </a:lnTo>
                    <a:lnTo>
                      <a:pt x="502" y="1827"/>
                    </a:lnTo>
                    <a:lnTo>
                      <a:pt x="503" y="1855"/>
                    </a:lnTo>
                    <a:lnTo>
                      <a:pt x="508" y="1883"/>
                    </a:lnTo>
                    <a:lnTo>
                      <a:pt x="522" y="1927"/>
                    </a:lnTo>
                    <a:lnTo>
                      <a:pt x="529" y="1970"/>
                    </a:lnTo>
                    <a:lnTo>
                      <a:pt x="530" y="2014"/>
                    </a:lnTo>
                    <a:lnTo>
                      <a:pt x="527" y="2058"/>
                    </a:lnTo>
                    <a:lnTo>
                      <a:pt x="520" y="2103"/>
                    </a:lnTo>
                    <a:lnTo>
                      <a:pt x="511" y="2147"/>
                    </a:lnTo>
                    <a:lnTo>
                      <a:pt x="500" y="2192"/>
                    </a:lnTo>
                    <a:lnTo>
                      <a:pt x="490" y="2236"/>
                    </a:lnTo>
                    <a:lnTo>
                      <a:pt x="479" y="2257"/>
                    </a:lnTo>
                    <a:lnTo>
                      <a:pt x="469" y="2278"/>
                    </a:lnTo>
                    <a:lnTo>
                      <a:pt x="459" y="2300"/>
                    </a:lnTo>
                    <a:lnTo>
                      <a:pt x="451" y="2321"/>
                    </a:lnTo>
                    <a:lnTo>
                      <a:pt x="441" y="2342"/>
                    </a:lnTo>
                    <a:lnTo>
                      <a:pt x="430" y="2364"/>
                    </a:lnTo>
                    <a:lnTo>
                      <a:pt x="418" y="2384"/>
                    </a:lnTo>
                    <a:lnTo>
                      <a:pt x="406" y="2404"/>
                    </a:lnTo>
                    <a:lnTo>
                      <a:pt x="388" y="2426"/>
                    </a:lnTo>
                    <a:lnTo>
                      <a:pt x="372" y="2446"/>
                    </a:lnTo>
                    <a:lnTo>
                      <a:pt x="357" y="2466"/>
                    </a:lnTo>
                    <a:lnTo>
                      <a:pt x="341" y="2487"/>
                    </a:lnTo>
                    <a:lnTo>
                      <a:pt x="325" y="2505"/>
                    </a:lnTo>
                    <a:lnTo>
                      <a:pt x="307" y="2523"/>
                    </a:lnTo>
                    <a:lnTo>
                      <a:pt x="288" y="2539"/>
                    </a:lnTo>
                    <a:lnTo>
                      <a:pt x="265" y="2554"/>
                    </a:lnTo>
                    <a:lnTo>
                      <a:pt x="277" y="2583"/>
                    </a:lnTo>
                    <a:lnTo>
                      <a:pt x="290" y="2610"/>
                    </a:lnTo>
                    <a:lnTo>
                      <a:pt x="302" y="2637"/>
                    </a:lnTo>
                    <a:lnTo>
                      <a:pt x="315" y="2664"/>
                    </a:lnTo>
                    <a:lnTo>
                      <a:pt x="328" y="2691"/>
                    </a:lnTo>
                    <a:lnTo>
                      <a:pt x="343" y="2716"/>
                    </a:lnTo>
                    <a:lnTo>
                      <a:pt x="358" y="2743"/>
                    </a:lnTo>
                    <a:lnTo>
                      <a:pt x="376" y="2770"/>
                    </a:lnTo>
                    <a:lnTo>
                      <a:pt x="386" y="2768"/>
                    </a:lnTo>
                    <a:lnTo>
                      <a:pt x="396" y="2764"/>
                    </a:lnTo>
                    <a:lnTo>
                      <a:pt x="405" y="2760"/>
                    </a:lnTo>
                    <a:lnTo>
                      <a:pt x="411" y="2755"/>
                    </a:lnTo>
                    <a:lnTo>
                      <a:pt x="417" y="2748"/>
                    </a:lnTo>
                    <a:lnTo>
                      <a:pt x="422" y="2741"/>
                    </a:lnTo>
                    <a:lnTo>
                      <a:pt x="426" y="2732"/>
                    </a:lnTo>
                    <a:lnTo>
                      <a:pt x="429" y="2722"/>
                    </a:lnTo>
                    <a:lnTo>
                      <a:pt x="431" y="2707"/>
                    </a:lnTo>
                    <a:lnTo>
                      <a:pt x="433" y="2691"/>
                    </a:lnTo>
                    <a:lnTo>
                      <a:pt x="439" y="2674"/>
                    </a:lnTo>
                    <a:lnTo>
                      <a:pt x="444" y="2658"/>
                    </a:lnTo>
                    <a:lnTo>
                      <a:pt x="452" y="2643"/>
                    </a:lnTo>
                    <a:lnTo>
                      <a:pt x="461" y="2628"/>
                    </a:lnTo>
                    <a:lnTo>
                      <a:pt x="472" y="2615"/>
                    </a:lnTo>
                    <a:lnTo>
                      <a:pt x="485" y="2604"/>
                    </a:lnTo>
                    <a:lnTo>
                      <a:pt x="501" y="2600"/>
                    </a:lnTo>
                    <a:lnTo>
                      <a:pt x="516" y="2598"/>
                    </a:lnTo>
                    <a:lnTo>
                      <a:pt x="532" y="2597"/>
                    </a:lnTo>
                    <a:lnTo>
                      <a:pt x="547" y="2598"/>
                    </a:lnTo>
                    <a:lnTo>
                      <a:pt x="562" y="2600"/>
                    </a:lnTo>
                    <a:lnTo>
                      <a:pt x="577" y="2604"/>
                    </a:lnTo>
                    <a:lnTo>
                      <a:pt x="592" y="2608"/>
                    </a:lnTo>
                    <a:lnTo>
                      <a:pt x="606" y="2613"/>
                    </a:lnTo>
                    <a:lnTo>
                      <a:pt x="621" y="2618"/>
                    </a:lnTo>
                    <a:lnTo>
                      <a:pt x="636" y="2623"/>
                    </a:lnTo>
                    <a:lnTo>
                      <a:pt x="651" y="2629"/>
                    </a:lnTo>
                    <a:lnTo>
                      <a:pt x="666" y="2634"/>
                    </a:lnTo>
                    <a:lnTo>
                      <a:pt x="681" y="2639"/>
                    </a:lnTo>
                    <a:lnTo>
                      <a:pt x="696" y="2643"/>
                    </a:lnTo>
                    <a:lnTo>
                      <a:pt x="711" y="2646"/>
                    </a:lnTo>
                    <a:lnTo>
                      <a:pt x="727" y="2648"/>
                    </a:lnTo>
                    <a:lnTo>
                      <a:pt x="745" y="2654"/>
                    </a:lnTo>
                    <a:lnTo>
                      <a:pt x="765" y="2658"/>
                    </a:lnTo>
                    <a:lnTo>
                      <a:pt x="786" y="2660"/>
                    </a:lnTo>
                    <a:lnTo>
                      <a:pt x="806" y="2661"/>
                    </a:lnTo>
                    <a:lnTo>
                      <a:pt x="827" y="2662"/>
                    </a:lnTo>
                    <a:lnTo>
                      <a:pt x="849" y="2662"/>
                    </a:lnTo>
                    <a:lnTo>
                      <a:pt x="869" y="2662"/>
                    </a:lnTo>
                    <a:lnTo>
                      <a:pt x="888" y="2662"/>
                    </a:lnTo>
                    <a:lnTo>
                      <a:pt x="897" y="2670"/>
                    </a:lnTo>
                    <a:lnTo>
                      <a:pt x="899" y="2682"/>
                    </a:lnTo>
                    <a:lnTo>
                      <a:pt x="902" y="2695"/>
                    </a:lnTo>
                    <a:lnTo>
                      <a:pt x="913" y="2703"/>
                    </a:lnTo>
                    <a:lnTo>
                      <a:pt x="930" y="2707"/>
                    </a:lnTo>
                    <a:lnTo>
                      <a:pt x="947" y="2711"/>
                    </a:lnTo>
                    <a:lnTo>
                      <a:pt x="962" y="2716"/>
                    </a:lnTo>
                    <a:lnTo>
                      <a:pt x="977" y="2724"/>
                    </a:lnTo>
                    <a:lnTo>
                      <a:pt x="991" y="2733"/>
                    </a:lnTo>
                    <a:lnTo>
                      <a:pt x="1004" y="2744"/>
                    </a:lnTo>
                    <a:lnTo>
                      <a:pt x="1015" y="2756"/>
                    </a:lnTo>
                    <a:lnTo>
                      <a:pt x="1024" y="2770"/>
                    </a:lnTo>
                    <a:lnTo>
                      <a:pt x="1023" y="2780"/>
                    </a:lnTo>
                    <a:lnTo>
                      <a:pt x="1021" y="2792"/>
                    </a:lnTo>
                    <a:lnTo>
                      <a:pt x="1019" y="2803"/>
                    </a:lnTo>
                    <a:lnTo>
                      <a:pt x="1017" y="2814"/>
                    </a:lnTo>
                    <a:lnTo>
                      <a:pt x="1012" y="2824"/>
                    </a:lnTo>
                    <a:lnTo>
                      <a:pt x="1006" y="2832"/>
                    </a:lnTo>
                    <a:lnTo>
                      <a:pt x="998" y="2839"/>
                    </a:lnTo>
                    <a:lnTo>
                      <a:pt x="986" y="2843"/>
                    </a:lnTo>
                    <a:lnTo>
                      <a:pt x="985" y="2849"/>
                    </a:lnTo>
                    <a:lnTo>
                      <a:pt x="982" y="2852"/>
                    </a:lnTo>
                    <a:lnTo>
                      <a:pt x="977" y="2854"/>
                    </a:lnTo>
                    <a:lnTo>
                      <a:pt x="973" y="2856"/>
                    </a:lnTo>
                    <a:lnTo>
                      <a:pt x="968" y="2857"/>
                    </a:lnTo>
                    <a:lnTo>
                      <a:pt x="962" y="2858"/>
                    </a:lnTo>
                    <a:lnTo>
                      <a:pt x="957" y="2859"/>
                    </a:lnTo>
                    <a:lnTo>
                      <a:pt x="953" y="2862"/>
                    </a:lnTo>
                    <a:lnTo>
                      <a:pt x="871" y="2862"/>
                    </a:lnTo>
                    <a:lnTo>
                      <a:pt x="879" y="2842"/>
                    </a:lnTo>
                    <a:lnTo>
                      <a:pt x="886" y="2822"/>
                    </a:lnTo>
                    <a:lnTo>
                      <a:pt x="895" y="2801"/>
                    </a:lnTo>
                    <a:lnTo>
                      <a:pt x="902" y="2779"/>
                    </a:lnTo>
                    <a:lnTo>
                      <a:pt x="895" y="2772"/>
                    </a:lnTo>
                    <a:lnTo>
                      <a:pt x="873" y="2776"/>
                    </a:lnTo>
                    <a:lnTo>
                      <a:pt x="852" y="2781"/>
                    </a:lnTo>
                    <a:lnTo>
                      <a:pt x="831" y="2786"/>
                    </a:lnTo>
                    <a:lnTo>
                      <a:pt x="809" y="2791"/>
                    </a:lnTo>
                    <a:lnTo>
                      <a:pt x="788" y="2795"/>
                    </a:lnTo>
                    <a:lnTo>
                      <a:pt x="766" y="2801"/>
                    </a:lnTo>
                    <a:lnTo>
                      <a:pt x="745" y="2805"/>
                    </a:lnTo>
                    <a:lnTo>
                      <a:pt x="724" y="2809"/>
                    </a:lnTo>
                    <a:lnTo>
                      <a:pt x="701" y="2814"/>
                    </a:lnTo>
                    <a:lnTo>
                      <a:pt x="680" y="2818"/>
                    </a:lnTo>
                    <a:lnTo>
                      <a:pt x="657" y="2821"/>
                    </a:lnTo>
                    <a:lnTo>
                      <a:pt x="636" y="2824"/>
                    </a:lnTo>
                    <a:lnTo>
                      <a:pt x="613" y="2827"/>
                    </a:lnTo>
                    <a:lnTo>
                      <a:pt x="590" y="2830"/>
                    </a:lnTo>
                    <a:lnTo>
                      <a:pt x="567" y="2832"/>
                    </a:lnTo>
                    <a:lnTo>
                      <a:pt x="544" y="2833"/>
                    </a:lnTo>
                    <a:lnTo>
                      <a:pt x="542" y="2836"/>
                    </a:lnTo>
                    <a:lnTo>
                      <a:pt x="539" y="2838"/>
                    </a:lnTo>
                    <a:lnTo>
                      <a:pt x="537" y="2840"/>
                    </a:lnTo>
                    <a:lnTo>
                      <a:pt x="538" y="2843"/>
                    </a:lnTo>
                    <a:lnTo>
                      <a:pt x="552" y="2850"/>
                    </a:lnTo>
                    <a:lnTo>
                      <a:pt x="567" y="2853"/>
                    </a:lnTo>
                    <a:lnTo>
                      <a:pt x="584" y="2855"/>
                    </a:lnTo>
                    <a:lnTo>
                      <a:pt x="602" y="2854"/>
                    </a:lnTo>
                    <a:lnTo>
                      <a:pt x="618" y="2854"/>
                    </a:lnTo>
                    <a:lnTo>
                      <a:pt x="634" y="2856"/>
                    </a:lnTo>
                    <a:lnTo>
                      <a:pt x="648" y="2859"/>
                    </a:lnTo>
                    <a:lnTo>
                      <a:pt x="660" y="2866"/>
                    </a:lnTo>
                    <a:lnTo>
                      <a:pt x="742" y="2866"/>
                    </a:lnTo>
                    <a:lnTo>
                      <a:pt x="727" y="2880"/>
                    </a:lnTo>
                    <a:lnTo>
                      <a:pt x="711" y="2892"/>
                    </a:lnTo>
                    <a:lnTo>
                      <a:pt x="695" y="2903"/>
                    </a:lnTo>
                    <a:lnTo>
                      <a:pt x="679" y="2915"/>
                    </a:lnTo>
                    <a:lnTo>
                      <a:pt x="663" y="2925"/>
                    </a:lnTo>
                    <a:lnTo>
                      <a:pt x="645" y="2935"/>
                    </a:lnTo>
                    <a:lnTo>
                      <a:pt x="629" y="2945"/>
                    </a:lnTo>
                    <a:lnTo>
                      <a:pt x="612" y="2955"/>
                    </a:lnTo>
                    <a:lnTo>
                      <a:pt x="619" y="2967"/>
                    </a:lnTo>
                    <a:lnTo>
                      <a:pt x="629" y="2974"/>
                    </a:lnTo>
                    <a:lnTo>
                      <a:pt x="643" y="2976"/>
                    </a:lnTo>
                    <a:lnTo>
                      <a:pt x="659" y="2975"/>
                    </a:lnTo>
                    <a:lnTo>
                      <a:pt x="675" y="2973"/>
                    </a:lnTo>
                    <a:lnTo>
                      <a:pt x="693" y="2971"/>
                    </a:lnTo>
                    <a:lnTo>
                      <a:pt x="710" y="2971"/>
                    </a:lnTo>
                    <a:lnTo>
                      <a:pt x="724" y="2973"/>
                    </a:lnTo>
                    <a:lnTo>
                      <a:pt x="727" y="2973"/>
                    </a:lnTo>
                    <a:lnTo>
                      <a:pt x="716" y="2975"/>
                    </a:lnTo>
                    <a:lnTo>
                      <a:pt x="706" y="2978"/>
                    </a:lnTo>
                    <a:lnTo>
                      <a:pt x="696" y="2981"/>
                    </a:lnTo>
                    <a:lnTo>
                      <a:pt x="685" y="2984"/>
                    </a:lnTo>
                    <a:lnTo>
                      <a:pt x="673" y="2989"/>
                    </a:lnTo>
                    <a:lnTo>
                      <a:pt x="663" y="2993"/>
                    </a:lnTo>
                    <a:lnTo>
                      <a:pt x="651" y="2997"/>
                    </a:lnTo>
                    <a:lnTo>
                      <a:pt x="640" y="3001"/>
                    </a:lnTo>
                    <a:lnTo>
                      <a:pt x="627" y="3004"/>
                    </a:lnTo>
                    <a:lnTo>
                      <a:pt x="613" y="3006"/>
                    </a:lnTo>
                    <a:lnTo>
                      <a:pt x="599" y="3008"/>
                    </a:lnTo>
                    <a:lnTo>
                      <a:pt x="584" y="3009"/>
                    </a:lnTo>
                    <a:lnTo>
                      <a:pt x="569" y="3010"/>
                    </a:lnTo>
                    <a:lnTo>
                      <a:pt x="553" y="3010"/>
                    </a:lnTo>
                    <a:lnTo>
                      <a:pt x="537" y="3010"/>
                    </a:lnTo>
                    <a:lnTo>
                      <a:pt x="521" y="3009"/>
                    </a:lnTo>
                    <a:lnTo>
                      <a:pt x="505" y="3008"/>
                    </a:lnTo>
                    <a:lnTo>
                      <a:pt x="489" y="3007"/>
                    </a:lnTo>
                    <a:lnTo>
                      <a:pt x="472" y="3005"/>
                    </a:lnTo>
                    <a:lnTo>
                      <a:pt x="456" y="3003"/>
                    </a:lnTo>
                    <a:lnTo>
                      <a:pt x="440" y="2999"/>
                    </a:lnTo>
                    <a:lnTo>
                      <a:pt x="424" y="2997"/>
                    </a:lnTo>
                    <a:lnTo>
                      <a:pt x="409" y="2993"/>
                    </a:lnTo>
                    <a:lnTo>
                      <a:pt x="394" y="2990"/>
                    </a:lnTo>
                    <a:lnTo>
                      <a:pt x="387" y="2990"/>
                    </a:lnTo>
                    <a:lnTo>
                      <a:pt x="410" y="2984"/>
                    </a:lnTo>
                    <a:lnTo>
                      <a:pt x="431" y="2977"/>
                    </a:lnTo>
                    <a:lnTo>
                      <a:pt x="452" y="2968"/>
                    </a:lnTo>
                    <a:lnTo>
                      <a:pt x="472" y="2959"/>
                    </a:lnTo>
                    <a:lnTo>
                      <a:pt x="491" y="2948"/>
                    </a:lnTo>
                    <a:lnTo>
                      <a:pt x="509" y="2937"/>
                    </a:lnTo>
                    <a:lnTo>
                      <a:pt x="527" y="2925"/>
                    </a:lnTo>
                    <a:lnTo>
                      <a:pt x="544" y="2912"/>
                    </a:lnTo>
                    <a:lnTo>
                      <a:pt x="530" y="2906"/>
                    </a:lnTo>
                    <a:lnTo>
                      <a:pt x="516" y="2903"/>
                    </a:lnTo>
                    <a:lnTo>
                      <a:pt x="502" y="2900"/>
                    </a:lnTo>
                    <a:lnTo>
                      <a:pt x="488" y="2899"/>
                    </a:lnTo>
                    <a:lnTo>
                      <a:pt x="473" y="2898"/>
                    </a:lnTo>
                    <a:lnTo>
                      <a:pt x="459" y="2897"/>
                    </a:lnTo>
                    <a:lnTo>
                      <a:pt x="444" y="2897"/>
                    </a:lnTo>
                    <a:lnTo>
                      <a:pt x="429" y="2897"/>
                    </a:lnTo>
                    <a:lnTo>
                      <a:pt x="412" y="2894"/>
                    </a:lnTo>
                    <a:lnTo>
                      <a:pt x="394" y="2892"/>
                    </a:lnTo>
                    <a:lnTo>
                      <a:pt x="375" y="2890"/>
                    </a:lnTo>
                    <a:lnTo>
                      <a:pt x="355" y="2888"/>
                    </a:lnTo>
                    <a:lnTo>
                      <a:pt x="336" y="2885"/>
                    </a:lnTo>
                    <a:lnTo>
                      <a:pt x="318" y="2880"/>
                    </a:lnTo>
                    <a:lnTo>
                      <a:pt x="300" y="2872"/>
                    </a:lnTo>
                    <a:lnTo>
                      <a:pt x="284" y="2862"/>
                    </a:lnTo>
                    <a:lnTo>
                      <a:pt x="279" y="2866"/>
                    </a:lnTo>
                    <a:lnTo>
                      <a:pt x="277" y="2870"/>
                    </a:lnTo>
                    <a:lnTo>
                      <a:pt x="276" y="2877"/>
                    </a:lnTo>
                    <a:lnTo>
                      <a:pt x="276" y="2883"/>
                    </a:lnTo>
                    <a:lnTo>
                      <a:pt x="284" y="2889"/>
                    </a:lnTo>
                    <a:lnTo>
                      <a:pt x="292" y="2897"/>
                    </a:lnTo>
                    <a:lnTo>
                      <a:pt x="300" y="2904"/>
                    </a:lnTo>
                    <a:lnTo>
                      <a:pt x="308" y="2912"/>
                    </a:lnTo>
                    <a:lnTo>
                      <a:pt x="317" y="2918"/>
                    </a:lnTo>
                    <a:lnTo>
                      <a:pt x="325" y="2924"/>
                    </a:lnTo>
                    <a:lnTo>
                      <a:pt x="335" y="2927"/>
                    </a:lnTo>
                    <a:lnTo>
                      <a:pt x="345" y="2929"/>
                    </a:lnTo>
                    <a:lnTo>
                      <a:pt x="350" y="2932"/>
                    </a:lnTo>
                    <a:lnTo>
                      <a:pt x="355" y="2934"/>
                    </a:lnTo>
                    <a:lnTo>
                      <a:pt x="360" y="2939"/>
                    </a:lnTo>
                    <a:lnTo>
                      <a:pt x="363" y="2944"/>
                    </a:lnTo>
                    <a:lnTo>
                      <a:pt x="350" y="2950"/>
                    </a:lnTo>
                    <a:lnTo>
                      <a:pt x="336" y="2955"/>
                    </a:lnTo>
                    <a:lnTo>
                      <a:pt x="322" y="2959"/>
                    </a:lnTo>
                    <a:lnTo>
                      <a:pt x="308" y="2962"/>
                    </a:lnTo>
                    <a:lnTo>
                      <a:pt x="294" y="2964"/>
                    </a:lnTo>
                    <a:lnTo>
                      <a:pt x="280" y="2966"/>
                    </a:lnTo>
                    <a:lnTo>
                      <a:pt x="265" y="2967"/>
                    </a:lnTo>
                    <a:lnTo>
                      <a:pt x="251" y="2968"/>
                    </a:lnTo>
                    <a:lnTo>
                      <a:pt x="236" y="2968"/>
                    </a:lnTo>
                    <a:lnTo>
                      <a:pt x="221" y="2970"/>
                    </a:lnTo>
                    <a:lnTo>
                      <a:pt x="208" y="2970"/>
                    </a:lnTo>
                    <a:lnTo>
                      <a:pt x="194" y="2968"/>
                    </a:lnTo>
                    <a:lnTo>
                      <a:pt x="180" y="2968"/>
                    </a:lnTo>
                    <a:lnTo>
                      <a:pt x="166" y="2968"/>
                    </a:lnTo>
                    <a:lnTo>
                      <a:pt x="152" y="2970"/>
                    </a:lnTo>
                    <a:lnTo>
                      <a:pt x="139" y="2970"/>
                    </a:lnTo>
                    <a:lnTo>
                      <a:pt x="137" y="2974"/>
                    </a:lnTo>
                    <a:lnTo>
                      <a:pt x="137" y="2978"/>
                    </a:lnTo>
                    <a:lnTo>
                      <a:pt x="137" y="2984"/>
                    </a:lnTo>
                    <a:lnTo>
                      <a:pt x="137" y="2990"/>
                    </a:lnTo>
                    <a:lnTo>
                      <a:pt x="251" y="3054"/>
                    </a:lnTo>
                    <a:lnTo>
                      <a:pt x="237" y="3053"/>
                    </a:lnTo>
                    <a:lnTo>
                      <a:pt x="224" y="3053"/>
                    </a:lnTo>
                    <a:lnTo>
                      <a:pt x="209" y="3052"/>
                    </a:lnTo>
                    <a:lnTo>
                      <a:pt x="195" y="3052"/>
                    </a:lnTo>
                    <a:lnTo>
                      <a:pt x="181" y="3051"/>
                    </a:lnTo>
                    <a:lnTo>
                      <a:pt x="166" y="3051"/>
                    </a:lnTo>
                    <a:lnTo>
                      <a:pt x="151" y="3050"/>
                    </a:lnTo>
                    <a:lnTo>
                      <a:pt x="137" y="3049"/>
                    </a:lnTo>
                    <a:lnTo>
                      <a:pt x="122" y="3048"/>
                    </a:lnTo>
                    <a:lnTo>
                      <a:pt x="108" y="3045"/>
                    </a:lnTo>
                    <a:lnTo>
                      <a:pt x="94" y="3043"/>
                    </a:lnTo>
                    <a:lnTo>
                      <a:pt x="79" y="3041"/>
                    </a:lnTo>
                    <a:lnTo>
                      <a:pt x="65" y="3038"/>
                    </a:lnTo>
                    <a:lnTo>
                      <a:pt x="51" y="3035"/>
                    </a:lnTo>
                    <a:lnTo>
                      <a:pt x="37" y="3030"/>
                    </a:lnTo>
                    <a:lnTo>
                      <a:pt x="24" y="3026"/>
                    </a:lnTo>
                    <a:lnTo>
                      <a:pt x="22" y="3030"/>
                    </a:lnTo>
                    <a:lnTo>
                      <a:pt x="14" y="3023"/>
                    </a:lnTo>
                    <a:lnTo>
                      <a:pt x="14" y="3015"/>
                    </a:lnTo>
                    <a:lnTo>
                      <a:pt x="15" y="3007"/>
                    </a:lnTo>
                    <a:lnTo>
                      <a:pt x="12" y="2997"/>
                    </a:lnTo>
                    <a:lnTo>
                      <a:pt x="0" y="2919"/>
                    </a:lnTo>
                    <a:lnTo>
                      <a:pt x="14" y="2919"/>
                    </a:lnTo>
                    <a:lnTo>
                      <a:pt x="28" y="2919"/>
                    </a:lnTo>
                    <a:lnTo>
                      <a:pt x="42" y="2919"/>
                    </a:lnTo>
                    <a:lnTo>
                      <a:pt x="57" y="2919"/>
                    </a:lnTo>
                    <a:lnTo>
                      <a:pt x="70" y="2920"/>
                    </a:lnTo>
                    <a:lnTo>
                      <a:pt x="85" y="2919"/>
                    </a:lnTo>
                    <a:lnTo>
                      <a:pt x="100" y="2919"/>
                    </a:lnTo>
                    <a:lnTo>
                      <a:pt x="115" y="2919"/>
                    </a:lnTo>
                    <a:lnTo>
                      <a:pt x="130" y="2919"/>
                    </a:lnTo>
                    <a:lnTo>
                      <a:pt x="145" y="2919"/>
                    </a:lnTo>
                    <a:lnTo>
                      <a:pt x="160" y="2918"/>
                    </a:lnTo>
                    <a:lnTo>
                      <a:pt x="175" y="2918"/>
                    </a:lnTo>
                    <a:lnTo>
                      <a:pt x="189" y="2917"/>
                    </a:lnTo>
                    <a:lnTo>
                      <a:pt x="204" y="2917"/>
                    </a:lnTo>
                    <a:lnTo>
                      <a:pt x="219" y="2916"/>
                    </a:lnTo>
                    <a:lnTo>
                      <a:pt x="233" y="2915"/>
                    </a:lnTo>
                    <a:lnTo>
                      <a:pt x="232" y="2904"/>
                    </a:lnTo>
                    <a:lnTo>
                      <a:pt x="228" y="2895"/>
                    </a:lnTo>
                    <a:lnTo>
                      <a:pt x="219" y="2887"/>
                    </a:lnTo>
                    <a:lnTo>
                      <a:pt x="211" y="2880"/>
                    </a:lnTo>
                    <a:lnTo>
                      <a:pt x="200" y="2874"/>
                    </a:lnTo>
                    <a:lnTo>
                      <a:pt x="190" y="2868"/>
                    </a:lnTo>
                    <a:lnTo>
                      <a:pt x="182" y="2862"/>
                    </a:lnTo>
                    <a:lnTo>
                      <a:pt x="175" y="2855"/>
                    </a:lnTo>
                    <a:lnTo>
                      <a:pt x="164" y="2846"/>
                    </a:lnTo>
                    <a:lnTo>
                      <a:pt x="153" y="2835"/>
                    </a:lnTo>
                    <a:lnTo>
                      <a:pt x="141" y="2823"/>
                    </a:lnTo>
                    <a:lnTo>
                      <a:pt x="130" y="2811"/>
                    </a:lnTo>
                    <a:lnTo>
                      <a:pt x="121" y="2800"/>
                    </a:lnTo>
                    <a:lnTo>
                      <a:pt x="113" y="2788"/>
                    </a:lnTo>
                    <a:lnTo>
                      <a:pt x="107" y="2776"/>
                    </a:lnTo>
                    <a:lnTo>
                      <a:pt x="104" y="2764"/>
                    </a:lnTo>
                    <a:lnTo>
                      <a:pt x="122" y="2761"/>
                    </a:lnTo>
                    <a:lnTo>
                      <a:pt x="140" y="2760"/>
                    </a:lnTo>
                    <a:lnTo>
                      <a:pt x="159" y="2760"/>
                    </a:lnTo>
                    <a:lnTo>
                      <a:pt x="179" y="2760"/>
                    </a:lnTo>
                    <a:lnTo>
                      <a:pt x="198" y="2759"/>
                    </a:lnTo>
                    <a:lnTo>
                      <a:pt x="216" y="2756"/>
                    </a:lnTo>
                    <a:lnTo>
                      <a:pt x="233" y="2750"/>
                    </a:lnTo>
                    <a:lnTo>
                      <a:pt x="248" y="2740"/>
                    </a:lnTo>
                    <a:lnTo>
                      <a:pt x="245" y="2736"/>
                    </a:lnTo>
                    <a:lnTo>
                      <a:pt x="241" y="2733"/>
                    </a:lnTo>
                    <a:lnTo>
                      <a:pt x="236" y="2732"/>
                    </a:lnTo>
                    <a:lnTo>
                      <a:pt x="232" y="2732"/>
                    </a:lnTo>
                    <a:lnTo>
                      <a:pt x="228" y="2732"/>
                    </a:lnTo>
                    <a:lnTo>
                      <a:pt x="224" y="2732"/>
                    </a:lnTo>
                    <a:lnTo>
                      <a:pt x="219" y="2731"/>
                    </a:lnTo>
                    <a:lnTo>
                      <a:pt x="215" y="2729"/>
                    </a:lnTo>
                    <a:lnTo>
                      <a:pt x="198" y="2717"/>
                    </a:lnTo>
                    <a:lnTo>
                      <a:pt x="181" y="2707"/>
                    </a:lnTo>
                    <a:lnTo>
                      <a:pt x="163" y="2696"/>
                    </a:lnTo>
                    <a:lnTo>
                      <a:pt x="144" y="2684"/>
                    </a:lnTo>
                    <a:lnTo>
                      <a:pt x="126" y="2671"/>
                    </a:lnTo>
                    <a:lnTo>
                      <a:pt x="109" y="2658"/>
                    </a:lnTo>
                    <a:lnTo>
                      <a:pt x="93" y="2643"/>
                    </a:lnTo>
                    <a:lnTo>
                      <a:pt x="78" y="2625"/>
                    </a:lnTo>
                    <a:lnTo>
                      <a:pt x="104" y="2599"/>
                    </a:lnTo>
                    <a:lnTo>
                      <a:pt x="129" y="2572"/>
                    </a:lnTo>
                    <a:lnTo>
                      <a:pt x="155" y="2543"/>
                    </a:lnTo>
                    <a:lnTo>
                      <a:pt x="180" y="2513"/>
                    </a:lnTo>
                    <a:lnTo>
                      <a:pt x="204" y="2482"/>
                    </a:lnTo>
                    <a:lnTo>
                      <a:pt x="228" y="2450"/>
                    </a:lnTo>
                    <a:lnTo>
                      <a:pt x="250" y="2417"/>
                    </a:lnTo>
                    <a:lnTo>
                      <a:pt x="272" y="2384"/>
                    </a:lnTo>
                    <a:lnTo>
                      <a:pt x="291" y="2350"/>
                    </a:lnTo>
                    <a:lnTo>
                      <a:pt x="310" y="2314"/>
                    </a:lnTo>
                    <a:lnTo>
                      <a:pt x="327" y="2279"/>
                    </a:lnTo>
                    <a:lnTo>
                      <a:pt x="342" y="2243"/>
                    </a:lnTo>
                    <a:lnTo>
                      <a:pt x="355" y="2207"/>
                    </a:lnTo>
                    <a:lnTo>
                      <a:pt x="367" y="2169"/>
                    </a:lnTo>
                    <a:lnTo>
                      <a:pt x="377" y="2132"/>
                    </a:lnTo>
                    <a:lnTo>
                      <a:pt x="383" y="2094"/>
                    </a:lnTo>
                    <a:lnTo>
                      <a:pt x="393" y="2059"/>
                    </a:lnTo>
                    <a:lnTo>
                      <a:pt x="400" y="2023"/>
                    </a:lnTo>
                    <a:lnTo>
                      <a:pt x="407" y="1986"/>
                    </a:lnTo>
                    <a:lnTo>
                      <a:pt x="412" y="1949"/>
                    </a:lnTo>
                    <a:lnTo>
                      <a:pt x="417" y="1913"/>
                    </a:lnTo>
                    <a:lnTo>
                      <a:pt x="423" y="1877"/>
                    </a:lnTo>
                    <a:lnTo>
                      <a:pt x="429" y="1842"/>
                    </a:lnTo>
                    <a:lnTo>
                      <a:pt x="437" y="1808"/>
                    </a:lnTo>
                    <a:lnTo>
                      <a:pt x="453" y="1786"/>
                    </a:lnTo>
                    <a:lnTo>
                      <a:pt x="468" y="1764"/>
                    </a:lnTo>
                    <a:lnTo>
                      <a:pt x="484" y="1743"/>
                    </a:lnTo>
                    <a:lnTo>
                      <a:pt x="500" y="1721"/>
                    </a:lnTo>
                    <a:lnTo>
                      <a:pt x="516" y="1700"/>
                    </a:lnTo>
                    <a:lnTo>
                      <a:pt x="531" y="1679"/>
                    </a:lnTo>
                    <a:lnTo>
                      <a:pt x="547" y="1658"/>
                    </a:lnTo>
                    <a:lnTo>
                      <a:pt x="563" y="1637"/>
                    </a:lnTo>
                    <a:lnTo>
                      <a:pt x="579" y="1617"/>
                    </a:lnTo>
                    <a:lnTo>
                      <a:pt x="595" y="1595"/>
                    </a:lnTo>
                    <a:lnTo>
                      <a:pt x="611" y="1575"/>
                    </a:lnTo>
                    <a:lnTo>
                      <a:pt x="627" y="1555"/>
                    </a:lnTo>
                    <a:lnTo>
                      <a:pt x="643" y="1533"/>
                    </a:lnTo>
                    <a:lnTo>
                      <a:pt x="659" y="1513"/>
                    </a:lnTo>
                    <a:lnTo>
                      <a:pt x="675" y="1493"/>
                    </a:lnTo>
                    <a:lnTo>
                      <a:pt x="691" y="1472"/>
                    </a:lnTo>
                    <a:lnTo>
                      <a:pt x="712" y="1438"/>
                    </a:lnTo>
                    <a:lnTo>
                      <a:pt x="732" y="1404"/>
                    </a:lnTo>
                    <a:lnTo>
                      <a:pt x="751" y="1370"/>
                    </a:lnTo>
                    <a:lnTo>
                      <a:pt x="772" y="1336"/>
                    </a:lnTo>
                    <a:lnTo>
                      <a:pt x="790" y="1303"/>
                    </a:lnTo>
                    <a:lnTo>
                      <a:pt x="808" y="1268"/>
                    </a:lnTo>
                    <a:lnTo>
                      <a:pt x="825" y="1234"/>
                    </a:lnTo>
                    <a:lnTo>
                      <a:pt x="841" y="1200"/>
                    </a:lnTo>
                    <a:lnTo>
                      <a:pt x="850" y="1186"/>
                    </a:lnTo>
                    <a:lnTo>
                      <a:pt x="856" y="1170"/>
                    </a:lnTo>
                    <a:lnTo>
                      <a:pt x="863" y="1154"/>
                    </a:lnTo>
                    <a:lnTo>
                      <a:pt x="867" y="1138"/>
                    </a:lnTo>
                    <a:lnTo>
                      <a:pt x="872" y="1122"/>
                    </a:lnTo>
                    <a:lnTo>
                      <a:pt x="878" y="1107"/>
                    </a:lnTo>
                    <a:lnTo>
                      <a:pt x="884" y="1092"/>
                    </a:lnTo>
                    <a:lnTo>
                      <a:pt x="892" y="1079"/>
                    </a:lnTo>
                    <a:lnTo>
                      <a:pt x="896" y="1062"/>
                    </a:lnTo>
                    <a:lnTo>
                      <a:pt x="899" y="1046"/>
                    </a:lnTo>
                    <a:lnTo>
                      <a:pt x="905" y="1031"/>
                    </a:lnTo>
                    <a:lnTo>
                      <a:pt x="909" y="1016"/>
                    </a:lnTo>
                    <a:lnTo>
                      <a:pt x="914" y="1001"/>
                    </a:lnTo>
                    <a:lnTo>
                      <a:pt x="921" y="986"/>
                    </a:lnTo>
                    <a:lnTo>
                      <a:pt x="927" y="972"/>
                    </a:lnTo>
                    <a:lnTo>
                      <a:pt x="934" y="957"/>
                    </a:lnTo>
                    <a:lnTo>
                      <a:pt x="954" y="956"/>
                    </a:lnTo>
                    <a:lnTo>
                      <a:pt x="969" y="962"/>
                    </a:lnTo>
                    <a:lnTo>
                      <a:pt x="982" y="971"/>
                    </a:lnTo>
                    <a:lnTo>
                      <a:pt x="992" y="985"/>
                    </a:lnTo>
                    <a:lnTo>
                      <a:pt x="1001" y="1001"/>
                    </a:lnTo>
                    <a:lnTo>
                      <a:pt x="1008" y="1017"/>
                    </a:lnTo>
                    <a:lnTo>
                      <a:pt x="1016" y="1034"/>
                    </a:lnTo>
                    <a:lnTo>
                      <a:pt x="1024" y="1050"/>
                    </a:lnTo>
                    <a:lnTo>
                      <a:pt x="1033" y="1095"/>
                    </a:lnTo>
                    <a:lnTo>
                      <a:pt x="1040" y="1138"/>
                    </a:lnTo>
                    <a:lnTo>
                      <a:pt x="1048" y="1182"/>
                    </a:lnTo>
                    <a:lnTo>
                      <a:pt x="1052" y="1229"/>
                    </a:lnTo>
                    <a:lnTo>
                      <a:pt x="1057" y="1236"/>
                    </a:lnTo>
                    <a:lnTo>
                      <a:pt x="1054" y="1245"/>
                    </a:lnTo>
                    <a:lnTo>
                      <a:pt x="1052" y="1252"/>
                    </a:lnTo>
                    <a:lnTo>
                      <a:pt x="1057" y="1261"/>
                    </a:lnTo>
                    <a:lnTo>
                      <a:pt x="1063" y="1266"/>
                    </a:lnTo>
                    <a:lnTo>
                      <a:pt x="1069" y="1271"/>
                    </a:lnTo>
                    <a:lnTo>
                      <a:pt x="1078" y="1271"/>
                    </a:lnTo>
                    <a:lnTo>
                      <a:pt x="1085" y="1267"/>
                    </a:lnTo>
                    <a:lnTo>
                      <a:pt x="1092" y="1248"/>
                    </a:lnTo>
                    <a:lnTo>
                      <a:pt x="1094" y="1228"/>
                    </a:lnTo>
                    <a:lnTo>
                      <a:pt x="1096" y="1207"/>
                    </a:lnTo>
                    <a:lnTo>
                      <a:pt x="1103" y="1188"/>
                    </a:lnTo>
                    <a:lnTo>
                      <a:pt x="1111" y="1172"/>
                    </a:lnTo>
                    <a:lnTo>
                      <a:pt x="1118" y="1156"/>
                    </a:lnTo>
                    <a:lnTo>
                      <a:pt x="1125" y="1139"/>
                    </a:lnTo>
                    <a:lnTo>
                      <a:pt x="1131" y="1122"/>
                    </a:lnTo>
                    <a:lnTo>
                      <a:pt x="1134" y="1100"/>
                    </a:lnTo>
                    <a:lnTo>
                      <a:pt x="1141" y="1079"/>
                    </a:lnTo>
                    <a:lnTo>
                      <a:pt x="1149" y="1060"/>
                    </a:lnTo>
                    <a:lnTo>
                      <a:pt x="1154" y="1039"/>
                    </a:lnTo>
                    <a:lnTo>
                      <a:pt x="1158" y="1001"/>
                    </a:lnTo>
                    <a:lnTo>
                      <a:pt x="1164" y="964"/>
                    </a:lnTo>
                    <a:lnTo>
                      <a:pt x="1171" y="925"/>
                    </a:lnTo>
                    <a:lnTo>
                      <a:pt x="1180" y="888"/>
                    </a:lnTo>
                    <a:lnTo>
                      <a:pt x="1188" y="851"/>
                    </a:lnTo>
                    <a:lnTo>
                      <a:pt x="1196" y="812"/>
                    </a:lnTo>
                    <a:lnTo>
                      <a:pt x="1203" y="775"/>
                    </a:lnTo>
                    <a:lnTo>
                      <a:pt x="1210" y="736"/>
                    </a:lnTo>
                    <a:lnTo>
                      <a:pt x="1218" y="697"/>
                    </a:lnTo>
                    <a:lnTo>
                      <a:pt x="1225" y="658"/>
                    </a:lnTo>
                    <a:lnTo>
                      <a:pt x="1229" y="619"/>
                    </a:lnTo>
                    <a:lnTo>
                      <a:pt x="1232" y="579"/>
                    </a:lnTo>
                    <a:lnTo>
                      <a:pt x="1234" y="540"/>
                    </a:lnTo>
                    <a:lnTo>
                      <a:pt x="1236" y="500"/>
                    </a:lnTo>
                    <a:lnTo>
                      <a:pt x="1240" y="461"/>
                    </a:lnTo>
                    <a:lnTo>
                      <a:pt x="1243" y="421"/>
                    </a:lnTo>
                    <a:lnTo>
                      <a:pt x="1249" y="385"/>
                    </a:lnTo>
                    <a:lnTo>
                      <a:pt x="1254" y="345"/>
                    </a:lnTo>
                    <a:lnTo>
                      <a:pt x="1254" y="305"/>
                    </a:lnTo>
                    <a:lnTo>
                      <a:pt x="1254" y="264"/>
                    </a:lnTo>
                    <a:lnTo>
                      <a:pt x="1259" y="239"/>
                    </a:lnTo>
                    <a:lnTo>
                      <a:pt x="1263" y="213"/>
                    </a:lnTo>
                    <a:lnTo>
                      <a:pt x="1265" y="184"/>
                    </a:lnTo>
                    <a:lnTo>
                      <a:pt x="1269" y="156"/>
                    </a:lnTo>
                    <a:lnTo>
                      <a:pt x="1271" y="139"/>
                    </a:lnTo>
                    <a:lnTo>
                      <a:pt x="1273" y="122"/>
                    </a:lnTo>
                    <a:lnTo>
                      <a:pt x="1276" y="104"/>
                    </a:lnTo>
                    <a:lnTo>
                      <a:pt x="1280" y="87"/>
                    </a:lnTo>
                    <a:lnTo>
                      <a:pt x="1285" y="69"/>
                    </a:lnTo>
                    <a:lnTo>
                      <a:pt x="1290" y="51"/>
                    </a:lnTo>
                    <a:lnTo>
                      <a:pt x="1295" y="34"/>
                    </a:lnTo>
                    <a:lnTo>
                      <a:pt x="1301" y="17"/>
                    </a:lnTo>
                    <a:lnTo>
                      <a:pt x="1306" y="12"/>
                    </a:lnTo>
                    <a:lnTo>
                      <a:pt x="1312" y="6"/>
                    </a:lnTo>
                    <a:lnTo>
                      <a:pt x="1319" y="3"/>
                    </a:lnTo>
                    <a:lnTo>
                      <a:pt x="1327" y="1"/>
                    </a:lnTo>
                    <a:lnTo>
                      <a:pt x="1335" y="0"/>
                    </a:lnTo>
                    <a:lnTo>
                      <a:pt x="1343" y="1"/>
                    </a:lnTo>
                    <a:lnTo>
                      <a:pt x="1352" y="2"/>
                    </a:lnTo>
                    <a:lnTo>
                      <a:pt x="1361" y="5"/>
                    </a:lnTo>
                    <a:lnTo>
                      <a:pt x="1370" y="12"/>
                    </a:lnTo>
                    <a:lnTo>
                      <a:pt x="1378" y="18"/>
                    </a:lnTo>
                    <a:lnTo>
                      <a:pt x="1384" y="27"/>
                    </a:lnTo>
                    <a:lnTo>
                      <a:pt x="1391" y="35"/>
                    </a:lnTo>
                    <a:lnTo>
                      <a:pt x="1395" y="45"/>
                    </a:lnTo>
                    <a:lnTo>
                      <a:pt x="1400" y="53"/>
                    </a:lnTo>
                    <a:lnTo>
                      <a:pt x="1406" y="63"/>
                    </a:lnTo>
                    <a:lnTo>
                      <a:pt x="1411" y="72"/>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flipH="1">
                <a:off x="543240" y="2015640"/>
                <a:ext cx="97200" cy="218520"/>
              </a:xfrm>
              <a:custGeom>
                <a:avLst/>
                <a:gdLst/>
                <a:ahLst/>
                <a:rect l="l" t="t" r="r" b="b"/>
                <a:pathLst>
                  <a:path w="473" h="893">
                    <a:moveTo>
                      <a:pt x="455" y="60"/>
                    </a:moveTo>
                    <a:lnTo>
                      <a:pt x="467" y="122"/>
                    </a:lnTo>
                    <a:lnTo>
                      <a:pt x="473" y="183"/>
                    </a:lnTo>
                    <a:lnTo>
                      <a:pt x="472" y="244"/>
                    </a:lnTo>
                    <a:lnTo>
                      <a:pt x="464" y="304"/>
                    </a:lnTo>
                    <a:lnTo>
                      <a:pt x="451" y="361"/>
                    </a:lnTo>
                    <a:lnTo>
                      <a:pt x="433" y="418"/>
                    </a:lnTo>
                    <a:lnTo>
                      <a:pt x="409" y="472"/>
                    </a:lnTo>
                    <a:lnTo>
                      <a:pt x="381" y="525"/>
                    </a:lnTo>
                    <a:lnTo>
                      <a:pt x="363" y="553"/>
                    </a:lnTo>
                    <a:lnTo>
                      <a:pt x="343" y="579"/>
                    </a:lnTo>
                    <a:lnTo>
                      <a:pt x="324" y="605"/>
                    </a:lnTo>
                    <a:lnTo>
                      <a:pt x="304" y="631"/>
                    </a:lnTo>
                    <a:lnTo>
                      <a:pt x="283" y="656"/>
                    </a:lnTo>
                    <a:lnTo>
                      <a:pt x="263" y="682"/>
                    </a:lnTo>
                    <a:lnTo>
                      <a:pt x="243" y="707"/>
                    </a:lnTo>
                    <a:lnTo>
                      <a:pt x="223" y="733"/>
                    </a:lnTo>
                    <a:lnTo>
                      <a:pt x="122" y="833"/>
                    </a:lnTo>
                    <a:lnTo>
                      <a:pt x="120" y="829"/>
                    </a:lnTo>
                    <a:lnTo>
                      <a:pt x="106" y="840"/>
                    </a:lnTo>
                    <a:lnTo>
                      <a:pt x="93" y="851"/>
                    </a:lnTo>
                    <a:lnTo>
                      <a:pt x="79" y="861"/>
                    </a:lnTo>
                    <a:lnTo>
                      <a:pt x="65" y="871"/>
                    </a:lnTo>
                    <a:lnTo>
                      <a:pt x="51" y="881"/>
                    </a:lnTo>
                    <a:lnTo>
                      <a:pt x="35" y="887"/>
                    </a:lnTo>
                    <a:lnTo>
                      <a:pt x="18" y="891"/>
                    </a:lnTo>
                    <a:lnTo>
                      <a:pt x="0" y="893"/>
                    </a:lnTo>
                    <a:lnTo>
                      <a:pt x="6" y="869"/>
                    </a:lnTo>
                    <a:lnTo>
                      <a:pt x="17" y="846"/>
                    </a:lnTo>
                    <a:lnTo>
                      <a:pt x="31" y="827"/>
                    </a:lnTo>
                    <a:lnTo>
                      <a:pt x="47" y="809"/>
                    </a:lnTo>
                    <a:lnTo>
                      <a:pt x="62" y="791"/>
                    </a:lnTo>
                    <a:lnTo>
                      <a:pt x="77" y="772"/>
                    </a:lnTo>
                    <a:lnTo>
                      <a:pt x="88" y="751"/>
                    </a:lnTo>
                    <a:lnTo>
                      <a:pt x="97" y="728"/>
                    </a:lnTo>
                    <a:lnTo>
                      <a:pt x="120" y="689"/>
                    </a:lnTo>
                    <a:lnTo>
                      <a:pt x="141" y="650"/>
                    </a:lnTo>
                    <a:lnTo>
                      <a:pt x="161" y="610"/>
                    </a:lnTo>
                    <a:lnTo>
                      <a:pt x="182" y="570"/>
                    </a:lnTo>
                    <a:lnTo>
                      <a:pt x="201" y="529"/>
                    </a:lnTo>
                    <a:lnTo>
                      <a:pt x="220" y="488"/>
                    </a:lnTo>
                    <a:lnTo>
                      <a:pt x="239" y="448"/>
                    </a:lnTo>
                    <a:lnTo>
                      <a:pt x="258" y="407"/>
                    </a:lnTo>
                    <a:lnTo>
                      <a:pt x="276" y="366"/>
                    </a:lnTo>
                    <a:lnTo>
                      <a:pt x="293" y="324"/>
                    </a:lnTo>
                    <a:lnTo>
                      <a:pt x="310" y="283"/>
                    </a:lnTo>
                    <a:lnTo>
                      <a:pt x="327" y="242"/>
                    </a:lnTo>
                    <a:lnTo>
                      <a:pt x="344" y="200"/>
                    </a:lnTo>
                    <a:lnTo>
                      <a:pt x="360" y="158"/>
                    </a:lnTo>
                    <a:lnTo>
                      <a:pt x="375" y="117"/>
                    </a:lnTo>
                    <a:lnTo>
                      <a:pt x="391" y="75"/>
                    </a:lnTo>
                    <a:lnTo>
                      <a:pt x="397" y="65"/>
                    </a:lnTo>
                    <a:lnTo>
                      <a:pt x="400" y="56"/>
                    </a:lnTo>
                    <a:lnTo>
                      <a:pt x="403" y="45"/>
                    </a:lnTo>
                    <a:lnTo>
                      <a:pt x="405" y="34"/>
                    </a:lnTo>
                    <a:lnTo>
                      <a:pt x="409" y="24"/>
                    </a:lnTo>
                    <a:lnTo>
                      <a:pt x="412" y="14"/>
                    </a:lnTo>
                    <a:lnTo>
                      <a:pt x="417" y="7"/>
                    </a:lnTo>
                    <a:lnTo>
                      <a:pt x="424" y="0"/>
                    </a:lnTo>
                    <a:lnTo>
                      <a:pt x="435" y="14"/>
                    </a:lnTo>
                    <a:lnTo>
                      <a:pt x="444" y="28"/>
                    </a:lnTo>
                    <a:lnTo>
                      <a:pt x="449" y="43"/>
                    </a:lnTo>
                    <a:lnTo>
                      <a:pt x="455" y="6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flipH="1">
                <a:off x="530640" y="2156760"/>
                <a:ext cx="127080" cy="142560"/>
              </a:xfrm>
              <a:custGeom>
                <a:avLst/>
                <a:gdLst/>
                <a:ahLst/>
                <a:rect l="l" t="t" r="r" b="b"/>
                <a:pathLst>
                  <a:path w="619" h="580">
                    <a:moveTo>
                      <a:pt x="619" y="101"/>
                    </a:moveTo>
                    <a:lnTo>
                      <a:pt x="610" y="140"/>
                    </a:lnTo>
                    <a:lnTo>
                      <a:pt x="597" y="176"/>
                    </a:lnTo>
                    <a:lnTo>
                      <a:pt x="582" y="212"/>
                    </a:lnTo>
                    <a:lnTo>
                      <a:pt x="564" y="245"/>
                    </a:lnTo>
                    <a:lnTo>
                      <a:pt x="544" y="277"/>
                    </a:lnTo>
                    <a:lnTo>
                      <a:pt x="521" y="307"/>
                    </a:lnTo>
                    <a:lnTo>
                      <a:pt x="497" y="335"/>
                    </a:lnTo>
                    <a:lnTo>
                      <a:pt x="471" y="361"/>
                    </a:lnTo>
                    <a:lnTo>
                      <a:pt x="443" y="387"/>
                    </a:lnTo>
                    <a:lnTo>
                      <a:pt x="413" y="412"/>
                    </a:lnTo>
                    <a:lnTo>
                      <a:pt x="383" y="434"/>
                    </a:lnTo>
                    <a:lnTo>
                      <a:pt x="352" y="456"/>
                    </a:lnTo>
                    <a:lnTo>
                      <a:pt x="320" y="477"/>
                    </a:lnTo>
                    <a:lnTo>
                      <a:pt x="287" y="497"/>
                    </a:lnTo>
                    <a:lnTo>
                      <a:pt x="255" y="516"/>
                    </a:lnTo>
                    <a:lnTo>
                      <a:pt x="222" y="534"/>
                    </a:lnTo>
                    <a:lnTo>
                      <a:pt x="210" y="541"/>
                    </a:lnTo>
                    <a:lnTo>
                      <a:pt x="197" y="546"/>
                    </a:lnTo>
                    <a:lnTo>
                      <a:pt x="184" y="552"/>
                    </a:lnTo>
                    <a:lnTo>
                      <a:pt x="171" y="556"/>
                    </a:lnTo>
                    <a:lnTo>
                      <a:pt x="157" y="559"/>
                    </a:lnTo>
                    <a:lnTo>
                      <a:pt x="144" y="561"/>
                    </a:lnTo>
                    <a:lnTo>
                      <a:pt x="130" y="564"/>
                    </a:lnTo>
                    <a:lnTo>
                      <a:pt x="116" y="565"/>
                    </a:lnTo>
                    <a:lnTo>
                      <a:pt x="102" y="568"/>
                    </a:lnTo>
                    <a:lnTo>
                      <a:pt x="87" y="569"/>
                    </a:lnTo>
                    <a:lnTo>
                      <a:pt x="72" y="571"/>
                    </a:lnTo>
                    <a:lnTo>
                      <a:pt x="58" y="572"/>
                    </a:lnTo>
                    <a:lnTo>
                      <a:pt x="43" y="574"/>
                    </a:lnTo>
                    <a:lnTo>
                      <a:pt x="29" y="576"/>
                    </a:lnTo>
                    <a:lnTo>
                      <a:pt x="14" y="578"/>
                    </a:lnTo>
                    <a:lnTo>
                      <a:pt x="0" y="580"/>
                    </a:lnTo>
                    <a:lnTo>
                      <a:pt x="18" y="572"/>
                    </a:lnTo>
                    <a:lnTo>
                      <a:pt x="36" y="563"/>
                    </a:lnTo>
                    <a:lnTo>
                      <a:pt x="54" y="554"/>
                    </a:lnTo>
                    <a:lnTo>
                      <a:pt x="72" y="544"/>
                    </a:lnTo>
                    <a:lnTo>
                      <a:pt x="89" y="533"/>
                    </a:lnTo>
                    <a:lnTo>
                      <a:pt x="105" y="523"/>
                    </a:lnTo>
                    <a:lnTo>
                      <a:pt x="121" y="512"/>
                    </a:lnTo>
                    <a:lnTo>
                      <a:pt x="136" y="501"/>
                    </a:lnTo>
                    <a:lnTo>
                      <a:pt x="149" y="498"/>
                    </a:lnTo>
                    <a:lnTo>
                      <a:pt x="160" y="493"/>
                    </a:lnTo>
                    <a:lnTo>
                      <a:pt x="170" y="486"/>
                    </a:lnTo>
                    <a:lnTo>
                      <a:pt x="181" y="479"/>
                    </a:lnTo>
                    <a:lnTo>
                      <a:pt x="191" y="471"/>
                    </a:lnTo>
                    <a:lnTo>
                      <a:pt x="200" y="465"/>
                    </a:lnTo>
                    <a:lnTo>
                      <a:pt x="211" y="460"/>
                    </a:lnTo>
                    <a:lnTo>
                      <a:pt x="222" y="455"/>
                    </a:lnTo>
                    <a:lnTo>
                      <a:pt x="233" y="445"/>
                    </a:lnTo>
                    <a:lnTo>
                      <a:pt x="246" y="434"/>
                    </a:lnTo>
                    <a:lnTo>
                      <a:pt x="259" y="424"/>
                    </a:lnTo>
                    <a:lnTo>
                      <a:pt x="273" y="415"/>
                    </a:lnTo>
                    <a:lnTo>
                      <a:pt x="286" y="405"/>
                    </a:lnTo>
                    <a:lnTo>
                      <a:pt x="300" y="395"/>
                    </a:lnTo>
                    <a:lnTo>
                      <a:pt x="314" y="386"/>
                    </a:lnTo>
                    <a:lnTo>
                      <a:pt x="328" y="376"/>
                    </a:lnTo>
                    <a:lnTo>
                      <a:pt x="342" y="368"/>
                    </a:lnTo>
                    <a:lnTo>
                      <a:pt x="355" y="358"/>
                    </a:lnTo>
                    <a:lnTo>
                      <a:pt x="369" y="348"/>
                    </a:lnTo>
                    <a:lnTo>
                      <a:pt x="383" y="339"/>
                    </a:lnTo>
                    <a:lnTo>
                      <a:pt x="397" y="329"/>
                    </a:lnTo>
                    <a:lnTo>
                      <a:pt x="410" y="320"/>
                    </a:lnTo>
                    <a:lnTo>
                      <a:pt x="423" y="309"/>
                    </a:lnTo>
                    <a:lnTo>
                      <a:pt x="436" y="298"/>
                    </a:lnTo>
                    <a:lnTo>
                      <a:pt x="450" y="290"/>
                    </a:lnTo>
                    <a:lnTo>
                      <a:pt x="465" y="281"/>
                    </a:lnTo>
                    <a:lnTo>
                      <a:pt x="480" y="272"/>
                    </a:lnTo>
                    <a:lnTo>
                      <a:pt x="495" y="261"/>
                    </a:lnTo>
                    <a:lnTo>
                      <a:pt x="509" y="250"/>
                    </a:lnTo>
                    <a:lnTo>
                      <a:pt x="519" y="238"/>
                    </a:lnTo>
                    <a:lnTo>
                      <a:pt x="528" y="226"/>
                    </a:lnTo>
                    <a:lnTo>
                      <a:pt x="533" y="212"/>
                    </a:lnTo>
                    <a:lnTo>
                      <a:pt x="538" y="200"/>
                    </a:lnTo>
                    <a:lnTo>
                      <a:pt x="545" y="188"/>
                    </a:lnTo>
                    <a:lnTo>
                      <a:pt x="554" y="178"/>
                    </a:lnTo>
                    <a:lnTo>
                      <a:pt x="563" y="167"/>
                    </a:lnTo>
                    <a:lnTo>
                      <a:pt x="571" y="156"/>
                    </a:lnTo>
                    <a:lnTo>
                      <a:pt x="575" y="144"/>
                    </a:lnTo>
                    <a:lnTo>
                      <a:pt x="574" y="133"/>
                    </a:lnTo>
                    <a:lnTo>
                      <a:pt x="565" y="120"/>
                    </a:lnTo>
                    <a:lnTo>
                      <a:pt x="557" y="121"/>
                    </a:lnTo>
                    <a:lnTo>
                      <a:pt x="554" y="126"/>
                    </a:lnTo>
                    <a:lnTo>
                      <a:pt x="550" y="133"/>
                    </a:lnTo>
                    <a:lnTo>
                      <a:pt x="545" y="138"/>
                    </a:lnTo>
                    <a:lnTo>
                      <a:pt x="531" y="153"/>
                    </a:lnTo>
                    <a:lnTo>
                      <a:pt x="516" y="167"/>
                    </a:lnTo>
                    <a:lnTo>
                      <a:pt x="501" y="181"/>
                    </a:lnTo>
                    <a:lnTo>
                      <a:pt x="486" y="195"/>
                    </a:lnTo>
                    <a:lnTo>
                      <a:pt x="471" y="207"/>
                    </a:lnTo>
                    <a:lnTo>
                      <a:pt x="456" y="220"/>
                    </a:lnTo>
                    <a:lnTo>
                      <a:pt x="440" y="233"/>
                    </a:lnTo>
                    <a:lnTo>
                      <a:pt x="425" y="245"/>
                    </a:lnTo>
                    <a:lnTo>
                      <a:pt x="409" y="258"/>
                    </a:lnTo>
                    <a:lnTo>
                      <a:pt x="393" y="269"/>
                    </a:lnTo>
                    <a:lnTo>
                      <a:pt x="377" y="281"/>
                    </a:lnTo>
                    <a:lnTo>
                      <a:pt x="361" y="293"/>
                    </a:lnTo>
                    <a:lnTo>
                      <a:pt x="344" y="305"/>
                    </a:lnTo>
                    <a:lnTo>
                      <a:pt x="328" y="316"/>
                    </a:lnTo>
                    <a:lnTo>
                      <a:pt x="311" y="329"/>
                    </a:lnTo>
                    <a:lnTo>
                      <a:pt x="293" y="341"/>
                    </a:lnTo>
                    <a:lnTo>
                      <a:pt x="293" y="348"/>
                    </a:lnTo>
                    <a:lnTo>
                      <a:pt x="282" y="357"/>
                    </a:lnTo>
                    <a:lnTo>
                      <a:pt x="271" y="366"/>
                    </a:lnTo>
                    <a:lnTo>
                      <a:pt x="259" y="373"/>
                    </a:lnTo>
                    <a:lnTo>
                      <a:pt x="246" y="381"/>
                    </a:lnTo>
                    <a:lnTo>
                      <a:pt x="235" y="388"/>
                    </a:lnTo>
                    <a:lnTo>
                      <a:pt x="223" y="394"/>
                    </a:lnTo>
                    <a:lnTo>
                      <a:pt x="210" y="401"/>
                    </a:lnTo>
                    <a:lnTo>
                      <a:pt x="198" y="407"/>
                    </a:lnTo>
                    <a:lnTo>
                      <a:pt x="185" y="414"/>
                    </a:lnTo>
                    <a:lnTo>
                      <a:pt x="172" y="419"/>
                    </a:lnTo>
                    <a:lnTo>
                      <a:pt x="161" y="425"/>
                    </a:lnTo>
                    <a:lnTo>
                      <a:pt x="148" y="431"/>
                    </a:lnTo>
                    <a:lnTo>
                      <a:pt x="136" y="437"/>
                    </a:lnTo>
                    <a:lnTo>
                      <a:pt x="123" y="443"/>
                    </a:lnTo>
                    <a:lnTo>
                      <a:pt x="111" y="449"/>
                    </a:lnTo>
                    <a:lnTo>
                      <a:pt x="100" y="455"/>
                    </a:lnTo>
                    <a:lnTo>
                      <a:pt x="101" y="448"/>
                    </a:lnTo>
                    <a:lnTo>
                      <a:pt x="104" y="441"/>
                    </a:lnTo>
                    <a:lnTo>
                      <a:pt x="108" y="435"/>
                    </a:lnTo>
                    <a:lnTo>
                      <a:pt x="115" y="429"/>
                    </a:lnTo>
                    <a:lnTo>
                      <a:pt x="121" y="423"/>
                    </a:lnTo>
                    <a:lnTo>
                      <a:pt x="127" y="418"/>
                    </a:lnTo>
                    <a:lnTo>
                      <a:pt x="132" y="414"/>
                    </a:lnTo>
                    <a:lnTo>
                      <a:pt x="136" y="409"/>
                    </a:lnTo>
                    <a:lnTo>
                      <a:pt x="149" y="397"/>
                    </a:lnTo>
                    <a:lnTo>
                      <a:pt x="162" y="384"/>
                    </a:lnTo>
                    <a:lnTo>
                      <a:pt x="176" y="370"/>
                    </a:lnTo>
                    <a:lnTo>
                      <a:pt x="188" y="356"/>
                    </a:lnTo>
                    <a:lnTo>
                      <a:pt x="202" y="342"/>
                    </a:lnTo>
                    <a:lnTo>
                      <a:pt x="216" y="330"/>
                    </a:lnTo>
                    <a:lnTo>
                      <a:pt x="229" y="319"/>
                    </a:lnTo>
                    <a:lnTo>
                      <a:pt x="243" y="309"/>
                    </a:lnTo>
                    <a:lnTo>
                      <a:pt x="254" y="298"/>
                    </a:lnTo>
                    <a:lnTo>
                      <a:pt x="264" y="286"/>
                    </a:lnTo>
                    <a:lnTo>
                      <a:pt x="275" y="276"/>
                    </a:lnTo>
                    <a:lnTo>
                      <a:pt x="287" y="265"/>
                    </a:lnTo>
                    <a:lnTo>
                      <a:pt x="299" y="253"/>
                    </a:lnTo>
                    <a:lnTo>
                      <a:pt x="311" y="243"/>
                    </a:lnTo>
                    <a:lnTo>
                      <a:pt x="322" y="232"/>
                    </a:lnTo>
                    <a:lnTo>
                      <a:pt x="334" y="220"/>
                    </a:lnTo>
                    <a:lnTo>
                      <a:pt x="346" y="210"/>
                    </a:lnTo>
                    <a:lnTo>
                      <a:pt x="358" y="198"/>
                    </a:lnTo>
                    <a:lnTo>
                      <a:pt x="369" y="187"/>
                    </a:lnTo>
                    <a:lnTo>
                      <a:pt x="381" y="175"/>
                    </a:lnTo>
                    <a:lnTo>
                      <a:pt x="392" y="164"/>
                    </a:lnTo>
                    <a:lnTo>
                      <a:pt x="403" y="151"/>
                    </a:lnTo>
                    <a:lnTo>
                      <a:pt x="413" y="139"/>
                    </a:lnTo>
                    <a:lnTo>
                      <a:pt x="423" y="126"/>
                    </a:lnTo>
                    <a:lnTo>
                      <a:pt x="441" y="108"/>
                    </a:lnTo>
                    <a:lnTo>
                      <a:pt x="458" y="87"/>
                    </a:lnTo>
                    <a:lnTo>
                      <a:pt x="474" y="63"/>
                    </a:lnTo>
                    <a:lnTo>
                      <a:pt x="490" y="40"/>
                    </a:lnTo>
                    <a:lnTo>
                      <a:pt x="510" y="20"/>
                    </a:lnTo>
                    <a:lnTo>
                      <a:pt x="531" y="7"/>
                    </a:lnTo>
                    <a:lnTo>
                      <a:pt x="558" y="0"/>
                    </a:lnTo>
                    <a:lnTo>
                      <a:pt x="591" y="4"/>
                    </a:lnTo>
                    <a:lnTo>
                      <a:pt x="603" y="12"/>
                    </a:lnTo>
                    <a:lnTo>
                      <a:pt x="609" y="23"/>
                    </a:lnTo>
                    <a:lnTo>
                      <a:pt x="614" y="34"/>
                    </a:lnTo>
                    <a:lnTo>
                      <a:pt x="616" y="46"/>
                    </a:lnTo>
                    <a:lnTo>
                      <a:pt x="616" y="60"/>
                    </a:lnTo>
                    <a:lnTo>
                      <a:pt x="616" y="74"/>
                    </a:lnTo>
                    <a:lnTo>
                      <a:pt x="617" y="88"/>
                    </a:lnTo>
                    <a:lnTo>
                      <a:pt x="619" y="101"/>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flipH="1">
                <a:off x="538200" y="2292120"/>
                <a:ext cx="140400" cy="75960"/>
              </a:xfrm>
              <a:custGeom>
                <a:avLst/>
                <a:gdLst/>
                <a:ahLst/>
                <a:rect l="l" t="t" r="r" b="b"/>
                <a:pathLst>
                  <a:path w="680" h="309">
                    <a:moveTo>
                      <a:pt x="658" y="49"/>
                    </a:moveTo>
                    <a:lnTo>
                      <a:pt x="660" y="54"/>
                    </a:lnTo>
                    <a:lnTo>
                      <a:pt x="663" y="59"/>
                    </a:lnTo>
                    <a:lnTo>
                      <a:pt x="667" y="63"/>
                    </a:lnTo>
                    <a:lnTo>
                      <a:pt x="672" y="66"/>
                    </a:lnTo>
                    <a:lnTo>
                      <a:pt x="680" y="66"/>
                    </a:lnTo>
                    <a:lnTo>
                      <a:pt x="671" y="85"/>
                    </a:lnTo>
                    <a:lnTo>
                      <a:pt x="660" y="101"/>
                    </a:lnTo>
                    <a:lnTo>
                      <a:pt x="646" y="117"/>
                    </a:lnTo>
                    <a:lnTo>
                      <a:pt x="632" y="131"/>
                    </a:lnTo>
                    <a:lnTo>
                      <a:pt x="616" y="144"/>
                    </a:lnTo>
                    <a:lnTo>
                      <a:pt x="600" y="156"/>
                    </a:lnTo>
                    <a:lnTo>
                      <a:pt x="584" y="170"/>
                    </a:lnTo>
                    <a:lnTo>
                      <a:pt x="568" y="184"/>
                    </a:lnTo>
                    <a:lnTo>
                      <a:pt x="552" y="196"/>
                    </a:lnTo>
                    <a:lnTo>
                      <a:pt x="535" y="208"/>
                    </a:lnTo>
                    <a:lnTo>
                      <a:pt x="519" y="217"/>
                    </a:lnTo>
                    <a:lnTo>
                      <a:pt x="502" y="227"/>
                    </a:lnTo>
                    <a:lnTo>
                      <a:pt x="484" y="236"/>
                    </a:lnTo>
                    <a:lnTo>
                      <a:pt x="466" y="244"/>
                    </a:lnTo>
                    <a:lnTo>
                      <a:pt x="448" y="252"/>
                    </a:lnTo>
                    <a:lnTo>
                      <a:pt x="430" y="258"/>
                    </a:lnTo>
                    <a:lnTo>
                      <a:pt x="411" y="264"/>
                    </a:lnTo>
                    <a:lnTo>
                      <a:pt x="393" y="270"/>
                    </a:lnTo>
                    <a:lnTo>
                      <a:pt x="373" y="275"/>
                    </a:lnTo>
                    <a:lnTo>
                      <a:pt x="354" y="280"/>
                    </a:lnTo>
                    <a:lnTo>
                      <a:pt x="335" y="285"/>
                    </a:lnTo>
                    <a:lnTo>
                      <a:pt x="314" y="290"/>
                    </a:lnTo>
                    <a:lnTo>
                      <a:pt x="295" y="294"/>
                    </a:lnTo>
                    <a:lnTo>
                      <a:pt x="275" y="299"/>
                    </a:lnTo>
                    <a:lnTo>
                      <a:pt x="264" y="300"/>
                    </a:lnTo>
                    <a:lnTo>
                      <a:pt x="253" y="302"/>
                    </a:lnTo>
                    <a:lnTo>
                      <a:pt x="242" y="303"/>
                    </a:lnTo>
                    <a:lnTo>
                      <a:pt x="231" y="305"/>
                    </a:lnTo>
                    <a:lnTo>
                      <a:pt x="219" y="306"/>
                    </a:lnTo>
                    <a:lnTo>
                      <a:pt x="208" y="307"/>
                    </a:lnTo>
                    <a:lnTo>
                      <a:pt x="198" y="308"/>
                    </a:lnTo>
                    <a:lnTo>
                      <a:pt x="186" y="309"/>
                    </a:lnTo>
                    <a:lnTo>
                      <a:pt x="175" y="309"/>
                    </a:lnTo>
                    <a:lnTo>
                      <a:pt x="165" y="308"/>
                    </a:lnTo>
                    <a:lnTo>
                      <a:pt x="154" y="307"/>
                    </a:lnTo>
                    <a:lnTo>
                      <a:pt x="143" y="306"/>
                    </a:lnTo>
                    <a:lnTo>
                      <a:pt x="132" y="304"/>
                    </a:lnTo>
                    <a:lnTo>
                      <a:pt x="122" y="301"/>
                    </a:lnTo>
                    <a:lnTo>
                      <a:pt x="112" y="296"/>
                    </a:lnTo>
                    <a:lnTo>
                      <a:pt x="102" y="291"/>
                    </a:lnTo>
                    <a:lnTo>
                      <a:pt x="93" y="290"/>
                    </a:lnTo>
                    <a:lnTo>
                      <a:pt x="82" y="289"/>
                    </a:lnTo>
                    <a:lnTo>
                      <a:pt x="72" y="288"/>
                    </a:lnTo>
                    <a:lnTo>
                      <a:pt x="63" y="285"/>
                    </a:lnTo>
                    <a:lnTo>
                      <a:pt x="53" y="283"/>
                    </a:lnTo>
                    <a:lnTo>
                      <a:pt x="45" y="278"/>
                    </a:lnTo>
                    <a:lnTo>
                      <a:pt x="36" y="273"/>
                    </a:lnTo>
                    <a:lnTo>
                      <a:pt x="28" y="267"/>
                    </a:lnTo>
                    <a:lnTo>
                      <a:pt x="46" y="258"/>
                    </a:lnTo>
                    <a:lnTo>
                      <a:pt x="65" y="249"/>
                    </a:lnTo>
                    <a:lnTo>
                      <a:pt x="83" y="243"/>
                    </a:lnTo>
                    <a:lnTo>
                      <a:pt x="102" y="237"/>
                    </a:lnTo>
                    <a:lnTo>
                      <a:pt x="122" y="230"/>
                    </a:lnTo>
                    <a:lnTo>
                      <a:pt x="141" y="223"/>
                    </a:lnTo>
                    <a:lnTo>
                      <a:pt x="160" y="215"/>
                    </a:lnTo>
                    <a:lnTo>
                      <a:pt x="178" y="206"/>
                    </a:lnTo>
                    <a:lnTo>
                      <a:pt x="195" y="201"/>
                    </a:lnTo>
                    <a:lnTo>
                      <a:pt x="211" y="196"/>
                    </a:lnTo>
                    <a:lnTo>
                      <a:pt x="227" y="192"/>
                    </a:lnTo>
                    <a:lnTo>
                      <a:pt x="243" y="186"/>
                    </a:lnTo>
                    <a:lnTo>
                      <a:pt x="260" y="182"/>
                    </a:lnTo>
                    <a:lnTo>
                      <a:pt x="276" y="177"/>
                    </a:lnTo>
                    <a:lnTo>
                      <a:pt x="292" y="172"/>
                    </a:lnTo>
                    <a:lnTo>
                      <a:pt x="308" y="168"/>
                    </a:lnTo>
                    <a:lnTo>
                      <a:pt x="325" y="163"/>
                    </a:lnTo>
                    <a:lnTo>
                      <a:pt x="341" y="159"/>
                    </a:lnTo>
                    <a:lnTo>
                      <a:pt x="357" y="154"/>
                    </a:lnTo>
                    <a:lnTo>
                      <a:pt x="374" y="149"/>
                    </a:lnTo>
                    <a:lnTo>
                      <a:pt x="390" y="145"/>
                    </a:lnTo>
                    <a:lnTo>
                      <a:pt x="407" y="140"/>
                    </a:lnTo>
                    <a:lnTo>
                      <a:pt x="424" y="135"/>
                    </a:lnTo>
                    <a:lnTo>
                      <a:pt x="440" y="131"/>
                    </a:lnTo>
                    <a:lnTo>
                      <a:pt x="457" y="128"/>
                    </a:lnTo>
                    <a:lnTo>
                      <a:pt x="474" y="123"/>
                    </a:lnTo>
                    <a:lnTo>
                      <a:pt x="490" y="118"/>
                    </a:lnTo>
                    <a:lnTo>
                      <a:pt x="507" y="113"/>
                    </a:lnTo>
                    <a:lnTo>
                      <a:pt x="523" y="107"/>
                    </a:lnTo>
                    <a:lnTo>
                      <a:pt x="539" y="102"/>
                    </a:lnTo>
                    <a:lnTo>
                      <a:pt x="556" y="98"/>
                    </a:lnTo>
                    <a:lnTo>
                      <a:pt x="572" y="94"/>
                    </a:lnTo>
                    <a:lnTo>
                      <a:pt x="577" y="92"/>
                    </a:lnTo>
                    <a:lnTo>
                      <a:pt x="582" y="91"/>
                    </a:lnTo>
                    <a:lnTo>
                      <a:pt x="587" y="91"/>
                    </a:lnTo>
                    <a:lnTo>
                      <a:pt x="594" y="90"/>
                    </a:lnTo>
                    <a:lnTo>
                      <a:pt x="598" y="89"/>
                    </a:lnTo>
                    <a:lnTo>
                      <a:pt x="602" y="87"/>
                    </a:lnTo>
                    <a:lnTo>
                      <a:pt x="606" y="83"/>
                    </a:lnTo>
                    <a:lnTo>
                      <a:pt x="608" y="76"/>
                    </a:lnTo>
                    <a:lnTo>
                      <a:pt x="600" y="71"/>
                    </a:lnTo>
                    <a:lnTo>
                      <a:pt x="592" y="67"/>
                    </a:lnTo>
                    <a:lnTo>
                      <a:pt x="582" y="65"/>
                    </a:lnTo>
                    <a:lnTo>
                      <a:pt x="572" y="63"/>
                    </a:lnTo>
                    <a:lnTo>
                      <a:pt x="563" y="63"/>
                    </a:lnTo>
                    <a:lnTo>
                      <a:pt x="552" y="63"/>
                    </a:lnTo>
                    <a:lnTo>
                      <a:pt x="541" y="63"/>
                    </a:lnTo>
                    <a:lnTo>
                      <a:pt x="532" y="62"/>
                    </a:lnTo>
                    <a:lnTo>
                      <a:pt x="520" y="67"/>
                    </a:lnTo>
                    <a:lnTo>
                      <a:pt x="508" y="71"/>
                    </a:lnTo>
                    <a:lnTo>
                      <a:pt x="496" y="74"/>
                    </a:lnTo>
                    <a:lnTo>
                      <a:pt x="486" y="77"/>
                    </a:lnTo>
                    <a:lnTo>
                      <a:pt x="474" y="80"/>
                    </a:lnTo>
                    <a:lnTo>
                      <a:pt x="462" y="82"/>
                    </a:lnTo>
                    <a:lnTo>
                      <a:pt x="450" y="84"/>
                    </a:lnTo>
                    <a:lnTo>
                      <a:pt x="439" y="86"/>
                    </a:lnTo>
                    <a:lnTo>
                      <a:pt x="427" y="88"/>
                    </a:lnTo>
                    <a:lnTo>
                      <a:pt x="415" y="90"/>
                    </a:lnTo>
                    <a:lnTo>
                      <a:pt x="403" y="91"/>
                    </a:lnTo>
                    <a:lnTo>
                      <a:pt x="392" y="94"/>
                    </a:lnTo>
                    <a:lnTo>
                      <a:pt x="380" y="97"/>
                    </a:lnTo>
                    <a:lnTo>
                      <a:pt x="368" y="99"/>
                    </a:lnTo>
                    <a:lnTo>
                      <a:pt x="355" y="103"/>
                    </a:lnTo>
                    <a:lnTo>
                      <a:pt x="343" y="106"/>
                    </a:lnTo>
                    <a:lnTo>
                      <a:pt x="331" y="108"/>
                    </a:lnTo>
                    <a:lnTo>
                      <a:pt x="319" y="110"/>
                    </a:lnTo>
                    <a:lnTo>
                      <a:pt x="306" y="114"/>
                    </a:lnTo>
                    <a:lnTo>
                      <a:pt x="294" y="116"/>
                    </a:lnTo>
                    <a:lnTo>
                      <a:pt x="282" y="119"/>
                    </a:lnTo>
                    <a:lnTo>
                      <a:pt x="271" y="122"/>
                    </a:lnTo>
                    <a:lnTo>
                      <a:pt x="259" y="124"/>
                    </a:lnTo>
                    <a:lnTo>
                      <a:pt x="247" y="128"/>
                    </a:lnTo>
                    <a:lnTo>
                      <a:pt x="235" y="132"/>
                    </a:lnTo>
                    <a:lnTo>
                      <a:pt x="225" y="135"/>
                    </a:lnTo>
                    <a:lnTo>
                      <a:pt x="213" y="138"/>
                    </a:lnTo>
                    <a:lnTo>
                      <a:pt x="201" y="143"/>
                    </a:lnTo>
                    <a:lnTo>
                      <a:pt x="189" y="147"/>
                    </a:lnTo>
                    <a:lnTo>
                      <a:pt x="177" y="151"/>
                    </a:lnTo>
                    <a:lnTo>
                      <a:pt x="165" y="155"/>
                    </a:lnTo>
                    <a:lnTo>
                      <a:pt x="153" y="160"/>
                    </a:lnTo>
                    <a:lnTo>
                      <a:pt x="134" y="164"/>
                    </a:lnTo>
                    <a:lnTo>
                      <a:pt x="114" y="168"/>
                    </a:lnTo>
                    <a:lnTo>
                      <a:pt x="94" y="172"/>
                    </a:lnTo>
                    <a:lnTo>
                      <a:pt x="75" y="177"/>
                    </a:lnTo>
                    <a:lnTo>
                      <a:pt x="54" y="181"/>
                    </a:lnTo>
                    <a:lnTo>
                      <a:pt x="35" y="184"/>
                    </a:lnTo>
                    <a:lnTo>
                      <a:pt x="17" y="188"/>
                    </a:lnTo>
                    <a:lnTo>
                      <a:pt x="0" y="192"/>
                    </a:lnTo>
                    <a:lnTo>
                      <a:pt x="4" y="185"/>
                    </a:lnTo>
                    <a:lnTo>
                      <a:pt x="10" y="180"/>
                    </a:lnTo>
                    <a:lnTo>
                      <a:pt x="17" y="175"/>
                    </a:lnTo>
                    <a:lnTo>
                      <a:pt x="24" y="169"/>
                    </a:lnTo>
                    <a:lnTo>
                      <a:pt x="32" y="164"/>
                    </a:lnTo>
                    <a:lnTo>
                      <a:pt x="40" y="160"/>
                    </a:lnTo>
                    <a:lnTo>
                      <a:pt x="48" y="155"/>
                    </a:lnTo>
                    <a:lnTo>
                      <a:pt x="56" y="152"/>
                    </a:lnTo>
                    <a:lnTo>
                      <a:pt x="76" y="141"/>
                    </a:lnTo>
                    <a:lnTo>
                      <a:pt x="95" y="132"/>
                    </a:lnTo>
                    <a:lnTo>
                      <a:pt x="115" y="122"/>
                    </a:lnTo>
                    <a:lnTo>
                      <a:pt x="136" y="114"/>
                    </a:lnTo>
                    <a:lnTo>
                      <a:pt x="156" y="105"/>
                    </a:lnTo>
                    <a:lnTo>
                      <a:pt x="175" y="96"/>
                    </a:lnTo>
                    <a:lnTo>
                      <a:pt x="193" y="85"/>
                    </a:lnTo>
                    <a:lnTo>
                      <a:pt x="211" y="73"/>
                    </a:lnTo>
                    <a:lnTo>
                      <a:pt x="221" y="68"/>
                    </a:lnTo>
                    <a:lnTo>
                      <a:pt x="233" y="63"/>
                    </a:lnTo>
                    <a:lnTo>
                      <a:pt x="245" y="60"/>
                    </a:lnTo>
                    <a:lnTo>
                      <a:pt x="258" y="56"/>
                    </a:lnTo>
                    <a:lnTo>
                      <a:pt x="268" y="53"/>
                    </a:lnTo>
                    <a:lnTo>
                      <a:pt x="280" y="47"/>
                    </a:lnTo>
                    <a:lnTo>
                      <a:pt x="291" y="42"/>
                    </a:lnTo>
                    <a:lnTo>
                      <a:pt x="301" y="35"/>
                    </a:lnTo>
                    <a:lnTo>
                      <a:pt x="311" y="36"/>
                    </a:lnTo>
                    <a:lnTo>
                      <a:pt x="320" y="35"/>
                    </a:lnTo>
                    <a:lnTo>
                      <a:pt x="329" y="32"/>
                    </a:lnTo>
                    <a:lnTo>
                      <a:pt x="338" y="28"/>
                    </a:lnTo>
                    <a:lnTo>
                      <a:pt x="345" y="25"/>
                    </a:lnTo>
                    <a:lnTo>
                      <a:pt x="354" y="21"/>
                    </a:lnTo>
                    <a:lnTo>
                      <a:pt x="363" y="19"/>
                    </a:lnTo>
                    <a:lnTo>
                      <a:pt x="371" y="16"/>
                    </a:lnTo>
                    <a:lnTo>
                      <a:pt x="388" y="13"/>
                    </a:lnTo>
                    <a:lnTo>
                      <a:pt x="407" y="10"/>
                    </a:lnTo>
                    <a:lnTo>
                      <a:pt x="425" y="8"/>
                    </a:lnTo>
                    <a:lnTo>
                      <a:pt x="444" y="5"/>
                    </a:lnTo>
                    <a:lnTo>
                      <a:pt x="463" y="3"/>
                    </a:lnTo>
                    <a:lnTo>
                      <a:pt x="481" y="0"/>
                    </a:lnTo>
                    <a:lnTo>
                      <a:pt x="501" y="0"/>
                    </a:lnTo>
                    <a:lnTo>
                      <a:pt x="520" y="0"/>
                    </a:lnTo>
                    <a:lnTo>
                      <a:pt x="539" y="2"/>
                    </a:lnTo>
                    <a:lnTo>
                      <a:pt x="557" y="4"/>
                    </a:lnTo>
                    <a:lnTo>
                      <a:pt x="577" y="7"/>
                    </a:lnTo>
                    <a:lnTo>
                      <a:pt x="594" y="11"/>
                    </a:lnTo>
                    <a:lnTo>
                      <a:pt x="611" y="18"/>
                    </a:lnTo>
                    <a:lnTo>
                      <a:pt x="628" y="26"/>
                    </a:lnTo>
                    <a:lnTo>
                      <a:pt x="643" y="37"/>
                    </a:lnTo>
                    <a:lnTo>
                      <a:pt x="658" y="49"/>
                    </a:lnTo>
                    <a:close/>
                  </a:path>
                </a:pathLst>
              </a:custGeom>
              <a:solidFill>
                <a:srgbClr val="8959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92" name=""/>
              <p:cNvSpPr/>
              <p:nvPr/>
            </p:nvSpPr>
            <p:spPr>
              <a:xfrm flipH="1">
                <a:off x="614160" y="2385360"/>
                <a:ext cx="98280" cy="55080"/>
              </a:xfrm>
              <a:custGeom>
                <a:avLst/>
                <a:gdLst/>
                <a:ahLst/>
                <a:rect l="l" t="t" r="r" b="b"/>
                <a:pathLst>
                  <a:path w="479" h="225">
                    <a:moveTo>
                      <a:pt x="386" y="18"/>
                    </a:moveTo>
                    <a:lnTo>
                      <a:pt x="400" y="22"/>
                    </a:lnTo>
                    <a:lnTo>
                      <a:pt x="414" y="27"/>
                    </a:lnTo>
                    <a:lnTo>
                      <a:pt x="427" y="34"/>
                    </a:lnTo>
                    <a:lnTo>
                      <a:pt x="440" y="41"/>
                    </a:lnTo>
                    <a:lnTo>
                      <a:pt x="451" y="50"/>
                    </a:lnTo>
                    <a:lnTo>
                      <a:pt x="461" y="58"/>
                    </a:lnTo>
                    <a:lnTo>
                      <a:pt x="471" y="69"/>
                    </a:lnTo>
                    <a:lnTo>
                      <a:pt x="479" y="81"/>
                    </a:lnTo>
                    <a:lnTo>
                      <a:pt x="473" y="99"/>
                    </a:lnTo>
                    <a:lnTo>
                      <a:pt x="464" y="118"/>
                    </a:lnTo>
                    <a:lnTo>
                      <a:pt x="456" y="136"/>
                    </a:lnTo>
                    <a:lnTo>
                      <a:pt x="444" y="154"/>
                    </a:lnTo>
                    <a:lnTo>
                      <a:pt x="431" y="170"/>
                    </a:lnTo>
                    <a:lnTo>
                      <a:pt x="417" y="181"/>
                    </a:lnTo>
                    <a:lnTo>
                      <a:pt x="400" y="191"/>
                    </a:lnTo>
                    <a:lnTo>
                      <a:pt x="380" y="195"/>
                    </a:lnTo>
                    <a:lnTo>
                      <a:pt x="368" y="204"/>
                    </a:lnTo>
                    <a:lnTo>
                      <a:pt x="356" y="210"/>
                    </a:lnTo>
                    <a:lnTo>
                      <a:pt x="344" y="215"/>
                    </a:lnTo>
                    <a:lnTo>
                      <a:pt x="331" y="220"/>
                    </a:lnTo>
                    <a:lnTo>
                      <a:pt x="320" y="223"/>
                    </a:lnTo>
                    <a:lnTo>
                      <a:pt x="307" y="225"/>
                    </a:lnTo>
                    <a:lnTo>
                      <a:pt x="294" y="225"/>
                    </a:lnTo>
                    <a:lnTo>
                      <a:pt x="281" y="225"/>
                    </a:lnTo>
                    <a:lnTo>
                      <a:pt x="267" y="225"/>
                    </a:lnTo>
                    <a:lnTo>
                      <a:pt x="254" y="224"/>
                    </a:lnTo>
                    <a:lnTo>
                      <a:pt x="240" y="223"/>
                    </a:lnTo>
                    <a:lnTo>
                      <a:pt x="226" y="222"/>
                    </a:lnTo>
                    <a:lnTo>
                      <a:pt x="213" y="220"/>
                    </a:lnTo>
                    <a:lnTo>
                      <a:pt x="198" y="219"/>
                    </a:lnTo>
                    <a:lnTo>
                      <a:pt x="184" y="218"/>
                    </a:lnTo>
                    <a:lnTo>
                      <a:pt x="169" y="218"/>
                    </a:lnTo>
                    <a:lnTo>
                      <a:pt x="163" y="211"/>
                    </a:lnTo>
                    <a:lnTo>
                      <a:pt x="158" y="209"/>
                    </a:lnTo>
                    <a:lnTo>
                      <a:pt x="154" y="210"/>
                    </a:lnTo>
                    <a:lnTo>
                      <a:pt x="148" y="213"/>
                    </a:lnTo>
                    <a:lnTo>
                      <a:pt x="144" y="217"/>
                    </a:lnTo>
                    <a:lnTo>
                      <a:pt x="139" y="218"/>
                    </a:lnTo>
                    <a:lnTo>
                      <a:pt x="134" y="217"/>
                    </a:lnTo>
                    <a:lnTo>
                      <a:pt x="129" y="210"/>
                    </a:lnTo>
                    <a:lnTo>
                      <a:pt x="112" y="209"/>
                    </a:lnTo>
                    <a:lnTo>
                      <a:pt x="97" y="204"/>
                    </a:lnTo>
                    <a:lnTo>
                      <a:pt x="85" y="195"/>
                    </a:lnTo>
                    <a:lnTo>
                      <a:pt x="74" y="186"/>
                    </a:lnTo>
                    <a:lnTo>
                      <a:pt x="64" y="174"/>
                    </a:lnTo>
                    <a:lnTo>
                      <a:pt x="54" y="162"/>
                    </a:lnTo>
                    <a:lnTo>
                      <a:pt x="42" y="152"/>
                    </a:lnTo>
                    <a:lnTo>
                      <a:pt x="28" y="145"/>
                    </a:lnTo>
                    <a:lnTo>
                      <a:pt x="17" y="127"/>
                    </a:lnTo>
                    <a:lnTo>
                      <a:pt x="27" y="123"/>
                    </a:lnTo>
                    <a:lnTo>
                      <a:pt x="38" y="119"/>
                    </a:lnTo>
                    <a:lnTo>
                      <a:pt x="49" y="117"/>
                    </a:lnTo>
                    <a:lnTo>
                      <a:pt x="59" y="115"/>
                    </a:lnTo>
                    <a:lnTo>
                      <a:pt x="71" y="114"/>
                    </a:lnTo>
                    <a:lnTo>
                      <a:pt x="82" y="113"/>
                    </a:lnTo>
                    <a:lnTo>
                      <a:pt x="93" y="112"/>
                    </a:lnTo>
                    <a:lnTo>
                      <a:pt x="104" y="112"/>
                    </a:lnTo>
                    <a:lnTo>
                      <a:pt x="115" y="111"/>
                    </a:lnTo>
                    <a:lnTo>
                      <a:pt x="126" y="111"/>
                    </a:lnTo>
                    <a:lnTo>
                      <a:pt x="138" y="111"/>
                    </a:lnTo>
                    <a:lnTo>
                      <a:pt x="148" y="112"/>
                    </a:lnTo>
                    <a:lnTo>
                      <a:pt x="159" y="111"/>
                    </a:lnTo>
                    <a:lnTo>
                      <a:pt x="171" y="111"/>
                    </a:lnTo>
                    <a:lnTo>
                      <a:pt x="182" y="111"/>
                    </a:lnTo>
                    <a:lnTo>
                      <a:pt x="192" y="110"/>
                    </a:lnTo>
                    <a:lnTo>
                      <a:pt x="355" y="106"/>
                    </a:lnTo>
                    <a:lnTo>
                      <a:pt x="359" y="108"/>
                    </a:lnTo>
                    <a:lnTo>
                      <a:pt x="364" y="110"/>
                    </a:lnTo>
                    <a:lnTo>
                      <a:pt x="368" y="111"/>
                    </a:lnTo>
                    <a:lnTo>
                      <a:pt x="371" y="113"/>
                    </a:lnTo>
                    <a:lnTo>
                      <a:pt x="375" y="114"/>
                    </a:lnTo>
                    <a:lnTo>
                      <a:pt x="380" y="115"/>
                    </a:lnTo>
                    <a:lnTo>
                      <a:pt x="385" y="115"/>
                    </a:lnTo>
                    <a:lnTo>
                      <a:pt x="390" y="114"/>
                    </a:lnTo>
                    <a:lnTo>
                      <a:pt x="401" y="103"/>
                    </a:lnTo>
                    <a:lnTo>
                      <a:pt x="390" y="97"/>
                    </a:lnTo>
                    <a:lnTo>
                      <a:pt x="380" y="92"/>
                    </a:lnTo>
                    <a:lnTo>
                      <a:pt x="369" y="87"/>
                    </a:lnTo>
                    <a:lnTo>
                      <a:pt x="358" y="84"/>
                    </a:lnTo>
                    <a:lnTo>
                      <a:pt x="347" y="82"/>
                    </a:lnTo>
                    <a:lnTo>
                      <a:pt x="337" y="81"/>
                    </a:lnTo>
                    <a:lnTo>
                      <a:pt x="326" y="80"/>
                    </a:lnTo>
                    <a:lnTo>
                      <a:pt x="314" y="79"/>
                    </a:lnTo>
                    <a:lnTo>
                      <a:pt x="295" y="76"/>
                    </a:lnTo>
                    <a:lnTo>
                      <a:pt x="275" y="72"/>
                    </a:lnTo>
                    <a:lnTo>
                      <a:pt x="254" y="69"/>
                    </a:lnTo>
                    <a:lnTo>
                      <a:pt x="235" y="67"/>
                    </a:lnTo>
                    <a:lnTo>
                      <a:pt x="215" y="65"/>
                    </a:lnTo>
                    <a:lnTo>
                      <a:pt x="194" y="63"/>
                    </a:lnTo>
                    <a:lnTo>
                      <a:pt x="174" y="61"/>
                    </a:lnTo>
                    <a:lnTo>
                      <a:pt x="154" y="57"/>
                    </a:lnTo>
                    <a:lnTo>
                      <a:pt x="133" y="55"/>
                    </a:lnTo>
                    <a:lnTo>
                      <a:pt x="114" y="52"/>
                    </a:lnTo>
                    <a:lnTo>
                      <a:pt x="94" y="49"/>
                    </a:lnTo>
                    <a:lnTo>
                      <a:pt x="74" y="45"/>
                    </a:lnTo>
                    <a:lnTo>
                      <a:pt x="55" y="39"/>
                    </a:lnTo>
                    <a:lnTo>
                      <a:pt x="36" y="33"/>
                    </a:lnTo>
                    <a:lnTo>
                      <a:pt x="18" y="26"/>
                    </a:lnTo>
                    <a:lnTo>
                      <a:pt x="0" y="18"/>
                    </a:lnTo>
                    <a:lnTo>
                      <a:pt x="3" y="12"/>
                    </a:lnTo>
                    <a:lnTo>
                      <a:pt x="7" y="8"/>
                    </a:lnTo>
                    <a:lnTo>
                      <a:pt x="13" y="6"/>
                    </a:lnTo>
                    <a:lnTo>
                      <a:pt x="21" y="5"/>
                    </a:lnTo>
                    <a:lnTo>
                      <a:pt x="28" y="4"/>
                    </a:lnTo>
                    <a:lnTo>
                      <a:pt x="36" y="3"/>
                    </a:lnTo>
                    <a:lnTo>
                      <a:pt x="43" y="2"/>
                    </a:lnTo>
                    <a:lnTo>
                      <a:pt x="50" y="0"/>
                    </a:lnTo>
                    <a:lnTo>
                      <a:pt x="72" y="0"/>
                    </a:lnTo>
                    <a:lnTo>
                      <a:pt x="94" y="0"/>
                    </a:lnTo>
                    <a:lnTo>
                      <a:pt x="115" y="0"/>
                    </a:lnTo>
                    <a:lnTo>
                      <a:pt x="135" y="1"/>
                    </a:lnTo>
                    <a:lnTo>
                      <a:pt x="157" y="2"/>
                    </a:lnTo>
                    <a:lnTo>
                      <a:pt x="177" y="3"/>
                    </a:lnTo>
                    <a:lnTo>
                      <a:pt x="198" y="4"/>
                    </a:lnTo>
                    <a:lnTo>
                      <a:pt x="218" y="5"/>
                    </a:lnTo>
                    <a:lnTo>
                      <a:pt x="238" y="7"/>
                    </a:lnTo>
                    <a:lnTo>
                      <a:pt x="259" y="9"/>
                    </a:lnTo>
                    <a:lnTo>
                      <a:pt x="279" y="10"/>
                    </a:lnTo>
                    <a:lnTo>
                      <a:pt x="299" y="12"/>
                    </a:lnTo>
                    <a:lnTo>
                      <a:pt x="321" y="14"/>
                    </a:lnTo>
                    <a:lnTo>
                      <a:pt x="342" y="16"/>
                    </a:lnTo>
                    <a:lnTo>
                      <a:pt x="364" y="17"/>
                    </a:lnTo>
                    <a:lnTo>
                      <a:pt x="386" y="18"/>
                    </a:lnTo>
                    <a:close/>
                  </a:path>
                </a:pathLst>
              </a:custGeom>
              <a:solidFill>
                <a:srgbClr val="d6c4a5"/>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93" name=""/>
              <p:cNvSpPr/>
              <p:nvPr/>
            </p:nvSpPr>
            <p:spPr>
              <a:xfrm flipH="1">
                <a:off x="660240" y="2439360"/>
                <a:ext cx="90000" cy="63720"/>
              </a:xfrm>
              <a:custGeom>
                <a:avLst/>
                <a:gdLst/>
                <a:ahLst/>
                <a:rect l="l" t="t" r="r" b="b"/>
                <a:pathLst>
                  <a:path w="434" h="260">
                    <a:moveTo>
                      <a:pt x="330" y="36"/>
                    </a:moveTo>
                    <a:lnTo>
                      <a:pt x="339" y="39"/>
                    </a:lnTo>
                    <a:lnTo>
                      <a:pt x="349" y="42"/>
                    </a:lnTo>
                    <a:lnTo>
                      <a:pt x="358" y="45"/>
                    </a:lnTo>
                    <a:lnTo>
                      <a:pt x="367" y="47"/>
                    </a:lnTo>
                    <a:lnTo>
                      <a:pt x="376" y="50"/>
                    </a:lnTo>
                    <a:lnTo>
                      <a:pt x="385" y="52"/>
                    </a:lnTo>
                    <a:lnTo>
                      <a:pt x="395" y="53"/>
                    </a:lnTo>
                    <a:lnTo>
                      <a:pt x="406" y="55"/>
                    </a:lnTo>
                    <a:lnTo>
                      <a:pt x="417" y="65"/>
                    </a:lnTo>
                    <a:lnTo>
                      <a:pt x="425" y="76"/>
                    </a:lnTo>
                    <a:lnTo>
                      <a:pt x="430" y="89"/>
                    </a:lnTo>
                    <a:lnTo>
                      <a:pt x="434" y="104"/>
                    </a:lnTo>
                    <a:lnTo>
                      <a:pt x="420" y="122"/>
                    </a:lnTo>
                    <a:lnTo>
                      <a:pt x="407" y="141"/>
                    </a:lnTo>
                    <a:lnTo>
                      <a:pt x="394" y="159"/>
                    </a:lnTo>
                    <a:lnTo>
                      <a:pt x="381" y="177"/>
                    </a:lnTo>
                    <a:lnTo>
                      <a:pt x="366" y="193"/>
                    </a:lnTo>
                    <a:lnTo>
                      <a:pt x="351" y="208"/>
                    </a:lnTo>
                    <a:lnTo>
                      <a:pt x="333" y="222"/>
                    </a:lnTo>
                    <a:lnTo>
                      <a:pt x="311" y="233"/>
                    </a:lnTo>
                    <a:lnTo>
                      <a:pt x="292" y="238"/>
                    </a:lnTo>
                    <a:lnTo>
                      <a:pt x="273" y="244"/>
                    </a:lnTo>
                    <a:lnTo>
                      <a:pt x="253" y="248"/>
                    </a:lnTo>
                    <a:lnTo>
                      <a:pt x="233" y="253"/>
                    </a:lnTo>
                    <a:lnTo>
                      <a:pt x="213" y="256"/>
                    </a:lnTo>
                    <a:lnTo>
                      <a:pt x="193" y="259"/>
                    </a:lnTo>
                    <a:lnTo>
                      <a:pt x="171" y="260"/>
                    </a:lnTo>
                    <a:lnTo>
                      <a:pt x="151" y="258"/>
                    </a:lnTo>
                    <a:lnTo>
                      <a:pt x="138" y="248"/>
                    </a:lnTo>
                    <a:lnTo>
                      <a:pt x="125" y="242"/>
                    </a:lnTo>
                    <a:lnTo>
                      <a:pt x="110" y="235"/>
                    </a:lnTo>
                    <a:lnTo>
                      <a:pt x="96" y="230"/>
                    </a:lnTo>
                    <a:lnTo>
                      <a:pt x="82" y="223"/>
                    </a:lnTo>
                    <a:lnTo>
                      <a:pt x="70" y="216"/>
                    </a:lnTo>
                    <a:lnTo>
                      <a:pt x="59" y="205"/>
                    </a:lnTo>
                    <a:lnTo>
                      <a:pt x="50" y="192"/>
                    </a:lnTo>
                    <a:lnTo>
                      <a:pt x="44" y="188"/>
                    </a:lnTo>
                    <a:lnTo>
                      <a:pt x="36" y="182"/>
                    </a:lnTo>
                    <a:lnTo>
                      <a:pt x="30" y="175"/>
                    </a:lnTo>
                    <a:lnTo>
                      <a:pt x="23" y="168"/>
                    </a:lnTo>
                    <a:lnTo>
                      <a:pt x="17" y="160"/>
                    </a:lnTo>
                    <a:lnTo>
                      <a:pt x="11" y="153"/>
                    </a:lnTo>
                    <a:lnTo>
                      <a:pt x="5" y="145"/>
                    </a:lnTo>
                    <a:lnTo>
                      <a:pt x="0" y="139"/>
                    </a:lnTo>
                    <a:lnTo>
                      <a:pt x="0" y="96"/>
                    </a:lnTo>
                    <a:lnTo>
                      <a:pt x="15" y="95"/>
                    </a:lnTo>
                    <a:lnTo>
                      <a:pt x="30" y="94"/>
                    </a:lnTo>
                    <a:lnTo>
                      <a:pt x="45" y="94"/>
                    </a:lnTo>
                    <a:lnTo>
                      <a:pt x="61" y="95"/>
                    </a:lnTo>
                    <a:lnTo>
                      <a:pt x="76" y="96"/>
                    </a:lnTo>
                    <a:lnTo>
                      <a:pt x="92" y="97"/>
                    </a:lnTo>
                    <a:lnTo>
                      <a:pt x="108" y="100"/>
                    </a:lnTo>
                    <a:lnTo>
                      <a:pt x="124" y="103"/>
                    </a:lnTo>
                    <a:lnTo>
                      <a:pt x="139" y="107"/>
                    </a:lnTo>
                    <a:lnTo>
                      <a:pt x="154" y="111"/>
                    </a:lnTo>
                    <a:lnTo>
                      <a:pt x="170" y="117"/>
                    </a:lnTo>
                    <a:lnTo>
                      <a:pt x="185" y="122"/>
                    </a:lnTo>
                    <a:lnTo>
                      <a:pt x="199" y="128"/>
                    </a:lnTo>
                    <a:lnTo>
                      <a:pt x="214" y="135"/>
                    </a:lnTo>
                    <a:lnTo>
                      <a:pt x="228" y="142"/>
                    </a:lnTo>
                    <a:lnTo>
                      <a:pt x="241" y="151"/>
                    </a:lnTo>
                    <a:lnTo>
                      <a:pt x="249" y="151"/>
                    </a:lnTo>
                    <a:lnTo>
                      <a:pt x="257" y="153"/>
                    </a:lnTo>
                    <a:lnTo>
                      <a:pt x="264" y="155"/>
                    </a:lnTo>
                    <a:lnTo>
                      <a:pt x="272" y="157"/>
                    </a:lnTo>
                    <a:lnTo>
                      <a:pt x="279" y="160"/>
                    </a:lnTo>
                    <a:lnTo>
                      <a:pt x="287" y="162"/>
                    </a:lnTo>
                    <a:lnTo>
                      <a:pt x="294" y="166"/>
                    </a:lnTo>
                    <a:lnTo>
                      <a:pt x="302" y="169"/>
                    </a:lnTo>
                    <a:lnTo>
                      <a:pt x="308" y="160"/>
                    </a:lnTo>
                    <a:lnTo>
                      <a:pt x="308" y="151"/>
                    </a:lnTo>
                    <a:lnTo>
                      <a:pt x="304" y="141"/>
                    </a:lnTo>
                    <a:lnTo>
                      <a:pt x="298" y="134"/>
                    </a:lnTo>
                    <a:lnTo>
                      <a:pt x="285" y="124"/>
                    </a:lnTo>
                    <a:lnTo>
                      <a:pt x="272" y="115"/>
                    </a:lnTo>
                    <a:lnTo>
                      <a:pt x="259" y="107"/>
                    </a:lnTo>
                    <a:lnTo>
                      <a:pt x="245" y="98"/>
                    </a:lnTo>
                    <a:lnTo>
                      <a:pt x="232" y="91"/>
                    </a:lnTo>
                    <a:lnTo>
                      <a:pt x="219" y="83"/>
                    </a:lnTo>
                    <a:lnTo>
                      <a:pt x="207" y="76"/>
                    </a:lnTo>
                    <a:lnTo>
                      <a:pt x="193" y="68"/>
                    </a:lnTo>
                    <a:lnTo>
                      <a:pt x="180" y="62"/>
                    </a:lnTo>
                    <a:lnTo>
                      <a:pt x="166" y="55"/>
                    </a:lnTo>
                    <a:lnTo>
                      <a:pt x="153" y="48"/>
                    </a:lnTo>
                    <a:lnTo>
                      <a:pt x="139" y="42"/>
                    </a:lnTo>
                    <a:lnTo>
                      <a:pt x="126" y="35"/>
                    </a:lnTo>
                    <a:lnTo>
                      <a:pt x="112" y="29"/>
                    </a:lnTo>
                    <a:lnTo>
                      <a:pt x="99" y="21"/>
                    </a:lnTo>
                    <a:lnTo>
                      <a:pt x="86" y="15"/>
                    </a:lnTo>
                    <a:lnTo>
                      <a:pt x="91" y="9"/>
                    </a:lnTo>
                    <a:lnTo>
                      <a:pt x="98" y="3"/>
                    </a:lnTo>
                    <a:lnTo>
                      <a:pt x="106" y="1"/>
                    </a:lnTo>
                    <a:lnTo>
                      <a:pt x="114" y="0"/>
                    </a:lnTo>
                    <a:lnTo>
                      <a:pt x="123" y="0"/>
                    </a:lnTo>
                    <a:lnTo>
                      <a:pt x="133" y="1"/>
                    </a:lnTo>
                    <a:lnTo>
                      <a:pt x="141" y="2"/>
                    </a:lnTo>
                    <a:lnTo>
                      <a:pt x="151" y="4"/>
                    </a:lnTo>
                    <a:lnTo>
                      <a:pt x="163" y="9"/>
                    </a:lnTo>
                    <a:lnTo>
                      <a:pt x="176" y="10"/>
                    </a:lnTo>
                    <a:lnTo>
                      <a:pt x="188" y="11"/>
                    </a:lnTo>
                    <a:lnTo>
                      <a:pt x="202" y="11"/>
                    </a:lnTo>
                    <a:lnTo>
                      <a:pt x="215" y="11"/>
                    </a:lnTo>
                    <a:lnTo>
                      <a:pt x="229" y="11"/>
                    </a:lnTo>
                    <a:lnTo>
                      <a:pt x="242" y="12"/>
                    </a:lnTo>
                    <a:lnTo>
                      <a:pt x="254" y="15"/>
                    </a:lnTo>
                    <a:lnTo>
                      <a:pt x="330" y="36"/>
                    </a:lnTo>
                    <a:close/>
                  </a:path>
                </a:pathLst>
              </a:custGeom>
              <a:solidFill>
                <a:srgbClr val="d6c4a5"/>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94" name=""/>
              <p:cNvSpPr/>
              <p:nvPr/>
            </p:nvSpPr>
            <p:spPr>
              <a:xfrm flipH="1">
                <a:off x="524160" y="2469960"/>
                <a:ext cx="152280" cy="72360"/>
              </a:xfrm>
              <a:custGeom>
                <a:avLst/>
                <a:gdLst/>
                <a:ahLst/>
                <a:rect l="l" t="t" r="r" b="b"/>
                <a:pathLst>
                  <a:path w="735" h="295">
                    <a:moveTo>
                      <a:pt x="251" y="29"/>
                    </a:moveTo>
                    <a:lnTo>
                      <a:pt x="250" y="44"/>
                    </a:lnTo>
                    <a:lnTo>
                      <a:pt x="248" y="59"/>
                    </a:lnTo>
                    <a:lnTo>
                      <a:pt x="250" y="74"/>
                    </a:lnTo>
                    <a:lnTo>
                      <a:pt x="258" y="87"/>
                    </a:lnTo>
                    <a:lnTo>
                      <a:pt x="265" y="86"/>
                    </a:lnTo>
                    <a:lnTo>
                      <a:pt x="270" y="83"/>
                    </a:lnTo>
                    <a:lnTo>
                      <a:pt x="275" y="80"/>
                    </a:lnTo>
                    <a:lnTo>
                      <a:pt x="280" y="76"/>
                    </a:lnTo>
                    <a:lnTo>
                      <a:pt x="283" y="72"/>
                    </a:lnTo>
                    <a:lnTo>
                      <a:pt x="287" y="66"/>
                    </a:lnTo>
                    <a:lnTo>
                      <a:pt x="291" y="62"/>
                    </a:lnTo>
                    <a:lnTo>
                      <a:pt x="297" y="57"/>
                    </a:lnTo>
                    <a:lnTo>
                      <a:pt x="316" y="51"/>
                    </a:lnTo>
                    <a:lnTo>
                      <a:pt x="335" y="46"/>
                    </a:lnTo>
                    <a:lnTo>
                      <a:pt x="357" y="42"/>
                    </a:lnTo>
                    <a:lnTo>
                      <a:pt x="378" y="40"/>
                    </a:lnTo>
                    <a:lnTo>
                      <a:pt x="399" y="40"/>
                    </a:lnTo>
                    <a:lnTo>
                      <a:pt x="421" y="42"/>
                    </a:lnTo>
                    <a:lnTo>
                      <a:pt x="440" y="46"/>
                    </a:lnTo>
                    <a:lnTo>
                      <a:pt x="459" y="55"/>
                    </a:lnTo>
                    <a:lnTo>
                      <a:pt x="463" y="68"/>
                    </a:lnTo>
                    <a:lnTo>
                      <a:pt x="458" y="80"/>
                    </a:lnTo>
                    <a:lnTo>
                      <a:pt x="450" y="92"/>
                    </a:lnTo>
                    <a:lnTo>
                      <a:pt x="440" y="103"/>
                    </a:lnTo>
                    <a:lnTo>
                      <a:pt x="433" y="114"/>
                    </a:lnTo>
                    <a:lnTo>
                      <a:pt x="428" y="125"/>
                    </a:lnTo>
                    <a:lnTo>
                      <a:pt x="432" y="138"/>
                    </a:lnTo>
                    <a:lnTo>
                      <a:pt x="444" y="151"/>
                    </a:lnTo>
                    <a:lnTo>
                      <a:pt x="454" y="152"/>
                    </a:lnTo>
                    <a:lnTo>
                      <a:pt x="463" y="151"/>
                    </a:lnTo>
                    <a:lnTo>
                      <a:pt x="470" y="146"/>
                    </a:lnTo>
                    <a:lnTo>
                      <a:pt x="478" y="142"/>
                    </a:lnTo>
                    <a:lnTo>
                      <a:pt x="485" y="137"/>
                    </a:lnTo>
                    <a:lnTo>
                      <a:pt x="493" y="133"/>
                    </a:lnTo>
                    <a:lnTo>
                      <a:pt x="500" y="129"/>
                    </a:lnTo>
                    <a:lnTo>
                      <a:pt x="509" y="128"/>
                    </a:lnTo>
                    <a:lnTo>
                      <a:pt x="524" y="125"/>
                    </a:lnTo>
                    <a:lnTo>
                      <a:pt x="538" y="122"/>
                    </a:lnTo>
                    <a:lnTo>
                      <a:pt x="553" y="119"/>
                    </a:lnTo>
                    <a:lnTo>
                      <a:pt x="568" y="117"/>
                    </a:lnTo>
                    <a:lnTo>
                      <a:pt x="581" y="114"/>
                    </a:lnTo>
                    <a:lnTo>
                      <a:pt x="596" y="114"/>
                    </a:lnTo>
                    <a:lnTo>
                      <a:pt x="610" y="114"/>
                    </a:lnTo>
                    <a:lnTo>
                      <a:pt x="625" y="114"/>
                    </a:lnTo>
                    <a:lnTo>
                      <a:pt x="639" y="117"/>
                    </a:lnTo>
                    <a:lnTo>
                      <a:pt x="653" y="120"/>
                    </a:lnTo>
                    <a:lnTo>
                      <a:pt x="666" y="123"/>
                    </a:lnTo>
                    <a:lnTo>
                      <a:pt x="679" y="128"/>
                    </a:lnTo>
                    <a:lnTo>
                      <a:pt x="692" y="135"/>
                    </a:lnTo>
                    <a:lnTo>
                      <a:pt x="705" y="142"/>
                    </a:lnTo>
                    <a:lnTo>
                      <a:pt x="716" y="151"/>
                    </a:lnTo>
                    <a:lnTo>
                      <a:pt x="727" y="161"/>
                    </a:lnTo>
                    <a:lnTo>
                      <a:pt x="735" y="189"/>
                    </a:lnTo>
                    <a:lnTo>
                      <a:pt x="713" y="198"/>
                    </a:lnTo>
                    <a:lnTo>
                      <a:pt x="692" y="206"/>
                    </a:lnTo>
                    <a:lnTo>
                      <a:pt x="669" y="215"/>
                    </a:lnTo>
                    <a:lnTo>
                      <a:pt x="648" y="222"/>
                    </a:lnTo>
                    <a:lnTo>
                      <a:pt x="625" y="230"/>
                    </a:lnTo>
                    <a:lnTo>
                      <a:pt x="603" y="237"/>
                    </a:lnTo>
                    <a:lnTo>
                      <a:pt x="580" y="244"/>
                    </a:lnTo>
                    <a:lnTo>
                      <a:pt x="558" y="250"/>
                    </a:lnTo>
                    <a:lnTo>
                      <a:pt x="535" y="255"/>
                    </a:lnTo>
                    <a:lnTo>
                      <a:pt x="512" y="262"/>
                    </a:lnTo>
                    <a:lnTo>
                      <a:pt x="489" y="267"/>
                    </a:lnTo>
                    <a:lnTo>
                      <a:pt x="466" y="273"/>
                    </a:lnTo>
                    <a:lnTo>
                      <a:pt x="443" y="277"/>
                    </a:lnTo>
                    <a:lnTo>
                      <a:pt x="420" y="282"/>
                    </a:lnTo>
                    <a:lnTo>
                      <a:pt x="396" y="286"/>
                    </a:lnTo>
                    <a:lnTo>
                      <a:pt x="373" y="291"/>
                    </a:lnTo>
                    <a:lnTo>
                      <a:pt x="361" y="293"/>
                    </a:lnTo>
                    <a:lnTo>
                      <a:pt x="349" y="294"/>
                    </a:lnTo>
                    <a:lnTo>
                      <a:pt x="338" y="295"/>
                    </a:lnTo>
                    <a:lnTo>
                      <a:pt x="327" y="295"/>
                    </a:lnTo>
                    <a:lnTo>
                      <a:pt x="316" y="294"/>
                    </a:lnTo>
                    <a:lnTo>
                      <a:pt x="304" y="293"/>
                    </a:lnTo>
                    <a:lnTo>
                      <a:pt x="293" y="292"/>
                    </a:lnTo>
                    <a:lnTo>
                      <a:pt x="282" y="291"/>
                    </a:lnTo>
                    <a:lnTo>
                      <a:pt x="271" y="289"/>
                    </a:lnTo>
                    <a:lnTo>
                      <a:pt x="259" y="287"/>
                    </a:lnTo>
                    <a:lnTo>
                      <a:pt x="248" y="286"/>
                    </a:lnTo>
                    <a:lnTo>
                      <a:pt x="238" y="285"/>
                    </a:lnTo>
                    <a:lnTo>
                      <a:pt x="226" y="284"/>
                    </a:lnTo>
                    <a:lnTo>
                      <a:pt x="215" y="283"/>
                    </a:lnTo>
                    <a:lnTo>
                      <a:pt x="204" y="283"/>
                    </a:lnTo>
                    <a:lnTo>
                      <a:pt x="193" y="283"/>
                    </a:lnTo>
                    <a:lnTo>
                      <a:pt x="209" y="278"/>
                    </a:lnTo>
                    <a:lnTo>
                      <a:pt x="224" y="273"/>
                    </a:lnTo>
                    <a:lnTo>
                      <a:pt x="240" y="267"/>
                    </a:lnTo>
                    <a:lnTo>
                      <a:pt x="255" y="262"/>
                    </a:lnTo>
                    <a:lnTo>
                      <a:pt x="270" y="255"/>
                    </a:lnTo>
                    <a:lnTo>
                      <a:pt x="286" y="250"/>
                    </a:lnTo>
                    <a:lnTo>
                      <a:pt x="301" y="245"/>
                    </a:lnTo>
                    <a:lnTo>
                      <a:pt x="317" y="239"/>
                    </a:lnTo>
                    <a:lnTo>
                      <a:pt x="332" y="234"/>
                    </a:lnTo>
                    <a:lnTo>
                      <a:pt x="347" y="229"/>
                    </a:lnTo>
                    <a:lnTo>
                      <a:pt x="363" y="224"/>
                    </a:lnTo>
                    <a:lnTo>
                      <a:pt x="378" y="219"/>
                    </a:lnTo>
                    <a:lnTo>
                      <a:pt x="394" y="215"/>
                    </a:lnTo>
                    <a:lnTo>
                      <a:pt x="410" y="209"/>
                    </a:lnTo>
                    <a:lnTo>
                      <a:pt x="425" y="205"/>
                    </a:lnTo>
                    <a:lnTo>
                      <a:pt x="441" y="201"/>
                    </a:lnTo>
                    <a:lnTo>
                      <a:pt x="441" y="183"/>
                    </a:lnTo>
                    <a:lnTo>
                      <a:pt x="422" y="183"/>
                    </a:lnTo>
                    <a:lnTo>
                      <a:pt x="404" y="182"/>
                    </a:lnTo>
                    <a:lnTo>
                      <a:pt x="384" y="183"/>
                    </a:lnTo>
                    <a:lnTo>
                      <a:pt x="366" y="184"/>
                    </a:lnTo>
                    <a:lnTo>
                      <a:pt x="347" y="185"/>
                    </a:lnTo>
                    <a:lnTo>
                      <a:pt x="329" y="187"/>
                    </a:lnTo>
                    <a:lnTo>
                      <a:pt x="311" y="189"/>
                    </a:lnTo>
                    <a:lnTo>
                      <a:pt x="291" y="191"/>
                    </a:lnTo>
                    <a:lnTo>
                      <a:pt x="273" y="195"/>
                    </a:lnTo>
                    <a:lnTo>
                      <a:pt x="255" y="198"/>
                    </a:lnTo>
                    <a:lnTo>
                      <a:pt x="237" y="201"/>
                    </a:lnTo>
                    <a:lnTo>
                      <a:pt x="219" y="205"/>
                    </a:lnTo>
                    <a:lnTo>
                      <a:pt x="200" y="209"/>
                    </a:lnTo>
                    <a:lnTo>
                      <a:pt x="182" y="214"/>
                    </a:lnTo>
                    <a:lnTo>
                      <a:pt x="165" y="218"/>
                    </a:lnTo>
                    <a:lnTo>
                      <a:pt x="147" y="222"/>
                    </a:lnTo>
                    <a:lnTo>
                      <a:pt x="157" y="213"/>
                    </a:lnTo>
                    <a:lnTo>
                      <a:pt x="169" y="204"/>
                    </a:lnTo>
                    <a:lnTo>
                      <a:pt x="181" y="197"/>
                    </a:lnTo>
                    <a:lnTo>
                      <a:pt x="194" y="189"/>
                    </a:lnTo>
                    <a:lnTo>
                      <a:pt x="206" y="182"/>
                    </a:lnTo>
                    <a:lnTo>
                      <a:pt x="219" y="175"/>
                    </a:lnTo>
                    <a:lnTo>
                      <a:pt x="231" y="169"/>
                    </a:lnTo>
                    <a:lnTo>
                      <a:pt x="244" y="161"/>
                    </a:lnTo>
                    <a:lnTo>
                      <a:pt x="257" y="155"/>
                    </a:lnTo>
                    <a:lnTo>
                      <a:pt x="270" y="148"/>
                    </a:lnTo>
                    <a:lnTo>
                      <a:pt x="282" y="140"/>
                    </a:lnTo>
                    <a:lnTo>
                      <a:pt x="295" y="133"/>
                    </a:lnTo>
                    <a:lnTo>
                      <a:pt x="306" y="124"/>
                    </a:lnTo>
                    <a:lnTo>
                      <a:pt x="318" y="114"/>
                    </a:lnTo>
                    <a:lnTo>
                      <a:pt x="330" y="104"/>
                    </a:lnTo>
                    <a:lnTo>
                      <a:pt x="341" y="93"/>
                    </a:lnTo>
                    <a:lnTo>
                      <a:pt x="336" y="87"/>
                    </a:lnTo>
                    <a:lnTo>
                      <a:pt x="332" y="79"/>
                    </a:lnTo>
                    <a:lnTo>
                      <a:pt x="326" y="75"/>
                    </a:lnTo>
                    <a:lnTo>
                      <a:pt x="315" y="75"/>
                    </a:lnTo>
                    <a:lnTo>
                      <a:pt x="303" y="79"/>
                    </a:lnTo>
                    <a:lnTo>
                      <a:pt x="291" y="84"/>
                    </a:lnTo>
                    <a:lnTo>
                      <a:pt x="280" y="89"/>
                    </a:lnTo>
                    <a:lnTo>
                      <a:pt x="268" y="95"/>
                    </a:lnTo>
                    <a:lnTo>
                      <a:pt x="256" y="101"/>
                    </a:lnTo>
                    <a:lnTo>
                      <a:pt x="245" y="106"/>
                    </a:lnTo>
                    <a:lnTo>
                      <a:pt x="235" y="112"/>
                    </a:lnTo>
                    <a:lnTo>
                      <a:pt x="223" y="118"/>
                    </a:lnTo>
                    <a:lnTo>
                      <a:pt x="212" y="124"/>
                    </a:lnTo>
                    <a:lnTo>
                      <a:pt x="201" y="129"/>
                    </a:lnTo>
                    <a:lnTo>
                      <a:pt x="191" y="135"/>
                    </a:lnTo>
                    <a:lnTo>
                      <a:pt x="179" y="140"/>
                    </a:lnTo>
                    <a:lnTo>
                      <a:pt x="168" y="145"/>
                    </a:lnTo>
                    <a:lnTo>
                      <a:pt x="156" y="150"/>
                    </a:lnTo>
                    <a:lnTo>
                      <a:pt x="146" y="154"/>
                    </a:lnTo>
                    <a:lnTo>
                      <a:pt x="134" y="158"/>
                    </a:lnTo>
                    <a:lnTo>
                      <a:pt x="108" y="171"/>
                    </a:lnTo>
                    <a:lnTo>
                      <a:pt x="115" y="167"/>
                    </a:lnTo>
                    <a:lnTo>
                      <a:pt x="121" y="161"/>
                    </a:lnTo>
                    <a:lnTo>
                      <a:pt x="129" y="154"/>
                    </a:lnTo>
                    <a:lnTo>
                      <a:pt x="135" y="145"/>
                    </a:lnTo>
                    <a:lnTo>
                      <a:pt x="141" y="136"/>
                    </a:lnTo>
                    <a:lnTo>
                      <a:pt x="147" y="126"/>
                    </a:lnTo>
                    <a:lnTo>
                      <a:pt x="150" y="115"/>
                    </a:lnTo>
                    <a:lnTo>
                      <a:pt x="151" y="105"/>
                    </a:lnTo>
                    <a:lnTo>
                      <a:pt x="147" y="101"/>
                    </a:lnTo>
                    <a:lnTo>
                      <a:pt x="141" y="97"/>
                    </a:lnTo>
                    <a:lnTo>
                      <a:pt x="136" y="97"/>
                    </a:lnTo>
                    <a:lnTo>
                      <a:pt x="129" y="97"/>
                    </a:lnTo>
                    <a:lnTo>
                      <a:pt x="113" y="105"/>
                    </a:lnTo>
                    <a:lnTo>
                      <a:pt x="96" y="113"/>
                    </a:lnTo>
                    <a:lnTo>
                      <a:pt x="81" y="122"/>
                    </a:lnTo>
                    <a:lnTo>
                      <a:pt x="68" y="130"/>
                    </a:lnTo>
                    <a:lnTo>
                      <a:pt x="53" y="138"/>
                    </a:lnTo>
                    <a:lnTo>
                      <a:pt x="36" y="144"/>
                    </a:lnTo>
                    <a:lnTo>
                      <a:pt x="19" y="149"/>
                    </a:lnTo>
                    <a:lnTo>
                      <a:pt x="0" y="151"/>
                    </a:lnTo>
                    <a:lnTo>
                      <a:pt x="23" y="138"/>
                    </a:lnTo>
                    <a:lnTo>
                      <a:pt x="44" y="123"/>
                    </a:lnTo>
                    <a:lnTo>
                      <a:pt x="64" y="106"/>
                    </a:lnTo>
                    <a:lnTo>
                      <a:pt x="84" y="87"/>
                    </a:lnTo>
                    <a:lnTo>
                      <a:pt x="102" y="67"/>
                    </a:lnTo>
                    <a:lnTo>
                      <a:pt x="119" y="48"/>
                    </a:lnTo>
                    <a:lnTo>
                      <a:pt x="134" y="28"/>
                    </a:lnTo>
                    <a:lnTo>
                      <a:pt x="147" y="9"/>
                    </a:lnTo>
                    <a:lnTo>
                      <a:pt x="160" y="5"/>
                    </a:lnTo>
                    <a:lnTo>
                      <a:pt x="175" y="2"/>
                    </a:lnTo>
                    <a:lnTo>
                      <a:pt x="190" y="0"/>
                    </a:lnTo>
                    <a:lnTo>
                      <a:pt x="204" y="1"/>
                    </a:lnTo>
                    <a:lnTo>
                      <a:pt x="219" y="3"/>
                    </a:lnTo>
                    <a:lnTo>
                      <a:pt x="231" y="9"/>
                    </a:lnTo>
                    <a:lnTo>
                      <a:pt x="242" y="17"/>
                    </a:lnTo>
                    <a:lnTo>
                      <a:pt x="251" y="29"/>
                    </a:lnTo>
                    <a:close/>
                  </a:path>
                </a:pathLst>
              </a:custGeom>
              <a:solidFill>
                <a:srgbClr val="bf8e3a"/>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295" name=""/>
              <p:cNvSpPr/>
              <p:nvPr/>
            </p:nvSpPr>
            <p:spPr>
              <a:xfrm flipH="1">
                <a:off x="429840" y="2487240"/>
                <a:ext cx="142920" cy="57600"/>
              </a:xfrm>
              <a:custGeom>
                <a:avLst/>
                <a:gdLst/>
                <a:ahLst/>
                <a:rect l="l" t="t" r="r" b="b"/>
                <a:pathLst>
                  <a:path w="689" h="237">
                    <a:moveTo>
                      <a:pt x="689" y="30"/>
                    </a:moveTo>
                    <a:lnTo>
                      <a:pt x="681" y="38"/>
                    </a:lnTo>
                    <a:lnTo>
                      <a:pt x="674" y="45"/>
                    </a:lnTo>
                    <a:lnTo>
                      <a:pt x="664" y="54"/>
                    </a:lnTo>
                    <a:lnTo>
                      <a:pt x="655" y="60"/>
                    </a:lnTo>
                    <a:lnTo>
                      <a:pt x="645" y="68"/>
                    </a:lnTo>
                    <a:lnTo>
                      <a:pt x="635" y="74"/>
                    </a:lnTo>
                    <a:lnTo>
                      <a:pt x="623" y="79"/>
                    </a:lnTo>
                    <a:lnTo>
                      <a:pt x="613" y="84"/>
                    </a:lnTo>
                    <a:lnTo>
                      <a:pt x="578" y="101"/>
                    </a:lnTo>
                    <a:lnTo>
                      <a:pt x="543" y="118"/>
                    </a:lnTo>
                    <a:lnTo>
                      <a:pt x="508" y="134"/>
                    </a:lnTo>
                    <a:lnTo>
                      <a:pt x="471" y="149"/>
                    </a:lnTo>
                    <a:lnTo>
                      <a:pt x="435" y="163"/>
                    </a:lnTo>
                    <a:lnTo>
                      <a:pt x="397" y="176"/>
                    </a:lnTo>
                    <a:lnTo>
                      <a:pt x="360" y="187"/>
                    </a:lnTo>
                    <a:lnTo>
                      <a:pt x="321" y="198"/>
                    </a:lnTo>
                    <a:lnTo>
                      <a:pt x="283" y="208"/>
                    </a:lnTo>
                    <a:lnTo>
                      <a:pt x="244" y="216"/>
                    </a:lnTo>
                    <a:lnTo>
                      <a:pt x="205" y="223"/>
                    </a:lnTo>
                    <a:lnTo>
                      <a:pt x="165" y="229"/>
                    </a:lnTo>
                    <a:lnTo>
                      <a:pt x="124" y="233"/>
                    </a:lnTo>
                    <a:lnTo>
                      <a:pt x="84" y="235"/>
                    </a:lnTo>
                    <a:lnTo>
                      <a:pt x="43" y="237"/>
                    </a:lnTo>
                    <a:lnTo>
                      <a:pt x="1" y="237"/>
                    </a:lnTo>
                    <a:lnTo>
                      <a:pt x="0" y="237"/>
                    </a:lnTo>
                    <a:lnTo>
                      <a:pt x="1" y="235"/>
                    </a:lnTo>
                    <a:lnTo>
                      <a:pt x="6" y="234"/>
                    </a:lnTo>
                    <a:lnTo>
                      <a:pt x="11" y="232"/>
                    </a:lnTo>
                    <a:lnTo>
                      <a:pt x="16" y="230"/>
                    </a:lnTo>
                    <a:lnTo>
                      <a:pt x="23" y="228"/>
                    </a:lnTo>
                    <a:lnTo>
                      <a:pt x="28" y="226"/>
                    </a:lnTo>
                    <a:lnTo>
                      <a:pt x="32" y="224"/>
                    </a:lnTo>
                    <a:lnTo>
                      <a:pt x="49" y="217"/>
                    </a:lnTo>
                    <a:lnTo>
                      <a:pt x="67" y="212"/>
                    </a:lnTo>
                    <a:lnTo>
                      <a:pt x="85" y="208"/>
                    </a:lnTo>
                    <a:lnTo>
                      <a:pt x="103" y="203"/>
                    </a:lnTo>
                    <a:lnTo>
                      <a:pt x="120" y="199"/>
                    </a:lnTo>
                    <a:lnTo>
                      <a:pt x="138" y="195"/>
                    </a:lnTo>
                    <a:lnTo>
                      <a:pt x="155" y="190"/>
                    </a:lnTo>
                    <a:lnTo>
                      <a:pt x="173" y="183"/>
                    </a:lnTo>
                    <a:lnTo>
                      <a:pt x="203" y="172"/>
                    </a:lnTo>
                    <a:lnTo>
                      <a:pt x="233" y="162"/>
                    </a:lnTo>
                    <a:lnTo>
                      <a:pt x="261" y="150"/>
                    </a:lnTo>
                    <a:lnTo>
                      <a:pt x="290" y="138"/>
                    </a:lnTo>
                    <a:lnTo>
                      <a:pt x="319" y="126"/>
                    </a:lnTo>
                    <a:lnTo>
                      <a:pt x="347" y="115"/>
                    </a:lnTo>
                    <a:lnTo>
                      <a:pt x="376" y="102"/>
                    </a:lnTo>
                    <a:lnTo>
                      <a:pt x="404" y="90"/>
                    </a:lnTo>
                    <a:lnTo>
                      <a:pt x="432" y="78"/>
                    </a:lnTo>
                    <a:lnTo>
                      <a:pt x="461" y="66"/>
                    </a:lnTo>
                    <a:lnTo>
                      <a:pt x="488" y="54"/>
                    </a:lnTo>
                    <a:lnTo>
                      <a:pt x="517" y="42"/>
                    </a:lnTo>
                    <a:lnTo>
                      <a:pt x="546" y="31"/>
                    </a:lnTo>
                    <a:lnTo>
                      <a:pt x="575" y="21"/>
                    </a:lnTo>
                    <a:lnTo>
                      <a:pt x="605" y="10"/>
                    </a:lnTo>
                    <a:lnTo>
                      <a:pt x="635" y="0"/>
                    </a:lnTo>
                    <a:lnTo>
                      <a:pt x="643" y="4"/>
                    </a:lnTo>
                    <a:lnTo>
                      <a:pt x="650" y="6"/>
                    </a:lnTo>
                    <a:lnTo>
                      <a:pt x="658" y="8"/>
                    </a:lnTo>
                    <a:lnTo>
                      <a:pt x="665" y="10"/>
                    </a:lnTo>
                    <a:lnTo>
                      <a:pt x="671" y="13"/>
                    </a:lnTo>
                    <a:lnTo>
                      <a:pt x="678" y="17"/>
                    </a:lnTo>
                    <a:lnTo>
                      <a:pt x="683" y="23"/>
                    </a:lnTo>
                    <a:lnTo>
                      <a:pt x="689" y="30"/>
                    </a:lnTo>
                    <a:close/>
                  </a:path>
                </a:pathLst>
              </a:custGeom>
              <a:solidFill>
                <a:srgbClr val="8959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96" name=""/>
              <p:cNvSpPr/>
              <p:nvPr/>
            </p:nvSpPr>
            <p:spPr>
              <a:xfrm flipH="1">
                <a:off x="856800" y="2503080"/>
                <a:ext cx="97200" cy="84600"/>
              </a:xfrm>
              <a:custGeom>
                <a:avLst/>
                <a:gdLst/>
                <a:ahLst/>
                <a:rect l="l" t="t" r="r" b="b"/>
                <a:pathLst>
                  <a:path w="466" h="346">
                    <a:moveTo>
                      <a:pt x="374" y="53"/>
                    </a:moveTo>
                    <a:lnTo>
                      <a:pt x="382" y="57"/>
                    </a:lnTo>
                    <a:lnTo>
                      <a:pt x="390" y="64"/>
                    </a:lnTo>
                    <a:lnTo>
                      <a:pt x="397" y="70"/>
                    </a:lnTo>
                    <a:lnTo>
                      <a:pt x="404" y="76"/>
                    </a:lnTo>
                    <a:lnTo>
                      <a:pt x="411" y="84"/>
                    </a:lnTo>
                    <a:lnTo>
                      <a:pt x="417" y="89"/>
                    </a:lnTo>
                    <a:lnTo>
                      <a:pt x="424" y="95"/>
                    </a:lnTo>
                    <a:lnTo>
                      <a:pt x="430" y="99"/>
                    </a:lnTo>
                    <a:lnTo>
                      <a:pt x="429" y="102"/>
                    </a:lnTo>
                    <a:lnTo>
                      <a:pt x="425" y="104"/>
                    </a:lnTo>
                    <a:lnTo>
                      <a:pt x="421" y="104"/>
                    </a:lnTo>
                    <a:lnTo>
                      <a:pt x="416" y="106"/>
                    </a:lnTo>
                    <a:lnTo>
                      <a:pt x="412" y="103"/>
                    </a:lnTo>
                    <a:lnTo>
                      <a:pt x="405" y="107"/>
                    </a:lnTo>
                    <a:lnTo>
                      <a:pt x="396" y="110"/>
                    </a:lnTo>
                    <a:lnTo>
                      <a:pt x="386" y="111"/>
                    </a:lnTo>
                    <a:lnTo>
                      <a:pt x="377" y="111"/>
                    </a:lnTo>
                    <a:lnTo>
                      <a:pt x="367" y="111"/>
                    </a:lnTo>
                    <a:lnTo>
                      <a:pt x="359" y="112"/>
                    </a:lnTo>
                    <a:lnTo>
                      <a:pt x="350" y="115"/>
                    </a:lnTo>
                    <a:lnTo>
                      <a:pt x="344" y="121"/>
                    </a:lnTo>
                    <a:lnTo>
                      <a:pt x="345" y="134"/>
                    </a:lnTo>
                    <a:lnTo>
                      <a:pt x="348" y="143"/>
                    </a:lnTo>
                    <a:lnTo>
                      <a:pt x="355" y="149"/>
                    </a:lnTo>
                    <a:lnTo>
                      <a:pt x="364" y="154"/>
                    </a:lnTo>
                    <a:lnTo>
                      <a:pt x="374" y="159"/>
                    </a:lnTo>
                    <a:lnTo>
                      <a:pt x="383" y="163"/>
                    </a:lnTo>
                    <a:lnTo>
                      <a:pt x="393" y="169"/>
                    </a:lnTo>
                    <a:lnTo>
                      <a:pt x="399" y="178"/>
                    </a:lnTo>
                    <a:lnTo>
                      <a:pt x="408" y="188"/>
                    </a:lnTo>
                    <a:lnTo>
                      <a:pt x="416" y="196"/>
                    </a:lnTo>
                    <a:lnTo>
                      <a:pt x="425" y="205"/>
                    </a:lnTo>
                    <a:lnTo>
                      <a:pt x="434" y="212"/>
                    </a:lnTo>
                    <a:lnTo>
                      <a:pt x="442" y="220"/>
                    </a:lnTo>
                    <a:lnTo>
                      <a:pt x="451" y="228"/>
                    </a:lnTo>
                    <a:lnTo>
                      <a:pt x="458" y="237"/>
                    </a:lnTo>
                    <a:lnTo>
                      <a:pt x="466" y="246"/>
                    </a:lnTo>
                    <a:lnTo>
                      <a:pt x="444" y="246"/>
                    </a:lnTo>
                    <a:lnTo>
                      <a:pt x="423" y="244"/>
                    </a:lnTo>
                    <a:lnTo>
                      <a:pt x="401" y="242"/>
                    </a:lnTo>
                    <a:lnTo>
                      <a:pt x="380" y="238"/>
                    </a:lnTo>
                    <a:lnTo>
                      <a:pt x="360" y="234"/>
                    </a:lnTo>
                    <a:lnTo>
                      <a:pt x="338" y="228"/>
                    </a:lnTo>
                    <a:lnTo>
                      <a:pt x="318" y="223"/>
                    </a:lnTo>
                    <a:lnTo>
                      <a:pt x="298" y="218"/>
                    </a:lnTo>
                    <a:lnTo>
                      <a:pt x="291" y="228"/>
                    </a:lnTo>
                    <a:lnTo>
                      <a:pt x="290" y="240"/>
                    </a:lnTo>
                    <a:lnTo>
                      <a:pt x="291" y="254"/>
                    </a:lnTo>
                    <a:lnTo>
                      <a:pt x="294" y="267"/>
                    </a:lnTo>
                    <a:lnTo>
                      <a:pt x="303" y="285"/>
                    </a:lnTo>
                    <a:lnTo>
                      <a:pt x="307" y="306"/>
                    </a:lnTo>
                    <a:lnTo>
                      <a:pt x="308" y="327"/>
                    </a:lnTo>
                    <a:lnTo>
                      <a:pt x="308" y="346"/>
                    </a:lnTo>
                    <a:lnTo>
                      <a:pt x="296" y="337"/>
                    </a:lnTo>
                    <a:lnTo>
                      <a:pt x="286" y="331"/>
                    </a:lnTo>
                    <a:lnTo>
                      <a:pt x="274" y="324"/>
                    </a:lnTo>
                    <a:lnTo>
                      <a:pt x="263" y="319"/>
                    </a:lnTo>
                    <a:lnTo>
                      <a:pt x="252" y="313"/>
                    </a:lnTo>
                    <a:lnTo>
                      <a:pt x="241" y="307"/>
                    </a:lnTo>
                    <a:lnTo>
                      <a:pt x="230" y="300"/>
                    </a:lnTo>
                    <a:lnTo>
                      <a:pt x="219" y="292"/>
                    </a:lnTo>
                    <a:lnTo>
                      <a:pt x="209" y="291"/>
                    </a:lnTo>
                    <a:lnTo>
                      <a:pt x="198" y="292"/>
                    </a:lnTo>
                    <a:lnTo>
                      <a:pt x="187" y="292"/>
                    </a:lnTo>
                    <a:lnTo>
                      <a:pt x="178" y="293"/>
                    </a:lnTo>
                    <a:lnTo>
                      <a:pt x="168" y="292"/>
                    </a:lnTo>
                    <a:lnTo>
                      <a:pt x="158" y="291"/>
                    </a:lnTo>
                    <a:lnTo>
                      <a:pt x="149" y="287"/>
                    </a:lnTo>
                    <a:lnTo>
                      <a:pt x="140" y="282"/>
                    </a:lnTo>
                    <a:lnTo>
                      <a:pt x="163" y="280"/>
                    </a:lnTo>
                    <a:lnTo>
                      <a:pt x="184" y="274"/>
                    </a:lnTo>
                    <a:lnTo>
                      <a:pt x="203" y="265"/>
                    </a:lnTo>
                    <a:lnTo>
                      <a:pt x="223" y="252"/>
                    </a:lnTo>
                    <a:lnTo>
                      <a:pt x="239" y="237"/>
                    </a:lnTo>
                    <a:lnTo>
                      <a:pt x="255" y="220"/>
                    </a:lnTo>
                    <a:lnTo>
                      <a:pt x="268" y="203"/>
                    </a:lnTo>
                    <a:lnTo>
                      <a:pt x="279" y="185"/>
                    </a:lnTo>
                    <a:lnTo>
                      <a:pt x="287" y="166"/>
                    </a:lnTo>
                    <a:lnTo>
                      <a:pt x="290" y="145"/>
                    </a:lnTo>
                    <a:lnTo>
                      <a:pt x="289" y="124"/>
                    </a:lnTo>
                    <a:lnTo>
                      <a:pt x="283" y="103"/>
                    </a:lnTo>
                    <a:lnTo>
                      <a:pt x="273" y="88"/>
                    </a:lnTo>
                    <a:lnTo>
                      <a:pt x="262" y="75"/>
                    </a:lnTo>
                    <a:lnTo>
                      <a:pt x="249" y="64"/>
                    </a:lnTo>
                    <a:lnTo>
                      <a:pt x="235" y="54"/>
                    </a:lnTo>
                    <a:lnTo>
                      <a:pt x="220" y="46"/>
                    </a:lnTo>
                    <a:lnTo>
                      <a:pt x="205" y="38"/>
                    </a:lnTo>
                    <a:lnTo>
                      <a:pt x="189" y="32"/>
                    </a:lnTo>
                    <a:lnTo>
                      <a:pt x="172" y="25"/>
                    </a:lnTo>
                    <a:lnTo>
                      <a:pt x="162" y="25"/>
                    </a:lnTo>
                    <a:lnTo>
                      <a:pt x="150" y="25"/>
                    </a:lnTo>
                    <a:lnTo>
                      <a:pt x="139" y="24"/>
                    </a:lnTo>
                    <a:lnTo>
                      <a:pt x="128" y="24"/>
                    </a:lnTo>
                    <a:lnTo>
                      <a:pt x="117" y="23"/>
                    </a:lnTo>
                    <a:lnTo>
                      <a:pt x="105" y="22"/>
                    </a:lnTo>
                    <a:lnTo>
                      <a:pt x="94" y="21"/>
                    </a:lnTo>
                    <a:lnTo>
                      <a:pt x="83" y="21"/>
                    </a:lnTo>
                    <a:lnTo>
                      <a:pt x="72" y="20"/>
                    </a:lnTo>
                    <a:lnTo>
                      <a:pt x="61" y="20"/>
                    </a:lnTo>
                    <a:lnTo>
                      <a:pt x="50" y="21"/>
                    </a:lnTo>
                    <a:lnTo>
                      <a:pt x="40" y="21"/>
                    </a:lnTo>
                    <a:lnTo>
                      <a:pt x="29" y="23"/>
                    </a:lnTo>
                    <a:lnTo>
                      <a:pt x="19" y="24"/>
                    </a:lnTo>
                    <a:lnTo>
                      <a:pt x="10" y="27"/>
                    </a:lnTo>
                    <a:lnTo>
                      <a:pt x="0" y="31"/>
                    </a:lnTo>
                    <a:lnTo>
                      <a:pt x="14" y="19"/>
                    </a:lnTo>
                    <a:lnTo>
                      <a:pt x="31" y="12"/>
                    </a:lnTo>
                    <a:lnTo>
                      <a:pt x="48" y="10"/>
                    </a:lnTo>
                    <a:lnTo>
                      <a:pt x="67" y="10"/>
                    </a:lnTo>
                    <a:lnTo>
                      <a:pt x="87" y="10"/>
                    </a:lnTo>
                    <a:lnTo>
                      <a:pt x="106" y="9"/>
                    </a:lnTo>
                    <a:lnTo>
                      <a:pt x="124" y="7"/>
                    </a:lnTo>
                    <a:lnTo>
                      <a:pt x="140" y="0"/>
                    </a:lnTo>
                    <a:lnTo>
                      <a:pt x="157" y="2"/>
                    </a:lnTo>
                    <a:lnTo>
                      <a:pt x="174" y="3"/>
                    </a:lnTo>
                    <a:lnTo>
                      <a:pt x="192" y="4"/>
                    </a:lnTo>
                    <a:lnTo>
                      <a:pt x="210" y="3"/>
                    </a:lnTo>
                    <a:lnTo>
                      <a:pt x="227" y="2"/>
                    </a:lnTo>
                    <a:lnTo>
                      <a:pt x="243" y="1"/>
                    </a:lnTo>
                    <a:lnTo>
                      <a:pt x="260" y="0"/>
                    </a:lnTo>
                    <a:lnTo>
                      <a:pt x="276" y="0"/>
                    </a:lnTo>
                    <a:lnTo>
                      <a:pt x="291" y="1"/>
                    </a:lnTo>
                    <a:lnTo>
                      <a:pt x="306" y="2"/>
                    </a:lnTo>
                    <a:lnTo>
                      <a:pt x="320" y="5"/>
                    </a:lnTo>
                    <a:lnTo>
                      <a:pt x="333" y="10"/>
                    </a:lnTo>
                    <a:lnTo>
                      <a:pt x="345" y="17"/>
                    </a:lnTo>
                    <a:lnTo>
                      <a:pt x="355" y="26"/>
                    </a:lnTo>
                    <a:lnTo>
                      <a:pt x="365" y="38"/>
                    </a:lnTo>
                    <a:lnTo>
                      <a:pt x="374" y="53"/>
                    </a:lnTo>
                    <a:close/>
                  </a:path>
                </a:pathLst>
              </a:custGeom>
              <a:solidFill>
                <a:srgbClr val="d6c4a5"/>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297" name=""/>
              <p:cNvSpPr/>
              <p:nvPr/>
            </p:nvSpPr>
            <p:spPr>
              <a:xfrm flipH="1">
                <a:off x="920160" y="2517840"/>
                <a:ext cx="7920" cy="7200"/>
              </a:xfrm>
              <a:custGeom>
                <a:avLst/>
                <a:gdLst/>
                <a:ahLst/>
                <a:rect l="l" t="t" r="r" b="b"/>
                <a:pathLst>
                  <a:path w="36" h="29">
                    <a:moveTo>
                      <a:pt x="21" y="2"/>
                    </a:moveTo>
                    <a:lnTo>
                      <a:pt x="27" y="0"/>
                    </a:lnTo>
                    <a:lnTo>
                      <a:pt x="30" y="3"/>
                    </a:lnTo>
                    <a:lnTo>
                      <a:pt x="33" y="7"/>
                    </a:lnTo>
                    <a:lnTo>
                      <a:pt x="36" y="11"/>
                    </a:lnTo>
                    <a:lnTo>
                      <a:pt x="36" y="21"/>
                    </a:lnTo>
                    <a:lnTo>
                      <a:pt x="34" y="26"/>
                    </a:lnTo>
                    <a:lnTo>
                      <a:pt x="30" y="29"/>
                    </a:lnTo>
                    <a:lnTo>
                      <a:pt x="26" y="29"/>
                    </a:lnTo>
                    <a:lnTo>
                      <a:pt x="21" y="29"/>
                    </a:lnTo>
                    <a:lnTo>
                      <a:pt x="14" y="29"/>
                    </a:lnTo>
                    <a:lnTo>
                      <a:pt x="7" y="28"/>
                    </a:lnTo>
                    <a:lnTo>
                      <a:pt x="0" y="29"/>
                    </a:lnTo>
                    <a:lnTo>
                      <a:pt x="1" y="20"/>
                    </a:lnTo>
                    <a:lnTo>
                      <a:pt x="7" y="12"/>
                    </a:lnTo>
                    <a:lnTo>
                      <a:pt x="14" y="6"/>
                    </a:lnTo>
                    <a:lnTo>
                      <a:pt x="21" y="2"/>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298" name=""/>
              <p:cNvSpPr/>
              <p:nvPr/>
            </p:nvSpPr>
            <p:spPr>
              <a:xfrm flipH="1">
                <a:off x="927360" y="2525040"/>
                <a:ext cx="70200" cy="33120"/>
              </a:xfrm>
              <a:custGeom>
                <a:avLst/>
                <a:gdLst/>
                <a:ahLst/>
                <a:rect l="l" t="t" r="r" b="b"/>
                <a:pathLst>
                  <a:path w="340" h="136">
                    <a:moveTo>
                      <a:pt x="183" y="2"/>
                    </a:moveTo>
                    <a:lnTo>
                      <a:pt x="200" y="7"/>
                    </a:lnTo>
                    <a:lnTo>
                      <a:pt x="215" y="13"/>
                    </a:lnTo>
                    <a:lnTo>
                      <a:pt x="230" y="22"/>
                    </a:lnTo>
                    <a:lnTo>
                      <a:pt x="244" y="31"/>
                    </a:lnTo>
                    <a:lnTo>
                      <a:pt x="258" y="41"/>
                    </a:lnTo>
                    <a:lnTo>
                      <a:pt x="272" y="52"/>
                    </a:lnTo>
                    <a:lnTo>
                      <a:pt x="286" y="61"/>
                    </a:lnTo>
                    <a:lnTo>
                      <a:pt x="301" y="69"/>
                    </a:lnTo>
                    <a:lnTo>
                      <a:pt x="305" y="74"/>
                    </a:lnTo>
                    <a:lnTo>
                      <a:pt x="313" y="78"/>
                    </a:lnTo>
                    <a:lnTo>
                      <a:pt x="320" y="83"/>
                    </a:lnTo>
                    <a:lnTo>
                      <a:pt x="328" y="86"/>
                    </a:lnTo>
                    <a:lnTo>
                      <a:pt x="335" y="91"/>
                    </a:lnTo>
                    <a:lnTo>
                      <a:pt x="339" y="98"/>
                    </a:lnTo>
                    <a:lnTo>
                      <a:pt x="340" y="106"/>
                    </a:lnTo>
                    <a:lnTo>
                      <a:pt x="337" y="117"/>
                    </a:lnTo>
                    <a:lnTo>
                      <a:pt x="331" y="122"/>
                    </a:lnTo>
                    <a:lnTo>
                      <a:pt x="323" y="126"/>
                    </a:lnTo>
                    <a:lnTo>
                      <a:pt x="315" y="131"/>
                    </a:lnTo>
                    <a:lnTo>
                      <a:pt x="306" y="134"/>
                    </a:lnTo>
                    <a:lnTo>
                      <a:pt x="298" y="135"/>
                    </a:lnTo>
                    <a:lnTo>
                      <a:pt x="288" y="136"/>
                    </a:lnTo>
                    <a:lnTo>
                      <a:pt x="278" y="135"/>
                    </a:lnTo>
                    <a:lnTo>
                      <a:pt x="270" y="132"/>
                    </a:lnTo>
                    <a:lnTo>
                      <a:pt x="263" y="130"/>
                    </a:lnTo>
                    <a:lnTo>
                      <a:pt x="258" y="126"/>
                    </a:lnTo>
                    <a:lnTo>
                      <a:pt x="254" y="122"/>
                    </a:lnTo>
                    <a:lnTo>
                      <a:pt x="249" y="118"/>
                    </a:lnTo>
                    <a:lnTo>
                      <a:pt x="245" y="115"/>
                    </a:lnTo>
                    <a:lnTo>
                      <a:pt x="240" y="111"/>
                    </a:lnTo>
                    <a:lnTo>
                      <a:pt x="233" y="110"/>
                    </a:lnTo>
                    <a:lnTo>
                      <a:pt x="226" y="111"/>
                    </a:lnTo>
                    <a:lnTo>
                      <a:pt x="237" y="107"/>
                    </a:lnTo>
                    <a:lnTo>
                      <a:pt x="249" y="108"/>
                    </a:lnTo>
                    <a:lnTo>
                      <a:pt x="261" y="111"/>
                    </a:lnTo>
                    <a:lnTo>
                      <a:pt x="273" y="116"/>
                    </a:lnTo>
                    <a:lnTo>
                      <a:pt x="284" y="118"/>
                    </a:lnTo>
                    <a:lnTo>
                      <a:pt x="291" y="116"/>
                    </a:lnTo>
                    <a:lnTo>
                      <a:pt x="295" y="108"/>
                    </a:lnTo>
                    <a:lnTo>
                      <a:pt x="294" y="93"/>
                    </a:lnTo>
                    <a:lnTo>
                      <a:pt x="282" y="86"/>
                    </a:lnTo>
                    <a:lnTo>
                      <a:pt x="268" y="80"/>
                    </a:lnTo>
                    <a:lnTo>
                      <a:pt x="252" y="77"/>
                    </a:lnTo>
                    <a:lnTo>
                      <a:pt x="236" y="76"/>
                    </a:lnTo>
                    <a:lnTo>
                      <a:pt x="218" y="75"/>
                    </a:lnTo>
                    <a:lnTo>
                      <a:pt x="201" y="75"/>
                    </a:lnTo>
                    <a:lnTo>
                      <a:pt x="186" y="75"/>
                    </a:lnTo>
                    <a:lnTo>
                      <a:pt x="172" y="75"/>
                    </a:lnTo>
                    <a:lnTo>
                      <a:pt x="162" y="75"/>
                    </a:lnTo>
                    <a:lnTo>
                      <a:pt x="150" y="75"/>
                    </a:lnTo>
                    <a:lnTo>
                      <a:pt x="139" y="75"/>
                    </a:lnTo>
                    <a:lnTo>
                      <a:pt x="127" y="75"/>
                    </a:lnTo>
                    <a:lnTo>
                      <a:pt x="117" y="75"/>
                    </a:lnTo>
                    <a:lnTo>
                      <a:pt x="105" y="75"/>
                    </a:lnTo>
                    <a:lnTo>
                      <a:pt x="94" y="76"/>
                    </a:lnTo>
                    <a:lnTo>
                      <a:pt x="82" y="77"/>
                    </a:lnTo>
                    <a:lnTo>
                      <a:pt x="72" y="78"/>
                    </a:lnTo>
                    <a:lnTo>
                      <a:pt x="60" y="80"/>
                    </a:lnTo>
                    <a:lnTo>
                      <a:pt x="49" y="84"/>
                    </a:lnTo>
                    <a:lnTo>
                      <a:pt x="40" y="87"/>
                    </a:lnTo>
                    <a:lnTo>
                      <a:pt x="29" y="90"/>
                    </a:lnTo>
                    <a:lnTo>
                      <a:pt x="19" y="95"/>
                    </a:lnTo>
                    <a:lnTo>
                      <a:pt x="10" y="101"/>
                    </a:lnTo>
                    <a:lnTo>
                      <a:pt x="0" y="107"/>
                    </a:lnTo>
                    <a:lnTo>
                      <a:pt x="0" y="89"/>
                    </a:lnTo>
                    <a:lnTo>
                      <a:pt x="5" y="83"/>
                    </a:lnTo>
                    <a:lnTo>
                      <a:pt x="11" y="75"/>
                    </a:lnTo>
                    <a:lnTo>
                      <a:pt x="15" y="67"/>
                    </a:lnTo>
                    <a:lnTo>
                      <a:pt x="18" y="58"/>
                    </a:lnTo>
                    <a:lnTo>
                      <a:pt x="26" y="44"/>
                    </a:lnTo>
                    <a:lnTo>
                      <a:pt x="35" y="33"/>
                    </a:lnTo>
                    <a:lnTo>
                      <a:pt x="48" y="26"/>
                    </a:lnTo>
                    <a:lnTo>
                      <a:pt x="62" y="20"/>
                    </a:lnTo>
                    <a:lnTo>
                      <a:pt x="77" y="15"/>
                    </a:lnTo>
                    <a:lnTo>
                      <a:pt x="92" y="11"/>
                    </a:lnTo>
                    <a:lnTo>
                      <a:pt x="107" y="7"/>
                    </a:lnTo>
                    <a:lnTo>
                      <a:pt x="122" y="2"/>
                    </a:lnTo>
                    <a:lnTo>
                      <a:pt x="131" y="0"/>
                    </a:lnTo>
                    <a:lnTo>
                      <a:pt x="139" y="1"/>
                    </a:lnTo>
                    <a:lnTo>
                      <a:pt x="147" y="5"/>
                    </a:lnTo>
                    <a:lnTo>
                      <a:pt x="153" y="10"/>
                    </a:lnTo>
                    <a:lnTo>
                      <a:pt x="161" y="13"/>
                    </a:lnTo>
                    <a:lnTo>
                      <a:pt x="167" y="14"/>
                    </a:lnTo>
                    <a:lnTo>
                      <a:pt x="175" y="11"/>
                    </a:lnTo>
                    <a:lnTo>
                      <a:pt x="183" y="2"/>
                    </a:lnTo>
                    <a:close/>
                  </a:path>
                </a:pathLst>
              </a:custGeom>
              <a:solidFill>
                <a:srgbClr val="ffeab2"/>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9" name=""/>
              <p:cNvSpPr/>
              <p:nvPr/>
            </p:nvSpPr>
            <p:spPr>
              <a:xfrm flipH="1">
                <a:off x="860040" y="2607480"/>
                <a:ext cx="51840" cy="24480"/>
              </a:xfrm>
              <a:custGeom>
                <a:avLst/>
                <a:gdLst/>
                <a:ahLst/>
                <a:rect l="l" t="t" r="r" b="b"/>
                <a:pathLst>
                  <a:path w="249" h="101">
                    <a:moveTo>
                      <a:pt x="104" y="0"/>
                    </a:moveTo>
                    <a:lnTo>
                      <a:pt x="102" y="16"/>
                    </a:lnTo>
                    <a:lnTo>
                      <a:pt x="105" y="25"/>
                    </a:lnTo>
                    <a:lnTo>
                      <a:pt x="113" y="31"/>
                    </a:lnTo>
                    <a:lnTo>
                      <a:pt x="124" y="32"/>
                    </a:lnTo>
                    <a:lnTo>
                      <a:pt x="135" y="32"/>
                    </a:lnTo>
                    <a:lnTo>
                      <a:pt x="148" y="32"/>
                    </a:lnTo>
                    <a:lnTo>
                      <a:pt x="160" y="33"/>
                    </a:lnTo>
                    <a:lnTo>
                      <a:pt x="170" y="36"/>
                    </a:lnTo>
                    <a:lnTo>
                      <a:pt x="181" y="36"/>
                    </a:lnTo>
                    <a:lnTo>
                      <a:pt x="192" y="38"/>
                    </a:lnTo>
                    <a:lnTo>
                      <a:pt x="201" y="41"/>
                    </a:lnTo>
                    <a:lnTo>
                      <a:pt x="209" y="46"/>
                    </a:lnTo>
                    <a:lnTo>
                      <a:pt x="218" y="51"/>
                    </a:lnTo>
                    <a:lnTo>
                      <a:pt x="226" y="55"/>
                    </a:lnTo>
                    <a:lnTo>
                      <a:pt x="237" y="57"/>
                    </a:lnTo>
                    <a:lnTo>
                      <a:pt x="249" y="59"/>
                    </a:lnTo>
                    <a:lnTo>
                      <a:pt x="240" y="72"/>
                    </a:lnTo>
                    <a:lnTo>
                      <a:pt x="228" y="82"/>
                    </a:lnTo>
                    <a:lnTo>
                      <a:pt x="216" y="88"/>
                    </a:lnTo>
                    <a:lnTo>
                      <a:pt x="200" y="92"/>
                    </a:lnTo>
                    <a:lnTo>
                      <a:pt x="183" y="94"/>
                    </a:lnTo>
                    <a:lnTo>
                      <a:pt x="167" y="95"/>
                    </a:lnTo>
                    <a:lnTo>
                      <a:pt x="151" y="97"/>
                    </a:lnTo>
                    <a:lnTo>
                      <a:pt x="136" y="101"/>
                    </a:lnTo>
                    <a:lnTo>
                      <a:pt x="118" y="100"/>
                    </a:lnTo>
                    <a:lnTo>
                      <a:pt x="99" y="99"/>
                    </a:lnTo>
                    <a:lnTo>
                      <a:pt x="80" y="97"/>
                    </a:lnTo>
                    <a:lnTo>
                      <a:pt x="60" y="94"/>
                    </a:lnTo>
                    <a:lnTo>
                      <a:pt x="42" y="90"/>
                    </a:lnTo>
                    <a:lnTo>
                      <a:pt x="26" y="82"/>
                    </a:lnTo>
                    <a:lnTo>
                      <a:pt x="11" y="72"/>
                    </a:lnTo>
                    <a:lnTo>
                      <a:pt x="0" y="59"/>
                    </a:lnTo>
                    <a:lnTo>
                      <a:pt x="15" y="52"/>
                    </a:lnTo>
                    <a:lnTo>
                      <a:pt x="28" y="44"/>
                    </a:lnTo>
                    <a:lnTo>
                      <a:pt x="40" y="34"/>
                    </a:lnTo>
                    <a:lnTo>
                      <a:pt x="51" y="23"/>
                    </a:lnTo>
                    <a:lnTo>
                      <a:pt x="63" y="15"/>
                    </a:lnTo>
                    <a:lnTo>
                      <a:pt x="74" y="6"/>
                    </a:lnTo>
                    <a:lnTo>
                      <a:pt x="88" y="2"/>
                    </a:lnTo>
                    <a:lnTo>
                      <a:pt x="104" y="0"/>
                    </a:lnTo>
                    <a:close/>
                  </a:path>
                </a:pathLst>
              </a:custGeom>
              <a:solidFill>
                <a:srgbClr val="d6c4a5"/>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300" name=""/>
              <p:cNvSpPr/>
              <p:nvPr/>
            </p:nvSpPr>
            <p:spPr>
              <a:xfrm flipH="1">
                <a:off x="1015920" y="2611440"/>
                <a:ext cx="164520" cy="100800"/>
              </a:xfrm>
              <a:custGeom>
                <a:avLst/>
                <a:gdLst/>
                <a:ahLst/>
                <a:rect l="l" t="t" r="r" b="b"/>
                <a:pathLst>
                  <a:path w="796" h="408">
                    <a:moveTo>
                      <a:pt x="796" y="0"/>
                    </a:moveTo>
                    <a:lnTo>
                      <a:pt x="767" y="18"/>
                    </a:lnTo>
                    <a:lnTo>
                      <a:pt x="739" y="38"/>
                    </a:lnTo>
                    <a:lnTo>
                      <a:pt x="712" y="59"/>
                    </a:lnTo>
                    <a:lnTo>
                      <a:pt x="686" y="80"/>
                    </a:lnTo>
                    <a:lnTo>
                      <a:pt x="659" y="101"/>
                    </a:lnTo>
                    <a:lnTo>
                      <a:pt x="633" y="124"/>
                    </a:lnTo>
                    <a:lnTo>
                      <a:pt x="607" y="145"/>
                    </a:lnTo>
                    <a:lnTo>
                      <a:pt x="581" y="168"/>
                    </a:lnTo>
                    <a:lnTo>
                      <a:pt x="555" y="188"/>
                    </a:lnTo>
                    <a:lnTo>
                      <a:pt x="528" y="208"/>
                    </a:lnTo>
                    <a:lnTo>
                      <a:pt x="500" y="228"/>
                    </a:lnTo>
                    <a:lnTo>
                      <a:pt x="473" y="245"/>
                    </a:lnTo>
                    <a:lnTo>
                      <a:pt x="443" y="261"/>
                    </a:lnTo>
                    <a:lnTo>
                      <a:pt x="413" y="276"/>
                    </a:lnTo>
                    <a:lnTo>
                      <a:pt x="382" y="287"/>
                    </a:lnTo>
                    <a:lnTo>
                      <a:pt x="348" y="297"/>
                    </a:lnTo>
                    <a:lnTo>
                      <a:pt x="328" y="306"/>
                    </a:lnTo>
                    <a:lnTo>
                      <a:pt x="308" y="315"/>
                    </a:lnTo>
                    <a:lnTo>
                      <a:pt x="286" y="324"/>
                    </a:lnTo>
                    <a:lnTo>
                      <a:pt x="265" y="332"/>
                    </a:lnTo>
                    <a:lnTo>
                      <a:pt x="243" y="341"/>
                    </a:lnTo>
                    <a:lnTo>
                      <a:pt x="222" y="349"/>
                    </a:lnTo>
                    <a:lnTo>
                      <a:pt x="201" y="357"/>
                    </a:lnTo>
                    <a:lnTo>
                      <a:pt x="179" y="364"/>
                    </a:lnTo>
                    <a:lnTo>
                      <a:pt x="157" y="372"/>
                    </a:lnTo>
                    <a:lnTo>
                      <a:pt x="134" y="379"/>
                    </a:lnTo>
                    <a:lnTo>
                      <a:pt x="113" y="386"/>
                    </a:lnTo>
                    <a:lnTo>
                      <a:pt x="90" y="391"/>
                    </a:lnTo>
                    <a:lnTo>
                      <a:pt x="68" y="396"/>
                    </a:lnTo>
                    <a:lnTo>
                      <a:pt x="45" y="401"/>
                    </a:lnTo>
                    <a:lnTo>
                      <a:pt x="23" y="405"/>
                    </a:lnTo>
                    <a:lnTo>
                      <a:pt x="0" y="408"/>
                    </a:lnTo>
                    <a:lnTo>
                      <a:pt x="29" y="394"/>
                    </a:lnTo>
                    <a:lnTo>
                      <a:pt x="57" y="380"/>
                    </a:lnTo>
                    <a:lnTo>
                      <a:pt x="86" y="366"/>
                    </a:lnTo>
                    <a:lnTo>
                      <a:pt x="113" y="353"/>
                    </a:lnTo>
                    <a:lnTo>
                      <a:pt x="141" y="339"/>
                    </a:lnTo>
                    <a:lnTo>
                      <a:pt x="169" y="325"/>
                    </a:lnTo>
                    <a:lnTo>
                      <a:pt x="195" y="311"/>
                    </a:lnTo>
                    <a:lnTo>
                      <a:pt x="223" y="297"/>
                    </a:lnTo>
                    <a:lnTo>
                      <a:pt x="250" y="283"/>
                    </a:lnTo>
                    <a:lnTo>
                      <a:pt x="278" y="269"/>
                    </a:lnTo>
                    <a:lnTo>
                      <a:pt x="304" y="255"/>
                    </a:lnTo>
                    <a:lnTo>
                      <a:pt x="332" y="241"/>
                    </a:lnTo>
                    <a:lnTo>
                      <a:pt x="360" y="228"/>
                    </a:lnTo>
                    <a:lnTo>
                      <a:pt x="388" y="214"/>
                    </a:lnTo>
                    <a:lnTo>
                      <a:pt x="416" y="201"/>
                    </a:lnTo>
                    <a:lnTo>
                      <a:pt x="445" y="187"/>
                    </a:lnTo>
                    <a:lnTo>
                      <a:pt x="459" y="178"/>
                    </a:lnTo>
                    <a:lnTo>
                      <a:pt x="474" y="170"/>
                    </a:lnTo>
                    <a:lnTo>
                      <a:pt x="489" y="162"/>
                    </a:lnTo>
                    <a:lnTo>
                      <a:pt x="504" y="154"/>
                    </a:lnTo>
                    <a:lnTo>
                      <a:pt x="519" y="146"/>
                    </a:lnTo>
                    <a:lnTo>
                      <a:pt x="534" y="139"/>
                    </a:lnTo>
                    <a:lnTo>
                      <a:pt x="549" y="130"/>
                    </a:lnTo>
                    <a:lnTo>
                      <a:pt x="564" y="123"/>
                    </a:lnTo>
                    <a:lnTo>
                      <a:pt x="579" y="114"/>
                    </a:lnTo>
                    <a:lnTo>
                      <a:pt x="592" y="107"/>
                    </a:lnTo>
                    <a:lnTo>
                      <a:pt x="607" y="98"/>
                    </a:lnTo>
                    <a:lnTo>
                      <a:pt x="621" y="89"/>
                    </a:lnTo>
                    <a:lnTo>
                      <a:pt x="635" y="79"/>
                    </a:lnTo>
                    <a:lnTo>
                      <a:pt x="648" y="69"/>
                    </a:lnTo>
                    <a:lnTo>
                      <a:pt x="661" y="59"/>
                    </a:lnTo>
                    <a:lnTo>
                      <a:pt x="674" y="48"/>
                    </a:lnTo>
                    <a:lnTo>
                      <a:pt x="689" y="41"/>
                    </a:lnTo>
                    <a:lnTo>
                      <a:pt x="703" y="33"/>
                    </a:lnTo>
                    <a:lnTo>
                      <a:pt x="718" y="27"/>
                    </a:lnTo>
                    <a:lnTo>
                      <a:pt x="734" y="20"/>
                    </a:lnTo>
                    <a:lnTo>
                      <a:pt x="749" y="15"/>
                    </a:lnTo>
                    <a:lnTo>
                      <a:pt x="764" y="10"/>
                    </a:lnTo>
                    <a:lnTo>
                      <a:pt x="780" y="4"/>
                    </a:lnTo>
                    <a:lnTo>
                      <a:pt x="796" y="0"/>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H="1">
                <a:off x="907560" y="2634480"/>
                <a:ext cx="34920" cy="42840"/>
              </a:xfrm>
              <a:custGeom>
                <a:avLst/>
                <a:gdLst/>
                <a:ahLst/>
                <a:rect l="l" t="t" r="r" b="b"/>
                <a:pathLst>
                  <a:path w="171" h="178">
                    <a:moveTo>
                      <a:pt x="171" y="114"/>
                    </a:moveTo>
                    <a:lnTo>
                      <a:pt x="87" y="178"/>
                    </a:lnTo>
                    <a:lnTo>
                      <a:pt x="73" y="171"/>
                    </a:lnTo>
                    <a:lnTo>
                      <a:pt x="58" y="164"/>
                    </a:lnTo>
                    <a:lnTo>
                      <a:pt x="42" y="158"/>
                    </a:lnTo>
                    <a:lnTo>
                      <a:pt x="27" y="150"/>
                    </a:lnTo>
                    <a:lnTo>
                      <a:pt x="14" y="142"/>
                    </a:lnTo>
                    <a:lnTo>
                      <a:pt x="5" y="130"/>
                    </a:lnTo>
                    <a:lnTo>
                      <a:pt x="0" y="115"/>
                    </a:lnTo>
                    <a:lnTo>
                      <a:pt x="0" y="96"/>
                    </a:lnTo>
                    <a:lnTo>
                      <a:pt x="11" y="83"/>
                    </a:lnTo>
                    <a:lnTo>
                      <a:pt x="22" y="71"/>
                    </a:lnTo>
                    <a:lnTo>
                      <a:pt x="34" y="60"/>
                    </a:lnTo>
                    <a:lnTo>
                      <a:pt x="45" y="48"/>
                    </a:lnTo>
                    <a:lnTo>
                      <a:pt x="57" y="37"/>
                    </a:lnTo>
                    <a:lnTo>
                      <a:pt x="68" y="24"/>
                    </a:lnTo>
                    <a:lnTo>
                      <a:pt x="79" y="13"/>
                    </a:lnTo>
                    <a:lnTo>
                      <a:pt x="87" y="0"/>
                    </a:lnTo>
                    <a:lnTo>
                      <a:pt x="103" y="9"/>
                    </a:lnTo>
                    <a:lnTo>
                      <a:pt x="118" y="20"/>
                    </a:lnTo>
                    <a:lnTo>
                      <a:pt x="132" y="33"/>
                    </a:lnTo>
                    <a:lnTo>
                      <a:pt x="144" y="47"/>
                    </a:lnTo>
                    <a:lnTo>
                      <a:pt x="154" y="62"/>
                    </a:lnTo>
                    <a:lnTo>
                      <a:pt x="161" y="79"/>
                    </a:lnTo>
                    <a:lnTo>
                      <a:pt x="166" y="96"/>
                    </a:lnTo>
                    <a:lnTo>
                      <a:pt x="171" y="114"/>
                    </a:lnTo>
                    <a:close/>
                  </a:path>
                </a:pathLst>
              </a:custGeom>
              <a:solidFill>
                <a:srgbClr val="d6c4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02" name=""/>
              <p:cNvSpPr/>
              <p:nvPr/>
            </p:nvSpPr>
            <p:spPr>
              <a:xfrm flipH="1">
                <a:off x="942480" y="2651760"/>
                <a:ext cx="32040" cy="64800"/>
              </a:xfrm>
              <a:custGeom>
                <a:avLst/>
                <a:gdLst/>
                <a:ahLst/>
                <a:rect l="l" t="t" r="r" b="b"/>
                <a:pathLst>
                  <a:path w="153" h="265">
                    <a:moveTo>
                      <a:pt x="100" y="0"/>
                    </a:moveTo>
                    <a:lnTo>
                      <a:pt x="98" y="17"/>
                    </a:lnTo>
                    <a:lnTo>
                      <a:pt x="98" y="34"/>
                    </a:lnTo>
                    <a:lnTo>
                      <a:pt x="100" y="49"/>
                    </a:lnTo>
                    <a:lnTo>
                      <a:pt x="104" y="64"/>
                    </a:lnTo>
                    <a:lnTo>
                      <a:pt x="109" y="79"/>
                    </a:lnTo>
                    <a:lnTo>
                      <a:pt x="115" y="92"/>
                    </a:lnTo>
                    <a:lnTo>
                      <a:pt x="119" y="107"/>
                    </a:lnTo>
                    <a:lnTo>
                      <a:pt x="124" y="121"/>
                    </a:lnTo>
                    <a:lnTo>
                      <a:pt x="129" y="130"/>
                    </a:lnTo>
                    <a:lnTo>
                      <a:pt x="134" y="138"/>
                    </a:lnTo>
                    <a:lnTo>
                      <a:pt x="142" y="147"/>
                    </a:lnTo>
                    <a:lnTo>
                      <a:pt x="148" y="156"/>
                    </a:lnTo>
                    <a:lnTo>
                      <a:pt x="152" y="164"/>
                    </a:lnTo>
                    <a:lnTo>
                      <a:pt x="153" y="173"/>
                    </a:lnTo>
                    <a:lnTo>
                      <a:pt x="151" y="181"/>
                    </a:lnTo>
                    <a:lnTo>
                      <a:pt x="143" y="190"/>
                    </a:lnTo>
                    <a:lnTo>
                      <a:pt x="132" y="203"/>
                    </a:lnTo>
                    <a:lnTo>
                      <a:pt x="118" y="213"/>
                    </a:lnTo>
                    <a:lnTo>
                      <a:pt x="103" y="223"/>
                    </a:lnTo>
                    <a:lnTo>
                      <a:pt x="87" y="231"/>
                    </a:lnTo>
                    <a:lnTo>
                      <a:pt x="71" y="240"/>
                    </a:lnTo>
                    <a:lnTo>
                      <a:pt x="54" y="248"/>
                    </a:lnTo>
                    <a:lnTo>
                      <a:pt x="37" y="256"/>
                    </a:lnTo>
                    <a:lnTo>
                      <a:pt x="21" y="265"/>
                    </a:lnTo>
                    <a:lnTo>
                      <a:pt x="9" y="246"/>
                    </a:lnTo>
                    <a:lnTo>
                      <a:pt x="2" y="227"/>
                    </a:lnTo>
                    <a:lnTo>
                      <a:pt x="0" y="207"/>
                    </a:lnTo>
                    <a:lnTo>
                      <a:pt x="2" y="185"/>
                    </a:lnTo>
                    <a:lnTo>
                      <a:pt x="6" y="165"/>
                    </a:lnTo>
                    <a:lnTo>
                      <a:pt x="9" y="144"/>
                    </a:lnTo>
                    <a:lnTo>
                      <a:pt x="11" y="122"/>
                    </a:lnTo>
                    <a:lnTo>
                      <a:pt x="10" y="101"/>
                    </a:lnTo>
                    <a:lnTo>
                      <a:pt x="11" y="84"/>
                    </a:lnTo>
                    <a:lnTo>
                      <a:pt x="16" y="68"/>
                    </a:lnTo>
                    <a:lnTo>
                      <a:pt x="23" y="54"/>
                    </a:lnTo>
                    <a:lnTo>
                      <a:pt x="31" y="42"/>
                    </a:lnTo>
                    <a:lnTo>
                      <a:pt x="42" y="32"/>
                    </a:lnTo>
                    <a:lnTo>
                      <a:pt x="55" y="21"/>
                    </a:lnTo>
                    <a:lnTo>
                      <a:pt x="68" y="10"/>
                    </a:lnTo>
                    <a:lnTo>
                      <a:pt x="82" y="0"/>
                    </a:lnTo>
                    <a:lnTo>
                      <a:pt x="100" y="0"/>
                    </a:lnTo>
                    <a:close/>
                  </a:path>
                </a:pathLst>
              </a:custGeom>
              <a:solidFill>
                <a:srgbClr val="d6c4a5"/>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03" name=""/>
              <p:cNvSpPr/>
              <p:nvPr/>
            </p:nvSpPr>
            <p:spPr>
              <a:xfrm flipH="1">
                <a:off x="979200" y="2657880"/>
                <a:ext cx="85680" cy="109080"/>
              </a:xfrm>
              <a:custGeom>
                <a:avLst/>
                <a:gdLst/>
                <a:ahLst/>
                <a:rect l="l" t="t" r="r" b="b"/>
                <a:pathLst>
                  <a:path w="414" h="447">
                    <a:moveTo>
                      <a:pt x="383" y="275"/>
                    </a:moveTo>
                    <a:lnTo>
                      <a:pt x="373" y="294"/>
                    </a:lnTo>
                    <a:lnTo>
                      <a:pt x="361" y="310"/>
                    </a:lnTo>
                    <a:lnTo>
                      <a:pt x="349" y="325"/>
                    </a:lnTo>
                    <a:lnTo>
                      <a:pt x="334" y="337"/>
                    </a:lnTo>
                    <a:lnTo>
                      <a:pt x="319" y="347"/>
                    </a:lnTo>
                    <a:lnTo>
                      <a:pt x="301" y="357"/>
                    </a:lnTo>
                    <a:lnTo>
                      <a:pt x="284" y="365"/>
                    </a:lnTo>
                    <a:lnTo>
                      <a:pt x="266" y="373"/>
                    </a:lnTo>
                    <a:lnTo>
                      <a:pt x="247" y="379"/>
                    </a:lnTo>
                    <a:lnTo>
                      <a:pt x="228" y="386"/>
                    </a:lnTo>
                    <a:lnTo>
                      <a:pt x="208" y="391"/>
                    </a:lnTo>
                    <a:lnTo>
                      <a:pt x="189" y="396"/>
                    </a:lnTo>
                    <a:lnTo>
                      <a:pt x="170" y="402"/>
                    </a:lnTo>
                    <a:lnTo>
                      <a:pt x="150" y="408"/>
                    </a:lnTo>
                    <a:lnTo>
                      <a:pt x="132" y="415"/>
                    </a:lnTo>
                    <a:lnTo>
                      <a:pt x="114" y="422"/>
                    </a:lnTo>
                    <a:lnTo>
                      <a:pt x="107" y="420"/>
                    </a:lnTo>
                    <a:lnTo>
                      <a:pt x="99" y="421"/>
                    </a:lnTo>
                    <a:lnTo>
                      <a:pt x="94" y="423"/>
                    </a:lnTo>
                    <a:lnTo>
                      <a:pt x="87" y="426"/>
                    </a:lnTo>
                    <a:lnTo>
                      <a:pt x="82" y="431"/>
                    </a:lnTo>
                    <a:lnTo>
                      <a:pt x="77" y="433"/>
                    </a:lnTo>
                    <a:lnTo>
                      <a:pt x="70" y="434"/>
                    </a:lnTo>
                    <a:lnTo>
                      <a:pt x="64" y="432"/>
                    </a:lnTo>
                    <a:lnTo>
                      <a:pt x="57" y="436"/>
                    </a:lnTo>
                    <a:lnTo>
                      <a:pt x="50" y="439"/>
                    </a:lnTo>
                    <a:lnTo>
                      <a:pt x="41" y="441"/>
                    </a:lnTo>
                    <a:lnTo>
                      <a:pt x="33" y="442"/>
                    </a:lnTo>
                    <a:lnTo>
                      <a:pt x="24" y="442"/>
                    </a:lnTo>
                    <a:lnTo>
                      <a:pt x="16" y="443"/>
                    </a:lnTo>
                    <a:lnTo>
                      <a:pt x="7" y="444"/>
                    </a:lnTo>
                    <a:lnTo>
                      <a:pt x="0" y="447"/>
                    </a:lnTo>
                    <a:lnTo>
                      <a:pt x="5" y="422"/>
                    </a:lnTo>
                    <a:lnTo>
                      <a:pt x="12" y="399"/>
                    </a:lnTo>
                    <a:lnTo>
                      <a:pt x="21" y="376"/>
                    </a:lnTo>
                    <a:lnTo>
                      <a:pt x="32" y="355"/>
                    </a:lnTo>
                    <a:lnTo>
                      <a:pt x="42" y="332"/>
                    </a:lnTo>
                    <a:lnTo>
                      <a:pt x="54" y="311"/>
                    </a:lnTo>
                    <a:lnTo>
                      <a:pt x="65" y="290"/>
                    </a:lnTo>
                    <a:lnTo>
                      <a:pt x="76" y="267"/>
                    </a:lnTo>
                    <a:lnTo>
                      <a:pt x="84" y="252"/>
                    </a:lnTo>
                    <a:lnTo>
                      <a:pt x="93" y="236"/>
                    </a:lnTo>
                    <a:lnTo>
                      <a:pt x="101" y="220"/>
                    </a:lnTo>
                    <a:lnTo>
                      <a:pt x="110" y="204"/>
                    </a:lnTo>
                    <a:lnTo>
                      <a:pt x="119" y="188"/>
                    </a:lnTo>
                    <a:lnTo>
                      <a:pt x="131" y="173"/>
                    </a:lnTo>
                    <a:lnTo>
                      <a:pt x="143" y="160"/>
                    </a:lnTo>
                    <a:lnTo>
                      <a:pt x="157" y="150"/>
                    </a:lnTo>
                    <a:lnTo>
                      <a:pt x="169" y="131"/>
                    </a:lnTo>
                    <a:lnTo>
                      <a:pt x="184" y="115"/>
                    </a:lnTo>
                    <a:lnTo>
                      <a:pt x="200" y="103"/>
                    </a:lnTo>
                    <a:lnTo>
                      <a:pt x="217" y="92"/>
                    </a:lnTo>
                    <a:lnTo>
                      <a:pt x="234" y="81"/>
                    </a:lnTo>
                    <a:lnTo>
                      <a:pt x="252" y="72"/>
                    </a:lnTo>
                    <a:lnTo>
                      <a:pt x="269" y="61"/>
                    </a:lnTo>
                    <a:lnTo>
                      <a:pt x="286" y="49"/>
                    </a:lnTo>
                    <a:lnTo>
                      <a:pt x="286" y="63"/>
                    </a:lnTo>
                    <a:lnTo>
                      <a:pt x="282" y="77"/>
                    </a:lnTo>
                    <a:lnTo>
                      <a:pt x="277" y="90"/>
                    </a:lnTo>
                    <a:lnTo>
                      <a:pt x="270" y="104"/>
                    </a:lnTo>
                    <a:lnTo>
                      <a:pt x="263" y="117"/>
                    </a:lnTo>
                    <a:lnTo>
                      <a:pt x="258" y="131"/>
                    </a:lnTo>
                    <a:lnTo>
                      <a:pt x="253" y="147"/>
                    </a:lnTo>
                    <a:lnTo>
                      <a:pt x="253" y="163"/>
                    </a:lnTo>
                    <a:lnTo>
                      <a:pt x="247" y="175"/>
                    </a:lnTo>
                    <a:lnTo>
                      <a:pt x="241" y="188"/>
                    </a:lnTo>
                    <a:lnTo>
                      <a:pt x="238" y="202"/>
                    </a:lnTo>
                    <a:lnTo>
                      <a:pt x="234" y="215"/>
                    </a:lnTo>
                    <a:lnTo>
                      <a:pt x="231" y="228"/>
                    </a:lnTo>
                    <a:lnTo>
                      <a:pt x="225" y="240"/>
                    </a:lnTo>
                    <a:lnTo>
                      <a:pt x="219" y="253"/>
                    </a:lnTo>
                    <a:lnTo>
                      <a:pt x="210" y="264"/>
                    </a:lnTo>
                    <a:lnTo>
                      <a:pt x="212" y="272"/>
                    </a:lnTo>
                    <a:lnTo>
                      <a:pt x="210" y="283"/>
                    </a:lnTo>
                    <a:lnTo>
                      <a:pt x="212" y="291"/>
                    </a:lnTo>
                    <a:lnTo>
                      <a:pt x="218" y="296"/>
                    </a:lnTo>
                    <a:lnTo>
                      <a:pt x="225" y="293"/>
                    </a:lnTo>
                    <a:lnTo>
                      <a:pt x="232" y="287"/>
                    </a:lnTo>
                    <a:lnTo>
                      <a:pt x="237" y="281"/>
                    </a:lnTo>
                    <a:lnTo>
                      <a:pt x="241" y="273"/>
                    </a:lnTo>
                    <a:lnTo>
                      <a:pt x="245" y="265"/>
                    </a:lnTo>
                    <a:lnTo>
                      <a:pt x="248" y="257"/>
                    </a:lnTo>
                    <a:lnTo>
                      <a:pt x="252" y="249"/>
                    </a:lnTo>
                    <a:lnTo>
                      <a:pt x="256" y="243"/>
                    </a:lnTo>
                    <a:lnTo>
                      <a:pt x="269" y="218"/>
                    </a:lnTo>
                    <a:lnTo>
                      <a:pt x="283" y="192"/>
                    </a:lnTo>
                    <a:lnTo>
                      <a:pt x="297" y="167"/>
                    </a:lnTo>
                    <a:lnTo>
                      <a:pt x="312" y="141"/>
                    </a:lnTo>
                    <a:lnTo>
                      <a:pt x="327" y="115"/>
                    </a:lnTo>
                    <a:lnTo>
                      <a:pt x="343" y="91"/>
                    </a:lnTo>
                    <a:lnTo>
                      <a:pt x="359" y="66"/>
                    </a:lnTo>
                    <a:lnTo>
                      <a:pt x="375" y="43"/>
                    </a:lnTo>
                    <a:lnTo>
                      <a:pt x="379" y="43"/>
                    </a:lnTo>
                    <a:lnTo>
                      <a:pt x="382" y="42"/>
                    </a:lnTo>
                    <a:lnTo>
                      <a:pt x="384" y="41"/>
                    </a:lnTo>
                    <a:lnTo>
                      <a:pt x="386" y="38"/>
                    </a:lnTo>
                    <a:lnTo>
                      <a:pt x="386" y="31"/>
                    </a:lnTo>
                    <a:lnTo>
                      <a:pt x="395" y="26"/>
                    </a:lnTo>
                    <a:lnTo>
                      <a:pt x="402" y="18"/>
                    </a:lnTo>
                    <a:lnTo>
                      <a:pt x="407" y="10"/>
                    </a:lnTo>
                    <a:lnTo>
                      <a:pt x="414" y="0"/>
                    </a:lnTo>
                    <a:lnTo>
                      <a:pt x="409" y="32"/>
                    </a:lnTo>
                    <a:lnTo>
                      <a:pt x="401" y="65"/>
                    </a:lnTo>
                    <a:lnTo>
                      <a:pt x="395" y="100"/>
                    </a:lnTo>
                    <a:lnTo>
                      <a:pt x="389" y="136"/>
                    </a:lnTo>
                    <a:lnTo>
                      <a:pt x="384" y="171"/>
                    </a:lnTo>
                    <a:lnTo>
                      <a:pt x="381" y="206"/>
                    </a:lnTo>
                    <a:lnTo>
                      <a:pt x="381" y="241"/>
                    </a:lnTo>
                    <a:lnTo>
                      <a:pt x="383" y="275"/>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flipH="1">
                <a:off x="1035720" y="2674080"/>
                <a:ext cx="105480" cy="114120"/>
              </a:xfrm>
              <a:custGeom>
                <a:avLst/>
                <a:gdLst/>
                <a:ahLst/>
                <a:rect l="l" t="t" r="r" b="b"/>
                <a:pathLst>
                  <a:path w="509" h="466">
                    <a:moveTo>
                      <a:pt x="509" y="0"/>
                    </a:moveTo>
                    <a:lnTo>
                      <a:pt x="499" y="24"/>
                    </a:lnTo>
                    <a:lnTo>
                      <a:pt x="488" y="46"/>
                    </a:lnTo>
                    <a:lnTo>
                      <a:pt x="477" y="68"/>
                    </a:lnTo>
                    <a:lnTo>
                      <a:pt x="465" y="91"/>
                    </a:lnTo>
                    <a:lnTo>
                      <a:pt x="452" y="113"/>
                    </a:lnTo>
                    <a:lnTo>
                      <a:pt x="439" y="135"/>
                    </a:lnTo>
                    <a:lnTo>
                      <a:pt x="425" y="156"/>
                    </a:lnTo>
                    <a:lnTo>
                      <a:pt x="412" y="177"/>
                    </a:lnTo>
                    <a:lnTo>
                      <a:pt x="398" y="200"/>
                    </a:lnTo>
                    <a:lnTo>
                      <a:pt x="385" y="221"/>
                    </a:lnTo>
                    <a:lnTo>
                      <a:pt x="372" y="243"/>
                    </a:lnTo>
                    <a:lnTo>
                      <a:pt x="359" y="264"/>
                    </a:lnTo>
                    <a:lnTo>
                      <a:pt x="347" y="286"/>
                    </a:lnTo>
                    <a:lnTo>
                      <a:pt x="336" y="308"/>
                    </a:lnTo>
                    <a:lnTo>
                      <a:pt x="326" y="330"/>
                    </a:lnTo>
                    <a:lnTo>
                      <a:pt x="316" y="353"/>
                    </a:lnTo>
                    <a:lnTo>
                      <a:pt x="305" y="369"/>
                    </a:lnTo>
                    <a:lnTo>
                      <a:pt x="295" y="384"/>
                    </a:lnTo>
                    <a:lnTo>
                      <a:pt x="282" y="396"/>
                    </a:lnTo>
                    <a:lnTo>
                      <a:pt x="269" y="408"/>
                    </a:lnTo>
                    <a:lnTo>
                      <a:pt x="255" y="419"/>
                    </a:lnTo>
                    <a:lnTo>
                      <a:pt x="240" y="427"/>
                    </a:lnTo>
                    <a:lnTo>
                      <a:pt x="225" y="435"/>
                    </a:lnTo>
                    <a:lnTo>
                      <a:pt x="209" y="441"/>
                    </a:lnTo>
                    <a:lnTo>
                      <a:pt x="192" y="447"/>
                    </a:lnTo>
                    <a:lnTo>
                      <a:pt x="175" y="452"/>
                    </a:lnTo>
                    <a:lnTo>
                      <a:pt x="158" y="455"/>
                    </a:lnTo>
                    <a:lnTo>
                      <a:pt x="139" y="457"/>
                    </a:lnTo>
                    <a:lnTo>
                      <a:pt x="121" y="460"/>
                    </a:lnTo>
                    <a:lnTo>
                      <a:pt x="102" y="461"/>
                    </a:lnTo>
                    <a:lnTo>
                      <a:pt x="84" y="462"/>
                    </a:lnTo>
                    <a:lnTo>
                      <a:pt x="64" y="462"/>
                    </a:lnTo>
                    <a:lnTo>
                      <a:pt x="57" y="463"/>
                    </a:lnTo>
                    <a:lnTo>
                      <a:pt x="48" y="465"/>
                    </a:lnTo>
                    <a:lnTo>
                      <a:pt x="40" y="465"/>
                    </a:lnTo>
                    <a:lnTo>
                      <a:pt x="31" y="466"/>
                    </a:lnTo>
                    <a:lnTo>
                      <a:pt x="23" y="465"/>
                    </a:lnTo>
                    <a:lnTo>
                      <a:pt x="15" y="464"/>
                    </a:lnTo>
                    <a:lnTo>
                      <a:pt x="7" y="461"/>
                    </a:lnTo>
                    <a:lnTo>
                      <a:pt x="0" y="457"/>
                    </a:lnTo>
                    <a:lnTo>
                      <a:pt x="9" y="440"/>
                    </a:lnTo>
                    <a:lnTo>
                      <a:pt x="17" y="423"/>
                    </a:lnTo>
                    <a:lnTo>
                      <a:pt x="28" y="407"/>
                    </a:lnTo>
                    <a:lnTo>
                      <a:pt x="38" y="391"/>
                    </a:lnTo>
                    <a:lnTo>
                      <a:pt x="48" y="375"/>
                    </a:lnTo>
                    <a:lnTo>
                      <a:pt x="59" y="360"/>
                    </a:lnTo>
                    <a:lnTo>
                      <a:pt x="71" y="344"/>
                    </a:lnTo>
                    <a:lnTo>
                      <a:pt x="83" y="329"/>
                    </a:lnTo>
                    <a:lnTo>
                      <a:pt x="94" y="314"/>
                    </a:lnTo>
                    <a:lnTo>
                      <a:pt x="107" y="299"/>
                    </a:lnTo>
                    <a:lnTo>
                      <a:pt x="119" y="284"/>
                    </a:lnTo>
                    <a:lnTo>
                      <a:pt x="132" y="269"/>
                    </a:lnTo>
                    <a:lnTo>
                      <a:pt x="145" y="254"/>
                    </a:lnTo>
                    <a:lnTo>
                      <a:pt x="158" y="240"/>
                    </a:lnTo>
                    <a:lnTo>
                      <a:pt x="170" y="226"/>
                    </a:lnTo>
                    <a:lnTo>
                      <a:pt x="183" y="211"/>
                    </a:lnTo>
                    <a:lnTo>
                      <a:pt x="192" y="200"/>
                    </a:lnTo>
                    <a:lnTo>
                      <a:pt x="201" y="189"/>
                    </a:lnTo>
                    <a:lnTo>
                      <a:pt x="211" y="180"/>
                    </a:lnTo>
                    <a:lnTo>
                      <a:pt x="221" y="169"/>
                    </a:lnTo>
                    <a:lnTo>
                      <a:pt x="231" y="159"/>
                    </a:lnTo>
                    <a:lnTo>
                      <a:pt x="241" y="150"/>
                    </a:lnTo>
                    <a:lnTo>
                      <a:pt x="252" y="140"/>
                    </a:lnTo>
                    <a:lnTo>
                      <a:pt x="262" y="131"/>
                    </a:lnTo>
                    <a:lnTo>
                      <a:pt x="266" y="135"/>
                    </a:lnTo>
                    <a:lnTo>
                      <a:pt x="273" y="129"/>
                    </a:lnTo>
                    <a:lnTo>
                      <a:pt x="270" y="125"/>
                    </a:lnTo>
                    <a:lnTo>
                      <a:pt x="349" y="76"/>
                    </a:lnTo>
                    <a:lnTo>
                      <a:pt x="329" y="105"/>
                    </a:lnTo>
                    <a:lnTo>
                      <a:pt x="310" y="134"/>
                    </a:lnTo>
                    <a:lnTo>
                      <a:pt x="290" y="162"/>
                    </a:lnTo>
                    <a:lnTo>
                      <a:pt x="271" y="191"/>
                    </a:lnTo>
                    <a:lnTo>
                      <a:pt x="253" y="220"/>
                    </a:lnTo>
                    <a:lnTo>
                      <a:pt x="235" y="249"/>
                    </a:lnTo>
                    <a:lnTo>
                      <a:pt x="217" y="278"/>
                    </a:lnTo>
                    <a:lnTo>
                      <a:pt x="201" y="307"/>
                    </a:lnTo>
                    <a:lnTo>
                      <a:pt x="202" y="315"/>
                    </a:lnTo>
                    <a:lnTo>
                      <a:pt x="206" y="324"/>
                    </a:lnTo>
                    <a:lnTo>
                      <a:pt x="212" y="331"/>
                    </a:lnTo>
                    <a:lnTo>
                      <a:pt x="220" y="336"/>
                    </a:lnTo>
                    <a:lnTo>
                      <a:pt x="243" y="315"/>
                    </a:lnTo>
                    <a:lnTo>
                      <a:pt x="262" y="293"/>
                    </a:lnTo>
                    <a:lnTo>
                      <a:pt x="279" y="269"/>
                    </a:lnTo>
                    <a:lnTo>
                      <a:pt x="292" y="244"/>
                    </a:lnTo>
                    <a:lnTo>
                      <a:pt x="305" y="218"/>
                    </a:lnTo>
                    <a:lnTo>
                      <a:pt x="320" y="193"/>
                    </a:lnTo>
                    <a:lnTo>
                      <a:pt x="337" y="169"/>
                    </a:lnTo>
                    <a:lnTo>
                      <a:pt x="359" y="146"/>
                    </a:lnTo>
                    <a:lnTo>
                      <a:pt x="374" y="127"/>
                    </a:lnTo>
                    <a:lnTo>
                      <a:pt x="389" y="105"/>
                    </a:lnTo>
                    <a:lnTo>
                      <a:pt x="403" y="81"/>
                    </a:lnTo>
                    <a:lnTo>
                      <a:pt x="418" y="59"/>
                    </a:lnTo>
                    <a:lnTo>
                      <a:pt x="436" y="37"/>
                    </a:lnTo>
                    <a:lnTo>
                      <a:pt x="455" y="19"/>
                    </a:lnTo>
                    <a:lnTo>
                      <a:pt x="480" y="6"/>
                    </a:lnTo>
                    <a:lnTo>
                      <a:pt x="509" y="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flipH="1">
                <a:off x="1080720" y="2683800"/>
                <a:ext cx="139680" cy="98280"/>
              </a:xfrm>
              <a:custGeom>
                <a:avLst/>
                <a:gdLst/>
                <a:ahLst/>
                <a:rect l="l" t="t" r="r" b="b"/>
                <a:pathLst>
                  <a:path w="673" h="403">
                    <a:moveTo>
                      <a:pt x="673" y="2"/>
                    </a:moveTo>
                    <a:lnTo>
                      <a:pt x="668" y="8"/>
                    </a:lnTo>
                    <a:lnTo>
                      <a:pt x="662" y="15"/>
                    </a:lnTo>
                    <a:lnTo>
                      <a:pt x="654" y="22"/>
                    </a:lnTo>
                    <a:lnTo>
                      <a:pt x="648" y="30"/>
                    </a:lnTo>
                    <a:lnTo>
                      <a:pt x="639" y="37"/>
                    </a:lnTo>
                    <a:lnTo>
                      <a:pt x="632" y="43"/>
                    </a:lnTo>
                    <a:lnTo>
                      <a:pt x="623" y="50"/>
                    </a:lnTo>
                    <a:lnTo>
                      <a:pt x="615" y="55"/>
                    </a:lnTo>
                    <a:lnTo>
                      <a:pt x="601" y="69"/>
                    </a:lnTo>
                    <a:lnTo>
                      <a:pt x="587" y="83"/>
                    </a:lnTo>
                    <a:lnTo>
                      <a:pt x="574" y="96"/>
                    </a:lnTo>
                    <a:lnTo>
                      <a:pt x="560" y="110"/>
                    </a:lnTo>
                    <a:lnTo>
                      <a:pt x="547" y="123"/>
                    </a:lnTo>
                    <a:lnTo>
                      <a:pt x="533" y="135"/>
                    </a:lnTo>
                    <a:lnTo>
                      <a:pt x="518" y="147"/>
                    </a:lnTo>
                    <a:lnTo>
                      <a:pt x="502" y="159"/>
                    </a:lnTo>
                    <a:lnTo>
                      <a:pt x="490" y="172"/>
                    </a:lnTo>
                    <a:lnTo>
                      <a:pt x="479" y="185"/>
                    </a:lnTo>
                    <a:lnTo>
                      <a:pt x="466" y="198"/>
                    </a:lnTo>
                    <a:lnTo>
                      <a:pt x="454" y="212"/>
                    </a:lnTo>
                    <a:lnTo>
                      <a:pt x="441" y="225"/>
                    </a:lnTo>
                    <a:lnTo>
                      <a:pt x="429" y="239"/>
                    </a:lnTo>
                    <a:lnTo>
                      <a:pt x="417" y="253"/>
                    </a:lnTo>
                    <a:lnTo>
                      <a:pt x="404" y="268"/>
                    </a:lnTo>
                    <a:lnTo>
                      <a:pt x="391" y="282"/>
                    </a:lnTo>
                    <a:lnTo>
                      <a:pt x="378" y="296"/>
                    </a:lnTo>
                    <a:lnTo>
                      <a:pt x="365" y="310"/>
                    </a:lnTo>
                    <a:lnTo>
                      <a:pt x="352" y="325"/>
                    </a:lnTo>
                    <a:lnTo>
                      <a:pt x="338" y="338"/>
                    </a:lnTo>
                    <a:lnTo>
                      <a:pt x="326" y="352"/>
                    </a:lnTo>
                    <a:lnTo>
                      <a:pt x="313" y="366"/>
                    </a:lnTo>
                    <a:lnTo>
                      <a:pt x="299" y="380"/>
                    </a:lnTo>
                    <a:lnTo>
                      <a:pt x="283" y="388"/>
                    </a:lnTo>
                    <a:lnTo>
                      <a:pt x="267" y="394"/>
                    </a:lnTo>
                    <a:lnTo>
                      <a:pt x="251" y="397"/>
                    </a:lnTo>
                    <a:lnTo>
                      <a:pt x="232" y="400"/>
                    </a:lnTo>
                    <a:lnTo>
                      <a:pt x="215" y="401"/>
                    </a:lnTo>
                    <a:lnTo>
                      <a:pt x="197" y="403"/>
                    </a:lnTo>
                    <a:lnTo>
                      <a:pt x="179" y="401"/>
                    </a:lnTo>
                    <a:lnTo>
                      <a:pt x="161" y="400"/>
                    </a:lnTo>
                    <a:lnTo>
                      <a:pt x="142" y="398"/>
                    </a:lnTo>
                    <a:lnTo>
                      <a:pt x="123" y="396"/>
                    </a:lnTo>
                    <a:lnTo>
                      <a:pt x="105" y="394"/>
                    </a:lnTo>
                    <a:lnTo>
                      <a:pt x="87" y="392"/>
                    </a:lnTo>
                    <a:lnTo>
                      <a:pt x="69" y="390"/>
                    </a:lnTo>
                    <a:lnTo>
                      <a:pt x="50" y="389"/>
                    </a:lnTo>
                    <a:lnTo>
                      <a:pt x="32" y="388"/>
                    </a:lnTo>
                    <a:lnTo>
                      <a:pt x="15" y="388"/>
                    </a:lnTo>
                    <a:lnTo>
                      <a:pt x="12" y="380"/>
                    </a:lnTo>
                    <a:lnTo>
                      <a:pt x="5" y="377"/>
                    </a:lnTo>
                    <a:lnTo>
                      <a:pt x="0" y="373"/>
                    </a:lnTo>
                    <a:lnTo>
                      <a:pt x="1" y="363"/>
                    </a:lnTo>
                    <a:lnTo>
                      <a:pt x="19" y="355"/>
                    </a:lnTo>
                    <a:lnTo>
                      <a:pt x="38" y="347"/>
                    </a:lnTo>
                    <a:lnTo>
                      <a:pt x="56" y="338"/>
                    </a:lnTo>
                    <a:lnTo>
                      <a:pt x="73" y="330"/>
                    </a:lnTo>
                    <a:lnTo>
                      <a:pt x="91" y="320"/>
                    </a:lnTo>
                    <a:lnTo>
                      <a:pt x="108" y="312"/>
                    </a:lnTo>
                    <a:lnTo>
                      <a:pt x="125" y="302"/>
                    </a:lnTo>
                    <a:lnTo>
                      <a:pt x="142" y="292"/>
                    </a:lnTo>
                    <a:lnTo>
                      <a:pt x="160" y="283"/>
                    </a:lnTo>
                    <a:lnTo>
                      <a:pt x="176" y="273"/>
                    </a:lnTo>
                    <a:lnTo>
                      <a:pt x="192" y="264"/>
                    </a:lnTo>
                    <a:lnTo>
                      <a:pt x="208" y="253"/>
                    </a:lnTo>
                    <a:lnTo>
                      <a:pt x="224" y="243"/>
                    </a:lnTo>
                    <a:lnTo>
                      <a:pt x="239" y="233"/>
                    </a:lnTo>
                    <a:lnTo>
                      <a:pt x="254" y="223"/>
                    </a:lnTo>
                    <a:lnTo>
                      <a:pt x="269" y="212"/>
                    </a:lnTo>
                    <a:lnTo>
                      <a:pt x="286" y="204"/>
                    </a:lnTo>
                    <a:lnTo>
                      <a:pt x="303" y="194"/>
                    </a:lnTo>
                    <a:lnTo>
                      <a:pt x="320" y="183"/>
                    </a:lnTo>
                    <a:lnTo>
                      <a:pt x="337" y="173"/>
                    </a:lnTo>
                    <a:lnTo>
                      <a:pt x="354" y="162"/>
                    </a:lnTo>
                    <a:lnTo>
                      <a:pt x="370" y="150"/>
                    </a:lnTo>
                    <a:lnTo>
                      <a:pt x="388" y="140"/>
                    </a:lnTo>
                    <a:lnTo>
                      <a:pt x="405" y="128"/>
                    </a:lnTo>
                    <a:lnTo>
                      <a:pt x="422" y="117"/>
                    </a:lnTo>
                    <a:lnTo>
                      <a:pt x="439" y="105"/>
                    </a:lnTo>
                    <a:lnTo>
                      <a:pt x="456" y="95"/>
                    </a:lnTo>
                    <a:lnTo>
                      <a:pt x="473" y="84"/>
                    </a:lnTo>
                    <a:lnTo>
                      <a:pt x="491" y="74"/>
                    </a:lnTo>
                    <a:lnTo>
                      <a:pt x="510" y="65"/>
                    </a:lnTo>
                    <a:lnTo>
                      <a:pt x="529" y="56"/>
                    </a:lnTo>
                    <a:lnTo>
                      <a:pt x="548" y="48"/>
                    </a:lnTo>
                    <a:lnTo>
                      <a:pt x="558" y="47"/>
                    </a:lnTo>
                    <a:lnTo>
                      <a:pt x="569" y="45"/>
                    </a:lnTo>
                    <a:lnTo>
                      <a:pt x="579" y="41"/>
                    </a:lnTo>
                    <a:lnTo>
                      <a:pt x="590" y="37"/>
                    </a:lnTo>
                    <a:lnTo>
                      <a:pt x="600" y="32"/>
                    </a:lnTo>
                    <a:lnTo>
                      <a:pt x="610" y="27"/>
                    </a:lnTo>
                    <a:lnTo>
                      <a:pt x="621" y="23"/>
                    </a:lnTo>
                    <a:lnTo>
                      <a:pt x="632" y="20"/>
                    </a:lnTo>
                    <a:lnTo>
                      <a:pt x="636" y="18"/>
                    </a:lnTo>
                    <a:lnTo>
                      <a:pt x="640" y="15"/>
                    </a:lnTo>
                    <a:lnTo>
                      <a:pt x="645" y="10"/>
                    </a:lnTo>
                    <a:lnTo>
                      <a:pt x="650" y="6"/>
                    </a:lnTo>
                    <a:lnTo>
                      <a:pt x="654" y="3"/>
                    </a:lnTo>
                    <a:lnTo>
                      <a:pt x="661" y="1"/>
                    </a:lnTo>
                    <a:lnTo>
                      <a:pt x="667" y="0"/>
                    </a:lnTo>
                    <a:lnTo>
                      <a:pt x="673" y="2"/>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1223640" y="2704680"/>
                <a:ext cx="33840" cy="20880"/>
              </a:xfrm>
              <a:custGeom>
                <a:avLst/>
                <a:gdLst/>
                <a:ahLst/>
                <a:rect l="l" t="t" r="r" b="b"/>
                <a:pathLst>
                  <a:path w="165" h="85">
                    <a:moveTo>
                      <a:pt x="165" y="85"/>
                    </a:moveTo>
                    <a:lnTo>
                      <a:pt x="146" y="78"/>
                    </a:lnTo>
                    <a:lnTo>
                      <a:pt x="124" y="77"/>
                    </a:lnTo>
                    <a:lnTo>
                      <a:pt x="103" y="78"/>
                    </a:lnTo>
                    <a:lnTo>
                      <a:pt x="81" y="79"/>
                    </a:lnTo>
                    <a:lnTo>
                      <a:pt x="61" y="79"/>
                    </a:lnTo>
                    <a:lnTo>
                      <a:pt x="43" y="75"/>
                    </a:lnTo>
                    <a:lnTo>
                      <a:pt x="28" y="64"/>
                    </a:lnTo>
                    <a:lnTo>
                      <a:pt x="17" y="46"/>
                    </a:lnTo>
                    <a:lnTo>
                      <a:pt x="0" y="0"/>
                    </a:lnTo>
                    <a:lnTo>
                      <a:pt x="24" y="8"/>
                    </a:lnTo>
                    <a:lnTo>
                      <a:pt x="45" y="17"/>
                    </a:lnTo>
                    <a:lnTo>
                      <a:pt x="65" y="30"/>
                    </a:lnTo>
                    <a:lnTo>
                      <a:pt x="85" y="43"/>
                    </a:lnTo>
                    <a:lnTo>
                      <a:pt x="103" y="56"/>
                    </a:lnTo>
                    <a:lnTo>
                      <a:pt x="122" y="68"/>
                    </a:lnTo>
                    <a:lnTo>
                      <a:pt x="144" y="77"/>
                    </a:lnTo>
                    <a:lnTo>
                      <a:pt x="165" y="85"/>
                    </a:lnTo>
                    <a:close/>
                  </a:path>
                </a:pathLst>
              </a:custGeom>
              <a:solidFill>
                <a:srgbClr val="8959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07" name=""/>
              <p:cNvSpPr/>
              <p:nvPr/>
            </p:nvSpPr>
            <p:spPr>
              <a:xfrm flipH="1">
                <a:off x="1164960" y="2724480"/>
                <a:ext cx="135720" cy="30600"/>
              </a:xfrm>
              <a:custGeom>
                <a:avLst/>
                <a:gdLst/>
                <a:ahLst/>
                <a:rect l="l" t="t" r="r" b="b"/>
                <a:pathLst>
                  <a:path w="653" h="127">
                    <a:moveTo>
                      <a:pt x="130" y="16"/>
                    </a:moveTo>
                    <a:lnTo>
                      <a:pt x="136" y="15"/>
                    </a:lnTo>
                    <a:lnTo>
                      <a:pt x="144" y="15"/>
                    </a:lnTo>
                    <a:lnTo>
                      <a:pt x="150" y="17"/>
                    </a:lnTo>
                    <a:lnTo>
                      <a:pt x="157" y="19"/>
                    </a:lnTo>
                    <a:lnTo>
                      <a:pt x="163" y="23"/>
                    </a:lnTo>
                    <a:lnTo>
                      <a:pt x="169" y="25"/>
                    </a:lnTo>
                    <a:lnTo>
                      <a:pt x="177" y="25"/>
                    </a:lnTo>
                    <a:lnTo>
                      <a:pt x="183" y="24"/>
                    </a:lnTo>
                    <a:lnTo>
                      <a:pt x="196" y="25"/>
                    </a:lnTo>
                    <a:lnTo>
                      <a:pt x="208" y="26"/>
                    </a:lnTo>
                    <a:lnTo>
                      <a:pt x="222" y="28"/>
                    </a:lnTo>
                    <a:lnTo>
                      <a:pt x="235" y="30"/>
                    </a:lnTo>
                    <a:lnTo>
                      <a:pt x="249" y="33"/>
                    </a:lnTo>
                    <a:lnTo>
                      <a:pt x="262" y="37"/>
                    </a:lnTo>
                    <a:lnTo>
                      <a:pt x="275" y="40"/>
                    </a:lnTo>
                    <a:lnTo>
                      <a:pt x="289" y="43"/>
                    </a:lnTo>
                    <a:lnTo>
                      <a:pt x="303" y="45"/>
                    </a:lnTo>
                    <a:lnTo>
                      <a:pt x="317" y="48"/>
                    </a:lnTo>
                    <a:lnTo>
                      <a:pt x="331" y="49"/>
                    </a:lnTo>
                    <a:lnTo>
                      <a:pt x="345" y="50"/>
                    </a:lnTo>
                    <a:lnTo>
                      <a:pt x="359" y="52"/>
                    </a:lnTo>
                    <a:lnTo>
                      <a:pt x="372" y="50"/>
                    </a:lnTo>
                    <a:lnTo>
                      <a:pt x="386" y="49"/>
                    </a:lnTo>
                    <a:lnTo>
                      <a:pt x="399" y="46"/>
                    </a:lnTo>
                    <a:lnTo>
                      <a:pt x="414" y="44"/>
                    </a:lnTo>
                    <a:lnTo>
                      <a:pt x="429" y="41"/>
                    </a:lnTo>
                    <a:lnTo>
                      <a:pt x="445" y="39"/>
                    </a:lnTo>
                    <a:lnTo>
                      <a:pt x="460" y="38"/>
                    </a:lnTo>
                    <a:lnTo>
                      <a:pt x="476" y="35"/>
                    </a:lnTo>
                    <a:lnTo>
                      <a:pt x="491" y="33"/>
                    </a:lnTo>
                    <a:lnTo>
                      <a:pt x="507" y="32"/>
                    </a:lnTo>
                    <a:lnTo>
                      <a:pt x="523" y="30"/>
                    </a:lnTo>
                    <a:lnTo>
                      <a:pt x="539" y="28"/>
                    </a:lnTo>
                    <a:lnTo>
                      <a:pt x="556" y="26"/>
                    </a:lnTo>
                    <a:lnTo>
                      <a:pt x="572" y="23"/>
                    </a:lnTo>
                    <a:lnTo>
                      <a:pt x="588" y="19"/>
                    </a:lnTo>
                    <a:lnTo>
                      <a:pt x="604" y="16"/>
                    </a:lnTo>
                    <a:lnTo>
                      <a:pt x="621" y="12"/>
                    </a:lnTo>
                    <a:lnTo>
                      <a:pt x="637" y="8"/>
                    </a:lnTo>
                    <a:lnTo>
                      <a:pt x="653" y="2"/>
                    </a:lnTo>
                    <a:lnTo>
                      <a:pt x="642" y="14"/>
                    </a:lnTo>
                    <a:lnTo>
                      <a:pt x="629" y="25"/>
                    </a:lnTo>
                    <a:lnTo>
                      <a:pt x="615" y="34"/>
                    </a:lnTo>
                    <a:lnTo>
                      <a:pt x="601" y="42"/>
                    </a:lnTo>
                    <a:lnTo>
                      <a:pt x="586" y="49"/>
                    </a:lnTo>
                    <a:lnTo>
                      <a:pt x="572" y="56"/>
                    </a:lnTo>
                    <a:lnTo>
                      <a:pt x="557" y="63"/>
                    </a:lnTo>
                    <a:lnTo>
                      <a:pt x="542" y="70"/>
                    </a:lnTo>
                    <a:lnTo>
                      <a:pt x="530" y="75"/>
                    </a:lnTo>
                    <a:lnTo>
                      <a:pt x="517" y="80"/>
                    </a:lnTo>
                    <a:lnTo>
                      <a:pt x="505" y="86"/>
                    </a:lnTo>
                    <a:lnTo>
                      <a:pt x="493" y="91"/>
                    </a:lnTo>
                    <a:lnTo>
                      <a:pt x="480" y="97"/>
                    </a:lnTo>
                    <a:lnTo>
                      <a:pt x="466" y="103"/>
                    </a:lnTo>
                    <a:lnTo>
                      <a:pt x="453" y="107"/>
                    </a:lnTo>
                    <a:lnTo>
                      <a:pt x="440" y="112"/>
                    </a:lnTo>
                    <a:lnTo>
                      <a:pt x="426" y="117"/>
                    </a:lnTo>
                    <a:lnTo>
                      <a:pt x="414" y="120"/>
                    </a:lnTo>
                    <a:lnTo>
                      <a:pt x="400" y="123"/>
                    </a:lnTo>
                    <a:lnTo>
                      <a:pt x="386" y="125"/>
                    </a:lnTo>
                    <a:lnTo>
                      <a:pt x="372" y="126"/>
                    </a:lnTo>
                    <a:lnTo>
                      <a:pt x="358" y="127"/>
                    </a:lnTo>
                    <a:lnTo>
                      <a:pt x="344" y="126"/>
                    </a:lnTo>
                    <a:lnTo>
                      <a:pt x="330" y="124"/>
                    </a:lnTo>
                    <a:lnTo>
                      <a:pt x="310" y="123"/>
                    </a:lnTo>
                    <a:lnTo>
                      <a:pt x="290" y="121"/>
                    </a:lnTo>
                    <a:lnTo>
                      <a:pt x="271" y="119"/>
                    </a:lnTo>
                    <a:lnTo>
                      <a:pt x="253" y="115"/>
                    </a:lnTo>
                    <a:lnTo>
                      <a:pt x="234" y="110"/>
                    </a:lnTo>
                    <a:lnTo>
                      <a:pt x="216" y="106"/>
                    </a:lnTo>
                    <a:lnTo>
                      <a:pt x="197" y="101"/>
                    </a:lnTo>
                    <a:lnTo>
                      <a:pt x="180" y="94"/>
                    </a:lnTo>
                    <a:lnTo>
                      <a:pt x="162" y="89"/>
                    </a:lnTo>
                    <a:lnTo>
                      <a:pt x="145" y="81"/>
                    </a:lnTo>
                    <a:lnTo>
                      <a:pt x="128" y="75"/>
                    </a:lnTo>
                    <a:lnTo>
                      <a:pt x="110" y="68"/>
                    </a:lnTo>
                    <a:lnTo>
                      <a:pt x="92" y="60"/>
                    </a:lnTo>
                    <a:lnTo>
                      <a:pt x="75" y="54"/>
                    </a:lnTo>
                    <a:lnTo>
                      <a:pt x="58" y="46"/>
                    </a:lnTo>
                    <a:lnTo>
                      <a:pt x="41" y="39"/>
                    </a:lnTo>
                    <a:lnTo>
                      <a:pt x="36" y="35"/>
                    </a:lnTo>
                    <a:lnTo>
                      <a:pt x="29" y="32"/>
                    </a:lnTo>
                    <a:lnTo>
                      <a:pt x="24" y="29"/>
                    </a:lnTo>
                    <a:lnTo>
                      <a:pt x="19" y="25"/>
                    </a:lnTo>
                    <a:lnTo>
                      <a:pt x="13" y="22"/>
                    </a:lnTo>
                    <a:lnTo>
                      <a:pt x="8" y="16"/>
                    </a:lnTo>
                    <a:lnTo>
                      <a:pt x="4" y="11"/>
                    </a:lnTo>
                    <a:lnTo>
                      <a:pt x="0" y="6"/>
                    </a:lnTo>
                    <a:lnTo>
                      <a:pt x="7" y="1"/>
                    </a:lnTo>
                    <a:lnTo>
                      <a:pt x="12" y="0"/>
                    </a:lnTo>
                    <a:lnTo>
                      <a:pt x="19" y="0"/>
                    </a:lnTo>
                    <a:lnTo>
                      <a:pt x="26" y="2"/>
                    </a:lnTo>
                    <a:lnTo>
                      <a:pt x="32" y="4"/>
                    </a:lnTo>
                    <a:lnTo>
                      <a:pt x="39" y="7"/>
                    </a:lnTo>
                    <a:lnTo>
                      <a:pt x="46" y="7"/>
                    </a:lnTo>
                    <a:lnTo>
                      <a:pt x="54" y="6"/>
                    </a:lnTo>
                    <a:lnTo>
                      <a:pt x="65" y="7"/>
                    </a:lnTo>
                    <a:lnTo>
                      <a:pt x="75" y="6"/>
                    </a:lnTo>
                    <a:lnTo>
                      <a:pt x="85" y="6"/>
                    </a:lnTo>
                    <a:lnTo>
                      <a:pt x="95" y="4"/>
                    </a:lnTo>
                    <a:lnTo>
                      <a:pt x="103" y="6"/>
                    </a:lnTo>
                    <a:lnTo>
                      <a:pt x="113" y="7"/>
                    </a:lnTo>
                    <a:lnTo>
                      <a:pt x="121" y="11"/>
                    </a:lnTo>
                    <a:lnTo>
                      <a:pt x="130" y="16"/>
                    </a:lnTo>
                    <a:close/>
                  </a:path>
                </a:pathLst>
              </a:custGeom>
              <a:solidFill>
                <a:srgbClr val="8959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grpSp>
      </p:grpSp>
    </p:spTree>
  </p:cSld>
  <p:transition>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08" name=""/>
          <p:cNvGrpSpPr/>
          <p:nvPr/>
        </p:nvGrpSpPr>
        <p:grpSpPr>
          <a:xfrm>
            <a:off x="304920" y="138240"/>
            <a:ext cx="8326440" cy="6453000"/>
            <a:chOff x="304920" y="138240"/>
            <a:chExt cx="8326440" cy="6453000"/>
          </a:xfrm>
        </p:grpSpPr>
        <p:sp>
          <p:nvSpPr>
            <p:cNvPr id="2309" name=""/>
            <p:cNvSpPr/>
            <p:nvPr/>
          </p:nvSpPr>
          <p:spPr>
            <a:xfrm>
              <a:off x="304920" y="138240"/>
              <a:ext cx="3595680" cy="92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SINIF: 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DERS  : Sosyal Bilgil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KONU :</a:t>
              </a:r>
              <a:r>
                <a:rPr b="0" lang="tr-TR" sz="1400" spc="-1" strike="noStrike">
                  <a:solidFill>
                    <a:srgbClr val="0000a4"/>
                  </a:solidFill>
                  <a:latin typeface="Comic Sans MS"/>
                </a:rPr>
                <a:t> </a:t>
              </a:r>
              <a:r>
                <a:rPr b="0" sz="1400" spc="-1" strike="noStrike">
                  <a:solidFill>
                    <a:srgbClr val="0000a4"/>
                  </a:solidFill>
                  <a:latin typeface="Comic Sans MS"/>
                </a:rPr>
                <a:t>Mondros Ateşkes Antla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  </a:t>
              </a:r>
              <a:r>
                <a:rPr b="0" lang="tr-TR" sz="1400" spc="-1" strike="noStrike">
                  <a:solidFill>
                    <a:srgbClr val="0000a4"/>
                  </a:solidFill>
                  <a:latin typeface="Comic Sans MS"/>
                </a:rPr>
                <a:t>           </a:t>
              </a:r>
              <a:r>
                <a:rPr b="0" sz="1400" spc="-1" strike="noStrike">
                  <a:solidFill>
                    <a:srgbClr val="0000a4"/>
                  </a:solidFill>
                  <a:latin typeface="Comic Sans MS"/>
                </a:rPr>
                <a:t>ve Yurdumuzun İşgali</a:t>
              </a:r>
              <a:endParaRPr b="0" lang="en-US" sz="1400" spc="-1" strike="noStrike">
                <a:solidFill>
                  <a:srgbClr val="ffffff"/>
                </a:solidFill>
                <a:latin typeface="Times New Roman"/>
              </a:endParaRPr>
            </a:p>
          </p:txBody>
        </p:sp>
        <p:sp>
          <p:nvSpPr>
            <p:cNvPr id="2310" name=""/>
            <p:cNvSpPr/>
            <p:nvPr/>
          </p:nvSpPr>
          <p:spPr>
            <a:xfrm>
              <a:off x="3643200" y="2981160"/>
              <a:ext cx="4357800" cy="68580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Resim sana ne anlatıyor. Bu durumu yorumla</a:t>
              </a:r>
              <a:r>
                <a:rPr b="0" lang="en-US" sz="1200" spc="-1" strike="noStrike">
                  <a:solidFill>
                    <a:srgbClr val="0000a4"/>
                  </a:solidFill>
                  <a:latin typeface="Times New Roman"/>
                </a:rPr>
                <a:t>.</a:t>
              </a:r>
              <a:endParaRPr b="0" lang="en-US" sz="1200" spc="-1" strike="noStrike">
                <a:solidFill>
                  <a:srgbClr val="ffffff"/>
                </a:solidFill>
                <a:latin typeface="Times New Roman"/>
              </a:endParaRPr>
            </a:p>
          </p:txBody>
        </p:sp>
        <p:sp>
          <p:nvSpPr>
            <p:cNvPr id="2311" name=""/>
            <p:cNvSpPr/>
            <p:nvPr/>
          </p:nvSpPr>
          <p:spPr>
            <a:xfrm flipH="1">
              <a:off x="1471680" y="1150920"/>
              <a:ext cx="7159680" cy="1600200"/>
            </a:xfrm>
            <a:custGeom>
              <a:avLst/>
              <a:gdLst/>
              <a:ahLst/>
              <a:rect l="l" t="t" r="r" b="b"/>
              <a:pathLst>
                <a:path w="21600" h="21600">
                  <a:moveTo>
                    <a:pt x="0" y="0"/>
                  </a:moveTo>
                  <a:lnTo>
                    <a:pt x="21600" y="0"/>
                  </a:lnTo>
                  <a:lnTo>
                    <a:pt x="21600" y="21600"/>
                  </a:lnTo>
                  <a:lnTo>
                    <a:pt x="0" y="21600"/>
                  </a:lnTo>
                  <a:close/>
                </a:path>
                <a:path fill="none" w="21600" h="21600">
                  <a:moveTo>
                    <a:pt x="21829" y="1542"/>
                  </a:moveTo>
                  <a:lnTo>
                    <a:pt x="23879" y="1542"/>
                  </a:lnTo>
                  <a:lnTo>
                    <a:pt x="23879" y="13757"/>
                  </a:lnTo>
                  <a:lnTo>
                    <a:pt x="22136" y="25735"/>
                  </a:lnTo>
                </a:path>
              </a:pathLst>
            </a:custGeom>
            <a:solidFill>
              <a:srgbClr val="ffffff"/>
            </a:solidFill>
            <a:ln w="190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1914-1918 yılları arasında birçok devletin katıldığı büyük savaşım. Bu savaşa  Osmanlı Devleti de katıldı.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en hangi savaşı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30 Ekim 1918 yılında bu savaşı bitirdim. Ama antlaşma hiç Osmanlı Devletine uygun değil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en hangi antlaşmayım?……………………………………………………………………………………</a:t>
              </a:r>
              <a:endParaRPr b="0" lang="en-US" sz="1400" spc="-1" strike="noStrike">
                <a:solidFill>
                  <a:srgbClr val="ffffff"/>
                </a:solidFill>
                <a:latin typeface="Times New Roman"/>
              </a:endParaRPr>
            </a:p>
          </p:txBody>
        </p:sp>
        <p:sp>
          <p:nvSpPr>
            <p:cNvPr id="2312" name=""/>
            <p:cNvSpPr/>
            <p:nvPr/>
          </p:nvSpPr>
          <p:spPr>
            <a:xfrm>
              <a:off x="449280" y="4191120"/>
              <a:ext cx="4046400" cy="240012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antlaşmanın koşullarını liste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p:txBody>
        </p:sp>
        <p:sp>
          <p:nvSpPr>
            <p:cNvPr id="2313" name=""/>
            <p:cNvSpPr/>
            <p:nvPr/>
          </p:nvSpPr>
          <p:spPr>
            <a:xfrm>
              <a:off x="4495680" y="4038480"/>
              <a:ext cx="4046760" cy="2286000"/>
            </a:xfrm>
            <a:prstGeom prst="flowChartDelay">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Sence; bu antlaşmanın en tehlikeli maddeleri hangileridir? Ya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endParaRPr b="0" lang="en-US" sz="1600" spc="-1" strike="noStrike">
                <a:solidFill>
                  <a:srgbClr val="ffffff"/>
                </a:solidFill>
                <a:latin typeface="Times New Roman"/>
              </a:endParaRPr>
            </a:p>
          </p:txBody>
        </p:sp>
        <p:sp>
          <p:nvSpPr>
            <p:cNvPr id="2314" name=""/>
            <p:cNvSpPr/>
            <p:nvPr/>
          </p:nvSpPr>
          <p:spPr>
            <a:xfrm>
              <a:off x="3071880" y="4581360"/>
              <a:ext cx="1555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2315" name=""/>
            <p:cNvGrpSpPr/>
            <p:nvPr/>
          </p:nvGrpSpPr>
          <p:grpSpPr>
            <a:xfrm>
              <a:off x="1428840" y="2878560"/>
              <a:ext cx="3550680" cy="1993320"/>
              <a:chOff x="1428840" y="2878560"/>
              <a:chExt cx="3550680" cy="1993320"/>
            </a:xfrm>
          </p:grpSpPr>
          <p:sp>
            <p:nvSpPr>
              <p:cNvPr id="2316" name=""/>
              <p:cNvSpPr/>
              <p:nvPr/>
            </p:nvSpPr>
            <p:spPr>
              <a:xfrm rot="669000">
                <a:off x="1529640" y="3189240"/>
                <a:ext cx="3348720" cy="1371600"/>
              </a:xfrm>
              <a:custGeom>
                <a:avLst/>
                <a:gdLst/>
                <a:ahLst/>
                <a:rect l="l" t="t" r="r" b="b"/>
                <a:pathLst>
                  <a:path w="3873" h="1906">
                    <a:moveTo>
                      <a:pt x="1718" y="193"/>
                    </a:moveTo>
                    <a:lnTo>
                      <a:pt x="1672" y="245"/>
                    </a:lnTo>
                    <a:lnTo>
                      <a:pt x="1528" y="251"/>
                    </a:lnTo>
                    <a:lnTo>
                      <a:pt x="1483" y="271"/>
                    </a:lnTo>
                    <a:lnTo>
                      <a:pt x="1380" y="267"/>
                    </a:lnTo>
                    <a:lnTo>
                      <a:pt x="1364" y="296"/>
                    </a:lnTo>
                    <a:lnTo>
                      <a:pt x="1271" y="340"/>
                    </a:lnTo>
                    <a:lnTo>
                      <a:pt x="1155" y="428"/>
                    </a:lnTo>
                    <a:lnTo>
                      <a:pt x="1016" y="479"/>
                    </a:lnTo>
                    <a:lnTo>
                      <a:pt x="1016" y="512"/>
                    </a:lnTo>
                    <a:lnTo>
                      <a:pt x="965" y="564"/>
                    </a:lnTo>
                    <a:lnTo>
                      <a:pt x="903" y="567"/>
                    </a:lnTo>
                    <a:lnTo>
                      <a:pt x="896" y="557"/>
                    </a:lnTo>
                    <a:lnTo>
                      <a:pt x="848" y="560"/>
                    </a:lnTo>
                    <a:lnTo>
                      <a:pt x="787" y="580"/>
                    </a:lnTo>
                    <a:lnTo>
                      <a:pt x="749" y="567"/>
                    </a:lnTo>
                    <a:lnTo>
                      <a:pt x="681" y="567"/>
                    </a:lnTo>
                    <a:lnTo>
                      <a:pt x="633" y="583"/>
                    </a:lnTo>
                    <a:lnTo>
                      <a:pt x="600" y="573"/>
                    </a:lnTo>
                    <a:lnTo>
                      <a:pt x="558" y="640"/>
                    </a:lnTo>
                    <a:lnTo>
                      <a:pt x="598" y="666"/>
                    </a:lnTo>
                    <a:lnTo>
                      <a:pt x="728" y="667"/>
                    </a:lnTo>
                    <a:lnTo>
                      <a:pt x="736" y="695"/>
                    </a:lnTo>
                    <a:lnTo>
                      <a:pt x="610" y="695"/>
                    </a:lnTo>
                    <a:lnTo>
                      <a:pt x="581" y="727"/>
                    </a:lnTo>
                    <a:lnTo>
                      <a:pt x="543" y="724"/>
                    </a:lnTo>
                    <a:lnTo>
                      <a:pt x="511" y="743"/>
                    </a:lnTo>
                    <a:lnTo>
                      <a:pt x="514" y="787"/>
                    </a:lnTo>
                    <a:lnTo>
                      <a:pt x="479" y="808"/>
                    </a:lnTo>
                    <a:lnTo>
                      <a:pt x="450" y="798"/>
                    </a:lnTo>
                    <a:lnTo>
                      <a:pt x="395" y="822"/>
                    </a:lnTo>
                    <a:lnTo>
                      <a:pt x="382" y="795"/>
                    </a:lnTo>
                    <a:lnTo>
                      <a:pt x="353" y="786"/>
                    </a:lnTo>
                    <a:lnTo>
                      <a:pt x="318" y="795"/>
                    </a:lnTo>
                    <a:lnTo>
                      <a:pt x="321" y="824"/>
                    </a:lnTo>
                    <a:lnTo>
                      <a:pt x="247" y="811"/>
                    </a:lnTo>
                    <a:lnTo>
                      <a:pt x="221" y="795"/>
                    </a:lnTo>
                    <a:lnTo>
                      <a:pt x="151" y="816"/>
                    </a:lnTo>
                    <a:lnTo>
                      <a:pt x="74" y="865"/>
                    </a:lnTo>
                    <a:lnTo>
                      <a:pt x="64" y="901"/>
                    </a:lnTo>
                    <a:lnTo>
                      <a:pt x="16" y="933"/>
                    </a:lnTo>
                    <a:lnTo>
                      <a:pt x="26" y="968"/>
                    </a:lnTo>
                    <a:lnTo>
                      <a:pt x="0" y="1032"/>
                    </a:lnTo>
                    <a:lnTo>
                      <a:pt x="106" y="1006"/>
                    </a:lnTo>
                    <a:lnTo>
                      <a:pt x="131" y="1022"/>
                    </a:lnTo>
                    <a:lnTo>
                      <a:pt x="148" y="1064"/>
                    </a:lnTo>
                    <a:lnTo>
                      <a:pt x="112" y="1058"/>
                    </a:lnTo>
                    <a:lnTo>
                      <a:pt x="90" y="1103"/>
                    </a:lnTo>
                    <a:lnTo>
                      <a:pt x="119" y="1122"/>
                    </a:lnTo>
                    <a:lnTo>
                      <a:pt x="122" y="1180"/>
                    </a:lnTo>
                    <a:lnTo>
                      <a:pt x="180" y="1212"/>
                    </a:lnTo>
                    <a:lnTo>
                      <a:pt x="135" y="1253"/>
                    </a:lnTo>
                    <a:lnTo>
                      <a:pt x="160" y="1308"/>
                    </a:lnTo>
                    <a:lnTo>
                      <a:pt x="194" y="1323"/>
                    </a:lnTo>
                    <a:lnTo>
                      <a:pt x="148" y="1350"/>
                    </a:lnTo>
                    <a:lnTo>
                      <a:pt x="106" y="1340"/>
                    </a:lnTo>
                    <a:lnTo>
                      <a:pt x="90" y="1286"/>
                    </a:lnTo>
                    <a:lnTo>
                      <a:pt x="74" y="1289"/>
                    </a:lnTo>
                    <a:lnTo>
                      <a:pt x="75" y="1344"/>
                    </a:lnTo>
                    <a:lnTo>
                      <a:pt x="41" y="1379"/>
                    </a:lnTo>
                    <a:lnTo>
                      <a:pt x="80" y="1398"/>
                    </a:lnTo>
                    <a:lnTo>
                      <a:pt x="99" y="1420"/>
                    </a:lnTo>
                    <a:lnTo>
                      <a:pt x="135" y="1382"/>
                    </a:lnTo>
                    <a:lnTo>
                      <a:pt x="151" y="1404"/>
                    </a:lnTo>
                    <a:lnTo>
                      <a:pt x="148" y="1420"/>
                    </a:lnTo>
                    <a:lnTo>
                      <a:pt x="233" y="1458"/>
                    </a:lnTo>
                    <a:lnTo>
                      <a:pt x="221" y="1495"/>
                    </a:lnTo>
                    <a:lnTo>
                      <a:pt x="183" y="1540"/>
                    </a:lnTo>
                    <a:lnTo>
                      <a:pt x="209" y="1537"/>
                    </a:lnTo>
                    <a:lnTo>
                      <a:pt x="240" y="1644"/>
                    </a:lnTo>
                    <a:lnTo>
                      <a:pt x="286" y="1604"/>
                    </a:lnTo>
                    <a:lnTo>
                      <a:pt x="331" y="1636"/>
                    </a:lnTo>
                    <a:lnTo>
                      <a:pt x="305" y="1665"/>
                    </a:lnTo>
                    <a:lnTo>
                      <a:pt x="257" y="1681"/>
                    </a:lnTo>
                    <a:lnTo>
                      <a:pt x="254" y="1717"/>
                    </a:lnTo>
                    <a:lnTo>
                      <a:pt x="337" y="1739"/>
                    </a:lnTo>
                    <a:lnTo>
                      <a:pt x="434" y="1688"/>
                    </a:lnTo>
                    <a:lnTo>
                      <a:pt x="456" y="1710"/>
                    </a:lnTo>
                    <a:lnTo>
                      <a:pt x="401" y="1752"/>
                    </a:lnTo>
                    <a:lnTo>
                      <a:pt x="345" y="1753"/>
                    </a:lnTo>
                    <a:lnTo>
                      <a:pt x="305" y="1791"/>
                    </a:lnTo>
                    <a:lnTo>
                      <a:pt x="328" y="1820"/>
                    </a:lnTo>
                    <a:lnTo>
                      <a:pt x="440" y="1763"/>
                    </a:lnTo>
                    <a:lnTo>
                      <a:pt x="424" y="1827"/>
                    </a:lnTo>
                    <a:lnTo>
                      <a:pt x="508" y="1763"/>
                    </a:lnTo>
                    <a:lnTo>
                      <a:pt x="640" y="1788"/>
                    </a:lnTo>
                    <a:lnTo>
                      <a:pt x="585" y="1820"/>
                    </a:lnTo>
                    <a:lnTo>
                      <a:pt x="652" y="1836"/>
                    </a:lnTo>
                    <a:lnTo>
                      <a:pt x="722" y="1906"/>
                    </a:lnTo>
                    <a:lnTo>
                      <a:pt x="842" y="1891"/>
                    </a:lnTo>
                    <a:lnTo>
                      <a:pt x="946" y="1869"/>
                    </a:lnTo>
                    <a:lnTo>
                      <a:pt x="1007" y="1766"/>
                    </a:lnTo>
                    <a:lnTo>
                      <a:pt x="988" y="1711"/>
                    </a:lnTo>
                    <a:lnTo>
                      <a:pt x="1052" y="1678"/>
                    </a:lnTo>
                    <a:lnTo>
                      <a:pt x="1145" y="1679"/>
                    </a:lnTo>
                    <a:lnTo>
                      <a:pt x="1216" y="1705"/>
                    </a:lnTo>
                    <a:lnTo>
                      <a:pt x="1258" y="1750"/>
                    </a:lnTo>
                    <a:lnTo>
                      <a:pt x="1322" y="1750"/>
                    </a:lnTo>
                    <a:lnTo>
                      <a:pt x="1412" y="1830"/>
                    </a:lnTo>
                    <a:lnTo>
                      <a:pt x="1450" y="1805"/>
                    </a:lnTo>
                    <a:lnTo>
                      <a:pt x="1526" y="1797"/>
                    </a:lnTo>
                    <a:lnTo>
                      <a:pt x="1588" y="1774"/>
                    </a:lnTo>
                    <a:lnTo>
                      <a:pt x="1642" y="1787"/>
                    </a:lnTo>
                    <a:lnTo>
                      <a:pt x="1715" y="1747"/>
                    </a:lnTo>
                    <a:lnTo>
                      <a:pt x="1745" y="1749"/>
                    </a:lnTo>
                    <a:lnTo>
                      <a:pt x="1729" y="1720"/>
                    </a:lnTo>
                    <a:lnTo>
                      <a:pt x="1784" y="1656"/>
                    </a:lnTo>
                    <a:lnTo>
                      <a:pt x="1816" y="1611"/>
                    </a:lnTo>
                    <a:lnTo>
                      <a:pt x="1863" y="1609"/>
                    </a:lnTo>
                    <a:lnTo>
                      <a:pt x="1899" y="1624"/>
                    </a:lnTo>
                    <a:lnTo>
                      <a:pt x="1955" y="1635"/>
                    </a:lnTo>
                    <a:lnTo>
                      <a:pt x="1989" y="1620"/>
                    </a:lnTo>
                    <a:lnTo>
                      <a:pt x="2033" y="1621"/>
                    </a:lnTo>
                    <a:lnTo>
                      <a:pt x="2038" y="1563"/>
                    </a:lnTo>
                    <a:lnTo>
                      <a:pt x="2079" y="1550"/>
                    </a:lnTo>
                    <a:lnTo>
                      <a:pt x="2108" y="1498"/>
                    </a:lnTo>
                    <a:lnTo>
                      <a:pt x="2150" y="1543"/>
                    </a:lnTo>
                    <a:lnTo>
                      <a:pt x="2190" y="1544"/>
                    </a:lnTo>
                    <a:lnTo>
                      <a:pt x="2156" y="1624"/>
                    </a:lnTo>
                    <a:lnTo>
                      <a:pt x="2102" y="1630"/>
                    </a:lnTo>
                    <a:lnTo>
                      <a:pt x="2073" y="1695"/>
                    </a:lnTo>
                    <a:lnTo>
                      <a:pt x="2131" y="1755"/>
                    </a:lnTo>
                    <a:lnTo>
                      <a:pt x="2108" y="1829"/>
                    </a:lnTo>
                    <a:lnTo>
                      <a:pt x="2126" y="1832"/>
                    </a:lnTo>
                    <a:lnTo>
                      <a:pt x="2156" y="1803"/>
                    </a:lnTo>
                    <a:lnTo>
                      <a:pt x="2195" y="1813"/>
                    </a:lnTo>
                    <a:lnTo>
                      <a:pt x="2214" y="1781"/>
                    </a:lnTo>
                    <a:lnTo>
                      <a:pt x="2230" y="1717"/>
                    </a:lnTo>
                    <a:lnTo>
                      <a:pt x="2264" y="1708"/>
                    </a:lnTo>
                    <a:lnTo>
                      <a:pt x="2273" y="1670"/>
                    </a:lnTo>
                    <a:lnTo>
                      <a:pt x="2238" y="1601"/>
                    </a:lnTo>
                    <a:lnTo>
                      <a:pt x="2280" y="1569"/>
                    </a:lnTo>
                    <a:lnTo>
                      <a:pt x="2280" y="1518"/>
                    </a:lnTo>
                    <a:lnTo>
                      <a:pt x="2315" y="1507"/>
                    </a:lnTo>
                    <a:lnTo>
                      <a:pt x="2379" y="1518"/>
                    </a:lnTo>
                    <a:lnTo>
                      <a:pt x="2469" y="1495"/>
                    </a:lnTo>
                    <a:lnTo>
                      <a:pt x="2505" y="1502"/>
                    </a:lnTo>
                    <a:lnTo>
                      <a:pt x="2534" y="1486"/>
                    </a:lnTo>
                    <a:lnTo>
                      <a:pt x="2588" y="1444"/>
                    </a:lnTo>
                    <a:lnTo>
                      <a:pt x="2692" y="1432"/>
                    </a:lnTo>
                    <a:lnTo>
                      <a:pt x="2813" y="1424"/>
                    </a:lnTo>
                    <a:lnTo>
                      <a:pt x="2885" y="1411"/>
                    </a:lnTo>
                    <a:lnTo>
                      <a:pt x="2917" y="1364"/>
                    </a:lnTo>
                    <a:lnTo>
                      <a:pt x="2991" y="1366"/>
                    </a:lnTo>
                    <a:lnTo>
                      <a:pt x="3120" y="1244"/>
                    </a:lnTo>
                    <a:lnTo>
                      <a:pt x="3190" y="1247"/>
                    </a:lnTo>
                    <a:lnTo>
                      <a:pt x="3206" y="1186"/>
                    </a:lnTo>
                    <a:lnTo>
                      <a:pt x="3306" y="1154"/>
                    </a:lnTo>
                    <a:lnTo>
                      <a:pt x="3360" y="1111"/>
                    </a:lnTo>
                    <a:lnTo>
                      <a:pt x="3396" y="1151"/>
                    </a:lnTo>
                    <a:lnTo>
                      <a:pt x="3464" y="1135"/>
                    </a:lnTo>
                    <a:lnTo>
                      <a:pt x="3466" y="1092"/>
                    </a:lnTo>
                    <a:lnTo>
                      <a:pt x="3495" y="1035"/>
                    </a:lnTo>
                    <a:lnTo>
                      <a:pt x="3618" y="1042"/>
                    </a:lnTo>
                    <a:lnTo>
                      <a:pt x="3653" y="1016"/>
                    </a:lnTo>
                    <a:lnTo>
                      <a:pt x="3679" y="1019"/>
                    </a:lnTo>
                    <a:lnTo>
                      <a:pt x="3737" y="974"/>
                    </a:lnTo>
                    <a:lnTo>
                      <a:pt x="3772" y="968"/>
                    </a:lnTo>
                    <a:lnTo>
                      <a:pt x="3778" y="1022"/>
                    </a:lnTo>
                    <a:lnTo>
                      <a:pt x="3795" y="1028"/>
                    </a:lnTo>
                    <a:lnTo>
                      <a:pt x="3824" y="997"/>
                    </a:lnTo>
                    <a:lnTo>
                      <a:pt x="3833" y="945"/>
                    </a:lnTo>
                    <a:lnTo>
                      <a:pt x="3873" y="910"/>
                    </a:lnTo>
                    <a:lnTo>
                      <a:pt x="3849" y="870"/>
                    </a:lnTo>
                    <a:lnTo>
                      <a:pt x="3811" y="852"/>
                    </a:lnTo>
                    <a:lnTo>
                      <a:pt x="3734" y="855"/>
                    </a:lnTo>
                    <a:lnTo>
                      <a:pt x="3737" y="788"/>
                    </a:lnTo>
                    <a:lnTo>
                      <a:pt x="3756" y="753"/>
                    </a:lnTo>
                    <a:lnTo>
                      <a:pt x="3733" y="719"/>
                    </a:lnTo>
                    <a:lnTo>
                      <a:pt x="3705" y="689"/>
                    </a:lnTo>
                    <a:lnTo>
                      <a:pt x="3714" y="676"/>
                    </a:lnTo>
                    <a:lnTo>
                      <a:pt x="3689" y="637"/>
                    </a:lnTo>
                    <a:lnTo>
                      <a:pt x="3695" y="605"/>
                    </a:lnTo>
                    <a:lnTo>
                      <a:pt x="3676" y="560"/>
                    </a:lnTo>
                    <a:lnTo>
                      <a:pt x="3636" y="505"/>
                    </a:lnTo>
                    <a:lnTo>
                      <a:pt x="3611" y="496"/>
                    </a:lnTo>
                    <a:lnTo>
                      <a:pt x="3660" y="470"/>
                    </a:lnTo>
                    <a:lnTo>
                      <a:pt x="3689" y="425"/>
                    </a:lnTo>
                    <a:lnTo>
                      <a:pt x="3676" y="402"/>
                    </a:lnTo>
                    <a:lnTo>
                      <a:pt x="3692" y="370"/>
                    </a:lnTo>
                    <a:lnTo>
                      <a:pt x="3685" y="344"/>
                    </a:lnTo>
                    <a:lnTo>
                      <a:pt x="3676" y="326"/>
                    </a:lnTo>
                    <a:lnTo>
                      <a:pt x="3611" y="309"/>
                    </a:lnTo>
                    <a:lnTo>
                      <a:pt x="3611" y="309"/>
                    </a:lnTo>
                    <a:lnTo>
                      <a:pt x="3512" y="312"/>
                    </a:lnTo>
                    <a:lnTo>
                      <a:pt x="3472" y="281"/>
                    </a:lnTo>
                    <a:lnTo>
                      <a:pt x="3412" y="170"/>
                    </a:lnTo>
                    <a:lnTo>
                      <a:pt x="3440" y="127"/>
                    </a:lnTo>
                    <a:lnTo>
                      <a:pt x="3335" y="69"/>
                    </a:lnTo>
                    <a:lnTo>
                      <a:pt x="3268" y="75"/>
                    </a:lnTo>
                    <a:lnTo>
                      <a:pt x="3242" y="52"/>
                    </a:lnTo>
                    <a:lnTo>
                      <a:pt x="3248" y="56"/>
                    </a:lnTo>
                    <a:lnTo>
                      <a:pt x="3300" y="36"/>
                    </a:lnTo>
                    <a:lnTo>
                      <a:pt x="3251" y="17"/>
                    </a:lnTo>
                    <a:lnTo>
                      <a:pt x="3229" y="24"/>
                    </a:lnTo>
                    <a:lnTo>
                      <a:pt x="3239" y="11"/>
                    </a:lnTo>
                    <a:lnTo>
                      <a:pt x="3204" y="0"/>
                    </a:lnTo>
                    <a:lnTo>
                      <a:pt x="3155" y="30"/>
                    </a:lnTo>
                    <a:lnTo>
                      <a:pt x="3078" y="40"/>
                    </a:lnTo>
                    <a:lnTo>
                      <a:pt x="3055" y="27"/>
                    </a:lnTo>
                    <a:lnTo>
                      <a:pt x="3036" y="72"/>
                    </a:lnTo>
                    <a:lnTo>
                      <a:pt x="3006" y="62"/>
                    </a:lnTo>
                    <a:lnTo>
                      <a:pt x="2933" y="117"/>
                    </a:lnTo>
                    <a:lnTo>
                      <a:pt x="2914" y="168"/>
                    </a:lnTo>
                    <a:lnTo>
                      <a:pt x="2881" y="165"/>
                    </a:lnTo>
                    <a:lnTo>
                      <a:pt x="2804" y="248"/>
                    </a:lnTo>
                    <a:lnTo>
                      <a:pt x="2765" y="261"/>
                    </a:lnTo>
                    <a:lnTo>
                      <a:pt x="2747" y="295"/>
                    </a:lnTo>
                    <a:lnTo>
                      <a:pt x="2662" y="296"/>
                    </a:lnTo>
                    <a:lnTo>
                      <a:pt x="2598" y="280"/>
                    </a:lnTo>
                    <a:lnTo>
                      <a:pt x="2530" y="293"/>
                    </a:lnTo>
                    <a:lnTo>
                      <a:pt x="2461" y="311"/>
                    </a:lnTo>
                    <a:lnTo>
                      <a:pt x="2418" y="357"/>
                    </a:lnTo>
                    <a:lnTo>
                      <a:pt x="2383" y="368"/>
                    </a:lnTo>
                    <a:lnTo>
                      <a:pt x="2293" y="370"/>
                    </a:lnTo>
                    <a:lnTo>
                      <a:pt x="2280" y="332"/>
                    </a:lnTo>
                    <a:lnTo>
                      <a:pt x="2260" y="373"/>
                    </a:lnTo>
                    <a:lnTo>
                      <a:pt x="2209" y="338"/>
                    </a:lnTo>
                    <a:lnTo>
                      <a:pt x="2154" y="377"/>
                    </a:lnTo>
                    <a:lnTo>
                      <a:pt x="2126" y="341"/>
                    </a:lnTo>
                    <a:lnTo>
                      <a:pt x="2051" y="322"/>
                    </a:lnTo>
                    <a:lnTo>
                      <a:pt x="2013" y="373"/>
                    </a:lnTo>
                    <a:lnTo>
                      <a:pt x="1923" y="332"/>
                    </a:lnTo>
                    <a:lnTo>
                      <a:pt x="1914" y="273"/>
                    </a:lnTo>
                    <a:lnTo>
                      <a:pt x="1865" y="293"/>
                    </a:lnTo>
                    <a:lnTo>
                      <a:pt x="1820" y="296"/>
                    </a:lnTo>
                    <a:lnTo>
                      <a:pt x="1746" y="248"/>
                    </a:lnTo>
                    <a:lnTo>
                      <a:pt x="1749" y="197"/>
                    </a:lnTo>
                    <a:lnTo>
                      <a:pt x="1718" y="193"/>
                    </a:lnTo>
                    <a:close/>
                  </a:path>
                </a:pathLst>
              </a:custGeom>
              <a:solidFill>
                <a:srgbClr val="00ffff"/>
              </a:solidFill>
              <a:ln w="190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rot="669000">
                <a:off x="1535400" y="3138120"/>
                <a:ext cx="563400" cy="435960"/>
              </a:xfrm>
              <a:custGeom>
                <a:avLst/>
                <a:gdLst/>
                <a:ahLst/>
                <a:rect l="l" t="t" r="r" b="b"/>
                <a:pathLst>
                  <a:path w="652" h="606">
                    <a:moveTo>
                      <a:pt x="248" y="0"/>
                    </a:moveTo>
                    <a:lnTo>
                      <a:pt x="0" y="68"/>
                    </a:lnTo>
                    <a:lnTo>
                      <a:pt x="51" y="408"/>
                    </a:lnTo>
                    <a:lnTo>
                      <a:pt x="60" y="402"/>
                    </a:lnTo>
                    <a:lnTo>
                      <a:pt x="57" y="453"/>
                    </a:lnTo>
                    <a:lnTo>
                      <a:pt x="80" y="462"/>
                    </a:lnTo>
                    <a:lnTo>
                      <a:pt x="138" y="466"/>
                    </a:lnTo>
                    <a:lnTo>
                      <a:pt x="186" y="456"/>
                    </a:lnTo>
                    <a:lnTo>
                      <a:pt x="188" y="467"/>
                    </a:lnTo>
                    <a:lnTo>
                      <a:pt x="90" y="525"/>
                    </a:lnTo>
                    <a:lnTo>
                      <a:pt x="88" y="606"/>
                    </a:lnTo>
                    <a:lnTo>
                      <a:pt x="138" y="540"/>
                    </a:lnTo>
                    <a:lnTo>
                      <a:pt x="160" y="511"/>
                    </a:lnTo>
                    <a:lnTo>
                      <a:pt x="183" y="498"/>
                    </a:lnTo>
                    <a:lnTo>
                      <a:pt x="205" y="472"/>
                    </a:lnTo>
                    <a:lnTo>
                      <a:pt x="264" y="447"/>
                    </a:lnTo>
                    <a:lnTo>
                      <a:pt x="298" y="376"/>
                    </a:lnTo>
                    <a:lnTo>
                      <a:pt x="381" y="335"/>
                    </a:lnTo>
                    <a:lnTo>
                      <a:pt x="443" y="331"/>
                    </a:lnTo>
                    <a:lnTo>
                      <a:pt x="514" y="317"/>
                    </a:lnTo>
                    <a:lnTo>
                      <a:pt x="539" y="338"/>
                    </a:lnTo>
                    <a:lnTo>
                      <a:pt x="575" y="328"/>
                    </a:lnTo>
                    <a:lnTo>
                      <a:pt x="611" y="327"/>
                    </a:lnTo>
                    <a:lnTo>
                      <a:pt x="652" y="247"/>
                    </a:lnTo>
                    <a:lnTo>
                      <a:pt x="578" y="241"/>
                    </a:lnTo>
                    <a:lnTo>
                      <a:pt x="578" y="228"/>
                    </a:lnTo>
                    <a:lnTo>
                      <a:pt x="517" y="190"/>
                    </a:lnTo>
                    <a:lnTo>
                      <a:pt x="487" y="200"/>
                    </a:lnTo>
                    <a:lnTo>
                      <a:pt x="416" y="78"/>
                    </a:lnTo>
                    <a:lnTo>
                      <a:pt x="248" y="0"/>
                    </a:lnTo>
                    <a:close/>
                  </a:path>
                </a:pathLst>
              </a:custGeom>
              <a:solidFill>
                <a:srgbClr val="00ffff"/>
              </a:solidFill>
              <a:ln w="190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8" name=""/>
            <p:cNvSpPr/>
            <p:nvPr/>
          </p:nvSpPr>
          <p:spPr>
            <a:xfrm>
              <a:off x="2362320" y="3543480"/>
              <a:ext cx="311040" cy="114120"/>
            </a:xfrm>
            <a:prstGeom prst="ellipse">
              <a:avLst/>
            </a:prstGeom>
            <a:solidFill>
              <a:srgbClr val="ffffff"/>
            </a:solidFill>
            <a:ln w="28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19" name=""/>
            <p:cNvSpPr/>
            <p:nvPr/>
          </p:nvSpPr>
          <p:spPr>
            <a:xfrm>
              <a:off x="3008160" y="3543480"/>
              <a:ext cx="311400" cy="114120"/>
            </a:xfrm>
            <a:prstGeom prst="ellipse">
              <a:avLst/>
            </a:prstGeom>
            <a:solidFill>
              <a:srgbClr val="ffffff"/>
            </a:solidFill>
            <a:ln w="28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0" name=""/>
            <p:cNvSpPr/>
            <p:nvPr/>
          </p:nvSpPr>
          <p:spPr>
            <a:xfrm flipH="1" flipV="1" rot="10800000">
              <a:off x="2423880" y="3780720"/>
              <a:ext cx="829800" cy="464040"/>
            </a:xfrm>
            <a:custGeom>
              <a:avLst/>
              <a:gdLst/>
              <a:ahLst/>
              <a:rect l="l" t="t" r="r" b="b"/>
              <a:pathLst>
                <a:path stroke="0" w="21600" h="21600">
                  <a:moveTo>
                    <a:pt x="2" y="10993"/>
                  </a:moveTo>
                  <a:arcTo wR="10800" hR="10800" stAng="10738618" swAng="10861382"/>
                  <a:lnTo>
                    <a:pt x="10800" y="10800"/>
                  </a:lnTo>
                  <a:close/>
                </a:path>
                <a:path fill="none" w="21600" h="21600">
                  <a:moveTo>
                    <a:pt x="2" y="10993"/>
                  </a:moveTo>
                  <a:arcTo wR="10800" hR="10800" stAng="10738618" swAng="10861382"/>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21" name=""/>
          <p:cNvGrpSpPr/>
          <p:nvPr/>
        </p:nvGrpSpPr>
        <p:grpSpPr>
          <a:xfrm>
            <a:off x="306720" y="228600"/>
            <a:ext cx="8151480" cy="6505920"/>
            <a:chOff x="306720" y="228600"/>
            <a:chExt cx="8151480" cy="6505920"/>
          </a:xfrm>
        </p:grpSpPr>
        <p:sp>
          <p:nvSpPr>
            <p:cNvPr id="2322" name=""/>
            <p:cNvSpPr/>
            <p:nvPr/>
          </p:nvSpPr>
          <p:spPr>
            <a:xfrm>
              <a:off x="4495680" y="228600"/>
              <a:ext cx="3962520" cy="1828800"/>
            </a:xfrm>
            <a:prstGeom prst="octagon">
              <a:avLst>
                <a:gd name="adj" fmla="val 2928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ndan sonra  geliş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olayları akış haritası şeklinde yaz</a:t>
              </a:r>
              <a:r>
                <a:rPr b="0" lang="en-US" sz="1200" spc="-1" strike="noStrike">
                  <a:solidFill>
                    <a:srgbClr val="0000a4"/>
                  </a:solidFill>
                  <a:latin typeface="Times New Roman"/>
                </a:rPr>
                <a:t>.</a:t>
              </a:r>
              <a:endParaRPr b="0" lang="en-US" sz="1200" spc="-1" strike="noStrike">
                <a:solidFill>
                  <a:srgbClr val="ffffff"/>
                </a:solidFill>
                <a:latin typeface="Times New Roman"/>
              </a:endParaRPr>
            </a:p>
          </p:txBody>
        </p:sp>
        <p:sp>
          <p:nvSpPr>
            <p:cNvPr id="2323" name=""/>
            <p:cNvSpPr/>
            <p:nvPr/>
          </p:nvSpPr>
          <p:spPr>
            <a:xfrm>
              <a:off x="762120" y="762120"/>
              <a:ext cx="3375000" cy="1676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4" name=""/>
            <p:cNvSpPr/>
            <p:nvPr/>
          </p:nvSpPr>
          <p:spPr>
            <a:xfrm>
              <a:off x="685800" y="343080"/>
              <a:ext cx="2935440" cy="571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r>
                <a:rPr b="0" lang="en-US" sz="1200" spc="-1" strike="noStrike">
                  <a:solidFill>
                    <a:srgbClr val="0000a4"/>
                  </a:solidFill>
                  <a:latin typeface="Comic Sans MS"/>
                </a:rPr>
                <a:t>Bu durum Türk halkını nasıl etkilemiştir. Yüz ifadesini çiz.</a:t>
              </a:r>
              <a:endParaRPr b="0" lang="en-US" sz="1200" spc="-1" strike="noStrike">
                <a:solidFill>
                  <a:srgbClr val="ffffff"/>
                </a:solidFill>
                <a:latin typeface="Times New Roman"/>
              </a:endParaRPr>
            </a:p>
          </p:txBody>
        </p:sp>
        <p:grpSp>
          <p:nvGrpSpPr>
            <p:cNvPr id="2325" name=""/>
            <p:cNvGrpSpPr/>
            <p:nvPr/>
          </p:nvGrpSpPr>
          <p:grpSpPr>
            <a:xfrm>
              <a:off x="306720" y="2850120"/>
              <a:ext cx="1519920" cy="1157400"/>
              <a:chOff x="306720" y="2850120"/>
              <a:chExt cx="1519920" cy="1157400"/>
            </a:xfrm>
          </p:grpSpPr>
          <p:sp>
            <p:nvSpPr>
              <p:cNvPr id="2326" name=""/>
              <p:cNvSpPr/>
              <p:nvPr/>
            </p:nvSpPr>
            <p:spPr>
              <a:xfrm flipH="1" rot="20945400">
                <a:off x="380880" y="2971440"/>
                <a:ext cx="1371600" cy="914400"/>
              </a:xfrm>
              <a:custGeom>
                <a:avLst/>
                <a:gdLst/>
                <a:ahLst/>
                <a:rect l="l" t="t" r="r" b="b"/>
                <a:pathLst>
                  <a:path w="2138" h="1537">
                    <a:moveTo>
                      <a:pt x="1146" y="1341"/>
                    </a:moveTo>
                    <a:lnTo>
                      <a:pt x="1186" y="1288"/>
                    </a:lnTo>
                    <a:lnTo>
                      <a:pt x="1178" y="1290"/>
                    </a:lnTo>
                    <a:lnTo>
                      <a:pt x="1170" y="1292"/>
                    </a:lnTo>
                    <a:lnTo>
                      <a:pt x="1160" y="1296"/>
                    </a:lnTo>
                    <a:lnTo>
                      <a:pt x="1152" y="1300"/>
                    </a:lnTo>
                    <a:lnTo>
                      <a:pt x="1143" y="1304"/>
                    </a:lnTo>
                    <a:lnTo>
                      <a:pt x="1134" y="1306"/>
                    </a:lnTo>
                    <a:lnTo>
                      <a:pt x="1126" y="1308"/>
                    </a:lnTo>
                    <a:lnTo>
                      <a:pt x="1116" y="1308"/>
                    </a:lnTo>
                    <a:lnTo>
                      <a:pt x="1116" y="1301"/>
                    </a:lnTo>
                    <a:lnTo>
                      <a:pt x="1118" y="1295"/>
                    </a:lnTo>
                    <a:lnTo>
                      <a:pt x="1121" y="1290"/>
                    </a:lnTo>
                    <a:lnTo>
                      <a:pt x="1127" y="1284"/>
                    </a:lnTo>
                    <a:lnTo>
                      <a:pt x="1134" y="1258"/>
                    </a:lnTo>
                    <a:lnTo>
                      <a:pt x="1139" y="1230"/>
                    </a:lnTo>
                    <a:lnTo>
                      <a:pt x="1136" y="1204"/>
                    </a:lnTo>
                    <a:lnTo>
                      <a:pt x="1120" y="1181"/>
                    </a:lnTo>
                    <a:lnTo>
                      <a:pt x="1118" y="1188"/>
                    </a:lnTo>
                    <a:lnTo>
                      <a:pt x="1116" y="1196"/>
                    </a:lnTo>
                    <a:lnTo>
                      <a:pt x="1113" y="1203"/>
                    </a:lnTo>
                    <a:lnTo>
                      <a:pt x="1110" y="1209"/>
                    </a:lnTo>
                    <a:lnTo>
                      <a:pt x="1106" y="1215"/>
                    </a:lnTo>
                    <a:lnTo>
                      <a:pt x="1101" y="1221"/>
                    </a:lnTo>
                    <a:lnTo>
                      <a:pt x="1096" y="1226"/>
                    </a:lnTo>
                    <a:lnTo>
                      <a:pt x="1090" y="1231"/>
                    </a:lnTo>
                    <a:lnTo>
                      <a:pt x="1084" y="1225"/>
                    </a:lnTo>
                    <a:lnTo>
                      <a:pt x="1079" y="1233"/>
                    </a:lnTo>
                    <a:lnTo>
                      <a:pt x="1074" y="1242"/>
                    </a:lnTo>
                    <a:lnTo>
                      <a:pt x="1068" y="1250"/>
                    </a:lnTo>
                    <a:lnTo>
                      <a:pt x="1063" y="1258"/>
                    </a:lnTo>
                    <a:lnTo>
                      <a:pt x="1057" y="1266"/>
                    </a:lnTo>
                    <a:lnTo>
                      <a:pt x="1052" y="1274"/>
                    </a:lnTo>
                    <a:lnTo>
                      <a:pt x="1046" y="1283"/>
                    </a:lnTo>
                    <a:lnTo>
                      <a:pt x="1041" y="1292"/>
                    </a:lnTo>
                    <a:lnTo>
                      <a:pt x="1042" y="1292"/>
                    </a:lnTo>
                    <a:lnTo>
                      <a:pt x="1044" y="1293"/>
                    </a:lnTo>
                    <a:lnTo>
                      <a:pt x="1047" y="1294"/>
                    </a:lnTo>
                    <a:lnTo>
                      <a:pt x="1052" y="1296"/>
                    </a:lnTo>
                    <a:lnTo>
                      <a:pt x="1058" y="1298"/>
                    </a:lnTo>
                    <a:lnTo>
                      <a:pt x="1066" y="1302"/>
                    </a:lnTo>
                    <a:lnTo>
                      <a:pt x="1076" y="1306"/>
                    </a:lnTo>
                    <a:lnTo>
                      <a:pt x="1088" y="1312"/>
                    </a:lnTo>
                    <a:lnTo>
                      <a:pt x="1100" y="1318"/>
                    </a:lnTo>
                    <a:lnTo>
                      <a:pt x="1110" y="1324"/>
                    </a:lnTo>
                    <a:lnTo>
                      <a:pt x="1120" y="1328"/>
                    </a:lnTo>
                    <a:lnTo>
                      <a:pt x="1130" y="1333"/>
                    </a:lnTo>
                    <a:lnTo>
                      <a:pt x="1136" y="1337"/>
                    </a:lnTo>
                    <a:lnTo>
                      <a:pt x="1142" y="1339"/>
                    </a:lnTo>
                    <a:lnTo>
                      <a:pt x="1145" y="1340"/>
                    </a:lnTo>
                    <a:lnTo>
                      <a:pt x="1146" y="1341"/>
                    </a:lnTo>
                    <a:lnTo>
                      <a:pt x="1084" y="1367"/>
                    </a:lnTo>
                    <a:lnTo>
                      <a:pt x="1067" y="1359"/>
                    </a:lnTo>
                    <a:lnTo>
                      <a:pt x="1065" y="1359"/>
                    </a:lnTo>
                    <a:lnTo>
                      <a:pt x="1059" y="1358"/>
                    </a:lnTo>
                    <a:lnTo>
                      <a:pt x="1049" y="1357"/>
                    </a:lnTo>
                    <a:lnTo>
                      <a:pt x="1036" y="1356"/>
                    </a:lnTo>
                    <a:lnTo>
                      <a:pt x="1022" y="1356"/>
                    </a:lnTo>
                    <a:lnTo>
                      <a:pt x="1007" y="1356"/>
                    </a:lnTo>
                    <a:lnTo>
                      <a:pt x="989" y="1356"/>
                    </a:lnTo>
                    <a:lnTo>
                      <a:pt x="972" y="1358"/>
                    </a:lnTo>
                    <a:lnTo>
                      <a:pt x="962" y="1360"/>
                    </a:lnTo>
                    <a:lnTo>
                      <a:pt x="950" y="1363"/>
                    </a:lnTo>
                    <a:lnTo>
                      <a:pt x="937" y="1366"/>
                    </a:lnTo>
                    <a:lnTo>
                      <a:pt x="923" y="1370"/>
                    </a:lnTo>
                    <a:lnTo>
                      <a:pt x="907" y="1375"/>
                    </a:lnTo>
                    <a:lnTo>
                      <a:pt x="891" y="1381"/>
                    </a:lnTo>
                    <a:lnTo>
                      <a:pt x="876" y="1387"/>
                    </a:lnTo>
                    <a:lnTo>
                      <a:pt x="859" y="1392"/>
                    </a:lnTo>
                    <a:lnTo>
                      <a:pt x="844" y="1397"/>
                    </a:lnTo>
                    <a:lnTo>
                      <a:pt x="830" y="1403"/>
                    </a:lnTo>
                    <a:lnTo>
                      <a:pt x="816" y="1407"/>
                    </a:lnTo>
                    <a:lnTo>
                      <a:pt x="805" y="1411"/>
                    </a:lnTo>
                    <a:lnTo>
                      <a:pt x="795" y="1415"/>
                    </a:lnTo>
                    <a:lnTo>
                      <a:pt x="788" y="1418"/>
                    </a:lnTo>
                    <a:lnTo>
                      <a:pt x="784" y="1419"/>
                    </a:lnTo>
                    <a:lnTo>
                      <a:pt x="782" y="1420"/>
                    </a:lnTo>
                    <a:lnTo>
                      <a:pt x="768" y="1420"/>
                    </a:lnTo>
                    <a:lnTo>
                      <a:pt x="771" y="1406"/>
                    </a:lnTo>
                    <a:lnTo>
                      <a:pt x="777" y="1394"/>
                    </a:lnTo>
                    <a:lnTo>
                      <a:pt x="786" y="1383"/>
                    </a:lnTo>
                    <a:lnTo>
                      <a:pt x="796" y="1371"/>
                    </a:lnTo>
                    <a:lnTo>
                      <a:pt x="806" y="1362"/>
                    </a:lnTo>
                    <a:lnTo>
                      <a:pt x="817" y="1353"/>
                    </a:lnTo>
                    <a:lnTo>
                      <a:pt x="828" y="1344"/>
                    </a:lnTo>
                    <a:lnTo>
                      <a:pt x="838" y="1335"/>
                    </a:lnTo>
                    <a:lnTo>
                      <a:pt x="819" y="1334"/>
                    </a:lnTo>
                    <a:lnTo>
                      <a:pt x="801" y="1335"/>
                    </a:lnTo>
                    <a:lnTo>
                      <a:pt x="783" y="1336"/>
                    </a:lnTo>
                    <a:lnTo>
                      <a:pt x="764" y="1338"/>
                    </a:lnTo>
                    <a:lnTo>
                      <a:pt x="746" y="1343"/>
                    </a:lnTo>
                    <a:lnTo>
                      <a:pt x="728" y="1349"/>
                    </a:lnTo>
                    <a:lnTo>
                      <a:pt x="713" y="1358"/>
                    </a:lnTo>
                    <a:lnTo>
                      <a:pt x="699" y="1370"/>
                    </a:lnTo>
                    <a:lnTo>
                      <a:pt x="668" y="1367"/>
                    </a:lnTo>
                    <a:lnTo>
                      <a:pt x="677" y="1354"/>
                    </a:lnTo>
                    <a:lnTo>
                      <a:pt x="689" y="1342"/>
                    </a:lnTo>
                    <a:lnTo>
                      <a:pt x="703" y="1330"/>
                    </a:lnTo>
                    <a:lnTo>
                      <a:pt x="718" y="1319"/>
                    </a:lnTo>
                    <a:lnTo>
                      <a:pt x="733" y="1310"/>
                    </a:lnTo>
                    <a:lnTo>
                      <a:pt x="750" y="1301"/>
                    </a:lnTo>
                    <a:lnTo>
                      <a:pt x="766" y="1293"/>
                    </a:lnTo>
                    <a:lnTo>
                      <a:pt x="782" y="1284"/>
                    </a:lnTo>
                    <a:lnTo>
                      <a:pt x="798" y="1279"/>
                    </a:lnTo>
                    <a:lnTo>
                      <a:pt x="815" y="1275"/>
                    </a:lnTo>
                    <a:lnTo>
                      <a:pt x="833" y="1271"/>
                    </a:lnTo>
                    <a:lnTo>
                      <a:pt x="851" y="1267"/>
                    </a:lnTo>
                    <a:lnTo>
                      <a:pt x="869" y="1265"/>
                    </a:lnTo>
                    <a:lnTo>
                      <a:pt x="887" y="1264"/>
                    </a:lnTo>
                    <a:lnTo>
                      <a:pt x="905" y="1265"/>
                    </a:lnTo>
                    <a:lnTo>
                      <a:pt x="924" y="1268"/>
                    </a:lnTo>
                    <a:lnTo>
                      <a:pt x="934" y="1264"/>
                    </a:lnTo>
                    <a:lnTo>
                      <a:pt x="943" y="1258"/>
                    </a:lnTo>
                    <a:lnTo>
                      <a:pt x="951" y="1251"/>
                    </a:lnTo>
                    <a:lnTo>
                      <a:pt x="959" y="1243"/>
                    </a:lnTo>
                    <a:lnTo>
                      <a:pt x="965" y="1233"/>
                    </a:lnTo>
                    <a:lnTo>
                      <a:pt x="971" y="1224"/>
                    </a:lnTo>
                    <a:lnTo>
                      <a:pt x="976" y="1215"/>
                    </a:lnTo>
                    <a:lnTo>
                      <a:pt x="980" y="1205"/>
                    </a:lnTo>
                    <a:lnTo>
                      <a:pt x="958" y="1202"/>
                    </a:lnTo>
                    <a:lnTo>
                      <a:pt x="970" y="1191"/>
                    </a:lnTo>
                    <a:lnTo>
                      <a:pt x="981" y="1180"/>
                    </a:lnTo>
                    <a:lnTo>
                      <a:pt x="990" y="1167"/>
                    </a:lnTo>
                    <a:lnTo>
                      <a:pt x="998" y="1154"/>
                    </a:lnTo>
                    <a:lnTo>
                      <a:pt x="1003" y="1139"/>
                    </a:lnTo>
                    <a:lnTo>
                      <a:pt x="1006" y="1124"/>
                    </a:lnTo>
                    <a:lnTo>
                      <a:pt x="1005" y="1107"/>
                    </a:lnTo>
                    <a:lnTo>
                      <a:pt x="1001" y="1089"/>
                    </a:lnTo>
                    <a:lnTo>
                      <a:pt x="996" y="1081"/>
                    </a:lnTo>
                    <a:lnTo>
                      <a:pt x="990" y="1074"/>
                    </a:lnTo>
                    <a:lnTo>
                      <a:pt x="983" y="1069"/>
                    </a:lnTo>
                    <a:lnTo>
                      <a:pt x="975" y="1065"/>
                    </a:lnTo>
                    <a:lnTo>
                      <a:pt x="967" y="1061"/>
                    </a:lnTo>
                    <a:lnTo>
                      <a:pt x="958" y="1056"/>
                    </a:lnTo>
                    <a:lnTo>
                      <a:pt x="949" y="1053"/>
                    </a:lnTo>
                    <a:lnTo>
                      <a:pt x="941" y="1049"/>
                    </a:lnTo>
                    <a:lnTo>
                      <a:pt x="937" y="1116"/>
                    </a:lnTo>
                    <a:lnTo>
                      <a:pt x="927" y="1112"/>
                    </a:lnTo>
                    <a:lnTo>
                      <a:pt x="920" y="1102"/>
                    </a:lnTo>
                    <a:lnTo>
                      <a:pt x="914" y="1090"/>
                    </a:lnTo>
                    <a:lnTo>
                      <a:pt x="907" y="1079"/>
                    </a:lnTo>
                    <a:lnTo>
                      <a:pt x="903" y="1077"/>
                    </a:lnTo>
                    <a:lnTo>
                      <a:pt x="899" y="1074"/>
                    </a:lnTo>
                    <a:lnTo>
                      <a:pt x="896" y="1071"/>
                    </a:lnTo>
                    <a:lnTo>
                      <a:pt x="892" y="1067"/>
                    </a:lnTo>
                    <a:lnTo>
                      <a:pt x="888" y="1064"/>
                    </a:lnTo>
                    <a:lnTo>
                      <a:pt x="885" y="1060"/>
                    </a:lnTo>
                    <a:lnTo>
                      <a:pt x="881" y="1055"/>
                    </a:lnTo>
                    <a:lnTo>
                      <a:pt x="877" y="1052"/>
                    </a:lnTo>
                    <a:lnTo>
                      <a:pt x="870" y="1057"/>
                    </a:lnTo>
                    <a:lnTo>
                      <a:pt x="861" y="1064"/>
                    </a:lnTo>
                    <a:lnTo>
                      <a:pt x="853" y="1069"/>
                    </a:lnTo>
                    <a:lnTo>
                      <a:pt x="846" y="1074"/>
                    </a:lnTo>
                    <a:lnTo>
                      <a:pt x="837" y="1078"/>
                    </a:lnTo>
                    <a:lnTo>
                      <a:pt x="828" y="1081"/>
                    </a:lnTo>
                    <a:lnTo>
                      <a:pt x="818" y="1082"/>
                    </a:lnTo>
                    <a:lnTo>
                      <a:pt x="808" y="1082"/>
                    </a:lnTo>
                    <a:lnTo>
                      <a:pt x="804" y="1075"/>
                    </a:lnTo>
                    <a:lnTo>
                      <a:pt x="804" y="1067"/>
                    </a:lnTo>
                    <a:lnTo>
                      <a:pt x="805" y="1057"/>
                    </a:lnTo>
                    <a:lnTo>
                      <a:pt x="807" y="1049"/>
                    </a:lnTo>
                    <a:lnTo>
                      <a:pt x="808" y="1042"/>
                    </a:lnTo>
                    <a:lnTo>
                      <a:pt x="806" y="1034"/>
                    </a:lnTo>
                    <a:lnTo>
                      <a:pt x="802" y="1028"/>
                    </a:lnTo>
                    <a:lnTo>
                      <a:pt x="792" y="1023"/>
                    </a:lnTo>
                    <a:lnTo>
                      <a:pt x="787" y="1022"/>
                    </a:lnTo>
                    <a:lnTo>
                      <a:pt x="783" y="1024"/>
                    </a:lnTo>
                    <a:lnTo>
                      <a:pt x="778" y="1026"/>
                    </a:lnTo>
                    <a:lnTo>
                      <a:pt x="774" y="1023"/>
                    </a:lnTo>
                    <a:lnTo>
                      <a:pt x="776" y="1019"/>
                    </a:lnTo>
                    <a:lnTo>
                      <a:pt x="781" y="1015"/>
                    </a:lnTo>
                    <a:lnTo>
                      <a:pt x="785" y="1011"/>
                    </a:lnTo>
                    <a:lnTo>
                      <a:pt x="790" y="1008"/>
                    </a:lnTo>
                    <a:lnTo>
                      <a:pt x="794" y="1005"/>
                    </a:lnTo>
                    <a:lnTo>
                      <a:pt x="799" y="1003"/>
                    </a:lnTo>
                    <a:lnTo>
                      <a:pt x="804" y="999"/>
                    </a:lnTo>
                    <a:lnTo>
                      <a:pt x="808" y="996"/>
                    </a:lnTo>
                    <a:lnTo>
                      <a:pt x="813" y="996"/>
                    </a:lnTo>
                    <a:lnTo>
                      <a:pt x="816" y="994"/>
                    </a:lnTo>
                    <a:lnTo>
                      <a:pt x="820" y="992"/>
                    </a:lnTo>
                    <a:lnTo>
                      <a:pt x="825" y="990"/>
                    </a:lnTo>
                    <a:lnTo>
                      <a:pt x="818" y="983"/>
                    </a:lnTo>
                    <a:lnTo>
                      <a:pt x="816" y="975"/>
                    </a:lnTo>
                    <a:lnTo>
                      <a:pt x="814" y="965"/>
                    </a:lnTo>
                    <a:lnTo>
                      <a:pt x="811" y="956"/>
                    </a:lnTo>
                    <a:lnTo>
                      <a:pt x="801" y="957"/>
                    </a:lnTo>
                    <a:lnTo>
                      <a:pt x="790" y="957"/>
                    </a:lnTo>
                    <a:lnTo>
                      <a:pt x="778" y="958"/>
                    </a:lnTo>
                    <a:lnTo>
                      <a:pt x="767" y="959"/>
                    </a:lnTo>
                    <a:lnTo>
                      <a:pt x="756" y="959"/>
                    </a:lnTo>
                    <a:lnTo>
                      <a:pt x="744" y="959"/>
                    </a:lnTo>
                    <a:lnTo>
                      <a:pt x="732" y="959"/>
                    </a:lnTo>
                    <a:lnTo>
                      <a:pt x="720" y="959"/>
                    </a:lnTo>
                    <a:lnTo>
                      <a:pt x="709" y="958"/>
                    </a:lnTo>
                    <a:lnTo>
                      <a:pt x="697" y="957"/>
                    </a:lnTo>
                    <a:lnTo>
                      <a:pt x="685" y="956"/>
                    </a:lnTo>
                    <a:lnTo>
                      <a:pt x="674" y="954"/>
                    </a:lnTo>
                    <a:lnTo>
                      <a:pt x="663" y="951"/>
                    </a:lnTo>
                    <a:lnTo>
                      <a:pt x="653" y="948"/>
                    </a:lnTo>
                    <a:lnTo>
                      <a:pt x="642" y="944"/>
                    </a:lnTo>
                    <a:lnTo>
                      <a:pt x="632" y="940"/>
                    </a:lnTo>
                    <a:lnTo>
                      <a:pt x="619" y="932"/>
                    </a:lnTo>
                    <a:lnTo>
                      <a:pt x="605" y="923"/>
                    </a:lnTo>
                    <a:lnTo>
                      <a:pt x="593" y="914"/>
                    </a:lnTo>
                    <a:lnTo>
                      <a:pt x="580" y="905"/>
                    </a:lnTo>
                    <a:lnTo>
                      <a:pt x="568" y="896"/>
                    </a:lnTo>
                    <a:lnTo>
                      <a:pt x="555" y="888"/>
                    </a:lnTo>
                    <a:lnTo>
                      <a:pt x="543" y="879"/>
                    </a:lnTo>
                    <a:lnTo>
                      <a:pt x="532" y="869"/>
                    </a:lnTo>
                    <a:lnTo>
                      <a:pt x="519" y="860"/>
                    </a:lnTo>
                    <a:lnTo>
                      <a:pt x="508" y="851"/>
                    </a:lnTo>
                    <a:lnTo>
                      <a:pt x="496" y="841"/>
                    </a:lnTo>
                    <a:lnTo>
                      <a:pt x="485" y="832"/>
                    </a:lnTo>
                    <a:lnTo>
                      <a:pt x="473" y="822"/>
                    </a:lnTo>
                    <a:lnTo>
                      <a:pt x="462" y="813"/>
                    </a:lnTo>
                    <a:lnTo>
                      <a:pt x="451" y="803"/>
                    </a:lnTo>
                    <a:lnTo>
                      <a:pt x="440" y="794"/>
                    </a:lnTo>
                    <a:lnTo>
                      <a:pt x="433" y="795"/>
                    </a:lnTo>
                    <a:lnTo>
                      <a:pt x="428" y="793"/>
                    </a:lnTo>
                    <a:lnTo>
                      <a:pt x="423" y="790"/>
                    </a:lnTo>
                    <a:lnTo>
                      <a:pt x="419" y="788"/>
                    </a:lnTo>
                    <a:lnTo>
                      <a:pt x="409" y="788"/>
                    </a:lnTo>
                    <a:lnTo>
                      <a:pt x="399" y="788"/>
                    </a:lnTo>
                    <a:lnTo>
                      <a:pt x="387" y="788"/>
                    </a:lnTo>
                    <a:lnTo>
                      <a:pt x="376" y="789"/>
                    </a:lnTo>
                    <a:lnTo>
                      <a:pt x="365" y="789"/>
                    </a:lnTo>
                    <a:lnTo>
                      <a:pt x="353" y="788"/>
                    </a:lnTo>
                    <a:lnTo>
                      <a:pt x="341" y="786"/>
                    </a:lnTo>
                    <a:lnTo>
                      <a:pt x="330" y="781"/>
                    </a:lnTo>
                    <a:lnTo>
                      <a:pt x="321" y="791"/>
                    </a:lnTo>
                    <a:lnTo>
                      <a:pt x="309" y="798"/>
                    </a:lnTo>
                    <a:lnTo>
                      <a:pt x="296" y="802"/>
                    </a:lnTo>
                    <a:lnTo>
                      <a:pt x="282" y="803"/>
                    </a:lnTo>
                    <a:lnTo>
                      <a:pt x="267" y="804"/>
                    </a:lnTo>
                    <a:lnTo>
                      <a:pt x="252" y="803"/>
                    </a:lnTo>
                    <a:lnTo>
                      <a:pt x="238" y="802"/>
                    </a:lnTo>
                    <a:lnTo>
                      <a:pt x="224" y="801"/>
                    </a:lnTo>
                    <a:lnTo>
                      <a:pt x="204" y="796"/>
                    </a:lnTo>
                    <a:lnTo>
                      <a:pt x="186" y="794"/>
                    </a:lnTo>
                    <a:lnTo>
                      <a:pt x="167" y="796"/>
                    </a:lnTo>
                    <a:lnTo>
                      <a:pt x="149" y="800"/>
                    </a:lnTo>
                    <a:lnTo>
                      <a:pt x="130" y="805"/>
                    </a:lnTo>
                    <a:lnTo>
                      <a:pt x="113" y="811"/>
                    </a:lnTo>
                    <a:lnTo>
                      <a:pt x="96" y="818"/>
                    </a:lnTo>
                    <a:lnTo>
                      <a:pt x="78" y="824"/>
                    </a:lnTo>
                    <a:lnTo>
                      <a:pt x="44" y="817"/>
                    </a:lnTo>
                    <a:lnTo>
                      <a:pt x="34" y="870"/>
                    </a:lnTo>
                    <a:lnTo>
                      <a:pt x="28" y="868"/>
                    </a:lnTo>
                    <a:lnTo>
                      <a:pt x="22" y="865"/>
                    </a:lnTo>
                    <a:lnTo>
                      <a:pt x="17" y="859"/>
                    </a:lnTo>
                    <a:lnTo>
                      <a:pt x="13" y="852"/>
                    </a:lnTo>
                    <a:lnTo>
                      <a:pt x="9" y="845"/>
                    </a:lnTo>
                    <a:lnTo>
                      <a:pt x="6" y="837"/>
                    </a:lnTo>
                    <a:lnTo>
                      <a:pt x="4" y="828"/>
                    </a:lnTo>
                    <a:lnTo>
                      <a:pt x="1" y="820"/>
                    </a:lnTo>
                    <a:lnTo>
                      <a:pt x="0" y="799"/>
                    </a:lnTo>
                    <a:lnTo>
                      <a:pt x="1" y="779"/>
                    </a:lnTo>
                    <a:lnTo>
                      <a:pt x="7" y="762"/>
                    </a:lnTo>
                    <a:lnTo>
                      <a:pt x="14" y="746"/>
                    </a:lnTo>
                    <a:lnTo>
                      <a:pt x="23" y="730"/>
                    </a:lnTo>
                    <a:lnTo>
                      <a:pt x="35" y="716"/>
                    </a:lnTo>
                    <a:lnTo>
                      <a:pt x="49" y="704"/>
                    </a:lnTo>
                    <a:lnTo>
                      <a:pt x="64" y="691"/>
                    </a:lnTo>
                    <a:lnTo>
                      <a:pt x="72" y="687"/>
                    </a:lnTo>
                    <a:lnTo>
                      <a:pt x="80" y="683"/>
                    </a:lnTo>
                    <a:lnTo>
                      <a:pt x="87" y="680"/>
                    </a:lnTo>
                    <a:lnTo>
                      <a:pt x="95" y="676"/>
                    </a:lnTo>
                    <a:lnTo>
                      <a:pt x="103" y="672"/>
                    </a:lnTo>
                    <a:lnTo>
                      <a:pt x="111" y="670"/>
                    </a:lnTo>
                    <a:lnTo>
                      <a:pt x="120" y="668"/>
                    </a:lnTo>
                    <a:lnTo>
                      <a:pt x="130" y="668"/>
                    </a:lnTo>
                    <a:lnTo>
                      <a:pt x="112" y="678"/>
                    </a:lnTo>
                    <a:lnTo>
                      <a:pt x="93" y="688"/>
                    </a:lnTo>
                    <a:lnTo>
                      <a:pt x="73" y="700"/>
                    </a:lnTo>
                    <a:lnTo>
                      <a:pt x="55" y="712"/>
                    </a:lnTo>
                    <a:lnTo>
                      <a:pt x="38" y="726"/>
                    </a:lnTo>
                    <a:lnTo>
                      <a:pt x="26" y="743"/>
                    </a:lnTo>
                    <a:lnTo>
                      <a:pt x="19" y="761"/>
                    </a:lnTo>
                    <a:lnTo>
                      <a:pt x="18" y="783"/>
                    </a:lnTo>
                    <a:lnTo>
                      <a:pt x="28" y="787"/>
                    </a:lnTo>
                    <a:lnTo>
                      <a:pt x="36" y="786"/>
                    </a:lnTo>
                    <a:lnTo>
                      <a:pt x="43" y="781"/>
                    </a:lnTo>
                    <a:lnTo>
                      <a:pt x="51" y="776"/>
                    </a:lnTo>
                    <a:lnTo>
                      <a:pt x="58" y="769"/>
                    </a:lnTo>
                    <a:lnTo>
                      <a:pt x="64" y="763"/>
                    </a:lnTo>
                    <a:lnTo>
                      <a:pt x="72" y="758"/>
                    </a:lnTo>
                    <a:lnTo>
                      <a:pt x="80" y="754"/>
                    </a:lnTo>
                    <a:lnTo>
                      <a:pt x="91" y="750"/>
                    </a:lnTo>
                    <a:lnTo>
                      <a:pt x="101" y="746"/>
                    </a:lnTo>
                    <a:lnTo>
                      <a:pt x="112" y="743"/>
                    </a:lnTo>
                    <a:lnTo>
                      <a:pt x="123" y="739"/>
                    </a:lnTo>
                    <a:lnTo>
                      <a:pt x="135" y="737"/>
                    </a:lnTo>
                    <a:lnTo>
                      <a:pt x="146" y="735"/>
                    </a:lnTo>
                    <a:lnTo>
                      <a:pt x="157" y="733"/>
                    </a:lnTo>
                    <a:lnTo>
                      <a:pt x="169" y="732"/>
                    </a:lnTo>
                    <a:lnTo>
                      <a:pt x="181" y="731"/>
                    </a:lnTo>
                    <a:lnTo>
                      <a:pt x="192" y="731"/>
                    </a:lnTo>
                    <a:lnTo>
                      <a:pt x="204" y="731"/>
                    </a:lnTo>
                    <a:lnTo>
                      <a:pt x="215" y="731"/>
                    </a:lnTo>
                    <a:lnTo>
                      <a:pt x="227" y="731"/>
                    </a:lnTo>
                    <a:lnTo>
                      <a:pt x="238" y="732"/>
                    </a:lnTo>
                    <a:lnTo>
                      <a:pt x="249" y="733"/>
                    </a:lnTo>
                    <a:lnTo>
                      <a:pt x="260" y="734"/>
                    </a:lnTo>
                    <a:lnTo>
                      <a:pt x="277" y="728"/>
                    </a:lnTo>
                    <a:lnTo>
                      <a:pt x="272" y="714"/>
                    </a:lnTo>
                    <a:lnTo>
                      <a:pt x="264" y="704"/>
                    </a:lnTo>
                    <a:lnTo>
                      <a:pt x="253" y="697"/>
                    </a:lnTo>
                    <a:lnTo>
                      <a:pt x="242" y="692"/>
                    </a:lnTo>
                    <a:lnTo>
                      <a:pt x="229" y="689"/>
                    </a:lnTo>
                    <a:lnTo>
                      <a:pt x="215" y="686"/>
                    </a:lnTo>
                    <a:lnTo>
                      <a:pt x="202" y="683"/>
                    </a:lnTo>
                    <a:lnTo>
                      <a:pt x="191" y="678"/>
                    </a:lnTo>
                    <a:lnTo>
                      <a:pt x="170" y="675"/>
                    </a:lnTo>
                    <a:lnTo>
                      <a:pt x="159" y="673"/>
                    </a:lnTo>
                    <a:lnTo>
                      <a:pt x="151" y="667"/>
                    </a:lnTo>
                    <a:lnTo>
                      <a:pt x="145" y="659"/>
                    </a:lnTo>
                    <a:lnTo>
                      <a:pt x="141" y="648"/>
                    </a:lnTo>
                    <a:lnTo>
                      <a:pt x="145" y="648"/>
                    </a:lnTo>
                    <a:lnTo>
                      <a:pt x="141" y="638"/>
                    </a:lnTo>
                    <a:lnTo>
                      <a:pt x="140" y="628"/>
                    </a:lnTo>
                    <a:lnTo>
                      <a:pt x="142" y="619"/>
                    </a:lnTo>
                    <a:lnTo>
                      <a:pt x="147" y="609"/>
                    </a:lnTo>
                    <a:lnTo>
                      <a:pt x="152" y="599"/>
                    </a:lnTo>
                    <a:lnTo>
                      <a:pt x="158" y="591"/>
                    </a:lnTo>
                    <a:lnTo>
                      <a:pt x="165" y="582"/>
                    </a:lnTo>
                    <a:lnTo>
                      <a:pt x="170" y="575"/>
                    </a:lnTo>
                    <a:lnTo>
                      <a:pt x="180" y="572"/>
                    </a:lnTo>
                    <a:lnTo>
                      <a:pt x="190" y="570"/>
                    </a:lnTo>
                    <a:lnTo>
                      <a:pt x="201" y="569"/>
                    </a:lnTo>
                    <a:lnTo>
                      <a:pt x="212" y="567"/>
                    </a:lnTo>
                    <a:lnTo>
                      <a:pt x="224" y="567"/>
                    </a:lnTo>
                    <a:lnTo>
                      <a:pt x="236" y="566"/>
                    </a:lnTo>
                    <a:lnTo>
                      <a:pt x="247" y="566"/>
                    </a:lnTo>
                    <a:lnTo>
                      <a:pt x="257" y="566"/>
                    </a:lnTo>
                    <a:lnTo>
                      <a:pt x="269" y="559"/>
                    </a:lnTo>
                    <a:lnTo>
                      <a:pt x="281" y="551"/>
                    </a:lnTo>
                    <a:lnTo>
                      <a:pt x="293" y="545"/>
                    </a:lnTo>
                    <a:lnTo>
                      <a:pt x="307" y="539"/>
                    </a:lnTo>
                    <a:lnTo>
                      <a:pt x="321" y="533"/>
                    </a:lnTo>
                    <a:lnTo>
                      <a:pt x="334" y="529"/>
                    </a:lnTo>
                    <a:lnTo>
                      <a:pt x="349" y="525"/>
                    </a:lnTo>
                    <a:lnTo>
                      <a:pt x="363" y="522"/>
                    </a:lnTo>
                    <a:lnTo>
                      <a:pt x="377" y="521"/>
                    </a:lnTo>
                    <a:lnTo>
                      <a:pt x="392" y="520"/>
                    </a:lnTo>
                    <a:lnTo>
                      <a:pt x="406" y="521"/>
                    </a:lnTo>
                    <a:lnTo>
                      <a:pt x="419" y="522"/>
                    </a:lnTo>
                    <a:lnTo>
                      <a:pt x="433" y="526"/>
                    </a:lnTo>
                    <a:lnTo>
                      <a:pt x="447" y="530"/>
                    </a:lnTo>
                    <a:lnTo>
                      <a:pt x="460" y="537"/>
                    </a:lnTo>
                    <a:lnTo>
                      <a:pt x="472" y="545"/>
                    </a:lnTo>
                    <a:lnTo>
                      <a:pt x="484" y="556"/>
                    </a:lnTo>
                    <a:lnTo>
                      <a:pt x="493" y="570"/>
                    </a:lnTo>
                    <a:lnTo>
                      <a:pt x="502" y="583"/>
                    </a:lnTo>
                    <a:lnTo>
                      <a:pt x="510" y="597"/>
                    </a:lnTo>
                    <a:lnTo>
                      <a:pt x="519" y="611"/>
                    </a:lnTo>
                    <a:lnTo>
                      <a:pt x="530" y="622"/>
                    </a:lnTo>
                    <a:lnTo>
                      <a:pt x="543" y="630"/>
                    </a:lnTo>
                    <a:lnTo>
                      <a:pt x="559" y="634"/>
                    </a:lnTo>
                    <a:lnTo>
                      <a:pt x="564" y="638"/>
                    </a:lnTo>
                    <a:lnTo>
                      <a:pt x="569" y="640"/>
                    </a:lnTo>
                    <a:lnTo>
                      <a:pt x="574" y="641"/>
                    </a:lnTo>
                    <a:lnTo>
                      <a:pt x="580" y="641"/>
                    </a:lnTo>
                    <a:lnTo>
                      <a:pt x="585" y="641"/>
                    </a:lnTo>
                    <a:lnTo>
                      <a:pt x="591" y="641"/>
                    </a:lnTo>
                    <a:lnTo>
                      <a:pt x="597" y="643"/>
                    </a:lnTo>
                    <a:lnTo>
                      <a:pt x="602" y="645"/>
                    </a:lnTo>
                    <a:lnTo>
                      <a:pt x="605" y="639"/>
                    </a:lnTo>
                    <a:lnTo>
                      <a:pt x="608" y="632"/>
                    </a:lnTo>
                    <a:lnTo>
                      <a:pt x="609" y="625"/>
                    </a:lnTo>
                    <a:lnTo>
                      <a:pt x="609" y="618"/>
                    </a:lnTo>
                    <a:lnTo>
                      <a:pt x="604" y="614"/>
                    </a:lnTo>
                    <a:lnTo>
                      <a:pt x="600" y="610"/>
                    </a:lnTo>
                    <a:lnTo>
                      <a:pt x="595" y="608"/>
                    </a:lnTo>
                    <a:lnTo>
                      <a:pt x="589" y="609"/>
                    </a:lnTo>
                    <a:lnTo>
                      <a:pt x="591" y="596"/>
                    </a:lnTo>
                    <a:lnTo>
                      <a:pt x="590" y="586"/>
                    </a:lnTo>
                    <a:lnTo>
                      <a:pt x="587" y="576"/>
                    </a:lnTo>
                    <a:lnTo>
                      <a:pt x="583" y="567"/>
                    </a:lnTo>
                    <a:lnTo>
                      <a:pt x="578" y="559"/>
                    </a:lnTo>
                    <a:lnTo>
                      <a:pt x="572" y="549"/>
                    </a:lnTo>
                    <a:lnTo>
                      <a:pt x="567" y="539"/>
                    </a:lnTo>
                    <a:lnTo>
                      <a:pt x="561" y="529"/>
                    </a:lnTo>
                    <a:lnTo>
                      <a:pt x="557" y="535"/>
                    </a:lnTo>
                    <a:lnTo>
                      <a:pt x="550" y="540"/>
                    </a:lnTo>
                    <a:lnTo>
                      <a:pt x="541" y="543"/>
                    </a:lnTo>
                    <a:lnTo>
                      <a:pt x="532" y="545"/>
                    </a:lnTo>
                    <a:lnTo>
                      <a:pt x="527" y="536"/>
                    </a:lnTo>
                    <a:lnTo>
                      <a:pt x="525" y="525"/>
                    </a:lnTo>
                    <a:lnTo>
                      <a:pt x="526" y="513"/>
                    </a:lnTo>
                    <a:lnTo>
                      <a:pt x="529" y="502"/>
                    </a:lnTo>
                    <a:lnTo>
                      <a:pt x="537" y="494"/>
                    </a:lnTo>
                    <a:lnTo>
                      <a:pt x="537" y="484"/>
                    </a:lnTo>
                    <a:lnTo>
                      <a:pt x="535" y="474"/>
                    </a:lnTo>
                    <a:lnTo>
                      <a:pt x="539" y="462"/>
                    </a:lnTo>
                    <a:lnTo>
                      <a:pt x="582" y="403"/>
                    </a:lnTo>
                    <a:lnTo>
                      <a:pt x="572" y="400"/>
                    </a:lnTo>
                    <a:lnTo>
                      <a:pt x="565" y="397"/>
                    </a:lnTo>
                    <a:lnTo>
                      <a:pt x="558" y="392"/>
                    </a:lnTo>
                    <a:lnTo>
                      <a:pt x="554" y="386"/>
                    </a:lnTo>
                    <a:lnTo>
                      <a:pt x="550" y="379"/>
                    </a:lnTo>
                    <a:lnTo>
                      <a:pt x="547" y="370"/>
                    </a:lnTo>
                    <a:lnTo>
                      <a:pt x="543" y="362"/>
                    </a:lnTo>
                    <a:lnTo>
                      <a:pt x="539" y="353"/>
                    </a:lnTo>
                    <a:lnTo>
                      <a:pt x="539" y="345"/>
                    </a:lnTo>
                    <a:lnTo>
                      <a:pt x="542" y="339"/>
                    </a:lnTo>
                    <a:lnTo>
                      <a:pt x="547" y="334"/>
                    </a:lnTo>
                    <a:lnTo>
                      <a:pt x="553" y="327"/>
                    </a:lnTo>
                    <a:lnTo>
                      <a:pt x="558" y="322"/>
                    </a:lnTo>
                    <a:lnTo>
                      <a:pt x="560" y="317"/>
                    </a:lnTo>
                    <a:lnTo>
                      <a:pt x="557" y="311"/>
                    </a:lnTo>
                    <a:lnTo>
                      <a:pt x="549" y="303"/>
                    </a:lnTo>
                    <a:lnTo>
                      <a:pt x="551" y="289"/>
                    </a:lnTo>
                    <a:lnTo>
                      <a:pt x="555" y="274"/>
                    </a:lnTo>
                    <a:lnTo>
                      <a:pt x="560" y="260"/>
                    </a:lnTo>
                    <a:lnTo>
                      <a:pt x="567" y="247"/>
                    </a:lnTo>
                    <a:lnTo>
                      <a:pt x="571" y="232"/>
                    </a:lnTo>
                    <a:lnTo>
                      <a:pt x="573" y="218"/>
                    </a:lnTo>
                    <a:lnTo>
                      <a:pt x="572" y="203"/>
                    </a:lnTo>
                    <a:lnTo>
                      <a:pt x="566" y="187"/>
                    </a:lnTo>
                    <a:lnTo>
                      <a:pt x="573" y="184"/>
                    </a:lnTo>
                    <a:lnTo>
                      <a:pt x="581" y="184"/>
                    </a:lnTo>
                    <a:lnTo>
                      <a:pt x="589" y="185"/>
                    </a:lnTo>
                    <a:lnTo>
                      <a:pt x="595" y="190"/>
                    </a:lnTo>
                    <a:lnTo>
                      <a:pt x="602" y="182"/>
                    </a:lnTo>
                    <a:lnTo>
                      <a:pt x="605" y="172"/>
                    </a:lnTo>
                    <a:lnTo>
                      <a:pt x="605" y="162"/>
                    </a:lnTo>
                    <a:lnTo>
                      <a:pt x="602" y="151"/>
                    </a:lnTo>
                    <a:lnTo>
                      <a:pt x="599" y="139"/>
                    </a:lnTo>
                    <a:lnTo>
                      <a:pt x="598" y="128"/>
                    </a:lnTo>
                    <a:lnTo>
                      <a:pt x="598" y="116"/>
                    </a:lnTo>
                    <a:lnTo>
                      <a:pt x="602" y="105"/>
                    </a:lnTo>
                    <a:lnTo>
                      <a:pt x="607" y="86"/>
                    </a:lnTo>
                    <a:lnTo>
                      <a:pt x="614" y="70"/>
                    </a:lnTo>
                    <a:lnTo>
                      <a:pt x="621" y="53"/>
                    </a:lnTo>
                    <a:lnTo>
                      <a:pt x="626" y="35"/>
                    </a:lnTo>
                    <a:lnTo>
                      <a:pt x="635" y="27"/>
                    </a:lnTo>
                    <a:lnTo>
                      <a:pt x="645" y="20"/>
                    </a:lnTo>
                    <a:lnTo>
                      <a:pt x="657" y="15"/>
                    </a:lnTo>
                    <a:lnTo>
                      <a:pt x="668" y="9"/>
                    </a:lnTo>
                    <a:lnTo>
                      <a:pt x="680" y="5"/>
                    </a:lnTo>
                    <a:lnTo>
                      <a:pt x="692" y="3"/>
                    </a:lnTo>
                    <a:lnTo>
                      <a:pt x="706" y="1"/>
                    </a:lnTo>
                    <a:lnTo>
                      <a:pt x="718" y="0"/>
                    </a:lnTo>
                    <a:lnTo>
                      <a:pt x="731" y="0"/>
                    </a:lnTo>
                    <a:lnTo>
                      <a:pt x="745" y="1"/>
                    </a:lnTo>
                    <a:lnTo>
                      <a:pt x="758" y="2"/>
                    </a:lnTo>
                    <a:lnTo>
                      <a:pt x="771" y="3"/>
                    </a:lnTo>
                    <a:lnTo>
                      <a:pt x="784" y="6"/>
                    </a:lnTo>
                    <a:lnTo>
                      <a:pt x="797" y="8"/>
                    </a:lnTo>
                    <a:lnTo>
                      <a:pt x="809" y="13"/>
                    </a:lnTo>
                    <a:lnTo>
                      <a:pt x="821" y="16"/>
                    </a:lnTo>
                    <a:lnTo>
                      <a:pt x="835" y="19"/>
                    </a:lnTo>
                    <a:lnTo>
                      <a:pt x="849" y="22"/>
                    </a:lnTo>
                    <a:lnTo>
                      <a:pt x="861" y="26"/>
                    </a:lnTo>
                    <a:lnTo>
                      <a:pt x="875" y="30"/>
                    </a:lnTo>
                    <a:lnTo>
                      <a:pt x="888" y="34"/>
                    </a:lnTo>
                    <a:lnTo>
                      <a:pt x="901" y="38"/>
                    </a:lnTo>
                    <a:lnTo>
                      <a:pt x="914" y="41"/>
                    </a:lnTo>
                    <a:lnTo>
                      <a:pt x="927" y="45"/>
                    </a:lnTo>
                    <a:lnTo>
                      <a:pt x="945" y="57"/>
                    </a:lnTo>
                    <a:lnTo>
                      <a:pt x="965" y="66"/>
                    </a:lnTo>
                    <a:lnTo>
                      <a:pt x="984" y="75"/>
                    </a:lnTo>
                    <a:lnTo>
                      <a:pt x="1004" y="83"/>
                    </a:lnTo>
                    <a:lnTo>
                      <a:pt x="1023" y="92"/>
                    </a:lnTo>
                    <a:lnTo>
                      <a:pt x="1043" y="101"/>
                    </a:lnTo>
                    <a:lnTo>
                      <a:pt x="1061" y="112"/>
                    </a:lnTo>
                    <a:lnTo>
                      <a:pt x="1079" y="124"/>
                    </a:lnTo>
                    <a:lnTo>
                      <a:pt x="1102" y="133"/>
                    </a:lnTo>
                    <a:lnTo>
                      <a:pt x="1124" y="142"/>
                    </a:lnTo>
                    <a:lnTo>
                      <a:pt x="1147" y="153"/>
                    </a:lnTo>
                    <a:lnTo>
                      <a:pt x="1170" y="162"/>
                    </a:lnTo>
                    <a:lnTo>
                      <a:pt x="1192" y="172"/>
                    </a:lnTo>
                    <a:lnTo>
                      <a:pt x="1215" y="182"/>
                    </a:lnTo>
                    <a:lnTo>
                      <a:pt x="1237" y="192"/>
                    </a:lnTo>
                    <a:lnTo>
                      <a:pt x="1259" y="203"/>
                    </a:lnTo>
                    <a:lnTo>
                      <a:pt x="1281" y="214"/>
                    </a:lnTo>
                    <a:lnTo>
                      <a:pt x="1303" y="225"/>
                    </a:lnTo>
                    <a:lnTo>
                      <a:pt x="1324" y="236"/>
                    </a:lnTo>
                    <a:lnTo>
                      <a:pt x="1346" y="249"/>
                    </a:lnTo>
                    <a:lnTo>
                      <a:pt x="1367" y="261"/>
                    </a:lnTo>
                    <a:lnTo>
                      <a:pt x="1388" y="274"/>
                    </a:lnTo>
                    <a:lnTo>
                      <a:pt x="1408" y="288"/>
                    </a:lnTo>
                    <a:lnTo>
                      <a:pt x="1429" y="301"/>
                    </a:lnTo>
                    <a:lnTo>
                      <a:pt x="1450" y="316"/>
                    </a:lnTo>
                    <a:lnTo>
                      <a:pt x="1473" y="332"/>
                    </a:lnTo>
                    <a:lnTo>
                      <a:pt x="1494" y="348"/>
                    </a:lnTo>
                    <a:lnTo>
                      <a:pt x="1516" y="366"/>
                    </a:lnTo>
                    <a:lnTo>
                      <a:pt x="1535" y="386"/>
                    </a:lnTo>
                    <a:lnTo>
                      <a:pt x="1551" y="407"/>
                    </a:lnTo>
                    <a:lnTo>
                      <a:pt x="1564" y="431"/>
                    </a:lnTo>
                    <a:lnTo>
                      <a:pt x="1572" y="456"/>
                    </a:lnTo>
                    <a:lnTo>
                      <a:pt x="1584" y="501"/>
                    </a:lnTo>
                    <a:lnTo>
                      <a:pt x="1596" y="547"/>
                    </a:lnTo>
                    <a:lnTo>
                      <a:pt x="1609" y="592"/>
                    </a:lnTo>
                    <a:lnTo>
                      <a:pt x="1623" y="637"/>
                    </a:lnTo>
                    <a:lnTo>
                      <a:pt x="1638" y="681"/>
                    </a:lnTo>
                    <a:lnTo>
                      <a:pt x="1657" y="724"/>
                    </a:lnTo>
                    <a:lnTo>
                      <a:pt x="1679" y="765"/>
                    </a:lnTo>
                    <a:lnTo>
                      <a:pt x="1707" y="804"/>
                    </a:lnTo>
                    <a:lnTo>
                      <a:pt x="1720" y="825"/>
                    </a:lnTo>
                    <a:lnTo>
                      <a:pt x="1735" y="847"/>
                    </a:lnTo>
                    <a:lnTo>
                      <a:pt x="1749" y="867"/>
                    </a:lnTo>
                    <a:lnTo>
                      <a:pt x="1765" y="887"/>
                    </a:lnTo>
                    <a:lnTo>
                      <a:pt x="1782" y="907"/>
                    </a:lnTo>
                    <a:lnTo>
                      <a:pt x="1798" y="926"/>
                    </a:lnTo>
                    <a:lnTo>
                      <a:pt x="1817" y="945"/>
                    </a:lnTo>
                    <a:lnTo>
                      <a:pt x="1835" y="963"/>
                    </a:lnTo>
                    <a:lnTo>
                      <a:pt x="1853" y="981"/>
                    </a:lnTo>
                    <a:lnTo>
                      <a:pt x="1873" y="998"/>
                    </a:lnTo>
                    <a:lnTo>
                      <a:pt x="1893" y="1015"/>
                    </a:lnTo>
                    <a:lnTo>
                      <a:pt x="1913" y="1031"/>
                    </a:lnTo>
                    <a:lnTo>
                      <a:pt x="1933" y="1046"/>
                    </a:lnTo>
                    <a:lnTo>
                      <a:pt x="1954" y="1062"/>
                    </a:lnTo>
                    <a:lnTo>
                      <a:pt x="1975" y="1076"/>
                    </a:lnTo>
                    <a:lnTo>
                      <a:pt x="1996" y="1089"/>
                    </a:lnTo>
                    <a:lnTo>
                      <a:pt x="2003" y="1096"/>
                    </a:lnTo>
                    <a:lnTo>
                      <a:pt x="2012" y="1105"/>
                    </a:lnTo>
                    <a:lnTo>
                      <a:pt x="2022" y="1112"/>
                    </a:lnTo>
                    <a:lnTo>
                      <a:pt x="2031" y="1120"/>
                    </a:lnTo>
                    <a:lnTo>
                      <a:pt x="2039" y="1128"/>
                    </a:lnTo>
                    <a:lnTo>
                      <a:pt x="2044" y="1138"/>
                    </a:lnTo>
                    <a:lnTo>
                      <a:pt x="2046" y="1149"/>
                    </a:lnTo>
                    <a:lnTo>
                      <a:pt x="2042" y="1162"/>
                    </a:lnTo>
                    <a:lnTo>
                      <a:pt x="2016" y="1172"/>
                    </a:lnTo>
                    <a:lnTo>
                      <a:pt x="2025" y="1185"/>
                    </a:lnTo>
                    <a:lnTo>
                      <a:pt x="2038" y="1198"/>
                    </a:lnTo>
                    <a:lnTo>
                      <a:pt x="2051" y="1209"/>
                    </a:lnTo>
                    <a:lnTo>
                      <a:pt x="2064" y="1220"/>
                    </a:lnTo>
                    <a:lnTo>
                      <a:pt x="2077" y="1232"/>
                    </a:lnTo>
                    <a:lnTo>
                      <a:pt x="2087" y="1246"/>
                    </a:lnTo>
                    <a:lnTo>
                      <a:pt x="2094" y="1261"/>
                    </a:lnTo>
                    <a:lnTo>
                      <a:pt x="2095" y="1278"/>
                    </a:lnTo>
                    <a:lnTo>
                      <a:pt x="2086" y="1289"/>
                    </a:lnTo>
                    <a:lnTo>
                      <a:pt x="2074" y="1296"/>
                    </a:lnTo>
                    <a:lnTo>
                      <a:pt x="2062" y="1299"/>
                    </a:lnTo>
                    <a:lnTo>
                      <a:pt x="2050" y="1301"/>
                    </a:lnTo>
                    <a:lnTo>
                      <a:pt x="2036" y="1302"/>
                    </a:lnTo>
                    <a:lnTo>
                      <a:pt x="2022" y="1302"/>
                    </a:lnTo>
                    <a:lnTo>
                      <a:pt x="2009" y="1303"/>
                    </a:lnTo>
                    <a:lnTo>
                      <a:pt x="1996" y="1305"/>
                    </a:lnTo>
                    <a:lnTo>
                      <a:pt x="2010" y="1324"/>
                    </a:lnTo>
                    <a:lnTo>
                      <a:pt x="2025" y="1344"/>
                    </a:lnTo>
                    <a:lnTo>
                      <a:pt x="2041" y="1363"/>
                    </a:lnTo>
                    <a:lnTo>
                      <a:pt x="2058" y="1381"/>
                    </a:lnTo>
                    <a:lnTo>
                      <a:pt x="2074" y="1399"/>
                    </a:lnTo>
                    <a:lnTo>
                      <a:pt x="2092" y="1415"/>
                    </a:lnTo>
                    <a:lnTo>
                      <a:pt x="2110" y="1432"/>
                    </a:lnTo>
                    <a:lnTo>
                      <a:pt x="2129" y="1447"/>
                    </a:lnTo>
                    <a:lnTo>
                      <a:pt x="2131" y="1453"/>
                    </a:lnTo>
                    <a:lnTo>
                      <a:pt x="2135" y="1458"/>
                    </a:lnTo>
                    <a:lnTo>
                      <a:pt x="2138" y="1463"/>
                    </a:lnTo>
                    <a:lnTo>
                      <a:pt x="2138" y="1471"/>
                    </a:lnTo>
                    <a:lnTo>
                      <a:pt x="2134" y="1472"/>
                    </a:lnTo>
                    <a:lnTo>
                      <a:pt x="2129" y="1468"/>
                    </a:lnTo>
                    <a:lnTo>
                      <a:pt x="2124" y="1465"/>
                    </a:lnTo>
                    <a:lnTo>
                      <a:pt x="2119" y="1460"/>
                    </a:lnTo>
                    <a:lnTo>
                      <a:pt x="2084" y="1455"/>
                    </a:lnTo>
                    <a:lnTo>
                      <a:pt x="2050" y="1449"/>
                    </a:lnTo>
                    <a:lnTo>
                      <a:pt x="2016" y="1441"/>
                    </a:lnTo>
                    <a:lnTo>
                      <a:pt x="1983" y="1433"/>
                    </a:lnTo>
                    <a:lnTo>
                      <a:pt x="1950" y="1424"/>
                    </a:lnTo>
                    <a:lnTo>
                      <a:pt x="1918" y="1413"/>
                    </a:lnTo>
                    <a:lnTo>
                      <a:pt x="1885" y="1402"/>
                    </a:lnTo>
                    <a:lnTo>
                      <a:pt x="1853" y="1390"/>
                    </a:lnTo>
                    <a:lnTo>
                      <a:pt x="1822" y="1377"/>
                    </a:lnTo>
                    <a:lnTo>
                      <a:pt x="1791" y="1363"/>
                    </a:lnTo>
                    <a:lnTo>
                      <a:pt x="1760" y="1349"/>
                    </a:lnTo>
                    <a:lnTo>
                      <a:pt x="1729" y="1334"/>
                    </a:lnTo>
                    <a:lnTo>
                      <a:pt x="1700" y="1317"/>
                    </a:lnTo>
                    <a:lnTo>
                      <a:pt x="1670" y="1300"/>
                    </a:lnTo>
                    <a:lnTo>
                      <a:pt x="1640" y="1282"/>
                    </a:lnTo>
                    <a:lnTo>
                      <a:pt x="1611" y="1264"/>
                    </a:lnTo>
                    <a:lnTo>
                      <a:pt x="1603" y="1267"/>
                    </a:lnTo>
                    <a:lnTo>
                      <a:pt x="1593" y="1268"/>
                    </a:lnTo>
                    <a:lnTo>
                      <a:pt x="1585" y="1267"/>
                    </a:lnTo>
                    <a:lnTo>
                      <a:pt x="1576" y="1265"/>
                    </a:lnTo>
                    <a:lnTo>
                      <a:pt x="1567" y="1262"/>
                    </a:lnTo>
                    <a:lnTo>
                      <a:pt x="1559" y="1259"/>
                    </a:lnTo>
                    <a:lnTo>
                      <a:pt x="1549" y="1255"/>
                    </a:lnTo>
                    <a:lnTo>
                      <a:pt x="1541" y="1252"/>
                    </a:lnTo>
                    <a:lnTo>
                      <a:pt x="1536" y="1248"/>
                    </a:lnTo>
                    <a:lnTo>
                      <a:pt x="1531" y="1244"/>
                    </a:lnTo>
                    <a:lnTo>
                      <a:pt x="1526" y="1240"/>
                    </a:lnTo>
                    <a:lnTo>
                      <a:pt x="1521" y="1237"/>
                    </a:lnTo>
                    <a:lnTo>
                      <a:pt x="1515" y="1234"/>
                    </a:lnTo>
                    <a:lnTo>
                      <a:pt x="1509" y="1232"/>
                    </a:lnTo>
                    <a:lnTo>
                      <a:pt x="1504" y="1230"/>
                    </a:lnTo>
                    <a:lnTo>
                      <a:pt x="1498" y="1228"/>
                    </a:lnTo>
                    <a:lnTo>
                      <a:pt x="1497" y="1238"/>
                    </a:lnTo>
                    <a:lnTo>
                      <a:pt x="1501" y="1249"/>
                    </a:lnTo>
                    <a:lnTo>
                      <a:pt x="1507" y="1259"/>
                    </a:lnTo>
                    <a:lnTo>
                      <a:pt x="1515" y="1268"/>
                    </a:lnTo>
                    <a:lnTo>
                      <a:pt x="1520" y="1272"/>
                    </a:lnTo>
                    <a:lnTo>
                      <a:pt x="1526" y="1275"/>
                    </a:lnTo>
                    <a:lnTo>
                      <a:pt x="1531" y="1279"/>
                    </a:lnTo>
                    <a:lnTo>
                      <a:pt x="1536" y="1282"/>
                    </a:lnTo>
                    <a:lnTo>
                      <a:pt x="1540" y="1287"/>
                    </a:lnTo>
                    <a:lnTo>
                      <a:pt x="1544" y="1292"/>
                    </a:lnTo>
                    <a:lnTo>
                      <a:pt x="1547" y="1298"/>
                    </a:lnTo>
                    <a:lnTo>
                      <a:pt x="1548" y="1305"/>
                    </a:lnTo>
                    <a:lnTo>
                      <a:pt x="1554" y="1305"/>
                    </a:lnTo>
                    <a:lnTo>
                      <a:pt x="1555" y="1312"/>
                    </a:lnTo>
                    <a:lnTo>
                      <a:pt x="1552" y="1316"/>
                    </a:lnTo>
                    <a:lnTo>
                      <a:pt x="1547" y="1318"/>
                    </a:lnTo>
                    <a:lnTo>
                      <a:pt x="1541" y="1321"/>
                    </a:lnTo>
                    <a:lnTo>
                      <a:pt x="1521" y="1321"/>
                    </a:lnTo>
                    <a:lnTo>
                      <a:pt x="1501" y="1318"/>
                    </a:lnTo>
                    <a:lnTo>
                      <a:pt x="1484" y="1312"/>
                    </a:lnTo>
                    <a:lnTo>
                      <a:pt x="1467" y="1305"/>
                    </a:lnTo>
                    <a:lnTo>
                      <a:pt x="1452" y="1295"/>
                    </a:lnTo>
                    <a:lnTo>
                      <a:pt x="1437" y="1284"/>
                    </a:lnTo>
                    <a:lnTo>
                      <a:pt x="1422" y="1273"/>
                    </a:lnTo>
                    <a:lnTo>
                      <a:pt x="1408" y="1262"/>
                    </a:lnTo>
                    <a:lnTo>
                      <a:pt x="1406" y="1271"/>
                    </a:lnTo>
                    <a:lnTo>
                      <a:pt x="1409" y="1279"/>
                    </a:lnTo>
                    <a:lnTo>
                      <a:pt x="1413" y="1287"/>
                    </a:lnTo>
                    <a:lnTo>
                      <a:pt x="1419" y="1294"/>
                    </a:lnTo>
                    <a:lnTo>
                      <a:pt x="1425" y="1301"/>
                    </a:lnTo>
                    <a:lnTo>
                      <a:pt x="1430" y="1308"/>
                    </a:lnTo>
                    <a:lnTo>
                      <a:pt x="1433" y="1315"/>
                    </a:lnTo>
                    <a:lnTo>
                      <a:pt x="1432" y="1324"/>
                    </a:lnTo>
                    <a:lnTo>
                      <a:pt x="1435" y="1326"/>
                    </a:lnTo>
                    <a:lnTo>
                      <a:pt x="1436" y="1330"/>
                    </a:lnTo>
                    <a:lnTo>
                      <a:pt x="1435" y="1336"/>
                    </a:lnTo>
                    <a:lnTo>
                      <a:pt x="1435" y="1341"/>
                    </a:lnTo>
                    <a:lnTo>
                      <a:pt x="1426" y="1341"/>
                    </a:lnTo>
                    <a:lnTo>
                      <a:pt x="1417" y="1339"/>
                    </a:lnTo>
                    <a:lnTo>
                      <a:pt x="1408" y="1337"/>
                    </a:lnTo>
                    <a:lnTo>
                      <a:pt x="1399" y="1334"/>
                    </a:lnTo>
                    <a:lnTo>
                      <a:pt x="1391" y="1328"/>
                    </a:lnTo>
                    <a:lnTo>
                      <a:pt x="1382" y="1323"/>
                    </a:lnTo>
                    <a:lnTo>
                      <a:pt x="1375" y="1317"/>
                    </a:lnTo>
                    <a:lnTo>
                      <a:pt x="1369" y="1311"/>
                    </a:lnTo>
                    <a:lnTo>
                      <a:pt x="1357" y="1318"/>
                    </a:lnTo>
                    <a:lnTo>
                      <a:pt x="1346" y="1326"/>
                    </a:lnTo>
                    <a:lnTo>
                      <a:pt x="1336" y="1337"/>
                    </a:lnTo>
                    <a:lnTo>
                      <a:pt x="1328" y="1348"/>
                    </a:lnTo>
                    <a:lnTo>
                      <a:pt x="1320" y="1359"/>
                    </a:lnTo>
                    <a:lnTo>
                      <a:pt x="1311" y="1369"/>
                    </a:lnTo>
                    <a:lnTo>
                      <a:pt x="1302" y="1377"/>
                    </a:lnTo>
                    <a:lnTo>
                      <a:pt x="1289" y="1384"/>
                    </a:lnTo>
                    <a:lnTo>
                      <a:pt x="1283" y="1389"/>
                    </a:lnTo>
                    <a:lnTo>
                      <a:pt x="1279" y="1396"/>
                    </a:lnTo>
                    <a:lnTo>
                      <a:pt x="1279" y="1404"/>
                    </a:lnTo>
                    <a:lnTo>
                      <a:pt x="1282" y="1411"/>
                    </a:lnTo>
                    <a:lnTo>
                      <a:pt x="1300" y="1418"/>
                    </a:lnTo>
                    <a:lnTo>
                      <a:pt x="1317" y="1425"/>
                    </a:lnTo>
                    <a:lnTo>
                      <a:pt x="1335" y="1431"/>
                    </a:lnTo>
                    <a:lnTo>
                      <a:pt x="1353" y="1438"/>
                    </a:lnTo>
                    <a:lnTo>
                      <a:pt x="1369" y="1447"/>
                    </a:lnTo>
                    <a:lnTo>
                      <a:pt x="1385" y="1458"/>
                    </a:lnTo>
                    <a:lnTo>
                      <a:pt x="1398" y="1473"/>
                    </a:lnTo>
                    <a:lnTo>
                      <a:pt x="1408" y="1490"/>
                    </a:lnTo>
                    <a:lnTo>
                      <a:pt x="1411" y="1500"/>
                    </a:lnTo>
                    <a:lnTo>
                      <a:pt x="1412" y="1511"/>
                    </a:lnTo>
                    <a:lnTo>
                      <a:pt x="1411" y="1522"/>
                    </a:lnTo>
                    <a:lnTo>
                      <a:pt x="1405" y="1530"/>
                    </a:lnTo>
                    <a:lnTo>
                      <a:pt x="1398" y="1516"/>
                    </a:lnTo>
                    <a:lnTo>
                      <a:pt x="1390" y="1504"/>
                    </a:lnTo>
                    <a:lnTo>
                      <a:pt x="1379" y="1494"/>
                    </a:lnTo>
                    <a:lnTo>
                      <a:pt x="1368" y="1486"/>
                    </a:lnTo>
                    <a:lnTo>
                      <a:pt x="1356" y="1478"/>
                    </a:lnTo>
                    <a:lnTo>
                      <a:pt x="1343" y="1472"/>
                    </a:lnTo>
                    <a:lnTo>
                      <a:pt x="1329" y="1465"/>
                    </a:lnTo>
                    <a:lnTo>
                      <a:pt x="1316" y="1460"/>
                    </a:lnTo>
                    <a:lnTo>
                      <a:pt x="1297" y="1452"/>
                    </a:lnTo>
                    <a:lnTo>
                      <a:pt x="1278" y="1445"/>
                    </a:lnTo>
                    <a:lnTo>
                      <a:pt x="1259" y="1439"/>
                    </a:lnTo>
                    <a:lnTo>
                      <a:pt x="1238" y="1435"/>
                    </a:lnTo>
                    <a:lnTo>
                      <a:pt x="1219" y="1431"/>
                    </a:lnTo>
                    <a:lnTo>
                      <a:pt x="1198" y="1429"/>
                    </a:lnTo>
                    <a:lnTo>
                      <a:pt x="1178" y="1428"/>
                    </a:lnTo>
                    <a:lnTo>
                      <a:pt x="1157" y="1429"/>
                    </a:lnTo>
                    <a:lnTo>
                      <a:pt x="1137" y="1431"/>
                    </a:lnTo>
                    <a:lnTo>
                      <a:pt x="1116" y="1434"/>
                    </a:lnTo>
                    <a:lnTo>
                      <a:pt x="1097" y="1439"/>
                    </a:lnTo>
                    <a:lnTo>
                      <a:pt x="1077" y="1445"/>
                    </a:lnTo>
                    <a:lnTo>
                      <a:pt x="1059" y="1453"/>
                    </a:lnTo>
                    <a:lnTo>
                      <a:pt x="1041" y="1462"/>
                    </a:lnTo>
                    <a:lnTo>
                      <a:pt x="1023" y="1474"/>
                    </a:lnTo>
                    <a:lnTo>
                      <a:pt x="1007" y="1487"/>
                    </a:lnTo>
                    <a:lnTo>
                      <a:pt x="999" y="1492"/>
                    </a:lnTo>
                    <a:lnTo>
                      <a:pt x="990" y="1496"/>
                    </a:lnTo>
                    <a:lnTo>
                      <a:pt x="981" y="1501"/>
                    </a:lnTo>
                    <a:lnTo>
                      <a:pt x="973" y="1506"/>
                    </a:lnTo>
                    <a:lnTo>
                      <a:pt x="965" y="1512"/>
                    </a:lnTo>
                    <a:lnTo>
                      <a:pt x="958" y="1520"/>
                    </a:lnTo>
                    <a:lnTo>
                      <a:pt x="953" y="1528"/>
                    </a:lnTo>
                    <a:lnTo>
                      <a:pt x="947" y="1537"/>
                    </a:lnTo>
                    <a:lnTo>
                      <a:pt x="944" y="1532"/>
                    </a:lnTo>
                    <a:lnTo>
                      <a:pt x="945" y="1527"/>
                    </a:lnTo>
                    <a:lnTo>
                      <a:pt x="948" y="1522"/>
                    </a:lnTo>
                    <a:lnTo>
                      <a:pt x="950" y="1517"/>
                    </a:lnTo>
                    <a:lnTo>
                      <a:pt x="937" y="1513"/>
                    </a:lnTo>
                    <a:lnTo>
                      <a:pt x="948" y="1497"/>
                    </a:lnTo>
                    <a:lnTo>
                      <a:pt x="962" y="1483"/>
                    </a:lnTo>
                    <a:lnTo>
                      <a:pt x="978" y="1470"/>
                    </a:lnTo>
                    <a:lnTo>
                      <a:pt x="994" y="1458"/>
                    </a:lnTo>
                    <a:lnTo>
                      <a:pt x="1013" y="1447"/>
                    </a:lnTo>
                    <a:lnTo>
                      <a:pt x="1031" y="1438"/>
                    </a:lnTo>
                    <a:lnTo>
                      <a:pt x="1050" y="1428"/>
                    </a:lnTo>
                    <a:lnTo>
                      <a:pt x="1067" y="1417"/>
                    </a:lnTo>
                    <a:lnTo>
                      <a:pt x="1053" y="1415"/>
                    </a:lnTo>
                    <a:lnTo>
                      <a:pt x="1039" y="1415"/>
                    </a:lnTo>
                    <a:lnTo>
                      <a:pt x="1024" y="1415"/>
                    </a:lnTo>
                    <a:lnTo>
                      <a:pt x="1011" y="1417"/>
                    </a:lnTo>
                    <a:lnTo>
                      <a:pt x="998" y="1419"/>
                    </a:lnTo>
                    <a:lnTo>
                      <a:pt x="984" y="1422"/>
                    </a:lnTo>
                    <a:lnTo>
                      <a:pt x="971" y="1427"/>
                    </a:lnTo>
                    <a:lnTo>
                      <a:pt x="959" y="1431"/>
                    </a:lnTo>
                    <a:lnTo>
                      <a:pt x="945" y="1436"/>
                    </a:lnTo>
                    <a:lnTo>
                      <a:pt x="933" y="1442"/>
                    </a:lnTo>
                    <a:lnTo>
                      <a:pt x="921" y="1448"/>
                    </a:lnTo>
                    <a:lnTo>
                      <a:pt x="910" y="1455"/>
                    </a:lnTo>
                    <a:lnTo>
                      <a:pt x="898" y="1461"/>
                    </a:lnTo>
                    <a:lnTo>
                      <a:pt x="886" y="1470"/>
                    </a:lnTo>
                    <a:lnTo>
                      <a:pt x="876" y="1477"/>
                    </a:lnTo>
                    <a:lnTo>
                      <a:pt x="864" y="1484"/>
                    </a:lnTo>
                    <a:lnTo>
                      <a:pt x="867" y="1473"/>
                    </a:lnTo>
                    <a:lnTo>
                      <a:pt x="874" y="1463"/>
                    </a:lnTo>
                    <a:lnTo>
                      <a:pt x="882" y="1456"/>
                    </a:lnTo>
                    <a:lnTo>
                      <a:pt x="888" y="1447"/>
                    </a:lnTo>
                    <a:lnTo>
                      <a:pt x="877" y="1447"/>
                    </a:lnTo>
                    <a:lnTo>
                      <a:pt x="888" y="1436"/>
                    </a:lnTo>
                    <a:lnTo>
                      <a:pt x="899" y="1426"/>
                    </a:lnTo>
                    <a:lnTo>
                      <a:pt x="911" y="1417"/>
                    </a:lnTo>
                    <a:lnTo>
                      <a:pt x="922" y="1409"/>
                    </a:lnTo>
                    <a:lnTo>
                      <a:pt x="934" y="1402"/>
                    </a:lnTo>
                    <a:lnTo>
                      <a:pt x="946" y="1395"/>
                    </a:lnTo>
                    <a:lnTo>
                      <a:pt x="959" y="1390"/>
                    </a:lnTo>
                    <a:lnTo>
                      <a:pt x="971" y="1385"/>
                    </a:lnTo>
                    <a:lnTo>
                      <a:pt x="984" y="1381"/>
                    </a:lnTo>
                    <a:lnTo>
                      <a:pt x="998" y="1376"/>
                    </a:lnTo>
                    <a:lnTo>
                      <a:pt x="1011" y="1373"/>
                    </a:lnTo>
                    <a:lnTo>
                      <a:pt x="1024" y="1371"/>
                    </a:lnTo>
                    <a:lnTo>
                      <a:pt x="1039" y="1369"/>
                    </a:lnTo>
                    <a:lnTo>
                      <a:pt x="1053" y="1368"/>
                    </a:lnTo>
                    <a:lnTo>
                      <a:pt x="1068" y="1367"/>
                    </a:lnTo>
                    <a:lnTo>
                      <a:pt x="1084" y="1367"/>
                    </a:lnTo>
                    <a:lnTo>
                      <a:pt x="1146" y="1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flipH="1" rot="20945400">
                <a:off x="1552680" y="3254760"/>
                <a:ext cx="181440" cy="101520"/>
              </a:xfrm>
              <a:custGeom>
                <a:avLst/>
                <a:gdLst/>
                <a:ahLst/>
                <a:rect l="l" t="t" r="r" b="b"/>
                <a:pathLst>
                  <a:path w="283" h="171">
                    <a:moveTo>
                      <a:pt x="6" y="155"/>
                    </a:moveTo>
                    <a:lnTo>
                      <a:pt x="5" y="152"/>
                    </a:lnTo>
                    <a:lnTo>
                      <a:pt x="2" y="142"/>
                    </a:lnTo>
                    <a:lnTo>
                      <a:pt x="0" y="128"/>
                    </a:lnTo>
                    <a:lnTo>
                      <a:pt x="1" y="109"/>
                    </a:lnTo>
                    <a:lnTo>
                      <a:pt x="6" y="89"/>
                    </a:lnTo>
                    <a:lnTo>
                      <a:pt x="17" y="68"/>
                    </a:lnTo>
                    <a:lnTo>
                      <a:pt x="36" y="49"/>
                    </a:lnTo>
                    <a:lnTo>
                      <a:pt x="66" y="31"/>
                    </a:lnTo>
                    <a:lnTo>
                      <a:pt x="97" y="16"/>
                    </a:lnTo>
                    <a:lnTo>
                      <a:pt x="119" y="7"/>
                    </a:lnTo>
                    <a:lnTo>
                      <a:pt x="135" y="2"/>
                    </a:lnTo>
                    <a:lnTo>
                      <a:pt x="144" y="0"/>
                    </a:lnTo>
                    <a:lnTo>
                      <a:pt x="149" y="0"/>
                    </a:lnTo>
                    <a:lnTo>
                      <a:pt x="152" y="0"/>
                    </a:lnTo>
                    <a:lnTo>
                      <a:pt x="152" y="1"/>
                    </a:lnTo>
                    <a:lnTo>
                      <a:pt x="152" y="2"/>
                    </a:lnTo>
                    <a:lnTo>
                      <a:pt x="156" y="2"/>
                    </a:lnTo>
                    <a:lnTo>
                      <a:pt x="165" y="3"/>
                    </a:lnTo>
                    <a:lnTo>
                      <a:pt x="180" y="5"/>
                    </a:lnTo>
                    <a:lnTo>
                      <a:pt x="197" y="7"/>
                    </a:lnTo>
                    <a:lnTo>
                      <a:pt x="215" y="11"/>
                    </a:lnTo>
                    <a:lnTo>
                      <a:pt x="231" y="15"/>
                    </a:lnTo>
                    <a:lnTo>
                      <a:pt x="245" y="21"/>
                    </a:lnTo>
                    <a:lnTo>
                      <a:pt x="255" y="28"/>
                    </a:lnTo>
                    <a:lnTo>
                      <a:pt x="267" y="44"/>
                    </a:lnTo>
                    <a:lnTo>
                      <a:pt x="275" y="57"/>
                    </a:lnTo>
                    <a:lnTo>
                      <a:pt x="281" y="67"/>
                    </a:lnTo>
                    <a:lnTo>
                      <a:pt x="283" y="71"/>
                    </a:lnTo>
                    <a:lnTo>
                      <a:pt x="278" y="71"/>
                    </a:lnTo>
                    <a:lnTo>
                      <a:pt x="266" y="72"/>
                    </a:lnTo>
                    <a:lnTo>
                      <a:pt x="247" y="74"/>
                    </a:lnTo>
                    <a:lnTo>
                      <a:pt x="224" y="77"/>
                    </a:lnTo>
                    <a:lnTo>
                      <a:pt x="198" y="79"/>
                    </a:lnTo>
                    <a:lnTo>
                      <a:pt x="173" y="81"/>
                    </a:lnTo>
                    <a:lnTo>
                      <a:pt x="148" y="83"/>
                    </a:lnTo>
                    <a:lnTo>
                      <a:pt x="127" y="84"/>
                    </a:lnTo>
                    <a:lnTo>
                      <a:pt x="108" y="86"/>
                    </a:lnTo>
                    <a:lnTo>
                      <a:pt x="92" y="89"/>
                    </a:lnTo>
                    <a:lnTo>
                      <a:pt x="77" y="93"/>
                    </a:lnTo>
                    <a:lnTo>
                      <a:pt x="65" y="98"/>
                    </a:lnTo>
                    <a:lnTo>
                      <a:pt x="54" y="105"/>
                    </a:lnTo>
                    <a:lnTo>
                      <a:pt x="45" y="113"/>
                    </a:lnTo>
                    <a:lnTo>
                      <a:pt x="36" y="122"/>
                    </a:lnTo>
                    <a:lnTo>
                      <a:pt x="31" y="131"/>
                    </a:lnTo>
                    <a:lnTo>
                      <a:pt x="22" y="147"/>
                    </a:lnTo>
                    <a:lnTo>
                      <a:pt x="15" y="159"/>
                    </a:lnTo>
                    <a:lnTo>
                      <a:pt x="11" y="168"/>
                    </a:lnTo>
                    <a:lnTo>
                      <a:pt x="9" y="171"/>
                    </a:lnTo>
                    <a:lnTo>
                      <a:pt x="6" y="155"/>
                    </a:lnTo>
                    <a:close/>
                  </a:path>
                </a:pathLst>
              </a:custGeom>
              <a:solidFill>
                <a:srgbClr val="a8875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8" name=""/>
              <p:cNvSpPr/>
              <p:nvPr/>
            </p:nvSpPr>
            <p:spPr>
              <a:xfrm flipH="1" rot="20945400">
                <a:off x="1098720" y="3664080"/>
                <a:ext cx="225720" cy="99720"/>
              </a:xfrm>
              <a:custGeom>
                <a:avLst/>
                <a:gdLst/>
                <a:ahLst/>
                <a:rect l="l" t="t" r="r" b="b"/>
                <a:pathLst>
                  <a:path w="352" h="168">
                    <a:moveTo>
                      <a:pt x="271" y="32"/>
                    </a:moveTo>
                    <a:lnTo>
                      <a:pt x="277" y="30"/>
                    </a:lnTo>
                    <a:lnTo>
                      <a:pt x="284" y="27"/>
                    </a:lnTo>
                    <a:lnTo>
                      <a:pt x="288" y="24"/>
                    </a:lnTo>
                    <a:lnTo>
                      <a:pt x="292" y="20"/>
                    </a:lnTo>
                    <a:lnTo>
                      <a:pt x="296" y="16"/>
                    </a:lnTo>
                    <a:lnTo>
                      <a:pt x="300" y="11"/>
                    </a:lnTo>
                    <a:lnTo>
                      <a:pt x="304" y="7"/>
                    </a:lnTo>
                    <a:lnTo>
                      <a:pt x="308" y="3"/>
                    </a:lnTo>
                    <a:lnTo>
                      <a:pt x="315" y="3"/>
                    </a:lnTo>
                    <a:lnTo>
                      <a:pt x="309" y="16"/>
                    </a:lnTo>
                    <a:lnTo>
                      <a:pt x="302" y="27"/>
                    </a:lnTo>
                    <a:lnTo>
                      <a:pt x="294" y="38"/>
                    </a:lnTo>
                    <a:lnTo>
                      <a:pt x="286" y="49"/>
                    </a:lnTo>
                    <a:lnTo>
                      <a:pt x="276" y="60"/>
                    </a:lnTo>
                    <a:lnTo>
                      <a:pt x="268" y="71"/>
                    </a:lnTo>
                    <a:lnTo>
                      <a:pt x="261" y="82"/>
                    </a:lnTo>
                    <a:lnTo>
                      <a:pt x="255" y="96"/>
                    </a:lnTo>
                    <a:lnTo>
                      <a:pt x="257" y="103"/>
                    </a:lnTo>
                    <a:lnTo>
                      <a:pt x="263" y="110"/>
                    </a:lnTo>
                    <a:lnTo>
                      <a:pt x="269" y="116"/>
                    </a:lnTo>
                    <a:lnTo>
                      <a:pt x="275" y="122"/>
                    </a:lnTo>
                    <a:lnTo>
                      <a:pt x="286" y="122"/>
                    </a:lnTo>
                    <a:lnTo>
                      <a:pt x="295" y="124"/>
                    </a:lnTo>
                    <a:lnTo>
                      <a:pt x="304" y="127"/>
                    </a:lnTo>
                    <a:lnTo>
                      <a:pt x="314" y="131"/>
                    </a:lnTo>
                    <a:lnTo>
                      <a:pt x="323" y="136"/>
                    </a:lnTo>
                    <a:lnTo>
                      <a:pt x="333" y="140"/>
                    </a:lnTo>
                    <a:lnTo>
                      <a:pt x="342" y="145"/>
                    </a:lnTo>
                    <a:lnTo>
                      <a:pt x="352" y="149"/>
                    </a:lnTo>
                    <a:lnTo>
                      <a:pt x="335" y="146"/>
                    </a:lnTo>
                    <a:lnTo>
                      <a:pt x="317" y="142"/>
                    </a:lnTo>
                    <a:lnTo>
                      <a:pt x="299" y="138"/>
                    </a:lnTo>
                    <a:lnTo>
                      <a:pt x="280" y="133"/>
                    </a:lnTo>
                    <a:lnTo>
                      <a:pt x="261" y="129"/>
                    </a:lnTo>
                    <a:lnTo>
                      <a:pt x="242" y="128"/>
                    </a:lnTo>
                    <a:lnTo>
                      <a:pt x="222" y="128"/>
                    </a:lnTo>
                    <a:lnTo>
                      <a:pt x="203" y="133"/>
                    </a:lnTo>
                    <a:lnTo>
                      <a:pt x="186" y="136"/>
                    </a:lnTo>
                    <a:lnTo>
                      <a:pt x="170" y="140"/>
                    </a:lnTo>
                    <a:lnTo>
                      <a:pt x="155" y="144"/>
                    </a:lnTo>
                    <a:lnTo>
                      <a:pt x="138" y="149"/>
                    </a:lnTo>
                    <a:lnTo>
                      <a:pt x="123" y="153"/>
                    </a:lnTo>
                    <a:lnTo>
                      <a:pt x="107" y="158"/>
                    </a:lnTo>
                    <a:lnTo>
                      <a:pt x="91" y="163"/>
                    </a:lnTo>
                    <a:lnTo>
                      <a:pt x="76" y="168"/>
                    </a:lnTo>
                    <a:lnTo>
                      <a:pt x="83" y="162"/>
                    </a:lnTo>
                    <a:lnTo>
                      <a:pt x="89" y="156"/>
                    </a:lnTo>
                    <a:lnTo>
                      <a:pt x="96" y="150"/>
                    </a:lnTo>
                    <a:lnTo>
                      <a:pt x="103" y="145"/>
                    </a:lnTo>
                    <a:lnTo>
                      <a:pt x="112" y="140"/>
                    </a:lnTo>
                    <a:lnTo>
                      <a:pt x="119" y="136"/>
                    </a:lnTo>
                    <a:lnTo>
                      <a:pt x="127" y="134"/>
                    </a:lnTo>
                    <a:lnTo>
                      <a:pt x="136" y="133"/>
                    </a:lnTo>
                    <a:lnTo>
                      <a:pt x="149" y="119"/>
                    </a:lnTo>
                    <a:lnTo>
                      <a:pt x="142" y="112"/>
                    </a:lnTo>
                    <a:lnTo>
                      <a:pt x="0" y="119"/>
                    </a:lnTo>
                    <a:lnTo>
                      <a:pt x="10" y="116"/>
                    </a:lnTo>
                    <a:lnTo>
                      <a:pt x="21" y="112"/>
                    </a:lnTo>
                    <a:lnTo>
                      <a:pt x="33" y="109"/>
                    </a:lnTo>
                    <a:lnTo>
                      <a:pt x="43" y="106"/>
                    </a:lnTo>
                    <a:lnTo>
                      <a:pt x="54" y="103"/>
                    </a:lnTo>
                    <a:lnTo>
                      <a:pt x="65" y="101"/>
                    </a:lnTo>
                    <a:lnTo>
                      <a:pt x="78" y="99"/>
                    </a:lnTo>
                    <a:lnTo>
                      <a:pt x="89" y="97"/>
                    </a:lnTo>
                    <a:lnTo>
                      <a:pt x="100" y="95"/>
                    </a:lnTo>
                    <a:lnTo>
                      <a:pt x="112" y="94"/>
                    </a:lnTo>
                    <a:lnTo>
                      <a:pt x="124" y="93"/>
                    </a:lnTo>
                    <a:lnTo>
                      <a:pt x="135" y="92"/>
                    </a:lnTo>
                    <a:lnTo>
                      <a:pt x="147" y="92"/>
                    </a:lnTo>
                    <a:lnTo>
                      <a:pt x="159" y="92"/>
                    </a:lnTo>
                    <a:lnTo>
                      <a:pt x="171" y="92"/>
                    </a:lnTo>
                    <a:lnTo>
                      <a:pt x="182" y="93"/>
                    </a:lnTo>
                    <a:lnTo>
                      <a:pt x="200" y="88"/>
                    </a:lnTo>
                    <a:lnTo>
                      <a:pt x="214" y="79"/>
                    </a:lnTo>
                    <a:lnTo>
                      <a:pt x="225" y="68"/>
                    </a:lnTo>
                    <a:lnTo>
                      <a:pt x="236" y="55"/>
                    </a:lnTo>
                    <a:lnTo>
                      <a:pt x="246" y="42"/>
                    </a:lnTo>
                    <a:lnTo>
                      <a:pt x="255" y="26"/>
                    </a:lnTo>
                    <a:lnTo>
                      <a:pt x="264" y="13"/>
                    </a:lnTo>
                    <a:lnTo>
                      <a:pt x="275" y="0"/>
                    </a:lnTo>
                    <a:lnTo>
                      <a:pt x="273" y="9"/>
                    </a:lnTo>
                    <a:lnTo>
                      <a:pt x="268" y="17"/>
                    </a:lnTo>
                    <a:lnTo>
                      <a:pt x="265" y="24"/>
                    </a:lnTo>
                    <a:lnTo>
                      <a:pt x="271" y="32"/>
                    </a:lnTo>
                    <a:close/>
                  </a:path>
                </a:pathLst>
              </a:custGeom>
              <a:solidFill>
                <a:srgbClr val="e0af2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
              <p:cNvSpPr/>
              <p:nvPr/>
            </p:nvSpPr>
            <p:spPr>
              <a:xfrm flipH="1" rot="20945400">
                <a:off x="962640" y="3716640"/>
                <a:ext cx="159120" cy="115200"/>
              </a:xfrm>
              <a:custGeom>
                <a:avLst/>
                <a:gdLst/>
                <a:ahLst/>
                <a:rect l="l" t="t" r="r" b="b"/>
                <a:pathLst>
                  <a:path w="248" h="194">
                    <a:moveTo>
                      <a:pt x="248" y="44"/>
                    </a:moveTo>
                    <a:lnTo>
                      <a:pt x="168" y="160"/>
                    </a:lnTo>
                    <a:lnTo>
                      <a:pt x="168" y="171"/>
                    </a:lnTo>
                    <a:lnTo>
                      <a:pt x="173" y="180"/>
                    </a:lnTo>
                    <a:lnTo>
                      <a:pt x="180" y="187"/>
                    </a:lnTo>
                    <a:lnTo>
                      <a:pt x="189" y="194"/>
                    </a:lnTo>
                    <a:lnTo>
                      <a:pt x="171" y="190"/>
                    </a:lnTo>
                    <a:lnTo>
                      <a:pt x="153" y="184"/>
                    </a:lnTo>
                    <a:lnTo>
                      <a:pt x="136" y="177"/>
                    </a:lnTo>
                    <a:lnTo>
                      <a:pt x="118" y="170"/>
                    </a:lnTo>
                    <a:lnTo>
                      <a:pt x="101" y="165"/>
                    </a:lnTo>
                    <a:lnTo>
                      <a:pt x="83" y="161"/>
                    </a:lnTo>
                    <a:lnTo>
                      <a:pt x="65" y="161"/>
                    </a:lnTo>
                    <a:lnTo>
                      <a:pt x="46" y="166"/>
                    </a:lnTo>
                    <a:lnTo>
                      <a:pt x="40" y="163"/>
                    </a:lnTo>
                    <a:lnTo>
                      <a:pt x="35" y="161"/>
                    </a:lnTo>
                    <a:lnTo>
                      <a:pt x="30" y="159"/>
                    </a:lnTo>
                    <a:lnTo>
                      <a:pt x="24" y="158"/>
                    </a:lnTo>
                    <a:lnTo>
                      <a:pt x="19" y="157"/>
                    </a:lnTo>
                    <a:lnTo>
                      <a:pt x="13" y="157"/>
                    </a:lnTo>
                    <a:lnTo>
                      <a:pt x="6" y="157"/>
                    </a:lnTo>
                    <a:lnTo>
                      <a:pt x="0" y="157"/>
                    </a:lnTo>
                    <a:lnTo>
                      <a:pt x="12" y="155"/>
                    </a:lnTo>
                    <a:lnTo>
                      <a:pt x="23" y="152"/>
                    </a:lnTo>
                    <a:lnTo>
                      <a:pt x="34" y="150"/>
                    </a:lnTo>
                    <a:lnTo>
                      <a:pt x="46" y="146"/>
                    </a:lnTo>
                    <a:lnTo>
                      <a:pt x="56" y="141"/>
                    </a:lnTo>
                    <a:lnTo>
                      <a:pt x="67" y="135"/>
                    </a:lnTo>
                    <a:lnTo>
                      <a:pt x="76" y="128"/>
                    </a:lnTo>
                    <a:lnTo>
                      <a:pt x="86" y="120"/>
                    </a:lnTo>
                    <a:lnTo>
                      <a:pt x="142" y="41"/>
                    </a:lnTo>
                    <a:lnTo>
                      <a:pt x="145" y="58"/>
                    </a:lnTo>
                    <a:lnTo>
                      <a:pt x="144" y="75"/>
                    </a:lnTo>
                    <a:lnTo>
                      <a:pt x="141" y="91"/>
                    </a:lnTo>
                    <a:lnTo>
                      <a:pt x="136" y="107"/>
                    </a:lnTo>
                    <a:lnTo>
                      <a:pt x="140" y="113"/>
                    </a:lnTo>
                    <a:lnTo>
                      <a:pt x="145" y="113"/>
                    </a:lnTo>
                    <a:lnTo>
                      <a:pt x="150" y="110"/>
                    </a:lnTo>
                    <a:lnTo>
                      <a:pt x="155" y="107"/>
                    </a:lnTo>
                    <a:lnTo>
                      <a:pt x="161" y="99"/>
                    </a:lnTo>
                    <a:lnTo>
                      <a:pt x="168" y="90"/>
                    </a:lnTo>
                    <a:lnTo>
                      <a:pt x="177" y="83"/>
                    </a:lnTo>
                    <a:lnTo>
                      <a:pt x="185" y="77"/>
                    </a:lnTo>
                    <a:lnTo>
                      <a:pt x="228" y="0"/>
                    </a:lnTo>
                    <a:lnTo>
                      <a:pt x="227" y="14"/>
                    </a:lnTo>
                    <a:lnTo>
                      <a:pt x="233" y="25"/>
                    </a:lnTo>
                    <a:lnTo>
                      <a:pt x="241" y="34"/>
                    </a:lnTo>
                    <a:lnTo>
                      <a:pt x="248" y="44"/>
                    </a:lnTo>
                    <a:close/>
                  </a:path>
                </a:pathLst>
              </a:custGeom>
              <a:solidFill>
                <a:srgbClr val="e0af2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flipH="1" rot="20945400">
                <a:off x="1470600" y="3234960"/>
                <a:ext cx="133560" cy="79560"/>
              </a:xfrm>
              <a:custGeom>
                <a:avLst/>
                <a:gdLst/>
                <a:ahLst/>
                <a:rect l="l" t="t" r="r" b="b"/>
                <a:pathLst>
                  <a:path w="208" h="134">
                    <a:moveTo>
                      <a:pt x="5" y="41"/>
                    </a:moveTo>
                    <a:lnTo>
                      <a:pt x="11" y="41"/>
                    </a:lnTo>
                    <a:lnTo>
                      <a:pt x="18" y="41"/>
                    </a:lnTo>
                    <a:lnTo>
                      <a:pt x="26" y="41"/>
                    </a:lnTo>
                    <a:lnTo>
                      <a:pt x="32" y="41"/>
                    </a:lnTo>
                    <a:lnTo>
                      <a:pt x="39" y="41"/>
                    </a:lnTo>
                    <a:lnTo>
                      <a:pt x="46" y="42"/>
                    </a:lnTo>
                    <a:lnTo>
                      <a:pt x="52" y="42"/>
                    </a:lnTo>
                    <a:lnTo>
                      <a:pt x="58" y="44"/>
                    </a:lnTo>
                    <a:lnTo>
                      <a:pt x="58" y="55"/>
                    </a:lnTo>
                    <a:lnTo>
                      <a:pt x="58" y="62"/>
                    </a:lnTo>
                    <a:lnTo>
                      <a:pt x="59" y="67"/>
                    </a:lnTo>
                    <a:lnTo>
                      <a:pt x="63" y="72"/>
                    </a:lnTo>
                    <a:lnTo>
                      <a:pt x="66" y="75"/>
                    </a:lnTo>
                    <a:lnTo>
                      <a:pt x="71" y="78"/>
                    </a:lnTo>
                    <a:lnTo>
                      <a:pt x="76" y="80"/>
                    </a:lnTo>
                    <a:lnTo>
                      <a:pt x="82" y="82"/>
                    </a:lnTo>
                    <a:lnTo>
                      <a:pt x="88" y="84"/>
                    </a:lnTo>
                    <a:lnTo>
                      <a:pt x="94" y="87"/>
                    </a:lnTo>
                    <a:lnTo>
                      <a:pt x="100" y="87"/>
                    </a:lnTo>
                    <a:lnTo>
                      <a:pt x="107" y="87"/>
                    </a:lnTo>
                    <a:lnTo>
                      <a:pt x="113" y="85"/>
                    </a:lnTo>
                    <a:lnTo>
                      <a:pt x="119" y="82"/>
                    </a:lnTo>
                    <a:lnTo>
                      <a:pt x="124" y="78"/>
                    </a:lnTo>
                    <a:lnTo>
                      <a:pt x="128" y="73"/>
                    </a:lnTo>
                    <a:lnTo>
                      <a:pt x="131" y="68"/>
                    </a:lnTo>
                    <a:lnTo>
                      <a:pt x="136" y="58"/>
                    </a:lnTo>
                    <a:lnTo>
                      <a:pt x="138" y="44"/>
                    </a:lnTo>
                    <a:lnTo>
                      <a:pt x="137" y="31"/>
                    </a:lnTo>
                    <a:lnTo>
                      <a:pt x="134" y="21"/>
                    </a:lnTo>
                    <a:lnTo>
                      <a:pt x="138" y="18"/>
                    </a:lnTo>
                    <a:lnTo>
                      <a:pt x="142" y="15"/>
                    </a:lnTo>
                    <a:lnTo>
                      <a:pt x="146" y="13"/>
                    </a:lnTo>
                    <a:lnTo>
                      <a:pt x="152" y="11"/>
                    </a:lnTo>
                    <a:lnTo>
                      <a:pt x="156" y="9"/>
                    </a:lnTo>
                    <a:lnTo>
                      <a:pt x="160" y="7"/>
                    </a:lnTo>
                    <a:lnTo>
                      <a:pt x="164" y="4"/>
                    </a:lnTo>
                    <a:lnTo>
                      <a:pt x="167" y="1"/>
                    </a:lnTo>
                    <a:lnTo>
                      <a:pt x="172" y="2"/>
                    </a:lnTo>
                    <a:lnTo>
                      <a:pt x="178" y="1"/>
                    </a:lnTo>
                    <a:lnTo>
                      <a:pt x="183" y="1"/>
                    </a:lnTo>
                    <a:lnTo>
                      <a:pt x="189" y="0"/>
                    </a:lnTo>
                    <a:lnTo>
                      <a:pt x="195" y="1"/>
                    </a:lnTo>
                    <a:lnTo>
                      <a:pt x="200" y="2"/>
                    </a:lnTo>
                    <a:lnTo>
                      <a:pt x="205" y="7"/>
                    </a:lnTo>
                    <a:lnTo>
                      <a:pt x="208" y="12"/>
                    </a:lnTo>
                    <a:lnTo>
                      <a:pt x="206" y="22"/>
                    </a:lnTo>
                    <a:lnTo>
                      <a:pt x="203" y="30"/>
                    </a:lnTo>
                    <a:lnTo>
                      <a:pt x="198" y="38"/>
                    </a:lnTo>
                    <a:lnTo>
                      <a:pt x="193" y="45"/>
                    </a:lnTo>
                    <a:lnTo>
                      <a:pt x="185" y="51"/>
                    </a:lnTo>
                    <a:lnTo>
                      <a:pt x="179" y="59"/>
                    </a:lnTo>
                    <a:lnTo>
                      <a:pt x="173" y="66"/>
                    </a:lnTo>
                    <a:lnTo>
                      <a:pt x="167" y="74"/>
                    </a:lnTo>
                    <a:lnTo>
                      <a:pt x="170" y="87"/>
                    </a:lnTo>
                    <a:lnTo>
                      <a:pt x="167" y="98"/>
                    </a:lnTo>
                    <a:lnTo>
                      <a:pt x="161" y="104"/>
                    </a:lnTo>
                    <a:lnTo>
                      <a:pt x="152" y="109"/>
                    </a:lnTo>
                    <a:lnTo>
                      <a:pt x="140" y="114"/>
                    </a:lnTo>
                    <a:lnTo>
                      <a:pt x="129" y="119"/>
                    </a:lnTo>
                    <a:lnTo>
                      <a:pt x="120" y="125"/>
                    </a:lnTo>
                    <a:lnTo>
                      <a:pt x="114" y="134"/>
                    </a:lnTo>
                    <a:lnTo>
                      <a:pt x="113" y="133"/>
                    </a:lnTo>
                    <a:lnTo>
                      <a:pt x="112" y="129"/>
                    </a:lnTo>
                    <a:lnTo>
                      <a:pt x="109" y="123"/>
                    </a:lnTo>
                    <a:lnTo>
                      <a:pt x="103" y="116"/>
                    </a:lnTo>
                    <a:lnTo>
                      <a:pt x="96" y="109"/>
                    </a:lnTo>
                    <a:lnTo>
                      <a:pt x="88" y="101"/>
                    </a:lnTo>
                    <a:lnTo>
                      <a:pt x="77" y="93"/>
                    </a:lnTo>
                    <a:lnTo>
                      <a:pt x="63" y="86"/>
                    </a:lnTo>
                    <a:lnTo>
                      <a:pt x="49" y="81"/>
                    </a:lnTo>
                    <a:lnTo>
                      <a:pt x="38" y="77"/>
                    </a:lnTo>
                    <a:lnTo>
                      <a:pt x="29" y="75"/>
                    </a:lnTo>
                    <a:lnTo>
                      <a:pt x="22" y="74"/>
                    </a:lnTo>
                    <a:lnTo>
                      <a:pt x="15" y="73"/>
                    </a:lnTo>
                    <a:lnTo>
                      <a:pt x="10" y="72"/>
                    </a:lnTo>
                    <a:lnTo>
                      <a:pt x="6" y="71"/>
                    </a:lnTo>
                    <a:lnTo>
                      <a:pt x="3" y="68"/>
                    </a:lnTo>
                    <a:lnTo>
                      <a:pt x="0" y="60"/>
                    </a:lnTo>
                    <a:lnTo>
                      <a:pt x="1" y="51"/>
                    </a:lnTo>
                    <a:lnTo>
                      <a:pt x="3" y="44"/>
                    </a:lnTo>
                    <a:lnTo>
                      <a:pt x="5" y="41"/>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31" name=""/>
              <p:cNvSpPr/>
              <p:nvPr/>
            </p:nvSpPr>
            <p:spPr>
              <a:xfrm flipH="1" rot="20945400">
                <a:off x="462960" y="3014640"/>
                <a:ext cx="886680" cy="814320"/>
              </a:xfrm>
              <a:custGeom>
                <a:avLst/>
                <a:gdLst/>
                <a:ahLst/>
                <a:rect l="l" t="t" r="r" b="b"/>
                <a:pathLst>
                  <a:path w="1383" h="1369">
                    <a:moveTo>
                      <a:pt x="427" y="106"/>
                    </a:moveTo>
                    <a:lnTo>
                      <a:pt x="459" y="121"/>
                    </a:lnTo>
                    <a:lnTo>
                      <a:pt x="491" y="137"/>
                    </a:lnTo>
                    <a:lnTo>
                      <a:pt x="524" y="151"/>
                    </a:lnTo>
                    <a:lnTo>
                      <a:pt x="558" y="166"/>
                    </a:lnTo>
                    <a:lnTo>
                      <a:pt x="590" y="181"/>
                    </a:lnTo>
                    <a:lnTo>
                      <a:pt x="623" y="195"/>
                    </a:lnTo>
                    <a:lnTo>
                      <a:pt x="655" y="210"/>
                    </a:lnTo>
                    <a:lnTo>
                      <a:pt x="688" y="226"/>
                    </a:lnTo>
                    <a:lnTo>
                      <a:pt x="718" y="243"/>
                    </a:lnTo>
                    <a:lnTo>
                      <a:pt x="750" y="260"/>
                    </a:lnTo>
                    <a:lnTo>
                      <a:pt x="780" y="279"/>
                    </a:lnTo>
                    <a:lnTo>
                      <a:pt x="810" y="299"/>
                    </a:lnTo>
                    <a:lnTo>
                      <a:pt x="837" y="322"/>
                    </a:lnTo>
                    <a:lnTo>
                      <a:pt x="865" y="346"/>
                    </a:lnTo>
                    <a:lnTo>
                      <a:pt x="890" y="372"/>
                    </a:lnTo>
                    <a:lnTo>
                      <a:pt x="915" y="401"/>
                    </a:lnTo>
                    <a:lnTo>
                      <a:pt x="923" y="428"/>
                    </a:lnTo>
                    <a:lnTo>
                      <a:pt x="931" y="456"/>
                    </a:lnTo>
                    <a:lnTo>
                      <a:pt x="940" y="482"/>
                    </a:lnTo>
                    <a:lnTo>
                      <a:pt x="948" y="510"/>
                    </a:lnTo>
                    <a:lnTo>
                      <a:pt x="956" y="538"/>
                    </a:lnTo>
                    <a:lnTo>
                      <a:pt x="964" y="565"/>
                    </a:lnTo>
                    <a:lnTo>
                      <a:pt x="972" y="593"/>
                    </a:lnTo>
                    <a:lnTo>
                      <a:pt x="982" y="619"/>
                    </a:lnTo>
                    <a:lnTo>
                      <a:pt x="991" y="646"/>
                    </a:lnTo>
                    <a:lnTo>
                      <a:pt x="1001" y="673"/>
                    </a:lnTo>
                    <a:lnTo>
                      <a:pt x="1012" y="699"/>
                    </a:lnTo>
                    <a:lnTo>
                      <a:pt x="1025" y="725"/>
                    </a:lnTo>
                    <a:lnTo>
                      <a:pt x="1038" y="750"/>
                    </a:lnTo>
                    <a:lnTo>
                      <a:pt x="1053" y="775"/>
                    </a:lnTo>
                    <a:lnTo>
                      <a:pt x="1070" y="798"/>
                    </a:lnTo>
                    <a:lnTo>
                      <a:pt x="1087" y="822"/>
                    </a:lnTo>
                    <a:lnTo>
                      <a:pt x="1102" y="842"/>
                    </a:lnTo>
                    <a:lnTo>
                      <a:pt x="1119" y="862"/>
                    </a:lnTo>
                    <a:lnTo>
                      <a:pt x="1134" y="881"/>
                    </a:lnTo>
                    <a:lnTo>
                      <a:pt x="1150" y="899"/>
                    </a:lnTo>
                    <a:lnTo>
                      <a:pt x="1167" y="918"/>
                    </a:lnTo>
                    <a:lnTo>
                      <a:pt x="1183" y="936"/>
                    </a:lnTo>
                    <a:lnTo>
                      <a:pt x="1201" y="954"/>
                    </a:lnTo>
                    <a:lnTo>
                      <a:pt x="1218" y="970"/>
                    </a:lnTo>
                    <a:lnTo>
                      <a:pt x="1235" y="987"/>
                    </a:lnTo>
                    <a:lnTo>
                      <a:pt x="1253" y="1004"/>
                    </a:lnTo>
                    <a:lnTo>
                      <a:pt x="1271" y="1019"/>
                    </a:lnTo>
                    <a:lnTo>
                      <a:pt x="1291" y="1034"/>
                    </a:lnTo>
                    <a:lnTo>
                      <a:pt x="1310" y="1050"/>
                    </a:lnTo>
                    <a:lnTo>
                      <a:pt x="1331" y="1065"/>
                    </a:lnTo>
                    <a:lnTo>
                      <a:pt x="1351" y="1079"/>
                    </a:lnTo>
                    <a:lnTo>
                      <a:pt x="1373" y="1094"/>
                    </a:lnTo>
                    <a:lnTo>
                      <a:pt x="1376" y="1099"/>
                    </a:lnTo>
                    <a:lnTo>
                      <a:pt x="1377" y="1104"/>
                    </a:lnTo>
                    <a:lnTo>
                      <a:pt x="1378" y="1109"/>
                    </a:lnTo>
                    <a:lnTo>
                      <a:pt x="1383" y="1113"/>
                    </a:lnTo>
                    <a:lnTo>
                      <a:pt x="1378" y="1116"/>
                    </a:lnTo>
                    <a:lnTo>
                      <a:pt x="1374" y="1118"/>
                    </a:lnTo>
                    <a:lnTo>
                      <a:pt x="1368" y="1121"/>
                    </a:lnTo>
                    <a:lnTo>
                      <a:pt x="1363" y="1122"/>
                    </a:lnTo>
                    <a:lnTo>
                      <a:pt x="1358" y="1123"/>
                    </a:lnTo>
                    <a:lnTo>
                      <a:pt x="1353" y="1123"/>
                    </a:lnTo>
                    <a:lnTo>
                      <a:pt x="1348" y="1122"/>
                    </a:lnTo>
                    <a:lnTo>
                      <a:pt x="1343" y="1120"/>
                    </a:lnTo>
                    <a:lnTo>
                      <a:pt x="1341" y="1115"/>
                    </a:lnTo>
                    <a:lnTo>
                      <a:pt x="1337" y="1112"/>
                    </a:lnTo>
                    <a:lnTo>
                      <a:pt x="1333" y="1110"/>
                    </a:lnTo>
                    <a:lnTo>
                      <a:pt x="1327" y="1110"/>
                    </a:lnTo>
                    <a:lnTo>
                      <a:pt x="1322" y="1113"/>
                    </a:lnTo>
                    <a:lnTo>
                      <a:pt x="1331" y="1124"/>
                    </a:lnTo>
                    <a:lnTo>
                      <a:pt x="1341" y="1136"/>
                    </a:lnTo>
                    <a:lnTo>
                      <a:pt x="1352" y="1145"/>
                    </a:lnTo>
                    <a:lnTo>
                      <a:pt x="1362" y="1155"/>
                    </a:lnTo>
                    <a:lnTo>
                      <a:pt x="1371" y="1166"/>
                    </a:lnTo>
                    <a:lnTo>
                      <a:pt x="1378" y="1179"/>
                    </a:lnTo>
                    <a:lnTo>
                      <a:pt x="1382" y="1193"/>
                    </a:lnTo>
                    <a:lnTo>
                      <a:pt x="1383" y="1209"/>
                    </a:lnTo>
                    <a:lnTo>
                      <a:pt x="1371" y="1215"/>
                    </a:lnTo>
                    <a:lnTo>
                      <a:pt x="1357" y="1220"/>
                    </a:lnTo>
                    <a:lnTo>
                      <a:pt x="1343" y="1220"/>
                    </a:lnTo>
                    <a:lnTo>
                      <a:pt x="1330" y="1217"/>
                    </a:lnTo>
                    <a:lnTo>
                      <a:pt x="1315" y="1214"/>
                    </a:lnTo>
                    <a:lnTo>
                      <a:pt x="1302" y="1210"/>
                    </a:lnTo>
                    <a:lnTo>
                      <a:pt x="1289" y="1205"/>
                    </a:lnTo>
                    <a:lnTo>
                      <a:pt x="1276" y="1200"/>
                    </a:lnTo>
                    <a:lnTo>
                      <a:pt x="1268" y="1197"/>
                    </a:lnTo>
                    <a:lnTo>
                      <a:pt x="1261" y="1193"/>
                    </a:lnTo>
                    <a:lnTo>
                      <a:pt x="1254" y="1188"/>
                    </a:lnTo>
                    <a:lnTo>
                      <a:pt x="1248" y="1183"/>
                    </a:lnTo>
                    <a:lnTo>
                      <a:pt x="1242" y="1178"/>
                    </a:lnTo>
                    <a:lnTo>
                      <a:pt x="1235" y="1175"/>
                    </a:lnTo>
                    <a:lnTo>
                      <a:pt x="1228" y="1172"/>
                    </a:lnTo>
                    <a:lnTo>
                      <a:pt x="1220" y="1174"/>
                    </a:lnTo>
                    <a:lnTo>
                      <a:pt x="1240" y="1195"/>
                    </a:lnTo>
                    <a:lnTo>
                      <a:pt x="1260" y="1217"/>
                    </a:lnTo>
                    <a:lnTo>
                      <a:pt x="1279" y="1240"/>
                    </a:lnTo>
                    <a:lnTo>
                      <a:pt x="1299" y="1265"/>
                    </a:lnTo>
                    <a:lnTo>
                      <a:pt x="1317" y="1289"/>
                    </a:lnTo>
                    <a:lnTo>
                      <a:pt x="1334" y="1315"/>
                    </a:lnTo>
                    <a:lnTo>
                      <a:pt x="1349" y="1341"/>
                    </a:lnTo>
                    <a:lnTo>
                      <a:pt x="1362" y="1369"/>
                    </a:lnTo>
                    <a:lnTo>
                      <a:pt x="1325" y="1359"/>
                    </a:lnTo>
                    <a:lnTo>
                      <a:pt x="1288" y="1347"/>
                    </a:lnTo>
                    <a:lnTo>
                      <a:pt x="1252" y="1335"/>
                    </a:lnTo>
                    <a:lnTo>
                      <a:pt x="1215" y="1321"/>
                    </a:lnTo>
                    <a:lnTo>
                      <a:pt x="1179" y="1304"/>
                    </a:lnTo>
                    <a:lnTo>
                      <a:pt x="1144" y="1287"/>
                    </a:lnTo>
                    <a:lnTo>
                      <a:pt x="1109" y="1269"/>
                    </a:lnTo>
                    <a:lnTo>
                      <a:pt x="1076" y="1249"/>
                    </a:lnTo>
                    <a:lnTo>
                      <a:pt x="1043" y="1229"/>
                    </a:lnTo>
                    <a:lnTo>
                      <a:pt x="1010" y="1206"/>
                    </a:lnTo>
                    <a:lnTo>
                      <a:pt x="978" y="1183"/>
                    </a:lnTo>
                    <a:lnTo>
                      <a:pt x="948" y="1158"/>
                    </a:lnTo>
                    <a:lnTo>
                      <a:pt x="918" y="1133"/>
                    </a:lnTo>
                    <a:lnTo>
                      <a:pt x="889" y="1107"/>
                    </a:lnTo>
                    <a:lnTo>
                      <a:pt x="862" y="1079"/>
                    </a:lnTo>
                    <a:lnTo>
                      <a:pt x="835" y="1051"/>
                    </a:lnTo>
                    <a:lnTo>
                      <a:pt x="831" y="1050"/>
                    </a:lnTo>
                    <a:lnTo>
                      <a:pt x="828" y="1048"/>
                    </a:lnTo>
                    <a:lnTo>
                      <a:pt x="825" y="1046"/>
                    </a:lnTo>
                    <a:lnTo>
                      <a:pt x="822" y="1044"/>
                    </a:lnTo>
                    <a:lnTo>
                      <a:pt x="819" y="1047"/>
                    </a:lnTo>
                    <a:lnTo>
                      <a:pt x="829" y="1060"/>
                    </a:lnTo>
                    <a:lnTo>
                      <a:pt x="839" y="1073"/>
                    </a:lnTo>
                    <a:lnTo>
                      <a:pt x="849" y="1087"/>
                    </a:lnTo>
                    <a:lnTo>
                      <a:pt x="860" y="1099"/>
                    </a:lnTo>
                    <a:lnTo>
                      <a:pt x="868" y="1112"/>
                    </a:lnTo>
                    <a:lnTo>
                      <a:pt x="876" y="1125"/>
                    </a:lnTo>
                    <a:lnTo>
                      <a:pt x="881" y="1141"/>
                    </a:lnTo>
                    <a:lnTo>
                      <a:pt x="885" y="1157"/>
                    </a:lnTo>
                    <a:lnTo>
                      <a:pt x="864" y="1147"/>
                    </a:lnTo>
                    <a:lnTo>
                      <a:pt x="842" y="1137"/>
                    </a:lnTo>
                    <a:lnTo>
                      <a:pt x="822" y="1124"/>
                    </a:lnTo>
                    <a:lnTo>
                      <a:pt x="801" y="1112"/>
                    </a:lnTo>
                    <a:lnTo>
                      <a:pt x="781" y="1099"/>
                    </a:lnTo>
                    <a:lnTo>
                      <a:pt x="761" y="1085"/>
                    </a:lnTo>
                    <a:lnTo>
                      <a:pt x="743" y="1069"/>
                    </a:lnTo>
                    <a:lnTo>
                      <a:pt x="725" y="1054"/>
                    </a:lnTo>
                    <a:lnTo>
                      <a:pt x="706" y="1039"/>
                    </a:lnTo>
                    <a:lnTo>
                      <a:pt x="689" y="1022"/>
                    </a:lnTo>
                    <a:lnTo>
                      <a:pt x="671" y="1005"/>
                    </a:lnTo>
                    <a:lnTo>
                      <a:pt x="654" y="988"/>
                    </a:lnTo>
                    <a:lnTo>
                      <a:pt x="638" y="972"/>
                    </a:lnTo>
                    <a:lnTo>
                      <a:pt x="621" y="955"/>
                    </a:lnTo>
                    <a:lnTo>
                      <a:pt x="605" y="937"/>
                    </a:lnTo>
                    <a:lnTo>
                      <a:pt x="589" y="921"/>
                    </a:lnTo>
                    <a:lnTo>
                      <a:pt x="586" y="933"/>
                    </a:lnTo>
                    <a:lnTo>
                      <a:pt x="587" y="942"/>
                    </a:lnTo>
                    <a:lnTo>
                      <a:pt x="590" y="953"/>
                    </a:lnTo>
                    <a:lnTo>
                      <a:pt x="593" y="964"/>
                    </a:lnTo>
                    <a:lnTo>
                      <a:pt x="573" y="949"/>
                    </a:lnTo>
                    <a:lnTo>
                      <a:pt x="553" y="933"/>
                    </a:lnTo>
                    <a:lnTo>
                      <a:pt x="532" y="918"/>
                    </a:lnTo>
                    <a:lnTo>
                      <a:pt x="512" y="903"/>
                    </a:lnTo>
                    <a:lnTo>
                      <a:pt x="492" y="886"/>
                    </a:lnTo>
                    <a:lnTo>
                      <a:pt x="472" y="869"/>
                    </a:lnTo>
                    <a:lnTo>
                      <a:pt x="452" y="851"/>
                    </a:lnTo>
                    <a:lnTo>
                      <a:pt x="434" y="834"/>
                    </a:lnTo>
                    <a:lnTo>
                      <a:pt x="415" y="816"/>
                    </a:lnTo>
                    <a:lnTo>
                      <a:pt x="399" y="796"/>
                    </a:lnTo>
                    <a:lnTo>
                      <a:pt x="383" y="776"/>
                    </a:lnTo>
                    <a:lnTo>
                      <a:pt x="367" y="755"/>
                    </a:lnTo>
                    <a:lnTo>
                      <a:pt x="354" y="734"/>
                    </a:lnTo>
                    <a:lnTo>
                      <a:pt x="342" y="710"/>
                    </a:lnTo>
                    <a:lnTo>
                      <a:pt x="330" y="687"/>
                    </a:lnTo>
                    <a:lnTo>
                      <a:pt x="321" y="662"/>
                    </a:lnTo>
                    <a:lnTo>
                      <a:pt x="313" y="634"/>
                    </a:lnTo>
                    <a:lnTo>
                      <a:pt x="304" y="604"/>
                    </a:lnTo>
                    <a:lnTo>
                      <a:pt x="295" y="575"/>
                    </a:lnTo>
                    <a:lnTo>
                      <a:pt x="283" y="547"/>
                    </a:lnTo>
                    <a:lnTo>
                      <a:pt x="272" y="518"/>
                    </a:lnTo>
                    <a:lnTo>
                      <a:pt x="259" y="491"/>
                    </a:lnTo>
                    <a:lnTo>
                      <a:pt x="245" y="463"/>
                    </a:lnTo>
                    <a:lnTo>
                      <a:pt x="230" y="436"/>
                    </a:lnTo>
                    <a:lnTo>
                      <a:pt x="215" y="411"/>
                    </a:lnTo>
                    <a:lnTo>
                      <a:pt x="197" y="385"/>
                    </a:lnTo>
                    <a:lnTo>
                      <a:pt x="180" y="362"/>
                    </a:lnTo>
                    <a:lnTo>
                      <a:pt x="161" y="338"/>
                    </a:lnTo>
                    <a:lnTo>
                      <a:pt x="140" y="317"/>
                    </a:lnTo>
                    <a:lnTo>
                      <a:pt x="119" y="295"/>
                    </a:lnTo>
                    <a:lnTo>
                      <a:pt x="96" y="276"/>
                    </a:lnTo>
                    <a:lnTo>
                      <a:pt x="71" y="258"/>
                    </a:lnTo>
                    <a:lnTo>
                      <a:pt x="57" y="235"/>
                    </a:lnTo>
                    <a:lnTo>
                      <a:pt x="42" y="211"/>
                    </a:lnTo>
                    <a:lnTo>
                      <a:pt x="26" y="187"/>
                    </a:lnTo>
                    <a:lnTo>
                      <a:pt x="14" y="162"/>
                    </a:lnTo>
                    <a:lnTo>
                      <a:pt x="4" y="137"/>
                    </a:lnTo>
                    <a:lnTo>
                      <a:pt x="0" y="111"/>
                    </a:lnTo>
                    <a:lnTo>
                      <a:pt x="2" y="84"/>
                    </a:lnTo>
                    <a:lnTo>
                      <a:pt x="12" y="56"/>
                    </a:lnTo>
                    <a:lnTo>
                      <a:pt x="17" y="44"/>
                    </a:lnTo>
                    <a:lnTo>
                      <a:pt x="24" y="33"/>
                    </a:lnTo>
                    <a:lnTo>
                      <a:pt x="32" y="23"/>
                    </a:lnTo>
                    <a:lnTo>
                      <a:pt x="40" y="15"/>
                    </a:lnTo>
                    <a:lnTo>
                      <a:pt x="49" y="8"/>
                    </a:lnTo>
                    <a:lnTo>
                      <a:pt x="60" y="3"/>
                    </a:lnTo>
                    <a:lnTo>
                      <a:pt x="74" y="0"/>
                    </a:lnTo>
                    <a:lnTo>
                      <a:pt x="89" y="0"/>
                    </a:lnTo>
                    <a:lnTo>
                      <a:pt x="112" y="0"/>
                    </a:lnTo>
                    <a:lnTo>
                      <a:pt x="135" y="1"/>
                    </a:lnTo>
                    <a:lnTo>
                      <a:pt x="157" y="4"/>
                    </a:lnTo>
                    <a:lnTo>
                      <a:pt x="179" y="7"/>
                    </a:lnTo>
                    <a:lnTo>
                      <a:pt x="201" y="12"/>
                    </a:lnTo>
                    <a:lnTo>
                      <a:pt x="223" y="17"/>
                    </a:lnTo>
                    <a:lnTo>
                      <a:pt x="244" y="23"/>
                    </a:lnTo>
                    <a:lnTo>
                      <a:pt x="265" y="30"/>
                    </a:lnTo>
                    <a:lnTo>
                      <a:pt x="286" y="38"/>
                    </a:lnTo>
                    <a:lnTo>
                      <a:pt x="307" y="47"/>
                    </a:lnTo>
                    <a:lnTo>
                      <a:pt x="327" y="55"/>
                    </a:lnTo>
                    <a:lnTo>
                      <a:pt x="347" y="65"/>
                    </a:lnTo>
                    <a:lnTo>
                      <a:pt x="367" y="74"/>
                    </a:lnTo>
                    <a:lnTo>
                      <a:pt x="387" y="85"/>
                    </a:lnTo>
                    <a:lnTo>
                      <a:pt x="407" y="96"/>
                    </a:lnTo>
                    <a:lnTo>
                      <a:pt x="427" y="106"/>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flipH="1" rot="20945400">
                <a:off x="501840" y="3074400"/>
                <a:ext cx="802440" cy="586440"/>
              </a:xfrm>
              <a:custGeom>
                <a:avLst/>
                <a:gdLst/>
                <a:ahLst/>
                <a:rect l="l" t="t" r="r" b="b"/>
                <a:pathLst>
                  <a:path w="1251" h="986">
                    <a:moveTo>
                      <a:pt x="34" y="45"/>
                    </a:moveTo>
                    <a:lnTo>
                      <a:pt x="45" y="59"/>
                    </a:lnTo>
                    <a:lnTo>
                      <a:pt x="57" y="73"/>
                    </a:lnTo>
                    <a:lnTo>
                      <a:pt x="70" y="86"/>
                    </a:lnTo>
                    <a:lnTo>
                      <a:pt x="83" y="98"/>
                    </a:lnTo>
                    <a:lnTo>
                      <a:pt x="96" y="109"/>
                    </a:lnTo>
                    <a:lnTo>
                      <a:pt x="111" y="120"/>
                    </a:lnTo>
                    <a:lnTo>
                      <a:pt x="125" y="130"/>
                    </a:lnTo>
                    <a:lnTo>
                      <a:pt x="140" y="140"/>
                    </a:lnTo>
                    <a:lnTo>
                      <a:pt x="156" y="149"/>
                    </a:lnTo>
                    <a:lnTo>
                      <a:pt x="172" y="157"/>
                    </a:lnTo>
                    <a:lnTo>
                      <a:pt x="187" y="167"/>
                    </a:lnTo>
                    <a:lnTo>
                      <a:pt x="204" y="174"/>
                    </a:lnTo>
                    <a:lnTo>
                      <a:pt x="221" y="182"/>
                    </a:lnTo>
                    <a:lnTo>
                      <a:pt x="238" y="189"/>
                    </a:lnTo>
                    <a:lnTo>
                      <a:pt x="255" y="196"/>
                    </a:lnTo>
                    <a:lnTo>
                      <a:pt x="272" y="203"/>
                    </a:lnTo>
                    <a:lnTo>
                      <a:pt x="280" y="196"/>
                    </a:lnTo>
                    <a:lnTo>
                      <a:pt x="283" y="187"/>
                    </a:lnTo>
                    <a:lnTo>
                      <a:pt x="282" y="178"/>
                    </a:lnTo>
                    <a:lnTo>
                      <a:pt x="281" y="169"/>
                    </a:lnTo>
                    <a:lnTo>
                      <a:pt x="280" y="159"/>
                    </a:lnTo>
                    <a:lnTo>
                      <a:pt x="279" y="150"/>
                    </a:lnTo>
                    <a:lnTo>
                      <a:pt x="282" y="143"/>
                    </a:lnTo>
                    <a:lnTo>
                      <a:pt x="289" y="137"/>
                    </a:lnTo>
                    <a:lnTo>
                      <a:pt x="296" y="147"/>
                    </a:lnTo>
                    <a:lnTo>
                      <a:pt x="302" y="159"/>
                    </a:lnTo>
                    <a:lnTo>
                      <a:pt x="309" y="173"/>
                    </a:lnTo>
                    <a:lnTo>
                      <a:pt x="316" y="185"/>
                    </a:lnTo>
                    <a:lnTo>
                      <a:pt x="324" y="198"/>
                    </a:lnTo>
                    <a:lnTo>
                      <a:pt x="334" y="210"/>
                    </a:lnTo>
                    <a:lnTo>
                      <a:pt x="345" y="220"/>
                    </a:lnTo>
                    <a:lnTo>
                      <a:pt x="358" y="227"/>
                    </a:lnTo>
                    <a:lnTo>
                      <a:pt x="370" y="231"/>
                    </a:lnTo>
                    <a:lnTo>
                      <a:pt x="381" y="236"/>
                    </a:lnTo>
                    <a:lnTo>
                      <a:pt x="392" y="240"/>
                    </a:lnTo>
                    <a:lnTo>
                      <a:pt x="404" y="244"/>
                    </a:lnTo>
                    <a:lnTo>
                      <a:pt x="416" y="248"/>
                    </a:lnTo>
                    <a:lnTo>
                      <a:pt x="428" y="253"/>
                    </a:lnTo>
                    <a:lnTo>
                      <a:pt x="439" y="256"/>
                    </a:lnTo>
                    <a:lnTo>
                      <a:pt x="452" y="259"/>
                    </a:lnTo>
                    <a:lnTo>
                      <a:pt x="464" y="262"/>
                    </a:lnTo>
                    <a:lnTo>
                      <a:pt x="476" y="265"/>
                    </a:lnTo>
                    <a:lnTo>
                      <a:pt x="488" y="267"/>
                    </a:lnTo>
                    <a:lnTo>
                      <a:pt x="501" y="269"/>
                    </a:lnTo>
                    <a:lnTo>
                      <a:pt x="513" y="270"/>
                    </a:lnTo>
                    <a:lnTo>
                      <a:pt x="525" y="271"/>
                    </a:lnTo>
                    <a:lnTo>
                      <a:pt x="539" y="271"/>
                    </a:lnTo>
                    <a:lnTo>
                      <a:pt x="551" y="270"/>
                    </a:lnTo>
                    <a:lnTo>
                      <a:pt x="559" y="254"/>
                    </a:lnTo>
                    <a:lnTo>
                      <a:pt x="562" y="238"/>
                    </a:lnTo>
                    <a:lnTo>
                      <a:pt x="564" y="222"/>
                    </a:lnTo>
                    <a:lnTo>
                      <a:pt x="567" y="203"/>
                    </a:lnTo>
                    <a:lnTo>
                      <a:pt x="575" y="218"/>
                    </a:lnTo>
                    <a:lnTo>
                      <a:pt x="582" y="233"/>
                    </a:lnTo>
                    <a:lnTo>
                      <a:pt x="586" y="250"/>
                    </a:lnTo>
                    <a:lnTo>
                      <a:pt x="589" y="268"/>
                    </a:lnTo>
                    <a:lnTo>
                      <a:pt x="594" y="284"/>
                    </a:lnTo>
                    <a:lnTo>
                      <a:pt x="602" y="300"/>
                    </a:lnTo>
                    <a:lnTo>
                      <a:pt x="615" y="312"/>
                    </a:lnTo>
                    <a:lnTo>
                      <a:pt x="634" y="320"/>
                    </a:lnTo>
                    <a:lnTo>
                      <a:pt x="653" y="327"/>
                    </a:lnTo>
                    <a:lnTo>
                      <a:pt x="673" y="334"/>
                    </a:lnTo>
                    <a:lnTo>
                      <a:pt x="693" y="342"/>
                    </a:lnTo>
                    <a:lnTo>
                      <a:pt x="714" y="349"/>
                    </a:lnTo>
                    <a:lnTo>
                      <a:pt x="734" y="353"/>
                    </a:lnTo>
                    <a:lnTo>
                      <a:pt x="755" y="353"/>
                    </a:lnTo>
                    <a:lnTo>
                      <a:pt x="774" y="349"/>
                    </a:lnTo>
                    <a:lnTo>
                      <a:pt x="793" y="339"/>
                    </a:lnTo>
                    <a:lnTo>
                      <a:pt x="796" y="332"/>
                    </a:lnTo>
                    <a:lnTo>
                      <a:pt x="794" y="325"/>
                    </a:lnTo>
                    <a:lnTo>
                      <a:pt x="792" y="319"/>
                    </a:lnTo>
                    <a:lnTo>
                      <a:pt x="789" y="313"/>
                    </a:lnTo>
                    <a:lnTo>
                      <a:pt x="787" y="307"/>
                    </a:lnTo>
                    <a:lnTo>
                      <a:pt x="786" y="302"/>
                    </a:lnTo>
                    <a:lnTo>
                      <a:pt x="789" y="295"/>
                    </a:lnTo>
                    <a:lnTo>
                      <a:pt x="797" y="290"/>
                    </a:lnTo>
                    <a:lnTo>
                      <a:pt x="804" y="301"/>
                    </a:lnTo>
                    <a:lnTo>
                      <a:pt x="810" y="313"/>
                    </a:lnTo>
                    <a:lnTo>
                      <a:pt x="815" y="325"/>
                    </a:lnTo>
                    <a:lnTo>
                      <a:pt x="819" y="338"/>
                    </a:lnTo>
                    <a:lnTo>
                      <a:pt x="822" y="352"/>
                    </a:lnTo>
                    <a:lnTo>
                      <a:pt x="825" y="365"/>
                    </a:lnTo>
                    <a:lnTo>
                      <a:pt x="828" y="379"/>
                    </a:lnTo>
                    <a:lnTo>
                      <a:pt x="830" y="393"/>
                    </a:lnTo>
                    <a:lnTo>
                      <a:pt x="832" y="400"/>
                    </a:lnTo>
                    <a:lnTo>
                      <a:pt x="831" y="406"/>
                    </a:lnTo>
                    <a:lnTo>
                      <a:pt x="828" y="411"/>
                    </a:lnTo>
                    <a:lnTo>
                      <a:pt x="824" y="414"/>
                    </a:lnTo>
                    <a:lnTo>
                      <a:pt x="818" y="418"/>
                    </a:lnTo>
                    <a:lnTo>
                      <a:pt x="813" y="420"/>
                    </a:lnTo>
                    <a:lnTo>
                      <a:pt x="807" y="423"/>
                    </a:lnTo>
                    <a:lnTo>
                      <a:pt x="803" y="426"/>
                    </a:lnTo>
                    <a:lnTo>
                      <a:pt x="789" y="427"/>
                    </a:lnTo>
                    <a:lnTo>
                      <a:pt x="776" y="427"/>
                    </a:lnTo>
                    <a:lnTo>
                      <a:pt x="764" y="425"/>
                    </a:lnTo>
                    <a:lnTo>
                      <a:pt x="751" y="422"/>
                    </a:lnTo>
                    <a:lnTo>
                      <a:pt x="740" y="419"/>
                    </a:lnTo>
                    <a:lnTo>
                      <a:pt x="728" y="416"/>
                    </a:lnTo>
                    <a:lnTo>
                      <a:pt x="716" y="414"/>
                    </a:lnTo>
                    <a:lnTo>
                      <a:pt x="703" y="412"/>
                    </a:lnTo>
                    <a:lnTo>
                      <a:pt x="711" y="449"/>
                    </a:lnTo>
                    <a:lnTo>
                      <a:pt x="723" y="484"/>
                    </a:lnTo>
                    <a:lnTo>
                      <a:pt x="740" y="518"/>
                    </a:lnTo>
                    <a:lnTo>
                      <a:pt x="760" y="551"/>
                    </a:lnTo>
                    <a:lnTo>
                      <a:pt x="781" y="584"/>
                    </a:lnTo>
                    <a:lnTo>
                      <a:pt x="805" y="614"/>
                    </a:lnTo>
                    <a:lnTo>
                      <a:pt x="828" y="645"/>
                    </a:lnTo>
                    <a:lnTo>
                      <a:pt x="850" y="675"/>
                    </a:lnTo>
                    <a:lnTo>
                      <a:pt x="863" y="691"/>
                    </a:lnTo>
                    <a:lnTo>
                      <a:pt x="877" y="706"/>
                    </a:lnTo>
                    <a:lnTo>
                      <a:pt x="892" y="722"/>
                    </a:lnTo>
                    <a:lnTo>
                      <a:pt x="908" y="738"/>
                    </a:lnTo>
                    <a:lnTo>
                      <a:pt x="924" y="754"/>
                    </a:lnTo>
                    <a:lnTo>
                      <a:pt x="942" y="768"/>
                    </a:lnTo>
                    <a:lnTo>
                      <a:pt x="960" y="783"/>
                    </a:lnTo>
                    <a:lnTo>
                      <a:pt x="979" y="797"/>
                    </a:lnTo>
                    <a:lnTo>
                      <a:pt x="997" y="812"/>
                    </a:lnTo>
                    <a:lnTo>
                      <a:pt x="1017" y="825"/>
                    </a:lnTo>
                    <a:lnTo>
                      <a:pt x="1036" y="837"/>
                    </a:lnTo>
                    <a:lnTo>
                      <a:pt x="1056" y="851"/>
                    </a:lnTo>
                    <a:lnTo>
                      <a:pt x="1076" y="862"/>
                    </a:lnTo>
                    <a:lnTo>
                      <a:pt x="1095" y="873"/>
                    </a:lnTo>
                    <a:lnTo>
                      <a:pt x="1116" y="883"/>
                    </a:lnTo>
                    <a:lnTo>
                      <a:pt x="1135" y="893"/>
                    </a:lnTo>
                    <a:lnTo>
                      <a:pt x="1138" y="873"/>
                    </a:lnTo>
                    <a:lnTo>
                      <a:pt x="1152" y="887"/>
                    </a:lnTo>
                    <a:lnTo>
                      <a:pt x="1166" y="901"/>
                    </a:lnTo>
                    <a:lnTo>
                      <a:pt x="1179" y="914"/>
                    </a:lnTo>
                    <a:lnTo>
                      <a:pt x="1193" y="927"/>
                    </a:lnTo>
                    <a:lnTo>
                      <a:pt x="1207" y="940"/>
                    </a:lnTo>
                    <a:lnTo>
                      <a:pt x="1221" y="953"/>
                    </a:lnTo>
                    <a:lnTo>
                      <a:pt x="1236" y="966"/>
                    </a:lnTo>
                    <a:lnTo>
                      <a:pt x="1251" y="979"/>
                    </a:lnTo>
                    <a:lnTo>
                      <a:pt x="1241" y="985"/>
                    </a:lnTo>
                    <a:lnTo>
                      <a:pt x="1231" y="986"/>
                    </a:lnTo>
                    <a:lnTo>
                      <a:pt x="1220" y="985"/>
                    </a:lnTo>
                    <a:lnTo>
                      <a:pt x="1209" y="982"/>
                    </a:lnTo>
                    <a:lnTo>
                      <a:pt x="1198" y="977"/>
                    </a:lnTo>
                    <a:lnTo>
                      <a:pt x="1188" y="973"/>
                    </a:lnTo>
                    <a:lnTo>
                      <a:pt x="1176" y="970"/>
                    </a:lnTo>
                    <a:lnTo>
                      <a:pt x="1165" y="969"/>
                    </a:lnTo>
                    <a:lnTo>
                      <a:pt x="1155" y="964"/>
                    </a:lnTo>
                    <a:lnTo>
                      <a:pt x="1145" y="959"/>
                    </a:lnTo>
                    <a:lnTo>
                      <a:pt x="1135" y="954"/>
                    </a:lnTo>
                    <a:lnTo>
                      <a:pt x="1126" y="949"/>
                    </a:lnTo>
                    <a:lnTo>
                      <a:pt x="1117" y="944"/>
                    </a:lnTo>
                    <a:lnTo>
                      <a:pt x="1108" y="938"/>
                    </a:lnTo>
                    <a:lnTo>
                      <a:pt x="1099" y="932"/>
                    </a:lnTo>
                    <a:lnTo>
                      <a:pt x="1088" y="926"/>
                    </a:lnTo>
                    <a:lnTo>
                      <a:pt x="1085" y="929"/>
                    </a:lnTo>
                    <a:lnTo>
                      <a:pt x="1074" y="921"/>
                    </a:lnTo>
                    <a:lnTo>
                      <a:pt x="1062" y="912"/>
                    </a:lnTo>
                    <a:lnTo>
                      <a:pt x="1049" y="903"/>
                    </a:lnTo>
                    <a:lnTo>
                      <a:pt x="1038" y="894"/>
                    </a:lnTo>
                    <a:lnTo>
                      <a:pt x="1025" y="884"/>
                    </a:lnTo>
                    <a:lnTo>
                      <a:pt x="1013" y="875"/>
                    </a:lnTo>
                    <a:lnTo>
                      <a:pt x="1000" y="866"/>
                    </a:lnTo>
                    <a:lnTo>
                      <a:pt x="988" y="856"/>
                    </a:lnTo>
                    <a:lnTo>
                      <a:pt x="976" y="847"/>
                    </a:lnTo>
                    <a:lnTo>
                      <a:pt x="963" y="836"/>
                    </a:lnTo>
                    <a:lnTo>
                      <a:pt x="951" y="826"/>
                    </a:lnTo>
                    <a:lnTo>
                      <a:pt x="940" y="816"/>
                    </a:lnTo>
                    <a:lnTo>
                      <a:pt x="929" y="805"/>
                    </a:lnTo>
                    <a:lnTo>
                      <a:pt x="917" y="793"/>
                    </a:lnTo>
                    <a:lnTo>
                      <a:pt x="907" y="782"/>
                    </a:lnTo>
                    <a:lnTo>
                      <a:pt x="897" y="771"/>
                    </a:lnTo>
                    <a:lnTo>
                      <a:pt x="893" y="761"/>
                    </a:lnTo>
                    <a:lnTo>
                      <a:pt x="887" y="752"/>
                    </a:lnTo>
                    <a:lnTo>
                      <a:pt x="879" y="744"/>
                    </a:lnTo>
                    <a:lnTo>
                      <a:pt x="872" y="736"/>
                    </a:lnTo>
                    <a:lnTo>
                      <a:pt x="865" y="729"/>
                    </a:lnTo>
                    <a:lnTo>
                      <a:pt x="857" y="722"/>
                    </a:lnTo>
                    <a:lnTo>
                      <a:pt x="850" y="714"/>
                    </a:lnTo>
                    <a:lnTo>
                      <a:pt x="844" y="704"/>
                    </a:lnTo>
                    <a:lnTo>
                      <a:pt x="844" y="718"/>
                    </a:lnTo>
                    <a:lnTo>
                      <a:pt x="863" y="746"/>
                    </a:lnTo>
                    <a:lnTo>
                      <a:pt x="881" y="775"/>
                    </a:lnTo>
                    <a:lnTo>
                      <a:pt x="899" y="804"/>
                    </a:lnTo>
                    <a:lnTo>
                      <a:pt x="916" y="832"/>
                    </a:lnTo>
                    <a:lnTo>
                      <a:pt x="934" y="861"/>
                    </a:lnTo>
                    <a:lnTo>
                      <a:pt x="950" y="889"/>
                    </a:lnTo>
                    <a:lnTo>
                      <a:pt x="966" y="919"/>
                    </a:lnTo>
                    <a:lnTo>
                      <a:pt x="982" y="950"/>
                    </a:lnTo>
                    <a:lnTo>
                      <a:pt x="961" y="946"/>
                    </a:lnTo>
                    <a:lnTo>
                      <a:pt x="941" y="940"/>
                    </a:lnTo>
                    <a:lnTo>
                      <a:pt x="920" y="931"/>
                    </a:lnTo>
                    <a:lnTo>
                      <a:pt x="900" y="922"/>
                    </a:lnTo>
                    <a:lnTo>
                      <a:pt x="880" y="912"/>
                    </a:lnTo>
                    <a:lnTo>
                      <a:pt x="861" y="900"/>
                    </a:lnTo>
                    <a:lnTo>
                      <a:pt x="843" y="887"/>
                    </a:lnTo>
                    <a:lnTo>
                      <a:pt x="824" y="873"/>
                    </a:lnTo>
                    <a:lnTo>
                      <a:pt x="806" y="859"/>
                    </a:lnTo>
                    <a:lnTo>
                      <a:pt x="788" y="843"/>
                    </a:lnTo>
                    <a:lnTo>
                      <a:pt x="772" y="828"/>
                    </a:lnTo>
                    <a:lnTo>
                      <a:pt x="755" y="813"/>
                    </a:lnTo>
                    <a:lnTo>
                      <a:pt x="739" y="797"/>
                    </a:lnTo>
                    <a:lnTo>
                      <a:pt x="724" y="781"/>
                    </a:lnTo>
                    <a:lnTo>
                      <a:pt x="708" y="766"/>
                    </a:lnTo>
                    <a:lnTo>
                      <a:pt x="694" y="750"/>
                    </a:lnTo>
                    <a:lnTo>
                      <a:pt x="681" y="735"/>
                    </a:lnTo>
                    <a:lnTo>
                      <a:pt x="669" y="720"/>
                    </a:lnTo>
                    <a:lnTo>
                      <a:pt x="655" y="704"/>
                    </a:lnTo>
                    <a:lnTo>
                      <a:pt x="643" y="688"/>
                    </a:lnTo>
                    <a:lnTo>
                      <a:pt x="631" y="672"/>
                    </a:lnTo>
                    <a:lnTo>
                      <a:pt x="618" y="655"/>
                    </a:lnTo>
                    <a:lnTo>
                      <a:pt x="608" y="639"/>
                    </a:lnTo>
                    <a:lnTo>
                      <a:pt x="598" y="622"/>
                    </a:lnTo>
                    <a:lnTo>
                      <a:pt x="604" y="647"/>
                    </a:lnTo>
                    <a:lnTo>
                      <a:pt x="611" y="672"/>
                    </a:lnTo>
                    <a:lnTo>
                      <a:pt x="620" y="697"/>
                    </a:lnTo>
                    <a:lnTo>
                      <a:pt x="629" y="723"/>
                    </a:lnTo>
                    <a:lnTo>
                      <a:pt x="638" y="748"/>
                    </a:lnTo>
                    <a:lnTo>
                      <a:pt x="645" y="775"/>
                    </a:lnTo>
                    <a:lnTo>
                      <a:pt x="650" y="803"/>
                    </a:lnTo>
                    <a:lnTo>
                      <a:pt x="653" y="830"/>
                    </a:lnTo>
                    <a:lnTo>
                      <a:pt x="642" y="825"/>
                    </a:lnTo>
                    <a:lnTo>
                      <a:pt x="631" y="820"/>
                    </a:lnTo>
                    <a:lnTo>
                      <a:pt x="619" y="814"/>
                    </a:lnTo>
                    <a:lnTo>
                      <a:pt x="608" y="808"/>
                    </a:lnTo>
                    <a:lnTo>
                      <a:pt x="597" y="802"/>
                    </a:lnTo>
                    <a:lnTo>
                      <a:pt x="587" y="795"/>
                    </a:lnTo>
                    <a:lnTo>
                      <a:pt x="576" y="788"/>
                    </a:lnTo>
                    <a:lnTo>
                      <a:pt x="567" y="780"/>
                    </a:lnTo>
                    <a:lnTo>
                      <a:pt x="552" y="763"/>
                    </a:lnTo>
                    <a:lnTo>
                      <a:pt x="535" y="746"/>
                    </a:lnTo>
                    <a:lnTo>
                      <a:pt x="519" y="729"/>
                    </a:lnTo>
                    <a:lnTo>
                      <a:pt x="503" y="712"/>
                    </a:lnTo>
                    <a:lnTo>
                      <a:pt x="486" y="693"/>
                    </a:lnTo>
                    <a:lnTo>
                      <a:pt x="472" y="676"/>
                    </a:lnTo>
                    <a:lnTo>
                      <a:pt x="458" y="657"/>
                    </a:lnTo>
                    <a:lnTo>
                      <a:pt x="445" y="638"/>
                    </a:lnTo>
                    <a:lnTo>
                      <a:pt x="445" y="651"/>
                    </a:lnTo>
                    <a:lnTo>
                      <a:pt x="448" y="665"/>
                    </a:lnTo>
                    <a:lnTo>
                      <a:pt x="453" y="679"/>
                    </a:lnTo>
                    <a:lnTo>
                      <a:pt x="457" y="692"/>
                    </a:lnTo>
                    <a:lnTo>
                      <a:pt x="461" y="706"/>
                    </a:lnTo>
                    <a:lnTo>
                      <a:pt x="462" y="721"/>
                    </a:lnTo>
                    <a:lnTo>
                      <a:pt x="461" y="736"/>
                    </a:lnTo>
                    <a:lnTo>
                      <a:pt x="455" y="750"/>
                    </a:lnTo>
                    <a:lnTo>
                      <a:pt x="449" y="748"/>
                    </a:lnTo>
                    <a:lnTo>
                      <a:pt x="445" y="744"/>
                    </a:lnTo>
                    <a:lnTo>
                      <a:pt x="442" y="739"/>
                    </a:lnTo>
                    <a:lnTo>
                      <a:pt x="438" y="734"/>
                    </a:lnTo>
                    <a:lnTo>
                      <a:pt x="413" y="716"/>
                    </a:lnTo>
                    <a:lnTo>
                      <a:pt x="389" y="696"/>
                    </a:lnTo>
                    <a:lnTo>
                      <a:pt x="366" y="676"/>
                    </a:lnTo>
                    <a:lnTo>
                      <a:pt x="345" y="653"/>
                    </a:lnTo>
                    <a:lnTo>
                      <a:pt x="325" y="629"/>
                    </a:lnTo>
                    <a:lnTo>
                      <a:pt x="306" y="603"/>
                    </a:lnTo>
                    <a:lnTo>
                      <a:pt x="290" y="577"/>
                    </a:lnTo>
                    <a:lnTo>
                      <a:pt x="275" y="548"/>
                    </a:lnTo>
                    <a:lnTo>
                      <a:pt x="281" y="542"/>
                    </a:lnTo>
                    <a:lnTo>
                      <a:pt x="286" y="533"/>
                    </a:lnTo>
                    <a:lnTo>
                      <a:pt x="292" y="525"/>
                    </a:lnTo>
                    <a:lnTo>
                      <a:pt x="302" y="525"/>
                    </a:lnTo>
                    <a:lnTo>
                      <a:pt x="308" y="538"/>
                    </a:lnTo>
                    <a:lnTo>
                      <a:pt x="315" y="550"/>
                    </a:lnTo>
                    <a:lnTo>
                      <a:pt x="322" y="563"/>
                    </a:lnTo>
                    <a:lnTo>
                      <a:pt x="329" y="576"/>
                    </a:lnTo>
                    <a:lnTo>
                      <a:pt x="336" y="588"/>
                    </a:lnTo>
                    <a:lnTo>
                      <a:pt x="345" y="599"/>
                    </a:lnTo>
                    <a:lnTo>
                      <a:pt x="354" y="609"/>
                    </a:lnTo>
                    <a:lnTo>
                      <a:pt x="366" y="618"/>
                    </a:lnTo>
                    <a:lnTo>
                      <a:pt x="377" y="614"/>
                    </a:lnTo>
                    <a:lnTo>
                      <a:pt x="383" y="607"/>
                    </a:lnTo>
                    <a:lnTo>
                      <a:pt x="385" y="599"/>
                    </a:lnTo>
                    <a:lnTo>
                      <a:pt x="385" y="588"/>
                    </a:lnTo>
                    <a:lnTo>
                      <a:pt x="382" y="577"/>
                    </a:lnTo>
                    <a:lnTo>
                      <a:pt x="380" y="565"/>
                    </a:lnTo>
                    <a:lnTo>
                      <a:pt x="380" y="554"/>
                    </a:lnTo>
                    <a:lnTo>
                      <a:pt x="382" y="545"/>
                    </a:lnTo>
                    <a:lnTo>
                      <a:pt x="368" y="513"/>
                    </a:lnTo>
                    <a:lnTo>
                      <a:pt x="354" y="482"/>
                    </a:lnTo>
                    <a:lnTo>
                      <a:pt x="341" y="448"/>
                    </a:lnTo>
                    <a:lnTo>
                      <a:pt x="330" y="415"/>
                    </a:lnTo>
                    <a:lnTo>
                      <a:pt x="318" y="381"/>
                    </a:lnTo>
                    <a:lnTo>
                      <a:pt x="308" y="347"/>
                    </a:lnTo>
                    <a:lnTo>
                      <a:pt x="300" y="312"/>
                    </a:lnTo>
                    <a:lnTo>
                      <a:pt x="292" y="277"/>
                    </a:lnTo>
                    <a:lnTo>
                      <a:pt x="281" y="279"/>
                    </a:lnTo>
                    <a:lnTo>
                      <a:pt x="271" y="277"/>
                    </a:lnTo>
                    <a:lnTo>
                      <a:pt x="263" y="273"/>
                    </a:lnTo>
                    <a:lnTo>
                      <a:pt x="257" y="268"/>
                    </a:lnTo>
                    <a:lnTo>
                      <a:pt x="250" y="262"/>
                    </a:lnTo>
                    <a:lnTo>
                      <a:pt x="243" y="255"/>
                    </a:lnTo>
                    <a:lnTo>
                      <a:pt x="235" y="249"/>
                    </a:lnTo>
                    <a:lnTo>
                      <a:pt x="225" y="246"/>
                    </a:lnTo>
                    <a:lnTo>
                      <a:pt x="209" y="236"/>
                    </a:lnTo>
                    <a:lnTo>
                      <a:pt x="192" y="226"/>
                    </a:lnTo>
                    <a:lnTo>
                      <a:pt x="174" y="215"/>
                    </a:lnTo>
                    <a:lnTo>
                      <a:pt x="156" y="203"/>
                    </a:lnTo>
                    <a:lnTo>
                      <a:pt x="138" y="191"/>
                    </a:lnTo>
                    <a:lnTo>
                      <a:pt x="121" y="179"/>
                    </a:lnTo>
                    <a:lnTo>
                      <a:pt x="103" y="166"/>
                    </a:lnTo>
                    <a:lnTo>
                      <a:pt x="87" y="152"/>
                    </a:lnTo>
                    <a:lnTo>
                      <a:pt x="72" y="138"/>
                    </a:lnTo>
                    <a:lnTo>
                      <a:pt x="57" y="123"/>
                    </a:lnTo>
                    <a:lnTo>
                      <a:pt x="43" y="107"/>
                    </a:lnTo>
                    <a:lnTo>
                      <a:pt x="31" y="90"/>
                    </a:lnTo>
                    <a:lnTo>
                      <a:pt x="21" y="73"/>
                    </a:lnTo>
                    <a:lnTo>
                      <a:pt x="11" y="54"/>
                    </a:lnTo>
                    <a:lnTo>
                      <a:pt x="5" y="35"/>
                    </a:lnTo>
                    <a:lnTo>
                      <a:pt x="0" y="14"/>
                    </a:lnTo>
                    <a:lnTo>
                      <a:pt x="8" y="4"/>
                    </a:lnTo>
                    <a:lnTo>
                      <a:pt x="14" y="0"/>
                    </a:lnTo>
                    <a:lnTo>
                      <a:pt x="19" y="3"/>
                    </a:lnTo>
                    <a:lnTo>
                      <a:pt x="23" y="9"/>
                    </a:lnTo>
                    <a:lnTo>
                      <a:pt x="26" y="17"/>
                    </a:lnTo>
                    <a:lnTo>
                      <a:pt x="29" y="28"/>
                    </a:lnTo>
                    <a:lnTo>
                      <a:pt x="31" y="38"/>
                    </a:lnTo>
                    <a:lnTo>
                      <a:pt x="34"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flipH="1" rot="20945400">
                <a:off x="1114200" y="3067200"/>
                <a:ext cx="272520" cy="505440"/>
              </a:xfrm>
              <a:custGeom>
                <a:avLst/>
                <a:gdLst/>
                <a:ahLst/>
                <a:rect l="l" t="t" r="r" b="b"/>
                <a:pathLst>
                  <a:path w="425" h="850">
                    <a:moveTo>
                      <a:pt x="116" y="54"/>
                    </a:moveTo>
                    <a:lnTo>
                      <a:pt x="116" y="84"/>
                    </a:lnTo>
                    <a:lnTo>
                      <a:pt x="114" y="84"/>
                    </a:lnTo>
                    <a:lnTo>
                      <a:pt x="112" y="85"/>
                    </a:lnTo>
                    <a:lnTo>
                      <a:pt x="111" y="86"/>
                    </a:lnTo>
                    <a:lnTo>
                      <a:pt x="109" y="87"/>
                    </a:lnTo>
                    <a:lnTo>
                      <a:pt x="108" y="82"/>
                    </a:lnTo>
                    <a:lnTo>
                      <a:pt x="104" y="78"/>
                    </a:lnTo>
                    <a:lnTo>
                      <a:pt x="100" y="77"/>
                    </a:lnTo>
                    <a:lnTo>
                      <a:pt x="96" y="76"/>
                    </a:lnTo>
                    <a:lnTo>
                      <a:pt x="91" y="77"/>
                    </a:lnTo>
                    <a:lnTo>
                      <a:pt x="86" y="78"/>
                    </a:lnTo>
                    <a:lnTo>
                      <a:pt x="80" y="78"/>
                    </a:lnTo>
                    <a:lnTo>
                      <a:pt x="76" y="78"/>
                    </a:lnTo>
                    <a:lnTo>
                      <a:pt x="76" y="75"/>
                    </a:lnTo>
                    <a:lnTo>
                      <a:pt x="76" y="72"/>
                    </a:lnTo>
                    <a:lnTo>
                      <a:pt x="75" y="69"/>
                    </a:lnTo>
                    <a:lnTo>
                      <a:pt x="72" y="67"/>
                    </a:lnTo>
                    <a:lnTo>
                      <a:pt x="69" y="71"/>
                    </a:lnTo>
                    <a:lnTo>
                      <a:pt x="67" y="75"/>
                    </a:lnTo>
                    <a:lnTo>
                      <a:pt x="66" y="80"/>
                    </a:lnTo>
                    <a:lnTo>
                      <a:pt x="66" y="84"/>
                    </a:lnTo>
                    <a:lnTo>
                      <a:pt x="70" y="87"/>
                    </a:lnTo>
                    <a:lnTo>
                      <a:pt x="73" y="91"/>
                    </a:lnTo>
                    <a:lnTo>
                      <a:pt x="77" y="94"/>
                    </a:lnTo>
                    <a:lnTo>
                      <a:pt x="80" y="97"/>
                    </a:lnTo>
                    <a:lnTo>
                      <a:pt x="84" y="99"/>
                    </a:lnTo>
                    <a:lnTo>
                      <a:pt x="89" y="101"/>
                    </a:lnTo>
                    <a:lnTo>
                      <a:pt x="93" y="101"/>
                    </a:lnTo>
                    <a:lnTo>
                      <a:pt x="99" y="100"/>
                    </a:lnTo>
                    <a:lnTo>
                      <a:pt x="99" y="114"/>
                    </a:lnTo>
                    <a:lnTo>
                      <a:pt x="109" y="117"/>
                    </a:lnTo>
                    <a:lnTo>
                      <a:pt x="117" y="115"/>
                    </a:lnTo>
                    <a:lnTo>
                      <a:pt x="123" y="110"/>
                    </a:lnTo>
                    <a:lnTo>
                      <a:pt x="128" y="103"/>
                    </a:lnTo>
                    <a:lnTo>
                      <a:pt x="133" y="96"/>
                    </a:lnTo>
                    <a:lnTo>
                      <a:pt x="138" y="92"/>
                    </a:lnTo>
                    <a:lnTo>
                      <a:pt x="144" y="90"/>
                    </a:lnTo>
                    <a:lnTo>
                      <a:pt x="152" y="94"/>
                    </a:lnTo>
                    <a:lnTo>
                      <a:pt x="175" y="120"/>
                    </a:lnTo>
                    <a:lnTo>
                      <a:pt x="170" y="129"/>
                    </a:lnTo>
                    <a:lnTo>
                      <a:pt x="165" y="140"/>
                    </a:lnTo>
                    <a:lnTo>
                      <a:pt x="159" y="149"/>
                    </a:lnTo>
                    <a:lnTo>
                      <a:pt x="145" y="149"/>
                    </a:lnTo>
                    <a:lnTo>
                      <a:pt x="138" y="160"/>
                    </a:lnTo>
                    <a:lnTo>
                      <a:pt x="131" y="171"/>
                    </a:lnTo>
                    <a:lnTo>
                      <a:pt x="128" y="183"/>
                    </a:lnTo>
                    <a:lnTo>
                      <a:pt x="132" y="196"/>
                    </a:lnTo>
                    <a:lnTo>
                      <a:pt x="135" y="200"/>
                    </a:lnTo>
                    <a:lnTo>
                      <a:pt x="128" y="203"/>
                    </a:lnTo>
                    <a:lnTo>
                      <a:pt x="120" y="205"/>
                    </a:lnTo>
                    <a:lnTo>
                      <a:pt x="114" y="208"/>
                    </a:lnTo>
                    <a:lnTo>
                      <a:pt x="113" y="216"/>
                    </a:lnTo>
                    <a:lnTo>
                      <a:pt x="117" y="218"/>
                    </a:lnTo>
                    <a:lnTo>
                      <a:pt x="122" y="219"/>
                    </a:lnTo>
                    <a:lnTo>
                      <a:pt x="126" y="220"/>
                    </a:lnTo>
                    <a:lnTo>
                      <a:pt x="131" y="220"/>
                    </a:lnTo>
                    <a:lnTo>
                      <a:pt x="136" y="220"/>
                    </a:lnTo>
                    <a:lnTo>
                      <a:pt x="141" y="220"/>
                    </a:lnTo>
                    <a:lnTo>
                      <a:pt x="146" y="220"/>
                    </a:lnTo>
                    <a:lnTo>
                      <a:pt x="152" y="220"/>
                    </a:lnTo>
                    <a:lnTo>
                      <a:pt x="156" y="211"/>
                    </a:lnTo>
                    <a:lnTo>
                      <a:pt x="153" y="203"/>
                    </a:lnTo>
                    <a:lnTo>
                      <a:pt x="147" y="194"/>
                    </a:lnTo>
                    <a:lnTo>
                      <a:pt x="142" y="186"/>
                    </a:lnTo>
                    <a:lnTo>
                      <a:pt x="145" y="184"/>
                    </a:lnTo>
                    <a:lnTo>
                      <a:pt x="151" y="181"/>
                    </a:lnTo>
                    <a:lnTo>
                      <a:pt x="157" y="180"/>
                    </a:lnTo>
                    <a:lnTo>
                      <a:pt x="162" y="183"/>
                    </a:lnTo>
                    <a:lnTo>
                      <a:pt x="164" y="188"/>
                    </a:lnTo>
                    <a:lnTo>
                      <a:pt x="167" y="192"/>
                    </a:lnTo>
                    <a:lnTo>
                      <a:pt x="171" y="195"/>
                    </a:lnTo>
                    <a:lnTo>
                      <a:pt x="175" y="200"/>
                    </a:lnTo>
                    <a:lnTo>
                      <a:pt x="180" y="200"/>
                    </a:lnTo>
                    <a:lnTo>
                      <a:pt x="185" y="200"/>
                    </a:lnTo>
                    <a:lnTo>
                      <a:pt x="189" y="200"/>
                    </a:lnTo>
                    <a:lnTo>
                      <a:pt x="194" y="201"/>
                    </a:lnTo>
                    <a:lnTo>
                      <a:pt x="198" y="201"/>
                    </a:lnTo>
                    <a:lnTo>
                      <a:pt x="201" y="200"/>
                    </a:lnTo>
                    <a:lnTo>
                      <a:pt x="205" y="197"/>
                    </a:lnTo>
                    <a:lnTo>
                      <a:pt x="209" y="193"/>
                    </a:lnTo>
                    <a:lnTo>
                      <a:pt x="206" y="186"/>
                    </a:lnTo>
                    <a:lnTo>
                      <a:pt x="206" y="178"/>
                    </a:lnTo>
                    <a:lnTo>
                      <a:pt x="207" y="170"/>
                    </a:lnTo>
                    <a:lnTo>
                      <a:pt x="212" y="163"/>
                    </a:lnTo>
                    <a:lnTo>
                      <a:pt x="208" y="158"/>
                    </a:lnTo>
                    <a:lnTo>
                      <a:pt x="201" y="156"/>
                    </a:lnTo>
                    <a:lnTo>
                      <a:pt x="196" y="155"/>
                    </a:lnTo>
                    <a:lnTo>
                      <a:pt x="196" y="146"/>
                    </a:lnTo>
                    <a:lnTo>
                      <a:pt x="211" y="147"/>
                    </a:lnTo>
                    <a:lnTo>
                      <a:pt x="219" y="154"/>
                    </a:lnTo>
                    <a:lnTo>
                      <a:pt x="222" y="164"/>
                    </a:lnTo>
                    <a:lnTo>
                      <a:pt x="222" y="174"/>
                    </a:lnTo>
                    <a:lnTo>
                      <a:pt x="222" y="185"/>
                    </a:lnTo>
                    <a:lnTo>
                      <a:pt x="225" y="192"/>
                    </a:lnTo>
                    <a:lnTo>
                      <a:pt x="233" y="194"/>
                    </a:lnTo>
                    <a:lnTo>
                      <a:pt x="249" y="190"/>
                    </a:lnTo>
                    <a:lnTo>
                      <a:pt x="265" y="210"/>
                    </a:lnTo>
                    <a:lnTo>
                      <a:pt x="260" y="216"/>
                    </a:lnTo>
                    <a:lnTo>
                      <a:pt x="255" y="221"/>
                    </a:lnTo>
                    <a:lnTo>
                      <a:pt x="249" y="225"/>
                    </a:lnTo>
                    <a:lnTo>
                      <a:pt x="243" y="229"/>
                    </a:lnTo>
                    <a:lnTo>
                      <a:pt x="237" y="234"/>
                    </a:lnTo>
                    <a:lnTo>
                      <a:pt x="232" y="240"/>
                    </a:lnTo>
                    <a:lnTo>
                      <a:pt x="230" y="248"/>
                    </a:lnTo>
                    <a:lnTo>
                      <a:pt x="231" y="257"/>
                    </a:lnTo>
                    <a:lnTo>
                      <a:pt x="237" y="259"/>
                    </a:lnTo>
                    <a:lnTo>
                      <a:pt x="241" y="262"/>
                    </a:lnTo>
                    <a:lnTo>
                      <a:pt x="245" y="266"/>
                    </a:lnTo>
                    <a:lnTo>
                      <a:pt x="249" y="269"/>
                    </a:lnTo>
                    <a:lnTo>
                      <a:pt x="265" y="260"/>
                    </a:lnTo>
                    <a:lnTo>
                      <a:pt x="266" y="267"/>
                    </a:lnTo>
                    <a:lnTo>
                      <a:pt x="270" y="272"/>
                    </a:lnTo>
                    <a:lnTo>
                      <a:pt x="276" y="276"/>
                    </a:lnTo>
                    <a:lnTo>
                      <a:pt x="283" y="280"/>
                    </a:lnTo>
                    <a:lnTo>
                      <a:pt x="289" y="284"/>
                    </a:lnTo>
                    <a:lnTo>
                      <a:pt x="294" y="290"/>
                    </a:lnTo>
                    <a:lnTo>
                      <a:pt x="296" y="295"/>
                    </a:lnTo>
                    <a:lnTo>
                      <a:pt x="295" y="303"/>
                    </a:lnTo>
                    <a:lnTo>
                      <a:pt x="302" y="309"/>
                    </a:lnTo>
                    <a:lnTo>
                      <a:pt x="311" y="309"/>
                    </a:lnTo>
                    <a:lnTo>
                      <a:pt x="320" y="310"/>
                    </a:lnTo>
                    <a:lnTo>
                      <a:pt x="325" y="319"/>
                    </a:lnTo>
                    <a:lnTo>
                      <a:pt x="322" y="324"/>
                    </a:lnTo>
                    <a:lnTo>
                      <a:pt x="319" y="328"/>
                    </a:lnTo>
                    <a:lnTo>
                      <a:pt x="317" y="333"/>
                    </a:lnTo>
                    <a:lnTo>
                      <a:pt x="317" y="340"/>
                    </a:lnTo>
                    <a:lnTo>
                      <a:pt x="313" y="333"/>
                    </a:lnTo>
                    <a:lnTo>
                      <a:pt x="309" y="326"/>
                    </a:lnTo>
                    <a:lnTo>
                      <a:pt x="305" y="320"/>
                    </a:lnTo>
                    <a:lnTo>
                      <a:pt x="301" y="313"/>
                    </a:lnTo>
                    <a:lnTo>
                      <a:pt x="297" y="308"/>
                    </a:lnTo>
                    <a:lnTo>
                      <a:pt x="292" y="303"/>
                    </a:lnTo>
                    <a:lnTo>
                      <a:pt x="286" y="299"/>
                    </a:lnTo>
                    <a:lnTo>
                      <a:pt x="278" y="296"/>
                    </a:lnTo>
                    <a:lnTo>
                      <a:pt x="271" y="295"/>
                    </a:lnTo>
                    <a:lnTo>
                      <a:pt x="264" y="295"/>
                    </a:lnTo>
                    <a:lnTo>
                      <a:pt x="257" y="297"/>
                    </a:lnTo>
                    <a:lnTo>
                      <a:pt x="251" y="299"/>
                    </a:lnTo>
                    <a:lnTo>
                      <a:pt x="245" y="301"/>
                    </a:lnTo>
                    <a:lnTo>
                      <a:pt x="239" y="303"/>
                    </a:lnTo>
                    <a:lnTo>
                      <a:pt x="232" y="305"/>
                    </a:lnTo>
                    <a:lnTo>
                      <a:pt x="225" y="306"/>
                    </a:lnTo>
                    <a:lnTo>
                      <a:pt x="229" y="314"/>
                    </a:lnTo>
                    <a:lnTo>
                      <a:pt x="237" y="317"/>
                    </a:lnTo>
                    <a:lnTo>
                      <a:pt x="246" y="318"/>
                    </a:lnTo>
                    <a:lnTo>
                      <a:pt x="255" y="319"/>
                    </a:lnTo>
                    <a:lnTo>
                      <a:pt x="259" y="312"/>
                    </a:lnTo>
                    <a:lnTo>
                      <a:pt x="267" y="309"/>
                    </a:lnTo>
                    <a:lnTo>
                      <a:pt x="276" y="309"/>
                    </a:lnTo>
                    <a:lnTo>
                      <a:pt x="285" y="312"/>
                    </a:lnTo>
                    <a:lnTo>
                      <a:pt x="292" y="320"/>
                    </a:lnTo>
                    <a:lnTo>
                      <a:pt x="290" y="329"/>
                    </a:lnTo>
                    <a:lnTo>
                      <a:pt x="289" y="338"/>
                    </a:lnTo>
                    <a:lnTo>
                      <a:pt x="298" y="343"/>
                    </a:lnTo>
                    <a:lnTo>
                      <a:pt x="295" y="351"/>
                    </a:lnTo>
                    <a:lnTo>
                      <a:pt x="292" y="359"/>
                    </a:lnTo>
                    <a:lnTo>
                      <a:pt x="288" y="367"/>
                    </a:lnTo>
                    <a:lnTo>
                      <a:pt x="285" y="375"/>
                    </a:lnTo>
                    <a:lnTo>
                      <a:pt x="288" y="381"/>
                    </a:lnTo>
                    <a:lnTo>
                      <a:pt x="292" y="384"/>
                    </a:lnTo>
                    <a:lnTo>
                      <a:pt x="295" y="385"/>
                    </a:lnTo>
                    <a:lnTo>
                      <a:pt x="299" y="386"/>
                    </a:lnTo>
                    <a:lnTo>
                      <a:pt x="303" y="386"/>
                    </a:lnTo>
                    <a:lnTo>
                      <a:pt x="307" y="386"/>
                    </a:lnTo>
                    <a:lnTo>
                      <a:pt x="311" y="386"/>
                    </a:lnTo>
                    <a:lnTo>
                      <a:pt x="315" y="386"/>
                    </a:lnTo>
                    <a:lnTo>
                      <a:pt x="317" y="383"/>
                    </a:lnTo>
                    <a:lnTo>
                      <a:pt x="319" y="378"/>
                    </a:lnTo>
                    <a:lnTo>
                      <a:pt x="321" y="375"/>
                    </a:lnTo>
                    <a:lnTo>
                      <a:pt x="325" y="372"/>
                    </a:lnTo>
                    <a:lnTo>
                      <a:pt x="327" y="369"/>
                    </a:lnTo>
                    <a:lnTo>
                      <a:pt x="332" y="368"/>
                    </a:lnTo>
                    <a:lnTo>
                      <a:pt x="337" y="369"/>
                    </a:lnTo>
                    <a:lnTo>
                      <a:pt x="341" y="369"/>
                    </a:lnTo>
                    <a:lnTo>
                      <a:pt x="348" y="378"/>
                    </a:lnTo>
                    <a:lnTo>
                      <a:pt x="345" y="386"/>
                    </a:lnTo>
                    <a:lnTo>
                      <a:pt x="339" y="393"/>
                    </a:lnTo>
                    <a:lnTo>
                      <a:pt x="334" y="402"/>
                    </a:lnTo>
                    <a:lnTo>
                      <a:pt x="345" y="411"/>
                    </a:lnTo>
                    <a:lnTo>
                      <a:pt x="349" y="420"/>
                    </a:lnTo>
                    <a:lnTo>
                      <a:pt x="348" y="430"/>
                    </a:lnTo>
                    <a:lnTo>
                      <a:pt x="346" y="440"/>
                    </a:lnTo>
                    <a:lnTo>
                      <a:pt x="342" y="449"/>
                    </a:lnTo>
                    <a:lnTo>
                      <a:pt x="341" y="458"/>
                    </a:lnTo>
                    <a:lnTo>
                      <a:pt x="343" y="468"/>
                    </a:lnTo>
                    <a:lnTo>
                      <a:pt x="351" y="478"/>
                    </a:lnTo>
                    <a:lnTo>
                      <a:pt x="375" y="488"/>
                    </a:lnTo>
                    <a:lnTo>
                      <a:pt x="372" y="492"/>
                    </a:lnTo>
                    <a:lnTo>
                      <a:pt x="365" y="494"/>
                    </a:lnTo>
                    <a:lnTo>
                      <a:pt x="358" y="495"/>
                    </a:lnTo>
                    <a:lnTo>
                      <a:pt x="351" y="495"/>
                    </a:lnTo>
                    <a:lnTo>
                      <a:pt x="344" y="496"/>
                    </a:lnTo>
                    <a:lnTo>
                      <a:pt x="340" y="498"/>
                    </a:lnTo>
                    <a:lnTo>
                      <a:pt x="338" y="503"/>
                    </a:lnTo>
                    <a:lnTo>
                      <a:pt x="341" y="511"/>
                    </a:lnTo>
                    <a:lnTo>
                      <a:pt x="345" y="516"/>
                    </a:lnTo>
                    <a:lnTo>
                      <a:pt x="350" y="520"/>
                    </a:lnTo>
                    <a:lnTo>
                      <a:pt x="356" y="522"/>
                    </a:lnTo>
                    <a:lnTo>
                      <a:pt x="362" y="522"/>
                    </a:lnTo>
                    <a:lnTo>
                      <a:pt x="370" y="522"/>
                    </a:lnTo>
                    <a:lnTo>
                      <a:pt x="376" y="521"/>
                    </a:lnTo>
                    <a:lnTo>
                      <a:pt x="382" y="519"/>
                    </a:lnTo>
                    <a:lnTo>
                      <a:pt x="387" y="518"/>
                    </a:lnTo>
                    <a:lnTo>
                      <a:pt x="394" y="508"/>
                    </a:lnTo>
                    <a:lnTo>
                      <a:pt x="407" y="528"/>
                    </a:lnTo>
                    <a:lnTo>
                      <a:pt x="399" y="529"/>
                    </a:lnTo>
                    <a:lnTo>
                      <a:pt x="391" y="528"/>
                    </a:lnTo>
                    <a:lnTo>
                      <a:pt x="383" y="529"/>
                    </a:lnTo>
                    <a:lnTo>
                      <a:pt x="378" y="535"/>
                    </a:lnTo>
                    <a:lnTo>
                      <a:pt x="382" y="547"/>
                    </a:lnTo>
                    <a:lnTo>
                      <a:pt x="387" y="556"/>
                    </a:lnTo>
                    <a:lnTo>
                      <a:pt x="395" y="565"/>
                    </a:lnTo>
                    <a:lnTo>
                      <a:pt x="404" y="571"/>
                    </a:lnTo>
                    <a:lnTo>
                      <a:pt x="403" y="570"/>
                    </a:lnTo>
                    <a:lnTo>
                      <a:pt x="401" y="568"/>
                    </a:lnTo>
                    <a:lnTo>
                      <a:pt x="400" y="568"/>
                    </a:lnTo>
                    <a:lnTo>
                      <a:pt x="398" y="568"/>
                    </a:lnTo>
                    <a:lnTo>
                      <a:pt x="392" y="579"/>
                    </a:lnTo>
                    <a:lnTo>
                      <a:pt x="394" y="589"/>
                    </a:lnTo>
                    <a:lnTo>
                      <a:pt x="399" y="599"/>
                    </a:lnTo>
                    <a:lnTo>
                      <a:pt x="404" y="611"/>
                    </a:lnTo>
                    <a:lnTo>
                      <a:pt x="403" y="618"/>
                    </a:lnTo>
                    <a:lnTo>
                      <a:pt x="405" y="626"/>
                    </a:lnTo>
                    <a:lnTo>
                      <a:pt x="408" y="634"/>
                    </a:lnTo>
                    <a:lnTo>
                      <a:pt x="413" y="642"/>
                    </a:lnTo>
                    <a:lnTo>
                      <a:pt x="416" y="650"/>
                    </a:lnTo>
                    <a:lnTo>
                      <a:pt x="417" y="659"/>
                    </a:lnTo>
                    <a:lnTo>
                      <a:pt x="414" y="665"/>
                    </a:lnTo>
                    <a:lnTo>
                      <a:pt x="404" y="671"/>
                    </a:lnTo>
                    <a:lnTo>
                      <a:pt x="403" y="679"/>
                    </a:lnTo>
                    <a:lnTo>
                      <a:pt x="405" y="686"/>
                    </a:lnTo>
                    <a:lnTo>
                      <a:pt x="408" y="691"/>
                    </a:lnTo>
                    <a:lnTo>
                      <a:pt x="414" y="696"/>
                    </a:lnTo>
                    <a:lnTo>
                      <a:pt x="419" y="702"/>
                    </a:lnTo>
                    <a:lnTo>
                      <a:pt x="423" y="707"/>
                    </a:lnTo>
                    <a:lnTo>
                      <a:pt x="425" y="713"/>
                    </a:lnTo>
                    <a:lnTo>
                      <a:pt x="424" y="720"/>
                    </a:lnTo>
                    <a:lnTo>
                      <a:pt x="418" y="720"/>
                    </a:lnTo>
                    <a:lnTo>
                      <a:pt x="411" y="720"/>
                    </a:lnTo>
                    <a:lnTo>
                      <a:pt x="404" y="721"/>
                    </a:lnTo>
                    <a:lnTo>
                      <a:pt x="400" y="726"/>
                    </a:lnTo>
                    <a:lnTo>
                      <a:pt x="391" y="710"/>
                    </a:lnTo>
                    <a:lnTo>
                      <a:pt x="384" y="712"/>
                    </a:lnTo>
                    <a:lnTo>
                      <a:pt x="378" y="715"/>
                    </a:lnTo>
                    <a:lnTo>
                      <a:pt x="374" y="719"/>
                    </a:lnTo>
                    <a:lnTo>
                      <a:pt x="368" y="724"/>
                    </a:lnTo>
                    <a:lnTo>
                      <a:pt x="370" y="740"/>
                    </a:lnTo>
                    <a:lnTo>
                      <a:pt x="373" y="759"/>
                    </a:lnTo>
                    <a:lnTo>
                      <a:pt x="374" y="775"/>
                    </a:lnTo>
                    <a:lnTo>
                      <a:pt x="371" y="791"/>
                    </a:lnTo>
                    <a:lnTo>
                      <a:pt x="374" y="805"/>
                    </a:lnTo>
                    <a:lnTo>
                      <a:pt x="375" y="820"/>
                    </a:lnTo>
                    <a:lnTo>
                      <a:pt x="376" y="835"/>
                    </a:lnTo>
                    <a:lnTo>
                      <a:pt x="384" y="850"/>
                    </a:lnTo>
                    <a:lnTo>
                      <a:pt x="375" y="844"/>
                    </a:lnTo>
                    <a:lnTo>
                      <a:pt x="368" y="837"/>
                    </a:lnTo>
                    <a:lnTo>
                      <a:pt x="362" y="827"/>
                    </a:lnTo>
                    <a:lnTo>
                      <a:pt x="358" y="818"/>
                    </a:lnTo>
                    <a:lnTo>
                      <a:pt x="353" y="809"/>
                    </a:lnTo>
                    <a:lnTo>
                      <a:pt x="346" y="801"/>
                    </a:lnTo>
                    <a:lnTo>
                      <a:pt x="337" y="796"/>
                    </a:lnTo>
                    <a:lnTo>
                      <a:pt x="325" y="793"/>
                    </a:lnTo>
                    <a:lnTo>
                      <a:pt x="301" y="816"/>
                    </a:lnTo>
                    <a:lnTo>
                      <a:pt x="298" y="813"/>
                    </a:lnTo>
                    <a:lnTo>
                      <a:pt x="303" y="809"/>
                    </a:lnTo>
                    <a:lnTo>
                      <a:pt x="309" y="799"/>
                    </a:lnTo>
                    <a:lnTo>
                      <a:pt x="311" y="787"/>
                    </a:lnTo>
                    <a:lnTo>
                      <a:pt x="304" y="776"/>
                    </a:lnTo>
                    <a:lnTo>
                      <a:pt x="311" y="783"/>
                    </a:lnTo>
                    <a:lnTo>
                      <a:pt x="319" y="773"/>
                    </a:lnTo>
                    <a:lnTo>
                      <a:pt x="322" y="761"/>
                    </a:lnTo>
                    <a:lnTo>
                      <a:pt x="322" y="747"/>
                    </a:lnTo>
                    <a:lnTo>
                      <a:pt x="321" y="732"/>
                    </a:lnTo>
                    <a:lnTo>
                      <a:pt x="320" y="718"/>
                    </a:lnTo>
                    <a:lnTo>
                      <a:pt x="321" y="705"/>
                    </a:lnTo>
                    <a:lnTo>
                      <a:pt x="327" y="692"/>
                    </a:lnTo>
                    <a:lnTo>
                      <a:pt x="338" y="684"/>
                    </a:lnTo>
                    <a:lnTo>
                      <a:pt x="336" y="677"/>
                    </a:lnTo>
                    <a:lnTo>
                      <a:pt x="333" y="670"/>
                    </a:lnTo>
                    <a:lnTo>
                      <a:pt x="332" y="664"/>
                    </a:lnTo>
                    <a:lnTo>
                      <a:pt x="338" y="661"/>
                    </a:lnTo>
                    <a:lnTo>
                      <a:pt x="342" y="662"/>
                    </a:lnTo>
                    <a:lnTo>
                      <a:pt x="346" y="664"/>
                    </a:lnTo>
                    <a:lnTo>
                      <a:pt x="350" y="665"/>
                    </a:lnTo>
                    <a:lnTo>
                      <a:pt x="354" y="667"/>
                    </a:lnTo>
                    <a:lnTo>
                      <a:pt x="358" y="669"/>
                    </a:lnTo>
                    <a:lnTo>
                      <a:pt x="361" y="670"/>
                    </a:lnTo>
                    <a:lnTo>
                      <a:pt x="367" y="671"/>
                    </a:lnTo>
                    <a:lnTo>
                      <a:pt x="371" y="671"/>
                    </a:lnTo>
                    <a:lnTo>
                      <a:pt x="372" y="655"/>
                    </a:lnTo>
                    <a:lnTo>
                      <a:pt x="375" y="638"/>
                    </a:lnTo>
                    <a:lnTo>
                      <a:pt x="373" y="624"/>
                    </a:lnTo>
                    <a:lnTo>
                      <a:pt x="361" y="611"/>
                    </a:lnTo>
                    <a:lnTo>
                      <a:pt x="347" y="604"/>
                    </a:lnTo>
                    <a:lnTo>
                      <a:pt x="334" y="603"/>
                    </a:lnTo>
                    <a:lnTo>
                      <a:pt x="320" y="604"/>
                    </a:lnTo>
                    <a:lnTo>
                      <a:pt x="308" y="607"/>
                    </a:lnTo>
                    <a:lnTo>
                      <a:pt x="296" y="611"/>
                    </a:lnTo>
                    <a:lnTo>
                      <a:pt x="284" y="611"/>
                    </a:lnTo>
                    <a:lnTo>
                      <a:pt x="270" y="606"/>
                    </a:lnTo>
                    <a:lnTo>
                      <a:pt x="258" y="597"/>
                    </a:lnTo>
                    <a:lnTo>
                      <a:pt x="258" y="591"/>
                    </a:lnTo>
                    <a:lnTo>
                      <a:pt x="261" y="585"/>
                    </a:lnTo>
                    <a:lnTo>
                      <a:pt x="265" y="580"/>
                    </a:lnTo>
                    <a:lnTo>
                      <a:pt x="271" y="576"/>
                    </a:lnTo>
                    <a:lnTo>
                      <a:pt x="275" y="571"/>
                    </a:lnTo>
                    <a:lnTo>
                      <a:pt x="278" y="566"/>
                    </a:lnTo>
                    <a:lnTo>
                      <a:pt x="278" y="559"/>
                    </a:lnTo>
                    <a:lnTo>
                      <a:pt x="274" y="551"/>
                    </a:lnTo>
                    <a:lnTo>
                      <a:pt x="276" y="547"/>
                    </a:lnTo>
                    <a:lnTo>
                      <a:pt x="282" y="545"/>
                    </a:lnTo>
                    <a:lnTo>
                      <a:pt x="289" y="544"/>
                    </a:lnTo>
                    <a:lnTo>
                      <a:pt x="298" y="544"/>
                    </a:lnTo>
                    <a:lnTo>
                      <a:pt x="306" y="542"/>
                    </a:lnTo>
                    <a:lnTo>
                      <a:pt x="312" y="539"/>
                    </a:lnTo>
                    <a:lnTo>
                      <a:pt x="316" y="532"/>
                    </a:lnTo>
                    <a:lnTo>
                      <a:pt x="315" y="522"/>
                    </a:lnTo>
                    <a:lnTo>
                      <a:pt x="304" y="511"/>
                    </a:lnTo>
                    <a:lnTo>
                      <a:pt x="317" y="498"/>
                    </a:lnTo>
                    <a:lnTo>
                      <a:pt x="315" y="495"/>
                    </a:lnTo>
                    <a:lnTo>
                      <a:pt x="318" y="492"/>
                    </a:lnTo>
                    <a:lnTo>
                      <a:pt x="320" y="493"/>
                    </a:lnTo>
                    <a:lnTo>
                      <a:pt x="324" y="494"/>
                    </a:lnTo>
                    <a:lnTo>
                      <a:pt x="328" y="492"/>
                    </a:lnTo>
                    <a:lnTo>
                      <a:pt x="331" y="487"/>
                    </a:lnTo>
                    <a:lnTo>
                      <a:pt x="332" y="481"/>
                    </a:lnTo>
                    <a:lnTo>
                      <a:pt x="331" y="475"/>
                    </a:lnTo>
                    <a:lnTo>
                      <a:pt x="332" y="468"/>
                    </a:lnTo>
                    <a:lnTo>
                      <a:pt x="324" y="461"/>
                    </a:lnTo>
                    <a:lnTo>
                      <a:pt x="312" y="457"/>
                    </a:lnTo>
                    <a:lnTo>
                      <a:pt x="301" y="454"/>
                    </a:lnTo>
                    <a:lnTo>
                      <a:pt x="289" y="452"/>
                    </a:lnTo>
                    <a:lnTo>
                      <a:pt x="278" y="450"/>
                    </a:lnTo>
                    <a:lnTo>
                      <a:pt x="269" y="445"/>
                    </a:lnTo>
                    <a:lnTo>
                      <a:pt x="264" y="438"/>
                    </a:lnTo>
                    <a:lnTo>
                      <a:pt x="262" y="425"/>
                    </a:lnTo>
                    <a:lnTo>
                      <a:pt x="270" y="430"/>
                    </a:lnTo>
                    <a:lnTo>
                      <a:pt x="277" y="423"/>
                    </a:lnTo>
                    <a:lnTo>
                      <a:pt x="284" y="415"/>
                    </a:lnTo>
                    <a:lnTo>
                      <a:pt x="292" y="411"/>
                    </a:lnTo>
                    <a:lnTo>
                      <a:pt x="287" y="401"/>
                    </a:lnTo>
                    <a:lnTo>
                      <a:pt x="280" y="396"/>
                    </a:lnTo>
                    <a:lnTo>
                      <a:pt x="272" y="395"/>
                    </a:lnTo>
                    <a:lnTo>
                      <a:pt x="265" y="397"/>
                    </a:lnTo>
                    <a:lnTo>
                      <a:pt x="257" y="401"/>
                    </a:lnTo>
                    <a:lnTo>
                      <a:pt x="249" y="404"/>
                    </a:lnTo>
                    <a:lnTo>
                      <a:pt x="240" y="406"/>
                    </a:lnTo>
                    <a:lnTo>
                      <a:pt x="231" y="405"/>
                    </a:lnTo>
                    <a:lnTo>
                      <a:pt x="231" y="389"/>
                    </a:lnTo>
                    <a:lnTo>
                      <a:pt x="231" y="375"/>
                    </a:lnTo>
                    <a:lnTo>
                      <a:pt x="234" y="363"/>
                    </a:lnTo>
                    <a:lnTo>
                      <a:pt x="245" y="352"/>
                    </a:lnTo>
                    <a:lnTo>
                      <a:pt x="248" y="352"/>
                    </a:lnTo>
                    <a:lnTo>
                      <a:pt x="252" y="353"/>
                    </a:lnTo>
                    <a:lnTo>
                      <a:pt x="255" y="352"/>
                    </a:lnTo>
                    <a:lnTo>
                      <a:pt x="258" y="349"/>
                    </a:lnTo>
                    <a:lnTo>
                      <a:pt x="253" y="340"/>
                    </a:lnTo>
                    <a:lnTo>
                      <a:pt x="245" y="335"/>
                    </a:lnTo>
                    <a:lnTo>
                      <a:pt x="235" y="331"/>
                    </a:lnTo>
                    <a:lnTo>
                      <a:pt x="228" y="326"/>
                    </a:lnTo>
                    <a:lnTo>
                      <a:pt x="222" y="328"/>
                    </a:lnTo>
                    <a:lnTo>
                      <a:pt x="217" y="331"/>
                    </a:lnTo>
                    <a:lnTo>
                      <a:pt x="212" y="336"/>
                    </a:lnTo>
                    <a:lnTo>
                      <a:pt x="207" y="340"/>
                    </a:lnTo>
                    <a:lnTo>
                      <a:pt x="202" y="344"/>
                    </a:lnTo>
                    <a:lnTo>
                      <a:pt x="197" y="346"/>
                    </a:lnTo>
                    <a:lnTo>
                      <a:pt x="189" y="347"/>
                    </a:lnTo>
                    <a:lnTo>
                      <a:pt x="182" y="346"/>
                    </a:lnTo>
                    <a:lnTo>
                      <a:pt x="187" y="336"/>
                    </a:lnTo>
                    <a:lnTo>
                      <a:pt x="189" y="322"/>
                    </a:lnTo>
                    <a:lnTo>
                      <a:pt x="187" y="310"/>
                    </a:lnTo>
                    <a:lnTo>
                      <a:pt x="182" y="299"/>
                    </a:lnTo>
                    <a:lnTo>
                      <a:pt x="171" y="298"/>
                    </a:lnTo>
                    <a:lnTo>
                      <a:pt x="165" y="292"/>
                    </a:lnTo>
                    <a:lnTo>
                      <a:pt x="161" y="283"/>
                    </a:lnTo>
                    <a:lnTo>
                      <a:pt x="158" y="273"/>
                    </a:lnTo>
                    <a:lnTo>
                      <a:pt x="156" y="262"/>
                    </a:lnTo>
                    <a:lnTo>
                      <a:pt x="151" y="252"/>
                    </a:lnTo>
                    <a:lnTo>
                      <a:pt x="143" y="244"/>
                    </a:lnTo>
                    <a:lnTo>
                      <a:pt x="132" y="239"/>
                    </a:lnTo>
                    <a:lnTo>
                      <a:pt x="125" y="239"/>
                    </a:lnTo>
                    <a:lnTo>
                      <a:pt x="117" y="239"/>
                    </a:lnTo>
                    <a:lnTo>
                      <a:pt x="108" y="239"/>
                    </a:lnTo>
                    <a:lnTo>
                      <a:pt x="99" y="239"/>
                    </a:lnTo>
                    <a:lnTo>
                      <a:pt x="92" y="237"/>
                    </a:lnTo>
                    <a:lnTo>
                      <a:pt x="86" y="233"/>
                    </a:lnTo>
                    <a:lnTo>
                      <a:pt x="84" y="226"/>
                    </a:lnTo>
                    <a:lnTo>
                      <a:pt x="85" y="216"/>
                    </a:lnTo>
                    <a:lnTo>
                      <a:pt x="81" y="211"/>
                    </a:lnTo>
                    <a:lnTo>
                      <a:pt x="76" y="211"/>
                    </a:lnTo>
                    <a:lnTo>
                      <a:pt x="71" y="214"/>
                    </a:lnTo>
                    <a:lnTo>
                      <a:pt x="66" y="216"/>
                    </a:lnTo>
                    <a:lnTo>
                      <a:pt x="57" y="223"/>
                    </a:lnTo>
                    <a:lnTo>
                      <a:pt x="55" y="233"/>
                    </a:lnTo>
                    <a:lnTo>
                      <a:pt x="58" y="245"/>
                    </a:lnTo>
                    <a:lnTo>
                      <a:pt x="62" y="253"/>
                    </a:lnTo>
                    <a:lnTo>
                      <a:pt x="68" y="261"/>
                    </a:lnTo>
                    <a:lnTo>
                      <a:pt x="71" y="272"/>
                    </a:lnTo>
                    <a:lnTo>
                      <a:pt x="74" y="284"/>
                    </a:lnTo>
                    <a:lnTo>
                      <a:pt x="77" y="297"/>
                    </a:lnTo>
                    <a:lnTo>
                      <a:pt x="81" y="307"/>
                    </a:lnTo>
                    <a:lnTo>
                      <a:pt x="88" y="314"/>
                    </a:lnTo>
                    <a:lnTo>
                      <a:pt x="98" y="316"/>
                    </a:lnTo>
                    <a:lnTo>
                      <a:pt x="113" y="312"/>
                    </a:lnTo>
                    <a:lnTo>
                      <a:pt x="114" y="316"/>
                    </a:lnTo>
                    <a:lnTo>
                      <a:pt x="115" y="320"/>
                    </a:lnTo>
                    <a:lnTo>
                      <a:pt x="117" y="323"/>
                    </a:lnTo>
                    <a:lnTo>
                      <a:pt x="119" y="326"/>
                    </a:lnTo>
                    <a:lnTo>
                      <a:pt x="116" y="331"/>
                    </a:lnTo>
                    <a:lnTo>
                      <a:pt x="112" y="335"/>
                    </a:lnTo>
                    <a:lnTo>
                      <a:pt x="106" y="337"/>
                    </a:lnTo>
                    <a:lnTo>
                      <a:pt x="102" y="337"/>
                    </a:lnTo>
                    <a:lnTo>
                      <a:pt x="97" y="336"/>
                    </a:lnTo>
                    <a:lnTo>
                      <a:pt x="92" y="333"/>
                    </a:lnTo>
                    <a:lnTo>
                      <a:pt x="87" y="330"/>
                    </a:lnTo>
                    <a:lnTo>
                      <a:pt x="83" y="326"/>
                    </a:lnTo>
                    <a:lnTo>
                      <a:pt x="75" y="335"/>
                    </a:lnTo>
                    <a:lnTo>
                      <a:pt x="74" y="345"/>
                    </a:lnTo>
                    <a:lnTo>
                      <a:pt x="77" y="355"/>
                    </a:lnTo>
                    <a:lnTo>
                      <a:pt x="79" y="365"/>
                    </a:lnTo>
                    <a:lnTo>
                      <a:pt x="88" y="368"/>
                    </a:lnTo>
                    <a:lnTo>
                      <a:pt x="90" y="374"/>
                    </a:lnTo>
                    <a:lnTo>
                      <a:pt x="89" y="382"/>
                    </a:lnTo>
                    <a:lnTo>
                      <a:pt x="89" y="389"/>
                    </a:lnTo>
                    <a:lnTo>
                      <a:pt x="84" y="385"/>
                    </a:lnTo>
                    <a:lnTo>
                      <a:pt x="79" y="378"/>
                    </a:lnTo>
                    <a:lnTo>
                      <a:pt x="74" y="374"/>
                    </a:lnTo>
                    <a:lnTo>
                      <a:pt x="66" y="375"/>
                    </a:lnTo>
                    <a:lnTo>
                      <a:pt x="70" y="364"/>
                    </a:lnTo>
                    <a:lnTo>
                      <a:pt x="69" y="355"/>
                    </a:lnTo>
                    <a:lnTo>
                      <a:pt x="64" y="347"/>
                    </a:lnTo>
                    <a:lnTo>
                      <a:pt x="57" y="340"/>
                    </a:lnTo>
                    <a:lnTo>
                      <a:pt x="51" y="332"/>
                    </a:lnTo>
                    <a:lnTo>
                      <a:pt x="45" y="324"/>
                    </a:lnTo>
                    <a:lnTo>
                      <a:pt x="42" y="314"/>
                    </a:lnTo>
                    <a:lnTo>
                      <a:pt x="42" y="303"/>
                    </a:lnTo>
                    <a:lnTo>
                      <a:pt x="38" y="301"/>
                    </a:lnTo>
                    <a:lnTo>
                      <a:pt x="35" y="298"/>
                    </a:lnTo>
                    <a:lnTo>
                      <a:pt x="31" y="295"/>
                    </a:lnTo>
                    <a:lnTo>
                      <a:pt x="28" y="291"/>
                    </a:lnTo>
                    <a:lnTo>
                      <a:pt x="23" y="287"/>
                    </a:lnTo>
                    <a:lnTo>
                      <a:pt x="18" y="284"/>
                    </a:lnTo>
                    <a:lnTo>
                      <a:pt x="12" y="284"/>
                    </a:lnTo>
                    <a:lnTo>
                      <a:pt x="6" y="286"/>
                    </a:lnTo>
                    <a:lnTo>
                      <a:pt x="0" y="296"/>
                    </a:lnTo>
                    <a:lnTo>
                      <a:pt x="4" y="283"/>
                    </a:lnTo>
                    <a:lnTo>
                      <a:pt x="9" y="272"/>
                    </a:lnTo>
                    <a:lnTo>
                      <a:pt x="13" y="262"/>
                    </a:lnTo>
                    <a:lnTo>
                      <a:pt x="12" y="250"/>
                    </a:lnTo>
                    <a:lnTo>
                      <a:pt x="15" y="237"/>
                    </a:lnTo>
                    <a:lnTo>
                      <a:pt x="25" y="225"/>
                    </a:lnTo>
                    <a:lnTo>
                      <a:pt x="36" y="213"/>
                    </a:lnTo>
                    <a:lnTo>
                      <a:pt x="48" y="202"/>
                    </a:lnTo>
                    <a:lnTo>
                      <a:pt x="57" y="190"/>
                    </a:lnTo>
                    <a:lnTo>
                      <a:pt x="60" y="179"/>
                    </a:lnTo>
                    <a:lnTo>
                      <a:pt x="56" y="168"/>
                    </a:lnTo>
                    <a:lnTo>
                      <a:pt x="42" y="157"/>
                    </a:lnTo>
                    <a:lnTo>
                      <a:pt x="26" y="157"/>
                    </a:lnTo>
                    <a:lnTo>
                      <a:pt x="25" y="149"/>
                    </a:lnTo>
                    <a:lnTo>
                      <a:pt x="26" y="141"/>
                    </a:lnTo>
                    <a:lnTo>
                      <a:pt x="25" y="133"/>
                    </a:lnTo>
                    <a:lnTo>
                      <a:pt x="18" y="127"/>
                    </a:lnTo>
                    <a:lnTo>
                      <a:pt x="26" y="115"/>
                    </a:lnTo>
                    <a:lnTo>
                      <a:pt x="33" y="102"/>
                    </a:lnTo>
                    <a:lnTo>
                      <a:pt x="36" y="90"/>
                    </a:lnTo>
                    <a:lnTo>
                      <a:pt x="30" y="78"/>
                    </a:lnTo>
                    <a:lnTo>
                      <a:pt x="27" y="72"/>
                    </a:lnTo>
                    <a:lnTo>
                      <a:pt x="27" y="65"/>
                    </a:lnTo>
                    <a:lnTo>
                      <a:pt x="29" y="56"/>
                    </a:lnTo>
                    <a:lnTo>
                      <a:pt x="33" y="50"/>
                    </a:lnTo>
                    <a:lnTo>
                      <a:pt x="39" y="49"/>
                    </a:lnTo>
                    <a:lnTo>
                      <a:pt x="44" y="47"/>
                    </a:lnTo>
                    <a:lnTo>
                      <a:pt x="49" y="45"/>
                    </a:lnTo>
                    <a:lnTo>
                      <a:pt x="54" y="42"/>
                    </a:lnTo>
                    <a:lnTo>
                      <a:pt x="58" y="41"/>
                    </a:lnTo>
                    <a:lnTo>
                      <a:pt x="62" y="40"/>
                    </a:lnTo>
                    <a:lnTo>
                      <a:pt x="68" y="41"/>
                    </a:lnTo>
                    <a:lnTo>
                      <a:pt x="72" y="44"/>
                    </a:lnTo>
                    <a:lnTo>
                      <a:pt x="78" y="36"/>
                    </a:lnTo>
                    <a:lnTo>
                      <a:pt x="76" y="28"/>
                    </a:lnTo>
                    <a:lnTo>
                      <a:pt x="70" y="20"/>
                    </a:lnTo>
                    <a:lnTo>
                      <a:pt x="66" y="11"/>
                    </a:lnTo>
                    <a:lnTo>
                      <a:pt x="55" y="11"/>
                    </a:lnTo>
                    <a:lnTo>
                      <a:pt x="62" y="6"/>
                    </a:lnTo>
                    <a:lnTo>
                      <a:pt x="70" y="2"/>
                    </a:lnTo>
                    <a:lnTo>
                      <a:pt x="78" y="0"/>
                    </a:lnTo>
                    <a:lnTo>
                      <a:pt x="85" y="4"/>
                    </a:lnTo>
                    <a:lnTo>
                      <a:pt x="89" y="10"/>
                    </a:lnTo>
                    <a:lnTo>
                      <a:pt x="93" y="17"/>
                    </a:lnTo>
                    <a:lnTo>
                      <a:pt x="97" y="23"/>
                    </a:lnTo>
                    <a:lnTo>
                      <a:pt x="100" y="29"/>
                    </a:lnTo>
                    <a:lnTo>
                      <a:pt x="104" y="35"/>
                    </a:lnTo>
                    <a:lnTo>
                      <a:pt x="108" y="41"/>
                    </a:lnTo>
                    <a:lnTo>
                      <a:pt x="112" y="47"/>
                    </a:lnTo>
                    <a:lnTo>
                      <a:pt x="116" y="54"/>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flipH="1" rot="20945400">
                <a:off x="949320" y="3198960"/>
                <a:ext cx="151920" cy="232920"/>
              </a:xfrm>
              <a:custGeom>
                <a:avLst/>
                <a:gdLst/>
                <a:ahLst/>
                <a:rect l="l" t="t" r="r" b="b"/>
                <a:pathLst>
                  <a:path w="237" h="392">
                    <a:moveTo>
                      <a:pt x="170" y="95"/>
                    </a:moveTo>
                    <a:lnTo>
                      <a:pt x="175" y="130"/>
                    </a:lnTo>
                    <a:lnTo>
                      <a:pt x="185" y="166"/>
                    </a:lnTo>
                    <a:lnTo>
                      <a:pt x="198" y="202"/>
                    </a:lnTo>
                    <a:lnTo>
                      <a:pt x="211" y="237"/>
                    </a:lnTo>
                    <a:lnTo>
                      <a:pt x="222" y="272"/>
                    </a:lnTo>
                    <a:lnTo>
                      <a:pt x="232" y="308"/>
                    </a:lnTo>
                    <a:lnTo>
                      <a:pt x="237" y="344"/>
                    </a:lnTo>
                    <a:lnTo>
                      <a:pt x="236" y="382"/>
                    </a:lnTo>
                    <a:lnTo>
                      <a:pt x="233" y="385"/>
                    </a:lnTo>
                    <a:lnTo>
                      <a:pt x="228" y="387"/>
                    </a:lnTo>
                    <a:lnTo>
                      <a:pt x="224" y="390"/>
                    </a:lnTo>
                    <a:lnTo>
                      <a:pt x="220" y="391"/>
                    </a:lnTo>
                    <a:lnTo>
                      <a:pt x="216" y="392"/>
                    </a:lnTo>
                    <a:lnTo>
                      <a:pt x="212" y="392"/>
                    </a:lnTo>
                    <a:lnTo>
                      <a:pt x="207" y="391"/>
                    </a:lnTo>
                    <a:lnTo>
                      <a:pt x="203" y="389"/>
                    </a:lnTo>
                    <a:lnTo>
                      <a:pt x="189" y="373"/>
                    </a:lnTo>
                    <a:lnTo>
                      <a:pt x="174" y="356"/>
                    </a:lnTo>
                    <a:lnTo>
                      <a:pt x="161" y="339"/>
                    </a:lnTo>
                    <a:lnTo>
                      <a:pt x="147" y="323"/>
                    </a:lnTo>
                    <a:lnTo>
                      <a:pt x="133" y="305"/>
                    </a:lnTo>
                    <a:lnTo>
                      <a:pt x="121" y="287"/>
                    </a:lnTo>
                    <a:lnTo>
                      <a:pt x="108" y="269"/>
                    </a:lnTo>
                    <a:lnTo>
                      <a:pt x="96" y="251"/>
                    </a:lnTo>
                    <a:lnTo>
                      <a:pt x="84" y="233"/>
                    </a:lnTo>
                    <a:lnTo>
                      <a:pt x="74" y="213"/>
                    </a:lnTo>
                    <a:lnTo>
                      <a:pt x="64" y="194"/>
                    </a:lnTo>
                    <a:lnTo>
                      <a:pt x="54" y="174"/>
                    </a:lnTo>
                    <a:lnTo>
                      <a:pt x="46" y="154"/>
                    </a:lnTo>
                    <a:lnTo>
                      <a:pt x="39" y="133"/>
                    </a:lnTo>
                    <a:lnTo>
                      <a:pt x="32" y="112"/>
                    </a:lnTo>
                    <a:lnTo>
                      <a:pt x="27" y="90"/>
                    </a:lnTo>
                    <a:lnTo>
                      <a:pt x="17" y="77"/>
                    </a:lnTo>
                    <a:lnTo>
                      <a:pt x="9" y="63"/>
                    </a:lnTo>
                    <a:lnTo>
                      <a:pt x="4" y="47"/>
                    </a:lnTo>
                    <a:lnTo>
                      <a:pt x="0" y="31"/>
                    </a:lnTo>
                    <a:lnTo>
                      <a:pt x="13" y="0"/>
                    </a:lnTo>
                    <a:lnTo>
                      <a:pt x="25" y="23"/>
                    </a:lnTo>
                    <a:lnTo>
                      <a:pt x="39" y="41"/>
                    </a:lnTo>
                    <a:lnTo>
                      <a:pt x="56" y="55"/>
                    </a:lnTo>
                    <a:lnTo>
                      <a:pt x="77" y="66"/>
                    </a:lnTo>
                    <a:lnTo>
                      <a:pt x="99" y="75"/>
                    </a:lnTo>
                    <a:lnTo>
                      <a:pt x="123" y="82"/>
                    </a:lnTo>
                    <a:lnTo>
                      <a:pt x="147" y="88"/>
                    </a:lnTo>
                    <a:lnTo>
                      <a:pt x="170" y="9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flipH="1" rot="20945400">
                <a:off x="1231920" y="3169800"/>
                <a:ext cx="15120" cy="9720"/>
              </a:xfrm>
              <a:custGeom>
                <a:avLst/>
                <a:gdLst/>
                <a:ahLst/>
                <a:rect l="l" t="t" r="r" b="b"/>
                <a:pathLst>
                  <a:path w="24" h="17">
                    <a:moveTo>
                      <a:pt x="24" y="13"/>
                    </a:moveTo>
                    <a:lnTo>
                      <a:pt x="7" y="17"/>
                    </a:lnTo>
                    <a:lnTo>
                      <a:pt x="0" y="0"/>
                    </a:lnTo>
                    <a:lnTo>
                      <a:pt x="4" y="5"/>
                    </a:lnTo>
                    <a:lnTo>
                      <a:pt x="10" y="8"/>
                    </a:lnTo>
                    <a:lnTo>
                      <a:pt x="17" y="11"/>
                    </a:lnTo>
                    <a:lnTo>
                      <a:pt x="24" y="1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6" name=""/>
              <p:cNvSpPr/>
              <p:nvPr/>
            </p:nvSpPr>
            <p:spPr>
              <a:xfrm flipH="1" rot="20945400">
                <a:off x="776880" y="3273840"/>
                <a:ext cx="223920" cy="284760"/>
              </a:xfrm>
              <a:custGeom>
                <a:avLst/>
                <a:gdLst/>
                <a:ahLst/>
                <a:rect l="l" t="t" r="r" b="b"/>
                <a:pathLst>
                  <a:path w="349" h="479">
                    <a:moveTo>
                      <a:pt x="197" y="81"/>
                    </a:moveTo>
                    <a:lnTo>
                      <a:pt x="214" y="128"/>
                    </a:lnTo>
                    <a:lnTo>
                      <a:pt x="234" y="175"/>
                    </a:lnTo>
                    <a:lnTo>
                      <a:pt x="253" y="222"/>
                    </a:lnTo>
                    <a:lnTo>
                      <a:pt x="273" y="269"/>
                    </a:lnTo>
                    <a:lnTo>
                      <a:pt x="293" y="316"/>
                    </a:lnTo>
                    <a:lnTo>
                      <a:pt x="313" y="363"/>
                    </a:lnTo>
                    <a:lnTo>
                      <a:pt x="331" y="410"/>
                    </a:lnTo>
                    <a:lnTo>
                      <a:pt x="349" y="458"/>
                    </a:lnTo>
                    <a:lnTo>
                      <a:pt x="346" y="466"/>
                    </a:lnTo>
                    <a:lnTo>
                      <a:pt x="344" y="475"/>
                    </a:lnTo>
                    <a:lnTo>
                      <a:pt x="338" y="479"/>
                    </a:lnTo>
                    <a:lnTo>
                      <a:pt x="329" y="475"/>
                    </a:lnTo>
                    <a:lnTo>
                      <a:pt x="302" y="458"/>
                    </a:lnTo>
                    <a:lnTo>
                      <a:pt x="277" y="441"/>
                    </a:lnTo>
                    <a:lnTo>
                      <a:pt x="252" y="422"/>
                    </a:lnTo>
                    <a:lnTo>
                      <a:pt x="230" y="403"/>
                    </a:lnTo>
                    <a:lnTo>
                      <a:pt x="207" y="383"/>
                    </a:lnTo>
                    <a:lnTo>
                      <a:pt x="187" y="360"/>
                    </a:lnTo>
                    <a:lnTo>
                      <a:pt x="166" y="338"/>
                    </a:lnTo>
                    <a:lnTo>
                      <a:pt x="148" y="314"/>
                    </a:lnTo>
                    <a:lnTo>
                      <a:pt x="129" y="290"/>
                    </a:lnTo>
                    <a:lnTo>
                      <a:pt x="113" y="264"/>
                    </a:lnTo>
                    <a:lnTo>
                      <a:pt x="97" y="237"/>
                    </a:lnTo>
                    <a:lnTo>
                      <a:pt x="82" y="211"/>
                    </a:lnTo>
                    <a:lnTo>
                      <a:pt x="68" y="184"/>
                    </a:lnTo>
                    <a:lnTo>
                      <a:pt x="55" y="157"/>
                    </a:lnTo>
                    <a:lnTo>
                      <a:pt x="41" y="128"/>
                    </a:lnTo>
                    <a:lnTo>
                      <a:pt x="30" y="99"/>
                    </a:lnTo>
                    <a:lnTo>
                      <a:pt x="23" y="79"/>
                    </a:lnTo>
                    <a:lnTo>
                      <a:pt x="15" y="59"/>
                    </a:lnTo>
                    <a:lnTo>
                      <a:pt x="7" y="38"/>
                    </a:lnTo>
                    <a:lnTo>
                      <a:pt x="0" y="17"/>
                    </a:lnTo>
                    <a:lnTo>
                      <a:pt x="12" y="21"/>
                    </a:lnTo>
                    <a:lnTo>
                      <a:pt x="24" y="25"/>
                    </a:lnTo>
                    <a:lnTo>
                      <a:pt x="36" y="28"/>
                    </a:lnTo>
                    <a:lnTo>
                      <a:pt x="48" y="30"/>
                    </a:lnTo>
                    <a:lnTo>
                      <a:pt x="62" y="31"/>
                    </a:lnTo>
                    <a:lnTo>
                      <a:pt x="74" y="30"/>
                    </a:lnTo>
                    <a:lnTo>
                      <a:pt x="85" y="27"/>
                    </a:lnTo>
                    <a:lnTo>
                      <a:pt x="97" y="21"/>
                    </a:lnTo>
                    <a:lnTo>
                      <a:pt x="97" y="0"/>
                    </a:lnTo>
                    <a:lnTo>
                      <a:pt x="104" y="16"/>
                    </a:lnTo>
                    <a:lnTo>
                      <a:pt x="113" y="30"/>
                    </a:lnTo>
                    <a:lnTo>
                      <a:pt x="124" y="43"/>
                    </a:lnTo>
                    <a:lnTo>
                      <a:pt x="135" y="54"/>
                    </a:lnTo>
                    <a:lnTo>
                      <a:pt x="149" y="64"/>
                    </a:lnTo>
                    <a:lnTo>
                      <a:pt x="163" y="72"/>
                    </a:lnTo>
                    <a:lnTo>
                      <a:pt x="180" y="77"/>
                    </a:lnTo>
                    <a:lnTo>
                      <a:pt x="197" y="8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7" name=""/>
              <p:cNvSpPr/>
              <p:nvPr/>
            </p:nvSpPr>
            <p:spPr>
              <a:xfrm flipH="1" rot="20945400">
                <a:off x="1304640" y="3219480"/>
                <a:ext cx="6120" cy="11880"/>
              </a:xfrm>
              <a:custGeom>
                <a:avLst/>
                <a:gdLst/>
                <a:ahLst/>
                <a:rect l="l" t="t" r="r" b="b"/>
                <a:pathLst>
                  <a:path w="10" h="20">
                    <a:moveTo>
                      <a:pt x="10" y="3"/>
                    </a:moveTo>
                    <a:lnTo>
                      <a:pt x="10" y="20"/>
                    </a:lnTo>
                    <a:lnTo>
                      <a:pt x="3" y="20"/>
                    </a:lnTo>
                    <a:lnTo>
                      <a:pt x="0" y="0"/>
                    </a:lnTo>
                    <a:lnTo>
                      <a:pt x="2" y="2"/>
                    </a:lnTo>
                    <a:lnTo>
                      <a:pt x="4" y="3"/>
                    </a:lnTo>
                    <a:lnTo>
                      <a:pt x="7" y="3"/>
                    </a:lnTo>
                    <a:lnTo>
                      <a:pt x="10" y="3"/>
                    </a:lnTo>
                    <a:close/>
                  </a:path>
                </a:pathLst>
              </a:custGeom>
              <a:solidFill>
                <a:srgbClr val="d8e0e8"/>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338" name=""/>
              <p:cNvSpPr/>
              <p:nvPr/>
            </p:nvSpPr>
            <p:spPr>
              <a:xfrm flipH="1" rot="20945400">
                <a:off x="1216800" y="3223800"/>
                <a:ext cx="425880" cy="180720"/>
              </a:xfrm>
              <a:custGeom>
                <a:avLst/>
                <a:gdLst/>
                <a:ahLst/>
                <a:rect l="l" t="t" r="r" b="b"/>
                <a:pathLst>
                  <a:path w="664" h="304">
                    <a:moveTo>
                      <a:pt x="309" y="23"/>
                    </a:moveTo>
                    <a:lnTo>
                      <a:pt x="321" y="37"/>
                    </a:lnTo>
                    <a:lnTo>
                      <a:pt x="332" y="53"/>
                    </a:lnTo>
                    <a:lnTo>
                      <a:pt x="342" y="71"/>
                    </a:lnTo>
                    <a:lnTo>
                      <a:pt x="352" y="87"/>
                    </a:lnTo>
                    <a:lnTo>
                      <a:pt x="364" y="101"/>
                    </a:lnTo>
                    <a:lnTo>
                      <a:pt x="379" y="112"/>
                    </a:lnTo>
                    <a:lnTo>
                      <a:pt x="396" y="117"/>
                    </a:lnTo>
                    <a:lnTo>
                      <a:pt x="419" y="115"/>
                    </a:lnTo>
                    <a:lnTo>
                      <a:pt x="435" y="119"/>
                    </a:lnTo>
                    <a:lnTo>
                      <a:pt x="451" y="122"/>
                    </a:lnTo>
                    <a:lnTo>
                      <a:pt x="468" y="126"/>
                    </a:lnTo>
                    <a:lnTo>
                      <a:pt x="484" y="130"/>
                    </a:lnTo>
                    <a:lnTo>
                      <a:pt x="499" y="133"/>
                    </a:lnTo>
                    <a:lnTo>
                      <a:pt x="516" y="137"/>
                    </a:lnTo>
                    <a:lnTo>
                      <a:pt x="531" y="142"/>
                    </a:lnTo>
                    <a:lnTo>
                      <a:pt x="547" y="147"/>
                    </a:lnTo>
                    <a:lnTo>
                      <a:pt x="561" y="153"/>
                    </a:lnTo>
                    <a:lnTo>
                      <a:pt x="575" y="160"/>
                    </a:lnTo>
                    <a:lnTo>
                      <a:pt x="588" y="167"/>
                    </a:lnTo>
                    <a:lnTo>
                      <a:pt x="602" y="175"/>
                    </a:lnTo>
                    <a:lnTo>
                      <a:pt x="614" y="184"/>
                    </a:lnTo>
                    <a:lnTo>
                      <a:pt x="626" y="195"/>
                    </a:lnTo>
                    <a:lnTo>
                      <a:pt x="637" y="208"/>
                    </a:lnTo>
                    <a:lnTo>
                      <a:pt x="647" y="221"/>
                    </a:lnTo>
                    <a:lnTo>
                      <a:pt x="651" y="218"/>
                    </a:lnTo>
                    <a:lnTo>
                      <a:pt x="655" y="214"/>
                    </a:lnTo>
                    <a:lnTo>
                      <a:pt x="659" y="211"/>
                    </a:lnTo>
                    <a:lnTo>
                      <a:pt x="664" y="211"/>
                    </a:lnTo>
                    <a:lnTo>
                      <a:pt x="656" y="216"/>
                    </a:lnTo>
                    <a:lnTo>
                      <a:pt x="651" y="223"/>
                    </a:lnTo>
                    <a:lnTo>
                      <a:pt x="649" y="232"/>
                    </a:lnTo>
                    <a:lnTo>
                      <a:pt x="647" y="240"/>
                    </a:lnTo>
                    <a:lnTo>
                      <a:pt x="651" y="245"/>
                    </a:lnTo>
                    <a:lnTo>
                      <a:pt x="645" y="251"/>
                    </a:lnTo>
                    <a:lnTo>
                      <a:pt x="639" y="250"/>
                    </a:lnTo>
                    <a:lnTo>
                      <a:pt x="637" y="245"/>
                    </a:lnTo>
                    <a:lnTo>
                      <a:pt x="634" y="240"/>
                    </a:lnTo>
                    <a:lnTo>
                      <a:pt x="627" y="240"/>
                    </a:lnTo>
                    <a:lnTo>
                      <a:pt x="630" y="257"/>
                    </a:lnTo>
                    <a:lnTo>
                      <a:pt x="633" y="270"/>
                    </a:lnTo>
                    <a:lnTo>
                      <a:pt x="635" y="284"/>
                    </a:lnTo>
                    <a:lnTo>
                      <a:pt x="635" y="301"/>
                    </a:lnTo>
                    <a:lnTo>
                      <a:pt x="631" y="301"/>
                    </a:lnTo>
                    <a:lnTo>
                      <a:pt x="628" y="299"/>
                    </a:lnTo>
                    <a:lnTo>
                      <a:pt x="624" y="297"/>
                    </a:lnTo>
                    <a:lnTo>
                      <a:pt x="621" y="298"/>
                    </a:lnTo>
                    <a:lnTo>
                      <a:pt x="622" y="286"/>
                    </a:lnTo>
                    <a:lnTo>
                      <a:pt x="622" y="274"/>
                    </a:lnTo>
                    <a:lnTo>
                      <a:pt x="620" y="262"/>
                    </a:lnTo>
                    <a:lnTo>
                      <a:pt x="614" y="251"/>
                    </a:lnTo>
                    <a:lnTo>
                      <a:pt x="605" y="254"/>
                    </a:lnTo>
                    <a:lnTo>
                      <a:pt x="597" y="257"/>
                    </a:lnTo>
                    <a:lnTo>
                      <a:pt x="590" y="263"/>
                    </a:lnTo>
                    <a:lnTo>
                      <a:pt x="584" y="271"/>
                    </a:lnTo>
                    <a:lnTo>
                      <a:pt x="587" y="274"/>
                    </a:lnTo>
                    <a:lnTo>
                      <a:pt x="583" y="273"/>
                    </a:lnTo>
                    <a:lnTo>
                      <a:pt x="579" y="270"/>
                    </a:lnTo>
                    <a:lnTo>
                      <a:pt x="576" y="265"/>
                    </a:lnTo>
                    <a:lnTo>
                      <a:pt x="573" y="261"/>
                    </a:lnTo>
                    <a:lnTo>
                      <a:pt x="569" y="256"/>
                    </a:lnTo>
                    <a:lnTo>
                      <a:pt x="565" y="251"/>
                    </a:lnTo>
                    <a:lnTo>
                      <a:pt x="560" y="247"/>
                    </a:lnTo>
                    <a:lnTo>
                      <a:pt x="555" y="245"/>
                    </a:lnTo>
                    <a:lnTo>
                      <a:pt x="551" y="244"/>
                    </a:lnTo>
                    <a:lnTo>
                      <a:pt x="547" y="243"/>
                    </a:lnTo>
                    <a:lnTo>
                      <a:pt x="542" y="240"/>
                    </a:lnTo>
                    <a:lnTo>
                      <a:pt x="538" y="239"/>
                    </a:lnTo>
                    <a:lnTo>
                      <a:pt x="533" y="237"/>
                    </a:lnTo>
                    <a:lnTo>
                      <a:pt x="529" y="237"/>
                    </a:lnTo>
                    <a:lnTo>
                      <a:pt x="525" y="238"/>
                    </a:lnTo>
                    <a:lnTo>
                      <a:pt x="521" y="240"/>
                    </a:lnTo>
                    <a:lnTo>
                      <a:pt x="531" y="264"/>
                    </a:lnTo>
                    <a:lnTo>
                      <a:pt x="525" y="259"/>
                    </a:lnTo>
                    <a:lnTo>
                      <a:pt x="519" y="253"/>
                    </a:lnTo>
                    <a:lnTo>
                      <a:pt x="512" y="251"/>
                    </a:lnTo>
                    <a:lnTo>
                      <a:pt x="505" y="255"/>
                    </a:lnTo>
                    <a:lnTo>
                      <a:pt x="497" y="263"/>
                    </a:lnTo>
                    <a:lnTo>
                      <a:pt x="497" y="271"/>
                    </a:lnTo>
                    <a:lnTo>
                      <a:pt x="498" y="280"/>
                    </a:lnTo>
                    <a:lnTo>
                      <a:pt x="498" y="291"/>
                    </a:lnTo>
                    <a:lnTo>
                      <a:pt x="506" y="295"/>
                    </a:lnTo>
                    <a:lnTo>
                      <a:pt x="512" y="300"/>
                    </a:lnTo>
                    <a:lnTo>
                      <a:pt x="519" y="304"/>
                    </a:lnTo>
                    <a:lnTo>
                      <a:pt x="528" y="304"/>
                    </a:lnTo>
                    <a:lnTo>
                      <a:pt x="501" y="304"/>
                    </a:lnTo>
                    <a:lnTo>
                      <a:pt x="502" y="297"/>
                    </a:lnTo>
                    <a:lnTo>
                      <a:pt x="498" y="291"/>
                    </a:lnTo>
                    <a:lnTo>
                      <a:pt x="493" y="286"/>
                    </a:lnTo>
                    <a:lnTo>
                      <a:pt x="488" y="281"/>
                    </a:lnTo>
                    <a:lnTo>
                      <a:pt x="479" y="281"/>
                    </a:lnTo>
                    <a:lnTo>
                      <a:pt x="485" y="274"/>
                    </a:lnTo>
                    <a:lnTo>
                      <a:pt x="494" y="266"/>
                    </a:lnTo>
                    <a:lnTo>
                      <a:pt x="500" y="257"/>
                    </a:lnTo>
                    <a:lnTo>
                      <a:pt x="498" y="245"/>
                    </a:lnTo>
                    <a:lnTo>
                      <a:pt x="488" y="238"/>
                    </a:lnTo>
                    <a:lnTo>
                      <a:pt x="485" y="247"/>
                    </a:lnTo>
                    <a:lnTo>
                      <a:pt x="480" y="251"/>
                    </a:lnTo>
                    <a:lnTo>
                      <a:pt x="473" y="252"/>
                    </a:lnTo>
                    <a:lnTo>
                      <a:pt x="466" y="252"/>
                    </a:lnTo>
                    <a:lnTo>
                      <a:pt x="460" y="252"/>
                    </a:lnTo>
                    <a:lnTo>
                      <a:pt x="455" y="254"/>
                    </a:lnTo>
                    <a:lnTo>
                      <a:pt x="453" y="260"/>
                    </a:lnTo>
                    <a:lnTo>
                      <a:pt x="455" y="271"/>
                    </a:lnTo>
                    <a:lnTo>
                      <a:pt x="450" y="270"/>
                    </a:lnTo>
                    <a:lnTo>
                      <a:pt x="447" y="266"/>
                    </a:lnTo>
                    <a:lnTo>
                      <a:pt x="444" y="258"/>
                    </a:lnTo>
                    <a:lnTo>
                      <a:pt x="442" y="250"/>
                    </a:lnTo>
                    <a:lnTo>
                      <a:pt x="438" y="244"/>
                    </a:lnTo>
                    <a:lnTo>
                      <a:pt x="434" y="238"/>
                    </a:lnTo>
                    <a:lnTo>
                      <a:pt x="428" y="238"/>
                    </a:lnTo>
                    <a:lnTo>
                      <a:pt x="419" y="245"/>
                    </a:lnTo>
                    <a:lnTo>
                      <a:pt x="405" y="261"/>
                    </a:lnTo>
                    <a:lnTo>
                      <a:pt x="402" y="255"/>
                    </a:lnTo>
                    <a:lnTo>
                      <a:pt x="401" y="246"/>
                    </a:lnTo>
                    <a:lnTo>
                      <a:pt x="402" y="236"/>
                    </a:lnTo>
                    <a:lnTo>
                      <a:pt x="403" y="227"/>
                    </a:lnTo>
                    <a:lnTo>
                      <a:pt x="403" y="219"/>
                    </a:lnTo>
                    <a:lnTo>
                      <a:pt x="401" y="212"/>
                    </a:lnTo>
                    <a:lnTo>
                      <a:pt x="395" y="208"/>
                    </a:lnTo>
                    <a:lnTo>
                      <a:pt x="385" y="208"/>
                    </a:lnTo>
                    <a:lnTo>
                      <a:pt x="389" y="215"/>
                    </a:lnTo>
                    <a:lnTo>
                      <a:pt x="394" y="219"/>
                    </a:lnTo>
                    <a:lnTo>
                      <a:pt x="397" y="224"/>
                    </a:lnTo>
                    <a:lnTo>
                      <a:pt x="398" y="231"/>
                    </a:lnTo>
                    <a:lnTo>
                      <a:pt x="390" y="230"/>
                    </a:lnTo>
                    <a:lnTo>
                      <a:pt x="381" y="230"/>
                    </a:lnTo>
                    <a:lnTo>
                      <a:pt x="371" y="233"/>
                    </a:lnTo>
                    <a:lnTo>
                      <a:pt x="368" y="245"/>
                    </a:lnTo>
                    <a:lnTo>
                      <a:pt x="366" y="243"/>
                    </a:lnTo>
                    <a:lnTo>
                      <a:pt x="362" y="241"/>
                    </a:lnTo>
                    <a:lnTo>
                      <a:pt x="357" y="241"/>
                    </a:lnTo>
                    <a:lnTo>
                      <a:pt x="351" y="241"/>
                    </a:lnTo>
                    <a:lnTo>
                      <a:pt x="345" y="241"/>
                    </a:lnTo>
                    <a:lnTo>
                      <a:pt x="340" y="240"/>
                    </a:lnTo>
                    <a:lnTo>
                      <a:pt x="337" y="237"/>
                    </a:lnTo>
                    <a:lnTo>
                      <a:pt x="336" y="231"/>
                    </a:lnTo>
                    <a:lnTo>
                      <a:pt x="343" y="226"/>
                    </a:lnTo>
                    <a:lnTo>
                      <a:pt x="349" y="222"/>
                    </a:lnTo>
                    <a:lnTo>
                      <a:pt x="353" y="216"/>
                    </a:lnTo>
                    <a:lnTo>
                      <a:pt x="349" y="208"/>
                    </a:lnTo>
                    <a:lnTo>
                      <a:pt x="346" y="204"/>
                    </a:lnTo>
                    <a:lnTo>
                      <a:pt x="342" y="201"/>
                    </a:lnTo>
                    <a:lnTo>
                      <a:pt x="338" y="196"/>
                    </a:lnTo>
                    <a:lnTo>
                      <a:pt x="333" y="194"/>
                    </a:lnTo>
                    <a:lnTo>
                      <a:pt x="328" y="192"/>
                    </a:lnTo>
                    <a:lnTo>
                      <a:pt x="323" y="192"/>
                    </a:lnTo>
                    <a:lnTo>
                      <a:pt x="319" y="194"/>
                    </a:lnTo>
                    <a:lnTo>
                      <a:pt x="315" y="198"/>
                    </a:lnTo>
                    <a:lnTo>
                      <a:pt x="313" y="201"/>
                    </a:lnTo>
                    <a:lnTo>
                      <a:pt x="311" y="203"/>
                    </a:lnTo>
                    <a:lnTo>
                      <a:pt x="309" y="205"/>
                    </a:lnTo>
                    <a:lnTo>
                      <a:pt x="309" y="208"/>
                    </a:lnTo>
                    <a:lnTo>
                      <a:pt x="313" y="211"/>
                    </a:lnTo>
                    <a:lnTo>
                      <a:pt x="302" y="211"/>
                    </a:lnTo>
                    <a:lnTo>
                      <a:pt x="303" y="201"/>
                    </a:lnTo>
                    <a:lnTo>
                      <a:pt x="298" y="194"/>
                    </a:lnTo>
                    <a:lnTo>
                      <a:pt x="291" y="190"/>
                    </a:lnTo>
                    <a:lnTo>
                      <a:pt x="285" y="185"/>
                    </a:lnTo>
                    <a:lnTo>
                      <a:pt x="275" y="185"/>
                    </a:lnTo>
                    <a:lnTo>
                      <a:pt x="265" y="186"/>
                    </a:lnTo>
                    <a:lnTo>
                      <a:pt x="255" y="189"/>
                    </a:lnTo>
                    <a:lnTo>
                      <a:pt x="245" y="193"/>
                    </a:lnTo>
                    <a:lnTo>
                      <a:pt x="234" y="199"/>
                    </a:lnTo>
                    <a:lnTo>
                      <a:pt x="224" y="204"/>
                    </a:lnTo>
                    <a:lnTo>
                      <a:pt x="215" y="211"/>
                    </a:lnTo>
                    <a:lnTo>
                      <a:pt x="207" y="218"/>
                    </a:lnTo>
                    <a:lnTo>
                      <a:pt x="207" y="228"/>
                    </a:lnTo>
                    <a:lnTo>
                      <a:pt x="202" y="225"/>
                    </a:lnTo>
                    <a:lnTo>
                      <a:pt x="195" y="222"/>
                    </a:lnTo>
                    <a:lnTo>
                      <a:pt x="189" y="220"/>
                    </a:lnTo>
                    <a:lnTo>
                      <a:pt x="184" y="217"/>
                    </a:lnTo>
                    <a:lnTo>
                      <a:pt x="180" y="214"/>
                    </a:lnTo>
                    <a:lnTo>
                      <a:pt x="177" y="210"/>
                    </a:lnTo>
                    <a:lnTo>
                      <a:pt x="177" y="205"/>
                    </a:lnTo>
                    <a:lnTo>
                      <a:pt x="180" y="198"/>
                    </a:lnTo>
                    <a:lnTo>
                      <a:pt x="189" y="189"/>
                    </a:lnTo>
                    <a:lnTo>
                      <a:pt x="199" y="182"/>
                    </a:lnTo>
                    <a:lnTo>
                      <a:pt x="212" y="176"/>
                    </a:lnTo>
                    <a:lnTo>
                      <a:pt x="224" y="169"/>
                    </a:lnTo>
                    <a:lnTo>
                      <a:pt x="234" y="162"/>
                    </a:lnTo>
                    <a:lnTo>
                      <a:pt x="244" y="154"/>
                    </a:lnTo>
                    <a:lnTo>
                      <a:pt x="249" y="142"/>
                    </a:lnTo>
                    <a:lnTo>
                      <a:pt x="249" y="128"/>
                    </a:lnTo>
                    <a:lnTo>
                      <a:pt x="256" y="123"/>
                    </a:lnTo>
                    <a:lnTo>
                      <a:pt x="263" y="119"/>
                    </a:lnTo>
                    <a:lnTo>
                      <a:pt x="270" y="115"/>
                    </a:lnTo>
                    <a:lnTo>
                      <a:pt x="277" y="111"/>
                    </a:lnTo>
                    <a:lnTo>
                      <a:pt x="283" y="107"/>
                    </a:lnTo>
                    <a:lnTo>
                      <a:pt x="290" y="101"/>
                    </a:lnTo>
                    <a:lnTo>
                      <a:pt x="295" y="96"/>
                    </a:lnTo>
                    <a:lnTo>
                      <a:pt x="299" y="89"/>
                    </a:lnTo>
                    <a:lnTo>
                      <a:pt x="302" y="74"/>
                    </a:lnTo>
                    <a:lnTo>
                      <a:pt x="300" y="57"/>
                    </a:lnTo>
                    <a:lnTo>
                      <a:pt x="293" y="45"/>
                    </a:lnTo>
                    <a:lnTo>
                      <a:pt x="279" y="36"/>
                    </a:lnTo>
                    <a:lnTo>
                      <a:pt x="266" y="34"/>
                    </a:lnTo>
                    <a:lnTo>
                      <a:pt x="253" y="33"/>
                    </a:lnTo>
                    <a:lnTo>
                      <a:pt x="239" y="34"/>
                    </a:lnTo>
                    <a:lnTo>
                      <a:pt x="227" y="35"/>
                    </a:lnTo>
                    <a:lnTo>
                      <a:pt x="215" y="38"/>
                    </a:lnTo>
                    <a:lnTo>
                      <a:pt x="202" y="40"/>
                    </a:lnTo>
                    <a:lnTo>
                      <a:pt x="189" y="44"/>
                    </a:lnTo>
                    <a:lnTo>
                      <a:pt x="177" y="47"/>
                    </a:lnTo>
                    <a:lnTo>
                      <a:pt x="165" y="50"/>
                    </a:lnTo>
                    <a:lnTo>
                      <a:pt x="152" y="53"/>
                    </a:lnTo>
                    <a:lnTo>
                      <a:pt x="140" y="56"/>
                    </a:lnTo>
                    <a:lnTo>
                      <a:pt x="127" y="58"/>
                    </a:lnTo>
                    <a:lnTo>
                      <a:pt x="115" y="59"/>
                    </a:lnTo>
                    <a:lnTo>
                      <a:pt x="101" y="59"/>
                    </a:lnTo>
                    <a:lnTo>
                      <a:pt x="88" y="58"/>
                    </a:lnTo>
                    <a:lnTo>
                      <a:pt x="74" y="55"/>
                    </a:lnTo>
                    <a:lnTo>
                      <a:pt x="67" y="56"/>
                    </a:lnTo>
                    <a:lnTo>
                      <a:pt x="61" y="59"/>
                    </a:lnTo>
                    <a:lnTo>
                      <a:pt x="56" y="63"/>
                    </a:lnTo>
                    <a:lnTo>
                      <a:pt x="52" y="67"/>
                    </a:lnTo>
                    <a:lnTo>
                      <a:pt x="48" y="71"/>
                    </a:lnTo>
                    <a:lnTo>
                      <a:pt x="44" y="76"/>
                    </a:lnTo>
                    <a:lnTo>
                      <a:pt x="41" y="80"/>
                    </a:lnTo>
                    <a:lnTo>
                      <a:pt x="37" y="85"/>
                    </a:lnTo>
                    <a:lnTo>
                      <a:pt x="37" y="92"/>
                    </a:lnTo>
                    <a:lnTo>
                      <a:pt x="36" y="99"/>
                    </a:lnTo>
                    <a:lnTo>
                      <a:pt x="33" y="105"/>
                    </a:lnTo>
                    <a:lnTo>
                      <a:pt x="29" y="111"/>
                    </a:lnTo>
                    <a:lnTo>
                      <a:pt x="23" y="115"/>
                    </a:lnTo>
                    <a:lnTo>
                      <a:pt x="18" y="116"/>
                    </a:lnTo>
                    <a:lnTo>
                      <a:pt x="11" y="116"/>
                    </a:lnTo>
                    <a:lnTo>
                      <a:pt x="4" y="112"/>
                    </a:lnTo>
                    <a:lnTo>
                      <a:pt x="4" y="110"/>
                    </a:lnTo>
                    <a:lnTo>
                      <a:pt x="3" y="108"/>
                    </a:lnTo>
                    <a:lnTo>
                      <a:pt x="1" y="107"/>
                    </a:lnTo>
                    <a:lnTo>
                      <a:pt x="0" y="105"/>
                    </a:lnTo>
                    <a:lnTo>
                      <a:pt x="9" y="102"/>
                    </a:lnTo>
                    <a:lnTo>
                      <a:pt x="10" y="93"/>
                    </a:lnTo>
                    <a:lnTo>
                      <a:pt x="10" y="83"/>
                    </a:lnTo>
                    <a:lnTo>
                      <a:pt x="14" y="75"/>
                    </a:lnTo>
                    <a:lnTo>
                      <a:pt x="22" y="66"/>
                    </a:lnTo>
                    <a:lnTo>
                      <a:pt x="32" y="59"/>
                    </a:lnTo>
                    <a:lnTo>
                      <a:pt x="42" y="53"/>
                    </a:lnTo>
                    <a:lnTo>
                      <a:pt x="53" y="49"/>
                    </a:lnTo>
                    <a:lnTo>
                      <a:pt x="64" y="46"/>
                    </a:lnTo>
                    <a:lnTo>
                      <a:pt x="77" y="44"/>
                    </a:lnTo>
                    <a:lnTo>
                      <a:pt x="89" y="42"/>
                    </a:lnTo>
                    <a:lnTo>
                      <a:pt x="101" y="40"/>
                    </a:lnTo>
                    <a:lnTo>
                      <a:pt x="113" y="39"/>
                    </a:lnTo>
                    <a:lnTo>
                      <a:pt x="127" y="37"/>
                    </a:lnTo>
                    <a:lnTo>
                      <a:pt x="139" y="35"/>
                    </a:lnTo>
                    <a:lnTo>
                      <a:pt x="150" y="32"/>
                    </a:lnTo>
                    <a:lnTo>
                      <a:pt x="163" y="28"/>
                    </a:lnTo>
                    <a:lnTo>
                      <a:pt x="174" y="22"/>
                    </a:lnTo>
                    <a:lnTo>
                      <a:pt x="184" y="16"/>
                    </a:lnTo>
                    <a:lnTo>
                      <a:pt x="193" y="6"/>
                    </a:lnTo>
                    <a:lnTo>
                      <a:pt x="208" y="2"/>
                    </a:lnTo>
                    <a:lnTo>
                      <a:pt x="223" y="0"/>
                    </a:lnTo>
                    <a:lnTo>
                      <a:pt x="238" y="0"/>
                    </a:lnTo>
                    <a:lnTo>
                      <a:pt x="253" y="1"/>
                    </a:lnTo>
                    <a:lnTo>
                      <a:pt x="268" y="4"/>
                    </a:lnTo>
                    <a:lnTo>
                      <a:pt x="282" y="9"/>
                    </a:lnTo>
                    <a:lnTo>
                      <a:pt x="296" y="16"/>
                    </a:lnTo>
                    <a:lnTo>
                      <a:pt x="309" y="23"/>
                    </a:lnTo>
                    <a:close/>
                  </a:path>
                </a:pathLst>
              </a:custGeom>
              <a:solidFill>
                <a:srgbClr val="d8aa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flipH="1" rot="20945400">
                <a:off x="1199520" y="3283920"/>
                <a:ext cx="106920" cy="95040"/>
              </a:xfrm>
              <a:custGeom>
                <a:avLst/>
                <a:gdLst/>
                <a:ahLst/>
                <a:rect l="l" t="t" r="r" b="b"/>
                <a:pathLst>
                  <a:path w="167" h="160">
                    <a:moveTo>
                      <a:pt x="81" y="4"/>
                    </a:moveTo>
                    <a:lnTo>
                      <a:pt x="77" y="19"/>
                    </a:lnTo>
                    <a:lnTo>
                      <a:pt x="80" y="33"/>
                    </a:lnTo>
                    <a:lnTo>
                      <a:pt x="86" y="46"/>
                    </a:lnTo>
                    <a:lnTo>
                      <a:pt x="90" y="60"/>
                    </a:lnTo>
                    <a:lnTo>
                      <a:pt x="103" y="60"/>
                    </a:lnTo>
                    <a:lnTo>
                      <a:pt x="112" y="67"/>
                    </a:lnTo>
                    <a:lnTo>
                      <a:pt x="115" y="75"/>
                    </a:lnTo>
                    <a:lnTo>
                      <a:pt x="116" y="85"/>
                    </a:lnTo>
                    <a:lnTo>
                      <a:pt x="116" y="96"/>
                    </a:lnTo>
                    <a:lnTo>
                      <a:pt x="119" y="105"/>
                    </a:lnTo>
                    <a:lnTo>
                      <a:pt x="127" y="112"/>
                    </a:lnTo>
                    <a:lnTo>
                      <a:pt x="140" y="113"/>
                    </a:lnTo>
                    <a:lnTo>
                      <a:pt x="147" y="113"/>
                    </a:lnTo>
                    <a:lnTo>
                      <a:pt x="155" y="115"/>
                    </a:lnTo>
                    <a:lnTo>
                      <a:pt x="161" y="118"/>
                    </a:lnTo>
                    <a:lnTo>
                      <a:pt x="167" y="123"/>
                    </a:lnTo>
                    <a:lnTo>
                      <a:pt x="163" y="128"/>
                    </a:lnTo>
                    <a:lnTo>
                      <a:pt x="155" y="133"/>
                    </a:lnTo>
                    <a:lnTo>
                      <a:pt x="149" y="141"/>
                    </a:lnTo>
                    <a:lnTo>
                      <a:pt x="154" y="153"/>
                    </a:lnTo>
                    <a:lnTo>
                      <a:pt x="157" y="157"/>
                    </a:lnTo>
                    <a:lnTo>
                      <a:pt x="143" y="160"/>
                    </a:lnTo>
                    <a:lnTo>
                      <a:pt x="138" y="151"/>
                    </a:lnTo>
                    <a:lnTo>
                      <a:pt x="132" y="144"/>
                    </a:lnTo>
                    <a:lnTo>
                      <a:pt x="125" y="138"/>
                    </a:lnTo>
                    <a:lnTo>
                      <a:pt x="118" y="133"/>
                    </a:lnTo>
                    <a:lnTo>
                      <a:pt x="110" y="128"/>
                    </a:lnTo>
                    <a:lnTo>
                      <a:pt x="102" y="123"/>
                    </a:lnTo>
                    <a:lnTo>
                      <a:pt x="94" y="118"/>
                    </a:lnTo>
                    <a:lnTo>
                      <a:pt x="87" y="111"/>
                    </a:lnTo>
                    <a:lnTo>
                      <a:pt x="74" y="101"/>
                    </a:lnTo>
                    <a:lnTo>
                      <a:pt x="57" y="94"/>
                    </a:lnTo>
                    <a:lnTo>
                      <a:pt x="40" y="88"/>
                    </a:lnTo>
                    <a:lnTo>
                      <a:pt x="24" y="82"/>
                    </a:lnTo>
                    <a:lnTo>
                      <a:pt x="10" y="74"/>
                    </a:lnTo>
                    <a:lnTo>
                      <a:pt x="2" y="63"/>
                    </a:lnTo>
                    <a:lnTo>
                      <a:pt x="0" y="46"/>
                    </a:lnTo>
                    <a:lnTo>
                      <a:pt x="7" y="24"/>
                    </a:lnTo>
                    <a:lnTo>
                      <a:pt x="10" y="21"/>
                    </a:lnTo>
                    <a:lnTo>
                      <a:pt x="11" y="18"/>
                    </a:lnTo>
                    <a:lnTo>
                      <a:pt x="10" y="13"/>
                    </a:lnTo>
                    <a:lnTo>
                      <a:pt x="10" y="10"/>
                    </a:lnTo>
                    <a:lnTo>
                      <a:pt x="19" y="10"/>
                    </a:lnTo>
                    <a:lnTo>
                      <a:pt x="29" y="9"/>
                    </a:lnTo>
                    <a:lnTo>
                      <a:pt x="35" y="6"/>
                    </a:lnTo>
                    <a:lnTo>
                      <a:pt x="40" y="0"/>
                    </a:lnTo>
                    <a:lnTo>
                      <a:pt x="81" y="4"/>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flipH="1" rot="20945400">
                <a:off x="1305000" y="3281400"/>
                <a:ext cx="1800" cy="9000"/>
              </a:xfrm>
              <a:custGeom>
                <a:avLst/>
                <a:gdLst/>
                <a:ahLst/>
                <a:rect l="l" t="t" r="r" b="b"/>
                <a:pathLst>
                  <a:path w="3" h="15">
                    <a:moveTo>
                      <a:pt x="3" y="0"/>
                    </a:moveTo>
                    <a:lnTo>
                      <a:pt x="3" y="4"/>
                    </a:lnTo>
                    <a:lnTo>
                      <a:pt x="3" y="8"/>
                    </a:lnTo>
                    <a:lnTo>
                      <a:pt x="2" y="12"/>
                    </a:lnTo>
                    <a:lnTo>
                      <a:pt x="0" y="15"/>
                    </a:lnTo>
                    <a:lnTo>
                      <a:pt x="0" y="0"/>
                    </a:lnTo>
                    <a:lnTo>
                      <a:pt x="3" y="0"/>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341" name=""/>
              <p:cNvSpPr/>
              <p:nvPr/>
            </p:nvSpPr>
            <p:spPr>
              <a:xfrm flipH="1" rot="20945400">
                <a:off x="1524600" y="3252240"/>
                <a:ext cx="32040" cy="21960"/>
              </a:xfrm>
              <a:custGeom>
                <a:avLst/>
                <a:gdLst/>
                <a:ahLst/>
                <a:rect l="l" t="t" r="r" b="b"/>
                <a:pathLst>
                  <a:path w="50" h="37">
                    <a:moveTo>
                      <a:pt x="50" y="10"/>
                    </a:moveTo>
                    <a:lnTo>
                      <a:pt x="50" y="19"/>
                    </a:lnTo>
                    <a:lnTo>
                      <a:pt x="45" y="27"/>
                    </a:lnTo>
                    <a:lnTo>
                      <a:pt x="38" y="33"/>
                    </a:lnTo>
                    <a:lnTo>
                      <a:pt x="30" y="37"/>
                    </a:lnTo>
                    <a:lnTo>
                      <a:pt x="26" y="35"/>
                    </a:lnTo>
                    <a:lnTo>
                      <a:pt x="22" y="34"/>
                    </a:lnTo>
                    <a:lnTo>
                      <a:pt x="17" y="33"/>
                    </a:lnTo>
                    <a:lnTo>
                      <a:pt x="13" y="32"/>
                    </a:lnTo>
                    <a:lnTo>
                      <a:pt x="9" y="31"/>
                    </a:lnTo>
                    <a:lnTo>
                      <a:pt x="5" y="29"/>
                    </a:lnTo>
                    <a:lnTo>
                      <a:pt x="2" y="26"/>
                    </a:lnTo>
                    <a:lnTo>
                      <a:pt x="0" y="20"/>
                    </a:lnTo>
                    <a:lnTo>
                      <a:pt x="4" y="17"/>
                    </a:lnTo>
                    <a:lnTo>
                      <a:pt x="4" y="20"/>
                    </a:lnTo>
                    <a:lnTo>
                      <a:pt x="10" y="27"/>
                    </a:lnTo>
                    <a:lnTo>
                      <a:pt x="18" y="30"/>
                    </a:lnTo>
                    <a:lnTo>
                      <a:pt x="26" y="27"/>
                    </a:lnTo>
                    <a:lnTo>
                      <a:pt x="29" y="18"/>
                    </a:lnTo>
                    <a:lnTo>
                      <a:pt x="30" y="9"/>
                    </a:lnTo>
                    <a:lnTo>
                      <a:pt x="33" y="2"/>
                    </a:lnTo>
                    <a:lnTo>
                      <a:pt x="43" y="0"/>
                    </a:lnTo>
                    <a:lnTo>
                      <a:pt x="47" y="1"/>
                    </a:lnTo>
                    <a:lnTo>
                      <a:pt x="49" y="3"/>
                    </a:lnTo>
                    <a:lnTo>
                      <a:pt x="50" y="6"/>
                    </a:lnTo>
                    <a:lnTo>
                      <a:pt x="50" y="1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42" name=""/>
              <p:cNvSpPr/>
              <p:nvPr/>
            </p:nvSpPr>
            <p:spPr>
              <a:xfrm flipH="1" rot="20945400">
                <a:off x="1327320" y="3296520"/>
                <a:ext cx="6120" cy="8640"/>
              </a:xfrm>
              <a:custGeom>
                <a:avLst/>
                <a:gdLst/>
                <a:ahLst/>
                <a:rect l="l" t="t" r="r" b="b"/>
                <a:pathLst>
                  <a:path w="10" h="14">
                    <a:moveTo>
                      <a:pt x="10" y="11"/>
                    </a:moveTo>
                    <a:lnTo>
                      <a:pt x="8" y="13"/>
                    </a:lnTo>
                    <a:lnTo>
                      <a:pt x="6" y="14"/>
                    </a:lnTo>
                    <a:lnTo>
                      <a:pt x="3" y="14"/>
                    </a:lnTo>
                    <a:lnTo>
                      <a:pt x="0" y="14"/>
                    </a:lnTo>
                    <a:lnTo>
                      <a:pt x="4" y="0"/>
                    </a:lnTo>
                    <a:lnTo>
                      <a:pt x="6" y="1"/>
                    </a:lnTo>
                    <a:lnTo>
                      <a:pt x="8" y="4"/>
                    </a:lnTo>
                    <a:lnTo>
                      <a:pt x="9" y="8"/>
                    </a:lnTo>
                    <a:lnTo>
                      <a:pt x="10" y="11"/>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343" name=""/>
              <p:cNvSpPr/>
              <p:nvPr/>
            </p:nvSpPr>
            <p:spPr>
              <a:xfrm flipH="1" rot="20945400">
                <a:off x="1542960" y="3304080"/>
                <a:ext cx="166680" cy="41400"/>
              </a:xfrm>
              <a:custGeom>
                <a:avLst/>
                <a:gdLst/>
                <a:ahLst/>
                <a:rect l="l" t="t" r="r" b="b"/>
                <a:pathLst>
                  <a:path w="260" h="70">
                    <a:moveTo>
                      <a:pt x="260" y="30"/>
                    </a:moveTo>
                    <a:lnTo>
                      <a:pt x="255" y="38"/>
                    </a:lnTo>
                    <a:lnTo>
                      <a:pt x="246" y="43"/>
                    </a:lnTo>
                    <a:lnTo>
                      <a:pt x="237" y="46"/>
                    </a:lnTo>
                    <a:lnTo>
                      <a:pt x="227" y="47"/>
                    </a:lnTo>
                    <a:lnTo>
                      <a:pt x="216" y="47"/>
                    </a:lnTo>
                    <a:lnTo>
                      <a:pt x="204" y="46"/>
                    </a:lnTo>
                    <a:lnTo>
                      <a:pt x="194" y="46"/>
                    </a:lnTo>
                    <a:lnTo>
                      <a:pt x="186" y="47"/>
                    </a:lnTo>
                    <a:lnTo>
                      <a:pt x="175" y="42"/>
                    </a:lnTo>
                    <a:lnTo>
                      <a:pt x="163" y="39"/>
                    </a:lnTo>
                    <a:lnTo>
                      <a:pt x="152" y="38"/>
                    </a:lnTo>
                    <a:lnTo>
                      <a:pt x="141" y="38"/>
                    </a:lnTo>
                    <a:lnTo>
                      <a:pt x="130" y="39"/>
                    </a:lnTo>
                    <a:lnTo>
                      <a:pt x="118" y="41"/>
                    </a:lnTo>
                    <a:lnTo>
                      <a:pt x="106" y="43"/>
                    </a:lnTo>
                    <a:lnTo>
                      <a:pt x="95" y="47"/>
                    </a:lnTo>
                    <a:lnTo>
                      <a:pt x="83" y="51"/>
                    </a:lnTo>
                    <a:lnTo>
                      <a:pt x="71" y="54"/>
                    </a:lnTo>
                    <a:lnTo>
                      <a:pt x="59" y="58"/>
                    </a:lnTo>
                    <a:lnTo>
                      <a:pt x="48" y="61"/>
                    </a:lnTo>
                    <a:lnTo>
                      <a:pt x="35" y="64"/>
                    </a:lnTo>
                    <a:lnTo>
                      <a:pt x="24" y="67"/>
                    </a:lnTo>
                    <a:lnTo>
                      <a:pt x="12" y="69"/>
                    </a:lnTo>
                    <a:lnTo>
                      <a:pt x="0" y="70"/>
                    </a:lnTo>
                    <a:lnTo>
                      <a:pt x="8" y="55"/>
                    </a:lnTo>
                    <a:lnTo>
                      <a:pt x="18" y="42"/>
                    </a:lnTo>
                    <a:lnTo>
                      <a:pt x="29" y="32"/>
                    </a:lnTo>
                    <a:lnTo>
                      <a:pt x="42" y="24"/>
                    </a:lnTo>
                    <a:lnTo>
                      <a:pt x="56" y="17"/>
                    </a:lnTo>
                    <a:lnTo>
                      <a:pt x="71" y="12"/>
                    </a:lnTo>
                    <a:lnTo>
                      <a:pt x="88" y="9"/>
                    </a:lnTo>
                    <a:lnTo>
                      <a:pt x="104" y="6"/>
                    </a:lnTo>
                    <a:lnTo>
                      <a:pt x="121" y="5"/>
                    </a:lnTo>
                    <a:lnTo>
                      <a:pt x="140" y="4"/>
                    </a:lnTo>
                    <a:lnTo>
                      <a:pt x="157" y="3"/>
                    </a:lnTo>
                    <a:lnTo>
                      <a:pt x="175" y="3"/>
                    </a:lnTo>
                    <a:lnTo>
                      <a:pt x="193" y="3"/>
                    </a:lnTo>
                    <a:lnTo>
                      <a:pt x="209" y="2"/>
                    </a:lnTo>
                    <a:lnTo>
                      <a:pt x="227" y="1"/>
                    </a:lnTo>
                    <a:lnTo>
                      <a:pt x="242" y="0"/>
                    </a:lnTo>
                    <a:lnTo>
                      <a:pt x="245" y="9"/>
                    </a:lnTo>
                    <a:lnTo>
                      <a:pt x="246" y="20"/>
                    </a:lnTo>
                    <a:lnTo>
                      <a:pt x="250" y="28"/>
                    </a:lnTo>
                    <a:lnTo>
                      <a:pt x="260" y="30"/>
                    </a:lnTo>
                    <a:close/>
                  </a:path>
                </a:pathLst>
              </a:custGeom>
              <a:solidFill>
                <a:srgbClr val="a8875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44" name=""/>
              <p:cNvSpPr/>
              <p:nvPr/>
            </p:nvSpPr>
            <p:spPr>
              <a:xfrm flipH="1" rot="20945400">
                <a:off x="1355400" y="3358080"/>
                <a:ext cx="19080" cy="16560"/>
              </a:xfrm>
              <a:custGeom>
                <a:avLst/>
                <a:gdLst/>
                <a:ahLst/>
                <a:rect l="l" t="t" r="r" b="b"/>
                <a:pathLst>
                  <a:path w="30" h="28">
                    <a:moveTo>
                      <a:pt x="30" y="17"/>
                    </a:moveTo>
                    <a:lnTo>
                      <a:pt x="30" y="21"/>
                    </a:lnTo>
                    <a:lnTo>
                      <a:pt x="29" y="24"/>
                    </a:lnTo>
                    <a:lnTo>
                      <a:pt x="26" y="27"/>
                    </a:lnTo>
                    <a:lnTo>
                      <a:pt x="23" y="27"/>
                    </a:lnTo>
                    <a:lnTo>
                      <a:pt x="15" y="28"/>
                    </a:lnTo>
                    <a:lnTo>
                      <a:pt x="10" y="24"/>
                    </a:lnTo>
                    <a:lnTo>
                      <a:pt x="5" y="19"/>
                    </a:lnTo>
                    <a:lnTo>
                      <a:pt x="0" y="14"/>
                    </a:lnTo>
                    <a:lnTo>
                      <a:pt x="0" y="1"/>
                    </a:lnTo>
                    <a:lnTo>
                      <a:pt x="10" y="0"/>
                    </a:lnTo>
                    <a:lnTo>
                      <a:pt x="18" y="3"/>
                    </a:lnTo>
                    <a:lnTo>
                      <a:pt x="24" y="9"/>
                    </a:lnTo>
                    <a:lnTo>
                      <a:pt x="30" y="17"/>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345" name=""/>
              <p:cNvSpPr/>
              <p:nvPr/>
            </p:nvSpPr>
            <p:spPr>
              <a:xfrm flipH="1" rot="20945400">
                <a:off x="1275840" y="3387960"/>
                <a:ext cx="22320" cy="14760"/>
              </a:xfrm>
              <a:custGeom>
                <a:avLst/>
                <a:gdLst/>
                <a:ahLst/>
                <a:rect l="l" t="t" r="r" b="b"/>
                <a:pathLst>
                  <a:path w="35" h="25">
                    <a:moveTo>
                      <a:pt x="35" y="20"/>
                    </a:moveTo>
                    <a:lnTo>
                      <a:pt x="28" y="25"/>
                    </a:lnTo>
                    <a:lnTo>
                      <a:pt x="21" y="23"/>
                    </a:lnTo>
                    <a:lnTo>
                      <a:pt x="12" y="18"/>
                    </a:lnTo>
                    <a:lnTo>
                      <a:pt x="5" y="12"/>
                    </a:lnTo>
                    <a:lnTo>
                      <a:pt x="1" y="9"/>
                    </a:lnTo>
                    <a:lnTo>
                      <a:pt x="0" y="7"/>
                    </a:lnTo>
                    <a:lnTo>
                      <a:pt x="0" y="4"/>
                    </a:lnTo>
                    <a:lnTo>
                      <a:pt x="1" y="0"/>
                    </a:lnTo>
                    <a:lnTo>
                      <a:pt x="6" y="1"/>
                    </a:lnTo>
                    <a:lnTo>
                      <a:pt x="11" y="2"/>
                    </a:lnTo>
                    <a:lnTo>
                      <a:pt x="16" y="3"/>
                    </a:lnTo>
                    <a:lnTo>
                      <a:pt x="21" y="4"/>
                    </a:lnTo>
                    <a:lnTo>
                      <a:pt x="26" y="6"/>
                    </a:lnTo>
                    <a:lnTo>
                      <a:pt x="30" y="9"/>
                    </a:lnTo>
                    <a:lnTo>
                      <a:pt x="34" y="13"/>
                    </a:lnTo>
                    <a:lnTo>
                      <a:pt x="35" y="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346" name=""/>
              <p:cNvSpPr/>
              <p:nvPr/>
            </p:nvSpPr>
            <p:spPr>
              <a:xfrm flipH="1" rot="20945400">
                <a:off x="1408320" y="3383640"/>
                <a:ext cx="9000" cy="19440"/>
              </a:xfrm>
              <a:custGeom>
                <a:avLst/>
                <a:gdLst/>
                <a:ahLst/>
                <a:rect l="l" t="t" r="r" b="b"/>
                <a:pathLst>
                  <a:path w="14" h="33">
                    <a:moveTo>
                      <a:pt x="14" y="23"/>
                    </a:moveTo>
                    <a:lnTo>
                      <a:pt x="1" y="33"/>
                    </a:lnTo>
                    <a:lnTo>
                      <a:pt x="0" y="25"/>
                    </a:lnTo>
                    <a:lnTo>
                      <a:pt x="4" y="18"/>
                    </a:lnTo>
                    <a:lnTo>
                      <a:pt x="8" y="9"/>
                    </a:lnTo>
                    <a:lnTo>
                      <a:pt x="4" y="0"/>
                    </a:lnTo>
                    <a:lnTo>
                      <a:pt x="10" y="3"/>
                    </a:lnTo>
                    <a:lnTo>
                      <a:pt x="11" y="10"/>
                    </a:lnTo>
                    <a:lnTo>
                      <a:pt x="11" y="17"/>
                    </a:lnTo>
                    <a:lnTo>
                      <a:pt x="14" y="23"/>
                    </a:lnTo>
                    <a:close/>
                  </a:path>
                </a:pathLst>
              </a:custGeom>
              <a:solidFill>
                <a:srgbClr val="d8aad6"/>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347" name=""/>
              <p:cNvSpPr/>
              <p:nvPr/>
            </p:nvSpPr>
            <p:spPr>
              <a:xfrm flipH="1" rot="20945400">
                <a:off x="1354680" y="3394440"/>
                <a:ext cx="6120" cy="5760"/>
              </a:xfrm>
              <a:custGeom>
                <a:avLst/>
                <a:gdLst/>
                <a:ahLst/>
                <a:rect l="l" t="t" r="r" b="b"/>
                <a:pathLst>
                  <a:path w="10" h="10">
                    <a:moveTo>
                      <a:pt x="10" y="7"/>
                    </a:moveTo>
                    <a:lnTo>
                      <a:pt x="10" y="10"/>
                    </a:lnTo>
                    <a:lnTo>
                      <a:pt x="5" y="10"/>
                    </a:lnTo>
                    <a:lnTo>
                      <a:pt x="2" y="8"/>
                    </a:lnTo>
                    <a:lnTo>
                      <a:pt x="0" y="5"/>
                    </a:lnTo>
                    <a:lnTo>
                      <a:pt x="0" y="0"/>
                    </a:lnTo>
                    <a:lnTo>
                      <a:pt x="3" y="0"/>
                    </a:lnTo>
                    <a:lnTo>
                      <a:pt x="5" y="2"/>
                    </a:lnTo>
                    <a:lnTo>
                      <a:pt x="7" y="4"/>
                    </a:lnTo>
                    <a:lnTo>
                      <a:pt x="10" y="7"/>
                    </a:lnTo>
                    <a:close/>
                  </a:path>
                </a:pathLst>
              </a:custGeom>
              <a:solidFill>
                <a:srgbClr val="d8aad6"/>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348" name=""/>
              <p:cNvSpPr/>
              <p:nvPr/>
            </p:nvSpPr>
            <p:spPr>
              <a:xfrm flipH="1" rot="20945400">
                <a:off x="1321560" y="3402360"/>
                <a:ext cx="10800" cy="13320"/>
              </a:xfrm>
              <a:custGeom>
                <a:avLst/>
                <a:gdLst/>
                <a:ahLst/>
                <a:rect l="l" t="t" r="r" b="b"/>
                <a:pathLst>
                  <a:path w="17" h="23">
                    <a:moveTo>
                      <a:pt x="16" y="10"/>
                    </a:moveTo>
                    <a:lnTo>
                      <a:pt x="17" y="17"/>
                    </a:lnTo>
                    <a:lnTo>
                      <a:pt x="13" y="19"/>
                    </a:lnTo>
                    <a:lnTo>
                      <a:pt x="8" y="20"/>
                    </a:lnTo>
                    <a:lnTo>
                      <a:pt x="3" y="23"/>
                    </a:lnTo>
                    <a:lnTo>
                      <a:pt x="0" y="0"/>
                    </a:lnTo>
                    <a:lnTo>
                      <a:pt x="5" y="0"/>
                    </a:lnTo>
                    <a:lnTo>
                      <a:pt x="9" y="3"/>
                    </a:lnTo>
                    <a:lnTo>
                      <a:pt x="12" y="7"/>
                    </a:lnTo>
                    <a:lnTo>
                      <a:pt x="16" y="10"/>
                    </a:lnTo>
                    <a:close/>
                  </a:path>
                </a:pathLst>
              </a:custGeom>
              <a:solidFill>
                <a:srgbClr val="d8aad6"/>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349" name=""/>
              <p:cNvSpPr/>
              <p:nvPr/>
            </p:nvSpPr>
            <p:spPr>
              <a:xfrm flipH="1" rot="20945400">
                <a:off x="1268280" y="3412800"/>
                <a:ext cx="6120" cy="10440"/>
              </a:xfrm>
              <a:custGeom>
                <a:avLst/>
                <a:gdLst/>
                <a:ahLst/>
                <a:rect l="l" t="t" r="r" b="b"/>
                <a:pathLst>
                  <a:path w="10" h="17">
                    <a:moveTo>
                      <a:pt x="10" y="17"/>
                    </a:moveTo>
                    <a:lnTo>
                      <a:pt x="7" y="17"/>
                    </a:lnTo>
                    <a:lnTo>
                      <a:pt x="5" y="15"/>
                    </a:lnTo>
                    <a:lnTo>
                      <a:pt x="3" y="12"/>
                    </a:lnTo>
                    <a:lnTo>
                      <a:pt x="0" y="10"/>
                    </a:lnTo>
                    <a:lnTo>
                      <a:pt x="7" y="0"/>
                    </a:lnTo>
                    <a:lnTo>
                      <a:pt x="9" y="3"/>
                    </a:lnTo>
                    <a:lnTo>
                      <a:pt x="10" y="8"/>
                    </a:lnTo>
                    <a:lnTo>
                      <a:pt x="10" y="12"/>
                    </a:lnTo>
                    <a:lnTo>
                      <a:pt x="10" y="17"/>
                    </a:lnTo>
                    <a:close/>
                  </a:path>
                </a:pathLst>
              </a:custGeom>
              <a:solidFill>
                <a:srgbClr val="d8aad6"/>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350" name=""/>
              <p:cNvSpPr/>
              <p:nvPr/>
            </p:nvSpPr>
            <p:spPr>
              <a:xfrm flipH="1" rot="20945400">
                <a:off x="1302120" y="3410280"/>
                <a:ext cx="6120" cy="11880"/>
              </a:xfrm>
              <a:custGeom>
                <a:avLst/>
                <a:gdLst/>
                <a:ahLst/>
                <a:rect l="l" t="t" r="r" b="b"/>
                <a:pathLst>
                  <a:path w="10" h="20">
                    <a:moveTo>
                      <a:pt x="10" y="3"/>
                    </a:moveTo>
                    <a:lnTo>
                      <a:pt x="9" y="8"/>
                    </a:lnTo>
                    <a:lnTo>
                      <a:pt x="8" y="14"/>
                    </a:lnTo>
                    <a:lnTo>
                      <a:pt x="6" y="20"/>
                    </a:lnTo>
                    <a:lnTo>
                      <a:pt x="0" y="20"/>
                    </a:lnTo>
                    <a:lnTo>
                      <a:pt x="0" y="0"/>
                    </a:lnTo>
                    <a:lnTo>
                      <a:pt x="10" y="3"/>
                    </a:lnTo>
                    <a:close/>
                  </a:path>
                </a:pathLst>
              </a:custGeom>
              <a:solidFill>
                <a:srgbClr val="d8aad6"/>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351" name=""/>
              <p:cNvSpPr/>
              <p:nvPr/>
            </p:nvSpPr>
            <p:spPr>
              <a:xfrm flipH="1" rot="20945400">
                <a:off x="1374480" y="3400200"/>
                <a:ext cx="2520" cy="5760"/>
              </a:xfrm>
              <a:prstGeom prst="rect">
                <a:avLst/>
              </a:pr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352" name=""/>
              <p:cNvSpPr/>
              <p:nvPr/>
            </p:nvSpPr>
            <p:spPr>
              <a:xfrm flipH="1" rot="20945400">
                <a:off x="1289160" y="3422160"/>
                <a:ext cx="9720" cy="8280"/>
              </a:xfrm>
              <a:custGeom>
                <a:avLst/>
                <a:gdLst/>
                <a:ahLst/>
                <a:rect l="l" t="t" r="r" b="b"/>
                <a:pathLst>
                  <a:path w="16" h="14">
                    <a:moveTo>
                      <a:pt x="16" y="11"/>
                    </a:moveTo>
                    <a:lnTo>
                      <a:pt x="14" y="13"/>
                    </a:lnTo>
                    <a:lnTo>
                      <a:pt x="11" y="14"/>
                    </a:lnTo>
                    <a:lnTo>
                      <a:pt x="9" y="14"/>
                    </a:lnTo>
                    <a:lnTo>
                      <a:pt x="6" y="14"/>
                    </a:lnTo>
                    <a:lnTo>
                      <a:pt x="3" y="11"/>
                    </a:lnTo>
                    <a:lnTo>
                      <a:pt x="0" y="8"/>
                    </a:lnTo>
                    <a:lnTo>
                      <a:pt x="0" y="4"/>
                    </a:lnTo>
                    <a:lnTo>
                      <a:pt x="3" y="0"/>
                    </a:lnTo>
                    <a:lnTo>
                      <a:pt x="6" y="3"/>
                    </a:lnTo>
                    <a:lnTo>
                      <a:pt x="10" y="5"/>
                    </a:lnTo>
                    <a:lnTo>
                      <a:pt x="13" y="7"/>
                    </a:lnTo>
                    <a:lnTo>
                      <a:pt x="16" y="11"/>
                    </a:lnTo>
                    <a:close/>
                  </a:path>
                </a:pathLst>
              </a:custGeom>
              <a:solidFill>
                <a:srgbClr val="d8aad6"/>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53" name=""/>
              <p:cNvSpPr/>
              <p:nvPr/>
            </p:nvSpPr>
            <p:spPr>
              <a:xfrm flipH="1" rot="20945400">
                <a:off x="1350000" y="3414600"/>
                <a:ext cx="8280" cy="7560"/>
              </a:xfrm>
              <a:custGeom>
                <a:avLst/>
                <a:gdLst/>
                <a:ahLst/>
                <a:rect l="l" t="t" r="r" b="b"/>
                <a:pathLst>
                  <a:path w="13" h="13">
                    <a:moveTo>
                      <a:pt x="13" y="13"/>
                    </a:moveTo>
                    <a:lnTo>
                      <a:pt x="0" y="0"/>
                    </a:lnTo>
                    <a:lnTo>
                      <a:pt x="13" y="0"/>
                    </a:lnTo>
                    <a:lnTo>
                      <a:pt x="13" y="13"/>
                    </a:lnTo>
                    <a:close/>
                  </a:path>
                </a:pathLst>
              </a:custGeom>
              <a:solidFill>
                <a:srgbClr val="d8aad6"/>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354" name=""/>
              <p:cNvSpPr/>
              <p:nvPr/>
            </p:nvSpPr>
            <p:spPr>
              <a:xfrm flipH="1" rot="20945400">
                <a:off x="1366200" y="3416760"/>
                <a:ext cx="19080" cy="13680"/>
              </a:xfrm>
              <a:custGeom>
                <a:avLst/>
                <a:gdLst/>
                <a:ahLst/>
                <a:rect l="l" t="t" r="r" b="b"/>
                <a:pathLst>
                  <a:path w="30" h="23">
                    <a:moveTo>
                      <a:pt x="30" y="13"/>
                    </a:moveTo>
                    <a:lnTo>
                      <a:pt x="10" y="23"/>
                    </a:lnTo>
                    <a:lnTo>
                      <a:pt x="8" y="20"/>
                    </a:lnTo>
                    <a:lnTo>
                      <a:pt x="2" y="14"/>
                    </a:lnTo>
                    <a:lnTo>
                      <a:pt x="0" y="7"/>
                    </a:lnTo>
                    <a:lnTo>
                      <a:pt x="6" y="0"/>
                    </a:lnTo>
                    <a:lnTo>
                      <a:pt x="13" y="1"/>
                    </a:lnTo>
                    <a:lnTo>
                      <a:pt x="19" y="4"/>
                    </a:lnTo>
                    <a:lnTo>
                      <a:pt x="24" y="8"/>
                    </a:lnTo>
                    <a:lnTo>
                      <a:pt x="30" y="13"/>
                    </a:lnTo>
                    <a:close/>
                  </a:path>
                </a:pathLst>
              </a:custGeom>
              <a:solidFill>
                <a:srgbClr val="d8aad6"/>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355" name=""/>
              <p:cNvSpPr/>
              <p:nvPr/>
            </p:nvSpPr>
            <p:spPr>
              <a:xfrm flipH="1" rot="20945400">
                <a:off x="1261080" y="3439800"/>
                <a:ext cx="11880" cy="7920"/>
              </a:xfrm>
              <a:custGeom>
                <a:avLst/>
                <a:gdLst/>
                <a:ahLst/>
                <a:rect l="l" t="t" r="r" b="b"/>
                <a:pathLst>
                  <a:path w="19" h="14">
                    <a:moveTo>
                      <a:pt x="19" y="14"/>
                    </a:moveTo>
                    <a:lnTo>
                      <a:pt x="0" y="14"/>
                    </a:lnTo>
                    <a:lnTo>
                      <a:pt x="6" y="0"/>
                    </a:lnTo>
                    <a:lnTo>
                      <a:pt x="10" y="3"/>
                    </a:lnTo>
                    <a:lnTo>
                      <a:pt x="16" y="5"/>
                    </a:lnTo>
                    <a:lnTo>
                      <a:pt x="19" y="8"/>
                    </a:lnTo>
                    <a:lnTo>
                      <a:pt x="19" y="14"/>
                    </a:lnTo>
                    <a:close/>
                  </a:path>
                </a:pathLst>
              </a:custGeom>
              <a:solidFill>
                <a:srgbClr val="d8aad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6" name=""/>
              <p:cNvSpPr/>
              <p:nvPr/>
            </p:nvSpPr>
            <p:spPr>
              <a:xfrm flipH="1" rot="20945400">
                <a:off x="1237680" y="3448080"/>
                <a:ext cx="16560" cy="7200"/>
              </a:xfrm>
              <a:custGeom>
                <a:avLst/>
                <a:gdLst/>
                <a:ahLst/>
                <a:rect l="l" t="t" r="r" b="b"/>
                <a:pathLst>
                  <a:path w="26" h="13">
                    <a:moveTo>
                      <a:pt x="0" y="13"/>
                    </a:moveTo>
                    <a:lnTo>
                      <a:pt x="0" y="9"/>
                    </a:lnTo>
                    <a:lnTo>
                      <a:pt x="6" y="9"/>
                    </a:lnTo>
                    <a:lnTo>
                      <a:pt x="13" y="9"/>
                    </a:lnTo>
                    <a:lnTo>
                      <a:pt x="21" y="6"/>
                    </a:lnTo>
                    <a:lnTo>
                      <a:pt x="26" y="0"/>
                    </a:lnTo>
                    <a:lnTo>
                      <a:pt x="24" y="3"/>
                    </a:lnTo>
                    <a:lnTo>
                      <a:pt x="17" y="7"/>
                    </a:lnTo>
                    <a:lnTo>
                      <a:pt x="8" y="11"/>
                    </a:lnTo>
                    <a:lnTo>
                      <a:pt x="0" y="13"/>
                    </a:lnTo>
                    <a:close/>
                  </a:path>
                </a:pathLst>
              </a:custGeom>
              <a:solidFill>
                <a:srgbClr val="d8aad6"/>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357" name=""/>
              <p:cNvSpPr/>
              <p:nvPr/>
            </p:nvSpPr>
            <p:spPr>
              <a:xfrm flipH="1" rot="20945400">
                <a:off x="1388160" y="3421080"/>
                <a:ext cx="10800" cy="10080"/>
              </a:xfrm>
              <a:custGeom>
                <a:avLst/>
                <a:gdLst/>
                <a:ahLst/>
                <a:rect l="l" t="t" r="r" b="b"/>
                <a:pathLst>
                  <a:path w="17" h="18">
                    <a:moveTo>
                      <a:pt x="17" y="10"/>
                    </a:moveTo>
                    <a:lnTo>
                      <a:pt x="17" y="18"/>
                    </a:lnTo>
                    <a:lnTo>
                      <a:pt x="12" y="14"/>
                    </a:lnTo>
                    <a:lnTo>
                      <a:pt x="8" y="11"/>
                    </a:lnTo>
                    <a:lnTo>
                      <a:pt x="5" y="8"/>
                    </a:lnTo>
                    <a:lnTo>
                      <a:pt x="0" y="4"/>
                    </a:lnTo>
                    <a:lnTo>
                      <a:pt x="5" y="0"/>
                    </a:lnTo>
                    <a:lnTo>
                      <a:pt x="9" y="2"/>
                    </a:lnTo>
                    <a:lnTo>
                      <a:pt x="13" y="7"/>
                    </a:lnTo>
                    <a:lnTo>
                      <a:pt x="17" y="10"/>
                    </a:lnTo>
                    <a:close/>
                  </a:path>
                </a:pathLst>
              </a:custGeom>
              <a:solidFill>
                <a:srgbClr val="d8aad6"/>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358" name=""/>
              <p:cNvSpPr/>
              <p:nvPr/>
            </p:nvSpPr>
            <p:spPr>
              <a:xfrm flipH="1" rot="20945400">
                <a:off x="1314000" y="3435480"/>
                <a:ext cx="12600" cy="12240"/>
              </a:xfrm>
              <a:custGeom>
                <a:avLst/>
                <a:gdLst/>
                <a:ahLst/>
                <a:rect l="l" t="t" r="r" b="b"/>
                <a:pathLst>
                  <a:path w="20" h="21">
                    <a:moveTo>
                      <a:pt x="20" y="6"/>
                    </a:moveTo>
                    <a:lnTo>
                      <a:pt x="10" y="13"/>
                    </a:lnTo>
                    <a:lnTo>
                      <a:pt x="16" y="21"/>
                    </a:lnTo>
                    <a:lnTo>
                      <a:pt x="0" y="21"/>
                    </a:lnTo>
                    <a:lnTo>
                      <a:pt x="3" y="0"/>
                    </a:lnTo>
                    <a:lnTo>
                      <a:pt x="7" y="2"/>
                    </a:lnTo>
                    <a:lnTo>
                      <a:pt x="11" y="3"/>
                    </a:lnTo>
                    <a:lnTo>
                      <a:pt x="16" y="4"/>
                    </a:lnTo>
                    <a:lnTo>
                      <a:pt x="20" y="6"/>
                    </a:lnTo>
                    <a:close/>
                  </a:path>
                </a:pathLst>
              </a:custGeom>
              <a:solidFill>
                <a:srgbClr val="d8aad6"/>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359" name=""/>
              <p:cNvSpPr/>
              <p:nvPr/>
            </p:nvSpPr>
            <p:spPr>
              <a:xfrm flipH="1" rot="20945400">
                <a:off x="1279440" y="3441600"/>
                <a:ext cx="18360" cy="14760"/>
              </a:xfrm>
              <a:custGeom>
                <a:avLst/>
                <a:gdLst/>
                <a:ahLst/>
                <a:rect l="l" t="t" r="r" b="b"/>
                <a:pathLst>
                  <a:path w="29" h="25">
                    <a:moveTo>
                      <a:pt x="27" y="24"/>
                    </a:moveTo>
                    <a:lnTo>
                      <a:pt x="19" y="25"/>
                    </a:lnTo>
                    <a:lnTo>
                      <a:pt x="12" y="22"/>
                    </a:lnTo>
                    <a:lnTo>
                      <a:pt x="6" y="17"/>
                    </a:lnTo>
                    <a:lnTo>
                      <a:pt x="0" y="10"/>
                    </a:lnTo>
                    <a:lnTo>
                      <a:pt x="4" y="0"/>
                    </a:lnTo>
                    <a:lnTo>
                      <a:pt x="8" y="3"/>
                    </a:lnTo>
                    <a:lnTo>
                      <a:pt x="13" y="5"/>
                    </a:lnTo>
                    <a:lnTo>
                      <a:pt x="18" y="6"/>
                    </a:lnTo>
                    <a:lnTo>
                      <a:pt x="23" y="8"/>
                    </a:lnTo>
                    <a:lnTo>
                      <a:pt x="26" y="10"/>
                    </a:lnTo>
                    <a:lnTo>
                      <a:pt x="29" y="13"/>
                    </a:lnTo>
                    <a:lnTo>
                      <a:pt x="29" y="18"/>
                    </a:lnTo>
                    <a:lnTo>
                      <a:pt x="27" y="24"/>
                    </a:lnTo>
                    <a:close/>
                  </a:path>
                </a:pathLst>
              </a:custGeom>
              <a:solidFill>
                <a:srgbClr val="d8aad6"/>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360" name=""/>
              <p:cNvSpPr/>
              <p:nvPr/>
            </p:nvSpPr>
            <p:spPr>
              <a:xfrm flipH="1" rot="20945400">
                <a:off x="1222200" y="3456360"/>
                <a:ext cx="17280" cy="14760"/>
              </a:xfrm>
              <a:custGeom>
                <a:avLst/>
                <a:gdLst/>
                <a:ahLst/>
                <a:rect l="l" t="t" r="r" b="b"/>
                <a:pathLst>
                  <a:path w="27" h="25">
                    <a:moveTo>
                      <a:pt x="27" y="15"/>
                    </a:moveTo>
                    <a:lnTo>
                      <a:pt x="21" y="18"/>
                    </a:lnTo>
                    <a:lnTo>
                      <a:pt x="16" y="22"/>
                    </a:lnTo>
                    <a:lnTo>
                      <a:pt x="10" y="25"/>
                    </a:lnTo>
                    <a:lnTo>
                      <a:pt x="3" y="21"/>
                    </a:lnTo>
                    <a:lnTo>
                      <a:pt x="1" y="18"/>
                    </a:lnTo>
                    <a:lnTo>
                      <a:pt x="0" y="14"/>
                    </a:lnTo>
                    <a:lnTo>
                      <a:pt x="0" y="9"/>
                    </a:lnTo>
                    <a:lnTo>
                      <a:pt x="0" y="4"/>
                    </a:lnTo>
                    <a:lnTo>
                      <a:pt x="9" y="0"/>
                    </a:lnTo>
                    <a:lnTo>
                      <a:pt x="17" y="1"/>
                    </a:lnTo>
                    <a:lnTo>
                      <a:pt x="23" y="6"/>
                    </a:lnTo>
                    <a:lnTo>
                      <a:pt x="27" y="15"/>
                    </a:lnTo>
                    <a:close/>
                  </a:path>
                </a:pathLst>
              </a:custGeom>
              <a:solidFill>
                <a:srgbClr val="d8aad6"/>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361" name=""/>
              <p:cNvSpPr/>
              <p:nvPr/>
            </p:nvSpPr>
            <p:spPr>
              <a:xfrm flipH="1" rot="20945400">
                <a:off x="1164240" y="3475800"/>
                <a:ext cx="7560" cy="22320"/>
              </a:xfrm>
              <a:custGeom>
                <a:avLst/>
                <a:gdLst/>
                <a:ahLst/>
                <a:rect l="l" t="t" r="r" b="b"/>
                <a:pathLst>
                  <a:path w="12" h="38">
                    <a:moveTo>
                      <a:pt x="12" y="38"/>
                    </a:moveTo>
                    <a:lnTo>
                      <a:pt x="0" y="35"/>
                    </a:lnTo>
                    <a:lnTo>
                      <a:pt x="0" y="24"/>
                    </a:lnTo>
                    <a:lnTo>
                      <a:pt x="4" y="11"/>
                    </a:lnTo>
                    <a:lnTo>
                      <a:pt x="9" y="0"/>
                    </a:lnTo>
                    <a:lnTo>
                      <a:pt x="12"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62" name=""/>
              <p:cNvSpPr/>
              <p:nvPr/>
            </p:nvSpPr>
            <p:spPr>
              <a:xfrm flipH="1" rot="20945400">
                <a:off x="1248480" y="3460680"/>
                <a:ext cx="16560" cy="9000"/>
              </a:xfrm>
              <a:custGeom>
                <a:avLst/>
                <a:gdLst/>
                <a:ahLst/>
                <a:rect l="l" t="t" r="r" b="b"/>
                <a:pathLst>
                  <a:path w="26" h="16">
                    <a:moveTo>
                      <a:pt x="25" y="13"/>
                    </a:moveTo>
                    <a:lnTo>
                      <a:pt x="20" y="15"/>
                    </a:lnTo>
                    <a:lnTo>
                      <a:pt x="15" y="16"/>
                    </a:lnTo>
                    <a:lnTo>
                      <a:pt x="8" y="16"/>
                    </a:lnTo>
                    <a:lnTo>
                      <a:pt x="1" y="16"/>
                    </a:lnTo>
                    <a:lnTo>
                      <a:pt x="0" y="10"/>
                    </a:lnTo>
                    <a:lnTo>
                      <a:pt x="6" y="6"/>
                    </a:lnTo>
                    <a:lnTo>
                      <a:pt x="13" y="4"/>
                    </a:lnTo>
                    <a:lnTo>
                      <a:pt x="18" y="0"/>
                    </a:lnTo>
                    <a:lnTo>
                      <a:pt x="21" y="3"/>
                    </a:lnTo>
                    <a:lnTo>
                      <a:pt x="24" y="6"/>
                    </a:lnTo>
                    <a:lnTo>
                      <a:pt x="26" y="9"/>
                    </a:lnTo>
                    <a:lnTo>
                      <a:pt x="25" y="13"/>
                    </a:lnTo>
                    <a:close/>
                  </a:path>
                </a:pathLst>
              </a:custGeom>
              <a:solidFill>
                <a:srgbClr val="d8aad6"/>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363" name=""/>
              <p:cNvSpPr/>
              <p:nvPr/>
            </p:nvSpPr>
            <p:spPr>
              <a:xfrm flipH="1" rot="20945400">
                <a:off x="1336320" y="3451680"/>
                <a:ext cx="10800" cy="10800"/>
              </a:xfrm>
              <a:custGeom>
                <a:avLst/>
                <a:gdLst/>
                <a:ahLst/>
                <a:rect l="l" t="t" r="r" b="b"/>
                <a:pathLst>
                  <a:path w="17" h="19">
                    <a:moveTo>
                      <a:pt x="17" y="19"/>
                    </a:moveTo>
                    <a:lnTo>
                      <a:pt x="14" y="19"/>
                    </a:lnTo>
                    <a:lnTo>
                      <a:pt x="11" y="18"/>
                    </a:lnTo>
                    <a:lnTo>
                      <a:pt x="6" y="14"/>
                    </a:lnTo>
                    <a:lnTo>
                      <a:pt x="0" y="9"/>
                    </a:lnTo>
                    <a:lnTo>
                      <a:pt x="8" y="0"/>
                    </a:lnTo>
                    <a:lnTo>
                      <a:pt x="7" y="3"/>
                    </a:lnTo>
                    <a:lnTo>
                      <a:pt x="9" y="8"/>
                    </a:lnTo>
                    <a:lnTo>
                      <a:pt x="12" y="14"/>
                    </a:lnTo>
                    <a:lnTo>
                      <a:pt x="17" y="19"/>
                    </a:lnTo>
                    <a:close/>
                  </a:path>
                </a:pathLst>
              </a:custGeom>
              <a:solidFill>
                <a:srgbClr val="d8aad6"/>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64" name=""/>
              <p:cNvSpPr/>
              <p:nvPr/>
            </p:nvSpPr>
            <p:spPr>
              <a:xfrm flipH="1" rot="20945400">
                <a:off x="1310760" y="3458880"/>
                <a:ext cx="6120" cy="3240"/>
              </a:xfrm>
              <a:custGeom>
                <a:avLst/>
                <a:gdLst/>
                <a:ahLst/>
                <a:rect l="l" t="t" r="r" b="b"/>
                <a:pathLst>
                  <a:path w="10" h="6">
                    <a:moveTo>
                      <a:pt x="7" y="0"/>
                    </a:moveTo>
                    <a:lnTo>
                      <a:pt x="7" y="2"/>
                    </a:lnTo>
                    <a:lnTo>
                      <a:pt x="7" y="4"/>
                    </a:lnTo>
                    <a:lnTo>
                      <a:pt x="9" y="5"/>
                    </a:lnTo>
                    <a:lnTo>
                      <a:pt x="10" y="6"/>
                    </a:lnTo>
                    <a:lnTo>
                      <a:pt x="0" y="0"/>
                    </a:lnTo>
                    <a:lnTo>
                      <a:pt x="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65" name=""/>
              <p:cNvSpPr/>
              <p:nvPr/>
            </p:nvSpPr>
            <p:spPr>
              <a:xfrm flipH="1" rot="20945400">
                <a:off x="1296360" y="3461040"/>
                <a:ext cx="10800" cy="7200"/>
              </a:xfrm>
              <a:custGeom>
                <a:avLst/>
                <a:gdLst/>
                <a:ahLst/>
                <a:rect l="l" t="t" r="r" b="b"/>
                <a:pathLst>
                  <a:path w="17" h="13">
                    <a:moveTo>
                      <a:pt x="17" y="3"/>
                    </a:moveTo>
                    <a:lnTo>
                      <a:pt x="17" y="6"/>
                    </a:lnTo>
                    <a:lnTo>
                      <a:pt x="15" y="9"/>
                    </a:lnTo>
                    <a:lnTo>
                      <a:pt x="13" y="11"/>
                    </a:lnTo>
                    <a:lnTo>
                      <a:pt x="10" y="13"/>
                    </a:lnTo>
                    <a:lnTo>
                      <a:pt x="0" y="0"/>
                    </a:lnTo>
                    <a:lnTo>
                      <a:pt x="5" y="0"/>
                    </a:lnTo>
                    <a:lnTo>
                      <a:pt x="10" y="0"/>
                    </a:lnTo>
                    <a:lnTo>
                      <a:pt x="14" y="0"/>
                    </a:lnTo>
                    <a:lnTo>
                      <a:pt x="17" y="3"/>
                    </a:lnTo>
                    <a:close/>
                  </a:path>
                </a:pathLst>
              </a:custGeom>
              <a:solidFill>
                <a:srgbClr val="d8aad6"/>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366" name=""/>
              <p:cNvSpPr/>
              <p:nvPr/>
            </p:nvSpPr>
            <p:spPr>
              <a:xfrm flipH="1" rot="20945400">
                <a:off x="1218600" y="3476160"/>
                <a:ext cx="8280" cy="9360"/>
              </a:xfrm>
              <a:custGeom>
                <a:avLst/>
                <a:gdLst/>
                <a:ahLst/>
                <a:rect l="l" t="t" r="r" b="b"/>
                <a:pathLst>
                  <a:path w="13" h="16">
                    <a:moveTo>
                      <a:pt x="13" y="6"/>
                    </a:moveTo>
                    <a:lnTo>
                      <a:pt x="13" y="16"/>
                    </a:lnTo>
                    <a:lnTo>
                      <a:pt x="0" y="16"/>
                    </a:lnTo>
                    <a:lnTo>
                      <a:pt x="0" y="0"/>
                    </a:lnTo>
                    <a:lnTo>
                      <a:pt x="4" y="1"/>
                    </a:lnTo>
                    <a:lnTo>
                      <a:pt x="7" y="2"/>
                    </a:lnTo>
                    <a:lnTo>
                      <a:pt x="10" y="4"/>
                    </a:lnTo>
                    <a:lnTo>
                      <a:pt x="13" y="6"/>
                    </a:lnTo>
                    <a:close/>
                  </a:path>
                </a:pathLst>
              </a:custGeom>
              <a:solidFill>
                <a:srgbClr val="d8aad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7" name=""/>
              <p:cNvSpPr/>
              <p:nvPr/>
            </p:nvSpPr>
            <p:spPr>
              <a:xfrm flipH="1" rot="20945400">
                <a:off x="1260720" y="3477960"/>
                <a:ext cx="23040" cy="10800"/>
              </a:xfrm>
              <a:custGeom>
                <a:avLst/>
                <a:gdLst/>
                <a:ahLst/>
                <a:rect l="l" t="t" r="r" b="b"/>
                <a:pathLst>
                  <a:path w="36" h="18">
                    <a:moveTo>
                      <a:pt x="36" y="12"/>
                    </a:moveTo>
                    <a:lnTo>
                      <a:pt x="30" y="16"/>
                    </a:lnTo>
                    <a:lnTo>
                      <a:pt x="22" y="18"/>
                    </a:lnTo>
                    <a:lnTo>
                      <a:pt x="14" y="18"/>
                    </a:lnTo>
                    <a:lnTo>
                      <a:pt x="6" y="18"/>
                    </a:lnTo>
                    <a:lnTo>
                      <a:pt x="6" y="15"/>
                    </a:lnTo>
                    <a:lnTo>
                      <a:pt x="5" y="13"/>
                    </a:lnTo>
                    <a:lnTo>
                      <a:pt x="2" y="11"/>
                    </a:lnTo>
                    <a:lnTo>
                      <a:pt x="0" y="9"/>
                    </a:lnTo>
                    <a:lnTo>
                      <a:pt x="4" y="5"/>
                    </a:lnTo>
                    <a:lnTo>
                      <a:pt x="8" y="3"/>
                    </a:lnTo>
                    <a:lnTo>
                      <a:pt x="13" y="1"/>
                    </a:lnTo>
                    <a:lnTo>
                      <a:pt x="18" y="0"/>
                    </a:lnTo>
                    <a:lnTo>
                      <a:pt x="23" y="1"/>
                    </a:lnTo>
                    <a:lnTo>
                      <a:pt x="29" y="3"/>
                    </a:lnTo>
                    <a:lnTo>
                      <a:pt x="33" y="6"/>
                    </a:lnTo>
                    <a:lnTo>
                      <a:pt x="36" y="12"/>
                    </a:lnTo>
                    <a:close/>
                  </a:path>
                </a:pathLst>
              </a:custGeom>
              <a:solidFill>
                <a:srgbClr val="d8aad6"/>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68" name=""/>
              <p:cNvSpPr/>
              <p:nvPr/>
            </p:nvSpPr>
            <p:spPr>
              <a:xfrm flipH="1" rot="20945400">
                <a:off x="1225440" y="3496320"/>
                <a:ext cx="5760" cy="12960"/>
              </a:xfrm>
              <a:custGeom>
                <a:avLst/>
                <a:gdLst/>
                <a:ahLst/>
                <a:rect l="l" t="t" r="r" b="b"/>
                <a:pathLst>
                  <a:path w="9" h="22">
                    <a:moveTo>
                      <a:pt x="9" y="22"/>
                    </a:moveTo>
                    <a:lnTo>
                      <a:pt x="6" y="22"/>
                    </a:lnTo>
                    <a:lnTo>
                      <a:pt x="4" y="20"/>
                    </a:lnTo>
                    <a:lnTo>
                      <a:pt x="2" y="18"/>
                    </a:lnTo>
                    <a:lnTo>
                      <a:pt x="0" y="16"/>
                    </a:lnTo>
                    <a:lnTo>
                      <a:pt x="0" y="0"/>
                    </a:lnTo>
                    <a:lnTo>
                      <a:pt x="2" y="4"/>
                    </a:lnTo>
                    <a:lnTo>
                      <a:pt x="5" y="9"/>
                    </a:lnTo>
                    <a:lnTo>
                      <a:pt x="7" y="16"/>
                    </a:lnTo>
                    <a:lnTo>
                      <a:pt x="9" y="22"/>
                    </a:lnTo>
                    <a:close/>
                  </a:path>
                </a:pathLst>
              </a:custGeom>
              <a:solidFill>
                <a:srgbClr val="d8aad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69" name=""/>
              <p:cNvSpPr/>
              <p:nvPr/>
            </p:nvSpPr>
            <p:spPr>
              <a:xfrm flipH="1" rot="20945400">
                <a:off x="1187640" y="3503880"/>
                <a:ext cx="18360" cy="29160"/>
              </a:xfrm>
              <a:custGeom>
                <a:avLst/>
                <a:gdLst/>
                <a:ahLst/>
                <a:rect l="l" t="t" r="r" b="b"/>
                <a:pathLst>
                  <a:path w="29" h="50">
                    <a:moveTo>
                      <a:pt x="29" y="4"/>
                    </a:moveTo>
                    <a:lnTo>
                      <a:pt x="25" y="4"/>
                    </a:lnTo>
                    <a:lnTo>
                      <a:pt x="22" y="6"/>
                    </a:lnTo>
                    <a:lnTo>
                      <a:pt x="19" y="8"/>
                    </a:lnTo>
                    <a:lnTo>
                      <a:pt x="15" y="7"/>
                    </a:lnTo>
                    <a:lnTo>
                      <a:pt x="9" y="50"/>
                    </a:lnTo>
                    <a:lnTo>
                      <a:pt x="0" y="42"/>
                    </a:lnTo>
                    <a:lnTo>
                      <a:pt x="0" y="29"/>
                    </a:lnTo>
                    <a:lnTo>
                      <a:pt x="5" y="14"/>
                    </a:lnTo>
                    <a:lnTo>
                      <a:pt x="6" y="0"/>
                    </a:lnTo>
                    <a:lnTo>
                      <a:pt x="29" y="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370" name=""/>
              <p:cNvSpPr/>
              <p:nvPr/>
            </p:nvSpPr>
            <p:spPr>
              <a:xfrm flipH="1" rot="20945400">
                <a:off x="1087560" y="3618360"/>
                <a:ext cx="53640" cy="56520"/>
              </a:xfrm>
              <a:custGeom>
                <a:avLst/>
                <a:gdLst/>
                <a:ahLst/>
                <a:rect l="l" t="t" r="r" b="b"/>
                <a:pathLst>
                  <a:path w="84" h="95">
                    <a:moveTo>
                      <a:pt x="78" y="95"/>
                    </a:moveTo>
                    <a:lnTo>
                      <a:pt x="65" y="73"/>
                    </a:lnTo>
                    <a:lnTo>
                      <a:pt x="38" y="95"/>
                    </a:lnTo>
                    <a:lnTo>
                      <a:pt x="41" y="85"/>
                    </a:lnTo>
                    <a:lnTo>
                      <a:pt x="39" y="74"/>
                    </a:lnTo>
                    <a:lnTo>
                      <a:pt x="34" y="65"/>
                    </a:lnTo>
                    <a:lnTo>
                      <a:pt x="28" y="56"/>
                    </a:lnTo>
                    <a:lnTo>
                      <a:pt x="20" y="56"/>
                    </a:lnTo>
                    <a:lnTo>
                      <a:pt x="13" y="60"/>
                    </a:lnTo>
                    <a:lnTo>
                      <a:pt x="7" y="66"/>
                    </a:lnTo>
                    <a:lnTo>
                      <a:pt x="1" y="69"/>
                    </a:lnTo>
                    <a:lnTo>
                      <a:pt x="0" y="61"/>
                    </a:lnTo>
                    <a:lnTo>
                      <a:pt x="1" y="53"/>
                    </a:lnTo>
                    <a:lnTo>
                      <a:pt x="4" y="45"/>
                    </a:lnTo>
                    <a:lnTo>
                      <a:pt x="7" y="36"/>
                    </a:lnTo>
                    <a:lnTo>
                      <a:pt x="10" y="28"/>
                    </a:lnTo>
                    <a:lnTo>
                      <a:pt x="12" y="19"/>
                    </a:lnTo>
                    <a:lnTo>
                      <a:pt x="11" y="10"/>
                    </a:lnTo>
                    <a:lnTo>
                      <a:pt x="7" y="0"/>
                    </a:lnTo>
                    <a:lnTo>
                      <a:pt x="84" y="63"/>
                    </a:lnTo>
                    <a:lnTo>
                      <a:pt x="78" y="95"/>
                    </a:lnTo>
                    <a:close/>
                  </a:path>
                </a:pathLst>
              </a:custGeom>
              <a:solidFill>
                <a:srgbClr val="7f99b2"/>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nvGrpSpPr>
            <p:cNvPr id="2371" name=""/>
            <p:cNvGrpSpPr/>
            <p:nvPr/>
          </p:nvGrpSpPr>
          <p:grpSpPr>
            <a:xfrm>
              <a:off x="800280" y="3077280"/>
              <a:ext cx="7352640" cy="3657240"/>
              <a:chOff x="800280" y="3077280"/>
              <a:chExt cx="7352640" cy="3657240"/>
            </a:xfrm>
          </p:grpSpPr>
          <p:sp>
            <p:nvSpPr>
              <p:cNvPr id="2372" name=""/>
              <p:cNvSpPr/>
              <p:nvPr/>
            </p:nvSpPr>
            <p:spPr>
              <a:xfrm>
                <a:off x="1797120" y="4056840"/>
                <a:ext cx="378360" cy="36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2478600" y="3840840"/>
                <a:ext cx="379080" cy="360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74" name=""/>
              <p:cNvGrpSpPr/>
              <p:nvPr/>
            </p:nvGrpSpPr>
            <p:grpSpPr>
              <a:xfrm>
                <a:off x="1633680" y="3077280"/>
                <a:ext cx="6071760" cy="3657240"/>
                <a:chOff x="1633680" y="3077280"/>
                <a:chExt cx="6071760" cy="3657240"/>
              </a:xfrm>
            </p:grpSpPr>
            <p:sp>
              <p:nvSpPr>
                <p:cNvPr id="2375" name=""/>
                <p:cNvSpPr/>
                <p:nvPr/>
              </p:nvSpPr>
              <p:spPr>
                <a:xfrm rot="669000">
                  <a:off x="1832400" y="3601080"/>
                  <a:ext cx="5674320" cy="2609280"/>
                </a:xfrm>
                <a:custGeom>
                  <a:avLst/>
                  <a:gdLst/>
                  <a:ahLst/>
                  <a:rect l="l" t="t" r="r" b="b"/>
                  <a:pathLst>
                    <a:path w="3873" h="1906">
                      <a:moveTo>
                        <a:pt x="1718" y="193"/>
                      </a:moveTo>
                      <a:lnTo>
                        <a:pt x="1672" y="245"/>
                      </a:lnTo>
                      <a:lnTo>
                        <a:pt x="1528" y="251"/>
                      </a:lnTo>
                      <a:lnTo>
                        <a:pt x="1483" y="271"/>
                      </a:lnTo>
                      <a:lnTo>
                        <a:pt x="1380" y="267"/>
                      </a:lnTo>
                      <a:lnTo>
                        <a:pt x="1364" y="296"/>
                      </a:lnTo>
                      <a:lnTo>
                        <a:pt x="1271" y="340"/>
                      </a:lnTo>
                      <a:lnTo>
                        <a:pt x="1155" y="428"/>
                      </a:lnTo>
                      <a:lnTo>
                        <a:pt x="1016" y="479"/>
                      </a:lnTo>
                      <a:lnTo>
                        <a:pt x="1016" y="512"/>
                      </a:lnTo>
                      <a:lnTo>
                        <a:pt x="965" y="564"/>
                      </a:lnTo>
                      <a:lnTo>
                        <a:pt x="903" y="567"/>
                      </a:lnTo>
                      <a:lnTo>
                        <a:pt x="896" y="557"/>
                      </a:lnTo>
                      <a:lnTo>
                        <a:pt x="848" y="560"/>
                      </a:lnTo>
                      <a:lnTo>
                        <a:pt x="787" y="580"/>
                      </a:lnTo>
                      <a:lnTo>
                        <a:pt x="749" y="567"/>
                      </a:lnTo>
                      <a:lnTo>
                        <a:pt x="681" y="567"/>
                      </a:lnTo>
                      <a:lnTo>
                        <a:pt x="633" y="583"/>
                      </a:lnTo>
                      <a:lnTo>
                        <a:pt x="600" y="573"/>
                      </a:lnTo>
                      <a:lnTo>
                        <a:pt x="558" y="640"/>
                      </a:lnTo>
                      <a:lnTo>
                        <a:pt x="598" y="666"/>
                      </a:lnTo>
                      <a:lnTo>
                        <a:pt x="728" y="667"/>
                      </a:lnTo>
                      <a:lnTo>
                        <a:pt x="736" y="695"/>
                      </a:lnTo>
                      <a:lnTo>
                        <a:pt x="610" y="695"/>
                      </a:lnTo>
                      <a:lnTo>
                        <a:pt x="581" y="727"/>
                      </a:lnTo>
                      <a:lnTo>
                        <a:pt x="543" y="724"/>
                      </a:lnTo>
                      <a:lnTo>
                        <a:pt x="511" y="743"/>
                      </a:lnTo>
                      <a:lnTo>
                        <a:pt x="514" y="787"/>
                      </a:lnTo>
                      <a:lnTo>
                        <a:pt x="479" y="808"/>
                      </a:lnTo>
                      <a:lnTo>
                        <a:pt x="450" y="798"/>
                      </a:lnTo>
                      <a:lnTo>
                        <a:pt x="395" y="822"/>
                      </a:lnTo>
                      <a:lnTo>
                        <a:pt x="382" y="795"/>
                      </a:lnTo>
                      <a:lnTo>
                        <a:pt x="353" y="786"/>
                      </a:lnTo>
                      <a:lnTo>
                        <a:pt x="318" y="795"/>
                      </a:lnTo>
                      <a:lnTo>
                        <a:pt x="321" y="824"/>
                      </a:lnTo>
                      <a:lnTo>
                        <a:pt x="247" y="811"/>
                      </a:lnTo>
                      <a:lnTo>
                        <a:pt x="221" y="795"/>
                      </a:lnTo>
                      <a:lnTo>
                        <a:pt x="151" y="816"/>
                      </a:lnTo>
                      <a:lnTo>
                        <a:pt x="74" y="865"/>
                      </a:lnTo>
                      <a:lnTo>
                        <a:pt x="64" y="901"/>
                      </a:lnTo>
                      <a:lnTo>
                        <a:pt x="16" y="933"/>
                      </a:lnTo>
                      <a:lnTo>
                        <a:pt x="26" y="968"/>
                      </a:lnTo>
                      <a:lnTo>
                        <a:pt x="0" y="1032"/>
                      </a:lnTo>
                      <a:lnTo>
                        <a:pt x="106" y="1006"/>
                      </a:lnTo>
                      <a:lnTo>
                        <a:pt x="131" y="1022"/>
                      </a:lnTo>
                      <a:lnTo>
                        <a:pt x="148" y="1064"/>
                      </a:lnTo>
                      <a:lnTo>
                        <a:pt x="112" y="1058"/>
                      </a:lnTo>
                      <a:lnTo>
                        <a:pt x="90" y="1103"/>
                      </a:lnTo>
                      <a:lnTo>
                        <a:pt x="119" y="1122"/>
                      </a:lnTo>
                      <a:lnTo>
                        <a:pt x="122" y="1180"/>
                      </a:lnTo>
                      <a:lnTo>
                        <a:pt x="180" y="1212"/>
                      </a:lnTo>
                      <a:lnTo>
                        <a:pt x="135" y="1253"/>
                      </a:lnTo>
                      <a:lnTo>
                        <a:pt x="160" y="1308"/>
                      </a:lnTo>
                      <a:lnTo>
                        <a:pt x="194" y="1323"/>
                      </a:lnTo>
                      <a:lnTo>
                        <a:pt x="148" y="1350"/>
                      </a:lnTo>
                      <a:lnTo>
                        <a:pt x="106" y="1340"/>
                      </a:lnTo>
                      <a:lnTo>
                        <a:pt x="90" y="1286"/>
                      </a:lnTo>
                      <a:lnTo>
                        <a:pt x="74" y="1289"/>
                      </a:lnTo>
                      <a:lnTo>
                        <a:pt x="75" y="1344"/>
                      </a:lnTo>
                      <a:lnTo>
                        <a:pt x="41" y="1379"/>
                      </a:lnTo>
                      <a:lnTo>
                        <a:pt x="80" y="1398"/>
                      </a:lnTo>
                      <a:lnTo>
                        <a:pt x="99" y="1420"/>
                      </a:lnTo>
                      <a:lnTo>
                        <a:pt x="135" y="1382"/>
                      </a:lnTo>
                      <a:lnTo>
                        <a:pt x="151" y="1404"/>
                      </a:lnTo>
                      <a:lnTo>
                        <a:pt x="148" y="1420"/>
                      </a:lnTo>
                      <a:lnTo>
                        <a:pt x="233" y="1458"/>
                      </a:lnTo>
                      <a:lnTo>
                        <a:pt x="221" y="1495"/>
                      </a:lnTo>
                      <a:lnTo>
                        <a:pt x="183" y="1540"/>
                      </a:lnTo>
                      <a:lnTo>
                        <a:pt x="209" y="1537"/>
                      </a:lnTo>
                      <a:lnTo>
                        <a:pt x="240" y="1644"/>
                      </a:lnTo>
                      <a:lnTo>
                        <a:pt x="286" y="1604"/>
                      </a:lnTo>
                      <a:lnTo>
                        <a:pt x="331" y="1636"/>
                      </a:lnTo>
                      <a:lnTo>
                        <a:pt x="305" y="1665"/>
                      </a:lnTo>
                      <a:lnTo>
                        <a:pt x="257" y="1681"/>
                      </a:lnTo>
                      <a:lnTo>
                        <a:pt x="254" y="1717"/>
                      </a:lnTo>
                      <a:lnTo>
                        <a:pt x="337" y="1739"/>
                      </a:lnTo>
                      <a:lnTo>
                        <a:pt x="434" y="1688"/>
                      </a:lnTo>
                      <a:lnTo>
                        <a:pt x="456" y="1710"/>
                      </a:lnTo>
                      <a:lnTo>
                        <a:pt x="401" y="1752"/>
                      </a:lnTo>
                      <a:lnTo>
                        <a:pt x="345" y="1753"/>
                      </a:lnTo>
                      <a:lnTo>
                        <a:pt x="305" y="1791"/>
                      </a:lnTo>
                      <a:lnTo>
                        <a:pt x="328" y="1820"/>
                      </a:lnTo>
                      <a:lnTo>
                        <a:pt x="440" y="1763"/>
                      </a:lnTo>
                      <a:lnTo>
                        <a:pt x="424" y="1827"/>
                      </a:lnTo>
                      <a:lnTo>
                        <a:pt x="508" y="1763"/>
                      </a:lnTo>
                      <a:lnTo>
                        <a:pt x="640" y="1788"/>
                      </a:lnTo>
                      <a:lnTo>
                        <a:pt x="585" y="1820"/>
                      </a:lnTo>
                      <a:lnTo>
                        <a:pt x="652" y="1836"/>
                      </a:lnTo>
                      <a:lnTo>
                        <a:pt x="722" y="1906"/>
                      </a:lnTo>
                      <a:lnTo>
                        <a:pt x="842" y="1891"/>
                      </a:lnTo>
                      <a:lnTo>
                        <a:pt x="946" y="1869"/>
                      </a:lnTo>
                      <a:lnTo>
                        <a:pt x="1007" y="1766"/>
                      </a:lnTo>
                      <a:lnTo>
                        <a:pt x="988" y="1711"/>
                      </a:lnTo>
                      <a:lnTo>
                        <a:pt x="1052" y="1678"/>
                      </a:lnTo>
                      <a:lnTo>
                        <a:pt x="1145" y="1679"/>
                      </a:lnTo>
                      <a:lnTo>
                        <a:pt x="1216" y="1705"/>
                      </a:lnTo>
                      <a:lnTo>
                        <a:pt x="1258" y="1750"/>
                      </a:lnTo>
                      <a:lnTo>
                        <a:pt x="1322" y="1750"/>
                      </a:lnTo>
                      <a:lnTo>
                        <a:pt x="1412" y="1830"/>
                      </a:lnTo>
                      <a:lnTo>
                        <a:pt x="1450" y="1805"/>
                      </a:lnTo>
                      <a:lnTo>
                        <a:pt x="1526" y="1797"/>
                      </a:lnTo>
                      <a:lnTo>
                        <a:pt x="1588" y="1774"/>
                      </a:lnTo>
                      <a:lnTo>
                        <a:pt x="1642" y="1787"/>
                      </a:lnTo>
                      <a:lnTo>
                        <a:pt x="1715" y="1747"/>
                      </a:lnTo>
                      <a:lnTo>
                        <a:pt x="1745" y="1749"/>
                      </a:lnTo>
                      <a:lnTo>
                        <a:pt x="1729" y="1720"/>
                      </a:lnTo>
                      <a:lnTo>
                        <a:pt x="1784" y="1656"/>
                      </a:lnTo>
                      <a:lnTo>
                        <a:pt x="1816" y="1611"/>
                      </a:lnTo>
                      <a:lnTo>
                        <a:pt x="1863" y="1609"/>
                      </a:lnTo>
                      <a:lnTo>
                        <a:pt x="1899" y="1624"/>
                      </a:lnTo>
                      <a:lnTo>
                        <a:pt x="1955" y="1635"/>
                      </a:lnTo>
                      <a:lnTo>
                        <a:pt x="1989" y="1620"/>
                      </a:lnTo>
                      <a:lnTo>
                        <a:pt x="2033" y="1621"/>
                      </a:lnTo>
                      <a:lnTo>
                        <a:pt x="2038" y="1563"/>
                      </a:lnTo>
                      <a:lnTo>
                        <a:pt x="2079" y="1550"/>
                      </a:lnTo>
                      <a:lnTo>
                        <a:pt x="2108" y="1498"/>
                      </a:lnTo>
                      <a:lnTo>
                        <a:pt x="2150" y="1543"/>
                      </a:lnTo>
                      <a:lnTo>
                        <a:pt x="2190" y="1544"/>
                      </a:lnTo>
                      <a:lnTo>
                        <a:pt x="2156" y="1624"/>
                      </a:lnTo>
                      <a:lnTo>
                        <a:pt x="2102" y="1630"/>
                      </a:lnTo>
                      <a:lnTo>
                        <a:pt x="2073" y="1695"/>
                      </a:lnTo>
                      <a:lnTo>
                        <a:pt x="2131" y="1755"/>
                      </a:lnTo>
                      <a:lnTo>
                        <a:pt x="2108" y="1829"/>
                      </a:lnTo>
                      <a:lnTo>
                        <a:pt x="2126" y="1832"/>
                      </a:lnTo>
                      <a:lnTo>
                        <a:pt x="2156" y="1803"/>
                      </a:lnTo>
                      <a:lnTo>
                        <a:pt x="2195" y="1813"/>
                      </a:lnTo>
                      <a:lnTo>
                        <a:pt x="2214" y="1781"/>
                      </a:lnTo>
                      <a:lnTo>
                        <a:pt x="2230" y="1717"/>
                      </a:lnTo>
                      <a:lnTo>
                        <a:pt x="2264" y="1708"/>
                      </a:lnTo>
                      <a:lnTo>
                        <a:pt x="2273" y="1670"/>
                      </a:lnTo>
                      <a:lnTo>
                        <a:pt x="2238" y="1601"/>
                      </a:lnTo>
                      <a:lnTo>
                        <a:pt x="2280" y="1569"/>
                      </a:lnTo>
                      <a:lnTo>
                        <a:pt x="2280" y="1518"/>
                      </a:lnTo>
                      <a:lnTo>
                        <a:pt x="2315" y="1507"/>
                      </a:lnTo>
                      <a:lnTo>
                        <a:pt x="2379" y="1518"/>
                      </a:lnTo>
                      <a:lnTo>
                        <a:pt x="2469" y="1495"/>
                      </a:lnTo>
                      <a:lnTo>
                        <a:pt x="2505" y="1502"/>
                      </a:lnTo>
                      <a:lnTo>
                        <a:pt x="2534" y="1486"/>
                      </a:lnTo>
                      <a:lnTo>
                        <a:pt x="2588" y="1444"/>
                      </a:lnTo>
                      <a:lnTo>
                        <a:pt x="2692" y="1432"/>
                      </a:lnTo>
                      <a:lnTo>
                        <a:pt x="2813" y="1424"/>
                      </a:lnTo>
                      <a:lnTo>
                        <a:pt x="2885" y="1411"/>
                      </a:lnTo>
                      <a:lnTo>
                        <a:pt x="2917" y="1364"/>
                      </a:lnTo>
                      <a:lnTo>
                        <a:pt x="2991" y="1366"/>
                      </a:lnTo>
                      <a:lnTo>
                        <a:pt x="3120" y="1244"/>
                      </a:lnTo>
                      <a:lnTo>
                        <a:pt x="3190" y="1247"/>
                      </a:lnTo>
                      <a:lnTo>
                        <a:pt x="3206" y="1186"/>
                      </a:lnTo>
                      <a:lnTo>
                        <a:pt x="3306" y="1154"/>
                      </a:lnTo>
                      <a:lnTo>
                        <a:pt x="3360" y="1111"/>
                      </a:lnTo>
                      <a:lnTo>
                        <a:pt x="3396" y="1151"/>
                      </a:lnTo>
                      <a:lnTo>
                        <a:pt x="3464" y="1135"/>
                      </a:lnTo>
                      <a:lnTo>
                        <a:pt x="3466" y="1092"/>
                      </a:lnTo>
                      <a:lnTo>
                        <a:pt x="3495" y="1035"/>
                      </a:lnTo>
                      <a:lnTo>
                        <a:pt x="3618" y="1042"/>
                      </a:lnTo>
                      <a:lnTo>
                        <a:pt x="3653" y="1016"/>
                      </a:lnTo>
                      <a:lnTo>
                        <a:pt x="3679" y="1019"/>
                      </a:lnTo>
                      <a:lnTo>
                        <a:pt x="3737" y="974"/>
                      </a:lnTo>
                      <a:lnTo>
                        <a:pt x="3772" y="968"/>
                      </a:lnTo>
                      <a:lnTo>
                        <a:pt x="3778" y="1022"/>
                      </a:lnTo>
                      <a:lnTo>
                        <a:pt x="3795" y="1028"/>
                      </a:lnTo>
                      <a:lnTo>
                        <a:pt x="3824" y="997"/>
                      </a:lnTo>
                      <a:lnTo>
                        <a:pt x="3833" y="945"/>
                      </a:lnTo>
                      <a:lnTo>
                        <a:pt x="3873" y="910"/>
                      </a:lnTo>
                      <a:lnTo>
                        <a:pt x="3849" y="870"/>
                      </a:lnTo>
                      <a:lnTo>
                        <a:pt x="3811" y="852"/>
                      </a:lnTo>
                      <a:lnTo>
                        <a:pt x="3734" y="855"/>
                      </a:lnTo>
                      <a:lnTo>
                        <a:pt x="3737" y="788"/>
                      </a:lnTo>
                      <a:lnTo>
                        <a:pt x="3756" y="753"/>
                      </a:lnTo>
                      <a:lnTo>
                        <a:pt x="3733" y="719"/>
                      </a:lnTo>
                      <a:lnTo>
                        <a:pt x="3705" y="689"/>
                      </a:lnTo>
                      <a:lnTo>
                        <a:pt x="3714" y="676"/>
                      </a:lnTo>
                      <a:lnTo>
                        <a:pt x="3689" y="637"/>
                      </a:lnTo>
                      <a:lnTo>
                        <a:pt x="3695" y="605"/>
                      </a:lnTo>
                      <a:lnTo>
                        <a:pt x="3676" y="560"/>
                      </a:lnTo>
                      <a:lnTo>
                        <a:pt x="3636" y="505"/>
                      </a:lnTo>
                      <a:lnTo>
                        <a:pt x="3611" y="496"/>
                      </a:lnTo>
                      <a:lnTo>
                        <a:pt x="3660" y="470"/>
                      </a:lnTo>
                      <a:lnTo>
                        <a:pt x="3689" y="425"/>
                      </a:lnTo>
                      <a:lnTo>
                        <a:pt x="3676" y="402"/>
                      </a:lnTo>
                      <a:lnTo>
                        <a:pt x="3692" y="370"/>
                      </a:lnTo>
                      <a:lnTo>
                        <a:pt x="3685" y="344"/>
                      </a:lnTo>
                      <a:lnTo>
                        <a:pt x="3676" y="326"/>
                      </a:lnTo>
                      <a:lnTo>
                        <a:pt x="3611" y="309"/>
                      </a:lnTo>
                      <a:lnTo>
                        <a:pt x="3611" y="309"/>
                      </a:lnTo>
                      <a:lnTo>
                        <a:pt x="3512" y="312"/>
                      </a:lnTo>
                      <a:lnTo>
                        <a:pt x="3472" y="281"/>
                      </a:lnTo>
                      <a:lnTo>
                        <a:pt x="3412" y="170"/>
                      </a:lnTo>
                      <a:lnTo>
                        <a:pt x="3440" y="127"/>
                      </a:lnTo>
                      <a:lnTo>
                        <a:pt x="3335" y="69"/>
                      </a:lnTo>
                      <a:lnTo>
                        <a:pt x="3268" y="75"/>
                      </a:lnTo>
                      <a:lnTo>
                        <a:pt x="3242" y="52"/>
                      </a:lnTo>
                      <a:lnTo>
                        <a:pt x="3248" y="56"/>
                      </a:lnTo>
                      <a:lnTo>
                        <a:pt x="3300" y="36"/>
                      </a:lnTo>
                      <a:lnTo>
                        <a:pt x="3251" y="17"/>
                      </a:lnTo>
                      <a:lnTo>
                        <a:pt x="3229" y="24"/>
                      </a:lnTo>
                      <a:lnTo>
                        <a:pt x="3239" y="11"/>
                      </a:lnTo>
                      <a:lnTo>
                        <a:pt x="3204" y="0"/>
                      </a:lnTo>
                      <a:lnTo>
                        <a:pt x="3155" y="30"/>
                      </a:lnTo>
                      <a:lnTo>
                        <a:pt x="3078" y="40"/>
                      </a:lnTo>
                      <a:lnTo>
                        <a:pt x="3055" y="27"/>
                      </a:lnTo>
                      <a:lnTo>
                        <a:pt x="3036" y="72"/>
                      </a:lnTo>
                      <a:lnTo>
                        <a:pt x="3006" y="62"/>
                      </a:lnTo>
                      <a:lnTo>
                        <a:pt x="2933" y="117"/>
                      </a:lnTo>
                      <a:lnTo>
                        <a:pt x="2914" y="168"/>
                      </a:lnTo>
                      <a:lnTo>
                        <a:pt x="2881" y="165"/>
                      </a:lnTo>
                      <a:lnTo>
                        <a:pt x="2804" y="248"/>
                      </a:lnTo>
                      <a:lnTo>
                        <a:pt x="2765" y="261"/>
                      </a:lnTo>
                      <a:lnTo>
                        <a:pt x="2747" y="295"/>
                      </a:lnTo>
                      <a:lnTo>
                        <a:pt x="2662" y="296"/>
                      </a:lnTo>
                      <a:lnTo>
                        <a:pt x="2598" y="280"/>
                      </a:lnTo>
                      <a:lnTo>
                        <a:pt x="2530" y="293"/>
                      </a:lnTo>
                      <a:lnTo>
                        <a:pt x="2461" y="311"/>
                      </a:lnTo>
                      <a:lnTo>
                        <a:pt x="2418" y="357"/>
                      </a:lnTo>
                      <a:lnTo>
                        <a:pt x="2383" y="368"/>
                      </a:lnTo>
                      <a:lnTo>
                        <a:pt x="2293" y="370"/>
                      </a:lnTo>
                      <a:lnTo>
                        <a:pt x="2280" y="332"/>
                      </a:lnTo>
                      <a:lnTo>
                        <a:pt x="2260" y="373"/>
                      </a:lnTo>
                      <a:lnTo>
                        <a:pt x="2209" y="338"/>
                      </a:lnTo>
                      <a:lnTo>
                        <a:pt x="2154" y="377"/>
                      </a:lnTo>
                      <a:lnTo>
                        <a:pt x="2126" y="341"/>
                      </a:lnTo>
                      <a:lnTo>
                        <a:pt x="2051" y="322"/>
                      </a:lnTo>
                      <a:lnTo>
                        <a:pt x="2013" y="373"/>
                      </a:lnTo>
                      <a:lnTo>
                        <a:pt x="1923" y="332"/>
                      </a:lnTo>
                      <a:lnTo>
                        <a:pt x="1914" y="273"/>
                      </a:lnTo>
                      <a:lnTo>
                        <a:pt x="1865" y="293"/>
                      </a:lnTo>
                      <a:lnTo>
                        <a:pt x="1820" y="296"/>
                      </a:lnTo>
                      <a:lnTo>
                        <a:pt x="1746" y="248"/>
                      </a:lnTo>
                      <a:lnTo>
                        <a:pt x="1749" y="197"/>
                      </a:lnTo>
                      <a:lnTo>
                        <a:pt x="1718" y="193"/>
                      </a:lnTo>
                      <a:close/>
                    </a:path>
                  </a:pathLst>
                </a:custGeom>
                <a:noFill/>
                <a:ln w="5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rot="669000">
                  <a:off x="1850760" y="3563280"/>
                  <a:ext cx="955080" cy="829440"/>
                </a:xfrm>
                <a:custGeom>
                  <a:avLst/>
                  <a:gdLst/>
                  <a:ahLst/>
                  <a:rect l="l" t="t" r="r" b="b"/>
                  <a:pathLst>
                    <a:path w="652" h="606">
                      <a:moveTo>
                        <a:pt x="248" y="0"/>
                      </a:moveTo>
                      <a:lnTo>
                        <a:pt x="0" y="68"/>
                      </a:lnTo>
                      <a:lnTo>
                        <a:pt x="51" y="408"/>
                      </a:lnTo>
                      <a:lnTo>
                        <a:pt x="60" y="402"/>
                      </a:lnTo>
                      <a:lnTo>
                        <a:pt x="57" y="453"/>
                      </a:lnTo>
                      <a:lnTo>
                        <a:pt x="80" y="462"/>
                      </a:lnTo>
                      <a:lnTo>
                        <a:pt x="138" y="466"/>
                      </a:lnTo>
                      <a:lnTo>
                        <a:pt x="186" y="456"/>
                      </a:lnTo>
                      <a:lnTo>
                        <a:pt x="188" y="467"/>
                      </a:lnTo>
                      <a:lnTo>
                        <a:pt x="90" y="525"/>
                      </a:lnTo>
                      <a:lnTo>
                        <a:pt x="88" y="606"/>
                      </a:lnTo>
                      <a:lnTo>
                        <a:pt x="138" y="540"/>
                      </a:lnTo>
                      <a:lnTo>
                        <a:pt x="160" y="511"/>
                      </a:lnTo>
                      <a:lnTo>
                        <a:pt x="183" y="498"/>
                      </a:lnTo>
                      <a:lnTo>
                        <a:pt x="205" y="472"/>
                      </a:lnTo>
                      <a:lnTo>
                        <a:pt x="264" y="447"/>
                      </a:lnTo>
                      <a:lnTo>
                        <a:pt x="298" y="376"/>
                      </a:lnTo>
                      <a:lnTo>
                        <a:pt x="381" y="335"/>
                      </a:lnTo>
                      <a:lnTo>
                        <a:pt x="443" y="331"/>
                      </a:lnTo>
                      <a:lnTo>
                        <a:pt x="514" y="317"/>
                      </a:lnTo>
                      <a:lnTo>
                        <a:pt x="539" y="338"/>
                      </a:lnTo>
                      <a:lnTo>
                        <a:pt x="575" y="328"/>
                      </a:lnTo>
                      <a:lnTo>
                        <a:pt x="611" y="327"/>
                      </a:lnTo>
                      <a:lnTo>
                        <a:pt x="652" y="247"/>
                      </a:lnTo>
                      <a:lnTo>
                        <a:pt x="578" y="241"/>
                      </a:lnTo>
                      <a:lnTo>
                        <a:pt x="578" y="228"/>
                      </a:lnTo>
                      <a:lnTo>
                        <a:pt x="517" y="190"/>
                      </a:lnTo>
                      <a:lnTo>
                        <a:pt x="487" y="200"/>
                      </a:lnTo>
                      <a:lnTo>
                        <a:pt x="416" y="78"/>
                      </a:lnTo>
                      <a:lnTo>
                        <a:pt x="248" y="0"/>
                      </a:lnTo>
                      <a:close/>
                    </a:path>
                  </a:pathLst>
                </a:custGeom>
                <a:noFill/>
                <a:ln w="5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7" name=""/>
              <p:cNvSpPr/>
              <p:nvPr/>
            </p:nvSpPr>
            <p:spPr>
              <a:xfrm>
                <a:off x="3998160" y="5104080"/>
                <a:ext cx="1629360" cy="730800"/>
              </a:xfrm>
              <a:custGeom>
                <a:avLst/>
                <a:gdLst/>
                <a:ahLst/>
                <a:rect l="l" t="t" r="r" b="b"/>
                <a:pathLst>
                  <a:path w="2919" h="1024">
                    <a:moveTo>
                      <a:pt x="39" y="945"/>
                    </a:moveTo>
                    <a:cubicBezTo>
                      <a:pt x="152" y="606"/>
                      <a:pt x="0" y="1024"/>
                      <a:pt x="174" y="675"/>
                    </a:cubicBezTo>
                    <a:cubicBezTo>
                      <a:pt x="260" y="503"/>
                      <a:pt x="164" y="523"/>
                      <a:pt x="354" y="360"/>
                    </a:cubicBezTo>
                    <a:cubicBezTo>
                      <a:pt x="405" y="316"/>
                      <a:pt x="477" y="306"/>
                      <a:pt x="534" y="270"/>
                    </a:cubicBezTo>
                    <a:cubicBezTo>
                      <a:pt x="598" y="230"/>
                      <a:pt x="647" y="169"/>
                      <a:pt x="714" y="135"/>
                    </a:cubicBezTo>
                    <a:cubicBezTo>
                      <a:pt x="879" y="52"/>
                      <a:pt x="1115" y="61"/>
                      <a:pt x="1299" y="0"/>
                    </a:cubicBezTo>
                    <a:cubicBezTo>
                      <a:pt x="1509" y="23"/>
                      <a:pt x="1860" y="21"/>
                      <a:pt x="2064" y="135"/>
                    </a:cubicBezTo>
                    <a:cubicBezTo>
                      <a:pt x="2159" y="188"/>
                      <a:pt x="2334" y="315"/>
                      <a:pt x="2334" y="315"/>
                    </a:cubicBezTo>
                    <a:cubicBezTo>
                      <a:pt x="2447" y="484"/>
                      <a:pt x="2531" y="558"/>
                      <a:pt x="2694" y="675"/>
                    </a:cubicBezTo>
                    <a:cubicBezTo>
                      <a:pt x="2896" y="819"/>
                      <a:pt x="2797" y="810"/>
                      <a:pt x="2919" y="8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8" name=""/>
              <p:cNvSpPr/>
              <p:nvPr/>
            </p:nvSpPr>
            <p:spPr>
              <a:xfrm>
                <a:off x="2262960" y="5173560"/>
                <a:ext cx="1375200" cy="560160"/>
              </a:xfrm>
              <a:custGeom>
                <a:avLst/>
                <a:gdLst/>
                <a:ahLst/>
                <a:rect l="l" t="t" r="r" b="b"/>
                <a:pathLst>
                  <a:path w="2184" h="1170">
                    <a:moveTo>
                      <a:pt x="2172" y="1170"/>
                    </a:moveTo>
                    <a:cubicBezTo>
                      <a:pt x="2102" y="680"/>
                      <a:pt x="2184" y="1019"/>
                      <a:pt x="2037" y="675"/>
                    </a:cubicBezTo>
                    <a:cubicBezTo>
                      <a:pt x="2018" y="631"/>
                      <a:pt x="2016" y="581"/>
                      <a:pt x="1992" y="540"/>
                    </a:cubicBezTo>
                    <a:cubicBezTo>
                      <a:pt x="1955" y="475"/>
                      <a:pt x="1897" y="424"/>
                      <a:pt x="1857" y="360"/>
                    </a:cubicBezTo>
                    <a:cubicBezTo>
                      <a:pt x="1821" y="303"/>
                      <a:pt x="1821" y="220"/>
                      <a:pt x="1767" y="180"/>
                    </a:cubicBezTo>
                    <a:cubicBezTo>
                      <a:pt x="1691" y="123"/>
                      <a:pt x="1582" y="132"/>
                      <a:pt x="1497" y="90"/>
                    </a:cubicBezTo>
                    <a:cubicBezTo>
                      <a:pt x="1437" y="60"/>
                      <a:pt x="1377" y="30"/>
                      <a:pt x="1317" y="0"/>
                    </a:cubicBezTo>
                    <a:cubicBezTo>
                      <a:pt x="1197" y="15"/>
                      <a:pt x="1076" y="25"/>
                      <a:pt x="957" y="45"/>
                    </a:cubicBezTo>
                    <a:cubicBezTo>
                      <a:pt x="896" y="55"/>
                      <a:pt x="828" y="56"/>
                      <a:pt x="777" y="90"/>
                    </a:cubicBezTo>
                    <a:cubicBezTo>
                      <a:pt x="732" y="120"/>
                      <a:pt x="733" y="196"/>
                      <a:pt x="687" y="225"/>
                    </a:cubicBezTo>
                    <a:cubicBezTo>
                      <a:pt x="614" y="271"/>
                      <a:pt x="342" y="334"/>
                      <a:pt x="237" y="360"/>
                    </a:cubicBezTo>
                    <a:cubicBezTo>
                      <a:pt x="207" y="405"/>
                      <a:pt x="185" y="457"/>
                      <a:pt x="147" y="495"/>
                    </a:cubicBezTo>
                    <a:cubicBezTo>
                      <a:pt x="0" y="642"/>
                      <a:pt x="12" y="517"/>
                      <a:pt x="12" y="63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9" name=""/>
              <p:cNvSpPr/>
              <p:nvPr/>
            </p:nvSpPr>
            <p:spPr>
              <a:xfrm>
                <a:off x="1873080" y="3912480"/>
                <a:ext cx="75240" cy="28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0" name=""/>
              <p:cNvSpPr/>
              <p:nvPr/>
            </p:nvSpPr>
            <p:spPr>
              <a:xfrm>
                <a:off x="2403360" y="3768480"/>
                <a:ext cx="227160" cy="28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1" name=""/>
              <p:cNvSpPr/>
              <p:nvPr/>
            </p:nvSpPr>
            <p:spPr>
              <a:xfrm>
                <a:off x="2035800" y="4538880"/>
                <a:ext cx="664200" cy="688680"/>
              </a:xfrm>
              <a:custGeom>
                <a:avLst/>
                <a:gdLst/>
                <a:ahLst/>
                <a:rect l="l" t="t" r="r" b="b"/>
                <a:pathLst>
                  <a:path w="1009" h="1240">
                    <a:moveTo>
                      <a:pt x="0" y="0"/>
                    </a:moveTo>
                    <a:cubicBezTo>
                      <a:pt x="113" y="7"/>
                      <a:pt x="227" y="10"/>
                      <a:pt x="340" y="20"/>
                    </a:cubicBezTo>
                    <a:cubicBezTo>
                      <a:pt x="380" y="24"/>
                      <a:pt x="421" y="30"/>
                      <a:pt x="460" y="40"/>
                    </a:cubicBezTo>
                    <a:cubicBezTo>
                      <a:pt x="501" y="50"/>
                      <a:pt x="580" y="80"/>
                      <a:pt x="580" y="80"/>
                    </a:cubicBezTo>
                    <a:cubicBezTo>
                      <a:pt x="634" y="161"/>
                      <a:pt x="719" y="226"/>
                      <a:pt x="800" y="280"/>
                    </a:cubicBezTo>
                    <a:cubicBezTo>
                      <a:pt x="816" y="395"/>
                      <a:pt x="844" y="491"/>
                      <a:pt x="880" y="600"/>
                    </a:cubicBezTo>
                    <a:cubicBezTo>
                      <a:pt x="887" y="620"/>
                      <a:pt x="920" y="613"/>
                      <a:pt x="940" y="620"/>
                    </a:cubicBezTo>
                    <a:cubicBezTo>
                      <a:pt x="1009" y="827"/>
                      <a:pt x="1000" y="1019"/>
                      <a:pt x="1000" y="1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2" name=""/>
              <p:cNvSpPr/>
              <p:nvPr/>
            </p:nvSpPr>
            <p:spPr>
              <a:xfrm>
                <a:off x="6476400" y="4232160"/>
                <a:ext cx="473400" cy="7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5659200" y="5302800"/>
                <a:ext cx="2021040" cy="1042920"/>
              </a:xfrm>
              <a:custGeom>
                <a:avLst/>
                <a:gdLst/>
                <a:ahLst/>
                <a:rect l="l" t="t" r="r" b="b"/>
                <a:pathLst>
                  <a:path w="2820" h="1500">
                    <a:moveTo>
                      <a:pt x="0" y="720"/>
                    </a:moveTo>
                    <a:cubicBezTo>
                      <a:pt x="150" y="1050"/>
                      <a:pt x="300" y="1380"/>
                      <a:pt x="720" y="1440"/>
                    </a:cubicBezTo>
                    <a:cubicBezTo>
                      <a:pt x="1140" y="1500"/>
                      <a:pt x="2220" y="1320"/>
                      <a:pt x="2520" y="1080"/>
                    </a:cubicBezTo>
                    <a:cubicBezTo>
                      <a:pt x="2820" y="840"/>
                      <a:pt x="2520" y="180"/>
                      <a:pt x="25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7121160" y="3981960"/>
                <a:ext cx="1031760" cy="625680"/>
              </a:xfrm>
              <a:prstGeom prst="borderCallout1">
                <a:avLst>
                  <a:gd name="adj1" fmla="val 18750"/>
                  <a:gd name="adj2" fmla="val -8333"/>
                  <a:gd name="adj3" fmla="val 115555"/>
                  <a:gd name="adj4" fmla="val -23611"/>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5" name=""/>
              <p:cNvSpPr/>
              <p:nvPr/>
            </p:nvSpPr>
            <p:spPr>
              <a:xfrm>
                <a:off x="6605280" y="3856680"/>
                <a:ext cx="257760" cy="25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6992280" y="3231000"/>
                <a:ext cx="1031760" cy="625680"/>
              </a:xfrm>
              <a:prstGeom prst="borderCallout1">
                <a:avLst>
                  <a:gd name="adj1" fmla="val 18750"/>
                  <a:gd name="adj2" fmla="val -8333"/>
                  <a:gd name="adj3" fmla="val 115555"/>
                  <a:gd name="adj4" fmla="val -23611"/>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7" name=""/>
              <p:cNvSpPr/>
              <p:nvPr/>
            </p:nvSpPr>
            <p:spPr>
              <a:xfrm>
                <a:off x="5014080" y="6109560"/>
                <a:ext cx="1848960" cy="525960"/>
              </a:xfrm>
              <a:prstGeom prst="borderCallout1">
                <a:avLst>
                  <a:gd name="adj1" fmla="val 18750"/>
                  <a:gd name="adj2" fmla="val -8333"/>
                  <a:gd name="adj3" fmla="val -26421"/>
                  <a:gd name="adj4" fmla="val 113953"/>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8" name=""/>
              <p:cNvSpPr/>
              <p:nvPr/>
            </p:nvSpPr>
            <p:spPr>
              <a:xfrm>
                <a:off x="4901760" y="4748760"/>
                <a:ext cx="1316520" cy="401040"/>
              </a:xfrm>
              <a:prstGeom prst="borderCallout1">
                <a:avLst>
                  <a:gd name="adj1" fmla="val 18750"/>
                  <a:gd name="adj2" fmla="val -8333"/>
                  <a:gd name="adj3" fmla="val 180240"/>
                  <a:gd name="adj4" fmla="val -18509"/>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9" name=""/>
              <p:cNvSpPr/>
              <p:nvPr/>
            </p:nvSpPr>
            <p:spPr>
              <a:xfrm>
                <a:off x="1316160" y="5984280"/>
                <a:ext cx="1717560" cy="525960"/>
              </a:xfrm>
              <a:prstGeom prst="borderCallout1">
                <a:avLst>
                  <a:gd name="adj1" fmla="val 18750"/>
                  <a:gd name="adj2" fmla="val -8333"/>
                  <a:gd name="adj3" fmla="val -81902"/>
                  <a:gd name="adj4" fmla="val 111680"/>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0" name=""/>
              <p:cNvSpPr/>
              <p:nvPr/>
            </p:nvSpPr>
            <p:spPr>
              <a:xfrm>
                <a:off x="1703160" y="3231000"/>
                <a:ext cx="1418760" cy="500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1" name=""/>
              <p:cNvSpPr/>
              <p:nvPr/>
            </p:nvSpPr>
            <p:spPr>
              <a:xfrm>
                <a:off x="800280" y="4607640"/>
                <a:ext cx="1031760" cy="625320"/>
              </a:xfrm>
              <a:prstGeom prst="borderCallout1">
                <a:avLst>
                  <a:gd name="adj1" fmla="val 18750"/>
                  <a:gd name="adj2" fmla="val -8333"/>
                  <a:gd name="adj3" fmla="val 78111"/>
                  <a:gd name="adj4" fmla="val 141666"/>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92" name="" descr=""/>
              <p:cNvPicPr/>
              <p:nvPr/>
            </p:nvPicPr>
            <p:blipFill>
              <a:blip r:embed="rId2"/>
              <a:stretch/>
            </p:blipFill>
            <p:spPr>
              <a:xfrm flipH="1" rot="10800000">
                <a:off x="6605280" y="4482720"/>
                <a:ext cx="900720" cy="804960"/>
              </a:xfrm>
              <a:prstGeom prst="rect">
                <a:avLst/>
              </a:prstGeom>
              <a:ln w="0">
                <a:noFill/>
              </a:ln>
            </p:spPr>
          </p:pic>
          <p:pic>
            <p:nvPicPr>
              <p:cNvPr id="2393" name="" descr=""/>
              <p:cNvPicPr/>
              <p:nvPr/>
            </p:nvPicPr>
            <p:blipFill>
              <a:blip r:embed="rId3"/>
              <a:stretch/>
            </p:blipFill>
            <p:spPr>
              <a:xfrm flipH="1" rot="10800000">
                <a:off x="5702400" y="3230640"/>
                <a:ext cx="1029600" cy="919800"/>
              </a:xfrm>
              <a:prstGeom prst="rect">
                <a:avLst/>
              </a:prstGeom>
              <a:ln w="0">
                <a:noFill/>
              </a:ln>
            </p:spPr>
          </p:pic>
          <p:pic>
            <p:nvPicPr>
              <p:cNvPr id="2394" name="" descr=""/>
              <p:cNvPicPr/>
              <p:nvPr/>
            </p:nvPicPr>
            <p:blipFill>
              <a:blip r:embed="rId4"/>
              <a:stretch/>
            </p:blipFill>
            <p:spPr>
              <a:xfrm flipH="1" rot="10800000">
                <a:off x="5702400" y="4983120"/>
                <a:ext cx="900720" cy="804960"/>
              </a:xfrm>
              <a:prstGeom prst="rect">
                <a:avLst/>
              </a:prstGeom>
              <a:ln w="0">
                <a:noFill/>
              </a:ln>
            </p:spPr>
          </p:pic>
          <p:pic>
            <p:nvPicPr>
              <p:cNvPr id="2395" name="" descr=""/>
              <p:cNvPicPr/>
              <p:nvPr/>
            </p:nvPicPr>
            <p:blipFill>
              <a:blip r:embed="rId5"/>
              <a:stretch/>
            </p:blipFill>
            <p:spPr>
              <a:xfrm flipH="1" rot="10800000">
                <a:off x="3509280" y="4607640"/>
                <a:ext cx="902880" cy="806400"/>
              </a:xfrm>
              <a:prstGeom prst="rect">
                <a:avLst/>
              </a:prstGeom>
              <a:ln w="0">
                <a:noFill/>
              </a:ln>
            </p:spPr>
          </p:pic>
          <p:pic>
            <p:nvPicPr>
              <p:cNvPr id="2396" name="" descr=""/>
              <p:cNvPicPr/>
              <p:nvPr/>
            </p:nvPicPr>
            <p:blipFill>
              <a:blip r:embed="rId6"/>
              <a:stretch/>
            </p:blipFill>
            <p:spPr>
              <a:xfrm flipH="1" rot="10800000">
                <a:off x="3122280" y="3124080"/>
                <a:ext cx="902880" cy="806400"/>
              </a:xfrm>
              <a:prstGeom prst="rect">
                <a:avLst/>
              </a:prstGeom>
              <a:ln w="0">
                <a:noFill/>
              </a:ln>
            </p:spPr>
          </p:pic>
          <p:grpSp>
            <p:nvGrpSpPr>
              <p:cNvPr id="2397" name=""/>
              <p:cNvGrpSpPr/>
              <p:nvPr/>
            </p:nvGrpSpPr>
            <p:grpSpPr>
              <a:xfrm>
                <a:off x="1316160" y="5108400"/>
                <a:ext cx="774000" cy="750600"/>
                <a:chOff x="1316160" y="5108400"/>
                <a:chExt cx="774000" cy="750600"/>
              </a:xfrm>
            </p:grpSpPr>
            <p:sp>
              <p:nvSpPr>
                <p:cNvPr id="2398" name=""/>
                <p:cNvSpPr/>
                <p:nvPr/>
              </p:nvSpPr>
              <p:spPr>
                <a:xfrm flipH="1">
                  <a:off x="1316160" y="5108400"/>
                  <a:ext cx="774000" cy="750600"/>
                </a:xfrm>
                <a:custGeom>
                  <a:avLst/>
                  <a:gdLst/>
                  <a:ahLst/>
                  <a:rect l="l" t="t" r="r" b="b"/>
                  <a:pathLst>
                    <a:path w="4466" h="4110">
                      <a:moveTo>
                        <a:pt x="3524" y="35"/>
                      </a:moveTo>
                      <a:lnTo>
                        <a:pt x="3530" y="48"/>
                      </a:lnTo>
                      <a:lnTo>
                        <a:pt x="3539" y="60"/>
                      </a:lnTo>
                      <a:lnTo>
                        <a:pt x="3549" y="72"/>
                      </a:lnTo>
                      <a:lnTo>
                        <a:pt x="3560" y="82"/>
                      </a:lnTo>
                      <a:lnTo>
                        <a:pt x="3570" y="94"/>
                      </a:lnTo>
                      <a:lnTo>
                        <a:pt x="3578" y="107"/>
                      </a:lnTo>
                      <a:lnTo>
                        <a:pt x="3585" y="120"/>
                      </a:lnTo>
                      <a:lnTo>
                        <a:pt x="3588" y="135"/>
                      </a:lnTo>
                      <a:lnTo>
                        <a:pt x="3615" y="204"/>
                      </a:lnTo>
                      <a:lnTo>
                        <a:pt x="3638" y="274"/>
                      </a:lnTo>
                      <a:lnTo>
                        <a:pt x="3660" y="345"/>
                      </a:lnTo>
                      <a:lnTo>
                        <a:pt x="3678" y="417"/>
                      </a:lnTo>
                      <a:lnTo>
                        <a:pt x="3694" y="489"/>
                      </a:lnTo>
                      <a:lnTo>
                        <a:pt x="3709" y="563"/>
                      </a:lnTo>
                      <a:lnTo>
                        <a:pt x="3722" y="638"/>
                      </a:lnTo>
                      <a:lnTo>
                        <a:pt x="3735" y="714"/>
                      </a:lnTo>
                      <a:lnTo>
                        <a:pt x="3745" y="708"/>
                      </a:lnTo>
                      <a:lnTo>
                        <a:pt x="3755" y="701"/>
                      </a:lnTo>
                      <a:lnTo>
                        <a:pt x="3762" y="691"/>
                      </a:lnTo>
                      <a:lnTo>
                        <a:pt x="3771" y="683"/>
                      </a:lnTo>
                      <a:lnTo>
                        <a:pt x="3779" y="674"/>
                      </a:lnTo>
                      <a:lnTo>
                        <a:pt x="3788" y="667"/>
                      </a:lnTo>
                      <a:lnTo>
                        <a:pt x="3800" y="663"/>
                      </a:lnTo>
                      <a:lnTo>
                        <a:pt x="3814" y="660"/>
                      </a:lnTo>
                      <a:lnTo>
                        <a:pt x="3828" y="666"/>
                      </a:lnTo>
                      <a:lnTo>
                        <a:pt x="3837" y="675"/>
                      </a:lnTo>
                      <a:lnTo>
                        <a:pt x="3843" y="688"/>
                      </a:lnTo>
                      <a:lnTo>
                        <a:pt x="3845" y="702"/>
                      </a:lnTo>
                      <a:lnTo>
                        <a:pt x="3846" y="717"/>
                      </a:lnTo>
                      <a:lnTo>
                        <a:pt x="3847" y="733"/>
                      </a:lnTo>
                      <a:lnTo>
                        <a:pt x="3848" y="748"/>
                      </a:lnTo>
                      <a:lnTo>
                        <a:pt x="3852" y="761"/>
                      </a:lnTo>
                      <a:lnTo>
                        <a:pt x="3866" y="828"/>
                      </a:lnTo>
                      <a:lnTo>
                        <a:pt x="3880" y="899"/>
                      </a:lnTo>
                      <a:lnTo>
                        <a:pt x="3893" y="970"/>
                      </a:lnTo>
                      <a:lnTo>
                        <a:pt x="3901" y="1042"/>
                      </a:lnTo>
                      <a:lnTo>
                        <a:pt x="3901" y="1112"/>
                      </a:lnTo>
                      <a:lnTo>
                        <a:pt x="3892" y="1182"/>
                      </a:lnTo>
                      <a:lnTo>
                        <a:pt x="3871" y="1248"/>
                      </a:lnTo>
                      <a:lnTo>
                        <a:pt x="3834" y="1310"/>
                      </a:lnTo>
                      <a:lnTo>
                        <a:pt x="3840" y="1314"/>
                      </a:lnTo>
                      <a:lnTo>
                        <a:pt x="3850" y="1310"/>
                      </a:lnTo>
                      <a:lnTo>
                        <a:pt x="3860" y="1304"/>
                      </a:lnTo>
                      <a:lnTo>
                        <a:pt x="3872" y="1297"/>
                      </a:lnTo>
                      <a:lnTo>
                        <a:pt x="3882" y="1292"/>
                      </a:lnTo>
                      <a:lnTo>
                        <a:pt x="3894" y="1285"/>
                      </a:lnTo>
                      <a:lnTo>
                        <a:pt x="3905" y="1281"/>
                      </a:lnTo>
                      <a:lnTo>
                        <a:pt x="3917" y="1279"/>
                      </a:lnTo>
                      <a:lnTo>
                        <a:pt x="3928" y="1279"/>
                      </a:lnTo>
                      <a:lnTo>
                        <a:pt x="3932" y="1295"/>
                      </a:lnTo>
                      <a:lnTo>
                        <a:pt x="3931" y="1310"/>
                      </a:lnTo>
                      <a:lnTo>
                        <a:pt x="3926" y="1326"/>
                      </a:lnTo>
                      <a:lnTo>
                        <a:pt x="3921" y="1340"/>
                      </a:lnTo>
                      <a:lnTo>
                        <a:pt x="3920" y="1414"/>
                      </a:lnTo>
                      <a:lnTo>
                        <a:pt x="3914" y="1489"/>
                      </a:lnTo>
                      <a:lnTo>
                        <a:pt x="3907" y="1564"/>
                      </a:lnTo>
                      <a:lnTo>
                        <a:pt x="3895" y="1637"/>
                      </a:lnTo>
                      <a:lnTo>
                        <a:pt x="3877" y="1656"/>
                      </a:lnTo>
                      <a:lnTo>
                        <a:pt x="3860" y="1676"/>
                      </a:lnTo>
                      <a:lnTo>
                        <a:pt x="3843" y="1694"/>
                      </a:lnTo>
                      <a:lnTo>
                        <a:pt x="3826" y="1712"/>
                      </a:lnTo>
                      <a:lnTo>
                        <a:pt x="3810" y="1729"/>
                      </a:lnTo>
                      <a:lnTo>
                        <a:pt x="3792" y="1746"/>
                      </a:lnTo>
                      <a:lnTo>
                        <a:pt x="3775" y="1763"/>
                      </a:lnTo>
                      <a:lnTo>
                        <a:pt x="3758" y="1779"/>
                      </a:lnTo>
                      <a:lnTo>
                        <a:pt x="3740" y="1795"/>
                      </a:lnTo>
                      <a:lnTo>
                        <a:pt x="3722" y="1811"/>
                      </a:lnTo>
                      <a:lnTo>
                        <a:pt x="3704" y="1827"/>
                      </a:lnTo>
                      <a:lnTo>
                        <a:pt x="3684" y="1842"/>
                      </a:lnTo>
                      <a:lnTo>
                        <a:pt x="3664" y="1858"/>
                      </a:lnTo>
                      <a:lnTo>
                        <a:pt x="3644" y="1873"/>
                      </a:lnTo>
                      <a:lnTo>
                        <a:pt x="3621" y="1889"/>
                      </a:lnTo>
                      <a:lnTo>
                        <a:pt x="3599" y="1904"/>
                      </a:lnTo>
                      <a:lnTo>
                        <a:pt x="3599" y="1908"/>
                      </a:lnTo>
                      <a:lnTo>
                        <a:pt x="3614" y="1906"/>
                      </a:lnTo>
                      <a:lnTo>
                        <a:pt x="3629" y="1903"/>
                      </a:lnTo>
                      <a:lnTo>
                        <a:pt x="3644" y="1900"/>
                      </a:lnTo>
                      <a:lnTo>
                        <a:pt x="3660" y="1896"/>
                      </a:lnTo>
                      <a:lnTo>
                        <a:pt x="3675" y="1891"/>
                      </a:lnTo>
                      <a:lnTo>
                        <a:pt x="3690" y="1887"/>
                      </a:lnTo>
                      <a:lnTo>
                        <a:pt x="3705" y="1884"/>
                      </a:lnTo>
                      <a:lnTo>
                        <a:pt x="3720" y="1883"/>
                      </a:lnTo>
                      <a:lnTo>
                        <a:pt x="3730" y="1889"/>
                      </a:lnTo>
                      <a:lnTo>
                        <a:pt x="3741" y="1895"/>
                      </a:lnTo>
                      <a:lnTo>
                        <a:pt x="3752" y="1899"/>
                      </a:lnTo>
                      <a:lnTo>
                        <a:pt x="3764" y="1902"/>
                      </a:lnTo>
                      <a:lnTo>
                        <a:pt x="3774" y="1906"/>
                      </a:lnTo>
                      <a:lnTo>
                        <a:pt x="3785" y="1911"/>
                      </a:lnTo>
                      <a:lnTo>
                        <a:pt x="3796" y="1916"/>
                      </a:lnTo>
                      <a:lnTo>
                        <a:pt x="3806" y="1921"/>
                      </a:lnTo>
                      <a:lnTo>
                        <a:pt x="3817" y="1921"/>
                      </a:lnTo>
                      <a:lnTo>
                        <a:pt x="3835" y="1935"/>
                      </a:lnTo>
                      <a:lnTo>
                        <a:pt x="3852" y="1949"/>
                      </a:lnTo>
                      <a:lnTo>
                        <a:pt x="3868" y="1962"/>
                      </a:lnTo>
                      <a:lnTo>
                        <a:pt x="3885" y="1976"/>
                      </a:lnTo>
                      <a:lnTo>
                        <a:pt x="3901" y="1990"/>
                      </a:lnTo>
                      <a:lnTo>
                        <a:pt x="3916" y="2004"/>
                      </a:lnTo>
                      <a:lnTo>
                        <a:pt x="3931" y="2017"/>
                      </a:lnTo>
                      <a:lnTo>
                        <a:pt x="3947" y="2032"/>
                      </a:lnTo>
                      <a:lnTo>
                        <a:pt x="3937" y="2056"/>
                      </a:lnTo>
                      <a:lnTo>
                        <a:pt x="3925" y="2075"/>
                      </a:lnTo>
                      <a:lnTo>
                        <a:pt x="3911" y="2092"/>
                      </a:lnTo>
                      <a:lnTo>
                        <a:pt x="3895" y="2107"/>
                      </a:lnTo>
                      <a:lnTo>
                        <a:pt x="3880" y="2123"/>
                      </a:lnTo>
                      <a:lnTo>
                        <a:pt x="3864" y="2139"/>
                      </a:lnTo>
                      <a:lnTo>
                        <a:pt x="3848" y="2157"/>
                      </a:lnTo>
                      <a:lnTo>
                        <a:pt x="3834" y="2180"/>
                      </a:lnTo>
                      <a:lnTo>
                        <a:pt x="3820" y="2191"/>
                      </a:lnTo>
                      <a:lnTo>
                        <a:pt x="3807" y="2201"/>
                      </a:lnTo>
                      <a:lnTo>
                        <a:pt x="3793" y="2211"/>
                      </a:lnTo>
                      <a:lnTo>
                        <a:pt x="3780" y="2220"/>
                      </a:lnTo>
                      <a:lnTo>
                        <a:pt x="3766" y="2230"/>
                      </a:lnTo>
                      <a:lnTo>
                        <a:pt x="3752" y="2240"/>
                      </a:lnTo>
                      <a:lnTo>
                        <a:pt x="3738" y="2250"/>
                      </a:lnTo>
                      <a:lnTo>
                        <a:pt x="3725" y="2261"/>
                      </a:lnTo>
                      <a:lnTo>
                        <a:pt x="3713" y="2260"/>
                      </a:lnTo>
                      <a:lnTo>
                        <a:pt x="3701" y="2260"/>
                      </a:lnTo>
                      <a:lnTo>
                        <a:pt x="3690" y="2262"/>
                      </a:lnTo>
                      <a:lnTo>
                        <a:pt x="3677" y="2264"/>
                      </a:lnTo>
                      <a:lnTo>
                        <a:pt x="3665" y="2267"/>
                      </a:lnTo>
                      <a:lnTo>
                        <a:pt x="3653" y="2271"/>
                      </a:lnTo>
                      <a:lnTo>
                        <a:pt x="3641" y="2275"/>
                      </a:lnTo>
                      <a:lnTo>
                        <a:pt x="3631" y="2279"/>
                      </a:lnTo>
                      <a:lnTo>
                        <a:pt x="3615" y="2280"/>
                      </a:lnTo>
                      <a:lnTo>
                        <a:pt x="3601" y="2284"/>
                      </a:lnTo>
                      <a:lnTo>
                        <a:pt x="3586" y="2289"/>
                      </a:lnTo>
                      <a:lnTo>
                        <a:pt x="3572" y="2293"/>
                      </a:lnTo>
                      <a:lnTo>
                        <a:pt x="3558" y="2298"/>
                      </a:lnTo>
                      <a:lnTo>
                        <a:pt x="3544" y="2303"/>
                      </a:lnTo>
                      <a:lnTo>
                        <a:pt x="3529" y="2306"/>
                      </a:lnTo>
                      <a:lnTo>
                        <a:pt x="3513" y="2307"/>
                      </a:lnTo>
                      <a:lnTo>
                        <a:pt x="3508" y="2308"/>
                      </a:lnTo>
                      <a:lnTo>
                        <a:pt x="3501" y="2308"/>
                      </a:lnTo>
                      <a:lnTo>
                        <a:pt x="3494" y="2307"/>
                      </a:lnTo>
                      <a:lnTo>
                        <a:pt x="3486" y="2307"/>
                      </a:lnTo>
                      <a:lnTo>
                        <a:pt x="3479" y="2307"/>
                      </a:lnTo>
                      <a:lnTo>
                        <a:pt x="3472" y="2308"/>
                      </a:lnTo>
                      <a:lnTo>
                        <a:pt x="3465" y="2310"/>
                      </a:lnTo>
                      <a:lnTo>
                        <a:pt x="3459" y="2315"/>
                      </a:lnTo>
                      <a:lnTo>
                        <a:pt x="3474" y="2320"/>
                      </a:lnTo>
                      <a:lnTo>
                        <a:pt x="3489" y="2324"/>
                      </a:lnTo>
                      <a:lnTo>
                        <a:pt x="3507" y="2325"/>
                      </a:lnTo>
                      <a:lnTo>
                        <a:pt x="3523" y="2327"/>
                      </a:lnTo>
                      <a:lnTo>
                        <a:pt x="3539" y="2329"/>
                      </a:lnTo>
                      <a:lnTo>
                        <a:pt x="3554" y="2334"/>
                      </a:lnTo>
                      <a:lnTo>
                        <a:pt x="3567" y="2340"/>
                      </a:lnTo>
                      <a:lnTo>
                        <a:pt x="3577" y="2351"/>
                      </a:lnTo>
                      <a:lnTo>
                        <a:pt x="3582" y="2378"/>
                      </a:lnTo>
                      <a:lnTo>
                        <a:pt x="3578" y="2403"/>
                      </a:lnTo>
                      <a:lnTo>
                        <a:pt x="3571" y="2426"/>
                      </a:lnTo>
                      <a:lnTo>
                        <a:pt x="3560" y="2447"/>
                      </a:lnTo>
                      <a:lnTo>
                        <a:pt x="3546" y="2467"/>
                      </a:lnTo>
                      <a:lnTo>
                        <a:pt x="3530" y="2487"/>
                      </a:lnTo>
                      <a:lnTo>
                        <a:pt x="3514" y="2507"/>
                      </a:lnTo>
                      <a:lnTo>
                        <a:pt x="3499" y="2526"/>
                      </a:lnTo>
                      <a:lnTo>
                        <a:pt x="3485" y="2535"/>
                      </a:lnTo>
                      <a:lnTo>
                        <a:pt x="3471" y="2543"/>
                      </a:lnTo>
                      <a:lnTo>
                        <a:pt x="3457" y="2551"/>
                      </a:lnTo>
                      <a:lnTo>
                        <a:pt x="3442" y="2558"/>
                      </a:lnTo>
                      <a:lnTo>
                        <a:pt x="3427" y="2565"/>
                      </a:lnTo>
                      <a:lnTo>
                        <a:pt x="3412" y="2571"/>
                      </a:lnTo>
                      <a:lnTo>
                        <a:pt x="3396" y="2577"/>
                      </a:lnTo>
                      <a:lnTo>
                        <a:pt x="3380" y="2583"/>
                      </a:lnTo>
                      <a:lnTo>
                        <a:pt x="3364" y="2587"/>
                      </a:lnTo>
                      <a:lnTo>
                        <a:pt x="3348" y="2591"/>
                      </a:lnTo>
                      <a:lnTo>
                        <a:pt x="3332" y="2594"/>
                      </a:lnTo>
                      <a:lnTo>
                        <a:pt x="3315" y="2598"/>
                      </a:lnTo>
                      <a:lnTo>
                        <a:pt x="3299" y="2601"/>
                      </a:lnTo>
                      <a:lnTo>
                        <a:pt x="3282" y="2602"/>
                      </a:lnTo>
                      <a:lnTo>
                        <a:pt x="3265" y="2603"/>
                      </a:lnTo>
                      <a:lnTo>
                        <a:pt x="3247" y="2604"/>
                      </a:lnTo>
                      <a:lnTo>
                        <a:pt x="3257" y="2611"/>
                      </a:lnTo>
                      <a:lnTo>
                        <a:pt x="3267" y="2619"/>
                      </a:lnTo>
                      <a:lnTo>
                        <a:pt x="3275" y="2629"/>
                      </a:lnTo>
                      <a:lnTo>
                        <a:pt x="3284" y="2638"/>
                      </a:lnTo>
                      <a:lnTo>
                        <a:pt x="3293" y="2646"/>
                      </a:lnTo>
                      <a:lnTo>
                        <a:pt x="3303" y="2651"/>
                      </a:lnTo>
                      <a:lnTo>
                        <a:pt x="3313" y="2652"/>
                      </a:lnTo>
                      <a:lnTo>
                        <a:pt x="3323" y="2647"/>
                      </a:lnTo>
                      <a:lnTo>
                        <a:pt x="3343" y="2644"/>
                      </a:lnTo>
                      <a:lnTo>
                        <a:pt x="3362" y="2643"/>
                      </a:lnTo>
                      <a:lnTo>
                        <a:pt x="3381" y="2644"/>
                      </a:lnTo>
                      <a:lnTo>
                        <a:pt x="3399" y="2648"/>
                      </a:lnTo>
                      <a:lnTo>
                        <a:pt x="3417" y="2654"/>
                      </a:lnTo>
                      <a:lnTo>
                        <a:pt x="3433" y="2665"/>
                      </a:lnTo>
                      <a:lnTo>
                        <a:pt x="3447" y="2678"/>
                      </a:lnTo>
                      <a:lnTo>
                        <a:pt x="3459" y="2694"/>
                      </a:lnTo>
                      <a:lnTo>
                        <a:pt x="3459" y="2700"/>
                      </a:lnTo>
                      <a:lnTo>
                        <a:pt x="3471" y="2698"/>
                      </a:lnTo>
                      <a:lnTo>
                        <a:pt x="3483" y="2696"/>
                      </a:lnTo>
                      <a:lnTo>
                        <a:pt x="3495" y="2695"/>
                      </a:lnTo>
                      <a:lnTo>
                        <a:pt x="3507" y="2694"/>
                      </a:lnTo>
                      <a:lnTo>
                        <a:pt x="3517" y="2693"/>
                      </a:lnTo>
                      <a:lnTo>
                        <a:pt x="3528" y="2693"/>
                      </a:lnTo>
                      <a:lnTo>
                        <a:pt x="3539" y="2693"/>
                      </a:lnTo>
                      <a:lnTo>
                        <a:pt x="3549" y="2693"/>
                      </a:lnTo>
                      <a:lnTo>
                        <a:pt x="3560" y="2694"/>
                      </a:lnTo>
                      <a:lnTo>
                        <a:pt x="3571" y="2694"/>
                      </a:lnTo>
                      <a:lnTo>
                        <a:pt x="3583" y="2695"/>
                      </a:lnTo>
                      <a:lnTo>
                        <a:pt x="3593" y="2697"/>
                      </a:lnTo>
                      <a:lnTo>
                        <a:pt x="3605" y="2698"/>
                      </a:lnTo>
                      <a:lnTo>
                        <a:pt x="3617" y="2700"/>
                      </a:lnTo>
                      <a:lnTo>
                        <a:pt x="3629" y="2703"/>
                      </a:lnTo>
                      <a:lnTo>
                        <a:pt x="3641" y="2706"/>
                      </a:lnTo>
                      <a:lnTo>
                        <a:pt x="3653" y="2712"/>
                      </a:lnTo>
                      <a:lnTo>
                        <a:pt x="3662" y="2724"/>
                      </a:lnTo>
                      <a:lnTo>
                        <a:pt x="3669" y="2738"/>
                      </a:lnTo>
                      <a:lnTo>
                        <a:pt x="3677" y="2753"/>
                      </a:lnTo>
                      <a:lnTo>
                        <a:pt x="3684" y="2764"/>
                      </a:lnTo>
                      <a:lnTo>
                        <a:pt x="3695" y="2771"/>
                      </a:lnTo>
                      <a:lnTo>
                        <a:pt x="3708" y="2768"/>
                      </a:lnTo>
                      <a:lnTo>
                        <a:pt x="3725" y="2754"/>
                      </a:lnTo>
                      <a:lnTo>
                        <a:pt x="3730" y="2754"/>
                      </a:lnTo>
                      <a:lnTo>
                        <a:pt x="3735" y="2754"/>
                      </a:lnTo>
                      <a:lnTo>
                        <a:pt x="3740" y="2754"/>
                      </a:lnTo>
                      <a:lnTo>
                        <a:pt x="3745" y="2755"/>
                      </a:lnTo>
                      <a:lnTo>
                        <a:pt x="3751" y="2754"/>
                      </a:lnTo>
                      <a:lnTo>
                        <a:pt x="3755" y="2753"/>
                      </a:lnTo>
                      <a:lnTo>
                        <a:pt x="3759" y="2750"/>
                      </a:lnTo>
                      <a:lnTo>
                        <a:pt x="3764" y="2746"/>
                      </a:lnTo>
                      <a:lnTo>
                        <a:pt x="3780" y="2744"/>
                      </a:lnTo>
                      <a:lnTo>
                        <a:pt x="3796" y="2743"/>
                      </a:lnTo>
                      <a:lnTo>
                        <a:pt x="3811" y="2743"/>
                      </a:lnTo>
                      <a:lnTo>
                        <a:pt x="3827" y="2745"/>
                      </a:lnTo>
                      <a:lnTo>
                        <a:pt x="3842" y="2747"/>
                      </a:lnTo>
                      <a:lnTo>
                        <a:pt x="3857" y="2752"/>
                      </a:lnTo>
                      <a:lnTo>
                        <a:pt x="3872" y="2757"/>
                      </a:lnTo>
                      <a:lnTo>
                        <a:pt x="3887" y="2763"/>
                      </a:lnTo>
                      <a:lnTo>
                        <a:pt x="3901" y="2771"/>
                      </a:lnTo>
                      <a:lnTo>
                        <a:pt x="3914" y="2779"/>
                      </a:lnTo>
                      <a:lnTo>
                        <a:pt x="3927" y="2789"/>
                      </a:lnTo>
                      <a:lnTo>
                        <a:pt x="3939" y="2799"/>
                      </a:lnTo>
                      <a:lnTo>
                        <a:pt x="3951" y="2810"/>
                      </a:lnTo>
                      <a:lnTo>
                        <a:pt x="3963" y="2822"/>
                      </a:lnTo>
                      <a:lnTo>
                        <a:pt x="3972" y="2835"/>
                      </a:lnTo>
                      <a:lnTo>
                        <a:pt x="3982" y="2848"/>
                      </a:lnTo>
                      <a:lnTo>
                        <a:pt x="3992" y="2846"/>
                      </a:lnTo>
                      <a:lnTo>
                        <a:pt x="4000" y="2842"/>
                      </a:lnTo>
                      <a:lnTo>
                        <a:pt x="4009" y="2839"/>
                      </a:lnTo>
                      <a:lnTo>
                        <a:pt x="4017" y="2835"/>
                      </a:lnTo>
                      <a:lnTo>
                        <a:pt x="4024" y="2830"/>
                      </a:lnTo>
                      <a:lnTo>
                        <a:pt x="4031" y="2824"/>
                      </a:lnTo>
                      <a:lnTo>
                        <a:pt x="4038" y="2819"/>
                      </a:lnTo>
                      <a:lnTo>
                        <a:pt x="4043" y="2812"/>
                      </a:lnTo>
                      <a:lnTo>
                        <a:pt x="4054" y="2809"/>
                      </a:lnTo>
                      <a:lnTo>
                        <a:pt x="4064" y="2805"/>
                      </a:lnTo>
                      <a:lnTo>
                        <a:pt x="4075" y="2801"/>
                      </a:lnTo>
                      <a:lnTo>
                        <a:pt x="4085" y="2795"/>
                      </a:lnTo>
                      <a:lnTo>
                        <a:pt x="4094" y="2789"/>
                      </a:lnTo>
                      <a:lnTo>
                        <a:pt x="4103" y="2783"/>
                      </a:lnTo>
                      <a:lnTo>
                        <a:pt x="4113" y="2776"/>
                      </a:lnTo>
                      <a:lnTo>
                        <a:pt x="4121" y="2769"/>
                      </a:lnTo>
                      <a:lnTo>
                        <a:pt x="4136" y="2762"/>
                      </a:lnTo>
                      <a:lnTo>
                        <a:pt x="4152" y="2756"/>
                      </a:lnTo>
                      <a:lnTo>
                        <a:pt x="4167" y="2749"/>
                      </a:lnTo>
                      <a:lnTo>
                        <a:pt x="4183" y="2743"/>
                      </a:lnTo>
                      <a:lnTo>
                        <a:pt x="4199" y="2736"/>
                      </a:lnTo>
                      <a:lnTo>
                        <a:pt x="4214" y="2729"/>
                      </a:lnTo>
                      <a:lnTo>
                        <a:pt x="4230" y="2722"/>
                      </a:lnTo>
                      <a:lnTo>
                        <a:pt x="4246" y="2715"/>
                      </a:lnTo>
                      <a:lnTo>
                        <a:pt x="4262" y="2708"/>
                      </a:lnTo>
                      <a:lnTo>
                        <a:pt x="4279" y="2701"/>
                      </a:lnTo>
                      <a:lnTo>
                        <a:pt x="4295" y="2695"/>
                      </a:lnTo>
                      <a:lnTo>
                        <a:pt x="4311" y="2689"/>
                      </a:lnTo>
                      <a:lnTo>
                        <a:pt x="4327" y="2683"/>
                      </a:lnTo>
                      <a:lnTo>
                        <a:pt x="4343" y="2678"/>
                      </a:lnTo>
                      <a:lnTo>
                        <a:pt x="4359" y="2672"/>
                      </a:lnTo>
                      <a:lnTo>
                        <a:pt x="4376" y="2668"/>
                      </a:lnTo>
                      <a:lnTo>
                        <a:pt x="4387" y="2669"/>
                      </a:lnTo>
                      <a:lnTo>
                        <a:pt x="4398" y="2669"/>
                      </a:lnTo>
                      <a:lnTo>
                        <a:pt x="4411" y="2668"/>
                      </a:lnTo>
                      <a:lnTo>
                        <a:pt x="4424" y="2668"/>
                      </a:lnTo>
                      <a:lnTo>
                        <a:pt x="4437" y="2669"/>
                      </a:lnTo>
                      <a:lnTo>
                        <a:pt x="4448" y="2672"/>
                      </a:lnTo>
                      <a:lnTo>
                        <a:pt x="4457" y="2680"/>
                      </a:lnTo>
                      <a:lnTo>
                        <a:pt x="4464" y="2691"/>
                      </a:lnTo>
                      <a:lnTo>
                        <a:pt x="4466" y="2714"/>
                      </a:lnTo>
                      <a:lnTo>
                        <a:pt x="4464" y="2737"/>
                      </a:lnTo>
                      <a:lnTo>
                        <a:pt x="4459" y="2756"/>
                      </a:lnTo>
                      <a:lnTo>
                        <a:pt x="4451" y="2775"/>
                      </a:lnTo>
                      <a:lnTo>
                        <a:pt x="4441" y="2791"/>
                      </a:lnTo>
                      <a:lnTo>
                        <a:pt x="4428" y="2807"/>
                      </a:lnTo>
                      <a:lnTo>
                        <a:pt x="4414" y="2821"/>
                      </a:lnTo>
                      <a:lnTo>
                        <a:pt x="4398" y="2834"/>
                      </a:lnTo>
                      <a:lnTo>
                        <a:pt x="4381" y="2847"/>
                      </a:lnTo>
                      <a:lnTo>
                        <a:pt x="4363" y="2858"/>
                      </a:lnTo>
                      <a:lnTo>
                        <a:pt x="4344" y="2869"/>
                      </a:lnTo>
                      <a:lnTo>
                        <a:pt x="4325" y="2881"/>
                      </a:lnTo>
                      <a:lnTo>
                        <a:pt x="4305" y="2892"/>
                      </a:lnTo>
                      <a:lnTo>
                        <a:pt x="4286" y="2903"/>
                      </a:lnTo>
                      <a:lnTo>
                        <a:pt x="4268" y="2915"/>
                      </a:lnTo>
                      <a:lnTo>
                        <a:pt x="4251" y="2927"/>
                      </a:lnTo>
                      <a:lnTo>
                        <a:pt x="4240" y="2925"/>
                      </a:lnTo>
                      <a:lnTo>
                        <a:pt x="4230" y="2926"/>
                      </a:lnTo>
                      <a:lnTo>
                        <a:pt x="4221" y="2929"/>
                      </a:lnTo>
                      <a:lnTo>
                        <a:pt x="4212" y="2933"/>
                      </a:lnTo>
                      <a:lnTo>
                        <a:pt x="4204" y="2939"/>
                      </a:lnTo>
                      <a:lnTo>
                        <a:pt x="4194" y="2944"/>
                      </a:lnTo>
                      <a:lnTo>
                        <a:pt x="4185" y="2948"/>
                      </a:lnTo>
                      <a:lnTo>
                        <a:pt x="4176" y="2951"/>
                      </a:lnTo>
                      <a:lnTo>
                        <a:pt x="4141" y="2965"/>
                      </a:lnTo>
                      <a:lnTo>
                        <a:pt x="4106" y="2978"/>
                      </a:lnTo>
                      <a:lnTo>
                        <a:pt x="4071" y="2989"/>
                      </a:lnTo>
                      <a:lnTo>
                        <a:pt x="4035" y="2999"/>
                      </a:lnTo>
                      <a:lnTo>
                        <a:pt x="3999" y="3008"/>
                      </a:lnTo>
                      <a:lnTo>
                        <a:pt x="3963" y="3015"/>
                      </a:lnTo>
                      <a:lnTo>
                        <a:pt x="3926" y="3023"/>
                      </a:lnTo>
                      <a:lnTo>
                        <a:pt x="3890" y="3028"/>
                      </a:lnTo>
                      <a:lnTo>
                        <a:pt x="3853" y="3034"/>
                      </a:lnTo>
                      <a:lnTo>
                        <a:pt x="3816" y="3038"/>
                      </a:lnTo>
                      <a:lnTo>
                        <a:pt x="3780" y="3042"/>
                      </a:lnTo>
                      <a:lnTo>
                        <a:pt x="3742" y="3045"/>
                      </a:lnTo>
                      <a:lnTo>
                        <a:pt x="3706" y="3048"/>
                      </a:lnTo>
                      <a:lnTo>
                        <a:pt x="3669" y="3051"/>
                      </a:lnTo>
                      <a:lnTo>
                        <a:pt x="3632" y="3053"/>
                      </a:lnTo>
                      <a:lnTo>
                        <a:pt x="3595" y="3055"/>
                      </a:lnTo>
                      <a:lnTo>
                        <a:pt x="3590" y="3049"/>
                      </a:lnTo>
                      <a:lnTo>
                        <a:pt x="3584" y="3049"/>
                      </a:lnTo>
                      <a:lnTo>
                        <a:pt x="3577" y="3053"/>
                      </a:lnTo>
                      <a:lnTo>
                        <a:pt x="3570" y="3055"/>
                      </a:lnTo>
                      <a:lnTo>
                        <a:pt x="3549" y="3053"/>
                      </a:lnTo>
                      <a:lnTo>
                        <a:pt x="3528" y="3051"/>
                      </a:lnTo>
                      <a:lnTo>
                        <a:pt x="3507" y="3050"/>
                      </a:lnTo>
                      <a:lnTo>
                        <a:pt x="3485" y="3049"/>
                      </a:lnTo>
                      <a:lnTo>
                        <a:pt x="3464" y="3048"/>
                      </a:lnTo>
                      <a:lnTo>
                        <a:pt x="3441" y="3048"/>
                      </a:lnTo>
                      <a:lnTo>
                        <a:pt x="3420" y="3048"/>
                      </a:lnTo>
                      <a:lnTo>
                        <a:pt x="3398" y="3048"/>
                      </a:lnTo>
                      <a:lnTo>
                        <a:pt x="3376" y="3049"/>
                      </a:lnTo>
                      <a:lnTo>
                        <a:pt x="3355" y="3050"/>
                      </a:lnTo>
                      <a:lnTo>
                        <a:pt x="3333" y="3052"/>
                      </a:lnTo>
                      <a:lnTo>
                        <a:pt x="3312" y="3054"/>
                      </a:lnTo>
                      <a:lnTo>
                        <a:pt x="3290" y="3057"/>
                      </a:lnTo>
                      <a:lnTo>
                        <a:pt x="3270" y="3060"/>
                      </a:lnTo>
                      <a:lnTo>
                        <a:pt x="3250" y="3065"/>
                      </a:lnTo>
                      <a:lnTo>
                        <a:pt x="3229" y="3069"/>
                      </a:lnTo>
                      <a:lnTo>
                        <a:pt x="3200" y="3088"/>
                      </a:lnTo>
                      <a:lnTo>
                        <a:pt x="3171" y="3106"/>
                      </a:lnTo>
                      <a:lnTo>
                        <a:pt x="3141" y="3124"/>
                      </a:lnTo>
                      <a:lnTo>
                        <a:pt x="3111" y="3141"/>
                      </a:lnTo>
                      <a:lnTo>
                        <a:pt x="3080" y="3157"/>
                      </a:lnTo>
                      <a:lnTo>
                        <a:pt x="3049" y="3173"/>
                      </a:lnTo>
                      <a:lnTo>
                        <a:pt x="3018" y="3186"/>
                      </a:lnTo>
                      <a:lnTo>
                        <a:pt x="2986" y="3200"/>
                      </a:lnTo>
                      <a:lnTo>
                        <a:pt x="2954" y="3213"/>
                      </a:lnTo>
                      <a:lnTo>
                        <a:pt x="2922" y="3226"/>
                      </a:lnTo>
                      <a:lnTo>
                        <a:pt x="2889" y="3238"/>
                      </a:lnTo>
                      <a:lnTo>
                        <a:pt x="2856" y="3250"/>
                      </a:lnTo>
                      <a:lnTo>
                        <a:pt x="2822" y="3260"/>
                      </a:lnTo>
                      <a:lnTo>
                        <a:pt x="2789" y="3271"/>
                      </a:lnTo>
                      <a:lnTo>
                        <a:pt x="2755" y="3280"/>
                      </a:lnTo>
                      <a:lnTo>
                        <a:pt x="2721" y="3290"/>
                      </a:lnTo>
                      <a:lnTo>
                        <a:pt x="2697" y="3295"/>
                      </a:lnTo>
                      <a:lnTo>
                        <a:pt x="2674" y="3300"/>
                      </a:lnTo>
                      <a:lnTo>
                        <a:pt x="2651" y="3304"/>
                      </a:lnTo>
                      <a:lnTo>
                        <a:pt x="2628" y="3307"/>
                      </a:lnTo>
                      <a:lnTo>
                        <a:pt x="2604" y="3311"/>
                      </a:lnTo>
                      <a:lnTo>
                        <a:pt x="2582" y="3314"/>
                      </a:lnTo>
                      <a:lnTo>
                        <a:pt x="2558" y="3317"/>
                      </a:lnTo>
                      <a:lnTo>
                        <a:pt x="2535" y="3319"/>
                      </a:lnTo>
                      <a:lnTo>
                        <a:pt x="2512" y="3321"/>
                      </a:lnTo>
                      <a:lnTo>
                        <a:pt x="2489" y="3322"/>
                      </a:lnTo>
                      <a:lnTo>
                        <a:pt x="2466" y="3323"/>
                      </a:lnTo>
                      <a:lnTo>
                        <a:pt x="2443" y="3323"/>
                      </a:lnTo>
                      <a:lnTo>
                        <a:pt x="2420" y="3324"/>
                      </a:lnTo>
                      <a:lnTo>
                        <a:pt x="2396" y="3323"/>
                      </a:lnTo>
                      <a:lnTo>
                        <a:pt x="2373" y="3323"/>
                      </a:lnTo>
                      <a:lnTo>
                        <a:pt x="2349" y="3322"/>
                      </a:lnTo>
                      <a:lnTo>
                        <a:pt x="2337" y="3339"/>
                      </a:lnTo>
                      <a:lnTo>
                        <a:pt x="2323" y="3355"/>
                      </a:lnTo>
                      <a:lnTo>
                        <a:pt x="2308" y="3370"/>
                      </a:lnTo>
                      <a:lnTo>
                        <a:pt x="2291" y="3382"/>
                      </a:lnTo>
                      <a:lnTo>
                        <a:pt x="2273" y="3394"/>
                      </a:lnTo>
                      <a:lnTo>
                        <a:pt x="2255" y="3403"/>
                      </a:lnTo>
                      <a:lnTo>
                        <a:pt x="2235" y="3412"/>
                      </a:lnTo>
                      <a:lnTo>
                        <a:pt x="2214" y="3419"/>
                      </a:lnTo>
                      <a:lnTo>
                        <a:pt x="2105" y="3409"/>
                      </a:lnTo>
                      <a:lnTo>
                        <a:pt x="2109" y="3426"/>
                      </a:lnTo>
                      <a:lnTo>
                        <a:pt x="2110" y="3442"/>
                      </a:lnTo>
                      <a:lnTo>
                        <a:pt x="2108" y="3458"/>
                      </a:lnTo>
                      <a:lnTo>
                        <a:pt x="2104" y="3475"/>
                      </a:lnTo>
                      <a:lnTo>
                        <a:pt x="2098" y="3491"/>
                      </a:lnTo>
                      <a:lnTo>
                        <a:pt x="2090" y="3507"/>
                      </a:lnTo>
                      <a:lnTo>
                        <a:pt x="2084" y="3522"/>
                      </a:lnTo>
                      <a:lnTo>
                        <a:pt x="2077" y="3538"/>
                      </a:lnTo>
                      <a:lnTo>
                        <a:pt x="2065" y="3551"/>
                      </a:lnTo>
                      <a:lnTo>
                        <a:pt x="2050" y="3562"/>
                      </a:lnTo>
                      <a:lnTo>
                        <a:pt x="2034" y="3569"/>
                      </a:lnTo>
                      <a:lnTo>
                        <a:pt x="2017" y="3575"/>
                      </a:lnTo>
                      <a:lnTo>
                        <a:pt x="2000" y="3582"/>
                      </a:lnTo>
                      <a:lnTo>
                        <a:pt x="1982" y="3587"/>
                      </a:lnTo>
                      <a:lnTo>
                        <a:pt x="1965" y="3594"/>
                      </a:lnTo>
                      <a:lnTo>
                        <a:pt x="1948" y="3602"/>
                      </a:lnTo>
                      <a:lnTo>
                        <a:pt x="1935" y="3614"/>
                      </a:lnTo>
                      <a:lnTo>
                        <a:pt x="1923" y="3626"/>
                      </a:lnTo>
                      <a:lnTo>
                        <a:pt x="1910" y="3636"/>
                      </a:lnTo>
                      <a:lnTo>
                        <a:pt x="1897" y="3648"/>
                      </a:lnTo>
                      <a:lnTo>
                        <a:pt x="1885" y="3659"/>
                      </a:lnTo>
                      <a:lnTo>
                        <a:pt x="1872" y="3669"/>
                      </a:lnTo>
                      <a:lnTo>
                        <a:pt x="1859" y="3679"/>
                      </a:lnTo>
                      <a:lnTo>
                        <a:pt x="1846" y="3689"/>
                      </a:lnTo>
                      <a:lnTo>
                        <a:pt x="1832" y="3698"/>
                      </a:lnTo>
                      <a:lnTo>
                        <a:pt x="1818" y="3707"/>
                      </a:lnTo>
                      <a:lnTo>
                        <a:pt x="1804" y="3714"/>
                      </a:lnTo>
                      <a:lnTo>
                        <a:pt x="1789" y="3722"/>
                      </a:lnTo>
                      <a:lnTo>
                        <a:pt x="1774" y="3728"/>
                      </a:lnTo>
                      <a:lnTo>
                        <a:pt x="1759" y="3735"/>
                      </a:lnTo>
                      <a:lnTo>
                        <a:pt x="1743" y="3740"/>
                      </a:lnTo>
                      <a:lnTo>
                        <a:pt x="1726" y="3744"/>
                      </a:lnTo>
                      <a:lnTo>
                        <a:pt x="1717" y="3758"/>
                      </a:lnTo>
                      <a:lnTo>
                        <a:pt x="1711" y="3771"/>
                      </a:lnTo>
                      <a:lnTo>
                        <a:pt x="1708" y="3786"/>
                      </a:lnTo>
                      <a:lnTo>
                        <a:pt x="1711" y="3802"/>
                      </a:lnTo>
                      <a:lnTo>
                        <a:pt x="1693" y="3817"/>
                      </a:lnTo>
                      <a:lnTo>
                        <a:pt x="1675" y="3831"/>
                      </a:lnTo>
                      <a:lnTo>
                        <a:pt x="1655" y="3843"/>
                      </a:lnTo>
                      <a:lnTo>
                        <a:pt x="1636" y="3853"/>
                      </a:lnTo>
                      <a:lnTo>
                        <a:pt x="1616" y="3863"/>
                      </a:lnTo>
                      <a:lnTo>
                        <a:pt x="1594" y="3871"/>
                      </a:lnTo>
                      <a:lnTo>
                        <a:pt x="1573" y="3880"/>
                      </a:lnTo>
                      <a:lnTo>
                        <a:pt x="1552" y="3887"/>
                      </a:lnTo>
                      <a:lnTo>
                        <a:pt x="1530" y="3894"/>
                      </a:lnTo>
                      <a:lnTo>
                        <a:pt x="1508" y="3900"/>
                      </a:lnTo>
                      <a:lnTo>
                        <a:pt x="1486" y="3907"/>
                      </a:lnTo>
                      <a:lnTo>
                        <a:pt x="1464" y="3913"/>
                      </a:lnTo>
                      <a:lnTo>
                        <a:pt x="1442" y="3919"/>
                      </a:lnTo>
                      <a:lnTo>
                        <a:pt x="1421" y="3927"/>
                      </a:lnTo>
                      <a:lnTo>
                        <a:pt x="1399" y="3934"/>
                      </a:lnTo>
                      <a:lnTo>
                        <a:pt x="1378" y="3942"/>
                      </a:lnTo>
                      <a:lnTo>
                        <a:pt x="1362" y="3944"/>
                      </a:lnTo>
                      <a:lnTo>
                        <a:pt x="1346" y="3947"/>
                      </a:lnTo>
                      <a:lnTo>
                        <a:pt x="1329" y="3952"/>
                      </a:lnTo>
                      <a:lnTo>
                        <a:pt x="1312" y="3954"/>
                      </a:lnTo>
                      <a:lnTo>
                        <a:pt x="1295" y="3955"/>
                      </a:lnTo>
                      <a:lnTo>
                        <a:pt x="1279" y="3954"/>
                      </a:lnTo>
                      <a:lnTo>
                        <a:pt x="1265" y="3947"/>
                      </a:lnTo>
                      <a:lnTo>
                        <a:pt x="1253" y="3937"/>
                      </a:lnTo>
                      <a:lnTo>
                        <a:pt x="1251" y="3928"/>
                      </a:lnTo>
                      <a:lnTo>
                        <a:pt x="1249" y="3918"/>
                      </a:lnTo>
                      <a:lnTo>
                        <a:pt x="1246" y="3910"/>
                      </a:lnTo>
                      <a:lnTo>
                        <a:pt x="1240" y="3901"/>
                      </a:lnTo>
                      <a:lnTo>
                        <a:pt x="1234" y="3915"/>
                      </a:lnTo>
                      <a:lnTo>
                        <a:pt x="1226" y="3928"/>
                      </a:lnTo>
                      <a:lnTo>
                        <a:pt x="1217" y="3942"/>
                      </a:lnTo>
                      <a:lnTo>
                        <a:pt x="1209" y="3955"/>
                      </a:lnTo>
                      <a:lnTo>
                        <a:pt x="1199" y="3967"/>
                      </a:lnTo>
                      <a:lnTo>
                        <a:pt x="1190" y="3979"/>
                      </a:lnTo>
                      <a:lnTo>
                        <a:pt x="1179" y="3990"/>
                      </a:lnTo>
                      <a:lnTo>
                        <a:pt x="1168" y="4002"/>
                      </a:lnTo>
                      <a:lnTo>
                        <a:pt x="1156" y="4012"/>
                      </a:lnTo>
                      <a:lnTo>
                        <a:pt x="1145" y="4023"/>
                      </a:lnTo>
                      <a:lnTo>
                        <a:pt x="1132" y="4033"/>
                      </a:lnTo>
                      <a:lnTo>
                        <a:pt x="1120" y="4042"/>
                      </a:lnTo>
                      <a:lnTo>
                        <a:pt x="1107" y="4051"/>
                      </a:lnTo>
                      <a:lnTo>
                        <a:pt x="1094" y="4058"/>
                      </a:lnTo>
                      <a:lnTo>
                        <a:pt x="1080" y="4067"/>
                      </a:lnTo>
                      <a:lnTo>
                        <a:pt x="1068" y="4073"/>
                      </a:lnTo>
                      <a:lnTo>
                        <a:pt x="1052" y="4077"/>
                      </a:lnTo>
                      <a:lnTo>
                        <a:pt x="1035" y="4081"/>
                      </a:lnTo>
                      <a:lnTo>
                        <a:pt x="1019" y="4085"/>
                      </a:lnTo>
                      <a:lnTo>
                        <a:pt x="1003" y="4089"/>
                      </a:lnTo>
                      <a:lnTo>
                        <a:pt x="987" y="4093"/>
                      </a:lnTo>
                      <a:lnTo>
                        <a:pt x="971" y="4097"/>
                      </a:lnTo>
                      <a:lnTo>
                        <a:pt x="955" y="4100"/>
                      </a:lnTo>
                      <a:lnTo>
                        <a:pt x="938" y="4102"/>
                      </a:lnTo>
                      <a:lnTo>
                        <a:pt x="927" y="4101"/>
                      </a:lnTo>
                      <a:lnTo>
                        <a:pt x="917" y="4102"/>
                      </a:lnTo>
                      <a:lnTo>
                        <a:pt x="906" y="4102"/>
                      </a:lnTo>
                      <a:lnTo>
                        <a:pt x="894" y="4103"/>
                      </a:lnTo>
                      <a:lnTo>
                        <a:pt x="882" y="4105"/>
                      </a:lnTo>
                      <a:lnTo>
                        <a:pt x="871" y="4106"/>
                      </a:lnTo>
                      <a:lnTo>
                        <a:pt x="859" y="4108"/>
                      </a:lnTo>
                      <a:lnTo>
                        <a:pt x="847" y="4109"/>
                      </a:lnTo>
                      <a:lnTo>
                        <a:pt x="835" y="4110"/>
                      </a:lnTo>
                      <a:lnTo>
                        <a:pt x="823" y="4110"/>
                      </a:lnTo>
                      <a:lnTo>
                        <a:pt x="813" y="4109"/>
                      </a:lnTo>
                      <a:lnTo>
                        <a:pt x="801" y="4106"/>
                      </a:lnTo>
                      <a:lnTo>
                        <a:pt x="790" y="4104"/>
                      </a:lnTo>
                      <a:lnTo>
                        <a:pt x="781" y="4100"/>
                      </a:lnTo>
                      <a:lnTo>
                        <a:pt x="771" y="4095"/>
                      </a:lnTo>
                      <a:lnTo>
                        <a:pt x="762" y="4087"/>
                      </a:lnTo>
                      <a:lnTo>
                        <a:pt x="762" y="4073"/>
                      </a:lnTo>
                      <a:lnTo>
                        <a:pt x="766" y="4059"/>
                      </a:lnTo>
                      <a:lnTo>
                        <a:pt x="771" y="4049"/>
                      </a:lnTo>
                      <a:lnTo>
                        <a:pt x="779" y="4038"/>
                      </a:lnTo>
                      <a:lnTo>
                        <a:pt x="786" y="4028"/>
                      </a:lnTo>
                      <a:lnTo>
                        <a:pt x="795" y="4019"/>
                      </a:lnTo>
                      <a:lnTo>
                        <a:pt x="803" y="4010"/>
                      </a:lnTo>
                      <a:lnTo>
                        <a:pt x="810" y="4002"/>
                      </a:lnTo>
                      <a:lnTo>
                        <a:pt x="799" y="4003"/>
                      </a:lnTo>
                      <a:lnTo>
                        <a:pt x="789" y="4006"/>
                      </a:lnTo>
                      <a:lnTo>
                        <a:pt x="780" y="4010"/>
                      </a:lnTo>
                      <a:lnTo>
                        <a:pt x="770" y="4016"/>
                      </a:lnTo>
                      <a:lnTo>
                        <a:pt x="760" y="4022"/>
                      </a:lnTo>
                      <a:lnTo>
                        <a:pt x="750" y="4026"/>
                      </a:lnTo>
                      <a:lnTo>
                        <a:pt x="739" y="4030"/>
                      </a:lnTo>
                      <a:lnTo>
                        <a:pt x="727" y="4031"/>
                      </a:lnTo>
                      <a:lnTo>
                        <a:pt x="711" y="4033"/>
                      </a:lnTo>
                      <a:lnTo>
                        <a:pt x="696" y="4034"/>
                      </a:lnTo>
                      <a:lnTo>
                        <a:pt x="680" y="4036"/>
                      </a:lnTo>
                      <a:lnTo>
                        <a:pt x="664" y="4037"/>
                      </a:lnTo>
                      <a:lnTo>
                        <a:pt x="647" y="4038"/>
                      </a:lnTo>
                      <a:lnTo>
                        <a:pt x="631" y="4038"/>
                      </a:lnTo>
                      <a:lnTo>
                        <a:pt x="615" y="4039"/>
                      </a:lnTo>
                      <a:lnTo>
                        <a:pt x="598" y="4039"/>
                      </a:lnTo>
                      <a:lnTo>
                        <a:pt x="580" y="4039"/>
                      </a:lnTo>
                      <a:lnTo>
                        <a:pt x="564" y="4038"/>
                      </a:lnTo>
                      <a:lnTo>
                        <a:pt x="547" y="4037"/>
                      </a:lnTo>
                      <a:lnTo>
                        <a:pt x="531" y="4036"/>
                      </a:lnTo>
                      <a:lnTo>
                        <a:pt x="514" y="4034"/>
                      </a:lnTo>
                      <a:lnTo>
                        <a:pt x="498" y="4032"/>
                      </a:lnTo>
                      <a:lnTo>
                        <a:pt x="481" y="4030"/>
                      </a:lnTo>
                      <a:lnTo>
                        <a:pt x="465" y="4026"/>
                      </a:lnTo>
                      <a:lnTo>
                        <a:pt x="448" y="4026"/>
                      </a:lnTo>
                      <a:lnTo>
                        <a:pt x="431" y="4025"/>
                      </a:lnTo>
                      <a:lnTo>
                        <a:pt x="414" y="4022"/>
                      </a:lnTo>
                      <a:lnTo>
                        <a:pt x="399" y="4018"/>
                      </a:lnTo>
                      <a:lnTo>
                        <a:pt x="383" y="4012"/>
                      </a:lnTo>
                      <a:lnTo>
                        <a:pt x="368" y="4007"/>
                      </a:lnTo>
                      <a:lnTo>
                        <a:pt x="353" y="4002"/>
                      </a:lnTo>
                      <a:lnTo>
                        <a:pt x="337" y="3997"/>
                      </a:lnTo>
                      <a:lnTo>
                        <a:pt x="330" y="3986"/>
                      </a:lnTo>
                      <a:lnTo>
                        <a:pt x="325" y="3975"/>
                      </a:lnTo>
                      <a:lnTo>
                        <a:pt x="323" y="3963"/>
                      </a:lnTo>
                      <a:lnTo>
                        <a:pt x="330" y="3952"/>
                      </a:lnTo>
                      <a:lnTo>
                        <a:pt x="345" y="3945"/>
                      </a:lnTo>
                      <a:lnTo>
                        <a:pt x="360" y="3941"/>
                      </a:lnTo>
                      <a:lnTo>
                        <a:pt x="376" y="3936"/>
                      </a:lnTo>
                      <a:lnTo>
                        <a:pt x="391" y="3930"/>
                      </a:lnTo>
                      <a:lnTo>
                        <a:pt x="407" y="3925"/>
                      </a:lnTo>
                      <a:lnTo>
                        <a:pt x="421" y="3918"/>
                      </a:lnTo>
                      <a:lnTo>
                        <a:pt x="435" y="3911"/>
                      </a:lnTo>
                      <a:lnTo>
                        <a:pt x="448" y="3901"/>
                      </a:lnTo>
                      <a:lnTo>
                        <a:pt x="446" y="3898"/>
                      </a:lnTo>
                      <a:lnTo>
                        <a:pt x="443" y="3896"/>
                      </a:lnTo>
                      <a:lnTo>
                        <a:pt x="440" y="3894"/>
                      </a:lnTo>
                      <a:lnTo>
                        <a:pt x="437" y="3894"/>
                      </a:lnTo>
                      <a:lnTo>
                        <a:pt x="425" y="3897"/>
                      </a:lnTo>
                      <a:lnTo>
                        <a:pt x="412" y="3898"/>
                      </a:lnTo>
                      <a:lnTo>
                        <a:pt x="398" y="3896"/>
                      </a:lnTo>
                      <a:lnTo>
                        <a:pt x="383" y="3893"/>
                      </a:lnTo>
                      <a:lnTo>
                        <a:pt x="368" y="3890"/>
                      </a:lnTo>
                      <a:lnTo>
                        <a:pt x="353" y="3885"/>
                      </a:lnTo>
                      <a:lnTo>
                        <a:pt x="338" y="3882"/>
                      </a:lnTo>
                      <a:lnTo>
                        <a:pt x="322" y="3881"/>
                      </a:lnTo>
                      <a:lnTo>
                        <a:pt x="298" y="3874"/>
                      </a:lnTo>
                      <a:lnTo>
                        <a:pt x="274" y="3865"/>
                      </a:lnTo>
                      <a:lnTo>
                        <a:pt x="251" y="3856"/>
                      </a:lnTo>
                      <a:lnTo>
                        <a:pt x="227" y="3847"/>
                      </a:lnTo>
                      <a:lnTo>
                        <a:pt x="204" y="3837"/>
                      </a:lnTo>
                      <a:lnTo>
                        <a:pt x="181" y="3827"/>
                      </a:lnTo>
                      <a:lnTo>
                        <a:pt x="159" y="3815"/>
                      </a:lnTo>
                      <a:lnTo>
                        <a:pt x="137" y="3802"/>
                      </a:lnTo>
                      <a:lnTo>
                        <a:pt x="116" y="3789"/>
                      </a:lnTo>
                      <a:lnTo>
                        <a:pt x="97" y="3774"/>
                      </a:lnTo>
                      <a:lnTo>
                        <a:pt x="77" y="3758"/>
                      </a:lnTo>
                      <a:lnTo>
                        <a:pt x="59" y="3741"/>
                      </a:lnTo>
                      <a:lnTo>
                        <a:pt x="42" y="3723"/>
                      </a:lnTo>
                      <a:lnTo>
                        <a:pt x="27" y="3703"/>
                      </a:lnTo>
                      <a:lnTo>
                        <a:pt x="13" y="3681"/>
                      </a:lnTo>
                      <a:lnTo>
                        <a:pt x="0" y="3658"/>
                      </a:lnTo>
                      <a:lnTo>
                        <a:pt x="0" y="3642"/>
                      </a:lnTo>
                      <a:lnTo>
                        <a:pt x="3" y="3628"/>
                      </a:lnTo>
                      <a:lnTo>
                        <a:pt x="10" y="3615"/>
                      </a:lnTo>
                      <a:lnTo>
                        <a:pt x="22" y="3604"/>
                      </a:lnTo>
                      <a:lnTo>
                        <a:pt x="44" y="3603"/>
                      </a:lnTo>
                      <a:lnTo>
                        <a:pt x="65" y="3605"/>
                      </a:lnTo>
                      <a:lnTo>
                        <a:pt x="87" y="3611"/>
                      </a:lnTo>
                      <a:lnTo>
                        <a:pt x="107" y="3618"/>
                      </a:lnTo>
                      <a:lnTo>
                        <a:pt x="128" y="3627"/>
                      </a:lnTo>
                      <a:lnTo>
                        <a:pt x="148" y="3636"/>
                      </a:lnTo>
                      <a:lnTo>
                        <a:pt x="167" y="3645"/>
                      </a:lnTo>
                      <a:lnTo>
                        <a:pt x="186" y="3652"/>
                      </a:lnTo>
                      <a:lnTo>
                        <a:pt x="192" y="3661"/>
                      </a:lnTo>
                      <a:lnTo>
                        <a:pt x="198" y="3667"/>
                      </a:lnTo>
                      <a:lnTo>
                        <a:pt x="207" y="3672"/>
                      </a:lnTo>
                      <a:lnTo>
                        <a:pt x="215" y="3675"/>
                      </a:lnTo>
                      <a:lnTo>
                        <a:pt x="225" y="3678"/>
                      </a:lnTo>
                      <a:lnTo>
                        <a:pt x="234" y="3682"/>
                      </a:lnTo>
                      <a:lnTo>
                        <a:pt x="241" y="3688"/>
                      </a:lnTo>
                      <a:lnTo>
                        <a:pt x="247" y="3695"/>
                      </a:lnTo>
                      <a:lnTo>
                        <a:pt x="255" y="3697"/>
                      </a:lnTo>
                      <a:lnTo>
                        <a:pt x="264" y="3699"/>
                      </a:lnTo>
                      <a:lnTo>
                        <a:pt x="271" y="3702"/>
                      </a:lnTo>
                      <a:lnTo>
                        <a:pt x="279" y="3705"/>
                      </a:lnTo>
                      <a:lnTo>
                        <a:pt x="286" y="3708"/>
                      </a:lnTo>
                      <a:lnTo>
                        <a:pt x="292" y="3710"/>
                      </a:lnTo>
                      <a:lnTo>
                        <a:pt x="300" y="3713"/>
                      </a:lnTo>
                      <a:lnTo>
                        <a:pt x="307" y="3715"/>
                      </a:lnTo>
                      <a:lnTo>
                        <a:pt x="305" y="3699"/>
                      </a:lnTo>
                      <a:lnTo>
                        <a:pt x="301" y="3684"/>
                      </a:lnTo>
                      <a:lnTo>
                        <a:pt x="294" y="3672"/>
                      </a:lnTo>
                      <a:lnTo>
                        <a:pt x="286" y="3658"/>
                      </a:lnTo>
                      <a:lnTo>
                        <a:pt x="279" y="3644"/>
                      </a:lnTo>
                      <a:lnTo>
                        <a:pt x="272" y="3630"/>
                      </a:lnTo>
                      <a:lnTo>
                        <a:pt x="267" y="3613"/>
                      </a:lnTo>
                      <a:lnTo>
                        <a:pt x="266" y="3595"/>
                      </a:lnTo>
                      <a:lnTo>
                        <a:pt x="268" y="3587"/>
                      </a:lnTo>
                      <a:lnTo>
                        <a:pt x="271" y="3581"/>
                      </a:lnTo>
                      <a:lnTo>
                        <a:pt x="274" y="3573"/>
                      </a:lnTo>
                      <a:lnTo>
                        <a:pt x="279" y="3567"/>
                      </a:lnTo>
                      <a:lnTo>
                        <a:pt x="284" y="3560"/>
                      </a:lnTo>
                      <a:lnTo>
                        <a:pt x="289" y="3555"/>
                      </a:lnTo>
                      <a:lnTo>
                        <a:pt x="295" y="3551"/>
                      </a:lnTo>
                      <a:lnTo>
                        <a:pt x="301" y="3548"/>
                      </a:lnTo>
                      <a:lnTo>
                        <a:pt x="314" y="3551"/>
                      </a:lnTo>
                      <a:lnTo>
                        <a:pt x="326" y="3556"/>
                      </a:lnTo>
                      <a:lnTo>
                        <a:pt x="336" y="3564"/>
                      </a:lnTo>
                      <a:lnTo>
                        <a:pt x="346" y="3571"/>
                      </a:lnTo>
                      <a:lnTo>
                        <a:pt x="357" y="3580"/>
                      </a:lnTo>
                      <a:lnTo>
                        <a:pt x="366" y="3588"/>
                      </a:lnTo>
                      <a:lnTo>
                        <a:pt x="378" y="3596"/>
                      </a:lnTo>
                      <a:lnTo>
                        <a:pt x="391" y="3602"/>
                      </a:lnTo>
                      <a:lnTo>
                        <a:pt x="404" y="3611"/>
                      </a:lnTo>
                      <a:lnTo>
                        <a:pt x="417" y="3619"/>
                      </a:lnTo>
                      <a:lnTo>
                        <a:pt x="431" y="3628"/>
                      </a:lnTo>
                      <a:lnTo>
                        <a:pt x="443" y="3636"/>
                      </a:lnTo>
                      <a:lnTo>
                        <a:pt x="456" y="3645"/>
                      </a:lnTo>
                      <a:lnTo>
                        <a:pt x="470" y="3653"/>
                      </a:lnTo>
                      <a:lnTo>
                        <a:pt x="484" y="3661"/>
                      </a:lnTo>
                      <a:lnTo>
                        <a:pt x="498" y="3667"/>
                      </a:lnTo>
                      <a:lnTo>
                        <a:pt x="512" y="3675"/>
                      </a:lnTo>
                      <a:lnTo>
                        <a:pt x="526" y="3680"/>
                      </a:lnTo>
                      <a:lnTo>
                        <a:pt x="540" y="3685"/>
                      </a:lnTo>
                      <a:lnTo>
                        <a:pt x="555" y="3690"/>
                      </a:lnTo>
                      <a:lnTo>
                        <a:pt x="570" y="3694"/>
                      </a:lnTo>
                      <a:lnTo>
                        <a:pt x="585" y="3696"/>
                      </a:lnTo>
                      <a:lnTo>
                        <a:pt x="601" y="3698"/>
                      </a:lnTo>
                      <a:lnTo>
                        <a:pt x="617" y="3698"/>
                      </a:lnTo>
                      <a:lnTo>
                        <a:pt x="610" y="3689"/>
                      </a:lnTo>
                      <a:lnTo>
                        <a:pt x="603" y="3679"/>
                      </a:lnTo>
                      <a:lnTo>
                        <a:pt x="596" y="3669"/>
                      </a:lnTo>
                      <a:lnTo>
                        <a:pt x="594" y="3658"/>
                      </a:lnTo>
                      <a:lnTo>
                        <a:pt x="608" y="3646"/>
                      </a:lnTo>
                      <a:lnTo>
                        <a:pt x="622" y="3635"/>
                      </a:lnTo>
                      <a:lnTo>
                        <a:pt x="637" y="3626"/>
                      </a:lnTo>
                      <a:lnTo>
                        <a:pt x="653" y="3618"/>
                      </a:lnTo>
                      <a:lnTo>
                        <a:pt x="670" y="3611"/>
                      </a:lnTo>
                      <a:lnTo>
                        <a:pt x="688" y="3604"/>
                      </a:lnTo>
                      <a:lnTo>
                        <a:pt x="706" y="3599"/>
                      </a:lnTo>
                      <a:lnTo>
                        <a:pt x="724" y="3594"/>
                      </a:lnTo>
                      <a:lnTo>
                        <a:pt x="742" y="3588"/>
                      </a:lnTo>
                      <a:lnTo>
                        <a:pt x="760" y="3583"/>
                      </a:lnTo>
                      <a:lnTo>
                        <a:pt x="779" y="3578"/>
                      </a:lnTo>
                      <a:lnTo>
                        <a:pt x="796" y="3571"/>
                      </a:lnTo>
                      <a:lnTo>
                        <a:pt x="814" y="3565"/>
                      </a:lnTo>
                      <a:lnTo>
                        <a:pt x="831" y="3556"/>
                      </a:lnTo>
                      <a:lnTo>
                        <a:pt x="847" y="3548"/>
                      </a:lnTo>
                      <a:lnTo>
                        <a:pt x="863" y="3538"/>
                      </a:lnTo>
                      <a:lnTo>
                        <a:pt x="873" y="3532"/>
                      </a:lnTo>
                      <a:lnTo>
                        <a:pt x="883" y="3526"/>
                      </a:lnTo>
                      <a:lnTo>
                        <a:pt x="894" y="3522"/>
                      </a:lnTo>
                      <a:lnTo>
                        <a:pt x="905" y="3518"/>
                      </a:lnTo>
                      <a:lnTo>
                        <a:pt x="916" y="3515"/>
                      </a:lnTo>
                      <a:lnTo>
                        <a:pt x="926" y="3511"/>
                      </a:lnTo>
                      <a:lnTo>
                        <a:pt x="938" y="3508"/>
                      </a:lnTo>
                      <a:lnTo>
                        <a:pt x="949" y="3505"/>
                      </a:lnTo>
                      <a:lnTo>
                        <a:pt x="980" y="3493"/>
                      </a:lnTo>
                      <a:lnTo>
                        <a:pt x="1010" y="3479"/>
                      </a:lnTo>
                      <a:lnTo>
                        <a:pt x="1039" y="3465"/>
                      </a:lnTo>
                      <a:lnTo>
                        <a:pt x="1069" y="3450"/>
                      </a:lnTo>
                      <a:lnTo>
                        <a:pt x="1098" y="3434"/>
                      </a:lnTo>
                      <a:lnTo>
                        <a:pt x="1125" y="3418"/>
                      </a:lnTo>
                      <a:lnTo>
                        <a:pt x="1154" y="3401"/>
                      </a:lnTo>
                      <a:lnTo>
                        <a:pt x="1182" y="3384"/>
                      </a:lnTo>
                      <a:lnTo>
                        <a:pt x="1211" y="3366"/>
                      </a:lnTo>
                      <a:lnTo>
                        <a:pt x="1239" y="3348"/>
                      </a:lnTo>
                      <a:lnTo>
                        <a:pt x="1267" y="3331"/>
                      </a:lnTo>
                      <a:lnTo>
                        <a:pt x="1296" y="3313"/>
                      </a:lnTo>
                      <a:lnTo>
                        <a:pt x="1323" y="3294"/>
                      </a:lnTo>
                      <a:lnTo>
                        <a:pt x="1352" y="3277"/>
                      </a:lnTo>
                      <a:lnTo>
                        <a:pt x="1381" y="3260"/>
                      </a:lnTo>
                      <a:lnTo>
                        <a:pt x="1411" y="3244"/>
                      </a:lnTo>
                      <a:lnTo>
                        <a:pt x="1427" y="3229"/>
                      </a:lnTo>
                      <a:lnTo>
                        <a:pt x="1444" y="3217"/>
                      </a:lnTo>
                      <a:lnTo>
                        <a:pt x="1463" y="3206"/>
                      </a:lnTo>
                      <a:lnTo>
                        <a:pt x="1481" y="3196"/>
                      </a:lnTo>
                      <a:lnTo>
                        <a:pt x="1499" y="3188"/>
                      </a:lnTo>
                      <a:lnTo>
                        <a:pt x="1518" y="3180"/>
                      </a:lnTo>
                      <a:lnTo>
                        <a:pt x="1538" y="3175"/>
                      </a:lnTo>
                      <a:lnTo>
                        <a:pt x="1558" y="3169"/>
                      </a:lnTo>
                      <a:lnTo>
                        <a:pt x="1578" y="3164"/>
                      </a:lnTo>
                      <a:lnTo>
                        <a:pt x="1599" y="3161"/>
                      </a:lnTo>
                      <a:lnTo>
                        <a:pt x="1619" y="3157"/>
                      </a:lnTo>
                      <a:lnTo>
                        <a:pt x="1640" y="3153"/>
                      </a:lnTo>
                      <a:lnTo>
                        <a:pt x="1662" y="3150"/>
                      </a:lnTo>
                      <a:lnTo>
                        <a:pt x="1683" y="3147"/>
                      </a:lnTo>
                      <a:lnTo>
                        <a:pt x="1705" y="3144"/>
                      </a:lnTo>
                      <a:lnTo>
                        <a:pt x="1726" y="3141"/>
                      </a:lnTo>
                      <a:lnTo>
                        <a:pt x="1737" y="3141"/>
                      </a:lnTo>
                      <a:lnTo>
                        <a:pt x="1749" y="3141"/>
                      </a:lnTo>
                      <a:lnTo>
                        <a:pt x="1760" y="3141"/>
                      </a:lnTo>
                      <a:lnTo>
                        <a:pt x="1772" y="3139"/>
                      </a:lnTo>
                      <a:lnTo>
                        <a:pt x="1785" y="3139"/>
                      </a:lnTo>
                      <a:lnTo>
                        <a:pt x="1797" y="3138"/>
                      </a:lnTo>
                      <a:lnTo>
                        <a:pt x="1810" y="3137"/>
                      </a:lnTo>
                      <a:lnTo>
                        <a:pt x="1822" y="3136"/>
                      </a:lnTo>
                      <a:lnTo>
                        <a:pt x="1835" y="3135"/>
                      </a:lnTo>
                      <a:lnTo>
                        <a:pt x="1847" y="3133"/>
                      </a:lnTo>
                      <a:lnTo>
                        <a:pt x="1860" y="3132"/>
                      </a:lnTo>
                      <a:lnTo>
                        <a:pt x="1873" y="3131"/>
                      </a:lnTo>
                      <a:lnTo>
                        <a:pt x="1885" y="3130"/>
                      </a:lnTo>
                      <a:lnTo>
                        <a:pt x="1896" y="3129"/>
                      </a:lnTo>
                      <a:lnTo>
                        <a:pt x="1908" y="3128"/>
                      </a:lnTo>
                      <a:lnTo>
                        <a:pt x="1920" y="3127"/>
                      </a:lnTo>
                      <a:lnTo>
                        <a:pt x="1920" y="3115"/>
                      </a:lnTo>
                      <a:lnTo>
                        <a:pt x="1908" y="3108"/>
                      </a:lnTo>
                      <a:lnTo>
                        <a:pt x="1895" y="3101"/>
                      </a:lnTo>
                      <a:lnTo>
                        <a:pt x="1883" y="3093"/>
                      </a:lnTo>
                      <a:lnTo>
                        <a:pt x="1873" y="3085"/>
                      </a:lnTo>
                      <a:lnTo>
                        <a:pt x="1861" y="3077"/>
                      </a:lnTo>
                      <a:lnTo>
                        <a:pt x="1849" y="3069"/>
                      </a:lnTo>
                      <a:lnTo>
                        <a:pt x="1837" y="3060"/>
                      </a:lnTo>
                      <a:lnTo>
                        <a:pt x="1826" y="3053"/>
                      </a:lnTo>
                      <a:lnTo>
                        <a:pt x="1814" y="3045"/>
                      </a:lnTo>
                      <a:lnTo>
                        <a:pt x="1801" y="3039"/>
                      </a:lnTo>
                      <a:lnTo>
                        <a:pt x="1788" y="3034"/>
                      </a:lnTo>
                      <a:lnTo>
                        <a:pt x="1775" y="3029"/>
                      </a:lnTo>
                      <a:lnTo>
                        <a:pt x="1761" y="3027"/>
                      </a:lnTo>
                      <a:lnTo>
                        <a:pt x="1746" y="3026"/>
                      </a:lnTo>
                      <a:lnTo>
                        <a:pt x="1731" y="3027"/>
                      </a:lnTo>
                      <a:lnTo>
                        <a:pt x="1715" y="3030"/>
                      </a:lnTo>
                      <a:lnTo>
                        <a:pt x="1695" y="3036"/>
                      </a:lnTo>
                      <a:lnTo>
                        <a:pt x="1676" y="3042"/>
                      </a:lnTo>
                      <a:lnTo>
                        <a:pt x="1656" y="3049"/>
                      </a:lnTo>
                      <a:lnTo>
                        <a:pt x="1637" y="3056"/>
                      </a:lnTo>
                      <a:lnTo>
                        <a:pt x="1619" y="3066"/>
                      </a:lnTo>
                      <a:lnTo>
                        <a:pt x="1602" y="3076"/>
                      </a:lnTo>
                      <a:lnTo>
                        <a:pt x="1585" y="3089"/>
                      </a:lnTo>
                      <a:lnTo>
                        <a:pt x="1569" y="3104"/>
                      </a:lnTo>
                      <a:lnTo>
                        <a:pt x="1559" y="3101"/>
                      </a:lnTo>
                      <a:lnTo>
                        <a:pt x="1556" y="3092"/>
                      </a:lnTo>
                      <a:lnTo>
                        <a:pt x="1554" y="3083"/>
                      </a:lnTo>
                      <a:lnTo>
                        <a:pt x="1550" y="3073"/>
                      </a:lnTo>
                      <a:lnTo>
                        <a:pt x="1557" y="3061"/>
                      </a:lnTo>
                      <a:lnTo>
                        <a:pt x="1560" y="3046"/>
                      </a:lnTo>
                      <a:lnTo>
                        <a:pt x="1563" y="3030"/>
                      </a:lnTo>
                      <a:lnTo>
                        <a:pt x="1565" y="3015"/>
                      </a:lnTo>
                      <a:lnTo>
                        <a:pt x="1570" y="3002"/>
                      </a:lnTo>
                      <a:lnTo>
                        <a:pt x="1574" y="2990"/>
                      </a:lnTo>
                      <a:lnTo>
                        <a:pt x="1578" y="2978"/>
                      </a:lnTo>
                      <a:lnTo>
                        <a:pt x="1584" y="2966"/>
                      </a:lnTo>
                      <a:lnTo>
                        <a:pt x="1590" y="2956"/>
                      </a:lnTo>
                      <a:lnTo>
                        <a:pt x="1598" y="2944"/>
                      </a:lnTo>
                      <a:lnTo>
                        <a:pt x="1605" y="2933"/>
                      </a:lnTo>
                      <a:lnTo>
                        <a:pt x="1615" y="2921"/>
                      </a:lnTo>
                      <a:lnTo>
                        <a:pt x="1631" y="2916"/>
                      </a:lnTo>
                      <a:lnTo>
                        <a:pt x="1647" y="2912"/>
                      </a:lnTo>
                      <a:lnTo>
                        <a:pt x="1664" y="2908"/>
                      </a:lnTo>
                      <a:lnTo>
                        <a:pt x="1681" y="2904"/>
                      </a:lnTo>
                      <a:lnTo>
                        <a:pt x="1697" y="2902"/>
                      </a:lnTo>
                      <a:lnTo>
                        <a:pt x="1714" y="2900"/>
                      </a:lnTo>
                      <a:lnTo>
                        <a:pt x="1730" y="2900"/>
                      </a:lnTo>
                      <a:lnTo>
                        <a:pt x="1746" y="2901"/>
                      </a:lnTo>
                      <a:lnTo>
                        <a:pt x="1764" y="2882"/>
                      </a:lnTo>
                      <a:lnTo>
                        <a:pt x="1780" y="2861"/>
                      </a:lnTo>
                      <a:lnTo>
                        <a:pt x="1796" y="2840"/>
                      </a:lnTo>
                      <a:lnTo>
                        <a:pt x="1814" y="2822"/>
                      </a:lnTo>
                      <a:lnTo>
                        <a:pt x="1833" y="2806"/>
                      </a:lnTo>
                      <a:lnTo>
                        <a:pt x="1855" y="2794"/>
                      </a:lnTo>
                      <a:lnTo>
                        <a:pt x="1880" y="2787"/>
                      </a:lnTo>
                      <a:lnTo>
                        <a:pt x="1909" y="2787"/>
                      </a:lnTo>
                      <a:lnTo>
                        <a:pt x="1927" y="2786"/>
                      </a:lnTo>
                      <a:lnTo>
                        <a:pt x="1946" y="2786"/>
                      </a:lnTo>
                      <a:lnTo>
                        <a:pt x="1964" y="2785"/>
                      </a:lnTo>
                      <a:lnTo>
                        <a:pt x="1981" y="2785"/>
                      </a:lnTo>
                      <a:lnTo>
                        <a:pt x="1998" y="2784"/>
                      </a:lnTo>
                      <a:lnTo>
                        <a:pt x="2015" y="2783"/>
                      </a:lnTo>
                      <a:lnTo>
                        <a:pt x="2032" y="2783"/>
                      </a:lnTo>
                      <a:lnTo>
                        <a:pt x="2049" y="2781"/>
                      </a:lnTo>
                      <a:lnTo>
                        <a:pt x="2067" y="2781"/>
                      </a:lnTo>
                      <a:lnTo>
                        <a:pt x="2084" y="2780"/>
                      </a:lnTo>
                      <a:lnTo>
                        <a:pt x="2102" y="2779"/>
                      </a:lnTo>
                      <a:lnTo>
                        <a:pt x="2119" y="2778"/>
                      </a:lnTo>
                      <a:lnTo>
                        <a:pt x="2137" y="2777"/>
                      </a:lnTo>
                      <a:lnTo>
                        <a:pt x="2155" y="2775"/>
                      </a:lnTo>
                      <a:lnTo>
                        <a:pt x="2175" y="2774"/>
                      </a:lnTo>
                      <a:lnTo>
                        <a:pt x="2194" y="2772"/>
                      </a:lnTo>
                      <a:lnTo>
                        <a:pt x="2210" y="2758"/>
                      </a:lnTo>
                      <a:lnTo>
                        <a:pt x="2225" y="2744"/>
                      </a:lnTo>
                      <a:lnTo>
                        <a:pt x="2239" y="2728"/>
                      </a:lnTo>
                      <a:lnTo>
                        <a:pt x="2253" y="2712"/>
                      </a:lnTo>
                      <a:lnTo>
                        <a:pt x="2267" y="2695"/>
                      </a:lnTo>
                      <a:lnTo>
                        <a:pt x="2281" y="2678"/>
                      </a:lnTo>
                      <a:lnTo>
                        <a:pt x="2296" y="2662"/>
                      </a:lnTo>
                      <a:lnTo>
                        <a:pt x="2311" y="2645"/>
                      </a:lnTo>
                      <a:lnTo>
                        <a:pt x="2327" y="2624"/>
                      </a:lnTo>
                      <a:lnTo>
                        <a:pt x="2341" y="2604"/>
                      </a:lnTo>
                      <a:lnTo>
                        <a:pt x="2356" y="2583"/>
                      </a:lnTo>
                      <a:lnTo>
                        <a:pt x="2370" y="2561"/>
                      </a:lnTo>
                      <a:lnTo>
                        <a:pt x="2382" y="2539"/>
                      </a:lnTo>
                      <a:lnTo>
                        <a:pt x="2395" y="2516"/>
                      </a:lnTo>
                      <a:lnTo>
                        <a:pt x="2407" y="2494"/>
                      </a:lnTo>
                      <a:lnTo>
                        <a:pt x="2418" y="2471"/>
                      </a:lnTo>
                      <a:lnTo>
                        <a:pt x="2428" y="2447"/>
                      </a:lnTo>
                      <a:lnTo>
                        <a:pt x="2439" y="2424"/>
                      </a:lnTo>
                      <a:lnTo>
                        <a:pt x="2449" y="2400"/>
                      </a:lnTo>
                      <a:lnTo>
                        <a:pt x="2457" y="2376"/>
                      </a:lnTo>
                      <a:lnTo>
                        <a:pt x="2466" y="2353"/>
                      </a:lnTo>
                      <a:lnTo>
                        <a:pt x="2474" y="2329"/>
                      </a:lnTo>
                      <a:lnTo>
                        <a:pt x="2482" y="2306"/>
                      </a:lnTo>
                      <a:lnTo>
                        <a:pt x="2488" y="2282"/>
                      </a:lnTo>
                      <a:lnTo>
                        <a:pt x="2490" y="2253"/>
                      </a:lnTo>
                      <a:lnTo>
                        <a:pt x="2496" y="2225"/>
                      </a:lnTo>
                      <a:lnTo>
                        <a:pt x="2501" y="2198"/>
                      </a:lnTo>
                      <a:lnTo>
                        <a:pt x="2503" y="2172"/>
                      </a:lnTo>
                      <a:lnTo>
                        <a:pt x="2511" y="2144"/>
                      </a:lnTo>
                      <a:lnTo>
                        <a:pt x="2517" y="2115"/>
                      </a:lnTo>
                      <a:lnTo>
                        <a:pt x="2523" y="2085"/>
                      </a:lnTo>
                      <a:lnTo>
                        <a:pt x="2525" y="2054"/>
                      </a:lnTo>
                      <a:lnTo>
                        <a:pt x="2531" y="2047"/>
                      </a:lnTo>
                      <a:lnTo>
                        <a:pt x="2532" y="2037"/>
                      </a:lnTo>
                      <a:lnTo>
                        <a:pt x="2532" y="2025"/>
                      </a:lnTo>
                      <a:lnTo>
                        <a:pt x="2535" y="2015"/>
                      </a:lnTo>
                      <a:lnTo>
                        <a:pt x="2544" y="2000"/>
                      </a:lnTo>
                      <a:lnTo>
                        <a:pt x="2553" y="1986"/>
                      </a:lnTo>
                      <a:lnTo>
                        <a:pt x="2561" y="1973"/>
                      </a:lnTo>
                      <a:lnTo>
                        <a:pt x="2572" y="1960"/>
                      </a:lnTo>
                      <a:lnTo>
                        <a:pt x="2582" y="1948"/>
                      </a:lnTo>
                      <a:lnTo>
                        <a:pt x="2593" y="1935"/>
                      </a:lnTo>
                      <a:lnTo>
                        <a:pt x="2605" y="1922"/>
                      </a:lnTo>
                      <a:lnTo>
                        <a:pt x="2618" y="1908"/>
                      </a:lnTo>
                      <a:lnTo>
                        <a:pt x="2618" y="1901"/>
                      </a:lnTo>
                      <a:lnTo>
                        <a:pt x="2624" y="1896"/>
                      </a:lnTo>
                      <a:lnTo>
                        <a:pt x="2630" y="1890"/>
                      </a:lnTo>
                      <a:lnTo>
                        <a:pt x="2635" y="1883"/>
                      </a:lnTo>
                      <a:lnTo>
                        <a:pt x="2640" y="1876"/>
                      </a:lnTo>
                      <a:lnTo>
                        <a:pt x="2646" y="1869"/>
                      </a:lnTo>
                      <a:lnTo>
                        <a:pt x="2652" y="1863"/>
                      </a:lnTo>
                      <a:lnTo>
                        <a:pt x="2659" y="1857"/>
                      </a:lnTo>
                      <a:lnTo>
                        <a:pt x="2667" y="1853"/>
                      </a:lnTo>
                      <a:lnTo>
                        <a:pt x="2678" y="1838"/>
                      </a:lnTo>
                      <a:lnTo>
                        <a:pt x="2689" y="1825"/>
                      </a:lnTo>
                      <a:lnTo>
                        <a:pt x="2699" y="1812"/>
                      </a:lnTo>
                      <a:lnTo>
                        <a:pt x="2711" y="1799"/>
                      </a:lnTo>
                      <a:lnTo>
                        <a:pt x="2722" y="1789"/>
                      </a:lnTo>
                      <a:lnTo>
                        <a:pt x="2734" y="1777"/>
                      </a:lnTo>
                      <a:lnTo>
                        <a:pt x="2745" y="1765"/>
                      </a:lnTo>
                      <a:lnTo>
                        <a:pt x="2758" y="1754"/>
                      </a:lnTo>
                      <a:lnTo>
                        <a:pt x="2768" y="1739"/>
                      </a:lnTo>
                      <a:lnTo>
                        <a:pt x="2779" y="1724"/>
                      </a:lnTo>
                      <a:lnTo>
                        <a:pt x="2791" y="1709"/>
                      </a:lnTo>
                      <a:lnTo>
                        <a:pt x="2804" y="1694"/>
                      </a:lnTo>
                      <a:lnTo>
                        <a:pt x="2817" y="1678"/>
                      </a:lnTo>
                      <a:lnTo>
                        <a:pt x="2830" y="1661"/>
                      </a:lnTo>
                      <a:lnTo>
                        <a:pt x="2843" y="1643"/>
                      </a:lnTo>
                      <a:lnTo>
                        <a:pt x="2855" y="1625"/>
                      </a:lnTo>
                      <a:lnTo>
                        <a:pt x="2868" y="1605"/>
                      </a:lnTo>
                      <a:lnTo>
                        <a:pt x="2882" y="1584"/>
                      </a:lnTo>
                      <a:lnTo>
                        <a:pt x="2895" y="1563"/>
                      </a:lnTo>
                      <a:lnTo>
                        <a:pt x="2908" y="1542"/>
                      </a:lnTo>
                      <a:lnTo>
                        <a:pt x="2921" y="1522"/>
                      </a:lnTo>
                      <a:lnTo>
                        <a:pt x="2935" y="1501"/>
                      </a:lnTo>
                      <a:lnTo>
                        <a:pt x="2948" y="1481"/>
                      </a:lnTo>
                      <a:lnTo>
                        <a:pt x="2962" y="1462"/>
                      </a:lnTo>
                      <a:lnTo>
                        <a:pt x="2962" y="1447"/>
                      </a:lnTo>
                      <a:lnTo>
                        <a:pt x="2965" y="1447"/>
                      </a:lnTo>
                      <a:lnTo>
                        <a:pt x="2978" y="1418"/>
                      </a:lnTo>
                      <a:lnTo>
                        <a:pt x="2992" y="1390"/>
                      </a:lnTo>
                      <a:lnTo>
                        <a:pt x="3005" y="1361"/>
                      </a:lnTo>
                      <a:lnTo>
                        <a:pt x="3019" y="1331"/>
                      </a:lnTo>
                      <a:lnTo>
                        <a:pt x="3032" y="1303"/>
                      </a:lnTo>
                      <a:lnTo>
                        <a:pt x="3044" y="1273"/>
                      </a:lnTo>
                      <a:lnTo>
                        <a:pt x="3054" y="1242"/>
                      </a:lnTo>
                      <a:lnTo>
                        <a:pt x="3061" y="1211"/>
                      </a:lnTo>
                      <a:lnTo>
                        <a:pt x="3073" y="1195"/>
                      </a:lnTo>
                      <a:lnTo>
                        <a:pt x="3079" y="1174"/>
                      </a:lnTo>
                      <a:lnTo>
                        <a:pt x="3085" y="1153"/>
                      </a:lnTo>
                      <a:lnTo>
                        <a:pt x="3091" y="1132"/>
                      </a:lnTo>
                      <a:lnTo>
                        <a:pt x="3099" y="1113"/>
                      </a:lnTo>
                      <a:lnTo>
                        <a:pt x="3110" y="1101"/>
                      </a:lnTo>
                      <a:lnTo>
                        <a:pt x="3129" y="1097"/>
                      </a:lnTo>
                      <a:lnTo>
                        <a:pt x="3155" y="1104"/>
                      </a:lnTo>
                      <a:lnTo>
                        <a:pt x="3178" y="1126"/>
                      </a:lnTo>
                      <a:lnTo>
                        <a:pt x="3195" y="1151"/>
                      </a:lnTo>
                      <a:lnTo>
                        <a:pt x="3209" y="1178"/>
                      </a:lnTo>
                      <a:lnTo>
                        <a:pt x="3221" y="1204"/>
                      </a:lnTo>
                      <a:lnTo>
                        <a:pt x="3230" y="1233"/>
                      </a:lnTo>
                      <a:lnTo>
                        <a:pt x="3239" y="1263"/>
                      </a:lnTo>
                      <a:lnTo>
                        <a:pt x="3249" y="1292"/>
                      </a:lnTo>
                      <a:lnTo>
                        <a:pt x="3259" y="1322"/>
                      </a:lnTo>
                      <a:lnTo>
                        <a:pt x="3272" y="1308"/>
                      </a:lnTo>
                      <a:lnTo>
                        <a:pt x="3279" y="1289"/>
                      </a:lnTo>
                      <a:lnTo>
                        <a:pt x="3282" y="1267"/>
                      </a:lnTo>
                      <a:lnTo>
                        <a:pt x="3285" y="1246"/>
                      </a:lnTo>
                      <a:lnTo>
                        <a:pt x="3290" y="1230"/>
                      </a:lnTo>
                      <a:lnTo>
                        <a:pt x="3292" y="1212"/>
                      </a:lnTo>
                      <a:lnTo>
                        <a:pt x="3296" y="1195"/>
                      </a:lnTo>
                      <a:lnTo>
                        <a:pt x="3302" y="1178"/>
                      </a:lnTo>
                      <a:lnTo>
                        <a:pt x="3316" y="1085"/>
                      </a:lnTo>
                      <a:lnTo>
                        <a:pt x="3329" y="993"/>
                      </a:lnTo>
                      <a:lnTo>
                        <a:pt x="3343" y="901"/>
                      </a:lnTo>
                      <a:lnTo>
                        <a:pt x="3355" y="809"/>
                      </a:lnTo>
                      <a:lnTo>
                        <a:pt x="3366" y="716"/>
                      </a:lnTo>
                      <a:lnTo>
                        <a:pt x="3378" y="624"/>
                      </a:lnTo>
                      <a:lnTo>
                        <a:pt x="3389" y="530"/>
                      </a:lnTo>
                      <a:lnTo>
                        <a:pt x="3398" y="435"/>
                      </a:lnTo>
                      <a:lnTo>
                        <a:pt x="3402" y="355"/>
                      </a:lnTo>
                      <a:lnTo>
                        <a:pt x="3408" y="268"/>
                      </a:lnTo>
                      <a:lnTo>
                        <a:pt x="3413" y="182"/>
                      </a:lnTo>
                      <a:lnTo>
                        <a:pt x="3412" y="96"/>
                      </a:lnTo>
                      <a:lnTo>
                        <a:pt x="3416" y="71"/>
                      </a:lnTo>
                      <a:lnTo>
                        <a:pt x="3418" y="43"/>
                      </a:lnTo>
                      <a:lnTo>
                        <a:pt x="3423" y="19"/>
                      </a:lnTo>
                      <a:lnTo>
                        <a:pt x="3438" y="0"/>
                      </a:lnTo>
                      <a:lnTo>
                        <a:pt x="3450" y="3"/>
                      </a:lnTo>
                      <a:lnTo>
                        <a:pt x="3462" y="5"/>
                      </a:lnTo>
                      <a:lnTo>
                        <a:pt x="3473" y="7"/>
                      </a:lnTo>
                      <a:lnTo>
                        <a:pt x="3485" y="10"/>
                      </a:lnTo>
                      <a:lnTo>
                        <a:pt x="3497" y="13"/>
                      </a:lnTo>
                      <a:lnTo>
                        <a:pt x="3508" y="18"/>
                      </a:lnTo>
                      <a:lnTo>
                        <a:pt x="3516" y="26"/>
                      </a:lnTo>
                      <a:lnTo>
                        <a:pt x="352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9" name=""/>
                <p:cNvSpPr/>
                <p:nvPr/>
              </p:nvSpPr>
              <p:spPr>
                <a:xfrm flipH="1">
                  <a:off x="1452240" y="5148360"/>
                  <a:ext cx="260640" cy="556920"/>
                </a:xfrm>
                <a:custGeom>
                  <a:avLst/>
                  <a:gdLst/>
                  <a:ahLst/>
                  <a:rect l="l" t="t" r="r" b="b"/>
                  <a:pathLst>
                    <a:path w="1508" h="3054">
                      <a:moveTo>
                        <a:pt x="1411" y="72"/>
                      </a:moveTo>
                      <a:lnTo>
                        <a:pt x="1444" y="156"/>
                      </a:lnTo>
                      <a:lnTo>
                        <a:pt x="1472" y="243"/>
                      </a:lnTo>
                      <a:lnTo>
                        <a:pt x="1492" y="330"/>
                      </a:lnTo>
                      <a:lnTo>
                        <a:pt x="1505" y="419"/>
                      </a:lnTo>
                      <a:lnTo>
                        <a:pt x="1508" y="509"/>
                      </a:lnTo>
                      <a:lnTo>
                        <a:pt x="1501" y="597"/>
                      </a:lnTo>
                      <a:lnTo>
                        <a:pt x="1484" y="687"/>
                      </a:lnTo>
                      <a:lnTo>
                        <a:pt x="1454" y="775"/>
                      </a:lnTo>
                      <a:lnTo>
                        <a:pt x="1448" y="800"/>
                      </a:lnTo>
                      <a:lnTo>
                        <a:pt x="1442" y="824"/>
                      </a:lnTo>
                      <a:lnTo>
                        <a:pt x="1433" y="847"/>
                      </a:lnTo>
                      <a:lnTo>
                        <a:pt x="1424" y="871"/>
                      </a:lnTo>
                      <a:lnTo>
                        <a:pt x="1414" y="894"/>
                      </a:lnTo>
                      <a:lnTo>
                        <a:pt x="1406" y="917"/>
                      </a:lnTo>
                      <a:lnTo>
                        <a:pt x="1397" y="940"/>
                      </a:lnTo>
                      <a:lnTo>
                        <a:pt x="1390" y="965"/>
                      </a:lnTo>
                      <a:lnTo>
                        <a:pt x="1382" y="979"/>
                      </a:lnTo>
                      <a:lnTo>
                        <a:pt x="1376" y="993"/>
                      </a:lnTo>
                      <a:lnTo>
                        <a:pt x="1369" y="1006"/>
                      </a:lnTo>
                      <a:lnTo>
                        <a:pt x="1363" y="1018"/>
                      </a:lnTo>
                      <a:lnTo>
                        <a:pt x="1356" y="1031"/>
                      </a:lnTo>
                      <a:lnTo>
                        <a:pt x="1349" y="1044"/>
                      </a:lnTo>
                      <a:lnTo>
                        <a:pt x="1342" y="1058"/>
                      </a:lnTo>
                      <a:lnTo>
                        <a:pt x="1336" y="1072"/>
                      </a:lnTo>
                      <a:lnTo>
                        <a:pt x="1322" y="1098"/>
                      </a:lnTo>
                      <a:lnTo>
                        <a:pt x="1308" y="1125"/>
                      </a:lnTo>
                      <a:lnTo>
                        <a:pt x="1295" y="1153"/>
                      </a:lnTo>
                      <a:lnTo>
                        <a:pt x="1284" y="1181"/>
                      </a:lnTo>
                      <a:lnTo>
                        <a:pt x="1270" y="1209"/>
                      </a:lnTo>
                      <a:lnTo>
                        <a:pt x="1255" y="1235"/>
                      </a:lnTo>
                      <a:lnTo>
                        <a:pt x="1237" y="1261"/>
                      </a:lnTo>
                      <a:lnTo>
                        <a:pt x="1217" y="1285"/>
                      </a:lnTo>
                      <a:lnTo>
                        <a:pt x="1212" y="1278"/>
                      </a:lnTo>
                      <a:lnTo>
                        <a:pt x="1210" y="1271"/>
                      </a:lnTo>
                      <a:lnTo>
                        <a:pt x="1212" y="1263"/>
                      </a:lnTo>
                      <a:lnTo>
                        <a:pt x="1215" y="1256"/>
                      </a:lnTo>
                      <a:lnTo>
                        <a:pt x="1220" y="1248"/>
                      </a:lnTo>
                      <a:lnTo>
                        <a:pt x="1226" y="1241"/>
                      </a:lnTo>
                      <a:lnTo>
                        <a:pt x="1230" y="1232"/>
                      </a:lnTo>
                      <a:lnTo>
                        <a:pt x="1232" y="1225"/>
                      </a:lnTo>
                      <a:lnTo>
                        <a:pt x="1242" y="1183"/>
                      </a:lnTo>
                      <a:lnTo>
                        <a:pt x="1254" y="1142"/>
                      </a:lnTo>
                      <a:lnTo>
                        <a:pt x="1266" y="1102"/>
                      </a:lnTo>
                      <a:lnTo>
                        <a:pt x="1280" y="1062"/>
                      </a:lnTo>
                      <a:lnTo>
                        <a:pt x="1293" y="1022"/>
                      </a:lnTo>
                      <a:lnTo>
                        <a:pt x="1304" y="981"/>
                      </a:lnTo>
                      <a:lnTo>
                        <a:pt x="1313" y="939"/>
                      </a:lnTo>
                      <a:lnTo>
                        <a:pt x="1319" y="897"/>
                      </a:lnTo>
                      <a:lnTo>
                        <a:pt x="1332" y="844"/>
                      </a:lnTo>
                      <a:lnTo>
                        <a:pt x="1342" y="790"/>
                      </a:lnTo>
                      <a:lnTo>
                        <a:pt x="1350" y="735"/>
                      </a:lnTo>
                      <a:lnTo>
                        <a:pt x="1355" y="679"/>
                      </a:lnTo>
                      <a:lnTo>
                        <a:pt x="1360" y="622"/>
                      </a:lnTo>
                      <a:lnTo>
                        <a:pt x="1363" y="566"/>
                      </a:lnTo>
                      <a:lnTo>
                        <a:pt x="1366" y="511"/>
                      </a:lnTo>
                      <a:lnTo>
                        <a:pt x="1368" y="457"/>
                      </a:lnTo>
                      <a:lnTo>
                        <a:pt x="1365" y="336"/>
                      </a:lnTo>
                      <a:lnTo>
                        <a:pt x="1367" y="336"/>
                      </a:lnTo>
                      <a:lnTo>
                        <a:pt x="1369" y="334"/>
                      </a:lnTo>
                      <a:lnTo>
                        <a:pt x="1370" y="333"/>
                      </a:lnTo>
                      <a:lnTo>
                        <a:pt x="1372" y="331"/>
                      </a:lnTo>
                      <a:lnTo>
                        <a:pt x="1362" y="308"/>
                      </a:lnTo>
                      <a:lnTo>
                        <a:pt x="1358" y="280"/>
                      </a:lnTo>
                      <a:lnTo>
                        <a:pt x="1357" y="252"/>
                      </a:lnTo>
                      <a:lnTo>
                        <a:pt x="1354" y="224"/>
                      </a:lnTo>
                      <a:lnTo>
                        <a:pt x="1347" y="224"/>
                      </a:lnTo>
                      <a:lnTo>
                        <a:pt x="1339" y="343"/>
                      </a:lnTo>
                      <a:lnTo>
                        <a:pt x="1346" y="349"/>
                      </a:lnTo>
                      <a:lnTo>
                        <a:pt x="1347" y="357"/>
                      </a:lnTo>
                      <a:lnTo>
                        <a:pt x="1346" y="367"/>
                      </a:lnTo>
                      <a:lnTo>
                        <a:pt x="1342" y="374"/>
                      </a:lnTo>
                      <a:lnTo>
                        <a:pt x="1340" y="383"/>
                      </a:lnTo>
                      <a:lnTo>
                        <a:pt x="1337" y="393"/>
                      </a:lnTo>
                      <a:lnTo>
                        <a:pt x="1335" y="406"/>
                      </a:lnTo>
                      <a:lnTo>
                        <a:pt x="1332" y="417"/>
                      </a:lnTo>
                      <a:lnTo>
                        <a:pt x="1328" y="471"/>
                      </a:lnTo>
                      <a:lnTo>
                        <a:pt x="1324" y="526"/>
                      </a:lnTo>
                      <a:lnTo>
                        <a:pt x="1318" y="580"/>
                      </a:lnTo>
                      <a:lnTo>
                        <a:pt x="1310" y="634"/>
                      </a:lnTo>
                      <a:lnTo>
                        <a:pt x="1302" y="687"/>
                      </a:lnTo>
                      <a:lnTo>
                        <a:pt x="1291" y="741"/>
                      </a:lnTo>
                      <a:lnTo>
                        <a:pt x="1279" y="793"/>
                      </a:lnTo>
                      <a:lnTo>
                        <a:pt x="1267" y="845"/>
                      </a:lnTo>
                      <a:lnTo>
                        <a:pt x="1254" y="898"/>
                      </a:lnTo>
                      <a:lnTo>
                        <a:pt x="1237" y="949"/>
                      </a:lnTo>
                      <a:lnTo>
                        <a:pt x="1221" y="1000"/>
                      </a:lnTo>
                      <a:lnTo>
                        <a:pt x="1205" y="1050"/>
                      </a:lnTo>
                      <a:lnTo>
                        <a:pt x="1187" y="1101"/>
                      </a:lnTo>
                      <a:lnTo>
                        <a:pt x="1168" y="1151"/>
                      </a:lnTo>
                      <a:lnTo>
                        <a:pt x="1149" y="1200"/>
                      </a:lnTo>
                      <a:lnTo>
                        <a:pt x="1128" y="1249"/>
                      </a:lnTo>
                      <a:lnTo>
                        <a:pt x="1113" y="1271"/>
                      </a:lnTo>
                      <a:lnTo>
                        <a:pt x="1099" y="1291"/>
                      </a:lnTo>
                      <a:lnTo>
                        <a:pt x="1088" y="1312"/>
                      </a:lnTo>
                      <a:lnTo>
                        <a:pt x="1075" y="1332"/>
                      </a:lnTo>
                      <a:lnTo>
                        <a:pt x="1063" y="1353"/>
                      </a:lnTo>
                      <a:lnTo>
                        <a:pt x="1049" y="1373"/>
                      </a:lnTo>
                      <a:lnTo>
                        <a:pt x="1034" y="1392"/>
                      </a:lnTo>
                      <a:lnTo>
                        <a:pt x="1017" y="1412"/>
                      </a:lnTo>
                      <a:lnTo>
                        <a:pt x="1016" y="1365"/>
                      </a:lnTo>
                      <a:lnTo>
                        <a:pt x="1016" y="1316"/>
                      </a:lnTo>
                      <a:lnTo>
                        <a:pt x="1017" y="1267"/>
                      </a:lnTo>
                      <a:lnTo>
                        <a:pt x="1017" y="1217"/>
                      </a:lnTo>
                      <a:lnTo>
                        <a:pt x="1015" y="1168"/>
                      </a:lnTo>
                      <a:lnTo>
                        <a:pt x="1008" y="1119"/>
                      </a:lnTo>
                      <a:lnTo>
                        <a:pt x="998" y="1072"/>
                      </a:lnTo>
                      <a:lnTo>
                        <a:pt x="981" y="1028"/>
                      </a:lnTo>
                      <a:lnTo>
                        <a:pt x="961" y="1034"/>
                      </a:lnTo>
                      <a:lnTo>
                        <a:pt x="947" y="1046"/>
                      </a:lnTo>
                      <a:lnTo>
                        <a:pt x="940" y="1062"/>
                      </a:lnTo>
                      <a:lnTo>
                        <a:pt x="936" y="1080"/>
                      </a:lnTo>
                      <a:lnTo>
                        <a:pt x="932" y="1100"/>
                      </a:lnTo>
                      <a:lnTo>
                        <a:pt x="928" y="1119"/>
                      </a:lnTo>
                      <a:lnTo>
                        <a:pt x="923" y="1137"/>
                      </a:lnTo>
                      <a:lnTo>
                        <a:pt x="913" y="1153"/>
                      </a:lnTo>
                      <a:lnTo>
                        <a:pt x="900" y="1200"/>
                      </a:lnTo>
                      <a:lnTo>
                        <a:pt x="882" y="1245"/>
                      </a:lnTo>
                      <a:lnTo>
                        <a:pt x="861" y="1288"/>
                      </a:lnTo>
                      <a:lnTo>
                        <a:pt x="837" y="1328"/>
                      </a:lnTo>
                      <a:lnTo>
                        <a:pt x="812" y="1370"/>
                      </a:lnTo>
                      <a:lnTo>
                        <a:pt x="789" y="1412"/>
                      </a:lnTo>
                      <a:lnTo>
                        <a:pt x="767" y="1454"/>
                      </a:lnTo>
                      <a:lnTo>
                        <a:pt x="749" y="1500"/>
                      </a:lnTo>
                      <a:lnTo>
                        <a:pt x="737" y="1519"/>
                      </a:lnTo>
                      <a:lnTo>
                        <a:pt x="726" y="1538"/>
                      </a:lnTo>
                      <a:lnTo>
                        <a:pt x="713" y="1557"/>
                      </a:lnTo>
                      <a:lnTo>
                        <a:pt x="701" y="1575"/>
                      </a:lnTo>
                      <a:lnTo>
                        <a:pt x="688" y="1593"/>
                      </a:lnTo>
                      <a:lnTo>
                        <a:pt x="676" y="1612"/>
                      </a:lnTo>
                      <a:lnTo>
                        <a:pt x="664" y="1631"/>
                      </a:lnTo>
                      <a:lnTo>
                        <a:pt x="650" y="1648"/>
                      </a:lnTo>
                      <a:lnTo>
                        <a:pt x="636" y="1666"/>
                      </a:lnTo>
                      <a:lnTo>
                        <a:pt x="622" y="1683"/>
                      </a:lnTo>
                      <a:lnTo>
                        <a:pt x="608" y="1700"/>
                      </a:lnTo>
                      <a:lnTo>
                        <a:pt x="592" y="1717"/>
                      </a:lnTo>
                      <a:lnTo>
                        <a:pt x="576" y="1733"/>
                      </a:lnTo>
                      <a:lnTo>
                        <a:pt x="560" y="1749"/>
                      </a:lnTo>
                      <a:lnTo>
                        <a:pt x="542" y="1764"/>
                      </a:lnTo>
                      <a:lnTo>
                        <a:pt x="523" y="1779"/>
                      </a:lnTo>
                      <a:lnTo>
                        <a:pt x="508" y="1802"/>
                      </a:lnTo>
                      <a:lnTo>
                        <a:pt x="502" y="1827"/>
                      </a:lnTo>
                      <a:lnTo>
                        <a:pt x="503" y="1855"/>
                      </a:lnTo>
                      <a:lnTo>
                        <a:pt x="508" y="1883"/>
                      </a:lnTo>
                      <a:lnTo>
                        <a:pt x="522" y="1927"/>
                      </a:lnTo>
                      <a:lnTo>
                        <a:pt x="529" y="1970"/>
                      </a:lnTo>
                      <a:lnTo>
                        <a:pt x="530" y="2014"/>
                      </a:lnTo>
                      <a:lnTo>
                        <a:pt x="527" y="2058"/>
                      </a:lnTo>
                      <a:lnTo>
                        <a:pt x="520" y="2103"/>
                      </a:lnTo>
                      <a:lnTo>
                        <a:pt x="511" y="2147"/>
                      </a:lnTo>
                      <a:lnTo>
                        <a:pt x="500" y="2192"/>
                      </a:lnTo>
                      <a:lnTo>
                        <a:pt x="490" y="2236"/>
                      </a:lnTo>
                      <a:lnTo>
                        <a:pt x="479" y="2257"/>
                      </a:lnTo>
                      <a:lnTo>
                        <a:pt x="469" y="2278"/>
                      </a:lnTo>
                      <a:lnTo>
                        <a:pt x="459" y="2300"/>
                      </a:lnTo>
                      <a:lnTo>
                        <a:pt x="451" y="2321"/>
                      </a:lnTo>
                      <a:lnTo>
                        <a:pt x="441" y="2342"/>
                      </a:lnTo>
                      <a:lnTo>
                        <a:pt x="430" y="2364"/>
                      </a:lnTo>
                      <a:lnTo>
                        <a:pt x="418" y="2384"/>
                      </a:lnTo>
                      <a:lnTo>
                        <a:pt x="406" y="2404"/>
                      </a:lnTo>
                      <a:lnTo>
                        <a:pt x="388" y="2426"/>
                      </a:lnTo>
                      <a:lnTo>
                        <a:pt x="372" y="2446"/>
                      </a:lnTo>
                      <a:lnTo>
                        <a:pt x="357" y="2466"/>
                      </a:lnTo>
                      <a:lnTo>
                        <a:pt x="341" y="2487"/>
                      </a:lnTo>
                      <a:lnTo>
                        <a:pt x="325" y="2505"/>
                      </a:lnTo>
                      <a:lnTo>
                        <a:pt x="307" y="2523"/>
                      </a:lnTo>
                      <a:lnTo>
                        <a:pt x="288" y="2539"/>
                      </a:lnTo>
                      <a:lnTo>
                        <a:pt x="265" y="2554"/>
                      </a:lnTo>
                      <a:lnTo>
                        <a:pt x="277" y="2583"/>
                      </a:lnTo>
                      <a:lnTo>
                        <a:pt x="290" y="2610"/>
                      </a:lnTo>
                      <a:lnTo>
                        <a:pt x="302" y="2637"/>
                      </a:lnTo>
                      <a:lnTo>
                        <a:pt x="315" y="2664"/>
                      </a:lnTo>
                      <a:lnTo>
                        <a:pt x="328" y="2691"/>
                      </a:lnTo>
                      <a:lnTo>
                        <a:pt x="343" y="2716"/>
                      </a:lnTo>
                      <a:lnTo>
                        <a:pt x="358" y="2743"/>
                      </a:lnTo>
                      <a:lnTo>
                        <a:pt x="376" y="2770"/>
                      </a:lnTo>
                      <a:lnTo>
                        <a:pt x="386" y="2768"/>
                      </a:lnTo>
                      <a:lnTo>
                        <a:pt x="396" y="2764"/>
                      </a:lnTo>
                      <a:lnTo>
                        <a:pt x="405" y="2760"/>
                      </a:lnTo>
                      <a:lnTo>
                        <a:pt x="411" y="2755"/>
                      </a:lnTo>
                      <a:lnTo>
                        <a:pt x="417" y="2748"/>
                      </a:lnTo>
                      <a:lnTo>
                        <a:pt x="422" y="2741"/>
                      </a:lnTo>
                      <a:lnTo>
                        <a:pt x="426" y="2732"/>
                      </a:lnTo>
                      <a:lnTo>
                        <a:pt x="429" y="2722"/>
                      </a:lnTo>
                      <a:lnTo>
                        <a:pt x="431" y="2707"/>
                      </a:lnTo>
                      <a:lnTo>
                        <a:pt x="433" y="2691"/>
                      </a:lnTo>
                      <a:lnTo>
                        <a:pt x="439" y="2674"/>
                      </a:lnTo>
                      <a:lnTo>
                        <a:pt x="444" y="2658"/>
                      </a:lnTo>
                      <a:lnTo>
                        <a:pt x="452" y="2643"/>
                      </a:lnTo>
                      <a:lnTo>
                        <a:pt x="461" y="2628"/>
                      </a:lnTo>
                      <a:lnTo>
                        <a:pt x="472" y="2615"/>
                      </a:lnTo>
                      <a:lnTo>
                        <a:pt x="485" y="2604"/>
                      </a:lnTo>
                      <a:lnTo>
                        <a:pt x="501" y="2600"/>
                      </a:lnTo>
                      <a:lnTo>
                        <a:pt x="516" y="2598"/>
                      </a:lnTo>
                      <a:lnTo>
                        <a:pt x="532" y="2597"/>
                      </a:lnTo>
                      <a:lnTo>
                        <a:pt x="547" y="2598"/>
                      </a:lnTo>
                      <a:lnTo>
                        <a:pt x="562" y="2600"/>
                      </a:lnTo>
                      <a:lnTo>
                        <a:pt x="577" y="2604"/>
                      </a:lnTo>
                      <a:lnTo>
                        <a:pt x="592" y="2608"/>
                      </a:lnTo>
                      <a:lnTo>
                        <a:pt x="606" y="2613"/>
                      </a:lnTo>
                      <a:lnTo>
                        <a:pt x="621" y="2618"/>
                      </a:lnTo>
                      <a:lnTo>
                        <a:pt x="636" y="2623"/>
                      </a:lnTo>
                      <a:lnTo>
                        <a:pt x="651" y="2629"/>
                      </a:lnTo>
                      <a:lnTo>
                        <a:pt x="666" y="2634"/>
                      </a:lnTo>
                      <a:lnTo>
                        <a:pt x="681" y="2639"/>
                      </a:lnTo>
                      <a:lnTo>
                        <a:pt x="696" y="2643"/>
                      </a:lnTo>
                      <a:lnTo>
                        <a:pt x="711" y="2646"/>
                      </a:lnTo>
                      <a:lnTo>
                        <a:pt x="727" y="2648"/>
                      </a:lnTo>
                      <a:lnTo>
                        <a:pt x="745" y="2654"/>
                      </a:lnTo>
                      <a:lnTo>
                        <a:pt x="765" y="2658"/>
                      </a:lnTo>
                      <a:lnTo>
                        <a:pt x="786" y="2660"/>
                      </a:lnTo>
                      <a:lnTo>
                        <a:pt x="806" y="2661"/>
                      </a:lnTo>
                      <a:lnTo>
                        <a:pt x="827" y="2662"/>
                      </a:lnTo>
                      <a:lnTo>
                        <a:pt x="849" y="2662"/>
                      </a:lnTo>
                      <a:lnTo>
                        <a:pt x="869" y="2662"/>
                      </a:lnTo>
                      <a:lnTo>
                        <a:pt x="888" y="2662"/>
                      </a:lnTo>
                      <a:lnTo>
                        <a:pt x="897" y="2670"/>
                      </a:lnTo>
                      <a:lnTo>
                        <a:pt x="899" y="2682"/>
                      </a:lnTo>
                      <a:lnTo>
                        <a:pt x="902" y="2695"/>
                      </a:lnTo>
                      <a:lnTo>
                        <a:pt x="913" y="2703"/>
                      </a:lnTo>
                      <a:lnTo>
                        <a:pt x="930" y="2707"/>
                      </a:lnTo>
                      <a:lnTo>
                        <a:pt x="947" y="2711"/>
                      </a:lnTo>
                      <a:lnTo>
                        <a:pt x="962" y="2716"/>
                      </a:lnTo>
                      <a:lnTo>
                        <a:pt x="977" y="2724"/>
                      </a:lnTo>
                      <a:lnTo>
                        <a:pt x="991" y="2733"/>
                      </a:lnTo>
                      <a:lnTo>
                        <a:pt x="1004" y="2744"/>
                      </a:lnTo>
                      <a:lnTo>
                        <a:pt x="1015" y="2756"/>
                      </a:lnTo>
                      <a:lnTo>
                        <a:pt x="1024" y="2770"/>
                      </a:lnTo>
                      <a:lnTo>
                        <a:pt x="1023" y="2780"/>
                      </a:lnTo>
                      <a:lnTo>
                        <a:pt x="1021" y="2792"/>
                      </a:lnTo>
                      <a:lnTo>
                        <a:pt x="1019" y="2803"/>
                      </a:lnTo>
                      <a:lnTo>
                        <a:pt x="1017" y="2814"/>
                      </a:lnTo>
                      <a:lnTo>
                        <a:pt x="1012" y="2824"/>
                      </a:lnTo>
                      <a:lnTo>
                        <a:pt x="1006" y="2832"/>
                      </a:lnTo>
                      <a:lnTo>
                        <a:pt x="998" y="2839"/>
                      </a:lnTo>
                      <a:lnTo>
                        <a:pt x="986" y="2843"/>
                      </a:lnTo>
                      <a:lnTo>
                        <a:pt x="985" y="2849"/>
                      </a:lnTo>
                      <a:lnTo>
                        <a:pt x="982" y="2852"/>
                      </a:lnTo>
                      <a:lnTo>
                        <a:pt x="977" y="2854"/>
                      </a:lnTo>
                      <a:lnTo>
                        <a:pt x="973" y="2856"/>
                      </a:lnTo>
                      <a:lnTo>
                        <a:pt x="968" y="2857"/>
                      </a:lnTo>
                      <a:lnTo>
                        <a:pt x="962" y="2858"/>
                      </a:lnTo>
                      <a:lnTo>
                        <a:pt x="957" y="2859"/>
                      </a:lnTo>
                      <a:lnTo>
                        <a:pt x="953" y="2862"/>
                      </a:lnTo>
                      <a:lnTo>
                        <a:pt x="871" y="2862"/>
                      </a:lnTo>
                      <a:lnTo>
                        <a:pt x="879" y="2842"/>
                      </a:lnTo>
                      <a:lnTo>
                        <a:pt x="886" y="2822"/>
                      </a:lnTo>
                      <a:lnTo>
                        <a:pt x="895" y="2801"/>
                      </a:lnTo>
                      <a:lnTo>
                        <a:pt x="902" y="2779"/>
                      </a:lnTo>
                      <a:lnTo>
                        <a:pt x="895" y="2772"/>
                      </a:lnTo>
                      <a:lnTo>
                        <a:pt x="873" y="2776"/>
                      </a:lnTo>
                      <a:lnTo>
                        <a:pt x="852" y="2781"/>
                      </a:lnTo>
                      <a:lnTo>
                        <a:pt x="831" y="2786"/>
                      </a:lnTo>
                      <a:lnTo>
                        <a:pt x="809" y="2791"/>
                      </a:lnTo>
                      <a:lnTo>
                        <a:pt x="788" y="2795"/>
                      </a:lnTo>
                      <a:lnTo>
                        <a:pt x="766" y="2801"/>
                      </a:lnTo>
                      <a:lnTo>
                        <a:pt x="745" y="2805"/>
                      </a:lnTo>
                      <a:lnTo>
                        <a:pt x="724" y="2809"/>
                      </a:lnTo>
                      <a:lnTo>
                        <a:pt x="701" y="2814"/>
                      </a:lnTo>
                      <a:lnTo>
                        <a:pt x="680" y="2818"/>
                      </a:lnTo>
                      <a:lnTo>
                        <a:pt x="657" y="2821"/>
                      </a:lnTo>
                      <a:lnTo>
                        <a:pt x="636" y="2824"/>
                      </a:lnTo>
                      <a:lnTo>
                        <a:pt x="613" y="2827"/>
                      </a:lnTo>
                      <a:lnTo>
                        <a:pt x="590" y="2830"/>
                      </a:lnTo>
                      <a:lnTo>
                        <a:pt x="567" y="2832"/>
                      </a:lnTo>
                      <a:lnTo>
                        <a:pt x="544" y="2833"/>
                      </a:lnTo>
                      <a:lnTo>
                        <a:pt x="542" y="2836"/>
                      </a:lnTo>
                      <a:lnTo>
                        <a:pt x="539" y="2838"/>
                      </a:lnTo>
                      <a:lnTo>
                        <a:pt x="537" y="2840"/>
                      </a:lnTo>
                      <a:lnTo>
                        <a:pt x="538" y="2843"/>
                      </a:lnTo>
                      <a:lnTo>
                        <a:pt x="552" y="2850"/>
                      </a:lnTo>
                      <a:lnTo>
                        <a:pt x="567" y="2853"/>
                      </a:lnTo>
                      <a:lnTo>
                        <a:pt x="584" y="2855"/>
                      </a:lnTo>
                      <a:lnTo>
                        <a:pt x="602" y="2854"/>
                      </a:lnTo>
                      <a:lnTo>
                        <a:pt x="618" y="2854"/>
                      </a:lnTo>
                      <a:lnTo>
                        <a:pt x="634" y="2856"/>
                      </a:lnTo>
                      <a:lnTo>
                        <a:pt x="648" y="2859"/>
                      </a:lnTo>
                      <a:lnTo>
                        <a:pt x="660" y="2866"/>
                      </a:lnTo>
                      <a:lnTo>
                        <a:pt x="742" y="2866"/>
                      </a:lnTo>
                      <a:lnTo>
                        <a:pt x="727" y="2880"/>
                      </a:lnTo>
                      <a:lnTo>
                        <a:pt x="711" y="2892"/>
                      </a:lnTo>
                      <a:lnTo>
                        <a:pt x="695" y="2903"/>
                      </a:lnTo>
                      <a:lnTo>
                        <a:pt x="679" y="2915"/>
                      </a:lnTo>
                      <a:lnTo>
                        <a:pt x="663" y="2925"/>
                      </a:lnTo>
                      <a:lnTo>
                        <a:pt x="645" y="2935"/>
                      </a:lnTo>
                      <a:lnTo>
                        <a:pt x="629" y="2945"/>
                      </a:lnTo>
                      <a:lnTo>
                        <a:pt x="612" y="2955"/>
                      </a:lnTo>
                      <a:lnTo>
                        <a:pt x="619" y="2967"/>
                      </a:lnTo>
                      <a:lnTo>
                        <a:pt x="629" y="2974"/>
                      </a:lnTo>
                      <a:lnTo>
                        <a:pt x="643" y="2976"/>
                      </a:lnTo>
                      <a:lnTo>
                        <a:pt x="659" y="2975"/>
                      </a:lnTo>
                      <a:lnTo>
                        <a:pt x="675" y="2973"/>
                      </a:lnTo>
                      <a:lnTo>
                        <a:pt x="693" y="2971"/>
                      </a:lnTo>
                      <a:lnTo>
                        <a:pt x="710" y="2971"/>
                      </a:lnTo>
                      <a:lnTo>
                        <a:pt x="724" y="2973"/>
                      </a:lnTo>
                      <a:lnTo>
                        <a:pt x="727" y="2973"/>
                      </a:lnTo>
                      <a:lnTo>
                        <a:pt x="716" y="2975"/>
                      </a:lnTo>
                      <a:lnTo>
                        <a:pt x="706" y="2978"/>
                      </a:lnTo>
                      <a:lnTo>
                        <a:pt x="696" y="2981"/>
                      </a:lnTo>
                      <a:lnTo>
                        <a:pt x="685" y="2984"/>
                      </a:lnTo>
                      <a:lnTo>
                        <a:pt x="673" y="2989"/>
                      </a:lnTo>
                      <a:lnTo>
                        <a:pt x="663" y="2993"/>
                      </a:lnTo>
                      <a:lnTo>
                        <a:pt x="651" y="2997"/>
                      </a:lnTo>
                      <a:lnTo>
                        <a:pt x="640" y="3001"/>
                      </a:lnTo>
                      <a:lnTo>
                        <a:pt x="627" y="3004"/>
                      </a:lnTo>
                      <a:lnTo>
                        <a:pt x="613" y="3006"/>
                      </a:lnTo>
                      <a:lnTo>
                        <a:pt x="599" y="3008"/>
                      </a:lnTo>
                      <a:lnTo>
                        <a:pt x="584" y="3009"/>
                      </a:lnTo>
                      <a:lnTo>
                        <a:pt x="569" y="3010"/>
                      </a:lnTo>
                      <a:lnTo>
                        <a:pt x="553" y="3010"/>
                      </a:lnTo>
                      <a:lnTo>
                        <a:pt x="537" y="3010"/>
                      </a:lnTo>
                      <a:lnTo>
                        <a:pt x="521" y="3009"/>
                      </a:lnTo>
                      <a:lnTo>
                        <a:pt x="505" y="3008"/>
                      </a:lnTo>
                      <a:lnTo>
                        <a:pt x="489" y="3007"/>
                      </a:lnTo>
                      <a:lnTo>
                        <a:pt x="472" y="3005"/>
                      </a:lnTo>
                      <a:lnTo>
                        <a:pt x="456" y="3003"/>
                      </a:lnTo>
                      <a:lnTo>
                        <a:pt x="440" y="2999"/>
                      </a:lnTo>
                      <a:lnTo>
                        <a:pt x="424" y="2997"/>
                      </a:lnTo>
                      <a:lnTo>
                        <a:pt x="409" y="2993"/>
                      </a:lnTo>
                      <a:lnTo>
                        <a:pt x="394" y="2990"/>
                      </a:lnTo>
                      <a:lnTo>
                        <a:pt x="387" y="2990"/>
                      </a:lnTo>
                      <a:lnTo>
                        <a:pt x="410" y="2984"/>
                      </a:lnTo>
                      <a:lnTo>
                        <a:pt x="431" y="2977"/>
                      </a:lnTo>
                      <a:lnTo>
                        <a:pt x="452" y="2968"/>
                      </a:lnTo>
                      <a:lnTo>
                        <a:pt x="472" y="2959"/>
                      </a:lnTo>
                      <a:lnTo>
                        <a:pt x="491" y="2948"/>
                      </a:lnTo>
                      <a:lnTo>
                        <a:pt x="509" y="2937"/>
                      </a:lnTo>
                      <a:lnTo>
                        <a:pt x="527" y="2925"/>
                      </a:lnTo>
                      <a:lnTo>
                        <a:pt x="544" y="2912"/>
                      </a:lnTo>
                      <a:lnTo>
                        <a:pt x="530" y="2906"/>
                      </a:lnTo>
                      <a:lnTo>
                        <a:pt x="516" y="2903"/>
                      </a:lnTo>
                      <a:lnTo>
                        <a:pt x="502" y="2900"/>
                      </a:lnTo>
                      <a:lnTo>
                        <a:pt x="488" y="2899"/>
                      </a:lnTo>
                      <a:lnTo>
                        <a:pt x="473" y="2898"/>
                      </a:lnTo>
                      <a:lnTo>
                        <a:pt x="459" y="2897"/>
                      </a:lnTo>
                      <a:lnTo>
                        <a:pt x="444" y="2897"/>
                      </a:lnTo>
                      <a:lnTo>
                        <a:pt x="429" y="2897"/>
                      </a:lnTo>
                      <a:lnTo>
                        <a:pt x="412" y="2894"/>
                      </a:lnTo>
                      <a:lnTo>
                        <a:pt x="394" y="2892"/>
                      </a:lnTo>
                      <a:lnTo>
                        <a:pt x="375" y="2890"/>
                      </a:lnTo>
                      <a:lnTo>
                        <a:pt x="355" y="2888"/>
                      </a:lnTo>
                      <a:lnTo>
                        <a:pt x="336" y="2885"/>
                      </a:lnTo>
                      <a:lnTo>
                        <a:pt x="318" y="2880"/>
                      </a:lnTo>
                      <a:lnTo>
                        <a:pt x="300" y="2872"/>
                      </a:lnTo>
                      <a:lnTo>
                        <a:pt x="284" y="2862"/>
                      </a:lnTo>
                      <a:lnTo>
                        <a:pt x="279" y="2866"/>
                      </a:lnTo>
                      <a:lnTo>
                        <a:pt x="277" y="2870"/>
                      </a:lnTo>
                      <a:lnTo>
                        <a:pt x="276" y="2877"/>
                      </a:lnTo>
                      <a:lnTo>
                        <a:pt x="276" y="2883"/>
                      </a:lnTo>
                      <a:lnTo>
                        <a:pt x="284" y="2889"/>
                      </a:lnTo>
                      <a:lnTo>
                        <a:pt x="292" y="2897"/>
                      </a:lnTo>
                      <a:lnTo>
                        <a:pt x="300" y="2904"/>
                      </a:lnTo>
                      <a:lnTo>
                        <a:pt x="308" y="2912"/>
                      </a:lnTo>
                      <a:lnTo>
                        <a:pt x="317" y="2918"/>
                      </a:lnTo>
                      <a:lnTo>
                        <a:pt x="325" y="2924"/>
                      </a:lnTo>
                      <a:lnTo>
                        <a:pt x="335" y="2927"/>
                      </a:lnTo>
                      <a:lnTo>
                        <a:pt x="345" y="2929"/>
                      </a:lnTo>
                      <a:lnTo>
                        <a:pt x="350" y="2932"/>
                      </a:lnTo>
                      <a:lnTo>
                        <a:pt x="355" y="2934"/>
                      </a:lnTo>
                      <a:lnTo>
                        <a:pt x="360" y="2939"/>
                      </a:lnTo>
                      <a:lnTo>
                        <a:pt x="363" y="2944"/>
                      </a:lnTo>
                      <a:lnTo>
                        <a:pt x="350" y="2950"/>
                      </a:lnTo>
                      <a:lnTo>
                        <a:pt x="336" y="2955"/>
                      </a:lnTo>
                      <a:lnTo>
                        <a:pt x="322" y="2959"/>
                      </a:lnTo>
                      <a:lnTo>
                        <a:pt x="308" y="2962"/>
                      </a:lnTo>
                      <a:lnTo>
                        <a:pt x="294" y="2964"/>
                      </a:lnTo>
                      <a:lnTo>
                        <a:pt x="280" y="2966"/>
                      </a:lnTo>
                      <a:lnTo>
                        <a:pt x="265" y="2967"/>
                      </a:lnTo>
                      <a:lnTo>
                        <a:pt x="251" y="2968"/>
                      </a:lnTo>
                      <a:lnTo>
                        <a:pt x="236" y="2968"/>
                      </a:lnTo>
                      <a:lnTo>
                        <a:pt x="221" y="2970"/>
                      </a:lnTo>
                      <a:lnTo>
                        <a:pt x="208" y="2970"/>
                      </a:lnTo>
                      <a:lnTo>
                        <a:pt x="194" y="2968"/>
                      </a:lnTo>
                      <a:lnTo>
                        <a:pt x="180" y="2968"/>
                      </a:lnTo>
                      <a:lnTo>
                        <a:pt x="166" y="2968"/>
                      </a:lnTo>
                      <a:lnTo>
                        <a:pt x="152" y="2970"/>
                      </a:lnTo>
                      <a:lnTo>
                        <a:pt x="139" y="2970"/>
                      </a:lnTo>
                      <a:lnTo>
                        <a:pt x="137" y="2974"/>
                      </a:lnTo>
                      <a:lnTo>
                        <a:pt x="137" y="2978"/>
                      </a:lnTo>
                      <a:lnTo>
                        <a:pt x="137" y="2984"/>
                      </a:lnTo>
                      <a:lnTo>
                        <a:pt x="137" y="2990"/>
                      </a:lnTo>
                      <a:lnTo>
                        <a:pt x="251" y="3054"/>
                      </a:lnTo>
                      <a:lnTo>
                        <a:pt x="237" y="3053"/>
                      </a:lnTo>
                      <a:lnTo>
                        <a:pt x="224" y="3053"/>
                      </a:lnTo>
                      <a:lnTo>
                        <a:pt x="209" y="3052"/>
                      </a:lnTo>
                      <a:lnTo>
                        <a:pt x="195" y="3052"/>
                      </a:lnTo>
                      <a:lnTo>
                        <a:pt x="181" y="3051"/>
                      </a:lnTo>
                      <a:lnTo>
                        <a:pt x="166" y="3051"/>
                      </a:lnTo>
                      <a:lnTo>
                        <a:pt x="151" y="3050"/>
                      </a:lnTo>
                      <a:lnTo>
                        <a:pt x="137" y="3049"/>
                      </a:lnTo>
                      <a:lnTo>
                        <a:pt x="122" y="3048"/>
                      </a:lnTo>
                      <a:lnTo>
                        <a:pt x="108" y="3045"/>
                      </a:lnTo>
                      <a:lnTo>
                        <a:pt x="94" y="3043"/>
                      </a:lnTo>
                      <a:lnTo>
                        <a:pt x="79" y="3041"/>
                      </a:lnTo>
                      <a:lnTo>
                        <a:pt x="65" y="3038"/>
                      </a:lnTo>
                      <a:lnTo>
                        <a:pt x="51" y="3035"/>
                      </a:lnTo>
                      <a:lnTo>
                        <a:pt x="37" y="3030"/>
                      </a:lnTo>
                      <a:lnTo>
                        <a:pt x="24" y="3026"/>
                      </a:lnTo>
                      <a:lnTo>
                        <a:pt x="22" y="3030"/>
                      </a:lnTo>
                      <a:lnTo>
                        <a:pt x="14" y="3023"/>
                      </a:lnTo>
                      <a:lnTo>
                        <a:pt x="14" y="3015"/>
                      </a:lnTo>
                      <a:lnTo>
                        <a:pt x="15" y="3007"/>
                      </a:lnTo>
                      <a:lnTo>
                        <a:pt x="12" y="2997"/>
                      </a:lnTo>
                      <a:lnTo>
                        <a:pt x="0" y="2919"/>
                      </a:lnTo>
                      <a:lnTo>
                        <a:pt x="14" y="2919"/>
                      </a:lnTo>
                      <a:lnTo>
                        <a:pt x="28" y="2919"/>
                      </a:lnTo>
                      <a:lnTo>
                        <a:pt x="42" y="2919"/>
                      </a:lnTo>
                      <a:lnTo>
                        <a:pt x="57" y="2919"/>
                      </a:lnTo>
                      <a:lnTo>
                        <a:pt x="70" y="2920"/>
                      </a:lnTo>
                      <a:lnTo>
                        <a:pt x="85" y="2919"/>
                      </a:lnTo>
                      <a:lnTo>
                        <a:pt x="100" y="2919"/>
                      </a:lnTo>
                      <a:lnTo>
                        <a:pt x="115" y="2919"/>
                      </a:lnTo>
                      <a:lnTo>
                        <a:pt x="130" y="2919"/>
                      </a:lnTo>
                      <a:lnTo>
                        <a:pt x="145" y="2919"/>
                      </a:lnTo>
                      <a:lnTo>
                        <a:pt x="160" y="2918"/>
                      </a:lnTo>
                      <a:lnTo>
                        <a:pt x="175" y="2918"/>
                      </a:lnTo>
                      <a:lnTo>
                        <a:pt x="189" y="2917"/>
                      </a:lnTo>
                      <a:lnTo>
                        <a:pt x="204" y="2917"/>
                      </a:lnTo>
                      <a:lnTo>
                        <a:pt x="219" y="2916"/>
                      </a:lnTo>
                      <a:lnTo>
                        <a:pt x="233" y="2915"/>
                      </a:lnTo>
                      <a:lnTo>
                        <a:pt x="232" y="2904"/>
                      </a:lnTo>
                      <a:lnTo>
                        <a:pt x="228" y="2895"/>
                      </a:lnTo>
                      <a:lnTo>
                        <a:pt x="219" y="2887"/>
                      </a:lnTo>
                      <a:lnTo>
                        <a:pt x="211" y="2880"/>
                      </a:lnTo>
                      <a:lnTo>
                        <a:pt x="200" y="2874"/>
                      </a:lnTo>
                      <a:lnTo>
                        <a:pt x="190" y="2868"/>
                      </a:lnTo>
                      <a:lnTo>
                        <a:pt x="182" y="2862"/>
                      </a:lnTo>
                      <a:lnTo>
                        <a:pt x="175" y="2855"/>
                      </a:lnTo>
                      <a:lnTo>
                        <a:pt x="164" y="2846"/>
                      </a:lnTo>
                      <a:lnTo>
                        <a:pt x="153" y="2835"/>
                      </a:lnTo>
                      <a:lnTo>
                        <a:pt x="141" y="2823"/>
                      </a:lnTo>
                      <a:lnTo>
                        <a:pt x="130" y="2811"/>
                      </a:lnTo>
                      <a:lnTo>
                        <a:pt x="121" y="2800"/>
                      </a:lnTo>
                      <a:lnTo>
                        <a:pt x="113" y="2788"/>
                      </a:lnTo>
                      <a:lnTo>
                        <a:pt x="107" y="2776"/>
                      </a:lnTo>
                      <a:lnTo>
                        <a:pt x="104" y="2764"/>
                      </a:lnTo>
                      <a:lnTo>
                        <a:pt x="122" y="2761"/>
                      </a:lnTo>
                      <a:lnTo>
                        <a:pt x="140" y="2760"/>
                      </a:lnTo>
                      <a:lnTo>
                        <a:pt x="159" y="2760"/>
                      </a:lnTo>
                      <a:lnTo>
                        <a:pt x="179" y="2760"/>
                      </a:lnTo>
                      <a:lnTo>
                        <a:pt x="198" y="2759"/>
                      </a:lnTo>
                      <a:lnTo>
                        <a:pt x="216" y="2756"/>
                      </a:lnTo>
                      <a:lnTo>
                        <a:pt x="233" y="2750"/>
                      </a:lnTo>
                      <a:lnTo>
                        <a:pt x="248" y="2740"/>
                      </a:lnTo>
                      <a:lnTo>
                        <a:pt x="245" y="2736"/>
                      </a:lnTo>
                      <a:lnTo>
                        <a:pt x="241" y="2733"/>
                      </a:lnTo>
                      <a:lnTo>
                        <a:pt x="236" y="2732"/>
                      </a:lnTo>
                      <a:lnTo>
                        <a:pt x="232" y="2732"/>
                      </a:lnTo>
                      <a:lnTo>
                        <a:pt x="228" y="2732"/>
                      </a:lnTo>
                      <a:lnTo>
                        <a:pt x="224" y="2732"/>
                      </a:lnTo>
                      <a:lnTo>
                        <a:pt x="219" y="2731"/>
                      </a:lnTo>
                      <a:lnTo>
                        <a:pt x="215" y="2729"/>
                      </a:lnTo>
                      <a:lnTo>
                        <a:pt x="198" y="2717"/>
                      </a:lnTo>
                      <a:lnTo>
                        <a:pt x="181" y="2707"/>
                      </a:lnTo>
                      <a:lnTo>
                        <a:pt x="163" y="2696"/>
                      </a:lnTo>
                      <a:lnTo>
                        <a:pt x="144" y="2684"/>
                      </a:lnTo>
                      <a:lnTo>
                        <a:pt x="126" y="2671"/>
                      </a:lnTo>
                      <a:lnTo>
                        <a:pt x="109" y="2658"/>
                      </a:lnTo>
                      <a:lnTo>
                        <a:pt x="93" y="2643"/>
                      </a:lnTo>
                      <a:lnTo>
                        <a:pt x="78" y="2625"/>
                      </a:lnTo>
                      <a:lnTo>
                        <a:pt x="104" y="2599"/>
                      </a:lnTo>
                      <a:lnTo>
                        <a:pt x="129" y="2572"/>
                      </a:lnTo>
                      <a:lnTo>
                        <a:pt x="155" y="2543"/>
                      </a:lnTo>
                      <a:lnTo>
                        <a:pt x="180" y="2513"/>
                      </a:lnTo>
                      <a:lnTo>
                        <a:pt x="204" y="2482"/>
                      </a:lnTo>
                      <a:lnTo>
                        <a:pt x="228" y="2450"/>
                      </a:lnTo>
                      <a:lnTo>
                        <a:pt x="250" y="2417"/>
                      </a:lnTo>
                      <a:lnTo>
                        <a:pt x="272" y="2384"/>
                      </a:lnTo>
                      <a:lnTo>
                        <a:pt x="291" y="2350"/>
                      </a:lnTo>
                      <a:lnTo>
                        <a:pt x="310" y="2314"/>
                      </a:lnTo>
                      <a:lnTo>
                        <a:pt x="327" y="2279"/>
                      </a:lnTo>
                      <a:lnTo>
                        <a:pt x="342" y="2243"/>
                      </a:lnTo>
                      <a:lnTo>
                        <a:pt x="355" y="2207"/>
                      </a:lnTo>
                      <a:lnTo>
                        <a:pt x="367" y="2169"/>
                      </a:lnTo>
                      <a:lnTo>
                        <a:pt x="377" y="2132"/>
                      </a:lnTo>
                      <a:lnTo>
                        <a:pt x="383" y="2094"/>
                      </a:lnTo>
                      <a:lnTo>
                        <a:pt x="393" y="2059"/>
                      </a:lnTo>
                      <a:lnTo>
                        <a:pt x="400" y="2023"/>
                      </a:lnTo>
                      <a:lnTo>
                        <a:pt x="407" y="1986"/>
                      </a:lnTo>
                      <a:lnTo>
                        <a:pt x="412" y="1949"/>
                      </a:lnTo>
                      <a:lnTo>
                        <a:pt x="417" y="1913"/>
                      </a:lnTo>
                      <a:lnTo>
                        <a:pt x="423" y="1877"/>
                      </a:lnTo>
                      <a:lnTo>
                        <a:pt x="429" y="1842"/>
                      </a:lnTo>
                      <a:lnTo>
                        <a:pt x="437" y="1808"/>
                      </a:lnTo>
                      <a:lnTo>
                        <a:pt x="453" y="1786"/>
                      </a:lnTo>
                      <a:lnTo>
                        <a:pt x="468" y="1764"/>
                      </a:lnTo>
                      <a:lnTo>
                        <a:pt x="484" y="1743"/>
                      </a:lnTo>
                      <a:lnTo>
                        <a:pt x="500" y="1721"/>
                      </a:lnTo>
                      <a:lnTo>
                        <a:pt x="516" y="1700"/>
                      </a:lnTo>
                      <a:lnTo>
                        <a:pt x="531" y="1679"/>
                      </a:lnTo>
                      <a:lnTo>
                        <a:pt x="547" y="1658"/>
                      </a:lnTo>
                      <a:lnTo>
                        <a:pt x="563" y="1637"/>
                      </a:lnTo>
                      <a:lnTo>
                        <a:pt x="579" y="1617"/>
                      </a:lnTo>
                      <a:lnTo>
                        <a:pt x="595" y="1595"/>
                      </a:lnTo>
                      <a:lnTo>
                        <a:pt x="611" y="1575"/>
                      </a:lnTo>
                      <a:lnTo>
                        <a:pt x="627" y="1555"/>
                      </a:lnTo>
                      <a:lnTo>
                        <a:pt x="643" y="1533"/>
                      </a:lnTo>
                      <a:lnTo>
                        <a:pt x="659" y="1513"/>
                      </a:lnTo>
                      <a:lnTo>
                        <a:pt x="675" y="1493"/>
                      </a:lnTo>
                      <a:lnTo>
                        <a:pt x="691" y="1472"/>
                      </a:lnTo>
                      <a:lnTo>
                        <a:pt x="712" y="1438"/>
                      </a:lnTo>
                      <a:lnTo>
                        <a:pt x="732" y="1404"/>
                      </a:lnTo>
                      <a:lnTo>
                        <a:pt x="751" y="1370"/>
                      </a:lnTo>
                      <a:lnTo>
                        <a:pt x="772" y="1336"/>
                      </a:lnTo>
                      <a:lnTo>
                        <a:pt x="790" y="1303"/>
                      </a:lnTo>
                      <a:lnTo>
                        <a:pt x="808" y="1268"/>
                      </a:lnTo>
                      <a:lnTo>
                        <a:pt x="825" y="1234"/>
                      </a:lnTo>
                      <a:lnTo>
                        <a:pt x="841" y="1200"/>
                      </a:lnTo>
                      <a:lnTo>
                        <a:pt x="850" y="1186"/>
                      </a:lnTo>
                      <a:lnTo>
                        <a:pt x="856" y="1170"/>
                      </a:lnTo>
                      <a:lnTo>
                        <a:pt x="863" y="1154"/>
                      </a:lnTo>
                      <a:lnTo>
                        <a:pt x="867" y="1138"/>
                      </a:lnTo>
                      <a:lnTo>
                        <a:pt x="872" y="1122"/>
                      </a:lnTo>
                      <a:lnTo>
                        <a:pt x="878" y="1107"/>
                      </a:lnTo>
                      <a:lnTo>
                        <a:pt x="884" y="1092"/>
                      </a:lnTo>
                      <a:lnTo>
                        <a:pt x="892" y="1079"/>
                      </a:lnTo>
                      <a:lnTo>
                        <a:pt x="896" y="1062"/>
                      </a:lnTo>
                      <a:lnTo>
                        <a:pt x="899" y="1046"/>
                      </a:lnTo>
                      <a:lnTo>
                        <a:pt x="905" y="1031"/>
                      </a:lnTo>
                      <a:lnTo>
                        <a:pt x="909" y="1016"/>
                      </a:lnTo>
                      <a:lnTo>
                        <a:pt x="914" y="1001"/>
                      </a:lnTo>
                      <a:lnTo>
                        <a:pt x="921" y="986"/>
                      </a:lnTo>
                      <a:lnTo>
                        <a:pt x="927" y="972"/>
                      </a:lnTo>
                      <a:lnTo>
                        <a:pt x="934" y="957"/>
                      </a:lnTo>
                      <a:lnTo>
                        <a:pt x="954" y="956"/>
                      </a:lnTo>
                      <a:lnTo>
                        <a:pt x="969" y="962"/>
                      </a:lnTo>
                      <a:lnTo>
                        <a:pt x="982" y="971"/>
                      </a:lnTo>
                      <a:lnTo>
                        <a:pt x="992" y="985"/>
                      </a:lnTo>
                      <a:lnTo>
                        <a:pt x="1001" y="1001"/>
                      </a:lnTo>
                      <a:lnTo>
                        <a:pt x="1008" y="1017"/>
                      </a:lnTo>
                      <a:lnTo>
                        <a:pt x="1016" y="1034"/>
                      </a:lnTo>
                      <a:lnTo>
                        <a:pt x="1024" y="1050"/>
                      </a:lnTo>
                      <a:lnTo>
                        <a:pt x="1033" y="1095"/>
                      </a:lnTo>
                      <a:lnTo>
                        <a:pt x="1040" y="1138"/>
                      </a:lnTo>
                      <a:lnTo>
                        <a:pt x="1048" y="1182"/>
                      </a:lnTo>
                      <a:lnTo>
                        <a:pt x="1052" y="1229"/>
                      </a:lnTo>
                      <a:lnTo>
                        <a:pt x="1057" y="1236"/>
                      </a:lnTo>
                      <a:lnTo>
                        <a:pt x="1054" y="1245"/>
                      </a:lnTo>
                      <a:lnTo>
                        <a:pt x="1052" y="1252"/>
                      </a:lnTo>
                      <a:lnTo>
                        <a:pt x="1057" y="1261"/>
                      </a:lnTo>
                      <a:lnTo>
                        <a:pt x="1063" y="1266"/>
                      </a:lnTo>
                      <a:lnTo>
                        <a:pt x="1069" y="1271"/>
                      </a:lnTo>
                      <a:lnTo>
                        <a:pt x="1078" y="1271"/>
                      </a:lnTo>
                      <a:lnTo>
                        <a:pt x="1085" y="1267"/>
                      </a:lnTo>
                      <a:lnTo>
                        <a:pt x="1092" y="1248"/>
                      </a:lnTo>
                      <a:lnTo>
                        <a:pt x="1094" y="1228"/>
                      </a:lnTo>
                      <a:lnTo>
                        <a:pt x="1096" y="1207"/>
                      </a:lnTo>
                      <a:lnTo>
                        <a:pt x="1103" y="1188"/>
                      </a:lnTo>
                      <a:lnTo>
                        <a:pt x="1111" y="1172"/>
                      </a:lnTo>
                      <a:lnTo>
                        <a:pt x="1118" y="1156"/>
                      </a:lnTo>
                      <a:lnTo>
                        <a:pt x="1125" y="1139"/>
                      </a:lnTo>
                      <a:lnTo>
                        <a:pt x="1131" y="1122"/>
                      </a:lnTo>
                      <a:lnTo>
                        <a:pt x="1134" y="1100"/>
                      </a:lnTo>
                      <a:lnTo>
                        <a:pt x="1141" y="1079"/>
                      </a:lnTo>
                      <a:lnTo>
                        <a:pt x="1149" y="1060"/>
                      </a:lnTo>
                      <a:lnTo>
                        <a:pt x="1154" y="1039"/>
                      </a:lnTo>
                      <a:lnTo>
                        <a:pt x="1158" y="1001"/>
                      </a:lnTo>
                      <a:lnTo>
                        <a:pt x="1164" y="964"/>
                      </a:lnTo>
                      <a:lnTo>
                        <a:pt x="1171" y="925"/>
                      </a:lnTo>
                      <a:lnTo>
                        <a:pt x="1180" y="888"/>
                      </a:lnTo>
                      <a:lnTo>
                        <a:pt x="1188" y="851"/>
                      </a:lnTo>
                      <a:lnTo>
                        <a:pt x="1196" y="812"/>
                      </a:lnTo>
                      <a:lnTo>
                        <a:pt x="1203" y="775"/>
                      </a:lnTo>
                      <a:lnTo>
                        <a:pt x="1210" y="736"/>
                      </a:lnTo>
                      <a:lnTo>
                        <a:pt x="1218" y="697"/>
                      </a:lnTo>
                      <a:lnTo>
                        <a:pt x="1225" y="658"/>
                      </a:lnTo>
                      <a:lnTo>
                        <a:pt x="1229" y="619"/>
                      </a:lnTo>
                      <a:lnTo>
                        <a:pt x="1232" y="579"/>
                      </a:lnTo>
                      <a:lnTo>
                        <a:pt x="1234" y="540"/>
                      </a:lnTo>
                      <a:lnTo>
                        <a:pt x="1236" y="500"/>
                      </a:lnTo>
                      <a:lnTo>
                        <a:pt x="1240" y="461"/>
                      </a:lnTo>
                      <a:lnTo>
                        <a:pt x="1243" y="421"/>
                      </a:lnTo>
                      <a:lnTo>
                        <a:pt x="1249" y="385"/>
                      </a:lnTo>
                      <a:lnTo>
                        <a:pt x="1254" y="345"/>
                      </a:lnTo>
                      <a:lnTo>
                        <a:pt x="1254" y="305"/>
                      </a:lnTo>
                      <a:lnTo>
                        <a:pt x="1254" y="264"/>
                      </a:lnTo>
                      <a:lnTo>
                        <a:pt x="1259" y="239"/>
                      </a:lnTo>
                      <a:lnTo>
                        <a:pt x="1263" y="213"/>
                      </a:lnTo>
                      <a:lnTo>
                        <a:pt x="1265" y="184"/>
                      </a:lnTo>
                      <a:lnTo>
                        <a:pt x="1269" y="156"/>
                      </a:lnTo>
                      <a:lnTo>
                        <a:pt x="1271" y="139"/>
                      </a:lnTo>
                      <a:lnTo>
                        <a:pt x="1273" y="122"/>
                      </a:lnTo>
                      <a:lnTo>
                        <a:pt x="1276" y="104"/>
                      </a:lnTo>
                      <a:lnTo>
                        <a:pt x="1280" y="87"/>
                      </a:lnTo>
                      <a:lnTo>
                        <a:pt x="1285" y="69"/>
                      </a:lnTo>
                      <a:lnTo>
                        <a:pt x="1290" y="51"/>
                      </a:lnTo>
                      <a:lnTo>
                        <a:pt x="1295" y="34"/>
                      </a:lnTo>
                      <a:lnTo>
                        <a:pt x="1301" y="17"/>
                      </a:lnTo>
                      <a:lnTo>
                        <a:pt x="1306" y="12"/>
                      </a:lnTo>
                      <a:lnTo>
                        <a:pt x="1312" y="6"/>
                      </a:lnTo>
                      <a:lnTo>
                        <a:pt x="1319" y="3"/>
                      </a:lnTo>
                      <a:lnTo>
                        <a:pt x="1327" y="1"/>
                      </a:lnTo>
                      <a:lnTo>
                        <a:pt x="1335" y="0"/>
                      </a:lnTo>
                      <a:lnTo>
                        <a:pt x="1343" y="1"/>
                      </a:lnTo>
                      <a:lnTo>
                        <a:pt x="1352" y="2"/>
                      </a:lnTo>
                      <a:lnTo>
                        <a:pt x="1361" y="5"/>
                      </a:lnTo>
                      <a:lnTo>
                        <a:pt x="1370" y="12"/>
                      </a:lnTo>
                      <a:lnTo>
                        <a:pt x="1378" y="18"/>
                      </a:lnTo>
                      <a:lnTo>
                        <a:pt x="1384" y="27"/>
                      </a:lnTo>
                      <a:lnTo>
                        <a:pt x="1391" y="35"/>
                      </a:lnTo>
                      <a:lnTo>
                        <a:pt x="1395" y="45"/>
                      </a:lnTo>
                      <a:lnTo>
                        <a:pt x="1400" y="53"/>
                      </a:lnTo>
                      <a:lnTo>
                        <a:pt x="1406" y="63"/>
                      </a:lnTo>
                      <a:lnTo>
                        <a:pt x="1411" y="72"/>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0" name=""/>
                <p:cNvSpPr/>
                <p:nvPr/>
              </p:nvSpPr>
              <p:spPr>
                <a:xfrm flipH="1">
                  <a:off x="1432080" y="5262480"/>
                  <a:ext cx="81000" cy="162360"/>
                </a:xfrm>
                <a:custGeom>
                  <a:avLst/>
                  <a:gdLst/>
                  <a:ahLst/>
                  <a:rect l="l" t="t" r="r" b="b"/>
                  <a:pathLst>
                    <a:path w="473" h="893">
                      <a:moveTo>
                        <a:pt x="455" y="60"/>
                      </a:moveTo>
                      <a:lnTo>
                        <a:pt x="467" y="122"/>
                      </a:lnTo>
                      <a:lnTo>
                        <a:pt x="473" y="183"/>
                      </a:lnTo>
                      <a:lnTo>
                        <a:pt x="472" y="244"/>
                      </a:lnTo>
                      <a:lnTo>
                        <a:pt x="464" y="304"/>
                      </a:lnTo>
                      <a:lnTo>
                        <a:pt x="451" y="361"/>
                      </a:lnTo>
                      <a:lnTo>
                        <a:pt x="433" y="418"/>
                      </a:lnTo>
                      <a:lnTo>
                        <a:pt x="409" y="472"/>
                      </a:lnTo>
                      <a:lnTo>
                        <a:pt x="381" y="525"/>
                      </a:lnTo>
                      <a:lnTo>
                        <a:pt x="363" y="553"/>
                      </a:lnTo>
                      <a:lnTo>
                        <a:pt x="343" y="579"/>
                      </a:lnTo>
                      <a:lnTo>
                        <a:pt x="324" y="605"/>
                      </a:lnTo>
                      <a:lnTo>
                        <a:pt x="304" y="631"/>
                      </a:lnTo>
                      <a:lnTo>
                        <a:pt x="283" y="656"/>
                      </a:lnTo>
                      <a:lnTo>
                        <a:pt x="263" y="682"/>
                      </a:lnTo>
                      <a:lnTo>
                        <a:pt x="243" y="707"/>
                      </a:lnTo>
                      <a:lnTo>
                        <a:pt x="223" y="733"/>
                      </a:lnTo>
                      <a:lnTo>
                        <a:pt x="122" y="833"/>
                      </a:lnTo>
                      <a:lnTo>
                        <a:pt x="120" y="829"/>
                      </a:lnTo>
                      <a:lnTo>
                        <a:pt x="106" y="840"/>
                      </a:lnTo>
                      <a:lnTo>
                        <a:pt x="93" y="851"/>
                      </a:lnTo>
                      <a:lnTo>
                        <a:pt x="79" y="861"/>
                      </a:lnTo>
                      <a:lnTo>
                        <a:pt x="65" y="871"/>
                      </a:lnTo>
                      <a:lnTo>
                        <a:pt x="51" y="881"/>
                      </a:lnTo>
                      <a:lnTo>
                        <a:pt x="35" y="887"/>
                      </a:lnTo>
                      <a:lnTo>
                        <a:pt x="18" y="891"/>
                      </a:lnTo>
                      <a:lnTo>
                        <a:pt x="0" y="893"/>
                      </a:lnTo>
                      <a:lnTo>
                        <a:pt x="6" y="869"/>
                      </a:lnTo>
                      <a:lnTo>
                        <a:pt x="17" y="846"/>
                      </a:lnTo>
                      <a:lnTo>
                        <a:pt x="31" y="827"/>
                      </a:lnTo>
                      <a:lnTo>
                        <a:pt x="47" y="809"/>
                      </a:lnTo>
                      <a:lnTo>
                        <a:pt x="62" y="791"/>
                      </a:lnTo>
                      <a:lnTo>
                        <a:pt x="77" y="772"/>
                      </a:lnTo>
                      <a:lnTo>
                        <a:pt x="88" y="751"/>
                      </a:lnTo>
                      <a:lnTo>
                        <a:pt x="97" y="728"/>
                      </a:lnTo>
                      <a:lnTo>
                        <a:pt x="120" y="689"/>
                      </a:lnTo>
                      <a:lnTo>
                        <a:pt x="141" y="650"/>
                      </a:lnTo>
                      <a:lnTo>
                        <a:pt x="161" y="610"/>
                      </a:lnTo>
                      <a:lnTo>
                        <a:pt x="182" y="570"/>
                      </a:lnTo>
                      <a:lnTo>
                        <a:pt x="201" y="529"/>
                      </a:lnTo>
                      <a:lnTo>
                        <a:pt x="220" y="488"/>
                      </a:lnTo>
                      <a:lnTo>
                        <a:pt x="239" y="448"/>
                      </a:lnTo>
                      <a:lnTo>
                        <a:pt x="258" y="407"/>
                      </a:lnTo>
                      <a:lnTo>
                        <a:pt x="276" y="366"/>
                      </a:lnTo>
                      <a:lnTo>
                        <a:pt x="293" y="324"/>
                      </a:lnTo>
                      <a:lnTo>
                        <a:pt x="310" y="283"/>
                      </a:lnTo>
                      <a:lnTo>
                        <a:pt x="327" y="242"/>
                      </a:lnTo>
                      <a:lnTo>
                        <a:pt x="344" y="200"/>
                      </a:lnTo>
                      <a:lnTo>
                        <a:pt x="360" y="158"/>
                      </a:lnTo>
                      <a:lnTo>
                        <a:pt x="375" y="117"/>
                      </a:lnTo>
                      <a:lnTo>
                        <a:pt x="391" y="75"/>
                      </a:lnTo>
                      <a:lnTo>
                        <a:pt x="397" y="65"/>
                      </a:lnTo>
                      <a:lnTo>
                        <a:pt x="400" y="56"/>
                      </a:lnTo>
                      <a:lnTo>
                        <a:pt x="403" y="45"/>
                      </a:lnTo>
                      <a:lnTo>
                        <a:pt x="405" y="34"/>
                      </a:lnTo>
                      <a:lnTo>
                        <a:pt x="409" y="24"/>
                      </a:lnTo>
                      <a:lnTo>
                        <a:pt x="412" y="14"/>
                      </a:lnTo>
                      <a:lnTo>
                        <a:pt x="417" y="7"/>
                      </a:lnTo>
                      <a:lnTo>
                        <a:pt x="424" y="0"/>
                      </a:lnTo>
                      <a:lnTo>
                        <a:pt x="435" y="14"/>
                      </a:lnTo>
                      <a:lnTo>
                        <a:pt x="444" y="28"/>
                      </a:lnTo>
                      <a:lnTo>
                        <a:pt x="449" y="43"/>
                      </a:lnTo>
                      <a:lnTo>
                        <a:pt x="455" y="6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1" name=""/>
                <p:cNvSpPr/>
                <p:nvPr/>
              </p:nvSpPr>
              <p:spPr>
                <a:xfrm flipH="1">
                  <a:off x="1421640" y="5367600"/>
                  <a:ext cx="106200" cy="105840"/>
                </a:xfrm>
                <a:custGeom>
                  <a:avLst/>
                  <a:gdLst/>
                  <a:ahLst/>
                  <a:rect l="l" t="t" r="r" b="b"/>
                  <a:pathLst>
                    <a:path w="619" h="580">
                      <a:moveTo>
                        <a:pt x="619" y="101"/>
                      </a:moveTo>
                      <a:lnTo>
                        <a:pt x="610" y="140"/>
                      </a:lnTo>
                      <a:lnTo>
                        <a:pt x="597" y="176"/>
                      </a:lnTo>
                      <a:lnTo>
                        <a:pt x="582" y="212"/>
                      </a:lnTo>
                      <a:lnTo>
                        <a:pt x="564" y="245"/>
                      </a:lnTo>
                      <a:lnTo>
                        <a:pt x="544" y="277"/>
                      </a:lnTo>
                      <a:lnTo>
                        <a:pt x="521" y="307"/>
                      </a:lnTo>
                      <a:lnTo>
                        <a:pt x="497" y="335"/>
                      </a:lnTo>
                      <a:lnTo>
                        <a:pt x="471" y="361"/>
                      </a:lnTo>
                      <a:lnTo>
                        <a:pt x="443" y="387"/>
                      </a:lnTo>
                      <a:lnTo>
                        <a:pt x="413" y="412"/>
                      </a:lnTo>
                      <a:lnTo>
                        <a:pt x="383" y="434"/>
                      </a:lnTo>
                      <a:lnTo>
                        <a:pt x="352" y="456"/>
                      </a:lnTo>
                      <a:lnTo>
                        <a:pt x="320" y="477"/>
                      </a:lnTo>
                      <a:lnTo>
                        <a:pt x="287" y="497"/>
                      </a:lnTo>
                      <a:lnTo>
                        <a:pt x="255" y="516"/>
                      </a:lnTo>
                      <a:lnTo>
                        <a:pt x="222" y="534"/>
                      </a:lnTo>
                      <a:lnTo>
                        <a:pt x="210" y="541"/>
                      </a:lnTo>
                      <a:lnTo>
                        <a:pt x="197" y="546"/>
                      </a:lnTo>
                      <a:lnTo>
                        <a:pt x="184" y="552"/>
                      </a:lnTo>
                      <a:lnTo>
                        <a:pt x="171" y="556"/>
                      </a:lnTo>
                      <a:lnTo>
                        <a:pt x="157" y="559"/>
                      </a:lnTo>
                      <a:lnTo>
                        <a:pt x="144" y="561"/>
                      </a:lnTo>
                      <a:lnTo>
                        <a:pt x="130" y="564"/>
                      </a:lnTo>
                      <a:lnTo>
                        <a:pt x="116" y="565"/>
                      </a:lnTo>
                      <a:lnTo>
                        <a:pt x="102" y="568"/>
                      </a:lnTo>
                      <a:lnTo>
                        <a:pt x="87" y="569"/>
                      </a:lnTo>
                      <a:lnTo>
                        <a:pt x="72" y="571"/>
                      </a:lnTo>
                      <a:lnTo>
                        <a:pt x="58" y="572"/>
                      </a:lnTo>
                      <a:lnTo>
                        <a:pt x="43" y="574"/>
                      </a:lnTo>
                      <a:lnTo>
                        <a:pt x="29" y="576"/>
                      </a:lnTo>
                      <a:lnTo>
                        <a:pt x="14" y="578"/>
                      </a:lnTo>
                      <a:lnTo>
                        <a:pt x="0" y="580"/>
                      </a:lnTo>
                      <a:lnTo>
                        <a:pt x="18" y="572"/>
                      </a:lnTo>
                      <a:lnTo>
                        <a:pt x="36" y="563"/>
                      </a:lnTo>
                      <a:lnTo>
                        <a:pt x="54" y="554"/>
                      </a:lnTo>
                      <a:lnTo>
                        <a:pt x="72" y="544"/>
                      </a:lnTo>
                      <a:lnTo>
                        <a:pt x="89" y="533"/>
                      </a:lnTo>
                      <a:lnTo>
                        <a:pt x="105" y="523"/>
                      </a:lnTo>
                      <a:lnTo>
                        <a:pt x="121" y="512"/>
                      </a:lnTo>
                      <a:lnTo>
                        <a:pt x="136" y="501"/>
                      </a:lnTo>
                      <a:lnTo>
                        <a:pt x="149" y="498"/>
                      </a:lnTo>
                      <a:lnTo>
                        <a:pt x="160" y="493"/>
                      </a:lnTo>
                      <a:lnTo>
                        <a:pt x="170" y="486"/>
                      </a:lnTo>
                      <a:lnTo>
                        <a:pt x="181" y="479"/>
                      </a:lnTo>
                      <a:lnTo>
                        <a:pt x="191" y="471"/>
                      </a:lnTo>
                      <a:lnTo>
                        <a:pt x="200" y="465"/>
                      </a:lnTo>
                      <a:lnTo>
                        <a:pt x="211" y="460"/>
                      </a:lnTo>
                      <a:lnTo>
                        <a:pt x="222" y="455"/>
                      </a:lnTo>
                      <a:lnTo>
                        <a:pt x="233" y="445"/>
                      </a:lnTo>
                      <a:lnTo>
                        <a:pt x="246" y="434"/>
                      </a:lnTo>
                      <a:lnTo>
                        <a:pt x="259" y="424"/>
                      </a:lnTo>
                      <a:lnTo>
                        <a:pt x="273" y="415"/>
                      </a:lnTo>
                      <a:lnTo>
                        <a:pt x="286" y="405"/>
                      </a:lnTo>
                      <a:lnTo>
                        <a:pt x="300" y="395"/>
                      </a:lnTo>
                      <a:lnTo>
                        <a:pt x="314" y="386"/>
                      </a:lnTo>
                      <a:lnTo>
                        <a:pt x="328" y="376"/>
                      </a:lnTo>
                      <a:lnTo>
                        <a:pt x="342" y="368"/>
                      </a:lnTo>
                      <a:lnTo>
                        <a:pt x="355" y="358"/>
                      </a:lnTo>
                      <a:lnTo>
                        <a:pt x="369" y="348"/>
                      </a:lnTo>
                      <a:lnTo>
                        <a:pt x="383" y="339"/>
                      </a:lnTo>
                      <a:lnTo>
                        <a:pt x="397" y="329"/>
                      </a:lnTo>
                      <a:lnTo>
                        <a:pt x="410" y="320"/>
                      </a:lnTo>
                      <a:lnTo>
                        <a:pt x="423" y="309"/>
                      </a:lnTo>
                      <a:lnTo>
                        <a:pt x="436" y="298"/>
                      </a:lnTo>
                      <a:lnTo>
                        <a:pt x="450" y="290"/>
                      </a:lnTo>
                      <a:lnTo>
                        <a:pt x="465" y="281"/>
                      </a:lnTo>
                      <a:lnTo>
                        <a:pt x="480" y="272"/>
                      </a:lnTo>
                      <a:lnTo>
                        <a:pt x="495" y="261"/>
                      </a:lnTo>
                      <a:lnTo>
                        <a:pt x="509" y="250"/>
                      </a:lnTo>
                      <a:lnTo>
                        <a:pt x="519" y="238"/>
                      </a:lnTo>
                      <a:lnTo>
                        <a:pt x="528" y="226"/>
                      </a:lnTo>
                      <a:lnTo>
                        <a:pt x="533" y="212"/>
                      </a:lnTo>
                      <a:lnTo>
                        <a:pt x="538" y="200"/>
                      </a:lnTo>
                      <a:lnTo>
                        <a:pt x="545" y="188"/>
                      </a:lnTo>
                      <a:lnTo>
                        <a:pt x="554" y="178"/>
                      </a:lnTo>
                      <a:lnTo>
                        <a:pt x="563" y="167"/>
                      </a:lnTo>
                      <a:lnTo>
                        <a:pt x="571" y="156"/>
                      </a:lnTo>
                      <a:lnTo>
                        <a:pt x="575" y="144"/>
                      </a:lnTo>
                      <a:lnTo>
                        <a:pt x="574" y="133"/>
                      </a:lnTo>
                      <a:lnTo>
                        <a:pt x="565" y="120"/>
                      </a:lnTo>
                      <a:lnTo>
                        <a:pt x="557" y="121"/>
                      </a:lnTo>
                      <a:lnTo>
                        <a:pt x="554" y="126"/>
                      </a:lnTo>
                      <a:lnTo>
                        <a:pt x="550" y="133"/>
                      </a:lnTo>
                      <a:lnTo>
                        <a:pt x="545" y="138"/>
                      </a:lnTo>
                      <a:lnTo>
                        <a:pt x="531" y="153"/>
                      </a:lnTo>
                      <a:lnTo>
                        <a:pt x="516" y="167"/>
                      </a:lnTo>
                      <a:lnTo>
                        <a:pt x="501" y="181"/>
                      </a:lnTo>
                      <a:lnTo>
                        <a:pt x="486" y="195"/>
                      </a:lnTo>
                      <a:lnTo>
                        <a:pt x="471" y="207"/>
                      </a:lnTo>
                      <a:lnTo>
                        <a:pt x="456" y="220"/>
                      </a:lnTo>
                      <a:lnTo>
                        <a:pt x="440" y="233"/>
                      </a:lnTo>
                      <a:lnTo>
                        <a:pt x="425" y="245"/>
                      </a:lnTo>
                      <a:lnTo>
                        <a:pt x="409" y="258"/>
                      </a:lnTo>
                      <a:lnTo>
                        <a:pt x="393" y="269"/>
                      </a:lnTo>
                      <a:lnTo>
                        <a:pt x="377" y="281"/>
                      </a:lnTo>
                      <a:lnTo>
                        <a:pt x="361" y="293"/>
                      </a:lnTo>
                      <a:lnTo>
                        <a:pt x="344" y="305"/>
                      </a:lnTo>
                      <a:lnTo>
                        <a:pt x="328" y="316"/>
                      </a:lnTo>
                      <a:lnTo>
                        <a:pt x="311" y="329"/>
                      </a:lnTo>
                      <a:lnTo>
                        <a:pt x="293" y="341"/>
                      </a:lnTo>
                      <a:lnTo>
                        <a:pt x="293" y="348"/>
                      </a:lnTo>
                      <a:lnTo>
                        <a:pt x="282" y="357"/>
                      </a:lnTo>
                      <a:lnTo>
                        <a:pt x="271" y="366"/>
                      </a:lnTo>
                      <a:lnTo>
                        <a:pt x="259" y="373"/>
                      </a:lnTo>
                      <a:lnTo>
                        <a:pt x="246" y="381"/>
                      </a:lnTo>
                      <a:lnTo>
                        <a:pt x="235" y="388"/>
                      </a:lnTo>
                      <a:lnTo>
                        <a:pt x="223" y="394"/>
                      </a:lnTo>
                      <a:lnTo>
                        <a:pt x="210" y="401"/>
                      </a:lnTo>
                      <a:lnTo>
                        <a:pt x="198" y="407"/>
                      </a:lnTo>
                      <a:lnTo>
                        <a:pt x="185" y="414"/>
                      </a:lnTo>
                      <a:lnTo>
                        <a:pt x="172" y="419"/>
                      </a:lnTo>
                      <a:lnTo>
                        <a:pt x="161" y="425"/>
                      </a:lnTo>
                      <a:lnTo>
                        <a:pt x="148" y="431"/>
                      </a:lnTo>
                      <a:lnTo>
                        <a:pt x="136" y="437"/>
                      </a:lnTo>
                      <a:lnTo>
                        <a:pt x="123" y="443"/>
                      </a:lnTo>
                      <a:lnTo>
                        <a:pt x="111" y="449"/>
                      </a:lnTo>
                      <a:lnTo>
                        <a:pt x="100" y="455"/>
                      </a:lnTo>
                      <a:lnTo>
                        <a:pt x="101" y="448"/>
                      </a:lnTo>
                      <a:lnTo>
                        <a:pt x="104" y="441"/>
                      </a:lnTo>
                      <a:lnTo>
                        <a:pt x="108" y="435"/>
                      </a:lnTo>
                      <a:lnTo>
                        <a:pt x="115" y="429"/>
                      </a:lnTo>
                      <a:lnTo>
                        <a:pt x="121" y="423"/>
                      </a:lnTo>
                      <a:lnTo>
                        <a:pt x="127" y="418"/>
                      </a:lnTo>
                      <a:lnTo>
                        <a:pt x="132" y="414"/>
                      </a:lnTo>
                      <a:lnTo>
                        <a:pt x="136" y="409"/>
                      </a:lnTo>
                      <a:lnTo>
                        <a:pt x="149" y="397"/>
                      </a:lnTo>
                      <a:lnTo>
                        <a:pt x="162" y="384"/>
                      </a:lnTo>
                      <a:lnTo>
                        <a:pt x="176" y="370"/>
                      </a:lnTo>
                      <a:lnTo>
                        <a:pt x="188" y="356"/>
                      </a:lnTo>
                      <a:lnTo>
                        <a:pt x="202" y="342"/>
                      </a:lnTo>
                      <a:lnTo>
                        <a:pt x="216" y="330"/>
                      </a:lnTo>
                      <a:lnTo>
                        <a:pt x="229" y="319"/>
                      </a:lnTo>
                      <a:lnTo>
                        <a:pt x="243" y="309"/>
                      </a:lnTo>
                      <a:lnTo>
                        <a:pt x="254" y="298"/>
                      </a:lnTo>
                      <a:lnTo>
                        <a:pt x="264" y="286"/>
                      </a:lnTo>
                      <a:lnTo>
                        <a:pt x="275" y="276"/>
                      </a:lnTo>
                      <a:lnTo>
                        <a:pt x="287" y="265"/>
                      </a:lnTo>
                      <a:lnTo>
                        <a:pt x="299" y="253"/>
                      </a:lnTo>
                      <a:lnTo>
                        <a:pt x="311" y="243"/>
                      </a:lnTo>
                      <a:lnTo>
                        <a:pt x="322" y="232"/>
                      </a:lnTo>
                      <a:lnTo>
                        <a:pt x="334" y="220"/>
                      </a:lnTo>
                      <a:lnTo>
                        <a:pt x="346" y="210"/>
                      </a:lnTo>
                      <a:lnTo>
                        <a:pt x="358" y="198"/>
                      </a:lnTo>
                      <a:lnTo>
                        <a:pt x="369" y="187"/>
                      </a:lnTo>
                      <a:lnTo>
                        <a:pt x="381" y="175"/>
                      </a:lnTo>
                      <a:lnTo>
                        <a:pt x="392" y="164"/>
                      </a:lnTo>
                      <a:lnTo>
                        <a:pt x="403" y="151"/>
                      </a:lnTo>
                      <a:lnTo>
                        <a:pt x="413" y="139"/>
                      </a:lnTo>
                      <a:lnTo>
                        <a:pt x="423" y="126"/>
                      </a:lnTo>
                      <a:lnTo>
                        <a:pt x="441" y="108"/>
                      </a:lnTo>
                      <a:lnTo>
                        <a:pt x="458" y="87"/>
                      </a:lnTo>
                      <a:lnTo>
                        <a:pt x="474" y="63"/>
                      </a:lnTo>
                      <a:lnTo>
                        <a:pt x="490" y="40"/>
                      </a:lnTo>
                      <a:lnTo>
                        <a:pt x="510" y="20"/>
                      </a:lnTo>
                      <a:lnTo>
                        <a:pt x="531" y="7"/>
                      </a:lnTo>
                      <a:lnTo>
                        <a:pt x="558" y="0"/>
                      </a:lnTo>
                      <a:lnTo>
                        <a:pt x="591" y="4"/>
                      </a:lnTo>
                      <a:lnTo>
                        <a:pt x="603" y="12"/>
                      </a:lnTo>
                      <a:lnTo>
                        <a:pt x="609" y="23"/>
                      </a:lnTo>
                      <a:lnTo>
                        <a:pt x="614" y="34"/>
                      </a:lnTo>
                      <a:lnTo>
                        <a:pt x="616" y="46"/>
                      </a:lnTo>
                      <a:lnTo>
                        <a:pt x="616" y="60"/>
                      </a:lnTo>
                      <a:lnTo>
                        <a:pt x="616" y="74"/>
                      </a:lnTo>
                      <a:lnTo>
                        <a:pt x="617" y="88"/>
                      </a:lnTo>
                      <a:lnTo>
                        <a:pt x="619" y="101"/>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flipH="1">
                  <a:off x="1428120" y="5468040"/>
                  <a:ext cx="117360" cy="56520"/>
                </a:xfrm>
                <a:custGeom>
                  <a:avLst/>
                  <a:gdLst/>
                  <a:ahLst/>
                  <a:rect l="l" t="t" r="r" b="b"/>
                  <a:pathLst>
                    <a:path w="680" h="309">
                      <a:moveTo>
                        <a:pt x="658" y="49"/>
                      </a:moveTo>
                      <a:lnTo>
                        <a:pt x="660" y="54"/>
                      </a:lnTo>
                      <a:lnTo>
                        <a:pt x="663" y="59"/>
                      </a:lnTo>
                      <a:lnTo>
                        <a:pt x="667" y="63"/>
                      </a:lnTo>
                      <a:lnTo>
                        <a:pt x="672" y="66"/>
                      </a:lnTo>
                      <a:lnTo>
                        <a:pt x="680" y="66"/>
                      </a:lnTo>
                      <a:lnTo>
                        <a:pt x="671" y="85"/>
                      </a:lnTo>
                      <a:lnTo>
                        <a:pt x="660" y="101"/>
                      </a:lnTo>
                      <a:lnTo>
                        <a:pt x="646" y="117"/>
                      </a:lnTo>
                      <a:lnTo>
                        <a:pt x="632" y="131"/>
                      </a:lnTo>
                      <a:lnTo>
                        <a:pt x="616" y="144"/>
                      </a:lnTo>
                      <a:lnTo>
                        <a:pt x="600" y="156"/>
                      </a:lnTo>
                      <a:lnTo>
                        <a:pt x="584" y="170"/>
                      </a:lnTo>
                      <a:lnTo>
                        <a:pt x="568" y="184"/>
                      </a:lnTo>
                      <a:lnTo>
                        <a:pt x="552" y="196"/>
                      </a:lnTo>
                      <a:lnTo>
                        <a:pt x="535" y="208"/>
                      </a:lnTo>
                      <a:lnTo>
                        <a:pt x="519" y="217"/>
                      </a:lnTo>
                      <a:lnTo>
                        <a:pt x="502" y="227"/>
                      </a:lnTo>
                      <a:lnTo>
                        <a:pt x="484" y="236"/>
                      </a:lnTo>
                      <a:lnTo>
                        <a:pt x="466" y="244"/>
                      </a:lnTo>
                      <a:lnTo>
                        <a:pt x="448" y="252"/>
                      </a:lnTo>
                      <a:lnTo>
                        <a:pt x="430" y="258"/>
                      </a:lnTo>
                      <a:lnTo>
                        <a:pt x="411" y="264"/>
                      </a:lnTo>
                      <a:lnTo>
                        <a:pt x="393" y="270"/>
                      </a:lnTo>
                      <a:lnTo>
                        <a:pt x="373" y="275"/>
                      </a:lnTo>
                      <a:lnTo>
                        <a:pt x="354" y="280"/>
                      </a:lnTo>
                      <a:lnTo>
                        <a:pt x="335" y="285"/>
                      </a:lnTo>
                      <a:lnTo>
                        <a:pt x="314" y="290"/>
                      </a:lnTo>
                      <a:lnTo>
                        <a:pt x="295" y="294"/>
                      </a:lnTo>
                      <a:lnTo>
                        <a:pt x="275" y="299"/>
                      </a:lnTo>
                      <a:lnTo>
                        <a:pt x="264" y="300"/>
                      </a:lnTo>
                      <a:lnTo>
                        <a:pt x="253" y="302"/>
                      </a:lnTo>
                      <a:lnTo>
                        <a:pt x="242" y="303"/>
                      </a:lnTo>
                      <a:lnTo>
                        <a:pt x="231" y="305"/>
                      </a:lnTo>
                      <a:lnTo>
                        <a:pt x="219" y="306"/>
                      </a:lnTo>
                      <a:lnTo>
                        <a:pt x="208" y="307"/>
                      </a:lnTo>
                      <a:lnTo>
                        <a:pt x="198" y="308"/>
                      </a:lnTo>
                      <a:lnTo>
                        <a:pt x="186" y="309"/>
                      </a:lnTo>
                      <a:lnTo>
                        <a:pt x="175" y="309"/>
                      </a:lnTo>
                      <a:lnTo>
                        <a:pt x="165" y="308"/>
                      </a:lnTo>
                      <a:lnTo>
                        <a:pt x="154" y="307"/>
                      </a:lnTo>
                      <a:lnTo>
                        <a:pt x="143" y="306"/>
                      </a:lnTo>
                      <a:lnTo>
                        <a:pt x="132" y="304"/>
                      </a:lnTo>
                      <a:lnTo>
                        <a:pt x="122" y="301"/>
                      </a:lnTo>
                      <a:lnTo>
                        <a:pt x="112" y="296"/>
                      </a:lnTo>
                      <a:lnTo>
                        <a:pt x="102" y="291"/>
                      </a:lnTo>
                      <a:lnTo>
                        <a:pt x="93" y="290"/>
                      </a:lnTo>
                      <a:lnTo>
                        <a:pt x="82" y="289"/>
                      </a:lnTo>
                      <a:lnTo>
                        <a:pt x="72" y="288"/>
                      </a:lnTo>
                      <a:lnTo>
                        <a:pt x="63" y="285"/>
                      </a:lnTo>
                      <a:lnTo>
                        <a:pt x="53" y="283"/>
                      </a:lnTo>
                      <a:lnTo>
                        <a:pt x="45" y="278"/>
                      </a:lnTo>
                      <a:lnTo>
                        <a:pt x="36" y="273"/>
                      </a:lnTo>
                      <a:lnTo>
                        <a:pt x="28" y="267"/>
                      </a:lnTo>
                      <a:lnTo>
                        <a:pt x="46" y="258"/>
                      </a:lnTo>
                      <a:lnTo>
                        <a:pt x="65" y="249"/>
                      </a:lnTo>
                      <a:lnTo>
                        <a:pt x="83" y="243"/>
                      </a:lnTo>
                      <a:lnTo>
                        <a:pt x="102" y="237"/>
                      </a:lnTo>
                      <a:lnTo>
                        <a:pt x="122" y="230"/>
                      </a:lnTo>
                      <a:lnTo>
                        <a:pt x="141" y="223"/>
                      </a:lnTo>
                      <a:lnTo>
                        <a:pt x="160" y="215"/>
                      </a:lnTo>
                      <a:lnTo>
                        <a:pt x="178" y="206"/>
                      </a:lnTo>
                      <a:lnTo>
                        <a:pt x="195" y="201"/>
                      </a:lnTo>
                      <a:lnTo>
                        <a:pt x="211" y="196"/>
                      </a:lnTo>
                      <a:lnTo>
                        <a:pt x="227" y="192"/>
                      </a:lnTo>
                      <a:lnTo>
                        <a:pt x="243" y="186"/>
                      </a:lnTo>
                      <a:lnTo>
                        <a:pt x="260" y="182"/>
                      </a:lnTo>
                      <a:lnTo>
                        <a:pt x="276" y="177"/>
                      </a:lnTo>
                      <a:lnTo>
                        <a:pt x="292" y="172"/>
                      </a:lnTo>
                      <a:lnTo>
                        <a:pt x="308" y="168"/>
                      </a:lnTo>
                      <a:lnTo>
                        <a:pt x="325" y="163"/>
                      </a:lnTo>
                      <a:lnTo>
                        <a:pt x="341" y="159"/>
                      </a:lnTo>
                      <a:lnTo>
                        <a:pt x="357" y="154"/>
                      </a:lnTo>
                      <a:lnTo>
                        <a:pt x="374" y="149"/>
                      </a:lnTo>
                      <a:lnTo>
                        <a:pt x="390" y="145"/>
                      </a:lnTo>
                      <a:lnTo>
                        <a:pt x="407" y="140"/>
                      </a:lnTo>
                      <a:lnTo>
                        <a:pt x="424" y="135"/>
                      </a:lnTo>
                      <a:lnTo>
                        <a:pt x="440" y="131"/>
                      </a:lnTo>
                      <a:lnTo>
                        <a:pt x="457" y="128"/>
                      </a:lnTo>
                      <a:lnTo>
                        <a:pt x="474" y="123"/>
                      </a:lnTo>
                      <a:lnTo>
                        <a:pt x="490" y="118"/>
                      </a:lnTo>
                      <a:lnTo>
                        <a:pt x="507" y="113"/>
                      </a:lnTo>
                      <a:lnTo>
                        <a:pt x="523" y="107"/>
                      </a:lnTo>
                      <a:lnTo>
                        <a:pt x="539" y="102"/>
                      </a:lnTo>
                      <a:lnTo>
                        <a:pt x="556" y="98"/>
                      </a:lnTo>
                      <a:lnTo>
                        <a:pt x="572" y="94"/>
                      </a:lnTo>
                      <a:lnTo>
                        <a:pt x="577" y="92"/>
                      </a:lnTo>
                      <a:lnTo>
                        <a:pt x="582" y="91"/>
                      </a:lnTo>
                      <a:lnTo>
                        <a:pt x="587" y="91"/>
                      </a:lnTo>
                      <a:lnTo>
                        <a:pt x="594" y="90"/>
                      </a:lnTo>
                      <a:lnTo>
                        <a:pt x="598" y="89"/>
                      </a:lnTo>
                      <a:lnTo>
                        <a:pt x="602" y="87"/>
                      </a:lnTo>
                      <a:lnTo>
                        <a:pt x="606" y="83"/>
                      </a:lnTo>
                      <a:lnTo>
                        <a:pt x="608" y="76"/>
                      </a:lnTo>
                      <a:lnTo>
                        <a:pt x="600" y="71"/>
                      </a:lnTo>
                      <a:lnTo>
                        <a:pt x="592" y="67"/>
                      </a:lnTo>
                      <a:lnTo>
                        <a:pt x="582" y="65"/>
                      </a:lnTo>
                      <a:lnTo>
                        <a:pt x="572" y="63"/>
                      </a:lnTo>
                      <a:lnTo>
                        <a:pt x="563" y="63"/>
                      </a:lnTo>
                      <a:lnTo>
                        <a:pt x="552" y="63"/>
                      </a:lnTo>
                      <a:lnTo>
                        <a:pt x="541" y="63"/>
                      </a:lnTo>
                      <a:lnTo>
                        <a:pt x="532" y="62"/>
                      </a:lnTo>
                      <a:lnTo>
                        <a:pt x="520" y="67"/>
                      </a:lnTo>
                      <a:lnTo>
                        <a:pt x="508" y="71"/>
                      </a:lnTo>
                      <a:lnTo>
                        <a:pt x="496" y="74"/>
                      </a:lnTo>
                      <a:lnTo>
                        <a:pt x="486" y="77"/>
                      </a:lnTo>
                      <a:lnTo>
                        <a:pt x="474" y="80"/>
                      </a:lnTo>
                      <a:lnTo>
                        <a:pt x="462" y="82"/>
                      </a:lnTo>
                      <a:lnTo>
                        <a:pt x="450" y="84"/>
                      </a:lnTo>
                      <a:lnTo>
                        <a:pt x="439" y="86"/>
                      </a:lnTo>
                      <a:lnTo>
                        <a:pt x="427" y="88"/>
                      </a:lnTo>
                      <a:lnTo>
                        <a:pt x="415" y="90"/>
                      </a:lnTo>
                      <a:lnTo>
                        <a:pt x="403" y="91"/>
                      </a:lnTo>
                      <a:lnTo>
                        <a:pt x="392" y="94"/>
                      </a:lnTo>
                      <a:lnTo>
                        <a:pt x="380" y="97"/>
                      </a:lnTo>
                      <a:lnTo>
                        <a:pt x="368" y="99"/>
                      </a:lnTo>
                      <a:lnTo>
                        <a:pt x="355" y="103"/>
                      </a:lnTo>
                      <a:lnTo>
                        <a:pt x="343" y="106"/>
                      </a:lnTo>
                      <a:lnTo>
                        <a:pt x="331" y="108"/>
                      </a:lnTo>
                      <a:lnTo>
                        <a:pt x="319" y="110"/>
                      </a:lnTo>
                      <a:lnTo>
                        <a:pt x="306" y="114"/>
                      </a:lnTo>
                      <a:lnTo>
                        <a:pt x="294" y="116"/>
                      </a:lnTo>
                      <a:lnTo>
                        <a:pt x="282" y="119"/>
                      </a:lnTo>
                      <a:lnTo>
                        <a:pt x="271" y="122"/>
                      </a:lnTo>
                      <a:lnTo>
                        <a:pt x="259" y="124"/>
                      </a:lnTo>
                      <a:lnTo>
                        <a:pt x="247" y="128"/>
                      </a:lnTo>
                      <a:lnTo>
                        <a:pt x="235" y="132"/>
                      </a:lnTo>
                      <a:lnTo>
                        <a:pt x="225" y="135"/>
                      </a:lnTo>
                      <a:lnTo>
                        <a:pt x="213" y="138"/>
                      </a:lnTo>
                      <a:lnTo>
                        <a:pt x="201" y="143"/>
                      </a:lnTo>
                      <a:lnTo>
                        <a:pt x="189" y="147"/>
                      </a:lnTo>
                      <a:lnTo>
                        <a:pt x="177" y="151"/>
                      </a:lnTo>
                      <a:lnTo>
                        <a:pt x="165" y="155"/>
                      </a:lnTo>
                      <a:lnTo>
                        <a:pt x="153" y="160"/>
                      </a:lnTo>
                      <a:lnTo>
                        <a:pt x="134" y="164"/>
                      </a:lnTo>
                      <a:lnTo>
                        <a:pt x="114" y="168"/>
                      </a:lnTo>
                      <a:lnTo>
                        <a:pt x="94" y="172"/>
                      </a:lnTo>
                      <a:lnTo>
                        <a:pt x="75" y="177"/>
                      </a:lnTo>
                      <a:lnTo>
                        <a:pt x="54" y="181"/>
                      </a:lnTo>
                      <a:lnTo>
                        <a:pt x="35" y="184"/>
                      </a:lnTo>
                      <a:lnTo>
                        <a:pt x="17" y="188"/>
                      </a:lnTo>
                      <a:lnTo>
                        <a:pt x="0" y="192"/>
                      </a:lnTo>
                      <a:lnTo>
                        <a:pt x="4" y="185"/>
                      </a:lnTo>
                      <a:lnTo>
                        <a:pt x="10" y="180"/>
                      </a:lnTo>
                      <a:lnTo>
                        <a:pt x="17" y="175"/>
                      </a:lnTo>
                      <a:lnTo>
                        <a:pt x="24" y="169"/>
                      </a:lnTo>
                      <a:lnTo>
                        <a:pt x="32" y="164"/>
                      </a:lnTo>
                      <a:lnTo>
                        <a:pt x="40" y="160"/>
                      </a:lnTo>
                      <a:lnTo>
                        <a:pt x="48" y="155"/>
                      </a:lnTo>
                      <a:lnTo>
                        <a:pt x="56" y="152"/>
                      </a:lnTo>
                      <a:lnTo>
                        <a:pt x="76" y="141"/>
                      </a:lnTo>
                      <a:lnTo>
                        <a:pt x="95" y="132"/>
                      </a:lnTo>
                      <a:lnTo>
                        <a:pt x="115" y="122"/>
                      </a:lnTo>
                      <a:lnTo>
                        <a:pt x="136" y="114"/>
                      </a:lnTo>
                      <a:lnTo>
                        <a:pt x="156" y="105"/>
                      </a:lnTo>
                      <a:lnTo>
                        <a:pt x="175" y="96"/>
                      </a:lnTo>
                      <a:lnTo>
                        <a:pt x="193" y="85"/>
                      </a:lnTo>
                      <a:lnTo>
                        <a:pt x="211" y="73"/>
                      </a:lnTo>
                      <a:lnTo>
                        <a:pt x="221" y="68"/>
                      </a:lnTo>
                      <a:lnTo>
                        <a:pt x="233" y="63"/>
                      </a:lnTo>
                      <a:lnTo>
                        <a:pt x="245" y="60"/>
                      </a:lnTo>
                      <a:lnTo>
                        <a:pt x="258" y="56"/>
                      </a:lnTo>
                      <a:lnTo>
                        <a:pt x="268" y="53"/>
                      </a:lnTo>
                      <a:lnTo>
                        <a:pt x="280" y="47"/>
                      </a:lnTo>
                      <a:lnTo>
                        <a:pt x="291" y="42"/>
                      </a:lnTo>
                      <a:lnTo>
                        <a:pt x="301" y="35"/>
                      </a:lnTo>
                      <a:lnTo>
                        <a:pt x="311" y="36"/>
                      </a:lnTo>
                      <a:lnTo>
                        <a:pt x="320" y="35"/>
                      </a:lnTo>
                      <a:lnTo>
                        <a:pt x="329" y="32"/>
                      </a:lnTo>
                      <a:lnTo>
                        <a:pt x="338" y="28"/>
                      </a:lnTo>
                      <a:lnTo>
                        <a:pt x="345" y="25"/>
                      </a:lnTo>
                      <a:lnTo>
                        <a:pt x="354" y="21"/>
                      </a:lnTo>
                      <a:lnTo>
                        <a:pt x="363" y="19"/>
                      </a:lnTo>
                      <a:lnTo>
                        <a:pt x="371" y="16"/>
                      </a:lnTo>
                      <a:lnTo>
                        <a:pt x="388" y="13"/>
                      </a:lnTo>
                      <a:lnTo>
                        <a:pt x="407" y="10"/>
                      </a:lnTo>
                      <a:lnTo>
                        <a:pt x="425" y="8"/>
                      </a:lnTo>
                      <a:lnTo>
                        <a:pt x="444" y="5"/>
                      </a:lnTo>
                      <a:lnTo>
                        <a:pt x="463" y="3"/>
                      </a:lnTo>
                      <a:lnTo>
                        <a:pt x="481" y="0"/>
                      </a:lnTo>
                      <a:lnTo>
                        <a:pt x="501" y="0"/>
                      </a:lnTo>
                      <a:lnTo>
                        <a:pt x="520" y="0"/>
                      </a:lnTo>
                      <a:lnTo>
                        <a:pt x="539" y="2"/>
                      </a:lnTo>
                      <a:lnTo>
                        <a:pt x="557" y="4"/>
                      </a:lnTo>
                      <a:lnTo>
                        <a:pt x="577" y="7"/>
                      </a:lnTo>
                      <a:lnTo>
                        <a:pt x="594" y="11"/>
                      </a:lnTo>
                      <a:lnTo>
                        <a:pt x="611" y="18"/>
                      </a:lnTo>
                      <a:lnTo>
                        <a:pt x="628" y="26"/>
                      </a:lnTo>
                      <a:lnTo>
                        <a:pt x="643" y="37"/>
                      </a:lnTo>
                      <a:lnTo>
                        <a:pt x="658" y="49"/>
                      </a:lnTo>
                      <a:close/>
                    </a:path>
                  </a:pathLst>
                </a:custGeom>
                <a:solidFill>
                  <a:srgbClr val="8959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03" name=""/>
                <p:cNvSpPr/>
                <p:nvPr/>
              </p:nvSpPr>
              <p:spPr>
                <a:xfrm flipH="1">
                  <a:off x="1492200" y="5537520"/>
                  <a:ext cx="82080" cy="40680"/>
                </a:xfrm>
                <a:custGeom>
                  <a:avLst/>
                  <a:gdLst/>
                  <a:ahLst/>
                  <a:rect l="l" t="t" r="r" b="b"/>
                  <a:pathLst>
                    <a:path w="479" h="225">
                      <a:moveTo>
                        <a:pt x="386" y="18"/>
                      </a:moveTo>
                      <a:lnTo>
                        <a:pt x="400" y="22"/>
                      </a:lnTo>
                      <a:lnTo>
                        <a:pt x="414" y="27"/>
                      </a:lnTo>
                      <a:lnTo>
                        <a:pt x="427" y="34"/>
                      </a:lnTo>
                      <a:lnTo>
                        <a:pt x="440" y="41"/>
                      </a:lnTo>
                      <a:lnTo>
                        <a:pt x="451" y="50"/>
                      </a:lnTo>
                      <a:lnTo>
                        <a:pt x="461" y="58"/>
                      </a:lnTo>
                      <a:lnTo>
                        <a:pt x="471" y="69"/>
                      </a:lnTo>
                      <a:lnTo>
                        <a:pt x="479" y="81"/>
                      </a:lnTo>
                      <a:lnTo>
                        <a:pt x="473" y="99"/>
                      </a:lnTo>
                      <a:lnTo>
                        <a:pt x="464" y="118"/>
                      </a:lnTo>
                      <a:lnTo>
                        <a:pt x="456" y="136"/>
                      </a:lnTo>
                      <a:lnTo>
                        <a:pt x="444" y="154"/>
                      </a:lnTo>
                      <a:lnTo>
                        <a:pt x="431" y="170"/>
                      </a:lnTo>
                      <a:lnTo>
                        <a:pt x="417" y="181"/>
                      </a:lnTo>
                      <a:lnTo>
                        <a:pt x="400" y="191"/>
                      </a:lnTo>
                      <a:lnTo>
                        <a:pt x="380" y="195"/>
                      </a:lnTo>
                      <a:lnTo>
                        <a:pt x="368" y="204"/>
                      </a:lnTo>
                      <a:lnTo>
                        <a:pt x="356" y="210"/>
                      </a:lnTo>
                      <a:lnTo>
                        <a:pt x="344" y="215"/>
                      </a:lnTo>
                      <a:lnTo>
                        <a:pt x="331" y="220"/>
                      </a:lnTo>
                      <a:lnTo>
                        <a:pt x="320" y="223"/>
                      </a:lnTo>
                      <a:lnTo>
                        <a:pt x="307" y="225"/>
                      </a:lnTo>
                      <a:lnTo>
                        <a:pt x="294" y="225"/>
                      </a:lnTo>
                      <a:lnTo>
                        <a:pt x="281" y="225"/>
                      </a:lnTo>
                      <a:lnTo>
                        <a:pt x="267" y="225"/>
                      </a:lnTo>
                      <a:lnTo>
                        <a:pt x="254" y="224"/>
                      </a:lnTo>
                      <a:lnTo>
                        <a:pt x="240" y="223"/>
                      </a:lnTo>
                      <a:lnTo>
                        <a:pt x="226" y="222"/>
                      </a:lnTo>
                      <a:lnTo>
                        <a:pt x="213" y="220"/>
                      </a:lnTo>
                      <a:lnTo>
                        <a:pt x="198" y="219"/>
                      </a:lnTo>
                      <a:lnTo>
                        <a:pt x="184" y="218"/>
                      </a:lnTo>
                      <a:lnTo>
                        <a:pt x="169" y="218"/>
                      </a:lnTo>
                      <a:lnTo>
                        <a:pt x="163" y="211"/>
                      </a:lnTo>
                      <a:lnTo>
                        <a:pt x="158" y="209"/>
                      </a:lnTo>
                      <a:lnTo>
                        <a:pt x="154" y="210"/>
                      </a:lnTo>
                      <a:lnTo>
                        <a:pt x="148" y="213"/>
                      </a:lnTo>
                      <a:lnTo>
                        <a:pt x="144" y="217"/>
                      </a:lnTo>
                      <a:lnTo>
                        <a:pt x="139" y="218"/>
                      </a:lnTo>
                      <a:lnTo>
                        <a:pt x="134" y="217"/>
                      </a:lnTo>
                      <a:lnTo>
                        <a:pt x="129" y="210"/>
                      </a:lnTo>
                      <a:lnTo>
                        <a:pt x="112" y="209"/>
                      </a:lnTo>
                      <a:lnTo>
                        <a:pt x="97" y="204"/>
                      </a:lnTo>
                      <a:lnTo>
                        <a:pt x="85" y="195"/>
                      </a:lnTo>
                      <a:lnTo>
                        <a:pt x="74" y="186"/>
                      </a:lnTo>
                      <a:lnTo>
                        <a:pt x="64" y="174"/>
                      </a:lnTo>
                      <a:lnTo>
                        <a:pt x="54" y="162"/>
                      </a:lnTo>
                      <a:lnTo>
                        <a:pt x="42" y="152"/>
                      </a:lnTo>
                      <a:lnTo>
                        <a:pt x="28" y="145"/>
                      </a:lnTo>
                      <a:lnTo>
                        <a:pt x="17" y="127"/>
                      </a:lnTo>
                      <a:lnTo>
                        <a:pt x="27" y="123"/>
                      </a:lnTo>
                      <a:lnTo>
                        <a:pt x="38" y="119"/>
                      </a:lnTo>
                      <a:lnTo>
                        <a:pt x="49" y="117"/>
                      </a:lnTo>
                      <a:lnTo>
                        <a:pt x="59" y="115"/>
                      </a:lnTo>
                      <a:lnTo>
                        <a:pt x="71" y="114"/>
                      </a:lnTo>
                      <a:lnTo>
                        <a:pt x="82" y="113"/>
                      </a:lnTo>
                      <a:lnTo>
                        <a:pt x="93" y="112"/>
                      </a:lnTo>
                      <a:lnTo>
                        <a:pt x="104" y="112"/>
                      </a:lnTo>
                      <a:lnTo>
                        <a:pt x="115" y="111"/>
                      </a:lnTo>
                      <a:lnTo>
                        <a:pt x="126" y="111"/>
                      </a:lnTo>
                      <a:lnTo>
                        <a:pt x="138" y="111"/>
                      </a:lnTo>
                      <a:lnTo>
                        <a:pt x="148" y="112"/>
                      </a:lnTo>
                      <a:lnTo>
                        <a:pt x="159" y="111"/>
                      </a:lnTo>
                      <a:lnTo>
                        <a:pt x="171" y="111"/>
                      </a:lnTo>
                      <a:lnTo>
                        <a:pt x="182" y="111"/>
                      </a:lnTo>
                      <a:lnTo>
                        <a:pt x="192" y="110"/>
                      </a:lnTo>
                      <a:lnTo>
                        <a:pt x="355" y="106"/>
                      </a:lnTo>
                      <a:lnTo>
                        <a:pt x="359" y="108"/>
                      </a:lnTo>
                      <a:lnTo>
                        <a:pt x="364" y="110"/>
                      </a:lnTo>
                      <a:lnTo>
                        <a:pt x="368" y="111"/>
                      </a:lnTo>
                      <a:lnTo>
                        <a:pt x="371" y="113"/>
                      </a:lnTo>
                      <a:lnTo>
                        <a:pt x="375" y="114"/>
                      </a:lnTo>
                      <a:lnTo>
                        <a:pt x="380" y="115"/>
                      </a:lnTo>
                      <a:lnTo>
                        <a:pt x="385" y="115"/>
                      </a:lnTo>
                      <a:lnTo>
                        <a:pt x="390" y="114"/>
                      </a:lnTo>
                      <a:lnTo>
                        <a:pt x="401" y="103"/>
                      </a:lnTo>
                      <a:lnTo>
                        <a:pt x="390" y="97"/>
                      </a:lnTo>
                      <a:lnTo>
                        <a:pt x="380" y="92"/>
                      </a:lnTo>
                      <a:lnTo>
                        <a:pt x="369" y="87"/>
                      </a:lnTo>
                      <a:lnTo>
                        <a:pt x="358" y="84"/>
                      </a:lnTo>
                      <a:lnTo>
                        <a:pt x="347" y="82"/>
                      </a:lnTo>
                      <a:lnTo>
                        <a:pt x="337" y="81"/>
                      </a:lnTo>
                      <a:lnTo>
                        <a:pt x="326" y="80"/>
                      </a:lnTo>
                      <a:lnTo>
                        <a:pt x="314" y="79"/>
                      </a:lnTo>
                      <a:lnTo>
                        <a:pt x="295" y="76"/>
                      </a:lnTo>
                      <a:lnTo>
                        <a:pt x="275" y="72"/>
                      </a:lnTo>
                      <a:lnTo>
                        <a:pt x="254" y="69"/>
                      </a:lnTo>
                      <a:lnTo>
                        <a:pt x="235" y="67"/>
                      </a:lnTo>
                      <a:lnTo>
                        <a:pt x="215" y="65"/>
                      </a:lnTo>
                      <a:lnTo>
                        <a:pt x="194" y="63"/>
                      </a:lnTo>
                      <a:lnTo>
                        <a:pt x="174" y="61"/>
                      </a:lnTo>
                      <a:lnTo>
                        <a:pt x="154" y="57"/>
                      </a:lnTo>
                      <a:lnTo>
                        <a:pt x="133" y="55"/>
                      </a:lnTo>
                      <a:lnTo>
                        <a:pt x="114" y="52"/>
                      </a:lnTo>
                      <a:lnTo>
                        <a:pt x="94" y="49"/>
                      </a:lnTo>
                      <a:lnTo>
                        <a:pt x="74" y="45"/>
                      </a:lnTo>
                      <a:lnTo>
                        <a:pt x="55" y="39"/>
                      </a:lnTo>
                      <a:lnTo>
                        <a:pt x="36" y="33"/>
                      </a:lnTo>
                      <a:lnTo>
                        <a:pt x="18" y="26"/>
                      </a:lnTo>
                      <a:lnTo>
                        <a:pt x="0" y="18"/>
                      </a:lnTo>
                      <a:lnTo>
                        <a:pt x="3" y="12"/>
                      </a:lnTo>
                      <a:lnTo>
                        <a:pt x="7" y="8"/>
                      </a:lnTo>
                      <a:lnTo>
                        <a:pt x="13" y="6"/>
                      </a:lnTo>
                      <a:lnTo>
                        <a:pt x="21" y="5"/>
                      </a:lnTo>
                      <a:lnTo>
                        <a:pt x="28" y="4"/>
                      </a:lnTo>
                      <a:lnTo>
                        <a:pt x="36" y="3"/>
                      </a:lnTo>
                      <a:lnTo>
                        <a:pt x="43" y="2"/>
                      </a:lnTo>
                      <a:lnTo>
                        <a:pt x="50" y="0"/>
                      </a:lnTo>
                      <a:lnTo>
                        <a:pt x="72" y="0"/>
                      </a:lnTo>
                      <a:lnTo>
                        <a:pt x="94" y="0"/>
                      </a:lnTo>
                      <a:lnTo>
                        <a:pt x="115" y="0"/>
                      </a:lnTo>
                      <a:lnTo>
                        <a:pt x="135" y="1"/>
                      </a:lnTo>
                      <a:lnTo>
                        <a:pt x="157" y="2"/>
                      </a:lnTo>
                      <a:lnTo>
                        <a:pt x="177" y="3"/>
                      </a:lnTo>
                      <a:lnTo>
                        <a:pt x="198" y="4"/>
                      </a:lnTo>
                      <a:lnTo>
                        <a:pt x="218" y="5"/>
                      </a:lnTo>
                      <a:lnTo>
                        <a:pt x="238" y="7"/>
                      </a:lnTo>
                      <a:lnTo>
                        <a:pt x="259" y="9"/>
                      </a:lnTo>
                      <a:lnTo>
                        <a:pt x="279" y="10"/>
                      </a:lnTo>
                      <a:lnTo>
                        <a:pt x="299" y="12"/>
                      </a:lnTo>
                      <a:lnTo>
                        <a:pt x="321" y="14"/>
                      </a:lnTo>
                      <a:lnTo>
                        <a:pt x="342" y="16"/>
                      </a:lnTo>
                      <a:lnTo>
                        <a:pt x="364" y="17"/>
                      </a:lnTo>
                      <a:lnTo>
                        <a:pt x="386" y="18"/>
                      </a:lnTo>
                      <a:close/>
                    </a:path>
                  </a:pathLst>
                </a:custGeom>
                <a:solidFill>
                  <a:srgbClr val="d6c4a5"/>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404" name=""/>
                <p:cNvSpPr/>
                <p:nvPr/>
              </p:nvSpPr>
              <p:spPr>
                <a:xfrm flipH="1">
                  <a:off x="1530000" y="5577840"/>
                  <a:ext cx="75240" cy="47160"/>
                </a:xfrm>
                <a:custGeom>
                  <a:avLst/>
                  <a:gdLst/>
                  <a:ahLst/>
                  <a:rect l="l" t="t" r="r" b="b"/>
                  <a:pathLst>
                    <a:path w="434" h="260">
                      <a:moveTo>
                        <a:pt x="330" y="36"/>
                      </a:moveTo>
                      <a:lnTo>
                        <a:pt x="339" y="39"/>
                      </a:lnTo>
                      <a:lnTo>
                        <a:pt x="349" y="42"/>
                      </a:lnTo>
                      <a:lnTo>
                        <a:pt x="358" y="45"/>
                      </a:lnTo>
                      <a:lnTo>
                        <a:pt x="367" y="47"/>
                      </a:lnTo>
                      <a:lnTo>
                        <a:pt x="376" y="50"/>
                      </a:lnTo>
                      <a:lnTo>
                        <a:pt x="385" y="52"/>
                      </a:lnTo>
                      <a:lnTo>
                        <a:pt x="395" y="53"/>
                      </a:lnTo>
                      <a:lnTo>
                        <a:pt x="406" y="55"/>
                      </a:lnTo>
                      <a:lnTo>
                        <a:pt x="417" y="65"/>
                      </a:lnTo>
                      <a:lnTo>
                        <a:pt x="425" y="76"/>
                      </a:lnTo>
                      <a:lnTo>
                        <a:pt x="430" y="89"/>
                      </a:lnTo>
                      <a:lnTo>
                        <a:pt x="434" y="104"/>
                      </a:lnTo>
                      <a:lnTo>
                        <a:pt x="420" y="122"/>
                      </a:lnTo>
                      <a:lnTo>
                        <a:pt x="407" y="141"/>
                      </a:lnTo>
                      <a:lnTo>
                        <a:pt x="394" y="159"/>
                      </a:lnTo>
                      <a:lnTo>
                        <a:pt x="381" y="177"/>
                      </a:lnTo>
                      <a:lnTo>
                        <a:pt x="366" y="193"/>
                      </a:lnTo>
                      <a:lnTo>
                        <a:pt x="351" y="208"/>
                      </a:lnTo>
                      <a:lnTo>
                        <a:pt x="333" y="222"/>
                      </a:lnTo>
                      <a:lnTo>
                        <a:pt x="311" y="233"/>
                      </a:lnTo>
                      <a:lnTo>
                        <a:pt x="292" y="238"/>
                      </a:lnTo>
                      <a:lnTo>
                        <a:pt x="273" y="244"/>
                      </a:lnTo>
                      <a:lnTo>
                        <a:pt x="253" y="248"/>
                      </a:lnTo>
                      <a:lnTo>
                        <a:pt x="233" y="253"/>
                      </a:lnTo>
                      <a:lnTo>
                        <a:pt x="213" y="256"/>
                      </a:lnTo>
                      <a:lnTo>
                        <a:pt x="193" y="259"/>
                      </a:lnTo>
                      <a:lnTo>
                        <a:pt x="171" y="260"/>
                      </a:lnTo>
                      <a:lnTo>
                        <a:pt x="151" y="258"/>
                      </a:lnTo>
                      <a:lnTo>
                        <a:pt x="138" y="248"/>
                      </a:lnTo>
                      <a:lnTo>
                        <a:pt x="125" y="242"/>
                      </a:lnTo>
                      <a:lnTo>
                        <a:pt x="110" y="235"/>
                      </a:lnTo>
                      <a:lnTo>
                        <a:pt x="96" y="230"/>
                      </a:lnTo>
                      <a:lnTo>
                        <a:pt x="82" y="223"/>
                      </a:lnTo>
                      <a:lnTo>
                        <a:pt x="70" y="216"/>
                      </a:lnTo>
                      <a:lnTo>
                        <a:pt x="59" y="205"/>
                      </a:lnTo>
                      <a:lnTo>
                        <a:pt x="50" y="192"/>
                      </a:lnTo>
                      <a:lnTo>
                        <a:pt x="44" y="188"/>
                      </a:lnTo>
                      <a:lnTo>
                        <a:pt x="36" y="182"/>
                      </a:lnTo>
                      <a:lnTo>
                        <a:pt x="30" y="175"/>
                      </a:lnTo>
                      <a:lnTo>
                        <a:pt x="23" y="168"/>
                      </a:lnTo>
                      <a:lnTo>
                        <a:pt x="17" y="160"/>
                      </a:lnTo>
                      <a:lnTo>
                        <a:pt x="11" y="153"/>
                      </a:lnTo>
                      <a:lnTo>
                        <a:pt x="5" y="145"/>
                      </a:lnTo>
                      <a:lnTo>
                        <a:pt x="0" y="139"/>
                      </a:lnTo>
                      <a:lnTo>
                        <a:pt x="0" y="96"/>
                      </a:lnTo>
                      <a:lnTo>
                        <a:pt x="15" y="95"/>
                      </a:lnTo>
                      <a:lnTo>
                        <a:pt x="30" y="94"/>
                      </a:lnTo>
                      <a:lnTo>
                        <a:pt x="45" y="94"/>
                      </a:lnTo>
                      <a:lnTo>
                        <a:pt x="61" y="95"/>
                      </a:lnTo>
                      <a:lnTo>
                        <a:pt x="76" y="96"/>
                      </a:lnTo>
                      <a:lnTo>
                        <a:pt x="92" y="97"/>
                      </a:lnTo>
                      <a:lnTo>
                        <a:pt x="108" y="100"/>
                      </a:lnTo>
                      <a:lnTo>
                        <a:pt x="124" y="103"/>
                      </a:lnTo>
                      <a:lnTo>
                        <a:pt x="139" y="107"/>
                      </a:lnTo>
                      <a:lnTo>
                        <a:pt x="154" y="111"/>
                      </a:lnTo>
                      <a:lnTo>
                        <a:pt x="170" y="117"/>
                      </a:lnTo>
                      <a:lnTo>
                        <a:pt x="185" y="122"/>
                      </a:lnTo>
                      <a:lnTo>
                        <a:pt x="199" y="128"/>
                      </a:lnTo>
                      <a:lnTo>
                        <a:pt x="214" y="135"/>
                      </a:lnTo>
                      <a:lnTo>
                        <a:pt x="228" y="142"/>
                      </a:lnTo>
                      <a:lnTo>
                        <a:pt x="241" y="151"/>
                      </a:lnTo>
                      <a:lnTo>
                        <a:pt x="249" y="151"/>
                      </a:lnTo>
                      <a:lnTo>
                        <a:pt x="257" y="153"/>
                      </a:lnTo>
                      <a:lnTo>
                        <a:pt x="264" y="155"/>
                      </a:lnTo>
                      <a:lnTo>
                        <a:pt x="272" y="157"/>
                      </a:lnTo>
                      <a:lnTo>
                        <a:pt x="279" y="160"/>
                      </a:lnTo>
                      <a:lnTo>
                        <a:pt x="287" y="162"/>
                      </a:lnTo>
                      <a:lnTo>
                        <a:pt x="294" y="166"/>
                      </a:lnTo>
                      <a:lnTo>
                        <a:pt x="302" y="169"/>
                      </a:lnTo>
                      <a:lnTo>
                        <a:pt x="308" y="160"/>
                      </a:lnTo>
                      <a:lnTo>
                        <a:pt x="308" y="151"/>
                      </a:lnTo>
                      <a:lnTo>
                        <a:pt x="304" y="141"/>
                      </a:lnTo>
                      <a:lnTo>
                        <a:pt x="298" y="134"/>
                      </a:lnTo>
                      <a:lnTo>
                        <a:pt x="285" y="124"/>
                      </a:lnTo>
                      <a:lnTo>
                        <a:pt x="272" y="115"/>
                      </a:lnTo>
                      <a:lnTo>
                        <a:pt x="259" y="107"/>
                      </a:lnTo>
                      <a:lnTo>
                        <a:pt x="245" y="98"/>
                      </a:lnTo>
                      <a:lnTo>
                        <a:pt x="232" y="91"/>
                      </a:lnTo>
                      <a:lnTo>
                        <a:pt x="219" y="83"/>
                      </a:lnTo>
                      <a:lnTo>
                        <a:pt x="207" y="76"/>
                      </a:lnTo>
                      <a:lnTo>
                        <a:pt x="193" y="68"/>
                      </a:lnTo>
                      <a:lnTo>
                        <a:pt x="180" y="62"/>
                      </a:lnTo>
                      <a:lnTo>
                        <a:pt x="166" y="55"/>
                      </a:lnTo>
                      <a:lnTo>
                        <a:pt x="153" y="48"/>
                      </a:lnTo>
                      <a:lnTo>
                        <a:pt x="139" y="42"/>
                      </a:lnTo>
                      <a:lnTo>
                        <a:pt x="126" y="35"/>
                      </a:lnTo>
                      <a:lnTo>
                        <a:pt x="112" y="29"/>
                      </a:lnTo>
                      <a:lnTo>
                        <a:pt x="99" y="21"/>
                      </a:lnTo>
                      <a:lnTo>
                        <a:pt x="86" y="15"/>
                      </a:lnTo>
                      <a:lnTo>
                        <a:pt x="91" y="9"/>
                      </a:lnTo>
                      <a:lnTo>
                        <a:pt x="98" y="3"/>
                      </a:lnTo>
                      <a:lnTo>
                        <a:pt x="106" y="1"/>
                      </a:lnTo>
                      <a:lnTo>
                        <a:pt x="114" y="0"/>
                      </a:lnTo>
                      <a:lnTo>
                        <a:pt x="123" y="0"/>
                      </a:lnTo>
                      <a:lnTo>
                        <a:pt x="133" y="1"/>
                      </a:lnTo>
                      <a:lnTo>
                        <a:pt x="141" y="2"/>
                      </a:lnTo>
                      <a:lnTo>
                        <a:pt x="151" y="4"/>
                      </a:lnTo>
                      <a:lnTo>
                        <a:pt x="163" y="9"/>
                      </a:lnTo>
                      <a:lnTo>
                        <a:pt x="176" y="10"/>
                      </a:lnTo>
                      <a:lnTo>
                        <a:pt x="188" y="11"/>
                      </a:lnTo>
                      <a:lnTo>
                        <a:pt x="202" y="11"/>
                      </a:lnTo>
                      <a:lnTo>
                        <a:pt x="215" y="11"/>
                      </a:lnTo>
                      <a:lnTo>
                        <a:pt x="229" y="11"/>
                      </a:lnTo>
                      <a:lnTo>
                        <a:pt x="242" y="12"/>
                      </a:lnTo>
                      <a:lnTo>
                        <a:pt x="254" y="15"/>
                      </a:lnTo>
                      <a:lnTo>
                        <a:pt x="330" y="36"/>
                      </a:lnTo>
                      <a:close/>
                    </a:path>
                  </a:pathLst>
                </a:custGeom>
                <a:solidFill>
                  <a:srgbClr val="d6c4a5"/>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05" name=""/>
                <p:cNvSpPr/>
                <p:nvPr/>
              </p:nvSpPr>
              <p:spPr>
                <a:xfrm flipH="1">
                  <a:off x="1416600" y="5600520"/>
                  <a:ext cx="127440" cy="53640"/>
                </a:xfrm>
                <a:custGeom>
                  <a:avLst/>
                  <a:gdLst/>
                  <a:ahLst/>
                  <a:rect l="l" t="t" r="r" b="b"/>
                  <a:pathLst>
                    <a:path w="735" h="295">
                      <a:moveTo>
                        <a:pt x="251" y="29"/>
                      </a:moveTo>
                      <a:lnTo>
                        <a:pt x="250" y="44"/>
                      </a:lnTo>
                      <a:lnTo>
                        <a:pt x="248" y="59"/>
                      </a:lnTo>
                      <a:lnTo>
                        <a:pt x="250" y="74"/>
                      </a:lnTo>
                      <a:lnTo>
                        <a:pt x="258" y="87"/>
                      </a:lnTo>
                      <a:lnTo>
                        <a:pt x="265" y="86"/>
                      </a:lnTo>
                      <a:lnTo>
                        <a:pt x="270" y="83"/>
                      </a:lnTo>
                      <a:lnTo>
                        <a:pt x="275" y="80"/>
                      </a:lnTo>
                      <a:lnTo>
                        <a:pt x="280" y="76"/>
                      </a:lnTo>
                      <a:lnTo>
                        <a:pt x="283" y="72"/>
                      </a:lnTo>
                      <a:lnTo>
                        <a:pt x="287" y="66"/>
                      </a:lnTo>
                      <a:lnTo>
                        <a:pt x="291" y="62"/>
                      </a:lnTo>
                      <a:lnTo>
                        <a:pt x="297" y="57"/>
                      </a:lnTo>
                      <a:lnTo>
                        <a:pt x="316" y="51"/>
                      </a:lnTo>
                      <a:lnTo>
                        <a:pt x="335" y="46"/>
                      </a:lnTo>
                      <a:lnTo>
                        <a:pt x="357" y="42"/>
                      </a:lnTo>
                      <a:lnTo>
                        <a:pt x="378" y="40"/>
                      </a:lnTo>
                      <a:lnTo>
                        <a:pt x="399" y="40"/>
                      </a:lnTo>
                      <a:lnTo>
                        <a:pt x="421" y="42"/>
                      </a:lnTo>
                      <a:lnTo>
                        <a:pt x="440" y="46"/>
                      </a:lnTo>
                      <a:lnTo>
                        <a:pt x="459" y="55"/>
                      </a:lnTo>
                      <a:lnTo>
                        <a:pt x="463" y="68"/>
                      </a:lnTo>
                      <a:lnTo>
                        <a:pt x="458" y="80"/>
                      </a:lnTo>
                      <a:lnTo>
                        <a:pt x="450" y="92"/>
                      </a:lnTo>
                      <a:lnTo>
                        <a:pt x="440" y="103"/>
                      </a:lnTo>
                      <a:lnTo>
                        <a:pt x="433" y="114"/>
                      </a:lnTo>
                      <a:lnTo>
                        <a:pt x="428" y="125"/>
                      </a:lnTo>
                      <a:lnTo>
                        <a:pt x="432" y="138"/>
                      </a:lnTo>
                      <a:lnTo>
                        <a:pt x="444" y="151"/>
                      </a:lnTo>
                      <a:lnTo>
                        <a:pt x="454" y="152"/>
                      </a:lnTo>
                      <a:lnTo>
                        <a:pt x="463" y="151"/>
                      </a:lnTo>
                      <a:lnTo>
                        <a:pt x="470" y="146"/>
                      </a:lnTo>
                      <a:lnTo>
                        <a:pt x="478" y="142"/>
                      </a:lnTo>
                      <a:lnTo>
                        <a:pt x="485" y="137"/>
                      </a:lnTo>
                      <a:lnTo>
                        <a:pt x="493" y="133"/>
                      </a:lnTo>
                      <a:lnTo>
                        <a:pt x="500" y="129"/>
                      </a:lnTo>
                      <a:lnTo>
                        <a:pt x="509" y="128"/>
                      </a:lnTo>
                      <a:lnTo>
                        <a:pt x="524" y="125"/>
                      </a:lnTo>
                      <a:lnTo>
                        <a:pt x="538" y="122"/>
                      </a:lnTo>
                      <a:lnTo>
                        <a:pt x="553" y="119"/>
                      </a:lnTo>
                      <a:lnTo>
                        <a:pt x="568" y="117"/>
                      </a:lnTo>
                      <a:lnTo>
                        <a:pt x="581" y="114"/>
                      </a:lnTo>
                      <a:lnTo>
                        <a:pt x="596" y="114"/>
                      </a:lnTo>
                      <a:lnTo>
                        <a:pt x="610" y="114"/>
                      </a:lnTo>
                      <a:lnTo>
                        <a:pt x="625" y="114"/>
                      </a:lnTo>
                      <a:lnTo>
                        <a:pt x="639" y="117"/>
                      </a:lnTo>
                      <a:lnTo>
                        <a:pt x="653" y="120"/>
                      </a:lnTo>
                      <a:lnTo>
                        <a:pt x="666" y="123"/>
                      </a:lnTo>
                      <a:lnTo>
                        <a:pt x="679" y="128"/>
                      </a:lnTo>
                      <a:lnTo>
                        <a:pt x="692" y="135"/>
                      </a:lnTo>
                      <a:lnTo>
                        <a:pt x="705" y="142"/>
                      </a:lnTo>
                      <a:lnTo>
                        <a:pt x="716" y="151"/>
                      </a:lnTo>
                      <a:lnTo>
                        <a:pt x="727" y="161"/>
                      </a:lnTo>
                      <a:lnTo>
                        <a:pt x="735" y="189"/>
                      </a:lnTo>
                      <a:lnTo>
                        <a:pt x="713" y="198"/>
                      </a:lnTo>
                      <a:lnTo>
                        <a:pt x="692" y="206"/>
                      </a:lnTo>
                      <a:lnTo>
                        <a:pt x="669" y="215"/>
                      </a:lnTo>
                      <a:lnTo>
                        <a:pt x="648" y="222"/>
                      </a:lnTo>
                      <a:lnTo>
                        <a:pt x="625" y="230"/>
                      </a:lnTo>
                      <a:lnTo>
                        <a:pt x="603" y="237"/>
                      </a:lnTo>
                      <a:lnTo>
                        <a:pt x="580" y="244"/>
                      </a:lnTo>
                      <a:lnTo>
                        <a:pt x="558" y="250"/>
                      </a:lnTo>
                      <a:lnTo>
                        <a:pt x="535" y="255"/>
                      </a:lnTo>
                      <a:lnTo>
                        <a:pt x="512" y="262"/>
                      </a:lnTo>
                      <a:lnTo>
                        <a:pt x="489" y="267"/>
                      </a:lnTo>
                      <a:lnTo>
                        <a:pt x="466" y="273"/>
                      </a:lnTo>
                      <a:lnTo>
                        <a:pt x="443" y="277"/>
                      </a:lnTo>
                      <a:lnTo>
                        <a:pt x="420" y="282"/>
                      </a:lnTo>
                      <a:lnTo>
                        <a:pt x="396" y="286"/>
                      </a:lnTo>
                      <a:lnTo>
                        <a:pt x="373" y="291"/>
                      </a:lnTo>
                      <a:lnTo>
                        <a:pt x="361" y="293"/>
                      </a:lnTo>
                      <a:lnTo>
                        <a:pt x="349" y="294"/>
                      </a:lnTo>
                      <a:lnTo>
                        <a:pt x="338" y="295"/>
                      </a:lnTo>
                      <a:lnTo>
                        <a:pt x="327" y="295"/>
                      </a:lnTo>
                      <a:lnTo>
                        <a:pt x="316" y="294"/>
                      </a:lnTo>
                      <a:lnTo>
                        <a:pt x="304" y="293"/>
                      </a:lnTo>
                      <a:lnTo>
                        <a:pt x="293" y="292"/>
                      </a:lnTo>
                      <a:lnTo>
                        <a:pt x="282" y="291"/>
                      </a:lnTo>
                      <a:lnTo>
                        <a:pt x="271" y="289"/>
                      </a:lnTo>
                      <a:lnTo>
                        <a:pt x="259" y="287"/>
                      </a:lnTo>
                      <a:lnTo>
                        <a:pt x="248" y="286"/>
                      </a:lnTo>
                      <a:lnTo>
                        <a:pt x="238" y="285"/>
                      </a:lnTo>
                      <a:lnTo>
                        <a:pt x="226" y="284"/>
                      </a:lnTo>
                      <a:lnTo>
                        <a:pt x="215" y="283"/>
                      </a:lnTo>
                      <a:lnTo>
                        <a:pt x="204" y="283"/>
                      </a:lnTo>
                      <a:lnTo>
                        <a:pt x="193" y="283"/>
                      </a:lnTo>
                      <a:lnTo>
                        <a:pt x="209" y="278"/>
                      </a:lnTo>
                      <a:lnTo>
                        <a:pt x="224" y="273"/>
                      </a:lnTo>
                      <a:lnTo>
                        <a:pt x="240" y="267"/>
                      </a:lnTo>
                      <a:lnTo>
                        <a:pt x="255" y="262"/>
                      </a:lnTo>
                      <a:lnTo>
                        <a:pt x="270" y="255"/>
                      </a:lnTo>
                      <a:lnTo>
                        <a:pt x="286" y="250"/>
                      </a:lnTo>
                      <a:lnTo>
                        <a:pt x="301" y="245"/>
                      </a:lnTo>
                      <a:lnTo>
                        <a:pt x="317" y="239"/>
                      </a:lnTo>
                      <a:lnTo>
                        <a:pt x="332" y="234"/>
                      </a:lnTo>
                      <a:lnTo>
                        <a:pt x="347" y="229"/>
                      </a:lnTo>
                      <a:lnTo>
                        <a:pt x="363" y="224"/>
                      </a:lnTo>
                      <a:lnTo>
                        <a:pt x="378" y="219"/>
                      </a:lnTo>
                      <a:lnTo>
                        <a:pt x="394" y="215"/>
                      </a:lnTo>
                      <a:lnTo>
                        <a:pt x="410" y="209"/>
                      </a:lnTo>
                      <a:lnTo>
                        <a:pt x="425" y="205"/>
                      </a:lnTo>
                      <a:lnTo>
                        <a:pt x="441" y="201"/>
                      </a:lnTo>
                      <a:lnTo>
                        <a:pt x="441" y="183"/>
                      </a:lnTo>
                      <a:lnTo>
                        <a:pt x="422" y="183"/>
                      </a:lnTo>
                      <a:lnTo>
                        <a:pt x="404" y="182"/>
                      </a:lnTo>
                      <a:lnTo>
                        <a:pt x="384" y="183"/>
                      </a:lnTo>
                      <a:lnTo>
                        <a:pt x="366" y="184"/>
                      </a:lnTo>
                      <a:lnTo>
                        <a:pt x="347" y="185"/>
                      </a:lnTo>
                      <a:lnTo>
                        <a:pt x="329" y="187"/>
                      </a:lnTo>
                      <a:lnTo>
                        <a:pt x="311" y="189"/>
                      </a:lnTo>
                      <a:lnTo>
                        <a:pt x="291" y="191"/>
                      </a:lnTo>
                      <a:lnTo>
                        <a:pt x="273" y="195"/>
                      </a:lnTo>
                      <a:lnTo>
                        <a:pt x="255" y="198"/>
                      </a:lnTo>
                      <a:lnTo>
                        <a:pt x="237" y="201"/>
                      </a:lnTo>
                      <a:lnTo>
                        <a:pt x="219" y="205"/>
                      </a:lnTo>
                      <a:lnTo>
                        <a:pt x="200" y="209"/>
                      </a:lnTo>
                      <a:lnTo>
                        <a:pt x="182" y="214"/>
                      </a:lnTo>
                      <a:lnTo>
                        <a:pt x="165" y="218"/>
                      </a:lnTo>
                      <a:lnTo>
                        <a:pt x="147" y="222"/>
                      </a:lnTo>
                      <a:lnTo>
                        <a:pt x="157" y="213"/>
                      </a:lnTo>
                      <a:lnTo>
                        <a:pt x="169" y="204"/>
                      </a:lnTo>
                      <a:lnTo>
                        <a:pt x="181" y="197"/>
                      </a:lnTo>
                      <a:lnTo>
                        <a:pt x="194" y="189"/>
                      </a:lnTo>
                      <a:lnTo>
                        <a:pt x="206" y="182"/>
                      </a:lnTo>
                      <a:lnTo>
                        <a:pt x="219" y="175"/>
                      </a:lnTo>
                      <a:lnTo>
                        <a:pt x="231" y="169"/>
                      </a:lnTo>
                      <a:lnTo>
                        <a:pt x="244" y="161"/>
                      </a:lnTo>
                      <a:lnTo>
                        <a:pt x="257" y="155"/>
                      </a:lnTo>
                      <a:lnTo>
                        <a:pt x="270" y="148"/>
                      </a:lnTo>
                      <a:lnTo>
                        <a:pt x="282" y="140"/>
                      </a:lnTo>
                      <a:lnTo>
                        <a:pt x="295" y="133"/>
                      </a:lnTo>
                      <a:lnTo>
                        <a:pt x="306" y="124"/>
                      </a:lnTo>
                      <a:lnTo>
                        <a:pt x="318" y="114"/>
                      </a:lnTo>
                      <a:lnTo>
                        <a:pt x="330" y="104"/>
                      </a:lnTo>
                      <a:lnTo>
                        <a:pt x="341" y="93"/>
                      </a:lnTo>
                      <a:lnTo>
                        <a:pt x="336" y="87"/>
                      </a:lnTo>
                      <a:lnTo>
                        <a:pt x="332" y="79"/>
                      </a:lnTo>
                      <a:lnTo>
                        <a:pt x="326" y="75"/>
                      </a:lnTo>
                      <a:lnTo>
                        <a:pt x="315" y="75"/>
                      </a:lnTo>
                      <a:lnTo>
                        <a:pt x="303" y="79"/>
                      </a:lnTo>
                      <a:lnTo>
                        <a:pt x="291" y="84"/>
                      </a:lnTo>
                      <a:lnTo>
                        <a:pt x="280" y="89"/>
                      </a:lnTo>
                      <a:lnTo>
                        <a:pt x="268" y="95"/>
                      </a:lnTo>
                      <a:lnTo>
                        <a:pt x="256" y="101"/>
                      </a:lnTo>
                      <a:lnTo>
                        <a:pt x="245" y="106"/>
                      </a:lnTo>
                      <a:lnTo>
                        <a:pt x="235" y="112"/>
                      </a:lnTo>
                      <a:lnTo>
                        <a:pt x="223" y="118"/>
                      </a:lnTo>
                      <a:lnTo>
                        <a:pt x="212" y="124"/>
                      </a:lnTo>
                      <a:lnTo>
                        <a:pt x="201" y="129"/>
                      </a:lnTo>
                      <a:lnTo>
                        <a:pt x="191" y="135"/>
                      </a:lnTo>
                      <a:lnTo>
                        <a:pt x="179" y="140"/>
                      </a:lnTo>
                      <a:lnTo>
                        <a:pt x="168" y="145"/>
                      </a:lnTo>
                      <a:lnTo>
                        <a:pt x="156" y="150"/>
                      </a:lnTo>
                      <a:lnTo>
                        <a:pt x="146" y="154"/>
                      </a:lnTo>
                      <a:lnTo>
                        <a:pt x="134" y="158"/>
                      </a:lnTo>
                      <a:lnTo>
                        <a:pt x="108" y="171"/>
                      </a:lnTo>
                      <a:lnTo>
                        <a:pt x="115" y="167"/>
                      </a:lnTo>
                      <a:lnTo>
                        <a:pt x="121" y="161"/>
                      </a:lnTo>
                      <a:lnTo>
                        <a:pt x="129" y="154"/>
                      </a:lnTo>
                      <a:lnTo>
                        <a:pt x="135" y="145"/>
                      </a:lnTo>
                      <a:lnTo>
                        <a:pt x="141" y="136"/>
                      </a:lnTo>
                      <a:lnTo>
                        <a:pt x="147" y="126"/>
                      </a:lnTo>
                      <a:lnTo>
                        <a:pt x="150" y="115"/>
                      </a:lnTo>
                      <a:lnTo>
                        <a:pt x="151" y="105"/>
                      </a:lnTo>
                      <a:lnTo>
                        <a:pt x="147" y="101"/>
                      </a:lnTo>
                      <a:lnTo>
                        <a:pt x="141" y="97"/>
                      </a:lnTo>
                      <a:lnTo>
                        <a:pt x="136" y="97"/>
                      </a:lnTo>
                      <a:lnTo>
                        <a:pt x="129" y="97"/>
                      </a:lnTo>
                      <a:lnTo>
                        <a:pt x="113" y="105"/>
                      </a:lnTo>
                      <a:lnTo>
                        <a:pt x="96" y="113"/>
                      </a:lnTo>
                      <a:lnTo>
                        <a:pt x="81" y="122"/>
                      </a:lnTo>
                      <a:lnTo>
                        <a:pt x="68" y="130"/>
                      </a:lnTo>
                      <a:lnTo>
                        <a:pt x="53" y="138"/>
                      </a:lnTo>
                      <a:lnTo>
                        <a:pt x="36" y="144"/>
                      </a:lnTo>
                      <a:lnTo>
                        <a:pt x="19" y="149"/>
                      </a:lnTo>
                      <a:lnTo>
                        <a:pt x="0" y="151"/>
                      </a:lnTo>
                      <a:lnTo>
                        <a:pt x="23" y="138"/>
                      </a:lnTo>
                      <a:lnTo>
                        <a:pt x="44" y="123"/>
                      </a:lnTo>
                      <a:lnTo>
                        <a:pt x="64" y="106"/>
                      </a:lnTo>
                      <a:lnTo>
                        <a:pt x="84" y="87"/>
                      </a:lnTo>
                      <a:lnTo>
                        <a:pt x="102" y="67"/>
                      </a:lnTo>
                      <a:lnTo>
                        <a:pt x="119" y="48"/>
                      </a:lnTo>
                      <a:lnTo>
                        <a:pt x="134" y="28"/>
                      </a:lnTo>
                      <a:lnTo>
                        <a:pt x="147" y="9"/>
                      </a:lnTo>
                      <a:lnTo>
                        <a:pt x="160" y="5"/>
                      </a:lnTo>
                      <a:lnTo>
                        <a:pt x="175" y="2"/>
                      </a:lnTo>
                      <a:lnTo>
                        <a:pt x="190" y="0"/>
                      </a:lnTo>
                      <a:lnTo>
                        <a:pt x="204" y="1"/>
                      </a:lnTo>
                      <a:lnTo>
                        <a:pt x="219" y="3"/>
                      </a:lnTo>
                      <a:lnTo>
                        <a:pt x="231" y="9"/>
                      </a:lnTo>
                      <a:lnTo>
                        <a:pt x="242" y="17"/>
                      </a:lnTo>
                      <a:lnTo>
                        <a:pt x="251" y="29"/>
                      </a:lnTo>
                      <a:close/>
                    </a:path>
                  </a:pathLst>
                </a:custGeom>
                <a:solidFill>
                  <a:srgbClr val="bf8e3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06" name=""/>
                <p:cNvSpPr/>
                <p:nvPr/>
              </p:nvSpPr>
              <p:spPr>
                <a:xfrm flipH="1">
                  <a:off x="1337760" y="5613480"/>
                  <a:ext cx="119520" cy="42840"/>
                </a:xfrm>
                <a:custGeom>
                  <a:avLst/>
                  <a:gdLst/>
                  <a:ahLst/>
                  <a:rect l="l" t="t" r="r" b="b"/>
                  <a:pathLst>
                    <a:path w="689" h="237">
                      <a:moveTo>
                        <a:pt x="689" y="30"/>
                      </a:moveTo>
                      <a:lnTo>
                        <a:pt x="681" y="38"/>
                      </a:lnTo>
                      <a:lnTo>
                        <a:pt x="674" y="45"/>
                      </a:lnTo>
                      <a:lnTo>
                        <a:pt x="664" y="54"/>
                      </a:lnTo>
                      <a:lnTo>
                        <a:pt x="655" y="60"/>
                      </a:lnTo>
                      <a:lnTo>
                        <a:pt x="645" y="68"/>
                      </a:lnTo>
                      <a:lnTo>
                        <a:pt x="635" y="74"/>
                      </a:lnTo>
                      <a:lnTo>
                        <a:pt x="623" y="79"/>
                      </a:lnTo>
                      <a:lnTo>
                        <a:pt x="613" y="84"/>
                      </a:lnTo>
                      <a:lnTo>
                        <a:pt x="578" y="101"/>
                      </a:lnTo>
                      <a:lnTo>
                        <a:pt x="543" y="118"/>
                      </a:lnTo>
                      <a:lnTo>
                        <a:pt x="508" y="134"/>
                      </a:lnTo>
                      <a:lnTo>
                        <a:pt x="471" y="149"/>
                      </a:lnTo>
                      <a:lnTo>
                        <a:pt x="435" y="163"/>
                      </a:lnTo>
                      <a:lnTo>
                        <a:pt x="397" y="176"/>
                      </a:lnTo>
                      <a:lnTo>
                        <a:pt x="360" y="187"/>
                      </a:lnTo>
                      <a:lnTo>
                        <a:pt x="321" y="198"/>
                      </a:lnTo>
                      <a:lnTo>
                        <a:pt x="283" y="208"/>
                      </a:lnTo>
                      <a:lnTo>
                        <a:pt x="244" y="216"/>
                      </a:lnTo>
                      <a:lnTo>
                        <a:pt x="205" y="223"/>
                      </a:lnTo>
                      <a:lnTo>
                        <a:pt x="165" y="229"/>
                      </a:lnTo>
                      <a:lnTo>
                        <a:pt x="124" y="233"/>
                      </a:lnTo>
                      <a:lnTo>
                        <a:pt x="84" y="235"/>
                      </a:lnTo>
                      <a:lnTo>
                        <a:pt x="43" y="237"/>
                      </a:lnTo>
                      <a:lnTo>
                        <a:pt x="1" y="237"/>
                      </a:lnTo>
                      <a:lnTo>
                        <a:pt x="0" y="237"/>
                      </a:lnTo>
                      <a:lnTo>
                        <a:pt x="1" y="235"/>
                      </a:lnTo>
                      <a:lnTo>
                        <a:pt x="6" y="234"/>
                      </a:lnTo>
                      <a:lnTo>
                        <a:pt x="11" y="232"/>
                      </a:lnTo>
                      <a:lnTo>
                        <a:pt x="16" y="230"/>
                      </a:lnTo>
                      <a:lnTo>
                        <a:pt x="23" y="228"/>
                      </a:lnTo>
                      <a:lnTo>
                        <a:pt x="28" y="226"/>
                      </a:lnTo>
                      <a:lnTo>
                        <a:pt x="32" y="224"/>
                      </a:lnTo>
                      <a:lnTo>
                        <a:pt x="49" y="217"/>
                      </a:lnTo>
                      <a:lnTo>
                        <a:pt x="67" y="212"/>
                      </a:lnTo>
                      <a:lnTo>
                        <a:pt x="85" y="208"/>
                      </a:lnTo>
                      <a:lnTo>
                        <a:pt x="103" y="203"/>
                      </a:lnTo>
                      <a:lnTo>
                        <a:pt x="120" y="199"/>
                      </a:lnTo>
                      <a:lnTo>
                        <a:pt x="138" y="195"/>
                      </a:lnTo>
                      <a:lnTo>
                        <a:pt x="155" y="190"/>
                      </a:lnTo>
                      <a:lnTo>
                        <a:pt x="173" y="183"/>
                      </a:lnTo>
                      <a:lnTo>
                        <a:pt x="203" y="172"/>
                      </a:lnTo>
                      <a:lnTo>
                        <a:pt x="233" y="162"/>
                      </a:lnTo>
                      <a:lnTo>
                        <a:pt x="261" y="150"/>
                      </a:lnTo>
                      <a:lnTo>
                        <a:pt x="290" y="138"/>
                      </a:lnTo>
                      <a:lnTo>
                        <a:pt x="319" y="126"/>
                      </a:lnTo>
                      <a:lnTo>
                        <a:pt x="347" y="115"/>
                      </a:lnTo>
                      <a:lnTo>
                        <a:pt x="376" y="102"/>
                      </a:lnTo>
                      <a:lnTo>
                        <a:pt x="404" y="90"/>
                      </a:lnTo>
                      <a:lnTo>
                        <a:pt x="432" y="78"/>
                      </a:lnTo>
                      <a:lnTo>
                        <a:pt x="461" y="66"/>
                      </a:lnTo>
                      <a:lnTo>
                        <a:pt x="488" y="54"/>
                      </a:lnTo>
                      <a:lnTo>
                        <a:pt x="517" y="42"/>
                      </a:lnTo>
                      <a:lnTo>
                        <a:pt x="546" y="31"/>
                      </a:lnTo>
                      <a:lnTo>
                        <a:pt x="575" y="21"/>
                      </a:lnTo>
                      <a:lnTo>
                        <a:pt x="605" y="10"/>
                      </a:lnTo>
                      <a:lnTo>
                        <a:pt x="635" y="0"/>
                      </a:lnTo>
                      <a:lnTo>
                        <a:pt x="643" y="4"/>
                      </a:lnTo>
                      <a:lnTo>
                        <a:pt x="650" y="6"/>
                      </a:lnTo>
                      <a:lnTo>
                        <a:pt x="658" y="8"/>
                      </a:lnTo>
                      <a:lnTo>
                        <a:pt x="665" y="10"/>
                      </a:lnTo>
                      <a:lnTo>
                        <a:pt x="671" y="13"/>
                      </a:lnTo>
                      <a:lnTo>
                        <a:pt x="678" y="17"/>
                      </a:lnTo>
                      <a:lnTo>
                        <a:pt x="683" y="23"/>
                      </a:lnTo>
                      <a:lnTo>
                        <a:pt x="689" y="30"/>
                      </a:lnTo>
                      <a:close/>
                    </a:path>
                  </a:pathLst>
                </a:custGeom>
                <a:solidFill>
                  <a:srgbClr val="8959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07" name=""/>
                <p:cNvSpPr/>
                <p:nvPr/>
              </p:nvSpPr>
              <p:spPr>
                <a:xfrm flipH="1">
                  <a:off x="1694520" y="5625000"/>
                  <a:ext cx="81000" cy="62640"/>
                </a:xfrm>
                <a:custGeom>
                  <a:avLst/>
                  <a:gdLst/>
                  <a:ahLst/>
                  <a:rect l="l" t="t" r="r" b="b"/>
                  <a:pathLst>
                    <a:path w="466" h="346">
                      <a:moveTo>
                        <a:pt x="374" y="53"/>
                      </a:moveTo>
                      <a:lnTo>
                        <a:pt x="382" y="57"/>
                      </a:lnTo>
                      <a:lnTo>
                        <a:pt x="390" y="64"/>
                      </a:lnTo>
                      <a:lnTo>
                        <a:pt x="397" y="70"/>
                      </a:lnTo>
                      <a:lnTo>
                        <a:pt x="404" y="76"/>
                      </a:lnTo>
                      <a:lnTo>
                        <a:pt x="411" y="84"/>
                      </a:lnTo>
                      <a:lnTo>
                        <a:pt x="417" y="89"/>
                      </a:lnTo>
                      <a:lnTo>
                        <a:pt x="424" y="95"/>
                      </a:lnTo>
                      <a:lnTo>
                        <a:pt x="430" y="99"/>
                      </a:lnTo>
                      <a:lnTo>
                        <a:pt x="429" y="102"/>
                      </a:lnTo>
                      <a:lnTo>
                        <a:pt x="425" y="104"/>
                      </a:lnTo>
                      <a:lnTo>
                        <a:pt x="421" y="104"/>
                      </a:lnTo>
                      <a:lnTo>
                        <a:pt x="416" y="106"/>
                      </a:lnTo>
                      <a:lnTo>
                        <a:pt x="412" y="103"/>
                      </a:lnTo>
                      <a:lnTo>
                        <a:pt x="405" y="107"/>
                      </a:lnTo>
                      <a:lnTo>
                        <a:pt x="396" y="110"/>
                      </a:lnTo>
                      <a:lnTo>
                        <a:pt x="386" y="111"/>
                      </a:lnTo>
                      <a:lnTo>
                        <a:pt x="377" y="111"/>
                      </a:lnTo>
                      <a:lnTo>
                        <a:pt x="367" y="111"/>
                      </a:lnTo>
                      <a:lnTo>
                        <a:pt x="359" y="112"/>
                      </a:lnTo>
                      <a:lnTo>
                        <a:pt x="350" y="115"/>
                      </a:lnTo>
                      <a:lnTo>
                        <a:pt x="344" y="121"/>
                      </a:lnTo>
                      <a:lnTo>
                        <a:pt x="345" y="134"/>
                      </a:lnTo>
                      <a:lnTo>
                        <a:pt x="348" y="143"/>
                      </a:lnTo>
                      <a:lnTo>
                        <a:pt x="355" y="149"/>
                      </a:lnTo>
                      <a:lnTo>
                        <a:pt x="364" y="154"/>
                      </a:lnTo>
                      <a:lnTo>
                        <a:pt x="374" y="159"/>
                      </a:lnTo>
                      <a:lnTo>
                        <a:pt x="383" y="163"/>
                      </a:lnTo>
                      <a:lnTo>
                        <a:pt x="393" y="169"/>
                      </a:lnTo>
                      <a:lnTo>
                        <a:pt x="399" y="178"/>
                      </a:lnTo>
                      <a:lnTo>
                        <a:pt x="408" y="188"/>
                      </a:lnTo>
                      <a:lnTo>
                        <a:pt x="416" y="196"/>
                      </a:lnTo>
                      <a:lnTo>
                        <a:pt x="425" y="205"/>
                      </a:lnTo>
                      <a:lnTo>
                        <a:pt x="434" y="212"/>
                      </a:lnTo>
                      <a:lnTo>
                        <a:pt x="442" y="220"/>
                      </a:lnTo>
                      <a:lnTo>
                        <a:pt x="451" y="228"/>
                      </a:lnTo>
                      <a:lnTo>
                        <a:pt x="458" y="237"/>
                      </a:lnTo>
                      <a:lnTo>
                        <a:pt x="466" y="246"/>
                      </a:lnTo>
                      <a:lnTo>
                        <a:pt x="444" y="246"/>
                      </a:lnTo>
                      <a:lnTo>
                        <a:pt x="423" y="244"/>
                      </a:lnTo>
                      <a:lnTo>
                        <a:pt x="401" y="242"/>
                      </a:lnTo>
                      <a:lnTo>
                        <a:pt x="380" y="238"/>
                      </a:lnTo>
                      <a:lnTo>
                        <a:pt x="360" y="234"/>
                      </a:lnTo>
                      <a:lnTo>
                        <a:pt x="338" y="228"/>
                      </a:lnTo>
                      <a:lnTo>
                        <a:pt x="318" y="223"/>
                      </a:lnTo>
                      <a:lnTo>
                        <a:pt x="298" y="218"/>
                      </a:lnTo>
                      <a:lnTo>
                        <a:pt x="291" y="228"/>
                      </a:lnTo>
                      <a:lnTo>
                        <a:pt x="290" y="240"/>
                      </a:lnTo>
                      <a:lnTo>
                        <a:pt x="291" y="254"/>
                      </a:lnTo>
                      <a:lnTo>
                        <a:pt x="294" y="267"/>
                      </a:lnTo>
                      <a:lnTo>
                        <a:pt x="303" y="285"/>
                      </a:lnTo>
                      <a:lnTo>
                        <a:pt x="307" y="306"/>
                      </a:lnTo>
                      <a:lnTo>
                        <a:pt x="308" y="327"/>
                      </a:lnTo>
                      <a:lnTo>
                        <a:pt x="308" y="346"/>
                      </a:lnTo>
                      <a:lnTo>
                        <a:pt x="296" y="337"/>
                      </a:lnTo>
                      <a:lnTo>
                        <a:pt x="286" y="331"/>
                      </a:lnTo>
                      <a:lnTo>
                        <a:pt x="274" y="324"/>
                      </a:lnTo>
                      <a:lnTo>
                        <a:pt x="263" y="319"/>
                      </a:lnTo>
                      <a:lnTo>
                        <a:pt x="252" y="313"/>
                      </a:lnTo>
                      <a:lnTo>
                        <a:pt x="241" y="307"/>
                      </a:lnTo>
                      <a:lnTo>
                        <a:pt x="230" y="300"/>
                      </a:lnTo>
                      <a:lnTo>
                        <a:pt x="219" y="292"/>
                      </a:lnTo>
                      <a:lnTo>
                        <a:pt x="209" y="291"/>
                      </a:lnTo>
                      <a:lnTo>
                        <a:pt x="198" y="292"/>
                      </a:lnTo>
                      <a:lnTo>
                        <a:pt x="187" y="292"/>
                      </a:lnTo>
                      <a:lnTo>
                        <a:pt x="178" y="293"/>
                      </a:lnTo>
                      <a:lnTo>
                        <a:pt x="168" y="292"/>
                      </a:lnTo>
                      <a:lnTo>
                        <a:pt x="158" y="291"/>
                      </a:lnTo>
                      <a:lnTo>
                        <a:pt x="149" y="287"/>
                      </a:lnTo>
                      <a:lnTo>
                        <a:pt x="140" y="282"/>
                      </a:lnTo>
                      <a:lnTo>
                        <a:pt x="163" y="280"/>
                      </a:lnTo>
                      <a:lnTo>
                        <a:pt x="184" y="274"/>
                      </a:lnTo>
                      <a:lnTo>
                        <a:pt x="203" y="265"/>
                      </a:lnTo>
                      <a:lnTo>
                        <a:pt x="223" y="252"/>
                      </a:lnTo>
                      <a:lnTo>
                        <a:pt x="239" y="237"/>
                      </a:lnTo>
                      <a:lnTo>
                        <a:pt x="255" y="220"/>
                      </a:lnTo>
                      <a:lnTo>
                        <a:pt x="268" y="203"/>
                      </a:lnTo>
                      <a:lnTo>
                        <a:pt x="279" y="185"/>
                      </a:lnTo>
                      <a:lnTo>
                        <a:pt x="287" y="166"/>
                      </a:lnTo>
                      <a:lnTo>
                        <a:pt x="290" y="145"/>
                      </a:lnTo>
                      <a:lnTo>
                        <a:pt x="289" y="124"/>
                      </a:lnTo>
                      <a:lnTo>
                        <a:pt x="283" y="103"/>
                      </a:lnTo>
                      <a:lnTo>
                        <a:pt x="273" y="88"/>
                      </a:lnTo>
                      <a:lnTo>
                        <a:pt x="262" y="75"/>
                      </a:lnTo>
                      <a:lnTo>
                        <a:pt x="249" y="64"/>
                      </a:lnTo>
                      <a:lnTo>
                        <a:pt x="235" y="54"/>
                      </a:lnTo>
                      <a:lnTo>
                        <a:pt x="220" y="46"/>
                      </a:lnTo>
                      <a:lnTo>
                        <a:pt x="205" y="38"/>
                      </a:lnTo>
                      <a:lnTo>
                        <a:pt x="189" y="32"/>
                      </a:lnTo>
                      <a:lnTo>
                        <a:pt x="172" y="25"/>
                      </a:lnTo>
                      <a:lnTo>
                        <a:pt x="162" y="25"/>
                      </a:lnTo>
                      <a:lnTo>
                        <a:pt x="150" y="25"/>
                      </a:lnTo>
                      <a:lnTo>
                        <a:pt x="139" y="24"/>
                      </a:lnTo>
                      <a:lnTo>
                        <a:pt x="128" y="24"/>
                      </a:lnTo>
                      <a:lnTo>
                        <a:pt x="117" y="23"/>
                      </a:lnTo>
                      <a:lnTo>
                        <a:pt x="105" y="22"/>
                      </a:lnTo>
                      <a:lnTo>
                        <a:pt x="94" y="21"/>
                      </a:lnTo>
                      <a:lnTo>
                        <a:pt x="83" y="21"/>
                      </a:lnTo>
                      <a:lnTo>
                        <a:pt x="72" y="20"/>
                      </a:lnTo>
                      <a:lnTo>
                        <a:pt x="61" y="20"/>
                      </a:lnTo>
                      <a:lnTo>
                        <a:pt x="50" y="21"/>
                      </a:lnTo>
                      <a:lnTo>
                        <a:pt x="40" y="21"/>
                      </a:lnTo>
                      <a:lnTo>
                        <a:pt x="29" y="23"/>
                      </a:lnTo>
                      <a:lnTo>
                        <a:pt x="19" y="24"/>
                      </a:lnTo>
                      <a:lnTo>
                        <a:pt x="10" y="27"/>
                      </a:lnTo>
                      <a:lnTo>
                        <a:pt x="0" y="31"/>
                      </a:lnTo>
                      <a:lnTo>
                        <a:pt x="14" y="19"/>
                      </a:lnTo>
                      <a:lnTo>
                        <a:pt x="31" y="12"/>
                      </a:lnTo>
                      <a:lnTo>
                        <a:pt x="48" y="10"/>
                      </a:lnTo>
                      <a:lnTo>
                        <a:pt x="67" y="10"/>
                      </a:lnTo>
                      <a:lnTo>
                        <a:pt x="87" y="10"/>
                      </a:lnTo>
                      <a:lnTo>
                        <a:pt x="106" y="9"/>
                      </a:lnTo>
                      <a:lnTo>
                        <a:pt x="124" y="7"/>
                      </a:lnTo>
                      <a:lnTo>
                        <a:pt x="140" y="0"/>
                      </a:lnTo>
                      <a:lnTo>
                        <a:pt x="157" y="2"/>
                      </a:lnTo>
                      <a:lnTo>
                        <a:pt x="174" y="3"/>
                      </a:lnTo>
                      <a:lnTo>
                        <a:pt x="192" y="4"/>
                      </a:lnTo>
                      <a:lnTo>
                        <a:pt x="210" y="3"/>
                      </a:lnTo>
                      <a:lnTo>
                        <a:pt x="227" y="2"/>
                      </a:lnTo>
                      <a:lnTo>
                        <a:pt x="243" y="1"/>
                      </a:lnTo>
                      <a:lnTo>
                        <a:pt x="260" y="0"/>
                      </a:lnTo>
                      <a:lnTo>
                        <a:pt x="276" y="0"/>
                      </a:lnTo>
                      <a:lnTo>
                        <a:pt x="291" y="1"/>
                      </a:lnTo>
                      <a:lnTo>
                        <a:pt x="306" y="2"/>
                      </a:lnTo>
                      <a:lnTo>
                        <a:pt x="320" y="5"/>
                      </a:lnTo>
                      <a:lnTo>
                        <a:pt x="333" y="10"/>
                      </a:lnTo>
                      <a:lnTo>
                        <a:pt x="345" y="17"/>
                      </a:lnTo>
                      <a:lnTo>
                        <a:pt x="355" y="26"/>
                      </a:lnTo>
                      <a:lnTo>
                        <a:pt x="365" y="38"/>
                      </a:lnTo>
                      <a:lnTo>
                        <a:pt x="374" y="53"/>
                      </a:lnTo>
                      <a:close/>
                    </a:path>
                  </a:pathLst>
                </a:custGeom>
                <a:solidFill>
                  <a:srgbClr val="d6c4a5"/>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08" name=""/>
                <p:cNvSpPr/>
                <p:nvPr/>
              </p:nvSpPr>
              <p:spPr>
                <a:xfrm flipH="1">
                  <a:off x="1747080" y="5636160"/>
                  <a:ext cx="6840" cy="5040"/>
                </a:xfrm>
                <a:custGeom>
                  <a:avLst/>
                  <a:gdLst/>
                  <a:ahLst/>
                  <a:rect l="l" t="t" r="r" b="b"/>
                  <a:pathLst>
                    <a:path w="36" h="29">
                      <a:moveTo>
                        <a:pt x="21" y="2"/>
                      </a:moveTo>
                      <a:lnTo>
                        <a:pt x="27" y="0"/>
                      </a:lnTo>
                      <a:lnTo>
                        <a:pt x="30" y="3"/>
                      </a:lnTo>
                      <a:lnTo>
                        <a:pt x="33" y="7"/>
                      </a:lnTo>
                      <a:lnTo>
                        <a:pt x="36" y="11"/>
                      </a:lnTo>
                      <a:lnTo>
                        <a:pt x="36" y="21"/>
                      </a:lnTo>
                      <a:lnTo>
                        <a:pt x="34" y="26"/>
                      </a:lnTo>
                      <a:lnTo>
                        <a:pt x="30" y="29"/>
                      </a:lnTo>
                      <a:lnTo>
                        <a:pt x="26" y="29"/>
                      </a:lnTo>
                      <a:lnTo>
                        <a:pt x="21" y="29"/>
                      </a:lnTo>
                      <a:lnTo>
                        <a:pt x="14" y="29"/>
                      </a:lnTo>
                      <a:lnTo>
                        <a:pt x="7" y="28"/>
                      </a:lnTo>
                      <a:lnTo>
                        <a:pt x="0" y="29"/>
                      </a:lnTo>
                      <a:lnTo>
                        <a:pt x="1" y="20"/>
                      </a:lnTo>
                      <a:lnTo>
                        <a:pt x="7" y="12"/>
                      </a:lnTo>
                      <a:lnTo>
                        <a:pt x="14" y="6"/>
                      </a:lnTo>
                      <a:lnTo>
                        <a:pt x="21"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09" name=""/>
                <p:cNvSpPr/>
                <p:nvPr/>
              </p:nvSpPr>
              <p:spPr>
                <a:xfrm flipH="1">
                  <a:off x="1753560" y="5641560"/>
                  <a:ext cx="58680" cy="24480"/>
                </a:xfrm>
                <a:custGeom>
                  <a:avLst/>
                  <a:gdLst/>
                  <a:ahLst/>
                  <a:rect l="l" t="t" r="r" b="b"/>
                  <a:pathLst>
                    <a:path w="340" h="136">
                      <a:moveTo>
                        <a:pt x="183" y="2"/>
                      </a:moveTo>
                      <a:lnTo>
                        <a:pt x="200" y="7"/>
                      </a:lnTo>
                      <a:lnTo>
                        <a:pt x="215" y="13"/>
                      </a:lnTo>
                      <a:lnTo>
                        <a:pt x="230" y="22"/>
                      </a:lnTo>
                      <a:lnTo>
                        <a:pt x="244" y="31"/>
                      </a:lnTo>
                      <a:lnTo>
                        <a:pt x="258" y="41"/>
                      </a:lnTo>
                      <a:lnTo>
                        <a:pt x="272" y="52"/>
                      </a:lnTo>
                      <a:lnTo>
                        <a:pt x="286" y="61"/>
                      </a:lnTo>
                      <a:lnTo>
                        <a:pt x="301" y="69"/>
                      </a:lnTo>
                      <a:lnTo>
                        <a:pt x="305" y="74"/>
                      </a:lnTo>
                      <a:lnTo>
                        <a:pt x="313" y="78"/>
                      </a:lnTo>
                      <a:lnTo>
                        <a:pt x="320" y="83"/>
                      </a:lnTo>
                      <a:lnTo>
                        <a:pt x="328" y="86"/>
                      </a:lnTo>
                      <a:lnTo>
                        <a:pt x="335" y="91"/>
                      </a:lnTo>
                      <a:lnTo>
                        <a:pt x="339" y="98"/>
                      </a:lnTo>
                      <a:lnTo>
                        <a:pt x="340" y="106"/>
                      </a:lnTo>
                      <a:lnTo>
                        <a:pt x="337" y="117"/>
                      </a:lnTo>
                      <a:lnTo>
                        <a:pt x="331" y="122"/>
                      </a:lnTo>
                      <a:lnTo>
                        <a:pt x="323" y="126"/>
                      </a:lnTo>
                      <a:lnTo>
                        <a:pt x="315" y="131"/>
                      </a:lnTo>
                      <a:lnTo>
                        <a:pt x="306" y="134"/>
                      </a:lnTo>
                      <a:lnTo>
                        <a:pt x="298" y="135"/>
                      </a:lnTo>
                      <a:lnTo>
                        <a:pt x="288" y="136"/>
                      </a:lnTo>
                      <a:lnTo>
                        <a:pt x="278" y="135"/>
                      </a:lnTo>
                      <a:lnTo>
                        <a:pt x="270" y="132"/>
                      </a:lnTo>
                      <a:lnTo>
                        <a:pt x="263" y="130"/>
                      </a:lnTo>
                      <a:lnTo>
                        <a:pt x="258" y="126"/>
                      </a:lnTo>
                      <a:lnTo>
                        <a:pt x="254" y="122"/>
                      </a:lnTo>
                      <a:lnTo>
                        <a:pt x="249" y="118"/>
                      </a:lnTo>
                      <a:lnTo>
                        <a:pt x="245" y="115"/>
                      </a:lnTo>
                      <a:lnTo>
                        <a:pt x="240" y="111"/>
                      </a:lnTo>
                      <a:lnTo>
                        <a:pt x="233" y="110"/>
                      </a:lnTo>
                      <a:lnTo>
                        <a:pt x="226" y="111"/>
                      </a:lnTo>
                      <a:lnTo>
                        <a:pt x="237" y="107"/>
                      </a:lnTo>
                      <a:lnTo>
                        <a:pt x="249" y="108"/>
                      </a:lnTo>
                      <a:lnTo>
                        <a:pt x="261" y="111"/>
                      </a:lnTo>
                      <a:lnTo>
                        <a:pt x="273" y="116"/>
                      </a:lnTo>
                      <a:lnTo>
                        <a:pt x="284" y="118"/>
                      </a:lnTo>
                      <a:lnTo>
                        <a:pt x="291" y="116"/>
                      </a:lnTo>
                      <a:lnTo>
                        <a:pt x="295" y="108"/>
                      </a:lnTo>
                      <a:lnTo>
                        <a:pt x="294" y="93"/>
                      </a:lnTo>
                      <a:lnTo>
                        <a:pt x="282" y="86"/>
                      </a:lnTo>
                      <a:lnTo>
                        <a:pt x="268" y="80"/>
                      </a:lnTo>
                      <a:lnTo>
                        <a:pt x="252" y="77"/>
                      </a:lnTo>
                      <a:lnTo>
                        <a:pt x="236" y="76"/>
                      </a:lnTo>
                      <a:lnTo>
                        <a:pt x="218" y="75"/>
                      </a:lnTo>
                      <a:lnTo>
                        <a:pt x="201" y="75"/>
                      </a:lnTo>
                      <a:lnTo>
                        <a:pt x="186" y="75"/>
                      </a:lnTo>
                      <a:lnTo>
                        <a:pt x="172" y="75"/>
                      </a:lnTo>
                      <a:lnTo>
                        <a:pt x="162" y="75"/>
                      </a:lnTo>
                      <a:lnTo>
                        <a:pt x="150" y="75"/>
                      </a:lnTo>
                      <a:lnTo>
                        <a:pt x="139" y="75"/>
                      </a:lnTo>
                      <a:lnTo>
                        <a:pt x="127" y="75"/>
                      </a:lnTo>
                      <a:lnTo>
                        <a:pt x="117" y="75"/>
                      </a:lnTo>
                      <a:lnTo>
                        <a:pt x="105" y="75"/>
                      </a:lnTo>
                      <a:lnTo>
                        <a:pt x="94" y="76"/>
                      </a:lnTo>
                      <a:lnTo>
                        <a:pt x="82" y="77"/>
                      </a:lnTo>
                      <a:lnTo>
                        <a:pt x="72" y="78"/>
                      </a:lnTo>
                      <a:lnTo>
                        <a:pt x="60" y="80"/>
                      </a:lnTo>
                      <a:lnTo>
                        <a:pt x="49" y="84"/>
                      </a:lnTo>
                      <a:lnTo>
                        <a:pt x="40" y="87"/>
                      </a:lnTo>
                      <a:lnTo>
                        <a:pt x="29" y="90"/>
                      </a:lnTo>
                      <a:lnTo>
                        <a:pt x="19" y="95"/>
                      </a:lnTo>
                      <a:lnTo>
                        <a:pt x="10" y="101"/>
                      </a:lnTo>
                      <a:lnTo>
                        <a:pt x="0" y="107"/>
                      </a:lnTo>
                      <a:lnTo>
                        <a:pt x="0" y="89"/>
                      </a:lnTo>
                      <a:lnTo>
                        <a:pt x="5" y="83"/>
                      </a:lnTo>
                      <a:lnTo>
                        <a:pt x="11" y="75"/>
                      </a:lnTo>
                      <a:lnTo>
                        <a:pt x="15" y="67"/>
                      </a:lnTo>
                      <a:lnTo>
                        <a:pt x="18" y="58"/>
                      </a:lnTo>
                      <a:lnTo>
                        <a:pt x="26" y="44"/>
                      </a:lnTo>
                      <a:lnTo>
                        <a:pt x="35" y="33"/>
                      </a:lnTo>
                      <a:lnTo>
                        <a:pt x="48" y="26"/>
                      </a:lnTo>
                      <a:lnTo>
                        <a:pt x="62" y="20"/>
                      </a:lnTo>
                      <a:lnTo>
                        <a:pt x="77" y="15"/>
                      </a:lnTo>
                      <a:lnTo>
                        <a:pt x="92" y="11"/>
                      </a:lnTo>
                      <a:lnTo>
                        <a:pt x="107" y="7"/>
                      </a:lnTo>
                      <a:lnTo>
                        <a:pt x="122" y="2"/>
                      </a:lnTo>
                      <a:lnTo>
                        <a:pt x="131" y="0"/>
                      </a:lnTo>
                      <a:lnTo>
                        <a:pt x="139" y="1"/>
                      </a:lnTo>
                      <a:lnTo>
                        <a:pt x="147" y="5"/>
                      </a:lnTo>
                      <a:lnTo>
                        <a:pt x="153" y="10"/>
                      </a:lnTo>
                      <a:lnTo>
                        <a:pt x="161" y="13"/>
                      </a:lnTo>
                      <a:lnTo>
                        <a:pt x="167" y="14"/>
                      </a:lnTo>
                      <a:lnTo>
                        <a:pt x="175" y="11"/>
                      </a:lnTo>
                      <a:lnTo>
                        <a:pt x="183" y="2"/>
                      </a:lnTo>
                      <a:close/>
                    </a:path>
                  </a:pathLst>
                </a:custGeom>
                <a:solidFill>
                  <a:srgbClr val="ffeab2"/>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410" name=""/>
                <p:cNvSpPr/>
                <p:nvPr/>
              </p:nvSpPr>
              <p:spPr>
                <a:xfrm flipH="1">
                  <a:off x="1697400" y="5702760"/>
                  <a:ext cx="43200" cy="18000"/>
                </a:xfrm>
                <a:custGeom>
                  <a:avLst/>
                  <a:gdLst/>
                  <a:ahLst/>
                  <a:rect l="l" t="t" r="r" b="b"/>
                  <a:pathLst>
                    <a:path w="249" h="101">
                      <a:moveTo>
                        <a:pt x="104" y="0"/>
                      </a:moveTo>
                      <a:lnTo>
                        <a:pt x="102" y="16"/>
                      </a:lnTo>
                      <a:lnTo>
                        <a:pt x="105" y="25"/>
                      </a:lnTo>
                      <a:lnTo>
                        <a:pt x="113" y="31"/>
                      </a:lnTo>
                      <a:lnTo>
                        <a:pt x="124" y="32"/>
                      </a:lnTo>
                      <a:lnTo>
                        <a:pt x="135" y="32"/>
                      </a:lnTo>
                      <a:lnTo>
                        <a:pt x="148" y="32"/>
                      </a:lnTo>
                      <a:lnTo>
                        <a:pt x="160" y="33"/>
                      </a:lnTo>
                      <a:lnTo>
                        <a:pt x="170" y="36"/>
                      </a:lnTo>
                      <a:lnTo>
                        <a:pt x="181" y="36"/>
                      </a:lnTo>
                      <a:lnTo>
                        <a:pt x="192" y="38"/>
                      </a:lnTo>
                      <a:lnTo>
                        <a:pt x="201" y="41"/>
                      </a:lnTo>
                      <a:lnTo>
                        <a:pt x="209" y="46"/>
                      </a:lnTo>
                      <a:lnTo>
                        <a:pt x="218" y="51"/>
                      </a:lnTo>
                      <a:lnTo>
                        <a:pt x="226" y="55"/>
                      </a:lnTo>
                      <a:lnTo>
                        <a:pt x="237" y="57"/>
                      </a:lnTo>
                      <a:lnTo>
                        <a:pt x="249" y="59"/>
                      </a:lnTo>
                      <a:lnTo>
                        <a:pt x="240" y="72"/>
                      </a:lnTo>
                      <a:lnTo>
                        <a:pt x="228" y="82"/>
                      </a:lnTo>
                      <a:lnTo>
                        <a:pt x="216" y="88"/>
                      </a:lnTo>
                      <a:lnTo>
                        <a:pt x="200" y="92"/>
                      </a:lnTo>
                      <a:lnTo>
                        <a:pt x="183" y="94"/>
                      </a:lnTo>
                      <a:lnTo>
                        <a:pt x="167" y="95"/>
                      </a:lnTo>
                      <a:lnTo>
                        <a:pt x="151" y="97"/>
                      </a:lnTo>
                      <a:lnTo>
                        <a:pt x="136" y="101"/>
                      </a:lnTo>
                      <a:lnTo>
                        <a:pt x="118" y="100"/>
                      </a:lnTo>
                      <a:lnTo>
                        <a:pt x="99" y="99"/>
                      </a:lnTo>
                      <a:lnTo>
                        <a:pt x="80" y="97"/>
                      </a:lnTo>
                      <a:lnTo>
                        <a:pt x="60" y="94"/>
                      </a:lnTo>
                      <a:lnTo>
                        <a:pt x="42" y="90"/>
                      </a:lnTo>
                      <a:lnTo>
                        <a:pt x="26" y="82"/>
                      </a:lnTo>
                      <a:lnTo>
                        <a:pt x="11" y="72"/>
                      </a:lnTo>
                      <a:lnTo>
                        <a:pt x="0" y="59"/>
                      </a:lnTo>
                      <a:lnTo>
                        <a:pt x="15" y="52"/>
                      </a:lnTo>
                      <a:lnTo>
                        <a:pt x="28" y="44"/>
                      </a:lnTo>
                      <a:lnTo>
                        <a:pt x="40" y="34"/>
                      </a:lnTo>
                      <a:lnTo>
                        <a:pt x="51" y="23"/>
                      </a:lnTo>
                      <a:lnTo>
                        <a:pt x="63" y="15"/>
                      </a:lnTo>
                      <a:lnTo>
                        <a:pt x="74" y="6"/>
                      </a:lnTo>
                      <a:lnTo>
                        <a:pt x="88" y="2"/>
                      </a:lnTo>
                      <a:lnTo>
                        <a:pt x="104" y="0"/>
                      </a:lnTo>
                      <a:close/>
                    </a:path>
                  </a:pathLst>
                </a:custGeom>
                <a:solidFill>
                  <a:srgbClr val="d6c4a5"/>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411" name=""/>
                <p:cNvSpPr/>
                <p:nvPr/>
              </p:nvSpPr>
              <p:spPr>
                <a:xfrm flipH="1">
                  <a:off x="1828080" y="5705640"/>
                  <a:ext cx="137520" cy="74880"/>
                </a:xfrm>
                <a:custGeom>
                  <a:avLst/>
                  <a:gdLst/>
                  <a:ahLst/>
                  <a:rect l="l" t="t" r="r" b="b"/>
                  <a:pathLst>
                    <a:path w="796" h="408">
                      <a:moveTo>
                        <a:pt x="796" y="0"/>
                      </a:moveTo>
                      <a:lnTo>
                        <a:pt x="767" y="18"/>
                      </a:lnTo>
                      <a:lnTo>
                        <a:pt x="739" y="38"/>
                      </a:lnTo>
                      <a:lnTo>
                        <a:pt x="712" y="59"/>
                      </a:lnTo>
                      <a:lnTo>
                        <a:pt x="686" y="80"/>
                      </a:lnTo>
                      <a:lnTo>
                        <a:pt x="659" y="101"/>
                      </a:lnTo>
                      <a:lnTo>
                        <a:pt x="633" y="124"/>
                      </a:lnTo>
                      <a:lnTo>
                        <a:pt x="607" y="145"/>
                      </a:lnTo>
                      <a:lnTo>
                        <a:pt x="581" y="168"/>
                      </a:lnTo>
                      <a:lnTo>
                        <a:pt x="555" y="188"/>
                      </a:lnTo>
                      <a:lnTo>
                        <a:pt x="528" y="208"/>
                      </a:lnTo>
                      <a:lnTo>
                        <a:pt x="500" y="228"/>
                      </a:lnTo>
                      <a:lnTo>
                        <a:pt x="473" y="245"/>
                      </a:lnTo>
                      <a:lnTo>
                        <a:pt x="443" y="261"/>
                      </a:lnTo>
                      <a:lnTo>
                        <a:pt x="413" y="276"/>
                      </a:lnTo>
                      <a:lnTo>
                        <a:pt x="382" y="287"/>
                      </a:lnTo>
                      <a:lnTo>
                        <a:pt x="348" y="297"/>
                      </a:lnTo>
                      <a:lnTo>
                        <a:pt x="328" y="306"/>
                      </a:lnTo>
                      <a:lnTo>
                        <a:pt x="308" y="315"/>
                      </a:lnTo>
                      <a:lnTo>
                        <a:pt x="286" y="324"/>
                      </a:lnTo>
                      <a:lnTo>
                        <a:pt x="265" y="332"/>
                      </a:lnTo>
                      <a:lnTo>
                        <a:pt x="243" y="341"/>
                      </a:lnTo>
                      <a:lnTo>
                        <a:pt x="222" y="349"/>
                      </a:lnTo>
                      <a:lnTo>
                        <a:pt x="201" y="357"/>
                      </a:lnTo>
                      <a:lnTo>
                        <a:pt x="179" y="364"/>
                      </a:lnTo>
                      <a:lnTo>
                        <a:pt x="157" y="372"/>
                      </a:lnTo>
                      <a:lnTo>
                        <a:pt x="134" y="379"/>
                      </a:lnTo>
                      <a:lnTo>
                        <a:pt x="113" y="386"/>
                      </a:lnTo>
                      <a:lnTo>
                        <a:pt x="90" y="391"/>
                      </a:lnTo>
                      <a:lnTo>
                        <a:pt x="68" y="396"/>
                      </a:lnTo>
                      <a:lnTo>
                        <a:pt x="45" y="401"/>
                      </a:lnTo>
                      <a:lnTo>
                        <a:pt x="23" y="405"/>
                      </a:lnTo>
                      <a:lnTo>
                        <a:pt x="0" y="408"/>
                      </a:lnTo>
                      <a:lnTo>
                        <a:pt x="29" y="394"/>
                      </a:lnTo>
                      <a:lnTo>
                        <a:pt x="57" y="380"/>
                      </a:lnTo>
                      <a:lnTo>
                        <a:pt x="86" y="366"/>
                      </a:lnTo>
                      <a:lnTo>
                        <a:pt x="113" y="353"/>
                      </a:lnTo>
                      <a:lnTo>
                        <a:pt x="141" y="339"/>
                      </a:lnTo>
                      <a:lnTo>
                        <a:pt x="169" y="325"/>
                      </a:lnTo>
                      <a:lnTo>
                        <a:pt x="195" y="311"/>
                      </a:lnTo>
                      <a:lnTo>
                        <a:pt x="223" y="297"/>
                      </a:lnTo>
                      <a:lnTo>
                        <a:pt x="250" y="283"/>
                      </a:lnTo>
                      <a:lnTo>
                        <a:pt x="278" y="269"/>
                      </a:lnTo>
                      <a:lnTo>
                        <a:pt x="304" y="255"/>
                      </a:lnTo>
                      <a:lnTo>
                        <a:pt x="332" y="241"/>
                      </a:lnTo>
                      <a:lnTo>
                        <a:pt x="360" y="228"/>
                      </a:lnTo>
                      <a:lnTo>
                        <a:pt x="388" y="214"/>
                      </a:lnTo>
                      <a:lnTo>
                        <a:pt x="416" y="201"/>
                      </a:lnTo>
                      <a:lnTo>
                        <a:pt x="445" y="187"/>
                      </a:lnTo>
                      <a:lnTo>
                        <a:pt x="459" y="178"/>
                      </a:lnTo>
                      <a:lnTo>
                        <a:pt x="474" y="170"/>
                      </a:lnTo>
                      <a:lnTo>
                        <a:pt x="489" y="162"/>
                      </a:lnTo>
                      <a:lnTo>
                        <a:pt x="504" y="154"/>
                      </a:lnTo>
                      <a:lnTo>
                        <a:pt x="519" y="146"/>
                      </a:lnTo>
                      <a:lnTo>
                        <a:pt x="534" y="139"/>
                      </a:lnTo>
                      <a:lnTo>
                        <a:pt x="549" y="130"/>
                      </a:lnTo>
                      <a:lnTo>
                        <a:pt x="564" y="123"/>
                      </a:lnTo>
                      <a:lnTo>
                        <a:pt x="579" y="114"/>
                      </a:lnTo>
                      <a:lnTo>
                        <a:pt x="592" y="107"/>
                      </a:lnTo>
                      <a:lnTo>
                        <a:pt x="607" y="98"/>
                      </a:lnTo>
                      <a:lnTo>
                        <a:pt x="621" y="89"/>
                      </a:lnTo>
                      <a:lnTo>
                        <a:pt x="635" y="79"/>
                      </a:lnTo>
                      <a:lnTo>
                        <a:pt x="648" y="69"/>
                      </a:lnTo>
                      <a:lnTo>
                        <a:pt x="661" y="59"/>
                      </a:lnTo>
                      <a:lnTo>
                        <a:pt x="674" y="48"/>
                      </a:lnTo>
                      <a:lnTo>
                        <a:pt x="689" y="41"/>
                      </a:lnTo>
                      <a:lnTo>
                        <a:pt x="703" y="33"/>
                      </a:lnTo>
                      <a:lnTo>
                        <a:pt x="718" y="27"/>
                      </a:lnTo>
                      <a:lnTo>
                        <a:pt x="734" y="20"/>
                      </a:lnTo>
                      <a:lnTo>
                        <a:pt x="749" y="15"/>
                      </a:lnTo>
                      <a:lnTo>
                        <a:pt x="764" y="10"/>
                      </a:lnTo>
                      <a:lnTo>
                        <a:pt x="780" y="4"/>
                      </a:lnTo>
                      <a:lnTo>
                        <a:pt x="796" y="0"/>
                      </a:lnTo>
                      <a:close/>
                    </a:path>
                  </a:pathLst>
                </a:custGeom>
                <a:solidFill>
                  <a:srgbClr val="bf8e3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12" name=""/>
                <p:cNvSpPr/>
                <p:nvPr/>
              </p:nvSpPr>
              <p:spPr>
                <a:xfrm flipH="1">
                  <a:off x="1737000" y="5722920"/>
                  <a:ext cx="29160" cy="31680"/>
                </a:xfrm>
                <a:custGeom>
                  <a:avLst/>
                  <a:gdLst/>
                  <a:ahLst/>
                  <a:rect l="l" t="t" r="r" b="b"/>
                  <a:pathLst>
                    <a:path w="171" h="178">
                      <a:moveTo>
                        <a:pt x="171" y="114"/>
                      </a:moveTo>
                      <a:lnTo>
                        <a:pt x="87" y="178"/>
                      </a:lnTo>
                      <a:lnTo>
                        <a:pt x="73" y="171"/>
                      </a:lnTo>
                      <a:lnTo>
                        <a:pt x="58" y="164"/>
                      </a:lnTo>
                      <a:lnTo>
                        <a:pt x="42" y="158"/>
                      </a:lnTo>
                      <a:lnTo>
                        <a:pt x="27" y="150"/>
                      </a:lnTo>
                      <a:lnTo>
                        <a:pt x="14" y="142"/>
                      </a:lnTo>
                      <a:lnTo>
                        <a:pt x="5" y="130"/>
                      </a:lnTo>
                      <a:lnTo>
                        <a:pt x="0" y="115"/>
                      </a:lnTo>
                      <a:lnTo>
                        <a:pt x="0" y="96"/>
                      </a:lnTo>
                      <a:lnTo>
                        <a:pt x="11" y="83"/>
                      </a:lnTo>
                      <a:lnTo>
                        <a:pt x="22" y="71"/>
                      </a:lnTo>
                      <a:lnTo>
                        <a:pt x="34" y="60"/>
                      </a:lnTo>
                      <a:lnTo>
                        <a:pt x="45" y="48"/>
                      </a:lnTo>
                      <a:lnTo>
                        <a:pt x="57" y="37"/>
                      </a:lnTo>
                      <a:lnTo>
                        <a:pt x="68" y="24"/>
                      </a:lnTo>
                      <a:lnTo>
                        <a:pt x="79" y="13"/>
                      </a:lnTo>
                      <a:lnTo>
                        <a:pt x="87" y="0"/>
                      </a:lnTo>
                      <a:lnTo>
                        <a:pt x="103" y="9"/>
                      </a:lnTo>
                      <a:lnTo>
                        <a:pt x="118" y="20"/>
                      </a:lnTo>
                      <a:lnTo>
                        <a:pt x="132" y="33"/>
                      </a:lnTo>
                      <a:lnTo>
                        <a:pt x="144" y="47"/>
                      </a:lnTo>
                      <a:lnTo>
                        <a:pt x="154" y="62"/>
                      </a:lnTo>
                      <a:lnTo>
                        <a:pt x="161" y="79"/>
                      </a:lnTo>
                      <a:lnTo>
                        <a:pt x="166" y="96"/>
                      </a:lnTo>
                      <a:lnTo>
                        <a:pt x="171" y="114"/>
                      </a:lnTo>
                      <a:close/>
                    </a:path>
                  </a:pathLst>
                </a:custGeom>
                <a:solidFill>
                  <a:srgbClr val="d6c4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13" name=""/>
                <p:cNvSpPr/>
                <p:nvPr/>
              </p:nvSpPr>
              <p:spPr>
                <a:xfrm flipH="1">
                  <a:off x="1766880" y="5735880"/>
                  <a:ext cx="26640" cy="48240"/>
                </a:xfrm>
                <a:custGeom>
                  <a:avLst/>
                  <a:gdLst/>
                  <a:ahLst/>
                  <a:rect l="l" t="t" r="r" b="b"/>
                  <a:pathLst>
                    <a:path w="153" h="265">
                      <a:moveTo>
                        <a:pt x="100" y="0"/>
                      </a:moveTo>
                      <a:lnTo>
                        <a:pt x="98" y="17"/>
                      </a:lnTo>
                      <a:lnTo>
                        <a:pt x="98" y="34"/>
                      </a:lnTo>
                      <a:lnTo>
                        <a:pt x="100" y="49"/>
                      </a:lnTo>
                      <a:lnTo>
                        <a:pt x="104" y="64"/>
                      </a:lnTo>
                      <a:lnTo>
                        <a:pt x="109" y="79"/>
                      </a:lnTo>
                      <a:lnTo>
                        <a:pt x="115" y="92"/>
                      </a:lnTo>
                      <a:lnTo>
                        <a:pt x="119" y="107"/>
                      </a:lnTo>
                      <a:lnTo>
                        <a:pt x="124" y="121"/>
                      </a:lnTo>
                      <a:lnTo>
                        <a:pt x="129" y="130"/>
                      </a:lnTo>
                      <a:lnTo>
                        <a:pt x="134" y="138"/>
                      </a:lnTo>
                      <a:lnTo>
                        <a:pt x="142" y="147"/>
                      </a:lnTo>
                      <a:lnTo>
                        <a:pt x="148" y="156"/>
                      </a:lnTo>
                      <a:lnTo>
                        <a:pt x="152" y="164"/>
                      </a:lnTo>
                      <a:lnTo>
                        <a:pt x="153" y="173"/>
                      </a:lnTo>
                      <a:lnTo>
                        <a:pt x="151" y="181"/>
                      </a:lnTo>
                      <a:lnTo>
                        <a:pt x="143" y="190"/>
                      </a:lnTo>
                      <a:lnTo>
                        <a:pt x="132" y="203"/>
                      </a:lnTo>
                      <a:lnTo>
                        <a:pt x="118" y="213"/>
                      </a:lnTo>
                      <a:lnTo>
                        <a:pt x="103" y="223"/>
                      </a:lnTo>
                      <a:lnTo>
                        <a:pt x="87" y="231"/>
                      </a:lnTo>
                      <a:lnTo>
                        <a:pt x="71" y="240"/>
                      </a:lnTo>
                      <a:lnTo>
                        <a:pt x="54" y="248"/>
                      </a:lnTo>
                      <a:lnTo>
                        <a:pt x="37" y="256"/>
                      </a:lnTo>
                      <a:lnTo>
                        <a:pt x="21" y="265"/>
                      </a:lnTo>
                      <a:lnTo>
                        <a:pt x="9" y="246"/>
                      </a:lnTo>
                      <a:lnTo>
                        <a:pt x="2" y="227"/>
                      </a:lnTo>
                      <a:lnTo>
                        <a:pt x="0" y="207"/>
                      </a:lnTo>
                      <a:lnTo>
                        <a:pt x="2" y="185"/>
                      </a:lnTo>
                      <a:lnTo>
                        <a:pt x="6" y="165"/>
                      </a:lnTo>
                      <a:lnTo>
                        <a:pt x="9" y="144"/>
                      </a:lnTo>
                      <a:lnTo>
                        <a:pt x="11" y="122"/>
                      </a:lnTo>
                      <a:lnTo>
                        <a:pt x="10" y="101"/>
                      </a:lnTo>
                      <a:lnTo>
                        <a:pt x="11" y="84"/>
                      </a:lnTo>
                      <a:lnTo>
                        <a:pt x="16" y="68"/>
                      </a:lnTo>
                      <a:lnTo>
                        <a:pt x="23" y="54"/>
                      </a:lnTo>
                      <a:lnTo>
                        <a:pt x="31" y="42"/>
                      </a:lnTo>
                      <a:lnTo>
                        <a:pt x="42" y="32"/>
                      </a:lnTo>
                      <a:lnTo>
                        <a:pt x="55" y="21"/>
                      </a:lnTo>
                      <a:lnTo>
                        <a:pt x="68" y="10"/>
                      </a:lnTo>
                      <a:lnTo>
                        <a:pt x="82" y="0"/>
                      </a:lnTo>
                      <a:lnTo>
                        <a:pt x="100" y="0"/>
                      </a:lnTo>
                      <a:close/>
                    </a:path>
                  </a:pathLst>
                </a:custGeom>
                <a:solidFill>
                  <a:srgbClr val="d6c4a5"/>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414" name=""/>
                <p:cNvSpPr/>
                <p:nvPr/>
              </p:nvSpPr>
              <p:spPr>
                <a:xfrm flipH="1">
                  <a:off x="1796760" y="5740200"/>
                  <a:ext cx="71640" cy="81000"/>
                </a:xfrm>
                <a:custGeom>
                  <a:avLst/>
                  <a:gdLst/>
                  <a:ahLst/>
                  <a:rect l="l" t="t" r="r" b="b"/>
                  <a:pathLst>
                    <a:path w="414" h="447">
                      <a:moveTo>
                        <a:pt x="383" y="275"/>
                      </a:moveTo>
                      <a:lnTo>
                        <a:pt x="373" y="294"/>
                      </a:lnTo>
                      <a:lnTo>
                        <a:pt x="361" y="310"/>
                      </a:lnTo>
                      <a:lnTo>
                        <a:pt x="349" y="325"/>
                      </a:lnTo>
                      <a:lnTo>
                        <a:pt x="334" y="337"/>
                      </a:lnTo>
                      <a:lnTo>
                        <a:pt x="319" y="347"/>
                      </a:lnTo>
                      <a:lnTo>
                        <a:pt x="301" y="357"/>
                      </a:lnTo>
                      <a:lnTo>
                        <a:pt x="284" y="365"/>
                      </a:lnTo>
                      <a:lnTo>
                        <a:pt x="266" y="373"/>
                      </a:lnTo>
                      <a:lnTo>
                        <a:pt x="247" y="379"/>
                      </a:lnTo>
                      <a:lnTo>
                        <a:pt x="228" y="386"/>
                      </a:lnTo>
                      <a:lnTo>
                        <a:pt x="208" y="391"/>
                      </a:lnTo>
                      <a:lnTo>
                        <a:pt x="189" y="396"/>
                      </a:lnTo>
                      <a:lnTo>
                        <a:pt x="170" y="402"/>
                      </a:lnTo>
                      <a:lnTo>
                        <a:pt x="150" y="408"/>
                      </a:lnTo>
                      <a:lnTo>
                        <a:pt x="132" y="415"/>
                      </a:lnTo>
                      <a:lnTo>
                        <a:pt x="114" y="422"/>
                      </a:lnTo>
                      <a:lnTo>
                        <a:pt x="107" y="420"/>
                      </a:lnTo>
                      <a:lnTo>
                        <a:pt x="99" y="421"/>
                      </a:lnTo>
                      <a:lnTo>
                        <a:pt x="94" y="423"/>
                      </a:lnTo>
                      <a:lnTo>
                        <a:pt x="87" y="426"/>
                      </a:lnTo>
                      <a:lnTo>
                        <a:pt x="82" y="431"/>
                      </a:lnTo>
                      <a:lnTo>
                        <a:pt x="77" y="433"/>
                      </a:lnTo>
                      <a:lnTo>
                        <a:pt x="70" y="434"/>
                      </a:lnTo>
                      <a:lnTo>
                        <a:pt x="64" y="432"/>
                      </a:lnTo>
                      <a:lnTo>
                        <a:pt x="57" y="436"/>
                      </a:lnTo>
                      <a:lnTo>
                        <a:pt x="50" y="439"/>
                      </a:lnTo>
                      <a:lnTo>
                        <a:pt x="41" y="441"/>
                      </a:lnTo>
                      <a:lnTo>
                        <a:pt x="33" y="442"/>
                      </a:lnTo>
                      <a:lnTo>
                        <a:pt x="24" y="442"/>
                      </a:lnTo>
                      <a:lnTo>
                        <a:pt x="16" y="443"/>
                      </a:lnTo>
                      <a:lnTo>
                        <a:pt x="7" y="444"/>
                      </a:lnTo>
                      <a:lnTo>
                        <a:pt x="0" y="447"/>
                      </a:lnTo>
                      <a:lnTo>
                        <a:pt x="5" y="422"/>
                      </a:lnTo>
                      <a:lnTo>
                        <a:pt x="12" y="399"/>
                      </a:lnTo>
                      <a:lnTo>
                        <a:pt x="21" y="376"/>
                      </a:lnTo>
                      <a:lnTo>
                        <a:pt x="32" y="355"/>
                      </a:lnTo>
                      <a:lnTo>
                        <a:pt x="42" y="332"/>
                      </a:lnTo>
                      <a:lnTo>
                        <a:pt x="54" y="311"/>
                      </a:lnTo>
                      <a:lnTo>
                        <a:pt x="65" y="290"/>
                      </a:lnTo>
                      <a:lnTo>
                        <a:pt x="76" y="267"/>
                      </a:lnTo>
                      <a:lnTo>
                        <a:pt x="84" y="252"/>
                      </a:lnTo>
                      <a:lnTo>
                        <a:pt x="93" y="236"/>
                      </a:lnTo>
                      <a:lnTo>
                        <a:pt x="101" y="220"/>
                      </a:lnTo>
                      <a:lnTo>
                        <a:pt x="110" y="204"/>
                      </a:lnTo>
                      <a:lnTo>
                        <a:pt x="119" y="188"/>
                      </a:lnTo>
                      <a:lnTo>
                        <a:pt x="131" y="173"/>
                      </a:lnTo>
                      <a:lnTo>
                        <a:pt x="143" y="160"/>
                      </a:lnTo>
                      <a:lnTo>
                        <a:pt x="157" y="150"/>
                      </a:lnTo>
                      <a:lnTo>
                        <a:pt x="169" y="131"/>
                      </a:lnTo>
                      <a:lnTo>
                        <a:pt x="184" y="115"/>
                      </a:lnTo>
                      <a:lnTo>
                        <a:pt x="200" y="103"/>
                      </a:lnTo>
                      <a:lnTo>
                        <a:pt x="217" y="92"/>
                      </a:lnTo>
                      <a:lnTo>
                        <a:pt x="234" y="81"/>
                      </a:lnTo>
                      <a:lnTo>
                        <a:pt x="252" y="72"/>
                      </a:lnTo>
                      <a:lnTo>
                        <a:pt x="269" y="61"/>
                      </a:lnTo>
                      <a:lnTo>
                        <a:pt x="286" y="49"/>
                      </a:lnTo>
                      <a:lnTo>
                        <a:pt x="286" y="63"/>
                      </a:lnTo>
                      <a:lnTo>
                        <a:pt x="282" y="77"/>
                      </a:lnTo>
                      <a:lnTo>
                        <a:pt x="277" y="90"/>
                      </a:lnTo>
                      <a:lnTo>
                        <a:pt x="270" y="104"/>
                      </a:lnTo>
                      <a:lnTo>
                        <a:pt x="263" y="117"/>
                      </a:lnTo>
                      <a:lnTo>
                        <a:pt x="258" y="131"/>
                      </a:lnTo>
                      <a:lnTo>
                        <a:pt x="253" y="147"/>
                      </a:lnTo>
                      <a:lnTo>
                        <a:pt x="253" y="163"/>
                      </a:lnTo>
                      <a:lnTo>
                        <a:pt x="247" y="175"/>
                      </a:lnTo>
                      <a:lnTo>
                        <a:pt x="241" y="188"/>
                      </a:lnTo>
                      <a:lnTo>
                        <a:pt x="238" y="202"/>
                      </a:lnTo>
                      <a:lnTo>
                        <a:pt x="234" y="215"/>
                      </a:lnTo>
                      <a:lnTo>
                        <a:pt x="231" y="228"/>
                      </a:lnTo>
                      <a:lnTo>
                        <a:pt x="225" y="240"/>
                      </a:lnTo>
                      <a:lnTo>
                        <a:pt x="219" y="253"/>
                      </a:lnTo>
                      <a:lnTo>
                        <a:pt x="210" y="264"/>
                      </a:lnTo>
                      <a:lnTo>
                        <a:pt x="212" y="272"/>
                      </a:lnTo>
                      <a:lnTo>
                        <a:pt x="210" y="283"/>
                      </a:lnTo>
                      <a:lnTo>
                        <a:pt x="212" y="291"/>
                      </a:lnTo>
                      <a:lnTo>
                        <a:pt x="218" y="296"/>
                      </a:lnTo>
                      <a:lnTo>
                        <a:pt x="225" y="293"/>
                      </a:lnTo>
                      <a:lnTo>
                        <a:pt x="232" y="287"/>
                      </a:lnTo>
                      <a:lnTo>
                        <a:pt x="237" y="281"/>
                      </a:lnTo>
                      <a:lnTo>
                        <a:pt x="241" y="273"/>
                      </a:lnTo>
                      <a:lnTo>
                        <a:pt x="245" y="265"/>
                      </a:lnTo>
                      <a:lnTo>
                        <a:pt x="248" y="257"/>
                      </a:lnTo>
                      <a:lnTo>
                        <a:pt x="252" y="249"/>
                      </a:lnTo>
                      <a:lnTo>
                        <a:pt x="256" y="243"/>
                      </a:lnTo>
                      <a:lnTo>
                        <a:pt x="269" y="218"/>
                      </a:lnTo>
                      <a:lnTo>
                        <a:pt x="283" y="192"/>
                      </a:lnTo>
                      <a:lnTo>
                        <a:pt x="297" y="167"/>
                      </a:lnTo>
                      <a:lnTo>
                        <a:pt x="312" y="141"/>
                      </a:lnTo>
                      <a:lnTo>
                        <a:pt x="327" y="115"/>
                      </a:lnTo>
                      <a:lnTo>
                        <a:pt x="343" y="91"/>
                      </a:lnTo>
                      <a:lnTo>
                        <a:pt x="359" y="66"/>
                      </a:lnTo>
                      <a:lnTo>
                        <a:pt x="375" y="43"/>
                      </a:lnTo>
                      <a:lnTo>
                        <a:pt x="379" y="43"/>
                      </a:lnTo>
                      <a:lnTo>
                        <a:pt x="382" y="42"/>
                      </a:lnTo>
                      <a:lnTo>
                        <a:pt x="384" y="41"/>
                      </a:lnTo>
                      <a:lnTo>
                        <a:pt x="386" y="38"/>
                      </a:lnTo>
                      <a:lnTo>
                        <a:pt x="386" y="31"/>
                      </a:lnTo>
                      <a:lnTo>
                        <a:pt x="395" y="26"/>
                      </a:lnTo>
                      <a:lnTo>
                        <a:pt x="402" y="18"/>
                      </a:lnTo>
                      <a:lnTo>
                        <a:pt x="407" y="10"/>
                      </a:lnTo>
                      <a:lnTo>
                        <a:pt x="414" y="0"/>
                      </a:lnTo>
                      <a:lnTo>
                        <a:pt x="409" y="32"/>
                      </a:lnTo>
                      <a:lnTo>
                        <a:pt x="401" y="65"/>
                      </a:lnTo>
                      <a:lnTo>
                        <a:pt x="395" y="100"/>
                      </a:lnTo>
                      <a:lnTo>
                        <a:pt x="389" y="136"/>
                      </a:lnTo>
                      <a:lnTo>
                        <a:pt x="384" y="171"/>
                      </a:lnTo>
                      <a:lnTo>
                        <a:pt x="381" y="206"/>
                      </a:lnTo>
                      <a:lnTo>
                        <a:pt x="381" y="241"/>
                      </a:lnTo>
                      <a:lnTo>
                        <a:pt x="383" y="275"/>
                      </a:lnTo>
                      <a:close/>
                    </a:path>
                  </a:pathLst>
                </a:custGeom>
                <a:solidFill>
                  <a:srgbClr val="895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5" name=""/>
                <p:cNvSpPr/>
                <p:nvPr/>
              </p:nvSpPr>
              <p:spPr>
                <a:xfrm flipH="1">
                  <a:off x="1844280" y="5752080"/>
                  <a:ext cx="88200" cy="84600"/>
                </a:xfrm>
                <a:custGeom>
                  <a:avLst/>
                  <a:gdLst/>
                  <a:ahLst/>
                  <a:rect l="l" t="t" r="r" b="b"/>
                  <a:pathLst>
                    <a:path w="509" h="466">
                      <a:moveTo>
                        <a:pt x="509" y="0"/>
                      </a:moveTo>
                      <a:lnTo>
                        <a:pt x="499" y="24"/>
                      </a:lnTo>
                      <a:lnTo>
                        <a:pt x="488" y="46"/>
                      </a:lnTo>
                      <a:lnTo>
                        <a:pt x="477" y="68"/>
                      </a:lnTo>
                      <a:lnTo>
                        <a:pt x="465" y="91"/>
                      </a:lnTo>
                      <a:lnTo>
                        <a:pt x="452" y="113"/>
                      </a:lnTo>
                      <a:lnTo>
                        <a:pt x="439" y="135"/>
                      </a:lnTo>
                      <a:lnTo>
                        <a:pt x="425" y="156"/>
                      </a:lnTo>
                      <a:lnTo>
                        <a:pt x="412" y="177"/>
                      </a:lnTo>
                      <a:lnTo>
                        <a:pt x="398" y="200"/>
                      </a:lnTo>
                      <a:lnTo>
                        <a:pt x="385" y="221"/>
                      </a:lnTo>
                      <a:lnTo>
                        <a:pt x="372" y="243"/>
                      </a:lnTo>
                      <a:lnTo>
                        <a:pt x="359" y="264"/>
                      </a:lnTo>
                      <a:lnTo>
                        <a:pt x="347" y="286"/>
                      </a:lnTo>
                      <a:lnTo>
                        <a:pt x="336" y="308"/>
                      </a:lnTo>
                      <a:lnTo>
                        <a:pt x="326" y="330"/>
                      </a:lnTo>
                      <a:lnTo>
                        <a:pt x="316" y="353"/>
                      </a:lnTo>
                      <a:lnTo>
                        <a:pt x="305" y="369"/>
                      </a:lnTo>
                      <a:lnTo>
                        <a:pt x="295" y="384"/>
                      </a:lnTo>
                      <a:lnTo>
                        <a:pt x="282" y="396"/>
                      </a:lnTo>
                      <a:lnTo>
                        <a:pt x="269" y="408"/>
                      </a:lnTo>
                      <a:lnTo>
                        <a:pt x="255" y="419"/>
                      </a:lnTo>
                      <a:lnTo>
                        <a:pt x="240" y="427"/>
                      </a:lnTo>
                      <a:lnTo>
                        <a:pt x="225" y="435"/>
                      </a:lnTo>
                      <a:lnTo>
                        <a:pt x="209" y="441"/>
                      </a:lnTo>
                      <a:lnTo>
                        <a:pt x="192" y="447"/>
                      </a:lnTo>
                      <a:lnTo>
                        <a:pt x="175" y="452"/>
                      </a:lnTo>
                      <a:lnTo>
                        <a:pt x="158" y="455"/>
                      </a:lnTo>
                      <a:lnTo>
                        <a:pt x="139" y="457"/>
                      </a:lnTo>
                      <a:lnTo>
                        <a:pt x="121" y="460"/>
                      </a:lnTo>
                      <a:lnTo>
                        <a:pt x="102" y="461"/>
                      </a:lnTo>
                      <a:lnTo>
                        <a:pt x="84" y="462"/>
                      </a:lnTo>
                      <a:lnTo>
                        <a:pt x="64" y="462"/>
                      </a:lnTo>
                      <a:lnTo>
                        <a:pt x="57" y="463"/>
                      </a:lnTo>
                      <a:lnTo>
                        <a:pt x="48" y="465"/>
                      </a:lnTo>
                      <a:lnTo>
                        <a:pt x="40" y="465"/>
                      </a:lnTo>
                      <a:lnTo>
                        <a:pt x="31" y="466"/>
                      </a:lnTo>
                      <a:lnTo>
                        <a:pt x="23" y="465"/>
                      </a:lnTo>
                      <a:lnTo>
                        <a:pt x="15" y="464"/>
                      </a:lnTo>
                      <a:lnTo>
                        <a:pt x="7" y="461"/>
                      </a:lnTo>
                      <a:lnTo>
                        <a:pt x="0" y="457"/>
                      </a:lnTo>
                      <a:lnTo>
                        <a:pt x="9" y="440"/>
                      </a:lnTo>
                      <a:lnTo>
                        <a:pt x="17" y="423"/>
                      </a:lnTo>
                      <a:lnTo>
                        <a:pt x="28" y="407"/>
                      </a:lnTo>
                      <a:lnTo>
                        <a:pt x="38" y="391"/>
                      </a:lnTo>
                      <a:lnTo>
                        <a:pt x="48" y="375"/>
                      </a:lnTo>
                      <a:lnTo>
                        <a:pt x="59" y="360"/>
                      </a:lnTo>
                      <a:lnTo>
                        <a:pt x="71" y="344"/>
                      </a:lnTo>
                      <a:lnTo>
                        <a:pt x="83" y="329"/>
                      </a:lnTo>
                      <a:lnTo>
                        <a:pt x="94" y="314"/>
                      </a:lnTo>
                      <a:lnTo>
                        <a:pt x="107" y="299"/>
                      </a:lnTo>
                      <a:lnTo>
                        <a:pt x="119" y="284"/>
                      </a:lnTo>
                      <a:lnTo>
                        <a:pt x="132" y="269"/>
                      </a:lnTo>
                      <a:lnTo>
                        <a:pt x="145" y="254"/>
                      </a:lnTo>
                      <a:lnTo>
                        <a:pt x="158" y="240"/>
                      </a:lnTo>
                      <a:lnTo>
                        <a:pt x="170" y="226"/>
                      </a:lnTo>
                      <a:lnTo>
                        <a:pt x="183" y="211"/>
                      </a:lnTo>
                      <a:lnTo>
                        <a:pt x="192" y="200"/>
                      </a:lnTo>
                      <a:lnTo>
                        <a:pt x="201" y="189"/>
                      </a:lnTo>
                      <a:lnTo>
                        <a:pt x="211" y="180"/>
                      </a:lnTo>
                      <a:lnTo>
                        <a:pt x="221" y="169"/>
                      </a:lnTo>
                      <a:lnTo>
                        <a:pt x="231" y="159"/>
                      </a:lnTo>
                      <a:lnTo>
                        <a:pt x="241" y="150"/>
                      </a:lnTo>
                      <a:lnTo>
                        <a:pt x="252" y="140"/>
                      </a:lnTo>
                      <a:lnTo>
                        <a:pt x="262" y="131"/>
                      </a:lnTo>
                      <a:lnTo>
                        <a:pt x="266" y="135"/>
                      </a:lnTo>
                      <a:lnTo>
                        <a:pt x="273" y="129"/>
                      </a:lnTo>
                      <a:lnTo>
                        <a:pt x="270" y="125"/>
                      </a:lnTo>
                      <a:lnTo>
                        <a:pt x="349" y="76"/>
                      </a:lnTo>
                      <a:lnTo>
                        <a:pt x="329" y="105"/>
                      </a:lnTo>
                      <a:lnTo>
                        <a:pt x="310" y="134"/>
                      </a:lnTo>
                      <a:lnTo>
                        <a:pt x="290" y="162"/>
                      </a:lnTo>
                      <a:lnTo>
                        <a:pt x="271" y="191"/>
                      </a:lnTo>
                      <a:lnTo>
                        <a:pt x="253" y="220"/>
                      </a:lnTo>
                      <a:lnTo>
                        <a:pt x="235" y="249"/>
                      </a:lnTo>
                      <a:lnTo>
                        <a:pt x="217" y="278"/>
                      </a:lnTo>
                      <a:lnTo>
                        <a:pt x="201" y="307"/>
                      </a:lnTo>
                      <a:lnTo>
                        <a:pt x="202" y="315"/>
                      </a:lnTo>
                      <a:lnTo>
                        <a:pt x="206" y="324"/>
                      </a:lnTo>
                      <a:lnTo>
                        <a:pt x="212" y="331"/>
                      </a:lnTo>
                      <a:lnTo>
                        <a:pt x="220" y="336"/>
                      </a:lnTo>
                      <a:lnTo>
                        <a:pt x="243" y="315"/>
                      </a:lnTo>
                      <a:lnTo>
                        <a:pt x="262" y="293"/>
                      </a:lnTo>
                      <a:lnTo>
                        <a:pt x="279" y="269"/>
                      </a:lnTo>
                      <a:lnTo>
                        <a:pt x="292" y="244"/>
                      </a:lnTo>
                      <a:lnTo>
                        <a:pt x="305" y="218"/>
                      </a:lnTo>
                      <a:lnTo>
                        <a:pt x="320" y="193"/>
                      </a:lnTo>
                      <a:lnTo>
                        <a:pt x="337" y="169"/>
                      </a:lnTo>
                      <a:lnTo>
                        <a:pt x="359" y="146"/>
                      </a:lnTo>
                      <a:lnTo>
                        <a:pt x="374" y="127"/>
                      </a:lnTo>
                      <a:lnTo>
                        <a:pt x="389" y="105"/>
                      </a:lnTo>
                      <a:lnTo>
                        <a:pt x="403" y="81"/>
                      </a:lnTo>
                      <a:lnTo>
                        <a:pt x="418" y="59"/>
                      </a:lnTo>
                      <a:lnTo>
                        <a:pt x="436" y="37"/>
                      </a:lnTo>
                      <a:lnTo>
                        <a:pt x="455" y="19"/>
                      </a:lnTo>
                      <a:lnTo>
                        <a:pt x="480" y="6"/>
                      </a:lnTo>
                      <a:lnTo>
                        <a:pt x="509" y="0"/>
                      </a:lnTo>
                      <a:close/>
                    </a:path>
                  </a:pathLst>
                </a:custGeom>
                <a:solidFill>
                  <a:srgbClr val="8959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416" name=""/>
                <p:cNvSpPr/>
                <p:nvPr/>
              </p:nvSpPr>
              <p:spPr>
                <a:xfrm flipH="1">
                  <a:off x="1881360" y="5759280"/>
                  <a:ext cx="117000" cy="73080"/>
                </a:xfrm>
                <a:custGeom>
                  <a:avLst/>
                  <a:gdLst/>
                  <a:ahLst/>
                  <a:rect l="l" t="t" r="r" b="b"/>
                  <a:pathLst>
                    <a:path w="673" h="403">
                      <a:moveTo>
                        <a:pt x="673" y="2"/>
                      </a:moveTo>
                      <a:lnTo>
                        <a:pt x="668" y="8"/>
                      </a:lnTo>
                      <a:lnTo>
                        <a:pt x="662" y="15"/>
                      </a:lnTo>
                      <a:lnTo>
                        <a:pt x="654" y="22"/>
                      </a:lnTo>
                      <a:lnTo>
                        <a:pt x="648" y="30"/>
                      </a:lnTo>
                      <a:lnTo>
                        <a:pt x="639" y="37"/>
                      </a:lnTo>
                      <a:lnTo>
                        <a:pt x="632" y="43"/>
                      </a:lnTo>
                      <a:lnTo>
                        <a:pt x="623" y="50"/>
                      </a:lnTo>
                      <a:lnTo>
                        <a:pt x="615" y="55"/>
                      </a:lnTo>
                      <a:lnTo>
                        <a:pt x="601" y="69"/>
                      </a:lnTo>
                      <a:lnTo>
                        <a:pt x="587" y="83"/>
                      </a:lnTo>
                      <a:lnTo>
                        <a:pt x="574" y="96"/>
                      </a:lnTo>
                      <a:lnTo>
                        <a:pt x="560" y="110"/>
                      </a:lnTo>
                      <a:lnTo>
                        <a:pt x="547" y="123"/>
                      </a:lnTo>
                      <a:lnTo>
                        <a:pt x="533" y="135"/>
                      </a:lnTo>
                      <a:lnTo>
                        <a:pt x="518" y="147"/>
                      </a:lnTo>
                      <a:lnTo>
                        <a:pt x="502" y="159"/>
                      </a:lnTo>
                      <a:lnTo>
                        <a:pt x="490" y="172"/>
                      </a:lnTo>
                      <a:lnTo>
                        <a:pt x="479" y="185"/>
                      </a:lnTo>
                      <a:lnTo>
                        <a:pt x="466" y="198"/>
                      </a:lnTo>
                      <a:lnTo>
                        <a:pt x="454" y="212"/>
                      </a:lnTo>
                      <a:lnTo>
                        <a:pt x="441" y="225"/>
                      </a:lnTo>
                      <a:lnTo>
                        <a:pt x="429" y="239"/>
                      </a:lnTo>
                      <a:lnTo>
                        <a:pt x="417" y="253"/>
                      </a:lnTo>
                      <a:lnTo>
                        <a:pt x="404" y="268"/>
                      </a:lnTo>
                      <a:lnTo>
                        <a:pt x="391" y="282"/>
                      </a:lnTo>
                      <a:lnTo>
                        <a:pt x="378" y="296"/>
                      </a:lnTo>
                      <a:lnTo>
                        <a:pt x="365" y="310"/>
                      </a:lnTo>
                      <a:lnTo>
                        <a:pt x="352" y="325"/>
                      </a:lnTo>
                      <a:lnTo>
                        <a:pt x="338" y="338"/>
                      </a:lnTo>
                      <a:lnTo>
                        <a:pt x="326" y="352"/>
                      </a:lnTo>
                      <a:lnTo>
                        <a:pt x="313" y="366"/>
                      </a:lnTo>
                      <a:lnTo>
                        <a:pt x="299" y="380"/>
                      </a:lnTo>
                      <a:lnTo>
                        <a:pt x="283" y="388"/>
                      </a:lnTo>
                      <a:lnTo>
                        <a:pt x="267" y="394"/>
                      </a:lnTo>
                      <a:lnTo>
                        <a:pt x="251" y="397"/>
                      </a:lnTo>
                      <a:lnTo>
                        <a:pt x="232" y="400"/>
                      </a:lnTo>
                      <a:lnTo>
                        <a:pt x="215" y="401"/>
                      </a:lnTo>
                      <a:lnTo>
                        <a:pt x="197" y="403"/>
                      </a:lnTo>
                      <a:lnTo>
                        <a:pt x="179" y="401"/>
                      </a:lnTo>
                      <a:lnTo>
                        <a:pt x="161" y="400"/>
                      </a:lnTo>
                      <a:lnTo>
                        <a:pt x="142" y="398"/>
                      </a:lnTo>
                      <a:lnTo>
                        <a:pt x="123" y="396"/>
                      </a:lnTo>
                      <a:lnTo>
                        <a:pt x="105" y="394"/>
                      </a:lnTo>
                      <a:lnTo>
                        <a:pt x="87" y="392"/>
                      </a:lnTo>
                      <a:lnTo>
                        <a:pt x="69" y="390"/>
                      </a:lnTo>
                      <a:lnTo>
                        <a:pt x="50" y="389"/>
                      </a:lnTo>
                      <a:lnTo>
                        <a:pt x="32" y="388"/>
                      </a:lnTo>
                      <a:lnTo>
                        <a:pt x="15" y="388"/>
                      </a:lnTo>
                      <a:lnTo>
                        <a:pt x="12" y="380"/>
                      </a:lnTo>
                      <a:lnTo>
                        <a:pt x="5" y="377"/>
                      </a:lnTo>
                      <a:lnTo>
                        <a:pt x="0" y="373"/>
                      </a:lnTo>
                      <a:lnTo>
                        <a:pt x="1" y="363"/>
                      </a:lnTo>
                      <a:lnTo>
                        <a:pt x="19" y="355"/>
                      </a:lnTo>
                      <a:lnTo>
                        <a:pt x="38" y="347"/>
                      </a:lnTo>
                      <a:lnTo>
                        <a:pt x="56" y="338"/>
                      </a:lnTo>
                      <a:lnTo>
                        <a:pt x="73" y="330"/>
                      </a:lnTo>
                      <a:lnTo>
                        <a:pt x="91" y="320"/>
                      </a:lnTo>
                      <a:lnTo>
                        <a:pt x="108" y="312"/>
                      </a:lnTo>
                      <a:lnTo>
                        <a:pt x="125" y="302"/>
                      </a:lnTo>
                      <a:lnTo>
                        <a:pt x="142" y="292"/>
                      </a:lnTo>
                      <a:lnTo>
                        <a:pt x="160" y="283"/>
                      </a:lnTo>
                      <a:lnTo>
                        <a:pt x="176" y="273"/>
                      </a:lnTo>
                      <a:lnTo>
                        <a:pt x="192" y="264"/>
                      </a:lnTo>
                      <a:lnTo>
                        <a:pt x="208" y="253"/>
                      </a:lnTo>
                      <a:lnTo>
                        <a:pt x="224" y="243"/>
                      </a:lnTo>
                      <a:lnTo>
                        <a:pt x="239" y="233"/>
                      </a:lnTo>
                      <a:lnTo>
                        <a:pt x="254" y="223"/>
                      </a:lnTo>
                      <a:lnTo>
                        <a:pt x="269" y="212"/>
                      </a:lnTo>
                      <a:lnTo>
                        <a:pt x="286" y="204"/>
                      </a:lnTo>
                      <a:lnTo>
                        <a:pt x="303" y="194"/>
                      </a:lnTo>
                      <a:lnTo>
                        <a:pt x="320" y="183"/>
                      </a:lnTo>
                      <a:lnTo>
                        <a:pt x="337" y="173"/>
                      </a:lnTo>
                      <a:lnTo>
                        <a:pt x="354" y="162"/>
                      </a:lnTo>
                      <a:lnTo>
                        <a:pt x="370" y="150"/>
                      </a:lnTo>
                      <a:lnTo>
                        <a:pt x="388" y="140"/>
                      </a:lnTo>
                      <a:lnTo>
                        <a:pt x="405" y="128"/>
                      </a:lnTo>
                      <a:lnTo>
                        <a:pt x="422" y="117"/>
                      </a:lnTo>
                      <a:lnTo>
                        <a:pt x="439" y="105"/>
                      </a:lnTo>
                      <a:lnTo>
                        <a:pt x="456" y="95"/>
                      </a:lnTo>
                      <a:lnTo>
                        <a:pt x="473" y="84"/>
                      </a:lnTo>
                      <a:lnTo>
                        <a:pt x="491" y="74"/>
                      </a:lnTo>
                      <a:lnTo>
                        <a:pt x="510" y="65"/>
                      </a:lnTo>
                      <a:lnTo>
                        <a:pt x="529" y="56"/>
                      </a:lnTo>
                      <a:lnTo>
                        <a:pt x="548" y="48"/>
                      </a:lnTo>
                      <a:lnTo>
                        <a:pt x="558" y="47"/>
                      </a:lnTo>
                      <a:lnTo>
                        <a:pt x="569" y="45"/>
                      </a:lnTo>
                      <a:lnTo>
                        <a:pt x="579" y="41"/>
                      </a:lnTo>
                      <a:lnTo>
                        <a:pt x="590" y="37"/>
                      </a:lnTo>
                      <a:lnTo>
                        <a:pt x="600" y="32"/>
                      </a:lnTo>
                      <a:lnTo>
                        <a:pt x="610" y="27"/>
                      </a:lnTo>
                      <a:lnTo>
                        <a:pt x="621" y="23"/>
                      </a:lnTo>
                      <a:lnTo>
                        <a:pt x="632" y="20"/>
                      </a:lnTo>
                      <a:lnTo>
                        <a:pt x="636" y="18"/>
                      </a:lnTo>
                      <a:lnTo>
                        <a:pt x="640" y="15"/>
                      </a:lnTo>
                      <a:lnTo>
                        <a:pt x="645" y="10"/>
                      </a:lnTo>
                      <a:lnTo>
                        <a:pt x="650" y="6"/>
                      </a:lnTo>
                      <a:lnTo>
                        <a:pt x="654" y="3"/>
                      </a:lnTo>
                      <a:lnTo>
                        <a:pt x="661" y="1"/>
                      </a:lnTo>
                      <a:lnTo>
                        <a:pt x="667" y="0"/>
                      </a:lnTo>
                      <a:lnTo>
                        <a:pt x="673" y="2"/>
                      </a:lnTo>
                      <a:close/>
                    </a:path>
                  </a:pathLst>
                </a:custGeom>
                <a:solidFill>
                  <a:srgbClr val="8959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7" name=""/>
                <p:cNvSpPr/>
                <p:nvPr/>
              </p:nvSpPr>
              <p:spPr>
                <a:xfrm flipH="1">
                  <a:off x="2000880" y="5774760"/>
                  <a:ext cx="28440" cy="15480"/>
                </a:xfrm>
                <a:custGeom>
                  <a:avLst/>
                  <a:gdLst/>
                  <a:ahLst/>
                  <a:rect l="l" t="t" r="r" b="b"/>
                  <a:pathLst>
                    <a:path w="165" h="85">
                      <a:moveTo>
                        <a:pt x="165" y="85"/>
                      </a:moveTo>
                      <a:lnTo>
                        <a:pt x="146" y="78"/>
                      </a:lnTo>
                      <a:lnTo>
                        <a:pt x="124" y="77"/>
                      </a:lnTo>
                      <a:lnTo>
                        <a:pt x="103" y="78"/>
                      </a:lnTo>
                      <a:lnTo>
                        <a:pt x="81" y="79"/>
                      </a:lnTo>
                      <a:lnTo>
                        <a:pt x="61" y="79"/>
                      </a:lnTo>
                      <a:lnTo>
                        <a:pt x="43" y="75"/>
                      </a:lnTo>
                      <a:lnTo>
                        <a:pt x="28" y="64"/>
                      </a:lnTo>
                      <a:lnTo>
                        <a:pt x="17" y="46"/>
                      </a:lnTo>
                      <a:lnTo>
                        <a:pt x="0" y="0"/>
                      </a:lnTo>
                      <a:lnTo>
                        <a:pt x="24" y="8"/>
                      </a:lnTo>
                      <a:lnTo>
                        <a:pt x="45" y="17"/>
                      </a:lnTo>
                      <a:lnTo>
                        <a:pt x="65" y="30"/>
                      </a:lnTo>
                      <a:lnTo>
                        <a:pt x="85" y="43"/>
                      </a:lnTo>
                      <a:lnTo>
                        <a:pt x="103" y="56"/>
                      </a:lnTo>
                      <a:lnTo>
                        <a:pt x="122" y="68"/>
                      </a:lnTo>
                      <a:lnTo>
                        <a:pt x="144" y="77"/>
                      </a:lnTo>
                      <a:lnTo>
                        <a:pt x="165" y="85"/>
                      </a:lnTo>
                      <a:close/>
                    </a:path>
                  </a:pathLst>
                </a:custGeom>
                <a:solidFill>
                  <a:srgbClr val="8959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418" name=""/>
                <p:cNvSpPr/>
                <p:nvPr/>
              </p:nvSpPr>
              <p:spPr>
                <a:xfrm flipH="1">
                  <a:off x="1952280" y="5789520"/>
                  <a:ext cx="113400" cy="22680"/>
                </a:xfrm>
                <a:custGeom>
                  <a:avLst/>
                  <a:gdLst/>
                  <a:ahLst/>
                  <a:rect l="l" t="t" r="r" b="b"/>
                  <a:pathLst>
                    <a:path w="653" h="127">
                      <a:moveTo>
                        <a:pt x="130" y="16"/>
                      </a:moveTo>
                      <a:lnTo>
                        <a:pt x="136" y="15"/>
                      </a:lnTo>
                      <a:lnTo>
                        <a:pt x="144" y="15"/>
                      </a:lnTo>
                      <a:lnTo>
                        <a:pt x="150" y="17"/>
                      </a:lnTo>
                      <a:lnTo>
                        <a:pt x="157" y="19"/>
                      </a:lnTo>
                      <a:lnTo>
                        <a:pt x="163" y="23"/>
                      </a:lnTo>
                      <a:lnTo>
                        <a:pt x="169" y="25"/>
                      </a:lnTo>
                      <a:lnTo>
                        <a:pt x="177" y="25"/>
                      </a:lnTo>
                      <a:lnTo>
                        <a:pt x="183" y="24"/>
                      </a:lnTo>
                      <a:lnTo>
                        <a:pt x="196" y="25"/>
                      </a:lnTo>
                      <a:lnTo>
                        <a:pt x="208" y="26"/>
                      </a:lnTo>
                      <a:lnTo>
                        <a:pt x="222" y="28"/>
                      </a:lnTo>
                      <a:lnTo>
                        <a:pt x="235" y="30"/>
                      </a:lnTo>
                      <a:lnTo>
                        <a:pt x="249" y="33"/>
                      </a:lnTo>
                      <a:lnTo>
                        <a:pt x="262" y="37"/>
                      </a:lnTo>
                      <a:lnTo>
                        <a:pt x="275" y="40"/>
                      </a:lnTo>
                      <a:lnTo>
                        <a:pt x="289" y="43"/>
                      </a:lnTo>
                      <a:lnTo>
                        <a:pt x="303" y="45"/>
                      </a:lnTo>
                      <a:lnTo>
                        <a:pt x="317" y="48"/>
                      </a:lnTo>
                      <a:lnTo>
                        <a:pt x="331" y="49"/>
                      </a:lnTo>
                      <a:lnTo>
                        <a:pt x="345" y="50"/>
                      </a:lnTo>
                      <a:lnTo>
                        <a:pt x="359" y="52"/>
                      </a:lnTo>
                      <a:lnTo>
                        <a:pt x="372" y="50"/>
                      </a:lnTo>
                      <a:lnTo>
                        <a:pt x="386" y="49"/>
                      </a:lnTo>
                      <a:lnTo>
                        <a:pt x="399" y="46"/>
                      </a:lnTo>
                      <a:lnTo>
                        <a:pt x="414" y="44"/>
                      </a:lnTo>
                      <a:lnTo>
                        <a:pt x="429" y="41"/>
                      </a:lnTo>
                      <a:lnTo>
                        <a:pt x="445" y="39"/>
                      </a:lnTo>
                      <a:lnTo>
                        <a:pt x="460" y="38"/>
                      </a:lnTo>
                      <a:lnTo>
                        <a:pt x="476" y="35"/>
                      </a:lnTo>
                      <a:lnTo>
                        <a:pt x="491" y="33"/>
                      </a:lnTo>
                      <a:lnTo>
                        <a:pt x="507" y="32"/>
                      </a:lnTo>
                      <a:lnTo>
                        <a:pt x="523" y="30"/>
                      </a:lnTo>
                      <a:lnTo>
                        <a:pt x="539" y="28"/>
                      </a:lnTo>
                      <a:lnTo>
                        <a:pt x="556" y="26"/>
                      </a:lnTo>
                      <a:lnTo>
                        <a:pt x="572" y="23"/>
                      </a:lnTo>
                      <a:lnTo>
                        <a:pt x="588" y="19"/>
                      </a:lnTo>
                      <a:lnTo>
                        <a:pt x="604" y="16"/>
                      </a:lnTo>
                      <a:lnTo>
                        <a:pt x="621" y="12"/>
                      </a:lnTo>
                      <a:lnTo>
                        <a:pt x="637" y="8"/>
                      </a:lnTo>
                      <a:lnTo>
                        <a:pt x="653" y="2"/>
                      </a:lnTo>
                      <a:lnTo>
                        <a:pt x="642" y="14"/>
                      </a:lnTo>
                      <a:lnTo>
                        <a:pt x="629" y="25"/>
                      </a:lnTo>
                      <a:lnTo>
                        <a:pt x="615" y="34"/>
                      </a:lnTo>
                      <a:lnTo>
                        <a:pt x="601" y="42"/>
                      </a:lnTo>
                      <a:lnTo>
                        <a:pt x="586" y="49"/>
                      </a:lnTo>
                      <a:lnTo>
                        <a:pt x="572" y="56"/>
                      </a:lnTo>
                      <a:lnTo>
                        <a:pt x="557" y="63"/>
                      </a:lnTo>
                      <a:lnTo>
                        <a:pt x="542" y="70"/>
                      </a:lnTo>
                      <a:lnTo>
                        <a:pt x="530" y="75"/>
                      </a:lnTo>
                      <a:lnTo>
                        <a:pt x="517" y="80"/>
                      </a:lnTo>
                      <a:lnTo>
                        <a:pt x="505" y="86"/>
                      </a:lnTo>
                      <a:lnTo>
                        <a:pt x="493" y="91"/>
                      </a:lnTo>
                      <a:lnTo>
                        <a:pt x="480" y="97"/>
                      </a:lnTo>
                      <a:lnTo>
                        <a:pt x="466" y="103"/>
                      </a:lnTo>
                      <a:lnTo>
                        <a:pt x="453" y="107"/>
                      </a:lnTo>
                      <a:lnTo>
                        <a:pt x="440" y="112"/>
                      </a:lnTo>
                      <a:lnTo>
                        <a:pt x="426" y="117"/>
                      </a:lnTo>
                      <a:lnTo>
                        <a:pt x="414" y="120"/>
                      </a:lnTo>
                      <a:lnTo>
                        <a:pt x="400" y="123"/>
                      </a:lnTo>
                      <a:lnTo>
                        <a:pt x="386" y="125"/>
                      </a:lnTo>
                      <a:lnTo>
                        <a:pt x="372" y="126"/>
                      </a:lnTo>
                      <a:lnTo>
                        <a:pt x="358" y="127"/>
                      </a:lnTo>
                      <a:lnTo>
                        <a:pt x="344" y="126"/>
                      </a:lnTo>
                      <a:lnTo>
                        <a:pt x="330" y="124"/>
                      </a:lnTo>
                      <a:lnTo>
                        <a:pt x="310" y="123"/>
                      </a:lnTo>
                      <a:lnTo>
                        <a:pt x="290" y="121"/>
                      </a:lnTo>
                      <a:lnTo>
                        <a:pt x="271" y="119"/>
                      </a:lnTo>
                      <a:lnTo>
                        <a:pt x="253" y="115"/>
                      </a:lnTo>
                      <a:lnTo>
                        <a:pt x="234" y="110"/>
                      </a:lnTo>
                      <a:lnTo>
                        <a:pt x="216" y="106"/>
                      </a:lnTo>
                      <a:lnTo>
                        <a:pt x="197" y="101"/>
                      </a:lnTo>
                      <a:lnTo>
                        <a:pt x="180" y="94"/>
                      </a:lnTo>
                      <a:lnTo>
                        <a:pt x="162" y="89"/>
                      </a:lnTo>
                      <a:lnTo>
                        <a:pt x="145" y="81"/>
                      </a:lnTo>
                      <a:lnTo>
                        <a:pt x="128" y="75"/>
                      </a:lnTo>
                      <a:lnTo>
                        <a:pt x="110" y="68"/>
                      </a:lnTo>
                      <a:lnTo>
                        <a:pt x="92" y="60"/>
                      </a:lnTo>
                      <a:lnTo>
                        <a:pt x="75" y="54"/>
                      </a:lnTo>
                      <a:lnTo>
                        <a:pt x="58" y="46"/>
                      </a:lnTo>
                      <a:lnTo>
                        <a:pt x="41" y="39"/>
                      </a:lnTo>
                      <a:lnTo>
                        <a:pt x="36" y="35"/>
                      </a:lnTo>
                      <a:lnTo>
                        <a:pt x="29" y="32"/>
                      </a:lnTo>
                      <a:lnTo>
                        <a:pt x="24" y="29"/>
                      </a:lnTo>
                      <a:lnTo>
                        <a:pt x="19" y="25"/>
                      </a:lnTo>
                      <a:lnTo>
                        <a:pt x="13" y="22"/>
                      </a:lnTo>
                      <a:lnTo>
                        <a:pt x="8" y="16"/>
                      </a:lnTo>
                      <a:lnTo>
                        <a:pt x="4" y="11"/>
                      </a:lnTo>
                      <a:lnTo>
                        <a:pt x="0" y="6"/>
                      </a:lnTo>
                      <a:lnTo>
                        <a:pt x="7" y="1"/>
                      </a:lnTo>
                      <a:lnTo>
                        <a:pt x="12" y="0"/>
                      </a:lnTo>
                      <a:lnTo>
                        <a:pt x="19" y="0"/>
                      </a:lnTo>
                      <a:lnTo>
                        <a:pt x="26" y="2"/>
                      </a:lnTo>
                      <a:lnTo>
                        <a:pt x="32" y="4"/>
                      </a:lnTo>
                      <a:lnTo>
                        <a:pt x="39" y="7"/>
                      </a:lnTo>
                      <a:lnTo>
                        <a:pt x="46" y="7"/>
                      </a:lnTo>
                      <a:lnTo>
                        <a:pt x="54" y="6"/>
                      </a:lnTo>
                      <a:lnTo>
                        <a:pt x="65" y="7"/>
                      </a:lnTo>
                      <a:lnTo>
                        <a:pt x="75" y="6"/>
                      </a:lnTo>
                      <a:lnTo>
                        <a:pt x="85" y="6"/>
                      </a:lnTo>
                      <a:lnTo>
                        <a:pt x="95" y="4"/>
                      </a:lnTo>
                      <a:lnTo>
                        <a:pt x="103" y="6"/>
                      </a:lnTo>
                      <a:lnTo>
                        <a:pt x="113" y="7"/>
                      </a:lnTo>
                      <a:lnTo>
                        <a:pt x="121" y="11"/>
                      </a:lnTo>
                      <a:lnTo>
                        <a:pt x="130" y="16"/>
                      </a:lnTo>
                      <a:close/>
                    </a:path>
                  </a:pathLst>
                </a:custGeom>
                <a:solidFill>
                  <a:srgbClr val="8959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nvGrpSpPr>
              <p:cNvPr id="2419" name=""/>
              <p:cNvGrpSpPr/>
              <p:nvPr/>
            </p:nvGrpSpPr>
            <p:grpSpPr>
              <a:xfrm>
                <a:off x="1057680" y="3731400"/>
                <a:ext cx="773640" cy="750960"/>
                <a:chOff x="1057680" y="3731400"/>
                <a:chExt cx="773640" cy="750960"/>
              </a:xfrm>
            </p:grpSpPr>
            <p:sp>
              <p:nvSpPr>
                <p:cNvPr id="2420" name=""/>
                <p:cNvSpPr/>
                <p:nvPr/>
              </p:nvSpPr>
              <p:spPr>
                <a:xfrm flipH="1">
                  <a:off x="1057320" y="3731400"/>
                  <a:ext cx="773640" cy="750960"/>
                </a:xfrm>
                <a:custGeom>
                  <a:avLst/>
                  <a:gdLst/>
                  <a:ahLst/>
                  <a:rect l="l" t="t" r="r" b="b"/>
                  <a:pathLst>
                    <a:path w="4466" h="4110">
                      <a:moveTo>
                        <a:pt x="3524" y="35"/>
                      </a:moveTo>
                      <a:lnTo>
                        <a:pt x="3530" y="48"/>
                      </a:lnTo>
                      <a:lnTo>
                        <a:pt x="3539" y="60"/>
                      </a:lnTo>
                      <a:lnTo>
                        <a:pt x="3549" y="72"/>
                      </a:lnTo>
                      <a:lnTo>
                        <a:pt x="3560" y="82"/>
                      </a:lnTo>
                      <a:lnTo>
                        <a:pt x="3570" y="94"/>
                      </a:lnTo>
                      <a:lnTo>
                        <a:pt x="3578" y="107"/>
                      </a:lnTo>
                      <a:lnTo>
                        <a:pt x="3585" y="120"/>
                      </a:lnTo>
                      <a:lnTo>
                        <a:pt x="3588" y="135"/>
                      </a:lnTo>
                      <a:lnTo>
                        <a:pt x="3615" y="204"/>
                      </a:lnTo>
                      <a:lnTo>
                        <a:pt x="3638" y="274"/>
                      </a:lnTo>
                      <a:lnTo>
                        <a:pt x="3660" y="345"/>
                      </a:lnTo>
                      <a:lnTo>
                        <a:pt x="3678" y="417"/>
                      </a:lnTo>
                      <a:lnTo>
                        <a:pt x="3694" y="489"/>
                      </a:lnTo>
                      <a:lnTo>
                        <a:pt x="3709" y="563"/>
                      </a:lnTo>
                      <a:lnTo>
                        <a:pt x="3722" y="638"/>
                      </a:lnTo>
                      <a:lnTo>
                        <a:pt x="3735" y="714"/>
                      </a:lnTo>
                      <a:lnTo>
                        <a:pt x="3745" y="708"/>
                      </a:lnTo>
                      <a:lnTo>
                        <a:pt x="3755" y="701"/>
                      </a:lnTo>
                      <a:lnTo>
                        <a:pt x="3762" y="691"/>
                      </a:lnTo>
                      <a:lnTo>
                        <a:pt x="3771" y="683"/>
                      </a:lnTo>
                      <a:lnTo>
                        <a:pt x="3779" y="674"/>
                      </a:lnTo>
                      <a:lnTo>
                        <a:pt x="3788" y="667"/>
                      </a:lnTo>
                      <a:lnTo>
                        <a:pt x="3800" y="663"/>
                      </a:lnTo>
                      <a:lnTo>
                        <a:pt x="3814" y="660"/>
                      </a:lnTo>
                      <a:lnTo>
                        <a:pt x="3828" y="666"/>
                      </a:lnTo>
                      <a:lnTo>
                        <a:pt x="3837" y="675"/>
                      </a:lnTo>
                      <a:lnTo>
                        <a:pt x="3843" y="688"/>
                      </a:lnTo>
                      <a:lnTo>
                        <a:pt x="3845" y="702"/>
                      </a:lnTo>
                      <a:lnTo>
                        <a:pt x="3846" y="717"/>
                      </a:lnTo>
                      <a:lnTo>
                        <a:pt x="3847" y="733"/>
                      </a:lnTo>
                      <a:lnTo>
                        <a:pt x="3848" y="748"/>
                      </a:lnTo>
                      <a:lnTo>
                        <a:pt x="3852" y="761"/>
                      </a:lnTo>
                      <a:lnTo>
                        <a:pt x="3866" y="828"/>
                      </a:lnTo>
                      <a:lnTo>
                        <a:pt x="3880" y="899"/>
                      </a:lnTo>
                      <a:lnTo>
                        <a:pt x="3893" y="970"/>
                      </a:lnTo>
                      <a:lnTo>
                        <a:pt x="3901" y="1042"/>
                      </a:lnTo>
                      <a:lnTo>
                        <a:pt x="3901" y="1112"/>
                      </a:lnTo>
                      <a:lnTo>
                        <a:pt x="3892" y="1182"/>
                      </a:lnTo>
                      <a:lnTo>
                        <a:pt x="3871" y="1248"/>
                      </a:lnTo>
                      <a:lnTo>
                        <a:pt x="3834" y="1310"/>
                      </a:lnTo>
                      <a:lnTo>
                        <a:pt x="3840" y="1314"/>
                      </a:lnTo>
                      <a:lnTo>
                        <a:pt x="3850" y="1310"/>
                      </a:lnTo>
                      <a:lnTo>
                        <a:pt x="3860" y="1304"/>
                      </a:lnTo>
                      <a:lnTo>
                        <a:pt x="3872" y="1297"/>
                      </a:lnTo>
                      <a:lnTo>
                        <a:pt x="3882" y="1292"/>
                      </a:lnTo>
                      <a:lnTo>
                        <a:pt x="3894" y="1285"/>
                      </a:lnTo>
                      <a:lnTo>
                        <a:pt x="3905" y="1281"/>
                      </a:lnTo>
                      <a:lnTo>
                        <a:pt x="3917" y="1279"/>
                      </a:lnTo>
                      <a:lnTo>
                        <a:pt x="3928" y="1279"/>
                      </a:lnTo>
                      <a:lnTo>
                        <a:pt x="3932" y="1295"/>
                      </a:lnTo>
                      <a:lnTo>
                        <a:pt x="3931" y="1310"/>
                      </a:lnTo>
                      <a:lnTo>
                        <a:pt x="3926" y="1326"/>
                      </a:lnTo>
                      <a:lnTo>
                        <a:pt x="3921" y="1340"/>
                      </a:lnTo>
                      <a:lnTo>
                        <a:pt x="3920" y="1414"/>
                      </a:lnTo>
                      <a:lnTo>
                        <a:pt x="3914" y="1489"/>
                      </a:lnTo>
                      <a:lnTo>
                        <a:pt x="3907" y="1564"/>
                      </a:lnTo>
                      <a:lnTo>
                        <a:pt x="3895" y="1637"/>
                      </a:lnTo>
                      <a:lnTo>
                        <a:pt x="3877" y="1656"/>
                      </a:lnTo>
                      <a:lnTo>
                        <a:pt x="3860" y="1676"/>
                      </a:lnTo>
                      <a:lnTo>
                        <a:pt x="3843" y="1694"/>
                      </a:lnTo>
                      <a:lnTo>
                        <a:pt x="3826" y="1712"/>
                      </a:lnTo>
                      <a:lnTo>
                        <a:pt x="3810" y="1729"/>
                      </a:lnTo>
                      <a:lnTo>
                        <a:pt x="3792" y="1746"/>
                      </a:lnTo>
                      <a:lnTo>
                        <a:pt x="3775" y="1763"/>
                      </a:lnTo>
                      <a:lnTo>
                        <a:pt x="3758" y="1779"/>
                      </a:lnTo>
                      <a:lnTo>
                        <a:pt x="3740" y="1795"/>
                      </a:lnTo>
                      <a:lnTo>
                        <a:pt x="3722" y="1811"/>
                      </a:lnTo>
                      <a:lnTo>
                        <a:pt x="3704" y="1827"/>
                      </a:lnTo>
                      <a:lnTo>
                        <a:pt x="3684" y="1842"/>
                      </a:lnTo>
                      <a:lnTo>
                        <a:pt x="3664" y="1858"/>
                      </a:lnTo>
                      <a:lnTo>
                        <a:pt x="3644" y="1873"/>
                      </a:lnTo>
                      <a:lnTo>
                        <a:pt x="3621" y="1889"/>
                      </a:lnTo>
                      <a:lnTo>
                        <a:pt x="3599" y="1904"/>
                      </a:lnTo>
                      <a:lnTo>
                        <a:pt x="3599" y="1908"/>
                      </a:lnTo>
                      <a:lnTo>
                        <a:pt x="3614" y="1906"/>
                      </a:lnTo>
                      <a:lnTo>
                        <a:pt x="3629" y="1903"/>
                      </a:lnTo>
                      <a:lnTo>
                        <a:pt x="3644" y="1900"/>
                      </a:lnTo>
                      <a:lnTo>
                        <a:pt x="3660" y="1896"/>
                      </a:lnTo>
                      <a:lnTo>
                        <a:pt x="3675" y="1891"/>
                      </a:lnTo>
                      <a:lnTo>
                        <a:pt x="3690" y="1887"/>
                      </a:lnTo>
                      <a:lnTo>
                        <a:pt x="3705" y="1884"/>
                      </a:lnTo>
                      <a:lnTo>
                        <a:pt x="3720" y="1883"/>
                      </a:lnTo>
                      <a:lnTo>
                        <a:pt x="3730" y="1889"/>
                      </a:lnTo>
                      <a:lnTo>
                        <a:pt x="3741" y="1895"/>
                      </a:lnTo>
                      <a:lnTo>
                        <a:pt x="3752" y="1899"/>
                      </a:lnTo>
                      <a:lnTo>
                        <a:pt x="3764" y="1902"/>
                      </a:lnTo>
                      <a:lnTo>
                        <a:pt x="3774" y="1906"/>
                      </a:lnTo>
                      <a:lnTo>
                        <a:pt x="3785" y="1911"/>
                      </a:lnTo>
                      <a:lnTo>
                        <a:pt x="3796" y="1916"/>
                      </a:lnTo>
                      <a:lnTo>
                        <a:pt x="3806" y="1921"/>
                      </a:lnTo>
                      <a:lnTo>
                        <a:pt x="3817" y="1921"/>
                      </a:lnTo>
                      <a:lnTo>
                        <a:pt x="3835" y="1935"/>
                      </a:lnTo>
                      <a:lnTo>
                        <a:pt x="3852" y="1949"/>
                      </a:lnTo>
                      <a:lnTo>
                        <a:pt x="3868" y="1962"/>
                      </a:lnTo>
                      <a:lnTo>
                        <a:pt x="3885" y="1976"/>
                      </a:lnTo>
                      <a:lnTo>
                        <a:pt x="3901" y="1990"/>
                      </a:lnTo>
                      <a:lnTo>
                        <a:pt x="3916" y="2004"/>
                      </a:lnTo>
                      <a:lnTo>
                        <a:pt x="3931" y="2017"/>
                      </a:lnTo>
                      <a:lnTo>
                        <a:pt x="3947" y="2032"/>
                      </a:lnTo>
                      <a:lnTo>
                        <a:pt x="3937" y="2056"/>
                      </a:lnTo>
                      <a:lnTo>
                        <a:pt x="3925" y="2075"/>
                      </a:lnTo>
                      <a:lnTo>
                        <a:pt x="3911" y="2092"/>
                      </a:lnTo>
                      <a:lnTo>
                        <a:pt x="3895" y="2107"/>
                      </a:lnTo>
                      <a:lnTo>
                        <a:pt x="3880" y="2123"/>
                      </a:lnTo>
                      <a:lnTo>
                        <a:pt x="3864" y="2139"/>
                      </a:lnTo>
                      <a:lnTo>
                        <a:pt x="3848" y="2157"/>
                      </a:lnTo>
                      <a:lnTo>
                        <a:pt x="3834" y="2180"/>
                      </a:lnTo>
                      <a:lnTo>
                        <a:pt x="3820" y="2191"/>
                      </a:lnTo>
                      <a:lnTo>
                        <a:pt x="3807" y="2201"/>
                      </a:lnTo>
                      <a:lnTo>
                        <a:pt x="3793" y="2211"/>
                      </a:lnTo>
                      <a:lnTo>
                        <a:pt x="3780" y="2220"/>
                      </a:lnTo>
                      <a:lnTo>
                        <a:pt x="3766" y="2230"/>
                      </a:lnTo>
                      <a:lnTo>
                        <a:pt x="3752" y="2240"/>
                      </a:lnTo>
                      <a:lnTo>
                        <a:pt x="3738" y="2250"/>
                      </a:lnTo>
                      <a:lnTo>
                        <a:pt x="3725" y="2261"/>
                      </a:lnTo>
                      <a:lnTo>
                        <a:pt x="3713" y="2260"/>
                      </a:lnTo>
                      <a:lnTo>
                        <a:pt x="3701" y="2260"/>
                      </a:lnTo>
                      <a:lnTo>
                        <a:pt x="3690" y="2262"/>
                      </a:lnTo>
                      <a:lnTo>
                        <a:pt x="3677" y="2264"/>
                      </a:lnTo>
                      <a:lnTo>
                        <a:pt x="3665" y="2267"/>
                      </a:lnTo>
                      <a:lnTo>
                        <a:pt x="3653" y="2271"/>
                      </a:lnTo>
                      <a:lnTo>
                        <a:pt x="3641" y="2275"/>
                      </a:lnTo>
                      <a:lnTo>
                        <a:pt x="3631" y="2279"/>
                      </a:lnTo>
                      <a:lnTo>
                        <a:pt x="3615" y="2280"/>
                      </a:lnTo>
                      <a:lnTo>
                        <a:pt x="3601" y="2284"/>
                      </a:lnTo>
                      <a:lnTo>
                        <a:pt x="3586" y="2289"/>
                      </a:lnTo>
                      <a:lnTo>
                        <a:pt x="3572" y="2293"/>
                      </a:lnTo>
                      <a:lnTo>
                        <a:pt x="3558" y="2298"/>
                      </a:lnTo>
                      <a:lnTo>
                        <a:pt x="3544" y="2303"/>
                      </a:lnTo>
                      <a:lnTo>
                        <a:pt x="3529" y="2306"/>
                      </a:lnTo>
                      <a:lnTo>
                        <a:pt x="3513" y="2307"/>
                      </a:lnTo>
                      <a:lnTo>
                        <a:pt x="3508" y="2308"/>
                      </a:lnTo>
                      <a:lnTo>
                        <a:pt x="3501" y="2308"/>
                      </a:lnTo>
                      <a:lnTo>
                        <a:pt x="3494" y="2307"/>
                      </a:lnTo>
                      <a:lnTo>
                        <a:pt x="3486" y="2307"/>
                      </a:lnTo>
                      <a:lnTo>
                        <a:pt x="3479" y="2307"/>
                      </a:lnTo>
                      <a:lnTo>
                        <a:pt x="3472" y="2308"/>
                      </a:lnTo>
                      <a:lnTo>
                        <a:pt x="3465" y="2310"/>
                      </a:lnTo>
                      <a:lnTo>
                        <a:pt x="3459" y="2315"/>
                      </a:lnTo>
                      <a:lnTo>
                        <a:pt x="3474" y="2320"/>
                      </a:lnTo>
                      <a:lnTo>
                        <a:pt x="3489" y="2324"/>
                      </a:lnTo>
                      <a:lnTo>
                        <a:pt x="3507" y="2325"/>
                      </a:lnTo>
                      <a:lnTo>
                        <a:pt x="3523" y="2327"/>
                      </a:lnTo>
                      <a:lnTo>
                        <a:pt x="3539" y="2329"/>
                      </a:lnTo>
                      <a:lnTo>
                        <a:pt x="3554" y="2334"/>
                      </a:lnTo>
                      <a:lnTo>
                        <a:pt x="3567" y="2340"/>
                      </a:lnTo>
                      <a:lnTo>
                        <a:pt x="3577" y="2351"/>
                      </a:lnTo>
                      <a:lnTo>
                        <a:pt x="3582" y="2378"/>
                      </a:lnTo>
                      <a:lnTo>
                        <a:pt x="3578" y="2403"/>
                      </a:lnTo>
                      <a:lnTo>
                        <a:pt x="3571" y="2426"/>
                      </a:lnTo>
                      <a:lnTo>
                        <a:pt x="3560" y="2447"/>
                      </a:lnTo>
                      <a:lnTo>
                        <a:pt x="3546" y="2467"/>
                      </a:lnTo>
                      <a:lnTo>
                        <a:pt x="3530" y="2487"/>
                      </a:lnTo>
                      <a:lnTo>
                        <a:pt x="3514" y="2507"/>
                      </a:lnTo>
                      <a:lnTo>
                        <a:pt x="3499" y="2526"/>
                      </a:lnTo>
                      <a:lnTo>
                        <a:pt x="3485" y="2535"/>
                      </a:lnTo>
                      <a:lnTo>
                        <a:pt x="3471" y="2543"/>
                      </a:lnTo>
                      <a:lnTo>
                        <a:pt x="3457" y="2551"/>
                      </a:lnTo>
                      <a:lnTo>
                        <a:pt x="3442" y="2558"/>
                      </a:lnTo>
                      <a:lnTo>
                        <a:pt x="3427" y="2565"/>
                      </a:lnTo>
                      <a:lnTo>
                        <a:pt x="3412" y="2571"/>
                      </a:lnTo>
                      <a:lnTo>
                        <a:pt x="3396" y="2577"/>
                      </a:lnTo>
                      <a:lnTo>
                        <a:pt x="3380" y="2583"/>
                      </a:lnTo>
                      <a:lnTo>
                        <a:pt x="3364" y="2587"/>
                      </a:lnTo>
                      <a:lnTo>
                        <a:pt x="3348" y="2591"/>
                      </a:lnTo>
                      <a:lnTo>
                        <a:pt x="3332" y="2594"/>
                      </a:lnTo>
                      <a:lnTo>
                        <a:pt x="3315" y="2598"/>
                      </a:lnTo>
                      <a:lnTo>
                        <a:pt x="3299" y="2601"/>
                      </a:lnTo>
                      <a:lnTo>
                        <a:pt x="3282" y="2602"/>
                      </a:lnTo>
                      <a:lnTo>
                        <a:pt x="3265" y="2603"/>
                      </a:lnTo>
                      <a:lnTo>
                        <a:pt x="3247" y="2604"/>
                      </a:lnTo>
                      <a:lnTo>
                        <a:pt x="3257" y="2611"/>
                      </a:lnTo>
                      <a:lnTo>
                        <a:pt x="3267" y="2619"/>
                      </a:lnTo>
                      <a:lnTo>
                        <a:pt x="3275" y="2629"/>
                      </a:lnTo>
                      <a:lnTo>
                        <a:pt x="3284" y="2638"/>
                      </a:lnTo>
                      <a:lnTo>
                        <a:pt x="3293" y="2646"/>
                      </a:lnTo>
                      <a:lnTo>
                        <a:pt x="3303" y="2651"/>
                      </a:lnTo>
                      <a:lnTo>
                        <a:pt x="3313" y="2652"/>
                      </a:lnTo>
                      <a:lnTo>
                        <a:pt x="3323" y="2647"/>
                      </a:lnTo>
                      <a:lnTo>
                        <a:pt x="3343" y="2644"/>
                      </a:lnTo>
                      <a:lnTo>
                        <a:pt x="3362" y="2643"/>
                      </a:lnTo>
                      <a:lnTo>
                        <a:pt x="3381" y="2644"/>
                      </a:lnTo>
                      <a:lnTo>
                        <a:pt x="3399" y="2648"/>
                      </a:lnTo>
                      <a:lnTo>
                        <a:pt x="3417" y="2654"/>
                      </a:lnTo>
                      <a:lnTo>
                        <a:pt x="3433" y="2665"/>
                      </a:lnTo>
                      <a:lnTo>
                        <a:pt x="3447" y="2678"/>
                      </a:lnTo>
                      <a:lnTo>
                        <a:pt x="3459" y="2694"/>
                      </a:lnTo>
                      <a:lnTo>
                        <a:pt x="3459" y="2700"/>
                      </a:lnTo>
                      <a:lnTo>
                        <a:pt x="3471" y="2698"/>
                      </a:lnTo>
                      <a:lnTo>
                        <a:pt x="3483" y="2696"/>
                      </a:lnTo>
                      <a:lnTo>
                        <a:pt x="3495" y="2695"/>
                      </a:lnTo>
                      <a:lnTo>
                        <a:pt x="3507" y="2694"/>
                      </a:lnTo>
                      <a:lnTo>
                        <a:pt x="3517" y="2693"/>
                      </a:lnTo>
                      <a:lnTo>
                        <a:pt x="3528" y="2693"/>
                      </a:lnTo>
                      <a:lnTo>
                        <a:pt x="3539" y="2693"/>
                      </a:lnTo>
                      <a:lnTo>
                        <a:pt x="3549" y="2693"/>
                      </a:lnTo>
                      <a:lnTo>
                        <a:pt x="3560" y="2694"/>
                      </a:lnTo>
                      <a:lnTo>
                        <a:pt x="3571" y="2694"/>
                      </a:lnTo>
                      <a:lnTo>
                        <a:pt x="3583" y="2695"/>
                      </a:lnTo>
                      <a:lnTo>
                        <a:pt x="3593" y="2697"/>
                      </a:lnTo>
                      <a:lnTo>
                        <a:pt x="3605" y="2698"/>
                      </a:lnTo>
                      <a:lnTo>
                        <a:pt x="3617" y="2700"/>
                      </a:lnTo>
                      <a:lnTo>
                        <a:pt x="3629" y="2703"/>
                      </a:lnTo>
                      <a:lnTo>
                        <a:pt x="3641" y="2706"/>
                      </a:lnTo>
                      <a:lnTo>
                        <a:pt x="3653" y="2712"/>
                      </a:lnTo>
                      <a:lnTo>
                        <a:pt x="3662" y="2724"/>
                      </a:lnTo>
                      <a:lnTo>
                        <a:pt x="3669" y="2738"/>
                      </a:lnTo>
                      <a:lnTo>
                        <a:pt x="3677" y="2753"/>
                      </a:lnTo>
                      <a:lnTo>
                        <a:pt x="3684" y="2764"/>
                      </a:lnTo>
                      <a:lnTo>
                        <a:pt x="3695" y="2771"/>
                      </a:lnTo>
                      <a:lnTo>
                        <a:pt x="3708" y="2768"/>
                      </a:lnTo>
                      <a:lnTo>
                        <a:pt x="3725" y="2754"/>
                      </a:lnTo>
                      <a:lnTo>
                        <a:pt x="3730" y="2754"/>
                      </a:lnTo>
                      <a:lnTo>
                        <a:pt x="3735" y="2754"/>
                      </a:lnTo>
                      <a:lnTo>
                        <a:pt x="3740" y="2754"/>
                      </a:lnTo>
                      <a:lnTo>
                        <a:pt x="3745" y="2755"/>
                      </a:lnTo>
                      <a:lnTo>
                        <a:pt x="3751" y="2754"/>
                      </a:lnTo>
                      <a:lnTo>
                        <a:pt x="3755" y="2753"/>
                      </a:lnTo>
                      <a:lnTo>
                        <a:pt x="3759" y="2750"/>
                      </a:lnTo>
                      <a:lnTo>
                        <a:pt x="3764" y="2746"/>
                      </a:lnTo>
                      <a:lnTo>
                        <a:pt x="3780" y="2744"/>
                      </a:lnTo>
                      <a:lnTo>
                        <a:pt x="3796" y="2743"/>
                      </a:lnTo>
                      <a:lnTo>
                        <a:pt x="3811" y="2743"/>
                      </a:lnTo>
                      <a:lnTo>
                        <a:pt x="3827" y="2745"/>
                      </a:lnTo>
                      <a:lnTo>
                        <a:pt x="3842" y="2747"/>
                      </a:lnTo>
                      <a:lnTo>
                        <a:pt x="3857" y="2752"/>
                      </a:lnTo>
                      <a:lnTo>
                        <a:pt x="3872" y="2757"/>
                      </a:lnTo>
                      <a:lnTo>
                        <a:pt x="3887" y="2763"/>
                      </a:lnTo>
                      <a:lnTo>
                        <a:pt x="3901" y="2771"/>
                      </a:lnTo>
                      <a:lnTo>
                        <a:pt x="3914" y="2779"/>
                      </a:lnTo>
                      <a:lnTo>
                        <a:pt x="3927" y="2789"/>
                      </a:lnTo>
                      <a:lnTo>
                        <a:pt x="3939" y="2799"/>
                      </a:lnTo>
                      <a:lnTo>
                        <a:pt x="3951" y="2810"/>
                      </a:lnTo>
                      <a:lnTo>
                        <a:pt x="3963" y="2822"/>
                      </a:lnTo>
                      <a:lnTo>
                        <a:pt x="3972" y="2835"/>
                      </a:lnTo>
                      <a:lnTo>
                        <a:pt x="3982" y="2848"/>
                      </a:lnTo>
                      <a:lnTo>
                        <a:pt x="3992" y="2846"/>
                      </a:lnTo>
                      <a:lnTo>
                        <a:pt x="4000" y="2842"/>
                      </a:lnTo>
                      <a:lnTo>
                        <a:pt x="4009" y="2839"/>
                      </a:lnTo>
                      <a:lnTo>
                        <a:pt x="4017" y="2835"/>
                      </a:lnTo>
                      <a:lnTo>
                        <a:pt x="4024" y="2830"/>
                      </a:lnTo>
                      <a:lnTo>
                        <a:pt x="4031" y="2824"/>
                      </a:lnTo>
                      <a:lnTo>
                        <a:pt x="4038" y="2819"/>
                      </a:lnTo>
                      <a:lnTo>
                        <a:pt x="4043" y="2812"/>
                      </a:lnTo>
                      <a:lnTo>
                        <a:pt x="4054" y="2809"/>
                      </a:lnTo>
                      <a:lnTo>
                        <a:pt x="4064" y="2805"/>
                      </a:lnTo>
                      <a:lnTo>
                        <a:pt x="4075" y="2801"/>
                      </a:lnTo>
                      <a:lnTo>
                        <a:pt x="4085" y="2795"/>
                      </a:lnTo>
                      <a:lnTo>
                        <a:pt x="4094" y="2789"/>
                      </a:lnTo>
                      <a:lnTo>
                        <a:pt x="4103" y="2783"/>
                      </a:lnTo>
                      <a:lnTo>
                        <a:pt x="4113" y="2776"/>
                      </a:lnTo>
                      <a:lnTo>
                        <a:pt x="4121" y="2769"/>
                      </a:lnTo>
                      <a:lnTo>
                        <a:pt x="4136" y="2762"/>
                      </a:lnTo>
                      <a:lnTo>
                        <a:pt x="4152" y="2756"/>
                      </a:lnTo>
                      <a:lnTo>
                        <a:pt x="4167" y="2749"/>
                      </a:lnTo>
                      <a:lnTo>
                        <a:pt x="4183" y="2743"/>
                      </a:lnTo>
                      <a:lnTo>
                        <a:pt x="4199" y="2736"/>
                      </a:lnTo>
                      <a:lnTo>
                        <a:pt x="4214" y="2729"/>
                      </a:lnTo>
                      <a:lnTo>
                        <a:pt x="4230" y="2722"/>
                      </a:lnTo>
                      <a:lnTo>
                        <a:pt x="4246" y="2715"/>
                      </a:lnTo>
                      <a:lnTo>
                        <a:pt x="4262" y="2708"/>
                      </a:lnTo>
                      <a:lnTo>
                        <a:pt x="4279" y="2701"/>
                      </a:lnTo>
                      <a:lnTo>
                        <a:pt x="4295" y="2695"/>
                      </a:lnTo>
                      <a:lnTo>
                        <a:pt x="4311" y="2689"/>
                      </a:lnTo>
                      <a:lnTo>
                        <a:pt x="4327" y="2683"/>
                      </a:lnTo>
                      <a:lnTo>
                        <a:pt x="4343" y="2678"/>
                      </a:lnTo>
                      <a:lnTo>
                        <a:pt x="4359" y="2672"/>
                      </a:lnTo>
                      <a:lnTo>
                        <a:pt x="4376" y="2668"/>
                      </a:lnTo>
                      <a:lnTo>
                        <a:pt x="4387" y="2669"/>
                      </a:lnTo>
                      <a:lnTo>
                        <a:pt x="4398" y="2669"/>
                      </a:lnTo>
                      <a:lnTo>
                        <a:pt x="4411" y="2668"/>
                      </a:lnTo>
                      <a:lnTo>
                        <a:pt x="4424" y="2668"/>
                      </a:lnTo>
                      <a:lnTo>
                        <a:pt x="4437" y="2669"/>
                      </a:lnTo>
                      <a:lnTo>
                        <a:pt x="4448" y="2672"/>
                      </a:lnTo>
                      <a:lnTo>
                        <a:pt x="4457" y="2680"/>
                      </a:lnTo>
                      <a:lnTo>
                        <a:pt x="4464" y="2691"/>
                      </a:lnTo>
                      <a:lnTo>
                        <a:pt x="4466" y="2714"/>
                      </a:lnTo>
                      <a:lnTo>
                        <a:pt x="4464" y="2737"/>
                      </a:lnTo>
                      <a:lnTo>
                        <a:pt x="4459" y="2756"/>
                      </a:lnTo>
                      <a:lnTo>
                        <a:pt x="4451" y="2775"/>
                      </a:lnTo>
                      <a:lnTo>
                        <a:pt x="4441" y="2791"/>
                      </a:lnTo>
                      <a:lnTo>
                        <a:pt x="4428" y="2807"/>
                      </a:lnTo>
                      <a:lnTo>
                        <a:pt x="4414" y="2821"/>
                      </a:lnTo>
                      <a:lnTo>
                        <a:pt x="4398" y="2834"/>
                      </a:lnTo>
                      <a:lnTo>
                        <a:pt x="4381" y="2847"/>
                      </a:lnTo>
                      <a:lnTo>
                        <a:pt x="4363" y="2858"/>
                      </a:lnTo>
                      <a:lnTo>
                        <a:pt x="4344" y="2869"/>
                      </a:lnTo>
                      <a:lnTo>
                        <a:pt x="4325" y="2881"/>
                      </a:lnTo>
                      <a:lnTo>
                        <a:pt x="4305" y="2892"/>
                      </a:lnTo>
                      <a:lnTo>
                        <a:pt x="4286" y="2903"/>
                      </a:lnTo>
                      <a:lnTo>
                        <a:pt x="4268" y="2915"/>
                      </a:lnTo>
                      <a:lnTo>
                        <a:pt x="4251" y="2927"/>
                      </a:lnTo>
                      <a:lnTo>
                        <a:pt x="4240" y="2925"/>
                      </a:lnTo>
                      <a:lnTo>
                        <a:pt x="4230" y="2926"/>
                      </a:lnTo>
                      <a:lnTo>
                        <a:pt x="4221" y="2929"/>
                      </a:lnTo>
                      <a:lnTo>
                        <a:pt x="4212" y="2933"/>
                      </a:lnTo>
                      <a:lnTo>
                        <a:pt x="4204" y="2939"/>
                      </a:lnTo>
                      <a:lnTo>
                        <a:pt x="4194" y="2944"/>
                      </a:lnTo>
                      <a:lnTo>
                        <a:pt x="4185" y="2948"/>
                      </a:lnTo>
                      <a:lnTo>
                        <a:pt x="4176" y="2951"/>
                      </a:lnTo>
                      <a:lnTo>
                        <a:pt x="4141" y="2965"/>
                      </a:lnTo>
                      <a:lnTo>
                        <a:pt x="4106" y="2978"/>
                      </a:lnTo>
                      <a:lnTo>
                        <a:pt x="4071" y="2989"/>
                      </a:lnTo>
                      <a:lnTo>
                        <a:pt x="4035" y="2999"/>
                      </a:lnTo>
                      <a:lnTo>
                        <a:pt x="3999" y="3008"/>
                      </a:lnTo>
                      <a:lnTo>
                        <a:pt x="3963" y="3015"/>
                      </a:lnTo>
                      <a:lnTo>
                        <a:pt x="3926" y="3023"/>
                      </a:lnTo>
                      <a:lnTo>
                        <a:pt x="3890" y="3028"/>
                      </a:lnTo>
                      <a:lnTo>
                        <a:pt x="3853" y="3034"/>
                      </a:lnTo>
                      <a:lnTo>
                        <a:pt x="3816" y="3038"/>
                      </a:lnTo>
                      <a:lnTo>
                        <a:pt x="3780" y="3042"/>
                      </a:lnTo>
                      <a:lnTo>
                        <a:pt x="3742" y="3045"/>
                      </a:lnTo>
                      <a:lnTo>
                        <a:pt x="3706" y="3048"/>
                      </a:lnTo>
                      <a:lnTo>
                        <a:pt x="3669" y="3051"/>
                      </a:lnTo>
                      <a:lnTo>
                        <a:pt x="3632" y="3053"/>
                      </a:lnTo>
                      <a:lnTo>
                        <a:pt x="3595" y="3055"/>
                      </a:lnTo>
                      <a:lnTo>
                        <a:pt x="3590" y="3049"/>
                      </a:lnTo>
                      <a:lnTo>
                        <a:pt x="3584" y="3049"/>
                      </a:lnTo>
                      <a:lnTo>
                        <a:pt x="3577" y="3053"/>
                      </a:lnTo>
                      <a:lnTo>
                        <a:pt x="3570" y="3055"/>
                      </a:lnTo>
                      <a:lnTo>
                        <a:pt x="3549" y="3053"/>
                      </a:lnTo>
                      <a:lnTo>
                        <a:pt x="3528" y="3051"/>
                      </a:lnTo>
                      <a:lnTo>
                        <a:pt x="3507" y="3050"/>
                      </a:lnTo>
                      <a:lnTo>
                        <a:pt x="3485" y="3049"/>
                      </a:lnTo>
                      <a:lnTo>
                        <a:pt x="3464" y="3048"/>
                      </a:lnTo>
                      <a:lnTo>
                        <a:pt x="3441" y="3048"/>
                      </a:lnTo>
                      <a:lnTo>
                        <a:pt x="3420" y="3048"/>
                      </a:lnTo>
                      <a:lnTo>
                        <a:pt x="3398" y="3048"/>
                      </a:lnTo>
                      <a:lnTo>
                        <a:pt x="3376" y="3049"/>
                      </a:lnTo>
                      <a:lnTo>
                        <a:pt x="3355" y="3050"/>
                      </a:lnTo>
                      <a:lnTo>
                        <a:pt x="3333" y="3052"/>
                      </a:lnTo>
                      <a:lnTo>
                        <a:pt x="3312" y="3054"/>
                      </a:lnTo>
                      <a:lnTo>
                        <a:pt x="3290" y="3057"/>
                      </a:lnTo>
                      <a:lnTo>
                        <a:pt x="3270" y="3060"/>
                      </a:lnTo>
                      <a:lnTo>
                        <a:pt x="3250" y="3065"/>
                      </a:lnTo>
                      <a:lnTo>
                        <a:pt x="3229" y="3069"/>
                      </a:lnTo>
                      <a:lnTo>
                        <a:pt x="3200" y="3088"/>
                      </a:lnTo>
                      <a:lnTo>
                        <a:pt x="3171" y="3106"/>
                      </a:lnTo>
                      <a:lnTo>
                        <a:pt x="3141" y="3124"/>
                      </a:lnTo>
                      <a:lnTo>
                        <a:pt x="3111" y="3141"/>
                      </a:lnTo>
                      <a:lnTo>
                        <a:pt x="3080" y="3157"/>
                      </a:lnTo>
                      <a:lnTo>
                        <a:pt x="3049" y="3173"/>
                      </a:lnTo>
                      <a:lnTo>
                        <a:pt x="3018" y="3186"/>
                      </a:lnTo>
                      <a:lnTo>
                        <a:pt x="2986" y="3200"/>
                      </a:lnTo>
                      <a:lnTo>
                        <a:pt x="2954" y="3213"/>
                      </a:lnTo>
                      <a:lnTo>
                        <a:pt x="2922" y="3226"/>
                      </a:lnTo>
                      <a:lnTo>
                        <a:pt x="2889" y="3238"/>
                      </a:lnTo>
                      <a:lnTo>
                        <a:pt x="2856" y="3250"/>
                      </a:lnTo>
                      <a:lnTo>
                        <a:pt x="2822" y="3260"/>
                      </a:lnTo>
                      <a:lnTo>
                        <a:pt x="2789" y="3271"/>
                      </a:lnTo>
                      <a:lnTo>
                        <a:pt x="2755" y="3280"/>
                      </a:lnTo>
                      <a:lnTo>
                        <a:pt x="2721" y="3290"/>
                      </a:lnTo>
                      <a:lnTo>
                        <a:pt x="2697" y="3295"/>
                      </a:lnTo>
                      <a:lnTo>
                        <a:pt x="2674" y="3300"/>
                      </a:lnTo>
                      <a:lnTo>
                        <a:pt x="2651" y="3304"/>
                      </a:lnTo>
                      <a:lnTo>
                        <a:pt x="2628" y="3307"/>
                      </a:lnTo>
                      <a:lnTo>
                        <a:pt x="2604" y="3311"/>
                      </a:lnTo>
                      <a:lnTo>
                        <a:pt x="2582" y="3314"/>
                      </a:lnTo>
                      <a:lnTo>
                        <a:pt x="2558" y="3317"/>
                      </a:lnTo>
                      <a:lnTo>
                        <a:pt x="2535" y="3319"/>
                      </a:lnTo>
                      <a:lnTo>
                        <a:pt x="2512" y="3321"/>
                      </a:lnTo>
                      <a:lnTo>
                        <a:pt x="2489" y="3322"/>
                      </a:lnTo>
                      <a:lnTo>
                        <a:pt x="2466" y="3323"/>
                      </a:lnTo>
                      <a:lnTo>
                        <a:pt x="2443" y="3323"/>
                      </a:lnTo>
                      <a:lnTo>
                        <a:pt x="2420" y="3324"/>
                      </a:lnTo>
                      <a:lnTo>
                        <a:pt x="2396" y="3323"/>
                      </a:lnTo>
                      <a:lnTo>
                        <a:pt x="2373" y="3323"/>
                      </a:lnTo>
                      <a:lnTo>
                        <a:pt x="2349" y="3322"/>
                      </a:lnTo>
                      <a:lnTo>
                        <a:pt x="2337" y="3339"/>
                      </a:lnTo>
                      <a:lnTo>
                        <a:pt x="2323" y="3355"/>
                      </a:lnTo>
                      <a:lnTo>
                        <a:pt x="2308" y="3370"/>
                      </a:lnTo>
                      <a:lnTo>
                        <a:pt x="2291" y="3382"/>
                      </a:lnTo>
                      <a:lnTo>
                        <a:pt x="2273" y="3394"/>
                      </a:lnTo>
                      <a:lnTo>
                        <a:pt x="2255" y="3403"/>
                      </a:lnTo>
                      <a:lnTo>
                        <a:pt x="2235" y="3412"/>
                      </a:lnTo>
                      <a:lnTo>
                        <a:pt x="2214" y="3419"/>
                      </a:lnTo>
                      <a:lnTo>
                        <a:pt x="2105" y="3409"/>
                      </a:lnTo>
                      <a:lnTo>
                        <a:pt x="2109" y="3426"/>
                      </a:lnTo>
                      <a:lnTo>
                        <a:pt x="2110" y="3442"/>
                      </a:lnTo>
                      <a:lnTo>
                        <a:pt x="2108" y="3458"/>
                      </a:lnTo>
                      <a:lnTo>
                        <a:pt x="2104" y="3475"/>
                      </a:lnTo>
                      <a:lnTo>
                        <a:pt x="2098" y="3491"/>
                      </a:lnTo>
                      <a:lnTo>
                        <a:pt x="2090" y="3507"/>
                      </a:lnTo>
                      <a:lnTo>
                        <a:pt x="2084" y="3522"/>
                      </a:lnTo>
                      <a:lnTo>
                        <a:pt x="2077" y="3538"/>
                      </a:lnTo>
                      <a:lnTo>
                        <a:pt x="2065" y="3551"/>
                      </a:lnTo>
                      <a:lnTo>
                        <a:pt x="2050" y="3562"/>
                      </a:lnTo>
                      <a:lnTo>
                        <a:pt x="2034" y="3569"/>
                      </a:lnTo>
                      <a:lnTo>
                        <a:pt x="2017" y="3575"/>
                      </a:lnTo>
                      <a:lnTo>
                        <a:pt x="2000" y="3582"/>
                      </a:lnTo>
                      <a:lnTo>
                        <a:pt x="1982" y="3587"/>
                      </a:lnTo>
                      <a:lnTo>
                        <a:pt x="1965" y="3594"/>
                      </a:lnTo>
                      <a:lnTo>
                        <a:pt x="1948" y="3602"/>
                      </a:lnTo>
                      <a:lnTo>
                        <a:pt x="1935" y="3614"/>
                      </a:lnTo>
                      <a:lnTo>
                        <a:pt x="1923" y="3626"/>
                      </a:lnTo>
                      <a:lnTo>
                        <a:pt x="1910" y="3636"/>
                      </a:lnTo>
                      <a:lnTo>
                        <a:pt x="1897" y="3648"/>
                      </a:lnTo>
                      <a:lnTo>
                        <a:pt x="1885" y="3659"/>
                      </a:lnTo>
                      <a:lnTo>
                        <a:pt x="1872" y="3669"/>
                      </a:lnTo>
                      <a:lnTo>
                        <a:pt x="1859" y="3679"/>
                      </a:lnTo>
                      <a:lnTo>
                        <a:pt x="1846" y="3689"/>
                      </a:lnTo>
                      <a:lnTo>
                        <a:pt x="1832" y="3698"/>
                      </a:lnTo>
                      <a:lnTo>
                        <a:pt x="1818" y="3707"/>
                      </a:lnTo>
                      <a:lnTo>
                        <a:pt x="1804" y="3714"/>
                      </a:lnTo>
                      <a:lnTo>
                        <a:pt x="1789" y="3722"/>
                      </a:lnTo>
                      <a:lnTo>
                        <a:pt x="1774" y="3728"/>
                      </a:lnTo>
                      <a:lnTo>
                        <a:pt x="1759" y="3735"/>
                      </a:lnTo>
                      <a:lnTo>
                        <a:pt x="1743" y="3740"/>
                      </a:lnTo>
                      <a:lnTo>
                        <a:pt x="1726" y="3744"/>
                      </a:lnTo>
                      <a:lnTo>
                        <a:pt x="1717" y="3758"/>
                      </a:lnTo>
                      <a:lnTo>
                        <a:pt x="1711" y="3771"/>
                      </a:lnTo>
                      <a:lnTo>
                        <a:pt x="1708" y="3786"/>
                      </a:lnTo>
                      <a:lnTo>
                        <a:pt x="1711" y="3802"/>
                      </a:lnTo>
                      <a:lnTo>
                        <a:pt x="1693" y="3817"/>
                      </a:lnTo>
                      <a:lnTo>
                        <a:pt x="1675" y="3831"/>
                      </a:lnTo>
                      <a:lnTo>
                        <a:pt x="1655" y="3843"/>
                      </a:lnTo>
                      <a:lnTo>
                        <a:pt x="1636" y="3853"/>
                      </a:lnTo>
                      <a:lnTo>
                        <a:pt x="1616" y="3863"/>
                      </a:lnTo>
                      <a:lnTo>
                        <a:pt x="1594" y="3871"/>
                      </a:lnTo>
                      <a:lnTo>
                        <a:pt x="1573" y="3880"/>
                      </a:lnTo>
                      <a:lnTo>
                        <a:pt x="1552" y="3887"/>
                      </a:lnTo>
                      <a:lnTo>
                        <a:pt x="1530" y="3894"/>
                      </a:lnTo>
                      <a:lnTo>
                        <a:pt x="1508" y="3900"/>
                      </a:lnTo>
                      <a:lnTo>
                        <a:pt x="1486" y="3907"/>
                      </a:lnTo>
                      <a:lnTo>
                        <a:pt x="1464" y="3913"/>
                      </a:lnTo>
                      <a:lnTo>
                        <a:pt x="1442" y="3919"/>
                      </a:lnTo>
                      <a:lnTo>
                        <a:pt x="1421" y="3927"/>
                      </a:lnTo>
                      <a:lnTo>
                        <a:pt x="1399" y="3934"/>
                      </a:lnTo>
                      <a:lnTo>
                        <a:pt x="1378" y="3942"/>
                      </a:lnTo>
                      <a:lnTo>
                        <a:pt x="1362" y="3944"/>
                      </a:lnTo>
                      <a:lnTo>
                        <a:pt x="1346" y="3947"/>
                      </a:lnTo>
                      <a:lnTo>
                        <a:pt x="1329" y="3952"/>
                      </a:lnTo>
                      <a:lnTo>
                        <a:pt x="1312" y="3954"/>
                      </a:lnTo>
                      <a:lnTo>
                        <a:pt x="1295" y="3955"/>
                      </a:lnTo>
                      <a:lnTo>
                        <a:pt x="1279" y="3954"/>
                      </a:lnTo>
                      <a:lnTo>
                        <a:pt x="1265" y="3947"/>
                      </a:lnTo>
                      <a:lnTo>
                        <a:pt x="1253" y="3937"/>
                      </a:lnTo>
                      <a:lnTo>
                        <a:pt x="1251" y="3928"/>
                      </a:lnTo>
                      <a:lnTo>
                        <a:pt x="1249" y="3918"/>
                      </a:lnTo>
                      <a:lnTo>
                        <a:pt x="1246" y="3910"/>
                      </a:lnTo>
                      <a:lnTo>
                        <a:pt x="1240" y="3901"/>
                      </a:lnTo>
                      <a:lnTo>
                        <a:pt x="1234" y="3915"/>
                      </a:lnTo>
                      <a:lnTo>
                        <a:pt x="1226" y="3928"/>
                      </a:lnTo>
                      <a:lnTo>
                        <a:pt x="1217" y="3942"/>
                      </a:lnTo>
                      <a:lnTo>
                        <a:pt x="1209" y="3955"/>
                      </a:lnTo>
                      <a:lnTo>
                        <a:pt x="1199" y="3967"/>
                      </a:lnTo>
                      <a:lnTo>
                        <a:pt x="1190" y="3979"/>
                      </a:lnTo>
                      <a:lnTo>
                        <a:pt x="1179" y="3990"/>
                      </a:lnTo>
                      <a:lnTo>
                        <a:pt x="1168" y="4002"/>
                      </a:lnTo>
                      <a:lnTo>
                        <a:pt x="1156" y="4012"/>
                      </a:lnTo>
                      <a:lnTo>
                        <a:pt x="1145" y="4023"/>
                      </a:lnTo>
                      <a:lnTo>
                        <a:pt x="1132" y="4033"/>
                      </a:lnTo>
                      <a:lnTo>
                        <a:pt x="1120" y="4042"/>
                      </a:lnTo>
                      <a:lnTo>
                        <a:pt x="1107" y="4051"/>
                      </a:lnTo>
                      <a:lnTo>
                        <a:pt x="1094" y="4058"/>
                      </a:lnTo>
                      <a:lnTo>
                        <a:pt x="1080" y="4067"/>
                      </a:lnTo>
                      <a:lnTo>
                        <a:pt x="1068" y="4073"/>
                      </a:lnTo>
                      <a:lnTo>
                        <a:pt x="1052" y="4077"/>
                      </a:lnTo>
                      <a:lnTo>
                        <a:pt x="1035" y="4081"/>
                      </a:lnTo>
                      <a:lnTo>
                        <a:pt x="1019" y="4085"/>
                      </a:lnTo>
                      <a:lnTo>
                        <a:pt x="1003" y="4089"/>
                      </a:lnTo>
                      <a:lnTo>
                        <a:pt x="987" y="4093"/>
                      </a:lnTo>
                      <a:lnTo>
                        <a:pt x="971" y="4097"/>
                      </a:lnTo>
                      <a:lnTo>
                        <a:pt x="955" y="4100"/>
                      </a:lnTo>
                      <a:lnTo>
                        <a:pt x="938" y="4102"/>
                      </a:lnTo>
                      <a:lnTo>
                        <a:pt x="927" y="4101"/>
                      </a:lnTo>
                      <a:lnTo>
                        <a:pt x="917" y="4102"/>
                      </a:lnTo>
                      <a:lnTo>
                        <a:pt x="906" y="4102"/>
                      </a:lnTo>
                      <a:lnTo>
                        <a:pt x="894" y="4103"/>
                      </a:lnTo>
                      <a:lnTo>
                        <a:pt x="882" y="4105"/>
                      </a:lnTo>
                      <a:lnTo>
                        <a:pt x="871" y="4106"/>
                      </a:lnTo>
                      <a:lnTo>
                        <a:pt x="859" y="4108"/>
                      </a:lnTo>
                      <a:lnTo>
                        <a:pt x="847" y="4109"/>
                      </a:lnTo>
                      <a:lnTo>
                        <a:pt x="835" y="4110"/>
                      </a:lnTo>
                      <a:lnTo>
                        <a:pt x="823" y="4110"/>
                      </a:lnTo>
                      <a:lnTo>
                        <a:pt x="813" y="4109"/>
                      </a:lnTo>
                      <a:lnTo>
                        <a:pt x="801" y="4106"/>
                      </a:lnTo>
                      <a:lnTo>
                        <a:pt x="790" y="4104"/>
                      </a:lnTo>
                      <a:lnTo>
                        <a:pt x="781" y="4100"/>
                      </a:lnTo>
                      <a:lnTo>
                        <a:pt x="771" y="4095"/>
                      </a:lnTo>
                      <a:lnTo>
                        <a:pt x="762" y="4087"/>
                      </a:lnTo>
                      <a:lnTo>
                        <a:pt x="762" y="4073"/>
                      </a:lnTo>
                      <a:lnTo>
                        <a:pt x="766" y="4059"/>
                      </a:lnTo>
                      <a:lnTo>
                        <a:pt x="771" y="4049"/>
                      </a:lnTo>
                      <a:lnTo>
                        <a:pt x="779" y="4038"/>
                      </a:lnTo>
                      <a:lnTo>
                        <a:pt x="786" y="4028"/>
                      </a:lnTo>
                      <a:lnTo>
                        <a:pt x="795" y="4019"/>
                      </a:lnTo>
                      <a:lnTo>
                        <a:pt x="803" y="4010"/>
                      </a:lnTo>
                      <a:lnTo>
                        <a:pt x="810" y="4002"/>
                      </a:lnTo>
                      <a:lnTo>
                        <a:pt x="799" y="4003"/>
                      </a:lnTo>
                      <a:lnTo>
                        <a:pt x="789" y="4006"/>
                      </a:lnTo>
                      <a:lnTo>
                        <a:pt x="780" y="4010"/>
                      </a:lnTo>
                      <a:lnTo>
                        <a:pt x="770" y="4016"/>
                      </a:lnTo>
                      <a:lnTo>
                        <a:pt x="760" y="4022"/>
                      </a:lnTo>
                      <a:lnTo>
                        <a:pt x="750" y="4026"/>
                      </a:lnTo>
                      <a:lnTo>
                        <a:pt x="739" y="4030"/>
                      </a:lnTo>
                      <a:lnTo>
                        <a:pt x="727" y="4031"/>
                      </a:lnTo>
                      <a:lnTo>
                        <a:pt x="711" y="4033"/>
                      </a:lnTo>
                      <a:lnTo>
                        <a:pt x="696" y="4034"/>
                      </a:lnTo>
                      <a:lnTo>
                        <a:pt x="680" y="4036"/>
                      </a:lnTo>
                      <a:lnTo>
                        <a:pt x="664" y="4037"/>
                      </a:lnTo>
                      <a:lnTo>
                        <a:pt x="647" y="4038"/>
                      </a:lnTo>
                      <a:lnTo>
                        <a:pt x="631" y="4038"/>
                      </a:lnTo>
                      <a:lnTo>
                        <a:pt x="615" y="4039"/>
                      </a:lnTo>
                      <a:lnTo>
                        <a:pt x="598" y="4039"/>
                      </a:lnTo>
                      <a:lnTo>
                        <a:pt x="580" y="4039"/>
                      </a:lnTo>
                      <a:lnTo>
                        <a:pt x="564" y="4038"/>
                      </a:lnTo>
                      <a:lnTo>
                        <a:pt x="547" y="4037"/>
                      </a:lnTo>
                      <a:lnTo>
                        <a:pt x="531" y="4036"/>
                      </a:lnTo>
                      <a:lnTo>
                        <a:pt x="514" y="4034"/>
                      </a:lnTo>
                      <a:lnTo>
                        <a:pt x="498" y="4032"/>
                      </a:lnTo>
                      <a:lnTo>
                        <a:pt x="481" y="4030"/>
                      </a:lnTo>
                      <a:lnTo>
                        <a:pt x="465" y="4026"/>
                      </a:lnTo>
                      <a:lnTo>
                        <a:pt x="448" y="4026"/>
                      </a:lnTo>
                      <a:lnTo>
                        <a:pt x="431" y="4025"/>
                      </a:lnTo>
                      <a:lnTo>
                        <a:pt x="414" y="4022"/>
                      </a:lnTo>
                      <a:lnTo>
                        <a:pt x="399" y="4018"/>
                      </a:lnTo>
                      <a:lnTo>
                        <a:pt x="383" y="4012"/>
                      </a:lnTo>
                      <a:lnTo>
                        <a:pt x="368" y="4007"/>
                      </a:lnTo>
                      <a:lnTo>
                        <a:pt x="353" y="4002"/>
                      </a:lnTo>
                      <a:lnTo>
                        <a:pt x="337" y="3997"/>
                      </a:lnTo>
                      <a:lnTo>
                        <a:pt x="330" y="3986"/>
                      </a:lnTo>
                      <a:lnTo>
                        <a:pt x="325" y="3975"/>
                      </a:lnTo>
                      <a:lnTo>
                        <a:pt x="323" y="3963"/>
                      </a:lnTo>
                      <a:lnTo>
                        <a:pt x="330" y="3952"/>
                      </a:lnTo>
                      <a:lnTo>
                        <a:pt x="345" y="3945"/>
                      </a:lnTo>
                      <a:lnTo>
                        <a:pt x="360" y="3941"/>
                      </a:lnTo>
                      <a:lnTo>
                        <a:pt x="376" y="3936"/>
                      </a:lnTo>
                      <a:lnTo>
                        <a:pt x="391" y="3930"/>
                      </a:lnTo>
                      <a:lnTo>
                        <a:pt x="407" y="3925"/>
                      </a:lnTo>
                      <a:lnTo>
                        <a:pt x="421" y="3918"/>
                      </a:lnTo>
                      <a:lnTo>
                        <a:pt x="435" y="3911"/>
                      </a:lnTo>
                      <a:lnTo>
                        <a:pt x="448" y="3901"/>
                      </a:lnTo>
                      <a:lnTo>
                        <a:pt x="446" y="3898"/>
                      </a:lnTo>
                      <a:lnTo>
                        <a:pt x="443" y="3896"/>
                      </a:lnTo>
                      <a:lnTo>
                        <a:pt x="440" y="3894"/>
                      </a:lnTo>
                      <a:lnTo>
                        <a:pt x="437" y="3894"/>
                      </a:lnTo>
                      <a:lnTo>
                        <a:pt x="425" y="3897"/>
                      </a:lnTo>
                      <a:lnTo>
                        <a:pt x="412" y="3898"/>
                      </a:lnTo>
                      <a:lnTo>
                        <a:pt x="398" y="3896"/>
                      </a:lnTo>
                      <a:lnTo>
                        <a:pt x="383" y="3893"/>
                      </a:lnTo>
                      <a:lnTo>
                        <a:pt x="368" y="3890"/>
                      </a:lnTo>
                      <a:lnTo>
                        <a:pt x="353" y="3885"/>
                      </a:lnTo>
                      <a:lnTo>
                        <a:pt x="338" y="3882"/>
                      </a:lnTo>
                      <a:lnTo>
                        <a:pt x="322" y="3881"/>
                      </a:lnTo>
                      <a:lnTo>
                        <a:pt x="298" y="3874"/>
                      </a:lnTo>
                      <a:lnTo>
                        <a:pt x="274" y="3865"/>
                      </a:lnTo>
                      <a:lnTo>
                        <a:pt x="251" y="3856"/>
                      </a:lnTo>
                      <a:lnTo>
                        <a:pt x="227" y="3847"/>
                      </a:lnTo>
                      <a:lnTo>
                        <a:pt x="204" y="3837"/>
                      </a:lnTo>
                      <a:lnTo>
                        <a:pt x="181" y="3827"/>
                      </a:lnTo>
                      <a:lnTo>
                        <a:pt x="159" y="3815"/>
                      </a:lnTo>
                      <a:lnTo>
                        <a:pt x="137" y="3802"/>
                      </a:lnTo>
                      <a:lnTo>
                        <a:pt x="116" y="3789"/>
                      </a:lnTo>
                      <a:lnTo>
                        <a:pt x="97" y="3774"/>
                      </a:lnTo>
                      <a:lnTo>
                        <a:pt x="77" y="3758"/>
                      </a:lnTo>
                      <a:lnTo>
                        <a:pt x="59" y="3741"/>
                      </a:lnTo>
                      <a:lnTo>
                        <a:pt x="42" y="3723"/>
                      </a:lnTo>
                      <a:lnTo>
                        <a:pt x="27" y="3703"/>
                      </a:lnTo>
                      <a:lnTo>
                        <a:pt x="13" y="3681"/>
                      </a:lnTo>
                      <a:lnTo>
                        <a:pt x="0" y="3658"/>
                      </a:lnTo>
                      <a:lnTo>
                        <a:pt x="0" y="3642"/>
                      </a:lnTo>
                      <a:lnTo>
                        <a:pt x="3" y="3628"/>
                      </a:lnTo>
                      <a:lnTo>
                        <a:pt x="10" y="3615"/>
                      </a:lnTo>
                      <a:lnTo>
                        <a:pt x="22" y="3604"/>
                      </a:lnTo>
                      <a:lnTo>
                        <a:pt x="44" y="3603"/>
                      </a:lnTo>
                      <a:lnTo>
                        <a:pt x="65" y="3605"/>
                      </a:lnTo>
                      <a:lnTo>
                        <a:pt x="87" y="3611"/>
                      </a:lnTo>
                      <a:lnTo>
                        <a:pt x="107" y="3618"/>
                      </a:lnTo>
                      <a:lnTo>
                        <a:pt x="128" y="3627"/>
                      </a:lnTo>
                      <a:lnTo>
                        <a:pt x="148" y="3636"/>
                      </a:lnTo>
                      <a:lnTo>
                        <a:pt x="167" y="3645"/>
                      </a:lnTo>
                      <a:lnTo>
                        <a:pt x="186" y="3652"/>
                      </a:lnTo>
                      <a:lnTo>
                        <a:pt x="192" y="3661"/>
                      </a:lnTo>
                      <a:lnTo>
                        <a:pt x="198" y="3667"/>
                      </a:lnTo>
                      <a:lnTo>
                        <a:pt x="207" y="3672"/>
                      </a:lnTo>
                      <a:lnTo>
                        <a:pt x="215" y="3675"/>
                      </a:lnTo>
                      <a:lnTo>
                        <a:pt x="225" y="3678"/>
                      </a:lnTo>
                      <a:lnTo>
                        <a:pt x="234" y="3682"/>
                      </a:lnTo>
                      <a:lnTo>
                        <a:pt x="241" y="3688"/>
                      </a:lnTo>
                      <a:lnTo>
                        <a:pt x="247" y="3695"/>
                      </a:lnTo>
                      <a:lnTo>
                        <a:pt x="255" y="3697"/>
                      </a:lnTo>
                      <a:lnTo>
                        <a:pt x="264" y="3699"/>
                      </a:lnTo>
                      <a:lnTo>
                        <a:pt x="271" y="3702"/>
                      </a:lnTo>
                      <a:lnTo>
                        <a:pt x="279" y="3705"/>
                      </a:lnTo>
                      <a:lnTo>
                        <a:pt x="286" y="3708"/>
                      </a:lnTo>
                      <a:lnTo>
                        <a:pt x="292" y="3710"/>
                      </a:lnTo>
                      <a:lnTo>
                        <a:pt x="300" y="3713"/>
                      </a:lnTo>
                      <a:lnTo>
                        <a:pt x="307" y="3715"/>
                      </a:lnTo>
                      <a:lnTo>
                        <a:pt x="305" y="3699"/>
                      </a:lnTo>
                      <a:lnTo>
                        <a:pt x="301" y="3684"/>
                      </a:lnTo>
                      <a:lnTo>
                        <a:pt x="294" y="3672"/>
                      </a:lnTo>
                      <a:lnTo>
                        <a:pt x="286" y="3658"/>
                      </a:lnTo>
                      <a:lnTo>
                        <a:pt x="279" y="3644"/>
                      </a:lnTo>
                      <a:lnTo>
                        <a:pt x="272" y="3630"/>
                      </a:lnTo>
                      <a:lnTo>
                        <a:pt x="267" y="3613"/>
                      </a:lnTo>
                      <a:lnTo>
                        <a:pt x="266" y="3595"/>
                      </a:lnTo>
                      <a:lnTo>
                        <a:pt x="268" y="3587"/>
                      </a:lnTo>
                      <a:lnTo>
                        <a:pt x="271" y="3581"/>
                      </a:lnTo>
                      <a:lnTo>
                        <a:pt x="274" y="3573"/>
                      </a:lnTo>
                      <a:lnTo>
                        <a:pt x="279" y="3567"/>
                      </a:lnTo>
                      <a:lnTo>
                        <a:pt x="284" y="3560"/>
                      </a:lnTo>
                      <a:lnTo>
                        <a:pt x="289" y="3555"/>
                      </a:lnTo>
                      <a:lnTo>
                        <a:pt x="295" y="3551"/>
                      </a:lnTo>
                      <a:lnTo>
                        <a:pt x="301" y="3548"/>
                      </a:lnTo>
                      <a:lnTo>
                        <a:pt x="314" y="3551"/>
                      </a:lnTo>
                      <a:lnTo>
                        <a:pt x="326" y="3556"/>
                      </a:lnTo>
                      <a:lnTo>
                        <a:pt x="336" y="3564"/>
                      </a:lnTo>
                      <a:lnTo>
                        <a:pt x="346" y="3571"/>
                      </a:lnTo>
                      <a:lnTo>
                        <a:pt x="357" y="3580"/>
                      </a:lnTo>
                      <a:lnTo>
                        <a:pt x="366" y="3588"/>
                      </a:lnTo>
                      <a:lnTo>
                        <a:pt x="378" y="3596"/>
                      </a:lnTo>
                      <a:lnTo>
                        <a:pt x="391" y="3602"/>
                      </a:lnTo>
                      <a:lnTo>
                        <a:pt x="404" y="3611"/>
                      </a:lnTo>
                      <a:lnTo>
                        <a:pt x="417" y="3619"/>
                      </a:lnTo>
                      <a:lnTo>
                        <a:pt x="431" y="3628"/>
                      </a:lnTo>
                      <a:lnTo>
                        <a:pt x="443" y="3636"/>
                      </a:lnTo>
                      <a:lnTo>
                        <a:pt x="456" y="3645"/>
                      </a:lnTo>
                      <a:lnTo>
                        <a:pt x="470" y="3653"/>
                      </a:lnTo>
                      <a:lnTo>
                        <a:pt x="484" y="3661"/>
                      </a:lnTo>
                      <a:lnTo>
                        <a:pt x="498" y="3667"/>
                      </a:lnTo>
                      <a:lnTo>
                        <a:pt x="512" y="3675"/>
                      </a:lnTo>
                      <a:lnTo>
                        <a:pt x="526" y="3680"/>
                      </a:lnTo>
                      <a:lnTo>
                        <a:pt x="540" y="3685"/>
                      </a:lnTo>
                      <a:lnTo>
                        <a:pt x="555" y="3690"/>
                      </a:lnTo>
                      <a:lnTo>
                        <a:pt x="570" y="3694"/>
                      </a:lnTo>
                      <a:lnTo>
                        <a:pt x="585" y="3696"/>
                      </a:lnTo>
                      <a:lnTo>
                        <a:pt x="601" y="3698"/>
                      </a:lnTo>
                      <a:lnTo>
                        <a:pt x="617" y="3698"/>
                      </a:lnTo>
                      <a:lnTo>
                        <a:pt x="610" y="3689"/>
                      </a:lnTo>
                      <a:lnTo>
                        <a:pt x="603" y="3679"/>
                      </a:lnTo>
                      <a:lnTo>
                        <a:pt x="596" y="3669"/>
                      </a:lnTo>
                      <a:lnTo>
                        <a:pt x="594" y="3658"/>
                      </a:lnTo>
                      <a:lnTo>
                        <a:pt x="608" y="3646"/>
                      </a:lnTo>
                      <a:lnTo>
                        <a:pt x="622" y="3635"/>
                      </a:lnTo>
                      <a:lnTo>
                        <a:pt x="637" y="3626"/>
                      </a:lnTo>
                      <a:lnTo>
                        <a:pt x="653" y="3618"/>
                      </a:lnTo>
                      <a:lnTo>
                        <a:pt x="670" y="3611"/>
                      </a:lnTo>
                      <a:lnTo>
                        <a:pt x="688" y="3604"/>
                      </a:lnTo>
                      <a:lnTo>
                        <a:pt x="706" y="3599"/>
                      </a:lnTo>
                      <a:lnTo>
                        <a:pt x="724" y="3594"/>
                      </a:lnTo>
                      <a:lnTo>
                        <a:pt x="742" y="3588"/>
                      </a:lnTo>
                      <a:lnTo>
                        <a:pt x="760" y="3583"/>
                      </a:lnTo>
                      <a:lnTo>
                        <a:pt x="779" y="3578"/>
                      </a:lnTo>
                      <a:lnTo>
                        <a:pt x="796" y="3571"/>
                      </a:lnTo>
                      <a:lnTo>
                        <a:pt x="814" y="3565"/>
                      </a:lnTo>
                      <a:lnTo>
                        <a:pt x="831" y="3556"/>
                      </a:lnTo>
                      <a:lnTo>
                        <a:pt x="847" y="3548"/>
                      </a:lnTo>
                      <a:lnTo>
                        <a:pt x="863" y="3538"/>
                      </a:lnTo>
                      <a:lnTo>
                        <a:pt x="873" y="3532"/>
                      </a:lnTo>
                      <a:lnTo>
                        <a:pt x="883" y="3526"/>
                      </a:lnTo>
                      <a:lnTo>
                        <a:pt x="894" y="3522"/>
                      </a:lnTo>
                      <a:lnTo>
                        <a:pt x="905" y="3518"/>
                      </a:lnTo>
                      <a:lnTo>
                        <a:pt x="916" y="3515"/>
                      </a:lnTo>
                      <a:lnTo>
                        <a:pt x="926" y="3511"/>
                      </a:lnTo>
                      <a:lnTo>
                        <a:pt x="938" y="3508"/>
                      </a:lnTo>
                      <a:lnTo>
                        <a:pt x="949" y="3505"/>
                      </a:lnTo>
                      <a:lnTo>
                        <a:pt x="980" y="3493"/>
                      </a:lnTo>
                      <a:lnTo>
                        <a:pt x="1010" y="3479"/>
                      </a:lnTo>
                      <a:lnTo>
                        <a:pt x="1039" y="3465"/>
                      </a:lnTo>
                      <a:lnTo>
                        <a:pt x="1069" y="3450"/>
                      </a:lnTo>
                      <a:lnTo>
                        <a:pt x="1098" y="3434"/>
                      </a:lnTo>
                      <a:lnTo>
                        <a:pt x="1125" y="3418"/>
                      </a:lnTo>
                      <a:lnTo>
                        <a:pt x="1154" y="3401"/>
                      </a:lnTo>
                      <a:lnTo>
                        <a:pt x="1182" y="3384"/>
                      </a:lnTo>
                      <a:lnTo>
                        <a:pt x="1211" y="3366"/>
                      </a:lnTo>
                      <a:lnTo>
                        <a:pt x="1239" y="3348"/>
                      </a:lnTo>
                      <a:lnTo>
                        <a:pt x="1267" y="3331"/>
                      </a:lnTo>
                      <a:lnTo>
                        <a:pt x="1296" y="3313"/>
                      </a:lnTo>
                      <a:lnTo>
                        <a:pt x="1323" y="3294"/>
                      </a:lnTo>
                      <a:lnTo>
                        <a:pt x="1352" y="3277"/>
                      </a:lnTo>
                      <a:lnTo>
                        <a:pt x="1381" y="3260"/>
                      </a:lnTo>
                      <a:lnTo>
                        <a:pt x="1411" y="3244"/>
                      </a:lnTo>
                      <a:lnTo>
                        <a:pt x="1427" y="3229"/>
                      </a:lnTo>
                      <a:lnTo>
                        <a:pt x="1444" y="3217"/>
                      </a:lnTo>
                      <a:lnTo>
                        <a:pt x="1463" y="3206"/>
                      </a:lnTo>
                      <a:lnTo>
                        <a:pt x="1481" y="3196"/>
                      </a:lnTo>
                      <a:lnTo>
                        <a:pt x="1499" y="3188"/>
                      </a:lnTo>
                      <a:lnTo>
                        <a:pt x="1518" y="3180"/>
                      </a:lnTo>
                      <a:lnTo>
                        <a:pt x="1538" y="3175"/>
                      </a:lnTo>
                      <a:lnTo>
                        <a:pt x="1558" y="3169"/>
                      </a:lnTo>
                      <a:lnTo>
                        <a:pt x="1578" y="3164"/>
                      </a:lnTo>
                      <a:lnTo>
                        <a:pt x="1599" y="3161"/>
                      </a:lnTo>
                      <a:lnTo>
                        <a:pt x="1619" y="3157"/>
                      </a:lnTo>
                      <a:lnTo>
                        <a:pt x="1640" y="3153"/>
                      </a:lnTo>
                      <a:lnTo>
                        <a:pt x="1662" y="3150"/>
                      </a:lnTo>
                      <a:lnTo>
                        <a:pt x="1683" y="3147"/>
                      </a:lnTo>
                      <a:lnTo>
                        <a:pt x="1705" y="3144"/>
                      </a:lnTo>
                      <a:lnTo>
                        <a:pt x="1726" y="3141"/>
                      </a:lnTo>
                      <a:lnTo>
                        <a:pt x="1737" y="3141"/>
                      </a:lnTo>
                      <a:lnTo>
                        <a:pt x="1749" y="3141"/>
                      </a:lnTo>
                      <a:lnTo>
                        <a:pt x="1760" y="3141"/>
                      </a:lnTo>
                      <a:lnTo>
                        <a:pt x="1772" y="3139"/>
                      </a:lnTo>
                      <a:lnTo>
                        <a:pt x="1785" y="3139"/>
                      </a:lnTo>
                      <a:lnTo>
                        <a:pt x="1797" y="3138"/>
                      </a:lnTo>
                      <a:lnTo>
                        <a:pt x="1810" y="3137"/>
                      </a:lnTo>
                      <a:lnTo>
                        <a:pt x="1822" y="3136"/>
                      </a:lnTo>
                      <a:lnTo>
                        <a:pt x="1835" y="3135"/>
                      </a:lnTo>
                      <a:lnTo>
                        <a:pt x="1847" y="3133"/>
                      </a:lnTo>
                      <a:lnTo>
                        <a:pt x="1860" y="3132"/>
                      </a:lnTo>
                      <a:lnTo>
                        <a:pt x="1873" y="3131"/>
                      </a:lnTo>
                      <a:lnTo>
                        <a:pt x="1885" y="3130"/>
                      </a:lnTo>
                      <a:lnTo>
                        <a:pt x="1896" y="3129"/>
                      </a:lnTo>
                      <a:lnTo>
                        <a:pt x="1908" y="3128"/>
                      </a:lnTo>
                      <a:lnTo>
                        <a:pt x="1920" y="3127"/>
                      </a:lnTo>
                      <a:lnTo>
                        <a:pt x="1920" y="3115"/>
                      </a:lnTo>
                      <a:lnTo>
                        <a:pt x="1908" y="3108"/>
                      </a:lnTo>
                      <a:lnTo>
                        <a:pt x="1895" y="3101"/>
                      </a:lnTo>
                      <a:lnTo>
                        <a:pt x="1883" y="3093"/>
                      </a:lnTo>
                      <a:lnTo>
                        <a:pt x="1873" y="3085"/>
                      </a:lnTo>
                      <a:lnTo>
                        <a:pt x="1861" y="3077"/>
                      </a:lnTo>
                      <a:lnTo>
                        <a:pt x="1849" y="3069"/>
                      </a:lnTo>
                      <a:lnTo>
                        <a:pt x="1837" y="3060"/>
                      </a:lnTo>
                      <a:lnTo>
                        <a:pt x="1826" y="3053"/>
                      </a:lnTo>
                      <a:lnTo>
                        <a:pt x="1814" y="3045"/>
                      </a:lnTo>
                      <a:lnTo>
                        <a:pt x="1801" y="3039"/>
                      </a:lnTo>
                      <a:lnTo>
                        <a:pt x="1788" y="3034"/>
                      </a:lnTo>
                      <a:lnTo>
                        <a:pt x="1775" y="3029"/>
                      </a:lnTo>
                      <a:lnTo>
                        <a:pt x="1761" y="3027"/>
                      </a:lnTo>
                      <a:lnTo>
                        <a:pt x="1746" y="3026"/>
                      </a:lnTo>
                      <a:lnTo>
                        <a:pt x="1731" y="3027"/>
                      </a:lnTo>
                      <a:lnTo>
                        <a:pt x="1715" y="3030"/>
                      </a:lnTo>
                      <a:lnTo>
                        <a:pt x="1695" y="3036"/>
                      </a:lnTo>
                      <a:lnTo>
                        <a:pt x="1676" y="3042"/>
                      </a:lnTo>
                      <a:lnTo>
                        <a:pt x="1656" y="3049"/>
                      </a:lnTo>
                      <a:lnTo>
                        <a:pt x="1637" y="3056"/>
                      </a:lnTo>
                      <a:lnTo>
                        <a:pt x="1619" y="3066"/>
                      </a:lnTo>
                      <a:lnTo>
                        <a:pt x="1602" y="3076"/>
                      </a:lnTo>
                      <a:lnTo>
                        <a:pt x="1585" y="3089"/>
                      </a:lnTo>
                      <a:lnTo>
                        <a:pt x="1569" y="3104"/>
                      </a:lnTo>
                      <a:lnTo>
                        <a:pt x="1559" y="3101"/>
                      </a:lnTo>
                      <a:lnTo>
                        <a:pt x="1556" y="3092"/>
                      </a:lnTo>
                      <a:lnTo>
                        <a:pt x="1554" y="3083"/>
                      </a:lnTo>
                      <a:lnTo>
                        <a:pt x="1550" y="3073"/>
                      </a:lnTo>
                      <a:lnTo>
                        <a:pt x="1557" y="3061"/>
                      </a:lnTo>
                      <a:lnTo>
                        <a:pt x="1560" y="3046"/>
                      </a:lnTo>
                      <a:lnTo>
                        <a:pt x="1563" y="3030"/>
                      </a:lnTo>
                      <a:lnTo>
                        <a:pt x="1565" y="3015"/>
                      </a:lnTo>
                      <a:lnTo>
                        <a:pt x="1570" y="3002"/>
                      </a:lnTo>
                      <a:lnTo>
                        <a:pt x="1574" y="2990"/>
                      </a:lnTo>
                      <a:lnTo>
                        <a:pt x="1578" y="2978"/>
                      </a:lnTo>
                      <a:lnTo>
                        <a:pt x="1584" y="2966"/>
                      </a:lnTo>
                      <a:lnTo>
                        <a:pt x="1590" y="2956"/>
                      </a:lnTo>
                      <a:lnTo>
                        <a:pt x="1598" y="2944"/>
                      </a:lnTo>
                      <a:lnTo>
                        <a:pt x="1605" y="2933"/>
                      </a:lnTo>
                      <a:lnTo>
                        <a:pt x="1615" y="2921"/>
                      </a:lnTo>
                      <a:lnTo>
                        <a:pt x="1631" y="2916"/>
                      </a:lnTo>
                      <a:lnTo>
                        <a:pt x="1647" y="2912"/>
                      </a:lnTo>
                      <a:lnTo>
                        <a:pt x="1664" y="2908"/>
                      </a:lnTo>
                      <a:lnTo>
                        <a:pt x="1681" y="2904"/>
                      </a:lnTo>
                      <a:lnTo>
                        <a:pt x="1697" y="2902"/>
                      </a:lnTo>
                      <a:lnTo>
                        <a:pt x="1714" y="2900"/>
                      </a:lnTo>
                      <a:lnTo>
                        <a:pt x="1730" y="2900"/>
                      </a:lnTo>
                      <a:lnTo>
                        <a:pt x="1746" y="2901"/>
                      </a:lnTo>
                      <a:lnTo>
                        <a:pt x="1764" y="2882"/>
                      </a:lnTo>
                      <a:lnTo>
                        <a:pt x="1780" y="2861"/>
                      </a:lnTo>
                      <a:lnTo>
                        <a:pt x="1796" y="2840"/>
                      </a:lnTo>
                      <a:lnTo>
                        <a:pt x="1814" y="2822"/>
                      </a:lnTo>
                      <a:lnTo>
                        <a:pt x="1833" y="2806"/>
                      </a:lnTo>
                      <a:lnTo>
                        <a:pt x="1855" y="2794"/>
                      </a:lnTo>
                      <a:lnTo>
                        <a:pt x="1880" y="2787"/>
                      </a:lnTo>
                      <a:lnTo>
                        <a:pt x="1909" y="2787"/>
                      </a:lnTo>
                      <a:lnTo>
                        <a:pt x="1927" y="2786"/>
                      </a:lnTo>
                      <a:lnTo>
                        <a:pt x="1946" y="2786"/>
                      </a:lnTo>
                      <a:lnTo>
                        <a:pt x="1964" y="2785"/>
                      </a:lnTo>
                      <a:lnTo>
                        <a:pt x="1981" y="2785"/>
                      </a:lnTo>
                      <a:lnTo>
                        <a:pt x="1998" y="2784"/>
                      </a:lnTo>
                      <a:lnTo>
                        <a:pt x="2015" y="2783"/>
                      </a:lnTo>
                      <a:lnTo>
                        <a:pt x="2032" y="2783"/>
                      </a:lnTo>
                      <a:lnTo>
                        <a:pt x="2049" y="2781"/>
                      </a:lnTo>
                      <a:lnTo>
                        <a:pt x="2067" y="2781"/>
                      </a:lnTo>
                      <a:lnTo>
                        <a:pt x="2084" y="2780"/>
                      </a:lnTo>
                      <a:lnTo>
                        <a:pt x="2102" y="2779"/>
                      </a:lnTo>
                      <a:lnTo>
                        <a:pt x="2119" y="2778"/>
                      </a:lnTo>
                      <a:lnTo>
                        <a:pt x="2137" y="2777"/>
                      </a:lnTo>
                      <a:lnTo>
                        <a:pt x="2155" y="2775"/>
                      </a:lnTo>
                      <a:lnTo>
                        <a:pt x="2175" y="2774"/>
                      </a:lnTo>
                      <a:lnTo>
                        <a:pt x="2194" y="2772"/>
                      </a:lnTo>
                      <a:lnTo>
                        <a:pt x="2210" y="2758"/>
                      </a:lnTo>
                      <a:lnTo>
                        <a:pt x="2225" y="2744"/>
                      </a:lnTo>
                      <a:lnTo>
                        <a:pt x="2239" y="2728"/>
                      </a:lnTo>
                      <a:lnTo>
                        <a:pt x="2253" y="2712"/>
                      </a:lnTo>
                      <a:lnTo>
                        <a:pt x="2267" y="2695"/>
                      </a:lnTo>
                      <a:lnTo>
                        <a:pt x="2281" y="2678"/>
                      </a:lnTo>
                      <a:lnTo>
                        <a:pt x="2296" y="2662"/>
                      </a:lnTo>
                      <a:lnTo>
                        <a:pt x="2311" y="2645"/>
                      </a:lnTo>
                      <a:lnTo>
                        <a:pt x="2327" y="2624"/>
                      </a:lnTo>
                      <a:lnTo>
                        <a:pt x="2341" y="2604"/>
                      </a:lnTo>
                      <a:lnTo>
                        <a:pt x="2356" y="2583"/>
                      </a:lnTo>
                      <a:lnTo>
                        <a:pt x="2370" y="2561"/>
                      </a:lnTo>
                      <a:lnTo>
                        <a:pt x="2382" y="2539"/>
                      </a:lnTo>
                      <a:lnTo>
                        <a:pt x="2395" y="2516"/>
                      </a:lnTo>
                      <a:lnTo>
                        <a:pt x="2407" y="2494"/>
                      </a:lnTo>
                      <a:lnTo>
                        <a:pt x="2418" y="2471"/>
                      </a:lnTo>
                      <a:lnTo>
                        <a:pt x="2428" y="2447"/>
                      </a:lnTo>
                      <a:lnTo>
                        <a:pt x="2439" y="2424"/>
                      </a:lnTo>
                      <a:lnTo>
                        <a:pt x="2449" y="2400"/>
                      </a:lnTo>
                      <a:lnTo>
                        <a:pt x="2457" y="2376"/>
                      </a:lnTo>
                      <a:lnTo>
                        <a:pt x="2466" y="2353"/>
                      </a:lnTo>
                      <a:lnTo>
                        <a:pt x="2474" y="2329"/>
                      </a:lnTo>
                      <a:lnTo>
                        <a:pt x="2482" y="2306"/>
                      </a:lnTo>
                      <a:lnTo>
                        <a:pt x="2488" y="2282"/>
                      </a:lnTo>
                      <a:lnTo>
                        <a:pt x="2490" y="2253"/>
                      </a:lnTo>
                      <a:lnTo>
                        <a:pt x="2496" y="2225"/>
                      </a:lnTo>
                      <a:lnTo>
                        <a:pt x="2501" y="2198"/>
                      </a:lnTo>
                      <a:lnTo>
                        <a:pt x="2503" y="2172"/>
                      </a:lnTo>
                      <a:lnTo>
                        <a:pt x="2511" y="2144"/>
                      </a:lnTo>
                      <a:lnTo>
                        <a:pt x="2517" y="2115"/>
                      </a:lnTo>
                      <a:lnTo>
                        <a:pt x="2523" y="2085"/>
                      </a:lnTo>
                      <a:lnTo>
                        <a:pt x="2525" y="2054"/>
                      </a:lnTo>
                      <a:lnTo>
                        <a:pt x="2531" y="2047"/>
                      </a:lnTo>
                      <a:lnTo>
                        <a:pt x="2532" y="2037"/>
                      </a:lnTo>
                      <a:lnTo>
                        <a:pt x="2532" y="2025"/>
                      </a:lnTo>
                      <a:lnTo>
                        <a:pt x="2535" y="2015"/>
                      </a:lnTo>
                      <a:lnTo>
                        <a:pt x="2544" y="2000"/>
                      </a:lnTo>
                      <a:lnTo>
                        <a:pt x="2553" y="1986"/>
                      </a:lnTo>
                      <a:lnTo>
                        <a:pt x="2561" y="1973"/>
                      </a:lnTo>
                      <a:lnTo>
                        <a:pt x="2572" y="1960"/>
                      </a:lnTo>
                      <a:lnTo>
                        <a:pt x="2582" y="1948"/>
                      </a:lnTo>
                      <a:lnTo>
                        <a:pt x="2593" y="1935"/>
                      </a:lnTo>
                      <a:lnTo>
                        <a:pt x="2605" y="1922"/>
                      </a:lnTo>
                      <a:lnTo>
                        <a:pt x="2618" y="1908"/>
                      </a:lnTo>
                      <a:lnTo>
                        <a:pt x="2618" y="1901"/>
                      </a:lnTo>
                      <a:lnTo>
                        <a:pt x="2624" y="1896"/>
                      </a:lnTo>
                      <a:lnTo>
                        <a:pt x="2630" y="1890"/>
                      </a:lnTo>
                      <a:lnTo>
                        <a:pt x="2635" y="1883"/>
                      </a:lnTo>
                      <a:lnTo>
                        <a:pt x="2640" y="1876"/>
                      </a:lnTo>
                      <a:lnTo>
                        <a:pt x="2646" y="1869"/>
                      </a:lnTo>
                      <a:lnTo>
                        <a:pt x="2652" y="1863"/>
                      </a:lnTo>
                      <a:lnTo>
                        <a:pt x="2659" y="1857"/>
                      </a:lnTo>
                      <a:lnTo>
                        <a:pt x="2667" y="1853"/>
                      </a:lnTo>
                      <a:lnTo>
                        <a:pt x="2678" y="1838"/>
                      </a:lnTo>
                      <a:lnTo>
                        <a:pt x="2689" y="1825"/>
                      </a:lnTo>
                      <a:lnTo>
                        <a:pt x="2699" y="1812"/>
                      </a:lnTo>
                      <a:lnTo>
                        <a:pt x="2711" y="1799"/>
                      </a:lnTo>
                      <a:lnTo>
                        <a:pt x="2722" y="1789"/>
                      </a:lnTo>
                      <a:lnTo>
                        <a:pt x="2734" y="1777"/>
                      </a:lnTo>
                      <a:lnTo>
                        <a:pt x="2745" y="1765"/>
                      </a:lnTo>
                      <a:lnTo>
                        <a:pt x="2758" y="1754"/>
                      </a:lnTo>
                      <a:lnTo>
                        <a:pt x="2768" y="1739"/>
                      </a:lnTo>
                      <a:lnTo>
                        <a:pt x="2779" y="1724"/>
                      </a:lnTo>
                      <a:lnTo>
                        <a:pt x="2791" y="1709"/>
                      </a:lnTo>
                      <a:lnTo>
                        <a:pt x="2804" y="1694"/>
                      </a:lnTo>
                      <a:lnTo>
                        <a:pt x="2817" y="1678"/>
                      </a:lnTo>
                      <a:lnTo>
                        <a:pt x="2830" y="1661"/>
                      </a:lnTo>
                      <a:lnTo>
                        <a:pt x="2843" y="1643"/>
                      </a:lnTo>
                      <a:lnTo>
                        <a:pt x="2855" y="1625"/>
                      </a:lnTo>
                      <a:lnTo>
                        <a:pt x="2868" y="1605"/>
                      </a:lnTo>
                      <a:lnTo>
                        <a:pt x="2882" y="1584"/>
                      </a:lnTo>
                      <a:lnTo>
                        <a:pt x="2895" y="1563"/>
                      </a:lnTo>
                      <a:lnTo>
                        <a:pt x="2908" y="1542"/>
                      </a:lnTo>
                      <a:lnTo>
                        <a:pt x="2921" y="1522"/>
                      </a:lnTo>
                      <a:lnTo>
                        <a:pt x="2935" y="1501"/>
                      </a:lnTo>
                      <a:lnTo>
                        <a:pt x="2948" y="1481"/>
                      </a:lnTo>
                      <a:lnTo>
                        <a:pt x="2962" y="1462"/>
                      </a:lnTo>
                      <a:lnTo>
                        <a:pt x="2962" y="1447"/>
                      </a:lnTo>
                      <a:lnTo>
                        <a:pt x="2965" y="1447"/>
                      </a:lnTo>
                      <a:lnTo>
                        <a:pt x="2978" y="1418"/>
                      </a:lnTo>
                      <a:lnTo>
                        <a:pt x="2992" y="1390"/>
                      </a:lnTo>
                      <a:lnTo>
                        <a:pt x="3005" y="1361"/>
                      </a:lnTo>
                      <a:lnTo>
                        <a:pt x="3019" y="1331"/>
                      </a:lnTo>
                      <a:lnTo>
                        <a:pt x="3032" y="1303"/>
                      </a:lnTo>
                      <a:lnTo>
                        <a:pt x="3044" y="1273"/>
                      </a:lnTo>
                      <a:lnTo>
                        <a:pt x="3054" y="1242"/>
                      </a:lnTo>
                      <a:lnTo>
                        <a:pt x="3061" y="1211"/>
                      </a:lnTo>
                      <a:lnTo>
                        <a:pt x="3073" y="1195"/>
                      </a:lnTo>
                      <a:lnTo>
                        <a:pt x="3079" y="1174"/>
                      </a:lnTo>
                      <a:lnTo>
                        <a:pt x="3085" y="1153"/>
                      </a:lnTo>
                      <a:lnTo>
                        <a:pt x="3091" y="1132"/>
                      </a:lnTo>
                      <a:lnTo>
                        <a:pt x="3099" y="1113"/>
                      </a:lnTo>
                      <a:lnTo>
                        <a:pt x="3110" y="1101"/>
                      </a:lnTo>
                      <a:lnTo>
                        <a:pt x="3129" y="1097"/>
                      </a:lnTo>
                      <a:lnTo>
                        <a:pt x="3155" y="1104"/>
                      </a:lnTo>
                      <a:lnTo>
                        <a:pt x="3178" y="1126"/>
                      </a:lnTo>
                      <a:lnTo>
                        <a:pt x="3195" y="1151"/>
                      </a:lnTo>
                      <a:lnTo>
                        <a:pt x="3209" y="1178"/>
                      </a:lnTo>
                      <a:lnTo>
                        <a:pt x="3221" y="1204"/>
                      </a:lnTo>
                      <a:lnTo>
                        <a:pt x="3230" y="1233"/>
                      </a:lnTo>
                      <a:lnTo>
                        <a:pt x="3239" y="1263"/>
                      </a:lnTo>
                      <a:lnTo>
                        <a:pt x="3249" y="1292"/>
                      </a:lnTo>
                      <a:lnTo>
                        <a:pt x="3259" y="1322"/>
                      </a:lnTo>
                      <a:lnTo>
                        <a:pt x="3272" y="1308"/>
                      </a:lnTo>
                      <a:lnTo>
                        <a:pt x="3279" y="1289"/>
                      </a:lnTo>
                      <a:lnTo>
                        <a:pt x="3282" y="1267"/>
                      </a:lnTo>
                      <a:lnTo>
                        <a:pt x="3285" y="1246"/>
                      </a:lnTo>
                      <a:lnTo>
                        <a:pt x="3290" y="1230"/>
                      </a:lnTo>
                      <a:lnTo>
                        <a:pt x="3292" y="1212"/>
                      </a:lnTo>
                      <a:lnTo>
                        <a:pt x="3296" y="1195"/>
                      </a:lnTo>
                      <a:lnTo>
                        <a:pt x="3302" y="1178"/>
                      </a:lnTo>
                      <a:lnTo>
                        <a:pt x="3316" y="1085"/>
                      </a:lnTo>
                      <a:lnTo>
                        <a:pt x="3329" y="993"/>
                      </a:lnTo>
                      <a:lnTo>
                        <a:pt x="3343" y="901"/>
                      </a:lnTo>
                      <a:lnTo>
                        <a:pt x="3355" y="809"/>
                      </a:lnTo>
                      <a:lnTo>
                        <a:pt x="3366" y="716"/>
                      </a:lnTo>
                      <a:lnTo>
                        <a:pt x="3378" y="624"/>
                      </a:lnTo>
                      <a:lnTo>
                        <a:pt x="3389" y="530"/>
                      </a:lnTo>
                      <a:lnTo>
                        <a:pt x="3398" y="435"/>
                      </a:lnTo>
                      <a:lnTo>
                        <a:pt x="3402" y="355"/>
                      </a:lnTo>
                      <a:lnTo>
                        <a:pt x="3408" y="268"/>
                      </a:lnTo>
                      <a:lnTo>
                        <a:pt x="3413" y="182"/>
                      </a:lnTo>
                      <a:lnTo>
                        <a:pt x="3412" y="96"/>
                      </a:lnTo>
                      <a:lnTo>
                        <a:pt x="3416" y="71"/>
                      </a:lnTo>
                      <a:lnTo>
                        <a:pt x="3418" y="43"/>
                      </a:lnTo>
                      <a:lnTo>
                        <a:pt x="3423" y="19"/>
                      </a:lnTo>
                      <a:lnTo>
                        <a:pt x="3438" y="0"/>
                      </a:lnTo>
                      <a:lnTo>
                        <a:pt x="3450" y="3"/>
                      </a:lnTo>
                      <a:lnTo>
                        <a:pt x="3462" y="5"/>
                      </a:lnTo>
                      <a:lnTo>
                        <a:pt x="3473" y="7"/>
                      </a:lnTo>
                      <a:lnTo>
                        <a:pt x="3485" y="10"/>
                      </a:lnTo>
                      <a:lnTo>
                        <a:pt x="3497" y="13"/>
                      </a:lnTo>
                      <a:lnTo>
                        <a:pt x="3508" y="18"/>
                      </a:lnTo>
                      <a:lnTo>
                        <a:pt x="3516" y="26"/>
                      </a:lnTo>
                      <a:lnTo>
                        <a:pt x="352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
                <p:cNvSpPr/>
                <p:nvPr/>
              </p:nvSpPr>
              <p:spPr>
                <a:xfrm flipH="1">
                  <a:off x="1193400" y="3771360"/>
                  <a:ext cx="260640" cy="557280"/>
                </a:xfrm>
                <a:custGeom>
                  <a:avLst/>
                  <a:gdLst/>
                  <a:ahLst/>
                  <a:rect l="l" t="t" r="r" b="b"/>
                  <a:pathLst>
                    <a:path w="1508" h="3054">
                      <a:moveTo>
                        <a:pt x="1411" y="72"/>
                      </a:moveTo>
                      <a:lnTo>
                        <a:pt x="1444" y="156"/>
                      </a:lnTo>
                      <a:lnTo>
                        <a:pt x="1472" y="243"/>
                      </a:lnTo>
                      <a:lnTo>
                        <a:pt x="1492" y="330"/>
                      </a:lnTo>
                      <a:lnTo>
                        <a:pt x="1505" y="419"/>
                      </a:lnTo>
                      <a:lnTo>
                        <a:pt x="1508" y="509"/>
                      </a:lnTo>
                      <a:lnTo>
                        <a:pt x="1501" y="597"/>
                      </a:lnTo>
                      <a:lnTo>
                        <a:pt x="1484" y="687"/>
                      </a:lnTo>
                      <a:lnTo>
                        <a:pt x="1454" y="775"/>
                      </a:lnTo>
                      <a:lnTo>
                        <a:pt x="1448" y="800"/>
                      </a:lnTo>
                      <a:lnTo>
                        <a:pt x="1442" y="824"/>
                      </a:lnTo>
                      <a:lnTo>
                        <a:pt x="1433" y="847"/>
                      </a:lnTo>
                      <a:lnTo>
                        <a:pt x="1424" y="871"/>
                      </a:lnTo>
                      <a:lnTo>
                        <a:pt x="1414" y="894"/>
                      </a:lnTo>
                      <a:lnTo>
                        <a:pt x="1406" y="917"/>
                      </a:lnTo>
                      <a:lnTo>
                        <a:pt x="1397" y="940"/>
                      </a:lnTo>
                      <a:lnTo>
                        <a:pt x="1390" y="965"/>
                      </a:lnTo>
                      <a:lnTo>
                        <a:pt x="1382" y="979"/>
                      </a:lnTo>
                      <a:lnTo>
                        <a:pt x="1376" y="993"/>
                      </a:lnTo>
                      <a:lnTo>
                        <a:pt x="1369" y="1006"/>
                      </a:lnTo>
                      <a:lnTo>
                        <a:pt x="1363" y="1018"/>
                      </a:lnTo>
                      <a:lnTo>
                        <a:pt x="1356" y="1031"/>
                      </a:lnTo>
                      <a:lnTo>
                        <a:pt x="1349" y="1044"/>
                      </a:lnTo>
                      <a:lnTo>
                        <a:pt x="1342" y="1058"/>
                      </a:lnTo>
                      <a:lnTo>
                        <a:pt x="1336" y="1072"/>
                      </a:lnTo>
                      <a:lnTo>
                        <a:pt x="1322" y="1098"/>
                      </a:lnTo>
                      <a:lnTo>
                        <a:pt x="1308" y="1125"/>
                      </a:lnTo>
                      <a:lnTo>
                        <a:pt x="1295" y="1153"/>
                      </a:lnTo>
                      <a:lnTo>
                        <a:pt x="1284" y="1181"/>
                      </a:lnTo>
                      <a:lnTo>
                        <a:pt x="1270" y="1209"/>
                      </a:lnTo>
                      <a:lnTo>
                        <a:pt x="1255" y="1235"/>
                      </a:lnTo>
                      <a:lnTo>
                        <a:pt x="1237" y="1261"/>
                      </a:lnTo>
                      <a:lnTo>
                        <a:pt x="1217" y="1285"/>
                      </a:lnTo>
                      <a:lnTo>
                        <a:pt x="1212" y="1278"/>
                      </a:lnTo>
                      <a:lnTo>
                        <a:pt x="1210" y="1271"/>
                      </a:lnTo>
                      <a:lnTo>
                        <a:pt x="1212" y="1263"/>
                      </a:lnTo>
                      <a:lnTo>
                        <a:pt x="1215" y="1256"/>
                      </a:lnTo>
                      <a:lnTo>
                        <a:pt x="1220" y="1248"/>
                      </a:lnTo>
                      <a:lnTo>
                        <a:pt x="1226" y="1241"/>
                      </a:lnTo>
                      <a:lnTo>
                        <a:pt x="1230" y="1232"/>
                      </a:lnTo>
                      <a:lnTo>
                        <a:pt x="1232" y="1225"/>
                      </a:lnTo>
                      <a:lnTo>
                        <a:pt x="1242" y="1183"/>
                      </a:lnTo>
                      <a:lnTo>
                        <a:pt x="1254" y="1142"/>
                      </a:lnTo>
                      <a:lnTo>
                        <a:pt x="1266" y="1102"/>
                      </a:lnTo>
                      <a:lnTo>
                        <a:pt x="1280" y="1062"/>
                      </a:lnTo>
                      <a:lnTo>
                        <a:pt x="1293" y="1022"/>
                      </a:lnTo>
                      <a:lnTo>
                        <a:pt x="1304" y="981"/>
                      </a:lnTo>
                      <a:lnTo>
                        <a:pt x="1313" y="939"/>
                      </a:lnTo>
                      <a:lnTo>
                        <a:pt x="1319" y="897"/>
                      </a:lnTo>
                      <a:lnTo>
                        <a:pt x="1332" y="844"/>
                      </a:lnTo>
                      <a:lnTo>
                        <a:pt x="1342" y="790"/>
                      </a:lnTo>
                      <a:lnTo>
                        <a:pt x="1350" y="735"/>
                      </a:lnTo>
                      <a:lnTo>
                        <a:pt x="1355" y="679"/>
                      </a:lnTo>
                      <a:lnTo>
                        <a:pt x="1360" y="622"/>
                      </a:lnTo>
                      <a:lnTo>
                        <a:pt x="1363" y="566"/>
                      </a:lnTo>
                      <a:lnTo>
                        <a:pt x="1366" y="511"/>
                      </a:lnTo>
                      <a:lnTo>
                        <a:pt x="1368" y="457"/>
                      </a:lnTo>
                      <a:lnTo>
                        <a:pt x="1365" y="336"/>
                      </a:lnTo>
                      <a:lnTo>
                        <a:pt x="1367" y="336"/>
                      </a:lnTo>
                      <a:lnTo>
                        <a:pt x="1369" y="334"/>
                      </a:lnTo>
                      <a:lnTo>
                        <a:pt x="1370" y="333"/>
                      </a:lnTo>
                      <a:lnTo>
                        <a:pt x="1372" y="331"/>
                      </a:lnTo>
                      <a:lnTo>
                        <a:pt x="1362" y="308"/>
                      </a:lnTo>
                      <a:lnTo>
                        <a:pt x="1358" y="280"/>
                      </a:lnTo>
                      <a:lnTo>
                        <a:pt x="1357" y="252"/>
                      </a:lnTo>
                      <a:lnTo>
                        <a:pt x="1354" y="224"/>
                      </a:lnTo>
                      <a:lnTo>
                        <a:pt x="1347" y="224"/>
                      </a:lnTo>
                      <a:lnTo>
                        <a:pt x="1339" y="343"/>
                      </a:lnTo>
                      <a:lnTo>
                        <a:pt x="1346" y="349"/>
                      </a:lnTo>
                      <a:lnTo>
                        <a:pt x="1347" y="357"/>
                      </a:lnTo>
                      <a:lnTo>
                        <a:pt x="1346" y="367"/>
                      </a:lnTo>
                      <a:lnTo>
                        <a:pt x="1342" y="374"/>
                      </a:lnTo>
                      <a:lnTo>
                        <a:pt x="1340" y="383"/>
                      </a:lnTo>
                      <a:lnTo>
                        <a:pt x="1337" y="393"/>
                      </a:lnTo>
                      <a:lnTo>
                        <a:pt x="1335" y="406"/>
                      </a:lnTo>
                      <a:lnTo>
                        <a:pt x="1332" y="417"/>
                      </a:lnTo>
                      <a:lnTo>
                        <a:pt x="1328" y="471"/>
                      </a:lnTo>
                      <a:lnTo>
                        <a:pt x="1324" y="526"/>
                      </a:lnTo>
                      <a:lnTo>
                        <a:pt x="1318" y="580"/>
                      </a:lnTo>
                      <a:lnTo>
                        <a:pt x="1310" y="634"/>
                      </a:lnTo>
                      <a:lnTo>
                        <a:pt x="1302" y="687"/>
                      </a:lnTo>
                      <a:lnTo>
                        <a:pt x="1291" y="741"/>
                      </a:lnTo>
                      <a:lnTo>
                        <a:pt x="1279" y="793"/>
                      </a:lnTo>
                      <a:lnTo>
                        <a:pt x="1267" y="845"/>
                      </a:lnTo>
                      <a:lnTo>
                        <a:pt x="1254" y="898"/>
                      </a:lnTo>
                      <a:lnTo>
                        <a:pt x="1237" y="949"/>
                      </a:lnTo>
                      <a:lnTo>
                        <a:pt x="1221" y="1000"/>
                      </a:lnTo>
                      <a:lnTo>
                        <a:pt x="1205" y="1050"/>
                      </a:lnTo>
                      <a:lnTo>
                        <a:pt x="1187" y="1101"/>
                      </a:lnTo>
                      <a:lnTo>
                        <a:pt x="1168" y="1151"/>
                      </a:lnTo>
                      <a:lnTo>
                        <a:pt x="1149" y="1200"/>
                      </a:lnTo>
                      <a:lnTo>
                        <a:pt x="1128" y="1249"/>
                      </a:lnTo>
                      <a:lnTo>
                        <a:pt x="1113" y="1271"/>
                      </a:lnTo>
                      <a:lnTo>
                        <a:pt x="1099" y="1291"/>
                      </a:lnTo>
                      <a:lnTo>
                        <a:pt x="1088" y="1312"/>
                      </a:lnTo>
                      <a:lnTo>
                        <a:pt x="1075" y="1332"/>
                      </a:lnTo>
                      <a:lnTo>
                        <a:pt x="1063" y="1353"/>
                      </a:lnTo>
                      <a:lnTo>
                        <a:pt x="1049" y="1373"/>
                      </a:lnTo>
                      <a:lnTo>
                        <a:pt x="1034" y="1392"/>
                      </a:lnTo>
                      <a:lnTo>
                        <a:pt x="1017" y="1412"/>
                      </a:lnTo>
                      <a:lnTo>
                        <a:pt x="1016" y="1365"/>
                      </a:lnTo>
                      <a:lnTo>
                        <a:pt x="1016" y="1316"/>
                      </a:lnTo>
                      <a:lnTo>
                        <a:pt x="1017" y="1267"/>
                      </a:lnTo>
                      <a:lnTo>
                        <a:pt x="1017" y="1217"/>
                      </a:lnTo>
                      <a:lnTo>
                        <a:pt x="1015" y="1168"/>
                      </a:lnTo>
                      <a:lnTo>
                        <a:pt x="1008" y="1119"/>
                      </a:lnTo>
                      <a:lnTo>
                        <a:pt x="998" y="1072"/>
                      </a:lnTo>
                      <a:lnTo>
                        <a:pt x="981" y="1028"/>
                      </a:lnTo>
                      <a:lnTo>
                        <a:pt x="961" y="1034"/>
                      </a:lnTo>
                      <a:lnTo>
                        <a:pt x="947" y="1046"/>
                      </a:lnTo>
                      <a:lnTo>
                        <a:pt x="940" y="1062"/>
                      </a:lnTo>
                      <a:lnTo>
                        <a:pt x="936" y="1080"/>
                      </a:lnTo>
                      <a:lnTo>
                        <a:pt x="932" y="1100"/>
                      </a:lnTo>
                      <a:lnTo>
                        <a:pt x="928" y="1119"/>
                      </a:lnTo>
                      <a:lnTo>
                        <a:pt x="923" y="1137"/>
                      </a:lnTo>
                      <a:lnTo>
                        <a:pt x="913" y="1153"/>
                      </a:lnTo>
                      <a:lnTo>
                        <a:pt x="900" y="1200"/>
                      </a:lnTo>
                      <a:lnTo>
                        <a:pt x="882" y="1245"/>
                      </a:lnTo>
                      <a:lnTo>
                        <a:pt x="861" y="1288"/>
                      </a:lnTo>
                      <a:lnTo>
                        <a:pt x="837" y="1328"/>
                      </a:lnTo>
                      <a:lnTo>
                        <a:pt x="812" y="1370"/>
                      </a:lnTo>
                      <a:lnTo>
                        <a:pt x="789" y="1412"/>
                      </a:lnTo>
                      <a:lnTo>
                        <a:pt x="767" y="1454"/>
                      </a:lnTo>
                      <a:lnTo>
                        <a:pt x="749" y="1500"/>
                      </a:lnTo>
                      <a:lnTo>
                        <a:pt x="737" y="1519"/>
                      </a:lnTo>
                      <a:lnTo>
                        <a:pt x="726" y="1538"/>
                      </a:lnTo>
                      <a:lnTo>
                        <a:pt x="713" y="1557"/>
                      </a:lnTo>
                      <a:lnTo>
                        <a:pt x="701" y="1575"/>
                      </a:lnTo>
                      <a:lnTo>
                        <a:pt x="688" y="1593"/>
                      </a:lnTo>
                      <a:lnTo>
                        <a:pt x="676" y="1612"/>
                      </a:lnTo>
                      <a:lnTo>
                        <a:pt x="664" y="1631"/>
                      </a:lnTo>
                      <a:lnTo>
                        <a:pt x="650" y="1648"/>
                      </a:lnTo>
                      <a:lnTo>
                        <a:pt x="636" y="1666"/>
                      </a:lnTo>
                      <a:lnTo>
                        <a:pt x="622" y="1683"/>
                      </a:lnTo>
                      <a:lnTo>
                        <a:pt x="608" y="1700"/>
                      </a:lnTo>
                      <a:lnTo>
                        <a:pt x="592" y="1717"/>
                      </a:lnTo>
                      <a:lnTo>
                        <a:pt x="576" y="1733"/>
                      </a:lnTo>
                      <a:lnTo>
                        <a:pt x="560" y="1749"/>
                      </a:lnTo>
                      <a:lnTo>
                        <a:pt x="542" y="1764"/>
                      </a:lnTo>
                      <a:lnTo>
                        <a:pt x="523" y="1779"/>
                      </a:lnTo>
                      <a:lnTo>
                        <a:pt x="508" y="1802"/>
                      </a:lnTo>
                      <a:lnTo>
                        <a:pt x="502" y="1827"/>
                      </a:lnTo>
                      <a:lnTo>
                        <a:pt x="503" y="1855"/>
                      </a:lnTo>
                      <a:lnTo>
                        <a:pt x="508" y="1883"/>
                      </a:lnTo>
                      <a:lnTo>
                        <a:pt x="522" y="1927"/>
                      </a:lnTo>
                      <a:lnTo>
                        <a:pt x="529" y="1970"/>
                      </a:lnTo>
                      <a:lnTo>
                        <a:pt x="530" y="2014"/>
                      </a:lnTo>
                      <a:lnTo>
                        <a:pt x="527" y="2058"/>
                      </a:lnTo>
                      <a:lnTo>
                        <a:pt x="520" y="2103"/>
                      </a:lnTo>
                      <a:lnTo>
                        <a:pt x="511" y="2147"/>
                      </a:lnTo>
                      <a:lnTo>
                        <a:pt x="500" y="2192"/>
                      </a:lnTo>
                      <a:lnTo>
                        <a:pt x="490" y="2236"/>
                      </a:lnTo>
                      <a:lnTo>
                        <a:pt x="479" y="2257"/>
                      </a:lnTo>
                      <a:lnTo>
                        <a:pt x="469" y="2278"/>
                      </a:lnTo>
                      <a:lnTo>
                        <a:pt x="459" y="2300"/>
                      </a:lnTo>
                      <a:lnTo>
                        <a:pt x="451" y="2321"/>
                      </a:lnTo>
                      <a:lnTo>
                        <a:pt x="441" y="2342"/>
                      </a:lnTo>
                      <a:lnTo>
                        <a:pt x="430" y="2364"/>
                      </a:lnTo>
                      <a:lnTo>
                        <a:pt x="418" y="2384"/>
                      </a:lnTo>
                      <a:lnTo>
                        <a:pt x="406" y="2404"/>
                      </a:lnTo>
                      <a:lnTo>
                        <a:pt x="388" y="2426"/>
                      </a:lnTo>
                      <a:lnTo>
                        <a:pt x="372" y="2446"/>
                      </a:lnTo>
                      <a:lnTo>
                        <a:pt x="357" y="2466"/>
                      </a:lnTo>
                      <a:lnTo>
                        <a:pt x="341" y="2487"/>
                      </a:lnTo>
                      <a:lnTo>
                        <a:pt x="325" y="2505"/>
                      </a:lnTo>
                      <a:lnTo>
                        <a:pt x="307" y="2523"/>
                      </a:lnTo>
                      <a:lnTo>
                        <a:pt x="288" y="2539"/>
                      </a:lnTo>
                      <a:lnTo>
                        <a:pt x="265" y="2554"/>
                      </a:lnTo>
                      <a:lnTo>
                        <a:pt x="277" y="2583"/>
                      </a:lnTo>
                      <a:lnTo>
                        <a:pt x="290" y="2610"/>
                      </a:lnTo>
                      <a:lnTo>
                        <a:pt x="302" y="2637"/>
                      </a:lnTo>
                      <a:lnTo>
                        <a:pt x="315" y="2664"/>
                      </a:lnTo>
                      <a:lnTo>
                        <a:pt x="328" y="2691"/>
                      </a:lnTo>
                      <a:lnTo>
                        <a:pt x="343" y="2716"/>
                      </a:lnTo>
                      <a:lnTo>
                        <a:pt x="358" y="2743"/>
                      </a:lnTo>
                      <a:lnTo>
                        <a:pt x="376" y="2770"/>
                      </a:lnTo>
                      <a:lnTo>
                        <a:pt x="386" y="2768"/>
                      </a:lnTo>
                      <a:lnTo>
                        <a:pt x="396" y="2764"/>
                      </a:lnTo>
                      <a:lnTo>
                        <a:pt x="405" y="2760"/>
                      </a:lnTo>
                      <a:lnTo>
                        <a:pt x="411" y="2755"/>
                      </a:lnTo>
                      <a:lnTo>
                        <a:pt x="417" y="2748"/>
                      </a:lnTo>
                      <a:lnTo>
                        <a:pt x="422" y="2741"/>
                      </a:lnTo>
                      <a:lnTo>
                        <a:pt x="426" y="2732"/>
                      </a:lnTo>
                      <a:lnTo>
                        <a:pt x="429" y="2722"/>
                      </a:lnTo>
                      <a:lnTo>
                        <a:pt x="431" y="2707"/>
                      </a:lnTo>
                      <a:lnTo>
                        <a:pt x="433" y="2691"/>
                      </a:lnTo>
                      <a:lnTo>
                        <a:pt x="439" y="2674"/>
                      </a:lnTo>
                      <a:lnTo>
                        <a:pt x="444" y="2658"/>
                      </a:lnTo>
                      <a:lnTo>
                        <a:pt x="452" y="2643"/>
                      </a:lnTo>
                      <a:lnTo>
                        <a:pt x="461" y="2628"/>
                      </a:lnTo>
                      <a:lnTo>
                        <a:pt x="472" y="2615"/>
                      </a:lnTo>
                      <a:lnTo>
                        <a:pt x="485" y="2604"/>
                      </a:lnTo>
                      <a:lnTo>
                        <a:pt x="501" y="2600"/>
                      </a:lnTo>
                      <a:lnTo>
                        <a:pt x="516" y="2598"/>
                      </a:lnTo>
                      <a:lnTo>
                        <a:pt x="532" y="2597"/>
                      </a:lnTo>
                      <a:lnTo>
                        <a:pt x="547" y="2598"/>
                      </a:lnTo>
                      <a:lnTo>
                        <a:pt x="562" y="2600"/>
                      </a:lnTo>
                      <a:lnTo>
                        <a:pt x="577" y="2604"/>
                      </a:lnTo>
                      <a:lnTo>
                        <a:pt x="592" y="2608"/>
                      </a:lnTo>
                      <a:lnTo>
                        <a:pt x="606" y="2613"/>
                      </a:lnTo>
                      <a:lnTo>
                        <a:pt x="621" y="2618"/>
                      </a:lnTo>
                      <a:lnTo>
                        <a:pt x="636" y="2623"/>
                      </a:lnTo>
                      <a:lnTo>
                        <a:pt x="651" y="2629"/>
                      </a:lnTo>
                      <a:lnTo>
                        <a:pt x="666" y="2634"/>
                      </a:lnTo>
                      <a:lnTo>
                        <a:pt x="681" y="2639"/>
                      </a:lnTo>
                      <a:lnTo>
                        <a:pt x="696" y="2643"/>
                      </a:lnTo>
                      <a:lnTo>
                        <a:pt x="711" y="2646"/>
                      </a:lnTo>
                      <a:lnTo>
                        <a:pt x="727" y="2648"/>
                      </a:lnTo>
                      <a:lnTo>
                        <a:pt x="745" y="2654"/>
                      </a:lnTo>
                      <a:lnTo>
                        <a:pt x="765" y="2658"/>
                      </a:lnTo>
                      <a:lnTo>
                        <a:pt x="786" y="2660"/>
                      </a:lnTo>
                      <a:lnTo>
                        <a:pt x="806" y="2661"/>
                      </a:lnTo>
                      <a:lnTo>
                        <a:pt x="827" y="2662"/>
                      </a:lnTo>
                      <a:lnTo>
                        <a:pt x="849" y="2662"/>
                      </a:lnTo>
                      <a:lnTo>
                        <a:pt x="869" y="2662"/>
                      </a:lnTo>
                      <a:lnTo>
                        <a:pt x="888" y="2662"/>
                      </a:lnTo>
                      <a:lnTo>
                        <a:pt x="897" y="2670"/>
                      </a:lnTo>
                      <a:lnTo>
                        <a:pt x="899" y="2682"/>
                      </a:lnTo>
                      <a:lnTo>
                        <a:pt x="902" y="2695"/>
                      </a:lnTo>
                      <a:lnTo>
                        <a:pt x="913" y="2703"/>
                      </a:lnTo>
                      <a:lnTo>
                        <a:pt x="930" y="2707"/>
                      </a:lnTo>
                      <a:lnTo>
                        <a:pt x="947" y="2711"/>
                      </a:lnTo>
                      <a:lnTo>
                        <a:pt x="962" y="2716"/>
                      </a:lnTo>
                      <a:lnTo>
                        <a:pt x="977" y="2724"/>
                      </a:lnTo>
                      <a:lnTo>
                        <a:pt x="991" y="2733"/>
                      </a:lnTo>
                      <a:lnTo>
                        <a:pt x="1004" y="2744"/>
                      </a:lnTo>
                      <a:lnTo>
                        <a:pt x="1015" y="2756"/>
                      </a:lnTo>
                      <a:lnTo>
                        <a:pt x="1024" y="2770"/>
                      </a:lnTo>
                      <a:lnTo>
                        <a:pt x="1023" y="2780"/>
                      </a:lnTo>
                      <a:lnTo>
                        <a:pt x="1021" y="2792"/>
                      </a:lnTo>
                      <a:lnTo>
                        <a:pt x="1019" y="2803"/>
                      </a:lnTo>
                      <a:lnTo>
                        <a:pt x="1017" y="2814"/>
                      </a:lnTo>
                      <a:lnTo>
                        <a:pt x="1012" y="2824"/>
                      </a:lnTo>
                      <a:lnTo>
                        <a:pt x="1006" y="2832"/>
                      </a:lnTo>
                      <a:lnTo>
                        <a:pt x="998" y="2839"/>
                      </a:lnTo>
                      <a:lnTo>
                        <a:pt x="986" y="2843"/>
                      </a:lnTo>
                      <a:lnTo>
                        <a:pt x="985" y="2849"/>
                      </a:lnTo>
                      <a:lnTo>
                        <a:pt x="982" y="2852"/>
                      </a:lnTo>
                      <a:lnTo>
                        <a:pt x="977" y="2854"/>
                      </a:lnTo>
                      <a:lnTo>
                        <a:pt x="973" y="2856"/>
                      </a:lnTo>
                      <a:lnTo>
                        <a:pt x="968" y="2857"/>
                      </a:lnTo>
                      <a:lnTo>
                        <a:pt x="962" y="2858"/>
                      </a:lnTo>
                      <a:lnTo>
                        <a:pt x="957" y="2859"/>
                      </a:lnTo>
                      <a:lnTo>
                        <a:pt x="953" y="2862"/>
                      </a:lnTo>
                      <a:lnTo>
                        <a:pt x="871" y="2862"/>
                      </a:lnTo>
                      <a:lnTo>
                        <a:pt x="879" y="2842"/>
                      </a:lnTo>
                      <a:lnTo>
                        <a:pt x="886" y="2822"/>
                      </a:lnTo>
                      <a:lnTo>
                        <a:pt x="895" y="2801"/>
                      </a:lnTo>
                      <a:lnTo>
                        <a:pt x="902" y="2779"/>
                      </a:lnTo>
                      <a:lnTo>
                        <a:pt x="895" y="2772"/>
                      </a:lnTo>
                      <a:lnTo>
                        <a:pt x="873" y="2776"/>
                      </a:lnTo>
                      <a:lnTo>
                        <a:pt x="852" y="2781"/>
                      </a:lnTo>
                      <a:lnTo>
                        <a:pt x="831" y="2786"/>
                      </a:lnTo>
                      <a:lnTo>
                        <a:pt x="809" y="2791"/>
                      </a:lnTo>
                      <a:lnTo>
                        <a:pt x="788" y="2795"/>
                      </a:lnTo>
                      <a:lnTo>
                        <a:pt x="766" y="2801"/>
                      </a:lnTo>
                      <a:lnTo>
                        <a:pt x="745" y="2805"/>
                      </a:lnTo>
                      <a:lnTo>
                        <a:pt x="724" y="2809"/>
                      </a:lnTo>
                      <a:lnTo>
                        <a:pt x="701" y="2814"/>
                      </a:lnTo>
                      <a:lnTo>
                        <a:pt x="680" y="2818"/>
                      </a:lnTo>
                      <a:lnTo>
                        <a:pt x="657" y="2821"/>
                      </a:lnTo>
                      <a:lnTo>
                        <a:pt x="636" y="2824"/>
                      </a:lnTo>
                      <a:lnTo>
                        <a:pt x="613" y="2827"/>
                      </a:lnTo>
                      <a:lnTo>
                        <a:pt x="590" y="2830"/>
                      </a:lnTo>
                      <a:lnTo>
                        <a:pt x="567" y="2832"/>
                      </a:lnTo>
                      <a:lnTo>
                        <a:pt x="544" y="2833"/>
                      </a:lnTo>
                      <a:lnTo>
                        <a:pt x="542" y="2836"/>
                      </a:lnTo>
                      <a:lnTo>
                        <a:pt x="539" y="2838"/>
                      </a:lnTo>
                      <a:lnTo>
                        <a:pt x="537" y="2840"/>
                      </a:lnTo>
                      <a:lnTo>
                        <a:pt x="538" y="2843"/>
                      </a:lnTo>
                      <a:lnTo>
                        <a:pt x="552" y="2850"/>
                      </a:lnTo>
                      <a:lnTo>
                        <a:pt x="567" y="2853"/>
                      </a:lnTo>
                      <a:lnTo>
                        <a:pt x="584" y="2855"/>
                      </a:lnTo>
                      <a:lnTo>
                        <a:pt x="602" y="2854"/>
                      </a:lnTo>
                      <a:lnTo>
                        <a:pt x="618" y="2854"/>
                      </a:lnTo>
                      <a:lnTo>
                        <a:pt x="634" y="2856"/>
                      </a:lnTo>
                      <a:lnTo>
                        <a:pt x="648" y="2859"/>
                      </a:lnTo>
                      <a:lnTo>
                        <a:pt x="660" y="2866"/>
                      </a:lnTo>
                      <a:lnTo>
                        <a:pt x="742" y="2866"/>
                      </a:lnTo>
                      <a:lnTo>
                        <a:pt x="727" y="2880"/>
                      </a:lnTo>
                      <a:lnTo>
                        <a:pt x="711" y="2892"/>
                      </a:lnTo>
                      <a:lnTo>
                        <a:pt x="695" y="2903"/>
                      </a:lnTo>
                      <a:lnTo>
                        <a:pt x="679" y="2915"/>
                      </a:lnTo>
                      <a:lnTo>
                        <a:pt x="663" y="2925"/>
                      </a:lnTo>
                      <a:lnTo>
                        <a:pt x="645" y="2935"/>
                      </a:lnTo>
                      <a:lnTo>
                        <a:pt x="629" y="2945"/>
                      </a:lnTo>
                      <a:lnTo>
                        <a:pt x="612" y="2955"/>
                      </a:lnTo>
                      <a:lnTo>
                        <a:pt x="619" y="2967"/>
                      </a:lnTo>
                      <a:lnTo>
                        <a:pt x="629" y="2974"/>
                      </a:lnTo>
                      <a:lnTo>
                        <a:pt x="643" y="2976"/>
                      </a:lnTo>
                      <a:lnTo>
                        <a:pt x="659" y="2975"/>
                      </a:lnTo>
                      <a:lnTo>
                        <a:pt x="675" y="2973"/>
                      </a:lnTo>
                      <a:lnTo>
                        <a:pt x="693" y="2971"/>
                      </a:lnTo>
                      <a:lnTo>
                        <a:pt x="710" y="2971"/>
                      </a:lnTo>
                      <a:lnTo>
                        <a:pt x="724" y="2973"/>
                      </a:lnTo>
                      <a:lnTo>
                        <a:pt x="727" y="2973"/>
                      </a:lnTo>
                      <a:lnTo>
                        <a:pt x="716" y="2975"/>
                      </a:lnTo>
                      <a:lnTo>
                        <a:pt x="706" y="2978"/>
                      </a:lnTo>
                      <a:lnTo>
                        <a:pt x="696" y="2981"/>
                      </a:lnTo>
                      <a:lnTo>
                        <a:pt x="685" y="2984"/>
                      </a:lnTo>
                      <a:lnTo>
                        <a:pt x="673" y="2989"/>
                      </a:lnTo>
                      <a:lnTo>
                        <a:pt x="663" y="2993"/>
                      </a:lnTo>
                      <a:lnTo>
                        <a:pt x="651" y="2997"/>
                      </a:lnTo>
                      <a:lnTo>
                        <a:pt x="640" y="3001"/>
                      </a:lnTo>
                      <a:lnTo>
                        <a:pt x="627" y="3004"/>
                      </a:lnTo>
                      <a:lnTo>
                        <a:pt x="613" y="3006"/>
                      </a:lnTo>
                      <a:lnTo>
                        <a:pt x="599" y="3008"/>
                      </a:lnTo>
                      <a:lnTo>
                        <a:pt x="584" y="3009"/>
                      </a:lnTo>
                      <a:lnTo>
                        <a:pt x="569" y="3010"/>
                      </a:lnTo>
                      <a:lnTo>
                        <a:pt x="553" y="3010"/>
                      </a:lnTo>
                      <a:lnTo>
                        <a:pt x="537" y="3010"/>
                      </a:lnTo>
                      <a:lnTo>
                        <a:pt x="521" y="3009"/>
                      </a:lnTo>
                      <a:lnTo>
                        <a:pt x="505" y="3008"/>
                      </a:lnTo>
                      <a:lnTo>
                        <a:pt x="489" y="3007"/>
                      </a:lnTo>
                      <a:lnTo>
                        <a:pt x="472" y="3005"/>
                      </a:lnTo>
                      <a:lnTo>
                        <a:pt x="456" y="3003"/>
                      </a:lnTo>
                      <a:lnTo>
                        <a:pt x="440" y="2999"/>
                      </a:lnTo>
                      <a:lnTo>
                        <a:pt x="424" y="2997"/>
                      </a:lnTo>
                      <a:lnTo>
                        <a:pt x="409" y="2993"/>
                      </a:lnTo>
                      <a:lnTo>
                        <a:pt x="394" y="2990"/>
                      </a:lnTo>
                      <a:lnTo>
                        <a:pt x="387" y="2990"/>
                      </a:lnTo>
                      <a:lnTo>
                        <a:pt x="410" y="2984"/>
                      </a:lnTo>
                      <a:lnTo>
                        <a:pt x="431" y="2977"/>
                      </a:lnTo>
                      <a:lnTo>
                        <a:pt x="452" y="2968"/>
                      </a:lnTo>
                      <a:lnTo>
                        <a:pt x="472" y="2959"/>
                      </a:lnTo>
                      <a:lnTo>
                        <a:pt x="491" y="2948"/>
                      </a:lnTo>
                      <a:lnTo>
                        <a:pt x="509" y="2937"/>
                      </a:lnTo>
                      <a:lnTo>
                        <a:pt x="527" y="2925"/>
                      </a:lnTo>
                      <a:lnTo>
                        <a:pt x="544" y="2912"/>
                      </a:lnTo>
                      <a:lnTo>
                        <a:pt x="530" y="2906"/>
                      </a:lnTo>
                      <a:lnTo>
                        <a:pt x="516" y="2903"/>
                      </a:lnTo>
                      <a:lnTo>
                        <a:pt x="502" y="2900"/>
                      </a:lnTo>
                      <a:lnTo>
                        <a:pt x="488" y="2899"/>
                      </a:lnTo>
                      <a:lnTo>
                        <a:pt x="473" y="2898"/>
                      </a:lnTo>
                      <a:lnTo>
                        <a:pt x="459" y="2897"/>
                      </a:lnTo>
                      <a:lnTo>
                        <a:pt x="444" y="2897"/>
                      </a:lnTo>
                      <a:lnTo>
                        <a:pt x="429" y="2897"/>
                      </a:lnTo>
                      <a:lnTo>
                        <a:pt x="412" y="2894"/>
                      </a:lnTo>
                      <a:lnTo>
                        <a:pt x="394" y="2892"/>
                      </a:lnTo>
                      <a:lnTo>
                        <a:pt x="375" y="2890"/>
                      </a:lnTo>
                      <a:lnTo>
                        <a:pt x="355" y="2888"/>
                      </a:lnTo>
                      <a:lnTo>
                        <a:pt x="336" y="2885"/>
                      </a:lnTo>
                      <a:lnTo>
                        <a:pt x="318" y="2880"/>
                      </a:lnTo>
                      <a:lnTo>
                        <a:pt x="300" y="2872"/>
                      </a:lnTo>
                      <a:lnTo>
                        <a:pt x="284" y="2862"/>
                      </a:lnTo>
                      <a:lnTo>
                        <a:pt x="279" y="2866"/>
                      </a:lnTo>
                      <a:lnTo>
                        <a:pt x="277" y="2870"/>
                      </a:lnTo>
                      <a:lnTo>
                        <a:pt x="276" y="2877"/>
                      </a:lnTo>
                      <a:lnTo>
                        <a:pt x="276" y="2883"/>
                      </a:lnTo>
                      <a:lnTo>
                        <a:pt x="284" y="2889"/>
                      </a:lnTo>
                      <a:lnTo>
                        <a:pt x="292" y="2897"/>
                      </a:lnTo>
                      <a:lnTo>
                        <a:pt x="300" y="2904"/>
                      </a:lnTo>
                      <a:lnTo>
                        <a:pt x="308" y="2912"/>
                      </a:lnTo>
                      <a:lnTo>
                        <a:pt x="317" y="2918"/>
                      </a:lnTo>
                      <a:lnTo>
                        <a:pt x="325" y="2924"/>
                      </a:lnTo>
                      <a:lnTo>
                        <a:pt x="335" y="2927"/>
                      </a:lnTo>
                      <a:lnTo>
                        <a:pt x="345" y="2929"/>
                      </a:lnTo>
                      <a:lnTo>
                        <a:pt x="350" y="2932"/>
                      </a:lnTo>
                      <a:lnTo>
                        <a:pt x="355" y="2934"/>
                      </a:lnTo>
                      <a:lnTo>
                        <a:pt x="360" y="2939"/>
                      </a:lnTo>
                      <a:lnTo>
                        <a:pt x="363" y="2944"/>
                      </a:lnTo>
                      <a:lnTo>
                        <a:pt x="350" y="2950"/>
                      </a:lnTo>
                      <a:lnTo>
                        <a:pt x="336" y="2955"/>
                      </a:lnTo>
                      <a:lnTo>
                        <a:pt x="322" y="2959"/>
                      </a:lnTo>
                      <a:lnTo>
                        <a:pt x="308" y="2962"/>
                      </a:lnTo>
                      <a:lnTo>
                        <a:pt x="294" y="2964"/>
                      </a:lnTo>
                      <a:lnTo>
                        <a:pt x="280" y="2966"/>
                      </a:lnTo>
                      <a:lnTo>
                        <a:pt x="265" y="2967"/>
                      </a:lnTo>
                      <a:lnTo>
                        <a:pt x="251" y="2968"/>
                      </a:lnTo>
                      <a:lnTo>
                        <a:pt x="236" y="2968"/>
                      </a:lnTo>
                      <a:lnTo>
                        <a:pt x="221" y="2970"/>
                      </a:lnTo>
                      <a:lnTo>
                        <a:pt x="208" y="2970"/>
                      </a:lnTo>
                      <a:lnTo>
                        <a:pt x="194" y="2968"/>
                      </a:lnTo>
                      <a:lnTo>
                        <a:pt x="180" y="2968"/>
                      </a:lnTo>
                      <a:lnTo>
                        <a:pt x="166" y="2968"/>
                      </a:lnTo>
                      <a:lnTo>
                        <a:pt x="152" y="2970"/>
                      </a:lnTo>
                      <a:lnTo>
                        <a:pt x="139" y="2970"/>
                      </a:lnTo>
                      <a:lnTo>
                        <a:pt x="137" y="2974"/>
                      </a:lnTo>
                      <a:lnTo>
                        <a:pt x="137" y="2978"/>
                      </a:lnTo>
                      <a:lnTo>
                        <a:pt x="137" y="2984"/>
                      </a:lnTo>
                      <a:lnTo>
                        <a:pt x="137" y="2990"/>
                      </a:lnTo>
                      <a:lnTo>
                        <a:pt x="251" y="3054"/>
                      </a:lnTo>
                      <a:lnTo>
                        <a:pt x="237" y="3053"/>
                      </a:lnTo>
                      <a:lnTo>
                        <a:pt x="224" y="3053"/>
                      </a:lnTo>
                      <a:lnTo>
                        <a:pt x="209" y="3052"/>
                      </a:lnTo>
                      <a:lnTo>
                        <a:pt x="195" y="3052"/>
                      </a:lnTo>
                      <a:lnTo>
                        <a:pt x="181" y="3051"/>
                      </a:lnTo>
                      <a:lnTo>
                        <a:pt x="166" y="3051"/>
                      </a:lnTo>
                      <a:lnTo>
                        <a:pt x="151" y="3050"/>
                      </a:lnTo>
                      <a:lnTo>
                        <a:pt x="137" y="3049"/>
                      </a:lnTo>
                      <a:lnTo>
                        <a:pt x="122" y="3048"/>
                      </a:lnTo>
                      <a:lnTo>
                        <a:pt x="108" y="3045"/>
                      </a:lnTo>
                      <a:lnTo>
                        <a:pt x="94" y="3043"/>
                      </a:lnTo>
                      <a:lnTo>
                        <a:pt x="79" y="3041"/>
                      </a:lnTo>
                      <a:lnTo>
                        <a:pt x="65" y="3038"/>
                      </a:lnTo>
                      <a:lnTo>
                        <a:pt x="51" y="3035"/>
                      </a:lnTo>
                      <a:lnTo>
                        <a:pt x="37" y="3030"/>
                      </a:lnTo>
                      <a:lnTo>
                        <a:pt x="24" y="3026"/>
                      </a:lnTo>
                      <a:lnTo>
                        <a:pt x="22" y="3030"/>
                      </a:lnTo>
                      <a:lnTo>
                        <a:pt x="14" y="3023"/>
                      </a:lnTo>
                      <a:lnTo>
                        <a:pt x="14" y="3015"/>
                      </a:lnTo>
                      <a:lnTo>
                        <a:pt x="15" y="3007"/>
                      </a:lnTo>
                      <a:lnTo>
                        <a:pt x="12" y="2997"/>
                      </a:lnTo>
                      <a:lnTo>
                        <a:pt x="0" y="2919"/>
                      </a:lnTo>
                      <a:lnTo>
                        <a:pt x="14" y="2919"/>
                      </a:lnTo>
                      <a:lnTo>
                        <a:pt x="28" y="2919"/>
                      </a:lnTo>
                      <a:lnTo>
                        <a:pt x="42" y="2919"/>
                      </a:lnTo>
                      <a:lnTo>
                        <a:pt x="57" y="2919"/>
                      </a:lnTo>
                      <a:lnTo>
                        <a:pt x="70" y="2920"/>
                      </a:lnTo>
                      <a:lnTo>
                        <a:pt x="85" y="2919"/>
                      </a:lnTo>
                      <a:lnTo>
                        <a:pt x="100" y="2919"/>
                      </a:lnTo>
                      <a:lnTo>
                        <a:pt x="115" y="2919"/>
                      </a:lnTo>
                      <a:lnTo>
                        <a:pt x="130" y="2919"/>
                      </a:lnTo>
                      <a:lnTo>
                        <a:pt x="145" y="2919"/>
                      </a:lnTo>
                      <a:lnTo>
                        <a:pt x="160" y="2918"/>
                      </a:lnTo>
                      <a:lnTo>
                        <a:pt x="175" y="2918"/>
                      </a:lnTo>
                      <a:lnTo>
                        <a:pt x="189" y="2917"/>
                      </a:lnTo>
                      <a:lnTo>
                        <a:pt x="204" y="2917"/>
                      </a:lnTo>
                      <a:lnTo>
                        <a:pt x="219" y="2916"/>
                      </a:lnTo>
                      <a:lnTo>
                        <a:pt x="233" y="2915"/>
                      </a:lnTo>
                      <a:lnTo>
                        <a:pt x="232" y="2904"/>
                      </a:lnTo>
                      <a:lnTo>
                        <a:pt x="228" y="2895"/>
                      </a:lnTo>
                      <a:lnTo>
                        <a:pt x="219" y="2887"/>
                      </a:lnTo>
                      <a:lnTo>
                        <a:pt x="211" y="2880"/>
                      </a:lnTo>
                      <a:lnTo>
                        <a:pt x="200" y="2874"/>
                      </a:lnTo>
                      <a:lnTo>
                        <a:pt x="190" y="2868"/>
                      </a:lnTo>
                      <a:lnTo>
                        <a:pt x="182" y="2862"/>
                      </a:lnTo>
                      <a:lnTo>
                        <a:pt x="175" y="2855"/>
                      </a:lnTo>
                      <a:lnTo>
                        <a:pt x="164" y="2846"/>
                      </a:lnTo>
                      <a:lnTo>
                        <a:pt x="153" y="2835"/>
                      </a:lnTo>
                      <a:lnTo>
                        <a:pt x="141" y="2823"/>
                      </a:lnTo>
                      <a:lnTo>
                        <a:pt x="130" y="2811"/>
                      </a:lnTo>
                      <a:lnTo>
                        <a:pt x="121" y="2800"/>
                      </a:lnTo>
                      <a:lnTo>
                        <a:pt x="113" y="2788"/>
                      </a:lnTo>
                      <a:lnTo>
                        <a:pt x="107" y="2776"/>
                      </a:lnTo>
                      <a:lnTo>
                        <a:pt x="104" y="2764"/>
                      </a:lnTo>
                      <a:lnTo>
                        <a:pt x="122" y="2761"/>
                      </a:lnTo>
                      <a:lnTo>
                        <a:pt x="140" y="2760"/>
                      </a:lnTo>
                      <a:lnTo>
                        <a:pt x="159" y="2760"/>
                      </a:lnTo>
                      <a:lnTo>
                        <a:pt x="179" y="2760"/>
                      </a:lnTo>
                      <a:lnTo>
                        <a:pt x="198" y="2759"/>
                      </a:lnTo>
                      <a:lnTo>
                        <a:pt x="216" y="2756"/>
                      </a:lnTo>
                      <a:lnTo>
                        <a:pt x="233" y="2750"/>
                      </a:lnTo>
                      <a:lnTo>
                        <a:pt x="248" y="2740"/>
                      </a:lnTo>
                      <a:lnTo>
                        <a:pt x="245" y="2736"/>
                      </a:lnTo>
                      <a:lnTo>
                        <a:pt x="241" y="2733"/>
                      </a:lnTo>
                      <a:lnTo>
                        <a:pt x="236" y="2732"/>
                      </a:lnTo>
                      <a:lnTo>
                        <a:pt x="232" y="2732"/>
                      </a:lnTo>
                      <a:lnTo>
                        <a:pt x="228" y="2732"/>
                      </a:lnTo>
                      <a:lnTo>
                        <a:pt x="224" y="2732"/>
                      </a:lnTo>
                      <a:lnTo>
                        <a:pt x="219" y="2731"/>
                      </a:lnTo>
                      <a:lnTo>
                        <a:pt x="215" y="2729"/>
                      </a:lnTo>
                      <a:lnTo>
                        <a:pt x="198" y="2717"/>
                      </a:lnTo>
                      <a:lnTo>
                        <a:pt x="181" y="2707"/>
                      </a:lnTo>
                      <a:lnTo>
                        <a:pt x="163" y="2696"/>
                      </a:lnTo>
                      <a:lnTo>
                        <a:pt x="144" y="2684"/>
                      </a:lnTo>
                      <a:lnTo>
                        <a:pt x="126" y="2671"/>
                      </a:lnTo>
                      <a:lnTo>
                        <a:pt x="109" y="2658"/>
                      </a:lnTo>
                      <a:lnTo>
                        <a:pt x="93" y="2643"/>
                      </a:lnTo>
                      <a:lnTo>
                        <a:pt x="78" y="2625"/>
                      </a:lnTo>
                      <a:lnTo>
                        <a:pt x="104" y="2599"/>
                      </a:lnTo>
                      <a:lnTo>
                        <a:pt x="129" y="2572"/>
                      </a:lnTo>
                      <a:lnTo>
                        <a:pt x="155" y="2543"/>
                      </a:lnTo>
                      <a:lnTo>
                        <a:pt x="180" y="2513"/>
                      </a:lnTo>
                      <a:lnTo>
                        <a:pt x="204" y="2482"/>
                      </a:lnTo>
                      <a:lnTo>
                        <a:pt x="228" y="2450"/>
                      </a:lnTo>
                      <a:lnTo>
                        <a:pt x="250" y="2417"/>
                      </a:lnTo>
                      <a:lnTo>
                        <a:pt x="272" y="2384"/>
                      </a:lnTo>
                      <a:lnTo>
                        <a:pt x="291" y="2350"/>
                      </a:lnTo>
                      <a:lnTo>
                        <a:pt x="310" y="2314"/>
                      </a:lnTo>
                      <a:lnTo>
                        <a:pt x="327" y="2279"/>
                      </a:lnTo>
                      <a:lnTo>
                        <a:pt x="342" y="2243"/>
                      </a:lnTo>
                      <a:lnTo>
                        <a:pt x="355" y="2207"/>
                      </a:lnTo>
                      <a:lnTo>
                        <a:pt x="367" y="2169"/>
                      </a:lnTo>
                      <a:lnTo>
                        <a:pt x="377" y="2132"/>
                      </a:lnTo>
                      <a:lnTo>
                        <a:pt x="383" y="2094"/>
                      </a:lnTo>
                      <a:lnTo>
                        <a:pt x="393" y="2059"/>
                      </a:lnTo>
                      <a:lnTo>
                        <a:pt x="400" y="2023"/>
                      </a:lnTo>
                      <a:lnTo>
                        <a:pt x="407" y="1986"/>
                      </a:lnTo>
                      <a:lnTo>
                        <a:pt x="412" y="1949"/>
                      </a:lnTo>
                      <a:lnTo>
                        <a:pt x="417" y="1913"/>
                      </a:lnTo>
                      <a:lnTo>
                        <a:pt x="423" y="1877"/>
                      </a:lnTo>
                      <a:lnTo>
                        <a:pt x="429" y="1842"/>
                      </a:lnTo>
                      <a:lnTo>
                        <a:pt x="437" y="1808"/>
                      </a:lnTo>
                      <a:lnTo>
                        <a:pt x="453" y="1786"/>
                      </a:lnTo>
                      <a:lnTo>
                        <a:pt x="468" y="1764"/>
                      </a:lnTo>
                      <a:lnTo>
                        <a:pt x="484" y="1743"/>
                      </a:lnTo>
                      <a:lnTo>
                        <a:pt x="500" y="1721"/>
                      </a:lnTo>
                      <a:lnTo>
                        <a:pt x="516" y="1700"/>
                      </a:lnTo>
                      <a:lnTo>
                        <a:pt x="531" y="1679"/>
                      </a:lnTo>
                      <a:lnTo>
                        <a:pt x="547" y="1658"/>
                      </a:lnTo>
                      <a:lnTo>
                        <a:pt x="563" y="1637"/>
                      </a:lnTo>
                      <a:lnTo>
                        <a:pt x="579" y="1617"/>
                      </a:lnTo>
                      <a:lnTo>
                        <a:pt x="595" y="1595"/>
                      </a:lnTo>
                      <a:lnTo>
                        <a:pt x="611" y="1575"/>
                      </a:lnTo>
                      <a:lnTo>
                        <a:pt x="627" y="1555"/>
                      </a:lnTo>
                      <a:lnTo>
                        <a:pt x="643" y="1533"/>
                      </a:lnTo>
                      <a:lnTo>
                        <a:pt x="659" y="1513"/>
                      </a:lnTo>
                      <a:lnTo>
                        <a:pt x="675" y="1493"/>
                      </a:lnTo>
                      <a:lnTo>
                        <a:pt x="691" y="1472"/>
                      </a:lnTo>
                      <a:lnTo>
                        <a:pt x="712" y="1438"/>
                      </a:lnTo>
                      <a:lnTo>
                        <a:pt x="732" y="1404"/>
                      </a:lnTo>
                      <a:lnTo>
                        <a:pt x="751" y="1370"/>
                      </a:lnTo>
                      <a:lnTo>
                        <a:pt x="772" y="1336"/>
                      </a:lnTo>
                      <a:lnTo>
                        <a:pt x="790" y="1303"/>
                      </a:lnTo>
                      <a:lnTo>
                        <a:pt x="808" y="1268"/>
                      </a:lnTo>
                      <a:lnTo>
                        <a:pt x="825" y="1234"/>
                      </a:lnTo>
                      <a:lnTo>
                        <a:pt x="841" y="1200"/>
                      </a:lnTo>
                      <a:lnTo>
                        <a:pt x="850" y="1186"/>
                      </a:lnTo>
                      <a:lnTo>
                        <a:pt x="856" y="1170"/>
                      </a:lnTo>
                      <a:lnTo>
                        <a:pt x="863" y="1154"/>
                      </a:lnTo>
                      <a:lnTo>
                        <a:pt x="867" y="1138"/>
                      </a:lnTo>
                      <a:lnTo>
                        <a:pt x="872" y="1122"/>
                      </a:lnTo>
                      <a:lnTo>
                        <a:pt x="878" y="1107"/>
                      </a:lnTo>
                      <a:lnTo>
                        <a:pt x="884" y="1092"/>
                      </a:lnTo>
                      <a:lnTo>
                        <a:pt x="892" y="1079"/>
                      </a:lnTo>
                      <a:lnTo>
                        <a:pt x="896" y="1062"/>
                      </a:lnTo>
                      <a:lnTo>
                        <a:pt x="899" y="1046"/>
                      </a:lnTo>
                      <a:lnTo>
                        <a:pt x="905" y="1031"/>
                      </a:lnTo>
                      <a:lnTo>
                        <a:pt x="909" y="1016"/>
                      </a:lnTo>
                      <a:lnTo>
                        <a:pt x="914" y="1001"/>
                      </a:lnTo>
                      <a:lnTo>
                        <a:pt x="921" y="986"/>
                      </a:lnTo>
                      <a:lnTo>
                        <a:pt x="927" y="972"/>
                      </a:lnTo>
                      <a:lnTo>
                        <a:pt x="934" y="957"/>
                      </a:lnTo>
                      <a:lnTo>
                        <a:pt x="954" y="956"/>
                      </a:lnTo>
                      <a:lnTo>
                        <a:pt x="969" y="962"/>
                      </a:lnTo>
                      <a:lnTo>
                        <a:pt x="982" y="971"/>
                      </a:lnTo>
                      <a:lnTo>
                        <a:pt x="992" y="985"/>
                      </a:lnTo>
                      <a:lnTo>
                        <a:pt x="1001" y="1001"/>
                      </a:lnTo>
                      <a:lnTo>
                        <a:pt x="1008" y="1017"/>
                      </a:lnTo>
                      <a:lnTo>
                        <a:pt x="1016" y="1034"/>
                      </a:lnTo>
                      <a:lnTo>
                        <a:pt x="1024" y="1050"/>
                      </a:lnTo>
                      <a:lnTo>
                        <a:pt x="1033" y="1095"/>
                      </a:lnTo>
                      <a:lnTo>
                        <a:pt x="1040" y="1138"/>
                      </a:lnTo>
                      <a:lnTo>
                        <a:pt x="1048" y="1182"/>
                      </a:lnTo>
                      <a:lnTo>
                        <a:pt x="1052" y="1229"/>
                      </a:lnTo>
                      <a:lnTo>
                        <a:pt x="1057" y="1236"/>
                      </a:lnTo>
                      <a:lnTo>
                        <a:pt x="1054" y="1245"/>
                      </a:lnTo>
                      <a:lnTo>
                        <a:pt x="1052" y="1252"/>
                      </a:lnTo>
                      <a:lnTo>
                        <a:pt x="1057" y="1261"/>
                      </a:lnTo>
                      <a:lnTo>
                        <a:pt x="1063" y="1266"/>
                      </a:lnTo>
                      <a:lnTo>
                        <a:pt x="1069" y="1271"/>
                      </a:lnTo>
                      <a:lnTo>
                        <a:pt x="1078" y="1271"/>
                      </a:lnTo>
                      <a:lnTo>
                        <a:pt x="1085" y="1267"/>
                      </a:lnTo>
                      <a:lnTo>
                        <a:pt x="1092" y="1248"/>
                      </a:lnTo>
                      <a:lnTo>
                        <a:pt x="1094" y="1228"/>
                      </a:lnTo>
                      <a:lnTo>
                        <a:pt x="1096" y="1207"/>
                      </a:lnTo>
                      <a:lnTo>
                        <a:pt x="1103" y="1188"/>
                      </a:lnTo>
                      <a:lnTo>
                        <a:pt x="1111" y="1172"/>
                      </a:lnTo>
                      <a:lnTo>
                        <a:pt x="1118" y="1156"/>
                      </a:lnTo>
                      <a:lnTo>
                        <a:pt x="1125" y="1139"/>
                      </a:lnTo>
                      <a:lnTo>
                        <a:pt x="1131" y="1122"/>
                      </a:lnTo>
                      <a:lnTo>
                        <a:pt x="1134" y="1100"/>
                      </a:lnTo>
                      <a:lnTo>
                        <a:pt x="1141" y="1079"/>
                      </a:lnTo>
                      <a:lnTo>
                        <a:pt x="1149" y="1060"/>
                      </a:lnTo>
                      <a:lnTo>
                        <a:pt x="1154" y="1039"/>
                      </a:lnTo>
                      <a:lnTo>
                        <a:pt x="1158" y="1001"/>
                      </a:lnTo>
                      <a:lnTo>
                        <a:pt x="1164" y="964"/>
                      </a:lnTo>
                      <a:lnTo>
                        <a:pt x="1171" y="925"/>
                      </a:lnTo>
                      <a:lnTo>
                        <a:pt x="1180" y="888"/>
                      </a:lnTo>
                      <a:lnTo>
                        <a:pt x="1188" y="851"/>
                      </a:lnTo>
                      <a:lnTo>
                        <a:pt x="1196" y="812"/>
                      </a:lnTo>
                      <a:lnTo>
                        <a:pt x="1203" y="775"/>
                      </a:lnTo>
                      <a:lnTo>
                        <a:pt x="1210" y="736"/>
                      </a:lnTo>
                      <a:lnTo>
                        <a:pt x="1218" y="697"/>
                      </a:lnTo>
                      <a:lnTo>
                        <a:pt x="1225" y="658"/>
                      </a:lnTo>
                      <a:lnTo>
                        <a:pt x="1229" y="619"/>
                      </a:lnTo>
                      <a:lnTo>
                        <a:pt x="1232" y="579"/>
                      </a:lnTo>
                      <a:lnTo>
                        <a:pt x="1234" y="540"/>
                      </a:lnTo>
                      <a:lnTo>
                        <a:pt x="1236" y="500"/>
                      </a:lnTo>
                      <a:lnTo>
                        <a:pt x="1240" y="461"/>
                      </a:lnTo>
                      <a:lnTo>
                        <a:pt x="1243" y="421"/>
                      </a:lnTo>
                      <a:lnTo>
                        <a:pt x="1249" y="385"/>
                      </a:lnTo>
                      <a:lnTo>
                        <a:pt x="1254" y="345"/>
                      </a:lnTo>
                      <a:lnTo>
                        <a:pt x="1254" y="305"/>
                      </a:lnTo>
                      <a:lnTo>
                        <a:pt x="1254" y="264"/>
                      </a:lnTo>
                      <a:lnTo>
                        <a:pt x="1259" y="239"/>
                      </a:lnTo>
                      <a:lnTo>
                        <a:pt x="1263" y="213"/>
                      </a:lnTo>
                      <a:lnTo>
                        <a:pt x="1265" y="184"/>
                      </a:lnTo>
                      <a:lnTo>
                        <a:pt x="1269" y="156"/>
                      </a:lnTo>
                      <a:lnTo>
                        <a:pt x="1271" y="139"/>
                      </a:lnTo>
                      <a:lnTo>
                        <a:pt x="1273" y="122"/>
                      </a:lnTo>
                      <a:lnTo>
                        <a:pt x="1276" y="104"/>
                      </a:lnTo>
                      <a:lnTo>
                        <a:pt x="1280" y="87"/>
                      </a:lnTo>
                      <a:lnTo>
                        <a:pt x="1285" y="69"/>
                      </a:lnTo>
                      <a:lnTo>
                        <a:pt x="1290" y="51"/>
                      </a:lnTo>
                      <a:lnTo>
                        <a:pt x="1295" y="34"/>
                      </a:lnTo>
                      <a:lnTo>
                        <a:pt x="1301" y="17"/>
                      </a:lnTo>
                      <a:lnTo>
                        <a:pt x="1306" y="12"/>
                      </a:lnTo>
                      <a:lnTo>
                        <a:pt x="1312" y="6"/>
                      </a:lnTo>
                      <a:lnTo>
                        <a:pt x="1319" y="3"/>
                      </a:lnTo>
                      <a:lnTo>
                        <a:pt x="1327" y="1"/>
                      </a:lnTo>
                      <a:lnTo>
                        <a:pt x="1335" y="0"/>
                      </a:lnTo>
                      <a:lnTo>
                        <a:pt x="1343" y="1"/>
                      </a:lnTo>
                      <a:lnTo>
                        <a:pt x="1352" y="2"/>
                      </a:lnTo>
                      <a:lnTo>
                        <a:pt x="1361" y="5"/>
                      </a:lnTo>
                      <a:lnTo>
                        <a:pt x="1370" y="12"/>
                      </a:lnTo>
                      <a:lnTo>
                        <a:pt x="1378" y="18"/>
                      </a:lnTo>
                      <a:lnTo>
                        <a:pt x="1384" y="27"/>
                      </a:lnTo>
                      <a:lnTo>
                        <a:pt x="1391" y="35"/>
                      </a:lnTo>
                      <a:lnTo>
                        <a:pt x="1395" y="45"/>
                      </a:lnTo>
                      <a:lnTo>
                        <a:pt x="1400" y="53"/>
                      </a:lnTo>
                      <a:lnTo>
                        <a:pt x="1406" y="63"/>
                      </a:lnTo>
                      <a:lnTo>
                        <a:pt x="1411" y="72"/>
                      </a:lnTo>
                      <a:close/>
                    </a:path>
                  </a:pathLst>
                </a:custGeom>
                <a:solidFill>
                  <a:srgbClr val="bf8e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flipH="1">
                  <a:off x="1173600" y="3885480"/>
                  <a:ext cx="81000" cy="162360"/>
                </a:xfrm>
                <a:custGeom>
                  <a:avLst/>
                  <a:gdLst/>
                  <a:ahLst/>
                  <a:rect l="l" t="t" r="r" b="b"/>
                  <a:pathLst>
                    <a:path w="473" h="893">
                      <a:moveTo>
                        <a:pt x="455" y="60"/>
                      </a:moveTo>
                      <a:lnTo>
                        <a:pt x="467" y="122"/>
                      </a:lnTo>
                      <a:lnTo>
                        <a:pt x="473" y="183"/>
                      </a:lnTo>
                      <a:lnTo>
                        <a:pt x="472" y="244"/>
                      </a:lnTo>
                      <a:lnTo>
                        <a:pt x="464" y="304"/>
                      </a:lnTo>
                      <a:lnTo>
                        <a:pt x="451" y="361"/>
                      </a:lnTo>
                      <a:lnTo>
                        <a:pt x="433" y="418"/>
                      </a:lnTo>
                      <a:lnTo>
                        <a:pt x="409" y="472"/>
                      </a:lnTo>
                      <a:lnTo>
                        <a:pt x="381" y="525"/>
                      </a:lnTo>
                      <a:lnTo>
                        <a:pt x="363" y="553"/>
                      </a:lnTo>
                      <a:lnTo>
                        <a:pt x="343" y="579"/>
                      </a:lnTo>
                      <a:lnTo>
                        <a:pt x="324" y="605"/>
                      </a:lnTo>
                      <a:lnTo>
                        <a:pt x="304" y="631"/>
                      </a:lnTo>
                      <a:lnTo>
                        <a:pt x="283" y="656"/>
                      </a:lnTo>
                      <a:lnTo>
                        <a:pt x="263" y="682"/>
                      </a:lnTo>
                      <a:lnTo>
                        <a:pt x="243" y="707"/>
                      </a:lnTo>
                      <a:lnTo>
                        <a:pt x="223" y="733"/>
                      </a:lnTo>
                      <a:lnTo>
                        <a:pt x="122" y="833"/>
                      </a:lnTo>
                      <a:lnTo>
                        <a:pt x="120" y="829"/>
                      </a:lnTo>
                      <a:lnTo>
                        <a:pt x="106" y="840"/>
                      </a:lnTo>
                      <a:lnTo>
                        <a:pt x="93" y="851"/>
                      </a:lnTo>
                      <a:lnTo>
                        <a:pt x="79" y="861"/>
                      </a:lnTo>
                      <a:lnTo>
                        <a:pt x="65" y="871"/>
                      </a:lnTo>
                      <a:lnTo>
                        <a:pt x="51" y="881"/>
                      </a:lnTo>
                      <a:lnTo>
                        <a:pt x="35" y="887"/>
                      </a:lnTo>
                      <a:lnTo>
                        <a:pt x="18" y="891"/>
                      </a:lnTo>
                      <a:lnTo>
                        <a:pt x="0" y="893"/>
                      </a:lnTo>
                      <a:lnTo>
                        <a:pt x="6" y="869"/>
                      </a:lnTo>
                      <a:lnTo>
                        <a:pt x="17" y="846"/>
                      </a:lnTo>
                      <a:lnTo>
                        <a:pt x="31" y="827"/>
                      </a:lnTo>
                      <a:lnTo>
                        <a:pt x="47" y="809"/>
                      </a:lnTo>
                      <a:lnTo>
                        <a:pt x="62" y="791"/>
                      </a:lnTo>
                      <a:lnTo>
                        <a:pt x="77" y="772"/>
                      </a:lnTo>
                      <a:lnTo>
                        <a:pt x="88" y="751"/>
                      </a:lnTo>
                      <a:lnTo>
                        <a:pt x="97" y="728"/>
                      </a:lnTo>
                      <a:lnTo>
                        <a:pt x="120" y="689"/>
                      </a:lnTo>
                      <a:lnTo>
                        <a:pt x="141" y="650"/>
                      </a:lnTo>
                      <a:lnTo>
                        <a:pt x="161" y="610"/>
                      </a:lnTo>
                      <a:lnTo>
                        <a:pt x="182" y="570"/>
                      </a:lnTo>
                      <a:lnTo>
                        <a:pt x="201" y="529"/>
                      </a:lnTo>
                      <a:lnTo>
                        <a:pt x="220" y="488"/>
                      </a:lnTo>
                      <a:lnTo>
                        <a:pt x="239" y="448"/>
                      </a:lnTo>
                      <a:lnTo>
                        <a:pt x="258" y="407"/>
                      </a:lnTo>
                      <a:lnTo>
                        <a:pt x="276" y="366"/>
                      </a:lnTo>
                      <a:lnTo>
                        <a:pt x="293" y="324"/>
                      </a:lnTo>
                      <a:lnTo>
                        <a:pt x="310" y="283"/>
                      </a:lnTo>
                      <a:lnTo>
                        <a:pt x="327" y="242"/>
                      </a:lnTo>
                      <a:lnTo>
                        <a:pt x="344" y="200"/>
                      </a:lnTo>
                      <a:lnTo>
                        <a:pt x="360" y="158"/>
                      </a:lnTo>
                      <a:lnTo>
                        <a:pt x="375" y="117"/>
                      </a:lnTo>
                      <a:lnTo>
                        <a:pt x="391" y="75"/>
                      </a:lnTo>
                      <a:lnTo>
                        <a:pt x="397" y="65"/>
                      </a:lnTo>
                      <a:lnTo>
                        <a:pt x="400" y="56"/>
                      </a:lnTo>
                      <a:lnTo>
                        <a:pt x="403" y="45"/>
                      </a:lnTo>
                      <a:lnTo>
                        <a:pt x="405" y="34"/>
                      </a:lnTo>
                      <a:lnTo>
                        <a:pt x="409" y="24"/>
                      </a:lnTo>
                      <a:lnTo>
                        <a:pt x="412" y="14"/>
                      </a:lnTo>
                      <a:lnTo>
                        <a:pt x="417" y="7"/>
                      </a:lnTo>
                      <a:lnTo>
                        <a:pt x="424" y="0"/>
                      </a:lnTo>
                      <a:lnTo>
                        <a:pt x="435" y="14"/>
                      </a:lnTo>
                      <a:lnTo>
                        <a:pt x="444" y="28"/>
                      </a:lnTo>
                      <a:lnTo>
                        <a:pt x="449" y="43"/>
                      </a:lnTo>
                      <a:lnTo>
                        <a:pt x="455" y="60"/>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flipH="1">
                  <a:off x="1163160" y="3990600"/>
                  <a:ext cx="106200" cy="105840"/>
                </a:xfrm>
                <a:custGeom>
                  <a:avLst/>
                  <a:gdLst/>
                  <a:ahLst/>
                  <a:rect l="l" t="t" r="r" b="b"/>
                  <a:pathLst>
                    <a:path w="619" h="580">
                      <a:moveTo>
                        <a:pt x="619" y="101"/>
                      </a:moveTo>
                      <a:lnTo>
                        <a:pt x="610" y="140"/>
                      </a:lnTo>
                      <a:lnTo>
                        <a:pt x="597" y="176"/>
                      </a:lnTo>
                      <a:lnTo>
                        <a:pt x="582" y="212"/>
                      </a:lnTo>
                      <a:lnTo>
                        <a:pt x="564" y="245"/>
                      </a:lnTo>
                      <a:lnTo>
                        <a:pt x="544" y="277"/>
                      </a:lnTo>
                      <a:lnTo>
                        <a:pt x="521" y="307"/>
                      </a:lnTo>
                      <a:lnTo>
                        <a:pt x="497" y="335"/>
                      </a:lnTo>
                      <a:lnTo>
                        <a:pt x="471" y="361"/>
                      </a:lnTo>
                      <a:lnTo>
                        <a:pt x="443" y="387"/>
                      </a:lnTo>
                      <a:lnTo>
                        <a:pt x="413" y="412"/>
                      </a:lnTo>
                      <a:lnTo>
                        <a:pt x="383" y="434"/>
                      </a:lnTo>
                      <a:lnTo>
                        <a:pt x="352" y="456"/>
                      </a:lnTo>
                      <a:lnTo>
                        <a:pt x="320" y="477"/>
                      </a:lnTo>
                      <a:lnTo>
                        <a:pt x="287" y="497"/>
                      </a:lnTo>
                      <a:lnTo>
                        <a:pt x="255" y="516"/>
                      </a:lnTo>
                      <a:lnTo>
                        <a:pt x="222" y="534"/>
                      </a:lnTo>
                      <a:lnTo>
                        <a:pt x="210" y="541"/>
                      </a:lnTo>
                      <a:lnTo>
                        <a:pt x="197" y="546"/>
                      </a:lnTo>
                      <a:lnTo>
                        <a:pt x="184" y="552"/>
                      </a:lnTo>
                      <a:lnTo>
                        <a:pt x="171" y="556"/>
                      </a:lnTo>
                      <a:lnTo>
                        <a:pt x="157" y="559"/>
                      </a:lnTo>
                      <a:lnTo>
                        <a:pt x="144" y="561"/>
                      </a:lnTo>
                      <a:lnTo>
                        <a:pt x="130" y="564"/>
                      </a:lnTo>
                      <a:lnTo>
                        <a:pt x="116" y="565"/>
                      </a:lnTo>
                      <a:lnTo>
                        <a:pt x="102" y="568"/>
                      </a:lnTo>
                      <a:lnTo>
                        <a:pt x="87" y="569"/>
                      </a:lnTo>
                      <a:lnTo>
                        <a:pt x="72" y="571"/>
                      </a:lnTo>
                      <a:lnTo>
                        <a:pt x="58" y="572"/>
                      </a:lnTo>
                      <a:lnTo>
                        <a:pt x="43" y="574"/>
                      </a:lnTo>
                      <a:lnTo>
                        <a:pt x="29" y="576"/>
                      </a:lnTo>
                      <a:lnTo>
                        <a:pt x="14" y="578"/>
                      </a:lnTo>
                      <a:lnTo>
                        <a:pt x="0" y="580"/>
                      </a:lnTo>
                      <a:lnTo>
                        <a:pt x="18" y="572"/>
                      </a:lnTo>
                      <a:lnTo>
                        <a:pt x="36" y="563"/>
                      </a:lnTo>
                      <a:lnTo>
                        <a:pt x="54" y="554"/>
                      </a:lnTo>
                      <a:lnTo>
                        <a:pt x="72" y="544"/>
                      </a:lnTo>
                      <a:lnTo>
                        <a:pt x="89" y="533"/>
                      </a:lnTo>
                      <a:lnTo>
                        <a:pt x="105" y="523"/>
                      </a:lnTo>
                      <a:lnTo>
                        <a:pt x="121" y="512"/>
                      </a:lnTo>
                      <a:lnTo>
                        <a:pt x="136" y="501"/>
                      </a:lnTo>
                      <a:lnTo>
                        <a:pt x="149" y="498"/>
                      </a:lnTo>
                      <a:lnTo>
                        <a:pt x="160" y="493"/>
                      </a:lnTo>
                      <a:lnTo>
                        <a:pt x="170" y="486"/>
                      </a:lnTo>
                      <a:lnTo>
                        <a:pt x="181" y="479"/>
                      </a:lnTo>
                      <a:lnTo>
                        <a:pt x="191" y="471"/>
                      </a:lnTo>
                      <a:lnTo>
                        <a:pt x="200" y="465"/>
                      </a:lnTo>
                      <a:lnTo>
                        <a:pt x="211" y="460"/>
                      </a:lnTo>
                      <a:lnTo>
                        <a:pt x="222" y="455"/>
                      </a:lnTo>
                      <a:lnTo>
                        <a:pt x="233" y="445"/>
                      </a:lnTo>
                      <a:lnTo>
                        <a:pt x="246" y="434"/>
                      </a:lnTo>
                      <a:lnTo>
                        <a:pt x="259" y="424"/>
                      </a:lnTo>
                      <a:lnTo>
                        <a:pt x="273" y="415"/>
                      </a:lnTo>
                      <a:lnTo>
                        <a:pt x="286" y="405"/>
                      </a:lnTo>
                      <a:lnTo>
                        <a:pt x="300" y="395"/>
                      </a:lnTo>
                      <a:lnTo>
                        <a:pt x="314" y="386"/>
                      </a:lnTo>
                      <a:lnTo>
                        <a:pt x="328" y="376"/>
                      </a:lnTo>
                      <a:lnTo>
                        <a:pt x="342" y="368"/>
                      </a:lnTo>
                      <a:lnTo>
                        <a:pt x="355" y="358"/>
                      </a:lnTo>
                      <a:lnTo>
                        <a:pt x="369" y="348"/>
                      </a:lnTo>
                      <a:lnTo>
                        <a:pt x="383" y="339"/>
                      </a:lnTo>
                      <a:lnTo>
                        <a:pt x="397" y="329"/>
                      </a:lnTo>
                      <a:lnTo>
                        <a:pt x="410" y="320"/>
                      </a:lnTo>
                      <a:lnTo>
                        <a:pt x="423" y="309"/>
                      </a:lnTo>
                      <a:lnTo>
                        <a:pt x="436" y="298"/>
                      </a:lnTo>
                      <a:lnTo>
                        <a:pt x="450" y="290"/>
                      </a:lnTo>
                      <a:lnTo>
                        <a:pt x="465" y="281"/>
                      </a:lnTo>
                      <a:lnTo>
                        <a:pt x="480" y="272"/>
                      </a:lnTo>
                      <a:lnTo>
                        <a:pt x="495" y="261"/>
                      </a:lnTo>
                      <a:lnTo>
                        <a:pt x="509" y="250"/>
                      </a:lnTo>
                      <a:lnTo>
                        <a:pt x="519" y="238"/>
                      </a:lnTo>
                      <a:lnTo>
                        <a:pt x="528" y="226"/>
                      </a:lnTo>
                      <a:lnTo>
                        <a:pt x="533" y="212"/>
                      </a:lnTo>
                      <a:lnTo>
                        <a:pt x="538" y="200"/>
                      </a:lnTo>
                      <a:lnTo>
                        <a:pt x="545" y="188"/>
                      </a:lnTo>
                      <a:lnTo>
                        <a:pt x="554" y="178"/>
                      </a:lnTo>
                      <a:lnTo>
                        <a:pt x="563" y="167"/>
                      </a:lnTo>
                      <a:lnTo>
                        <a:pt x="571" y="156"/>
                      </a:lnTo>
                      <a:lnTo>
                        <a:pt x="575" y="144"/>
                      </a:lnTo>
                      <a:lnTo>
                        <a:pt x="574" y="133"/>
                      </a:lnTo>
                      <a:lnTo>
                        <a:pt x="565" y="120"/>
                      </a:lnTo>
                      <a:lnTo>
                        <a:pt x="557" y="121"/>
                      </a:lnTo>
                      <a:lnTo>
                        <a:pt x="554" y="126"/>
                      </a:lnTo>
                      <a:lnTo>
                        <a:pt x="550" y="133"/>
                      </a:lnTo>
                      <a:lnTo>
                        <a:pt x="545" y="138"/>
                      </a:lnTo>
                      <a:lnTo>
                        <a:pt x="531" y="153"/>
                      </a:lnTo>
                      <a:lnTo>
                        <a:pt x="516" y="167"/>
                      </a:lnTo>
                      <a:lnTo>
                        <a:pt x="501" y="181"/>
                      </a:lnTo>
                      <a:lnTo>
                        <a:pt x="486" y="195"/>
                      </a:lnTo>
                      <a:lnTo>
                        <a:pt x="471" y="207"/>
                      </a:lnTo>
                      <a:lnTo>
                        <a:pt x="456" y="220"/>
                      </a:lnTo>
                      <a:lnTo>
                        <a:pt x="440" y="233"/>
                      </a:lnTo>
                      <a:lnTo>
                        <a:pt x="425" y="245"/>
                      </a:lnTo>
                      <a:lnTo>
                        <a:pt x="409" y="258"/>
                      </a:lnTo>
                      <a:lnTo>
                        <a:pt x="393" y="269"/>
                      </a:lnTo>
                      <a:lnTo>
                        <a:pt x="377" y="281"/>
                      </a:lnTo>
                      <a:lnTo>
                        <a:pt x="361" y="293"/>
                      </a:lnTo>
                      <a:lnTo>
                        <a:pt x="344" y="305"/>
                      </a:lnTo>
                      <a:lnTo>
                        <a:pt x="328" y="316"/>
                      </a:lnTo>
                      <a:lnTo>
                        <a:pt x="311" y="329"/>
                      </a:lnTo>
                      <a:lnTo>
                        <a:pt x="293" y="341"/>
                      </a:lnTo>
                      <a:lnTo>
                        <a:pt x="293" y="348"/>
                      </a:lnTo>
                      <a:lnTo>
                        <a:pt x="282" y="357"/>
                      </a:lnTo>
                      <a:lnTo>
                        <a:pt x="271" y="366"/>
                      </a:lnTo>
                      <a:lnTo>
                        <a:pt x="259" y="373"/>
                      </a:lnTo>
                      <a:lnTo>
                        <a:pt x="246" y="381"/>
                      </a:lnTo>
                      <a:lnTo>
                        <a:pt x="235" y="388"/>
                      </a:lnTo>
                      <a:lnTo>
                        <a:pt x="223" y="394"/>
                      </a:lnTo>
                      <a:lnTo>
                        <a:pt x="210" y="401"/>
                      </a:lnTo>
                      <a:lnTo>
                        <a:pt x="198" y="407"/>
                      </a:lnTo>
                      <a:lnTo>
                        <a:pt x="185" y="414"/>
                      </a:lnTo>
                      <a:lnTo>
                        <a:pt x="172" y="419"/>
                      </a:lnTo>
                      <a:lnTo>
                        <a:pt x="161" y="425"/>
                      </a:lnTo>
                      <a:lnTo>
                        <a:pt x="148" y="431"/>
                      </a:lnTo>
                      <a:lnTo>
                        <a:pt x="136" y="437"/>
                      </a:lnTo>
                      <a:lnTo>
                        <a:pt x="123" y="443"/>
                      </a:lnTo>
                      <a:lnTo>
                        <a:pt x="111" y="449"/>
                      </a:lnTo>
                      <a:lnTo>
                        <a:pt x="100" y="455"/>
                      </a:lnTo>
                      <a:lnTo>
                        <a:pt x="101" y="448"/>
                      </a:lnTo>
                      <a:lnTo>
                        <a:pt x="104" y="441"/>
                      </a:lnTo>
                      <a:lnTo>
                        <a:pt x="108" y="435"/>
                      </a:lnTo>
                      <a:lnTo>
                        <a:pt x="115" y="429"/>
                      </a:lnTo>
                      <a:lnTo>
                        <a:pt x="121" y="423"/>
                      </a:lnTo>
                      <a:lnTo>
                        <a:pt x="127" y="418"/>
                      </a:lnTo>
                      <a:lnTo>
                        <a:pt x="132" y="414"/>
                      </a:lnTo>
                      <a:lnTo>
                        <a:pt x="136" y="409"/>
                      </a:lnTo>
                      <a:lnTo>
                        <a:pt x="149" y="397"/>
                      </a:lnTo>
                      <a:lnTo>
                        <a:pt x="162" y="384"/>
                      </a:lnTo>
                      <a:lnTo>
                        <a:pt x="176" y="370"/>
                      </a:lnTo>
                      <a:lnTo>
                        <a:pt x="188" y="356"/>
                      </a:lnTo>
                      <a:lnTo>
                        <a:pt x="202" y="342"/>
                      </a:lnTo>
                      <a:lnTo>
                        <a:pt x="216" y="330"/>
                      </a:lnTo>
                      <a:lnTo>
                        <a:pt x="229" y="319"/>
                      </a:lnTo>
                      <a:lnTo>
                        <a:pt x="243" y="309"/>
                      </a:lnTo>
                      <a:lnTo>
                        <a:pt x="254" y="298"/>
                      </a:lnTo>
                      <a:lnTo>
                        <a:pt x="264" y="286"/>
                      </a:lnTo>
                      <a:lnTo>
                        <a:pt x="275" y="276"/>
                      </a:lnTo>
                      <a:lnTo>
                        <a:pt x="287" y="265"/>
                      </a:lnTo>
                      <a:lnTo>
                        <a:pt x="299" y="253"/>
                      </a:lnTo>
                      <a:lnTo>
                        <a:pt x="311" y="243"/>
                      </a:lnTo>
                      <a:lnTo>
                        <a:pt x="322" y="232"/>
                      </a:lnTo>
                      <a:lnTo>
                        <a:pt x="334" y="220"/>
                      </a:lnTo>
                      <a:lnTo>
                        <a:pt x="346" y="210"/>
                      </a:lnTo>
                      <a:lnTo>
                        <a:pt x="358" y="198"/>
                      </a:lnTo>
                      <a:lnTo>
                        <a:pt x="369" y="187"/>
                      </a:lnTo>
                      <a:lnTo>
                        <a:pt x="381" y="175"/>
                      </a:lnTo>
                      <a:lnTo>
                        <a:pt x="392" y="164"/>
                      </a:lnTo>
                      <a:lnTo>
                        <a:pt x="403" y="151"/>
                      </a:lnTo>
                      <a:lnTo>
                        <a:pt x="413" y="139"/>
                      </a:lnTo>
                      <a:lnTo>
                        <a:pt x="423" y="126"/>
                      </a:lnTo>
                      <a:lnTo>
                        <a:pt x="441" y="108"/>
                      </a:lnTo>
                      <a:lnTo>
                        <a:pt x="458" y="87"/>
                      </a:lnTo>
                      <a:lnTo>
                        <a:pt x="474" y="63"/>
                      </a:lnTo>
                      <a:lnTo>
                        <a:pt x="490" y="40"/>
                      </a:lnTo>
                      <a:lnTo>
                        <a:pt x="510" y="20"/>
                      </a:lnTo>
                      <a:lnTo>
                        <a:pt x="531" y="7"/>
                      </a:lnTo>
                      <a:lnTo>
                        <a:pt x="558" y="0"/>
                      </a:lnTo>
                      <a:lnTo>
                        <a:pt x="591" y="4"/>
                      </a:lnTo>
                      <a:lnTo>
                        <a:pt x="603" y="12"/>
                      </a:lnTo>
                      <a:lnTo>
                        <a:pt x="609" y="23"/>
                      </a:lnTo>
                      <a:lnTo>
                        <a:pt x="614" y="34"/>
                      </a:lnTo>
                      <a:lnTo>
                        <a:pt x="616" y="46"/>
                      </a:lnTo>
                      <a:lnTo>
                        <a:pt x="616" y="60"/>
                      </a:lnTo>
                      <a:lnTo>
                        <a:pt x="616" y="74"/>
                      </a:lnTo>
                      <a:lnTo>
                        <a:pt x="617" y="88"/>
                      </a:lnTo>
                      <a:lnTo>
                        <a:pt x="619" y="101"/>
                      </a:lnTo>
                      <a:close/>
                    </a:path>
                  </a:pathLst>
                </a:custGeom>
                <a:solidFill>
                  <a:srgbClr val="89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flipH="1">
                  <a:off x="1169640" y="4091400"/>
                  <a:ext cx="117360" cy="56520"/>
                </a:xfrm>
                <a:custGeom>
                  <a:avLst/>
                  <a:gdLst/>
                  <a:ahLst/>
                  <a:rect l="l" t="t" r="r" b="b"/>
                  <a:pathLst>
                    <a:path w="680" h="309">
                      <a:moveTo>
                        <a:pt x="658" y="49"/>
                      </a:moveTo>
                      <a:lnTo>
                        <a:pt x="660" y="54"/>
                      </a:lnTo>
                      <a:lnTo>
                        <a:pt x="663" y="59"/>
                      </a:lnTo>
                      <a:lnTo>
                        <a:pt x="667" y="63"/>
                      </a:lnTo>
                      <a:lnTo>
                        <a:pt x="672" y="66"/>
                      </a:lnTo>
                      <a:lnTo>
                        <a:pt x="680" y="66"/>
                      </a:lnTo>
                      <a:lnTo>
                        <a:pt x="671" y="85"/>
                      </a:lnTo>
                      <a:lnTo>
                        <a:pt x="660" y="101"/>
                      </a:lnTo>
                      <a:lnTo>
                        <a:pt x="646" y="117"/>
                      </a:lnTo>
                      <a:lnTo>
                        <a:pt x="632" y="131"/>
                      </a:lnTo>
                      <a:lnTo>
                        <a:pt x="616" y="144"/>
                      </a:lnTo>
                      <a:lnTo>
                        <a:pt x="600" y="156"/>
                      </a:lnTo>
                      <a:lnTo>
                        <a:pt x="584" y="170"/>
                      </a:lnTo>
                      <a:lnTo>
                        <a:pt x="568" y="184"/>
                      </a:lnTo>
                      <a:lnTo>
                        <a:pt x="552" y="196"/>
                      </a:lnTo>
                      <a:lnTo>
                        <a:pt x="535" y="208"/>
                      </a:lnTo>
                      <a:lnTo>
                        <a:pt x="519" y="217"/>
                      </a:lnTo>
                      <a:lnTo>
                        <a:pt x="502" y="227"/>
                      </a:lnTo>
                      <a:lnTo>
                        <a:pt x="484" y="236"/>
                      </a:lnTo>
                      <a:lnTo>
                        <a:pt x="466" y="244"/>
                      </a:lnTo>
                      <a:lnTo>
                        <a:pt x="448" y="252"/>
                      </a:lnTo>
                      <a:lnTo>
                        <a:pt x="430" y="258"/>
                      </a:lnTo>
                      <a:lnTo>
                        <a:pt x="411" y="264"/>
                      </a:lnTo>
                      <a:lnTo>
                        <a:pt x="393" y="270"/>
                      </a:lnTo>
                      <a:lnTo>
                        <a:pt x="373" y="275"/>
                      </a:lnTo>
                      <a:lnTo>
                        <a:pt x="354" y="280"/>
                      </a:lnTo>
                      <a:lnTo>
                        <a:pt x="335" y="285"/>
                      </a:lnTo>
                      <a:lnTo>
                        <a:pt x="314" y="290"/>
                      </a:lnTo>
                      <a:lnTo>
                        <a:pt x="295" y="294"/>
                      </a:lnTo>
                      <a:lnTo>
                        <a:pt x="275" y="299"/>
                      </a:lnTo>
                      <a:lnTo>
                        <a:pt x="264" y="300"/>
                      </a:lnTo>
                      <a:lnTo>
                        <a:pt x="253" y="302"/>
                      </a:lnTo>
                      <a:lnTo>
                        <a:pt x="242" y="303"/>
                      </a:lnTo>
                      <a:lnTo>
                        <a:pt x="231" y="305"/>
                      </a:lnTo>
                      <a:lnTo>
                        <a:pt x="219" y="306"/>
                      </a:lnTo>
                      <a:lnTo>
                        <a:pt x="208" y="307"/>
                      </a:lnTo>
                      <a:lnTo>
                        <a:pt x="198" y="308"/>
                      </a:lnTo>
                      <a:lnTo>
                        <a:pt x="186" y="309"/>
                      </a:lnTo>
                      <a:lnTo>
                        <a:pt x="175" y="309"/>
                      </a:lnTo>
                      <a:lnTo>
                        <a:pt x="165" y="308"/>
                      </a:lnTo>
                      <a:lnTo>
                        <a:pt x="154" y="307"/>
                      </a:lnTo>
                      <a:lnTo>
                        <a:pt x="143" y="306"/>
                      </a:lnTo>
                      <a:lnTo>
                        <a:pt x="132" y="304"/>
                      </a:lnTo>
                      <a:lnTo>
                        <a:pt x="122" y="301"/>
                      </a:lnTo>
                      <a:lnTo>
                        <a:pt x="112" y="296"/>
                      </a:lnTo>
                      <a:lnTo>
                        <a:pt x="102" y="291"/>
                      </a:lnTo>
                      <a:lnTo>
                        <a:pt x="93" y="290"/>
                      </a:lnTo>
                      <a:lnTo>
                        <a:pt x="82" y="289"/>
                      </a:lnTo>
                      <a:lnTo>
                        <a:pt x="72" y="288"/>
                      </a:lnTo>
                      <a:lnTo>
                        <a:pt x="63" y="285"/>
                      </a:lnTo>
                      <a:lnTo>
                        <a:pt x="53" y="283"/>
                      </a:lnTo>
                      <a:lnTo>
                        <a:pt x="45" y="278"/>
                      </a:lnTo>
                      <a:lnTo>
                        <a:pt x="36" y="273"/>
                      </a:lnTo>
                      <a:lnTo>
                        <a:pt x="28" y="267"/>
                      </a:lnTo>
                      <a:lnTo>
                        <a:pt x="46" y="258"/>
                      </a:lnTo>
                      <a:lnTo>
                        <a:pt x="65" y="249"/>
                      </a:lnTo>
                      <a:lnTo>
                        <a:pt x="83" y="243"/>
                      </a:lnTo>
                      <a:lnTo>
                        <a:pt x="102" y="237"/>
                      </a:lnTo>
                      <a:lnTo>
                        <a:pt x="122" y="230"/>
                      </a:lnTo>
                      <a:lnTo>
                        <a:pt x="141" y="223"/>
                      </a:lnTo>
                      <a:lnTo>
                        <a:pt x="160" y="215"/>
                      </a:lnTo>
                      <a:lnTo>
                        <a:pt x="178" y="206"/>
                      </a:lnTo>
                      <a:lnTo>
                        <a:pt x="195" y="201"/>
                      </a:lnTo>
                      <a:lnTo>
                        <a:pt x="211" y="196"/>
                      </a:lnTo>
                      <a:lnTo>
                        <a:pt x="227" y="192"/>
                      </a:lnTo>
                      <a:lnTo>
                        <a:pt x="243" y="186"/>
                      </a:lnTo>
                      <a:lnTo>
                        <a:pt x="260" y="182"/>
                      </a:lnTo>
                      <a:lnTo>
                        <a:pt x="276" y="177"/>
                      </a:lnTo>
                      <a:lnTo>
                        <a:pt x="292" y="172"/>
                      </a:lnTo>
                      <a:lnTo>
                        <a:pt x="308" y="168"/>
                      </a:lnTo>
                      <a:lnTo>
                        <a:pt x="325" y="163"/>
                      </a:lnTo>
                      <a:lnTo>
                        <a:pt x="341" y="159"/>
                      </a:lnTo>
                      <a:lnTo>
                        <a:pt x="357" y="154"/>
                      </a:lnTo>
                      <a:lnTo>
                        <a:pt x="374" y="149"/>
                      </a:lnTo>
                      <a:lnTo>
                        <a:pt x="390" y="145"/>
                      </a:lnTo>
                      <a:lnTo>
                        <a:pt x="407" y="140"/>
                      </a:lnTo>
                      <a:lnTo>
                        <a:pt x="424" y="135"/>
                      </a:lnTo>
                      <a:lnTo>
                        <a:pt x="440" y="131"/>
                      </a:lnTo>
                      <a:lnTo>
                        <a:pt x="457" y="128"/>
                      </a:lnTo>
                      <a:lnTo>
                        <a:pt x="474" y="123"/>
                      </a:lnTo>
                      <a:lnTo>
                        <a:pt x="490" y="118"/>
                      </a:lnTo>
                      <a:lnTo>
                        <a:pt x="507" y="113"/>
                      </a:lnTo>
                      <a:lnTo>
                        <a:pt x="523" y="107"/>
                      </a:lnTo>
                      <a:lnTo>
                        <a:pt x="539" y="102"/>
                      </a:lnTo>
                      <a:lnTo>
                        <a:pt x="556" y="98"/>
                      </a:lnTo>
                      <a:lnTo>
                        <a:pt x="572" y="94"/>
                      </a:lnTo>
                      <a:lnTo>
                        <a:pt x="577" y="92"/>
                      </a:lnTo>
                      <a:lnTo>
                        <a:pt x="582" y="91"/>
                      </a:lnTo>
                      <a:lnTo>
                        <a:pt x="587" y="91"/>
                      </a:lnTo>
                      <a:lnTo>
                        <a:pt x="594" y="90"/>
                      </a:lnTo>
                      <a:lnTo>
                        <a:pt x="598" y="89"/>
                      </a:lnTo>
                      <a:lnTo>
                        <a:pt x="602" y="87"/>
                      </a:lnTo>
                      <a:lnTo>
                        <a:pt x="606" y="83"/>
                      </a:lnTo>
                      <a:lnTo>
                        <a:pt x="608" y="76"/>
                      </a:lnTo>
                      <a:lnTo>
                        <a:pt x="600" y="71"/>
                      </a:lnTo>
                      <a:lnTo>
                        <a:pt x="592" y="67"/>
                      </a:lnTo>
                      <a:lnTo>
                        <a:pt x="582" y="65"/>
                      </a:lnTo>
                      <a:lnTo>
                        <a:pt x="572" y="63"/>
                      </a:lnTo>
                      <a:lnTo>
                        <a:pt x="563" y="63"/>
                      </a:lnTo>
                      <a:lnTo>
                        <a:pt x="552" y="63"/>
                      </a:lnTo>
                      <a:lnTo>
                        <a:pt x="541" y="63"/>
                      </a:lnTo>
                      <a:lnTo>
                        <a:pt x="532" y="62"/>
                      </a:lnTo>
                      <a:lnTo>
                        <a:pt x="520" y="67"/>
                      </a:lnTo>
                      <a:lnTo>
                        <a:pt x="508" y="71"/>
                      </a:lnTo>
                      <a:lnTo>
                        <a:pt x="496" y="74"/>
                      </a:lnTo>
                      <a:lnTo>
                        <a:pt x="486" y="77"/>
                      </a:lnTo>
                      <a:lnTo>
                        <a:pt x="474" y="80"/>
                      </a:lnTo>
                      <a:lnTo>
                        <a:pt x="462" y="82"/>
                      </a:lnTo>
                      <a:lnTo>
                        <a:pt x="450" y="84"/>
                      </a:lnTo>
                      <a:lnTo>
                        <a:pt x="439" y="86"/>
                      </a:lnTo>
                      <a:lnTo>
                        <a:pt x="427" y="88"/>
                      </a:lnTo>
                      <a:lnTo>
                        <a:pt x="415" y="90"/>
                      </a:lnTo>
                      <a:lnTo>
                        <a:pt x="403" y="91"/>
                      </a:lnTo>
                      <a:lnTo>
                        <a:pt x="392" y="94"/>
                      </a:lnTo>
                      <a:lnTo>
                        <a:pt x="380" y="97"/>
                      </a:lnTo>
                      <a:lnTo>
                        <a:pt x="368" y="99"/>
                      </a:lnTo>
                      <a:lnTo>
                        <a:pt x="355" y="103"/>
                      </a:lnTo>
                      <a:lnTo>
                        <a:pt x="343" y="106"/>
                      </a:lnTo>
                      <a:lnTo>
                        <a:pt x="331" y="108"/>
                      </a:lnTo>
                      <a:lnTo>
                        <a:pt x="319" y="110"/>
                      </a:lnTo>
                      <a:lnTo>
                        <a:pt x="306" y="114"/>
                      </a:lnTo>
                      <a:lnTo>
                        <a:pt x="294" y="116"/>
                      </a:lnTo>
                      <a:lnTo>
                        <a:pt x="282" y="119"/>
                      </a:lnTo>
                      <a:lnTo>
                        <a:pt x="271" y="122"/>
                      </a:lnTo>
                      <a:lnTo>
                        <a:pt x="259" y="124"/>
                      </a:lnTo>
                      <a:lnTo>
                        <a:pt x="247" y="128"/>
                      </a:lnTo>
                      <a:lnTo>
                        <a:pt x="235" y="132"/>
                      </a:lnTo>
                      <a:lnTo>
                        <a:pt x="225" y="135"/>
                      </a:lnTo>
                      <a:lnTo>
                        <a:pt x="213" y="138"/>
                      </a:lnTo>
                      <a:lnTo>
                        <a:pt x="201" y="143"/>
                      </a:lnTo>
                      <a:lnTo>
                        <a:pt x="189" y="147"/>
                      </a:lnTo>
                      <a:lnTo>
                        <a:pt x="177" y="151"/>
                      </a:lnTo>
                      <a:lnTo>
                        <a:pt x="165" y="155"/>
                      </a:lnTo>
                      <a:lnTo>
                        <a:pt x="153" y="160"/>
                      </a:lnTo>
                      <a:lnTo>
                        <a:pt x="134" y="164"/>
                      </a:lnTo>
                      <a:lnTo>
                        <a:pt x="114" y="168"/>
                      </a:lnTo>
                      <a:lnTo>
                        <a:pt x="94" y="172"/>
                      </a:lnTo>
                      <a:lnTo>
                        <a:pt x="75" y="177"/>
                      </a:lnTo>
                      <a:lnTo>
                        <a:pt x="54" y="181"/>
                      </a:lnTo>
                      <a:lnTo>
                        <a:pt x="35" y="184"/>
                      </a:lnTo>
                      <a:lnTo>
                        <a:pt x="17" y="188"/>
                      </a:lnTo>
                      <a:lnTo>
                        <a:pt x="0" y="192"/>
                      </a:lnTo>
                      <a:lnTo>
                        <a:pt x="4" y="185"/>
                      </a:lnTo>
                      <a:lnTo>
                        <a:pt x="10" y="180"/>
                      </a:lnTo>
                      <a:lnTo>
                        <a:pt x="17" y="175"/>
                      </a:lnTo>
                      <a:lnTo>
                        <a:pt x="24" y="169"/>
                      </a:lnTo>
                      <a:lnTo>
                        <a:pt x="32" y="164"/>
                      </a:lnTo>
                      <a:lnTo>
                        <a:pt x="40" y="160"/>
                      </a:lnTo>
                      <a:lnTo>
                        <a:pt x="48" y="155"/>
                      </a:lnTo>
                      <a:lnTo>
                        <a:pt x="56" y="152"/>
                      </a:lnTo>
                      <a:lnTo>
                        <a:pt x="76" y="141"/>
                      </a:lnTo>
                      <a:lnTo>
                        <a:pt x="95" y="132"/>
                      </a:lnTo>
                      <a:lnTo>
                        <a:pt x="115" y="122"/>
                      </a:lnTo>
                      <a:lnTo>
                        <a:pt x="136" y="114"/>
                      </a:lnTo>
                      <a:lnTo>
                        <a:pt x="156" y="105"/>
                      </a:lnTo>
                      <a:lnTo>
                        <a:pt x="175" y="96"/>
                      </a:lnTo>
                      <a:lnTo>
                        <a:pt x="193" y="85"/>
                      </a:lnTo>
                      <a:lnTo>
                        <a:pt x="211" y="73"/>
                      </a:lnTo>
                      <a:lnTo>
                        <a:pt x="221" y="68"/>
                      </a:lnTo>
                      <a:lnTo>
                        <a:pt x="233" y="63"/>
                      </a:lnTo>
                      <a:lnTo>
                        <a:pt x="245" y="60"/>
                      </a:lnTo>
                      <a:lnTo>
                        <a:pt x="258" y="56"/>
                      </a:lnTo>
                      <a:lnTo>
                        <a:pt x="268" y="53"/>
                      </a:lnTo>
                      <a:lnTo>
                        <a:pt x="280" y="47"/>
                      </a:lnTo>
                      <a:lnTo>
                        <a:pt x="291" y="42"/>
                      </a:lnTo>
                      <a:lnTo>
                        <a:pt x="301" y="35"/>
                      </a:lnTo>
                      <a:lnTo>
                        <a:pt x="311" y="36"/>
                      </a:lnTo>
                      <a:lnTo>
                        <a:pt x="320" y="35"/>
                      </a:lnTo>
                      <a:lnTo>
                        <a:pt x="329" y="32"/>
                      </a:lnTo>
                      <a:lnTo>
                        <a:pt x="338" y="28"/>
                      </a:lnTo>
                      <a:lnTo>
                        <a:pt x="345" y="25"/>
                      </a:lnTo>
                      <a:lnTo>
                        <a:pt x="354" y="21"/>
                      </a:lnTo>
                      <a:lnTo>
                        <a:pt x="363" y="19"/>
                      </a:lnTo>
                      <a:lnTo>
                        <a:pt x="371" y="16"/>
                      </a:lnTo>
                      <a:lnTo>
                        <a:pt x="388" y="13"/>
                      </a:lnTo>
                      <a:lnTo>
                        <a:pt x="407" y="10"/>
                      </a:lnTo>
                      <a:lnTo>
                        <a:pt x="425" y="8"/>
                      </a:lnTo>
                      <a:lnTo>
                        <a:pt x="444" y="5"/>
                      </a:lnTo>
                      <a:lnTo>
                        <a:pt x="463" y="3"/>
                      </a:lnTo>
                      <a:lnTo>
                        <a:pt x="481" y="0"/>
                      </a:lnTo>
                      <a:lnTo>
                        <a:pt x="501" y="0"/>
                      </a:lnTo>
                      <a:lnTo>
                        <a:pt x="520" y="0"/>
                      </a:lnTo>
                      <a:lnTo>
                        <a:pt x="539" y="2"/>
                      </a:lnTo>
                      <a:lnTo>
                        <a:pt x="557" y="4"/>
                      </a:lnTo>
                      <a:lnTo>
                        <a:pt x="577" y="7"/>
                      </a:lnTo>
                      <a:lnTo>
                        <a:pt x="594" y="11"/>
                      </a:lnTo>
                      <a:lnTo>
                        <a:pt x="611" y="18"/>
                      </a:lnTo>
                      <a:lnTo>
                        <a:pt x="628" y="26"/>
                      </a:lnTo>
                      <a:lnTo>
                        <a:pt x="643" y="37"/>
                      </a:lnTo>
                      <a:lnTo>
                        <a:pt x="658" y="49"/>
                      </a:lnTo>
                      <a:close/>
                    </a:path>
                  </a:pathLst>
                </a:custGeom>
                <a:solidFill>
                  <a:srgbClr val="8959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25" name=""/>
                <p:cNvSpPr/>
                <p:nvPr/>
              </p:nvSpPr>
              <p:spPr>
                <a:xfrm flipH="1">
                  <a:off x="1233720" y="4160880"/>
                  <a:ext cx="82080" cy="40680"/>
                </a:xfrm>
                <a:custGeom>
                  <a:avLst/>
                  <a:gdLst/>
                  <a:ahLst/>
                  <a:rect l="l" t="t" r="r" b="b"/>
                  <a:pathLst>
                    <a:path w="479" h="225">
                      <a:moveTo>
                        <a:pt x="386" y="18"/>
                      </a:moveTo>
                      <a:lnTo>
                        <a:pt x="400" y="22"/>
                      </a:lnTo>
                      <a:lnTo>
                        <a:pt x="414" y="27"/>
                      </a:lnTo>
                      <a:lnTo>
                        <a:pt x="427" y="34"/>
                      </a:lnTo>
                      <a:lnTo>
                        <a:pt x="440" y="41"/>
                      </a:lnTo>
                      <a:lnTo>
                        <a:pt x="451" y="50"/>
                      </a:lnTo>
                      <a:lnTo>
                        <a:pt x="461" y="58"/>
                      </a:lnTo>
                      <a:lnTo>
                        <a:pt x="471" y="69"/>
                      </a:lnTo>
                      <a:lnTo>
                        <a:pt x="479" y="81"/>
                      </a:lnTo>
                      <a:lnTo>
                        <a:pt x="473" y="99"/>
                      </a:lnTo>
                      <a:lnTo>
                        <a:pt x="464" y="118"/>
                      </a:lnTo>
                      <a:lnTo>
                        <a:pt x="456" y="136"/>
                      </a:lnTo>
                      <a:lnTo>
                        <a:pt x="444" y="154"/>
                      </a:lnTo>
                      <a:lnTo>
                        <a:pt x="431" y="170"/>
                      </a:lnTo>
                      <a:lnTo>
                        <a:pt x="417" y="181"/>
                      </a:lnTo>
                      <a:lnTo>
                        <a:pt x="400" y="191"/>
                      </a:lnTo>
                      <a:lnTo>
                        <a:pt x="380" y="195"/>
                      </a:lnTo>
                      <a:lnTo>
                        <a:pt x="368" y="204"/>
                      </a:lnTo>
                      <a:lnTo>
                        <a:pt x="356" y="210"/>
                      </a:lnTo>
                      <a:lnTo>
                        <a:pt x="344" y="215"/>
                      </a:lnTo>
                      <a:lnTo>
                        <a:pt x="331" y="220"/>
                      </a:lnTo>
                      <a:lnTo>
                        <a:pt x="320" y="223"/>
                      </a:lnTo>
                      <a:lnTo>
                        <a:pt x="307" y="225"/>
                      </a:lnTo>
                      <a:lnTo>
                        <a:pt x="294" y="225"/>
                      </a:lnTo>
                      <a:lnTo>
                        <a:pt x="281" y="225"/>
                      </a:lnTo>
                      <a:lnTo>
                        <a:pt x="267" y="225"/>
                      </a:lnTo>
                      <a:lnTo>
                        <a:pt x="254" y="224"/>
                      </a:lnTo>
                      <a:lnTo>
                        <a:pt x="240" y="223"/>
                      </a:lnTo>
                      <a:lnTo>
                        <a:pt x="226" y="222"/>
                      </a:lnTo>
                      <a:lnTo>
                        <a:pt x="213" y="220"/>
                      </a:lnTo>
                      <a:lnTo>
                        <a:pt x="198" y="219"/>
                      </a:lnTo>
                      <a:lnTo>
                        <a:pt x="184" y="218"/>
                      </a:lnTo>
                      <a:lnTo>
                        <a:pt x="169" y="218"/>
                      </a:lnTo>
                      <a:lnTo>
                        <a:pt x="163" y="211"/>
                      </a:lnTo>
                      <a:lnTo>
                        <a:pt x="158" y="209"/>
                      </a:lnTo>
                      <a:lnTo>
                        <a:pt x="154" y="210"/>
                      </a:lnTo>
                      <a:lnTo>
                        <a:pt x="148" y="213"/>
                      </a:lnTo>
                      <a:lnTo>
                        <a:pt x="144" y="217"/>
                      </a:lnTo>
                      <a:lnTo>
                        <a:pt x="139" y="218"/>
                      </a:lnTo>
                      <a:lnTo>
                        <a:pt x="134" y="217"/>
                      </a:lnTo>
                      <a:lnTo>
                        <a:pt x="129" y="210"/>
                      </a:lnTo>
                      <a:lnTo>
                        <a:pt x="112" y="209"/>
                      </a:lnTo>
                      <a:lnTo>
                        <a:pt x="97" y="204"/>
                      </a:lnTo>
                      <a:lnTo>
                        <a:pt x="85" y="195"/>
                      </a:lnTo>
                      <a:lnTo>
                        <a:pt x="74" y="186"/>
                      </a:lnTo>
                      <a:lnTo>
                        <a:pt x="64" y="174"/>
                      </a:lnTo>
                      <a:lnTo>
                        <a:pt x="54" y="162"/>
                      </a:lnTo>
                      <a:lnTo>
                        <a:pt x="42" y="152"/>
                      </a:lnTo>
                      <a:lnTo>
                        <a:pt x="28" y="145"/>
                      </a:lnTo>
                      <a:lnTo>
                        <a:pt x="17" y="127"/>
                      </a:lnTo>
                      <a:lnTo>
                        <a:pt x="27" y="123"/>
                      </a:lnTo>
                      <a:lnTo>
                        <a:pt x="38" y="119"/>
                      </a:lnTo>
                      <a:lnTo>
                        <a:pt x="49" y="117"/>
                      </a:lnTo>
                      <a:lnTo>
                        <a:pt x="59" y="115"/>
                      </a:lnTo>
                      <a:lnTo>
                        <a:pt x="71" y="114"/>
                      </a:lnTo>
                      <a:lnTo>
                        <a:pt x="82" y="113"/>
                      </a:lnTo>
                      <a:lnTo>
                        <a:pt x="93" y="112"/>
                      </a:lnTo>
                      <a:lnTo>
                        <a:pt x="104" y="112"/>
                      </a:lnTo>
                      <a:lnTo>
                        <a:pt x="115" y="111"/>
                      </a:lnTo>
                      <a:lnTo>
                        <a:pt x="126" y="111"/>
                      </a:lnTo>
                      <a:lnTo>
                        <a:pt x="138" y="111"/>
                      </a:lnTo>
                      <a:lnTo>
                        <a:pt x="148" y="112"/>
                      </a:lnTo>
                      <a:lnTo>
                        <a:pt x="159" y="111"/>
                      </a:lnTo>
                      <a:lnTo>
                        <a:pt x="171" y="111"/>
                      </a:lnTo>
                      <a:lnTo>
                        <a:pt x="182" y="111"/>
                      </a:lnTo>
                      <a:lnTo>
                        <a:pt x="192" y="110"/>
                      </a:lnTo>
                      <a:lnTo>
                        <a:pt x="355" y="106"/>
                      </a:lnTo>
                      <a:lnTo>
                        <a:pt x="359" y="108"/>
                      </a:lnTo>
                      <a:lnTo>
                        <a:pt x="364" y="110"/>
                      </a:lnTo>
                      <a:lnTo>
                        <a:pt x="368" y="111"/>
                      </a:lnTo>
                      <a:lnTo>
                        <a:pt x="371" y="113"/>
                      </a:lnTo>
                      <a:lnTo>
                        <a:pt x="375" y="114"/>
                      </a:lnTo>
                      <a:lnTo>
                        <a:pt x="380" y="115"/>
                      </a:lnTo>
                      <a:lnTo>
                        <a:pt x="385" y="115"/>
                      </a:lnTo>
                      <a:lnTo>
                        <a:pt x="390" y="114"/>
                      </a:lnTo>
                      <a:lnTo>
                        <a:pt x="401" y="103"/>
                      </a:lnTo>
                      <a:lnTo>
                        <a:pt x="390" y="97"/>
                      </a:lnTo>
                      <a:lnTo>
                        <a:pt x="380" y="92"/>
                      </a:lnTo>
                      <a:lnTo>
                        <a:pt x="369" y="87"/>
                      </a:lnTo>
                      <a:lnTo>
                        <a:pt x="358" y="84"/>
                      </a:lnTo>
                      <a:lnTo>
                        <a:pt x="347" y="82"/>
                      </a:lnTo>
                      <a:lnTo>
                        <a:pt x="337" y="81"/>
                      </a:lnTo>
                      <a:lnTo>
                        <a:pt x="326" y="80"/>
                      </a:lnTo>
                      <a:lnTo>
                        <a:pt x="314" y="79"/>
                      </a:lnTo>
                      <a:lnTo>
                        <a:pt x="295" y="76"/>
                      </a:lnTo>
                      <a:lnTo>
                        <a:pt x="275" y="72"/>
                      </a:lnTo>
                      <a:lnTo>
                        <a:pt x="254" y="69"/>
                      </a:lnTo>
                      <a:lnTo>
                        <a:pt x="235" y="67"/>
                      </a:lnTo>
                      <a:lnTo>
                        <a:pt x="215" y="65"/>
                      </a:lnTo>
                      <a:lnTo>
                        <a:pt x="194" y="63"/>
                      </a:lnTo>
                      <a:lnTo>
                        <a:pt x="174" y="61"/>
                      </a:lnTo>
                      <a:lnTo>
                        <a:pt x="154" y="57"/>
                      </a:lnTo>
                      <a:lnTo>
                        <a:pt x="133" y="55"/>
                      </a:lnTo>
                      <a:lnTo>
                        <a:pt x="114" y="52"/>
                      </a:lnTo>
                      <a:lnTo>
                        <a:pt x="94" y="49"/>
                      </a:lnTo>
                      <a:lnTo>
                        <a:pt x="74" y="45"/>
                      </a:lnTo>
                      <a:lnTo>
                        <a:pt x="55" y="39"/>
                      </a:lnTo>
                      <a:lnTo>
                        <a:pt x="36" y="33"/>
                      </a:lnTo>
                      <a:lnTo>
                        <a:pt x="18" y="26"/>
                      </a:lnTo>
                      <a:lnTo>
                        <a:pt x="0" y="18"/>
                      </a:lnTo>
                      <a:lnTo>
                        <a:pt x="3" y="12"/>
                      </a:lnTo>
                      <a:lnTo>
                        <a:pt x="7" y="8"/>
                      </a:lnTo>
                      <a:lnTo>
                        <a:pt x="13" y="6"/>
                      </a:lnTo>
                      <a:lnTo>
                        <a:pt x="21" y="5"/>
                      </a:lnTo>
                      <a:lnTo>
                        <a:pt x="28" y="4"/>
                      </a:lnTo>
                      <a:lnTo>
                        <a:pt x="36" y="3"/>
                      </a:lnTo>
                      <a:lnTo>
                        <a:pt x="43" y="2"/>
                      </a:lnTo>
                      <a:lnTo>
                        <a:pt x="50" y="0"/>
                      </a:lnTo>
                      <a:lnTo>
                        <a:pt x="72" y="0"/>
                      </a:lnTo>
                      <a:lnTo>
                        <a:pt x="94" y="0"/>
                      </a:lnTo>
                      <a:lnTo>
                        <a:pt x="115" y="0"/>
                      </a:lnTo>
                      <a:lnTo>
                        <a:pt x="135" y="1"/>
                      </a:lnTo>
                      <a:lnTo>
                        <a:pt x="157" y="2"/>
                      </a:lnTo>
                      <a:lnTo>
                        <a:pt x="177" y="3"/>
                      </a:lnTo>
                      <a:lnTo>
                        <a:pt x="198" y="4"/>
                      </a:lnTo>
                      <a:lnTo>
                        <a:pt x="218" y="5"/>
                      </a:lnTo>
                      <a:lnTo>
                        <a:pt x="238" y="7"/>
                      </a:lnTo>
                      <a:lnTo>
                        <a:pt x="259" y="9"/>
                      </a:lnTo>
                      <a:lnTo>
                        <a:pt x="279" y="10"/>
                      </a:lnTo>
                      <a:lnTo>
                        <a:pt x="299" y="12"/>
                      </a:lnTo>
                      <a:lnTo>
                        <a:pt x="321" y="14"/>
                      </a:lnTo>
                      <a:lnTo>
                        <a:pt x="342" y="16"/>
                      </a:lnTo>
                      <a:lnTo>
                        <a:pt x="364" y="17"/>
                      </a:lnTo>
                      <a:lnTo>
                        <a:pt x="386" y="18"/>
                      </a:lnTo>
                      <a:close/>
                    </a:path>
                  </a:pathLst>
                </a:custGeom>
                <a:solidFill>
                  <a:srgbClr val="d6c4a5"/>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426" name=""/>
                <p:cNvSpPr/>
                <p:nvPr/>
              </p:nvSpPr>
              <p:spPr>
                <a:xfrm flipH="1">
                  <a:off x="1271160" y="4200840"/>
                  <a:ext cx="75240" cy="47160"/>
                </a:xfrm>
                <a:custGeom>
                  <a:avLst/>
                  <a:gdLst/>
                  <a:ahLst/>
                  <a:rect l="l" t="t" r="r" b="b"/>
                  <a:pathLst>
                    <a:path w="434" h="260">
                      <a:moveTo>
                        <a:pt x="330" y="36"/>
                      </a:moveTo>
                      <a:lnTo>
                        <a:pt x="339" y="39"/>
                      </a:lnTo>
                      <a:lnTo>
                        <a:pt x="349" y="42"/>
                      </a:lnTo>
                      <a:lnTo>
                        <a:pt x="358" y="45"/>
                      </a:lnTo>
                      <a:lnTo>
                        <a:pt x="367" y="47"/>
                      </a:lnTo>
                      <a:lnTo>
                        <a:pt x="376" y="50"/>
                      </a:lnTo>
                      <a:lnTo>
                        <a:pt x="385" y="52"/>
                      </a:lnTo>
                      <a:lnTo>
                        <a:pt x="395" y="53"/>
                      </a:lnTo>
                      <a:lnTo>
                        <a:pt x="406" y="55"/>
                      </a:lnTo>
                      <a:lnTo>
                        <a:pt x="417" y="65"/>
                      </a:lnTo>
                      <a:lnTo>
                        <a:pt x="425" y="76"/>
                      </a:lnTo>
                      <a:lnTo>
                        <a:pt x="430" y="89"/>
                      </a:lnTo>
                      <a:lnTo>
                        <a:pt x="434" y="104"/>
                      </a:lnTo>
                      <a:lnTo>
                        <a:pt x="420" y="122"/>
                      </a:lnTo>
                      <a:lnTo>
                        <a:pt x="407" y="141"/>
                      </a:lnTo>
                      <a:lnTo>
                        <a:pt x="394" y="159"/>
                      </a:lnTo>
                      <a:lnTo>
                        <a:pt x="381" y="177"/>
                      </a:lnTo>
                      <a:lnTo>
                        <a:pt x="366" y="193"/>
                      </a:lnTo>
                      <a:lnTo>
                        <a:pt x="351" y="208"/>
                      </a:lnTo>
                      <a:lnTo>
                        <a:pt x="333" y="222"/>
                      </a:lnTo>
                      <a:lnTo>
                        <a:pt x="311" y="233"/>
                      </a:lnTo>
                      <a:lnTo>
                        <a:pt x="292" y="238"/>
                      </a:lnTo>
                      <a:lnTo>
                        <a:pt x="273" y="244"/>
                      </a:lnTo>
                      <a:lnTo>
                        <a:pt x="253" y="248"/>
                      </a:lnTo>
                      <a:lnTo>
                        <a:pt x="233" y="253"/>
                      </a:lnTo>
                      <a:lnTo>
                        <a:pt x="213" y="256"/>
                      </a:lnTo>
                      <a:lnTo>
                        <a:pt x="193" y="259"/>
                      </a:lnTo>
                      <a:lnTo>
                        <a:pt x="171" y="260"/>
                      </a:lnTo>
                      <a:lnTo>
                        <a:pt x="151" y="258"/>
                      </a:lnTo>
                      <a:lnTo>
                        <a:pt x="138" y="248"/>
                      </a:lnTo>
                      <a:lnTo>
                        <a:pt x="125" y="242"/>
                      </a:lnTo>
                      <a:lnTo>
                        <a:pt x="110" y="235"/>
                      </a:lnTo>
                      <a:lnTo>
                        <a:pt x="96" y="230"/>
                      </a:lnTo>
                      <a:lnTo>
                        <a:pt x="82" y="223"/>
                      </a:lnTo>
                      <a:lnTo>
                        <a:pt x="70" y="216"/>
                      </a:lnTo>
                      <a:lnTo>
                        <a:pt x="59" y="205"/>
                      </a:lnTo>
                      <a:lnTo>
                        <a:pt x="50" y="192"/>
                      </a:lnTo>
                      <a:lnTo>
                        <a:pt x="44" y="188"/>
                      </a:lnTo>
                      <a:lnTo>
                        <a:pt x="36" y="182"/>
                      </a:lnTo>
                      <a:lnTo>
                        <a:pt x="30" y="175"/>
                      </a:lnTo>
                      <a:lnTo>
                        <a:pt x="23" y="168"/>
                      </a:lnTo>
                      <a:lnTo>
                        <a:pt x="17" y="160"/>
                      </a:lnTo>
                      <a:lnTo>
                        <a:pt x="11" y="153"/>
                      </a:lnTo>
                      <a:lnTo>
                        <a:pt x="5" y="145"/>
                      </a:lnTo>
                      <a:lnTo>
                        <a:pt x="0" y="139"/>
                      </a:lnTo>
                      <a:lnTo>
                        <a:pt x="0" y="96"/>
                      </a:lnTo>
                      <a:lnTo>
                        <a:pt x="15" y="95"/>
                      </a:lnTo>
                      <a:lnTo>
                        <a:pt x="30" y="94"/>
                      </a:lnTo>
                      <a:lnTo>
                        <a:pt x="45" y="94"/>
                      </a:lnTo>
                      <a:lnTo>
                        <a:pt x="61" y="95"/>
                      </a:lnTo>
                      <a:lnTo>
                        <a:pt x="76" y="96"/>
                      </a:lnTo>
                      <a:lnTo>
                        <a:pt x="92" y="97"/>
                      </a:lnTo>
                      <a:lnTo>
                        <a:pt x="108" y="100"/>
                      </a:lnTo>
                      <a:lnTo>
                        <a:pt x="124" y="103"/>
                      </a:lnTo>
                      <a:lnTo>
                        <a:pt x="139" y="107"/>
                      </a:lnTo>
                      <a:lnTo>
                        <a:pt x="154" y="111"/>
                      </a:lnTo>
                      <a:lnTo>
                        <a:pt x="170" y="117"/>
                      </a:lnTo>
                      <a:lnTo>
                        <a:pt x="185" y="122"/>
                      </a:lnTo>
                      <a:lnTo>
                        <a:pt x="199" y="128"/>
                      </a:lnTo>
                      <a:lnTo>
                        <a:pt x="214" y="135"/>
                      </a:lnTo>
                      <a:lnTo>
                        <a:pt x="228" y="142"/>
                      </a:lnTo>
                      <a:lnTo>
                        <a:pt x="241" y="151"/>
                      </a:lnTo>
                      <a:lnTo>
                        <a:pt x="249" y="151"/>
                      </a:lnTo>
                      <a:lnTo>
                        <a:pt x="257" y="153"/>
                      </a:lnTo>
                      <a:lnTo>
                        <a:pt x="264" y="155"/>
                      </a:lnTo>
                      <a:lnTo>
                        <a:pt x="272" y="157"/>
                      </a:lnTo>
                      <a:lnTo>
                        <a:pt x="279" y="160"/>
                      </a:lnTo>
                      <a:lnTo>
                        <a:pt x="287" y="162"/>
                      </a:lnTo>
                      <a:lnTo>
                        <a:pt x="294" y="166"/>
                      </a:lnTo>
                      <a:lnTo>
                        <a:pt x="302" y="169"/>
                      </a:lnTo>
                      <a:lnTo>
                        <a:pt x="308" y="160"/>
                      </a:lnTo>
                      <a:lnTo>
                        <a:pt x="308" y="151"/>
                      </a:lnTo>
                      <a:lnTo>
                        <a:pt x="304" y="141"/>
                      </a:lnTo>
                      <a:lnTo>
                        <a:pt x="298" y="134"/>
                      </a:lnTo>
                      <a:lnTo>
                        <a:pt x="285" y="124"/>
                      </a:lnTo>
                      <a:lnTo>
                        <a:pt x="272" y="115"/>
                      </a:lnTo>
                      <a:lnTo>
                        <a:pt x="259" y="107"/>
                      </a:lnTo>
                      <a:lnTo>
                        <a:pt x="245" y="98"/>
                      </a:lnTo>
                      <a:lnTo>
                        <a:pt x="232" y="91"/>
                      </a:lnTo>
                      <a:lnTo>
                        <a:pt x="219" y="83"/>
                      </a:lnTo>
                      <a:lnTo>
                        <a:pt x="207" y="76"/>
                      </a:lnTo>
                      <a:lnTo>
                        <a:pt x="193" y="68"/>
                      </a:lnTo>
                      <a:lnTo>
                        <a:pt x="180" y="62"/>
                      </a:lnTo>
                      <a:lnTo>
                        <a:pt x="166" y="55"/>
                      </a:lnTo>
                      <a:lnTo>
                        <a:pt x="153" y="48"/>
                      </a:lnTo>
                      <a:lnTo>
                        <a:pt x="139" y="42"/>
                      </a:lnTo>
                      <a:lnTo>
                        <a:pt x="126" y="35"/>
                      </a:lnTo>
                      <a:lnTo>
                        <a:pt x="112" y="29"/>
                      </a:lnTo>
                      <a:lnTo>
                        <a:pt x="99" y="21"/>
                      </a:lnTo>
                      <a:lnTo>
                        <a:pt x="86" y="15"/>
                      </a:lnTo>
                      <a:lnTo>
                        <a:pt x="91" y="9"/>
                      </a:lnTo>
                      <a:lnTo>
                        <a:pt x="98" y="3"/>
                      </a:lnTo>
                      <a:lnTo>
                        <a:pt x="106" y="1"/>
                      </a:lnTo>
                      <a:lnTo>
                        <a:pt x="114" y="0"/>
                      </a:lnTo>
                      <a:lnTo>
                        <a:pt x="123" y="0"/>
                      </a:lnTo>
                      <a:lnTo>
                        <a:pt x="133" y="1"/>
                      </a:lnTo>
                      <a:lnTo>
                        <a:pt x="141" y="2"/>
                      </a:lnTo>
                      <a:lnTo>
                        <a:pt x="151" y="4"/>
                      </a:lnTo>
                      <a:lnTo>
                        <a:pt x="163" y="9"/>
                      </a:lnTo>
                      <a:lnTo>
                        <a:pt x="176" y="10"/>
                      </a:lnTo>
                      <a:lnTo>
                        <a:pt x="188" y="11"/>
                      </a:lnTo>
                      <a:lnTo>
                        <a:pt x="202" y="11"/>
                      </a:lnTo>
                      <a:lnTo>
                        <a:pt x="215" y="11"/>
                      </a:lnTo>
                      <a:lnTo>
                        <a:pt x="229" y="11"/>
                      </a:lnTo>
                      <a:lnTo>
                        <a:pt x="242" y="12"/>
                      </a:lnTo>
                      <a:lnTo>
                        <a:pt x="254" y="15"/>
                      </a:lnTo>
                      <a:lnTo>
                        <a:pt x="330" y="36"/>
                      </a:lnTo>
                      <a:close/>
                    </a:path>
                  </a:pathLst>
                </a:custGeom>
                <a:solidFill>
                  <a:srgbClr val="d6c4a5"/>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27" name=""/>
                <p:cNvSpPr/>
                <p:nvPr/>
              </p:nvSpPr>
              <p:spPr>
                <a:xfrm flipH="1">
                  <a:off x="1158120" y="4223880"/>
                  <a:ext cx="127080" cy="53640"/>
                </a:xfrm>
                <a:custGeom>
                  <a:avLst/>
                  <a:gdLst/>
                  <a:ahLst/>
                  <a:rect l="l" t="t" r="r" b="b"/>
                  <a:pathLst>
                    <a:path w="735" h="295">
                      <a:moveTo>
                        <a:pt x="251" y="29"/>
                      </a:moveTo>
                      <a:lnTo>
                        <a:pt x="250" y="44"/>
                      </a:lnTo>
                      <a:lnTo>
                        <a:pt x="248" y="59"/>
                      </a:lnTo>
                      <a:lnTo>
                        <a:pt x="250" y="74"/>
                      </a:lnTo>
                      <a:lnTo>
                        <a:pt x="258" y="87"/>
                      </a:lnTo>
                      <a:lnTo>
                        <a:pt x="265" y="86"/>
                      </a:lnTo>
                      <a:lnTo>
                        <a:pt x="270" y="83"/>
                      </a:lnTo>
                      <a:lnTo>
                        <a:pt x="275" y="80"/>
                      </a:lnTo>
                      <a:lnTo>
                        <a:pt x="280" y="76"/>
                      </a:lnTo>
                      <a:lnTo>
                        <a:pt x="283" y="72"/>
                      </a:lnTo>
                      <a:lnTo>
                        <a:pt x="287" y="66"/>
                      </a:lnTo>
                      <a:lnTo>
                        <a:pt x="291" y="62"/>
                      </a:lnTo>
                      <a:lnTo>
                        <a:pt x="297" y="57"/>
                      </a:lnTo>
                      <a:lnTo>
                        <a:pt x="316" y="51"/>
                      </a:lnTo>
                      <a:lnTo>
                        <a:pt x="335" y="46"/>
                      </a:lnTo>
                      <a:lnTo>
                        <a:pt x="357" y="42"/>
                      </a:lnTo>
                      <a:lnTo>
                        <a:pt x="378" y="40"/>
                      </a:lnTo>
                      <a:lnTo>
                        <a:pt x="399" y="40"/>
                      </a:lnTo>
                      <a:lnTo>
                        <a:pt x="421" y="42"/>
                      </a:lnTo>
                      <a:lnTo>
                        <a:pt x="440" y="46"/>
                      </a:lnTo>
                      <a:lnTo>
                        <a:pt x="459" y="55"/>
                      </a:lnTo>
                      <a:lnTo>
                        <a:pt x="463" y="68"/>
                      </a:lnTo>
                      <a:lnTo>
                        <a:pt x="458" y="80"/>
                      </a:lnTo>
                      <a:lnTo>
                        <a:pt x="450" y="92"/>
                      </a:lnTo>
                      <a:lnTo>
                        <a:pt x="440" y="103"/>
                      </a:lnTo>
                      <a:lnTo>
                        <a:pt x="433" y="114"/>
                      </a:lnTo>
                      <a:lnTo>
                        <a:pt x="428" y="125"/>
                      </a:lnTo>
                      <a:lnTo>
                        <a:pt x="432" y="138"/>
                      </a:lnTo>
                      <a:lnTo>
                        <a:pt x="444" y="151"/>
                      </a:lnTo>
                      <a:lnTo>
                        <a:pt x="454" y="152"/>
                      </a:lnTo>
                      <a:lnTo>
                        <a:pt x="463" y="151"/>
                      </a:lnTo>
                      <a:lnTo>
                        <a:pt x="470" y="146"/>
                      </a:lnTo>
                      <a:lnTo>
                        <a:pt x="478" y="142"/>
                      </a:lnTo>
                      <a:lnTo>
                        <a:pt x="485" y="137"/>
                      </a:lnTo>
                      <a:lnTo>
                        <a:pt x="493" y="133"/>
                      </a:lnTo>
                      <a:lnTo>
                        <a:pt x="500" y="129"/>
                      </a:lnTo>
                      <a:lnTo>
                        <a:pt x="509" y="128"/>
                      </a:lnTo>
                      <a:lnTo>
                        <a:pt x="524" y="125"/>
                      </a:lnTo>
                      <a:lnTo>
                        <a:pt x="538" y="122"/>
                      </a:lnTo>
                      <a:lnTo>
                        <a:pt x="553" y="119"/>
                      </a:lnTo>
                      <a:lnTo>
                        <a:pt x="568" y="117"/>
                      </a:lnTo>
                      <a:lnTo>
                        <a:pt x="581" y="114"/>
                      </a:lnTo>
                      <a:lnTo>
                        <a:pt x="596" y="114"/>
                      </a:lnTo>
                      <a:lnTo>
                        <a:pt x="610" y="114"/>
                      </a:lnTo>
                      <a:lnTo>
                        <a:pt x="625" y="114"/>
                      </a:lnTo>
                      <a:lnTo>
                        <a:pt x="639" y="117"/>
                      </a:lnTo>
                      <a:lnTo>
                        <a:pt x="653" y="120"/>
                      </a:lnTo>
                      <a:lnTo>
                        <a:pt x="666" y="123"/>
                      </a:lnTo>
                      <a:lnTo>
                        <a:pt x="679" y="128"/>
                      </a:lnTo>
                      <a:lnTo>
                        <a:pt x="692" y="135"/>
                      </a:lnTo>
                      <a:lnTo>
                        <a:pt x="705" y="142"/>
                      </a:lnTo>
                      <a:lnTo>
                        <a:pt x="716" y="151"/>
                      </a:lnTo>
                      <a:lnTo>
                        <a:pt x="727" y="161"/>
                      </a:lnTo>
                      <a:lnTo>
                        <a:pt x="735" y="189"/>
                      </a:lnTo>
                      <a:lnTo>
                        <a:pt x="713" y="198"/>
                      </a:lnTo>
                      <a:lnTo>
                        <a:pt x="692" y="206"/>
                      </a:lnTo>
                      <a:lnTo>
                        <a:pt x="669" y="215"/>
                      </a:lnTo>
                      <a:lnTo>
                        <a:pt x="648" y="222"/>
                      </a:lnTo>
                      <a:lnTo>
                        <a:pt x="625" y="230"/>
                      </a:lnTo>
                      <a:lnTo>
                        <a:pt x="603" y="237"/>
                      </a:lnTo>
                      <a:lnTo>
                        <a:pt x="580" y="244"/>
                      </a:lnTo>
                      <a:lnTo>
                        <a:pt x="558" y="250"/>
                      </a:lnTo>
                      <a:lnTo>
                        <a:pt x="535" y="255"/>
                      </a:lnTo>
                      <a:lnTo>
                        <a:pt x="512" y="262"/>
                      </a:lnTo>
                      <a:lnTo>
                        <a:pt x="489" y="267"/>
                      </a:lnTo>
                      <a:lnTo>
                        <a:pt x="466" y="273"/>
                      </a:lnTo>
                      <a:lnTo>
                        <a:pt x="443" y="277"/>
                      </a:lnTo>
                      <a:lnTo>
                        <a:pt x="420" y="282"/>
                      </a:lnTo>
                      <a:lnTo>
                        <a:pt x="396" y="286"/>
                      </a:lnTo>
                      <a:lnTo>
                        <a:pt x="373" y="291"/>
                      </a:lnTo>
                      <a:lnTo>
                        <a:pt x="361" y="293"/>
                      </a:lnTo>
                      <a:lnTo>
                        <a:pt x="349" y="294"/>
                      </a:lnTo>
                      <a:lnTo>
                        <a:pt x="338" y="295"/>
                      </a:lnTo>
                      <a:lnTo>
                        <a:pt x="327" y="295"/>
                      </a:lnTo>
                      <a:lnTo>
                        <a:pt x="316" y="294"/>
                      </a:lnTo>
                      <a:lnTo>
                        <a:pt x="304" y="293"/>
                      </a:lnTo>
                      <a:lnTo>
                        <a:pt x="293" y="292"/>
                      </a:lnTo>
                      <a:lnTo>
                        <a:pt x="282" y="291"/>
                      </a:lnTo>
                      <a:lnTo>
                        <a:pt x="271" y="289"/>
                      </a:lnTo>
                      <a:lnTo>
                        <a:pt x="259" y="287"/>
                      </a:lnTo>
                      <a:lnTo>
                        <a:pt x="248" y="286"/>
                      </a:lnTo>
                      <a:lnTo>
                        <a:pt x="238" y="285"/>
                      </a:lnTo>
                      <a:lnTo>
                        <a:pt x="226" y="284"/>
                      </a:lnTo>
                      <a:lnTo>
                        <a:pt x="215" y="283"/>
                      </a:lnTo>
                      <a:lnTo>
                        <a:pt x="204" y="283"/>
                      </a:lnTo>
                      <a:lnTo>
                        <a:pt x="193" y="283"/>
                      </a:lnTo>
                      <a:lnTo>
                        <a:pt x="209" y="278"/>
                      </a:lnTo>
                      <a:lnTo>
                        <a:pt x="224" y="273"/>
                      </a:lnTo>
                      <a:lnTo>
                        <a:pt x="240" y="267"/>
                      </a:lnTo>
                      <a:lnTo>
                        <a:pt x="255" y="262"/>
                      </a:lnTo>
                      <a:lnTo>
                        <a:pt x="270" y="255"/>
                      </a:lnTo>
                      <a:lnTo>
                        <a:pt x="286" y="250"/>
                      </a:lnTo>
                      <a:lnTo>
                        <a:pt x="301" y="245"/>
                      </a:lnTo>
                      <a:lnTo>
                        <a:pt x="317" y="239"/>
                      </a:lnTo>
                      <a:lnTo>
                        <a:pt x="332" y="234"/>
                      </a:lnTo>
                      <a:lnTo>
                        <a:pt x="347" y="229"/>
                      </a:lnTo>
                      <a:lnTo>
                        <a:pt x="363" y="224"/>
                      </a:lnTo>
                      <a:lnTo>
                        <a:pt x="378" y="219"/>
                      </a:lnTo>
                      <a:lnTo>
                        <a:pt x="394" y="215"/>
                      </a:lnTo>
                      <a:lnTo>
                        <a:pt x="410" y="209"/>
                      </a:lnTo>
                      <a:lnTo>
                        <a:pt x="425" y="205"/>
                      </a:lnTo>
                      <a:lnTo>
                        <a:pt x="441" y="201"/>
                      </a:lnTo>
                      <a:lnTo>
                        <a:pt x="441" y="183"/>
                      </a:lnTo>
                      <a:lnTo>
                        <a:pt x="422" y="183"/>
                      </a:lnTo>
                      <a:lnTo>
                        <a:pt x="404" y="182"/>
                      </a:lnTo>
                      <a:lnTo>
                        <a:pt x="384" y="183"/>
                      </a:lnTo>
                      <a:lnTo>
                        <a:pt x="366" y="184"/>
                      </a:lnTo>
                      <a:lnTo>
                        <a:pt x="347" y="185"/>
                      </a:lnTo>
                      <a:lnTo>
                        <a:pt x="329" y="187"/>
                      </a:lnTo>
                      <a:lnTo>
                        <a:pt x="311" y="189"/>
                      </a:lnTo>
                      <a:lnTo>
                        <a:pt x="291" y="191"/>
                      </a:lnTo>
                      <a:lnTo>
                        <a:pt x="273" y="195"/>
                      </a:lnTo>
                      <a:lnTo>
                        <a:pt x="255" y="198"/>
                      </a:lnTo>
                      <a:lnTo>
                        <a:pt x="237" y="201"/>
                      </a:lnTo>
                      <a:lnTo>
                        <a:pt x="219" y="205"/>
                      </a:lnTo>
                      <a:lnTo>
                        <a:pt x="200" y="209"/>
                      </a:lnTo>
                      <a:lnTo>
                        <a:pt x="182" y="214"/>
                      </a:lnTo>
                      <a:lnTo>
                        <a:pt x="165" y="218"/>
                      </a:lnTo>
                      <a:lnTo>
                        <a:pt x="147" y="222"/>
                      </a:lnTo>
                      <a:lnTo>
                        <a:pt x="157" y="213"/>
                      </a:lnTo>
                      <a:lnTo>
                        <a:pt x="169" y="204"/>
                      </a:lnTo>
                      <a:lnTo>
                        <a:pt x="181" y="197"/>
                      </a:lnTo>
                      <a:lnTo>
                        <a:pt x="194" y="189"/>
                      </a:lnTo>
                      <a:lnTo>
                        <a:pt x="206" y="182"/>
                      </a:lnTo>
                      <a:lnTo>
                        <a:pt x="219" y="175"/>
                      </a:lnTo>
                      <a:lnTo>
                        <a:pt x="231" y="169"/>
                      </a:lnTo>
                      <a:lnTo>
                        <a:pt x="244" y="161"/>
                      </a:lnTo>
                      <a:lnTo>
                        <a:pt x="257" y="155"/>
                      </a:lnTo>
                      <a:lnTo>
                        <a:pt x="270" y="148"/>
                      </a:lnTo>
                      <a:lnTo>
                        <a:pt x="282" y="140"/>
                      </a:lnTo>
                      <a:lnTo>
                        <a:pt x="295" y="133"/>
                      </a:lnTo>
                      <a:lnTo>
                        <a:pt x="306" y="124"/>
                      </a:lnTo>
                      <a:lnTo>
                        <a:pt x="318" y="114"/>
                      </a:lnTo>
                      <a:lnTo>
                        <a:pt x="330" y="104"/>
                      </a:lnTo>
                      <a:lnTo>
                        <a:pt x="341" y="93"/>
                      </a:lnTo>
                      <a:lnTo>
                        <a:pt x="336" y="87"/>
                      </a:lnTo>
                      <a:lnTo>
                        <a:pt x="332" y="79"/>
                      </a:lnTo>
                      <a:lnTo>
                        <a:pt x="326" y="75"/>
                      </a:lnTo>
                      <a:lnTo>
                        <a:pt x="315" y="75"/>
                      </a:lnTo>
                      <a:lnTo>
                        <a:pt x="303" y="79"/>
                      </a:lnTo>
                      <a:lnTo>
                        <a:pt x="291" y="84"/>
                      </a:lnTo>
                      <a:lnTo>
                        <a:pt x="280" y="89"/>
                      </a:lnTo>
                      <a:lnTo>
                        <a:pt x="268" y="95"/>
                      </a:lnTo>
                      <a:lnTo>
                        <a:pt x="256" y="101"/>
                      </a:lnTo>
                      <a:lnTo>
                        <a:pt x="245" y="106"/>
                      </a:lnTo>
                      <a:lnTo>
                        <a:pt x="235" y="112"/>
                      </a:lnTo>
                      <a:lnTo>
                        <a:pt x="223" y="118"/>
                      </a:lnTo>
                      <a:lnTo>
                        <a:pt x="212" y="124"/>
                      </a:lnTo>
                      <a:lnTo>
                        <a:pt x="201" y="129"/>
                      </a:lnTo>
                      <a:lnTo>
                        <a:pt x="191" y="135"/>
                      </a:lnTo>
                      <a:lnTo>
                        <a:pt x="179" y="140"/>
                      </a:lnTo>
                      <a:lnTo>
                        <a:pt x="168" y="145"/>
                      </a:lnTo>
                      <a:lnTo>
                        <a:pt x="156" y="150"/>
                      </a:lnTo>
                      <a:lnTo>
                        <a:pt x="146" y="154"/>
                      </a:lnTo>
                      <a:lnTo>
                        <a:pt x="134" y="158"/>
                      </a:lnTo>
                      <a:lnTo>
                        <a:pt x="108" y="171"/>
                      </a:lnTo>
                      <a:lnTo>
                        <a:pt x="115" y="167"/>
                      </a:lnTo>
                      <a:lnTo>
                        <a:pt x="121" y="161"/>
                      </a:lnTo>
                      <a:lnTo>
                        <a:pt x="129" y="154"/>
                      </a:lnTo>
                      <a:lnTo>
                        <a:pt x="135" y="145"/>
                      </a:lnTo>
                      <a:lnTo>
                        <a:pt x="141" y="136"/>
                      </a:lnTo>
                      <a:lnTo>
                        <a:pt x="147" y="126"/>
                      </a:lnTo>
                      <a:lnTo>
                        <a:pt x="150" y="115"/>
                      </a:lnTo>
                      <a:lnTo>
                        <a:pt x="151" y="105"/>
                      </a:lnTo>
                      <a:lnTo>
                        <a:pt x="147" y="101"/>
                      </a:lnTo>
                      <a:lnTo>
                        <a:pt x="141" y="97"/>
                      </a:lnTo>
                      <a:lnTo>
                        <a:pt x="136" y="97"/>
                      </a:lnTo>
                      <a:lnTo>
                        <a:pt x="129" y="97"/>
                      </a:lnTo>
                      <a:lnTo>
                        <a:pt x="113" y="105"/>
                      </a:lnTo>
                      <a:lnTo>
                        <a:pt x="96" y="113"/>
                      </a:lnTo>
                      <a:lnTo>
                        <a:pt x="81" y="122"/>
                      </a:lnTo>
                      <a:lnTo>
                        <a:pt x="68" y="130"/>
                      </a:lnTo>
                      <a:lnTo>
                        <a:pt x="53" y="138"/>
                      </a:lnTo>
                      <a:lnTo>
                        <a:pt x="36" y="144"/>
                      </a:lnTo>
                      <a:lnTo>
                        <a:pt x="19" y="149"/>
                      </a:lnTo>
                      <a:lnTo>
                        <a:pt x="0" y="151"/>
                      </a:lnTo>
                      <a:lnTo>
                        <a:pt x="23" y="138"/>
                      </a:lnTo>
                      <a:lnTo>
                        <a:pt x="44" y="123"/>
                      </a:lnTo>
                      <a:lnTo>
                        <a:pt x="64" y="106"/>
                      </a:lnTo>
                      <a:lnTo>
                        <a:pt x="84" y="87"/>
                      </a:lnTo>
                      <a:lnTo>
                        <a:pt x="102" y="67"/>
                      </a:lnTo>
                      <a:lnTo>
                        <a:pt x="119" y="48"/>
                      </a:lnTo>
                      <a:lnTo>
                        <a:pt x="134" y="28"/>
                      </a:lnTo>
                      <a:lnTo>
                        <a:pt x="147" y="9"/>
                      </a:lnTo>
                      <a:lnTo>
                        <a:pt x="160" y="5"/>
                      </a:lnTo>
                      <a:lnTo>
                        <a:pt x="175" y="2"/>
                      </a:lnTo>
                      <a:lnTo>
                        <a:pt x="190" y="0"/>
                      </a:lnTo>
                      <a:lnTo>
                        <a:pt x="204" y="1"/>
                      </a:lnTo>
                      <a:lnTo>
                        <a:pt x="219" y="3"/>
                      </a:lnTo>
                      <a:lnTo>
                        <a:pt x="231" y="9"/>
                      </a:lnTo>
                      <a:lnTo>
                        <a:pt x="242" y="17"/>
                      </a:lnTo>
                      <a:lnTo>
                        <a:pt x="251" y="29"/>
                      </a:lnTo>
                      <a:close/>
                    </a:path>
                  </a:pathLst>
                </a:custGeom>
                <a:solidFill>
                  <a:srgbClr val="bf8e3a"/>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8" name=""/>
                <p:cNvSpPr/>
                <p:nvPr/>
              </p:nvSpPr>
              <p:spPr>
                <a:xfrm flipH="1">
                  <a:off x="1079280" y="4236480"/>
                  <a:ext cx="119520" cy="42840"/>
                </a:xfrm>
                <a:custGeom>
                  <a:avLst/>
                  <a:gdLst/>
                  <a:ahLst/>
                  <a:rect l="l" t="t" r="r" b="b"/>
                  <a:pathLst>
                    <a:path w="689" h="237">
                      <a:moveTo>
                        <a:pt x="689" y="30"/>
                      </a:moveTo>
                      <a:lnTo>
                        <a:pt x="681" y="38"/>
                      </a:lnTo>
                      <a:lnTo>
                        <a:pt x="674" y="45"/>
                      </a:lnTo>
                      <a:lnTo>
                        <a:pt x="664" y="54"/>
                      </a:lnTo>
                      <a:lnTo>
                        <a:pt x="655" y="60"/>
                      </a:lnTo>
                      <a:lnTo>
                        <a:pt x="645" y="68"/>
                      </a:lnTo>
                      <a:lnTo>
                        <a:pt x="635" y="74"/>
                      </a:lnTo>
                      <a:lnTo>
                        <a:pt x="623" y="79"/>
                      </a:lnTo>
                      <a:lnTo>
                        <a:pt x="613" y="84"/>
                      </a:lnTo>
                      <a:lnTo>
                        <a:pt x="578" y="101"/>
                      </a:lnTo>
                      <a:lnTo>
                        <a:pt x="543" y="118"/>
                      </a:lnTo>
                      <a:lnTo>
                        <a:pt x="508" y="134"/>
                      </a:lnTo>
                      <a:lnTo>
                        <a:pt x="471" y="149"/>
                      </a:lnTo>
                      <a:lnTo>
                        <a:pt x="435" y="163"/>
                      </a:lnTo>
                      <a:lnTo>
                        <a:pt x="397" y="176"/>
                      </a:lnTo>
                      <a:lnTo>
                        <a:pt x="360" y="187"/>
                      </a:lnTo>
                      <a:lnTo>
                        <a:pt x="321" y="198"/>
                      </a:lnTo>
                      <a:lnTo>
                        <a:pt x="283" y="208"/>
                      </a:lnTo>
                      <a:lnTo>
                        <a:pt x="244" y="216"/>
                      </a:lnTo>
                      <a:lnTo>
                        <a:pt x="205" y="223"/>
                      </a:lnTo>
                      <a:lnTo>
                        <a:pt x="165" y="229"/>
                      </a:lnTo>
                      <a:lnTo>
                        <a:pt x="124" y="233"/>
                      </a:lnTo>
                      <a:lnTo>
                        <a:pt x="84" y="235"/>
                      </a:lnTo>
                      <a:lnTo>
                        <a:pt x="43" y="237"/>
                      </a:lnTo>
                      <a:lnTo>
                        <a:pt x="1" y="237"/>
                      </a:lnTo>
                      <a:lnTo>
                        <a:pt x="0" y="237"/>
                      </a:lnTo>
                      <a:lnTo>
                        <a:pt x="1" y="235"/>
                      </a:lnTo>
                      <a:lnTo>
                        <a:pt x="6" y="234"/>
                      </a:lnTo>
                      <a:lnTo>
                        <a:pt x="11" y="232"/>
                      </a:lnTo>
                      <a:lnTo>
                        <a:pt x="16" y="230"/>
                      </a:lnTo>
                      <a:lnTo>
                        <a:pt x="23" y="228"/>
                      </a:lnTo>
                      <a:lnTo>
                        <a:pt x="28" y="226"/>
                      </a:lnTo>
                      <a:lnTo>
                        <a:pt x="32" y="224"/>
                      </a:lnTo>
                      <a:lnTo>
                        <a:pt x="49" y="217"/>
                      </a:lnTo>
                      <a:lnTo>
                        <a:pt x="67" y="212"/>
                      </a:lnTo>
                      <a:lnTo>
                        <a:pt x="85" y="208"/>
                      </a:lnTo>
                      <a:lnTo>
                        <a:pt x="103" y="203"/>
                      </a:lnTo>
                      <a:lnTo>
                        <a:pt x="120" y="199"/>
                      </a:lnTo>
                      <a:lnTo>
                        <a:pt x="138" y="195"/>
                      </a:lnTo>
                      <a:lnTo>
                        <a:pt x="155" y="190"/>
                      </a:lnTo>
                      <a:lnTo>
                        <a:pt x="173" y="183"/>
                      </a:lnTo>
                      <a:lnTo>
                        <a:pt x="203" y="172"/>
                      </a:lnTo>
                      <a:lnTo>
                        <a:pt x="233" y="162"/>
                      </a:lnTo>
                      <a:lnTo>
                        <a:pt x="261" y="150"/>
                      </a:lnTo>
                      <a:lnTo>
                        <a:pt x="290" y="138"/>
                      </a:lnTo>
                      <a:lnTo>
                        <a:pt x="319" y="126"/>
                      </a:lnTo>
                      <a:lnTo>
                        <a:pt x="347" y="115"/>
                      </a:lnTo>
                      <a:lnTo>
                        <a:pt x="376" y="102"/>
                      </a:lnTo>
                      <a:lnTo>
                        <a:pt x="404" y="90"/>
                      </a:lnTo>
                      <a:lnTo>
                        <a:pt x="432" y="78"/>
                      </a:lnTo>
                      <a:lnTo>
                        <a:pt x="461" y="66"/>
                      </a:lnTo>
                      <a:lnTo>
                        <a:pt x="488" y="54"/>
                      </a:lnTo>
                      <a:lnTo>
                        <a:pt x="517" y="42"/>
                      </a:lnTo>
                      <a:lnTo>
                        <a:pt x="546" y="31"/>
                      </a:lnTo>
                      <a:lnTo>
                        <a:pt x="575" y="21"/>
                      </a:lnTo>
                      <a:lnTo>
                        <a:pt x="605" y="10"/>
                      </a:lnTo>
                      <a:lnTo>
                        <a:pt x="635" y="0"/>
                      </a:lnTo>
                      <a:lnTo>
                        <a:pt x="643" y="4"/>
                      </a:lnTo>
                      <a:lnTo>
                        <a:pt x="650" y="6"/>
                      </a:lnTo>
                      <a:lnTo>
                        <a:pt x="658" y="8"/>
                      </a:lnTo>
                      <a:lnTo>
                        <a:pt x="665" y="10"/>
                      </a:lnTo>
                      <a:lnTo>
                        <a:pt x="671" y="13"/>
                      </a:lnTo>
                      <a:lnTo>
                        <a:pt x="678" y="17"/>
                      </a:lnTo>
                      <a:lnTo>
                        <a:pt x="683" y="23"/>
                      </a:lnTo>
                      <a:lnTo>
                        <a:pt x="689" y="30"/>
                      </a:lnTo>
                      <a:close/>
                    </a:path>
                  </a:pathLst>
                </a:custGeom>
                <a:solidFill>
                  <a:srgbClr val="8959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29" name=""/>
                <p:cNvSpPr/>
                <p:nvPr/>
              </p:nvSpPr>
              <p:spPr>
                <a:xfrm flipH="1">
                  <a:off x="1436040" y="4248360"/>
                  <a:ext cx="81000" cy="62640"/>
                </a:xfrm>
                <a:custGeom>
                  <a:avLst/>
                  <a:gdLst/>
                  <a:ahLst/>
                  <a:rect l="l" t="t" r="r" b="b"/>
                  <a:pathLst>
                    <a:path w="466" h="346">
                      <a:moveTo>
                        <a:pt x="374" y="53"/>
                      </a:moveTo>
                      <a:lnTo>
                        <a:pt x="382" y="57"/>
                      </a:lnTo>
                      <a:lnTo>
                        <a:pt x="390" y="64"/>
                      </a:lnTo>
                      <a:lnTo>
                        <a:pt x="397" y="70"/>
                      </a:lnTo>
                      <a:lnTo>
                        <a:pt x="404" y="76"/>
                      </a:lnTo>
                      <a:lnTo>
                        <a:pt x="411" y="84"/>
                      </a:lnTo>
                      <a:lnTo>
                        <a:pt x="417" y="89"/>
                      </a:lnTo>
                      <a:lnTo>
                        <a:pt x="424" y="95"/>
                      </a:lnTo>
                      <a:lnTo>
                        <a:pt x="430" y="99"/>
                      </a:lnTo>
                      <a:lnTo>
                        <a:pt x="429" y="102"/>
                      </a:lnTo>
                      <a:lnTo>
                        <a:pt x="425" y="104"/>
                      </a:lnTo>
                      <a:lnTo>
                        <a:pt x="421" y="104"/>
                      </a:lnTo>
                      <a:lnTo>
                        <a:pt x="416" y="106"/>
                      </a:lnTo>
                      <a:lnTo>
                        <a:pt x="412" y="103"/>
                      </a:lnTo>
                      <a:lnTo>
                        <a:pt x="405" y="107"/>
                      </a:lnTo>
                      <a:lnTo>
                        <a:pt x="396" y="110"/>
                      </a:lnTo>
                      <a:lnTo>
                        <a:pt x="386" y="111"/>
                      </a:lnTo>
                      <a:lnTo>
                        <a:pt x="377" y="111"/>
                      </a:lnTo>
                      <a:lnTo>
                        <a:pt x="367" y="111"/>
                      </a:lnTo>
                      <a:lnTo>
                        <a:pt x="359" y="112"/>
                      </a:lnTo>
                      <a:lnTo>
                        <a:pt x="350" y="115"/>
                      </a:lnTo>
                      <a:lnTo>
                        <a:pt x="344" y="121"/>
                      </a:lnTo>
                      <a:lnTo>
                        <a:pt x="345" y="134"/>
                      </a:lnTo>
                      <a:lnTo>
                        <a:pt x="348" y="143"/>
                      </a:lnTo>
                      <a:lnTo>
                        <a:pt x="355" y="149"/>
                      </a:lnTo>
                      <a:lnTo>
                        <a:pt x="364" y="154"/>
                      </a:lnTo>
                      <a:lnTo>
                        <a:pt x="374" y="159"/>
                      </a:lnTo>
                      <a:lnTo>
                        <a:pt x="383" y="163"/>
                      </a:lnTo>
                      <a:lnTo>
                        <a:pt x="393" y="169"/>
                      </a:lnTo>
                      <a:lnTo>
                        <a:pt x="399" y="178"/>
                      </a:lnTo>
                      <a:lnTo>
                        <a:pt x="408" y="188"/>
                      </a:lnTo>
                      <a:lnTo>
                        <a:pt x="416" y="196"/>
                      </a:lnTo>
                      <a:lnTo>
                        <a:pt x="425" y="205"/>
                      </a:lnTo>
                      <a:lnTo>
                        <a:pt x="434" y="212"/>
                      </a:lnTo>
                      <a:lnTo>
                        <a:pt x="442" y="220"/>
                      </a:lnTo>
                      <a:lnTo>
                        <a:pt x="451" y="228"/>
                      </a:lnTo>
                      <a:lnTo>
                        <a:pt x="458" y="237"/>
                      </a:lnTo>
                      <a:lnTo>
                        <a:pt x="466" y="246"/>
                      </a:lnTo>
                      <a:lnTo>
                        <a:pt x="444" y="246"/>
                      </a:lnTo>
                      <a:lnTo>
                        <a:pt x="423" y="244"/>
                      </a:lnTo>
                      <a:lnTo>
                        <a:pt x="401" y="242"/>
                      </a:lnTo>
                      <a:lnTo>
                        <a:pt x="380" y="238"/>
                      </a:lnTo>
                      <a:lnTo>
                        <a:pt x="360" y="234"/>
                      </a:lnTo>
                      <a:lnTo>
                        <a:pt x="338" y="228"/>
                      </a:lnTo>
                      <a:lnTo>
                        <a:pt x="318" y="223"/>
                      </a:lnTo>
                      <a:lnTo>
                        <a:pt x="298" y="218"/>
                      </a:lnTo>
                      <a:lnTo>
                        <a:pt x="291" y="228"/>
                      </a:lnTo>
                      <a:lnTo>
                        <a:pt x="290" y="240"/>
                      </a:lnTo>
                      <a:lnTo>
                        <a:pt x="291" y="254"/>
                      </a:lnTo>
                      <a:lnTo>
                        <a:pt x="294" y="267"/>
                      </a:lnTo>
                      <a:lnTo>
                        <a:pt x="303" y="285"/>
                      </a:lnTo>
                      <a:lnTo>
                        <a:pt x="307" y="306"/>
                      </a:lnTo>
                      <a:lnTo>
                        <a:pt x="308" y="327"/>
                      </a:lnTo>
                      <a:lnTo>
                        <a:pt x="308" y="346"/>
                      </a:lnTo>
                      <a:lnTo>
                        <a:pt x="296" y="337"/>
                      </a:lnTo>
                      <a:lnTo>
                        <a:pt x="286" y="331"/>
                      </a:lnTo>
                      <a:lnTo>
                        <a:pt x="274" y="324"/>
                      </a:lnTo>
                      <a:lnTo>
                        <a:pt x="263" y="319"/>
                      </a:lnTo>
                      <a:lnTo>
                        <a:pt x="252" y="313"/>
                      </a:lnTo>
                      <a:lnTo>
                        <a:pt x="241" y="307"/>
                      </a:lnTo>
                      <a:lnTo>
                        <a:pt x="230" y="300"/>
                      </a:lnTo>
                      <a:lnTo>
                        <a:pt x="219" y="292"/>
                      </a:lnTo>
                      <a:lnTo>
                        <a:pt x="209" y="291"/>
                      </a:lnTo>
                      <a:lnTo>
                        <a:pt x="198" y="292"/>
                      </a:lnTo>
                      <a:lnTo>
                        <a:pt x="187" y="292"/>
                      </a:lnTo>
                      <a:lnTo>
                        <a:pt x="178" y="293"/>
                      </a:lnTo>
                      <a:lnTo>
                        <a:pt x="168" y="292"/>
                      </a:lnTo>
                      <a:lnTo>
                        <a:pt x="158" y="291"/>
                      </a:lnTo>
                      <a:lnTo>
                        <a:pt x="149" y="287"/>
                      </a:lnTo>
                      <a:lnTo>
                        <a:pt x="140" y="282"/>
                      </a:lnTo>
                      <a:lnTo>
                        <a:pt x="163" y="280"/>
                      </a:lnTo>
                      <a:lnTo>
                        <a:pt x="184" y="274"/>
                      </a:lnTo>
                      <a:lnTo>
                        <a:pt x="203" y="265"/>
                      </a:lnTo>
                      <a:lnTo>
                        <a:pt x="223" y="252"/>
                      </a:lnTo>
                      <a:lnTo>
                        <a:pt x="239" y="237"/>
                      </a:lnTo>
                      <a:lnTo>
                        <a:pt x="255" y="220"/>
                      </a:lnTo>
                      <a:lnTo>
                        <a:pt x="268" y="203"/>
                      </a:lnTo>
                      <a:lnTo>
                        <a:pt x="279" y="185"/>
                      </a:lnTo>
                      <a:lnTo>
                        <a:pt x="287" y="166"/>
                      </a:lnTo>
                      <a:lnTo>
                        <a:pt x="290" y="145"/>
                      </a:lnTo>
                      <a:lnTo>
                        <a:pt x="289" y="124"/>
                      </a:lnTo>
                      <a:lnTo>
                        <a:pt x="283" y="103"/>
                      </a:lnTo>
                      <a:lnTo>
                        <a:pt x="273" y="88"/>
                      </a:lnTo>
                      <a:lnTo>
                        <a:pt x="262" y="75"/>
                      </a:lnTo>
                      <a:lnTo>
                        <a:pt x="249" y="64"/>
                      </a:lnTo>
                      <a:lnTo>
                        <a:pt x="235" y="54"/>
                      </a:lnTo>
                      <a:lnTo>
                        <a:pt x="220" y="46"/>
                      </a:lnTo>
                      <a:lnTo>
                        <a:pt x="205" y="38"/>
                      </a:lnTo>
                      <a:lnTo>
                        <a:pt x="189" y="32"/>
                      </a:lnTo>
                      <a:lnTo>
                        <a:pt x="172" y="25"/>
                      </a:lnTo>
                      <a:lnTo>
                        <a:pt x="162" y="25"/>
                      </a:lnTo>
                      <a:lnTo>
                        <a:pt x="150" y="25"/>
                      </a:lnTo>
                      <a:lnTo>
                        <a:pt x="139" y="24"/>
                      </a:lnTo>
                      <a:lnTo>
                        <a:pt x="128" y="24"/>
                      </a:lnTo>
                      <a:lnTo>
                        <a:pt x="117" y="23"/>
                      </a:lnTo>
                      <a:lnTo>
                        <a:pt x="105" y="22"/>
                      </a:lnTo>
                      <a:lnTo>
                        <a:pt x="94" y="21"/>
                      </a:lnTo>
                      <a:lnTo>
                        <a:pt x="83" y="21"/>
                      </a:lnTo>
                      <a:lnTo>
                        <a:pt x="72" y="20"/>
                      </a:lnTo>
                      <a:lnTo>
                        <a:pt x="61" y="20"/>
                      </a:lnTo>
                      <a:lnTo>
                        <a:pt x="50" y="21"/>
                      </a:lnTo>
                      <a:lnTo>
                        <a:pt x="40" y="21"/>
                      </a:lnTo>
                      <a:lnTo>
                        <a:pt x="29" y="23"/>
                      </a:lnTo>
                      <a:lnTo>
                        <a:pt x="19" y="24"/>
                      </a:lnTo>
                      <a:lnTo>
                        <a:pt x="10" y="27"/>
                      </a:lnTo>
                      <a:lnTo>
                        <a:pt x="0" y="31"/>
                      </a:lnTo>
                      <a:lnTo>
                        <a:pt x="14" y="19"/>
                      </a:lnTo>
                      <a:lnTo>
                        <a:pt x="31" y="12"/>
                      </a:lnTo>
                      <a:lnTo>
                        <a:pt x="48" y="10"/>
                      </a:lnTo>
                      <a:lnTo>
                        <a:pt x="67" y="10"/>
                      </a:lnTo>
                      <a:lnTo>
                        <a:pt x="87" y="10"/>
                      </a:lnTo>
                      <a:lnTo>
                        <a:pt x="106" y="9"/>
                      </a:lnTo>
                      <a:lnTo>
                        <a:pt x="124" y="7"/>
                      </a:lnTo>
                      <a:lnTo>
                        <a:pt x="140" y="0"/>
                      </a:lnTo>
                      <a:lnTo>
                        <a:pt x="157" y="2"/>
                      </a:lnTo>
                      <a:lnTo>
                        <a:pt x="174" y="3"/>
                      </a:lnTo>
                      <a:lnTo>
                        <a:pt x="192" y="4"/>
                      </a:lnTo>
                      <a:lnTo>
                        <a:pt x="210" y="3"/>
                      </a:lnTo>
                      <a:lnTo>
                        <a:pt x="227" y="2"/>
                      </a:lnTo>
                      <a:lnTo>
                        <a:pt x="243" y="1"/>
                      </a:lnTo>
                      <a:lnTo>
                        <a:pt x="260" y="0"/>
                      </a:lnTo>
                      <a:lnTo>
                        <a:pt x="276" y="0"/>
                      </a:lnTo>
                      <a:lnTo>
                        <a:pt x="291" y="1"/>
                      </a:lnTo>
                      <a:lnTo>
                        <a:pt x="306" y="2"/>
                      </a:lnTo>
                      <a:lnTo>
                        <a:pt x="320" y="5"/>
                      </a:lnTo>
                      <a:lnTo>
                        <a:pt x="333" y="10"/>
                      </a:lnTo>
                      <a:lnTo>
                        <a:pt x="345" y="17"/>
                      </a:lnTo>
                      <a:lnTo>
                        <a:pt x="355" y="26"/>
                      </a:lnTo>
                      <a:lnTo>
                        <a:pt x="365" y="38"/>
                      </a:lnTo>
                      <a:lnTo>
                        <a:pt x="374" y="53"/>
                      </a:lnTo>
                      <a:close/>
                    </a:path>
                  </a:pathLst>
                </a:custGeom>
                <a:solidFill>
                  <a:srgbClr val="d6c4a5"/>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30" name=""/>
                <p:cNvSpPr/>
                <p:nvPr/>
              </p:nvSpPr>
              <p:spPr>
                <a:xfrm flipH="1">
                  <a:off x="1488600" y="4259520"/>
                  <a:ext cx="6840" cy="5040"/>
                </a:xfrm>
                <a:custGeom>
                  <a:avLst/>
                  <a:gdLst/>
                  <a:ahLst/>
                  <a:rect l="l" t="t" r="r" b="b"/>
                  <a:pathLst>
                    <a:path w="36" h="29">
                      <a:moveTo>
                        <a:pt x="21" y="2"/>
                      </a:moveTo>
                      <a:lnTo>
                        <a:pt x="27" y="0"/>
                      </a:lnTo>
                      <a:lnTo>
                        <a:pt x="30" y="3"/>
                      </a:lnTo>
                      <a:lnTo>
                        <a:pt x="33" y="7"/>
                      </a:lnTo>
                      <a:lnTo>
                        <a:pt x="36" y="11"/>
                      </a:lnTo>
                      <a:lnTo>
                        <a:pt x="36" y="21"/>
                      </a:lnTo>
                      <a:lnTo>
                        <a:pt x="34" y="26"/>
                      </a:lnTo>
                      <a:lnTo>
                        <a:pt x="30" y="29"/>
                      </a:lnTo>
                      <a:lnTo>
                        <a:pt x="26" y="29"/>
                      </a:lnTo>
                      <a:lnTo>
                        <a:pt x="21" y="29"/>
                      </a:lnTo>
                      <a:lnTo>
                        <a:pt x="14" y="29"/>
                      </a:lnTo>
                      <a:lnTo>
                        <a:pt x="7" y="28"/>
                      </a:lnTo>
                      <a:lnTo>
                        <a:pt x="0" y="29"/>
                      </a:lnTo>
                      <a:lnTo>
                        <a:pt x="1" y="20"/>
                      </a:lnTo>
                      <a:lnTo>
                        <a:pt x="7" y="12"/>
                      </a:lnTo>
                      <a:lnTo>
                        <a:pt x="14" y="6"/>
                      </a:lnTo>
                      <a:lnTo>
                        <a:pt x="21"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1" name=""/>
                <p:cNvSpPr/>
                <p:nvPr/>
              </p:nvSpPr>
              <p:spPr>
                <a:xfrm flipH="1">
                  <a:off x="1494720" y="4264920"/>
                  <a:ext cx="58680" cy="24480"/>
                </a:xfrm>
                <a:custGeom>
                  <a:avLst/>
                  <a:gdLst/>
                  <a:ahLst/>
                  <a:rect l="l" t="t" r="r" b="b"/>
                  <a:pathLst>
                    <a:path w="340" h="136">
                      <a:moveTo>
                        <a:pt x="183" y="2"/>
                      </a:moveTo>
                      <a:lnTo>
                        <a:pt x="200" y="7"/>
                      </a:lnTo>
                      <a:lnTo>
                        <a:pt x="215" y="13"/>
                      </a:lnTo>
                      <a:lnTo>
                        <a:pt x="230" y="22"/>
                      </a:lnTo>
                      <a:lnTo>
                        <a:pt x="244" y="31"/>
                      </a:lnTo>
                      <a:lnTo>
                        <a:pt x="258" y="41"/>
                      </a:lnTo>
                      <a:lnTo>
                        <a:pt x="272" y="52"/>
                      </a:lnTo>
                      <a:lnTo>
                        <a:pt x="286" y="61"/>
                      </a:lnTo>
                      <a:lnTo>
                        <a:pt x="301" y="69"/>
                      </a:lnTo>
                      <a:lnTo>
                        <a:pt x="305" y="74"/>
                      </a:lnTo>
                      <a:lnTo>
                        <a:pt x="313" y="78"/>
                      </a:lnTo>
                      <a:lnTo>
                        <a:pt x="320" y="83"/>
                      </a:lnTo>
                      <a:lnTo>
                        <a:pt x="328" y="86"/>
                      </a:lnTo>
                      <a:lnTo>
                        <a:pt x="335" y="91"/>
                      </a:lnTo>
                      <a:lnTo>
                        <a:pt x="339" y="98"/>
                      </a:lnTo>
                      <a:lnTo>
                        <a:pt x="340" y="106"/>
                      </a:lnTo>
                      <a:lnTo>
                        <a:pt x="337" y="117"/>
                      </a:lnTo>
                      <a:lnTo>
                        <a:pt x="331" y="122"/>
                      </a:lnTo>
                      <a:lnTo>
                        <a:pt x="323" y="126"/>
                      </a:lnTo>
                      <a:lnTo>
                        <a:pt x="315" y="131"/>
                      </a:lnTo>
                      <a:lnTo>
                        <a:pt x="306" y="134"/>
                      </a:lnTo>
                      <a:lnTo>
                        <a:pt x="298" y="135"/>
                      </a:lnTo>
                      <a:lnTo>
                        <a:pt x="288" y="136"/>
                      </a:lnTo>
                      <a:lnTo>
                        <a:pt x="278" y="135"/>
                      </a:lnTo>
                      <a:lnTo>
                        <a:pt x="270" y="132"/>
                      </a:lnTo>
                      <a:lnTo>
                        <a:pt x="263" y="130"/>
                      </a:lnTo>
                      <a:lnTo>
                        <a:pt x="258" y="126"/>
                      </a:lnTo>
                      <a:lnTo>
                        <a:pt x="254" y="122"/>
                      </a:lnTo>
                      <a:lnTo>
                        <a:pt x="249" y="118"/>
                      </a:lnTo>
                      <a:lnTo>
                        <a:pt x="245" y="115"/>
                      </a:lnTo>
                      <a:lnTo>
                        <a:pt x="240" y="111"/>
                      </a:lnTo>
                      <a:lnTo>
                        <a:pt x="233" y="110"/>
                      </a:lnTo>
                      <a:lnTo>
                        <a:pt x="226" y="111"/>
                      </a:lnTo>
                      <a:lnTo>
                        <a:pt x="237" y="107"/>
                      </a:lnTo>
                      <a:lnTo>
                        <a:pt x="249" y="108"/>
                      </a:lnTo>
                      <a:lnTo>
                        <a:pt x="261" y="111"/>
                      </a:lnTo>
                      <a:lnTo>
                        <a:pt x="273" y="116"/>
                      </a:lnTo>
                      <a:lnTo>
                        <a:pt x="284" y="118"/>
                      </a:lnTo>
                      <a:lnTo>
                        <a:pt x="291" y="116"/>
                      </a:lnTo>
                      <a:lnTo>
                        <a:pt x="295" y="108"/>
                      </a:lnTo>
                      <a:lnTo>
                        <a:pt x="294" y="93"/>
                      </a:lnTo>
                      <a:lnTo>
                        <a:pt x="282" y="86"/>
                      </a:lnTo>
                      <a:lnTo>
                        <a:pt x="268" y="80"/>
                      </a:lnTo>
                      <a:lnTo>
                        <a:pt x="252" y="77"/>
                      </a:lnTo>
                      <a:lnTo>
                        <a:pt x="236" y="76"/>
                      </a:lnTo>
                      <a:lnTo>
                        <a:pt x="218" y="75"/>
                      </a:lnTo>
                      <a:lnTo>
                        <a:pt x="201" y="75"/>
                      </a:lnTo>
                      <a:lnTo>
                        <a:pt x="186" y="75"/>
                      </a:lnTo>
                      <a:lnTo>
                        <a:pt x="172" y="75"/>
                      </a:lnTo>
                      <a:lnTo>
                        <a:pt x="162" y="75"/>
                      </a:lnTo>
                      <a:lnTo>
                        <a:pt x="150" y="75"/>
                      </a:lnTo>
                      <a:lnTo>
                        <a:pt x="139" y="75"/>
                      </a:lnTo>
                      <a:lnTo>
                        <a:pt x="127" y="75"/>
                      </a:lnTo>
                      <a:lnTo>
                        <a:pt x="117" y="75"/>
                      </a:lnTo>
                      <a:lnTo>
                        <a:pt x="105" y="75"/>
                      </a:lnTo>
                      <a:lnTo>
                        <a:pt x="94" y="76"/>
                      </a:lnTo>
                      <a:lnTo>
                        <a:pt x="82" y="77"/>
                      </a:lnTo>
                      <a:lnTo>
                        <a:pt x="72" y="78"/>
                      </a:lnTo>
                      <a:lnTo>
                        <a:pt x="60" y="80"/>
                      </a:lnTo>
                      <a:lnTo>
                        <a:pt x="49" y="84"/>
                      </a:lnTo>
                      <a:lnTo>
                        <a:pt x="40" y="87"/>
                      </a:lnTo>
                      <a:lnTo>
                        <a:pt x="29" y="90"/>
                      </a:lnTo>
                      <a:lnTo>
                        <a:pt x="19" y="95"/>
                      </a:lnTo>
                      <a:lnTo>
                        <a:pt x="10" y="101"/>
                      </a:lnTo>
                      <a:lnTo>
                        <a:pt x="0" y="107"/>
                      </a:lnTo>
                      <a:lnTo>
                        <a:pt x="0" y="89"/>
                      </a:lnTo>
                      <a:lnTo>
                        <a:pt x="5" y="83"/>
                      </a:lnTo>
                      <a:lnTo>
                        <a:pt x="11" y="75"/>
                      </a:lnTo>
                      <a:lnTo>
                        <a:pt x="15" y="67"/>
                      </a:lnTo>
                      <a:lnTo>
                        <a:pt x="18" y="58"/>
                      </a:lnTo>
                      <a:lnTo>
                        <a:pt x="26" y="44"/>
                      </a:lnTo>
                      <a:lnTo>
                        <a:pt x="35" y="33"/>
                      </a:lnTo>
                      <a:lnTo>
                        <a:pt x="48" y="26"/>
                      </a:lnTo>
                      <a:lnTo>
                        <a:pt x="62" y="20"/>
                      </a:lnTo>
                      <a:lnTo>
                        <a:pt x="77" y="15"/>
                      </a:lnTo>
                      <a:lnTo>
                        <a:pt x="92" y="11"/>
                      </a:lnTo>
                      <a:lnTo>
                        <a:pt x="107" y="7"/>
                      </a:lnTo>
                      <a:lnTo>
                        <a:pt x="122" y="2"/>
                      </a:lnTo>
                      <a:lnTo>
                        <a:pt x="131" y="0"/>
                      </a:lnTo>
                      <a:lnTo>
                        <a:pt x="139" y="1"/>
                      </a:lnTo>
                      <a:lnTo>
                        <a:pt x="147" y="5"/>
                      </a:lnTo>
                      <a:lnTo>
                        <a:pt x="153" y="10"/>
                      </a:lnTo>
                      <a:lnTo>
                        <a:pt x="161" y="13"/>
                      </a:lnTo>
                      <a:lnTo>
                        <a:pt x="167" y="14"/>
                      </a:lnTo>
                      <a:lnTo>
                        <a:pt x="175" y="11"/>
                      </a:lnTo>
                      <a:lnTo>
                        <a:pt x="183" y="2"/>
                      </a:lnTo>
                      <a:close/>
                    </a:path>
                  </a:pathLst>
                </a:custGeom>
                <a:solidFill>
                  <a:srgbClr val="ffeab2"/>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432" name=""/>
                <p:cNvSpPr/>
                <p:nvPr/>
              </p:nvSpPr>
              <p:spPr>
                <a:xfrm flipH="1">
                  <a:off x="1438560" y="4326120"/>
                  <a:ext cx="43200" cy="18000"/>
                </a:xfrm>
                <a:custGeom>
                  <a:avLst/>
                  <a:gdLst/>
                  <a:ahLst/>
                  <a:rect l="l" t="t" r="r" b="b"/>
                  <a:pathLst>
                    <a:path w="249" h="101">
                      <a:moveTo>
                        <a:pt x="104" y="0"/>
                      </a:moveTo>
                      <a:lnTo>
                        <a:pt x="102" y="16"/>
                      </a:lnTo>
                      <a:lnTo>
                        <a:pt x="105" y="25"/>
                      </a:lnTo>
                      <a:lnTo>
                        <a:pt x="113" y="31"/>
                      </a:lnTo>
                      <a:lnTo>
                        <a:pt x="124" y="32"/>
                      </a:lnTo>
                      <a:lnTo>
                        <a:pt x="135" y="32"/>
                      </a:lnTo>
                      <a:lnTo>
                        <a:pt x="148" y="32"/>
                      </a:lnTo>
                      <a:lnTo>
                        <a:pt x="160" y="33"/>
                      </a:lnTo>
                      <a:lnTo>
                        <a:pt x="170" y="36"/>
                      </a:lnTo>
                      <a:lnTo>
                        <a:pt x="181" y="36"/>
                      </a:lnTo>
                      <a:lnTo>
                        <a:pt x="192" y="38"/>
                      </a:lnTo>
                      <a:lnTo>
                        <a:pt x="201" y="41"/>
                      </a:lnTo>
                      <a:lnTo>
                        <a:pt x="209" y="46"/>
                      </a:lnTo>
                      <a:lnTo>
                        <a:pt x="218" y="51"/>
                      </a:lnTo>
                      <a:lnTo>
                        <a:pt x="226" y="55"/>
                      </a:lnTo>
                      <a:lnTo>
                        <a:pt x="237" y="57"/>
                      </a:lnTo>
                      <a:lnTo>
                        <a:pt x="249" y="59"/>
                      </a:lnTo>
                      <a:lnTo>
                        <a:pt x="240" y="72"/>
                      </a:lnTo>
                      <a:lnTo>
                        <a:pt x="228" y="82"/>
                      </a:lnTo>
                      <a:lnTo>
                        <a:pt x="216" y="88"/>
                      </a:lnTo>
                      <a:lnTo>
                        <a:pt x="200" y="92"/>
                      </a:lnTo>
                      <a:lnTo>
                        <a:pt x="183" y="94"/>
                      </a:lnTo>
                      <a:lnTo>
                        <a:pt x="167" y="95"/>
                      </a:lnTo>
                      <a:lnTo>
                        <a:pt x="151" y="97"/>
                      </a:lnTo>
                      <a:lnTo>
                        <a:pt x="136" y="101"/>
                      </a:lnTo>
                      <a:lnTo>
                        <a:pt x="118" y="100"/>
                      </a:lnTo>
                      <a:lnTo>
                        <a:pt x="99" y="99"/>
                      </a:lnTo>
                      <a:lnTo>
                        <a:pt x="80" y="97"/>
                      </a:lnTo>
                      <a:lnTo>
                        <a:pt x="60" y="94"/>
                      </a:lnTo>
                      <a:lnTo>
                        <a:pt x="42" y="90"/>
                      </a:lnTo>
                      <a:lnTo>
                        <a:pt x="26" y="82"/>
                      </a:lnTo>
                      <a:lnTo>
                        <a:pt x="11" y="72"/>
                      </a:lnTo>
                      <a:lnTo>
                        <a:pt x="0" y="59"/>
                      </a:lnTo>
                      <a:lnTo>
                        <a:pt x="15" y="52"/>
                      </a:lnTo>
                      <a:lnTo>
                        <a:pt x="28" y="44"/>
                      </a:lnTo>
                      <a:lnTo>
                        <a:pt x="40" y="34"/>
                      </a:lnTo>
                      <a:lnTo>
                        <a:pt x="51" y="23"/>
                      </a:lnTo>
                      <a:lnTo>
                        <a:pt x="63" y="15"/>
                      </a:lnTo>
                      <a:lnTo>
                        <a:pt x="74" y="6"/>
                      </a:lnTo>
                      <a:lnTo>
                        <a:pt x="88" y="2"/>
                      </a:lnTo>
                      <a:lnTo>
                        <a:pt x="104" y="0"/>
                      </a:lnTo>
                      <a:close/>
                    </a:path>
                  </a:pathLst>
                </a:custGeom>
                <a:solidFill>
                  <a:srgbClr val="d6c4a5"/>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433" name=""/>
                <p:cNvSpPr/>
                <p:nvPr/>
              </p:nvSpPr>
              <p:spPr>
                <a:xfrm flipH="1">
                  <a:off x="1569240" y="4328640"/>
                  <a:ext cx="137520" cy="74880"/>
                </a:xfrm>
                <a:custGeom>
                  <a:avLst/>
                  <a:gdLst/>
                  <a:ahLst/>
                  <a:rect l="l" t="t" r="r" b="b"/>
                  <a:pathLst>
                    <a:path w="796" h="408">
                      <a:moveTo>
                        <a:pt x="796" y="0"/>
                      </a:moveTo>
                      <a:lnTo>
                        <a:pt x="767" y="18"/>
                      </a:lnTo>
                      <a:lnTo>
                        <a:pt x="739" y="38"/>
                      </a:lnTo>
                      <a:lnTo>
                        <a:pt x="712" y="59"/>
                      </a:lnTo>
                      <a:lnTo>
                        <a:pt x="686" y="80"/>
                      </a:lnTo>
                      <a:lnTo>
                        <a:pt x="659" y="101"/>
                      </a:lnTo>
                      <a:lnTo>
                        <a:pt x="633" y="124"/>
                      </a:lnTo>
                      <a:lnTo>
                        <a:pt x="607" y="145"/>
                      </a:lnTo>
                      <a:lnTo>
                        <a:pt x="581" y="168"/>
                      </a:lnTo>
                      <a:lnTo>
                        <a:pt x="555" y="188"/>
                      </a:lnTo>
                      <a:lnTo>
                        <a:pt x="528" y="208"/>
                      </a:lnTo>
                      <a:lnTo>
                        <a:pt x="500" y="228"/>
                      </a:lnTo>
                      <a:lnTo>
                        <a:pt x="473" y="245"/>
                      </a:lnTo>
                      <a:lnTo>
                        <a:pt x="443" y="261"/>
                      </a:lnTo>
                      <a:lnTo>
                        <a:pt x="413" y="276"/>
                      </a:lnTo>
                      <a:lnTo>
                        <a:pt x="382" y="287"/>
                      </a:lnTo>
                      <a:lnTo>
                        <a:pt x="348" y="297"/>
                      </a:lnTo>
                      <a:lnTo>
                        <a:pt x="328" y="306"/>
                      </a:lnTo>
                      <a:lnTo>
                        <a:pt x="308" y="315"/>
                      </a:lnTo>
                      <a:lnTo>
                        <a:pt x="286" y="324"/>
                      </a:lnTo>
                      <a:lnTo>
                        <a:pt x="265" y="332"/>
                      </a:lnTo>
                      <a:lnTo>
                        <a:pt x="243" y="341"/>
                      </a:lnTo>
                      <a:lnTo>
                        <a:pt x="222" y="349"/>
                      </a:lnTo>
                      <a:lnTo>
                        <a:pt x="201" y="357"/>
                      </a:lnTo>
                      <a:lnTo>
                        <a:pt x="179" y="364"/>
                      </a:lnTo>
                      <a:lnTo>
                        <a:pt x="157" y="372"/>
                      </a:lnTo>
                      <a:lnTo>
                        <a:pt x="134" y="379"/>
                      </a:lnTo>
                      <a:lnTo>
                        <a:pt x="113" y="386"/>
                      </a:lnTo>
                      <a:lnTo>
                        <a:pt x="90" y="391"/>
                      </a:lnTo>
                      <a:lnTo>
                        <a:pt x="68" y="396"/>
                      </a:lnTo>
                      <a:lnTo>
                        <a:pt x="45" y="401"/>
                      </a:lnTo>
                      <a:lnTo>
                        <a:pt x="23" y="405"/>
                      </a:lnTo>
                      <a:lnTo>
                        <a:pt x="0" y="408"/>
                      </a:lnTo>
                      <a:lnTo>
                        <a:pt x="29" y="394"/>
                      </a:lnTo>
                      <a:lnTo>
                        <a:pt x="57" y="380"/>
                      </a:lnTo>
                      <a:lnTo>
                        <a:pt x="86" y="366"/>
                      </a:lnTo>
                      <a:lnTo>
                        <a:pt x="113" y="353"/>
                      </a:lnTo>
                      <a:lnTo>
                        <a:pt x="141" y="339"/>
                      </a:lnTo>
                      <a:lnTo>
                        <a:pt x="169" y="325"/>
                      </a:lnTo>
                      <a:lnTo>
                        <a:pt x="195" y="311"/>
                      </a:lnTo>
                      <a:lnTo>
                        <a:pt x="223" y="297"/>
                      </a:lnTo>
                      <a:lnTo>
                        <a:pt x="250" y="283"/>
                      </a:lnTo>
                      <a:lnTo>
                        <a:pt x="278" y="269"/>
                      </a:lnTo>
                      <a:lnTo>
                        <a:pt x="304" y="255"/>
                      </a:lnTo>
                      <a:lnTo>
                        <a:pt x="332" y="241"/>
                      </a:lnTo>
                      <a:lnTo>
                        <a:pt x="360" y="228"/>
                      </a:lnTo>
                      <a:lnTo>
                        <a:pt x="388" y="214"/>
                      </a:lnTo>
                      <a:lnTo>
                        <a:pt x="416" y="201"/>
                      </a:lnTo>
                      <a:lnTo>
                        <a:pt x="445" y="187"/>
                      </a:lnTo>
                      <a:lnTo>
                        <a:pt x="459" y="178"/>
                      </a:lnTo>
                      <a:lnTo>
                        <a:pt x="474" y="170"/>
                      </a:lnTo>
                      <a:lnTo>
                        <a:pt x="489" y="162"/>
                      </a:lnTo>
                      <a:lnTo>
                        <a:pt x="504" y="154"/>
                      </a:lnTo>
                      <a:lnTo>
                        <a:pt x="519" y="146"/>
                      </a:lnTo>
                      <a:lnTo>
                        <a:pt x="534" y="139"/>
                      </a:lnTo>
                      <a:lnTo>
                        <a:pt x="549" y="130"/>
                      </a:lnTo>
                      <a:lnTo>
                        <a:pt x="564" y="123"/>
                      </a:lnTo>
                      <a:lnTo>
                        <a:pt x="579" y="114"/>
                      </a:lnTo>
                      <a:lnTo>
                        <a:pt x="592" y="107"/>
                      </a:lnTo>
                      <a:lnTo>
                        <a:pt x="607" y="98"/>
                      </a:lnTo>
                      <a:lnTo>
                        <a:pt x="621" y="89"/>
                      </a:lnTo>
                      <a:lnTo>
                        <a:pt x="635" y="79"/>
                      </a:lnTo>
                      <a:lnTo>
                        <a:pt x="648" y="69"/>
                      </a:lnTo>
                      <a:lnTo>
                        <a:pt x="661" y="59"/>
                      </a:lnTo>
                      <a:lnTo>
                        <a:pt x="674" y="48"/>
                      </a:lnTo>
                      <a:lnTo>
                        <a:pt x="689" y="41"/>
                      </a:lnTo>
                      <a:lnTo>
                        <a:pt x="703" y="33"/>
                      </a:lnTo>
                      <a:lnTo>
                        <a:pt x="718" y="27"/>
                      </a:lnTo>
                      <a:lnTo>
                        <a:pt x="734" y="20"/>
                      </a:lnTo>
                      <a:lnTo>
                        <a:pt x="749" y="15"/>
                      </a:lnTo>
                      <a:lnTo>
                        <a:pt x="764" y="10"/>
                      </a:lnTo>
                      <a:lnTo>
                        <a:pt x="780" y="4"/>
                      </a:lnTo>
                      <a:lnTo>
                        <a:pt x="796" y="0"/>
                      </a:lnTo>
                      <a:close/>
                    </a:path>
                  </a:pathLst>
                </a:custGeom>
                <a:solidFill>
                  <a:srgbClr val="bf8e3a"/>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34" name=""/>
                <p:cNvSpPr/>
                <p:nvPr/>
              </p:nvSpPr>
              <p:spPr>
                <a:xfrm flipH="1">
                  <a:off x="1478160" y="4346280"/>
                  <a:ext cx="29160" cy="31680"/>
                </a:xfrm>
                <a:custGeom>
                  <a:avLst/>
                  <a:gdLst/>
                  <a:ahLst/>
                  <a:rect l="l" t="t" r="r" b="b"/>
                  <a:pathLst>
                    <a:path w="171" h="178">
                      <a:moveTo>
                        <a:pt x="171" y="114"/>
                      </a:moveTo>
                      <a:lnTo>
                        <a:pt x="87" y="178"/>
                      </a:lnTo>
                      <a:lnTo>
                        <a:pt x="73" y="171"/>
                      </a:lnTo>
                      <a:lnTo>
                        <a:pt x="58" y="164"/>
                      </a:lnTo>
                      <a:lnTo>
                        <a:pt x="42" y="158"/>
                      </a:lnTo>
                      <a:lnTo>
                        <a:pt x="27" y="150"/>
                      </a:lnTo>
                      <a:lnTo>
                        <a:pt x="14" y="142"/>
                      </a:lnTo>
                      <a:lnTo>
                        <a:pt x="5" y="130"/>
                      </a:lnTo>
                      <a:lnTo>
                        <a:pt x="0" y="115"/>
                      </a:lnTo>
                      <a:lnTo>
                        <a:pt x="0" y="96"/>
                      </a:lnTo>
                      <a:lnTo>
                        <a:pt x="11" y="83"/>
                      </a:lnTo>
                      <a:lnTo>
                        <a:pt x="22" y="71"/>
                      </a:lnTo>
                      <a:lnTo>
                        <a:pt x="34" y="60"/>
                      </a:lnTo>
                      <a:lnTo>
                        <a:pt x="45" y="48"/>
                      </a:lnTo>
                      <a:lnTo>
                        <a:pt x="57" y="37"/>
                      </a:lnTo>
                      <a:lnTo>
                        <a:pt x="68" y="24"/>
                      </a:lnTo>
                      <a:lnTo>
                        <a:pt x="79" y="13"/>
                      </a:lnTo>
                      <a:lnTo>
                        <a:pt x="87" y="0"/>
                      </a:lnTo>
                      <a:lnTo>
                        <a:pt x="103" y="9"/>
                      </a:lnTo>
                      <a:lnTo>
                        <a:pt x="118" y="20"/>
                      </a:lnTo>
                      <a:lnTo>
                        <a:pt x="132" y="33"/>
                      </a:lnTo>
                      <a:lnTo>
                        <a:pt x="144" y="47"/>
                      </a:lnTo>
                      <a:lnTo>
                        <a:pt x="154" y="62"/>
                      </a:lnTo>
                      <a:lnTo>
                        <a:pt x="161" y="79"/>
                      </a:lnTo>
                      <a:lnTo>
                        <a:pt x="166" y="96"/>
                      </a:lnTo>
                      <a:lnTo>
                        <a:pt x="171" y="114"/>
                      </a:lnTo>
                      <a:close/>
                    </a:path>
                  </a:pathLst>
                </a:custGeom>
                <a:solidFill>
                  <a:srgbClr val="d6c4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35" name=""/>
                <p:cNvSpPr/>
                <p:nvPr/>
              </p:nvSpPr>
              <p:spPr>
                <a:xfrm flipH="1">
                  <a:off x="1508040" y="4358880"/>
                  <a:ext cx="26640" cy="48240"/>
                </a:xfrm>
                <a:custGeom>
                  <a:avLst/>
                  <a:gdLst/>
                  <a:ahLst/>
                  <a:rect l="l" t="t" r="r" b="b"/>
                  <a:pathLst>
                    <a:path w="153" h="265">
                      <a:moveTo>
                        <a:pt x="100" y="0"/>
                      </a:moveTo>
                      <a:lnTo>
                        <a:pt x="98" y="17"/>
                      </a:lnTo>
                      <a:lnTo>
                        <a:pt x="98" y="34"/>
                      </a:lnTo>
                      <a:lnTo>
                        <a:pt x="100" y="49"/>
                      </a:lnTo>
                      <a:lnTo>
                        <a:pt x="104" y="64"/>
                      </a:lnTo>
                      <a:lnTo>
                        <a:pt x="109" y="79"/>
                      </a:lnTo>
                      <a:lnTo>
                        <a:pt x="115" y="92"/>
                      </a:lnTo>
                      <a:lnTo>
                        <a:pt x="119" y="107"/>
                      </a:lnTo>
                      <a:lnTo>
                        <a:pt x="124" y="121"/>
                      </a:lnTo>
                      <a:lnTo>
                        <a:pt x="129" y="130"/>
                      </a:lnTo>
                      <a:lnTo>
                        <a:pt x="134" y="138"/>
                      </a:lnTo>
                      <a:lnTo>
                        <a:pt x="142" y="147"/>
                      </a:lnTo>
                      <a:lnTo>
                        <a:pt x="148" y="156"/>
                      </a:lnTo>
                      <a:lnTo>
                        <a:pt x="152" y="164"/>
                      </a:lnTo>
                      <a:lnTo>
                        <a:pt x="153" y="173"/>
                      </a:lnTo>
                      <a:lnTo>
                        <a:pt x="151" y="181"/>
                      </a:lnTo>
                      <a:lnTo>
                        <a:pt x="143" y="190"/>
                      </a:lnTo>
                      <a:lnTo>
                        <a:pt x="132" y="203"/>
                      </a:lnTo>
                      <a:lnTo>
                        <a:pt x="118" y="213"/>
                      </a:lnTo>
                      <a:lnTo>
                        <a:pt x="103" y="223"/>
                      </a:lnTo>
                      <a:lnTo>
                        <a:pt x="87" y="231"/>
                      </a:lnTo>
                      <a:lnTo>
                        <a:pt x="71" y="240"/>
                      </a:lnTo>
                      <a:lnTo>
                        <a:pt x="54" y="248"/>
                      </a:lnTo>
                      <a:lnTo>
                        <a:pt x="37" y="256"/>
                      </a:lnTo>
                      <a:lnTo>
                        <a:pt x="21" y="265"/>
                      </a:lnTo>
                      <a:lnTo>
                        <a:pt x="9" y="246"/>
                      </a:lnTo>
                      <a:lnTo>
                        <a:pt x="2" y="227"/>
                      </a:lnTo>
                      <a:lnTo>
                        <a:pt x="0" y="207"/>
                      </a:lnTo>
                      <a:lnTo>
                        <a:pt x="2" y="185"/>
                      </a:lnTo>
                      <a:lnTo>
                        <a:pt x="6" y="165"/>
                      </a:lnTo>
                      <a:lnTo>
                        <a:pt x="9" y="144"/>
                      </a:lnTo>
                      <a:lnTo>
                        <a:pt x="11" y="122"/>
                      </a:lnTo>
                      <a:lnTo>
                        <a:pt x="10" y="101"/>
                      </a:lnTo>
                      <a:lnTo>
                        <a:pt x="11" y="84"/>
                      </a:lnTo>
                      <a:lnTo>
                        <a:pt x="16" y="68"/>
                      </a:lnTo>
                      <a:lnTo>
                        <a:pt x="23" y="54"/>
                      </a:lnTo>
                      <a:lnTo>
                        <a:pt x="31" y="42"/>
                      </a:lnTo>
                      <a:lnTo>
                        <a:pt x="42" y="32"/>
                      </a:lnTo>
                      <a:lnTo>
                        <a:pt x="55" y="21"/>
                      </a:lnTo>
                      <a:lnTo>
                        <a:pt x="68" y="10"/>
                      </a:lnTo>
                      <a:lnTo>
                        <a:pt x="82" y="0"/>
                      </a:lnTo>
                      <a:lnTo>
                        <a:pt x="100" y="0"/>
                      </a:lnTo>
                      <a:close/>
                    </a:path>
                  </a:pathLst>
                </a:custGeom>
                <a:solidFill>
                  <a:srgbClr val="d6c4a5"/>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436" name=""/>
                <p:cNvSpPr/>
                <p:nvPr/>
              </p:nvSpPr>
              <p:spPr>
                <a:xfrm flipH="1">
                  <a:off x="1537920" y="4363560"/>
                  <a:ext cx="71640" cy="81000"/>
                </a:xfrm>
                <a:custGeom>
                  <a:avLst/>
                  <a:gdLst/>
                  <a:ahLst/>
                  <a:rect l="l" t="t" r="r" b="b"/>
                  <a:pathLst>
                    <a:path w="414" h="447">
                      <a:moveTo>
                        <a:pt x="383" y="275"/>
                      </a:moveTo>
                      <a:lnTo>
                        <a:pt x="373" y="294"/>
                      </a:lnTo>
                      <a:lnTo>
                        <a:pt x="361" y="310"/>
                      </a:lnTo>
                      <a:lnTo>
                        <a:pt x="349" y="325"/>
                      </a:lnTo>
                      <a:lnTo>
                        <a:pt x="334" y="337"/>
                      </a:lnTo>
                      <a:lnTo>
                        <a:pt x="319" y="347"/>
                      </a:lnTo>
                      <a:lnTo>
                        <a:pt x="301" y="357"/>
                      </a:lnTo>
                      <a:lnTo>
                        <a:pt x="284" y="365"/>
                      </a:lnTo>
                      <a:lnTo>
                        <a:pt x="266" y="373"/>
                      </a:lnTo>
                      <a:lnTo>
                        <a:pt x="247" y="379"/>
                      </a:lnTo>
                      <a:lnTo>
                        <a:pt x="228" y="386"/>
                      </a:lnTo>
                      <a:lnTo>
                        <a:pt x="208" y="391"/>
                      </a:lnTo>
                      <a:lnTo>
                        <a:pt x="189" y="396"/>
                      </a:lnTo>
                      <a:lnTo>
                        <a:pt x="170" y="402"/>
                      </a:lnTo>
                      <a:lnTo>
                        <a:pt x="150" y="408"/>
                      </a:lnTo>
                      <a:lnTo>
                        <a:pt x="132" y="415"/>
                      </a:lnTo>
                      <a:lnTo>
                        <a:pt x="114" y="422"/>
                      </a:lnTo>
                      <a:lnTo>
                        <a:pt x="107" y="420"/>
                      </a:lnTo>
                      <a:lnTo>
                        <a:pt x="99" y="421"/>
                      </a:lnTo>
                      <a:lnTo>
                        <a:pt x="94" y="423"/>
                      </a:lnTo>
                      <a:lnTo>
                        <a:pt x="87" y="426"/>
                      </a:lnTo>
                      <a:lnTo>
                        <a:pt x="82" y="431"/>
                      </a:lnTo>
                      <a:lnTo>
                        <a:pt x="77" y="433"/>
                      </a:lnTo>
                      <a:lnTo>
                        <a:pt x="70" y="434"/>
                      </a:lnTo>
                      <a:lnTo>
                        <a:pt x="64" y="432"/>
                      </a:lnTo>
                      <a:lnTo>
                        <a:pt x="57" y="436"/>
                      </a:lnTo>
                      <a:lnTo>
                        <a:pt x="50" y="439"/>
                      </a:lnTo>
                      <a:lnTo>
                        <a:pt x="41" y="441"/>
                      </a:lnTo>
                      <a:lnTo>
                        <a:pt x="33" y="442"/>
                      </a:lnTo>
                      <a:lnTo>
                        <a:pt x="24" y="442"/>
                      </a:lnTo>
                      <a:lnTo>
                        <a:pt x="16" y="443"/>
                      </a:lnTo>
                      <a:lnTo>
                        <a:pt x="7" y="444"/>
                      </a:lnTo>
                      <a:lnTo>
                        <a:pt x="0" y="447"/>
                      </a:lnTo>
                      <a:lnTo>
                        <a:pt x="5" y="422"/>
                      </a:lnTo>
                      <a:lnTo>
                        <a:pt x="12" y="399"/>
                      </a:lnTo>
                      <a:lnTo>
                        <a:pt x="21" y="376"/>
                      </a:lnTo>
                      <a:lnTo>
                        <a:pt x="32" y="355"/>
                      </a:lnTo>
                      <a:lnTo>
                        <a:pt x="42" y="332"/>
                      </a:lnTo>
                      <a:lnTo>
                        <a:pt x="54" y="311"/>
                      </a:lnTo>
                      <a:lnTo>
                        <a:pt x="65" y="290"/>
                      </a:lnTo>
                      <a:lnTo>
                        <a:pt x="76" y="267"/>
                      </a:lnTo>
                      <a:lnTo>
                        <a:pt x="84" y="252"/>
                      </a:lnTo>
                      <a:lnTo>
                        <a:pt x="93" y="236"/>
                      </a:lnTo>
                      <a:lnTo>
                        <a:pt x="101" y="220"/>
                      </a:lnTo>
                      <a:lnTo>
                        <a:pt x="110" y="204"/>
                      </a:lnTo>
                      <a:lnTo>
                        <a:pt x="119" y="188"/>
                      </a:lnTo>
                      <a:lnTo>
                        <a:pt x="131" y="173"/>
                      </a:lnTo>
                      <a:lnTo>
                        <a:pt x="143" y="160"/>
                      </a:lnTo>
                      <a:lnTo>
                        <a:pt x="157" y="150"/>
                      </a:lnTo>
                      <a:lnTo>
                        <a:pt x="169" y="131"/>
                      </a:lnTo>
                      <a:lnTo>
                        <a:pt x="184" y="115"/>
                      </a:lnTo>
                      <a:lnTo>
                        <a:pt x="200" y="103"/>
                      </a:lnTo>
                      <a:lnTo>
                        <a:pt x="217" y="92"/>
                      </a:lnTo>
                      <a:lnTo>
                        <a:pt x="234" y="81"/>
                      </a:lnTo>
                      <a:lnTo>
                        <a:pt x="252" y="72"/>
                      </a:lnTo>
                      <a:lnTo>
                        <a:pt x="269" y="61"/>
                      </a:lnTo>
                      <a:lnTo>
                        <a:pt x="286" y="49"/>
                      </a:lnTo>
                      <a:lnTo>
                        <a:pt x="286" y="63"/>
                      </a:lnTo>
                      <a:lnTo>
                        <a:pt x="282" y="77"/>
                      </a:lnTo>
                      <a:lnTo>
                        <a:pt x="277" y="90"/>
                      </a:lnTo>
                      <a:lnTo>
                        <a:pt x="270" y="104"/>
                      </a:lnTo>
                      <a:lnTo>
                        <a:pt x="263" y="117"/>
                      </a:lnTo>
                      <a:lnTo>
                        <a:pt x="258" y="131"/>
                      </a:lnTo>
                      <a:lnTo>
                        <a:pt x="253" y="147"/>
                      </a:lnTo>
                      <a:lnTo>
                        <a:pt x="253" y="163"/>
                      </a:lnTo>
                      <a:lnTo>
                        <a:pt x="247" y="175"/>
                      </a:lnTo>
                      <a:lnTo>
                        <a:pt x="241" y="188"/>
                      </a:lnTo>
                      <a:lnTo>
                        <a:pt x="238" y="202"/>
                      </a:lnTo>
                      <a:lnTo>
                        <a:pt x="234" y="215"/>
                      </a:lnTo>
                      <a:lnTo>
                        <a:pt x="231" y="228"/>
                      </a:lnTo>
                      <a:lnTo>
                        <a:pt x="225" y="240"/>
                      </a:lnTo>
                      <a:lnTo>
                        <a:pt x="219" y="253"/>
                      </a:lnTo>
                      <a:lnTo>
                        <a:pt x="210" y="264"/>
                      </a:lnTo>
                      <a:lnTo>
                        <a:pt x="212" y="272"/>
                      </a:lnTo>
                      <a:lnTo>
                        <a:pt x="210" y="283"/>
                      </a:lnTo>
                      <a:lnTo>
                        <a:pt x="212" y="291"/>
                      </a:lnTo>
                      <a:lnTo>
                        <a:pt x="218" y="296"/>
                      </a:lnTo>
                      <a:lnTo>
                        <a:pt x="225" y="293"/>
                      </a:lnTo>
                      <a:lnTo>
                        <a:pt x="232" y="287"/>
                      </a:lnTo>
                      <a:lnTo>
                        <a:pt x="237" y="281"/>
                      </a:lnTo>
                      <a:lnTo>
                        <a:pt x="241" y="273"/>
                      </a:lnTo>
                      <a:lnTo>
                        <a:pt x="245" y="265"/>
                      </a:lnTo>
                      <a:lnTo>
                        <a:pt x="248" y="257"/>
                      </a:lnTo>
                      <a:lnTo>
                        <a:pt x="252" y="249"/>
                      </a:lnTo>
                      <a:lnTo>
                        <a:pt x="256" y="243"/>
                      </a:lnTo>
                      <a:lnTo>
                        <a:pt x="269" y="218"/>
                      </a:lnTo>
                      <a:lnTo>
                        <a:pt x="283" y="192"/>
                      </a:lnTo>
                      <a:lnTo>
                        <a:pt x="297" y="167"/>
                      </a:lnTo>
                      <a:lnTo>
                        <a:pt x="312" y="141"/>
                      </a:lnTo>
                      <a:lnTo>
                        <a:pt x="327" y="115"/>
                      </a:lnTo>
                      <a:lnTo>
                        <a:pt x="343" y="91"/>
                      </a:lnTo>
                      <a:lnTo>
                        <a:pt x="359" y="66"/>
                      </a:lnTo>
                      <a:lnTo>
                        <a:pt x="375" y="43"/>
                      </a:lnTo>
                      <a:lnTo>
                        <a:pt x="379" y="43"/>
                      </a:lnTo>
                      <a:lnTo>
                        <a:pt x="382" y="42"/>
                      </a:lnTo>
                      <a:lnTo>
                        <a:pt x="384" y="41"/>
                      </a:lnTo>
                      <a:lnTo>
                        <a:pt x="386" y="38"/>
                      </a:lnTo>
                      <a:lnTo>
                        <a:pt x="386" y="31"/>
                      </a:lnTo>
                      <a:lnTo>
                        <a:pt x="395" y="26"/>
                      </a:lnTo>
                      <a:lnTo>
                        <a:pt x="402" y="18"/>
                      </a:lnTo>
                      <a:lnTo>
                        <a:pt x="407" y="10"/>
                      </a:lnTo>
                      <a:lnTo>
                        <a:pt x="414" y="0"/>
                      </a:lnTo>
                      <a:lnTo>
                        <a:pt x="409" y="32"/>
                      </a:lnTo>
                      <a:lnTo>
                        <a:pt x="401" y="65"/>
                      </a:lnTo>
                      <a:lnTo>
                        <a:pt x="395" y="100"/>
                      </a:lnTo>
                      <a:lnTo>
                        <a:pt x="389" y="136"/>
                      </a:lnTo>
                      <a:lnTo>
                        <a:pt x="384" y="171"/>
                      </a:lnTo>
                      <a:lnTo>
                        <a:pt x="381" y="206"/>
                      </a:lnTo>
                      <a:lnTo>
                        <a:pt x="381" y="241"/>
                      </a:lnTo>
                      <a:lnTo>
                        <a:pt x="383" y="275"/>
                      </a:lnTo>
                      <a:close/>
                    </a:path>
                  </a:pathLst>
                </a:custGeom>
                <a:solidFill>
                  <a:srgbClr val="895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7" name=""/>
                <p:cNvSpPr/>
                <p:nvPr/>
              </p:nvSpPr>
              <p:spPr>
                <a:xfrm flipH="1">
                  <a:off x="1585440" y="4375440"/>
                  <a:ext cx="88200" cy="84600"/>
                </a:xfrm>
                <a:custGeom>
                  <a:avLst/>
                  <a:gdLst/>
                  <a:ahLst/>
                  <a:rect l="l" t="t" r="r" b="b"/>
                  <a:pathLst>
                    <a:path w="509" h="466">
                      <a:moveTo>
                        <a:pt x="509" y="0"/>
                      </a:moveTo>
                      <a:lnTo>
                        <a:pt x="499" y="24"/>
                      </a:lnTo>
                      <a:lnTo>
                        <a:pt x="488" y="46"/>
                      </a:lnTo>
                      <a:lnTo>
                        <a:pt x="477" y="68"/>
                      </a:lnTo>
                      <a:lnTo>
                        <a:pt x="465" y="91"/>
                      </a:lnTo>
                      <a:lnTo>
                        <a:pt x="452" y="113"/>
                      </a:lnTo>
                      <a:lnTo>
                        <a:pt x="439" y="135"/>
                      </a:lnTo>
                      <a:lnTo>
                        <a:pt x="425" y="156"/>
                      </a:lnTo>
                      <a:lnTo>
                        <a:pt x="412" y="177"/>
                      </a:lnTo>
                      <a:lnTo>
                        <a:pt x="398" y="200"/>
                      </a:lnTo>
                      <a:lnTo>
                        <a:pt x="385" y="221"/>
                      </a:lnTo>
                      <a:lnTo>
                        <a:pt x="372" y="243"/>
                      </a:lnTo>
                      <a:lnTo>
                        <a:pt x="359" y="264"/>
                      </a:lnTo>
                      <a:lnTo>
                        <a:pt x="347" y="286"/>
                      </a:lnTo>
                      <a:lnTo>
                        <a:pt x="336" y="308"/>
                      </a:lnTo>
                      <a:lnTo>
                        <a:pt x="326" y="330"/>
                      </a:lnTo>
                      <a:lnTo>
                        <a:pt x="316" y="353"/>
                      </a:lnTo>
                      <a:lnTo>
                        <a:pt x="305" y="369"/>
                      </a:lnTo>
                      <a:lnTo>
                        <a:pt x="295" y="384"/>
                      </a:lnTo>
                      <a:lnTo>
                        <a:pt x="282" y="396"/>
                      </a:lnTo>
                      <a:lnTo>
                        <a:pt x="269" y="408"/>
                      </a:lnTo>
                      <a:lnTo>
                        <a:pt x="255" y="419"/>
                      </a:lnTo>
                      <a:lnTo>
                        <a:pt x="240" y="427"/>
                      </a:lnTo>
                      <a:lnTo>
                        <a:pt x="225" y="435"/>
                      </a:lnTo>
                      <a:lnTo>
                        <a:pt x="209" y="441"/>
                      </a:lnTo>
                      <a:lnTo>
                        <a:pt x="192" y="447"/>
                      </a:lnTo>
                      <a:lnTo>
                        <a:pt x="175" y="452"/>
                      </a:lnTo>
                      <a:lnTo>
                        <a:pt x="158" y="455"/>
                      </a:lnTo>
                      <a:lnTo>
                        <a:pt x="139" y="457"/>
                      </a:lnTo>
                      <a:lnTo>
                        <a:pt x="121" y="460"/>
                      </a:lnTo>
                      <a:lnTo>
                        <a:pt x="102" y="461"/>
                      </a:lnTo>
                      <a:lnTo>
                        <a:pt x="84" y="462"/>
                      </a:lnTo>
                      <a:lnTo>
                        <a:pt x="64" y="462"/>
                      </a:lnTo>
                      <a:lnTo>
                        <a:pt x="57" y="463"/>
                      </a:lnTo>
                      <a:lnTo>
                        <a:pt x="48" y="465"/>
                      </a:lnTo>
                      <a:lnTo>
                        <a:pt x="40" y="465"/>
                      </a:lnTo>
                      <a:lnTo>
                        <a:pt x="31" y="466"/>
                      </a:lnTo>
                      <a:lnTo>
                        <a:pt x="23" y="465"/>
                      </a:lnTo>
                      <a:lnTo>
                        <a:pt x="15" y="464"/>
                      </a:lnTo>
                      <a:lnTo>
                        <a:pt x="7" y="461"/>
                      </a:lnTo>
                      <a:lnTo>
                        <a:pt x="0" y="457"/>
                      </a:lnTo>
                      <a:lnTo>
                        <a:pt x="9" y="440"/>
                      </a:lnTo>
                      <a:lnTo>
                        <a:pt x="17" y="423"/>
                      </a:lnTo>
                      <a:lnTo>
                        <a:pt x="28" y="407"/>
                      </a:lnTo>
                      <a:lnTo>
                        <a:pt x="38" y="391"/>
                      </a:lnTo>
                      <a:lnTo>
                        <a:pt x="48" y="375"/>
                      </a:lnTo>
                      <a:lnTo>
                        <a:pt x="59" y="360"/>
                      </a:lnTo>
                      <a:lnTo>
                        <a:pt x="71" y="344"/>
                      </a:lnTo>
                      <a:lnTo>
                        <a:pt x="83" y="329"/>
                      </a:lnTo>
                      <a:lnTo>
                        <a:pt x="94" y="314"/>
                      </a:lnTo>
                      <a:lnTo>
                        <a:pt x="107" y="299"/>
                      </a:lnTo>
                      <a:lnTo>
                        <a:pt x="119" y="284"/>
                      </a:lnTo>
                      <a:lnTo>
                        <a:pt x="132" y="269"/>
                      </a:lnTo>
                      <a:lnTo>
                        <a:pt x="145" y="254"/>
                      </a:lnTo>
                      <a:lnTo>
                        <a:pt x="158" y="240"/>
                      </a:lnTo>
                      <a:lnTo>
                        <a:pt x="170" y="226"/>
                      </a:lnTo>
                      <a:lnTo>
                        <a:pt x="183" y="211"/>
                      </a:lnTo>
                      <a:lnTo>
                        <a:pt x="192" y="200"/>
                      </a:lnTo>
                      <a:lnTo>
                        <a:pt x="201" y="189"/>
                      </a:lnTo>
                      <a:lnTo>
                        <a:pt x="211" y="180"/>
                      </a:lnTo>
                      <a:lnTo>
                        <a:pt x="221" y="169"/>
                      </a:lnTo>
                      <a:lnTo>
                        <a:pt x="231" y="159"/>
                      </a:lnTo>
                      <a:lnTo>
                        <a:pt x="241" y="150"/>
                      </a:lnTo>
                      <a:lnTo>
                        <a:pt x="252" y="140"/>
                      </a:lnTo>
                      <a:lnTo>
                        <a:pt x="262" y="131"/>
                      </a:lnTo>
                      <a:lnTo>
                        <a:pt x="266" y="135"/>
                      </a:lnTo>
                      <a:lnTo>
                        <a:pt x="273" y="129"/>
                      </a:lnTo>
                      <a:lnTo>
                        <a:pt x="270" y="125"/>
                      </a:lnTo>
                      <a:lnTo>
                        <a:pt x="349" y="76"/>
                      </a:lnTo>
                      <a:lnTo>
                        <a:pt x="329" y="105"/>
                      </a:lnTo>
                      <a:lnTo>
                        <a:pt x="310" y="134"/>
                      </a:lnTo>
                      <a:lnTo>
                        <a:pt x="290" y="162"/>
                      </a:lnTo>
                      <a:lnTo>
                        <a:pt x="271" y="191"/>
                      </a:lnTo>
                      <a:lnTo>
                        <a:pt x="253" y="220"/>
                      </a:lnTo>
                      <a:lnTo>
                        <a:pt x="235" y="249"/>
                      </a:lnTo>
                      <a:lnTo>
                        <a:pt x="217" y="278"/>
                      </a:lnTo>
                      <a:lnTo>
                        <a:pt x="201" y="307"/>
                      </a:lnTo>
                      <a:lnTo>
                        <a:pt x="202" y="315"/>
                      </a:lnTo>
                      <a:lnTo>
                        <a:pt x="206" y="324"/>
                      </a:lnTo>
                      <a:lnTo>
                        <a:pt x="212" y="331"/>
                      </a:lnTo>
                      <a:lnTo>
                        <a:pt x="220" y="336"/>
                      </a:lnTo>
                      <a:lnTo>
                        <a:pt x="243" y="315"/>
                      </a:lnTo>
                      <a:lnTo>
                        <a:pt x="262" y="293"/>
                      </a:lnTo>
                      <a:lnTo>
                        <a:pt x="279" y="269"/>
                      </a:lnTo>
                      <a:lnTo>
                        <a:pt x="292" y="244"/>
                      </a:lnTo>
                      <a:lnTo>
                        <a:pt x="305" y="218"/>
                      </a:lnTo>
                      <a:lnTo>
                        <a:pt x="320" y="193"/>
                      </a:lnTo>
                      <a:lnTo>
                        <a:pt x="337" y="169"/>
                      </a:lnTo>
                      <a:lnTo>
                        <a:pt x="359" y="146"/>
                      </a:lnTo>
                      <a:lnTo>
                        <a:pt x="374" y="127"/>
                      </a:lnTo>
                      <a:lnTo>
                        <a:pt x="389" y="105"/>
                      </a:lnTo>
                      <a:lnTo>
                        <a:pt x="403" y="81"/>
                      </a:lnTo>
                      <a:lnTo>
                        <a:pt x="418" y="59"/>
                      </a:lnTo>
                      <a:lnTo>
                        <a:pt x="436" y="37"/>
                      </a:lnTo>
                      <a:lnTo>
                        <a:pt x="455" y="19"/>
                      </a:lnTo>
                      <a:lnTo>
                        <a:pt x="480" y="6"/>
                      </a:lnTo>
                      <a:lnTo>
                        <a:pt x="509" y="0"/>
                      </a:lnTo>
                      <a:close/>
                    </a:path>
                  </a:pathLst>
                </a:custGeom>
                <a:solidFill>
                  <a:srgbClr val="8959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438" name=""/>
                <p:cNvSpPr/>
                <p:nvPr/>
              </p:nvSpPr>
              <p:spPr>
                <a:xfrm flipH="1">
                  <a:off x="1623240" y="4382640"/>
                  <a:ext cx="116640" cy="73080"/>
                </a:xfrm>
                <a:custGeom>
                  <a:avLst/>
                  <a:gdLst/>
                  <a:ahLst/>
                  <a:rect l="l" t="t" r="r" b="b"/>
                  <a:pathLst>
                    <a:path w="673" h="403">
                      <a:moveTo>
                        <a:pt x="673" y="2"/>
                      </a:moveTo>
                      <a:lnTo>
                        <a:pt x="668" y="8"/>
                      </a:lnTo>
                      <a:lnTo>
                        <a:pt x="662" y="15"/>
                      </a:lnTo>
                      <a:lnTo>
                        <a:pt x="654" y="22"/>
                      </a:lnTo>
                      <a:lnTo>
                        <a:pt x="648" y="30"/>
                      </a:lnTo>
                      <a:lnTo>
                        <a:pt x="639" y="37"/>
                      </a:lnTo>
                      <a:lnTo>
                        <a:pt x="632" y="43"/>
                      </a:lnTo>
                      <a:lnTo>
                        <a:pt x="623" y="50"/>
                      </a:lnTo>
                      <a:lnTo>
                        <a:pt x="615" y="55"/>
                      </a:lnTo>
                      <a:lnTo>
                        <a:pt x="601" y="69"/>
                      </a:lnTo>
                      <a:lnTo>
                        <a:pt x="587" y="83"/>
                      </a:lnTo>
                      <a:lnTo>
                        <a:pt x="574" y="96"/>
                      </a:lnTo>
                      <a:lnTo>
                        <a:pt x="560" y="110"/>
                      </a:lnTo>
                      <a:lnTo>
                        <a:pt x="547" y="123"/>
                      </a:lnTo>
                      <a:lnTo>
                        <a:pt x="533" y="135"/>
                      </a:lnTo>
                      <a:lnTo>
                        <a:pt x="518" y="147"/>
                      </a:lnTo>
                      <a:lnTo>
                        <a:pt x="502" y="159"/>
                      </a:lnTo>
                      <a:lnTo>
                        <a:pt x="490" y="172"/>
                      </a:lnTo>
                      <a:lnTo>
                        <a:pt x="479" y="185"/>
                      </a:lnTo>
                      <a:lnTo>
                        <a:pt x="466" y="198"/>
                      </a:lnTo>
                      <a:lnTo>
                        <a:pt x="454" y="212"/>
                      </a:lnTo>
                      <a:lnTo>
                        <a:pt x="441" y="225"/>
                      </a:lnTo>
                      <a:lnTo>
                        <a:pt x="429" y="239"/>
                      </a:lnTo>
                      <a:lnTo>
                        <a:pt x="417" y="253"/>
                      </a:lnTo>
                      <a:lnTo>
                        <a:pt x="404" y="268"/>
                      </a:lnTo>
                      <a:lnTo>
                        <a:pt x="391" y="282"/>
                      </a:lnTo>
                      <a:lnTo>
                        <a:pt x="378" y="296"/>
                      </a:lnTo>
                      <a:lnTo>
                        <a:pt x="365" y="310"/>
                      </a:lnTo>
                      <a:lnTo>
                        <a:pt x="352" y="325"/>
                      </a:lnTo>
                      <a:lnTo>
                        <a:pt x="338" y="338"/>
                      </a:lnTo>
                      <a:lnTo>
                        <a:pt x="326" y="352"/>
                      </a:lnTo>
                      <a:lnTo>
                        <a:pt x="313" y="366"/>
                      </a:lnTo>
                      <a:lnTo>
                        <a:pt x="299" y="380"/>
                      </a:lnTo>
                      <a:lnTo>
                        <a:pt x="283" y="388"/>
                      </a:lnTo>
                      <a:lnTo>
                        <a:pt x="267" y="394"/>
                      </a:lnTo>
                      <a:lnTo>
                        <a:pt x="251" y="397"/>
                      </a:lnTo>
                      <a:lnTo>
                        <a:pt x="232" y="400"/>
                      </a:lnTo>
                      <a:lnTo>
                        <a:pt x="215" y="401"/>
                      </a:lnTo>
                      <a:lnTo>
                        <a:pt x="197" y="403"/>
                      </a:lnTo>
                      <a:lnTo>
                        <a:pt x="179" y="401"/>
                      </a:lnTo>
                      <a:lnTo>
                        <a:pt x="161" y="400"/>
                      </a:lnTo>
                      <a:lnTo>
                        <a:pt x="142" y="398"/>
                      </a:lnTo>
                      <a:lnTo>
                        <a:pt x="123" y="396"/>
                      </a:lnTo>
                      <a:lnTo>
                        <a:pt x="105" y="394"/>
                      </a:lnTo>
                      <a:lnTo>
                        <a:pt x="87" y="392"/>
                      </a:lnTo>
                      <a:lnTo>
                        <a:pt x="69" y="390"/>
                      </a:lnTo>
                      <a:lnTo>
                        <a:pt x="50" y="389"/>
                      </a:lnTo>
                      <a:lnTo>
                        <a:pt x="32" y="388"/>
                      </a:lnTo>
                      <a:lnTo>
                        <a:pt x="15" y="388"/>
                      </a:lnTo>
                      <a:lnTo>
                        <a:pt x="12" y="380"/>
                      </a:lnTo>
                      <a:lnTo>
                        <a:pt x="5" y="377"/>
                      </a:lnTo>
                      <a:lnTo>
                        <a:pt x="0" y="373"/>
                      </a:lnTo>
                      <a:lnTo>
                        <a:pt x="1" y="363"/>
                      </a:lnTo>
                      <a:lnTo>
                        <a:pt x="19" y="355"/>
                      </a:lnTo>
                      <a:lnTo>
                        <a:pt x="38" y="347"/>
                      </a:lnTo>
                      <a:lnTo>
                        <a:pt x="56" y="338"/>
                      </a:lnTo>
                      <a:lnTo>
                        <a:pt x="73" y="330"/>
                      </a:lnTo>
                      <a:lnTo>
                        <a:pt x="91" y="320"/>
                      </a:lnTo>
                      <a:lnTo>
                        <a:pt x="108" y="312"/>
                      </a:lnTo>
                      <a:lnTo>
                        <a:pt x="125" y="302"/>
                      </a:lnTo>
                      <a:lnTo>
                        <a:pt x="142" y="292"/>
                      </a:lnTo>
                      <a:lnTo>
                        <a:pt x="160" y="283"/>
                      </a:lnTo>
                      <a:lnTo>
                        <a:pt x="176" y="273"/>
                      </a:lnTo>
                      <a:lnTo>
                        <a:pt x="192" y="264"/>
                      </a:lnTo>
                      <a:lnTo>
                        <a:pt x="208" y="253"/>
                      </a:lnTo>
                      <a:lnTo>
                        <a:pt x="224" y="243"/>
                      </a:lnTo>
                      <a:lnTo>
                        <a:pt x="239" y="233"/>
                      </a:lnTo>
                      <a:lnTo>
                        <a:pt x="254" y="223"/>
                      </a:lnTo>
                      <a:lnTo>
                        <a:pt x="269" y="212"/>
                      </a:lnTo>
                      <a:lnTo>
                        <a:pt x="286" y="204"/>
                      </a:lnTo>
                      <a:lnTo>
                        <a:pt x="303" y="194"/>
                      </a:lnTo>
                      <a:lnTo>
                        <a:pt x="320" y="183"/>
                      </a:lnTo>
                      <a:lnTo>
                        <a:pt x="337" y="173"/>
                      </a:lnTo>
                      <a:lnTo>
                        <a:pt x="354" y="162"/>
                      </a:lnTo>
                      <a:lnTo>
                        <a:pt x="370" y="150"/>
                      </a:lnTo>
                      <a:lnTo>
                        <a:pt x="388" y="140"/>
                      </a:lnTo>
                      <a:lnTo>
                        <a:pt x="405" y="128"/>
                      </a:lnTo>
                      <a:lnTo>
                        <a:pt x="422" y="117"/>
                      </a:lnTo>
                      <a:lnTo>
                        <a:pt x="439" y="105"/>
                      </a:lnTo>
                      <a:lnTo>
                        <a:pt x="456" y="95"/>
                      </a:lnTo>
                      <a:lnTo>
                        <a:pt x="473" y="84"/>
                      </a:lnTo>
                      <a:lnTo>
                        <a:pt x="491" y="74"/>
                      </a:lnTo>
                      <a:lnTo>
                        <a:pt x="510" y="65"/>
                      </a:lnTo>
                      <a:lnTo>
                        <a:pt x="529" y="56"/>
                      </a:lnTo>
                      <a:lnTo>
                        <a:pt x="548" y="48"/>
                      </a:lnTo>
                      <a:lnTo>
                        <a:pt x="558" y="47"/>
                      </a:lnTo>
                      <a:lnTo>
                        <a:pt x="569" y="45"/>
                      </a:lnTo>
                      <a:lnTo>
                        <a:pt x="579" y="41"/>
                      </a:lnTo>
                      <a:lnTo>
                        <a:pt x="590" y="37"/>
                      </a:lnTo>
                      <a:lnTo>
                        <a:pt x="600" y="32"/>
                      </a:lnTo>
                      <a:lnTo>
                        <a:pt x="610" y="27"/>
                      </a:lnTo>
                      <a:lnTo>
                        <a:pt x="621" y="23"/>
                      </a:lnTo>
                      <a:lnTo>
                        <a:pt x="632" y="20"/>
                      </a:lnTo>
                      <a:lnTo>
                        <a:pt x="636" y="18"/>
                      </a:lnTo>
                      <a:lnTo>
                        <a:pt x="640" y="15"/>
                      </a:lnTo>
                      <a:lnTo>
                        <a:pt x="645" y="10"/>
                      </a:lnTo>
                      <a:lnTo>
                        <a:pt x="650" y="6"/>
                      </a:lnTo>
                      <a:lnTo>
                        <a:pt x="654" y="3"/>
                      </a:lnTo>
                      <a:lnTo>
                        <a:pt x="661" y="1"/>
                      </a:lnTo>
                      <a:lnTo>
                        <a:pt x="667" y="0"/>
                      </a:lnTo>
                      <a:lnTo>
                        <a:pt x="673" y="2"/>
                      </a:lnTo>
                      <a:close/>
                    </a:path>
                  </a:pathLst>
                </a:custGeom>
                <a:solidFill>
                  <a:srgbClr val="8959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9" name=""/>
                <p:cNvSpPr/>
                <p:nvPr/>
              </p:nvSpPr>
              <p:spPr>
                <a:xfrm flipH="1">
                  <a:off x="1742040" y="4398120"/>
                  <a:ext cx="28440" cy="15480"/>
                </a:xfrm>
                <a:custGeom>
                  <a:avLst/>
                  <a:gdLst/>
                  <a:ahLst/>
                  <a:rect l="l" t="t" r="r" b="b"/>
                  <a:pathLst>
                    <a:path w="165" h="85">
                      <a:moveTo>
                        <a:pt x="165" y="85"/>
                      </a:moveTo>
                      <a:lnTo>
                        <a:pt x="146" y="78"/>
                      </a:lnTo>
                      <a:lnTo>
                        <a:pt x="124" y="77"/>
                      </a:lnTo>
                      <a:lnTo>
                        <a:pt x="103" y="78"/>
                      </a:lnTo>
                      <a:lnTo>
                        <a:pt x="81" y="79"/>
                      </a:lnTo>
                      <a:lnTo>
                        <a:pt x="61" y="79"/>
                      </a:lnTo>
                      <a:lnTo>
                        <a:pt x="43" y="75"/>
                      </a:lnTo>
                      <a:lnTo>
                        <a:pt x="28" y="64"/>
                      </a:lnTo>
                      <a:lnTo>
                        <a:pt x="17" y="46"/>
                      </a:lnTo>
                      <a:lnTo>
                        <a:pt x="0" y="0"/>
                      </a:lnTo>
                      <a:lnTo>
                        <a:pt x="24" y="8"/>
                      </a:lnTo>
                      <a:lnTo>
                        <a:pt x="45" y="17"/>
                      </a:lnTo>
                      <a:lnTo>
                        <a:pt x="65" y="30"/>
                      </a:lnTo>
                      <a:lnTo>
                        <a:pt x="85" y="43"/>
                      </a:lnTo>
                      <a:lnTo>
                        <a:pt x="103" y="56"/>
                      </a:lnTo>
                      <a:lnTo>
                        <a:pt x="122" y="68"/>
                      </a:lnTo>
                      <a:lnTo>
                        <a:pt x="144" y="77"/>
                      </a:lnTo>
                      <a:lnTo>
                        <a:pt x="165" y="85"/>
                      </a:lnTo>
                      <a:close/>
                    </a:path>
                  </a:pathLst>
                </a:custGeom>
                <a:solidFill>
                  <a:srgbClr val="8959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440" name=""/>
                <p:cNvSpPr/>
                <p:nvPr/>
              </p:nvSpPr>
              <p:spPr>
                <a:xfrm flipH="1">
                  <a:off x="1693440" y="4412880"/>
                  <a:ext cx="113400" cy="22680"/>
                </a:xfrm>
                <a:custGeom>
                  <a:avLst/>
                  <a:gdLst/>
                  <a:ahLst/>
                  <a:rect l="l" t="t" r="r" b="b"/>
                  <a:pathLst>
                    <a:path w="653" h="127">
                      <a:moveTo>
                        <a:pt x="130" y="16"/>
                      </a:moveTo>
                      <a:lnTo>
                        <a:pt x="136" y="15"/>
                      </a:lnTo>
                      <a:lnTo>
                        <a:pt x="144" y="15"/>
                      </a:lnTo>
                      <a:lnTo>
                        <a:pt x="150" y="17"/>
                      </a:lnTo>
                      <a:lnTo>
                        <a:pt x="157" y="19"/>
                      </a:lnTo>
                      <a:lnTo>
                        <a:pt x="163" y="23"/>
                      </a:lnTo>
                      <a:lnTo>
                        <a:pt x="169" y="25"/>
                      </a:lnTo>
                      <a:lnTo>
                        <a:pt x="177" y="25"/>
                      </a:lnTo>
                      <a:lnTo>
                        <a:pt x="183" y="24"/>
                      </a:lnTo>
                      <a:lnTo>
                        <a:pt x="196" y="25"/>
                      </a:lnTo>
                      <a:lnTo>
                        <a:pt x="208" y="26"/>
                      </a:lnTo>
                      <a:lnTo>
                        <a:pt x="222" y="28"/>
                      </a:lnTo>
                      <a:lnTo>
                        <a:pt x="235" y="30"/>
                      </a:lnTo>
                      <a:lnTo>
                        <a:pt x="249" y="33"/>
                      </a:lnTo>
                      <a:lnTo>
                        <a:pt x="262" y="37"/>
                      </a:lnTo>
                      <a:lnTo>
                        <a:pt x="275" y="40"/>
                      </a:lnTo>
                      <a:lnTo>
                        <a:pt x="289" y="43"/>
                      </a:lnTo>
                      <a:lnTo>
                        <a:pt x="303" y="45"/>
                      </a:lnTo>
                      <a:lnTo>
                        <a:pt x="317" y="48"/>
                      </a:lnTo>
                      <a:lnTo>
                        <a:pt x="331" y="49"/>
                      </a:lnTo>
                      <a:lnTo>
                        <a:pt x="345" y="50"/>
                      </a:lnTo>
                      <a:lnTo>
                        <a:pt x="359" y="52"/>
                      </a:lnTo>
                      <a:lnTo>
                        <a:pt x="372" y="50"/>
                      </a:lnTo>
                      <a:lnTo>
                        <a:pt x="386" y="49"/>
                      </a:lnTo>
                      <a:lnTo>
                        <a:pt x="399" y="46"/>
                      </a:lnTo>
                      <a:lnTo>
                        <a:pt x="414" y="44"/>
                      </a:lnTo>
                      <a:lnTo>
                        <a:pt x="429" y="41"/>
                      </a:lnTo>
                      <a:lnTo>
                        <a:pt x="445" y="39"/>
                      </a:lnTo>
                      <a:lnTo>
                        <a:pt x="460" y="38"/>
                      </a:lnTo>
                      <a:lnTo>
                        <a:pt x="476" y="35"/>
                      </a:lnTo>
                      <a:lnTo>
                        <a:pt x="491" y="33"/>
                      </a:lnTo>
                      <a:lnTo>
                        <a:pt x="507" y="32"/>
                      </a:lnTo>
                      <a:lnTo>
                        <a:pt x="523" y="30"/>
                      </a:lnTo>
                      <a:lnTo>
                        <a:pt x="539" y="28"/>
                      </a:lnTo>
                      <a:lnTo>
                        <a:pt x="556" y="26"/>
                      </a:lnTo>
                      <a:lnTo>
                        <a:pt x="572" y="23"/>
                      </a:lnTo>
                      <a:lnTo>
                        <a:pt x="588" y="19"/>
                      </a:lnTo>
                      <a:lnTo>
                        <a:pt x="604" y="16"/>
                      </a:lnTo>
                      <a:lnTo>
                        <a:pt x="621" y="12"/>
                      </a:lnTo>
                      <a:lnTo>
                        <a:pt x="637" y="8"/>
                      </a:lnTo>
                      <a:lnTo>
                        <a:pt x="653" y="2"/>
                      </a:lnTo>
                      <a:lnTo>
                        <a:pt x="642" y="14"/>
                      </a:lnTo>
                      <a:lnTo>
                        <a:pt x="629" y="25"/>
                      </a:lnTo>
                      <a:lnTo>
                        <a:pt x="615" y="34"/>
                      </a:lnTo>
                      <a:lnTo>
                        <a:pt x="601" y="42"/>
                      </a:lnTo>
                      <a:lnTo>
                        <a:pt x="586" y="49"/>
                      </a:lnTo>
                      <a:lnTo>
                        <a:pt x="572" y="56"/>
                      </a:lnTo>
                      <a:lnTo>
                        <a:pt x="557" y="63"/>
                      </a:lnTo>
                      <a:lnTo>
                        <a:pt x="542" y="70"/>
                      </a:lnTo>
                      <a:lnTo>
                        <a:pt x="530" y="75"/>
                      </a:lnTo>
                      <a:lnTo>
                        <a:pt x="517" y="80"/>
                      </a:lnTo>
                      <a:lnTo>
                        <a:pt x="505" y="86"/>
                      </a:lnTo>
                      <a:lnTo>
                        <a:pt x="493" y="91"/>
                      </a:lnTo>
                      <a:lnTo>
                        <a:pt x="480" y="97"/>
                      </a:lnTo>
                      <a:lnTo>
                        <a:pt x="466" y="103"/>
                      </a:lnTo>
                      <a:lnTo>
                        <a:pt x="453" y="107"/>
                      </a:lnTo>
                      <a:lnTo>
                        <a:pt x="440" y="112"/>
                      </a:lnTo>
                      <a:lnTo>
                        <a:pt x="426" y="117"/>
                      </a:lnTo>
                      <a:lnTo>
                        <a:pt x="414" y="120"/>
                      </a:lnTo>
                      <a:lnTo>
                        <a:pt x="400" y="123"/>
                      </a:lnTo>
                      <a:lnTo>
                        <a:pt x="386" y="125"/>
                      </a:lnTo>
                      <a:lnTo>
                        <a:pt x="372" y="126"/>
                      </a:lnTo>
                      <a:lnTo>
                        <a:pt x="358" y="127"/>
                      </a:lnTo>
                      <a:lnTo>
                        <a:pt x="344" y="126"/>
                      </a:lnTo>
                      <a:lnTo>
                        <a:pt x="330" y="124"/>
                      </a:lnTo>
                      <a:lnTo>
                        <a:pt x="310" y="123"/>
                      </a:lnTo>
                      <a:lnTo>
                        <a:pt x="290" y="121"/>
                      </a:lnTo>
                      <a:lnTo>
                        <a:pt x="271" y="119"/>
                      </a:lnTo>
                      <a:lnTo>
                        <a:pt x="253" y="115"/>
                      </a:lnTo>
                      <a:lnTo>
                        <a:pt x="234" y="110"/>
                      </a:lnTo>
                      <a:lnTo>
                        <a:pt x="216" y="106"/>
                      </a:lnTo>
                      <a:lnTo>
                        <a:pt x="197" y="101"/>
                      </a:lnTo>
                      <a:lnTo>
                        <a:pt x="180" y="94"/>
                      </a:lnTo>
                      <a:lnTo>
                        <a:pt x="162" y="89"/>
                      </a:lnTo>
                      <a:lnTo>
                        <a:pt x="145" y="81"/>
                      </a:lnTo>
                      <a:lnTo>
                        <a:pt x="128" y="75"/>
                      </a:lnTo>
                      <a:lnTo>
                        <a:pt x="110" y="68"/>
                      </a:lnTo>
                      <a:lnTo>
                        <a:pt x="92" y="60"/>
                      </a:lnTo>
                      <a:lnTo>
                        <a:pt x="75" y="54"/>
                      </a:lnTo>
                      <a:lnTo>
                        <a:pt x="58" y="46"/>
                      </a:lnTo>
                      <a:lnTo>
                        <a:pt x="41" y="39"/>
                      </a:lnTo>
                      <a:lnTo>
                        <a:pt x="36" y="35"/>
                      </a:lnTo>
                      <a:lnTo>
                        <a:pt x="29" y="32"/>
                      </a:lnTo>
                      <a:lnTo>
                        <a:pt x="24" y="29"/>
                      </a:lnTo>
                      <a:lnTo>
                        <a:pt x="19" y="25"/>
                      </a:lnTo>
                      <a:lnTo>
                        <a:pt x="13" y="22"/>
                      </a:lnTo>
                      <a:lnTo>
                        <a:pt x="8" y="16"/>
                      </a:lnTo>
                      <a:lnTo>
                        <a:pt x="4" y="11"/>
                      </a:lnTo>
                      <a:lnTo>
                        <a:pt x="0" y="6"/>
                      </a:lnTo>
                      <a:lnTo>
                        <a:pt x="7" y="1"/>
                      </a:lnTo>
                      <a:lnTo>
                        <a:pt x="12" y="0"/>
                      </a:lnTo>
                      <a:lnTo>
                        <a:pt x="19" y="0"/>
                      </a:lnTo>
                      <a:lnTo>
                        <a:pt x="26" y="2"/>
                      </a:lnTo>
                      <a:lnTo>
                        <a:pt x="32" y="4"/>
                      </a:lnTo>
                      <a:lnTo>
                        <a:pt x="39" y="7"/>
                      </a:lnTo>
                      <a:lnTo>
                        <a:pt x="46" y="7"/>
                      </a:lnTo>
                      <a:lnTo>
                        <a:pt x="54" y="6"/>
                      </a:lnTo>
                      <a:lnTo>
                        <a:pt x="65" y="7"/>
                      </a:lnTo>
                      <a:lnTo>
                        <a:pt x="75" y="6"/>
                      </a:lnTo>
                      <a:lnTo>
                        <a:pt x="85" y="6"/>
                      </a:lnTo>
                      <a:lnTo>
                        <a:pt x="95" y="4"/>
                      </a:lnTo>
                      <a:lnTo>
                        <a:pt x="103" y="6"/>
                      </a:lnTo>
                      <a:lnTo>
                        <a:pt x="113" y="7"/>
                      </a:lnTo>
                      <a:lnTo>
                        <a:pt x="121" y="11"/>
                      </a:lnTo>
                      <a:lnTo>
                        <a:pt x="130" y="16"/>
                      </a:lnTo>
                      <a:close/>
                    </a:path>
                  </a:pathLst>
                </a:custGeom>
                <a:solidFill>
                  <a:srgbClr val="8959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sp>
          <p:nvSpPr>
            <p:cNvPr id="2441" name=""/>
            <p:cNvSpPr/>
            <p:nvPr/>
          </p:nvSpPr>
          <p:spPr>
            <a:xfrm flipH="1">
              <a:off x="1218600" y="2362320"/>
              <a:ext cx="2438280" cy="609480"/>
            </a:xfrm>
            <a:custGeom>
              <a:avLst/>
              <a:gdLst/>
              <a:ahLst/>
              <a:rect l="l" t="t" r="r" b="b"/>
              <a:pathLst>
                <a:path w="21600" h="21600">
                  <a:moveTo>
                    <a:pt x="0" y="0"/>
                  </a:moveTo>
                  <a:lnTo>
                    <a:pt x="21600" y="0"/>
                  </a:lnTo>
                  <a:lnTo>
                    <a:pt x="21600" y="21600"/>
                  </a:lnTo>
                  <a:lnTo>
                    <a:pt x="0" y="21600"/>
                  </a:lnTo>
                  <a:close/>
                </a:path>
                <a:path fill="none" w="21600" h="21600">
                  <a:moveTo>
                    <a:pt x="22275" y="4049"/>
                  </a:moveTo>
                  <a:lnTo>
                    <a:pt x="24693" y="4049"/>
                  </a:lnTo>
                  <a:lnTo>
                    <a:pt x="24693" y="16762"/>
                  </a:lnTo>
                  <a:lnTo>
                    <a:pt x="23850" y="29531"/>
                  </a:lnTo>
                </a:path>
              </a:pathLst>
            </a:custGeom>
            <a:solidFill>
              <a:srgbClr val="ffffff"/>
            </a:solidFill>
            <a:ln w="190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Güzel, bu maddeyi geçirdik. İşimiz kolaylaştı. </a:t>
              </a:r>
              <a:endParaRPr b="0" lang="en-US" sz="1400" spc="-1" strike="noStrike">
                <a:solidFill>
                  <a:srgbClr val="ffffff"/>
                </a:solidFill>
                <a:latin typeface="Times New Roman"/>
              </a:endParaRPr>
            </a:p>
          </p:txBody>
        </p:sp>
        <p:sp>
          <p:nvSpPr>
            <p:cNvPr id="2442" name=""/>
            <p:cNvSpPr/>
            <p:nvPr/>
          </p:nvSpPr>
          <p:spPr>
            <a:xfrm flipH="1">
              <a:off x="4267080" y="1943280"/>
              <a:ext cx="4114800" cy="1143000"/>
            </a:xfrm>
            <a:prstGeom prst="roundRect">
              <a:avLst>
                <a:gd name="adj" fmla="val 16667"/>
              </a:avLst>
            </a:prstGeom>
            <a:solidFill>
              <a:srgbClr val="ffffff"/>
            </a:solidFill>
            <a:ln w="190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ki neden sonuç çalışmasını yapı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Neden: </a:t>
              </a:r>
              <a:r>
                <a:rPr b="0" lang="en-US" sz="1400" spc="-1" strike="noStrike">
                  <a:solidFill>
                    <a:srgbClr val="0000a4"/>
                  </a:solidFill>
                  <a:latin typeface="Comic Sans MS"/>
                </a:rPr>
                <a:t>İtilaf devletleri gerekli gördükleri zaman istedikleri yeri işgal edebilecekler.</a:t>
              </a:r>
              <a:endParaRPr b="0" lang="en-US" sz="1400" spc="-1" strike="noStrike">
                <a:solidFill>
                  <a:srgbClr val="ffffff"/>
                </a:solidFill>
                <a:latin typeface="Times New Roman"/>
              </a:endParaRPr>
            </a:p>
          </p:txBody>
        </p:sp>
        <p:sp>
          <p:nvSpPr>
            <p:cNvPr id="2443" name=""/>
            <p:cNvSpPr/>
            <p:nvPr/>
          </p:nvSpPr>
          <p:spPr>
            <a:xfrm rot="5400000">
              <a:off x="4647960" y="2933640"/>
              <a:ext cx="685800" cy="990720"/>
            </a:xfrm>
            <a:custGeom>
              <a:avLst/>
              <a:gdLst>
                <a:gd name="textAreaLeft" fmla="*/ 0 w 685800"/>
                <a:gd name="textAreaRight" fmla="*/ 686160 w 685800"/>
                <a:gd name="textAreaTop" fmla="*/ 0 h 990720"/>
                <a:gd name="textAreaBottom" fmla="*/ 991080 h 990720"/>
              </a:gdLst>
              <a:ahLst/>
              <a:rect l="textAreaLeft" t="textAreaTop" r="textAreaRight" b="textAreaBottom"/>
              <a:pathLst>
                <a:path w="21600" h="21600">
                  <a:moveTo>
                    <a:pt x="0" y="0"/>
                  </a:moveTo>
                  <a:lnTo>
                    <a:pt x="17949" y="0"/>
                  </a:lnTo>
                  <a:lnTo>
                    <a:pt x="21600" y="10800"/>
                  </a:lnTo>
                  <a:lnTo>
                    <a:pt x="1794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4" name=""/>
            <p:cNvSpPr/>
            <p:nvPr/>
          </p:nvSpPr>
          <p:spPr>
            <a:xfrm>
              <a:off x="4495680" y="312408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SONUÇ</a:t>
              </a:r>
              <a:endParaRPr b="0" lang="en-US" sz="1400" spc="-1" strike="noStrike">
                <a:solidFill>
                  <a:srgbClr val="ffffff"/>
                </a:solidFill>
                <a:latin typeface="Times New Roman"/>
              </a:endParaRPr>
            </a:p>
          </p:txBody>
        </p:sp>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500720" y="1270080"/>
            <a:ext cx="2016000" cy="3743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067280" y="2133720"/>
            <a:ext cx="936360" cy="1800000"/>
          </a:xfrm>
          <a:prstGeom prst="rect">
            <a:avLst/>
          </a:prstGeom>
          <a:solidFill>
            <a:srgbClr val="ffffff"/>
          </a:solid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492360" y="2133720"/>
            <a:ext cx="432000" cy="1800000"/>
          </a:xfrm>
          <a:custGeom>
            <a:avLst/>
            <a:gdLst>
              <a:gd name="textAreaLeft" fmla="*/ 276120 w 432000"/>
              <a:gd name="textAreaRight" fmla="*/ 432360 w 43200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a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rot="16200000">
            <a:off x="4913280" y="2798640"/>
            <a:ext cx="219708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GENLER</a:t>
            </a:r>
            <a:endParaRPr b="0" lang="en-US" sz="3200" spc="-1" strike="noStrike">
              <a:solidFill>
                <a:srgbClr val="ffffff"/>
              </a:solidFill>
              <a:latin typeface="Times New Roman"/>
            </a:endParaRPr>
          </a:p>
        </p:txBody>
      </p:sp>
      <p:sp>
        <p:nvSpPr>
          <p:cNvPr id="116" name=""/>
          <p:cNvSpPr/>
          <p:nvPr/>
        </p:nvSpPr>
        <p:spPr>
          <a:xfrm rot="16200000">
            <a:off x="3473280" y="2871000"/>
            <a:ext cx="2197080" cy="43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ÇEVRE</a:t>
            </a:r>
            <a:endParaRPr b="0" lang="en-US" sz="2800" spc="-1" strike="noStrike">
              <a:solidFill>
                <a:srgbClr val="ffffff"/>
              </a:solidFill>
              <a:latin typeface="Times New Roman"/>
            </a:endParaRPr>
          </a:p>
        </p:txBody>
      </p:sp>
      <p:sp>
        <p:nvSpPr>
          <p:cNvPr id="117" name=""/>
          <p:cNvSpPr/>
          <p:nvPr/>
        </p:nvSpPr>
        <p:spPr>
          <a:xfrm>
            <a:off x="179280" y="2421000"/>
            <a:ext cx="3240360" cy="1439640"/>
          </a:xfrm>
          <a:prstGeom prst="rect">
            <a:avLst/>
          </a:prstGeom>
          <a:no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Verdana"/>
              </a:rPr>
              <a:t>BİREYSEL ÖZGÜRLÜK</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a4"/>
                </a:solidFill>
                <a:latin typeface="Verdana"/>
              </a:rPr>
              <a:t> </a:t>
            </a:r>
            <a:r>
              <a:rPr b="1" lang="en-US" sz="2000" spc="-1" strike="noStrike">
                <a:solidFill>
                  <a:srgbClr val="0000a4"/>
                </a:solidFill>
                <a:latin typeface="Verdana"/>
              </a:rPr>
              <a:t>(SEÇME ÖZGÜRLÜĞÜ)</a:t>
            </a:r>
            <a:endParaRPr b="0" lang="en-US" sz="2000" spc="-1" strike="noStrike">
              <a:solidFill>
                <a:srgbClr val="ffffff"/>
              </a:solidFill>
              <a:latin typeface="Times New Roman"/>
            </a:endParaRPr>
          </a:p>
        </p:txBody>
      </p:sp>
      <p:sp>
        <p:nvSpPr>
          <p:cNvPr id="118" name=""/>
          <p:cNvSpPr/>
          <p:nvPr/>
        </p:nvSpPr>
        <p:spPr>
          <a:xfrm>
            <a:off x="179280" y="5229360"/>
            <a:ext cx="8820360" cy="1079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Verdana"/>
              </a:rPr>
              <a:t>GENETİKYAPI BİREYİN ÖZELLİKLERİNİ / DAVRANIŞLARINI ALT VE ÜST SINIRLARINI BELİRL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Verdana"/>
              </a:rPr>
              <a:t>BU İKİ SINIR ARASINDA HANGİ NOKTADA BULUNACAĞINIZI İSE  ÇEVRE ŞARTLARI BELİRL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Verdana"/>
              </a:rPr>
              <a:t>GENETİK ÖZELLİKLERİN,ÇEVRENİN VE ÖZGÜR SEÇİMLERİN KARŞILIKLI ETKİLEŞİM İÇİND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Verdana"/>
              </a:rPr>
              <a:t>İNSANI OLUŞTURDUĞU GÖRÜŞÜ SAVUNULUR. </a:t>
            </a:r>
            <a:endParaRPr b="0" lang="en-US" sz="1200" spc="-1" strike="noStrike">
              <a:solidFill>
                <a:srgbClr val="ffffff"/>
              </a:solidFill>
              <a:latin typeface="Times New Roman"/>
            </a:endParaRPr>
          </a:p>
        </p:txBody>
      </p:sp>
      <p:sp>
        <p:nvSpPr>
          <p:cNvPr id="119" name=""/>
          <p:cNvSpPr/>
          <p:nvPr/>
        </p:nvSpPr>
        <p:spPr>
          <a:xfrm>
            <a:off x="250920" y="476280"/>
            <a:ext cx="856908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4"/>
                </a:solidFill>
                <a:latin typeface="Verdana"/>
              </a:rPr>
              <a:t>VAROLUŞÇU PSİKOLOJİYE GÖRE GEN /  ÇEVRE İLİŞKİSİ</a:t>
            </a:r>
            <a:endParaRPr b="0" lang="en-US" sz="2000" spc="-1" strike="noStrike">
              <a:solidFill>
                <a:srgbClr val="ffffff"/>
              </a:solidFill>
              <a:latin typeface="Times New Roman"/>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5" name=""/>
          <p:cNvSpPr/>
          <p:nvPr/>
        </p:nvSpPr>
        <p:spPr>
          <a:xfrm flipH="1">
            <a:off x="990000" y="685800"/>
            <a:ext cx="7391160" cy="1371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Osmanlı devletini yönetenlerin yerinde sen olsaydın bu durum karşısında neler yapardın? Ya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endParaRPr b="0" lang="en-US" sz="1600" spc="-1" strike="noStrike">
              <a:solidFill>
                <a:srgbClr val="ffffff"/>
              </a:solidFill>
              <a:latin typeface="Times New Roman"/>
            </a:endParaRPr>
          </a:p>
        </p:txBody>
      </p:sp>
      <p:sp>
        <p:nvSpPr>
          <p:cNvPr id="2446" name=""/>
          <p:cNvSpPr/>
          <p:nvPr/>
        </p:nvSpPr>
        <p:spPr>
          <a:xfrm flipH="1">
            <a:off x="1065960" y="2971800"/>
            <a:ext cx="7239240" cy="32004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şağıdaki soruları yanıtlayı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1. Dünya Savaşı Osmanlı Devleti için hangi tarihte ne ile sona ermiş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2.Sen olsaydın böyle bir antlaşmayı imzalar mıydı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3.Bu durum karşısında yapılacak işlerin neler olduğunu ya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2447" name="" descr=""/>
          <p:cNvPicPr/>
          <p:nvPr/>
        </p:nvPicPr>
        <p:blipFill>
          <a:blip r:embed="rId2"/>
          <a:stretch/>
        </p:blipFill>
        <p:spPr>
          <a:xfrm>
            <a:off x="380880" y="1981080"/>
            <a:ext cx="1131840" cy="1930680"/>
          </a:xfrm>
          <a:prstGeom prst="rect">
            <a:avLst/>
          </a:prstGeom>
          <a:ln w="0">
            <a:noFill/>
          </a:ln>
        </p:spPr>
      </p:pic>
    </p:spTree>
  </p:cSld>
  <p:transition>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48" name=""/>
          <p:cNvGrpSpPr/>
          <p:nvPr/>
        </p:nvGrpSpPr>
        <p:grpSpPr>
          <a:xfrm>
            <a:off x="380880" y="304920"/>
            <a:ext cx="8458200" cy="6019560"/>
            <a:chOff x="380880" y="304920"/>
            <a:chExt cx="8458200" cy="6019560"/>
          </a:xfrm>
        </p:grpSpPr>
        <p:sp>
          <p:nvSpPr>
            <p:cNvPr id="2449" name=""/>
            <p:cNvSpPr/>
            <p:nvPr/>
          </p:nvSpPr>
          <p:spPr>
            <a:xfrm>
              <a:off x="380880" y="304920"/>
              <a:ext cx="8458200" cy="850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Sınıf</a:t>
              </a:r>
              <a:r>
                <a:rPr b="0" lang="en-US" sz="1400" spc="-1" strike="noStrike">
                  <a:solidFill>
                    <a:srgbClr val="0000a4"/>
                  </a:solidFill>
                  <a:latin typeface="Comic Sans MS"/>
                </a:rPr>
                <a:t>:  5</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Süre</a:t>
              </a:r>
              <a:r>
                <a:rPr b="0" lang="en-US" sz="1400" spc="-1" strike="noStrike">
                  <a:solidFill>
                    <a:srgbClr val="0000a4"/>
                  </a:solidFill>
                  <a:latin typeface="Comic Sans MS"/>
                </a:rPr>
                <a:t>: 40+40+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ers</a:t>
              </a:r>
              <a:r>
                <a:rPr b="0" lang="en-US" sz="1400" spc="-1" strike="noStrike">
                  <a:solidFill>
                    <a:srgbClr val="0000a4"/>
                  </a:solidFill>
                  <a:latin typeface="Comic Sans MS"/>
                </a:rPr>
                <a:t>:  Fen Bilgisi</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Tarih</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Ünite</a:t>
              </a:r>
              <a:r>
                <a:rPr b="0" lang="en-US" sz="1400" spc="-1" strike="noStrike">
                  <a:solidFill>
                    <a:srgbClr val="0000a4"/>
                  </a:solidFill>
                  <a:latin typeface="Comic Sans MS"/>
                </a:rPr>
                <a:t>: Canlılar ve Doğayla</a:t>
              </a:r>
              <a:r>
                <a:rPr b="0" lang="en-US" sz="1400" spc="-1" strike="noStrike">
                  <a:solidFill>
                    <a:srgbClr val="0000a4"/>
                  </a:solidFill>
                  <a:latin typeface="Comic Sans MS"/>
                </a:rPr>
                <a:t>	</a:t>
              </a:r>
              <a:r>
                <a:rPr b="0" lang="en-US" sz="1400" spc="-1" strike="noStrike">
                  <a:solidFill>
                    <a:srgbClr val="0000a4"/>
                  </a:solidFill>
                  <a:latin typeface="Comic Sans MS"/>
                </a:rPr>
                <a:t>	</a:t>
              </a:r>
              <a:r>
                <a:rPr b="1" lang="en-US" sz="1400" spc="-1" strike="noStrike">
                  <a:solidFill>
                    <a:srgbClr val="0000a4"/>
                  </a:solidFill>
                  <a:latin typeface="Comic Sans MS"/>
                </a:rPr>
                <a:t>Konu</a:t>
              </a:r>
              <a:r>
                <a:rPr b="0" lang="en-US" sz="1400" spc="-1" strike="noStrike">
                  <a:solidFill>
                    <a:srgbClr val="0000a4"/>
                  </a:solidFill>
                  <a:latin typeface="Comic Sans MS"/>
                </a:rPr>
                <a:t>: Canlıların Beslenme İlişkileri  Etkileşimleri</a:t>
              </a:r>
              <a:endParaRPr b="0" lang="en-US" sz="1400" spc="-1" strike="noStrike">
                <a:solidFill>
                  <a:srgbClr val="ffffff"/>
                </a:solidFill>
                <a:latin typeface="Times New Roman"/>
              </a:endParaRPr>
            </a:p>
          </p:txBody>
        </p:sp>
        <p:sp>
          <p:nvSpPr>
            <p:cNvPr id="2450" name=""/>
            <p:cNvSpPr/>
            <p:nvPr/>
          </p:nvSpPr>
          <p:spPr>
            <a:xfrm>
              <a:off x="419040" y="1371600"/>
              <a:ext cx="8420040" cy="2057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a4"/>
                  </a:solidFill>
                  <a:latin typeface="Comic Sans MS"/>
                </a:rPr>
                <a:t>Hedef ve Davranışl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1. Doğadaki canlıların yaşamın devamı için birbirlerine neden gereksinim duyduklarını basit bir besin zinciri şeması ile açıkl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2. Üretici, tüketici ve ayrıştırıcı canlılara örnekler vererek bu canlılardan birinin yok olması halinde doğabilecek sonuçları fark ederek örneklendiri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3. Üretici canlıların neden bu adı aldıklarını belirti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4. Hangi canlılara tüketici denildiğini açıkl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a4"/>
                  </a:solidFill>
                  <a:latin typeface="Comic Sans MS"/>
                </a:rPr>
                <a:t>5. Simbiyotik ve parazitik ilişkileri örneklerle açıklar.                                                                          </a:t>
              </a:r>
              <a:endParaRPr b="0" lang="en-US" sz="1400" spc="-1" strike="noStrike">
                <a:solidFill>
                  <a:srgbClr val="ffffff"/>
                </a:solidFill>
                <a:latin typeface="Times New Roman"/>
              </a:endParaRPr>
            </a:p>
          </p:txBody>
        </p:sp>
        <p:sp>
          <p:nvSpPr>
            <p:cNvPr id="2451" name=""/>
            <p:cNvSpPr/>
            <p:nvPr/>
          </p:nvSpPr>
          <p:spPr>
            <a:xfrm>
              <a:off x="609480" y="3581280"/>
              <a:ext cx="8153640" cy="3812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Ders Öncesi Hazırlık: </a:t>
              </a:r>
              <a:r>
                <a:rPr b="0" lang="en-US" sz="1400" spc="-1" strike="noStrike">
                  <a:solidFill>
                    <a:srgbClr val="0000a4"/>
                  </a:solidFill>
                  <a:latin typeface="Comic Sans MS"/>
                </a:rPr>
                <a:t>Ders kitabı ve çalışma kağıdı, asetat.</a:t>
              </a:r>
              <a:endParaRPr b="0" lang="en-US" sz="1400" spc="-1" strike="noStrike">
                <a:solidFill>
                  <a:srgbClr val="ffffff"/>
                </a:solidFill>
                <a:latin typeface="Times New Roman"/>
              </a:endParaRPr>
            </a:p>
          </p:txBody>
        </p:sp>
        <p:sp>
          <p:nvSpPr>
            <p:cNvPr id="2452" name=""/>
            <p:cNvSpPr/>
            <p:nvPr/>
          </p:nvSpPr>
          <p:spPr>
            <a:xfrm>
              <a:off x="609480" y="4114800"/>
              <a:ext cx="8153640" cy="380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İşleniş: </a:t>
              </a:r>
              <a:r>
                <a:rPr b="0" lang="en-US" sz="1200" spc="-1" strike="noStrike">
                  <a:solidFill>
                    <a:srgbClr val="0000a4"/>
                  </a:solidFill>
                  <a:latin typeface="Comic Sans MS"/>
                </a:rPr>
                <a:t> </a:t>
              </a:r>
              <a:r>
                <a:rPr b="1"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453" name=""/>
            <p:cNvSpPr/>
            <p:nvPr/>
          </p:nvSpPr>
          <p:spPr>
            <a:xfrm>
              <a:off x="533520" y="4648320"/>
              <a:ext cx="3962160" cy="16761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S/D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Çimlenme koşulları yolları ile ilgili  listelem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Üretici-tüketici konulu tanımlayıcı cüml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Canlı ve beslenme şekli ile ilgili listelenme  çalışması.</a:t>
              </a:r>
              <a:endParaRPr b="0" lang="en-US" sz="1400" spc="-1" strike="noStrike">
                <a:solidFill>
                  <a:srgbClr val="ffffff"/>
                </a:solidFill>
                <a:latin typeface="Times New Roman"/>
              </a:endParaRPr>
            </a:p>
          </p:txBody>
        </p:sp>
        <p:sp>
          <p:nvSpPr>
            <p:cNvPr id="2454" name=""/>
            <p:cNvSpPr/>
            <p:nvPr/>
          </p:nvSpPr>
          <p:spPr>
            <a:xfrm>
              <a:off x="4800600" y="4648320"/>
              <a:ext cx="4038480" cy="16761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G/U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esin zinciri ile ilgili resim yorumla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ularda besin zinciri ile ilgili akış haritası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Tree>
  </p:cSld>
  <p:transition>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55" name=""/>
          <p:cNvGrpSpPr/>
          <p:nvPr/>
        </p:nvGrpSpPr>
        <p:grpSpPr>
          <a:xfrm>
            <a:off x="258840" y="228600"/>
            <a:ext cx="8626320" cy="6400800"/>
            <a:chOff x="258840" y="228600"/>
            <a:chExt cx="8626320" cy="6400800"/>
          </a:xfrm>
        </p:grpSpPr>
        <p:sp>
          <p:nvSpPr>
            <p:cNvPr id="2456" name=""/>
            <p:cNvSpPr/>
            <p:nvPr/>
          </p:nvSpPr>
          <p:spPr>
            <a:xfrm>
              <a:off x="304920" y="228600"/>
              <a:ext cx="3886200" cy="1219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K/A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Üretici, tüketici, liken konulu  ben neyim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salak yaşamla ilgili diyalog tamamlama çalışması.</a:t>
              </a:r>
              <a:endParaRPr b="0" lang="en-US" sz="1400" spc="-1" strike="noStrike">
                <a:solidFill>
                  <a:srgbClr val="ffffff"/>
                </a:solidFill>
                <a:latin typeface="Times New Roman"/>
              </a:endParaRPr>
            </a:p>
          </p:txBody>
        </p:sp>
        <p:sp>
          <p:nvSpPr>
            <p:cNvPr id="2457" name=""/>
            <p:cNvSpPr/>
            <p:nvPr/>
          </p:nvSpPr>
          <p:spPr>
            <a:xfrm>
              <a:off x="4495680" y="228600"/>
              <a:ext cx="4389480" cy="1143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İ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Doğal dengenin korunması ile ilgili önceliklerin yazılması çalışması</a:t>
              </a:r>
              <a:r>
                <a:rPr b="0" lang="en-US" sz="1300" spc="-1" strike="noStrike">
                  <a:solidFill>
                    <a:srgbClr val="0000a4"/>
                  </a:solidFill>
                  <a:latin typeface="Comic Sans MS"/>
                </a:rPr>
                <a:t>.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2458" name=""/>
            <p:cNvSpPr/>
            <p:nvPr/>
          </p:nvSpPr>
          <p:spPr>
            <a:xfrm>
              <a:off x="258840" y="1477800"/>
              <a:ext cx="4008240" cy="1265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M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Üretici ve tüketici ile  ilgili Venn şeması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Tüketicilerin beslenme şekilleriyle ilgili kuralı bul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eslenme ile ilgili neden sonuç çalışması</a:t>
              </a:r>
              <a:r>
                <a:rPr b="0" lang="en-US" sz="1300" spc="-1" strike="noStrike">
                  <a:solidFill>
                    <a:srgbClr val="0000a4"/>
                  </a:solidFill>
                  <a:latin typeface="Comic Sans MS"/>
                </a:rPr>
                <a:t>.</a:t>
              </a:r>
              <a:endParaRPr b="0" lang="en-US" sz="1300" spc="-1" strike="noStrike">
                <a:solidFill>
                  <a:srgbClr val="ffffff"/>
                </a:solidFill>
                <a:latin typeface="Times New Roman"/>
              </a:endParaRPr>
            </a:p>
          </p:txBody>
        </p:sp>
        <p:sp>
          <p:nvSpPr>
            <p:cNvPr id="2459" name=""/>
            <p:cNvSpPr/>
            <p:nvPr/>
          </p:nvSpPr>
          <p:spPr>
            <a:xfrm>
              <a:off x="4495680" y="1447920"/>
              <a:ext cx="4313520" cy="1266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B/K__</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arada ve sularda besin zinciri oluşturulması ile ilgili rol canlandırma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imbiyosis ve asalak yaşamla ilgili rol canlandırma çalışması.</a:t>
              </a: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460" name=""/>
            <p:cNvSpPr/>
            <p:nvPr/>
          </p:nvSpPr>
          <p:spPr>
            <a:xfrm>
              <a:off x="304920" y="2819520"/>
              <a:ext cx="3962160" cy="9144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M/R__</a:t>
              </a:r>
              <a:r>
                <a:rPr b="0" lang="en-US" sz="1400" spc="-1" strike="noStrike">
                  <a:solidFill>
                    <a:srgbClr val="0000a4"/>
                  </a:solidFill>
                  <a:latin typeface="Comic Sans MS"/>
                </a:rPr>
                <a:t> </a:t>
              </a:r>
              <a:r>
                <a:rPr b="1"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salakların verdiği etkilerin  ritimle ilişkilendirme çalışması.</a:t>
              </a:r>
              <a:endParaRPr b="0" lang="en-US" sz="1400" spc="-1" strike="noStrike">
                <a:solidFill>
                  <a:srgbClr val="ffffff"/>
                </a:solidFill>
                <a:latin typeface="Times New Roman"/>
              </a:endParaRPr>
            </a:p>
          </p:txBody>
        </p:sp>
        <p:sp>
          <p:nvSpPr>
            <p:cNvPr id="2461" name=""/>
            <p:cNvSpPr/>
            <p:nvPr/>
          </p:nvSpPr>
          <p:spPr>
            <a:xfrm>
              <a:off x="4495680" y="2819520"/>
              <a:ext cx="4314960" cy="838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D__</a:t>
              </a:r>
              <a:r>
                <a:rPr b="0" lang="en-US" sz="1400" spc="-1" strike="noStrike">
                  <a:solidFill>
                    <a:srgbClr val="0000a4"/>
                  </a:solidFill>
                  <a:latin typeface="Comic Sans MS"/>
                </a:rPr>
                <a:t> </a:t>
              </a:r>
              <a:r>
                <a:rPr b="1" lang="en-US" sz="1400" spc="-1" strike="noStrike">
                  <a:solidFill>
                    <a:srgbClr val="0000a4"/>
                  </a:solidFill>
                  <a:latin typeface="Comic Sans MS"/>
                </a:rPr>
                <a:t>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Üretici ve tüketici konulu kategorilendirme çalışması.</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sp>
          <p:nvSpPr>
            <p:cNvPr id="2462" name=""/>
            <p:cNvSpPr/>
            <p:nvPr/>
          </p:nvSpPr>
          <p:spPr>
            <a:xfrm>
              <a:off x="1339920" y="3778200"/>
              <a:ext cx="6310080" cy="336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Yaratıcı Etkinlik:</a:t>
              </a:r>
              <a:r>
                <a:rPr b="0" lang="en-US" sz="1400" spc="-1" strike="noStrike">
                  <a:solidFill>
                    <a:srgbClr val="0000a4"/>
                  </a:solidFill>
                  <a:latin typeface="Comic Sans MS"/>
                </a:rPr>
                <a:t>  Yeryüzünde Güneş olmasaydı neler olurdu?</a:t>
              </a:r>
              <a:endParaRPr b="0" lang="en-US" sz="1400" spc="-1" strike="noStrike">
                <a:solidFill>
                  <a:srgbClr val="ffffff"/>
                </a:solidFill>
                <a:latin typeface="Times New Roman"/>
              </a:endParaRPr>
            </a:p>
          </p:txBody>
        </p:sp>
        <p:sp>
          <p:nvSpPr>
            <p:cNvPr id="2463" name=""/>
            <p:cNvSpPr/>
            <p:nvPr/>
          </p:nvSpPr>
          <p:spPr>
            <a:xfrm>
              <a:off x="304920" y="4191120"/>
              <a:ext cx="8458200" cy="24382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DEĞERLENDİR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1- </a:t>
              </a:r>
              <a:r>
                <a:rPr b="0" lang="en-US" sz="1600" spc="-1" strike="noStrike">
                  <a:solidFill>
                    <a:srgbClr val="0000a4"/>
                  </a:solidFill>
                  <a:latin typeface="Comic Sans MS"/>
                </a:rPr>
                <a:t>Konak ve konakçıyı tanıml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2- </a:t>
              </a:r>
              <a:r>
                <a:rPr b="0" lang="en-US" sz="1600" spc="-1" strike="noStrike">
                  <a:solidFill>
                    <a:srgbClr val="0000a4"/>
                  </a:solidFill>
                  <a:latin typeface="Comic Sans MS"/>
                </a:rPr>
                <a:t>Canlıların beslenme şekillerini açıkl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3- </a:t>
              </a:r>
              <a:r>
                <a:rPr b="0" lang="en-US" sz="1600" spc="-1" strike="noStrike">
                  <a:solidFill>
                    <a:srgbClr val="0000a4"/>
                  </a:solidFill>
                  <a:latin typeface="Comic Sans MS"/>
                </a:rPr>
                <a:t>Sularda yaşamla ilgili besin zinciri hazırl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4- </a:t>
              </a:r>
              <a:r>
                <a:rPr b="0" lang="en-US" sz="1600" spc="-1" strike="noStrike">
                  <a:solidFill>
                    <a:srgbClr val="0000a4"/>
                  </a:solidFill>
                  <a:latin typeface="Comic Sans MS"/>
                </a:rPr>
                <a:t>Üretici ve tüketici canlıları karşılaştır, farkları söyl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5- </a:t>
              </a:r>
              <a:r>
                <a:rPr b="0" lang="en-US" sz="1600" spc="-1" strike="noStrike">
                  <a:solidFill>
                    <a:srgbClr val="0000a4"/>
                  </a:solidFill>
                  <a:latin typeface="Comic Sans MS"/>
                </a:rPr>
                <a:t>Kendine bir günlük yemek mönüsü oluştu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6- </a:t>
              </a:r>
              <a:r>
                <a:rPr b="0" lang="en-US" sz="1600" spc="-1" strike="noStrike">
                  <a:solidFill>
                    <a:srgbClr val="0000a4"/>
                  </a:solidFill>
                  <a:latin typeface="Comic Sans MS"/>
                </a:rPr>
                <a:t>Simbiyosis bir yaşam oluşturma imkanınız olsaydı ondan ne tür özveriler beklerdin?  Değerlendir.</a:t>
              </a:r>
              <a:endParaRPr b="0" lang="en-US" sz="1600" spc="-1" strike="noStrike">
                <a:solidFill>
                  <a:srgbClr val="ffffff"/>
                </a:solidFill>
                <a:latin typeface="Times New Roman"/>
              </a:endParaRPr>
            </a:p>
          </p:txBody>
        </p:sp>
      </p:grpSp>
    </p:spTree>
  </p:cSld>
  <p:transition>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64" name=""/>
          <p:cNvGrpSpPr/>
          <p:nvPr/>
        </p:nvGrpSpPr>
        <p:grpSpPr>
          <a:xfrm>
            <a:off x="457200" y="0"/>
            <a:ext cx="8686800" cy="6705720"/>
            <a:chOff x="457200" y="0"/>
            <a:chExt cx="8686800" cy="6705720"/>
          </a:xfrm>
        </p:grpSpPr>
        <p:sp>
          <p:nvSpPr>
            <p:cNvPr id="2465" name=""/>
            <p:cNvSpPr/>
            <p:nvPr/>
          </p:nvSpPr>
          <p:spPr>
            <a:xfrm>
              <a:off x="457200" y="152280"/>
              <a:ext cx="5638680" cy="8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SINIF: 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DERS  : Fen Bilgis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a4"/>
                  </a:solidFill>
                  <a:latin typeface="Comic Sans MS"/>
                </a:rPr>
                <a:t>KONU : Canlıları Beslenme İlişkilerine </a:t>
              </a:r>
              <a:r>
                <a:rPr b="0" lang="tr-TR" sz="1400" spc="-1" strike="noStrike">
                  <a:solidFill>
                    <a:srgbClr val="0000a4"/>
                  </a:solidFill>
                  <a:latin typeface="Comic Sans MS"/>
                </a:rPr>
                <a:t> </a:t>
              </a:r>
              <a:r>
                <a:rPr b="0" sz="1400" spc="-1" strike="noStrike">
                  <a:solidFill>
                    <a:srgbClr val="0000a4"/>
                  </a:solidFill>
                  <a:latin typeface="Comic Sans MS"/>
                </a:rPr>
                <a:t>Göre Gruplayabilir miyiz?</a:t>
              </a:r>
              <a:endParaRPr b="0" lang="en-US" sz="1400" spc="-1" strike="noStrike">
                <a:solidFill>
                  <a:srgbClr val="ffffff"/>
                </a:solidFill>
                <a:latin typeface="Times New Roman"/>
              </a:endParaRPr>
            </a:p>
          </p:txBody>
        </p:sp>
        <p:sp>
          <p:nvSpPr>
            <p:cNvPr id="2466" name=""/>
            <p:cNvSpPr/>
            <p:nvPr/>
          </p:nvSpPr>
          <p:spPr>
            <a:xfrm>
              <a:off x="533520" y="3581280"/>
              <a:ext cx="7924680" cy="990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ularda yaşam ile ilgili akış haritası şeklinde  bir besin zinciri oluştu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7" name=""/>
            <p:cNvSpPr/>
            <p:nvPr/>
          </p:nvSpPr>
          <p:spPr>
            <a:xfrm>
              <a:off x="495360" y="1143000"/>
              <a:ext cx="8001000" cy="228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2755800" indent="-1417680">
                <a:lnSpc>
                  <a:spcPct val="100000"/>
                </a:lnSpc>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Yanda canlıların karadaki yaşamıyla </a:t>
              </a:r>
              <a:r>
                <a:rPr b="0" lang="en-US" sz="1400" spc="-1" strike="noStrike">
                  <a:solidFill>
                    <a:srgbClr val="0000a4"/>
                  </a:solidFill>
                  <a:latin typeface="Comic Sans MS"/>
                </a:rPr>
                <a:t>	</a:t>
              </a:r>
              <a:r>
                <a:rPr b="0" lang="en-US" sz="1400" spc="-1" strike="noStrike">
                  <a:solidFill>
                    <a:srgbClr val="0000a4"/>
                  </a:solidFill>
                  <a:latin typeface="Comic Sans MS"/>
                </a:rPr>
                <a:t>ilgili besin zinciri verilmiştir. Resmi yorumlayan </a:t>
              </a:r>
              <a:r>
                <a:rPr b="0" lang="en-US" sz="1400" spc="-1" strike="noStrike">
                  <a:solidFill>
                    <a:srgbClr val="0000a4"/>
                  </a:solidFill>
                  <a:latin typeface="Comic Sans MS"/>
                </a:rPr>
                <a:t>	</a:t>
              </a:r>
              <a:r>
                <a:rPr b="0" lang="en-US" sz="1400" spc="-1" strike="noStrike">
                  <a:solidFill>
                    <a:srgbClr val="0000a4"/>
                  </a:solidFill>
                  <a:latin typeface="Comic Sans MS"/>
                </a:rPr>
                <a:t>bir yazı yazın. </a:t>
              </a:r>
              <a:endParaRPr b="0" lang="en-US" sz="1400" spc="-1" strike="noStrike">
                <a:solidFill>
                  <a:srgbClr val="ffffff"/>
                </a:solidFill>
                <a:latin typeface="Times New Roman"/>
              </a:endParaRPr>
            </a:p>
            <a:p>
              <a:pPr marL="2755800" indent="-1417680">
                <a:lnSpc>
                  <a:spcPct val="100000"/>
                </a:lnSpc>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a:t>
              </a:r>
              <a:r>
                <a:rPr b="0" lang="en-US" sz="1200" spc="-1" strike="noStrike">
                  <a:solidFill>
                    <a:srgbClr val="0000a4"/>
                  </a:solidFill>
                  <a:latin typeface="Comic Sans MS"/>
                </a:rPr>
                <a:t>	</a:t>
              </a:r>
              <a:r>
                <a:rPr b="0" lang="en-US" sz="1200" spc="-1" strike="noStrike">
                  <a:solidFill>
                    <a:srgbClr val="0000a4"/>
                  </a:solidFill>
                  <a:latin typeface="Comic Sans MS"/>
                </a:rPr>
                <a:t>......................................................................................................</a:t>
              </a:r>
              <a:r>
                <a:rPr b="0" lang="en-US" sz="1200" spc="-1" strike="noStrike">
                  <a:solidFill>
                    <a:srgbClr val="0000a4"/>
                  </a:solidFill>
                  <a:latin typeface="Comic Sans MS"/>
                </a:rPr>
                <a:t>	</a:t>
              </a:r>
              <a:r>
                <a:rPr b="0" lang="en-US" sz="1200" spc="-1" strike="noStrike">
                  <a:solidFill>
                    <a:srgbClr val="0000a4"/>
                  </a:solidFill>
                  <a:latin typeface="Comic Sans MS"/>
                </a:rPr>
                <a:t>......................................................................................................</a:t>
              </a:r>
              <a:r>
                <a:rPr b="0" lang="en-US" sz="1200" spc="-1" strike="noStrike">
                  <a:solidFill>
                    <a:srgbClr val="0000a4"/>
                  </a:solidFill>
                  <a:latin typeface="Comic Sans MS"/>
                </a:rPr>
                <a:t>	</a:t>
              </a: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grpSp>
          <p:nvGrpSpPr>
            <p:cNvPr id="2468" name=""/>
            <p:cNvGrpSpPr/>
            <p:nvPr/>
          </p:nvGrpSpPr>
          <p:grpSpPr>
            <a:xfrm>
              <a:off x="1066680" y="1181160"/>
              <a:ext cx="3074760" cy="2247840"/>
              <a:chOff x="1066680" y="1181160"/>
              <a:chExt cx="3074760" cy="2247840"/>
            </a:xfrm>
          </p:grpSpPr>
          <p:grpSp>
            <p:nvGrpSpPr>
              <p:cNvPr id="2469" name=""/>
              <p:cNvGrpSpPr/>
              <p:nvPr/>
            </p:nvGrpSpPr>
            <p:grpSpPr>
              <a:xfrm>
                <a:off x="1133280" y="1231920"/>
                <a:ext cx="1069200" cy="1072440"/>
                <a:chOff x="1133280" y="1231920"/>
                <a:chExt cx="1069200" cy="1072440"/>
              </a:xfrm>
            </p:grpSpPr>
            <p:grpSp>
              <p:nvGrpSpPr>
                <p:cNvPr id="2470" name=""/>
                <p:cNvGrpSpPr/>
                <p:nvPr/>
              </p:nvGrpSpPr>
              <p:grpSpPr>
                <a:xfrm>
                  <a:off x="1400400" y="1231920"/>
                  <a:ext cx="802080" cy="292680"/>
                  <a:chOff x="1400400" y="1231920"/>
                  <a:chExt cx="802080" cy="292680"/>
                </a:xfrm>
              </p:grpSpPr>
              <p:sp>
                <p:nvSpPr>
                  <p:cNvPr id="2471" name=""/>
                  <p:cNvSpPr/>
                  <p:nvPr/>
                </p:nvSpPr>
                <p:spPr>
                  <a:xfrm flipH="1">
                    <a:off x="1847880" y="1248120"/>
                    <a:ext cx="165600" cy="136440"/>
                  </a:xfrm>
                  <a:custGeom>
                    <a:avLst/>
                    <a:gdLst/>
                    <a:ahLst/>
                    <a:rect l="l" t="t" r="r" b="b"/>
                    <a:pathLst>
                      <a:path w="1484" h="1383">
                        <a:moveTo>
                          <a:pt x="0" y="1033"/>
                        </a:moveTo>
                        <a:lnTo>
                          <a:pt x="159" y="791"/>
                        </a:lnTo>
                        <a:lnTo>
                          <a:pt x="97" y="664"/>
                        </a:lnTo>
                        <a:lnTo>
                          <a:pt x="268" y="333"/>
                        </a:lnTo>
                        <a:lnTo>
                          <a:pt x="204" y="198"/>
                        </a:lnTo>
                        <a:lnTo>
                          <a:pt x="240" y="64"/>
                        </a:lnTo>
                        <a:lnTo>
                          <a:pt x="356" y="0"/>
                        </a:lnTo>
                        <a:lnTo>
                          <a:pt x="546" y="38"/>
                        </a:lnTo>
                        <a:lnTo>
                          <a:pt x="589" y="171"/>
                        </a:lnTo>
                        <a:lnTo>
                          <a:pt x="572" y="333"/>
                        </a:lnTo>
                        <a:lnTo>
                          <a:pt x="1484" y="1176"/>
                        </a:lnTo>
                        <a:lnTo>
                          <a:pt x="1009" y="1383"/>
                        </a:lnTo>
                        <a:lnTo>
                          <a:pt x="401" y="450"/>
                        </a:lnTo>
                        <a:lnTo>
                          <a:pt x="233" y="1124"/>
                        </a:lnTo>
                        <a:lnTo>
                          <a:pt x="0" y="1033"/>
                        </a:lnTo>
                        <a:lnTo>
                          <a:pt x="0" y="10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
                  <p:cNvSpPr/>
                  <p:nvPr/>
                </p:nvSpPr>
                <p:spPr>
                  <a:xfrm flipH="1">
                    <a:off x="1605600" y="1336680"/>
                    <a:ext cx="583920" cy="174600"/>
                  </a:xfrm>
                  <a:custGeom>
                    <a:avLst/>
                    <a:gdLst/>
                    <a:ahLst/>
                    <a:rect l="l" t="t" r="r" b="b"/>
                    <a:pathLst>
                      <a:path w="5228" h="1769">
                        <a:moveTo>
                          <a:pt x="28" y="116"/>
                        </a:moveTo>
                        <a:lnTo>
                          <a:pt x="2279" y="162"/>
                        </a:lnTo>
                        <a:lnTo>
                          <a:pt x="3844" y="109"/>
                        </a:lnTo>
                        <a:lnTo>
                          <a:pt x="4193" y="26"/>
                        </a:lnTo>
                        <a:lnTo>
                          <a:pt x="4549" y="90"/>
                        </a:lnTo>
                        <a:lnTo>
                          <a:pt x="4791" y="0"/>
                        </a:lnTo>
                        <a:lnTo>
                          <a:pt x="4995" y="74"/>
                        </a:lnTo>
                        <a:lnTo>
                          <a:pt x="5166" y="288"/>
                        </a:lnTo>
                        <a:lnTo>
                          <a:pt x="5228" y="755"/>
                        </a:lnTo>
                        <a:lnTo>
                          <a:pt x="5069" y="943"/>
                        </a:lnTo>
                        <a:lnTo>
                          <a:pt x="4872" y="1014"/>
                        </a:lnTo>
                        <a:lnTo>
                          <a:pt x="4763" y="1024"/>
                        </a:lnTo>
                        <a:lnTo>
                          <a:pt x="4559" y="1257"/>
                        </a:lnTo>
                        <a:lnTo>
                          <a:pt x="4423" y="1348"/>
                        </a:lnTo>
                        <a:lnTo>
                          <a:pt x="4290" y="1364"/>
                        </a:lnTo>
                        <a:lnTo>
                          <a:pt x="4183" y="1364"/>
                        </a:lnTo>
                        <a:lnTo>
                          <a:pt x="4005" y="1319"/>
                        </a:lnTo>
                        <a:lnTo>
                          <a:pt x="3799" y="1176"/>
                        </a:lnTo>
                        <a:lnTo>
                          <a:pt x="3583" y="1293"/>
                        </a:lnTo>
                        <a:lnTo>
                          <a:pt x="3200" y="1455"/>
                        </a:lnTo>
                        <a:lnTo>
                          <a:pt x="2726" y="1464"/>
                        </a:lnTo>
                        <a:lnTo>
                          <a:pt x="1690" y="1312"/>
                        </a:lnTo>
                        <a:lnTo>
                          <a:pt x="1636" y="1769"/>
                        </a:lnTo>
                        <a:lnTo>
                          <a:pt x="1458" y="1769"/>
                        </a:lnTo>
                        <a:lnTo>
                          <a:pt x="1296" y="1481"/>
                        </a:lnTo>
                        <a:lnTo>
                          <a:pt x="1367" y="1283"/>
                        </a:lnTo>
                        <a:lnTo>
                          <a:pt x="1044" y="1186"/>
                        </a:lnTo>
                        <a:lnTo>
                          <a:pt x="323" y="907"/>
                        </a:lnTo>
                        <a:lnTo>
                          <a:pt x="80" y="664"/>
                        </a:lnTo>
                        <a:lnTo>
                          <a:pt x="0" y="340"/>
                        </a:lnTo>
                        <a:lnTo>
                          <a:pt x="28" y="116"/>
                        </a:lnTo>
                        <a:lnTo>
                          <a:pt x="2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flipH="1">
                    <a:off x="1732680" y="1459440"/>
                    <a:ext cx="124560" cy="64800"/>
                  </a:xfrm>
                  <a:custGeom>
                    <a:avLst/>
                    <a:gdLst/>
                    <a:ahLst/>
                    <a:rect l="l" t="t" r="r" b="b"/>
                    <a:pathLst>
                      <a:path w="1116" h="659">
                        <a:moveTo>
                          <a:pt x="934" y="0"/>
                        </a:moveTo>
                        <a:lnTo>
                          <a:pt x="596" y="297"/>
                        </a:lnTo>
                        <a:lnTo>
                          <a:pt x="594" y="481"/>
                        </a:lnTo>
                        <a:lnTo>
                          <a:pt x="3" y="488"/>
                        </a:lnTo>
                        <a:lnTo>
                          <a:pt x="0" y="659"/>
                        </a:lnTo>
                        <a:lnTo>
                          <a:pt x="718" y="659"/>
                        </a:lnTo>
                        <a:lnTo>
                          <a:pt x="718" y="326"/>
                        </a:lnTo>
                        <a:lnTo>
                          <a:pt x="1116" y="138"/>
                        </a:lnTo>
                        <a:lnTo>
                          <a:pt x="934" y="0"/>
                        </a:lnTo>
                        <a:lnTo>
                          <a:pt x="934"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74" name=""/>
                  <p:cNvSpPr/>
                  <p:nvPr/>
                </p:nvSpPr>
                <p:spPr>
                  <a:xfrm flipH="1">
                    <a:off x="1400400" y="1237680"/>
                    <a:ext cx="236160" cy="157680"/>
                  </a:xfrm>
                  <a:custGeom>
                    <a:avLst/>
                    <a:gdLst/>
                    <a:ahLst/>
                    <a:rect l="l" t="t" r="r" b="b"/>
                    <a:pathLst>
                      <a:path w="2114" h="1596">
                        <a:moveTo>
                          <a:pt x="0" y="1100"/>
                        </a:moveTo>
                        <a:lnTo>
                          <a:pt x="19" y="1069"/>
                        </a:lnTo>
                        <a:lnTo>
                          <a:pt x="43" y="1031"/>
                        </a:lnTo>
                        <a:lnTo>
                          <a:pt x="74" y="984"/>
                        </a:lnTo>
                        <a:lnTo>
                          <a:pt x="117" y="929"/>
                        </a:lnTo>
                        <a:lnTo>
                          <a:pt x="164" y="862"/>
                        </a:lnTo>
                        <a:lnTo>
                          <a:pt x="190" y="829"/>
                        </a:lnTo>
                        <a:lnTo>
                          <a:pt x="205" y="810"/>
                        </a:lnTo>
                        <a:lnTo>
                          <a:pt x="219" y="793"/>
                        </a:lnTo>
                        <a:lnTo>
                          <a:pt x="235" y="774"/>
                        </a:lnTo>
                        <a:lnTo>
                          <a:pt x="250" y="755"/>
                        </a:lnTo>
                        <a:lnTo>
                          <a:pt x="266" y="736"/>
                        </a:lnTo>
                        <a:lnTo>
                          <a:pt x="283" y="717"/>
                        </a:lnTo>
                        <a:lnTo>
                          <a:pt x="299" y="698"/>
                        </a:lnTo>
                        <a:lnTo>
                          <a:pt x="316" y="679"/>
                        </a:lnTo>
                        <a:lnTo>
                          <a:pt x="333" y="660"/>
                        </a:lnTo>
                        <a:lnTo>
                          <a:pt x="352" y="641"/>
                        </a:lnTo>
                        <a:lnTo>
                          <a:pt x="368" y="622"/>
                        </a:lnTo>
                        <a:lnTo>
                          <a:pt x="387" y="603"/>
                        </a:lnTo>
                        <a:lnTo>
                          <a:pt x="406" y="581"/>
                        </a:lnTo>
                        <a:lnTo>
                          <a:pt x="425" y="562"/>
                        </a:lnTo>
                        <a:lnTo>
                          <a:pt x="444" y="543"/>
                        </a:lnTo>
                        <a:lnTo>
                          <a:pt x="466" y="524"/>
                        </a:lnTo>
                        <a:lnTo>
                          <a:pt x="485" y="505"/>
                        </a:lnTo>
                        <a:lnTo>
                          <a:pt x="506" y="486"/>
                        </a:lnTo>
                        <a:lnTo>
                          <a:pt x="525" y="469"/>
                        </a:lnTo>
                        <a:lnTo>
                          <a:pt x="546" y="450"/>
                        </a:lnTo>
                        <a:lnTo>
                          <a:pt x="568" y="431"/>
                        </a:lnTo>
                        <a:lnTo>
                          <a:pt x="589" y="415"/>
                        </a:lnTo>
                        <a:lnTo>
                          <a:pt x="611" y="395"/>
                        </a:lnTo>
                        <a:lnTo>
                          <a:pt x="634" y="379"/>
                        </a:lnTo>
                        <a:lnTo>
                          <a:pt x="658" y="362"/>
                        </a:lnTo>
                        <a:lnTo>
                          <a:pt x="679" y="345"/>
                        </a:lnTo>
                        <a:lnTo>
                          <a:pt x="703" y="331"/>
                        </a:lnTo>
                        <a:lnTo>
                          <a:pt x="727" y="314"/>
                        </a:lnTo>
                        <a:lnTo>
                          <a:pt x="748" y="300"/>
                        </a:lnTo>
                        <a:lnTo>
                          <a:pt x="772" y="286"/>
                        </a:lnTo>
                        <a:lnTo>
                          <a:pt x="796" y="269"/>
                        </a:lnTo>
                        <a:lnTo>
                          <a:pt x="822" y="257"/>
                        </a:lnTo>
                        <a:lnTo>
                          <a:pt x="869" y="234"/>
                        </a:lnTo>
                        <a:lnTo>
                          <a:pt x="919" y="210"/>
                        </a:lnTo>
                        <a:lnTo>
                          <a:pt x="969" y="191"/>
                        </a:lnTo>
                        <a:lnTo>
                          <a:pt x="1019" y="174"/>
                        </a:lnTo>
                        <a:lnTo>
                          <a:pt x="1066" y="157"/>
                        </a:lnTo>
                        <a:lnTo>
                          <a:pt x="1112" y="143"/>
                        </a:lnTo>
                        <a:lnTo>
                          <a:pt x="1152" y="129"/>
                        </a:lnTo>
                        <a:lnTo>
                          <a:pt x="1230" y="100"/>
                        </a:lnTo>
                        <a:lnTo>
                          <a:pt x="1299" y="81"/>
                        </a:lnTo>
                        <a:lnTo>
                          <a:pt x="1361" y="62"/>
                        </a:lnTo>
                        <a:lnTo>
                          <a:pt x="1415" y="45"/>
                        </a:lnTo>
                        <a:lnTo>
                          <a:pt x="1501" y="24"/>
                        </a:lnTo>
                        <a:lnTo>
                          <a:pt x="1629" y="0"/>
                        </a:lnTo>
                        <a:lnTo>
                          <a:pt x="1646" y="95"/>
                        </a:lnTo>
                        <a:lnTo>
                          <a:pt x="1589" y="107"/>
                        </a:lnTo>
                        <a:lnTo>
                          <a:pt x="1522" y="126"/>
                        </a:lnTo>
                        <a:lnTo>
                          <a:pt x="1442" y="148"/>
                        </a:lnTo>
                        <a:lnTo>
                          <a:pt x="1342" y="176"/>
                        </a:lnTo>
                        <a:lnTo>
                          <a:pt x="1290" y="193"/>
                        </a:lnTo>
                        <a:lnTo>
                          <a:pt x="1237" y="210"/>
                        </a:lnTo>
                        <a:lnTo>
                          <a:pt x="1178" y="229"/>
                        </a:lnTo>
                        <a:lnTo>
                          <a:pt x="1123" y="250"/>
                        </a:lnTo>
                        <a:lnTo>
                          <a:pt x="1066" y="272"/>
                        </a:lnTo>
                        <a:lnTo>
                          <a:pt x="1009" y="295"/>
                        </a:lnTo>
                        <a:lnTo>
                          <a:pt x="952" y="322"/>
                        </a:lnTo>
                        <a:lnTo>
                          <a:pt x="924" y="336"/>
                        </a:lnTo>
                        <a:lnTo>
                          <a:pt x="895" y="350"/>
                        </a:lnTo>
                        <a:lnTo>
                          <a:pt x="867" y="367"/>
                        </a:lnTo>
                        <a:lnTo>
                          <a:pt x="841" y="384"/>
                        </a:lnTo>
                        <a:lnTo>
                          <a:pt x="810" y="403"/>
                        </a:lnTo>
                        <a:lnTo>
                          <a:pt x="784" y="419"/>
                        </a:lnTo>
                        <a:lnTo>
                          <a:pt x="755" y="438"/>
                        </a:lnTo>
                        <a:lnTo>
                          <a:pt x="729" y="460"/>
                        </a:lnTo>
                        <a:lnTo>
                          <a:pt x="703" y="479"/>
                        </a:lnTo>
                        <a:lnTo>
                          <a:pt x="679" y="498"/>
                        </a:lnTo>
                        <a:lnTo>
                          <a:pt x="653" y="517"/>
                        </a:lnTo>
                        <a:lnTo>
                          <a:pt x="627" y="536"/>
                        </a:lnTo>
                        <a:lnTo>
                          <a:pt x="606" y="555"/>
                        </a:lnTo>
                        <a:lnTo>
                          <a:pt x="582" y="572"/>
                        </a:lnTo>
                        <a:lnTo>
                          <a:pt x="561" y="593"/>
                        </a:lnTo>
                        <a:lnTo>
                          <a:pt x="539" y="610"/>
                        </a:lnTo>
                        <a:lnTo>
                          <a:pt x="520" y="626"/>
                        </a:lnTo>
                        <a:lnTo>
                          <a:pt x="501" y="643"/>
                        </a:lnTo>
                        <a:lnTo>
                          <a:pt x="482" y="660"/>
                        </a:lnTo>
                        <a:lnTo>
                          <a:pt x="466" y="676"/>
                        </a:lnTo>
                        <a:lnTo>
                          <a:pt x="437" y="703"/>
                        </a:lnTo>
                        <a:lnTo>
                          <a:pt x="413" y="724"/>
                        </a:lnTo>
                        <a:lnTo>
                          <a:pt x="397" y="743"/>
                        </a:lnTo>
                        <a:lnTo>
                          <a:pt x="380" y="757"/>
                        </a:lnTo>
                        <a:lnTo>
                          <a:pt x="397" y="750"/>
                        </a:lnTo>
                        <a:lnTo>
                          <a:pt x="437" y="734"/>
                        </a:lnTo>
                        <a:lnTo>
                          <a:pt x="506" y="710"/>
                        </a:lnTo>
                        <a:lnTo>
                          <a:pt x="551" y="698"/>
                        </a:lnTo>
                        <a:lnTo>
                          <a:pt x="599" y="684"/>
                        </a:lnTo>
                        <a:lnTo>
                          <a:pt x="717" y="662"/>
                        </a:lnTo>
                        <a:lnTo>
                          <a:pt x="857" y="645"/>
                        </a:lnTo>
                        <a:lnTo>
                          <a:pt x="1199" y="655"/>
                        </a:lnTo>
                        <a:lnTo>
                          <a:pt x="1380" y="691"/>
                        </a:lnTo>
                        <a:lnTo>
                          <a:pt x="1461" y="722"/>
                        </a:lnTo>
                        <a:lnTo>
                          <a:pt x="1499" y="738"/>
                        </a:lnTo>
                        <a:lnTo>
                          <a:pt x="1537" y="757"/>
                        </a:lnTo>
                        <a:lnTo>
                          <a:pt x="1572" y="776"/>
                        </a:lnTo>
                        <a:lnTo>
                          <a:pt x="1608" y="798"/>
                        </a:lnTo>
                        <a:lnTo>
                          <a:pt x="1641" y="819"/>
                        </a:lnTo>
                        <a:lnTo>
                          <a:pt x="1672" y="843"/>
                        </a:lnTo>
                        <a:lnTo>
                          <a:pt x="1703" y="867"/>
                        </a:lnTo>
                        <a:lnTo>
                          <a:pt x="1734" y="891"/>
                        </a:lnTo>
                        <a:lnTo>
                          <a:pt x="1760" y="917"/>
                        </a:lnTo>
                        <a:lnTo>
                          <a:pt x="1788" y="941"/>
                        </a:lnTo>
                        <a:lnTo>
                          <a:pt x="1812" y="967"/>
                        </a:lnTo>
                        <a:lnTo>
                          <a:pt x="1836" y="993"/>
                        </a:lnTo>
                        <a:lnTo>
                          <a:pt x="1857" y="1019"/>
                        </a:lnTo>
                        <a:lnTo>
                          <a:pt x="1878" y="1046"/>
                        </a:lnTo>
                        <a:lnTo>
                          <a:pt x="1900" y="1072"/>
                        </a:lnTo>
                        <a:lnTo>
                          <a:pt x="1919" y="1096"/>
                        </a:lnTo>
                        <a:lnTo>
                          <a:pt x="1952" y="1146"/>
                        </a:lnTo>
                        <a:lnTo>
                          <a:pt x="2002" y="1236"/>
                        </a:lnTo>
                        <a:lnTo>
                          <a:pt x="2035" y="1308"/>
                        </a:lnTo>
                        <a:lnTo>
                          <a:pt x="2054" y="1365"/>
                        </a:lnTo>
                        <a:lnTo>
                          <a:pt x="2068" y="1417"/>
                        </a:lnTo>
                        <a:lnTo>
                          <a:pt x="2095" y="1503"/>
                        </a:lnTo>
                        <a:lnTo>
                          <a:pt x="2114" y="1579"/>
                        </a:lnTo>
                        <a:lnTo>
                          <a:pt x="2059" y="1596"/>
                        </a:lnTo>
                        <a:lnTo>
                          <a:pt x="2049" y="1572"/>
                        </a:lnTo>
                        <a:lnTo>
                          <a:pt x="2028" y="1503"/>
                        </a:lnTo>
                        <a:lnTo>
                          <a:pt x="2009" y="1458"/>
                        </a:lnTo>
                        <a:lnTo>
                          <a:pt x="1988" y="1408"/>
                        </a:lnTo>
                        <a:lnTo>
                          <a:pt x="1959" y="1350"/>
                        </a:lnTo>
                        <a:lnTo>
                          <a:pt x="1928" y="1291"/>
                        </a:lnTo>
                        <a:lnTo>
                          <a:pt x="1888" y="1231"/>
                        </a:lnTo>
                        <a:lnTo>
                          <a:pt x="1845" y="1169"/>
                        </a:lnTo>
                        <a:lnTo>
                          <a:pt x="1833" y="1153"/>
                        </a:lnTo>
                        <a:lnTo>
                          <a:pt x="1821" y="1138"/>
                        </a:lnTo>
                        <a:lnTo>
                          <a:pt x="1810" y="1122"/>
                        </a:lnTo>
                        <a:lnTo>
                          <a:pt x="1798" y="1107"/>
                        </a:lnTo>
                        <a:lnTo>
                          <a:pt x="1772" y="1079"/>
                        </a:lnTo>
                        <a:lnTo>
                          <a:pt x="1757" y="1065"/>
                        </a:lnTo>
                        <a:lnTo>
                          <a:pt x="1743" y="1050"/>
                        </a:lnTo>
                        <a:lnTo>
                          <a:pt x="1712" y="1022"/>
                        </a:lnTo>
                        <a:lnTo>
                          <a:pt x="1681" y="996"/>
                        </a:lnTo>
                        <a:lnTo>
                          <a:pt x="1648" y="969"/>
                        </a:lnTo>
                        <a:lnTo>
                          <a:pt x="1615" y="946"/>
                        </a:lnTo>
                        <a:lnTo>
                          <a:pt x="1579" y="924"/>
                        </a:lnTo>
                        <a:lnTo>
                          <a:pt x="1541" y="903"/>
                        </a:lnTo>
                        <a:lnTo>
                          <a:pt x="1503" y="884"/>
                        </a:lnTo>
                        <a:lnTo>
                          <a:pt x="1461" y="869"/>
                        </a:lnTo>
                        <a:lnTo>
                          <a:pt x="1420" y="855"/>
                        </a:lnTo>
                        <a:lnTo>
                          <a:pt x="1377" y="843"/>
                        </a:lnTo>
                        <a:lnTo>
                          <a:pt x="1292" y="822"/>
                        </a:lnTo>
                        <a:lnTo>
                          <a:pt x="1206" y="807"/>
                        </a:lnTo>
                        <a:lnTo>
                          <a:pt x="1119" y="798"/>
                        </a:lnTo>
                        <a:lnTo>
                          <a:pt x="950" y="793"/>
                        </a:lnTo>
                        <a:lnTo>
                          <a:pt x="791" y="803"/>
                        </a:lnTo>
                        <a:lnTo>
                          <a:pt x="532" y="843"/>
                        </a:lnTo>
                        <a:lnTo>
                          <a:pt x="442" y="867"/>
                        </a:lnTo>
                        <a:lnTo>
                          <a:pt x="390" y="884"/>
                        </a:lnTo>
                        <a:lnTo>
                          <a:pt x="354" y="907"/>
                        </a:lnTo>
                        <a:lnTo>
                          <a:pt x="333" y="924"/>
                        </a:lnTo>
                        <a:lnTo>
                          <a:pt x="311" y="941"/>
                        </a:lnTo>
                        <a:lnTo>
                          <a:pt x="288" y="962"/>
                        </a:lnTo>
                        <a:lnTo>
                          <a:pt x="266" y="984"/>
                        </a:lnTo>
                        <a:lnTo>
                          <a:pt x="242" y="1005"/>
                        </a:lnTo>
                        <a:lnTo>
                          <a:pt x="221" y="1027"/>
                        </a:lnTo>
                        <a:lnTo>
                          <a:pt x="200" y="1050"/>
                        </a:lnTo>
                        <a:lnTo>
                          <a:pt x="183" y="1069"/>
                        </a:lnTo>
                        <a:lnTo>
                          <a:pt x="164" y="1088"/>
                        </a:lnTo>
                        <a:lnTo>
                          <a:pt x="150" y="1105"/>
                        </a:lnTo>
                        <a:lnTo>
                          <a:pt x="129" y="1131"/>
                        </a:lnTo>
                        <a:lnTo>
                          <a:pt x="119" y="1141"/>
                        </a:lnTo>
                        <a:lnTo>
                          <a:pt x="0" y="1100"/>
                        </a:lnTo>
                        <a:lnTo>
                          <a:pt x="0" y="110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flipH="1">
                    <a:off x="1792440" y="1245960"/>
                    <a:ext cx="386640" cy="278640"/>
                  </a:xfrm>
                  <a:custGeom>
                    <a:avLst/>
                    <a:gdLst/>
                    <a:ahLst/>
                    <a:rect l="l" t="t" r="r" b="b"/>
                    <a:pathLst>
                      <a:path w="3462" h="2819">
                        <a:moveTo>
                          <a:pt x="1869" y="450"/>
                        </a:moveTo>
                        <a:lnTo>
                          <a:pt x="1833" y="448"/>
                        </a:lnTo>
                        <a:lnTo>
                          <a:pt x="1802" y="438"/>
                        </a:lnTo>
                        <a:lnTo>
                          <a:pt x="1769" y="431"/>
                        </a:lnTo>
                        <a:lnTo>
                          <a:pt x="1741" y="414"/>
                        </a:lnTo>
                        <a:lnTo>
                          <a:pt x="1703" y="383"/>
                        </a:lnTo>
                        <a:lnTo>
                          <a:pt x="1674" y="343"/>
                        </a:lnTo>
                        <a:lnTo>
                          <a:pt x="1655" y="295"/>
                        </a:lnTo>
                        <a:lnTo>
                          <a:pt x="1648" y="231"/>
                        </a:lnTo>
                        <a:lnTo>
                          <a:pt x="1660" y="152"/>
                        </a:lnTo>
                        <a:lnTo>
                          <a:pt x="1677" y="112"/>
                        </a:lnTo>
                        <a:lnTo>
                          <a:pt x="1705" y="74"/>
                        </a:lnTo>
                        <a:lnTo>
                          <a:pt x="1722" y="55"/>
                        </a:lnTo>
                        <a:lnTo>
                          <a:pt x="1743" y="38"/>
                        </a:lnTo>
                        <a:lnTo>
                          <a:pt x="1767" y="24"/>
                        </a:lnTo>
                        <a:lnTo>
                          <a:pt x="1795" y="12"/>
                        </a:lnTo>
                        <a:lnTo>
                          <a:pt x="1864" y="0"/>
                        </a:lnTo>
                        <a:lnTo>
                          <a:pt x="1940" y="5"/>
                        </a:lnTo>
                        <a:lnTo>
                          <a:pt x="2014" y="26"/>
                        </a:lnTo>
                        <a:lnTo>
                          <a:pt x="2064" y="50"/>
                        </a:lnTo>
                        <a:lnTo>
                          <a:pt x="2087" y="78"/>
                        </a:lnTo>
                        <a:lnTo>
                          <a:pt x="2123" y="145"/>
                        </a:lnTo>
                        <a:lnTo>
                          <a:pt x="2142" y="219"/>
                        </a:lnTo>
                        <a:lnTo>
                          <a:pt x="2149" y="352"/>
                        </a:lnTo>
                        <a:lnTo>
                          <a:pt x="2147" y="414"/>
                        </a:lnTo>
                        <a:lnTo>
                          <a:pt x="2159" y="424"/>
                        </a:lnTo>
                        <a:lnTo>
                          <a:pt x="2197" y="450"/>
                        </a:lnTo>
                        <a:lnTo>
                          <a:pt x="2227" y="469"/>
                        </a:lnTo>
                        <a:lnTo>
                          <a:pt x="2261" y="493"/>
                        </a:lnTo>
                        <a:lnTo>
                          <a:pt x="2280" y="507"/>
                        </a:lnTo>
                        <a:lnTo>
                          <a:pt x="2301" y="524"/>
                        </a:lnTo>
                        <a:lnTo>
                          <a:pt x="2322" y="540"/>
                        </a:lnTo>
                        <a:lnTo>
                          <a:pt x="2346" y="557"/>
                        </a:lnTo>
                        <a:lnTo>
                          <a:pt x="2370" y="576"/>
                        </a:lnTo>
                        <a:lnTo>
                          <a:pt x="2396" y="595"/>
                        </a:lnTo>
                        <a:lnTo>
                          <a:pt x="2422" y="617"/>
                        </a:lnTo>
                        <a:lnTo>
                          <a:pt x="2451" y="638"/>
                        </a:lnTo>
                        <a:lnTo>
                          <a:pt x="2479" y="662"/>
                        </a:lnTo>
                        <a:lnTo>
                          <a:pt x="2508" y="686"/>
                        </a:lnTo>
                        <a:lnTo>
                          <a:pt x="2541" y="712"/>
                        </a:lnTo>
                        <a:lnTo>
                          <a:pt x="2572" y="738"/>
                        </a:lnTo>
                        <a:lnTo>
                          <a:pt x="2605" y="764"/>
                        </a:lnTo>
                        <a:lnTo>
                          <a:pt x="2624" y="779"/>
                        </a:lnTo>
                        <a:lnTo>
                          <a:pt x="2641" y="793"/>
                        </a:lnTo>
                        <a:lnTo>
                          <a:pt x="2657" y="810"/>
                        </a:lnTo>
                        <a:lnTo>
                          <a:pt x="2674" y="824"/>
                        </a:lnTo>
                        <a:lnTo>
                          <a:pt x="2693" y="838"/>
                        </a:lnTo>
                        <a:lnTo>
                          <a:pt x="2709" y="855"/>
                        </a:lnTo>
                        <a:lnTo>
                          <a:pt x="2728" y="869"/>
                        </a:lnTo>
                        <a:lnTo>
                          <a:pt x="2747" y="886"/>
                        </a:lnTo>
                        <a:lnTo>
                          <a:pt x="2766" y="902"/>
                        </a:lnTo>
                        <a:lnTo>
                          <a:pt x="2785" y="919"/>
                        </a:lnTo>
                        <a:lnTo>
                          <a:pt x="2804" y="936"/>
                        </a:lnTo>
                        <a:lnTo>
                          <a:pt x="2821" y="952"/>
                        </a:lnTo>
                        <a:lnTo>
                          <a:pt x="2842" y="969"/>
                        </a:lnTo>
                        <a:lnTo>
                          <a:pt x="2861" y="988"/>
                        </a:lnTo>
                        <a:lnTo>
                          <a:pt x="2880" y="1007"/>
                        </a:lnTo>
                        <a:lnTo>
                          <a:pt x="2899" y="1024"/>
                        </a:lnTo>
                        <a:lnTo>
                          <a:pt x="2918" y="1043"/>
                        </a:lnTo>
                        <a:lnTo>
                          <a:pt x="2940" y="1060"/>
                        </a:lnTo>
                        <a:lnTo>
                          <a:pt x="2956" y="1079"/>
                        </a:lnTo>
                        <a:lnTo>
                          <a:pt x="2975" y="1098"/>
                        </a:lnTo>
                        <a:lnTo>
                          <a:pt x="2994" y="1117"/>
                        </a:lnTo>
                        <a:lnTo>
                          <a:pt x="3013" y="1136"/>
                        </a:lnTo>
                        <a:lnTo>
                          <a:pt x="3030" y="1152"/>
                        </a:lnTo>
                        <a:lnTo>
                          <a:pt x="3049" y="1171"/>
                        </a:lnTo>
                        <a:lnTo>
                          <a:pt x="3066" y="1188"/>
                        </a:lnTo>
                        <a:lnTo>
                          <a:pt x="3082" y="1207"/>
                        </a:lnTo>
                        <a:lnTo>
                          <a:pt x="3099" y="1226"/>
                        </a:lnTo>
                        <a:lnTo>
                          <a:pt x="3116" y="1243"/>
                        </a:lnTo>
                        <a:lnTo>
                          <a:pt x="3132" y="1262"/>
                        </a:lnTo>
                        <a:lnTo>
                          <a:pt x="3151" y="1281"/>
                        </a:lnTo>
                        <a:lnTo>
                          <a:pt x="3165" y="1300"/>
                        </a:lnTo>
                        <a:lnTo>
                          <a:pt x="3182" y="1317"/>
                        </a:lnTo>
                        <a:lnTo>
                          <a:pt x="3196" y="1336"/>
                        </a:lnTo>
                        <a:lnTo>
                          <a:pt x="3210" y="1355"/>
                        </a:lnTo>
                        <a:lnTo>
                          <a:pt x="3227" y="1374"/>
                        </a:lnTo>
                        <a:lnTo>
                          <a:pt x="3241" y="1391"/>
                        </a:lnTo>
                        <a:lnTo>
                          <a:pt x="3253" y="1410"/>
                        </a:lnTo>
                        <a:lnTo>
                          <a:pt x="3267" y="1429"/>
                        </a:lnTo>
                        <a:lnTo>
                          <a:pt x="3317" y="1500"/>
                        </a:lnTo>
                        <a:lnTo>
                          <a:pt x="3362" y="1572"/>
                        </a:lnTo>
                        <a:lnTo>
                          <a:pt x="3398" y="1643"/>
                        </a:lnTo>
                        <a:lnTo>
                          <a:pt x="3429" y="1710"/>
                        </a:lnTo>
                        <a:lnTo>
                          <a:pt x="3462" y="1843"/>
                        </a:lnTo>
                        <a:lnTo>
                          <a:pt x="3462" y="1964"/>
                        </a:lnTo>
                        <a:lnTo>
                          <a:pt x="3446" y="2022"/>
                        </a:lnTo>
                        <a:lnTo>
                          <a:pt x="3419" y="2076"/>
                        </a:lnTo>
                        <a:lnTo>
                          <a:pt x="3384" y="2122"/>
                        </a:lnTo>
                        <a:lnTo>
                          <a:pt x="3367" y="2141"/>
                        </a:lnTo>
                        <a:lnTo>
                          <a:pt x="3348" y="2157"/>
                        </a:lnTo>
                        <a:lnTo>
                          <a:pt x="3329" y="2172"/>
                        </a:lnTo>
                        <a:lnTo>
                          <a:pt x="3310" y="2184"/>
                        </a:lnTo>
                        <a:lnTo>
                          <a:pt x="3270" y="2205"/>
                        </a:lnTo>
                        <a:lnTo>
                          <a:pt x="3232" y="2217"/>
                        </a:lnTo>
                        <a:lnTo>
                          <a:pt x="3194" y="2222"/>
                        </a:lnTo>
                        <a:lnTo>
                          <a:pt x="3116" y="2219"/>
                        </a:lnTo>
                        <a:lnTo>
                          <a:pt x="2994" y="2181"/>
                        </a:lnTo>
                        <a:lnTo>
                          <a:pt x="2959" y="2162"/>
                        </a:lnTo>
                        <a:lnTo>
                          <a:pt x="2945" y="2155"/>
                        </a:lnTo>
                        <a:lnTo>
                          <a:pt x="2757" y="1953"/>
                        </a:lnTo>
                        <a:lnTo>
                          <a:pt x="1983" y="669"/>
                        </a:lnTo>
                        <a:lnTo>
                          <a:pt x="2002" y="543"/>
                        </a:lnTo>
                        <a:lnTo>
                          <a:pt x="2040" y="600"/>
                        </a:lnTo>
                        <a:lnTo>
                          <a:pt x="2083" y="667"/>
                        </a:lnTo>
                        <a:lnTo>
                          <a:pt x="2109" y="707"/>
                        </a:lnTo>
                        <a:lnTo>
                          <a:pt x="2137" y="752"/>
                        </a:lnTo>
                        <a:lnTo>
                          <a:pt x="2171" y="800"/>
                        </a:lnTo>
                        <a:lnTo>
                          <a:pt x="2204" y="852"/>
                        </a:lnTo>
                        <a:lnTo>
                          <a:pt x="2242" y="910"/>
                        </a:lnTo>
                        <a:lnTo>
                          <a:pt x="2280" y="967"/>
                        </a:lnTo>
                        <a:lnTo>
                          <a:pt x="2320" y="1026"/>
                        </a:lnTo>
                        <a:lnTo>
                          <a:pt x="2360" y="1088"/>
                        </a:lnTo>
                        <a:lnTo>
                          <a:pt x="2406" y="1152"/>
                        </a:lnTo>
                        <a:lnTo>
                          <a:pt x="2448" y="1214"/>
                        </a:lnTo>
                        <a:lnTo>
                          <a:pt x="2491" y="1279"/>
                        </a:lnTo>
                        <a:lnTo>
                          <a:pt x="2534" y="1343"/>
                        </a:lnTo>
                        <a:lnTo>
                          <a:pt x="2579" y="1405"/>
                        </a:lnTo>
                        <a:lnTo>
                          <a:pt x="2619" y="1469"/>
                        </a:lnTo>
                        <a:lnTo>
                          <a:pt x="2662" y="1529"/>
                        </a:lnTo>
                        <a:lnTo>
                          <a:pt x="2702" y="1586"/>
                        </a:lnTo>
                        <a:lnTo>
                          <a:pt x="2743" y="1641"/>
                        </a:lnTo>
                        <a:lnTo>
                          <a:pt x="2781" y="1693"/>
                        </a:lnTo>
                        <a:lnTo>
                          <a:pt x="2819" y="1743"/>
                        </a:lnTo>
                        <a:lnTo>
                          <a:pt x="2835" y="1764"/>
                        </a:lnTo>
                        <a:lnTo>
                          <a:pt x="2852" y="1786"/>
                        </a:lnTo>
                        <a:lnTo>
                          <a:pt x="2869" y="1807"/>
                        </a:lnTo>
                        <a:lnTo>
                          <a:pt x="2883" y="1826"/>
                        </a:lnTo>
                        <a:lnTo>
                          <a:pt x="2897" y="1845"/>
                        </a:lnTo>
                        <a:lnTo>
                          <a:pt x="2911" y="1862"/>
                        </a:lnTo>
                        <a:lnTo>
                          <a:pt x="2923" y="1876"/>
                        </a:lnTo>
                        <a:lnTo>
                          <a:pt x="2937" y="1891"/>
                        </a:lnTo>
                        <a:lnTo>
                          <a:pt x="2959" y="1914"/>
                        </a:lnTo>
                        <a:lnTo>
                          <a:pt x="2978" y="1931"/>
                        </a:lnTo>
                        <a:lnTo>
                          <a:pt x="2992" y="1943"/>
                        </a:lnTo>
                        <a:lnTo>
                          <a:pt x="3042" y="1964"/>
                        </a:lnTo>
                        <a:lnTo>
                          <a:pt x="3097" y="1976"/>
                        </a:lnTo>
                        <a:lnTo>
                          <a:pt x="3194" y="1969"/>
                        </a:lnTo>
                        <a:lnTo>
                          <a:pt x="3234" y="1948"/>
                        </a:lnTo>
                        <a:lnTo>
                          <a:pt x="3267" y="1910"/>
                        </a:lnTo>
                        <a:lnTo>
                          <a:pt x="3286" y="1860"/>
                        </a:lnTo>
                        <a:lnTo>
                          <a:pt x="3291" y="1791"/>
                        </a:lnTo>
                        <a:lnTo>
                          <a:pt x="3277" y="1743"/>
                        </a:lnTo>
                        <a:lnTo>
                          <a:pt x="3234" y="1674"/>
                        </a:lnTo>
                        <a:lnTo>
                          <a:pt x="3206" y="1633"/>
                        </a:lnTo>
                        <a:lnTo>
                          <a:pt x="3189" y="1614"/>
                        </a:lnTo>
                        <a:lnTo>
                          <a:pt x="3172" y="1591"/>
                        </a:lnTo>
                        <a:lnTo>
                          <a:pt x="3154" y="1567"/>
                        </a:lnTo>
                        <a:lnTo>
                          <a:pt x="3132" y="1543"/>
                        </a:lnTo>
                        <a:lnTo>
                          <a:pt x="3111" y="1519"/>
                        </a:lnTo>
                        <a:lnTo>
                          <a:pt x="3089" y="1493"/>
                        </a:lnTo>
                        <a:lnTo>
                          <a:pt x="3066" y="1469"/>
                        </a:lnTo>
                        <a:lnTo>
                          <a:pt x="3042" y="1441"/>
                        </a:lnTo>
                        <a:lnTo>
                          <a:pt x="3018" y="1414"/>
                        </a:lnTo>
                        <a:lnTo>
                          <a:pt x="2992" y="1388"/>
                        </a:lnTo>
                        <a:lnTo>
                          <a:pt x="2968" y="1360"/>
                        </a:lnTo>
                        <a:lnTo>
                          <a:pt x="2954" y="1345"/>
                        </a:lnTo>
                        <a:lnTo>
                          <a:pt x="2940" y="1331"/>
                        </a:lnTo>
                        <a:lnTo>
                          <a:pt x="2926" y="1317"/>
                        </a:lnTo>
                        <a:lnTo>
                          <a:pt x="2914" y="1302"/>
                        </a:lnTo>
                        <a:lnTo>
                          <a:pt x="2899" y="1288"/>
                        </a:lnTo>
                        <a:lnTo>
                          <a:pt x="2885" y="1274"/>
                        </a:lnTo>
                        <a:lnTo>
                          <a:pt x="2871" y="1260"/>
                        </a:lnTo>
                        <a:lnTo>
                          <a:pt x="2857" y="1245"/>
                        </a:lnTo>
                        <a:lnTo>
                          <a:pt x="2842" y="1231"/>
                        </a:lnTo>
                        <a:lnTo>
                          <a:pt x="2828" y="1214"/>
                        </a:lnTo>
                        <a:lnTo>
                          <a:pt x="2814" y="1202"/>
                        </a:lnTo>
                        <a:lnTo>
                          <a:pt x="2800" y="1186"/>
                        </a:lnTo>
                        <a:lnTo>
                          <a:pt x="2785" y="1171"/>
                        </a:lnTo>
                        <a:lnTo>
                          <a:pt x="2769" y="1157"/>
                        </a:lnTo>
                        <a:lnTo>
                          <a:pt x="2755" y="1143"/>
                        </a:lnTo>
                        <a:lnTo>
                          <a:pt x="2740" y="1129"/>
                        </a:lnTo>
                        <a:lnTo>
                          <a:pt x="2726" y="1112"/>
                        </a:lnTo>
                        <a:lnTo>
                          <a:pt x="2712" y="1098"/>
                        </a:lnTo>
                        <a:lnTo>
                          <a:pt x="2698" y="1083"/>
                        </a:lnTo>
                        <a:lnTo>
                          <a:pt x="2681" y="1069"/>
                        </a:lnTo>
                        <a:lnTo>
                          <a:pt x="2667" y="1055"/>
                        </a:lnTo>
                        <a:lnTo>
                          <a:pt x="2653" y="1041"/>
                        </a:lnTo>
                        <a:lnTo>
                          <a:pt x="2636" y="1026"/>
                        </a:lnTo>
                        <a:lnTo>
                          <a:pt x="2622" y="1010"/>
                        </a:lnTo>
                        <a:lnTo>
                          <a:pt x="2607" y="998"/>
                        </a:lnTo>
                        <a:lnTo>
                          <a:pt x="2593" y="983"/>
                        </a:lnTo>
                        <a:lnTo>
                          <a:pt x="2562" y="952"/>
                        </a:lnTo>
                        <a:lnTo>
                          <a:pt x="2548" y="938"/>
                        </a:lnTo>
                        <a:lnTo>
                          <a:pt x="2531" y="924"/>
                        </a:lnTo>
                        <a:lnTo>
                          <a:pt x="2503" y="898"/>
                        </a:lnTo>
                        <a:lnTo>
                          <a:pt x="2474" y="869"/>
                        </a:lnTo>
                        <a:lnTo>
                          <a:pt x="2446" y="843"/>
                        </a:lnTo>
                        <a:lnTo>
                          <a:pt x="2417" y="814"/>
                        </a:lnTo>
                        <a:lnTo>
                          <a:pt x="2391" y="788"/>
                        </a:lnTo>
                        <a:lnTo>
                          <a:pt x="2363" y="764"/>
                        </a:lnTo>
                        <a:lnTo>
                          <a:pt x="2337" y="738"/>
                        </a:lnTo>
                        <a:lnTo>
                          <a:pt x="2311" y="714"/>
                        </a:lnTo>
                        <a:lnTo>
                          <a:pt x="2287" y="690"/>
                        </a:lnTo>
                        <a:lnTo>
                          <a:pt x="2261" y="669"/>
                        </a:lnTo>
                        <a:lnTo>
                          <a:pt x="2237" y="645"/>
                        </a:lnTo>
                        <a:lnTo>
                          <a:pt x="2216" y="624"/>
                        </a:lnTo>
                        <a:lnTo>
                          <a:pt x="2192" y="605"/>
                        </a:lnTo>
                        <a:lnTo>
                          <a:pt x="2173" y="586"/>
                        </a:lnTo>
                        <a:lnTo>
                          <a:pt x="2152" y="567"/>
                        </a:lnTo>
                        <a:lnTo>
                          <a:pt x="2133" y="550"/>
                        </a:lnTo>
                        <a:lnTo>
                          <a:pt x="2116" y="533"/>
                        </a:lnTo>
                        <a:lnTo>
                          <a:pt x="2099" y="519"/>
                        </a:lnTo>
                        <a:lnTo>
                          <a:pt x="2071" y="490"/>
                        </a:lnTo>
                        <a:lnTo>
                          <a:pt x="2049" y="469"/>
                        </a:lnTo>
                        <a:lnTo>
                          <a:pt x="2030" y="455"/>
                        </a:lnTo>
                        <a:lnTo>
                          <a:pt x="2016" y="443"/>
                        </a:lnTo>
                        <a:lnTo>
                          <a:pt x="2035" y="340"/>
                        </a:lnTo>
                        <a:lnTo>
                          <a:pt x="2028" y="255"/>
                        </a:lnTo>
                        <a:lnTo>
                          <a:pt x="2011" y="214"/>
                        </a:lnTo>
                        <a:lnTo>
                          <a:pt x="2000" y="195"/>
                        </a:lnTo>
                        <a:lnTo>
                          <a:pt x="1983" y="178"/>
                        </a:lnTo>
                        <a:lnTo>
                          <a:pt x="1964" y="164"/>
                        </a:lnTo>
                        <a:lnTo>
                          <a:pt x="1947" y="157"/>
                        </a:lnTo>
                        <a:lnTo>
                          <a:pt x="1900" y="145"/>
                        </a:lnTo>
                        <a:lnTo>
                          <a:pt x="1859" y="155"/>
                        </a:lnTo>
                        <a:lnTo>
                          <a:pt x="1829" y="181"/>
                        </a:lnTo>
                        <a:lnTo>
                          <a:pt x="1814" y="209"/>
                        </a:lnTo>
                        <a:lnTo>
                          <a:pt x="1814" y="236"/>
                        </a:lnTo>
                        <a:lnTo>
                          <a:pt x="1817" y="271"/>
                        </a:lnTo>
                        <a:lnTo>
                          <a:pt x="1836" y="300"/>
                        </a:lnTo>
                        <a:lnTo>
                          <a:pt x="1869" y="324"/>
                        </a:lnTo>
                        <a:lnTo>
                          <a:pt x="1909" y="326"/>
                        </a:lnTo>
                        <a:lnTo>
                          <a:pt x="1976" y="317"/>
                        </a:lnTo>
                        <a:lnTo>
                          <a:pt x="1957" y="400"/>
                        </a:lnTo>
                        <a:lnTo>
                          <a:pt x="1938" y="479"/>
                        </a:lnTo>
                        <a:lnTo>
                          <a:pt x="1921" y="559"/>
                        </a:lnTo>
                        <a:lnTo>
                          <a:pt x="1905" y="640"/>
                        </a:lnTo>
                        <a:lnTo>
                          <a:pt x="1886" y="721"/>
                        </a:lnTo>
                        <a:lnTo>
                          <a:pt x="1871" y="800"/>
                        </a:lnTo>
                        <a:lnTo>
                          <a:pt x="1836" y="962"/>
                        </a:lnTo>
                        <a:lnTo>
                          <a:pt x="1807" y="1121"/>
                        </a:lnTo>
                        <a:lnTo>
                          <a:pt x="1779" y="1279"/>
                        </a:lnTo>
                        <a:lnTo>
                          <a:pt x="1753" y="1438"/>
                        </a:lnTo>
                        <a:lnTo>
                          <a:pt x="1726" y="1598"/>
                        </a:lnTo>
                        <a:lnTo>
                          <a:pt x="1703" y="1753"/>
                        </a:lnTo>
                        <a:lnTo>
                          <a:pt x="1681" y="1910"/>
                        </a:lnTo>
                        <a:lnTo>
                          <a:pt x="1658" y="2064"/>
                        </a:lnTo>
                        <a:lnTo>
                          <a:pt x="1639" y="2217"/>
                        </a:lnTo>
                        <a:lnTo>
                          <a:pt x="1605" y="2522"/>
                        </a:lnTo>
                        <a:lnTo>
                          <a:pt x="1579" y="2819"/>
                        </a:lnTo>
                        <a:lnTo>
                          <a:pt x="0" y="2819"/>
                        </a:lnTo>
                        <a:lnTo>
                          <a:pt x="0" y="2574"/>
                        </a:lnTo>
                        <a:lnTo>
                          <a:pt x="1252" y="2569"/>
                        </a:lnTo>
                        <a:lnTo>
                          <a:pt x="1176" y="2419"/>
                        </a:lnTo>
                        <a:lnTo>
                          <a:pt x="1356" y="2119"/>
                        </a:lnTo>
                        <a:lnTo>
                          <a:pt x="1263" y="2007"/>
                        </a:lnTo>
                        <a:lnTo>
                          <a:pt x="1434" y="1676"/>
                        </a:lnTo>
                        <a:lnTo>
                          <a:pt x="1304" y="1512"/>
                        </a:lnTo>
                        <a:lnTo>
                          <a:pt x="1546" y="1222"/>
                        </a:lnTo>
                        <a:lnTo>
                          <a:pt x="1430" y="1105"/>
                        </a:lnTo>
                        <a:lnTo>
                          <a:pt x="1641" y="848"/>
                        </a:lnTo>
                        <a:lnTo>
                          <a:pt x="1558" y="757"/>
                        </a:lnTo>
                        <a:lnTo>
                          <a:pt x="1726" y="490"/>
                        </a:lnTo>
                        <a:lnTo>
                          <a:pt x="1798" y="514"/>
                        </a:lnTo>
                        <a:lnTo>
                          <a:pt x="1686" y="719"/>
                        </a:lnTo>
                        <a:lnTo>
                          <a:pt x="1753" y="824"/>
                        </a:lnTo>
                        <a:lnTo>
                          <a:pt x="1558" y="1105"/>
                        </a:lnTo>
                        <a:lnTo>
                          <a:pt x="1655" y="1233"/>
                        </a:lnTo>
                        <a:lnTo>
                          <a:pt x="1423" y="1491"/>
                        </a:lnTo>
                        <a:lnTo>
                          <a:pt x="1563" y="1676"/>
                        </a:lnTo>
                        <a:lnTo>
                          <a:pt x="1396" y="1972"/>
                        </a:lnTo>
                        <a:lnTo>
                          <a:pt x="1496" y="2115"/>
                        </a:lnTo>
                        <a:lnTo>
                          <a:pt x="1318" y="2398"/>
                        </a:lnTo>
                        <a:lnTo>
                          <a:pt x="1404" y="2562"/>
                        </a:lnTo>
                        <a:lnTo>
                          <a:pt x="1461" y="2619"/>
                        </a:lnTo>
                        <a:lnTo>
                          <a:pt x="1477" y="2472"/>
                        </a:lnTo>
                        <a:lnTo>
                          <a:pt x="1496" y="2326"/>
                        </a:lnTo>
                        <a:lnTo>
                          <a:pt x="1515" y="2186"/>
                        </a:lnTo>
                        <a:lnTo>
                          <a:pt x="1537" y="2050"/>
                        </a:lnTo>
                        <a:lnTo>
                          <a:pt x="1558" y="1917"/>
                        </a:lnTo>
                        <a:lnTo>
                          <a:pt x="1579" y="1786"/>
                        </a:lnTo>
                        <a:lnTo>
                          <a:pt x="1603" y="1655"/>
                        </a:lnTo>
                        <a:lnTo>
                          <a:pt x="1627" y="1526"/>
                        </a:lnTo>
                        <a:lnTo>
                          <a:pt x="1651" y="1395"/>
                        </a:lnTo>
                        <a:lnTo>
                          <a:pt x="1679" y="1267"/>
                        </a:lnTo>
                        <a:lnTo>
                          <a:pt x="1708" y="1138"/>
                        </a:lnTo>
                        <a:lnTo>
                          <a:pt x="1736" y="1005"/>
                        </a:lnTo>
                        <a:lnTo>
                          <a:pt x="1767" y="871"/>
                        </a:lnTo>
                        <a:lnTo>
                          <a:pt x="1798" y="733"/>
                        </a:lnTo>
                        <a:lnTo>
                          <a:pt x="1814" y="664"/>
                        </a:lnTo>
                        <a:lnTo>
                          <a:pt x="1831" y="593"/>
                        </a:lnTo>
                        <a:lnTo>
                          <a:pt x="1850" y="524"/>
                        </a:lnTo>
                        <a:lnTo>
                          <a:pt x="1869" y="450"/>
                        </a:lnTo>
                        <a:lnTo>
                          <a:pt x="1869" y="45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flipH="1">
                    <a:off x="1828440" y="1402200"/>
                    <a:ext cx="27000" cy="27000"/>
                  </a:xfrm>
                  <a:custGeom>
                    <a:avLst/>
                    <a:gdLst/>
                    <a:ahLst/>
                    <a:rect l="l" t="t" r="r" b="b"/>
                    <a:pathLst>
                      <a:path w="242" h="274">
                        <a:moveTo>
                          <a:pt x="168" y="0"/>
                        </a:moveTo>
                        <a:lnTo>
                          <a:pt x="156" y="162"/>
                        </a:lnTo>
                        <a:lnTo>
                          <a:pt x="0" y="179"/>
                        </a:lnTo>
                        <a:lnTo>
                          <a:pt x="66" y="274"/>
                        </a:lnTo>
                        <a:lnTo>
                          <a:pt x="230" y="267"/>
                        </a:lnTo>
                        <a:lnTo>
                          <a:pt x="242" y="105"/>
                        </a:lnTo>
                        <a:lnTo>
                          <a:pt x="168" y="0"/>
                        </a:lnTo>
                        <a:lnTo>
                          <a:pt x="168"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7" name=""/>
                  <p:cNvSpPr/>
                  <p:nvPr/>
                </p:nvSpPr>
                <p:spPr>
                  <a:xfrm flipH="1">
                    <a:off x="1847880" y="1382760"/>
                    <a:ext cx="24840" cy="25920"/>
                  </a:xfrm>
                  <a:custGeom>
                    <a:avLst/>
                    <a:gdLst/>
                    <a:ahLst/>
                    <a:rect l="l" t="t" r="r" b="b"/>
                    <a:pathLst>
                      <a:path w="223" h="264">
                        <a:moveTo>
                          <a:pt x="150" y="0"/>
                        </a:moveTo>
                        <a:lnTo>
                          <a:pt x="145" y="129"/>
                        </a:lnTo>
                        <a:lnTo>
                          <a:pt x="0" y="136"/>
                        </a:lnTo>
                        <a:lnTo>
                          <a:pt x="90" y="264"/>
                        </a:lnTo>
                        <a:lnTo>
                          <a:pt x="223" y="233"/>
                        </a:lnTo>
                        <a:lnTo>
                          <a:pt x="223" y="88"/>
                        </a:lnTo>
                        <a:lnTo>
                          <a:pt x="150" y="0"/>
                        </a:lnTo>
                        <a:lnTo>
                          <a:pt x="150" y="0"/>
                        </a:lnTo>
                        <a:close/>
                      </a:path>
                    </a:pathLst>
                  </a:custGeom>
                  <a:solidFill>
                    <a:srgbClr val="b8b8d9"/>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78" name=""/>
                  <p:cNvSpPr/>
                  <p:nvPr/>
                </p:nvSpPr>
                <p:spPr>
                  <a:xfrm flipH="1">
                    <a:off x="1868040" y="1365840"/>
                    <a:ext cx="19440" cy="22680"/>
                  </a:xfrm>
                  <a:custGeom>
                    <a:avLst/>
                    <a:gdLst/>
                    <a:ahLst/>
                    <a:rect l="l" t="t" r="r" b="b"/>
                    <a:pathLst>
                      <a:path w="176" h="233">
                        <a:moveTo>
                          <a:pt x="95" y="0"/>
                        </a:moveTo>
                        <a:lnTo>
                          <a:pt x="95" y="121"/>
                        </a:lnTo>
                        <a:lnTo>
                          <a:pt x="0" y="136"/>
                        </a:lnTo>
                        <a:lnTo>
                          <a:pt x="64" y="233"/>
                        </a:lnTo>
                        <a:lnTo>
                          <a:pt x="176" y="193"/>
                        </a:lnTo>
                        <a:lnTo>
                          <a:pt x="176" y="81"/>
                        </a:lnTo>
                        <a:lnTo>
                          <a:pt x="95" y="0"/>
                        </a:lnTo>
                        <a:lnTo>
                          <a:pt x="95" y="0"/>
                        </a:lnTo>
                        <a:close/>
                      </a:path>
                    </a:pathLst>
                  </a:custGeom>
                  <a:solidFill>
                    <a:srgbClr val="b8b8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79" name=""/>
                  <p:cNvSpPr/>
                  <p:nvPr/>
                </p:nvSpPr>
                <p:spPr>
                  <a:xfrm flipH="1">
                    <a:off x="1884240" y="1320480"/>
                    <a:ext cx="47160" cy="49320"/>
                  </a:xfrm>
                  <a:custGeom>
                    <a:avLst/>
                    <a:gdLst/>
                    <a:ahLst/>
                    <a:rect l="l" t="t" r="r" b="b"/>
                    <a:pathLst>
                      <a:path w="423" h="500">
                        <a:moveTo>
                          <a:pt x="423" y="386"/>
                        </a:moveTo>
                        <a:lnTo>
                          <a:pt x="423" y="491"/>
                        </a:lnTo>
                        <a:lnTo>
                          <a:pt x="318" y="500"/>
                        </a:lnTo>
                        <a:lnTo>
                          <a:pt x="0" y="0"/>
                        </a:lnTo>
                        <a:lnTo>
                          <a:pt x="423" y="386"/>
                        </a:lnTo>
                        <a:lnTo>
                          <a:pt x="423" y="386"/>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80" name=""/>
                  <p:cNvSpPr/>
                  <p:nvPr/>
                </p:nvSpPr>
                <p:spPr>
                  <a:xfrm flipH="1">
                    <a:off x="1594440" y="1337400"/>
                    <a:ext cx="246240" cy="127440"/>
                  </a:xfrm>
                  <a:custGeom>
                    <a:avLst/>
                    <a:gdLst/>
                    <a:ahLst/>
                    <a:rect l="l" t="t" r="r" b="b"/>
                    <a:pathLst>
                      <a:path w="2206" h="1291">
                        <a:moveTo>
                          <a:pt x="1638" y="1098"/>
                        </a:moveTo>
                        <a:lnTo>
                          <a:pt x="1683" y="1105"/>
                        </a:lnTo>
                        <a:lnTo>
                          <a:pt x="1795" y="1112"/>
                        </a:lnTo>
                        <a:lnTo>
                          <a:pt x="1942" y="1088"/>
                        </a:lnTo>
                        <a:lnTo>
                          <a:pt x="2016" y="1057"/>
                        </a:lnTo>
                        <a:lnTo>
                          <a:pt x="2052" y="1036"/>
                        </a:lnTo>
                        <a:lnTo>
                          <a:pt x="2085" y="1007"/>
                        </a:lnTo>
                        <a:lnTo>
                          <a:pt x="2118" y="976"/>
                        </a:lnTo>
                        <a:lnTo>
                          <a:pt x="2144" y="936"/>
                        </a:lnTo>
                        <a:lnTo>
                          <a:pt x="2184" y="840"/>
                        </a:lnTo>
                        <a:lnTo>
                          <a:pt x="2203" y="729"/>
                        </a:lnTo>
                        <a:lnTo>
                          <a:pt x="2206" y="607"/>
                        </a:lnTo>
                        <a:lnTo>
                          <a:pt x="2184" y="478"/>
                        </a:lnTo>
                        <a:lnTo>
                          <a:pt x="2165" y="414"/>
                        </a:lnTo>
                        <a:lnTo>
                          <a:pt x="2142" y="350"/>
                        </a:lnTo>
                        <a:lnTo>
                          <a:pt x="2111" y="288"/>
                        </a:lnTo>
                        <a:lnTo>
                          <a:pt x="2075" y="228"/>
                        </a:lnTo>
                        <a:lnTo>
                          <a:pt x="2033" y="169"/>
                        </a:lnTo>
                        <a:lnTo>
                          <a:pt x="2009" y="143"/>
                        </a:lnTo>
                        <a:lnTo>
                          <a:pt x="1983" y="117"/>
                        </a:lnTo>
                        <a:lnTo>
                          <a:pt x="1959" y="93"/>
                        </a:lnTo>
                        <a:lnTo>
                          <a:pt x="1930" y="71"/>
                        </a:lnTo>
                        <a:lnTo>
                          <a:pt x="1904" y="52"/>
                        </a:lnTo>
                        <a:lnTo>
                          <a:pt x="1876" y="38"/>
                        </a:lnTo>
                        <a:lnTo>
                          <a:pt x="1821" y="14"/>
                        </a:lnTo>
                        <a:lnTo>
                          <a:pt x="1769" y="2"/>
                        </a:lnTo>
                        <a:lnTo>
                          <a:pt x="1660" y="0"/>
                        </a:lnTo>
                        <a:lnTo>
                          <a:pt x="1565" y="21"/>
                        </a:lnTo>
                        <a:lnTo>
                          <a:pt x="1517" y="40"/>
                        </a:lnTo>
                        <a:lnTo>
                          <a:pt x="1477" y="59"/>
                        </a:lnTo>
                        <a:lnTo>
                          <a:pt x="1441" y="76"/>
                        </a:lnTo>
                        <a:lnTo>
                          <a:pt x="1410" y="95"/>
                        </a:lnTo>
                        <a:lnTo>
                          <a:pt x="1384" y="112"/>
                        </a:lnTo>
                        <a:lnTo>
                          <a:pt x="1365" y="126"/>
                        </a:lnTo>
                        <a:lnTo>
                          <a:pt x="1349" y="138"/>
                        </a:lnTo>
                        <a:lnTo>
                          <a:pt x="1361" y="167"/>
                        </a:lnTo>
                        <a:lnTo>
                          <a:pt x="1389" y="240"/>
                        </a:lnTo>
                        <a:lnTo>
                          <a:pt x="1406" y="293"/>
                        </a:lnTo>
                        <a:lnTo>
                          <a:pt x="1422" y="350"/>
                        </a:lnTo>
                        <a:lnTo>
                          <a:pt x="1460" y="481"/>
                        </a:lnTo>
                        <a:lnTo>
                          <a:pt x="1503" y="757"/>
                        </a:lnTo>
                        <a:lnTo>
                          <a:pt x="1496" y="874"/>
                        </a:lnTo>
                        <a:lnTo>
                          <a:pt x="1479" y="921"/>
                        </a:lnTo>
                        <a:lnTo>
                          <a:pt x="1458" y="960"/>
                        </a:lnTo>
                        <a:lnTo>
                          <a:pt x="1444" y="976"/>
                        </a:lnTo>
                        <a:lnTo>
                          <a:pt x="1429" y="993"/>
                        </a:lnTo>
                        <a:lnTo>
                          <a:pt x="1403" y="1021"/>
                        </a:lnTo>
                        <a:lnTo>
                          <a:pt x="1380" y="1048"/>
                        </a:lnTo>
                        <a:lnTo>
                          <a:pt x="1353" y="1071"/>
                        </a:lnTo>
                        <a:lnTo>
                          <a:pt x="1327" y="1090"/>
                        </a:lnTo>
                        <a:lnTo>
                          <a:pt x="1304" y="1107"/>
                        </a:lnTo>
                        <a:lnTo>
                          <a:pt x="1280" y="1119"/>
                        </a:lnTo>
                        <a:lnTo>
                          <a:pt x="1254" y="1131"/>
                        </a:lnTo>
                        <a:lnTo>
                          <a:pt x="1197" y="1136"/>
                        </a:lnTo>
                        <a:lnTo>
                          <a:pt x="1135" y="1119"/>
                        </a:lnTo>
                        <a:lnTo>
                          <a:pt x="1064" y="1086"/>
                        </a:lnTo>
                        <a:lnTo>
                          <a:pt x="1023" y="1062"/>
                        </a:lnTo>
                        <a:lnTo>
                          <a:pt x="1004" y="1048"/>
                        </a:lnTo>
                        <a:lnTo>
                          <a:pt x="978" y="1031"/>
                        </a:lnTo>
                        <a:lnTo>
                          <a:pt x="959" y="1012"/>
                        </a:lnTo>
                        <a:lnTo>
                          <a:pt x="938" y="993"/>
                        </a:lnTo>
                        <a:lnTo>
                          <a:pt x="902" y="940"/>
                        </a:lnTo>
                        <a:lnTo>
                          <a:pt x="874" y="881"/>
                        </a:lnTo>
                        <a:lnTo>
                          <a:pt x="852" y="814"/>
                        </a:lnTo>
                        <a:lnTo>
                          <a:pt x="819" y="667"/>
                        </a:lnTo>
                        <a:lnTo>
                          <a:pt x="803" y="509"/>
                        </a:lnTo>
                        <a:lnTo>
                          <a:pt x="798" y="238"/>
                        </a:lnTo>
                        <a:lnTo>
                          <a:pt x="805" y="121"/>
                        </a:lnTo>
                        <a:lnTo>
                          <a:pt x="0" y="136"/>
                        </a:lnTo>
                        <a:lnTo>
                          <a:pt x="142" y="278"/>
                        </a:lnTo>
                        <a:lnTo>
                          <a:pt x="667" y="274"/>
                        </a:lnTo>
                        <a:lnTo>
                          <a:pt x="643" y="581"/>
                        </a:lnTo>
                        <a:lnTo>
                          <a:pt x="655" y="714"/>
                        </a:lnTo>
                        <a:lnTo>
                          <a:pt x="667" y="783"/>
                        </a:lnTo>
                        <a:lnTo>
                          <a:pt x="684" y="852"/>
                        </a:lnTo>
                        <a:lnTo>
                          <a:pt x="708" y="919"/>
                        </a:lnTo>
                        <a:lnTo>
                          <a:pt x="738" y="986"/>
                        </a:lnTo>
                        <a:lnTo>
                          <a:pt x="774" y="1048"/>
                        </a:lnTo>
                        <a:lnTo>
                          <a:pt x="798" y="1076"/>
                        </a:lnTo>
                        <a:lnTo>
                          <a:pt x="807" y="1090"/>
                        </a:lnTo>
                        <a:lnTo>
                          <a:pt x="822" y="1105"/>
                        </a:lnTo>
                        <a:lnTo>
                          <a:pt x="845" y="1131"/>
                        </a:lnTo>
                        <a:lnTo>
                          <a:pt x="871" y="1155"/>
                        </a:lnTo>
                        <a:lnTo>
                          <a:pt x="895" y="1179"/>
                        </a:lnTo>
                        <a:lnTo>
                          <a:pt x="921" y="1198"/>
                        </a:lnTo>
                        <a:lnTo>
                          <a:pt x="945" y="1214"/>
                        </a:lnTo>
                        <a:lnTo>
                          <a:pt x="971" y="1231"/>
                        </a:lnTo>
                        <a:lnTo>
                          <a:pt x="995" y="1245"/>
                        </a:lnTo>
                        <a:lnTo>
                          <a:pt x="1021" y="1257"/>
                        </a:lnTo>
                        <a:lnTo>
                          <a:pt x="1071" y="1276"/>
                        </a:lnTo>
                        <a:lnTo>
                          <a:pt x="1121" y="1288"/>
                        </a:lnTo>
                        <a:lnTo>
                          <a:pt x="1216" y="1291"/>
                        </a:lnTo>
                        <a:lnTo>
                          <a:pt x="1308" y="1267"/>
                        </a:lnTo>
                        <a:lnTo>
                          <a:pt x="1351" y="1248"/>
                        </a:lnTo>
                        <a:lnTo>
                          <a:pt x="1396" y="1221"/>
                        </a:lnTo>
                        <a:lnTo>
                          <a:pt x="1439" y="1193"/>
                        </a:lnTo>
                        <a:lnTo>
                          <a:pt x="1458" y="1176"/>
                        </a:lnTo>
                        <a:lnTo>
                          <a:pt x="1477" y="1157"/>
                        </a:lnTo>
                        <a:lnTo>
                          <a:pt x="1498" y="1138"/>
                        </a:lnTo>
                        <a:lnTo>
                          <a:pt x="1517" y="1119"/>
                        </a:lnTo>
                        <a:lnTo>
                          <a:pt x="1536" y="1098"/>
                        </a:lnTo>
                        <a:lnTo>
                          <a:pt x="1553" y="1074"/>
                        </a:lnTo>
                        <a:lnTo>
                          <a:pt x="1607" y="967"/>
                        </a:lnTo>
                        <a:lnTo>
                          <a:pt x="1624" y="838"/>
                        </a:lnTo>
                        <a:lnTo>
                          <a:pt x="1617" y="695"/>
                        </a:lnTo>
                        <a:lnTo>
                          <a:pt x="1591" y="552"/>
                        </a:lnTo>
                        <a:lnTo>
                          <a:pt x="1577" y="483"/>
                        </a:lnTo>
                        <a:lnTo>
                          <a:pt x="1558" y="419"/>
                        </a:lnTo>
                        <a:lnTo>
                          <a:pt x="1539" y="362"/>
                        </a:lnTo>
                        <a:lnTo>
                          <a:pt x="1522" y="309"/>
                        </a:lnTo>
                        <a:lnTo>
                          <a:pt x="1496" y="238"/>
                        </a:lnTo>
                        <a:lnTo>
                          <a:pt x="1486" y="209"/>
                        </a:lnTo>
                        <a:lnTo>
                          <a:pt x="1527" y="193"/>
                        </a:lnTo>
                        <a:lnTo>
                          <a:pt x="1572" y="174"/>
                        </a:lnTo>
                        <a:lnTo>
                          <a:pt x="1626" y="159"/>
                        </a:lnTo>
                        <a:lnTo>
                          <a:pt x="1693" y="150"/>
                        </a:lnTo>
                        <a:lnTo>
                          <a:pt x="1762" y="152"/>
                        </a:lnTo>
                        <a:lnTo>
                          <a:pt x="1833" y="167"/>
                        </a:lnTo>
                        <a:lnTo>
                          <a:pt x="1897" y="202"/>
                        </a:lnTo>
                        <a:lnTo>
                          <a:pt x="1997" y="336"/>
                        </a:lnTo>
                        <a:lnTo>
                          <a:pt x="2044" y="526"/>
                        </a:lnTo>
                        <a:lnTo>
                          <a:pt x="2040" y="724"/>
                        </a:lnTo>
                        <a:lnTo>
                          <a:pt x="2021" y="812"/>
                        </a:lnTo>
                        <a:lnTo>
                          <a:pt x="2006" y="848"/>
                        </a:lnTo>
                        <a:lnTo>
                          <a:pt x="1990" y="881"/>
                        </a:lnTo>
                        <a:lnTo>
                          <a:pt x="1954" y="931"/>
                        </a:lnTo>
                        <a:lnTo>
                          <a:pt x="1933" y="950"/>
                        </a:lnTo>
                        <a:lnTo>
                          <a:pt x="1914" y="964"/>
                        </a:lnTo>
                        <a:lnTo>
                          <a:pt x="1871" y="983"/>
                        </a:lnTo>
                        <a:lnTo>
                          <a:pt x="1833" y="990"/>
                        </a:lnTo>
                        <a:lnTo>
                          <a:pt x="1771" y="983"/>
                        </a:lnTo>
                        <a:lnTo>
                          <a:pt x="1745" y="976"/>
                        </a:lnTo>
                        <a:lnTo>
                          <a:pt x="1759" y="714"/>
                        </a:lnTo>
                        <a:lnTo>
                          <a:pt x="1738" y="621"/>
                        </a:lnTo>
                        <a:lnTo>
                          <a:pt x="1710" y="493"/>
                        </a:lnTo>
                        <a:lnTo>
                          <a:pt x="1700" y="371"/>
                        </a:lnTo>
                        <a:lnTo>
                          <a:pt x="1712" y="326"/>
                        </a:lnTo>
                        <a:lnTo>
                          <a:pt x="1721" y="312"/>
                        </a:lnTo>
                        <a:lnTo>
                          <a:pt x="1738" y="300"/>
                        </a:lnTo>
                        <a:lnTo>
                          <a:pt x="1769" y="293"/>
                        </a:lnTo>
                        <a:lnTo>
                          <a:pt x="1800" y="300"/>
                        </a:lnTo>
                        <a:lnTo>
                          <a:pt x="1850" y="343"/>
                        </a:lnTo>
                        <a:lnTo>
                          <a:pt x="1909" y="469"/>
                        </a:lnTo>
                        <a:lnTo>
                          <a:pt x="1914" y="517"/>
                        </a:lnTo>
                        <a:lnTo>
                          <a:pt x="1900" y="552"/>
                        </a:lnTo>
                        <a:lnTo>
                          <a:pt x="1873" y="567"/>
                        </a:lnTo>
                        <a:lnTo>
                          <a:pt x="1835" y="548"/>
                        </a:lnTo>
                        <a:lnTo>
                          <a:pt x="1812" y="507"/>
                        </a:lnTo>
                        <a:lnTo>
                          <a:pt x="1819" y="459"/>
                        </a:lnTo>
                        <a:lnTo>
                          <a:pt x="1835" y="436"/>
                        </a:lnTo>
                        <a:lnTo>
                          <a:pt x="1859" y="419"/>
                        </a:lnTo>
                        <a:lnTo>
                          <a:pt x="1795" y="340"/>
                        </a:lnTo>
                        <a:lnTo>
                          <a:pt x="1771" y="374"/>
                        </a:lnTo>
                        <a:lnTo>
                          <a:pt x="1762" y="409"/>
                        </a:lnTo>
                        <a:lnTo>
                          <a:pt x="1757" y="481"/>
                        </a:lnTo>
                        <a:lnTo>
                          <a:pt x="1776" y="576"/>
                        </a:lnTo>
                        <a:lnTo>
                          <a:pt x="1802" y="645"/>
                        </a:lnTo>
                        <a:lnTo>
                          <a:pt x="1826" y="671"/>
                        </a:lnTo>
                        <a:lnTo>
                          <a:pt x="1845" y="688"/>
                        </a:lnTo>
                        <a:lnTo>
                          <a:pt x="1883" y="702"/>
                        </a:lnTo>
                        <a:lnTo>
                          <a:pt x="1916" y="695"/>
                        </a:lnTo>
                        <a:lnTo>
                          <a:pt x="1942" y="669"/>
                        </a:lnTo>
                        <a:lnTo>
                          <a:pt x="1971" y="576"/>
                        </a:lnTo>
                        <a:lnTo>
                          <a:pt x="1973" y="459"/>
                        </a:lnTo>
                        <a:lnTo>
                          <a:pt x="1959" y="402"/>
                        </a:lnTo>
                        <a:lnTo>
                          <a:pt x="1933" y="348"/>
                        </a:lnTo>
                        <a:lnTo>
                          <a:pt x="1897" y="298"/>
                        </a:lnTo>
                        <a:lnTo>
                          <a:pt x="1878" y="276"/>
                        </a:lnTo>
                        <a:lnTo>
                          <a:pt x="1854" y="255"/>
                        </a:lnTo>
                        <a:lnTo>
                          <a:pt x="1833" y="238"/>
                        </a:lnTo>
                        <a:lnTo>
                          <a:pt x="1809" y="224"/>
                        </a:lnTo>
                        <a:lnTo>
                          <a:pt x="1786" y="212"/>
                        </a:lnTo>
                        <a:lnTo>
                          <a:pt x="1759" y="200"/>
                        </a:lnTo>
                        <a:lnTo>
                          <a:pt x="1712" y="193"/>
                        </a:lnTo>
                        <a:lnTo>
                          <a:pt x="1667" y="197"/>
                        </a:lnTo>
                        <a:lnTo>
                          <a:pt x="1631" y="219"/>
                        </a:lnTo>
                        <a:lnTo>
                          <a:pt x="1610" y="250"/>
                        </a:lnTo>
                        <a:lnTo>
                          <a:pt x="1605" y="340"/>
                        </a:lnTo>
                        <a:lnTo>
                          <a:pt x="1615" y="400"/>
                        </a:lnTo>
                        <a:lnTo>
                          <a:pt x="1631" y="467"/>
                        </a:lnTo>
                        <a:lnTo>
                          <a:pt x="1653" y="540"/>
                        </a:lnTo>
                        <a:lnTo>
                          <a:pt x="1676" y="624"/>
                        </a:lnTo>
                        <a:lnTo>
                          <a:pt x="1700" y="793"/>
                        </a:lnTo>
                        <a:lnTo>
                          <a:pt x="1683" y="945"/>
                        </a:lnTo>
                        <a:lnTo>
                          <a:pt x="1669" y="1007"/>
                        </a:lnTo>
                        <a:lnTo>
                          <a:pt x="1655" y="1055"/>
                        </a:lnTo>
                        <a:lnTo>
                          <a:pt x="1638" y="1098"/>
                        </a:lnTo>
                        <a:lnTo>
                          <a:pt x="1638" y="109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flipH="1">
                    <a:off x="1931400" y="1351800"/>
                    <a:ext cx="42480" cy="13680"/>
                  </a:xfrm>
                  <a:custGeom>
                    <a:avLst/>
                    <a:gdLst/>
                    <a:ahLst/>
                    <a:rect l="l" t="t" r="r" b="b"/>
                    <a:pathLst>
                      <a:path w="382" h="141">
                        <a:moveTo>
                          <a:pt x="328" y="0"/>
                        </a:moveTo>
                        <a:lnTo>
                          <a:pt x="17" y="0"/>
                        </a:lnTo>
                        <a:lnTo>
                          <a:pt x="0" y="141"/>
                        </a:lnTo>
                        <a:lnTo>
                          <a:pt x="382" y="141"/>
                        </a:lnTo>
                        <a:lnTo>
                          <a:pt x="328" y="0"/>
                        </a:lnTo>
                        <a:lnTo>
                          <a:pt x="328" y="0"/>
                        </a:lnTo>
                        <a:close/>
                      </a:path>
                    </a:pathLst>
                  </a:custGeom>
                  <a:solidFill>
                    <a:srgbClr val="b8b8d9"/>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482" name=""/>
                  <p:cNvSpPr/>
                  <p:nvPr/>
                </p:nvSpPr>
                <p:spPr>
                  <a:xfrm flipH="1">
                    <a:off x="1697400" y="1340640"/>
                    <a:ext cx="45360" cy="20880"/>
                  </a:xfrm>
                  <a:custGeom>
                    <a:avLst/>
                    <a:gdLst/>
                    <a:ahLst/>
                    <a:rect l="l" t="t" r="r" b="b"/>
                    <a:pathLst>
                      <a:path w="406" h="212">
                        <a:moveTo>
                          <a:pt x="0" y="86"/>
                        </a:moveTo>
                        <a:lnTo>
                          <a:pt x="7" y="212"/>
                        </a:lnTo>
                        <a:lnTo>
                          <a:pt x="24" y="200"/>
                        </a:lnTo>
                        <a:lnTo>
                          <a:pt x="41" y="188"/>
                        </a:lnTo>
                        <a:lnTo>
                          <a:pt x="64" y="174"/>
                        </a:lnTo>
                        <a:lnTo>
                          <a:pt x="93" y="162"/>
                        </a:lnTo>
                        <a:lnTo>
                          <a:pt x="126" y="147"/>
                        </a:lnTo>
                        <a:lnTo>
                          <a:pt x="197" y="136"/>
                        </a:lnTo>
                        <a:lnTo>
                          <a:pt x="340" y="157"/>
                        </a:lnTo>
                        <a:lnTo>
                          <a:pt x="406" y="176"/>
                        </a:lnTo>
                        <a:lnTo>
                          <a:pt x="380" y="52"/>
                        </a:lnTo>
                        <a:lnTo>
                          <a:pt x="366" y="40"/>
                        </a:lnTo>
                        <a:lnTo>
                          <a:pt x="347" y="31"/>
                        </a:lnTo>
                        <a:lnTo>
                          <a:pt x="321" y="19"/>
                        </a:lnTo>
                        <a:lnTo>
                          <a:pt x="290" y="7"/>
                        </a:lnTo>
                        <a:lnTo>
                          <a:pt x="252" y="0"/>
                        </a:lnTo>
                        <a:lnTo>
                          <a:pt x="157" y="2"/>
                        </a:lnTo>
                        <a:lnTo>
                          <a:pt x="71" y="26"/>
                        </a:lnTo>
                        <a:lnTo>
                          <a:pt x="24" y="55"/>
                        </a:lnTo>
                        <a:lnTo>
                          <a:pt x="5" y="78"/>
                        </a:lnTo>
                        <a:lnTo>
                          <a:pt x="0" y="86"/>
                        </a:lnTo>
                        <a:lnTo>
                          <a:pt x="0" y="86"/>
                        </a:lnTo>
                        <a:close/>
                      </a:path>
                    </a:pathLst>
                  </a:custGeom>
                  <a:solidFill>
                    <a:srgbClr val="b8b8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83" name=""/>
                  <p:cNvSpPr/>
                  <p:nvPr/>
                </p:nvSpPr>
                <p:spPr>
                  <a:xfrm flipH="1">
                    <a:off x="2016360" y="1350720"/>
                    <a:ext cx="183960" cy="111240"/>
                  </a:xfrm>
                  <a:custGeom>
                    <a:avLst/>
                    <a:gdLst/>
                    <a:ahLst/>
                    <a:rect l="l" t="t" r="r" b="b"/>
                    <a:pathLst>
                      <a:path w="1648" h="1128">
                        <a:moveTo>
                          <a:pt x="1330" y="1128"/>
                        </a:moveTo>
                        <a:lnTo>
                          <a:pt x="1204" y="1116"/>
                        </a:lnTo>
                        <a:lnTo>
                          <a:pt x="1066" y="1095"/>
                        </a:lnTo>
                        <a:lnTo>
                          <a:pt x="988" y="1081"/>
                        </a:lnTo>
                        <a:lnTo>
                          <a:pt x="900" y="1062"/>
                        </a:lnTo>
                        <a:lnTo>
                          <a:pt x="810" y="1038"/>
                        </a:lnTo>
                        <a:lnTo>
                          <a:pt x="719" y="1012"/>
                        </a:lnTo>
                        <a:lnTo>
                          <a:pt x="672" y="997"/>
                        </a:lnTo>
                        <a:lnTo>
                          <a:pt x="627" y="983"/>
                        </a:lnTo>
                        <a:lnTo>
                          <a:pt x="579" y="964"/>
                        </a:lnTo>
                        <a:lnTo>
                          <a:pt x="534" y="945"/>
                        </a:lnTo>
                        <a:lnTo>
                          <a:pt x="491" y="926"/>
                        </a:lnTo>
                        <a:lnTo>
                          <a:pt x="449" y="904"/>
                        </a:lnTo>
                        <a:lnTo>
                          <a:pt x="406" y="883"/>
                        </a:lnTo>
                        <a:lnTo>
                          <a:pt x="366" y="859"/>
                        </a:lnTo>
                        <a:lnTo>
                          <a:pt x="328" y="833"/>
                        </a:lnTo>
                        <a:lnTo>
                          <a:pt x="290" y="804"/>
                        </a:lnTo>
                        <a:lnTo>
                          <a:pt x="256" y="778"/>
                        </a:lnTo>
                        <a:lnTo>
                          <a:pt x="223" y="750"/>
                        </a:lnTo>
                        <a:lnTo>
                          <a:pt x="207" y="733"/>
                        </a:lnTo>
                        <a:lnTo>
                          <a:pt x="192" y="719"/>
                        </a:lnTo>
                        <a:lnTo>
                          <a:pt x="166" y="685"/>
                        </a:lnTo>
                        <a:lnTo>
                          <a:pt x="119" y="619"/>
                        </a:lnTo>
                        <a:lnTo>
                          <a:pt x="83" y="550"/>
                        </a:lnTo>
                        <a:lnTo>
                          <a:pt x="52" y="481"/>
                        </a:lnTo>
                        <a:lnTo>
                          <a:pt x="14" y="340"/>
                        </a:lnTo>
                        <a:lnTo>
                          <a:pt x="0" y="212"/>
                        </a:lnTo>
                        <a:lnTo>
                          <a:pt x="0" y="95"/>
                        </a:lnTo>
                        <a:lnTo>
                          <a:pt x="12" y="0"/>
                        </a:lnTo>
                        <a:lnTo>
                          <a:pt x="178" y="7"/>
                        </a:lnTo>
                        <a:lnTo>
                          <a:pt x="1577" y="42"/>
                        </a:lnTo>
                        <a:lnTo>
                          <a:pt x="1648" y="152"/>
                        </a:lnTo>
                        <a:lnTo>
                          <a:pt x="275" y="150"/>
                        </a:lnTo>
                        <a:lnTo>
                          <a:pt x="280" y="335"/>
                        </a:lnTo>
                        <a:lnTo>
                          <a:pt x="294" y="419"/>
                        </a:lnTo>
                        <a:lnTo>
                          <a:pt x="306" y="462"/>
                        </a:lnTo>
                        <a:lnTo>
                          <a:pt x="323" y="504"/>
                        </a:lnTo>
                        <a:lnTo>
                          <a:pt x="342" y="550"/>
                        </a:lnTo>
                        <a:lnTo>
                          <a:pt x="366" y="593"/>
                        </a:lnTo>
                        <a:lnTo>
                          <a:pt x="394" y="633"/>
                        </a:lnTo>
                        <a:lnTo>
                          <a:pt x="411" y="654"/>
                        </a:lnTo>
                        <a:lnTo>
                          <a:pt x="427" y="676"/>
                        </a:lnTo>
                        <a:lnTo>
                          <a:pt x="449" y="693"/>
                        </a:lnTo>
                        <a:lnTo>
                          <a:pt x="470" y="712"/>
                        </a:lnTo>
                        <a:lnTo>
                          <a:pt x="494" y="728"/>
                        </a:lnTo>
                        <a:lnTo>
                          <a:pt x="520" y="745"/>
                        </a:lnTo>
                        <a:lnTo>
                          <a:pt x="548" y="762"/>
                        </a:lnTo>
                        <a:lnTo>
                          <a:pt x="577" y="778"/>
                        </a:lnTo>
                        <a:lnTo>
                          <a:pt x="608" y="793"/>
                        </a:lnTo>
                        <a:lnTo>
                          <a:pt x="639" y="807"/>
                        </a:lnTo>
                        <a:lnTo>
                          <a:pt x="672" y="821"/>
                        </a:lnTo>
                        <a:lnTo>
                          <a:pt x="705" y="838"/>
                        </a:lnTo>
                        <a:lnTo>
                          <a:pt x="776" y="862"/>
                        </a:lnTo>
                        <a:lnTo>
                          <a:pt x="845" y="885"/>
                        </a:lnTo>
                        <a:lnTo>
                          <a:pt x="914" y="907"/>
                        </a:lnTo>
                        <a:lnTo>
                          <a:pt x="983" y="924"/>
                        </a:lnTo>
                        <a:lnTo>
                          <a:pt x="1045" y="940"/>
                        </a:lnTo>
                        <a:lnTo>
                          <a:pt x="1154" y="964"/>
                        </a:lnTo>
                        <a:lnTo>
                          <a:pt x="1256" y="985"/>
                        </a:lnTo>
                        <a:lnTo>
                          <a:pt x="1413" y="683"/>
                        </a:lnTo>
                        <a:lnTo>
                          <a:pt x="1358" y="585"/>
                        </a:lnTo>
                        <a:lnTo>
                          <a:pt x="572" y="459"/>
                        </a:lnTo>
                        <a:lnTo>
                          <a:pt x="605" y="514"/>
                        </a:lnTo>
                        <a:lnTo>
                          <a:pt x="627" y="540"/>
                        </a:lnTo>
                        <a:lnTo>
                          <a:pt x="641" y="554"/>
                        </a:lnTo>
                        <a:lnTo>
                          <a:pt x="655" y="566"/>
                        </a:lnTo>
                        <a:lnTo>
                          <a:pt x="670" y="581"/>
                        </a:lnTo>
                        <a:lnTo>
                          <a:pt x="686" y="593"/>
                        </a:lnTo>
                        <a:lnTo>
                          <a:pt x="705" y="607"/>
                        </a:lnTo>
                        <a:lnTo>
                          <a:pt x="727" y="619"/>
                        </a:lnTo>
                        <a:lnTo>
                          <a:pt x="753" y="631"/>
                        </a:lnTo>
                        <a:lnTo>
                          <a:pt x="784" y="643"/>
                        </a:lnTo>
                        <a:lnTo>
                          <a:pt x="862" y="664"/>
                        </a:lnTo>
                        <a:lnTo>
                          <a:pt x="952" y="685"/>
                        </a:lnTo>
                        <a:lnTo>
                          <a:pt x="1042" y="702"/>
                        </a:lnTo>
                        <a:lnTo>
                          <a:pt x="1204" y="726"/>
                        </a:lnTo>
                        <a:lnTo>
                          <a:pt x="1273" y="735"/>
                        </a:lnTo>
                        <a:lnTo>
                          <a:pt x="1220" y="878"/>
                        </a:lnTo>
                        <a:lnTo>
                          <a:pt x="1161" y="871"/>
                        </a:lnTo>
                        <a:lnTo>
                          <a:pt x="1011" y="843"/>
                        </a:lnTo>
                        <a:lnTo>
                          <a:pt x="919" y="819"/>
                        </a:lnTo>
                        <a:lnTo>
                          <a:pt x="824" y="788"/>
                        </a:lnTo>
                        <a:lnTo>
                          <a:pt x="774" y="769"/>
                        </a:lnTo>
                        <a:lnTo>
                          <a:pt x="727" y="750"/>
                        </a:lnTo>
                        <a:lnTo>
                          <a:pt x="684" y="726"/>
                        </a:lnTo>
                        <a:lnTo>
                          <a:pt x="641" y="702"/>
                        </a:lnTo>
                        <a:lnTo>
                          <a:pt x="603" y="676"/>
                        </a:lnTo>
                        <a:lnTo>
                          <a:pt x="570" y="647"/>
                        </a:lnTo>
                        <a:lnTo>
                          <a:pt x="544" y="619"/>
                        </a:lnTo>
                        <a:lnTo>
                          <a:pt x="522" y="590"/>
                        </a:lnTo>
                        <a:lnTo>
                          <a:pt x="472" y="473"/>
                        </a:lnTo>
                        <a:lnTo>
                          <a:pt x="461" y="383"/>
                        </a:lnTo>
                        <a:lnTo>
                          <a:pt x="465" y="347"/>
                        </a:lnTo>
                        <a:lnTo>
                          <a:pt x="1434" y="495"/>
                        </a:lnTo>
                        <a:lnTo>
                          <a:pt x="1524" y="654"/>
                        </a:lnTo>
                        <a:lnTo>
                          <a:pt x="1515" y="676"/>
                        </a:lnTo>
                        <a:lnTo>
                          <a:pt x="1493" y="728"/>
                        </a:lnTo>
                        <a:lnTo>
                          <a:pt x="1463" y="804"/>
                        </a:lnTo>
                        <a:lnTo>
                          <a:pt x="1444" y="850"/>
                        </a:lnTo>
                        <a:lnTo>
                          <a:pt x="1427" y="895"/>
                        </a:lnTo>
                        <a:lnTo>
                          <a:pt x="1408" y="938"/>
                        </a:lnTo>
                        <a:lnTo>
                          <a:pt x="1391" y="983"/>
                        </a:lnTo>
                        <a:lnTo>
                          <a:pt x="1361" y="1057"/>
                        </a:lnTo>
                        <a:lnTo>
                          <a:pt x="1339" y="1109"/>
                        </a:lnTo>
                        <a:lnTo>
                          <a:pt x="1330" y="1128"/>
                        </a:lnTo>
                        <a:lnTo>
                          <a:pt x="1330" y="112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flipH="1">
                    <a:off x="2025000" y="1373760"/>
                    <a:ext cx="122760" cy="12960"/>
                  </a:xfrm>
                  <a:custGeom>
                    <a:avLst/>
                    <a:gdLst/>
                    <a:ahLst/>
                    <a:rect l="l" t="t" r="r" b="b"/>
                    <a:pathLst>
                      <a:path w="1101" h="133">
                        <a:moveTo>
                          <a:pt x="0" y="0"/>
                        </a:moveTo>
                        <a:lnTo>
                          <a:pt x="1101" y="0"/>
                        </a:lnTo>
                        <a:lnTo>
                          <a:pt x="990" y="133"/>
                        </a:lnTo>
                        <a:lnTo>
                          <a:pt x="0" y="45"/>
                        </a:lnTo>
                        <a:lnTo>
                          <a:pt x="0" y="0"/>
                        </a:lnTo>
                        <a:lnTo>
                          <a:pt x="0" y="0"/>
                        </a:lnTo>
                        <a:close/>
                      </a:path>
                    </a:pathLst>
                  </a:custGeom>
                  <a:solidFill>
                    <a:srgbClr val="b8b8d9"/>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85" name=""/>
                  <p:cNvSpPr/>
                  <p:nvPr/>
                </p:nvSpPr>
                <p:spPr>
                  <a:xfrm flipH="1">
                    <a:off x="1916280" y="1375560"/>
                    <a:ext cx="57240" cy="14040"/>
                  </a:xfrm>
                  <a:custGeom>
                    <a:avLst/>
                    <a:gdLst/>
                    <a:ahLst/>
                    <a:rect l="l" t="t" r="r" b="b"/>
                    <a:pathLst>
                      <a:path w="513" h="145">
                        <a:moveTo>
                          <a:pt x="26" y="0"/>
                        </a:moveTo>
                        <a:lnTo>
                          <a:pt x="0" y="135"/>
                        </a:lnTo>
                        <a:lnTo>
                          <a:pt x="513" y="145"/>
                        </a:lnTo>
                        <a:lnTo>
                          <a:pt x="420" y="0"/>
                        </a:lnTo>
                        <a:lnTo>
                          <a:pt x="26" y="0"/>
                        </a:lnTo>
                        <a:lnTo>
                          <a:pt x="26" y="0"/>
                        </a:lnTo>
                        <a:close/>
                      </a:path>
                    </a:pathLst>
                  </a:custGeom>
                  <a:solidFill>
                    <a:srgbClr val="b8b8d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86" name=""/>
                  <p:cNvSpPr/>
                  <p:nvPr/>
                </p:nvSpPr>
                <p:spPr>
                  <a:xfrm flipH="1">
                    <a:off x="1756440" y="1376280"/>
                    <a:ext cx="232560" cy="118440"/>
                  </a:xfrm>
                  <a:custGeom>
                    <a:avLst/>
                    <a:gdLst/>
                    <a:ahLst/>
                    <a:rect l="l" t="t" r="r" b="b"/>
                    <a:pathLst>
                      <a:path w="2082" h="1198">
                        <a:moveTo>
                          <a:pt x="2082" y="778"/>
                        </a:moveTo>
                        <a:lnTo>
                          <a:pt x="2068" y="795"/>
                        </a:lnTo>
                        <a:lnTo>
                          <a:pt x="2051" y="812"/>
                        </a:lnTo>
                        <a:lnTo>
                          <a:pt x="2030" y="836"/>
                        </a:lnTo>
                        <a:lnTo>
                          <a:pt x="2001" y="862"/>
                        </a:lnTo>
                        <a:lnTo>
                          <a:pt x="1987" y="878"/>
                        </a:lnTo>
                        <a:lnTo>
                          <a:pt x="1970" y="893"/>
                        </a:lnTo>
                        <a:lnTo>
                          <a:pt x="1949" y="909"/>
                        </a:lnTo>
                        <a:lnTo>
                          <a:pt x="1930" y="926"/>
                        </a:lnTo>
                        <a:lnTo>
                          <a:pt x="1911" y="943"/>
                        </a:lnTo>
                        <a:lnTo>
                          <a:pt x="1890" y="962"/>
                        </a:lnTo>
                        <a:lnTo>
                          <a:pt x="1868" y="978"/>
                        </a:lnTo>
                        <a:lnTo>
                          <a:pt x="1845" y="998"/>
                        </a:lnTo>
                        <a:lnTo>
                          <a:pt x="1821" y="1014"/>
                        </a:lnTo>
                        <a:lnTo>
                          <a:pt x="1797" y="1033"/>
                        </a:lnTo>
                        <a:lnTo>
                          <a:pt x="1771" y="1050"/>
                        </a:lnTo>
                        <a:lnTo>
                          <a:pt x="1745" y="1067"/>
                        </a:lnTo>
                        <a:lnTo>
                          <a:pt x="1719" y="1083"/>
                        </a:lnTo>
                        <a:lnTo>
                          <a:pt x="1690" y="1098"/>
                        </a:lnTo>
                        <a:lnTo>
                          <a:pt x="1662" y="1114"/>
                        </a:lnTo>
                        <a:lnTo>
                          <a:pt x="1636" y="1129"/>
                        </a:lnTo>
                        <a:lnTo>
                          <a:pt x="1576" y="1152"/>
                        </a:lnTo>
                        <a:lnTo>
                          <a:pt x="1519" y="1171"/>
                        </a:lnTo>
                        <a:lnTo>
                          <a:pt x="1460" y="1186"/>
                        </a:lnTo>
                        <a:lnTo>
                          <a:pt x="1306" y="1198"/>
                        </a:lnTo>
                        <a:lnTo>
                          <a:pt x="1099" y="1183"/>
                        </a:lnTo>
                        <a:lnTo>
                          <a:pt x="857" y="1155"/>
                        </a:lnTo>
                        <a:lnTo>
                          <a:pt x="733" y="1138"/>
                        </a:lnTo>
                        <a:lnTo>
                          <a:pt x="610" y="1121"/>
                        </a:lnTo>
                        <a:lnTo>
                          <a:pt x="489" y="1102"/>
                        </a:lnTo>
                        <a:lnTo>
                          <a:pt x="377" y="1081"/>
                        </a:lnTo>
                        <a:lnTo>
                          <a:pt x="273" y="1064"/>
                        </a:lnTo>
                        <a:lnTo>
                          <a:pt x="183" y="1048"/>
                        </a:lnTo>
                        <a:lnTo>
                          <a:pt x="47" y="1021"/>
                        </a:lnTo>
                        <a:lnTo>
                          <a:pt x="0" y="1009"/>
                        </a:lnTo>
                        <a:lnTo>
                          <a:pt x="111" y="300"/>
                        </a:lnTo>
                        <a:lnTo>
                          <a:pt x="731" y="302"/>
                        </a:lnTo>
                        <a:lnTo>
                          <a:pt x="1059" y="917"/>
                        </a:lnTo>
                        <a:lnTo>
                          <a:pt x="828" y="900"/>
                        </a:lnTo>
                        <a:lnTo>
                          <a:pt x="615" y="878"/>
                        </a:lnTo>
                        <a:lnTo>
                          <a:pt x="465" y="859"/>
                        </a:lnTo>
                        <a:lnTo>
                          <a:pt x="337" y="831"/>
                        </a:lnTo>
                        <a:lnTo>
                          <a:pt x="244" y="805"/>
                        </a:lnTo>
                        <a:lnTo>
                          <a:pt x="209" y="793"/>
                        </a:lnTo>
                        <a:lnTo>
                          <a:pt x="223" y="688"/>
                        </a:lnTo>
                        <a:lnTo>
                          <a:pt x="337" y="707"/>
                        </a:lnTo>
                        <a:lnTo>
                          <a:pt x="439" y="721"/>
                        </a:lnTo>
                        <a:lnTo>
                          <a:pt x="546" y="728"/>
                        </a:lnTo>
                        <a:lnTo>
                          <a:pt x="722" y="714"/>
                        </a:lnTo>
                        <a:lnTo>
                          <a:pt x="800" y="693"/>
                        </a:lnTo>
                        <a:lnTo>
                          <a:pt x="650" y="407"/>
                        </a:lnTo>
                        <a:lnTo>
                          <a:pt x="199" y="395"/>
                        </a:lnTo>
                        <a:lnTo>
                          <a:pt x="114" y="914"/>
                        </a:lnTo>
                        <a:lnTo>
                          <a:pt x="152" y="921"/>
                        </a:lnTo>
                        <a:lnTo>
                          <a:pt x="251" y="940"/>
                        </a:lnTo>
                        <a:lnTo>
                          <a:pt x="399" y="964"/>
                        </a:lnTo>
                        <a:lnTo>
                          <a:pt x="487" y="978"/>
                        </a:lnTo>
                        <a:lnTo>
                          <a:pt x="581" y="993"/>
                        </a:lnTo>
                        <a:lnTo>
                          <a:pt x="676" y="1007"/>
                        </a:lnTo>
                        <a:lnTo>
                          <a:pt x="779" y="1019"/>
                        </a:lnTo>
                        <a:lnTo>
                          <a:pt x="978" y="1038"/>
                        </a:lnTo>
                        <a:lnTo>
                          <a:pt x="1163" y="1048"/>
                        </a:lnTo>
                        <a:lnTo>
                          <a:pt x="1318" y="1040"/>
                        </a:lnTo>
                        <a:lnTo>
                          <a:pt x="1448" y="1012"/>
                        </a:lnTo>
                        <a:lnTo>
                          <a:pt x="1507" y="993"/>
                        </a:lnTo>
                        <a:lnTo>
                          <a:pt x="1564" y="969"/>
                        </a:lnTo>
                        <a:lnTo>
                          <a:pt x="1617" y="943"/>
                        </a:lnTo>
                        <a:lnTo>
                          <a:pt x="1667" y="914"/>
                        </a:lnTo>
                        <a:lnTo>
                          <a:pt x="1712" y="886"/>
                        </a:lnTo>
                        <a:lnTo>
                          <a:pt x="1754" y="855"/>
                        </a:lnTo>
                        <a:lnTo>
                          <a:pt x="1790" y="826"/>
                        </a:lnTo>
                        <a:lnTo>
                          <a:pt x="1823" y="800"/>
                        </a:lnTo>
                        <a:lnTo>
                          <a:pt x="1854" y="774"/>
                        </a:lnTo>
                        <a:lnTo>
                          <a:pt x="1876" y="752"/>
                        </a:lnTo>
                        <a:lnTo>
                          <a:pt x="1895" y="731"/>
                        </a:lnTo>
                        <a:lnTo>
                          <a:pt x="1909" y="717"/>
                        </a:lnTo>
                        <a:lnTo>
                          <a:pt x="1918" y="705"/>
                        </a:lnTo>
                        <a:lnTo>
                          <a:pt x="1904" y="671"/>
                        </a:lnTo>
                        <a:lnTo>
                          <a:pt x="1890" y="633"/>
                        </a:lnTo>
                        <a:lnTo>
                          <a:pt x="1871" y="588"/>
                        </a:lnTo>
                        <a:lnTo>
                          <a:pt x="1849" y="536"/>
                        </a:lnTo>
                        <a:lnTo>
                          <a:pt x="1830" y="481"/>
                        </a:lnTo>
                        <a:lnTo>
                          <a:pt x="1802" y="374"/>
                        </a:lnTo>
                        <a:lnTo>
                          <a:pt x="1764" y="188"/>
                        </a:lnTo>
                        <a:lnTo>
                          <a:pt x="1745" y="100"/>
                        </a:lnTo>
                        <a:lnTo>
                          <a:pt x="1629" y="109"/>
                        </a:lnTo>
                        <a:lnTo>
                          <a:pt x="1583" y="0"/>
                        </a:lnTo>
                        <a:lnTo>
                          <a:pt x="1857" y="0"/>
                        </a:lnTo>
                        <a:lnTo>
                          <a:pt x="1864" y="166"/>
                        </a:lnTo>
                        <a:lnTo>
                          <a:pt x="1878" y="307"/>
                        </a:lnTo>
                        <a:lnTo>
                          <a:pt x="1892" y="374"/>
                        </a:lnTo>
                        <a:lnTo>
                          <a:pt x="1911" y="428"/>
                        </a:lnTo>
                        <a:lnTo>
                          <a:pt x="1933" y="481"/>
                        </a:lnTo>
                        <a:lnTo>
                          <a:pt x="1961" y="538"/>
                        </a:lnTo>
                        <a:lnTo>
                          <a:pt x="1989" y="597"/>
                        </a:lnTo>
                        <a:lnTo>
                          <a:pt x="2018" y="652"/>
                        </a:lnTo>
                        <a:lnTo>
                          <a:pt x="2044" y="702"/>
                        </a:lnTo>
                        <a:lnTo>
                          <a:pt x="2063" y="743"/>
                        </a:lnTo>
                        <a:lnTo>
                          <a:pt x="2082" y="778"/>
                        </a:lnTo>
                        <a:lnTo>
                          <a:pt x="2082" y="77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flipH="1">
                    <a:off x="1697400" y="1364760"/>
                    <a:ext cx="43560" cy="19800"/>
                  </a:xfrm>
                  <a:custGeom>
                    <a:avLst/>
                    <a:gdLst/>
                    <a:ahLst/>
                    <a:rect l="l" t="t" r="r" b="b"/>
                    <a:pathLst>
                      <a:path w="392" h="202">
                        <a:moveTo>
                          <a:pt x="0" y="76"/>
                        </a:moveTo>
                        <a:lnTo>
                          <a:pt x="12" y="64"/>
                        </a:lnTo>
                        <a:lnTo>
                          <a:pt x="29" y="55"/>
                        </a:lnTo>
                        <a:lnTo>
                          <a:pt x="50" y="43"/>
                        </a:lnTo>
                        <a:lnTo>
                          <a:pt x="76" y="29"/>
                        </a:lnTo>
                        <a:lnTo>
                          <a:pt x="105" y="17"/>
                        </a:lnTo>
                        <a:lnTo>
                          <a:pt x="176" y="0"/>
                        </a:lnTo>
                        <a:lnTo>
                          <a:pt x="250" y="5"/>
                        </a:lnTo>
                        <a:lnTo>
                          <a:pt x="314" y="19"/>
                        </a:lnTo>
                        <a:lnTo>
                          <a:pt x="359" y="36"/>
                        </a:lnTo>
                        <a:lnTo>
                          <a:pt x="376" y="43"/>
                        </a:lnTo>
                        <a:lnTo>
                          <a:pt x="392" y="193"/>
                        </a:lnTo>
                        <a:lnTo>
                          <a:pt x="376" y="183"/>
                        </a:lnTo>
                        <a:lnTo>
                          <a:pt x="330" y="162"/>
                        </a:lnTo>
                        <a:lnTo>
                          <a:pt x="302" y="150"/>
                        </a:lnTo>
                        <a:lnTo>
                          <a:pt x="266" y="141"/>
                        </a:lnTo>
                        <a:lnTo>
                          <a:pt x="193" y="136"/>
                        </a:lnTo>
                        <a:lnTo>
                          <a:pt x="122" y="150"/>
                        </a:lnTo>
                        <a:lnTo>
                          <a:pt x="67" y="172"/>
                        </a:lnTo>
                        <a:lnTo>
                          <a:pt x="29" y="193"/>
                        </a:lnTo>
                        <a:lnTo>
                          <a:pt x="17" y="202"/>
                        </a:lnTo>
                        <a:lnTo>
                          <a:pt x="0" y="76"/>
                        </a:lnTo>
                        <a:lnTo>
                          <a:pt x="0" y="76"/>
                        </a:lnTo>
                        <a:close/>
                      </a:path>
                    </a:pathLst>
                  </a:custGeom>
                  <a:solidFill>
                    <a:srgbClr val="b8b8d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488" name=""/>
                  <p:cNvSpPr/>
                  <p:nvPr/>
                </p:nvSpPr>
                <p:spPr>
                  <a:xfrm flipH="1">
                    <a:off x="1567080" y="1460880"/>
                    <a:ext cx="124200" cy="63720"/>
                  </a:xfrm>
                  <a:custGeom>
                    <a:avLst/>
                    <a:gdLst/>
                    <a:ahLst/>
                    <a:rect l="l" t="t" r="r" b="b"/>
                    <a:pathLst>
                      <a:path w="1114" h="645">
                        <a:moveTo>
                          <a:pt x="183" y="0"/>
                        </a:moveTo>
                        <a:lnTo>
                          <a:pt x="518" y="298"/>
                        </a:lnTo>
                        <a:lnTo>
                          <a:pt x="520" y="481"/>
                        </a:lnTo>
                        <a:lnTo>
                          <a:pt x="1112" y="488"/>
                        </a:lnTo>
                        <a:lnTo>
                          <a:pt x="1114" y="645"/>
                        </a:lnTo>
                        <a:lnTo>
                          <a:pt x="397" y="645"/>
                        </a:lnTo>
                        <a:lnTo>
                          <a:pt x="397" y="329"/>
                        </a:lnTo>
                        <a:lnTo>
                          <a:pt x="0" y="138"/>
                        </a:lnTo>
                        <a:lnTo>
                          <a:pt x="183" y="0"/>
                        </a:lnTo>
                        <a:lnTo>
                          <a:pt x="183" y="0"/>
                        </a:lnTo>
                        <a:close/>
                      </a:path>
                    </a:pathLst>
                  </a:custGeom>
                  <a:solidFill>
                    <a:srgbClr val="b8b8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89" name=""/>
                  <p:cNvSpPr/>
                  <p:nvPr/>
                </p:nvSpPr>
                <p:spPr>
                  <a:xfrm flipH="1">
                    <a:off x="1892880" y="1419840"/>
                    <a:ext cx="75240" cy="29160"/>
                  </a:xfrm>
                  <a:custGeom>
                    <a:avLst/>
                    <a:gdLst/>
                    <a:ahLst/>
                    <a:rect l="l" t="t" r="r" b="b"/>
                    <a:pathLst>
                      <a:path w="674" h="296">
                        <a:moveTo>
                          <a:pt x="47" y="0"/>
                        </a:moveTo>
                        <a:lnTo>
                          <a:pt x="0" y="262"/>
                        </a:lnTo>
                        <a:lnTo>
                          <a:pt x="406" y="296"/>
                        </a:lnTo>
                        <a:lnTo>
                          <a:pt x="674" y="262"/>
                        </a:lnTo>
                        <a:lnTo>
                          <a:pt x="565" y="62"/>
                        </a:lnTo>
                        <a:lnTo>
                          <a:pt x="47" y="0"/>
                        </a:lnTo>
                        <a:lnTo>
                          <a:pt x="47" y="0"/>
                        </a:lnTo>
                        <a:close/>
                      </a:path>
                    </a:pathLst>
                  </a:custGeom>
                  <a:solidFill>
                    <a:srgbClr val="a6e8a6"/>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490" name=""/>
                  <p:cNvSpPr/>
                  <p:nvPr/>
                </p:nvSpPr>
                <p:spPr>
                  <a:xfrm flipH="1">
                    <a:off x="2057040" y="1400760"/>
                    <a:ext cx="77040" cy="21960"/>
                  </a:xfrm>
                  <a:custGeom>
                    <a:avLst/>
                    <a:gdLst/>
                    <a:ahLst/>
                    <a:rect l="l" t="t" r="r" b="b"/>
                    <a:pathLst>
                      <a:path w="691" h="224">
                        <a:moveTo>
                          <a:pt x="0" y="0"/>
                        </a:moveTo>
                        <a:lnTo>
                          <a:pt x="691" y="112"/>
                        </a:lnTo>
                        <a:lnTo>
                          <a:pt x="612" y="224"/>
                        </a:lnTo>
                        <a:lnTo>
                          <a:pt x="192" y="177"/>
                        </a:lnTo>
                        <a:lnTo>
                          <a:pt x="0" y="0"/>
                        </a:lnTo>
                        <a:lnTo>
                          <a:pt x="0" y="0"/>
                        </a:lnTo>
                        <a:close/>
                      </a:path>
                    </a:pathLst>
                  </a:custGeom>
                  <a:solidFill>
                    <a:srgbClr val="a6e8a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91" name=""/>
                  <p:cNvSpPr/>
                  <p:nvPr/>
                </p:nvSpPr>
                <p:spPr>
                  <a:xfrm flipH="1">
                    <a:off x="1693800" y="1384920"/>
                    <a:ext cx="46800" cy="47520"/>
                  </a:xfrm>
                  <a:custGeom>
                    <a:avLst/>
                    <a:gdLst/>
                    <a:ahLst/>
                    <a:rect l="l" t="t" r="r" b="b"/>
                    <a:pathLst>
                      <a:path w="420" h="481">
                        <a:moveTo>
                          <a:pt x="31" y="50"/>
                        </a:moveTo>
                        <a:lnTo>
                          <a:pt x="126" y="0"/>
                        </a:lnTo>
                        <a:lnTo>
                          <a:pt x="197" y="0"/>
                        </a:lnTo>
                        <a:lnTo>
                          <a:pt x="268" y="9"/>
                        </a:lnTo>
                        <a:lnTo>
                          <a:pt x="356" y="33"/>
                        </a:lnTo>
                        <a:lnTo>
                          <a:pt x="404" y="88"/>
                        </a:lnTo>
                        <a:lnTo>
                          <a:pt x="420" y="248"/>
                        </a:lnTo>
                        <a:lnTo>
                          <a:pt x="411" y="345"/>
                        </a:lnTo>
                        <a:lnTo>
                          <a:pt x="387" y="424"/>
                        </a:lnTo>
                        <a:lnTo>
                          <a:pt x="349" y="462"/>
                        </a:lnTo>
                        <a:lnTo>
                          <a:pt x="285" y="481"/>
                        </a:lnTo>
                        <a:lnTo>
                          <a:pt x="197" y="462"/>
                        </a:lnTo>
                        <a:lnTo>
                          <a:pt x="119" y="414"/>
                        </a:lnTo>
                        <a:lnTo>
                          <a:pt x="55" y="336"/>
                        </a:lnTo>
                        <a:lnTo>
                          <a:pt x="7" y="240"/>
                        </a:lnTo>
                        <a:lnTo>
                          <a:pt x="0" y="128"/>
                        </a:lnTo>
                        <a:lnTo>
                          <a:pt x="31" y="50"/>
                        </a:lnTo>
                        <a:lnTo>
                          <a:pt x="31" y="50"/>
                        </a:lnTo>
                        <a:close/>
                      </a:path>
                    </a:pathLst>
                  </a:custGeom>
                  <a:solidFill>
                    <a:srgbClr val="a6e8a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92" name=""/>
                  <p:cNvSpPr/>
                  <p:nvPr/>
                </p:nvSpPr>
                <p:spPr>
                  <a:xfrm flipH="1">
                    <a:off x="1735560" y="1454040"/>
                    <a:ext cx="124200" cy="66600"/>
                  </a:xfrm>
                  <a:custGeom>
                    <a:avLst/>
                    <a:gdLst/>
                    <a:ahLst/>
                    <a:rect l="l" t="t" r="r" b="b"/>
                    <a:pathLst>
                      <a:path w="1114" h="674">
                        <a:moveTo>
                          <a:pt x="931" y="0"/>
                        </a:moveTo>
                        <a:lnTo>
                          <a:pt x="594" y="300"/>
                        </a:lnTo>
                        <a:lnTo>
                          <a:pt x="592" y="481"/>
                        </a:lnTo>
                        <a:lnTo>
                          <a:pt x="0" y="488"/>
                        </a:lnTo>
                        <a:lnTo>
                          <a:pt x="0" y="674"/>
                        </a:lnTo>
                        <a:lnTo>
                          <a:pt x="715" y="671"/>
                        </a:lnTo>
                        <a:lnTo>
                          <a:pt x="715" y="326"/>
                        </a:lnTo>
                        <a:lnTo>
                          <a:pt x="1114" y="138"/>
                        </a:lnTo>
                        <a:lnTo>
                          <a:pt x="931" y="0"/>
                        </a:lnTo>
                        <a:lnTo>
                          <a:pt x="9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93" name=""/>
                  <p:cNvSpPr/>
                  <p:nvPr/>
                </p:nvSpPr>
                <p:spPr>
                  <a:xfrm flipH="1">
                    <a:off x="1403280" y="1231920"/>
                    <a:ext cx="235800" cy="157680"/>
                  </a:xfrm>
                  <a:custGeom>
                    <a:avLst/>
                    <a:gdLst/>
                    <a:ahLst/>
                    <a:rect l="l" t="t" r="r" b="b"/>
                    <a:pathLst>
                      <a:path w="2113" h="1597">
                        <a:moveTo>
                          <a:pt x="0" y="1102"/>
                        </a:moveTo>
                        <a:lnTo>
                          <a:pt x="19" y="1071"/>
                        </a:lnTo>
                        <a:lnTo>
                          <a:pt x="43" y="1036"/>
                        </a:lnTo>
                        <a:lnTo>
                          <a:pt x="73" y="988"/>
                        </a:lnTo>
                        <a:lnTo>
                          <a:pt x="116" y="931"/>
                        </a:lnTo>
                        <a:lnTo>
                          <a:pt x="164" y="864"/>
                        </a:lnTo>
                        <a:lnTo>
                          <a:pt x="190" y="831"/>
                        </a:lnTo>
                        <a:lnTo>
                          <a:pt x="204" y="814"/>
                        </a:lnTo>
                        <a:lnTo>
                          <a:pt x="218" y="793"/>
                        </a:lnTo>
                        <a:lnTo>
                          <a:pt x="235" y="776"/>
                        </a:lnTo>
                        <a:lnTo>
                          <a:pt x="249" y="757"/>
                        </a:lnTo>
                        <a:lnTo>
                          <a:pt x="266" y="738"/>
                        </a:lnTo>
                        <a:lnTo>
                          <a:pt x="282" y="719"/>
                        </a:lnTo>
                        <a:lnTo>
                          <a:pt x="297" y="700"/>
                        </a:lnTo>
                        <a:lnTo>
                          <a:pt x="316" y="681"/>
                        </a:lnTo>
                        <a:lnTo>
                          <a:pt x="332" y="662"/>
                        </a:lnTo>
                        <a:lnTo>
                          <a:pt x="351" y="643"/>
                        </a:lnTo>
                        <a:lnTo>
                          <a:pt x="368" y="624"/>
                        </a:lnTo>
                        <a:lnTo>
                          <a:pt x="387" y="604"/>
                        </a:lnTo>
                        <a:lnTo>
                          <a:pt x="406" y="585"/>
                        </a:lnTo>
                        <a:lnTo>
                          <a:pt x="425" y="564"/>
                        </a:lnTo>
                        <a:lnTo>
                          <a:pt x="444" y="545"/>
                        </a:lnTo>
                        <a:lnTo>
                          <a:pt x="463" y="528"/>
                        </a:lnTo>
                        <a:lnTo>
                          <a:pt x="484" y="507"/>
                        </a:lnTo>
                        <a:lnTo>
                          <a:pt x="506" y="488"/>
                        </a:lnTo>
                        <a:lnTo>
                          <a:pt x="525" y="469"/>
                        </a:lnTo>
                        <a:lnTo>
                          <a:pt x="546" y="452"/>
                        </a:lnTo>
                        <a:lnTo>
                          <a:pt x="567" y="433"/>
                        </a:lnTo>
                        <a:lnTo>
                          <a:pt x="589" y="416"/>
                        </a:lnTo>
                        <a:lnTo>
                          <a:pt x="612" y="400"/>
                        </a:lnTo>
                        <a:lnTo>
                          <a:pt x="634" y="381"/>
                        </a:lnTo>
                        <a:lnTo>
                          <a:pt x="655" y="364"/>
                        </a:lnTo>
                        <a:lnTo>
                          <a:pt x="679" y="347"/>
                        </a:lnTo>
                        <a:lnTo>
                          <a:pt x="703" y="331"/>
                        </a:lnTo>
                        <a:lnTo>
                          <a:pt x="726" y="316"/>
                        </a:lnTo>
                        <a:lnTo>
                          <a:pt x="748" y="302"/>
                        </a:lnTo>
                        <a:lnTo>
                          <a:pt x="771" y="288"/>
                        </a:lnTo>
                        <a:lnTo>
                          <a:pt x="795" y="273"/>
                        </a:lnTo>
                        <a:lnTo>
                          <a:pt x="819" y="259"/>
                        </a:lnTo>
                        <a:lnTo>
                          <a:pt x="869" y="235"/>
                        </a:lnTo>
                        <a:lnTo>
                          <a:pt x="919" y="214"/>
                        </a:lnTo>
                        <a:lnTo>
                          <a:pt x="969" y="193"/>
                        </a:lnTo>
                        <a:lnTo>
                          <a:pt x="1018" y="176"/>
                        </a:lnTo>
                        <a:lnTo>
                          <a:pt x="1066" y="159"/>
                        </a:lnTo>
                        <a:lnTo>
                          <a:pt x="1111" y="143"/>
                        </a:lnTo>
                        <a:lnTo>
                          <a:pt x="1151" y="128"/>
                        </a:lnTo>
                        <a:lnTo>
                          <a:pt x="1230" y="104"/>
                        </a:lnTo>
                        <a:lnTo>
                          <a:pt x="1301" y="83"/>
                        </a:lnTo>
                        <a:lnTo>
                          <a:pt x="1360" y="64"/>
                        </a:lnTo>
                        <a:lnTo>
                          <a:pt x="1415" y="50"/>
                        </a:lnTo>
                        <a:lnTo>
                          <a:pt x="1500" y="23"/>
                        </a:lnTo>
                        <a:lnTo>
                          <a:pt x="1629" y="0"/>
                        </a:lnTo>
                        <a:lnTo>
                          <a:pt x="1645" y="97"/>
                        </a:lnTo>
                        <a:lnTo>
                          <a:pt x="1588" y="109"/>
                        </a:lnTo>
                        <a:lnTo>
                          <a:pt x="1522" y="126"/>
                        </a:lnTo>
                        <a:lnTo>
                          <a:pt x="1441" y="150"/>
                        </a:lnTo>
                        <a:lnTo>
                          <a:pt x="1341" y="176"/>
                        </a:lnTo>
                        <a:lnTo>
                          <a:pt x="1289" y="193"/>
                        </a:lnTo>
                        <a:lnTo>
                          <a:pt x="1237" y="212"/>
                        </a:lnTo>
                        <a:lnTo>
                          <a:pt x="1180" y="231"/>
                        </a:lnTo>
                        <a:lnTo>
                          <a:pt x="1123" y="252"/>
                        </a:lnTo>
                        <a:lnTo>
                          <a:pt x="1066" y="273"/>
                        </a:lnTo>
                        <a:lnTo>
                          <a:pt x="1009" y="297"/>
                        </a:lnTo>
                        <a:lnTo>
                          <a:pt x="952" y="323"/>
                        </a:lnTo>
                        <a:lnTo>
                          <a:pt x="923" y="338"/>
                        </a:lnTo>
                        <a:lnTo>
                          <a:pt x="895" y="354"/>
                        </a:lnTo>
                        <a:lnTo>
                          <a:pt x="866" y="369"/>
                        </a:lnTo>
                        <a:lnTo>
                          <a:pt x="838" y="388"/>
                        </a:lnTo>
                        <a:lnTo>
                          <a:pt x="809" y="404"/>
                        </a:lnTo>
                        <a:lnTo>
                          <a:pt x="783" y="424"/>
                        </a:lnTo>
                        <a:lnTo>
                          <a:pt x="757" y="443"/>
                        </a:lnTo>
                        <a:lnTo>
                          <a:pt x="729" y="459"/>
                        </a:lnTo>
                        <a:lnTo>
                          <a:pt x="703" y="478"/>
                        </a:lnTo>
                        <a:lnTo>
                          <a:pt x="679" y="500"/>
                        </a:lnTo>
                        <a:lnTo>
                          <a:pt x="650" y="519"/>
                        </a:lnTo>
                        <a:lnTo>
                          <a:pt x="629" y="538"/>
                        </a:lnTo>
                        <a:lnTo>
                          <a:pt x="605" y="557"/>
                        </a:lnTo>
                        <a:lnTo>
                          <a:pt x="582" y="576"/>
                        </a:lnTo>
                        <a:lnTo>
                          <a:pt x="560" y="595"/>
                        </a:lnTo>
                        <a:lnTo>
                          <a:pt x="539" y="612"/>
                        </a:lnTo>
                        <a:lnTo>
                          <a:pt x="520" y="628"/>
                        </a:lnTo>
                        <a:lnTo>
                          <a:pt x="501" y="647"/>
                        </a:lnTo>
                        <a:lnTo>
                          <a:pt x="482" y="662"/>
                        </a:lnTo>
                        <a:lnTo>
                          <a:pt x="465" y="678"/>
                        </a:lnTo>
                        <a:lnTo>
                          <a:pt x="437" y="704"/>
                        </a:lnTo>
                        <a:lnTo>
                          <a:pt x="413" y="728"/>
                        </a:lnTo>
                        <a:lnTo>
                          <a:pt x="396" y="745"/>
                        </a:lnTo>
                        <a:lnTo>
                          <a:pt x="380" y="759"/>
                        </a:lnTo>
                        <a:lnTo>
                          <a:pt x="396" y="752"/>
                        </a:lnTo>
                        <a:lnTo>
                          <a:pt x="437" y="735"/>
                        </a:lnTo>
                        <a:lnTo>
                          <a:pt x="506" y="712"/>
                        </a:lnTo>
                        <a:lnTo>
                          <a:pt x="551" y="700"/>
                        </a:lnTo>
                        <a:lnTo>
                          <a:pt x="598" y="688"/>
                        </a:lnTo>
                        <a:lnTo>
                          <a:pt x="717" y="664"/>
                        </a:lnTo>
                        <a:lnTo>
                          <a:pt x="857" y="650"/>
                        </a:lnTo>
                        <a:lnTo>
                          <a:pt x="1199" y="654"/>
                        </a:lnTo>
                        <a:lnTo>
                          <a:pt x="1379" y="693"/>
                        </a:lnTo>
                        <a:lnTo>
                          <a:pt x="1460" y="724"/>
                        </a:lnTo>
                        <a:lnTo>
                          <a:pt x="1498" y="740"/>
                        </a:lnTo>
                        <a:lnTo>
                          <a:pt x="1536" y="759"/>
                        </a:lnTo>
                        <a:lnTo>
                          <a:pt x="1572" y="778"/>
                        </a:lnTo>
                        <a:lnTo>
                          <a:pt x="1607" y="800"/>
                        </a:lnTo>
                        <a:lnTo>
                          <a:pt x="1641" y="824"/>
                        </a:lnTo>
                        <a:lnTo>
                          <a:pt x="1671" y="845"/>
                        </a:lnTo>
                        <a:lnTo>
                          <a:pt x="1702" y="869"/>
                        </a:lnTo>
                        <a:lnTo>
                          <a:pt x="1731" y="893"/>
                        </a:lnTo>
                        <a:lnTo>
                          <a:pt x="1762" y="919"/>
                        </a:lnTo>
                        <a:lnTo>
                          <a:pt x="1788" y="943"/>
                        </a:lnTo>
                        <a:lnTo>
                          <a:pt x="1811" y="969"/>
                        </a:lnTo>
                        <a:lnTo>
                          <a:pt x="1835" y="995"/>
                        </a:lnTo>
                        <a:lnTo>
                          <a:pt x="1857" y="1021"/>
                        </a:lnTo>
                        <a:lnTo>
                          <a:pt x="1878" y="1047"/>
                        </a:lnTo>
                        <a:lnTo>
                          <a:pt x="1899" y="1074"/>
                        </a:lnTo>
                        <a:lnTo>
                          <a:pt x="1918" y="1097"/>
                        </a:lnTo>
                        <a:lnTo>
                          <a:pt x="1952" y="1147"/>
                        </a:lnTo>
                        <a:lnTo>
                          <a:pt x="2001" y="1238"/>
                        </a:lnTo>
                        <a:lnTo>
                          <a:pt x="2035" y="1309"/>
                        </a:lnTo>
                        <a:lnTo>
                          <a:pt x="2054" y="1367"/>
                        </a:lnTo>
                        <a:lnTo>
                          <a:pt x="2068" y="1419"/>
                        </a:lnTo>
                        <a:lnTo>
                          <a:pt x="2094" y="1505"/>
                        </a:lnTo>
                        <a:lnTo>
                          <a:pt x="2113" y="1581"/>
                        </a:lnTo>
                        <a:lnTo>
                          <a:pt x="2058" y="1597"/>
                        </a:lnTo>
                        <a:lnTo>
                          <a:pt x="2049" y="1574"/>
                        </a:lnTo>
                        <a:lnTo>
                          <a:pt x="2028" y="1507"/>
                        </a:lnTo>
                        <a:lnTo>
                          <a:pt x="2009" y="1462"/>
                        </a:lnTo>
                        <a:lnTo>
                          <a:pt x="1987" y="1409"/>
                        </a:lnTo>
                        <a:lnTo>
                          <a:pt x="1959" y="1352"/>
                        </a:lnTo>
                        <a:lnTo>
                          <a:pt x="1925" y="1295"/>
                        </a:lnTo>
                        <a:lnTo>
                          <a:pt x="1887" y="1233"/>
                        </a:lnTo>
                        <a:lnTo>
                          <a:pt x="1845" y="1171"/>
                        </a:lnTo>
                        <a:lnTo>
                          <a:pt x="1833" y="1155"/>
                        </a:lnTo>
                        <a:lnTo>
                          <a:pt x="1821" y="1140"/>
                        </a:lnTo>
                        <a:lnTo>
                          <a:pt x="1809" y="1126"/>
                        </a:lnTo>
                        <a:lnTo>
                          <a:pt x="1797" y="1112"/>
                        </a:lnTo>
                        <a:lnTo>
                          <a:pt x="1771" y="1081"/>
                        </a:lnTo>
                        <a:lnTo>
                          <a:pt x="1757" y="1066"/>
                        </a:lnTo>
                        <a:lnTo>
                          <a:pt x="1743" y="1052"/>
                        </a:lnTo>
                        <a:lnTo>
                          <a:pt x="1712" y="1024"/>
                        </a:lnTo>
                        <a:lnTo>
                          <a:pt x="1681" y="997"/>
                        </a:lnTo>
                        <a:lnTo>
                          <a:pt x="1650" y="974"/>
                        </a:lnTo>
                        <a:lnTo>
                          <a:pt x="1614" y="947"/>
                        </a:lnTo>
                        <a:lnTo>
                          <a:pt x="1579" y="926"/>
                        </a:lnTo>
                        <a:lnTo>
                          <a:pt x="1541" y="905"/>
                        </a:lnTo>
                        <a:lnTo>
                          <a:pt x="1503" y="888"/>
                        </a:lnTo>
                        <a:lnTo>
                          <a:pt x="1462" y="871"/>
                        </a:lnTo>
                        <a:lnTo>
                          <a:pt x="1420" y="857"/>
                        </a:lnTo>
                        <a:lnTo>
                          <a:pt x="1377" y="845"/>
                        </a:lnTo>
                        <a:lnTo>
                          <a:pt x="1291" y="824"/>
                        </a:lnTo>
                        <a:lnTo>
                          <a:pt x="1204" y="812"/>
                        </a:lnTo>
                        <a:lnTo>
                          <a:pt x="1118" y="800"/>
                        </a:lnTo>
                        <a:lnTo>
                          <a:pt x="950" y="795"/>
                        </a:lnTo>
                        <a:lnTo>
                          <a:pt x="790" y="805"/>
                        </a:lnTo>
                        <a:lnTo>
                          <a:pt x="532" y="845"/>
                        </a:lnTo>
                        <a:lnTo>
                          <a:pt x="441" y="869"/>
                        </a:lnTo>
                        <a:lnTo>
                          <a:pt x="389" y="888"/>
                        </a:lnTo>
                        <a:lnTo>
                          <a:pt x="354" y="909"/>
                        </a:lnTo>
                        <a:lnTo>
                          <a:pt x="332" y="924"/>
                        </a:lnTo>
                        <a:lnTo>
                          <a:pt x="308" y="943"/>
                        </a:lnTo>
                        <a:lnTo>
                          <a:pt x="287" y="964"/>
                        </a:lnTo>
                        <a:lnTo>
                          <a:pt x="266" y="985"/>
                        </a:lnTo>
                        <a:lnTo>
                          <a:pt x="242" y="1007"/>
                        </a:lnTo>
                        <a:lnTo>
                          <a:pt x="221" y="1028"/>
                        </a:lnTo>
                        <a:lnTo>
                          <a:pt x="199" y="1052"/>
                        </a:lnTo>
                        <a:lnTo>
                          <a:pt x="183" y="1071"/>
                        </a:lnTo>
                        <a:lnTo>
                          <a:pt x="164" y="1090"/>
                        </a:lnTo>
                        <a:lnTo>
                          <a:pt x="149" y="1109"/>
                        </a:lnTo>
                        <a:lnTo>
                          <a:pt x="128" y="1133"/>
                        </a:lnTo>
                        <a:lnTo>
                          <a:pt x="119" y="1143"/>
                        </a:lnTo>
                        <a:lnTo>
                          <a:pt x="0" y="1102"/>
                        </a:lnTo>
                        <a:lnTo>
                          <a:pt x="0" y="1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flipH="1">
                    <a:off x="1795320" y="1240560"/>
                    <a:ext cx="387000" cy="278640"/>
                  </a:xfrm>
                  <a:custGeom>
                    <a:avLst/>
                    <a:gdLst/>
                    <a:ahLst/>
                    <a:rect l="l" t="t" r="r" b="b"/>
                    <a:pathLst>
                      <a:path w="3467" h="2822">
                        <a:moveTo>
                          <a:pt x="1871" y="450"/>
                        </a:moveTo>
                        <a:lnTo>
                          <a:pt x="1838" y="447"/>
                        </a:lnTo>
                        <a:lnTo>
                          <a:pt x="1807" y="438"/>
                        </a:lnTo>
                        <a:lnTo>
                          <a:pt x="1774" y="431"/>
                        </a:lnTo>
                        <a:lnTo>
                          <a:pt x="1745" y="412"/>
                        </a:lnTo>
                        <a:lnTo>
                          <a:pt x="1707" y="383"/>
                        </a:lnTo>
                        <a:lnTo>
                          <a:pt x="1681" y="343"/>
                        </a:lnTo>
                        <a:lnTo>
                          <a:pt x="1660" y="295"/>
                        </a:lnTo>
                        <a:lnTo>
                          <a:pt x="1653" y="231"/>
                        </a:lnTo>
                        <a:lnTo>
                          <a:pt x="1665" y="152"/>
                        </a:lnTo>
                        <a:lnTo>
                          <a:pt x="1681" y="112"/>
                        </a:lnTo>
                        <a:lnTo>
                          <a:pt x="1707" y="71"/>
                        </a:lnTo>
                        <a:lnTo>
                          <a:pt x="1726" y="55"/>
                        </a:lnTo>
                        <a:lnTo>
                          <a:pt x="1748" y="38"/>
                        </a:lnTo>
                        <a:lnTo>
                          <a:pt x="1771" y="24"/>
                        </a:lnTo>
                        <a:lnTo>
                          <a:pt x="1800" y="14"/>
                        </a:lnTo>
                        <a:lnTo>
                          <a:pt x="1869" y="0"/>
                        </a:lnTo>
                        <a:lnTo>
                          <a:pt x="1945" y="4"/>
                        </a:lnTo>
                        <a:lnTo>
                          <a:pt x="2018" y="26"/>
                        </a:lnTo>
                        <a:lnTo>
                          <a:pt x="2066" y="50"/>
                        </a:lnTo>
                        <a:lnTo>
                          <a:pt x="2092" y="78"/>
                        </a:lnTo>
                        <a:lnTo>
                          <a:pt x="2128" y="145"/>
                        </a:lnTo>
                        <a:lnTo>
                          <a:pt x="2147" y="219"/>
                        </a:lnTo>
                        <a:lnTo>
                          <a:pt x="2154" y="355"/>
                        </a:lnTo>
                        <a:lnTo>
                          <a:pt x="2151" y="414"/>
                        </a:lnTo>
                        <a:lnTo>
                          <a:pt x="2163" y="424"/>
                        </a:lnTo>
                        <a:lnTo>
                          <a:pt x="2201" y="450"/>
                        </a:lnTo>
                        <a:lnTo>
                          <a:pt x="2232" y="469"/>
                        </a:lnTo>
                        <a:lnTo>
                          <a:pt x="2265" y="495"/>
                        </a:lnTo>
                        <a:lnTo>
                          <a:pt x="2287" y="509"/>
                        </a:lnTo>
                        <a:lnTo>
                          <a:pt x="2306" y="524"/>
                        </a:lnTo>
                        <a:lnTo>
                          <a:pt x="2327" y="540"/>
                        </a:lnTo>
                        <a:lnTo>
                          <a:pt x="2351" y="559"/>
                        </a:lnTo>
                        <a:lnTo>
                          <a:pt x="2374" y="578"/>
                        </a:lnTo>
                        <a:lnTo>
                          <a:pt x="2401" y="597"/>
                        </a:lnTo>
                        <a:lnTo>
                          <a:pt x="2427" y="616"/>
                        </a:lnTo>
                        <a:lnTo>
                          <a:pt x="2455" y="638"/>
                        </a:lnTo>
                        <a:lnTo>
                          <a:pt x="2484" y="662"/>
                        </a:lnTo>
                        <a:lnTo>
                          <a:pt x="2515" y="686"/>
                        </a:lnTo>
                        <a:lnTo>
                          <a:pt x="2545" y="712"/>
                        </a:lnTo>
                        <a:lnTo>
                          <a:pt x="2576" y="738"/>
                        </a:lnTo>
                        <a:lnTo>
                          <a:pt x="2610" y="767"/>
                        </a:lnTo>
                        <a:lnTo>
                          <a:pt x="2629" y="781"/>
                        </a:lnTo>
                        <a:lnTo>
                          <a:pt x="2645" y="793"/>
                        </a:lnTo>
                        <a:lnTo>
                          <a:pt x="2662" y="809"/>
                        </a:lnTo>
                        <a:lnTo>
                          <a:pt x="2678" y="824"/>
                        </a:lnTo>
                        <a:lnTo>
                          <a:pt x="2697" y="838"/>
                        </a:lnTo>
                        <a:lnTo>
                          <a:pt x="2714" y="855"/>
                        </a:lnTo>
                        <a:lnTo>
                          <a:pt x="2733" y="871"/>
                        </a:lnTo>
                        <a:lnTo>
                          <a:pt x="2752" y="888"/>
                        </a:lnTo>
                        <a:lnTo>
                          <a:pt x="2769" y="902"/>
                        </a:lnTo>
                        <a:lnTo>
                          <a:pt x="2788" y="919"/>
                        </a:lnTo>
                        <a:lnTo>
                          <a:pt x="2809" y="936"/>
                        </a:lnTo>
                        <a:lnTo>
                          <a:pt x="2826" y="955"/>
                        </a:lnTo>
                        <a:lnTo>
                          <a:pt x="2847" y="971"/>
                        </a:lnTo>
                        <a:lnTo>
                          <a:pt x="2866" y="988"/>
                        </a:lnTo>
                        <a:lnTo>
                          <a:pt x="2885" y="1007"/>
                        </a:lnTo>
                        <a:lnTo>
                          <a:pt x="2904" y="1024"/>
                        </a:lnTo>
                        <a:lnTo>
                          <a:pt x="2923" y="1043"/>
                        </a:lnTo>
                        <a:lnTo>
                          <a:pt x="2942" y="1062"/>
                        </a:lnTo>
                        <a:lnTo>
                          <a:pt x="2961" y="1081"/>
                        </a:lnTo>
                        <a:lnTo>
                          <a:pt x="2980" y="1098"/>
                        </a:lnTo>
                        <a:lnTo>
                          <a:pt x="2999" y="1117"/>
                        </a:lnTo>
                        <a:lnTo>
                          <a:pt x="3018" y="1133"/>
                        </a:lnTo>
                        <a:lnTo>
                          <a:pt x="3035" y="1152"/>
                        </a:lnTo>
                        <a:lnTo>
                          <a:pt x="3054" y="1169"/>
                        </a:lnTo>
                        <a:lnTo>
                          <a:pt x="3070" y="1190"/>
                        </a:lnTo>
                        <a:lnTo>
                          <a:pt x="3087" y="1207"/>
                        </a:lnTo>
                        <a:lnTo>
                          <a:pt x="3103" y="1226"/>
                        </a:lnTo>
                        <a:lnTo>
                          <a:pt x="3120" y="1245"/>
                        </a:lnTo>
                        <a:lnTo>
                          <a:pt x="3137" y="1262"/>
                        </a:lnTo>
                        <a:lnTo>
                          <a:pt x="3153" y="1281"/>
                        </a:lnTo>
                        <a:lnTo>
                          <a:pt x="3170" y="1300"/>
                        </a:lnTo>
                        <a:lnTo>
                          <a:pt x="3187" y="1317"/>
                        </a:lnTo>
                        <a:lnTo>
                          <a:pt x="3201" y="1336"/>
                        </a:lnTo>
                        <a:lnTo>
                          <a:pt x="3215" y="1355"/>
                        </a:lnTo>
                        <a:lnTo>
                          <a:pt x="3232" y="1374"/>
                        </a:lnTo>
                        <a:lnTo>
                          <a:pt x="3246" y="1390"/>
                        </a:lnTo>
                        <a:lnTo>
                          <a:pt x="3258" y="1409"/>
                        </a:lnTo>
                        <a:lnTo>
                          <a:pt x="3272" y="1429"/>
                        </a:lnTo>
                        <a:lnTo>
                          <a:pt x="3322" y="1502"/>
                        </a:lnTo>
                        <a:lnTo>
                          <a:pt x="3367" y="1571"/>
                        </a:lnTo>
                        <a:lnTo>
                          <a:pt x="3403" y="1643"/>
                        </a:lnTo>
                        <a:lnTo>
                          <a:pt x="3433" y="1712"/>
                        </a:lnTo>
                        <a:lnTo>
                          <a:pt x="3467" y="1843"/>
                        </a:lnTo>
                        <a:lnTo>
                          <a:pt x="3467" y="1967"/>
                        </a:lnTo>
                        <a:lnTo>
                          <a:pt x="3450" y="2021"/>
                        </a:lnTo>
                        <a:lnTo>
                          <a:pt x="3424" y="2074"/>
                        </a:lnTo>
                        <a:lnTo>
                          <a:pt x="3391" y="2121"/>
                        </a:lnTo>
                        <a:lnTo>
                          <a:pt x="3372" y="2143"/>
                        </a:lnTo>
                        <a:lnTo>
                          <a:pt x="3353" y="2160"/>
                        </a:lnTo>
                        <a:lnTo>
                          <a:pt x="3334" y="2172"/>
                        </a:lnTo>
                        <a:lnTo>
                          <a:pt x="3315" y="2186"/>
                        </a:lnTo>
                        <a:lnTo>
                          <a:pt x="3274" y="2205"/>
                        </a:lnTo>
                        <a:lnTo>
                          <a:pt x="3236" y="2214"/>
                        </a:lnTo>
                        <a:lnTo>
                          <a:pt x="3198" y="2222"/>
                        </a:lnTo>
                        <a:lnTo>
                          <a:pt x="3120" y="2219"/>
                        </a:lnTo>
                        <a:lnTo>
                          <a:pt x="2999" y="2181"/>
                        </a:lnTo>
                        <a:lnTo>
                          <a:pt x="2963" y="2164"/>
                        </a:lnTo>
                        <a:lnTo>
                          <a:pt x="2949" y="2155"/>
                        </a:lnTo>
                        <a:lnTo>
                          <a:pt x="2761" y="1952"/>
                        </a:lnTo>
                        <a:lnTo>
                          <a:pt x="1987" y="669"/>
                        </a:lnTo>
                        <a:lnTo>
                          <a:pt x="2006" y="543"/>
                        </a:lnTo>
                        <a:lnTo>
                          <a:pt x="2042" y="602"/>
                        </a:lnTo>
                        <a:lnTo>
                          <a:pt x="2087" y="667"/>
                        </a:lnTo>
                        <a:lnTo>
                          <a:pt x="2113" y="707"/>
                        </a:lnTo>
                        <a:lnTo>
                          <a:pt x="2142" y="752"/>
                        </a:lnTo>
                        <a:lnTo>
                          <a:pt x="2175" y="800"/>
                        </a:lnTo>
                        <a:lnTo>
                          <a:pt x="2208" y="852"/>
                        </a:lnTo>
                        <a:lnTo>
                          <a:pt x="2246" y="909"/>
                        </a:lnTo>
                        <a:lnTo>
                          <a:pt x="2287" y="967"/>
                        </a:lnTo>
                        <a:lnTo>
                          <a:pt x="2325" y="1026"/>
                        </a:lnTo>
                        <a:lnTo>
                          <a:pt x="2365" y="1090"/>
                        </a:lnTo>
                        <a:lnTo>
                          <a:pt x="2408" y="1152"/>
                        </a:lnTo>
                        <a:lnTo>
                          <a:pt x="2453" y="1217"/>
                        </a:lnTo>
                        <a:lnTo>
                          <a:pt x="2496" y="1279"/>
                        </a:lnTo>
                        <a:lnTo>
                          <a:pt x="2538" y="1343"/>
                        </a:lnTo>
                        <a:lnTo>
                          <a:pt x="2581" y="1407"/>
                        </a:lnTo>
                        <a:lnTo>
                          <a:pt x="2624" y="1467"/>
                        </a:lnTo>
                        <a:lnTo>
                          <a:pt x="2667" y="1529"/>
                        </a:lnTo>
                        <a:lnTo>
                          <a:pt x="2709" y="1586"/>
                        </a:lnTo>
                        <a:lnTo>
                          <a:pt x="2747" y="1640"/>
                        </a:lnTo>
                        <a:lnTo>
                          <a:pt x="2785" y="1693"/>
                        </a:lnTo>
                        <a:lnTo>
                          <a:pt x="2823" y="1743"/>
                        </a:lnTo>
                        <a:lnTo>
                          <a:pt x="2840" y="1764"/>
                        </a:lnTo>
                        <a:lnTo>
                          <a:pt x="2856" y="1786"/>
                        </a:lnTo>
                        <a:lnTo>
                          <a:pt x="2873" y="1807"/>
                        </a:lnTo>
                        <a:lnTo>
                          <a:pt x="2887" y="1826"/>
                        </a:lnTo>
                        <a:lnTo>
                          <a:pt x="2902" y="1845"/>
                        </a:lnTo>
                        <a:lnTo>
                          <a:pt x="2916" y="1862"/>
                        </a:lnTo>
                        <a:lnTo>
                          <a:pt x="2928" y="1876"/>
                        </a:lnTo>
                        <a:lnTo>
                          <a:pt x="2940" y="1891"/>
                        </a:lnTo>
                        <a:lnTo>
                          <a:pt x="2963" y="1914"/>
                        </a:lnTo>
                        <a:lnTo>
                          <a:pt x="2982" y="1931"/>
                        </a:lnTo>
                        <a:lnTo>
                          <a:pt x="2997" y="1943"/>
                        </a:lnTo>
                        <a:lnTo>
                          <a:pt x="3046" y="1964"/>
                        </a:lnTo>
                        <a:lnTo>
                          <a:pt x="3101" y="1976"/>
                        </a:lnTo>
                        <a:lnTo>
                          <a:pt x="3198" y="1969"/>
                        </a:lnTo>
                        <a:lnTo>
                          <a:pt x="3239" y="1948"/>
                        </a:lnTo>
                        <a:lnTo>
                          <a:pt x="3272" y="1910"/>
                        </a:lnTo>
                        <a:lnTo>
                          <a:pt x="3291" y="1860"/>
                        </a:lnTo>
                        <a:lnTo>
                          <a:pt x="3296" y="1790"/>
                        </a:lnTo>
                        <a:lnTo>
                          <a:pt x="3281" y="1743"/>
                        </a:lnTo>
                        <a:lnTo>
                          <a:pt x="3239" y="1674"/>
                        </a:lnTo>
                        <a:lnTo>
                          <a:pt x="3210" y="1636"/>
                        </a:lnTo>
                        <a:lnTo>
                          <a:pt x="3194" y="1612"/>
                        </a:lnTo>
                        <a:lnTo>
                          <a:pt x="3177" y="1590"/>
                        </a:lnTo>
                        <a:lnTo>
                          <a:pt x="3158" y="1567"/>
                        </a:lnTo>
                        <a:lnTo>
                          <a:pt x="3137" y="1543"/>
                        </a:lnTo>
                        <a:lnTo>
                          <a:pt x="3115" y="1519"/>
                        </a:lnTo>
                        <a:lnTo>
                          <a:pt x="3094" y="1495"/>
                        </a:lnTo>
                        <a:lnTo>
                          <a:pt x="3070" y="1467"/>
                        </a:lnTo>
                        <a:lnTo>
                          <a:pt x="3046" y="1440"/>
                        </a:lnTo>
                        <a:lnTo>
                          <a:pt x="3023" y="1414"/>
                        </a:lnTo>
                        <a:lnTo>
                          <a:pt x="2997" y="1388"/>
                        </a:lnTo>
                        <a:lnTo>
                          <a:pt x="2973" y="1359"/>
                        </a:lnTo>
                        <a:lnTo>
                          <a:pt x="2959" y="1348"/>
                        </a:lnTo>
                        <a:lnTo>
                          <a:pt x="2944" y="1331"/>
                        </a:lnTo>
                        <a:lnTo>
                          <a:pt x="2930" y="1317"/>
                        </a:lnTo>
                        <a:lnTo>
                          <a:pt x="2918" y="1302"/>
                        </a:lnTo>
                        <a:lnTo>
                          <a:pt x="2904" y="1288"/>
                        </a:lnTo>
                        <a:lnTo>
                          <a:pt x="2890" y="1274"/>
                        </a:lnTo>
                        <a:lnTo>
                          <a:pt x="2875" y="1259"/>
                        </a:lnTo>
                        <a:lnTo>
                          <a:pt x="2861" y="1245"/>
                        </a:lnTo>
                        <a:lnTo>
                          <a:pt x="2847" y="1231"/>
                        </a:lnTo>
                        <a:lnTo>
                          <a:pt x="2833" y="1217"/>
                        </a:lnTo>
                        <a:lnTo>
                          <a:pt x="2818" y="1202"/>
                        </a:lnTo>
                        <a:lnTo>
                          <a:pt x="2804" y="1188"/>
                        </a:lnTo>
                        <a:lnTo>
                          <a:pt x="2788" y="1174"/>
                        </a:lnTo>
                        <a:lnTo>
                          <a:pt x="2776" y="1157"/>
                        </a:lnTo>
                        <a:lnTo>
                          <a:pt x="2759" y="1143"/>
                        </a:lnTo>
                        <a:lnTo>
                          <a:pt x="2745" y="1128"/>
                        </a:lnTo>
                        <a:lnTo>
                          <a:pt x="2731" y="1114"/>
                        </a:lnTo>
                        <a:lnTo>
                          <a:pt x="2716" y="1100"/>
                        </a:lnTo>
                        <a:lnTo>
                          <a:pt x="2702" y="1083"/>
                        </a:lnTo>
                        <a:lnTo>
                          <a:pt x="2686" y="1069"/>
                        </a:lnTo>
                        <a:lnTo>
                          <a:pt x="2671" y="1055"/>
                        </a:lnTo>
                        <a:lnTo>
                          <a:pt x="2657" y="1040"/>
                        </a:lnTo>
                        <a:lnTo>
                          <a:pt x="2640" y="1026"/>
                        </a:lnTo>
                        <a:lnTo>
                          <a:pt x="2626" y="1009"/>
                        </a:lnTo>
                        <a:lnTo>
                          <a:pt x="2612" y="995"/>
                        </a:lnTo>
                        <a:lnTo>
                          <a:pt x="2595" y="981"/>
                        </a:lnTo>
                        <a:lnTo>
                          <a:pt x="2567" y="952"/>
                        </a:lnTo>
                        <a:lnTo>
                          <a:pt x="2553" y="938"/>
                        </a:lnTo>
                        <a:lnTo>
                          <a:pt x="2536" y="924"/>
                        </a:lnTo>
                        <a:lnTo>
                          <a:pt x="2507" y="897"/>
                        </a:lnTo>
                        <a:lnTo>
                          <a:pt x="2481" y="869"/>
                        </a:lnTo>
                        <a:lnTo>
                          <a:pt x="2450" y="843"/>
                        </a:lnTo>
                        <a:lnTo>
                          <a:pt x="2424" y="814"/>
                        </a:lnTo>
                        <a:lnTo>
                          <a:pt x="2396" y="790"/>
                        </a:lnTo>
                        <a:lnTo>
                          <a:pt x="2367" y="764"/>
                        </a:lnTo>
                        <a:lnTo>
                          <a:pt x="2341" y="740"/>
                        </a:lnTo>
                        <a:lnTo>
                          <a:pt x="2315" y="714"/>
                        </a:lnTo>
                        <a:lnTo>
                          <a:pt x="2291" y="690"/>
                        </a:lnTo>
                        <a:lnTo>
                          <a:pt x="2265" y="669"/>
                        </a:lnTo>
                        <a:lnTo>
                          <a:pt x="2241" y="645"/>
                        </a:lnTo>
                        <a:lnTo>
                          <a:pt x="2218" y="624"/>
                        </a:lnTo>
                        <a:lnTo>
                          <a:pt x="2199" y="605"/>
                        </a:lnTo>
                        <a:lnTo>
                          <a:pt x="2177" y="586"/>
                        </a:lnTo>
                        <a:lnTo>
                          <a:pt x="2156" y="566"/>
                        </a:lnTo>
                        <a:lnTo>
                          <a:pt x="2137" y="550"/>
                        </a:lnTo>
                        <a:lnTo>
                          <a:pt x="2120" y="533"/>
                        </a:lnTo>
                        <a:lnTo>
                          <a:pt x="2104" y="519"/>
                        </a:lnTo>
                        <a:lnTo>
                          <a:pt x="2075" y="493"/>
                        </a:lnTo>
                        <a:lnTo>
                          <a:pt x="2052" y="471"/>
                        </a:lnTo>
                        <a:lnTo>
                          <a:pt x="2035" y="457"/>
                        </a:lnTo>
                        <a:lnTo>
                          <a:pt x="2021" y="443"/>
                        </a:lnTo>
                        <a:lnTo>
                          <a:pt x="2040" y="340"/>
                        </a:lnTo>
                        <a:lnTo>
                          <a:pt x="2033" y="255"/>
                        </a:lnTo>
                        <a:lnTo>
                          <a:pt x="2016" y="214"/>
                        </a:lnTo>
                        <a:lnTo>
                          <a:pt x="2004" y="195"/>
                        </a:lnTo>
                        <a:lnTo>
                          <a:pt x="1987" y="178"/>
                        </a:lnTo>
                        <a:lnTo>
                          <a:pt x="1971" y="166"/>
                        </a:lnTo>
                        <a:lnTo>
                          <a:pt x="1952" y="157"/>
                        </a:lnTo>
                        <a:lnTo>
                          <a:pt x="1904" y="145"/>
                        </a:lnTo>
                        <a:lnTo>
                          <a:pt x="1864" y="155"/>
                        </a:lnTo>
                        <a:lnTo>
                          <a:pt x="1833" y="181"/>
                        </a:lnTo>
                        <a:lnTo>
                          <a:pt x="1819" y="209"/>
                        </a:lnTo>
                        <a:lnTo>
                          <a:pt x="1819" y="235"/>
                        </a:lnTo>
                        <a:lnTo>
                          <a:pt x="1821" y="271"/>
                        </a:lnTo>
                        <a:lnTo>
                          <a:pt x="1843" y="302"/>
                        </a:lnTo>
                        <a:lnTo>
                          <a:pt x="1873" y="324"/>
                        </a:lnTo>
                        <a:lnTo>
                          <a:pt x="1914" y="326"/>
                        </a:lnTo>
                        <a:lnTo>
                          <a:pt x="1980" y="319"/>
                        </a:lnTo>
                        <a:lnTo>
                          <a:pt x="1961" y="397"/>
                        </a:lnTo>
                        <a:lnTo>
                          <a:pt x="1942" y="481"/>
                        </a:lnTo>
                        <a:lnTo>
                          <a:pt x="1926" y="562"/>
                        </a:lnTo>
                        <a:lnTo>
                          <a:pt x="1909" y="640"/>
                        </a:lnTo>
                        <a:lnTo>
                          <a:pt x="1890" y="721"/>
                        </a:lnTo>
                        <a:lnTo>
                          <a:pt x="1876" y="802"/>
                        </a:lnTo>
                        <a:lnTo>
                          <a:pt x="1843" y="962"/>
                        </a:lnTo>
                        <a:lnTo>
                          <a:pt x="1812" y="1121"/>
                        </a:lnTo>
                        <a:lnTo>
                          <a:pt x="1783" y="1281"/>
                        </a:lnTo>
                        <a:lnTo>
                          <a:pt x="1757" y="1438"/>
                        </a:lnTo>
                        <a:lnTo>
                          <a:pt x="1731" y="1595"/>
                        </a:lnTo>
                        <a:lnTo>
                          <a:pt x="1707" y="1752"/>
                        </a:lnTo>
                        <a:lnTo>
                          <a:pt x="1684" y="1910"/>
                        </a:lnTo>
                        <a:lnTo>
                          <a:pt x="1665" y="2064"/>
                        </a:lnTo>
                        <a:lnTo>
                          <a:pt x="1643" y="2217"/>
                        </a:lnTo>
                        <a:lnTo>
                          <a:pt x="1610" y="2522"/>
                        </a:lnTo>
                        <a:lnTo>
                          <a:pt x="1584" y="2822"/>
                        </a:lnTo>
                        <a:lnTo>
                          <a:pt x="0" y="2819"/>
                        </a:lnTo>
                        <a:lnTo>
                          <a:pt x="0" y="2617"/>
                        </a:lnTo>
                        <a:lnTo>
                          <a:pt x="1280" y="2612"/>
                        </a:lnTo>
                        <a:lnTo>
                          <a:pt x="1180" y="2422"/>
                        </a:lnTo>
                        <a:lnTo>
                          <a:pt x="1361" y="2119"/>
                        </a:lnTo>
                        <a:lnTo>
                          <a:pt x="1268" y="2007"/>
                        </a:lnTo>
                        <a:lnTo>
                          <a:pt x="1439" y="1676"/>
                        </a:lnTo>
                        <a:lnTo>
                          <a:pt x="1308" y="1514"/>
                        </a:lnTo>
                        <a:lnTo>
                          <a:pt x="1551" y="1224"/>
                        </a:lnTo>
                        <a:lnTo>
                          <a:pt x="1437" y="1105"/>
                        </a:lnTo>
                        <a:lnTo>
                          <a:pt x="1646" y="847"/>
                        </a:lnTo>
                        <a:lnTo>
                          <a:pt x="1562" y="757"/>
                        </a:lnTo>
                        <a:lnTo>
                          <a:pt x="1731" y="490"/>
                        </a:lnTo>
                        <a:lnTo>
                          <a:pt x="1802" y="514"/>
                        </a:lnTo>
                        <a:lnTo>
                          <a:pt x="1691" y="719"/>
                        </a:lnTo>
                        <a:lnTo>
                          <a:pt x="1759" y="824"/>
                        </a:lnTo>
                        <a:lnTo>
                          <a:pt x="1565" y="1105"/>
                        </a:lnTo>
                        <a:lnTo>
                          <a:pt x="1660" y="1233"/>
                        </a:lnTo>
                        <a:lnTo>
                          <a:pt x="1427" y="1490"/>
                        </a:lnTo>
                        <a:lnTo>
                          <a:pt x="1567" y="1676"/>
                        </a:lnTo>
                        <a:lnTo>
                          <a:pt x="1401" y="1971"/>
                        </a:lnTo>
                        <a:lnTo>
                          <a:pt x="1501" y="2114"/>
                        </a:lnTo>
                        <a:lnTo>
                          <a:pt x="1323" y="2398"/>
                        </a:lnTo>
                        <a:lnTo>
                          <a:pt x="1408" y="2562"/>
                        </a:lnTo>
                        <a:lnTo>
                          <a:pt x="1465" y="2619"/>
                        </a:lnTo>
                        <a:lnTo>
                          <a:pt x="1482" y="2472"/>
                        </a:lnTo>
                        <a:lnTo>
                          <a:pt x="1501" y="2326"/>
                        </a:lnTo>
                        <a:lnTo>
                          <a:pt x="1520" y="2188"/>
                        </a:lnTo>
                        <a:lnTo>
                          <a:pt x="1541" y="2050"/>
                        </a:lnTo>
                        <a:lnTo>
                          <a:pt x="1562" y="1917"/>
                        </a:lnTo>
                        <a:lnTo>
                          <a:pt x="1584" y="1783"/>
                        </a:lnTo>
                        <a:lnTo>
                          <a:pt x="1608" y="1655"/>
                        </a:lnTo>
                        <a:lnTo>
                          <a:pt x="1631" y="1526"/>
                        </a:lnTo>
                        <a:lnTo>
                          <a:pt x="1655" y="1398"/>
                        </a:lnTo>
                        <a:lnTo>
                          <a:pt x="1684" y="1267"/>
                        </a:lnTo>
                        <a:lnTo>
                          <a:pt x="1712" y="1136"/>
                        </a:lnTo>
                        <a:lnTo>
                          <a:pt x="1741" y="1005"/>
                        </a:lnTo>
                        <a:lnTo>
                          <a:pt x="1771" y="871"/>
                        </a:lnTo>
                        <a:lnTo>
                          <a:pt x="1802" y="736"/>
                        </a:lnTo>
                        <a:lnTo>
                          <a:pt x="1819" y="664"/>
                        </a:lnTo>
                        <a:lnTo>
                          <a:pt x="1835" y="595"/>
                        </a:lnTo>
                        <a:lnTo>
                          <a:pt x="1854" y="524"/>
                        </a:lnTo>
                        <a:lnTo>
                          <a:pt x="1871" y="450"/>
                        </a:lnTo>
                        <a:lnTo>
                          <a:pt x="1871"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flipH="1">
                    <a:off x="1832400" y="1396800"/>
                    <a:ext cx="26640" cy="27000"/>
                  </a:xfrm>
                  <a:custGeom>
                    <a:avLst/>
                    <a:gdLst/>
                    <a:ahLst/>
                    <a:rect l="l" t="t" r="r" b="b"/>
                    <a:pathLst>
                      <a:path w="240" h="274">
                        <a:moveTo>
                          <a:pt x="169" y="0"/>
                        </a:moveTo>
                        <a:lnTo>
                          <a:pt x="157" y="162"/>
                        </a:lnTo>
                        <a:lnTo>
                          <a:pt x="0" y="179"/>
                        </a:lnTo>
                        <a:lnTo>
                          <a:pt x="67" y="274"/>
                        </a:lnTo>
                        <a:lnTo>
                          <a:pt x="228" y="267"/>
                        </a:lnTo>
                        <a:lnTo>
                          <a:pt x="240" y="105"/>
                        </a:lnTo>
                        <a:lnTo>
                          <a:pt x="169" y="0"/>
                        </a:lnTo>
                        <a:lnTo>
                          <a:pt x="16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96" name=""/>
                  <p:cNvSpPr/>
                  <p:nvPr/>
                </p:nvSpPr>
                <p:spPr>
                  <a:xfrm flipH="1">
                    <a:off x="1851120" y="1377000"/>
                    <a:ext cx="24840" cy="26280"/>
                  </a:xfrm>
                  <a:custGeom>
                    <a:avLst/>
                    <a:gdLst/>
                    <a:ahLst/>
                    <a:rect l="l" t="t" r="r" b="b"/>
                    <a:pathLst>
                      <a:path w="224" h="267">
                        <a:moveTo>
                          <a:pt x="150" y="0"/>
                        </a:moveTo>
                        <a:lnTo>
                          <a:pt x="145" y="128"/>
                        </a:lnTo>
                        <a:lnTo>
                          <a:pt x="0" y="138"/>
                        </a:lnTo>
                        <a:lnTo>
                          <a:pt x="91" y="267"/>
                        </a:lnTo>
                        <a:lnTo>
                          <a:pt x="224" y="233"/>
                        </a:lnTo>
                        <a:lnTo>
                          <a:pt x="224" y="88"/>
                        </a:lnTo>
                        <a:lnTo>
                          <a:pt x="150" y="0"/>
                        </a:lnTo>
                        <a:lnTo>
                          <a:pt x="15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497" name=""/>
                  <p:cNvSpPr/>
                  <p:nvPr/>
                </p:nvSpPr>
                <p:spPr>
                  <a:xfrm flipH="1">
                    <a:off x="1871280" y="1360440"/>
                    <a:ext cx="19440" cy="22680"/>
                  </a:xfrm>
                  <a:custGeom>
                    <a:avLst/>
                    <a:gdLst/>
                    <a:ahLst/>
                    <a:rect l="l" t="t" r="r" b="b"/>
                    <a:pathLst>
                      <a:path w="176" h="233">
                        <a:moveTo>
                          <a:pt x="98" y="0"/>
                        </a:moveTo>
                        <a:lnTo>
                          <a:pt x="98" y="119"/>
                        </a:lnTo>
                        <a:lnTo>
                          <a:pt x="0" y="138"/>
                        </a:lnTo>
                        <a:lnTo>
                          <a:pt x="67" y="233"/>
                        </a:lnTo>
                        <a:lnTo>
                          <a:pt x="176" y="193"/>
                        </a:lnTo>
                        <a:lnTo>
                          <a:pt x="176" y="81"/>
                        </a:lnTo>
                        <a:lnTo>
                          <a:pt x="98" y="0"/>
                        </a:lnTo>
                        <a:lnTo>
                          <a:pt x="9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8" name=""/>
                  <p:cNvSpPr/>
                  <p:nvPr/>
                </p:nvSpPr>
                <p:spPr>
                  <a:xfrm flipH="1">
                    <a:off x="1888200" y="1314720"/>
                    <a:ext cx="46800" cy="49320"/>
                  </a:xfrm>
                  <a:custGeom>
                    <a:avLst/>
                    <a:gdLst/>
                    <a:ahLst/>
                    <a:rect l="l" t="t" r="r" b="b"/>
                    <a:pathLst>
                      <a:path w="422" h="500">
                        <a:moveTo>
                          <a:pt x="422" y="386"/>
                        </a:moveTo>
                        <a:lnTo>
                          <a:pt x="422" y="493"/>
                        </a:lnTo>
                        <a:lnTo>
                          <a:pt x="318" y="500"/>
                        </a:lnTo>
                        <a:lnTo>
                          <a:pt x="0" y="0"/>
                        </a:lnTo>
                        <a:lnTo>
                          <a:pt x="422" y="386"/>
                        </a:lnTo>
                        <a:lnTo>
                          <a:pt x="422" y="38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99" name=""/>
                  <p:cNvSpPr/>
                  <p:nvPr/>
                </p:nvSpPr>
                <p:spPr>
                  <a:xfrm flipH="1">
                    <a:off x="1597320" y="1331640"/>
                    <a:ext cx="244440" cy="127440"/>
                  </a:xfrm>
                  <a:custGeom>
                    <a:avLst/>
                    <a:gdLst/>
                    <a:ahLst/>
                    <a:rect l="l" t="t" r="r" b="b"/>
                    <a:pathLst>
                      <a:path w="2191" h="1290">
                        <a:moveTo>
                          <a:pt x="1624" y="1097"/>
                        </a:moveTo>
                        <a:lnTo>
                          <a:pt x="1669" y="1107"/>
                        </a:lnTo>
                        <a:lnTo>
                          <a:pt x="1781" y="1112"/>
                        </a:lnTo>
                        <a:lnTo>
                          <a:pt x="1928" y="1090"/>
                        </a:lnTo>
                        <a:lnTo>
                          <a:pt x="2001" y="1057"/>
                        </a:lnTo>
                        <a:lnTo>
                          <a:pt x="2037" y="1036"/>
                        </a:lnTo>
                        <a:lnTo>
                          <a:pt x="2070" y="1007"/>
                        </a:lnTo>
                        <a:lnTo>
                          <a:pt x="2101" y="974"/>
                        </a:lnTo>
                        <a:lnTo>
                          <a:pt x="2130" y="936"/>
                        </a:lnTo>
                        <a:lnTo>
                          <a:pt x="2170" y="840"/>
                        </a:lnTo>
                        <a:lnTo>
                          <a:pt x="2189" y="728"/>
                        </a:lnTo>
                        <a:lnTo>
                          <a:pt x="2191" y="607"/>
                        </a:lnTo>
                        <a:lnTo>
                          <a:pt x="2170" y="478"/>
                        </a:lnTo>
                        <a:lnTo>
                          <a:pt x="2151" y="416"/>
                        </a:lnTo>
                        <a:lnTo>
                          <a:pt x="2127" y="352"/>
                        </a:lnTo>
                        <a:lnTo>
                          <a:pt x="2096" y="290"/>
                        </a:lnTo>
                        <a:lnTo>
                          <a:pt x="2061" y="228"/>
                        </a:lnTo>
                        <a:lnTo>
                          <a:pt x="2018" y="171"/>
                        </a:lnTo>
                        <a:lnTo>
                          <a:pt x="1994" y="143"/>
                        </a:lnTo>
                        <a:lnTo>
                          <a:pt x="1971" y="116"/>
                        </a:lnTo>
                        <a:lnTo>
                          <a:pt x="1944" y="90"/>
                        </a:lnTo>
                        <a:lnTo>
                          <a:pt x="1916" y="71"/>
                        </a:lnTo>
                        <a:lnTo>
                          <a:pt x="1890" y="52"/>
                        </a:lnTo>
                        <a:lnTo>
                          <a:pt x="1861" y="38"/>
                        </a:lnTo>
                        <a:lnTo>
                          <a:pt x="1809" y="14"/>
                        </a:lnTo>
                        <a:lnTo>
                          <a:pt x="1754" y="2"/>
                        </a:lnTo>
                        <a:lnTo>
                          <a:pt x="1648" y="0"/>
                        </a:lnTo>
                        <a:lnTo>
                          <a:pt x="1548" y="24"/>
                        </a:lnTo>
                        <a:lnTo>
                          <a:pt x="1503" y="40"/>
                        </a:lnTo>
                        <a:lnTo>
                          <a:pt x="1462" y="57"/>
                        </a:lnTo>
                        <a:lnTo>
                          <a:pt x="1427" y="76"/>
                        </a:lnTo>
                        <a:lnTo>
                          <a:pt x="1396" y="95"/>
                        </a:lnTo>
                        <a:lnTo>
                          <a:pt x="1370" y="112"/>
                        </a:lnTo>
                        <a:lnTo>
                          <a:pt x="1351" y="126"/>
                        </a:lnTo>
                        <a:lnTo>
                          <a:pt x="1334" y="138"/>
                        </a:lnTo>
                        <a:lnTo>
                          <a:pt x="1346" y="166"/>
                        </a:lnTo>
                        <a:lnTo>
                          <a:pt x="1372" y="240"/>
                        </a:lnTo>
                        <a:lnTo>
                          <a:pt x="1391" y="293"/>
                        </a:lnTo>
                        <a:lnTo>
                          <a:pt x="1408" y="352"/>
                        </a:lnTo>
                        <a:lnTo>
                          <a:pt x="1446" y="483"/>
                        </a:lnTo>
                        <a:lnTo>
                          <a:pt x="1489" y="757"/>
                        </a:lnTo>
                        <a:lnTo>
                          <a:pt x="1481" y="874"/>
                        </a:lnTo>
                        <a:lnTo>
                          <a:pt x="1465" y="921"/>
                        </a:lnTo>
                        <a:lnTo>
                          <a:pt x="1443" y="959"/>
                        </a:lnTo>
                        <a:lnTo>
                          <a:pt x="1429" y="976"/>
                        </a:lnTo>
                        <a:lnTo>
                          <a:pt x="1415" y="993"/>
                        </a:lnTo>
                        <a:lnTo>
                          <a:pt x="1389" y="1021"/>
                        </a:lnTo>
                        <a:lnTo>
                          <a:pt x="1363" y="1050"/>
                        </a:lnTo>
                        <a:lnTo>
                          <a:pt x="1339" y="1074"/>
                        </a:lnTo>
                        <a:lnTo>
                          <a:pt x="1315" y="1093"/>
                        </a:lnTo>
                        <a:lnTo>
                          <a:pt x="1289" y="1109"/>
                        </a:lnTo>
                        <a:lnTo>
                          <a:pt x="1265" y="1121"/>
                        </a:lnTo>
                        <a:lnTo>
                          <a:pt x="1239" y="1131"/>
                        </a:lnTo>
                        <a:lnTo>
                          <a:pt x="1182" y="1136"/>
                        </a:lnTo>
                        <a:lnTo>
                          <a:pt x="1120" y="1121"/>
                        </a:lnTo>
                        <a:lnTo>
                          <a:pt x="1049" y="1088"/>
                        </a:lnTo>
                        <a:lnTo>
                          <a:pt x="1009" y="1062"/>
                        </a:lnTo>
                        <a:lnTo>
                          <a:pt x="988" y="1047"/>
                        </a:lnTo>
                        <a:lnTo>
                          <a:pt x="966" y="1033"/>
                        </a:lnTo>
                        <a:lnTo>
                          <a:pt x="945" y="1012"/>
                        </a:lnTo>
                        <a:lnTo>
                          <a:pt x="923" y="990"/>
                        </a:lnTo>
                        <a:lnTo>
                          <a:pt x="888" y="940"/>
                        </a:lnTo>
                        <a:lnTo>
                          <a:pt x="859" y="881"/>
                        </a:lnTo>
                        <a:lnTo>
                          <a:pt x="836" y="814"/>
                        </a:lnTo>
                        <a:lnTo>
                          <a:pt x="805" y="664"/>
                        </a:lnTo>
                        <a:lnTo>
                          <a:pt x="788" y="509"/>
                        </a:lnTo>
                        <a:lnTo>
                          <a:pt x="783" y="238"/>
                        </a:lnTo>
                        <a:lnTo>
                          <a:pt x="790" y="124"/>
                        </a:lnTo>
                        <a:lnTo>
                          <a:pt x="0" y="126"/>
                        </a:lnTo>
                        <a:lnTo>
                          <a:pt x="164" y="276"/>
                        </a:lnTo>
                        <a:lnTo>
                          <a:pt x="653" y="274"/>
                        </a:lnTo>
                        <a:lnTo>
                          <a:pt x="629" y="581"/>
                        </a:lnTo>
                        <a:lnTo>
                          <a:pt x="638" y="714"/>
                        </a:lnTo>
                        <a:lnTo>
                          <a:pt x="653" y="783"/>
                        </a:lnTo>
                        <a:lnTo>
                          <a:pt x="669" y="852"/>
                        </a:lnTo>
                        <a:lnTo>
                          <a:pt x="693" y="921"/>
                        </a:lnTo>
                        <a:lnTo>
                          <a:pt x="724" y="986"/>
                        </a:lnTo>
                        <a:lnTo>
                          <a:pt x="760" y="1047"/>
                        </a:lnTo>
                        <a:lnTo>
                          <a:pt x="783" y="1076"/>
                        </a:lnTo>
                        <a:lnTo>
                          <a:pt x="793" y="1090"/>
                        </a:lnTo>
                        <a:lnTo>
                          <a:pt x="807" y="1105"/>
                        </a:lnTo>
                        <a:lnTo>
                          <a:pt x="831" y="1131"/>
                        </a:lnTo>
                        <a:lnTo>
                          <a:pt x="857" y="1155"/>
                        </a:lnTo>
                        <a:lnTo>
                          <a:pt x="881" y="1176"/>
                        </a:lnTo>
                        <a:lnTo>
                          <a:pt x="907" y="1197"/>
                        </a:lnTo>
                        <a:lnTo>
                          <a:pt x="931" y="1217"/>
                        </a:lnTo>
                        <a:lnTo>
                          <a:pt x="957" y="1231"/>
                        </a:lnTo>
                        <a:lnTo>
                          <a:pt x="983" y="1245"/>
                        </a:lnTo>
                        <a:lnTo>
                          <a:pt x="1007" y="1257"/>
                        </a:lnTo>
                        <a:lnTo>
                          <a:pt x="1056" y="1276"/>
                        </a:lnTo>
                        <a:lnTo>
                          <a:pt x="1106" y="1288"/>
                        </a:lnTo>
                        <a:lnTo>
                          <a:pt x="1201" y="1290"/>
                        </a:lnTo>
                        <a:lnTo>
                          <a:pt x="1294" y="1269"/>
                        </a:lnTo>
                        <a:lnTo>
                          <a:pt x="1337" y="1248"/>
                        </a:lnTo>
                        <a:lnTo>
                          <a:pt x="1382" y="1224"/>
                        </a:lnTo>
                        <a:lnTo>
                          <a:pt x="1424" y="1193"/>
                        </a:lnTo>
                        <a:lnTo>
                          <a:pt x="1443" y="1176"/>
                        </a:lnTo>
                        <a:lnTo>
                          <a:pt x="1462" y="1157"/>
                        </a:lnTo>
                        <a:lnTo>
                          <a:pt x="1484" y="1138"/>
                        </a:lnTo>
                        <a:lnTo>
                          <a:pt x="1503" y="1119"/>
                        </a:lnTo>
                        <a:lnTo>
                          <a:pt x="1522" y="1097"/>
                        </a:lnTo>
                        <a:lnTo>
                          <a:pt x="1538" y="1074"/>
                        </a:lnTo>
                        <a:lnTo>
                          <a:pt x="1593" y="969"/>
                        </a:lnTo>
                        <a:lnTo>
                          <a:pt x="1610" y="836"/>
                        </a:lnTo>
                        <a:lnTo>
                          <a:pt x="1602" y="695"/>
                        </a:lnTo>
                        <a:lnTo>
                          <a:pt x="1576" y="550"/>
                        </a:lnTo>
                        <a:lnTo>
                          <a:pt x="1560" y="483"/>
                        </a:lnTo>
                        <a:lnTo>
                          <a:pt x="1543" y="419"/>
                        </a:lnTo>
                        <a:lnTo>
                          <a:pt x="1527" y="362"/>
                        </a:lnTo>
                        <a:lnTo>
                          <a:pt x="1510" y="312"/>
                        </a:lnTo>
                        <a:lnTo>
                          <a:pt x="1481" y="235"/>
                        </a:lnTo>
                        <a:lnTo>
                          <a:pt x="1472" y="209"/>
                        </a:lnTo>
                        <a:lnTo>
                          <a:pt x="1512" y="193"/>
                        </a:lnTo>
                        <a:lnTo>
                          <a:pt x="1555" y="176"/>
                        </a:lnTo>
                        <a:lnTo>
                          <a:pt x="1614" y="162"/>
                        </a:lnTo>
                        <a:lnTo>
                          <a:pt x="1678" y="152"/>
                        </a:lnTo>
                        <a:lnTo>
                          <a:pt x="1747" y="152"/>
                        </a:lnTo>
                        <a:lnTo>
                          <a:pt x="1819" y="169"/>
                        </a:lnTo>
                        <a:lnTo>
                          <a:pt x="1883" y="202"/>
                        </a:lnTo>
                        <a:lnTo>
                          <a:pt x="1982" y="338"/>
                        </a:lnTo>
                        <a:lnTo>
                          <a:pt x="2030" y="526"/>
                        </a:lnTo>
                        <a:lnTo>
                          <a:pt x="2025" y="724"/>
                        </a:lnTo>
                        <a:lnTo>
                          <a:pt x="2006" y="809"/>
                        </a:lnTo>
                        <a:lnTo>
                          <a:pt x="1992" y="847"/>
                        </a:lnTo>
                        <a:lnTo>
                          <a:pt x="1975" y="883"/>
                        </a:lnTo>
                        <a:lnTo>
                          <a:pt x="1940" y="933"/>
                        </a:lnTo>
                        <a:lnTo>
                          <a:pt x="1918" y="952"/>
                        </a:lnTo>
                        <a:lnTo>
                          <a:pt x="1899" y="964"/>
                        </a:lnTo>
                        <a:lnTo>
                          <a:pt x="1859" y="983"/>
                        </a:lnTo>
                        <a:lnTo>
                          <a:pt x="1819" y="990"/>
                        </a:lnTo>
                        <a:lnTo>
                          <a:pt x="1757" y="983"/>
                        </a:lnTo>
                        <a:lnTo>
                          <a:pt x="1731" y="974"/>
                        </a:lnTo>
                        <a:lnTo>
                          <a:pt x="1745" y="714"/>
                        </a:lnTo>
                        <a:lnTo>
                          <a:pt x="1724" y="624"/>
                        </a:lnTo>
                        <a:lnTo>
                          <a:pt x="1695" y="493"/>
                        </a:lnTo>
                        <a:lnTo>
                          <a:pt x="1686" y="371"/>
                        </a:lnTo>
                        <a:lnTo>
                          <a:pt x="1697" y="326"/>
                        </a:lnTo>
                        <a:lnTo>
                          <a:pt x="1707" y="312"/>
                        </a:lnTo>
                        <a:lnTo>
                          <a:pt x="1721" y="300"/>
                        </a:lnTo>
                        <a:lnTo>
                          <a:pt x="1754" y="295"/>
                        </a:lnTo>
                        <a:lnTo>
                          <a:pt x="1785" y="300"/>
                        </a:lnTo>
                        <a:lnTo>
                          <a:pt x="1835" y="345"/>
                        </a:lnTo>
                        <a:lnTo>
                          <a:pt x="1895" y="469"/>
                        </a:lnTo>
                        <a:lnTo>
                          <a:pt x="1899" y="516"/>
                        </a:lnTo>
                        <a:lnTo>
                          <a:pt x="1885" y="552"/>
                        </a:lnTo>
                        <a:lnTo>
                          <a:pt x="1859" y="566"/>
                        </a:lnTo>
                        <a:lnTo>
                          <a:pt x="1821" y="547"/>
                        </a:lnTo>
                        <a:lnTo>
                          <a:pt x="1797" y="507"/>
                        </a:lnTo>
                        <a:lnTo>
                          <a:pt x="1807" y="462"/>
                        </a:lnTo>
                        <a:lnTo>
                          <a:pt x="1821" y="435"/>
                        </a:lnTo>
                        <a:lnTo>
                          <a:pt x="1845" y="421"/>
                        </a:lnTo>
                        <a:lnTo>
                          <a:pt x="1781" y="340"/>
                        </a:lnTo>
                        <a:lnTo>
                          <a:pt x="1757" y="374"/>
                        </a:lnTo>
                        <a:lnTo>
                          <a:pt x="1745" y="409"/>
                        </a:lnTo>
                        <a:lnTo>
                          <a:pt x="1743" y="481"/>
                        </a:lnTo>
                        <a:lnTo>
                          <a:pt x="1762" y="578"/>
                        </a:lnTo>
                        <a:lnTo>
                          <a:pt x="1788" y="647"/>
                        </a:lnTo>
                        <a:lnTo>
                          <a:pt x="1811" y="671"/>
                        </a:lnTo>
                        <a:lnTo>
                          <a:pt x="1830" y="688"/>
                        </a:lnTo>
                        <a:lnTo>
                          <a:pt x="1868" y="702"/>
                        </a:lnTo>
                        <a:lnTo>
                          <a:pt x="1902" y="695"/>
                        </a:lnTo>
                        <a:lnTo>
                          <a:pt x="1928" y="669"/>
                        </a:lnTo>
                        <a:lnTo>
                          <a:pt x="1956" y="578"/>
                        </a:lnTo>
                        <a:lnTo>
                          <a:pt x="1959" y="462"/>
                        </a:lnTo>
                        <a:lnTo>
                          <a:pt x="1947" y="402"/>
                        </a:lnTo>
                        <a:lnTo>
                          <a:pt x="1918" y="347"/>
                        </a:lnTo>
                        <a:lnTo>
                          <a:pt x="1883" y="297"/>
                        </a:lnTo>
                        <a:lnTo>
                          <a:pt x="1864" y="276"/>
                        </a:lnTo>
                        <a:lnTo>
                          <a:pt x="1842" y="254"/>
                        </a:lnTo>
                        <a:lnTo>
                          <a:pt x="1819" y="238"/>
                        </a:lnTo>
                        <a:lnTo>
                          <a:pt x="1795" y="224"/>
                        </a:lnTo>
                        <a:lnTo>
                          <a:pt x="1771" y="209"/>
                        </a:lnTo>
                        <a:lnTo>
                          <a:pt x="1745" y="200"/>
                        </a:lnTo>
                        <a:lnTo>
                          <a:pt x="1697" y="193"/>
                        </a:lnTo>
                        <a:lnTo>
                          <a:pt x="1652" y="200"/>
                        </a:lnTo>
                        <a:lnTo>
                          <a:pt x="1617" y="219"/>
                        </a:lnTo>
                        <a:lnTo>
                          <a:pt x="1598" y="250"/>
                        </a:lnTo>
                        <a:lnTo>
                          <a:pt x="1591" y="340"/>
                        </a:lnTo>
                        <a:lnTo>
                          <a:pt x="1600" y="400"/>
                        </a:lnTo>
                        <a:lnTo>
                          <a:pt x="1617" y="466"/>
                        </a:lnTo>
                        <a:lnTo>
                          <a:pt x="1638" y="540"/>
                        </a:lnTo>
                        <a:lnTo>
                          <a:pt x="1664" y="624"/>
                        </a:lnTo>
                        <a:lnTo>
                          <a:pt x="1686" y="793"/>
                        </a:lnTo>
                        <a:lnTo>
                          <a:pt x="1669" y="945"/>
                        </a:lnTo>
                        <a:lnTo>
                          <a:pt x="1655" y="1007"/>
                        </a:lnTo>
                        <a:lnTo>
                          <a:pt x="1640" y="1057"/>
                        </a:lnTo>
                        <a:lnTo>
                          <a:pt x="1624" y="1097"/>
                        </a:lnTo>
                        <a:lnTo>
                          <a:pt x="1624"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flipH="1">
                    <a:off x="1935360" y="1347840"/>
                    <a:ext cx="38880" cy="13680"/>
                  </a:xfrm>
                  <a:custGeom>
                    <a:avLst/>
                    <a:gdLst/>
                    <a:ahLst/>
                    <a:rect l="l" t="t" r="r" b="b"/>
                    <a:pathLst>
                      <a:path w="349" h="142">
                        <a:moveTo>
                          <a:pt x="290" y="0"/>
                        </a:moveTo>
                        <a:lnTo>
                          <a:pt x="15" y="2"/>
                        </a:lnTo>
                        <a:lnTo>
                          <a:pt x="0" y="142"/>
                        </a:lnTo>
                        <a:lnTo>
                          <a:pt x="349" y="142"/>
                        </a:lnTo>
                        <a:lnTo>
                          <a:pt x="290" y="0"/>
                        </a:lnTo>
                        <a:lnTo>
                          <a:pt x="29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501" name=""/>
                  <p:cNvSpPr/>
                  <p:nvPr/>
                </p:nvSpPr>
                <p:spPr>
                  <a:xfrm flipH="1">
                    <a:off x="1700640" y="1334880"/>
                    <a:ext cx="45000" cy="20880"/>
                  </a:xfrm>
                  <a:custGeom>
                    <a:avLst/>
                    <a:gdLst/>
                    <a:ahLst/>
                    <a:rect l="l" t="t" r="r" b="b"/>
                    <a:pathLst>
                      <a:path w="406" h="212">
                        <a:moveTo>
                          <a:pt x="0" y="88"/>
                        </a:moveTo>
                        <a:lnTo>
                          <a:pt x="7" y="212"/>
                        </a:lnTo>
                        <a:lnTo>
                          <a:pt x="23" y="200"/>
                        </a:lnTo>
                        <a:lnTo>
                          <a:pt x="40" y="188"/>
                        </a:lnTo>
                        <a:lnTo>
                          <a:pt x="64" y="173"/>
                        </a:lnTo>
                        <a:lnTo>
                          <a:pt x="92" y="162"/>
                        </a:lnTo>
                        <a:lnTo>
                          <a:pt x="126" y="147"/>
                        </a:lnTo>
                        <a:lnTo>
                          <a:pt x="197" y="138"/>
                        </a:lnTo>
                        <a:lnTo>
                          <a:pt x="339" y="157"/>
                        </a:lnTo>
                        <a:lnTo>
                          <a:pt x="406" y="176"/>
                        </a:lnTo>
                        <a:lnTo>
                          <a:pt x="380" y="52"/>
                        </a:lnTo>
                        <a:lnTo>
                          <a:pt x="365" y="40"/>
                        </a:lnTo>
                        <a:lnTo>
                          <a:pt x="346" y="31"/>
                        </a:lnTo>
                        <a:lnTo>
                          <a:pt x="320" y="19"/>
                        </a:lnTo>
                        <a:lnTo>
                          <a:pt x="289" y="7"/>
                        </a:lnTo>
                        <a:lnTo>
                          <a:pt x="251" y="0"/>
                        </a:lnTo>
                        <a:lnTo>
                          <a:pt x="156" y="2"/>
                        </a:lnTo>
                        <a:lnTo>
                          <a:pt x="71" y="26"/>
                        </a:lnTo>
                        <a:lnTo>
                          <a:pt x="23" y="54"/>
                        </a:lnTo>
                        <a:lnTo>
                          <a:pt x="4" y="78"/>
                        </a:lnTo>
                        <a:lnTo>
                          <a:pt x="0" y="88"/>
                        </a:lnTo>
                        <a:lnTo>
                          <a:pt x="0" y="8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02" name=""/>
                  <p:cNvSpPr/>
                  <p:nvPr/>
                </p:nvSpPr>
                <p:spPr>
                  <a:xfrm flipH="1">
                    <a:off x="2019600" y="1346400"/>
                    <a:ext cx="182880" cy="110520"/>
                  </a:xfrm>
                  <a:custGeom>
                    <a:avLst/>
                    <a:gdLst/>
                    <a:ahLst/>
                    <a:rect l="l" t="t" r="r" b="b"/>
                    <a:pathLst>
                      <a:path w="1638" h="1120">
                        <a:moveTo>
                          <a:pt x="1320" y="1120"/>
                        </a:moveTo>
                        <a:lnTo>
                          <a:pt x="1194" y="1105"/>
                        </a:lnTo>
                        <a:lnTo>
                          <a:pt x="1057" y="1084"/>
                        </a:lnTo>
                        <a:lnTo>
                          <a:pt x="976" y="1070"/>
                        </a:lnTo>
                        <a:lnTo>
                          <a:pt x="890" y="1050"/>
                        </a:lnTo>
                        <a:lnTo>
                          <a:pt x="803" y="1029"/>
                        </a:lnTo>
                        <a:lnTo>
                          <a:pt x="710" y="1000"/>
                        </a:lnTo>
                        <a:lnTo>
                          <a:pt x="665" y="986"/>
                        </a:lnTo>
                        <a:lnTo>
                          <a:pt x="615" y="970"/>
                        </a:lnTo>
                        <a:lnTo>
                          <a:pt x="570" y="953"/>
                        </a:lnTo>
                        <a:lnTo>
                          <a:pt x="527" y="934"/>
                        </a:lnTo>
                        <a:lnTo>
                          <a:pt x="482" y="915"/>
                        </a:lnTo>
                        <a:lnTo>
                          <a:pt x="439" y="893"/>
                        </a:lnTo>
                        <a:lnTo>
                          <a:pt x="397" y="872"/>
                        </a:lnTo>
                        <a:lnTo>
                          <a:pt x="356" y="848"/>
                        </a:lnTo>
                        <a:lnTo>
                          <a:pt x="318" y="822"/>
                        </a:lnTo>
                        <a:lnTo>
                          <a:pt x="280" y="796"/>
                        </a:lnTo>
                        <a:lnTo>
                          <a:pt x="247" y="767"/>
                        </a:lnTo>
                        <a:lnTo>
                          <a:pt x="214" y="739"/>
                        </a:lnTo>
                        <a:lnTo>
                          <a:pt x="197" y="722"/>
                        </a:lnTo>
                        <a:lnTo>
                          <a:pt x="183" y="705"/>
                        </a:lnTo>
                        <a:lnTo>
                          <a:pt x="157" y="674"/>
                        </a:lnTo>
                        <a:lnTo>
                          <a:pt x="109" y="608"/>
                        </a:lnTo>
                        <a:lnTo>
                          <a:pt x="74" y="539"/>
                        </a:lnTo>
                        <a:lnTo>
                          <a:pt x="43" y="469"/>
                        </a:lnTo>
                        <a:lnTo>
                          <a:pt x="5" y="331"/>
                        </a:lnTo>
                        <a:lnTo>
                          <a:pt x="0" y="200"/>
                        </a:lnTo>
                        <a:lnTo>
                          <a:pt x="0" y="136"/>
                        </a:lnTo>
                        <a:lnTo>
                          <a:pt x="0" y="81"/>
                        </a:lnTo>
                        <a:lnTo>
                          <a:pt x="5" y="0"/>
                        </a:lnTo>
                        <a:lnTo>
                          <a:pt x="1522" y="0"/>
                        </a:lnTo>
                        <a:lnTo>
                          <a:pt x="1638" y="141"/>
                        </a:lnTo>
                        <a:lnTo>
                          <a:pt x="266" y="138"/>
                        </a:lnTo>
                        <a:lnTo>
                          <a:pt x="271" y="324"/>
                        </a:lnTo>
                        <a:lnTo>
                          <a:pt x="285" y="408"/>
                        </a:lnTo>
                        <a:lnTo>
                          <a:pt x="297" y="450"/>
                        </a:lnTo>
                        <a:lnTo>
                          <a:pt x="313" y="496"/>
                        </a:lnTo>
                        <a:lnTo>
                          <a:pt x="332" y="539"/>
                        </a:lnTo>
                        <a:lnTo>
                          <a:pt x="356" y="581"/>
                        </a:lnTo>
                        <a:lnTo>
                          <a:pt x="385" y="624"/>
                        </a:lnTo>
                        <a:lnTo>
                          <a:pt x="401" y="643"/>
                        </a:lnTo>
                        <a:lnTo>
                          <a:pt x="420" y="662"/>
                        </a:lnTo>
                        <a:lnTo>
                          <a:pt x="439" y="681"/>
                        </a:lnTo>
                        <a:lnTo>
                          <a:pt x="461" y="700"/>
                        </a:lnTo>
                        <a:lnTo>
                          <a:pt x="484" y="717"/>
                        </a:lnTo>
                        <a:lnTo>
                          <a:pt x="510" y="736"/>
                        </a:lnTo>
                        <a:lnTo>
                          <a:pt x="539" y="750"/>
                        </a:lnTo>
                        <a:lnTo>
                          <a:pt x="567" y="767"/>
                        </a:lnTo>
                        <a:lnTo>
                          <a:pt x="598" y="784"/>
                        </a:lnTo>
                        <a:lnTo>
                          <a:pt x="632" y="798"/>
                        </a:lnTo>
                        <a:lnTo>
                          <a:pt x="665" y="810"/>
                        </a:lnTo>
                        <a:lnTo>
                          <a:pt x="698" y="824"/>
                        </a:lnTo>
                        <a:lnTo>
                          <a:pt x="767" y="850"/>
                        </a:lnTo>
                        <a:lnTo>
                          <a:pt x="836" y="874"/>
                        </a:lnTo>
                        <a:lnTo>
                          <a:pt x="905" y="896"/>
                        </a:lnTo>
                        <a:lnTo>
                          <a:pt x="973" y="915"/>
                        </a:lnTo>
                        <a:lnTo>
                          <a:pt x="1038" y="929"/>
                        </a:lnTo>
                        <a:lnTo>
                          <a:pt x="1144" y="955"/>
                        </a:lnTo>
                        <a:lnTo>
                          <a:pt x="1247" y="974"/>
                        </a:lnTo>
                        <a:lnTo>
                          <a:pt x="1403" y="669"/>
                        </a:lnTo>
                        <a:lnTo>
                          <a:pt x="1349" y="574"/>
                        </a:lnTo>
                        <a:lnTo>
                          <a:pt x="563" y="450"/>
                        </a:lnTo>
                        <a:lnTo>
                          <a:pt x="596" y="505"/>
                        </a:lnTo>
                        <a:lnTo>
                          <a:pt x="617" y="529"/>
                        </a:lnTo>
                        <a:lnTo>
                          <a:pt x="632" y="541"/>
                        </a:lnTo>
                        <a:lnTo>
                          <a:pt x="646" y="555"/>
                        </a:lnTo>
                        <a:lnTo>
                          <a:pt x="660" y="567"/>
                        </a:lnTo>
                        <a:lnTo>
                          <a:pt x="677" y="581"/>
                        </a:lnTo>
                        <a:lnTo>
                          <a:pt x="698" y="596"/>
                        </a:lnTo>
                        <a:lnTo>
                          <a:pt x="717" y="608"/>
                        </a:lnTo>
                        <a:lnTo>
                          <a:pt x="743" y="619"/>
                        </a:lnTo>
                        <a:lnTo>
                          <a:pt x="774" y="631"/>
                        </a:lnTo>
                        <a:lnTo>
                          <a:pt x="852" y="653"/>
                        </a:lnTo>
                        <a:lnTo>
                          <a:pt x="940" y="672"/>
                        </a:lnTo>
                        <a:lnTo>
                          <a:pt x="1033" y="689"/>
                        </a:lnTo>
                        <a:lnTo>
                          <a:pt x="1194" y="715"/>
                        </a:lnTo>
                        <a:lnTo>
                          <a:pt x="1263" y="722"/>
                        </a:lnTo>
                        <a:lnTo>
                          <a:pt x="1211" y="867"/>
                        </a:lnTo>
                        <a:lnTo>
                          <a:pt x="1149" y="858"/>
                        </a:lnTo>
                        <a:lnTo>
                          <a:pt x="1002" y="831"/>
                        </a:lnTo>
                        <a:lnTo>
                          <a:pt x="909" y="808"/>
                        </a:lnTo>
                        <a:lnTo>
                          <a:pt x="814" y="777"/>
                        </a:lnTo>
                        <a:lnTo>
                          <a:pt x="765" y="760"/>
                        </a:lnTo>
                        <a:lnTo>
                          <a:pt x="717" y="739"/>
                        </a:lnTo>
                        <a:lnTo>
                          <a:pt x="674" y="715"/>
                        </a:lnTo>
                        <a:lnTo>
                          <a:pt x="632" y="691"/>
                        </a:lnTo>
                        <a:lnTo>
                          <a:pt x="594" y="665"/>
                        </a:lnTo>
                        <a:lnTo>
                          <a:pt x="560" y="636"/>
                        </a:lnTo>
                        <a:lnTo>
                          <a:pt x="534" y="608"/>
                        </a:lnTo>
                        <a:lnTo>
                          <a:pt x="513" y="579"/>
                        </a:lnTo>
                        <a:lnTo>
                          <a:pt x="463" y="462"/>
                        </a:lnTo>
                        <a:lnTo>
                          <a:pt x="454" y="372"/>
                        </a:lnTo>
                        <a:lnTo>
                          <a:pt x="456" y="336"/>
                        </a:lnTo>
                        <a:lnTo>
                          <a:pt x="1425" y="484"/>
                        </a:lnTo>
                        <a:lnTo>
                          <a:pt x="1512" y="643"/>
                        </a:lnTo>
                        <a:lnTo>
                          <a:pt x="1505" y="662"/>
                        </a:lnTo>
                        <a:lnTo>
                          <a:pt x="1484" y="719"/>
                        </a:lnTo>
                        <a:lnTo>
                          <a:pt x="1453" y="793"/>
                        </a:lnTo>
                        <a:lnTo>
                          <a:pt x="1437" y="839"/>
                        </a:lnTo>
                        <a:lnTo>
                          <a:pt x="1418" y="884"/>
                        </a:lnTo>
                        <a:lnTo>
                          <a:pt x="1399" y="927"/>
                        </a:lnTo>
                        <a:lnTo>
                          <a:pt x="1382" y="970"/>
                        </a:lnTo>
                        <a:lnTo>
                          <a:pt x="1351" y="1048"/>
                        </a:lnTo>
                        <a:lnTo>
                          <a:pt x="1330" y="1101"/>
                        </a:lnTo>
                        <a:lnTo>
                          <a:pt x="1320" y="1120"/>
                        </a:lnTo>
                        <a:lnTo>
                          <a:pt x="1320" y="1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
                  <p:cNvSpPr/>
                  <p:nvPr/>
                </p:nvSpPr>
                <p:spPr>
                  <a:xfrm flipH="1">
                    <a:off x="2028240" y="1367640"/>
                    <a:ext cx="122760" cy="13320"/>
                  </a:xfrm>
                  <a:custGeom>
                    <a:avLst/>
                    <a:gdLst/>
                    <a:ahLst/>
                    <a:rect l="l" t="t" r="r" b="b"/>
                    <a:pathLst>
                      <a:path w="1102" h="136">
                        <a:moveTo>
                          <a:pt x="0" y="0"/>
                        </a:moveTo>
                        <a:lnTo>
                          <a:pt x="1102" y="2"/>
                        </a:lnTo>
                        <a:lnTo>
                          <a:pt x="990" y="136"/>
                        </a:lnTo>
                        <a:lnTo>
                          <a:pt x="0" y="48"/>
                        </a:lnTo>
                        <a:lnTo>
                          <a:pt x="0"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504" name=""/>
                  <p:cNvSpPr/>
                  <p:nvPr/>
                </p:nvSpPr>
                <p:spPr>
                  <a:xfrm flipH="1">
                    <a:off x="1919880" y="1369800"/>
                    <a:ext cx="56880" cy="14040"/>
                  </a:xfrm>
                  <a:custGeom>
                    <a:avLst/>
                    <a:gdLst/>
                    <a:ahLst/>
                    <a:rect l="l" t="t" r="r" b="b"/>
                    <a:pathLst>
                      <a:path w="510" h="143">
                        <a:moveTo>
                          <a:pt x="23" y="0"/>
                        </a:moveTo>
                        <a:lnTo>
                          <a:pt x="0" y="136"/>
                        </a:lnTo>
                        <a:lnTo>
                          <a:pt x="510" y="143"/>
                        </a:lnTo>
                        <a:lnTo>
                          <a:pt x="417" y="0"/>
                        </a:lnTo>
                        <a:lnTo>
                          <a:pt x="23" y="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5" name=""/>
                  <p:cNvSpPr/>
                  <p:nvPr/>
                </p:nvSpPr>
                <p:spPr>
                  <a:xfrm flipH="1">
                    <a:off x="1759680" y="1370520"/>
                    <a:ext cx="232560" cy="118080"/>
                  </a:xfrm>
                  <a:custGeom>
                    <a:avLst/>
                    <a:gdLst/>
                    <a:ahLst/>
                    <a:rect l="l" t="t" r="r" b="b"/>
                    <a:pathLst>
                      <a:path w="2085" h="1195">
                        <a:moveTo>
                          <a:pt x="2085" y="781"/>
                        </a:moveTo>
                        <a:lnTo>
                          <a:pt x="2070" y="795"/>
                        </a:lnTo>
                        <a:lnTo>
                          <a:pt x="2054" y="812"/>
                        </a:lnTo>
                        <a:lnTo>
                          <a:pt x="2032" y="835"/>
                        </a:lnTo>
                        <a:lnTo>
                          <a:pt x="2004" y="862"/>
                        </a:lnTo>
                        <a:lnTo>
                          <a:pt x="1987" y="878"/>
                        </a:lnTo>
                        <a:lnTo>
                          <a:pt x="1971" y="893"/>
                        </a:lnTo>
                        <a:lnTo>
                          <a:pt x="1954" y="909"/>
                        </a:lnTo>
                        <a:lnTo>
                          <a:pt x="1933" y="926"/>
                        </a:lnTo>
                        <a:lnTo>
                          <a:pt x="1914" y="945"/>
                        </a:lnTo>
                        <a:lnTo>
                          <a:pt x="1892" y="962"/>
                        </a:lnTo>
                        <a:lnTo>
                          <a:pt x="1871" y="981"/>
                        </a:lnTo>
                        <a:lnTo>
                          <a:pt x="1847" y="997"/>
                        </a:lnTo>
                        <a:lnTo>
                          <a:pt x="1821" y="1014"/>
                        </a:lnTo>
                        <a:lnTo>
                          <a:pt x="1797" y="1033"/>
                        </a:lnTo>
                        <a:lnTo>
                          <a:pt x="1774" y="1050"/>
                        </a:lnTo>
                        <a:lnTo>
                          <a:pt x="1747" y="1066"/>
                        </a:lnTo>
                        <a:lnTo>
                          <a:pt x="1721" y="1083"/>
                        </a:lnTo>
                        <a:lnTo>
                          <a:pt x="1693" y="1100"/>
                        </a:lnTo>
                        <a:lnTo>
                          <a:pt x="1664" y="1114"/>
                        </a:lnTo>
                        <a:lnTo>
                          <a:pt x="1636" y="1128"/>
                        </a:lnTo>
                        <a:lnTo>
                          <a:pt x="1579" y="1152"/>
                        </a:lnTo>
                        <a:lnTo>
                          <a:pt x="1522" y="1171"/>
                        </a:lnTo>
                        <a:lnTo>
                          <a:pt x="1460" y="1186"/>
                        </a:lnTo>
                        <a:lnTo>
                          <a:pt x="1308" y="1195"/>
                        </a:lnTo>
                        <a:lnTo>
                          <a:pt x="1099" y="1183"/>
                        </a:lnTo>
                        <a:lnTo>
                          <a:pt x="859" y="1157"/>
                        </a:lnTo>
                        <a:lnTo>
                          <a:pt x="736" y="1140"/>
                        </a:lnTo>
                        <a:lnTo>
                          <a:pt x="612" y="1121"/>
                        </a:lnTo>
                        <a:lnTo>
                          <a:pt x="494" y="1102"/>
                        </a:lnTo>
                        <a:lnTo>
                          <a:pt x="380" y="1081"/>
                        </a:lnTo>
                        <a:lnTo>
                          <a:pt x="275" y="1064"/>
                        </a:lnTo>
                        <a:lnTo>
                          <a:pt x="185" y="1047"/>
                        </a:lnTo>
                        <a:lnTo>
                          <a:pt x="50" y="1021"/>
                        </a:lnTo>
                        <a:lnTo>
                          <a:pt x="0" y="1012"/>
                        </a:lnTo>
                        <a:lnTo>
                          <a:pt x="114" y="300"/>
                        </a:lnTo>
                        <a:lnTo>
                          <a:pt x="724" y="300"/>
                        </a:lnTo>
                        <a:lnTo>
                          <a:pt x="1037" y="869"/>
                        </a:lnTo>
                        <a:lnTo>
                          <a:pt x="838" y="897"/>
                        </a:lnTo>
                        <a:lnTo>
                          <a:pt x="617" y="881"/>
                        </a:lnTo>
                        <a:lnTo>
                          <a:pt x="468" y="862"/>
                        </a:lnTo>
                        <a:lnTo>
                          <a:pt x="337" y="831"/>
                        </a:lnTo>
                        <a:lnTo>
                          <a:pt x="247" y="804"/>
                        </a:lnTo>
                        <a:lnTo>
                          <a:pt x="211" y="795"/>
                        </a:lnTo>
                        <a:lnTo>
                          <a:pt x="225" y="690"/>
                        </a:lnTo>
                        <a:lnTo>
                          <a:pt x="337" y="707"/>
                        </a:lnTo>
                        <a:lnTo>
                          <a:pt x="442" y="721"/>
                        </a:lnTo>
                        <a:lnTo>
                          <a:pt x="548" y="731"/>
                        </a:lnTo>
                        <a:lnTo>
                          <a:pt x="674" y="733"/>
                        </a:lnTo>
                        <a:lnTo>
                          <a:pt x="807" y="726"/>
                        </a:lnTo>
                        <a:lnTo>
                          <a:pt x="674" y="412"/>
                        </a:lnTo>
                        <a:lnTo>
                          <a:pt x="202" y="395"/>
                        </a:lnTo>
                        <a:lnTo>
                          <a:pt x="116" y="914"/>
                        </a:lnTo>
                        <a:lnTo>
                          <a:pt x="152" y="921"/>
                        </a:lnTo>
                        <a:lnTo>
                          <a:pt x="254" y="940"/>
                        </a:lnTo>
                        <a:lnTo>
                          <a:pt x="401" y="966"/>
                        </a:lnTo>
                        <a:lnTo>
                          <a:pt x="489" y="981"/>
                        </a:lnTo>
                        <a:lnTo>
                          <a:pt x="584" y="993"/>
                        </a:lnTo>
                        <a:lnTo>
                          <a:pt x="681" y="1007"/>
                        </a:lnTo>
                        <a:lnTo>
                          <a:pt x="781" y="1019"/>
                        </a:lnTo>
                        <a:lnTo>
                          <a:pt x="981" y="1038"/>
                        </a:lnTo>
                        <a:lnTo>
                          <a:pt x="1166" y="1047"/>
                        </a:lnTo>
                        <a:lnTo>
                          <a:pt x="1320" y="1040"/>
                        </a:lnTo>
                        <a:lnTo>
                          <a:pt x="1448" y="1014"/>
                        </a:lnTo>
                        <a:lnTo>
                          <a:pt x="1510" y="993"/>
                        </a:lnTo>
                        <a:lnTo>
                          <a:pt x="1567" y="969"/>
                        </a:lnTo>
                        <a:lnTo>
                          <a:pt x="1619" y="943"/>
                        </a:lnTo>
                        <a:lnTo>
                          <a:pt x="1669" y="914"/>
                        </a:lnTo>
                        <a:lnTo>
                          <a:pt x="1714" y="885"/>
                        </a:lnTo>
                        <a:lnTo>
                          <a:pt x="1757" y="857"/>
                        </a:lnTo>
                        <a:lnTo>
                          <a:pt x="1793" y="828"/>
                        </a:lnTo>
                        <a:lnTo>
                          <a:pt x="1826" y="800"/>
                        </a:lnTo>
                        <a:lnTo>
                          <a:pt x="1857" y="774"/>
                        </a:lnTo>
                        <a:lnTo>
                          <a:pt x="1878" y="750"/>
                        </a:lnTo>
                        <a:lnTo>
                          <a:pt x="1897" y="733"/>
                        </a:lnTo>
                        <a:lnTo>
                          <a:pt x="1911" y="719"/>
                        </a:lnTo>
                        <a:lnTo>
                          <a:pt x="1921" y="704"/>
                        </a:lnTo>
                        <a:lnTo>
                          <a:pt x="1907" y="671"/>
                        </a:lnTo>
                        <a:lnTo>
                          <a:pt x="1892" y="633"/>
                        </a:lnTo>
                        <a:lnTo>
                          <a:pt x="1873" y="588"/>
                        </a:lnTo>
                        <a:lnTo>
                          <a:pt x="1852" y="535"/>
                        </a:lnTo>
                        <a:lnTo>
                          <a:pt x="1833" y="481"/>
                        </a:lnTo>
                        <a:lnTo>
                          <a:pt x="1802" y="373"/>
                        </a:lnTo>
                        <a:lnTo>
                          <a:pt x="1766" y="190"/>
                        </a:lnTo>
                        <a:lnTo>
                          <a:pt x="1747" y="100"/>
                        </a:lnTo>
                        <a:lnTo>
                          <a:pt x="1631" y="109"/>
                        </a:lnTo>
                        <a:lnTo>
                          <a:pt x="1586" y="0"/>
                        </a:lnTo>
                        <a:lnTo>
                          <a:pt x="1859" y="0"/>
                        </a:lnTo>
                        <a:lnTo>
                          <a:pt x="1866" y="166"/>
                        </a:lnTo>
                        <a:lnTo>
                          <a:pt x="1880" y="307"/>
                        </a:lnTo>
                        <a:lnTo>
                          <a:pt x="1895" y="373"/>
                        </a:lnTo>
                        <a:lnTo>
                          <a:pt x="1914" y="428"/>
                        </a:lnTo>
                        <a:lnTo>
                          <a:pt x="1935" y="481"/>
                        </a:lnTo>
                        <a:lnTo>
                          <a:pt x="1964" y="538"/>
                        </a:lnTo>
                        <a:lnTo>
                          <a:pt x="1992" y="595"/>
                        </a:lnTo>
                        <a:lnTo>
                          <a:pt x="2020" y="652"/>
                        </a:lnTo>
                        <a:lnTo>
                          <a:pt x="2047" y="702"/>
                        </a:lnTo>
                        <a:lnTo>
                          <a:pt x="2066" y="743"/>
                        </a:lnTo>
                        <a:lnTo>
                          <a:pt x="2085" y="781"/>
                        </a:lnTo>
                        <a:lnTo>
                          <a:pt x="2085" y="7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flipH="1">
                    <a:off x="1700280" y="1359360"/>
                    <a:ext cx="43560" cy="19440"/>
                  </a:xfrm>
                  <a:custGeom>
                    <a:avLst/>
                    <a:gdLst/>
                    <a:ahLst/>
                    <a:rect l="l" t="t" r="r" b="b"/>
                    <a:pathLst>
                      <a:path w="392" h="200">
                        <a:moveTo>
                          <a:pt x="0" y="74"/>
                        </a:moveTo>
                        <a:lnTo>
                          <a:pt x="12" y="65"/>
                        </a:lnTo>
                        <a:lnTo>
                          <a:pt x="28" y="53"/>
                        </a:lnTo>
                        <a:lnTo>
                          <a:pt x="50" y="41"/>
                        </a:lnTo>
                        <a:lnTo>
                          <a:pt x="76" y="26"/>
                        </a:lnTo>
                        <a:lnTo>
                          <a:pt x="104" y="15"/>
                        </a:lnTo>
                        <a:lnTo>
                          <a:pt x="176" y="0"/>
                        </a:lnTo>
                        <a:lnTo>
                          <a:pt x="249" y="3"/>
                        </a:lnTo>
                        <a:lnTo>
                          <a:pt x="313" y="17"/>
                        </a:lnTo>
                        <a:lnTo>
                          <a:pt x="358" y="34"/>
                        </a:lnTo>
                        <a:lnTo>
                          <a:pt x="375" y="41"/>
                        </a:lnTo>
                        <a:lnTo>
                          <a:pt x="392" y="193"/>
                        </a:lnTo>
                        <a:lnTo>
                          <a:pt x="375" y="181"/>
                        </a:lnTo>
                        <a:lnTo>
                          <a:pt x="330" y="160"/>
                        </a:lnTo>
                        <a:lnTo>
                          <a:pt x="299" y="148"/>
                        </a:lnTo>
                        <a:lnTo>
                          <a:pt x="266" y="141"/>
                        </a:lnTo>
                        <a:lnTo>
                          <a:pt x="192" y="134"/>
                        </a:lnTo>
                        <a:lnTo>
                          <a:pt x="121" y="148"/>
                        </a:lnTo>
                        <a:lnTo>
                          <a:pt x="66" y="172"/>
                        </a:lnTo>
                        <a:lnTo>
                          <a:pt x="28" y="191"/>
                        </a:lnTo>
                        <a:lnTo>
                          <a:pt x="17" y="200"/>
                        </a:lnTo>
                        <a:lnTo>
                          <a:pt x="0" y="74"/>
                        </a:lnTo>
                        <a:lnTo>
                          <a:pt x="0" y="7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507" name=""/>
                  <p:cNvSpPr/>
                  <p:nvPr/>
                </p:nvSpPr>
                <p:spPr>
                  <a:xfrm flipH="1">
                    <a:off x="1570320" y="1455480"/>
                    <a:ext cx="124200" cy="66600"/>
                  </a:xfrm>
                  <a:custGeom>
                    <a:avLst/>
                    <a:gdLst/>
                    <a:ahLst/>
                    <a:rect l="l" t="t" r="r" b="b"/>
                    <a:pathLst>
                      <a:path w="1114" h="676">
                        <a:moveTo>
                          <a:pt x="183" y="0"/>
                        </a:moveTo>
                        <a:lnTo>
                          <a:pt x="518" y="300"/>
                        </a:lnTo>
                        <a:lnTo>
                          <a:pt x="522" y="481"/>
                        </a:lnTo>
                        <a:lnTo>
                          <a:pt x="1111" y="490"/>
                        </a:lnTo>
                        <a:lnTo>
                          <a:pt x="1114" y="676"/>
                        </a:lnTo>
                        <a:lnTo>
                          <a:pt x="396" y="671"/>
                        </a:lnTo>
                        <a:lnTo>
                          <a:pt x="396" y="329"/>
                        </a:lnTo>
                        <a:lnTo>
                          <a:pt x="0" y="138"/>
                        </a:lnTo>
                        <a:lnTo>
                          <a:pt x="183" y="0"/>
                        </a:lnTo>
                        <a:lnTo>
                          <a:pt x="18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pic>
              <p:nvPicPr>
                <p:cNvPr id="2508" name="" descr=""/>
                <p:cNvPicPr/>
                <p:nvPr/>
              </p:nvPicPr>
              <p:blipFill>
                <a:blip r:embed="rId2"/>
                <a:stretch/>
              </p:blipFill>
              <p:spPr>
                <a:xfrm>
                  <a:off x="1133280" y="1419840"/>
                  <a:ext cx="936000" cy="884520"/>
                </a:xfrm>
                <a:prstGeom prst="rect">
                  <a:avLst/>
                </a:prstGeom>
                <a:ln w="0">
                  <a:noFill/>
                </a:ln>
              </p:spPr>
            </p:pic>
          </p:grpSp>
          <p:grpSp>
            <p:nvGrpSpPr>
              <p:cNvPr id="2509" name=""/>
              <p:cNvGrpSpPr/>
              <p:nvPr/>
            </p:nvGrpSpPr>
            <p:grpSpPr>
              <a:xfrm>
                <a:off x="1066680" y="2305080"/>
                <a:ext cx="1537200" cy="1123920"/>
                <a:chOff x="1066680" y="2305080"/>
                <a:chExt cx="1537200" cy="1123920"/>
              </a:xfrm>
            </p:grpSpPr>
            <p:grpSp>
              <p:nvGrpSpPr>
                <p:cNvPr id="2510" name=""/>
                <p:cNvGrpSpPr/>
                <p:nvPr/>
              </p:nvGrpSpPr>
              <p:grpSpPr>
                <a:xfrm>
                  <a:off x="1534680" y="2918160"/>
                  <a:ext cx="1069200" cy="510840"/>
                  <a:chOff x="1534680" y="2918160"/>
                  <a:chExt cx="1069200" cy="510840"/>
                </a:xfrm>
              </p:grpSpPr>
              <p:sp>
                <p:nvSpPr>
                  <p:cNvPr id="2511" name=""/>
                  <p:cNvSpPr/>
                  <p:nvPr/>
                </p:nvSpPr>
                <p:spPr>
                  <a:xfrm flipH="1">
                    <a:off x="1534320" y="2918160"/>
                    <a:ext cx="698040" cy="286560"/>
                  </a:xfrm>
                  <a:custGeom>
                    <a:avLst/>
                    <a:gdLst/>
                    <a:ahLst/>
                    <a:rect l="l" t="t" r="r" b="b"/>
                    <a:pathLst>
                      <a:path w="2807" h="1860">
                        <a:moveTo>
                          <a:pt x="1745" y="52"/>
                        </a:moveTo>
                        <a:lnTo>
                          <a:pt x="1767" y="57"/>
                        </a:lnTo>
                        <a:lnTo>
                          <a:pt x="1789" y="60"/>
                        </a:lnTo>
                        <a:lnTo>
                          <a:pt x="1813" y="62"/>
                        </a:lnTo>
                        <a:lnTo>
                          <a:pt x="1835" y="65"/>
                        </a:lnTo>
                        <a:lnTo>
                          <a:pt x="1856" y="68"/>
                        </a:lnTo>
                        <a:lnTo>
                          <a:pt x="1877" y="75"/>
                        </a:lnTo>
                        <a:lnTo>
                          <a:pt x="1896" y="86"/>
                        </a:lnTo>
                        <a:lnTo>
                          <a:pt x="1912" y="103"/>
                        </a:lnTo>
                        <a:lnTo>
                          <a:pt x="1927" y="109"/>
                        </a:lnTo>
                        <a:lnTo>
                          <a:pt x="1943" y="114"/>
                        </a:lnTo>
                        <a:lnTo>
                          <a:pt x="1958" y="121"/>
                        </a:lnTo>
                        <a:lnTo>
                          <a:pt x="1974" y="127"/>
                        </a:lnTo>
                        <a:lnTo>
                          <a:pt x="1989" y="133"/>
                        </a:lnTo>
                        <a:lnTo>
                          <a:pt x="2005" y="140"/>
                        </a:lnTo>
                        <a:lnTo>
                          <a:pt x="2020" y="147"/>
                        </a:lnTo>
                        <a:lnTo>
                          <a:pt x="2037" y="153"/>
                        </a:lnTo>
                        <a:lnTo>
                          <a:pt x="2066" y="163"/>
                        </a:lnTo>
                        <a:lnTo>
                          <a:pt x="2096" y="171"/>
                        </a:lnTo>
                        <a:lnTo>
                          <a:pt x="2126" y="180"/>
                        </a:lnTo>
                        <a:lnTo>
                          <a:pt x="2157" y="188"/>
                        </a:lnTo>
                        <a:lnTo>
                          <a:pt x="2188" y="195"/>
                        </a:lnTo>
                        <a:lnTo>
                          <a:pt x="2220" y="202"/>
                        </a:lnTo>
                        <a:lnTo>
                          <a:pt x="2249" y="210"/>
                        </a:lnTo>
                        <a:lnTo>
                          <a:pt x="2281" y="217"/>
                        </a:lnTo>
                        <a:lnTo>
                          <a:pt x="2310" y="226"/>
                        </a:lnTo>
                        <a:lnTo>
                          <a:pt x="2340" y="236"/>
                        </a:lnTo>
                        <a:lnTo>
                          <a:pt x="2369" y="246"/>
                        </a:lnTo>
                        <a:lnTo>
                          <a:pt x="2398" y="258"/>
                        </a:lnTo>
                        <a:lnTo>
                          <a:pt x="2425" y="272"/>
                        </a:lnTo>
                        <a:lnTo>
                          <a:pt x="2451" y="287"/>
                        </a:lnTo>
                        <a:lnTo>
                          <a:pt x="2477" y="305"/>
                        </a:lnTo>
                        <a:lnTo>
                          <a:pt x="2501" y="325"/>
                        </a:lnTo>
                        <a:lnTo>
                          <a:pt x="2497" y="343"/>
                        </a:lnTo>
                        <a:lnTo>
                          <a:pt x="2498" y="357"/>
                        </a:lnTo>
                        <a:lnTo>
                          <a:pt x="2505" y="371"/>
                        </a:lnTo>
                        <a:lnTo>
                          <a:pt x="2513" y="382"/>
                        </a:lnTo>
                        <a:lnTo>
                          <a:pt x="2522" y="395"/>
                        </a:lnTo>
                        <a:lnTo>
                          <a:pt x="2532" y="407"/>
                        </a:lnTo>
                        <a:lnTo>
                          <a:pt x="2539" y="419"/>
                        </a:lnTo>
                        <a:lnTo>
                          <a:pt x="2543" y="433"/>
                        </a:lnTo>
                        <a:lnTo>
                          <a:pt x="2552" y="459"/>
                        </a:lnTo>
                        <a:lnTo>
                          <a:pt x="2564" y="488"/>
                        </a:lnTo>
                        <a:lnTo>
                          <a:pt x="2578" y="516"/>
                        </a:lnTo>
                        <a:lnTo>
                          <a:pt x="2590" y="545"/>
                        </a:lnTo>
                        <a:lnTo>
                          <a:pt x="2599" y="573"/>
                        </a:lnTo>
                        <a:lnTo>
                          <a:pt x="2599" y="601"/>
                        </a:lnTo>
                        <a:lnTo>
                          <a:pt x="2589" y="625"/>
                        </a:lnTo>
                        <a:lnTo>
                          <a:pt x="2567" y="649"/>
                        </a:lnTo>
                        <a:lnTo>
                          <a:pt x="2547" y="651"/>
                        </a:lnTo>
                        <a:lnTo>
                          <a:pt x="2527" y="656"/>
                        </a:lnTo>
                        <a:lnTo>
                          <a:pt x="2508" y="661"/>
                        </a:lnTo>
                        <a:lnTo>
                          <a:pt x="2488" y="666"/>
                        </a:lnTo>
                        <a:lnTo>
                          <a:pt x="2470" y="671"/>
                        </a:lnTo>
                        <a:lnTo>
                          <a:pt x="2450" y="676"/>
                        </a:lnTo>
                        <a:lnTo>
                          <a:pt x="2430" y="680"/>
                        </a:lnTo>
                        <a:lnTo>
                          <a:pt x="2410" y="681"/>
                        </a:lnTo>
                        <a:lnTo>
                          <a:pt x="2424" y="699"/>
                        </a:lnTo>
                        <a:lnTo>
                          <a:pt x="2439" y="717"/>
                        </a:lnTo>
                        <a:lnTo>
                          <a:pt x="2454" y="736"/>
                        </a:lnTo>
                        <a:lnTo>
                          <a:pt x="2470" y="753"/>
                        </a:lnTo>
                        <a:lnTo>
                          <a:pt x="2487" y="769"/>
                        </a:lnTo>
                        <a:lnTo>
                          <a:pt x="2506" y="784"/>
                        </a:lnTo>
                        <a:lnTo>
                          <a:pt x="2527" y="797"/>
                        </a:lnTo>
                        <a:lnTo>
                          <a:pt x="2549" y="805"/>
                        </a:lnTo>
                        <a:lnTo>
                          <a:pt x="2564" y="805"/>
                        </a:lnTo>
                        <a:lnTo>
                          <a:pt x="2578" y="807"/>
                        </a:lnTo>
                        <a:lnTo>
                          <a:pt x="2593" y="807"/>
                        </a:lnTo>
                        <a:lnTo>
                          <a:pt x="2607" y="807"/>
                        </a:lnTo>
                        <a:lnTo>
                          <a:pt x="2622" y="805"/>
                        </a:lnTo>
                        <a:lnTo>
                          <a:pt x="2635" y="805"/>
                        </a:lnTo>
                        <a:lnTo>
                          <a:pt x="2649" y="804"/>
                        </a:lnTo>
                        <a:lnTo>
                          <a:pt x="2663" y="803"/>
                        </a:lnTo>
                        <a:lnTo>
                          <a:pt x="2676" y="802"/>
                        </a:lnTo>
                        <a:lnTo>
                          <a:pt x="2690" y="800"/>
                        </a:lnTo>
                        <a:lnTo>
                          <a:pt x="2702" y="798"/>
                        </a:lnTo>
                        <a:lnTo>
                          <a:pt x="2716" y="795"/>
                        </a:lnTo>
                        <a:lnTo>
                          <a:pt x="2729" y="792"/>
                        </a:lnTo>
                        <a:lnTo>
                          <a:pt x="2741" y="789"/>
                        </a:lnTo>
                        <a:lnTo>
                          <a:pt x="2753" y="785"/>
                        </a:lnTo>
                        <a:lnTo>
                          <a:pt x="2766" y="780"/>
                        </a:lnTo>
                        <a:lnTo>
                          <a:pt x="2766" y="798"/>
                        </a:lnTo>
                        <a:lnTo>
                          <a:pt x="2749" y="805"/>
                        </a:lnTo>
                        <a:lnTo>
                          <a:pt x="2729" y="811"/>
                        </a:lnTo>
                        <a:lnTo>
                          <a:pt x="2709" y="816"/>
                        </a:lnTo>
                        <a:lnTo>
                          <a:pt x="2689" y="820"/>
                        </a:lnTo>
                        <a:lnTo>
                          <a:pt x="2669" y="825"/>
                        </a:lnTo>
                        <a:lnTo>
                          <a:pt x="2649" y="830"/>
                        </a:lnTo>
                        <a:lnTo>
                          <a:pt x="2632" y="838"/>
                        </a:lnTo>
                        <a:lnTo>
                          <a:pt x="2617" y="847"/>
                        </a:lnTo>
                        <a:lnTo>
                          <a:pt x="2640" y="854"/>
                        </a:lnTo>
                        <a:lnTo>
                          <a:pt x="2664" y="859"/>
                        </a:lnTo>
                        <a:lnTo>
                          <a:pt x="2688" y="862"/>
                        </a:lnTo>
                        <a:lnTo>
                          <a:pt x="2710" y="864"/>
                        </a:lnTo>
                        <a:lnTo>
                          <a:pt x="2734" y="865"/>
                        </a:lnTo>
                        <a:lnTo>
                          <a:pt x="2757" y="864"/>
                        </a:lnTo>
                        <a:lnTo>
                          <a:pt x="2781" y="860"/>
                        </a:lnTo>
                        <a:lnTo>
                          <a:pt x="2807" y="856"/>
                        </a:lnTo>
                        <a:lnTo>
                          <a:pt x="2802" y="867"/>
                        </a:lnTo>
                        <a:lnTo>
                          <a:pt x="2795" y="876"/>
                        </a:lnTo>
                        <a:lnTo>
                          <a:pt x="2786" y="883"/>
                        </a:lnTo>
                        <a:lnTo>
                          <a:pt x="2775" y="890"/>
                        </a:lnTo>
                        <a:lnTo>
                          <a:pt x="2762" y="895"/>
                        </a:lnTo>
                        <a:lnTo>
                          <a:pt x="2750" y="898"/>
                        </a:lnTo>
                        <a:lnTo>
                          <a:pt x="2737" y="902"/>
                        </a:lnTo>
                        <a:lnTo>
                          <a:pt x="2725" y="905"/>
                        </a:lnTo>
                        <a:lnTo>
                          <a:pt x="2691" y="906"/>
                        </a:lnTo>
                        <a:lnTo>
                          <a:pt x="2659" y="903"/>
                        </a:lnTo>
                        <a:lnTo>
                          <a:pt x="2629" y="897"/>
                        </a:lnTo>
                        <a:lnTo>
                          <a:pt x="2599" y="888"/>
                        </a:lnTo>
                        <a:lnTo>
                          <a:pt x="2572" y="877"/>
                        </a:lnTo>
                        <a:lnTo>
                          <a:pt x="2546" y="862"/>
                        </a:lnTo>
                        <a:lnTo>
                          <a:pt x="2521" y="846"/>
                        </a:lnTo>
                        <a:lnTo>
                          <a:pt x="2496" y="829"/>
                        </a:lnTo>
                        <a:lnTo>
                          <a:pt x="2472" y="809"/>
                        </a:lnTo>
                        <a:lnTo>
                          <a:pt x="2450" y="788"/>
                        </a:lnTo>
                        <a:lnTo>
                          <a:pt x="2427" y="767"/>
                        </a:lnTo>
                        <a:lnTo>
                          <a:pt x="2405" y="745"/>
                        </a:lnTo>
                        <a:lnTo>
                          <a:pt x="2384" y="722"/>
                        </a:lnTo>
                        <a:lnTo>
                          <a:pt x="2361" y="700"/>
                        </a:lnTo>
                        <a:lnTo>
                          <a:pt x="2340" y="678"/>
                        </a:lnTo>
                        <a:lnTo>
                          <a:pt x="2318" y="656"/>
                        </a:lnTo>
                        <a:lnTo>
                          <a:pt x="2305" y="653"/>
                        </a:lnTo>
                        <a:lnTo>
                          <a:pt x="2292" y="649"/>
                        </a:lnTo>
                        <a:lnTo>
                          <a:pt x="2279" y="647"/>
                        </a:lnTo>
                        <a:lnTo>
                          <a:pt x="2267" y="645"/>
                        </a:lnTo>
                        <a:lnTo>
                          <a:pt x="2254" y="643"/>
                        </a:lnTo>
                        <a:lnTo>
                          <a:pt x="2241" y="643"/>
                        </a:lnTo>
                        <a:lnTo>
                          <a:pt x="2228" y="642"/>
                        </a:lnTo>
                        <a:lnTo>
                          <a:pt x="2215" y="640"/>
                        </a:lnTo>
                        <a:lnTo>
                          <a:pt x="2202" y="640"/>
                        </a:lnTo>
                        <a:lnTo>
                          <a:pt x="2188" y="640"/>
                        </a:lnTo>
                        <a:lnTo>
                          <a:pt x="2175" y="640"/>
                        </a:lnTo>
                        <a:lnTo>
                          <a:pt x="2161" y="640"/>
                        </a:lnTo>
                        <a:lnTo>
                          <a:pt x="2146" y="640"/>
                        </a:lnTo>
                        <a:lnTo>
                          <a:pt x="2132" y="640"/>
                        </a:lnTo>
                        <a:lnTo>
                          <a:pt x="2117" y="640"/>
                        </a:lnTo>
                        <a:lnTo>
                          <a:pt x="2103" y="640"/>
                        </a:lnTo>
                        <a:lnTo>
                          <a:pt x="2057" y="627"/>
                        </a:lnTo>
                        <a:lnTo>
                          <a:pt x="2010" y="614"/>
                        </a:lnTo>
                        <a:lnTo>
                          <a:pt x="1964" y="601"/>
                        </a:lnTo>
                        <a:lnTo>
                          <a:pt x="1918" y="589"/>
                        </a:lnTo>
                        <a:lnTo>
                          <a:pt x="1872" y="578"/>
                        </a:lnTo>
                        <a:lnTo>
                          <a:pt x="1825" y="567"/>
                        </a:lnTo>
                        <a:lnTo>
                          <a:pt x="1779" y="556"/>
                        </a:lnTo>
                        <a:lnTo>
                          <a:pt x="1732" y="546"/>
                        </a:lnTo>
                        <a:lnTo>
                          <a:pt x="1686" y="535"/>
                        </a:lnTo>
                        <a:lnTo>
                          <a:pt x="1638" y="525"/>
                        </a:lnTo>
                        <a:lnTo>
                          <a:pt x="1591" y="515"/>
                        </a:lnTo>
                        <a:lnTo>
                          <a:pt x="1544" y="506"/>
                        </a:lnTo>
                        <a:lnTo>
                          <a:pt x="1496" y="496"/>
                        </a:lnTo>
                        <a:lnTo>
                          <a:pt x="1449" y="486"/>
                        </a:lnTo>
                        <a:lnTo>
                          <a:pt x="1403" y="477"/>
                        </a:lnTo>
                        <a:lnTo>
                          <a:pt x="1356" y="467"/>
                        </a:lnTo>
                        <a:lnTo>
                          <a:pt x="1340" y="449"/>
                        </a:lnTo>
                        <a:lnTo>
                          <a:pt x="1318" y="452"/>
                        </a:lnTo>
                        <a:lnTo>
                          <a:pt x="1297" y="452"/>
                        </a:lnTo>
                        <a:lnTo>
                          <a:pt x="1276" y="452"/>
                        </a:lnTo>
                        <a:lnTo>
                          <a:pt x="1254" y="451"/>
                        </a:lnTo>
                        <a:lnTo>
                          <a:pt x="1231" y="449"/>
                        </a:lnTo>
                        <a:lnTo>
                          <a:pt x="1209" y="449"/>
                        </a:lnTo>
                        <a:lnTo>
                          <a:pt x="1187" y="448"/>
                        </a:lnTo>
                        <a:lnTo>
                          <a:pt x="1165" y="449"/>
                        </a:lnTo>
                        <a:lnTo>
                          <a:pt x="1144" y="451"/>
                        </a:lnTo>
                        <a:lnTo>
                          <a:pt x="1124" y="454"/>
                        </a:lnTo>
                        <a:lnTo>
                          <a:pt x="1106" y="460"/>
                        </a:lnTo>
                        <a:lnTo>
                          <a:pt x="1088" y="468"/>
                        </a:lnTo>
                        <a:lnTo>
                          <a:pt x="1071" y="479"/>
                        </a:lnTo>
                        <a:lnTo>
                          <a:pt x="1056" y="493"/>
                        </a:lnTo>
                        <a:lnTo>
                          <a:pt x="1043" y="511"/>
                        </a:lnTo>
                        <a:lnTo>
                          <a:pt x="1032" y="532"/>
                        </a:lnTo>
                        <a:lnTo>
                          <a:pt x="1035" y="566"/>
                        </a:lnTo>
                        <a:lnTo>
                          <a:pt x="1042" y="598"/>
                        </a:lnTo>
                        <a:lnTo>
                          <a:pt x="1051" y="629"/>
                        </a:lnTo>
                        <a:lnTo>
                          <a:pt x="1063" y="658"/>
                        </a:lnTo>
                        <a:lnTo>
                          <a:pt x="1077" y="686"/>
                        </a:lnTo>
                        <a:lnTo>
                          <a:pt x="1093" y="713"/>
                        </a:lnTo>
                        <a:lnTo>
                          <a:pt x="1111" y="740"/>
                        </a:lnTo>
                        <a:lnTo>
                          <a:pt x="1129" y="766"/>
                        </a:lnTo>
                        <a:lnTo>
                          <a:pt x="1149" y="790"/>
                        </a:lnTo>
                        <a:lnTo>
                          <a:pt x="1169" y="816"/>
                        </a:lnTo>
                        <a:lnTo>
                          <a:pt x="1188" y="841"/>
                        </a:lnTo>
                        <a:lnTo>
                          <a:pt x="1208" y="867"/>
                        </a:lnTo>
                        <a:lnTo>
                          <a:pt x="1226" y="895"/>
                        </a:lnTo>
                        <a:lnTo>
                          <a:pt x="1243" y="922"/>
                        </a:lnTo>
                        <a:lnTo>
                          <a:pt x="1259" y="950"/>
                        </a:lnTo>
                        <a:lnTo>
                          <a:pt x="1272" y="980"/>
                        </a:lnTo>
                        <a:lnTo>
                          <a:pt x="1301" y="1030"/>
                        </a:lnTo>
                        <a:lnTo>
                          <a:pt x="1326" y="1083"/>
                        </a:lnTo>
                        <a:lnTo>
                          <a:pt x="1345" y="1139"/>
                        </a:lnTo>
                        <a:lnTo>
                          <a:pt x="1357" y="1197"/>
                        </a:lnTo>
                        <a:lnTo>
                          <a:pt x="1363" y="1257"/>
                        </a:lnTo>
                        <a:lnTo>
                          <a:pt x="1363" y="1315"/>
                        </a:lnTo>
                        <a:lnTo>
                          <a:pt x="1356" y="1372"/>
                        </a:lnTo>
                        <a:lnTo>
                          <a:pt x="1340" y="1426"/>
                        </a:lnTo>
                        <a:lnTo>
                          <a:pt x="1323" y="1459"/>
                        </a:lnTo>
                        <a:lnTo>
                          <a:pt x="1306" y="1493"/>
                        </a:lnTo>
                        <a:lnTo>
                          <a:pt x="1286" y="1525"/>
                        </a:lnTo>
                        <a:lnTo>
                          <a:pt x="1264" y="1557"/>
                        </a:lnTo>
                        <a:lnTo>
                          <a:pt x="1241" y="1588"/>
                        </a:lnTo>
                        <a:lnTo>
                          <a:pt x="1215" y="1618"/>
                        </a:lnTo>
                        <a:lnTo>
                          <a:pt x="1189" y="1648"/>
                        </a:lnTo>
                        <a:lnTo>
                          <a:pt x="1160" y="1675"/>
                        </a:lnTo>
                        <a:lnTo>
                          <a:pt x="1131" y="1701"/>
                        </a:lnTo>
                        <a:lnTo>
                          <a:pt x="1101" y="1724"/>
                        </a:lnTo>
                        <a:lnTo>
                          <a:pt x="1068" y="1747"/>
                        </a:lnTo>
                        <a:lnTo>
                          <a:pt x="1035" y="1767"/>
                        </a:lnTo>
                        <a:lnTo>
                          <a:pt x="1000" y="1785"/>
                        </a:lnTo>
                        <a:lnTo>
                          <a:pt x="964" y="1800"/>
                        </a:lnTo>
                        <a:lnTo>
                          <a:pt x="928" y="1813"/>
                        </a:lnTo>
                        <a:lnTo>
                          <a:pt x="890" y="1822"/>
                        </a:lnTo>
                        <a:lnTo>
                          <a:pt x="865" y="1832"/>
                        </a:lnTo>
                        <a:lnTo>
                          <a:pt x="841" y="1840"/>
                        </a:lnTo>
                        <a:lnTo>
                          <a:pt x="816" y="1847"/>
                        </a:lnTo>
                        <a:lnTo>
                          <a:pt x="790" y="1852"/>
                        </a:lnTo>
                        <a:lnTo>
                          <a:pt x="763" y="1856"/>
                        </a:lnTo>
                        <a:lnTo>
                          <a:pt x="737" y="1858"/>
                        </a:lnTo>
                        <a:lnTo>
                          <a:pt x="710" y="1860"/>
                        </a:lnTo>
                        <a:lnTo>
                          <a:pt x="684" y="1860"/>
                        </a:lnTo>
                        <a:lnTo>
                          <a:pt x="656" y="1858"/>
                        </a:lnTo>
                        <a:lnTo>
                          <a:pt x="629" y="1857"/>
                        </a:lnTo>
                        <a:lnTo>
                          <a:pt x="603" y="1856"/>
                        </a:lnTo>
                        <a:lnTo>
                          <a:pt x="575" y="1853"/>
                        </a:lnTo>
                        <a:lnTo>
                          <a:pt x="548" y="1850"/>
                        </a:lnTo>
                        <a:lnTo>
                          <a:pt x="522" y="1847"/>
                        </a:lnTo>
                        <a:lnTo>
                          <a:pt x="495" y="1844"/>
                        </a:lnTo>
                        <a:lnTo>
                          <a:pt x="468" y="1840"/>
                        </a:lnTo>
                        <a:lnTo>
                          <a:pt x="452" y="1830"/>
                        </a:lnTo>
                        <a:lnTo>
                          <a:pt x="435" y="1820"/>
                        </a:lnTo>
                        <a:lnTo>
                          <a:pt x="419" y="1811"/>
                        </a:lnTo>
                        <a:lnTo>
                          <a:pt x="401" y="1803"/>
                        </a:lnTo>
                        <a:lnTo>
                          <a:pt x="384" y="1795"/>
                        </a:lnTo>
                        <a:lnTo>
                          <a:pt x="366" y="1787"/>
                        </a:lnTo>
                        <a:lnTo>
                          <a:pt x="349" y="1779"/>
                        </a:lnTo>
                        <a:lnTo>
                          <a:pt x="331" y="1772"/>
                        </a:lnTo>
                        <a:lnTo>
                          <a:pt x="314" y="1764"/>
                        </a:lnTo>
                        <a:lnTo>
                          <a:pt x="297" y="1755"/>
                        </a:lnTo>
                        <a:lnTo>
                          <a:pt x="280" y="1747"/>
                        </a:lnTo>
                        <a:lnTo>
                          <a:pt x="263" y="1737"/>
                        </a:lnTo>
                        <a:lnTo>
                          <a:pt x="247" y="1727"/>
                        </a:lnTo>
                        <a:lnTo>
                          <a:pt x="232" y="1716"/>
                        </a:lnTo>
                        <a:lnTo>
                          <a:pt x="217" y="1703"/>
                        </a:lnTo>
                        <a:lnTo>
                          <a:pt x="202" y="1690"/>
                        </a:lnTo>
                        <a:lnTo>
                          <a:pt x="195" y="1681"/>
                        </a:lnTo>
                        <a:lnTo>
                          <a:pt x="186" y="1674"/>
                        </a:lnTo>
                        <a:lnTo>
                          <a:pt x="177" y="1665"/>
                        </a:lnTo>
                        <a:lnTo>
                          <a:pt x="166" y="1658"/>
                        </a:lnTo>
                        <a:lnTo>
                          <a:pt x="156" y="1651"/>
                        </a:lnTo>
                        <a:lnTo>
                          <a:pt x="144" y="1646"/>
                        </a:lnTo>
                        <a:lnTo>
                          <a:pt x="131" y="1643"/>
                        </a:lnTo>
                        <a:lnTo>
                          <a:pt x="119" y="1641"/>
                        </a:lnTo>
                        <a:lnTo>
                          <a:pt x="80" y="1566"/>
                        </a:lnTo>
                        <a:lnTo>
                          <a:pt x="46" y="1485"/>
                        </a:lnTo>
                        <a:lnTo>
                          <a:pt x="20" y="1398"/>
                        </a:lnTo>
                        <a:lnTo>
                          <a:pt x="4" y="1311"/>
                        </a:lnTo>
                        <a:lnTo>
                          <a:pt x="0" y="1223"/>
                        </a:lnTo>
                        <a:lnTo>
                          <a:pt x="10" y="1139"/>
                        </a:lnTo>
                        <a:lnTo>
                          <a:pt x="39" y="1060"/>
                        </a:lnTo>
                        <a:lnTo>
                          <a:pt x="86" y="986"/>
                        </a:lnTo>
                        <a:lnTo>
                          <a:pt x="111" y="974"/>
                        </a:lnTo>
                        <a:lnTo>
                          <a:pt x="135" y="967"/>
                        </a:lnTo>
                        <a:lnTo>
                          <a:pt x="158" y="964"/>
                        </a:lnTo>
                        <a:lnTo>
                          <a:pt x="181" y="964"/>
                        </a:lnTo>
                        <a:lnTo>
                          <a:pt x="202" y="968"/>
                        </a:lnTo>
                        <a:lnTo>
                          <a:pt x="224" y="975"/>
                        </a:lnTo>
                        <a:lnTo>
                          <a:pt x="246" y="984"/>
                        </a:lnTo>
                        <a:lnTo>
                          <a:pt x="267" y="995"/>
                        </a:lnTo>
                        <a:lnTo>
                          <a:pt x="287" y="1007"/>
                        </a:lnTo>
                        <a:lnTo>
                          <a:pt x="308" y="1021"/>
                        </a:lnTo>
                        <a:lnTo>
                          <a:pt x="329" y="1034"/>
                        </a:lnTo>
                        <a:lnTo>
                          <a:pt x="349" y="1047"/>
                        </a:lnTo>
                        <a:lnTo>
                          <a:pt x="370" y="1060"/>
                        </a:lnTo>
                        <a:lnTo>
                          <a:pt x="391" y="1071"/>
                        </a:lnTo>
                        <a:lnTo>
                          <a:pt x="412" y="1079"/>
                        </a:lnTo>
                        <a:lnTo>
                          <a:pt x="434" y="1087"/>
                        </a:lnTo>
                        <a:lnTo>
                          <a:pt x="451" y="1104"/>
                        </a:lnTo>
                        <a:lnTo>
                          <a:pt x="470" y="1120"/>
                        </a:lnTo>
                        <a:lnTo>
                          <a:pt x="490" y="1136"/>
                        </a:lnTo>
                        <a:lnTo>
                          <a:pt x="508" y="1151"/>
                        </a:lnTo>
                        <a:lnTo>
                          <a:pt x="528" y="1168"/>
                        </a:lnTo>
                        <a:lnTo>
                          <a:pt x="548" y="1182"/>
                        </a:lnTo>
                        <a:lnTo>
                          <a:pt x="569" y="1197"/>
                        </a:lnTo>
                        <a:lnTo>
                          <a:pt x="589" y="1212"/>
                        </a:lnTo>
                        <a:lnTo>
                          <a:pt x="608" y="1227"/>
                        </a:lnTo>
                        <a:lnTo>
                          <a:pt x="628" y="1242"/>
                        </a:lnTo>
                        <a:lnTo>
                          <a:pt x="645" y="1258"/>
                        </a:lnTo>
                        <a:lnTo>
                          <a:pt x="664" y="1274"/>
                        </a:lnTo>
                        <a:lnTo>
                          <a:pt x="680" y="1290"/>
                        </a:lnTo>
                        <a:lnTo>
                          <a:pt x="696" y="1308"/>
                        </a:lnTo>
                        <a:lnTo>
                          <a:pt x="711" y="1325"/>
                        </a:lnTo>
                        <a:lnTo>
                          <a:pt x="725" y="1344"/>
                        </a:lnTo>
                        <a:lnTo>
                          <a:pt x="711" y="1346"/>
                        </a:lnTo>
                        <a:lnTo>
                          <a:pt x="702" y="1352"/>
                        </a:lnTo>
                        <a:lnTo>
                          <a:pt x="700" y="1362"/>
                        </a:lnTo>
                        <a:lnTo>
                          <a:pt x="699" y="1375"/>
                        </a:lnTo>
                        <a:lnTo>
                          <a:pt x="699" y="1390"/>
                        </a:lnTo>
                        <a:lnTo>
                          <a:pt x="699" y="1403"/>
                        </a:lnTo>
                        <a:lnTo>
                          <a:pt x="697" y="1416"/>
                        </a:lnTo>
                        <a:lnTo>
                          <a:pt x="691" y="1426"/>
                        </a:lnTo>
                        <a:lnTo>
                          <a:pt x="680" y="1433"/>
                        </a:lnTo>
                        <a:lnTo>
                          <a:pt x="669" y="1442"/>
                        </a:lnTo>
                        <a:lnTo>
                          <a:pt x="656" y="1452"/>
                        </a:lnTo>
                        <a:lnTo>
                          <a:pt x="644" y="1459"/>
                        </a:lnTo>
                        <a:lnTo>
                          <a:pt x="630" y="1465"/>
                        </a:lnTo>
                        <a:lnTo>
                          <a:pt x="618" y="1466"/>
                        </a:lnTo>
                        <a:lnTo>
                          <a:pt x="605" y="1462"/>
                        </a:lnTo>
                        <a:lnTo>
                          <a:pt x="593" y="1450"/>
                        </a:lnTo>
                        <a:lnTo>
                          <a:pt x="578" y="1452"/>
                        </a:lnTo>
                        <a:lnTo>
                          <a:pt x="565" y="1448"/>
                        </a:lnTo>
                        <a:lnTo>
                          <a:pt x="554" y="1439"/>
                        </a:lnTo>
                        <a:lnTo>
                          <a:pt x="543" y="1429"/>
                        </a:lnTo>
                        <a:lnTo>
                          <a:pt x="532" y="1421"/>
                        </a:lnTo>
                        <a:lnTo>
                          <a:pt x="521" y="1416"/>
                        </a:lnTo>
                        <a:lnTo>
                          <a:pt x="508" y="1417"/>
                        </a:lnTo>
                        <a:lnTo>
                          <a:pt x="493" y="1426"/>
                        </a:lnTo>
                        <a:lnTo>
                          <a:pt x="511" y="1443"/>
                        </a:lnTo>
                        <a:lnTo>
                          <a:pt x="529" y="1458"/>
                        </a:lnTo>
                        <a:lnTo>
                          <a:pt x="549" y="1470"/>
                        </a:lnTo>
                        <a:lnTo>
                          <a:pt x="570" y="1480"/>
                        </a:lnTo>
                        <a:lnTo>
                          <a:pt x="593" y="1488"/>
                        </a:lnTo>
                        <a:lnTo>
                          <a:pt x="617" y="1493"/>
                        </a:lnTo>
                        <a:lnTo>
                          <a:pt x="641" y="1497"/>
                        </a:lnTo>
                        <a:lnTo>
                          <a:pt x="668" y="1500"/>
                        </a:lnTo>
                        <a:lnTo>
                          <a:pt x="680" y="1488"/>
                        </a:lnTo>
                        <a:lnTo>
                          <a:pt x="692" y="1480"/>
                        </a:lnTo>
                        <a:lnTo>
                          <a:pt x="706" y="1475"/>
                        </a:lnTo>
                        <a:lnTo>
                          <a:pt x="720" y="1471"/>
                        </a:lnTo>
                        <a:lnTo>
                          <a:pt x="733" y="1468"/>
                        </a:lnTo>
                        <a:lnTo>
                          <a:pt x="747" y="1463"/>
                        </a:lnTo>
                        <a:lnTo>
                          <a:pt x="761" y="1454"/>
                        </a:lnTo>
                        <a:lnTo>
                          <a:pt x="775" y="1442"/>
                        </a:lnTo>
                        <a:lnTo>
                          <a:pt x="787" y="1423"/>
                        </a:lnTo>
                        <a:lnTo>
                          <a:pt x="796" y="1404"/>
                        </a:lnTo>
                        <a:lnTo>
                          <a:pt x="799" y="1385"/>
                        </a:lnTo>
                        <a:lnTo>
                          <a:pt x="802" y="1365"/>
                        </a:lnTo>
                        <a:lnTo>
                          <a:pt x="802" y="1344"/>
                        </a:lnTo>
                        <a:lnTo>
                          <a:pt x="801" y="1321"/>
                        </a:lnTo>
                        <a:lnTo>
                          <a:pt x="801" y="1299"/>
                        </a:lnTo>
                        <a:lnTo>
                          <a:pt x="801" y="1277"/>
                        </a:lnTo>
                        <a:lnTo>
                          <a:pt x="790" y="1253"/>
                        </a:lnTo>
                        <a:lnTo>
                          <a:pt x="776" y="1230"/>
                        </a:lnTo>
                        <a:lnTo>
                          <a:pt x="762" y="1207"/>
                        </a:lnTo>
                        <a:lnTo>
                          <a:pt x="746" y="1184"/>
                        </a:lnTo>
                        <a:lnTo>
                          <a:pt x="730" y="1160"/>
                        </a:lnTo>
                        <a:lnTo>
                          <a:pt x="712" y="1136"/>
                        </a:lnTo>
                        <a:lnTo>
                          <a:pt x="694" y="1113"/>
                        </a:lnTo>
                        <a:lnTo>
                          <a:pt x="675" y="1089"/>
                        </a:lnTo>
                        <a:lnTo>
                          <a:pt x="656" y="1066"/>
                        </a:lnTo>
                        <a:lnTo>
                          <a:pt x="638" y="1043"/>
                        </a:lnTo>
                        <a:lnTo>
                          <a:pt x="619" y="1020"/>
                        </a:lnTo>
                        <a:lnTo>
                          <a:pt x="600" y="996"/>
                        </a:lnTo>
                        <a:lnTo>
                          <a:pt x="583" y="974"/>
                        </a:lnTo>
                        <a:lnTo>
                          <a:pt x="565" y="950"/>
                        </a:lnTo>
                        <a:lnTo>
                          <a:pt x="549" y="927"/>
                        </a:lnTo>
                        <a:lnTo>
                          <a:pt x="534" y="905"/>
                        </a:lnTo>
                        <a:lnTo>
                          <a:pt x="518" y="859"/>
                        </a:lnTo>
                        <a:lnTo>
                          <a:pt x="507" y="813"/>
                        </a:lnTo>
                        <a:lnTo>
                          <a:pt x="503" y="767"/>
                        </a:lnTo>
                        <a:lnTo>
                          <a:pt x="504" y="721"/>
                        </a:lnTo>
                        <a:lnTo>
                          <a:pt x="509" y="676"/>
                        </a:lnTo>
                        <a:lnTo>
                          <a:pt x="521" y="632"/>
                        </a:lnTo>
                        <a:lnTo>
                          <a:pt x="534" y="587"/>
                        </a:lnTo>
                        <a:lnTo>
                          <a:pt x="553" y="544"/>
                        </a:lnTo>
                        <a:lnTo>
                          <a:pt x="574" y="503"/>
                        </a:lnTo>
                        <a:lnTo>
                          <a:pt x="598" y="462"/>
                        </a:lnTo>
                        <a:lnTo>
                          <a:pt x="624" y="422"/>
                        </a:lnTo>
                        <a:lnTo>
                          <a:pt x="653" y="384"/>
                        </a:lnTo>
                        <a:lnTo>
                          <a:pt x="682" y="348"/>
                        </a:lnTo>
                        <a:lnTo>
                          <a:pt x="712" y="313"/>
                        </a:lnTo>
                        <a:lnTo>
                          <a:pt x="743" y="281"/>
                        </a:lnTo>
                        <a:lnTo>
                          <a:pt x="775" y="251"/>
                        </a:lnTo>
                        <a:lnTo>
                          <a:pt x="803" y="226"/>
                        </a:lnTo>
                        <a:lnTo>
                          <a:pt x="833" y="205"/>
                        </a:lnTo>
                        <a:lnTo>
                          <a:pt x="863" y="185"/>
                        </a:lnTo>
                        <a:lnTo>
                          <a:pt x="894" y="166"/>
                        </a:lnTo>
                        <a:lnTo>
                          <a:pt x="926" y="149"/>
                        </a:lnTo>
                        <a:lnTo>
                          <a:pt x="959" y="134"/>
                        </a:lnTo>
                        <a:lnTo>
                          <a:pt x="991" y="119"/>
                        </a:lnTo>
                        <a:lnTo>
                          <a:pt x="1023" y="106"/>
                        </a:lnTo>
                        <a:lnTo>
                          <a:pt x="1057" y="93"/>
                        </a:lnTo>
                        <a:lnTo>
                          <a:pt x="1091" y="81"/>
                        </a:lnTo>
                        <a:lnTo>
                          <a:pt x="1124" y="68"/>
                        </a:lnTo>
                        <a:lnTo>
                          <a:pt x="1158" y="56"/>
                        </a:lnTo>
                        <a:lnTo>
                          <a:pt x="1192" y="44"/>
                        </a:lnTo>
                        <a:lnTo>
                          <a:pt x="1224" y="30"/>
                        </a:lnTo>
                        <a:lnTo>
                          <a:pt x="1257" y="18"/>
                        </a:lnTo>
                        <a:lnTo>
                          <a:pt x="1290" y="3"/>
                        </a:lnTo>
                        <a:lnTo>
                          <a:pt x="1318" y="5"/>
                        </a:lnTo>
                        <a:lnTo>
                          <a:pt x="1347" y="6"/>
                        </a:lnTo>
                        <a:lnTo>
                          <a:pt x="1377" y="6"/>
                        </a:lnTo>
                        <a:lnTo>
                          <a:pt x="1408" y="5"/>
                        </a:lnTo>
                        <a:lnTo>
                          <a:pt x="1438" y="4"/>
                        </a:lnTo>
                        <a:lnTo>
                          <a:pt x="1468" y="3"/>
                        </a:lnTo>
                        <a:lnTo>
                          <a:pt x="1499" y="1"/>
                        </a:lnTo>
                        <a:lnTo>
                          <a:pt x="1529" y="0"/>
                        </a:lnTo>
                        <a:lnTo>
                          <a:pt x="1559" y="0"/>
                        </a:lnTo>
                        <a:lnTo>
                          <a:pt x="1587" y="1"/>
                        </a:lnTo>
                        <a:lnTo>
                          <a:pt x="1617" y="5"/>
                        </a:lnTo>
                        <a:lnTo>
                          <a:pt x="1645" y="9"/>
                        </a:lnTo>
                        <a:lnTo>
                          <a:pt x="1672" y="16"/>
                        </a:lnTo>
                        <a:lnTo>
                          <a:pt x="1697" y="25"/>
                        </a:lnTo>
                        <a:lnTo>
                          <a:pt x="1722" y="37"/>
                        </a:lnTo>
                        <a:lnTo>
                          <a:pt x="174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flipH="1">
                    <a:off x="1639080" y="2937240"/>
                    <a:ext cx="412560" cy="248400"/>
                  </a:xfrm>
                  <a:custGeom>
                    <a:avLst/>
                    <a:gdLst/>
                    <a:ahLst/>
                    <a:rect l="l" t="t" r="r" b="b"/>
                    <a:pathLst>
                      <a:path w="1659" h="1613">
                        <a:moveTo>
                          <a:pt x="936" y="27"/>
                        </a:moveTo>
                        <a:lnTo>
                          <a:pt x="981" y="29"/>
                        </a:lnTo>
                        <a:lnTo>
                          <a:pt x="1025" y="34"/>
                        </a:lnTo>
                        <a:lnTo>
                          <a:pt x="1068" y="40"/>
                        </a:lnTo>
                        <a:lnTo>
                          <a:pt x="1110" y="48"/>
                        </a:lnTo>
                        <a:lnTo>
                          <a:pt x="1153" y="57"/>
                        </a:lnTo>
                        <a:lnTo>
                          <a:pt x="1195" y="66"/>
                        </a:lnTo>
                        <a:lnTo>
                          <a:pt x="1236" y="78"/>
                        </a:lnTo>
                        <a:lnTo>
                          <a:pt x="1277" y="89"/>
                        </a:lnTo>
                        <a:lnTo>
                          <a:pt x="1318" y="102"/>
                        </a:lnTo>
                        <a:lnTo>
                          <a:pt x="1358" y="116"/>
                        </a:lnTo>
                        <a:lnTo>
                          <a:pt x="1398" y="131"/>
                        </a:lnTo>
                        <a:lnTo>
                          <a:pt x="1438" y="146"/>
                        </a:lnTo>
                        <a:lnTo>
                          <a:pt x="1476" y="161"/>
                        </a:lnTo>
                        <a:lnTo>
                          <a:pt x="1515" y="177"/>
                        </a:lnTo>
                        <a:lnTo>
                          <a:pt x="1554" y="192"/>
                        </a:lnTo>
                        <a:lnTo>
                          <a:pt x="1591" y="208"/>
                        </a:lnTo>
                        <a:lnTo>
                          <a:pt x="1581" y="224"/>
                        </a:lnTo>
                        <a:lnTo>
                          <a:pt x="1571" y="236"/>
                        </a:lnTo>
                        <a:lnTo>
                          <a:pt x="1560" y="244"/>
                        </a:lnTo>
                        <a:lnTo>
                          <a:pt x="1547" y="248"/>
                        </a:lnTo>
                        <a:lnTo>
                          <a:pt x="1535" y="249"/>
                        </a:lnTo>
                        <a:lnTo>
                          <a:pt x="1521" y="249"/>
                        </a:lnTo>
                        <a:lnTo>
                          <a:pt x="1507" y="245"/>
                        </a:lnTo>
                        <a:lnTo>
                          <a:pt x="1494" y="240"/>
                        </a:lnTo>
                        <a:lnTo>
                          <a:pt x="1480" y="235"/>
                        </a:lnTo>
                        <a:lnTo>
                          <a:pt x="1465" y="229"/>
                        </a:lnTo>
                        <a:lnTo>
                          <a:pt x="1450" y="223"/>
                        </a:lnTo>
                        <a:lnTo>
                          <a:pt x="1435" y="217"/>
                        </a:lnTo>
                        <a:lnTo>
                          <a:pt x="1420" y="212"/>
                        </a:lnTo>
                        <a:lnTo>
                          <a:pt x="1405" y="208"/>
                        </a:lnTo>
                        <a:lnTo>
                          <a:pt x="1390" y="207"/>
                        </a:lnTo>
                        <a:lnTo>
                          <a:pt x="1376" y="208"/>
                        </a:lnTo>
                        <a:lnTo>
                          <a:pt x="1361" y="202"/>
                        </a:lnTo>
                        <a:lnTo>
                          <a:pt x="1347" y="195"/>
                        </a:lnTo>
                        <a:lnTo>
                          <a:pt x="1333" y="188"/>
                        </a:lnTo>
                        <a:lnTo>
                          <a:pt x="1320" y="181"/>
                        </a:lnTo>
                        <a:lnTo>
                          <a:pt x="1306" y="173"/>
                        </a:lnTo>
                        <a:lnTo>
                          <a:pt x="1292" y="166"/>
                        </a:lnTo>
                        <a:lnTo>
                          <a:pt x="1278" y="157"/>
                        </a:lnTo>
                        <a:lnTo>
                          <a:pt x="1266" y="150"/>
                        </a:lnTo>
                        <a:lnTo>
                          <a:pt x="1252" y="141"/>
                        </a:lnTo>
                        <a:lnTo>
                          <a:pt x="1239" y="133"/>
                        </a:lnTo>
                        <a:lnTo>
                          <a:pt x="1225" y="125"/>
                        </a:lnTo>
                        <a:lnTo>
                          <a:pt x="1211" y="117"/>
                        </a:lnTo>
                        <a:lnTo>
                          <a:pt x="1196" y="111"/>
                        </a:lnTo>
                        <a:lnTo>
                          <a:pt x="1181" y="104"/>
                        </a:lnTo>
                        <a:lnTo>
                          <a:pt x="1166" y="98"/>
                        </a:lnTo>
                        <a:lnTo>
                          <a:pt x="1152" y="93"/>
                        </a:lnTo>
                        <a:lnTo>
                          <a:pt x="1140" y="109"/>
                        </a:lnTo>
                        <a:lnTo>
                          <a:pt x="1139" y="125"/>
                        </a:lnTo>
                        <a:lnTo>
                          <a:pt x="1145" y="140"/>
                        </a:lnTo>
                        <a:lnTo>
                          <a:pt x="1158" y="155"/>
                        </a:lnTo>
                        <a:lnTo>
                          <a:pt x="1170" y="169"/>
                        </a:lnTo>
                        <a:lnTo>
                          <a:pt x="1184" y="184"/>
                        </a:lnTo>
                        <a:lnTo>
                          <a:pt x="1195" y="200"/>
                        </a:lnTo>
                        <a:lnTo>
                          <a:pt x="1200" y="217"/>
                        </a:lnTo>
                        <a:lnTo>
                          <a:pt x="1208" y="224"/>
                        </a:lnTo>
                        <a:lnTo>
                          <a:pt x="1215" y="231"/>
                        </a:lnTo>
                        <a:lnTo>
                          <a:pt x="1224" y="239"/>
                        </a:lnTo>
                        <a:lnTo>
                          <a:pt x="1232" y="244"/>
                        </a:lnTo>
                        <a:lnTo>
                          <a:pt x="1240" y="249"/>
                        </a:lnTo>
                        <a:lnTo>
                          <a:pt x="1249" y="253"/>
                        </a:lnTo>
                        <a:lnTo>
                          <a:pt x="1259" y="255"/>
                        </a:lnTo>
                        <a:lnTo>
                          <a:pt x="1267" y="258"/>
                        </a:lnTo>
                        <a:lnTo>
                          <a:pt x="1280" y="248"/>
                        </a:lnTo>
                        <a:lnTo>
                          <a:pt x="1285" y="234"/>
                        </a:lnTo>
                        <a:lnTo>
                          <a:pt x="1283" y="219"/>
                        </a:lnTo>
                        <a:lnTo>
                          <a:pt x="1276" y="208"/>
                        </a:lnTo>
                        <a:lnTo>
                          <a:pt x="1282" y="233"/>
                        </a:lnTo>
                        <a:lnTo>
                          <a:pt x="1290" y="260"/>
                        </a:lnTo>
                        <a:lnTo>
                          <a:pt x="1300" y="287"/>
                        </a:lnTo>
                        <a:lnTo>
                          <a:pt x="1312" y="315"/>
                        </a:lnTo>
                        <a:lnTo>
                          <a:pt x="1327" y="338"/>
                        </a:lnTo>
                        <a:lnTo>
                          <a:pt x="1347" y="359"/>
                        </a:lnTo>
                        <a:lnTo>
                          <a:pt x="1371" y="374"/>
                        </a:lnTo>
                        <a:lnTo>
                          <a:pt x="1400" y="382"/>
                        </a:lnTo>
                        <a:lnTo>
                          <a:pt x="1419" y="384"/>
                        </a:lnTo>
                        <a:lnTo>
                          <a:pt x="1438" y="384"/>
                        </a:lnTo>
                        <a:lnTo>
                          <a:pt x="1456" y="379"/>
                        </a:lnTo>
                        <a:lnTo>
                          <a:pt x="1474" y="373"/>
                        </a:lnTo>
                        <a:lnTo>
                          <a:pt x="1491" y="363"/>
                        </a:lnTo>
                        <a:lnTo>
                          <a:pt x="1507" y="352"/>
                        </a:lnTo>
                        <a:lnTo>
                          <a:pt x="1521" y="338"/>
                        </a:lnTo>
                        <a:lnTo>
                          <a:pt x="1532" y="323"/>
                        </a:lnTo>
                        <a:lnTo>
                          <a:pt x="1532" y="316"/>
                        </a:lnTo>
                        <a:lnTo>
                          <a:pt x="1551" y="325"/>
                        </a:lnTo>
                        <a:lnTo>
                          <a:pt x="1571" y="331"/>
                        </a:lnTo>
                        <a:lnTo>
                          <a:pt x="1593" y="337"/>
                        </a:lnTo>
                        <a:lnTo>
                          <a:pt x="1613" y="343"/>
                        </a:lnTo>
                        <a:lnTo>
                          <a:pt x="1632" y="353"/>
                        </a:lnTo>
                        <a:lnTo>
                          <a:pt x="1646" y="365"/>
                        </a:lnTo>
                        <a:lnTo>
                          <a:pt x="1654" y="383"/>
                        </a:lnTo>
                        <a:lnTo>
                          <a:pt x="1657" y="406"/>
                        </a:lnTo>
                        <a:lnTo>
                          <a:pt x="1659" y="423"/>
                        </a:lnTo>
                        <a:lnTo>
                          <a:pt x="1657" y="436"/>
                        </a:lnTo>
                        <a:lnTo>
                          <a:pt x="1649" y="447"/>
                        </a:lnTo>
                        <a:lnTo>
                          <a:pt x="1639" y="456"/>
                        </a:lnTo>
                        <a:lnTo>
                          <a:pt x="1626" y="462"/>
                        </a:lnTo>
                        <a:lnTo>
                          <a:pt x="1610" y="467"/>
                        </a:lnTo>
                        <a:lnTo>
                          <a:pt x="1592" y="471"/>
                        </a:lnTo>
                        <a:lnTo>
                          <a:pt x="1573" y="473"/>
                        </a:lnTo>
                        <a:lnTo>
                          <a:pt x="1549" y="467"/>
                        </a:lnTo>
                        <a:lnTo>
                          <a:pt x="1524" y="458"/>
                        </a:lnTo>
                        <a:lnTo>
                          <a:pt x="1499" y="450"/>
                        </a:lnTo>
                        <a:lnTo>
                          <a:pt x="1475" y="439"/>
                        </a:lnTo>
                        <a:lnTo>
                          <a:pt x="1451" y="427"/>
                        </a:lnTo>
                        <a:lnTo>
                          <a:pt x="1429" y="415"/>
                        </a:lnTo>
                        <a:lnTo>
                          <a:pt x="1405" y="403"/>
                        </a:lnTo>
                        <a:lnTo>
                          <a:pt x="1383" y="390"/>
                        </a:lnTo>
                        <a:lnTo>
                          <a:pt x="1359" y="378"/>
                        </a:lnTo>
                        <a:lnTo>
                          <a:pt x="1336" y="367"/>
                        </a:lnTo>
                        <a:lnTo>
                          <a:pt x="1312" y="356"/>
                        </a:lnTo>
                        <a:lnTo>
                          <a:pt x="1288" y="346"/>
                        </a:lnTo>
                        <a:lnTo>
                          <a:pt x="1264" y="338"/>
                        </a:lnTo>
                        <a:lnTo>
                          <a:pt x="1239" y="331"/>
                        </a:lnTo>
                        <a:lnTo>
                          <a:pt x="1213" y="326"/>
                        </a:lnTo>
                        <a:lnTo>
                          <a:pt x="1185" y="323"/>
                        </a:lnTo>
                        <a:lnTo>
                          <a:pt x="1169" y="317"/>
                        </a:lnTo>
                        <a:lnTo>
                          <a:pt x="1153" y="311"/>
                        </a:lnTo>
                        <a:lnTo>
                          <a:pt x="1137" y="305"/>
                        </a:lnTo>
                        <a:lnTo>
                          <a:pt x="1120" y="298"/>
                        </a:lnTo>
                        <a:lnTo>
                          <a:pt x="1103" y="292"/>
                        </a:lnTo>
                        <a:lnTo>
                          <a:pt x="1086" y="287"/>
                        </a:lnTo>
                        <a:lnTo>
                          <a:pt x="1068" y="282"/>
                        </a:lnTo>
                        <a:lnTo>
                          <a:pt x="1049" y="279"/>
                        </a:lnTo>
                        <a:lnTo>
                          <a:pt x="1032" y="276"/>
                        </a:lnTo>
                        <a:lnTo>
                          <a:pt x="1015" y="275"/>
                        </a:lnTo>
                        <a:lnTo>
                          <a:pt x="996" y="275"/>
                        </a:lnTo>
                        <a:lnTo>
                          <a:pt x="979" y="276"/>
                        </a:lnTo>
                        <a:lnTo>
                          <a:pt x="961" y="279"/>
                        </a:lnTo>
                        <a:lnTo>
                          <a:pt x="944" y="284"/>
                        </a:lnTo>
                        <a:lnTo>
                          <a:pt x="926" y="291"/>
                        </a:lnTo>
                        <a:lnTo>
                          <a:pt x="910" y="300"/>
                        </a:lnTo>
                        <a:lnTo>
                          <a:pt x="910" y="307"/>
                        </a:lnTo>
                        <a:lnTo>
                          <a:pt x="911" y="313"/>
                        </a:lnTo>
                        <a:lnTo>
                          <a:pt x="915" y="321"/>
                        </a:lnTo>
                        <a:lnTo>
                          <a:pt x="920" y="326"/>
                        </a:lnTo>
                        <a:lnTo>
                          <a:pt x="925" y="331"/>
                        </a:lnTo>
                        <a:lnTo>
                          <a:pt x="932" y="336"/>
                        </a:lnTo>
                        <a:lnTo>
                          <a:pt x="939" y="338"/>
                        </a:lnTo>
                        <a:lnTo>
                          <a:pt x="945" y="341"/>
                        </a:lnTo>
                        <a:lnTo>
                          <a:pt x="975" y="333"/>
                        </a:lnTo>
                        <a:lnTo>
                          <a:pt x="1003" y="328"/>
                        </a:lnTo>
                        <a:lnTo>
                          <a:pt x="1031" y="327"/>
                        </a:lnTo>
                        <a:lnTo>
                          <a:pt x="1058" y="328"/>
                        </a:lnTo>
                        <a:lnTo>
                          <a:pt x="1086" y="332"/>
                        </a:lnTo>
                        <a:lnTo>
                          <a:pt x="1112" y="337"/>
                        </a:lnTo>
                        <a:lnTo>
                          <a:pt x="1137" y="344"/>
                        </a:lnTo>
                        <a:lnTo>
                          <a:pt x="1163" y="353"/>
                        </a:lnTo>
                        <a:lnTo>
                          <a:pt x="1188" y="363"/>
                        </a:lnTo>
                        <a:lnTo>
                          <a:pt x="1213" y="374"/>
                        </a:lnTo>
                        <a:lnTo>
                          <a:pt x="1236" y="385"/>
                        </a:lnTo>
                        <a:lnTo>
                          <a:pt x="1261" y="396"/>
                        </a:lnTo>
                        <a:lnTo>
                          <a:pt x="1286" y="409"/>
                        </a:lnTo>
                        <a:lnTo>
                          <a:pt x="1310" y="420"/>
                        </a:lnTo>
                        <a:lnTo>
                          <a:pt x="1334" y="430"/>
                        </a:lnTo>
                        <a:lnTo>
                          <a:pt x="1359" y="440"/>
                        </a:lnTo>
                        <a:lnTo>
                          <a:pt x="1318" y="436"/>
                        </a:lnTo>
                        <a:lnTo>
                          <a:pt x="1278" y="431"/>
                        </a:lnTo>
                        <a:lnTo>
                          <a:pt x="1237" y="425"/>
                        </a:lnTo>
                        <a:lnTo>
                          <a:pt x="1196" y="418"/>
                        </a:lnTo>
                        <a:lnTo>
                          <a:pt x="1155" y="409"/>
                        </a:lnTo>
                        <a:lnTo>
                          <a:pt x="1114" y="400"/>
                        </a:lnTo>
                        <a:lnTo>
                          <a:pt x="1073" y="390"/>
                        </a:lnTo>
                        <a:lnTo>
                          <a:pt x="1031" y="379"/>
                        </a:lnTo>
                        <a:lnTo>
                          <a:pt x="990" y="368"/>
                        </a:lnTo>
                        <a:lnTo>
                          <a:pt x="949" y="357"/>
                        </a:lnTo>
                        <a:lnTo>
                          <a:pt x="908" y="344"/>
                        </a:lnTo>
                        <a:lnTo>
                          <a:pt x="867" y="333"/>
                        </a:lnTo>
                        <a:lnTo>
                          <a:pt x="825" y="322"/>
                        </a:lnTo>
                        <a:lnTo>
                          <a:pt x="784" y="311"/>
                        </a:lnTo>
                        <a:lnTo>
                          <a:pt x="743" y="301"/>
                        </a:lnTo>
                        <a:lnTo>
                          <a:pt x="702" y="291"/>
                        </a:lnTo>
                        <a:lnTo>
                          <a:pt x="691" y="280"/>
                        </a:lnTo>
                        <a:lnTo>
                          <a:pt x="677" y="270"/>
                        </a:lnTo>
                        <a:lnTo>
                          <a:pt x="662" y="261"/>
                        </a:lnTo>
                        <a:lnTo>
                          <a:pt x="647" y="253"/>
                        </a:lnTo>
                        <a:lnTo>
                          <a:pt x="631" y="243"/>
                        </a:lnTo>
                        <a:lnTo>
                          <a:pt x="618" y="230"/>
                        </a:lnTo>
                        <a:lnTo>
                          <a:pt x="605" y="217"/>
                        </a:lnTo>
                        <a:lnTo>
                          <a:pt x="595" y="199"/>
                        </a:lnTo>
                        <a:lnTo>
                          <a:pt x="588" y="186"/>
                        </a:lnTo>
                        <a:lnTo>
                          <a:pt x="586" y="173"/>
                        </a:lnTo>
                        <a:lnTo>
                          <a:pt x="590" y="161"/>
                        </a:lnTo>
                        <a:lnTo>
                          <a:pt x="598" y="150"/>
                        </a:lnTo>
                        <a:lnTo>
                          <a:pt x="608" y="138"/>
                        </a:lnTo>
                        <a:lnTo>
                          <a:pt x="616" y="129"/>
                        </a:lnTo>
                        <a:lnTo>
                          <a:pt x="624" y="119"/>
                        </a:lnTo>
                        <a:lnTo>
                          <a:pt x="629" y="110"/>
                        </a:lnTo>
                        <a:lnTo>
                          <a:pt x="596" y="119"/>
                        </a:lnTo>
                        <a:lnTo>
                          <a:pt x="563" y="126"/>
                        </a:lnTo>
                        <a:lnTo>
                          <a:pt x="529" y="135"/>
                        </a:lnTo>
                        <a:lnTo>
                          <a:pt x="496" y="143"/>
                        </a:lnTo>
                        <a:lnTo>
                          <a:pt x="461" y="152"/>
                        </a:lnTo>
                        <a:lnTo>
                          <a:pt x="427" y="162"/>
                        </a:lnTo>
                        <a:lnTo>
                          <a:pt x="392" y="173"/>
                        </a:lnTo>
                        <a:lnTo>
                          <a:pt x="360" y="187"/>
                        </a:lnTo>
                        <a:lnTo>
                          <a:pt x="326" y="200"/>
                        </a:lnTo>
                        <a:lnTo>
                          <a:pt x="295" y="218"/>
                        </a:lnTo>
                        <a:lnTo>
                          <a:pt x="264" y="236"/>
                        </a:lnTo>
                        <a:lnTo>
                          <a:pt x="236" y="258"/>
                        </a:lnTo>
                        <a:lnTo>
                          <a:pt x="208" y="281"/>
                        </a:lnTo>
                        <a:lnTo>
                          <a:pt x="183" y="308"/>
                        </a:lnTo>
                        <a:lnTo>
                          <a:pt x="160" y="339"/>
                        </a:lnTo>
                        <a:lnTo>
                          <a:pt x="138" y="373"/>
                        </a:lnTo>
                        <a:lnTo>
                          <a:pt x="132" y="406"/>
                        </a:lnTo>
                        <a:lnTo>
                          <a:pt x="133" y="439"/>
                        </a:lnTo>
                        <a:lnTo>
                          <a:pt x="142" y="470"/>
                        </a:lnTo>
                        <a:lnTo>
                          <a:pt x="153" y="499"/>
                        </a:lnTo>
                        <a:lnTo>
                          <a:pt x="168" y="529"/>
                        </a:lnTo>
                        <a:lnTo>
                          <a:pt x="181" y="559"/>
                        </a:lnTo>
                        <a:lnTo>
                          <a:pt x="192" y="590"/>
                        </a:lnTo>
                        <a:lnTo>
                          <a:pt x="198" y="621"/>
                        </a:lnTo>
                        <a:lnTo>
                          <a:pt x="222" y="668"/>
                        </a:lnTo>
                        <a:lnTo>
                          <a:pt x="249" y="714"/>
                        </a:lnTo>
                        <a:lnTo>
                          <a:pt x="278" y="762"/>
                        </a:lnTo>
                        <a:lnTo>
                          <a:pt x="308" y="811"/>
                        </a:lnTo>
                        <a:lnTo>
                          <a:pt x="336" y="859"/>
                        </a:lnTo>
                        <a:lnTo>
                          <a:pt x="365" y="908"/>
                        </a:lnTo>
                        <a:lnTo>
                          <a:pt x="392" y="957"/>
                        </a:lnTo>
                        <a:lnTo>
                          <a:pt x="417" y="1007"/>
                        </a:lnTo>
                        <a:lnTo>
                          <a:pt x="437" y="1058"/>
                        </a:lnTo>
                        <a:lnTo>
                          <a:pt x="455" y="1108"/>
                        </a:lnTo>
                        <a:lnTo>
                          <a:pt x="466" y="1161"/>
                        </a:lnTo>
                        <a:lnTo>
                          <a:pt x="471" y="1211"/>
                        </a:lnTo>
                        <a:lnTo>
                          <a:pt x="468" y="1265"/>
                        </a:lnTo>
                        <a:lnTo>
                          <a:pt x="458" y="1317"/>
                        </a:lnTo>
                        <a:lnTo>
                          <a:pt x="441" y="1370"/>
                        </a:lnTo>
                        <a:lnTo>
                          <a:pt x="412" y="1424"/>
                        </a:lnTo>
                        <a:lnTo>
                          <a:pt x="400" y="1442"/>
                        </a:lnTo>
                        <a:lnTo>
                          <a:pt x="386" y="1461"/>
                        </a:lnTo>
                        <a:lnTo>
                          <a:pt x="372" y="1479"/>
                        </a:lnTo>
                        <a:lnTo>
                          <a:pt x="357" y="1497"/>
                        </a:lnTo>
                        <a:lnTo>
                          <a:pt x="341" y="1513"/>
                        </a:lnTo>
                        <a:lnTo>
                          <a:pt x="324" y="1529"/>
                        </a:lnTo>
                        <a:lnTo>
                          <a:pt x="305" y="1544"/>
                        </a:lnTo>
                        <a:lnTo>
                          <a:pt x="287" y="1558"/>
                        </a:lnTo>
                        <a:lnTo>
                          <a:pt x="267" y="1570"/>
                        </a:lnTo>
                        <a:lnTo>
                          <a:pt x="247" y="1581"/>
                        </a:lnTo>
                        <a:lnTo>
                          <a:pt x="226" y="1591"/>
                        </a:lnTo>
                        <a:lnTo>
                          <a:pt x="203" y="1598"/>
                        </a:lnTo>
                        <a:lnTo>
                          <a:pt x="179" y="1606"/>
                        </a:lnTo>
                        <a:lnTo>
                          <a:pt x="156" y="1610"/>
                        </a:lnTo>
                        <a:lnTo>
                          <a:pt x="131" y="1613"/>
                        </a:lnTo>
                        <a:lnTo>
                          <a:pt x="106" y="1613"/>
                        </a:lnTo>
                        <a:lnTo>
                          <a:pt x="142" y="1590"/>
                        </a:lnTo>
                        <a:lnTo>
                          <a:pt x="176" y="1565"/>
                        </a:lnTo>
                        <a:lnTo>
                          <a:pt x="206" y="1536"/>
                        </a:lnTo>
                        <a:lnTo>
                          <a:pt x="234" y="1507"/>
                        </a:lnTo>
                        <a:lnTo>
                          <a:pt x="259" y="1473"/>
                        </a:lnTo>
                        <a:lnTo>
                          <a:pt x="280" y="1440"/>
                        </a:lnTo>
                        <a:lnTo>
                          <a:pt x="300" y="1402"/>
                        </a:lnTo>
                        <a:lnTo>
                          <a:pt x="316" y="1365"/>
                        </a:lnTo>
                        <a:lnTo>
                          <a:pt x="330" y="1326"/>
                        </a:lnTo>
                        <a:lnTo>
                          <a:pt x="340" y="1286"/>
                        </a:lnTo>
                        <a:lnTo>
                          <a:pt x="349" y="1244"/>
                        </a:lnTo>
                        <a:lnTo>
                          <a:pt x="354" y="1202"/>
                        </a:lnTo>
                        <a:lnTo>
                          <a:pt x="356" y="1158"/>
                        </a:lnTo>
                        <a:lnTo>
                          <a:pt x="355" y="1115"/>
                        </a:lnTo>
                        <a:lnTo>
                          <a:pt x="352" y="1071"/>
                        </a:lnTo>
                        <a:lnTo>
                          <a:pt x="346" y="1027"/>
                        </a:lnTo>
                        <a:lnTo>
                          <a:pt x="333" y="1002"/>
                        </a:lnTo>
                        <a:lnTo>
                          <a:pt x="319" y="978"/>
                        </a:lnTo>
                        <a:lnTo>
                          <a:pt x="305" y="953"/>
                        </a:lnTo>
                        <a:lnTo>
                          <a:pt x="292" y="929"/>
                        </a:lnTo>
                        <a:lnTo>
                          <a:pt x="278" y="904"/>
                        </a:lnTo>
                        <a:lnTo>
                          <a:pt x="264" y="880"/>
                        </a:lnTo>
                        <a:lnTo>
                          <a:pt x="249" y="855"/>
                        </a:lnTo>
                        <a:lnTo>
                          <a:pt x="236" y="831"/>
                        </a:lnTo>
                        <a:lnTo>
                          <a:pt x="221" y="807"/>
                        </a:lnTo>
                        <a:lnTo>
                          <a:pt x="206" y="783"/>
                        </a:lnTo>
                        <a:lnTo>
                          <a:pt x="189" y="760"/>
                        </a:lnTo>
                        <a:lnTo>
                          <a:pt x="172" y="736"/>
                        </a:lnTo>
                        <a:lnTo>
                          <a:pt x="155" y="714"/>
                        </a:lnTo>
                        <a:lnTo>
                          <a:pt x="137" y="692"/>
                        </a:lnTo>
                        <a:lnTo>
                          <a:pt x="117" y="669"/>
                        </a:lnTo>
                        <a:lnTo>
                          <a:pt x="97" y="647"/>
                        </a:lnTo>
                        <a:lnTo>
                          <a:pt x="72" y="601"/>
                        </a:lnTo>
                        <a:lnTo>
                          <a:pt x="48" y="554"/>
                        </a:lnTo>
                        <a:lnTo>
                          <a:pt x="25" y="506"/>
                        </a:lnTo>
                        <a:lnTo>
                          <a:pt x="9" y="457"/>
                        </a:lnTo>
                        <a:lnTo>
                          <a:pt x="0" y="408"/>
                        </a:lnTo>
                        <a:lnTo>
                          <a:pt x="3" y="358"/>
                        </a:lnTo>
                        <a:lnTo>
                          <a:pt x="18" y="308"/>
                        </a:lnTo>
                        <a:lnTo>
                          <a:pt x="48" y="258"/>
                        </a:lnTo>
                        <a:lnTo>
                          <a:pt x="76" y="224"/>
                        </a:lnTo>
                        <a:lnTo>
                          <a:pt x="107" y="194"/>
                        </a:lnTo>
                        <a:lnTo>
                          <a:pt x="140" y="166"/>
                        </a:lnTo>
                        <a:lnTo>
                          <a:pt x="173" y="140"/>
                        </a:lnTo>
                        <a:lnTo>
                          <a:pt x="209" y="116"/>
                        </a:lnTo>
                        <a:lnTo>
                          <a:pt x="247" y="95"/>
                        </a:lnTo>
                        <a:lnTo>
                          <a:pt x="285" y="76"/>
                        </a:lnTo>
                        <a:lnTo>
                          <a:pt x="325" y="60"/>
                        </a:lnTo>
                        <a:lnTo>
                          <a:pt x="366" y="45"/>
                        </a:lnTo>
                        <a:lnTo>
                          <a:pt x="409" y="33"/>
                        </a:lnTo>
                        <a:lnTo>
                          <a:pt x="452" y="23"/>
                        </a:lnTo>
                        <a:lnTo>
                          <a:pt x="496" y="14"/>
                        </a:lnTo>
                        <a:lnTo>
                          <a:pt x="540" y="8"/>
                        </a:lnTo>
                        <a:lnTo>
                          <a:pt x="586" y="4"/>
                        </a:lnTo>
                        <a:lnTo>
                          <a:pt x="633" y="2"/>
                        </a:lnTo>
                        <a:lnTo>
                          <a:pt x="679" y="1"/>
                        </a:lnTo>
                        <a:lnTo>
                          <a:pt x="695" y="2"/>
                        </a:lnTo>
                        <a:lnTo>
                          <a:pt x="711" y="2"/>
                        </a:lnTo>
                        <a:lnTo>
                          <a:pt x="727" y="2"/>
                        </a:lnTo>
                        <a:lnTo>
                          <a:pt x="745" y="2"/>
                        </a:lnTo>
                        <a:lnTo>
                          <a:pt x="762" y="2"/>
                        </a:lnTo>
                        <a:lnTo>
                          <a:pt x="778" y="1"/>
                        </a:lnTo>
                        <a:lnTo>
                          <a:pt x="796" y="0"/>
                        </a:lnTo>
                        <a:lnTo>
                          <a:pt x="813" y="0"/>
                        </a:lnTo>
                        <a:lnTo>
                          <a:pt x="829" y="0"/>
                        </a:lnTo>
                        <a:lnTo>
                          <a:pt x="845" y="1"/>
                        </a:lnTo>
                        <a:lnTo>
                          <a:pt x="862" y="2"/>
                        </a:lnTo>
                        <a:lnTo>
                          <a:pt x="878" y="4"/>
                        </a:lnTo>
                        <a:lnTo>
                          <a:pt x="894" y="8"/>
                        </a:lnTo>
                        <a:lnTo>
                          <a:pt x="909" y="13"/>
                        </a:lnTo>
                        <a:lnTo>
                          <a:pt x="923" y="19"/>
                        </a:lnTo>
                        <a:lnTo>
                          <a:pt x="936" y="27"/>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flipH="1">
                    <a:off x="1679760" y="2970720"/>
                    <a:ext cx="43560" cy="19080"/>
                  </a:xfrm>
                  <a:custGeom>
                    <a:avLst/>
                    <a:gdLst/>
                    <a:ahLst/>
                    <a:rect l="l" t="t" r="r" b="b"/>
                    <a:pathLst>
                      <a:path w="176" h="124">
                        <a:moveTo>
                          <a:pt x="125" y="65"/>
                        </a:moveTo>
                        <a:lnTo>
                          <a:pt x="173" y="74"/>
                        </a:lnTo>
                        <a:lnTo>
                          <a:pt x="176" y="85"/>
                        </a:lnTo>
                        <a:lnTo>
                          <a:pt x="171" y="99"/>
                        </a:lnTo>
                        <a:lnTo>
                          <a:pt x="161" y="112"/>
                        </a:lnTo>
                        <a:lnTo>
                          <a:pt x="148" y="124"/>
                        </a:lnTo>
                        <a:lnTo>
                          <a:pt x="131" y="119"/>
                        </a:lnTo>
                        <a:lnTo>
                          <a:pt x="111" y="116"/>
                        </a:lnTo>
                        <a:lnTo>
                          <a:pt x="91" y="115"/>
                        </a:lnTo>
                        <a:lnTo>
                          <a:pt x="71" y="112"/>
                        </a:lnTo>
                        <a:lnTo>
                          <a:pt x="54" y="109"/>
                        </a:lnTo>
                        <a:lnTo>
                          <a:pt x="38" y="100"/>
                        </a:lnTo>
                        <a:lnTo>
                          <a:pt x="24" y="86"/>
                        </a:lnTo>
                        <a:lnTo>
                          <a:pt x="15" y="65"/>
                        </a:lnTo>
                        <a:lnTo>
                          <a:pt x="0" y="0"/>
                        </a:lnTo>
                        <a:lnTo>
                          <a:pt x="33" y="2"/>
                        </a:lnTo>
                        <a:lnTo>
                          <a:pt x="51" y="17"/>
                        </a:lnTo>
                        <a:lnTo>
                          <a:pt x="60" y="41"/>
                        </a:lnTo>
                        <a:lnTo>
                          <a:pt x="63" y="67"/>
                        </a:lnTo>
                        <a:lnTo>
                          <a:pt x="66" y="88"/>
                        </a:lnTo>
                        <a:lnTo>
                          <a:pt x="75" y="99"/>
                        </a:lnTo>
                        <a:lnTo>
                          <a:pt x="92" y="93"/>
                        </a:lnTo>
                        <a:lnTo>
                          <a:pt x="125" y="65"/>
                        </a:lnTo>
                        <a:close/>
                      </a:path>
                    </a:pathLst>
                  </a:custGeom>
                  <a:solidFill>
                    <a:srgbClr val="f2cc0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14" name=""/>
                  <p:cNvSpPr/>
                  <p:nvPr/>
                </p:nvSpPr>
                <p:spPr>
                  <a:xfrm flipH="1">
                    <a:off x="2027520" y="3045960"/>
                    <a:ext cx="49320" cy="19080"/>
                  </a:xfrm>
                  <a:custGeom>
                    <a:avLst/>
                    <a:gdLst/>
                    <a:ahLst/>
                    <a:rect l="l" t="t" r="r" b="b"/>
                    <a:pathLst>
                      <a:path w="199" h="124">
                        <a:moveTo>
                          <a:pt x="167" y="9"/>
                        </a:moveTo>
                        <a:lnTo>
                          <a:pt x="199" y="50"/>
                        </a:lnTo>
                        <a:lnTo>
                          <a:pt x="186" y="46"/>
                        </a:lnTo>
                        <a:lnTo>
                          <a:pt x="177" y="48"/>
                        </a:lnTo>
                        <a:lnTo>
                          <a:pt x="169" y="55"/>
                        </a:lnTo>
                        <a:lnTo>
                          <a:pt x="165" y="63"/>
                        </a:lnTo>
                        <a:lnTo>
                          <a:pt x="158" y="73"/>
                        </a:lnTo>
                        <a:lnTo>
                          <a:pt x="152" y="82"/>
                        </a:lnTo>
                        <a:lnTo>
                          <a:pt x="145" y="88"/>
                        </a:lnTo>
                        <a:lnTo>
                          <a:pt x="133" y="92"/>
                        </a:lnTo>
                        <a:lnTo>
                          <a:pt x="34" y="124"/>
                        </a:lnTo>
                        <a:lnTo>
                          <a:pt x="31" y="113"/>
                        </a:lnTo>
                        <a:lnTo>
                          <a:pt x="26" y="103"/>
                        </a:lnTo>
                        <a:lnTo>
                          <a:pt x="20" y="93"/>
                        </a:lnTo>
                        <a:lnTo>
                          <a:pt x="14" y="84"/>
                        </a:lnTo>
                        <a:lnTo>
                          <a:pt x="8" y="75"/>
                        </a:lnTo>
                        <a:lnTo>
                          <a:pt x="3" y="65"/>
                        </a:lnTo>
                        <a:lnTo>
                          <a:pt x="0" y="53"/>
                        </a:lnTo>
                        <a:lnTo>
                          <a:pt x="0" y="41"/>
                        </a:lnTo>
                        <a:lnTo>
                          <a:pt x="9" y="45"/>
                        </a:lnTo>
                        <a:lnTo>
                          <a:pt x="16" y="47"/>
                        </a:lnTo>
                        <a:lnTo>
                          <a:pt x="24" y="51"/>
                        </a:lnTo>
                        <a:lnTo>
                          <a:pt x="30" y="52"/>
                        </a:lnTo>
                        <a:lnTo>
                          <a:pt x="36" y="52"/>
                        </a:lnTo>
                        <a:lnTo>
                          <a:pt x="44" y="51"/>
                        </a:lnTo>
                        <a:lnTo>
                          <a:pt x="50" y="47"/>
                        </a:lnTo>
                        <a:lnTo>
                          <a:pt x="57" y="41"/>
                        </a:lnTo>
                        <a:lnTo>
                          <a:pt x="67" y="32"/>
                        </a:lnTo>
                        <a:lnTo>
                          <a:pt x="74" y="24"/>
                        </a:lnTo>
                        <a:lnTo>
                          <a:pt x="75" y="13"/>
                        </a:lnTo>
                        <a:lnTo>
                          <a:pt x="75" y="0"/>
                        </a:lnTo>
                        <a:lnTo>
                          <a:pt x="86" y="9"/>
                        </a:lnTo>
                        <a:lnTo>
                          <a:pt x="96" y="13"/>
                        </a:lnTo>
                        <a:lnTo>
                          <a:pt x="106" y="13"/>
                        </a:lnTo>
                        <a:lnTo>
                          <a:pt x="117" y="10"/>
                        </a:lnTo>
                        <a:lnTo>
                          <a:pt x="127" y="6"/>
                        </a:lnTo>
                        <a:lnTo>
                          <a:pt x="140" y="5"/>
                        </a:lnTo>
                        <a:lnTo>
                          <a:pt x="152" y="5"/>
                        </a:lnTo>
                        <a:lnTo>
                          <a:pt x="167" y="9"/>
                        </a:lnTo>
                        <a:close/>
                      </a:path>
                    </a:pathLst>
                  </a:custGeom>
                  <a:solidFill>
                    <a:srgbClr val="9ed67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15" name=""/>
                  <p:cNvSpPr/>
                  <p:nvPr/>
                </p:nvSpPr>
                <p:spPr>
                  <a:xfrm flipH="1">
                    <a:off x="1996560" y="3067920"/>
                    <a:ext cx="57600" cy="15840"/>
                  </a:xfrm>
                  <a:custGeom>
                    <a:avLst/>
                    <a:gdLst/>
                    <a:ahLst/>
                    <a:rect l="l" t="t" r="r" b="b"/>
                    <a:pathLst>
                      <a:path w="232" h="104">
                        <a:moveTo>
                          <a:pt x="232" y="104"/>
                        </a:moveTo>
                        <a:lnTo>
                          <a:pt x="213" y="104"/>
                        </a:lnTo>
                        <a:lnTo>
                          <a:pt x="193" y="104"/>
                        </a:lnTo>
                        <a:lnTo>
                          <a:pt x="173" y="104"/>
                        </a:lnTo>
                        <a:lnTo>
                          <a:pt x="155" y="103"/>
                        </a:lnTo>
                        <a:lnTo>
                          <a:pt x="137" y="99"/>
                        </a:lnTo>
                        <a:lnTo>
                          <a:pt x="124" y="91"/>
                        </a:lnTo>
                        <a:lnTo>
                          <a:pt x="112" y="76"/>
                        </a:lnTo>
                        <a:lnTo>
                          <a:pt x="107" y="55"/>
                        </a:lnTo>
                        <a:lnTo>
                          <a:pt x="100" y="50"/>
                        </a:lnTo>
                        <a:lnTo>
                          <a:pt x="91" y="47"/>
                        </a:lnTo>
                        <a:lnTo>
                          <a:pt x="81" y="46"/>
                        </a:lnTo>
                        <a:lnTo>
                          <a:pt x="73" y="46"/>
                        </a:lnTo>
                        <a:lnTo>
                          <a:pt x="63" y="46"/>
                        </a:lnTo>
                        <a:lnTo>
                          <a:pt x="53" y="47"/>
                        </a:lnTo>
                        <a:lnTo>
                          <a:pt x="43" y="47"/>
                        </a:lnTo>
                        <a:lnTo>
                          <a:pt x="33" y="47"/>
                        </a:lnTo>
                        <a:lnTo>
                          <a:pt x="25" y="57"/>
                        </a:lnTo>
                        <a:lnTo>
                          <a:pt x="24" y="69"/>
                        </a:lnTo>
                        <a:lnTo>
                          <a:pt x="24" y="83"/>
                        </a:lnTo>
                        <a:lnTo>
                          <a:pt x="24" y="96"/>
                        </a:lnTo>
                        <a:lnTo>
                          <a:pt x="0" y="72"/>
                        </a:lnTo>
                        <a:lnTo>
                          <a:pt x="8" y="56"/>
                        </a:lnTo>
                        <a:lnTo>
                          <a:pt x="18" y="40"/>
                        </a:lnTo>
                        <a:lnTo>
                          <a:pt x="29" y="26"/>
                        </a:lnTo>
                        <a:lnTo>
                          <a:pt x="43" y="14"/>
                        </a:lnTo>
                        <a:lnTo>
                          <a:pt x="56" y="5"/>
                        </a:lnTo>
                        <a:lnTo>
                          <a:pt x="73" y="0"/>
                        </a:lnTo>
                        <a:lnTo>
                          <a:pt x="90" y="0"/>
                        </a:lnTo>
                        <a:lnTo>
                          <a:pt x="107" y="6"/>
                        </a:lnTo>
                        <a:lnTo>
                          <a:pt x="125" y="17"/>
                        </a:lnTo>
                        <a:lnTo>
                          <a:pt x="143" y="25"/>
                        </a:lnTo>
                        <a:lnTo>
                          <a:pt x="163" y="32"/>
                        </a:lnTo>
                        <a:lnTo>
                          <a:pt x="183" y="41"/>
                        </a:lnTo>
                        <a:lnTo>
                          <a:pt x="202" y="51"/>
                        </a:lnTo>
                        <a:lnTo>
                          <a:pt x="217" y="63"/>
                        </a:lnTo>
                        <a:lnTo>
                          <a:pt x="227" y="81"/>
                        </a:lnTo>
                        <a:lnTo>
                          <a:pt x="232" y="104"/>
                        </a:lnTo>
                        <a:close/>
                      </a:path>
                    </a:pathLst>
                  </a:custGeom>
                  <a:solidFill>
                    <a:srgbClr val="9ed67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6" name=""/>
                  <p:cNvSpPr/>
                  <p:nvPr/>
                </p:nvSpPr>
                <p:spPr>
                  <a:xfrm flipH="1">
                    <a:off x="2079360" y="3084120"/>
                    <a:ext cx="139320" cy="72720"/>
                  </a:xfrm>
                  <a:custGeom>
                    <a:avLst/>
                    <a:gdLst/>
                    <a:ahLst/>
                    <a:rect l="l" t="t" r="r" b="b"/>
                    <a:pathLst>
                      <a:path w="561" h="472">
                        <a:moveTo>
                          <a:pt x="472" y="150"/>
                        </a:moveTo>
                        <a:lnTo>
                          <a:pt x="487" y="164"/>
                        </a:lnTo>
                        <a:lnTo>
                          <a:pt x="504" y="176"/>
                        </a:lnTo>
                        <a:lnTo>
                          <a:pt x="521" y="191"/>
                        </a:lnTo>
                        <a:lnTo>
                          <a:pt x="538" y="206"/>
                        </a:lnTo>
                        <a:lnTo>
                          <a:pt x="551" y="223"/>
                        </a:lnTo>
                        <a:lnTo>
                          <a:pt x="559" y="242"/>
                        </a:lnTo>
                        <a:lnTo>
                          <a:pt x="561" y="264"/>
                        </a:lnTo>
                        <a:lnTo>
                          <a:pt x="555" y="289"/>
                        </a:lnTo>
                        <a:lnTo>
                          <a:pt x="539" y="288"/>
                        </a:lnTo>
                        <a:lnTo>
                          <a:pt x="523" y="284"/>
                        </a:lnTo>
                        <a:lnTo>
                          <a:pt x="507" y="279"/>
                        </a:lnTo>
                        <a:lnTo>
                          <a:pt x="489" y="273"/>
                        </a:lnTo>
                        <a:lnTo>
                          <a:pt x="472" y="267"/>
                        </a:lnTo>
                        <a:lnTo>
                          <a:pt x="454" y="259"/>
                        </a:lnTo>
                        <a:lnTo>
                          <a:pt x="437" y="253"/>
                        </a:lnTo>
                        <a:lnTo>
                          <a:pt x="421" y="247"/>
                        </a:lnTo>
                        <a:lnTo>
                          <a:pt x="403" y="243"/>
                        </a:lnTo>
                        <a:lnTo>
                          <a:pt x="388" y="240"/>
                        </a:lnTo>
                        <a:lnTo>
                          <a:pt x="373" y="240"/>
                        </a:lnTo>
                        <a:lnTo>
                          <a:pt x="358" y="242"/>
                        </a:lnTo>
                        <a:lnTo>
                          <a:pt x="346" y="248"/>
                        </a:lnTo>
                        <a:lnTo>
                          <a:pt x="334" y="257"/>
                        </a:lnTo>
                        <a:lnTo>
                          <a:pt x="324" y="271"/>
                        </a:lnTo>
                        <a:lnTo>
                          <a:pt x="315" y="289"/>
                        </a:lnTo>
                        <a:lnTo>
                          <a:pt x="300" y="320"/>
                        </a:lnTo>
                        <a:lnTo>
                          <a:pt x="276" y="339"/>
                        </a:lnTo>
                        <a:lnTo>
                          <a:pt x="248" y="351"/>
                        </a:lnTo>
                        <a:lnTo>
                          <a:pt x="219" y="360"/>
                        </a:lnTo>
                        <a:lnTo>
                          <a:pt x="195" y="370"/>
                        </a:lnTo>
                        <a:lnTo>
                          <a:pt x="179" y="385"/>
                        </a:lnTo>
                        <a:lnTo>
                          <a:pt x="175" y="410"/>
                        </a:lnTo>
                        <a:lnTo>
                          <a:pt x="189" y="447"/>
                        </a:lnTo>
                        <a:lnTo>
                          <a:pt x="182" y="454"/>
                        </a:lnTo>
                        <a:lnTo>
                          <a:pt x="174" y="459"/>
                        </a:lnTo>
                        <a:lnTo>
                          <a:pt x="164" y="462"/>
                        </a:lnTo>
                        <a:lnTo>
                          <a:pt x="154" y="463"/>
                        </a:lnTo>
                        <a:lnTo>
                          <a:pt x="143" y="463"/>
                        </a:lnTo>
                        <a:lnTo>
                          <a:pt x="133" y="464"/>
                        </a:lnTo>
                        <a:lnTo>
                          <a:pt x="124" y="467"/>
                        </a:lnTo>
                        <a:lnTo>
                          <a:pt x="116" y="472"/>
                        </a:lnTo>
                        <a:lnTo>
                          <a:pt x="92" y="441"/>
                        </a:lnTo>
                        <a:lnTo>
                          <a:pt x="71" y="410"/>
                        </a:lnTo>
                        <a:lnTo>
                          <a:pt x="52" y="379"/>
                        </a:lnTo>
                        <a:lnTo>
                          <a:pt x="35" y="345"/>
                        </a:lnTo>
                        <a:lnTo>
                          <a:pt x="21" y="310"/>
                        </a:lnTo>
                        <a:lnTo>
                          <a:pt x="10" y="276"/>
                        </a:lnTo>
                        <a:lnTo>
                          <a:pt x="4" y="237"/>
                        </a:lnTo>
                        <a:lnTo>
                          <a:pt x="0" y="199"/>
                        </a:lnTo>
                        <a:lnTo>
                          <a:pt x="12" y="196"/>
                        </a:lnTo>
                        <a:lnTo>
                          <a:pt x="25" y="191"/>
                        </a:lnTo>
                        <a:lnTo>
                          <a:pt x="36" y="185"/>
                        </a:lnTo>
                        <a:lnTo>
                          <a:pt x="47" y="178"/>
                        </a:lnTo>
                        <a:lnTo>
                          <a:pt x="58" y="170"/>
                        </a:lnTo>
                        <a:lnTo>
                          <a:pt x="71" y="164"/>
                        </a:lnTo>
                        <a:lnTo>
                          <a:pt x="83" y="159"/>
                        </a:lnTo>
                        <a:lnTo>
                          <a:pt x="98" y="156"/>
                        </a:lnTo>
                        <a:lnTo>
                          <a:pt x="124" y="165"/>
                        </a:lnTo>
                        <a:lnTo>
                          <a:pt x="149" y="170"/>
                        </a:lnTo>
                        <a:lnTo>
                          <a:pt x="173" y="175"/>
                        </a:lnTo>
                        <a:lnTo>
                          <a:pt x="194" y="180"/>
                        </a:lnTo>
                        <a:lnTo>
                          <a:pt x="215" y="186"/>
                        </a:lnTo>
                        <a:lnTo>
                          <a:pt x="236" y="194"/>
                        </a:lnTo>
                        <a:lnTo>
                          <a:pt x="259" y="206"/>
                        </a:lnTo>
                        <a:lnTo>
                          <a:pt x="281" y="223"/>
                        </a:lnTo>
                        <a:lnTo>
                          <a:pt x="291" y="220"/>
                        </a:lnTo>
                        <a:lnTo>
                          <a:pt x="300" y="215"/>
                        </a:lnTo>
                        <a:lnTo>
                          <a:pt x="306" y="207"/>
                        </a:lnTo>
                        <a:lnTo>
                          <a:pt x="311" y="200"/>
                        </a:lnTo>
                        <a:lnTo>
                          <a:pt x="316" y="191"/>
                        </a:lnTo>
                        <a:lnTo>
                          <a:pt x="321" y="181"/>
                        </a:lnTo>
                        <a:lnTo>
                          <a:pt x="326" y="173"/>
                        </a:lnTo>
                        <a:lnTo>
                          <a:pt x="331" y="165"/>
                        </a:lnTo>
                        <a:lnTo>
                          <a:pt x="311" y="149"/>
                        </a:lnTo>
                        <a:lnTo>
                          <a:pt x="295" y="130"/>
                        </a:lnTo>
                        <a:lnTo>
                          <a:pt x="279" y="112"/>
                        </a:lnTo>
                        <a:lnTo>
                          <a:pt x="263" y="94"/>
                        </a:lnTo>
                        <a:lnTo>
                          <a:pt x="246" y="80"/>
                        </a:lnTo>
                        <a:lnTo>
                          <a:pt x="228" y="67"/>
                        </a:lnTo>
                        <a:lnTo>
                          <a:pt x="207" y="60"/>
                        </a:lnTo>
                        <a:lnTo>
                          <a:pt x="182" y="58"/>
                        </a:lnTo>
                        <a:lnTo>
                          <a:pt x="188" y="41"/>
                        </a:lnTo>
                        <a:lnTo>
                          <a:pt x="197" y="29"/>
                        </a:lnTo>
                        <a:lnTo>
                          <a:pt x="205" y="16"/>
                        </a:lnTo>
                        <a:lnTo>
                          <a:pt x="214" y="0"/>
                        </a:lnTo>
                        <a:lnTo>
                          <a:pt x="233" y="4"/>
                        </a:lnTo>
                        <a:lnTo>
                          <a:pt x="250" y="9"/>
                        </a:lnTo>
                        <a:lnTo>
                          <a:pt x="268" y="15"/>
                        </a:lnTo>
                        <a:lnTo>
                          <a:pt x="285" y="23"/>
                        </a:lnTo>
                        <a:lnTo>
                          <a:pt x="301" y="31"/>
                        </a:lnTo>
                        <a:lnTo>
                          <a:pt x="317" y="41"/>
                        </a:lnTo>
                        <a:lnTo>
                          <a:pt x="334" y="51"/>
                        </a:lnTo>
                        <a:lnTo>
                          <a:pt x="348" y="62"/>
                        </a:lnTo>
                        <a:lnTo>
                          <a:pt x="365" y="73"/>
                        </a:lnTo>
                        <a:lnTo>
                          <a:pt x="380" y="85"/>
                        </a:lnTo>
                        <a:lnTo>
                          <a:pt x="394" y="96"/>
                        </a:lnTo>
                        <a:lnTo>
                          <a:pt x="409" y="107"/>
                        </a:lnTo>
                        <a:lnTo>
                          <a:pt x="426" y="119"/>
                        </a:lnTo>
                        <a:lnTo>
                          <a:pt x="441" y="130"/>
                        </a:lnTo>
                        <a:lnTo>
                          <a:pt x="455" y="140"/>
                        </a:lnTo>
                        <a:lnTo>
                          <a:pt x="472" y="150"/>
                        </a:lnTo>
                        <a:close/>
                      </a:path>
                    </a:pathLst>
                  </a:custGeom>
                  <a:solidFill>
                    <a:srgbClr val="9ed67c"/>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17" name=""/>
                  <p:cNvSpPr/>
                  <p:nvPr/>
                </p:nvSpPr>
                <p:spPr>
                  <a:xfrm flipH="1">
                    <a:off x="1979280" y="3110760"/>
                    <a:ext cx="62280" cy="40680"/>
                  </a:xfrm>
                  <a:custGeom>
                    <a:avLst/>
                    <a:gdLst/>
                    <a:ahLst/>
                    <a:rect l="l" t="t" r="r" b="b"/>
                    <a:pathLst>
                      <a:path w="251" h="265">
                        <a:moveTo>
                          <a:pt x="224" y="190"/>
                        </a:moveTo>
                        <a:lnTo>
                          <a:pt x="210" y="205"/>
                        </a:lnTo>
                        <a:lnTo>
                          <a:pt x="195" y="216"/>
                        </a:lnTo>
                        <a:lnTo>
                          <a:pt x="180" y="224"/>
                        </a:lnTo>
                        <a:lnTo>
                          <a:pt x="163" y="231"/>
                        </a:lnTo>
                        <a:lnTo>
                          <a:pt x="145" y="238"/>
                        </a:lnTo>
                        <a:lnTo>
                          <a:pt x="128" y="244"/>
                        </a:lnTo>
                        <a:lnTo>
                          <a:pt x="109" y="254"/>
                        </a:lnTo>
                        <a:lnTo>
                          <a:pt x="92" y="265"/>
                        </a:lnTo>
                        <a:lnTo>
                          <a:pt x="0" y="257"/>
                        </a:lnTo>
                        <a:lnTo>
                          <a:pt x="19" y="239"/>
                        </a:lnTo>
                        <a:lnTo>
                          <a:pt x="36" y="222"/>
                        </a:lnTo>
                        <a:lnTo>
                          <a:pt x="52" y="205"/>
                        </a:lnTo>
                        <a:lnTo>
                          <a:pt x="66" y="186"/>
                        </a:lnTo>
                        <a:lnTo>
                          <a:pt x="78" y="166"/>
                        </a:lnTo>
                        <a:lnTo>
                          <a:pt x="87" y="145"/>
                        </a:lnTo>
                        <a:lnTo>
                          <a:pt x="92" y="124"/>
                        </a:lnTo>
                        <a:lnTo>
                          <a:pt x="92" y="100"/>
                        </a:lnTo>
                        <a:lnTo>
                          <a:pt x="116" y="95"/>
                        </a:lnTo>
                        <a:lnTo>
                          <a:pt x="136" y="84"/>
                        </a:lnTo>
                        <a:lnTo>
                          <a:pt x="153" y="69"/>
                        </a:lnTo>
                        <a:lnTo>
                          <a:pt x="168" y="52"/>
                        </a:lnTo>
                        <a:lnTo>
                          <a:pt x="183" y="33"/>
                        </a:lnTo>
                        <a:lnTo>
                          <a:pt x="199" y="18"/>
                        </a:lnTo>
                        <a:lnTo>
                          <a:pt x="218" y="6"/>
                        </a:lnTo>
                        <a:lnTo>
                          <a:pt x="241" y="0"/>
                        </a:lnTo>
                        <a:lnTo>
                          <a:pt x="249" y="23"/>
                        </a:lnTo>
                        <a:lnTo>
                          <a:pt x="251" y="46"/>
                        </a:lnTo>
                        <a:lnTo>
                          <a:pt x="248" y="69"/>
                        </a:lnTo>
                        <a:lnTo>
                          <a:pt x="243" y="93"/>
                        </a:lnTo>
                        <a:lnTo>
                          <a:pt x="235" y="116"/>
                        </a:lnTo>
                        <a:lnTo>
                          <a:pt x="229" y="140"/>
                        </a:lnTo>
                        <a:lnTo>
                          <a:pt x="224" y="165"/>
                        </a:lnTo>
                        <a:lnTo>
                          <a:pt x="224" y="190"/>
                        </a:lnTo>
                        <a:close/>
                      </a:path>
                    </a:pathLst>
                  </a:custGeom>
                  <a:solidFill>
                    <a:srgbClr val="9ed67c"/>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8" name=""/>
                  <p:cNvSpPr/>
                  <p:nvPr/>
                </p:nvSpPr>
                <p:spPr>
                  <a:xfrm flipH="1">
                    <a:off x="1862280" y="3121560"/>
                    <a:ext cx="497160" cy="141480"/>
                  </a:xfrm>
                  <a:custGeom>
                    <a:avLst/>
                    <a:gdLst/>
                    <a:ahLst/>
                    <a:rect l="l" t="t" r="r" b="b"/>
                    <a:pathLst>
                      <a:path w="1999" h="919">
                        <a:moveTo>
                          <a:pt x="440" y="24"/>
                        </a:moveTo>
                        <a:lnTo>
                          <a:pt x="447" y="55"/>
                        </a:lnTo>
                        <a:lnTo>
                          <a:pt x="455" y="84"/>
                        </a:lnTo>
                        <a:lnTo>
                          <a:pt x="464" y="115"/>
                        </a:lnTo>
                        <a:lnTo>
                          <a:pt x="474" y="145"/>
                        </a:lnTo>
                        <a:lnTo>
                          <a:pt x="485" y="175"/>
                        </a:lnTo>
                        <a:lnTo>
                          <a:pt x="498" y="205"/>
                        </a:lnTo>
                        <a:lnTo>
                          <a:pt x="513" y="233"/>
                        </a:lnTo>
                        <a:lnTo>
                          <a:pt x="528" y="262"/>
                        </a:lnTo>
                        <a:lnTo>
                          <a:pt x="544" y="289"/>
                        </a:lnTo>
                        <a:lnTo>
                          <a:pt x="561" y="316"/>
                        </a:lnTo>
                        <a:lnTo>
                          <a:pt x="579" y="341"/>
                        </a:lnTo>
                        <a:lnTo>
                          <a:pt x="599" y="366"/>
                        </a:lnTo>
                        <a:lnTo>
                          <a:pt x="620" y="390"/>
                        </a:lnTo>
                        <a:lnTo>
                          <a:pt x="642" y="412"/>
                        </a:lnTo>
                        <a:lnTo>
                          <a:pt x="665" y="433"/>
                        </a:lnTo>
                        <a:lnTo>
                          <a:pt x="689" y="453"/>
                        </a:lnTo>
                        <a:lnTo>
                          <a:pt x="714" y="469"/>
                        </a:lnTo>
                        <a:lnTo>
                          <a:pt x="740" y="484"/>
                        </a:lnTo>
                        <a:lnTo>
                          <a:pt x="768" y="498"/>
                        </a:lnTo>
                        <a:lnTo>
                          <a:pt x="795" y="511"/>
                        </a:lnTo>
                        <a:lnTo>
                          <a:pt x="823" y="524"/>
                        </a:lnTo>
                        <a:lnTo>
                          <a:pt x="851" y="536"/>
                        </a:lnTo>
                        <a:lnTo>
                          <a:pt x="881" y="547"/>
                        </a:lnTo>
                        <a:lnTo>
                          <a:pt x="910" y="557"/>
                        </a:lnTo>
                        <a:lnTo>
                          <a:pt x="940" y="567"/>
                        </a:lnTo>
                        <a:lnTo>
                          <a:pt x="971" y="576"/>
                        </a:lnTo>
                        <a:lnTo>
                          <a:pt x="1001" y="583"/>
                        </a:lnTo>
                        <a:lnTo>
                          <a:pt x="1032" y="591"/>
                        </a:lnTo>
                        <a:lnTo>
                          <a:pt x="1063" y="597"/>
                        </a:lnTo>
                        <a:lnTo>
                          <a:pt x="1094" y="602"/>
                        </a:lnTo>
                        <a:lnTo>
                          <a:pt x="1125" y="605"/>
                        </a:lnTo>
                        <a:lnTo>
                          <a:pt x="1156" y="608"/>
                        </a:lnTo>
                        <a:lnTo>
                          <a:pt x="1188" y="609"/>
                        </a:lnTo>
                        <a:lnTo>
                          <a:pt x="1220" y="609"/>
                        </a:lnTo>
                        <a:lnTo>
                          <a:pt x="1251" y="609"/>
                        </a:lnTo>
                        <a:lnTo>
                          <a:pt x="1282" y="607"/>
                        </a:lnTo>
                        <a:lnTo>
                          <a:pt x="1313" y="604"/>
                        </a:lnTo>
                        <a:lnTo>
                          <a:pt x="1343" y="599"/>
                        </a:lnTo>
                        <a:lnTo>
                          <a:pt x="1374" y="593"/>
                        </a:lnTo>
                        <a:lnTo>
                          <a:pt x="1404" y="587"/>
                        </a:lnTo>
                        <a:lnTo>
                          <a:pt x="1434" y="578"/>
                        </a:lnTo>
                        <a:lnTo>
                          <a:pt x="1462" y="568"/>
                        </a:lnTo>
                        <a:lnTo>
                          <a:pt x="1491" y="557"/>
                        </a:lnTo>
                        <a:lnTo>
                          <a:pt x="1520" y="545"/>
                        </a:lnTo>
                        <a:lnTo>
                          <a:pt x="1547" y="530"/>
                        </a:lnTo>
                        <a:lnTo>
                          <a:pt x="1574" y="514"/>
                        </a:lnTo>
                        <a:lnTo>
                          <a:pt x="1600" y="496"/>
                        </a:lnTo>
                        <a:lnTo>
                          <a:pt x="1627" y="478"/>
                        </a:lnTo>
                        <a:lnTo>
                          <a:pt x="1644" y="467"/>
                        </a:lnTo>
                        <a:lnTo>
                          <a:pt x="1660" y="452"/>
                        </a:lnTo>
                        <a:lnTo>
                          <a:pt x="1678" y="437"/>
                        </a:lnTo>
                        <a:lnTo>
                          <a:pt x="1694" y="419"/>
                        </a:lnTo>
                        <a:lnTo>
                          <a:pt x="1710" y="402"/>
                        </a:lnTo>
                        <a:lnTo>
                          <a:pt x="1726" y="385"/>
                        </a:lnTo>
                        <a:lnTo>
                          <a:pt x="1744" y="367"/>
                        </a:lnTo>
                        <a:lnTo>
                          <a:pt x="1760" y="350"/>
                        </a:lnTo>
                        <a:lnTo>
                          <a:pt x="1777" y="335"/>
                        </a:lnTo>
                        <a:lnTo>
                          <a:pt x="1793" y="323"/>
                        </a:lnTo>
                        <a:lnTo>
                          <a:pt x="1812" y="311"/>
                        </a:lnTo>
                        <a:lnTo>
                          <a:pt x="1829" y="304"/>
                        </a:lnTo>
                        <a:lnTo>
                          <a:pt x="1848" y="299"/>
                        </a:lnTo>
                        <a:lnTo>
                          <a:pt x="1867" y="299"/>
                        </a:lnTo>
                        <a:lnTo>
                          <a:pt x="1887" y="304"/>
                        </a:lnTo>
                        <a:lnTo>
                          <a:pt x="1908" y="313"/>
                        </a:lnTo>
                        <a:lnTo>
                          <a:pt x="1902" y="313"/>
                        </a:lnTo>
                        <a:lnTo>
                          <a:pt x="1898" y="315"/>
                        </a:lnTo>
                        <a:lnTo>
                          <a:pt x="1894" y="318"/>
                        </a:lnTo>
                        <a:lnTo>
                          <a:pt x="1892" y="321"/>
                        </a:lnTo>
                        <a:lnTo>
                          <a:pt x="1909" y="336"/>
                        </a:lnTo>
                        <a:lnTo>
                          <a:pt x="1927" y="350"/>
                        </a:lnTo>
                        <a:lnTo>
                          <a:pt x="1944" y="364"/>
                        </a:lnTo>
                        <a:lnTo>
                          <a:pt x="1960" y="378"/>
                        </a:lnTo>
                        <a:lnTo>
                          <a:pt x="1974" y="393"/>
                        </a:lnTo>
                        <a:lnTo>
                          <a:pt x="1986" y="411"/>
                        </a:lnTo>
                        <a:lnTo>
                          <a:pt x="1994" y="431"/>
                        </a:lnTo>
                        <a:lnTo>
                          <a:pt x="1999" y="453"/>
                        </a:lnTo>
                        <a:lnTo>
                          <a:pt x="1995" y="479"/>
                        </a:lnTo>
                        <a:lnTo>
                          <a:pt x="1990" y="504"/>
                        </a:lnTo>
                        <a:lnTo>
                          <a:pt x="1984" y="526"/>
                        </a:lnTo>
                        <a:lnTo>
                          <a:pt x="1975" y="548"/>
                        </a:lnTo>
                        <a:lnTo>
                          <a:pt x="1964" y="568"/>
                        </a:lnTo>
                        <a:lnTo>
                          <a:pt x="1953" y="588"/>
                        </a:lnTo>
                        <a:lnTo>
                          <a:pt x="1939" y="607"/>
                        </a:lnTo>
                        <a:lnTo>
                          <a:pt x="1924" y="624"/>
                        </a:lnTo>
                        <a:lnTo>
                          <a:pt x="1908" y="641"/>
                        </a:lnTo>
                        <a:lnTo>
                          <a:pt x="1892" y="658"/>
                        </a:lnTo>
                        <a:lnTo>
                          <a:pt x="1873" y="674"/>
                        </a:lnTo>
                        <a:lnTo>
                          <a:pt x="1854" y="689"/>
                        </a:lnTo>
                        <a:lnTo>
                          <a:pt x="1836" y="705"/>
                        </a:lnTo>
                        <a:lnTo>
                          <a:pt x="1816" y="720"/>
                        </a:lnTo>
                        <a:lnTo>
                          <a:pt x="1796" y="736"/>
                        </a:lnTo>
                        <a:lnTo>
                          <a:pt x="1775" y="751"/>
                        </a:lnTo>
                        <a:lnTo>
                          <a:pt x="1747" y="769"/>
                        </a:lnTo>
                        <a:lnTo>
                          <a:pt x="1720" y="787"/>
                        </a:lnTo>
                        <a:lnTo>
                          <a:pt x="1691" y="804"/>
                        </a:lnTo>
                        <a:lnTo>
                          <a:pt x="1661" y="819"/>
                        </a:lnTo>
                        <a:lnTo>
                          <a:pt x="1630" y="832"/>
                        </a:lnTo>
                        <a:lnTo>
                          <a:pt x="1599" y="846"/>
                        </a:lnTo>
                        <a:lnTo>
                          <a:pt x="1568" y="857"/>
                        </a:lnTo>
                        <a:lnTo>
                          <a:pt x="1534" y="868"/>
                        </a:lnTo>
                        <a:lnTo>
                          <a:pt x="1502" y="878"/>
                        </a:lnTo>
                        <a:lnTo>
                          <a:pt x="1469" y="886"/>
                        </a:lnTo>
                        <a:lnTo>
                          <a:pt x="1434" y="894"/>
                        </a:lnTo>
                        <a:lnTo>
                          <a:pt x="1399" y="901"/>
                        </a:lnTo>
                        <a:lnTo>
                          <a:pt x="1364" y="906"/>
                        </a:lnTo>
                        <a:lnTo>
                          <a:pt x="1329" y="911"/>
                        </a:lnTo>
                        <a:lnTo>
                          <a:pt x="1293" y="914"/>
                        </a:lnTo>
                        <a:lnTo>
                          <a:pt x="1258" y="917"/>
                        </a:lnTo>
                        <a:lnTo>
                          <a:pt x="1222" y="919"/>
                        </a:lnTo>
                        <a:lnTo>
                          <a:pt x="1186" y="919"/>
                        </a:lnTo>
                        <a:lnTo>
                          <a:pt x="1151" y="919"/>
                        </a:lnTo>
                        <a:lnTo>
                          <a:pt x="1115" y="919"/>
                        </a:lnTo>
                        <a:lnTo>
                          <a:pt x="1079" y="917"/>
                        </a:lnTo>
                        <a:lnTo>
                          <a:pt x="1044" y="914"/>
                        </a:lnTo>
                        <a:lnTo>
                          <a:pt x="1009" y="912"/>
                        </a:lnTo>
                        <a:lnTo>
                          <a:pt x="974" y="907"/>
                        </a:lnTo>
                        <a:lnTo>
                          <a:pt x="940" y="903"/>
                        </a:lnTo>
                        <a:lnTo>
                          <a:pt x="905" y="897"/>
                        </a:lnTo>
                        <a:lnTo>
                          <a:pt x="871" y="891"/>
                        </a:lnTo>
                        <a:lnTo>
                          <a:pt x="839" y="885"/>
                        </a:lnTo>
                        <a:lnTo>
                          <a:pt x="806" y="876"/>
                        </a:lnTo>
                        <a:lnTo>
                          <a:pt x="774" y="868"/>
                        </a:lnTo>
                        <a:lnTo>
                          <a:pt x="743" y="860"/>
                        </a:lnTo>
                        <a:lnTo>
                          <a:pt x="713" y="850"/>
                        </a:lnTo>
                        <a:lnTo>
                          <a:pt x="663" y="832"/>
                        </a:lnTo>
                        <a:lnTo>
                          <a:pt x="613" y="815"/>
                        </a:lnTo>
                        <a:lnTo>
                          <a:pt x="562" y="796"/>
                        </a:lnTo>
                        <a:lnTo>
                          <a:pt x="511" y="775"/>
                        </a:lnTo>
                        <a:lnTo>
                          <a:pt x="460" y="754"/>
                        </a:lnTo>
                        <a:lnTo>
                          <a:pt x="411" y="731"/>
                        </a:lnTo>
                        <a:lnTo>
                          <a:pt x="361" y="705"/>
                        </a:lnTo>
                        <a:lnTo>
                          <a:pt x="312" y="677"/>
                        </a:lnTo>
                        <a:lnTo>
                          <a:pt x="266" y="649"/>
                        </a:lnTo>
                        <a:lnTo>
                          <a:pt x="221" y="618"/>
                        </a:lnTo>
                        <a:lnTo>
                          <a:pt x="178" y="584"/>
                        </a:lnTo>
                        <a:lnTo>
                          <a:pt x="138" y="548"/>
                        </a:lnTo>
                        <a:lnTo>
                          <a:pt x="101" y="510"/>
                        </a:lnTo>
                        <a:lnTo>
                          <a:pt x="66" y="469"/>
                        </a:lnTo>
                        <a:lnTo>
                          <a:pt x="35" y="426"/>
                        </a:lnTo>
                        <a:lnTo>
                          <a:pt x="7" y="378"/>
                        </a:lnTo>
                        <a:lnTo>
                          <a:pt x="1" y="347"/>
                        </a:lnTo>
                        <a:lnTo>
                          <a:pt x="0" y="318"/>
                        </a:lnTo>
                        <a:lnTo>
                          <a:pt x="4" y="288"/>
                        </a:lnTo>
                        <a:lnTo>
                          <a:pt x="10" y="261"/>
                        </a:lnTo>
                        <a:lnTo>
                          <a:pt x="19" y="233"/>
                        </a:lnTo>
                        <a:lnTo>
                          <a:pt x="31" y="207"/>
                        </a:lnTo>
                        <a:lnTo>
                          <a:pt x="43" y="181"/>
                        </a:lnTo>
                        <a:lnTo>
                          <a:pt x="58" y="156"/>
                        </a:lnTo>
                        <a:lnTo>
                          <a:pt x="73" y="142"/>
                        </a:lnTo>
                        <a:lnTo>
                          <a:pt x="88" y="128"/>
                        </a:lnTo>
                        <a:lnTo>
                          <a:pt x="104" y="115"/>
                        </a:lnTo>
                        <a:lnTo>
                          <a:pt x="122" y="106"/>
                        </a:lnTo>
                        <a:lnTo>
                          <a:pt x="139" y="97"/>
                        </a:lnTo>
                        <a:lnTo>
                          <a:pt x="157" y="88"/>
                        </a:lnTo>
                        <a:lnTo>
                          <a:pt x="174" y="81"/>
                        </a:lnTo>
                        <a:lnTo>
                          <a:pt x="193" y="73"/>
                        </a:lnTo>
                        <a:lnTo>
                          <a:pt x="210" y="67"/>
                        </a:lnTo>
                        <a:lnTo>
                          <a:pt x="229" y="61"/>
                        </a:lnTo>
                        <a:lnTo>
                          <a:pt x="246" y="53"/>
                        </a:lnTo>
                        <a:lnTo>
                          <a:pt x="265" y="46"/>
                        </a:lnTo>
                        <a:lnTo>
                          <a:pt x="282" y="37"/>
                        </a:lnTo>
                        <a:lnTo>
                          <a:pt x="299" y="29"/>
                        </a:lnTo>
                        <a:lnTo>
                          <a:pt x="315" y="17"/>
                        </a:lnTo>
                        <a:lnTo>
                          <a:pt x="331" y="6"/>
                        </a:lnTo>
                        <a:lnTo>
                          <a:pt x="347" y="9"/>
                        </a:lnTo>
                        <a:lnTo>
                          <a:pt x="362" y="8"/>
                        </a:lnTo>
                        <a:lnTo>
                          <a:pt x="376" y="5"/>
                        </a:lnTo>
                        <a:lnTo>
                          <a:pt x="391" y="1"/>
                        </a:lnTo>
                        <a:lnTo>
                          <a:pt x="404" y="0"/>
                        </a:lnTo>
                        <a:lnTo>
                          <a:pt x="417" y="1"/>
                        </a:lnTo>
                        <a:lnTo>
                          <a:pt x="429" y="9"/>
                        </a:lnTo>
                        <a:lnTo>
                          <a:pt x="44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flipH="1">
                    <a:off x="2198880" y="3133440"/>
                    <a:ext cx="133920" cy="83520"/>
                  </a:xfrm>
                  <a:custGeom>
                    <a:avLst/>
                    <a:gdLst/>
                    <a:ahLst/>
                    <a:rect l="l" t="t" r="r" b="b"/>
                    <a:pathLst>
                      <a:path w="539" h="543">
                        <a:moveTo>
                          <a:pt x="273" y="2"/>
                        </a:moveTo>
                        <a:lnTo>
                          <a:pt x="274" y="18"/>
                        </a:lnTo>
                        <a:lnTo>
                          <a:pt x="278" y="33"/>
                        </a:lnTo>
                        <a:lnTo>
                          <a:pt x="284" y="48"/>
                        </a:lnTo>
                        <a:lnTo>
                          <a:pt x="291" y="61"/>
                        </a:lnTo>
                        <a:lnTo>
                          <a:pt x="296" y="76"/>
                        </a:lnTo>
                        <a:lnTo>
                          <a:pt x="301" y="90"/>
                        </a:lnTo>
                        <a:lnTo>
                          <a:pt x="301" y="103"/>
                        </a:lnTo>
                        <a:lnTo>
                          <a:pt x="298" y="118"/>
                        </a:lnTo>
                        <a:lnTo>
                          <a:pt x="295" y="127"/>
                        </a:lnTo>
                        <a:lnTo>
                          <a:pt x="290" y="134"/>
                        </a:lnTo>
                        <a:lnTo>
                          <a:pt x="283" y="141"/>
                        </a:lnTo>
                        <a:lnTo>
                          <a:pt x="275" y="146"/>
                        </a:lnTo>
                        <a:lnTo>
                          <a:pt x="267" y="149"/>
                        </a:lnTo>
                        <a:lnTo>
                          <a:pt x="258" y="153"/>
                        </a:lnTo>
                        <a:lnTo>
                          <a:pt x="249" y="156"/>
                        </a:lnTo>
                        <a:lnTo>
                          <a:pt x="240" y="159"/>
                        </a:lnTo>
                        <a:lnTo>
                          <a:pt x="239" y="162"/>
                        </a:lnTo>
                        <a:lnTo>
                          <a:pt x="237" y="162"/>
                        </a:lnTo>
                        <a:lnTo>
                          <a:pt x="232" y="159"/>
                        </a:lnTo>
                        <a:lnTo>
                          <a:pt x="227" y="156"/>
                        </a:lnTo>
                        <a:lnTo>
                          <a:pt x="220" y="152"/>
                        </a:lnTo>
                        <a:lnTo>
                          <a:pt x="213" y="149"/>
                        </a:lnTo>
                        <a:lnTo>
                          <a:pt x="207" y="148"/>
                        </a:lnTo>
                        <a:lnTo>
                          <a:pt x="199" y="151"/>
                        </a:lnTo>
                        <a:lnTo>
                          <a:pt x="182" y="169"/>
                        </a:lnTo>
                        <a:lnTo>
                          <a:pt x="174" y="189"/>
                        </a:lnTo>
                        <a:lnTo>
                          <a:pt x="176" y="209"/>
                        </a:lnTo>
                        <a:lnTo>
                          <a:pt x="178" y="227"/>
                        </a:lnTo>
                        <a:lnTo>
                          <a:pt x="182" y="246"/>
                        </a:lnTo>
                        <a:lnTo>
                          <a:pt x="181" y="265"/>
                        </a:lnTo>
                        <a:lnTo>
                          <a:pt x="171" y="282"/>
                        </a:lnTo>
                        <a:lnTo>
                          <a:pt x="150" y="299"/>
                        </a:lnTo>
                        <a:lnTo>
                          <a:pt x="143" y="316"/>
                        </a:lnTo>
                        <a:lnTo>
                          <a:pt x="136" y="330"/>
                        </a:lnTo>
                        <a:lnTo>
                          <a:pt x="131" y="348"/>
                        </a:lnTo>
                        <a:lnTo>
                          <a:pt x="132" y="366"/>
                        </a:lnTo>
                        <a:lnTo>
                          <a:pt x="148" y="378"/>
                        </a:lnTo>
                        <a:lnTo>
                          <a:pt x="163" y="384"/>
                        </a:lnTo>
                        <a:lnTo>
                          <a:pt x="179" y="388"/>
                        </a:lnTo>
                        <a:lnTo>
                          <a:pt x="194" y="388"/>
                        </a:lnTo>
                        <a:lnTo>
                          <a:pt x="209" y="384"/>
                        </a:lnTo>
                        <a:lnTo>
                          <a:pt x="224" y="380"/>
                        </a:lnTo>
                        <a:lnTo>
                          <a:pt x="239" y="374"/>
                        </a:lnTo>
                        <a:lnTo>
                          <a:pt x="255" y="366"/>
                        </a:lnTo>
                        <a:lnTo>
                          <a:pt x="270" y="360"/>
                        </a:lnTo>
                        <a:lnTo>
                          <a:pt x="286" y="353"/>
                        </a:lnTo>
                        <a:lnTo>
                          <a:pt x="303" y="348"/>
                        </a:lnTo>
                        <a:lnTo>
                          <a:pt x="319" y="344"/>
                        </a:lnTo>
                        <a:lnTo>
                          <a:pt x="335" y="343"/>
                        </a:lnTo>
                        <a:lnTo>
                          <a:pt x="352" y="344"/>
                        </a:lnTo>
                        <a:lnTo>
                          <a:pt x="371" y="349"/>
                        </a:lnTo>
                        <a:lnTo>
                          <a:pt x="390" y="358"/>
                        </a:lnTo>
                        <a:lnTo>
                          <a:pt x="412" y="352"/>
                        </a:lnTo>
                        <a:lnTo>
                          <a:pt x="432" y="349"/>
                        </a:lnTo>
                        <a:lnTo>
                          <a:pt x="451" y="353"/>
                        </a:lnTo>
                        <a:lnTo>
                          <a:pt x="468" y="360"/>
                        </a:lnTo>
                        <a:lnTo>
                          <a:pt x="486" y="371"/>
                        </a:lnTo>
                        <a:lnTo>
                          <a:pt x="503" y="384"/>
                        </a:lnTo>
                        <a:lnTo>
                          <a:pt x="520" y="399"/>
                        </a:lnTo>
                        <a:lnTo>
                          <a:pt x="539" y="415"/>
                        </a:lnTo>
                        <a:lnTo>
                          <a:pt x="528" y="431"/>
                        </a:lnTo>
                        <a:lnTo>
                          <a:pt x="520" y="453"/>
                        </a:lnTo>
                        <a:lnTo>
                          <a:pt x="517" y="477"/>
                        </a:lnTo>
                        <a:lnTo>
                          <a:pt x="514" y="500"/>
                        </a:lnTo>
                        <a:lnTo>
                          <a:pt x="508" y="520"/>
                        </a:lnTo>
                        <a:lnTo>
                          <a:pt x="499" y="535"/>
                        </a:lnTo>
                        <a:lnTo>
                          <a:pt x="482" y="543"/>
                        </a:lnTo>
                        <a:lnTo>
                          <a:pt x="457" y="539"/>
                        </a:lnTo>
                        <a:lnTo>
                          <a:pt x="449" y="508"/>
                        </a:lnTo>
                        <a:lnTo>
                          <a:pt x="447" y="474"/>
                        </a:lnTo>
                        <a:lnTo>
                          <a:pt x="441" y="442"/>
                        </a:lnTo>
                        <a:lnTo>
                          <a:pt x="422" y="415"/>
                        </a:lnTo>
                        <a:lnTo>
                          <a:pt x="398" y="417"/>
                        </a:lnTo>
                        <a:lnTo>
                          <a:pt x="386" y="426"/>
                        </a:lnTo>
                        <a:lnTo>
                          <a:pt x="380" y="438"/>
                        </a:lnTo>
                        <a:lnTo>
                          <a:pt x="377" y="453"/>
                        </a:lnTo>
                        <a:lnTo>
                          <a:pt x="374" y="468"/>
                        </a:lnTo>
                        <a:lnTo>
                          <a:pt x="366" y="481"/>
                        </a:lnTo>
                        <a:lnTo>
                          <a:pt x="351" y="489"/>
                        </a:lnTo>
                        <a:lnTo>
                          <a:pt x="324" y="490"/>
                        </a:lnTo>
                        <a:lnTo>
                          <a:pt x="315" y="502"/>
                        </a:lnTo>
                        <a:lnTo>
                          <a:pt x="305" y="510"/>
                        </a:lnTo>
                        <a:lnTo>
                          <a:pt x="293" y="517"/>
                        </a:lnTo>
                        <a:lnTo>
                          <a:pt x="278" y="520"/>
                        </a:lnTo>
                        <a:lnTo>
                          <a:pt x="263" y="523"/>
                        </a:lnTo>
                        <a:lnTo>
                          <a:pt x="249" y="524"/>
                        </a:lnTo>
                        <a:lnTo>
                          <a:pt x="235" y="524"/>
                        </a:lnTo>
                        <a:lnTo>
                          <a:pt x="223" y="523"/>
                        </a:lnTo>
                        <a:lnTo>
                          <a:pt x="208" y="508"/>
                        </a:lnTo>
                        <a:lnTo>
                          <a:pt x="193" y="494"/>
                        </a:lnTo>
                        <a:lnTo>
                          <a:pt x="177" y="482"/>
                        </a:lnTo>
                        <a:lnTo>
                          <a:pt x="159" y="469"/>
                        </a:lnTo>
                        <a:lnTo>
                          <a:pt x="142" y="457"/>
                        </a:lnTo>
                        <a:lnTo>
                          <a:pt x="125" y="446"/>
                        </a:lnTo>
                        <a:lnTo>
                          <a:pt x="107" y="433"/>
                        </a:lnTo>
                        <a:lnTo>
                          <a:pt x="91" y="422"/>
                        </a:lnTo>
                        <a:lnTo>
                          <a:pt x="75" y="410"/>
                        </a:lnTo>
                        <a:lnTo>
                          <a:pt x="59" y="397"/>
                        </a:lnTo>
                        <a:lnTo>
                          <a:pt x="45" y="384"/>
                        </a:lnTo>
                        <a:lnTo>
                          <a:pt x="33" y="369"/>
                        </a:lnTo>
                        <a:lnTo>
                          <a:pt x="21" y="354"/>
                        </a:lnTo>
                        <a:lnTo>
                          <a:pt x="11" y="338"/>
                        </a:lnTo>
                        <a:lnTo>
                          <a:pt x="5" y="319"/>
                        </a:lnTo>
                        <a:lnTo>
                          <a:pt x="0" y="299"/>
                        </a:lnTo>
                        <a:lnTo>
                          <a:pt x="18" y="286"/>
                        </a:lnTo>
                        <a:lnTo>
                          <a:pt x="39" y="273"/>
                        </a:lnTo>
                        <a:lnTo>
                          <a:pt x="60" y="262"/>
                        </a:lnTo>
                        <a:lnTo>
                          <a:pt x="80" y="250"/>
                        </a:lnTo>
                        <a:lnTo>
                          <a:pt x="99" y="235"/>
                        </a:lnTo>
                        <a:lnTo>
                          <a:pt x="113" y="216"/>
                        </a:lnTo>
                        <a:lnTo>
                          <a:pt x="122" y="195"/>
                        </a:lnTo>
                        <a:lnTo>
                          <a:pt x="125" y="167"/>
                        </a:lnTo>
                        <a:lnTo>
                          <a:pt x="137" y="148"/>
                        </a:lnTo>
                        <a:lnTo>
                          <a:pt x="157" y="134"/>
                        </a:lnTo>
                        <a:lnTo>
                          <a:pt x="178" y="127"/>
                        </a:lnTo>
                        <a:lnTo>
                          <a:pt x="201" y="120"/>
                        </a:lnTo>
                        <a:lnTo>
                          <a:pt x="219" y="112"/>
                        </a:lnTo>
                        <a:lnTo>
                          <a:pt x="232" y="101"/>
                        </a:lnTo>
                        <a:lnTo>
                          <a:pt x="234" y="85"/>
                        </a:lnTo>
                        <a:lnTo>
                          <a:pt x="223" y="60"/>
                        </a:lnTo>
                        <a:lnTo>
                          <a:pt x="220" y="53"/>
                        </a:lnTo>
                        <a:lnTo>
                          <a:pt x="220" y="44"/>
                        </a:lnTo>
                        <a:lnTo>
                          <a:pt x="223" y="33"/>
                        </a:lnTo>
                        <a:lnTo>
                          <a:pt x="229" y="22"/>
                        </a:lnTo>
                        <a:lnTo>
                          <a:pt x="238" y="12"/>
                        </a:lnTo>
                        <a:lnTo>
                          <a:pt x="248" y="4"/>
                        </a:lnTo>
                        <a:lnTo>
                          <a:pt x="259" y="0"/>
                        </a:lnTo>
                        <a:lnTo>
                          <a:pt x="273" y="2"/>
                        </a:lnTo>
                        <a:close/>
                      </a:path>
                    </a:pathLst>
                  </a:custGeom>
                  <a:solidFill>
                    <a:srgbClr val="9ed67c"/>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520" name=""/>
                  <p:cNvSpPr/>
                  <p:nvPr/>
                </p:nvSpPr>
                <p:spPr>
                  <a:xfrm flipH="1">
                    <a:off x="2066040" y="3152880"/>
                    <a:ext cx="101520" cy="34200"/>
                  </a:xfrm>
                  <a:custGeom>
                    <a:avLst/>
                    <a:gdLst/>
                    <a:ahLst/>
                    <a:rect l="l" t="t" r="r" b="b"/>
                    <a:pathLst>
                      <a:path w="409" h="224">
                        <a:moveTo>
                          <a:pt x="407" y="25"/>
                        </a:moveTo>
                        <a:lnTo>
                          <a:pt x="409" y="49"/>
                        </a:lnTo>
                        <a:lnTo>
                          <a:pt x="409" y="74"/>
                        </a:lnTo>
                        <a:lnTo>
                          <a:pt x="405" y="99"/>
                        </a:lnTo>
                        <a:lnTo>
                          <a:pt x="399" y="124"/>
                        </a:lnTo>
                        <a:lnTo>
                          <a:pt x="392" y="149"/>
                        </a:lnTo>
                        <a:lnTo>
                          <a:pt x="385" y="173"/>
                        </a:lnTo>
                        <a:lnTo>
                          <a:pt x="378" y="198"/>
                        </a:lnTo>
                        <a:lnTo>
                          <a:pt x="373" y="223"/>
                        </a:lnTo>
                        <a:lnTo>
                          <a:pt x="347" y="224"/>
                        </a:lnTo>
                        <a:lnTo>
                          <a:pt x="321" y="224"/>
                        </a:lnTo>
                        <a:lnTo>
                          <a:pt x="295" y="223"/>
                        </a:lnTo>
                        <a:lnTo>
                          <a:pt x="270" y="221"/>
                        </a:lnTo>
                        <a:lnTo>
                          <a:pt x="246" y="216"/>
                        </a:lnTo>
                        <a:lnTo>
                          <a:pt x="221" y="211"/>
                        </a:lnTo>
                        <a:lnTo>
                          <a:pt x="199" y="204"/>
                        </a:lnTo>
                        <a:lnTo>
                          <a:pt x="175" y="197"/>
                        </a:lnTo>
                        <a:lnTo>
                          <a:pt x="153" y="188"/>
                        </a:lnTo>
                        <a:lnTo>
                          <a:pt x="130" y="180"/>
                        </a:lnTo>
                        <a:lnTo>
                          <a:pt x="108" y="170"/>
                        </a:lnTo>
                        <a:lnTo>
                          <a:pt x="85" y="160"/>
                        </a:lnTo>
                        <a:lnTo>
                          <a:pt x="64" y="149"/>
                        </a:lnTo>
                        <a:lnTo>
                          <a:pt x="43" y="139"/>
                        </a:lnTo>
                        <a:lnTo>
                          <a:pt x="21" y="128"/>
                        </a:lnTo>
                        <a:lnTo>
                          <a:pt x="0" y="116"/>
                        </a:lnTo>
                        <a:lnTo>
                          <a:pt x="8" y="118"/>
                        </a:lnTo>
                        <a:lnTo>
                          <a:pt x="17" y="116"/>
                        </a:lnTo>
                        <a:lnTo>
                          <a:pt x="23" y="111"/>
                        </a:lnTo>
                        <a:lnTo>
                          <a:pt x="28" y="104"/>
                        </a:lnTo>
                        <a:lnTo>
                          <a:pt x="32" y="95"/>
                        </a:lnTo>
                        <a:lnTo>
                          <a:pt x="33" y="85"/>
                        </a:lnTo>
                        <a:lnTo>
                          <a:pt x="34" y="75"/>
                        </a:lnTo>
                        <a:lnTo>
                          <a:pt x="33" y="67"/>
                        </a:lnTo>
                        <a:lnTo>
                          <a:pt x="43" y="59"/>
                        </a:lnTo>
                        <a:lnTo>
                          <a:pt x="52" y="49"/>
                        </a:lnTo>
                        <a:lnTo>
                          <a:pt x="59" y="39"/>
                        </a:lnTo>
                        <a:lnTo>
                          <a:pt x="68" y="28"/>
                        </a:lnTo>
                        <a:lnTo>
                          <a:pt x="77" y="20"/>
                        </a:lnTo>
                        <a:lnTo>
                          <a:pt x="87" y="12"/>
                        </a:lnTo>
                        <a:lnTo>
                          <a:pt x="99" y="8"/>
                        </a:lnTo>
                        <a:lnTo>
                          <a:pt x="115" y="8"/>
                        </a:lnTo>
                        <a:lnTo>
                          <a:pt x="135" y="18"/>
                        </a:lnTo>
                        <a:lnTo>
                          <a:pt x="141" y="31"/>
                        </a:lnTo>
                        <a:lnTo>
                          <a:pt x="139" y="43"/>
                        </a:lnTo>
                        <a:lnTo>
                          <a:pt x="133" y="56"/>
                        </a:lnTo>
                        <a:lnTo>
                          <a:pt x="125" y="69"/>
                        </a:lnTo>
                        <a:lnTo>
                          <a:pt x="123" y="80"/>
                        </a:lnTo>
                        <a:lnTo>
                          <a:pt x="129" y="90"/>
                        </a:lnTo>
                        <a:lnTo>
                          <a:pt x="149" y="99"/>
                        </a:lnTo>
                        <a:lnTo>
                          <a:pt x="178" y="105"/>
                        </a:lnTo>
                        <a:lnTo>
                          <a:pt x="197" y="100"/>
                        </a:lnTo>
                        <a:lnTo>
                          <a:pt x="209" y="87"/>
                        </a:lnTo>
                        <a:lnTo>
                          <a:pt x="216" y="68"/>
                        </a:lnTo>
                        <a:lnTo>
                          <a:pt x="221" y="48"/>
                        </a:lnTo>
                        <a:lnTo>
                          <a:pt x="229" y="27"/>
                        </a:lnTo>
                        <a:lnTo>
                          <a:pt x="239" y="11"/>
                        </a:lnTo>
                        <a:lnTo>
                          <a:pt x="256" y="0"/>
                        </a:lnTo>
                        <a:lnTo>
                          <a:pt x="276" y="1"/>
                        </a:lnTo>
                        <a:lnTo>
                          <a:pt x="295" y="5"/>
                        </a:lnTo>
                        <a:lnTo>
                          <a:pt x="312" y="10"/>
                        </a:lnTo>
                        <a:lnTo>
                          <a:pt x="329" y="17"/>
                        </a:lnTo>
                        <a:lnTo>
                          <a:pt x="347" y="23"/>
                        </a:lnTo>
                        <a:lnTo>
                          <a:pt x="365" y="27"/>
                        </a:lnTo>
                        <a:lnTo>
                          <a:pt x="385" y="28"/>
                        </a:lnTo>
                        <a:lnTo>
                          <a:pt x="407" y="25"/>
                        </a:lnTo>
                        <a:close/>
                      </a:path>
                    </a:pathLst>
                  </a:custGeom>
                  <a:solidFill>
                    <a:srgbClr val="9ed67c"/>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521" name=""/>
                  <p:cNvSpPr/>
                  <p:nvPr/>
                </p:nvSpPr>
                <p:spPr>
                  <a:xfrm flipH="1">
                    <a:off x="2000880" y="3159360"/>
                    <a:ext cx="40680" cy="19080"/>
                  </a:xfrm>
                  <a:custGeom>
                    <a:avLst/>
                    <a:gdLst/>
                    <a:ahLst/>
                    <a:rect l="l" t="t" r="r" b="b"/>
                    <a:pathLst>
                      <a:path w="164" h="124">
                        <a:moveTo>
                          <a:pt x="164" y="0"/>
                        </a:moveTo>
                        <a:lnTo>
                          <a:pt x="148" y="18"/>
                        </a:lnTo>
                        <a:lnTo>
                          <a:pt x="132" y="38"/>
                        </a:lnTo>
                        <a:lnTo>
                          <a:pt x="117" y="58"/>
                        </a:lnTo>
                        <a:lnTo>
                          <a:pt x="100" y="75"/>
                        </a:lnTo>
                        <a:lnTo>
                          <a:pt x="82" y="93"/>
                        </a:lnTo>
                        <a:lnTo>
                          <a:pt x="64" y="106"/>
                        </a:lnTo>
                        <a:lnTo>
                          <a:pt x="41" y="116"/>
                        </a:lnTo>
                        <a:lnTo>
                          <a:pt x="16" y="124"/>
                        </a:lnTo>
                        <a:lnTo>
                          <a:pt x="8" y="95"/>
                        </a:lnTo>
                        <a:lnTo>
                          <a:pt x="1" y="75"/>
                        </a:lnTo>
                        <a:lnTo>
                          <a:pt x="0" y="56"/>
                        </a:lnTo>
                        <a:lnTo>
                          <a:pt x="8" y="26"/>
                        </a:lnTo>
                        <a:lnTo>
                          <a:pt x="23" y="10"/>
                        </a:lnTo>
                        <a:lnTo>
                          <a:pt x="40" y="2"/>
                        </a:lnTo>
                        <a:lnTo>
                          <a:pt x="60" y="1"/>
                        </a:lnTo>
                        <a:lnTo>
                          <a:pt x="81" y="3"/>
                        </a:lnTo>
                        <a:lnTo>
                          <a:pt x="102" y="8"/>
                        </a:lnTo>
                        <a:lnTo>
                          <a:pt x="123" y="10"/>
                        </a:lnTo>
                        <a:lnTo>
                          <a:pt x="144" y="8"/>
                        </a:lnTo>
                        <a:lnTo>
                          <a:pt x="164" y="0"/>
                        </a:lnTo>
                        <a:close/>
                      </a:path>
                    </a:pathLst>
                  </a:custGeom>
                  <a:solidFill>
                    <a:srgbClr val="9ed67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22" name=""/>
                  <p:cNvSpPr/>
                  <p:nvPr/>
                </p:nvSpPr>
                <p:spPr>
                  <a:xfrm flipH="1">
                    <a:off x="1804320" y="3166560"/>
                    <a:ext cx="636480" cy="159480"/>
                  </a:xfrm>
                  <a:custGeom>
                    <a:avLst/>
                    <a:gdLst/>
                    <a:ahLst/>
                    <a:rect l="l" t="t" r="r" b="b"/>
                    <a:pathLst>
                      <a:path w="2559" h="1035">
                        <a:moveTo>
                          <a:pt x="275" y="76"/>
                        </a:moveTo>
                        <a:lnTo>
                          <a:pt x="290" y="112"/>
                        </a:lnTo>
                        <a:lnTo>
                          <a:pt x="308" y="145"/>
                        </a:lnTo>
                        <a:lnTo>
                          <a:pt x="328" y="179"/>
                        </a:lnTo>
                        <a:lnTo>
                          <a:pt x="352" y="211"/>
                        </a:lnTo>
                        <a:lnTo>
                          <a:pt x="377" y="242"/>
                        </a:lnTo>
                        <a:lnTo>
                          <a:pt x="404" y="272"/>
                        </a:lnTo>
                        <a:lnTo>
                          <a:pt x="433" y="300"/>
                        </a:lnTo>
                        <a:lnTo>
                          <a:pt x="463" y="328"/>
                        </a:lnTo>
                        <a:lnTo>
                          <a:pt x="495" y="354"/>
                        </a:lnTo>
                        <a:lnTo>
                          <a:pt x="529" y="377"/>
                        </a:lnTo>
                        <a:lnTo>
                          <a:pt x="562" y="400"/>
                        </a:lnTo>
                        <a:lnTo>
                          <a:pt x="597" y="419"/>
                        </a:lnTo>
                        <a:lnTo>
                          <a:pt x="632" y="438"/>
                        </a:lnTo>
                        <a:lnTo>
                          <a:pt x="668" y="455"/>
                        </a:lnTo>
                        <a:lnTo>
                          <a:pt x="704" y="470"/>
                        </a:lnTo>
                        <a:lnTo>
                          <a:pt x="740" y="483"/>
                        </a:lnTo>
                        <a:lnTo>
                          <a:pt x="758" y="493"/>
                        </a:lnTo>
                        <a:lnTo>
                          <a:pt x="775" y="502"/>
                        </a:lnTo>
                        <a:lnTo>
                          <a:pt x="793" y="511"/>
                        </a:lnTo>
                        <a:lnTo>
                          <a:pt x="810" y="521"/>
                        </a:lnTo>
                        <a:lnTo>
                          <a:pt x="827" y="531"/>
                        </a:lnTo>
                        <a:lnTo>
                          <a:pt x="845" y="540"/>
                        </a:lnTo>
                        <a:lnTo>
                          <a:pt x="862" y="550"/>
                        </a:lnTo>
                        <a:lnTo>
                          <a:pt x="881" y="558"/>
                        </a:lnTo>
                        <a:lnTo>
                          <a:pt x="898" y="567"/>
                        </a:lnTo>
                        <a:lnTo>
                          <a:pt x="917" y="576"/>
                        </a:lnTo>
                        <a:lnTo>
                          <a:pt x="935" y="583"/>
                        </a:lnTo>
                        <a:lnTo>
                          <a:pt x="953" y="591"/>
                        </a:lnTo>
                        <a:lnTo>
                          <a:pt x="972" y="597"/>
                        </a:lnTo>
                        <a:lnTo>
                          <a:pt x="992" y="603"/>
                        </a:lnTo>
                        <a:lnTo>
                          <a:pt x="1010" y="608"/>
                        </a:lnTo>
                        <a:lnTo>
                          <a:pt x="1030" y="613"/>
                        </a:lnTo>
                        <a:lnTo>
                          <a:pt x="1047" y="623"/>
                        </a:lnTo>
                        <a:lnTo>
                          <a:pt x="1063" y="631"/>
                        </a:lnTo>
                        <a:lnTo>
                          <a:pt x="1080" y="638"/>
                        </a:lnTo>
                        <a:lnTo>
                          <a:pt x="1098" y="643"/>
                        </a:lnTo>
                        <a:lnTo>
                          <a:pt x="1116" y="646"/>
                        </a:lnTo>
                        <a:lnTo>
                          <a:pt x="1135" y="649"/>
                        </a:lnTo>
                        <a:lnTo>
                          <a:pt x="1155" y="650"/>
                        </a:lnTo>
                        <a:lnTo>
                          <a:pt x="1173" y="651"/>
                        </a:lnTo>
                        <a:lnTo>
                          <a:pt x="1193" y="653"/>
                        </a:lnTo>
                        <a:lnTo>
                          <a:pt x="1212" y="654"/>
                        </a:lnTo>
                        <a:lnTo>
                          <a:pt x="1232" y="656"/>
                        </a:lnTo>
                        <a:lnTo>
                          <a:pt x="1251" y="658"/>
                        </a:lnTo>
                        <a:lnTo>
                          <a:pt x="1269" y="661"/>
                        </a:lnTo>
                        <a:lnTo>
                          <a:pt x="1288" y="666"/>
                        </a:lnTo>
                        <a:lnTo>
                          <a:pt x="1305" y="672"/>
                        </a:lnTo>
                        <a:lnTo>
                          <a:pt x="1322" y="680"/>
                        </a:lnTo>
                        <a:lnTo>
                          <a:pt x="1359" y="685"/>
                        </a:lnTo>
                        <a:lnTo>
                          <a:pt x="1395" y="690"/>
                        </a:lnTo>
                        <a:lnTo>
                          <a:pt x="1432" y="692"/>
                        </a:lnTo>
                        <a:lnTo>
                          <a:pt x="1468" y="695"/>
                        </a:lnTo>
                        <a:lnTo>
                          <a:pt x="1505" y="696"/>
                        </a:lnTo>
                        <a:lnTo>
                          <a:pt x="1541" y="696"/>
                        </a:lnTo>
                        <a:lnTo>
                          <a:pt x="1577" y="695"/>
                        </a:lnTo>
                        <a:lnTo>
                          <a:pt x="1613" y="692"/>
                        </a:lnTo>
                        <a:lnTo>
                          <a:pt x="1648" y="689"/>
                        </a:lnTo>
                        <a:lnTo>
                          <a:pt x="1683" y="684"/>
                        </a:lnTo>
                        <a:lnTo>
                          <a:pt x="1717" y="677"/>
                        </a:lnTo>
                        <a:lnTo>
                          <a:pt x="1752" y="671"/>
                        </a:lnTo>
                        <a:lnTo>
                          <a:pt x="1786" y="664"/>
                        </a:lnTo>
                        <a:lnTo>
                          <a:pt x="1821" y="654"/>
                        </a:lnTo>
                        <a:lnTo>
                          <a:pt x="1853" y="644"/>
                        </a:lnTo>
                        <a:lnTo>
                          <a:pt x="1887" y="633"/>
                        </a:lnTo>
                        <a:lnTo>
                          <a:pt x="1919" y="620"/>
                        </a:lnTo>
                        <a:lnTo>
                          <a:pt x="1950" y="608"/>
                        </a:lnTo>
                        <a:lnTo>
                          <a:pt x="1982" y="593"/>
                        </a:lnTo>
                        <a:lnTo>
                          <a:pt x="2014" y="578"/>
                        </a:lnTo>
                        <a:lnTo>
                          <a:pt x="2043" y="562"/>
                        </a:lnTo>
                        <a:lnTo>
                          <a:pt x="2073" y="545"/>
                        </a:lnTo>
                        <a:lnTo>
                          <a:pt x="2102" y="526"/>
                        </a:lnTo>
                        <a:lnTo>
                          <a:pt x="2131" y="506"/>
                        </a:lnTo>
                        <a:lnTo>
                          <a:pt x="2159" y="486"/>
                        </a:lnTo>
                        <a:lnTo>
                          <a:pt x="2185" y="465"/>
                        </a:lnTo>
                        <a:lnTo>
                          <a:pt x="2213" y="443"/>
                        </a:lnTo>
                        <a:lnTo>
                          <a:pt x="2238" y="419"/>
                        </a:lnTo>
                        <a:lnTo>
                          <a:pt x="2264" y="395"/>
                        </a:lnTo>
                        <a:lnTo>
                          <a:pt x="2287" y="370"/>
                        </a:lnTo>
                        <a:lnTo>
                          <a:pt x="2311" y="344"/>
                        </a:lnTo>
                        <a:lnTo>
                          <a:pt x="2333" y="316"/>
                        </a:lnTo>
                        <a:lnTo>
                          <a:pt x="2352" y="319"/>
                        </a:lnTo>
                        <a:lnTo>
                          <a:pt x="2371" y="323"/>
                        </a:lnTo>
                        <a:lnTo>
                          <a:pt x="2388" y="326"/>
                        </a:lnTo>
                        <a:lnTo>
                          <a:pt x="2406" y="333"/>
                        </a:lnTo>
                        <a:lnTo>
                          <a:pt x="2422" y="340"/>
                        </a:lnTo>
                        <a:lnTo>
                          <a:pt x="2437" y="349"/>
                        </a:lnTo>
                        <a:lnTo>
                          <a:pt x="2452" y="359"/>
                        </a:lnTo>
                        <a:lnTo>
                          <a:pt x="2467" y="369"/>
                        </a:lnTo>
                        <a:lnTo>
                          <a:pt x="2480" y="381"/>
                        </a:lnTo>
                        <a:lnTo>
                          <a:pt x="2493" y="393"/>
                        </a:lnTo>
                        <a:lnTo>
                          <a:pt x="2505" y="406"/>
                        </a:lnTo>
                        <a:lnTo>
                          <a:pt x="2518" y="421"/>
                        </a:lnTo>
                        <a:lnTo>
                          <a:pt x="2529" y="434"/>
                        </a:lnTo>
                        <a:lnTo>
                          <a:pt x="2539" y="450"/>
                        </a:lnTo>
                        <a:lnTo>
                          <a:pt x="2549" y="467"/>
                        </a:lnTo>
                        <a:lnTo>
                          <a:pt x="2557" y="483"/>
                        </a:lnTo>
                        <a:lnTo>
                          <a:pt x="2559" y="519"/>
                        </a:lnTo>
                        <a:lnTo>
                          <a:pt x="2557" y="553"/>
                        </a:lnTo>
                        <a:lnTo>
                          <a:pt x="2551" y="588"/>
                        </a:lnTo>
                        <a:lnTo>
                          <a:pt x="2544" y="620"/>
                        </a:lnTo>
                        <a:lnTo>
                          <a:pt x="2533" y="651"/>
                        </a:lnTo>
                        <a:lnTo>
                          <a:pt x="2519" y="680"/>
                        </a:lnTo>
                        <a:lnTo>
                          <a:pt x="2503" y="708"/>
                        </a:lnTo>
                        <a:lnTo>
                          <a:pt x="2484" y="736"/>
                        </a:lnTo>
                        <a:lnTo>
                          <a:pt x="2464" y="762"/>
                        </a:lnTo>
                        <a:lnTo>
                          <a:pt x="2443" y="785"/>
                        </a:lnTo>
                        <a:lnTo>
                          <a:pt x="2419" y="809"/>
                        </a:lnTo>
                        <a:lnTo>
                          <a:pt x="2396" y="830"/>
                        </a:lnTo>
                        <a:lnTo>
                          <a:pt x="2371" y="850"/>
                        </a:lnTo>
                        <a:lnTo>
                          <a:pt x="2345" y="870"/>
                        </a:lnTo>
                        <a:lnTo>
                          <a:pt x="2319" y="887"/>
                        </a:lnTo>
                        <a:lnTo>
                          <a:pt x="2292" y="903"/>
                        </a:lnTo>
                        <a:lnTo>
                          <a:pt x="2255" y="919"/>
                        </a:lnTo>
                        <a:lnTo>
                          <a:pt x="2216" y="935"/>
                        </a:lnTo>
                        <a:lnTo>
                          <a:pt x="2178" y="949"/>
                        </a:lnTo>
                        <a:lnTo>
                          <a:pt x="2139" y="961"/>
                        </a:lnTo>
                        <a:lnTo>
                          <a:pt x="2099" y="974"/>
                        </a:lnTo>
                        <a:lnTo>
                          <a:pt x="2058" y="984"/>
                        </a:lnTo>
                        <a:lnTo>
                          <a:pt x="2017" y="994"/>
                        </a:lnTo>
                        <a:lnTo>
                          <a:pt x="1976" y="1001"/>
                        </a:lnTo>
                        <a:lnTo>
                          <a:pt x="1935" y="1009"/>
                        </a:lnTo>
                        <a:lnTo>
                          <a:pt x="1893" y="1015"/>
                        </a:lnTo>
                        <a:lnTo>
                          <a:pt x="1851" y="1021"/>
                        </a:lnTo>
                        <a:lnTo>
                          <a:pt x="1807" y="1025"/>
                        </a:lnTo>
                        <a:lnTo>
                          <a:pt x="1763" y="1028"/>
                        </a:lnTo>
                        <a:lnTo>
                          <a:pt x="1721" y="1031"/>
                        </a:lnTo>
                        <a:lnTo>
                          <a:pt x="1678" y="1033"/>
                        </a:lnTo>
                        <a:lnTo>
                          <a:pt x="1633" y="1033"/>
                        </a:lnTo>
                        <a:lnTo>
                          <a:pt x="1589" y="1035"/>
                        </a:lnTo>
                        <a:lnTo>
                          <a:pt x="1546" y="1033"/>
                        </a:lnTo>
                        <a:lnTo>
                          <a:pt x="1501" y="1032"/>
                        </a:lnTo>
                        <a:lnTo>
                          <a:pt x="1457" y="1031"/>
                        </a:lnTo>
                        <a:lnTo>
                          <a:pt x="1414" y="1028"/>
                        </a:lnTo>
                        <a:lnTo>
                          <a:pt x="1369" y="1025"/>
                        </a:lnTo>
                        <a:lnTo>
                          <a:pt x="1325" y="1021"/>
                        </a:lnTo>
                        <a:lnTo>
                          <a:pt x="1282" y="1017"/>
                        </a:lnTo>
                        <a:lnTo>
                          <a:pt x="1238" y="1012"/>
                        </a:lnTo>
                        <a:lnTo>
                          <a:pt x="1195" y="1007"/>
                        </a:lnTo>
                        <a:lnTo>
                          <a:pt x="1151" y="1002"/>
                        </a:lnTo>
                        <a:lnTo>
                          <a:pt x="1108" y="996"/>
                        </a:lnTo>
                        <a:lnTo>
                          <a:pt x="1065" y="990"/>
                        </a:lnTo>
                        <a:lnTo>
                          <a:pt x="1023" y="984"/>
                        </a:lnTo>
                        <a:lnTo>
                          <a:pt x="981" y="978"/>
                        </a:lnTo>
                        <a:lnTo>
                          <a:pt x="939" y="970"/>
                        </a:lnTo>
                        <a:lnTo>
                          <a:pt x="906" y="965"/>
                        </a:lnTo>
                        <a:lnTo>
                          <a:pt x="874" y="960"/>
                        </a:lnTo>
                        <a:lnTo>
                          <a:pt x="840" y="954"/>
                        </a:lnTo>
                        <a:lnTo>
                          <a:pt x="806" y="947"/>
                        </a:lnTo>
                        <a:lnTo>
                          <a:pt x="774" y="940"/>
                        </a:lnTo>
                        <a:lnTo>
                          <a:pt x="740" y="932"/>
                        </a:lnTo>
                        <a:lnTo>
                          <a:pt x="708" y="923"/>
                        </a:lnTo>
                        <a:lnTo>
                          <a:pt x="676" y="914"/>
                        </a:lnTo>
                        <a:lnTo>
                          <a:pt x="643" y="904"/>
                        </a:lnTo>
                        <a:lnTo>
                          <a:pt x="611" y="894"/>
                        </a:lnTo>
                        <a:lnTo>
                          <a:pt x="579" y="883"/>
                        </a:lnTo>
                        <a:lnTo>
                          <a:pt x="547" y="872"/>
                        </a:lnTo>
                        <a:lnTo>
                          <a:pt x="516" y="860"/>
                        </a:lnTo>
                        <a:lnTo>
                          <a:pt x="485" y="846"/>
                        </a:lnTo>
                        <a:lnTo>
                          <a:pt x="454" y="832"/>
                        </a:lnTo>
                        <a:lnTo>
                          <a:pt x="424" y="819"/>
                        </a:lnTo>
                        <a:lnTo>
                          <a:pt x="394" y="804"/>
                        </a:lnTo>
                        <a:lnTo>
                          <a:pt x="364" y="788"/>
                        </a:lnTo>
                        <a:lnTo>
                          <a:pt x="336" y="772"/>
                        </a:lnTo>
                        <a:lnTo>
                          <a:pt x="307" y="754"/>
                        </a:lnTo>
                        <a:lnTo>
                          <a:pt x="279" y="737"/>
                        </a:lnTo>
                        <a:lnTo>
                          <a:pt x="251" y="718"/>
                        </a:lnTo>
                        <a:lnTo>
                          <a:pt x="225" y="700"/>
                        </a:lnTo>
                        <a:lnTo>
                          <a:pt x="198" y="680"/>
                        </a:lnTo>
                        <a:lnTo>
                          <a:pt x="173" y="660"/>
                        </a:lnTo>
                        <a:lnTo>
                          <a:pt x="147" y="639"/>
                        </a:lnTo>
                        <a:lnTo>
                          <a:pt x="123" y="617"/>
                        </a:lnTo>
                        <a:lnTo>
                          <a:pt x="99" y="594"/>
                        </a:lnTo>
                        <a:lnTo>
                          <a:pt x="76" y="572"/>
                        </a:lnTo>
                        <a:lnTo>
                          <a:pt x="53" y="547"/>
                        </a:lnTo>
                        <a:lnTo>
                          <a:pt x="32" y="522"/>
                        </a:lnTo>
                        <a:lnTo>
                          <a:pt x="11" y="498"/>
                        </a:lnTo>
                        <a:lnTo>
                          <a:pt x="5" y="454"/>
                        </a:lnTo>
                        <a:lnTo>
                          <a:pt x="0" y="404"/>
                        </a:lnTo>
                        <a:lnTo>
                          <a:pt x="0" y="350"/>
                        </a:lnTo>
                        <a:lnTo>
                          <a:pt x="4" y="294"/>
                        </a:lnTo>
                        <a:lnTo>
                          <a:pt x="14" y="238"/>
                        </a:lnTo>
                        <a:lnTo>
                          <a:pt x="32" y="186"/>
                        </a:lnTo>
                        <a:lnTo>
                          <a:pt x="62" y="140"/>
                        </a:lnTo>
                        <a:lnTo>
                          <a:pt x="102" y="102"/>
                        </a:lnTo>
                        <a:lnTo>
                          <a:pt x="109" y="87"/>
                        </a:lnTo>
                        <a:lnTo>
                          <a:pt x="121" y="75"/>
                        </a:lnTo>
                        <a:lnTo>
                          <a:pt x="133" y="63"/>
                        </a:lnTo>
                        <a:lnTo>
                          <a:pt x="149" y="53"/>
                        </a:lnTo>
                        <a:lnTo>
                          <a:pt x="164" y="45"/>
                        </a:lnTo>
                        <a:lnTo>
                          <a:pt x="180" y="36"/>
                        </a:lnTo>
                        <a:lnTo>
                          <a:pt x="196" y="27"/>
                        </a:lnTo>
                        <a:lnTo>
                          <a:pt x="210" y="19"/>
                        </a:lnTo>
                        <a:lnTo>
                          <a:pt x="229" y="5"/>
                        </a:lnTo>
                        <a:lnTo>
                          <a:pt x="244" y="0"/>
                        </a:lnTo>
                        <a:lnTo>
                          <a:pt x="255" y="4"/>
                        </a:lnTo>
                        <a:lnTo>
                          <a:pt x="262" y="14"/>
                        </a:lnTo>
                        <a:lnTo>
                          <a:pt x="269" y="27"/>
                        </a:lnTo>
                        <a:lnTo>
                          <a:pt x="272" y="44"/>
                        </a:lnTo>
                        <a:lnTo>
                          <a:pt x="274" y="60"/>
                        </a:lnTo>
                        <a:lnTo>
                          <a:pt x="27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flipH="1">
                    <a:off x="1896480" y="3195000"/>
                    <a:ext cx="131040" cy="55800"/>
                  </a:xfrm>
                  <a:custGeom>
                    <a:avLst/>
                    <a:gdLst/>
                    <a:ahLst/>
                    <a:rect l="l" t="t" r="r" b="b"/>
                    <a:pathLst>
                      <a:path w="528" h="364">
                        <a:moveTo>
                          <a:pt x="448" y="0"/>
                        </a:moveTo>
                        <a:lnTo>
                          <a:pt x="452" y="12"/>
                        </a:lnTo>
                        <a:lnTo>
                          <a:pt x="451" y="26"/>
                        </a:lnTo>
                        <a:lnTo>
                          <a:pt x="446" y="41"/>
                        </a:lnTo>
                        <a:lnTo>
                          <a:pt x="442" y="53"/>
                        </a:lnTo>
                        <a:lnTo>
                          <a:pt x="441" y="64"/>
                        </a:lnTo>
                        <a:lnTo>
                          <a:pt x="443" y="72"/>
                        </a:lnTo>
                        <a:lnTo>
                          <a:pt x="455" y="75"/>
                        </a:lnTo>
                        <a:lnTo>
                          <a:pt x="475" y="74"/>
                        </a:lnTo>
                        <a:lnTo>
                          <a:pt x="516" y="42"/>
                        </a:lnTo>
                        <a:lnTo>
                          <a:pt x="528" y="68"/>
                        </a:lnTo>
                        <a:lnTo>
                          <a:pt x="523" y="84"/>
                        </a:lnTo>
                        <a:lnTo>
                          <a:pt x="508" y="94"/>
                        </a:lnTo>
                        <a:lnTo>
                          <a:pt x="487" y="101"/>
                        </a:lnTo>
                        <a:lnTo>
                          <a:pt x="466" y="109"/>
                        </a:lnTo>
                        <a:lnTo>
                          <a:pt x="451" y="120"/>
                        </a:lnTo>
                        <a:lnTo>
                          <a:pt x="446" y="137"/>
                        </a:lnTo>
                        <a:lnTo>
                          <a:pt x="457" y="166"/>
                        </a:lnTo>
                        <a:lnTo>
                          <a:pt x="435" y="175"/>
                        </a:lnTo>
                        <a:lnTo>
                          <a:pt x="417" y="188"/>
                        </a:lnTo>
                        <a:lnTo>
                          <a:pt x="402" y="204"/>
                        </a:lnTo>
                        <a:lnTo>
                          <a:pt x="389" y="223"/>
                        </a:lnTo>
                        <a:lnTo>
                          <a:pt x="374" y="240"/>
                        </a:lnTo>
                        <a:lnTo>
                          <a:pt x="358" y="254"/>
                        </a:lnTo>
                        <a:lnTo>
                          <a:pt x="335" y="263"/>
                        </a:lnTo>
                        <a:lnTo>
                          <a:pt x="308" y="264"/>
                        </a:lnTo>
                        <a:lnTo>
                          <a:pt x="294" y="275"/>
                        </a:lnTo>
                        <a:lnTo>
                          <a:pt x="280" y="286"/>
                        </a:lnTo>
                        <a:lnTo>
                          <a:pt x="267" y="296"/>
                        </a:lnTo>
                        <a:lnTo>
                          <a:pt x="252" y="305"/>
                        </a:lnTo>
                        <a:lnTo>
                          <a:pt x="237" y="312"/>
                        </a:lnTo>
                        <a:lnTo>
                          <a:pt x="221" y="318"/>
                        </a:lnTo>
                        <a:lnTo>
                          <a:pt x="204" y="325"/>
                        </a:lnTo>
                        <a:lnTo>
                          <a:pt x="190" y="330"/>
                        </a:lnTo>
                        <a:lnTo>
                          <a:pt x="172" y="333"/>
                        </a:lnTo>
                        <a:lnTo>
                          <a:pt x="156" y="337"/>
                        </a:lnTo>
                        <a:lnTo>
                          <a:pt x="140" y="340"/>
                        </a:lnTo>
                        <a:lnTo>
                          <a:pt x="124" y="342"/>
                        </a:lnTo>
                        <a:lnTo>
                          <a:pt x="107" y="345"/>
                        </a:lnTo>
                        <a:lnTo>
                          <a:pt x="91" y="346"/>
                        </a:lnTo>
                        <a:lnTo>
                          <a:pt x="75" y="347"/>
                        </a:lnTo>
                        <a:lnTo>
                          <a:pt x="59" y="347"/>
                        </a:lnTo>
                        <a:lnTo>
                          <a:pt x="0" y="364"/>
                        </a:lnTo>
                        <a:lnTo>
                          <a:pt x="5" y="353"/>
                        </a:lnTo>
                        <a:lnTo>
                          <a:pt x="10" y="342"/>
                        </a:lnTo>
                        <a:lnTo>
                          <a:pt x="15" y="331"/>
                        </a:lnTo>
                        <a:lnTo>
                          <a:pt x="25" y="322"/>
                        </a:lnTo>
                        <a:lnTo>
                          <a:pt x="34" y="323"/>
                        </a:lnTo>
                        <a:lnTo>
                          <a:pt x="41" y="328"/>
                        </a:lnTo>
                        <a:lnTo>
                          <a:pt x="49" y="331"/>
                        </a:lnTo>
                        <a:lnTo>
                          <a:pt x="59" y="331"/>
                        </a:lnTo>
                        <a:lnTo>
                          <a:pt x="75" y="318"/>
                        </a:lnTo>
                        <a:lnTo>
                          <a:pt x="82" y="304"/>
                        </a:lnTo>
                        <a:lnTo>
                          <a:pt x="84" y="287"/>
                        </a:lnTo>
                        <a:lnTo>
                          <a:pt x="81" y="271"/>
                        </a:lnTo>
                        <a:lnTo>
                          <a:pt x="76" y="254"/>
                        </a:lnTo>
                        <a:lnTo>
                          <a:pt x="73" y="235"/>
                        </a:lnTo>
                        <a:lnTo>
                          <a:pt x="71" y="217"/>
                        </a:lnTo>
                        <a:lnTo>
                          <a:pt x="75" y="198"/>
                        </a:lnTo>
                        <a:lnTo>
                          <a:pt x="84" y="198"/>
                        </a:lnTo>
                        <a:lnTo>
                          <a:pt x="90" y="193"/>
                        </a:lnTo>
                        <a:lnTo>
                          <a:pt x="95" y="187"/>
                        </a:lnTo>
                        <a:lnTo>
                          <a:pt x="101" y="181"/>
                        </a:lnTo>
                        <a:lnTo>
                          <a:pt x="101" y="168"/>
                        </a:lnTo>
                        <a:lnTo>
                          <a:pt x="106" y="160"/>
                        </a:lnTo>
                        <a:lnTo>
                          <a:pt x="115" y="155"/>
                        </a:lnTo>
                        <a:lnTo>
                          <a:pt x="127" y="152"/>
                        </a:lnTo>
                        <a:lnTo>
                          <a:pt x="140" y="150"/>
                        </a:lnTo>
                        <a:lnTo>
                          <a:pt x="153" y="146"/>
                        </a:lnTo>
                        <a:lnTo>
                          <a:pt x="166" y="141"/>
                        </a:lnTo>
                        <a:lnTo>
                          <a:pt x="175" y="132"/>
                        </a:lnTo>
                        <a:lnTo>
                          <a:pt x="172" y="140"/>
                        </a:lnTo>
                        <a:lnTo>
                          <a:pt x="161" y="157"/>
                        </a:lnTo>
                        <a:lnTo>
                          <a:pt x="146" y="181"/>
                        </a:lnTo>
                        <a:lnTo>
                          <a:pt x="132" y="206"/>
                        </a:lnTo>
                        <a:lnTo>
                          <a:pt x="126" y="228"/>
                        </a:lnTo>
                        <a:lnTo>
                          <a:pt x="130" y="243"/>
                        </a:lnTo>
                        <a:lnTo>
                          <a:pt x="150" y="249"/>
                        </a:lnTo>
                        <a:lnTo>
                          <a:pt x="191" y="239"/>
                        </a:lnTo>
                        <a:lnTo>
                          <a:pt x="204" y="225"/>
                        </a:lnTo>
                        <a:lnTo>
                          <a:pt x="217" y="209"/>
                        </a:lnTo>
                        <a:lnTo>
                          <a:pt x="229" y="192"/>
                        </a:lnTo>
                        <a:lnTo>
                          <a:pt x="241" y="176"/>
                        </a:lnTo>
                        <a:lnTo>
                          <a:pt x="254" y="161"/>
                        </a:lnTo>
                        <a:lnTo>
                          <a:pt x="269" y="149"/>
                        </a:lnTo>
                        <a:lnTo>
                          <a:pt x="287" y="141"/>
                        </a:lnTo>
                        <a:lnTo>
                          <a:pt x="308" y="140"/>
                        </a:lnTo>
                        <a:lnTo>
                          <a:pt x="319" y="119"/>
                        </a:lnTo>
                        <a:lnTo>
                          <a:pt x="331" y="96"/>
                        </a:lnTo>
                        <a:lnTo>
                          <a:pt x="346" y="74"/>
                        </a:lnTo>
                        <a:lnTo>
                          <a:pt x="363" y="53"/>
                        </a:lnTo>
                        <a:lnTo>
                          <a:pt x="380" y="33"/>
                        </a:lnTo>
                        <a:lnTo>
                          <a:pt x="401" y="18"/>
                        </a:lnTo>
                        <a:lnTo>
                          <a:pt x="424" y="6"/>
                        </a:lnTo>
                        <a:lnTo>
                          <a:pt x="448" y="0"/>
                        </a:lnTo>
                        <a:close/>
                      </a:path>
                    </a:pathLst>
                  </a:custGeom>
                  <a:solidFill>
                    <a:srgbClr val="9ed67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24" name=""/>
                  <p:cNvSpPr/>
                  <p:nvPr/>
                </p:nvSpPr>
                <p:spPr>
                  <a:xfrm flipH="1">
                    <a:off x="2208600" y="3196440"/>
                    <a:ext cx="395280" cy="232560"/>
                  </a:xfrm>
                  <a:custGeom>
                    <a:avLst/>
                    <a:gdLst/>
                    <a:ahLst/>
                    <a:rect l="l" t="t" r="r" b="b"/>
                    <a:pathLst>
                      <a:path w="1589" h="1511">
                        <a:moveTo>
                          <a:pt x="617" y="0"/>
                        </a:moveTo>
                        <a:lnTo>
                          <a:pt x="602" y="90"/>
                        </a:lnTo>
                        <a:lnTo>
                          <a:pt x="599" y="180"/>
                        </a:lnTo>
                        <a:lnTo>
                          <a:pt x="601" y="270"/>
                        </a:lnTo>
                        <a:lnTo>
                          <a:pt x="609" y="356"/>
                        </a:lnTo>
                        <a:lnTo>
                          <a:pt x="600" y="363"/>
                        </a:lnTo>
                        <a:lnTo>
                          <a:pt x="585" y="369"/>
                        </a:lnTo>
                        <a:lnTo>
                          <a:pt x="569" y="374"/>
                        </a:lnTo>
                        <a:lnTo>
                          <a:pt x="551" y="381"/>
                        </a:lnTo>
                        <a:lnTo>
                          <a:pt x="536" y="390"/>
                        </a:lnTo>
                        <a:lnTo>
                          <a:pt x="528" y="401"/>
                        </a:lnTo>
                        <a:lnTo>
                          <a:pt x="525" y="417"/>
                        </a:lnTo>
                        <a:lnTo>
                          <a:pt x="534" y="438"/>
                        </a:lnTo>
                        <a:lnTo>
                          <a:pt x="566" y="462"/>
                        </a:lnTo>
                        <a:lnTo>
                          <a:pt x="599" y="483"/>
                        </a:lnTo>
                        <a:lnTo>
                          <a:pt x="631" y="503"/>
                        </a:lnTo>
                        <a:lnTo>
                          <a:pt x="665" y="523"/>
                        </a:lnTo>
                        <a:lnTo>
                          <a:pt x="698" y="541"/>
                        </a:lnTo>
                        <a:lnTo>
                          <a:pt x="732" y="559"/>
                        </a:lnTo>
                        <a:lnTo>
                          <a:pt x="767" y="575"/>
                        </a:lnTo>
                        <a:lnTo>
                          <a:pt x="800" y="591"/>
                        </a:lnTo>
                        <a:lnTo>
                          <a:pt x="835" y="607"/>
                        </a:lnTo>
                        <a:lnTo>
                          <a:pt x="870" y="622"/>
                        </a:lnTo>
                        <a:lnTo>
                          <a:pt x="906" y="637"/>
                        </a:lnTo>
                        <a:lnTo>
                          <a:pt x="941" y="652"/>
                        </a:lnTo>
                        <a:lnTo>
                          <a:pt x="976" y="666"/>
                        </a:lnTo>
                        <a:lnTo>
                          <a:pt x="1012" y="680"/>
                        </a:lnTo>
                        <a:lnTo>
                          <a:pt x="1047" y="696"/>
                        </a:lnTo>
                        <a:lnTo>
                          <a:pt x="1081" y="711"/>
                        </a:lnTo>
                        <a:lnTo>
                          <a:pt x="1116" y="725"/>
                        </a:lnTo>
                        <a:lnTo>
                          <a:pt x="1151" y="738"/>
                        </a:lnTo>
                        <a:lnTo>
                          <a:pt x="1186" y="752"/>
                        </a:lnTo>
                        <a:lnTo>
                          <a:pt x="1221" y="766"/>
                        </a:lnTo>
                        <a:lnTo>
                          <a:pt x="1257" y="781"/>
                        </a:lnTo>
                        <a:lnTo>
                          <a:pt x="1292" y="797"/>
                        </a:lnTo>
                        <a:lnTo>
                          <a:pt x="1327" y="813"/>
                        </a:lnTo>
                        <a:lnTo>
                          <a:pt x="1360" y="830"/>
                        </a:lnTo>
                        <a:lnTo>
                          <a:pt x="1394" y="850"/>
                        </a:lnTo>
                        <a:lnTo>
                          <a:pt x="1426" y="870"/>
                        </a:lnTo>
                        <a:lnTo>
                          <a:pt x="1456" y="892"/>
                        </a:lnTo>
                        <a:lnTo>
                          <a:pt x="1485" y="917"/>
                        </a:lnTo>
                        <a:lnTo>
                          <a:pt x="1512" y="943"/>
                        </a:lnTo>
                        <a:lnTo>
                          <a:pt x="1537" y="972"/>
                        </a:lnTo>
                        <a:lnTo>
                          <a:pt x="1559" y="1001"/>
                        </a:lnTo>
                        <a:lnTo>
                          <a:pt x="1579" y="1035"/>
                        </a:lnTo>
                        <a:lnTo>
                          <a:pt x="1588" y="1068"/>
                        </a:lnTo>
                        <a:lnTo>
                          <a:pt x="1589" y="1101"/>
                        </a:lnTo>
                        <a:lnTo>
                          <a:pt x="1586" y="1132"/>
                        </a:lnTo>
                        <a:lnTo>
                          <a:pt x="1578" y="1161"/>
                        </a:lnTo>
                        <a:lnTo>
                          <a:pt x="1567" y="1191"/>
                        </a:lnTo>
                        <a:lnTo>
                          <a:pt x="1553" y="1220"/>
                        </a:lnTo>
                        <a:lnTo>
                          <a:pt x="1537" y="1247"/>
                        </a:lnTo>
                        <a:lnTo>
                          <a:pt x="1521" y="1274"/>
                        </a:lnTo>
                        <a:lnTo>
                          <a:pt x="1506" y="1288"/>
                        </a:lnTo>
                        <a:lnTo>
                          <a:pt x="1491" y="1300"/>
                        </a:lnTo>
                        <a:lnTo>
                          <a:pt x="1474" y="1313"/>
                        </a:lnTo>
                        <a:lnTo>
                          <a:pt x="1456" y="1324"/>
                        </a:lnTo>
                        <a:lnTo>
                          <a:pt x="1439" y="1334"/>
                        </a:lnTo>
                        <a:lnTo>
                          <a:pt x="1420" y="1344"/>
                        </a:lnTo>
                        <a:lnTo>
                          <a:pt x="1400" y="1352"/>
                        </a:lnTo>
                        <a:lnTo>
                          <a:pt x="1381" y="1361"/>
                        </a:lnTo>
                        <a:lnTo>
                          <a:pt x="1360" y="1370"/>
                        </a:lnTo>
                        <a:lnTo>
                          <a:pt x="1340" y="1379"/>
                        </a:lnTo>
                        <a:lnTo>
                          <a:pt x="1320" y="1387"/>
                        </a:lnTo>
                        <a:lnTo>
                          <a:pt x="1301" y="1396"/>
                        </a:lnTo>
                        <a:lnTo>
                          <a:pt x="1281" y="1403"/>
                        </a:lnTo>
                        <a:lnTo>
                          <a:pt x="1261" y="1412"/>
                        </a:lnTo>
                        <a:lnTo>
                          <a:pt x="1241" y="1421"/>
                        </a:lnTo>
                        <a:lnTo>
                          <a:pt x="1222" y="1431"/>
                        </a:lnTo>
                        <a:lnTo>
                          <a:pt x="1189" y="1437"/>
                        </a:lnTo>
                        <a:lnTo>
                          <a:pt x="1155" y="1444"/>
                        </a:lnTo>
                        <a:lnTo>
                          <a:pt x="1121" y="1452"/>
                        </a:lnTo>
                        <a:lnTo>
                          <a:pt x="1088" y="1460"/>
                        </a:lnTo>
                        <a:lnTo>
                          <a:pt x="1054" y="1469"/>
                        </a:lnTo>
                        <a:lnTo>
                          <a:pt x="1020" y="1478"/>
                        </a:lnTo>
                        <a:lnTo>
                          <a:pt x="987" y="1485"/>
                        </a:lnTo>
                        <a:lnTo>
                          <a:pt x="953" y="1493"/>
                        </a:lnTo>
                        <a:lnTo>
                          <a:pt x="920" y="1500"/>
                        </a:lnTo>
                        <a:lnTo>
                          <a:pt x="885" y="1505"/>
                        </a:lnTo>
                        <a:lnTo>
                          <a:pt x="851" y="1509"/>
                        </a:lnTo>
                        <a:lnTo>
                          <a:pt x="816" y="1511"/>
                        </a:lnTo>
                        <a:lnTo>
                          <a:pt x="782" y="1511"/>
                        </a:lnTo>
                        <a:lnTo>
                          <a:pt x="747" y="1509"/>
                        </a:lnTo>
                        <a:lnTo>
                          <a:pt x="712" y="1504"/>
                        </a:lnTo>
                        <a:lnTo>
                          <a:pt x="676" y="1496"/>
                        </a:lnTo>
                        <a:lnTo>
                          <a:pt x="665" y="1489"/>
                        </a:lnTo>
                        <a:lnTo>
                          <a:pt x="652" y="1481"/>
                        </a:lnTo>
                        <a:lnTo>
                          <a:pt x="642" y="1472"/>
                        </a:lnTo>
                        <a:lnTo>
                          <a:pt x="632" y="1462"/>
                        </a:lnTo>
                        <a:lnTo>
                          <a:pt x="625" y="1450"/>
                        </a:lnTo>
                        <a:lnTo>
                          <a:pt x="618" y="1439"/>
                        </a:lnTo>
                        <a:lnTo>
                          <a:pt x="616" y="1427"/>
                        </a:lnTo>
                        <a:lnTo>
                          <a:pt x="617" y="1413"/>
                        </a:lnTo>
                        <a:lnTo>
                          <a:pt x="633" y="1400"/>
                        </a:lnTo>
                        <a:lnTo>
                          <a:pt x="651" y="1387"/>
                        </a:lnTo>
                        <a:lnTo>
                          <a:pt x="670" y="1377"/>
                        </a:lnTo>
                        <a:lnTo>
                          <a:pt x="689" y="1369"/>
                        </a:lnTo>
                        <a:lnTo>
                          <a:pt x="708" y="1360"/>
                        </a:lnTo>
                        <a:lnTo>
                          <a:pt x="728" y="1351"/>
                        </a:lnTo>
                        <a:lnTo>
                          <a:pt x="747" y="1343"/>
                        </a:lnTo>
                        <a:lnTo>
                          <a:pt x="765" y="1331"/>
                        </a:lnTo>
                        <a:lnTo>
                          <a:pt x="794" y="1324"/>
                        </a:lnTo>
                        <a:lnTo>
                          <a:pt x="823" y="1315"/>
                        </a:lnTo>
                        <a:lnTo>
                          <a:pt x="852" y="1307"/>
                        </a:lnTo>
                        <a:lnTo>
                          <a:pt x="881" y="1298"/>
                        </a:lnTo>
                        <a:lnTo>
                          <a:pt x="910" y="1288"/>
                        </a:lnTo>
                        <a:lnTo>
                          <a:pt x="938" y="1277"/>
                        </a:lnTo>
                        <a:lnTo>
                          <a:pt x="967" y="1266"/>
                        </a:lnTo>
                        <a:lnTo>
                          <a:pt x="994" y="1253"/>
                        </a:lnTo>
                        <a:lnTo>
                          <a:pt x="1022" y="1241"/>
                        </a:lnTo>
                        <a:lnTo>
                          <a:pt x="1048" y="1226"/>
                        </a:lnTo>
                        <a:lnTo>
                          <a:pt x="1073" y="1210"/>
                        </a:lnTo>
                        <a:lnTo>
                          <a:pt x="1096" y="1192"/>
                        </a:lnTo>
                        <a:lnTo>
                          <a:pt x="1120" y="1174"/>
                        </a:lnTo>
                        <a:lnTo>
                          <a:pt x="1141" y="1154"/>
                        </a:lnTo>
                        <a:lnTo>
                          <a:pt x="1161" y="1132"/>
                        </a:lnTo>
                        <a:lnTo>
                          <a:pt x="1180" y="1108"/>
                        </a:lnTo>
                        <a:lnTo>
                          <a:pt x="1182" y="1091"/>
                        </a:lnTo>
                        <a:lnTo>
                          <a:pt x="1182" y="1076"/>
                        </a:lnTo>
                        <a:lnTo>
                          <a:pt x="1179" y="1061"/>
                        </a:lnTo>
                        <a:lnTo>
                          <a:pt x="1172" y="1047"/>
                        </a:lnTo>
                        <a:lnTo>
                          <a:pt x="1165" y="1035"/>
                        </a:lnTo>
                        <a:lnTo>
                          <a:pt x="1155" y="1023"/>
                        </a:lnTo>
                        <a:lnTo>
                          <a:pt x="1144" y="1011"/>
                        </a:lnTo>
                        <a:lnTo>
                          <a:pt x="1131" y="1000"/>
                        </a:lnTo>
                        <a:lnTo>
                          <a:pt x="1116" y="993"/>
                        </a:lnTo>
                        <a:lnTo>
                          <a:pt x="1103" y="983"/>
                        </a:lnTo>
                        <a:lnTo>
                          <a:pt x="1089" y="972"/>
                        </a:lnTo>
                        <a:lnTo>
                          <a:pt x="1075" y="962"/>
                        </a:lnTo>
                        <a:lnTo>
                          <a:pt x="1060" y="953"/>
                        </a:lnTo>
                        <a:lnTo>
                          <a:pt x="1044" y="948"/>
                        </a:lnTo>
                        <a:lnTo>
                          <a:pt x="1027" y="947"/>
                        </a:lnTo>
                        <a:lnTo>
                          <a:pt x="1007" y="952"/>
                        </a:lnTo>
                        <a:lnTo>
                          <a:pt x="984" y="943"/>
                        </a:lnTo>
                        <a:lnTo>
                          <a:pt x="962" y="933"/>
                        </a:lnTo>
                        <a:lnTo>
                          <a:pt x="940" y="923"/>
                        </a:lnTo>
                        <a:lnTo>
                          <a:pt x="918" y="913"/>
                        </a:lnTo>
                        <a:lnTo>
                          <a:pt x="896" y="903"/>
                        </a:lnTo>
                        <a:lnTo>
                          <a:pt x="875" y="894"/>
                        </a:lnTo>
                        <a:lnTo>
                          <a:pt x="852" y="884"/>
                        </a:lnTo>
                        <a:lnTo>
                          <a:pt x="830" y="875"/>
                        </a:lnTo>
                        <a:lnTo>
                          <a:pt x="808" y="865"/>
                        </a:lnTo>
                        <a:lnTo>
                          <a:pt x="785" y="858"/>
                        </a:lnTo>
                        <a:lnTo>
                          <a:pt x="763" y="850"/>
                        </a:lnTo>
                        <a:lnTo>
                          <a:pt x="739" y="843"/>
                        </a:lnTo>
                        <a:lnTo>
                          <a:pt x="716" y="838"/>
                        </a:lnTo>
                        <a:lnTo>
                          <a:pt x="692" y="833"/>
                        </a:lnTo>
                        <a:lnTo>
                          <a:pt x="667" y="829"/>
                        </a:lnTo>
                        <a:lnTo>
                          <a:pt x="641" y="828"/>
                        </a:lnTo>
                        <a:lnTo>
                          <a:pt x="602" y="804"/>
                        </a:lnTo>
                        <a:lnTo>
                          <a:pt x="561" y="783"/>
                        </a:lnTo>
                        <a:lnTo>
                          <a:pt x="519" y="764"/>
                        </a:lnTo>
                        <a:lnTo>
                          <a:pt x="475" y="747"/>
                        </a:lnTo>
                        <a:lnTo>
                          <a:pt x="432" y="732"/>
                        </a:lnTo>
                        <a:lnTo>
                          <a:pt x="388" y="717"/>
                        </a:lnTo>
                        <a:lnTo>
                          <a:pt x="343" y="704"/>
                        </a:lnTo>
                        <a:lnTo>
                          <a:pt x="300" y="688"/>
                        </a:lnTo>
                        <a:lnTo>
                          <a:pt x="258" y="671"/>
                        </a:lnTo>
                        <a:lnTo>
                          <a:pt x="215" y="653"/>
                        </a:lnTo>
                        <a:lnTo>
                          <a:pt x="174" y="633"/>
                        </a:lnTo>
                        <a:lnTo>
                          <a:pt x="136" y="609"/>
                        </a:lnTo>
                        <a:lnTo>
                          <a:pt x="98" y="582"/>
                        </a:lnTo>
                        <a:lnTo>
                          <a:pt x="63" y="550"/>
                        </a:lnTo>
                        <a:lnTo>
                          <a:pt x="31" y="514"/>
                        </a:lnTo>
                        <a:lnTo>
                          <a:pt x="2" y="472"/>
                        </a:lnTo>
                        <a:lnTo>
                          <a:pt x="0" y="443"/>
                        </a:lnTo>
                        <a:lnTo>
                          <a:pt x="1" y="416"/>
                        </a:lnTo>
                        <a:lnTo>
                          <a:pt x="5" y="391"/>
                        </a:lnTo>
                        <a:lnTo>
                          <a:pt x="11" y="366"/>
                        </a:lnTo>
                        <a:lnTo>
                          <a:pt x="20" y="343"/>
                        </a:lnTo>
                        <a:lnTo>
                          <a:pt x="31" y="320"/>
                        </a:lnTo>
                        <a:lnTo>
                          <a:pt x="45" y="299"/>
                        </a:lnTo>
                        <a:lnTo>
                          <a:pt x="60" y="279"/>
                        </a:lnTo>
                        <a:lnTo>
                          <a:pt x="76" y="260"/>
                        </a:lnTo>
                        <a:lnTo>
                          <a:pt x="93" y="241"/>
                        </a:lnTo>
                        <a:lnTo>
                          <a:pt x="112" y="222"/>
                        </a:lnTo>
                        <a:lnTo>
                          <a:pt x="131" y="205"/>
                        </a:lnTo>
                        <a:lnTo>
                          <a:pt x="151" y="189"/>
                        </a:lnTo>
                        <a:lnTo>
                          <a:pt x="170" y="173"/>
                        </a:lnTo>
                        <a:lnTo>
                          <a:pt x="190" y="157"/>
                        </a:lnTo>
                        <a:lnTo>
                          <a:pt x="210" y="141"/>
                        </a:lnTo>
                        <a:lnTo>
                          <a:pt x="234" y="128"/>
                        </a:lnTo>
                        <a:lnTo>
                          <a:pt x="259" y="117"/>
                        </a:lnTo>
                        <a:lnTo>
                          <a:pt x="284" y="107"/>
                        </a:lnTo>
                        <a:lnTo>
                          <a:pt x="309" y="97"/>
                        </a:lnTo>
                        <a:lnTo>
                          <a:pt x="333" y="87"/>
                        </a:lnTo>
                        <a:lnTo>
                          <a:pt x="358" y="79"/>
                        </a:lnTo>
                        <a:lnTo>
                          <a:pt x="384" y="71"/>
                        </a:lnTo>
                        <a:lnTo>
                          <a:pt x="411" y="62"/>
                        </a:lnTo>
                        <a:lnTo>
                          <a:pt x="436" y="55"/>
                        </a:lnTo>
                        <a:lnTo>
                          <a:pt x="462" y="47"/>
                        </a:lnTo>
                        <a:lnTo>
                          <a:pt x="488" y="40"/>
                        </a:lnTo>
                        <a:lnTo>
                          <a:pt x="514" y="33"/>
                        </a:lnTo>
                        <a:lnTo>
                          <a:pt x="540" y="25"/>
                        </a:lnTo>
                        <a:lnTo>
                          <a:pt x="566" y="16"/>
                        </a:lnTo>
                        <a:lnTo>
                          <a:pt x="591" y="9"/>
                        </a:lnTo>
                        <a:lnTo>
                          <a:pt x="6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flipH="1">
                    <a:off x="2219400" y="3201120"/>
                    <a:ext cx="202320" cy="104760"/>
                  </a:xfrm>
                  <a:custGeom>
                    <a:avLst/>
                    <a:gdLst/>
                    <a:ahLst/>
                    <a:rect l="l" t="t" r="r" b="b"/>
                    <a:pathLst>
                      <a:path w="814" h="680">
                        <a:moveTo>
                          <a:pt x="215" y="12"/>
                        </a:moveTo>
                        <a:lnTo>
                          <a:pt x="235" y="35"/>
                        </a:lnTo>
                        <a:lnTo>
                          <a:pt x="255" y="59"/>
                        </a:lnTo>
                        <a:lnTo>
                          <a:pt x="278" y="82"/>
                        </a:lnTo>
                        <a:lnTo>
                          <a:pt x="299" y="105"/>
                        </a:lnTo>
                        <a:lnTo>
                          <a:pt x="322" y="126"/>
                        </a:lnTo>
                        <a:lnTo>
                          <a:pt x="346" y="147"/>
                        </a:lnTo>
                        <a:lnTo>
                          <a:pt x="370" y="167"/>
                        </a:lnTo>
                        <a:lnTo>
                          <a:pt x="395" y="186"/>
                        </a:lnTo>
                        <a:lnTo>
                          <a:pt x="421" y="205"/>
                        </a:lnTo>
                        <a:lnTo>
                          <a:pt x="447" y="222"/>
                        </a:lnTo>
                        <a:lnTo>
                          <a:pt x="473" y="239"/>
                        </a:lnTo>
                        <a:lnTo>
                          <a:pt x="500" y="255"/>
                        </a:lnTo>
                        <a:lnTo>
                          <a:pt x="528" y="270"/>
                        </a:lnTo>
                        <a:lnTo>
                          <a:pt x="556" y="283"/>
                        </a:lnTo>
                        <a:lnTo>
                          <a:pt x="585" y="297"/>
                        </a:lnTo>
                        <a:lnTo>
                          <a:pt x="614" y="308"/>
                        </a:lnTo>
                        <a:lnTo>
                          <a:pt x="591" y="332"/>
                        </a:lnTo>
                        <a:lnTo>
                          <a:pt x="572" y="358"/>
                        </a:lnTo>
                        <a:lnTo>
                          <a:pt x="558" y="386"/>
                        </a:lnTo>
                        <a:lnTo>
                          <a:pt x="545" y="416"/>
                        </a:lnTo>
                        <a:lnTo>
                          <a:pt x="534" y="447"/>
                        </a:lnTo>
                        <a:lnTo>
                          <a:pt x="524" y="478"/>
                        </a:lnTo>
                        <a:lnTo>
                          <a:pt x="515" y="509"/>
                        </a:lnTo>
                        <a:lnTo>
                          <a:pt x="507" y="540"/>
                        </a:lnTo>
                        <a:lnTo>
                          <a:pt x="526" y="560"/>
                        </a:lnTo>
                        <a:lnTo>
                          <a:pt x="551" y="570"/>
                        </a:lnTo>
                        <a:lnTo>
                          <a:pt x="577" y="573"/>
                        </a:lnTo>
                        <a:lnTo>
                          <a:pt x="604" y="575"/>
                        </a:lnTo>
                        <a:lnTo>
                          <a:pt x="629" y="577"/>
                        </a:lnTo>
                        <a:lnTo>
                          <a:pt x="647" y="585"/>
                        </a:lnTo>
                        <a:lnTo>
                          <a:pt x="660" y="602"/>
                        </a:lnTo>
                        <a:lnTo>
                          <a:pt x="663" y="632"/>
                        </a:lnTo>
                        <a:lnTo>
                          <a:pt x="673" y="629"/>
                        </a:lnTo>
                        <a:lnTo>
                          <a:pt x="682" y="627"/>
                        </a:lnTo>
                        <a:lnTo>
                          <a:pt x="691" y="622"/>
                        </a:lnTo>
                        <a:lnTo>
                          <a:pt x="699" y="617"/>
                        </a:lnTo>
                        <a:lnTo>
                          <a:pt x="708" y="612"/>
                        </a:lnTo>
                        <a:lnTo>
                          <a:pt x="716" y="604"/>
                        </a:lnTo>
                        <a:lnTo>
                          <a:pt x="723" y="597"/>
                        </a:lnTo>
                        <a:lnTo>
                          <a:pt x="731" y="590"/>
                        </a:lnTo>
                        <a:lnTo>
                          <a:pt x="729" y="573"/>
                        </a:lnTo>
                        <a:lnTo>
                          <a:pt x="731" y="557"/>
                        </a:lnTo>
                        <a:lnTo>
                          <a:pt x="727" y="542"/>
                        </a:lnTo>
                        <a:lnTo>
                          <a:pt x="713" y="531"/>
                        </a:lnTo>
                        <a:lnTo>
                          <a:pt x="703" y="531"/>
                        </a:lnTo>
                        <a:lnTo>
                          <a:pt x="693" y="531"/>
                        </a:lnTo>
                        <a:lnTo>
                          <a:pt x="685" y="530"/>
                        </a:lnTo>
                        <a:lnTo>
                          <a:pt x="676" y="528"/>
                        </a:lnTo>
                        <a:lnTo>
                          <a:pt x="668" y="525"/>
                        </a:lnTo>
                        <a:lnTo>
                          <a:pt x="661" y="520"/>
                        </a:lnTo>
                        <a:lnTo>
                          <a:pt x="653" y="514"/>
                        </a:lnTo>
                        <a:lnTo>
                          <a:pt x="647" y="508"/>
                        </a:lnTo>
                        <a:lnTo>
                          <a:pt x="641" y="493"/>
                        </a:lnTo>
                        <a:lnTo>
                          <a:pt x="635" y="478"/>
                        </a:lnTo>
                        <a:lnTo>
                          <a:pt x="629" y="463"/>
                        </a:lnTo>
                        <a:lnTo>
                          <a:pt x="624" y="447"/>
                        </a:lnTo>
                        <a:lnTo>
                          <a:pt x="621" y="431"/>
                        </a:lnTo>
                        <a:lnTo>
                          <a:pt x="621" y="416"/>
                        </a:lnTo>
                        <a:lnTo>
                          <a:pt x="627" y="400"/>
                        </a:lnTo>
                        <a:lnTo>
                          <a:pt x="638" y="384"/>
                        </a:lnTo>
                        <a:lnTo>
                          <a:pt x="630" y="375"/>
                        </a:lnTo>
                        <a:lnTo>
                          <a:pt x="672" y="342"/>
                        </a:lnTo>
                        <a:lnTo>
                          <a:pt x="677" y="360"/>
                        </a:lnTo>
                        <a:lnTo>
                          <a:pt x="680" y="380"/>
                        </a:lnTo>
                        <a:lnTo>
                          <a:pt x="682" y="400"/>
                        </a:lnTo>
                        <a:lnTo>
                          <a:pt x="683" y="421"/>
                        </a:lnTo>
                        <a:lnTo>
                          <a:pt x="686" y="441"/>
                        </a:lnTo>
                        <a:lnTo>
                          <a:pt x="691" y="459"/>
                        </a:lnTo>
                        <a:lnTo>
                          <a:pt x="699" y="475"/>
                        </a:lnTo>
                        <a:lnTo>
                          <a:pt x="713" y="490"/>
                        </a:lnTo>
                        <a:lnTo>
                          <a:pt x="814" y="508"/>
                        </a:lnTo>
                        <a:lnTo>
                          <a:pt x="811" y="531"/>
                        </a:lnTo>
                        <a:lnTo>
                          <a:pt x="803" y="554"/>
                        </a:lnTo>
                        <a:lnTo>
                          <a:pt x="790" y="575"/>
                        </a:lnTo>
                        <a:lnTo>
                          <a:pt x="777" y="595"/>
                        </a:lnTo>
                        <a:lnTo>
                          <a:pt x="765" y="616"/>
                        </a:lnTo>
                        <a:lnTo>
                          <a:pt x="759" y="635"/>
                        </a:lnTo>
                        <a:lnTo>
                          <a:pt x="760" y="658"/>
                        </a:lnTo>
                        <a:lnTo>
                          <a:pt x="772" y="680"/>
                        </a:lnTo>
                        <a:lnTo>
                          <a:pt x="748" y="680"/>
                        </a:lnTo>
                        <a:lnTo>
                          <a:pt x="727" y="675"/>
                        </a:lnTo>
                        <a:lnTo>
                          <a:pt x="706" y="668"/>
                        </a:lnTo>
                        <a:lnTo>
                          <a:pt x="687" y="659"/>
                        </a:lnTo>
                        <a:lnTo>
                          <a:pt x="667" y="650"/>
                        </a:lnTo>
                        <a:lnTo>
                          <a:pt x="647" y="642"/>
                        </a:lnTo>
                        <a:lnTo>
                          <a:pt x="627" y="634"/>
                        </a:lnTo>
                        <a:lnTo>
                          <a:pt x="606" y="632"/>
                        </a:lnTo>
                        <a:lnTo>
                          <a:pt x="587" y="629"/>
                        </a:lnTo>
                        <a:lnTo>
                          <a:pt x="570" y="626"/>
                        </a:lnTo>
                        <a:lnTo>
                          <a:pt x="554" y="621"/>
                        </a:lnTo>
                        <a:lnTo>
                          <a:pt x="538" y="614"/>
                        </a:lnTo>
                        <a:lnTo>
                          <a:pt x="521" y="608"/>
                        </a:lnTo>
                        <a:lnTo>
                          <a:pt x="505" y="602"/>
                        </a:lnTo>
                        <a:lnTo>
                          <a:pt x="489" y="596"/>
                        </a:lnTo>
                        <a:lnTo>
                          <a:pt x="473" y="590"/>
                        </a:lnTo>
                        <a:lnTo>
                          <a:pt x="478" y="570"/>
                        </a:lnTo>
                        <a:lnTo>
                          <a:pt x="474" y="554"/>
                        </a:lnTo>
                        <a:lnTo>
                          <a:pt x="465" y="540"/>
                        </a:lnTo>
                        <a:lnTo>
                          <a:pt x="454" y="529"/>
                        </a:lnTo>
                        <a:lnTo>
                          <a:pt x="442" y="518"/>
                        </a:lnTo>
                        <a:lnTo>
                          <a:pt x="431" y="504"/>
                        </a:lnTo>
                        <a:lnTo>
                          <a:pt x="424" y="487"/>
                        </a:lnTo>
                        <a:lnTo>
                          <a:pt x="423" y="466"/>
                        </a:lnTo>
                        <a:lnTo>
                          <a:pt x="419" y="449"/>
                        </a:lnTo>
                        <a:lnTo>
                          <a:pt x="413" y="438"/>
                        </a:lnTo>
                        <a:lnTo>
                          <a:pt x="403" y="430"/>
                        </a:lnTo>
                        <a:lnTo>
                          <a:pt x="391" y="422"/>
                        </a:lnTo>
                        <a:lnTo>
                          <a:pt x="377" y="417"/>
                        </a:lnTo>
                        <a:lnTo>
                          <a:pt x="363" y="412"/>
                        </a:lnTo>
                        <a:lnTo>
                          <a:pt x="351" y="406"/>
                        </a:lnTo>
                        <a:lnTo>
                          <a:pt x="340" y="399"/>
                        </a:lnTo>
                        <a:lnTo>
                          <a:pt x="327" y="397"/>
                        </a:lnTo>
                        <a:lnTo>
                          <a:pt x="314" y="397"/>
                        </a:lnTo>
                        <a:lnTo>
                          <a:pt x="299" y="399"/>
                        </a:lnTo>
                        <a:lnTo>
                          <a:pt x="285" y="400"/>
                        </a:lnTo>
                        <a:lnTo>
                          <a:pt x="273" y="400"/>
                        </a:lnTo>
                        <a:lnTo>
                          <a:pt x="261" y="396"/>
                        </a:lnTo>
                        <a:lnTo>
                          <a:pt x="254" y="389"/>
                        </a:lnTo>
                        <a:lnTo>
                          <a:pt x="249" y="375"/>
                        </a:lnTo>
                        <a:lnTo>
                          <a:pt x="261" y="350"/>
                        </a:lnTo>
                        <a:lnTo>
                          <a:pt x="274" y="324"/>
                        </a:lnTo>
                        <a:lnTo>
                          <a:pt x="286" y="298"/>
                        </a:lnTo>
                        <a:lnTo>
                          <a:pt x="297" y="272"/>
                        </a:lnTo>
                        <a:lnTo>
                          <a:pt x="305" y="245"/>
                        </a:lnTo>
                        <a:lnTo>
                          <a:pt x="309" y="217"/>
                        </a:lnTo>
                        <a:lnTo>
                          <a:pt x="307" y="189"/>
                        </a:lnTo>
                        <a:lnTo>
                          <a:pt x="299" y="159"/>
                        </a:lnTo>
                        <a:lnTo>
                          <a:pt x="289" y="155"/>
                        </a:lnTo>
                        <a:lnTo>
                          <a:pt x="279" y="153"/>
                        </a:lnTo>
                        <a:lnTo>
                          <a:pt x="270" y="152"/>
                        </a:lnTo>
                        <a:lnTo>
                          <a:pt x="261" y="150"/>
                        </a:lnTo>
                        <a:lnTo>
                          <a:pt x="253" y="150"/>
                        </a:lnTo>
                        <a:lnTo>
                          <a:pt x="244" y="152"/>
                        </a:lnTo>
                        <a:lnTo>
                          <a:pt x="234" y="155"/>
                        </a:lnTo>
                        <a:lnTo>
                          <a:pt x="224" y="159"/>
                        </a:lnTo>
                        <a:lnTo>
                          <a:pt x="213" y="181"/>
                        </a:lnTo>
                        <a:lnTo>
                          <a:pt x="202" y="205"/>
                        </a:lnTo>
                        <a:lnTo>
                          <a:pt x="190" y="230"/>
                        </a:lnTo>
                        <a:lnTo>
                          <a:pt x="178" y="255"/>
                        </a:lnTo>
                        <a:lnTo>
                          <a:pt x="163" y="276"/>
                        </a:lnTo>
                        <a:lnTo>
                          <a:pt x="147" y="294"/>
                        </a:lnTo>
                        <a:lnTo>
                          <a:pt x="129" y="309"/>
                        </a:lnTo>
                        <a:lnTo>
                          <a:pt x="108" y="317"/>
                        </a:lnTo>
                        <a:lnTo>
                          <a:pt x="108" y="308"/>
                        </a:lnTo>
                        <a:lnTo>
                          <a:pt x="82" y="318"/>
                        </a:lnTo>
                        <a:lnTo>
                          <a:pt x="61" y="315"/>
                        </a:lnTo>
                        <a:lnTo>
                          <a:pt x="46" y="304"/>
                        </a:lnTo>
                        <a:lnTo>
                          <a:pt x="34" y="286"/>
                        </a:lnTo>
                        <a:lnTo>
                          <a:pt x="25" y="263"/>
                        </a:lnTo>
                        <a:lnTo>
                          <a:pt x="17" y="240"/>
                        </a:lnTo>
                        <a:lnTo>
                          <a:pt x="9" y="217"/>
                        </a:lnTo>
                        <a:lnTo>
                          <a:pt x="0" y="200"/>
                        </a:lnTo>
                        <a:lnTo>
                          <a:pt x="5" y="189"/>
                        </a:lnTo>
                        <a:lnTo>
                          <a:pt x="7" y="177"/>
                        </a:lnTo>
                        <a:lnTo>
                          <a:pt x="9" y="162"/>
                        </a:lnTo>
                        <a:lnTo>
                          <a:pt x="11" y="148"/>
                        </a:lnTo>
                        <a:lnTo>
                          <a:pt x="15" y="137"/>
                        </a:lnTo>
                        <a:lnTo>
                          <a:pt x="20" y="128"/>
                        </a:lnTo>
                        <a:lnTo>
                          <a:pt x="29" y="124"/>
                        </a:lnTo>
                        <a:lnTo>
                          <a:pt x="41" y="127"/>
                        </a:lnTo>
                        <a:lnTo>
                          <a:pt x="56" y="134"/>
                        </a:lnTo>
                        <a:lnTo>
                          <a:pt x="70" y="136"/>
                        </a:lnTo>
                        <a:lnTo>
                          <a:pt x="83" y="133"/>
                        </a:lnTo>
                        <a:lnTo>
                          <a:pt x="97" y="128"/>
                        </a:lnTo>
                        <a:lnTo>
                          <a:pt x="110" y="122"/>
                        </a:lnTo>
                        <a:lnTo>
                          <a:pt x="123" y="114"/>
                        </a:lnTo>
                        <a:lnTo>
                          <a:pt x="136" y="107"/>
                        </a:lnTo>
                        <a:lnTo>
                          <a:pt x="149" y="101"/>
                        </a:lnTo>
                        <a:lnTo>
                          <a:pt x="158" y="83"/>
                        </a:lnTo>
                        <a:lnTo>
                          <a:pt x="154" y="65"/>
                        </a:lnTo>
                        <a:lnTo>
                          <a:pt x="146" y="46"/>
                        </a:lnTo>
                        <a:lnTo>
                          <a:pt x="141" y="26"/>
                        </a:lnTo>
                        <a:lnTo>
                          <a:pt x="133" y="26"/>
                        </a:lnTo>
                        <a:lnTo>
                          <a:pt x="136" y="14"/>
                        </a:lnTo>
                        <a:lnTo>
                          <a:pt x="142" y="7"/>
                        </a:lnTo>
                        <a:lnTo>
                          <a:pt x="152" y="2"/>
                        </a:lnTo>
                        <a:lnTo>
                          <a:pt x="166" y="0"/>
                        </a:lnTo>
                        <a:lnTo>
                          <a:pt x="179" y="2"/>
                        </a:lnTo>
                        <a:lnTo>
                          <a:pt x="193" y="4"/>
                        </a:lnTo>
                        <a:lnTo>
                          <a:pt x="205" y="8"/>
                        </a:lnTo>
                        <a:lnTo>
                          <a:pt x="215" y="12"/>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6" name=""/>
                  <p:cNvSpPr/>
                  <p:nvPr/>
                </p:nvSpPr>
                <p:spPr>
                  <a:xfrm flipH="1">
                    <a:off x="2075040" y="3210120"/>
                    <a:ext cx="91440" cy="42120"/>
                  </a:xfrm>
                  <a:custGeom>
                    <a:avLst/>
                    <a:gdLst/>
                    <a:ahLst/>
                    <a:rect l="l" t="t" r="r" b="b"/>
                    <a:pathLst>
                      <a:path w="368" h="275">
                        <a:moveTo>
                          <a:pt x="185" y="59"/>
                        </a:moveTo>
                        <a:lnTo>
                          <a:pt x="191" y="68"/>
                        </a:lnTo>
                        <a:lnTo>
                          <a:pt x="200" y="73"/>
                        </a:lnTo>
                        <a:lnTo>
                          <a:pt x="210" y="77"/>
                        </a:lnTo>
                        <a:lnTo>
                          <a:pt x="221" y="78"/>
                        </a:lnTo>
                        <a:lnTo>
                          <a:pt x="234" y="78"/>
                        </a:lnTo>
                        <a:lnTo>
                          <a:pt x="246" y="78"/>
                        </a:lnTo>
                        <a:lnTo>
                          <a:pt x="257" y="80"/>
                        </a:lnTo>
                        <a:lnTo>
                          <a:pt x="268" y="83"/>
                        </a:lnTo>
                        <a:lnTo>
                          <a:pt x="292" y="100"/>
                        </a:lnTo>
                        <a:lnTo>
                          <a:pt x="309" y="121"/>
                        </a:lnTo>
                        <a:lnTo>
                          <a:pt x="322" y="145"/>
                        </a:lnTo>
                        <a:lnTo>
                          <a:pt x="332" y="171"/>
                        </a:lnTo>
                        <a:lnTo>
                          <a:pt x="341" y="197"/>
                        </a:lnTo>
                        <a:lnTo>
                          <a:pt x="348" y="223"/>
                        </a:lnTo>
                        <a:lnTo>
                          <a:pt x="357" y="249"/>
                        </a:lnTo>
                        <a:lnTo>
                          <a:pt x="368" y="274"/>
                        </a:lnTo>
                        <a:lnTo>
                          <a:pt x="351" y="274"/>
                        </a:lnTo>
                        <a:lnTo>
                          <a:pt x="333" y="275"/>
                        </a:lnTo>
                        <a:lnTo>
                          <a:pt x="316" y="275"/>
                        </a:lnTo>
                        <a:lnTo>
                          <a:pt x="297" y="275"/>
                        </a:lnTo>
                        <a:lnTo>
                          <a:pt x="280" y="274"/>
                        </a:lnTo>
                        <a:lnTo>
                          <a:pt x="261" y="274"/>
                        </a:lnTo>
                        <a:lnTo>
                          <a:pt x="242" y="273"/>
                        </a:lnTo>
                        <a:lnTo>
                          <a:pt x="224" y="271"/>
                        </a:lnTo>
                        <a:lnTo>
                          <a:pt x="205" y="270"/>
                        </a:lnTo>
                        <a:lnTo>
                          <a:pt x="187" y="268"/>
                        </a:lnTo>
                        <a:lnTo>
                          <a:pt x="169" y="265"/>
                        </a:lnTo>
                        <a:lnTo>
                          <a:pt x="151" y="261"/>
                        </a:lnTo>
                        <a:lnTo>
                          <a:pt x="134" y="258"/>
                        </a:lnTo>
                        <a:lnTo>
                          <a:pt x="118" y="253"/>
                        </a:lnTo>
                        <a:lnTo>
                          <a:pt x="102" y="248"/>
                        </a:lnTo>
                        <a:lnTo>
                          <a:pt x="85" y="242"/>
                        </a:lnTo>
                        <a:lnTo>
                          <a:pt x="84" y="233"/>
                        </a:lnTo>
                        <a:lnTo>
                          <a:pt x="90" y="222"/>
                        </a:lnTo>
                        <a:lnTo>
                          <a:pt x="100" y="209"/>
                        </a:lnTo>
                        <a:lnTo>
                          <a:pt x="110" y="196"/>
                        </a:lnTo>
                        <a:lnTo>
                          <a:pt x="118" y="183"/>
                        </a:lnTo>
                        <a:lnTo>
                          <a:pt x="118" y="172"/>
                        </a:lnTo>
                        <a:lnTo>
                          <a:pt x="108" y="163"/>
                        </a:lnTo>
                        <a:lnTo>
                          <a:pt x="85" y="158"/>
                        </a:lnTo>
                        <a:lnTo>
                          <a:pt x="2" y="166"/>
                        </a:lnTo>
                        <a:lnTo>
                          <a:pt x="2" y="150"/>
                        </a:lnTo>
                        <a:lnTo>
                          <a:pt x="14" y="147"/>
                        </a:lnTo>
                        <a:lnTo>
                          <a:pt x="18" y="137"/>
                        </a:lnTo>
                        <a:lnTo>
                          <a:pt x="21" y="126"/>
                        </a:lnTo>
                        <a:lnTo>
                          <a:pt x="28" y="118"/>
                        </a:lnTo>
                        <a:lnTo>
                          <a:pt x="28" y="101"/>
                        </a:lnTo>
                        <a:lnTo>
                          <a:pt x="23" y="87"/>
                        </a:lnTo>
                        <a:lnTo>
                          <a:pt x="18" y="73"/>
                        </a:lnTo>
                        <a:lnTo>
                          <a:pt x="12" y="60"/>
                        </a:lnTo>
                        <a:lnTo>
                          <a:pt x="6" y="47"/>
                        </a:lnTo>
                        <a:lnTo>
                          <a:pt x="1" y="33"/>
                        </a:lnTo>
                        <a:lnTo>
                          <a:pt x="0" y="17"/>
                        </a:lnTo>
                        <a:lnTo>
                          <a:pt x="2" y="1"/>
                        </a:lnTo>
                        <a:lnTo>
                          <a:pt x="26" y="0"/>
                        </a:lnTo>
                        <a:lnTo>
                          <a:pt x="48" y="5"/>
                        </a:lnTo>
                        <a:lnTo>
                          <a:pt x="70" y="15"/>
                        </a:lnTo>
                        <a:lnTo>
                          <a:pt x="92" y="27"/>
                        </a:lnTo>
                        <a:lnTo>
                          <a:pt x="113" y="39"/>
                        </a:lnTo>
                        <a:lnTo>
                          <a:pt x="135" y="51"/>
                        </a:lnTo>
                        <a:lnTo>
                          <a:pt x="159" y="58"/>
                        </a:lnTo>
                        <a:lnTo>
                          <a:pt x="185" y="59"/>
                        </a:lnTo>
                        <a:close/>
                      </a:path>
                    </a:pathLst>
                  </a:custGeom>
                  <a:solidFill>
                    <a:srgbClr val="9ed67c"/>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527" name=""/>
                  <p:cNvSpPr/>
                  <p:nvPr/>
                </p:nvSpPr>
                <p:spPr>
                  <a:xfrm flipH="1">
                    <a:off x="2175840" y="3221280"/>
                    <a:ext cx="34920" cy="23400"/>
                  </a:xfrm>
                  <a:custGeom>
                    <a:avLst/>
                    <a:gdLst/>
                    <a:ahLst/>
                    <a:rect l="l" t="t" r="r" b="b"/>
                    <a:pathLst>
                      <a:path w="141" h="152">
                        <a:moveTo>
                          <a:pt x="141" y="45"/>
                        </a:moveTo>
                        <a:lnTo>
                          <a:pt x="124" y="56"/>
                        </a:lnTo>
                        <a:lnTo>
                          <a:pt x="116" y="68"/>
                        </a:lnTo>
                        <a:lnTo>
                          <a:pt x="117" y="82"/>
                        </a:lnTo>
                        <a:lnTo>
                          <a:pt x="122" y="95"/>
                        </a:lnTo>
                        <a:lnTo>
                          <a:pt x="129" y="110"/>
                        </a:lnTo>
                        <a:lnTo>
                          <a:pt x="132" y="125"/>
                        </a:lnTo>
                        <a:lnTo>
                          <a:pt x="129" y="139"/>
                        </a:lnTo>
                        <a:lnTo>
                          <a:pt x="116" y="151"/>
                        </a:lnTo>
                        <a:lnTo>
                          <a:pt x="102" y="152"/>
                        </a:lnTo>
                        <a:lnTo>
                          <a:pt x="89" y="152"/>
                        </a:lnTo>
                        <a:lnTo>
                          <a:pt x="75" y="151"/>
                        </a:lnTo>
                        <a:lnTo>
                          <a:pt x="61" y="149"/>
                        </a:lnTo>
                        <a:lnTo>
                          <a:pt x="49" y="145"/>
                        </a:lnTo>
                        <a:lnTo>
                          <a:pt x="36" y="139"/>
                        </a:lnTo>
                        <a:lnTo>
                          <a:pt x="26" y="130"/>
                        </a:lnTo>
                        <a:lnTo>
                          <a:pt x="16" y="119"/>
                        </a:lnTo>
                        <a:lnTo>
                          <a:pt x="12" y="108"/>
                        </a:lnTo>
                        <a:lnTo>
                          <a:pt x="3" y="92"/>
                        </a:lnTo>
                        <a:lnTo>
                          <a:pt x="0" y="76"/>
                        </a:lnTo>
                        <a:lnTo>
                          <a:pt x="9" y="61"/>
                        </a:lnTo>
                        <a:lnTo>
                          <a:pt x="26" y="56"/>
                        </a:lnTo>
                        <a:lnTo>
                          <a:pt x="40" y="46"/>
                        </a:lnTo>
                        <a:lnTo>
                          <a:pt x="53" y="35"/>
                        </a:lnTo>
                        <a:lnTo>
                          <a:pt x="64" y="22"/>
                        </a:lnTo>
                        <a:lnTo>
                          <a:pt x="75" y="11"/>
                        </a:lnTo>
                        <a:lnTo>
                          <a:pt x="87" y="4"/>
                        </a:lnTo>
                        <a:lnTo>
                          <a:pt x="104" y="0"/>
                        </a:lnTo>
                        <a:lnTo>
                          <a:pt x="125" y="4"/>
                        </a:lnTo>
                        <a:lnTo>
                          <a:pt x="141" y="45"/>
                        </a:lnTo>
                        <a:close/>
                      </a:path>
                    </a:pathLst>
                  </a:custGeom>
                  <a:solidFill>
                    <a:srgbClr val="9ed67c"/>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528" name=""/>
                  <p:cNvSpPr/>
                  <p:nvPr/>
                </p:nvSpPr>
                <p:spPr>
                  <a:xfrm flipH="1">
                    <a:off x="2256120" y="3225600"/>
                    <a:ext cx="332280" cy="164520"/>
                  </a:xfrm>
                  <a:custGeom>
                    <a:avLst/>
                    <a:gdLst/>
                    <a:ahLst/>
                    <a:rect l="l" t="t" r="r" b="b"/>
                    <a:pathLst>
                      <a:path w="1336" h="1068">
                        <a:moveTo>
                          <a:pt x="189" y="0"/>
                        </a:moveTo>
                        <a:lnTo>
                          <a:pt x="171" y="16"/>
                        </a:lnTo>
                        <a:lnTo>
                          <a:pt x="156" y="35"/>
                        </a:lnTo>
                        <a:lnTo>
                          <a:pt x="145" y="57"/>
                        </a:lnTo>
                        <a:lnTo>
                          <a:pt x="137" y="81"/>
                        </a:lnTo>
                        <a:lnTo>
                          <a:pt x="132" y="106"/>
                        </a:lnTo>
                        <a:lnTo>
                          <a:pt x="131" y="132"/>
                        </a:lnTo>
                        <a:lnTo>
                          <a:pt x="133" y="156"/>
                        </a:lnTo>
                        <a:lnTo>
                          <a:pt x="140" y="183"/>
                        </a:lnTo>
                        <a:lnTo>
                          <a:pt x="156" y="210"/>
                        </a:lnTo>
                        <a:lnTo>
                          <a:pt x="174" y="235"/>
                        </a:lnTo>
                        <a:lnTo>
                          <a:pt x="194" y="258"/>
                        </a:lnTo>
                        <a:lnTo>
                          <a:pt x="217" y="281"/>
                        </a:lnTo>
                        <a:lnTo>
                          <a:pt x="242" y="302"/>
                        </a:lnTo>
                        <a:lnTo>
                          <a:pt x="266" y="320"/>
                        </a:lnTo>
                        <a:lnTo>
                          <a:pt x="294" y="339"/>
                        </a:lnTo>
                        <a:lnTo>
                          <a:pt x="321" y="355"/>
                        </a:lnTo>
                        <a:lnTo>
                          <a:pt x="350" y="372"/>
                        </a:lnTo>
                        <a:lnTo>
                          <a:pt x="380" y="387"/>
                        </a:lnTo>
                        <a:lnTo>
                          <a:pt x="410" y="402"/>
                        </a:lnTo>
                        <a:lnTo>
                          <a:pt x="439" y="417"/>
                        </a:lnTo>
                        <a:lnTo>
                          <a:pt x="468" y="431"/>
                        </a:lnTo>
                        <a:lnTo>
                          <a:pt x="498" y="444"/>
                        </a:lnTo>
                        <a:lnTo>
                          <a:pt x="527" y="459"/>
                        </a:lnTo>
                        <a:lnTo>
                          <a:pt x="555" y="473"/>
                        </a:lnTo>
                        <a:lnTo>
                          <a:pt x="588" y="483"/>
                        </a:lnTo>
                        <a:lnTo>
                          <a:pt x="619" y="493"/>
                        </a:lnTo>
                        <a:lnTo>
                          <a:pt x="651" y="503"/>
                        </a:lnTo>
                        <a:lnTo>
                          <a:pt x="682" y="512"/>
                        </a:lnTo>
                        <a:lnTo>
                          <a:pt x="715" y="522"/>
                        </a:lnTo>
                        <a:lnTo>
                          <a:pt x="747" y="534"/>
                        </a:lnTo>
                        <a:lnTo>
                          <a:pt x="778" y="543"/>
                        </a:lnTo>
                        <a:lnTo>
                          <a:pt x="809" y="555"/>
                        </a:lnTo>
                        <a:lnTo>
                          <a:pt x="841" y="566"/>
                        </a:lnTo>
                        <a:lnTo>
                          <a:pt x="873" y="578"/>
                        </a:lnTo>
                        <a:lnTo>
                          <a:pt x="902" y="592"/>
                        </a:lnTo>
                        <a:lnTo>
                          <a:pt x="934" y="606"/>
                        </a:lnTo>
                        <a:lnTo>
                          <a:pt x="963" y="619"/>
                        </a:lnTo>
                        <a:lnTo>
                          <a:pt x="993" y="635"/>
                        </a:lnTo>
                        <a:lnTo>
                          <a:pt x="1023" y="653"/>
                        </a:lnTo>
                        <a:lnTo>
                          <a:pt x="1052" y="670"/>
                        </a:lnTo>
                        <a:lnTo>
                          <a:pt x="1074" y="681"/>
                        </a:lnTo>
                        <a:lnTo>
                          <a:pt x="1098" y="691"/>
                        </a:lnTo>
                        <a:lnTo>
                          <a:pt x="1122" y="702"/>
                        </a:lnTo>
                        <a:lnTo>
                          <a:pt x="1146" y="715"/>
                        </a:lnTo>
                        <a:lnTo>
                          <a:pt x="1171" y="726"/>
                        </a:lnTo>
                        <a:lnTo>
                          <a:pt x="1196" y="738"/>
                        </a:lnTo>
                        <a:lnTo>
                          <a:pt x="1220" y="752"/>
                        </a:lnTo>
                        <a:lnTo>
                          <a:pt x="1242" y="767"/>
                        </a:lnTo>
                        <a:lnTo>
                          <a:pt x="1263" y="783"/>
                        </a:lnTo>
                        <a:lnTo>
                          <a:pt x="1283" y="799"/>
                        </a:lnTo>
                        <a:lnTo>
                          <a:pt x="1300" y="818"/>
                        </a:lnTo>
                        <a:lnTo>
                          <a:pt x="1313" y="837"/>
                        </a:lnTo>
                        <a:lnTo>
                          <a:pt x="1324" y="859"/>
                        </a:lnTo>
                        <a:lnTo>
                          <a:pt x="1332" y="882"/>
                        </a:lnTo>
                        <a:lnTo>
                          <a:pt x="1336" y="907"/>
                        </a:lnTo>
                        <a:lnTo>
                          <a:pt x="1334" y="934"/>
                        </a:lnTo>
                        <a:lnTo>
                          <a:pt x="1322" y="954"/>
                        </a:lnTo>
                        <a:lnTo>
                          <a:pt x="1308" y="974"/>
                        </a:lnTo>
                        <a:lnTo>
                          <a:pt x="1293" y="994"/>
                        </a:lnTo>
                        <a:lnTo>
                          <a:pt x="1278" y="1011"/>
                        </a:lnTo>
                        <a:lnTo>
                          <a:pt x="1261" y="1029"/>
                        </a:lnTo>
                        <a:lnTo>
                          <a:pt x="1243" y="1045"/>
                        </a:lnTo>
                        <a:lnTo>
                          <a:pt x="1224" y="1057"/>
                        </a:lnTo>
                        <a:lnTo>
                          <a:pt x="1201" y="1067"/>
                        </a:lnTo>
                        <a:lnTo>
                          <a:pt x="1183" y="1068"/>
                        </a:lnTo>
                        <a:lnTo>
                          <a:pt x="1165" y="1068"/>
                        </a:lnTo>
                        <a:lnTo>
                          <a:pt x="1149" y="1066"/>
                        </a:lnTo>
                        <a:lnTo>
                          <a:pt x="1133" y="1063"/>
                        </a:lnTo>
                        <a:lnTo>
                          <a:pt x="1117" y="1061"/>
                        </a:lnTo>
                        <a:lnTo>
                          <a:pt x="1099" y="1057"/>
                        </a:lnTo>
                        <a:lnTo>
                          <a:pt x="1080" y="1053"/>
                        </a:lnTo>
                        <a:lnTo>
                          <a:pt x="1061" y="1051"/>
                        </a:lnTo>
                        <a:lnTo>
                          <a:pt x="1083" y="1040"/>
                        </a:lnTo>
                        <a:lnTo>
                          <a:pt x="1104" y="1026"/>
                        </a:lnTo>
                        <a:lnTo>
                          <a:pt x="1124" y="1012"/>
                        </a:lnTo>
                        <a:lnTo>
                          <a:pt x="1143" y="995"/>
                        </a:lnTo>
                        <a:lnTo>
                          <a:pt x="1159" y="978"/>
                        </a:lnTo>
                        <a:lnTo>
                          <a:pt x="1174" y="959"/>
                        </a:lnTo>
                        <a:lnTo>
                          <a:pt x="1189" y="939"/>
                        </a:lnTo>
                        <a:lnTo>
                          <a:pt x="1201" y="918"/>
                        </a:lnTo>
                        <a:lnTo>
                          <a:pt x="1204" y="895"/>
                        </a:lnTo>
                        <a:lnTo>
                          <a:pt x="1202" y="875"/>
                        </a:lnTo>
                        <a:lnTo>
                          <a:pt x="1197" y="856"/>
                        </a:lnTo>
                        <a:lnTo>
                          <a:pt x="1190" y="839"/>
                        </a:lnTo>
                        <a:lnTo>
                          <a:pt x="1180" y="824"/>
                        </a:lnTo>
                        <a:lnTo>
                          <a:pt x="1169" y="810"/>
                        </a:lnTo>
                        <a:lnTo>
                          <a:pt x="1154" y="798"/>
                        </a:lnTo>
                        <a:lnTo>
                          <a:pt x="1139" y="785"/>
                        </a:lnTo>
                        <a:lnTo>
                          <a:pt x="1122" y="775"/>
                        </a:lnTo>
                        <a:lnTo>
                          <a:pt x="1104" y="766"/>
                        </a:lnTo>
                        <a:lnTo>
                          <a:pt x="1087" y="757"/>
                        </a:lnTo>
                        <a:lnTo>
                          <a:pt x="1068" y="748"/>
                        </a:lnTo>
                        <a:lnTo>
                          <a:pt x="1051" y="739"/>
                        </a:lnTo>
                        <a:lnTo>
                          <a:pt x="1033" y="731"/>
                        </a:lnTo>
                        <a:lnTo>
                          <a:pt x="1017" y="721"/>
                        </a:lnTo>
                        <a:lnTo>
                          <a:pt x="1002" y="712"/>
                        </a:lnTo>
                        <a:lnTo>
                          <a:pt x="988" y="708"/>
                        </a:lnTo>
                        <a:lnTo>
                          <a:pt x="973" y="705"/>
                        </a:lnTo>
                        <a:lnTo>
                          <a:pt x="960" y="700"/>
                        </a:lnTo>
                        <a:lnTo>
                          <a:pt x="946" y="695"/>
                        </a:lnTo>
                        <a:lnTo>
                          <a:pt x="934" y="689"/>
                        </a:lnTo>
                        <a:lnTo>
                          <a:pt x="920" y="682"/>
                        </a:lnTo>
                        <a:lnTo>
                          <a:pt x="906" y="677"/>
                        </a:lnTo>
                        <a:lnTo>
                          <a:pt x="893" y="671"/>
                        </a:lnTo>
                        <a:lnTo>
                          <a:pt x="880" y="665"/>
                        </a:lnTo>
                        <a:lnTo>
                          <a:pt x="866" y="660"/>
                        </a:lnTo>
                        <a:lnTo>
                          <a:pt x="853" y="655"/>
                        </a:lnTo>
                        <a:lnTo>
                          <a:pt x="839" y="650"/>
                        </a:lnTo>
                        <a:lnTo>
                          <a:pt x="824" y="646"/>
                        </a:lnTo>
                        <a:lnTo>
                          <a:pt x="809" y="643"/>
                        </a:lnTo>
                        <a:lnTo>
                          <a:pt x="794" y="640"/>
                        </a:lnTo>
                        <a:lnTo>
                          <a:pt x="779" y="638"/>
                        </a:lnTo>
                        <a:lnTo>
                          <a:pt x="737" y="620"/>
                        </a:lnTo>
                        <a:lnTo>
                          <a:pt x="693" y="604"/>
                        </a:lnTo>
                        <a:lnTo>
                          <a:pt x="650" y="589"/>
                        </a:lnTo>
                        <a:lnTo>
                          <a:pt x="606" y="574"/>
                        </a:lnTo>
                        <a:lnTo>
                          <a:pt x="563" y="561"/>
                        </a:lnTo>
                        <a:lnTo>
                          <a:pt x="518" y="548"/>
                        </a:lnTo>
                        <a:lnTo>
                          <a:pt x="474" y="535"/>
                        </a:lnTo>
                        <a:lnTo>
                          <a:pt x="430" y="521"/>
                        </a:lnTo>
                        <a:lnTo>
                          <a:pt x="386" y="508"/>
                        </a:lnTo>
                        <a:lnTo>
                          <a:pt x="342" y="491"/>
                        </a:lnTo>
                        <a:lnTo>
                          <a:pt x="300" y="475"/>
                        </a:lnTo>
                        <a:lnTo>
                          <a:pt x="258" y="458"/>
                        </a:lnTo>
                        <a:lnTo>
                          <a:pt x="217" y="438"/>
                        </a:lnTo>
                        <a:lnTo>
                          <a:pt x="176" y="416"/>
                        </a:lnTo>
                        <a:lnTo>
                          <a:pt x="137" y="391"/>
                        </a:lnTo>
                        <a:lnTo>
                          <a:pt x="98" y="364"/>
                        </a:lnTo>
                        <a:lnTo>
                          <a:pt x="80" y="339"/>
                        </a:lnTo>
                        <a:lnTo>
                          <a:pt x="61" y="314"/>
                        </a:lnTo>
                        <a:lnTo>
                          <a:pt x="41" y="289"/>
                        </a:lnTo>
                        <a:lnTo>
                          <a:pt x="24" y="263"/>
                        </a:lnTo>
                        <a:lnTo>
                          <a:pt x="10" y="237"/>
                        </a:lnTo>
                        <a:lnTo>
                          <a:pt x="1" y="207"/>
                        </a:lnTo>
                        <a:lnTo>
                          <a:pt x="0" y="176"/>
                        </a:lnTo>
                        <a:lnTo>
                          <a:pt x="6" y="142"/>
                        </a:lnTo>
                        <a:lnTo>
                          <a:pt x="21" y="116"/>
                        </a:lnTo>
                        <a:lnTo>
                          <a:pt x="40" y="92"/>
                        </a:lnTo>
                        <a:lnTo>
                          <a:pt x="61" y="71"/>
                        </a:lnTo>
                        <a:lnTo>
                          <a:pt x="85" y="52"/>
                        </a:lnTo>
                        <a:lnTo>
                          <a:pt x="110" y="35"/>
                        </a:lnTo>
                        <a:lnTo>
                          <a:pt x="136" y="21"/>
                        </a:lnTo>
                        <a:lnTo>
                          <a:pt x="162" y="9"/>
                        </a:lnTo>
                        <a:lnTo>
                          <a:pt x="189" y="0"/>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flipH="1">
                    <a:off x="1834200" y="3255480"/>
                    <a:ext cx="149760" cy="54000"/>
                  </a:xfrm>
                  <a:custGeom>
                    <a:avLst/>
                    <a:gdLst/>
                    <a:ahLst/>
                    <a:rect l="l" t="t" r="r" b="b"/>
                    <a:pathLst>
                      <a:path w="603" h="351">
                        <a:moveTo>
                          <a:pt x="514" y="12"/>
                        </a:moveTo>
                        <a:lnTo>
                          <a:pt x="522" y="27"/>
                        </a:lnTo>
                        <a:lnTo>
                          <a:pt x="537" y="35"/>
                        </a:lnTo>
                        <a:lnTo>
                          <a:pt x="557" y="38"/>
                        </a:lnTo>
                        <a:lnTo>
                          <a:pt x="577" y="41"/>
                        </a:lnTo>
                        <a:lnTo>
                          <a:pt x="593" y="45"/>
                        </a:lnTo>
                        <a:lnTo>
                          <a:pt x="603" y="53"/>
                        </a:lnTo>
                        <a:lnTo>
                          <a:pt x="603" y="69"/>
                        </a:lnTo>
                        <a:lnTo>
                          <a:pt x="590" y="95"/>
                        </a:lnTo>
                        <a:lnTo>
                          <a:pt x="583" y="105"/>
                        </a:lnTo>
                        <a:lnTo>
                          <a:pt x="575" y="114"/>
                        </a:lnTo>
                        <a:lnTo>
                          <a:pt x="567" y="124"/>
                        </a:lnTo>
                        <a:lnTo>
                          <a:pt x="563" y="136"/>
                        </a:lnTo>
                        <a:lnTo>
                          <a:pt x="542" y="129"/>
                        </a:lnTo>
                        <a:lnTo>
                          <a:pt x="522" y="117"/>
                        </a:lnTo>
                        <a:lnTo>
                          <a:pt x="504" y="103"/>
                        </a:lnTo>
                        <a:lnTo>
                          <a:pt x="485" y="88"/>
                        </a:lnTo>
                        <a:lnTo>
                          <a:pt x="466" y="74"/>
                        </a:lnTo>
                        <a:lnTo>
                          <a:pt x="446" y="64"/>
                        </a:lnTo>
                        <a:lnTo>
                          <a:pt x="423" y="59"/>
                        </a:lnTo>
                        <a:lnTo>
                          <a:pt x="398" y="62"/>
                        </a:lnTo>
                        <a:lnTo>
                          <a:pt x="389" y="59"/>
                        </a:lnTo>
                        <a:lnTo>
                          <a:pt x="380" y="59"/>
                        </a:lnTo>
                        <a:lnTo>
                          <a:pt x="372" y="61"/>
                        </a:lnTo>
                        <a:lnTo>
                          <a:pt x="362" y="64"/>
                        </a:lnTo>
                        <a:lnTo>
                          <a:pt x="352" y="68"/>
                        </a:lnTo>
                        <a:lnTo>
                          <a:pt x="342" y="72"/>
                        </a:lnTo>
                        <a:lnTo>
                          <a:pt x="333" y="76"/>
                        </a:lnTo>
                        <a:lnTo>
                          <a:pt x="323" y="78"/>
                        </a:lnTo>
                        <a:lnTo>
                          <a:pt x="329" y="98"/>
                        </a:lnTo>
                        <a:lnTo>
                          <a:pt x="339" y="115"/>
                        </a:lnTo>
                        <a:lnTo>
                          <a:pt x="349" y="130"/>
                        </a:lnTo>
                        <a:lnTo>
                          <a:pt x="361" y="144"/>
                        </a:lnTo>
                        <a:lnTo>
                          <a:pt x="370" y="157"/>
                        </a:lnTo>
                        <a:lnTo>
                          <a:pt x="378" y="172"/>
                        </a:lnTo>
                        <a:lnTo>
                          <a:pt x="382" y="190"/>
                        </a:lnTo>
                        <a:lnTo>
                          <a:pt x="382" y="211"/>
                        </a:lnTo>
                        <a:lnTo>
                          <a:pt x="366" y="219"/>
                        </a:lnTo>
                        <a:lnTo>
                          <a:pt x="354" y="232"/>
                        </a:lnTo>
                        <a:lnTo>
                          <a:pt x="346" y="246"/>
                        </a:lnTo>
                        <a:lnTo>
                          <a:pt x="341" y="260"/>
                        </a:lnTo>
                        <a:lnTo>
                          <a:pt x="337" y="277"/>
                        </a:lnTo>
                        <a:lnTo>
                          <a:pt x="334" y="291"/>
                        </a:lnTo>
                        <a:lnTo>
                          <a:pt x="333" y="306"/>
                        </a:lnTo>
                        <a:lnTo>
                          <a:pt x="332" y="319"/>
                        </a:lnTo>
                        <a:lnTo>
                          <a:pt x="311" y="319"/>
                        </a:lnTo>
                        <a:lnTo>
                          <a:pt x="291" y="322"/>
                        </a:lnTo>
                        <a:lnTo>
                          <a:pt x="272" y="327"/>
                        </a:lnTo>
                        <a:lnTo>
                          <a:pt x="253" y="335"/>
                        </a:lnTo>
                        <a:lnTo>
                          <a:pt x="235" y="341"/>
                        </a:lnTo>
                        <a:lnTo>
                          <a:pt x="215" y="346"/>
                        </a:lnTo>
                        <a:lnTo>
                          <a:pt x="196" y="350"/>
                        </a:lnTo>
                        <a:lnTo>
                          <a:pt x="175" y="351"/>
                        </a:lnTo>
                        <a:lnTo>
                          <a:pt x="171" y="339"/>
                        </a:lnTo>
                        <a:lnTo>
                          <a:pt x="168" y="325"/>
                        </a:lnTo>
                        <a:lnTo>
                          <a:pt x="165" y="311"/>
                        </a:lnTo>
                        <a:lnTo>
                          <a:pt x="164" y="299"/>
                        </a:lnTo>
                        <a:lnTo>
                          <a:pt x="165" y="288"/>
                        </a:lnTo>
                        <a:lnTo>
                          <a:pt x="171" y="279"/>
                        </a:lnTo>
                        <a:lnTo>
                          <a:pt x="181" y="273"/>
                        </a:lnTo>
                        <a:lnTo>
                          <a:pt x="199" y="269"/>
                        </a:lnTo>
                        <a:lnTo>
                          <a:pt x="184" y="258"/>
                        </a:lnTo>
                        <a:lnTo>
                          <a:pt x="168" y="248"/>
                        </a:lnTo>
                        <a:lnTo>
                          <a:pt x="150" y="241"/>
                        </a:lnTo>
                        <a:lnTo>
                          <a:pt x="133" y="234"/>
                        </a:lnTo>
                        <a:lnTo>
                          <a:pt x="114" y="228"/>
                        </a:lnTo>
                        <a:lnTo>
                          <a:pt x="95" y="224"/>
                        </a:lnTo>
                        <a:lnTo>
                          <a:pt x="77" y="221"/>
                        </a:lnTo>
                        <a:lnTo>
                          <a:pt x="57" y="218"/>
                        </a:lnTo>
                        <a:lnTo>
                          <a:pt x="61" y="208"/>
                        </a:lnTo>
                        <a:lnTo>
                          <a:pt x="68" y="200"/>
                        </a:lnTo>
                        <a:lnTo>
                          <a:pt x="76" y="192"/>
                        </a:lnTo>
                        <a:lnTo>
                          <a:pt x="85" y="183"/>
                        </a:lnTo>
                        <a:lnTo>
                          <a:pt x="93" y="176"/>
                        </a:lnTo>
                        <a:lnTo>
                          <a:pt x="99" y="167"/>
                        </a:lnTo>
                        <a:lnTo>
                          <a:pt x="102" y="157"/>
                        </a:lnTo>
                        <a:lnTo>
                          <a:pt x="99" y="145"/>
                        </a:lnTo>
                        <a:lnTo>
                          <a:pt x="88" y="141"/>
                        </a:lnTo>
                        <a:lnTo>
                          <a:pt x="77" y="136"/>
                        </a:lnTo>
                        <a:lnTo>
                          <a:pt x="64" y="133"/>
                        </a:lnTo>
                        <a:lnTo>
                          <a:pt x="53" y="128"/>
                        </a:lnTo>
                        <a:lnTo>
                          <a:pt x="39" y="124"/>
                        </a:lnTo>
                        <a:lnTo>
                          <a:pt x="27" y="120"/>
                        </a:lnTo>
                        <a:lnTo>
                          <a:pt x="13" y="115"/>
                        </a:lnTo>
                        <a:lnTo>
                          <a:pt x="0" y="112"/>
                        </a:lnTo>
                        <a:lnTo>
                          <a:pt x="16" y="110"/>
                        </a:lnTo>
                        <a:lnTo>
                          <a:pt x="32" y="107"/>
                        </a:lnTo>
                        <a:lnTo>
                          <a:pt x="47" y="102"/>
                        </a:lnTo>
                        <a:lnTo>
                          <a:pt x="62" y="95"/>
                        </a:lnTo>
                        <a:lnTo>
                          <a:pt x="77" y="89"/>
                        </a:lnTo>
                        <a:lnTo>
                          <a:pt x="92" y="84"/>
                        </a:lnTo>
                        <a:lnTo>
                          <a:pt x="108" y="81"/>
                        </a:lnTo>
                        <a:lnTo>
                          <a:pt x="124" y="78"/>
                        </a:lnTo>
                        <a:lnTo>
                          <a:pt x="120" y="95"/>
                        </a:lnTo>
                        <a:lnTo>
                          <a:pt x="122" y="112"/>
                        </a:lnTo>
                        <a:lnTo>
                          <a:pt x="129" y="125"/>
                        </a:lnTo>
                        <a:lnTo>
                          <a:pt x="140" y="138"/>
                        </a:lnTo>
                        <a:lnTo>
                          <a:pt x="154" y="149"/>
                        </a:lnTo>
                        <a:lnTo>
                          <a:pt x="169" y="160"/>
                        </a:lnTo>
                        <a:lnTo>
                          <a:pt x="184" y="169"/>
                        </a:lnTo>
                        <a:lnTo>
                          <a:pt x="199" y="177"/>
                        </a:lnTo>
                        <a:lnTo>
                          <a:pt x="207" y="177"/>
                        </a:lnTo>
                        <a:lnTo>
                          <a:pt x="215" y="180"/>
                        </a:lnTo>
                        <a:lnTo>
                          <a:pt x="222" y="182"/>
                        </a:lnTo>
                        <a:lnTo>
                          <a:pt x="229" y="187"/>
                        </a:lnTo>
                        <a:lnTo>
                          <a:pt x="235" y="192"/>
                        </a:lnTo>
                        <a:lnTo>
                          <a:pt x="241" y="197"/>
                        </a:lnTo>
                        <a:lnTo>
                          <a:pt x="249" y="200"/>
                        </a:lnTo>
                        <a:lnTo>
                          <a:pt x="257" y="202"/>
                        </a:lnTo>
                        <a:lnTo>
                          <a:pt x="287" y="186"/>
                        </a:lnTo>
                        <a:lnTo>
                          <a:pt x="298" y="167"/>
                        </a:lnTo>
                        <a:lnTo>
                          <a:pt x="297" y="150"/>
                        </a:lnTo>
                        <a:lnTo>
                          <a:pt x="287" y="131"/>
                        </a:lnTo>
                        <a:lnTo>
                          <a:pt x="273" y="112"/>
                        </a:lnTo>
                        <a:lnTo>
                          <a:pt x="260" y="93"/>
                        </a:lnTo>
                        <a:lnTo>
                          <a:pt x="253" y="73"/>
                        </a:lnTo>
                        <a:lnTo>
                          <a:pt x="257" y="53"/>
                        </a:lnTo>
                        <a:lnTo>
                          <a:pt x="268" y="38"/>
                        </a:lnTo>
                        <a:lnTo>
                          <a:pt x="281" y="26"/>
                        </a:lnTo>
                        <a:lnTo>
                          <a:pt x="295" y="16"/>
                        </a:lnTo>
                        <a:lnTo>
                          <a:pt x="308" y="10"/>
                        </a:lnTo>
                        <a:lnTo>
                          <a:pt x="324" y="5"/>
                        </a:lnTo>
                        <a:lnTo>
                          <a:pt x="339" y="1"/>
                        </a:lnTo>
                        <a:lnTo>
                          <a:pt x="357" y="0"/>
                        </a:lnTo>
                        <a:lnTo>
                          <a:pt x="373" y="0"/>
                        </a:lnTo>
                        <a:lnTo>
                          <a:pt x="390" y="1"/>
                        </a:lnTo>
                        <a:lnTo>
                          <a:pt x="408" y="2"/>
                        </a:lnTo>
                        <a:lnTo>
                          <a:pt x="426" y="5"/>
                        </a:lnTo>
                        <a:lnTo>
                          <a:pt x="444" y="6"/>
                        </a:lnTo>
                        <a:lnTo>
                          <a:pt x="461" y="9"/>
                        </a:lnTo>
                        <a:lnTo>
                          <a:pt x="479" y="11"/>
                        </a:lnTo>
                        <a:lnTo>
                          <a:pt x="496" y="12"/>
                        </a:lnTo>
                        <a:lnTo>
                          <a:pt x="514" y="12"/>
                        </a:lnTo>
                        <a:close/>
                      </a:path>
                    </a:pathLst>
                  </a:custGeom>
                  <a:solidFill>
                    <a:srgbClr val="9ed67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30" name=""/>
                  <p:cNvSpPr/>
                  <p:nvPr/>
                </p:nvSpPr>
                <p:spPr>
                  <a:xfrm flipH="1">
                    <a:off x="2068560" y="3276720"/>
                    <a:ext cx="129960" cy="39600"/>
                  </a:xfrm>
                  <a:custGeom>
                    <a:avLst/>
                    <a:gdLst/>
                    <a:ahLst/>
                    <a:rect l="l" t="t" r="r" b="b"/>
                    <a:pathLst>
                      <a:path w="523" h="258">
                        <a:moveTo>
                          <a:pt x="514" y="41"/>
                        </a:moveTo>
                        <a:lnTo>
                          <a:pt x="513" y="49"/>
                        </a:lnTo>
                        <a:lnTo>
                          <a:pt x="510" y="57"/>
                        </a:lnTo>
                        <a:lnTo>
                          <a:pt x="508" y="66"/>
                        </a:lnTo>
                        <a:lnTo>
                          <a:pt x="504" y="75"/>
                        </a:lnTo>
                        <a:lnTo>
                          <a:pt x="499" y="81"/>
                        </a:lnTo>
                        <a:lnTo>
                          <a:pt x="493" y="85"/>
                        </a:lnTo>
                        <a:lnTo>
                          <a:pt x="484" y="86"/>
                        </a:lnTo>
                        <a:lnTo>
                          <a:pt x="473" y="82"/>
                        </a:lnTo>
                        <a:lnTo>
                          <a:pt x="472" y="100"/>
                        </a:lnTo>
                        <a:lnTo>
                          <a:pt x="472" y="119"/>
                        </a:lnTo>
                        <a:lnTo>
                          <a:pt x="473" y="139"/>
                        </a:lnTo>
                        <a:lnTo>
                          <a:pt x="477" y="160"/>
                        </a:lnTo>
                        <a:lnTo>
                          <a:pt x="483" y="179"/>
                        </a:lnTo>
                        <a:lnTo>
                          <a:pt x="492" y="198"/>
                        </a:lnTo>
                        <a:lnTo>
                          <a:pt x="505" y="212"/>
                        </a:lnTo>
                        <a:lnTo>
                          <a:pt x="523" y="224"/>
                        </a:lnTo>
                        <a:lnTo>
                          <a:pt x="512" y="242"/>
                        </a:lnTo>
                        <a:lnTo>
                          <a:pt x="498" y="252"/>
                        </a:lnTo>
                        <a:lnTo>
                          <a:pt x="481" y="257"/>
                        </a:lnTo>
                        <a:lnTo>
                          <a:pt x="462" y="258"/>
                        </a:lnTo>
                        <a:lnTo>
                          <a:pt x="441" y="257"/>
                        </a:lnTo>
                        <a:lnTo>
                          <a:pt x="418" y="256"/>
                        </a:lnTo>
                        <a:lnTo>
                          <a:pt x="396" y="255"/>
                        </a:lnTo>
                        <a:lnTo>
                          <a:pt x="373" y="257"/>
                        </a:lnTo>
                        <a:lnTo>
                          <a:pt x="350" y="256"/>
                        </a:lnTo>
                        <a:lnTo>
                          <a:pt x="325" y="255"/>
                        </a:lnTo>
                        <a:lnTo>
                          <a:pt x="303" y="253"/>
                        </a:lnTo>
                        <a:lnTo>
                          <a:pt x="279" y="251"/>
                        </a:lnTo>
                        <a:lnTo>
                          <a:pt x="255" y="250"/>
                        </a:lnTo>
                        <a:lnTo>
                          <a:pt x="233" y="247"/>
                        </a:lnTo>
                        <a:lnTo>
                          <a:pt x="209" y="243"/>
                        </a:lnTo>
                        <a:lnTo>
                          <a:pt x="187" y="241"/>
                        </a:lnTo>
                        <a:lnTo>
                          <a:pt x="163" y="239"/>
                        </a:lnTo>
                        <a:lnTo>
                          <a:pt x="141" y="235"/>
                        </a:lnTo>
                        <a:lnTo>
                          <a:pt x="117" y="231"/>
                        </a:lnTo>
                        <a:lnTo>
                          <a:pt x="95" y="226"/>
                        </a:lnTo>
                        <a:lnTo>
                          <a:pt x="71" y="222"/>
                        </a:lnTo>
                        <a:lnTo>
                          <a:pt x="47" y="217"/>
                        </a:lnTo>
                        <a:lnTo>
                          <a:pt x="24" y="212"/>
                        </a:lnTo>
                        <a:lnTo>
                          <a:pt x="0" y="208"/>
                        </a:lnTo>
                        <a:lnTo>
                          <a:pt x="0" y="206"/>
                        </a:lnTo>
                        <a:lnTo>
                          <a:pt x="5" y="200"/>
                        </a:lnTo>
                        <a:lnTo>
                          <a:pt x="16" y="191"/>
                        </a:lnTo>
                        <a:lnTo>
                          <a:pt x="29" y="181"/>
                        </a:lnTo>
                        <a:lnTo>
                          <a:pt x="44" y="170"/>
                        </a:lnTo>
                        <a:lnTo>
                          <a:pt x="59" y="159"/>
                        </a:lnTo>
                        <a:lnTo>
                          <a:pt x="72" y="149"/>
                        </a:lnTo>
                        <a:lnTo>
                          <a:pt x="83" y="142"/>
                        </a:lnTo>
                        <a:lnTo>
                          <a:pt x="97" y="139"/>
                        </a:lnTo>
                        <a:lnTo>
                          <a:pt x="112" y="138"/>
                        </a:lnTo>
                        <a:lnTo>
                          <a:pt x="128" y="138"/>
                        </a:lnTo>
                        <a:lnTo>
                          <a:pt x="144" y="139"/>
                        </a:lnTo>
                        <a:lnTo>
                          <a:pt x="161" y="141"/>
                        </a:lnTo>
                        <a:lnTo>
                          <a:pt x="177" y="142"/>
                        </a:lnTo>
                        <a:lnTo>
                          <a:pt x="193" y="143"/>
                        </a:lnTo>
                        <a:lnTo>
                          <a:pt x="209" y="144"/>
                        </a:lnTo>
                        <a:lnTo>
                          <a:pt x="224" y="144"/>
                        </a:lnTo>
                        <a:lnTo>
                          <a:pt x="239" y="142"/>
                        </a:lnTo>
                        <a:lnTo>
                          <a:pt x="252" y="139"/>
                        </a:lnTo>
                        <a:lnTo>
                          <a:pt x="264" y="133"/>
                        </a:lnTo>
                        <a:lnTo>
                          <a:pt x="275" y="126"/>
                        </a:lnTo>
                        <a:lnTo>
                          <a:pt x="285" y="114"/>
                        </a:lnTo>
                        <a:lnTo>
                          <a:pt x="293" y="100"/>
                        </a:lnTo>
                        <a:lnTo>
                          <a:pt x="298" y="82"/>
                        </a:lnTo>
                        <a:lnTo>
                          <a:pt x="296" y="67"/>
                        </a:lnTo>
                        <a:lnTo>
                          <a:pt x="293" y="55"/>
                        </a:lnTo>
                        <a:lnTo>
                          <a:pt x="285" y="43"/>
                        </a:lnTo>
                        <a:lnTo>
                          <a:pt x="274" y="33"/>
                        </a:lnTo>
                        <a:lnTo>
                          <a:pt x="208" y="33"/>
                        </a:lnTo>
                        <a:lnTo>
                          <a:pt x="240" y="0"/>
                        </a:lnTo>
                        <a:lnTo>
                          <a:pt x="258" y="2"/>
                        </a:lnTo>
                        <a:lnTo>
                          <a:pt x="275" y="3"/>
                        </a:lnTo>
                        <a:lnTo>
                          <a:pt x="293" y="7"/>
                        </a:lnTo>
                        <a:lnTo>
                          <a:pt x="309" y="10"/>
                        </a:lnTo>
                        <a:lnTo>
                          <a:pt x="325" y="15"/>
                        </a:lnTo>
                        <a:lnTo>
                          <a:pt x="341" y="20"/>
                        </a:lnTo>
                        <a:lnTo>
                          <a:pt x="357" y="25"/>
                        </a:lnTo>
                        <a:lnTo>
                          <a:pt x="373" y="30"/>
                        </a:lnTo>
                        <a:lnTo>
                          <a:pt x="390" y="34"/>
                        </a:lnTo>
                        <a:lnTo>
                          <a:pt x="406" y="39"/>
                        </a:lnTo>
                        <a:lnTo>
                          <a:pt x="423" y="43"/>
                        </a:lnTo>
                        <a:lnTo>
                          <a:pt x="441" y="45"/>
                        </a:lnTo>
                        <a:lnTo>
                          <a:pt x="458" y="46"/>
                        </a:lnTo>
                        <a:lnTo>
                          <a:pt x="476" y="46"/>
                        </a:lnTo>
                        <a:lnTo>
                          <a:pt x="494" y="45"/>
                        </a:lnTo>
                        <a:lnTo>
                          <a:pt x="514" y="41"/>
                        </a:lnTo>
                        <a:close/>
                      </a:path>
                    </a:pathLst>
                  </a:custGeom>
                  <a:solidFill>
                    <a:srgbClr val="9ed67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31" name=""/>
                  <p:cNvSpPr/>
                  <p:nvPr/>
                </p:nvSpPr>
                <p:spPr>
                  <a:xfrm flipH="1">
                    <a:off x="1959480" y="3278880"/>
                    <a:ext cx="59400" cy="34560"/>
                  </a:xfrm>
                  <a:custGeom>
                    <a:avLst/>
                    <a:gdLst/>
                    <a:ahLst/>
                    <a:rect l="l" t="t" r="r" b="b"/>
                    <a:pathLst>
                      <a:path w="240" h="226">
                        <a:moveTo>
                          <a:pt x="58" y="25"/>
                        </a:moveTo>
                        <a:lnTo>
                          <a:pt x="71" y="20"/>
                        </a:lnTo>
                        <a:lnTo>
                          <a:pt x="86" y="19"/>
                        </a:lnTo>
                        <a:lnTo>
                          <a:pt x="100" y="22"/>
                        </a:lnTo>
                        <a:lnTo>
                          <a:pt x="112" y="28"/>
                        </a:lnTo>
                        <a:lnTo>
                          <a:pt x="122" y="36"/>
                        </a:lnTo>
                        <a:lnTo>
                          <a:pt x="128" y="48"/>
                        </a:lnTo>
                        <a:lnTo>
                          <a:pt x="129" y="61"/>
                        </a:lnTo>
                        <a:lnTo>
                          <a:pt x="124" y="75"/>
                        </a:lnTo>
                        <a:lnTo>
                          <a:pt x="124" y="84"/>
                        </a:lnTo>
                        <a:lnTo>
                          <a:pt x="127" y="92"/>
                        </a:lnTo>
                        <a:lnTo>
                          <a:pt x="132" y="100"/>
                        </a:lnTo>
                        <a:lnTo>
                          <a:pt x="138" y="106"/>
                        </a:lnTo>
                        <a:lnTo>
                          <a:pt x="144" y="112"/>
                        </a:lnTo>
                        <a:lnTo>
                          <a:pt x="152" y="117"/>
                        </a:lnTo>
                        <a:lnTo>
                          <a:pt x="159" y="122"/>
                        </a:lnTo>
                        <a:lnTo>
                          <a:pt x="165" y="126"/>
                        </a:lnTo>
                        <a:lnTo>
                          <a:pt x="240" y="126"/>
                        </a:lnTo>
                        <a:lnTo>
                          <a:pt x="230" y="148"/>
                        </a:lnTo>
                        <a:lnTo>
                          <a:pt x="225" y="167"/>
                        </a:lnTo>
                        <a:lnTo>
                          <a:pt x="224" y="188"/>
                        </a:lnTo>
                        <a:lnTo>
                          <a:pt x="224" y="215"/>
                        </a:lnTo>
                        <a:lnTo>
                          <a:pt x="209" y="223"/>
                        </a:lnTo>
                        <a:lnTo>
                          <a:pt x="197" y="226"/>
                        </a:lnTo>
                        <a:lnTo>
                          <a:pt x="184" y="226"/>
                        </a:lnTo>
                        <a:lnTo>
                          <a:pt x="173" y="223"/>
                        </a:lnTo>
                        <a:lnTo>
                          <a:pt x="162" y="218"/>
                        </a:lnTo>
                        <a:lnTo>
                          <a:pt x="151" y="211"/>
                        </a:lnTo>
                        <a:lnTo>
                          <a:pt x="138" y="205"/>
                        </a:lnTo>
                        <a:lnTo>
                          <a:pt x="124" y="199"/>
                        </a:lnTo>
                        <a:lnTo>
                          <a:pt x="121" y="165"/>
                        </a:lnTo>
                        <a:lnTo>
                          <a:pt x="108" y="138"/>
                        </a:lnTo>
                        <a:lnTo>
                          <a:pt x="92" y="116"/>
                        </a:lnTo>
                        <a:lnTo>
                          <a:pt x="72" y="95"/>
                        </a:lnTo>
                        <a:lnTo>
                          <a:pt x="50" y="76"/>
                        </a:lnTo>
                        <a:lnTo>
                          <a:pt x="30" y="55"/>
                        </a:lnTo>
                        <a:lnTo>
                          <a:pt x="12" y="30"/>
                        </a:lnTo>
                        <a:lnTo>
                          <a:pt x="0" y="2"/>
                        </a:lnTo>
                        <a:lnTo>
                          <a:pt x="9" y="0"/>
                        </a:lnTo>
                        <a:lnTo>
                          <a:pt x="17" y="0"/>
                        </a:lnTo>
                        <a:lnTo>
                          <a:pt x="25" y="2"/>
                        </a:lnTo>
                        <a:lnTo>
                          <a:pt x="32" y="4"/>
                        </a:lnTo>
                        <a:lnTo>
                          <a:pt x="40" y="8"/>
                        </a:lnTo>
                        <a:lnTo>
                          <a:pt x="46" y="13"/>
                        </a:lnTo>
                        <a:lnTo>
                          <a:pt x="52" y="19"/>
                        </a:lnTo>
                        <a:lnTo>
                          <a:pt x="58" y="25"/>
                        </a:lnTo>
                        <a:close/>
                      </a:path>
                    </a:pathLst>
                  </a:custGeom>
                  <a:solidFill>
                    <a:srgbClr val="9ed67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32" name=""/>
                  <p:cNvSpPr/>
                  <p:nvPr/>
                </p:nvSpPr>
                <p:spPr>
                  <a:xfrm flipH="1">
                    <a:off x="2010960" y="3291840"/>
                    <a:ext cx="47160" cy="24120"/>
                  </a:xfrm>
                  <a:custGeom>
                    <a:avLst/>
                    <a:gdLst/>
                    <a:ahLst/>
                    <a:rect l="l" t="t" r="r" b="b"/>
                    <a:pathLst>
                      <a:path w="190" h="157">
                        <a:moveTo>
                          <a:pt x="124" y="74"/>
                        </a:moveTo>
                        <a:lnTo>
                          <a:pt x="131" y="75"/>
                        </a:lnTo>
                        <a:lnTo>
                          <a:pt x="137" y="74"/>
                        </a:lnTo>
                        <a:lnTo>
                          <a:pt x="144" y="72"/>
                        </a:lnTo>
                        <a:lnTo>
                          <a:pt x="153" y="68"/>
                        </a:lnTo>
                        <a:lnTo>
                          <a:pt x="162" y="65"/>
                        </a:lnTo>
                        <a:lnTo>
                          <a:pt x="170" y="64"/>
                        </a:lnTo>
                        <a:lnTo>
                          <a:pt x="180" y="63"/>
                        </a:lnTo>
                        <a:lnTo>
                          <a:pt x="190" y="65"/>
                        </a:lnTo>
                        <a:lnTo>
                          <a:pt x="190" y="148"/>
                        </a:lnTo>
                        <a:lnTo>
                          <a:pt x="173" y="152"/>
                        </a:lnTo>
                        <a:lnTo>
                          <a:pt x="153" y="155"/>
                        </a:lnTo>
                        <a:lnTo>
                          <a:pt x="132" y="157"/>
                        </a:lnTo>
                        <a:lnTo>
                          <a:pt x="109" y="157"/>
                        </a:lnTo>
                        <a:lnTo>
                          <a:pt x="86" y="157"/>
                        </a:lnTo>
                        <a:lnTo>
                          <a:pt x="62" y="157"/>
                        </a:lnTo>
                        <a:lnTo>
                          <a:pt x="40" y="157"/>
                        </a:lnTo>
                        <a:lnTo>
                          <a:pt x="17" y="157"/>
                        </a:lnTo>
                        <a:lnTo>
                          <a:pt x="22" y="145"/>
                        </a:lnTo>
                        <a:lnTo>
                          <a:pt x="31" y="134"/>
                        </a:lnTo>
                        <a:lnTo>
                          <a:pt x="41" y="125"/>
                        </a:lnTo>
                        <a:lnTo>
                          <a:pt x="50" y="115"/>
                        </a:lnTo>
                        <a:lnTo>
                          <a:pt x="36" y="114"/>
                        </a:lnTo>
                        <a:lnTo>
                          <a:pt x="24" y="110"/>
                        </a:lnTo>
                        <a:lnTo>
                          <a:pt x="14" y="104"/>
                        </a:lnTo>
                        <a:lnTo>
                          <a:pt x="6" y="96"/>
                        </a:lnTo>
                        <a:lnTo>
                          <a:pt x="1" y="85"/>
                        </a:lnTo>
                        <a:lnTo>
                          <a:pt x="0" y="74"/>
                        </a:lnTo>
                        <a:lnTo>
                          <a:pt x="2" y="62"/>
                        </a:lnTo>
                        <a:lnTo>
                          <a:pt x="9" y="48"/>
                        </a:lnTo>
                        <a:lnTo>
                          <a:pt x="16" y="38"/>
                        </a:lnTo>
                        <a:lnTo>
                          <a:pt x="24" y="31"/>
                        </a:lnTo>
                        <a:lnTo>
                          <a:pt x="33" y="26"/>
                        </a:lnTo>
                        <a:lnTo>
                          <a:pt x="43" y="22"/>
                        </a:lnTo>
                        <a:lnTo>
                          <a:pt x="52" y="18"/>
                        </a:lnTo>
                        <a:lnTo>
                          <a:pt x="61" y="13"/>
                        </a:lnTo>
                        <a:lnTo>
                          <a:pt x="68" y="7"/>
                        </a:lnTo>
                        <a:lnTo>
                          <a:pt x="75" y="0"/>
                        </a:lnTo>
                        <a:lnTo>
                          <a:pt x="90" y="3"/>
                        </a:lnTo>
                        <a:lnTo>
                          <a:pt x="97" y="12"/>
                        </a:lnTo>
                        <a:lnTo>
                          <a:pt x="99" y="24"/>
                        </a:lnTo>
                        <a:lnTo>
                          <a:pt x="99" y="37"/>
                        </a:lnTo>
                        <a:lnTo>
                          <a:pt x="99" y="50"/>
                        </a:lnTo>
                        <a:lnTo>
                          <a:pt x="102" y="62"/>
                        </a:lnTo>
                        <a:lnTo>
                          <a:pt x="109" y="70"/>
                        </a:lnTo>
                        <a:lnTo>
                          <a:pt x="124" y="74"/>
                        </a:lnTo>
                        <a:close/>
                      </a:path>
                    </a:pathLst>
                  </a:custGeom>
                  <a:solidFill>
                    <a:srgbClr val="9ed67c"/>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33" name=""/>
                  <p:cNvSpPr/>
                  <p:nvPr/>
                </p:nvSpPr>
                <p:spPr>
                  <a:xfrm flipH="1">
                    <a:off x="2252160" y="3394080"/>
                    <a:ext cx="146520" cy="25200"/>
                  </a:xfrm>
                  <a:custGeom>
                    <a:avLst/>
                    <a:gdLst/>
                    <a:ahLst/>
                    <a:rect l="l" t="t" r="r" b="b"/>
                    <a:pathLst>
                      <a:path w="590" h="165">
                        <a:moveTo>
                          <a:pt x="581" y="32"/>
                        </a:moveTo>
                        <a:lnTo>
                          <a:pt x="590" y="24"/>
                        </a:lnTo>
                        <a:lnTo>
                          <a:pt x="560" y="37"/>
                        </a:lnTo>
                        <a:lnTo>
                          <a:pt x="529" y="51"/>
                        </a:lnTo>
                        <a:lnTo>
                          <a:pt x="496" y="63"/>
                        </a:lnTo>
                        <a:lnTo>
                          <a:pt x="463" y="76"/>
                        </a:lnTo>
                        <a:lnTo>
                          <a:pt x="429" y="87"/>
                        </a:lnTo>
                        <a:lnTo>
                          <a:pt x="394" y="98"/>
                        </a:lnTo>
                        <a:lnTo>
                          <a:pt x="358" y="108"/>
                        </a:lnTo>
                        <a:lnTo>
                          <a:pt x="322" y="118"/>
                        </a:lnTo>
                        <a:lnTo>
                          <a:pt x="285" y="127"/>
                        </a:lnTo>
                        <a:lnTo>
                          <a:pt x="248" y="135"/>
                        </a:lnTo>
                        <a:lnTo>
                          <a:pt x="209" y="143"/>
                        </a:lnTo>
                        <a:lnTo>
                          <a:pt x="170" y="149"/>
                        </a:lnTo>
                        <a:lnTo>
                          <a:pt x="133" y="155"/>
                        </a:lnTo>
                        <a:lnTo>
                          <a:pt x="94" y="159"/>
                        </a:lnTo>
                        <a:lnTo>
                          <a:pt x="56" y="163"/>
                        </a:lnTo>
                        <a:lnTo>
                          <a:pt x="17" y="165"/>
                        </a:lnTo>
                        <a:lnTo>
                          <a:pt x="0" y="148"/>
                        </a:lnTo>
                        <a:lnTo>
                          <a:pt x="27" y="145"/>
                        </a:lnTo>
                        <a:lnTo>
                          <a:pt x="55" y="141"/>
                        </a:lnTo>
                        <a:lnTo>
                          <a:pt x="83" y="136"/>
                        </a:lnTo>
                        <a:lnTo>
                          <a:pt x="112" y="132"/>
                        </a:lnTo>
                        <a:lnTo>
                          <a:pt x="142" y="125"/>
                        </a:lnTo>
                        <a:lnTo>
                          <a:pt x="172" y="118"/>
                        </a:lnTo>
                        <a:lnTo>
                          <a:pt x="201" y="110"/>
                        </a:lnTo>
                        <a:lnTo>
                          <a:pt x="230" y="102"/>
                        </a:lnTo>
                        <a:lnTo>
                          <a:pt x="260" y="92"/>
                        </a:lnTo>
                        <a:lnTo>
                          <a:pt x="290" y="81"/>
                        </a:lnTo>
                        <a:lnTo>
                          <a:pt x="318" y="69"/>
                        </a:lnTo>
                        <a:lnTo>
                          <a:pt x="347" y="57"/>
                        </a:lnTo>
                        <a:lnTo>
                          <a:pt x="376" y="45"/>
                        </a:lnTo>
                        <a:lnTo>
                          <a:pt x="403" y="31"/>
                        </a:lnTo>
                        <a:lnTo>
                          <a:pt x="430" y="16"/>
                        </a:lnTo>
                        <a:lnTo>
                          <a:pt x="457" y="0"/>
                        </a:lnTo>
                        <a:lnTo>
                          <a:pt x="468" y="15"/>
                        </a:lnTo>
                        <a:lnTo>
                          <a:pt x="481" y="26"/>
                        </a:lnTo>
                        <a:lnTo>
                          <a:pt x="496" y="34"/>
                        </a:lnTo>
                        <a:lnTo>
                          <a:pt x="514" y="38"/>
                        </a:lnTo>
                        <a:lnTo>
                          <a:pt x="530" y="40"/>
                        </a:lnTo>
                        <a:lnTo>
                          <a:pt x="547" y="40"/>
                        </a:lnTo>
                        <a:lnTo>
                          <a:pt x="565" y="37"/>
                        </a:lnTo>
                        <a:lnTo>
                          <a:pt x="581" y="32"/>
                        </a:lnTo>
                        <a:close/>
                      </a:path>
                    </a:pathLst>
                  </a:custGeom>
                  <a:solidFill>
                    <a:srgbClr val="9ed67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pic>
              <p:nvPicPr>
                <p:cNvPr id="2534" name="" descr=""/>
                <p:cNvPicPr/>
                <p:nvPr/>
              </p:nvPicPr>
              <p:blipFill>
                <a:blip r:embed="rId3"/>
                <a:stretch/>
              </p:blipFill>
              <p:spPr>
                <a:xfrm>
                  <a:off x="1066680" y="2305080"/>
                  <a:ext cx="1270080" cy="832320"/>
                </a:xfrm>
                <a:prstGeom prst="rect">
                  <a:avLst/>
                </a:prstGeom>
                <a:ln w="0">
                  <a:noFill/>
                </a:ln>
              </p:spPr>
            </p:pic>
          </p:grpSp>
          <p:grpSp>
            <p:nvGrpSpPr>
              <p:cNvPr id="2535" name=""/>
              <p:cNvGrpSpPr/>
              <p:nvPr/>
            </p:nvGrpSpPr>
            <p:grpSpPr>
              <a:xfrm>
                <a:off x="2871360" y="2356200"/>
                <a:ext cx="1270080" cy="814320"/>
                <a:chOff x="2871360" y="2356200"/>
                <a:chExt cx="1270080" cy="814320"/>
              </a:xfrm>
            </p:grpSpPr>
            <p:grpSp>
              <p:nvGrpSpPr>
                <p:cNvPr id="2536" name=""/>
                <p:cNvGrpSpPr/>
                <p:nvPr/>
              </p:nvGrpSpPr>
              <p:grpSpPr>
                <a:xfrm>
                  <a:off x="2871360" y="2560320"/>
                  <a:ext cx="1002600" cy="610200"/>
                  <a:chOff x="2871360" y="2560320"/>
                  <a:chExt cx="1002600" cy="610200"/>
                </a:xfrm>
              </p:grpSpPr>
              <p:sp>
                <p:nvSpPr>
                  <p:cNvPr id="2537" name=""/>
                  <p:cNvSpPr/>
                  <p:nvPr/>
                </p:nvSpPr>
                <p:spPr>
                  <a:xfrm flipH="1">
                    <a:off x="2871000" y="2560320"/>
                    <a:ext cx="1002600" cy="610200"/>
                  </a:xfrm>
                  <a:custGeom>
                    <a:avLst/>
                    <a:gdLst/>
                    <a:ahLst/>
                    <a:rect l="l" t="t" r="r" b="b"/>
                    <a:pathLst>
                      <a:path w="2639" h="1790">
                        <a:moveTo>
                          <a:pt x="2500" y="23"/>
                        </a:moveTo>
                        <a:lnTo>
                          <a:pt x="2513" y="33"/>
                        </a:lnTo>
                        <a:lnTo>
                          <a:pt x="2526" y="46"/>
                        </a:lnTo>
                        <a:lnTo>
                          <a:pt x="2535" y="61"/>
                        </a:lnTo>
                        <a:lnTo>
                          <a:pt x="2535" y="78"/>
                        </a:lnTo>
                        <a:lnTo>
                          <a:pt x="2536" y="110"/>
                        </a:lnTo>
                        <a:lnTo>
                          <a:pt x="2538" y="142"/>
                        </a:lnTo>
                        <a:lnTo>
                          <a:pt x="2533" y="172"/>
                        </a:lnTo>
                        <a:lnTo>
                          <a:pt x="2525" y="202"/>
                        </a:lnTo>
                        <a:lnTo>
                          <a:pt x="2525" y="240"/>
                        </a:lnTo>
                        <a:lnTo>
                          <a:pt x="2525" y="276"/>
                        </a:lnTo>
                        <a:lnTo>
                          <a:pt x="2525" y="314"/>
                        </a:lnTo>
                        <a:lnTo>
                          <a:pt x="2520" y="351"/>
                        </a:lnTo>
                        <a:lnTo>
                          <a:pt x="2516" y="369"/>
                        </a:lnTo>
                        <a:lnTo>
                          <a:pt x="2513" y="386"/>
                        </a:lnTo>
                        <a:lnTo>
                          <a:pt x="2507" y="405"/>
                        </a:lnTo>
                        <a:lnTo>
                          <a:pt x="2502" y="422"/>
                        </a:lnTo>
                        <a:lnTo>
                          <a:pt x="2494" y="440"/>
                        </a:lnTo>
                        <a:lnTo>
                          <a:pt x="2484" y="455"/>
                        </a:lnTo>
                        <a:lnTo>
                          <a:pt x="2473" y="470"/>
                        </a:lnTo>
                        <a:lnTo>
                          <a:pt x="2458" y="481"/>
                        </a:lnTo>
                        <a:lnTo>
                          <a:pt x="2445" y="494"/>
                        </a:lnTo>
                        <a:lnTo>
                          <a:pt x="2431" y="505"/>
                        </a:lnTo>
                        <a:lnTo>
                          <a:pt x="2415" y="516"/>
                        </a:lnTo>
                        <a:lnTo>
                          <a:pt x="2399" y="526"/>
                        </a:lnTo>
                        <a:lnTo>
                          <a:pt x="2383" y="536"/>
                        </a:lnTo>
                        <a:lnTo>
                          <a:pt x="2367" y="548"/>
                        </a:lnTo>
                        <a:lnTo>
                          <a:pt x="2353" y="560"/>
                        </a:lnTo>
                        <a:lnTo>
                          <a:pt x="2340" y="573"/>
                        </a:lnTo>
                        <a:lnTo>
                          <a:pt x="2338" y="587"/>
                        </a:lnTo>
                        <a:lnTo>
                          <a:pt x="2338" y="601"/>
                        </a:lnTo>
                        <a:lnTo>
                          <a:pt x="2340" y="617"/>
                        </a:lnTo>
                        <a:lnTo>
                          <a:pt x="2337" y="630"/>
                        </a:lnTo>
                        <a:lnTo>
                          <a:pt x="2341" y="635"/>
                        </a:lnTo>
                        <a:lnTo>
                          <a:pt x="2345" y="636"/>
                        </a:lnTo>
                        <a:lnTo>
                          <a:pt x="2350" y="639"/>
                        </a:lnTo>
                        <a:lnTo>
                          <a:pt x="2354" y="643"/>
                        </a:lnTo>
                        <a:lnTo>
                          <a:pt x="2367" y="655"/>
                        </a:lnTo>
                        <a:lnTo>
                          <a:pt x="2379" y="671"/>
                        </a:lnTo>
                        <a:lnTo>
                          <a:pt x="2389" y="688"/>
                        </a:lnTo>
                        <a:lnTo>
                          <a:pt x="2395" y="708"/>
                        </a:lnTo>
                        <a:lnTo>
                          <a:pt x="2395" y="713"/>
                        </a:lnTo>
                        <a:lnTo>
                          <a:pt x="2395" y="717"/>
                        </a:lnTo>
                        <a:lnTo>
                          <a:pt x="2395" y="721"/>
                        </a:lnTo>
                        <a:lnTo>
                          <a:pt x="2395" y="726"/>
                        </a:lnTo>
                        <a:lnTo>
                          <a:pt x="2386" y="760"/>
                        </a:lnTo>
                        <a:lnTo>
                          <a:pt x="2374" y="797"/>
                        </a:lnTo>
                        <a:lnTo>
                          <a:pt x="2364" y="831"/>
                        </a:lnTo>
                        <a:lnTo>
                          <a:pt x="2366" y="867"/>
                        </a:lnTo>
                        <a:lnTo>
                          <a:pt x="2364" y="869"/>
                        </a:lnTo>
                        <a:lnTo>
                          <a:pt x="2368" y="885"/>
                        </a:lnTo>
                        <a:lnTo>
                          <a:pt x="2374" y="899"/>
                        </a:lnTo>
                        <a:lnTo>
                          <a:pt x="2384" y="911"/>
                        </a:lnTo>
                        <a:lnTo>
                          <a:pt x="2397" y="920"/>
                        </a:lnTo>
                        <a:lnTo>
                          <a:pt x="2415" y="917"/>
                        </a:lnTo>
                        <a:lnTo>
                          <a:pt x="2429" y="909"/>
                        </a:lnTo>
                        <a:lnTo>
                          <a:pt x="2444" y="902"/>
                        </a:lnTo>
                        <a:lnTo>
                          <a:pt x="2455" y="892"/>
                        </a:lnTo>
                        <a:lnTo>
                          <a:pt x="2467" y="882"/>
                        </a:lnTo>
                        <a:lnTo>
                          <a:pt x="2478" y="872"/>
                        </a:lnTo>
                        <a:lnTo>
                          <a:pt x="2490" y="860"/>
                        </a:lnTo>
                        <a:lnTo>
                          <a:pt x="2500" y="849"/>
                        </a:lnTo>
                        <a:lnTo>
                          <a:pt x="2504" y="841"/>
                        </a:lnTo>
                        <a:lnTo>
                          <a:pt x="2509" y="834"/>
                        </a:lnTo>
                        <a:lnTo>
                          <a:pt x="2512" y="827"/>
                        </a:lnTo>
                        <a:lnTo>
                          <a:pt x="2510" y="818"/>
                        </a:lnTo>
                        <a:lnTo>
                          <a:pt x="2507" y="801"/>
                        </a:lnTo>
                        <a:lnTo>
                          <a:pt x="2506" y="784"/>
                        </a:lnTo>
                        <a:lnTo>
                          <a:pt x="2506" y="766"/>
                        </a:lnTo>
                        <a:lnTo>
                          <a:pt x="2506" y="750"/>
                        </a:lnTo>
                        <a:lnTo>
                          <a:pt x="2510" y="756"/>
                        </a:lnTo>
                        <a:lnTo>
                          <a:pt x="2515" y="760"/>
                        </a:lnTo>
                        <a:lnTo>
                          <a:pt x="2520" y="766"/>
                        </a:lnTo>
                        <a:lnTo>
                          <a:pt x="2526" y="771"/>
                        </a:lnTo>
                        <a:lnTo>
                          <a:pt x="2535" y="763"/>
                        </a:lnTo>
                        <a:lnTo>
                          <a:pt x="2541" y="752"/>
                        </a:lnTo>
                        <a:lnTo>
                          <a:pt x="2544" y="740"/>
                        </a:lnTo>
                        <a:lnTo>
                          <a:pt x="2549" y="729"/>
                        </a:lnTo>
                        <a:lnTo>
                          <a:pt x="2551" y="729"/>
                        </a:lnTo>
                        <a:lnTo>
                          <a:pt x="2554" y="742"/>
                        </a:lnTo>
                        <a:lnTo>
                          <a:pt x="2555" y="755"/>
                        </a:lnTo>
                        <a:lnTo>
                          <a:pt x="2557" y="768"/>
                        </a:lnTo>
                        <a:lnTo>
                          <a:pt x="2558" y="781"/>
                        </a:lnTo>
                        <a:lnTo>
                          <a:pt x="2564" y="778"/>
                        </a:lnTo>
                        <a:lnTo>
                          <a:pt x="2568" y="775"/>
                        </a:lnTo>
                        <a:lnTo>
                          <a:pt x="2572" y="772"/>
                        </a:lnTo>
                        <a:lnTo>
                          <a:pt x="2578" y="769"/>
                        </a:lnTo>
                        <a:lnTo>
                          <a:pt x="2587" y="759"/>
                        </a:lnTo>
                        <a:lnTo>
                          <a:pt x="2596" y="749"/>
                        </a:lnTo>
                        <a:lnTo>
                          <a:pt x="2606" y="740"/>
                        </a:lnTo>
                        <a:lnTo>
                          <a:pt x="2616" y="736"/>
                        </a:lnTo>
                        <a:lnTo>
                          <a:pt x="2609" y="752"/>
                        </a:lnTo>
                        <a:lnTo>
                          <a:pt x="2603" y="768"/>
                        </a:lnTo>
                        <a:lnTo>
                          <a:pt x="2597" y="785"/>
                        </a:lnTo>
                        <a:lnTo>
                          <a:pt x="2593" y="801"/>
                        </a:lnTo>
                        <a:lnTo>
                          <a:pt x="2598" y="802"/>
                        </a:lnTo>
                        <a:lnTo>
                          <a:pt x="2604" y="804"/>
                        </a:lnTo>
                        <a:lnTo>
                          <a:pt x="2610" y="805"/>
                        </a:lnTo>
                        <a:lnTo>
                          <a:pt x="2616" y="807"/>
                        </a:lnTo>
                        <a:lnTo>
                          <a:pt x="2622" y="808"/>
                        </a:lnTo>
                        <a:lnTo>
                          <a:pt x="2627" y="810"/>
                        </a:lnTo>
                        <a:lnTo>
                          <a:pt x="2633" y="811"/>
                        </a:lnTo>
                        <a:lnTo>
                          <a:pt x="2639" y="813"/>
                        </a:lnTo>
                        <a:lnTo>
                          <a:pt x="2627" y="820"/>
                        </a:lnTo>
                        <a:lnTo>
                          <a:pt x="2614" y="826"/>
                        </a:lnTo>
                        <a:lnTo>
                          <a:pt x="2601" y="831"/>
                        </a:lnTo>
                        <a:lnTo>
                          <a:pt x="2587" y="837"/>
                        </a:lnTo>
                        <a:lnTo>
                          <a:pt x="2572" y="843"/>
                        </a:lnTo>
                        <a:lnTo>
                          <a:pt x="2559" y="850"/>
                        </a:lnTo>
                        <a:lnTo>
                          <a:pt x="2549" y="859"/>
                        </a:lnTo>
                        <a:lnTo>
                          <a:pt x="2541" y="870"/>
                        </a:lnTo>
                        <a:lnTo>
                          <a:pt x="2531" y="888"/>
                        </a:lnTo>
                        <a:lnTo>
                          <a:pt x="2520" y="907"/>
                        </a:lnTo>
                        <a:lnTo>
                          <a:pt x="2510" y="924"/>
                        </a:lnTo>
                        <a:lnTo>
                          <a:pt x="2500" y="941"/>
                        </a:lnTo>
                        <a:lnTo>
                          <a:pt x="2487" y="959"/>
                        </a:lnTo>
                        <a:lnTo>
                          <a:pt x="2474" y="974"/>
                        </a:lnTo>
                        <a:lnTo>
                          <a:pt x="2460" y="987"/>
                        </a:lnTo>
                        <a:lnTo>
                          <a:pt x="2442" y="1000"/>
                        </a:lnTo>
                        <a:lnTo>
                          <a:pt x="2423" y="1006"/>
                        </a:lnTo>
                        <a:lnTo>
                          <a:pt x="2403" y="1008"/>
                        </a:lnTo>
                        <a:lnTo>
                          <a:pt x="2384" y="1006"/>
                        </a:lnTo>
                        <a:lnTo>
                          <a:pt x="2366" y="1002"/>
                        </a:lnTo>
                        <a:lnTo>
                          <a:pt x="2347" y="995"/>
                        </a:lnTo>
                        <a:lnTo>
                          <a:pt x="2329" y="986"/>
                        </a:lnTo>
                        <a:lnTo>
                          <a:pt x="2314" y="977"/>
                        </a:lnTo>
                        <a:lnTo>
                          <a:pt x="2298" y="967"/>
                        </a:lnTo>
                        <a:lnTo>
                          <a:pt x="2290" y="961"/>
                        </a:lnTo>
                        <a:lnTo>
                          <a:pt x="2285" y="956"/>
                        </a:lnTo>
                        <a:lnTo>
                          <a:pt x="2279" y="950"/>
                        </a:lnTo>
                        <a:lnTo>
                          <a:pt x="2274" y="943"/>
                        </a:lnTo>
                        <a:lnTo>
                          <a:pt x="2269" y="935"/>
                        </a:lnTo>
                        <a:lnTo>
                          <a:pt x="2264" y="928"/>
                        </a:lnTo>
                        <a:lnTo>
                          <a:pt x="2260" y="921"/>
                        </a:lnTo>
                        <a:lnTo>
                          <a:pt x="2254" y="915"/>
                        </a:lnTo>
                        <a:lnTo>
                          <a:pt x="2250" y="921"/>
                        </a:lnTo>
                        <a:lnTo>
                          <a:pt x="2246" y="928"/>
                        </a:lnTo>
                        <a:lnTo>
                          <a:pt x="2243" y="935"/>
                        </a:lnTo>
                        <a:lnTo>
                          <a:pt x="2240" y="944"/>
                        </a:lnTo>
                        <a:lnTo>
                          <a:pt x="2227" y="967"/>
                        </a:lnTo>
                        <a:lnTo>
                          <a:pt x="2214" y="990"/>
                        </a:lnTo>
                        <a:lnTo>
                          <a:pt x="2199" y="1013"/>
                        </a:lnTo>
                        <a:lnTo>
                          <a:pt x="2185" y="1035"/>
                        </a:lnTo>
                        <a:lnTo>
                          <a:pt x="2167" y="1057"/>
                        </a:lnTo>
                        <a:lnTo>
                          <a:pt x="2149" y="1074"/>
                        </a:lnTo>
                        <a:lnTo>
                          <a:pt x="2127" y="1092"/>
                        </a:lnTo>
                        <a:lnTo>
                          <a:pt x="2102" y="1105"/>
                        </a:lnTo>
                        <a:lnTo>
                          <a:pt x="2091" y="1110"/>
                        </a:lnTo>
                        <a:lnTo>
                          <a:pt x="2079" y="1116"/>
                        </a:lnTo>
                        <a:lnTo>
                          <a:pt x="2068" y="1120"/>
                        </a:lnTo>
                        <a:lnTo>
                          <a:pt x="2055" y="1126"/>
                        </a:lnTo>
                        <a:lnTo>
                          <a:pt x="2042" y="1131"/>
                        </a:lnTo>
                        <a:lnTo>
                          <a:pt x="2030" y="1135"/>
                        </a:lnTo>
                        <a:lnTo>
                          <a:pt x="2017" y="1138"/>
                        </a:lnTo>
                        <a:lnTo>
                          <a:pt x="2004" y="1141"/>
                        </a:lnTo>
                        <a:lnTo>
                          <a:pt x="2004" y="1141"/>
                        </a:lnTo>
                        <a:lnTo>
                          <a:pt x="1968" y="1148"/>
                        </a:lnTo>
                        <a:lnTo>
                          <a:pt x="1968" y="1148"/>
                        </a:lnTo>
                        <a:lnTo>
                          <a:pt x="1945" y="1151"/>
                        </a:lnTo>
                        <a:lnTo>
                          <a:pt x="1923" y="1152"/>
                        </a:lnTo>
                        <a:lnTo>
                          <a:pt x="1901" y="1154"/>
                        </a:lnTo>
                        <a:lnTo>
                          <a:pt x="1880" y="1155"/>
                        </a:lnTo>
                        <a:lnTo>
                          <a:pt x="1856" y="1157"/>
                        </a:lnTo>
                        <a:lnTo>
                          <a:pt x="1835" y="1158"/>
                        </a:lnTo>
                        <a:lnTo>
                          <a:pt x="1813" y="1160"/>
                        </a:lnTo>
                        <a:lnTo>
                          <a:pt x="1790" y="1162"/>
                        </a:lnTo>
                        <a:lnTo>
                          <a:pt x="1784" y="1162"/>
                        </a:lnTo>
                        <a:lnTo>
                          <a:pt x="1778" y="1162"/>
                        </a:lnTo>
                        <a:lnTo>
                          <a:pt x="1773" y="1162"/>
                        </a:lnTo>
                        <a:lnTo>
                          <a:pt x="1767" y="1164"/>
                        </a:lnTo>
                        <a:lnTo>
                          <a:pt x="1759" y="1164"/>
                        </a:lnTo>
                        <a:lnTo>
                          <a:pt x="1754" y="1165"/>
                        </a:lnTo>
                        <a:lnTo>
                          <a:pt x="1748" y="1164"/>
                        </a:lnTo>
                        <a:lnTo>
                          <a:pt x="1742" y="1164"/>
                        </a:lnTo>
                        <a:lnTo>
                          <a:pt x="1731" y="1165"/>
                        </a:lnTo>
                        <a:lnTo>
                          <a:pt x="1719" y="1165"/>
                        </a:lnTo>
                        <a:lnTo>
                          <a:pt x="1707" y="1165"/>
                        </a:lnTo>
                        <a:lnTo>
                          <a:pt x="1697" y="1165"/>
                        </a:lnTo>
                        <a:lnTo>
                          <a:pt x="1686" y="1165"/>
                        </a:lnTo>
                        <a:lnTo>
                          <a:pt x="1676" y="1164"/>
                        </a:lnTo>
                        <a:lnTo>
                          <a:pt x="1664" y="1164"/>
                        </a:lnTo>
                        <a:lnTo>
                          <a:pt x="1654" y="1164"/>
                        </a:lnTo>
                        <a:lnTo>
                          <a:pt x="1642" y="1164"/>
                        </a:lnTo>
                        <a:lnTo>
                          <a:pt x="1631" y="1165"/>
                        </a:lnTo>
                        <a:lnTo>
                          <a:pt x="1619" y="1165"/>
                        </a:lnTo>
                        <a:lnTo>
                          <a:pt x="1606" y="1165"/>
                        </a:lnTo>
                        <a:lnTo>
                          <a:pt x="1595" y="1167"/>
                        </a:lnTo>
                        <a:lnTo>
                          <a:pt x="1583" y="1168"/>
                        </a:lnTo>
                        <a:lnTo>
                          <a:pt x="1570" y="1170"/>
                        </a:lnTo>
                        <a:lnTo>
                          <a:pt x="1558" y="1171"/>
                        </a:lnTo>
                        <a:lnTo>
                          <a:pt x="1558" y="1170"/>
                        </a:lnTo>
                        <a:lnTo>
                          <a:pt x="1550" y="1171"/>
                        </a:lnTo>
                        <a:lnTo>
                          <a:pt x="1542" y="1173"/>
                        </a:lnTo>
                        <a:lnTo>
                          <a:pt x="1535" y="1173"/>
                        </a:lnTo>
                        <a:lnTo>
                          <a:pt x="1528" y="1174"/>
                        </a:lnTo>
                        <a:lnTo>
                          <a:pt x="1519" y="1175"/>
                        </a:lnTo>
                        <a:lnTo>
                          <a:pt x="1512" y="1177"/>
                        </a:lnTo>
                        <a:lnTo>
                          <a:pt x="1505" y="1180"/>
                        </a:lnTo>
                        <a:lnTo>
                          <a:pt x="1496" y="1181"/>
                        </a:lnTo>
                        <a:lnTo>
                          <a:pt x="1495" y="1181"/>
                        </a:lnTo>
                        <a:lnTo>
                          <a:pt x="1475" y="1187"/>
                        </a:lnTo>
                        <a:lnTo>
                          <a:pt x="1456" y="1193"/>
                        </a:lnTo>
                        <a:lnTo>
                          <a:pt x="1435" y="1199"/>
                        </a:lnTo>
                        <a:lnTo>
                          <a:pt x="1415" y="1207"/>
                        </a:lnTo>
                        <a:lnTo>
                          <a:pt x="1396" y="1214"/>
                        </a:lnTo>
                        <a:lnTo>
                          <a:pt x="1378" y="1225"/>
                        </a:lnTo>
                        <a:lnTo>
                          <a:pt x="1362" y="1235"/>
                        </a:lnTo>
                        <a:lnTo>
                          <a:pt x="1346" y="1246"/>
                        </a:lnTo>
                        <a:lnTo>
                          <a:pt x="1370" y="1259"/>
                        </a:lnTo>
                        <a:lnTo>
                          <a:pt x="1393" y="1274"/>
                        </a:lnTo>
                        <a:lnTo>
                          <a:pt x="1415" y="1291"/>
                        </a:lnTo>
                        <a:lnTo>
                          <a:pt x="1435" y="1311"/>
                        </a:lnTo>
                        <a:lnTo>
                          <a:pt x="1454" y="1332"/>
                        </a:lnTo>
                        <a:lnTo>
                          <a:pt x="1473" y="1355"/>
                        </a:lnTo>
                        <a:lnTo>
                          <a:pt x="1490" y="1378"/>
                        </a:lnTo>
                        <a:lnTo>
                          <a:pt x="1506" y="1401"/>
                        </a:lnTo>
                        <a:lnTo>
                          <a:pt x="1515" y="1411"/>
                        </a:lnTo>
                        <a:lnTo>
                          <a:pt x="1525" y="1420"/>
                        </a:lnTo>
                        <a:lnTo>
                          <a:pt x="1537" y="1428"/>
                        </a:lnTo>
                        <a:lnTo>
                          <a:pt x="1548" y="1436"/>
                        </a:lnTo>
                        <a:lnTo>
                          <a:pt x="1563" y="1430"/>
                        </a:lnTo>
                        <a:lnTo>
                          <a:pt x="1576" y="1423"/>
                        </a:lnTo>
                        <a:lnTo>
                          <a:pt x="1587" y="1414"/>
                        </a:lnTo>
                        <a:lnTo>
                          <a:pt x="1599" y="1404"/>
                        </a:lnTo>
                        <a:lnTo>
                          <a:pt x="1609" y="1394"/>
                        </a:lnTo>
                        <a:lnTo>
                          <a:pt x="1618" y="1382"/>
                        </a:lnTo>
                        <a:lnTo>
                          <a:pt x="1628" y="1372"/>
                        </a:lnTo>
                        <a:lnTo>
                          <a:pt x="1638" y="1362"/>
                        </a:lnTo>
                        <a:lnTo>
                          <a:pt x="1644" y="1356"/>
                        </a:lnTo>
                        <a:lnTo>
                          <a:pt x="1648" y="1349"/>
                        </a:lnTo>
                        <a:lnTo>
                          <a:pt x="1652" y="1343"/>
                        </a:lnTo>
                        <a:lnTo>
                          <a:pt x="1658" y="1337"/>
                        </a:lnTo>
                        <a:lnTo>
                          <a:pt x="1658" y="1352"/>
                        </a:lnTo>
                        <a:lnTo>
                          <a:pt x="1655" y="1366"/>
                        </a:lnTo>
                        <a:lnTo>
                          <a:pt x="1650" y="1384"/>
                        </a:lnTo>
                        <a:lnTo>
                          <a:pt x="1644" y="1401"/>
                        </a:lnTo>
                        <a:lnTo>
                          <a:pt x="1654" y="1395"/>
                        </a:lnTo>
                        <a:lnTo>
                          <a:pt x="1663" y="1389"/>
                        </a:lnTo>
                        <a:lnTo>
                          <a:pt x="1671" y="1382"/>
                        </a:lnTo>
                        <a:lnTo>
                          <a:pt x="1681" y="1375"/>
                        </a:lnTo>
                        <a:lnTo>
                          <a:pt x="1690" y="1369"/>
                        </a:lnTo>
                        <a:lnTo>
                          <a:pt x="1700" y="1363"/>
                        </a:lnTo>
                        <a:lnTo>
                          <a:pt x="1710" y="1359"/>
                        </a:lnTo>
                        <a:lnTo>
                          <a:pt x="1722" y="1355"/>
                        </a:lnTo>
                        <a:lnTo>
                          <a:pt x="1710" y="1369"/>
                        </a:lnTo>
                        <a:lnTo>
                          <a:pt x="1699" y="1382"/>
                        </a:lnTo>
                        <a:lnTo>
                          <a:pt x="1689" y="1398"/>
                        </a:lnTo>
                        <a:lnTo>
                          <a:pt x="1681" y="1415"/>
                        </a:lnTo>
                        <a:lnTo>
                          <a:pt x="1689" y="1415"/>
                        </a:lnTo>
                        <a:lnTo>
                          <a:pt x="1694" y="1414"/>
                        </a:lnTo>
                        <a:lnTo>
                          <a:pt x="1702" y="1413"/>
                        </a:lnTo>
                        <a:lnTo>
                          <a:pt x="1707" y="1411"/>
                        </a:lnTo>
                        <a:lnTo>
                          <a:pt x="1707" y="1413"/>
                        </a:lnTo>
                        <a:lnTo>
                          <a:pt x="1716" y="1411"/>
                        </a:lnTo>
                        <a:lnTo>
                          <a:pt x="1726" y="1410"/>
                        </a:lnTo>
                        <a:lnTo>
                          <a:pt x="1735" y="1410"/>
                        </a:lnTo>
                        <a:lnTo>
                          <a:pt x="1744" y="1410"/>
                        </a:lnTo>
                        <a:lnTo>
                          <a:pt x="1752" y="1410"/>
                        </a:lnTo>
                        <a:lnTo>
                          <a:pt x="1761" y="1413"/>
                        </a:lnTo>
                        <a:lnTo>
                          <a:pt x="1770" y="1415"/>
                        </a:lnTo>
                        <a:lnTo>
                          <a:pt x="1777" y="1420"/>
                        </a:lnTo>
                        <a:lnTo>
                          <a:pt x="1767" y="1421"/>
                        </a:lnTo>
                        <a:lnTo>
                          <a:pt x="1758" y="1424"/>
                        </a:lnTo>
                        <a:lnTo>
                          <a:pt x="1748" y="1427"/>
                        </a:lnTo>
                        <a:lnTo>
                          <a:pt x="1738" y="1430"/>
                        </a:lnTo>
                        <a:lnTo>
                          <a:pt x="1726" y="1433"/>
                        </a:lnTo>
                        <a:lnTo>
                          <a:pt x="1716" y="1436"/>
                        </a:lnTo>
                        <a:lnTo>
                          <a:pt x="1707" y="1440"/>
                        </a:lnTo>
                        <a:lnTo>
                          <a:pt x="1697" y="1444"/>
                        </a:lnTo>
                        <a:lnTo>
                          <a:pt x="1702" y="1452"/>
                        </a:lnTo>
                        <a:lnTo>
                          <a:pt x="1709" y="1456"/>
                        </a:lnTo>
                        <a:lnTo>
                          <a:pt x="1718" y="1460"/>
                        </a:lnTo>
                        <a:lnTo>
                          <a:pt x="1725" y="1463"/>
                        </a:lnTo>
                        <a:lnTo>
                          <a:pt x="1732" y="1467"/>
                        </a:lnTo>
                        <a:lnTo>
                          <a:pt x="1739" y="1472"/>
                        </a:lnTo>
                        <a:lnTo>
                          <a:pt x="1746" y="1476"/>
                        </a:lnTo>
                        <a:lnTo>
                          <a:pt x="1752" y="1480"/>
                        </a:lnTo>
                        <a:lnTo>
                          <a:pt x="1758" y="1485"/>
                        </a:lnTo>
                        <a:lnTo>
                          <a:pt x="1764" y="1491"/>
                        </a:lnTo>
                        <a:lnTo>
                          <a:pt x="1768" y="1496"/>
                        </a:lnTo>
                        <a:lnTo>
                          <a:pt x="1773" y="1502"/>
                        </a:lnTo>
                        <a:lnTo>
                          <a:pt x="1762" y="1501"/>
                        </a:lnTo>
                        <a:lnTo>
                          <a:pt x="1752" y="1499"/>
                        </a:lnTo>
                        <a:lnTo>
                          <a:pt x="1742" y="1496"/>
                        </a:lnTo>
                        <a:lnTo>
                          <a:pt x="1732" y="1495"/>
                        </a:lnTo>
                        <a:lnTo>
                          <a:pt x="1722" y="1495"/>
                        </a:lnTo>
                        <a:lnTo>
                          <a:pt x="1712" y="1495"/>
                        </a:lnTo>
                        <a:lnTo>
                          <a:pt x="1700" y="1496"/>
                        </a:lnTo>
                        <a:lnTo>
                          <a:pt x="1690" y="1501"/>
                        </a:lnTo>
                        <a:lnTo>
                          <a:pt x="1693" y="1508"/>
                        </a:lnTo>
                        <a:lnTo>
                          <a:pt x="1697" y="1512"/>
                        </a:lnTo>
                        <a:lnTo>
                          <a:pt x="1702" y="1518"/>
                        </a:lnTo>
                        <a:lnTo>
                          <a:pt x="1706" y="1524"/>
                        </a:lnTo>
                        <a:lnTo>
                          <a:pt x="1715" y="1534"/>
                        </a:lnTo>
                        <a:lnTo>
                          <a:pt x="1723" y="1546"/>
                        </a:lnTo>
                        <a:lnTo>
                          <a:pt x="1732" y="1556"/>
                        </a:lnTo>
                        <a:lnTo>
                          <a:pt x="1741" y="1567"/>
                        </a:lnTo>
                        <a:lnTo>
                          <a:pt x="1736" y="1569"/>
                        </a:lnTo>
                        <a:lnTo>
                          <a:pt x="1726" y="1564"/>
                        </a:lnTo>
                        <a:lnTo>
                          <a:pt x="1718" y="1560"/>
                        </a:lnTo>
                        <a:lnTo>
                          <a:pt x="1707" y="1556"/>
                        </a:lnTo>
                        <a:lnTo>
                          <a:pt x="1697" y="1551"/>
                        </a:lnTo>
                        <a:lnTo>
                          <a:pt x="1687" y="1548"/>
                        </a:lnTo>
                        <a:lnTo>
                          <a:pt x="1678" y="1546"/>
                        </a:lnTo>
                        <a:lnTo>
                          <a:pt x="1668" y="1543"/>
                        </a:lnTo>
                        <a:lnTo>
                          <a:pt x="1658" y="1541"/>
                        </a:lnTo>
                        <a:lnTo>
                          <a:pt x="1608" y="1559"/>
                        </a:lnTo>
                        <a:lnTo>
                          <a:pt x="1605" y="1557"/>
                        </a:lnTo>
                        <a:lnTo>
                          <a:pt x="1600" y="1557"/>
                        </a:lnTo>
                        <a:lnTo>
                          <a:pt x="1596" y="1557"/>
                        </a:lnTo>
                        <a:lnTo>
                          <a:pt x="1593" y="1557"/>
                        </a:lnTo>
                        <a:lnTo>
                          <a:pt x="1587" y="1557"/>
                        </a:lnTo>
                        <a:lnTo>
                          <a:pt x="1582" y="1557"/>
                        </a:lnTo>
                        <a:lnTo>
                          <a:pt x="1577" y="1556"/>
                        </a:lnTo>
                        <a:lnTo>
                          <a:pt x="1571" y="1554"/>
                        </a:lnTo>
                        <a:lnTo>
                          <a:pt x="1566" y="1553"/>
                        </a:lnTo>
                        <a:lnTo>
                          <a:pt x="1560" y="1551"/>
                        </a:lnTo>
                        <a:lnTo>
                          <a:pt x="1554" y="1550"/>
                        </a:lnTo>
                        <a:lnTo>
                          <a:pt x="1548" y="1550"/>
                        </a:lnTo>
                        <a:lnTo>
                          <a:pt x="1522" y="1527"/>
                        </a:lnTo>
                        <a:lnTo>
                          <a:pt x="1496" y="1504"/>
                        </a:lnTo>
                        <a:lnTo>
                          <a:pt x="1472" y="1478"/>
                        </a:lnTo>
                        <a:lnTo>
                          <a:pt x="1446" y="1453"/>
                        </a:lnTo>
                        <a:lnTo>
                          <a:pt x="1420" y="1430"/>
                        </a:lnTo>
                        <a:lnTo>
                          <a:pt x="1392" y="1410"/>
                        </a:lnTo>
                        <a:lnTo>
                          <a:pt x="1360" y="1392"/>
                        </a:lnTo>
                        <a:lnTo>
                          <a:pt x="1326" y="1381"/>
                        </a:lnTo>
                        <a:lnTo>
                          <a:pt x="1315" y="1378"/>
                        </a:lnTo>
                        <a:lnTo>
                          <a:pt x="1304" y="1376"/>
                        </a:lnTo>
                        <a:lnTo>
                          <a:pt x="1292" y="1376"/>
                        </a:lnTo>
                        <a:lnTo>
                          <a:pt x="1281" y="1376"/>
                        </a:lnTo>
                        <a:lnTo>
                          <a:pt x="1268" y="1379"/>
                        </a:lnTo>
                        <a:lnTo>
                          <a:pt x="1258" y="1384"/>
                        </a:lnTo>
                        <a:lnTo>
                          <a:pt x="1247" y="1389"/>
                        </a:lnTo>
                        <a:lnTo>
                          <a:pt x="1239" y="1400"/>
                        </a:lnTo>
                        <a:lnTo>
                          <a:pt x="1216" y="1423"/>
                        </a:lnTo>
                        <a:lnTo>
                          <a:pt x="1194" y="1447"/>
                        </a:lnTo>
                        <a:lnTo>
                          <a:pt x="1171" y="1470"/>
                        </a:lnTo>
                        <a:lnTo>
                          <a:pt x="1148" y="1492"/>
                        </a:lnTo>
                        <a:lnTo>
                          <a:pt x="1124" y="1515"/>
                        </a:lnTo>
                        <a:lnTo>
                          <a:pt x="1101" y="1538"/>
                        </a:lnTo>
                        <a:lnTo>
                          <a:pt x="1078" y="1563"/>
                        </a:lnTo>
                        <a:lnTo>
                          <a:pt x="1055" y="1586"/>
                        </a:lnTo>
                        <a:lnTo>
                          <a:pt x="1036" y="1600"/>
                        </a:lnTo>
                        <a:lnTo>
                          <a:pt x="1019" y="1616"/>
                        </a:lnTo>
                        <a:lnTo>
                          <a:pt x="999" y="1629"/>
                        </a:lnTo>
                        <a:lnTo>
                          <a:pt x="980" y="1644"/>
                        </a:lnTo>
                        <a:lnTo>
                          <a:pt x="960" y="1657"/>
                        </a:lnTo>
                        <a:lnTo>
                          <a:pt x="939" y="1670"/>
                        </a:lnTo>
                        <a:lnTo>
                          <a:pt x="918" y="1683"/>
                        </a:lnTo>
                        <a:lnTo>
                          <a:pt x="896" y="1694"/>
                        </a:lnTo>
                        <a:lnTo>
                          <a:pt x="874" y="1706"/>
                        </a:lnTo>
                        <a:lnTo>
                          <a:pt x="851" y="1718"/>
                        </a:lnTo>
                        <a:lnTo>
                          <a:pt x="828" y="1728"/>
                        </a:lnTo>
                        <a:lnTo>
                          <a:pt x="805" y="1738"/>
                        </a:lnTo>
                        <a:lnTo>
                          <a:pt x="780" y="1748"/>
                        </a:lnTo>
                        <a:lnTo>
                          <a:pt x="756" y="1757"/>
                        </a:lnTo>
                        <a:lnTo>
                          <a:pt x="731" y="1765"/>
                        </a:lnTo>
                        <a:lnTo>
                          <a:pt x="705" y="1773"/>
                        </a:lnTo>
                        <a:lnTo>
                          <a:pt x="703" y="1771"/>
                        </a:lnTo>
                        <a:lnTo>
                          <a:pt x="662" y="1781"/>
                        </a:lnTo>
                        <a:lnTo>
                          <a:pt x="662" y="1781"/>
                        </a:lnTo>
                        <a:lnTo>
                          <a:pt x="646" y="1784"/>
                        </a:lnTo>
                        <a:lnTo>
                          <a:pt x="628" y="1787"/>
                        </a:lnTo>
                        <a:lnTo>
                          <a:pt x="612" y="1788"/>
                        </a:lnTo>
                        <a:lnTo>
                          <a:pt x="596" y="1788"/>
                        </a:lnTo>
                        <a:lnTo>
                          <a:pt x="581" y="1790"/>
                        </a:lnTo>
                        <a:lnTo>
                          <a:pt x="565" y="1788"/>
                        </a:lnTo>
                        <a:lnTo>
                          <a:pt x="549" y="1788"/>
                        </a:lnTo>
                        <a:lnTo>
                          <a:pt x="533" y="1787"/>
                        </a:lnTo>
                        <a:lnTo>
                          <a:pt x="517" y="1786"/>
                        </a:lnTo>
                        <a:lnTo>
                          <a:pt x="501" y="1784"/>
                        </a:lnTo>
                        <a:lnTo>
                          <a:pt x="485" y="1783"/>
                        </a:lnTo>
                        <a:lnTo>
                          <a:pt x="469" y="1781"/>
                        </a:lnTo>
                        <a:lnTo>
                          <a:pt x="453" y="1778"/>
                        </a:lnTo>
                        <a:lnTo>
                          <a:pt x="437" y="1777"/>
                        </a:lnTo>
                        <a:lnTo>
                          <a:pt x="421" y="1775"/>
                        </a:lnTo>
                        <a:lnTo>
                          <a:pt x="405" y="1774"/>
                        </a:lnTo>
                        <a:lnTo>
                          <a:pt x="397" y="1771"/>
                        </a:lnTo>
                        <a:lnTo>
                          <a:pt x="387" y="1767"/>
                        </a:lnTo>
                        <a:lnTo>
                          <a:pt x="378" y="1764"/>
                        </a:lnTo>
                        <a:lnTo>
                          <a:pt x="369" y="1760"/>
                        </a:lnTo>
                        <a:lnTo>
                          <a:pt x="359" y="1755"/>
                        </a:lnTo>
                        <a:lnTo>
                          <a:pt x="351" y="1751"/>
                        </a:lnTo>
                        <a:lnTo>
                          <a:pt x="340" y="1747"/>
                        </a:lnTo>
                        <a:lnTo>
                          <a:pt x="332" y="1744"/>
                        </a:lnTo>
                        <a:lnTo>
                          <a:pt x="304" y="1735"/>
                        </a:lnTo>
                        <a:lnTo>
                          <a:pt x="280" y="1723"/>
                        </a:lnTo>
                        <a:lnTo>
                          <a:pt x="255" y="1710"/>
                        </a:lnTo>
                        <a:lnTo>
                          <a:pt x="232" y="1696"/>
                        </a:lnTo>
                        <a:lnTo>
                          <a:pt x="209" y="1679"/>
                        </a:lnTo>
                        <a:lnTo>
                          <a:pt x="187" y="1663"/>
                        </a:lnTo>
                        <a:lnTo>
                          <a:pt x="167" y="1644"/>
                        </a:lnTo>
                        <a:lnTo>
                          <a:pt x="147" y="1627"/>
                        </a:lnTo>
                        <a:lnTo>
                          <a:pt x="132" y="1612"/>
                        </a:lnTo>
                        <a:lnTo>
                          <a:pt x="118" y="1598"/>
                        </a:lnTo>
                        <a:lnTo>
                          <a:pt x="105" y="1583"/>
                        </a:lnTo>
                        <a:lnTo>
                          <a:pt x="92" y="1569"/>
                        </a:lnTo>
                        <a:lnTo>
                          <a:pt x="79" y="1553"/>
                        </a:lnTo>
                        <a:lnTo>
                          <a:pt x="67" y="1535"/>
                        </a:lnTo>
                        <a:lnTo>
                          <a:pt x="55" y="1517"/>
                        </a:lnTo>
                        <a:lnTo>
                          <a:pt x="45" y="1498"/>
                        </a:lnTo>
                        <a:lnTo>
                          <a:pt x="35" y="1473"/>
                        </a:lnTo>
                        <a:lnTo>
                          <a:pt x="26" y="1447"/>
                        </a:lnTo>
                        <a:lnTo>
                          <a:pt x="19" y="1421"/>
                        </a:lnTo>
                        <a:lnTo>
                          <a:pt x="12" y="1395"/>
                        </a:lnTo>
                        <a:lnTo>
                          <a:pt x="13" y="1394"/>
                        </a:lnTo>
                        <a:lnTo>
                          <a:pt x="6" y="1360"/>
                        </a:lnTo>
                        <a:lnTo>
                          <a:pt x="6" y="1356"/>
                        </a:lnTo>
                        <a:lnTo>
                          <a:pt x="6" y="1349"/>
                        </a:lnTo>
                        <a:lnTo>
                          <a:pt x="5" y="1343"/>
                        </a:lnTo>
                        <a:lnTo>
                          <a:pt x="3" y="1337"/>
                        </a:lnTo>
                        <a:lnTo>
                          <a:pt x="2" y="1308"/>
                        </a:lnTo>
                        <a:lnTo>
                          <a:pt x="0" y="1278"/>
                        </a:lnTo>
                        <a:lnTo>
                          <a:pt x="2" y="1249"/>
                        </a:lnTo>
                        <a:lnTo>
                          <a:pt x="5" y="1220"/>
                        </a:lnTo>
                        <a:lnTo>
                          <a:pt x="11" y="1200"/>
                        </a:lnTo>
                        <a:lnTo>
                          <a:pt x="16" y="1181"/>
                        </a:lnTo>
                        <a:lnTo>
                          <a:pt x="22" y="1161"/>
                        </a:lnTo>
                        <a:lnTo>
                          <a:pt x="28" y="1141"/>
                        </a:lnTo>
                        <a:lnTo>
                          <a:pt x="34" y="1120"/>
                        </a:lnTo>
                        <a:lnTo>
                          <a:pt x="40" y="1102"/>
                        </a:lnTo>
                        <a:lnTo>
                          <a:pt x="48" y="1083"/>
                        </a:lnTo>
                        <a:lnTo>
                          <a:pt x="58" y="1064"/>
                        </a:lnTo>
                        <a:lnTo>
                          <a:pt x="57" y="1073"/>
                        </a:lnTo>
                        <a:lnTo>
                          <a:pt x="55" y="1081"/>
                        </a:lnTo>
                        <a:lnTo>
                          <a:pt x="54" y="1092"/>
                        </a:lnTo>
                        <a:lnTo>
                          <a:pt x="53" y="1100"/>
                        </a:lnTo>
                        <a:lnTo>
                          <a:pt x="41" y="1152"/>
                        </a:lnTo>
                        <a:lnTo>
                          <a:pt x="37" y="1206"/>
                        </a:lnTo>
                        <a:lnTo>
                          <a:pt x="37" y="1259"/>
                        </a:lnTo>
                        <a:lnTo>
                          <a:pt x="40" y="1314"/>
                        </a:lnTo>
                        <a:lnTo>
                          <a:pt x="41" y="1327"/>
                        </a:lnTo>
                        <a:lnTo>
                          <a:pt x="42" y="1339"/>
                        </a:lnTo>
                        <a:lnTo>
                          <a:pt x="45" y="1352"/>
                        </a:lnTo>
                        <a:lnTo>
                          <a:pt x="47" y="1365"/>
                        </a:lnTo>
                        <a:lnTo>
                          <a:pt x="60" y="1417"/>
                        </a:lnTo>
                        <a:lnTo>
                          <a:pt x="60" y="1417"/>
                        </a:lnTo>
                        <a:lnTo>
                          <a:pt x="68" y="1441"/>
                        </a:lnTo>
                        <a:lnTo>
                          <a:pt x="79" y="1465"/>
                        </a:lnTo>
                        <a:lnTo>
                          <a:pt x="90" y="1488"/>
                        </a:lnTo>
                        <a:lnTo>
                          <a:pt x="105" y="1508"/>
                        </a:lnTo>
                        <a:lnTo>
                          <a:pt x="119" y="1528"/>
                        </a:lnTo>
                        <a:lnTo>
                          <a:pt x="135" y="1546"/>
                        </a:lnTo>
                        <a:lnTo>
                          <a:pt x="152" y="1563"/>
                        </a:lnTo>
                        <a:lnTo>
                          <a:pt x="170" y="1579"/>
                        </a:lnTo>
                        <a:lnTo>
                          <a:pt x="191" y="1595"/>
                        </a:lnTo>
                        <a:lnTo>
                          <a:pt x="215" y="1609"/>
                        </a:lnTo>
                        <a:lnTo>
                          <a:pt x="238" y="1622"/>
                        </a:lnTo>
                        <a:lnTo>
                          <a:pt x="261" y="1634"/>
                        </a:lnTo>
                        <a:lnTo>
                          <a:pt x="285" y="1644"/>
                        </a:lnTo>
                        <a:lnTo>
                          <a:pt x="310" y="1654"/>
                        </a:lnTo>
                        <a:lnTo>
                          <a:pt x="335" y="1661"/>
                        </a:lnTo>
                        <a:lnTo>
                          <a:pt x="361" y="1667"/>
                        </a:lnTo>
                        <a:lnTo>
                          <a:pt x="387" y="1671"/>
                        </a:lnTo>
                        <a:lnTo>
                          <a:pt x="413" y="1674"/>
                        </a:lnTo>
                        <a:lnTo>
                          <a:pt x="440" y="1676"/>
                        </a:lnTo>
                        <a:lnTo>
                          <a:pt x="466" y="1676"/>
                        </a:lnTo>
                        <a:lnTo>
                          <a:pt x="494" y="1674"/>
                        </a:lnTo>
                        <a:lnTo>
                          <a:pt x="520" y="1670"/>
                        </a:lnTo>
                        <a:lnTo>
                          <a:pt x="547" y="1666"/>
                        </a:lnTo>
                        <a:lnTo>
                          <a:pt x="575" y="1658"/>
                        </a:lnTo>
                        <a:lnTo>
                          <a:pt x="575" y="1658"/>
                        </a:lnTo>
                        <a:lnTo>
                          <a:pt x="595" y="1654"/>
                        </a:lnTo>
                        <a:lnTo>
                          <a:pt x="615" y="1648"/>
                        </a:lnTo>
                        <a:lnTo>
                          <a:pt x="634" y="1641"/>
                        </a:lnTo>
                        <a:lnTo>
                          <a:pt x="653" y="1634"/>
                        </a:lnTo>
                        <a:lnTo>
                          <a:pt x="670" y="1627"/>
                        </a:lnTo>
                        <a:lnTo>
                          <a:pt x="686" y="1618"/>
                        </a:lnTo>
                        <a:lnTo>
                          <a:pt x="703" y="1608"/>
                        </a:lnTo>
                        <a:lnTo>
                          <a:pt x="719" y="1598"/>
                        </a:lnTo>
                        <a:lnTo>
                          <a:pt x="734" y="1587"/>
                        </a:lnTo>
                        <a:lnTo>
                          <a:pt x="750" y="1577"/>
                        </a:lnTo>
                        <a:lnTo>
                          <a:pt x="764" y="1567"/>
                        </a:lnTo>
                        <a:lnTo>
                          <a:pt x="779" y="1556"/>
                        </a:lnTo>
                        <a:lnTo>
                          <a:pt x="793" y="1544"/>
                        </a:lnTo>
                        <a:lnTo>
                          <a:pt x="808" y="1533"/>
                        </a:lnTo>
                        <a:lnTo>
                          <a:pt x="822" y="1522"/>
                        </a:lnTo>
                        <a:lnTo>
                          <a:pt x="837" y="1511"/>
                        </a:lnTo>
                        <a:lnTo>
                          <a:pt x="850" y="1499"/>
                        </a:lnTo>
                        <a:lnTo>
                          <a:pt x="861" y="1488"/>
                        </a:lnTo>
                        <a:lnTo>
                          <a:pt x="871" y="1475"/>
                        </a:lnTo>
                        <a:lnTo>
                          <a:pt x="881" y="1460"/>
                        </a:lnTo>
                        <a:lnTo>
                          <a:pt x="892" y="1446"/>
                        </a:lnTo>
                        <a:lnTo>
                          <a:pt x="900" y="1431"/>
                        </a:lnTo>
                        <a:lnTo>
                          <a:pt x="910" y="1418"/>
                        </a:lnTo>
                        <a:lnTo>
                          <a:pt x="920" y="1404"/>
                        </a:lnTo>
                        <a:lnTo>
                          <a:pt x="929" y="1395"/>
                        </a:lnTo>
                        <a:lnTo>
                          <a:pt x="936" y="1385"/>
                        </a:lnTo>
                        <a:lnTo>
                          <a:pt x="945" y="1375"/>
                        </a:lnTo>
                        <a:lnTo>
                          <a:pt x="952" y="1363"/>
                        </a:lnTo>
                        <a:lnTo>
                          <a:pt x="960" y="1353"/>
                        </a:lnTo>
                        <a:lnTo>
                          <a:pt x="965" y="1342"/>
                        </a:lnTo>
                        <a:lnTo>
                          <a:pt x="970" y="1329"/>
                        </a:lnTo>
                        <a:lnTo>
                          <a:pt x="973" y="1316"/>
                        </a:lnTo>
                        <a:lnTo>
                          <a:pt x="984" y="1294"/>
                        </a:lnTo>
                        <a:lnTo>
                          <a:pt x="994" y="1272"/>
                        </a:lnTo>
                        <a:lnTo>
                          <a:pt x="1004" y="1249"/>
                        </a:lnTo>
                        <a:lnTo>
                          <a:pt x="1014" y="1227"/>
                        </a:lnTo>
                        <a:lnTo>
                          <a:pt x="1026" y="1206"/>
                        </a:lnTo>
                        <a:lnTo>
                          <a:pt x="1039" y="1184"/>
                        </a:lnTo>
                        <a:lnTo>
                          <a:pt x="1054" y="1165"/>
                        </a:lnTo>
                        <a:lnTo>
                          <a:pt x="1069" y="1148"/>
                        </a:lnTo>
                        <a:lnTo>
                          <a:pt x="1075" y="1138"/>
                        </a:lnTo>
                        <a:lnTo>
                          <a:pt x="1080" y="1128"/>
                        </a:lnTo>
                        <a:lnTo>
                          <a:pt x="1080" y="1116"/>
                        </a:lnTo>
                        <a:lnTo>
                          <a:pt x="1075" y="1105"/>
                        </a:lnTo>
                        <a:lnTo>
                          <a:pt x="1075" y="1105"/>
                        </a:lnTo>
                        <a:lnTo>
                          <a:pt x="1071" y="1081"/>
                        </a:lnTo>
                        <a:lnTo>
                          <a:pt x="1068" y="1060"/>
                        </a:lnTo>
                        <a:lnTo>
                          <a:pt x="1069" y="1038"/>
                        </a:lnTo>
                        <a:lnTo>
                          <a:pt x="1072" y="1016"/>
                        </a:lnTo>
                        <a:lnTo>
                          <a:pt x="1078" y="995"/>
                        </a:lnTo>
                        <a:lnTo>
                          <a:pt x="1085" y="974"/>
                        </a:lnTo>
                        <a:lnTo>
                          <a:pt x="1094" y="954"/>
                        </a:lnTo>
                        <a:lnTo>
                          <a:pt x="1103" y="934"/>
                        </a:lnTo>
                        <a:lnTo>
                          <a:pt x="1114" y="918"/>
                        </a:lnTo>
                        <a:lnTo>
                          <a:pt x="1127" y="904"/>
                        </a:lnTo>
                        <a:lnTo>
                          <a:pt x="1139" y="888"/>
                        </a:lnTo>
                        <a:lnTo>
                          <a:pt x="1150" y="870"/>
                        </a:lnTo>
                        <a:lnTo>
                          <a:pt x="1161" y="853"/>
                        </a:lnTo>
                        <a:lnTo>
                          <a:pt x="1168" y="836"/>
                        </a:lnTo>
                        <a:lnTo>
                          <a:pt x="1172" y="817"/>
                        </a:lnTo>
                        <a:lnTo>
                          <a:pt x="1172" y="797"/>
                        </a:lnTo>
                        <a:lnTo>
                          <a:pt x="1165" y="762"/>
                        </a:lnTo>
                        <a:lnTo>
                          <a:pt x="1166" y="762"/>
                        </a:lnTo>
                        <a:lnTo>
                          <a:pt x="1162" y="746"/>
                        </a:lnTo>
                        <a:lnTo>
                          <a:pt x="1158" y="730"/>
                        </a:lnTo>
                        <a:lnTo>
                          <a:pt x="1152" y="716"/>
                        </a:lnTo>
                        <a:lnTo>
                          <a:pt x="1145" y="701"/>
                        </a:lnTo>
                        <a:lnTo>
                          <a:pt x="1137" y="687"/>
                        </a:lnTo>
                        <a:lnTo>
                          <a:pt x="1130" y="672"/>
                        </a:lnTo>
                        <a:lnTo>
                          <a:pt x="1123" y="658"/>
                        </a:lnTo>
                        <a:lnTo>
                          <a:pt x="1116" y="643"/>
                        </a:lnTo>
                        <a:lnTo>
                          <a:pt x="1123" y="645"/>
                        </a:lnTo>
                        <a:lnTo>
                          <a:pt x="1132" y="649"/>
                        </a:lnTo>
                        <a:lnTo>
                          <a:pt x="1140" y="656"/>
                        </a:lnTo>
                        <a:lnTo>
                          <a:pt x="1148" y="662"/>
                        </a:lnTo>
                        <a:lnTo>
                          <a:pt x="1158" y="639"/>
                        </a:lnTo>
                        <a:lnTo>
                          <a:pt x="1165" y="616"/>
                        </a:lnTo>
                        <a:lnTo>
                          <a:pt x="1169" y="593"/>
                        </a:lnTo>
                        <a:lnTo>
                          <a:pt x="1174" y="568"/>
                        </a:lnTo>
                        <a:lnTo>
                          <a:pt x="1177" y="577"/>
                        </a:lnTo>
                        <a:lnTo>
                          <a:pt x="1181" y="587"/>
                        </a:lnTo>
                        <a:lnTo>
                          <a:pt x="1182" y="599"/>
                        </a:lnTo>
                        <a:lnTo>
                          <a:pt x="1182" y="609"/>
                        </a:lnTo>
                        <a:lnTo>
                          <a:pt x="1184" y="616"/>
                        </a:lnTo>
                        <a:lnTo>
                          <a:pt x="1184" y="622"/>
                        </a:lnTo>
                        <a:lnTo>
                          <a:pt x="1184" y="629"/>
                        </a:lnTo>
                        <a:lnTo>
                          <a:pt x="1185" y="636"/>
                        </a:lnTo>
                        <a:lnTo>
                          <a:pt x="1194" y="627"/>
                        </a:lnTo>
                        <a:lnTo>
                          <a:pt x="1203" y="617"/>
                        </a:lnTo>
                        <a:lnTo>
                          <a:pt x="1211" y="607"/>
                        </a:lnTo>
                        <a:lnTo>
                          <a:pt x="1221" y="597"/>
                        </a:lnTo>
                        <a:lnTo>
                          <a:pt x="1229" y="591"/>
                        </a:lnTo>
                        <a:lnTo>
                          <a:pt x="1237" y="587"/>
                        </a:lnTo>
                        <a:lnTo>
                          <a:pt x="1246" y="581"/>
                        </a:lnTo>
                        <a:lnTo>
                          <a:pt x="1256" y="577"/>
                        </a:lnTo>
                        <a:lnTo>
                          <a:pt x="1247" y="594"/>
                        </a:lnTo>
                        <a:lnTo>
                          <a:pt x="1237" y="609"/>
                        </a:lnTo>
                        <a:lnTo>
                          <a:pt x="1229" y="625"/>
                        </a:lnTo>
                        <a:lnTo>
                          <a:pt x="1223" y="642"/>
                        </a:lnTo>
                        <a:lnTo>
                          <a:pt x="1231" y="639"/>
                        </a:lnTo>
                        <a:lnTo>
                          <a:pt x="1240" y="635"/>
                        </a:lnTo>
                        <a:lnTo>
                          <a:pt x="1250" y="630"/>
                        </a:lnTo>
                        <a:lnTo>
                          <a:pt x="1259" y="627"/>
                        </a:lnTo>
                        <a:lnTo>
                          <a:pt x="1269" y="625"/>
                        </a:lnTo>
                        <a:lnTo>
                          <a:pt x="1278" y="622"/>
                        </a:lnTo>
                        <a:lnTo>
                          <a:pt x="1286" y="622"/>
                        </a:lnTo>
                        <a:lnTo>
                          <a:pt x="1294" y="622"/>
                        </a:lnTo>
                        <a:lnTo>
                          <a:pt x="1285" y="629"/>
                        </a:lnTo>
                        <a:lnTo>
                          <a:pt x="1276" y="636"/>
                        </a:lnTo>
                        <a:lnTo>
                          <a:pt x="1268" y="643"/>
                        </a:lnTo>
                        <a:lnTo>
                          <a:pt x="1260" y="651"/>
                        </a:lnTo>
                        <a:lnTo>
                          <a:pt x="1252" y="658"/>
                        </a:lnTo>
                        <a:lnTo>
                          <a:pt x="1243" y="667"/>
                        </a:lnTo>
                        <a:lnTo>
                          <a:pt x="1236" y="674"/>
                        </a:lnTo>
                        <a:lnTo>
                          <a:pt x="1230" y="682"/>
                        </a:lnTo>
                        <a:lnTo>
                          <a:pt x="1239" y="682"/>
                        </a:lnTo>
                        <a:lnTo>
                          <a:pt x="1247" y="682"/>
                        </a:lnTo>
                        <a:lnTo>
                          <a:pt x="1256" y="682"/>
                        </a:lnTo>
                        <a:lnTo>
                          <a:pt x="1265" y="681"/>
                        </a:lnTo>
                        <a:lnTo>
                          <a:pt x="1272" y="681"/>
                        </a:lnTo>
                        <a:lnTo>
                          <a:pt x="1281" y="682"/>
                        </a:lnTo>
                        <a:lnTo>
                          <a:pt x="1288" y="685"/>
                        </a:lnTo>
                        <a:lnTo>
                          <a:pt x="1295" y="690"/>
                        </a:lnTo>
                        <a:lnTo>
                          <a:pt x="1286" y="694"/>
                        </a:lnTo>
                        <a:lnTo>
                          <a:pt x="1278" y="698"/>
                        </a:lnTo>
                        <a:lnTo>
                          <a:pt x="1269" y="703"/>
                        </a:lnTo>
                        <a:lnTo>
                          <a:pt x="1260" y="706"/>
                        </a:lnTo>
                        <a:lnTo>
                          <a:pt x="1252" y="710"/>
                        </a:lnTo>
                        <a:lnTo>
                          <a:pt x="1243" y="713"/>
                        </a:lnTo>
                        <a:lnTo>
                          <a:pt x="1233" y="717"/>
                        </a:lnTo>
                        <a:lnTo>
                          <a:pt x="1224" y="720"/>
                        </a:lnTo>
                        <a:lnTo>
                          <a:pt x="1221" y="730"/>
                        </a:lnTo>
                        <a:lnTo>
                          <a:pt x="1223" y="743"/>
                        </a:lnTo>
                        <a:lnTo>
                          <a:pt x="1226" y="755"/>
                        </a:lnTo>
                        <a:lnTo>
                          <a:pt x="1231" y="766"/>
                        </a:lnTo>
                        <a:lnTo>
                          <a:pt x="1242" y="782"/>
                        </a:lnTo>
                        <a:lnTo>
                          <a:pt x="1252" y="798"/>
                        </a:lnTo>
                        <a:lnTo>
                          <a:pt x="1262" y="814"/>
                        </a:lnTo>
                        <a:lnTo>
                          <a:pt x="1271" y="833"/>
                        </a:lnTo>
                        <a:lnTo>
                          <a:pt x="1271" y="837"/>
                        </a:lnTo>
                        <a:lnTo>
                          <a:pt x="1272" y="843"/>
                        </a:lnTo>
                        <a:lnTo>
                          <a:pt x="1272" y="849"/>
                        </a:lnTo>
                        <a:lnTo>
                          <a:pt x="1272" y="854"/>
                        </a:lnTo>
                        <a:lnTo>
                          <a:pt x="1265" y="878"/>
                        </a:lnTo>
                        <a:lnTo>
                          <a:pt x="1256" y="902"/>
                        </a:lnTo>
                        <a:lnTo>
                          <a:pt x="1246" y="925"/>
                        </a:lnTo>
                        <a:lnTo>
                          <a:pt x="1239" y="950"/>
                        </a:lnTo>
                        <a:lnTo>
                          <a:pt x="1246" y="947"/>
                        </a:lnTo>
                        <a:lnTo>
                          <a:pt x="1252" y="943"/>
                        </a:lnTo>
                        <a:lnTo>
                          <a:pt x="1259" y="938"/>
                        </a:lnTo>
                        <a:lnTo>
                          <a:pt x="1268" y="934"/>
                        </a:lnTo>
                        <a:lnTo>
                          <a:pt x="1281" y="924"/>
                        </a:lnTo>
                        <a:lnTo>
                          <a:pt x="1295" y="915"/>
                        </a:lnTo>
                        <a:lnTo>
                          <a:pt x="1310" y="905"/>
                        </a:lnTo>
                        <a:lnTo>
                          <a:pt x="1323" y="896"/>
                        </a:lnTo>
                        <a:lnTo>
                          <a:pt x="1337" y="888"/>
                        </a:lnTo>
                        <a:lnTo>
                          <a:pt x="1352" y="878"/>
                        </a:lnTo>
                        <a:lnTo>
                          <a:pt x="1366" y="869"/>
                        </a:lnTo>
                        <a:lnTo>
                          <a:pt x="1382" y="860"/>
                        </a:lnTo>
                        <a:lnTo>
                          <a:pt x="1396" y="853"/>
                        </a:lnTo>
                        <a:lnTo>
                          <a:pt x="1412" y="844"/>
                        </a:lnTo>
                        <a:lnTo>
                          <a:pt x="1428" y="837"/>
                        </a:lnTo>
                        <a:lnTo>
                          <a:pt x="1446" y="830"/>
                        </a:lnTo>
                        <a:lnTo>
                          <a:pt x="1461" y="823"/>
                        </a:lnTo>
                        <a:lnTo>
                          <a:pt x="1479" y="817"/>
                        </a:lnTo>
                        <a:lnTo>
                          <a:pt x="1496" y="811"/>
                        </a:lnTo>
                        <a:lnTo>
                          <a:pt x="1515" y="807"/>
                        </a:lnTo>
                        <a:lnTo>
                          <a:pt x="1515" y="808"/>
                        </a:lnTo>
                        <a:lnTo>
                          <a:pt x="1529" y="805"/>
                        </a:lnTo>
                        <a:lnTo>
                          <a:pt x="1545" y="804"/>
                        </a:lnTo>
                        <a:lnTo>
                          <a:pt x="1560" y="801"/>
                        </a:lnTo>
                        <a:lnTo>
                          <a:pt x="1574" y="798"/>
                        </a:lnTo>
                        <a:lnTo>
                          <a:pt x="1590" y="795"/>
                        </a:lnTo>
                        <a:lnTo>
                          <a:pt x="1605" y="794"/>
                        </a:lnTo>
                        <a:lnTo>
                          <a:pt x="1619" y="791"/>
                        </a:lnTo>
                        <a:lnTo>
                          <a:pt x="1634" y="789"/>
                        </a:lnTo>
                        <a:lnTo>
                          <a:pt x="1638" y="791"/>
                        </a:lnTo>
                        <a:lnTo>
                          <a:pt x="1644" y="791"/>
                        </a:lnTo>
                        <a:lnTo>
                          <a:pt x="1648" y="789"/>
                        </a:lnTo>
                        <a:lnTo>
                          <a:pt x="1654" y="788"/>
                        </a:lnTo>
                        <a:lnTo>
                          <a:pt x="1658" y="788"/>
                        </a:lnTo>
                        <a:lnTo>
                          <a:pt x="1663" y="788"/>
                        </a:lnTo>
                        <a:lnTo>
                          <a:pt x="1667" y="788"/>
                        </a:lnTo>
                        <a:lnTo>
                          <a:pt x="1671" y="788"/>
                        </a:lnTo>
                        <a:lnTo>
                          <a:pt x="1697" y="787"/>
                        </a:lnTo>
                        <a:lnTo>
                          <a:pt x="1722" y="787"/>
                        </a:lnTo>
                        <a:lnTo>
                          <a:pt x="1746" y="788"/>
                        </a:lnTo>
                        <a:lnTo>
                          <a:pt x="1773" y="788"/>
                        </a:lnTo>
                        <a:lnTo>
                          <a:pt x="1797" y="788"/>
                        </a:lnTo>
                        <a:lnTo>
                          <a:pt x="1822" y="787"/>
                        </a:lnTo>
                        <a:lnTo>
                          <a:pt x="1848" y="784"/>
                        </a:lnTo>
                        <a:lnTo>
                          <a:pt x="1874" y="778"/>
                        </a:lnTo>
                        <a:lnTo>
                          <a:pt x="1874" y="778"/>
                        </a:lnTo>
                        <a:lnTo>
                          <a:pt x="1888" y="773"/>
                        </a:lnTo>
                        <a:lnTo>
                          <a:pt x="1903" y="769"/>
                        </a:lnTo>
                        <a:lnTo>
                          <a:pt x="1919" y="763"/>
                        </a:lnTo>
                        <a:lnTo>
                          <a:pt x="1933" y="759"/>
                        </a:lnTo>
                        <a:lnTo>
                          <a:pt x="1948" y="752"/>
                        </a:lnTo>
                        <a:lnTo>
                          <a:pt x="1961" y="746"/>
                        </a:lnTo>
                        <a:lnTo>
                          <a:pt x="1974" y="739"/>
                        </a:lnTo>
                        <a:lnTo>
                          <a:pt x="1987" y="732"/>
                        </a:lnTo>
                        <a:lnTo>
                          <a:pt x="1998" y="723"/>
                        </a:lnTo>
                        <a:lnTo>
                          <a:pt x="2010" y="716"/>
                        </a:lnTo>
                        <a:lnTo>
                          <a:pt x="2021" y="707"/>
                        </a:lnTo>
                        <a:lnTo>
                          <a:pt x="2033" y="697"/>
                        </a:lnTo>
                        <a:lnTo>
                          <a:pt x="2044" y="688"/>
                        </a:lnTo>
                        <a:lnTo>
                          <a:pt x="2055" y="678"/>
                        </a:lnTo>
                        <a:lnTo>
                          <a:pt x="2065" y="668"/>
                        </a:lnTo>
                        <a:lnTo>
                          <a:pt x="2075" y="658"/>
                        </a:lnTo>
                        <a:lnTo>
                          <a:pt x="2085" y="640"/>
                        </a:lnTo>
                        <a:lnTo>
                          <a:pt x="2078" y="640"/>
                        </a:lnTo>
                        <a:lnTo>
                          <a:pt x="2069" y="643"/>
                        </a:lnTo>
                        <a:lnTo>
                          <a:pt x="2062" y="645"/>
                        </a:lnTo>
                        <a:lnTo>
                          <a:pt x="2053" y="648"/>
                        </a:lnTo>
                        <a:lnTo>
                          <a:pt x="2049" y="648"/>
                        </a:lnTo>
                        <a:lnTo>
                          <a:pt x="2044" y="648"/>
                        </a:lnTo>
                        <a:lnTo>
                          <a:pt x="2039" y="648"/>
                        </a:lnTo>
                        <a:lnTo>
                          <a:pt x="2034" y="648"/>
                        </a:lnTo>
                        <a:lnTo>
                          <a:pt x="2021" y="646"/>
                        </a:lnTo>
                        <a:lnTo>
                          <a:pt x="2007" y="646"/>
                        </a:lnTo>
                        <a:lnTo>
                          <a:pt x="1994" y="643"/>
                        </a:lnTo>
                        <a:lnTo>
                          <a:pt x="1979" y="642"/>
                        </a:lnTo>
                        <a:lnTo>
                          <a:pt x="1966" y="638"/>
                        </a:lnTo>
                        <a:lnTo>
                          <a:pt x="1952" y="635"/>
                        </a:lnTo>
                        <a:lnTo>
                          <a:pt x="1939" y="629"/>
                        </a:lnTo>
                        <a:lnTo>
                          <a:pt x="1926" y="623"/>
                        </a:lnTo>
                        <a:lnTo>
                          <a:pt x="1916" y="617"/>
                        </a:lnTo>
                        <a:lnTo>
                          <a:pt x="1906" y="612"/>
                        </a:lnTo>
                        <a:lnTo>
                          <a:pt x="1895" y="604"/>
                        </a:lnTo>
                        <a:lnTo>
                          <a:pt x="1887" y="597"/>
                        </a:lnTo>
                        <a:lnTo>
                          <a:pt x="1880" y="587"/>
                        </a:lnTo>
                        <a:lnTo>
                          <a:pt x="1872" y="577"/>
                        </a:lnTo>
                        <a:lnTo>
                          <a:pt x="1868" y="565"/>
                        </a:lnTo>
                        <a:lnTo>
                          <a:pt x="1865" y="551"/>
                        </a:lnTo>
                        <a:lnTo>
                          <a:pt x="1865" y="547"/>
                        </a:lnTo>
                        <a:lnTo>
                          <a:pt x="1865" y="542"/>
                        </a:lnTo>
                        <a:lnTo>
                          <a:pt x="1865" y="538"/>
                        </a:lnTo>
                        <a:lnTo>
                          <a:pt x="1865" y="532"/>
                        </a:lnTo>
                        <a:lnTo>
                          <a:pt x="1867" y="520"/>
                        </a:lnTo>
                        <a:lnTo>
                          <a:pt x="1869" y="507"/>
                        </a:lnTo>
                        <a:lnTo>
                          <a:pt x="1874" y="496"/>
                        </a:lnTo>
                        <a:lnTo>
                          <a:pt x="1880" y="486"/>
                        </a:lnTo>
                        <a:lnTo>
                          <a:pt x="1887" y="474"/>
                        </a:lnTo>
                        <a:lnTo>
                          <a:pt x="1894" y="464"/>
                        </a:lnTo>
                        <a:lnTo>
                          <a:pt x="1903" y="455"/>
                        </a:lnTo>
                        <a:lnTo>
                          <a:pt x="1910" y="445"/>
                        </a:lnTo>
                        <a:lnTo>
                          <a:pt x="1916" y="438"/>
                        </a:lnTo>
                        <a:lnTo>
                          <a:pt x="1919" y="431"/>
                        </a:lnTo>
                        <a:lnTo>
                          <a:pt x="1919" y="422"/>
                        </a:lnTo>
                        <a:lnTo>
                          <a:pt x="1917" y="413"/>
                        </a:lnTo>
                        <a:lnTo>
                          <a:pt x="1919" y="412"/>
                        </a:lnTo>
                        <a:lnTo>
                          <a:pt x="1916" y="395"/>
                        </a:lnTo>
                        <a:lnTo>
                          <a:pt x="1913" y="377"/>
                        </a:lnTo>
                        <a:lnTo>
                          <a:pt x="1910" y="360"/>
                        </a:lnTo>
                        <a:lnTo>
                          <a:pt x="1906" y="343"/>
                        </a:lnTo>
                        <a:lnTo>
                          <a:pt x="1914" y="350"/>
                        </a:lnTo>
                        <a:lnTo>
                          <a:pt x="1920" y="360"/>
                        </a:lnTo>
                        <a:lnTo>
                          <a:pt x="1927" y="370"/>
                        </a:lnTo>
                        <a:lnTo>
                          <a:pt x="1936" y="377"/>
                        </a:lnTo>
                        <a:lnTo>
                          <a:pt x="1942" y="370"/>
                        </a:lnTo>
                        <a:lnTo>
                          <a:pt x="1948" y="356"/>
                        </a:lnTo>
                        <a:lnTo>
                          <a:pt x="1953" y="341"/>
                        </a:lnTo>
                        <a:lnTo>
                          <a:pt x="1959" y="327"/>
                        </a:lnTo>
                        <a:lnTo>
                          <a:pt x="1968" y="314"/>
                        </a:lnTo>
                        <a:lnTo>
                          <a:pt x="1972" y="327"/>
                        </a:lnTo>
                        <a:lnTo>
                          <a:pt x="1974" y="341"/>
                        </a:lnTo>
                        <a:lnTo>
                          <a:pt x="1974" y="356"/>
                        </a:lnTo>
                        <a:lnTo>
                          <a:pt x="1975" y="369"/>
                        </a:lnTo>
                        <a:lnTo>
                          <a:pt x="1979" y="363"/>
                        </a:lnTo>
                        <a:lnTo>
                          <a:pt x="1987" y="360"/>
                        </a:lnTo>
                        <a:lnTo>
                          <a:pt x="1994" y="356"/>
                        </a:lnTo>
                        <a:lnTo>
                          <a:pt x="2000" y="351"/>
                        </a:lnTo>
                        <a:lnTo>
                          <a:pt x="2013" y="343"/>
                        </a:lnTo>
                        <a:lnTo>
                          <a:pt x="2007" y="356"/>
                        </a:lnTo>
                        <a:lnTo>
                          <a:pt x="2001" y="369"/>
                        </a:lnTo>
                        <a:lnTo>
                          <a:pt x="1992" y="383"/>
                        </a:lnTo>
                        <a:lnTo>
                          <a:pt x="1982" y="395"/>
                        </a:lnTo>
                        <a:lnTo>
                          <a:pt x="1984" y="398"/>
                        </a:lnTo>
                        <a:lnTo>
                          <a:pt x="1989" y="399"/>
                        </a:lnTo>
                        <a:lnTo>
                          <a:pt x="1997" y="399"/>
                        </a:lnTo>
                        <a:lnTo>
                          <a:pt x="2003" y="399"/>
                        </a:lnTo>
                        <a:lnTo>
                          <a:pt x="2008" y="399"/>
                        </a:lnTo>
                        <a:lnTo>
                          <a:pt x="2016" y="400"/>
                        </a:lnTo>
                        <a:lnTo>
                          <a:pt x="2021" y="400"/>
                        </a:lnTo>
                        <a:lnTo>
                          <a:pt x="2027" y="402"/>
                        </a:lnTo>
                        <a:lnTo>
                          <a:pt x="2033" y="405"/>
                        </a:lnTo>
                        <a:lnTo>
                          <a:pt x="2023" y="412"/>
                        </a:lnTo>
                        <a:lnTo>
                          <a:pt x="2013" y="418"/>
                        </a:lnTo>
                        <a:lnTo>
                          <a:pt x="2001" y="422"/>
                        </a:lnTo>
                        <a:lnTo>
                          <a:pt x="1989" y="427"/>
                        </a:lnTo>
                        <a:lnTo>
                          <a:pt x="1978" y="432"/>
                        </a:lnTo>
                        <a:lnTo>
                          <a:pt x="1968" y="438"/>
                        </a:lnTo>
                        <a:lnTo>
                          <a:pt x="1959" y="447"/>
                        </a:lnTo>
                        <a:lnTo>
                          <a:pt x="1953" y="457"/>
                        </a:lnTo>
                        <a:lnTo>
                          <a:pt x="1946" y="477"/>
                        </a:lnTo>
                        <a:lnTo>
                          <a:pt x="1939" y="497"/>
                        </a:lnTo>
                        <a:lnTo>
                          <a:pt x="1936" y="518"/>
                        </a:lnTo>
                        <a:lnTo>
                          <a:pt x="1943" y="538"/>
                        </a:lnTo>
                        <a:lnTo>
                          <a:pt x="1948" y="542"/>
                        </a:lnTo>
                        <a:lnTo>
                          <a:pt x="1953" y="545"/>
                        </a:lnTo>
                        <a:lnTo>
                          <a:pt x="1959" y="548"/>
                        </a:lnTo>
                        <a:lnTo>
                          <a:pt x="1965" y="549"/>
                        </a:lnTo>
                        <a:lnTo>
                          <a:pt x="1971" y="552"/>
                        </a:lnTo>
                        <a:lnTo>
                          <a:pt x="1976" y="554"/>
                        </a:lnTo>
                        <a:lnTo>
                          <a:pt x="1982" y="555"/>
                        </a:lnTo>
                        <a:lnTo>
                          <a:pt x="1988" y="557"/>
                        </a:lnTo>
                        <a:lnTo>
                          <a:pt x="2049" y="538"/>
                        </a:lnTo>
                        <a:lnTo>
                          <a:pt x="2049" y="539"/>
                        </a:lnTo>
                        <a:lnTo>
                          <a:pt x="2057" y="538"/>
                        </a:lnTo>
                        <a:lnTo>
                          <a:pt x="2066" y="535"/>
                        </a:lnTo>
                        <a:lnTo>
                          <a:pt x="2076" y="532"/>
                        </a:lnTo>
                        <a:lnTo>
                          <a:pt x="2085" y="529"/>
                        </a:lnTo>
                        <a:lnTo>
                          <a:pt x="2094" y="525"/>
                        </a:lnTo>
                        <a:lnTo>
                          <a:pt x="2101" y="520"/>
                        </a:lnTo>
                        <a:lnTo>
                          <a:pt x="2108" y="515"/>
                        </a:lnTo>
                        <a:lnTo>
                          <a:pt x="2114" y="509"/>
                        </a:lnTo>
                        <a:lnTo>
                          <a:pt x="2115" y="505"/>
                        </a:lnTo>
                        <a:lnTo>
                          <a:pt x="2115" y="499"/>
                        </a:lnTo>
                        <a:lnTo>
                          <a:pt x="2114" y="493"/>
                        </a:lnTo>
                        <a:lnTo>
                          <a:pt x="2112" y="487"/>
                        </a:lnTo>
                        <a:lnTo>
                          <a:pt x="2114" y="487"/>
                        </a:lnTo>
                        <a:lnTo>
                          <a:pt x="2108" y="453"/>
                        </a:lnTo>
                        <a:lnTo>
                          <a:pt x="2110" y="418"/>
                        </a:lnTo>
                        <a:lnTo>
                          <a:pt x="2120" y="386"/>
                        </a:lnTo>
                        <a:lnTo>
                          <a:pt x="2138" y="357"/>
                        </a:lnTo>
                        <a:lnTo>
                          <a:pt x="2144" y="334"/>
                        </a:lnTo>
                        <a:lnTo>
                          <a:pt x="2143" y="311"/>
                        </a:lnTo>
                        <a:lnTo>
                          <a:pt x="2141" y="288"/>
                        </a:lnTo>
                        <a:lnTo>
                          <a:pt x="2144" y="265"/>
                        </a:lnTo>
                        <a:lnTo>
                          <a:pt x="2149" y="252"/>
                        </a:lnTo>
                        <a:lnTo>
                          <a:pt x="2153" y="239"/>
                        </a:lnTo>
                        <a:lnTo>
                          <a:pt x="2157" y="226"/>
                        </a:lnTo>
                        <a:lnTo>
                          <a:pt x="2165" y="213"/>
                        </a:lnTo>
                        <a:lnTo>
                          <a:pt x="2172" y="202"/>
                        </a:lnTo>
                        <a:lnTo>
                          <a:pt x="2180" y="192"/>
                        </a:lnTo>
                        <a:lnTo>
                          <a:pt x="2191" y="182"/>
                        </a:lnTo>
                        <a:lnTo>
                          <a:pt x="2202" y="175"/>
                        </a:lnTo>
                        <a:lnTo>
                          <a:pt x="2214" y="163"/>
                        </a:lnTo>
                        <a:lnTo>
                          <a:pt x="2217" y="149"/>
                        </a:lnTo>
                        <a:lnTo>
                          <a:pt x="2218" y="134"/>
                        </a:lnTo>
                        <a:lnTo>
                          <a:pt x="2224" y="120"/>
                        </a:lnTo>
                        <a:lnTo>
                          <a:pt x="2230" y="108"/>
                        </a:lnTo>
                        <a:lnTo>
                          <a:pt x="2237" y="98"/>
                        </a:lnTo>
                        <a:lnTo>
                          <a:pt x="2246" y="90"/>
                        </a:lnTo>
                        <a:lnTo>
                          <a:pt x="2256" y="81"/>
                        </a:lnTo>
                        <a:lnTo>
                          <a:pt x="2267" y="74"/>
                        </a:lnTo>
                        <a:lnTo>
                          <a:pt x="2279" y="69"/>
                        </a:lnTo>
                        <a:lnTo>
                          <a:pt x="2292" y="65"/>
                        </a:lnTo>
                        <a:lnTo>
                          <a:pt x="2306" y="64"/>
                        </a:lnTo>
                        <a:lnTo>
                          <a:pt x="2312" y="62"/>
                        </a:lnTo>
                        <a:lnTo>
                          <a:pt x="2318" y="62"/>
                        </a:lnTo>
                        <a:lnTo>
                          <a:pt x="2322" y="64"/>
                        </a:lnTo>
                        <a:lnTo>
                          <a:pt x="2328" y="64"/>
                        </a:lnTo>
                        <a:lnTo>
                          <a:pt x="2334" y="64"/>
                        </a:lnTo>
                        <a:lnTo>
                          <a:pt x="2340" y="64"/>
                        </a:lnTo>
                        <a:lnTo>
                          <a:pt x="2344" y="62"/>
                        </a:lnTo>
                        <a:lnTo>
                          <a:pt x="2350" y="59"/>
                        </a:lnTo>
                        <a:lnTo>
                          <a:pt x="2355" y="49"/>
                        </a:lnTo>
                        <a:lnTo>
                          <a:pt x="2363" y="39"/>
                        </a:lnTo>
                        <a:lnTo>
                          <a:pt x="2370" y="30"/>
                        </a:lnTo>
                        <a:lnTo>
                          <a:pt x="2379" y="22"/>
                        </a:lnTo>
                        <a:lnTo>
                          <a:pt x="2389" y="14"/>
                        </a:lnTo>
                        <a:lnTo>
                          <a:pt x="2400" y="9"/>
                        </a:lnTo>
                        <a:lnTo>
                          <a:pt x="2412" y="4"/>
                        </a:lnTo>
                        <a:lnTo>
                          <a:pt x="2423" y="0"/>
                        </a:lnTo>
                        <a:lnTo>
                          <a:pt x="2432" y="1"/>
                        </a:lnTo>
                        <a:lnTo>
                          <a:pt x="2442" y="3"/>
                        </a:lnTo>
                        <a:lnTo>
                          <a:pt x="2452" y="6"/>
                        </a:lnTo>
                        <a:lnTo>
                          <a:pt x="2463" y="9"/>
                        </a:lnTo>
                        <a:lnTo>
                          <a:pt x="2471" y="12"/>
                        </a:lnTo>
                        <a:lnTo>
                          <a:pt x="2481" y="14"/>
                        </a:lnTo>
                        <a:lnTo>
                          <a:pt x="2491" y="19"/>
                        </a:lnTo>
                        <a:lnTo>
                          <a:pt x="250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flipH="1">
                    <a:off x="2981520" y="2603160"/>
                    <a:ext cx="60840" cy="165600"/>
                  </a:xfrm>
                  <a:custGeom>
                    <a:avLst/>
                    <a:gdLst/>
                    <a:ahLst/>
                    <a:rect l="l" t="t" r="r" b="b"/>
                    <a:pathLst>
                      <a:path w="160" h="486">
                        <a:moveTo>
                          <a:pt x="115" y="0"/>
                        </a:moveTo>
                        <a:lnTo>
                          <a:pt x="111" y="11"/>
                        </a:lnTo>
                        <a:lnTo>
                          <a:pt x="110" y="23"/>
                        </a:lnTo>
                        <a:lnTo>
                          <a:pt x="110" y="34"/>
                        </a:lnTo>
                        <a:lnTo>
                          <a:pt x="111" y="47"/>
                        </a:lnTo>
                        <a:lnTo>
                          <a:pt x="111" y="52"/>
                        </a:lnTo>
                        <a:lnTo>
                          <a:pt x="111" y="58"/>
                        </a:lnTo>
                        <a:lnTo>
                          <a:pt x="111" y="62"/>
                        </a:lnTo>
                        <a:lnTo>
                          <a:pt x="111" y="68"/>
                        </a:lnTo>
                        <a:lnTo>
                          <a:pt x="113" y="76"/>
                        </a:lnTo>
                        <a:lnTo>
                          <a:pt x="114" y="85"/>
                        </a:lnTo>
                        <a:lnTo>
                          <a:pt x="115" y="94"/>
                        </a:lnTo>
                        <a:lnTo>
                          <a:pt x="117" y="102"/>
                        </a:lnTo>
                        <a:lnTo>
                          <a:pt x="120" y="114"/>
                        </a:lnTo>
                        <a:lnTo>
                          <a:pt x="123" y="127"/>
                        </a:lnTo>
                        <a:lnTo>
                          <a:pt x="128" y="137"/>
                        </a:lnTo>
                        <a:lnTo>
                          <a:pt x="133" y="149"/>
                        </a:lnTo>
                        <a:lnTo>
                          <a:pt x="139" y="159"/>
                        </a:lnTo>
                        <a:lnTo>
                          <a:pt x="146" y="167"/>
                        </a:lnTo>
                        <a:lnTo>
                          <a:pt x="153" y="178"/>
                        </a:lnTo>
                        <a:lnTo>
                          <a:pt x="160" y="186"/>
                        </a:lnTo>
                        <a:lnTo>
                          <a:pt x="152" y="182"/>
                        </a:lnTo>
                        <a:lnTo>
                          <a:pt x="143" y="176"/>
                        </a:lnTo>
                        <a:lnTo>
                          <a:pt x="134" y="170"/>
                        </a:lnTo>
                        <a:lnTo>
                          <a:pt x="126" y="163"/>
                        </a:lnTo>
                        <a:lnTo>
                          <a:pt x="118" y="156"/>
                        </a:lnTo>
                        <a:lnTo>
                          <a:pt x="111" y="149"/>
                        </a:lnTo>
                        <a:lnTo>
                          <a:pt x="104" y="140"/>
                        </a:lnTo>
                        <a:lnTo>
                          <a:pt x="97" y="133"/>
                        </a:lnTo>
                        <a:lnTo>
                          <a:pt x="97" y="137"/>
                        </a:lnTo>
                        <a:lnTo>
                          <a:pt x="97" y="141"/>
                        </a:lnTo>
                        <a:lnTo>
                          <a:pt x="98" y="147"/>
                        </a:lnTo>
                        <a:lnTo>
                          <a:pt x="98" y="152"/>
                        </a:lnTo>
                        <a:lnTo>
                          <a:pt x="97" y="153"/>
                        </a:lnTo>
                        <a:lnTo>
                          <a:pt x="101" y="188"/>
                        </a:lnTo>
                        <a:lnTo>
                          <a:pt x="105" y="222"/>
                        </a:lnTo>
                        <a:lnTo>
                          <a:pt x="111" y="257"/>
                        </a:lnTo>
                        <a:lnTo>
                          <a:pt x="118" y="292"/>
                        </a:lnTo>
                        <a:lnTo>
                          <a:pt x="118" y="296"/>
                        </a:lnTo>
                        <a:lnTo>
                          <a:pt x="118" y="301"/>
                        </a:lnTo>
                        <a:lnTo>
                          <a:pt x="118" y="306"/>
                        </a:lnTo>
                        <a:lnTo>
                          <a:pt x="115" y="309"/>
                        </a:lnTo>
                        <a:lnTo>
                          <a:pt x="108" y="298"/>
                        </a:lnTo>
                        <a:lnTo>
                          <a:pt x="101" y="287"/>
                        </a:lnTo>
                        <a:lnTo>
                          <a:pt x="94" y="276"/>
                        </a:lnTo>
                        <a:lnTo>
                          <a:pt x="88" y="264"/>
                        </a:lnTo>
                        <a:lnTo>
                          <a:pt x="82" y="253"/>
                        </a:lnTo>
                        <a:lnTo>
                          <a:pt x="76" y="240"/>
                        </a:lnTo>
                        <a:lnTo>
                          <a:pt x="71" y="227"/>
                        </a:lnTo>
                        <a:lnTo>
                          <a:pt x="66" y="214"/>
                        </a:lnTo>
                        <a:lnTo>
                          <a:pt x="60" y="253"/>
                        </a:lnTo>
                        <a:lnTo>
                          <a:pt x="58" y="290"/>
                        </a:lnTo>
                        <a:lnTo>
                          <a:pt x="60" y="329"/>
                        </a:lnTo>
                        <a:lnTo>
                          <a:pt x="69" y="370"/>
                        </a:lnTo>
                        <a:lnTo>
                          <a:pt x="68" y="373"/>
                        </a:lnTo>
                        <a:lnTo>
                          <a:pt x="68" y="376"/>
                        </a:lnTo>
                        <a:lnTo>
                          <a:pt x="69" y="379"/>
                        </a:lnTo>
                        <a:lnTo>
                          <a:pt x="69" y="381"/>
                        </a:lnTo>
                        <a:lnTo>
                          <a:pt x="60" y="368"/>
                        </a:lnTo>
                        <a:lnTo>
                          <a:pt x="53" y="354"/>
                        </a:lnTo>
                        <a:lnTo>
                          <a:pt x="47" y="340"/>
                        </a:lnTo>
                        <a:lnTo>
                          <a:pt x="42" y="324"/>
                        </a:lnTo>
                        <a:lnTo>
                          <a:pt x="42" y="319"/>
                        </a:lnTo>
                        <a:lnTo>
                          <a:pt x="40" y="315"/>
                        </a:lnTo>
                        <a:lnTo>
                          <a:pt x="39" y="311"/>
                        </a:lnTo>
                        <a:lnTo>
                          <a:pt x="37" y="306"/>
                        </a:lnTo>
                        <a:lnTo>
                          <a:pt x="34" y="311"/>
                        </a:lnTo>
                        <a:lnTo>
                          <a:pt x="33" y="316"/>
                        </a:lnTo>
                        <a:lnTo>
                          <a:pt x="31" y="322"/>
                        </a:lnTo>
                        <a:lnTo>
                          <a:pt x="31" y="329"/>
                        </a:lnTo>
                        <a:lnTo>
                          <a:pt x="27" y="367"/>
                        </a:lnTo>
                        <a:lnTo>
                          <a:pt x="29" y="406"/>
                        </a:lnTo>
                        <a:lnTo>
                          <a:pt x="33" y="445"/>
                        </a:lnTo>
                        <a:lnTo>
                          <a:pt x="42" y="484"/>
                        </a:lnTo>
                        <a:lnTo>
                          <a:pt x="40" y="484"/>
                        </a:lnTo>
                        <a:lnTo>
                          <a:pt x="40" y="484"/>
                        </a:lnTo>
                        <a:lnTo>
                          <a:pt x="40" y="486"/>
                        </a:lnTo>
                        <a:lnTo>
                          <a:pt x="40" y="486"/>
                        </a:lnTo>
                        <a:lnTo>
                          <a:pt x="11" y="405"/>
                        </a:lnTo>
                        <a:lnTo>
                          <a:pt x="13" y="405"/>
                        </a:lnTo>
                        <a:lnTo>
                          <a:pt x="3" y="363"/>
                        </a:lnTo>
                        <a:lnTo>
                          <a:pt x="4" y="363"/>
                        </a:lnTo>
                        <a:lnTo>
                          <a:pt x="0" y="324"/>
                        </a:lnTo>
                        <a:lnTo>
                          <a:pt x="3" y="286"/>
                        </a:lnTo>
                        <a:lnTo>
                          <a:pt x="10" y="248"/>
                        </a:lnTo>
                        <a:lnTo>
                          <a:pt x="20" y="211"/>
                        </a:lnTo>
                        <a:lnTo>
                          <a:pt x="30" y="194"/>
                        </a:lnTo>
                        <a:lnTo>
                          <a:pt x="39" y="176"/>
                        </a:lnTo>
                        <a:lnTo>
                          <a:pt x="49" y="159"/>
                        </a:lnTo>
                        <a:lnTo>
                          <a:pt x="58" y="140"/>
                        </a:lnTo>
                        <a:lnTo>
                          <a:pt x="66" y="123"/>
                        </a:lnTo>
                        <a:lnTo>
                          <a:pt x="72" y="104"/>
                        </a:lnTo>
                        <a:lnTo>
                          <a:pt x="76" y="85"/>
                        </a:lnTo>
                        <a:lnTo>
                          <a:pt x="79" y="66"/>
                        </a:lnTo>
                        <a:lnTo>
                          <a:pt x="84" y="47"/>
                        </a:lnTo>
                        <a:lnTo>
                          <a:pt x="89" y="27"/>
                        </a:lnTo>
                        <a:lnTo>
                          <a:pt x="98" y="1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9" name=""/>
                  <p:cNvSpPr/>
                  <p:nvPr/>
                </p:nvSpPr>
                <p:spPr>
                  <a:xfrm flipH="1">
                    <a:off x="2953080" y="2596320"/>
                    <a:ext cx="16200" cy="45000"/>
                  </a:xfrm>
                  <a:custGeom>
                    <a:avLst/>
                    <a:gdLst/>
                    <a:ahLst/>
                    <a:rect l="l" t="t" r="r" b="b"/>
                    <a:pathLst>
                      <a:path w="43" h="133">
                        <a:moveTo>
                          <a:pt x="43" y="4"/>
                        </a:moveTo>
                        <a:lnTo>
                          <a:pt x="43" y="23"/>
                        </a:lnTo>
                        <a:lnTo>
                          <a:pt x="41" y="40"/>
                        </a:lnTo>
                        <a:lnTo>
                          <a:pt x="36" y="59"/>
                        </a:lnTo>
                        <a:lnTo>
                          <a:pt x="32" y="76"/>
                        </a:lnTo>
                        <a:lnTo>
                          <a:pt x="32" y="91"/>
                        </a:lnTo>
                        <a:lnTo>
                          <a:pt x="33" y="104"/>
                        </a:lnTo>
                        <a:lnTo>
                          <a:pt x="33" y="118"/>
                        </a:lnTo>
                        <a:lnTo>
                          <a:pt x="33" y="133"/>
                        </a:lnTo>
                        <a:lnTo>
                          <a:pt x="23" y="122"/>
                        </a:lnTo>
                        <a:lnTo>
                          <a:pt x="15" y="112"/>
                        </a:lnTo>
                        <a:lnTo>
                          <a:pt x="6" y="99"/>
                        </a:lnTo>
                        <a:lnTo>
                          <a:pt x="0" y="83"/>
                        </a:lnTo>
                        <a:lnTo>
                          <a:pt x="2" y="79"/>
                        </a:lnTo>
                        <a:lnTo>
                          <a:pt x="0" y="73"/>
                        </a:lnTo>
                        <a:lnTo>
                          <a:pt x="0" y="69"/>
                        </a:lnTo>
                        <a:lnTo>
                          <a:pt x="0" y="65"/>
                        </a:lnTo>
                        <a:lnTo>
                          <a:pt x="3" y="49"/>
                        </a:lnTo>
                        <a:lnTo>
                          <a:pt x="9" y="33"/>
                        </a:lnTo>
                        <a:lnTo>
                          <a:pt x="16" y="18"/>
                        </a:lnTo>
                        <a:lnTo>
                          <a:pt x="23" y="4"/>
                        </a:lnTo>
                        <a:lnTo>
                          <a:pt x="29" y="1"/>
                        </a:lnTo>
                        <a:lnTo>
                          <a:pt x="33" y="0"/>
                        </a:lnTo>
                        <a:lnTo>
                          <a:pt x="39" y="1"/>
                        </a:lnTo>
                        <a:lnTo>
                          <a:pt x="43" y="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540" name=""/>
                  <p:cNvSpPr/>
                  <p:nvPr/>
                </p:nvSpPr>
                <p:spPr>
                  <a:xfrm flipH="1">
                    <a:off x="2936160" y="2599560"/>
                    <a:ext cx="9720" cy="12960"/>
                  </a:xfrm>
                  <a:custGeom>
                    <a:avLst/>
                    <a:gdLst/>
                    <a:ahLst/>
                    <a:rect l="l" t="t" r="r" b="b"/>
                    <a:pathLst>
                      <a:path w="26" h="39">
                        <a:moveTo>
                          <a:pt x="22" y="5"/>
                        </a:moveTo>
                        <a:lnTo>
                          <a:pt x="26" y="8"/>
                        </a:lnTo>
                        <a:lnTo>
                          <a:pt x="26" y="13"/>
                        </a:lnTo>
                        <a:lnTo>
                          <a:pt x="26" y="17"/>
                        </a:lnTo>
                        <a:lnTo>
                          <a:pt x="25" y="23"/>
                        </a:lnTo>
                        <a:lnTo>
                          <a:pt x="19" y="27"/>
                        </a:lnTo>
                        <a:lnTo>
                          <a:pt x="15" y="31"/>
                        </a:lnTo>
                        <a:lnTo>
                          <a:pt x="9" y="36"/>
                        </a:lnTo>
                        <a:lnTo>
                          <a:pt x="3" y="39"/>
                        </a:lnTo>
                        <a:lnTo>
                          <a:pt x="0" y="30"/>
                        </a:lnTo>
                        <a:lnTo>
                          <a:pt x="0" y="20"/>
                        </a:lnTo>
                        <a:lnTo>
                          <a:pt x="0" y="10"/>
                        </a:lnTo>
                        <a:lnTo>
                          <a:pt x="2" y="1"/>
                        </a:lnTo>
                        <a:lnTo>
                          <a:pt x="7" y="0"/>
                        </a:lnTo>
                        <a:lnTo>
                          <a:pt x="12" y="1"/>
                        </a:lnTo>
                        <a:lnTo>
                          <a:pt x="18" y="4"/>
                        </a:lnTo>
                        <a:lnTo>
                          <a:pt x="22" y="5"/>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41" name=""/>
                  <p:cNvSpPr/>
                  <p:nvPr/>
                </p:nvSpPr>
                <p:spPr>
                  <a:xfrm flipH="1">
                    <a:off x="3030120" y="2630880"/>
                    <a:ext cx="11880" cy="26640"/>
                  </a:xfrm>
                  <a:custGeom>
                    <a:avLst/>
                    <a:gdLst/>
                    <a:ahLst/>
                    <a:rect l="l" t="t" r="r" b="b"/>
                    <a:pathLst>
                      <a:path w="32" h="79">
                        <a:moveTo>
                          <a:pt x="29" y="7"/>
                        </a:moveTo>
                        <a:lnTo>
                          <a:pt x="32" y="26"/>
                        </a:lnTo>
                        <a:lnTo>
                          <a:pt x="30" y="45"/>
                        </a:lnTo>
                        <a:lnTo>
                          <a:pt x="26" y="62"/>
                        </a:lnTo>
                        <a:lnTo>
                          <a:pt x="22" y="79"/>
                        </a:lnTo>
                        <a:lnTo>
                          <a:pt x="13" y="72"/>
                        </a:lnTo>
                        <a:lnTo>
                          <a:pt x="7" y="63"/>
                        </a:lnTo>
                        <a:lnTo>
                          <a:pt x="3" y="52"/>
                        </a:lnTo>
                        <a:lnTo>
                          <a:pt x="0" y="40"/>
                        </a:lnTo>
                        <a:lnTo>
                          <a:pt x="2" y="30"/>
                        </a:lnTo>
                        <a:lnTo>
                          <a:pt x="4" y="20"/>
                        </a:lnTo>
                        <a:lnTo>
                          <a:pt x="9" y="8"/>
                        </a:lnTo>
                        <a:lnTo>
                          <a:pt x="15" y="0"/>
                        </a:lnTo>
                        <a:lnTo>
                          <a:pt x="19" y="0"/>
                        </a:lnTo>
                        <a:lnTo>
                          <a:pt x="23" y="1"/>
                        </a:lnTo>
                        <a:lnTo>
                          <a:pt x="26" y="6"/>
                        </a:lnTo>
                        <a:lnTo>
                          <a:pt x="29" y="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42" name=""/>
                  <p:cNvSpPr/>
                  <p:nvPr/>
                </p:nvSpPr>
                <p:spPr>
                  <a:xfrm flipH="1">
                    <a:off x="2936520" y="2619000"/>
                    <a:ext cx="53280" cy="106200"/>
                  </a:xfrm>
                  <a:custGeom>
                    <a:avLst/>
                    <a:gdLst/>
                    <a:ahLst/>
                    <a:rect l="l" t="t" r="r" b="b"/>
                    <a:pathLst>
                      <a:path w="141" h="312">
                        <a:moveTo>
                          <a:pt x="125" y="188"/>
                        </a:moveTo>
                        <a:lnTo>
                          <a:pt x="112" y="205"/>
                        </a:lnTo>
                        <a:lnTo>
                          <a:pt x="98" y="223"/>
                        </a:lnTo>
                        <a:lnTo>
                          <a:pt x="83" y="239"/>
                        </a:lnTo>
                        <a:lnTo>
                          <a:pt x="68" y="253"/>
                        </a:lnTo>
                        <a:lnTo>
                          <a:pt x="50" y="269"/>
                        </a:lnTo>
                        <a:lnTo>
                          <a:pt x="33" y="283"/>
                        </a:lnTo>
                        <a:lnTo>
                          <a:pt x="17" y="298"/>
                        </a:lnTo>
                        <a:lnTo>
                          <a:pt x="0" y="312"/>
                        </a:lnTo>
                        <a:lnTo>
                          <a:pt x="14" y="292"/>
                        </a:lnTo>
                        <a:lnTo>
                          <a:pt x="31" y="272"/>
                        </a:lnTo>
                        <a:lnTo>
                          <a:pt x="49" y="250"/>
                        </a:lnTo>
                        <a:lnTo>
                          <a:pt x="65" y="228"/>
                        </a:lnTo>
                        <a:lnTo>
                          <a:pt x="81" y="205"/>
                        </a:lnTo>
                        <a:lnTo>
                          <a:pt x="92" y="181"/>
                        </a:lnTo>
                        <a:lnTo>
                          <a:pt x="101" y="155"/>
                        </a:lnTo>
                        <a:lnTo>
                          <a:pt x="105" y="127"/>
                        </a:lnTo>
                        <a:lnTo>
                          <a:pt x="109" y="94"/>
                        </a:lnTo>
                        <a:lnTo>
                          <a:pt x="115" y="61"/>
                        </a:lnTo>
                        <a:lnTo>
                          <a:pt x="125" y="30"/>
                        </a:lnTo>
                        <a:lnTo>
                          <a:pt x="141" y="0"/>
                        </a:lnTo>
                        <a:lnTo>
                          <a:pt x="138" y="46"/>
                        </a:lnTo>
                        <a:lnTo>
                          <a:pt x="138" y="94"/>
                        </a:lnTo>
                        <a:lnTo>
                          <a:pt x="137" y="142"/>
                        </a:lnTo>
                        <a:lnTo>
                          <a:pt x="125"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3" name=""/>
                  <p:cNvSpPr/>
                  <p:nvPr/>
                </p:nvSpPr>
                <p:spPr>
                  <a:xfrm flipH="1">
                    <a:off x="3408120" y="2831400"/>
                    <a:ext cx="25920" cy="52920"/>
                  </a:xfrm>
                  <a:custGeom>
                    <a:avLst/>
                    <a:gdLst/>
                    <a:ahLst/>
                    <a:rect l="l" t="t" r="r" b="b"/>
                    <a:pathLst>
                      <a:path w="69" h="156">
                        <a:moveTo>
                          <a:pt x="69" y="42"/>
                        </a:moveTo>
                        <a:lnTo>
                          <a:pt x="65" y="58"/>
                        </a:lnTo>
                        <a:lnTo>
                          <a:pt x="59" y="74"/>
                        </a:lnTo>
                        <a:lnTo>
                          <a:pt x="52" y="90"/>
                        </a:lnTo>
                        <a:lnTo>
                          <a:pt x="43" y="103"/>
                        </a:lnTo>
                        <a:lnTo>
                          <a:pt x="33" y="117"/>
                        </a:lnTo>
                        <a:lnTo>
                          <a:pt x="23" y="130"/>
                        </a:lnTo>
                        <a:lnTo>
                          <a:pt x="11" y="143"/>
                        </a:lnTo>
                        <a:lnTo>
                          <a:pt x="0" y="156"/>
                        </a:lnTo>
                        <a:lnTo>
                          <a:pt x="7" y="139"/>
                        </a:lnTo>
                        <a:lnTo>
                          <a:pt x="16" y="122"/>
                        </a:lnTo>
                        <a:lnTo>
                          <a:pt x="26" y="104"/>
                        </a:lnTo>
                        <a:lnTo>
                          <a:pt x="36" y="85"/>
                        </a:lnTo>
                        <a:lnTo>
                          <a:pt x="43" y="68"/>
                        </a:lnTo>
                        <a:lnTo>
                          <a:pt x="49" y="48"/>
                        </a:lnTo>
                        <a:lnTo>
                          <a:pt x="52" y="29"/>
                        </a:lnTo>
                        <a:lnTo>
                          <a:pt x="49" y="9"/>
                        </a:lnTo>
                        <a:lnTo>
                          <a:pt x="49" y="0"/>
                        </a:lnTo>
                        <a:lnTo>
                          <a:pt x="58" y="7"/>
                        </a:lnTo>
                        <a:lnTo>
                          <a:pt x="63" y="18"/>
                        </a:lnTo>
                        <a:lnTo>
                          <a:pt x="68" y="31"/>
                        </a:lnTo>
                        <a:lnTo>
                          <a:pt x="69" y="4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44" name=""/>
                  <p:cNvSpPr/>
                  <p:nvPr/>
                </p:nvSpPr>
                <p:spPr>
                  <a:xfrm flipH="1">
                    <a:off x="3035160" y="2761200"/>
                    <a:ext cx="15840" cy="19800"/>
                  </a:xfrm>
                  <a:custGeom>
                    <a:avLst/>
                    <a:gdLst/>
                    <a:ahLst/>
                    <a:rect l="l" t="t" r="r" b="b"/>
                    <a:pathLst>
                      <a:path w="42" h="59">
                        <a:moveTo>
                          <a:pt x="36" y="26"/>
                        </a:moveTo>
                        <a:lnTo>
                          <a:pt x="38" y="35"/>
                        </a:lnTo>
                        <a:lnTo>
                          <a:pt x="39" y="42"/>
                        </a:lnTo>
                        <a:lnTo>
                          <a:pt x="40" y="50"/>
                        </a:lnTo>
                        <a:lnTo>
                          <a:pt x="42" y="59"/>
                        </a:lnTo>
                        <a:lnTo>
                          <a:pt x="30" y="59"/>
                        </a:lnTo>
                        <a:lnTo>
                          <a:pt x="20" y="55"/>
                        </a:lnTo>
                        <a:lnTo>
                          <a:pt x="12" y="49"/>
                        </a:lnTo>
                        <a:lnTo>
                          <a:pt x="4" y="40"/>
                        </a:lnTo>
                        <a:lnTo>
                          <a:pt x="1" y="29"/>
                        </a:lnTo>
                        <a:lnTo>
                          <a:pt x="0" y="19"/>
                        </a:lnTo>
                        <a:lnTo>
                          <a:pt x="0" y="10"/>
                        </a:lnTo>
                        <a:lnTo>
                          <a:pt x="1" y="0"/>
                        </a:lnTo>
                        <a:lnTo>
                          <a:pt x="12" y="1"/>
                        </a:lnTo>
                        <a:lnTo>
                          <a:pt x="22" y="7"/>
                        </a:lnTo>
                        <a:lnTo>
                          <a:pt x="29" y="16"/>
                        </a:lnTo>
                        <a:lnTo>
                          <a:pt x="36" y="2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545" name=""/>
                  <p:cNvSpPr/>
                  <p:nvPr/>
                </p:nvSpPr>
                <p:spPr>
                  <a:xfrm flipH="1">
                    <a:off x="3051360" y="2800800"/>
                    <a:ext cx="295920" cy="106200"/>
                  </a:xfrm>
                  <a:custGeom>
                    <a:avLst/>
                    <a:gdLst/>
                    <a:ahLst/>
                    <a:rect l="l" t="t" r="r" b="b"/>
                    <a:pathLst>
                      <a:path w="779" h="312">
                        <a:moveTo>
                          <a:pt x="198" y="141"/>
                        </a:moveTo>
                        <a:lnTo>
                          <a:pt x="219" y="137"/>
                        </a:lnTo>
                        <a:lnTo>
                          <a:pt x="239" y="133"/>
                        </a:lnTo>
                        <a:lnTo>
                          <a:pt x="259" y="130"/>
                        </a:lnTo>
                        <a:lnTo>
                          <a:pt x="279" y="127"/>
                        </a:lnTo>
                        <a:lnTo>
                          <a:pt x="298" y="125"/>
                        </a:lnTo>
                        <a:lnTo>
                          <a:pt x="319" y="124"/>
                        </a:lnTo>
                        <a:lnTo>
                          <a:pt x="339" y="122"/>
                        </a:lnTo>
                        <a:lnTo>
                          <a:pt x="358" y="122"/>
                        </a:lnTo>
                        <a:lnTo>
                          <a:pt x="378" y="122"/>
                        </a:lnTo>
                        <a:lnTo>
                          <a:pt x="397" y="122"/>
                        </a:lnTo>
                        <a:lnTo>
                          <a:pt x="417" y="122"/>
                        </a:lnTo>
                        <a:lnTo>
                          <a:pt x="436" y="124"/>
                        </a:lnTo>
                        <a:lnTo>
                          <a:pt x="456" y="125"/>
                        </a:lnTo>
                        <a:lnTo>
                          <a:pt x="475" y="127"/>
                        </a:lnTo>
                        <a:lnTo>
                          <a:pt x="495" y="128"/>
                        </a:lnTo>
                        <a:lnTo>
                          <a:pt x="514" y="130"/>
                        </a:lnTo>
                        <a:lnTo>
                          <a:pt x="528" y="130"/>
                        </a:lnTo>
                        <a:lnTo>
                          <a:pt x="541" y="128"/>
                        </a:lnTo>
                        <a:lnTo>
                          <a:pt x="556" y="125"/>
                        </a:lnTo>
                        <a:lnTo>
                          <a:pt x="570" y="121"/>
                        </a:lnTo>
                        <a:lnTo>
                          <a:pt x="585" y="117"/>
                        </a:lnTo>
                        <a:lnTo>
                          <a:pt x="599" y="111"/>
                        </a:lnTo>
                        <a:lnTo>
                          <a:pt x="614" y="105"/>
                        </a:lnTo>
                        <a:lnTo>
                          <a:pt x="628" y="99"/>
                        </a:lnTo>
                        <a:lnTo>
                          <a:pt x="632" y="95"/>
                        </a:lnTo>
                        <a:lnTo>
                          <a:pt x="638" y="92"/>
                        </a:lnTo>
                        <a:lnTo>
                          <a:pt x="644" y="88"/>
                        </a:lnTo>
                        <a:lnTo>
                          <a:pt x="651" y="85"/>
                        </a:lnTo>
                        <a:lnTo>
                          <a:pt x="664" y="73"/>
                        </a:lnTo>
                        <a:lnTo>
                          <a:pt x="677" y="63"/>
                        </a:lnTo>
                        <a:lnTo>
                          <a:pt x="690" y="52"/>
                        </a:lnTo>
                        <a:lnTo>
                          <a:pt x="703" y="41"/>
                        </a:lnTo>
                        <a:lnTo>
                          <a:pt x="718" y="31"/>
                        </a:lnTo>
                        <a:lnTo>
                          <a:pt x="731" y="21"/>
                        </a:lnTo>
                        <a:lnTo>
                          <a:pt x="745" y="10"/>
                        </a:lnTo>
                        <a:lnTo>
                          <a:pt x="758" y="0"/>
                        </a:lnTo>
                        <a:lnTo>
                          <a:pt x="751" y="11"/>
                        </a:lnTo>
                        <a:lnTo>
                          <a:pt x="741" y="23"/>
                        </a:lnTo>
                        <a:lnTo>
                          <a:pt x="729" y="34"/>
                        </a:lnTo>
                        <a:lnTo>
                          <a:pt x="719" y="46"/>
                        </a:lnTo>
                        <a:lnTo>
                          <a:pt x="726" y="46"/>
                        </a:lnTo>
                        <a:lnTo>
                          <a:pt x="734" y="47"/>
                        </a:lnTo>
                        <a:lnTo>
                          <a:pt x="742" y="47"/>
                        </a:lnTo>
                        <a:lnTo>
                          <a:pt x="750" y="49"/>
                        </a:lnTo>
                        <a:lnTo>
                          <a:pt x="757" y="50"/>
                        </a:lnTo>
                        <a:lnTo>
                          <a:pt x="764" y="52"/>
                        </a:lnTo>
                        <a:lnTo>
                          <a:pt x="771" y="53"/>
                        </a:lnTo>
                        <a:lnTo>
                          <a:pt x="779" y="56"/>
                        </a:lnTo>
                        <a:lnTo>
                          <a:pt x="771" y="59"/>
                        </a:lnTo>
                        <a:lnTo>
                          <a:pt x="763" y="62"/>
                        </a:lnTo>
                        <a:lnTo>
                          <a:pt x="755" y="62"/>
                        </a:lnTo>
                        <a:lnTo>
                          <a:pt x="748" y="63"/>
                        </a:lnTo>
                        <a:lnTo>
                          <a:pt x="741" y="65"/>
                        </a:lnTo>
                        <a:lnTo>
                          <a:pt x="732" y="65"/>
                        </a:lnTo>
                        <a:lnTo>
                          <a:pt x="725" y="67"/>
                        </a:lnTo>
                        <a:lnTo>
                          <a:pt x="716" y="70"/>
                        </a:lnTo>
                        <a:lnTo>
                          <a:pt x="705" y="75"/>
                        </a:lnTo>
                        <a:lnTo>
                          <a:pt x="693" y="79"/>
                        </a:lnTo>
                        <a:lnTo>
                          <a:pt x="684" y="86"/>
                        </a:lnTo>
                        <a:lnTo>
                          <a:pt x="677" y="94"/>
                        </a:lnTo>
                        <a:lnTo>
                          <a:pt x="686" y="92"/>
                        </a:lnTo>
                        <a:lnTo>
                          <a:pt x="696" y="92"/>
                        </a:lnTo>
                        <a:lnTo>
                          <a:pt x="705" y="94"/>
                        </a:lnTo>
                        <a:lnTo>
                          <a:pt x="715" y="95"/>
                        </a:lnTo>
                        <a:lnTo>
                          <a:pt x="724" y="96"/>
                        </a:lnTo>
                        <a:lnTo>
                          <a:pt x="732" y="99"/>
                        </a:lnTo>
                        <a:lnTo>
                          <a:pt x="741" y="102"/>
                        </a:lnTo>
                        <a:lnTo>
                          <a:pt x="750" y="107"/>
                        </a:lnTo>
                        <a:lnTo>
                          <a:pt x="744" y="108"/>
                        </a:lnTo>
                        <a:lnTo>
                          <a:pt x="737" y="109"/>
                        </a:lnTo>
                        <a:lnTo>
                          <a:pt x="731" y="111"/>
                        </a:lnTo>
                        <a:lnTo>
                          <a:pt x="725" y="111"/>
                        </a:lnTo>
                        <a:lnTo>
                          <a:pt x="719" y="111"/>
                        </a:lnTo>
                        <a:lnTo>
                          <a:pt x="713" y="111"/>
                        </a:lnTo>
                        <a:lnTo>
                          <a:pt x="708" y="111"/>
                        </a:lnTo>
                        <a:lnTo>
                          <a:pt x="702" y="111"/>
                        </a:lnTo>
                        <a:lnTo>
                          <a:pt x="676" y="117"/>
                        </a:lnTo>
                        <a:lnTo>
                          <a:pt x="676" y="117"/>
                        </a:lnTo>
                        <a:lnTo>
                          <a:pt x="669" y="118"/>
                        </a:lnTo>
                        <a:lnTo>
                          <a:pt x="661" y="120"/>
                        </a:lnTo>
                        <a:lnTo>
                          <a:pt x="653" y="122"/>
                        </a:lnTo>
                        <a:lnTo>
                          <a:pt x="645" y="125"/>
                        </a:lnTo>
                        <a:lnTo>
                          <a:pt x="637" y="128"/>
                        </a:lnTo>
                        <a:lnTo>
                          <a:pt x="630" y="131"/>
                        </a:lnTo>
                        <a:lnTo>
                          <a:pt x="624" y="135"/>
                        </a:lnTo>
                        <a:lnTo>
                          <a:pt x="618" y="140"/>
                        </a:lnTo>
                        <a:lnTo>
                          <a:pt x="627" y="143"/>
                        </a:lnTo>
                        <a:lnTo>
                          <a:pt x="635" y="144"/>
                        </a:lnTo>
                        <a:lnTo>
                          <a:pt x="643" y="147"/>
                        </a:lnTo>
                        <a:lnTo>
                          <a:pt x="651" y="150"/>
                        </a:lnTo>
                        <a:lnTo>
                          <a:pt x="660" y="153"/>
                        </a:lnTo>
                        <a:lnTo>
                          <a:pt x="667" y="157"/>
                        </a:lnTo>
                        <a:lnTo>
                          <a:pt x="674" y="161"/>
                        </a:lnTo>
                        <a:lnTo>
                          <a:pt x="682" y="167"/>
                        </a:lnTo>
                        <a:lnTo>
                          <a:pt x="664" y="166"/>
                        </a:lnTo>
                        <a:lnTo>
                          <a:pt x="647" y="164"/>
                        </a:lnTo>
                        <a:lnTo>
                          <a:pt x="631" y="163"/>
                        </a:lnTo>
                        <a:lnTo>
                          <a:pt x="614" y="163"/>
                        </a:lnTo>
                        <a:lnTo>
                          <a:pt x="596" y="163"/>
                        </a:lnTo>
                        <a:lnTo>
                          <a:pt x="580" y="164"/>
                        </a:lnTo>
                        <a:lnTo>
                          <a:pt x="563" y="167"/>
                        </a:lnTo>
                        <a:lnTo>
                          <a:pt x="546" y="170"/>
                        </a:lnTo>
                        <a:lnTo>
                          <a:pt x="547" y="174"/>
                        </a:lnTo>
                        <a:lnTo>
                          <a:pt x="554" y="180"/>
                        </a:lnTo>
                        <a:lnTo>
                          <a:pt x="562" y="185"/>
                        </a:lnTo>
                        <a:lnTo>
                          <a:pt x="570" y="189"/>
                        </a:lnTo>
                        <a:lnTo>
                          <a:pt x="577" y="193"/>
                        </a:lnTo>
                        <a:lnTo>
                          <a:pt x="586" y="198"/>
                        </a:lnTo>
                        <a:lnTo>
                          <a:pt x="593" y="202"/>
                        </a:lnTo>
                        <a:lnTo>
                          <a:pt x="601" y="208"/>
                        </a:lnTo>
                        <a:lnTo>
                          <a:pt x="608" y="214"/>
                        </a:lnTo>
                        <a:lnTo>
                          <a:pt x="588" y="208"/>
                        </a:lnTo>
                        <a:lnTo>
                          <a:pt x="567" y="202"/>
                        </a:lnTo>
                        <a:lnTo>
                          <a:pt x="547" y="196"/>
                        </a:lnTo>
                        <a:lnTo>
                          <a:pt x="527" y="190"/>
                        </a:lnTo>
                        <a:lnTo>
                          <a:pt x="507" y="186"/>
                        </a:lnTo>
                        <a:lnTo>
                          <a:pt x="486" y="182"/>
                        </a:lnTo>
                        <a:lnTo>
                          <a:pt x="466" y="179"/>
                        </a:lnTo>
                        <a:lnTo>
                          <a:pt x="444" y="177"/>
                        </a:lnTo>
                        <a:lnTo>
                          <a:pt x="452" y="183"/>
                        </a:lnTo>
                        <a:lnTo>
                          <a:pt x="459" y="187"/>
                        </a:lnTo>
                        <a:lnTo>
                          <a:pt x="466" y="193"/>
                        </a:lnTo>
                        <a:lnTo>
                          <a:pt x="473" y="198"/>
                        </a:lnTo>
                        <a:lnTo>
                          <a:pt x="481" y="203"/>
                        </a:lnTo>
                        <a:lnTo>
                          <a:pt x="488" y="208"/>
                        </a:lnTo>
                        <a:lnTo>
                          <a:pt x="495" y="214"/>
                        </a:lnTo>
                        <a:lnTo>
                          <a:pt x="501" y="219"/>
                        </a:lnTo>
                        <a:lnTo>
                          <a:pt x="479" y="211"/>
                        </a:lnTo>
                        <a:lnTo>
                          <a:pt x="457" y="203"/>
                        </a:lnTo>
                        <a:lnTo>
                          <a:pt x="434" y="196"/>
                        </a:lnTo>
                        <a:lnTo>
                          <a:pt x="413" y="189"/>
                        </a:lnTo>
                        <a:lnTo>
                          <a:pt x="389" y="183"/>
                        </a:lnTo>
                        <a:lnTo>
                          <a:pt x="366" y="177"/>
                        </a:lnTo>
                        <a:lnTo>
                          <a:pt x="342" y="174"/>
                        </a:lnTo>
                        <a:lnTo>
                          <a:pt x="319" y="172"/>
                        </a:lnTo>
                        <a:lnTo>
                          <a:pt x="314" y="173"/>
                        </a:lnTo>
                        <a:lnTo>
                          <a:pt x="308" y="173"/>
                        </a:lnTo>
                        <a:lnTo>
                          <a:pt x="304" y="174"/>
                        </a:lnTo>
                        <a:lnTo>
                          <a:pt x="300" y="177"/>
                        </a:lnTo>
                        <a:lnTo>
                          <a:pt x="313" y="182"/>
                        </a:lnTo>
                        <a:lnTo>
                          <a:pt x="326" y="187"/>
                        </a:lnTo>
                        <a:lnTo>
                          <a:pt x="337" y="195"/>
                        </a:lnTo>
                        <a:lnTo>
                          <a:pt x="350" y="202"/>
                        </a:lnTo>
                        <a:lnTo>
                          <a:pt x="360" y="211"/>
                        </a:lnTo>
                        <a:lnTo>
                          <a:pt x="372" y="219"/>
                        </a:lnTo>
                        <a:lnTo>
                          <a:pt x="381" y="228"/>
                        </a:lnTo>
                        <a:lnTo>
                          <a:pt x="391" y="238"/>
                        </a:lnTo>
                        <a:lnTo>
                          <a:pt x="369" y="229"/>
                        </a:lnTo>
                        <a:lnTo>
                          <a:pt x="347" y="221"/>
                        </a:lnTo>
                        <a:lnTo>
                          <a:pt x="324" y="214"/>
                        </a:lnTo>
                        <a:lnTo>
                          <a:pt x="303" y="206"/>
                        </a:lnTo>
                        <a:lnTo>
                          <a:pt x="281" y="201"/>
                        </a:lnTo>
                        <a:lnTo>
                          <a:pt x="259" y="198"/>
                        </a:lnTo>
                        <a:lnTo>
                          <a:pt x="236" y="198"/>
                        </a:lnTo>
                        <a:lnTo>
                          <a:pt x="213" y="201"/>
                        </a:lnTo>
                        <a:lnTo>
                          <a:pt x="209" y="199"/>
                        </a:lnTo>
                        <a:lnTo>
                          <a:pt x="204" y="199"/>
                        </a:lnTo>
                        <a:lnTo>
                          <a:pt x="200" y="199"/>
                        </a:lnTo>
                        <a:lnTo>
                          <a:pt x="196" y="201"/>
                        </a:lnTo>
                        <a:lnTo>
                          <a:pt x="203" y="205"/>
                        </a:lnTo>
                        <a:lnTo>
                          <a:pt x="209" y="209"/>
                        </a:lnTo>
                        <a:lnTo>
                          <a:pt x="216" y="214"/>
                        </a:lnTo>
                        <a:lnTo>
                          <a:pt x="224" y="219"/>
                        </a:lnTo>
                        <a:lnTo>
                          <a:pt x="232" y="224"/>
                        </a:lnTo>
                        <a:lnTo>
                          <a:pt x="239" y="228"/>
                        </a:lnTo>
                        <a:lnTo>
                          <a:pt x="245" y="234"/>
                        </a:lnTo>
                        <a:lnTo>
                          <a:pt x="252" y="238"/>
                        </a:lnTo>
                        <a:lnTo>
                          <a:pt x="256" y="241"/>
                        </a:lnTo>
                        <a:lnTo>
                          <a:pt x="259" y="245"/>
                        </a:lnTo>
                        <a:lnTo>
                          <a:pt x="262" y="250"/>
                        </a:lnTo>
                        <a:lnTo>
                          <a:pt x="265" y="253"/>
                        </a:lnTo>
                        <a:lnTo>
                          <a:pt x="245" y="247"/>
                        </a:lnTo>
                        <a:lnTo>
                          <a:pt x="224" y="240"/>
                        </a:lnTo>
                        <a:lnTo>
                          <a:pt x="204" y="234"/>
                        </a:lnTo>
                        <a:lnTo>
                          <a:pt x="184" y="228"/>
                        </a:lnTo>
                        <a:lnTo>
                          <a:pt x="164" y="224"/>
                        </a:lnTo>
                        <a:lnTo>
                          <a:pt x="142" y="222"/>
                        </a:lnTo>
                        <a:lnTo>
                          <a:pt x="120" y="225"/>
                        </a:lnTo>
                        <a:lnTo>
                          <a:pt x="99" y="229"/>
                        </a:lnTo>
                        <a:lnTo>
                          <a:pt x="97" y="232"/>
                        </a:lnTo>
                        <a:lnTo>
                          <a:pt x="115" y="237"/>
                        </a:lnTo>
                        <a:lnTo>
                          <a:pt x="130" y="242"/>
                        </a:lnTo>
                        <a:lnTo>
                          <a:pt x="148" y="250"/>
                        </a:lnTo>
                        <a:lnTo>
                          <a:pt x="162" y="258"/>
                        </a:lnTo>
                        <a:lnTo>
                          <a:pt x="177" y="268"/>
                        </a:lnTo>
                        <a:lnTo>
                          <a:pt x="188" y="281"/>
                        </a:lnTo>
                        <a:lnTo>
                          <a:pt x="200" y="296"/>
                        </a:lnTo>
                        <a:lnTo>
                          <a:pt x="207" y="312"/>
                        </a:lnTo>
                        <a:lnTo>
                          <a:pt x="184" y="296"/>
                        </a:lnTo>
                        <a:lnTo>
                          <a:pt x="161" y="284"/>
                        </a:lnTo>
                        <a:lnTo>
                          <a:pt x="135" y="274"/>
                        </a:lnTo>
                        <a:lnTo>
                          <a:pt x="109" y="268"/>
                        </a:lnTo>
                        <a:lnTo>
                          <a:pt x="81" y="263"/>
                        </a:lnTo>
                        <a:lnTo>
                          <a:pt x="54" y="260"/>
                        </a:lnTo>
                        <a:lnTo>
                          <a:pt x="28" y="257"/>
                        </a:lnTo>
                        <a:lnTo>
                          <a:pt x="0" y="255"/>
                        </a:lnTo>
                        <a:lnTo>
                          <a:pt x="3" y="251"/>
                        </a:lnTo>
                        <a:lnTo>
                          <a:pt x="9" y="245"/>
                        </a:lnTo>
                        <a:lnTo>
                          <a:pt x="15" y="241"/>
                        </a:lnTo>
                        <a:lnTo>
                          <a:pt x="19" y="237"/>
                        </a:lnTo>
                        <a:lnTo>
                          <a:pt x="32" y="227"/>
                        </a:lnTo>
                        <a:lnTo>
                          <a:pt x="45" y="216"/>
                        </a:lnTo>
                        <a:lnTo>
                          <a:pt x="58" y="206"/>
                        </a:lnTo>
                        <a:lnTo>
                          <a:pt x="73" y="198"/>
                        </a:lnTo>
                        <a:lnTo>
                          <a:pt x="86" y="187"/>
                        </a:lnTo>
                        <a:lnTo>
                          <a:pt x="100" y="179"/>
                        </a:lnTo>
                        <a:lnTo>
                          <a:pt x="116" y="170"/>
                        </a:lnTo>
                        <a:lnTo>
                          <a:pt x="132" y="163"/>
                        </a:lnTo>
                        <a:lnTo>
                          <a:pt x="197" y="140"/>
                        </a:lnTo>
                        <a:lnTo>
                          <a:pt x="19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flipH="1">
                    <a:off x="3313080" y="2896560"/>
                    <a:ext cx="74160" cy="15120"/>
                  </a:xfrm>
                  <a:custGeom>
                    <a:avLst/>
                    <a:gdLst/>
                    <a:ahLst/>
                    <a:rect l="l" t="t" r="r" b="b"/>
                    <a:pathLst>
                      <a:path w="196" h="45">
                        <a:moveTo>
                          <a:pt x="191" y="35"/>
                        </a:moveTo>
                        <a:lnTo>
                          <a:pt x="192" y="38"/>
                        </a:lnTo>
                        <a:lnTo>
                          <a:pt x="194" y="39"/>
                        </a:lnTo>
                        <a:lnTo>
                          <a:pt x="195" y="42"/>
                        </a:lnTo>
                        <a:lnTo>
                          <a:pt x="196" y="45"/>
                        </a:lnTo>
                        <a:lnTo>
                          <a:pt x="191" y="42"/>
                        </a:lnTo>
                        <a:lnTo>
                          <a:pt x="185" y="41"/>
                        </a:lnTo>
                        <a:lnTo>
                          <a:pt x="179" y="38"/>
                        </a:lnTo>
                        <a:lnTo>
                          <a:pt x="173" y="36"/>
                        </a:lnTo>
                        <a:lnTo>
                          <a:pt x="167" y="35"/>
                        </a:lnTo>
                        <a:lnTo>
                          <a:pt x="162" y="35"/>
                        </a:lnTo>
                        <a:lnTo>
                          <a:pt x="156" y="35"/>
                        </a:lnTo>
                        <a:lnTo>
                          <a:pt x="150" y="35"/>
                        </a:lnTo>
                        <a:lnTo>
                          <a:pt x="143" y="35"/>
                        </a:lnTo>
                        <a:lnTo>
                          <a:pt x="137" y="35"/>
                        </a:lnTo>
                        <a:lnTo>
                          <a:pt x="130" y="35"/>
                        </a:lnTo>
                        <a:lnTo>
                          <a:pt x="124" y="36"/>
                        </a:lnTo>
                        <a:lnTo>
                          <a:pt x="117" y="36"/>
                        </a:lnTo>
                        <a:lnTo>
                          <a:pt x="110" y="38"/>
                        </a:lnTo>
                        <a:lnTo>
                          <a:pt x="102" y="41"/>
                        </a:lnTo>
                        <a:lnTo>
                          <a:pt x="95" y="42"/>
                        </a:lnTo>
                        <a:lnTo>
                          <a:pt x="91" y="42"/>
                        </a:lnTo>
                        <a:lnTo>
                          <a:pt x="85" y="42"/>
                        </a:lnTo>
                        <a:lnTo>
                          <a:pt x="81" y="42"/>
                        </a:lnTo>
                        <a:lnTo>
                          <a:pt x="75" y="43"/>
                        </a:lnTo>
                        <a:lnTo>
                          <a:pt x="65" y="43"/>
                        </a:lnTo>
                        <a:lnTo>
                          <a:pt x="56" y="42"/>
                        </a:lnTo>
                        <a:lnTo>
                          <a:pt x="46" y="41"/>
                        </a:lnTo>
                        <a:lnTo>
                          <a:pt x="37" y="39"/>
                        </a:lnTo>
                        <a:lnTo>
                          <a:pt x="27" y="38"/>
                        </a:lnTo>
                        <a:lnTo>
                          <a:pt x="18" y="35"/>
                        </a:lnTo>
                        <a:lnTo>
                          <a:pt x="8" y="33"/>
                        </a:lnTo>
                        <a:lnTo>
                          <a:pt x="0" y="32"/>
                        </a:lnTo>
                        <a:lnTo>
                          <a:pt x="14" y="20"/>
                        </a:lnTo>
                        <a:lnTo>
                          <a:pt x="31" y="12"/>
                        </a:lnTo>
                        <a:lnTo>
                          <a:pt x="50" y="6"/>
                        </a:lnTo>
                        <a:lnTo>
                          <a:pt x="69" y="1"/>
                        </a:lnTo>
                        <a:lnTo>
                          <a:pt x="88" y="0"/>
                        </a:lnTo>
                        <a:lnTo>
                          <a:pt x="107" y="0"/>
                        </a:lnTo>
                        <a:lnTo>
                          <a:pt x="126" y="3"/>
                        </a:lnTo>
                        <a:lnTo>
                          <a:pt x="143" y="9"/>
                        </a:lnTo>
                        <a:lnTo>
                          <a:pt x="152" y="13"/>
                        </a:lnTo>
                        <a:lnTo>
                          <a:pt x="160" y="17"/>
                        </a:lnTo>
                        <a:lnTo>
                          <a:pt x="169" y="23"/>
                        </a:lnTo>
                        <a:lnTo>
                          <a:pt x="179" y="26"/>
                        </a:lnTo>
                        <a:lnTo>
                          <a:pt x="191" y="35"/>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547" name=""/>
                  <p:cNvSpPr/>
                  <p:nvPr/>
                </p:nvSpPr>
                <p:spPr>
                  <a:xfrm flipH="1">
                    <a:off x="3357000" y="2917080"/>
                    <a:ext cx="64440" cy="14040"/>
                  </a:xfrm>
                  <a:custGeom>
                    <a:avLst/>
                    <a:gdLst/>
                    <a:ahLst/>
                    <a:rect l="l" t="t" r="r" b="b"/>
                    <a:pathLst>
                      <a:path w="170" h="42">
                        <a:moveTo>
                          <a:pt x="170" y="16"/>
                        </a:moveTo>
                        <a:lnTo>
                          <a:pt x="143" y="21"/>
                        </a:lnTo>
                        <a:lnTo>
                          <a:pt x="143" y="20"/>
                        </a:lnTo>
                        <a:lnTo>
                          <a:pt x="124" y="23"/>
                        </a:lnTo>
                        <a:lnTo>
                          <a:pt x="107" y="27"/>
                        </a:lnTo>
                        <a:lnTo>
                          <a:pt x="88" y="33"/>
                        </a:lnTo>
                        <a:lnTo>
                          <a:pt x="69" y="37"/>
                        </a:lnTo>
                        <a:lnTo>
                          <a:pt x="50" y="40"/>
                        </a:lnTo>
                        <a:lnTo>
                          <a:pt x="33" y="42"/>
                        </a:lnTo>
                        <a:lnTo>
                          <a:pt x="15" y="37"/>
                        </a:lnTo>
                        <a:lnTo>
                          <a:pt x="0" y="29"/>
                        </a:lnTo>
                        <a:lnTo>
                          <a:pt x="1" y="23"/>
                        </a:lnTo>
                        <a:lnTo>
                          <a:pt x="23" y="11"/>
                        </a:lnTo>
                        <a:lnTo>
                          <a:pt x="44" y="4"/>
                        </a:lnTo>
                        <a:lnTo>
                          <a:pt x="66" y="1"/>
                        </a:lnTo>
                        <a:lnTo>
                          <a:pt x="88" y="0"/>
                        </a:lnTo>
                        <a:lnTo>
                          <a:pt x="108" y="1"/>
                        </a:lnTo>
                        <a:lnTo>
                          <a:pt x="128" y="6"/>
                        </a:lnTo>
                        <a:lnTo>
                          <a:pt x="150" y="10"/>
                        </a:lnTo>
                        <a:lnTo>
                          <a:pt x="170"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8" name=""/>
                  <p:cNvSpPr/>
                  <p:nvPr/>
                </p:nvSpPr>
                <p:spPr>
                  <a:xfrm flipH="1">
                    <a:off x="2988000" y="2790360"/>
                    <a:ext cx="23760" cy="60480"/>
                  </a:xfrm>
                  <a:custGeom>
                    <a:avLst/>
                    <a:gdLst/>
                    <a:ahLst/>
                    <a:rect l="l" t="t" r="r" b="b"/>
                    <a:pathLst>
                      <a:path w="63" h="178">
                        <a:moveTo>
                          <a:pt x="63" y="5"/>
                        </a:moveTo>
                        <a:lnTo>
                          <a:pt x="56" y="32"/>
                        </a:lnTo>
                        <a:lnTo>
                          <a:pt x="43" y="58"/>
                        </a:lnTo>
                        <a:lnTo>
                          <a:pt x="29" y="84"/>
                        </a:lnTo>
                        <a:lnTo>
                          <a:pt x="23" y="113"/>
                        </a:lnTo>
                        <a:lnTo>
                          <a:pt x="21" y="129"/>
                        </a:lnTo>
                        <a:lnTo>
                          <a:pt x="21" y="145"/>
                        </a:lnTo>
                        <a:lnTo>
                          <a:pt x="21" y="161"/>
                        </a:lnTo>
                        <a:lnTo>
                          <a:pt x="26" y="178"/>
                        </a:lnTo>
                        <a:lnTo>
                          <a:pt x="20" y="172"/>
                        </a:lnTo>
                        <a:lnTo>
                          <a:pt x="16" y="164"/>
                        </a:lnTo>
                        <a:lnTo>
                          <a:pt x="11" y="155"/>
                        </a:lnTo>
                        <a:lnTo>
                          <a:pt x="7" y="148"/>
                        </a:lnTo>
                        <a:lnTo>
                          <a:pt x="1" y="127"/>
                        </a:lnTo>
                        <a:lnTo>
                          <a:pt x="0" y="107"/>
                        </a:lnTo>
                        <a:lnTo>
                          <a:pt x="0" y="87"/>
                        </a:lnTo>
                        <a:lnTo>
                          <a:pt x="4" y="68"/>
                        </a:lnTo>
                        <a:lnTo>
                          <a:pt x="11" y="49"/>
                        </a:lnTo>
                        <a:lnTo>
                          <a:pt x="23" y="33"/>
                        </a:lnTo>
                        <a:lnTo>
                          <a:pt x="34" y="18"/>
                        </a:lnTo>
                        <a:lnTo>
                          <a:pt x="46" y="3"/>
                        </a:lnTo>
                        <a:lnTo>
                          <a:pt x="52" y="0"/>
                        </a:lnTo>
                        <a:lnTo>
                          <a:pt x="56" y="0"/>
                        </a:lnTo>
                        <a:lnTo>
                          <a:pt x="60" y="2"/>
                        </a:lnTo>
                        <a:lnTo>
                          <a:pt x="63" y="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49" name=""/>
                  <p:cNvSpPr/>
                  <p:nvPr/>
                </p:nvSpPr>
                <p:spPr>
                  <a:xfrm flipH="1">
                    <a:off x="3390840" y="2940480"/>
                    <a:ext cx="52920" cy="12960"/>
                  </a:xfrm>
                  <a:custGeom>
                    <a:avLst/>
                    <a:gdLst/>
                    <a:ahLst/>
                    <a:rect l="l" t="t" r="r" b="b"/>
                    <a:pathLst>
                      <a:path w="140" h="39">
                        <a:moveTo>
                          <a:pt x="52" y="1"/>
                        </a:moveTo>
                        <a:lnTo>
                          <a:pt x="56" y="1"/>
                        </a:lnTo>
                        <a:lnTo>
                          <a:pt x="62" y="1"/>
                        </a:lnTo>
                        <a:lnTo>
                          <a:pt x="66" y="0"/>
                        </a:lnTo>
                        <a:lnTo>
                          <a:pt x="71" y="0"/>
                        </a:lnTo>
                        <a:lnTo>
                          <a:pt x="79" y="1"/>
                        </a:lnTo>
                        <a:lnTo>
                          <a:pt x="88" y="4"/>
                        </a:lnTo>
                        <a:lnTo>
                          <a:pt x="97" y="5"/>
                        </a:lnTo>
                        <a:lnTo>
                          <a:pt x="105" y="5"/>
                        </a:lnTo>
                        <a:lnTo>
                          <a:pt x="114" y="7"/>
                        </a:lnTo>
                        <a:lnTo>
                          <a:pt x="123" y="8"/>
                        </a:lnTo>
                        <a:lnTo>
                          <a:pt x="131" y="11"/>
                        </a:lnTo>
                        <a:lnTo>
                          <a:pt x="140" y="13"/>
                        </a:lnTo>
                        <a:lnTo>
                          <a:pt x="139" y="16"/>
                        </a:lnTo>
                        <a:lnTo>
                          <a:pt x="131" y="18"/>
                        </a:lnTo>
                        <a:lnTo>
                          <a:pt x="126" y="21"/>
                        </a:lnTo>
                        <a:lnTo>
                          <a:pt x="118" y="24"/>
                        </a:lnTo>
                        <a:lnTo>
                          <a:pt x="111" y="27"/>
                        </a:lnTo>
                        <a:lnTo>
                          <a:pt x="104" y="30"/>
                        </a:lnTo>
                        <a:lnTo>
                          <a:pt x="97" y="32"/>
                        </a:lnTo>
                        <a:lnTo>
                          <a:pt x="89" y="34"/>
                        </a:lnTo>
                        <a:lnTo>
                          <a:pt x="82" y="36"/>
                        </a:lnTo>
                        <a:lnTo>
                          <a:pt x="82" y="34"/>
                        </a:lnTo>
                        <a:lnTo>
                          <a:pt x="72" y="36"/>
                        </a:lnTo>
                        <a:lnTo>
                          <a:pt x="60" y="37"/>
                        </a:lnTo>
                        <a:lnTo>
                          <a:pt x="50" y="39"/>
                        </a:lnTo>
                        <a:lnTo>
                          <a:pt x="39" y="39"/>
                        </a:lnTo>
                        <a:lnTo>
                          <a:pt x="29" y="39"/>
                        </a:lnTo>
                        <a:lnTo>
                          <a:pt x="18" y="37"/>
                        </a:lnTo>
                        <a:lnTo>
                          <a:pt x="8" y="33"/>
                        </a:lnTo>
                        <a:lnTo>
                          <a:pt x="0" y="26"/>
                        </a:lnTo>
                        <a:lnTo>
                          <a:pt x="4" y="20"/>
                        </a:lnTo>
                        <a:lnTo>
                          <a:pt x="10" y="16"/>
                        </a:lnTo>
                        <a:lnTo>
                          <a:pt x="16" y="13"/>
                        </a:lnTo>
                        <a:lnTo>
                          <a:pt x="23" y="10"/>
                        </a:lnTo>
                        <a:lnTo>
                          <a:pt x="30" y="7"/>
                        </a:lnTo>
                        <a:lnTo>
                          <a:pt x="37" y="5"/>
                        </a:lnTo>
                        <a:lnTo>
                          <a:pt x="45" y="3"/>
                        </a:lnTo>
                        <a:lnTo>
                          <a:pt x="52" y="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50" name=""/>
                  <p:cNvSpPr/>
                  <p:nvPr/>
                </p:nvSpPr>
                <p:spPr>
                  <a:xfrm flipH="1">
                    <a:off x="3425040" y="2966040"/>
                    <a:ext cx="45000" cy="12240"/>
                  </a:xfrm>
                  <a:custGeom>
                    <a:avLst/>
                    <a:gdLst/>
                    <a:ahLst/>
                    <a:rect l="l" t="t" r="r" b="b"/>
                    <a:pathLst>
                      <a:path w="119" h="36">
                        <a:moveTo>
                          <a:pt x="60" y="0"/>
                        </a:moveTo>
                        <a:lnTo>
                          <a:pt x="64" y="1"/>
                        </a:lnTo>
                        <a:lnTo>
                          <a:pt x="70" y="0"/>
                        </a:lnTo>
                        <a:lnTo>
                          <a:pt x="74" y="0"/>
                        </a:lnTo>
                        <a:lnTo>
                          <a:pt x="78" y="0"/>
                        </a:lnTo>
                        <a:lnTo>
                          <a:pt x="88" y="1"/>
                        </a:lnTo>
                        <a:lnTo>
                          <a:pt x="100" y="3"/>
                        </a:lnTo>
                        <a:lnTo>
                          <a:pt x="110" y="6"/>
                        </a:lnTo>
                        <a:lnTo>
                          <a:pt x="119" y="13"/>
                        </a:lnTo>
                        <a:lnTo>
                          <a:pt x="113" y="19"/>
                        </a:lnTo>
                        <a:lnTo>
                          <a:pt x="106" y="23"/>
                        </a:lnTo>
                        <a:lnTo>
                          <a:pt x="97" y="26"/>
                        </a:lnTo>
                        <a:lnTo>
                          <a:pt x="90" y="29"/>
                        </a:lnTo>
                        <a:lnTo>
                          <a:pt x="81" y="30"/>
                        </a:lnTo>
                        <a:lnTo>
                          <a:pt x="73" y="32"/>
                        </a:lnTo>
                        <a:lnTo>
                          <a:pt x="64" y="33"/>
                        </a:lnTo>
                        <a:lnTo>
                          <a:pt x="55" y="36"/>
                        </a:lnTo>
                        <a:lnTo>
                          <a:pt x="48" y="36"/>
                        </a:lnTo>
                        <a:lnTo>
                          <a:pt x="41" y="36"/>
                        </a:lnTo>
                        <a:lnTo>
                          <a:pt x="35" y="36"/>
                        </a:lnTo>
                        <a:lnTo>
                          <a:pt x="28" y="36"/>
                        </a:lnTo>
                        <a:lnTo>
                          <a:pt x="20" y="36"/>
                        </a:lnTo>
                        <a:lnTo>
                          <a:pt x="15" y="35"/>
                        </a:lnTo>
                        <a:lnTo>
                          <a:pt x="7" y="33"/>
                        </a:lnTo>
                        <a:lnTo>
                          <a:pt x="0" y="32"/>
                        </a:lnTo>
                        <a:lnTo>
                          <a:pt x="5" y="26"/>
                        </a:lnTo>
                        <a:lnTo>
                          <a:pt x="10" y="20"/>
                        </a:lnTo>
                        <a:lnTo>
                          <a:pt x="18" y="16"/>
                        </a:lnTo>
                        <a:lnTo>
                          <a:pt x="26" y="11"/>
                        </a:lnTo>
                        <a:lnTo>
                          <a:pt x="35" y="9"/>
                        </a:lnTo>
                        <a:lnTo>
                          <a:pt x="44" y="6"/>
                        </a:lnTo>
                        <a:lnTo>
                          <a:pt x="52" y="3"/>
                        </a:lnTo>
                        <a:lnTo>
                          <a:pt x="60"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551" name=""/>
                  <p:cNvSpPr/>
                  <p:nvPr/>
                </p:nvSpPr>
                <p:spPr>
                  <a:xfrm flipH="1">
                    <a:off x="3444120" y="2990520"/>
                    <a:ext cx="41760" cy="11160"/>
                  </a:xfrm>
                  <a:custGeom>
                    <a:avLst/>
                    <a:gdLst/>
                    <a:ahLst/>
                    <a:rect l="l" t="t" r="r" b="b"/>
                    <a:pathLst>
                      <a:path w="110" h="33">
                        <a:moveTo>
                          <a:pt x="43" y="3"/>
                        </a:moveTo>
                        <a:lnTo>
                          <a:pt x="52" y="0"/>
                        </a:lnTo>
                        <a:lnTo>
                          <a:pt x="60" y="0"/>
                        </a:lnTo>
                        <a:lnTo>
                          <a:pt x="69" y="0"/>
                        </a:lnTo>
                        <a:lnTo>
                          <a:pt x="78" y="0"/>
                        </a:lnTo>
                        <a:lnTo>
                          <a:pt x="85" y="2"/>
                        </a:lnTo>
                        <a:lnTo>
                          <a:pt x="92" y="3"/>
                        </a:lnTo>
                        <a:lnTo>
                          <a:pt x="101" y="6"/>
                        </a:lnTo>
                        <a:lnTo>
                          <a:pt x="108" y="7"/>
                        </a:lnTo>
                        <a:lnTo>
                          <a:pt x="110" y="12"/>
                        </a:lnTo>
                        <a:lnTo>
                          <a:pt x="97" y="19"/>
                        </a:lnTo>
                        <a:lnTo>
                          <a:pt x="82" y="25"/>
                        </a:lnTo>
                        <a:lnTo>
                          <a:pt x="69" y="29"/>
                        </a:lnTo>
                        <a:lnTo>
                          <a:pt x="55" y="31"/>
                        </a:lnTo>
                        <a:lnTo>
                          <a:pt x="40" y="32"/>
                        </a:lnTo>
                        <a:lnTo>
                          <a:pt x="27" y="33"/>
                        </a:lnTo>
                        <a:lnTo>
                          <a:pt x="13" y="33"/>
                        </a:lnTo>
                        <a:lnTo>
                          <a:pt x="0" y="32"/>
                        </a:lnTo>
                        <a:lnTo>
                          <a:pt x="4" y="29"/>
                        </a:lnTo>
                        <a:lnTo>
                          <a:pt x="8" y="23"/>
                        </a:lnTo>
                        <a:lnTo>
                          <a:pt x="13" y="18"/>
                        </a:lnTo>
                        <a:lnTo>
                          <a:pt x="19" y="12"/>
                        </a:lnTo>
                        <a:lnTo>
                          <a:pt x="24" y="10"/>
                        </a:lnTo>
                        <a:lnTo>
                          <a:pt x="30" y="6"/>
                        </a:lnTo>
                        <a:lnTo>
                          <a:pt x="36" y="3"/>
                        </a:lnTo>
                        <a:lnTo>
                          <a:pt x="42" y="2"/>
                        </a:lnTo>
                        <a:lnTo>
                          <a:pt x="43"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52" name=""/>
                  <p:cNvSpPr/>
                  <p:nvPr/>
                </p:nvSpPr>
                <p:spPr>
                  <a:xfrm flipH="1">
                    <a:off x="3272400" y="2938320"/>
                    <a:ext cx="24120" cy="9000"/>
                  </a:xfrm>
                  <a:custGeom>
                    <a:avLst/>
                    <a:gdLst/>
                    <a:ahLst/>
                    <a:rect l="l" t="t" r="r" b="b"/>
                    <a:pathLst>
                      <a:path w="64" h="27">
                        <a:moveTo>
                          <a:pt x="64" y="3"/>
                        </a:moveTo>
                        <a:lnTo>
                          <a:pt x="61" y="7"/>
                        </a:lnTo>
                        <a:lnTo>
                          <a:pt x="61" y="14"/>
                        </a:lnTo>
                        <a:lnTo>
                          <a:pt x="61" y="20"/>
                        </a:lnTo>
                        <a:lnTo>
                          <a:pt x="58" y="26"/>
                        </a:lnTo>
                        <a:lnTo>
                          <a:pt x="51" y="24"/>
                        </a:lnTo>
                        <a:lnTo>
                          <a:pt x="44" y="24"/>
                        </a:lnTo>
                        <a:lnTo>
                          <a:pt x="35" y="26"/>
                        </a:lnTo>
                        <a:lnTo>
                          <a:pt x="28" y="27"/>
                        </a:lnTo>
                        <a:lnTo>
                          <a:pt x="19" y="27"/>
                        </a:lnTo>
                        <a:lnTo>
                          <a:pt x="12" y="26"/>
                        </a:lnTo>
                        <a:lnTo>
                          <a:pt x="6" y="22"/>
                        </a:lnTo>
                        <a:lnTo>
                          <a:pt x="0" y="16"/>
                        </a:lnTo>
                        <a:lnTo>
                          <a:pt x="8" y="13"/>
                        </a:lnTo>
                        <a:lnTo>
                          <a:pt x="16" y="9"/>
                        </a:lnTo>
                        <a:lnTo>
                          <a:pt x="25" y="6"/>
                        </a:lnTo>
                        <a:lnTo>
                          <a:pt x="32" y="3"/>
                        </a:lnTo>
                        <a:lnTo>
                          <a:pt x="41" y="0"/>
                        </a:lnTo>
                        <a:lnTo>
                          <a:pt x="50" y="0"/>
                        </a:lnTo>
                        <a:lnTo>
                          <a:pt x="57" y="0"/>
                        </a:lnTo>
                        <a:lnTo>
                          <a:pt x="64" y="3"/>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553" name=""/>
                  <p:cNvSpPr/>
                  <p:nvPr/>
                </p:nvSpPr>
                <p:spPr>
                  <a:xfrm flipH="1">
                    <a:off x="3456000" y="3008160"/>
                    <a:ext cx="38160" cy="13680"/>
                  </a:xfrm>
                  <a:custGeom>
                    <a:avLst/>
                    <a:gdLst/>
                    <a:ahLst/>
                    <a:rect l="l" t="t" r="r" b="b"/>
                    <a:pathLst>
                      <a:path w="101" h="41">
                        <a:moveTo>
                          <a:pt x="72" y="2"/>
                        </a:moveTo>
                        <a:lnTo>
                          <a:pt x="81" y="0"/>
                        </a:lnTo>
                        <a:lnTo>
                          <a:pt x="88" y="2"/>
                        </a:lnTo>
                        <a:lnTo>
                          <a:pt x="94" y="3"/>
                        </a:lnTo>
                        <a:lnTo>
                          <a:pt x="101" y="6"/>
                        </a:lnTo>
                        <a:lnTo>
                          <a:pt x="101" y="13"/>
                        </a:lnTo>
                        <a:lnTo>
                          <a:pt x="91" y="19"/>
                        </a:lnTo>
                        <a:lnTo>
                          <a:pt x="81" y="23"/>
                        </a:lnTo>
                        <a:lnTo>
                          <a:pt x="69" y="28"/>
                        </a:lnTo>
                        <a:lnTo>
                          <a:pt x="58" y="32"/>
                        </a:lnTo>
                        <a:lnTo>
                          <a:pt x="46" y="35"/>
                        </a:lnTo>
                        <a:lnTo>
                          <a:pt x="35" y="38"/>
                        </a:lnTo>
                        <a:lnTo>
                          <a:pt x="25" y="39"/>
                        </a:lnTo>
                        <a:lnTo>
                          <a:pt x="13" y="41"/>
                        </a:lnTo>
                        <a:lnTo>
                          <a:pt x="0" y="35"/>
                        </a:lnTo>
                        <a:lnTo>
                          <a:pt x="6" y="28"/>
                        </a:lnTo>
                        <a:lnTo>
                          <a:pt x="13" y="20"/>
                        </a:lnTo>
                        <a:lnTo>
                          <a:pt x="22" y="15"/>
                        </a:lnTo>
                        <a:lnTo>
                          <a:pt x="32" y="10"/>
                        </a:lnTo>
                        <a:lnTo>
                          <a:pt x="42" y="6"/>
                        </a:lnTo>
                        <a:lnTo>
                          <a:pt x="52" y="3"/>
                        </a:lnTo>
                        <a:lnTo>
                          <a:pt x="62" y="2"/>
                        </a:lnTo>
                        <a:lnTo>
                          <a:pt x="72" y="2"/>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554" name=""/>
                  <p:cNvSpPr/>
                  <p:nvPr/>
                </p:nvSpPr>
                <p:spPr>
                  <a:xfrm flipH="1">
                    <a:off x="3231360" y="2936160"/>
                    <a:ext cx="24840" cy="7920"/>
                  </a:xfrm>
                  <a:custGeom>
                    <a:avLst/>
                    <a:gdLst/>
                    <a:ahLst/>
                    <a:rect l="l" t="t" r="r" b="b"/>
                    <a:pathLst>
                      <a:path w="66" h="24">
                        <a:moveTo>
                          <a:pt x="62" y="0"/>
                        </a:moveTo>
                        <a:lnTo>
                          <a:pt x="66" y="5"/>
                        </a:lnTo>
                        <a:lnTo>
                          <a:pt x="64" y="10"/>
                        </a:lnTo>
                        <a:lnTo>
                          <a:pt x="59" y="14"/>
                        </a:lnTo>
                        <a:lnTo>
                          <a:pt x="56" y="18"/>
                        </a:lnTo>
                        <a:lnTo>
                          <a:pt x="49" y="23"/>
                        </a:lnTo>
                        <a:lnTo>
                          <a:pt x="42" y="24"/>
                        </a:lnTo>
                        <a:lnTo>
                          <a:pt x="35" y="24"/>
                        </a:lnTo>
                        <a:lnTo>
                          <a:pt x="27" y="23"/>
                        </a:lnTo>
                        <a:lnTo>
                          <a:pt x="22" y="23"/>
                        </a:lnTo>
                        <a:lnTo>
                          <a:pt x="14" y="21"/>
                        </a:lnTo>
                        <a:lnTo>
                          <a:pt x="9" y="20"/>
                        </a:lnTo>
                        <a:lnTo>
                          <a:pt x="1" y="20"/>
                        </a:lnTo>
                        <a:lnTo>
                          <a:pt x="0" y="17"/>
                        </a:lnTo>
                        <a:lnTo>
                          <a:pt x="1" y="16"/>
                        </a:lnTo>
                        <a:lnTo>
                          <a:pt x="3" y="14"/>
                        </a:lnTo>
                        <a:lnTo>
                          <a:pt x="4" y="13"/>
                        </a:lnTo>
                        <a:lnTo>
                          <a:pt x="12" y="10"/>
                        </a:lnTo>
                        <a:lnTo>
                          <a:pt x="19" y="7"/>
                        </a:lnTo>
                        <a:lnTo>
                          <a:pt x="26" y="4"/>
                        </a:lnTo>
                        <a:lnTo>
                          <a:pt x="33" y="3"/>
                        </a:lnTo>
                        <a:lnTo>
                          <a:pt x="40" y="1"/>
                        </a:lnTo>
                        <a:lnTo>
                          <a:pt x="48" y="0"/>
                        </a:lnTo>
                        <a:lnTo>
                          <a:pt x="55" y="0"/>
                        </a:lnTo>
                        <a:lnTo>
                          <a:pt x="62"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5" name=""/>
                  <p:cNvSpPr/>
                  <p:nvPr/>
                </p:nvSpPr>
                <p:spPr>
                  <a:xfrm flipH="1">
                    <a:off x="3033720" y="2867400"/>
                    <a:ext cx="171000" cy="72720"/>
                  </a:xfrm>
                  <a:custGeom>
                    <a:avLst/>
                    <a:gdLst/>
                    <a:ahLst/>
                    <a:rect l="l" t="t" r="r" b="b"/>
                    <a:pathLst>
                      <a:path w="450" h="214">
                        <a:moveTo>
                          <a:pt x="450" y="0"/>
                        </a:moveTo>
                        <a:lnTo>
                          <a:pt x="438" y="24"/>
                        </a:lnTo>
                        <a:lnTo>
                          <a:pt x="425" y="47"/>
                        </a:lnTo>
                        <a:lnTo>
                          <a:pt x="411" y="69"/>
                        </a:lnTo>
                        <a:lnTo>
                          <a:pt x="395" y="89"/>
                        </a:lnTo>
                        <a:lnTo>
                          <a:pt x="377" y="110"/>
                        </a:lnTo>
                        <a:lnTo>
                          <a:pt x="360" y="128"/>
                        </a:lnTo>
                        <a:lnTo>
                          <a:pt x="343" y="147"/>
                        </a:lnTo>
                        <a:lnTo>
                          <a:pt x="325" y="166"/>
                        </a:lnTo>
                        <a:lnTo>
                          <a:pt x="317" y="173"/>
                        </a:lnTo>
                        <a:lnTo>
                          <a:pt x="305" y="180"/>
                        </a:lnTo>
                        <a:lnTo>
                          <a:pt x="295" y="186"/>
                        </a:lnTo>
                        <a:lnTo>
                          <a:pt x="282" y="191"/>
                        </a:lnTo>
                        <a:lnTo>
                          <a:pt x="270" y="195"/>
                        </a:lnTo>
                        <a:lnTo>
                          <a:pt x="257" y="199"/>
                        </a:lnTo>
                        <a:lnTo>
                          <a:pt x="244" y="202"/>
                        </a:lnTo>
                        <a:lnTo>
                          <a:pt x="233" y="205"/>
                        </a:lnTo>
                        <a:lnTo>
                          <a:pt x="228" y="205"/>
                        </a:lnTo>
                        <a:lnTo>
                          <a:pt x="224" y="205"/>
                        </a:lnTo>
                        <a:lnTo>
                          <a:pt x="220" y="205"/>
                        </a:lnTo>
                        <a:lnTo>
                          <a:pt x="215" y="205"/>
                        </a:lnTo>
                        <a:lnTo>
                          <a:pt x="191" y="204"/>
                        </a:lnTo>
                        <a:lnTo>
                          <a:pt x="168" y="204"/>
                        </a:lnTo>
                        <a:lnTo>
                          <a:pt x="143" y="205"/>
                        </a:lnTo>
                        <a:lnTo>
                          <a:pt x="119" y="206"/>
                        </a:lnTo>
                        <a:lnTo>
                          <a:pt x="95" y="209"/>
                        </a:lnTo>
                        <a:lnTo>
                          <a:pt x="71" y="212"/>
                        </a:lnTo>
                        <a:lnTo>
                          <a:pt x="46" y="214"/>
                        </a:lnTo>
                        <a:lnTo>
                          <a:pt x="22" y="214"/>
                        </a:lnTo>
                        <a:lnTo>
                          <a:pt x="16" y="212"/>
                        </a:lnTo>
                        <a:lnTo>
                          <a:pt x="12" y="212"/>
                        </a:lnTo>
                        <a:lnTo>
                          <a:pt x="6" y="211"/>
                        </a:lnTo>
                        <a:lnTo>
                          <a:pt x="0" y="209"/>
                        </a:lnTo>
                        <a:lnTo>
                          <a:pt x="23" y="205"/>
                        </a:lnTo>
                        <a:lnTo>
                          <a:pt x="25" y="206"/>
                        </a:lnTo>
                        <a:lnTo>
                          <a:pt x="36" y="205"/>
                        </a:lnTo>
                        <a:lnTo>
                          <a:pt x="46" y="204"/>
                        </a:lnTo>
                        <a:lnTo>
                          <a:pt x="58" y="201"/>
                        </a:lnTo>
                        <a:lnTo>
                          <a:pt x="69" y="199"/>
                        </a:lnTo>
                        <a:lnTo>
                          <a:pt x="81" y="198"/>
                        </a:lnTo>
                        <a:lnTo>
                          <a:pt x="93" y="195"/>
                        </a:lnTo>
                        <a:lnTo>
                          <a:pt x="104" y="192"/>
                        </a:lnTo>
                        <a:lnTo>
                          <a:pt x="116" y="189"/>
                        </a:lnTo>
                        <a:lnTo>
                          <a:pt x="116" y="191"/>
                        </a:lnTo>
                        <a:lnTo>
                          <a:pt x="124" y="189"/>
                        </a:lnTo>
                        <a:lnTo>
                          <a:pt x="133" y="188"/>
                        </a:lnTo>
                        <a:lnTo>
                          <a:pt x="142" y="186"/>
                        </a:lnTo>
                        <a:lnTo>
                          <a:pt x="152" y="185"/>
                        </a:lnTo>
                        <a:lnTo>
                          <a:pt x="160" y="183"/>
                        </a:lnTo>
                        <a:lnTo>
                          <a:pt x="169" y="182"/>
                        </a:lnTo>
                        <a:lnTo>
                          <a:pt x="178" y="179"/>
                        </a:lnTo>
                        <a:lnTo>
                          <a:pt x="187" y="176"/>
                        </a:lnTo>
                        <a:lnTo>
                          <a:pt x="188" y="178"/>
                        </a:lnTo>
                        <a:lnTo>
                          <a:pt x="211" y="175"/>
                        </a:lnTo>
                        <a:lnTo>
                          <a:pt x="234" y="169"/>
                        </a:lnTo>
                        <a:lnTo>
                          <a:pt x="256" y="162"/>
                        </a:lnTo>
                        <a:lnTo>
                          <a:pt x="278" y="152"/>
                        </a:lnTo>
                        <a:lnTo>
                          <a:pt x="299" y="141"/>
                        </a:lnTo>
                        <a:lnTo>
                          <a:pt x="318" y="130"/>
                        </a:lnTo>
                        <a:lnTo>
                          <a:pt x="338" y="117"/>
                        </a:lnTo>
                        <a:lnTo>
                          <a:pt x="356" y="104"/>
                        </a:lnTo>
                        <a:lnTo>
                          <a:pt x="366" y="89"/>
                        </a:lnTo>
                        <a:lnTo>
                          <a:pt x="377" y="78"/>
                        </a:lnTo>
                        <a:lnTo>
                          <a:pt x="389" y="65"/>
                        </a:lnTo>
                        <a:lnTo>
                          <a:pt x="402" y="53"/>
                        </a:lnTo>
                        <a:lnTo>
                          <a:pt x="415" y="42"/>
                        </a:lnTo>
                        <a:lnTo>
                          <a:pt x="427" y="30"/>
                        </a:lnTo>
                        <a:lnTo>
                          <a:pt x="438" y="16"/>
                        </a:lnTo>
                        <a:lnTo>
                          <a:pt x="447" y="1"/>
                        </a:lnTo>
                        <a:lnTo>
                          <a:pt x="45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56" name=""/>
                  <p:cNvSpPr/>
                  <p:nvPr/>
                </p:nvSpPr>
                <p:spPr>
                  <a:xfrm flipH="1">
                    <a:off x="2989440" y="2856960"/>
                    <a:ext cx="8280" cy="18360"/>
                  </a:xfrm>
                  <a:custGeom>
                    <a:avLst/>
                    <a:gdLst/>
                    <a:ahLst/>
                    <a:rect l="l" t="t" r="r" b="b"/>
                    <a:pathLst>
                      <a:path w="22" h="54">
                        <a:moveTo>
                          <a:pt x="16" y="2"/>
                        </a:moveTo>
                        <a:lnTo>
                          <a:pt x="17" y="8"/>
                        </a:lnTo>
                        <a:lnTo>
                          <a:pt x="17" y="8"/>
                        </a:lnTo>
                        <a:lnTo>
                          <a:pt x="20" y="19"/>
                        </a:lnTo>
                        <a:lnTo>
                          <a:pt x="20" y="29"/>
                        </a:lnTo>
                        <a:lnTo>
                          <a:pt x="20" y="39"/>
                        </a:lnTo>
                        <a:lnTo>
                          <a:pt x="22" y="50"/>
                        </a:lnTo>
                        <a:lnTo>
                          <a:pt x="19" y="54"/>
                        </a:lnTo>
                        <a:lnTo>
                          <a:pt x="11" y="47"/>
                        </a:lnTo>
                        <a:lnTo>
                          <a:pt x="6" y="38"/>
                        </a:lnTo>
                        <a:lnTo>
                          <a:pt x="1" y="29"/>
                        </a:lnTo>
                        <a:lnTo>
                          <a:pt x="0" y="19"/>
                        </a:lnTo>
                        <a:lnTo>
                          <a:pt x="1" y="12"/>
                        </a:lnTo>
                        <a:lnTo>
                          <a:pt x="4" y="5"/>
                        </a:lnTo>
                        <a:lnTo>
                          <a:pt x="9" y="0"/>
                        </a:lnTo>
                        <a:lnTo>
                          <a:pt x="16" y="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57" name=""/>
                  <p:cNvSpPr/>
                  <p:nvPr/>
                </p:nvSpPr>
                <p:spPr>
                  <a:xfrm flipH="1">
                    <a:off x="3472920" y="3031200"/>
                    <a:ext cx="37440" cy="12240"/>
                  </a:xfrm>
                  <a:custGeom>
                    <a:avLst/>
                    <a:gdLst/>
                    <a:ahLst/>
                    <a:rect l="l" t="t" r="r" b="b"/>
                    <a:pathLst>
                      <a:path w="99" h="36">
                        <a:moveTo>
                          <a:pt x="82" y="0"/>
                        </a:moveTo>
                        <a:lnTo>
                          <a:pt x="86" y="1"/>
                        </a:lnTo>
                        <a:lnTo>
                          <a:pt x="92" y="3"/>
                        </a:lnTo>
                        <a:lnTo>
                          <a:pt x="97" y="6"/>
                        </a:lnTo>
                        <a:lnTo>
                          <a:pt x="99" y="11"/>
                        </a:lnTo>
                        <a:lnTo>
                          <a:pt x="95" y="16"/>
                        </a:lnTo>
                        <a:lnTo>
                          <a:pt x="89" y="20"/>
                        </a:lnTo>
                        <a:lnTo>
                          <a:pt x="84" y="23"/>
                        </a:lnTo>
                        <a:lnTo>
                          <a:pt x="78" y="26"/>
                        </a:lnTo>
                        <a:lnTo>
                          <a:pt x="71" y="29"/>
                        </a:lnTo>
                        <a:lnTo>
                          <a:pt x="63" y="30"/>
                        </a:lnTo>
                        <a:lnTo>
                          <a:pt x="57" y="33"/>
                        </a:lnTo>
                        <a:lnTo>
                          <a:pt x="50" y="34"/>
                        </a:lnTo>
                        <a:lnTo>
                          <a:pt x="46" y="33"/>
                        </a:lnTo>
                        <a:lnTo>
                          <a:pt x="39" y="34"/>
                        </a:lnTo>
                        <a:lnTo>
                          <a:pt x="33" y="36"/>
                        </a:lnTo>
                        <a:lnTo>
                          <a:pt x="27" y="36"/>
                        </a:lnTo>
                        <a:lnTo>
                          <a:pt x="20" y="34"/>
                        </a:lnTo>
                        <a:lnTo>
                          <a:pt x="14" y="33"/>
                        </a:lnTo>
                        <a:lnTo>
                          <a:pt x="7" y="32"/>
                        </a:lnTo>
                        <a:lnTo>
                          <a:pt x="0" y="33"/>
                        </a:lnTo>
                        <a:lnTo>
                          <a:pt x="3" y="26"/>
                        </a:lnTo>
                        <a:lnTo>
                          <a:pt x="10" y="20"/>
                        </a:lnTo>
                        <a:lnTo>
                          <a:pt x="17" y="14"/>
                        </a:lnTo>
                        <a:lnTo>
                          <a:pt x="24" y="8"/>
                        </a:lnTo>
                        <a:lnTo>
                          <a:pt x="31" y="4"/>
                        </a:lnTo>
                        <a:lnTo>
                          <a:pt x="39" y="3"/>
                        </a:lnTo>
                        <a:lnTo>
                          <a:pt x="46" y="1"/>
                        </a:lnTo>
                        <a:lnTo>
                          <a:pt x="53" y="0"/>
                        </a:lnTo>
                        <a:lnTo>
                          <a:pt x="60" y="0"/>
                        </a:lnTo>
                        <a:lnTo>
                          <a:pt x="68" y="1"/>
                        </a:lnTo>
                        <a:lnTo>
                          <a:pt x="75" y="0"/>
                        </a:lnTo>
                        <a:lnTo>
                          <a:pt x="82"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558" name=""/>
                  <p:cNvSpPr/>
                  <p:nvPr/>
                </p:nvSpPr>
                <p:spPr>
                  <a:xfrm flipH="1">
                    <a:off x="3354840" y="2997360"/>
                    <a:ext cx="66240" cy="24120"/>
                  </a:xfrm>
                  <a:custGeom>
                    <a:avLst/>
                    <a:gdLst/>
                    <a:ahLst/>
                    <a:rect l="l" t="t" r="r" b="b"/>
                    <a:pathLst>
                      <a:path w="175" h="71">
                        <a:moveTo>
                          <a:pt x="80" y="2"/>
                        </a:moveTo>
                        <a:lnTo>
                          <a:pt x="83" y="2"/>
                        </a:lnTo>
                        <a:lnTo>
                          <a:pt x="87" y="2"/>
                        </a:lnTo>
                        <a:lnTo>
                          <a:pt x="90" y="0"/>
                        </a:lnTo>
                        <a:lnTo>
                          <a:pt x="94" y="2"/>
                        </a:lnTo>
                        <a:lnTo>
                          <a:pt x="106" y="3"/>
                        </a:lnTo>
                        <a:lnTo>
                          <a:pt x="118" y="6"/>
                        </a:lnTo>
                        <a:lnTo>
                          <a:pt x="129" y="9"/>
                        </a:lnTo>
                        <a:lnTo>
                          <a:pt x="139" y="13"/>
                        </a:lnTo>
                        <a:lnTo>
                          <a:pt x="149" y="19"/>
                        </a:lnTo>
                        <a:lnTo>
                          <a:pt x="160" y="25"/>
                        </a:lnTo>
                        <a:lnTo>
                          <a:pt x="168" y="32"/>
                        </a:lnTo>
                        <a:lnTo>
                          <a:pt x="175" y="39"/>
                        </a:lnTo>
                        <a:lnTo>
                          <a:pt x="167" y="35"/>
                        </a:lnTo>
                        <a:lnTo>
                          <a:pt x="158" y="32"/>
                        </a:lnTo>
                        <a:lnTo>
                          <a:pt x="148" y="29"/>
                        </a:lnTo>
                        <a:lnTo>
                          <a:pt x="139" y="26"/>
                        </a:lnTo>
                        <a:lnTo>
                          <a:pt x="131" y="25"/>
                        </a:lnTo>
                        <a:lnTo>
                          <a:pt x="120" y="25"/>
                        </a:lnTo>
                        <a:lnTo>
                          <a:pt x="112" y="25"/>
                        </a:lnTo>
                        <a:lnTo>
                          <a:pt x="103" y="25"/>
                        </a:lnTo>
                        <a:lnTo>
                          <a:pt x="89" y="28"/>
                        </a:lnTo>
                        <a:lnTo>
                          <a:pt x="74" y="31"/>
                        </a:lnTo>
                        <a:lnTo>
                          <a:pt x="61" y="37"/>
                        </a:lnTo>
                        <a:lnTo>
                          <a:pt x="48" y="44"/>
                        </a:lnTo>
                        <a:lnTo>
                          <a:pt x="37" y="51"/>
                        </a:lnTo>
                        <a:lnTo>
                          <a:pt x="25" y="58"/>
                        </a:lnTo>
                        <a:lnTo>
                          <a:pt x="12" y="65"/>
                        </a:lnTo>
                        <a:lnTo>
                          <a:pt x="0" y="71"/>
                        </a:lnTo>
                        <a:lnTo>
                          <a:pt x="0" y="61"/>
                        </a:lnTo>
                        <a:lnTo>
                          <a:pt x="3" y="52"/>
                        </a:lnTo>
                        <a:lnTo>
                          <a:pt x="9" y="44"/>
                        </a:lnTo>
                        <a:lnTo>
                          <a:pt x="15" y="37"/>
                        </a:lnTo>
                        <a:lnTo>
                          <a:pt x="22" y="29"/>
                        </a:lnTo>
                        <a:lnTo>
                          <a:pt x="31" y="24"/>
                        </a:lnTo>
                        <a:lnTo>
                          <a:pt x="39" y="18"/>
                        </a:lnTo>
                        <a:lnTo>
                          <a:pt x="48" y="12"/>
                        </a:lnTo>
                        <a:lnTo>
                          <a:pt x="80" y="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559" name=""/>
                  <p:cNvSpPr/>
                  <p:nvPr/>
                </p:nvSpPr>
                <p:spPr>
                  <a:xfrm flipH="1">
                    <a:off x="2974680" y="2876400"/>
                    <a:ext cx="8280" cy="10800"/>
                  </a:xfrm>
                  <a:custGeom>
                    <a:avLst/>
                    <a:gdLst/>
                    <a:ahLst/>
                    <a:rect l="l" t="t" r="r" b="b"/>
                    <a:pathLst>
                      <a:path w="22" h="32">
                        <a:moveTo>
                          <a:pt x="20" y="4"/>
                        </a:moveTo>
                        <a:lnTo>
                          <a:pt x="22" y="11"/>
                        </a:lnTo>
                        <a:lnTo>
                          <a:pt x="22" y="19"/>
                        </a:lnTo>
                        <a:lnTo>
                          <a:pt x="20" y="24"/>
                        </a:lnTo>
                        <a:lnTo>
                          <a:pt x="17" y="32"/>
                        </a:lnTo>
                        <a:lnTo>
                          <a:pt x="11" y="26"/>
                        </a:lnTo>
                        <a:lnTo>
                          <a:pt x="4" y="19"/>
                        </a:lnTo>
                        <a:lnTo>
                          <a:pt x="0" y="11"/>
                        </a:lnTo>
                        <a:lnTo>
                          <a:pt x="0" y="1"/>
                        </a:lnTo>
                        <a:lnTo>
                          <a:pt x="6" y="0"/>
                        </a:lnTo>
                        <a:lnTo>
                          <a:pt x="10" y="0"/>
                        </a:lnTo>
                        <a:lnTo>
                          <a:pt x="14" y="1"/>
                        </a:lnTo>
                        <a:lnTo>
                          <a:pt x="20" y="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60" name=""/>
                  <p:cNvSpPr/>
                  <p:nvPr/>
                </p:nvSpPr>
                <p:spPr>
                  <a:xfrm flipH="1">
                    <a:off x="3500640" y="3057840"/>
                    <a:ext cx="34200" cy="9720"/>
                  </a:xfrm>
                  <a:custGeom>
                    <a:avLst/>
                    <a:gdLst/>
                    <a:ahLst/>
                    <a:rect l="l" t="t" r="r" b="b"/>
                    <a:pathLst>
                      <a:path w="91" h="29">
                        <a:moveTo>
                          <a:pt x="18" y="4"/>
                        </a:moveTo>
                        <a:lnTo>
                          <a:pt x="28" y="3"/>
                        </a:lnTo>
                        <a:lnTo>
                          <a:pt x="39" y="0"/>
                        </a:lnTo>
                        <a:lnTo>
                          <a:pt x="49" y="0"/>
                        </a:lnTo>
                        <a:lnTo>
                          <a:pt x="57" y="0"/>
                        </a:lnTo>
                        <a:lnTo>
                          <a:pt x="66" y="1"/>
                        </a:lnTo>
                        <a:lnTo>
                          <a:pt x="75" y="4"/>
                        </a:lnTo>
                        <a:lnTo>
                          <a:pt x="82" y="10"/>
                        </a:lnTo>
                        <a:lnTo>
                          <a:pt x="89" y="17"/>
                        </a:lnTo>
                        <a:lnTo>
                          <a:pt x="91" y="19"/>
                        </a:lnTo>
                        <a:lnTo>
                          <a:pt x="79" y="24"/>
                        </a:lnTo>
                        <a:lnTo>
                          <a:pt x="68" y="27"/>
                        </a:lnTo>
                        <a:lnTo>
                          <a:pt x="56" y="29"/>
                        </a:lnTo>
                        <a:lnTo>
                          <a:pt x="44" y="29"/>
                        </a:lnTo>
                        <a:lnTo>
                          <a:pt x="34" y="29"/>
                        </a:lnTo>
                        <a:lnTo>
                          <a:pt x="23" y="26"/>
                        </a:lnTo>
                        <a:lnTo>
                          <a:pt x="13" y="21"/>
                        </a:lnTo>
                        <a:lnTo>
                          <a:pt x="2" y="17"/>
                        </a:lnTo>
                        <a:lnTo>
                          <a:pt x="0" y="8"/>
                        </a:lnTo>
                        <a:lnTo>
                          <a:pt x="18" y="3"/>
                        </a:lnTo>
                        <a:lnTo>
                          <a:pt x="18" y="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61" name=""/>
                  <p:cNvSpPr/>
                  <p:nvPr/>
                </p:nvSpPr>
                <p:spPr>
                  <a:xfrm flipH="1">
                    <a:off x="3526200" y="3079080"/>
                    <a:ext cx="27360" cy="7920"/>
                  </a:xfrm>
                  <a:custGeom>
                    <a:avLst/>
                    <a:gdLst/>
                    <a:ahLst/>
                    <a:rect l="l" t="t" r="r" b="b"/>
                    <a:pathLst>
                      <a:path w="72" h="24">
                        <a:moveTo>
                          <a:pt x="72" y="12"/>
                        </a:moveTo>
                        <a:lnTo>
                          <a:pt x="69" y="16"/>
                        </a:lnTo>
                        <a:lnTo>
                          <a:pt x="65" y="19"/>
                        </a:lnTo>
                        <a:lnTo>
                          <a:pt x="61" y="21"/>
                        </a:lnTo>
                        <a:lnTo>
                          <a:pt x="56" y="22"/>
                        </a:lnTo>
                        <a:lnTo>
                          <a:pt x="52" y="22"/>
                        </a:lnTo>
                        <a:lnTo>
                          <a:pt x="46" y="22"/>
                        </a:lnTo>
                        <a:lnTo>
                          <a:pt x="42" y="24"/>
                        </a:lnTo>
                        <a:lnTo>
                          <a:pt x="36" y="24"/>
                        </a:lnTo>
                        <a:lnTo>
                          <a:pt x="26" y="21"/>
                        </a:lnTo>
                        <a:lnTo>
                          <a:pt x="16" y="19"/>
                        </a:lnTo>
                        <a:lnTo>
                          <a:pt x="6" y="15"/>
                        </a:lnTo>
                        <a:lnTo>
                          <a:pt x="0" y="6"/>
                        </a:lnTo>
                        <a:lnTo>
                          <a:pt x="8" y="5"/>
                        </a:lnTo>
                        <a:lnTo>
                          <a:pt x="19" y="3"/>
                        </a:lnTo>
                        <a:lnTo>
                          <a:pt x="29" y="2"/>
                        </a:lnTo>
                        <a:lnTo>
                          <a:pt x="37" y="0"/>
                        </a:lnTo>
                        <a:lnTo>
                          <a:pt x="48" y="0"/>
                        </a:lnTo>
                        <a:lnTo>
                          <a:pt x="56" y="2"/>
                        </a:lnTo>
                        <a:lnTo>
                          <a:pt x="65" y="6"/>
                        </a:lnTo>
                        <a:lnTo>
                          <a:pt x="72"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62" name=""/>
                  <p:cNvSpPr/>
                  <p:nvPr/>
                </p:nvSpPr>
                <p:spPr>
                  <a:xfrm flipH="1">
                    <a:off x="3327840" y="3018240"/>
                    <a:ext cx="24480" cy="8280"/>
                  </a:xfrm>
                  <a:custGeom>
                    <a:avLst/>
                    <a:gdLst/>
                    <a:ahLst/>
                    <a:rect l="l" t="t" r="r" b="b"/>
                    <a:pathLst>
                      <a:path w="65" h="25">
                        <a:moveTo>
                          <a:pt x="62" y="13"/>
                        </a:moveTo>
                        <a:lnTo>
                          <a:pt x="65" y="25"/>
                        </a:lnTo>
                        <a:lnTo>
                          <a:pt x="57" y="25"/>
                        </a:lnTo>
                        <a:lnTo>
                          <a:pt x="48" y="25"/>
                        </a:lnTo>
                        <a:lnTo>
                          <a:pt x="39" y="23"/>
                        </a:lnTo>
                        <a:lnTo>
                          <a:pt x="31" y="22"/>
                        </a:lnTo>
                        <a:lnTo>
                          <a:pt x="23" y="20"/>
                        </a:lnTo>
                        <a:lnTo>
                          <a:pt x="15" y="19"/>
                        </a:lnTo>
                        <a:lnTo>
                          <a:pt x="7" y="16"/>
                        </a:lnTo>
                        <a:lnTo>
                          <a:pt x="0" y="12"/>
                        </a:lnTo>
                        <a:lnTo>
                          <a:pt x="6" y="4"/>
                        </a:lnTo>
                        <a:lnTo>
                          <a:pt x="13" y="2"/>
                        </a:lnTo>
                        <a:lnTo>
                          <a:pt x="22" y="0"/>
                        </a:lnTo>
                        <a:lnTo>
                          <a:pt x="32" y="0"/>
                        </a:lnTo>
                        <a:lnTo>
                          <a:pt x="41" y="2"/>
                        </a:lnTo>
                        <a:lnTo>
                          <a:pt x="48" y="4"/>
                        </a:lnTo>
                        <a:lnTo>
                          <a:pt x="55" y="9"/>
                        </a:lnTo>
                        <a:lnTo>
                          <a:pt x="62" y="13"/>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63" name=""/>
                  <p:cNvSpPr/>
                  <p:nvPr/>
                </p:nvSpPr>
                <p:spPr>
                  <a:xfrm flipH="1">
                    <a:off x="3317040" y="3033360"/>
                    <a:ext cx="18360" cy="6840"/>
                  </a:xfrm>
                  <a:custGeom>
                    <a:avLst/>
                    <a:gdLst/>
                    <a:ahLst/>
                    <a:rect l="l" t="t" r="r" b="b"/>
                    <a:pathLst>
                      <a:path w="49" h="21">
                        <a:moveTo>
                          <a:pt x="10" y="0"/>
                        </a:moveTo>
                        <a:lnTo>
                          <a:pt x="13" y="1"/>
                        </a:lnTo>
                        <a:lnTo>
                          <a:pt x="17" y="1"/>
                        </a:lnTo>
                        <a:lnTo>
                          <a:pt x="21" y="1"/>
                        </a:lnTo>
                        <a:lnTo>
                          <a:pt x="24" y="1"/>
                        </a:lnTo>
                        <a:lnTo>
                          <a:pt x="33" y="2"/>
                        </a:lnTo>
                        <a:lnTo>
                          <a:pt x="40" y="7"/>
                        </a:lnTo>
                        <a:lnTo>
                          <a:pt x="46" y="13"/>
                        </a:lnTo>
                        <a:lnTo>
                          <a:pt x="49" y="20"/>
                        </a:lnTo>
                        <a:lnTo>
                          <a:pt x="43" y="21"/>
                        </a:lnTo>
                        <a:lnTo>
                          <a:pt x="36" y="21"/>
                        </a:lnTo>
                        <a:lnTo>
                          <a:pt x="30" y="21"/>
                        </a:lnTo>
                        <a:lnTo>
                          <a:pt x="23" y="20"/>
                        </a:lnTo>
                        <a:lnTo>
                          <a:pt x="17" y="17"/>
                        </a:lnTo>
                        <a:lnTo>
                          <a:pt x="11" y="15"/>
                        </a:lnTo>
                        <a:lnTo>
                          <a:pt x="7" y="11"/>
                        </a:lnTo>
                        <a:lnTo>
                          <a:pt x="1" y="8"/>
                        </a:lnTo>
                        <a:lnTo>
                          <a:pt x="0" y="4"/>
                        </a:lnTo>
                        <a:lnTo>
                          <a:pt x="3" y="2"/>
                        </a:lnTo>
                        <a:lnTo>
                          <a:pt x="5" y="1"/>
                        </a:lnTo>
                        <a:lnTo>
                          <a:pt x="10"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grpSp>
            <p:grpSp>
              <p:nvGrpSpPr>
                <p:cNvPr id="2564" name=""/>
                <p:cNvGrpSpPr/>
                <p:nvPr/>
              </p:nvGrpSpPr>
              <p:grpSpPr>
                <a:xfrm>
                  <a:off x="2938320" y="2356200"/>
                  <a:ext cx="1203120" cy="696240"/>
                  <a:chOff x="2938320" y="2356200"/>
                  <a:chExt cx="1203120" cy="696240"/>
                </a:xfrm>
              </p:grpSpPr>
              <p:sp>
                <p:nvSpPr>
                  <p:cNvPr id="2565" name=""/>
                  <p:cNvSpPr/>
                  <p:nvPr/>
                </p:nvSpPr>
                <p:spPr>
                  <a:xfrm flipH="1">
                    <a:off x="2938320" y="2356200"/>
                    <a:ext cx="785520" cy="390240"/>
                  </a:xfrm>
                  <a:custGeom>
                    <a:avLst/>
                    <a:gdLst/>
                    <a:ahLst/>
                    <a:rect l="l" t="t" r="r" b="b"/>
                    <a:pathLst>
                      <a:path w="2807" h="1860">
                        <a:moveTo>
                          <a:pt x="1745" y="52"/>
                        </a:moveTo>
                        <a:lnTo>
                          <a:pt x="1767" y="57"/>
                        </a:lnTo>
                        <a:lnTo>
                          <a:pt x="1789" y="60"/>
                        </a:lnTo>
                        <a:lnTo>
                          <a:pt x="1813" y="62"/>
                        </a:lnTo>
                        <a:lnTo>
                          <a:pt x="1835" y="65"/>
                        </a:lnTo>
                        <a:lnTo>
                          <a:pt x="1856" y="68"/>
                        </a:lnTo>
                        <a:lnTo>
                          <a:pt x="1877" y="75"/>
                        </a:lnTo>
                        <a:lnTo>
                          <a:pt x="1896" y="86"/>
                        </a:lnTo>
                        <a:lnTo>
                          <a:pt x="1912" y="103"/>
                        </a:lnTo>
                        <a:lnTo>
                          <a:pt x="1927" y="109"/>
                        </a:lnTo>
                        <a:lnTo>
                          <a:pt x="1943" y="114"/>
                        </a:lnTo>
                        <a:lnTo>
                          <a:pt x="1958" y="121"/>
                        </a:lnTo>
                        <a:lnTo>
                          <a:pt x="1974" y="127"/>
                        </a:lnTo>
                        <a:lnTo>
                          <a:pt x="1989" y="133"/>
                        </a:lnTo>
                        <a:lnTo>
                          <a:pt x="2005" y="140"/>
                        </a:lnTo>
                        <a:lnTo>
                          <a:pt x="2020" y="147"/>
                        </a:lnTo>
                        <a:lnTo>
                          <a:pt x="2037" y="153"/>
                        </a:lnTo>
                        <a:lnTo>
                          <a:pt x="2066" y="163"/>
                        </a:lnTo>
                        <a:lnTo>
                          <a:pt x="2096" y="171"/>
                        </a:lnTo>
                        <a:lnTo>
                          <a:pt x="2126" y="180"/>
                        </a:lnTo>
                        <a:lnTo>
                          <a:pt x="2157" y="188"/>
                        </a:lnTo>
                        <a:lnTo>
                          <a:pt x="2188" y="195"/>
                        </a:lnTo>
                        <a:lnTo>
                          <a:pt x="2220" y="202"/>
                        </a:lnTo>
                        <a:lnTo>
                          <a:pt x="2249" y="210"/>
                        </a:lnTo>
                        <a:lnTo>
                          <a:pt x="2281" y="217"/>
                        </a:lnTo>
                        <a:lnTo>
                          <a:pt x="2310" y="226"/>
                        </a:lnTo>
                        <a:lnTo>
                          <a:pt x="2340" y="236"/>
                        </a:lnTo>
                        <a:lnTo>
                          <a:pt x="2369" y="246"/>
                        </a:lnTo>
                        <a:lnTo>
                          <a:pt x="2398" y="258"/>
                        </a:lnTo>
                        <a:lnTo>
                          <a:pt x="2425" y="272"/>
                        </a:lnTo>
                        <a:lnTo>
                          <a:pt x="2451" y="287"/>
                        </a:lnTo>
                        <a:lnTo>
                          <a:pt x="2477" y="305"/>
                        </a:lnTo>
                        <a:lnTo>
                          <a:pt x="2501" y="325"/>
                        </a:lnTo>
                        <a:lnTo>
                          <a:pt x="2497" y="343"/>
                        </a:lnTo>
                        <a:lnTo>
                          <a:pt x="2498" y="357"/>
                        </a:lnTo>
                        <a:lnTo>
                          <a:pt x="2505" y="371"/>
                        </a:lnTo>
                        <a:lnTo>
                          <a:pt x="2513" y="382"/>
                        </a:lnTo>
                        <a:lnTo>
                          <a:pt x="2522" y="395"/>
                        </a:lnTo>
                        <a:lnTo>
                          <a:pt x="2532" y="407"/>
                        </a:lnTo>
                        <a:lnTo>
                          <a:pt x="2539" y="419"/>
                        </a:lnTo>
                        <a:lnTo>
                          <a:pt x="2543" y="433"/>
                        </a:lnTo>
                        <a:lnTo>
                          <a:pt x="2552" y="459"/>
                        </a:lnTo>
                        <a:lnTo>
                          <a:pt x="2564" y="488"/>
                        </a:lnTo>
                        <a:lnTo>
                          <a:pt x="2578" y="516"/>
                        </a:lnTo>
                        <a:lnTo>
                          <a:pt x="2590" y="545"/>
                        </a:lnTo>
                        <a:lnTo>
                          <a:pt x="2599" y="573"/>
                        </a:lnTo>
                        <a:lnTo>
                          <a:pt x="2599" y="601"/>
                        </a:lnTo>
                        <a:lnTo>
                          <a:pt x="2589" y="625"/>
                        </a:lnTo>
                        <a:lnTo>
                          <a:pt x="2567" y="649"/>
                        </a:lnTo>
                        <a:lnTo>
                          <a:pt x="2547" y="651"/>
                        </a:lnTo>
                        <a:lnTo>
                          <a:pt x="2527" y="656"/>
                        </a:lnTo>
                        <a:lnTo>
                          <a:pt x="2508" y="661"/>
                        </a:lnTo>
                        <a:lnTo>
                          <a:pt x="2488" y="666"/>
                        </a:lnTo>
                        <a:lnTo>
                          <a:pt x="2470" y="671"/>
                        </a:lnTo>
                        <a:lnTo>
                          <a:pt x="2450" y="676"/>
                        </a:lnTo>
                        <a:lnTo>
                          <a:pt x="2430" y="680"/>
                        </a:lnTo>
                        <a:lnTo>
                          <a:pt x="2410" y="681"/>
                        </a:lnTo>
                        <a:lnTo>
                          <a:pt x="2424" y="699"/>
                        </a:lnTo>
                        <a:lnTo>
                          <a:pt x="2439" y="717"/>
                        </a:lnTo>
                        <a:lnTo>
                          <a:pt x="2454" y="736"/>
                        </a:lnTo>
                        <a:lnTo>
                          <a:pt x="2470" y="753"/>
                        </a:lnTo>
                        <a:lnTo>
                          <a:pt x="2487" y="769"/>
                        </a:lnTo>
                        <a:lnTo>
                          <a:pt x="2506" y="784"/>
                        </a:lnTo>
                        <a:lnTo>
                          <a:pt x="2527" y="797"/>
                        </a:lnTo>
                        <a:lnTo>
                          <a:pt x="2549" y="805"/>
                        </a:lnTo>
                        <a:lnTo>
                          <a:pt x="2564" y="805"/>
                        </a:lnTo>
                        <a:lnTo>
                          <a:pt x="2578" y="807"/>
                        </a:lnTo>
                        <a:lnTo>
                          <a:pt x="2593" y="807"/>
                        </a:lnTo>
                        <a:lnTo>
                          <a:pt x="2607" y="807"/>
                        </a:lnTo>
                        <a:lnTo>
                          <a:pt x="2622" y="805"/>
                        </a:lnTo>
                        <a:lnTo>
                          <a:pt x="2635" y="805"/>
                        </a:lnTo>
                        <a:lnTo>
                          <a:pt x="2649" y="804"/>
                        </a:lnTo>
                        <a:lnTo>
                          <a:pt x="2663" y="803"/>
                        </a:lnTo>
                        <a:lnTo>
                          <a:pt x="2676" y="802"/>
                        </a:lnTo>
                        <a:lnTo>
                          <a:pt x="2690" y="800"/>
                        </a:lnTo>
                        <a:lnTo>
                          <a:pt x="2702" y="798"/>
                        </a:lnTo>
                        <a:lnTo>
                          <a:pt x="2716" y="795"/>
                        </a:lnTo>
                        <a:lnTo>
                          <a:pt x="2729" y="792"/>
                        </a:lnTo>
                        <a:lnTo>
                          <a:pt x="2741" y="789"/>
                        </a:lnTo>
                        <a:lnTo>
                          <a:pt x="2753" y="785"/>
                        </a:lnTo>
                        <a:lnTo>
                          <a:pt x="2766" y="780"/>
                        </a:lnTo>
                        <a:lnTo>
                          <a:pt x="2766" y="798"/>
                        </a:lnTo>
                        <a:lnTo>
                          <a:pt x="2749" y="805"/>
                        </a:lnTo>
                        <a:lnTo>
                          <a:pt x="2729" y="811"/>
                        </a:lnTo>
                        <a:lnTo>
                          <a:pt x="2709" y="816"/>
                        </a:lnTo>
                        <a:lnTo>
                          <a:pt x="2689" y="820"/>
                        </a:lnTo>
                        <a:lnTo>
                          <a:pt x="2669" y="825"/>
                        </a:lnTo>
                        <a:lnTo>
                          <a:pt x="2649" y="830"/>
                        </a:lnTo>
                        <a:lnTo>
                          <a:pt x="2632" y="838"/>
                        </a:lnTo>
                        <a:lnTo>
                          <a:pt x="2617" y="847"/>
                        </a:lnTo>
                        <a:lnTo>
                          <a:pt x="2640" y="854"/>
                        </a:lnTo>
                        <a:lnTo>
                          <a:pt x="2664" y="859"/>
                        </a:lnTo>
                        <a:lnTo>
                          <a:pt x="2688" y="862"/>
                        </a:lnTo>
                        <a:lnTo>
                          <a:pt x="2710" y="864"/>
                        </a:lnTo>
                        <a:lnTo>
                          <a:pt x="2734" y="865"/>
                        </a:lnTo>
                        <a:lnTo>
                          <a:pt x="2757" y="864"/>
                        </a:lnTo>
                        <a:lnTo>
                          <a:pt x="2781" y="860"/>
                        </a:lnTo>
                        <a:lnTo>
                          <a:pt x="2807" y="856"/>
                        </a:lnTo>
                        <a:lnTo>
                          <a:pt x="2802" y="867"/>
                        </a:lnTo>
                        <a:lnTo>
                          <a:pt x="2795" y="876"/>
                        </a:lnTo>
                        <a:lnTo>
                          <a:pt x="2786" y="883"/>
                        </a:lnTo>
                        <a:lnTo>
                          <a:pt x="2775" y="890"/>
                        </a:lnTo>
                        <a:lnTo>
                          <a:pt x="2762" y="895"/>
                        </a:lnTo>
                        <a:lnTo>
                          <a:pt x="2750" y="898"/>
                        </a:lnTo>
                        <a:lnTo>
                          <a:pt x="2737" y="902"/>
                        </a:lnTo>
                        <a:lnTo>
                          <a:pt x="2725" y="905"/>
                        </a:lnTo>
                        <a:lnTo>
                          <a:pt x="2691" y="906"/>
                        </a:lnTo>
                        <a:lnTo>
                          <a:pt x="2659" y="903"/>
                        </a:lnTo>
                        <a:lnTo>
                          <a:pt x="2629" y="897"/>
                        </a:lnTo>
                        <a:lnTo>
                          <a:pt x="2599" y="888"/>
                        </a:lnTo>
                        <a:lnTo>
                          <a:pt x="2572" y="877"/>
                        </a:lnTo>
                        <a:lnTo>
                          <a:pt x="2546" y="862"/>
                        </a:lnTo>
                        <a:lnTo>
                          <a:pt x="2521" y="846"/>
                        </a:lnTo>
                        <a:lnTo>
                          <a:pt x="2496" y="829"/>
                        </a:lnTo>
                        <a:lnTo>
                          <a:pt x="2472" y="809"/>
                        </a:lnTo>
                        <a:lnTo>
                          <a:pt x="2450" y="788"/>
                        </a:lnTo>
                        <a:lnTo>
                          <a:pt x="2427" y="767"/>
                        </a:lnTo>
                        <a:lnTo>
                          <a:pt x="2405" y="745"/>
                        </a:lnTo>
                        <a:lnTo>
                          <a:pt x="2384" y="722"/>
                        </a:lnTo>
                        <a:lnTo>
                          <a:pt x="2361" y="700"/>
                        </a:lnTo>
                        <a:lnTo>
                          <a:pt x="2340" y="678"/>
                        </a:lnTo>
                        <a:lnTo>
                          <a:pt x="2318" y="656"/>
                        </a:lnTo>
                        <a:lnTo>
                          <a:pt x="2305" y="653"/>
                        </a:lnTo>
                        <a:lnTo>
                          <a:pt x="2292" y="649"/>
                        </a:lnTo>
                        <a:lnTo>
                          <a:pt x="2279" y="647"/>
                        </a:lnTo>
                        <a:lnTo>
                          <a:pt x="2267" y="645"/>
                        </a:lnTo>
                        <a:lnTo>
                          <a:pt x="2254" y="643"/>
                        </a:lnTo>
                        <a:lnTo>
                          <a:pt x="2241" y="643"/>
                        </a:lnTo>
                        <a:lnTo>
                          <a:pt x="2228" y="642"/>
                        </a:lnTo>
                        <a:lnTo>
                          <a:pt x="2215" y="640"/>
                        </a:lnTo>
                        <a:lnTo>
                          <a:pt x="2202" y="640"/>
                        </a:lnTo>
                        <a:lnTo>
                          <a:pt x="2188" y="640"/>
                        </a:lnTo>
                        <a:lnTo>
                          <a:pt x="2175" y="640"/>
                        </a:lnTo>
                        <a:lnTo>
                          <a:pt x="2161" y="640"/>
                        </a:lnTo>
                        <a:lnTo>
                          <a:pt x="2146" y="640"/>
                        </a:lnTo>
                        <a:lnTo>
                          <a:pt x="2132" y="640"/>
                        </a:lnTo>
                        <a:lnTo>
                          <a:pt x="2117" y="640"/>
                        </a:lnTo>
                        <a:lnTo>
                          <a:pt x="2103" y="640"/>
                        </a:lnTo>
                        <a:lnTo>
                          <a:pt x="2057" y="627"/>
                        </a:lnTo>
                        <a:lnTo>
                          <a:pt x="2010" y="614"/>
                        </a:lnTo>
                        <a:lnTo>
                          <a:pt x="1964" y="601"/>
                        </a:lnTo>
                        <a:lnTo>
                          <a:pt x="1918" y="589"/>
                        </a:lnTo>
                        <a:lnTo>
                          <a:pt x="1872" y="578"/>
                        </a:lnTo>
                        <a:lnTo>
                          <a:pt x="1825" y="567"/>
                        </a:lnTo>
                        <a:lnTo>
                          <a:pt x="1779" y="556"/>
                        </a:lnTo>
                        <a:lnTo>
                          <a:pt x="1732" y="546"/>
                        </a:lnTo>
                        <a:lnTo>
                          <a:pt x="1686" y="535"/>
                        </a:lnTo>
                        <a:lnTo>
                          <a:pt x="1638" y="525"/>
                        </a:lnTo>
                        <a:lnTo>
                          <a:pt x="1591" y="515"/>
                        </a:lnTo>
                        <a:lnTo>
                          <a:pt x="1544" y="506"/>
                        </a:lnTo>
                        <a:lnTo>
                          <a:pt x="1496" y="496"/>
                        </a:lnTo>
                        <a:lnTo>
                          <a:pt x="1449" y="486"/>
                        </a:lnTo>
                        <a:lnTo>
                          <a:pt x="1403" y="477"/>
                        </a:lnTo>
                        <a:lnTo>
                          <a:pt x="1356" y="467"/>
                        </a:lnTo>
                        <a:lnTo>
                          <a:pt x="1340" y="449"/>
                        </a:lnTo>
                        <a:lnTo>
                          <a:pt x="1318" y="452"/>
                        </a:lnTo>
                        <a:lnTo>
                          <a:pt x="1297" y="452"/>
                        </a:lnTo>
                        <a:lnTo>
                          <a:pt x="1276" y="452"/>
                        </a:lnTo>
                        <a:lnTo>
                          <a:pt x="1254" y="451"/>
                        </a:lnTo>
                        <a:lnTo>
                          <a:pt x="1231" y="449"/>
                        </a:lnTo>
                        <a:lnTo>
                          <a:pt x="1209" y="449"/>
                        </a:lnTo>
                        <a:lnTo>
                          <a:pt x="1187" y="448"/>
                        </a:lnTo>
                        <a:lnTo>
                          <a:pt x="1165" y="449"/>
                        </a:lnTo>
                        <a:lnTo>
                          <a:pt x="1144" y="451"/>
                        </a:lnTo>
                        <a:lnTo>
                          <a:pt x="1124" y="454"/>
                        </a:lnTo>
                        <a:lnTo>
                          <a:pt x="1106" y="460"/>
                        </a:lnTo>
                        <a:lnTo>
                          <a:pt x="1088" y="468"/>
                        </a:lnTo>
                        <a:lnTo>
                          <a:pt x="1071" y="479"/>
                        </a:lnTo>
                        <a:lnTo>
                          <a:pt x="1056" y="493"/>
                        </a:lnTo>
                        <a:lnTo>
                          <a:pt x="1043" y="511"/>
                        </a:lnTo>
                        <a:lnTo>
                          <a:pt x="1032" y="532"/>
                        </a:lnTo>
                        <a:lnTo>
                          <a:pt x="1035" y="566"/>
                        </a:lnTo>
                        <a:lnTo>
                          <a:pt x="1042" y="598"/>
                        </a:lnTo>
                        <a:lnTo>
                          <a:pt x="1051" y="629"/>
                        </a:lnTo>
                        <a:lnTo>
                          <a:pt x="1063" y="658"/>
                        </a:lnTo>
                        <a:lnTo>
                          <a:pt x="1077" y="686"/>
                        </a:lnTo>
                        <a:lnTo>
                          <a:pt x="1093" y="713"/>
                        </a:lnTo>
                        <a:lnTo>
                          <a:pt x="1111" y="740"/>
                        </a:lnTo>
                        <a:lnTo>
                          <a:pt x="1129" y="766"/>
                        </a:lnTo>
                        <a:lnTo>
                          <a:pt x="1149" y="790"/>
                        </a:lnTo>
                        <a:lnTo>
                          <a:pt x="1169" y="816"/>
                        </a:lnTo>
                        <a:lnTo>
                          <a:pt x="1188" y="841"/>
                        </a:lnTo>
                        <a:lnTo>
                          <a:pt x="1208" y="867"/>
                        </a:lnTo>
                        <a:lnTo>
                          <a:pt x="1226" y="895"/>
                        </a:lnTo>
                        <a:lnTo>
                          <a:pt x="1243" y="922"/>
                        </a:lnTo>
                        <a:lnTo>
                          <a:pt x="1259" y="950"/>
                        </a:lnTo>
                        <a:lnTo>
                          <a:pt x="1272" y="980"/>
                        </a:lnTo>
                        <a:lnTo>
                          <a:pt x="1301" y="1030"/>
                        </a:lnTo>
                        <a:lnTo>
                          <a:pt x="1326" y="1083"/>
                        </a:lnTo>
                        <a:lnTo>
                          <a:pt x="1345" y="1139"/>
                        </a:lnTo>
                        <a:lnTo>
                          <a:pt x="1357" y="1197"/>
                        </a:lnTo>
                        <a:lnTo>
                          <a:pt x="1363" y="1257"/>
                        </a:lnTo>
                        <a:lnTo>
                          <a:pt x="1363" y="1315"/>
                        </a:lnTo>
                        <a:lnTo>
                          <a:pt x="1356" y="1372"/>
                        </a:lnTo>
                        <a:lnTo>
                          <a:pt x="1340" y="1426"/>
                        </a:lnTo>
                        <a:lnTo>
                          <a:pt x="1323" y="1459"/>
                        </a:lnTo>
                        <a:lnTo>
                          <a:pt x="1306" y="1493"/>
                        </a:lnTo>
                        <a:lnTo>
                          <a:pt x="1286" y="1525"/>
                        </a:lnTo>
                        <a:lnTo>
                          <a:pt x="1264" y="1557"/>
                        </a:lnTo>
                        <a:lnTo>
                          <a:pt x="1241" y="1588"/>
                        </a:lnTo>
                        <a:lnTo>
                          <a:pt x="1215" y="1618"/>
                        </a:lnTo>
                        <a:lnTo>
                          <a:pt x="1189" y="1648"/>
                        </a:lnTo>
                        <a:lnTo>
                          <a:pt x="1160" y="1675"/>
                        </a:lnTo>
                        <a:lnTo>
                          <a:pt x="1131" y="1701"/>
                        </a:lnTo>
                        <a:lnTo>
                          <a:pt x="1101" y="1724"/>
                        </a:lnTo>
                        <a:lnTo>
                          <a:pt x="1068" y="1747"/>
                        </a:lnTo>
                        <a:lnTo>
                          <a:pt x="1035" y="1767"/>
                        </a:lnTo>
                        <a:lnTo>
                          <a:pt x="1000" y="1785"/>
                        </a:lnTo>
                        <a:lnTo>
                          <a:pt x="964" y="1800"/>
                        </a:lnTo>
                        <a:lnTo>
                          <a:pt x="928" y="1813"/>
                        </a:lnTo>
                        <a:lnTo>
                          <a:pt x="890" y="1822"/>
                        </a:lnTo>
                        <a:lnTo>
                          <a:pt x="865" y="1832"/>
                        </a:lnTo>
                        <a:lnTo>
                          <a:pt x="841" y="1840"/>
                        </a:lnTo>
                        <a:lnTo>
                          <a:pt x="816" y="1847"/>
                        </a:lnTo>
                        <a:lnTo>
                          <a:pt x="790" y="1852"/>
                        </a:lnTo>
                        <a:lnTo>
                          <a:pt x="763" y="1856"/>
                        </a:lnTo>
                        <a:lnTo>
                          <a:pt x="737" y="1858"/>
                        </a:lnTo>
                        <a:lnTo>
                          <a:pt x="710" y="1860"/>
                        </a:lnTo>
                        <a:lnTo>
                          <a:pt x="684" y="1860"/>
                        </a:lnTo>
                        <a:lnTo>
                          <a:pt x="656" y="1858"/>
                        </a:lnTo>
                        <a:lnTo>
                          <a:pt x="629" y="1857"/>
                        </a:lnTo>
                        <a:lnTo>
                          <a:pt x="603" y="1856"/>
                        </a:lnTo>
                        <a:lnTo>
                          <a:pt x="575" y="1853"/>
                        </a:lnTo>
                        <a:lnTo>
                          <a:pt x="548" y="1850"/>
                        </a:lnTo>
                        <a:lnTo>
                          <a:pt x="522" y="1847"/>
                        </a:lnTo>
                        <a:lnTo>
                          <a:pt x="495" y="1844"/>
                        </a:lnTo>
                        <a:lnTo>
                          <a:pt x="468" y="1840"/>
                        </a:lnTo>
                        <a:lnTo>
                          <a:pt x="452" y="1830"/>
                        </a:lnTo>
                        <a:lnTo>
                          <a:pt x="435" y="1820"/>
                        </a:lnTo>
                        <a:lnTo>
                          <a:pt x="419" y="1811"/>
                        </a:lnTo>
                        <a:lnTo>
                          <a:pt x="401" y="1803"/>
                        </a:lnTo>
                        <a:lnTo>
                          <a:pt x="384" y="1795"/>
                        </a:lnTo>
                        <a:lnTo>
                          <a:pt x="366" y="1787"/>
                        </a:lnTo>
                        <a:lnTo>
                          <a:pt x="349" y="1779"/>
                        </a:lnTo>
                        <a:lnTo>
                          <a:pt x="331" y="1772"/>
                        </a:lnTo>
                        <a:lnTo>
                          <a:pt x="314" y="1764"/>
                        </a:lnTo>
                        <a:lnTo>
                          <a:pt x="297" y="1755"/>
                        </a:lnTo>
                        <a:lnTo>
                          <a:pt x="280" y="1747"/>
                        </a:lnTo>
                        <a:lnTo>
                          <a:pt x="263" y="1737"/>
                        </a:lnTo>
                        <a:lnTo>
                          <a:pt x="247" y="1727"/>
                        </a:lnTo>
                        <a:lnTo>
                          <a:pt x="232" y="1716"/>
                        </a:lnTo>
                        <a:lnTo>
                          <a:pt x="217" y="1703"/>
                        </a:lnTo>
                        <a:lnTo>
                          <a:pt x="202" y="1690"/>
                        </a:lnTo>
                        <a:lnTo>
                          <a:pt x="195" y="1681"/>
                        </a:lnTo>
                        <a:lnTo>
                          <a:pt x="186" y="1674"/>
                        </a:lnTo>
                        <a:lnTo>
                          <a:pt x="177" y="1665"/>
                        </a:lnTo>
                        <a:lnTo>
                          <a:pt x="166" y="1658"/>
                        </a:lnTo>
                        <a:lnTo>
                          <a:pt x="156" y="1651"/>
                        </a:lnTo>
                        <a:lnTo>
                          <a:pt x="144" y="1646"/>
                        </a:lnTo>
                        <a:lnTo>
                          <a:pt x="131" y="1643"/>
                        </a:lnTo>
                        <a:lnTo>
                          <a:pt x="119" y="1641"/>
                        </a:lnTo>
                        <a:lnTo>
                          <a:pt x="80" y="1566"/>
                        </a:lnTo>
                        <a:lnTo>
                          <a:pt x="46" y="1485"/>
                        </a:lnTo>
                        <a:lnTo>
                          <a:pt x="20" y="1398"/>
                        </a:lnTo>
                        <a:lnTo>
                          <a:pt x="4" y="1311"/>
                        </a:lnTo>
                        <a:lnTo>
                          <a:pt x="0" y="1223"/>
                        </a:lnTo>
                        <a:lnTo>
                          <a:pt x="10" y="1139"/>
                        </a:lnTo>
                        <a:lnTo>
                          <a:pt x="39" y="1060"/>
                        </a:lnTo>
                        <a:lnTo>
                          <a:pt x="86" y="986"/>
                        </a:lnTo>
                        <a:lnTo>
                          <a:pt x="111" y="974"/>
                        </a:lnTo>
                        <a:lnTo>
                          <a:pt x="135" y="967"/>
                        </a:lnTo>
                        <a:lnTo>
                          <a:pt x="158" y="964"/>
                        </a:lnTo>
                        <a:lnTo>
                          <a:pt x="181" y="964"/>
                        </a:lnTo>
                        <a:lnTo>
                          <a:pt x="202" y="968"/>
                        </a:lnTo>
                        <a:lnTo>
                          <a:pt x="224" y="975"/>
                        </a:lnTo>
                        <a:lnTo>
                          <a:pt x="246" y="984"/>
                        </a:lnTo>
                        <a:lnTo>
                          <a:pt x="267" y="995"/>
                        </a:lnTo>
                        <a:lnTo>
                          <a:pt x="287" y="1007"/>
                        </a:lnTo>
                        <a:lnTo>
                          <a:pt x="308" y="1021"/>
                        </a:lnTo>
                        <a:lnTo>
                          <a:pt x="329" y="1034"/>
                        </a:lnTo>
                        <a:lnTo>
                          <a:pt x="349" y="1047"/>
                        </a:lnTo>
                        <a:lnTo>
                          <a:pt x="370" y="1060"/>
                        </a:lnTo>
                        <a:lnTo>
                          <a:pt x="391" y="1071"/>
                        </a:lnTo>
                        <a:lnTo>
                          <a:pt x="412" y="1079"/>
                        </a:lnTo>
                        <a:lnTo>
                          <a:pt x="434" y="1087"/>
                        </a:lnTo>
                        <a:lnTo>
                          <a:pt x="451" y="1104"/>
                        </a:lnTo>
                        <a:lnTo>
                          <a:pt x="470" y="1120"/>
                        </a:lnTo>
                        <a:lnTo>
                          <a:pt x="490" y="1136"/>
                        </a:lnTo>
                        <a:lnTo>
                          <a:pt x="508" y="1151"/>
                        </a:lnTo>
                        <a:lnTo>
                          <a:pt x="528" y="1168"/>
                        </a:lnTo>
                        <a:lnTo>
                          <a:pt x="548" y="1182"/>
                        </a:lnTo>
                        <a:lnTo>
                          <a:pt x="569" y="1197"/>
                        </a:lnTo>
                        <a:lnTo>
                          <a:pt x="589" y="1212"/>
                        </a:lnTo>
                        <a:lnTo>
                          <a:pt x="608" y="1227"/>
                        </a:lnTo>
                        <a:lnTo>
                          <a:pt x="628" y="1242"/>
                        </a:lnTo>
                        <a:lnTo>
                          <a:pt x="645" y="1258"/>
                        </a:lnTo>
                        <a:lnTo>
                          <a:pt x="664" y="1274"/>
                        </a:lnTo>
                        <a:lnTo>
                          <a:pt x="680" y="1290"/>
                        </a:lnTo>
                        <a:lnTo>
                          <a:pt x="696" y="1308"/>
                        </a:lnTo>
                        <a:lnTo>
                          <a:pt x="711" y="1325"/>
                        </a:lnTo>
                        <a:lnTo>
                          <a:pt x="725" y="1344"/>
                        </a:lnTo>
                        <a:lnTo>
                          <a:pt x="711" y="1346"/>
                        </a:lnTo>
                        <a:lnTo>
                          <a:pt x="702" y="1352"/>
                        </a:lnTo>
                        <a:lnTo>
                          <a:pt x="700" y="1362"/>
                        </a:lnTo>
                        <a:lnTo>
                          <a:pt x="699" y="1375"/>
                        </a:lnTo>
                        <a:lnTo>
                          <a:pt x="699" y="1390"/>
                        </a:lnTo>
                        <a:lnTo>
                          <a:pt x="699" y="1403"/>
                        </a:lnTo>
                        <a:lnTo>
                          <a:pt x="697" y="1416"/>
                        </a:lnTo>
                        <a:lnTo>
                          <a:pt x="691" y="1426"/>
                        </a:lnTo>
                        <a:lnTo>
                          <a:pt x="680" y="1433"/>
                        </a:lnTo>
                        <a:lnTo>
                          <a:pt x="669" y="1442"/>
                        </a:lnTo>
                        <a:lnTo>
                          <a:pt x="656" y="1452"/>
                        </a:lnTo>
                        <a:lnTo>
                          <a:pt x="644" y="1459"/>
                        </a:lnTo>
                        <a:lnTo>
                          <a:pt x="630" y="1465"/>
                        </a:lnTo>
                        <a:lnTo>
                          <a:pt x="618" y="1466"/>
                        </a:lnTo>
                        <a:lnTo>
                          <a:pt x="605" y="1462"/>
                        </a:lnTo>
                        <a:lnTo>
                          <a:pt x="593" y="1450"/>
                        </a:lnTo>
                        <a:lnTo>
                          <a:pt x="578" y="1452"/>
                        </a:lnTo>
                        <a:lnTo>
                          <a:pt x="565" y="1448"/>
                        </a:lnTo>
                        <a:lnTo>
                          <a:pt x="554" y="1439"/>
                        </a:lnTo>
                        <a:lnTo>
                          <a:pt x="543" y="1429"/>
                        </a:lnTo>
                        <a:lnTo>
                          <a:pt x="532" y="1421"/>
                        </a:lnTo>
                        <a:lnTo>
                          <a:pt x="521" y="1416"/>
                        </a:lnTo>
                        <a:lnTo>
                          <a:pt x="508" y="1417"/>
                        </a:lnTo>
                        <a:lnTo>
                          <a:pt x="493" y="1426"/>
                        </a:lnTo>
                        <a:lnTo>
                          <a:pt x="511" y="1443"/>
                        </a:lnTo>
                        <a:lnTo>
                          <a:pt x="529" y="1458"/>
                        </a:lnTo>
                        <a:lnTo>
                          <a:pt x="549" y="1470"/>
                        </a:lnTo>
                        <a:lnTo>
                          <a:pt x="570" y="1480"/>
                        </a:lnTo>
                        <a:lnTo>
                          <a:pt x="593" y="1488"/>
                        </a:lnTo>
                        <a:lnTo>
                          <a:pt x="617" y="1493"/>
                        </a:lnTo>
                        <a:lnTo>
                          <a:pt x="641" y="1497"/>
                        </a:lnTo>
                        <a:lnTo>
                          <a:pt x="668" y="1500"/>
                        </a:lnTo>
                        <a:lnTo>
                          <a:pt x="680" y="1488"/>
                        </a:lnTo>
                        <a:lnTo>
                          <a:pt x="692" y="1480"/>
                        </a:lnTo>
                        <a:lnTo>
                          <a:pt x="706" y="1475"/>
                        </a:lnTo>
                        <a:lnTo>
                          <a:pt x="720" y="1471"/>
                        </a:lnTo>
                        <a:lnTo>
                          <a:pt x="733" y="1468"/>
                        </a:lnTo>
                        <a:lnTo>
                          <a:pt x="747" y="1463"/>
                        </a:lnTo>
                        <a:lnTo>
                          <a:pt x="761" y="1454"/>
                        </a:lnTo>
                        <a:lnTo>
                          <a:pt x="775" y="1442"/>
                        </a:lnTo>
                        <a:lnTo>
                          <a:pt x="787" y="1423"/>
                        </a:lnTo>
                        <a:lnTo>
                          <a:pt x="796" y="1404"/>
                        </a:lnTo>
                        <a:lnTo>
                          <a:pt x="799" y="1385"/>
                        </a:lnTo>
                        <a:lnTo>
                          <a:pt x="802" y="1365"/>
                        </a:lnTo>
                        <a:lnTo>
                          <a:pt x="802" y="1344"/>
                        </a:lnTo>
                        <a:lnTo>
                          <a:pt x="801" y="1321"/>
                        </a:lnTo>
                        <a:lnTo>
                          <a:pt x="801" y="1299"/>
                        </a:lnTo>
                        <a:lnTo>
                          <a:pt x="801" y="1277"/>
                        </a:lnTo>
                        <a:lnTo>
                          <a:pt x="790" y="1253"/>
                        </a:lnTo>
                        <a:lnTo>
                          <a:pt x="776" y="1230"/>
                        </a:lnTo>
                        <a:lnTo>
                          <a:pt x="762" y="1207"/>
                        </a:lnTo>
                        <a:lnTo>
                          <a:pt x="746" y="1184"/>
                        </a:lnTo>
                        <a:lnTo>
                          <a:pt x="730" y="1160"/>
                        </a:lnTo>
                        <a:lnTo>
                          <a:pt x="712" y="1136"/>
                        </a:lnTo>
                        <a:lnTo>
                          <a:pt x="694" y="1113"/>
                        </a:lnTo>
                        <a:lnTo>
                          <a:pt x="675" y="1089"/>
                        </a:lnTo>
                        <a:lnTo>
                          <a:pt x="656" y="1066"/>
                        </a:lnTo>
                        <a:lnTo>
                          <a:pt x="638" y="1043"/>
                        </a:lnTo>
                        <a:lnTo>
                          <a:pt x="619" y="1020"/>
                        </a:lnTo>
                        <a:lnTo>
                          <a:pt x="600" y="996"/>
                        </a:lnTo>
                        <a:lnTo>
                          <a:pt x="583" y="974"/>
                        </a:lnTo>
                        <a:lnTo>
                          <a:pt x="565" y="950"/>
                        </a:lnTo>
                        <a:lnTo>
                          <a:pt x="549" y="927"/>
                        </a:lnTo>
                        <a:lnTo>
                          <a:pt x="534" y="905"/>
                        </a:lnTo>
                        <a:lnTo>
                          <a:pt x="518" y="859"/>
                        </a:lnTo>
                        <a:lnTo>
                          <a:pt x="507" y="813"/>
                        </a:lnTo>
                        <a:lnTo>
                          <a:pt x="503" y="767"/>
                        </a:lnTo>
                        <a:lnTo>
                          <a:pt x="504" y="721"/>
                        </a:lnTo>
                        <a:lnTo>
                          <a:pt x="509" y="676"/>
                        </a:lnTo>
                        <a:lnTo>
                          <a:pt x="521" y="632"/>
                        </a:lnTo>
                        <a:lnTo>
                          <a:pt x="534" y="587"/>
                        </a:lnTo>
                        <a:lnTo>
                          <a:pt x="553" y="544"/>
                        </a:lnTo>
                        <a:lnTo>
                          <a:pt x="574" y="503"/>
                        </a:lnTo>
                        <a:lnTo>
                          <a:pt x="598" y="462"/>
                        </a:lnTo>
                        <a:lnTo>
                          <a:pt x="624" y="422"/>
                        </a:lnTo>
                        <a:lnTo>
                          <a:pt x="653" y="384"/>
                        </a:lnTo>
                        <a:lnTo>
                          <a:pt x="682" y="348"/>
                        </a:lnTo>
                        <a:lnTo>
                          <a:pt x="712" y="313"/>
                        </a:lnTo>
                        <a:lnTo>
                          <a:pt x="743" y="281"/>
                        </a:lnTo>
                        <a:lnTo>
                          <a:pt x="775" y="251"/>
                        </a:lnTo>
                        <a:lnTo>
                          <a:pt x="803" y="226"/>
                        </a:lnTo>
                        <a:lnTo>
                          <a:pt x="833" y="205"/>
                        </a:lnTo>
                        <a:lnTo>
                          <a:pt x="863" y="185"/>
                        </a:lnTo>
                        <a:lnTo>
                          <a:pt x="894" y="166"/>
                        </a:lnTo>
                        <a:lnTo>
                          <a:pt x="926" y="149"/>
                        </a:lnTo>
                        <a:lnTo>
                          <a:pt x="959" y="134"/>
                        </a:lnTo>
                        <a:lnTo>
                          <a:pt x="991" y="119"/>
                        </a:lnTo>
                        <a:lnTo>
                          <a:pt x="1023" y="106"/>
                        </a:lnTo>
                        <a:lnTo>
                          <a:pt x="1057" y="93"/>
                        </a:lnTo>
                        <a:lnTo>
                          <a:pt x="1091" y="81"/>
                        </a:lnTo>
                        <a:lnTo>
                          <a:pt x="1124" y="68"/>
                        </a:lnTo>
                        <a:lnTo>
                          <a:pt x="1158" y="56"/>
                        </a:lnTo>
                        <a:lnTo>
                          <a:pt x="1192" y="44"/>
                        </a:lnTo>
                        <a:lnTo>
                          <a:pt x="1224" y="30"/>
                        </a:lnTo>
                        <a:lnTo>
                          <a:pt x="1257" y="18"/>
                        </a:lnTo>
                        <a:lnTo>
                          <a:pt x="1290" y="3"/>
                        </a:lnTo>
                        <a:lnTo>
                          <a:pt x="1318" y="5"/>
                        </a:lnTo>
                        <a:lnTo>
                          <a:pt x="1347" y="6"/>
                        </a:lnTo>
                        <a:lnTo>
                          <a:pt x="1377" y="6"/>
                        </a:lnTo>
                        <a:lnTo>
                          <a:pt x="1408" y="5"/>
                        </a:lnTo>
                        <a:lnTo>
                          <a:pt x="1438" y="4"/>
                        </a:lnTo>
                        <a:lnTo>
                          <a:pt x="1468" y="3"/>
                        </a:lnTo>
                        <a:lnTo>
                          <a:pt x="1499" y="1"/>
                        </a:lnTo>
                        <a:lnTo>
                          <a:pt x="1529" y="0"/>
                        </a:lnTo>
                        <a:lnTo>
                          <a:pt x="1559" y="0"/>
                        </a:lnTo>
                        <a:lnTo>
                          <a:pt x="1587" y="1"/>
                        </a:lnTo>
                        <a:lnTo>
                          <a:pt x="1617" y="5"/>
                        </a:lnTo>
                        <a:lnTo>
                          <a:pt x="1645" y="9"/>
                        </a:lnTo>
                        <a:lnTo>
                          <a:pt x="1672" y="16"/>
                        </a:lnTo>
                        <a:lnTo>
                          <a:pt x="1697" y="25"/>
                        </a:lnTo>
                        <a:lnTo>
                          <a:pt x="1722" y="37"/>
                        </a:lnTo>
                        <a:lnTo>
                          <a:pt x="174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flipH="1">
                    <a:off x="3056040" y="2382480"/>
                    <a:ext cx="464040" cy="338400"/>
                  </a:xfrm>
                  <a:custGeom>
                    <a:avLst/>
                    <a:gdLst/>
                    <a:ahLst/>
                    <a:rect l="l" t="t" r="r" b="b"/>
                    <a:pathLst>
                      <a:path w="1659" h="1613">
                        <a:moveTo>
                          <a:pt x="936" y="27"/>
                        </a:moveTo>
                        <a:lnTo>
                          <a:pt x="981" y="29"/>
                        </a:lnTo>
                        <a:lnTo>
                          <a:pt x="1025" y="34"/>
                        </a:lnTo>
                        <a:lnTo>
                          <a:pt x="1068" y="40"/>
                        </a:lnTo>
                        <a:lnTo>
                          <a:pt x="1110" y="48"/>
                        </a:lnTo>
                        <a:lnTo>
                          <a:pt x="1153" y="57"/>
                        </a:lnTo>
                        <a:lnTo>
                          <a:pt x="1195" y="66"/>
                        </a:lnTo>
                        <a:lnTo>
                          <a:pt x="1236" y="78"/>
                        </a:lnTo>
                        <a:lnTo>
                          <a:pt x="1277" y="89"/>
                        </a:lnTo>
                        <a:lnTo>
                          <a:pt x="1318" y="102"/>
                        </a:lnTo>
                        <a:lnTo>
                          <a:pt x="1358" y="116"/>
                        </a:lnTo>
                        <a:lnTo>
                          <a:pt x="1398" y="131"/>
                        </a:lnTo>
                        <a:lnTo>
                          <a:pt x="1438" y="146"/>
                        </a:lnTo>
                        <a:lnTo>
                          <a:pt x="1476" y="161"/>
                        </a:lnTo>
                        <a:lnTo>
                          <a:pt x="1515" y="177"/>
                        </a:lnTo>
                        <a:lnTo>
                          <a:pt x="1554" y="192"/>
                        </a:lnTo>
                        <a:lnTo>
                          <a:pt x="1591" y="208"/>
                        </a:lnTo>
                        <a:lnTo>
                          <a:pt x="1581" y="224"/>
                        </a:lnTo>
                        <a:lnTo>
                          <a:pt x="1571" y="236"/>
                        </a:lnTo>
                        <a:lnTo>
                          <a:pt x="1560" y="244"/>
                        </a:lnTo>
                        <a:lnTo>
                          <a:pt x="1547" y="248"/>
                        </a:lnTo>
                        <a:lnTo>
                          <a:pt x="1535" y="249"/>
                        </a:lnTo>
                        <a:lnTo>
                          <a:pt x="1521" y="249"/>
                        </a:lnTo>
                        <a:lnTo>
                          <a:pt x="1507" y="245"/>
                        </a:lnTo>
                        <a:lnTo>
                          <a:pt x="1494" y="240"/>
                        </a:lnTo>
                        <a:lnTo>
                          <a:pt x="1480" y="235"/>
                        </a:lnTo>
                        <a:lnTo>
                          <a:pt x="1465" y="229"/>
                        </a:lnTo>
                        <a:lnTo>
                          <a:pt x="1450" y="223"/>
                        </a:lnTo>
                        <a:lnTo>
                          <a:pt x="1435" y="217"/>
                        </a:lnTo>
                        <a:lnTo>
                          <a:pt x="1420" y="212"/>
                        </a:lnTo>
                        <a:lnTo>
                          <a:pt x="1405" y="208"/>
                        </a:lnTo>
                        <a:lnTo>
                          <a:pt x="1390" y="207"/>
                        </a:lnTo>
                        <a:lnTo>
                          <a:pt x="1376" y="208"/>
                        </a:lnTo>
                        <a:lnTo>
                          <a:pt x="1361" y="202"/>
                        </a:lnTo>
                        <a:lnTo>
                          <a:pt x="1347" y="195"/>
                        </a:lnTo>
                        <a:lnTo>
                          <a:pt x="1333" y="188"/>
                        </a:lnTo>
                        <a:lnTo>
                          <a:pt x="1320" y="181"/>
                        </a:lnTo>
                        <a:lnTo>
                          <a:pt x="1306" y="173"/>
                        </a:lnTo>
                        <a:lnTo>
                          <a:pt x="1292" y="166"/>
                        </a:lnTo>
                        <a:lnTo>
                          <a:pt x="1278" y="157"/>
                        </a:lnTo>
                        <a:lnTo>
                          <a:pt x="1266" y="150"/>
                        </a:lnTo>
                        <a:lnTo>
                          <a:pt x="1252" y="141"/>
                        </a:lnTo>
                        <a:lnTo>
                          <a:pt x="1239" y="133"/>
                        </a:lnTo>
                        <a:lnTo>
                          <a:pt x="1225" y="125"/>
                        </a:lnTo>
                        <a:lnTo>
                          <a:pt x="1211" y="117"/>
                        </a:lnTo>
                        <a:lnTo>
                          <a:pt x="1196" y="111"/>
                        </a:lnTo>
                        <a:lnTo>
                          <a:pt x="1181" y="104"/>
                        </a:lnTo>
                        <a:lnTo>
                          <a:pt x="1166" y="98"/>
                        </a:lnTo>
                        <a:lnTo>
                          <a:pt x="1152" y="93"/>
                        </a:lnTo>
                        <a:lnTo>
                          <a:pt x="1140" y="109"/>
                        </a:lnTo>
                        <a:lnTo>
                          <a:pt x="1139" y="125"/>
                        </a:lnTo>
                        <a:lnTo>
                          <a:pt x="1145" y="140"/>
                        </a:lnTo>
                        <a:lnTo>
                          <a:pt x="1158" y="155"/>
                        </a:lnTo>
                        <a:lnTo>
                          <a:pt x="1170" y="169"/>
                        </a:lnTo>
                        <a:lnTo>
                          <a:pt x="1184" y="184"/>
                        </a:lnTo>
                        <a:lnTo>
                          <a:pt x="1195" y="200"/>
                        </a:lnTo>
                        <a:lnTo>
                          <a:pt x="1200" y="217"/>
                        </a:lnTo>
                        <a:lnTo>
                          <a:pt x="1208" y="224"/>
                        </a:lnTo>
                        <a:lnTo>
                          <a:pt x="1215" y="231"/>
                        </a:lnTo>
                        <a:lnTo>
                          <a:pt x="1224" y="239"/>
                        </a:lnTo>
                        <a:lnTo>
                          <a:pt x="1232" y="244"/>
                        </a:lnTo>
                        <a:lnTo>
                          <a:pt x="1240" y="249"/>
                        </a:lnTo>
                        <a:lnTo>
                          <a:pt x="1249" y="253"/>
                        </a:lnTo>
                        <a:lnTo>
                          <a:pt x="1259" y="255"/>
                        </a:lnTo>
                        <a:lnTo>
                          <a:pt x="1267" y="258"/>
                        </a:lnTo>
                        <a:lnTo>
                          <a:pt x="1280" y="248"/>
                        </a:lnTo>
                        <a:lnTo>
                          <a:pt x="1285" y="234"/>
                        </a:lnTo>
                        <a:lnTo>
                          <a:pt x="1283" y="219"/>
                        </a:lnTo>
                        <a:lnTo>
                          <a:pt x="1276" y="208"/>
                        </a:lnTo>
                        <a:lnTo>
                          <a:pt x="1282" y="233"/>
                        </a:lnTo>
                        <a:lnTo>
                          <a:pt x="1290" y="260"/>
                        </a:lnTo>
                        <a:lnTo>
                          <a:pt x="1300" y="287"/>
                        </a:lnTo>
                        <a:lnTo>
                          <a:pt x="1312" y="315"/>
                        </a:lnTo>
                        <a:lnTo>
                          <a:pt x="1327" y="338"/>
                        </a:lnTo>
                        <a:lnTo>
                          <a:pt x="1347" y="359"/>
                        </a:lnTo>
                        <a:lnTo>
                          <a:pt x="1371" y="374"/>
                        </a:lnTo>
                        <a:lnTo>
                          <a:pt x="1400" y="382"/>
                        </a:lnTo>
                        <a:lnTo>
                          <a:pt x="1419" y="384"/>
                        </a:lnTo>
                        <a:lnTo>
                          <a:pt x="1438" y="384"/>
                        </a:lnTo>
                        <a:lnTo>
                          <a:pt x="1456" y="379"/>
                        </a:lnTo>
                        <a:lnTo>
                          <a:pt x="1474" y="373"/>
                        </a:lnTo>
                        <a:lnTo>
                          <a:pt x="1491" y="363"/>
                        </a:lnTo>
                        <a:lnTo>
                          <a:pt x="1507" y="352"/>
                        </a:lnTo>
                        <a:lnTo>
                          <a:pt x="1521" y="338"/>
                        </a:lnTo>
                        <a:lnTo>
                          <a:pt x="1532" y="323"/>
                        </a:lnTo>
                        <a:lnTo>
                          <a:pt x="1532" y="316"/>
                        </a:lnTo>
                        <a:lnTo>
                          <a:pt x="1551" y="325"/>
                        </a:lnTo>
                        <a:lnTo>
                          <a:pt x="1571" y="331"/>
                        </a:lnTo>
                        <a:lnTo>
                          <a:pt x="1593" y="337"/>
                        </a:lnTo>
                        <a:lnTo>
                          <a:pt x="1613" y="343"/>
                        </a:lnTo>
                        <a:lnTo>
                          <a:pt x="1632" y="353"/>
                        </a:lnTo>
                        <a:lnTo>
                          <a:pt x="1646" y="365"/>
                        </a:lnTo>
                        <a:lnTo>
                          <a:pt x="1654" y="383"/>
                        </a:lnTo>
                        <a:lnTo>
                          <a:pt x="1657" y="406"/>
                        </a:lnTo>
                        <a:lnTo>
                          <a:pt x="1659" y="423"/>
                        </a:lnTo>
                        <a:lnTo>
                          <a:pt x="1657" y="436"/>
                        </a:lnTo>
                        <a:lnTo>
                          <a:pt x="1649" y="447"/>
                        </a:lnTo>
                        <a:lnTo>
                          <a:pt x="1639" y="456"/>
                        </a:lnTo>
                        <a:lnTo>
                          <a:pt x="1626" y="462"/>
                        </a:lnTo>
                        <a:lnTo>
                          <a:pt x="1610" y="467"/>
                        </a:lnTo>
                        <a:lnTo>
                          <a:pt x="1592" y="471"/>
                        </a:lnTo>
                        <a:lnTo>
                          <a:pt x="1573" y="473"/>
                        </a:lnTo>
                        <a:lnTo>
                          <a:pt x="1549" y="467"/>
                        </a:lnTo>
                        <a:lnTo>
                          <a:pt x="1524" y="458"/>
                        </a:lnTo>
                        <a:lnTo>
                          <a:pt x="1499" y="450"/>
                        </a:lnTo>
                        <a:lnTo>
                          <a:pt x="1475" y="439"/>
                        </a:lnTo>
                        <a:lnTo>
                          <a:pt x="1451" y="427"/>
                        </a:lnTo>
                        <a:lnTo>
                          <a:pt x="1429" y="415"/>
                        </a:lnTo>
                        <a:lnTo>
                          <a:pt x="1405" y="403"/>
                        </a:lnTo>
                        <a:lnTo>
                          <a:pt x="1383" y="390"/>
                        </a:lnTo>
                        <a:lnTo>
                          <a:pt x="1359" y="378"/>
                        </a:lnTo>
                        <a:lnTo>
                          <a:pt x="1336" y="367"/>
                        </a:lnTo>
                        <a:lnTo>
                          <a:pt x="1312" y="356"/>
                        </a:lnTo>
                        <a:lnTo>
                          <a:pt x="1288" y="346"/>
                        </a:lnTo>
                        <a:lnTo>
                          <a:pt x="1264" y="338"/>
                        </a:lnTo>
                        <a:lnTo>
                          <a:pt x="1239" y="331"/>
                        </a:lnTo>
                        <a:lnTo>
                          <a:pt x="1213" y="326"/>
                        </a:lnTo>
                        <a:lnTo>
                          <a:pt x="1185" y="323"/>
                        </a:lnTo>
                        <a:lnTo>
                          <a:pt x="1169" y="317"/>
                        </a:lnTo>
                        <a:lnTo>
                          <a:pt x="1153" y="311"/>
                        </a:lnTo>
                        <a:lnTo>
                          <a:pt x="1137" y="305"/>
                        </a:lnTo>
                        <a:lnTo>
                          <a:pt x="1120" y="298"/>
                        </a:lnTo>
                        <a:lnTo>
                          <a:pt x="1103" y="292"/>
                        </a:lnTo>
                        <a:lnTo>
                          <a:pt x="1086" y="287"/>
                        </a:lnTo>
                        <a:lnTo>
                          <a:pt x="1068" y="282"/>
                        </a:lnTo>
                        <a:lnTo>
                          <a:pt x="1049" y="279"/>
                        </a:lnTo>
                        <a:lnTo>
                          <a:pt x="1032" y="276"/>
                        </a:lnTo>
                        <a:lnTo>
                          <a:pt x="1015" y="275"/>
                        </a:lnTo>
                        <a:lnTo>
                          <a:pt x="996" y="275"/>
                        </a:lnTo>
                        <a:lnTo>
                          <a:pt x="979" y="276"/>
                        </a:lnTo>
                        <a:lnTo>
                          <a:pt x="961" y="279"/>
                        </a:lnTo>
                        <a:lnTo>
                          <a:pt x="944" y="284"/>
                        </a:lnTo>
                        <a:lnTo>
                          <a:pt x="926" y="291"/>
                        </a:lnTo>
                        <a:lnTo>
                          <a:pt x="910" y="300"/>
                        </a:lnTo>
                        <a:lnTo>
                          <a:pt x="910" y="307"/>
                        </a:lnTo>
                        <a:lnTo>
                          <a:pt x="911" y="313"/>
                        </a:lnTo>
                        <a:lnTo>
                          <a:pt x="915" y="321"/>
                        </a:lnTo>
                        <a:lnTo>
                          <a:pt x="920" y="326"/>
                        </a:lnTo>
                        <a:lnTo>
                          <a:pt x="925" y="331"/>
                        </a:lnTo>
                        <a:lnTo>
                          <a:pt x="932" y="336"/>
                        </a:lnTo>
                        <a:lnTo>
                          <a:pt x="939" y="338"/>
                        </a:lnTo>
                        <a:lnTo>
                          <a:pt x="945" y="341"/>
                        </a:lnTo>
                        <a:lnTo>
                          <a:pt x="975" y="333"/>
                        </a:lnTo>
                        <a:lnTo>
                          <a:pt x="1003" y="328"/>
                        </a:lnTo>
                        <a:lnTo>
                          <a:pt x="1031" y="327"/>
                        </a:lnTo>
                        <a:lnTo>
                          <a:pt x="1058" y="328"/>
                        </a:lnTo>
                        <a:lnTo>
                          <a:pt x="1086" y="332"/>
                        </a:lnTo>
                        <a:lnTo>
                          <a:pt x="1112" y="337"/>
                        </a:lnTo>
                        <a:lnTo>
                          <a:pt x="1137" y="344"/>
                        </a:lnTo>
                        <a:lnTo>
                          <a:pt x="1163" y="353"/>
                        </a:lnTo>
                        <a:lnTo>
                          <a:pt x="1188" y="363"/>
                        </a:lnTo>
                        <a:lnTo>
                          <a:pt x="1213" y="374"/>
                        </a:lnTo>
                        <a:lnTo>
                          <a:pt x="1236" y="385"/>
                        </a:lnTo>
                        <a:lnTo>
                          <a:pt x="1261" y="396"/>
                        </a:lnTo>
                        <a:lnTo>
                          <a:pt x="1286" y="409"/>
                        </a:lnTo>
                        <a:lnTo>
                          <a:pt x="1310" y="420"/>
                        </a:lnTo>
                        <a:lnTo>
                          <a:pt x="1334" y="430"/>
                        </a:lnTo>
                        <a:lnTo>
                          <a:pt x="1359" y="440"/>
                        </a:lnTo>
                        <a:lnTo>
                          <a:pt x="1318" y="436"/>
                        </a:lnTo>
                        <a:lnTo>
                          <a:pt x="1278" y="431"/>
                        </a:lnTo>
                        <a:lnTo>
                          <a:pt x="1237" y="425"/>
                        </a:lnTo>
                        <a:lnTo>
                          <a:pt x="1196" y="418"/>
                        </a:lnTo>
                        <a:lnTo>
                          <a:pt x="1155" y="409"/>
                        </a:lnTo>
                        <a:lnTo>
                          <a:pt x="1114" y="400"/>
                        </a:lnTo>
                        <a:lnTo>
                          <a:pt x="1073" y="390"/>
                        </a:lnTo>
                        <a:lnTo>
                          <a:pt x="1031" y="379"/>
                        </a:lnTo>
                        <a:lnTo>
                          <a:pt x="990" y="368"/>
                        </a:lnTo>
                        <a:lnTo>
                          <a:pt x="949" y="357"/>
                        </a:lnTo>
                        <a:lnTo>
                          <a:pt x="908" y="344"/>
                        </a:lnTo>
                        <a:lnTo>
                          <a:pt x="867" y="333"/>
                        </a:lnTo>
                        <a:lnTo>
                          <a:pt x="825" y="322"/>
                        </a:lnTo>
                        <a:lnTo>
                          <a:pt x="784" y="311"/>
                        </a:lnTo>
                        <a:lnTo>
                          <a:pt x="743" y="301"/>
                        </a:lnTo>
                        <a:lnTo>
                          <a:pt x="702" y="291"/>
                        </a:lnTo>
                        <a:lnTo>
                          <a:pt x="691" y="280"/>
                        </a:lnTo>
                        <a:lnTo>
                          <a:pt x="677" y="270"/>
                        </a:lnTo>
                        <a:lnTo>
                          <a:pt x="662" y="261"/>
                        </a:lnTo>
                        <a:lnTo>
                          <a:pt x="647" y="253"/>
                        </a:lnTo>
                        <a:lnTo>
                          <a:pt x="631" y="243"/>
                        </a:lnTo>
                        <a:lnTo>
                          <a:pt x="618" y="230"/>
                        </a:lnTo>
                        <a:lnTo>
                          <a:pt x="605" y="217"/>
                        </a:lnTo>
                        <a:lnTo>
                          <a:pt x="595" y="199"/>
                        </a:lnTo>
                        <a:lnTo>
                          <a:pt x="588" y="186"/>
                        </a:lnTo>
                        <a:lnTo>
                          <a:pt x="586" y="173"/>
                        </a:lnTo>
                        <a:lnTo>
                          <a:pt x="590" y="161"/>
                        </a:lnTo>
                        <a:lnTo>
                          <a:pt x="598" y="150"/>
                        </a:lnTo>
                        <a:lnTo>
                          <a:pt x="608" y="138"/>
                        </a:lnTo>
                        <a:lnTo>
                          <a:pt x="616" y="129"/>
                        </a:lnTo>
                        <a:lnTo>
                          <a:pt x="624" y="119"/>
                        </a:lnTo>
                        <a:lnTo>
                          <a:pt x="629" y="110"/>
                        </a:lnTo>
                        <a:lnTo>
                          <a:pt x="596" y="119"/>
                        </a:lnTo>
                        <a:lnTo>
                          <a:pt x="563" y="126"/>
                        </a:lnTo>
                        <a:lnTo>
                          <a:pt x="529" y="135"/>
                        </a:lnTo>
                        <a:lnTo>
                          <a:pt x="496" y="143"/>
                        </a:lnTo>
                        <a:lnTo>
                          <a:pt x="461" y="152"/>
                        </a:lnTo>
                        <a:lnTo>
                          <a:pt x="427" y="162"/>
                        </a:lnTo>
                        <a:lnTo>
                          <a:pt x="392" y="173"/>
                        </a:lnTo>
                        <a:lnTo>
                          <a:pt x="360" y="187"/>
                        </a:lnTo>
                        <a:lnTo>
                          <a:pt x="326" y="200"/>
                        </a:lnTo>
                        <a:lnTo>
                          <a:pt x="295" y="218"/>
                        </a:lnTo>
                        <a:lnTo>
                          <a:pt x="264" y="236"/>
                        </a:lnTo>
                        <a:lnTo>
                          <a:pt x="236" y="258"/>
                        </a:lnTo>
                        <a:lnTo>
                          <a:pt x="208" y="281"/>
                        </a:lnTo>
                        <a:lnTo>
                          <a:pt x="183" y="308"/>
                        </a:lnTo>
                        <a:lnTo>
                          <a:pt x="160" y="339"/>
                        </a:lnTo>
                        <a:lnTo>
                          <a:pt x="138" y="373"/>
                        </a:lnTo>
                        <a:lnTo>
                          <a:pt x="132" y="406"/>
                        </a:lnTo>
                        <a:lnTo>
                          <a:pt x="133" y="439"/>
                        </a:lnTo>
                        <a:lnTo>
                          <a:pt x="142" y="470"/>
                        </a:lnTo>
                        <a:lnTo>
                          <a:pt x="153" y="499"/>
                        </a:lnTo>
                        <a:lnTo>
                          <a:pt x="168" y="529"/>
                        </a:lnTo>
                        <a:lnTo>
                          <a:pt x="181" y="559"/>
                        </a:lnTo>
                        <a:lnTo>
                          <a:pt x="192" y="590"/>
                        </a:lnTo>
                        <a:lnTo>
                          <a:pt x="198" y="621"/>
                        </a:lnTo>
                        <a:lnTo>
                          <a:pt x="222" y="668"/>
                        </a:lnTo>
                        <a:lnTo>
                          <a:pt x="249" y="714"/>
                        </a:lnTo>
                        <a:lnTo>
                          <a:pt x="278" y="762"/>
                        </a:lnTo>
                        <a:lnTo>
                          <a:pt x="308" y="811"/>
                        </a:lnTo>
                        <a:lnTo>
                          <a:pt x="336" y="859"/>
                        </a:lnTo>
                        <a:lnTo>
                          <a:pt x="365" y="908"/>
                        </a:lnTo>
                        <a:lnTo>
                          <a:pt x="392" y="957"/>
                        </a:lnTo>
                        <a:lnTo>
                          <a:pt x="417" y="1007"/>
                        </a:lnTo>
                        <a:lnTo>
                          <a:pt x="437" y="1058"/>
                        </a:lnTo>
                        <a:lnTo>
                          <a:pt x="455" y="1108"/>
                        </a:lnTo>
                        <a:lnTo>
                          <a:pt x="466" y="1161"/>
                        </a:lnTo>
                        <a:lnTo>
                          <a:pt x="471" y="1211"/>
                        </a:lnTo>
                        <a:lnTo>
                          <a:pt x="468" y="1265"/>
                        </a:lnTo>
                        <a:lnTo>
                          <a:pt x="458" y="1317"/>
                        </a:lnTo>
                        <a:lnTo>
                          <a:pt x="441" y="1370"/>
                        </a:lnTo>
                        <a:lnTo>
                          <a:pt x="412" y="1424"/>
                        </a:lnTo>
                        <a:lnTo>
                          <a:pt x="400" y="1442"/>
                        </a:lnTo>
                        <a:lnTo>
                          <a:pt x="386" y="1461"/>
                        </a:lnTo>
                        <a:lnTo>
                          <a:pt x="372" y="1479"/>
                        </a:lnTo>
                        <a:lnTo>
                          <a:pt x="357" y="1497"/>
                        </a:lnTo>
                        <a:lnTo>
                          <a:pt x="341" y="1513"/>
                        </a:lnTo>
                        <a:lnTo>
                          <a:pt x="324" y="1529"/>
                        </a:lnTo>
                        <a:lnTo>
                          <a:pt x="305" y="1544"/>
                        </a:lnTo>
                        <a:lnTo>
                          <a:pt x="287" y="1558"/>
                        </a:lnTo>
                        <a:lnTo>
                          <a:pt x="267" y="1570"/>
                        </a:lnTo>
                        <a:lnTo>
                          <a:pt x="247" y="1581"/>
                        </a:lnTo>
                        <a:lnTo>
                          <a:pt x="226" y="1591"/>
                        </a:lnTo>
                        <a:lnTo>
                          <a:pt x="203" y="1598"/>
                        </a:lnTo>
                        <a:lnTo>
                          <a:pt x="179" y="1606"/>
                        </a:lnTo>
                        <a:lnTo>
                          <a:pt x="156" y="1610"/>
                        </a:lnTo>
                        <a:lnTo>
                          <a:pt x="131" y="1613"/>
                        </a:lnTo>
                        <a:lnTo>
                          <a:pt x="106" y="1613"/>
                        </a:lnTo>
                        <a:lnTo>
                          <a:pt x="142" y="1590"/>
                        </a:lnTo>
                        <a:lnTo>
                          <a:pt x="176" y="1565"/>
                        </a:lnTo>
                        <a:lnTo>
                          <a:pt x="206" y="1536"/>
                        </a:lnTo>
                        <a:lnTo>
                          <a:pt x="234" y="1507"/>
                        </a:lnTo>
                        <a:lnTo>
                          <a:pt x="259" y="1473"/>
                        </a:lnTo>
                        <a:lnTo>
                          <a:pt x="280" y="1440"/>
                        </a:lnTo>
                        <a:lnTo>
                          <a:pt x="300" y="1402"/>
                        </a:lnTo>
                        <a:lnTo>
                          <a:pt x="316" y="1365"/>
                        </a:lnTo>
                        <a:lnTo>
                          <a:pt x="330" y="1326"/>
                        </a:lnTo>
                        <a:lnTo>
                          <a:pt x="340" y="1286"/>
                        </a:lnTo>
                        <a:lnTo>
                          <a:pt x="349" y="1244"/>
                        </a:lnTo>
                        <a:lnTo>
                          <a:pt x="354" y="1202"/>
                        </a:lnTo>
                        <a:lnTo>
                          <a:pt x="356" y="1158"/>
                        </a:lnTo>
                        <a:lnTo>
                          <a:pt x="355" y="1115"/>
                        </a:lnTo>
                        <a:lnTo>
                          <a:pt x="352" y="1071"/>
                        </a:lnTo>
                        <a:lnTo>
                          <a:pt x="346" y="1027"/>
                        </a:lnTo>
                        <a:lnTo>
                          <a:pt x="333" y="1002"/>
                        </a:lnTo>
                        <a:lnTo>
                          <a:pt x="319" y="978"/>
                        </a:lnTo>
                        <a:lnTo>
                          <a:pt x="305" y="953"/>
                        </a:lnTo>
                        <a:lnTo>
                          <a:pt x="292" y="929"/>
                        </a:lnTo>
                        <a:lnTo>
                          <a:pt x="278" y="904"/>
                        </a:lnTo>
                        <a:lnTo>
                          <a:pt x="264" y="880"/>
                        </a:lnTo>
                        <a:lnTo>
                          <a:pt x="249" y="855"/>
                        </a:lnTo>
                        <a:lnTo>
                          <a:pt x="236" y="831"/>
                        </a:lnTo>
                        <a:lnTo>
                          <a:pt x="221" y="807"/>
                        </a:lnTo>
                        <a:lnTo>
                          <a:pt x="206" y="783"/>
                        </a:lnTo>
                        <a:lnTo>
                          <a:pt x="189" y="760"/>
                        </a:lnTo>
                        <a:lnTo>
                          <a:pt x="172" y="736"/>
                        </a:lnTo>
                        <a:lnTo>
                          <a:pt x="155" y="714"/>
                        </a:lnTo>
                        <a:lnTo>
                          <a:pt x="137" y="692"/>
                        </a:lnTo>
                        <a:lnTo>
                          <a:pt x="117" y="669"/>
                        </a:lnTo>
                        <a:lnTo>
                          <a:pt x="97" y="647"/>
                        </a:lnTo>
                        <a:lnTo>
                          <a:pt x="72" y="601"/>
                        </a:lnTo>
                        <a:lnTo>
                          <a:pt x="48" y="554"/>
                        </a:lnTo>
                        <a:lnTo>
                          <a:pt x="25" y="506"/>
                        </a:lnTo>
                        <a:lnTo>
                          <a:pt x="9" y="457"/>
                        </a:lnTo>
                        <a:lnTo>
                          <a:pt x="0" y="408"/>
                        </a:lnTo>
                        <a:lnTo>
                          <a:pt x="3" y="358"/>
                        </a:lnTo>
                        <a:lnTo>
                          <a:pt x="18" y="308"/>
                        </a:lnTo>
                        <a:lnTo>
                          <a:pt x="48" y="258"/>
                        </a:lnTo>
                        <a:lnTo>
                          <a:pt x="76" y="224"/>
                        </a:lnTo>
                        <a:lnTo>
                          <a:pt x="107" y="194"/>
                        </a:lnTo>
                        <a:lnTo>
                          <a:pt x="140" y="166"/>
                        </a:lnTo>
                        <a:lnTo>
                          <a:pt x="173" y="140"/>
                        </a:lnTo>
                        <a:lnTo>
                          <a:pt x="209" y="116"/>
                        </a:lnTo>
                        <a:lnTo>
                          <a:pt x="247" y="95"/>
                        </a:lnTo>
                        <a:lnTo>
                          <a:pt x="285" y="76"/>
                        </a:lnTo>
                        <a:lnTo>
                          <a:pt x="325" y="60"/>
                        </a:lnTo>
                        <a:lnTo>
                          <a:pt x="366" y="45"/>
                        </a:lnTo>
                        <a:lnTo>
                          <a:pt x="409" y="33"/>
                        </a:lnTo>
                        <a:lnTo>
                          <a:pt x="452" y="23"/>
                        </a:lnTo>
                        <a:lnTo>
                          <a:pt x="496" y="14"/>
                        </a:lnTo>
                        <a:lnTo>
                          <a:pt x="540" y="8"/>
                        </a:lnTo>
                        <a:lnTo>
                          <a:pt x="586" y="4"/>
                        </a:lnTo>
                        <a:lnTo>
                          <a:pt x="633" y="2"/>
                        </a:lnTo>
                        <a:lnTo>
                          <a:pt x="679" y="1"/>
                        </a:lnTo>
                        <a:lnTo>
                          <a:pt x="695" y="2"/>
                        </a:lnTo>
                        <a:lnTo>
                          <a:pt x="711" y="2"/>
                        </a:lnTo>
                        <a:lnTo>
                          <a:pt x="727" y="2"/>
                        </a:lnTo>
                        <a:lnTo>
                          <a:pt x="745" y="2"/>
                        </a:lnTo>
                        <a:lnTo>
                          <a:pt x="762" y="2"/>
                        </a:lnTo>
                        <a:lnTo>
                          <a:pt x="778" y="1"/>
                        </a:lnTo>
                        <a:lnTo>
                          <a:pt x="796" y="0"/>
                        </a:lnTo>
                        <a:lnTo>
                          <a:pt x="813" y="0"/>
                        </a:lnTo>
                        <a:lnTo>
                          <a:pt x="829" y="0"/>
                        </a:lnTo>
                        <a:lnTo>
                          <a:pt x="845" y="1"/>
                        </a:lnTo>
                        <a:lnTo>
                          <a:pt x="862" y="2"/>
                        </a:lnTo>
                        <a:lnTo>
                          <a:pt x="878" y="4"/>
                        </a:lnTo>
                        <a:lnTo>
                          <a:pt x="894" y="8"/>
                        </a:lnTo>
                        <a:lnTo>
                          <a:pt x="909" y="13"/>
                        </a:lnTo>
                        <a:lnTo>
                          <a:pt x="923" y="19"/>
                        </a:lnTo>
                        <a:lnTo>
                          <a:pt x="936" y="27"/>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flipH="1">
                    <a:off x="3102480" y="2428200"/>
                    <a:ext cx="48960" cy="25920"/>
                  </a:xfrm>
                  <a:custGeom>
                    <a:avLst/>
                    <a:gdLst/>
                    <a:ahLst/>
                    <a:rect l="l" t="t" r="r" b="b"/>
                    <a:pathLst>
                      <a:path w="176" h="124">
                        <a:moveTo>
                          <a:pt x="125" y="65"/>
                        </a:moveTo>
                        <a:lnTo>
                          <a:pt x="173" y="74"/>
                        </a:lnTo>
                        <a:lnTo>
                          <a:pt x="176" y="85"/>
                        </a:lnTo>
                        <a:lnTo>
                          <a:pt x="171" y="99"/>
                        </a:lnTo>
                        <a:lnTo>
                          <a:pt x="161" y="112"/>
                        </a:lnTo>
                        <a:lnTo>
                          <a:pt x="148" y="124"/>
                        </a:lnTo>
                        <a:lnTo>
                          <a:pt x="131" y="119"/>
                        </a:lnTo>
                        <a:lnTo>
                          <a:pt x="111" y="116"/>
                        </a:lnTo>
                        <a:lnTo>
                          <a:pt x="91" y="115"/>
                        </a:lnTo>
                        <a:lnTo>
                          <a:pt x="71" y="112"/>
                        </a:lnTo>
                        <a:lnTo>
                          <a:pt x="54" y="109"/>
                        </a:lnTo>
                        <a:lnTo>
                          <a:pt x="38" y="100"/>
                        </a:lnTo>
                        <a:lnTo>
                          <a:pt x="24" y="86"/>
                        </a:lnTo>
                        <a:lnTo>
                          <a:pt x="15" y="65"/>
                        </a:lnTo>
                        <a:lnTo>
                          <a:pt x="0" y="0"/>
                        </a:lnTo>
                        <a:lnTo>
                          <a:pt x="33" y="2"/>
                        </a:lnTo>
                        <a:lnTo>
                          <a:pt x="51" y="17"/>
                        </a:lnTo>
                        <a:lnTo>
                          <a:pt x="60" y="41"/>
                        </a:lnTo>
                        <a:lnTo>
                          <a:pt x="63" y="67"/>
                        </a:lnTo>
                        <a:lnTo>
                          <a:pt x="66" y="88"/>
                        </a:lnTo>
                        <a:lnTo>
                          <a:pt x="75" y="99"/>
                        </a:lnTo>
                        <a:lnTo>
                          <a:pt x="92" y="93"/>
                        </a:lnTo>
                        <a:lnTo>
                          <a:pt x="125" y="65"/>
                        </a:lnTo>
                        <a:close/>
                      </a:path>
                    </a:pathLst>
                  </a:custGeom>
                  <a:solidFill>
                    <a:srgbClr val="f2cc0c"/>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568" name=""/>
                  <p:cNvSpPr/>
                  <p:nvPr/>
                </p:nvSpPr>
                <p:spPr>
                  <a:xfrm flipH="1">
                    <a:off x="3493440" y="2530440"/>
                    <a:ext cx="55440" cy="25920"/>
                  </a:xfrm>
                  <a:custGeom>
                    <a:avLst/>
                    <a:gdLst/>
                    <a:ahLst/>
                    <a:rect l="l" t="t" r="r" b="b"/>
                    <a:pathLst>
                      <a:path w="199" h="124">
                        <a:moveTo>
                          <a:pt x="167" y="9"/>
                        </a:moveTo>
                        <a:lnTo>
                          <a:pt x="199" y="50"/>
                        </a:lnTo>
                        <a:lnTo>
                          <a:pt x="186" y="46"/>
                        </a:lnTo>
                        <a:lnTo>
                          <a:pt x="177" y="48"/>
                        </a:lnTo>
                        <a:lnTo>
                          <a:pt x="169" y="55"/>
                        </a:lnTo>
                        <a:lnTo>
                          <a:pt x="165" y="63"/>
                        </a:lnTo>
                        <a:lnTo>
                          <a:pt x="158" y="73"/>
                        </a:lnTo>
                        <a:lnTo>
                          <a:pt x="152" y="82"/>
                        </a:lnTo>
                        <a:lnTo>
                          <a:pt x="145" y="88"/>
                        </a:lnTo>
                        <a:lnTo>
                          <a:pt x="133" y="92"/>
                        </a:lnTo>
                        <a:lnTo>
                          <a:pt x="34" y="124"/>
                        </a:lnTo>
                        <a:lnTo>
                          <a:pt x="31" y="113"/>
                        </a:lnTo>
                        <a:lnTo>
                          <a:pt x="26" y="103"/>
                        </a:lnTo>
                        <a:lnTo>
                          <a:pt x="20" y="93"/>
                        </a:lnTo>
                        <a:lnTo>
                          <a:pt x="14" y="84"/>
                        </a:lnTo>
                        <a:lnTo>
                          <a:pt x="8" y="75"/>
                        </a:lnTo>
                        <a:lnTo>
                          <a:pt x="3" y="65"/>
                        </a:lnTo>
                        <a:lnTo>
                          <a:pt x="0" y="53"/>
                        </a:lnTo>
                        <a:lnTo>
                          <a:pt x="0" y="41"/>
                        </a:lnTo>
                        <a:lnTo>
                          <a:pt x="9" y="45"/>
                        </a:lnTo>
                        <a:lnTo>
                          <a:pt x="16" y="47"/>
                        </a:lnTo>
                        <a:lnTo>
                          <a:pt x="24" y="51"/>
                        </a:lnTo>
                        <a:lnTo>
                          <a:pt x="30" y="52"/>
                        </a:lnTo>
                        <a:lnTo>
                          <a:pt x="36" y="52"/>
                        </a:lnTo>
                        <a:lnTo>
                          <a:pt x="44" y="51"/>
                        </a:lnTo>
                        <a:lnTo>
                          <a:pt x="50" y="47"/>
                        </a:lnTo>
                        <a:lnTo>
                          <a:pt x="57" y="41"/>
                        </a:lnTo>
                        <a:lnTo>
                          <a:pt x="67" y="32"/>
                        </a:lnTo>
                        <a:lnTo>
                          <a:pt x="74" y="24"/>
                        </a:lnTo>
                        <a:lnTo>
                          <a:pt x="75" y="13"/>
                        </a:lnTo>
                        <a:lnTo>
                          <a:pt x="75" y="0"/>
                        </a:lnTo>
                        <a:lnTo>
                          <a:pt x="86" y="9"/>
                        </a:lnTo>
                        <a:lnTo>
                          <a:pt x="96" y="13"/>
                        </a:lnTo>
                        <a:lnTo>
                          <a:pt x="106" y="13"/>
                        </a:lnTo>
                        <a:lnTo>
                          <a:pt x="117" y="10"/>
                        </a:lnTo>
                        <a:lnTo>
                          <a:pt x="127" y="6"/>
                        </a:lnTo>
                        <a:lnTo>
                          <a:pt x="140" y="5"/>
                        </a:lnTo>
                        <a:lnTo>
                          <a:pt x="152" y="5"/>
                        </a:lnTo>
                        <a:lnTo>
                          <a:pt x="167" y="9"/>
                        </a:lnTo>
                        <a:close/>
                      </a:path>
                    </a:pathLst>
                  </a:custGeom>
                  <a:solidFill>
                    <a:srgbClr val="9ed67c"/>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569" name=""/>
                  <p:cNvSpPr/>
                  <p:nvPr/>
                </p:nvSpPr>
                <p:spPr>
                  <a:xfrm flipH="1">
                    <a:off x="3458160" y="2560680"/>
                    <a:ext cx="64800" cy="21600"/>
                  </a:xfrm>
                  <a:custGeom>
                    <a:avLst/>
                    <a:gdLst/>
                    <a:ahLst/>
                    <a:rect l="l" t="t" r="r" b="b"/>
                    <a:pathLst>
                      <a:path w="232" h="104">
                        <a:moveTo>
                          <a:pt x="232" y="104"/>
                        </a:moveTo>
                        <a:lnTo>
                          <a:pt x="213" y="104"/>
                        </a:lnTo>
                        <a:lnTo>
                          <a:pt x="193" y="104"/>
                        </a:lnTo>
                        <a:lnTo>
                          <a:pt x="173" y="104"/>
                        </a:lnTo>
                        <a:lnTo>
                          <a:pt x="155" y="103"/>
                        </a:lnTo>
                        <a:lnTo>
                          <a:pt x="137" y="99"/>
                        </a:lnTo>
                        <a:lnTo>
                          <a:pt x="124" y="91"/>
                        </a:lnTo>
                        <a:lnTo>
                          <a:pt x="112" y="76"/>
                        </a:lnTo>
                        <a:lnTo>
                          <a:pt x="107" y="55"/>
                        </a:lnTo>
                        <a:lnTo>
                          <a:pt x="100" y="50"/>
                        </a:lnTo>
                        <a:lnTo>
                          <a:pt x="91" y="47"/>
                        </a:lnTo>
                        <a:lnTo>
                          <a:pt x="81" y="46"/>
                        </a:lnTo>
                        <a:lnTo>
                          <a:pt x="73" y="46"/>
                        </a:lnTo>
                        <a:lnTo>
                          <a:pt x="63" y="46"/>
                        </a:lnTo>
                        <a:lnTo>
                          <a:pt x="53" y="47"/>
                        </a:lnTo>
                        <a:lnTo>
                          <a:pt x="43" y="47"/>
                        </a:lnTo>
                        <a:lnTo>
                          <a:pt x="33" y="47"/>
                        </a:lnTo>
                        <a:lnTo>
                          <a:pt x="25" y="57"/>
                        </a:lnTo>
                        <a:lnTo>
                          <a:pt x="24" y="69"/>
                        </a:lnTo>
                        <a:lnTo>
                          <a:pt x="24" y="83"/>
                        </a:lnTo>
                        <a:lnTo>
                          <a:pt x="24" y="96"/>
                        </a:lnTo>
                        <a:lnTo>
                          <a:pt x="0" y="72"/>
                        </a:lnTo>
                        <a:lnTo>
                          <a:pt x="8" y="56"/>
                        </a:lnTo>
                        <a:lnTo>
                          <a:pt x="18" y="40"/>
                        </a:lnTo>
                        <a:lnTo>
                          <a:pt x="29" y="26"/>
                        </a:lnTo>
                        <a:lnTo>
                          <a:pt x="43" y="14"/>
                        </a:lnTo>
                        <a:lnTo>
                          <a:pt x="56" y="5"/>
                        </a:lnTo>
                        <a:lnTo>
                          <a:pt x="73" y="0"/>
                        </a:lnTo>
                        <a:lnTo>
                          <a:pt x="90" y="0"/>
                        </a:lnTo>
                        <a:lnTo>
                          <a:pt x="107" y="6"/>
                        </a:lnTo>
                        <a:lnTo>
                          <a:pt x="125" y="17"/>
                        </a:lnTo>
                        <a:lnTo>
                          <a:pt x="143" y="25"/>
                        </a:lnTo>
                        <a:lnTo>
                          <a:pt x="163" y="32"/>
                        </a:lnTo>
                        <a:lnTo>
                          <a:pt x="183" y="41"/>
                        </a:lnTo>
                        <a:lnTo>
                          <a:pt x="202" y="51"/>
                        </a:lnTo>
                        <a:lnTo>
                          <a:pt x="217" y="63"/>
                        </a:lnTo>
                        <a:lnTo>
                          <a:pt x="227" y="81"/>
                        </a:lnTo>
                        <a:lnTo>
                          <a:pt x="232" y="104"/>
                        </a:lnTo>
                        <a:close/>
                      </a:path>
                    </a:pathLst>
                  </a:custGeom>
                  <a:solidFill>
                    <a:srgbClr val="9ed67c"/>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570" name=""/>
                  <p:cNvSpPr/>
                  <p:nvPr/>
                </p:nvSpPr>
                <p:spPr>
                  <a:xfrm flipH="1">
                    <a:off x="3551760" y="2582280"/>
                    <a:ext cx="156960" cy="99000"/>
                  </a:xfrm>
                  <a:custGeom>
                    <a:avLst/>
                    <a:gdLst/>
                    <a:ahLst/>
                    <a:rect l="l" t="t" r="r" b="b"/>
                    <a:pathLst>
                      <a:path w="561" h="472">
                        <a:moveTo>
                          <a:pt x="472" y="150"/>
                        </a:moveTo>
                        <a:lnTo>
                          <a:pt x="487" y="164"/>
                        </a:lnTo>
                        <a:lnTo>
                          <a:pt x="504" y="176"/>
                        </a:lnTo>
                        <a:lnTo>
                          <a:pt x="521" y="191"/>
                        </a:lnTo>
                        <a:lnTo>
                          <a:pt x="538" y="206"/>
                        </a:lnTo>
                        <a:lnTo>
                          <a:pt x="551" y="223"/>
                        </a:lnTo>
                        <a:lnTo>
                          <a:pt x="559" y="242"/>
                        </a:lnTo>
                        <a:lnTo>
                          <a:pt x="561" y="264"/>
                        </a:lnTo>
                        <a:lnTo>
                          <a:pt x="555" y="289"/>
                        </a:lnTo>
                        <a:lnTo>
                          <a:pt x="539" y="288"/>
                        </a:lnTo>
                        <a:lnTo>
                          <a:pt x="523" y="284"/>
                        </a:lnTo>
                        <a:lnTo>
                          <a:pt x="507" y="279"/>
                        </a:lnTo>
                        <a:lnTo>
                          <a:pt x="489" y="273"/>
                        </a:lnTo>
                        <a:lnTo>
                          <a:pt x="472" y="267"/>
                        </a:lnTo>
                        <a:lnTo>
                          <a:pt x="454" y="259"/>
                        </a:lnTo>
                        <a:lnTo>
                          <a:pt x="437" y="253"/>
                        </a:lnTo>
                        <a:lnTo>
                          <a:pt x="421" y="247"/>
                        </a:lnTo>
                        <a:lnTo>
                          <a:pt x="403" y="243"/>
                        </a:lnTo>
                        <a:lnTo>
                          <a:pt x="388" y="240"/>
                        </a:lnTo>
                        <a:lnTo>
                          <a:pt x="373" y="240"/>
                        </a:lnTo>
                        <a:lnTo>
                          <a:pt x="358" y="242"/>
                        </a:lnTo>
                        <a:lnTo>
                          <a:pt x="346" y="248"/>
                        </a:lnTo>
                        <a:lnTo>
                          <a:pt x="334" y="257"/>
                        </a:lnTo>
                        <a:lnTo>
                          <a:pt x="324" y="271"/>
                        </a:lnTo>
                        <a:lnTo>
                          <a:pt x="315" y="289"/>
                        </a:lnTo>
                        <a:lnTo>
                          <a:pt x="300" y="320"/>
                        </a:lnTo>
                        <a:lnTo>
                          <a:pt x="276" y="339"/>
                        </a:lnTo>
                        <a:lnTo>
                          <a:pt x="248" y="351"/>
                        </a:lnTo>
                        <a:lnTo>
                          <a:pt x="219" y="360"/>
                        </a:lnTo>
                        <a:lnTo>
                          <a:pt x="195" y="370"/>
                        </a:lnTo>
                        <a:lnTo>
                          <a:pt x="179" y="385"/>
                        </a:lnTo>
                        <a:lnTo>
                          <a:pt x="175" y="410"/>
                        </a:lnTo>
                        <a:lnTo>
                          <a:pt x="189" y="447"/>
                        </a:lnTo>
                        <a:lnTo>
                          <a:pt x="182" y="454"/>
                        </a:lnTo>
                        <a:lnTo>
                          <a:pt x="174" y="459"/>
                        </a:lnTo>
                        <a:lnTo>
                          <a:pt x="164" y="462"/>
                        </a:lnTo>
                        <a:lnTo>
                          <a:pt x="154" y="463"/>
                        </a:lnTo>
                        <a:lnTo>
                          <a:pt x="143" y="463"/>
                        </a:lnTo>
                        <a:lnTo>
                          <a:pt x="133" y="464"/>
                        </a:lnTo>
                        <a:lnTo>
                          <a:pt x="124" y="467"/>
                        </a:lnTo>
                        <a:lnTo>
                          <a:pt x="116" y="472"/>
                        </a:lnTo>
                        <a:lnTo>
                          <a:pt x="92" y="441"/>
                        </a:lnTo>
                        <a:lnTo>
                          <a:pt x="71" y="410"/>
                        </a:lnTo>
                        <a:lnTo>
                          <a:pt x="52" y="379"/>
                        </a:lnTo>
                        <a:lnTo>
                          <a:pt x="35" y="345"/>
                        </a:lnTo>
                        <a:lnTo>
                          <a:pt x="21" y="310"/>
                        </a:lnTo>
                        <a:lnTo>
                          <a:pt x="10" y="276"/>
                        </a:lnTo>
                        <a:lnTo>
                          <a:pt x="4" y="237"/>
                        </a:lnTo>
                        <a:lnTo>
                          <a:pt x="0" y="199"/>
                        </a:lnTo>
                        <a:lnTo>
                          <a:pt x="12" y="196"/>
                        </a:lnTo>
                        <a:lnTo>
                          <a:pt x="25" y="191"/>
                        </a:lnTo>
                        <a:lnTo>
                          <a:pt x="36" y="185"/>
                        </a:lnTo>
                        <a:lnTo>
                          <a:pt x="47" y="178"/>
                        </a:lnTo>
                        <a:lnTo>
                          <a:pt x="58" y="170"/>
                        </a:lnTo>
                        <a:lnTo>
                          <a:pt x="71" y="164"/>
                        </a:lnTo>
                        <a:lnTo>
                          <a:pt x="83" y="159"/>
                        </a:lnTo>
                        <a:lnTo>
                          <a:pt x="98" y="156"/>
                        </a:lnTo>
                        <a:lnTo>
                          <a:pt x="124" y="165"/>
                        </a:lnTo>
                        <a:lnTo>
                          <a:pt x="149" y="170"/>
                        </a:lnTo>
                        <a:lnTo>
                          <a:pt x="173" y="175"/>
                        </a:lnTo>
                        <a:lnTo>
                          <a:pt x="194" y="180"/>
                        </a:lnTo>
                        <a:lnTo>
                          <a:pt x="215" y="186"/>
                        </a:lnTo>
                        <a:lnTo>
                          <a:pt x="236" y="194"/>
                        </a:lnTo>
                        <a:lnTo>
                          <a:pt x="259" y="206"/>
                        </a:lnTo>
                        <a:lnTo>
                          <a:pt x="281" y="223"/>
                        </a:lnTo>
                        <a:lnTo>
                          <a:pt x="291" y="220"/>
                        </a:lnTo>
                        <a:lnTo>
                          <a:pt x="300" y="215"/>
                        </a:lnTo>
                        <a:lnTo>
                          <a:pt x="306" y="207"/>
                        </a:lnTo>
                        <a:lnTo>
                          <a:pt x="311" y="200"/>
                        </a:lnTo>
                        <a:lnTo>
                          <a:pt x="316" y="191"/>
                        </a:lnTo>
                        <a:lnTo>
                          <a:pt x="321" y="181"/>
                        </a:lnTo>
                        <a:lnTo>
                          <a:pt x="326" y="173"/>
                        </a:lnTo>
                        <a:lnTo>
                          <a:pt x="331" y="165"/>
                        </a:lnTo>
                        <a:lnTo>
                          <a:pt x="311" y="149"/>
                        </a:lnTo>
                        <a:lnTo>
                          <a:pt x="295" y="130"/>
                        </a:lnTo>
                        <a:lnTo>
                          <a:pt x="279" y="112"/>
                        </a:lnTo>
                        <a:lnTo>
                          <a:pt x="263" y="94"/>
                        </a:lnTo>
                        <a:lnTo>
                          <a:pt x="246" y="80"/>
                        </a:lnTo>
                        <a:lnTo>
                          <a:pt x="228" y="67"/>
                        </a:lnTo>
                        <a:lnTo>
                          <a:pt x="207" y="60"/>
                        </a:lnTo>
                        <a:lnTo>
                          <a:pt x="182" y="58"/>
                        </a:lnTo>
                        <a:lnTo>
                          <a:pt x="188" y="41"/>
                        </a:lnTo>
                        <a:lnTo>
                          <a:pt x="197" y="29"/>
                        </a:lnTo>
                        <a:lnTo>
                          <a:pt x="205" y="16"/>
                        </a:lnTo>
                        <a:lnTo>
                          <a:pt x="214" y="0"/>
                        </a:lnTo>
                        <a:lnTo>
                          <a:pt x="233" y="4"/>
                        </a:lnTo>
                        <a:lnTo>
                          <a:pt x="250" y="9"/>
                        </a:lnTo>
                        <a:lnTo>
                          <a:pt x="268" y="15"/>
                        </a:lnTo>
                        <a:lnTo>
                          <a:pt x="285" y="23"/>
                        </a:lnTo>
                        <a:lnTo>
                          <a:pt x="301" y="31"/>
                        </a:lnTo>
                        <a:lnTo>
                          <a:pt x="317" y="41"/>
                        </a:lnTo>
                        <a:lnTo>
                          <a:pt x="334" y="51"/>
                        </a:lnTo>
                        <a:lnTo>
                          <a:pt x="348" y="62"/>
                        </a:lnTo>
                        <a:lnTo>
                          <a:pt x="365" y="73"/>
                        </a:lnTo>
                        <a:lnTo>
                          <a:pt x="380" y="85"/>
                        </a:lnTo>
                        <a:lnTo>
                          <a:pt x="394" y="96"/>
                        </a:lnTo>
                        <a:lnTo>
                          <a:pt x="409" y="107"/>
                        </a:lnTo>
                        <a:lnTo>
                          <a:pt x="426" y="119"/>
                        </a:lnTo>
                        <a:lnTo>
                          <a:pt x="441" y="130"/>
                        </a:lnTo>
                        <a:lnTo>
                          <a:pt x="455" y="140"/>
                        </a:lnTo>
                        <a:lnTo>
                          <a:pt x="472" y="150"/>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flipH="1">
                    <a:off x="3438720" y="2619000"/>
                    <a:ext cx="70200" cy="55440"/>
                  </a:xfrm>
                  <a:custGeom>
                    <a:avLst/>
                    <a:gdLst/>
                    <a:ahLst/>
                    <a:rect l="l" t="t" r="r" b="b"/>
                    <a:pathLst>
                      <a:path w="251" h="265">
                        <a:moveTo>
                          <a:pt x="224" y="190"/>
                        </a:moveTo>
                        <a:lnTo>
                          <a:pt x="210" y="205"/>
                        </a:lnTo>
                        <a:lnTo>
                          <a:pt x="195" y="216"/>
                        </a:lnTo>
                        <a:lnTo>
                          <a:pt x="180" y="224"/>
                        </a:lnTo>
                        <a:lnTo>
                          <a:pt x="163" y="231"/>
                        </a:lnTo>
                        <a:lnTo>
                          <a:pt x="145" y="238"/>
                        </a:lnTo>
                        <a:lnTo>
                          <a:pt x="128" y="244"/>
                        </a:lnTo>
                        <a:lnTo>
                          <a:pt x="109" y="254"/>
                        </a:lnTo>
                        <a:lnTo>
                          <a:pt x="92" y="265"/>
                        </a:lnTo>
                        <a:lnTo>
                          <a:pt x="0" y="257"/>
                        </a:lnTo>
                        <a:lnTo>
                          <a:pt x="19" y="239"/>
                        </a:lnTo>
                        <a:lnTo>
                          <a:pt x="36" y="222"/>
                        </a:lnTo>
                        <a:lnTo>
                          <a:pt x="52" y="205"/>
                        </a:lnTo>
                        <a:lnTo>
                          <a:pt x="66" y="186"/>
                        </a:lnTo>
                        <a:lnTo>
                          <a:pt x="78" y="166"/>
                        </a:lnTo>
                        <a:lnTo>
                          <a:pt x="87" y="145"/>
                        </a:lnTo>
                        <a:lnTo>
                          <a:pt x="92" y="124"/>
                        </a:lnTo>
                        <a:lnTo>
                          <a:pt x="92" y="100"/>
                        </a:lnTo>
                        <a:lnTo>
                          <a:pt x="116" y="95"/>
                        </a:lnTo>
                        <a:lnTo>
                          <a:pt x="136" y="84"/>
                        </a:lnTo>
                        <a:lnTo>
                          <a:pt x="153" y="69"/>
                        </a:lnTo>
                        <a:lnTo>
                          <a:pt x="168" y="52"/>
                        </a:lnTo>
                        <a:lnTo>
                          <a:pt x="183" y="33"/>
                        </a:lnTo>
                        <a:lnTo>
                          <a:pt x="199" y="18"/>
                        </a:lnTo>
                        <a:lnTo>
                          <a:pt x="218" y="6"/>
                        </a:lnTo>
                        <a:lnTo>
                          <a:pt x="241" y="0"/>
                        </a:lnTo>
                        <a:lnTo>
                          <a:pt x="249" y="23"/>
                        </a:lnTo>
                        <a:lnTo>
                          <a:pt x="251" y="46"/>
                        </a:lnTo>
                        <a:lnTo>
                          <a:pt x="248" y="69"/>
                        </a:lnTo>
                        <a:lnTo>
                          <a:pt x="243" y="93"/>
                        </a:lnTo>
                        <a:lnTo>
                          <a:pt x="235" y="116"/>
                        </a:lnTo>
                        <a:lnTo>
                          <a:pt x="229" y="140"/>
                        </a:lnTo>
                        <a:lnTo>
                          <a:pt x="224" y="165"/>
                        </a:lnTo>
                        <a:lnTo>
                          <a:pt x="224" y="190"/>
                        </a:lnTo>
                        <a:close/>
                      </a:path>
                    </a:pathLst>
                  </a:custGeom>
                  <a:solidFill>
                    <a:srgbClr val="9ed67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2" name=""/>
                  <p:cNvSpPr/>
                  <p:nvPr/>
                </p:nvSpPr>
                <p:spPr>
                  <a:xfrm flipH="1">
                    <a:off x="3307320" y="2633400"/>
                    <a:ext cx="559440" cy="192960"/>
                  </a:xfrm>
                  <a:custGeom>
                    <a:avLst/>
                    <a:gdLst/>
                    <a:ahLst/>
                    <a:rect l="l" t="t" r="r" b="b"/>
                    <a:pathLst>
                      <a:path w="1999" h="919">
                        <a:moveTo>
                          <a:pt x="440" y="24"/>
                        </a:moveTo>
                        <a:lnTo>
                          <a:pt x="447" y="55"/>
                        </a:lnTo>
                        <a:lnTo>
                          <a:pt x="455" y="84"/>
                        </a:lnTo>
                        <a:lnTo>
                          <a:pt x="464" y="115"/>
                        </a:lnTo>
                        <a:lnTo>
                          <a:pt x="474" y="145"/>
                        </a:lnTo>
                        <a:lnTo>
                          <a:pt x="485" y="175"/>
                        </a:lnTo>
                        <a:lnTo>
                          <a:pt x="498" y="205"/>
                        </a:lnTo>
                        <a:lnTo>
                          <a:pt x="513" y="233"/>
                        </a:lnTo>
                        <a:lnTo>
                          <a:pt x="528" y="262"/>
                        </a:lnTo>
                        <a:lnTo>
                          <a:pt x="544" y="289"/>
                        </a:lnTo>
                        <a:lnTo>
                          <a:pt x="561" y="316"/>
                        </a:lnTo>
                        <a:lnTo>
                          <a:pt x="579" y="341"/>
                        </a:lnTo>
                        <a:lnTo>
                          <a:pt x="599" y="366"/>
                        </a:lnTo>
                        <a:lnTo>
                          <a:pt x="620" y="390"/>
                        </a:lnTo>
                        <a:lnTo>
                          <a:pt x="642" y="412"/>
                        </a:lnTo>
                        <a:lnTo>
                          <a:pt x="665" y="433"/>
                        </a:lnTo>
                        <a:lnTo>
                          <a:pt x="689" y="453"/>
                        </a:lnTo>
                        <a:lnTo>
                          <a:pt x="714" y="469"/>
                        </a:lnTo>
                        <a:lnTo>
                          <a:pt x="740" y="484"/>
                        </a:lnTo>
                        <a:lnTo>
                          <a:pt x="768" y="498"/>
                        </a:lnTo>
                        <a:lnTo>
                          <a:pt x="795" y="511"/>
                        </a:lnTo>
                        <a:lnTo>
                          <a:pt x="823" y="524"/>
                        </a:lnTo>
                        <a:lnTo>
                          <a:pt x="851" y="536"/>
                        </a:lnTo>
                        <a:lnTo>
                          <a:pt x="881" y="547"/>
                        </a:lnTo>
                        <a:lnTo>
                          <a:pt x="910" y="557"/>
                        </a:lnTo>
                        <a:lnTo>
                          <a:pt x="940" y="567"/>
                        </a:lnTo>
                        <a:lnTo>
                          <a:pt x="971" y="576"/>
                        </a:lnTo>
                        <a:lnTo>
                          <a:pt x="1001" y="583"/>
                        </a:lnTo>
                        <a:lnTo>
                          <a:pt x="1032" y="591"/>
                        </a:lnTo>
                        <a:lnTo>
                          <a:pt x="1063" y="597"/>
                        </a:lnTo>
                        <a:lnTo>
                          <a:pt x="1094" y="602"/>
                        </a:lnTo>
                        <a:lnTo>
                          <a:pt x="1125" y="605"/>
                        </a:lnTo>
                        <a:lnTo>
                          <a:pt x="1156" y="608"/>
                        </a:lnTo>
                        <a:lnTo>
                          <a:pt x="1188" y="609"/>
                        </a:lnTo>
                        <a:lnTo>
                          <a:pt x="1220" y="609"/>
                        </a:lnTo>
                        <a:lnTo>
                          <a:pt x="1251" y="609"/>
                        </a:lnTo>
                        <a:lnTo>
                          <a:pt x="1282" y="607"/>
                        </a:lnTo>
                        <a:lnTo>
                          <a:pt x="1313" y="604"/>
                        </a:lnTo>
                        <a:lnTo>
                          <a:pt x="1343" y="599"/>
                        </a:lnTo>
                        <a:lnTo>
                          <a:pt x="1374" y="593"/>
                        </a:lnTo>
                        <a:lnTo>
                          <a:pt x="1404" y="587"/>
                        </a:lnTo>
                        <a:lnTo>
                          <a:pt x="1434" y="578"/>
                        </a:lnTo>
                        <a:lnTo>
                          <a:pt x="1462" y="568"/>
                        </a:lnTo>
                        <a:lnTo>
                          <a:pt x="1491" y="557"/>
                        </a:lnTo>
                        <a:lnTo>
                          <a:pt x="1520" y="545"/>
                        </a:lnTo>
                        <a:lnTo>
                          <a:pt x="1547" y="530"/>
                        </a:lnTo>
                        <a:lnTo>
                          <a:pt x="1574" y="514"/>
                        </a:lnTo>
                        <a:lnTo>
                          <a:pt x="1600" y="496"/>
                        </a:lnTo>
                        <a:lnTo>
                          <a:pt x="1627" y="478"/>
                        </a:lnTo>
                        <a:lnTo>
                          <a:pt x="1644" y="467"/>
                        </a:lnTo>
                        <a:lnTo>
                          <a:pt x="1660" y="452"/>
                        </a:lnTo>
                        <a:lnTo>
                          <a:pt x="1678" y="437"/>
                        </a:lnTo>
                        <a:lnTo>
                          <a:pt x="1694" y="419"/>
                        </a:lnTo>
                        <a:lnTo>
                          <a:pt x="1710" y="402"/>
                        </a:lnTo>
                        <a:lnTo>
                          <a:pt x="1726" y="385"/>
                        </a:lnTo>
                        <a:lnTo>
                          <a:pt x="1744" y="367"/>
                        </a:lnTo>
                        <a:lnTo>
                          <a:pt x="1760" y="350"/>
                        </a:lnTo>
                        <a:lnTo>
                          <a:pt x="1777" y="335"/>
                        </a:lnTo>
                        <a:lnTo>
                          <a:pt x="1793" y="323"/>
                        </a:lnTo>
                        <a:lnTo>
                          <a:pt x="1812" y="311"/>
                        </a:lnTo>
                        <a:lnTo>
                          <a:pt x="1829" y="304"/>
                        </a:lnTo>
                        <a:lnTo>
                          <a:pt x="1848" y="299"/>
                        </a:lnTo>
                        <a:lnTo>
                          <a:pt x="1867" y="299"/>
                        </a:lnTo>
                        <a:lnTo>
                          <a:pt x="1887" y="304"/>
                        </a:lnTo>
                        <a:lnTo>
                          <a:pt x="1908" y="313"/>
                        </a:lnTo>
                        <a:lnTo>
                          <a:pt x="1902" y="313"/>
                        </a:lnTo>
                        <a:lnTo>
                          <a:pt x="1898" y="315"/>
                        </a:lnTo>
                        <a:lnTo>
                          <a:pt x="1894" y="318"/>
                        </a:lnTo>
                        <a:lnTo>
                          <a:pt x="1892" y="321"/>
                        </a:lnTo>
                        <a:lnTo>
                          <a:pt x="1909" y="336"/>
                        </a:lnTo>
                        <a:lnTo>
                          <a:pt x="1927" y="350"/>
                        </a:lnTo>
                        <a:lnTo>
                          <a:pt x="1944" y="364"/>
                        </a:lnTo>
                        <a:lnTo>
                          <a:pt x="1960" y="378"/>
                        </a:lnTo>
                        <a:lnTo>
                          <a:pt x="1974" y="393"/>
                        </a:lnTo>
                        <a:lnTo>
                          <a:pt x="1986" y="411"/>
                        </a:lnTo>
                        <a:lnTo>
                          <a:pt x="1994" y="431"/>
                        </a:lnTo>
                        <a:lnTo>
                          <a:pt x="1999" y="453"/>
                        </a:lnTo>
                        <a:lnTo>
                          <a:pt x="1995" y="479"/>
                        </a:lnTo>
                        <a:lnTo>
                          <a:pt x="1990" y="504"/>
                        </a:lnTo>
                        <a:lnTo>
                          <a:pt x="1984" y="526"/>
                        </a:lnTo>
                        <a:lnTo>
                          <a:pt x="1975" y="548"/>
                        </a:lnTo>
                        <a:lnTo>
                          <a:pt x="1964" y="568"/>
                        </a:lnTo>
                        <a:lnTo>
                          <a:pt x="1953" y="588"/>
                        </a:lnTo>
                        <a:lnTo>
                          <a:pt x="1939" y="607"/>
                        </a:lnTo>
                        <a:lnTo>
                          <a:pt x="1924" y="624"/>
                        </a:lnTo>
                        <a:lnTo>
                          <a:pt x="1908" y="641"/>
                        </a:lnTo>
                        <a:lnTo>
                          <a:pt x="1892" y="658"/>
                        </a:lnTo>
                        <a:lnTo>
                          <a:pt x="1873" y="674"/>
                        </a:lnTo>
                        <a:lnTo>
                          <a:pt x="1854" y="689"/>
                        </a:lnTo>
                        <a:lnTo>
                          <a:pt x="1836" y="705"/>
                        </a:lnTo>
                        <a:lnTo>
                          <a:pt x="1816" y="720"/>
                        </a:lnTo>
                        <a:lnTo>
                          <a:pt x="1796" y="736"/>
                        </a:lnTo>
                        <a:lnTo>
                          <a:pt x="1775" y="751"/>
                        </a:lnTo>
                        <a:lnTo>
                          <a:pt x="1747" y="769"/>
                        </a:lnTo>
                        <a:lnTo>
                          <a:pt x="1720" y="787"/>
                        </a:lnTo>
                        <a:lnTo>
                          <a:pt x="1691" y="804"/>
                        </a:lnTo>
                        <a:lnTo>
                          <a:pt x="1661" y="819"/>
                        </a:lnTo>
                        <a:lnTo>
                          <a:pt x="1630" y="832"/>
                        </a:lnTo>
                        <a:lnTo>
                          <a:pt x="1599" y="846"/>
                        </a:lnTo>
                        <a:lnTo>
                          <a:pt x="1568" y="857"/>
                        </a:lnTo>
                        <a:lnTo>
                          <a:pt x="1534" y="868"/>
                        </a:lnTo>
                        <a:lnTo>
                          <a:pt x="1502" y="878"/>
                        </a:lnTo>
                        <a:lnTo>
                          <a:pt x="1469" y="886"/>
                        </a:lnTo>
                        <a:lnTo>
                          <a:pt x="1434" y="894"/>
                        </a:lnTo>
                        <a:lnTo>
                          <a:pt x="1399" y="901"/>
                        </a:lnTo>
                        <a:lnTo>
                          <a:pt x="1364" y="906"/>
                        </a:lnTo>
                        <a:lnTo>
                          <a:pt x="1329" y="911"/>
                        </a:lnTo>
                        <a:lnTo>
                          <a:pt x="1293" y="914"/>
                        </a:lnTo>
                        <a:lnTo>
                          <a:pt x="1258" y="917"/>
                        </a:lnTo>
                        <a:lnTo>
                          <a:pt x="1222" y="919"/>
                        </a:lnTo>
                        <a:lnTo>
                          <a:pt x="1186" y="919"/>
                        </a:lnTo>
                        <a:lnTo>
                          <a:pt x="1151" y="919"/>
                        </a:lnTo>
                        <a:lnTo>
                          <a:pt x="1115" y="919"/>
                        </a:lnTo>
                        <a:lnTo>
                          <a:pt x="1079" y="917"/>
                        </a:lnTo>
                        <a:lnTo>
                          <a:pt x="1044" y="914"/>
                        </a:lnTo>
                        <a:lnTo>
                          <a:pt x="1009" y="912"/>
                        </a:lnTo>
                        <a:lnTo>
                          <a:pt x="974" y="907"/>
                        </a:lnTo>
                        <a:lnTo>
                          <a:pt x="940" y="903"/>
                        </a:lnTo>
                        <a:lnTo>
                          <a:pt x="905" y="897"/>
                        </a:lnTo>
                        <a:lnTo>
                          <a:pt x="871" y="891"/>
                        </a:lnTo>
                        <a:lnTo>
                          <a:pt x="839" y="885"/>
                        </a:lnTo>
                        <a:lnTo>
                          <a:pt x="806" y="876"/>
                        </a:lnTo>
                        <a:lnTo>
                          <a:pt x="774" y="868"/>
                        </a:lnTo>
                        <a:lnTo>
                          <a:pt x="743" y="860"/>
                        </a:lnTo>
                        <a:lnTo>
                          <a:pt x="713" y="850"/>
                        </a:lnTo>
                        <a:lnTo>
                          <a:pt x="663" y="832"/>
                        </a:lnTo>
                        <a:lnTo>
                          <a:pt x="613" y="815"/>
                        </a:lnTo>
                        <a:lnTo>
                          <a:pt x="562" y="796"/>
                        </a:lnTo>
                        <a:lnTo>
                          <a:pt x="511" y="775"/>
                        </a:lnTo>
                        <a:lnTo>
                          <a:pt x="460" y="754"/>
                        </a:lnTo>
                        <a:lnTo>
                          <a:pt x="411" y="731"/>
                        </a:lnTo>
                        <a:lnTo>
                          <a:pt x="361" y="705"/>
                        </a:lnTo>
                        <a:lnTo>
                          <a:pt x="312" y="677"/>
                        </a:lnTo>
                        <a:lnTo>
                          <a:pt x="266" y="649"/>
                        </a:lnTo>
                        <a:lnTo>
                          <a:pt x="221" y="618"/>
                        </a:lnTo>
                        <a:lnTo>
                          <a:pt x="178" y="584"/>
                        </a:lnTo>
                        <a:lnTo>
                          <a:pt x="138" y="548"/>
                        </a:lnTo>
                        <a:lnTo>
                          <a:pt x="101" y="510"/>
                        </a:lnTo>
                        <a:lnTo>
                          <a:pt x="66" y="469"/>
                        </a:lnTo>
                        <a:lnTo>
                          <a:pt x="35" y="426"/>
                        </a:lnTo>
                        <a:lnTo>
                          <a:pt x="7" y="378"/>
                        </a:lnTo>
                        <a:lnTo>
                          <a:pt x="1" y="347"/>
                        </a:lnTo>
                        <a:lnTo>
                          <a:pt x="0" y="318"/>
                        </a:lnTo>
                        <a:lnTo>
                          <a:pt x="4" y="288"/>
                        </a:lnTo>
                        <a:lnTo>
                          <a:pt x="10" y="261"/>
                        </a:lnTo>
                        <a:lnTo>
                          <a:pt x="19" y="233"/>
                        </a:lnTo>
                        <a:lnTo>
                          <a:pt x="31" y="207"/>
                        </a:lnTo>
                        <a:lnTo>
                          <a:pt x="43" y="181"/>
                        </a:lnTo>
                        <a:lnTo>
                          <a:pt x="58" y="156"/>
                        </a:lnTo>
                        <a:lnTo>
                          <a:pt x="73" y="142"/>
                        </a:lnTo>
                        <a:lnTo>
                          <a:pt x="88" y="128"/>
                        </a:lnTo>
                        <a:lnTo>
                          <a:pt x="104" y="115"/>
                        </a:lnTo>
                        <a:lnTo>
                          <a:pt x="122" y="106"/>
                        </a:lnTo>
                        <a:lnTo>
                          <a:pt x="139" y="97"/>
                        </a:lnTo>
                        <a:lnTo>
                          <a:pt x="157" y="88"/>
                        </a:lnTo>
                        <a:lnTo>
                          <a:pt x="174" y="81"/>
                        </a:lnTo>
                        <a:lnTo>
                          <a:pt x="193" y="73"/>
                        </a:lnTo>
                        <a:lnTo>
                          <a:pt x="210" y="67"/>
                        </a:lnTo>
                        <a:lnTo>
                          <a:pt x="229" y="61"/>
                        </a:lnTo>
                        <a:lnTo>
                          <a:pt x="246" y="53"/>
                        </a:lnTo>
                        <a:lnTo>
                          <a:pt x="265" y="46"/>
                        </a:lnTo>
                        <a:lnTo>
                          <a:pt x="282" y="37"/>
                        </a:lnTo>
                        <a:lnTo>
                          <a:pt x="299" y="29"/>
                        </a:lnTo>
                        <a:lnTo>
                          <a:pt x="315" y="17"/>
                        </a:lnTo>
                        <a:lnTo>
                          <a:pt x="331" y="6"/>
                        </a:lnTo>
                        <a:lnTo>
                          <a:pt x="347" y="9"/>
                        </a:lnTo>
                        <a:lnTo>
                          <a:pt x="362" y="8"/>
                        </a:lnTo>
                        <a:lnTo>
                          <a:pt x="376" y="5"/>
                        </a:lnTo>
                        <a:lnTo>
                          <a:pt x="391" y="1"/>
                        </a:lnTo>
                        <a:lnTo>
                          <a:pt x="404" y="0"/>
                        </a:lnTo>
                        <a:lnTo>
                          <a:pt x="417" y="1"/>
                        </a:lnTo>
                        <a:lnTo>
                          <a:pt x="429" y="9"/>
                        </a:lnTo>
                        <a:lnTo>
                          <a:pt x="44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flipH="1">
                    <a:off x="3685320" y="2649960"/>
                    <a:ext cx="150840" cy="113760"/>
                  </a:xfrm>
                  <a:custGeom>
                    <a:avLst/>
                    <a:gdLst/>
                    <a:ahLst/>
                    <a:rect l="l" t="t" r="r" b="b"/>
                    <a:pathLst>
                      <a:path w="539" h="543">
                        <a:moveTo>
                          <a:pt x="273" y="2"/>
                        </a:moveTo>
                        <a:lnTo>
                          <a:pt x="274" y="18"/>
                        </a:lnTo>
                        <a:lnTo>
                          <a:pt x="278" y="33"/>
                        </a:lnTo>
                        <a:lnTo>
                          <a:pt x="284" y="48"/>
                        </a:lnTo>
                        <a:lnTo>
                          <a:pt x="291" y="61"/>
                        </a:lnTo>
                        <a:lnTo>
                          <a:pt x="296" y="76"/>
                        </a:lnTo>
                        <a:lnTo>
                          <a:pt x="301" y="90"/>
                        </a:lnTo>
                        <a:lnTo>
                          <a:pt x="301" y="103"/>
                        </a:lnTo>
                        <a:lnTo>
                          <a:pt x="298" y="118"/>
                        </a:lnTo>
                        <a:lnTo>
                          <a:pt x="295" y="127"/>
                        </a:lnTo>
                        <a:lnTo>
                          <a:pt x="290" y="134"/>
                        </a:lnTo>
                        <a:lnTo>
                          <a:pt x="283" y="141"/>
                        </a:lnTo>
                        <a:lnTo>
                          <a:pt x="275" y="146"/>
                        </a:lnTo>
                        <a:lnTo>
                          <a:pt x="267" y="149"/>
                        </a:lnTo>
                        <a:lnTo>
                          <a:pt x="258" y="153"/>
                        </a:lnTo>
                        <a:lnTo>
                          <a:pt x="249" y="156"/>
                        </a:lnTo>
                        <a:lnTo>
                          <a:pt x="240" y="159"/>
                        </a:lnTo>
                        <a:lnTo>
                          <a:pt x="239" y="162"/>
                        </a:lnTo>
                        <a:lnTo>
                          <a:pt x="237" y="162"/>
                        </a:lnTo>
                        <a:lnTo>
                          <a:pt x="232" y="159"/>
                        </a:lnTo>
                        <a:lnTo>
                          <a:pt x="227" y="156"/>
                        </a:lnTo>
                        <a:lnTo>
                          <a:pt x="220" y="152"/>
                        </a:lnTo>
                        <a:lnTo>
                          <a:pt x="213" y="149"/>
                        </a:lnTo>
                        <a:lnTo>
                          <a:pt x="207" y="148"/>
                        </a:lnTo>
                        <a:lnTo>
                          <a:pt x="199" y="151"/>
                        </a:lnTo>
                        <a:lnTo>
                          <a:pt x="182" y="169"/>
                        </a:lnTo>
                        <a:lnTo>
                          <a:pt x="174" y="189"/>
                        </a:lnTo>
                        <a:lnTo>
                          <a:pt x="176" y="209"/>
                        </a:lnTo>
                        <a:lnTo>
                          <a:pt x="178" y="227"/>
                        </a:lnTo>
                        <a:lnTo>
                          <a:pt x="182" y="246"/>
                        </a:lnTo>
                        <a:lnTo>
                          <a:pt x="181" y="265"/>
                        </a:lnTo>
                        <a:lnTo>
                          <a:pt x="171" y="282"/>
                        </a:lnTo>
                        <a:lnTo>
                          <a:pt x="150" y="299"/>
                        </a:lnTo>
                        <a:lnTo>
                          <a:pt x="143" y="316"/>
                        </a:lnTo>
                        <a:lnTo>
                          <a:pt x="136" y="330"/>
                        </a:lnTo>
                        <a:lnTo>
                          <a:pt x="131" y="348"/>
                        </a:lnTo>
                        <a:lnTo>
                          <a:pt x="132" y="366"/>
                        </a:lnTo>
                        <a:lnTo>
                          <a:pt x="148" y="378"/>
                        </a:lnTo>
                        <a:lnTo>
                          <a:pt x="163" y="384"/>
                        </a:lnTo>
                        <a:lnTo>
                          <a:pt x="179" y="388"/>
                        </a:lnTo>
                        <a:lnTo>
                          <a:pt x="194" y="388"/>
                        </a:lnTo>
                        <a:lnTo>
                          <a:pt x="209" y="384"/>
                        </a:lnTo>
                        <a:lnTo>
                          <a:pt x="224" y="380"/>
                        </a:lnTo>
                        <a:lnTo>
                          <a:pt x="239" y="374"/>
                        </a:lnTo>
                        <a:lnTo>
                          <a:pt x="255" y="366"/>
                        </a:lnTo>
                        <a:lnTo>
                          <a:pt x="270" y="360"/>
                        </a:lnTo>
                        <a:lnTo>
                          <a:pt x="286" y="353"/>
                        </a:lnTo>
                        <a:lnTo>
                          <a:pt x="303" y="348"/>
                        </a:lnTo>
                        <a:lnTo>
                          <a:pt x="319" y="344"/>
                        </a:lnTo>
                        <a:lnTo>
                          <a:pt x="335" y="343"/>
                        </a:lnTo>
                        <a:lnTo>
                          <a:pt x="352" y="344"/>
                        </a:lnTo>
                        <a:lnTo>
                          <a:pt x="371" y="349"/>
                        </a:lnTo>
                        <a:lnTo>
                          <a:pt x="390" y="358"/>
                        </a:lnTo>
                        <a:lnTo>
                          <a:pt x="412" y="352"/>
                        </a:lnTo>
                        <a:lnTo>
                          <a:pt x="432" y="349"/>
                        </a:lnTo>
                        <a:lnTo>
                          <a:pt x="451" y="353"/>
                        </a:lnTo>
                        <a:lnTo>
                          <a:pt x="468" y="360"/>
                        </a:lnTo>
                        <a:lnTo>
                          <a:pt x="486" y="371"/>
                        </a:lnTo>
                        <a:lnTo>
                          <a:pt x="503" y="384"/>
                        </a:lnTo>
                        <a:lnTo>
                          <a:pt x="520" y="399"/>
                        </a:lnTo>
                        <a:lnTo>
                          <a:pt x="539" y="415"/>
                        </a:lnTo>
                        <a:lnTo>
                          <a:pt x="528" y="431"/>
                        </a:lnTo>
                        <a:lnTo>
                          <a:pt x="520" y="453"/>
                        </a:lnTo>
                        <a:lnTo>
                          <a:pt x="517" y="477"/>
                        </a:lnTo>
                        <a:lnTo>
                          <a:pt x="514" y="500"/>
                        </a:lnTo>
                        <a:lnTo>
                          <a:pt x="508" y="520"/>
                        </a:lnTo>
                        <a:lnTo>
                          <a:pt x="499" y="535"/>
                        </a:lnTo>
                        <a:lnTo>
                          <a:pt x="482" y="543"/>
                        </a:lnTo>
                        <a:lnTo>
                          <a:pt x="457" y="539"/>
                        </a:lnTo>
                        <a:lnTo>
                          <a:pt x="449" y="508"/>
                        </a:lnTo>
                        <a:lnTo>
                          <a:pt x="447" y="474"/>
                        </a:lnTo>
                        <a:lnTo>
                          <a:pt x="441" y="442"/>
                        </a:lnTo>
                        <a:lnTo>
                          <a:pt x="422" y="415"/>
                        </a:lnTo>
                        <a:lnTo>
                          <a:pt x="398" y="417"/>
                        </a:lnTo>
                        <a:lnTo>
                          <a:pt x="386" y="426"/>
                        </a:lnTo>
                        <a:lnTo>
                          <a:pt x="380" y="438"/>
                        </a:lnTo>
                        <a:lnTo>
                          <a:pt x="377" y="453"/>
                        </a:lnTo>
                        <a:lnTo>
                          <a:pt x="374" y="468"/>
                        </a:lnTo>
                        <a:lnTo>
                          <a:pt x="366" y="481"/>
                        </a:lnTo>
                        <a:lnTo>
                          <a:pt x="351" y="489"/>
                        </a:lnTo>
                        <a:lnTo>
                          <a:pt x="324" y="490"/>
                        </a:lnTo>
                        <a:lnTo>
                          <a:pt x="315" y="502"/>
                        </a:lnTo>
                        <a:lnTo>
                          <a:pt x="305" y="510"/>
                        </a:lnTo>
                        <a:lnTo>
                          <a:pt x="293" y="517"/>
                        </a:lnTo>
                        <a:lnTo>
                          <a:pt x="278" y="520"/>
                        </a:lnTo>
                        <a:lnTo>
                          <a:pt x="263" y="523"/>
                        </a:lnTo>
                        <a:lnTo>
                          <a:pt x="249" y="524"/>
                        </a:lnTo>
                        <a:lnTo>
                          <a:pt x="235" y="524"/>
                        </a:lnTo>
                        <a:lnTo>
                          <a:pt x="223" y="523"/>
                        </a:lnTo>
                        <a:lnTo>
                          <a:pt x="208" y="508"/>
                        </a:lnTo>
                        <a:lnTo>
                          <a:pt x="193" y="494"/>
                        </a:lnTo>
                        <a:lnTo>
                          <a:pt x="177" y="482"/>
                        </a:lnTo>
                        <a:lnTo>
                          <a:pt x="159" y="469"/>
                        </a:lnTo>
                        <a:lnTo>
                          <a:pt x="142" y="457"/>
                        </a:lnTo>
                        <a:lnTo>
                          <a:pt x="125" y="446"/>
                        </a:lnTo>
                        <a:lnTo>
                          <a:pt x="107" y="433"/>
                        </a:lnTo>
                        <a:lnTo>
                          <a:pt x="91" y="422"/>
                        </a:lnTo>
                        <a:lnTo>
                          <a:pt x="75" y="410"/>
                        </a:lnTo>
                        <a:lnTo>
                          <a:pt x="59" y="397"/>
                        </a:lnTo>
                        <a:lnTo>
                          <a:pt x="45" y="384"/>
                        </a:lnTo>
                        <a:lnTo>
                          <a:pt x="33" y="369"/>
                        </a:lnTo>
                        <a:lnTo>
                          <a:pt x="21" y="354"/>
                        </a:lnTo>
                        <a:lnTo>
                          <a:pt x="11" y="338"/>
                        </a:lnTo>
                        <a:lnTo>
                          <a:pt x="5" y="319"/>
                        </a:lnTo>
                        <a:lnTo>
                          <a:pt x="0" y="299"/>
                        </a:lnTo>
                        <a:lnTo>
                          <a:pt x="18" y="286"/>
                        </a:lnTo>
                        <a:lnTo>
                          <a:pt x="39" y="273"/>
                        </a:lnTo>
                        <a:lnTo>
                          <a:pt x="60" y="262"/>
                        </a:lnTo>
                        <a:lnTo>
                          <a:pt x="80" y="250"/>
                        </a:lnTo>
                        <a:lnTo>
                          <a:pt x="99" y="235"/>
                        </a:lnTo>
                        <a:lnTo>
                          <a:pt x="113" y="216"/>
                        </a:lnTo>
                        <a:lnTo>
                          <a:pt x="122" y="195"/>
                        </a:lnTo>
                        <a:lnTo>
                          <a:pt x="125" y="167"/>
                        </a:lnTo>
                        <a:lnTo>
                          <a:pt x="137" y="148"/>
                        </a:lnTo>
                        <a:lnTo>
                          <a:pt x="157" y="134"/>
                        </a:lnTo>
                        <a:lnTo>
                          <a:pt x="178" y="127"/>
                        </a:lnTo>
                        <a:lnTo>
                          <a:pt x="201" y="120"/>
                        </a:lnTo>
                        <a:lnTo>
                          <a:pt x="219" y="112"/>
                        </a:lnTo>
                        <a:lnTo>
                          <a:pt x="232" y="101"/>
                        </a:lnTo>
                        <a:lnTo>
                          <a:pt x="234" y="85"/>
                        </a:lnTo>
                        <a:lnTo>
                          <a:pt x="223" y="60"/>
                        </a:lnTo>
                        <a:lnTo>
                          <a:pt x="220" y="53"/>
                        </a:lnTo>
                        <a:lnTo>
                          <a:pt x="220" y="44"/>
                        </a:lnTo>
                        <a:lnTo>
                          <a:pt x="223" y="33"/>
                        </a:lnTo>
                        <a:lnTo>
                          <a:pt x="229" y="22"/>
                        </a:lnTo>
                        <a:lnTo>
                          <a:pt x="238" y="12"/>
                        </a:lnTo>
                        <a:lnTo>
                          <a:pt x="248" y="4"/>
                        </a:lnTo>
                        <a:lnTo>
                          <a:pt x="259" y="0"/>
                        </a:lnTo>
                        <a:lnTo>
                          <a:pt x="273" y="2"/>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flipH="1">
                    <a:off x="3536280" y="2676240"/>
                    <a:ext cx="114480" cy="46800"/>
                  </a:xfrm>
                  <a:custGeom>
                    <a:avLst/>
                    <a:gdLst/>
                    <a:ahLst/>
                    <a:rect l="l" t="t" r="r" b="b"/>
                    <a:pathLst>
                      <a:path w="409" h="224">
                        <a:moveTo>
                          <a:pt x="407" y="25"/>
                        </a:moveTo>
                        <a:lnTo>
                          <a:pt x="409" y="49"/>
                        </a:lnTo>
                        <a:lnTo>
                          <a:pt x="409" y="74"/>
                        </a:lnTo>
                        <a:lnTo>
                          <a:pt x="405" y="99"/>
                        </a:lnTo>
                        <a:lnTo>
                          <a:pt x="399" y="124"/>
                        </a:lnTo>
                        <a:lnTo>
                          <a:pt x="392" y="149"/>
                        </a:lnTo>
                        <a:lnTo>
                          <a:pt x="385" y="173"/>
                        </a:lnTo>
                        <a:lnTo>
                          <a:pt x="378" y="198"/>
                        </a:lnTo>
                        <a:lnTo>
                          <a:pt x="373" y="223"/>
                        </a:lnTo>
                        <a:lnTo>
                          <a:pt x="347" y="224"/>
                        </a:lnTo>
                        <a:lnTo>
                          <a:pt x="321" y="224"/>
                        </a:lnTo>
                        <a:lnTo>
                          <a:pt x="295" y="223"/>
                        </a:lnTo>
                        <a:lnTo>
                          <a:pt x="270" y="221"/>
                        </a:lnTo>
                        <a:lnTo>
                          <a:pt x="246" y="216"/>
                        </a:lnTo>
                        <a:lnTo>
                          <a:pt x="221" y="211"/>
                        </a:lnTo>
                        <a:lnTo>
                          <a:pt x="199" y="204"/>
                        </a:lnTo>
                        <a:lnTo>
                          <a:pt x="175" y="197"/>
                        </a:lnTo>
                        <a:lnTo>
                          <a:pt x="153" y="188"/>
                        </a:lnTo>
                        <a:lnTo>
                          <a:pt x="130" y="180"/>
                        </a:lnTo>
                        <a:lnTo>
                          <a:pt x="108" y="170"/>
                        </a:lnTo>
                        <a:lnTo>
                          <a:pt x="85" y="160"/>
                        </a:lnTo>
                        <a:lnTo>
                          <a:pt x="64" y="149"/>
                        </a:lnTo>
                        <a:lnTo>
                          <a:pt x="43" y="139"/>
                        </a:lnTo>
                        <a:lnTo>
                          <a:pt x="21" y="128"/>
                        </a:lnTo>
                        <a:lnTo>
                          <a:pt x="0" y="116"/>
                        </a:lnTo>
                        <a:lnTo>
                          <a:pt x="8" y="118"/>
                        </a:lnTo>
                        <a:lnTo>
                          <a:pt x="17" y="116"/>
                        </a:lnTo>
                        <a:lnTo>
                          <a:pt x="23" y="111"/>
                        </a:lnTo>
                        <a:lnTo>
                          <a:pt x="28" y="104"/>
                        </a:lnTo>
                        <a:lnTo>
                          <a:pt x="32" y="95"/>
                        </a:lnTo>
                        <a:lnTo>
                          <a:pt x="33" y="85"/>
                        </a:lnTo>
                        <a:lnTo>
                          <a:pt x="34" y="75"/>
                        </a:lnTo>
                        <a:lnTo>
                          <a:pt x="33" y="67"/>
                        </a:lnTo>
                        <a:lnTo>
                          <a:pt x="43" y="59"/>
                        </a:lnTo>
                        <a:lnTo>
                          <a:pt x="52" y="49"/>
                        </a:lnTo>
                        <a:lnTo>
                          <a:pt x="59" y="39"/>
                        </a:lnTo>
                        <a:lnTo>
                          <a:pt x="68" y="28"/>
                        </a:lnTo>
                        <a:lnTo>
                          <a:pt x="77" y="20"/>
                        </a:lnTo>
                        <a:lnTo>
                          <a:pt x="87" y="12"/>
                        </a:lnTo>
                        <a:lnTo>
                          <a:pt x="99" y="8"/>
                        </a:lnTo>
                        <a:lnTo>
                          <a:pt x="115" y="8"/>
                        </a:lnTo>
                        <a:lnTo>
                          <a:pt x="135" y="18"/>
                        </a:lnTo>
                        <a:lnTo>
                          <a:pt x="141" y="31"/>
                        </a:lnTo>
                        <a:lnTo>
                          <a:pt x="139" y="43"/>
                        </a:lnTo>
                        <a:lnTo>
                          <a:pt x="133" y="56"/>
                        </a:lnTo>
                        <a:lnTo>
                          <a:pt x="125" y="69"/>
                        </a:lnTo>
                        <a:lnTo>
                          <a:pt x="123" y="80"/>
                        </a:lnTo>
                        <a:lnTo>
                          <a:pt x="129" y="90"/>
                        </a:lnTo>
                        <a:lnTo>
                          <a:pt x="149" y="99"/>
                        </a:lnTo>
                        <a:lnTo>
                          <a:pt x="178" y="105"/>
                        </a:lnTo>
                        <a:lnTo>
                          <a:pt x="197" y="100"/>
                        </a:lnTo>
                        <a:lnTo>
                          <a:pt x="209" y="87"/>
                        </a:lnTo>
                        <a:lnTo>
                          <a:pt x="216" y="68"/>
                        </a:lnTo>
                        <a:lnTo>
                          <a:pt x="221" y="48"/>
                        </a:lnTo>
                        <a:lnTo>
                          <a:pt x="229" y="27"/>
                        </a:lnTo>
                        <a:lnTo>
                          <a:pt x="239" y="11"/>
                        </a:lnTo>
                        <a:lnTo>
                          <a:pt x="256" y="0"/>
                        </a:lnTo>
                        <a:lnTo>
                          <a:pt x="276" y="1"/>
                        </a:lnTo>
                        <a:lnTo>
                          <a:pt x="295" y="5"/>
                        </a:lnTo>
                        <a:lnTo>
                          <a:pt x="312" y="10"/>
                        </a:lnTo>
                        <a:lnTo>
                          <a:pt x="329" y="17"/>
                        </a:lnTo>
                        <a:lnTo>
                          <a:pt x="347" y="23"/>
                        </a:lnTo>
                        <a:lnTo>
                          <a:pt x="365" y="27"/>
                        </a:lnTo>
                        <a:lnTo>
                          <a:pt x="385" y="28"/>
                        </a:lnTo>
                        <a:lnTo>
                          <a:pt x="407" y="25"/>
                        </a:lnTo>
                        <a:close/>
                      </a:path>
                    </a:pathLst>
                  </a:custGeom>
                  <a:solidFill>
                    <a:srgbClr val="9ed67c"/>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575" name=""/>
                  <p:cNvSpPr/>
                  <p:nvPr/>
                </p:nvSpPr>
                <p:spPr>
                  <a:xfrm flipH="1">
                    <a:off x="3463200" y="2684880"/>
                    <a:ext cx="45720" cy="25920"/>
                  </a:xfrm>
                  <a:custGeom>
                    <a:avLst/>
                    <a:gdLst/>
                    <a:ahLst/>
                    <a:rect l="l" t="t" r="r" b="b"/>
                    <a:pathLst>
                      <a:path w="164" h="124">
                        <a:moveTo>
                          <a:pt x="164" y="0"/>
                        </a:moveTo>
                        <a:lnTo>
                          <a:pt x="148" y="18"/>
                        </a:lnTo>
                        <a:lnTo>
                          <a:pt x="132" y="38"/>
                        </a:lnTo>
                        <a:lnTo>
                          <a:pt x="117" y="58"/>
                        </a:lnTo>
                        <a:lnTo>
                          <a:pt x="100" y="75"/>
                        </a:lnTo>
                        <a:lnTo>
                          <a:pt x="82" y="93"/>
                        </a:lnTo>
                        <a:lnTo>
                          <a:pt x="64" y="106"/>
                        </a:lnTo>
                        <a:lnTo>
                          <a:pt x="41" y="116"/>
                        </a:lnTo>
                        <a:lnTo>
                          <a:pt x="16" y="124"/>
                        </a:lnTo>
                        <a:lnTo>
                          <a:pt x="8" y="95"/>
                        </a:lnTo>
                        <a:lnTo>
                          <a:pt x="1" y="75"/>
                        </a:lnTo>
                        <a:lnTo>
                          <a:pt x="0" y="56"/>
                        </a:lnTo>
                        <a:lnTo>
                          <a:pt x="8" y="26"/>
                        </a:lnTo>
                        <a:lnTo>
                          <a:pt x="23" y="10"/>
                        </a:lnTo>
                        <a:lnTo>
                          <a:pt x="40" y="2"/>
                        </a:lnTo>
                        <a:lnTo>
                          <a:pt x="60" y="1"/>
                        </a:lnTo>
                        <a:lnTo>
                          <a:pt x="81" y="3"/>
                        </a:lnTo>
                        <a:lnTo>
                          <a:pt x="102" y="8"/>
                        </a:lnTo>
                        <a:lnTo>
                          <a:pt x="123" y="10"/>
                        </a:lnTo>
                        <a:lnTo>
                          <a:pt x="144" y="8"/>
                        </a:lnTo>
                        <a:lnTo>
                          <a:pt x="164" y="0"/>
                        </a:lnTo>
                        <a:close/>
                      </a:path>
                    </a:pathLst>
                  </a:custGeom>
                  <a:solidFill>
                    <a:srgbClr val="9ed67c"/>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576" name=""/>
                  <p:cNvSpPr/>
                  <p:nvPr/>
                </p:nvSpPr>
                <p:spPr>
                  <a:xfrm flipH="1">
                    <a:off x="3241440" y="2694960"/>
                    <a:ext cx="716040" cy="217080"/>
                  </a:xfrm>
                  <a:custGeom>
                    <a:avLst/>
                    <a:gdLst/>
                    <a:ahLst/>
                    <a:rect l="l" t="t" r="r" b="b"/>
                    <a:pathLst>
                      <a:path w="2559" h="1035">
                        <a:moveTo>
                          <a:pt x="275" y="76"/>
                        </a:moveTo>
                        <a:lnTo>
                          <a:pt x="290" y="112"/>
                        </a:lnTo>
                        <a:lnTo>
                          <a:pt x="308" y="145"/>
                        </a:lnTo>
                        <a:lnTo>
                          <a:pt x="328" y="179"/>
                        </a:lnTo>
                        <a:lnTo>
                          <a:pt x="352" y="211"/>
                        </a:lnTo>
                        <a:lnTo>
                          <a:pt x="377" y="242"/>
                        </a:lnTo>
                        <a:lnTo>
                          <a:pt x="404" y="272"/>
                        </a:lnTo>
                        <a:lnTo>
                          <a:pt x="433" y="300"/>
                        </a:lnTo>
                        <a:lnTo>
                          <a:pt x="463" y="328"/>
                        </a:lnTo>
                        <a:lnTo>
                          <a:pt x="495" y="354"/>
                        </a:lnTo>
                        <a:lnTo>
                          <a:pt x="529" y="377"/>
                        </a:lnTo>
                        <a:lnTo>
                          <a:pt x="562" y="400"/>
                        </a:lnTo>
                        <a:lnTo>
                          <a:pt x="597" y="419"/>
                        </a:lnTo>
                        <a:lnTo>
                          <a:pt x="632" y="438"/>
                        </a:lnTo>
                        <a:lnTo>
                          <a:pt x="668" y="455"/>
                        </a:lnTo>
                        <a:lnTo>
                          <a:pt x="704" y="470"/>
                        </a:lnTo>
                        <a:lnTo>
                          <a:pt x="740" y="483"/>
                        </a:lnTo>
                        <a:lnTo>
                          <a:pt x="758" y="493"/>
                        </a:lnTo>
                        <a:lnTo>
                          <a:pt x="775" y="502"/>
                        </a:lnTo>
                        <a:lnTo>
                          <a:pt x="793" y="511"/>
                        </a:lnTo>
                        <a:lnTo>
                          <a:pt x="810" y="521"/>
                        </a:lnTo>
                        <a:lnTo>
                          <a:pt x="827" y="531"/>
                        </a:lnTo>
                        <a:lnTo>
                          <a:pt x="845" y="540"/>
                        </a:lnTo>
                        <a:lnTo>
                          <a:pt x="862" y="550"/>
                        </a:lnTo>
                        <a:lnTo>
                          <a:pt x="881" y="558"/>
                        </a:lnTo>
                        <a:lnTo>
                          <a:pt x="898" y="567"/>
                        </a:lnTo>
                        <a:lnTo>
                          <a:pt x="917" y="576"/>
                        </a:lnTo>
                        <a:lnTo>
                          <a:pt x="935" y="583"/>
                        </a:lnTo>
                        <a:lnTo>
                          <a:pt x="953" y="591"/>
                        </a:lnTo>
                        <a:lnTo>
                          <a:pt x="972" y="597"/>
                        </a:lnTo>
                        <a:lnTo>
                          <a:pt x="992" y="603"/>
                        </a:lnTo>
                        <a:lnTo>
                          <a:pt x="1010" y="608"/>
                        </a:lnTo>
                        <a:lnTo>
                          <a:pt x="1030" y="613"/>
                        </a:lnTo>
                        <a:lnTo>
                          <a:pt x="1047" y="623"/>
                        </a:lnTo>
                        <a:lnTo>
                          <a:pt x="1063" y="631"/>
                        </a:lnTo>
                        <a:lnTo>
                          <a:pt x="1080" y="638"/>
                        </a:lnTo>
                        <a:lnTo>
                          <a:pt x="1098" y="643"/>
                        </a:lnTo>
                        <a:lnTo>
                          <a:pt x="1116" y="646"/>
                        </a:lnTo>
                        <a:lnTo>
                          <a:pt x="1135" y="649"/>
                        </a:lnTo>
                        <a:lnTo>
                          <a:pt x="1155" y="650"/>
                        </a:lnTo>
                        <a:lnTo>
                          <a:pt x="1173" y="651"/>
                        </a:lnTo>
                        <a:lnTo>
                          <a:pt x="1193" y="653"/>
                        </a:lnTo>
                        <a:lnTo>
                          <a:pt x="1212" y="654"/>
                        </a:lnTo>
                        <a:lnTo>
                          <a:pt x="1232" y="656"/>
                        </a:lnTo>
                        <a:lnTo>
                          <a:pt x="1251" y="658"/>
                        </a:lnTo>
                        <a:lnTo>
                          <a:pt x="1269" y="661"/>
                        </a:lnTo>
                        <a:lnTo>
                          <a:pt x="1288" y="666"/>
                        </a:lnTo>
                        <a:lnTo>
                          <a:pt x="1305" y="672"/>
                        </a:lnTo>
                        <a:lnTo>
                          <a:pt x="1322" y="680"/>
                        </a:lnTo>
                        <a:lnTo>
                          <a:pt x="1359" y="685"/>
                        </a:lnTo>
                        <a:lnTo>
                          <a:pt x="1395" y="690"/>
                        </a:lnTo>
                        <a:lnTo>
                          <a:pt x="1432" y="692"/>
                        </a:lnTo>
                        <a:lnTo>
                          <a:pt x="1468" y="695"/>
                        </a:lnTo>
                        <a:lnTo>
                          <a:pt x="1505" y="696"/>
                        </a:lnTo>
                        <a:lnTo>
                          <a:pt x="1541" y="696"/>
                        </a:lnTo>
                        <a:lnTo>
                          <a:pt x="1577" y="695"/>
                        </a:lnTo>
                        <a:lnTo>
                          <a:pt x="1613" y="692"/>
                        </a:lnTo>
                        <a:lnTo>
                          <a:pt x="1648" y="689"/>
                        </a:lnTo>
                        <a:lnTo>
                          <a:pt x="1683" y="684"/>
                        </a:lnTo>
                        <a:lnTo>
                          <a:pt x="1717" y="677"/>
                        </a:lnTo>
                        <a:lnTo>
                          <a:pt x="1752" y="671"/>
                        </a:lnTo>
                        <a:lnTo>
                          <a:pt x="1786" y="664"/>
                        </a:lnTo>
                        <a:lnTo>
                          <a:pt x="1821" y="654"/>
                        </a:lnTo>
                        <a:lnTo>
                          <a:pt x="1853" y="644"/>
                        </a:lnTo>
                        <a:lnTo>
                          <a:pt x="1887" y="633"/>
                        </a:lnTo>
                        <a:lnTo>
                          <a:pt x="1919" y="620"/>
                        </a:lnTo>
                        <a:lnTo>
                          <a:pt x="1950" y="608"/>
                        </a:lnTo>
                        <a:lnTo>
                          <a:pt x="1982" y="593"/>
                        </a:lnTo>
                        <a:lnTo>
                          <a:pt x="2014" y="578"/>
                        </a:lnTo>
                        <a:lnTo>
                          <a:pt x="2043" y="562"/>
                        </a:lnTo>
                        <a:lnTo>
                          <a:pt x="2073" y="545"/>
                        </a:lnTo>
                        <a:lnTo>
                          <a:pt x="2102" y="526"/>
                        </a:lnTo>
                        <a:lnTo>
                          <a:pt x="2131" y="506"/>
                        </a:lnTo>
                        <a:lnTo>
                          <a:pt x="2159" y="486"/>
                        </a:lnTo>
                        <a:lnTo>
                          <a:pt x="2185" y="465"/>
                        </a:lnTo>
                        <a:lnTo>
                          <a:pt x="2213" y="443"/>
                        </a:lnTo>
                        <a:lnTo>
                          <a:pt x="2238" y="419"/>
                        </a:lnTo>
                        <a:lnTo>
                          <a:pt x="2264" y="395"/>
                        </a:lnTo>
                        <a:lnTo>
                          <a:pt x="2287" y="370"/>
                        </a:lnTo>
                        <a:lnTo>
                          <a:pt x="2311" y="344"/>
                        </a:lnTo>
                        <a:lnTo>
                          <a:pt x="2333" y="316"/>
                        </a:lnTo>
                        <a:lnTo>
                          <a:pt x="2352" y="319"/>
                        </a:lnTo>
                        <a:lnTo>
                          <a:pt x="2371" y="323"/>
                        </a:lnTo>
                        <a:lnTo>
                          <a:pt x="2388" y="326"/>
                        </a:lnTo>
                        <a:lnTo>
                          <a:pt x="2406" y="333"/>
                        </a:lnTo>
                        <a:lnTo>
                          <a:pt x="2422" y="340"/>
                        </a:lnTo>
                        <a:lnTo>
                          <a:pt x="2437" y="349"/>
                        </a:lnTo>
                        <a:lnTo>
                          <a:pt x="2452" y="359"/>
                        </a:lnTo>
                        <a:lnTo>
                          <a:pt x="2467" y="369"/>
                        </a:lnTo>
                        <a:lnTo>
                          <a:pt x="2480" y="381"/>
                        </a:lnTo>
                        <a:lnTo>
                          <a:pt x="2493" y="393"/>
                        </a:lnTo>
                        <a:lnTo>
                          <a:pt x="2505" y="406"/>
                        </a:lnTo>
                        <a:lnTo>
                          <a:pt x="2518" y="421"/>
                        </a:lnTo>
                        <a:lnTo>
                          <a:pt x="2529" y="434"/>
                        </a:lnTo>
                        <a:lnTo>
                          <a:pt x="2539" y="450"/>
                        </a:lnTo>
                        <a:lnTo>
                          <a:pt x="2549" y="467"/>
                        </a:lnTo>
                        <a:lnTo>
                          <a:pt x="2557" y="483"/>
                        </a:lnTo>
                        <a:lnTo>
                          <a:pt x="2559" y="519"/>
                        </a:lnTo>
                        <a:lnTo>
                          <a:pt x="2557" y="553"/>
                        </a:lnTo>
                        <a:lnTo>
                          <a:pt x="2551" y="588"/>
                        </a:lnTo>
                        <a:lnTo>
                          <a:pt x="2544" y="620"/>
                        </a:lnTo>
                        <a:lnTo>
                          <a:pt x="2533" y="651"/>
                        </a:lnTo>
                        <a:lnTo>
                          <a:pt x="2519" y="680"/>
                        </a:lnTo>
                        <a:lnTo>
                          <a:pt x="2503" y="708"/>
                        </a:lnTo>
                        <a:lnTo>
                          <a:pt x="2484" y="736"/>
                        </a:lnTo>
                        <a:lnTo>
                          <a:pt x="2464" y="762"/>
                        </a:lnTo>
                        <a:lnTo>
                          <a:pt x="2443" y="785"/>
                        </a:lnTo>
                        <a:lnTo>
                          <a:pt x="2419" y="809"/>
                        </a:lnTo>
                        <a:lnTo>
                          <a:pt x="2396" y="830"/>
                        </a:lnTo>
                        <a:lnTo>
                          <a:pt x="2371" y="850"/>
                        </a:lnTo>
                        <a:lnTo>
                          <a:pt x="2345" y="870"/>
                        </a:lnTo>
                        <a:lnTo>
                          <a:pt x="2319" y="887"/>
                        </a:lnTo>
                        <a:lnTo>
                          <a:pt x="2292" y="903"/>
                        </a:lnTo>
                        <a:lnTo>
                          <a:pt x="2255" y="919"/>
                        </a:lnTo>
                        <a:lnTo>
                          <a:pt x="2216" y="935"/>
                        </a:lnTo>
                        <a:lnTo>
                          <a:pt x="2178" y="949"/>
                        </a:lnTo>
                        <a:lnTo>
                          <a:pt x="2139" y="961"/>
                        </a:lnTo>
                        <a:lnTo>
                          <a:pt x="2099" y="974"/>
                        </a:lnTo>
                        <a:lnTo>
                          <a:pt x="2058" y="984"/>
                        </a:lnTo>
                        <a:lnTo>
                          <a:pt x="2017" y="994"/>
                        </a:lnTo>
                        <a:lnTo>
                          <a:pt x="1976" y="1001"/>
                        </a:lnTo>
                        <a:lnTo>
                          <a:pt x="1935" y="1009"/>
                        </a:lnTo>
                        <a:lnTo>
                          <a:pt x="1893" y="1015"/>
                        </a:lnTo>
                        <a:lnTo>
                          <a:pt x="1851" y="1021"/>
                        </a:lnTo>
                        <a:lnTo>
                          <a:pt x="1807" y="1025"/>
                        </a:lnTo>
                        <a:lnTo>
                          <a:pt x="1763" y="1028"/>
                        </a:lnTo>
                        <a:lnTo>
                          <a:pt x="1721" y="1031"/>
                        </a:lnTo>
                        <a:lnTo>
                          <a:pt x="1678" y="1033"/>
                        </a:lnTo>
                        <a:lnTo>
                          <a:pt x="1633" y="1033"/>
                        </a:lnTo>
                        <a:lnTo>
                          <a:pt x="1589" y="1035"/>
                        </a:lnTo>
                        <a:lnTo>
                          <a:pt x="1546" y="1033"/>
                        </a:lnTo>
                        <a:lnTo>
                          <a:pt x="1501" y="1032"/>
                        </a:lnTo>
                        <a:lnTo>
                          <a:pt x="1457" y="1031"/>
                        </a:lnTo>
                        <a:lnTo>
                          <a:pt x="1414" y="1028"/>
                        </a:lnTo>
                        <a:lnTo>
                          <a:pt x="1369" y="1025"/>
                        </a:lnTo>
                        <a:lnTo>
                          <a:pt x="1325" y="1021"/>
                        </a:lnTo>
                        <a:lnTo>
                          <a:pt x="1282" y="1017"/>
                        </a:lnTo>
                        <a:lnTo>
                          <a:pt x="1238" y="1012"/>
                        </a:lnTo>
                        <a:lnTo>
                          <a:pt x="1195" y="1007"/>
                        </a:lnTo>
                        <a:lnTo>
                          <a:pt x="1151" y="1002"/>
                        </a:lnTo>
                        <a:lnTo>
                          <a:pt x="1108" y="996"/>
                        </a:lnTo>
                        <a:lnTo>
                          <a:pt x="1065" y="990"/>
                        </a:lnTo>
                        <a:lnTo>
                          <a:pt x="1023" y="984"/>
                        </a:lnTo>
                        <a:lnTo>
                          <a:pt x="981" y="978"/>
                        </a:lnTo>
                        <a:lnTo>
                          <a:pt x="939" y="970"/>
                        </a:lnTo>
                        <a:lnTo>
                          <a:pt x="906" y="965"/>
                        </a:lnTo>
                        <a:lnTo>
                          <a:pt x="874" y="960"/>
                        </a:lnTo>
                        <a:lnTo>
                          <a:pt x="840" y="954"/>
                        </a:lnTo>
                        <a:lnTo>
                          <a:pt x="806" y="947"/>
                        </a:lnTo>
                        <a:lnTo>
                          <a:pt x="774" y="940"/>
                        </a:lnTo>
                        <a:lnTo>
                          <a:pt x="740" y="932"/>
                        </a:lnTo>
                        <a:lnTo>
                          <a:pt x="708" y="923"/>
                        </a:lnTo>
                        <a:lnTo>
                          <a:pt x="676" y="914"/>
                        </a:lnTo>
                        <a:lnTo>
                          <a:pt x="643" y="904"/>
                        </a:lnTo>
                        <a:lnTo>
                          <a:pt x="611" y="894"/>
                        </a:lnTo>
                        <a:lnTo>
                          <a:pt x="579" y="883"/>
                        </a:lnTo>
                        <a:lnTo>
                          <a:pt x="547" y="872"/>
                        </a:lnTo>
                        <a:lnTo>
                          <a:pt x="516" y="860"/>
                        </a:lnTo>
                        <a:lnTo>
                          <a:pt x="485" y="846"/>
                        </a:lnTo>
                        <a:lnTo>
                          <a:pt x="454" y="832"/>
                        </a:lnTo>
                        <a:lnTo>
                          <a:pt x="424" y="819"/>
                        </a:lnTo>
                        <a:lnTo>
                          <a:pt x="394" y="804"/>
                        </a:lnTo>
                        <a:lnTo>
                          <a:pt x="364" y="788"/>
                        </a:lnTo>
                        <a:lnTo>
                          <a:pt x="336" y="772"/>
                        </a:lnTo>
                        <a:lnTo>
                          <a:pt x="307" y="754"/>
                        </a:lnTo>
                        <a:lnTo>
                          <a:pt x="279" y="737"/>
                        </a:lnTo>
                        <a:lnTo>
                          <a:pt x="251" y="718"/>
                        </a:lnTo>
                        <a:lnTo>
                          <a:pt x="225" y="700"/>
                        </a:lnTo>
                        <a:lnTo>
                          <a:pt x="198" y="680"/>
                        </a:lnTo>
                        <a:lnTo>
                          <a:pt x="173" y="660"/>
                        </a:lnTo>
                        <a:lnTo>
                          <a:pt x="147" y="639"/>
                        </a:lnTo>
                        <a:lnTo>
                          <a:pt x="123" y="617"/>
                        </a:lnTo>
                        <a:lnTo>
                          <a:pt x="99" y="594"/>
                        </a:lnTo>
                        <a:lnTo>
                          <a:pt x="76" y="572"/>
                        </a:lnTo>
                        <a:lnTo>
                          <a:pt x="53" y="547"/>
                        </a:lnTo>
                        <a:lnTo>
                          <a:pt x="32" y="522"/>
                        </a:lnTo>
                        <a:lnTo>
                          <a:pt x="11" y="498"/>
                        </a:lnTo>
                        <a:lnTo>
                          <a:pt x="5" y="454"/>
                        </a:lnTo>
                        <a:lnTo>
                          <a:pt x="0" y="404"/>
                        </a:lnTo>
                        <a:lnTo>
                          <a:pt x="0" y="350"/>
                        </a:lnTo>
                        <a:lnTo>
                          <a:pt x="4" y="294"/>
                        </a:lnTo>
                        <a:lnTo>
                          <a:pt x="14" y="238"/>
                        </a:lnTo>
                        <a:lnTo>
                          <a:pt x="32" y="186"/>
                        </a:lnTo>
                        <a:lnTo>
                          <a:pt x="62" y="140"/>
                        </a:lnTo>
                        <a:lnTo>
                          <a:pt x="102" y="102"/>
                        </a:lnTo>
                        <a:lnTo>
                          <a:pt x="109" y="87"/>
                        </a:lnTo>
                        <a:lnTo>
                          <a:pt x="121" y="75"/>
                        </a:lnTo>
                        <a:lnTo>
                          <a:pt x="133" y="63"/>
                        </a:lnTo>
                        <a:lnTo>
                          <a:pt x="149" y="53"/>
                        </a:lnTo>
                        <a:lnTo>
                          <a:pt x="164" y="45"/>
                        </a:lnTo>
                        <a:lnTo>
                          <a:pt x="180" y="36"/>
                        </a:lnTo>
                        <a:lnTo>
                          <a:pt x="196" y="27"/>
                        </a:lnTo>
                        <a:lnTo>
                          <a:pt x="210" y="19"/>
                        </a:lnTo>
                        <a:lnTo>
                          <a:pt x="229" y="5"/>
                        </a:lnTo>
                        <a:lnTo>
                          <a:pt x="244" y="0"/>
                        </a:lnTo>
                        <a:lnTo>
                          <a:pt x="255" y="4"/>
                        </a:lnTo>
                        <a:lnTo>
                          <a:pt x="262" y="14"/>
                        </a:lnTo>
                        <a:lnTo>
                          <a:pt x="269" y="27"/>
                        </a:lnTo>
                        <a:lnTo>
                          <a:pt x="272" y="44"/>
                        </a:lnTo>
                        <a:lnTo>
                          <a:pt x="274" y="60"/>
                        </a:lnTo>
                        <a:lnTo>
                          <a:pt x="27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flipH="1">
                    <a:off x="3345480" y="2733480"/>
                    <a:ext cx="147600" cy="76320"/>
                  </a:xfrm>
                  <a:custGeom>
                    <a:avLst/>
                    <a:gdLst/>
                    <a:ahLst/>
                    <a:rect l="l" t="t" r="r" b="b"/>
                    <a:pathLst>
                      <a:path w="528" h="364">
                        <a:moveTo>
                          <a:pt x="448" y="0"/>
                        </a:moveTo>
                        <a:lnTo>
                          <a:pt x="452" y="12"/>
                        </a:lnTo>
                        <a:lnTo>
                          <a:pt x="451" y="26"/>
                        </a:lnTo>
                        <a:lnTo>
                          <a:pt x="446" y="41"/>
                        </a:lnTo>
                        <a:lnTo>
                          <a:pt x="442" y="53"/>
                        </a:lnTo>
                        <a:lnTo>
                          <a:pt x="441" y="64"/>
                        </a:lnTo>
                        <a:lnTo>
                          <a:pt x="443" y="72"/>
                        </a:lnTo>
                        <a:lnTo>
                          <a:pt x="455" y="75"/>
                        </a:lnTo>
                        <a:lnTo>
                          <a:pt x="475" y="74"/>
                        </a:lnTo>
                        <a:lnTo>
                          <a:pt x="516" y="42"/>
                        </a:lnTo>
                        <a:lnTo>
                          <a:pt x="528" y="68"/>
                        </a:lnTo>
                        <a:lnTo>
                          <a:pt x="523" y="84"/>
                        </a:lnTo>
                        <a:lnTo>
                          <a:pt x="508" y="94"/>
                        </a:lnTo>
                        <a:lnTo>
                          <a:pt x="487" y="101"/>
                        </a:lnTo>
                        <a:lnTo>
                          <a:pt x="466" y="109"/>
                        </a:lnTo>
                        <a:lnTo>
                          <a:pt x="451" y="120"/>
                        </a:lnTo>
                        <a:lnTo>
                          <a:pt x="446" y="137"/>
                        </a:lnTo>
                        <a:lnTo>
                          <a:pt x="457" y="166"/>
                        </a:lnTo>
                        <a:lnTo>
                          <a:pt x="435" y="175"/>
                        </a:lnTo>
                        <a:lnTo>
                          <a:pt x="417" y="188"/>
                        </a:lnTo>
                        <a:lnTo>
                          <a:pt x="402" y="204"/>
                        </a:lnTo>
                        <a:lnTo>
                          <a:pt x="389" y="223"/>
                        </a:lnTo>
                        <a:lnTo>
                          <a:pt x="374" y="240"/>
                        </a:lnTo>
                        <a:lnTo>
                          <a:pt x="358" y="254"/>
                        </a:lnTo>
                        <a:lnTo>
                          <a:pt x="335" y="263"/>
                        </a:lnTo>
                        <a:lnTo>
                          <a:pt x="308" y="264"/>
                        </a:lnTo>
                        <a:lnTo>
                          <a:pt x="294" y="275"/>
                        </a:lnTo>
                        <a:lnTo>
                          <a:pt x="280" y="286"/>
                        </a:lnTo>
                        <a:lnTo>
                          <a:pt x="267" y="296"/>
                        </a:lnTo>
                        <a:lnTo>
                          <a:pt x="252" y="305"/>
                        </a:lnTo>
                        <a:lnTo>
                          <a:pt x="237" y="312"/>
                        </a:lnTo>
                        <a:lnTo>
                          <a:pt x="221" y="318"/>
                        </a:lnTo>
                        <a:lnTo>
                          <a:pt x="204" y="325"/>
                        </a:lnTo>
                        <a:lnTo>
                          <a:pt x="190" y="330"/>
                        </a:lnTo>
                        <a:lnTo>
                          <a:pt x="172" y="333"/>
                        </a:lnTo>
                        <a:lnTo>
                          <a:pt x="156" y="337"/>
                        </a:lnTo>
                        <a:lnTo>
                          <a:pt x="140" y="340"/>
                        </a:lnTo>
                        <a:lnTo>
                          <a:pt x="124" y="342"/>
                        </a:lnTo>
                        <a:lnTo>
                          <a:pt x="107" y="345"/>
                        </a:lnTo>
                        <a:lnTo>
                          <a:pt x="91" y="346"/>
                        </a:lnTo>
                        <a:lnTo>
                          <a:pt x="75" y="347"/>
                        </a:lnTo>
                        <a:lnTo>
                          <a:pt x="59" y="347"/>
                        </a:lnTo>
                        <a:lnTo>
                          <a:pt x="0" y="364"/>
                        </a:lnTo>
                        <a:lnTo>
                          <a:pt x="5" y="353"/>
                        </a:lnTo>
                        <a:lnTo>
                          <a:pt x="10" y="342"/>
                        </a:lnTo>
                        <a:lnTo>
                          <a:pt x="15" y="331"/>
                        </a:lnTo>
                        <a:lnTo>
                          <a:pt x="25" y="322"/>
                        </a:lnTo>
                        <a:lnTo>
                          <a:pt x="34" y="323"/>
                        </a:lnTo>
                        <a:lnTo>
                          <a:pt x="41" y="328"/>
                        </a:lnTo>
                        <a:lnTo>
                          <a:pt x="49" y="331"/>
                        </a:lnTo>
                        <a:lnTo>
                          <a:pt x="59" y="331"/>
                        </a:lnTo>
                        <a:lnTo>
                          <a:pt x="75" y="318"/>
                        </a:lnTo>
                        <a:lnTo>
                          <a:pt x="82" y="304"/>
                        </a:lnTo>
                        <a:lnTo>
                          <a:pt x="84" y="287"/>
                        </a:lnTo>
                        <a:lnTo>
                          <a:pt x="81" y="271"/>
                        </a:lnTo>
                        <a:lnTo>
                          <a:pt x="76" y="254"/>
                        </a:lnTo>
                        <a:lnTo>
                          <a:pt x="73" y="235"/>
                        </a:lnTo>
                        <a:lnTo>
                          <a:pt x="71" y="217"/>
                        </a:lnTo>
                        <a:lnTo>
                          <a:pt x="75" y="198"/>
                        </a:lnTo>
                        <a:lnTo>
                          <a:pt x="84" y="198"/>
                        </a:lnTo>
                        <a:lnTo>
                          <a:pt x="90" y="193"/>
                        </a:lnTo>
                        <a:lnTo>
                          <a:pt x="95" y="187"/>
                        </a:lnTo>
                        <a:lnTo>
                          <a:pt x="101" y="181"/>
                        </a:lnTo>
                        <a:lnTo>
                          <a:pt x="101" y="168"/>
                        </a:lnTo>
                        <a:lnTo>
                          <a:pt x="106" y="160"/>
                        </a:lnTo>
                        <a:lnTo>
                          <a:pt x="115" y="155"/>
                        </a:lnTo>
                        <a:lnTo>
                          <a:pt x="127" y="152"/>
                        </a:lnTo>
                        <a:lnTo>
                          <a:pt x="140" y="150"/>
                        </a:lnTo>
                        <a:lnTo>
                          <a:pt x="153" y="146"/>
                        </a:lnTo>
                        <a:lnTo>
                          <a:pt x="166" y="141"/>
                        </a:lnTo>
                        <a:lnTo>
                          <a:pt x="175" y="132"/>
                        </a:lnTo>
                        <a:lnTo>
                          <a:pt x="172" y="140"/>
                        </a:lnTo>
                        <a:lnTo>
                          <a:pt x="161" y="157"/>
                        </a:lnTo>
                        <a:lnTo>
                          <a:pt x="146" y="181"/>
                        </a:lnTo>
                        <a:lnTo>
                          <a:pt x="132" y="206"/>
                        </a:lnTo>
                        <a:lnTo>
                          <a:pt x="126" y="228"/>
                        </a:lnTo>
                        <a:lnTo>
                          <a:pt x="130" y="243"/>
                        </a:lnTo>
                        <a:lnTo>
                          <a:pt x="150" y="249"/>
                        </a:lnTo>
                        <a:lnTo>
                          <a:pt x="191" y="239"/>
                        </a:lnTo>
                        <a:lnTo>
                          <a:pt x="204" y="225"/>
                        </a:lnTo>
                        <a:lnTo>
                          <a:pt x="217" y="209"/>
                        </a:lnTo>
                        <a:lnTo>
                          <a:pt x="229" y="192"/>
                        </a:lnTo>
                        <a:lnTo>
                          <a:pt x="241" y="176"/>
                        </a:lnTo>
                        <a:lnTo>
                          <a:pt x="254" y="161"/>
                        </a:lnTo>
                        <a:lnTo>
                          <a:pt x="269" y="149"/>
                        </a:lnTo>
                        <a:lnTo>
                          <a:pt x="287" y="141"/>
                        </a:lnTo>
                        <a:lnTo>
                          <a:pt x="308" y="140"/>
                        </a:lnTo>
                        <a:lnTo>
                          <a:pt x="319" y="119"/>
                        </a:lnTo>
                        <a:lnTo>
                          <a:pt x="331" y="96"/>
                        </a:lnTo>
                        <a:lnTo>
                          <a:pt x="346" y="74"/>
                        </a:lnTo>
                        <a:lnTo>
                          <a:pt x="363" y="53"/>
                        </a:lnTo>
                        <a:lnTo>
                          <a:pt x="380" y="33"/>
                        </a:lnTo>
                        <a:lnTo>
                          <a:pt x="401" y="18"/>
                        </a:lnTo>
                        <a:lnTo>
                          <a:pt x="424" y="6"/>
                        </a:lnTo>
                        <a:lnTo>
                          <a:pt x="448" y="0"/>
                        </a:lnTo>
                        <a:close/>
                      </a:path>
                    </a:pathLst>
                  </a:custGeom>
                  <a:solidFill>
                    <a:srgbClr val="9ed67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578" name=""/>
                  <p:cNvSpPr/>
                  <p:nvPr/>
                </p:nvSpPr>
                <p:spPr>
                  <a:xfrm flipH="1">
                    <a:off x="3696480" y="2735280"/>
                    <a:ext cx="444600" cy="317160"/>
                  </a:xfrm>
                  <a:custGeom>
                    <a:avLst/>
                    <a:gdLst/>
                    <a:ahLst/>
                    <a:rect l="l" t="t" r="r" b="b"/>
                    <a:pathLst>
                      <a:path w="1589" h="1511">
                        <a:moveTo>
                          <a:pt x="617" y="0"/>
                        </a:moveTo>
                        <a:lnTo>
                          <a:pt x="602" y="90"/>
                        </a:lnTo>
                        <a:lnTo>
                          <a:pt x="599" y="180"/>
                        </a:lnTo>
                        <a:lnTo>
                          <a:pt x="601" y="270"/>
                        </a:lnTo>
                        <a:lnTo>
                          <a:pt x="609" y="356"/>
                        </a:lnTo>
                        <a:lnTo>
                          <a:pt x="600" y="363"/>
                        </a:lnTo>
                        <a:lnTo>
                          <a:pt x="585" y="369"/>
                        </a:lnTo>
                        <a:lnTo>
                          <a:pt x="569" y="374"/>
                        </a:lnTo>
                        <a:lnTo>
                          <a:pt x="551" y="381"/>
                        </a:lnTo>
                        <a:lnTo>
                          <a:pt x="536" y="390"/>
                        </a:lnTo>
                        <a:lnTo>
                          <a:pt x="528" y="401"/>
                        </a:lnTo>
                        <a:lnTo>
                          <a:pt x="525" y="417"/>
                        </a:lnTo>
                        <a:lnTo>
                          <a:pt x="534" y="438"/>
                        </a:lnTo>
                        <a:lnTo>
                          <a:pt x="566" y="462"/>
                        </a:lnTo>
                        <a:lnTo>
                          <a:pt x="599" y="483"/>
                        </a:lnTo>
                        <a:lnTo>
                          <a:pt x="631" y="503"/>
                        </a:lnTo>
                        <a:lnTo>
                          <a:pt x="665" y="523"/>
                        </a:lnTo>
                        <a:lnTo>
                          <a:pt x="698" y="541"/>
                        </a:lnTo>
                        <a:lnTo>
                          <a:pt x="732" y="559"/>
                        </a:lnTo>
                        <a:lnTo>
                          <a:pt x="767" y="575"/>
                        </a:lnTo>
                        <a:lnTo>
                          <a:pt x="800" y="591"/>
                        </a:lnTo>
                        <a:lnTo>
                          <a:pt x="835" y="607"/>
                        </a:lnTo>
                        <a:lnTo>
                          <a:pt x="870" y="622"/>
                        </a:lnTo>
                        <a:lnTo>
                          <a:pt x="906" y="637"/>
                        </a:lnTo>
                        <a:lnTo>
                          <a:pt x="941" y="652"/>
                        </a:lnTo>
                        <a:lnTo>
                          <a:pt x="976" y="666"/>
                        </a:lnTo>
                        <a:lnTo>
                          <a:pt x="1012" y="680"/>
                        </a:lnTo>
                        <a:lnTo>
                          <a:pt x="1047" y="696"/>
                        </a:lnTo>
                        <a:lnTo>
                          <a:pt x="1081" y="711"/>
                        </a:lnTo>
                        <a:lnTo>
                          <a:pt x="1116" y="725"/>
                        </a:lnTo>
                        <a:lnTo>
                          <a:pt x="1151" y="738"/>
                        </a:lnTo>
                        <a:lnTo>
                          <a:pt x="1186" y="752"/>
                        </a:lnTo>
                        <a:lnTo>
                          <a:pt x="1221" y="766"/>
                        </a:lnTo>
                        <a:lnTo>
                          <a:pt x="1257" y="781"/>
                        </a:lnTo>
                        <a:lnTo>
                          <a:pt x="1292" y="797"/>
                        </a:lnTo>
                        <a:lnTo>
                          <a:pt x="1327" y="813"/>
                        </a:lnTo>
                        <a:lnTo>
                          <a:pt x="1360" y="830"/>
                        </a:lnTo>
                        <a:lnTo>
                          <a:pt x="1394" y="850"/>
                        </a:lnTo>
                        <a:lnTo>
                          <a:pt x="1426" y="870"/>
                        </a:lnTo>
                        <a:lnTo>
                          <a:pt x="1456" y="892"/>
                        </a:lnTo>
                        <a:lnTo>
                          <a:pt x="1485" y="917"/>
                        </a:lnTo>
                        <a:lnTo>
                          <a:pt x="1512" y="943"/>
                        </a:lnTo>
                        <a:lnTo>
                          <a:pt x="1537" y="972"/>
                        </a:lnTo>
                        <a:lnTo>
                          <a:pt x="1559" y="1001"/>
                        </a:lnTo>
                        <a:lnTo>
                          <a:pt x="1579" y="1035"/>
                        </a:lnTo>
                        <a:lnTo>
                          <a:pt x="1588" y="1068"/>
                        </a:lnTo>
                        <a:lnTo>
                          <a:pt x="1589" y="1101"/>
                        </a:lnTo>
                        <a:lnTo>
                          <a:pt x="1586" y="1132"/>
                        </a:lnTo>
                        <a:lnTo>
                          <a:pt x="1578" y="1161"/>
                        </a:lnTo>
                        <a:lnTo>
                          <a:pt x="1567" y="1191"/>
                        </a:lnTo>
                        <a:lnTo>
                          <a:pt x="1553" y="1220"/>
                        </a:lnTo>
                        <a:lnTo>
                          <a:pt x="1537" y="1247"/>
                        </a:lnTo>
                        <a:lnTo>
                          <a:pt x="1521" y="1274"/>
                        </a:lnTo>
                        <a:lnTo>
                          <a:pt x="1506" y="1288"/>
                        </a:lnTo>
                        <a:lnTo>
                          <a:pt x="1491" y="1300"/>
                        </a:lnTo>
                        <a:lnTo>
                          <a:pt x="1474" y="1313"/>
                        </a:lnTo>
                        <a:lnTo>
                          <a:pt x="1456" y="1324"/>
                        </a:lnTo>
                        <a:lnTo>
                          <a:pt x="1439" y="1334"/>
                        </a:lnTo>
                        <a:lnTo>
                          <a:pt x="1420" y="1344"/>
                        </a:lnTo>
                        <a:lnTo>
                          <a:pt x="1400" y="1352"/>
                        </a:lnTo>
                        <a:lnTo>
                          <a:pt x="1381" y="1361"/>
                        </a:lnTo>
                        <a:lnTo>
                          <a:pt x="1360" y="1370"/>
                        </a:lnTo>
                        <a:lnTo>
                          <a:pt x="1340" y="1379"/>
                        </a:lnTo>
                        <a:lnTo>
                          <a:pt x="1320" y="1387"/>
                        </a:lnTo>
                        <a:lnTo>
                          <a:pt x="1301" y="1396"/>
                        </a:lnTo>
                        <a:lnTo>
                          <a:pt x="1281" y="1403"/>
                        </a:lnTo>
                        <a:lnTo>
                          <a:pt x="1261" y="1412"/>
                        </a:lnTo>
                        <a:lnTo>
                          <a:pt x="1241" y="1421"/>
                        </a:lnTo>
                        <a:lnTo>
                          <a:pt x="1222" y="1431"/>
                        </a:lnTo>
                        <a:lnTo>
                          <a:pt x="1189" y="1437"/>
                        </a:lnTo>
                        <a:lnTo>
                          <a:pt x="1155" y="1444"/>
                        </a:lnTo>
                        <a:lnTo>
                          <a:pt x="1121" y="1452"/>
                        </a:lnTo>
                        <a:lnTo>
                          <a:pt x="1088" y="1460"/>
                        </a:lnTo>
                        <a:lnTo>
                          <a:pt x="1054" y="1469"/>
                        </a:lnTo>
                        <a:lnTo>
                          <a:pt x="1020" y="1478"/>
                        </a:lnTo>
                        <a:lnTo>
                          <a:pt x="987" y="1485"/>
                        </a:lnTo>
                        <a:lnTo>
                          <a:pt x="953" y="1493"/>
                        </a:lnTo>
                        <a:lnTo>
                          <a:pt x="920" y="1500"/>
                        </a:lnTo>
                        <a:lnTo>
                          <a:pt x="885" y="1505"/>
                        </a:lnTo>
                        <a:lnTo>
                          <a:pt x="851" y="1509"/>
                        </a:lnTo>
                        <a:lnTo>
                          <a:pt x="816" y="1511"/>
                        </a:lnTo>
                        <a:lnTo>
                          <a:pt x="782" y="1511"/>
                        </a:lnTo>
                        <a:lnTo>
                          <a:pt x="747" y="1509"/>
                        </a:lnTo>
                        <a:lnTo>
                          <a:pt x="712" y="1504"/>
                        </a:lnTo>
                        <a:lnTo>
                          <a:pt x="676" y="1496"/>
                        </a:lnTo>
                        <a:lnTo>
                          <a:pt x="665" y="1489"/>
                        </a:lnTo>
                        <a:lnTo>
                          <a:pt x="652" y="1481"/>
                        </a:lnTo>
                        <a:lnTo>
                          <a:pt x="642" y="1472"/>
                        </a:lnTo>
                        <a:lnTo>
                          <a:pt x="632" y="1462"/>
                        </a:lnTo>
                        <a:lnTo>
                          <a:pt x="625" y="1450"/>
                        </a:lnTo>
                        <a:lnTo>
                          <a:pt x="618" y="1439"/>
                        </a:lnTo>
                        <a:lnTo>
                          <a:pt x="616" y="1427"/>
                        </a:lnTo>
                        <a:lnTo>
                          <a:pt x="617" y="1413"/>
                        </a:lnTo>
                        <a:lnTo>
                          <a:pt x="633" y="1400"/>
                        </a:lnTo>
                        <a:lnTo>
                          <a:pt x="651" y="1387"/>
                        </a:lnTo>
                        <a:lnTo>
                          <a:pt x="670" y="1377"/>
                        </a:lnTo>
                        <a:lnTo>
                          <a:pt x="689" y="1369"/>
                        </a:lnTo>
                        <a:lnTo>
                          <a:pt x="708" y="1360"/>
                        </a:lnTo>
                        <a:lnTo>
                          <a:pt x="728" y="1351"/>
                        </a:lnTo>
                        <a:lnTo>
                          <a:pt x="747" y="1343"/>
                        </a:lnTo>
                        <a:lnTo>
                          <a:pt x="765" y="1331"/>
                        </a:lnTo>
                        <a:lnTo>
                          <a:pt x="794" y="1324"/>
                        </a:lnTo>
                        <a:lnTo>
                          <a:pt x="823" y="1315"/>
                        </a:lnTo>
                        <a:lnTo>
                          <a:pt x="852" y="1307"/>
                        </a:lnTo>
                        <a:lnTo>
                          <a:pt x="881" y="1298"/>
                        </a:lnTo>
                        <a:lnTo>
                          <a:pt x="910" y="1288"/>
                        </a:lnTo>
                        <a:lnTo>
                          <a:pt x="938" y="1277"/>
                        </a:lnTo>
                        <a:lnTo>
                          <a:pt x="967" y="1266"/>
                        </a:lnTo>
                        <a:lnTo>
                          <a:pt x="994" y="1253"/>
                        </a:lnTo>
                        <a:lnTo>
                          <a:pt x="1022" y="1241"/>
                        </a:lnTo>
                        <a:lnTo>
                          <a:pt x="1048" y="1226"/>
                        </a:lnTo>
                        <a:lnTo>
                          <a:pt x="1073" y="1210"/>
                        </a:lnTo>
                        <a:lnTo>
                          <a:pt x="1096" y="1192"/>
                        </a:lnTo>
                        <a:lnTo>
                          <a:pt x="1120" y="1174"/>
                        </a:lnTo>
                        <a:lnTo>
                          <a:pt x="1141" y="1154"/>
                        </a:lnTo>
                        <a:lnTo>
                          <a:pt x="1161" y="1132"/>
                        </a:lnTo>
                        <a:lnTo>
                          <a:pt x="1180" y="1108"/>
                        </a:lnTo>
                        <a:lnTo>
                          <a:pt x="1182" y="1091"/>
                        </a:lnTo>
                        <a:lnTo>
                          <a:pt x="1182" y="1076"/>
                        </a:lnTo>
                        <a:lnTo>
                          <a:pt x="1179" y="1061"/>
                        </a:lnTo>
                        <a:lnTo>
                          <a:pt x="1172" y="1047"/>
                        </a:lnTo>
                        <a:lnTo>
                          <a:pt x="1165" y="1035"/>
                        </a:lnTo>
                        <a:lnTo>
                          <a:pt x="1155" y="1023"/>
                        </a:lnTo>
                        <a:lnTo>
                          <a:pt x="1144" y="1011"/>
                        </a:lnTo>
                        <a:lnTo>
                          <a:pt x="1131" y="1000"/>
                        </a:lnTo>
                        <a:lnTo>
                          <a:pt x="1116" y="993"/>
                        </a:lnTo>
                        <a:lnTo>
                          <a:pt x="1103" y="983"/>
                        </a:lnTo>
                        <a:lnTo>
                          <a:pt x="1089" y="972"/>
                        </a:lnTo>
                        <a:lnTo>
                          <a:pt x="1075" y="962"/>
                        </a:lnTo>
                        <a:lnTo>
                          <a:pt x="1060" y="953"/>
                        </a:lnTo>
                        <a:lnTo>
                          <a:pt x="1044" y="948"/>
                        </a:lnTo>
                        <a:lnTo>
                          <a:pt x="1027" y="947"/>
                        </a:lnTo>
                        <a:lnTo>
                          <a:pt x="1007" y="952"/>
                        </a:lnTo>
                        <a:lnTo>
                          <a:pt x="984" y="943"/>
                        </a:lnTo>
                        <a:lnTo>
                          <a:pt x="962" y="933"/>
                        </a:lnTo>
                        <a:lnTo>
                          <a:pt x="940" y="923"/>
                        </a:lnTo>
                        <a:lnTo>
                          <a:pt x="918" y="913"/>
                        </a:lnTo>
                        <a:lnTo>
                          <a:pt x="896" y="903"/>
                        </a:lnTo>
                        <a:lnTo>
                          <a:pt x="875" y="894"/>
                        </a:lnTo>
                        <a:lnTo>
                          <a:pt x="852" y="884"/>
                        </a:lnTo>
                        <a:lnTo>
                          <a:pt x="830" y="875"/>
                        </a:lnTo>
                        <a:lnTo>
                          <a:pt x="808" y="865"/>
                        </a:lnTo>
                        <a:lnTo>
                          <a:pt x="785" y="858"/>
                        </a:lnTo>
                        <a:lnTo>
                          <a:pt x="763" y="850"/>
                        </a:lnTo>
                        <a:lnTo>
                          <a:pt x="739" y="843"/>
                        </a:lnTo>
                        <a:lnTo>
                          <a:pt x="716" y="838"/>
                        </a:lnTo>
                        <a:lnTo>
                          <a:pt x="692" y="833"/>
                        </a:lnTo>
                        <a:lnTo>
                          <a:pt x="667" y="829"/>
                        </a:lnTo>
                        <a:lnTo>
                          <a:pt x="641" y="828"/>
                        </a:lnTo>
                        <a:lnTo>
                          <a:pt x="602" y="804"/>
                        </a:lnTo>
                        <a:lnTo>
                          <a:pt x="561" y="783"/>
                        </a:lnTo>
                        <a:lnTo>
                          <a:pt x="519" y="764"/>
                        </a:lnTo>
                        <a:lnTo>
                          <a:pt x="475" y="747"/>
                        </a:lnTo>
                        <a:lnTo>
                          <a:pt x="432" y="732"/>
                        </a:lnTo>
                        <a:lnTo>
                          <a:pt x="388" y="717"/>
                        </a:lnTo>
                        <a:lnTo>
                          <a:pt x="343" y="704"/>
                        </a:lnTo>
                        <a:lnTo>
                          <a:pt x="300" y="688"/>
                        </a:lnTo>
                        <a:lnTo>
                          <a:pt x="258" y="671"/>
                        </a:lnTo>
                        <a:lnTo>
                          <a:pt x="215" y="653"/>
                        </a:lnTo>
                        <a:lnTo>
                          <a:pt x="174" y="633"/>
                        </a:lnTo>
                        <a:lnTo>
                          <a:pt x="136" y="609"/>
                        </a:lnTo>
                        <a:lnTo>
                          <a:pt x="98" y="582"/>
                        </a:lnTo>
                        <a:lnTo>
                          <a:pt x="63" y="550"/>
                        </a:lnTo>
                        <a:lnTo>
                          <a:pt x="31" y="514"/>
                        </a:lnTo>
                        <a:lnTo>
                          <a:pt x="2" y="472"/>
                        </a:lnTo>
                        <a:lnTo>
                          <a:pt x="0" y="443"/>
                        </a:lnTo>
                        <a:lnTo>
                          <a:pt x="1" y="416"/>
                        </a:lnTo>
                        <a:lnTo>
                          <a:pt x="5" y="391"/>
                        </a:lnTo>
                        <a:lnTo>
                          <a:pt x="11" y="366"/>
                        </a:lnTo>
                        <a:lnTo>
                          <a:pt x="20" y="343"/>
                        </a:lnTo>
                        <a:lnTo>
                          <a:pt x="31" y="320"/>
                        </a:lnTo>
                        <a:lnTo>
                          <a:pt x="45" y="299"/>
                        </a:lnTo>
                        <a:lnTo>
                          <a:pt x="60" y="279"/>
                        </a:lnTo>
                        <a:lnTo>
                          <a:pt x="76" y="260"/>
                        </a:lnTo>
                        <a:lnTo>
                          <a:pt x="93" y="241"/>
                        </a:lnTo>
                        <a:lnTo>
                          <a:pt x="112" y="222"/>
                        </a:lnTo>
                        <a:lnTo>
                          <a:pt x="131" y="205"/>
                        </a:lnTo>
                        <a:lnTo>
                          <a:pt x="151" y="189"/>
                        </a:lnTo>
                        <a:lnTo>
                          <a:pt x="170" y="173"/>
                        </a:lnTo>
                        <a:lnTo>
                          <a:pt x="190" y="157"/>
                        </a:lnTo>
                        <a:lnTo>
                          <a:pt x="210" y="141"/>
                        </a:lnTo>
                        <a:lnTo>
                          <a:pt x="234" y="128"/>
                        </a:lnTo>
                        <a:lnTo>
                          <a:pt x="259" y="117"/>
                        </a:lnTo>
                        <a:lnTo>
                          <a:pt x="284" y="107"/>
                        </a:lnTo>
                        <a:lnTo>
                          <a:pt x="309" y="97"/>
                        </a:lnTo>
                        <a:lnTo>
                          <a:pt x="333" y="87"/>
                        </a:lnTo>
                        <a:lnTo>
                          <a:pt x="358" y="79"/>
                        </a:lnTo>
                        <a:lnTo>
                          <a:pt x="384" y="71"/>
                        </a:lnTo>
                        <a:lnTo>
                          <a:pt x="411" y="62"/>
                        </a:lnTo>
                        <a:lnTo>
                          <a:pt x="436" y="55"/>
                        </a:lnTo>
                        <a:lnTo>
                          <a:pt x="462" y="47"/>
                        </a:lnTo>
                        <a:lnTo>
                          <a:pt x="488" y="40"/>
                        </a:lnTo>
                        <a:lnTo>
                          <a:pt x="514" y="33"/>
                        </a:lnTo>
                        <a:lnTo>
                          <a:pt x="540" y="25"/>
                        </a:lnTo>
                        <a:lnTo>
                          <a:pt x="566" y="16"/>
                        </a:lnTo>
                        <a:lnTo>
                          <a:pt x="591" y="9"/>
                        </a:lnTo>
                        <a:lnTo>
                          <a:pt x="6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flipH="1">
                    <a:off x="3709080" y="2741760"/>
                    <a:ext cx="227520" cy="142560"/>
                  </a:xfrm>
                  <a:custGeom>
                    <a:avLst/>
                    <a:gdLst/>
                    <a:ahLst/>
                    <a:rect l="l" t="t" r="r" b="b"/>
                    <a:pathLst>
                      <a:path w="814" h="680">
                        <a:moveTo>
                          <a:pt x="215" y="12"/>
                        </a:moveTo>
                        <a:lnTo>
                          <a:pt x="235" y="35"/>
                        </a:lnTo>
                        <a:lnTo>
                          <a:pt x="255" y="59"/>
                        </a:lnTo>
                        <a:lnTo>
                          <a:pt x="278" y="82"/>
                        </a:lnTo>
                        <a:lnTo>
                          <a:pt x="299" y="105"/>
                        </a:lnTo>
                        <a:lnTo>
                          <a:pt x="322" y="126"/>
                        </a:lnTo>
                        <a:lnTo>
                          <a:pt x="346" y="147"/>
                        </a:lnTo>
                        <a:lnTo>
                          <a:pt x="370" y="167"/>
                        </a:lnTo>
                        <a:lnTo>
                          <a:pt x="395" y="186"/>
                        </a:lnTo>
                        <a:lnTo>
                          <a:pt x="421" y="205"/>
                        </a:lnTo>
                        <a:lnTo>
                          <a:pt x="447" y="222"/>
                        </a:lnTo>
                        <a:lnTo>
                          <a:pt x="473" y="239"/>
                        </a:lnTo>
                        <a:lnTo>
                          <a:pt x="500" y="255"/>
                        </a:lnTo>
                        <a:lnTo>
                          <a:pt x="528" y="270"/>
                        </a:lnTo>
                        <a:lnTo>
                          <a:pt x="556" y="283"/>
                        </a:lnTo>
                        <a:lnTo>
                          <a:pt x="585" y="297"/>
                        </a:lnTo>
                        <a:lnTo>
                          <a:pt x="614" y="308"/>
                        </a:lnTo>
                        <a:lnTo>
                          <a:pt x="591" y="332"/>
                        </a:lnTo>
                        <a:lnTo>
                          <a:pt x="572" y="358"/>
                        </a:lnTo>
                        <a:lnTo>
                          <a:pt x="558" y="386"/>
                        </a:lnTo>
                        <a:lnTo>
                          <a:pt x="545" y="416"/>
                        </a:lnTo>
                        <a:lnTo>
                          <a:pt x="534" y="447"/>
                        </a:lnTo>
                        <a:lnTo>
                          <a:pt x="524" y="478"/>
                        </a:lnTo>
                        <a:lnTo>
                          <a:pt x="515" y="509"/>
                        </a:lnTo>
                        <a:lnTo>
                          <a:pt x="507" y="540"/>
                        </a:lnTo>
                        <a:lnTo>
                          <a:pt x="526" y="560"/>
                        </a:lnTo>
                        <a:lnTo>
                          <a:pt x="551" y="570"/>
                        </a:lnTo>
                        <a:lnTo>
                          <a:pt x="577" y="573"/>
                        </a:lnTo>
                        <a:lnTo>
                          <a:pt x="604" y="575"/>
                        </a:lnTo>
                        <a:lnTo>
                          <a:pt x="629" y="577"/>
                        </a:lnTo>
                        <a:lnTo>
                          <a:pt x="647" y="585"/>
                        </a:lnTo>
                        <a:lnTo>
                          <a:pt x="660" y="602"/>
                        </a:lnTo>
                        <a:lnTo>
                          <a:pt x="663" y="632"/>
                        </a:lnTo>
                        <a:lnTo>
                          <a:pt x="673" y="629"/>
                        </a:lnTo>
                        <a:lnTo>
                          <a:pt x="682" y="627"/>
                        </a:lnTo>
                        <a:lnTo>
                          <a:pt x="691" y="622"/>
                        </a:lnTo>
                        <a:lnTo>
                          <a:pt x="699" y="617"/>
                        </a:lnTo>
                        <a:lnTo>
                          <a:pt x="708" y="612"/>
                        </a:lnTo>
                        <a:lnTo>
                          <a:pt x="716" y="604"/>
                        </a:lnTo>
                        <a:lnTo>
                          <a:pt x="723" y="597"/>
                        </a:lnTo>
                        <a:lnTo>
                          <a:pt x="731" y="590"/>
                        </a:lnTo>
                        <a:lnTo>
                          <a:pt x="729" y="573"/>
                        </a:lnTo>
                        <a:lnTo>
                          <a:pt x="731" y="557"/>
                        </a:lnTo>
                        <a:lnTo>
                          <a:pt x="727" y="542"/>
                        </a:lnTo>
                        <a:lnTo>
                          <a:pt x="713" y="531"/>
                        </a:lnTo>
                        <a:lnTo>
                          <a:pt x="703" y="531"/>
                        </a:lnTo>
                        <a:lnTo>
                          <a:pt x="693" y="531"/>
                        </a:lnTo>
                        <a:lnTo>
                          <a:pt x="685" y="530"/>
                        </a:lnTo>
                        <a:lnTo>
                          <a:pt x="676" y="528"/>
                        </a:lnTo>
                        <a:lnTo>
                          <a:pt x="668" y="525"/>
                        </a:lnTo>
                        <a:lnTo>
                          <a:pt x="661" y="520"/>
                        </a:lnTo>
                        <a:lnTo>
                          <a:pt x="653" y="514"/>
                        </a:lnTo>
                        <a:lnTo>
                          <a:pt x="647" y="508"/>
                        </a:lnTo>
                        <a:lnTo>
                          <a:pt x="641" y="493"/>
                        </a:lnTo>
                        <a:lnTo>
                          <a:pt x="635" y="478"/>
                        </a:lnTo>
                        <a:lnTo>
                          <a:pt x="629" y="463"/>
                        </a:lnTo>
                        <a:lnTo>
                          <a:pt x="624" y="447"/>
                        </a:lnTo>
                        <a:lnTo>
                          <a:pt x="621" y="431"/>
                        </a:lnTo>
                        <a:lnTo>
                          <a:pt x="621" y="416"/>
                        </a:lnTo>
                        <a:lnTo>
                          <a:pt x="627" y="400"/>
                        </a:lnTo>
                        <a:lnTo>
                          <a:pt x="638" y="384"/>
                        </a:lnTo>
                        <a:lnTo>
                          <a:pt x="630" y="375"/>
                        </a:lnTo>
                        <a:lnTo>
                          <a:pt x="672" y="342"/>
                        </a:lnTo>
                        <a:lnTo>
                          <a:pt x="677" y="360"/>
                        </a:lnTo>
                        <a:lnTo>
                          <a:pt x="680" y="380"/>
                        </a:lnTo>
                        <a:lnTo>
                          <a:pt x="682" y="400"/>
                        </a:lnTo>
                        <a:lnTo>
                          <a:pt x="683" y="421"/>
                        </a:lnTo>
                        <a:lnTo>
                          <a:pt x="686" y="441"/>
                        </a:lnTo>
                        <a:lnTo>
                          <a:pt x="691" y="459"/>
                        </a:lnTo>
                        <a:lnTo>
                          <a:pt x="699" y="475"/>
                        </a:lnTo>
                        <a:lnTo>
                          <a:pt x="713" y="490"/>
                        </a:lnTo>
                        <a:lnTo>
                          <a:pt x="814" y="508"/>
                        </a:lnTo>
                        <a:lnTo>
                          <a:pt x="811" y="531"/>
                        </a:lnTo>
                        <a:lnTo>
                          <a:pt x="803" y="554"/>
                        </a:lnTo>
                        <a:lnTo>
                          <a:pt x="790" y="575"/>
                        </a:lnTo>
                        <a:lnTo>
                          <a:pt x="777" y="595"/>
                        </a:lnTo>
                        <a:lnTo>
                          <a:pt x="765" y="616"/>
                        </a:lnTo>
                        <a:lnTo>
                          <a:pt x="759" y="635"/>
                        </a:lnTo>
                        <a:lnTo>
                          <a:pt x="760" y="658"/>
                        </a:lnTo>
                        <a:lnTo>
                          <a:pt x="772" y="680"/>
                        </a:lnTo>
                        <a:lnTo>
                          <a:pt x="748" y="680"/>
                        </a:lnTo>
                        <a:lnTo>
                          <a:pt x="727" y="675"/>
                        </a:lnTo>
                        <a:lnTo>
                          <a:pt x="706" y="668"/>
                        </a:lnTo>
                        <a:lnTo>
                          <a:pt x="687" y="659"/>
                        </a:lnTo>
                        <a:lnTo>
                          <a:pt x="667" y="650"/>
                        </a:lnTo>
                        <a:lnTo>
                          <a:pt x="647" y="642"/>
                        </a:lnTo>
                        <a:lnTo>
                          <a:pt x="627" y="634"/>
                        </a:lnTo>
                        <a:lnTo>
                          <a:pt x="606" y="632"/>
                        </a:lnTo>
                        <a:lnTo>
                          <a:pt x="587" y="629"/>
                        </a:lnTo>
                        <a:lnTo>
                          <a:pt x="570" y="626"/>
                        </a:lnTo>
                        <a:lnTo>
                          <a:pt x="554" y="621"/>
                        </a:lnTo>
                        <a:lnTo>
                          <a:pt x="538" y="614"/>
                        </a:lnTo>
                        <a:lnTo>
                          <a:pt x="521" y="608"/>
                        </a:lnTo>
                        <a:lnTo>
                          <a:pt x="505" y="602"/>
                        </a:lnTo>
                        <a:lnTo>
                          <a:pt x="489" y="596"/>
                        </a:lnTo>
                        <a:lnTo>
                          <a:pt x="473" y="590"/>
                        </a:lnTo>
                        <a:lnTo>
                          <a:pt x="478" y="570"/>
                        </a:lnTo>
                        <a:lnTo>
                          <a:pt x="474" y="554"/>
                        </a:lnTo>
                        <a:lnTo>
                          <a:pt x="465" y="540"/>
                        </a:lnTo>
                        <a:lnTo>
                          <a:pt x="454" y="529"/>
                        </a:lnTo>
                        <a:lnTo>
                          <a:pt x="442" y="518"/>
                        </a:lnTo>
                        <a:lnTo>
                          <a:pt x="431" y="504"/>
                        </a:lnTo>
                        <a:lnTo>
                          <a:pt x="424" y="487"/>
                        </a:lnTo>
                        <a:lnTo>
                          <a:pt x="423" y="466"/>
                        </a:lnTo>
                        <a:lnTo>
                          <a:pt x="419" y="449"/>
                        </a:lnTo>
                        <a:lnTo>
                          <a:pt x="413" y="438"/>
                        </a:lnTo>
                        <a:lnTo>
                          <a:pt x="403" y="430"/>
                        </a:lnTo>
                        <a:lnTo>
                          <a:pt x="391" y="422"/>
                        </a:lnTo>
                        <a:lnTo>
                          <a:pt x="377" y="417"/>
                        </a:lnTo>
                        <a:lnTo>
                          <a:pt x="363" y="412"/>
                        </a:lnTo>
                        <a:lnTo>
                          <a:pt x="351" y="406"/>
                        </a:lnTo>
                        <a:lnTo>
                          <a:pt x="340" y="399"/>
                        </a:lnTo>
                        <a:lnTo>
                          <a:pt x="327" y="397"/>
                        </a:lnTo>
                        <a:lnTo>
                          <a:pt x="314" y="397"/>
                        </a:lnTo>
                        <a:lnTo>
                          <a:pt x="299" y="399"/>
                        </a:lnTo>
                        <a:lnTo>
                          <a:pt x="285" y="400"/>
                        </a:lnTo>
                        <a:lnTo>
                          <a:pt x="273" y="400"/>
                        </a:lnTo>
                        <a:lnTo>
                          <a:pt x="261" y="396"/>
                        </a:lnTo>
                        <a:lnTo>
                          <a:pt x="254" y="389"/>
                        </a:lnTo>
                        <a:lnTo>
                          <a:pt x="249" y="375"/>
                        </a:lnTo>
                        <a:lnTo>
                          <a:pt x="261" y="350"/>
                        </a:lnTo>
                        <a:lnTo>
                          <a:pt x="274" y="324"/>
                        </a:lnTo>
                        <a:lnTo>
                          <a:pt x="286" y="298"/>
                        </a:lnTo>
                        <a:lnTo>
                          <a:pt x="297" y="272"/>
                        </a:lnTo>
                        <a:lnTo>
                          <a:pt x="305" y="245"/>
                        </a:lnTo>
                        <a:lnTo>
                          <a:pt x="309" y="217"/>
                        </a:lnTo>
                        <a:lnTo>
                          <a:pt x="307" y="189"/>
                        </a:lnTo>
                        <a:lnTo>
                          <a:pt x="299" y="159"/>
                        </a:lnTo>
                        <a:lnTo>
                          <a:pt x="289" y="155"/>
                        </a:lnTo>
                        <a:lnTo>
                          <a:pt x="279" y="153"/>
                        </a:lnTo>
                        <a:lnTo>
                          <a:pt x="270" y="152"/>
                        </a:lnTo>
                        <a:lnTo>
                          <a:pt x="261" y="150"/>
                        </a:lnTo>
                        <a:lnTo>
                          <a:pt x="253" y="150"/>
                        </a:lnTo>
                        <a:lnTo>
                          <a:pt x="244" y="152"/>
                        </a:lnTo>
                        <a:lnTo>
                          <a:pt x="234" y="155"/>
                        </a:lnTo>
                        <a:lnTo>
                          <a:pt x="224" y="159"/>
                        </a:lnTo>
                        <a:lnTo>
                          <a:pt x="213" y="181"/>
                        </a:lnTo>
                        <a:lnTo>
                          <a:pt x="202" y="205"/>
                        </a:lnTo>
                        <a:lnTo>
                          <a:pt x="190" y="230"/>
                        </a:lnTo>
                        <a:lnTo>
                          <a:pt x="178" y="255"/>
                        </a:lnTo>
                        <a:lnTo>
                          <a:pt x="163" y="276"/>
                        </a:lnTo>
                        <a:lnTo>
                          <a:pt x="147" y="294"/>
                        </a:lnTo>
                        <a:lnTo>
                          <a:pt x="129" y="309"/>
                        </a:lnTo>
                        <a:lnTo>
                          <a:pt x="108" y="317"/>
                        </a:lnTo>
                        <a:lnTo>
                          <a:pt x="108" y="308"/>
                        </a:lnTo>
                        <a:lnTo>
                          <a:pt x="82" y="318"/>
                        </a:lnTo>
                        <a:lnTo>
                          <a:pt x="61" y="315"/>
                        </a:lnTo>
                        <a:lnTo>
                          <a:pt x="46" y="304"/>
                        </a:lnTo>
                        <a:lnTo>
                          <a:pt x="34" y="286"/>
                        </a:lnTo>
                        <a:lnTo>
                          <a:pt x="25" y="263"/>
                        </a:lnTo>
                        <a:lnTo>
                          <a:pt x="17" y="240"/>
                        </a:lnTo>
                        <a:lnTo>
                          <a:pt x="9" y="217"/>
                        </a:lnTo>
                        <a:lnTo>
                          <a:pt x="0" y="200"/>
                        </a:lnTo>
                        <a:lnTo>
                          <a:pt x="5" y="189"/>
                        </a:lnTo>
                        <a:lnTo>
                          <a:pt x="7" y="177"/>
                        </a:lnTo>
                        <a:lnTo>
                          <a:pt x="9" y="162"/>
                        </a:lnTo>
                        <a:lnTo>
                          <a:pt x="11" y="148"/>
                        </a:lnTo>
                        <a:lnTo>
                          <a:pt x="15" y="137"/>
                        </a:lnTo>
                        <a:lnTo>
                          <a:pt x="20" y="128"/>
                        </a:lnTo>
                        <a:lnTo>
                          <a:pt x="29" y="124"/>
                        </a:lnTo>
                        <a:lnTo>
                          <a:pt x="41" y="127"/>
                        </a:lnTo>
                        <a:lnTo>
                          <a:pt x="56" y="134"/>
                        </a:lnTo>
                        <a:lnTo>
                          <a:pt x="70" y="136"/>
                        </a:lnTo>
                        <a:lnTo>
                          <a:pt x="83" y="133"/>
                        </a:lnTo>
                        <a:lnTo>
                          <a:pt x="97" y="128"/>
                        </a:lnTo>
                        <a:lnTo>
                          <a:pt x="110" y="122"/>
                        </a:lnTo>
                        <a:lnTo>
                          <a:pt x="123" y="114"/>
                        </a:lnTo>
                        <a:lnTo>
                          <a:pt x="136" y="107"/>
                        </a:lnTo>
                        <a:lnTo>
                          <a:pt x="149" y="101"/>
                        </a:lnTo>
                        <a:lnTo>
                          <a:pt x="158" y="83"/>
                        </a:lnTo>
                        <a:lnTo>
                          <a:pt x="154" y="65"/>
                        </a:lnTo>
                        <a:lnTo>
                          <a:pt x="146" y="46"/>
                        </a:lnTo>
                        <a:lnTo>
                          <a:pt x="141" y="26"/>
                        </a:lnTo>
                        <a:lnTo>
                          <a:pt x="133" y="26"/>
                        </a:lnTo>
                        <a:lnTo>
                          <a:pt x="136" y="14"/>
                        </a:lnTo>
                        <a:lnTo>
                          <a:pt x="142" y="7"/>
                        </a:lnTo>
                        <a:lnTo>
                          <a:pt x="152" y="2"/>
                        </a:lnTo>
                        <a:lnTo>
                          <a:pt x="166" y="0"/>
                        </a:lnTo>
                        <a:lnTo>
                          <a:pt x="179" y="2"/>
                        </a:lnTo>
                        <a:lnTo>
                          <a:pt x="193" y="4"/>
                        </a:lnTo>
                        <a:lnTo>
                          <a:pt x="205" y="8"/>
                        </a:lnTo>
                        <a:lnTo>
                          <a:pt x="215" y="12"/>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flipH="1">
                    <a:off x="3546360" y="2754000"/>
                    <a:ext cx="102960" cy="57600"/>
                  </a:xfrm>
                  <a:custGeom>
                    <a:avLst/>
                    <a:gdLst/>
                    <a:ahLst/>
                    <a:rect l="l" t="t" r="r" b="b"/>
                    <a:pathLst>
                      <a:path w="368" h="275">
                        <a:moveTo>
                          <a:pt x="185" y="59"/>
                        </a:moveTo>
                        <a:lnTo>
                          <a:pt x="191" y="68"/>
                        </a:lnTo>
                        <a:lnTo>
                          <a:pt x="200" y="73"/>
                        </a:lnTo>
                        <a:lnTo>
                          <a:pt x="210" y="77"/>
                        </a:lnTo>
                        <a:lnTo>
                          <a:pt x="221" y="78"/>
                        </a:lnTo>
                        <a:lnTo>
                          <a:pt x="234" y="78"/>
                        </a:lnTo>
                        <a:lnTo>
                          <a:pt x="246" y="78"/>
                        </a:lnTo>
                        <a:lnTo>
                          <a:pt x="257" y="80"/>
                        </a:lnTo>
                        <a:lnTo>
                          <a:pt x="268" y="83"/>
                        </a:lnTo>
                        <a:lnTo>
                          <a:pt x="292" y="100"/>
                        </a:lnTo>
                        <a:lnTo>
                          <a:pt x="309" y="121"/>
                        </a:lnTo>
                        <a:lnTo>
                          <a:pt x="322" y="145"/>
                        </a:lnTo>
                        <a:lnTo>
                          <a:pt x="332" y="171"/>
                        </a:lnTo>
                        <a:lnTo>
                          <a:pt x="341" y="197"/>
                        </a:lnTo>
                        <a:lnTo>
                          <a:pt x="348" y="223"/>
                        </a:lnTo>
                        <a:lnTo>
                          <a:pt x="357" y="249"/>
                        </a:lnTo>
                        <a:lnTo>
                          <a:pt x="368" y="274"/>
                        </a:lnTo>
                        <a:lnTo>
                          <a:pt x="351" y="274"/>
                        </a:lnTo>
                        <a:lnTo>
                          <a:pt x="333" y="275"/>
                        </a:lnTo>
                        <a:lnTo>
                          <a:pt x="316" y="275"/>
                        </a:lnTo>
                        <a:lnTo>
                          <a:pt x="297" y="275"/>
                        </a:lnTo>
                        <a:lnTo>
                          <a:pt x="280" y="274"/>
                        </a:lnTo>
                        <a:lnTo>
                          <a:pt x="261" y="274"/>
                        </a:lnTo>
                        <a:lnTo>
                          <a:pt x="242" y="273"/>
                        </a:lnTo>
                        <a:lnTo>
                          <a:pt x="224" y="271"/>
                        </a:lnTo>
                        <a:lnTo>
                          <a:pt x="205" y="270"/>
                        </a:lnTo>
                        <a:lnTo>
                          <a:pt x="187" y="268"/>
                        </a:lnTo>
                        <a:lnTo>
                          <a:pt x="169" y="265"/>
                        </a:lnTo>
                        <a:lnTo>
                          <a:pt x="151" y="261"/>
                        </a:lnTo>
                        <a:lnTo>
                          <a:pt x="134" y="258"/>
                        </a:lnTo>
                        <a:lnTo>
                          <a:pt x="118" y="253"/>
                        </a:lnTo>
                        <a:lnTo>
                          <a:pt x="102" y="248"/>
                        </a:lnTo>
                        <a:lnTo>
                          <a:pt x="85" y="242"/>
                        </a:lnTo>
                        <a:lnTo>
                          <a:pt x="84" y="233"/>
                        </a:lnTo>
                        <a:lnTo>
                          <a:pt x="90" y="222"/>
                        </a:lnTo>
                        <a:lnTo>
                          <a:pt x="100" y="209"/>
                        </a:lnTo>
                        <a:lnTo>
                          <a:pt x="110" y="196"/>
                        </a:lnTo>
                        <a:lnTo>
                          <a:pt x="118" y="183"/>
                        </a:lnTo>
                        <a:lnTo>
                          <a:pt x="118" y="172"/>
                        </a:lnTo>
                        <a:lnTo>
                          <a:pt x="108" y="163"/>
                        </a:lnTo>
                        <a:lnTo>
                          <a:pt x="85" y="158"/>
                        </a:lnTo>
                        <a:lnTo>
                          <a:pt x="2" y="166"/>
                        </a:lnTo>
                        <a:lnTo>
                          <a:pt x="2" y="150"/>
                        </a:lnTo>
                        <a:lnTo>
                          <a:pt x="14" y="147"/>
                        </a:lnTo>
                        <a:lnTo>
                          <a:pt x="18" y="137"/>
                        </a:lnTo>
                        <a:lnTo>
                          <a:pt x="21" y="126"/>
                        </a:lnTo>
                        <a:lnTo>
                          <a:pt x="28" y="118"/>
                        </a:lnTo>
                        <a:lnTo>
                          <a:pt x="28" y="101"/>
                        </a:lnTo>
                        <a:lnTo>
                          <a:pt x="23" y="87"/>
                        </a:lnTo>
                        <a:lnTo>
                          <a:pt x="18" y="73"/>
                        </a:lnTo>
                        <a:lnTo>
                          <a:pt x="12" y="60"/>
                        </a:lnTo>
                        <a:lnTo>
                          <a:pt x="6" y="47"/>
                        </a:lnTo>
                        <a:lnTo>
                          <a:pt x="1" y="33"/>
                        </a:lnTo>
                        <a:lnTo>
                          <a:pt x="0" y="17"/>
                        </a:lnTo>
                        <a:lnTo>
                          <a:pt x="2" y="1"/>
                        </a:lnTo>
                        <a:lnTo>
                          <a:pt x="26" y="0"/>
                        </a:lnTo>
                        <a:lnTo>
                          <a:pt x="48" y="5"/>
                        </a:lnTo>
                        <a:lnTo>
                          <a:pt x="70" y="15"/>
                        </a:lnTo>
                        <a:lnTo>
                          <a:pt x="92" y="27"/>
                        </a:lnTo>
                        <a:lnTo>
                          <a:pt x="113" y="39"/>
                        </a:lnTo>
                        <a:lnTo>
                          <a:pt x="135" y="51"/>
                        </a:lnTo>
                        <a:lnTo>
                          <a:pt x="159" y="58"/>
                        </a:lnTo>
                        <a:lnTo>
                          <a:pt x="185" y="59"/>
                        </a:lnTo>
                        <a:close/>
                      </a:path>
                    </a:pathLst>
                  </a:custGeom>
                  <a:solidFill>
                    <a:srgbClr val="9ed67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581" name=""/>
                  <p:cNvSpPr/>
                  <p:nvPr/>
                </p:nvSpPr>
                <p:spPr>
                  <a:xfrm flipH="1">
                    <a:off x="3660120" y="2769480"/>
                    <a:ext cx="39240" cy="31680"/>
                  </a:xfrm>
                  <a:custGeom>
                    <a:avLst/>
                    <a:gdLst/>
                    <a:ahLst/>
                    <a:rect l="l" t="t" r="r" b="b"/>
                    <a:pathLst>
                      <a:path w="141" h="152">
                        <a:moveTo>
                          <a:pt x="141" y="45"/>
                        </a:moveTo>
                        <a:lnTo>
                          <a:pt x="124" y="56"/>
                        </a:lnTo>
                        <a:lnTo>
                          <a:pt x="116" y="68"/>
                        </a:lnTo>
                        <a:lnTo>
                          <a:pt x="117" y="82"/>
                        </a:lnTo>
                        <a:lnTo>
                          <a:pt x="122" y="95"/>
                        </a:lnTo>
                        <a:lnTo>
                          <a:pt x="129" y="110"/>
                        </a:lnTo>
                        <a:lnTo>
                          <a:pt x="132" y="125"/>
                        </a:lnTo>
                        <a:lnTo>
                          <a:pt x="129" y="139"/>
                        </a:lnTo>
                        <a:lnTo>
                          <a:pt x="116" y="151"/>
                        </a:lnTo>
                        <a:lnTo>
                          <a:pt x="102" y="152"/>
                        </a:lnTo>
                        <a:lnTo>
                          <a:pt x="89" y="152"/>
                        </a:lnTo>
                        <a:lnTo>
                          <a:pt x="75" y="151"/>
                        </a:lnTo>
                        <a:lnTo>
                          <a:pt x="61" y="149"/>
                        </a:lnTo>
                        <a:lnTo>
                          <a:pt x="49" y="145"/>
                        </a:lnTo>
                        <a:lnTo>
                          <a:pt x="36" y="139"/>
                        </a:lnTo>
                        <a:lnTo>
                          <a:pt x="26" y="130"/>
                        </a:lnTo>
                        <a:lnTo>
                          <a:pt x="16" y="119"/>
                        </a:lnTo>
                        <a:lnTo>
                          <a:pt x="12" y="108"/>
                        </a:lnTo>
                        <a:lnTo>
                          <a:pt x="3" y="92"/>
                        </a:lnTo>
                        <a:lnTo>
                          <a:pt x="0" y="76"/>
                        </a:lnTo>
                        <a:lnTo>
                          <a:pt x="9" y="61"/>
                        </a:lnTo>
                        <a:lnTo>
                          <a:pt x="26" y="56"/>
                        </a:lnTo>
                        <a:lnTo>
                          <a:pt x="40" y="46"/>
                        </a:lnTo>
                        <a:lnTo>
                          <a:pt x="53" y="35"/>
                        </a:lnTo>
                        <a:lnTo>
                          <a:pt x="64" y="22"/>
                        </a:lnTo>
                        <a:lnTo>
                          <a:pt x="75" y="11"/>
                        </a:lnTo>
                        <a:lnTo>
                          <a:pt x="87" y="4"/>
                        </a:lnTo>
                        <a:lnTo>
                          <a:pt x="104" y="0"/>
                        </a:lnTo>
                        <a:lnTo>
                          <a:pt x="125" y="4"/>
                        </a:lnTo>
                        <a:lnTo>
                          <a:pt x="141" y="45"/>
                        </a:lnTo>
                        <a:close/>
                      </a:path>
                    </a:pathLst>
                  </a:custGeom>
                  <a:solidFill>
                    <a:srgbClr val="9ed67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82" name=""/>
                  <p:cNvSpPr/>
                  <p:nvPr/>
                </p:nvSpPr>
                <p:spPr>
                  <a:xfrm flipH="1">
                    <a:off x="3750480" y="2775240"/>
                    <a:ext cx="373680" cy="224280"/>
                  </a:xfrm>
                  <a:custGeom>
                    <a:avLst/>
                    <a:gdLst/>
                    <a:ahLst/>
                    <a:rect l="l" t="t" r="r" b="b"/>
                    <a:pathLst>
                      <a:path w="1336" h="1068">
                        <a:moveTo>
                          <a:pt x="189" y="0"/>
                        </a:moveTo>
                        <a:lnTo>
                          <a:pt x="171" y="16"/>
                        </a:lnTo>
                        <a:lnTo>
                          <a:pt x="156" y="35"/>
                        </a:lnTo>
                        <a:lnTo>
                          <a:pt x="145" y="57"/>
                        </a:lnTo>
                        <a:lnTo>
                          <a:pt x="137" y="81"/>
                        </a:lnTo>
                        <a:lnTo>
                          <a:pt x="132" y="106"/>
                        </a:lnTo>
                        <a:lnTo>
                          <a:pt x="131" y="132"/>
                        </a:lnTo>
                        <a:lnTo>
                          <a:pt x="133" y="156"/>
                        </a:lnTo>
                        <a:lnTo>
                          <a:pt x="140" y="183"/>
                        </a:lnTo>
                        <a:lnTo>
                          <a:pt x="156" y="210"/>
                        </a:lnTo>
                        <a:lnTo>
                          <a:pt x="174" y="235"/>
                        </a:lnTo>
                        <a:lnTo>
                          <a:pt x="194" y="258"/>
                        </a:lnTo>
                        <a:lnTo>
                          <a:pt x="217" y="281"/>
                        </a:lnTo>
                        <a:lnTo>
                          <a:pt x="242" y="302"/>
                        </a:lnTo>
                        <a:lnTo>
                          <a:pt x="266" y="320"/>
                        </a:lnTo>
                        <a:lnTo>
                          <a:pt x="294" y="339"/>
                        </a:lnTo>
                        <a:lnTo>
                          <a:pt x="321" y="355"/>
                        </a:lnTo>
                        <a:lnTo>
                          <a:pt x="350" y="372"/>
                        </a:lnTo>
                        <a:lnTo>
                          <a:pt x="380" y="387"/>
                        </a:lnTo>
                        <a:lnTo>
                          <a:pt x="410" y="402"/>
                        </a:lnTo>
                        <a:lnTo>
                          <a:pt x="439" y="417"/>
                        </a:lnTo>
                        <a:lnTo>
                          <a:pt x="468" y="431"/>
                        </a:lnTo>
                        <a:lnTo>
                          <a:pt x="498" y="444"/>
                        </a:lnTo>
                        <a:lnTo>
                          <a:pt x="527" y="459"/>
                        </a:lnTo>
                        <a:lnTo>
                          <a:pt x="555" y="473"/>
                        </a:lnTo>
                        <a:lnTo>
                          <a:pt x="588" y="483"/>
                        </a:lnTo>
                        <a:lnTo>
                          <a:pt x="619" y="493"/>
                        </a:lnTo>
                        <a:lnTo>
                          <a:pt x="651" y="503"/>
                        </a:lnTo>
                        <a:lnTo>
                          <a:pt x="682" y="512"/>
                        </a:lnTo>
                        <a:lnTo>
                          <a:pt x="715" y="522"/>
                        </a:lnTo>
                        <a:lnTo>
                          <a:pt x="747" y="534"/>
                        </a:lnTo>
                        <a:lnTo>
                          <a:pt x="778" y="543"/>
                        </a:lnTo>
                        <a:lnTo>
                          <a:pt x="809" y="555"/>
                        </a:lnTo>
                        <a:lnTo>
                          <a:pt x="841" y="566"/>
                        </a:lnTo>
                        <a:lnTo>
                          <a:pt x="873" y="578"/>
                        </a:lnTo>
                        <a:lnTo>
                          <a:pt x="902" y="592"/>
                        </a:lnTo>
                        <a:lnTo>
                          <a:pt x="934" y="606"/>
                        </a:lnTo>
                        <a:lnTo>
                          <a:pt x="963" y="619"/>
                        </a:lnTo>
                        <a:lnTo>
                          <a:pt x="993" y="635"/>
                        </a:lnTo>
                        <a:lnTo>
                          <a:pt x="1023" y="653"/>
                        </a:lnTo>
                        <a:lnTo>
                          <a:pt x="1052" y="670"/>
                        </a:lnTo>
                        <a:lnTo>
                          <a:pt x="1074" y="681"/>
                        </a:lnTo>
                        <a:lnTo>
                          <a:pt x="1098" y="691"/>
                        </a:lnTo>
                        <a:lnTo>
                          <a:pt x="1122" y="702"/>
                        </a:lnTo>
                        <a:lnTo>
                          <a:pt x="1146" y="715"/>
                        </a:lnTo>
                        <a:lnTo>
                          <a:pt x="1171" y="726"/>
                        </a:lnTo>
                        <a:lnTo>
                          <a:pt x="1196" y="738"/>
                        </a:lnTo>
                        <a:lnTo>
                          <a:pt x="1220" y="752"/>
                        </a:lnTo>
                        <a:lnTo>
                          <a:pt x="1242" y="767"/>
                        </a:lnTo>
                        <a:lnTo>
                          <a:pt x="1263" y="783"/>
                        </a:lnTo>
                        <a:lnTo>
                          <a:pt x="1283" y="799"/>
                        </a:lnTo>
                        <a:lnTo>
                          <a:pt x="1300" y="818"/>
                        </a:lnTo>
                        <a:lnTo>
                          <a:pt x="1313" y="837"/>
                        </a:lnTo>
                        <a:lnTo>
                          <a:pt x="1324" y="859"/>
                        </a:lnTo>
                        <a:lnTo>
                          <a:pt x="1332" y="882"/>
                        </a:lnTo>
                        <a:lnTo>
                          <a:pt x="1336" y="907"/>
                        </a:lnTo>
                        <a:lnTo>
                          <a:pt x="1334" y="934"/>
                        </a:lnTo>
                        <a:lnTo>
                          <a:pt x="1322" y="954"/>
                        </a:lnTo>
                        <a:lnTo>
                          <a:pt x="1308" y="974"/>
                        </a:lnTo>
                        <a:lnTo>
                          <a:pt x="1293" y="994"/>
                        </a:lnTo>
                        <a:lnTo>
                          <a:pt x="1278" y="1011"/>
                        </a:lnTo>
                        <a:lnTo>
                          <a:pt x="1261" y="1029"/>
                        </a:lnTo>
                        <a:lnTo>
                          <a:pt x="1243" y="1045"/>
                        </a:lnTo>
                        <a:lnTo>
                          <a:pt x="1224" y="1057"/>
                        </a:lnTo>
                        <a:lnTo>
                          <a:pt x="1201" y="1067"/>
                        </a:lnTo>
                        <a:lnTo>
                          <a:pt x="1183" y="1068"/>
                        </a:lnTo>
                        <a:lnTo>
                          <a:pt x="1165" y="1068"/>
                        </a:lnTo>
                        <a:lnTo>
                          <a:pt x="1149" y="1066"/>
                        </a:lnTo>
                        <a:lnTo>
                          <a:pt x="1133" y="1063"/>
                        </a:lnTo>
                        <a:lnTo>
                          <a:pt x="1117" y="1061"/>
                        </a:lnTo>
                        <a:lnTo>
                          <a:pt x="1099" y="1057"/>
                        </a:lnTo>
                        <a:lnTo>
                          <a:pt x="1080" y="1053"/>
                        </a:lnTo>
                        <a:lnTo>
                          <a:pt x="1061" y="1051"/>
                        </a:lnTo>
                        <a:lnTo>
                          <a:pt x="1083" y="1040"/>
                        </a:lnTo>
                        <a:lnTo>
                          <a:pt x="1104" y="1026"/>
                        </a:lnTo>
                        <a:lnTo>
                          <a:pt x="1124" y="1012"/>
                        </a:lnTo>
                        <a:lnTo>
                          <a:pt x="1143" y="995"/>
                        </a:lnTo>
                        <a:lnTo>
                          <a:pt x="1159" y="978"/>
                        </a:lnTo>
                        <a:lnTo>
                          <a:pt x="1174" y="959"/>
                        </a:lnTo>
                        <a:lnTo>
                          <a:pt x="1189" y="939"/>
                        </a:lnTo>
                        <a:lnTo>
                          <a:pt x="1201" y="918"/>
                        </a:lnTo>
                        <a:lnTo>
                          <a:pt x="1204" y="895"/>
                        </a:lnTo>
                        <a:lnTo>
                          <a:pt x="1202" y="875"/>
                        </a:lnTo>
                        <a:lnTo>
                          <a:pt x="1197" y="856"/>
                        </a:lnTo>
                        <a:lnTo>
                          <a:pt x="1190" y="839"/>
                        </a:lnTo>
                        <a:lnTo>
                          <a:pt x="1180" y="824"/>
                        </a:lnTo>
                        <a:lnTo>
                          <a:pt x="1169" y="810"/>
                        </a:lnTo>
                        <a:lnTo>
                          <a:pt x="1154" y="798"/>
                        </a:lnTo>
                        <a:lnTo>
                          <a:pt x="1139" y="785"/>
                        </a:lnTo>
                        <a:lnTo>
                          <a:pt x="1122" y="775"/>
                        </a:lnTo>
                        <a:lnTo>
                          <a:pt x="1104" y="766"/>
                        </a:lnTo>
                        <a:lnTo>
                          <a:pt x="1087" y="757"/>
                        </a:lnTo>
                        <a:lnTo>
                          <a:pt x="1068" y="748"/>
                        </a:lnTo>
                        <a:lnTo>
                          <a:pt x="1051" y="739"/>
                        </a:lnTo>
                        <a:lnTo>
                          <a:pt x="1033" y="731"/>
                        </a:lnTo>
                        <a:lnTo>
                          <a:pt x="1017" y="721"/>
                        </a:lnTo>
                        <a:lnTo>
                          <a:pt x="1002" y="712"/>
                        </a:lnTo>
                        <a:lnTo>
                          <a:pt x="988" y="708"/>
                        </a:lnTo>
                        <a:lnTo>
                          <a:pt x="973" y="705"/>
                        </a:lnTo>
                        <a:lnTo>
                          <a:pt x="960" y="700"/>
                        </a:lnTo>
                        <a:lnTo>
                          <a:pt x="946" y="695"/>
                        </a:lnTo>
                        <a:lnTo>
                          <a:pt x="934" y="689"/>
                        </a:lnTo>
                        <a:lnTo>
                          <a:pt x="920" y="682"/>
                        </a:lnTo>
                        <a:lnTo>
                          <a:pt x="906" y="677"/>
                        </a:lnTo>
                        <a:lnTo>
                          <a:pt x="893" y="671"/>
                        </a:lnTo>
                        <a:lnTo>
                          <a:pt x="880" y="665"/>
                        </a:lnTo>
                        <a:lnTo>
                          <a:pt x="866" y="660"/>
                        </a:lnTo>
                        <a:lnTo>
                          <a:pt x="853" y="655"/>
                        </a:lnTo>
                        <a:lnTo>
                          <a:pt x="839" y="650"/>
                        </a:lnTo>
                        <a:lnTo>
                          <a:pt x="824" y="646"/>
                        </a:lnTo>
                        <a:lnTo>
                          <a:pt x="809" y="643"/>
                        </a:lnTo>
                        <a:lnTo>
                          <a:pt x="794" y="640"/>
                        </a:lnTo>
                        <a:lnTo>
                          <a:pt x="779" y="638"/>
                        </a:lnTo>
                        <a:lnTo>
                          <a:pt x="737" y="620"/>
                        </a:lnTo>
                        <a:lnTo>
                          <a:pt x="693" y="604"/>
                        </a:lnTo>
                        <a:lnTo>
                          <a:pt x="650" y="589"/>
                        </a:lnTo>
                        <a:lnTo>
                          <a:pt x="606" y="574"/>
                        </a:lnTo>
                        <a:lnTo>
                          <a:pt x="563" y="561"/>
                        </a:lnTo>
                        <a:lnTo>
                          <a:pt x="518" y="548"/>
                        </a:lnTo>
                        <a:lnTo>
                          <a:pt x="474" y="535"/>
                        </a:lnTo>
                        <a:lnTo>
                          <a:pt x="430" y="521"/>
                        </a:lnTo>
                        <a:lnTo>
                          <a:pt x="386" y="508"/>
                        </a:lnTo>
                        <a:lnTo>
                          <a:pt x="342" y="491"/>
                        </a:lnTo>
                        <a:lnTo>
                          <a:pt x="300" y="475"/>
                        </a:lnTo>
                        <a:lnTo>
                          <a:pt x="258" y="458"/>
                        </a:lnTo>
                        <a:lnTo>
                          <a:pt x="217" y="438"/>
                        </a:lnTo>
                        <a:lnTo>
                          <a:pt x="176" y="416"/>
                        </a:lnTo>
                        <a:lnTo>
                          <a:pt x="137" y="391"/>
                        </a:lnTo>
                        <a:lnTo>
                          <a:pt x="98" y="364"/>
                        </a:lnTo>
                        <a:lnTo>
                          <a:pt x="80" y="339"/>
                        </a:lnTo>
                        <a:lnTo>
                          <a:pt x="61" y="314"/>
                        </a:lnTo>
                        <a:lnTo>
                          <a:pt x="41" y="289"/>
                        </a:lnTo>
                        <a:lnTo>
                          <a:pt x="24" y="263"/>
                        </a:lnTo>
                        <a:lnTo>
                          <a:pt x="10" y="237"/>
                        </a:lnTo>
                        <a:lnTo>
                          <a:pt x="1" y="207"/>
                        </a:lnTo>
                        <a:lnTo>
                          <a:pt x="0" y="176"/>
                        </a:lnTo>
                        <a:lnTo>
                          <a:pt x="6" y="142"/>
                        </a:lnTo>
                        <a:lnTo>
                          <a:pt x="21" y="116"/>
                        </a:lnTo>
                        <a:lnTo>
                          <a:pt x="40" y="92"/>
                        </a:lnTo>
                        <a:lnTo>
                          <a:pt x="61" y="71"/>
                        </a:lnTo>
                        <a:lnTo>
                          <a:pt x="85" y="52"/>
                        </a:lnTo>
                        <a:lnTo>
                          <a:pt x="110" y="35"/>
                        </a:lnTo>
                        <a:lnTo>
                          <a:pt x="136" y="21"/>
                        </a:lnTo>
                        <a:lnTo>
                          <a:pt x="162" y="9"/>
                        </a:lnTo>
                        <a:lnTo>
                          <a:pt x="189" y="0"/>
                        </a:lnTo>
                        <a:close/>
                      </a:path>
                    </a:pathLst>
                  </a:custGeom>
                  <a:solidFill>
                    <a:srgbClr val="9ed6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flipH="1">
                    <a:off x="3275640" y="2816280"/>
                    <a:ext cx="168480" cy="73440"/>
                  </a:xfrm>
                  <a:custGeom>
                    <a:avLst/>
                    <a:gdLst/>
                    <a:ahLst/>
                    <a:rect l="l" t="t" r="r" b="b"/>
                    <a:pathLst>
                      <a:path w="603" h="351">
                        <a:moveTo>
                          <a:pt x="514" y="12"/>
                        </a:moveTo>
                        <a:lnTo>
                          <a:pt x="522" y="27"/>
                        </a:lnTo>
                        <a:lnTo>
                          <a:pt x="537" y="35"/>
                        </a:lnTo>
                        <a:lnTo>
                          <a:pt x="557" y="38"/>
                        </a:lnTo>
                        <a:lnTo>
                          <a:pt x="577" y="41"/>
                        </a:lnTo>
                        <a:lnTo>
                          <a:pt x="593" y="45"/>
                        </a:lnTo>
                        <a:lnTo>
                          <a:pt x="603" y="53"/>
                        </a:lnTo>
                        <a:lnTo>
                          <a:pt x="603" y="69"/>
                        </a:lnTo>
                        <a:lnTo>
                          <a:pt x="590" y="95"/>
                        </a:lnTo>
                        <a:lnTo>
                          <a:pt x="583" y="105"/>
                        </a:lnTo>
                        <a:lnTo>
                          <a:pt x="575" y="114"/>
                        </a:lnTo>
                        <a:lnTo>
                          <a:pt x="567" y="124"/>
                        </a:lnTo>
                        <a:lnTo>
                          <a:pt x="563" y="136"/>
                        </a:lnTo>
                        <a:lnTo>
                          <a:pt x="542" y="129"/>
                        </a:lnTo>
                        <a:lnTo>
                          <a:pt x="522" y="117"/>
                        </a:lnTo>
                        <a:lnTo>
                          <a:pt x="504" y="103"/>
                        </a:lnTo>
                        <a:lnTo>
                          <a:pt x="485" y="88"/>
                        </a:lnTo>
                        <a:lnTo>
                          <a:pt x="466" y="74"/>
                        </a:lnTo>
                        <a:lnTo>
                          <a:pt x="446" y="64"/>
                        </a:lnTo>
                        <a:lnTo>
                          <a:pt x="423" y="59"/>
                        </a:lnTo>
                        <a:lnTo>
                          <a:pt x="398" y="62"/>
                        </a:lnTo>
                        <a:lnTo>
                          <a:pt x="389" y="59"/>
                        </a:lnTo>
                        <a:lnTo>
                          <a:pt x="380" y="59"/>
                        </a:lnTo>
                        <a:lnTo>
                          <a:pt x="372" y="61"/>
                        </a:lnTo>
                        <a:lnTo>
                          <a:pt x="362" y="64"/>
                        </a:lnTo>
                        <a:lnTo>
                          <a:pt x="352" y="68"/>
                        </a:lnTo>
                        <a:lnTo>
                          <a:pt x="342" y="72"/>
                        </a:lnTo>
                        <a:lnTo>
                          <a:pt x="333" y="76"/>
                        </a:lnTo>
                        <a:lnTo>
                          <a:pt x="323" y="78"/>
                        </a:lnTo>
                        <a:lnTo>
                          <a:pt x="329" y="98"/>
                        </a:lnTo>
                        <a:lnTo>
                          <a:pt x="339" y="115"/>
                        </a:lnTo>
                        <a:lnTo>
                          <a:pt x="349" y="130"/>
                        </a:lnTo>
                        <a:lnTo>
                          <a:pt x="361" y="144"/>
                        </a:lnTo>
                        <a:lnTo>
                          <a:pt x="370" y="157"/>
                        </a:lnTo>
                        <a:lnTo>
                          <a:pt x="378" y="172"/>
                        </a:lnTo>
                        <a:lnTo>
                          <a:pt x="382" y="190"/>
                        </a:lnTo>
                        <a:lnTo>
                          <a:pt x="382" y="211"/>
                        </a:lnTo>
                        <a:lnTo>
                          <a:pt x="366" y="219"/>
                        </a:lnTo>
                        <a:lnTo>
                          <a:pt x="354" y="232"/>
                        </a:lnTo>
                        <a:lnTo>
                          <a:pt x="346" y="246"/>
                        </a:lnTo>
                        <a:lnTo>
                          <a:pt x="341" y="260"/>
                        </a:lnTo>
                        <a:lnTo>
                          <a:pt x="337" y="277"/>
                        </a:lnTo>
                        <a:lnTo>
                          <a:pt x="334" y="291"/>
                        </a:lnTo>
                        <a:lnTo>
                          <a:pt x="333" y="306"/>
                        </a:lnTo>
                        <a:lnTo>
                          <a:pt x="332" y="319"/>
                        </a:lnTo>
                        <a:lnTo>
                          <a:pt x="311" y="319"/>
                        </a:lnTo>
                        <a:lnTo>
                          <a:pt x="291" y="322"/>
                        </a:lnTo>
                        <a:lnTo>
                          <a:pt x="272" y="327"/>
                        </a:lnTo>
                        <a:lnTo>
                          <a:pt x="253" y="335"/>
                        </a:lnTo>
                        <a:lnTo>
                          <a:pt x="235" y="341"/>
                        </a:lnTo>
                        <a:lnTo>
                          <a:pt x="215" y="346"/>
                        </a:lnTo>
                        <a:lnTo>
                          <a:pt x="196" y="350"/>
                        </a:lnTo>
                        <a:lnTo>
                          <a:pt x="175" y="351"/>
                        </a:lnTo>
                        <a:lnTo>
                          <a:pt x="171" y="339"/>
                        </a:lnTo>
                        <a:lnTo>
                          <a:pt x="168" y="325"/>
                        </a:lnTo>
                        <a:lnTo>
                          <a:pt x="165" y="311"/>
                        </a:lnTo>
                        <a:lnTo>
                          <a:pt x="164" y="299"/>
                        </a:lnTo>
                        <a:lnTo>
                          <a:pt x="165" y="288"/>
                        </a:lnTo>
                        <a:lnTo>
                          <a:pt x="171" y="279"/>
                        </a:lnTo>
                        <a:lnTo>
                          <a:pt x="181" y="273"/>
                        </a:lnTo>
                        <a:lnTo>
                          <a:pt x="199" y="269"/>
                        </a:lnTo>
                        <a:lnTo>
                          <a:pt x="184" y="258"/>
                        </a:lnTo>
                        <a:lnTo>
                          <a:pt x="168" y="248"/>
                        </a:lnTo>
                        <a:lnTo>
                          <a:pt x="150" y="241"/>
                        </a:lnTo>
                        <a:lnTo>
                          <a:pt x="133" y="234"/>
                        </a:lnTo>
                        <a:lnTo>
                          <a:pt x="114" y="228"/>
                        </a:lnTo>
                        <a:lnTo>
                          <a:pt x="95" y="224"/>
                        </a:lnTo>
                        <a:lnTo>
                          <a:pt x="77" y="221"/>
                        </a:lnTo>
                        <a:lnTo>
                          <a:pt x="57" y="218"/>
                        </a:lnTo>
                        <a:lnTo>
                          <a:pt x="61" y="208"/>
                        </a:lnTo>
                        <a:lnTo>
                          <a:pt x="68" y="200"/>
                        </a:lnTo>
                        <a:lnTo>
                          <a:pt x="76" y="192"/>
                        </a:lnTo>
                        <a:lnTo>
                          <a:pt x="85" y="183"/>
                        </a:lnTo>
                        <a:lnTo>
                          <a:pt x="93" y="176"/>
                        </a:lnTo>
                        <a:lnTo>
                          <a:pt x="99" y="167"/>
                        </a:lnTo>
                        <a:lnTo>
                          <a:pt x="102" y="157"/>
                        </a:lnTo>
                        <a:lnTo>
                          <a:pt x="99" y="145"/>
                        </a:lnTo>
                        <a:lnTo>
                          <a:pt x="88" y="141"/>
                        </a:lnTo>
                        <a:lnTo>
                          <a:pt x="77" y="136"/>
                        </a:lnTo>
                        <a:lnTo>
                          <a:pt x="64" y="133"/>
                        </a:lnTo>
                        <a:lnTo>
                          <a:pt x="53" y="128"/>
                        </a:lnTo>
                        <a:lnTo>
                          <a:pt x="39" y="124"/>
                        </a:lnTo>
                        <a:lnTo>
                          <a:pt x="27" y="120"/>
                        </a:lnTo>
                        <a:lnTo>
                          <a:pt x="13" y="115"/>
                        </a:lnTo>
                        <a:lnTo>
                          <a:pt x="0" y="112"/>
                        </a:lnTo>
                        <a:lnTo>
                          <a:pt x="16" y="110"/>
                        </a:lnTo>
                        <a:lnTo>
                          <a:pt x="32" y="107"/>
                        </a:lnTo>
                        <a:lnTo>
                          <a:pt x="47" y="102"/>
                        </a:lnTo>
                        <a:lnTo>
                          <a:pt x="62" y="95"/>
                        </a:lnTo>
                        <a:lnTo>
                          <a:pt x="77" y="89"/>
                        </a:lnTo>
                        <a:lnTo>
                          <a:pt x="92" y="84"/>
                        </a:lnTo>
                        <a:lnTo>
                          <a:pt x="108" y="81"/>
                        </a:lnTo>
                        <a:lnTo>
                          <a:pt x="124" y="78"/>
                        </a:lnTo>
                        <a:lnTo>
                          <a:pt x="120" y="95"/>
                        </a:lnTo>
                        <a:lnTo>
                          <a:pt x="122" y="112"/>
                        </a:lnTo>
                        <a:lnTo>
                          <a:pt x="129" y="125"/>
                        </a:lnTo>
                        <a:lnTo>
                          <a:pt x="140" y="138"/>
                        </a:lnTo>
                        <a:lnTo>
                          <a:pt x="154" y="149"/>
                        </a:lnTo>
                        <a:lnTo>
                          <a:pt x="169" y="160"/>
                        </a:lnTo>
                        <a:lnTo>
                          <a:pt x="184" y="169"/>
                        </a:lnTo>
                        <a:lnTo>
                          <a:pt x="199" y="177"/>
                        </a:lnTo>
                        <a:lnTo>
                          <a:pt x="207" y="177"/>
                        </a:lnTo>
                        <a:lnTo>
                          <a:pt x="215" y="180"/>
                        </a:lnTo>
                        <a:lnTo>
                          <a:pt x="222" y="182"/>
                        </a:lnTo>
                        <a:lnTo>
                          <a:pt x="229" y="187"/>
                        </a:lnTo>
                        <a:lnTo>
                          <a:pt x="235" y="192"/>
                        </a:lnTo>
                        <a:lnTo>
                          <a:pt x="241" y="197"/>
                        </a:lnTo>
                        <a:lnTo>
                          <a:pt x="249" y="200"/>
                        </a:lnTo>
                        <a:lnTo>
                          <a:pt x="257" y="202"/>
                        </a:lnTo>
                        <a:lnTo>
                          <a:pt x="287" y="186"/>
                        </a:lnTo>
                        <a:lnTo>
                          <a:pt x="298" y="167"/>
                        </a:lnTo>
                        <a:lnTo>
                          <a:pt x="297" y="150"/>
                        </a:lnTo>
                        <a:lnTo>
                          <a:pt x="287" y="131"/>
                        </a:lnTo>
                        <a:lnTo>
                          <a:pt x="273" y="112"/>
                        </a:lnTo>
                        <a:lnTo>
                          <a:pt x="260" y="93"/>
                        </a:lnTo>
                        <a:lnTo>
                          <a:pt x="253" y="73"/>
                        </a:lnTo>
                        <a:lnTo>
                          <a:pt x="257" y="53"/>
                        </a:lnTo>
                        <a:lnTo>
                          <a:pt x="268" y="38"/>
                        </a:lnTo>
                        <a:lnTo>
                          <a:pt x="281" y="26"/>
                        </a:lnTo>
                        <a:lnTo>
                          <a:pt x="295" y="16"/>
                        </a:lnTo>
                        <a:lnTo>
                          <a:pt x="308" y="10"/>
                        </a:lnTo>
                        <a:lnTo>
                          <a:pt x="324" y="5"/>
                        </a:lnTo>
                        <a:lnTo>
                          <a:pt x="339" y="1"/>
                        </a:lnTo>
                        <a:lnTo>
                          <a:pt x="357" y="0"/>
                        </a:lnTo>
                        <a:lnTo>
                          <a:pt x="373" y="0"/>
                        </a:lnTo>
                        <a:lnTo>
                          <a:pt x="390" y="1"/>
                        </a:lnTo>
                        <a:lnTo>
                          <a:pt x="408" y="2"/>
                        </a:lnTo>
                        <a:lnTo>
                          <a:pt x="426" y="5"/>
                        </a:lnTo>
                        <a:lnTo>
                          <a:pt x="444" y="6"/>
                        </a:lnTo>
                        <a:lnTo>
                          <a:pt x="461" y="9"/>
                        </a:lnTo>
                        <a:lnTo>
                          <a:pt x="479" y="11"/>
                        </a:lnTo>
                        <a:lnTo>
                          <a:pt x="496" y="12"/>
                        </a:lnTo>
                        <a:lnTo>
                          <a:pt x="514" y="12"/>
                        </a:lnTo>
                        <a:close/>
                      </a:path>
                    </a:pathLst>
                  </a:custGeom>
                  <a:solidFill>
                    <a:srgbClr val="9ed67c"/>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584" name=""/>
                  <p:cNvSpPr/>
                  <p:nvPr/>
                </p:nvSpPr>
                <p:spPr>
                  <a:xfrm flipH="1">
                    <a:off x="3539520" y="2844720"/>
                    <a:ext cx="146160" cy="54000"/>
                  </a:xfrm>
                  <a:custGeom>
                    <a:avLst/>
                    <a:gdLst/>
                    <a:ahLst/>
                    <a:rect l="l" t="t" r="r" b="b"/>
                    <a:pathLst>
                      <a:path w="523" h="258">
                        <a:moveTo>
                          <a:pt x="514" y="41"/>
                        </a:moveTo>
                        <a:lnTo>
                          <a:pt x="513" y="49"/>
                        </a:lnTo>
                        <a:lnTo>
                          <a:pt x="510" y="57"/>
                        </a:lnTo>
                        <a:lnTo>
                          <a:pt x="508" y="66"/>
                        </a:lnTo>
                        <a:lnTo>
                          <a:pt x="504" y="75"/>
                        </a:lnTo>
                        <a:lnTo>
                          <a:pt x="499" y="81"/>
                        </a:lnTo>
                        <a:lnTo>
                          <a:pt x="493" y="85"/>
                        </a:lnTo>
                        <a:lnTo>
                          <a:pt x="484" y="86"/>
                        </a:lnTo>
                        <a:lnTo>
                          <a:pt x="473" y="82"/>
                        </a:lnTo>
                        <a:lnTo>
                          <a:pt x="472" y="100"/>
                        </a:lnTo>
                        <a:lnTo>
                          <a:pt x="472" y="119"/>
                        </a:lnTo>
                        <a:lnTo>
                          <a:pt x="473" y="139"/>
                        </a:lnTo>
                        <a:lnTo>
                          <a:pt x="477" y="160"/>
                        </a:lnTo>
                        <a:lnTo>
                          <a:pt x="483" y="179"/>
                        </a:lnTo>
                        <a:lnTo>
                          <a:pt x="492" y="198"/>
                        </a:lnTo>
                        <a:lnTo>
                          <a:pt x="505" y="212"/>
                        </a:lnTo>
                        <a:lnTo>
                          <a:pt x="523" y="224"/>
                        </a:lnTo>
                        <a:lnTo>
                          <a:pt x="512" y="242"/>
                        </a:lnTo>
                        <a:lnTo>
                          <a:pt x="498" y="252"/>
                        </a:lnTo>
                        <a:lnTo>
                          <a:pt x="481" y="257"/>
                        </a:lnTo>
                        <a:lnTo>
                          <a:pt x="462" y="258"/>
                        </a:lnTo>
                        <a:lnTo>
                          <a:pt x="441" y="257"/>
                        </a:lnTo>
                        <a:lnTo>
                          <a:pt x="418" y="256"/>
                        </a:lnTo>
                        <a:lnTo>
                          <a:pt x="396" y="255"/>
                        </a:lnTo>
                        <a:lnTo>
                          <a:pt x="373" y="257"/>
                        </a:lnTo>
                        <a:lnTo>
                          <a:pt x="350" y="256"/>
                        </a:lnTo>
                        <a:lnTo>
                          <a:pt x="325" y="255"/>
                        </a:lnTo>
                        <a:lnTo>
                          <a:pt x="303" y="253"/>
                        </a:lnTo>
                        <a:lnTo>
                          <a:pt x="279" y="251"/>
                        </a:lnTo>
                        <a:lnTo>
                          <a:pt x="255" y="250"/>
                        </a:lnTo>
                        <a:lnTo>
                          <a:pt x="233" y="247"/>
                        </a:lnTo>
                        <a:lnTo>
                          <a:pt x="209" y="243"/>
                        </a:lnTo>
                        <a:lnTo>
                          <a:pt x="187" y="241"/>
                        </a:lnTo>
                        <a:lnTo>
                          <a:pt x="163" y="239"/>
                        </a:lnTo>
                        <a:lnTo>
                          <a:pt x="141" y="235"/>
                        </a:lnTo>
                        <a:lnTo>
                          <a:pt x="117" y="231"/>
                        </a:lnTo>
                        <a:lnTo>
                          <a:pt x="95" y="226"/>
                        </a:lnTo>
                        <a:lnTo>
                          <a:pt x="71" y="222"/>
                        </a:lnTo>
                        <a:lnTo>
                          <a:pt x="47" y="217"/>
                        </a:lnTo>
                        <a:lnTo>
                          <a:pt x="24" y="212"/>
                        </a:lnTo>
                        <a:lnTo>
                          <a:pt x="0" y="208"/>
                        </a:lnTo>
                        <a:lnTo>
                          <a:pt x="0" y="206"/>
                        </a:lnTo>
                        <a:lnTo>
                          <a:pt x="5" y="200"/>
                        </a:lnTo>
                        <a:lnTo>
                          <a:pt x="16" y="191"/>
                        </a:lnTo>
                        <a:lnTo>
                          <a:pt x="29" y="181"/>
                        </a:lnTo>
                        <a:lnTo>
                          <a:pt x="44" y="170"/>
                        </a:lnTo>
                        <a:lnTo>
                          <a:pt x="59" y="159"/>
                        </a:lnTo>
                        <a:lnTo>
                          <a:pt x="72" y="149"/>
                        </a:lnTo>
                        <a:lnTo>
                          <a:pt x="83" y="142"/>
                        </a:lnTo>
                        <a:lnTo>
                          <a:pt x="97" y="139"/>
                        </a:lnTo>
                        <a:lnTo>
                          <a:pt x="112" y="138"/>
                        </a:lnTo>
                        <a:lnTo>
                          <a:pt x="128" y="138"/>
                        </a:lnTo>
                        <a:lnTo>
                          <a:pt x="144" y="139"/>
                        </a:lnTo>
                        <a:lnTo>
                          <a:pt x="161" y="141"/>
                        </a:lnTo>
                        <a:lnTo>
                          <a:pt x="177" y="142"/>
                        </a:lnTo>
                        <a:lnTo>
                          <a:pt x="193" y="143"/>
                        </a:lnTo>
                        <a:lnTo>
                          <a:pt x="209" y="144"/>
                        </a:lnTo>
                        <a:lnTo>
                          <a:pt x="224" y="144"/>
                        </a:lnTo>
                        <a:lnTo>
                          <a:pt x="239" y="142"/>
                        </a:lnTo>
                        <a:lnTo>
                          <a:pt x="252" y="139"/>
                        </a:lnTo>
                        <a:lnTo>
                          <a:pt x="264" y="133"/>
                        </a:lnTo>
                        <a:lnTo>
                          <a:pt x="275" y="126"/>
                        </a:lnTo>
                        <a:lnTo>
                          <a:pt x="285" y="114"/>
                        </a:lnTo>
                        <a:lnTo>
                          <a:pt x="293" y="100"/>
                        </a:lnTo>
                        <a:lnTo>
                          <a:pt x="298" y="82"/>
                        </a:lnTo>
                        <a:lnTo>
                          <a:pt x="296" y="67"/>
                        </a:lnTo>
                        <a:lnTo>
                          <a:pt x="293" y="55"/>
                        </a:lnTo>
                        <a:lnTo>
                          <a:pt x="285" y="43"/>
                        </a:lnTo>
                        <a:lnTo>
                          <a:pt x="274" y="33"/>
                        </a:lnTo>
                        <a:lnTo>
                          <a:pt x="208" y="33"/>
                        </a:lnTo>
                        <a:lnTo>
                          <a:pt x="240" y="0"/>
                        </a:lnTo>
                        <a:lnTo>
                          <a:pt x="258" y="2"/>
                        </a:lnTo>
                        <a:lnTo>
                          <a:pt x="275" y="3"/>
                        </a:lnTo>
                        <a:lnTo>
                          <a:pt x="293" y="7"/>
                        </a:lnTo>
                        <a:lnTo>
                          <a:pt x="309" y="10"/>
                        </a:lnTo>
                        <a:lnTo>
                          <a:pt x="325" y="15"/>
                        </a:lnTo>
                        <a:lnTo>
                          <a:pt x="341" y="20"/>
                        </a:lnTo>
                        <a:lnTo>
                          <a:pt x="357" y="25"/>
                        </a:lnTo>
                        <a:lnTo>
                          <a:pt x="373" y="30"/>
                        </a:lnTo>
                        <a:lnTo>
                          <a:pt x="390" y="34"/>
                        </a:lnTo>
                        <a:lnTo>
                          <a:pt x="406" y="39"/>
                        </a:lnTo>
                        <a:lnTo>
                          <a:pt x="423" y="43"/>
                        </a:lnTo>
                        <a:lnTo>
                          <a:pt x="441" y="45"/>
                        </a:lnTo>
                        <a:lnTo>
                          <a:pt x="458" y="46"/>
                        </a:lnTo>
                        <a:lnTo>
                          <a:pt x="476" y="46"/>
                        </a:lnTo>
                        <a:lnTo>
                          <a:pt x="494" y="45"/>
                        </a:lnTo>
                        <a:lnTo>
                          <a:pt x="514" y="41"/>
                        </a:lnTo>
                        <a:close/>
                      </a:path>
                    </a:pathLst>
                  </a:custGeom>
                  <a:solidFill>
                    <a:srgbClr val="9ed67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85" name=""/>
                  <p:cNvSpPr/>
                  <p:nvPr/>
                </p:nvSpPr>
                <p:spPr>
                  <a:xfrm flipH="1">
                    <a:off x="3416760" y="2847960"/>
                    <a:ext cx="66960" cy="47160"/>
                  </a:xfrm>
                  <a:custGeom>
                    <a:avLst/>
                    <a:gdLst/>
                    <a:ahLst/>
                    <a:rect l="l" t="t" r="r" b="b"/>
                    <a:pathLst>
                      <a:path w="240" h="226">
                        <a:moveTo>
                          <a:pt x="58" y="25"/>
                        </a:moveTo>
                        <a:lnTo>
                          <a:pt x="71" y="20"/>
                        </a:lnTo>
                        <a:lnTo>
                          <a:pt x="86" y="19"/>
                        </a:lnTo>
                        <a:lnTo>
                          <a:pt x="100" y="22"/>
                        </a:lnTo>
                        <a:lnTo>
                          <a:pt x="112" y="28"/>
                        </a:lnTo>
                        <a:lnTo>
                          <a:pt x="122" y="36"/>
                        </a:lnTo>
                        <a:lnTo>
                          <a:pt x="128" y="48"/>
                        </a:lnTo>
                        <a:lnTo>
                          <a:pt x="129" y="61"/>
                        </a:lnTo>
                        <a:lnTo>
                          <a:pt x="124" y="75"/>
                        </a:lnTo>
                        <a:lnTo>
                          <a:pt x="124" y="84"/>
                        </a:lnTo>
                        <a:lnTo>
                          <a:pt x="127" y="92"/>
                        </a:lnTo>
                        <a:lnTo>
                          <a:pt x="132" y="100"/>
                        </a:lnTo>
                        <a:lnTo>
                          <a:pt x="138" y="106"/>
                        </a:lnTo>
                        <a:lnTo>
                          <a:pt x="144" y="112"/>
                        </a:lnTo>
                        <a:lnTo>
                          <a:pt x="152" y="117"/>
                        </a:lnTo>
                        <a:lnTo>
                          <a:pt x="159" y="122"/>
                        </a:lnTo>
                        <a:lnTo>
                          <a:pt x="165" y="126"/>
                        </a:lnTo>
                        <a:lnTo>
                          <a:pt x="240" y="126"/>
                        </a:lnTo>
                        <a:lnTo>
                          <a:pt x="230" y="148"/>
                        </a:lnTo>
                        <a:lnTo>
                          <a:pt x="225" y="167"/>
                        </a:lnTo>
                        <a:lnTo>
                          <a:pt x="224" y="188"/>
                        </a:lnTo>
                        <a:lnTo>
                          <a:pt x="224" y="215"/>
                        </a:lnTo>
                        <a:lnTo>
                          <a:pt x="209" y="223"/>
                        </a:lnTo>
                        <a:lnTo>
                          <a:pt x="197" y="226"/>
                        </a:lnTo>
                        <a:lnTo>
                          <a:pt x="184" y="226"/>
                        </a:lnTo>
                        <a:lnTo>
                          <a:pt x="173" y="223"/>
                        </a:lnTo>
                        <a:lnTo>
                          <a:pt x="162" y="218"/>
                        </a:lnTo>
                        <a:lnTo>
                          <a:pt x="151" y="211"/>
                        </a:lnTo>
                        <a:lnTo>
                          <a:pt x="138" y="205"/>
                        </a:lnTo>
                        <a:lnTo>
                          <a:pt x="124" y="199"/>
                        </a:lnTo>
                        <a:lnTo>
                          <a:pt x="121" y="165"/>
                        </a:lnTo>
                        <a:lnTo>
                          <a:pt x="108" y="138"/>
                        </a:lnTo>
                        <a:lnTo>
                          <a:pt x="92" y="116"/>
                        </a:lnTo>
                        <a:lnTo>
                          <a:pt x="72" y="95"/>
                        </a:lnTo>
                        <a:lnTo>
                          <a:pt x="50" y="76"/>
                        </a:lnTo>
                        <a:lnTo>
                          <a:pt x="30" y="55"/>
                        </a:lnTo>
                        <a:lnTo>
                          <a:pt x="12" y="30"/>
                        </a:lnTo>
                        <a:lnTo>
                          <a:pt x="0" y="2"/>
                        </a:lnTo>
                        <a:lnTo>
                          <a:pt x="9" y="0"/>
                        </a:lnTo>
                        <a:lnTo>
                          <a:pt x="17" y="0"/>
                        </a:lnTo>
                        <a:lnTo>
                          <a:pt x="25" y="2"/>
                        </a:lnTo>
                        <a:lnTo>
                          <a:pt x="32" y="4"/>
                        </a:lnTo>
                        <a:lnTo>
                          <a:pt x="40" y="8"/>
                        </a:lnTo>
                        <a:lnTo>
                          <a:pt x="46" y="13"/>
                        </a:lnTo>
                        <a:lnTo>
                          <a:pt x="52" y="19"/>
                        </a:lnTo>
                        <a:lnTo>
                          <a:pt x="58" y="25"/>
                        </a:lnTo>
                        <a:close/>
                      </a:path>
                    </a:pathLst>
                  </a:custGeom>
                  <a:solidFill>
                    <a:srgbClr val="9ed67c"/>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586" name=""/>
                  <p:cNvSpPr/>
                  <p:nvPr/>
                </p:nvSpPr>
                <p:spPr>
                  <a:xfrm flipH="1">
                    <a:off x="3474720" y="2865600"/>
                    <a:ext cx="52920" cy="32760"/>
                  </a:xfrm>
                  <a:custGeom>
                    <a:avLst/>
                    <a:gdLst/>
                    <a:ahLst/>
                    <a:rect l="l" t="t" r="r" b="b"/>
                    <a:pathLst>
                      <a:path w="190" h="157">
                        <a:moveTo>
                          <a:pt x="124" y="74"/>
                        </a:moveTo>
                        <a:lnTo>
                          <a:pt x="131" y="75"/>
                        </a:lnTo>
                        <a:lnTo>
                          <a:pt x="137" y="74"/>
                        </a:lnTo>
                        <a:lnTo>
                          <a:pt x="144" y="72"/>
                        </a:lnTo>
                        <a:lnTo>
                          <a:pt x="153" y="68"/>
                        </a:lnTo>
                        <a:lnTo>
                          <a:pt x="162" y="65"/>
                        </a:lnTo>
                        <a:lnTo>
                          <a:pt x="170" y="64"/>
                        </a:lnTo>
                        <a:lnTo>
                          <a:pt x="180" y="63"/>
                        </a:lnTo>
                        <a:lnTo>
                          <a:pt x="190" y="65"/>
                        </a:lnTo>
                        <a:lnTo>
                          <a:pt x="190" y="148"/>
                        </a:lnTo>
                        <a:lnTo>
                          <a:pt x="173" y="152"/>
                        </a:lnTo>
                        <a:lnTo>
                          <a:pt x="153" y="155"/>
                        </a:lnTo>
                        <a:lnTo>
                          <a:pt x="132" y="157"/>
                        </a:lnTo>
                        <a:lnTo>
                          <a:pt x="109" y="157"/>
                        </a:lnTo>
                        <a:lnTo>
                          <a:pt x="86" y="157"/>
                        </a:lnTo>
                        <a:lnTo>
                          <a:pt x="62" y="157"/>
                        </a:lnTo>
                        <a:lnTo>
                          <a:pt x="40" y="157"/>
                        </a:lnTo>
                        <a:lnTo>
                          <a:pt x="17" y="157"/>
                        </a:lnTo>
                        <a:lnTo>
                          <a:pt x="22" y="145"/>
                        </a:lnTo>
                        <a:lnTo>
                          <a:pt x="31" y="134"/>
                        </a:lnTo>
                        <a:lnTo>
                          <a:pt x="41" y="125"/>
                        </a:lnTo>
                        <a:lnTo>
                          <a:pt x="50" y="115"/>
                        </a:lnTo>
                        <a:lnTo>
                          <a:pt x="36" y="114"/>
                        </a:lnTo>
                        <a:lnTo>
                          <a:pt x="24" y="110"/>
                        </a:lnTo>
                        <a:lnTo>
                          <a:pt x="14" y="104"/>
                        </a:lnTo>
                        <a:lnTo>
                          <a:pt x="6" y="96"/>
                        </a:lnTo>
                        <a:lnTo>
                          <a:pt x="1" y="85"/>
                        </a:lnTo>
                        <a:lnTo>
                          <a:pt x="0" y="74"/>
                        </a:lnTo>
                        <a:lnTo>
                          <a:pt x="2" y="62"/>
                        </a:lnTo>
                        <a:lnTo>
                          <a:pt x="9" y="48"/>
                        </a:lnTo>
                        <a:lnTo>
                          <a:pt x="16" y="38"/>
                        </a:lnTo>
                        <a:lnTo>
                          <a:pt x="24" y="31"/>
                        </a:lnTo>
                        <a:lnTo>
                          <a:pt x="33" y="26"/>
                        </a:lnTo>
                        <a:lnTo>
                          <a:pt x="43" y="22"/>
                        </a:lnTo>
                        <a:lnTo>
                          <a:pt x="52" y="18"/>
                        </a:lnTo>
                        <a:lnTo>
                          <a:pt x="61" y="13"/>
                        </a:lnTo>
                        <a:lnTo>
                          <a:pt x="68" y="7"/>
                        </a:lnTo>
                        <a:lnTo>
                          <a:pt x="75" y="0"/>
                        </a:lnTo>
                        <a:lnTo>
                          <a:pt x="90" y="3"/>
                        </a:lnTo>
                        <a:lnTo>
                          <a:pt x="97" y="12"/>
                        </a:lnTo>
                        <a:lnTo>
                          <a:pt x="99" y="24"/>
                        </a:lnTo>
                        <a:lnTo>
                          <a:pt x="99" y="37"/>
                        </a:lnTo>
                        <a:lnTo>
                          <a:pt x="99" y="50"/>
                        </a:lnTo>
                        <a:lnTo>
                          <a:pt x="102" y="62"/>
                        </a:lnTo>
                        <a:lnTo>
                          <a:pt x="109" y="70"/>
                        </a:lnTo>
                        <a:lnTo>
                          <a:pt x="124" y="74"/>
                        </a:lnTo>
                        <a:close/>
                      </a:path>
                    </a:pathLst>
                  </a:custGeom>
                  <a:solidFill>
                    <a:srgbClr val="9ed67c"/>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587" name=""/>
                  <p:cNvSpPr/>
                  <p:nvPr/>
                </p:nvSpPr>
                <p:spPr>
                  <a:xfrm flipH="1">
                    <a:off x="3746160" y="3004560"/>
                    <a:ext cx="164880" cy="34560"/>
                  </a:xfrm>
                  <a:custGeom>
                    <a:avLst/>
                    <a:gdLst/>
                    <a:ahLst/>
                    <a:rect l="l" t="t" r="r" b="b"/>
                    <a:pathLst>
                      <a:path w="590" h="165">
                        <a:moveTo>
                          <a:pt x="581" y="32"/>
                        </a:moveTo>
                        <a:lnTo>
                          <a:pt x="590" y="24"/>
                        </a:lnTo>
                        <a:lnTo>
                          <a:pt x="560" y="37"/>
                        </a:lnTo>
                        <a:lnTo>
                          <a:pt x="529" y="51"/>
                        </a:lnTo>
                        <a:lnTo>
                          <a:pt x="496" y="63"/>
                        </a:lnTo>
                        <a:lnTo>
                          <a:pt x="463" y="76"/>
                        </a:lnTo>
                        <a:lnTo>
                          <a:pt x="429" y="87"/>
                        </a:lnTo>
                        <a:lnTo>
                          <a:pt x="394" y="98"/>
                        </a:lnTo>
                        <a:lnTo>
                          <a:pt x="358" y="108"/>
                        </a:lnTo>
                        <a:lnTo>
                          <a:pt x="322" y="118"/>
                        </a:lnTo>
                        <a:lnTo>
                          <a:pt x="285" y="127"/>
                        </a:lnTo>
                        <a:lnTo>
                          <a:pt x="248" y="135"/>
                        </a:lnTo>
                        <a:lnTo>
                          <a:pt x="209" y="143"/>
                        </a:lnTo>
                        <a:lnTo>
                          <a:pt x="170" y="149"/>
                        </a:lnTo>
                        <a:lnTo>
                          <a:pt x="133" y="155"/>
                        </a:lnTo>
                        <a:lnTo>
                          <a:pt x="94" y="159"/>
                        </a:lnTo>
                        <a:lnTo>
                          <a:pt x="56" y="163"/>
                        </a:lnTo>
                        <a:lnTo>
                          <a:pt x="17" y="165"/>
                        </a:lnTo>
                        <a:lnTo>
                          <a:pt x="0" y="148"/>
                        </a:lnTo>
                        <a:lnTo>
                          <a:pt x="27" y="145"/>
                        </a:lnTo>
                        <a:lnTo>
                          <a:pt x="55" y="141"/>
                        </a:lnTo>
                        <a:lnTo>
                          <a:pt x="83" y="136"/>
                        </a:lnTo>
                        <a:lnTo>
                          <a:pt x="112" y="132"/>
                        </a:lnTo>
                        <a:lnTo>
                          <a:pt x="142" y="125"/>
                        </a:lnTo>
                        <a:lnTo>
                          <a:pt x="172" y="118"/>
                        </a:lnTo>
                        <a:lnTo>
                          <a:pt x="201" y="110"/>
                        </a:lnTo>
                        <a:lnTo>
                          <a:pt x="230" y="102"/>
                        </a:lnTo>
                        <a:lnTo>
                          <a:pt x="260" y="92"/>
                        </a:lnTo>
                        <a:lnTo>
                          <a:pt x="290" y="81"/>
                        </a:lnTo>
                        <a:lnTo>
                          <a:pt x="318" y="69"/>
                        </a:lnTo>
                        <a:lnTo>
                          <a:pt x="347" y="57"/>
                        </a:lnTo>
                        <a:lnTo>
                          <a:pt x="376" y="45"/>
                        </a:lnTo>
                        <a:lnTo>
                          <a:pt x="403" y="31"/>
                        </a:lnTo>
                        <a:lnTo>
                          <a:pt x="430" y="16"/>
                        </a:lnTo>
                        <a:lnTo>
                          <a:pt x="457" y="0"/>
                        </a:lnTo>
                        <a:lnTo>
                          <a:pt x="468" y="15"/>
                        </a:lnTo>
                        <a:lnTo>
                          <a:pt x="481" y="26"/>
                        </a:lnTo>
                        <a:lnTo>
                          <a:pt x="496" y="34"/>
                        </a:lnTo>
                        <a:lnTo>
                          <a:pt x="514" y="38"/>
                        </a:lnTo>
                        <a:lnTo>
                          <a:pt x="530" y="40"/>
                        </a:lnTo>
                        <a:lnTo>
                          <a:pt x="547" y="40"/>
                        </a:lnTo>
                        <a:lnTo>
                          <a:pt x="565" y="37"/>
                        </a:lnTo>
                        <a:lnTo>
                          <a:pt x="581" y="32"/>
                        </a:lnTo>
                        <a:close/>
                      </a:path>
                    </a:pathLst>
                  </a:custGeom>
                  <a:solidFill>
                    <a:srgbClr val="9ed67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grpSp>
            <p:nvGrpSpPr>
              <p:cNvPr id="2588" name=""/>
              <p:cNvGrpSpPr/>
              <p:nvPr/>
            </p:nvGrpSpPr>
            <p:grpSpPr>
              <a:xfrm>
                <a:off x="2536920" y="1181160"/>
                <a:ext cx="1470240" cy="868320"/>
                <a:chOff x="2536920" y="1181160"/>
                <a:chExt cx="1470240" cy="868320"/>
              </a:xfrm>
            </p:grpSpPr>
            <p:grpSp>
              <p:nvGrpSpPr>
                <p:cNvPr id="2589" name=""/>
                <p:cNvGrpSpPr/>
                <p:nvPr/>
              </p:nvGrpSpPr>
              <p:grpSpPr>
                <a:xfrm>
                  <a:off x="2536920" y="1181160"/>
                  <a:ext cx="668520" cy="292680"/>
                  <a:chOff x="2536920" y="1181160"/>
                  <a:chExt cx="668520" cy="292680"/>
                </a:xfrm>
              </p:grpSpPr>
              <p:sp>
                <p:nvSpPr>
                  <p:cNvPr id="2590" name=""/>
                  <p:cNvSpPr/>
                  <p:nvPr/>
                </p:nvSpPr>
                <p:spPr>
                  <a:xfrm flipH="1">
                    <a:off x="2909880" y="1197360"/>
                    <a:ext cx="137880" cy="136440"/>
                  </a:xfrm>
                  <a:custGeom>
                    <a:avLst/>
                    <a:gdLst/>
                    <a:ahLst/>
                    <a:rect l="l" t="t" r="r" b="b"/>
                    <a:pathLst>
                      <a:path w="1484" h="1383">
                        <a:moveTo>
                          <a:pt x="0" y="1033"/>
                        </a:moveTo>
                        <a:lnTo>
                          <a:pt x="159" y="791"/>
                        </a:lnTo>
                        <a:lnTo>
                          <a:pt x="97" y="664"/>
                        </a:lnTo>
                        <a:lnTo>
                          <a:pt x="268" y="333"/>
                        </a:lnTo>
                        <a:lnTo>
                          <a:pt x="204" y="198"/>
                        </a:lnTo>
                        <a:lnTo>
                          <a:pt x="240" y="64"/>
                        </a:lnTo>
                        <a:lnTo>
                          <a:pt x="356" y="0"/>
                        </a:lnTo>
                        <a:lnTo>
                          <a:pt x="546" y="38"/>
                        </a:lnTo>
                        <a:lnTo>
                          <a:pt x="589" y="171"/>
                        </a:lnTo>
                        <a:lnTo>
                          <a:pt x="572" y="333"/>
                        </a:lnTo>
                        <a:lnTo>
                          <a:pt x="1484" y="1176"/>
                        </a:lnTo>
                        <a:lnTo>
                          <a:pt x="1009" y="1383"/>
                        </a:lnTo>
                        <a:lnTo>
                          <a:pt x="401" y="450"/>
                        </a:lnTo>
                        <a:lnTo>
                          <a:pt x="233" y="1124"/>
                        </a:lnTo>
                        <a:lnTo>
                          <a:pt x="0" y="1033"/>
                        </a:lnTo>
                        <a:lnTo>
                          <a:pt x="0" y="10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flipH="1">
                    <a:off x="2707920" y="1285920"/>
                    <a:ext cx="486720" cy="174600"/>
                  </a:xfrm>
                  <a:custGeom>
                    <a:avLst/>
                    <a:gdLst/>
                    <a:ahLst/>
                    <a:rect l="l" t="t" r="r" b="b"/>
                    <a:pathLst>
                      <a:path w="5228" h="1769">
                        <a:moveTo>
                          <a:pt x="28" y="116"/>
                        </a:moveTo>
                        <a:lnTo>
                          <a:pt x="2279" y="162"/>
                        </a:lnTo>
                        <a:lnTo>
                          <a:pt x="3844" y="109"/>
                        </a:lnTo>
                        <a:lnTo>
                          <a:pt x="4193" y="26"/>
                        </a:lnTo>
                        <a:lnTo>
                          <a:pt x="4549" y="90"/>
                        </a:lnTo>
                        <a:lnTo>
                          <a:pt x="4791" y="0"/>
                        </a:lnTo>
                        <a:lnTo>
                          <a:pt x="4995" y="74"/>
                        </a:lnTo>
                        <a:lnTo>
                          <a:pt x="5166" y="288"/>
                        </a:lnTo>
                        <a:lnTo>
                          <a:pt x="5228" y="755"/>
                        </a:lnTo>
                        <a:lnTo>
                          <a:pt x="5069" y="943"/>
                        </a:lnTo>
                        <a:lnTo>
                          <a:pt x="4872" y="1014"/>
                        </a:lnTo>
                        <a:lnTo>
                          <a:pt x="4763" y="1024"/>
                        </a:lnTo>
                        <a:lnTo>
                          <a:pt x="4559" y="1257"/>
                        </a:lnTo>
                        <a:lnTo>
                          <a:pt x="4423" y="1348"/>
                        </a:lnTo>
                        <a:lnTo>
                          <a:pt x="4290" y="1364"/>
                        </a:lnTo>
                        <a:lnTo>
                          <a:pt x="4183" y="1364"/>
                        </a:lnTo>
                        <a:lnTo>
                          <a:pt x="4005" y="1319"/>
                        </a:lnTo>
                        <a:lnTo>
                          <a:pt x="3799" y="1176"/>
                        </a:lnTo>
                        <a:lnTo>
                          <a:pt x="3583" y="1293"/>
                        </a:lnTo>
                        <a:lnTo>
                          <a:pt x="3200" y="1455"/>
                        </a:lnTo>
                        <a:lnTo>
                          <a:pt x="2726" y="1464"/>
                        </a:lnTo>
                        <a:lnTo>
                          <a:pt x="1690" y="1312"/>
                        </a:lnTo>
                        <a:lnTo>
                          <a:pt x="1636" y="1769"/>
                        </a:lnTo>
                        <a:lnTo>
                          <a:pt x="1458" y="1769"/>
                        </a:lnTo>
                        <a:lnTo>
                          <a:pt x="1296" y="1481"/>
                        </a:lnTo>
                        <a:lnTo>
                          <a:pt x="1367" y="1283"/>
                        </a:lnTo>
                        <a:lnTo>
                          <a:pt x="1044" y="1186"/>
                        </a:lnTo>
                        <a:lnTo>
                          <a:pt x="323" y="907"/>
                        </a:lnTo>
                        <a:lnTo>
                          <a:pt x="80" y="664"/>
                        </a:lnTo>
                        <a:lnTo>
                          <a:pt x="0" y="340"/>
                        </a:lnTo>
                        <a:lnTo>
                          <a:pt x="28" y="116"/>
                        </a:lnTo>
                        <a:lnTo>
                          <a:pt x="2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2" name=""/>
                  <p:cNvSpPr/>
                  <p:nvPr/>
                </p:nvSpPr>
                <p:spPr>
                  <a:xfrm flipH="1">
                    <a:off x="2814120" y="1408680"/>
                    <a:ext cx="103680" cy="64800"/>
                  </a:xfrm>
                  <a:custGeom>
                    <a:avLst/>
                    <a:gdLst/>
                    <a:ahLst/>
                    <a:rect l="l" t="t" r="r" b="b"/>
                    <a:pathLst>
                      <a:path w="1116" h="659">
                        <a:moveTo>
                          <a:pt x="934" y="0"/>
                        </a:moveTo>
                        <a:lnTo>
                          <a:pt x="596" y="297"/>
                        </a:lnTo>
                        <a:lnTo>
                          <a:pt x="594" y="481"/>
                        </a:lnTo>
                        <a:lnTo>
                          <a:pt x="3" y="488"/>
                        </a:lnTo>
                        <a:lnTo>
                          <a:pt x="0" y="659"/>
                        </a:lnTo>
                        <a:lnTo>
                          <a:pt x="718" y="659"/>
                        </a:lnTo>
                        <a:lnTo>
                          <a:pt x="718" y="326"/>
                        </a:lnTo>
                        <a:lnTo>
                          <a:pt x="1116" y="138"/>
                        </a:lnTo>
                        <a:lnTo>
                          <a:pt x="934" y="0"/>
                        </a:lnTo>
                        <a:lnTo>
                          <a:pt x="934"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93" name=""/>
                  <p:cNvSpPr/>
                  <p:nvPr/>
                </p:nvSpPr>
                <p:spPr>
                  <a:xfrm flipH="1">
                    <a:off x="2536920" y="1186920"/>
                    <a:ext cx="196560" cy="157680"/>
                  </a:xfrm>
                  <a:custGeom>
                    <a:avLst/>
                    <a:gdLst/>
                    <a:ahLst/>
                    <a:rect l="l" t="t" r="r" b="b"/>
                    <a:pathLst>
                      <a:path w="2114" h="1596">
                        <a:moveTo>
                          <a:pt x="0" y="1100"/>
                        </a:moveTo>
                        <a:lnTo>
                          <a:pt x="19" y="1069"/>
                        </a:lnTo>
                        <a:lnTo>
                          <a:pt x="43" y="1031"/>
                        </a:lnTo>
                        <a:lnTo>
                          <a:pt x="74" y="984"/>
                        </a:lnTo>
                        <a:lnTo>
                          <a:pt x="117" y="929"/>
                        </a:lnTo>
                        <a:lnTo>
                          <a:pt x="164" y="862"/>
                        </a:lnTo>
                        <a:lnTo>
                          <a:pt x="190" y="829"/>
                        </a:lnTo>
                        <a:lnTo>
                          <a:pt x="205" y="810"/>
                        </a:lnTo>
                        <a:lnTo>
                          <a:pt x="219" y="793"/>
                        </a:lnTo>
                        <a:lnTo>
                          <a:pt x="235" y="774"/>
                        </a:lnTo>
                        <a:lnTo>
                          <a:pt x="250" y="755"/>
                        </a:lnTo>
                        <a:lnTo>
                          <a:pt x="266" y="736"/>
                        </a:lnTo>
                        <a:lnTo>
                          <a:pt x="283" y="717"/>
                        </a:lnTo>
                        <a:lnTo>
                          <a:pt x="299" y="698"/>
                        </a:lnTo>
                        <a:lnTo>
                          <a:pt x="316" y="679"/>
                        </a:lnTo>
                        <a:lnTo>
                          <a:pt x="333" y="660"/>
                        </a:lnTo>
                        <a:lnTo>
                          <a:pt x="352" y="641"/>
                        </a:lnTo>
                        <a:lnTo>
                          <a:pt x="368" y="622"/>
                        </a:lnTo>
                        <a:lnTo>
                          <a:pt x="387" y="603"/>
                        </a:lnTo>
                        <a:lnTo>
                          <a:pt x="406" y="581"/>
                        </a:lnTo>
                        <a:lnTo>
                          <a:pt x="425" y="562"/>
                        </a:lnTo>
                        <a:lnTo>
                          <a:pt x="444" y="543"/>
                        </a:lnTo>
                        <a:lnTo>
                          <a:pt x="466" y="524"/>
                        </a:lnTo>
                        <a:lnTo>
                          <a:pt x="485" y="505"/>
                        </a:lnTo>
                        <a:lnTo>
                          <a:pt x="506" y="486"/>
                        </a:lnTo>
                        <a:lnTo>
                          <a:pt x="525" y="469"/>
                        </a:lnTo>
                        <a:lnTo>
                          <a:pt x="546" y="450"/>
                        </a:lnTo>
                        <a:lnTo>
                          <a:pt x="568" y="431"/>
                        </a:lnTo>
                        <a:lnTo>
                          <a:pt x="589" y="415"/>
                        </a:lnTo>
                        <a:lnTo>
                          <a:pt x="611" y="395"/>
                        </a:lnTo>
                        <a:lnTo>
                          <a:pt x="634" y="379"/>
                        </a:lnTo>
                        <a:lnTo>
                          <a:pt x="658" y="362"/>
                        </a:lnTo>
                        <a:lnTo>
                          <a:pt x="679" y="345"/>
                        </a:lnTo>
                        <a:lnTo>
                          <a:pt x="703" y="331"/>
                        </a:lnTo>
                        <a:lnTo>
                          <a:pt x="727" y="314"/>
                        </a:lnTo>
                        <a:lnTo>
                          <a:pt x="748" y="300"/>
                        </a:lnTo>
                        <a:lnTo>
                          <a:pt x="772" y="286"/>
                        </a:lnTo>
                        <a:lnTo>
                          <a:pt x="796" y="269"/>
                        </a:lnTo>
                        <a:lnTo>
                          <a:pt x="822" y="257"/>
                        </a:lnTo>
                        <a:lnTo>
                          <a:pt x="869" y="234"/>
                        </a:lnTo>
                        <a:lnTo>
                          <a:pt x="919" y="210"/>
                        </a:lnTo>
                        <a:lnTo>
                          <a:pt x="969" y="191"/>
                        </a:lnTo>
                        <a:lnTo>
                          <a:pt x="1019" y="174"/>
                        </a:lnTo>
                        <a:lnTo>
                          <a:pt x="1066" y="157"/>
                        </a:lnTo>
                        <a:lnTo>
                          <a:pt x="1112" y="143"/>
                        </a:lnTo>
                        <a:lnTo>
                          <a:pt x="1152" y="129"/>
                        </a:lnTo>
                        <a:lnTo>
                          <a:pt x="1230" y="100"/>
                        </a:lnTo>
                        <a:lnTo>
                          <a:pt x="1299" y="81"/>
                        </a:lnTo>
                        <a:lnTo>
                          <a:pt x="1361" y="62"/>
                        </a:lnTo>
                        <a:lnTo>
                          <a:pt x="1415" y="45"/>
                        </a:lnTo>
                        <a:lnTo>
                          <a:pt x="1501" y="24"/>
                        </a:lnTo>
                        <a:lnTo>
                          <a:pt x="1629" y="0"/>
                        </a:lnTo>
                        <a:lnTo>
                          <a:pt x="1646" y="95"/>
                        </a:lnTo>
                        <a:lnTo>
                          <a:pt x="1589" y="107"/>
                        </a:lnTo>
                        <a:lnTo>
                          <a:pt x="1522" y="126"/>
                        </a:lnTo>
                        <a:lnTo>
                          <a:pt x="1442" y="148"/>
                        </a:lnTo>
                        <a:lnTo>
                          <a:pt x="1342" y="176"/>
                        </a:lnTo>
                        <a:lnTo>
                          <a:pt x="1290" y="193"/>
                        </a:lnTo>
                        <a:lnTo>
                          <a:pt x="1237" y="210"/>
                        </a:lnTo>
                        <a:lnTo>
                          <a:pt x="1178" y="229"/>
                        </a:lnTo>
                        <a:lnTo>
                          <a:pt x="1123" y="250"/>
                        </a:lnTo>
                        <a:lnTo>
                          <a:pt x="1066" y="272"/>
                        </a:lnTo>
                        <a:lnTo>
                          <a:pt x="1009" y="295"/>
                        </a:lnTo>
                        <a:lnTo>
                          <a:pt x="952" y="322"/>
                        </a:lnTo>
                        <a:lnTo>
                          <a:pt x="924" y="336"/>
                        </a:lnTo>
                        <a:lnTo>
                          <a:pt x="895" y="350"/>
                        </a:lnTo>
                        <a:lnTo>
                          <a:pt x="867" y="367"/>
                        </a:lnTo>
                        <a:lnTo>
                          <a:pt x="841" y="384"/>
                        </a:lnTo>
                        <a:lnTo>
                          <a:pt x="810" y="403"/>
                        </a:lnTo>
                        <a:lnTo>
                          <a:pt x="784" y="419"/>
                        </a:lnTo>
                        <a:lnTo>
                          <a:pt x="755" y="438"/>
                        </a:lnTo>
                        <a:lnTo>
                          <a:pt x="729" y="460"/>
                        </a:lnTo>
                        <a:lnTo>
                          <a:pt x="703" y="479"/>
                        </a:lnTo>
                        <a:lnTo>
                          <a:pt x="679" y="498"/>
                        </a:lnTo>
                        <a:lnTo>
                          <a:pt x="653" y="517"/>
                        </a:lnTo>
                        <a:lnTo>
                          <a:pt x="627" y="536"/>
                        </a:lnTo>
                        <a:lnTo>
                          <a:pt x="606" y="555"/>
                        </a:lnTo>
                        <a:lnTo>
                          <a:pt x="582" y="572"/>
                        </a:lnTo>
                        <a:lnTo>
                          <a:pt x="561" y="593"/>
                        </a:lnTo>
                        <a:lnTo>
                          <a:pt x="539" y="610"/>
                        </a:lnTo>
                        <a:lnTo>
                          <a:pt x="520" y="626"/>
                        </a:lnTo>
                        <a:lnTo>
                          <a:pt x="501" y="643"/>
                        </a:lnTo>
                        <a:lnTo>
                          <a:pt x="482" y="660"/>
                        </a:lnTo>
                        <a:lnTo>
                          <a:pt x="466" y="676"/>
                        </a:lnTo>
                        <a:lnTo>
                          <a:pt x="437" y="703"/>
                        </a:lnTo>
                        <a:lnTo>
                          <a:pt x="413" y="724"/>
                        </a:lnTo>
                        <a:lnTo>
                          <a:pt x="397" y="743"/>
                        </a:lnTo>
                        <a:lnTo>
                          <a:pt x="380" y="757"/>
                        </a:lnTo>
                        <a:lnTo>
                          <a:pt x="397" y="750"/>
                        </a:lnTo>
                        <a:lnTo>
                          <a:pt x="437" y="734"/>
                        </a:lnTo>
                        <a:lnTo>
                          <a:pt x="506" y="710"/>
                        </a:lnTo>
                        <a:lnTo>
                          <a:pt x="551" y="698"/>
                        </a:lnTo>
                        <a:lnTo>
                          <a:pt x="599" y="684"/>
                        </a:lnTo>
                        <a:lnTo>
                          <a:pt x="717" y="662"/>
                        </a:lnTo>
                        <a:lnTo>
                          <a:pt x="857" y="645"/>
                        </a:lnTo>
                        <a:lnTo>
                          <a:pt x="1199" y="655"/>
                        </a:lnTo>
                        <a:lnTo>
                          <a:pt x="1380" y="691"/>
                        </a:lnTo>
                        <a:lnTo>
                          <a:pt x="1461" y="722"/>
                        </a:lnTo>
                        <a:lnTo>
                          <a:pt x="1499" y="738"/>
                        </a:lnTo>
                        <a:lnTo>
                          <a:pt x="1537" y="757"/>
                        </a:lnTo>
                        <a:lnTo>
                          <a:pt x="1572" y="776"/>
                        </a:lnTo>
                        <a:lnTo>
                          <a:pt x="1608" y="798"/>
                        </a:lnTo>
                        <a:lnTo>
                          <a:pt x="1641" y="819"/>
                        </a:lnTo>
                        <a:lnTo>
                          <a:pt x="1672" y="843"/>
                        </a:lnTo>
                        <a:lnTo>
                          <a:pt x="1703" y="867"/>
                        </a:lnTo>
                        <a:lnTo>
                          <a:pt x="1734" y="891"/>
                        </a:lnTo>
                        <a:lnTo>
                          <a:pt x="1760" y="917"/>
                        </a:lnTo>
                        <a:lnTo>
                          <a:pt x="1788" y="941"/>
                        </a:lnTo>
                        <a:lnTo>
                          <a:pt x="1812" y="967"/>
                        </a:lnTo>
                        <a:lnTo>
                          <a:pt x="1836" y="993"/>
                        </a:lnTo>
                        <a:lnTo>
                          <a:pt x="1857" y="1019"/>
                        </a:lnTo>
                        <a:lnTo>
                          <a:pt x="1878" y="1046"/>
                        </a:lnTo>
                        <a:lnTo>
                          <a:pt x="1900" y="1072"/>
                        </a:lnTo>
                        <a:lnTo>
                          <a:pt x="1919" y="1096"/>
                        </a:lnTo>
                        <a:lnTo>
                          <a:pt x="1952" y="1146"/>
                        </a:lnTo>
                        <a:lnTo>
                          <a:pt x="2002" y="1236"/>
                        </a:lnTo>
                        <a:lnTo>
                          <a:pt x="2035" y="1308"/>
                        </a:lnTo>
                        <a:lnTo>
                          <a:pt x="2054" y="1365"/>
                        </a:lnTo>
                        <a:lnTo>
                          <a:pt x="2068" y="1417"/>
                        </a:lnTo>
                        <a:lnTo>
                          <a:pt x="2095" y="1503"/>
                        </a:lnTo>
                        <a:lnTo>
                          <a:pt x="2114" y="1579"/>
                        </a:lnTo>
                        <a:lnTo>
                          <a:pt x="2059" y="1596"/>
                        </a:lnTo>
                        <a:lnTo>
                          <a:pt x="2049" y="1572"/>
                        </a:lnTo>
                        <a:lnTo>
                          <a:pt x="2028" y="1503"/>
                        </a:lnTo>
                        <a:lnTo>
                          <a:pt x="2009" y="1458"/>
                        </a:lnTo>
                        <a:lnTo>
                          <a:pt x="1988" y="1408"/>
                        </a:lnTo>
                        <a:lnTo>
                          <a:pt x="1959" y="1350"/>
                        </a:lnTo>
                        <a:lnTo>
                          <a:pt x="1928" y="1291"/>
                        </a:lnTo>
                        <a:lnTo>
                          <a:pt x="1888" y="1231"/>
                        </a:lnTo>
                        <a:lnTo>
                          <a:pt x="1845" y="1169"/>
                        </a:lnTo>
                        <a:lnTo>
                          <a:pt x="1833" y="1153"/>
                        </a:lnTo>
                        <a:lnTo>
                          <a:pt x="1821" y="1138"/>
                        </a:lnTo>
                        <a:lnTo>
                          <a:pt x="1810" y="1122"/>
                        </a:lnTo>
                        <a:lnTo>
                          <a:pt x="1798" y="1107"/>
                        </a:lnTo>
                        <a:lnTo>
                          <a:pt x="1772" y="1079"/>
                        </a:lnTo>
                        <a:lnTo>
                          <a:pt x="1757" y="1065"/>
                        </a:lnTo>
                        <a:lnTo>
                          <a:pt x="1743" y="1050"/>
                        </a:lnTo>
                        <a:lnTo>
                          <a:pt x="1712" y="1022"/>
                        </a:lnTo>
                        <a:lnTo>
                          <a:pt x="1681" y="996"/>
                        </a:lnTo>
                        <a:lnTo>
                          <a:pt x="1648" y="969"/>
                        </a:lnTo>
                        <a:lnTo>
                          <a:pt x="1615" y="946"/>
                        </a:lnTo>
                        <a:lnTo>
                          <a:pt x="1579" y="924"/>
                        </a:lnTo>
                        <a:lnTo>
                          <a:pt x="1541" y="903"/>
                        </a:lnTo>
                        <a:lnTo>
                          <a:pt x="1503" y="884"/>
                        </a:lnTo>
                        <a:lnTo>
                          <a:pt x="1461" y="869"/>
                        </a:lnTo>
                        <a:lnTo>
                          <a:pt x="1420" y="855"/>
                        </a:lnTo>
                        <a:lnTo>
                          <a:pt x="1377" y="843"/>
                        </a:lnTo>
                        <a:lnTo>
                          <a:pt x="1292" y="822"/>
                        </a:lnTo>
                        <a:lnTo>
                          <a:pt x="1206" y="807"/>
                        </a:lnTo>
                        <a:lnTo>
                          <a:pt x="1119" y="798"/>
                        </a:lnTo>
                        <a:lnTo>
                          <a:pt x="950" y="793"/>
                        </a:lnTo>
                        <a:lnTo>
                          <a:pt x="791" y="803"/>
                        </a:lnTo>
                        <a:lnTo>
                          <a:pt x="532" y="843"/>
                        </a:lnTo>
                        <a:lnTo>
                          <a:pt x="442" y="867"/>
                        </a:lnTo>
                        <a:lnTo>
                          <a:pt x="390" y="884"/>
                        </a:lnTo>
                        <a:lnTo>
                          <a:pt x="354" y="907"/>
                        </a:lnTo>
                        <a:lnTo>
                          <a:pt x="333" y="924"/>
                        </a:lnTo>
                        <a:lnTo>
                          <a:pt x="311" y="941"/>
                        </a:lnTo>
                        <a:lnTo>
                          <a:pt x="288" y="962"/>
                        </a:lnTo>
                        <a:lnTo>
                          <a:pt x="266" y="984"/>
                        </a:lnTo>
                        <a:lnTo>
                          <a:pt x="242" y="1005"/>
                        </a:lnTo>
                        <a:lnTo>
                          <a:pt x="221" y="1027"/>
                        </a:lnTo>
                        <a:lnTo>
                          <a:pt x="200" y="1050"/>
                        </a:lnTo>
                        <a:lnTo>
                          <a:pt x="183" y="1069"/>
                        </a:lnTo>
                        <a:lnTo>
                          <a:pt x="164" y="1088"/>
                        </a:lnTo>
                        <a:lnTo>
                          <a:pt x="150" y="1105"/>
                        </a:lnTo>
                        <a:lnTo>
                          <a:pt x="129" y="1131"/>
                        </a:lnTo>
                        <a:lnTo>
                          <a:pt x="119" y="1141"/>
                        </a:lnTo>
                        <a:lnTo>
                          <a:pt x="0" y="1100"/>
                        </a:lnTo>
                        <a:lnTo>
                          <a:pt x="0" y="110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flipH="1">
                    <a:off x="2863440" y="1195200"/>
                    <a:ext cx="322200" cy="278640"/>
                  </a:xfrm>
                  <a:custGeom>
                    <a:avLst/>
                    <a:gdLst/>
                    <a:ahLst/>
                    <a:rect l="l" t="t" r="r" b="b"/>
                    <a:pathLst>
                      <a:path w="3462" h="2819">
                        <a:moveTo>
                          <a:pt x="1869" y="450"/>
                        </a:moveTo>
                        <a:lnTo>
                          <a:pt x="1833" y="448"/>
                        </a:lnTo>
                        <a:lnTo>
                          <a:pt x="1802" y="438"/>
                        </a:lnTo>
                        <a:lnTo>
                          <a:pt x="1769" y="431"/>
                        </a:lnTo>
                        <a:lnTo>
                          <a:pt x="1741" y="414"/>
                        </a:lnTo>
                        <a:lnTo>
                          <a:pt x="1703" y="383"/>
                        </a:lnTo>
                        <a:lnTo>
                          <a:pt x="1674" y="343"/>
                        </a:lnTo>
                        <a:lnTo>
                          <a:pt x="1655" y="295"/>
                        </a:lnTo>
                        <a:lnTo>
                          <a:pt x="1648" y="231"/>
                        </a:lnTo>
                        <a:lnTo>
                          <a:pt x="1660" y="152"/>
                        </a:lnTo>
                        <a:lnTo>
                          <a:pt x="1677" y="112"/>
                        </a:lnTo>
                        <a:lnTo>
                          <a:pt x="1705" y="74"/>
                        </a:lnTo>
                        <a:lnTo>
                          <a:pt x="1722" y="55"/>
                        </a:lnTo>
                        <a:lnTo>
                          <a:pt x="1743" y="38"/>
                        </a:lnTo>
                        <a:lnTo>
                          <a:pt x="1767" y="24"/>
                        </a:lnTo>
                        <a:lnTo>
                          <a:pt x="1795" y="12"/>
                        </a:lnTo>
                        <a:lnTo>
                          <a:pt x="1864" y="0"/>
                        </a:lnTo>
                        <a:lnTo>
                          <a:pt x="1940" y="5"/>
                        </a:lnTo>
                        <a:lnTo>
                          <a:pt x="2014" y="26"/>
                        </a:lnTo>
                        <a:lnTo>
                          <a:pt x="2064" y="50"/>
                        </a:lnTo>
                        <a:lnTo>
                          <a:pt x="2087" y="78"/>
                        </a:lnTo>
                        <a:lnTo>
                          <a:pt x="2123" y="145"/>
                        </a:lnTo>
                        <a:lnTo>
                          <a:pt x="2142" y="219"/>
                        </a:lnTo>
                        <a:lnTo>
                          <a:pt x="2149" y="352"/>
                        </a:lnTo>
                        <a:lnTo>
                          <a:pt x="2147" y="414"/>
                        </a:lnTo>
                        <a:lnTo>
                          <a:pt x="2159" y="424"/>
                        </a:lnTo>
                        <a:lnTo>
                          <a:pt x="2197" y="450"/>
                        </a:lnTo>
                        <a:lnTo>
                          <a:pt x="2227" y="469"/>
                        </a:lnTo>
                        <a:lnTo>
                          <a:pt x="2261" y="493"/>
                        </a:lnTo>
                        <a:lnTo>
                          <a:pt x="2280" y="507"/>
                        </a:lnTo>
                        <a:lnTo>
                          <a:pt x="2301" y="524"/>
                        </a:lnTo>
                        <a:lnTo>
                          <a:pt x="2322" y="540"/>
                        </a:lnTo>
                        <a:lnTo>
                          <a:pt x="2346" y="557"/>
                        </a:lnTo>
                        <a:lnTo>
                          <a:pt x="2370" y="576"/>
                        </a:lnTo>
                        <a:lnTo>
                          <a:pt x="2396" y="595"/>
                        </a:lnTo>
                        <a:lnTo>
                          <a:pt x="2422" y="617"/>
                        </a:lnTo>
                        <a:lnTo>
                          <a:pt x="2451" y="638"/>
                        </a:lnTo>
                        <a:lnTo>
                          <a:pt x="2479" y="662"/>
                        </a:lnTo>
                        <a:lnTo>
                          <a:pt x="2508" y="686"/>
                        </a:lnTo>
                        <a:lnTo>
                          <a:pt x="2541" y="712"/>
                        </a:lnTo>
                        <a:lnTo>
                          <a:pt x="2572" y="738"/>
                        </a:lnTo>
                        <a:lnTo>
                          <a:pt x="2605" y="764"/>
                        </a:lnTo>
                        <a:lnTo>
                          <a:pt x="2624" y="779"/>
                        </a:lnTo>
                        <a:lnTo>
                          <a:pt x="2641" y="793"/>
                        </a:lnTo>
                        <a:lnTo>
                          <a:pt x="2657" y="810"/>
                        </a:lnTo>
                        <a:lnTo>
                          <a:pt x="2674" y="824"/>
                        </a:lnTo>
                        <a:lnTo>
                          <a:pt x="2693" y="838"/>
                        </a:lnTo>
                        <a:lnTo>
                          <a:pt x="2709" y="855"/>
                        </a:lnTo>
                        <a:lnTo>
                          <a:pt x="2728" y="869"/>
                        </a:lnTo>
                        <a:lnTo>
                          <a:pt x="2747" y="886"/>
                        </a:lnTo>
                        <a:lnTo>
                          <a:pt x="2766" y="902"/>
                        </a:lnTo>
                        <a:lnTo>
                          <a:pt x="2785" y="919"/>
                        </a:lnTo>
                        <a:lnTo>
                          <a:pt x="2804" y="936"/>
                        </a:lnTo>
                        <a:lnTo>
                          <a:pt x="2821" y="952"/>
                        </a:lnTo>
                        <a:lnTo>
                          <a:pt x="2842" y="969"/>
                        </a:lnTo>
                        <a:lnTo>
                          <a:pt x="2861" y="988"/>
                        </a:lnTo>
                        <a:lnTo>
                          <a:pt x="2880" y="1007"/>
                        </a:lnTo>
                        <a:lnTo>
                          <a:pt x="2899" y="1024"/>
                        </a:lnTo>
                        <a:lnTo>
                          <a:pt x="2918" y="1043"/>
                        </a:lnTo>
                        <a:lnTo>
                          <a:pt x="2940" y="1060"/>
                        </a:lnTo>
                        <a:lnTo>
                          <a:pt x="2956" y="1079"/>
                        </a:lnTo>
                        <a:lnTo>
                          <a:pt x="2975" y="1098"/>
                        </a:lnTo>
                        <a:lnTo>
                          <a:pt x="2994" y="1117"/>
                        </a:lnTo>
                        <a:lnTo>
                          <a:pt x="3013" y="1136"/>
                        </a:lnTo>
                        <a:lnTo>
                          <a:pt x="3030" y="1152"/>
                        </a:lnTo>
                        <a:lnTo>
                          <a:pt x="3049" y="1171"/>
                        </a:lnTo>
                        <a:lnTo>
                          <a:pt x="3066" y="1188"/>
                        </a:lnTo>
                        <a:lnTo>
                          <a:pt x="3082" y="1207"/>
                        </a:lnTo>
                        <a:lnTo>
                          <a:pt x="3099" y="1226"/>
                        </a:lnTo>
                        <a:lnTo>
                          <a:pt x="3116" y="1243"/>
                        </a:lnTo>
                        <a:lnTo>
                          <a:pt x="3132" y="1262"/>
                        </a:lnTo>
                        <a:lnTo>
                          <a:pt x="3151" y="1281"/>
                        </a:lnTo>
                        <a:lnTo>
                          <a:pt x="3165" y="1300"/>
                        </a:lnTo>
                        <a:lnTo>
                          <a:pt x="3182" y="1317"/>
                        </a:lnTo>
                        <a:lnTo>
                          <a:pt x="3196" y="1336"/>
                        </a:lnTo>
                        <a:lnTo>
                          <a:pt x="3210" y="1355"/>
                        </a:lnTo>
                        <a:lnTo>
                          <a:pt x="3227" y="1374"/>
                        </a:lnTo>
                        <a:lnTo>
                          <a:pt x="3241" y="1391"/>
                        </a:lnTo>
                        <a:lnTo>
                          <a:pt x="3253" y="1410"/>
                        </a:lnTo>
                        <a:lnTo>
                          <a:pt x="3267" y="1429"/>
                        </a:lnTo>
                        <a:lnTo>
                          <a:pt x="3317" y="1500"/>
                        </a:lnTo>
                        <a:lnTo>
                          <a:pt x="3362" y="1572"/>
                        </a:lnTo>
                        <a:lnTo>
                          <a:pt x="3398" y="1643"/>
                        </a:lnTo>
                        <a:lnTo>
                          <a:pt x="3429" y="1710"/>
                        </a:lnTo>
                        <a:lnTo>
                          <a:pt x="3462" y="1843"/>
                        </a:lnTo>
                        <a:lnTo>
                          <a:pt x="3462" y="1964"/>
                        </a:lnTo>
                        <a:lnTo>
                          <a:pt x="3446" y="2022"/>
                        </a:lnTo>
                        <a:lnTo>
                          <a:pt x="3419" y="2076"/>
                        </a:lnTo>
                        <a:lnTo>
                          <a:pt x="3384" y="2122"/>
                        </a:lnTo>
                        <a:lnTo>
                          <a:pt x="3367" y="2141"/>
                        </a:lnTo>
                        <a:lnTo>
                          <a:pt x="3348" y="2157"/>
                        </a:lnTo>
                        <a:lnTo>
                          <a:pt x="3329" y="2172"/>
                        </a:lnTo>
                        <a:lnTo>
                          <a:pt x="3310" y="2184"/>
                        </a:lnTo>
                        <a:lnTo>
                          <a:pt x="3270" y="2205"/>
                        </a:lnTo>
                        <a:lnTo>
                          <a:pt x="3232" y="2217"/>
                        </a:lnTo>
                        <a:lnTo>
                          <a:pt x="3194" y="2222"/>
                        </a:lnTo>
                        <a:lnTo>
                          <a:pt x="3116" y="2219"/>
                        </a:lnTo>
                        <a:lnTo>
                          <a:pt x="2994" y="2181"/>
                        </a:lnTo>
                        <a:lnTo>
                          <a:pt x="2959" y="2162"/>
                        </a:lnTo>
                        <a:lnTo>
                          <a:pt x="2945" y="2155"/>
                        </a:lnTo>
                        <a:lnTo>
                          <a:pt x="2757" y="1953"/>
                        </a:lnTo>
                        <a:lnTo>
                          <a:pt x="1983" y="669"/>
                        </a:lnTo>
                        <a:lnTo>
                          <a:pt x="2002" y="543"/>
                        </a:lnTo>
                        <a:lnTo>
                          <a:pt x="2040" y="600"/>
                        </a:lnTo>
                        <a:lnTo>
                          <a:pt x="2083" y="667"/>
                        </a:lnTo>
                        <a:lnTo>
                          <a:pt x="2109" y="707"/>
                        </a:lnTo>
                        <a:lnTo>
                          <a:pt x="2137" y="752"/>
                        </a:lnTo>
                        <a:lnTo>
                          <a:pt x="2171" y="800"/>
                        </a:lnTo>
                        <a:lnTo>
                          <a:pt x="2204" y="852"/>
                        </a:lnTo>
                        <a:lnTo>
                          <a:pt x="2242" y="910"/>
                        </a:lnTo>
                        <a:lnTo>
                          <a:pt x="2280" y="967"/>
                        </a:lnTo>
                        <a:lnTo>
                          <a:pt x="2320" y="1026"/>
                        </a:lnTo>
                        <a:lnTo>
                          <a:pt x="2360" y="1088"/>
                        </a:lnTo>
                        <a:lnTo>
                          <a:pt x="2406" y="1152"/>
                        </a:lnTo>
                        <a:lnTo>
                          <a:pt x="2448" y="1214"/>
                        </a:lnTo>
                        <a:lnTo>
                          <a:pt x="2491" y="1279"/>
                        </a:lnTo>
                        <a:lnTo>
                          <a:pt x="2534" y="1343"/>
                        </a:lnTo>
                        <a:lnTo>
                          <a:pt x="2579" y="1405"/>
                        </a:lnTo>
                        <a:lnTo>
                          <a:pt x="2619" y="1469"/>
                        </a:lnTo>
                        <a:lnTo>
                          <a:pt x="2662" y="1529"/>
                        </a:lnTo>
                        <a:lnTo>
                          <a:pt x="2702" y="1586"/>
                        </a:lnTo>
                        <a:lnTo>
                          <a:pt x="2743" y="1641"/>
                        </a:lnTo>
                        <a:lnTo>
                          <a:pt x="2781" y="1693"/>
                        </a:lnTo>
                        <a:lnTo>
                          <a:pt x="2819" y="1743"/>
                        </a:lnTo>
                        <a:lnTo>
                          <a:pt x="2835" y="1764"/>
                        </a:lnTo>
                        <a:lnTo>
                          <a:pt x="2852" y="1786"/>
                        </a:lnTo>
                        <a:lnTo>
                          <a:pt x="2869" y="1807"/>
                        </a:lnTo>
                        <a:lnTo>
                          <a:pt x="2883" y="1826"/>
                        </a:lnTo>
                        <a:lnTo>
                          <a:pt x="2897" y="1845"/>
                        </a:lnTo>
                        <a:lnTo>
                          <a:pt x="2911" y="1862"/>
                        </a:lnTo>
                        <a:lnTo>
                          <a:pt x="2923" y="1876"/>
                        </a:lnTo>
                        <a:lnTo>
                          <a:pt x="2937" y="1891"/>
                        </a:lnTo>
                        <a:lnTo>
                          <a:pt x="2959" y="1914"/>
                        </a:lnTo>
                        <a:lnTo>
                          <a:pt x="2978" y="1931"/>
                        </a:lnTo>
                        <a:lnTo>
                          <a:pt x="2992" y="1943"/>
                        </a:lnTo>
                        <a:lnTo>
                          <a:pt x="3042" y="1964"/>
                        </a:lnTo>
                        <a:lnTo>
                          <a:pt x="3097" y="1976"/>
                        </a:lnTo>
                        <a:lnTo>
                          <a:pt x="3194" y="1969"/>
                        </a:lnTo>
                        <a:lnTo>
                          <a:pt x="3234" y="1948"/>
                        </a:lnTo>
                        <a:lnTo>
                          <a:pt x="3267" y="1910"/>
                        </a:lnTo>
                        <a:lnTo>
                          <a:pt x="3286" y="1860"/>
                        </a:lnTo>
                        <a:lnTo>
                          <a:pt x="3291" y="1791"/>
                        </a:lnTo>
                        <a:lnTo>
                          <a:pt x="3277" y="1743"/>
                        </a:lnTo>
                        <a:lnTo>
                          <a:pt x="3234" y="1674"/>
                        </a:lnTo>
                        <a:lnTo>
                          <a:pt x="3206" y="1633"/>
                        </a:lnTo>
                        <a:lnTo>
                          <a:pt x="3189" y="1614"/>
                        </a:lnTo>
                        <a:lnTo>
                          <a:pt x="3172" y="1591"/>
                        </a:lnTo>
                        <a:lnTo>
                          <a:pt x="3154" y="1567"/>
                        </a:lnTo>
                        <a:lnTo>
                          <a:pt x="3132" y="1543"/>
                        </a:lnTo>
                        <a:lnTo>
                          <a:pt x="3111" y="1519"/>
                        </a:lnTo>
                        <a:lnTo>
                          <a:pt x="3089" y="1493"/>
                        </a:lnTo>
                        <a:lnTo>
                          <a:pt x="3066" y="1469"/>
                        </a:lnTo>
                        <a:lnTo>
                          <a:pt x="3042" y="1441"/>
                        </a:lnTo>
                        <a:lnTo>
                          <a:pt x="3018" y="1414"/>
                        </a:lnTo>
                        <a:lnTo>
                          <a:pt x="2992" y="1388"/>
                        </a:lnTo>
                        <a:lnTo>
                          <a:pt x="2968" y="1360"/>
                        </a:lnTo>
                        <a:lnTo>
                          <a:pt x="2954" y="1345"/>
                        </a:lnTo>
                        <a:lnTo>
                          <a:pt x="2940" y="1331"/>
                        </a:lnTo>
                        <a:lnTo>
                          <a:pt x="2926" y="1317"/>
                        </a:lnTo>
                        <a:lnTo>
                          <a:pt x="2914" y="1302"/>
                        </a:lnTo>
                        <a:lnTo>
                          <a:pt x="2899" y="1288"/>
                        </a:lnTo>
                        <a:lnTo>
                          <a:pt x="2885" y="1274"/>
                        </a:lnTo>
                        <a:lnTo>
                          <a:pt x="2871" y="1260"/>
                        </a:lnTo>
                        <a:lnTo>
                          <a:pt x="2857" y="1245"/>
                        </a:lnTo>
                        <a:lnTo>
                          <a:pt x="2842" y="1231"/>
                        </a:lnTo>
                        <a:lnTo>
                          <a:pt x="2828" y="1214"/>
                        </a:lnTo>
                        <a:lnTo>
                          <a:pt x="2814" y="1202"/>
                        </a:lnTo>
                        <a:lnTo>
                          <a:pt x="2800" y="1186"/>
                        </a:lnTo>
                        <a:lnTo>
                          <a:pt x="2785" y="1171"/>
                        </a:lnTo>
                        <a:lnTo>
                          <a:pt x="2769" y="1157"/>
                        </a:lnTo>
                        <a:lnTo>
                          <a:pt x="2755" y="1143"/>
                        </a:lnTo>
                        <a:lnTo>
                          <a:pt x="2740" y="1129"/>
                        </a:lnTo>
                        <a:lnTo>
                          <a:pt x="2726" y="1112"/>
                        </a:lnTo>
                        <a:lnTo>
                          <a:pt x="2712" y="1098"/>
                        </a:lnTo>
                        <a:lnTo>
                          <a:pt x="2698" y="1083"/>
                        </a:lnTo>
                        <a:lnTo>
                          <a:pt x="2681" y="1069"/>
                        </a:lnTo>
                        <a:lnTo>
                          <a:pt x="2667" y="1055"/>
                        </a:lnTo>
                        <a:lnTo>
                          <a:pt x="2653" y="1041"/>
                        </a:lnTo>
                        <a:lnTo>
                          <a:pt x="2636" y="1026"/>
                        </a:lnTo>
                        <a:lnTo>
                          <a:pt x="2622" y="1010"/>
                        </a:lnTo>
                        <a:lnTo>
                          <a:pt x="2607" y="998"/>
                        </a:lnTo>
                        <a:lnTo>
                          <a:pt x="2593" y="983"/>
                        </a:lnTo>
                        <a:lnTo>
                          <a:pt x="2562" y="952"/>
                        </a:lnTo>
                        <a:lnTo>
                          <a:pt x="2548" y="938"/>
                        </a:lnTo>
                        <a:lnTo>
                          <a:pt x="2531" y="924"/>
                        </a:lnTo>
                        <a:lnTo>
                          <a:pt x="2503" y="898"/>
                        </a:lnTo>
                        <a:lnTo>
                          <a:pt x="2474" y="869"/>
                        </a:lnTo>
                        <a:lnTo>
                          <a:pt x="2446" y="843"/>
                        </a:lnTo>
                        <a:lnTo>
                          <a:pt x="2417" y="814"/>
                        </a:lnTo>
                        <a:lnTo>
                          <a:pt x="2391" y="788"/>
                        </a:lnTo>
                        <a:lnTo>
                          <a:pt x="2363" y="764"/>
                        </a:lnTo>
                        <a:lnTo>
                          <a:pt x="2337" y="738"/>
                        </a:lnTo>
                        <a:lnTo>
                          <a:pt x="2311" y="714"/>
                        </a:lnTo>
                        <a:lnTo>
                          <a:pt x="2287" y="690"/>
                        </a:lnTo>
                        <a:lnTo>
                          <a:pt x="2261" y="669"/>
                        </a:lnTo>
                        <a:lnTo>
                          <a:pt x="2237" y="645"/>
                        </a:lnTo>
                        <a:lnTo>
                          <a:pt x="2216" y="624"/>
                        </a:lnTo>
                        <a:lnTo>
                          <a:pt x="2192" y="605"/>
                        </a:lnTo>
                        <a:lnTo>
                          <a:pt x="2173" y="586"/>
                        </a:lnTo>
                        <a:lnTo>
                          <a:pt x="2152" y="567"/>
                        </a:lnTo>
                        <a:lnTo>
                          <a:pt x="2133" y="550"/>
                        </a:lnTo>
                        <a:lnTo>
                          <a:pt x="2116" y="533"/>
                        </a:lnTo>
                        <a:lnTo>
                          <a:pt x="2099" y="519"/>
                        </a:lnTo>
                        <a:lnTo>
                          <a:pt x="2071" y="490"/>
                        </a:lnTo>
                        <a:lnTo>
                          <a:pt x="2049" y="469"/>
                        </a:lnTo>
                        <a:lnTo>
                          <a:pt x="2030" y="455"/>
                        </a:lnTo>
                        <a:lnTo>
                          <a:pt x="2016" y="443"/>
                        </a:lnTo>
                        <a:lnTo>
                          <a:pt x="2035" y="340"/>
                        </a:lnTo>
                        <a:lnTo>
                          <a:pt x="2028" y="255"/>
                        </a:lnTo>
                        <a:lnTo>
                          <a:pt x="2011" y="214"/>
                        </a:lnTo>
                        <a:lnTo>
                          <a:pt x="2000" y="195"/>
                        </a:lnTo>
                        <a:lnTo>
                          <a:pt x="1983" y="178"/>
                        </a:lnTo>
                        <a:lnTo>
                          <a:pt x="1964" y="164"/>
                        </a:lnTo>
                        <a:lnTo>
                          <a:pt x="1947" y="157"/>
                        </a:lnTo>
                        <a:lnTo>
                          <a:pt x="1900" y="145"/>
                        </a:lnTo>
                        <a:lnTo>
                          <a:pt x="1859" y="155"/>
                        </a:lnTo>
                        <a:lnTo>
                          <a:pt x="1829" y="181"/>
                        </a:lnTo>
                        <a:lnTo>
                          <a:pt x="1814" y="209"/>
                        </a:lnTo>
                        <a:lnTo>
                          <a:pt x="1814" y="236"/>
                        </a:lnTo>
                        <a:lnTo>
                          <a:pt x="1817" y="271"/>
                        </a:lnTo>
                        <a:lnTo>
                          <a:pt x="1836" y="300"/>
                        </a:lnTo>
                        <a:lnTo>
                          <a:pt x="1869" y="324"/>
                        </a:lnTo>
                        <a:lnTo>
                          <a:pt x="1909" y="326"/>
                        </a:lnTo>
                        <a:lnTo>
                          <a:pt x="1976" y="317"/>
                        </a:lnTo>
                        <a:lnTo>
                          <a:pt x="1957" y="400"/>
                        </a:lnTo>
                        <a:lnTo>
                          <a:pt x="1938" y="479"/>
                        </a:lnTo>
                        <a:lnTo>
                          <a:pt x="1921" y="559"/>
                        </a:lnTo>
                        <a:lnTo>
                          <a:pt x="1905" y="640"/>
                        </a:lnTo>
                        <a:lnTo>
                          <a:pt x="1886" y="721"/>
                        </a:lnTo>
                        <a:lnTo>
                          <a:pt x="1871" y="800"/>
                        </a:lnTo>
                        <a:lnTo>
                          <a:pt x="1836" y="962"/>
                        </a:lnTo>
                        <a:lnTo>
                          <a:pt x="1807" y="1121"/>
                        </a:lnTo>
                        <a:lnTo>
                          <a:pt x="1779" y="1279"/>
                        </a:lnTo>
                        <a:lnTo>
                          <a:pt x="1753" y="1438"/>
                        </a:lnTo>
                        <a:lnTo>
                          <a:pt x="1726" y="1598"/>
                        </a:lnTo>
                        <a:lnTo>
                          <a:pt x="1703" y="1753"/>
                        </a:lnTo>
                        <a:lnTo>
                          <a:pt x="1681" y="1910"/>
                        </a:lnTo>
                        <a:lnTo>
                          <a:pt x="1658" y="2064"/>
                        </a:lnTo>
                        <a:lnTo>
                          <a:pt x="1639" y="2217"/>
                        </a:lnTo>
                        <a:lnTo>
                          <a:pt x="1605" y="2522"/>
                        </a:lnTo>
                        <a:lnTo>
                          <a:pt x="1579" y="2819"/>
                        </a:lnTo>
                        <a:lnTo>
                          <a:pt x="0" y="2819"/>
                        </a:lnTo>
                        <a:lnTo>
                          <a:pt x="0" y="2574"/>
                        </a:lnTo>
                        <a:lnTo>
                          <a:pt x="1252" y="2569"/>
                        </a:lnTo>
                        <a:lnTo>
                          <a:pt x="1176" y="2419"/>
                        </a:lnTo>
                        <a:lnTo>
                          <a:pt x="1356" y="2119"/>
                        </a:lnTo>
                        <a:lnTo>
                          <a:pt x="1263" y="2007"/>
                        </a:lnTo>
                        <a:lnTo>
                          <a:pt x="1434" y="1676"/>
                        </a:lnTo>
                        <a:lnTo>
                          <a:pt x="1304" y="1512"/>
                        </a:lnTo>
                        <a:lnTo>
                          <a:pt x="1546" y="1222"/>
                        </a:lnTo>
                        <a:lnTo>
                          <a:pt x="1430" y="1105"/>
                        </a:lnTo>
                        <a:lnTo>
                          <a:pt x="1641" y="848"/>
                        </a:lnTo>
                        <a:lnTo>
                          <a:pt x="1558" y="757"/>
                        </a:lnTo>
                        <a:lnTo>
                          <a:pt x="1726" y="490"/>
                        </a:lnTo>
                        <a:lnTo>
                          <a:pt x="1798" y="514"/>
                        </a:lnTo>
                        <a:lnTo>
                          <a:pt x="1686" y="719"/>
                        </a:lnTo>
                        <a:lnTo>
                          <a:pt x="1753" y="824"/>
                        </a:lnTo>
                        <a:lnTo>
                          <a:pt x="1558" y="1105"/>
                        </a:lnTo>
                        <a:lnTo>
                          <a:pt x="1655" y="1233"/>
                        </a:lnTo>
                        <a:lnTo>
                          <a:pt x="1423" y="1491"/>
                        </a:lnTo>
                        <a:lnTo>
                          <a:pt x="1563" y="1676"/>
                        </a:lnTo>
                        <a:lnTo>
                          <a:pt x="1396" y="1972"/>
                        </a:lnTo>
                        <a:lnTo>
                          <a:pt x="1496" y="2115"/>
                        </a:lnTo>
                        <a:lnTo>
                          <a:pt x="1318" y="2398"/>
                        </a:lnTo>
                        <a:lnTo>
                          <a:pt x="1404" y="2562"/>
                        </a:lnTo>
                        <a:lnTo>
                          <a:pt x="1461" y="2619"/>
                        </a:lnTo>
                        <a:lnTo>
                          <a:pt x="1477" y="2472"/>
                        </a:lnTo>
                        <a:lnTo>
                          <a:pt x="1496" y="2326"/>
                        </a:lnTo>
                        <a:lnTo>
                          <a:pt x="1515" y="2186"/>
                        </a:lnTo>
                        <a:lnTo>
                          <a:pt x="1537" y="2050"/>
                        </a:lnTo>
                        <a:lnTo>
                          <a:pt x="1558" y="1917"/>
                        </a:lnTo>
                        <a:lnTo>
                          <a:pt x="1579" y="1786"/>
                        </a:lnTo>
                        <a:lnTo>
                          <a:pt x="1603" y="1655"/>
                        </a:lnTo>
                        <a:lnTo>
                          <a:pt x="1627" y="1526"/>
                        </a:lnTo>
                        <a:lnTo>
                          <a:pt x="1651" y="1395"/>
                        </a:lnTo>
                        <a:lnTo>
                          <a:pt x="1679" y="1267"/>
                        </a:lnTo>
                        <a:lnTo>
                          <a:pt x="1708" y="1138"/>
                        </a:lnTo>
                        <a:lnTo>
                          <a:pt x="1736" y="1005"/>
                        </a:lnTo>
                        <a:lnTo>
                          <a:pt x="1767" y="871"/>
                        </a:lnTo>
                        <a:lnTo>
                          <a:pt x="1798" y="733"/>
                        </a:lnTo>
                        <a:lnTo>
                          <a:pt x="1814" y="664"/>
                        </a:lnTo>
                        <a:lnTo>
                          <a:pt x="1831" y="593"/>
                        </a:lnTo>
                        <a:lnTo>
                          <a:pt x="1850" y="524"/>
                        </a:lnTo>
                        <a:lnTo>
                          <a:pt x="1869" y="450"/>
                        </a:lnTo>
                        <a:lnTo>
                          <a:pt x="1869" y="45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flipH="1">
                    <a:off x="2894040" y="1351440"/>
                    <a:ext cx="22320" cy="27000"/>
                  </a:xfrm>
                  <a:custGeom>
                    <a:avLst/>
                    <a:gdLst/>
                    <a:ahLst/>
                    <a:rect l="l" t="t" r="r" b="b"/>
                    <a:pathLst>
                      <a:path w="242" h="274">
                        <a:moveTo>
                          <a:pt x="168" y="0"/>
                        </a:moveTo>
                        <a:lnTo>
                          <a:pt x="156" y="162"/>
                        </a:lnTo>
                        <a:lnTo>
                          <a:pt x="0" y="179"/>
                        </a:lnTo>
                        <a:lnTo>
                          <a:pt x="66" y="274"/>
                        </a:lnTo>
                        <a:lnTo>
                          <a:pt x="230" y="267"/>
                        </a:lnTo>
                        <a:lnTo>
                          <a:pt x="242" y="105"/>
                        </a:lnTo>
                        <a:lnTo>
                          <a:pt x="168" y="0"/>
                        </a:lnTo>
                        <a:lnTo>
                          <a:pt x="168"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6" name=""/>
                  <p:cNvSpPr/>
                  <p:nvPr/>
                </p:nvSpPr>
                <p:spPr>
                  <a:xfrm flipH="1">
                    <a:off x="2910240" y="1332000"/>
                    <a:ext cx="20520" cy="25920"/>
                  </a:xfrm>
                  <a:custGeom>
                    <a:avLst/>
                    <a:gdLst/>
                    <a:ahLst/>
                    <a:rect l="l" t="t" r="r" b="b"/>
                    <a:pathLst>
                      <a:path w="223" h="264">
                        <a:moveTo>
                          <a:pt x="150" y="0"/>
                        </a:moveTo>
                        <a:lnTo>
                          <a:pt x="145" y="129"/>
                        </a:lnTo>
                        <a:lnTo>
                          <a:pt x="0" y="136"/>
                        </a:lnTo>
                        <a:lnTo>
                          <a:pt x="90" y="264"/>
                        </a:lnTo>
                        <a:lnTo>
                          <a:pt x="223" y="233"/>
                        </a:lnTo>
                        <a:lnTo>
                          <a:pt x="223" y="88"/>
                        </a:lnTo>
                        <a:lnTo>
                          <a:pt x="150" y="0"/>
                        </a:lnTo>
                        <a:lnTo>
                          <a:pt x="150" y="0"/>
                        </a:lnTo>
                        <a:close/>
                      </a:path>
                    </a:pathLst>
                  </a:custGeom>
                  <a:solidFill>
                    <a:srgbClr val="b8b8d9"/>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597" name=""/>
                  <p:cNvSpPr/>
                  <p:nvPr/>
                </p:nvSpPr>
                <p:spPr>
                  <a:xfrm flipH="1">
                    <a:off x="2926080" y="1315080"/>
                    <a:ext cx="16200" cy="22680"/>
                  </a:xfrm>
                  <a:custGeom>
                    <a:avLst/>
                    <a:gdLst/>
                    <a:ahLst/>
                    <a:rect l="l" t="t" r="r" b="b"/>
                    <a:pathLst>
                      <a:path w="176" h="233">
                        <a:moveTo>
                          <a:pt x="95" y="0"/>
                        </a:moveTo>
                        <a:lnTo>
                          <a:pt x="95" y="121"/>
                        </a:lnTo>
                        <a:lnTo>
                          <a:pt x="0" y="136"/>
                        </a:lnTo>
                        <a:lnTo>
                          <a:pt x="64" y="233"/>
                        </a:lnTo>
                        <a:lnTo>
                          <a:pt x="176" y="193"/>
                        </a:lnTo>
                        <a:lnTo>
                          <a:pt x="176" y="81"/>
                        </a:lnTo>
                        <a:lnTo>
                          <a:pt x="95" y="0"/>
                        </a:lnTo>
                        <a:lnTo>
                          <a:pt x="95" y="0"/>
                        </a:lnTo>
                        <a:close/>
                      </a:path>
                    </a:pathLst>
                  </a:custGeom>
                  <a:solidFill>
                    <a:srgbClr val="b8b8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98" name=""/>
                  <p:cNvSpPr/>
                  <p:nvPr/>
                </p:nvSpPr>
                <p:spPr>
                  <a:xfrm flipH="1">
                    <a:off x="2940120" y="1269720"/>
                    <a:ext cx="39240" cy="49320"/>
                  </a:xfrm>
                  <a:custGeom>
                    <a:avLst/>
                    <a:gdLst/>
                    <a:ahLst/>
                    <a:rect l="l" t="t" r="r" b="b"/>
                    <a:pathLst>
                      <a:path w="423" h="500">
                        <a:moveTo>
                          <a:pt x="423" y="386"/>
                        </a:moveTo>
                        <a:lnTo>
                          <a:pt x="423" y="491"/>
                        </a:lnTo>
                        <a:lnTo>
                          <a:pt x="318" y="500"/>
                        </a:lnTo>
                        <a:lnTo>
                          <a:pt x="0" y="0"/>
                        </a:lnTo>
                        <a:lnTo>
                          <a:pt x="423" y="386"/>
                        </a:lnTo>
                        <a:lnTo>
                          <a:pt x="423" y="386"/>
                        </a:lnTo>
                        <a:close/>
                      </a:path>
                    </a:pathLst>
                  </a:custGeom>
                  <a:solidFill>
                    <a:srgbClr val="b8b8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99" name=""/>
                  <p:cNvSpPr/>
                  <p:nvPr/>
                </p:nvSpPr>
                <p:spPr>
                  <a:xfrm flipH="1">
                    <a:off x="2698560" y="1286640"/>
                    <a:ext cx="205200" cy="127440"/>
                  </a:xfrm>
                  <a:custGeom>
                    <a:avLst/>
                    <a:gdLst/>
                    <a:ahLst/>
                    <a:rect l="l" t="t" r="r" b="b"/>
                    <a:pathLst>
                      <a:path w="2206" h="1291">
                        <a:moveTo>
                          <a:pt x="1638" y="1098"/>
                        </a:moveTo>
                        <a:lnTo>
                          <a:pt x="1683" y="1105"/>
                        </a:lnTo>
                        <a:lnTo>
                          <a:pt x="1795" y="1112"/>
                        </a:lnTo>
                        <a:lnTo>
                          <a:pt x="1942" y="1088"/>
                        </a:lnTo>
                        <a:lnTo>
                          <a:pt x="2016" y="1057"/>
                        </a:lnTo>
                        <a:lnTo>
                          <a:pt x="2052" y="1036"/>
                        </a:lnTo>
                        <a:lnTo>
                          <a:pt x="2085" y="1007"/>
                        </a:lnTo>
                        <a:lnTo>
                          <a:pt x="2118" y="976"/>
                        </a:lnTo>
                        <a:lnTo>
                          <a:pt x="2144" y="936"/>
                        </a:lnTo>
                        <a:lnTo>
                          <a:pt x="2184" y="840"/>
                        </a:lnTo>
                        <a:lnTo>
                          <a:pt x="2203" y="729"/>
                        </a:lnTo>
                        <a:lnTo>
                          <a:pt x="2206" y="607"/>
                        </a:lnTo>
                        <a:lnTo>
                          <a:pt x="2184" y="478"/>
                        </a:lnTo>
                        <a:lnTo>
                          <a:pt x="2165" y="414"/>
                        </a:lnTo>
                        <a:lnTo>
                          <a:pt x="2142" y="350"/>
                        </a:lnTo>
                        <a:lnTo>
                          <a:pt x="2111" y="288"/>
                        </a:lnTo>
                        <a:lnTo>
                          <a:pt x="2075" y="228"/>
                        </a:lnTo>
                        <a:lnTo>
                          <a:pt x="2033" y="169"/>
                        </a:lnTo>
                        <a:lnTo>
                          <a:pt x="2009" y="143"/>
                        </a:lnTo>
                        <a:lnTo>
                          <a:pt x="1983" y="117"/>
                        </a:lnTo>
                        <a:lnTo>
                          <a:pt x="1959" y="93"/>
                        </a:lnTo>
                        <a:lnTo>
                          <a:pt x="1930" y="71"/>
                        </a:lnTo>
                        <a:lnTo>
                          <a:pt x="1904" y="52"/>
                        </a:lnTo>
                        <a:lnTo>
                          <a:pt x="1876" y="38"/>
                        </a:lnTo>
                        <a:lnTo>
                          <a:pt x="1821" y="14"/>
                        </a:lnTo>
                        <a:lnTo>
                          <a:pt x="1769" y="2"/>
                        </a:lnTo>
                        <a:lnTo>
                          <a:pt x="1660" y="0"/>
                        </a:lnTo>
                        <a:lnTo>
                          <a:pt x="1565" y="21"/>
                        </a:lnTo>
                        <a:lnTo>
                          <a:pt x="1517" y="40"/>
                        </a:lnTo>
                        <a:lnTo>
                          <a:pt x="1477" y="59"/>
                        </a:lnTo>
                        <a:lnTo>
                          <a:pt x="1441" y="76"/>
                        </a:lnTo>
                        <a:lnTo>
                          <a:pt x="1410" y="95"/>
                        </a:lnTo>
                        <a:lnTo>
                          <a:pt x="1384" y="112"/>
                        </a:lnTo>
                        <a:lnTo>
                          <a:pt x="1365" y="126"/>
                        </a:lnTo>
                        <a:lnTo>
                          <a:pt x="1349" y="138"/>
                        </a:lnTo>
                        <a:lnTo>
                          <a:pt x="1361" y="167"/>
                        </a:lnTo>
                        <a:lnTo>
                          <a:pt x="1389" y="240"/>
                        </a:lnTo>
                        <a:lnTo>
                          <a:pt x="1406" y="293"/>
                        </a:lnTo>
                        <a:lnTo>
                          <a:pt x="1422" y="350"/>
                        </a:lnTo>
                        <a:lnTo>
                          <a:pt x="1460" y="481"/>
                        </a:lnTo>
                        <a:lnTo>
                          <a:pt x="1503" y="757"/>
                        </a:lnTo>
                        <a:lnTo>
                          <a:pt x="1496" y="874"/>
                        </a:lnTo>
                        <a:lnTo>
                          <a:pt x="1479" y="921"/>
                        </a:lnTo>
                        <a:lnTo>
                          <a:pt x="1458" y="960"/>
                        </a:lnTo>
                        <a:lnTo>
                          <a:pt x="1444" y="976"/>
                        </a:lnTo>
                        <a:lnTo>
                          <a:pt x="1429" y="993"/>
                        </a:lnTo>
                        <a:lnTo>
                          <a:pt x="1403" y="1021"/>
                        </a:lnTo>
                        <a:lnTo>
                          <a:pt x="1380" y="1048"/>
                        </a:lnTo>
                        <a:lnTo>
                          <a:pt x="1353" y="1071"/>
                        </a:lnTo>
                        <a:lnTo>
                          <a:pt x="1327" y="1090"/>
                        </a:lnTo>
                        <a:lnTo>
                          <a:pt x="1304" y="1107"/>
                        </a:lnTo>
                        <a:lnTo>
                          <a:pt x="1280" y="1119"/>
                        </a:lnTo>
                        <a:lnTo>
                          <a:pt x="1254" y="1131"/>
                        </a:lnTo>
                        <a:lnTo>
                          <a:pt x="1197" y="1136"/>
                        </a:lnTo>
                        <a:lnTo>
                          <a:pt x="1135" y="1119"/>
                        </a:lnTo>
                        <a:lnTo>
                          <a:pt x="1064" y="1086"/>
                        </a:lnTo>
                        <a:lnTo>
                          <a:pt x="1023" y="1062"/>
                        </a:lnTo>
                        <a:lnTo>
                          <a:pt x="1004" y="1048"/>
                        </a:lnTo>
                        <a:lnTo>
                          <a:pt x="978" y="1031"/>
                        </a:lnTo>
                        <a:lnTo>
                          <a:pt x="959" y="1012"/>
                        </a:lnTo>
                        <a:lnTo>
                          <a:pt x="938" y="993"/>
                        </a:lnTo>
                        <a:lnTo>
                          <a:pt x="902" y="940"/>
                        </a:lnTo>
                        <a:lnTo>
                          <a:pt x="874" y="881"/>
                        </a:lnTo>
                        <a:lnTo>
                          <a:pt x="852" y="814"/>
                        </a:lnTo>
                        <a:lnTo>
                          <a:pt x="819" y="667"/>
                        </a:lnTo>
                        <a:lnTo>
                          <a:pt x="803" y="509"/>
                        </a:lnTo>
                        <a:lnTo>
                          <a:pt x="798" y="238"/>
                        </a:lnTo>
                        <a:lnTo>
                          <a:pt x="805" y="121"/>
                        </a:lnTo>
                        <a:lnTo>
                          <a:pt x="0" y="136"/>
                        </a:lnTo>
                        <a:lnTo>
                          <a:pt x="142" y="278"/>
                        </a:lnTo>
                        <a:lnTo>
                          <a:pt x="667" y="274"/>
                        </a:lnTo>
                        <a:lnTo>
                          <a:pt x="643" y="581"/>
                        </a:lnTo>
                        <a:lnTo>
                          <a:pt x="655" y="714"/>
                        </a:lnTo>
                        <a:lnTo>
                          <a:pt x="667" y="783"/>
                        </a:lnTo>
                        <a:lnTo>
                          <a:pt x="684" y="852"/>
                        </a:lnTo>
                        <a:lnTo>
                          <a:pt x="708" y="919"/>
                        </a:lnTo>
                        <a:lnTo>
                          <a:pt x="738" y="986"/>
                        </a:lnTo>
                        <a:lnTo>
                          <a:pt x="774" y="1048"/>
                        </a:lnTo>
                        <a:lnTo>
                          <a:pt x="798" y="1076"/>
                        </a:lnTo>
                        <a:lnTo>
                          <a:pt x="807" y="1090"/>
                        </a:lnTo>
                        <a:lnTo>
                          <a:pt x="822" y="1105"/>
                        </a:lnTo>
                        <a:lnTo>
                          <a:pt x="845" y="1131"/>
                        </a:lnTo>
                        <a:lnTo>
                          <a:pt x="871" y="1155"/>
                        </a:lnTo>
                        <a:lnTo>
                          <a:pt x="895" y="1179"/>
                        </a:lnTo>
                        <a:lnTo>
                          <a:pt x="921" y="1198"/>
                        </a:lnTo>
                        <a:lnTo>
                          <a:pt x="945" y="1214"/>
                        </a:lnTo>
                        <a:lnTo>
                          <a:pt x="971" y="1231"/>
                        </a:lnTo>
                        <a:lnTo>
                          <a:pt x="995" y="1245"/>
                        </a:lnTo>
                        <a:lnTo>
                          <a:pt x="1021" y="1257"/>
                        </a:lnTo>
                        <a:lnTo>
                          <a:pt x="1071" y="1276"/>
                        </a:lnTo>
                        <a:lnTo>
                          <a:pt x="1121" y="1288"/>
                        </a:lnTo>
                        <a:lnTo>
                          <a:pt x="1216" y="1291"/>
                        </a:lnTo>
                        <a:lnTo>
                          <a:pt x="1308" y="1267"/>
                        </a:lnTo>
                        <a:lnTo>
                          <a:pt x="1351" y="1248"/>
                        </a:lnTo>
                        <a:lnTo>
                          <a:pt x="1396" y="1221"/>
                        </a:lnTo>
                        <a:lnTo>
                          <a:pt x="1439" y="1193"/>
                        </a:lnTo>
                        <a:lnTo>
                          <a:pt x="1458" y="1176"/>
                        </a:lnTo>
                        <a:lnTo>
                          <a:pt x="1477" y="1157"/>
                        </a:lnTo>
                        <a:lnTo>
                          <a:pt x="1498" y="1138"/>
                        </a:lnTo>
                        <a:lnTo>
                          <a:pt x="1517" y="1119"/>
                        </a:lnTo>
                        <a:lnTo>
                          <a:pt x="1536" y="1098"/>
                        </a:lnTo>
                        <a:lnTo>
                          <a:pt x="1553" y="1074"/>
                        </a:lnTo>
                        <a:lnTo>
                          <a:pt x="1607" y="967"/>
                        </a:lnTo>
                        <a:lnTo>
                          <a:pt x="1624" y="838"/>
                        </a:lnTo>
                        <a:lnTo>
                          <a:pt x="1617" y="695"/>
                        </a:lnTo>
                        <a:lnTo>
                          <a:pt x="1591" y="552"/>
                        </a:lnTo>
                        <a:lnTo>
                          <a:pt x="1577" y="483"/>
                        </a:lnTo>
                        <a:lnTo>
                          <a:pt x="1558" y="419"/>
                        </a:lnTo>
                        <a:lnTo>
                          <a:pt x="1539" y="362"/>
                        </a:lnTo>
                        <a:lnTo>
                          <a:pt x="1522" y="309"/>
                        </a:lnTo>
                        <a:lnTo>
                          <a:pt x="1496" y="238"/>
                        </a:lnTo>
                        <a:lnTo>
                          <a:pt x="1486" y="209"/>
                        </a:lnTo>
                        <a:lnTo>
                          <a:pt x="1527" y="193"/>
                        </a:lnTo>
                        <a:lnTo>
                          <a:pt x="1572" y="174"/>
                        </a:lnTo>
                        <a:lnTo>
                          <a:pt x="1626" y="159"/>
                        </a:lnTo>
                        <a:lnTo>
                          <a:pt x="1693" y="150"/>
                        </a:lnTo>
                        <a:lnTo>
                          <a:pt x="1762" y="152"/>
                        </a:lnTo>
                        <a:lnTo>
                          <a:pt x="1833" y="167"/>
                        </a:lnTo>
                        <a:lnTo>
                          <a:pt x="1897" y="202"/>
                        </a:lnTo>
                        <a:lnTo>
                          <a:pt x="1997" y="336"/>
                        </a:lnTo>
                        <a:lnTo>
                          <a:pt x="2044" y="526"/>
                        </a:lnTo>
                        <a:lnTo>
                          <a:pt x="2040" y="724"/>
                        </a:lnTo>
                        <a:lnTo>
                          <a:pt x="2021" y="812"/>
                        </a:lnTo>
                        <a:lnTo>
                          <a:pt x="2006" y="848"/>
                        </a:lnTo>
                        <a:lnTo>
                          <a:pt x="1990" y="881"/>
                        </a:lnTo>
                        <a:lnTo>
                          <a:pt x="1954" y="931"/>
                        </a:lnTo>
                        <a:lnTo>
                          <a:pt x="1933" y="950"/>
                        </a:lnTo>
                        <a:lnTo>
                          <a:pt x="1914" y="964"/>
                        </a:lnTo>
                        <a:lnTo>
                          <a:pt x="1871" y="983"/>
                        </a:lnTo>
                        <a:lnTo>
                          <a:pt x="1833" y="990"/>
                        </a:lnTo>
                        <a:lnTo>
                          <a:pt x="1771" y="983"/>
                        </a:lnTo>
                        <a:lnTo>
                          <a:pt x="1745" y="976"/>
                        </a:lnTo>
                        <a:lnTo>
                          <a:pt x="1759" y="714"/>
                        </a:lnTo>
                        <a:lnTo>
                          <a:pt x="1738" y="621"/>
                        </a:lnTo>
                        <a:lnTo>
                          <a:pt x="1710" y="493"/>
                        </a:lnTo>
                        <a:lnTo>
                          <a:pt x="1700" y="371"/>
                        </a:lnTo>
                        <a:lnTo>
                          <a:pt x="1712" y="326"/>
                        </a:lnTo>
                        <a:lnTo>
                          <a:pt x="1721" y="312"/>
                        </a:lnTo>
                        <a:lnTo>
                          <a:pt x="1738" y="300"/>
                        </a:lnTo>
                        <a:lnTo>
                          <a:pt x="1769" y="293"/>
                        </a:lnTo>
                        <a:lnTo>
                          <a:pt x="1800" y="300"/>
                        </a:lnTo>
                        <a:lnTo>
                          <a:pt x="1850" y="343"/>
                        </a:lnTo>
                        <a:lnTo>
                          <a:pt x="1909" y="469"/>
                        </a:lnTo>
                        <a:lnTo>
                          <a:pt x="1914" y="517"/>
                        </a:lnTo>
                        <a:lnTo>
                          <a:pt x="1900" y="552"/>
                        </a:lnTo>
                        <a:lnTo>
                          <a:pt x="1873" y="567"/>
                        </a:lnTo>
                        <a:lnTo>
                          <a:pt x="1835" y="548"/>
                        </a:lnTo>
                        <a:lnTo>
                          <a:pt x="1812" y="507"/>
                        </a:lnTo>
                        <a:lnTo>
                          <a:pt x="1819" y="459"/>
                        </a:lnTo>
                        <a:lnTo>
                          <a:pt x="1835" y="436"/>
                        </a:lnTo>
                        <a:lnTo>
                          <a:pt x="1859" y="419"/>
                        </a:lnTo>
                        <a:lnTo>
                          <a:pt x="1795" y="340"/>
                        </a:lnTo>
                        <a:lnTo>
                          <a:pt x="1771" y="374"/>
                        </a:lnTo>
                        <a:lnTo>
                          <a:pt x="1762" y="409"/>
                        </a:lnTo>
                        <a:lnTo>
                          <a:pt x="1757" y="481"/>
                        </a:lnTo>
                        <a:lnTo>
                          <a:pt x="1776" y="576"/>
                        </a:lnTo>
                        <a:lnTo>
                          <a:pt x="1802" y="645"/>
                        </a:lnTo>
                        <a:lnTo>
                          <a:pt x="1826" y="671"/>
                        </a:lnTo>
                        <a:lnTo>
                          <a:pt x="1845" y="688"/>
                        </a:lnTo>
                        <a:lnTo>
                          <a:pt x="1883" y="702"/>
                        </a:lnTo>
                        <a:lnTo>
                          <a:pt x="1916" y="695"/>
                        </a:lnTo>
                        <a:lnTo>
                          <a:pt x="1942" y="669"/>
                        </a:lnTo>
                        <a:lnTo>
                          <a:pt x="1971" y="576"/>
                        </a:lnTo>
                        <a:lnTo>
                          <a:pt x="1973" y="459"/>
                        </a:lnTo>
                        <a:lnTo>
                          <a:pt x="1959" y="402"/>
                        </a:lnTo>
                        <a:lnTo>
                          <a:pt x="1933" y="348"/>
                        </a:lnTo>
                        <a:lnTo>
                          <a:pt x="1897" y="298"/>
                        </a:lnTo>
                        <a:lnTo>
                          <a:pt x="1878" y="276"/>
                        </a:lnTo>
                        <a:lnTo>
                          <a:pt x="1854" y="255"/>
                        </a:lnTo>
                        <a:lnTo>
                          <a:pt x="1833" y="238"/>
                        </a:lnTo>
                        <a:lnTo>
                          <a:pt x="1809" y="224"/>
                        </a:lnTo>
                        <a:lnTo>
                          <a:pt x="1786" y="212"/>
                        </a:lnTo>
                        <a:lnTo>
                          <a:pt x="1759" y="200"/>
                        </a:lnTo>
                        <a:lnTo>
                          <a:pt x="1712" y="193"/>
                        </a:lnTo>
                        <a:lnTo>
                          <a:pt x="1667" y="197"/>
                        </a:lnTo>
                        <a:lnTo>
                          <a:pt x="1631" y="219"/>
                        </a:lnTo>
                        <a:lnTo>
                          <a:pt x="1610" y="250"/>
                        </a:lnTo>
                        <a:lnTo>
                          <a:pt x="1605" y="340"/>
                        </a:lnTo>
                        <a:lnTo>
                          <a:pt x="1615" y="400"/>
                        </a:lnTo>
                        <a:lnTo>
                          <a:pt x="1631" y="467"/>
                        </a:lnTo>
                        <a:lnTo>
                          <a:pt x="1653" y="540"/>
                        </a:lnTo>
                        <a:lnTo>
                          <a:pt x="1676" y="624"/>
                        </a:lnTo>
                        <a:lnTo>
                          <a:pt x="1700" y="793"/>
                        </a:lnTo>
                        <a:lnTo>
                          <a:pt x="1683" y="945"/>
                        </a:lnTo>
                        <a:lnTo>
                          <a:pt x="1669" y="1007"/>
                        </a:lnTo>
                        <a:lnTo>
                          <a:pt x="1655" y="1055"/>
                        </a:lnTo>
                        <a:lnTo>
                          <a:pt x="1638" y="1098"/>
                        </a:lnTo>
                        <a:lnTo>
                          <a:pt x="1638" y="109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flipH="1">
                    <a:off x="2979360" y="1301040"/>
                    <a:ext cx="35280" cy="13680"/>
                  </a:xfrm>
                  <a:custGeom>
                    <a:avLst/>
                    <a:gdLst/>
                    <a:ahLst/>
                    <a:rect l="l" t="t" r="r" b="b"/>
                    <a:pathLst>
                      <a:path w="382" h="141">
                        <a:moveTo>
                          <a:pt x="328" y="0"/>
                        </a:moveTo>
                        <a:lnTo>
                          <a:pt x="17" y="0"/>
                        </a:lnTo>
                        <a:lnTo>
                          <a:pt x="0" y="141"/>
                        </a:lnTo>
                        <a:lnTo>
                          <a:pt x="382" y="141"/>
                        </a:lnTo>
                        <a:lnTo>
                          <a:pt x="328" y="0"/>
                        </a:lnTo>
                        <a:lnTo>
                          <a:pt x="328" y="0"/>
                        </a:lnTo>
                        <a:close/>
                      </a:path>
                    </a:pathLst>
                  </a:custGeom>
                  <a:solidFill>
                    <a:srgbClr val="b8b8d9"/>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601" name=""/>
                  <p:cNvSpPr/>
                  <p:nvPr/>
                </p:nvSpPr>
                <p:spPr>
                  <a:xfrm flipH="1">
                    <a:off x="2784240" y="1289880"/>
                    <a:ext cx="37800" cy="20880"/>
                  </a:xfrm>
                  <a:custGeom>
                    <a:avLst/>
                    <a:gdLst/>
                    <a:ahLst/>
                    <a:rect l="l" t="t" r="r" b="b"/>
                    <a:pathLst>
                      <a:path w="406" h="212">
                        <a:moveTo>
                          <a:pt x="0" y="86"/>
                        </a:moveTo>
                        <a:lnTo>
                          <a:pt x="7" y="212"/>
                        </a:lnTo>
                        <a:lnTo>
                          <a:pt x="24" y="200"/>
                        </a:lnTo>
                        <a:lnTo>
                          <a:pt x="41" y="188"/>
                        </a:lnTo>
                        <a:lnTo>
                          <a:pt x="64" y="174"/>
                        </a:lnTo>
                        <a:lnTo>
                          <a:pt x="93" y="162"/>
                        </a:lnTo>
                        <a:lnTo>
                          <a:pt x="126" y="147"/>
                        </a:lnTo>
                        <a:lnTo>
                          <a:pt x="197" y="136"/>
                        </a:lnTo>
                        <a:lnTo>
                          <a:pt x="340" y="157"/>
                        </a:lnTo>
                        <a:lnTo>
                          <a:pt x="406" y="176"/>
                        </a:lnTo>
                        <a:lnTo>
                          <a:pt x="380" y="52"/>
                        </a:lnTo>
                        <a:lnTo>
                          <a:pt x="366" y="40"/>
                        </a:lnTo>
                        <a:lnTo>
                          <a:pt x="347" y="31"/>
                        </a:lnTo>
                        <a:lnTo>
                          <a:pt x="321" y="19"/>
                        </a:lnTo>
                        <a:lnTo>
                          <a:pt x="290" y="7"/>
                        </a:lnTo>
                        <a:lnTo>
                          <a:pt x="252" y="0"/>
                        </a:lnTo>
                        <a:lnTo>
                          <a:pt x="157" y="2"/>
                        </a:lnTo>
                        <a:lnTo>
                          <a:pt x="71" y="26"/>
                        </a:lnTo>
                        <a:lnTo>
                          <a:pt x="24" y="55"/>
                        </a:lnTo>
                        <a:lnTo>
                          <a:pt x="5" y="78"/>
                        </a:lnTo>
                        <a:lnTo>
                          <a:pt x="0" y="86"/>
                        </a:lnTo>
                        <a:lnTo>
                          <a:pt x="0" y="86"/>
                        </a:lnTo>
                        <a:close/>
                      </a:path>
                    </a:pathLst>
                  </a:custGeom>
                  <a:solidFill>
                    <a:srgbClr val="b8b8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02" name=""/>
                  <p:cNvSpPr/>
                  <p:nvPr/>
                </p:nvSpPr>
                <p:spPr>
                  <a:xfrm flipH="1">
                    <a:off x="3050640" y="1299960"/>
                    <a:ext cx="153360" cy="111240"/>
                  </a:xfrm>
                  <a:custGeom>
                    <a:avLst/>
                    <a:gdLst/>
                    <a:ahLst/>
                    <a:rect l="l" t="t" r="r" b="b"/>
                    <a:pathLst>
                      <a:path w="1648" h="1128">
                        <a:moveTo>
                          <a:pt x="1330" y="1128"/>
                        </a:moveTo>
                        <a:lnTo>
                          <a:pt x="1204" y="1116"/>
                        </a:lnTo>
                        <a:lnTo>
                          <a:pt x="1066" y="1095"/>
                        </a:lnTo>
                        <a:lnTo>
                          <a:pt x="988" y="1081"/>
                        </a:lnTo>
                        <a:lnTo>
                          <a:pt x="900" y="1062"/>
                        </a:lnTo>
                        <a:lnTo>
                          <a:pt x="810" y="1038"/>
                        </a:lnTo>
                        <a:lnTo>
                          <a:pt x="719" y="1012"/>
                        </a:lnTo>
                        <a:lnTo>
                          <a:pt x="672" y="997"/>
                        </a:lnTo>
                        <a:lnTo>
                          <a:pt x="627" y="983"/>
                        </a:lnTo>
                        <a:lnTo>
                          <a:pt x="579" y="964"/>
                        </a:lnTo>
                        <a:lnTo>
                          <a:pt x="534" y="945"/>
                        </a:lnTo>
                        <a:lnTo>
                          <a:pt x="491" y="926"/>
                        </a:lnTo>
                        <a:lnTo>
                          <a:pt x="449" y="904"/>
                        </a:lnTo>
                        <a:lnTo>
                          <a:pt x="406" y="883"/>
                        </a:lnTo>
                        <a:lnTo>
                          <a:pt x="366" y="859"/>
                        </a:lnTo>
                        <a:lnTo>
                          <a:pt x="328" y="833"/>
                        </a:lnTo>
                        <a:lnTo>
                          <a:pt x="290" y="804"/>
                        </a:lnTo>
                        <a:lnTo>
                          <a:pt x="256" y="778"/>
                        </a:lnTo>
                        <a:lnTo>
                          <a:pt x="223" y="750"/>
                        </a:lnTo>
                        <a:lnTo>
                          <a:pt x="207" y="733"/>
                        </a:lnTo>
                        <a:lnTo>
                          <a:pt x="192" y="719"/>
                        </a:lnTo>
                        <a:lnTo>
                          <a:pt x="166" y="685"/>
                        </a:lnTo>
                        <a:lnTo>
                          <a:pt x="119" y="619"/>
                        </a:lnTo>
                        <a:lnTo>
                          <a:pt x="83" y="550"/>
                        </a:lnTo>
                        <a:lnTo>
                          <a:pt x="52" y="481"/>
                        </a:lnTo>
                        <a:lnTo>
                          <a:pt x="14" y="340"/>
                        </a:lnTo>
                        <a:lnTo>
                          <a:pt x="0" y="212"/>
                        </a:lnTo>
                        <a:lnTo>
                          <a:pt x="0" y="95"/>
                        </a:lnTo>
                        <a:lnTo>
                          <a:pt x="12" y="0"/>
                        </a:lnTo>
                        <a:lnTo>
                          <a:pt x="178" y="7"/>
                        </a:lnTo>
                        <a:lnTo>
                          <a:pt x="1577" y="42"/>
                        </a:lnTo>
                        <a:lnTo>
                          <a:pt x="1648" y="152"/>
                        </a:lnTo>
                        <a:lnTo>
                          <a:pt x="275" y="150"/>
                        </a:lnTo>
                        <a:lnTo>
                          <a:pt x="280" y="335"/>
                        </a:lnTo>
                        <a:lnTo>
                          <a:pt x="294" y="419"/>
                        </a:lnTo>
                        <a:lnTo>
                          <a:pt x="306" y="462"/>
                        </a:lnTo>
                        <a:lnTo>
                          <a:pt x="323" y="504"/>
                        </a:lnTo>
                        <a:lnTo>
                          <a:pt x="342" y="550"/>
                        </a:lnTo>
                        <a:lnTo>
                          <a:pt x="366" y="593"/>
                        </a:lnTo>
                        <a:lnTo>
                          <a:pt x="394" y="633"/>
                        </a:lnTo>
                        <a:lnTo>
                          <a:pt x="411" y="654"/>
                        </a:lnTo>
                        <a:lnTo>
                          <a:pt x="427" y="676"/>
                        </a:lnTo>
                        <a:lnTo>
                          <a:pt x="449" y="693"/>
                        </a:lnTo>
                        <a:lnTo>
                          <a:pt x="470" y="712"/>
                        </a:lnTo>
                        <a:lnTo>
                          <a:pt x="494" y="728"/>
                        </a:lnTo>
                        <a:lnTo>
                          <a:pt x="520" y="745"/>
                        </a:lnTo>
                        <a:lnTo>
                          <a:pt x="548" y="762"/>
                        </a:lnTo>
                        <a:lnTo>
                          <a:pt x="577" y="778"/>
                        </a:lnTo>
                        <a:lnTo>
                          <a:pt x="608" y="793"/>
                        </a:lnTo>
                        <a:lnTo>
                          <a:pt x="639" y="807"/>
                        </a:lnTo>
                        <a:lnTo>
                          <a:pt x="672" y="821"/>
                        </a:lnTo>
                        <a:lnTo>
                          <a:pt x="705" y="838"/>
                        </a:lnTo>
                        <a:lnTo>
                          <a:pt x="776" y="862"/>
                        </a:lnTo>
                        <a:lnTo>
                          <a:pt x="845" y="885"/>
                        </a:lnTo>
                        <a:lnTo>
                          <a:pt x="914" y="907"/>
                        </a:lnTo>
                        <a:lnTo>
                          <a:pt x="983" y="924"/>
                        </a:lnTo>
                        <a:lnTo>
                          <a:pt x="1045" y="940"/>
                        </a:lnTo>
                        <a:lnTo>
                          <a:pt x="1154" y="964"/>
                        </a:lnTo>
                        <a:lnTo>
                          <a:pt x="1256" y="985"/>
                        </a:lnTo>
                        <a:lnTo>
                          <a:pt x="1413" y="683"/>
                        </a:lnTo>
                        <a:lnTo>
                          <a:pt x="1358" y="585"/>
                        </a:lnTo>
                        <a:lnTo>
                          <a:pt x="572" y="459"/>
                        </a:lnTo>
                        <a:lnTo>
                          <a:pt x="605" y="514"/>
                        </a:lnTo>
                        <a:lnTo>
                          <a:pt x="627" y="540"/>
                        </a:lnTo>
                        <a:lnTo>
                          <a:pt x="641" y="554"/>
                        </a:lnTo>
                        <a:lnTo>
                          <a:pt x="655" y="566"/>
                        </a:lnTo>
                        <a:lnTo>
                          <a:pt x="670" y="581"/>
                        </a:lnTo>
                        <a:lnTo>
                          <a:pt x="686" y="593"/>
                        </a:lnTo>
                        <a:lnTo>
                          <a:pt x="705" y="607"/>
                        </a:lnTo>
                        <a:lnTo>
                          <a:pt x="727" y="619"/>
                        </a:lnTo>
                        <a:lnTo>
                          <a:pt x="753" y="631"/>
                        </a:lnTo>
                        <a:lnTo>
                          <a:pt x="784" y="643"/>
                        </a:lnTo>
                        <a:lnTo>
                          <a:pt x="862" y="664"/>
                        </a:lnTo>
                        <a:lnTo>
                          <a:pt x="952" y="685"/>
                        </a:lnTo>
                        <a:lnTo>
                          <a:pt x="1042" y="702"/>
                        </a:lnTo>
                        <a:lnTo>
                          <a:pt x="1204" y="726"/>
                        </a:lnTo>
                        <a:lnTo>
                          <a:pt x="1273" y="735"/>
                        </a:lnTo>
                        <a:lnTo>
                          <a:pt x="1220" y="878"/>
                        </a:lnTo>
                        <a:lnTo>
                          <a:pt x="1161" y="871"/>
                        </a:lnTo>
                        <a:lnTo>
                          <a:pt x="1011" y="843"/>
                        </a:lnTo>
                        <a:lnTo>
                          <a:pt x="919" y="819"/>
                        </a:lnTo>
                        <a:lnTo>
                          <a:pt x="824" y="788"/>
                        </a:lnTo>
                        <a:lnTo>
                          <a:pt x="774" y="769"/>
                        </a:lnTo>
                        <a:lnTo>
                          <a:pt x="727" y="750"/>
                        </a:lnTo>
                        <a:lnTo>
                          <a:pt x="684" y="726"/>
                        </a:lnTo>
                        <a:lnTo>
                          <a:pt x="641" y="702"/>
                        </a:lnTo>
                        <a:lnTo>
                          <a:pt x="603" y="676"/>
                        </a:lnTo>
                        <a:lnTo>
                          <a:pt x="570" y="647"/>
                        </a:lnTo>
                        <a:lnTo>
                          <a:pt x="544" y="619"/>
                        </a:lnTo>
                        <a:lnTo>
                          <a:pt x="522" y="590"/>
                        </a:lnTo>
                        <a:lnTo>
                          <a:pt x="472" y="473"/>
                        </a:lnTo>
                        <a:lnTo>
                          <a:pt x="461" y="383"/>
                        </a:lnTo>
                        <a:lnTo>
                          <a:pt x="465" y="347"/>
                        </a:lnTo>
                        <a:lnTo>
                          <a:pt x="1434" y="495"/>
                        </a:lnTo>
                        <a:lnTo>
                          <a:pt x="1524" y="654"/>
                        </a:lnTo>
                        <a:lnTo>
                          <a:pt x="1515" y="676"/>
                        </a:lnTo>
                        <a:lnTo>
                          <a:pt x="1493" y="728"/>
                        </a:lnTo>
                        <a:lnTo>
                          <a:pt x="1463" y="804"/>
                        </a:lnTo>
                        <a:lnTo>
                          <a:pt x="1444" y="850"/>
                        </a:lnTo>
                        <a:lnTo>
                          <a:pt x="1427" y="895"/>
                        </a:lnTo>
                        <a:lnTo>
                          <a:pt x="1408" y="938"/>
                        </a:lnTo>
                        <a:lnTo>
                          <a:pt x="1391" y="983"/>
                        </a:lnTo>
                        <a:lnTo>
                          <a:pt x="1361" y="1057"/>
                        </a:lnTo>
                        <a:lnTo>
                          <a:pt x="1339" y="1109"/>
                        </a:lnTo>
                        <a:lnTo>
                          <a:pt x="1330" y="1128"/>
                        </a:lnTo>
                        <a:lnTo>
                          <a:pt x="1330" y="112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flipH="1">
                    <a:off x="3058200" y="1323000"/>
                    <a:ext cx="102240" cy="12960"/>
                  </a:xfrm>
                  <a:custGeom>
                    <a:avLst/>
                    <a:gdLst/>
                    <a:ahLst/>
                    <a:rect l="l" t="t" r="r" b="b"/>
                    <a:pathLst>
                      <a:path w="1101" h="133">
                        <a:moveTo>
                          <a:pt x="0" y="0"/>
                        </a:moveTo>
                        <a:lnTo>
                          <a:pt x="1101" y="0"/>
                        </a:lnTo>
                        <a:lnTo>
                          <a:pt x="990" y="133"/>
                        </a:lnTo>
                        <a:lnTo>
                          <a:pt x="0" y="45"/>
                        </a:lnTo>
                        <a:lnTo>
                          <a:pt x="0" y="0"/>
                        </a:lnTo>
                        <a:lnTo>
                          <a:pt x="0" y="0"/>
                        </a:lnTo>
                        <a:close/>
                      </a:path>
                    </a:pathLst>
                  </a:custGeom>
                  <a:solidFill>
                    <a:srgbClr val="b8b8d9"/>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04" name=""/>
                  <p:cNvSpPr/>
                  <p:nvPr/>
                </p:nvSpPr>
                <p:spPr>
                  <a:xfrm flipH="1">
                    <a:off x="2967480" y="1324800"/>
                    <a:ext cx="47520" cy="14040"/>
                  </a:xfrm>
                  <a:custGeom>
                    <a:avLst/>
                    <a:gdLst/>
                    <a:ahLst/>
                    <a:rect l="l" t="t" r="r" b="b"/>
                    <a:pathLst>
                      <a:path w="513" h="145">
                        <a:moveTo>
                          <a:pt x="26" y="0"/>
                        </a:moveTo>
                        <a:lnTo>
                          <a:pt x="0" y="135"/>
                        </a:lnTo>
                        <a:lnTo>
                          <a:pt x="513" y="145"/>
                        </a:lnTo>
                        <a:lnTo>
                          <a:pt x="420" y="0"/>
                        </a:lnTo>
                        <a:lnTo>
                          <a:pt x="26" y="0"/>
                        </a:lnTo>
                        <a:lnTo>
                          <a:pt x="26" y="0"/>
                        </a:lnTo>
                        <a:close/>
                      </a:path>
                    </a:pathLst>
                  </a:custGeom>
                  <a:solidFill>
                    <a:srgbClr val="b8b8d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H="1">
                    <a:off x="2833560" y="1325520"/>
                    <a:ext cx="193680" cy="118440"/>
                  </a:xfrm>
                  <a:custGeom>
                    <a:avLst/>
                    <a:gdLst/>
                    <a:ahLst/>
                    <a:rect l="l" t="t" r="r" b="b"/>
                    <a:pathLst>
                      <a:path w="2082" h="1198">
                        <a:moveTo>
                          <a:pt x="2082" y="778"/>
                        </a:moveTo>
                        <a:lnTo>
                          <a:pt x="2068" y="795"/>
                        </a:lnTo>
                        <a:lnTo>
                          <a:pt x="2051" y="812"/>
                        </a:lnTo>
                        <a:lnTo>
                          <a:pt x="2030" y="836"/>
                        </a:lnTo>
                        <a:lnTo>
                          <a:pt x="2001" y="862"/>
                        </a:lnTo>
                        <a:lnTo>
                          <a:pt x="1987" y="878"/>
                        </a:lnTo>
                        <a:lnTo>
                          <a:pt x="1970" y="893"/>
                        </a:lnTo>
                        <a:lnTo>
                          <a:pt x="1949" y="909"/>
                        </a:lnTo>
                        <a:lnTo>
                          <a:pt x="1930" y="926"/>
                        </a:lnTo>
                        <a:lnTo>
                          <a:pt x="1911" y="943"/>
                        </a:lnTo>
                        <a:lnTo>
                          <a:pt x="1890" y="962"/>
                        </a:lnTo>
                        <a:lnTo>
                          <a:pt x="1868" y="978"/>
                        </a:lnTo>
                        <a:lnTo>
                          <a:pt x="1845" y="998"/>
                        </a:lnTo>
                        <a:lnTo>
                          <a:pt x="1821" y="1014"/>
                        </a:lnTo>
                        <a:lnTo>
                          <a:pt x="1797" y="1033"/>
                        </a:lnTo>
                        <a:lnTo>
                          <a:pt x="1771" y="1050"/>
                        </a:lnTo>
                        <a:lnTo>
                          <a:pt x="1745" y="1067"/>
                        </a:lnTo>
                        <a:lnTo>
                          <a:pt x="1719" y="1083"/>
                        </a:lnTo>
                        <a:lnTo>
                          <a:pt x="1690" y="1098"/>
                        </a:lnTo>
                        <a:lnTo>
                          <a:pt x="1662" y="1114"/>
                        </a:lnTo>
                        <a:lnTo>
                          <a:pt x="1636" y="1129"/>
                        </a:lnTo>
                        <a:lnTo>
                          <a:pt x="1576" y="1152"/>
                        </a:lnTo>
                        <a:lnTo>
                          <a:pt x="1519" y="1171"/>
                        </a:lnTo>
                        <a:lnTo>
                          <a:pt x="1460" y="1186"/>
                        </a:lnTo>
                        <a:lnTo>
                          <a:pt x="1306" y="1198"/>
                        </a:lnTo>
                        <a:lnTo>
                          <a:pt x="1099" y="1183"/>
                        </a:lnTo>
                        <a:lnTo>
                          <a:pt x="857" y="1155"/>
                        </a:lnTo>
                        <a:lnTo>
                          <a:pt x="733" y="1138"/>
                        </a:lnTo>
                        <a:lnTo>
                          <a:pt x="610" y="1121"/>
                        </a:lnTo>
                        <a:lnTo>
                          <a:pt x="489" y="1102"/>
                        </a:lnTo>
                        <a:lnTo>
                          <a:pt x="377" y="1081"/>
                        </a:lnTo>
                        <a:lnTo>
                          <a:pt x="273" y="1064"/>
                        </a:lnTo>
                        <a:lnTo>
                          <a:pt x="183" y="1048"/>
                        </a:lnTo>
                        <a:lnTo>
                          <a:pt x="47" y="1021"/>
                        </a:lnTo>
                        <a:lnTo>
                          <a:pt x="0" y="1009"/>
                        </a:lnTo>
                        <a:lnTo>
                          <a:pt x="111" y="300"/>
                        </a:lnTo>
                        <a:lnTo>
                          <a:pt x="731" y="302"/>
                        </a:lnTo>
                        <a:lnTo>
                          <a:pt x="1059" y="917"/>
                        </a:lnTo>
                        <a:lnTo>
                          <a:pt x="828" y="900"/>
                        </a:lnTo>
                        <a:lnTo>
                          <a:pt x="615" y="878"/>
                        </a:lnTo>
                        <a:lnTo>
                          <a:pt x="465" y="859"/>
                        </a:lnTo>
                        <a:lnTo>
                          <a:pt x="337" y="831"/>
                        </a:lnTo>
                        <a:lnTo>
                          <a:pt x="244" y="805"/>
                        </a:lnTo>
                        <a:lnTo>
                          <a:pt x="209" y="793"/>
                        </a:lnTo>
                        <a:lnTo>
                          <a:pt x="223" y="688"/>
                        </a:lnTo>
                        <a:lnTo>
                          <a:pt x="337" y="707"/>
                        </a:lnTo>
                        <a:lnTo>
                          <a:pt x="439" y="721"/>
                        </a:lnTo>
                        <a:lnTo>
                          <a:pt x="546" y="728"/>
                        </a:lnTo>
                        <a:lnTo>
                          <a:pt x="722" y="714"/>
                        </a:lnTo>
                        <a:lnTo>
                          <a:pt x="800" y="693"/>
                        </a:lnTo>
                        <a:lnTo>
                          <a:pt x="650" y="407"/>
                        </a:lnTo>
                        <a:lnTo>
                          <a:pt x="199" y="395"/>
                        </a:lnTo>
                        <a:lnTo>
                          <a:pt x="114" y="914"/>
                        </a:lnTo>
                        <a:lnTo>
                          <a:pt x="152" y="921"/>
                        </a:lnTo>
                        <a:lnTo>
                          <a:pt x="251" y="940"/>
                        </a:lnTo>
                        <a:lnTo>
                          <a:pt x="399" y="964"/>
                        </a:lnTo>
                        <a:lnTo>
                          <a:pt x="487" y="978"/>
                        </a:lnTo>
                        <a:lnTo>
                          <a:pt x="581" y="993"/>
                        </a:lnTo>
                        <a:lnTo>
                          <a:pt x="676" y="1007"/>
                        </a:lnTo>
                        <a:lnTo>
                          <a:pt x="779" y="1019"/>
                        </a:lnTo>
                        <a:lnTo>
                          <a:pt x="978" y="1038"/>
                        </a:lnTo>
                        <a:lnTo>
                          <a:pt x="1163" y="1048"/>
                        </a:lnTo>
                        <a:lnTo>
                          <a:pt x="1318" y="1040"/>
                        </a:lnTo>
                        <a:lnTo>
                          <a:pt x="1448" y="1012"/>
                        </a:lnTo>
                        <a:lnTo>
                          <a:pt x="1507" y="993"/>
                        </a:lnTo>
                        <a:lnTo>
                          <a:pt x="1564" y="969"/>
                        </a:lnTo>
                        <a:lnTo>
                          <a:pt x="1617" y="943"/>
                        </a:lnTo>
                        <a:lnTo>
                          <a:pt x="1667" y="914"/>
                        </a:lnTo>
                        <a:lnTo>
                          <a:pt x="1712" y="886"/>
                        </a:lnTo>
                        <a:lnTo>
                          <a:pt x="1754" y="855"/>
                        </a:lnTo>
                        <a:lnTo>
                          <a:pt x="1790" y="826"/>
                        </a:lnTo>
                        <a:lnTo>
                          <a:pt x="1823" y="800"/>
                        </a:lnTo>
                        <a:lnTo>
                          <a:pt x="1854" y="774"/>
                        </a:lnTo>
                        <a:lnTo>
                          <a:pt x="1876" y="752"/>
                        </a:lnTo>
                        <a:lnTo>
                          <a:pt x="1895" y="731"/>
                        </a:lnTo>
                        <a:lnTo>
                          <a:pt x="1909" y="717"/>
                        </a:lnTo>
                        <a:lnTo>
                          <a:pt x="1918" y="705"/>
                        </a:lnTo>
                        <a:lnTo>
                          <a:pt x="1904" y="671"/>
                        </a:lnTo>
                        <a:lnTo>
                          <a:pt x="1890" y="633"/>
                        </a:lnTo>
                        <a:lnTo>
                          <a:pt x="1871" y="588"/>
                        </a:lnTo>
                        <a:lnTo>
                          <a:pt x="1849" y="536"/>
                        </a:lnTo>
                        <a:lnTo>
                          <a:pt x="1830" y="481"/>
                        </a:lnTo>
                        <a:lnTo>
                          <a:pt x="1802" y="374"/>
                        </a:lnTo>
                        <a:lnTo>
                          <a:pt x="1764" y="188"/>
                        </a:lnTo>
                        <a:lnTo>
                          <a:pt x="1745" y="100"/>
                        </a:lnTo>
                        <a:lnTo>
                          <a:pt x="1629" y="109"/>
                        </a:lnTo>
                        <a:lnTo>
                          <a:pt x="1583" y="0"/>
                        </a:lnTo>
                        <a:lnTo>
                          <a:pt x="1857" y="0"/>
                        </a:lnTo>
                        <a:lnTo>
                          <a:pt x="1864" y="166"/>
                        </a:lnTo>
                        <a:lnTo>
                          <a:pt x="1878" y="307"/>
                        </a:lnTo>
                        <a:lnTo>
                          <a:pt x="1892" y="374"/>
                        </a:lnTo>
                        <a:lnTo>
                          <a:pt x="1911" y="428"/>
                        </a:lnTo>
                        <a:lnTo>
                          <a:pt x="1933" y="481"/>
                        </a:lnTo>
                        <a:lnTo>
                          <a:pt x="1961" y="538"/>
                        </a:lnTo>
                        <a:lnTo>
                          <a:pt x="1989" y="597"/>
                        </a:lnTo>
                        <a:lnTo>
                          <a:pt x="2018" y="652"/>
                        </a:lnTo>
                        <a:lnTo>
                          <a:pt x="2044" y="702"/>
                        </a:lnTo>
                        <a:lnTo>
                          <a:pt x="2063" y="743"/>
                        </a:lnTo>
                        <a:lnTo>
                          <a:pt x="2082" y="778"/>
                        </a:lnTo>
                        <a:lnTo>
                          <a:pt x="2082" y="77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6" name=""/>
                  <p:cNvSpPr/>
                  <p:nvPr/>
                </p:nvSpPr>
                <p:spPr>
                  <a:xfrm flipH="1">
                    <a:off x="2784240" y="1314000"/>
                    <a:ext cx="36360" cy="19800"/>
                  </a:xfrm>
                  <a:custGeom>
                    <a:avLst/>
                    <a:gdLst/>
                    <a:ahLst/>
                    <a:rect l="l" t="t" r="r" b="b"/>
                    <a:pathLst>
                      <a:path w="392" h="202">
                        <a:moveTo>
                          <a:pt x="0" y="76"/>
                        </a:moveTo>
                        <a:lnTo>
                          <a:pt x="12" y="64"/>
                        </a:lnTo>
                        <a:lnTo>
                          <a:pt x="29" y="55"/>
                        </a:lnTo>
                        <a:lnTo>
                          <a:pt x="50" y="43"/>
                        </a:lnTo>
                        <a:lnTo>
                          <a:pt x="76" y="29"/>
                        </a:lnTo>
                        <a:lnTo>
                          <a:pt x="105" y="17"/>
                        </a:lnTo>
                        <a:lnTo>
                          <a:pt x="176" y="0"/>
                        </a:lnTo>
                        <a:lnTo>
                          <a:pt x="250" y="5"/>
                        </a:lnTo>
                        <a:lnTo>
                          <a:pt x="314" y="19"/>
                        </a:lnTo>
                        <a:lnTo>
                          <a:pt x="359" y="36"/>
                        </a:lnTo>
                        <a:lnTo>
                          <a:pt x="376" y="43"/>
                        </a:lnTo>
                        <a:lnTo>
                          <a:pt x="392" y="193"/>
                        </a:lnTo>
                        <a:lnTo>
                          <a:pt x="376" y="183"/>
                        </a:lnTo>
                        <a:lnTo>
                          <a:pt x="330" y="162"/>
                        </a:lnTo>
                        <a:lnTo>
                          <a:pt x="302" y="150"/>
                        </a:lnTo>
                        <a:lnTo>
                          <a:pt x="266" y="141"/>
                        </a:lnTo>
                        <a:lnTo>
                          <a:pt x="193" y="136"/>
                        </a:lnTo>
                        <a:lnTo>
                          <a:pt x="122" y="150"/>
                        </a:lnTo>
                        <a:lnTo>
                          <a:pt x="67" y="172"/>
                        </a:lnTo>
                        <a:lnTo>
                          <a:pt x="29" y="193"/>
                        </a:lnTo>
                        <a:lnTo>
                          <a:pt x="17" y="202"/>
                        </a:lnTo>
                        <a:lnTo>
                          <a:pt x="0" y="76"/>
                        </a:lnTo>
                        <a:lnTo>
                          <a:pt x="0" y="76"/>
                        </a:lnTo>
                        <a:close/>
                      </a:path>
                    </a:pathLst>
                  </a:custGeom>
                  <a:solidFill>
                    <a:srgbClr val="b8b8d9"/>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607" name=""/>
                  <p:cNvSpPr/>
                  <p:nvPr/>
                </p:nvSpPr>
                <p:spPr>
                  <a:xfrm flipH="1">
                    <a:off x="2675880" y="1410120"/>
                    <a:ext cx="103680" cy="63720"/>
                  </a:xfrm>
                  <a:custGeom>
                    <a:avLst/>
                    <a:gdLst/>
                    <a:ahLst/>
                    <a:rect l="l" t="t" r="r" b="b"/>
                    <a:pathLst>
                      <a:path w="1114" h="645">
                        <a:moveTo>
                          <a:pt x="183" y="0"/>
                        </a:moveTo>
                        <a:lnTo>
                          <a:pt x="518" y="298"/>
                        </a:lnTo>
                        <a:lnTo>
                          <a:pt x="520" y="481"/>
                        </a:lnTo>
                        <a:lnTo>
                          <a:pt x="1112" y="488"/>
                        </a:lnTo>
                        <a:lnTo>
                          <a:pt x="1114" y="645"/>
                        </a:lnTo>
                        <a:lnTo>
                          <a:pt x="397" y="645"/>
                        </a:lnTo>
                        <a:lnTo>
                          <a:pt x="397" y="329"/>
                        </a:lnTo>
                        <a:lnTo>
                          <a:pt x="0" y="138"/>
                        </a:lnTo>
                        <a:lnTo>
                          <a:pt x="183" y="0"/>
                        </a:lnTo>
                        <a:lnTo>
                          <a:pt x="183" y="0"/>
                        </a:lnTo>
                        <a:close/>
                      </a:path>
                    </a:pathLst>
                  </a:custGeom>
                  <a:solidFill>
                    <a:srgbClr val="b8b8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08" name=""/>
                  <p:cNvSpPr/>
                  <p:nvPr/>
                </p:nvSpPr>
                <p:spPr>
                  <a:xfrm flipH="1">
                    <a:off x="2947680" y="1369080"/>
                    <a:ext cx="62640" cy="29160"/>
                  </a:xfrm>
                  <a:custGeom>
                    <a:avLst/>
                    <a:gdLst/>
                    <a:ahLst/>
                    <a:rect l="l" t="t" r="r" b="b"/>
                    <a:pathLst>
                      <a:path w="674" h="296">
                        <a:moveTo>
                          <a:pt x="47" y="0"/>
                        </a:moveTo>
                        <a:lnTo>
                          <a:pt x="0" y="262"/>
                        </a:lnTo>
                        <a:lnTo>
                          <a:pt x="406" y="296"/>
                        </a:lnTo>
                        <a:lnTo>
                          <a:pt x="674" y="262"/>
                        </a:lnTo>
                        <a:lnTo>
                          <a:pt x="565" y="62"/>
                        </a:lnTo>
                        <a:lnTo>
                          <a:pt x="47" y="0"/>
                        </a:lnTo>
                        <a:lnTo>
                          <a:pt x="47" y="0"/>
                        </a:lnTo>
                        <a:close/>
                      </a:path>
                    </a:pathLst>
                  </a:custGeom>
                  <a:solidFill>
                    <a:srgbClr val="a6e8a6"/>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609" name=""/>
                  <p:cNvSpPr/>
                  <p:nvPr/>
                </p:nvSpPr>
                <p:spPr>
                  <a:xfrm flipH="1">
                    <a:off x="3084480" y="1350000"/>
                    <a:ext cx="64080" cy="21960"/>
                  </a:xfrm>
                  <a:custGeom>
                    <a:avLst/>
                    <a:gdLst/>
                    <a:ahLst/>
                    <a:rect l="l" t="t" r="r" b="b"/>
                    <a:pathLst>
                      <a:path w="691" h="224">
                        <a:moveTo>
                          <a:pt x="0" y="0"/>
                        </a:moveTo>
                        <a:lnTo>
                          <a:pt x="691" y="112"/>
                        </a:lnTo>
                        <a:lnTo>
                          <a:pt x="612" y="224"/>
                        </a:lnTo>
                        <a:lnTo>
                          <a:pt x="192" y="177"/>
                        </a:lnTo>
                        <a:lnTo>
                          <a:pt x="0" y="0"/>
                        </a:lnTo>
                        <a:lnTo>
                          <a:pt x="0" y="0"/>
                        </a:lnTo>
                        <a:close/>
                      </a:path>
                    </a:pathLst>
                  </a:custGeom>
                  <a:solidFill>
                    <a:srgbClr val="a6e8a6"/>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10" name=""/>
                  <p:cNvSpPr/>
                  <p:nvPr/>
                </p:nvSpPr>
                <p:spPr>
                  <a:xfrm flipH="1">
                    <a:off x="2781720" y="1334160"/>
                    <a:ext cx="38880" cy="47520"/>
                  </a:xfrm>
                  <a:custGeom>
                    <a:avLst/>
                    <a:gdLst/>
                    <a:ahLst/>
                    <a:rect l="l" t="t" r="r" b="b"/>
                    <a:pathLst>
                      <a:path w="420" h="481">
                        <a:moveTo>
                          <a:pt x="31" y="50"/>
                        </a:moveTo>
                        <a:lnTo>
                          <a:pt x="126" y="0"/>
                        </a:lnTo>
                        <a:lnTo>
                          <a:pt x="197" y="0"/>
                        </a:lnTo>
                        <a:lnTo>
                          <a:pt x="268" y="9"/>
                        </a:lnTo>
                        <a:lnTo>
                          <a:pt x="356" y="33"/>
                        </a:lnTo>
                        <a:lnTo>
                          <a:pt x="404" y="88"/>
                        </a:lnTo>
                        <a:lnTo>
                          <a:pt x="420" y="248"/>
                        </a:lnTo>
                        <a:lnTo>
                          <a:pt x="411" y="345"/>
                        </a:lnTo>
                        <a:lnTo>
                          <a:pt x="387" y="424"/>
                        </a:lnTo>
                        <a:lnTo>
                          <a:pt x="349" y="462"/>
                        </a:lnTo>
                        <a:lnTo>
                          <a:pt x="285" y="481"/>
                        </a:lnTo>
                        <a:lnTo>
                          <a:pt x="197" y="462"/>
                        </a:lnTo>
                        <a:lnTo>
                          <a:pt x="119" y="414"/>
                        </a:lnTo>
                        <a:lnTo>
                          <a:pt x="55" y="336"/>
                        </a:lnTo>
                        <a:lnTo>
                          <a:pt x="7" y="240"/>
                        </a:lnTo>
                        <a:lnTo>
                          <a:pt x="0" y="128"/>
                        </a:lnTo>
                        <a:lnTo>
                          <a:pt x="31" y="50"/>
                        </a:lnTo>
                        <a:lnTo>
                          <a:pt x="31" y="50"/>
                        </a:lnTo>
                        <a:close/>
                      </a:path>
                    </a:pathLst>
                  </a:custGeom>
                  <a:solidFill>
                    <a:srgbClr val="a6e8a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11" name=""/>
                  <p:cNvSpPr/>
                  <p:nvPr/>
                </p:nvSpPr>
                <p:spPr>
                  <a:xfrm flipH="1">
                    <a:off x="2816640" y="1403280"/>
                    <a:ext cx="103680" cy="66600"/>
                  </a:xfrm>
                  <a:custGeom>
                    <a:avLst/>
                    <a:gdLst/>
                    <a:ahLst/>
                    <a:rect l="l" t="t" r="r" b="b"/>
                    <a:pathLst>
                      <a:path w="1114" h="674">
                        <a:moveTo>
                          <a:pt x="931" y="0"/>
                        </a:moveTo>
                        <a:lnTo>
                          <a:pt x="594" y="300"/>
                        </a:lnTo>
                        <a:lnTo>
                          <a:pt x="592" y="481"/>
                        </a:lnTo>
                        <a:lnTo>
                          <a:pt x="0" y="488"/>
                        </a:lnTo>
                        <a:lnTo>
                          <a:pt x="0" y="674"/>
                        </a:lnTo>
                        <a:lnTo>
                          <a:pt x="715" y="671"/>
                        </a:lnTo>
                        <a:lnTo>
                          <a:pt x="715" y="326"/>
                        </a:lnTo>
                        <a:lnTo>
                          <a:pt x="1114" y="138"/>
                        </a:lnTo>
                        <a:lnTo>
                          <a:pt x="931" y="0"/>
                        </a:lnTo>
                        <a:lnTo>
                          <a:pt x="9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2" name=""/>
                  <p:cNvSpPr/>
                  <p:nvPr/>
                </p:nvSpPr>
                <p:spPr>
                  <a:xfrm flipH="1">
                    <a:off x="2539800" y="1181160"/>
                    <a:ext cx="196560" cy="157680"/>
                  </a:xfrm>
                  <a:custGeom>
                    <a:avLst/>
                    <a:gdLst/>
                    <a:ahLst/>
                    <a:rect l="l" t="t" r="r" b="b"/>
                    <a:pathLst>
                      <a:path w="2113" h="1597">
                        <a:moveTo>
                          <a:pt x="0" y="1102"/>
                        </a:moveTo>
                        <a:lnTo>
                          <a:pt x="19" y="1071"/>
                        </a:lnTo>
                        <a:lnTo>
                          <a:pt x="43" y="1036"/>
                        </a:lnTo>
                        <a:lnTo>
                          <a:pt x="73" y="988"/>
                        </a:lnTo>
                        <a:lnTo>
                          <a:pt x="116" y="931"/>
                        </a:lnTo>
                        <a:lnTo>
                          <a:pt x="164" y="864"/>
                        </a:lnTo>
                        <a:lnTo>
                          <a:pt x="190" y="831"/>
                        </a:lnTo>
                        <a:lnTo>
                          <a:pt x="204" y="814"/>
                        </a:lnTo>
                        <a:lnTo>
                          <a:pt x="218" y="793"/>
                        </a:lnTo>
                        <a:lnTo>
                          <a:pt x="235" y="776"/>
                        </a:lnTo>
                        <a:lnTo>
                          <a:pt x="249" y="757"/>
                        </a:lnTo>
                        <a:lnTo>
                          <a:pt x="266" y="738"/>
                        </a:lnTo>
                        <a:lnTo>
                          <a:pt x="282" y="719"/>
                        </a:lnTo>
                        <a:lnTo>
                          <a:pt x="297" y="700"/>
                        </a:lnTo>
                        <a:lnTo>
                          <a:pt x="316" y="681"/>
                        </a:lnTo>
                        <a:lnTo>
                          <a:pt x="332" y="662"/>
                        </a:lnTo>
                        <a:lnTo>
                          <a:pt x="351" y="643"/>
                        </a:lnTo>
                        <a:lnTo>
                          <a:pt x="368" y="624"/>
                        </a:lnTo>
                        <a:lnTo>
                          <a:pt x="387" y="604"/>
                        </a:lnTo>
                        <a:lnTo>
                          <a:pt x="406" y="585"/>
                        </a:lnTo>
                        <a:lnTo>
                          <a:pt x="425" y="564"/>
                        </a:lnTo>
                        <a:lnTo>
                          <a:pt x="444" y="545"/>
                        </a:lnTo>
                        <a:lnTo>
                          <a:pt x="463" y="528"/>
                        </a:lnTo>
                        <a:lnTo>
                          <a:pt x="484" y="507"/>
                        </a:lnTo>
                        <a:lnTo>
                          <a:pt x="506" y="488"/>
                        </a:lnTo>
                        <a:lnTo>
                          <a:pt x="525" y="469"/>
                        </a:lnTo>
                        <a:lnTo>
                          <a:pt x="546" y="452"/>
                        </a:lnTo>
                        <a:lnTo>
                          <a:pt x="567" y="433"/>
                        </a:lnTo>
                        <a:lnTo>
                          <a:pt x="589" y="416"/>
                        </a:lnTo>
                        <a:lnTo>
                          <a:pt x="612" y="400"/>
                        </a:lnTo>
                        <a:lnTo>
                          <a:pt x="634" y="381"/>
                        </a:lnTo>
                        <a:lnTo>
                          <a:pt x="655" y="364"/>
                        </a:lnTo>
                        <a:lnTo>
                          <a:pt x="679" y="347"/>
                        </a:lnTo>
                        <a:lnTo>
                          <a:pt x="703" y="331"/>
                        </a:lnTo>
                        <a:lnTo>
                          <a:pt x="726" y="316"/>
                        </a:lnTo>
                        <a:lnTo>
                          <a:pt x="748" y="302"/>
                        </a:lnTo>
                        <a:lnTo>
                          <a:pt x="771" y="288"/>
                        </a:lnTo>
                        <a:lnTo>
                          <a:pt x="795" y="273"/>
                        </a:lnTo>
                        <a:lnTo>
                          <a:pt x="819" y="259"/>
                        </a:lnTo>
                        <a:lnTo>
                          <a:pt x="869" y="235"/>
                        </a:lnTo>
                        <a:lnTo>
                          <a:pt x="919" y="214"/>
                        </a:lnTo>
                        <a:lnTo>
                          <a:pt x="969" y="193"/>
                        </a:lnTo>
                        <a:lnTo>
                          <a:pt x="1018" y="176"/>
                        </a:lnTo>
                        <a:lnTo>
                          <a:pt x="1066" y="159"/>
                        </a:lnTo>
                        <a:lnTo>
                          <a:pt x="1111" y="143"/>
                        </a:lnTo>
                        <a:lnTo>
                          <a:pt x="1151" y="128"/>
                        </a:lnTo>
                        <a:lnTo>
                          <a:pt x="1230" y="104"/>
                        </a:lnTo>
                        <a:lnTo>
                          <a:pt x="1301" y="83"/>
                        </a:lnTo>
                        <a:lnTo>
                          <a:pt x="1360" y="64"/>
                        </a:lnTo>
                        <a:lnTo>
                          <a:pt x="1415" y="50"/>
                        </a:lnTo>
                        <a:lnTo>
                          <a:pt x="1500" y="23"/>
                        </a:lnTo>
                        <a:lnTo>
                          <a:pt x="1629" y="0"/>
                        </a:lnTo>
                        <a:lnTo>
                          <a:pt x="1645" y="97"/>
                        </a:lnTo>
                        <a:lnTo>
                          <a:pt x="1588" y="109"/>
                        </a:lnTo>
                        <a:lnTo>
                          <a:pt x="1522" y="126"/>
                        </a:lnTo>
                        <a:lnTo>
                          <a:pt x="1441" y="150"/>
                        </a:lnTo>
                        <a:lnTo>
                          <a:pt x="1341" y="176"/>
                        </a:lnTo>
                        <a:lnTo>
                          <a:pt x="1289" y="193"/>
                        </a:lnTo>
                        <a:lnTo>
                          <a:pt x="1237" y="212"/>
                        </a:lnTo>
                        <a:lnTo>
                          <a:pt x="1180" y="231"/>
                        </a:lnTo>
                        <a:lnTo>
                          <a:pt x="1123" y="252"/>
                        </a:lnTo>
                        <a:lnTo>
                          <a:pt x="1066" y="273"/>
                        </a:lnTo>
                        <a:lnTo>
                          <a:pt x="1009" y="297"/>
                        </a:lnTo>
                        <a:lnTo>
                          <a:pt x="952" y="323"/>
                        </a:lnTo>
                        <a:lnTo>
                          <a:pt x="923" y="338"/>
                        </a:lnTo>
                        <a:lnTo>
                          <a:pt x="895" y="354"/>
                        </a:lnTo>
                        <a:lnTo>
                          <a:pt x="866" y="369"/>
                        </a:lnTo>
                        <a:lnTo>
                          <a:pt x="838" y="388"/>
                        </a:lnTo>
                        <a:lnTo>
                          <a:pt x="809" y="404"/>
                        </a:lnTo>
                        <a:lnTo>
                          <a:pt x="783" y="424"/>
                        </a:lnTo>
                        <a:lnTo>
                          <a:pt x="757" y="443"/>
                        </a:lnTo>
                        <a:lnTo>
                          <a:pt x="729" y="459"/>
                        </a:lnTo>
                        <a:lnTo>
                          <a:pt x="703" y="478"/>
                        </a:lnTo>
                        <a:lnTo>
                          <a:pt x="679" y="500"/>
                        </a:lnTo>
                        <a:lnTo>
                          <a:pt x="650" y="519"/>
                        </a:lnTo>
                        <a:lnTo>
                          <a:pt x="629" y="538"/>
                        </a:lnTo>
                        <a:lnTo>
                          <a:pt x="605" y="557"/>
                        </a:lnTo>
                        <a:lnTo>
                          <a:pt x="582" y="576"/>
                        </a:lnTo>
                        <a:lnTo>
                          <a:pt x="560" y="595"/>
                        </a:lnTo>
                        <a:lnTo>
                          <a:pt x="539" y="612"/>
                        </a:lnTo>
                        <a:lnTo>
                          <a:pt x="520" y="628"/>
                        </a:lnTo>
                        <a:lnTo>
                          <a:pt x="501" y="647"/>
                        </a:lnTo>
                        <a:lnTo>
                          <a:pt x="482" y="662"/>
                        </a:lnTo>
                        <a:lnTo>
                          <a:pt x="465" y="678"/>
                        </a:lnTo>
                        <a:lnTo>
                          <a:pt x="437" y="704"/>
                        </a:lnTo>
                        <a:lnTo>
                          <a:pt x="413" y="728"/>
                        </a:lnTo>
                        <a:lnTo>
                          <a:pt x="396" y="745"/>
                        </a:lnTo>
                        <a:lnTo>
                          <a:pt x="380" y="759"/>
                        </a:lnTo>
                        <a:lnTo>
                          <a:pt x="396" y="752"/>
                        </a:lnTo>
                        <a:lnTo>
                          <a:pt x="437" y="735"/>
                        </a:lnTo>
                        <a:lnTo>
                          <a:pt x="506" y="712"/>
                        </a:lnTo>
                        <a:lnTo>
                          <a:pt x="551" y="700"/>
                        </a:lnTo>
                        <a:lnTo>
                          <a:pt x="598" y="688"/>
                        </a:lnTo>
                        <a:lnTo>
                          <a:pt x="717" y="664"/>
                        </a:lnTo>
                        <a:lnTo>
                          <a:pt x="857" y="650"/>
                        </a:lnTo>
                        <a:lnTo>
                          <a:pt x="1199" y="654"/>
                        </a:lnTo>
                        <a:lnTo>
                          <a:pt x="1379" y="693"/>
                        </a:lnTo>
                        <a:lnTo>
                          <a:pt x="1460" y="724"/>
                        </a:lnTo>
                        <a:lnTo>
                          <a:pt x="1498" y="740"/>
                        </a:lnTo>
                        <a:lnTo>
                          <a:pt x="1536" y="759"/>
                        </a:lnTo>
                        <a:lnTo>
                          <a:pt x="1572" y="778"/>
                        </a:lnTo>
                        <a:lnTo>
                          <a:pt x="1607" y="800"/>
                        </a:lnTo>
                        <a:lnTo>
                          <a:pt x="1641" y="824"/>
                        </a:lnTo>
                        <a:lnTo>
                          <a:pt x="1671" y="845"/>
                        </a:lnTo>
                        <a:lnTo>
                          <a:pt x="1702" y="869"/>
                        </a:lnTo>
                        <a:lnTo>
                          <a:pt x="1731" y="893"/>
                        </a:lnTo>
                        <a:lnTo>
                          <a:pt x="1762" y="919"/>
                        </a:lnTo>
                        <a:lnTo>
                          <a:pt x="1788" y="943"/>
                        </a:lnTo>
                        <a:lnTo>
                          <a:pt x="1811" y="969"/>
                        </a:lnTo>
                        <a:lnTo>
                          <a:pt x="1835" y="995"/>
                        </a:lnTo>
                        <a:lnTo>
                          <a:pt x="1857" y="1021"/>
                        </a:lnTo>
                        <a:lnTo>
                          <a:pt x="1878" y="1047"/>
                        </a:lnTo>
                        <a:lnTo>
                          <a:pt x="1899" y="1074"/>
                        </a:lnTo>
                        <a:lnTo>
                          <a:pt x="1918" y="1097"/>
                        </a:lnTo>
                        <a:lnTo>
                          <a:pt x="1952" y="1147"/>
                        </a:lnTo>
                        <a:lnTo>
                          <a:pt x="2001" y="1238"/>
                        </a:lnTo>
                        <a:lnTo>
                          <a:pt x="2035" y="1309"/>
                        </a:lnTo>
                        <a:lnTo>
                          <a:pt x="2054" y="1367"/>
                        </a:lnTo>
                        <a:lnTo>
                          <a:pt x="2068" y="1419"/>
                        </a:lnTo>
                        <a:lnTo>
                          <a:pt x="2094" y="1505"/>
                        </a:lnTo>
                        <a:lnTo>
                          <a:pt x="2113" y="1581"/>
                        </a:lnTo>
                        <a:lnTo>
                          <a:pt x="2058" y="1597"/>
                        </a:lnTo>
                        <a:lnTo>
                          <a:pt x="2049" y="1574"/>
                        </a:lnTo>
                        <a:lnTo>
                          <a:pt x="2028" y="1507"/>
                        </a:lnTo>
                        <a:lnTo>
                          <a:pt x="2009" y="1462"/>
                        </a:lnTo>
                        <a:lnTo>
                          <a:pt x="1987" y="1409"/>
                        </a:lnTo>
                        <a:lnTo>
                          <a:pt x="1959" y="1352"/>
                        </a:lnTo>
                        <a:lnTo>
                          <a:pt x="1925" y="1295"/>
                        </a:lnTo>
                        <a:lnTo>
                          <a:pt x="1887" y="1233"/>
                        </a:lnTo>
                        <a:lnTo>
                          <a:pt x="1845" y="1171"/>
                        </a:lnTo>
                        <a:lnTo>
                          <a:pt x="1833" y="1155"/>
                        </a:lnTo>
                        <a:lnTo>
                          <a:pt x="1821" y="1140"/>
                        </a:lnTo>
                        <a:lnTo>
                          <a:pt x="1809" y="1126"/>
                        </a:lnTo>
                        <a:lnTo>
                          <a:pt x="1797" y="1112"/>
                        </a:lnTo>
                        <a:lnTo>
                          <a:pt x="1771" y="1081"/>
                        </a:lnTo>
                        <a:lnTo>
                          <a:pt x="1757" y="1066"/>
                        </a:lnTo>
                        <a:lnTo>
                          <a:pt x="1743" y="1052"/>
                        </a:lnTo>
                        <a:lnTo>
                          <a:pt x="1712" y="1024"/>
                        </a:lnTo>
                        <a:lnTo>
                          <a:pt x="1681" y="997"/>
                        </a:lnTo>
                        <a:lnTo>
                          <a:pt x="1650" y="974"/>
                        </a:lnTo>
                        <a:lnTo>
                          <a:pt x="1614" y="947"/>
                        </a:lnTo>
                        <a:lnTo>
                          <a:pt x="1579" y="926"/>
                        </a:lnTo>
                        <a:lnTo>
                          <a:pt x="1541" y="905"/>
                        </a:lnTo>
                        <a:lnTo>
                          <a:pt x="1503" y="888"/>
                        </a:lnTo>
                        <a:lnTo>
                          <a:pt x="1462" y="871"/>
                        </a:lnTo>
                        <a:lnTo>
                          <a:pt x="1420" y="857"/>
                        </a:lnTo>
                        <a:lnTo>
                          <a:pt x="1377" y="845"/>
                        </a:lnTo>
                        <a:lnTo>
                          <a:pt x="1291" y="824"/>
                        </a:lnTo>
                        <a:lnTo>
                          <a:pt x="1204" y="812"/>
                        </a:lnTo>
                        <a:lnTo>
                          <a:pt x="1118" y="800"/>
                        </a:lnTo>
                        <a:lnTo>
                          <a:pt x="950" y="795"/>
                        </a:lnTo>
                        <a:lnTo>
                          <a:pt x="790" y="805"/>
                        </a:lnTo>
                        <a:lnTo>
                          <a:pt x="532" y="845"/>
                        </a:lnTo>
                        <a:lnTo>
                          <a:pt x="441" y="869"/>
                        </a:lnTo>
                        <a:lnTo>
                          <a:pt x="389" y="888"/>
                        </a:lnTo>
                        <a:lnTo>
                          <a:pt x="354" y="909"/>
                        </a:lnTo>
                        <a:lnTo>
                          <a:pt x="332" y="924"/>
                        </a:lnTo>
                        <a:lnTo>
                          <a:pt x="308" y="943"/>
                        </a:lnTo>
                        <a:lnTo>
                          <a:pt x="287" y="964"/>
                        </a:lnTo>
                        <a:lnTo>
                          <a:pt x="266" y="985"/>
                        </a:lnTo>
                        <a:lnTo>
                          <a:pt x="242" y="1007"/>
                        </a:lnTo>
                        <a:lnTo>
                          <a:pt x="221" y="1028"/>
                        </a:lnTo>
                        <a:lnTo>
                          <a:pt x="199" y="1052"/>
                        </a:lnTo>
                        <a:lnTo>
                          <a:pt x="183" y="1071"/>
                        </a:lnTo>
                        <a:lnTo>
                          <a:pt x="164" y="1090"/>
                        </a:lnTo>
                        <a:lnTo>
                          <a:pt x="149" y="1109"/>
                        </a:lnTo>
                        <a:lnTo>
                          <a:pt x="128" y="1133"/>
                        </a:lnTo>
                        <a:lnTo>
                          <a:pt x="119" y="1143"/>
                        </a:lnTo>
                        <a:lnTo>
                          <a:pt x="0" y="1102"/>
                        </a:lnTo>
                        <a:lnTo>
                          <a:pt x="0" y="1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flipH="1">
                    <a:off x="2866320" y="1189800"/>
                    <a:ext cx="322560" cy="278640"/>
                  </a:xfrm>
                  <a:custGeom>
                    <a:avLst/>
                    <a:gdLst/>
                    <a:ahLst/>
                    <a:rect l="l" t="t" r="r" b="b"/>
                    <a:pathLst>
                      <a:path w="3467" h="2822">
                        <a:moveTo>
                          <a:pt x="1871" y="450"/>
                        </a:moveTo>
                        <a:lnTo>
                          <a:pt x="1838" y="447"/>
                        </a:lnTo>
                        <a:lnTo>
                          <a:pt x="1807" y="438"/>
                        </a:lnTo>
                        <a:lnTo>
                          <a:pt x="1774" y="431"/>
                        </a:lnTo>
                        <a:lnTo>
                          <a:pt x="1745" y="412"/>
                        </a:lnTo>
                        <a:lnTo>
                          <a:pt x="1707" y="383"/>
                        </a:lnTo>
                        <a:lnTo>
                          <a:pt x="1681" y="343"/>
                        </a:lnTo>
                        <a:lnTo>
                          <a:pt x="1660" y="295"/>
                        </a:lnTo>
                        <a:lnTo>
                          <a:pt x="1653" y="231"/>
                        </a:lnTo>
                        <a:lnTo>
                          <a:pt x="1665" y="152"/>
                        </a:lnTo>
                        <a:lnTo>
                          <a:pt x="1681" y="112"/>
                        </a:lnTo>
                        <a:lnTo>
                          <a:pt x="1707" y="71"/>
                        </a:lnTo>
                        <a:lnTo>
                          <a:pt x="1726" y="55"/>
                        </a:lnTo>
                        <a:lnTo>
                          <a:pt x="1748" y="38"/>
                        </a:lnTo>
                        <a:lnTo>
                          <a:pt x="1771" y="24"/>
                        </a:lnTo>
                        <a:lnTo>
                          <a:pt x="1800" y="14"/>
                        </a:lnTo>
                        <a:lnTo>
                          <a:pt x="1869" y="0"/>
                        </a:lnTo>
                        <a:lnTo>
                          <a:pt x="1945" y="4"/>
                        </a:lnTo>
                        <a:lnTo>
                          <a:pt x="2018" y="26"/>
                        </a:lnTo>
                        <a:lnTo>
                          <a:pt x="2066" y="50"/>
                        </a:lnTo>
                        <a:lnTo>
                          <a:pt x="2092" y="78"/>
                        </a:lnTo>
                        <a:lnTo>
                          <a:pt x="2128" y="145"/>
                        </a:lnTo>
                        <a:lnTo>
                          <a:pt x="2147" y="219"/>
                        </a:lnTo>
                        <a:lnTo>
                          <a:pt x="2154" y="355"/>
                        </a:lnTo>
                        <a:lnTo>
                          <a:pt x="2151" y="414"/>
                        </a:lnTo>
                        <a:lnTo>
                          <a:pt x="2163" y="424"/>
                        </a:lnTo>
                        <a:lnTo>
                          <a:pt x="2201" y="450"/>
                        </a:lnTo>
                        <a:lnTo>
                          <a:pt x="2232" y="469"/>
                        </a:lnTo>
                        <a:lnTo>
                          <a:pt x="2265" y="495"/>
                        </a:lnTo>
                        <a:lnTo>
                          <a:pt x="2287" y="509"/>
                        </a:lnTo>
                        <a:lnTo>
                          <a:pt x="2306" y="524"/>
                        </a:lnTo>
                        <a:lnTo>
                          <a:pt x="2327" y="540"/>
                        </a:lnTo>
                        <a:lnTo>
                          <a:pt x="2351" y="559"/>
                        </a:lnTo>
                        <a:lnTo>
                          <a:pt x="2374" y="578"/>
                        </a:lnTo>
                        <a:lnTo>
                          <a:pt x="2401" y="597"/>
                        </a:lnTo>
                        <a:lnTo>
                          <a:pt x="2427" y="616"/>
                        </a:lnTo>
                        <a:lnTo>
                          <a:pt x="2455" y="638"/>
                        </a:lnTo>
                        <a:lnTo>
                          <a:pt x="2484" y="662"/>
                        </a:lnTo>
                        <a:lnTo>
                          <a:pt x="2515" y="686"/>
                        </a:lnTo>
                        <a:lnTo>
                          <a:pt x="2545" y="712"/>
                        </a:lnTo>
                        <a:lnTo>
                          <a:pt x="2576" y="738"/>
                        </a:lnTo>
                        <a:lnTo>
                          <a:pt x="2610" y="767"/>
                        </a:lnTo>
                        <a:lnTo>
                          <a:pt x="2629" y="781"/>
                        </a:lnTo>
                        <a:lnTo>
                          <a:pt x="2645" y="793"/>
                        </a:lnTo>
                        <a:lnTo>
                          <a:pt x="2662" y="809"/>
                        </a:lnTo>
                        <a:lnTo>
                          <a:pt x="2678" y="824"/>
                        </a:lnTo>
                        <a:lnTo>
                          <a:pt x="2697" y="838"/>
                        </a:lnTo>
                        <a:lnTo>
                          <a:pt x="2714" y="855"/>
                        </a:lnTo>
                        <a:lnTo>
                          <a:pt x="2733" y="871"/>
                        </a:lnTo>
                        <a:lnTo>
                          <a:pt x="2752" y="888"/>
                        </a:lnTo>
                        <a:lnTo>
                          <a:pt x="2769" y="902"/>
                        </a:lnTo>
                        <a:lnTo>
                          <a:pt x="2788" y="919"/>
                        </a:lnTo>
                        <a:lnTo>
                          <a:pt x="2809" y="936"/>
                        </a:lnTo>
                        <a:lnTo>
                          <a:pt x="2826" y="955"/>
                        </a:lnTo>
                        <a:lnTo>
                          <a:pt x="2847" y="971"/>
                        </a:lnTo>
                        <a:lnTo>
                          <a:pt x="2866" y="988"/>
                        </a:lnTo>
                        <a:lnTo>
                          <a:pt x="2885" y="1007"/>
                        </a:lnTo>
                        <a:lnTo>
                          <a:pt x="2904" y="1024"/>
                        </a:lnTo>
                        <a:lnTo>
                          <a:pt x="2923" y="1043"/>
                        </a:lnTo>
                        <a:lnTo>
                          <a:pt x="2942" y="1062"/>
                        </a:lnTo>
                        <a:lnTo>
                          <a:pt x="2961" y="1081"/>
                        </a:lnTo>
                        <a:lnTo>
                          <a:pt x="2980" y="1098"/>
                        </a:lnTo>
                        <a:lnTo>
                          <a:pt x="2999" y="1117"/>
                        </a:lnTo>
                        <a:lnTo>
                          <a:pt x="3018" y="1133"/>
                        </a:lnTo>
                        <a:lnTo>
                          <a:pt x="3035" y="1152"/>
                        </a:lnTo>
                        <a:lnTo>
                          <a:pt x="3054" y="1169"/>
                        </a:lnTo>
                        <a:lnTo>
                          <a:pt x="3070" y="1190"/>
                        </a:lnTo>
                        <a:lnTo>
                          <a:pt x="3087" y="1207"/>
                        </a:lnTo>
                        <a:lnTo>
                          <a:pt x="3103" y="1226"/>
                        </a:lnTo>
                        <a:lnTo>
                          <a:pt x="3120" y="1245"/>
                        </a:lnTo>
                        <a:lnTo>
                          <a:pt x="3137" y="1262"/>
                        </a:lnTo>
                        <a:lnTo>
                          <a:pt x="3153" y="1281"/>
                        </a:lnTo>
                        <a:lnTo>
                          <a:pt x="3170" y="1300"/>
                        </a:lnTo>
                        <a:lnTo>
                          <a:pt x="3187" y="1317"/>
                        </a:lnTo>
                        <a:lnTo>
                          <a:pt x="3201" y="1336"/>
                        </a:lnTo>
                        <a:lnTo>
                          <a:pt x="3215" y="1355"/>
                        </a:lnTo>
                        <a:lnTo>
                          <a:pt x="3232" y="1374"/>
                        </a:lnTo>
                        <a:lnTo>
                          <a:pt x="3246" y="1390"/>
                        </a:lnTo>
                        <a:lnTo>
                          <a:pt x="3258" y="1409"/>
                        </a:lnTo>
                        <a:lnTo>
                          <a:pt x="3272" y="1429"/>
                        </a:lnTo>
                        <a:lnTo>
                          <a:pt x="3322" y="1502"/>
                        </a:lnTo>
                        <a:lnTo>
                          <a:pt x="3367" y="1571"/>
                        </a:lnTo>
                        <a:lnTo>
                          <a:pt x="3403" y="1643"/>
                        </a:lnTo>
                        <a:lnTo>
                          <a:pt x="3433" y="1712"/>
                        </a:lnTo>
                        <a:lnTo>
                          <a:pt x="3467" y="1843"/>
                        </a:lnTo>
                        <a:lnTo>
                          <a:pt x="3467" y="1967"/>
                        </a:lnTo>
                        <a:lnTo>
                          <a:pt x="3450" y="2021"/>
                        </a:lnTo>
                        <a:lnTo>
                          <a:pt x="3424" y="2074"/>
                        </a:lnTo>
                        <a:lnTo>
                          <a:pt x="3391" y="2121"/>
                        </a:lnTo>
                        <a:lnTo>
                          <a:pt x="3372" y="2143"/>
                        </a:lnTo>
                        <a:lnTo>
                          <a:pt x="3353" y="2160"/>
                        </a:lnTo>
                        <a:lnTo>
                          <a:pt x="3334" y="2172"/>
                        </a:lnTo>
                        <a:lnTo>
                          <a:pt x="3315" y="2186"/>
                        </a:lnTo>
                        <a:lnTo>
                          <a:pt x="3274" y="2205"/>
                        </a:lnTo>
                        <a:lnTo>
                          <a:pt x="3236" y="2214"/>
                        </a:lnTo>
                        <a:lnTo>
                          <a:pt x="3198" y="2222"/>
                        </a:lnTo>
                        <a:lnTo>
                          <a:pt x="3120" y="2219"/>
                        </a:lnTo>
                        <a:lnTo>
                          <a:pt x="2999" y="2181"/>
                        </a:lnTo>
                        <a:lnTo>
                          <a:pt x="2963" y="2164"/>
                        </a:lnTo>
                        <a:lnTo>
                          <a:pt x="2949" y="2155"/>
                        </a:lnTo>
                        <a:lnTo>
                          <a:pt x="2761" y="1952"/>
                        </a:lnTo>
                        <a:lnTo>
                          <a:pt x="1987" y="669"/>
                        </a:lnTo>
                        <a:lnTo>
                          <a:pt x="2006" y="543"/>
                        </a:lnTo>
                        <a:lnTo>
                          <a:pt x="2042" y="602"/>
                        </a:lnTo>
                        <a:lnTo>
                          <a:pt x="2087" y="667"/>
                        </a:lnTo>
                        <a:lnTo>
                          <a:pt x="2113" y="707"/>
                        </a:lnTo>
                        <a:lnTo>
                          <a:pt x="2142" y="752"/>
                        </a:lnTo>
                        <a:lnTo>
                          <a:pt x="2175" y="800"/>
                        </a:lnTo>
                        <a:lnTo>
                          <a:pt x="2208" y="852"/>
                        </a:lnTo>
                        <a:lnTo>
                          <a:pt x="2246" y="909"/>
                        </a:lnTo>
                        <a:lnTo>
                          <a:pt x="2287" y="967"/>
                        </a:lnTo>
                        <a:lnTo>
                          <a:pt x="2325" y="1026"/>
                        </a:lnTo>
                        <a:lnTo>
                          <a:pt x="2365" y="1090"/>
                        </a:lnTo>
                        <a:lnTo>
                          <a:pt x="2408" y="1152"/>
                        </a:lnTo>
                        <a:lnTo>
                          <a:pt x="2453" y="1217"/>
                        </a:lnTo>
                        <a:lnTo>
                          <a:pt x="2496" y="1279"/>
                        </a:lnTo>
                        <a:lnTo>
                          <a:pt x="2538" y="1343"/>
                        </a:lnTo>
                        <a:lnTo>
                          <a:pt x="2581" y="1407"/>
                        </a:lnTo>
                        <a:lnTo>
                          <a:pt x="2624" y="1467"/>
                        </a:lnTo>
                        <a:lnTo>
                          <a:pt x="2667" y="1529"/>
                        </a:lnTo>
                        <a:lnTo>
                          <a:pt x="2709" y="1586"/>
                        </a:lnTo>
                        <a:lnTo>
                          <a:pt x="2747" y="1640"/>
                        </a:lnTo>
                        <a:lnTo>
                          <a:pt x="2785" y="1693"/>
                        </a:lnTo>
                        <a:lnTo>
                          <a:pt x="2823" y="1743"/>
                        </a:lnTo>
                        <a:lnTo>
                          <a:pt x="2840" y="1764"/>
                        </a:lnTo>
                        <a:lnTo>
                          <a:pt x="2856" y="1786"/>
                        </a:lnTo>
                        <a:lnTo>
                          <a:pt x="2873" y="1807"/>
                        </a:lnTo>
                        <a:lnTo>
                          <a:pt x="2887" y="1826"/>
                        </a:lnTo>
                        <a:lnTo>
                          <a:pt x="2902" y="1845"/>
                        </a:lnTo>
                        <a:lnTo>
                          <a:pt x="2916" y="1862"/>
                        </a:lnTo>
                        <a:lnTo>
                          <a:pt x="2928" y="1876"/>
                        </a:lnTo>
                        <a:lnTo>
                          <a:pt x="2940" y="1891"/>
                        </a:lnTo>
                        <a:lnTo>
                          <a:pt x="2963" y="1914"/>
                        </a:lnTo>
                        <a:lnTo>
                          <a:pt x="2982" y="1931"/>
                        </a:lnTo>
                        <a:lnTo>
                          <a:pt x="2997" y="1943"/>
                        </a:lnTo>
                        <a:lnTo>
                          <a:pt x="3046" y="1964"/>
                        </a:lnTo>
                        <a:lnTo>
                          <a:pt x="3101" y="1976"/>
                        </a:lnTo>
                        <a:lnTo>
                          <a:pt x="3198" y="1969"/>
                        </a:lnTo>
                        <a:lnTo>
                          <a:pt x="3239" y="1948"/>
                        </a:lnTo>
                        <a:lnTo>
                          <a:pt x="3272" y="1910"/>
                        </a:lnTo>
                        <a:lnTo>
                          <a:pt x="3291" y="1860"/>
                        </a:lnTo>
                        <a:lnTo>
                          <a:pt x="3296" y="1790"/>
                        </a:lnTo>
                        <a:lnTo>
                          <a:pt x="3281" y="1743"/>
                        </a:lnTo>
                        <a:lnTo>
                          <a:pt x="3239" y="1674"/>
                        </a:lnTo>
                        <a:lnTo>
                          <a:pt x="3210" y="1636"/>
                        </a:lnTo>
                        <a:lnTo>
                          <a:pt x="3194" y="1612"/>
                        </a:lnTo>
                        <a:lnTo>
                          <a:pt x="3177" y="1590"/>
                        </a:lnTo>
                        <a:lnTo>
                          <a:pt x="3158" y="1567"/>
                        </a:lnTo>
                        <a:lnTo>
                          <a:pt x="3137" y="1543"/>
                        </a:lnTo>
                        <a:lnTo>
                          <a:pt x="3115" y="1519"/>
                        </a:lnTo>
                        <a:lnTo>
                          <a:pt x="3094" y="1495"/>
                        </a:lnTo>
                        <a:lnTo>
                          <a:pt x="3070" y="1467"/>
                        </a:lnTo>
                        <a:lnTo>
                          <a:pt x="3046" y="1440"/>
                        </a:lnTo>
                        <a:lnTo>
                          <a:pt x="3023" y="1414"/>
                        </a:lnTo>
                        <a:lnTo>
                          <a:pt x="2997" y="1388"/>
                        </a:lnTo>
                        <a:lnTo>
                          <a:pt x="2973" y="1359"/>
                        </a:lnTo>
                        <a:lnTo>
                          <a:pt x="2959" y="1348"/>
                        </a:lnTo>
                        <a:lnTo>
                          <a:pt x="2944" y="1331"/>
                        </a:lnTo>
                        <a:lnTo>
                          <a:pt x="2930" y="1317"/>
                        </a:lnTo>
                        <a:lnTo>
                          <a:pt x="2918" y="1302"/>
                        </a:lnTo>
                        <a:lnTo>
                          <a:pt x="2904" y="1288"/>
                        </a:lnTo>
                        <a:lnTo>
                          <a:pt x="2890" y="1274"/>
                        </a:lnTo>
                        <a:lnTo>
                          <a:pt x="2875" y="1259"/>
                        </a:lnTo>
                        <a:lnTo>
                          <a:pt x="2861" y="1245"/>
                        </a:lnTo>
                        <a:lnTo>
                          <a:pt x="2847" y="1231"/>
                        </a:lnTo>
                        <a:lnTo>
                          <a:pt x="2833" y="1217"/>
                        </a:lnTo>
                        <a:lnTo>
                          <a:pt x="2818" y="1202"/>
                        </a:lnTo>
                        <a:lnTo>
                          <a:pt x="2804" y="1188"/>
                        </a:lnTo>
                        <a:lnTo>
                          <a:pt x="2788" y="1174"/>
                        </a:lnTo>
                        <a:lnTo>
                          <a:pt x="2776" y="1157"/>
                        </a:lnTo>
                        <a:lnTo>
                          <a:pt x="2759" y="1143"/>
                        </a:lnTo>
                        <a:lnTo>
                          <a:pt x="2745" y="1128"/>
                        </a:lnTo>
                        <a:lnTo>
                          <a:pt x="2731" y="1114"/>
                        </a:lnTo>
                        <a:lnTo>
                          <a:pt x="2716" y="1100"/>
                        </a:lnTo>
                        <a:lnTo>
                          <a:pt x="2702" y="1083"/>
                        </a:lnTo>
                        <a:lnTo>
                          <a:pt x="2686" y="1069"/>
                        </a:lnTo>
                        <a:lnTo>
                          <a:pt x="2671" y="1055"/>
                        </a:lnTo>
                        <a:lnTo>
                          <a:pt x="2657" y="1040"/>
                        </a:lnTo>
                        <a:lnTo>
                          <a:pt x="2640" y="1026"/>
                        </a:lnTo>
                        <a:lnTo>
                          <a:pt x="2626" y="1009"/>
                        </a:lnTo>
                        <a:lnTo>
                          <a:pt x="2612" y="995"/>
                        </a:lnTo>
                        <a:lnTo>
                          <a:pt x="2595" y="981"/>
                        </a:lnTo>
                        <a:lnTo>
                          <a:pt x="2567" y="952"/>
                        </a:lnTo>
                        <a:lnTo>
                          <a:pt x="2553" y="938"/>
                        </a:lnTo>
                        <a:lnTo>
                          <a:pt x="2536" y="924"/>
                        </a:lnTo>
                        <a:lnTo>
                          <a:pt x="2507" y="897"/>
                        </a:lnTo>
                        <a:lnTo>
                          <a:pt x="2481" y="869"/>
                        </a:lnTo>
                        <a:lnTo>
                          <a:pt x="2450" y="843"/>
                        </a:lnTo>
                        <a:lnTo>
                          <a:pt x="2424" y="814"/>
                        </a:lnTo>
                        <a:lnTo>
                          <a:pt x="2396" y="790"/>
                        </a:lnTo>
                        <a:lnTo>
                          <a:pt x="2367" y="764"/>
                        </a:lnTo>
                        <a:lnTo>
                          <a:pt x="2341" y="740"/>
                        </a:lnTo>
                        <a:lnTo>
                          <a:pt x="2315" y="714"/>
                        </a:lnTo>
                        <a:lnTo>
                          <a:pt x="2291" y="690"/>
                        </a:lnTo>
                        <a:lnTo>
                          <a:pt x="2265" y="669"/>
                        </a:lnTo>
                        <a:lnTo>
                          <a:pt x="2241" y="645"/>
                        </a:lnTo>
                        <a:lnTo>
                          <a:pt x="2218" y="624"/>
                        </a:lnTo>
                        <a:lnTo>
                          <a:pt x="2199" y="605"/>
                        </a:lnTo>
                        <a:lnTo>
                          <a:pt x="2177" y="586"/>
                        </a:lnTo>
                        <a:lnTo>
                          <a:pt x="2156" y="566"/>
                        </a:lnTo>
                        <a:lnTo>
                          <a:pt x="2137" y="550"/>
                        </a:lnTo>
                        <a:lnTo>
                          <a:pt x="2120" y="533"/>
                        </a:lnTo>
                        <a:lnTo>
                          <a:pt x="2104" y="519"/>
                        </a:lnTo>
                        <a:lnTo>
                          <a:pt x="2075" y="493"/>
                        </a:lnTo>
                        <a:lnTo>
                          <a:pt x="2052" y="471"/>
                        </a:lnTo>
                        <a:lnTo>
                          <a:pt x="2035" y="457"/>
                        </a:lnTo>
                        <a:lnTo>
                          <a:pt x="2021" y="443"/>
                        </a:lnTo>
                        <a:lnTo>
                          <a:pt x="2040" y="340"/>
                        </a:lnTo>
                        <a:lnTo>
                          <a:pt x="2033" y="255"/>
                        </a:lnTo>
                        <a:lnTo>
                          <a:pt x="2016" y="214"/>
                        </a:lnTo>
                        <a:lnTo>
                          <a:pt x="2004" y="195"/>
                        </a:lnTo>
                        <a:lnTo>
                          <a:pt x="1987" y="178"/>
                        </a:lnTo>
                        <a:lnTo>
                          <a:pt x="1971" y="166"/>
                        </a:lnTo>
                        <a:lnTo>
                          <a:pt x="1952" y="157"/>
                        </a:lnTo>
                        <a:lnTo>
                          <a:pt x="1904" y="145"/>
                        </a:lnTo>
                        <a:lnTo>
                          <a:pt x="1864" y="155"/>
                        </a:lnTo>
                        <a:lnTo>
                          <a:pt x="1833" y="181"/>
                        </a:lnTo>
                        <a:lnTo>
                          <a:pt x="1819" y="209"/>
                        </a:lnTo>
                        <a:lnTo>
                          <a:pt x="1819" y="235"/>
                        </a:lnTo>
                        <a:lnTo>
                          <a:pt x="1821" y="271"/>
                        </a:lnTo>
                        <a:lnTo>
                          <a:pt x="1843" y="302"/>
                        </a:lnTo>
                        <a:lnTo>
                          <a:pt x="1873" y="324"/>
                        </a:lnTo>
                        <a:lnTo>
                          <a:pt x="1914" y="326"/>
                        </a:lnTo>
                        <a:lnTo>
                          <a:pt x="1980" y="319"/>
                        </a:lnTo>
                        <a:lnTo>
                          <a:pt x="1961" y="397"/>
                        </a:lnTo>
                        <a:lnTo>
                          <a:pt x="1942" y="481"/>
                        </a:lnTo>
                        <a:lnTo>
                          <a:pt x="1926" y="562"/>
                        </a:lnTo>
                        <a:lnTo>
                          <a:pt x="1909" y="640"/>
                        </a:lnTo>
                        <a:lnTo>
                          <a:pt x="1890" y="721"/>
                        </a:lnTo>
                        <a:lnTo>
                          <a:pt x="1876" y="802"/>
                        </a:lnTo>
                        <a:lnTo>
                          <a:pt x="1843" y="962"/>
                        </a:lnTo>
                        <a:lnTo>
                          <a:pt x="1812" y="1121"/>
                        </a:lnTo>
                        <a:lnTo>
                          <a:pt x="1783" y="1281"/>
                        </a:lnTo>
                        <a:lnTo>
                          <a:pt x="1757" y="1438"/>
                        </a:lnTo>
                        <a:lnTo>
                          <a:pt x="1731" y="1595"/>
                        </a:lnTo>
                        <a:lnTo>
                          <a:pt x="1707" y="1752"/>
                        </a:lnTo>
                        <a:lnTo>
                          <a:pt x="1684" y="1910"/>
                        </a:lnTo>
                        <a:lnTo>
                          <a:pt x="1665" y="2064"/>
                        </a:lnTo>
                        <a:lnTo>
                          <a:pt x="1643" y="2217"/>
                        </a:lnTo>
                        <a:lnTo>
                          <a:pt x="1610" y="2522"/>
                        </a:lnTo>
                        <a:lnTo>
                          <a:pt x="1584" y="2822"/>
                        </a:lnTo>
                        <a:lnTo>
                          <a:pt x="0" y="2819"/>
                        </a:lnTo>
                        <a:lnTo>
                          <a:pt x="0" y="2617"/>
                        </a:lnTo>
                        <a:lnTo>
                          <a:pt x="1280" y="2612"/>
                        </a:lnTo>
                        <a:lnTo>
                          <a:pt x="1180" y="2422"/>
                        </a:lnTo>
                        <a:lnTo>
                          <a:pt x="1361" y="2119"/>
                        </a:lnTo>
                        <a:lnTo>
                          <a:pt x="1268" y="2007"/>
                        </a:lnTo>
                        <a:lnTo>
                          <a:pt x="1439" y="1676"/>
                        </a:lnTo>
                        <a:lnTo>
                          <a:pt x="1308" y="1514"/>
                        </a:lnTo>
                        <a:lnTo>
                          <a:pt x="1551" y="1224"/>
                        </a:lnTo>
                        <a:lnTo>
                          <a:pt x="1437" y="1105"/>
                        </a:lnTo>
                        <a:lnTo>
                          <a:pt x="1646" y="847"/>
                        </a:lnTo>
                        <a:lnTo>
                          <a:pt x="1562" y="757"/>
                        </a:lnTo>
                        <a:lnTo>
                          <a:pt x="1731" y="490"/>
                        </a:lnTo>
                        <a:lnTo>
                          <a:pt x="1802" y="514"/>
                        </a:lnTo>
                        <a:lnTo>
                          <a:pt x="1691" y="719"/>
                        </a:lnTo>
                        <a:lnTo>
                          <a:pt x="1759" y="824"/>
                        </a:lnTo>
                        <a:lnTo>
                          <a:pt x="1565" y="1105"/>
                        </a:lnTo>
                        <a:lnTo>
                          <a:pt x="1660" y="1233"/>
                        </a:lnTo>
                        <a:lnTo>
                          <a:pt x="1427" y="1490"/>
                        </a:lnTo>
                        <a:lnTo>
                          <a:pt x="1567" y="1676"/>
                        </a:lnTo>
                        <a:lnTo>
                          <a:pt x="1401" y="1971"/>
                        </a:lnTo>
                        <a:lnTo>
                          <a:pt x="1501" y="2114"/>
                        </a:lnTo>
                        <a:lnTo>
                          <a:pt x="1323" y="2398"/>
                        </a:lnTo>
                        <a:lnTo>
                          <a:pt x="1408" y="2562"/>
                        </a:lnTo>
                        <a:lnTo>
                          <a:pt x="1465" y="2619"/>
                        </a:lnTo>
                        <a:lnTo>
                          <a:pt x="1482" y="2472"/>
                        </a:lnTo>
                        <a:lnTo>
                          <a:pt x="1501" y="2326"/>
                        </a:lnTo>
                        <a:lnTo>
                          <a:pt x="1520" y="2188"/>
                        </a:lnTo>
                        <a:lnTo>
                          <a:pt x="1541" y="2050"/>
                        </a:lnTo>
                        <a:lnTo>
                          <a:pt x="1562" y="1917"/>
                        </a:lnTo>
                        <a:lnTo>
                          <a:pt x="1584" y="1783"/>
                        </a:lnTo>
                        <a:lnTo>
                          <a:pt x="1608" y="1655"/>
                        </a:lnTo>
                        <a:lnTo>
                          <a:pt x="1631" y="1526"/>
                        </a:lnTo>
                        <a:lnTo>
                          <a:pt x="1655" y="1398"/>
                        </a:lnTo>
                        <a:lnTo>
                          <a:pt x="1684" y="1267"/>
                        </a:lnTo>
                        <a:lnTo>
                          <a:pt x="1712" y="1136"/>
                        </a:lnTo>
                        <a:lnTo>
                          <a:pt x="1741" y="1005"/>
                        </a:lnTo>
                        <a:lnTo>
                          <a:pt x="1771" y="871"/>
                        </a:lnTo>
                        <a:lnTo>
                          <a:pt x="1802" y="736"/>
                        </a:lnTo>
                        <a:lnTo>
                          <a:pt x="1819" y="664"/>
                        </a:lnTo>
                        <a:lnTo>
                          <a:pt x="1835" y="595"/>
                        </a:lnTo>
                        <a:lnTo>
                          <a:pt x="1854" y="524"/>
                        </a:lnTo>
                        <a:lnTo>
                          <a:pt x="1871" y="450"/>
                        </a:lnTo>
                        <a:lnTo>
                          <a:pt x="1871"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flipH="1">
                    <a:off x="2896920" y="1346040"/>
                    <a:ext cx="22320" cy="27000"/>
                  </a:xfrm>
                  <a:custGeom>
                    <a:avLst/>
                    <a:gdLst/>
                    <a:ahLst/>
                    <a:rect l="l" t="t" r="r" b="b"/>
                    <a:pathLst>
                      <a:path w="240" h="274">
                        <a:moveTo>
                          <a:pt x="169" y="0"/>
                        </a:moveTo>
                        <a:lnTo>
                          <a:pt x="157" y="162"/>
                        </a:lnTo>
                        <a:lnTo>
                          <a:pt x="0" y="179"/>
                        </a:lnTo>
                        <a:lnTo>
                          <a:pt x="67" y="274"/>
                        </a:lnTo>
                        <a:lnTo>
                          <a:pt x="228" y="267"/>
                        </a:lnTo>
                        <a:lnTo>
                          <a:pt x="240" y="105"/>
                        </a:lnTo>
                        <a:lnTo>
                          <a:pt x="169" y="0"/>
                        </a:lnTo>
                        <a:lnTo>
                          <a:pt x="16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5" name=""/>
                  <p:cNvSpPr/>
                  <p:nvPr/>
                </p:nvSpPr>
                <p:spPr>
                  <a:xfrm flipH="1">
                    <a:off x="2912760" y="1326240"/>
                    <a:ext cx="20520" cy="26280"/>
                  </a:xfrm>
                  <a:custGeom>
                    <a:avLst/>
                    <a:gdLst/>
                    <a:ahLst/>
                    <a:rect l="l" t="t" r="r" b="b"/>
                    <a:pathLst>
                      <a:path w="224" h="267">
                        <a:moveTo>
                          <a:pt x="150" y="0"/>
                        </a:moveTo>
                        <a:lnTo>
                          <a:pt x="145" y="128"/>
                        </a:lnTo>
                        <a:lnTo>
                          <a:pt x="0" y="138"/>
                        </a:lnTo>
                        <a:lnTo>
                          <a:pt x="91" y="267"/>
                        </a:lnTo>
                        <a:lnTo>
                          <a:pt x="224" y="233"/>
                        </a:lnTo>
                        <a:lnTo>
                          <a:pt x="224" y="88"/>
                        </a:lnTo>
                        <a:lnTo>
                          <a:pt x="150" y="0"/>
                        </a:lnTo>
                        <a:lnTo>
                          <a:pt x="15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616" name=""/>
                  <p:cNvSpPr/>
                  <p:nvPr/>
                </p:nvSpPr>
                <p:spPr>
                  <a:xfrm flipH="1">
                    <a:off x="2928960" y="1309680"/>
                    <a:ext cx="16200" cy="22680"/>
                  </a:xfrm>
                  <a:custGeom>
                    <a:avLst/>
                    <a:gdLst/>
                    <a:ahLst/>
                    <a:rect l="l" t="t" r="r" b="b"/>
                    <a:pathLst>
                      <a:path w="176" h="233">
                        <a:moveTo>
                          <a:pt x="98" y="0"/>
                        </a:moveTo>
                        <a:lnTo>
                          <a:pt x="98" y="119"/>
                        </a:lnTo>
                        <a:lnTo>
                          <a:pt x="0" y="138"/>
                        </a:lnTo>
                        <a:lnTo>
                          <a:pt x="67" y="233"/>
                        </a:lnTo>
                        <a:lnTo>
                          <a:pt x="176" y="193"/>
                        </a:lnTo>
                        <a:lnTo>
                          <a:pt x="176" y="81"/>
                        </a:lnTo>
                        <a:lnTo>
                          <a:pt x="98" y="0"/>
                        </a:lnTo>
                        <a:lnTo>
                          <a:pt x="9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617" name=""/>
                  <p:cNvSpPr/>
                  <p:nvPr/>
                </p:nvSpPr>
                <p:spPr>
                  <a:xfrm flipH="1">
                    <a:off x="2943000" y="1263960"/>
                    <a:ext cx="39240" cy="49320"/>
                  </a:xfrm>
                  <a:custGeom>
                    <a:avLst/>
                    <a:gdLst/>
                    <a:ahLst/>
                    <a:rect l="l" t="t" r="r" b="b"/>
                    <a:pathLst>
                      <a:path w="422" h="500">
                        <a:moveTo>
                          <a:pt x="422" y="386"/>
                        </a:moveTo>
                        <a:lnTo>
                          <a:pt x="422" y="493"/>
                        </a:lnTo>
                        <a:lnTo>
                          <a:pt x="318" y="500"/>
                        </a:lnTo>
                        <a:lnTo>
                          <a:pt x="0" y="0"/>
                        </a:lnTo>
                        <a:lnTo>
                          <a:pt x="422" y="386"/>
                        </a:lnTo>
                        <a:lnTo>
                          <a:pt x="422" y="38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18" name=""/>
                  <p:cNvSpPr/>
                  <p:nvPr/>
                </p:nvSpPr>
                <p:spPr>
                  <a:xfrm flipH="1">
                    <a:off x="2701440" y="1280880"/>
                    <a:ext cx="203760" cy="127440"/>
                  </a:xfrm>
                  <a:custGeom>
                    <a:avLst/>
                    <a:gdLst/>
                    <a:ahLst/>
                    <a:rect l="l" t="t" r="r" b="b"/>
                    <a:pathLst>
                      <a:path w="2191" h="1290">
                        <a:moveTo>
                          <a:pt x="1624" y="1097"/>
                        </a:moveTo>
                        <a:lnTo>
                          <a:pt x="1669" y="1107"/>
                        </a:lnTo>
                        <a:lnTo>
                          <a:pt x="1781" y="1112"/>
                        </a:lnTo>
                        <a:lnTo>
                          <a:pt x="1928" y="1090"/>
                        </a:lnTo>
                        <a:lnTo>
                          <a:pt x="2001" y="1057"/>
                        </a:lnTo>
                        <a:lnTo>
                          <a:pt x="2037" y="1036"/>
                        </a:lnTo>
                        <a:lnTo>
                          <a:pt x="2070" y="1007"/>
                        </a:lnTo>
                        <a:lnTo>
                          <a:pt x="2101" y="974"/>
                        </a:lnTo>
                        <a:lnTo>
                          <a:pt x="2130" y="936"/>
                        </a:lnTo>
                        <a:lnTo>
                          <a:pt x="2170" y="840"/>
                        </a:lnTo>
                        <a:lnTo>
                          <a:pt x="2189" y="728"/>
                        </a:lnTo>
                        <a:lnTo>
                          <a:pt x="2191" y="607"/>
                        </a:lnTo>
                        <a:lnTo>
                          <a:pt x="2170" y="478"/>
                        </a:lnTo>
                        <a:lnTo>
                          <a:pt x="2151" y="416"/>
                        </a:lnTo>
                        <a:lnTo>
                          <a:pt x="2127" y="352"/>
                        </a:lnTo>
                        <a:lnTo>
                          <a:pt x="2096" y="290"/>
                        </a:lnTo>
                        <a:lnTo>
                          <a:pt x="2061" y="228"/>
                        </a:lnTo>
                        <a:lnTo>
                          <a:pt x="2018" y="171"/>
                        </a:lnTo>
                        <a:lnTo>
                          <a:pt x="1994" y="143"/>
                        </a:lnTo>
                        <a:lnTo>
                          <a:pt x="1971" y="116"/>
                        </a:lnTo>
                        <a:lnTo>
                          <a:pt x="1944" y="90"/>
                        </a:lnTo>
                        <a:lnTo>
                          <a:pt x="1916" y="71"/>
                        </a:lnTo>
                        <a:lnTo>
                          <a:pt x="1890" y="52"/>
                        </a:lnTo>
                        <a:lnTo>
                          <a:pt x="1861" y="38"/>
                        </a:lnTo>
                        <a:lnTo>
                          <a:pt x="1809" y="14"/>
                        </a:lnTo>
                        <a:lnTo>
                          <a:pt x="1754" y="2"/>
                        </a:lnTo>
                        <a:lnTo>
                          <a:pt x="1648" y="0"/>
                        </a:lnTo>
                        <a:lnTo>
                          <a:pt x="1548" y="24"/>
                        </a:lnTo>
                        <a:lnTo>
                          <a:pt x="1503" y="40"/>
                        </a:lnTo>
                        <a:lnTo>
                          <a:pt x="1462" y="57"/>
                        </a:lnTo>
                        <a:lnTo>
                          <a:pt x="1427" y="76"/>
                        </a:lnTo>
                        <a:lnTo>
                          <a:pt x="1396" y="95"/>
                        </a:lnTo>
                        <a:lnTo>
                          <a:pt x="1370" y="112"/>
                        </a:lnTo>
                        <a:lnTo>
                          <a:pt x="1351" y="126"/>
                        </a:lnTo>
                        <a:lnTo>
                          <a:pt x="1334" y="138"/>
                        </a:lnTo>
                        <a:lnTo>
                          <a:pt x="1346" y="166"/>
                        </a:lnTo>
                        <a:lnTo>
                          <a:pt x="1372" y="240"/>
                        </a:lnTo>
                        <a:lnTo>
                          <a:pt x="1391" y="293"/>
                        </a:lnTo>
                        <a:lnTo>
                          <a:pt x="1408" y="352"/>
                        </a:lnTo>
                        <a:lnTo>
                          <a:pt x="1446" y="483"/>
                        </a:lnTo>
                        <a:lnTo>
                          <a:pt x="1489" y="757"/>
                        </a:lnTo>
                        <a:lnTo>
                          <a:pt x="1481" y="874"/>
                        </a:lnTo>
                        <a:lnTo>
                          <a:pt x="1465" y="921"/>
                        </a:lnTo>
                        <a:lnTo>
                          <a:pt x="1443" y="959"/>
                        </a:lnTo>
                        <a:lnTo>
                          <a:pt x="1429" y="976"/>
                        </a:lnTo>
                        <a:lnTo>
                          <a:pt x="1415" y="993"/>
                        </a:lnTo>
                        <a:lnTo>
                          <a:pt x="1389" y="1021"/>
                        </a:lnTo>
                        <a:lnTo>
                          <a:pt x="1363" y="1050"/>
                        </a:lnTo>
                        <a:lnTo>
                          <a:pt x="1339" y="1074"/>
                        </a:lnTo>
                        <a:lnTo>
                          <a:pt x="1315" y="1093"/>
                        </a:lnTo>
                        <a:lnTo>
                          <a:pt x="1289" y="1109"/>
                        </a:lnTo>
                        <a:lnTo>
                          <a:pt x="1265" y="1121"/>
                        </a:lnTo>
                        <a:lnTo>
                          <a:pt x="1239" y="1131"/>
                        </a:lnTo>
                        <a:lnTo>
                          <a:pt x="1182" y="1136"/>
                        </a:lnTo>
                        <a:lnTo>
                          <a:pt x="1120" y="1121"/>
                        </a:lnTo>
                        <a:lnTo>
                          <a:pt x="1049" y="1088"/>
                        </a:lnTo>
                        <a:lnTo>
                          <a:pt x="1009" y="1062"/>
                        </a:lnTo>
                        <a:lnTo>
                          <a:pt x="988" y="1047"/>
                        </a:lnTo>
                        <a:lnTo>
                          <a:pt x="966" y="1033"/>
                        </a:lnTo>
                        <a:lnTo>
                          <a:pt x="945" y="1012"/>
                        </a:lnTo>
                        <a:lnTo>
                          <a:pt x="923" y="990"/>
                        </a:lnTo>
                        <a:lnTo>
                          <a:pt x="888" y="940"/>
                        </a:lnTo>
                        <a:lnTo>
                          <a:pt x="859" y="881"/>
                        </a:lnTo>
                        <a:lnTo>
                          <a:pt x="836" y="814"/>
                        </a:lnTo>
                        <a:lnTo>
                          <a:pt x="805" y="664"/>
                        </a:lnTo>
                        <a:lnTo>
                          <a:pt x="788" y="509"/>
                        </a:lnTo>
                        <a:lnTo>
                          <a:pt x="783" y="238"/>
                        </a:lnTo>
                        <a:lnTo>
                          <a:pt x="790" y="124"/>
                        </a:lnTo>
                        <a:lnTo>
                          <a:pt x="0" y="126"/>
                        </a:lnTo>
                        <a:lnTo>
                          <a:pt x="164" y="276"/>
                        </a:lnTo>
                        <a:lnTo>
                          <a:pt x="653" y="274"/>
                        </a:lnTo>
                        <a:lnTo>
                          <a:pt x="629" y="581"/>
                        </a:lnTo>
                        <a:lnTo>
                          <a:pt x="638" y="714"/>
                        </a:lnTo>
                        <a:lnTo>
                          <a:pt x="653" y="783"/>
                        </a:lnTo>
                        <a:lnTo>
                          <a:pt x="669" y="852"/>
                        </a:lnTo>
                        <a:lnTo>
                          <a:pt x="693" y="921"/>
                        </a:lnTo>
                        <a:lnTo>
                          <a:pt x="724" y="986"/>
                        </a:lnTo>
                        <a:lnTo>
                          <a:pt x="760" y="1047"/>
                        </a:lnTo>
                        <a:lnTo>
                          <a:pt x="783" y="1076"/>
                        </a:lnTo>
                        <a:lnTo>
                          <a:pt x="793" y="1090"/>
                        </a:lnTo>
                        <a:lnTo>
                          <a:pt x="807" y="1105"/>
                        </a:lnTo>
                        <a:lnTo>
                          <a:pt x="831" y="1131"/>
                        </a:lnTo>
                        <a:lnTo>
                          <a:pt x="857" y="1155"/>
                        </a:lnTo>
                        <a:lnTo>
                          <a:pt x="881" y="1176"/>
                        </a:lnTo>
                        <a:lnTo>
                          <a:pt x="907" y="1197"/>
                        </a:lnTo>
                        <a:lnTo>
                          <a:pt x="931" y="1217"/>
                        </a:lnTo>
                        <a:lnTo>
                          <a:pt x="957" y="1231"/>
                        </a:lnTo>
                        <a:lnTo>
                          <a:pt x="983" y="1245"/>
                        </a:lnTo>
                        <a:lnTo>
                          <a:pt x="1007" y="1257"/>
                        </a:lnTo>
                        <a:lnTo>
                          <a:pt x="1056" y="1276"/>
                        </a:lnTo>
                        <a:lnTo>
                          <a:pt x="1106" y="1288"/>
                        </a:lnTo>
                        <a:lnTo>
                          <a:pt x="1201" y="1290"/>
                        </a:lnTo>
                        <a:lnTo>
                          <a:pt x="1294" y="1269"/>
                        </a:lnTo>
                        <a:lnTo>
                          <a:pt x="1337" y="1248"/>
                        </a:lnTo>
                        <a:lnTo>
                          <a:pt x="1382" y="1224"/>
                        </a:lnTo>
                        <a:lnTo>
                          <a:pt x="1424" y="1193"/>
                        </a:lnTo>
                        <a:lnTo>
                          <a:pt x="1443" y="1176"/>
                        </a:lnTo>
                        <a:lnTo>
                          <a:pt x="1462" y="1157"/>
                        </a:lnTo>
                        <a:lnTo>
                          <a:pt x="1484" y="1138"/>
                        </a:lnTo>
                        <a:lnTo>
                          <a:pt x="1503" y="1119"/>
                        </a:lnTo>
                        <a:lnTo>
                          <a:pt x="1522" y="1097"/>
                        </a:lnTo>
                        <a:lnTo>
                          <a:pt x="1538" y="1074"/>
                        </a:lnTo>
                        <a:lnTo>
                          <a:pt x="1593" y="969"/>
                        </a:lnTo>
                        <a:lnTo>
                          <a:pt x="1610" y="836"/>
                        </a:lnTo>
                        <a:lnTo>
                          <a:pt x="1602" y="695"/>
                        </a:lnTo>
                        <a:lnTo>
                          <a:pt x="1576" y="550"/>
                        </a:lnTo>
                        <a:lnTo>
                          <a:pt x="1560" y="483"/>
                        </a:lnTo>
                        <a:lnTo>
                          <a:pt x="1543" y="419"/>
                        </a:lnTo>
                        <a:lnTo>
                          <a:pt x="1527" y="362"/>
                        </a:lnTo>
                        <a:lnTo>
                          <a:pt x="1510" y="312"/>
                        </a:lnTo>
                        <a:lnTo>
                          <a:pt x="1481" y="235"/>
                        </a:lnTo>
                        <a:lnTo>
                          <a:pt x="1472" y="209"/>
                        </a:lnTo>
                        <a:lnTo>
                          <a:pt x="1512" y="193"/>
                        </a:lnTo>
                        <a:lnTo>
                          <a:pt x="1555" y="176"/>
                        </a:lnTo>
                        <a:lnTo>
                          <a:pt x="1614" y="162"/>
                        </a:lnTo>
                        <a:lnTo>
                          <a:pt x="1678" y="152"/>
                        </a:lnTo>
                        <a:lnTo>
                          <a:pt x="1747" y="152"/>
                        </a:lnTo>
                        <a:lnTo>
                          <a:pt x="1819" y="169"/>
                        </a:lnTo>
                        <a:lnTo>
                          <a:pt x="1883" y="202"/>
                        </a:lnTo>
                        <a:lnTo>
                          <a:pt x="1982" y="338"/>
                        </a:lnTo>
                        <a:lnTo>
                          <a:pt x="2030" y="526"/>
                        </a:lnTo>
                        <a:lnTo>
                          <a:pt x="2025" y="724"/>
                        </a:lnTo>
                        <a:lnTo>
                          <a:pt x="2006" y="809"/>
                        </a:lnTo>
                        <a:lnTo>
                          <a:pt x="1992" y="847"/>
                        </a:lnTo>
                        <a:lnTo>
                          <a:pt x="1975" y="883"/>
                        </a:lnTo>
                        <a:lnTo>
                          <a:pt x="1940" y="933"/>
                        </a:lnTo>
                        <a:lnTo>
                          <a:pt x="1918" y="952"/>
                        </a:lnTo>
                        <a:lnTo>
                          <a:pt x="1899" y="964"/>
                        </a:lnTo>
                        <a:lnTo>
                          <a:pt x="1859" y="983"/>
                        </a:lnTo>
                        <a:lnTo>
                          <a:pt x="1819" y="990"/>
                        </a:lnTo>
                        <a:lnTo>
                          <a:pt x="1757" y="983"/>
                        </a:lnTo>
                        <a:lnTo>
                          <a:pt x="1731" y="974"/>
                        </a:lnTo>
                        <a:lnTo>
                          <a:pt x="1745" y="714"/>
                        </a:lnTo>
                        <a:lnTo>
                          <a:pt x="1724" y="624"/>
                        </a:lnTo>
                        <a:lnTo>
                          <a:pt x="1695" y="493"/>
                        </a:lnTo>
                        <a:lnTo>
                          <a:pt x="1686" y="371"/>
                        </a:lnTo>
                        <a:lnTo>
                          <a:pt x="1697" y="326"/>
                        </a:lnTo>
                        <a:lnTo>
                          <a:pt x="1707" y="312"/>
                        </a:lnTo>
                        <a:lnTo>
                          <a:pt x="1721" y="300"/>
                        </a:lnTo>
                        <a:lnTo>
                          <a:pt x="1754" y="295"/>
                        </a:lnTo>
                        <a:lnTo>
                          <a:pt x="1785" y="300"/>
                        </a:lnTo>
                        <a:lnTo>
                          <a:pt x="1835" y="345"/>
                        </a:lnTo>
                        <a:lnTo>
                          <a:pt x="1895" y="469"/>
                        </a:lnTo>
                        <a:lnTo>
                          <a:pt x="1899" y="516"/>
                        </a:lnTo>
                        <a:lnTo>
                          <a:pt x="1885" y="552"/>
                        </a:lnTo>
                        <a:lnTo>
                          <a:pt x="1859" y="566"/>
                        </a:lnTo>
                        <a:lnTo>
                          <a:pt x="1821" y="547"/>
                        </a:lnTo>
                        <a:lnTo>
                          <a:pt x="1797" y="507"/>
                        </a:lnTo>
                        <a:lnTo>
                          <a:pt x="1807" y="462"/>
                        </a:lnTo>
                        <a:lnTo>
                          <a:pt x="1821" y="435"/>
                        </a:lnTo>
                        <a:lnTo>
                          <a:pt x="1845" y="421"/>
                        </a:lnTo>
                        <a:lnTo>
                          <a:pt x="1781" y="340"/>
                        </a:lnTo>
                        <a:lnTo>
                          <a:pt x="1757" y="374"/>
                        </a:lnTo>
                        <a:lnTo>
                          <a:pt x="1745" y="409"/>
                        </a:lnTo>
                        <a:lnTo>
                          <a:pt x="1743" y="481"/>
                        </a:lnTo>
                        <a:lnTo>
                          <a:pt x="1762" y="578"/>
                        </a:lnTo>
                        <a:lnTo>
                          <a:pt x="1788" y="647"/>
                        </a:lnTo>
                        <a:lnTo>
                          <a:pt x="1811" y="671"/>
                        </a:lnTo>
                        <a:lnTo>
                          <a:pt x="1830" y="688"/>
                        </a:lnTo>
                        <a:lnTo>
                          <a:pt x="1868" y="702"/>
                        </a:lnTo>
                        <a:lnTo>
                          <a:pt x="1902" y="695"/>
                        </a:lnTo>
                        <a:lnTo>
                          <a:pt x="1928" y="669"/>
                        </a:lnTo>
                        <a:lnTo>
                          <a:pt x="1956" y="578"/>
                        </a:lnTo>
                        <a:lnTo>
                          <a:pt x="1959" y="462"/>
                        </a:lnTo>
                        <a:lnTo>
                          <a:pt x="1947" y="402"/>
                        </a:lnTo>
                        <a:lnTo>
                          <a:pt x="1918" y="347"/>
                        </a:lnTo>
                        <a:lnTo>
                          <a:pt x="1883" y="297"/>
                        </a:lnTo>
                        <a:lnTo>
                          <a:pt x="1864" y="276"/>
                        </a:lnTo>
                        <a:lnTo>
                          <a:pt x="1842" y="254"/>
                        </a:lnTo>
                        <a:lnTo>
                          <a:pt x="1819" y="238"/>
                        </a:lnTo>
                        <a:lnTo>
                          <a:pt x="1795" y="224"/>
                        </a:lnTo>
                        <a:lnTo>
                          <a:pt x="1771" y="209"/>
                        </a:lnTo>
                        <a:lnTo>
                          <a:pt x="1745" y="200"/>
                        </a:lnTo>
                        <a:lnTo>
                          <a:pt x="1697" y="193"/>
                        </a:lnTo>
                        <a:lnTo>
                          <a:pt x="1652" y="200"/>
                        </a:lnTo>
                        <a:lnTo>
                          <a:pt x="1617" y="219"/>
                        </a:lnTo>
                        <a:lnTo>
                          <a:pt x="1598" y="250"/>
                        </a:lnTo>
                        <a:lnTo>
                          <a:pt x="1591" y="340"/>
                        </a:lnTo>
                        <a:lnTo>
                          <a:pt x="1600" y="400"/>
                        </a:lnTo>
                        <a:lnTo>
                          <a:pt x="1617" y="466"/>
                        </a:lnTo>
                        <a:lnTo>
                          <a:pt x="1638" y="540"/>
                        </a:lnTo>
                        <a:lnTo>
                          <a:pt x="1664" y="624"/>
                        </a:lnTo>
                        <a:lnTo>
                          <a:pt x="1686" y="793"/>
                        </a:lnTo>
                        <a:lnTo>
                          <a:pt x="1669" y="945"/>
                        </a:lnTo>
                        <a:lnTo>
                          <a:pt x="1655" y="1007"/>
                        </a:lnTo>
                        <a:lnTo>
                          <a:pt x="1640" y="1057"/>
                        </a:lnTo>
                        <a:lnTo>
                          <a:pt x="1624" y="1097"/>
                        </a:lnTo>
                        <a:lnTo>
                          <a:pt x="1624"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flipH="1">
                    <a:off x="2982960" y="1297080"/>
                    <a:ext cx="32400" cy="13680"/>
                  </a:xfrm>
                  <a:custGeom>
                    <a:avLst/>
                    <a:gdLst/>
                    <a:ahLst/>
                    <a:rect l="l" t="t" r="r" b="b"/>
                    <a:pathLst>
                      <a:path w="349" h="142">
                        <a:moveTo>
                          <a:pt x="290" y="0"/>
                        </a:moveTo>
                        <a:lnTo>
                          <a:pt x="15" y="2"/>
                        </a:lnTo>
                        <a:lnTo>
                          <a:pt x="0" y="142"/>
                        </a:lnTo>
                        <a:lnTo>
                          <a:pt x="349" y="142"/>
                        </a:lnTo>
                        <a:lnTo>
                          <a:pt x="290" y="0"/>
                        </a:lnTo>
                        <a:lnTo>
                          <a:pt x="29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620" name=""/>
                  <p:cNvSpPr/>
                  <p:nvPr/>
                </p:nvSpPr>
                <p:spPr>
                  <a:xfrm flipH="1">
                    <a:off x="2787480" y="1284120"/>
                    <a:ext cx="37440" cy="20880"/>
                  </a:xfrm>
                  <a:custGeom>
                    <a:avLst/>
                    <a:gdLst/>
                    <a:ahLst/>
                    <a:rect l="l" t="t" r="r" b="b"/>
                    <a:pathLst>
                      <a:path w="406" h="212">
                        <a:moveTo>
                          <a:pt x="0" y="88"/>
                        </a:moveTo>
                        <a:lnTo>
                          <a:pt x="7" y="212"/>
                        </a:lnTo>
                        <a:lnTo>
                          <a:pt x="23" y="200"/>
                        </a:lnTo>
                        <a:lnTo>
                          <a:pt x="40" y="188"/>
                        </a:lnTo>
                        <a:lnTo>
                          <a:pt x="64" y="173"/>
                        </a:lnTo>
                        <a:lnTo>
                          <a:pt x="92" y="162"/>
                        </a:lnTo>
                        <a:lnTo>
                          <a:pt x="126" y="147"/>
                        </a:lnTo>
                        <a:lnTo>
                          <a:pt x="197" y="138"/>
                        </a:lnTo>
                        <a:lnTo>
                          <a:pt x="339" y="157"/>
                        </a:lnTo>
                        <a:lnTo>
                          <a:pt x="406" y="176"/>
                        </a:lnTo>
                        <a:lnTo>
                          <a:pt x="380" y="52"/>
                        </a:lnTo>
                        <a:lnTo>
                          <a:pt x="365" y="40"/>
                        </a:lnTo>
                        <a:lnTo>
                          <a:pt x="346" y="31"/>
                        </a:lnTo>
                        <a:lnTo>
                          <a:pt x="320" y="19"/>
                        </a:lnTo>
                        <a:lnTo>
                          <a:pt x="289" y="7"/>
                        </a:lnTo>
                        <a:lnTo>
                          <a:pt x="251" y="0"/>
                        </a:lnTo>
                        <a:lnTo>
                          <a:pt x="156" y="2"/>
                        </a:lnTo>
                        <a:lnTo>
                          <a:pt x="71" y="26"/>
                        </a:lnTo>
                        <a:lnTo>
                          <a:pt x="23" y="54"/>
                        </a:lnTo>
                        <a:lnTo>
                          <a:pt x="4" y="78"/>
                        </a:lnTo>
                        <a:lnTo>
                          <a:pt x="0" y="88"/>
                        </a:lnTo>
                        <a:lnTo>
                          <a:pt x="0" y="8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621" name=""/>
                  <p:cNvSpPr/>
                  <p:nvPr/>
                </p:nvSpPr>
                <p:spPr>
                  <a:xfrm flipH="1">
                    <a:off x="3052800" y="1295640"/>
                    <a:ext cx="152280" cy="110520"/>
                  </a:xfrm>
                  <a:custGeom>
                    <a:avLst/>
                    <a:gdLst/>
                    <a:ahLst/>
                    <a:rect l="l" t="t" r="r" b="b"/>
                    <a:pathLst>
                      <a:path w="1638" h="1120">
                        <a:moveTo>
                          <a:pt x="1320" y="1120"/>
                        </a:moveTo>
                        <a:lnTo>
                          <a:pt x="1194" y="1105"/>
                        </a:lnTo>
                        <a:lnTo>
                          <a:pt x="1057" y="1084"/>
                        </a:lnTo>
                        <a:lnTo>
                          <a:pt x="976" y="1070"/>
                        </a:lnTo>
                        <a:lnTo>
                          <a:pt x="890" y="1050"/>
                        </a:lnTo>
                        <a:lnTo>
                          <a:pt x="803" y="1029"/>
                        </a:lnTo>
                        <a:lnTo>
                          <a:pt x="710" y="1000"/>
                        </a:lnTo>
                        <a:lnTo>
                          <a:pt x="665" y="986"/>
                        </a:lnTo>
                        <a:lnTo>
                          <a:pt x="615" y="970"/>
                        </a:lnTo>
                        <a:lnTo>
                          <a:pt x="570" y="953"/>
                        </a:lnTo>
                        <a:lnTo>
                          <a:pt x="527" y="934"/>
                        </a:lnTo>
                        <a:lnTo>
                          <a:pt x="482" y="915"/>
                        </a:lnTo>
                        <a:lnTo>
                          <a:pt x="439" y="893"/>
                        </a:lnTo>
                        <a:lnTo>
                          <a:pt x="397" y="872"/>
                        </a:lnTo>
                        <a:lnTo>
                          <a:pt x="356" y="848"/>
                        </a:lnTo>
                        <a:lnTo>
                          <a:pt x="318" y="822"/>
                        </a:lnTo>
                        <a:lnTo>
                          <a:pt x="280" y="796"/>
                        </a:lnTo>
                        <a:lnTo>
                          <a:pt x="247" y="767"/>
                        </a:lnTo>
                        <a:lnTo>
                          <a:pt x="214" y="739"/>
                        </a:lnTo>
                        <a:lnTo>
                          <a:pt x="197" y="722"/>
                        </a:lnTo>
                        <a:lnTo>
                          <a:pt x="183" y="705"/>
                        </a:lnTo>
                        <a:lnTo>
                          <a:pt x="157" y="674"/>
                        </a:lnTo>
                        <a:lnTo>
                          <a:pt x="109" y="608"/>
                        </a:lnTo>
                        <a:lnTo>
                          <a:pt x="74" y="539"/>
                        </a:lnTo>
                        <a:lnTo>
                          <a:pt x="43" y="469"/>
                        </a:lnTo>
                        <a:lnTo>
                          <a:pt x="5" y="331"/>
                        </a:lnTo>
                        <a:lnTo>
                          <a:pt x="0" y="200"/>
                        </a:lnTo>
                        <a:lnTo>
                          <a:pt x="0" y="136"/>
                        </a:lnTo>
                        <a:lnTo>
                          <a:pt x="0" y="81"/>
                        </a:lnTo>
                        <a:lnTo>
                          <a:pt x="5" y="0"/>
                        </a:lnTo>
                        <a:lnTo>
                          <a:pt x="1522" y="0"/>
                        </a:lnTo>
                        <a:lnTo>
                          <a:pt x="1638" y="141"/>
                        </a:lnTo>
                        <a:lnTo>
                          <a:pt x="266" y="138"/>
                        </a:lnTo>
                        <a:lnTo>
                          <a:pt x="271" y="324"/>
                        </a:lnTo>
                        <a:lnTo>
                          <a:pt x="285" y="408"/>
                        </a:lnTo>
                        <a:lnTo>
                          <a:pt x="297" y="450"/>
                        </a:lnTo>
                        <a:lnTo>
                          <a:pt x="313" y="496"/>
                        </a:lnTo>
                        <a:lnTo>
                          <a:pt x="332" y="539"/>
                        </a:lnTo>
                        <a:lnTo>
                          <a:pt x="356" y="581"/>
                        </a:lnTo>
                        <a:lnTo>
                          <a:pt x="385" y="624"/>
                        </a:lnTo>
                        <a:lnTo>
                          <a:pt x="401" y="643"/>
                        </a:lnTo>
                        <a:lnTo>
                          <a:pt x="420" y="662"/>
                        </a:lnTo>
                        <a:lnTo>
                          <a:pt x="439" y="681"/>
                        </a:lnTo>
                        <a:lnTo>
                          <a:pt x="461" y="700"/>
                        </a:lnTo>
                        <a:lnTo>
                          <a:pt x="484" y="717"/>
                        </a:lnTo>
                        <a:lnTo>
                          <a:pt x="510" y="736"/>
                        </a:lnTo>
                        <a:lnTo>
                          <a:pt x="539" y="750"/>
                        </a:lnTo>
                        <a:lnTo>
                          <a:pt x="567" y="767"/>
                        </a:lnTo>
                        <a:lnTo>
                          <a:pt x="598" y="784"/>
                        </a:lnTo>
                        <a:lnTo>
                          <a:pt x="632" y="798"/>
                        </a:lnTo>
                        <a:lnTo>
                          <a:pt x="665" y="810"/>
                        </a:lnTo>
                        <a:lnTo>
                          <a:pt x="698" y="824"/>
                        </a:lnTo>
                        <a:lnTo>
                          <a:pt x="767" y="850"/>
                        </a:lnTo>
                        <a:lnTo>
                          <a:pt x="836" y="874"/>
                        </a:lnTo>
                        <a:lnTo>
                          <a:pt x="905" y="896"/>
                        </a:lnTo>
                        <a:lnTo>
                          <a:pt x="973" y="915"/>
                        </a:lnTo>
                        <a:lnTo>
                          <a:pt x="1038" y="929"/>
                        </a:lnTo>
                        <a:lnTo>
                          <a:pt x="1144" y="955"/>
                        </a:lnTo>
                        <a:lnTo>
                          <a:pt x="1247" y="974"/>
                        </a:lnTo>
                        <a:lnTo>
                          <a:pt x="1403" y="669"/>
                        </a:lnTo>
                        <a:lnTo>
                          <a:pt x="1349" y="574"/>
                        </a:lnTo>
                        <a:lnTo>
                          <a:pt x="563" y="450"/>
                        </a:lnTo>
                        <a:lnTo>
                          <a:pt x="596" y="505"/>
                        </a:lnTo>
                        <a:lnTo>
                          <a:pt x="617" y="529"/>
                        </a:lnTo>
                        <a:lnTo>
                          <a:pt x="632" y="541"/>
                        </a:lnTo>
                        <a:lnTo>
                          <a:pt x="646" y="555"/>
                        </a:lnTo>
                        <a:lnTo>
                          <a:pt x="660" y="567"/>
                        </a:lnTo>
                        <a:lnTo>
                          <a:pt x="677" y="581"/>
                        </a:lnTo>
                        <a:lnTo>
                          <a:pt x="698" y="596"/>
                        </a:lnTo>
                        <a:lnTo>
                          <a:pt x="717" y="608"/>
                        </a:lnTo>
                        <a:lnTo>
                          <a:pt x="743" y="619"/>
                        </a:lnTo>
                        <a:lnTo>
                          <a:pt x="774" y="631"/>
                        </a:lnTo>
                        <a:lnTo>
                          <a:pt x="852" y="653"/>
                        </a:lnTo>
                        <a:lnTo>
                          <a:pt x="940" y="672"/>
                        </a:lnTo>
                        <a:lnTo>
                          <a:pt x="1033" y="689"/>
                        </a:lnTo>
                        <a:lnTo>
                          <a:pt x="1194" y="715"/>
                        </a:lnTo>
                        <a:lnTo>
                          <a:pt x="1263" y="722"/>
                        </a:lnTo>
                        <a:lnTo>
                          <a:pt x="1211" y="867"/>
                        </a:lnTo>
                        <a:lnTo>
                          <a:pt x="1149" y="858"/>
                        </a:lnTo>
                        <a:lnTo>
                          <a:pt x="1002" y="831"/>
                        </a:lnTo>
                        <a:lnTo>
                          <a:pt x="909" y="808"/>
                        </a:lnTo>
                        <a:lnTo>
                          <a:pt x="814" y="777"/>
                        </a:lnTo>
                        <a:lnTo>
                          <a:pt x="765" y="760"/>
                        </a:lnTo>
                        <a:lnTo>
                          <a:pt x="717" y="739"/>
                        </a:lnTo>
                        <a:lnTo>
                          <a:pt x="674" y="715"/>
                        </a:lnTo>
                        <a:lnTo>
                          <a:pt x="632" y="691"/>
                        </a:lnTo>
                        <a:lnTo>
                          <a:pt x="594" y="665"/>
                        </a:lnTo>
                        <a:lnTo>
                          <a:pt x="560" y="636"/>
                        </a:lnTo>
                        <a:lnTo>
                          <a:pt x="534" y="608"/>
                        </a:lnTo>
                        <a:lnTo>
                          <a:pt x="513" y="579"/>
                        </a:lnTo>
                        <a:lnTo>
                          <a:pt x="463" y="462"/>
                        </a:lnTo>
                        <a:lnTo>
                          <a:pt x="454" y="372"/>
                        </a:lnTo>
                        <a:lnTo>
                          <a:pt x="456" y="336"/>
                        </a:lnTo>
                        <a:lnTo>
                          <a:pt x="1425" y="484"/>
                        </a:lnTo>
                        <a:lnTo>
                          <a:pt x="1512" y="643"/>
                        </a:lnTo>
                        <a:lnTo>
                          <a:pt x="1505" y="662"/>
                        </a:lnTo>
                        <a:lnTo>
                          <a:pt x="1484" y="719"/>
                        </a:lnTo>
                        <a:lnTo>
                          <a:pt x="1453" y="793"/>
                        </a:lnTo>
                        <a:lnTo>
                          <a:pt x="1437" y="839"/>
                        </a:lnTo>
                        <a:lnTo>
                          <a:pt x="1418" y="884"/>
                        </a:lnTo>
                        <a:lnTo>
                          <a:pt x="1399" y="927"/>
                        </a:lnTo>
                        <a:lnTo>
                          <a:pt x="1382" y="970"/>
                        </a:lnTo>
                        <a:lnTo>
                          <a:pt x="1351" y="1048"/>
                        </a:lnTo>
                        <a:lnTo>
                          <a:pt x="1330" y="1101"/>
                        </a:lnTo>
                        <a:lnTo>
                          <a:pt x="1320" y="1120"/>
                        </a:lnTo>
                        <a:lnTo>
                          <a:pt x="1320" y="1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flipH="1">
                    <a:off x="3060000" y="1316880"/>
                    <a:ext cx="102600" cy="13320"/>
                  </a:xfrm>
                  <a:custGeom>
                    <a:avLst/>
                    <a:gdLst/>
                    <a:ahLst/>
                    <a:rect l="l" t="t" r="r" b="b"/>
                    <a:pathLst>
                      <a:path w="1102" h="136">
                        <a:moveTo>
                          <a:pt x="0" y="0"/>
                        </a:moveTo>
                        <a:lnTo>
                          <a:pt x="1102" y="2"/>
                        </a:lnTo>
                        <a:lnTo>
                          <a:pt x="990" y="136"/>
                        </a:lnTo>
                        <a:lnTo>
                          <a:pt x="0" y="48"/>
                        </a:lnTo>
                        <a:lnTo>
                          <a:pt x="0"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623" name=""/>
                  <p:cNvSpPr/>
                  <p:nvPr/>
                </p:nvSpPr>
                <p:spPr>
                  <a:xfrm flipH="1">
                    <a:off x="2970000" y="1319040"/>
                    <a:ext cx="47160" cy="14040"/>
                  </a:xfrm>
                  <a:custGeom>
                    <a:avLst/>
                    <a:gdLst/>
                    <a:ahLst/>
                    <a:rect l="l" t="t" r="r" b="b"/>
                    <a:pathLst>
                      <a:path w="510" h="143">
                        <a:moveTo>
                          <a:pt x="23" y="0"/>
                        </a:moveTo>
                        <a:lnTo>
                          <a:pt x="0" y="136"/>
                        </a:lnTo>
                        <a:lnTo>
                          <a:pt x="510" y="143"/>
                        </a:lnTo>
                        <a:lnTo>
                          <a:pt x="417" y="0"/>
                        </a:lnTo>
                        <a:lnTo>
                          <a:pt x="23" y="0"/>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4" name=""/>
                  <p:cNvSpPr/>
                  <p:nvPr/>
                </p:nvSpPr>
                <p:spPr>
                  <a:xfrm flipH="1">
                    <a:off x="2835720" y="1319760"/>
                    <a:ext cx="194040" cy="118080"/>
                  </a:xfrm>
                  <a:custGeom>
                    <a:avLst/>
                    <a:gdLst/>
                    <a:ahLst/>
                    <a:rect l="l" t="t" r="r" b="b"/>
                    <a:pathLst>
                      <a:path w="2085" h="1195">
                        <a:moveTo>
                          <a:pt x="2085" y="781"/>
                        </a:moveTo>
                        <a:lnTo>
                          <a:pt x="2070" y="795"/>
                        </a:lnTo>
                        <a:lnTo>
                          <a:pt x="2054" y="812"/>
                        </a:lnTo>
                        <a:lnTo>
                          <a:pt x="2032" y="835"/>
                        </a:lnTo>
                        <a:lnTo>
                          <a:pt x="2004" y="862"/>
                        </a:lnTo>
                        <a:lnTo>
                          <a:pt x="1987" y="878"/>
                        </a:lnTo>
                        <a:lnTo>
                          <a:pt x="1971" y="893"/>
                        </a:lnTo>
                        <a:lnTo>
                          <a:pt x="1954" y="909"/>
                        </a:lnTo>
                        <a:lnTo>
                          <a:pt x="1933" y="926"/>
                        </a:lnTo>
                        <a:lnTo>
                          <a:pt x="1914" y="945"/>
                        </a:lnTo>
                        <a:lnTo>
                          <a:pt x="1892" y="962"/>
                        </a:lnTo>
                        <a:lnTo>
                          <a:pt x="1871" y="981"/>
                        </a:lnTo>
                        <a:lnTo>
                          <a:pt x="1847" y="997"/>
                        </a:lnTo>
                        <a:lnTo>
                          <a:pt x="1821" y="1014"/>
                        </a:lnTo>
                        <a:lnTo>
                          <a:pt x="1797" y="1033"/>
                        </a:lnTo>
                        <a:lnTo>
                          <a:pt x="1774" y="1050"/>
                        </a:lnTo>
                        <a:lnTo>
                          <a:pt x="1747" y="1066"/>
                        </a:lnTo>
                        <a:lnTo>
                          <a:pt x="1721" y="1083"/>
                        </a:lnTo>
                        <a:lnTo>
                          <a:pt x="1693" y="1100"/>
                        </a:lnTo>
                        <a:lnTo>
                          <a:pt x="1664" y="1114"/>
                        </a:lnTo>
                        <a:lnTo>
                          <a:pt x="1636" y="1128"/>
                        </a:lnTo>
                        <a:lnTo>
                          <a:pt x="1579" y="1152"/>
                        </a:lnTo>
                        <a:lnTo>
                          <a:pt x="1522" y="1171"/>
                        </a:lnTo>
                        <a:lnTo>
                          <a:pt x="1460" y="1186"/>
                        </a:lnTo>
                        <a:lnTo>
                          <a:pt x="1308" y="1195"/>
                        </a:lnTo>
                        <a:lnTo>
                          <a:pt x="1099" y="1183"/>
                        </a:lnTo>
                        <a:lnTo>
                          <a:pt x="859" y="1157"/>
                        </a:lnTo>
                        <a:lnTo>
                          <a:pt x="736" y="1140"/>
                        </a:lnTo>
                        <a:lnTo>
                          <a:pt x="612" y="1121"/>
                        </a:lnTo>
                        <a:lnTo>
                          <a:pt x="494" y="1102"/>
                        </a:lnTo>
                        <a:lnTo>
                          <a:pt x="380" y="1081"/>
                        </a:lnTo>
                        <a:lnTo>
                          <a:pt x="275" y="1064"/>
                        </a:lnTo>
                        <a:lnTo>
                          <a:pt x="185" y="1047"/>
                        </a:lnTo>
                        <a:lnTo>
                          <a:pt x="50" y="1021"/>
                        </a:lnTo>
                        <a:lnTo>
                          <a:pt x="0" y="1012"/>
                        </a:lnTo>
                        <a:lnTo>
                          <a:pt x="114" y="300"/>
                        </a:lnTo>
                        <a:lnTo>
                          <a:pt x="724" y="300"/>
                        </a:lnTo>
                        <a:lnTo>
                          <a:pt x="1037" y="869"/>
                        </a:lnTo>
                        <a:lnTo>
                          <a:pt x="838" y="897"/>
                        </a:lnTo>
                        <a:lnTo>
                          <a:pt x="617" y="881"/>
                        </a:lnTo>
                        <a:lnTo>
                          <a:pt x="468" y="862"/>
                        </a:lnTo>
                        <a:lnTo>
                          <a:pt x="337" y="831"/>
                        </a:lnTo>
                        <a:lnTo>
                          <a:pt x="247" y="804"/>
                        </a:lnTo>
                        <a:lnTo>
                          <a:pt x="211" y="795"/>
                        </a:lnTo>
                        <a:lnTo>
                          <a:pt x="225" y="690"/>
                        </a:lnTo>
                        <a:lnTo>
                          <a:pt x="337" y="707"/>
                        </a:lnTo>
                        <a:lnTo>
                          <a:pt x="442" y="721"/>
                        </a:lnTo>
                        <a:lnTo>
                          <a:pt x="548" y="731"/>
                        </a:lnTo>
                        <a:lnTo>
                          <a:pt x="674" y="733"/>
                        </a:lnTo>
                        <a:lnTo>
                          <a:pt x="807" y="726"/>
                        </a:lnTo>
                        <a:lnTo>
                          <a:pt x="674" y="412"/>
                        </a:lnTo>
                        <a:lnTo>
                          <a:pt x="202" y="395"/>
                        </a:lnTo>
                        <a:lnTo>
                          <a:pt x="116" y="914"/>
                        </a:lnTo>
                        <a:lnTo>
                          <a:pt x="152" y="921"/>
                        </a:lnTo>
                        <a:lnTo>
                          <a:pt x="254" y="940"/>
                        </a:lnTo>
                        <a:lnTo>
                          <a:pt x="401" y="966"/>
                        </a:lnTo>
                        <a:lnTo>
                          <a:pt x="489" y="981"/>
                        </a:lnTo>
                        <a:lnTo>
                          <a:pt x="584" y="993"/>
                        </a:lnTo>
                        <a:lnTo>
                          <a:pt x="681" y="1007"/>
                        </a:lnTo>
                        <a:lnTo>
                          <a:pt x="781" y="1019"/>
                        </a:lnTo>
                        <a:lnTo>
                          <a:pt x="981" y="1038"/>
                        </a:lnTo>
                        <a:lnTo>
                          <a:pt x="1166" y="1047"/>
                        </a:lnTo>
                        <a:lnTo>
                          <a:pt x="1320" y="1040"/>
                        </a:lnTo>
                        <a:lnTo>
                          <a:pt x="1448" y="1014"/>
                        </a:lnTo>
                        <a:lnTo>
                          <a:pt x="1510" y="993"/>
                        </a:lnTo>
                        <a:lnTo>
                          <a:pt x="1567" y="969"/>
                        </a:lnTo>
                        <a:lnTo>
                          <a:pt x="1619" y="943"/>
                        </a:lnTo>
                        <a:lnTo>
                          <a:pt x="1669" y="914"/>
                        </a:lnTo>
                        <a:lnTo>
                          <a:pt x="1714" y="885"/>
                        </a:lnTo>
                        <a:lnTo>
                          <a:pt x="1757" y="857"/>
                        </a:lnTo>
                        <a:lnTo>
                          <a:pt x="1793" y="828"/>
                        </a:lnTo>
                        <a:lnTo>
                          <a:pt x="1826" y="800"/>
                        </a:lnTo>
                        <a:lnTo>
                          <a:pt x="1857" y="774"/>
                        </a:lnTo>
                        <a:lnTo>
                          <a:pt x="1878" y="750"/>
                        </a:lnTo>
                        <a:lnTo>
                          <a:pt x="1897" y="733"/>
                        </a:lnTo>
                        <a:lnTo>
                          <a:pt x="1911" y="719"/>
                        </a:lnTo>
                        <a:lnTo>
                          <a:pt x="1921" y="704"/>
                        </a:lnTo>
                        <a:lnTo>
                          <a:pt x="1907" y="671"/>
                        </a:lnTo>
                        <a:lnTo>
                          <a:pt x="1892" y="633"/>
                        </a:lnTo>
                        <a:lnTo>
                          <a:pt x="1873" y="588"/>
                        </a:lnTo>
                        <a:lnTo>
                          <a:pt x="1852" y="535"/>
                        </a:lnTo>
                        <a:lnTo>
                          <a:pt x="1833" y="481"/>
                        </a:lnTo>
                        <a:lnTo>
                          <a:pt x="1802" y="373"/>
                        </a:lnTo>
                        <a:lnTo>
                          <a:pt x="1766" y="190"/>
                        </a:lnTo>
                        <a:lnTo>
                          <a:pt x="1747" y="100"/>
                        </a:lnTo>
                        <a:lnTo>
                          <a:pt x="1631" y="109"/>
                        </a:lnTo>
                        <a:lnTo>
                          <a:pt x="1586" y="0"/>
                        </a:lnTo>
                        <a:lnTo>
                          <a:pt x="1859" y="0"/>
                        </a:lnTo>
                        <a:lnTo>
                          <a:pt x="1866" y="166"/>
                        </a:lnTo>
                        <a:lnTo>
                          <a:pt x="1880" y="307"/>
                        </a:lnTo>
                        <a:lnTo>
                          <a:pt x="1895" y="373"/>
                        </a:lnTo>
                        <a:lnTo>
                          <a:pt x="1914" y="428"/>
                        </a:lnTo>
                        <a:lnTo>
                          <a:pt x="1935" y="481"/>
                        </a:lnTo>
                        <a:lnTo>
                          <a:pt x="1964" y="538"/>
                        </a:lnTo>
                        <a:lnTo>
                          <a:pt x="1992" y="595"/>
                        </a:lnTo>
                        <a:lnTo>
                          <a:pt x="2020" y="652"/>
                        </a:lnTo>
                        <a:lnTo>
                          <a:pt x="2047" y="702"/>
                        </a:lnTo>
                        <a:lnTo>
                          <a:pt x="2066" y="743"/>
                        </a:lnTo>
                        <a:lnTo>
                          <a:pt x="2085" y="781"/>
                        </a:lnTo>
                        <a:lnTo>
                          <a:pt x="2085" y="7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flipH="1">
                    <a:off x="2786760" y="1308600"/>
                    <a:ext cx="36360" cy="19440"/>
                  </a:xfrm>
                  <a:custGeom>
                    <a:avLst/>
                    <a:gdLst/>
                    <a:ahLst/>
                    <a:rect l="l" t="t" r="r" b="b"/>
                    <a:pathLst>
                      <a:path w="392" h="200">
                        <a:moveTo>
                          <a:pt x="0" y="74"/>
                        </a:moveTo>
                        <a:lnTo>
                          <a:pt x="12" y="65"/>
                        </a:lnTo>
                        <a:lnTo>
                          <a:pt x="28" y="53"/>
                        </a:lnTo>
                        <a:lnTo>
                          <a:pt x="50" y="41"/>
                        </a:lnTo>
                        <a:lnTo>
                          <a:pt x="76" y="26"/>
                        </a:lnTo>
                        <a:lnTo>
                          <a:pt x="104" y="15"/>
                        </a:lnTo>
                        <a:lnTo>
                          <a:pt x="176" y="0"/>
                        </a:lnTo>
                        <a:lnTo>
                          <a:pt x="249" y="3"/>
                        </a:lnTo>
                        <a:lnTo>
                          <a:pt x="313" y="17"/>
                        </a:lnTo>
                        <a:lnTo>
                          <a:pt x="358" y="34"/>
                        </a:lnTo>
                        <a:lnTo>
                          <a:pt x="375" y="41"/>
                        </a:lnTo>
                        <a:lnTo>
                          <a:pt x="392" y="193"/>
                        </a:lnTo>
                        <a:lnTo>
                          <a:pt x="375" y="181"/>
                        </a:lnTo>
                        <a:lnTo>
                          <a:pt x="330" y="160"/>
                        </a:lnTo>
                        <a:lnTo>
                          <a:pt x="299" y="148"/>
                        </a:lnTo>
                        <a:lnTo>
                          <a:pt x="266" y="141"/>
                        </a:lnTo>
                        <a:lnTo>
                          <a:pt x="192" y="134"/>
                        </a:lnTo>
                        <a:lnTo>
                          <a:pt x="121" y="148"/>
                        </a:lnTo>
                        <a:lnTo>
                          <a:pt x="66" y="172"/>
                        </a:lnTo>
                        <a:lnTo>
                          <a:pt x="28" y="191"/>
                        </a:lnTo>
                        <a:lnTo>
                          <a:pt x="17" y="200"/>
                        </a:lnTo>
                        <a:lnTo>
                          <a:pt x="0" y="74"/>
                        </a:lnTo>
                        <a:lnTo>
                          <a:pt x="0" y="7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626" name=""/>
                  <p:cNvSpPr/>
                  <p:nvPr/>
                </p:nvSpPr>
                <p:spPr>
                  <a:xfrm flipH="1">
                    <a:off x="2678400" y="1404720"/>
                    <a:ext cx="103680" cy="66600"/>
                  </a:xfrm>
                  <a:custGeom>
                    <a:avLst/>
                    <a:gdLst/>
                    <a:ahLst/>
                    <a:rect l="l" t="t" r="r" b="b"/>
                    <a:pathLst>
                      <a:path w="1114" h="676">
                        <a:moveTo>
                          <a:pt x="183" y="0"/>
                        </a:moveTo>
                        <a:lnTo>
                          <a:pt x="518" y="300"/>
                        </a:lnTo>
                        <a:lnTo>
                          <a:pt x="522" y="481"/>
                        </a:lnTo>
                        <a:lnTo>
                          <a:pt x="1111" y="490"/>
                        </a:lnTo>
                        <a:lnTo>
                          <a:pt x="1114" y="676"/>
                        </a:lnTo>
                        <a:lnTo>
                          <a:pt x="396" y="671"/>
                        </a:lnTo>
                        <a:lnTo>
                          <a:pt x="396" y="329"/>
                        </a:lnTo>
                        <a:lnTo>
                          <a:pt x="0" y="138"/>
                        </a:lnTo>
                        <a:lnTo>
                          <a:pt x="183" y="0"/>
                        </a:lnTo>
                        <a:lnTo>
                          <a:pt x="18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2627" name=""/>
                <p:cNvGrpSpPr/>
                <p:nvPr/>
              </p:nvGrpSpPr>
              <p:grpSpPr>
                <a:xfrm>
                  <a:off x="3004560" y="1334160"/>
                  <a:ext cx="1002600" cy="715320"/>
                  <a:chOff x="3004560" y="1334160"/>
                  <a:chExt cx="1002600" cy="715320"/>
                </a:xfrm>
              </p:grpSpPr>
              <p:sp>
                <p:nvSpPr>
                  <p:cNvPr id="2628" name=""/>
                  <p:cNvSpPr/>
                  <p:nvPr/>
                </p:nvSpPr>
                <p:spPr>
                  <a:xfrm flipH="1">
                    <a:off x="3004200" y="1334160"/>
                    <a:ext cx="1002600" cy="715320"/>
                  </a:xfrm>
                  <a:custGeom>
                    <a:avLst/>
                    <a:gdLst/>
                    <a:ahLst/>
                    <a:rect l="l" t="t" r="r" b="b"/>
                    <a:pathLst>
                      <a:path w="2639" h="1790">
                        <a:moveTo>
                          <a:pt x="2500" y="23"/>
                        </a:moveTo>
                        <a:lnTo>
                          <a:pt x="2513" y="33"/>
                        </a:lnTo>
                        <a:lnTo>
                          <a:pt x="2526" y="46"/>
                        </a:lnTo>
                        <a:lnTo>
                          <a:pt x="2535" y="61"/>
                        </a:lnTo>
                        <a:lnTo>
                          <a:pt x="2535" y="78"/>
                        </a:lnTo>
                        <a:lnTo>
                          <a:pt x="2536" y="110"/>
                        </a:lnTo>
                        <a:lnTo>
                          <a:pt x="2538" y="142"/>
                        </a:lnTo>
                        <a:lnTo>
                          <a:pt x="2533" y="172"/>
                        </a:lnTo>
                        <a:lnTo>
                          <a:pt x="2525" y="202"/>
                        </a:lnTo>
                        <a:lnTo>
                          <a:pt x="2525" y="240"/>
                        </a:lnTo>
                        <a:lnTo>
                          <a:pt x="2525" y="276"/>
                        </a:lnTo>
                        <a:lnTo>
                          <a:pt x="2525" y="314"/>
                        </a:lnTo>
                        <a:lnTo>
                          <a:pt x="2520" y="351"/>
                        </a:lnTo>
                        <a:lnTo>
                          <a:pt x="2516" y="369"/>
                        </a:lnTo>
                        <a:lnTo>
                          <a:pt x="2513" y="386"/>
                        </a:lnTo>
                        <a:lnTo>
                          <a:pt x="2507" y="405"/>
                        </a:lnTo>
                        <a:lnTo>
                          <a:pt x="2502" y="422"/>
                        </a:lnTo>
                        <a:lnTo>
                          <a:pt x="2494" y="440"/>
                        </a:lnTo>
                        <a:lnTo>
                          <a:pt x="2484" y="455"/>
                        </a:lnTo>
                        <a:lnTo>
                          <a:pt x="2473" y="470"/>
                        </a:lnTo>
                        <a:lnTo>
                          <a:pt x="2458" y="481"/>
                        </a:lnTo>
                        <a:lnTo>
                          <a:pt x="2445" y="494"/>
                        </a:lnTo>
                        <a:lnTo>
                          <a:pt x="2431" y="505"/>
                        </a:lnTo>
                        <a:lnTo>
                          <a:pt x="2415" y="516"/>
                        </a:lnTo>
                        <a:lnTo>
                          <a:pt x="2399" y="526"/>
                        </a:lnTo>
                        <a:lnTo>
                          <a:pt x="2383" y="536"/>
                        </a:lnTo>
                        <a:lnTo>
                          <a:pt x="2367" y="548"/>
                        </a:lnTo>
                        <a:lnTo>
                          <a:pt x="2353" y="560"/>
                        </a:lnTo>
                        <a:lnTo>
                          <a:pt x="2340" y="573"/>
                        </a:lnTo>
                        <a:lnTo>
                          <a:pt x="2338" y="587"/>
                        </a:lnTo>
                        <a:lnTo>
                          <a:pt x="2338" y="601"/>
                        </a:lnTo>
                        <a:lnTo>
                          <a:pt x="2340" y="617"/>
                        </a:lnTo>
                        <a:lnTo>
                          <a:pt x="2337" y="630"/>
                        </a:lnTo>
                        <a:lnTo>
                          <a:pt x="2341" y="635"/>
                        </a:lnTo>
                        <a:lnTo>
                          <a:pt x="2345" y="636"/>
                        </a:lnTo>
                        <a:lnTo>
                          <a:pt x="2350" y="639"/>
                        </a:lnTo>
                        <a:lnTo>
                          <a:pt x="2354" y="643"/>
                        </a:lnTo>
                        <a:lnTo>
                          <a:pt x="2367" y="655"/>
                        </a:lnTo>
                        <a:lnTo>
                          <a:pt x="2379" y="671"/>
                        </a:lnTo>
                        <a:lnTo>
                          <a:pt x="2389" y="688"/>
                        </a:lnTo>
                        <a:lnTo>
                          <a:pt x="2395" y="708"/>
                        </a:lnTo>
                        <a:lnTo>
                          <a:pt x="2395" y="713"/>
                        </a:lnTo>
                        <a:lnTo>
                          <a:pt x="2395" y="717"/>
                        </a:lnTo>
                        <a:lnTo>
                          <a:pt x="2395" y="721"/>
                        </a:lnTo>
                        <a:lnTo>
                          <a:pt x="2395" y="726"/>
                        </a:lnTo>
                        <a:lnTo>
                          <a:pt x="2386" y="760"/>
                        </a:lnTo>
                        <a:lnTo>
                          <a:pt x="2374" y="797"/>
                        </a:lnTo>
                        <a:lnTo>
                          <a:pt x="2364" y="831"/>
                        </a:lnTo>
                        <a:lnTo>
                          <a:pt x="2366" y="867"/>
                        </a:lnTo>
                        <a:lnTo>
                          <a:pt x="2364" y="869"/>
                        </a:lnTo>
                        <a:lnTo>
                          <a:pt x="2368" y="885"/>
                        </a:lnTo>
                        <a:lnTo>
                          <a:pt x="2374" y="899"/>
                        </a:lnTo>
                        <a:lnTo>
                          <a:pt x="2384" y="911"/>
                        </a:lnTo>
                        <a:lnTo>
                          <a:pt x="2397" y="920"/>
                        </a:lnTo>
                        <a:lnTo>
                          <a:pt x="2415" y="917"/>
                        </a:lnTo>
                        <a:lnTo>
                          <a:pt x="2429" y="909"/>
                        </a:lnTo>
                        <a:lnTo>
                          <a:pt x="2444" y="902"/>
                        </a:lnTo>
                        <a:lnTo>
                          <a:pt x="2455" y="892"/>
                        </a:lnTo>
                        <a:lnTo>
                          <a:pt x="2467" y="882"/>
                        </a:lnTo>
                        <a:lnTo>
                          <a:pt x="2478" y="872"/>
                        </a:lnTo>
                        <a:lnTo>
                          <a:pt x="2490" y="860"/>
                        </a:lnTo>
                        <a:lnTo>
                          <a:pt x="2500" y="849"/>
                        </a:lnTo>
                        <a:lnTo>
                          <a:pt x="2504" y="841"/>
                        </a:lnTo>
                        <a:lnTo>
                          <a:pt x="2509" y="834"/>
                        </a:lnTo>
                        <a:lnTo>
                          <a:pt x="2512" y="827"/>
                        </a:lnTo>
                        <a:lnTo>
                          <a:pt x="2510" y="818"/>
                        </a:lnTo>
                        <a:lnTo>
                          <a:pt x="2507" y="801"/>
                        </a:lnTo>
                        <a:lnTo>
                          <a:pt x="2506" y="784"/>
                        </a:lnTo>
                        <a:lnTo>
                          <a:pt x="2506" y="766"/>
                        </a:lnTo>
                        <a:lnTo>
                          <a:pt x="2506" y="750"/>
                        </a:lnTo>
                        <a:lnTo>
                          <a:pt x="2510" y="756"/>
                        </a:lnTo>
                        <a:lnTo>
                          <a:pt x="2515" y="760"/>
                        </a:lnTo>
                        <a:lnTo>
                          <a:pt x="2520" y="766"/>
                        </a:lnTo>
                        <a:lnTo>
                          <a:pt x="2526" y="771"/>
                        </a:lnTo>
                        <a:lnTo>
                          <a:pt x="2535" y="763"/>
                        </a:lnTo>
                        <a:lnTo>
                          <a:pt x="2541" y="752"/>
                        </a:lnTo>
                        <a:lnTo>
                          <a:pt x="2544" y="740"/>
                        </a:lnTo>
                        <a:lnTo>
                          <a:pt x="2549" y="729"/>
                        </a:lnTo>
                        <a:lnTo>
                          <a:pt x="2551" y="729"/>
                        </a:lnTo>
                        <a:lnTo>
                          <a:pt x="2554" y="742"/>
                        </a:lnTo>
                        <a:lnTo>
                          <a:pt x="2555" y="755"/>
                        </a:lnTo>
                        <a:lnTo>
                          <a:pt x="2557" y="768"/>
                        </a:lnTo>
                        <a:lnTo>
                          <a:pt x="2558" y="781"/>
                        </a:lnTo>
                        <a:lnTo>
                          <a:pt x="2564" y="778"/>
                        </a:lnTo>
                        <a:lnTo>
                          <a:pt x="2568" y="775"/>
                        </a:lnTo>
                        <a:lnTo>
                          <a:pt x="2572" y="772"/>
                        </a:lnTo>
                        <a:lnTo>
                          <a:pt x="2578" y="769"/>
                        </a:lnTo>
                        <a:lnTo>
                          <a:pt x="2587" y="759"/>
                        </a:lnTo>
                        <a:lnTo>
                          <a:pt x="2596" y="749"/>
                        </a:lnTo>
                        <a:lnTo>
                          <a:pt x="2606" y="740"/>
                        </a:lnTo>
                        <a:lnTo>
                          <a:pt x="2616" y="736"/>
                        </a:lnTo>
                        <a:lnTo>
                          <a:pt x="2609" y="752"/>
                        </a:lnTo>
                        <a:lnTo>
                          <a:pt x="2603" y="768"/>
                        </a:lnTo>
                        <a:lnTo>
                          <a:pt x="2597" y="785"/>
                        </a:lnTo>
                        <a:lnTo>
                          <a:pt x="2593" y="801"/>
                        </a:lnTo>
                        <a:lnTo>
                          <a:pt x="2598" y="802"/>
                        </a:lnTo>
                        <a:lnTo>
                          <a:pt x="2604" y="804"/>
                        </a:lnTo>
                        <a:lnTo>
                          <a:pt x="2610" y="805"/>
                        </a:lnTo>
                        <a:lnTo>
                          <a:pt x="2616" y="807"/>
                        </a:lnTo>
                        <a:lnTo>
                          <a:pt x="2622" y="808"/>
                        </a:lnTo>
                        <a:lnTo>
                          <a:pt x="2627" y="810"/>
                        </a:lnTo>
                        <a:lnTo>
                          <a:pt x="2633" y="811"/>
                        </a:lnTo>
                        <a:lnTo>
                          <a:pt x="2639" y="813"/>
                        </a:lnTo>
                        <a:lnTo>
                          <a:pt x="2627" y="820"/>
                        </a:lnTo>
                        <a:lnTo>
                          <a:pt x="2614" y="826"/>
                        </a:lnTo>
                        <a:lnTo>
                          <a:pt x="2601" y="831"/>
                        </a:lnTo>
                        <a:lnTo>
                          <a:pt x="2587" y="837"/>
                        </a:lnTo>
                        <a:lnTo>
                          <a:pt x="2572" y="843"/>
                        </a:lnTo>
                        <a:lnTo>
                          <a:pt x="2559" y="850"/>
                        </a:lnTo>
                        <a:lnTo>
                          <a:pt x="2549" y="859"/>
                        </a:lnTo>
                        <a:lnTo>
                          <a:pt x="2541" y="870"/>
                        </a:lnTo>
                        <a:lnTo>
                          <a:pt x="2531" y="888"/>
                        </a:lnTo>
                        <a:lnTo>
                          <a:pt x="2520" y="907"/>
                        </a:lnTo>
                        <a:lnTo>
                          <a:pt x="2510" y="924"/>
                        </a:lnTo>
                        <a:lnTo>
                          <a:pt x="2500" y="941"/>
                        </a:lnTo>
                        <a:lnTo>
                          <a:pt x="2487" y="959"/>
                        </a:lnTo>
                        <a:lnTo>
                          <a:pt x="2474" y="974"/>
                        </a:lnTo>
                        <a:lnTo>
                          <a:pt x="2460" y="987"/>
                        </a:lnTo>
                        <a:lnTo>
                          <a:pt x="2442" y="1000"/>
                        </a:lnTo>
                        <a:lnTo>
                          <a:pt x="2423" y="1006"/>
                        </a:lnTo>
                        <a:lnTo>
                          <a:pt x="2403" y="1008"/>
                        </a:lnTo>
                        <a:lnTo>
                          <a:pt x="2384" y="1006"/>
                        </a:lnTo>
                        <a:lnTo>
                          <a:pt x="2366" y="1002"/>
                        </a:lnTo>
                        <a:lnTo>
                          <a:pt x="2347" y="995"/>
                        </a:lnTo>
                        <a:lnTo>
                          <a:pt x="2329" y="986"/>
                        </a:lnTo>
                        <a:lnTo>
                          <a:pt x="2314" y="977"/>
                        </a:lnTo>
                        <a:lnTo>
                          <a:pt x="2298" y="967"/>
                        </a:lnTo>
                        <a:lnTo>
                          <a:pt x="2290" y="961"/>
                        </a:lnTo>
                        <a:lnTo>
                          <a:pt x="2285" y="956"/>
                        </a:lnTo>
                        <a:lnTo>
                          <a:pt x="2279" y="950"/>
                        </a:lnTo>
                        <a:lnTo>
                          <a:pt x="2274" y="943"/>
                        </a:lnTo>
                        <a:lnTo>
                          <a:pt x="2269" y="935"/>
                        </a:lnTo>
                        <a:lnTo>
                          <a:pt x="2264" y="928"/>
                        </a:lnTo>
                        <a:lnTo>
                          <a:pt x="2260" y="921"/>
                        </a:lnTo>
                        <a:lnTo>
                          <a:pt x="2254" y="915"/>
                        </a:lnTo>
                        <a:lnTo>
                          <a:pt x="2250" y="921"/>
                        </a:lnTo>
                        <a:lnTo>
                          <a:pt x="2246" y="928"/>
                        </a:lnTo>
                        <a:lnTo>
                          <a:pt x="2243" y="935"/>
                        </a:lnTo>
                        <a:lnTo>
                          <a:pt x="2240" y="944"/>
                        </a:lnTo>
                        <a:lnTo>
                          <a:pt x="2227" y="967"/>
                        </a:lnTo>
                        <a:lnTo>
                          <a:pt x="2214" y="990"/>
                        </a:lnTo>
                        <a:lnTo>
                          <a:pt x="2199" y="1013"/>
                        </a:lnTo>
                        <a:lnTo>
                          <a:pt x="2185" y="1035"/>
                        </a:lnTo>
                        <a:lnTo>
                          <a:pt x="2167" y="1057"/>
                        </a:lnTo>
                        <a:lnTo>
                          <a:pt x="2149" y="1074"/>
                        </a:lnTo>
                        <a:lnTo>
                          <a:pt x="2127" y="1092"/>
                        </a:lnTo>
                        <a:lnTo>
                          <a:pt x="2102" y="1105"/>
                        </a:lnTo>
                        <a:lnTo>
                          <a:pt x="2091" y="1110"/>
                        </a:lnTo>
                        <a:lnTo>
                          <a:pt x="2079" y="1116"/>
                        </a:lnTo>
                        <a:lnTo>
                          <a:pt x="2068" y="1120"/>
                        </a:lnTo>
                        <a:lnTo>
                          <a:pt x="2055" y="1126"/>
                        </a:lnTo>
                        <a:lnTo>
                          <a:pt x="2042" y="1131"/>
                        </a:lnTo>
                        <a:lnTo>
                          <a:pt x="2030" y="1135"/>
                        </a:lnTo>
                        <a:lnTo>
                          <a:pt x="2017" y="1138"/>
                        </a:lnTo>
                        <a:lnTo>
                          <a:pt x="2004" y="1141"/>
                        </a:lnTo>
                        <a:lnTo>
                          <a:pt x="2004" y="1141"/>
                        </a:lnTo>
                        <a:lnTo>
                          <a:pt x="1968" y="1148"/>
                        </a:lnTo>
                        <a:lnTo>
                          <a:pt x="1968" y="1148"/>
                        </a:lnTo>
                        <a:lnTo>
                          <a:pt x="1945" y="1151"/>
                        </a:lnTo>
                        <a:lnTo>
                          <a:pt x="1923" y="1152"/>
                        </a:lnTo>
                        <a:lnTo>
                          <a:pt x="1901" y="1154"/>
                        </a:lnTo>
                        <a:lnTo>
                          <a:pt x="1880" y="1155"/>
                        </a:lnTo>
                        <a:lnTo>
                          <a:pt x="1856" y="1157"/>
                        </a:lnTo>
                        <a:lnTo>
                          <a:pt x="1835" y="1158"/>
                        </a:lnTo>
                        <a:lnTo>
                          <a:pt x="1813" y="1160"/>
                        </a:lnTo>
                        <a:lnTo>
                          <a:pt x="1790" y="1162"/>
                        </a:lnTo>
                        <a:lnTo>
                          <a:pt x="1784" y="1162"/>
                        </a:lnTo>
                        <a:lnTo>
                          <a:pt x="1778" y="1162"/>
                        </a:lnTo>
                        <a:lnTo>
                          <a:pt x="1773" y="1162"/>
                        </a:lnTo>
                        <a:lnTo>
                          <a:pt x="1767" y="1164"/>
                        </a:lnTo>
                        <a:lnTo>
                          <a:pt x="1759" y="1164"/>
                        </a:lnTo>
                        <a:lnTo>
                          <a:pt x="1754" y="1165"/>
                        </a:lnTo>
                        <a:lnTo>
                          <a:pt x="1748" y="1164"/>
                        </a:lnTo>
                        <a:lnTo>
                          <a:pt x="1742" y="1164"/>
                        </a:lnTo>
                        <a:lnTo>
                          <a:pt x="1731" y="1165"/>
                        </a:lnTo>
                        <a:lnTo>
                          <a:pt x="1719" y="1165"/>
                        </a:lnTo>
                        <a:lnTo>
                          <a:pt x="1707" y="1165"/>
                        </a:lnTo>
                        <a:lnTo>
                          <a:pt x="1697" y="1165"/>
                        </a:lnTo>
                        <a:lnTo>
                          <a:pt x="1686" y="1165"/>
                        </a:lnTo>
                        <a:lnTo>
                          <a:pt x="1676" y="1164"/>
                        </a:lnTo>
                        <a:lnTo>
                          <a:pt x="1664" y="1164"/>
                        </a:lnTo>
                        <a:lnTo>
                          <a:pt x="1654" y="1164"/>
                        </a:lnTo>
                        <a:lnTo>
                          <a:pt x="1642" y="1164"/>
                        </a:lnTo>
                        <a:lnTo>
                          <a:pt x="1631" y="1165"/>
                        </a:lnTo>
                        <a:lnTo>
                          <a:pt x="1619" y="1165"/>
                        </a:lnTo>
                        <a:lnTo>
                          <a:pt x="1606" y="1165"/>
                        </a:lnTo>
                        <a:lnTo>
                          <a:pt x="1595" y="1167"/>
                        </a:lnTo>
                        <a:lnTo>
                          <a:pt x="1583" y="1168"/>
                        </a:lnTo>
                        <a:lnTo>
                          <a:pt x="1570" y="1170"/>
                        </a:lnTo>
                        <a:lnTo>
                          <a:pt x="1558" y="1171"/>
                        </a:lnTo>
                        <a:lnTo>
                          <a:pt x="1558" y="1170"/>
                        </a:lnTo>
                        <a:lnTo>
                          <a:pt x="1550" y="1171"/>
                        </a:lnTo>
                        <a:lnTo>
                          <a:pt x="1542" y="1173"/>
                        </a:lnTo>
                        <a:lnTo>
                          <a:pt x="1535" y="1173"/>
                        </a:lnTo>
                        <a:lnTo>
                          <a:pt x="1528" y="1174"/>
                        </a:lnTo>
                        <a:lnTo>
                          <a:pt x="1519" y="1175"/>
                        </a:lnTo>
                        <a:lnTo>
                          <a:pt x="1512" y="1177"/>
                        </a:lnTo>
                        <a:lnTo>
                          <a:pt x="1505" y="1180"/>
                        </a:lnTo>
                        <a:lnTo>
                          <a:pt x="1496" y="1181"/>
                        </a:lnTo>
                        <a:lnTo>
                          <a:pt x="1495" y="1181"/>
                        </a:lnTo>
                        <a:lnTo>
                          <a:pt x="1475" y="1187"/>
                        </a:lnTo>
                        <a:lnTo>
                          <a:pt x="1456" y="1193"/>
                        </a:lnTo>
                        <a:lnTo>
                          <a:pt x="1435" y="1199"/>
                        </a:lnTo>
                        <a:lnTo>
                          <a:pt x="1415" y="1207"/>
                        </a:lnTo>
                        <a:lnTo>
                          <a:pt x="1396" y="1214"/>
                        </a:lnTo>
                        <a:lnTo>
                          <a:pt x="1378" y="1225"/>
                        </a:lnTo>
                        <a:lnTo>
                          <a:pt x="1362" y="1235"/>
                        </a:lnTo>
                        <a:lnTo>
                          <a:pt x="1346" y="1246"/>
                        </a:lnTo>
                        <a:lnTo>
                          <a:pt x="1370" y="1259"/>
                        </a:lnTo>
                        <a:lnTo>
                          <a:pt x="1393" y="1274"/>
                        </a:lnTo>
                        <a:lnTo>
                          <a:pt x="1415" y="1291"/>
                        </a:lnTo>
                        <a:lnTo>
                          <a:pt x="1435" y="1311"/>
                        </a:lnTo>
                        <a:lnTo>
                          <a:pt x="1454" y="1332"/>
                        </a:lnTo>
                        <a:lnTo>
                          <a:pt x="1473" y="1355"/>
                        </a:lnTo>
                        <a:lnTo>
                          <a:pt x="1490" y="1378"/>
                        </a:lnTo>
                        <a:lnTo>
                          <a:pt x="1506" y="1401"/>
                        </a:lnTo>
                        <a:lnTo>
                          <a:pt x="1515" y="1411"/>
                        </a:lnTo>
                        <a:lnTo>
                          <a:pt x="1525" y="1420"/>
                        </a:lnTo>
                        <a:lnTo>
                          <a:pt x="1537" y="1428"/>
                        </a:lnTo>
                        <a:lnTo>
                          <a:pt x="1548" y="1436"/>
                        </a:lnTo>
                        <a:lnTo>
                          <a:pt x="1563" y="1430"/>
                        </a:lnTo>
                        <a:lnTo>
                          <a:pt x="1576" y="1423"/>
                        </a:lnTo>
                        <a:lnTo>
                          <a:pt x="1587" y="1414"/>
                        </a:lnTo>
                        <a:lnTo>
                          <a:pt x="1599" y="1404"/>
                        </a:lnTo>
                        <a:lnTo>
                          <a:pt x="1609" y="1394"/>
                        </a:lnTo>
                        <a:lnTo>
                          <a:pt x="1618" y="1382"/>
                        </a:lnTo>
                        <a:lnTo>
                          <a:pt x="1628" y="1372"/>
                        </a:lnTo>
                        <a:lnTo>
                          <a:pt x="1638" y="1362"/>
                        </a:lnTo>
                        <a:lnTo>
                          <a:pt x="1644" y="1356"/>
                        </a:lnTo>
                        <a:lnTo>
                          <a:pt x="1648" y="1349"/>
                        </a:lnTo>
                        <a:lnTo>
                          <a:pt x="1652" y="1343"/>
                        </a:lnTo>
                        <a:lnTo>
                          <a:pt x="1658" y="1337"/>
                        </a:lnTo>
                        <a:lnTo>
                          <a:pt x="1658" y="1352"/>
                        </a:lnTo>
                        <a:lnTo>
                          <a:pt x="1655" y="1366"/>
                        </a:lnTo>
                        <a:lnTo>
                          <a:pt x="1650" y="1384"/>
                        </a:lnTo>
                        <a:lnTo>
                          <a:pt x="1644" y="1401"/>
                        </a:lnTo>
                        <a:lnTo>
                          <a:pt x="1654" y="1395"/>
                        </a:lnTo>
                        <a:lnTo>
                          <a:pt x="1663" y="1389"/>
                        </a:lnTo>
                        <a:lnTo>
                          <a:pt x="1671" y="1382"/>
                        </a:lnTo>
                        <a:lnTo>
                          <a:pt x="1681" y="1375"/>
                        </a:lnTo>
                        <a:lnTo>
                          <a:pt x="1690" y="1369"/>
                        </a:lnTo>
                        <a:lnTo>
                          <a:pt x="1700" y="1363"/>
                        </a:lnTo>
                        <a:lnTo>
                          <a:pt x="1710" y="1359"/>
                        </a:lnTo>
                        <a:lnTo>
                          <a:pt x="1722" y="1355"/>
                        </a:lnTo>
                        <a:lnTo>
                          <a:pt x="1710" y="1369"/>
                        </a:lnTo>
                        <a:lnTo>
                          <a:pt x="1699" y="1382"/>
                        </a:lnTo>
                        <a:lnTo>
                          <a:pt x="1689" y="1398"/>
                        </a:lnTo>
                        <a:lnTo>
                          <a:pt x="1681" y="1415"/>
                        </a:lnTo>
                        <a:lnTo>
                          <a:pt x="1689" y="1415"/>
                        </a:lnTo>
                        <a:lnTo>
                          <a:pt x="1694" y="1414"/>
                        </a:lnTo>
                        <a:lnTo>
                          <a:pt x="1702" y="1413"/>
                        </a:lnTo>
                        <a:lnTo>
                          <a:pt x="1707" y="1411"/>
                        </a:lnTo>
                        <a:lnTo>
                          <a:pt x="1707" y="1413"/>
                        </a:lnTo>
                        <a:lnTo>
                          <a:pt x="1716" y="1411"/>
                        </a:lnTo>
                        <a:lnTo>
                          <a:pt x="1726" y="1410"/>
                        </a:lnTo>
                        <a:lnTo>
                          <a:pt x="1735" y="1410"/>
                        </a:lnTo>
                        <a:lnTo>
                          <a:pt x="1744" y="1410"/>
                        </a:lnTo>
                        <a:lnTo>
                          <a:pt x="1752" y="1410"/>
                        </a:lnTo>
                        <a:lnTo>
                          <a:pt x="1761" y="1413"/>
                        </a:lnTo>
                        <a:lnTo>
                          <a:pt x="1770" y="1415"/>
                        </a:lnTo>
                        <a:lnTo>
                          <a:pt x="1777" y="1420"/>
                        </a:lnTo>
                        <a:lnTo>
                          <a:pt x="1767" y="1421"/>
                        </a:lnTo>
                        <a:lnTo>
                          <a:pt x="1758" y="1424"/>
                        </a:lnTo>
                        <a:lnTo>
                          <a:pt x="1748" y="1427"/>
                        </a:lnTo>
                        <a:lnTo>
                          <a:pt x="1738" y="1430"/>
                        </a:lnTo>
                        <a:lnTo>
                          <a:pt x="1726" y="1433"/>
                        </a:lnTo>
                        <a:lnTo>
                          <a:pt x="1716" y="1436"/>
                        </a:lnTo>
                        <a:lnTo>
                          <a:pt x="1707" y="1440"/>
                        </a:lnTo>
                        <a:lnTo>
                          <a:pt x="1697" y="1444"/>
                        </a:lnTo>
                        <a:lnTo>
                          <a:pt x="1702" y="1452"/>
                        </a:lnTo>
                        <a:lnTo>
                          <a:pt x="1709" y="1456"/>
                        </a:lnTo>
                        <a:lnTo>
                          <a:pt x="1718" y="1460"/>
                        </a:lnTo>
                        <a:lnTo>
                          <a:pt x="1725" y="1463"/>
                        </a:lnTo>
                        <a:lnTo>
                          <a:pt x="1732" y="1467"/>
                        </a:lnTo>
                        <a:lnTo>
                          <a:pt x="1739" y="1472"/>
                        </a:lnTo>
                        <a:lnTo>
                          <a:pt x="1746" y="1476"/>
                        </a:lnTo>
                        <a:lnTo>
                          <a:pt x="1752" y="1480"/>
                        </a:lnTo>
                        <a:lnTo>
                          <a:pt x="1758" y="1485"/>
                        </a:lnTo>
                        <a:lnTo>
                          <a:pt x="1764" y="1491"/>
                        </a:lnTo>
                        <a:lnTo>
                          <a:pt x="1768" y="1496"/>
                        </a:lnTo>
                        <a:lnTo>
                          <a:pt x="1773" y="1502"/>
                        </a:lnTo>
                        <a:lnTo>
                          <a:pt x="1762" y="1501"/>
                        </a:lnTo>
                        <a:lnTo>
                          <a:pt x="1752" y="1499"/>
                        </a:lnTo>
                        <a:lnTo>
                          <a:pt x="1742" y="1496"/>
                        </a:lnTo>
                        <a:lnTo>
                          <a:pt x="1732" y="1495"/>
                        </a:lnTo>
                        <a:lnTo>
                          <a:pt x="1722" y="1495"/>
                        </a:lnTo>
                        <a:lnTo>
                          <a:pt x="1712" y="1495"/>
                        </a:lnTo>
                        <a:lnTo>
                          <a:pt x="1700" y="1496"/>
                        </a:lnTo>
                        <a:lnTo>
                          <a:pt x="1690" y="1501"/>
                        </a:lnTo>
                        <a:lnTo>
                          <a:pt x="1693" y="1508"/>
                        </a:lnTo>
                        <a:lnTo>
                          <a:pt x="1697" y="1512"/>
                        </a:lnTo>
                        <a:lnTo>
                          <a:pt x="1702" y="1518"/>
                        </a:lnTo>
                        <a:lnTo>
                          <a:pt x="1706" y="1524"/>
                        </a:lnTo>
                        <a:lnTo>
                          <a:pt x="1715" y="1534"/>
                        </a:lnTo>
                        <a:lnTo>
                          <a:pt x="1723" y="1546"/>
                        </a:lnTo>
                        <a:lnTo>
                          <a:pt x="1732" y="1556"/>
                        </a:lnTo>
                        <a:lnTo>
                          <a:pt x="1741" y="1567"/>
                        </a:lnTo>
                        <a:lnTo>
                          <a:pt x="1736" y="1569"/>
                        </a:lnTo>
                        <a:lnTo>
                          <a:pt x="1726" y="1564"/>
                        </a:lnTo>
                        <a:lnTo>
                          <a:pt x="1718" y="1560"/>
                        </a:lnTo>
                        <a:lnTo>
                          <a:pt x="1707" y="1556"/>
                        </a:lnTo>
                        <a:lnTo>
                          <a:pt x="1697" y="1551"/>
                        </a:lnTo>
                        <a:lnTo>
                          <a:pt x="1687" y="1548"/>
                        </a:lnTo>
                        <a:lnTo>
                          <a:pt x="1678" y="1546"/>
                        </a:lnTo>
                        <a:lnTo>
                          <a:pt x="1668" y="1543"/>
                        </a:lnTo>
                        <a:lnTo>
                          <a:pt x="1658" y="1541"/>
                        </a:lnTo>
                        <a:lnTo>
                          <a:pt x="1608" y="1559"/>
                        </a:lnTo>
                        <a:lnTo>
                          <a:pt x="1605" y="1557"/>
                        </a:lnTo>
                        <a:lnTo>
                          <a:pt x="1600" y="1557"/>
                        </a:lnTo>
                        <a:lnTo>
                          <a:pt x="1596" y="1557"/>
                        </a:lnTo>
                        <a:lnTo>
                          <a:pt x="1593" y="1557"/>
                        </a:lnTo>
                        <a:lnTo>
                          <a:pt x="1587" y="1557"/>
                        </a:lnTo>
                        <a:lnTo>
                          <a:pt x="1582" y="1557"/>
                        </a:lnTo>
                        <a:lnTo>
                          <a:pt x="1577" y="1556"/>
                        </a:lnTo>
                        <a:lnTo>
                          <a:pt x="1571" y="1554"/>
                        </a:lnTo>
                        <a:lnTo>
                          <a:pt x="1566" y="1553"/>
                        </a:lnTo>
                        <a:lnTo>
                          <a:pt x="1560" y="1551"/>
                        </a:lnTo>
                        <a:lnTo>
                          <a:pt x="1554" y="1550"/>
                        </a:lnTo>
                        <a:lnTo>
                          <a:pt x="1548" y="1550"/>
                        </a:lnTo>
                        <a:lnTo>
                          <a:pt x="1522" y="1527"/>
                        </a:lnTo>
                        <a:lnTo>
                          <a:pt x="1496" y="1504"/>
                        </a:lnTo>
                        <a:lnTo>
                          <a:pt x="1472" y="1478"/>
                        </a:lnTo>
                        <a:lnTo>
                          <a:pt x="1446" y="1453"/>
                        </a:lnTo>
                        <a:lnTo>
                          <a:pt x="1420" y="1430"/>
                        </a:lnTo>
                        <a:lnTo>
                          <a:pt x="1392" y="1410"/>
                        </a:lnTo>
                        <a:lnTo>
                          <a:pt x="1360" y="1392"/>
                        </a:lnTo>
                        <a:lnTo>
                          <a:pt x="1326" y="1381"/>
                        </a:lnTo>
                        <a:lnTo>
                          <a:pt x="1315" y="1378"/>
                        </a:lnTo>
                        <a:lnTo>
                          <a:pt x="1304" y="1376"/>
                        </a:lnTo>
                        <a:lnTo>
                          <a:pt x="1292" y="1376"/>
                        </a:lnTo>
                        <a:lnTo>
                          <a:pt x="1281" y="1376"/>
                        </a:lnTo>
                        <a:lnTo>
                          <a:pt x="1268" y="1379"/>
                        </a:lnTo>
                        <a:lnTo>
                          <a:pt x="1258" y="1384"/>
                        </a:lnTo>
                        <a:lnTo>
                          <a:pt x="1247" y="1389"/>
                        </a:lnTo>
                        <a:lnTo>
                          <a:pt x="1239" y="1400"/>
                        </a:lnTo>
                        <a:lnTo>
                          <a:pt x="1216" y="1423"/>
                        </a:lnTo>
                        <a:lnTo>
                          <a:pt x="1194" y="1447"/>
                        </a:lnTo>
                        <a:lnTo>
                          <a:pt x="1171" y="1470"/>
                        </a:lnTo>
                        <a:lnTo>
                          <a:pt x="1148" y="1492"/>
                        </a:lnTo>
                        <a:lnTo>
                          <a:pt x="1124" y="1515"/>
                        </a:lnTo>
                        <a:lnTo>
                          <a:pt x="1101" y="1538"/>
                        </a:lnTo>
                        <a:lnTo>
                          <a:pt x="1078" y="1563"/>
                        </a:lnTo>
                        <a:lnTo>
                          <a:pt x="1055" y="1586"/>
                        </a:lnTo>
                        <a:lnTo>
                          <a:pt x="1036" y="1600"/>
                        </a:lnTo>
                        <a:lnTo>
                          <a:pt x="1019" y="1616"/>
                        </a:lnTo>
                        <a:lnTo>
                          <a:pt x="999" y="1629"/>
                        </a:lnTo>
                        <a:lnTo>
                          <a:pt x="980" y="1644"/>
                        </a:lnTo>
                        <a:lnTo>
                          <a:pt x="960" y="1657"/>
                        </a:lnTo>
                        <a:lnTo>
                          <a:pt x="939" y="1670"/>
                        </a:lnTo>
                        <a:lnTo>
                          <a:pt x="918" y="1683"/>
                        </a:lnTo>
                        <a:lnTo>
                          <a:pt x="896" y="1694"/>
                        </a:lnTo>
                        <a:lnTo>
                          <a:pt x="874" y="1706"/>
                        </a:lnTo>
                        <a:lnTo>
                          <a:pt x="851" y="1718"/>
                        </a:lnTo>
                        <a:lnTo>
                          <a:pt x="828" y="1728"/>
                        </a:lnTo>
                        <a:lnTo>
                          <a:pt x="805" y="1738"/>
                        </a:lnTo>
                        <a:lnTo>
                          <a:pt x="780" y="1748"/>
                        </a:lnTo>
                        <a:lnTo>
                          <a:pt x="756" y="1757"/>
                        </a:lnTo>
                        <a:lnTo>
                          <a:pt x="731" y="1765"/>
                        </a:lnTo>
                        <a:lnTo>
                          <a:pt x="705" y="1773"/>
                        </a:lnTo>
                        <a:lnTo>
                          <a:pt x="703" y="1771"/>
                        </a:lnTo>
                        <a:lnTo>
                          <a:pt x="662" y="1781"/>
                        </a:lnTo>
                        <a:lnTo>
                          <a:pt x="662" y="1781"/>
                        </a:lnTo>
                        <a:lnTo>
                          <a:pt x="646" y="1784"/>
                        </a:lnTo>
                        <a:lnTo>
                          <a:pt x="628" y="1787"/>
                        </a:lnTo>
                        <a:lnTo>
                          <a:pt x="612" y="1788"/>
                        </a:lnTo>
                        <a:lnTo>
                          <a:pt x="596" y="1788"/>
                        </a:lnTo>
                        <a:lnTo>
                          <a:pt x="581" y="1790"/>
                        </a:lnTo>
                        <a:lnTo>
                          <a:pt x="565" y="1788"/>
                        </a:lnTo>
                        <a:lnTo>
                          <a:pt x="549" y="1788"/>
                        </a:lnTo>
                        <a:lnTo>
                          <a:pt x="533" y="1787"/>
                        </a:lnTo>
                        <a:lnTo>
                          <a:pt x="517" y="1786"/>
                        </a:lnTo>
                        <a:lnTo>
                          <a:pt x="501" y="1784"/>
                        </a:lnTo>
                        <a:lnTo>
                          <a:pt x="485" y="1783"/>
                        </a:lnTo>
                        <a:lnTo>
                          <a:pt x="469" y="1781"/>
                        </a:lnTo>
                        <a:lnTo>
                          <a:pt x="453" y="1778"/>
                        </a:lnTo>
                        <a:lnTo>
                          <a:pt x="437" y="1777"/>
                        </a:lnTo>
                        <a:lnTo>
                          <a:pt x="421" y="1775"/>
                        </a:lnTo>
                        <a:lnTo>
                          <a:pt x="405" y="1774"/>
                        </a:lnTo>
                        <a:lnTo>
                          <a:pt x="397" y="1771"/>
                        </a:lnTo>
                        <a:lnTo>
                          <a:pt x="387" y="1767"/>
                        </a:lnTo>
                        <a:lnTo>
                          <a:pt x="378" y="1764"/>
                        </a:lnTo>
                        <a:lnTo>
                          <a:pt x="369" y="1760"/>
                        </a:lnTo>
                        <a:lnTo>
                          <a:pt x="359" y="1755"/>
                        </a:lnTo>
                        <a:lnTo>
                          <a:pt x="351" y="1751"/>
                        </a:lnTo>
                        <a:lnTo>
                          <a:pt x="340" y="1747"/>
                        </a:lnTo>
                        <a:lnTo>
                          <a:pt x="332" y="1744"/>
                        </a:lnTo>
                        <a:lnTo>
                          <a:pt x="304" y="1735"/>
                        </a:lnTo>
                        <a:lnTo>
                          <a:pt x="280" y="1723"/>
                        </a:lnTo>
                        <a:lnTo>
                          <a:pt x="255" y="1710"/>
                        </a:lnTo>
                        <a:lnTo>
                          <a:pt x="232" y="1696"/>
                        </a:lnTo>
                        <a:lnTo>
                          <a:pt x="209" y="1679"/>
                        </a:lnTo>
                        <a:lnTo>
                          <a:pt x="187" y="1663"/>
                        </a:lnTo>
                        <a:lnTo>
                          <a:pt x="167" y="1644"/>
                        </a:lnTo>
                        <a:lnTo>
                          <a:pt x="147" y="1627"/>
                        </a:lnTo>
                        <a:lnTo>
                          <a:pt x="132" y="1612"/>
                        </a:lnTo>
                        <a:lnTo>
                          <a:pt x="118" y="1598"/>
                        </a:lnTo>
                        <a:lnTo>
                          <a:pt x="105" y="1583"/>
                        </a:lnTo>
                        <a:lnTo>
                          <a:pt x="92" y="1569"/>
                        </a:lnTo>
                        <a:lnTo>
                          <a:pt x="79" y="1553"/>
                        </a:lnTo>
                        <a:lnTo>
                          <a:pt x="67" y="1535"/>
                        </a:lnTo>
                        <a:lnTo>
                          <a:pt x="55" y="1517"/>
                        </a:lnTo>
                        <a:lnTo>
                          <a:pt x="45" y="1498"/>
                        </a:lnTo>
                        <a:lnTo>
                          <a:pt x="35" y="1473"/>
                        </a:lnTo>
                        <a:lnTo>
                          <a:pt x="26" y="1447"/>
                        </a:lnTo>
                        <a:lnTo>
                          <a:pt x="19" y="1421"/>
                        </a:lnTo>
                        <a:lnTo>
                          <a:pt x="12" y="1395"/>
                        </a:lnTo>
                        <a:lnTo>
                          <a:pt x="13" y="1394"/>
                        </a:lnTo>
                        <a:lnTo>
                          <a:pt x="6" y="1360"/>
                        </a:lnTo>
                        <a:lnTo>
                          <a:pt x="6" y="1356"/>
                        </a:lnTo>
                        <a:lnTo>
                          <a:pt x="6" y="1349"/>
                        </a:lnTo>
                        <a:lnTo>
                          <a:pt x="5" y="1343"/>
                        </a:lnTo>
                        <a:lnTo>
                          <a:pt x="3" y="1337"/>
                        </a:lnTo>
                        <a:lnTo>
                          <a:pt x="2" y="1308"/>
                        </a:lnTo>
                        <a:lnTo>
                          <a:pt x="0" y="1278"/>
                        </a:lnTo>
                        <a:lnTo>
                          <a:pt x="2" y="1249"/>
                        </a:lnTo>
                        <a:lnTo>
                          <a:pt x="5" y="1220"/>
                        </a:lnTo>
                        <a:lnTo>
                          <a:pt x="11" y="1200"/>
                        </a:lnTo>
                        <a:lnTo>
                          <a:pt x="16" y="1181"/>
                        </a:lnTo>
                        <a:lnTo>
                          <a:pt x="22" y="1161"/>
                        </a:lnTo>
                        <a:lnTo>
                          <a:pt x="28" y="1141"/>
                        </a:lnTo>
                        <a:lnTo>
                          <a:pt x="34" y="1120"/>
                        </a:lnTo>
                        <a:lnTo>
                          <a:pt x="40" y="1102"/>
                        </a:lnTo>
                        <a:lnTo>
                          <a:pt x="48" y="1083"/>
                        </a:lnTo>
                        <a:lnTo>
                          <a:pt x="58" y="1064"/>
                        </a:lnTo>
                        <a:lnTo>
                          <a:pt x="57" y="1073"/>
                        </a:lnTo>
                        <a:lnTo>
                          <a:pt x="55" y="1081"/>
                        </a:lnTo>
                        <a:lnTo>
                          <a:pt x="54" y="1092"/>
                        </a:lnTo>
                        <a:lnTo>
                          <a:pt x="53" y="1100"/>
                        </a:lnTo>
                        <a:lnTo>
                          <a:pt x="41" y="1152"/>
                        </a:lnTo>
                        <a:lnTo>
                          <a:pt x="37" y="1206"/>
                        </a:lnTo>
                        <a:lnTo>
                          <a:pt x="37" y="1259"/>
                        </a:lnTo>
                        <a:lnTo>
                          <a:pt x="40" y="1314"/>
                        </a:lnTo>
                        <a:lnTo>
                          <a:pt x="41" y="1327"/>
                        </a:lnTo>
                        <a:lnTo>
                          <a:pt x="42" y="1339"/>
                        </a:lnTo>
                        <a:lnTo>
                          <a:pt x="45" y="1352"/>
                        </a:lnTo>
                        <a:lnTo>
                          <a:pt x="47" y="1365"/>
                        </a:lnTo>
                        <a:lnTo>
                          <a:pt x="60" y="1417"/>
                        </a:lnTo>
                        <a:lnTo>
                          <a:pt x="60" y="1417"/>
                        </a:lnTo>
                        <a:lnTo>
                          <a:pt x="68" y="1441"/>
                        </a:lnTo>
                        <a:lnTo>
                          <a:pt x="79" y="1465"/>
                        </a:lnTo>
                        <a:lnTo>
                          <a:pt x="90" y="1488"/>
                        </a:lnTo>
                        <a:lnTo>
                          <a:pt x="105" y="1508"/>
                        </a:lnTo>
                        <a:lnTo>
                          <a:pt x="119" y="1528"/>
                        </a:lnTo>
                        <a:lnTo>
                          <a:pt x="135" y="1546"/>
                        </a:lnTo>
                        <a:lnTo>
                          <a:pt x="152" y="1563"/>
                        </a:lnTo>
                        <a:lnTo>
                          <a:pt x="170" y="1579"/>
                        </a:lnTo>
                        <a:lnTo>
                          <a:pt x="191" y="1595"/>
                        </a:lnTo>
                        <a:lnTo>
                          <a:pt x="215" y="1609"/>
                        </a:lnTo>
                        <a:lnTo>
                          <a:pt x="238" y="1622"/>
                        </a:lnTo>
                        <a:lnTo>
                          <a:pt x="261" y="1634"/>
                        </a:lnTo>
                        <a:lnTo>
                          <a:pt x="285" y="1644"/>
                        </a:lnTo>
                        <a:lnTo>
                          <a:pt x="310" y="1654"/>
                        </a:lnTo>
                        <a:lnTo>
                          <a:pt x="335" y="1661"/>
                        </a:lnTo>
                        <a:lnTo>
                          <a:pt x="361" y="1667"/>
                        </a:lnTo>
                        <a:lnTo>
                          <a:pt x="387" y="1671"/>
                        </a:lnTo>
                        <a:lnTo>
                          <a:pt x="413" y="1674"/>
                        </a:lnTo>
                        <a:lnTo>
                          <a:pt x="440" y="1676"/>
                        </a:lnTo>
                        <a:lnTo>
                          <a:pt x="466" y="1676"/>
                        </a:lnTo>
                        <a:lnTo>
                          <a:pt x="494" y="1674"/>
                        </a:lnTo>
                        <a:lnTo>
                          <a:pt x="520" y="1670"/>
                        </a:lnTo>
                        <a:lnTo>
                          <a:pt x="547" y="1666"/>
                        </a:lnTo>
                        <a:lnTo>
                          <a:pt x="575" y="1658"/>
                        </a:lnTo>
                        <a:lnTo>
                          <a:pt x="575" y="1658"/>
                        </a:lnTo>
                        <a:lnTo>
                          <a:pt x="595" y="1654"/>
                        </a:lnTo>
                        <a:lnTo>
                          <a:pt x="615" y="1648"/>
                        </a:lnTo>
                        <a:lnTo>
                          <a:pt x="634" y="1641"/>
                        </a:lnTo>
                        <a:lnTo>
                          <a:pt x="653" y="1634"/>
                        </a:lnTo>
                        <a:lnTo>
                          <a:pt x="670" y="1627"/>
                        </a:lnTo>
                        <a:lnTo>
                          <a:pt x="686" y="1618"/>
                        </a:lnTo>
                        <a:lnTo>
                          <a:pt x="703" y="1608"/>
                        </a:lnTo>
                        <a:lnTo>
                          <a:pt x="719" y="1598"/>
                        </a:lnTo>
                        <a:lnTo>
                          <a:pt x="734" y="1587"/>
                        </a:lnTo>
                        <a:lnTo>
                          <a:pt x="750" y="1577"/>
                        </a:lnTo>
                        <a:lnTo>
                          <a:pt x="764" y="1567"/>
                        </a:lnTo>
                        <a:lnTo>
                          <a:pt x="779" y="1556"/>
                        </a:lnTo>
                        <a:lnTo>
                          <a:pt x="793" y="1544"/>
                        </a:lnTo>
                        <a:lnTo>
                          <a:pt x="808" y="1533"/>
                        </a:lnTo>
                        <a:lnTo>
                          <a:pt x="822" y="1522"/>
                        </a:lnTo>
                        <a:lnTo>
                          <a:pt x="837" y="1511"/>
                        </a:lnTo>
                        <a:lnTo>
                          <a:pt x="850" y="1499"/>
                        </a:lnTo>
                        <a:lnTo>
                          <a:pt x="861" y="1488"/>
                        </a:lnTo>
                        <a:lnTo>
                          <a:pt x="871" y="1475"/>
                        </a:lnTo>
                        <a:lnTo>
                          <a:pt x="881" y="1460"/>
                        </a:lnTo>
                        <a:lnTo>
                          <a:pt x="892" y="1446"/>
                        </a:lnTo>
                        <a:lnTo>
                          <a:pt x="900" y="1431"/>
                        </a:lnTo>
                        <a:lnTo>
                          <a:pt x="910" y="1418"/>
                        </a:lnTo>
                        <a:lnTo>
                          <a:pt x="920" y="1404"/>
                        </a:lnTo>
                        <a:lnTo>
                          <a:pt x="929" y="1395"/>
                        </a:lnTo>
                        <a:lnTo>
                          <a:pt x="936" y="1385"/>
                        </a:lnTo>
                        <a:lnTo>
                          <a:pt x="945" y="1375"/>
                        </a:lnTo>
                        <a:lnTo>
                          <a:pt x="952" y="1363"/>
                        </a:lnTo>
                        <a:lnTo>
                          <a:pt x="960" y="1353"/>
                        </a:lnTo>
                        <a:lnTo>
                          <a:pt x="965" y="1342"/>
                        </a:lnTo>
                        <a:lnTo>
                          <a:pt x="970" y="1329"/>
                        </a:lnTo>
                        <a:lnTo>
                          <a:pt x="973" y="1316"/>
                        </a:lnTo>
                        <a:lnTo>
                          <a:pt x="984" y="1294"/>
                        </a:lnTo>
                        <a:lnTo>
                          <a:pt x="994" y="1272"/>
                        </a:lnTo>
                        <a:lnTo>
                          <a:pt x="1004" y="1249"/>
                        </a:lnTo>
                        <a:lnTo>
                          <a:pt x="1014" y="1227"/>
                        </a:lnTo>
                        <a:lnTo>
                          <a:pt x="1026" y="1206"/>
                        </a:lnTo>
                        <a:lnTo>
                          <a:pt x="1039" y="1184"/>
                        </a:lnTo>
                        <a:lnTo>
                          <a:pt x="1054" y="1165"/>
                        </a:lnTo>
                        <a:lnTo>
                          <a:pt x="1069" y="1148"/>
                        </a:lnTo>
                        <a:lnTo>
                          <a:pt x="1075" y="1138"/>
                        </a:lnTo>
                        <a:lnTo>
                          <a:pt x="1080" y="1128"/>
                        </a:lnTo>
                        <a:lnTo>
                          <a:pt x="1080" y="1116"/>
                        </a:lnTo>
                        <a:lnTo>
                          <a:pt x="1075" y="1105"/>
                        </a:lnTo>
                        <a:lnTo>
                          <a:pt x="1075" y="1105"/>
                        </a:lnTo>
                        <a:lnTo>
                          <a:pt x="1071" y="1081"/>
                        </a:lnTo>
                        <a:lnTo>
                          <a:pt x="1068" y="1060"/>
                        </a:lnTo>
                        <a:lnTo>
                          <a:pt x="1069" y="1038"/>
                        </a:lnTo>
                        <a:lnTo>
                          <a:pt x="1072" y="1016"/>
                        </a:lnTo>
                        <a:lnTo>
                          <a:pt x="1078" y="995"/>
                        </a:lnTo>
                        <a:lnTo>
                          <a:pt x="1085" y="974"/>
                        </a:lnTo>
                        <a:lnTo>
                          <a:pt x="1094" y="954"/>
                        </a:lnTo>
                        <a:lnTo>
                          <a:pt x="1103" y="934"/>
                        </a:lnTo>
                        <a:lnTo>
                          <a:pt x="1114" y="918"/>
                        </a:lnTo>
                        <a:lnTo>
                          <a:pt x="1127" y="904"/>
                        </a:lnTo>
                        <a:lnTo>
                          <a:pt x="1139" y="888"/>
                        </a:lnTo>
                        <a:lnTo>
                          <a:pt x="1150" y="870"/>
                        </a:lnTo>
                        <a:lnTo>
                          <a:pt x="1161" y="853"/>
                        </a:lnTo>
                        <a:lnTo>
                          <a:pt x="1168" y="836"/>
                        </a:lnTo>
                        <a:lnTo>
                          <a:pt x="1172" y="817"/>
                        </a:lnTo>
                        <a:lnTo>
                          <a:pt x="1172" y="797"/>
                        </a:lnTo>
                        <a:lnTo>
                          <a:pt x="1165" y="762"/>
                        </a:lnTo>
                        <a:lnTo>
                          <a:pt x="1166" y="762"/>
                        </a:lnTo>
                        <a:lnTo>
                          <a:pt x="1162" y="746"/>
                        </a:lnTo>
                        <a:lnTo>
                          <a:pt x="1158" y="730"/>
                        </a:lnTo>
                        <a:lnTo>
                          <a:pt x="1152" y="716"/>
                        </a:lnTo>
                        <a:lnTo>
                          <a:pt x="1145" y="701"/>
                        </a:lnTo>
                        <a:lnTo>
                          <a:pt x="1137" y="687"/>
                        </a:lnTo>
                        <a:lnTo>
                          <a:pt x="1130" y="672"/>
                        </a:lnTo>
                        <a:lnTo>
                          <a:pt x="1123" y="658"/>
                        </a:lnTo>
                        <a:lnTo>
                          <a:pt x="1116" y="643"/>
                        </a:lnTo>
                        <a:lnTo>
                          <a:pt x="1123" y="645"/>
                        </a:lnTo>
                        <a:lnTo>
                          <a:pt x="1132" y="649"/>
                        </a:lnTo>
                        <a:lnTo>
                          <a:pt x="1140" y="656"/>
                        </a:lnTo>
                        <a:lnTo>
                          <a:pt x="1148" y="662"/>
                        </a:lnTo>
                        <a:lnTo>
                          <a:pt x="1158" y="639"/>
                        </a:lnTo>
                        <a:lnTo>
                          <a:pt x="1165" y="616"/>
                        </a:lnTo>
                        <a:lnTo>
                          <a:pt x="1169" y="593"/>
                        </a:lnTo>
                        <a:lnTo>
                          <a:pt x="1174" y="568"/>
                        </a:lnTo>
                        <a:lnTo>
                          <a:pt x="1177" y="577"/>
                        </a:lnTo>
                        <a:lnTo>
                          <a:pt x="1181" y="587"/>
                        </a:lnTo>
                        <a:lnTo>
                          <a:pt x="1182" y="599"/>
                        </a:lnTo>
                        <a:lnTo>
                          <a:pt x="1182" y="609"/>
                        </a:lnTo>
                        <a:lnTo>
                          <a:pt x="1184" y="616"/>
                        </a:lnTo>
                        <a:lnTo>
                          <a:pt x="1184" y="622"/>
                        </a:lnTo>
                        <a:lnTo>
                          <a:pt x="1184" y="629"/>
                        </a:lnTo>
                        <a:lnTo>
                          <a:pt x="1185" y="636"/>
                        </a:lnTo>
                        <a:lnTo>
                          <a:pt x="1194" y="627"/>
                        </a:lnTo>
                        <a:lnTo>
                          <a:pt x="1203" y="617"/>
                        </a:lnTo>
                        <a:lnTo>
                          <a:pt x="1211" y="607"/>
                        </a:lnTo>
                        <a:lnTo>
                          <a:pt x="1221" y="597"/>
                        </a:lnTo>
                        <a:lnTo>
                          <a:pt x="1229" y="591"/>
                        </a:lnTo>
                        <a:lnTo>
                          <a:pt x="1237" y="587"/>
                        </a:lnTo>
                        <a:lnTo>
                          <a:pt x="1246" y="581"/>
                        </a:lnTo>
                        <a:lnTo>
                          <a:pt x="1256" y="577"/>
                        </a:lnTo>
                        <a:lnTo>
                          <a:pt x="1247" y="594"/>
                        </a:lnTo>
                        <a:lnTo>
                          <a:pt x="1237" y="609"/>
                        </a:lnTo>
                        <a:lnTo>
                          <a:pt x="1229" y="625"/>
                        </a:lnTo>
                        <a:lnTo>
                          <a:pt x="1223" y="642"/>
                        </a:lnTo>
                        <a:lnTo>
                          <a:pt x="1231" y="639"/>
                        </a:lnTo>
                        <a:lnTo>
                          <a:pt x="1240" y="635"/>
                        </a:lnTo>
                        <a:lnTo>
                          <a:pt x="1250" y="630"/>
                        </a:lnTo>
                        <a:lnTo>
                          <a:pt x="1259" y="627"/>
                        </a:lnTo>
                        <a:lnTo>
                          <a:pt x="1269" y="625"/>
                        </a:lnTo>
                        <a:lnTo>
                          <a:pt x="1278" y="622"/>
                        </a:lnTo>
                        <a:lnTo>
                          <a:pt x="1286" y="622"/>
                        </a:lnTo>
                        <a:lnTo>
                          <a:pt x="1294" y="622"/>
                        </a:lnTo>
                        <a:lnTo>
                          <a:pt x="1285" y="629"/>
                        </a:lnTo>
                        <a:lnTo>
                          <a:pt x="1276" y="636"/>
                        </a:lnTo>
                        <a:lnTo>
                          <a:pt x="1268" y="643"/>
                        </a:lnTo>
                        <a:lnTo>
                          <a:pt x="1260" y="651"/>
                        </a:lnTo>
                        <a:lnTo>
                          <a:pt x="1252" y="658"/>
                        </a:lnTo>
                        <a:lnTo>
                          <a:pt x="1243" y="667"/>
                        </a:lnTo>
                        <a:lnTo>
                          <a:pt x="1236" y="674"/>
                        </a:lnTo>
                        <a:lnTo>
                          <a:pt x="1230" y="682"/>
                        </a:lnTo>
                        <a:lnTo>
                          <a:pt x="1239" y="682"/>
                        </a:lnTo>
                        <a:lnTo>
                          <a:pt x="1247" y="682"/>
                        </a:lnTo>
                        <a:lnTo>
                          <a:pt x="1256" y="682"/>
                        </a:lnTo>
                        <a:lnTo>
                          <a:pt x="1265" y="681"/>
                        </a:lnTo>
                        <a:lnTo>
                          <a:pt x="1272" y="681"/>
                        </a:lnTo>
                        <a:lnTo>
                          <a:pt x="1281" y="682"/>
                        </a:lnTo>
                        <a:lnTo>
                          <a:pt x="1288" y="685"/>
                        </a:lnTo>
                        <a:lnTo>
                          <a:pt x="1295" y="690"/>
                        </a:lnTo>
                        <a:lnTo>
                          <a:pt x="1286" y="694"/>
                        </a:lnTo>
                        <a:lnTo>
                          <a:pt x="1278" y="698"/>
                        </a:lnTo>
                        <a:lnTo>
                          <a:pt x="1269" y="703"/>
                        </a:lnTo>
                        <a:lnTo>
                          <a:pt x="1260" y="706"/>
                        </a:lnTo>
                        <a:lnTo>
                          <a:pt x="1252" y="710"/>
                        </a:lnTo>
                        <a:lnTo>
                          <a:pt x="1243" y="713"/>
                        </a:lnTo>
                        <a:lnTo>
                          <a:pt x="1233" y="717"/>
                        </a:lnTo>
                        <a:lnTo>
                          <a:pt x="1224" y="720"/>
                        </a:lnTo>
                        <a:lnTo>
                          <a:pt x="1221" y="730"/>
                        </a:lnTo>
                        <a:lnTo>
                          <a:pt x="1223" y="743"/>
                        </a:lnTo>
                        <a:lnTo>
                          <a:pt x="1226" y="755"/>
                        </a:lnTo>
                        <a:lnTo>
                          <a:pt x="1231" y="766"/>
                        </a:lnTo>
                        <a:lnTo>
                          <a:pt x="1242" y="782"/>
                        </a:lnTo>
                        <a:lnTo>
                          <a:pt x="1252" y="798"/>
                        </a:lnTo>
                        <a:lnTo>
                          <a:pt x="1262" y="814"/>
                        </a:lnTo>
                        <a:lnTo>
                          <a:pt x="1271" y="833"/>
                        </a:lnTo>
                        <a:lnTo>
                          <a:pt x="1271" y="837"/>
                        </a:lnTo>
                        <a:lnTo>
                          <a:pt x="1272" y="843"/>
                        </a:lnTo>
                        <a:lnTo>
                          <a:pt x="1272" y="849"/>
                        </a:lnTo>
                        <a:lnTo>
                          <a:pt x="1272" y="854"/>
                        </a:lnTo>
                        <a:lnTo>
                          <a:pt x="1265" y="878"/>
                        </a:lnTo>
                        <a:lnTo>
                          <a:pt x="1256" y="902"/>
                        </a:lnTo>
                        <a:lnTo>
                          <a:pt x="1246" y="925"/>
                        </a:lnTo>
                        <a:lnTo>
                          <a:pt x="1239" y="950"/>
                        </a:lnTo>
                        <a:lnTo>
                          <a:pt x="1246" y="947"/>
                        </a:lnTo>
                        <a:lnTo>
                          <a:pt x="1252" y="943"/>
                        </a:lnTo>
                        <a:lnTo>
                          <a:pt x="1259" y="938"/>
                        </a:lnTo>
                        <a:lnTo>
                          <a:pt x="1268" y="934"/>
                        </a:lnTo>
                        <a:lnTo>
                          <a:pt x="1281" y="924"/>
                        </a:lnTo>
                        <a:lnTo>
                          <a:pt x="1295" y="915"/>
                        </a:lnTo>
                        <a:lnTo>
                          <a:pt x="1310" y="905"/>
                        </a:lnTo>
                        <a:lnTo>
                          <a:pt x="1323" y="896"/>
                        </a:lnTo>
                        <a:lnTo>
                          <a:pt x="1337" y="888"/>
                        </a:lnTo>
                        <a:lnTo>
                          <a:pt x="1352" y="878"/>
                        </a:lnTo>
                        <a:lnTo>
                          <a:pt x="1366" y="869"/>
                        </a:lnTo>
                        <a:lnTo>
                          <a:pt x="1382" y="860"/>
                        </a:lnTo>
                        <a:lnTo>
                          <a:pt x="1396" y="853"/>
                        </a:lnTo>
                        <a:lnTo>
                          <a:pt x="1412" y="844"/>
                        </a:lnTo>
                        <a:lnTo>
                          <a:pt x="1428" y="837"/>
                        </a:lnTo>
                        <a:lnTo>
                          <a:pt x="1446" y="830"/>
                        </a:lnTo>
                        <a:lnTo>
                          <a:pt x="1461" y="823"/>
                        </a:lnTo>
                        <a:lnTo>
                          <a:pt x="1479" y="817"/>
                        </a:lnTo>
                        <a:lnTo>
                          <a:pt x="1496" y="811"/>
                        </a:lnTo>
                        <a:lnTo>
                          <a:pt x="1515" y="807"/>
                        </a:lnTo>
                        <a:lnTo>
                          <a:pt x="1515" y="808"/>
                        </a:lnTo>
                        <a:lnTo>
                          <a:pt x="1529" y="805"/>
                        </a:lnTo>
                        <a:lnTo>
                          <a:pt x="1545" y="804"/>
                        </a:lnTo>
                        <a:lnTo>
                          <a:pt x="1560" y="801"/>
                        </a:lnTo>
                        <a:lnTo>
                          <a:pt x="1574" y="798"/>
                        </a:lnTo>
                        <a:lnTo>
                          <a:pt x="1590" y="795"/>
                        </a:lnTo>
                        <a:lnTo>
                          <a:pt x="1605" y="794"/>
                        </a:lnTo>
                        <a:lnTo>
                          <a:pt x="1619" y="791"/>
                        </a:lnTo>
                        <a:lnTo>
                          <a:pt x="1634" y="789"/>
                        </a:lnTo>
                        <a:lnTo>
                          <a:pt x="1638" y="791"/>
                        </a:lnTo>
                        <a:lnTo>
                          <a:pt x="1644" y="791"/>
                        </a:lnTo>
                        <a:lnTo>
                          <a:pt x="1648" y="789"/>
                        </a:lnTo>
                        <a:lnTo>
                          <a:pt x="1654" y="788"/>
                        </a:lnTo>
                        <a:lnTo>
                          <a:pt x="1658" y="788"/>
                        </a:lnTo>
                        <a:lnTo>
                          <a:pt x="1663" y="788"/>
                        </a:lnTo>
                        <a:lnTo>
                          <a:pt x="1667" y="788"/>
                        </a:lnTo>
                        <a:lnTo>
                          <a:pt x="1671" y="788"/>
                        </a:lnTo>
                        <a:lnTo>
                          <a:pt x="1697" y="787"/>
                        </a:lnTo>
                        <a:lnTo>
                          <a:pt x="1722" y="787"/>
                        </a:lnTo>
                        <a:lnTo>
                          <a:pt x="1746" y="788"/>
                        </a:lnTo>
                        <a:lnTo>
                          <a:pt x="1773" y="788"/>
                        </a:lnTo>
                        <a:lnTo>
                          <a:pt x="1797" y="788"/>
                        </a:lnTo>
                        <a:lnTo>
                          <a:pt x="1822" y="787"/>
                        </a:lnTo>
                        <a:lnTo>
                          <a:pt x="1848" y="784"/>
                        </a:lnTo>
                        <a:lnTo>
                          <a:pt x="1874" y="778"/>
                        </a:lnTo>
                        <a:lnTo>
                          <a:pt x="1874" y="778"/>
                        </a:lnTo>
                        <a:lnTo>
                          <a:pt x="1888" y="773"/>
                        </a:lnTo>
                        <a:lnTo>
                          <a:pt x="1903" y="769"/>
                        </a:lnTo>
                        <a:lnTo>
                          <a:pt x="1919" y="763"/>
                        </a:lnTo>
                        <a:lnTo>
                          <a:pt x="1933" y="759"/>
                        </a:lnTo>
                        <a:lnTo>
                          <a:pt x="1948" y="752"/>
                        </a:lnTo>
                        <a:lnTo>
                          <a:pt x="1961" y="746"/>
                        </a:lnTo>
                        <a:lnTo>
                          <a:pt x="1974" y="739"/>
                        </a:lnTo>
                        <a:lnTo>
                          <a:pt x="1987" y="732"/>
                        </a:lnTo>
                        <a:lnTo>
                          <a:pt x="1998" y="723"/>
                        </a:lnTo>
                        <a:lnTo>
                          <a:pt x="2010" y="716"/>
                        </a:lnTo>
                        <a:lnTo>
                          <a:pt x="2021" y="707"/>
                        </a:lnTo>
                        <a:lnTo>
                          <a:pt x="2033" y="697"/>
                        </a:lnTo>
                        <a:lnTo>
                          <a:pt x="2044" y="688"/>
                        </a:lnTo>
                        <a:lnTo>
                          <a:pt x="2055" y="678"/>
                        </a:lnTo>
                        <a:lnTo>
                          <a:pt x="2065" y="668"/>
                        </a:lnTo>
                        <a:lnTo>
                          <a:pt x="2075" y="658"/>
                        </a:lnTo>
                        <a:lnTo>
                          <a:pt x="2085" y="640"/>
                        </a:lnTo>
                        <a:lnTo>
                          <a:pt x="2078" y="640"/>
                        </a:lnTo>
                        <a:lnTo>
                          <a:pt x="2069" y="643"/>
                        </a:lnTo>
                        <a:lnTo>
                          <a:pt x="2062" y="645"/>
                        </a:lnTo>
                        <a:lnTo>
                          <a:pt x="2053" y="648"/>
                        </a:lnTo>
                        <a:lnTo>
                          <a:pt x="2049" y="648"/>
                        </a:lnTo>
                        <a:lnTo>
                          <a:pt x="2044" y="648"/>
                        </a:lnTo>
                        <a:lnTo>
                          <a:pt x="2039" y="648"/>
                        </a:lnTo>
                        <a:lnTo>
                          <a:pt x="2034" y="648"/>
                        </a:lnTo>
                        <a:lnTo>
                          <a:pt x="2021" y="646"/>
                        </a:lnTo>
                        <a:lnTo>
                          <a:pt x="2007" y="646"/>
                        </a:lnTo>
                        <a:lnTo>
                          <a:pt x="1994" y="643"/>
                        </a:lnTo>
                        <a:lnTo>
                          <a:pt x="1979" y="642"/>
                        </a:lnTo>
                        <a:lnTo>
                          <a:pt x="1966" y="638"/>
                        </a:lnTo>
                        <a:lnTo>
                          <a:pt x="1952" y="635"/>
                        </a:lnTo>
                        <a:lnTo>
                          <a:pt x="1939" y="629"/>
                        </a:lnTo>
                        <a:lnTo>
                          <a:pt x="1926" y="623"/>
                        </a:lnTo>
                        <a:lnTo>
                          <a:pt x="1916" y="617"/>
                        </a:lnTo>
                        <a:lnTo>
                          <a:pt x="1906" y="612"/>
                        </a:lnTo>
                        <a:lnTo>
                          <a:pt x="1895" y="604"/>
                        </a:lnTo>
                        <a:lnTo>
                          <a:pt x="1887" y="597"/>
                        </a:lnTo>
                        <a:lnTo>
                          <a:pt x="1880" y="587"/>
                        </a:lnTo>
                        <a:lnTo>
                          <a:pt x="1872" y="577"/>
                        </a:lnTo>
                        <a:lnTo>
                          <a:pt x="1868" y="565"/>
                        </a:lnTo>
                        <a:lnTo>
                          <a:pt x="1865" y="551"/>
                        </a:lnTo>
                        <a:lnTo>
                          <a:pt x="1865" y="547"/>
                        </a:lnTo>
                        <a:lnTo>
                          <a:pt x="1865" y="542"/>
                        </a:lnTo>
                        <a:lnTo>
                          <a:pt x="1865" y="538"/>
                        </a:lnTo>
                        <a:lnTo>
                          <a:pt x="1865" y="532"/>
                        </a:lnTo>
                        <a:lnTo>
                          <a:pt x="1867" y="520"/>
                        </a:lnTo>
                        <a:lnTo>
                          <a:pt x="1869" y="507"/>
                        </a:lnTo>
                        <a:lnTo>
                          <a:pt x="1874" y="496"/>
                        </a:lnTo>
                        <a:lnTo>
                          <a:pt x="1880" y="486"/>
                        </a:lnTo>
                        <a:lnTo>
                          <a:pt x="1887" y="474"/>
                        </a:lnTo>
                        <a:lnTo>
                          <a:pt x="1894" y="464"/>
                        </a:lnTo>
                        <a:lnTo>
                          <a:pt x="1903" y="455"/>
                        </a:lnTo>
                        <a:lnTo>
                          <a:pt x="1910" y="445"/>
                        </a:lnTo>
                        <a:lnTo>
                          <a:pt x="1916" y="438"/>
                        </a:lnTo>
                        <a:lnTo>
                          <a:pt x="1919" y="431"/>
                        </a:lnTo>
                        <a:lnTo>
                          <a:pt x="1919" y="422"/>
                        </a:lnTo>
                        <a:lnTo>
                          <a:pt x="1917" y="413"/>
                        </a:lnTo>
                        <a:lnTo>
                          <a:pt x="1919" y="412"/>
                        </a:lnTo>
                        <a:lnTo>
                          <a:pt x="1916" y="395"/>
                        </a:lnTo>
                        <a:lnTo>
                          <a:pt x="1913" y="377"/>
                        </a:lnTo>
                        <a:lnTo>
                          <a:pt x="1910" y="360"/>
                        </a:lnTo>
                        <a:lnTo>
                          <a:pt x="1906" y="343"/>
                        </a:lnTo>
                        <a:lnTo>
                          <a:pt x="1914" y="350"/>
                        </a:lnTo>
                        <a:lnTo>
                          <a:pt x="1920" y="360"/>
                        </a:lnTo>
                        <a:lnTo>
                          <a:pt x="1927" y="370"/>
                        </a:lnTo>
                        <a:lnTo>
                          <a:pt x="1936" y="377"/>
                        </a:lnTo>
                        <a:lnTo>
                          <a:pt x="1942" y="370"/>
                        </a:lnTo>
                        <a:lnTo>
                          <a:pt x="1948" y="356"/>
                        </a:lnTo>
                        <a:lnTo>
                          <a:pt x="1953" y="341"/>
                        </a:lnTo>
                        <a:lnTo>
                          <a:pt x="1959" y="327"/>
                        </a:lnTo>
                        <a:lnTo>
                          <a:pt x="1968" y="314"/>
                        </a:lnTo>
                        <a:lnTo>
                          <a:pt x="1972" y="327"/>
                        </a:lnTo>
                        <a:lnTo>
                          <a:pt x="1974" y="341"/>
                        </a:lnTo>
                        <a:lnTo>
                          <a:pt x="1974" y="356"/>
                        </a:lnTo>
                        <a:lnTo>
                          <a:pt x="1975" y="369"/>
                        </a:lnTo>
                        <a:lnTo>
                          <a:pt x="1979" y="363"/>
                        </a:lnTo>
                        <a:lnTo>
                          <a:pt x="1987" y="360"/>
                        </a:lnTo>
                        <a:lnTo>
                          <a:pt x="1994" y="356"/>
                        </a:lnTo>
                        <a:lnTo>
                          <a:pt x="2000" y="351"/>
                        </a:lnTo>
                        <a:lnTo>
                          <a:pt x="2013" y="343"/>
                        </a:lnTo>
                        <a:lnTo>
                          <a:pt x="2007" y="356"/>
                        </a:lnTo>
                        <a:lnTo>
                          <a:pt x="2001" y="369"/>
                        </a:lnTo>
                        <a:lnTo>
                          <a:pt x="1992" y="383"/>
                        </a:lnTo>
                        <a:lnTo>
                          <a:pt x="1982" y="395"/>
                        </a:lnTo>
                        <a:lnTo>
                          <a:pt x="1984" y="398"/>
                        </a:lnTo>
                        <a:lnTo>
                          <a:pt x="1989" y="399"/>
                        </a:lnTo>
                        <a:lnTo>
                          <a:pt x="1997" y="399"/>
                        </a:lnTo>
                        <a:lnTo>
                          <a:pt x="2003" y="399"/>
                        </a:lnTo>
                        <a:lnTo>
                          <a:pt x="2008" y="399"/>
                        </a:lnTo>
                        <a:lnTo>
                          <a:pt x="2016" y="400"/>
                        </a:lnTo>
                        <a:lnTo>
                          <a:pt x="2021" y="400"/>
                        </a:lnTo>
                        <a:lnTo>
                          <a:pt x="2027" y="402"/>
                        </a:lnTo>
                        <a:lnTo>
                          <a:pt x="2033" y="405"/>
                        </a:lnTo>
                        <a:lnTo>
                          <a:pt x="2023" y="412"/>
                        </a:lnTo>
                        <a:lnTo>
                          <a:pt x="2013" y="418"/>
                        </a:lnTo>
                        <a:lnTo>
                          <a:pt x="2001" y="422"/>
                        </a:lnTo>
                        <a:lnTo>
                          <a:pt x="1989" y="427"/>
                        </a:lnTo>
                        <a:lnTo>
                          <a:pt x="1978" y="432"/>
                        </a:lnTo>
                        <a:lnTo>
                          <a:pt x="1968" y="438"/>
                        </a:lnTo>
                        <a:lnTo>
                          <a:pt x="1959" y="447"/>
                        </a:lnTo>
                        <a:lnTo>
                          <a:pt x="1953" y="457"/>
                        </a:lnTo>
                        <a:lnTo>
                          <a:pt x="1946" y="477"/>
                        </a:lnTo>
                        <a:lnTo>
                          <a:pt x="1939" y="497"/>
                        </a:lnTo>
                        <a:lnTo>
                          <a:pt x="1936" y="518"/>
                        </a:lnTo>
                        <a:lnTo>
                          <a:pt x="1943" y="538"/>
                        </a:lnTo>
                        <a:lnTo>
                          <a:pt x="1948" y="542"/>
                        </a:lnTo>
                        <a:lnTo>
                          <a:pt x="1953" y="545"/>
                        </a:lnTo>
                        <a:lnTo>
                          <a:pt x="1959" y="548"/>
                        </a:lnTo>
                        <a:lnTo>
                          <a:pt x="1965" y="549"/>
                        </a:lnTo>
                        <a:lnTo>
                          <a:pt x="1971" y="552"/>
                        </a:lnTo>
                        <a:lnTo>
                          <a:pt x="1976" y="554"/>
                        </a:lnTo>
                        <a:lnTo>
                          <a:pt x="1982" y="555"/>
                        </a:lnTo>
                        <a:lnTo>
                          <a:pt x="1988" y="557"/>
                        </a:lnTo>
                        <a:lnTo>
                          <a:pt x="2049" y="538"/>
                        </a:lnTo>
                        <a:lnTo>
                          <a:pt x="2049" y="539"/>
                        </a:lnTo>
                        <a:lnTo>
                          <a:pt x="2057" y="538"/>
                        </a:lnTo>
                        <a:lnTo>
                          <a:pt x="2066" y="535"/>
                        </a:lnTo>
                        <a:lnTo>
                          <a:pt x="2076" y="532"/>
                        </a:lnTo>
                        <a:lnTo>
                          <a:pt x="2085" y="529"/>
                        </a:lnTo>
                        <a:lnTo>
                          <a:pt x="2094" y="525"/>
                        </a:lnTo>
                        <a:lnTo>
                          <a:pt x="2101" y="520"/>
                        </a:lnTo>
                        <a:lnTo>
                          <a:pt x="2108" y="515"/>
                        </a:lnTo>
                        <a:lnTo>
                          <a:pt x="2114" y="509"/>
                        </a:lnTo>
                        <a:lnTo>
                          <a:pt x="2115" y="505"/>
                        </a:lnTo>
                        <a:lnTo>
                          <a:pt x="2115" y="499"/>
                        </a:lnTo>
                        <a:lnTo>
                          <a:pt x="2114" y="493"/>
                        </a:lnTo>
                        <a:lnTo>
                          <a:pt x="2112" y="487"/>
                        </a:lnTo>
                        <a:lnTo>
                          <a:pt x="2114" y="487"/>
                        </a:lnTo>
                        <a:lnTo>
                          <a:pt x="2108" y="453"/>
                        </a:lnTo>
                        <a:lnTo>
                          <a:pt x="2110" y="418"/>
                        </a:lnTo>
                        <a:lnTo>
                          <a:pt x="2120" y="386"/>
                        </a:lnTo>
                        <a:lnTo>
                          <a:pt x="2138" y="357"/>
                        </a:lnTo>
                        <a:lnTo>
                          <a:pt x="2144" y="334"/>
                        </a:lnTo>
                        <a:lnTo>
                          <a:pt x="2143" y="311"/>
                        </a:lnTo>
                        <a:lnTo>
                          <a:pt x="2141" y="288"/>
                        </a:lnTo>
                        <a:lnTo>
                          <a:pt x="2144" y="265"/>
                        </a:lnTo>
                        <a:lnTo>
                          <a:pt x="2149" y="252"/>
                        </a:lnTo>
                        <a:lnTo>
                          <a:pt x="2153" y="239"/>
                        </a:lnTo>
                        <a:lnTo>
                          <a:pt x="2157" y="226"/>
                        </a:lnTo>
                        <a:lnTo>
                          <a:pt x="2165" y="213"/>
                        </a:lnTo>
                        <a:lnTo>
                          <a:pt x="2172" y="202"/>
                        </a:lnTo>
                        <a:lnTo>
                          <a:pt x="2180" y="192"/>
                        </a:lnTo>
                        <a:lnTo>
                          <a:pt x="2191" y="182"/>
                        </a:lnTo>
                        <a:lnTo>
                          <a:pt x="2202" y="175"/>
                        </a:lnTo>
                        <a:lnTo>
                          <a:pt x="2214" y="163"/>
                        </a:lnTo>
                        <a:lnTo>
                          <a:pt x="2217" y="149"/>
                        </a:lnTo>
                        <a:lnTo>
                          <a:pt x="2218" y="134"/>
                        </a:lnTo>
                        <a:lnTo>
                          <a:pt x="2224" y="120"/>
                        </a:lnTo>
                        <a:lnTo>
                          <a:pt x="2230" y="108"/>
                        </a:lnTo>
                        <a:lnTo>
                          <a:pt x="2237" y="98"/>
                        </a:lnTo>
                        <a:lnTo>
                          <a:pt x="2246" y="90"/>
                        </a:lnTo>
                        <a:lnTo>
                          <a:pt x="2256" y="81"/>
                        </a:lnTo>
                        <a:lnTo>
                          <a:pt x="2267" y="74"/>
                        </a:lnTo>
                        <a:lnTo>
                          <a:pt x="2279" y="69"/>
                        </a:lnTo>
                        <a:lnTo>
                          <a:pt x="2292" y="65"/>
                        </a:lnTo>
                        <a:lnTo>
                          <a:pt x="2306" y="64"/>
                        </a:lnTo>
                        <a:lnTo>
                          <a:pt x="2312" y="62"/>
                        </a:lnTo>
                        <a:lnTo>
                          <a:pt x="2318" y="62"/>
                        </a:lnTo>
                        <a:lnTo>
                          <a:pt x="2322" y="64"/>
                        </a:lnTo>
                        <a:lnTo>
                          <a:pt x="2328" y="64"/>
                        </a:lnTo>
                        <a:lnTo>
                          <a:pt x="2334" y="64"/>
                        </a:lnTo>
                        <a:lnTo>
                          <a:pt x="2340" y="64"/>
                        </a:lnTo>
                        <a:lnTo>
                          <a:pt x="2344" y="62"/>
                        </a:lnTo>
                        <a:lnTo>
                          <a:pt x="2350" y="59"/>
                        </a:lnTo>
                        <a:lnTo>
                          <a:pt x="2355" y="49"/>
                        </a:lnTo>
                        <a:lnTo>
                          <a:pt x="2363" y="39"/>
                        </a:lnTo>
                        <a:lnTo>
                          <a:pt x="2370" y="30"/>
                        </a:lnTo>
                        <a:lnTo>
                          <a:pt x="2379" y="22"/>
                        </a:lnTo>
                        <a:lnTo>
                          <a:pt x="2389" y="14"/>
                        </a:lnTo>
                        <a:lnTo>
                          <a:pt x="2400" y="9"/>
                        </a:lnTo>
                        <a:lnTo>
                          <a:pt x="2412" y="4"/>
                        </a:lnTo>
                        <a:lnTo>
                          <a:pt x="2423" y="0"/>
                        </a:lnTo>
                        <a:lnTo>
                          <a:pt x="2432" y="1"/>
                        </a:lnTo>
                        <a:lnTo>
                          <a:pt x="2442" y="3"/>
                        </a:lnTo>
                        <a:lnTo>
                          <a:pt x="2452" y="6"/>
                        </a:lnTo>
                        <a:lnTo>
                          <a:pt x="2463" y="9"/>
                        </a:lnTo>
                        <a:lnTo>
                          <a:pt x="2471" y="12"/>
                        </a:lnTo>
                        <a:lnTo>
                          <a:pt x="2481" y="14"/>
                        </a:lnTo>
                        <a:lnTo>
                          <a:pt x="2491" y="19"/>
                        </a:lnTo>
                        <a:lnTo>
                          <a:pt x="250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flipH="1">
                    <a:off x="3114720" y="1384560"/>
                    <a:ext cx="60840" cy="194040"/>
                  </a:xfrm>
                  <a:custGeom>
                    <a:avLst/>
                    <a:gdLst/>
                    <a:ahLst/>
                    <a:rect l="l" t="t" r="r" b="b"/>
                    <a:pathLst>
                      <a:path w="160" h="486">
                        <a:moveTo>
                          <a:pt x="115" y="0"/>
                        </a:moveTo>
                        <a:lnTo>
                          <a:pt x="111" y="11"/>
                        </a:lnTo>
                        <a:lnTo>
                          <a:pt x="110" y="23"/>
                        </a:lnTo>
                        <a:lnTo>
                          <a:pt x="110" y="34"/>
                        </a:lnTo>
                        <a:lnTo>
                          <a:pt x="111" y="47"/>
                        </a:lnTo>
                        <a:lnTo>
                          <a:pt x="111" y="52"/>
                        </a:lnTo>
                        <a:lnTo>
                          <a:pt x="111" y="58"/>
                        </a:lnTo>
                        <a:lnTo>
                          <a:pt x="111" y="62"/>
                        </a:lnTo>
                        <a:lnTo>
                          <a:pt x="111" y="68"/>
                        </a:lnTo>
                        <a:lnTo>
                          <a:pt x="113" y="76"/>
                        </a:lnTo>
                        <a:lnTo>
                          <a:pt x="114" y="85"/>
                        </a:lnTo>
                        <a:lnTo>
                          <a:pt x="115" y="94"/>
                        </a:lnTo>
                        <a:lnTo>
                          <a:pt x="117" y="102"/>
                        </a:lnTo>
                        <a:lnTo>
                          <a:pt x="120" y="114"/>
                        </a:lnTo>
                        <a:lnTo>
                          <a:pt x="123" y="127"/>
                        </a:lnTo>
                        <a:lnTo>
                          <a:pt x="128" y="137"/>
                        </a:lnTo>
                        <a:lnTo>
                          <a:pt x="133" y="149"/>
                        </a:lnTo>
                        <a:lnTo>
                          <a:pt x="139" y="159"/>
                        </a:lnTo>
                        <a:lnTo>
                          <a:pt x="146" y="167"/>
                        </a:lnTo>
                        <a:lnTo>
                          <a:pt x="153" y="178"/>
                        </a:lnTo>
                        <a:lnTo>
                          <a:pt x="160" y="186"/>
                        </a:lnTo>
                        <a:lnTo>
                          <a:pt x="152" y="182"/>
                        </a:lnTo>
                        <a:lnTo>
                          <a:pt x="143" y="176"/>
                        </a:lnTo>
                        <a:lnTo>
                          <a:pt x="134" y="170"/>
                        </a:lnTo>
                        <a:lnTo>
                          <a:pt x="126" y="163"/>
                        </a:lnTo>
                        <a:lnTo>
                          <a:pt x="118" y="156"/>
                        </a:lnTo>
                        <a:lnTo>
                          <a:pt x="111" y="149"/>
                        </a:lnTo>
                        <a:lnTo>
                          <a:pt x="104" y="140"/>
                        </a:lnTo>
                        <a:lnTo>
                          <a:pt x="97" y="133"/>
                        </a:lnTo>
                        <a:lnTo>
                          <a:pt x="97" y="137"/>
                        </a:lnTo>
                        <a:lnTo>
                          <a:pt x="97" y="141"/>
                        </a:lnTo>
                        <a:lnTo>
                          <a:pt x="98" y="147"/>
                        </a:lnTo>
                        <a:lnTo>
                          <a:pt x="98" y="152"/>
                        </a:lnTo>
                        <a:lnTo>
                          <a:pt x="97" y="153"/>
                        </a:lnTo>
                        <a:lnTo>
                          <a:pt x="101" y="188"/>
                        </a:lnTo>
                        <a:lnTo>
                          <a:pt x="105" y="222"/>
                        </a:lnTo>
                        <a:lnTo>
                          <a:pt x="111" y="257"/>
                        </a:lnTo>
                        <a:lnTo>
                          <a:pt x="118" y="292"/>
                        </a:lnTo>
                        <a:lnTo>
                          <a:pt x="118" y="296"/>
                        </a:lnTo>
                        <a:lnTo>
                          <a:pt x="118" y="301"/>
                        </a:lnTo>
                        <a:lnTo>
                          <a:pt x="118" y="306"/>
                        </a:lnTo>
                        <a:lnTo>
                          <a:pt x="115" y="309"/>
                        </a:lnTo>
                        <a:lnTo>
                          <a:pt x="108" y="298"/>
                        </a:lnTo>
                        <a:lnTo>
                          <a:pt x="101" y="287"/>
                        </a:lnTo>
                        <a:lnTo>
                          <a:pt x="94" y="276"/>
                        </a:lnTo>
                        <a:lnTo>
                          <a:pt x="88" y="264"/>
                        </a:lnTo>
                        <a:lnTo>
                          <a:pt x="82" y="253"/>
                        </a:lnTo>
                        <a:lnTo>
                          <a:pt x="76" y="240"/>
                        </a:lnTo>
                        <a:lnTo>
                          <a:pt x="71" y="227"/>
                        </a:lnTo>
                        <a:lnTo>
                          <a:pt x="66" y="214"/>
                        </a:lnTo>
                        <a:lnTo>
                          <a:pt x="60" y="253"/>
                        </a:lnTo>
                        <a:lnTo>
                          <a:pt x="58" y="290"/>
                        </a:lnTo>
                        <a:lnTo>
                          <a:pt x="60" y="329"/>
                        </a:lnTo>
                        <a:lnTo>
                          <a:pt x="69" y="370"/>
                        </a:lnTo>
                        <a:lnTo>
                          <a:pt x="68" y="373"/>
                        </a:lnTo>
                        <a:lnTo>
                          <a:pt x="68" y="376"/>
                        </a:lnTo>
                        <a:lnTo>
                          <a:pt x="69" y="379"/>
                        </a:lnTo>
                        <a:lnTo>
                          <a:pt x="69" y="381"/>
                        </a:lnTo>
                        <a:lnTo>
                          <a:pt x="60" y="368"/>
                        </a:lnTo>
                        <a:lnTo>
                          <a:pt x="53" y="354"/>
                        </a:lnTo>
                        <a:lnTo>
                          <a:pt x="47" y="340"/>
                        </a:lnTo>
                        <a:lnTo>
                          <a:pt x="42" y="324"/>
                        </a:lnTo>
                        <a:lnTo>
                          <a:pt x="42" y="319"/>
                        </a:lnTo>
                        <a:lnTo>
                          <a:pt x="40" y="315"/>
                        </a:lnTo>
                        <a:lnTo>
                          <a:pt x="39" y="311"/>
                        </a:lnTo>
                        <a:lnTo>
                          <a:pt x="37" y="306"/>
                        </a:lnTo>
                        <a:lnTo>
                          <a:pt x="34" y="311"/>
                        </a:lnTo>
                        <a:lnTo>
                          <a:pt x="33" y="316"/>
                        </a:lnTo>
                        <a:lnTo>
                          <a:pt x="31" y="322"/>
                        </a:lnTo>
                        <a:lnTo>
                          <a:pt x="31" y="329"/>
                        </a:lnTo>
                        <a:lnTo>
                          <a:pt x="27" y="367"/>
                        </a:lnTo>
                        <a:lnTo>
                          <a:pt x="29" y="406"/>
                        </a:lnTo>
                        <a:lnTo>
                          <a:pt x="33" y="445"/>
                        </a:lnTo>
                        <a:lnTo>
                          <a:pt x="42" y="484"/>
                        </a:lnTo>
                        <a:lnTo>
                          <a:pt x="40" y="484"/>
                        </a:lnTo>
                        <a:lnTo>
                          <a:pt x="40" y="484"/>
                        </a:lnTo>
                        <a:lnTo>
                          <a:pt x="40" y="486"/>
                        </a:lnTo>
                        <a:lnTo>
                          <a:pt x="40" y="486"/>
                        </a:lnTo>
                        <a:lnTo>
                          <a:pt x="11" y="405"/>
                        </a:lnTo>
                        <a:lnTo>
                          <a:pt x="13" y="405"/>
                        </a:lnTo>
                        <a:lnTo>
                          <a:pt x="3" y="363"/>
                        </a:lnTo>
                        <a:lnTo>
                          <a:pt x="4" y="363"/>
                        </a:lnTo>
                        <a:lnTo>
                          <a:pt x="0" y="324"/>
                        </a:lnTo>
                        <a:lnTo>
                          <a:pt x="3" y="286"/>
                        </a:lnTo>
                        <a:lnTo>
                          <a:pt x="10" y="248"/>
                        </a:lnTo>
                        <a:lnTo>
                          <a:pt x="20" y="211"/>
                        </a:lnTo>
                        <a:lnTo>
                          <a:pt x="30" y="194"/>
                        </a:lnTo>
                        <a:lnTo>
                          <a:pt x="39" y="176"/>
                        </a:lnTo>
                        <a:lnTo>
                          <a:pt x="49" y="159"/>
                        </a:lnTo>
                        <a:lnTo>
                          <a:pt x="58" y="140"/>
                        </a:lnTo>
                        <a:lnTo>
                          <a:pt x="66" y="123"/>
                        </a:lnTo>
                        <a:lnTo>
                          <a:pt x="72" y="104"/>
                        </a:lnTo>
                        <a:lnTo>
                          <a:pt x="76" y="85"/>
                        </a:lnTo>
                        <a:lnTo>
                          <a:pt x="79" y="66"/>
                        </a:lnTo>
                        <a:lnTo>
                          <a:pt x="84" y="47"/>
                        </a:lnTo>
                        <a:lnTo>
                          <a:pt x="89" y="27"/>
                        </a:lnTo>
                        <a:lnTo>
                          <a:pt x="98" y="1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3086280" y="1376280"/>
                    <a:ext cx="16200" cy="52920"/>
                  </a:xfrm>
                  <a:custGeom>
                    <a:avLst/>
                    <a:gdLst/>
                    <a:ahLst/>
                    <a:rect l="l" t="t" r="r" b="b"/>
                    <a:pathLst>
                      <a:path w="43" h="133">
                        <a:moveTo>
                          <a:pt x="43" y="4"/>
                        </a:moveTo>
                        <a:lnTo>
                          <a:pt x="43" y="23"/>
                        </a:lnTo>
                        <a:lnTo>
                          <a:pt x="41" y="40"/>
                        </a:lnTo>
                        <a:lnTo>
                          <a:pt x="36" y="59"/>
                        </a:lnTo>
                        <a:lnTo>
                          <a:pt x="32" y="76"/>
                        </a:lnTo>
                        <a:lnTo>
                          <a:pt x="32" y="91"/>
                        </a:lnTo>
                        <a:lnTo>
                          <a:pt x="33" y="104"/>
                        </a:lnTo>
                        <a:lnTo>
                          <a:pt x="33" y="118"/>
                        </a:lnTo>
                        <a:lnTo>
                          <a:pt x="33" y="133"/>
                        </a:lnTo>
                        <a:lnTo>
                          <a:pt x="23" y="122"/>
                        </a:lnTo>
                        <a:lnTo>
                          <a:pt x="15" y="112"/>
                        </a:lnTo>
                        <a:lnTo>
                          <a:pt x="6" y="99"/>
                        </a:lnTo>
                        <a:lnTo>
                          <a:pt x="0" y="83"/>
                        </a:lnTo>
                        <a:lnTo>
                          <a:pt x="2" y="79"/>
                        </a:lnTo>
                        <a:lnTo>
                          <a:pt x="0" y="73"/>
                        </a:lnTo>
                        <a:lnTo>
                          <a:pt x="0" y="69"/>
                        </a:lnTo>
                        <a:lnTo>
                          <a:pt x="0" y="65"/>
                        </a:lnTo>
                        <a:lnTo>
                          <a:pt x="3" y="49"/>
                        </a:lnTo>
                        <a:lnTo>
                          <a:pt x="9" y="33"/>
                        </a:lnTo>
                        <a:lnTo>
                          <a:pt x="16" y="18"/>
                        </a:lnTo>
                        <a:lnTo>
                          <a:pt x="23" y="4"/>
                        </a:lnTo>
                        <a:lnTo>
                          <a:pt x="29" y="1"/>
                        </a:lnTo>
                        <a:lnTo>
                          <a:pt x="33" y="0"/>
                        </a:lnTo>
                        <a:lnTo>
                          <a:pt x="39" y="1"/>
                        </a:lnTo>
                        <a:lnTo>
                          <a:pt x="43" y="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631" name=""/>
                  <p:cNvSpPr/>
                  <p:nvPr/>
                </p:nvSpPr>
                <p:spPr>
                  <a:xfrm flipH="1">
                    <a:off x="3069360" y="1380240"/>
                    <a:ext cx="9720" cy="15480"/>
                  </a:xfrm>
                  <a:custGeom>
                    <a:avLst/>
                    <a:gdLst/>
                    <a:ahLst/>
                    <a:rect l="l" t="t" r="r" b="b"/>
                    <a:pathLst>
                      <a:path w="26" h="39">
                        <a:moveTo>
                          <a:pt x="22" y="5"/>
                        </a:moveTo>
                        <a:lnTo>
                          <a:pt x="26" y="8"/>
                        </a:lnTo>
                        <a:lnTo>
                          <a:pt x="26" y="13"/>
                        </a:lnTo>
                        <a:lnTo>
                          <a:pt x="26" y="17"/>
                        </a:lnTo>
                        <a:lnTo>
                          <a:pt x="25" y="23"/>
                        </a:lnTo>
                        <a:lnTo>
                          <a:pt x="19" y="27"/>
                        </a:lnTo>
                        <a:lnTo>
                          <a:pt x="15" y="31"/>
                        </a:lnTo>
                        <a:lnTo>
                          <a:pt x="9" y="36"/>
                        </a:lnTo>
                        <a:lnTo>
                          <a:pt x="3" y="39"/>
                        </a:lnTo>
                        <a:lnTo>
                          <a:pt x="0" y="30"/>
                        </a:lnTo>
                        <a:lnTo>
                          <a:pt x="0" y="20"/>
                        </a:lnTo>
                        <a:lnTo>
                          <a:pt x="0" y="10"/>
                        </a:lnTo>
                        <a:lnTo>
                          <a:pt x="2" y="1"/>
                        </a:lnTo>
                        <a:lnTo>
                          <a:pt x="7" y="0"/>
                        </a:lnTo>
                        <a:lnTo>
                          <a:pt x="12" y="1"/>
                        </a:lnTo>
                        <a:lnTo>
                          <a:pt x="18" y="4"/>
                        </a:lnTo>
                        <a:lnTo>
                          <a:pt x="22" y="5"/>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632" name=""/>
                  <p:cNvSpPr/>
                  <p:nvPr/>
                </p:nvSpPr>
                <p:spPr>
                  <a:xfrm flipH="1">
                    <a:off x="3163320" y="1416600"/>
                    <a:ext cx="11880" cy="31320"/>
                  </a:xfrm>
                  <a:custGeom>
                    <a:avLst/>
                    <a:gdLst/>
                    <a:ahLst/>
                    <a:rect l="l" t="t" r="r" b="b"/>
                    <a:pathLst>
                      <a:path w="32" h="79">
                        <a:moveTo>
                          <a:pt x="29" y="7"/>
                        </a:moveTo>
                        <a:lnTo>
                          <a:pt x="32" y="26"/>
                        </a:lnTo>
                        <a:lnTo>
                          <a:pt x="30" y="45"/>
                        </a:lnTo>
                        <a:lnTo>
                          <a:pt x="26" y="62"/>
                        </a:lnTo>
                        <a:lnTo>
                          <a:pt x="22" y="79"/>
                        </a:lnTo>
                        <a:lnTo>
                          <a:pt x="13" y="72"/>
                        </a:lnTo>
                        <a:lnTo>
                          <a:pt x="7" y="63"/>
                        </a:lnTo>
                        <a:lnTo>
                          <a:pt x="3" y="52"/>
                        </a:lnTo>
                        <a:lnTo>
                          <a:pt x="0" y="40"/>
                        </a:lnTo>
                        <a:lnTo>
                          <a:pt x="2" y="30"/>
                        </a:lnTo>
                        <a:lnTo>
                          <a:pt x="4" y="20"/>
                        </a:lnTo>
                        <a:lnTo>
                          <a:pt x="9" y="8"/>
                        </a:lnTo>
                        <a:lnTo>
                          <a:pt x="15" y="0"/>
                        </a:lnTo>
                        <a:lnTo>
                          <a:pt x="19" y="0"/>
                        </a:lnTo>
                        <a:lnTo>
                          <a:pt x="23" y="1"/>
                        </a:lnTo>
                        <a:lnTo>
                          <a:pt x="26" y="6"/>
                        </a:lnTo>
                        <a:lnTo>
                          <a:pt x="29" y="7"/>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33" name=""/>
                  <p:cNvSpPr/>
                  <p:nvPr/>
                </p:nvSpPr>
                <p:spPr>
                  <a:xfrm flipH="1">
                    <a:off x="3069720" y="1402920"/>
                    <a:ext cx="53280" cy="124560"/>
                  </a:xfrm>
                  <a:custGeom>
                    <a:avLst/>
                    <a:gdLst/>
                    <a:ahLst/>
                    <a:rect l="l" t="t" r="r" b="b"/>
                    <a:pathLst>
                      <a:path w="141" h="312">
                        <a:moveTo>
                          <a:pt x="125" y="188"/>
                        </a:moveTo>
                        <a:lnTo>
                          <a:pt x="112" y="205"/>
                        </a:lnTo>
                        <a:lnTo>
                          <a:pt x="98" y="223"/>
                        </a:lnTo>
                        <a:lnTo>
                          <a:pt x="83" y="239"/>
                        </a:lnTo>
                        <a:lnTo>
                          <a:pt x="68" y="253"/>
                        </a:lnTo>
                        <a:lnTo>
                          <a:pt x="50" y="269"/>
                        </a:lnTo>
                        <a:lnTo>
                          <a:pt x="33" y="283"/>
                        </a:lnTo>
                        <a:lnTo>
                          <a:pt x="17" y="298"/>
                        </a:lnTo>
                        <a:lnTo>
                          <a:pt x="0" y="312"/>
                        </a:lnTo>
                        <a:lnTo>
                          <a:pt x="14" y="292"/>
                        </a:lnTo>
                        <a:lnTo>
                          <a:pt x="31" y="272"/>
                        </a:lnTo>
                        <a:lnTo>
                          <a:pt x="49" y="250"/>
                        </a:lnTo>
                        <a:lnTo>
                          <a:pt x="65" y="228"/>
                        </a:lnTo>
                        <a:lnTo>
                          <a:pt x="81" y="205"/>
                        </a:lnTo>
                        <a:lnTo>
                          <a:pt x="92" y="181"/>
                        </a:lnTo>
                        <a:lnTo>
                          <a:pt x="101" y="155"/>
                        </a:lnTo>
                        <a:lnTo>
                          <a:pt x="105" y="127"/>
                        </a:lnTo>
                        <a:lnTo>
                          <a:pt x="109" y="94"/>
                        </a:lnTo>
                        <a:lnTo>
                          <a:pt x="115" y="61"/>
                        </a:lnTo>
                        <a:lnTo>
                          <a:pt x="125" y="30"/>
                        </a:lnTo>
                        <a:lnTo>
                          <a:pt x="141" y="0"/>
                        </a:lnTo>
                        <a:lnTo>
                          <a:pt x="138" y="46"/>
                        </a:lnTo>
                        <a:lnTo>
                          <a:pt x="138" y="94"/>
                        </a:lnTo>
                        <a:lnTo>
                          <a:pt x="137" y="142"/>
                        </a:lnTo>
                        <a:lnTo>
                          <a:pt x="125"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flipH="1">
                    <a:off x="3541320" y="1651680"/>
                    <a:ext cx="25920" cy="62280"/>
                  </a:xfrm>
                  <a:custGeom>
                    <a:avLst/>
                    <a:gdLst/>
                    <a:ahLst/>
                    <a:rect l="l" t="t" r="r" b="b"/>
                    <a:pathLst>
                      <a:path w="69" h="156">
                        <a:moveTo>
                          <a:pt x="69" y="42"/>
                        </a:moveTo>
                        <a:lnTo>
                          <a:pt x="65" y="58"/>
                        </a:lnTo>
                        <a:lnTo>
                          <a:pt x="59" y="74"/>
                        </a:lnTo>
                        <a:lnTo>
                          <a:pt x="52" y="90"/>
                        </a:lnTo>
                        <a:lnTo>
                          <a:pt x="43" y="103"/>
                        </a:lnTo>
                        <a:lnTo>
                          <a:pt x="33" y="117"/>
                        </a:lnTo>
                        <a:lnTo>
                          <a:pt x="23" y="130"/>
                        </a:lnTo>
                        <a:lnTo>
                          <a:pt x="11" y="143"/>
                        </a:lnTo>
                        <a:lnTo>
                          <a:pt x="0" y="156"/>
                        </a:lnTo>
                        <a:lnTo>
                          <a:pt x="7" y="139"/>
                        </a:lnTo>
                        <a:lnTo>
                          <a:pt x="16" y="122"/>
                        </a:lnTo>
                        <a:lnTo>
                          <a:pt x="26" y="104"/>
                        </a:lnTo>
                        <a:lnTo>
                          <a:pt x="36" y="85"/>
                        </a:lnTo>
                        <a:lnTo>
                          <a:pt x="43" y="68"/>
                        </a:lnTo>
                        <a:lnTo>
                          <a:pt x="49" y="48"/>
                        </a:lnTo>
                        <a:lnTo>
                          <a:pt x="52" y="29"/>
                        </a:lnTo>
                        <a:lnTo>
                          <a:pt x="49" y="9"/>
                        </a:lnTo>
                        <a:lnTo>
                          <a:pt x="49" y="0"/>
                        </a:lnTo>
                        <a:lnTo>
                          <a:pt x="58" y="7"/>
                        </a:lnTo>
                        <a:lnTo>
                          <a:pt x="63" y="18"/>
                        </a:lnTo>
                        <a:lnTo>
                          <a:pt x="68" y="31"/>
                        </a:lnTo>
                        <a:lnTo>
                          <a:pt x="69" y="42"/>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35" name=""/>
                  <p:cNvSpPr/>
                  <p:nvPr/>
                </p:nvSpPr>
                <p:spPr>
                  <a:xfrm flipH="1">
                    <a:off x="3168360" y="1569960"/>
                    <a:ext cx="15840" cy="23400"/>
                  </a:xfrm>
                  <a:custGeom>
                    <a:avLst/>
                    <a:gdLst/>
                    <a:ahLst/>
                    <a:rect l="l" t="t" r="r" b="b"/>
                    <a:pathLst>
                      <a:path w="42" h="59">
                        <a:moveTo>
                          <a:pt x="36" y="26"/>
                        </a:moveTo>
                        <a:lnTo>
                          <a:pt x="38" y="35"/>
                        </a:lnTo>
                        <a:lnTo>
                          <a:pt x="39" y="42"/>
                        </a:lnTo>
                        <a:lnTo>
                          <a:pt x="40" y="50"/>
                        </a:lnTo>
                        <a:lnTo>
                          <a:pt x="42" y="59"/>
                        </a:lnTo>
                        <a:lnTo>
                          <a:pt x="30" y="59"/>
                        </a:lnTo>
                        <a:lnTo>
                          <a:pt x="20" y="55"/>
                        </a:lnTo>
                        <a:lnTo>
                          <a:pt x="12" y="49"/>
                        </a:lnTo>
                        <a:lnTo>
                          <a:pt x="4" y="40"/>
                        </a:lnTo>
                        <a:lnTo>
                          <a:pt x="1" y="29"/>
                        </a:lnTo>
                        <a:lnTo>
                          <a:pt x="0" y="19"/>
                        </a:lnTo>
                        <a:lnTo>
                          <a:pt x="0" y="10"/>
                        </a:lnTo>
                        <a:lnTo>
                          <a:pt x="1" y="0"/>
                        </a:lnTo>
                        <a:lnTo>
                          <a:pt x="12" y="1"/>
                        </a:lnTo>
                        <a:lnTo>
                          <a:pt x="22" y="7"/>
                        </a:lnTo>
                        <a:lnTo>
                          <a:pt x="29" y="16"/>
                        </a:lnTo>
                        <a:lnTo>
                          <a:pt x="36" y="26"/>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636" name=""/>
                  <p:cNvSpPr/>
                  <p:nvPr/>
                </p:nvSpPr>
                <p:spPr>
                  <a:xfrm flipH="1">
                    <a:off x="3184560" y="1616400"/>
                    <a:ext cx="295920" cy="124560"/>
                  </a:xfrm>
                  <a:custGeom>
                    <a:avLst/>
                    <a:gdLst/>
                    <a:ahLst/>
                    <a:rect l="l" t="t" r="r" b="b"/>
                    <a:pathLst>
                      <a:path w="779" h="312">
                        <a:moveTo>
                          <a:pt x="198" y="141"/>
                        </a:moveTo>
                        <a:lnTo>
                          <a:pt x="219" y="137"/>
                        </a:lnTo>
                        <a:lnTo>
                          <a:pt x="239" y="133"/>
                        </a:lnTo>
                        <a:lnTo>
                          <a:pt x="259" y="130"/>
                        </a:lnTo>
                        <a:lnTo>
                          <a:pt x="279" y="127"/>
                        </a:lnTo>
                        <a:lnTo>
                          <a:pt x="298" y="125"/>
                        </a:lnTo>
                        <a:lnTo>
                          <a:pt x="319" y="124"/>
                        </a:lnTo>
                        <a:lnTo>
                          <a:pt x="339" y="122"/>
                        </a:lnTo>
                        <a:lnTo>
                          <a:pt x="358" y="122"/>
                        </a:lnTo>
                        <a:lnTo>
                          <a:pt x="378" y="122"/>
                        </a:lnTo>
                        <a:lnTo>
                          <a:pt x="397" y="122"/>
                        </a:lnTo>
                        <a:lnTo>
                          <a:pt x="417" y="122"/>
                        </a:lnTo>
                        <a:lnTo>
                          <a:pt x="436" y="124"/>
                        </a:lnTo>
                        <a:lnTo>
                          <a:pt x="456" y="125"/>
                        </a:lnTo>
                        <a:lnTo>
                          <a:pt x="475" y="127"/>
                        </a:lnTo>
                        <a:lnTo>
                          <a:pt x="495" y="128"/>
                        </a:lnTo>
                        <a:lnTo>
                          <a:pt x="514" y="130"/>
                        </a:lnTo>
                        <a:lnTo>
                          <a:pt x="528" y="130"/>
                        </a:lnTo>
                        <a:lnTo>
                          <a:pt x="541" y="128"/>
                        </a:lnTo>
                        <a:lnTo>
                          <a:pt x="556" y="125"/>
                        </a:lnTo>
                        <a:lnTo>
                          <a:pt x="570" y="121"/>
                        </a:lnTo>
                        <a:lnTo>
                          <a:pt x="585" y="117"/>
                        </a:lnTo>
                        <a:lnTo>
                          <a:pt x="599" y="111"/>
                        </a:lnTo>
                        <a:lnTo>
                          <a:pt x="614" y="105"/>
                        </a:lnTo>
                        <a:lnTo>
                          <a:pt x="628" y="99"/>
                        </a:lnTo>
                        <a:lnTo>
                          <a:pt x="632" y="95"/>
                        </a:lnTo>
                        <a:lnTo>
                          <a:pt x="638" y="92"/>
                        </a:lnTo>
                        <a:lnTo>
                          <a:pt x="644" y="88"/>
                        </a:lnTo>
                        <a:lnTo>
                          <a:pt x="651" y="85"/>
                        </a:lnTo>
                        <a:lnTo>
                          <a:pt x="664" y="73"/>
                        </a:lnTo>
                        <a:lnTo>
                          <a:pt x="677" y="63"/>
                        </a:lnTo>
                        <a:lnTo>
                          <a:pt x="690" y="52"/>
                        </a:lnTo>
                        <a:lnTo>
                          <a:pt x="703" y="41"/>
                        </a:lnTo>
                        <a:lnTo>
                          <a:pt x="718" y="31"/>
                        </a:lnTo>
                        <a:lnTo>
                          <a:pt x="731" y="21"/>
                        </a:lnTo>
                        <a:lnTo>
                          <a:pt x="745" y="10"/>
                        </a:lnTo>
                        <a:lnTo>
                          <a:pt x="758" y="0"/>
                        </a:lnTo>
                        <a:lnTo>
                          <a:pt x="751" y="11"/>
                        </a:lnTo>
                        <a:lnTo>
                          <a:pt x="741" y="23"/>
                        </a:lnTo>
                        <a:lnTo>
                          <a:pt x="729" y="34"/>
                        </a:lnTo>
                        <a:lnTo>
                          <a:pt x="719" y="46"/>
                        </a:lnTo>
                        <a:lnTo>
                          <a:pt x="726" y="46"/>
                        </a:lnTo>
                        <a:lnTo>
                          <a:pt x="734" y="47"/>
                        </a:lnTo>
                        <a:lnTo>
                          <a:pt x="742" y="47"/>
                        </a:lnTo>
                        <a:lnTo>
                          <a:pt x="750" y="49"/>
                        </a:lnTo>
                        <a:lnTo>
                          <a:pt x="757" y="50"/>
                        </a:lnTo>
                        <a:lnTo>
                          <a:pt x="764" y="52"/>
                        </a:lnTo>
                        <a:lnTo>
                          <a:pt x="771" y="53"/>
                        </a:lnTo>
                        <a:lnTo>
                          <a:pt x="779" y="56"/>
                        </a:lnTo>
                        <a:lnTo>
                          <a:pt x="771" y="59"/>
                        </a:lnTo>
                        <a:lnTo>
                          <a:pt x="763" y="62"/>
                        </a:lnTo>
                        <a:lnTo>
                          <a:pt x="755" y="62"/>
                        </a:lnTo>
                        <a:lnTo>
                          <a:pt x="748" y="63"/>
                        </a:lnTo>
                        <a:lnTo>
                          <a:pt x="741" y="65"/>
                        </a:lnTo>
                        <a:lnTo>
                          <a:pt x="732" y="65"/>
                        </a:lnTo>
                        <a:lnTo>
                          <a:pt x="725" y="67"/>
                        </a:lnTo>
                        <a:lnTo>
                          <a:pt x="716" y="70"/>
                        </a:lnTo>
                        <a:lnTo>
                          <a:pt x="705" y="75"/>
                        </a:lnTo>
                        <a:lnTo>
                          <a:pt x="693" y="79"/>
                        </a:lnTo>
                        <a:lnTo>
                          <a:pt x="684" y="86"/>
                        </a:lnTo>
                        <a:lnTo>
                          <a:pt x="677" y="94"/>
                        </a:lnTo>
                        <a:lnTo>
                          <a:pt x="686" y="92"/>
                        </a:lnTo>
                        <a:lnTo>
                          <a:pt x="696" y="92"/>
                        </a:lnTo>
                        <a:lnTo>
                          <a:pt x="705" y="94"/>
                        </a:lnTo>
                        <a:lnTo>
                          <a:pt x="715" y="95"/>
                        </a:lnTo>
                        <a:lnTo>
                          <a:pt x="724" y="96"/>
                        </a:lnTo>
                        <a:lnTo>
                          <a:pt x="732" y="99"/>
                        </a:lnTo>
                        <a:lnTo>
                          <a:pt x="741" y="102"/>
                        </a:lnTo>
                        <a:lnTo>
                          <a:pt x="750" y="107"/>
                        </a:lnTo>
                        <a:lnTo>
                          <a:pt x="744" y="108"/>
                        </a:lnTo>
                        <a:lnTo>
                          <a:pt x="737" y="109"/>
                        </a:lnTo>
                        <a:lnTo>
                          <a:pt x="731" y="111"/>
                        </a:lnTo>
                        <a:lnTo>
                          <a:pt x="725" y="111"/>
                        </a:lnTo>
                        <a:lnTo>
                          <a:pt x="719" y="111"/>
                        </a:lnTo>
                        <a:lnTo>
                          <a:pt x="713" y="111"/>
                        </a:lnTo>
                        <a:lnTo>
                          <a:pt x="708" y="111"/>
                        </a:lnTo>
                        <a:lnTo>
                          <a:pt x="702" y="111"/>
                        </a:lnTo>
                        <a:lnTo>
                          <a:pt x="676" y="117"/>
                        </a:lnTo>
                        <a:lnTo>
                          <a:pt x="676" y="117"/>
                        </a:lnTo>
                        <a:lnTo>
                          <a:pt x="669" y="118"/>
                        </a:lnTo>
                        <a:lnTo>
                          <a:pt x="661" y="120"/>
                        </a:lnTo>
                        <a:lnTo>
                          <a:pt x="653" y="122"/>
                        </a:lnTo>
                        <a:lnTo>
                          <a:pt x="645" y="125"/>
                        </a:lnTo>
                        <a:lnTo>
                          <a:pt x="637" y="128"/>
                        </a:lnTo>
                        <a:lnTo>
                          <a:pt x="630" y="131"/>
                        </a:lnTo>
                        <a:lnTo>
                          <a:pt x="624" y="135"/>
                        </a:lnTo>
                        <a:lnTo>
                          <a:pt x="618" y="140"/>
                        </a:lnTo>
                        <a:lnTo>
                          <a:pt x="627" y="143"/>
                        </a:lnTo>
                        <a:lnTo>
                          <a:pt x="635" y="144"/>
                        </a:lnTo>
                        <a:lnTo>
                          <a:pt x="643" y="147"/>
                        </a:lnTo>
                        <a:lnTo>
                          <a:pt x="651" y="150"/>
                        </a:lnTo>
                        <a:lnTo>
                          <a:pt x="660" y="153"/>
                        </a:lnTo>
                        <a:lnTo>
                          <a:pt x="667" y="157"/>
                        </a:lnTo>
                        <a:lnTo>
                          <a:pt x="674" y="161"/>
                        </a:lnTo>
                        <a:lnTo>
                          <a:pt x="682" y="167"/>
                        </a:lnTo>
                        <a:lnTo>
                          <a:pt x="664" y="166"/>
                        </a:lnTo>
                        <a:lnTo>
                          <a:pt x="647" y="164"/>
                        </a:lnTo>
                        <a:lnTo>
                          <a:pt x="631" y="163"/>
                        </a:lnTo>
                        <a:lnTo>
                          <a:pt x="614" y="163"/>
                        </a:lnTo>
                        <a:lnTo>
                          <a:pt x="596" y="163"/>
                        </a:lnTo>
                        <a:lnTo>
                          <a:pt x="580" y="164"/>
                        </a:lnTo>
                        <a:lnTo>
                          <a:pt x="563" y="167"/>
                        </a:lnTo>
                        <a:lnTo>
                          <a:pt x="546" y="170"/>
                        </a:lnTo>
                        <a:lnTo>
                          <a:pt x="547" y="174"/>
                        </a:lnTo>
                        <a:lnTo>
                          <a:pt x="554" y="180"/>
                        </a:lnTo>
                        <a:lnTo>
                          <a:pt x="562" y="185"/>
                        </a:lnTo>
                        <a:lnTo>
                          <a:pt x="570" y="189"/>
                        </a:lnTo>
                        <a:lnTo>
                          <a:pt x="577" y="193"/>
                        </a:lnTo>
                        <a:lnTo>
                          <a:pt x="586" y="198"/>
                        </a:lnTo>
                        <a:lnTo>
                          <a:pt x="593" y="202"/>
                        </a:lnTo>
                        <a:lnTo>
                          <a:pt x="601" y="208"/>
                        </a:lnTo>
                        <a:lnTo>
                          <a:pt x="608" y="214"/>
                        </a:lnTo>
                        <a:lnTo>
                          <a:pt x="588" y="208"/>
                        </a:lnTo>
                        <a:lnTo>
                          <a:pt x="567" y="202"/>
                        </a:lnTo>
                        <a:lnTo>
                          <a:pt x="547" y="196"/>
                        </a:lnTo>
                        <a:lnTo>
                          <a:pt x="527" y="190"/>
                        </a:lnTo>
                        <a:lnTo>
                          <a:pt x="507" y="186"/>
                        </a:lnTo>
                        <a:lnTo>
                          <a:pt x="486" y="182"/>
                        </a:lnTo>
                        <a:lnTo>
                          <a:pt x="466" y="179"/>
                        </a:lnTo>
                        <a:lnTo>
                          <a:pt x="444" y="177"/>
                        </a:lnTo>
                        <a:lnTo>
                          <a:pt x="452" y="183"/>
                        </a:lnTo>
                        <a:lnTo>
                          <a:pt x="459" y="187"/>
                        </a:lnTo>
                        <a:lnTo>
                          <a:pt x="466" y="193"/>
                        </a:lnTo>
                        <a:lnTo>
                          <a:pt x="473" y="198"/>
                        </a:lnTo>
                        <a:lnTo>
                          <a:pt x="481" y="203"/>
                        </a:lnTo>
                        <a:lnTo>
                          <a:pt x="488" y="208"/>
                        </a:lnTo>
                        <a:lnTo>
                          <a:pt x="495" y="214"/>
                        </a:lnTo>
                        <a:lnTo>
                          <a:pt x="501" y="219"/>
                        </a:lnTo>
                        <a:lnTo>
                          <a:pt x="479" y="211"/>
                        </a:lnTo>
                        <a:lnTo>
                          <a:pt x="457" y="203"/>
                        </a:lnTo>
                        <a:lnTo>
                          <a:pt x="434" y="196"/>
                        </a:lnTo>
                        <a:lnTo>
                          <a:pt x="413" y="189"/>
                        </a:lnTo>
                        <a:lnTo>
                          <a:pt x="389" y="183"/>
                        </a:lnTo>
                        <a:lnTo>
                          <a:pt x="366" y="177"/>
                        </a:lnTo>
                        <a:lnTo>
                          <a:pt x="342" y="174"/>
                        </a:lnTo>
                        <a:lnTo>
                          <a:pt x="319" y="172"/>
                        </a:lnTo>
                        <a:lnTo>
                          <a:pt x="314" y="173"/>
                        </a:lnTo>
                        <a:lnTo>
                          <a:pt x="308" y="173"/>
                        </a:lnTo>
                        <a:lnTo>
                          <a:pt x="304" y="174"/>
                        </a:lnTo>
                        <a:lnTo>
                          <a:pt x="300" y="177"/>
                        </a:lnTo>
                        <a:lnTo>
                          <a:pt x="313" y="182"/>
                        </a:lnTo>
                        <a:lnTo>
                          <a:pt x="326" y="187"/>
                        </a:lnTo>
                        <a:lnTo>
                          <a:pt x="337" y="195"/>
                        </a:lnTo>
                        <a:lnTo>
                          <a:pt x="350" y="202"/>
                        </a:lnTo>
                        <a:lnTo>
                          <a:pt x="360" y="211"/>
                        </a:lnTo>
                        <a:lnTo>
                          <a:pt x="372" y="219"/>
                        </a:lnTo>
                        <a:lnTo>
                          <a:pt x="381" y="228"/>
                        </a:lnTo>
                        <a:lnTo>
                          <a:pt x="391" y="238"/>
                        </a:lnTo>
                        <a:lnTo>
                          <a:pt x="369" y="229"/>
                        </a:lnTo>
                        <a:lnTo>
                          <a:pt x="347" y="221"/>
                        </a:lnTo>
                        <a:lnTo>
                          <a:pt x="324" y="214"/>
                        </a:lnTo>
                        <a:lnTo>
                          <a:pt x="303" y="206"/>
                        </a:lnTo>
                        <a:lnTo>
                          <a:pt x="281" y="201"/>
                        </a:lnTo>
                        <a:lnTo>
                          <a:pt x="259" y="198"/>
                        </a:lnTo>
                        <a:lnTo>
                          <a:pt x="236" y="198"/>
                        </a:lnTo>
                        <a:lnTo>
                          <a:pt x="213" y="201"/>
                        </a:lnTo>
                        <a:lnTo>
                          <a:pt x="209" y="199"/>
                        </a:lnTo>
                        <a:lnTo>
                          <a:pt x="204" y="199"/>
                        </a:lnTo>
                        <a:lnTo>
                          <a:pt x="200" y="199"/>
                        </a:lnTo>
                        <a:lnTo>
                          <a:pt x="196" y="201"/>
                        </a:lnTo>
                        <a:lnTo>
                          <a:pt x="203" y="205"/>
                        </a:lnTo>
                        <a:lnTo>
                          <a:pt x="209" y="209"/>
                        </a:lnTo>
                        <a:lnTo>
                          <a:pt x="216" y="214"/>
                        </a:lnTo>
                        <a:lnTo>
                          <a:pt x="224" y="219"/>
                        </a:lnTo>
                        <a:lnTo>
                          <a:pt x="232" y="224"/>
                        </a:lnTo>
                        <a:lnTo>
                          <a:pt x="239" y="228"/>
                        </a:lnTo>
                        <a:lnTo>
                          <a:pt x="245" y="234"/>
                        </a:lnTo>
                        <a:lnTo>
                          <a:pt x="252" y="238"/>
                        </a:lnTo>
                        <a:lnTo>
                          <a:pt x="256" y="241"/>
                        </a:lnTo>
                        <a:lnTo>
                          <a:pt x="259" y="245"/>
                        </a:lnTo>
                        <a:lnTo>
                          <a:pt x="262" y="250"/>
                        </a:lnTo>
                        <a:lnTo>
                          <a:pt x="265" y="253"/>
                        </a:lnTo>
                        <a:lnTo>
                          <a:pt x="245" y="247"/>
                        </a:lnTo>
                        <a:lnTo>
                          <a:pt x="224" y="240"/>
                        </a:lnTo>
                        <a:lnTo>
                          <a:pt x="204" y="234"/>
                        </a:lnTo>
                        <a:lnTo>
                          <a:pt x="184" y="228"/>
                        </a:lnTo>
                        <a:lnTo>
                          <a:pt x="164" y="224"/>
                        </a:lnTo>
                        <a:lnTo>
                          <a:pt x="142" y="222"/>
                        </a:lnTo>
                        <a:lnTo>
                          <a:pt x="120" y="225"/>
                        </a:lnTo>
                        <a:lnTo>
                          <a:pt x="99" y="229"/>
                        </a:lnTo>
                        <a:lnTo>
                          <a:pt x="97" y="232"/>
                        </a:lnTo>
                        <a:lnTo>
                          <a:pt x="115" y="237"/>
                        </a:lnTo>
                        <a:lnTo>
                          <a:pt x="130" y="242"/>
                        </a:lnTo>
                        <a:lnTo>
                          <a:pt x="148" y="250"/>
                        </a:lnTo>
                        <a:lnTo>
                          <a:pt x="162" y="258"/>
                        </a:lnTo>
                        <a:lnTo>
                          <a:pt x="177" y="268"/>
                        </a:lnTo>
                        <a:lnTo>
                          <a:pt x="188" y="281"/>
                        </a:lnTo>
                        <a:lnTo>
                          <a:pt x="200" y="296"/>
                        </a:lnTo>
                        <a:lnTo>
                          <a:pt x="207" y="312"/>
                        </a:lnTo>
                        <a:lnTo>
                          <a:pt x="184" y="296"/>
                        </a:lnTo>
                        <a:lnTo>
                          <a:pt x="161" y="284"/>
                        </a:lnTo>
                        <a:lnTo>
                          <a:pt x="135" y="274"/>
                        </a:lnTo>
                        <a:lnTo>
                          <a:pt x="109" y="268"/>
                        </a:lnTo>
                        <a:lnTo>
                          <a:pt x="81" y="263"/>
                        </a:lnTo>
                        <a:lnTo>
                          <a:pt x="54" y="260"/>
                        </a:lnTo>
                        <a:lnTo>
                          <a:pt x="28" y="257"/>
                        </a:lnTo>
                        <a:lnTo>
                          <a:pt x="0" y="255"/>
                        </a:lnTo>
                        <a:lnTo>
                          <a:pt x="3" y="251"/>
                        </a:lnTo>
                        <a:lnTo>
                          <a:pt x="9" y="245"/>
                        </a:lnTo>
                        <a:lnTo>
                          <a:pt x="15" y="241"/>
                        </a:lnTo>
                        <a:lnTo>
                          <a:pt x="19" y="237"/>
                        </a:lnTo>
                        <a:lnTo>
                          <a:pt x="32" y="227"/>
                        </a:lnTo>
                        <a:lnTo>
                          <a:pt x="45" y="216"/>
                        </a:lnTo>
                        <a:lnTo>
                          <a:pt x="58" y="206"/>
                        </a:lnTo>
                        <a:lnTo>
                          <a:pt x="73" y="198"/>
                        </a:lnTo>
                        <a:lnTo>
                          <a:pt x="86" y="187"/>
                        </a:lnTo>
                        <a:lnTo>
                          <a:pt x="100" y="179"/>
                        </a:lnTo>
                        <a:lnTo>
                          <a:pt x="116" y="170"/>
                        </a:lnTo>
                        <a:lnTo>
                          <a:pt x="132" y="163"/>
                        </a:lnTo>
                        <a:lnTo>
                          <a:pt x="197" y="140"/>
                        </a:lnTo>
                        <a:lnTo>
                          <a:pt x="19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flipH="1">
                    <a:off x="3446280" y="1728000"/>
                    <a:ext cx="74160" cy="18000"/>
                  </a:xfrm>
                  <a:custGeom>
                    <a:avLst/>
                    <a:gdLst/>
                    <a:ahLst/>
                    <a:rect l="l" t="t" r="r" b="b"/>
                    <a:pathLst>
                      <a:path w="196" h="45">
                        <a:moveTo>
                          <a:pt x="191" y="35"/>
                        </a:moveTo>
                        <a:lnTo>
                          <a:pt x="192" y="38"/>
                        </a:lnTo>
                        <a:lnTo>
                          <a:pt x="194" y="39"/>
                        </a:lnTo>
                        <a:lnTo>
                          <a:pt x="195" y="42"/>
                        </a:lnTo>
                        <a:lnTo>
                          <a:pt x="196" y="45"/>
                        </a:lnTo>
                        <a:lnTo>
                          <a:pt x="191" y="42"/>
                        </a:lnTo>
                        <a:lnTo>
                          <a:pt x="185" y="41"/>
                        </a:lnTo>
                        <a:lnTo>
                          <a:pt x="179" y="38"/>
                        </a:lnTo>
                        <a:lnTo>
                          <a:pt x="173" y="36"/>
                        </a:lnTo>
                        <a:lnTo>
                          <a:pt x="167" y="35"/>
                        </a:lnTo>
                        <a:lnTo>
                          <a:pt x="162" y="35"/>
                        </a:lnTo>
                        <a:lnTo>
                          <a:pt x="156" y="35"/>
                        </a:lnTo>
                        <a:lnTo>
                          <a:pt x="150" y="35"/>
                        </a:lnTo>
                        <a:lnTo>
                          <a:pt x="143" y="35"/>
                        </a:lnTo>
                        <a:lnTo>
                          <a:pt x="137" y="35"/>
                        </a:lnTo>
                        <a:lnTo>
                          <a:pt x="130" y="35"/>
                        </a:lnTo>
                        <a:lnTo>
                          <a:pt x="124" y="36"/>
                        </a:lnTo>
                        <a:lnTo>
                          <a:pt x="117" y="36"/>
                        </a:lnTo>
                        <a:lnTo>
                          <a:pt x="110" y="38"/>
                        </a:lnTo>
                        <a:lnTo>
                          <a:pt x="102" y="41"/>
                        </a:lnTo>
                        <a:lnTo>
                          <a:pt x="95" y="42"/>
                        </a:lnTo>
                        <a:lnTo>
                          <a:pt x="91" y="42"/>
                        </a:lnTo>
                        <a:lnTo>
                          <a:pt x="85" y="42"/>
                        </a:lnTo>
                        <a:lnTo>
                          <a:pt x="81" y="42"/>
                        </a:lnTo>
                        <a:lnTo>
                          <a:pt x="75" y="43"/>
                        </a:lnTo>
                        <a:lnTo>
                          <a:pt x="65" y="43"/>
                        </a:lnTo>
                        <a:lnTo>
                          <a:pt x="56" y="42"/>
                        </a:lnTo>
                        <a:lnTo>
                          <a:pt x="46" y="41"/>
                        </a:lnTo>
                        <a:lnTo>
                          <a:pt x="37" y="39"/>
                        </a:lnTo>
                        <a:lnTo>
                          <a:pt x="27" y="38"/>
                        </a:lnTo>
                        <a:lnTo>
                          <a:pt x="18" y="35"/>
                        </a:lnTo>
                        <a:lnTo>
                          <a:pt x="8" y="33"/>
                        </a:lnTo>
                        <a:lnTo>
                          <a:pt x="0" y="32"/>
                        </a:lnTo>
                        <a:lnTo>
                          <a:pt x="14" y="20"/>
                        </a:lnTo>
                        <a:lnTo>
                          <a:pt x="31" y="12"/>
                        </a:lnTo>
                        <a:lnTo>
                          <a:pt x="50" y="6"/>
                        </a:lnTo>
                        <a:lnTo>
                          <a:pt x="69" y="1"/>
                        </a:lnTo>
                        <a:lnTo>
                          <a:pt x="88" y="0"/>
                        </a:lnTo>
                        <a:lnTo>
                          <a:pt x="107" y="0"/>
                        </a:lnTo>
                        <a:lnTo>
                          <a:pt x="126" y="3"/>
                        </a:lnTo>
                        <a:lnTo>
                          <a:pt x="143" y="9"/>
                        </a:lnTo>
                        <a:lnTo>
                          <a:pt x="152" y="13"/>
                        </a:lnTo>
                        <a:lnTo>
                          <a:pt x="160" y="17"/>
                        </a:lnTo>
                        <a:lnTo>
                          <a:pt x="169" y="23"/>
                        </a:lnTo>
                        <a:lnTo>
                          <a:pt x="179" y="26"/>
                        </a:lnTo>
                        <a:lnTo>
                          <a:pt x="191" y="35"/>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638" name=""/>
                  <p:cNvSpPr/>
                  <p:nvPr/>
                </p:nvSpPr>
                <p:spPr>
                  <a:xfrm flipH="1">
                    <a:off x="3490200" y="1752480"/>
                    <a:ext cx="64440" cy="16560"/>
                  </a:xfrm>
                  <a:custGeom>
                    <a:avLst/>
                    <a:gdLst/>
                    <a:ahLst/>
                    <a:rect l="l" t="t" r="r" b="b"/>
                    <a:pathLst>
                      <a:path w="170" h="42">
                        <a:moveTo>
                          <a:pt x="170" y="16"/>
                        </a:moveTo>
                        <a:lnTo>
                          <a:pt x="143" y="21"/>
                        </a:lnTo>
                        <a:lnTo>
                          <a:pt x="143" y="20"/>
                        </a:lnTo>
                        <a:lnTo>
                          <a:pt x="124" y="23"/>
                        </a:lnTo>
                        <a:lnTo>
                          <a:pt x="107" y="27"/>
                        </a:lnTo>
                        <a:lnTo>
                          <a:pt x="88" y="33"/>
                        </a:lnTo>
                        <a:lnTo>
                          <a:pt x="69" y="37"/>
                        </a:lnTo>
                        <a:lnTo>
                          <a:pt x="50" y="40"/>
                        </a:lnTo>
                        <a:lnTo>
                          <a:pt x="33" y="42"/>
                        </a:lnTo>
                        <a:lnTo>
                          <a:pt x="15" y="37"/>
                        </a:lnTo>
                        <a:lnTo>
                          <a:pt x="0" y="29"/>
                        </a:lnTo>
                        <a:lnTo>
                          <a:pt x="1" y="23"/>
                        </a:lnTo>
                        <a:lnTo>
                          <a:pt x="23" y="11"/>
                        </a:lnTo>
                        <a:lnTo>
                          <a:pt x="44" y="4"/>
                        </a:lnTo>
                        <a:lnTo>
                          <a:pt x="66" y="1"/>
                        </a:lnTo>
                        <a:lnTo>
                          <a:pt x="88" y="0"/>
                        </a:lnTo>
                        <a:lnTo>
                          <a:pt x="108" y="1"/>
                        </a:lnTo>
                        <a:lnTo>
                          <a:pt x="128" y="6"/>
                        </a:lnTo>
                        <a:lnTo>
                          <a:pt x="150" y="10"/>
                        </a:lnTo>
                        <a:lnTo>
                          <a:pt x="170" y="1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639" name=""/>
                  <p:cNvSpPr/>
                  <p:nvPr/>
                </p:nvSpPr>
                <p:spPr>
                  <a:xfrm flipH="1">
                    <a:off x="3121200" y="1603800"/>
                    <a:ext cx="23760" cy="70920"/>
                  </a:xfrm>
                  <a:custGeom>
                    <a:avLst/>
                    <a:gdLst/>
                    <a:ahLst/>
                    <a:rect l="l" t="t" r="r" b="b"/>
                    <a:pathLst>
                      <a:path w="63" h="178">
                        <a:moveTo>
                          <a:pt x="63" y="5"/>
                        </a:moveTo>
                        <a:lnTo>
                          <a:pt x="56" y="32"/>
                        </a:lnTo>
                        <a:lnTo>
                          <a:pt x="43" y="58"/>
                        </a:lnTo>
                        <a:lnTo>
                          <a:pt x="29" y="84"/>
                        </a:lnTo>
                        <a:lnTo>
                          <a:pt x="23" y="113"/>
                        </a:lnTo>
                        <a:lnTo>
                          <a:pt x="21" y="129"/>
                        </a:lnTo>
                        <a:lnTo>
                          <a:pt x="21" y="145"/>
                        </a:lnTo>
                        <a:lnTo>
                          <a:pt x="21" y="161"/>
                        </a:lnTo>
                        <a:lnTo>
                          <a:pt x="26" y="178"/>
                        </a:lnTo>
                        <a:lnTo>
                          <a:pt x="20" y="172"/>
                        </a:lnTo>
                        <a:lnTo>
                          <a:pt x="16" y="164"/>
                        </a:lnTo>
                        <a:lnTo>
                          <a:pt x="11" y="155"/>
                        </a:lnTo>
                        <a:lnTo>
                          <a:pt x="7" y="148"/>
                        </a:lnTo>
                        <a:lnTo>
                          <a:pt x="1" y="127"/>
                        </a:lnTo>
                        <a:lnTo>
                          <a:pt x="0" y="107"/>
                        </a:lnTo>
                        <a:lnTo>
                          <a:pt x="0" y="87"/>
                        </a:lnTo>
                        <a:lnTo>
                          <a:pt x="4" y="68"/>
                        </a:lnTo>
                        <a:lnTo>
                          <a:pt x="11" y="49"/>
                        </a:lnTo>
                        <a:lnTo>
                          <a:pt x="23" y="33"/>
                        </a:lnTo>
                        <a:lnTo>
                          <a:pt x="34" y="18"/>
                        </a:lnTo>
                        <a:lnTo>
                          <a:pt x="46" y="3"/>
                        </a:lnTo>
                        <a:lnTo>
                          <a:pt x="52" y="0"/>
                        </a:lnTo>
                        <a:lnTo>
                          <a:pt x="56" y="0"/>
                        </a:lnTo>
                        <a:lnTo>
                          <a:pt x="60" y="2"/>
                        </a:lnTo>
                        <a:lnTo>
                          <a:pt x="63" y="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640" name=""/>
                  <p:cNvSpPr/>
                  <p:nvPr/>
                </p:nvSpPr>
                <p:spPr>
                  <a:xfrm flipH="1">
                    <a:off x="3524040" y="1779840"/>
                    <a:ext cx="52920" cy="15480"/>
                  </a:xfrm>
                  <a:custGeom>
                    <a:avLst/>
                    <a:gdLst/>
                    <a:ahLst/>
                    <a:rect l="l" t="t" r="r" b="b"/>
                    <a:pathLst>
                      <a:path w="140" h="39">
                        <a:moveTo>
                          <a:pt x="52" y="1"/>
                        </a:moveTo>
                        <a:lnTo>
                          <a:pt x="56" y="1"/>
                        </a:lnTo>
                        <a:lnTo>
                          <a:pt x="62" y="1"/>
                        </a:lnTo>
                        <a:lnTo>
                          <a:pt x="66" y="0"/>
                        </a:lnTo>
                        <a:lnTo>
                          <a:pt x="71" y="0"/>
                        </a:lnTo>
                        <a:lnTo>
                          <a:pt x="79" y="1"/>
                        </a:lnTo>
                        <a:lnTo>
                          <a:pt x="88" y="4"/>
                        </a:lnTo>
                        <a:lnTo>
                          <a:pt x="97" y="5"/>
                        </a:lnTo>
                        <a:lnTo>
                          <a:pt x="105" y="5"/>
                        </a:lnTo>
                        <a:lnTo>
                          <a:pt x="114" y="7"/>
                        </a:lnTo>
                        <a:lnTo>
                          <a:pt x="123" y="8"/>
                        </a:lnTo>
                        <a:lnTo>
                          <a:pt x="131" y="11"/>
                        </a:lnTo>
                        <a:lnTo>
                          <a:pt x="140" y="13"/>
                        </a:lnTo>
                        <a:lnTo>
                          <a:pt x="139" y="16"/>
                        </a:lnTo>
                        <a:lnTo>
                          <a:pt x="131" y="18"/>
                        </a:lnTo>
                        <a:lnTo>
                          <a:pt x="126" y="21"/>
                        </a:lnTo>
                        <a:lnTo>
                          <a:pt x="118" y="24"/>
                        </a:lnTo>
                        <a:lnTo>
                          <a:pt x="111" y="27"/>
                        </a:lnTo>
                        <a:lnTo>
                          <a:pt x="104" y="30"/>
                        </a:lnTo>
                        <a:lnTo>
                          <a:pt x="97" y="32"/>
                        </a:lnTo>
                        <a:lnTo>
                          <a:pt x="89" y="34"/>
                        </a:lnTo>
                        <a:lnTo>
                          <a:pt x="82" y="36"/>
                        </a:lnTo>
                        <a:lnTo>
                          <a:pt x="82" y="34"/>
                        </a:lnTo>
                        <a:lnTo>
                          <a:pt x="72" y="36"/>
                        </a:lnTo>
                        <a:lnTo>
                          <a:pt x="60" y="37"/>
                        </a:lnTo>
                        <a:lnTo>
                          <a:pt x="50" y="39"/>
                        </a:lnTo>
                        <a:lnTo>
                          <a:pt x="39" y="39"/>
                        </a:lnTo>
                        <a:lnTo>
                          <a:pt x="29" y="39"/>
                        </a:lnTo>
                        <a:lnTo>
                          <a:pt x="18" y="37"/>
                        </a:lnTo>
                        <a:lnTo>
                          <a:pt x="8" y="33"/>
                        </a:lnTo>
                        <a:lnTo>
                          <a:pt x="0" y="26"/>
                        </a:lnTo>
                        <a:lnTo>
                          <a:pt x="4" y="20"/>
                        </a:lnTo>
                        <a:lnTo>
                          <a:pt x="10" y="16"/>
                        </a:lnTo>
                        <a:lnTo>
                          <a:pt x="16" y="13"/>
                        </a:lnTo>
                        <a:lnTo>
                          <a:pt x="23" y="10"/>
                        </a:lnTo>
                        <a:lnTo>
                          <a:pt x="30" y="7"/>
                        </a:lnTo>
                        <a:lnTo>
                          <a:pt x="37" y="5"/>
                        </a:lnTo>
                        <a:lnTo>
                          <a:pt x="45" y="3"/>
                        </a:lnTo>
                        <a:lnTo>
                          <a:pt x="52" y="1"/>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641" name=""/>
                  <p:cNvSpPr/>
                  <p:nvPr/>
                </p:nvSpPr>
                <p:spPr>
                  <a:xfrm flipH="1">
                    <a:off x="3558240" y="1809720"/>
                    <a:ext cx="45000" cy="14400"/>
                  </a:xfrm>
                  <a:custGeom>
                    <a:avLst/>
                    <a:gdLst/>
                    <a:ahLst/>
                    <a:rect l="l" t="t" r="r" b="b"/>
                    <a:pathLst>
                      <a:path w="119" h="36">
                        <a:moveTo>
                          <a:pt x="60" y="0"/>
                        </a:moveTo>
                        <a:lnTo>
                          <a:pt x="64" y="1"/>
                        </a:lnTo>
                        <a:lnTo>
                          <a:pt x="70" y="0"/>
                        </a:lnTo>
                        <a:lnTo>
                          <a:pt x="74" y="0"/>
                        </a:lnTo>
                        <a:lnTo>
                          <a:pt x="78" y="0"/>
                        </a:lnTo>
                        <a:lnTo>
                          <a:pt x="88" y="1"/>
                        </a:lnTo>
                        <a:lnTo>
                          <a:pt x="100" y="3"/>
                        </a:lnTo>
                        <a:lnTo>
                          <a:pt x="110" y="6"/>
                        </a:lnTo>
                        <a:lnTo>
                          <a:pt x="119" y="13"/>
                        </a:lnTo>
                        <a:lnTo>
                          <a:pt x="113" y="19"/>
                        </a:lnTo>
                        <a:lnTo>
                          <a:pt x="106" y="23"/>
                        </a:lnTo>
                        <a:lnTo>
                          <a:pt x="97" y="26"/>
                        </a:lnTo>
                        <a:lnTo>
                          <a:pt x="90" y="29"/>
                        </a:lnTo>
                        <a:lnTo>
                          <a:pt x="81" y="30"/>
                        </a:lnTo>
                        <a:lnTo>
                          <a:pt x="73" y="32"/>
                        </a:lnTo>
                        <a:lnTo>
                          <a:pt x="64" y="33"/>
                        </a:lnTo>
                        <a:lnTo>
                          <a:pt x="55" y="36"/>
                        </a:lnTo>
                        <a:lnTo>
                          <a:pt x="48" y="36"/>
                        </a:lnTo>
                        <a:lnTo>
                          <a:pt x="41" y="36"/>
                        </a:lnTo>
                        <a:lnTo>
                          <a:pt x="35" y="36"/>
                        </a:lnTo>
                        <a:lnTo>
                          <a:pt x="28" y="36"/>
                        </a:lnTo>
                        <a:lnTo>
                          <a:pt x="20" y="36"/>
                        </a:lnTo>
                        <a:lnTo>
                          <a:pt x="15" y="35"/>
                        </a:lnTo>
                        <a:lnTo>
                          <a:pt x="7" y="33"/>
                        </a:lnTo>
                        <a:lnTo>
                          <a:pt x="0" y="32"/>
                        </a:lnTo>
                        <a:lnTo>
                          <a:pt x="5" y="26"/>
                        </a:lnTo>
                        <a:lnTo>
                          <a:pt x="10" y="20"/>
                        </a:lnTo>
                        <a:lnTo>
                          <a:pt x="18" y="16"/>
                        </a:lnTo>
                        <a:lnTo>
                          <a:pt x="26" y="11"/>
                        </a:lnTo>
                        <a:lnTo>
                          <a:pt x="35" y="9"/>
                        </a:lnTo>
                        <a:lnTo>
                          <a:pt x="44" y="6"/>
                        </a:lnTo>
                        <a:lnTo>
                          <a:pt x="52" y="3"/>
                        </a:lnTo>
                        <a:lnTo>
                          <a:pt x="6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42" name=""/>
                  <p:cNvSpPr/>
                  <p:nvPr/>
                </p:nvSpPr>
                <p:spPr>
                  <a:xfrm flipH="1">
                    <a:off x="3577320" y="1838520"/>
                    <a:ext cx="41760" cy="12960"/>
                  </a:xfrm>
                  <a:custGeom>
                    <a:avLst/>
                    <a:gdLst/>
                    <a:ahLst/>
                    <a:rect l="l" t="t" r="r" b="b"/>
                    <a:pathLst>
                      <a:path w="110" h="33">
                        <a:moveTo>
                          <a:pt x="43" y="3"/>
                        </a:moveTo>
                        <a:lnTo>
                          <a:pt x="52" y="0"/>
                        </a:lnTo>
                        <a:lnTo>
                          <a:pt x="60" y="0"/>
                        </a:lnTo>
                        <a:lnTo>
                          <a:pt x="69" y="0"/>
                        </a:lnTo>
                        <a:lnTo>
                          <a:pt x="78" y="0"/>
                        </a:lnTo>
                        <a:lnTo>
                          <a:pt x="85" y="2"/>
                        </a:lnTo>
                        <a:lnTo>
                          <a:pt x="92" y="3"/>
                        </a:lnTo>
                        <a:lnTo>
                          <a:pt x="101" y="6"/>
                        </a:lnTo>
                        <a:lnTo>
                          <a:pt x="108" y="7"/>
                        </a:lnTo>
                        <a:lnTo>
                          <a:pt x="110" y="12"/>
                        </a:lnTo>
                        <a:lnTo>
                          <a:pt x="97" y="19"/>
                        </a:lnTo>
                        <a:lnTo>
                          <a:pt x="82" y="25"/>
                        </a:lnTo>
                        <a:lnTo>
                          <a:pt x="69" y="29"/>
                        </a:lnTo>
                        <a:lnTo>
                          <a:pt x="55" y="31"/>
                        </a:lnTo>
                        <a:lnTo>
                          <a:pt x="40" y="32"/>
                        </a:lnTo>
                        <a:lnTo>
                          <a:pt x="27" y="33"/>
                        </a:lnTo>
                        <a:lnTo>
                          <a:pt x="13" y="33"/>
                        </a:lnTo>
                        <a:lnTo>
                          <a:pt x="0" y="32"/>
                        </a:lnTo>
                        <a:lnTo>
                          <a:pt x="4" y="29"/>
                        </a:lnTo>
                        <a:lnTo>
                          <a:pt x="8" y="23"/>
                        </a:lnTo>
                        <a:lnTo>
                          <a:pt x="13" y="18"/>
                        </a:lnTo>
                        <a:lnTo>
                          <a:pt x="19" y="12"/>
                        </a:lnTo>
                        <a:lnTo>
                          <a:pt x="24" y="10"/>
                        </a:lnTo>
                        <a:lnTo>
                          <a:pt x="30" y="6"/>
                        </a:lnTo>
                        <a:lnTo>
                          <a:pt x="36" y="3"/>
                        </a:lnTo>
                        <a:lnTo>
                          <a:pt x="42" y="2"/>
                        </a:lnTo>
                        <a:lnTo>
                          <a:pt x="43" y="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3" name=""/>
                  <p:cNvSpPr/>
                  <p:nvPr/>
                </p:nvSpPr>
                <p:spPr>
                  <a:xfrm flipH="1">
                    <a:off x="3405600" y="1777320"/>
                    <a:ext cx="24120" cy="10440"/>
                  </a:xfrm>
                  <a:custGeom>
                    <a:avLst/>
                    <a:gdLst/>
                    <a:ahLst/>
                    <a:rect l="l" t="t" r="r" b="b"/>
                    <a:pathLst>
                      <a:path w="64" h="27">
                        <a:moveTo>
                          <a:pt x="64" y="3"/>
                        </a:moveTo>
                        <a:lnTo>
                          <a:pt x="61" y="7"/>
                        </a:lnTo>
                        <a:lnTo>
                          <a:pt x="61" y="14"/>
                        </a:lnTo>
                        <a:lnTo>
                          <a:pt x="61" y="20"/>
                        </a:lnTo>
                        <a:lnTo>
                          <a:pt x="58" y="26"/>
                        </a:lnTo>
                        <a:lnTo>
                          <a:pt x="51" y="24"/>
                        </a:lnTo>
                        <a:lnTo>
                          <a:pt x="44" y="24"/>
                        </a:lnTo>
                        <a:lnTo>
                          <a:pt x="35" y="26"/>
                        </a:lnTo>
                        <a:lnTo>
                          <a:pt x="28" y="27"/>
                        </a:lnTo>
                        <a:lnTo>
                          <a:pt x="19" y="27"/>
                        </a:lnTo>
                        <a:lnTo>
                          <a:pt x="12" y="26"/>
                        </a:lnTo>
                        <a:lnTo>
                          <a:pt x="6" y="22"/>
                        </a:lnTo>
                        <a:lnTo>
                          <a:pt x="0" y="16"/>
                        </a:lnTo>
                        <a:lnTo>
                          <a:pt x="8" y="13"/>
                        </a:lnTo>
                        <a:lnTo>
                          <a:pt x="16" y="9"/>
                        </a:lnTo>
                        <a:lnTo>
                          <a:pt x="25" y="6"/>
                        </a:lnTo>
                        <a:lnTo>
                          <a:pt x="32" y="3"/>
                        </a:lnTo>
                        <a:lnTo>
                          <a:pt x="41" y="0"/>
                        </a:lnTo>
                        <a:lnTo>
                          <a:pt x="50" y="0"/>
                        </a:lnTo>
                        <a:lnTo>
                          <a:pt x="57" y="0"/>
                        </a:lnTo>
                        <a:lnTo>
                          <a:pt x="64" y="3"/>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644" name=""/>
                  <p:cNvSpPr/>
                  <p:nvPr/>
                </p:nvSpPr>
                <p:spPr>
                  <a:xfrm flipH="1">
                    <a:off x="3589200" y="1859400"/>
                    <a:ext cx="38160" cy="16200"/>
                  </a:xfrm>
                  <a:custGeom>
                    <a:avLst/>
                    <a:gdLst/>
                    <a:ahLst/>
                    <a:rect l="l" t="t" r="r" b="b"/>
                    <a:pathLst>
                      <a:path w="101" h="41">
                        <a:moveTo>
                          <a:pt x="72" y="2"/>
                        </a:moveTo>
                        <a:lnTo>
                          <a:pt x="81" y="0"/>
                        </a:lnTo>
                        <a:lnTo>
                          <a:pt x="88" y="2"/>
                        </a:lnTo>
                        <a:lnTo>
                          <a:pt x="94" y="3"/>
                        </a:lnTo>
                        <a:lnTo>
                          <a:pt x="101" y="6"/>
                        </a:lnTo>
                        <a:lnTo>
                          <a:pt x="101" y="13"/>
                        </a:lnTo>
                        <a:lnTo>
                          <a:pt x="91" y="19"/>
                        </a:lnTo>
                        <a:lnTo>
                          <a:pt x="81" y="23"/>
                        </a:lnTo>
                        <a:lnTo>
                          <a:pt x="69" y="28"/>
                        </a:lnTo>
                        <a:lnTo>
                          <a:pt x="58" y="32"/>
                        </a:lnTo>
                        <a:lnTo>
                          <a:pt x="46" y="35"/>
                        </a:lnTo>
                        <a:lnTo>
                          <a:pt x="35" y="38"/>
                        </a:lnTo>
                        <a:lnTo>
                          <a:pt x="25" y="39"/>
                        </a:lnTo>
                        <a:lnTo>
                          <a:pt x="13" y="41"/>
                        </a:lnTo>
                        <a:lnTo>
                          <a:pt x="0" y="35"/>
                        </a:lnTo>
                        <a:lnTo>
                          <a:pt x="6" y="28"/>
                        </a:lnTo>
                        <a:lnTo>
                          <a:pt x="13" y="20"/>
                        </a:lnTo>
                        <a:lnTo>
                          <a:pt x="22" y="15"/>
                        </a:lnTo>
                        <a:lnTo>
                          <a:pt x="32" y="10"/>
                        </a:lnTo>
                        <a:lnTo>
                          <a:pt x="42" y="6"/>
                        </a:lnTo>
                        <a:lnTo>
                          <a:pt x="52" y="3"/>
                        </a:lnTo>
                        <a:lnTo>
                          <a:pt x="62" y="2"/>
                        </a:lnTo>
                        <a:lnTo>
                          <a:pt x="72" y="2"/>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45" name=""/>
                  <p:cNvSpPr/>
                  <p:nvPr/>
                </p:nvSpPr>
                <p:spPr>
                  <a:xfrm flipH="1">
                    <a:off x="3364560" y="1774440"/>
                    <a:ext cx="24840" cy="9360"/>
                  </a:xfrm>
                  <a:custGeom>
                    <a:avLst/>
                    <a:gdLst/>
                    <a:ahLst/>
                    <a:rect l="l" t="t" r="r" b="b"/>
                    <a:pathLst>
                      <a:path w="66" h="24">
                        <a:moveTo>
                          <a:pt x="62" y="0"/>
                        </a:moveTo>
                        <a:lnTo>
                          <a:pt x="66" y="5"/>
                        </a:lnTo>
                        <a:lnTo>
                          <a:pt x="64" y="10"/>
                        </a:lnTo>
                        <a:lnTo>
                          <a:pt x="59" y="14"/>
                        </a:lnTo>
                        <a:lnTo>
                          <a:pt x="56" y="18"/>
                        </a:lnTo>
                        <a:lnTo>
                          <a:pt x="49" y="23"/>
                        </a:lnTo>
                        <a:lnTo>
                          <a:pt x="42" y="24"/>
                        </a:lnTo>
                        <a:lnTo>
                          <a:pt x="35" y="24"/>
                        </a:lnTo>
                        <a:lnTo>
                          <a:pt x="27" y="23"/>
                        </a:lnTo>
                        <a:lnTo>
                          <a:pt x="22" y="23"/>
                        </a:lnTo>
                        <a:lnTo>
                          <a:pt x="14" y="21"/>
                        </a:lnTo>
                        <a:lnTo>
                          <a:pt x="9" y="20"/>
                        </a:lnTo>
                        <a:lnTo>
                          <a:pt x="1" y="20"/>
                        </a:lnTo>
                        <a:lnTo>
                          <a:pt x="0" y="17"/>
                        </a:lnTo>
                        <a:lnTo>
                          <a:pt x="1" y="16"/>
                        </a:lnTo>
                        <a:lnTo>
                          <a:pt x="3" y="14"/>
                        </a:lnTo>
                        <a:lnTo>
                          <a:pt x="4" y="13"/>
                        </a:lnTo>
                        <a:lnTo>
                          <a:pt x="12" y="10"/>
                        </a:lnTo>
                        <a:lnTo>
                          <a:pt x="19" y="7"/>
                        </a:lnTo>
                        <a:lnTo>
                          <a:pt x="26" y="4"/>
                        </a:lnTo>
                        <a:lnTo>
                          <a:pt x="33" y="3"/>
                        </a:lnTo>
                        <a:lnTo>
                          <a:pt x="40" y="1"/>
                        </a:lnTo>
                        <a:lnTo>
                          <a:pt x="48" y="0"/>
                        </a:lnTo>
                        <a:lnTo>
                          <a:pt x="55" y="0"/>
                        </a:lnTo>
                        <a:lnTo>
                          <a:pt x="62"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6" name=""/>
                  <p:cNvSpPr/>
                  <p:nvPr/>
                </p:nvSpPr>
                <p:spPr>
                  <a:xfrm flipH="1">
                    <a:off x="3166920" y="1694160"/>
                    <a:ext cx="171000" cy="85320"/>
                  </a:xfrm>
                  <a:custGeom>
                    <a:avLst/>
                    <a:gdLst/>
                    <a:ahLst/>
                    <a:rect l="l" t="t" r="r" b="b"/>
                    <a:pathLst>
                      <a:path w="450" h="214">
                        <a:moveTo>
                          <a:pt x="450" y="0"/>
                        </a:moveTo>
                        <a:lnTo>
                          <a:pt x="438" y="24"/>
                        </a:lnTo>
                        <a:lnTo>
                          <a:pt x="425" y="47"/>
                        </a:lnTo>
                        <a:lnTo>
                          <a:pt x="411" y="69"/>
                        </a:lnTo>
                        <a:lnTo>
                          <a:pt x="395" y="89"/>
                        </a:lnTo>
                        <a:lnTo>
                          <a:pt x="377" y="110"/>
                        </a:lnTo>
                        <a:lnTo>
                          <a:pt x="360" y="128"/>
                        </a:lnTo>
                        <a:lnTo>
                          <a:pt x="343" y="147"/>
                        </a:lnTo>
                        <a:lnTo>
                          <a:pt x="325" y="166"/>
                        </a:lnTo>
                        <a:lnTo>
                          <a:pt x="317" y="173"/>
                        </a:lnTo>
                        <a:lnTo>
                          <a:pt x="305" y="180"/>
                        </a:lnTo>
                        <a:lnTo>
                          <a:pt x="295" y="186"/>
                        </a:lnTo>
                        <a:lnTo>
                          <a:pt x="282" y="191"/>
                        </a:lnTo>
                        <a:lnTo>
                          <a:pt x="270" y="195"/>
                        </a:lnTo>
                        <a:lnTo>
                          <a:pt x="257" y="199"/>
                        </a:lnTo>
                        <a:lnTo>
                          <a:pt x="244" y="202"/>
                        </a:lnTo>
                        <a:lnTo>
                          <a:pt x="233" y="205"/>
                        </a:lnTo>
                        <a:lnTo>
                          <a:pt x="228" y="205"/>
                        </a:lnTo>
                        <a:lnTo>
                          <a:pt x="224" y="205"/>
                        </a:lnTo>
                        <a:lnTo>
                          <a:pt x="220" y="205"/>
                        </a:lnTo>
                        <a:lnTo>
                          <a:pt x="215" y="205"/>
                        </a:lnTo>
                        <a:lnTo>
                          <a:pt x="191" y="204"/>
                        </a:lnTo>
                        <a:lnTo>
                          <a:pt x="168" y="204"/>
                        </a:lnTo>
                        <a:lnTo>
                          <a:pt x="143" y="205"/>
                        </a:lnTo>
                        <a:lnTo>
                          <a:pt x="119" y="206"/>
                        </a:lnTo>
                        <a:lnTo>
                          <a:pt x="95" y="209"/>
                        </a:lnTo>
                        <a:lnTo>
                          <a:pt x="71" y="212"/>
                        </a:lnTo>
                        <a:lnTo>
                          <a:pt x="46" y="214"/>
                        </a:lnTo>
                        <a:lnTo>
                          <a:pt x="22" y="214"/>
                        </a:lnTo>
                        <a:lnTo>
                          <a:pt x="16" y="212"/>
                        </a:lnTo>
                        <a:lnTo>
                          <a:pt x="12" y="212"/>
                        </a:lnTo>
                        <a:lnTo>
                          <a:pt x="6" y="211"/>
                        </a:lnTo>
                        <a:lnTo>
                          <a:pt x="0" y="209"/>
                        </a:lnTo>
                        <a:lnTo>
                          <a:pt x="23" y="205"/>
                        </a:lnTo>
                        <a:lnTo>
                          <a:pt x="25" y="206"/>
                        </a:lnTo>
                        <a:lnTo>
                          <a:pt x="36" y="205"/>
                        </a:lnTo>
                        <a:lnTo>
                          <a:pt x="46" y="204"/>
                        </a:lnTo>
                        <a:lnTo>
                          <a:pt x="58" y="201"/>
                        </a:lnTo>
                        <a:lnTo>
                          <a:pt x="69" y="199"/>
                        </a:lnTo>
                        <a:lnTo>
                          <a:pt x="81" y="198"/>
                        </a:lnTo>
                        <a:lnTo>
                          <a:pt x="93" y="195"/>
                        </a:lnTo>
                        <a:lnTo>
                          <a:pt x="104" y="192"/>
                        </a:lnTo>
                        <a:lnTo>
                          <a:pt x="116" y="189"/>
                        </a:lnTo>
                        <a:lnTo>
                          <a:pt x="116" y="191"/>
                        </a:lnTo>
                        <a:lnTo>
                          <a:pt x="124" y="189"/>
                        </a:lnTo>
                        <a:lnTo>
                          <a:pt x="133" y="188"/>
                        </a:lnTo>
                        <a:lnTo>
                          <a:pt x="142" y="186"/>
                        </a:lnTo>
                        <a:lnTo>
                          <a:pt x="152" y="185"/>
                        </a:lnTo>
                        <a:lnTo>
                          <a:pt x="160" y="183"/>
                        </a:lnTo>
                        <a:lnTo>
                          <a:pt x="169" y="182"/>
                        </a:lnTo>
                        <a:lnTo>
                          <a:pt x="178" y="179"/>
                        </a:lnTo>
                        <a:lnTo>
                          <a:pt x="187" y="176"/>
                        </a:lnTo>
                        <a:lnTo>
                          <a:pt x="188" y="178"/>
                        </a:lnTo>
                        <a:lnTo>
                          <a:pt x="211" y="175"/>
                        </a:lnTo>
                        <a:lnTo>
                          <a:pt x="234" y="169"/>
                        </a:lnTo>
                        <a:lnTo>
                          <a:pt x="256" y="162"/>
                        </a:lnTo>
                        <a:lnTo>
                          <a:pt x="278" y="152"/>
                        </a:lnTo>
                        <a:lnTo>
                          <a:pt x="299" y="141"/>
                        </a:lnTo>
                        <a:lnTo>
                          <a:pt x="318" y="130"/>
                        </a:lnTo>
                        <a:lnTo>
                          <a:pt x="338" y="117"/>
                        </a:lnTo>
                        <a:lnTo>
                          <a:pt x="356" y="104"/>
                        </a:lnTo>
                        <a:lnTo>
                          <a:pt x="366" y="89"/>
                        </a:lnTo>
                        <a:lnTo>
                          <a:pt x="377" y="78"/>
                        </a:lnTo>
                        <a:lnTo>
                          <a:pt x="389" y="65"/>
                        </a:lnTo>
                        <a:lnTo>
                          <a:pt x="402" y="53"/>
                        </a:lnTo>
                        <a:lnTo>
                          <a:pt x="415" y="42"/>
                        </a:lnTo>
                        <a:lnTo>
                          <a:pt x="427" y="30"/>
                        </a:lnTo>
                        <a:lnTo>
                          <a:pt x="438" y="16"/>
                        </a:lnTo>
                        <a:lnTo>
                          <a:pt x="447" y="1"/>
                        </a:lnTo>
                        <a:lnTo>
                          <a:pt x="450"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647" name=""/>
                  <p:cNvSpPr/>
                  <p:nvPr/>
                </p:nvSpPr>
                <p:spPr>
                  <a:xfrm flipH="1">
                    <a:off x="3122640" y="1681920"/>
                    <a:ext cx="8280" cy="21240"/>
                  </a:xfrm>
                  <a:custGeom>
                    <a:avLst/>
                    <a:gdLst/>
                    <a:ahLst/>
                    <a:rect l="l" t="t" r="r" b="b"/>
                    <a:pathLst>
                      <a:path w="22" h="54">
                        <a:moveTo>
                          <a:pt x="16" y="2"/>
                        </a:moveTo>
                        <a:lnTo>
                          <a:pt x="17" y="8"/>
                        </a:lnTo>
                        <a:lnTo>
                          <a:pt x="17" y="8"/>
                        </a:lnTo>
                        <a:lnTo>
                          <a:pt x="20" y="19"/>
                        </a:lnTo>
                        <a:lnTo>
                          <a:pt x="20" y="29"/>
                        </a:lnTo>
                        <a:lnTo>
                          <a:pt x="20" y="39"/>
                        </a:lnTo>
                        <a:lnTo>
                          <a:pt x="22" y="50"/>
                        </a:lnTo>
                        <a:lnTo>
                          <a:pt x="19" y="54"/>
                        </a:lnTo>
                        <a:lnTo>
                          <a:pt x="11" y="47"/>
                        </a:lnTo>
                        <a:lnTo>
                          <a:pt x="6" y="38"/>
                        </a:lnTo>
                        <a:lnTo>
                          <a:pt x="1" y="29"/>
                        </a:lnTo>
                        <a:lnTo>
                          <a:pt x="0" y="19"/>
                        </a:lnTo>
                        <a:lnTo>
                          <a:pt x="1" y="12"/>
                        </a:lnTo>
                        <a:lnTo>
                          <a:pt x="4" y="5"/>
                        </a:lnTo>
                        <a:lnTo>
                          <a:pt x="9" y="0"/>
                        </a:lnTo>
                        <a:lnTo>
                          <a:pt x="16" y="2"/>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648" name=""/>
                  <p:cNvSpPr/>
                  <p:nvPr/>
                </p:nvSpPr>
                <p:spPr>
                  <a:xfrm flipH="1">
                    <a:off x="3606120" y="1886040"/>
                    <a:ext cx="37440" cy="14400"/>
                  </a:xfrm>
                  <a:custGeom>
                    <a:avLst/>
                    <a:gdLst/>
                    <a:ahLst/>
                    <a:rect l="l" t="t" r="r" b="b"/>
                    <a:pathLst>
                      <a:path w="99" h="36">
                        <a:moveTo>
                          <a:pt x="82" y="0"/>
                        </a:moveTo>
                        <a:lnTo>
                          <a:pt x="86" y="1"/>
                        </a:lnTo>
                        <a:lnTo>
                          <a:pt x="92" y="3"/>
                        </a:lnTo>
                        <a:lnTo>
                          <a:pt x="97" y="6"/>
                        </a:lnTo>
                        <a:lnTo>
                          <a:pt x="99" y="11"/>
                        </a:lnTo>
                        <a:lnTo>
                          <a:pt x="95" y="16"/>
                        </a:lnTo>
                        <a:lnTo>
                          <a:pt x="89" y="20"/>
                        </a:lnTo>
                        <a:lnTo>
                          <a:pt x="84" y="23"/>
                        </a:lnTo>
                        <a:lnTo>
                          <a:pt x="78" y="26"/>
                        </a:lnTo>
                        <a:lnTo>
                          <a:pt x="71" y="29"/>
                        </a:lnTo>
                        <a:lnTo>
                          <a:pt x="63" y="30"/>
                        </a:lnTo>
                        <a:lnTo>
                          <a:pt x="57" y="33"/>
                        </a:lnTo>
                        <a:lnTo>
                          <a:pt x="50" y="34"/>
                        </a:lnTo>
                        <a:lnTo>
                          <a:pt x="46" y="33"/>
                        </a:lnTo>
                        <a:lnTo>
                          <a:pt x="39" y="34"/>
                        </a:lnTo>
                        <a:lnTo>
                          <a:pt x="33" y="36"/>
                        </a:lnTo>
                        <a:lnTo>
                          <a:pt x="27" y="36"/>
                        </a:lnTo>
                        <a:lnTo>
                          <a:pt x="20" y="34"/>
                        </a:lnTo>
                        <a:lnTo>
                          <a:pt x="14" y="33"/>
                        </a:lnTo>
                        <a:lnTo>
                          <a:pt x="7" y="32"/>
                        </a:lnTo>
                        <a:lnTo>
                          <a:pt x="0" y="33"/>
                        </a:lnTo>
                        <a:lnTo>
                          <a:pt x="3" y="26"/>
                        </a:lnTo>
                        <a:lnTo>
                          <a:pt x="10" y="20"/>
                        </a:lnTo>
                        <a:lnTo>
                          <a:pt x="17" y="14"/>
                        </a:lnTo>
                        <a:lnTo>
                          <a:pt x="24" y="8"/>
                        </a:lnTo>
                        <a:lnTo>
                          <a:pt x="31" y="4"/>
                        </a:lnTo>
                        <a:lnTo>
                          <a:pt x="39" y="3"/>
                        </a:lnTo>
                        <a:lnTo>
                          <a:pt x="46" y="1"/>
                        </a:lnTo>
                        <a:lnTo>
                          <a:pt x="53" y="0"/>
                        </a:lnTo>
                        <a:lnTo>
                          <a:pt x="60" y="0"/>
                        </a:lnTo>
                        <a:lnTo>
                          <a:pt x="68" y="1"/>
                        </a:lnTo>
                        <a:lnTo>
                          <a:pt x="75" y="0"/>
                        </a:lnTo>
                        <a:lnTo>
                          <a:pt x="82"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49" name=""/>
                  <p:cNvSpPr/>
                  <p:nvPr/>
                </p:nvSpPr>
                <p:spPr>
                  <a:xfrm flipH="1">
                    <a:off x="3488040" y="1846440"/>
                    <a:ext cx="66240" cy="28080"/>
                  </a:xfrm>
                  <a:custGeom>
                    <a:avLst/>
                    <a:gdLst/>
                    <a:ahLst/>
                    <a:rect l="l" t="t" r="r" b="b"/>
                    <a:pathLst>
                      <a:path w="175" h="71">
                        <a:moveTo>
                          <a:pt x="80" y="2"/>
                        </a:moveTo>
                        <a:lnTo>
                          <a:pt x="83" y="2"/>
                        </a:lnTo>
                        <a:lnTo>
                          <a:pt x="87" y="2"/>
                        </a:lnTo>
                        <a:lnTo>
                          <a:pt x="90" y="0"/>
                        </a:lnTo>
                        <a:lnTo>
                          <a:pt x="94" y="2"/>
                        </a:lnTo>
                        <a:lnTo>
                          <a:pt x="106" y="3"/>
                        </a:lnTo>
                        <a:lnTo>
                          <a:pt x="118" y="6"/>
                        </a:lnTo>
                        <a:lnTo>
                          <a:pt x="129" y="9"/>
                        </a:lnTo>
                        <a:lnTo>
                          <a:pt x="139" y="13"/>
                        </a:lnTo>
                        <a:lnTo>
                          <a:pt x="149" y="19"/>
                        </a:lnTo>
                        <a:lnTo>
                          <a:pt x="160" y="25"/>
                        </a:lnTo>
                        <a:lnTo>
                          <a:pt x="168" y="32"/>
                        </a:lnTo>
                        <a:lnTo>
                          <a:pt x="175" y="39"/>
                        </a:lnTo>
                        <a:lnTo>
                          <a:pt x="167" y="35"/>
                        </a:lnTo>
                        <a:lnTo>
                          <a:pt x="158" y="32"/>
                        </a:lnTo>
                        <a:lnTo>
                          <a:pt x="148" y="29"/>
                        </a:lnTo>
                        <a:lnTo>
                          <a:pt x="139" y="26"/>
                        </a:lnTo>
                        <a:lnTo>
                          <a:pt x="131" y="25"/>
                        </a:lnTo>
                        <a:lnTo>
                          <a:pt x="120" y="25"/>
                        </a:lnTo>
                        <a:lnTo>
                          <a:pt x="112" y="25"/>
                        </a:lnTo>
                        <a:lnTo>
                          <a:pt x="103" y="25"/>
                        </a:lnTo>
                        <a:lnTo>
                          <a:pt x="89" y="28"/>
                        </a:lnTo>
                        <a:lnTo>
                          <a:pt x="74" y="31"/>
                        </a:lnTo>
                        <a:lnTo>
                          <a:pt x="61" y="37"/>
                        </a:lnTo>
                        <a:lnTo>
                          <a:pt x="48" y="44"/>
                        </a:lnTo>
                        <a:lnTo>
                          <a:pt x="37" y="51"/>
                        </a:lnTo>
                        <a:lnTo>
                          <a:pt x="25" y="58"/>
                        </a:lnTo>
                        <a:lnTo>
                          <a:pt x="12" y="65"/>
                        </a:lnTo>
                        <a:lnTo>
                          <a:pt x="0" y="71"/>
                        </a:lnTo>
                        <a:lnTo>
                          <a:pt x="0" y="61"/>
                        </a:lnTo>
                        <a:lnTo>
                          <a:pt x="3" y="52"/>
                        </a:lnTo>
                        <a:lnTo>
                          <a:pt x="9" y="44"/>
                        </a:lnTo>
                        <a:lnTo>
                          <a:pt x="15" y="37"/>
                        </a:lnTo>
                        <a:lnTo>
                          <a:pt x="22" y="29"/>
                        </a:lnTo>
                        <a:lnTo>
                          <a:pt x="31" y="24"/>
                        </a:lnTo>
                        <a:lnTo>
                          <a:pt x="39" y="18"/>
                        </a:lnTo>
                        <a:lnTo>
                          <a:pt x="48" y="12"/>
                        </a:lnTo>
                        <a:lnTo>
                          <a:pt x="80" y="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650" name=""/>
                  <p:cNvSpPr/>
                  <p:nvPr/>
                </p:nvSpPr>
                <p:spPr>
                  <a:xfrm flipH="1">
                    <a:off x="3107880" y="1704600"/>
                    <a:ext cx="8280" cy="12600"/>
                  </a:xfrm>
                  <a:custGeom>
                    <a:avLst/>
                    <a:gdLst/>
                    <a:ahLst/>
                    <a:rect l="l" t="t" r="r" b="b"/>
                    <a:pathLst>
                      <a:path w="22" h="32">
                        <a:moveTo>
                          <a:pt x="20" y="4"/>
                        </a:moveTo>
                        <a:lnTo>
                          <a:pt x="22" y="11"/>
                        </a:lnTo>
                        <a:lnTo>
                          <a:pt x="22" y="19"/>
                        </a:lnTo>
                        <a:lnTo>
                          <a:pt x="20" y="24"/>
                        </a:lnTo>
                        <a:lnTo>
                          <a:pt x="17" y="32"/>
                        </a:lnTo>
                        <a:lnTo>
                          <a:pt x="11" y="26"/>
                        </a:lnTo>
                        <a:lnTo>
                          <a:pt x="4" y="19"/>
                        </a:lnTo>
                        <a:lnTo>
                          <a:pt x="0" y="11"/>
                        </a:lnTo>
                        <a:lnTo>
                          <a:pt x="0" y="1"/>
                        </a:lnTo>
                        <a:lnTo>
                          <a:pt x="6" y="0"/>
                        </a:lnTo>
                        <a:lnTo>
                          <a:pt x="10" y="0"/>
                        </a:lnTo>
                        <a:lnTo>
                          <a:pt x="14" y="1"/>
                        </a:lnTo>
                        <a:lnTo>
                          <a:pt x="20" y="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1" name=""/>
                  <p:cNvSpPr/>
                  <p:nvPr/>
                </p:nvSpPr>
                <p:spPr>
                  <a:xfrm flipH="1">
                    <a:off x="3633840" y="1917360"/>
                    <a:ext cx="34200" cy="11520"/>
                  </a:xfrm>
                  <a:custGeom>
                    <a:avLst/>
                    <a:gdLst/>
                    <a:ahLst/>
                    <a:rect l="l" t="t" r="r" b="b"/>
                    <a:pathLst>
                      <a:path w="91" h="29">
                        <a:moveTo>
                          <a:pt x="18" y="4"/>
                        </a:moveTo>
                        <a:lnTo>
                          <a:pt x="28" y="3"/>
                        </a:lnTo>
                        <a:lnTo>
                          <a:pt x="39" y="0"/>
                        </a:lnTo>
                        <a:lnTo>
                          <a:pt x="49" y="0"/>
                        </a:lnTo>
                        <a:lnTo>
                          <a:pt x="57" y="0"/>
                        </a:lnTo>
                        <a:lnTo>
                          <a:pt x="66" y="1"/>
                        </a:lnTo>
                        <a:lnTo>
                          <a:pt x="75" y="4"/>
                        </a:lnTo>
                        <a:lnTo>
                          <a:pt x="82" y="10"/>
                        </a:lnTo>
                        <a:lnTo>
                          <a:pt x="89" y="17"/>
                        </a:lnTo>
                        <a:lnTo>
                          <a:pt x="91" y="19"/>
                        </a:lnTo>
                        <a:lnTo>
                          <a:pt x="79" y="24"/>
                        </a:lnTo>
                        <a:lnTo>
                          <a:pt x="68" y="27"/>
                        </a:lnTo>
                        <a:lnTo>
                          <a:pt x="56" y="29"/>
                        </a:lnTo>
                        <a:lnTo>
                          <a:pt x="44" y="29"/>
                        </a:lnTo>
                        <a:lnTo>
                          <a:pt x="34" y="29"/>
                        </a:lnTo>
                        <a:lnTo>
                          <a:pt x="23" y="26"/>
                        </a:lnTo>
                        <a:lnTo>
                          <a:pt x="13" y="21"/>
                        </a:lnTo>
                        <a:lnTo>
                          <a:pt x="2" y="17"/>
                        </a:lnTo>
                        <a:lnTo>
                          <a:pt x="0" y="8"/>
                        </a:lnTo>
                        <a:lnTo>
                          <a:pt x="18" y="3"/>
                        </a:lnTo>
                        <a:lnTo>
                          <a:pt x="18"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652" name=""/>
                  <p:cNvSpPr/>
                  <p:nvPr/>
                </p:nvSpPr>
                <p:spPr>
                  <a:xfrm flipH="1">
                    <a:off x="3659400" y="1942560"/>
                    <a:ext cx="27360" cy="9360"/>
                  </a:xfrm>
                  <a:custGeom>
                    <a:avLst/>
                    <a:gdLst/>
                    <a:ahLst/>
                    <a:rect l="l" t="t" r="r" b="b"/>
                    <a:pathLst>
                      <a:path w="72" h="24">
                        <a:moveTo>
                          <a:pt x="72" y="12"/>
                        </a:moveTo>
                        <a:lnTo>
                          <a:pt x="69" y="16"/>
                        </a:lnTo>
                        <a:lnTo>
                          <a:pt x="65" y="19"/>
                        </a:lnTo>
                        <a:lnTo>
                          <a:pt x="61" y="21"/>
                        </a:lnTo>
                        <a:lnTo>
                          <a:pt x="56" y="22"/>
                        </a:lnTo>
                        <a:lnTo>
                          <a:pt x="52" y="22"/>
                        </a:lnTo>
                        <a:lnTo>
                          <a:pt x="46" y="22"/>
                        </a:lnTo>
                        <a:lnTo>
                          <a:pt x="42" y="24"/>
                        </a:lnTo>
                        <a:lnTo>
                          <a:pt x="36" y="24"/>
                        </a:lnTo>
                        <a:lnTo>
                          <a:pt x="26" y="21"/>
                        </a:lnTo>
                        <a:lnTo>
                          <a:pt x="16" y="19"/>
                        </a:lnTo>
                        <a:lnTo>
                          <a:pt x="6" y="15"/>
                        </a:lnTo>
                        <a:lnTo>
                          <a:pt x="0" y="6"/>
                        </a:lnTo>
                        <a:lnTo>
                          <a:pt x="8" y="5"/>
                        </a:lnTo>
                        <a:lnTo>
                          <a:pt x="19" y="3"/>
                        </a:lnTo>
                        <a:lnTo>
                          <a:pt x="29" y="2"/>
                        </a:lnTo>
                        <a:lnTo>
                          <a:pt x="37" y="0"/>
                        </a:lnTo>
                        <a:lnTo>
                          <a:pt x="48" y="0"/>
                        </a:lnTo>
                        <a:lnTo>
                          <a:pt x="56" y="2"/>
                        </a:lnTo>
                        <a:lnTo>
                          <a:pt x="65" y="6"/>
                        </a:lnTo>
                        <a:lnTo>
                          <a:pt x="72" y="1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53" name=""/>
                  <p:cNvSpPr/>
                  <p:nvPr/>
                </p:nvSpPr>
                <p:spPr>
                  <a:xfrm flipH="1">
                    <a:off x="3461040" y="1870920"/>
                    <a:ext cx="24480" cy="9720"/>
                  </a:xfrm>
                  <a:custGeom>
                    <a:avLst/>
                    <a:gdLst/>
                    <a:ahLst/>
                    <a:rect l="l" t="t" r="r" b="b"/>
                    <a:pathLst>
                      <a:path w="65" h="25">
                        <a:moveTo>
                          <a:pt x="62" y="13"/>
                        </a:moveTo>
                        <a:lnTo>
                          <a:pt x="65" y="25"/>
                        </a:lnTo>
                        <a:lnTo>
                          <a:pt x="57" y="25"/>
                        </a:lnTo>
                        <a:lnTo>
                          <a:pt x="48" y="25"/>
                        </a:lnTo>
                        <a:lnTo>
                          <a:pt x="39" y="23"/>
                        </a:lnTo>
                        <a:lnTo>
                          <a:pt x="31" y="22"/>
                        </a:lnTo>
                        <a:lnTo>
                          <a:pt x="23" y="20"/>
                        </a:lnTo>
                        <a:lnTo>
                          <a:pt x="15" y="19"/>
                        </a:lnTo>
                        <a:lnTo>
                          <a:pt x="7" y="16"/>
                        </a:lnTo>
                        <a:lnTo>
                          <a:pt x="0" y="12"/>
                        </a:lnTo>
                        <a:lnTo>
                          <a:pt x="6" y="4"/>
                        </a:lnTo>
                        <a:lnTo>
                          <a:pt x="13" y="2"/>
                        </a:lnTo>
                        <a:lnTo>
                          <a:pt x="22" y="0"/>
                        </a:lnTo>
                        <a:lnTo>
                          <a:pt x="32" y="0"/>
                        </a:lnTo>
                        <a:lnTo>
                          <a:pt x="41" y="2"/>
                        </a:lnTo>
                        <a:lnTo>
                          <a:pt x="48" y="4"/>
                        </a:lnTo>
                        <a:lnTo>
                          <a:pt x="55" y="9"/>
                        </a:lnTo>
                        <a:lnTo>
                          <a:pt x="62" y="1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54" name=""/>
                  <p:cNvSpPr/>
                  <p:nvPr/>
                </p:nvSpPr>
                <p:spPr>
                  <a:xfrm flipH="1">
                    <a:off x="3450240" y="1888560"/>
                    <a:ext cx="18360" cy="8280"/>
                  </a:xfrm>
                  <a:custGeom>
                    <a:avLst/>
                    <a:gdLst/>
                    <a:ahLst/>
                    <a:rect l="l" t="t" r="r" b="b"/>
                    <a:pathLst>
                      <a:path w="49" h="21">
                        <a:moveTo>
                          <a:pt x="10" y="0"/>
                        </a:moveTo>
                        <a:lnTo>
                          <a:pt x="13" y="1"/>
                        </a:lnTo>
                        <a:lnTo>
                          <a:pt x="17" y="1"/>
                        </a:lnTo>
                        <a:lnTo>
                          <a:pt x="21" y="1"/>
                        </a:lnTo>
                        <a:lnTo>
                          <a:pt x="24" y="1"/>
                        </a:lnTo>
                        <a:lnTo>
                          <a:pt x="33" y="2"/>
                        </a:lnTo>
                        <a:lnTo>
                          <a:pt x="40" y="7"/>
                        </a:lnTo>
                        <a:lnTo>
                          <a:pt x="46" y="13"/>
                        </a:lnTo>
                        <a:lnTo>
                          <a:pt x="49" y="20"/>
                        </a:lnTo>
                        <a:lnTo>
                          <a:pt x="43" y="21"/>
                        </a:lnTo>
                        <a:lnTo>
                          <a:pt x="36" y="21"/>
                        </a:lnTo>
                        <a:lnTo>
                          <a:pt x="30" y="21"/>
                        </a:lnTo>
                        <a:lnTo>
                          <a:pt x="23" y="20"/>
                        </a:lnTo>
                        <a:lnTo>
                          <a:pt x="17" y="17"/>
                        </a:lnTo>
                        <a:lnTo>
                          <a:pt x="11" y="15"/>
                        </a:lnTo>
                        <a:lnTo>
                          <a:pt x="7" y="11"/>
                        </a:lnTo>
                        <a:lnTo>
                          <a:pt x="1" y="8"/>
                        </a:lnTo>
                        <a:lnTo>
                          <a:pt x="0" y="4"/>
                        </a:lnTo>
                        <a:lnTo>
                          <a:pt x="3" y="2"/>
                        </a:lnTo>
                        <a:lnTo>
                          <a:pt x="5" y="1"/>
                        </a:lnTo>
                        <a:lnTo>
                          <a:pt x="10"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sp>
            <p:nvSpPr>
              <p:cNvPr id="2655" name=""/>
              <p:cNvSpPr/>
              <p:nvPr/>
            </p:nvSpPr>
            <p:spPr>
              <a:xfrm>
                <a:off x="2269800" y="1640880"/>
                <a:ext cx="60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3540240" y="1998360"/>
                <a:ext cx="0" cy="35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flipH="1">
                <a:off x="2269440" y="2969280"/>
                <a:ext cx="53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58" name=""/>
            <p:cNvSpPr/>
            <p:nvPr/>
          </p:nvSpPr>
          <p:spPr>
            <a:xfrm>
              <a:off x="533520" y="4648320"/>
              <a:ext cx="3809880" cy="1981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ence doğada olan bu dengenin korunması için yapılması gerekenleri öncelik sırasına göre ya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p:txBody>
        </p:sp>
        <p:sp>
          <p:nvSpPr>
            <p:cNvPr id="2659" name=""/>
            <p:cNvSpPr/>
            <p:nvPr/>
          </p:nvSpPr>
          <p:spPr>
            <a:xfrm>
              <a:off x="4495680" y="4648320"/>
              <a:ext cx="4114800" cy="20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Özgür,bir saksının içine fasulye tohumları ekti.Bunun çimlenmesi için gerekli olan koşulları yaz.</a:t>
              </a:r>
              <a:endParaRPr b="0" lang="en-US" sz="1400" spc="-1" strike="noStrike">
                <a:solidFill>
                  <a:srgbClr val="ffffff"/>
                </a:solidFill>
                <a:latin typeface="Times New Roman"/>
              </a:endParaRPr>
            </a:p>
            <a:p>
              <a:pPr>
                <a:lnSpc>
                  <a:spcPct val="100000"/>
                </a:lnSpc>
                <a:buClr>
                  <a:srgbClr val="0000a4"/>
                </a:buClr>
                <a:buFont typeface="Comic Sans M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buClr>
                  <a:srgbClr val="0000a4"/>
                </a:buClr>
                <a:buFont typeface="Comic Sans M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a:p>
              <a:pPr>
                <a:lnSpc>
                  <a:spcPct val="100000"/>
                </a:lnSpc>
                <a:buClr>
                  <a:srgbClr val="0000a4"/>
                </a:buClr>
                <a:buFont typeface="Comic Sans MS"/>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a:p>
              <a:pPr>
                <a:lnSpc>
                  <a:spcPct val="100000"/>
                </a:lnSpc>
                <a:buClr>
                  <a:srgbClr val="0000a4"/>
                </a:buClr>
                <a:buFont typeface="Comic Sans MS"/>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itkisinin büyümesi için neler yapmalı? </a:t>
              </a:r>
              <a:endParaRPr b="0" lang="en-US" sz="1400" spc="-1" strike="noStrike">
                <a:solidFill>
                  <a:srgbClr val="ffffff"/>
                </a:solidFill>
                <a:latin typeface="Times New Roman"/>
              </a:endParaRPr>
            </a:p>
          </p:txBody>
        </p:sp>
        <p:pic>
          <p:nvPicPr>
            <p:cNvPr id="2660" name="" descr=""/>
            <p:cNvPicPr/>
            <p:nvPr/>
          </p:nvPicPr>
          <p:blipFill>
            <a:blip r:embed="rId4"/>
            <a:stretch/>
          </p:blipFill>
          <p:spPr>
            <a:xfrm>
              <a:off x="6553080" y="380880"/>
              <a:ext cx="1598760" cy="750960"/>
            </a:xfrm>
            <a:prstGeom prst="rect">
              <a:avLst/>
            </a:prstGeom>
            <a:ln w="0">
              <a:noFill/>
            </a:ln>
          </p:spPr>
        </p:pic>
        <p:pic>
          <p:nvPicPr>
            <p:cNvPr id="2661" name="" descr=""/>
            <p:cNvPicPr/>
            <p:nvPr/>
          </p:nvPicPr>
          <p:blipFill>
            <a:blip r:embed="rId5"/>
            <a:stretch/>
          </p:blipFill>
          <p:spPr>
            <a:xfrm>
              <a:off x="6019920" y="152280"/>
              <a:ext cx="1028520" cy="685800"/>
            </a:xfrm>
            <a:prstGeom prst="rect">
              <a:avLst/>
            </a:prstGeom>
            <a:ln w="0">
              <a:noFill/>
            </a:ln>
          </p:spPr>
        </p:pic>
        <p:pic>
          <p:nvPicPr>
            <p:cNvPr id="2662" name="" descr=""/>
            <p:cNvPicPr/>
            <p:nvPr/>
          </p:nvPicPr>
          <p:blipFill>
            <a:blip r:embed="rId6"/>
            <a:stretch/>
          </p:blipFill>
          <p:spPr>
            <a:xfrm>
              <a:off x="7848720" y="0"/>
              <a:ext cx="1295280" cy="1274760"/>
            </a:xfrm>
            <a:prstGeom prst="rect">
              <a:avLst/>
            </a:prstGeom>
            <a:ln w="0">
              <a:noFill/>
            </a:ln>
          </p:spPr>
        </p:pic>
        <p:sp>
          <p:nvSpPr>
            <p:cNvPr id="2663" name=""/>
            <p:cNvSpPr/>
            <p:nvPr/>
          </p:nvSpPr>
          <p:spPr>
            <a:xfrm>
              <a:off x="1676520" y="3962520"/>
              <a:ext cx="5715000" cy="476280"/>
            </a:xfrm>
            <a:custGeom>
              <a:avLst/>
              <a:gdLst/>
              <a:ahLst/>
              <a:rect l="l" t="t" r="r" b="b"/>
              <a:pathLst>
                <a:path w="7560" h="750">
                  <a:moveTo>
                    <a:pt x="0" y="720"/>
                  </a:moveTo>
                  <a:cubicBezTo>
                    <a:pt x="420" y="450"/>
                    <a:pt x="840" y="180"/>
                    <a:pt x="1440" y="180"/>
                  </a:cubicBezTo>
                  <a:cubicBezTo>
                    <a:pt x="2040" y="180"/>
                    <a:pt x="2880" y="750"/>
                    <a:pt x="3600" y="720"/>
                  </a:cubicBezTo>
                  <a:cubicBezTo>
                    <a:pt x="4320" y="690"/>
                    <a:pt x="5100" y="0"/>
                    <a:pt x="5760" y="0"/>
                  </a:cubicBezTo>
                  <a:cubicBezTo>
                    <a:pt x="6420" y="0"/>
                    <a:pt x="6990" y="360"/>
                    <a:pt x="7560" y="7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64" name=""/>
          <p:cNvGrpSpPr/>
          <p:nvPr/>
        </p:nvGrpSpPr>
        <p:grpSpPr>
          <a:xfrm>
            <a:off x="228600" y="304920"/>
            <a:ext cx="8686800" cy="6400800"/>
            <a:chOff x="228600" y="304920"/>
            <a:chExt cx="8686800" cy="6400800"/>
          </a:xfrm>
        </p:grpSpPr>
        <p:sp>
          <p:nvSpPr>
            <p:cNvPr id="2665" name=""/>
            <p:cNvSpPr/>
            <p:nvPr/>
          </p:nvSpPr>
          <p:spPr>
            <a:xfrm>
              <a:off x="1752480" y="304920"/>
              <a:ext cx="5486400" cy="631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ki resimlerde verilen iki canlının benzer ve farklılıklarını Venn şemasında göster.</a:t>
              </a:r>
              <a:endParaRPr b="0" lang="en-US" sz="1400" spc="-1" strike="noStrike">
                <a:solidFill>
                  <a:srgbClr val="ffffff"/>
                </a:solidFill>
                <a:latin typeface="Times New Roman"/>
              </a:endParaRPr>
            </a:p>
          </p:txBody>
        </p:sp>
        <p:grpSp>
          <p:nvGrpSpPr>
            <p:cNvPr id="2666" name=""/>
            <p:cNvGrpSpPr/>
            <p:nvPr/>
          </p:nvGrpSpPr>
          <p:grpSpPr>
            <a:xfrm>
              <a:off x="1523880" y="990720"/>
              <a:ext cx="5867280" cy="1485720"/>
              <a:chOff x="1523880" y="990720"/>
              <a:chExt cx="5867280" cy="1485720"/>
            </a:xfrm>
          </p:grpSpPr>
          <p:sp>
            <p:nvSpPr>
              <p:cNvPr id="2667" name=""/>
              <p:cNvSpPr/>
              <p:nvPr/>
            </p:nvSpPr>
            <p:spPr>
              <a:xfrm>
                <a:off x="1523880" y="990720"/>
                <a:ext cx="3666960" cy="1485720"/>
              </a:xfrm>
              <a:prstGeom prst="octagon">
                <a:avLst>
                  <a:gd name="adj" fmla="val 25856"/>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p:txBody>
          </p:sp>
          <p:sp>
            <p:nvSpPr>
              <p:cNvPr id="2668" name=""/>
              <p:cNvSpPr/>
              <p:nvPr/>
            </p:nvSpPr>
            <p:spPr>
              <a:xfrm>
                <a:off x="3723840" y="990720"/>
                <a:ext cx="3667320" cy="1485720"/>
              </a:xfrm>
              <a:prstGeom prst="octagon">
                <a:avLst>
                  <a:gd name="adj" fmla="val 25856"/>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endParaRPr b="0" lang="en-US" sz="1400" spc="-1" strike="noStrike">
                  <a:solidFill>
                    <a:srgbClr val="ffffff"/>
                  </a:solidFill>
                  <a:latin typeface="Times New Roman"/>
                </a:endParaRPr>
              </a:p>
            </p:txBody>
          </p:sp>
        </p:grpSp>
        <p:pic>
          <p:nvPicPr>
            <p:cNvPr id="2669" name="" descr=""/>
            <p:cNvPicPr/>
            <p:nvPr/>
          </p:nvPicPr>
          <p:blipFill>
            <a:blip r:embed="rId2"/>
            <a:stretch/>
          </p:blipFill>
          <p:spPr>
            <a:xfrm>
              <a:off x="7620120" y="990720"/>
              <a:ext cx="585720" cy="1317600"/>
            </a:xfrm>
            <a:prstGeom prst="rect">
              <a:avLst/>
            </a:prstGeom>
            <a:ln w="0">
              <a:noFill/>
            </a:ln>
          </p:spPr>
        </p:pic>
        <p:pic>
          <p:nvPicPr>
            <p:cNvPr id="2670" name="" descr=""/>
            <p:cNvPicPr/>
            <p:nvPr/>
          </p:nvPicPr>
          <p:blipFill>
            <a:blip r:embed="rId3"/>
            <a:stretch/>
          </p:blipFill>
          <p:spPr>
            <a:xfrm>
              <a:off x="533520" y="1295280"/>
              <a:ext cx="912600" cy="871560"/>
            </a:xfrm>
            <a:prstGeom prst="rect">
              <a:avLst/>
            </a:prstGeom>
            <a:ln w="0">
              <a:noFill/>
            </a:ln>
          </p:spPr>
        </p:pic>
        <p:sp>
          <p:nvSpPr>
            <p:cNvPr id="2671" name=""/>
            <p:cNvSpPr/>
            <p:nvPr/>
          </p:nvSpPr>
          <p:spPr>
            <a:xfrm>
              <a:off x="228600" y="2590920"/>
              <a:ext cx="4267080" cy="1533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Güneş ışığı, su, karbon dioksit ve mineralleri kullanarak besin üretiri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Biz hangi canlıyız?</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Bize ne ad verilir</a:t>
              </a:r>
              <a:r>
                <a:rPr b="0" lang="en-US" sz="1400" spc="-1" strike="noStrike">
                  <a:solidFill>
                    <a:srgbClr val="0000a4"/>
                  </a:solidFill>
                  <a:latin typeface="Comic Sans MS"/>
                </a:rPr>
                <a:t>?....................</a:t>
              </a:r>
              <a:endParaRPr b="0" lang="en-US" sz="1400" spc="-1" strike="noStrike">
                <a:solidFill>
                  <a:srgbClr val="ffffff"/>
                </a:solidFill>
                <a:latin typeface="Times New Roman"/>
              </a:endParaRPr>
            </a:p>
          </p:txBody>
        </p:sp>
        <p:sp>
          <p:nvSpPr>
            <p:cNvPr id="2672" name=""/>
            <p:cNvSpPr/>
            <p:nvPr/>
          </p:nvSpPr>
          <p:spPr>
            <a:xfrm>
              <a:off x="4495680" y="2590920"/>
              <a:ext cx="4419720" cy="1523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Sence </a:t>
              </a:r>
              <a:r>
                <a:rPr b="1" lang="en-US" sz="1400" spc="-1" strike="noStrike">
                  <a:solidFill>
                    <a:srgbClr val="0000a4"/>
                  </a:solidFill>
                  <a:latin typeface="Comic Sans MS"/>
                </a:rPr>
                <a:t>üretici</a:t>
              </a:r>
              <a:r>
                <a:rPr b="0" lang="en-US" sz="1400" spc="-1" strike="noStrike">
                  <a:solidFill>
                    <a:srgbClr val="0000a4"/>
                  </a:solidFill>
                  <a:latin typeface="Comic Sans MS"/>
                </a:rPr>
                <a:t> ne demekti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Tanımını y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Üretici sözcüğü yapısı bakımından nasıl sözcüktü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673" name=""/>
            <p:cNvGrpSpPr/>
            <p:nvPr/>
          </p:nvGrpSpPr>
          <p:grpSpPr>
            <a:xfrm>
              <a:off x="533520" y="4191120"/>
              <a:ext cx="8001000" cy="2514600"/>
              <a:chOff x="533520" y="4191120"/>
              <a:chExt cx="8001000" cy="2514600"/>
            </a:xfrm>
          </p:grpSpPr>
          <p:sp>
            <p:nvSpPr>
              <p:cNvPr id="2674" name=""/>
              <p:cNvSpPr/>
              <p:nvPr/>
            </p:nvSpPr>
            <p:spPr>
              <a:xfrm>
                <a:off x="533520" y="4191120"/>
                <a:ext cx="8001000" cy="2514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 verilen canlılardan üretici olanları A-1, üretici olmayanları da A-2 kutusuna ya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t>
                </a:r>
                <a:r>
                  <a:rPr b="0" i="1" lang="en-US" sz="1400" spc="-1" strike="noStrike">
                    <a:solidFill>
                      <a:srgbClr val="0000a4"/>
                    </a:solidFill>
                    <a:latin typeface="Comic Sans MS"/>
                  </a:rPr>
                  <a:t>alg, virüs, mantar, fasulye, nohut, kuş, inek, koyun, bakteri, yosun, mercimek, tavuk, arı, ıspanak, ot, menekş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5" name=""/>
              <p:cNvSpPr/>
              <p:nvPr/>
            </p:nvSpPr>
            <p:spPr>
              <a:xfrm>
                <a:off x="700200" y="5334120"/>
                <a:ext cx="3666960" cy="1257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A-1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6" name=""/>
              <p:cNvSpPr/>
              <p:nvPr/>
            </p:nvSpPr>
            <p:spPr>
              <a:xfrm>
                <a:off x="4700520" y="5334120"/>
                <a:ext cx="3666960" cy="1257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A-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spTree>
  </p:cSld>
  <p:transition>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77" name=""/>
          <p:cNvGrpSpPr/>
          <p:nvPr/>
        </p:nvGrpSpPr>
        <p:grpSpPr>
          <a:xfrm>
            <a:off x="533520" y="76320"/>
            <a:ext cx="8001000" cy="6667560"/>
            <a:chOff x="533520" y="76320"/>
            <a:chExt cx="8001000" cy="6667560"/>
          </a:xfrm>
        </p:grpSpPr>
        <p:sp>
          <p:nvSpPr>
            <p:cNvPr id="2678" name=""/>
            <p:cNvSpPr/>
            <p:nvPr/>
          </p:nvSpPr>
          <p:spPr>
            <a:xfrm>
              <a:off x="533520" y="5943600"/>
              <a:ext cx="8001000" cy="800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eryüzünde güneş olmasaydı neler olurdu?</a:t>
              </a:r>
              <a:r>
                <a:rPr b="0" lang="en-US" sz="1200" spc="-1" strike="noStrike">
                  <a:solidFill>
                    <a:srgbClr val="0000a4"/>
                  </a:solidFill>
                  <a:latin typeface="Comic Sans MS"/>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düşünceye neden ulaştın</a:t>
              </a: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grpSp>
          <p:nvGrpSpPr>
            <p:cNvPr id="2679" name=""/>
            <p:cNvGrpSpPr/>
            <p:nvPr/>
          </p:nvGrpSpPr>
          <p:grpSpPr>
            <a:xfrm>
              <a:off x="533520" y="76320"/>
              <a:ext cx="8001000" cy="5790960"/>
              <a:chOff x="533520" y="76320"/>
              <a:chExt cx="8001000" cy="5790960"/>
            </a:xfrm>
          </p:grpSpPr>
          <p:grpSp>
            <p:nvGrpSpPr>
              <p:cNvPr id="2680" name=""/>
              <p:cNvGrpSpPr/>
              <p:nvPr/>
            </p:nvGrpSpPr>
            <p:grpSpPr>
              <a:xfrm>
                <a:off x="533520" y="1152000"/>
                <a:ext cx="8000640" cy="2622240"/>
                <a:chOff x="533520" y="1152000"/>
                <a:chExt cx="8000640" cy="2622240"/>
              </a:xfrm>
            </p:grpSpPr>
            <p:sp>
              <p:nvSpPr>
                <p:cNvPr id="2681" name=""/>
                <p:cNvSpPr/>
                <p:nvPr/>
              </p:nvSpPr>
              <p:spPr>
                <a:xfrm>
                  <a:off x="533520" y="1152000"/>
                  <a:ext cx="8000640" cy="2622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Üreticilerin (bitkilerin)  besinlerini depo etme şekilleri aşağıda verilmiştir. Bunlara örnek yazı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82" name=""/>
                <p:cNvSpPr/>
                <p:nvPr/>
              </p:nvSpPr>
              <p:spPr>
                <a:xfrm>
                  <a:off x="690480" y="175680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Kök</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83" name=""/>
                <p:cNvSpPr/>
                <p:nvPr/>
              </p:nvSpPr>
              <p:spPr>
                <a:xfrm>
                  <a:off x="6180840" y="175680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Yaprak</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84" name=""/>
                <p:cNvSpPr/>
                <p:nvPr/>
              </p:nvSpPr>
              <p:spPr>
                <a:xfrm>
                  <a:off x="3357000" y="175680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Göv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85" name=""/>
                <p:cNvSpPr/>
                <p:nvPr/>
              </p:nvSpPr>
              <p:spPr>
                <a:xfrm>
                  <a:off x="690480" y="276552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Çiçek</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86" name=""/>
                <p:cNvSpPr/>
                <p:nvPr/>
              </p:nvSpPr>
              <p:spPr>
                <a:xfrm>
                  <a:off x="3357000" y="276552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Meyv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87" name=""/>
                <p:cNvSpPr/>
                <p:nvPr/>
              </p:nvSpPr>
              <p:spPr>
                <a:xfrm>
                  <a:off x="6180840" y="2765520"/>
                  <a:ext cx="1882440" cy="90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4"/>
                      </a:solidFill>
                      <a:latin typeface="Comic Sans MS"/>
                    </a:rPr>
                    <a:t>Tohu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grpSp>
          <p:sp>
            <p:nvSpPr>
              <p:cNvPr id="2688" name=""/>
              <p:cNvSpPr/>
              <p:nvPr/>
            </p:nvSpPr>
            <p:spPr>
              <a:xfrm>
                <a:off x="533520" y="76320"/>
                <a:ext cx="8001000" cy="100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eryüzünde güneş olmasaydı neler olurdu?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düşünceye neden ulaştın?......................................................................................................................</a:t>
                </a:r>
                <a:endParaRPr b="0" lang="en-US" sz="1400" spc="-1" strike="noStrike">
                  <a:solidFill>
                    <a:srgbClr val="ffffff"/>
                  </a:solidFill>
                  <a:latin typeface="Times New Roman"/>
                </a:endParaRPr>
              </a:p>
            </p:txBody>
          </p:sp>
          <p:grpSp>
            <p:nvGrpSpPr>
              <p:cNvPr id="2689" name=""/>
              <p:cNvGrpSpPr/>
              <p:nvPr/>
            </p:nvGrpSpPr>
            <p:grpSpPr>
              <a:xfrm>
                <a:off x="533520" y="3841560"/>
                <a:ext cx="8001000" cy="2025720"/>
                <a:chOff x="533520" y="3841560"/>
                <a:chExt cx="8001000" cy="2025720"/>
              </a:xfrm>
            </p:grpSpPr>
            <p:sp>
              <p:nvSpPr>
                <p:cNvPr id="2690" name=""/>
                <p:cNvSpPr/>
                <p:nvPr/>
              </p:nvSpPr>
              <p:spPr>
                <a:xfrm>
                  <a:off x="533520" y="3841560"/>
                  <a:ext cx="8001000" cy="202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 resimdeki canlıların nelerle beslendiğini yazı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	</a:t>
                  </a:r>
                  <a:r>
                    <a:rPr b="0" lang="en-US" sz="1200" spc="-1" strike="noStrike">
                      <a:solidFill>
                        <a:srgbClr val="0000a4"/>
                      </a:solidFill>
                      <a:latin typeface="Comic Sans MS"/>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Yukarıdaki canlılar neden hazır besinleri kullanıyor?</a:t>
                  </a:r>
                  <a:r>
                    <a:rPr b="0" lang="en-US" sz="1200" spc="-1" strike="noStrike">
                      <a:solidFill>
                        <a:srgbClr val="0000a4"/>
                      </a:solidFill>
                      <a:latin typeface="Comic Sans MS"/>
                    </a:rPr>
                    <a:t> ……............................................................................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canlılara ne ad verelim?</a:t>
                  </a:r>
                  <a:r>
                    <a:rPr b="0" lang="en-US" sz="1200" spc="-1" strike="noStrike">
                      <a:solidFill>
                        <a:srgbClr val="0000a4"/>
                      </a:solidFill>
                      <a:latin typeface="Comic Sans MS"/>
                    </a:rPr>
                    <a:t> .........................................................................…………………………………………………………..</a:t>
                  </a:r>
                  <a:endParaRPr b="0" lang="en-US" sz="1200" spc="-1" strike="noStrike">
                    <a:solidFill>
                      <a:srgbClr val="ffffff"/>
                    </a:solidFill>
                    <a:latin typeface="Times New Roman"/>
                  </a:endParaRPr>
                </a:p>
              </p:txBody>
            </p:sp>
            <p:pic>
              <p:nvPicPr>
                <p:cNvPr id="2691" name="" descr=""/>
                <p:cNvPicPr/>
                <p:nvPr/>
              </p:nvPicPr>
              <p:blipFill>
                <a:blip r:embed="rId2"/>
                <a:stretch/>
              </p:blipFill>
              <p:spPr>
                <a:xfrm>
                  <a:off x="5334120" y="4244760"/>
                  <a:ext cx="380880" cy="671040"/>
                </a:xfrm>
                <a:prstGeom prst="rect">
                  <a:avLst/>
                </a:prstGeom>
                <a:ln w="0">
                  <a:noFill/>
                </a:ln>
              </p:spPr>
            </p:pic>
            <p:pic>
              <p:nvPicPr>
                <p:cNvPr id="2692" name="" descr=""/>
                <p:cNvPicPr/>
                <p:nvPr/>
              </p:nvPicPr>
              <p:blipFill>
                <a:blip r:embed="rId3"/>
                <a:stretch/>
              </p:blipFill>
              <p:spPr>
                <a:xfrm>
                  <a:off x="2514600" y="4312080"/>
                  <a:ext cx="1028880" cy="477720"/>
                </a:xfrm>
                <a:prstGeom prst="rect">
                  <a:avLst/>
                </a:prstGeom>
                <a:ln w="0">
                  <a:noFill/>
                </a:ln>
              </p:spPr>
            </p:pic>
            <p:pic>
              <p:nvPicPr>
                <p:cNvPr id="2693" name="" descr=""/>
                <p:cNvPicPr/>
                <p:nvPr/>
              </p:nvPicPr>
              <p:blipFill>
                <a:blip r:embed="rId4"/>
                <a:stretch/>
              </p:blipFill>
              <p:spPr>
                <a:xfrm>
                  <a:off x="6934320" y="4244760"/>
                  <a:ext cx="1143000" cy="655560"/>
                </a:xfrm>
                <a:prstGeom prst="rect">
                  <a:avLst/>
                </a:prstGeom>
                <a:ln w="0">
                  <a:noFill/>
                </a:ln>
              </p:spPr>
            </p:pic>
            <p:pic>
              <p:nvPicPr>
                <p:cNvPr id="2694" name="" descr=""/>
                <p:cNvPicPr/>
                <p:nvPr/>
              </p:nvPicPr>
              <p:blipFill>
                <a:blip r:embed="rId5"/>
                <a:stretch/>
              </p:blipFill>
              <p:spPr>
                <a:xfrm>
                  <a:off x="1066680" y="4177800"/>
                  <a:ext cx="438120" cy="806760"/>
                </a:xfrm>
                <a:prstGeom prst="rect">
                  <a:avLst/>
                </a:prstGeom>
                <a:ln w="0">
                  <a:noFill/>
                </a:ln>
              </p:spPr>
            </p:pic>
          </p:grpSp>
        </p:grpSp>
      </p:grpSp>
    </p:spTree>
  </p:cSld>
  <p:transition>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5" name=""/>
          <p:cNvGrpSpPr/>
          <p:nvPr/>
        </p:nvGrpSpPr>
        <p:grpSpPr>
          <a:xfrm>
            <a:off x="380880" y="228600"/>
            <a:ext cx="8307360" cy="6172200"/>
            <a:chOff x="380880" y="228600"/>
            <a:chExt cx="8307360" cy="6172200"/>
          </a:xfrm>
        </p:grpSpPr>
        <p:grpSp>
          <p:nvGrpSpPr>
            <p:cNvPr id="2696" name=""/>
            <p:cNvGrpSpPr/>
            <p:nvPr/>
          </p:nvGrpSpPr>
          <p:grpSpPr>
            <a:xfrm>
              <a:off x="380880" y="228600"/>
              <a:ext cx="8305920" cy="2362320"/>
              <a:chOff x="380880" y="228600"/>
              <a:chExt cx="8305920" cy="2362320"/>
            </a:xfrm>
          </p:grpSpPr>
          <p:sp>
            <p:nvSpPr>
              <p:cNvPr id="2697" name=""/>
              <p:cNvSpPr/>
              <p:nvPr/>
            </p:nvSpPr>
            <p:spPr>
              <a:xfrm>
                <a:off x="380880" y="228600"/>
                <a:ext cx="8305920" cy="2362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ki kutularda beslenme şekillerine göre hayvanlar verilmiştir. Bunların beslenmesi ile ilgili kuralı bulup birkaç örnek de siz yazı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   </a:t>
                </a:r>
                <a:r>
                  <a:rPr b="0" lang="en-US" sz="1400" spc="-1" strike="noStrike">
                    <a:solidFill>
                      <a:srgbClr val="0000a4"/>
                    </a:solidFill>
                    <a:latin typeface="Comic Sans MS"/>
                  </a:rPr>
                  <a:t>	</a:t>
                </a:r>
                <a:r>
                  <a:rPr b="0" lang="en-US" sz="1400" spc="-1" strike="noStrike">
                    <a:solidFill>
                      <a:srgbClr val="0000a4"/>
                    </a:solidFill>
                    <a:latin typeface="Comic Sans MS"/>
                  </a:rPr>
                  <a:t>	</a:t>
                </a:r>
                <a:r>
                  <a:rPr b="0" lang="en-US" sz="1400" spc="-1" strike="noStrike">
                    <a:solidFill>
                      <a:srgbClr val="0000a4"/>
                    </a:solidFill>
                    <a:latin typeface="Comic Sans MS"/>
                  </a:rPr>
                  <a:t>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98" name=""/>
              <p:cNvSpPr/>
              <p:nvPr/>
            </p:nvSpPr>
            <p:spPr>
              <a:xfrm>
                <a:off x="609480" y="1371600"/>
                <a:ext cx="2117880" cy="102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at, ine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699" name=""/>
              <p:cNvSpPr/>
              <p:nvPr/>
            </p:nvSpPr>
            <p:spPr>
              <a:xfrm>
                <a:off x="3352680" y="1371600"/>
                <a:ext cx="2117880" cy="102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tilki, örümce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sp>
            <p:nvSpPr>
              <p:cNvPr id="2700" name=""/>
              <p:cNvSpPr/>
              <p:nvPr/>
            </p:nvSpPr>
            <p:spPr>
              <a:xfrm>
                <a:off x="6111720" y="1371600"/>
                <a:ext cx="2117880" cy="102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ayı</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a4"/>
                    </a:solidFill>
                    <a:latin typeface="Comic Sans MS"/>
                  </a:rPr>
                  <a:t>.............................................................................................</a:t>
                </a:r>
                <a:endParaRPr b="0" lang="en-US" sz="1200" spc="-1" strike="noStrike">
                  <a:solidFill>
                    <a:srgbClr val="ffffff"/>
                  </a:solidFill>
                  <a:latin typeface="Times New Roman"/>
                </a:endParaRPr>
              </a:p>
            </p:txBody>
          </p:sp>
        </p:grpSp>
        <p:sp>
          <p:nvSpPr>
            <p:cNvPr id="2701" name=""/>
            <p:cNvSpPr/>
            <p:nvPr/>
          </p:nvSpPr>
          <p:spPr>
            <a:xfrm>
              <a:off x="380880" y="4457880"/>
              <a:ext cx="8229600" cy="1942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243240">
                <a:lnSpc>
                  <a:spcPct val="100000"/>
                </a:lnSpc>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Gergedanla bir tür kuş arasında iyi </a:t>
              </a:r>
              <a:endParaRPr b="0" lang="en-US" sz="1400" spc="-1" strike="noStrike">
                <a:solidFill>
                  <a:srgbClr val="ffffff"/>
                </a:solidFill>
                <a:latin typeface="Times New Roman"/>
              </a:endParaRPr>
            </a:p>
            <a:p>
              <a:pPr marL="3243240">
                <a:lnSpc>
                  <a:spcPct val="100000"/>
                </a:lnSpc>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kurulmuş. İkisi de  hayatından memnun. </a:t>
              </a:r>
              <a:endParaRPr b="0" lang="en-US" sz="1400" spc="-1" strike="noStrike">
                <a:solidFill>
                  <a:srgbClr val="ffffff"/>
                </a:solidFill>
                <a:latin typeface="Times New Roman"/>
              </a:endParaRPr>
            </a:p>
            <a:p>
              <a:pPr marL="3243240">
                <a:lnSpc>
                  <a:spcPct val="100000"/>
                </a:lnSpc>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ortak yaşamın adı nedir?.................................</a:t>
              </a:r>
              <a:endParaRPr b="0" lang="en-US" sz="1400" spc="-1" strike="noStrike">
                <a:solidFill>
                  <a:srgbClr val="ffffff"/>
                </a:solidFill>
                <a:latin typeface="Times New Roman"/>
              </a:endParaRPr>
            </a:p>
            <a:p>
              <a:pPr marL="3243240">
                <a:lnSpc>
                  <a:spcPct val="100000"/>
                </a:lnSpc>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yaşam türünü açıkla. ..............................................................................................................................................................................................................................................................................................................................…………………………………………………………………………………………….</a:t>
              </a:r>
              <a:endParaRPr b="0" lang="en-US" sz="1400" spc="-1" strike="noStrike">
                <a:solidFill>
                  <a:srgbClr val="ffffff"/>
                </a:solidFill>
                <a:latin typeface="Times New Roman"/>
              </a:endParaRPr>
            </a:p>
          </p:txBody>
        </p:sp>
        <p:sp>
          <p:nvSpPr>
            <p:cNvPr id="2702" name=""/>
            <p:cNvSpPr/>
            <p:nvPr/>
          </p:nvSpPr>
          <p:spPr>
            <a:xfrm>
              <a:off x="380880" y="2743200"/>
              <a:ext cx="8305920" cy="1486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Aşağıdaki ünitemizle ilgili terimi tanımlayını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a4"/>
                  </a:solidFill>
                  <a:latin typeface="Comic Sans MS"/>
                </a:rPr>
                <a:t>Tüketici: </a:t>
              </a:r>
              <a:r>
                <a:rPr b="0" lang="en-US" sz="1400" spc="-1" strike="noStrike">
                  <a:solidFill>
                    <a:srgbClr val="0000a4"/>
                  </a:solidFill>
                  <a:latin typeface="Comic Sans MS"/>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a4"/>
                  </a:solidFill>
                  <a:latin typeface="Comic Sans MS"/>
                </a:rPr>
                <a:t>Bu canlılar neden güneş enerjisini kullanarak besinlerini yapamıyorl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703" name=""/>
            <p:cNvGrpSpPr/>
            <p:nvPr/>
          </p:nvGrpSpPr>
          <p:grpSpPr>
            <a:xfrm>
              <a:off x="609480" y="4572000"/>
              <a:ext cx="2362320" cy="1676160"/>
              <a:chOff x="609480" y="4572000"/>
              <a:chExt cx="2362320" cy="1676160"/>
            </a:xfrm>
          </p:grpSpPr>
          <p:pic>
            <p:nvPicPr>
              <p:cNvPr id="2704" name="" descr=""/>
              <p:cNvPicPr/>
              <p:nvPr/>
            </p:nvPicPr>
            <p:blipFill>
              <a:blip r:embed="rId2"/>
              <a:stretch/>
            </p:blipFill>
            <p:spPr>
              <a:xfrm>
                <a:off x="609480" y="4820040"/>
                <a:ext cx="2362320" cy="1428120"/>
              </a:xfrm>
              <a:prstGeom prst="rect">
                <a:avLst/>
              </a:prstGeom>
              <a:ln w="0">
                <a:noFill/>
              </a:ln>
            </p:spPr>
          </p:pic>
          <p:pic>
            <p:nvPicPr>
              <p:cNvPr id="2705" name="" descr=""/>
              <p:cNvPicPr/>
              <p:nvPr/>
            </p:nvPicPr>
            <p:blipFill>
              <a:blip r:embed="rId3"/>
              <a:stretch/>
            </p:blipFill>
            <p:spPr>
              <a:xfrm>
                <a:off x="2127960" y="4572000"/>
                <a:ext cx="675000" cy="608760"/>
              </a:xfrm>
              <a:prstGeom prst="rect">
                <a:avLst/>
              </a:prstGeom>
              <a:ln w="0">
                <a:noFill/>
              </a:ln>
            </p:spPr>
          </p:pic>
        </p:grpSp>
        <p:pic>
          <p:nvPicPr>
            <p:cNvPr id="2706" name="" descr=""/>
            <p:cNvPicPr/>
            <p:nvPr/>
          </p:nvPicPr>
          <p:blipFill>
            <a:blip r:embed="rId4"/>
            <a:stretch/>
          </p:blipFill>
          <p:spPr>
            <a:xfrm>
              <a:off x="8077320" y="2297160"/>
              <a:ext cx="610920" cy="1131840"/>
            </a:xfrm>
            <a:prstGeom prst="rect">
              <a:avLst/>
            </a:prstGeom>
            <a:ln w="0">
              <a:noFill/>
            </a:ln>
          </p:spPr>
        </p:pic>
        <p:pic>
          <p:nvPicPr>
            <p:cNvPr id="2707" name="" descr=""/>
            <p:cNvPicPr/>
            <p:nvPr/>
          </p:nvPicPr>
          <p:blipFill>
            <a:blip r:embed="rId5"/>
            <a:stretch/>
          </p:blipFill>
          <p:spPr>
            <a:xfrm>
              <a:off x="7467480" y="2590920"/>
              <a:ext cx="457200" cy="441360"/>
            </a:xfrm>
            <a:prstGeom prst="rect">
              <a:avLst/>
            </a:prstGeom>
            <a:ln w="0">
              <a:noFill/>
            </a:ln>
          </p:spPr>
        </p:pic>
      </p:grpSp>
    </p:spTree>
  </p:cSld>
  <p:transition>
    <p:dissolv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08" name=""/>
          <p:cNvGrpSpPr/>
          <p:nvPr/>
        </p:nvGrpSpPr>
        <p:grpSpPr>
          <a:xfrm>
            <a:off x="228600" y="762120"/>
            <a:ext cx="8534520" cy="5645160"/>
            <a:chOff x="228600" y="762120"/>
            <a:chExt cx="8534520" cy="5645160"/>
          </a:xfrm>
        </p:grpSpPr>
        <p:sp>
          <p:nvSpPr>
            <p:cNvPr id="2709" name=""/>
            <p:cNvSpPr/>
            <p:nvPr/>
          </p:nvSpPr>
          <p:spPr>
            <a:xfrm>
              <a:off x="228600" y="762120"/>
              <a:ext cx="3886200" cy="1523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Aynı tür bir yaşamı ben mantar ve arkadaşım algle birlikte dostluk içinde yürütüyoruz.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Oluşturduğumuz ortaklığın adı nedir? ..................................………………………………..</a:t>
              </a:r>
              <a:endParaRPr b="0" lang="en-US" sz="1600" spc="-1" strike="noStrike">
                <a:solidFill>
                  <a:srgbClr val="ffffff"/>
                </a:solidFill>
                <a:latin typeface="Times New Roman"/>
              </a:endParaRPr>
            </a:p>
          </p:txBody>
        </p:sp>
        <p:sp>
          <p:nvSpPr>
            <p:cNvPr id="2710" name=""/>
            <p:cNvSpPr/>
            <p:nvPr/>
          </p:nvSpPr>
          <p:spPr>
            <a:xfrm>
              <a:off x="4876920" y="762120"/>
              <a:ext cx="3886200" cy="1447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ynı tür ortaklığı sürdürmeyi düşündüğün kişiler var mı? Yaz. ........................................................................................................................................................................…………………………………….</a:t>
              </a:r>
              <a:endParaRPr b="0" lang="en-US" sz="1600" spc="-1" strike="noStrike">
                <a:solidFill>
                  <a:srgbClr val="ffffff"/>
                </a:solidFill>
                <a:latin typeface="Times New Roman"/>
              </a:endParaRPr>
            </a:p>
          </p:txBody>
        </p:sp>
        <p:sp>
          <p:nvSpPr>
            <p:cNvPr id="2711" name=""/>
            <p:cNvSpPr/>
            <p:nvPr/>
          </p:nvSpPr>
          <p:spPr>
            <a:xfrm>
              <a:off x="762120" y="2590920"/>
              <a:ext cx="7467480" cy="336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Aşağıda sivrisinek ile kendin arasındaki diyalogu tamamla.</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a:t>
              </a:r>
              <a:r>
                <a:rPr b="0" lang="en-US" sz="1600" spc="-1" strike="noStrike">
                  <a:solidFill>
                    <a:srgbClr val="0000a4"/>
                  </a:solidFill>
                  <a:latin typeface="Comic Sans MS"/>
                </a:rPr>
                <a:t> Niye canımı yakıp duruyorsun? Yeter artık!</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çı:</a:t>
              </a:r>
              <a:r>
                <a:rPr b="0" lang="en-US" sz="1600" spc="-1" strike="noStrike">
                  <a:solidFill>
                    <a:srgbClr val="0000a4"/>
                  </a:solidFill>
                  <a:latin typeface="Comic Sans MS"/>
                </a:rPr>
                <a:t> ....................................................................................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a4"/>
                  </a:solidFill>
                  <a:latin typeface="Comic Sans MS"/>
                </a:rPr>
                <a:t>      </a:t>
              </a:r>
              <a:r>
                <a:rPr b="0" lang="en-US" sz="1600" spc="-1" strike="noStrike">
                  <a:solidFill>
                    <a:srgbClr val="0000a4"/>
                  </a:solidFill>
                  <a:latin typeface="Comic Sans MS"/>
                </a:rPr>
                <a:t>........................................................................................................</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a:t>
              </a:r>
              <a:r>
                <a:rPr b="0" lang="en-US" sz="1600" spc="-1" strike="noStrike">
                  <a:solidFill>
                    <a:srgbClr val="0000a4"/>
                  </a:solidFill>
                  <a:latin typeface="Comic Sans MS"/>
                </a:rPr>
                <a:t> Sen kendi beslenmeni sağlamak için, benim canımı yakıyorsun.</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çı:</a:t>
              </a:r>
              <a:r>
                <a:rPr b="0" lang="en-US" sz="1600" spc="-1" strike="noStrike">
                  <a:solidFill>
                    <a:srgbClr val="0000a4"/>
                  </a:solidFill>
                  <a:latin typeface="Comic Sans MS"/>
                </a:rPr>
                <a:t> .......................................................................................</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 </a:t>
              </a:r>
              <a:r>
                <a:rPr b="0" lang="en-US" sz="1600" spc="-1" strike="noStrike">
                  <a:solidFill>
                    <a:srgbClr val="0000a4"/>
                  </a:solidFill>
                  <a:latin typeface="Comic Sans MS"/>
                </a:rPr>
                <a:t>Senin bu yaptığına parazitlik derler.</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çı:</a:t>
              </a:r>
              <a:r>
                <a:rPr b="0" lang="en-US" sz="1600" spc="-1" strike="noStrike">
                  <a:solidFill>
                    <a:srgbClr val="0000a4"/>
                  </a:solidFill>
                  <a:latin typeface="Comic Sans MS"/>
                </a:rPr>
                <a:t> Unutma ki benim bir adım daha var. Söyle bakalım.</a:t>
              </a:r>
              <a:endParaRPr b="0" lang="en-US" sz="1600" spc="-1" strike="noStrike">
                <a:solidFill>
                  <a:srgbClr val="ffffff"/>
                </a:solidFill>
                <a:latin typeface="Times New Roman"/>
              </a:endParaRPr>
            </a:p>
            <a:p>
              <a:pPr>
                <a:lnSpc>
                  <a:spcPct val="100000"/>
                </a:lnSpc>
                <a:buClr>
                  <a:srgbClr val="0000a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a4"/>
                  </a:solidFill>
                  <a:latin typeface="Comic Sans MS"/>
                </a:rPr>
                <a:t>Konak :</a:t>
              </a:r>
              <a:r>
                <a:rPr b="0" lang="en-US" sz="1600" spc="-1" strike="noStrike">
                  <a:solidFill>
                    <a:srgbClr val="0000a4"/>
                  </a:solidFill>
                  <a:latin typeface="Comic Sans MS"/>
                </a:rPr>
                <a:t> ........................................................................................</a:t>
              </a:r>
              <a:endParaRPr b="0" lang="en-US" sz="1600" spc="-1" strike="noStrike">
                <a:solidFill>
                  <a:srgbClr val="ffffff"/>
                </a:solidFill>
                <a:latin typeface="Times New Roman"/>
              </a:endParaRPr>
            </a:p>
          </p:txBody>
        </p:sp>
        <p:pic>
          <p:nvPicPr>
            <p:cNvPr id="2712" name="" descr=""/>
            <p:cNvPicPr/>
            <p:nvPr/>
          </p:nvPicPr>
          <p:blipFill>
            <a:blip r:embed="rId2"/>
            <a:stretch/>
          </p:blipFill>
          <p:spPr>
            <a:xfrm>
              <a:off x="304920" y="2362320"/>
              <a:ext cx="1027080" cy="695160"/>
            </a:xfrm>
            <a:prstGeom prst="rect">
              <a:avLst/>
            </a:prstGeom>
            <a:ln w="0">
              <a:noFill/>
            </a:ln>
          </p:spPr>
        </p:pic>
        <p:grpSp>
          <p:nvGrpSpPr>
            <p:cNvPr id="2713" name=""/>
            <p:cNvGrpSpPr/>
            <p:nvPr/>
          </p:nvGrpSpPr>
          <p:grpSpPr>
            <a:xfrm>
              <a:off x="7772040" y="5181480"/>
              <a:ext cx="731880" cy="1225800"/>
              <a:chOff x="7772040" y="5181480"/>
              <a:chExt cx="731880" cy="1225800"/>
            </a:xfrm>
          </p:grpSpPr>
          <p:sp>
            <p:nvSpPr>
              <p:cNvPr id="2714" name=""/>
              <p:cNvSpPr/>
              <p:nvPr/>
            </p:nvSpPr>
            <p:spPr>
              <a:xfrm flipH="1">
                <a:off x="8255160" y="6108120"/>
                <a:ext cx="198000" cy="248040"/>
              </a:xfrm>
              <a:custGeom>
                <a:avLst/>
                <a:gdLst/>
                <a:ahLst/>
                <a:rect l="l" t="t" r="r" b="b"/>
                <a:pathLst>
                  <a:path w="312" h="391">
                    <a:moveTo>
                      <a:pt x="123" y="274"/>
                    </a:moveTo>
                    <a:lnTo>
                      <a:pt x="123" y="276"/>
                    </a:lnTo>
                    <a:lnTo>
                      <a:pt x="123" y="276"/>
                    </a:lnTo>
                    <a:lnTo>
                      <a:pt x="123" y="279"/>
                    </a:lnTo>
                    <a:lnTo>
                      <a:pt x="125" y="279"/>
                    </a:lnTo>
                    <a:lnTo>
                      <a:pt x="125" y="281"/>
                    </a:lnTo>
                    <a:lnTo>
                      <a:pt x="128" y="281"/>
                    </a:lnTo>
                    <a:lnTo>
                      <a:pt x="130" y="284"/>
                    </a:lnTo>
                    <a:lnTo>
                      <a:pt x="133" y="284"/>
                    </a:lnTo>
                    <a:lnTo>
                      <a:pt x="135" y="286"/>
                    </a:lnTo>
                    <a:lnTo>
                      <a:pt x="135" y="289"/>
                    </a:lnTo>
                    <a:lnTo>
                      <a:pt x="138" y="289"/>
                    </a:lnTo>
                    <a:lnTo>
                      <a:pt x="141" y="292"/>
                    </a:lnTo>
                    <a:lnTo>
                      <a:pt x="143" y="294"/>
                    </a:lnTo>
                    <a:lnTo>
                      <a:pt x="146" y="297"/>
                    </a:lnTo>
                    <a:lnTo>
                      <a:pt x="148" y="299"/>
                    </a:lnTo>
                    <a:lnTo>
                      <a:pt x="151" y="302"/>
                    </a:lnTo>
                    <a:lnTo>
                      <a:pt x="151" y="299"/>
                    </a:lnTo>
                    <a:lnTo>
                      <a:pt x="153" y="299"/>
                    </a:lnTo>
                    <a:lnTo>
                      <a:pt x="156" y="299"/>
                    </a:lnTo>
                    <a:lnTo>
                      <a:pt x="159" y="299"/>
                    </a:lnTo>
                    <a:lnTo>
                      <a:pt x="161" y="297"/>
                    </a:lnTo>
                    <a:lnTo>
                      <a:pt x="164" y="297"/>
                    </a:lnTo>
                    <a:lnTo>
                      <a:pt x="166" y="297"/>
                    </a:lnTo>
                    <a:lnTo>
                      <a:pt x="169" y="294"/>
                    </a:lnTo>
                    <a:lnTo>
                      <a:pt x="171" y="294"/>
                    </a:lnTo>
                    <a:lnTo>
                      <a:pt x="174" y="294"/>
                    </a:lnTo>
                    <a:lnTo>
                      <a:pt x="176" y="292"/>
                    </a:lnTo>
                    <a:lnTo>
                      <a:pt x="182" y="292"/>
                    </a:lnTo>
                    <a:lnTo>
                      <a:pt x="184" y="292"/>
                    </a:lnTo>
                    <a:lnTo>
                      <a:pt x="187" y="292"/>
                    </a:lnTo>
                    <a:lnTo>
                      <a:pt x="189" y="289"/>
                    </a:lnTo>
                    <a:lnTo>
                      <a:pt x="192" y="289"/>
                    </a:lnTo>
                    <a:lnTo>
                      <a:pt x="194" y="289"/>
                    </a:lnTo>
                    <a:lnTo>
                      <a:pt x="197" y="289"/>
                    </a:lnTo>
                    <a:lnTo>
                      <a:pt x="199" y="286"/>
                    </a:lnTo>
                    <a:lnTo>
                      <a:pt x="202" y="286"/>
                    </a:lnTo>
                    <a:lnTo>
                      <a:pt x="207" y="286"/>
                    </a:lnTo>
                    <a:lnTo>
                      <a:pt x="210" y="286"/>
                    </a:lnTo>
                    <a:lnTo>
                      <a:pt x="212" y="286"/>
                    </a:lnTo>
                    <a:lnTo>
                      <a:pt x="215" y="286"/>
                    </a:lnTo>
                    <a:lnTo>
                      <a:pt x="217" y="284"/>
                    </a:lnTo>
                    <a:lnTo>
                      <a:pt x="220" y="284"/>
                    </a:lnTo>
                    <a:lnTo>
                      <a:pt x="223" y="284"/>
                    </a:lnTo>
                    <a:lnTo>
                      <a:pt x="225" y="284"/>
                    </a:lnTo>
                    <a:lnTo>
                      <a:pt x="228" y="284"/>
                    </a:lnTo>
                    <a:lnTo>
                      <a:pt x="230" y="284"/>
                    </a:lnTo>
                    <a:lnTo>
                      <a:pt x="233" y="284"/>
                    </a:lnTo>
                    <a:lnTo>
                      <a:pt x="235" y="286"/>
                    </a:lnTo>
                    <a:lnTo>
                      <a:pt x="240" y="286"/>
                    </a:lnTo>
                    <a:lnTo>
                      <a:pt x="246" y="286"/>
                    </a:lnTo>
                    <a:lnTo>
                      <a:pt x="253" y="286"/>
                    </a:lnTo>
                    <a:lnTo>
                      <a:pt x="258" y="289"/>
                    </a:lnTo>
                    <a:lnTo>
                      <a:pt x="263" y="289"/>
                    </a:lnTo>
                    <a:lnTo>
                      <a:pt x="269" y="292"/>
                    </a:lnTo>
                    <a:lnTo>
                      <a:pt x="274" y="292"/>
                    </a:lnTo>
                    <a:lnTo>
                      <a:pt x="281" y="294"/>
                    </a:lnTo>
                    <a:lnTo>
                      <a:pt x="287" y="297"/>
                    </a:lnTo>
                    <a:lnTo>
                      <a:pt x="292" y="299"/>
                    </a:lnTo>
                    <a:lnTo>
                      <a:pt x="294" y="302"/>
                    </a:lnTo>
                    <a:lnTo>
                      <a:pt x="299" y="304"/>
                    </a:lnTo>
                    <a:lnTo>
                      <a:pt x="302" y="309"/>
                    </a:lnTo>
                    <a:lnTo>
                      <a:pt x="307" y="312"/>
                    </a:lnTo>
                    <a:lnTo>
                      <a:pt x="310" y="317"/>
                    </a:lnTo>
                    <a:lnTo>
                      <a:pt x="312" y="322"/>
                    </a:lnTo>
                    <a:lnTo>
                      <a:pt x="312" y="325"/>
                    </a:lnTo>
                    <a:lnTo>
                      <a:pt x="312" y="330"/>
                    </a:lnTo>
                    <a:lnTo>
                      <a:pt x="312" y="335"/>
                    </a:lnTo>
                    <a:lnTo>
                      <a:pt x="310" y="338"/>
                    </a:lnTo>
                    <a:lnTo>
                      <a:pt x="307" y="343"/>
                    </a:lnTo>
                    <a:lnTo>
                      <a:pt x="304" y="348"/>
                    </a:lnTo>
                    <a:lnTo>
                      <a:pt x="302" y="350"/>
                    </a:lnTo>
                    <a:lnTo>
                      <a:pt x="299" y="356"/>
                    </a:lnTo>
                    <a:lnTo>
                      <a:pt x="294" y="361"/>
                    </a:lnTo>
                    <a:lnTo>
                      <a:pt x="292" y="363"/>
                    </a:lnTo>
                    <a:lnTo>
                      <a:pt x="287" y="366"/>
                    </a:lnTo>
                    <a:lnTo>
                      <a:pt x="281" y="371"/>
                    </a:lnTo>
                    <a:lnTo>
                      <a:pt x="276" y="373"/>
                    </a:lnTo>
                    <a:lnTo>
                      <a:pt x="271" y="376"/>
                    </a:lnTo>
                    <a:lnTo>
                      <a:pt x="269" y="379"/>
                    </a:lnTo>
                    <a:lnTo>
                      <a:pt x="263" y="379"/>
                    </a:lnTo>
                    <a:lnTo>
                      <a:pt x="261" y="381"/>
                    </a:lnTo>
                    <a:lnTo>
                      <a:pt x="256" y="381"/>
                    </a:lnTo>
                    <a:lnTo>
                      <a:pt x="253" y="384"/>
                    </a:lnTo>
                    <a:lnTo>
                      <a:pt x="251" y="384"/>
                    </a:lnTo>
                    <a:lnTo>
                      <a:pt x="246" y="386"/>
                    </a:lnTo>
                    <a:lnTo>
                      <a:pt x="243" y="386"/>
                    </a:lnTo>
                    <a:lnTo>
                      <a:pt x="238" y="386"/>
                    </a:lnTo>
                    <a:lnTo>
                      <a:pt x="235" y="389"/>
                    </a:lnTo>
                    <a:lnTo>
                      <a:pt x="233" y="389"/>
                    </a:lnTo>
                    <a:lnTo>
                      <a:pt x="228" y="389"/>
                    </a:lnTo>
                    <a:lnTo>
                      <a:pt x="225" y="389"/>
                    </a:lnTo>
                    <a:lnTo>
                      <a:pt x="220" y="389"/>
                    </a:lnTo>
                    <a:lnTo>
                      <a:pt x="217" y="391"/>
                    </a:lnTo>
                    <a:lnTo>
                      <a:pt x="212" y="391"/>
                    </a:lnTo>
                    <a:lnTo>
                      <a:pt x="210" y="391"/>
                    </a:lnTo>
                    <a:lnTo>
                      <a:pt x="205" y="391"/>
                    </a:lnTo>
                    <a:lnTo>
                      <a:pt x="202" y="391"/>
                    </a:lnTo>
                    <a:lnTo>
                      <a:pt x="197" y="391"/>
                    </a:lnTo>
                    <a:lnTo>
                      <a:pt x="194" y="391"/>
                    </a:lnTo>
                    <a:lnTo>
                      <a:pt x="192" y="391"/>
                    </a:lnTo>
                    <a:lnTo>
                      <a:pt x="187" y="391"/>
                    </a:lnTo>
                    <a:lnTo>
                      <a:pt x="184" y="391"/>
                    </a:lnTo>
                    <a:lnTo>
                      <a:pt x="179" y="391"/>
                    </a:lnTo>
                    <a:lnTo>
                      <a:pt x="176" y="391"/>
                    </a:lnTo>
                    <a:lnTo>
                      <a:pt x="171" y="391"/>
                    </a:lnTo>
                    <a:lnTo>
                      <a:pt x="169" y="391"/>
                    </a:lnTo>
                    <a:lnTo>
                      <a:pt x="164" y="389"/>
                    </a:lnTo>
                    <a:lnTo>
                      <a:pt x="161" y="389"/>
                    </a:lnTo>
                    <a:lnTo>
                      <a:pt x="159" y="389"/>
                    </a:lnTo>
                    <a:lnTo>
                      <a:pt x="153" y="389"/>
                    </a:lnTo>
                    <a:lnTo>
                      <a:pt x="151" y="389"/>
                    </a:lnTo>
                    <a:lnTo>
                      <a:pt x="146" y="389"/>
                    </a:lnTo>
                    <a:lnTo>
                      <a:pt x="143" y="386"/>
                    </a:lnTo>
                    <a:lnTo>
                      <a:pt x="141" y="386"/>
                    </a:lnTo>
                    <a:lnTo>
                      <a:pt x="138" y="386"/>
                    </a:lnTo>
                    <a:lnTo>
                      <a:pt x="135" y="386"/>
                    </a:lnTo>
                    <a:lnTo>
                      <a:pt x="130" y="384"/>
                    </a:lnTo>
                    <a:lnTo>
                      <a:pt x="128" y="384"/>
                    </a:lnTo>
                    <a:lnTo>
                      <a:pt x="125" y="384"/>
                    </a:lnTo>
                    <a:lnTo>
                      <a:pt x="123" y="384"/>
                    </a:lnTo>
                    <a:lnTo>
                      <a:pt x="120" y="381"/>
                    </a:lnTo>
                    <a:lnTo>
                      <a:pt x="115" y="381"/>
                    </a:lnTo>
                    <a:lnTo>
                      <a:pt x="112" y="379"/>
                    </a:lnTo>
                    <a:lnTo>
                      <a:pt x="110" y="379"/>
                    </a:lnTo>
                    <a:lnTo>
                      <a:pt x="107" y="379"/>
                    </a:lnTo>
                    <a:lnTo>
                      <a:pt x="105" y="376"/>
                    </a:lnTo>
                    <a:lnTo>
                      <a:pt x="100" y="376"/>
                    </a:lnTo>
                    <a:lnTo>
                      <a:pt x="97" y="373"/>
                    </a:lnTo>
                    <a:lnTo>
                      <a:pt x="94" y="373"/>
                    </a:lnTo>
                    <a:lnTo>
                      <a:pt x="92" y="371"/>
                    </a:lnTo>
                    <a:lnTo>
                      <a:pt x="89" y="371"/>
                    </a:lnTo>
                    <a:lnTo>
                      <a:pt x="87" y="368"/>
                    </a:lnTo>
                    <a:lnTo>
                      <a:pt x="84" y="366"/>
                    </a:lnTo>
                    <a:lnTo>
                      <a:pt x="82" y="366"/>
                    </a:lnTo>
                    <a:lnTo>
                      <a:pt x="77" y="363"/>
                    </a:lnTo>
                    <a:lnTo>
                      <a:pt x="74" y="361"/>
                    </a:lnTo>
                    <a:lnTo>
                      <a:pt x="71" y="361"/>
                    </a:lnTo>
                    <a:lnTo>
                      <a:pt x="69" y="358"/>
                    </a:lnTo>
                    <a:lnTo>
                      <a:pt x="66" y="356"/>
                    </a:lnTo>
                    <a:lnTo>
                      <a:pt x="64" y="356"/>
                    </a:lnTo>
                    <a:lnTo>
                      <a:pt x="61" y="353"/>
                    </a:lnTo>
                    <a:lnTo>
                      <a:pt x="61" y="350"/>
                    </a:lnTo>
                    <a:lnTo>
                      <a:pt x="59" y="348"/>
                    </a:lnTo>
                    <a:lnTo>
                      <a:pt x="56" y="345"/>
                    </a:lnTo>
                    <a:lnTo>
                      <a:pt x="51" y="340"/>
                    </a:lnTo>
                    <a:lnTo>
                      <a:pt x="46" y="335"/>
                    </a:lnTo>
                    <a:lnTo>
                      <a:pt x="41" y="330"/>
                    </a:lnTo>
                    <a:lnTo>
                      <a:pt x="38" y="322"/>
                    </a:lnTo>
                    <a:lnTo>
                      <a:pt x="33" y="317"/>
                    </a:lnTo>
                    <a:lnTo>
                      <a:pt x="30" y="309"/>
                    </a:lnTo>
                    <a:lnTo>
                      <a:pt x="25" y="304"/>
                    </a:lnTo>
                    <a:lnTo>
                      <a:pt x="23" y="297"/>
                    </a:lnTo>
                    <a:lnTo>
                      <a:pt x="20" y="292"/>
                    </a:lnTo>
                    <a:lnTo>
                      <a:pt x="18" y="284"/>
                    </a:lnTo>
                    <a:lnTo>
                      <a:pt x="15" y="276"/>
                    </a:lnTo>
                    <a:lnTo>
                      <a:pt x="13" y="269"/>
                    </a:lnTo>
                    <a:lnTo>
                      <a:pt x="10" y="263"/>
                    </a:lnTo>
                    <a:lnTo>
                      <a:pt x="7" y="256"/>
                    </a:lnTo>
                    <a:lnTo>
                      <a:pt x="7" y="248"/>
                    </a:lnTo>
                    <a:lnTo>
                      <a:pt x="5" y="240"/>
                    </a:lnTo>
                    <a:lnTo>
                      <a:pt x="2" y="222"/>
                    </a:lnTo>
                    <a:lnTo>
                      <a:pt x="0" y="205"/>
                    </a:lnTo>
                    <a:lnTo>
                      <a:pt x="0" y="187"/>
                    </a:lnTo>
                    <a:lnTo>
                      <a:pt x="0" y="166"/>
                    </a:lnTo>
                    <a:lnTo>
                      <a:pt x="2" y="148"/>
                    </a:lnTo>
                    <a:lnTo>
                      <a:pt x="2" y="130"/>
                    </a:lnTo>
                    <a:lnTo>
                      <a:pt x="5" y="112"/>
                    </a:lnTo>
                    <a:lnTo>
                      <a:pt x="7" y="95"/>
                    </a:lnTo>
                    <a:lnTo>
                      <a:pt x="7" y="89"/>
                    </a:lnTo>
                    <a:lnTo>
                      <a:pt x="10" y="84"/>
                    </a:lnTo>
                    <a:lnTo>
                      <a:pt x="10" y="79"/>
                    </a:lnTo>
                    <a:lnTo>
                      <a:pt x="13" y="74"/>
                    </a:lnTo>
                    <a:lnTo>
                      <a:pt x="13" y="71"/>
                    </a:lnTo>
                    <a:lnTo>
                      <a:pt x="15" y="66"/>
                    </a:lnTo>
                    <a:lnTo>
                      <a:pt x="18" y="61"/>
                    </a:lnTo>
                    <a:lnTo>
                      <a:pt x="18" y="56"/>
                    </a:lnTo>
                    <a:lnTo>
                      <a:pt x="20" y="54"/>
                    </a:lnTo>
                    <a:lnTo>
                      <a:pt x="23" y="48"/>
                    </a:lnTo>
                    <a:lnTo>
                      <a:pt x="25" y="43"/>
                    </a:lnTo>
                    <a:lnTo>
                      <a:pt x="28" y="41"/>
                    </a:lnTo>
                    <a:lnTo>
                      <a:pt x="30" y="36"/>
                    </a:lnTo>
                    <a:lnTo>
                      <a:pt x="33" y="31"/>
                    </a:lnTo>
                    <a:lnTo>
                      <a:pt x="36" y="28"/>
                    </a:lnTo>
                    <a:lnTo>
                      <a:pt x="38" y="25"/>
                    </a:lnTo>
                    <a:lnTo>
                      <a:pt x="41" y="23"/>
                    </a:lnTo>
                    <a:lnTo>
                      <a:pt x="43" y="20"/>
                    </a:lnTo>
                    <a:lnTo>
                      <a:pt x="46" y="18"/>
                    </a:lnTo>
                    <a:lnTo>
                      <a:pt x="48" y="15"/>
                    </a:lnTo>
                    <a:lnTo>
                      <a:pt x="51" y="13"/>
                    </a:lnTo>
                    <a:lnTo>
                      <a:pt x="54" y="10"/>
                    </a:lnTo>
                    <a:lnTo>
                      <a:pt x="56" y="8"/>
                    </a:lnTo>
                    <a:lnTo>
                      <a:pt x="59" y="8"/>
                    </a:lnTo>
                    <a:lnTo>
                      <a:pt x="64" y="5"/>
                    </a:lnTo>
                    <a:lnTo>
                      <a:pt x="66" y="2"/>
                    </a:lnTo>
                    <a:lnTo>
                      <a:pt x="69" y="2"/>
                    </a:lnTo>
                    <a:lnTo>
                      <a:pt x="71" y="2"/>
                    </a:lnTo>
                    <a:lnTo>
                      <a:pt x="77" y="0"/>
                    </a:lnTo>
                    <a:lnTo>
                      <a:pt x="79" y="0"/>
                    </a:lnTo>
                    <a:lnTo>
                      <a:pt x="82" y="0"/>
                    </a:lnTo>
                    <a:lnTo>
                      <a:pt x="84" y="0"/>
                    </a:lnTo>
                    <a:lnTo>
                      <a:pt x="87" y="0"/>
                    </a:lnTo>
                    <a:lnTo>
                      <a:pt x="92" y="0"/>
                    </a:lnTo>
                    <a:lnTo>
                      <a:pt x="94" y="0"/>
                    </a:lnTo>
                    <a:lnTo>
                      <a:pt x="97" y="2"/>
                    </a:lnTo>
                    <a:lnTo>
                      <a:pt x="100" y="2"/>
                    </a:lnTo>
                    <a:lnTo>
                      <a:pt x="102" y="5"/>
                    </a:lnTo>
                    <a:lnTo>
                      <a:pt x="105" y="8"/>
                    </a:lnTo>
                    <a:lnTo>
                      <a:pt x="107" y="8"/>
                    </a:lnTo>
                    <a:lnTo>
                      <a:pt x="110" y="10"/>
                    </a:lnTo>
                    <a:lnTo>
                      <a:pt x="112" y="13"/>
                    </a:lnTo>
                    <a:lnTo>
                      <a:pt x="115" y="15"/>
                    </a:lnTo>
                    <a:lnTo>
                      <a:pt x="118" y="18"/>
                    </a:lnTo>
                    <a:lnTo>
                      <a:pt x="120" y="20"/>
                    </a:lnTo>
                    <a:lnTo>
                      <a:pt x="120" y="23"/>
                    </a:lnTo>
                    <a:lnTo>
                      <a:pt x="123" y="25"/>
                    </a:lnTo>
                    <a:lnTo>
                      <a:pt x="123" y="28"/>
                    </a:lnTo>
                    <a:lnTo>
                      <a:pt x="123" y="274"/>
                    </a:lnTo>
                    <a:close/>
                  </a:path>
                </a:pathLst>
              </a:custGeom>
              <a:solidFill>
                <a:srgbClr val="9f7b0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flipH="1">
                <a:off x="7970760" y="6004080"/>
                <a:ext cx="450000" cy="375120"/>
              </a:xfrm>
              <a:custGeom>
                <a:avLst/>
                <a:gdLst/>
                <a:ahLst/>
                <a:rect l="l" t="t" r="r" b="b"/>
                <a:pathLst>
                  <a:path w="709" h="591">
                    <a:moveTo>
                      <a:pt x="574" y="118"/>
                    </a:moveTo>
                    <a:lnTo>
                      <a:pt x="574" y="128"/>
                    </a:lnTo>
                    <a:lnTo>
                      <a:pt x="574" y="136"/>
                    </a:lnTo>
                    <a:lnTo>
                      <a:pt x="574" y="146"/>
                    </a:lnTo>
                    <a:lnTo>
                      <a:pt x="574" y="154"/>
                    </a:lnTo>
                    <a:lnTo>
                      <a:pt x="571" y="161"/>
                    </a:lnTo>
                    <a:lnTo>
                      <a:pt x="571" y="172"/>
                    </a:lnTo>
                    <a:lnTo>
                      <a:pt x="568" y="179"/>
                    </a:lnTo>
                    <a:lnTo>
                      <a:pt x="566" y="187"/>
                    </a:lnTo>
                    <a:lnTo>
                      <a:pt x="563" y="192"/>
                    </a:lnTo>
                    <a:lnTo>
                      <a:pt x="563" y="195"/>
                    </a:lnTo>
                    <a:lnTo>
                      <a:pt x="561" y="200"/>
                    </a:lnTo>
                    <a:lnTo>
                      <a:pt x="558" y="202"/>
                    </a:lnTo>
                    <a:lnTo>
                      <a:pt x="556" y="207"/>
                    </a:lnTo>
                    <a:lnTo>
                      <a:pt x="553" y="210"/>
                    </a:lnTo>
                    <a:lnTo>
                      <a:pt x="550" y="215"/>
                    </a:lnTo>
                    <a:lnTo>
                      <a:pt x="548" y="218"/>
                    </a:lnTo>
                    <a:lnTo>
                      <a:pt x="545" y="223"/>
                    </a:lnTo>
                    <a:lnTo>
                      <a:pt x="540" y="225"/>
                    </a:lnTo>
                    <a:lnTo>
                      <a:pt x="538" y="228"/>
                    </a:lnTo>
                    <a:lnTo>
                      <a:pt x="535" y="230"/>
                    </a:lnTo>
                    <a:lnTo>
                      <a:pt x="533" y="233"/>
                    </a:lnTo>
                    <a:lnTo>
                      <a:pt x="530" y="235"/>
                    </a:lnTo>
                    <a:lnTo>
                      <a:pt x="527" y="238"/>
                    </a:lnTo>
                    <a:lnTo>
                      <a:pt x="525" y="241"/>
                    </a:lnTo>
                    <a:lnTo>
                      <a:pt x="525" y="246"/>
                    </a:lnTo>
                    <a:lnTo>
                      <a:pt x="527" y="248"/>
                    </a:lnTo>
                    <a:lnTo>
                      <a:pt x="527" y="253"/>
                    </a:lnTo>
                    <a:lnTo>
                      <a:pt x="530" y="256"/>
                    </a:lnTo>
                    <a:lnTo>
                      <a:pt x="530" y="261"/>
                    </a:lnTo>
                    <a:lnTo>
                      <a:pt x="533" y="266"/>
                    </a:lnTo>
                    <a:lnTo>
                      <a:pt x="535" y="269"/>
                    </a:lnTo>
                    <a:lnTo>
                      <a:pt x="538" y="274"/>
                    </a:lnTo>
                    <a:lnTo>
                      <a:pt x="538" y="276"/>
                    </a:lnTo>
                    <a:lnTo>
                      <a:pt x="540" y="282"/>
                    </a:lnTo>
                    <a:lnTo>
                      <a:pt x="543" y="284"/>
                    </a:lnTo>
                    <a:lnTo>
                      <a:pt x="545" y="289"/>
                    </a:lnTo>
                    <a:lnTo>
                      <a:pt x="548" y="292"/>
                    </a:lnTo>
                    <a:lnTo>
                      <a:pt x="550" y="297"/>
                    </a:lnTo>
                    <a:lnTo>
                      <a:pt x="553" y="299"/>
                    </a:lnTo>
                    <a:lnTo>
                      <a:pt x="556" y="305"/>
                    </a:lnTo>
                    <a:lnTo>
                      <a:pt x="558" y="307"/>
                    </a:lnTo>
                    <a:lnTo>
                      <a:pt x="561" y="310"/>
                    </a:lnTo>
                    <a:lnTo>
                      <a:pt x="563" y="315"/>
                    </a:lnTo>
                    <a:lnTo>
                      <a:pt x="568" y="317"/>
                    </a:lnTo>
                    <a:lnTo>
                      <a:pt x="571" y="320"/>
                    </a:lnTo>
                    <a:lnTo>
                      <a:pt x="574" y="325"/>
                    </a:lnTo>
                    <a:lnTo>
                      <a:pt x="576" y="328"/>
                    </a:lnTo>
                    <a:lnTo>
                      <a:pt x="579" y="330"/>
                    </a:lnTo>
                    <a:lnTo>
                      <a:pt x="581" y="335"/>
                    </a:lnTo>
                    <a:lnTo>
                      <a:pt x="586" y="338"/>
                    </a:lnTo>
                    <a:lnTo>
                      <a:pt x="589" y="340"/>
                    </a:lnTo>
                    <a:lnTo>
                      <a:pt x="591" y="346"/>
                    </a:lnTo>
                    <a:lnTo>
                      <a:pt x="597" y="348"/>
                    </a:lnTo>
                    <a:lnTo>
                      <a:pt x="599" y="351"/>
                    </a:lnTo>
                    <a:lnTo>
                      <a:pt x="602" y="353"/>
                    </a:lnTo>
                    <a:lnTo>
                      <a:pt x="604" y="356"/>
                    </a:lnTo>
                    <a:lnTo>
                      <a:pt x="609" y="356"/>
                    </a:lnTo>
                    <a:lnTo>
                      <a:pt x="615" y="353"/>
                    </a:lnTo>
                    <a:lnTo>
                      <a:pt x="620" y="353"/>
                    </a:lnTo>
                    <a:lnTo>
                      <a:pt x="622" y="351"/>
                    </a:lnTo>
                    <a:lnTo>
                      <a:pt x="627" y="351"/>
                    </a:lnTo>
                    <a:lnTo>
                      <a:pt x="632" y="351"/>
                    </a:lnTo>
                    <a:lnTo>
                      <a:pt x="635" y="351"/>
                    </a:lnTo>
                    <a:lnTo>
                      <a:pt x="638" y="351"/>
                    </a:lnTo>
                    <a:lnTo>
                      <a:pt x="643" y="353"/>
                    </a:lnTo>
                    <a:lnTo>
                      <a:pt x="645" y="353"/>
                    </a:lnTo>
                    <a:lnTo>
                      <a:pt x="648" y="356"/>
                    </a:lnTo>
                    <a:lnTo>
                      <a:pt x="648" y="356"/>
                    </a:lnTo>
                    <a:lnTo>
                      <a:pt x="650" y="358"/>
                    </a:lnTo>
                    <a:lnTo>
                      <a:pt x="650" y="361"/>
                    </a:lnTo>
                    <a:lnTo>
                      <a:pt x="653" y="366"/>
                    </a:lnTo>
                    <a:lnTo>
                      <a:pt x="650" y="369"/>
                    </a:lnTo>
                    <a:lnTo>
                      <a:pt x="658" y="369"/>
                    </a:lnTo>
                    <a:lnTo>
                      <a:pt x="663" y="369"/>
                    </a:lnTo>
                    <a:lnTo>
                      <a:pt x="668" y="371"/>
                    </a:lnTo>
                    <a:lnTo>
                      <a:pt x="673" y="371"/>
                    </a:lnTo>
                    <a:lnTo>
                      <a:pt x="679" y="371"/>
                    </a:lnTo>
                    <a:lnTo>
                      <a:pt x="684" y="374"/>
                    </a:lnTo>
                    <a:lnTo>
                      <a:pt x="689" y="376"/>
                    </a:lnTo>
                    <a:lnTo>
                      <a:pt x="694" y="376"/>
                    </a:lnTo>
                    <a:lnTo>
                      <a:pt x="696" y="379"/>
                    </a:lnTo>
                    <a:lnTo>
                      <a:pt x="699" y="381"/>
                    </a:lnTo>
                    <a:lnTo>
                      <a:pt x="702" y="384"/>
                    </a:lnTo>
                    <a:lnTo>
                      <a:pt x="704" y="386"/>
                    </a:lnTo>
                    <a:lnTo>
                      <a:pt x="707" y="392"/>
                    </a:lnTo>
                    <a:lnTo>
                      <a:pt x="707" y="394"/>
                    </a:lnTo>
                    <a:lnTo>
                      <a:pt x="709" y="397"/>
                    </a:lnTo>
                    <a:lnTo>
                      <a:pt x="707" y="402"/>
                    </a:lnTo>
                    <a:lnTo>
                      <a:pt x="602" y="581"/>
                    </a:lnTo>
                    <a:lnTo>
                      <a:pt x="599" y="583"/>
                    </a:lnTo>
                    <a:lnTo>
                      <a:pt x="594" y="589"/>
                    </a:lnTo>
                    <a:lnTo>
                      <a:pt x="591" y="589"/>
                    </a:lnTo>
                    <a:lnTo>
                      <a:pt x="586" y="591"/>
                    </a:lnTo>
                    <a:lnTo>
                      <a:pt x="581" y="591"/>
                    </a:lnTo>
                    <a:lnTo>
                      <a:pt x="576" y="591"/>
                    </a:lnTo>
                    <a:lnTo>
                      <a:pt x="571" y="591"/>
                    </a:lnTo>
                    <a:lnTo>
                      <a:pt x="566" y="591"/>
                    </a:lnTo>
                    <a:lnTo>
                      <a:pt x="561" y="589"/>
                    </a:lnTo>
                    <a:lnTo>
                      <a:pt x="556" y="586"/>
                    </a:lnTo>
                    <a:lnTo>
                      <a:pt x="550" y="583"/>
                    </a:lnTo>
                    <a:lnTo>
                      <a:pt x="548" y="581"/>
                    </a:lnTo>
                    <a:lnTo>
                      <a:pt x="543" y="578"/>
                    </a:lnTo>
                    <a:lnTo>
                      <a:pt x="540" y="573"/>
                    </a:lnTo>
                    <a:lnTo>
                      <a:pt x="538" y="568"/>
                    </a:lnTo>
                    <a:lnTo>
                      <a:pt x="535" y="563"/>
                    </a:lnTo>
                    <a:lnTo>
                      <a:pt x="530" y="563"/>
                    </a:lnTo>
                    <a:lnTo>
                      <a:pt x="522" y="566"/>
                    </a:lnTo>
                    <a:lnTo>
                      <a:pt x="517" y="563"/>
                    </a:lnTo>
                    <a:lnTo>
                      <a:pt x="515" y="563"/>
                    </a:lnTo>
                    <a:lnTo>
                      <a:pt x="510" y="560"/>
                    </a:lnTo>
                    <a:lnTo>
                      <a:pt x="507" y="558"/>
                    </a:lnTo>
                    <a:lnTo>
                      <a:pt x="504" y="553"/>
                    </a:lnTo>
                    <a:lnTo>
                      <a:pt x="502" y="550"/>
                    </a:lnTo>
                    <a:lnTo>
                      <a:pt x="499" y="545"/>
                    </a:lnTo>
                    <a:lnTo>
                      <a:pt x="497" y="540"/>
                    </a:lnTo>
                    <a:lnTo>
                      <a:pt x="497" y="535"/>
                    </a:lnTo>
                    <a:lnTo>
                      <a:pt x="497" y="527"/>
                    </a:lnTo>
                    <a:lnTo>
                      <a:pt x="497" y="522"/>
                    </a:lnTo>
                    <a:lnTo>
                      <a:pt x="497" y="517"/>
                    </a:lnTo>
                    <a:lnTo>
                      <a:pt x="497" y="509"/>
                    </a:lnTo>
                    <a:lnTo>
                      <a:pt x="497" y="504"/>
                    </a:lnTo>
                    <a:lnTo>
                      <a:pt x="489" y="502"/>
                    </a:lnTo>
                    <a:lnTo>
                      <a:pt x="481" y="496"/>
                    </a:lnTo>
                    <a:lnTo>
                      <a:pt x="474" y="494"/>
                    </a:lnTo>
                    <a:lnTo>
                      <a:pt x="466" y="489"/>
                    </a:lnTo>
                    <a:lnTo>
                      <a:pt x="458" y="484"/>
                    </a:lnTo>
                    <a:lnTo>
                      <a:pt x="451" y="481"/>
                    </a:lnTo>
                    <a:lnTo>
                      <a:pt x="446" y="476"/>
                    </a:lnTo>
                    <a:lnTo>
                      <a:pt x="438" y="471"/>
                    </a:lnTo>
                    <a:lnTo>
                      <a:pt x="433" y="466"/>
                    </a:lnTo>
                    <a:lnTo>
                      <a:pt x="425" y="461"/>
                    </a:lnTo>
                    <a:lnTo>
                      <a:pt x="420" y="456"/>
                    </a:lnTo>
                    <a:lnTo>
                      <a:pt x="412" y="450"/>
                    </a:lnTo>
                    <a:lnTo>
                      <a:pt x="407" y="445"/>
                    </a:lnTo>
                    <a:lnTo>
                      <a:pt x="402" y="440"/>
                    </a:lnTo>
                    <a:lnTo>
                      <a:pt x="397" y="435"/>
                    </a:lnTo>
                    <a:lnTo>
                      <a:pt x="389" y="430"/>
                    </a:lnTo>
                    <a:lnTo>
                      <a:pt x="384" y="425"/>
                    </a:lnTo>
                    <a:lnTo>
                      <a:pt x="379" y="420"/>
                    </a:lnTo>
                    <a:lnTo>
                      <a:pt x="374" y="415"/>
                    </a:lnTo>
                    <a:lnTo>
                      <a:pt x="369" y="407"/>
                    </a:lnTo>
                    <a:lnTo>
                      <a:pt x="364" y="402"/>
                    </a:lnTo>
                    <a:lnTo>
                      <a:pt x="358" y="397"/>
                    </a:lnTo>
                    <a:lnTo>
                      <a:pt x="353" y="392"/>
                    </a:lnTo>
                    <a:lnTo>
                      <a:pt x="348" y="386"/>
                    </a:lnTo>
                    <a:lnTo>
                      <a:pt x="343" y="381"/>
                    </a:lnTo>
                    <a:lnTo>
                      <a:pt x="338" y="376"/>
                    </a:lnTo>
                    <a:lnTo>
                      <a:pt x="333" y="371"/>
                    </a:lnTo>
                    <a:lnTo>
                      <a:pt x="328" y="366"/>
                    </a:lnTo>
                    <a:lnTo>
                      <a:pt x="323" y="361"/>
                    </a:lnTo>
                    <a:lnTo>
                      <a:pt x="317" y="356"/>
                    </a:lnTo>
                    <a:lnTo>
                      <a:pt x="312" y="351"/>
                    </a:lnTo>
                    <a:lnTo>
                      <a:pt x="307" y="346"/>
                    </a:lnTo>
                    <a:lnTo>
                      <a:pt x="305" y="348"/>
                    </a:lnTo>
                    <a:lnTo>
                      <a:pt x="300" y="351"/>
                    </a:lnTo>
                    <a:lnTo>
                      <a:pt x="297" y="353"/>
                    </a:lnTo>
                    <a:lnTo>
                      <a:pt x="294" y="356"/>
                    </a:lnTo>
                    <a:lnTo>
                      <a:pt x="292" y="356"/>
                    </a:lnTo>
                    <a:lnTo>
                      <a:pt x="287" y="358"/>
                    </a:lnTo>
                    <a:lnTo>
                      <a:pt x="282" y="361"/>
                    </a:lnTo>
                    <a:lnTo>
                      <a:pt x="279" y="363"/>
                    </a:lnTo>
                    <a:lnTo>
                      <a:pt x="274" y="366"/>
                    </a:lnTo>
                    <a:lnTo>
                      <a:pt x="271" y="366"/>
                    </a:lnTo>
                    <a:lnTo>
                      <a:pt x="266" y="369"/>
                    </a:lnTo>
                    <a:lnTo>
                      <a:pt x="261" y="371"/>
                    </a:lnTo>
                    <a:lnTo>
                      <a:pt x="256" y="371"/>
                    </a:lnTo>
                    <a:lnTo>
                      <a:pt x="253" y="374"/>
                    </a:lnTo>
                    <a:lnTo>
                      <a:pt x="248" y="376"/>
                    </a:lnTo>
                    <a:lnTo>
                      <a:pt x="243" y="376"/>
                    </a:lnTo>
                    <a:lnTo>
                      <a:pt x="238" y="379"/>
                    </a:lnTo>
                    <a:lnTo>
                      <a:pt x="233" y="379"/>
                    </a:lnTo>
                    <a:lnTo>
                      <a:pt x="228" y="381"/>
                    </a:lnTo>
                    <a:lnTo>
                      <a:pt x="223" y="381"/>
                    </a:lnTo>
                    <a:lnTo>
                      <a:pt x="220" y="384"/>
                    </a:lnTo>
                    <a:lnTo>
                      <a:pt x="215" y="384"/>
                    </a:lnTo>
                    <a:lnTo>
                      <a:pt x="210" y="386"/>
                    </a:lnTo>
                    <a:lnTo>
                      <a:pt x="205" y="386"/>
                    </a:lnTo>
                    <a:lnTo>
                      <a:pt x="200" y="389"/>
                    </a:lnTo>
                    <a:lnTo>
                      <a:pt x="195" y="389"/>
                    </a:lnTo>
                    <a:lnTo>
                      <a:pt x="192" y="392"/>
                    </a:lnTo>
                    <a:lnTo>
                      <a:pt x="187" y="392"/>
                    </a:lnTo>
                    <a:lnTo>
                      <a:pt x="182" y="394"/>
                    </a:lnTo>
                    <a:lnTo>
                      <a:pt x="179" y="394"/>
                    </a:lnTo>
                    <a:lnTo>
                      <a:pt x="174" y="394"/>
                    </a:lnTo>
                    <a:lnTo>
                      <a:pt x="172" y="397"/>
                    </a:lnTo>
                    <a:lnTo>
                      <a:pt x="172" y="399"/>
                    </a:lnTo>
                    <a:lnTo>
                      <a:pt x="169" y="402"/>
                    </a:lnTo>
                    <a:lnTo>
                      <a:pt x="169" y="404"/>
                    </a:lnTo>
                    <a:lnTo>
                      <a:pt x="166" y="407"/>
                    </a:lnTo>
                    <a:lnTo>
                      <a:pt x="164" y="409"/>
                    </a:lnTo>
                    <a:lnTo>
                      <a:pt x="164" y="412"/>
                    </a:lnTo>
                    <a:lnTo>
                      <a:pt x="159" y="412"/>
                    </a:lnTo>
                    <a:lnTo>
                      <a:pt x="156" y="415"/>
                    </a:lnTo>
                    <a:lnTo>
                      <a:pt x="154" y="417"/>
                    </a:lnTo>
                    <a:lnTo>
                      <a:pt x="151" y="417"/>
                    </a:lnTo>
                    <a:lnTo>
                      <a:pt x="146" y="420"/>
                    </a:lnTo>
                    <a:lnTo>
                      <a:pt x="143" y="420"/>
                    </a:lnTo>
                    <a:lnTo>
                      <a:pt x="141" y="422"/>
                    </a:lnTo>
                    <a:lnTo>
                      <a:pt x="136" y="422"/>
                    </a:lnTo>
                    <a:lnTo>
                      <a:pt x="133" y="422"/>
                    </a:lnTo>
                    <a:lnTo>
                      <a:pt x="131" y="425"/>
                    </a:lnTo>
                    <a:lnTo>
                      <a:pt x="131" y="425"/>
                    </a:lnTo>
                    <a:lnTo>
                      <a:pt x="131" y="427"/>
                    </a:lnTo>
                    <a:lnTo>
                      <a:pt x="131" y="430"/>
                    </a:lnTo>
                    <a:lnTo>
                      <a:pt x="131" y="430"/>
                    </a:lnTo>
                    <a:lnTo>
                      <a:pt x="131" y="433"/>
                    </a:lnTo>
                    <a:lnTo>
                      <a:pt x="128" y="435"/>
                    </a:lnTo>
                    <a:lnTo>
                      <a:pt x="128" y="438"/>
                    </a:lnTo>
                    <a:lnTo>
                      <a:pt x="125" y="440"/>
                    </a:lnTo>
                    <a:lnTo>
                      <a:pt x="123" y="443"/>
                    </a:lnTo>
                    <a:lnTo>
                      <a:pt x="118" y="445"/>
                    </a:lnTo>
                    <a:lnTo>
                      <a:pt x="115" y="445"/>
                    </a:lnTo>
                    <a:lnTo>
                      <a:pt x="110" y="448"/>
                    </a:lnTo>
                    <a:lnTo>
                      <a:pt x="105" y="450"/>
                    </a:lnTo>
                    <a:lnTo>
                      <a:pt x="100" y="450"/>
                    </a:lnTo>
                    <a:lnTo>
                      <a:pt x="92" y="450"/>
                    </a:lnTo>
                    <a:lnTo>
                      <a:pt x="84" y="450"/>
                    </a:lnTo>
                    <a:lnTo>
                      <a:pt x="79" y="450"/>
                    </a:lnTo>
                    <a:lnTo>
                      <a:pt x="74" y="448"/>
                    </a:lnTo>
                    <a:lnTo>
                      <a:pt x="69" y="445"/>
                    </a:lnTo>
                    <a:lnTo>
                      <a:pt x="64" y="443"/>
                    </a:lnTo>
                    <a:lnTo>
                      <a:pt x="59" y="440"/>
                    </a:lnTo>
                    <a:lnTo>
                      <a:pt x="54" y="438"/>
                    </a:lnTo>
                    <a:lnTo>
                      <a:pt x="51" y="435"/>
                    </a:lnTo>
                    <a:lnTo>
                      <a:pt x="46" y="433"/>
                    </a:lnTo>
                    <a:lnTo>
                      <a:pt x="43" y="427"/>
                    </a:lnTo>
                    <a:lnTo>
                      <a:pt x="38" y="425"/>
                    </a:lnTo>
                    <a:lnTo>
                      <a:pt x="36" y="420"/>
                    </a:lnTo>
                    <a:lnTo>
                      <a:pt x="33" y="417"/>
                    </a:lnTo>
                    <a:lnTo>
                      <a:pt x="31" y="412"/>
                    </a:lnTo>
                    <a:lnTo>
                      <a:pt x="26" y="409"/>
                    </a:lnTo>
                    <a:lnTo>
                      <a:pt x="23" y="404"/>
                    </a:lnTo>
                    <a:lnTo>
                      <a:pt x="23" y="402"/>
                    </a:lnTo>
                    <a:lnTo>
                      <a:pt x="20" y="397"/>
                    </a:lnTo>
                    <a:lnTo>
                      <a:pt x="18" y="392"/>
                    </a:lnTo>
                    <a:lnTo>
                      <a:pt x="15" y="386"/>
                    </a:lnTo>
                    <a:lnTo>
                      <a:pt x="13" y="381"/>
                    </a:lnTo>
                    <a:lnTo>
                      <a:pt x="13" y="376"/>
                    </a:lnTo>
                    <a:lnTo>
                      <a:pt x="10" y="374"/>
                    </a:lnTo>
                    <a:lnTo>
                      <a:pt x="10" y="369"/>
                    </a:lnTo>
                    <a:lnTo>
                      <a:pt x="8" y="363"/>
                    </a:lnTo>
                    <a:lnTo>
                      <a:pt x="8" y="358"/>
                    </a:lnTo>
                    <a:lnTo>
                      <a:pt x="5" y="353"/>
                    </a:lnTo>
                    <a:lnTo>
                      <a:pt x="5" y="348"/>
                    </a:lnTo>
                    <a:lnTo>
                      <a:pt x="5" y="343"/>
                    </a:lnTo>
                    <a:lnTo>
                      <a:pt x="3" y="338"/>
                    </a:lnTo>
                    <a:lnTo>
                      <a:pt x="3" y="333"/>
                    </a:lnTo>
                    <a:lnTo>
                      <a:pt x="3" y="330"/>
                    </a:lnTo>
                    <a:lnTo>
                      <a:pt x="3" y="325"/>
                    </a:lnTo>
                    <a:lnTo>
                      <a:pt x="0" y="315"/>
                    </a:lnTo>
                    <a:lnTo>
                      <a:pt x="0" y="305"/>
                    </a:lnTo>
                    <a:lnTo>
                      <a:pt x="3" y="297"/>
                    </a:lnTo>
                    <a:lnTo>
                      <a:pt x="3" y="287"/>
                    </a:lnTo>
                    <a:lnTo>
                      <a:pt x="5" y="276"/>
                    </a:lnTo>
                    <a:lnTo>
                      <a:pt x="8" y="269"/>
                    </a:lnTo>
                    <a:lnTo>
                      <a:pt x="10" y="259"/>
                    </a:lnTo>
                    <a:lnTo>
                      <a:pt x="15" y="251"/>
                    </a:lnTo>
                    <a:lnTo>
                      <a:pt x="18" y="241"/>
                    </a:lnTo>
                    <a:lnTo>
                      <a:pt x="23" y="233"/>
                    </a:lnTo>
                    <a:lnTo>
                      <a:pt x="26" y="225"/>
                    </a:lnTo>
                    <a:lnTo>
                      <a:pt x="31" y="215"/>
                    </a:lnTo>
                    <a:lnTo>
                      <a:pt x="36" y="207"/>
                    </a:lnTo>
                    <a:lnTo>
                      <a:pt x="43" y="200"/>
                    </a:lnTo>
                    <a:lnTo>
                      <a:pt x="49" y="192"/>
                    </a:lnTo>
                    <a:lnTo>
                      <a:pt x="54" y="184"/>
                    </a:lnTo>
                    <a:lnTo>
                      <a:pt x="56" y="182"/>
                    </a:lnTo>
                    <a:lnTo>
                      <a:pt x="61" y="179"/>
                    </a:lnTo>
                    <a:lnTo>
                      <a:pt x="64" y="177"/>
                    </a:lnTo>
                    <a:lnTo>
                      <a:pt x="69" y="177"/>
                    </a:lnTo>
                    <a:lnTo>
                      <a:pt x="72" y="177"/>
                    </a:lnTo>
                    <a:lnTo>
                      <a:pt x="74" y="174"/>
                    </a:lnTo>
                    <a:lnTo>
                      <a:pt x="79" y="174"/>
                    </a:lnTo>
                    <a:lnTo>
                      <a:pt x="82" y="177"/>
                    </a:lnTo>
                    <a:lnTo>
                      <a:pt x="84" y="177"/>
                    </a:lnTo>
                    <a:lnTo>
                      <a:pt x="90" y="177"/>
                    </a:lnTo>
                    <a:lnTo>
                      <a:pt x="92" y="179"/>
                    </a:lnTo>
                    <a:lnTo>
                      <a:pt x="95" y="179"/>
                    </a:lnTo>
                    <a:lnTo>
                      <a:pt x="97" y="182"/>
                    </a:lnTo>
                    <a:lnTo>
                      <a:pt x="100" y="184"/>
                    </a:lnTo>
                    <a:lnTo>
                      <a:pt x="100" y="187"/>
                    </a:lnTo>
                    <a:lnTo>
                      <a:pt x="102" y="189"/>
                    </a:lnTo>
                    <a:lnTo>
                      <a:pt x="108" y="187"/>
                    </a:lnTo>
                    <a:lnTo>
                      <a:pt x="113" y="187"/>
                    </a:lnTo>
                    <a:lnTo>
                      <a:pt x="120" y="187"/>
                    </a:lnTo>
                    <a:lnTo>
                      <a:pt x="125" y="187"/>
                    </a:lnTo>
                    <a:lnTo>
                      <a:pt x="131" y="187"/>
                    </a:lnTo>
                    <a:lnTo>
                      <a:pt x="133" y="189"/>
                    </a:lnTo>
                    <a:lnTo>
                      <a:pt x="138" y="192"/>
                    </a:lnTo>
                    <a:lnTo>
                      <a:pt x="141" y="192"/>
                    </a:lnTo>
                    <a:lnTo>
                      <a:pt x="146" y="195"/>
                    </a:lnTo>
                    <a:lnTo>
                      <a:pt x="148" y="197"/>
                    </a:lnTo>
                    <a:lnTo>
                      <a:pt x="151" y="200"/>
                    </a:lnTo>
                    <a:lnTo>
                      <a:pt x="154" y="202"/>
                    </a:lnTo>
                    <a:lnTo>
                      <a:pt x="156" y="207"/>
                    </a:lnTo>
                    <a:lnTo>
                      <a:pt x="159" y="210"/>
                    </a:lnTo>
                    <a:lnTo>
                      <a:pt x="159" y="212"/>
                    </a:lnTo>
                    <a:lnTo>
                      <a:pt x="159" y="215"/>
                    </a:lnTo>
                    <a:lnTo>
                      <a:pt x="164" y="212"/>
                    </a:lnTo>
                    <a:lnTo>
                      <a:pt x="166" y="207"/>
                    </a:lnTo>
                    <a:lnTo>
                      <a:pt x="169" y="205"/>
                    </a:lnTo>
                    <a:lnTo>
                      <a:pt x="174" y="202"/>
                    </a:lnTo>
                    <a:lnTo>
                      <a:pt x="177" y="200"/>
                    </a:lnTo>
                    <a:lnTo>
                      <a:pt x="179" y="197"/>
                    </a:lnTo>
                    <a:lnTo>
                      <a:pt x="182" y="195"/>
                    </a:lnTo>
                    <a:lnTo>
                      <a:pt x="184" y="192"/>
                    </a:lnTo>
                    <a:lnTo>
                      <a:pt x="187" y="187"/>
                    </a:lnTo>
                    <a:lnTo>
                      <a:pt x="189" y="184"/>
                    </a:lnTo>
                    <a:lnTo>
                      <a:pt x="192" y="184"/>
                    </a:lnTo>
                    <a:lnTo>
                      <a:pt x="195" y="182"/>
                    </a:lnTo>
                    <a:lnTo>
                      <a:pt x="200" y="179"/>
                    </a:lnTo>
                    <a:lnTo>
                      <a:pt x="202" y="177"/>
                    </a:lnTo>
                    <a:lnTo>
                      <a:pt x="205" y="174"/>
                    </a:lnTo>
                    <a:lnTo>
                      <a:pt x="207" y="172"/>
                    </a:lnTo>
                    <a:lnTo>
                      <a:pt x="205" y="164"/>
                    </a:lnTo>
                    <a:lnTo>
                      <a:pt x="205" y="154"/>
                    </a:lnTo>
                    <a:lnTo>
                      <a:pt x="205" y="146"/>
                    </a:lnTo>
                    <a:lnTo>
                      <a:pt x="205" y="136"/>
                    </a:lnTo>
                    <a:lnTo>
                      <a:pt x="205" y="125"/>
                    </a:lnTo>
                    <a:lnTo>
                      <a:pt x="207" y="115"/>
                    </a:lnTo>
                    <a:lnTo>
                      <a:pt x="210" y="108"/>
                    </a:lnTo>
                    <a:lnTo>
                      <a:pt x="212" y="100"/>
                    </a:lnTo>
                    <a:lnTo>
                      <a:pt x="215" y="92"/>
                    </a:lnTo>
                    <a:lnTo>
                      <a:pt x="218" y="85"/>
                    </a:lnTo>
                    <a:lnTo>
                      <a:pt x="223" y="79"/>
                    </a:lnTo>
                    <a:lnTo>
                      <a:pt x="225" y="72"/>
                    </a:lnTo>
                    <a:lnTo>
                      <a:pt x="230" y="64"/>
                    </a:lnTo>
                    <a:lnTo>
                      <a:pt x="233" y="56"/>
                    </a:lnTo>
                    <a:lnTo>
                      <a:pt x="238" y="51"/>
                    </a:lnTo>
                    <a:lnTo>
                      <a:pt x="241" y="44"/>
                    </a:lnTo>
                    <a:lnTo>
                      <a:pt x="246" y="38"/>
                    </a:lnTo>
                    <a:lnTo>
                      <a:pt x="251" y="33"/>
                    </a:lnTo>
                    <a:lnTo>
                      <a:pt x="256" y="28"/>
                    </a:lnTo>
                    <a:lnTo>
                      <a:pt x="261" y="23"/>
                    </a:lnTo>
                    <a:lnTo>
                      <a:pt x="266" y="18"/>
                    </a:lnTo>
                    <a:lnTo>
                      <a:pt x="271" y="15"/>
                    </a:lnTo>
                    <a:lnTo>
                      <a:pt x="279" y="13"/>
                    </a:lnTo>
                    <a:lnTo>
                      <a:pt x="284" y="13"/>
                    </a:lnTo>
                    <a:lnTo>
                      <a:pt x="433" y="0"/>
                    </a:lnTo>
                    <a:lnTo>
                      <a:pt x="574" y="11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flipH="1">
                <a:off x="8336160" y="5968440"/>
                <a:ext cx="167400" cy="107280"/>
              </a:xfrm>
              <a:custGeom>
                <a:avLst/>
                <a:gdLst/>
                <a:ahLst/>
                <a:rect l="l" t="t" r="r" b="b"/>
                <a:pathLst>
                  <a:path w="264" h="169">
                    <a:moveTo>
                      <a:pt x="262" y="54"/>
                    </a:moveTo>
                    <a:lnTo>
                      <a:pt x="259" y="56"/>
                    </a:lnTo>
                    <a:lnTo>
                      <a:pt x="259" y="61"/>
                    </a:lnTo>
                    <a:lnTo>
                      <a:pt x="256" y="64"/>
                    </a:lnTo>
                    <a:lnTo>
                      <a:pt x="256" y="66"/>
                    </a:lnTo>
                    <a:lnTo>
                      <a:pt x="254" y="71"/>
                    </a:lnTo>
                    <a:lnTo>
                      <a:pt x="254" y="74"/>
                    </a:lnTo>
                    <a:lnTo>
                      <a:pt x="254" y="79"/>
                    </a:lnTo>
                    <a:lnTo>
                      <a:pt x="254" y="82"/>
                    </a:lnTo>
                    <a:lnTo>
                      <a:pt x="259" y="84"/>
                    </a:lnTo>
                    <a:lnTo>
                      <a:pt x="262" y="89"/>
                    </a:lnTo>
                    <a:lnTo>
                      <a:pt x="264" y="92"/>
                    </a:lnTo>
                    <a:lnTo>
                      <a:pt x="264" y="97"/>
                    </a:lnTo>
                    <a:lnTo>
                      <a:pt x="264" y="100"/>
                    </a:lnTo>
                    <a:lnTo>
                      <a:pt x="264" y="105"/>
                    </a:lnTo>
                    <a:lnTo>
                      <a:pt x="262" y="107"/>
                    </a:lnTo>
                    <a:lnTo>
                      <a:pt x="259" y="110"/>
                    </a:lnTo>
                    <a:lnTo>
                      <a:pt x="256" y="112"/>
                    </a:lnTo>
                    <a:lnTo>
                      <a:pt x="254" y="112"/>
                    </a:lnTo>
                    <a:lnTo>
                      <a:pt x="251" y="115"/>
                    </a:lnTo>
                    <a:lnTo>
                      <a:pt x="246" y="115"/>
                    </a:lnTo>
                    <a:lnTo>
                      <a:pt x="244" y="117"/>
                    </a:lnTo>
                    <a:lnTo>
                      <a:pt x="241" y="117"/>
                    </a:lnTo>
                    <a:lnTo>
                      <a:pt x="239" y="117"/>
                    </a:lnTo>
                    <a:lnTo>
                      <a:pt x="233" y="117"/>
                    </a:lnTo>
                    <a:lnTo>
                      <a:pt x="231" y="120"/>
                    </a:lnTo>
                    <a:lnTo>
                      <a:pt x="228" y="120"/>
                    </a:lnTo>
                    <a:lnTo>
                      <a:pt x="226" y="120"/>
                    </a:lnTo>
                    <a:lnTo>
                      <a:pt x="221" y="117"/>
                    </a:lnTo>
                    <a:lnTo>
                      <a:pt x="218" y="117"/>
                    </a:lnTo>
                    <a:lnTo>
                      <a:pt x="215" y="117"/>
                    </a:lnTo>
                    <a:lnTo>
                      <a:pt x="210" y="115"/>
                    </a:lnTo>
                    <a:lnTo>
                      <a:pt x="208" y="115"/>
                    </a:lnTo>
                    <a:lnTo>
                      <a:pt x="205" y="117"/>
                    </a:lnTo>
                    <a:lnTo>
                      <a:pt x="203" y="120"/>
                    </a:lnTo>
                    <a:lnTo>
                      <a:pt x="200" y="120"/>
                    </a:lnTo>
                    <a:lnTo>
                      <a:pt x="198" y="123"/>
                    </a:lnTo>
                    <a:lnTo>
                      <a:pt x="195" y="125"/>
                    </a:lnTo>
                    <a:lnTo>
                      <a:pt x="192" y="128"/>
                    </a:lnTo>
                    <a:lnTo>
                      <a:pt x="190" y="130"/>
                    </a:lnTo>
                    <a:lnTo>
                      <a:pt x="187" y="130"/>
                    </a:lnTo>
                    <a:lnTo>
                      <a:pt x="185" y="133"/>
                    </a:lnTo>
                    <a:lnTo>
                      <a:pt x="182" y="135"/>
                    </a:lnTo>
                    <a:lnTo>
                      <a:pt x="180" y="135"/>
                    </a:lnTo>
                    <a:lnTo>
                      <a:pt x="174" y="138"/>
                    </a:lnTo>
                    <a:lnTo>
                      <a:pt x="172" y="141"/>
                    </a:lnTo>
                    <a:lnTo>
                      <a:pt x="169" y="143"/>
                    </a:lnTo>
                    <a:lnTo>
                      <a:pt x="167" y="143"/>
                    </a:lnTo>
                    <a:lnTo>
                      <a:pt x="164" y="146"/>
                    </a:lnTo>
                    <a:lnTo>
                      <a:pt x="162" y="148"/>
                    </a:lnTo>
                    <a:lnTo>
                      <a:pt x="157" y="148"/>
                    </a:lnTo>
                    <a:lnTo>
                      <a:pt x="154" y="151"/>
                    </a:lnTo>
                    <a:lnTo>
                      <a:pt x="151" y="153"/>
                    </a:lnTo>
                    <a:lnTo>
                      <a:pt x="149" y="153"/>
                    </a:lnTo>
                    <a:lnTo>
                      <a:pt x="144" y="156"/>
                    </a:lnTo>
                    <a:lnTo>
                      <a:pt x="141" y="156"/>
                    </a:lnTo>
                    <a:lnTo>
                      <a:pt x="139" y="158"/>
                    </a:lnTo>
                    <a:lnTo>
                      <a:pt x="134" y="158"/>
                    </a:lnTo>
                    <a:lnTo>
                      <a:pt x="131" y="161"/>
                    </a:lnTo>
                    <a:lnTo>
                      <a:pt x="128" y="161"/>
                    </a:lnTo>
                    <a:lnTo>
                      <a:pt x="123" y="164"/>
                    </a:lnTo>
                    <a:lnTo>
                      <a:pt x="121" y="164"/>
                    </a:lnTo>
                    <a:lnTo>
                      <a:pt x="118" y="166"/>
                    </a:lnTo>
                    <a:lnTo>
                      <a:pt x="113" y="166"/>
                    </a:lnTo>
                    <a:lnTo>
                      <a:pt x="110" y="169"/>
                    </a:lnTo>
                    <a:lnTo>
                      <a:pt x="108" y="169"/>
                    </a:lnTo>
                    <a:lnTo>
                      <a:pt x="103" y="169"/>
                    </a:lnTo>
                    <a:lnTo>
                      <a:pt x="100" y="169"/>
                    </a:lnTo>
                    <a:lnTo>
                      <a:pt x="98" y="169"/>
                    </a:lnTo>
                    <a:lnTo>
                      <a:pt x="93" y="169"/>
                    </a:lnTo>
                    <a:lnTo>
                      <a:pt x="90" y="169"/>
                    </a:lnTo>
                    <a:lnTo>
                      <a:pt x="85" y="166"/>
                    </a:lnTo>
                    <a:lnTo>
                      <a:pt x="82" y="166"/>
                    </a:lnTo>
                    <a:lnTo>
                      <a:pt x="80" y="164"/>
                    </a:lnTo>
                    <a:lnTo>
                      <a:pt x="77" y="164"/>
                    </a:lnTo>
                    <a:lnTo>
                      <a:pt x="75" y="161"/>
                    </a:lnTo>
                    <a:lnTo>
                      <a:pt x="72" y="161"/>
                    </a:lnTo>
                    <a:lnTo>
                      <a:pt x="70" y="158"/>
                    </a:lnTo>
                    <a:lnTo>
                      <a:pt x="70" y="156"/>
                    </a:lnTo>
                    <a:lnTo>
                      <a:pt x="67" y="153"/>
                    </a:lnTo>
                    <a:lnTo>
                      <a:pt x="67" y="151"/>
                    </a:lnTo>
                    <a:lnTo>
                      <a:pt x="64" y="151"/>
                    </a:lnTo>
                    <a:lnTo>
                      <a:pt x="59" y="148"/>
                    </a:lnTo>
                    <a:lnTo>
                      <a:pt x="54" y="148"/>
                    </a:lnTo>
                    <a:lnTo>
                      <a:pt x="49" y="146"/>
                    </a:lnTo>
                    <a:lnTo>
                      <a:pt x="44" y="146"/>
                    </a:lnTo>
                    <a:lnTo>
                      <a:pt x="39" y="143"/>
                    </a:lnTo>
                    <a:lnTo>
                      <a:pt x="34" y="141"/>
                    </a:lnTo>
                    <a:lnTo>
                      <a:pt x="29" y="141"/>
                    </a:lnTo>
                    <a:lnTo>
                      <a:pt x="23" y="138"/>
                    </a:lnTo>
                    <a:lnTo>
                      <a:pt x="18" y="135"/>
                    </a:lnTo>
                    <a:lnTo>
                      <a:pt x="13" y="133"/>
                    </a:lnTo>
                    <a:lnTo>
                      <a:pt x="11" y="130"/>
                    </a:lnTo>
                    <a:lnTo>
                      <a:pt x="8" y="125"/>
                    </a:lnTo>
                    <a:lnTo>
                      <a:pt x="5" y="123"/>
                    </a:lnTo>
                    <a:lnTo>
                      <a:pt x="3" y="120"/>
                    </a:lnTo>
                    <a:lnTo>
                      <a:pt x="0" y="115"/>
                    </a:lnTo>
                    <a:lnTo>
                      <a:pt x="0" y="112"/>
                    </a:lnTo>
                    <a:lnTo>
                      <a:pt x="0" y="110"/>
                    </a:lnTo>
                    <a:lnTo>
                      <a:pt x="0" y="110"/>
                    </a:lnTo>
                    <a:lnTo>
                      <a:pt x="0" y="107"/>
                    </a:lnTo>
                    <a:lnTo>
                      <a:pt x="0" y="105"/>
                    </a:lnTo>
                    <a:lnTo>
                      <a:pt x="3" y="102"/>
                    </a:lnTo>
                    <a:lnTo>
                      <a:pt x="3" y="102"/>
                    </a:lnTo>
                    <a:lnTo>
                      <a:pt x="5" y="100"/>
                    </a:lnTo>
                    <a:lnTo>
                      <a:pt x="8" y="100"/>
                    </a:lnTo>
                    <a:lnTo>
                      <a:pt x="8" y="97"/>
                    </a:lnTo>
                    <a:lnTo>
                      <a:pt x="11" y="97"/>
                    </a:lnTo>
                    <a:lnTo>
                      <a:pt x="13" y="94"/>
                    </a:lnTo>
                    <a:lnTo>
                      <a:pt x="16" y="94"/>
                    </a:lnTo>
                    <a:lnTo>
                      <a:pt x="18" y="92"/>
                    </a:lnTo>
                    <a:lnTo>
                      <a:pt x="18" y="92"/>
                    </a:lnTo>
                    <a:lnTo>
                      <a:pt x="21" y="89"/>
                    </a:lnTo>
                    <a:lnTo>
                      <a:pt x="23" y="89"/>
                    </a:lnTo>
                    <a:lnTo>
                      <a:pt x="26" y="89"/>
                    </a:lnTo>
                    <a:lnTo>
                      <a:pt x="29" y="89"/>
                    </a:lnTo>
                    <a:lnTo>
                      <a:pt x="31" y="89"/>
                    </a:lnTo>
                    <a:lnTo>
                      <a:pt x="34" y="89"/>
                    </a:lnTo>
                    <a:lnTo>
                      <a:pt x="36" y="87"/>
                    </a:lnTo>
                    <a:lnTo>
                      <a:pt x="39" y="87"/>
                    </a:lnTo>
                    <a:lnTo>
                      <a:pt x="41" y="87"/>
                    </a:lnTo>
                    <a:lnTo>
                      <a:pt x="44" y="87"/>
                    </a:lnTo>
                    <a:lnTo>
                      <a:pt x="49" y="87"/>
                    </a:lnTo>
                    <a:lnTo>
                      <a:pt x="52" y="87"/>
                    </a:lnTo>
                    <a:lnTo>
                      <a:pt x="54" y="87"/>
                    </a:lnTo>
                    <a:lnTo>
                      <a:pt x="59" y="87"/>
                    </a:lnTo>
                    <a:lnTo>
                      <a:pt x="62" y="87"/>
                    </a:lnTo>
                    <a:lnTo>
                      <a:pt x="67" y="87"/>
                    </a:lnTo>
                    <a:lnTo>
                      <a:pt x="70" y="87"/>
                    </a:lnTo>
                    <a:lnTo>
                      <a:pt x="64" y="84"/>
                    </a:lnTo>
                    <a:lnTo>
                      <a:pt x="62" y="82"/>
                    </a:lnTo>
                    <a:lnTo>
                      <a:pt x="57" y="79"/>
                    </a:lnTo>
                    <a:lnTo>
                      <a:pt x="54" y="77"/>
                    </a:lnTo>
                    <a:lnTo>
                      <a:pt x="49" y="74"/>
                    </a:lnTo>
                    <a:lnTo>
                      <a:pt x="46" y="69"/>
                    </a:lnTo>
                    <a:lnTo>
                      <a:pt x="41" y="66"/>
                    </a:lnTo>
                    <a:lnTo>
                      <a:pt x="39" y="64"/>
                    </a:lnTo>
                    <a:lnTo>
                      <a:pt x="36" y="59"/>
                    </a:lnTo>
                    <a:lnTo>
                      <a:pt x="34" y="56"/>
                    </a:lnTo>
                    <a:lnTo>
                      <a:pt x="31" y="54"/>
                    </a:lnTo>
                    <a:lnTo>
                      <a:pt x="29" y="48"/>
                    </a:lnTo>
                    <a:lnTo>
                      <a:pt x="26" y="46"/>
                    </a:lnTo>
                    <a:lnTo>
                      <a:pt x="26" y="41"/>
                    </a:lnTo>
                    <a:lnTo>
                      <a:pt x="23" y="38"/>
                    </a:lnTo>
                    <a:lnTo>
                      <a:pt x="21" y="33"/>
                    </a:lnTo>
                    <a:lnTo>
                      <a:pt x="21" y="30"/>
                    </a:lnTo>
                    <a:lnTo>
                      <a:pt x="21" y="25"/>
                    </a:lnTo>
                    <a:lnTo>
                      <a:pt x="21" y="23"/>
                    </a:lnTo>
                    <a:lnTo>
                      <a:pt x="21" y="20"/>
                    </a:lnTo>
                    <a:lnTo>
                      <a:pt x="21" y="15"/>
                    </a:lnTo>
                    <a:lnTo>
                      <a:pt x="23" y="13"/>
                    </a:lnTo>
                    <a:lnTo>
                      <a:pt x="23" y="10"/>
                    </a:lnTo>
                    <a:lnTo>
                      <a:pt x="26" y="7"/>
                    </a:lnTo>
                    <a:lnTo>
                      <a:pt x="29" y="5"/>
                    </a:lnTo>
                    <a:lnTo>
                      <a:pt x="31" y="5"/>
                    </a:lnTo>
                    <a:lnTo>
                      <a:pt x="34" y="2"/>
                    </a:lnTo>
                    <a:lnTo>
                      <a:pt x="36" y="2"/>
                    </a:lnTo>
                    <a:lnTo>
                      <a:pt x="39" y="0"/>
                    </a:lnTo>
                    <a:lnTo>
                      <a:pt x="41" y="0"/>
                    </a:lnTo>
                    <a:lnTo>
                      <a:pt x="44" y="0"/>
                    </a:lnTo>
                    <a:lnTo>
                      <a:pt x="46" y="0"/>
                    </a:lnTo>
                    <a:lnTo>
                      <a:pt x="52" y="0"/>
                    </a:lnTo>
                    <a:lnTo>
                      <a:pt x="57" y="2"/>
                    </a:lnTo>
                    <a:lnTo>
                      <a:pt x="59" y="2"/>
                    </a:lnTo>
                    <a:lnTo>
                      <a:pt x="64" y="5"/>
                    </a:lnTo>
                    <a:lnTo>
                      <a:pt x="67" y="7"/>
                    </a:lnTo>
                    <a:lnTo>
                      <a:pt x="72" y="10"/>
                    </a:lnTo>
                    <a:lnTo>
                      <a:pt x="75" y="13"/>
                    </a:lnTo>
                    <a:lnTo>
                      <a:pt x="77" y="18"/>
                    </a:lnTo>
                    <a:lnTo>
                      <a:pt x="80" y="20"/>
                    </a:lnTo>
                    <a:lnTo>
                      <a:pt x="85" y="23"/>
                    </a:lnTo>
                    <a:lnTo>
                      <a:pt x="87" y="28"/>
                    </a:lnTo>
                    <a:lnTo>
                      <a:pt x="90" y="30"/>
                    </a:lnTo>
                    <a:lnTo>
                      <a:pt x="93" y="33"/>
                    </a:lnTo>
                    <a:lnTo>
                      <a:pt x="95" y="36"/>
                    </a:lnTo>
                    <a:lnTo>
                      <a:pt x="98" y="41"/>
                    </a:lnTo>
                    <a:lnTo>
                      <a:pt x="100" y="43"/>
                    </a:lnTo>
                    <a:lnTo>
                      <a:pt x="103" y="41"/>
                    </a:lnTo>
                    <a:lnTo>
                      <a:pt x="105" y="38"/>
                    </a:lnTo>
                    <a:lnTo>
                      <a:pt x="105" y="36"/>
                    </a:lnTo>
                    <a:lnTo>
                      <a:pt x="108" y="33"/>
                    </a:lnTo>
                    <a:lnTo>
                      <a:pt x="110" y="30"/>
                    </a:lnTo>
                    <a:lnTo>
                      <a:pt x="110" y="28"/>
                    </a:lnTo>
                    <a:lnTo>
                      <a:pt x="113" y="28"/>
                    </a:lnTo>
                    <a:lnTo>
                      <a:pt x="116" y="25"/>
                    </a:lnTo>
                    <a:lnTo>
                      <a:pt x="118" y="25"/>
                    </a:lnTo>
                    <a:lnTo>
                      <a:pt x="121" y="25"/>
                    </a:lnTo>
                    <a:lnTo>
                      <a:pt x="121" y="23"/>
                    </a:lnTo>
                    <a:lnTo>
                      <a:pt x="123" y="23"/>
                    </a:lnTo>
                    <a:lnTo>
                      <a:pt x="126" y="23"/>
                    </a:lnTo>
                    <a:lnTo>
                      <a:pt x="128" y="23"/>
                    </a:lnTo>
                    <a:lnTo>
                      <a:pt x="131" y="23"/>
                    </a:lnTo>
                    <a:lnTo>
                      <a:pt x="131" y="23"/>
                    </a:lnTo>
                    <a:lnTo>
                      <a:pt x="262" y="54"/>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flipH="1" flipV="1">
                <a:off x="8362800" y="603468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18" name=""/>
              <p:cNvSpPr/>
              <p:nvPr/>
            </p:nvSpPr>
            <p:spPr>
              <a:xfrm>
                <a:off x="8343720" y="601560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19" name=""/>
              <p:cNvSpPr/>
              <p:nvPr/>
            </p:nvSpPr>
            <p:spPr>
              <a:xfrm flipH="1">
                <a:off x="8440920" y="6024960"/>
                <a:ext cx="18720" cy="7920"/>
              </a:xfrm>
              <a:custGeom>
                <a:avLst/>
                <a:gdLst/>
                <a:ahLst/>
                <a:rect l="l" t="t" r="r" b="b"/>
                <a:pathLst>
                  <a:path w="30" h="13">
                    <a:moveTo>
                      <a:pt x="0" y="0"/>
                    </a:moveTo>
                    <a:lnTo>
                      <a:pt x="2" y="0"/>
                    </a:lnTo>
                    <a:lnTo>
                      <a:pt x="2" y="0"/>
                    </a:lnTo>
                    <a:lnTo>
                      <a:pt x="5" y="3"/>
                    </a:lnTo>
                    <a:lnTo>
                      <a:pt x="7" y="3"/>
                    </a:lnTo>
                    <a:lnTo>
                      <a:pt x="10" y="5"/>
                    </a:lnTo>
                    <a:lnTo>
                      <a:pt x="10" y="5"/>
                    </a:lnTo>
                    <a:lnTo>
                      <a:pt x="12" y="5"/>
                    </a:lnTo>
                    <a:lnTo>
                      <a:pt x="15" y="8"/>
                    </a:lnTo>
                    <a:lnTo>
                      <a:pt x="17" y="8"/>
                    </a:lnTo>
                    <a:lnTo>
                      <a:pt x="17" y="11"/>
                    </a:lnTo>
                    <a:lnTo>
                      <a:pt x="20" y="11"/>
                    </a:lnTo>
                    <a:lnTo>
                      <a:pt x="23" y="11"/>
                    </a:lnTo>
                    <a:lnTo>
                      <a:pt x="25" y="11"/>
                    </a:lnTo>
                    <a:lnTo>
                      <a:pt x="25" y="13"/>
                    </a:lnTo>
                    <a:lnTo>
                      <a:pt x="28" y="13"/>
                    </a:lnTo>
                    <a:lnTo>
                      <a:pt x="30" y="1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0" name=""/>
              <p:cNvSpPr/>
              <p:nvPr/>
            </p:nvSpPr>
            <p:spPr>
              <a:xfrm flipH="1">
                <a:off x="8426160" y="6053040"/>
                <a:ext cx="35280" cy="9360"/>
              </a:xfrm>
              <a:custGeom>
                <a:avLst/>
                <a:gdLst/>
                <a:ahLst/>
                <a:rect l="l" t="t" r="r" b="b"/>
                <a:pathLst>
                  <a:path w="56" h="15">
                    <a:moveTo>
                      <a:pt x="0" y="15"/>
                    </a:moveTo>
                    <a:lnTo>
                      <a:pt x="5" y="15"/>
                    </a:lnTo>
                    <a:lnTo>
                      <a:pt x="8" y="15"/>
                    </a:lnTo>
                    <a:lnTo>
                      <a:pt x="10" y="15"/>
                    </a:lnTo>
                    <a:lnTo>
                      <a:pt x="15" y="15"/>
                    </a:lnTo>
                    <a:lnTo>
                      <a:pt x="18" y="15"/>
                    </a:lnTo>
                    <a:lnTo>
                      <a:pt x="23" y="15"/>
                    </a:lnTo>
                    <a:lnTo>
                      <a:pt x="26" y="15"/>
                    </a:lnTo>
                    <a:lnTo>
                      <a:pt x="28" y="15"/>
                    </a:lnTo>
                    <a:lnTo>
                      <a:pt x="33" y="13"/>
                    </a:lnTo>
                    <a:lnTo>
                      <a:pt x="36" y="13"/>
                    </a:lnTo>
                    <a:lnTo>
                      <a:pt x="38" y="10"/>
                    </a:lnTo>
                    <a:lnTo>
                      <a:pt x="43" y="10"/>
                    </a:lnTo>
                    <a:lnTo>
                      <a:pt x="46" y="8"/>
                    </a:lnTo>
                    <a:lnTo>
                      <a:pt x="49" y="5"/>
                    </a:lnTo>
                    <a:lnTo>
                      <a:pt x="51" y="2"/>
                    </a:lnTo>
                    <a:lnTo>
                      <a:pt x="56"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flipH="1" flipV="1">
                <a:off x="8388720" y="6020640"/>
                <a:ext cx="19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22" name=""/>
              <p:cNvSpPr/>
              <p:nvPr/>
            </p:nvSpPr>
            <p:spPr>
              <a:xfrm flipH="1" flipV="1">
                <a:off x="8377200" y="6023520"/>
                <a:ext cx="14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23" name=""/>
              <p:cNvSpPr/>
              <p:nvPr/>
            </p:nvSpPr>
            <p:spPr>
              <a:xfrm flipH="1" flipV="1">
                <a:off x="8401320" y="6018480"/>
                <a:ext cx="6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24" name=""/>
              <p:cNvSpPr/>
              <p:nvPr/>
            </p:nvSpPr>
            <p:spPr>
              <a:xfrm flipH="1">
                <a:off x="7907040" y="5774400"/>
                <a:ext cx="516600" cy="315720"/>
              </a:xfrm>
              <a:custGeom>
                <a:avLst/>
                <a:gdLst/>
                <a:ahLst/>
                <a:rect l="l" t="t" r="r" b="b"/>
                <a:pathLst>
                  <a:path w="814" h="497">
                    <a:moveTo>
                      <a:pt x="389" y="26"/>
                    </a:moveTo>
                    <a:lnTo>
                      <a:pt x="392" y="26"/>
                    </a:lnTo>
                    <a:lnTo>
                      <a:pt x="394" y="26"/>
                    </a:lnTo>
                    <a:lnTo>
                      <a:pt x="397" y="26"/>
                    </a:lnTo>
                    <a:lnTo>
                      <a:pt x="397" y="23"/>
                    </a:lnTo>
                    <a:lnTo>
                      <a:pt x="399" y="23"/>
                    </a:lnTo>
                    <a:lnTo>
                      <a:pt x="402" y="21"/>
                    </a:lnTo>
                    <a:lnTo>
                      <a:pt x="404" y="21"/>
                    </a:lnTo>
                    <a:lnTo>
                      <a:pt x="407" y="21"/>
                    </a:lnTo>
                    <a:lnTo>
                      <a:pt x="412" y="18"/>
                    </a:lnTo>
                    <a:lnTo>
                      <a:pt x="415" y="18"/>
                    </a:lnTo>
                    <a:lnTo>
                      <a:pt x="417" y="16"/>
                    </a:lnTo>
                    <a:lnTo>
                      <a:pt x="420" y="16"/>
                    </a:lnTo>
                    <a:lnTo>
                      <a:pt x="422" y="13"/>
                    </a:lnTo>
                    <a:lnTo>
                      <a:pt x="425" y="13"/>
                    </a:lnTo>
                    <a:lnTo>
                      <a:pt x="427" y="11"/>
                    </a:lnTo>
                    <a:lnTo>
                      <a:pt x="430" y="11"/>
                    </a:lnTo>
                    <a:lnTo>
                      <a:pt x="433" y="8"/>
                    </a:lnTo>
                    <a:lnTo>
                      <a:pt x="435" y="8"/>
                    </a:lnTo>
                    <a:lnTo>
                      <a:pt x="440" y="5"/>
                    </a:lnTo>
                    <a:lnTo>
                      <a:pt x="443" y="5"/>
                    </a:lnTo>
                    <a:lnTo>
                      <a:pt x="445" y="5"/>
                    </a:lnTo>
                    <a:lnTo>
                      <a:pt x="448" y="3"/>
                    </a:lnTo>
                    <a:lnTo>
                      <a:pt x="451" y="3"/>
                    </a:lnTo>
                    <a:lnTo>
                      <a:pt x="453" y="3"/>
                    </a:lnTo>
                    <a:lnTo>
                      <a:pt x="456" y="0"/>
                    </a:lnTo>
                    <a:lnTo>
                      <a:pt x="458" y="0"/>
                    </a:lnTo>
                    <a:lnTo>
                      <a:pt x="461" y="0"/>
                    </a:lnTo>
                    <a:lnTo>
                      <a:pt x="463" y="0"/>
                    </a:lnTo>
                    <a:lnTo>
                      <a:pt x="466" y="0"/>
                    </a:lnTo>
                    <a:lnTo>
                      <a:pt x="468" y="0"/>
                    </a:lnTo>
                    <a:lnTo>
                      <a:pt x="471" y="0"/>
                    </a:lnTo>
                    <a:lnTo>
                      <a:pt x="474" y="0"/>
                    </a:lnTo>
                    <a:lnTo>
                      <a:pt x="476" y="3"/>
                    </a:lnTo>
                    <a:lnTo>
                      <a:pt x="479" y="3"/>
                    </a:lnTo>
                    <a:lnTo>
                      <a:pt x="484" y="5"/>
                    </a:lnTo>
                    <a:lnTo>
                      <a:pt x="486" y="5"/>
                    </a:lnTo>
                    <a:lnTo>
                      <a:pt x="489" y="5"/>
                    </a:lnTo>
                    <a:lnTo>
                      <a:pt x="491" y="8"/>
                    </a:lnTo>
                    <a:lnTo>
                      <a:pt x="494" y="8"/>
                    </a:lnTo>
                    <a:lnTo>
                      <a:pt x="497" y="11"/>
                    </a:lnTo>
                    <a:lnTo>
                      <a:pt x="499" y="11"/>
                    </a:lnTo>
                    <a:lnTo>
                      <a:pt x="502" y="13"/>
                    </a:lnTo>
                    <a:lnTo>
                      <a:pt x="504" y="13"/>
                    </a:lnTo>
                    <a:lnTo>
                      <a:pt x="507" y="16"/>
                    </a:lnTo>
                    <a:lnTo>
                      <a:pt x="509" y="18"/>
                    </a:lnTo>
                    <a:lnTo>
                      <a:pt x="512" y="18"/>
                    </a:lnTo>
                    <a:lnTo>
                      <a:pt x="515" y="21"/>
                    </a:lnTo>
                    <a:lnTo>
                      <a:pt x="517" y="21"/>
                    </a:lnTo>
                    <a:lnTo>
                      <a:pt x="517" y="23"/>
                    </a:lnTo>
                    <a:lnTo>
                      <a:pt x="520" y="26"/>
                    </a:lnTo>
                    <a:lnTo>
                      <a:pt x="522" y="26"/>
                    </a:lnTo>
                    <a:lnTo>
                      <a:pt x="525" y="28"/>
                    </a:lnTo>
                    <a:lnTo>
                      <a:pt x="527" y="31"/>
                    </a:lnTo>
                    <a:lnTo>
                      <a:pt x="527" y="34"/>
                    </a:lnTo>
                    <a:lnTo>
                      <a:pt x="530" y="34"/>
                    </a:lnTo>
                    <a:lnTo>
                      <a:pt x="532" y="36"/>
                    </a:lnTo>
                    <a:lnTo>
                      <a:pt x="535" y="39"/>
                    </a:lnTo>
                    <a:lnTo>
                      <a:pt x="538" y="41"/>
                    </a:lnTo>
                    <a:lnTo>
                      <a:pt x="540" y="44"/>
                    </a:lnTo>
                    <a:lnTo>
                      <a:pt x="543" y="46"/>
                    </a:lnTo>
                    <a:lnTo>
                      <a:pt x="545" y="49"/>
                    </a:lnTo>
                    <a:lnTo>
                      <a:pt x="548" y="51"/>
                    </a:lnTo>
                    <a:lnTo>
                      <a:pt x="550" y="54"/>
                    </a:lnTo>
                    <a:lnTo>
                      <a:pt x="553" y="57"/>
                    </a:lnTo>
                    <a:lnTo>
                      <a:pt x="555" y="59"/>
                    </a:lnTo>
                    <a:lnTo>
                      <a:pt x="558" y="64"/>
                    </a:lnTo>
                    <a:lnTo>
                      <a:pt x="563" y="67"/>
                    </a:lnTo>
                    <a:lnTo>
                      <a:pt x="566" y="72"/>
                    </a:lnTo>
                    <a:lnTo>
                      <a:pt x="568" y="74"/>
                    </a:lnTo>
                    <a:lnTo>
                      <a:pt x="571" y="80"/>
                    </a:lnTo>
                    <a:lnTo>
                      <a:pt x="573" y="85"/>
                    </a:lnTo>
                    <a:lnTo>
                      <a:pt x="576" y="87"/>
                    </a:lnTo>
                    <a:lnTo>
                      <a:pt x="579" y="92"/>
                    </a:lnTo>
                    <a:lnTo>
                      <a:pt x="581" y="98"/>
                    </a:lnTo>
                    <a:lnTo>
                      <a:pt x="586" y="103"/>
                    </a:lnTo>
                    <a:lnTo>
                      <a:pt x="589" y="108"/>
                    </a:lnTo>
                    <a:lnTo>
                      <a:pt x="591" y="113"/>
                    </a:lnTo>
                    <a:lnTo>
                      <a:pt x="594" y="118"/>
                    </a:lnTo>
                    <a:lnTo>
                      <a:pt x="596" y="123"/>
                    </a:lnTo>
                    <a:lnTo>
                      <a:pt x="602" y="128"/>
                    </a:lnTo>
                    <a:lnTo>
                      <a:pt x="604" y="131"/>
                    </a:lnTo>
                    <a:lnTo>
                      <a:pt x="604" y="131"/>
                    </a:lnTo>
                    <a:lnTo>
                      <a:pt x="607" y="131"/>
                    </a:lnTo>
                    <a:lnTo>
                      <a:pt x="609" y="133"/>
                    </a:lnTo>
                    <a:lnTo>
                      <a:pt x="612" y="133"/>
                    </a:lnTo>
                    <a:lnTo>
                      <a:pt x="614" y="136"/>
                    </a:lnTo>
                    <a:lnTo>
                      <a:pt x="614" y="138"/>
                    </a:lnTo>
                    <a:lnTo>
                      <a:pt x="617" y="138"/>
                    </a:lnTo>
                    <a:lnTo>
                      <a:pt x="620" y="141"/>
                    </a:lnTo>
                    <a:lnTo>
                      <a:pt x="622" y="141"/>
                    </a:lnTo>
                    <a:lnTo>
                      <a:pt x="625" y="144"/>
                    </a:lnTo>
                    <a:lnTo>
                      <a:pt x="627" y="146"/>
                    </a:lnTo>
                    <a:lnTo>
                      <a:pt x="630" y="149"/>
                    </a:lnTo>
                    <a:lnTo>
                      <a:pt x="632" y="149"/>
                    </a:lnTo>
                    <a:lnTo>
                      <a:pt x="635" y="151"/>
                    </a:lnTo>
                    <a:lnTo>
                      <a:pt x="637" y="154"/>
                    </a:lnTo>
                    <a:lnTo>
                      <a:pt x="640" y="154"/>
                    </a:lnTo>
                    <a:lnTo>
                      <a:pt x="643" y="156"/>
                    </a:lnTo>
                    <a:lnTo>
                      <a:pt x="645" y="159"/>
                    </a:lnTo>
                    <a:lnTo>
                      <a:pt x="648" y="159"/>
                    </a:lnTo>
                    <a:lnTo>
                      <a:pt x="650" y="161"/>
                    </a:lnTo>
                    <a:lnTo>
                      <a:pt x="653" y="161"/>
                    </a:lnTo>
                    <a:lnTo>
                      <a:pt x="655" y="164"/>
                    </a:lnTo>
                    <a:lnTo>
                      <a:pt x="658" y="167"/>
                    </a:lnTo>
                    <a:lnTo>
                      <a:pt x="663" y="167"/>
                    </a:lnTo>
                    <a:lnTo>
                      <a:pt x="666" y="167"/>
                    </a:lnTo>
                    <a:lnTo>
                      <a:pt x="668" y="169"/>
                    </a:lnTo>
                    <a:lnTo>
                      <a:pt x="671" y="169"/>
                    </a:lnTo>
                    <a:lnTo>
                      <a:pt x="673" y="169"/>
                    </a:lnTo>
                    <a:lnTo>
                      <a:pt x="676" y="172"/>
                    </a:lnTo>
                    <a:lnTo>
                      <a:pt x="678" y="172"/>
                    </a:lnTo>
                    <a:lnTo>
                      <a:pt x="681" y="172"/>
                    </a:lnTo>
                    <a:lnTo>
                      <a:pt x="684" y="172"/>
                    </a:lnTo>
                    <a:lnTo>
                      <a:pt x="686" y="169"/>
                    </a:lnTo>
                    <a:lnTo>
                      <a:pt x="689" y="169"/>
                    </a:lnTo>
                    <a:lnTo>
                      <a:pt x="691" y="169"/>
                    </a:lnTo>
                    <a:lnTo>
                      <a:pt x="696" y="169"/>
                    </a:lnTo>
                    <a:lnTo>
                      <a:pt x="699" y="167"/>
                    </a:lnTo>
                    <a:lnTo>
                      <a:pt x="701" y="167"/>
                    </a:lnTo>
                    <a:lnTo>
                      <a:pt x="704" y="164"/>
                    </a:lnTo>
                    <a:lnTo>
                      <a:pt x="709" y="161"/>
                    </a:lnTo>
                    <a:lnTo>
                      <a:pt x="712" y="161"/>
                    </a:lnTo>
                    <a:lnTo>
                      <a:pt x="714" y="159"/>
                    </a:lnTo>
                    <a:lnTo>
                      <a:pt x="719" y="159"/>
                    </a:lnTo>
                    <a:lnTo>
                      <a:pt x="722" y="156"/>
                    </a:lnTo>
                    <a:lnTo>
                      <a:pt x="724" y="154"/>
                    </a:lnTo>
                    <a:lnTo>
                      <a:pt x="727" y="151"/>
                    </a:lnTo>
                    <a:lnTo>
                      <a:pt x="732" y="151"/>
                    </a:lnTo>
                    <a:lnTo>
                      <a:pt x="735" y="149"/>
                    </a:lnTo>
                    <a:lnTo>
                      <a:pt x="737" y="146"/>
                    </a:lnTo>
                    <a:lnTo>
                      <a:pt x="740" y="146"/>
                    </a:lnTo>
                    <a:lnTo>
                      <a:pt x="745" y="144"/>
                    </a:lnTo>
                    <a:lnTo>
                      <a:pt x="748" y="144"/>
                    </a:lnTo>
                    <a:lnTo>
                      <a:pt x="750" y="141"/>
                    </a:lnTo>
                    <a:lnTo>
                      <a:pt x="753" y="141"/>
                    </a:lnTo>
                    <a:lnTo>
                      <a:pt x="755" y="138"/>
                    </a:lnTo>
                    <a:lnTo>
                      <a:pt x="758" y="138"/>
                    </a:lnTo>
                    <a:lnTo>
                      <a:pt x="760" y="138"/>
                    </a:lnTo>
                    <a:lnTo>
                      <a:pt x="763" y="138"/>
                    </a:lnTo>
                    <a:lnTo>
                      <a:pt x="765" y="138"/>
                    </a:lnTo>
                    <a:lnTo>
                      <a:pt x="768" y="138"/>
                    </a:lnTo>
                    <a:lnTo>
                      <a:pt x="771" y="138"/>
                    </a:lnTo>
                    <a:lnTo>
                      <a:pt x="773" y="138"/>
                    </a:lnTo>
                    <a:lnTo>
                      <a:pt x="773" y="141"/>
                    </a:lnTo>
                    <a:lnTo>
                      <a:pt x="814" y="251"/>
                    </a:lnTo>
                    <a:lnTo>
                      <a:pt x="814" y="254"/>
                    </a:lnTo>
                    <a:lnTo>
                      <a:pt x="814" y="256"/>
                    </a:lnTo>
                    <a:lnTo>
                      <a:pt x="814" y="259"/>
                    </a:lnTo>
                    <a:lnTo>
                      <a:pt x="814" y="261"/>
                    </a:lnTo>
                    <a:lnTo>
                      <a:pt x="812" y="266"/>
                    </a:lnTo>
                    <a:lnTo>
                      <a:pt x="812" y="269"/>
                    </a:lnTo>
                    <a:lnTo>
                      <a:pt x="809" y="272"/>
                    </a:lnTo>
                    <a:lnTo>
                      <a:pt x="806" y="274"/>
                    </a:lnTo>
                    <a:lnTo>
                      <a:pt x="804" y="277"/>
                    </a:lnTo>
                    <a:lnTo>
                      <a:pt x="801" y="279"/>
                    </a:lnTo>
                    <a:lnTo>
                      <a:pt x="801" y="282"/>
                    </a:lnTo>
                    <a:lnTo>
                      <a:pt x="799" y="284"/>
                    </a:lnTo>
                    <a:lnTo>
                      <a:pt x="796" y="287"/>
                    </a:lnTo>
                    <a:lnTo>
                      <a:pt x="794" y="289"/>
                    </a:lnTo>
                    <a:lnTo>
                      <a:pt x="791" y="289"/>
                    </a:lnTo>
                    <a:lnTo>
                      <a:pt x="789" y="292"/>
                    </a:lnTo>
                    <a:lnTo>
                      <a:pt x="786" y="295"/>
                    </a:lnTo>
                    <a:lnTo>
                      <a:pt x="783" y="295"/>
                    </a:lnTo>
                    <a:lnTo>
                      <a:pt x="781" y="297"/>
                    </a:lnTo>
                    <a:lnTo>
                      <a:pt x="776" y="300"/>
                    </a:lnTo>
                    <a:lnTo>
                      <a:pt x="773" y="300"/>
                    </a:lnTo>
                    <a:lnTo>
                      <a:pt x="771" y="302"/>
                    </a:lnTo>
                    <a:lnTo>
                      <a:pt x="768" y="302"/>
                    </a:lnTo>
                    <a:lnTo>
                      <a:pt x="765" y="305"/>
                    </a:lnTo>
                    <a:lnTo>
                      <a:pt x="763" y="305"/>
                    </a:lnTo>
                    <a:lnTo>
                      <a:pt x="760" y="307"/>
                    </a:lnTo>
                    <a:lnTo>
                      <a:pt x="758" y="307"/>
                    </a:lnTo>
                    <a:lnTo>
                      <a:pt x="753" y="310"/>
                    </a:lnTo>
                    <a:lnTo>
                      <a:pt x="750" y="310"/>
                    </a:lnTo>
                    <a:lnTo>
                      <a:pt x="748" y="312"/>
                    </a:lnTo>
                    <a:lnTo>
                      <a:pt x="745" y="312"/>
                    </a:lnTo>
                    <a:lnTo>
                      <a:pt x="742" y="315"/>
                    </a:lnTo>
                    <a:lnTo>
                      <a:pt x="740" y="315"/>
                    </a:lnTo>
                    <a:lnTo>
                      <a:pt x="737" y="315"/>
                    </a:lnTo>
                    <a:lnTo>
                      <a:pt x="732" y="318"/>
                    </a:lnTo>
                    <a:lnTo>
                      <a:pt x="730" y="318"/>
                    </a:lnTo>
                    <a:lnTo>
                      <a:pt x="727" y="318"/>
                    </a:lnTo>
                    <a:lnTo>
                      <a:pt x="724" y="320"/>
                    </a:lnTo>
                    <a:lnTo>
                      <a:pt x="722" y="320"/>
                    </a:lnTo>
                    <a:lnTo>
                      <a:pt x="717" y="320"/>
                    </a:lnTo>
                    <a:lnTo>
                      <a:pt x="714" y="323"/>
                    </a:lnTo>
                    <a:lnTo>
                      <a:pt x="712" y="323"/>
                    </a:lnTo>
                    <a:lnTo>
                      <a:pt x="709" y="323"/>
                    </a:lnTo>
                    <a:lnTo>
                      <a:pt x="707" y="325"/>
                    </a:lnTo>
                    <a:lnTo>
                      <a:pt x="701" y="325"/>
                    </a:lnTo>
                    <a:lnTo>
                      <a:pt x="699" y="325"/>
                    </a:lnTo>
                    <a:lnTo>
                      <a:pt x="696" y="325"/>
                    </a:lnTo>
                    <a:lnTo>
                      <a:pt x="691" y="328"/>
                    </a:lnTo>
                    <a:lnTo>
                      <a:pt x="689" y="328"/>
                    </a:lnTo>
                    <a:lnTo>
                      <a:pt x="684" y="328"/>
                    </a:lnTo>
                    <a:lnTo>
                      <a:pt x="681" y="328"/>
                    </a:lnTo>
                    <a:lnTo>
                      <a:pt x="676" y="328"/>
                    </a:lnTo>
                    <a:lnTo>
                      <a:pt x="673" y="328"/>
                    </a:lnTo>
                    <a:lnTo>
                      <a:pt x="668" y="328"/>
                    </a:lnTo>
                    <a:lnTo>
                      <a:pt x="666" y="328"/>
                    </a:lnTo>
                    <a:lnTo>
                      <a:pt x="660" y="328"/>
                    </a:lnTo>
                    <a:lnTo>
                      <a:pt x="658" y="328"/>
                    </a:lnTo>
                    <a:lnTo>
                      <a:pt x="653" y="328"/>
                    </a:lnTo>
                    <a:lnTo>
                      <a:pt x="650" y="328"/>
                    </a:lnTo>
                    <a:lnTo>
                      <a:pt x="645" y="328"/>
                    </a:lnTo>
                    <a:lnTo>
                      <a:pt x="643" y="328"/>
                    </a:lnTo>
                    <a:lnTo>
                      <a:pt x="637" y="328"/>
                    </a:lnTo>
                    <a:lnTo>
                      <a:pt x="635" y="325"/>
                    </a:lnTo>
                    <a:lnTo>
                      <a:pt x="630" y="325"/>
                    </a:lnTo>
                    <a:lnTo>
                      <a:pt x="627" y="333"/>
                    </a:lnTo>
                    <a:lnTo>
                      <a:pt x="625" y="341"/>
                    </a:lnTo>
                    <a:lnTo>
                      <a:pt x="622" y="346"/>
                    </a:lnTo>
                    <a:lnTo>
                      <a:pt x="620" y="353"/>
                    </a:lnTo>
                    <a:lnTo>
                      <a:pt x="620" y="359"/>
                    </a:lnTo>
                    <a:lnTo>
                      <a:pt x="620" y="366"/>
                    </a:lnTo>
                    <a:lnTo>
                      <a:pt x="622" y="371"/>
                    </a:lnTo>
                    <a:lnTo>
                      <a:pt x="625" y="376"/>
                    </a:lnTo>
                    <a:lnTo>
                      <a:pt x="627" y="376"/>
                    </a:lnTo>
                    <a:lnTo>
                      <a:pt x="630" y="379"/>
                    </a:lnTo>
                    <a:lnTo>
                      <a:pt x="632" y="382"/>
                    </a:lnTo>
                    <a:lnTo>
                      <a:pt x="632" y="384"/>
                    </a:lnTo>
                    <a:lnTo>
                      <a:pt x="635" y="387"/>
                    </a:lnTo>
                    <a:lnTo>
                      <a:pt x="637" y="389"/>
                    </a:lnTo>
                    <a:lnTo>
                      <a:pt x="637" y="389"/>
                    </a:lnTo>
                    <a:lnTo>
                      <a:pt x="640" y="394"/>
                    </a:lnTo>
                    <a:lnTo>
                      <a:pt x="640" y="397"/>
                    </a:lnTo>
                    <a:lnTo>
                      <a:pt x="643" y="399"/>
                    </a:lnTo>
                    <a:lnTo>
                      <a:pt x="643" y="402"/>
                    </a:lnTo>
                    <a:lnTo>
                      <a:pt x="640" y="407"/>
                    </a:lnTo>
                    <a:lnTo>
                      <a:pt x="640" y="410"/>
                    </a:lnTo>
                    <a:lnTo>
                      <a:pt x="637" y="415"/>
                    </a:lnTo>
                    <a:lnTo>
                      <a:pt x="637" y="420"/>
                    </a:lnTo>
                    <a:lnTo>
                      <a:pt x="632" y="425"/>
                    </a:lnTo>
                    <a:lnTo>
                      <a:pt x="630" y="430"/>
                    </a:lnTo>
                    <a:lnTo>
                      <a:pt x="630" y="435"/>
                    </a:lnTo>
                    <a:lnTo>
                      <a:pt x="627" y="440"/>
                    </a:lnTo>
                    <a:lnTo>
                      <a:pt x="625" y="446"/>
                    </a:lnTo>
                    <a:lnTo>
                      <a:pt x="625" y="448"/>
                    </a:lnTo>
                    <a:lnTo>
                      <a:pt x="625" y="453"/>
                    </a:lnTo>
                    <a:lnTo>
                      <a:pt x="622" y="458"/>
                    </a:lnTo>
                    <a:lnTo>
                      <a:pt x="622" y="461"/>
                    </a:lnTo>
                    <a:lnTo>
                      <a:pt x="622" y="466"/>
                    </a:lnTo>
                    <a:lnTo>
                      <a:pt x="622" y="469"/>
                    </a:lnTo>
                    <a:lnTo>
                      <a:pt x="620" y="474"/>
                    </a:lnTo>
                    <a:lnTo>
                      <a:pt x="617" y="476"/>
                    </a:lnTo>
                    <a:lnTo>
                      <a:pt x="614" y="479"/>
                    </a:lnTo>
                    <a:lnTo>
                      <a:pt x="612" y="484"/>
                    </a:lnTo>
                    <a:lnTo>
                      <a:pt x="609" y="486"/>
                    </a:lnTo>
                    <a:lnTo>
                      <a:pt x="604" y="489"/>
                    </a:lnTo>
                    <a:lnTo>
                      <a:pt x="602" y="492"/>
                    </a:lnTo>
                    <a:lnTo>
                      <a:pt x="596" y="494"/>
                    </a:lnTo>
                    <a:lnTo>
                      <a:pt x="591" y="494"/>
                    </a:lnTo>
                    <a:lnTo>
                      <a:pt x="586" y="497"/>
                    </a:lnTo>
                    <a:lnTo>
                      <a:pt x="581" y="497"/>
                    </a:lnTo>
                    <a:lnTo>
                      <a:pt x="576" y="497"/>
                    </a:lnTo>
                    <a:lnTo>
                      <a:pt x="571" y="497"/>
                    </a:lnTo>
                    <a:lnTo>
                      <a:pt x="566" y="494"/>
                    </a:lnTo>
                    <a:lnTo>
                      <a:pt x="561" y="494"/>
                    </a:lnTo>
                    <a:lnTo>
                      <a:pt x="555" y="494"/>
                    </a:lnTo>
                    <a:lnTo>
                      <a:pt x="550" y="492"/>
                    </a:lnTo>
                    <a:lnTo>
                      <a:pt x="545" y="489"/>
                    </a:lnTo>
                    <a:lnTo>
                      <a:pt x="540" y="486"/>
                    </a:lnTo>
                    <a:lnTo>
                      <a:pt x="538" y="484"/>
                    </a:lnTo>
                    <a:lnTo>
                      <a:pt x="532" y="481"/>
                    </a:lnTo>
                    <a:lnTo>
                      <a:pt x="530" y="479"/>
                    </a:lnTo>
                    <a:lnTo>
                      <a:pt x="525" y="474"/>
                    </a:lnTo>
                    <a:lnTo>
                      <a:pt x="520" y="469"/>
                    </a:lnTo>
                    <a:lnTo>
                      <a:pt x="515" y="463"/>
                    </a:lnTo>
                    <a:lnTo>
                      <a:pt x="507" y="458"/>
                    </a:lnTo>
                    <a:lnTo>
                      <a:pt x="504" y="453"/>
                    </a:lnTo>
                    <a:lnTo>
                      <a:pt x="499" y="448"/>
                    </a:lnTo>
                    <a:lnTo>
                      <a:pt x="494" y="446"/>
                    </a:lnTo>
                    <a:lnTo>
                      <a:pt x="489" y="440"/>
                    </a:lnTo>
                    <a:lnTo>
                      <a:pt x="484" y="435"/>
                    </a:lnTo>
                    <a:lnTo>
                      <a:pt x="479" y="433"/>
                    </a:lnTo>
                    <a:lnTo>
                      <a:pt x="474" y="428"/>
                    </a:lnTo>
                    <a:lnTo>
                      <a:pt x="471" y="422"/>
                    </a:lnTo>
                    <a:lnTo>
                      <a:pt x="466" y="420"/>
                    </a:lnTo>
                    <a:lnTo>
                      <a:pt x="461" y="417"/>
                    </a:lnTo>
                    <a:lnTo>
                      <a:pt x="456" y="412"/>
                    </a:lnTo>
                    <a:lnTo>
                      <a:pt x="451" y="410"/>
                    </a:lnTo>
                    <a:lnTo>
                      <a:pt x="448" y="407"/>
                    </a:lnTo>
                    <a:lnTo>
                      <a:pt x="443" y="402"/>
                    </a:lnTo>
                    <a:lnTo>
                      <a:pt x="438" y="399"/>
                    </a:lnTo>
                    <a:lnTo>
                      <a:pt x="433" y="397"/>
                    </a:lnTo>
                    <a:lnTo>
                      <a:pt x="427" y="394"/>
                    </a:lnTo>
                    <a:lnTo>
                      <a:pt x="425" y="392"/>
                    </a:lnTo>
                    <a:lnTo>
                      <a:pt x="420" y="389"/>
                    </a:lnTo>
                    <a:lnTo>
                      <a:pt x="415" y="387"/>
                    </a:lnTo>
                    <a:lnTo>
                      <a:pt x="410" y="384"/>
                    </a:lnTo>
                    <a:lnTo>
                      <a:pt x="404" y="382"/>
                    </a:lnTo>
                    <a:lnTo>
                      <a:pt x="399" y="382"/>
                    </a:lnTo>
                    <a:lnTo>
                      <a:pt x="394" y="379"/>
                    </a:lnTo>
                    <a:lnTo>
                      <a:pt x="389" y="376"/>
                    </a:lnTo>
                    <a:lnTo>
                      <a:pt x="384" y="376"/>
                    </a:lnTo>
                    <a:lnTo>
                      <a:pt x="376" y="374"/>
                    </a:lnTo>
                    <a:lnTo>
                      <a:pt x="371" y="374"/>
                    </a:lnTo>
                    <a:lnTo>
                      <a:pt x="366" y="371"/>
                    </a:lnTo>
                    <a:lnTo>
                      <a:pt x="361" y="371"/>
                    </a:lnTo>
                    <a:lnTo>
                      <a:pt x="356" y="371"/>
                    </a:lnTo>
                    <a:lnTo>
                      <a:pt x="351" y="371"/>
                    </a:lnTo>
                    <a:lnTo>
                      <a:pt x="346" y="374"/>
                    </a:lnTo>
                    <a:lnTo>
                      <a:pt x="338" y="374"/>
                    </a:lnTo>
                    <a:lnTo>
                      <a:pt x="333" y="374"/>
                    </a:lnTo>
                    <a:lnTo>
                      <a:pt x="328" y="376"/>
                    </a:lnTo>
                    <a:lnTo>
                      <a:pt x="322" y="379"/>
                    </a:lnTo>
                    <a:lnTo>
                      <a:pt x="317" y="379"/>
                    </a:lnTo>
                    <a:lnTo>
                      <a:pt x="310" y="382"/>
                    </a:lnTo>
                    <a:lnTo>
                      <a:pt x="305" y="384"/>
                    </a:lnTo>
                    <a:lnTo>
                      <a:pt x="299" y="387"/>
                    </a:lnTo>
                    <a:lnTo>
                      <a:pt x="294" y="387"/>
                    </a:lnTo>
                    <a:lnTo>
                      <a:pt x="289" y="389"/>
                    </a:lnTo>
                    <a:lnTo>
                      <a:pt x="287" y="392"/>
                    </a:lnTo>
                    <a:lnTo>
                      <a:pt x="282" y="394"/>
                    </a:lnTo>
                    <a:lnTo>
                      <a:pt x="276" y="394"/>
                    </a:lnTo>
                    <a:lnTo>
                      <a:pt x="274" y="397"/>
                    </a:lnTo>
                    <a:lnTo>
                      <a:pt x="269" y="399"/>
                    </a:lnTo>
                    <a:lnTo>
                      <a:pt x="266" y="399"/>
                    </a:lnTo>
                    <a:lnTo>
                      <a:pt x="264" y="402"/>
                    </a:lnTo>
                    <a:lnTo>
                      <a:pt x="261" y="402"/>
                    </a:lnTo>
                    <a:lnTo>
                      <a:pt x="258" y="402"/>
                    </a:lnTo>
                    <a:lnTo>
                      <a:pt x="258" y="402"/>
                    </a:lnTo>
                    <a:lnTo>
                      <a:pt x="256" y="402"/>
                    </a:lnTo>
                    <a:lnTo>
                      <a:pt x="256" y="402"/>
                    </a:lnTo>
                    <a:lnTo>
                      <a:pt x="256" y="402"/>
                    </a:lnTo>
                    <a:lnTo>
                      <a:pt x="256" y="399"/>
                    </a:lnTo>
                    <a:lnTo>
                      <a:pt x="256" y="399"/>
                    </a:lnTo>
                    <a:lnTo>
                      <a:pt x="256" y="397"/>
                    </a:lnTo>
                    <a:lnTo>
                      <a:pt x="258" y="394"/>
                    </a:lnTo>
                    <a:lnTo>
                      <a:pt x="258" y="389"/>
                    </a:lnTo>
                    <a:lnTo>
                      <a:pt x="261" y="382"/>
                    </a:lnTo>
                    <a:lnTo>
                      <a:pt x="261" y="376"/>
                    </a:lnTo>
                    <a:lnTo>
                      <a:pt x="266" y="371"/>
                    </a:lnTo>
                    <a:lnTo>
                      <a:pt x="269" y="366"/>
                    </a:lnTo>
                    <a:lnTo>
                      <a:pt x="271" y="359"/>
                    </a:lnTo>
                    <a:lnTo>
                      <a:pt x="276" y="353"/>
                    </a:lnTo>
                    <a:lnTo>
                      <a:pt x="279" y="348"/>
                    </a:lnTo>
                    <a:lnTo>
                      <a:pt x="284" y="343"/>
                    </a:lnTo>
                    <a:lnTo>
                      <a:pt x="289" y="338"/>
                    </a:lnTo>
                    <a:lnTo>
                      <a:pt x="294" y="333"/>
                    </a:lnTo>
                    <a:lnTo>
                      <a:pt x="299" y="328"/>
                    </a:lnTo>
                    <a:lnTo>
                      <a:pt x="307" y="320"/>
                    </a:lnTo>
                    <a:lnTo>
                      <a:pt x="312" y="315"/>
                    </a:lnTo>
                    <a:lnTo>
                      <a:pt x="317" y="310"/>
                    </a:lnTo>
                    <a:lnTo>
                      <a:pt x="325" y="305"/>
                    </a:lnTo>
                    <a:lnTo>
                      <a:pt x="330" y="297"/>
                    </a:lnTo>
                    <a:lnTo>
                      <a:pt x="335" y="287"/>
                    </a:lnTo>
                    <a:lnTo>
                      <a:pt x="338" y="279"/>
                    </a:lnTo>
                    <a:lnTo>
                      <a:pt x="343" y="272"/>
                    </a:lnTo>
                    <a:lnTo>
                      <a:pt x="346" y="264"/>
                    </a:lnTo>
                    <a:lnTo>
                      <a:pt x="346" y="256"/>
                    </a:lnTo>
                    <a:lnTo>
                      <a:pt x="348" y="248"/>
                    </a:lnTo>
                    <a:lnTo>
                      <a:pt x="348" y="241"/>
                    </a:lnTo>
                    <a:lnTo>
                      <a:pt x="346" y="236"/>
                    </a:lnTo>
                    <a:lnTo>
                      <a:pt x="343" y="231"/>
                    </a:lnTo>
                    <a:lnTo>
                      <a:pt x="340" y="225"/>
                    </a:lnTo>
                    <a:lnTo>
                      <a:pt x="338" y="220"/>
                    </a:lnTo>
                    <a:lnTo>
                      <a:pt x="333" y="215"/>
                    </a:lnTo>
                    <a:lnTo>
                      <a:pt x="328" y="213"/>
                    </a:lnTo>
                    <a:lnTo>
                      <a:pt x="320" y="210"/>
                    </a:lnTo>
                    <a:lnTo>
                      <a:pt x="312" y="208"/>
                    </a:lnTo>
                    <a:lnTo>
                      <a:pt x="310" y="208"/>
                    </a:lnTo>
                    <a:lnTo>
                      <a:pt x="305" y="208"/>
                    </a:lnTo>
                    <a:lnTo>
                      <a:pt x="299" y="205"/>
                    </a:lnTo>
                    <a:lnTo>
                      <a:pt x="297" y="205"/>
                    </a:lnTo>
                    <a:lnTo>
                      <a:pt x="292" y="208"/>
                    </a:lnTo>
                    <a:lnTo>
                      <a:pt x="287" y="208"/>
                    </a:lnTo>
                    <a:lnTo>
                      <a:pt x="284" y="208"/>
                    </a:lnTo>
                    <a:lnTo>
                      <a:pt x="279" y="208"/>
                    </a:lnTo>
                    <a:lnTo>
                      <a:pt x="274" y="210"/>
                    </a:lnTo>
                    <a:lnTo>
                      <a:pt x="271" y="210"/>
                    </a:lnTo>
                    <a:lnTo>
                      <a:pt x="266" y="210"/>
                    </a:lnTo>
                    <a:lnTo>
                      <a:pt x="261" y="213"/>
                    </a:lnTo>
                    <a:lnTo>
                      <a:pt x="258" y="215"/>
                    </a:lnTo>
                    <a:lnTo>
                      <a:pt x="253" y="215"/>
                    </a:lnTo>
                    <a:lnTo>
                      <a:pt x="248" y="218"/>
                    </a:lnTo>
                    <a:lnTo>
                      <a:pt x="246" y="220"/>
                    </a:lnTo>
                    <a:lnTo>
                      <a:pt x="241" y="223"/>
                    </a:lnTo>
                    <a:lnTo>
                      <a:pt x="235" y="225"/>
                    </a:lnTo>
                    <a:lnTo>
                      <a:pt x="233" y="228"/>
                    </a:lnTo>
                    <a:lnTo>
                      <a:pt x="228" y="228"/>
                    </a:lnTo>
                    <a:lnTo>
                      <a:pt x="225" y="231"/>
                    </a:lnTo>
                    <a:lnTo>
                      <a:pt x="220" y="233"/>
                    </a:lnTo>
                    <a:lnTo>
                      <a:pt x="217" y="236"/>
                    </a:lnTo>
                    <a:lnTo>
                      <a:pt x="212" y="241"/>
                    </a:lnTo>
                    <a:lnTo>
                      <a:pt x="207" y="243"/>
                    </a:lnTo>
                    <a:lnTo>
                      <a:pt x="205" y="246"/>
                    </a:lnTo>
                    <a:lnTo>
                      <a:pt x="202" y="248"/>
                    </a:lnTo>
                    <a:lnTo>
                      <a:pt x="197" y="251"/>
                    </a:lnTo>
                    <a:lnTo>
                      <a:pt x="194" y="254"/>
                    </a:lnTo>
                    <a:lnTo>
                      <a:pt x="192" y="256"/>
                    </a:lnTo>
                    <a:lnTo>
                      <a:pt x="187" y="259"/>
                    </a:lnTo>
                    <a:lnTo>
                      <a:pt x="184" y="261"/>
                    </a:lnTo>
                    <a:lnTo>
                      <a:pt x="179" y="269"/>
                    </a:lnTo>
                    <a:lnTo>
                      <a:pt x="174" y="274"/>
                    </a:lnTo>
                    <a:lnTo>
                      <a:pt x="171" y="279"/>
                    </a:lnTo>
                    <a:lnTo>
                      <a:pt x="166" y="287"/>
                    </a:lnTo>
                    <a:lnTo>
                      <a:pt x="164" y="292"/>
                    </a:lnTo>
                    <a:lnTo>
                      <a:pt x="161" y="300"/>
                    </a:lnTo>
                    <a:lnTo>
                      <a:pt x="159" y="305"/>
                    </a:lnTo>
                    <a:lnTo>
                      <a:pt x="156" y="312"/>
                    </a:lnTo>
                    <a:lnTo>
                      <a:pt x="153" y="320"/>
                    </a:lnTo>
                    <a:lnTo>
                      <a:pt x="151" y="325"/>
                    </a:lnTo>
                    <a:lnTo>
                      <a:pt x="148" y="333"/>
                    </a:lnTo>
                    <a:lnTo>
                      <a:pt x="143" y="338"/>
                    </a:lnTo>
                    <a:lnTo>
                      <a:pt x="141" y="346"/>
                    </a:lnTo>
                    <a:lnTo>
                      <a:pt x="136" y="351"/>
                    </a:lnTo>
                    <a:lnTo>
                      <a:pt x="133" y="356"/>
                    </a:lnTo>
                    <a:lnTo>
                      <a:pt x="128" y="361"/>
                    </a:lnTo>
                    <a:lnTo>
                      <a:pt x="125" y="364"/>
                    </a:lnTo>
                    <a:lnTo>
                      <a:pt x="123" y="366"/>
                    </a:lnTo>
                    <a:lnTo>
                      <a:pt x="120" y="369"/>
                    </a:lnTo>
                    <a:lnTo>
                      <a:pt x="118" y="369"/>
                    </a:lnTo>
                    <a:lnTo>
                      <a:pt x="115" y="371"/>
                    </a:lnTo>
                    <a:lnTo>
                      <a:pt x="113" y="371"/>
                    </a:lnTo>
                    <a:lnTo>
                      <a:pt x="110" y="374"/>
                    </a:lnTo>
                    <a:lnTo>
                      <a:pt x="107" y="374"/>
                    </a:lnTo>
                    <a:lnTo>
                      <a:pt x="105" y="376"/>
                    </a:lnTo>
                    <a:lnTo>
                      <a:pt x="102" y="376"/>
                    </a:lnTo>
                    <a:lnTo>
                      <a:pt x="100" y="376"/>
                    </a:lnTo>
                    <a:lnTo>
                      <a:pt x="97" y="379"/>
                    </a:lnTo>
                    <a:lnTo>
                      <a:pt x="95" y="379"/>
                    </a:lnTo>
                    <a:lnTo>
                      <a:pt x="92" y="379"/>
                    </a:lnTo>
                    <a:lnTo>
                      <a:pt x="89" y="379"/>
                    </a:lnTo>
                    <a:lnTo>
                      <a:pt x="87" y="382"/>
                    </a:lnTo>
                    <a:lnTo>
                      <a:pt x="84" y="382"/>
                    </a:lnTo>
                    <a:lnTo>
                      <a:pt x="82" y="382"/>
                    </a:lnTo>
                    <a:lnTo>
                      <a:pt x="79" y="382"/>
                    </a:lnTo>
                    <a:lnTo>
                      <a:pt x="77" y="382"/>
                    </a:lnTo>
                    <a:lnTo>
                      <a:pt x="74" y="382"/>
                    </a:lnTo>
                    <a:lnTo>
                      <a:pt x="69" y="382"/>
                    </a:lnTo>
                    <a:lnTo>
                      <a:pt x="66" y="382"/>
                    </a:lnTo>
                    <a:lnTo>
                      <a:pt x="64" y="382"/>
                    </a:lnTo>
                    <a:lnTo>
                      <a:pt x="61" y="382"/>
                    </a:lnTo>
                    <a:lnTo>
                      <a:pt x="59" y="379"/>
                    </a:lnTo>
                    <a:lnTo>
                      <a:pt x="56" y="379"/>
                    </a:lnTo>
                    <a:lnTo>
                      <a:pt x="54" y="379"/>
                    </a:lnTo>
                    <a:lnTo>
                      <a:pt x="51" y="379"/>
                    </a:lnTo>
                    <a:lnTo>
                      <a:pt x="48" y="376"/>
                    </a:lnTo>
                    <a:lnTo>
                      <a:pt x="46" y="376"/>
                    </a:lnTo>
                    <a:lnTo>
                      <a:pt x="43" y="376"/>
                    </a:lnTo>
                    <a:lnTo>
                      <a:pt x="38" y="374"/>
                    </a:lnTo>
                    <a:lnTo>
                      <a:pt x="33" y="371"/>
                    </a:lnTo>
                    <a:lnTo>
                      <a:pt x="31" y="369"/>
                    </a:lnTo>
                    <a:lnTo>
                      <a:pt x="25" y="366"/>
                    </a:lnTo>
                    <a:lnTo>
                      <a:pt x="20" y="364"/>
                    </a:lnTo>
                    <a:lnTo>
                      <a:pt x="18" y="359"/>
                    </a:lnTo>
                    <a:lnTo>
                      <a:pt x="15" y="356"/>
                    </a:lnTo>
                    <a:lnTo>
                      <a:pt x="13" y="351"/>
                    </a:lnTo>
                    <a:lnTo>
                      <a:pt x="10" y="348"/>
                    </a:lnTo>
                    <a:lnTo>
                      <a:pt x="8" y="343"/>
                    </a:lnTo>
                    <a:lnTo>
                      <a:pt x="5" y="338"/>
                    </a:lnTo>
                    <a:lnTo>
                      <a:pt x="2" y="333"/>
                    </a:lnTo>
                    <a:lnTo>
                      <a:pt x="0" y="328"/>
                    </a:lnTo>
                    <a:lnTo>
                      <a:pt x="0" y="325"/>
                    </a:lnTo>
                    <a:lnTo>
                      <a:pt x="0" y="320"/>
                    </a:lnTo>
                    <a:lnTo>
                      <a:pt x="0" y="315"/>
                    </a:lnTo>
                    <a:lnTo>
                      <a:pt x="0" y="310"/>
                    </a:lnTo>
                    <a:lnTo>
                      <a:pt x="0" y="305"/>
                    </a:lnTo>
                    <a:lnTo>
                      <a:pt x="0" y="302"/>
                    </a:lnTo>
                    <a:lnTo>
                      <a:pt x="2" y="297"/>
                    </a:lnTo>
                    <a:lnTo>
                      <a:pt x="5" y="292"/>
                    </a:lnTo>
                    <a:lnTo>
                      <a:pt x="8" y="289"/>
                    </a:lnTo>
                    <a:lnTo>
                      <a:pt x="10" y="284"/>
                    </a:lnTo>
                    <a:lnTo>
                      <a:pt x="15" y="282"/>
                    </a:lnTo>
                    <a:lnTo>
                      <a:pt x="18" y="277"/>
                    </a:lnTo>
                    <a:lnTo>
                      <a:pt x="20" y="274"/>
                    </a:lnTo>
                    <a:lnTo>
                      <a:pt x="25" y="269"/>
                    </a:lnTo>
                    <a:lnTo>
                      <a:pt x="28" y="266"/>
                    </a:lnTo>
                    <a:lnTo>
                      <a:pt x="31" y="264"/>
                    </a:lnTo>
                    <a:lnTo>
                      <a:pt x="33" y="259"/>
                    </a:lnTo>
                    <a:lnTo>
                      <a:pt x="36" y="256"/>
                    </a:lnTo>
                    <a:lnTo>
                      <a:pt x="38" y="251"/>
                    </a:lnTo>
                    <a:lnTo>
                      <a:pt x="41" y="248"/>
                    </a:lnTo>
                    <a:lnTo>
                      <a:pt x="43" y="243"/>
                    </a:lnTo>
                    <a:lnTo>
                      <a:pt x="46" y="238"/>
                    </a:lnTo>
                    <a:lnTo>
                      <a:pt x="48" y="236"/>
                    </a:lnTo>
                    <a:lnTo>
                      <a:pt x="51" y="231"/>
                    </a:lnTo>
                    <a:lnTo>
                      <a:pt x="54" y="225"/>
                    </a:lnTo>
                    <a:lnTo>
                      <a:pt x="56" y="223"/>
                    </a:lnTo>
                    <a:lnTo>
                      <a:pt x="59" y="218"/>
                    </a:lnTo>
                    <a:lnTo>
                      <a:pt x="61" y="213"/>
                    </a:lnTo>
                    <a:lnTo>
                      <a:pt x="64" y="210"/>
                    </a:lnTo>
                    <a:lnTo>
                      <a:pt x="66" y="205"/>
                    </a:lnTo>
                    <a:lnTo>
                      <a:pt x="66" y="200"/>
                    </a:lnTo>
                    <a:lnTo>
                      <a:pt x="69" y="197"/>
                    </a:lnTo>
                    <a:lnTo>
                      <a:pt x="72" y="192"/>
                    </a:lnTo>
                    <a:lnTo>
                      <a:pt x="74" y="187"/>
                    </a:lnTo>
                    <a:lnTo>
                      <a:pt x="77" y="185"/>
                    </a:lnTo>
                    <a:lnTo>
                      <a:pt x="79" y="179"/>
                    </a:lnTo>
                    <a:lnTo>
                      <a:pt x="82" y="177"/>
                    </a:lnTo>
                    <a:lnTo>
                      <a:pt x="84" y="172"/>
                    </a:lnTo>
                    <a:lnTo>
                      <a:pt x="87" y="167"/>
                    </a:lnTo>
                    <a:lnTo>
                      <a:pt x="89" y="164"/>
                    </a:lnTo>
                    <a:lnTo>
                      <a:pt x="92" y="159"/>
                    </a:lnTo>
                    <a:lnTo>
                      <a:pt x="95" y="156"/>
                    </a:lnTo>
                    <a:lnTo>
                      <a:pt x="97" y="151"/>
                    </a:lnTo>
                    <a:lnTo>
                      <a:pt x="100" y="149"/>
                    </a:lnTo>
                    <a:lnTo>
                      <a:pt x="102" y="144"/>
                    </a:lnTo>
                    <a:lnTo>
                      <a:pt x="105" y="141"/>
                    </a:lnTo>
                    <a:lnTo>
                      <a:pt x="107" y="136"/>
                    </a:lnTo>
                    <a:lnTo>
                      <a:pt x="110" y="133"/>
                    </a:lnTo>
                    <a:lnTo>
                      <a:pt x="115" y="128"/>
                    </a:lnTo>
                    <a:lnTo>
                      <a:pt x="118" y="126"/>
                    </a:lnTo>
                    <a:lnTo>
                      <a:pt x="120" y="123"/>
                    </a:lnTo>
                    <a:lnTo>
                      <a:pt x="125" y="118"/>
                    </a:lnTo>
                    <a:lnTo>
                      <a:pt x="128" y="115"/>
                    </a:lnTo>
                    <a:lnTo>
                      <a:pt x="133" y="113"/>
                    </a:lnTo>
                    <a:lnTo>
                      <a:pt x="138" y="108"/>
                    </a:lnTo>
                    <a:lnTo>
                      <a:pt x="141" y="105"/>
                    </a:lnTo>
                    <a:lnTo>
                      <a:pt x="146" y="103"/>
                    </a:lnTo>
                    <a:lnTo>
                      <a:pt x="148" y="98"/>
                    </a:lnTo>
                    <a:lnTo>
                      <a:pt x="153" y="95"/>
                    </a:lnTo>
                    <a:lnTo>
                      <a:pt x="159" y="92"/>
                    </a:lnTo>
                    <a:lnTo>
                      <a:pt x="164" y="90"/>
                    </a:lnTo>
                    <a:lnTo>
                      <a:pt x="166" y="87"/>
                    </a:lnTo>
                    <a:lnTo>
                      <a:pt x="171" y="82"/>
                    </a:lnTo>
                    <a:lnTo>
                      <a:pt x="177" y="80"/>
                    </a:lnTo>
                    <a:lnTo>
                      <a:pt x="182" y="77"/>
                    </a:lnTo>
                    <a:lnTo>
                      <a:pt x="184" y="74"/>
                    </a:lnTo>
                    <a:lnTo>
                      <a:pt x="189" y="72"/>
                    </a:lnTo>
                    <a:lnTo>
                      <a:pt x="194" y="69"/>
                    </a:lnTo>
                    <a:lnTo>
                      <a:pt x="200" y="67"/>
                    </a:lnTo>
                    <a:lnTo>
                      <a:pt x="205" y="64"/>
                    </a:lnTo>
                    <a:lnTo>
                      <a:pt x="210" y="62"/>
                    </a:lnTo>
                    <a:lnTo>
                      <a:pt x="212" y="59"/>
                    </a:lnTo>
                    <a:lnTo>
                      <a:pt x="217" y="57"/>
                    </a:lnTo>
                    <a:lnTo>
                      <a:pt x="223" y="54"/>
                    </a:lnTo>
                    <a:lnTo>
                      <a:pt x="228" y="51"/>
                    </a:lnTo>
                    <a:lnTo>
                      <a:pt x="233" y="49"/>
                    </a:lnTo>
                    <a:lnTo>
                      <a:pt x="238" y="46"/>
                    </a:lnTo>
                    <a:lnTo>
                      <a:pt x="243" y="44"/>
                    </a:lnTo>
                    <a:lnTo>
                      <a:pt x="248" y="44"/>
                    </a:lnTo>
                    <a:lnTo>
                      <a:pt x="253" y="41"/>
                    </a:lnTo>
                    <a:lnTo>
                      <a:pt x="258" y="39"/>
                    </a:lnTo>
                    <a:lnTo>
                      <a:pt x="264" y="36"/>
                    </a:lnTo>
                    <a:lnTo>
                      <a:pt x="266" y="34"/>
                    </a:lnTo>
                    <a:lnTo>
                      <a:pt x="271" y="34"/>
                    </a:lnTo>
                    <a:lnTo>
                      <a:pt x="276" y="34"/>
                    </a:lnTo>
                    <a:lnTo>
                      <a:pt x="279" y="31"/>
                    </a:lnTo>
                    <a:lnTo>
                      <a:pt x="284" y="31"/>
                    </a:lnTo>
                    <a:lnTo>
                      <a:pt x="287" y="31"/>
                    </a:lnTo>
                    <a:lnTo>
                      <a:pt x="289" y="28"/>
                    </a:lnTo>
                    <a:lnTo>
                      <a:pt x="294" y="28"/>
                    </a:lnTo>
                    <a:lnTo>
                      <a:pt x="297" y="28"/>
                    </a:lnTo>
                    <a:lnTo>
                      <a:pt x="302" y="28"/>
                    </a:lnTo>
                    <a:lnTo>
                      <a:pt x="305" y="28"/>
                    </a:lnTo>
                    <a:lnTo>
                      <a:pt x="310" y="28"/>
                    </a:lnTo>
                    <a:lnTo>
                      <a:pt x="312" y="28"/>
                    </a:lnTo>
                    <a:lnTo>
                      <a:pt x="317" y="28"/>
                    </a:lnTo>
                    <a:lnTo>
                      <a:pt x="320" y="28"/>
                    </a:lnTo>
                    <a:lnTo>
                      <a:pt x="325" y="28"/>
                    </a:lnTo>
                    <a:lnTo>
                      <a:pt x="328" y="28"/>
                    </a:lnTo>
                    <a:lnTo>
                      <a:pt x="333" y="28"/>
                    </a:lnTo>
                    <a:lnTo>
                      <a:pt x="335" y="28"/>
                    </a:lnTo>
                    <a:lnTo>
                      <a:pt x="338" y="28"/>
                    </a:lnTo>
                    <a:lnTo>
                      <a:pt x="343" y="28"/>
                    </a:lnTo>
                    <a:lnTo>
                      <a:pt x="346" y="28"/>
                    </a:lnTo>
                    <a:lnTo>
                      <a:pt x="351" y="28"/>
                    </a:lnTo>
                    <a:lnTo>
                      <a:pt x="353" y="28"/>
                    </a:lnTo>
                    <a:lnTo>
                      <a:pt x="358" y="28"/>
                    </a:lnTo>
                    <a:lnTo>
                      <a:pt x="361" y="28"/>
                    </a:lnTo>
                    <a:lnTo>
                      <a:pt x="366" y="28"/>
                    </a:lnTo>
                    <a:lnTo>
                      <a:pt x="369" y="28"/>
                    </a:lnTo>
                    <a:lnTo>
                      <a:pt x="374" y="28"/>
                    </a:lnTo>
                    <a:lnTo>
                      <a:pt x="376" y="28"/>
                    </a:lnTo>
                    <a:lnTo>
                      <a:pt x="381" y="28"/>
                    </a:lnTo>
                    <a:lnTo>
                      <a:pt x="384" y="28"/>
                    </a:lnTo>
                    <a:lnTo>
                      <a:pt x="389" y="26"/>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flipH="1">
                <a:off x="8186760" y="5792400"/>
                <a:ext cx="30960" cy="29160"/>
              </a:xfrm>
              <a:custGeom>
                <a:avLst/>
                <a:gdLst/>
                <a:ahLst/>
                <a:rect l="l" t="t" r="r" b="b"/>
                <a:pathLst>
                  <a:path w="49" h="46">
                    <a:moveTo>
                      <a:pt x="0" y="0"/>
                    </a:moveTo>
                    <a:lnTo>
                      <a:pt x="5" y="0"/>
                    </a:lnTo>
                    <a:lnTo>
                      <a:pt x="10" y="3"/>
                    </a:lnTo>
                    <a:lnTo>
                      <a:pt x="15" y="3"/>
                    </a:lnTo>
                    <a:lnTo>
                      <a:pt x="18" y="6"/>
                    </a:lnTo>
                    <a:lnTo>
                      <a:pt x="23" y="6"/>
                    </a:lnTo>
                    <a:lnTo>
                      <a:pt x="26" y="8"/>
                    </a:lnTo>
                    <a:lnTo>
                      <a:pt x="31" y="11"/>
                    </a:lnTo>
                    <a:lnTo>
                      <a:pt x="33" y="13"/>
                    </a:lnTo>
                    <a:lnTo>
                      <a:pt x="36" y="18"/>
                    </a:lnTo>
                    <a:lnTo>
                      <a:pt x="38" y="21"/>
                    </a:lnTo>
                    <a:lnTo>
                      <a:pt x="41" y="23"/>
                    </a:lnTo>
                    <a:lnTo>
                      <a:pt x="44" y="29"/>
                    </a:lnTo>
                    <a:lnTo>
                      <a:pt x="46" y="31"/>
                    </a:lnTo>
                    <a:lnTo>
                      <a:pt x="46" y="36"/>
                    </a:lnTo>
                    <a:lnTo>
                      <a:pt x="49" y="41"/>
                    </a:lnTo>
                    <a:lnTo>
                      <a:pt x="49" y="46"/>
                    </a:lnTo>
                  </a:path>
                </a:pathLst>
              </a:custGeom>
              <a:no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726" name=""/>
              <p:cNvSpPr/>
              <p:nvPr/>
            </p:nvSpPr>
            <p:spPr>
              <a:xfrm flipH="1">
                <a:off x="8053200" y="5800680"/>
                <a:ext cx="55080" cy="37440"/>
              </a:xfrm>
              <a:custGeom>
                <a:avLst/>
                <a:gdLst/>
                <a:ahLst/>
                <a:rect l="l" t="t" r="r" b="b"/>
                <a:pathLst>
                  <a:path w="87" h="59">
                    <a:moveTo>
                      <a:pt x="0" y="0"/>
                    </a:moveTo>
                    <a:lnTo>
                      <a:pt x="5" y="0"/>
                    </a:lnTo>
                    <a:lnTo>
                      <a:pt x="7" y="0"/>
                    </a:lnTo>
                    <a:lnTo>
                      <a:pt x="10" y="3"/>
                    </a:lnTo>
                    <a:lnTo>
                      <a:pt x="12" y="3"/>
                    </a:lnTo>
                    <a:lnTo>
                      <a:pt x="18" y="5"/>
                    </a:lnTo>
                    <a:lnTo>
                      <a:pt x="20" y="8"/>
                    </a:lnTo>
                    <a:lnTo>
                      <a:pt x="23" y="8"/>
                    </a:lnTo>
                    <a:lnTo>
                      <a:pt x="25" y="10"/>
                    </a:lnTo>
                    <a:lnTo>
                      <a:pt x="28" y="10"/>
                    </a:lnTo>
                    <a:lnTo>
                      <a:pt x="30" y="13"/>
                    </a:lnTo>
                    <a:lnTo>
                      <a:pt x="35" y="16"/>
                    </a:lnTo>
                    <a:lnTo>
                      <a:pt x="38" y="16"/>
                    </a:lnTo>
                    <a:lnTo>
                      <a:pt x="41" y="18"/>
                    </a:lnTo>
                    <a:lnTo>
                      <a:pt x="43" y="21"/>
                    </a:lnTo>
                    <a:lnTo>
                      <a:pt x="46" y="23"/>
                    </a:lnTo>
                    <a:lnTo>
                      <a:pt x="48" y="23"/>
                    </a:lnTo>
                    <a:lnTo>
                      <a:pt x="51" y="26"/>
                    </a:lnTo>
                    <a:lnTo>
                      <a:pt x="53" y="28"/>
                    </a:lnTo>
                    <a:lnTo>
                      <a:pt x="56" y="31"/>
                    </a:lnTo>
                    <a:lnTo>
                      <a:pt x="58" y="33"/>
                    </a:lnTo>
                    <a:lnTo>
                      <a:pt x="61" y="36"/>
                    </a:lnTo>
                    <a:lnTo>
                      <a:pt x="64" y="39"/>
                    </a:lnTo>
                    <a:lnTo>
                      <a:pt x="66" y="41"/>
                    </a:lnTo>
                    <a:lnTo>
                      <a:pt x="69" y="41"/>
                    </a:lnTo>
                    <a:lnTo>
                      <a:pt x="71" y="44"/>
                    </a:lnTo>
                    <a:lnTo>
                      <a:pt x="74" y="46"/>
                    </a:lnTo>
                    <a:lnTo>
                      <a:pt x="76" y="49"/>
                    </a:lnTo>
                    <a:lnTo>
                      <a:pt x="79" y="51"/>
                    </a:lnTo>
                    <a:lnTo>
                      <a:pt x="82" y="54"/>
                    </a:lnTo>
                    <a:lnTo>
                      <a:pt x="84" y="57"/>
                    </a:lnTo>
                    <a:lnTo>
                      <a:pt x="84" y="59"/>
                    </a:lnTo>
                    <a:lnTo>
                      <a:pt x="87" y="59"/>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727" name=""/>
              <p:cNvSpPr/>
              <p:nvPr/>
            </p:nvSpPr>
            <p:spPr>
              <a:xfrm flipH="1">
                <a:off x="8023680" y="5958360"/>
                <a:ext cx="206280" cy="66600"/>
              </a:xfrm>
              <a:custGeom>
                <a:avLst/>
                <a:gdLst/>
                <a:ahLst/>
                <a:rect l="l" t="t" r="r" b="b"/>
                <a:pathLst>
                  <a:path w="325" h="105">
                    <a:moveTo>
                      <a:pt x="0" y="34"/>
                    </a:moveTo>
                    <a:lnTo>
                      <a:pt x="2" y="34"/>
                    </a:lnTo>
                    <a:lnTo>
                      <a:pt x="7" y="31"/>
                    </a:lnTo>
                    <a:lnTo>
                      <a:pt x="10" y="31"/>
                    </a:lnTo>
                    <a:lnTo>
                      <a:pt x="12" y="29"/>
                    </a:lnTo>
                    <a:lnTo>
                      <a:pt x="15" y="29"/>
                    </a:lnTo>
                    <a:lnTo>
                      <a:pt x="17" y="26"/>
                    </a:lnTo>
                    <a:lnTo>
                      <a:pt x="20" y="26"/>
                    </a:lnTo>
                    <a:lnTo>
                      <a:pt x="25" y="23"/>
                    </a:lnTo>
                    <a:lnTo>
                      <a:pt x="28" y="23"/>
                    </a:lnTo>
                    <a:lnTo>
                      <a:pt x="30" y="21"/>
                    </a:lnTo>
                    <a:lnTo>
                      <a:pt x="33" y="21"/>
                    </a:lnTo>
                    <a:lnTo>
                      <a:pt x="35" y="18"/>
                    </a:lnTo>
                    <a:lnTo>
                      <a:pt x="38" y="18"/>
                    </a:lnTo>
                    <a:lnTo>
                      <a:pt x="43" y="16"/>
                    </a:lnTo>
                    <a:lnTo>
                      <a:pt x="46" y="16"/>
                    </a:lnTo>
                    <a:lnTo>
                      <a:pt x="48" y="13"/>
                    </a:lnTo>
                    <a:lnTo>
                      <a:pt x="51" y="13"/>
                    </a:lnTo>
                    <a:lnTo>
                      <a:pt x="53" y="11"/>
                    </a:lnTo>
                    <a:lnTo>
                      <a:pt x="56" y="11"/>
                    </a:lnTo>
                    <a:lnTo>
                      <a:pt x="61" y="8"/>
                    </a:lnTo>
                    <a:lnTo>
                      <a:pt x="64" y="8"/>
                    </a:lnTo>
                    <a:lnTo>
                      <a:pt x="66" y="6"/>
                    </a:lnTo>
                    <a:lnTo>
                      <a:pt x="69" y="6"/>
                    </a:lnTo>
                    <a:lnTo>
                      <a:pt x="71" y="3"/>
                    </a:lnTo>
                    <a:lnTo>
                      <a:pt x="74" y="3"/>
                    </a:lnTo>
                    <a:lnTo>
                      <a:pt x="79" y="3"/>
                    </a:lnTo>
                    <a:lnTo>
                      <a:pt x="81" y="3"/>
                    </a:lnTo>
                    <a:lnTo>
                      <a:pt x="84" y="0"/>
                    </a:lnTo>
                    <a:lnTo>
                      <a:pt x="87" y="0"/>
                    </a:lnTo>
                    <a:lnTo>
                      <a:pt x="92" y="0"/>
                    </a:lnTo>
                    <a:lnTo>
                      <a:pt x="94" y="0"/>
                    </a:lnTo>
                    <a:lnTo>
                      <a:pt x="97" y="0"/>
                    </a:lnTo>
                    <a:lnTo>
                      <a:pt x="110" y="0"/>
                    </a:lnTo>
                    <a:lnTo>
                      <a:pt x="120" y="0"/>
                    </a:lnTo>
                    <a:lnTo>
                      <a:pt x="130" y="0"/>
                    </a:lnTo>
                    <a:lnTo>
                      <a:pt x="140" y="3"/>
                    </a:lnTo>
                    <a:lnTo>
                      <a:pt x="151" y="6"/>
                    </a:lnTo>
                    <a:lnTo>
                      <a:pt x="158" y="8"/>
                    </a:lnTo>
                    <a:lnTo>
                      <a:pt x="166" y="8"/>
                    </a:lnTo>
                    <a:lnTo>
                      <a:pt x="174" y="11"/>
                    </a:lnTo>
                    <a:lnTo>
                      <a:pt x="179" y="16"/>
                    </a:lnTo>
                    <a:lnTo>
                      <a:pt x="186" y="18"/>
                    </a:lnTo>
                    <a:lnTo>
                      <a:pt x="192" y="21"/>
                    </a:lnTo>
                    <a:lnTo>
                      <a:pt x="197" y="26"/>
                    </a:lnTo>
                    <a:lnTo>
                      <a:pt x="202" y="29"/>
                    </a:lnTo>
                    <a:lnTo>
                      <a:pt x="207" y="34"/>
                    </a:lnTo>
                    <a:lnTo>
                      <a:pt x="212" y="36"/>
                    </a:lnTo>
                    <a:lnTo>
                      <a:pt x="217" y="41"/>
                    </a:lnTo>
                    <a:lnTo>
                      <a:pt x="220" y="46"/>
                    </a:lnTo>
                    <a:lnTo>
                      <a:pt x="225" y="49"/>
                    </a:lnTo>
                    <a:lnTo>
                      <a:pt x="227" y="54"/>
                    </a:lnTo>
                    <a:lnTo>
                      <a:pt x="233" y="59"/>
                    </a:lnTo>
                    <a:lnTo>
                      <a:pt x="235" y="64"/>
                    </a:lnTo>
                    <a:lnTo>
                      <a:pt x="240" y="67"/>
                    </a:lnTo>
                    <a:lnTo>
                      <a:pt x="243" y="72"/>
                    </a:lnTo>
                    <a:lnTo>
                      <a:pt x="248" y="77"/>
                    </a:lnTo>
                    <a:lnTo>
                      <a:pt x="250" y="80"/>
                    </a:lnTo>
                    <a:lnTo>
                      <a:pt x="256" y="85"/>
                    </a:lnTo>
                    <a:lnTo>
                      <a:pt x="261" y="90"/>
                    </a:lnTo>
                    <a:lnTo>
                      <a:pt x="266" y="93"/>
                    </a:lnTo>
                    <a:lnTo>
                      <a:pt x="271" y="95"/>
                    </a:lnTo>
                    <a:lnTo>
                      <a:pt x="276" y="100"/>
                    </a:lnTo>
                    <a:lnTo>
                      <a:pt x="281" y="103"/>
                    </a:lnTo>
                    <a:lnTo>
                      <a:pt x="286" y="105"/>
                    </a:lnTo>
                    <a:lnTo>
                      <a:pt x="289" y="105"/>
                    </a:lnTo>
                    <a:lnTo>
                      <a:pt x="291" y="105"/>
                    </a:lnTo>
                    <a:lnTo>
                      <a:pt x="294" y="105"/>
                    </a:lnTo>
                    <a:lnTo>
                      <a:pt x="297" y="105"/>
                    </a:lnTo>
                    <a:lnTo>
                      <a:pt x="297" y="105"/>
                    </a:lnTo>
                    <a:lnTo>
                      <a:pt x="299" y="105"/>
                    </a:lnTo>
                    <a:lnTo>
                      <a:pt x="302" y="103"/>
                    </a:lnTo>
                    <a:lnTo>
                      <a:pt x="304" y="103"/>
                    </a:lnTo>
                    <a:lnTo>
                      <a:pt x="307" y="100"/>
                    </a:lnTo>
                    <a:lnTo>
                      <a:pt x="309" y="100"/>
                    </a:lnTo>
                    <a:lnTo>
                      <a:pt x="312" y="98"/>
                    </a:lnTo>
                    <a:lnTo>
                      <a:pt x="315" y="98"/>
                    </a:lnTo>
                    <a:lnTo>
                      <a:pt x="317" y="95"/>
                    </a:lnTo>
                    <a:lnTo>
                      <a:pt x="320" y="95"/>
                    </a:lnTo>
                    <a:lnTo>
                      <a:pt x="322" y="93"/>
                    </a:lnTo>
                    <a:lnTo>
                      <a:pt x="325" y="9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28" name=""/>
              <p:cNvSpPr/>
              <p:nvPr/>
            </p:nvSpPr>
            <p:spPr>
              <a:xfrm flipH="1">
                <a:off x="7771680" y="5777640"/>
                <a:ext cx="169560" cy="158040"/>
              </a:xfrm>
              <a:custGeom>
                <a:avLst/>
                <a:gdLst/>
                <a:ahLst/>
                <a:rect l="l" t="t" r="r" b="b"/>
                <a:pathLst>
                  <a:path w="267" h="249">
                    <a:moveTo>
                      <a:pt x="13" y="136"/>
                    </a:moveTo>
                    <a:lnTo>
                      <a:pt x="16" y="133"/>
                    </a:lnTo>
                    <a:lnTo>
                      <a:pt x="16" y="131"/>
                    </a:lnTo>
                    <a:lnTo>
                      <a:pt x="18" y="128"/>
                    </a:lnTo>
                    <a:lnTo>
                      <a:pt x="21" y="126"/>
                    </a:lnTo>
                    <a:lnTo>
                      <a:pt x="23" y="123"/>
                    </a:lnTo>
                    <a:lnTo>
                      <a:pt x="26" y="121"/>
                    </a:lnTo>
                    <a:lnTo>
                      <a:pt x="26" y="118"/>
                    </a:lnTo>
                    <a:lnTo>
                      <a:pt x="29" y="116"/>
                    </a:lnTo>
                    <a:lnTo>
                      <a:pt x="31" y="113"/>
                    </a:lnTo>
                    <a:lnTo>
                      <a:pt x="34" y="113"/>
                    </a:lnTo>
                    <a:lnTo>
                      <a:pt x="36" y="108"/>
                    </a:lnTo>
                    <a:lnTo>
                      <a:pt x="39" y="108"/>
                    </a:lnTo>
                    <a:lnTo>
                      <a:pt x="39" y="105"/>
                    </a:lnTo>
                    <a:lnTo>
                      <a:pt x="41" y="103"/>
                    </a:lnTo>
                    <a:lnTo>
                      <a:pt x="41" y="98"/>
                    </a:lnTo>
                    <a:lnTo>
                      <a:pt x="44" y="95"/>
                    </a:lnTo>
                    <a:lnTo>
                      <a:pt x="46" y="87"/>
                    </a:lnTo>
                    <a:lnTo>
                      <a:pt x="46" y="77"/>
                    </a:lnTo>
                    <a:lnTo>
                      <a:pt x="49" y="69"/>
                    </a:lnTo>
                    <a:lnTo>
                      <a:pt x="49" y="59"/>
                    </a:lnTo>
                    <a:lnTo>
                      <a:pt x="49" y="49"/>
                    </a:lnTo>
                    <a:lnTo>
                      <a:pt x="49" y="41"/>
                    </a:lnTo>
                    <a:lnTo>
                      <a:pt x="49" y="31"/>
                    </a:lnTo>
                    <a:lnTo>
                      <a:pt x="46" y="21"/>
                    </a:lnTo>
                    <a:lnTo>
                      <a:pt x="46" y="18"/>
                    </a:lnTo>
                    <a:lnTo>
                      <a:pt x="46" y="16"/>
                    </a:lnTo>
                    <a:lnTo>
                      <a:pt x="46" y="13"/>
                    </a:lnTo>
                    <a:lnTo>
                      <a:pt x="49" y="13"/>
                    </a:lnTo>
                    <a:lnTo>
                      <a:pt x="49" y="11"/>
                    </a:lnTo>
                    <a:lnTo>
                      <a:pt x="52" y="8"/>
                    </a:lnTo>
                    <a:lnTo>
                      <a:pt x="54" y="8"/>
                    </a:lnTo>
                    <a:lnTo>
                      <a:pt x="57" y="6"/>
                    </a:lnTo>
                    <a:lnTo>
                      <a:pt x="57" y="6"/>
                    </a:lnTo>
                    <a:lnTo>
                      <a:pt x="59" y="3"/>
                    </a:lnTo>
                    <a:lnTo>
                      <a:pt x="62" y="3"/>
                    </a:lnTo>
                    <a:lnTo>
                      <a:pt x="64" y="3"/>
                    </a:lnTo>
                    <a:lnTo>
                      <a:pt x="67" y="3"/>
                    </a:lnTo>
                    <a:lnTo>
                      <a:pt x="67" y="0"/>
                    </a:lnTo>
                    <a:lnTo>
                      <a:pt x="69" y="0"/>
                    </a:lnTo>
                    <a:lnTo>
                      <a:pt x="72" y="3"/>
                    </a:lnTo>
                    <a:lnTo>
                      <a:pt x="75" y="3"/>
                    </a:lnTo>
                    <a:lnTo>
                      <a:pt x="77" y="3"/>
                    </a:lnTo>
                    <a:lnTo>
                      <a:pt x="80" y="6"/>
                    </a:lnTo>
                    <a:lnTo>
                      <a:pt x="82" y="6"/>
                    </a:lnTo>
                    <a:lnTo>
                      <a:pt x="85" y="8"/>
                    </a:lnTo>
                    <a:lnTo>
                      <a:pt x="87" y="8"/>
                    </a:lnTo>
                    <a:lnTo>
                      <a:pt x="90" y="11"/>
                    </a:lnTo>
                    <a:lnTo>
                      <a:pt x="93" y="13"/>
                    </a:lnTo>
                    <a:lnTo>
                      <a:pt x="93" y="16"/>
                    </a:lnTo>
                    <a:lnTo>
                      <a:pt x="95" y="18"/>
                    </a:lnTo>
                    <a:lnTo>
                      <a:pt x="98" y="21"/>
                    </a:lnTo>
                    <a:lnTo>
                      <a:pt x="100" y="23"/>
                    </a:lnTo>
                    <a:lnTo>
                      <a:pt x="103" y="26"/>
                    </a:lnTo>
                    <a:lnTo>
                      <a:pt x="103" y="29"/>
                    </a:lnTo>
                    <a:lnTo>
                      <a:pt x="105" y="34"/>
                    </a:lnTo>
                    <a:lnTo>
                      <a:pt x="108" y="36"/>
                    </a:lnTo>
                    <a:lnTo>
                      <a:pt x="113" y="34"/>
                    </a:lnTo>
                    <a:lnTo>
                      <a:pt x="118" y="31"/>
                    </a:lnTo>
                    <a:lnTo>
                      <a:pt x="121" y="29"/>
                    </a:lnTo>
                    <a:lnTo>
                      <a:pt x="123" y="26"/>
                    </a:lnTo>
                    <a:lnTo>
                      <a:pt x="128" y="23"/>
                    </a:lnTo>
                    <a:lnTo>
                      <a:pt x="131" y="21"/>
                    </a:lnTo>
                    <a:lnTo>
                      <a:pt x="133" y="18"/>
                    </a:lnTo>
                    <a:lnTo>
                      <a:pt x="136" y="16"/>
                    </a:lnTo>
                    <a:lnTo>
                      <a:pt x="141" y="16"/>
                    </a:lnTo>
                    <a:lnTo>
                      <a:pt x="144" y="13"/>
                    </a:lnTo>
                    <a:lnTo>
                      <a:pt x="146" y="13"/>
                    </a:lnTo>
                    <a:lnTo>
                      <a:pt x="151" y="11"/>
                    </a:lnTo>
                    <a:lnTo>
                      <a:pt x="154" y="11"/>
                    </a:lnTo>
                    <a:lnTo>
                      <a:pt x="157" y="8"/>
                    </a:lnTo>
                    <a:lnTo>
                      <a:pt x="162" y="8"/>
                    </a:lnTo>
                    <a:lnTo>
                      <a:pt x="164" y="8"/>
                    </a:lnTo>
                    <a:lnTo>
                      <a:pt x="169" y="6"/>
                    </a:lnTo>
                    <a:lnTo>
                      <a:pt x="172" y="6"/>
                    </a:lnTo>
                    <a:lnTo>
                      <a:pt x="177" y="6"/>
                    </a:lnTo>
                    <a:lnTo>
                      <a:pt x="182" y="3"/>
                    </a:lnTo>
                    <a:lnTo>
                      <a:pt x="190" y="3"/>
                    </a:lnTo>
                    <a:lnTo>
                      <a:pt x="195" y="3"/>
                    </a:lnTo>
                    <a:lnTo>
                      <a:pt x="200" y="3"/>
                    </a:lnTo>
                    <a:lnTo>
                      <a:pt x="205" y="3"/>
                    </a:lnTo>
                    <a:lnTo>
                      <a:pt x="210" y="3"/>
                    </a:lnTo>
                    <a:lnTo>
                      <a:pt x="215" y="6"/>
                    </a:lnTo>
                    <a:lnTo>
                      <a:pt x="221" y="6"/>
                    </a:lnTo>
                    <a:lnTo>
                      <a:pt x="223" y="8"/>
                    </a:lnTo>
                    <a:lnTo>
                      <a:pt x="226" y="11"/>
                    </a:lnTo>
                    <a:lnTo>
                      <a:pt x="228" y="13"/>
                    </a:lnTo>
                    <a:lnTo>
                      <a:pt x="228" y="16"/>
                    </a:lnTo>
                    <a:lnTo>
                      <a:pt x="228" y="21"/>
                    </a:lnTo>
                    <a:lnTo>
                      <a:pt x="228" y="23"/>
                    </a:lnTo>
                    <a:lnTo>
                      <a:pt x="228" y="26"/>
                    </a:lnTo>
                    <a:lnTo>
                      <a:pt x="226" y="29"/>
                    </a:lnTo>
                    <a:lnTo>
                      <a:pt x="226" y="31"/>
                    </a:lnTo>
                    <a:lnTo>
                      <a:pt x="223" y="34"/>
                    </a:lnTo>
                    <a:lnTo>
                      <a:pt x="221" y="36"/>
                    </a:lnTo>
                    <a:lnTo>
                      <a:pt x="218" y="39"/>
                    </a:lnTo>
                    <a:lnTo>
                      <a:pt x="215" y="41"/>
                    </a:lnTo>
                    <a:lnTo>
                      <a:pt x="213" y="44"/>
                    </a:lnTo>
                    <a:lnTo>
                      <a:pt x="210" y="46"/>
                    </a:lnTo>
                    <a:lnTo>
                      <a:pt x="208" y="46"/>
                    </a:lnTo>
                    <a:lnTo>
                      <a:pt x="203" y="49"/>
                    </a:lnTo>
                    <a:lnTo>
                      <a:pt x="200" y="52"/>
                    </a:lnTo>
                    <a:lnTo>
                      <a:pt x="198" y="54"/>
                    </a:lnTo>
                    <a:lnTo>
                      <a:pt x="192" y="54"/>
                    </a:lnTo>
                    <a:lnTo>
                      <a:pt x="190" y="57"/>
                    </a:lnTo>
                    <a:lnTo>
                      <a:pt x="187" y="57"/>
                    </a:lnTo>
                    <a:lnTo>
                      <a:pt x="182" y="59"/>
                    </a:lnTo>
                    <a:lnTo>
                      <a:pt x="180" y="62"/>
                    </a:lnTo>
                    <a:lnTo>
                      <a:pt x="174" y="62"/>
                    </a:lnTo>
                    <a:lnTo>
                      <a:pt x="172" y="64"/>
                    </a:lnTo>
                    <a:lnTo>
                      <a:pt x="169" y="67"/>
                    </a:lnTo>
                    <a:lnTo>
                      <a:pt x="167" y="69"/>
                    </a:lnTo>
                    <a:lnTo>
                      <a:pt x="164" y="72"/>
                    </a:lnTo>
                    <a:lnTo>
                      <a:pt x="159" y="72"/>
                    </a:lnTo>
                    <a:lnTo>
                      <a:pt x="159" y="75"/>
                    </a:lnTo>
                    <a:lnTo>
                      <a:pt x="154" y="77"/>
                    </a:lnTo>
                    <a:lnTo>
                      <a:pt x="154" y="80"/>
                    </a:lnTo>
                    <a:lnTo>
                      <a:pt x="151" y="82"/>
                    </a:lnTo>
                    <a:lnTo>
                      <a:pt x="149" y="85"/>
                    </a:lnTo>
                    <a:lnTo>
                      <a:pt x="149" y="87"/>
                    </a:lnTo>
                    <a:lnTo>
                      <a:pt x="146" y="93"/>
                    </a:lnTo>
                    <a:lnTo>
                      <a:pt x="151" y="93"/>
                    </a:lnTo>
                    <a:lnTo>
                      <a:pt x="157" y="90"/>
                    </a:lnTo>
                    <a:lnTo>
                      <a:pt x="159" y="90"/>
                    </a:lnTo>
                    <a:lnTo>
                      <a:pt x="164" y="90"/>
                    </a:lnTo>
                    <a:lnTo>
                      <a:pt x="167" y="90"/>
                    </a:lnTo>
                    <a:lnTo>
                      <a:pt x="172" y="90"/>
                    </a:lnTo>
                    <a:lnTo>
                      <a:pt x="174" y="90"/>
                    </a:lnTo>
                    <a:lnTo>
                      <a:pt x="180" y="90"/>
                    </a:lnTo>
                    <a:lnTo>
                      <a:pt x="182" y="90"/>
                    </a:lnTo>
                    <a:lnTo>
                      <a:pt x="187" y="90"/>
                    </a:lnTo>
                    <a:lnTo>
                      <a:pt x="190" y="90"/>
                    </a:lnTo>
                    <a:lnTo>
                      <a:pt x="195" y="90"/>
                    </a:lnTo>
                    <a:lnTo>
                      <a:pt x="198" y="90"/>
                    </a:lnTo>
                    <a:lnTo>
                      <a:pt x="200" y="90"/>
                    </a:lnTo>
                    <a:lnTo>
                      <a:pt x="205" y="90"/>
                    </a:lnTo>
                    <a:lnTo>
                      <a:pt x="208" y="90"/>
                    </a:lnTo>
                    <a:lnTo>
                      <a:pt x="213" y="90"/>
                    </a:lnTo>
                    <a:lnTo>
                      <a:pt x="218" y="90"/>
                    </a:lnTo>
                    <a:lnTo>
                      <a:pt x="223" y="90"/>
                    </a:lnTo>
                    <a:lnTo>
                      <a:pt x="226" y="93"/>
                    </a:lnTo>
                    <a:lnTo>
                      <a:pt x="231" y="93"/>
                    </a:lnTo>
                    <a:lnTo>
                      <a:pt x="236" y="95"/>
                    </a:lnTo>
                    <a:lnTo>
                      <a:pt x="238" y="95"/>
                    </a:lnTo>
                    <a:lnTo>
                      <a:pt x="244" y="98"/>
                    </a:lnTo>
                    <a:lnTo>
                      <a:pt x="246" y="100"/>
                    </a:lnTo>
                    <a:lnTo>
                      <a:pt x="251" y="103"/>
                    </a:lnTo>
                    <a:lnTo>
                      <a:pt x="254" y="105"/>
                    </a:lnTo>
                    <a:lnTo>
                      <a:pt x="256" y="108"/>
                    </a:lnTo>
                    <a:lnTo>
                      <a:pt x="259" y="113"/>
                    </a:lnTo>
                    <a:lnTo>
                      <a:pt x="262" y="116"/>
                    </a:lnTo>
                    <a:lnTo>
                      <a:pt x="264" y="121"/>
                    </a:lnTo>
                    <a:lnTo>
                      <a:pt x="267" y="123"/>
                    </a:lnTo>
                    <a:lnTo>
                      <a:pt x="267" y="126"/>
                    </a:lnTo>
                    <a:lnTo>
                      <a:pt x="267" y="128"/>
                    </a:lnTo>
                    <a:lnTo>
                      <a:pt x="267" y="131"/>
                    </a:lnTo>
                    <a:lnTo>
                      <a:pt x="264" y="133"/>
                    </a:lnTo>
                    <a:lnTo>
                      <a:pt x="264" y="136"/>
                    </a:lnTo>
                    <a:lnTo>
                      <a:pt x="262" y="136"/>
                    </a:lnTo>
                    <a:lnTo>
                      <a:pt x="259" y="139"/>
                    </a:lnTo>
                    <a:lnTo>
                      <a:pt x="256" y="141"/>
                    </a:lnTo>
                    <a:lnTo>
                      <a:pt x="254" y="141"/>
                    </a:lnTo>
                    <a:lnTo>
                      <a:pt x="251" y="144"/>
                    </a:lnTo>
                    <a:lnTo>
                      <a:pt x="249" y="144"/>
                    </a:lnTo>
                    <a:lnTo>
                      <a:pt x="246" y="146"/>
                    </a:lnTo>
                    <a:lnTo>
                      <a:pt x="244" y="146"/>
                    </a:lnTo>
                    <a:lnTo>
                      <a:pt x="241" y="146"/>
                    </a:lnTo>
                    <a:lnTo>
                      <a:pt x="236" y="149"/>
                    </a:lnTo>
                    <a:lnTo>
                      <a:pt x="233" y="149"/>
                    </a:lnTo>
                    <a:lnTo>
                      <a:pt x="231" y="149"/>
                    </a:lnTo>
                    <a:lnTo>
                      <a:pt x="228" y="151"/>
                    </a:lnTo>
                    <a:lnTo>
                      <a:pt x="223" y="151"/>
                    </a:lnTo>
                    <a:lnTo>
                      <a:pt x="221" y="151"/>
                    </a:lnTo>
                    <a:lnTo>
                      <a:pt x="218" y="151"/>
                    </a:lnTo>
                    <a:lnTo>
                      <a:pt x="213" y="151"/>
                    </a:lnTo>
                    <a:lnTo>
                      <a:pt x="210" y="149"/>
                    </a:lnTo>
                    <a:lnTo>
                      <a:pt x="205" y="149"/>
                    </a:lnTo>
                    <a:lnTo>
                      <a:pt x="203" y="149"/>
                    </a:lnTo>
                    <a:lnTo>
                      <a:pt x="198" y="149"/>
                    </a:lnTo>
                    <a:lnTo>
                      <a:pt x="195" y="149"/>
                    </a:lnTo>
                    <a:lnTo>
                      <a:pt x="190" y="149"/>
                    </a:lnTo>
                    <a:lnTo>
                      <a:pt x="185" y="151"/>
                    </a:lnTo>
                    <a:lnTo>
                      <a:pt x="180" y="151"/>
                    </a:lnTo>
                    <a:lnTo>
                      <a:pt x="172" y="151"/>
                    </a:lnTo>
                    <a:lnTo>
                      <a:pt x="167" y="154"/>
                    </a:lnTo>
                    <a:lnTo>
                      <a:pt x="172" y="154"/>
                    </a:lnTo>
                    <a:lnTo>
                      <a:pt x="174" y="156"/>
                    </a:lnTo>
                    <a:lnTo>
                      <a:pt x="180" y="156"/>
                    </a:lnTo>
                    <a:lnTo>
                      <a:pt x="185" y="159"/>
                    </a:lnTo>
                    <a:lnTo>
                      <a:pt x="190" y="162"/>
                    </a:lnTo>
                    <a:lnTo>
                      <a:pt x="195" y="162"/>
                    </a:lnTo>
                    <a:lnTo>
                      <a:pt x="198" y="164"/>
                    </a:lnTo>
                    <a:lnTo>
                      <a:pt x="203" y="164"/>
                    </a:lnTo>
                    <a:lnTo>
                      <a:pt x="208" y="167"/>
                    </a:lnTo>
                    <a:lnTo>
                      <a:pt x="210" y="169"/>
                    </a:lnTo>
                    <a:lnTo>
                      <a:pt x="215" y="169"/>
                    </a:lnTo>
                    <a:lnTo>
                      <a:pt x="218" y="172"/>
                    </a:lnTo>
                    <a:lnTo>
                      <a:pt x="223" y="174"/>
                    </a:lnTo>
                    <a:lnTo>
                      <a:pt x="226" y="177"/>
                    </a:lnTo>
                    <a:lnTo>
                      <a:pt x="228" y="180"/>
                    </a:lnTo>
                    <a:lnTo>
                      <a:pt x="233" y="182"/>
                    </a:lnTo>
                    <a:lnTo>
                      <a:pt x="236" y="187"/>
                    </a:lnTo>
                    <a:lnTo>
                      <a:pt x="238" y="192"/>
                    </a:lnTo>
                    <a:lnTo>
                      <a:pt x="238" y="197"/>
                    </a:lnTo>
                    <a:lnTo>
                      <a:pt x="238" y="203"/>
                    </a:lnTo>
                    <a:lnTo>
                      <a:pt x="238" y="208"/>
                    </a:lnTo>
                    <a:lnTo>
                      <a:pt x="236" y="213"/>
                    </a:lnTo>
                    <a:lnTo>
                      <a:pt x="231" y="218"/>
                    </a:lnTo>
                    <a:lnTo>
                      <a:pt x="226" y="220"/>
                    </a:lnTo>
                    <a:lnTo>
                      <a:pt x="223" y="220"/>
                    </a:lnTo>
                    <a:lnTo>
                      <a:pt x="215" y="220"/>
                    </a:lnTo>
                    <a:lnTo>
                      <a:pt x="210" y="220"/>
                    </a:lnTo>
                    <a:lnTo>
                      <a:pt x="205" y="220"/>
                    </a:lnTo>
                    <a:lnTo>
                      <a:pt x="203" y="220"/>
                    </a:lnTo>
                    <a:lnTo>
                      <a:pt x="198" y="218"/>
                    </a:lnTo>
                    <a:lnTo>
                      <a:pt x="192" y="218"/>
                    </a:lnTo>
                    <a:lnTo>
                      <a:pt x="187" y="215"/>
                    </a:lnTo>
                    <a:lnTo>
                      <a:pt x="182" y="213"/>
                    </a:lnTo>
                    <a:lnTo>
                      <a:pt x="177" y="213"/>
                    </a:lnTo>
                    <a:lnTo>
                      <a:pt x="174" y="208"/>
                    </a:lnTo>
                    <a:lnTo>
                      <a:pt x="169" y="205"/>
                    </a:lnTo>
                    <a:lnTo>
                      <a:pt x="164" y="203"/>
                    </a:lnTo>
                    <a:lnTo>
                      <a:pt x="162" y="200"/>
                    </a:lnTo>
                    <a:lnTo>
                      <a:pt x="157" y="197"/>
                    </a:lnTo>
                    <a:lnTo>
                      <a:pt x="151" y="195"/>
                    </a:lnTo>
                    <a:lnTo>
                      <a:pt x="149" y="197"/>
                    </a:lnTo>
                    <a:lnTo>
                      <a:pt x="146" y="200"/>
                    </a:lnTo>
                    <a:lnTo>
                      <a:pt x="144" y="205"/>
                    </a:lnTo>
                    <a:lnTo>
                      <a:pt x="141" y="208"/>
                    </a:lnTo>
                    <a:lnTo>
                      <a:pt x="139" y="210"/>
                    </a:lnTo>
                    <a:lnTo>
                      <a:pt x="136" y="213"/>
                    </a:lnTo>
                    <a:lnTo>
                      <a:pt x="133" y="218"/>
                    </a:lnTo>
                    <a:lnTo>
                      <a:pt x="131" y="220"/>
                    </a:lnTo>
                    <a:lnTo>
                      <a:pt x="128" y="223"/>
                    </a:lnTo>
                    <a:lnTo>
                      <a:pt x="123" y="226"/>
                    </a:lnTo>
                    <a:lnTo>
                      <a:pt x="121" y="231"/>
                    </a:lnTo>
                    <a:lnTo>
                      <a:pt x="118" y="233"/>
                    </a:lnTo>
                    <a:lnTo>
                      <a:pt x="116" y="236"/>
                    </a:lnTo>
                    <a:lnTo>
                      <a:pt x="113" y="238"/>
                    </a:lnTo>
                    <a:lnTo>
                      <a:pt x="108" y="241"/>
                    </a:lnTo>
                    <a:lnTo>
                      <a:pt x="105" y="241"/>
                    </a:lnTo>
                    <a:lnTo>
                      <a:pt x="103" y="243"/>
                    </a:lnTo>
                    <a:lnTo>
                      <a:pt x="100" y="243"/>
                    </a:lnTo>
                    <a:lnTo>
                      <a:pt x="95" y="243"/>
                    </a:lnTo>
                    <a:lnTo>
                      <a:pt x="93" y="246"/>
                    </a:lnTo>
                    <a:lnTo>
                      <a:pt x="90" y="246"/>
                    </a:lnTo>
                    <a:lnTo>
                      <a:pt x="87" y="246"/>
                    </a:lnTo>
                    <a:lnTo>
                      <a:pt x="82" y="246"/>
                    </a:lnTo>
                    <a:lnTo>
                      <a:pt x="80" y="246"/>
                    </a:lnTo>
                    <a:lnTo>
                      <a:pt x="77" y="246"/>
                    </a:lnTo>
                    <a:lnTo>
                      <a:pt x="75" y="246"/>
                    </a:lnTo>
                    <a:lnTo>
                      <a:pt x="69" y="246"/>
                    </a:lnTo>
                    <a:lnTo>
                      <a:pt x="67" y="246"/>
                    </a:lnTo>
                    <a:lnTo>
                      <a:pt x="64" y="246"/>
                    </a:lnTo>
                    <a:lnTo>
                      <a:pt x="59" y="243"/>
                    </a:lnTo>
                    <a:lnTo>
                      <a:pt x="57" y="243"/>
                    </a:lnTo>
                    <a:lnTo>
                      <a:pt x="54" y="243"/>
                    </a:lnTo>
                    <a:lnTo>
                      <a:pt x="52" y="243"/>
                    </a:lnTo>
                    <a:lnTo>
                      <a:pt x="49" y="246"/>
                    </a:lnTo>
                    <a:lnTo>
                      <a:pt x="46" y="246"/>
                    </a:lnTo>
                    <a:lnTo>
                      <a:pt x="44" y="246"/>
                    </a:lnTo>
                    <a:lnTo>
                      <a:pt x="41" y="249"/>
                    </a:lnTo>
                    <a:lnTo>
                      <a:pt x="39" y="249"/>
                    </a:lnTo>
                    <a:lnTo>
                      <a:pt x="36" y="249"/>
                    </a:lnTo>
                    <a:lnTo>
                      <a:pt x="34" y="249"/>
                    </a:lnTo>
                    <a:lnTo>
                      <a:pt x="31" y="249"/>
                    </a:lnTo>
                    <a:lnTo>
                      <a:pt x="29" y="246"/>
                    </a:lnTo>
                    <a:lnTo>
                      <a:pt x="26" y="246"/>
                    </a:lnTo>
                    <a:lnTo>
                      <a:pt x="23" y="246"/>
                    </a:lnTo>
                    <a:lnTo>
                      <a:pt x="21" y="243"/>
                    </a:lnTo>
                    <a:lnTo>
                      <a:pt x="18" y="243"/>
                    </a:lnTo>
                    <a:lnTo>
                      <a:pt x="18" y="241"/>
                    </a:lnTo>
                    <a:lnTo>
                      <a:pt x="16" y="241"/>
                    </a:lnTo>
                    <a:lnTo>
                      <a:pt x="13" y="236"/>
                    </a:lnTo>
                    <a:lnTo>
                      <a:pt x="8" y="228"/>
                    </a:lnTo>
                    <a:lnTo>
                      <a:pt x="5" y="223"/>
                    </a:lnTo>
                    <a:lnTo>
                      <a:pt x="3" y="215"/>
                    </a:lnTo>
                    <a:lnTo>
                      <a:pt x="3" y="210"/>
                    </a:lnTo>
                    <a:lnTo>
                      <a:pt x="0" y="203"/>
                    </a:lnTo>
                    <a:lnTo>
                      <a:pt x="0" y="195"/>
                    </a:lnTo>
                    <a:lnTo>
                      <a:pt x="0" y="190"/>
                    </a:lnTo>
                    <a:lnTo>
                      <a:pt x="0" y="182"/>
                    </a:lnTo>
                    <a:lnTo>
                      <a:pt x="3" y="174"/>
                    </a:lnTo>
                    <a:lnTo>
                      <a:pt x="3" y="167"/>
                    </a:lnTo>
                    <a:lnTo>
                      <a:pt x="5" y="162"/>
                    </a:lnTo>
                    <a:lnTo>
                      <a:pt x="5" y="154"/>
                    </a:lnTo>
                    <a:lnTo>
                      <a:pt x="11" y="149"/>
                    </a:lnTo>
                    <a:lnTo>
                      <a:pt x="11" y="141"/>
                    </a:lnTo>
                    <a:lnTo>
                      <a:pt x="13" y="136"/>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flipH="1">
                <a:off x="7871760" y="5802480"/>
                <a:ext cx="10440" cy="43920"/>
              </a:xfrm>
              <a:custGeom>
                <a:avLst/>
                <a:gdLst/>
                <a:ahLst/>
                <a:rect l="l" t="t" r="r" b="b"/>
                <a:pathLst>
                  <a:path w="17" h="69">
                    <a:moveTo>
                      <a:pt x="15" y="0"/>
                    </a:moveTo>
                    <a:lnTo>
                      <a:pt x="17" y="5"/>
                    </a:lnTo>
                    <a:lnTo>
                      <a:pt x="17" y="7"/>
                    </a:lnTo>
                    <a:lnTo>
                      <a:pt x="17" y="13"/>
                    </a:lnTo>
                    <a:lnTo>
                      <a:pt x="17" y="18"/>
                    </a:lnTo>
                    <a:lnTo>
                      <a:pt x="17" y="23"/>
                    </a:lnTo>
                    <a:lnTo>
                      <a:pt x="17" y="28"/>
                    </a:lnTo>
                    <a:lnTo>
                      <a:pt x="15" y="33"/>
                    </a:lnTo>
                    <a:lnTo>
                      <a:pt x="15" y="36"/>
                    </a:lnTo>
                    <a:lnTo>
                      <a:pt x="15" y="41"/>
                    </a:lnTo>
                    <a:lnTo>
                      <a:pt x="12" y="46"/>
                    </a:lnTo>
                    <a:lnTo>
                      <a:pt x="10" y="48"/>
                    </a:lnTo>
                    <a:lnTo>
                      <a:pt x="10" y="54"/>
                    </a:lnTo>
                    <a:lnTo>
                      <a:pt x="7" y="56"/>
                    </a:lnTo>
                    <a:lnTo>
                      <a:pt x="5" y="61"/>
                    </a:lnTo>
                    <a:lnTo>
                      <a:pt x="2" y="64"/>
                    </a:lnTo>
                    <a:lnTo>
                      <a:pt x="0" y="69"/>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730" name=""/>
              <p:cNvSpPr/>
              <p:nvPr/>
            </p:nvSpPr>
            <p:spPr>
              <a:xfrm flipH="1">
                <a:off x="7871760" y="5802480"/>
                <a:ext cx="10440" cy="43920"/>
              </a:xfrm>
              <a:custGeom>
                <a:avLst/>
                <a:gdLst/>
                <a:ahLst/>
                <a:rect l="l" t="t" r="r" b="b"/>
                <a:pathLst>
                  <a:path w="17" h="69">
                    <a:moveTo>
                      <a:pt x="15" y="0"/>
                    </a:moveTo>
                    <a:lnTo>
                      <a:pt x="17" y="5"/>
                    </a:lnTo>
                    <a:lnTo>
                      <a:pt x="17" y="7"/>
                    </a:lnTo>
                    <a:lnTo>
                      <a:pt x="17" y="13"/>
                    </a:lnTo>
                    <a:lnTo>
                      <a:pt x="17" y="18"/>
                    </a:lnTo>
                    <a:lnTo>
                      <a:pt x="17" y="23"/>
                    </a:lnTo>
                    <a:lnTo>
                      <a:pt x="17" y="28"/>
                    </a:lnTo>
                    <a:lnTo>
                      <a:pt x="15" y="33"/>
                    </a:lnTo>
                    <a:lnTo>
                      <a:pt x="15" y="36"/>
                    </a:lnTo>
                    <a:lnTo>
                      <a:pt x="15" y="41"/>
                    </a:lnTo>
                    <a:lnTo>
                      <a:pt x="12" y="46"/>
                    </a:lnTo>
                    <a:lnTo>
                      <a:pt x="10" y="48"/>
                    </a:lnTo>
                    <a:lnTo>
                      <a:pt x="10" y="54"/>
                    </a:lnTo>
                    <a:lnTo>
                      <a:pt x="7" y="56"/>
                    </a:lnTo>
                    <a:lnTo>
                      <a:pt x="5" y="61"/>
                    </a:lnTo>
                    <a:lnTo>
                      <a:pt x="2" y="64"/>
                    </a:lnTo>
                    <a:lnTo>
                      <a:pt x="0" y="69"/>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731" name=""/>
              <p:cNvSpPr/>
              <p:nvPr/>
            </p:nvSpPr>
            <p:spPr>
              <a:xfrm flipH="1">
                <a:off x="7869960" y="5856120"/>
                <a:ext cx="14400" cy="42480"/>
              </a:xfrm>
              <a:custGeom>
                <a:avLst/>
                <a:gdLst/>
                <a:ahLst/>
                <a:rect l="l" t="t" r="r" b="b"/>
                <a:pathLst>
                  <a:path w="23" h="67">
                    <a:moveTo>
                      <a:pt x="23" y="0"/>
                    </a:moveTo>
                    <a:lnTo>
                      <a:pt x="23" y="5"/>
                    </a:lnTo>
                    <a:lnTo>
                      <a:pt x="23" y="10"/>
                    </a:lnTo>
                    <a:lnTo>
                      <a:pt x="20" y="16"/>
                    </a:lnTo>
                    <a:lnTo>
                      <a:pt x="20" y="21"/>
                    </a:lnTo>
                    <a:lnTo>
                      <a:pt x="20" y="26"/>
                    </a:lnTo>
                    <a:lnTo>
                      <a:pt x="20" y="31"/>
                    </a:lnTo>
                    <a:lnTo>
                      <a:pt x="18" y="33"/>
                    </a:lnTo>
                    <a:lnTo>
                      <a:pt x="18" y="39"/>
                    </a:lnTo>
                    <a:lnTo>
                      <a:pt x="15" y="44"/>
                    </a:lnTo>
                    <a:lnTo>
                      <a:pt x="15" y="46"/>
                    </a:lnTo>
                    <a:lnTo>
                      <a:pt x="13" y="49"/>
                    </a:lnTo>
                    <a:lnTo>
                      <a:pt x="10" y="54"/>
                    </a:lnTo>
                    <a:lnTo>
                      <a:pt x="8" y="57"/>
                    </a:lnTo>
                    <a:lnTo>
                      <a:pt x="5" y="59"/>
                    </a:lnTo>
                    <a:lnTo>
                      <a:pt x="3" y="64"/>
                    </a:lnTo>
                    <a:lnTo>
                      <a:pt x="0" y="6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32" name=""/>
              <p:cNvSpPr/>
              <p:nvPr/>
            </p:nvSpPr>
            <p:spPr>
              <a:xfrm flipH="1">
                <a:off x="7869960" y="5856120"/>
                <a:ext cx="14400" cy="42480"/>
              </a:xfrm>
              <a:custGeom>
                <a:avLst/>
                <a:gdLst/>
                <a:ahLst/>
                <a:rect l="l" t="t" r="r" b="b"/>
                <a:pathLst>
                  <a:path w="23" h="67">
                    <a:moveTo>
                      <a:pt x="23" y="0"/>
                    </a:moveTo>
                    <a:lnTo>
                      <a:pt x="23" y="5"/>
                    </a:lnTo>
                    <a:lnTo>
                      <a:pt x="23" y="10"/>
                    </a:lnTo>
                    <a:lnTo>
                      <a:pt x="20" y="16"/>
                    </a:lnTo>
                    <a:lnTo>
                      <a:pt x="20" y="21"/>
                    </a:lnTo>
                    <a:lnTo>
                      <a:pt x="20" y="26"/>
                    </a:lnTo>
                    <a:lnTo>
                      <a:pt x="20" y="31"/>
                    </a:lnTo>
                    <a:lnTo>
                      <a:pt x="18" y="33"/>
                    </a:lnTo>
                    <a:lnTo>
                      <a:pt x="18" y="39"/>
                    </a:lnTo>
                    <a:lnTo>
                      <a:pt x="15" y="44"/>
                    </a:lnTo>
                    <a:lnTo>
                      <a:pt x="15" y="46"/>
                    </a:lnTo>
                    <a:lnTo>
                      <a:pt x="13" y="49"/>
                    </a:lnTo>
                    <a:lnTo>
                      <a:pt x="10" y="54"/>
                    </a:lnTo>
                    <a:lnTo>
                      <a:pt x="8" y="57"/>
                    </a:lnTo>
                    <a:lnTo>
                      <a:pt x="5" y="59"/>
                    </a:lnTo>
                    <a:lnTo>
                      <a:pt x="3" y="64"/>
                    </a:lnTo>
                    <a:lnTo>
                      <a:pt x="0" y="6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33" name=""/>
              <p:cNvSpPr/>
              <p:nvPr/>
            </p:nvSpPr>
            <p:spPr>
              <a:xfrm flipH="1">
                <a:off x="7930080" y="5873760"/>
                <a:ext cx="6120" cy="27720"/>
              </a:xfrm>
              <a:custGeom>
                <a:avLst/>
                <a:gdLst/>
                <a:ahLst/>
                <a:rect l="l" t="t" r="r" b="b"/>
                <a:pathLst>
                  <a:path w="10" h="44">
                    <a:moveTo>
                      <a:pt x="0" y="0"/>
                    </a:moveTo>
                    <a:lnTo>
                      <a:pt x="0" y="5"/>
                    </a:lnTo>
                    <a:lnTo>
                      <a:pt x="0" y="13"/>
                    </a:lnTo>
                    <a:lnTo>
                      <a:pt x="0" y="18"/>
                    </a:lnTo>
                    <a:lnTo>
                      <a:pt x="0" y="26"/>
                    </a:lnTo>
                    <a:lnTo>
                      <a:pt x="3" y="31"/>
                    </a:lnTo>
                    <a:lnTo>
                      <a:pt x="5" y="36"/>
                    </a:lnTo>
                    <a:lnTo>
                      <a:pt x="8" y="39"/>
                    </a:lnTo>
                    <a:lnTo>
                      <a:pt x="10" y="44"/>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734" name=""/>
              <p:cNvSpPr/>
              <p:nvPr/>
            </p:nvSpPr>
            <p:spPr>
              <a:xfrm flipH="1">
                <a:off x="7930080" y="5873760"/>
                <a:ext cx="6120" cy="27720"/>
              </a:xfrm>
              <a:custGeom>
                <a:avLst/>
                <a:gdLst/>
                <a:ahLst/>
                <a:rect l="l" t="t" r="r" b="b"/>
                <a:pathLst>
                  <a:path w="10" h="44">
                    <a:moveTo>
                      <a:pt x="0" y="0"/>
                    </a:moveTo>
                    <a:lnTo>
                      <a:pt x="0" y="5"/>
                    </a:lnTo>
                    <a:lnTo>
                      <a:pt x="0" y="13"/>
                    </a:lnTo>
                    <a:lnTo>
                      <a:pt x="0" y="18"/>
                    </a:lnTo>
                    <a:lnTo>
                      <a:pt x="0" y="26"/>
                    </a:lnTo>
                    <a:lnTo>
                      <a:pt x="3" y="31"/>
                    </a:lnTo>
                    <a:lnTo>
                      <a:pt x="5" y="36"/>
                    </a:lnTo>
                    <a:lnTo>
                      <a:pt x="8" y="39"/>
                    </a:lnTo>
                    <a:lnTo>
                      <a:pt x="10" y="44"/>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735" name=""/>
              <p:cNvSpPr/>
              <p:nvPr/>
            </p:nvSpPr>
            <p:spPr>
              <a:xfrm flipH="1">
                <a:off x="8037360" y="6230160"/>
                <a:ext cx="69480" cy="93960"/>
              </a:xfrm>
              <a:custGeom>
                <a:avLst/>
                <a:gdLst/>
                <a:ahLst/>
                <a:rect l="l" t="t" r="r" b="b"/>
                <a:pathLst>
                  <a:path w="110" h="148">
                    <a:moveTo>
                      <a:pt x="0" y="148"/>
                    </a:moveTo>
                    <a:lnTo>
                      <a:pt x="3" y="143"/>
                    </a:lnTo>
                    <a:lnTo>
                      <a:pt x="5" y="138"/>
                    </a:lnTo>
                    <a:lnTo>
                      <a:pt x="5" y="133"/>
                    </a:lnTo>
                    <a:lnTo>
                      <a:pt x="8" y="128"/>
                    </a:lnTo>
                    <a:lnTo>
                      <a:pt x="10" y="123"/>
                    </a:lnTo>
                    <a:lnTo>
                      <a:pt x="13" y="117"/>
                    </a:lnTo>
                    <a:lnTo>
                      <a:pt x="16" y="112"/>
                    </a:lnTo>
                    <a:lnTo>
                      <a:pt x="18" y="107"/>
                    </a:lnTo>
                    <a:lnTo>
                      <a:pt x="21" y="102"/>
                    </a:lnTo>
                    <a:lnTo>
                      <a:pt x="23" y="97"/>
                    </a:lnTo>
                    <a:lnTo>
                      <a:pt x="26" y="92"/>
                    </a:lnTo>
                    <a:lnTo>
                      <a:pt x="28" y="87"/>
                    </a:lnTo>
                    <a:lnTo>
                      <a:pt x="31" y="82"/>
                    </a:lnTo>
                    <a:lnTo>
                      <a:pt x="36" y="77"/>
                    </a:lnTo>
                    <a:lnTo>
                      <a:pt x="39" y="71"/>
                    </a:lnTo>
                    <a:lnTo>
                      <a:pt x="41" y="66"/>
                    </a:lnTo>
                    <a:lnTo>
                      <a:pt x="46" y="61"/>
                    </a:lnTo>
                    <a:lnTo>
                      <a:pt x="49" y="56"/>
                    </a:lnTo>
                    <a:lnTo>
                      <a:pt x="54" y="51"/>
                    </a:lnTo>
                    <a:lnTo>
                      <a:pt x="56" y="46"/>
                    </a:lnTo>
                    <a:lnTo>
                      <a:pt x="62" y="41"/>
                    </a:lnTo>
                    <a:lnTo>
                      <a:pt x="64" y="36"/>
                    </a:lnTo>
                    <a:lnTo>
                      <a:pt x="69" y="33"/>
                    </a:lnTo>
                    <a:lnTo>
                      <a:pt x="74" y="28"/>
                    </a:lnTo>
                    <a:lnTo>
                      <a:pt x="77" y="25"/>
                    </a:lnTo>
                    <a:lnTo>
                      <a:pt x="82" y="20"/>
                    </a:lnTo>
                    <a:lnTo>
                      <a:pt x="87" y="18"/>
                    </a:lnTo>
                    <a:lnTo>
                      <a:pt x="92" y="13"/>
                    </a:lnTo>
                    <a:lnTo>
                      <a:pt x="95" y="10"/>
                    </a:lnTo>
                    <a:lnTo>
                      <a:pt x="100" y="7"/>
                    </a:lnTo>
                    <a:lnTo>
                      <a:pt x="105" y="5"/>
                    </a:lnTo>
                    <a:lnTo>
                      <a:pt x="1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flipH="1">
                <a:off x="8081640" y="6343920"/>
                <a:ext cx="2880" cy="17640"/>
              </a:xfrm>
              <a:custGeom>
                <a:avLst/>
                <a:gdLst/>
                <a:ahLst/>
                <a:rect l="l" t="t" r="r" b="b"/>
                <a:pathLst>
                  <a:path w="5" h="28">
                    <a:moveTo>
                      <a:pt x="5" y="28"/>
                    </a:moveTo>
                    <a:lnTo>
                      <a:pt x="3" y="25"/>
                    </a:lnTo>
                    <a:lnTo>
                      <a:pt x="3" y="23"/>
                    </a:lnTo>
                    <a:lnTo>
                      <a:pt x="0" y="18"/>
                    </a:lnTo>
                    <a:lnTo>
                      <a:pt x="0" y="15"/>
                    </a:lnTo>
                    <a:lnTo>
                      <a:pt x="0" y="13"/>
                    </a:lnTo>
                    <a:lnTo>
                      <a:pt x="0" y="8"/>
                    </a:lnTo>
                    <a:lnTo>
                      <a:pt x="0" y="5"/>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37" name=""/>
              <p:cNvSpPr/>
              <p:nvPr/>
            </p:nvSpPr>
            <p:spPr>
              <a:xfrm flipH="1">
                <a:off x="8008560" y="6238440"/>
                <a:ext cx="14400" cy="9360"/>
              </a:xfrm>
              <a:custGeom>
                <a:avLst/>
                <a:gdLst/>
                <a:ahLst/>
                <a:rect l="l" t="t" r="r" b="b"/>
                <a:pathLst>
                  <a:path w="23" h="15">
                    <a:moveTo>
                      <a:pt x="23" y="0"/>
                    </a:moveTo>
                    <a:lnTo>
                      <a:pt x="21" y="0"/>
                    </a:lnTo>
                    <a:lnTo>
                      <a:pt x="21" y="0"/>
                    </a:lnTo>
                    <a:lnTo>
                      <a:pt x="18" y="2"/>
                    </a:lnTo>
                    <a:lnTo>
                      <a:pt x="16" y="2"/>
                    </a:lnTo>
                    <a:lnTo>
                      <a:pt x="13" y="2"/>
                    </a:lnTo>
                    <a:lnTo>
                      <a:pt x="13" y="2"/>
                    </a:lnTo>
                    <a:lnTo>
                      <a:pt x="11" y="5"/>
                    </a:lnTo>
                    <a:lnTo>
                      <a:pt x="11" y="5"/>
                    </a:lnTo>
                    <a:lnTo>
                      <a:pt x="8" y="5"/>
                    </a:lnTo>
                    <a:lnTo>
                      <a:pt x="5" y="7"/>
                    </a:lnTo>
                    <a:lnTo>
                      <a:pt x="5" y="7"/>
                    </a:lnTo>
                    <a:lnTo>
                      <a:pt x="3" y="10"/>
                    </a:lnTo>
                    <a:lnTo>
                      <a:pt x="3" y="10"/>
                    </a:lnTo>
                    <a:lnTo>
                      <a:pt x="0" y="12"/>
                    </a:lnTo>
                    <a:lnTo>
                      <a:pt x="0" y="12"/>
                    </a:lnTo>
                    <a:lnTo>
                      <a:pt x="0" y="1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H="1">
                <a:off x="8311680" y="6140520"/>
                <a:ext cx="60120" cy="115560"/>
              </a:xfrm>
              <a:custGeom>
                <a:avLst/>
                <a:gdLst/>
                <a:ahLst/>
                <a:rect l="l" t="t" r="r" b="b"/>
                <a:pathLst>
                  <a:path w="95" h="182">
                    <a:moveTo>
                      <a:pt x="82" y="0"/>
                    </a:moveTo>
                    <a:lnTo>
                      <a:pt x="82" y="0"/>
                    </a:lnTo>
                    <a:lnTo>
                      <a:pt x="82" y="3"/>
                    </a:lnTo>
                    <a:lnTo>
                      <a:pt x="79" y="3"/>
                    </a:lnTo>
                    <a:lnTo>
                      <a:pt x="79" y="5"/>
                    </a:lnTo>
                    <a:lnTo>
                      <a:pt x="77" y="8"/>
                    </a:lnTo>
                    <a:lnTo>
                      <a:pt x="74" y="8"/>
                    </a:lnTo>
                    <a:lnTo>
                      <a:pt x="71" y="10"/>
                    </a:lnTo>
                    <a:lnTo>
                      <a:pt x="71" y="10"/>
                    </a:lnTo>
                    <a:lnTo>
                      <a:pt x="69" y="10"/>
                    </a:lnTo>
                    <a:lnTo>
                      <a:pt x="69" y="8"/>
                    </a:lnTo>
                    <a:lnTo>
                      <a:pt x="69" y="8"/>
                    </a:lnTo>
                    <a:lnTo>
                      <a:pt x="66" y="5"/>
                    </a:lnTo>
                    <a:lnTo>
                      <a:pt x="66" y="5"/>
                    </a:lnTo>
                    <a:lnTo>
                      <a:pt x="64" y="3"/>
                    </a:lnTo>
                    <a:lnTo>
                      <a:pt x="64" y="3"/>
                    </a:lnTo>
                    <a:lnTo>
                      <a:pt x="61" y="0"/>
                    </a:lnTo>
                    <a:lnTo>
                      <a:pt x="59" y="0"/>
                    </a:lnTo>
                    <a:lnTo>
                      <a:pt x="56" y="0"/>
                    </a:lnTo>
                    <a:lnTo>
                      <a:pt x="56" y="0"/>
                    </a:lnTo>
                    <a:lnTo>
                      <a:pt x="54" y="0"/>
                    </a:lnTo>
                    <a:lnTo>
                      <a:pt x="48" y="0"/>
                    </a:lnTo>
                    <a:lnTo>
                      <a:pt x="46" y="0"/>
                    </a:lnTo>
                    <a:lnTo>
                      <a:pt x="43" y="0"/>
                    </a:lnTo>
                    <a:lnTo>
                      <a:pt x="38" y="0"/>
                    </a:lnTo>
                    <a:lnTo>
                      <a:pt x="36" y="3"/>
                    </a:lnTo>
                    <a:lnTo>
                      <a:pt x="31" y="5"/>
                    </a:lnTo>
                    <a:lnTo>
                      <a:pt x="25" y="10"/>
                    </a:lnTo>
                    <a:lnTo>
                      <a:pt x="23" y="15"/>
                    </a:lnTo>
                    <a:lnTo>
                      <a:pt x="18" y="20"/>
                    </a:lnTo>
                    <a:lnTo>
                      <a:pt x="15" y="26"/>
                    </a:lnTo>
                    <a:lnTo>
                      <a:pt x="13" y="33"/>
                    </a:lnTo>
                    <a:lnTo>
                      <a:pt x="10" y="38"/>
                    </a:lnTo>
                    <a:lnTo>
                      <a:pt x="7" y="46"/>
                    </a:lnTo>
                    <a:lnTo>
                      <a:pt x="5" y="51"/>
                    </a:lnTo>
                    <a:lnTo>
                      <a:pt x="2" y="59"/>
                    </a:lnTo>
                    <a:lnTo>
                      <a:pt x="2" y="67"/>
                    </a:lnTo>
                    <a:lnTo>
                      <a:pt x="2" y="72"/>
                    </a:lnTo>
                    <a:lnTo>
                      <a:pt x="0" y="79"/>
                    </a:lnTo>
                    <a:lnTo>
                      <a:pt x="0" y="84"/>
                    </a:lnTo>
                    <a:lnTo>
                      <a:pt x="0" y="90"/>
                    </a:lnTo>
                    <a:lnTo>
                      <a:pt x="2" y="92"/>
                    </a:lnTo>
                    <a:lnTo>
                      <a:pt x="2" y="97"/>
                    </a:lnTo>
                    <a:lnTo>
                      <a:pt x="2" y="100"/>
                    </a:lnTo>
                    <a:lnTo>
                      <a:pt x="2" y="105"/>
                    </a:lnTo>
                    <a:lnTo>
                      <a:pt x="2" y="110"/>
                    </a:lnTo>
                    <a:lnTo>
                      <a:pt x="5" y="113"/>
                    </a:lnTo>
                    <a:lnTo>
                      <a:pt x="5" y="118"/>
                    </a:lnTo>
                    <a:lnTo>
                      <a:pt x="7" y="120"/>
                    </a:lnTo>
                    <a:lnTo>
                      <a:pt x="7" y="125"/>
                    </a:lnTo>
                    <a:lnTo>
                      <a:pt x="7" y="128"/>
                    </a:lnTo>
                    <a:lnTo>
                      <a:pt x="10" y="133"/>
                    </a:lnTo>
                    <a:lnTo>
                      <a:pt x="13" y="136"/>
                    </a:lnTo>
                    <a:lnTo>
                      <a:pt x="13" y="141"/>
                    </a:lnTo>
                    <a:lnTo>
                      <a:pt x="15" y="143"/>
                    </a:lnTo>
                    <a:lnTo>
                      <a:pt x="18" y="146"/>
                    </a:lnTo>
                    <a:lnTo>
                      <a:pt x="20" y="148"/>
                    </a:lnTo>
                    <a:lnTo>
                      <a:pt x="23" y="154"/>
                    </a:lnTo>
                    <a:lnTo>
                      <a:pt x="25" y="156"/>
                    </a:lnTo>
                    <a:lnTo>
                      <a:pt x="28" y="159"/>
                    </a:lnTo>
                    <a:lnTo>
                      <a:pt x="31" y="161"/>
                    </a:lnTo>
                    <a:lnTo>
                      <a:pt x="33" y="164"/>
                    </a:lnTo>
                    <a:lnTo>
                      <a:pt x="38" y="166"/>
                    </a:lnTo>
                    <a:lnTo>
                      <a:pt x="41" y="169"/>
                    </a:lnTo>
                    <a:lnTo>
                      <a:pt x="46" y="171"/>
                    </a:lnTo>
                    <a:lnTo>
                      <a:pt x="51" y="174"/>
                    </a:lnTo>
                    <a:lnTo>
                      <a:pt x="56" y="174"/>
                    </a:lnTo>
                    <a:lnTo>
                      <a:pt x="61" y="177"/>
                    </a:lnTo>
                    <a:lnTo>
                      <a:pt x="66" y="179"/>
                    </a:lnTo>
                    <a:lnTo>
                      <a:pt x="71" y="179"/>
                    </a:lnTo>
                    <a:lnTo>
                      <a:pt x="79" y="182"/>
                    </a:lnTo>
                    <a:lnTo>
                      <a:pt x="87" y="182"/>
                    </a:lnTo>
                    <a:lnTo>
                      <a:pt x="95" y="1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flipH="1">
                <a:off x="8355960" y="6123960"/>
                <a:ext cx="17640" cy="12960"/>
              </a:xfrm>
              <a:custGeom>
                <a:avLst/>
                <a:gdLst/>
                <a:ahLst/>
                <a:rect l="l" t="t" r="r" b="b"/>
                <a:pathLst>
                  <a:path w="28" h="21">
                    <a:moveTo>
                      <a:pt x="28" y="0"/>
                    </a:moveTo>
                    <a:lnTo>
                      <a:pt x="26" y="0"/>
                    </a:lnTo>
                    <a:lnTo>
                      <a:pt x="23" y="3"/>
                    </a:lnTo>
                    <a:lnTo>
                      <a:pt x="21" y="3"/>
                    </a:lnTo>
                    <a:lnTo>
                      <a:pt x="21" y="3"/>
                    </a:lnTo>
                    <a:lnTo>
                      <a:pt x="18" y="6"/>
                    </a:lnTo>
                    <a:lnTo>
                      <a:pt x="16" y="6"/>
                    </a:lnTo>
                    <a:lnTo>
                      <a:pt x="13" y="6"/>
                    </a:lnTo>
                    <a:lnTo>
                      <a:pt x="13" y="8"/>
                    </a:lnTo>
                    <a:lnTo>
                      <a:pt x="10" y="8"/>
                    </a:lnTo>
                    <a:lnTo>
                      <a:pt x="8" y="11"/>
                    </a:lnTo>
                    <a:lnTo>
                      <a:pt x="5" y="13"/>
                    </a:lnTo>
                    <a:lnTo>
                      <a:pt x="5" y="13"/>
                    </a:lnTo>
                    <a:lnTo>
                      <a:pt x="3" y="16"/>
                    </a:lnTo>
                    <a:lnTo>
                      <a:pt x="3" y="16"/>
                    </a:lnTo>
                    <a:lnTo>
                      <a:pt x="0" y="18"/>
                    </a:lnTo>
                    <a:lnTo>
                      <a:pt x="0" y="2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40" name=""/>
              <p:cNvSpPr/>
              <p:nvPr/>
            </p:nvSpPr>
            <p:spPr>
              <a:xfrm flipH="1">
                <a:off x="8337600" y="6259320"/>
                <a:ext cx="32760" cy="14400"/>
              </a:xfrm>
              <a:custGeom>
                <a:avLst/>
                <a:gdLst/>
                <a:ahLst/>
                <a:rect l="l" t="t" r="r" b="b"/>
                <a:pathLst>
                  <a:path w="52" h="23">
                    <a:moveTo>
                      <a:pt x="52" y="23"/>
                    </a:moveTo>
                    <a:lnTo>
                      <a:pt x="46" y="23"/>
                    </a:lnTo>
                    <a:lnTo>
                      <a:pt x="41" y="23"/>
                    </a:lnTo>
                    <a:lnTo>
                      <a:pt x="39" y="20"/>
                    </a:lnTo>
                    <a:lnTo>
                      <a:pt x="34" y="20"/>
                    </a:lnTo>
                    <a:lnTo>
                      <a:pt x="31" y="20"/>
                    </a:lnTo>
                    <a:lnTo>
                      <a:pt x="29" y="20"/>
                    </a:lnTo>
                    <a:lnTo>
                      <a:pt x="23" y="18"/>
                    </a:lnTo>
                    <a:lnTo>
                      <a:pt x="21" y="18"/>
                    </a:lnTo>
                    <a:lnTo>
                      <a:pt x="18" y="15"/>
                    </a:lnTo>
                    <a:lnTo>
                      <a:pt x="16" y="13"/>
                    </a:lnTo>
                    <a:lnTo>
                      <a:pt x="11" y="13"/>
                    </a:lnTo>
                    <a:lnTo>
                      <a:pt x="8" y="10"/>
                    </a:lnTo>
                    <a:lnTo>
                      <a:pt x="5" y="7"/>
                    </a:lnTo>
                    <a:lnTo>
                      <a:pt x="3" y="5"/>
                    </a:lnTo>
                    <a:lnTo>
                      <a:pt x="3" y="2"/>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41" name=""/>
              <p:cNvSpPr/>
              <p:nvPr/>
            </p:nvSpPr>
            <p:spPr>
              <a:xfrm flipH="1">
                <a:off x="8226000" y="6113160"/>
                <a:ext cx="63360" cy="110160"/>
              </a:xfrm>
              <a:custGeom>
                <a:avLst/>
                <a:gdLst/>
                <a:ahLst/>
                <a:rect l="l" t="t" r="r" b="b"/>
                <a:pathLst>
                  <a:path w="100" h="174">
                    <a:moveTo>
                      <a:pt x="0" y="0"/>
                    </a:moveTo>
                    <a:lnTo>
                      <a:pt x="0" y="7"/>
                    </a:lnTo>
                    <a:lnTo>
                      <a:pt x="3" y="12"/>
                    </a:lnTo>
                    <a:lnTo>
                      <a:pt x="3" y="20"/>
                    </a:lnTo>
                    <a:lnTo>
                      <a:pt x="3" y="25"/>
                    </a:lnTo>
                    <a:lnTo>
                      <a:pt x="5" y="30"/>
                    </a:lnTo>
                    <a:lnTo>
                      <a:pt x="5" y="38"/>
                    </a:lnTo>
                    <a:lnTo>
                      <a:pt x="8" y="43"/>
                    </a:lnTo>
                    <a:lnTo>
                      <a:pt x="8" y="48"/>
                    </a:lnTo>
                    <a:lnTo>
                      <a:pt x="11" y="56"/>
                    </a:lnTo>
                    <a:lnTo>
                      <a:pt x="13" y="61"/>
                    </a:lnTo>
                    <a:lnTo>
                      <a:pt x="16" y="66"/>
                    </a:lnTo>
                    <a:lnTo>
                      <a:pt x="16" y="71"/>
                    </a:lnTo>
                    <a:lnTo>
                      <a:pt x="18" y="79"/>
                    </a:lnTo>
                    <a:lnTo>
                      <a:pt x="23" y="84"/>
                    </a:lnTo>
                    <a:lnTo>
                      <a:pt x="26" y="89"/>
                    </a:lnTo>
                    <a:lnTo>
                      <a:pt x="29" y="94"/>
                    </a:lnTo>
                    <a:lnTo>
                      <a:pt x="31" y="99"/>
                    </a:lnTo>
                    <a:lnTo>
                      <a:pt x="34" y="104"/>
                    </a:lnTo>
                    <a:lnTo>
                      <a:pt x="39" y="110"/>
                    </a:lnTo>
                    <a:lnTo>
                      <a:pt x="41" y="115"/>
                    </a:lnTo>
                    <a:lnTo>
                      <a:pt x="46" y="120"/>
                    </a:lnTo>
                    <a:lnTo>
                      <a:pt x="49" y="125"/>
                    </a:lnTo>
                    <a:lnTo>
                      <a:pt x="54" y="130"/>
                    </a:lnTo>
                    <a:lnTo>
                      <a:pt x="57" y="135"/>
                    </a:lnTo>
                    <a:lnTo>
                      <a:pt x="62" y="140"/>
                    </a:lnTo>
                    <a:lnTo>
                      <a:pt x="67" y="145"/>
                    </a:lnTo>
                    <a:lnTo>
                      <a:pt x="72" y="150"/>
                    </a:lnTo>
                    <a:lnTo>
                      <a:pt x="77" y="156"/>
                    </a:lnTo>
                    <a:lnTo>
                      <a:pt x="82" y="161"/>
                    </a:lnTo>
                    <a:lnTo>
                      <a:pt x="87" y="163"/>
                    </a:lnTo>
                    <a:lnTo>
                      <a:pt x="95" y="168"/>
                    </a:lnTo>
                    <a:lnTo>
                      <a:pt x="100" y="1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flipH="1">
                <a:off x="8087760" y="6111360"/>
                <a:ext cx="14400" cy="45360"/>
              </a:xfrm>
              <a:custGeom>
                <a:avLst/>
                <a:gdLst/>
                <a:ahLst/>
                <a:rect l="l" t="t" r="r" b="b"/>
                <a:pathLst>
                  <a:path w="23" h="72">
                    <a:moveTo>
                      <a:pt x="0" y="0"/>
                    </a:moveTo>
                    <a:lnTo>
                      <a:pt x="0" y="3"/>
                    </a:lnTo>
                    <a:lnTo>
                      <a:pt x="2" y="8"/>
                    </a:lnTo>
                    <a:lnTo>
                      <a:pt x="5" y="10"/>
                    </a:lnTo>
                    <a:lnTo>
                      <a:pt x="5" y="15"/>
                    </a:lnTo>
                    <a:lnTo>
                      <a:pt x="8" y="18"/>
                    </a:lnTo>
                    <a:lnTo>
                      <a:pt x="8" y="23"/>
                    </a:lnTo>
                    <a:lnTo>
                      <a:pt x="10" y="28"/>
                    </a:lnTo>
                    <a:lnTo>
                      <a:pt x="10" y="33"/>
                    </a:lnTo>
                    <a:lnTo>
                      <a:pt x="13" y="36"/>
                    </a:lnTo>
                    <a:lnTo>
                      <a:pt x="15" y="41"/>
                    </a:lnTo>
                    <a:lnTo>
                      <a:pt x="15" y="46"/>
                    </a:lnTo>
                    <a:lnTo>
                      <a:pt x="18" y="51"/>
                    </a:lnTo>
                    <a:lnTo>
                      <a:pt x="18" y="56"/>
                    </a:lnTo>
                    <a:lnTo>
                      <a:pt x="20" y="61"/>
                    </a:lnTo>
                    <a:lnTo>
                      <a:pt x="20" y="66"/>
                    </a:lnTo>
                    <a:lnTo>
                      <a:pt x="23" y="72"/>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743" name=""/>
              <p:cNvSpPr/>
              <p:nvPr/>
            </p:nvSpPr>
            <p:spPr>
              <a:xfrm flipH="1">
                <a:off x="7976880" y="6262560"/>
                <a:ext cx="81000" cy="116640"/>
              </a:xfrm>
              <a:custGeom>
                <a:avLst/>
                <a:gdLst/>
                <a:ahLst/>
                <a:rect l="l" t="t" r="r" b="b"/>
                <a:pathLst>
                  <a:path w="128" h="184">
                    <a:moveTo>
                      <a:pt x="5" y="184"/>
                    </a:moveTo>
                    <a:lnTo>
                      <a:pt x="5" y="179"/>
                    </a:lnTo>
                    <a:lnTo>
                      <a:pt x="3" y="171"/>
                    </a:lnTo>
                    <a:lnTo>
                      <a:pt x="0" y="164"/>
                    </a:lnTo>
                    <a:lnTo>
                      <a:pt x="0" y="159"/>
                    </a:lnTo>
                    <a:lnTo>
                      <a:pt x="0" y="151"/>
                    </a:lnTo>
                    <a:lnTo>
                      <a:pt x="0" y="143"/>
                    </a:lnTo>
                    <a:lnTo>
                      <a:pt x="0" y="136"/>
                    </a:lnTo>
                    <a:lnTo>
                      <a:pt x="0" y="125"/>
                    </a:lnTo>
                    <a:lnTo>
                      <a:pt x="3" y="118"/>
                    </a:lnTo>
                    <a:lnTo>
                      <a:pt x="3" y="113"/>
                    </a:lnTo>
                    <a:lnTo>
                      <a:pt x="5" y="105"/>
                    </a:lnTo>
                    <a:lnTo>
                      <a:pt x="5" y="97"/>
                    </a:lnTo>
                    <a:lnTo>
                      <a:pt x="8" y="89"/>
                    </a:lnTo>
                    <a:lnTo>
                      <a:pt x="10" y="84"/>
                    </a:lnTo>
                    <a:lnTo>
                      <a:pt x="15" y="77"/>
                    </a:lnTo>
                    <a:lnTo>
                      <a:pt x="18" y="72"/>
                    </a:lnTo>
                    <a:lnTo>
                      <a:pt x="20" y="69"/>
                    </a:lnTo>
                    <a:lnTo>
                      <a:pt x="23" y="66"/>
                    </a:lnTo>
                    <a:lnTo>
                      <a:pt x="26" y="64"/>
                    </a:lnTo>
                    <a:lnTo>
                      <a:pt x="28" y="59"/>
                    </a:lnTo>
                    <a:lnTo>
                      <a:pt x="31" y="56"/>
                    </a:lnTo>
                    <a:lnTo>
                      <a:pt x="33" y="54"/>
                    </a:lnTo>
                    <a:lnTo>
                      <a:pt x="36" y="51"/>
                    </a:lnTo>
                    <a:lnTo>
                      <a:pt x="38" y="46"/>
                    </a:lnTo>
                    <a:lnTo>
                      <a:pt x="41" y="43"/>
                    </a:lnTo>
                    <a:lnTo>
                      <a:pt x="44" y="41"/>
                    </a:lnTo>
                    <a:lnTo>
                      <a:pt x="49" y="38"/>
                    </a:lnTo>
                    <a:lnTo>
                      <a:pt x="51" y="36"/>
                    </a:lnTo>
                    <a:lnTo>
                      <a:pt x="54" y="33"/>
                    </a:lnTo>
                    <a:lnTo>
                      <a:pt x="56" y="31"/>
                    </a:lnTo>
                    <a:lnTo>
                      <a:pt x="61" y="28"/>
                    </a:lnTo>
                    <a:lnTo>
                      <a:pt x="64" y="26"/>
                    </a:lnTo>
                    <a:lnTo>
                      <a:pt x="67" y="23"/>
                    </a:lnTo>
                    <a:lnTo>
                      <a:pt x="72" y="20"/>
                    </a:lnTo>
                    <a:lnTo>
                      <a:pt x="74" y="18"/>
                    </a:lnTo>
                    <a:lnTo>
                      <a:pt x="79" y="15"/>
                    </a:lnTo>
                    <a:lnTo>
                      <a:pt x="82" y="13"/>
                    </a:lnTo>
                    <a:lnTo>
                      <a:pt x="87" y="13"/>
                    </a:lnTo>
                    <a:lnTo>
                      <a:pt x="90" y="10"/>
                    </a:lnTo>
                    <a:lnTo>
                      <a:pt x="95" y="8"/>
                    </a:lnTo>
                    <a:lnTo>
                      <a:pt x="97" y="8"/>
                    </a:lnTo>
                    <a:lnTo>
                      <a:pt x="102" y="5"/>
                    </a:lnTo>
                    <a:lnTo>
                      <a:pt x="105" y="5"/>
                    </a:lnTo>
                    <a:lnTo>
                      <a:pt x="110" y="2"/>
                    </a:lnTo>
                    <a:lnTo>
                      <a:pt x="115" y="2"/>
                    </a:lnTo>
                    <a:lnTo>
                      <a:pt x="120" y="2"/>
                    </a:lnTo>
                    <a:lnTo>
                      <a:pt x="123" y="2"/>
                    </a:lnTo>
                    <a:lnTo>
                      <a:pt x="1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4" name=""/>
              <p:cNvSpPr/>
              <p:nvPr/>
            </p:nvSpPr>
            <p:spPr>
              <a:xfrm flipH="1">
                <a:off x="8440920" y="5995800"/>
                <a:ext cx="2880" cy="14400"/>
              </a:xfrm>
              <a:custGeom>
                <a:avLst/>
                <a:gdLst/>
                <a:ahLst/>
                <a:rect l="l" t="t" r="r" b="b"/>
                <a:pathLst>
                  <a:path w="5" h="23">
                    <a:moveTo>
                      <a:pt x="5" y="0"/>
                    </a:moveTo>
                    <a:lnTo>
                      <a:pt x="3" y="3"/>
                    </a:lnTo>
                    <a:lnTo>
                      <a:pt x="3" y="5"/>
                    </a:lnTo>
                    <a:lnTo>
                      <a:pt x="0" y="8"/>
                    </a:lnTo>
                    <a:lnTo>
                      <a:pt x="0" y="13"/>
                    </a:lnTo>
                    <a:lnTo>
                      <a:pt x="0" y="16"/>
                    </a:lnTo>
                    <a:lnTo>
                      <a:pt x="0" y="18"/>
                    </a:lnTo>
                    <a:lnTo>
                      <a:pt x="3" y="21"/>
                    </a:lnTo>
                    <a:lnTo>
                      <a:pt x="3" y="2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45" name=""/>
              <p:cNvSpPr/>
              <p:nvPr/>
            </p:nvSpPr>
            <p:spPr>
              <a:xfrm flipH="1">
                <a:off x="8361000" y="6301440"/>
                <a:ext cx="19440" cy="14400"/>
              </a:xfrm>
              <a:custGeom>
                <a:avLst/>
                <a:gdLst/>
                <a:ahLst/>
                <a:rect l="l" t="t" r="r" b="b"/>
                <a:pathLst>
                  <a:path w="31" h="23">
                    <a:moveTo>
                      <a:pt x="31" y="0"/>
                    </a:moveTo>
                    <a:lnTo>
                      <a:pt x="28" y="3"/>
                    </a:lnTo>
                    <a:lnTo>
                      <a:pt x="26" y="3"/>
                    </a:lnTo>
                    <a:lnTo>
                      <a:pt x="23" y="3"/>
                    </a:lnTo>
                    <a:lnTo>
                      <a:pt x="20" y="5"/>
                    </a:lnTo>
                    <a:lnTo>
                      <a:pt x="18" y="5"/>
                    </a:lnTo>
                    <a:lnTo>
                      <a:pt x="18" y="8"/>
                    </a:lnTo>
                    <a:lnTo>
                      <a:pt x="15" y="11"/>
                    </a:lnTo>
                    <a:lnTo>
                      <a:pt x="13" y="11"/>
                    </a:lnTo>
                    <a:lnTo>
                      <a:pt x="10" y="13"/>
                    </a:lnTo>
                    <a:lnTo>
                      <a:pt x="8" y="13"/>
                    </a:lnTo>
                    <a:lnTo>
                      <a:pt x="8" y="16"/>
                    </a:lnTo>
                    <a:lnTo>
                      <a:pt x="5" y="16"/>
                    </a:lnTo>
                    <a:lnTo>
                      <a:pt x="5" y="18"/>
                    </a:lnTo>
                    <a:lnTo>
                      <a:pt x="3" y="21"/>
                    </a:lnTo>
                    <a:lnTo>
                      <a:pt x="3" y="21"/>
                    </a:lnTo>
                    <a:lnTo>
                      <a:pt x="0" y="2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46" name=""/>
              <p:cNvSpPr/>
              <p:nvPr/>
            </p:nvSpPr>
            <p:spPr>
              <a:xfrm flipH="1">
                <a:off x="7858080" y="6106320"/>
                <a:ext cx="199800" cy="297720"/>
              </a:xfrm>
              <a:custGeom>
                <a:avLst/>
                <a:gdLst/>
                <a:ahLst/>
                <a:rect l="l" t="t" r="r" b="b"/>
                <a:pathLst>
                  <a:path w="315" h="469">
                    <a:moveTo>
                      <a:pt x="72" y="269"/>
                    </a:moveTo>
                    <a:lnTo>
                      <a:pt x="74" y="269"/>
                    </a:lnTo>
                    <a:lnTo>
                      <a:pt x="77" y="269"/>
                    </a:lnTo>
                    <a:lnTo>
                      <a:pt x="79" y="269"/>
                    </a:lnTo>
                    <a:lnTo>
                      <a:pt x="79" y="269"/>
                    </a:lnTo>
                    <a:lnTo>
                      <a:pt x="82" y="269"/>
                    </a:lnTo>
                    <a:lnTo>
                      <a:pt x="84" y="272"/>
                    </a:lnTo>
                    <a:lnTo>
                      <a:pt x="87" y="272"/>
                    </a:lnTo>
                    <a:lnTo>
                      <a:pt x="87" y="272"/>
                    </a:lnTo>
                    <a:lnTo>
                      <a:pt x="90" y="274"/>
                    </a:lnTo>
                    <a:lnTo>
                      <a:pt x="90" y="274"/>
                    </a:lnTo>
                    <a:lnTo>
                      <a:pt x="92" y="274"/>
                    </a:lnTo>
                    <a:lnTo>
                      <a:pt x="95" y="277"/>
                    </a:lnTo>
                    <a:lnTo>
                      <a:pt x="95" y="277"/>
                    </a:lnTo>
                    <a:lnTo>
                      <a:pt x="97" y="277"/>
                    </a:lnTo>
                    <a:lnTo>
                      <a:pt x="100" y="277"/>
                    </a:lnTo>
                    <a:lnTo>
                      <a:pt x="100" y="277"/>
                    </a:lnTo>
                    <a:lnTo>
                      <a:pt x="102" y="277"/>
                    </a:lnTo>
                    <a:lnTo>
                      <a:pt x="105" y="277"/>
                    </a:lnTo>
                    <a:lnTo>
                      <a:pt x="108" y="274"/>
                    </a:lnTo>
                    <a:lnTo>
                      <a:pt x="110" y="274"/>
                    </a:lnTo>
                    <a:lnTo>
                      <a:pt x="113" y="274"/>
                    </a:lnTo>
                    <a:lnTo>
                      <a:pt x="115" y="272"/>
                    </a:lnTo>
                    <a:lnTo>
                      <a:pt x="118" y="272"/>
                    </a:lnTo>
                    <a:lnTo>
                      <a:pt x="120" y="272"/>
                    </a:lnTo>
                    <a:lnTo>
                      <a:pt x="123" y="269"/>
                    </a:lnTo>
                    <a:lnTo>
                      <a:pt x="125" y="269"/>
                    </a:lnTo>
                    <a:lnTo>
                      <a:pt x="125" y="266"/>
                    </a:lnTo>
                    <a:lnTo>
                      <a:pt x="128" y="266"/>
                    </a:lnTo>
                    <a:lnTo>
                      <a:pt x="131" y="264"/>
                    </a:lnTo>
                    <a:lnTo>
                      <a:pt x="131" y="261"/>
                    </a:lnTo>
                    <a:lnTo>
                      <a:pt x="133" y="259"/>
                    </a:lnTo>
                    <a:lnTo>
                      <a:pt x="133" y="259"/>
                    </a:lnTo>
                    <a:lnTo>
                      <a:pt x="138" y="251"/>
                    </a:lnTo>
                    <a:lnTo>
                      <a:pt x="141" y="243"/>
                    </a:lnTo>
                    <a:lnTo>
                      <a:pt x="143" y="236"/>
                    </a:lnTo>
                    <a:lnTo>
                      <a:pt x="146" y="231"/>
                    </a:lnTo>
                    <a:lnTo>
                      <a:pt x="148" y="223"/>
                    </a:lnTo>
                    <a:lnTo>
                      <a:pt x="151" y="215"/>
                    </a:lnTo>
                    <a:lnTo>
                      <a:pt x="154" y="208"/>
                    </a:lnTo>
                    <a:lnTo>
                      <a:pt x="156" y="202"/>
                    </a:lnTo>
                    <a:lnTo>
                      <a:pt x="159" y="195"/>
                    </a:lnTo>
                    <a:lnTo>
                      <a:pt x="161" y="187"/>
                    </a:lnTo>
                    <a:lnTo>
                      <a:pt x="164" y="179"/>
                    </a:lnTo>
                    <a:lnTo>
                      <a:pt x="166" y="172"/>
                    </a:lnTo>
                    <a:lnTo>
                      <a:pt x="166" y="167"/>
                    </a:lnTo>
                    <a:lnTo>
                      <a:pt x="169" y="159"/>
                    </a:lnTo>
                    <a:lnTo>
                      <a:pt x="174" y="151"/>
                    </a:lnTo>
                    <a:lnTo>
                      <a:pt x="177" y="144"/>
                    </a:lnTo>
                    <a:lnTo>
                      <a:pt x="177" y="138"/>
                    </a:lnTo>
                    <a:lnTo>
                      <a:pt x="179" y="133"/>
                    </a:lnTo>
                    <a:lnTo>
                      <a:pt x="182" y="126"/>
                    </a:lnTo>
                    <a:lnTo>
                      <a:pt x="184" y="121"/>
                    </a:lnTo>
                    <a:lnTo>
                      <a:pt x="187" y="115"/>
                    </a:lnTo>
                    <a:lnTo>
                      <a:pt x="189" y="108"/>
                    </a:lnTo>
                    <a:lnTo>
                      <a:pt x="192" y="103"/>
                    </a:lnTo>
                    <a:lnTo>
                      <a:pt x="195" y="95"/>
                    </a:lnTo>
                    <a:lnTo>
                      <a:pt x="197" y="90"/>
                    </a:lnTo>
                    <a:lnTo>
                      <a:pt x="200" y="85"/>
                    </a:lnTo>
                    <a:lnTo>
                      <a:pt x="202" y="77"/>
                    </a:lnTo>
                    <a:lnTo>
                      <a:pt x="205" y="72"/>
                    </a:lnTo>
                    <a:lnTo>
                      <a:pt x="207" y="67"/>
                    </a:lnTo>
                    <a:lnTo>
                      <a:pt x="213" y="62"/>
                    </a:lnTo>
                    <a:lnTo>
                      <a:pt x="215" y="54"/>
                    </a:lnTo>
                    <a:lnTo>
                      <a:pt x="218" y="49"/>
                    </a:lnTo>
                    <a:lnTo>
                      <a:pt x="220" y="46"/>
                    </a:lnTo>
                    <a:lnTo>
                      <a:pt x="223" y="41"/>
                    </a:lnTo>
                    <a:lnTo>
                      <a:pt x="225" y="39"/>
                    </a:lnTo>
                    <a:lnTo>
                      <a:pt x="228" y="34"/>
                    </a:lnTo>
                    <a:lnTo>
                      <a:pt x="233" y="31"/>
                    </a:lnTo>
                    <a:lnTo>
                      <a:pt x="236" y="28"/>
                    </a:lnTo>
                    <a:lnTo>
                      <a:pt x="238" y="26"/>
                    </a:lnTo>
                    <a:lnTo>
                      <a:pt x="243" y="23"/>
                    </a:lnTo>
                    <a:lnTo>
                      <a:pt x="248" y="18"/>
                    </a:lnTo>
                    <a:lnTo>
                      <a:pt x="251" y="16"/>
                    </a:lnTo>
                    <a:lnTo>
                      <a:pt x="256" y="13"/>
                    </a:lnTo>
                    <a:lnTo>
                      <a:pt x="259" y="13"/>
                    </a:lnTo>
                    <a:lnTo>
                      <a:pt x="264" y="11"/>
                    </a:lnTo>
                    <a:lnTo>
                      <a:pt x="266" y="8"/>
                    </a:lnTo>
                    <a:lnTo>
                      <a:pt x="271" y="5"/>
                    </a:lnTo>
                    <a:lnTo>
                      <a:pt x="277" y="5"/>
                    </a:lnTo>
                    <a:lnTo>
                      <a:pt x="279" y="3"/>
                    </a:lnTo>
                    <a:lnTo>
                      <a:pt x="284" y="3"/>
                    </a:lnTo>
                    <a:lnTo>
                      <a:pt x="287" y="0"/>
                    </a:lnTo>
                    <a:lnTo>
                      <a:pt x="289" y="0"/>
                    </a:lnTo>
                    <a:lnTo>
                      <a:pt x="294" y="0"/>
                    </a:lnTo>
                    <a:lnTo>
                      <a:pt x="297" y="0"/>
                    </a:lnTo>
                    <a:lnTo>
                      <a:pt x="300" y="0"/>
                    </a:lnTo>
                    <a:lnTo>
                      <a:pt x="302" y="0"/>
                    </a:lnTo>
                    <a:lnTo>
                      <a:pt x="305" y="0"/>
                    </a:lnTo>
                    <a:lnTo>
                      <a:pt x="307" y="3"/>
                    </a:lnTo>
                    <a:lnTo>
                      <a:pt x="310" y="3"/>
                    </a:lnTo>
                    <a:lnTo>
                      <a:pt x="312" y="5"/>
                    </a:lnTo>
                    <a:lnTo>
                      <a:pt x="312" y="5"/>
                    </a:lnTo>
                    <a:lnTo>
                      <a:pt x="315" y="8"/>
                    </a:lnTo>
                    <a:lnTo>
                      <a:pt x="315" y="11"/>
                    </a:lnTo>
                    <a:lnTo>
                      <a:pt x="315" y="13"/>
                    </a:lnTo>
                    <a:lnTo>
                      <a:pt x="215" y="315"/>
                    </a:lnTo>
                    <a:lnTo>
                      <a:pt x="72" y="466"/>
                    </a:lnTo>
                    <a:lnTo>
                      <a:pt x="69" y="466"/>
                    </a:lnTo>
                    <a:lnTo>
                      <a:pt x="69" y="469"/>
                    </a:lnTo>
                    <a:lnTo>
                      <a:pt x="67" y="466"/>
                    </a:lnTo>
                    <a:lnTo>
                      <a:pt x="64" y="466"/>
                    </a:lnTo>
                    <a:lnTo>
                      <a:pt x="61" y="466"/>
                    </a:lnTo>
                    <a:lnTo>
                      <a:pt x="59" y="463"/>
                    </a:lnTo>
                    <a:lnTo>
                      <a:pt x="59" y="461"/>
                    </a:lnTo>
                    <a:lnTo>
                      <a:pt x="56" y="458"/>
                    </a:lnTo>
                    <a:lnTo>
                      <a:pt x="54" y="456"/>
                    </a:lnTo>
                    <a:lnTo>
                      <a:pt x="51" y="453"/>
                    </a:lnTo>
                    <a:lnTo>
                      <a:pt x="51" y="451"/>
                    </a:lnTo>
                    <a:lnTo>
                      <a:pt x="49" y="448"/>
                    </a:lnTo>
                    <a:lnTo>
                      <a:pt x="46" y="448"/>
                    </a:lnTo>
                    <a:lnTo>
                      <a:pt x="46" y="446"/>
                    </a:lnTo>
                    <a:lnTo>
                      <a:pt x="44" y="443"/>
                    </a:lnTo>
                    <a:lnTo>
                      <a:pt x="41" y="440"/>
                    </a:lnTo>
                    <a:lnTo>
                      <a:pt x="38" y="438"/>
                    </a:lnTo>
                    <a:lnTo>
                      <a:pt x="36" y="433"/>
                    </a:lnTo>
                    <a:lnTo>
                      <a:pt x="36" y="428"/>
                    </a:lnTo>
                    <a:lnTo>
                      <a:pt x="33" y="422"/>
                    </a:lnTo>
                    <a:lnTo>
                      <a:pt x="31" y="420"/>
                    </a:lnTo>
                    <a:lnTo>
                      <a:pt x="28" y="415"/>
                    </a:lnTo>
                    <a:lnTo>
                      <a:pt x="28" y="410"/>
                    </a:lnTo>
                    <a:lnTo>
                      <a:pt x="26" y="407"/>
                    </a:lnTo>
                    <a:lnTo>
                      <a:pt x="23" y="405"/>
                    </a:lnTo>
                    <a:lnTo>
                      <a:pt x="20" y="402"/>
                    </a:lnTo>
                    <a:lnTo>
                      <a:pt x="20" y="399"/>
                    </a:lnTo>
                    <a:lnTo>
                      <a:pt x="18" y="397"/>
                    </a:lnTo>
                    <a:lnTo>
                      <a:pt x="15" y="394"/>
                    </a:lnTo>
                    <a:lnTo>
                      <a:pt x="13" y="392"/>
                    </a:lnTo>
                    <a:lnTo>
                      <a:pt x="10" y="392"/>
                    </a:lnTo>
                    <a:lnTo>
                      <a:pt x="10" y="389"/>
                    </a:lnTo>
                    <a:lnTo>
                      <a:pt x="8" y="387"/>
                    </a:lnTo>
                    <a:lnTo>
                      <a:pt x="5" y="384"/>
                    </a:lnTo>
                    <a:lnTo>
                      <a:pt x="3" y="382"/>
                    </a:lnTo>
                    <a:lnTo>
                      <a:pt x="3" y="379"/>
                    </a:lnTo>
                    <a:lnTo>
                      <a:pt x="0" y="376"/>
                    </a:lnTo>
                    <a:lnTo>
                      <a:pt x="0" y="374"/>
                    </a:lnTo>
                    <a:lnTo>
                      <a:pt x="0" y="371"/>
                    </a:lnTo>
                    <a:lnTo>
                      <a:pt x="0" y="369"/>
                    </a:lnTo>
                    <a:lnTo>
                      <a:pt x="0" y="366"/>
                    </a:lnTo>
                    <a:lnTo>
                      <a:pt x="0" y="361"/>
                    </a:lnTo>
                    <a:lnTo>
                      <a:pt x="0" y="359"/>
                    </a:lnTo>
                    <a:lnTo>
                      <a:pt x="0" y="353"/>
                    </a:lnTo>
                    <a:lnTo>
                      <a:pt x="3" y="351"/>
                    </a:lnTo>
                    <a:lnTo>
                      <a:pt x="3" y="346"/>
                    </a:lnTo>
                    <a:lnTo>
                      <a:pt x="5" y="341"/>
                    </a:lnTo>
                    <a:lnTo>
                      <a:pt x="8" y="338"/>
                    </a:lnTo>
                    <a:lnTo>
                      <a:pt x="8" y="333"/>
                    </a:lnTo>
                    <a:lnTo>
                      <a:pt x="10" y="330"/>
                    </a:lnTo>
                    <a:lnTo>
                      <a:pt x="13" y="325"/>
                    </a:lnTo>
                    <a:lnTo>
                      <a:pt x="15" y="323"/>
                    </a:lnTo>
                    <a:lnTo>
                      <a:pt x="15" y="318"/>
                    </a:lnTo>
                    <a:lnTo>
                      <a:pt x="18" y="315"/>
                    </a:lnTo>
                    <a:lnTo>
                      <a:pt x="20" y="312"/>
                    </a:lnTo>
                    <a:lnTo>
                      <a:pt x="23" y="310"/>
                    </a:lnTo>
                    <a:lnTo>
                      <a:pt x="26" y="305"/>
                    </a:lnTo>
                    <a:lnTo>
                      <a:pt x="28" y="302"/>
                    </a:lnTo>
                    <a:lnTo>
                      <a:pt x="31" y="300"/>
                    </a:lnTo>
                    <a:lnTo>
                      <a:pt x="33" y="297"/>
                    </a:lnTo>
                    <a:lnTo>
                      <a:pt x="36" y="292"/>
                    </a:lnTo>
                    <a:lnTo>
                      <a:pt x="38" y="289"/>
                    </a:lnTo>
                    <a:lnTo>
                      <a:pt x="41" y="287"/>
                    </a:lnTo>
                    <a:lnTo>
                      <a:pt x="44" y="284"/>
                    </a:lnTo>
                    <a:lnTo>
                      <a:pt x="49" y="282"/>
                    </a:lnTo>
                    <a:lnTo>
                      <a:pt x="51" y="279"/>
                    </a:lnTo>
                    <a:lnTo>
                      <a:pt x="54" y="277"/>
                    </a:lnTo>
                    <a:lnTo>
                      <a:pt x="56" y="274"/>
                    </a:lnTo>
                    <a:lnTo>
                      <a:pt x="61" y="274"/>
                    </a:lnTo>
                    <a:lnTo>
                      <a:pt x="64" y="272"/>
                    </a:lnTo>
                    <a:lnTo>
                      <a:pt x="69" y="269"/>
                    </a:lnTo>
                    <a:lnTo>
                      <a:pt x="72" y="269"/>
                    </a:lnTo>
                    <a:close/>
                  </a:path>
                </a:pathLst>
              </a:custGeom>
              <a:solidFill>
                <a:srgbClr val="9f7b0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flipH="1">
                <a:off x="7838640" y="6106320"/>
                <a:ext cx="182160" cy="300960"/>
              </a:xfrm>
              <a:custGeom>
                <a:avLst/>
                <a:gdLst/>
                <a:ahLst/>
                <a:rect l="l" t="t" r="r" b="b"/>
                <a:pathLst>
                  <a:path w="287" h="474">
                    <a:moveTo>
                      <a:pt x="246" y="0"/>
                    </a:moveTo>
                    <a:lnTo>
                      <a:pt x="251" y="0"/>
                    </a:lnTo>
                    <a:lnTo>
                      <a:pt x="253" y="0"/>
                    </a:lnTo>
                    <a:lnTo>
                      <a:pt x="258" y="3"/>
                    </a:lnTo>
                    <a:lnTo>
                      <a:pt x="261" y="5"/>
                    </a:lnTo>
                    <a:lnTo>
                      <a:pt x="266" y="8"/>
                    </a:lnTo>
                    <a:lnTo>
                      <a:pt x="269" y="11"/>
                    </a:lnTo>
                    <a:lnTo>
                      <a:pt x="271" y="13"/>
                    </a:lnTo>
                    <a:lnTo>
                      <a:pt x="274" y="16"/>
                    </a:lnTo>
                    <a:lnTo>
                      <a:pt x="279" y="21"/>
                    </a:lnTo>
                    <a:lnTo>
                      <a:pt x="279" y="26"/>
                    </a:lnTo>
                    <a:lnTo>
                      <a:pt x="282" y="28"/>
                    </a:lnTo>
                    <a:lnTo>
                      <a:pt x="284" y="34"/>
                    </a:lnTo>
                    <a:lnTo>
                      <a:pt x="287" y="39"/>
                    </a:lnTo>
                    <a:lnTo>
                      <a:pt x="287" y="41"/>
                    </a:lnTo>
                    <a:lnTo>
                      <a:pt x="287" y="46"/>
                    </a:lnTo>
                    <a:lnTo>
                      <a:pt x="287" y="49"/>
                    </a:lnTo>
                    <a:lnTo>
                      <a:pt x="287" y="57"/>
                    </a:lnTo>
                    <a:lnTo>
                      <a:pt x="287" y="67"/>
                    </a:lnTo>
                    <a:lnTo>
                      <a:pt x="287" y="74"/>
                    </a:lnTo>
                    <a:lnTo>
                      <a:pt x="287" y="85"/>
                    </a:lnTo>
                    <a:lnTo>
                      <a:pt x="284" y="92"/>
                    </a:lnTo>
                    <a:lnTo>
                      <a:pt x="284" y="103"/>
                    </a:lnTo>
                    <a:lnTo>
                      <a:pt x="282" y="110"/>
                    </a:lnTo>
                    <a:lnTo>
                      <a:pt x="279" y="118"/>
                    </a:lnTo>
                    <a:lnTo>
                      <a:pt x="279" y="128"/>
                    </a:lnTo>
                    <a:lnTo>
                      <a:pt x="276" y="136"/>
                    </a:lnTo>
                    <a:lnTo>
                      <a:pt x="274" y="144"/>
                    </a:lnTo>
                    <a:lnTo>
                      <a:pt x="271" y="154"/>
                    </a:lnTo>
                    <a:lnTo>
                      <a:pt x="269" y="161"/>
                    </a:lnTo>
                    <a:lnTo>
                      <a:pt x="264" y="169"/>
                    </a:lnTo>
                    <a:lnTo>
                      <a:pt x="261" y="177"/>
                    </a:lnTo>
                    <a:lnTo>
                      <a:pt x="258" y="185"/>
                    </a:lnTo>
                    <a:lnTo>
                      <a:pt x="256" y="192"/>
                    </a:lnTo>
                    <a:lnTo>
                      <a:pt x="251" y="200"/>
                    </a:lnTo>
                    <a:lnTo>
                      <a:pt x="248" y="205"/>
                    </a:lnTo>
                    <a:lnTo>
                      <a:pt x="246" y="213"/>
                    </a:lnTo>
                    <a:lnTo>
                      <a:pt x="243" y="220"/>
                    </a:lnTo>
                    <a:lnTo>
                      <a:pt x="238" y="225"/>
                    </a:lnTo>
                    <a:lnTo>
                      <a:pt x="235" y="233"/>
                    </a:lnTo>
                    <a:lnTo>
                      <a:pt x="233" y="238"/>
                    </a:lnTo>
                    <a:lnTo>
                      <a:pt x="228" y="246"/>
                    </a:lnTo>
                    <a:lnTo>
                      <a:pt x="225" y="254"/>
                    </a:lnTo>
                    <a:lnTo>
                      <a:pt x="220" y="259"/>
                    </a:lnTo>
                    <a:lnTo>
                      <a:pt x="218" y="266"/>
                    </a:lnTo>
                    <a:lnTo>
                      <a:pt x="215" y="272"/>
                    </a:lnTo>
                    <a:lnTo>
                      <a:pt x="210" y="279"/>
                    </a:lnTo>
                    <a:lnTo>
                      <a:pt x="205" y="284"/>
                    </a:lnTo>
                    <a:lnTo>
                      <a:pt x="202" y="292"/>
                    </a:lnTo>
                    <a:lnTo>
                      <a:pt x="197" y="297"/>
                    </a:lnTo>
                    <a:lnTo>
                      <a:pt x="194" y="305"/>
                    </a:lnTo>
                    <a:lnTo>
                      <a:pt x="189" y="310"/>
                    </a:lnTo>
                    <a:lnTo>
                      <a:pt x="187" y="318"/>
                    </a:lnTo>
                    <a:lnTo>
                      <a:pt x="182" y="323"/>
                    </a:lnTo>
                    <a:lnTo>
                      <a:pt x="177" y="328"/>
                    </a:lnTo>
                    <a:lnTo>
                      <a:pt x="174" y="335"/>
                    </a:lnTo>
                    <a:lnTo>
                      <a:pt x="169" y="341"/>
                    </a:lnTo>
                    <a:lnTo>
                      <a:pt x="164" y="348"/>
                    </a:lnTo>
                    <a:lnTo>
                      <a:pt x="161" y="353"/>
                    </a:lnTo>
                    <a:lnTo>
                      <a:pt x="156" y="359"/>
                    </a:lnTo>
                    <a:lnTo>
                      <a:pt x="151" y="366"/>
                    </a:lnTo>
                    <a:lnTo>
                      <a:pt x="148" y="371"/>
                    </a:lnTo>
                    <a:lnTo>
                      <a:pt x="143" y="379"/>
                    </a:lnTo>
                    <a:lnTo>
                      <a:pt x="138" y="384"/>
                    </a:lnTo>
                    <a:lnTo>
                      <a:pt x="133" y="389"/>
                    </a:lnTo>
                    <a:lnTo>
                      <a:pt x="130" y="394"/>
                    </a:lnTo>
                    <a:lnTo>
                      <a:pt x="128" y="399"/>
                    </a:lnTo>
                    <a:lnTo>
                      <a:pt x="123" y="405"/>
                    </a:lnTo>
                    <a:lnTo>
                      <a:pt x="118" y="410"/>
                    </a:lnTo>
                    <a:lnTo>
                      <a:pt x="115" y="412"/>
                    </a:lnTo>
                    <a:lnTo>
                      <a:pt x="110" y="417"/>
                    </a:lnTo>
                    <a:lnTo>
                      <a:pt x="105" y="422"/>
                    </a:lnTo>
                    <a:lnTo>
                      <a:pt x="100" y="428"/>
                    </a:lnTo>
                    <a:lnTo>
                      <a:pt x="95" y="430"/>
                    </a:lnTo>
                    <a:lnTo>
                      <a:pt x="92" y="435"/>
                    </a:lnTo>
                    <a:lnTo>
                      <a:pt x="87" y="438"/>
                    </a:lnTo>
                    <a:lnTo>
                      <a:pt x="82" y="443"/>
                    </a:lnTo>
                    <a:lnTo>
                      <a:pt x="77" y="446"/>
                    </a:lnTo>
                    <a:lnTo>
                      <a:pt x="72" y="448"/>
                    </a:lnTo>
                    <a:lnTo>
                      <a:pt x="66" y="453"/>
                    </a:lnTo>
                    <a:lnTo>
                      <a:pt x="61" y="456"/>
                    </a:lnTo>
                    <a:lnTo>
                      <a:pt x="59" y="458"/>
                    </a:lnTo>
                    <a:lnTo>
                      <a:pt x="56" y="461"/>
                    </a:lnTo>
                    <a:lnTo>
                      <a:pt x="54" y="461"/>
                    </a:lnTo>
                    <a:lnTo>
                      <a:pt x="51" y="463"/>
                    </a:lnTo>
                    <a:lnTo>
                      <a:pt x="49" y="463"/>
                    </a:lnTo>
                    <a:lnTo>
                      <a:pt x="46" y="466"/>
                    </a:lnTo>
                    <a:lnTo>
                      <a:pt x="43" y="466"/>
                    </a:lnTo>
                    <a:lnTo>
                      <a:pt x="41" y="469"/>
                    </a:lnTo>
                    <a:lnTo>
                      <a:pt x="38" y="469"/>
                    </a:lnTo>
                    <a:lnTo>
                      <a:pt x="36" y="471"/>
                    </a:lnTo>
                    <a:lnTo>
                      <a:pt x="31" y="471"/>
                    </a:lnTo>
                    <a:lnTo>
                      <a:pt x="28" y="471"/>
                    </a:lnTo>
                    <a:lnTo>
                      <a:pt x="25" y="474"/>
                    </a:lnTo>
                    <a:lnTo>
                      <a:pt x="23" y="474"/>
                    </a:lnTo>
                    <a:lnTo>
                      <a:pt x="20" y="474"/>
                    </a:lnTo>
                    <a:lnTo>
                      <a:pt x="18" y="474"/>
                    </a:lnTo>
                    <a:lnTo>
                      <a:pt x="15" y="474"/>
                    </a:lnTo>
                    <a:lnTo>
                      <a:pt x="15" y="474"/>
                    </a:lnTo>
                    <a:lnTo>
                      <a:pt x="13" y="474"/>
                    </a:lnTo>
                    <a:lnTo>
                      <a:pt x="13" y="471"/>
                    </a:lnTo>
                    <a:lnTo>
                      <a:pt x="10" y="471"/>
                    </a:lnTo>
                    <a:lnTo>
                      <a:pt x="8" y="471"/>
                    </a:lnTo>
                    <a:lnTo>
                      <a:pt x="8" y="469"/>
                    </a:lnTo>
                    <a:lnTo>
                      <a:pt x="5" y="469"/>
                    </a:lnTo>
                    <a:lnTo>
                      <a:pt x="5" y="469"/>
                    </a:lnTo>
                    <a:lnTo>
                      <a:pt x="2" y="466"/>
                    </a:lnTo>
                    <a:lnTo>
                      <a:pt x="2" y="466"/>
                    </a:lnTo>
                    <a:lnTo>
                      <a:pt x="0" y="463"/>
                    </a:lnTo>
                    <a:lnTo>
                      <a:pt x="0" y="461"/>
                    </a:lnTo>
                    <a:lnTo>
                      <a:pt x="0" y="461"/>
                    </a:lnTo>
                    <a:lnTo>
                      <a:pt x="0" y="458"/>
                    </a:lnTo>
                    <a:lnTo>
                      <a:pt x="0" y="458"/>
                    </a:lnTo>
                    <a:lnTo>
                      <a:pt x="0" y="453"/>
                    </a:lnTo>
                    <a:lnTo>
                      <a:pt x="0" y="451"/>
                    </a:lnTo>
                    <a:lnTo>
                      <a:pt x="0" y="446"/>
                    </a:lnTo>
                    <a:lnTo>
                      <a:pt x="2" y="440"/>
                    </a:lnTo>
                    <a:lnTo>
                      <a:pt x="5" y="438"/>
                    </a:lnTo>
                    <a:lnTo>
                      <a:pt x="8" y="433"/>
                    </a:lnTo>
                    <a:lnTo>
                      <a:pt x="10" y="430"/>
                    </a:lnTo>
                    <a:lnTo>
                      <a:pt x="13" y="428"/>
                    </a:lnTo>
                    <a:lnTo>
                      <a:pt x="18" y="420"/>
                    </a:lnTo>
                    <a:lnTo>
                      <a:pt x="20" y="415"/>
                    </a:lnTo>
                    <a:lnTo>
                      <a:pt x="25" y="410"/>
                    </a:lnTo>
                    <a:lnTo>
                      <a:pt x="28" y="405"/>
                    </a:lnTo>
                    <a:lnTo>
                      <a:pt x="33" y="399"/>
                    </a:lnTo>
                    <a:lnTo>
                      <a:pt x="38" y="394"/>
                    </a:lnTo>
                    <a:lnTo>
                      <a:pt x="43" y="389"/>
                    </a:lnTo>
                    <a:lnTo>
                      <a:pt x="49" y="384"/>
                    </a:lnTo>
                    <a:lnTo>
                      <a:pt x="51" y="379"/>
                    </a:lnTo>
                    <a:lnTo>
                      <a:pt x="56" y="371"/>
                    </a:lnTo>
                    <a:lnTo>
                      <a:pt x="61" y="366"/>
                    </a:lnTo>
                    <a:lnTo>
                      <a:pt x="66" y="361"/>
                    </a:lnTo>
                    <a:lnTo>
                      <a:pt x="69" y="356"/>
                    </a:lnTo>
                    <a:lnTo>
                      <a:pt x="74" y="351"/>
                    </a:lnTo>
                    <a:lnTo>
                      <a:pt x="77" y="346"/>
                    </a:lnTo>
                    <a:lnTo>
                      <a:pt x="79" y="338"/>
                    </a:lnTo>
                    <a:lnTo>
                      <a:pt x="84" y="330"/>
                    </a:lnTo>
                    <a:lnTo>
                      <a:pt x="89" y="320"/>
                    </a:lnTo>
                    <a:lnTo>
                      <a:pt x="95" y="312"/>
                    </a:lnTo>
                    <a:lnTo>
                      <a:pt x="97" y="302"/>
                    </a:lnTo>
                    <a:lnTo>
                      <a:pt x="102" y="292"/>
                    </a:lnTo>
                    <a:lnTo>
                      <a:pt x="105" y="284"/>
                    </a:lnTo>
                    <a:lnTo>
                      <a:pt x="110" y="274"/>
                    </a:lnTo>
                    <a:lnTo>
                      <a:pt x="113" y="264"/>
                    </a:lnTo>
                    <a:lnTo>
                      <a:pt x="118" y="256"/>
                    </a:lnTo>
                    <a:lnTo>
                      <a:pt x="120" y="246"/>
                    </a:lnTo>
                    <a:lnTo>
                      <a:pt x="123" y="236"/>
                    </a:lnTo>
                    <a:lnTo>
                      <a:pt x="128" y="228"/>
                    </a:lnTo>
                    <a:lnTo>
                      <a:pt x="130" y="218"/>
                    </a:lnTo>
                    <a:lnTo>
                      <a:pt x="133" y="208"/>
                    </a:lnTo>
                    <a:lnTo>
                      <a:pt x="138" y="200"/>
                    </a:lnTo>
                    <a:lnTo>
                      <a:pt x="141" y="190"/>
                    </a:lnTo>
                    <a:lnTo>
                      <a:pt x="143" y="182"/>
                    </a:lnTo>
                    <a:lnTo>
                      <a:pt x="146" y="177"/>
                    </a:lnTo>
                    <a:lnTo>
                      <a:pt x="148" y="169"/>
                    </a:lnTo>
                    <a:lnTo>
                      <a:pt x="151" y="161"/>
                    </a:lnTo>
                    <a:lnTo>
                      <a:pt x="154" y="156"/>
                    </a:lnTo>
                    <a:lnTo>
                      <a:pt x="156" y="149"/>
                    </a:lnTo>
                    <a:lnTo>
                      <a:pt x="156" y="141"/>
                    </a:lnTo>
                    <a:lnTo>
                      <a:pt x="159" y="133"/>
                    </a:lnTo>
                    <a:lnTo>
                      <a:pt x="161" y="128"/>
                    </a:lnTo>
                    <a:lnTo>
                      <a:pt x="164" y="121"/>
                    </a:lnTo>
                    <a:lnTo>
                      <a:pt x="166" y="113"/>
                    </a:lnTo>
                    <a:lnTo>
                      <a:pt x="169" y="108"/>
                    </a:lnTo>
                    <a:lnTo>
                      <a:pt x="171" y="100"/>
                    </a:lnTo>
                    <a:lnTo>
                      <a:pt x="177" y="95"/>
                    </a:lnTo>
                    <a:lnTo>
                      <a:pt x="179" y="87"/>
                    </a:lnTo>
                    <a:lnTo>
                      <a:pt x="182" y="82"/>
                    </a:lnTo>
                    <a:lnTo>
                      <a:pt x="187" y="77"/>
                    </a:lnTo>
                    <a:lnTo>
                      <a:pt x="189" y="69"/>
                    </a:lnTo>
                    <a:lnTo>
                      <a:pt x="192" y="64"/>
                    </a:lnTo>
                    <a:lnTo>
                      <a:pt x="194" y="57"/>
                    </a:lnTo>
                    <a:lnTo>
                      <a:pt x="197" y="51"/>
                    </a:lnTo>
                    <a:lnTo>
                      <a:pt x="202" y="44"/>
                    </a:lnTo>
                    <a:lnTo>
                      <a:pt x="205" y="39"/>
                    </a:lnTo>
                    <a:lnTo>
                      <a:pt x="207" y="31"/>
                    </a:lnTo>
                    <a:lnTo>
                      <a:pt x="212" y="26"/>
                    </a:lnTo>
                    <a:lnTo>
                      <a:pt x="215" y="21"/>
                    </a:lnTo>
                    <a:lnTo>
                      <a:pt x="220" y="16"/>
                    </a:lnTo>
                    <a:lnTo>
                      <a:pt x="225" y="11"/>
                    </a:lnTo>
                    <a:lnTo>
                      <a:pt x="230" y="8"/>
                    </a:lnTo>
                    <a:lnTo>
                      <a:pt x="235" y="5"/>
                    </a:lnTo>
                    <a:lnTo>
                      <a:pt x="241" y="3"/>
                    </a:lnTo>
                    <a:lnTo>
                      <a:pt x="24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flipH="1">
                <a:off x="8017920" y="5856120"/>
                <a:ext cx="23760" cy="124920"/>
              </a:xfrm>
              <a:custGeom>
                <a:avLst/>
                <a:gdLst/>
                <a:ahLst/>
                <a:rect l="l" t="t" r="r" b="b"/>
                <a:pathLst>
                  <a:path w="38" h="197">
                    <a:moveTo>
                      <a:pt x="0" y="0"/>
                    </a:moveTo>
                    <a:lnTo>
                      <a:pt x="5" y="10"/>
                    </a:lnTo>
                    <a:lnTo>
                      <a:pt x="12" y="23"/>
                    </a:lnTo>
                    <a:lnTo>
                      <a:pt x="18" y="33"/>
                    </a:lnTo>
                    <a:lnTo>
                      <a:pt x="23" y="46"/>
                    </a:lnTo>
                    <a:lnTo>
                      <a:pt x="28" y="57"/>
                    </a:lnTo>
                    <a:lnTo>
                      <a:pt x="30" y="69"/>
                    </a:lnTo>
                    <a:lnTo>
                      <a:pt x="35" y="82"/>
                    </a:lnTo>
                    <a:lnTo>
                      <a:pt x="35" y="92"/>
                    </a:lnTo>
                    <a:lnTo>
                      <a:pt x="38" y="105"/>
                    </a:lnTo>
                    <a:lnTo>
                      <a:pt x="38" y="118"/>
                    </a:lnTo>
                    <a:lnTo>
                      <a:pt x="38" y="131"/>
                    </a:lnTo>
                    <a:lnTo>
                      <a:pt x="38" y="144"/>
                    </a:lnTo>
                    <a:lnTo>
                      <a:pt x="38" y="156"/>
                    </a:lnTo>
                    <a:lnTo>
                      <a:pt x="35" y="169"/>
                    </a:lnTo>
                    <a:lnTo>
                      <a:pt x="33" y="184"/>
                    </a:lnTo>
                    <a:lnTo>
                      <a:pt x="28" y="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flipH="1">
                <a:off x="8175240" y="5901480"/>
                <a:ext cx="63360" cy="5040"/>
              </a:xfrm>
              <a:custGeom>
                <a:avLst/>
                <a:gdLst/>
                <a:ahLst/>
                <a:rect l="l" t="t" r="r" b="b"/>
                <a:pathLst>
                  <a:path w="100" h="8">
                    <a:moveTo>
                      <a:pt x="0" y="8"/>
                    </a:moveTo>
                    <a:lnTo>
                      <a:pt x="5" y="5"/>
                    </a:lnTo>
                    <a:lnTo>
                      <a:pt x="7" y="5"/>
                    </a:lnTo>
                    <a:lnTo>
                      <a:pt x="10" y="5"/>
                    </a:lnTo>
                    <a:lnTo>
                      <a:pt x="13" y="2"/>
                    </a:lnTo>
                    <a:lnTo>
                      <a:pt x="15" y="2"/>
                    </a:lnTo>
                    <a:lnTo>
                      <a:pt x="20" y="2"/>
                    </a:lnTo>
                    <a:lnTo>
                      <a:pt x="23" y="2"/>
                    </a:lnTo>
                    <a:lnTo>
                      <a:pt x="25" y="2"/>
                    </a:lnTo>
                    <a:lnTo>
                      <a:pt x="28" y="2"/>
                    </a:lnTo>
                    <a:lnTo>
                      <a:pt x="30" y="0"/>
                    </a:lnTo>
                    <a:lnTo>
                      <a:pt x="36" y="0"/>
                    </a:lnTo>
                    <a:lnTo>
                      <a:pt x="38" y="0"/>
                    </a:lnTo>
                    <a:lnTo>
                      <a:pt x="41" y="0"/>
                    </a:lnTo>
                    <a:lnTo>
                      <a:pt x="43" y="0"/>
                    </a:lnTo>
                    <a:lnTo>
                      <a:pt x="48" y="0"/>
                    </a:lnTo>
                    <a:lnTo>
                      <a:pt x="51" y="0"/>
                    </a:lnTo>
                    <a:lnTo>
                      <a:pt x="54" y="0"/>
                    </a:lnTo>
                    <a:lnTo>
                      <a:pt x="56" y="0"/>
                    </a:lnTo>
                    <a:lnTo>
                      <a:pt x="61" y="0"/>
                    </a:lnTo>
                    <a:lnTo>
                      <a:pt x="64" y="0"/>
                    </a:lnTo>
                    <a:lnTo>
                      <a:pt x="66" y="0"/>
                    </a:lnTo>
                    <a:lnTo>
                      <a:pt x="69" y="0"/>
                    </a:lnTo>
                    <a:lnTo>
                      <a:pt x="71" y="0"/>
                    </a:lnTo>
                    <a:lnTo>
                      <a:pt x="74" y="0"/>
                    </a:lnTo>
                    <a:lnTo>
                      <a:pt x="79" y="2"/>
                    </a:lnTo>
                    <a:lnTo>
                      <a:pt x="82" y="2"/>
                    </a:lnTo>
                    <a:lnTo>
                      <a:pt x="84" y="2"/>
                    </a:lnTo>
                    <a:lnTo>
                      <a:pt x="87" y="2"/>
                    </a:lnTo>
                    <a:lnTo>
                      <a:pt x="89" y="5"/>
                    </a:lnTo>
                    <a:lnTo>
                      <a:pt x="92" y="5"/>
                    </a:lnTo>
                    <a:lnTo>
                      <a:pt x="94" y="5"/>
                    </a:lnTo>
                    <a:lnTo>
                      <a:pt x="100" y="8"/>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0" name=""/>
              <p:cNvSpPr/>
              <p:nvPr/>
            </p:nvSpPr>
            <p:spPr>
              <a:xfrm flipH="1">
                <a:off x="8191440" y="5911200"/>
                <a:ext cx="22680" cy="14400"/>
              </a:xfrm>
              <a:custGeom>
                <a:avLst/>
                <a:gdLst/>
                <a:ahLst/>
                <a:rect l="l" t="t" r="r" b="b"/>
                <a:pathLst>
                  <a:path w="36" h="23">
                    <a:moveTo>
                      <a:pt x="0" y="0"/>
                    </a:moveTo>
                    <a:lnTo>
                      <a:pt x="3" y="0"/>
                    </a:lnTo>
                    <a:lnTo>
                      <a:pt x="5" y="0"/>
                    </a:lnTo>
                    <a:lnTo>
                      <a:pt x="8" y="3"/>
                    </a:lnTo>
                    <a:lnTo>
                      <a:pt x="10" y="3"/>
                    </a:lnTo>
                    <a:lnTo>
                      <a:pt x="13" y="3"/>
                    </a:lnTo>
                    <a:lnTo>
                      <a:pt x="16" y="5"/>
                    </a:lnTo>
                    <a:lnTo>
                      <a:pt x="18" y="8"/>
                    </a:lnTo>
                    <a:lnTo>
                      <a:pt x="21" y="8"/>
                    </a:lnTo>
                    <a:lnTo>
                      <a:pt x="23" y="10"/>
                    </a:lnTo>
                    <a:lnTo>
                      <a:pt x="26" y="13"/>
                    </a:lnTo>
                    <a:lnTo>
                      <a:pt x="28" y="13"/>
                    </a:lnTo>
                    <a:lnTo>
                      <a:pt x="31" y="16"/>
                    </a:lnTo>
                    <a:lnTo>
                      <a:pt x="33" y="18"/>
                    </a:lnTo>
                    <a:lnTo>
                      <a:pt x="33" y="18"/>
                    </a:lnTo>
                    <a:lnTo>
                      <a:pt x="36" y="21"/>
                    </a:lnTo>
                    <a:lnTo>
                      <a:pt x="36" y="2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1" name=""/>
              <p:cNvSpPr/>
              <p:nvPr/>
            </p:nvSpPr>
            <p:spPr>
              <a:xfrm flipH="1">
                <a:off x="8134560" y="5649480"/>
                <a:ext cx="140040" cy="146520"/>
              </a:xfrm>
              <a:custGeom>
                <a:avLst/>
                <a:gdLst/>
                <a:ahLst/>
                <a:rect l="l" t="t" r="r" b="b"/>
                <a:pathLst>
                  <a:path w="221" h="231">
                    <a:moveTo>
                      <a:pt x="95" y="220"/>
                    </a:moveTo>
                    <a:lnTo>
                      <a:pt x="93" y="218"/>
                    </a:lnTo>
                    <a:lnTo>
                      <a:pt x="90" y="215"/>
                    </a:lnTo>
                    <a:lnTo>
                      <a:pt x="87" y="213"/>
                    </a:lnTo>
                    <a:lnTo>
                      <a:pt x="85" y="210"/>
                    </a:lnTo>
                    <a:lnTo>
                      <a:pt x="85" y="205"/>
                    </a:lnTo>
                    <a:lnTo>
                      <a:pt x="82" y="202"/>
                    </a:lnTo>
                    <a:lnTo>
                      <a:pt x="80" y="197"/>
                    </a:lnTo>
                    <a:lnTo>
                      <a:pt x="80" y="192"/>
                    </a:lnTo>
                    <a:lnTo>
                      <a:pt x="80" y="187"/>
                    </a:lnTo>
                    <a:lnTo>
                      <a:pt x="77" y="182"/>
                    </a:lnTo>
                    <a:lnTo>
                      <a:pt x="77" y="177"/>
                    </a:lnTo>
                    <a:lnTo>
                      <a:pt x="77" y="174"/>
                    </a:lnTo>
                    <a:lnTo>
                      <a:pt x="75" y="169"/>
                    </a:lnTo>
                    <a:lnTo>
                      <a:pt x="75" y="164"/>
                    </a:lnTo>
                    <a:lnTo>
                      <a:pt x="75" y="161"/>
                    </a:lnTo>
                    <a:lnTo>
                      <a:pt x="72" y="156"/>
                    </a:lnTo>
                    <a:lnTo>
                      <a:pt x="72" y="151"/>
                    </a:lnTo>
                    <a:lnTo>
                      <a:pt x="70" y="144"/>
                    </a:lnTo>
                    <a:lnTo>
                      <a:pt x="67" y="136"/>
                    </a:lnTo>
                    <a:lnTo>
                      <a:pt x="64" y="128"/>
                    </a:lnTo>
                    <a:lnTo>
                      <a:pt x="62" y="121"/>
                    </a:lnTo>
                    <a:lnTo>
                      <a:pt x="59" y="113"/>
                    </a:lnTo>
                    <a:lnTo>
                      <a:pt x="54" y="105"/>
                    </a:lnTo>
                    <a:lnTo>
                      <a:pt x="52" y="98"/>
                    </a:lnTo>
                    <a:lnTo>
                      <a:pt x="49" y="92"/>
                    </a:lnTo>
                    <a:lnTo>
                      <a:pt x="47" y="85"/>
                    </a:lnTo>
                    <a:lnTo>
                      <a:pt x="41" y="80"/>
                    </a:lnTo>
                    <a:lnTo>
                      <a:pt x="39" y="72"/>
                    </a:lnTo>
                    <a:lnTo>
                      <a:pt x="36" y="67"/>
                    </a:lnTo>
                    <a:lnTo>
                      <a:pt x="31" y="62"/>
                    </a:lnTo>
                    <a:lnTo>
                      <a:pt x="29" y="59"/>
                    </a:lnTo>
                    <a:lnTo>
                      <a:pt x="23" y="57"/>
                    </a:lnTo>
                    <a:lnTo>
                      <a:pt x="21" y="54"/>
                    </a:lnTo>
                    <a:lnTo>
                      <a:pt x="21" y="54"/>
                    </a:lnTo>
                    <a:lnTo>
                      <a:pt x="18" y="51"/>
                    </a:lnTo>
                    <a:lnTo>
                      <a:pt x="16" y="51"/>
                    </a:lnTo>
                    <a:lnTo>
                      <a:pt x="13" y="49"/>
                    </a:lnTo>
                    <a:lnTo>
                      <a:pt x="11" y="49"/>
                    </a:lnTo>
                    <a:lnTo>
                      <a:pt x="11" y="46"/>
                    </a:lnTo>
                    <a:lnTo>
                      <a:pt x="8" y="46"/>
                    </a:lnTo>
                    <a:lnTo>
                      <a:pt x="6" y="44"/>
                    </a:lnTo>
                    <a:lnTo>
                      <a:pt x="6" y="44"/>
                    </a:lnTo>
                    <a:lnTo>
                      <a:pt x="3" y="41"/>
                    </a:lnTo>
                    <a:lnTo>
                      <a:pt x="3" y="41"/>
                    </a:lnTo>
                    <a:lnTo>
                      <a:pt x="0" y="39"/>
                    </a:lnTo>
                    <a:lnTo>
                      <a:pt x="0" y="36"/>
                    </a:lnTo>
                    <a:lnTo>
                      <a:pt x="0" y="36"/>
                    </a:lnTo>
                    <a:lnTo>
                      <a:pt x="0" y="34"/>
                    </a:lnTo>
                    <a:lnTo>
                      <a:pt x="0" y="31"/>
                    </a:lnTo>
                    <a:lnTo>
                      <a:pt x="0" y="31"/>
                    </a:lnTo>
                    <a:lnTo>
                      <a:pt x="0" y="28"/>
                    </a:lnTo>
                    <a:lnTo>
                      <a:pt x="0" y="26"/>
                    </a:lnTo>
                    <a:lnTo>
                      <a:pt x="0" y="26"/>
                    </a:lnTo>
                    <a:lnTo>
                      <a:pt x="3" y="23"/>
                    </a:lnTo>
                    <a:lnTo>
                      <a:pt x="3" y="21"/>
                    </a:lnTo>
                    <a:lnTo>
                      <a:pt x="6" y="21"/>
                    </a:lnTo>
                    <a:lnTo>
                      <a:pt x="8" y="18"/>
                    </a:lnTo>
                    <a:lnTo>
                      <a:pt x="8" y="18"/>
                    </a:lnTo>
                    <a:lnTo>
                      <a:pt x="11" y="16"/>
                    </a:lnTo>
                    <a:lnTo>
                      <a:pt x="13" y="16"/>
                    </a:lnTo>
                    <a:lnTo>
                      <a:pt x="13" y="16"/>
                    </a:lnTo>
                    <a:lnTo>
                      <a:pt x="16" y="13"/>
                    </a:lnTo>
                    <a:lnTo>
                      <a:pt x="18" y="13"/>
                    </a:lnTo>
                    <a:lnTo>
                      <a:pt x="18" y="13"/>
                    </a:lnTo>
                    <a:lnTo>
                      <a:pt x="23" y="13"/>
                    </a:lnTo>
                    <a:lnTo>
                      <a:pt x="26" y="11"/>
                    </a:lnTo>
                    <a:lnTo>
                      <a:pt x="29" y="11"/>
                    </a:lnTo>
                    <a:lnTo>
                      <a:pt x="31" y="11"/>
                    </a:lnTo>
                    <a:lnTo>
                      <a:pt x="36" y="11"/>
                    </a:lnTo>
                    <a:lnTo>
                      <a:pt x="39" y="8"/>
                    </a:lnTo>
                    <a:lnTo>
                      <a:pt x="41" y="8"/>
                    </a:lnTo>
                    <a:lnTo>
                      <a:pt x="47" y="8"/>
                    </a:lnTo>
                    <a:lnTo>
                      <a:pt x="49" y="5"/>
                    </a:lnTo>
                    <a:lnTo>
                      <a:pt x="52" y="5"/>
                    </a:lnTo>
                    <a:lnTo>
                      <a:pt x="57" y="5"/>
                    </a:lnTo>
                    <a:lnTo>
                      <a:pt x="59" y="3"/>
                    </a:lnTo>
                    <a:lnTo>
                      <a:pt x="64" y="3"/>
                    </a:lnTo>
                    <a:lnTo>
                      <a:pt x="67" y="3"/>
                    </a:lnTo>
                    <a:lnTo>
                      <a:pt x="70" y="3"/>
                    </a:lnTo>
                    <a:lnTo>
                      <a:pt x="75" y="0"/>
                    </a:lnTo>
                    <a:lnTo>
                      <a:pt x="77" y="0"/>
                    </a:lnTo>
                    <a:lnTo>
                      <a:pt x="80" y="0"/>
                    </a:lnTo>
                    <a:lnTo>
                      <a:pt x="85" y="0"/>
                    </a:lnTo>
                    <a:lnTo>
                      <a:pt x="87" y="0"/>
                    </a:lnTo>
                    <a:lnTo>
                      <a:pt x="90" y="0"/>
                    </a:lnTo>
                    <a:lnTo>
                      <a:pt x="93" y="0"/>
                    </a:lnTo>
                    <a:lnTo>
                      <a:pt x="98" y="0"/>
                    </a:lnTo>
                    <a:lnTo>
                      <a:pt x="100" y="0"/>
                    </a:lnTo>
                    <a:lnTo>
                      <a:pt x="103" y="3"/>
                    </a:lnTo>
                    <a:lnTo>
                      <a:pt x="105" y="3"/>
                    </a:lnTo>
                    <a:lnTo>
                      <a:pt x="108" y="3"/>
                    </a:lnTo>
                    <a:lnTo>
                      <a:pt x="111" y="5"/>
                    </a:lnTo>
                    <a:lnTo>
                      <a:pt x="116" y="5"/>
                    </a:lnTo>
                    <a:lnTo>
                      <a:pt x="118" y="8"/>
                    </a:lnTo>
                    <a:lnTo>
                      <a:pt x="121" y="11"/>
                    </a:lnTo>
                    <a:lnTo>
                      <a:pt x="123" y="11"/>
                    </a:lnTo>
                    <a:lnTo>
                      <a:pt x="126" y="16"/>
                    </a:lnTo>
                    <a:lnTo>
                      <a:pt x="131" y="21"/>
                    </a:lnTo>
                    <a:lnTo>
                      <a:pt x="136" y="26"/>
                    </a:lnTo>
                    <a:lnTo>
                      <a:pt x="139" y="31"/>
                    </a:lnTo>
                    <a:lnTo>
                      <a:pt x="144" y="34"/>
                    </a:lnTo>
                    <a:lnTo>
                      <a:pt x="149" y="39"/>
                    </a:lnTo>
                    <a:lnTo>
                      <a:pt x="151" y="44"/>
                    </a:lnTo>
                    <a:lnTo>
                      <a:pt x="154" y="49"/>
                    </a:lnTo>
                    <a:lnTo>
                      <a:pt x="159" y="57"/>
                    </a:lnTo>
                    <a:lnTo>
                      <a:pt x="162" y="62"/>
                    </a:lnTo>
                    <a:lnTo>
                      <a:pt x="164" y="67"/>
                    </a:lnTo>
                    <a:lnTo>
                      <a:pt x="169" y="72"/>
                    </a:lnTo>
                    <a:lnTo>
                      <a:pt x="172" y="77"/>
                    </a:lnTo>
                    <a:lnTo>
                      <a:pt x="175" y="82"/>
                    </a:lnTo>
                    <a:lnTo>
                      <a:pt x="177" y="90"/>
                    </a:lnTo>
                    <a:lnTo>
                      <a:pt x="180" y="95"/>
                    </a:lnTo>
                    <a:lnTo>
                      <a:pt x="182" y="100"/>
                    </a:lnTo>
                    <a:lnTo>
                      <a:pt x="187" y="108"/>
                    </a:lnTo>
                    <a:lnTo>
                      <a:pt x="190" y="113"/>
                    </a:lnTo>
                    <a:lnTo>
                      <a:pt x="192" y="118"/>
                    </a:lnTo>
                    <a:lnTo>
                      <a:pt x="192" y="126"/>
                    </a:lnTo>
                    <a:lnTo>
                      <a:pt x="198" y="131"/>
                    </a:lnTo>
                    <a:lnTo>
                      <a:pt x="198" y="138"/>
                    </a:lnTo>
                    <a:lnTo>
                      <a:pt x="200" y="144"/>
                    </a:lnTo>
                    <a:lnTo>
                      <a:pt x="203" y="149"/>
                    </a:lnTo>
                    <a:lnTo>
                      <a:pt x="205" y="156"/>
                    </a:lnTo>
                    <a:lnTo>
                      <a:pt x="208" y="161"/>
                    </a:lnTo>
                    <a:lnTo>
                      <a:pt x="210" y="169"/>
                    </a:lnTo>
                    <a:lnTo>
                      <a:pt x="213" y="174"/>
                    </a:lnTo>
                    <a:lnTo>
                      <a:pt x="216" y="179"/>
                    </a:lnTo>
                    <a:lnTo>
                      <a:pt x="218" y="187"/>
                    </a:lnTo>
                    <a:lnTo>
                      <a:pt x="221" y="192"/>
                    </a:lnTo>
                    <a:lnTo>
                      <a:pt x="221" y="195"/>
                    </a:lnTo>
                    <a:lnTo>
                      <a:pt x="221" y="200"/>
                    </a:lnTo>
                    <a:lnTo>
                      <a:pt x="221" y="202"/>
                    </a:lnTo>
                    <a:lnTo>
                      <a:pt x="218" y="208"/>
                    </a:lnTo>
                    <a:lnTo>
                      <a:pt x="216" y="210"/>
                    </a:lnTo>
                    <a:lnTo>
                      <a:pt x="213" y="213"/>
                    </a:lnTo>
                    <a:lnTo>
                      <a:pt x="210" y="215"/>
                    </a:lnTo>
                    <a:lnTo>
                      <a:pt x="205" y="218"/>
                    </a:lnTo>
                    <a:lnTo>
                      <a:pt x="203" y="218"/>
                    </a:lnTo>
                    <a:lnTo>
                      <a:pt x="200" y="218"/>
                    </a:lnTo>
                    <a:lnTo>
                      <a:pt x="198" y="220"/>
                    </a:lnTo>
                    <a:lnTo>
                      <a:pt x="195" y="220"/>
                    </a:lnTo>
                    <a:lnTo>
                      <a:pt x="192" y="220"/>
                    </a:lnTo>
                    <a:lnTo>
                      <a:pt x="190" y="223"/>
                    </a:lnTo>
                    <a:lnTo>
                      <a:pt x="187" y="223"/>
                    </a:lnTo>
                    <a:lnTo>
                      <a:pt x="182" y="225"/>
                    </a:lnTo>
                    <a:lnTo>
                      <a:pt x="180" y="225"/>
                    </a:lnTo>
                    <a:lnTo>
                      <a:pt x="177" y="225"/>
                    </a:lnTo>
                    <a:lnTo>
                      <a:pt x="172" y="225"/>
                    </a:lnTo>
                    <a:lnTo>
                      <a:pt x="169" y="228"/>
                    </a:lnTo>
                    <a:lnTo>
                      <a:pt x="167" y="228"/>
                    </a:lnTo>
                    <a:lnTo>
                      <a:pt x="162" y="228"/>
                    </a:lnTo>
                    <a:lnTo>
                      <a:pt x="159" y="228"/>
                    </a:lnTo>
                    <a:lnTo>
                      <a:pt x="154" y="228"/>
                    </a:lnTo>
                    <a:lnTo>
                      <a:pt x="151" y="228"/>
                    </a:lnTo>
                    <a:lnTo>
                      <a:pt x="149" y="228"/>
                    </a:lnTo>
                    <a:lnTo>
                      <a:pt x="144" y="231"/>
                    </a:lnTo>
                    <a:lnTo>
                      <a:pt x="141" y="231"/>
                    </a:lnTo>
                    <a:lnTo>
                      <a:pt x="136" y="231"/>
                    </a:lnTo>
                    <a:lnTo>
                      <a:pt x="134" y="228"/>
                    </a:lnTo>
                    <a:lnTo>
                      <a:pt x="128" y="228"/>
                    </a:lnTo>
                    <a:lnTo>
                      <a:pt x="126" y="228"/>
                    </a:lnTo>
                    <a:lnTo>
                      <a:pt x="121" y="228"/>
                    </a:lnTo>
                    <a:lnTo>
                      <a:pt x="118" y="228"/>
                    </a:lnTo>
                    <a:lnTo>
                      <a:pt x="113" y="225"/>
                    </a:lnTo>
                    <a:lnTo>
                      <a:pt x="111" y="225"/>
                    </a:lnTo>
                    <a:lnTo>
                      <a:pt x="105" y="225"/>
                    </a:lnTo>
                    <a:lnTo>
                      <a:pt x="103" y="223"/>
                    </a:lnTo>
                    <a:lnTo>
                      <a:pt x="100" y="223"/>
                    </a:lnTo>
                    <a:lnTo>
                      <a:pt x="95" y="22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flipH="1">
                <a:off x="7983720" y="5253120"/>
                <a:ext cx="378720" cy="526680"/>
              </a:xfrm>
              <a:custGeom>
                <a:avLst/>
                <a:gdLst/>
                <a:ahLst/>
                <a:rect l="l" t="t" r="r" b="b"/>
                <a:pathLst>
                  <a:path w="597" h="829">
                    <a:moveTo>
                      <a:pt x="382" y="56"/>
                    </a:moveTo>
                    <a:lnTo>
                      <a:pt x="384" y="61"/>
                    </a:lnTo>
                    <a:lnTo>
                      <a:pt x="384" y="66"/>
                    </a:lnTo>
                    <a:lnTo>
                      <a:pt x="384" y="72"/>
                    </a:lnTo>
                    <a:lnTo>
                      <a:pt x="384" y="77"/>
                    </a:lnTo>
                    <a:lnTo>
                      <a:pt x="384" y="79"/>
                    </a:lnTo>
                    <a:lnTo>
                      <a:pt x="387" y="84"/>
                    </a:lnTo>
                    <a:lnTo>
                      <a:pt x="387" y="89"/>
                    </a:lnTo>
                    <a:lnTo>
                      <a:pt x="389" y="95"/>
                    </a:lnTo>
                    <a:lnTo>
                      <a:pt x="392" y="97"/>
                    </a:lnTo>
                    <a:lnTo>
                      <a:pt x="392" y="100"/>
                    </a:lnTo>
                    <a:lnTo>
                      <a:pt x="394" y="102"/>
                    </a:lnTo>
                    <a:lnTo>
                      <a:pt x="397" y="105"/>
                    </a:lnTo>
                    <a:lnTo>
                      <a:pt x="400" y="107"/>
                    </a:lnTo>
                    <a:lnTo>
                      <a:pt x="402" y="110"/>
                    </a:lnTo>
                    <a:lnTo>
                      <a:pt x="405" y="113"/>
                    </a:lnTo>
                    <a:lnTo>
                      <a:pt x="407" y="115"/>
                    </a:lnTo>
                    <a:lnTo>
                      <a:pt x="410" y="118"/>
                    </a:lnTo>
                    <a:lnTo>
                      <a:pt x="412" y="120"/>
                    </a:lnTo>
                    <a:lnTo>
                      <a:pt x="415" y="123"/>
                    </a:lnTo>
                    <a:lnTo>
                      <a:pt x="415" y="125"/>
                    </a:lnTo>
                    <a:lnTo>
                      <a:pt x="418" y="130"/>
                    </a:lnTo>
                    <a:lnTo>
                      <a:pt x="420" y="133"/>
                    </a:lnTo>
                    <a:lnTo>
                      <a:pt x="420" y="136"/>
                    </a:lnTo>
                    <a:lnTo>
                      <a:pt x="420" y="138"/>
                    </a:lnTo>
                    <a:lnTo>
                      <a:pt x="420" y="146"/>
                    </a:lnTo>
                    <a:lnTo>
                      <a:pt x="420" y="151"/>
                    </a:lnTo>
                    <a:lnTo>
                      <a:pt x="420" y="159"/>
                    </a:lnTo>
                    <a:lnTo>
                      <a:pt x="418" y="164"/>
                    </a:lnTo>
                    <a:lnTo>
                      <a:pt x="418" y="169"/>
                    </a:lnTo>
                    <a:lnTo>
                      <a:pt x="415" y="176"/>
                    </a:lnTo>
                    <a:lnTo>
                      <a:pt x="412" y="182"/>
                    </a:lnTo>
                    <a:lnTo>
                      <a:pt x="410" y="189"/>
                    </a:lnTo>
                    <a:lnTo>
                      <a:pt x="410" y="194"/>
                    </a:lnTo>
                    <a:lnTo>
                      <a:pt x="407" y="202"/>
                    </a:lnTo>
                    <a:lnTo>
                      <a:pt x="405" y="207"/>
                    </a:lnTo>
                    <a:lnTo>
                      <a:pt x="405" y="215"/>
                    </a:lnTo>
                    <a:lnTo>
                      <a:pt x="402" y="220"/>
                    </a:lnTo>
                    <a:lnTo>
                      <a:pt x="402" y="228"/>
                    </a:lnTo>
                    <a:lnTo>
                      <a:pt x="402" y="233"/>
                    </a:lnTo>
                    <a:lnTo>
                      <a:pt x="402" y="238"/>
                    </a:lnTo>
                    <a:lnTo>
                      <a:pt x="405" y="243"/>
                    </a:lnTo>
                    <a:lnTo>
                      <a:pt x="405" y="248"/>
                    </a:lnTo>
                    <a:lnTo>
                      <a:pt x="407" y="253"/>
                    </a:lnTo>
                    <a:lnTo>
                      <a:pt x="410" y="258"/>
                    </a:lnTo>
                    <a:lnTo>
                      <a:pt x="410" y="261"/>
                    </a:lnTo>
                    <a:lnTo>
                      <a:pt x="415" y="266"/>
                    </a:lnTo>
                    <a:lnTo>
                      <a:pt x="418" y="271"/>
                    </a:lnTo>
                    <a:lnTo>
                      <a:pt x="420" y="276"/>
                    </a:lnTo>
                    <a:lnTo>
                      <a:pt x="423" y="279"/>
                    </a:lnTo>
                    <a:lnTo>
                      <a:pt x="425" y="284"/>
                    </a:lnTo>
                    <a:lnTo>
                      <a:pt x="430" y="287"/>
                    </a:lnTo>
                    <a:lnTo>
                      <a:pt x="433" y="289"/>
                    </a:lnTo>
                    <a:lnTo>
                      <a:pt x="438" y="292"/>
                    </a:lnTo>
                    <a:lnTo>
                      <a:pt x="441" y="294"/>
                    </a:lnTo>
                    <a:lnTo>
                      <a:pt x="446" y="297"/>
                    </a:lnTo>
                    <a:lnTo>
                      <a:pt x="451" y="297"/>
                    </a:lnTo>
                    <a:lnTo>
                      <a:pt x="453" y="297"/>
                    </a:lnTo>
                    <a:lnTo>
                      <a:pt x="456" y="294"/>
                    </a:lnTo>
                    <a:lnTo>
                      <a:pt x="458" y="292"/>
                    </a:lnTo>
                    <a:lnTo>
                      <a:pt x="464" y="292"/>
                    </a:lnTo>
                    <a:lnTo>
                      <a:pt x="466" y="289"/>
                    </a:lnTo>
                    <a:lnTo>
                      <a:pt x="469" y="287"/>
                    </a:lnTo>
                    <a:lnTo>
                      <a:pt x="474" y="284"/>
                    </a:lnTo>
                    <a:lnTo>
                      <a:pt x="479" y="281"/>
                    </a:lnTo>
                    <a:lnTo>
                      <a:pt x="482" y="279"/>
                    </a:lnTo>
                    <a:lnTo>
                      <a:pt x="487" y="276"/>
                    </a:lnTo>
                    <a:lnTo>
                      <a:pt x="492" y="276"/>
                    </a:lnTo>
                    <a:lnTo>
                      <a:pt x="497" y="274"/>
                    </a:lnTo>
                    <a:lnTo>
                      <a:pt x="499" y="271"/>
                    </a:lnTo>
                    <a:lnTo>
                      <a:pt x="505" y="269"/>
                    </a:lnTo>
                    <a:lnTo>
                      <a:pt x="510" y="266"/>
                    </a:lnTo>
                    <a:lnTo>
                      <a:pt x="515" y="263"/>
                    </a:lnTo>
                    <a:lnTo>
                      <a:pt x="520" y="261"/>
                    </a:lnTo>
                    <a:lnTo>
                      <a:pt x="525" y="261"/>
                    </a:lnTo>
                    <a:lnTo>
                      <a:pt x="530" y="258"/>
                    </a:lnTo>
                    <a:lnTo>
                      <a:pt x="535" y="258"/>
                    </a:lnTo>
                    <a:lnTo>
                      <a:pt x="540" y="256"/>
                    </a:lnTo>
                    <a:lnTo>
                      <a:pt x="543" y="256"/>
                    </a:lnTo>
                    <a:lnTo>
                      <a:pt x="548" y="256"/>
                    </a:lnTo>
                    <a:lnTo>
                      <a:pt x="553" y="253"/>
                    </a:lnTo>
                    <a:lnTo>
                      <a:pt x="558" y="253"/>
                    </a:lnTo>
                    <a:lnTo>
                      <a:pt x="561" y="253"/>
                    </a:lnTo>
                    <a:lnTo>
                      <a:pt x="566" y="256"/>
                    </a:lnTo>
                    <a:lnTo>
                      <a:pt x="569" y="256"/>
                    </a:lnTo>
                    <a:lnTo>
                      <a:pt x="574" y="256"/>
                    </a:lnTo>
                    <a:lnTo>
                      <a:pt x="576" y="258"/>
                    </a:lnTo>
                    <a:lnTo>
                      <a:pt x="579" y="261"/>
                    </a:lnTo>
                    <a:lnTo>
                      <a:pt x="584" y="263"/>
                    </a:lnTo>
                    <a:lnTo>
                      <a:pt x="587" y="269"/>
                    </a:lnTo>
                    <a:lnTo>
                      <a:pt x="589" y="271"/>
                    </a:lnTo>
                    <a:lnTo>
                      <a:pt x="592" y="279"/>
                    </a:lnTo>
                    <a:lnTo>
                      <a:pt x="594" y="284"/>
                    </a:lnTo>
                    <a:lnTo>
                      <a:pt x="594" y="289"/>
                    </a:lnTo>
                    <a:lnTo>
                      <a:pt x="594" y="297"/>
                    </a:lnTo>
                    <a:lnTo>
                      <a:pt x="594" y="302"/>
                    </a:lnTo>
                    <a:lnTo>
                      <a:pt x="594" y="310"/>
                    </a:lnTo>
                    <a:lnTo>
                      <a:pt x="594" y="317"/>
                    </a:lnTo>
                    <a:lnTo>
                      <a:pt x="592" y="322"/>
                    </a:lnTo>
                    <a:lnTo>
                      <a:pt x="589" y="330"/>
                    </a:lnTo>
                    <a:lnTo>
                      <a:pt x="587" y="338"/>
                    </a:lnTo>
                    <a:lnTo>
                      <a:pt x="584" y="345"/>
                    </a:lnTo>
                    <a:lnTo>
                      <a:pt x="581" y="353"/>
                    </a:lnTo>
                    <a:lnTo>
                      <a:pt x="576" y="361"/>
                    </a:lnTo>
                    <a:lnTo>
                      <a:pt x="574" y="368"/>
                    </a:lnTo>
                    <a:lnTo>
                      <a:pt x="569" y="376"/>
                    </a:lnTo>
                    <a:lnTo>
                      <a:pt x="566" y="384"/>
                    </a:lnTo>
                    <a:lnTo>
                      <a:pt x="561" y="389"/>
                    </a:lnTo>
                    <a:lnTo>
                      <a:pt x="558" y="397"/>
                    </a:lnTo>
                    <a:lnTo>
                      <a:pt x="553" y="404"/>
                    </a:lnTo>
                    <a:lnTo>
                      <a:pt x="548" y="412"/>
                    </a:lnTo>
                    <a:lnTo>
                      <a:pt x="546" y="417"/>
                    </a:lnTo>
                    <a:lnTo>
                      <a:pt x="540" y="425"/>
                    </a:lnTo>
                    <a:lnTo>
                      <a:pt x="538" y="430"/>
                    </a:lnTo>
                    <a:lnTo>
                      <a:pt x="533" y="435"/>
                    </a:lnTo>
                    <a:lnTo>
                      <a:pt x="530" y="440"/>
                    </a:lnTo>
                    <a:lnTo>
                      <a:pt x="528" y="445"/>
                    </a:lnTo>
                    <a:lnTo>
                      <a:pt x="525" y="450"/>
                    </a:lnTo>
                    <a:lnTo>
                      <a:pt x="520" y="453"/>
                    </a:lnTo>
                    <a:lnTo>
                      <a:pt x="520" y="458"/>
                    </a:lnTo>
                    <a:lnTo>
                      <a:pt x="517" y="461"/>
                    </a:lnTo>
                    <a:lnTo>
                      <a:pt x="512" y="466"/>
                    </a:lnTo>
                    <a:lnTo>
                      <a:pt x="510" y="476"/>
                    </a:lnTo>
                    <a:lnTo>
                      <a:pt x="510" y="486"/>
                    </a:lnTo>
                    <a:lnTo>
                      <a:pt x="507" y="496"/>
                    </a:lnTo>
                    <a:lnTo>
                      <a:pt x="507" y="507"/>
                    </a:lnTo>
                    <a:lnTo>
                      <a:pt x="507" y="517"/>
                    </a:lnTo>
                    <a:lnTo>
                      <a:pt x="510" y="524"/>
                    </a:lnTo>
                    <a:lnTo>
                      <a:pt x="512" y="532"/>
                    </a:lnTo>
                    <a:lnTo>
                      <a:pt x="515" y="535"/>
                    </a:lnTo>
                    <a:lnTo>
                      <a:pt x="515" y="537"/>
                    </a:lnTo>
                    <a:lnTo>
                      <a:pt x="517" y="540"/>
                    </a:lnTo>
                    <a:lnTo>
                      <a:pt x="520" y="540"/>
                    </a:lnTo>
                    <a:lnTo>
                      <a:pt x="525" y="542"/>
                    </a:lnTo>
                    <a:lnTo>
                      <a:pt x="528" y="542"/>
                    </a:lnTo>
                    <a:lnTo>
                      <a:pt x="530" y="542"/>
                    </a:lnTo>
                    <a:lnTo>
                      <a:pt x="535" y="542"/>
                    </a:lnTo>
                    <a:lnTo>
                      <a:pt x="538" y="545"/>
                    </a:lnTo>
                    <a:lnTo>
                      <a:pt x="540" y="545"/>
                    </a:lnTo>
                    <a:lnTo>
                      <a:pt x="546" y="545"/>
                    </a:lnTo>
                    <a:lnTo>
                      <a:pt x="548" y="545"/>
                    </a:lnTo>
                    <a:lnTo>
                      <a:pt x="551" y="548"/>
                    </a:lnTo>
                    <a:lnTo>
                      <a:pt x="553" y="548"/>
                    </a:lnTo>
                    <a:lnTo>
                      <a:pt x="556" y="550"/>
                    </a:lnTo>
                    <a:lnTo>
                      <a:pt x="558" y="553"/>
                    </a:lnTo>
                    <a:lnTo>
                      <a:pt x="561" y="555"/>
                    </a:lnTo>
                    <a:lnTo>
                      <a:pt x="561" y="560"/>
                    </a:lnTo>
                    <a:lnTo>
                      <a:pt x="558" y="563"/>
                    </a:lnTo>
                    <a:lnTo>
                      <a:pt x="558" y="565"/>
                    </a:lnTo>
                    <a:lnTo>
                      <a:pt x="556" y="571"/>
                    </a:lnTo>
                    <a:lnTo>
                      <a:pt x="553" y="573"/>
                    </a:lnTo>
                    <a:lnTo>
                      <a:pt x="553" y="578"/>
                    </a:lnTo>
                    <a:lnTo>
                      <a:pt x="551" y="581"/>
                    </a:lnTo>
                    <a:lnTo>
                      <a:pt x="553" y="586"/>
                    </a:lnTo>
                    <a:lnTo>
                      <a:pt x="553" y="588"/>
                    </a:lnTo>
                    <a:lnTo>
                      <a:pt x="556" y="591"/>
                    </a:lnTo>
                    <a:lnTo>
                      <a:pt x="561" y="594"/>
                    </a:lnTo>
                    <a:lnTo>
                      <a:pt x="563" y="596"/>
                    </a:lnTo>
                    <a:lnTo>
                      <a:pt x="566" y="601"/>
                    </a:lnTo>
                    <a:lnTo>
                      <a:pt x="569" y="604"/>
                    </a:lnTo>
                    <a:lnTo>
                      <a:pt x="569" y="611"/>
                    </a:lnTo>
                    <a:lnTo>
                      <a:pt x="569" y="614"/>
                    </a:lnTo>
                    <a:lnTo>
                      <a:pt x="569" y="614"/>
                    </a:lnTo>
                    <a:lnTo>
                      <a:pt x="566" y="617"/>
                    </a:lnTo>
                    <a:lnTo>
                      <a:pt x="563" y="617"/>
                    </a:lnTo>
                    <a:lnTo>
                      <a:pt x="561" y="619"/>
                    </a:lnTo>
                    <a:lnTo>
                      <a:pt x="558" y="622"/>
                    </a:lnTo>
                    <a:lnTo>
                      <a:pt x="553" y="622"/>
                    </a:lnTo>
                    <a:lnTo>
                      <a:pt x="551" y="622"/>
                    </a:lnTo>
                    <a:lnTo>
                      <a:pt x="548" y="624"/>
                    </a:lnTo>
                    <a:lnTo>
                      <a:pt x="543" y="624"/>
                    </a:lnTo>
                    <a:lnTo>
                      <a:pt x="540" y="627"/>
                    </a:lnTo>
                    <a:lnTo>
                      <a:pt x="540" y="629"/>
                    </a:lnTo>
                    <a:lnTo>
                      <a:pt x="538" y="629"/>
                    </a:lnTo>
                    <a:lnTo>
                      <a:pt x="538" y="632"/>
                    </a:lnTo>
                    <a:lnTo>
                      <a:pt x="535" y="635"/>
                    </a:lnTo>
                    <a:lnTo>
                      <a:pt x="538" y="640"/>
                    </a:lnTo>
                    <a:lnTo>
                      <a:pt x="540" y="645"/>
                    </a:lnTo>
                    <a:lnTo>
                      <a:pt x="543" y="650"/>
                    </a:lnTo>
                    <a:lnTo>
                      <a:pt x="548" y="655"/>
                    </a:lnTo>
                    <a:lnTo>
                      <a:pt x="551" y="658"/>
                    </a:lnTo>
                    <a:lnTo>
                      <a:pt x="556" y="663"/>
                    </a:lnTo>
                    <a:lnTo>
                      <a:pt x="561" y="668"/>
                    </a:lnTo>
                    <a:lnTo>
                      <a:pt x="566" y="673"/>
                    </a:lnTo>
                    <a:lnTo>
                      <a:pt x="571" y="675"/>
                    </a:lnTo>
                    <a:lnTo>
                      <a:pt x="576" y="681"/>
                    </a:lnTo>
                    <a:lnTo>
                      <a:pt x="581" y="686"/>
                    </a:lnTo>
                    <a:lnTo>
                      <a:pt x="587" y="688"/>
                    </a:lnTo>
                    <a:lnTo>
                      <a:pt x="589" y="693"/>
                    </a:lnTo>
                    <a:lnTo>
                      <a:pt x="592" y="696"/>
                    </a:lnTo>
                    <a:lnTo>
                      <a:pt x="594" y="701"/>
                    </a:lnTo>
                    <a:lnTo>
                      <a:pt x="597" y="706"/>
                    </a:lnTo>
                    <a:lnTo>
                      <a:pt x="597" y="709"/>
                    </a:lnTo>
                    <a:lnTo>
                      <a:pt x="597" y="714"/>
                    </a:lnTo>
                    <a:lnTo>
                      <a:pt x="594" y="716"/>
                    </a:lnTo>
                    <a:lnTo>
                      <a:pt x="594" y="722"/>
                    </a:lnTo>
                    <a:lnTo>
                      <a:pt x="594" y="727"/>
                    </a:lnTo>
                    <a:lnTo>
                      <a:pt x="592" y="732"/>
                    </a:lnTo>
                    <a:lnTo>
                      <a:pt x="589" y="734"/>
                    </a:lnTo>
                    <a:lnTo>
                      <a:pt x="587" y="739"/>
                    </a:lnTo>
                    <a:lnTo>
                      <a:pt x="584" y="745"/>
                    </a:lnTo>
                    <a:lnTo>
                      <a:pt x="581" y="750"/>
                    </a:lnTo>
                    <a:lnTo>
                      <a:pt x="576" y="755"/>
                    </a:lnTo>
                    <a:lnTo>
                      <a:pt x="574" y="760"/>
                    </a:lnTo>
                    <a:lnTo>
                      <a:pt x="569" y="765"/>
                    </a:lnTo>
                    <a:lnTo>
                      <a:pt x="566" y="770"/>
                    </a:lnTo>
                    <a:lnTo>
                      <a:pt x="561" y="773"/>
                    </a:lnTo>
                    <a:lnTo>
                      <a:pt x="556" y="778"/>
                    </a:lnTo>
                    <a:lnTo>
                      <a:pt x="551" y="783"/>
                    </a:lnTo>
                    <a:lnTo>
                      <a:pt x="546" y="788"/>
                    </a:lnTo>
                    <a:lnTo>
                      <a:pt x="538" y="793"/>
                    </a:lnTo>
                    <a:lnTo>
                      <a:pt x="533" y="796"/>
                    </a:lnTo>
                    <a:lnTo>
                      <a:pt x="525" y="801"/>
                    </a:lnTo>
                    <a:lnTo>
                      <a:pt x="520" y="803"/>
                    </a:lnTo>
                    <a:lnTo>
                      <a:pt x="512" y="809"/>
                    </a:lnTo>
                    <a:lnTo>
                      <a:pt x="507" y="811"/>
                    </a:lnTo>
                    <a:lnTo>
                      <a:pt x="499" y="814"/>
                    </a:lnTo>
                    <a:lnTo>
                      <a:pt x="492" y="816"/>
                    </a:lnTo>
                    <a:lnTo>
                      <a:pt x="484" y="819"/>
                    </a:lnTo>
                    <a:lnTo>
                      <a:pt x="476" y="821"/>
                    </a:lnTo>
                    <a:lnTo>
                      <a:pt x="469" y="824"/>
                    </a:lnTo>
                    <a:lnTo>
                      <a:pt x="461" y="826"/>
                    </a:lnTo>
                    <a:lnTo>
                      <a:pt x="451" y="826"/>
                    </a:lnTo>
                    <a:lnTo>
                      <a:pt x="443" y="829"/>
                    </a:lnTo>
                    <a:lnTo>
                      <a:pt x="435" y="829"/>
                    </a:lnTo>
                    <a:lnTo>
                      <a:pt x="433" y="829"/>
                    </a:lnTo>
                    <a:lnTo>
                      <a:pt x="430" y="829"/>
                    </a:lnTo>
                    <a:lnTo>
                      <a:pt x="428" y="829"/>
                    </a:lnTo>
                    <a:lnTo>
                      <a:pt x="423" y="829"/>
                    </a:lnTo>
                    <a:lnTo>
                      <a:pt x="420" y="829"/>
                    </a:lnTo>
                    <a:lnTo>
                      <a:pt x="418" y="829"/>
                    </a:lnTo>
                    <a:lnTo>
                      <a:pt x="415" y="829"/>
                    </a:lnTo>
                    <a:lnTo>
                      <a:pt x="410" y="829"/>
                    </a:lnTo>
                    <a:lnTo>
                      <a:pt x="407" y="829"/>
                    </a:lnTo>
                    <a:lnTo>
                      <a:pt x="402" y="829"/>
                    </a:lnTo>
                    <a:lnTo>
                      <a:pt x="400" y="829"/>
                    </a:lnTo>
                    <a:lnTo>
                      <a:pt x="394" y="829"/>
                    </a:lnTo>
                    <a:lnTo>
                      <a:pt x="392" y="826"/>
                    </a:lnTo>
                    <a:lnTo>
                      <a:pt x="387" y="826"/>
                    </a:lnTo>
                    <a:lnTo>
                      <a:pt x="384" y="826"/>
                    </a:lnTo>
                    <a:lnTo>
                      <a:pt x="379" y="826"/>
                    </a:lnTo>
                    <a:lnTo>
                      <a:pt x="377" y="826"/>
                    </a:lnTo>
                    <a:lnTo>
                      <a:pt x="371" y="826"/>
                    </a:lnTo>
                    <a:lnTo>
                      <a:pt x="369" y="826"/>
                    </a:lnTo>
                    <a:lnTo>
                      <a:pt x="364" y="824"/>
                    </a:lnTo>
                    <a:lnTo>
                      <a:pt x="361" y="824"/>
                    </a:lnTo>
                    <a:lnTo>
                      <a:pt x="359" y="824"/>
                    </a:lnTo>
                    <a:lnTo>
                      <a:pt x="354" y="824"/>
                    </a:lnTo>
                    <a:lnTo>
                      <a:pt x="351" y="821"/>
                    </a:lnTo>
                    <a:lnTo>
                      <a:pt x="346" y="821"/>
                    </a:lnTo>
                    <a:lnTo>
                      <a:pt x="343" y="821"/>
                    </a:lnTo>
                    <a:lnTo>
                      <a:pt x="341" y="819"/>
                    </a:lnTo>
                    <a:lnTo>
                      <a:pt x="338" y="819"/>
                    </a:lnTo>
                    <a:lnTo>
                      <a:pt x="336" y="819"/>
                    </a:lnTo>
                    <a:lnTo>
                      <a:pt x="333" y="816"/>
                    </a:lnTo>
                    <a:lnTo>
                      <a:pt x="330" y="816"/>
                    </a:lnTo>
                    <a:lnTo>
                      <a:pt x="328" y="814"/>
                    </a:lnTo>
                    <a:lnTo>
                      <a:pt x="325" y="814"/>
                    </a:lnTo>
                    <a:lnTo>
                      <a:pt x="320" y="811"/>
                    </a:lnTo>
                    <a:lnTo>
                      <a:pt x="318" y="809"/>
                    </a:lnTo>
                    <a:lnTo>
                      <a:pt x="313" y="806"/>
                    </a:lnTo>
                    <a:lnTo>
                      <a:pt x="310" y="803"/>
                    </a:lnTo>
                    <a:lnTo>
                      <a:pt x="305" y="801"/>
                    </a:lnTo>
                    <a:lnTo>
                      <a:pt x="302" y="801"/>
                    </a:lnTo>
                    <a:lnTo>
                      <a:pt x="300" y="798"/>
                    </a:lnTo>
                    <a:lnTo>
                      <a:pt x="295" y="796"/>
                    </a:lnTo>
                    <a:lnTo>
                      <a:pt x="292" y="793"/>
                    </a:lnTo>
                    <a:lnTo>
                      <a:pt x="287" y="791"/>
                    </a:lnTo>
                    <a:lnTo>
                      <a:pt x="284" y="788"/>
                    </a:lnTo>
                    <a:lnTo>
                      <a:pt x="282" y="785"/>
                    </a:lnTo>
                    <a:lnTo>
                      <a:pt x="277" y="783"/>
                    </a:lnTo>
                    <a:lnTo>
                      <a:pt x="274" y="780"/>
                    </a:lnTo>
                    <a:lnTo>
                      <a:pt x="272" y="778"/>
                    </a:lnTo>
                    <a:lnTo>
                      <a:pt x="269" y="775"/>
                    </a:lnTo>
                    <a:lnTo>
                      <a:pt x="264" y="773"/>
                    </a:lnTo>
                    <a:lnTo>
                      <a:pt x="261" y="770"/>
                    </a:lnTo>
                    <a:lnTo>
                      <a:pt x="259" y="768"/>
                    </a:lnTo>
                    <a:lnTo>
                      <a:pt x="254" y="765"/>
                    </a:lnTo>
                    <a:lnTo>
                      <a:pt x="251" y="762"/>
                    </a:lnTo>
                    <a:lnTo>
                      <a:pt x="249" y="760"/>
                    </a:lnTo>
                    <a:lnTo>
                      <a:pt x="246" y="755"/>
                    </a:lnTo>
                    <a:lnTo>
                      <a:pt x="241" y="752"/>
                    </a:lnTo>
                    <a:lnTo>
                      <a:pt x="238" y="750"/>
                    </a:lnTo>
                    <a:lnTo>
                      <a:pt x="236" y="747"/>
                    </a:lnTo>
                    <a:lnTo>
                      <a:pt x="233" y="745"/>
                    </a:lnTo>
                    <a:lnTo>
                      <a:pt x="231" y="742"/>
                    </a:lnTo>
                    <a:lnTo>
                      <a:pt x="228" y="739"/>
                    </a:lnTo>
                    <a:lnTo>
                      <a:pt x="223" y="734"/>
                    </a:lnTo>
                    <a:lnTo>
                      <a:pt x="220" y="732"/>
                    </a:lnTo>
                    <a:lnTo>
                      <a:pt x="218" y="727"/>
                    </a:lnTo>
                    <a:lnTo>
                      <a:pt x="215" y="722"/>
                    </a:lnTo>
                    <a:lnTo>
                      <a:pt x="213" y="716"/>
                    </a:lnTo>
                    <a:lnTo>
                      <a:pt x="213" y="711"/>
                    </a:lnTo>
                    <a:lnTo>
                      <a:pt x="215" y="706"/>
                    </a:lnTo>
                    <a:lnTo>
                      <a:pt x="215" y="701"/>
                    </a:lnTo>
                    <a:lnTo>
                      <a:pt x="218" y="696"/>
                    </a:lnTo>
                    <a:lnTo>
                      <a:pt x="220" y="693"/>
                    </a:lnTo>
                    <a:lnTo>
                      <a:pt x="223" y="688"/>
                    </a:lnTo>
                    <a:lnTo>
                      <a:pt x="225" y="686"/>
                    </a:lnTo>
                    <a:lnTo>
                      <a:pt x="228" y="683"/>
                    </a:lnTo>
                    <a:lnTo>
                      <a:pt x="231" y="681"/>
                    </a:lnTo>
                    <a:lnTo>
                      <a:pt x="231" y="678"/>
                    </a:lnTo>
                    <a:lnTo>
                      <a:pt x="231" y="678"/>
                    </a:lnTo>
                    <a:lnTo>
                      <a:pt x="231" y="675"/>
                    </a:lnTo>
                    <a:lnTo>
                      <a:pt x="228" y="675"/>
                    </a:lnTo>
                    <a:lnTo>
                      <a:pt x="223" y="675"/>
                    </a:lnTo>
                    <a:lnTo>
                      <a:pt x="218" y="675"/>
                    </a:lnTo>
                    <a:lnTo>
                      <a:pt x="215" y="675"/>
                    </a:lnTo>
                    <a:lnTo>
                      <a:pt x="213" y="673"/>
                    </a:lnTo>
                    <a:lnTo>
                      <a:pt x="213" y="670"/>
                    </a:lnTo>
                    <a:lnTo>
                      <a:pt x="210" y="668"/>
                    </a:lnTo>
                    <a:lnTo>
                      <a:pt x="210" y="665"/>
                    </a:lnTo>
                    <a:lnTo>
                      <a:pt x="210" y="663"/>
                    </a:lnTo>
                    <a:lnTo>
                      <a:pt x="210" y="660"/>
                    </a:lnTo>
                    <a:lnTo>
                      <a:pt x="210" y="658"/>
                    </a:lnTo>
                    <a:lnTo>
                      <a:pt x="210" y="655"/>
                    </a:lnTo>
                    <a:lnTo>
                      <a:pt x="210" y="655"/>
                    </a:lnTo>
                    <a:lnTo>
                      <a:pt x="210" y="652"/>
                    </a:lnTo>
                    <a:lnTo>
                      <a:pt x="208" y="652"/>
                    </a:lnTo>
                    <a:lnTo>
                      <a:pt x="208" y="652"/>
                    </a:lnTo>
                    <a:lnTo>
                      <a:pt x="208" y="652"/>
                    </a:lnTo>
                    <a:lnTo>
                      <a:pt x="202" y="655"/>
                    </a:lnTo>
                    <a:lnTo>
                      <a:pt x="200" y="658"/>
                    </a:lnTo>
                    <a:lnTo>
                      <a:pt x="195" y="658"/>
                    </a:lnTo>
                    <a:lnTo>
                      <a:pt x="192" y="660"/>
                    </a:lnTo>
                    <a:lnTo>
                      <a:pt x="187" y="660"/>
                    </a:lnTo>
                    <a:lnTo>
                      <a:pt x="182" y="663"/>
                    </a:lnTo>
                    <a:lnTo>
                      <a:pt x="177" y="663"/>
                    </a:lnTo>
                    <a:lnTo>
                      <a:pt x="172" y="663"/>
                    </a:lnTo>
                    <a:lnTo>
                      <a:pt x="169" y="663"/>
                    </a:lnTo>
                    <a:lnTo>
                      <a:pt x="164" y="663"/>
                    </a:lnTo>
                    <a:lnTo>
                      <a:pt x="161" y="660"/>
                    </a:lnTo>
                    <a:lnTo>
                      <a:pt x="156" y="658"/>
                    </a:lnTo>
                    <a:lnTo>
                      <a:pt x="154" y="658"/>
                    </a:lnTo>
                    <a:lnTo>
                      <a:pt x="149" y="655"/>
                    </a:lnTo>
                    <a:lnTo>
                      <a:pt x="146" y="652"/>
                    </a:lnTo>
                    <a:lnTo>
                      <a:pt x="146" y="650"/>
                    </a:lnTo>
                    <a:lnTo>
                      <a:pt x="128" y="619"/>
                    </a:lnTo>
                    <a:lnTo>
                      <a:pt x="0" y="223"/>
                    </a:lnTo>
                    <a:lnTo>
                      <a:pt x="8" y="156"/>
                    </a:lnTo>
                    <a:lnTo>
                      <a:pt x="187" y="0"/>
                    </a:lnTo>
                    <a:lnTo>
                      <a:pt x="382" y="56"/>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flipH="1">
                <a:off x="8075880" y="5340960"/>
                <a:ext cx="150840" cy="208080"/>
              </a:xfrm>
              <a:custGeom>
                <a:avLst/>
                <a:gdLst/>
                <a:ahLst/>
                <a:rect l="l" t="t" r="r" b="b"/>
                <a:pathLst>
                  <a:path w="238" h="328">
                    <a:moveTo>
                      <a:pt x="48" y="328"/>
                    </a:moveTo>
                    <a:lnTo>
                      <a:pt x="43" y="317"/>
                    </a:lnTo>
                    <a:lnTo>
                      <a:pt x="38" y="307"/>
                    </a:lnTo>
                    <a:lnTo>
                      <a:pt x="30" y="297"/>
                    </a:lnTo>
                    <a:lnTo>
                      <a:pt x="25" y="284"/>
                    </a:lnTo>
                    <a:lnTo>
                      <a:pt x="20" y="271"/>
                    </a:lnTo>
                    <a:lnTo>
                      <a:pt x="18" y="261"/>
                    </a:lnTo>
                    <a:lnTo>
                      <a:pt x="12" y="248"/>
                    </a:lnTo>
                    <a:lnTo>
                      <a:pt x="10" y="238"/>
                    </a:lnTo>
                    <a:lnTo>
                      <a:pt x="7" y="225"/>
                    </a:lnTo>
                    <a:lnTo>
                      <a:pt x="5" y="212"/>
                    </a:lnTo>
                    <a:lnTo>
                      <a:pt x="2" y="202"/>
                    </a:lnTo>
                    <a:lnTo>
                      <a:pt x="2" y="189"/>
                    </a:lnTo>
                    <a:lnTo>
                      <a:pt x="0" y="177"/>
                    </a:lnTo>
                    <a:lnTo>
                      <a:pt x="0" y="166"/>
                    </a:lnTo>
                    <a:lnTo>
                      <a:pt x="2" y="154"/>
                    </a:lnTo>
                    <a:lnTo>
                      <a:pt x="5" y="141"/>
                    </a:lnTo>
                    <a:lnTo>
                      <a:pt x="5" y="136"/>
                    </a:lnTo>
                    <a:lnTo>
                      <a:pt x="7" y="131"/>
                    </a:lnTo>
                    <a:lnTo>
                      <a:pt x="10" y="125"/>
                    </a:lnTo>
                    <a:lnTo>
                      <a:pt x="10" y="120"/>
                    </a:lnTo>
                    <a:lnTo>
                      <a:pt x="12" y="115"/>
                    </a:lnTo>
                    <a:lnTo>
                      <a:pt x="15" y="108"/>
                    </a:lnTo>
                    <a:lnTo>
                      <a:pt x="18" y="102"/>
                    </a:lnTo>
                    <a:lnTo>
                      <a:pt x="23" y="97"/>
                    </a:lnTo>
                    <a:lnTo>
                      <a:pt x="25" y="92"/>
                    </a:lnTo>
                    <a:lnTo>
                      <a:pt x="28" y="87"/>
                    </a:lnTo>
                    <a:lnTo>
                      <a:pt x="33" y="79"/>
                    </a:lnTo>
                    <a:lnTo>
                      <a:pt x="36" y="74"/>
                    </a:lnTo>
                    <a:lnTo>
                      <a:pt x="38" y="69"/>
                    </a:lnTo>
                    <a:lnTo>
                      <a:pt x="43" y="64"/>
                    </a:lnTo>
                    <a:lnTo>
                      <a:pt x="48" y="59"/>
                    </a:lnTo>
                    <a:lnTo>
                      <a:pt x="51" y="54"/>
                    </a:lnTo>
                    <a:lnTo>
                      <a:pt x="56" y="49"/>
                    </a:lnTo>
                    <a:lnTo>
                      <a:pt x="59" y="44"/>
                    </a:lnTo>
                    <a:lnTo>
                      <a:pt x="64" y="38"/>
                    </a:lnTo>
                    <a:lnTo>
                      <a:pt x="69" y="36"/>
                    </a:lnTo>
                    <a:lnTo>
                      <a:pt x="74" y="31"/>
                    </a:lnTo>
                    <a:lnTo>
                      <a:pt x="76" y="28"/>
                    </a:lnTo>
                    <a:lnTo>
                      <a:pt x="82" y="23"/>
                    </a:lnTo>
                    <a:lnTo>
                      <a:pt x="84" y="21"/>
                    </a:lnTo>
                    <a:lnTo>
                      <a:pt x="89" y="18"/>
                    </a:lnTo>
                    <a:lnTo>
                      <a:pt x="94" y="13"/>
                    </a:lnTo>
                    <a:lnTo>
                      <a:pt x="97" y="10"/>
                    </a:lnTo>
                    <a:lnTo>
                      <a:pt x="102" y="10"/>
                    </a:lnTo>
                    <a:lnTo>
                      <a:pt x="105" y="8"/>
                    </a:lnTo>
                    <a:lnTo>
                      <a:pt x="107" y="5"/>
                    </a:lnTo>
                    <a:lnTo>
                      <a:pt x="112" y="5"/>
                    </a:lnTo>
                    <a:lnTo>
                      <a:pt x="115" y="5"/>
                    </a:lnTo>
                    <a:lnTo>
                      <a:pt x="115" y="5"/>
                    </a:lnTo>
                    <a:lnTo>
                      <a:pt x="117" y="5"/>
                    </a:lnTo>
                    <a:lnTo>
                      <a:pt x="120" y="5"/>
                    </a:lnTo>
                    <a:lnTo>
                      <a:pt x="120" y="5"/>
                    </a:lnTo>
                    <a:lnTo>
                      <a:pt x="123" y="8"/>
                    </a:lnTo>
                    <a:lnTo>
                      <a:pt x="123" y="8"/>
                    </a:lnTo>
                    <a:lnTo>
                      <a:pt x="125" y="10"/>
                    </a:lnTo>
                    <a:lnTo>
                      <a:pt x="125" y="10"/>
                    </a:lnTo>
                    <a:lnTo>
                      <a:pt x="128" y="13"/>
                    </a:lnTo>
                    <a:lnTo>
                      <a:pt x="128" y="15"/>
                    </a:lnTo>
                    <a:lnTo>
                      <a:pt x="128" y="18"/>
                    </a:lnTo>
                    <a:lnTo>
                      <a:pt x="130" y="18"/>
                    </a:lnTo>
                    <a:lnTo>
                      <a:pt x="130" y="21"/>
                    </a:lnTo>
                    <a:lnTo>
                      <a:pt x="133" y="23"/>
                    </a:lnTo>
                    <a:lnTo>
                      <a:pt x="133" y="23"/>
                    </a:lnTo>
                    <a:lnTo>
                      <a:pt x="135" y="26"/>
                    </a:lnTo>
                    <a:lnTo>
                      <a:pt x="135" y="23"/>
                    </a:lnTo>
                    <a:lnTo>
                      <a:pt x="135" y="21"/>
                    </a:lnTo>
                    <a:lnTo>
                      <a:pt x="138" y="21"/>
                    </a:lnTo>
                    <a:lnTo>
                      <a:pt x="138" y="18"/>
                    </a:lnTo>
                    <a:lnTo>
                      <a:pt x="141" y="15"/>
                    </a:lnTo>
                    <a:lnTo>
                      <a:pt x="143" y="13"/>
                    </a:lnTo>
                    <a:lnTo>
                      <a:pt x="143" y="10"/>
                    </a:lnTo>
                    <a:lnTo>
                      <a:pt x="146" y="10"/>
                    </a:lnTo>
                    <a:lnTo>
                      <a:pt x="146" y="8"/>
                    </a:lnTo>
                    <a:lnTo>
                      <a:pt x="148" y="5"/>
                    </a:lnTo>
                    <a:lnTo>
                      <a:pt x="151" y="5"/>
                    </a:lnTo>
                    <a:lnTo>
                      <a:pt x="153" y="3"/>
                    </a:lnTo>
                    <a:lnTo>
                      <a:pt x="153" y="3"/>
                    </a:lnTo>
                    <a:lnTo>
                      <a:pt x="156" y="3"/>
                    </a:lnTo>
                    <a:lnTo>
                      <a:pt x="158" y="0"/>
                    </a:lnTo>
                    <a:lnTo>
                      <a:pt x="158" y="0"/>
                    </a:lnTo>
                    <a:lnTo>
                      <a:pt x="164" y="3"/>
                    </a:lnTo>
                    <a:lnTo>
                      <a:pt x="169" y="5"/>
                    </a:lnTo>
                    <a:lnTo>
                      <a:pt x="174" y="8"/>
                    </a:lnTo>
                    <a:lnTo>
                      <a:pt x="179" y="13"/>
                    </a:lnTo>
                    <a:lnTo>
                      <a:pt x="184" y="21"/>
                    </a:lnTo>
                    <a:lnTo>
                      <a:pt x="189" y="28"/>
                    </a:lnTo>
                    <a:lnTo>
                      <a:pt x="194" y="33"/>
                    </a:lnTo>
                    <a:lnTo>
                      <a:pt x="199" y="44"/>
                    </a:lnTo>
                    <a:lnTo>
                      <a:pt x="205" y="51"/>
                    </a:lnTo>
                    <a:lnTo>
                      <a:pt x="210" y="59"/>
                    </a:lnTo>
                    <a:lnTo>
                      <a:pt x="215" y="69"/>
                    </a:lnTo>
                    <a:lnTo>
                      <a:pt x="217" y="77"/>
                    </a:lnTo>
                    <a:lnTo>
                      <a:pt x="222" y="85"/>
                    </a:lnTo>
                    <a:lnTo>
                      <a:pt x="225" y="90"/>
                    </a:lnTo>
                    <a:lnTo>
                      <a:pt x="228" y="97"/>
                    </a:lnTo>
                    <a:lnTo>
                      <a:pt x="228" y="100"/>
                    </a:lnTo>
                    <a:lnTo>
                      <a:pt x="230" y="108"/>
                    </a:lnTo>
                    <a:lnTo>
                      <a:pt x="233" y="115"/>
                    </a:lnTo>
                    <a:lnTo>
                      <a:pt x="233" y="123"/>
                    </a:lnTo>
                    <a:lnTo>
                      <a:pt x="235" y="131"/>
                    </a:lnTo>
                    <a:lnTo>
                      <a:pt x="235" y="138"/>
                    </a:lnTo>
                    <a:lnTo>
                      <a:pt x="238" y="146"/>
                    </a:lnTo>
                    <a:lnTo>
                      <a:pt x="238" y="154"/>
                    </a:lnTo>
                    <a:lnTo>
                      <a:pt x="238" y="159"/>
                    </a:lnTo>
                    <a:lnTo>
                      <a:pt x="230" y="164"/>
                    </a:lnTo>
                    <a:lnTo>
                      <a:pt x="225" y="169"/>
                    </a:lnTo>
                    <a:lnTo>
                      <a:pt x="220" y="172"/>
                    </a:lnTo>
                    <a:lnTo>
                      <a:pt x="212" y="177"/>
                    </a:lnTo>
                    <a:lnTo>
                      <a:pt x="207" y="182"/>
                    </a:lnTo>
                    <a:lnTo>
                      <a:pt x="202" y="187"/>
                    </a:lnTo>
                    <a:lnTo>
                      <a:pt x="194" y="189"/>
                    </a:lnTo>
                    <a:lnTo>
                      <a:pt x="189" y="195"/>
                    </a:lnTo>
                    <a:lnTo>
                      <a:pt x="184" y="200"/>
                    </a:lnTo>
                    <a:lnTo>
                      <a:pt x="176" y="205"/>
                    </a:lnTo>
                    <a:lnTo>
                      <a:pt x="171" y="210"/>
                    </a:lnTo>
                    <a:lnTo>
                      <a:pt x="166" y="212"/>
                    </a:lnTo>
                    <a:lnTo>
                      <a:pt x="158" y="218"/>
                    </a:lnTo>
                    <a:lnTo>
                      <a:pt x="153" y="223"/>
                    </a:lnTo>
                    <a:lnTo>
                      <a:pt x="148" y="228"/>
                    </a:lnTo>
                    <a:lnTo>
                      <a:pt x="143" y="233"/>
                    </a:lnTo>
                    <a:lnTo>
                      <a:pt x="135" y="238"/>
                    </a:lnTo>
                    <a:lnTo>
                      <a:pt x="130" y="243"/>
                    </a:lnTo>
                    <a:lnTo>
                      <a:pt x="125" y="248"/>
                    </a:lnTo>
                    <a:lnTo>
                      <a:pt x="117" y="256"/>
                    </a:lnTo>
                    <a:lnTo>
                      <a:pt x="112" y="261"/>
                    </a:lnTo>
                    <a:lnTo>
                      <a:pt x="107" y="266"/>
                    </a:lnTo>
                    <a:lnTo>
                      <a:pt x="102" y="271"/>
                    </a:lnTo>
                    <a:lnTo>
                      <a:pt x="97" y="276"/>
                    </a:lnTo>
                    <a:lnTo>
                      <a:pt x="89" y="284"/>
                    </a:lnTo>
                    <a:lnTo>
                      <a:pt x="84" y="289"/>
                    </a:lnTo>
                    <a:lnTo>
                      <a:pt x="79" y="294"/>
                    </a:lnTo>
                    <a:lnTo>
                      <a:pt x="71" y="302"/>
                    </a:lnTo>
                    <a:lnTo>
                      <a:pt x="66" y="307"/>
                    </a:lnTo>
                    <a:lnTo>
                      <a:pt x="61" y="315"/>
                    </a:lnTo>
                    <a:lnTo>
                      <a:pt x="56" y="323"/>
                    </a:lnTo>
                    <a:lnTo>
                      <a:pt x="48" y="32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4" name=""/>
              <p:cNvSpPr/>
              <p:nvPr/>
            </p:nvSpPr>
            <p:spPr>
              <a:xfrm flipH="1">
                <a:off x="8124840" y="5357160"/>
                <a:ext cx="16200" cy="119880"/>
              </a:xfrm>
              <a:custGeom>
                <a:avLst/>
                <a:gdLst/>
                <a:ahLst/>
                <a:rect l="l" t="t" r="r" b="b"/>
                <a:pathLst>
                  <a:path w="26" h="189">
                    <a:moveTo>
                      <a:pt x="0" y="0"/>
                    </a:moveTo>
                    <a:lnTo>
                      <a:pt x="3" y="12"/>
                    </a:lnTo>
                    <a:lnTo>
                      <a:pt x="6" y="23"/>
                    </a:lnTo>
                    <a:lnTo>
                      <a:pt x="11" y="33"/>
                    </a:lnTo>
                    <a:lnTo>
                      <a:pt x="13" y="46"/>
                    </a:lnTo>
                    <a:lnTo>
                      <a:pt x="16" y="59"/>
                    </a:lnTo>
                    <a:lnTo>
                      <a:pt x="18" y="71"/>
                    </a:lnTo>
                    <a:lnTo>
                      <a:pt x="18" y="82"/>
                    </a:lnTo>
                    <a:lnTo>
                      <a:pt x="21" y="94"/>
                    </a:lnTo>
                    <a:lnTo>
                      <a:pt x="21" y="107"/>
                    </a:lnTo>
                    <a:lnTo>
                      <a:pt x="23" y="120"/>
                    </a:lnTo>
                    <a:lnTo>
                      <a:pt x="23" y="130"/>
                    </a:lnTo>
                    <a:lnTo>
                      <a:pt x="26" y="143"/>
                    </a:lnTo>
                    <a:lnTo>
                      <a:pt x="26" y="156"/>
                    </a:lnTo>
                    <a:lnTo>
                      <a:pt x="26" y="166"/>
                    </a:lnTo>
                    <a:lnTo>
                      <a:pt x="26" y="179"/>
                    </a:lnTo>
                    <a:lnTo>
                      <a:pt x="26" y="1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flipH="1">
                <a:off x="8131320" y="5405400"/>
                <a:ext cx="30960" cy="48960"/>
              </a:xfrm>
              <a:custGeom>
                <a:avLst/>
                <a:gdLst/>
                <a:ahLst/>
                <a:rect l="l" t="t" r="r" b="b"/>
                <a:pathLst>
                  <a:path w="49" h="77">
                    <a:moveTo>
                      <a:pt x="26" y="77"/>
                    </a:moveTo>
                    <a:lnTo>
                      <a:pt x="28" y="77"/>
                    </a:lnTo>
                    <a:lnTo>
                      <a:pt x="31" y="75"/>
                    </a:lnTo>
                    <a:lnTo>
                      <a:pt x="33" y="75"/>
                    </a:lnTo>
                    <a:lnTo>
                      <a:pt x="33" y="75"/>
                    </a:lnTo>
                    <a:lnTo>
                      <a:pt x="36" y="72"/>
                    </a:lnTo>
                    <a:lnTo>
                      <a:pt x="39" y="70"/>
                    </a:lnTo>
                    <a:lnTo>
                      <a:pt x="41" y="67"/>
                    </a:lnTo>
                    <a:lnTo>
                      <a:pt x="44" y="64"/>
                    </a:lnTo>
                    <a:lnTo>
                      <a:pt x="44" y="62"/>
                    </a:lnTo>
                    <a:lnTo>
                      <a:pt x="46" y="59"/>
                    </a:lnTo>
                    <a:lnTo>
                      <a:pt x="46" y="57"/>
                    </a:lnTo>
                    <a:lnTo>
                      <a:pt x="46" y="54"/>
                    </a:lnTo>
                    <a:lnTo>
                      <a:pt x="49" y="49"/>
                    </a:lnTo>
                    <a:lnTo>
                      <a:pt x="49" y="47"/>
                    </a:lnTo>
                    <a:lnTo>
                      <a:pt x="49" y="41"/>
                    </a:lnTo>
                    <a:lnTo>
                      <a:pt x="49" y="39"/>
                    </a:lnTo>
                    <a:lnTo>
                      <a:pt x="49" y="34"/>
                    </a:lnTo>
                    <a:lnTo>
                      <a:pt x="49" y="31"/>
                    </a:lnTo>
                    <a:lnTo>
                      <a:pt x="49" y="26"/>
                    </a:lnTo>
                    <a:lnTo>
                      <a:pt x="46" y="23"/>
                    </a:lnTo>
                    <a:lnTo>
                      <a:pt x="46" y="21"/>
                    </a:lnTo>
                    <a:lnTo>
                      <a:pt x="46" y="18"/>
                    </a:lnTo>
                    <a:lnTo>
                      <a:pt x="44" y="16"/>
                    </a:lnTo>
                    <a:lnTo>
                      <a:pt x="44" y="11"/>
                    </a:lnTo>
                    <a:lnTo>
                      <a:pt x="41" y="8"/>
                    </a:lnTo>
                    <a:lnTo>
                      <a:pt x="39" y="8"/>
                    </a:lnTo>
                    <a:lnTo>
                      <a:pt x="36" y="6"/>
                    </a:lnTo>
                    <a:lnTo>
                      <a:pt x="33" y="3"/>
                    </a:lnTo>
                    <a:lnTo>
                      <a:pt x="33" y="3"/>
                    </a:lnTo>
                    <a:lnTo>
                      <a:pt x="31" y="0"/>
                    </a:lnTo>
                    <a:lnTo>
                      <a:pt x="28" y="0"/>
                    </a:lnTo>
                    <a:lnTo>
                      <a:pt x="26" y="0"/>
                    </a:lnTo>
                    <a:lnTo>
                      <a:pt x="23" y="0"/>
                    </a:lnTo>
                    <a:lnTo>
                      <a:pt x="21" y="0"/>
                    </a:lnTo>
                    <a:lnTo>
                      <a:pt x="18" y="3"/>
                    </a:lnTo>
                    <a:lnTo>
                      <a:pt x="15" y="3"/>
                    </a:lnTo>
                    <a:lnTo>
                      <a:pt x="13" y="6"/>
                    </a:lnTo>
                    <a:lnTo>
                      <a:pt x="13" y="8"/>
                    </a:lnTo>
                    <a:lnTo>
                      <a:pt x="10" y="8"/>
                    </a:lnTo>
                    <a:lnTo>
                      <a:pt x="8" y="11"/>
                    </a:lnTo>
                    <a:lnTo>
                      <a:pt x="5" y="16"/>
                    </a:lnTo>
                    <a:lnTo>
                      <a:pt x="5" y="18"/>
                    </a:lnTo>
                    <a:lnTo>
                      <a:pt x="3" y="21"/>
                    </a:lnTo>
                    <a:lnTo>
                      <a:pt x="3" y="23"/>
                    </a:lnTo>
                    <a:lnTo>
                      <a:pt x="3" y="26"/>
                    </a:lnTo>
                    <a:lnTo>
                      <a:pt x="0" y="31"/>
                    </a:lnTo>
                    <a:lnTo>
                      <a:pt x="0" y="34"/>
                    </a:lnTo>
                    <a:lnTo>
                      <a:pt x="0" y="39"/>
                    </a:lnTo>
                    <a:lnTo>
                      <a:pt x="0" y="41"/>
                    </a:lnTo>
                    <a:lnTo>
                      <a:pt x="0" y="47"/>
                    </a:lnTo>
                    <a:lnTo>
                      <a:pt x="3" y="49"/>
                    </a:lnTo>
                    <a:lnTo>
                      <a:pt x="3" y="54"/>
                    </a:lnTo>
                    <a:lnTo>
                      <a:pt x="3" y="57"/>
                    </a:lnTo>
                    <a:lnTo>
                      <a:pt x="5" y="59"/>
                    </a:lnTo>
                    <a:lnTo>
                      <a:pt x="5" y="62"/>
                    </a:lnTo>
                    <a:lnTo>
                      <a:pt x="8" y="64"/>
                    </a:lnTo>
                    <a:lnTo>
                      <a:pt x="10" y="67"/>
                    </a:lnTo>
                    <a:lnTo>
                      <a:pt x="13" y="70"/>
                    </a:lnTo>
                    <a:lnTo>
                      <a:pt x="13" y="72"/>
                    </a:lnTo>
                    <a:lnTo>
                      <a:pt x="15" y="75"/>
                    </a:lnTo>
                    <a:lnTo>
                      <a:pt x="18" y="75"/>
                    </a:lnTo>
                    <a:lnTo>
                      <a:pt x="21" y="75"/>
                    </a:lnTo>
                    <a:lnTo>
                      <a:pt x="23" y="77"/>
                    </a:lnTo>
                    <a:lnTo>
                      <a:pt x="26" y="77"/>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756" name=""/>
              <p:cNvSpPr/>
              <p:nvPr/>
            </p:nvSpPr>
            <p:spPr>
              <a:xfrm flipH="1">
                <a:off x="8089560" y="5397840"/>
                <a:ext cx="27000" cy="40680"/>
              </a:xfrm>
              <a:custGeom>
                <a:avLst/>
                <a:gdLst/>
                <a:ahLst/>
                <a:rect l="l" t="t" r="r" b="b"/>
                <a:pathLst>
                  <a:path w="43" h="64">
                    <a:moveTo>
                      <a:pt x="20" y="64"/>
                    </a:moveTo>
                    <a:lnTo>
                      <a:pt x="23" y="64"/>
                    </a:lnTo>
                    <a:lnTo>
                      <a:pt x="25" y="61"/>
                    </a:lnTo>
                    <a:lnTo>
                      <a:pt x="28" y="61"/>
                    </a:lnTo>
                    <a:lnTo>
                      <a:pt x="31" y="61"/>
                    </a:lnTo>
                    <a:lnTo>
                      <a:pt x="33" y="59"/>
                    </a:lnTo>
                    <a:lnTo>
                      <a:pt x="33" y="59"/>
                    </a:lnTo>
                    <a:lnTo>
                      <a:pt x="36" y="56"/>
                    </a:lnTo>
                    <a:lnTo>
                      <a:pt x="38" y="53"/>
                    </a:lnTo>
                    <a:lnTo>
                      <a:pt x="38" y="51"/>
                    </a:lnTo>
                    <a:lnTo>
                      <a:pt x="41" y="48"/>
                    </a:lnTo>
                    <a:lnTo>
                      <a:pt x="41" y="46"/>
                    </a:lnTo>
                    <a:lnTo>
                      <a:pt x="43" y="43"/>
                    </a:lnTo>
                    <a:lnTo>
                      <a:pt x="43" y="41"/>
                    </a:lnTo>
                    <a:lnTo>
                      <a:pt x="43" y="38"/>
                    </a:lnTo>
                    <a:lnTo>
                      <a:pt x="43" y="35"/>
                    </a:lnTo>
                    <a:lnTo>
                      <a:pt x="43" y="30"/>
                    </a:lnTo>
                    <a:lnTo>
                      <a:pt x="43" y="28"/>
                    </a:lnTo>
                    <a:lnTo>
                      <a:pt x="43" y="25"/>
                    </a:lnTo>
                    <a:lnTo>
                      <a:pt x="43" y="23"/>
                    </a:lnTo>
                    <a:lnTo>
                      <a:pt x="43" y="20"/>
                    </a:lnTo>
                    <a:lnTo>
                      <a:pt x="41" y="18"/>
                    </a:lnTo>
                    <a:lnTo>
                      <a:pt x="41" y="15"/>
                    </a:lnTo>
                    <a:lnTo>
                      <a:pt x="38" y="12"/>
                    </a:lnTo>
                    <a:lnTo>
                      <a:pt x="38" y="10"/>
                    </a:lnTo>
                    <a:lnTo>
                      <a:pt x="36" y="7"/>
                    </a:lnTo>
                    <a:lnTo>
                      <a:pt x="33" y="5"/>
                    </a:lnTo>
                    <a:lnTo>
                      <a:pt x="33" y="5"/>
                    </a:lnTo>
                    <a:lnTo>
                      <a:pt x="31" y="2"/>
                    </a:lnTo>
                    <a:lnTo>
                      <a:pt x="28" y="2"/>
                    </a:lnTo>
                    <a:lnTo>
                      <a:pt x="25" y="0"/>
                    </a:lnTo>
                    <a:lnTo>
                      <a:pt x="23" y="0"/>
                    </a:lnTo>
                    <a:lnTo>
                      <a:pt x="20" y="0"/>
                    </a:lnTo>
                    <a:lnTo>
                      <a:pt x="20" y="0"/>
                    </a:lnTo>
                    <a:lnTo>
                      <a:pt x="18" y="0"/>
                    </a:lnTo>
                    <a:lnTo>
                      <a:pt x="15" y="2"/>
                    </a:lnTo>
                    <a:lnTo>
                      <a:pt x="13" y="2"/>
                    </a:lnTo>
                    <a:lnTo>
                      <a:pt x="10" y="5"/>
                    </a:lnTo>
                    <a:lnTo>
                      <a:pt x="7" y="5"/>
                    </a:lnTo>
                    <a:lnTo>
                      <a:pt x="7" y="7"/>
                    </a:lnTo>
                    <a:lnTo>
                      <a:pt x="5" y="10"/>
                    </a:lnTo>
                    <a:lnTo>
                      <a:pt x="5" y="12"/>
                    </a:lnTo>
                    <a:lnTo>
                      <a:pt x="2" y="15"/>
                    </a:lnTo>
                    <a:lnTo>
                      <a:pt x="2" y="18"/>
                    </a:lnTo>
                    <a:lnTo>
                      <a:pt x="0" y="20"/>
                    </a:lnTo>
                    <a:lnTo>
                      <a:pt x="0" y="23"/>
                    </a:lnTo>
                    <a:lnTo>
                      <a:pt x="0" y="25"/>
                    </a:lnTo>
                    <a:lnTo>
                      <a:pt x="0" y="28"/>
                    </a:lnTo>
                    <a:lnTo>
                      <a:pt x="0" y="30"/>
                    </a:lnTo>
                    <a:lnTo>
                      <a:pt x="0" y="35"/>
                    </a:lnTo>
                    <a:lnTo>
                      <a:pt x="0" y="38"/>
                    </a:lnTo>
                    <a:lnTo>
                      <a:pt x="0" y="41"/>
                    </a:lnTo>
                    <a:lnTo>
                      <a:pt x="0" y="43"/>
                    </a:lnTo>
                    <a:lnTo>
                      <a:pt x="2" y="46"/>
                    </a:lnTo>
                    <a:lnTo>
                      <a:pt x="2" y="48"/>
                    </a:lnTo>
                    <a:lnTo>
                      <a:pt x="5" y="51"/>
                    </a:lnTo>
                    <a:lnTo>
                      <a:pt x="5" y="53"/>
                    </a:lnTo>
                    <a:lnTo>
                      <a:pt x="7" y="56"/>
                    </a:lnTo>
                    <a:lnTo>
                      <a:pt x="7" y="59"/>
                    </a:lnTo>
                    <a:lnTo>
                      <a:pt x="10" y="59"/>
                    </a:lnTo>
                    <a:lnTo>
                      <a:pt x="13" y="61"/>
                    </a:lnTo>
                    <a:lnTo>
                      <a:pt x="15" y="61"/>
                    </a:lnTo>
                    <a:lnTo>
                      <a:pt x="18" y="61"/>
                    </a:lnTo>
                    <a:lnTo>
                      <a:pt x="20" y="64"/>
                    </a:lnTo>
                    <a:lnTo>
                      <a:pt x="20" y="64"/>
                    </a:lnTo>
                    <a:close/>
                  </a:path>
                </a:pathLst>
              </a:cu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757" name=""/>
              <p:cNvSpPr/>
              <p:nvPr/>
            </p:nvSpPr>
            <p:spPr>
              <a:xfrm flipH="1">
                <a:off x="8081280" y="5566680"/>
                <a:ext cx="43560" cy="69840"/>
              </a:xfrm>
              <a:custGeom>
                <a:avLst/>
                <a:gdLst/>
                <a:ahLst/>
                <a:rect l="l" t="t" r="r" b="b"/>
                <a:pathLst>
                  <a:path w="69" h="110">
                    <a:moveTo>
                      <a:pt x="0" y="110"/>
                    </a:moveTo>
                    <a:lnTo>
                      <a:pt x="3" y="100"/>
                    </a:lnTo>
                    <a:lnTo>
                      <a:pt x="3" y="89"/>
                    </a:lnTo>
                    <a:lnTo>
                      <a:pt x="5" y="82"/>
                    </a:lnTo>
                    <a:lnTo>
                      <a:pt x="8" y="74"/>
                    </a:lnTo>
                    <a:lnTo>
                      <a:pt x="10" y="64"/>
                    </a:lnTo>
                    <a:lnTo>
                      <a:pt x="13" y="56"/>
                    </a:lnTo>
                    <a:lnTo>
                      <a:pt x="15" y="51"/>
                    </a:lnTo>
                    <a:lnTo>
                      <a:pt x="18" y="43"/>
                    </a:lnTo>
                    <a:lnTo>
                      <a:pt x="23" y="38"/>
                    </a:lnTo>
                    <a:lnTo>
                      <a:pt x="26" y="30"/>
                    </a:lnTo>
                    <a:lnTo>
                      <a:pt x="31" y="25"/>
                    </a:lnTo>
                    <a:lnTo>
                      <a:pt x="33" y="20"/>
                    </a:lnTo>
                    <a:lnTo>
                      <a:pt x="41" y="15"/>
                    </a:lnTo>
                    <a:lnTo>
                      <a:pt x="46" y="10"/>
                    </a:lnTo>
                    <a:lnTo>
                      <a:pt x="51" y="5"/>
                    </a:lnTo>
                    <a:lnTo>
                      <a:pt x="56" y="0"/>
                    </a:lnTo>
                    <a:lnTo>
                      <a:pt x="54" y="7"/>
                    </a:lnTo>
                    <a:lnTo>
                      <a:pt x="51" y="13"/>
                    </a:lnTo>
                    <a:lnTo>
                      <a:pt x="51" y="18"/>
                    </a:lnTo>
                    <a:lnTo>
                      <a:pt x="49" y="23"/>
                    </a:lnTo>
                    <a:lnTo>
                      <a:pt x="49" y="28"/>
                    </a:lnTo>
                    <a:lnTo>
                      <a:pt x="49" y="30"/>
                    </a:lnTo>
                    <a:lnTo>
                      <a:pt x="49" y="36"/>
                    </a:lnTo>
                    <a:lnTo>
                      <a:pt x="49" y="38"/>
                    </a:lnTo>
                    <a:lnTo>
                      <a:pt x="51" y="41"/>
                    </a:lnTo>
                    <a:lnTo>
                      <a:pt x="54" y="43"/>
                    </a:lnTo>
                    <a:lnTo>
                      <a:pt x="54" y="46"/>
                    </a:lnTo>
                    <a:lnTo>
                      <a:pt x="56" y="48"/>
                    </a:lnTo>
                    <a:lnTo>
                      <a:pt x="59" y="51"/>
                    </a:lnTo>
                    <a:lnTo>
                      <a:pt x="64" y="51"/>
                    </a:lnTo>
                    <a:lnTo>
                      <a:pt x="67" y="54"/>
                    </a:lnTo>
                    <a:lnTo>
                      <a:pt x="69" y="5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58" name=""/>
              <p:cNvSpPr/>
              <p:nvPr/>
            </p:nvSpPr>
            <p:spPr>
              <a:xfrm flipH="1">
                <a:off x="8222760" y="5584680"/>
                <a:ext cx="38520" cy="14400"/>
              </a:xfrm>
              <a:custGeom>
                <a:avLst/>
                <a:gdLst/>
                <a:ahLst/>
                <a:rect l="l" t="t" r="r" b="b"/>
                <a:pathLst>
                  <a:path w="61" h="23">
                    <a:moveTo>
                      <a:pt x="0" y="2"/>
                    </a:moveTo>
                    <a:lnTo>
                      <a:pt x="5" y="2"/>
                    </a:lnTo>
                    <a:lnTo>
                      <a:pt x="10" y="0"/>
                    </a:lnTo>
                    <a:lnTo>
                      <a:pt x="15" y="0"/>
                    </a:lnTo>
                    <a:lnTo>
                      <a:pt x="20" y="0"/>
                    </a:lnTo>
                    <a:lnTo>
                      <a:pt x="26" y="0"/>
                    </a:lnTo>
                    <a:lnTo>
                      <a:pt x="28" y="0"/>
                    </a:lnTo>
                    <a:lnTo>
                      <a:pt x="33" y="0"/>
                    </a:lnTo>
                    <a:lnTo>
                      <a:pt x="36" y="2"/>
                    </a:lnTo>
                    <a:lnTo>
                      <a:pt x="41" y="5"/>
                    </a:lnTo>
                    <a:lnTo>
                      <a:pt x="43" y="5"/>
                    </a:lnTo>
                    <a:lnTo>
                      <a:pt x="46" y="8"/>
                    </a:lnTo>
                    <a:lnTo>
                      <a:pt x="49" y="10"/>
                    </a:lnTo>
                    <a:lnTo>
                      <a:pt x="51" y="13"/>
                    </a:lnTo>
                    <a:lnTo>
                      <a:pt x="56" y="15"/>
                    </a:lnTo>
                    <a:lnTo>
                      <a:pt x="59" y="20"/>
                    </a:lnTo>
                    <a:lnTo>
                      <a:pt x="61" y="2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9" name=""/>
              <p:cNvSpPr/>
              <p:nvPr/>
            </p:nvSpPr>
            <p:spPr>
              <a:xfrm flipH="1">
                <a:off x="8233920" y="5610600"/>
                <a:ext cx="33480" cy="40320"/>
              </a:xfrm>
              <a:custGeom>
                <a:avLst/>
                <a:gdLst/>
                <a:ahLst/>
                <a:rect l="l" t="t" r="r" b="b"/>
                <a:pathLst>
                  <a:path w="53" h="64">
                    <a:moveTo>
                      <a:pt x="51" y="15"/>
                    </a:moveTo>
                    <a:lnTo>
                      <a:pt x="53" y="18"/>
                    </a:lnTo>
                    <a:lnTo>
                      <a:pt x="51" y="20"/>
                    </a:lnTo>
                    <a:lnTo>
                      <a:pt x="51" y="23"/>
                    </a:lnTo>
                    <a:lnTo>
                      <a:pt x="51" y="23"/>
                    </a:lnTo>
                    <a:lnTo>
                      <a:pt x="48" y="25"/>
                    </a:lnTo>
                    <a:lnTo>
                      <a:pt x="46" y="28"/>
                    </a:lnTo>
                    <a:lnTo>
                      <a:pt x="43" y="28"/>
                    </a:lnTo>
                    <a:lnTo>
                      <a:pt x="43" y="31"/>
                    </a:lnTo>
                    <a:lnTo>
                      <a:pt x="41" y="31"/>
                    </a:lnTo>
                    <a:lnTo>
                      <a:pt x="38" y="31"/>
                    </a:lnTo>
                    <a:lnTo>
                      <a:pt x="38" y="31"/>
                    </a:lnTo>
                    <a:lnTo>
                      <a:pt x="36" y="31"/>
                    </a:lnTo>
                    <a:lnTo>
                      <a:pt x="33" y="31"/>
                    </a:lnTo>
                    <a:lnTo>
                      <a:pt x="33" y="31"/>
                    </a:lnTo>
                    <a:lnTo>
                      <a:pt x="30" y="31"/>
                    </a:lnTo>
                    <a:lnTo>
                      <a:pt x="30" y="31"/>
                    </a:lnTo>
                    <a:lnTo>
                      <a:pt x="28" y="31"/>
                    </a:lnTo>
                    <a:lnTo>
                      <a:pt x="28" y="31"/>
                    </a:lnTo>
                    <a:lnTo>
                      <a:pt x="28" y="31"/>
                    </a:lnTo>
                    <a:lnTo>
                      <a:pt x="25" y="31"/>
                    </a:lnTo>
                    <a:lnTo>
                      <a:pt x="25" y="31"/>
                    </a:lnTo>
                    <a:lnTo>
                      <a:pt x="25" y="33"/>
                    </a:lnTo>
                    <a:lnTo>
                      <a:pt x="23" y="33"/>
                    </a:lnTo>
                    <a:lnTo>
                      <a:pt x="23" y="36"/>
                    </a:lnTo>
                    <a:lnTo>
                      <a:pt x="23" y="38"/>
                    </a:lnTo>
                    <a:lnTo>
                      <a:pt x="25" y="41"/>
                    </a:lnTo>
                    <a:lnTo>
                      <a:pt x="28" y="43"/>
                    </a:lnTo>
                    <a:lnTo>
                      <a:pt x="30" y="43"/>
                    </a:lnTo>
                    <a:lnTo>
                      <a:pt x="33" y="46"/>
                    </a:lnTo>
                    <a:lnTo>
                      <a:pt x="36" y="48"/>
                    </a:lnTo>
                    <a:lnTo>
                      <a:pt x="38" y="51"/>
                    </a:lnTo>
                    <a:lnTo>
                      <a:pt x="38" y="54"/>
                    </a:lnTo>
                    <a:lnTo>
                      <a:pt x="38" y="56"/>
                    </a:lnTo>
                    <a:lnTo>
                      <a:pt x="36" y="59"/>
                    </a:lnTo>
                    <a:lnTo>
                      <a:pt x="33" y="59"/>
                    </a:lnTo>
                    <a:lnTo>
                      <a:pt x="30" y="61"/>
                    </a:lnTo>
                    <a:lnTo>
                      <a:pt x="28" y="61"/>
                    </a:lnTo>
                    <a:lnTo>
                      <a:pt x="25" y="64"/>
                    </a:lnTo>
                    <a:lnTo>
                      <a:pt x="23" y="64"/>
                    </a:lnTo>
                    <a:lnTo>
                      <a:pt x="20" y="61"/>
                    </a:lnTo>
                    <a:lnTo>
                      <a:pt x="18" y="61"/>
                    </a:lnTo>
                    <a:lnTo>
                      <a:pt x="15" y="59"/>
                    </a:lnTo>
                    <a:lnTo>
                      <a:pt x="15" y="59"/>
                    </a:lnTo>
                    <a:lnTo>
                      <a:pt x="12" y="56"/>
                    </a:lnTo>
                    <a:lnTo>
                      <a:pt x="10" y="54"/>
                    </a:lnTo>
                    <a:lnTo>
                      <a:pt x="7" y="54"/>
                    </a:lnTo>
                    <a:lnTo>
                      <a:pt x="7" y="51"/>
                    </a:lnTo>
                    <a:lnTo>
                      <a:pt x="5" y="48"/>
                    </a:lnTo>
                    <a:lnTo>
                      <a:pt x="5" y="46"/>
                    </a:lnTo>
                    <a:lnTo>
                      <a:pt x="2" y="43"/>
                    </a:lnTo>
                    <a:lnTo>
                      <a:pt x="2" y="41"/>
                    </a:lnTo>
                    <a:lnTo>
                      <a:pt x="0" y="38"/>
                    </a:lnTo>
                    <a:lnTo>
                      <a:pt x="0" y="36"/>
                    </a:lnTo>
                    <a:lnTo>
                      <a:pt x="0" y="33"/>
                    </a:lnTo>
                    <a:lnTo>
                      <a:pt x="0" y="31"/>
                    </a:lnTo>
                    <a:lnTo>
                      <a:pt x="0" y="28"/>
                    </a:lnTo>
                    <a:lnTo>
                      <a:pt x="0" y="25"/>
                    </a:lnTo>
                    <a:lnTo>
                      <a:pt x="2" y="23"/>
                    </a:lnTo>
                    <a:lnTo>
                      <a:pt x="2" y="20"/>
                    </a:lnTo>
                    <a:lnTo>
                      <a:pt x="2" y="18"/>
                    </a:lnTo>
                    <a:lnTo>
                      <a:pt x="5" y="15"/>
                    </a:lnTo>
                    <a:lnTo>
                      <a:pt x="5" y="13"/>
                    </a:lnTo>
                    <a:lnTo>
                      <a:pt x="7" y="13"/>
                    </a:lnTo>
                    <a:lnTo>
                      <a:pt x="7" y="10"/>
                    </a:lnTo>
                    <a:lnTo>
                      <a:pt x="10" y="8"/>
                    </a:lnTo>
                    <a:lnTo>
                      <a:pt x="12" y="5"/>
                    </a:lnTo>
                    <a:lnTo>
                      <a:pt x="15" y="5"/>
                    </a:lnTo>
                    <a:lnTo>
                      <a:pt x="15" y="2"/>
                    </a:lnTo>
                    <a:lnTo>
                      <a:pt x="18" y="2"/>
                    </a:lnTo>
                    <a:lnTo>
                      <a:pt x="20" y="0"/>
                    </a:lnTo>
                    <a:lnTo>
                      <a:pt x="23" y="0"/>
                    </a:lnTo>
                    <a:lnTo>
                      <a:pt x="25" y="0"/>
                    </a:lnTo>
                    <a:lnTo>
                      <a:pt x="28" y="0"/>
                    </a:lnTo>
                    <a:lnTo>
                      <a:pt x="28" y="0"/>
                    </a:lnTo>
                    <a:lnTo>
                      <a:pt x="30" y="0"/>
                    </a:lnTo>
                    <a:lnTo>
                      <a:pt x="33" y="0"/>
                    </a:lnTo>
                    <a:lnTo>
                      <a:pt x="36" y="0"/>
                    </a:lnTo>
                    <a:lnTo>
                      <a:pt x="38" y="2"/>
                    </a:lnTo>
                    <a:lnTo>
                      <a:pt x="38" y="2"/>
                    </a:lnTo>
                    <a:lnTo>
                      <a:pt x="41" y="5"/>
                    </a:lnTo>
                    <a:lnTo>
                      <a:pt x="43" y="5"/>
                    </a:lnTo>
                    <a:lnTo>
                      <a:pt x="43" y="5"/>
                    </a:lnTo>
                    <a:lnTo>
                      <a:pt x="46" y="8"/>
                    </a:lnTo>
                    <a:lnTo>
                      <a:pt x="48" y="10"/>
                    </a:lnTo>
                    <a:lnTo>
                      <a:pt x="48" y="10"/>
                    </a:lnTo>
                    <a:lnTo>
                      <a:pt x="51" y="13"/>
                    </a:lnTo>
                    <a:lnTo>
                      <a:pt x="51" y="15"/>
                    </a:lnTo>
                    <a:lnTo>
                      <a:pt x="51" y="15"/>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760" name=""/>
              <p:cNvSpPr/>
              <p:nvPr/>
            </p:nvSpPr>
            <p:spPr>
              <a:xfrm flipH="1">
                <a:off x="8056440" y="5555520"/>
                <a:ext cx="9720" cy="27360"/>
              </a:xfrm>
              <a:custGeom>
                <a:avLst/>
                <a:gdLst/>
                <a:ahLst/>
                <a:rect l="l" t="t" r="r" b="b"/>
                <a:pathLst>
                  <a:path w="16" h="43">
                    <a:moveTo>
                      <a:pt x="8" y="0"/>
                    </a:moveTo>
                    <a:lnTo>
                      <a:pt x="10" y="2"/>
                    </a:lnTo>
                    <a:lnTo>
                      <a:pt x="10" y="2"/>
                    </a:lnTo>
                    <a:lnTo>
                      <a:pt x="13" y="5"/>
                    </a:lnTo>
                    <a:lnTo>
                      <a:pt x="13" y="8"/>
                    </a:lnTo>
                    <a:lnTo>
                      <a:pt x="16" y="10"/>
                    </a:lnTo>
                    <a:lnTo>
                      <a:pt x="16" y="13"/>
                    </a:lnTo>
                    <a:lnTo>
                      <a:pt x="16" y="18"/>
                    </a:lnTo>
                    <a:lnTo>
                      <a:pt x="16" y="23"/>
                    </a:lnTo>
                    <a:lnTo>
                      <a:pt x="16" y="28"/>
                    </a:lnTo>
                    <a:lnTo>
                      <a:pt x="16" y="31"/>
                    </a:lnTo>
                    <a:lnTo>
                      <a:pt x="16" y="33"/>
                    </a:lnTo>
                    <a:lnTo>
                      <a:pt x="13" y="38"/>
                    </a:lnTo>
                    <a:lnTo>
                      <a:pt x="13" y="41"/>
                    </a:lnTo>
                    <a:lnTo>
                      <a:pt x="10" y="41"/>
                    </a:lnTo>
                    <a:lnTo>
                      <a:pt x="10" y="43"/>
                    </a:lnTo>
                    <a:lnTo>
                      <a:pt x="8" y="43"/>
                    </a:lnTo>
                    <a:lnTo>
                      <a:pt x="5" y="43"/>
                    </a:lnTo>
                    <a:lnTo>
                      <a:pt x="5" y="41"/>
                    </a:lnTo>
                    <a:lnTo>
                      <a:pt x="3" y="41"/>
                    </a:lnTo>
                    <a:lnTo>
                      <a:pt x="3" y="38"/>
                    </a:lnTo>
                    <a:lnTo>
                      <a:pt x="0" y="33"/>
                    </a:lnTo>
                    <a:lnTo>
                      <a:pt x="0" y="31"/>
                    </a:lnTo>
                    <a:lnTo>
                      <a:pt x="0" y="28"/>
                    </a:lnTo>
                    <a:lnTo>
                      <a:pt x="0" y="23"/>
                    </a:lnTo>
                    <a:lnTo>
                      <a:pt x="0" y="18"/>
                    </a:lnTo>
                    <a:lnTo>
                      <a:pt x="0" y="13"/>
                    </a:lnTo>
                    <a:lnTo>
                      <a:pt x="0" y="10"/>
                    </a:lnTo>
                    <a:lnTo>
                      <a:pt x="3" y="8"/>
                    </a:lnTo>
                    <a:lnTo>
                      <a:pt x="3" y="5"/>
                    </a:lnTo>
                    <a:lnTo>
                      <a:pt x="5" y="2"/>
                    </a:lnTo>
                    <a:lnTo>
                      <a:pt x="5" y="2"/>
                    </a:lnTo>
                    <a:lnTo>
                      <a:pt x="8" y="0"/>
                    </a:lnTo>
                    <a:close/>
                  </a:path>
                </a:pathLst>
              </a:custGeom>
              <a:solidFill>
                <a:srgbClr val="0000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761" name=""/>
              <p:cNvSpPr/>
              <p:nvPr/>
            </p:nvSpPr>
            <p:spPr>
              <a:xfrm flipH="1">
                <a:off x="8012880" y="5620320"/>
                <a:ext cx="74520" cy="46800"/>
              </a:xfrm>
              <a:custGeom>
                <a:avLst/>
                <a:gdLst/>
                <a:ahLst/>
                <a:rect l="l" t="t" r="r" b="b"/>
                <a:pathLst>
                  <a:path w="118" h="74">
                    <a:moveTo>
                      <a:pt x="0" y="74"/>
                    </a:moveTo>
                    <a:lnTo>
                      <a:pt x="2" y="69"/>
                    </a:lnTo>
                    <a:lnTo>
                      <a:pt x="5" y="67"/>
                    </a:lnTo>
                    <a:lnTo>
                      <a:pt x="8" y="62"/>
                    </a:lnTo>
                    <a:lnTo>
                      <a:pt x="8" y="59"/>
                    </a:lnTo>
                    <a:lnTo>
                      <a:pt x="10" y="54"/>
                    </a:lnTo>
                    <a:lnTo>
                      <a:pt x="13" y="51"/>
                    </a:lnTo>
                    <a:lnTo>
                      <a:pt x="15" y="49"/>
                    </a:lnTo>
                    <a:lnTo>
                      <a:pt x="18" y="44"/>
                    </a:lnTo>
                    <a:lnTo>
                      <a:pt x="20" y="41"/>
                    </a:lnTo>
                    <a:lnTo>
                      <a:pt x="23" y="39"/>
                    </a:lnTo>
                    <a:lnTo>
                      <a:pt x="25" y="36"/>
                    </a:lnTo>
                    <a:lnTo>
                      <a:pt x="28" y="33"/>
                    </a:lnTo>
                    <a:lnTo>
                      <a:pt x="33" y="31"/>
                    </a:lnTo>
                    <a:lnTo>
                      <a:pt x="36" y="28"/>
                    </a:lnTo>
                    <a:lnTo>
                      <a:pt x="38" y="26"/>
                    </a:lnTo>
                    <a:lnTo>
                      <a:pt x="41" y="23"/>
                    </a:lnTo>
                    <a:lnTo>
                      <a:pt x="46" y="21"/>
                    </a:lnTo>
                    <a:lnTo>
                      <a:pt x="49" y="18"/>
                    </a:lnTo>
                    <a:lnTo>
                      <a:pt x="54" y="16"/>
                    </a:lnTo>
                    <a:lnTo>
                      <a:pt x="56" y="16"/>
                    </a:lnTo>
                    <a:lnTo>
                      <a:pt x="61" y="13"/>
                    </a:lnTo>
                    <a:lnTo>
                      <a:pt x="64" y="13"/>
                    </a:lnTo>
                    <a:lnTo>
                      <a:pt x="69" y="10"/>
                    </a:lnTo>
                    <a:lnTo>
                      <a:pt x="74" y="8"/>
                    </a:lnTo>
                    <a:lnTo>
                      <a:pt x="79" y="8"/>
                    </a:lnTo>
                    <a:lnTo>
                      <a:pt x="84" y="5"/>
                    </a:lnTo>
                    <a:lnTo>
                      <a:pt x="90" y="5"/>
                    </a:lnTo>
                    <a:lnTo>
                      <a:pt x="95" y="3"/>
                    </a:lnTo>
                    <a:lnTo>
                      <a:pt x="100" y="3"/>
                    </a:lnTo>
                    <a:lnTo>
                      <a:pt x="105" y="3"/>
                    </a:lnTo>
                    <a:lnTo>
                      <a:pt x="110" y="0"/>
                    </a:lnTo>
                    <a:lnTo>
                      <a:pt x="118" y="0"/>
                    </a:lnTo>
                  </a:path>
                </a:pathLst>
              </a:custGeom>
              <a:no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762" name=""/>
              <p:cNvSpPr/>
              <p:nvPr/>
            </p:nvSpPr>
            <p:spPr>
              <a:xfrm flipH="1">
                <a:off x="8008200" y="5181480"/>
                <a:ext cx="461520" cy="516960"/>
              </a:xfrm>
              <a:custGeom>
                <a:avLst/>
                <a:gdLst/>
                <a:ahLst/>
                <a:rect l="l" t="t" r="r" b="b"/>
                <a:pathLst>
                  <a:path w="727" h="814">
                    <a:moveTo>
                      <a:pt x="187" y="246"/>
                    </a:moveTo>
                    <a:lnTo>
                      <a:pt x="187" y="238"/>
                    </a:lnTo>
                    <a:lnTo>
                      <a:pt x="187" y="231"/>
                    </a:lnTo>
                    <a:lnTo>
                      <a:pt x="187" y="223"/>
                    </a:lnTo>
                    <a:lnTo>
                      <a:pt x="190" y="215"/>
                    </a:lnTo>
                    <a:lnTo>
                      <a:pt x="190" y="208"/>
                    </a:lnTo>
                    <a:lnTo>
                      <a:pt x="190" y="200"/>
                    </a:lnTo>
                    <a:lnTo>
                      <a:pt x="190" y="192"/>
                    </a:lnTo>
                    <a:lnTo>
                      <a:pt x="190" y="185"/>
                    </a:lnTo>
                    <a:lnTo>
                      <a:pt x="192" y="177"/>
                    </a:lnTo>
                    <a:lnTo>
                      <a:pt x="192" y="167"/>
                    </a:lnTo>
                    <a:lnTo>
                      <a:pt x="192" y="162"/>
                    </a:lnTo>
                    <a:lnTo>
                      <a:pt x="192" y="151"/>
                    </a:lnTo>
                    <a:lnTo>
                      <a:pt x="195" y="144"/>
                    </a:lnTo>
                    <a:lnTo>
                      <a:pt x="195" y="136"/>
                    </a:lnTo>
                    <a:lnTo>
                      <a:pt x="197" y="128"/>
                    </a:lnTo>
                    <a:lnTo>
                      <a:pt x="200" y="121"/>
                    </a:lnTo>
                    <a:lnTo>
                      <a:pt x="200" y="115"/>
                    </a:lnTo>
                    <a:lnTo>
                      <a:pt x="202" y="108"/>
                    </a:lnTo>
                    <a:lnTo>
                      <a:pt x="205" y="100"/>
                    </a:lnTo>
                    <a:lnTo>
                      <a:pt x="208" y="92"/>
                    </a:lnTo>
                    <a:lnTo>
                      <a:pt x="210" y="87"/>
                    </a:lnTo>
                    <a:lnTo>
                      <a:pt x="215" y="80"/>
                    </a:lnTo>
                    <a:lnTo>
                      <a:pt x="218" y="75"/>
                    </a:lnTo>
                    <a:lnTo>
                      <a:pt x="223" y="69"/>
                    </a:lnTo>
                    <a:lnTo>
                      <a:pt x="228" y="62"/>
                    </a:lnTo>
                    <a:lnTo>
                      <a:pt x="233" y="57"/>
                    </a:lnTo>
                    <a:lnTo>
                      <a:pt x="238" y="52"/>
                    </a:lnTo>
                    <a:lnTo>
                      <a:pt x="243" y="49"/>
                    </a:lnTo>
                    <a:lnTo>
                      <a:pt x="251" y="44"/>
                    </a:lnTo>
                    <a:lnTo>
                      <a:pt x="256" y="41"/>
                    </a:lnTo>
                    <a:lnTo>
                      <a:pt x="264" y="36"/>
                    </a:lnTo>
                    <a:lnTo>
                      <a:pt x="272" y="34"/>
                    </a:lnTo>
                    <a:lnTo>
                      <a:pt x="279" y="34"/>
                    </a:lnTo>
                    <a:lnTo>
                      <a:pt x="287" y="31"/>
                    </a:lnTo>
                    <a:lnTo>
                      <a:pt x="295" y="28"/>
                    </a:lnTo>
                    <a:lnTo>
                      <a:pt x="302" y="28"/>
                    </a:lnTo>
                    <a:lnTo>
                      <a:pt x="310" y="28"/>
                    </a:lnTo>
                    <a:lnTo>
                      <a:pt x="318" y="26"/>
                    </a:lnTo>
                    <a:lnTo>
                      <a:pt x="325" y="26"/>
                    </a:lnTo>
                    <a:lnTo>
                      <a:pt x="336" y="28"/>
                    </a:lnTo>
                    <a:lnTo>
                      <a:pt x="343" y="28"/>
                    </a:lnTo>
                    <a:lnTo>
                      <a:pt x="351" y="28"/>
                    </a:lnTo>
                    <a:lnTo>
                      <a:pt x="359" y="28"/>
                    </a:lnTo>
                    <a:lnTo>
                      <a:pt x="369" y="31"/>
                    </a:lnTo>
                    <a:lnTo>
                      <a:pt x="377" y="31"/>
                    </a:lnTo>
                    <a:lnTo>
                      <a:pt x="387" y="34"/>
                    </a:lnTo>
                    <a:lnTo>
                      <a:pt x="394" y="34"/>
                    </a:lnTo>
                    <a:lnTo>
                      <a:pt x="405" y="36"/>
                    </a:lnTo>
                    <a:lnTo>
                      <a:pt x="412" y="36"/>
                    </a:lnTo>
                    <a:lnTo>
                      <a:pt x="423" y="39"/>
                    </a:lnTo>
                    <a:lnTo>
                      <a:pt x="433" y="41"/>
                    </a:lnTo>
                    <a:lnTo>
                      <a:pt x="441" y="41"/>
                    </a:lnTo>
                    <a:lnTo>
                      <a:pt x="451" y="44"/>
                    </a:lnTo>
                    <a:lnTo>
                      <a:pt x="461" y="44"/>
                    </a:lnTo>
                    <a:lnTo>
                      <a:pt x="471" y="46"/>
                    </a:lnTo>
                    <a:lnTo>
                      <a:pt x="479" y="46"/>
                    </a:lnTo>
                    <a:lnTo>
                      <a:pt x="489" y="49"/>
                    </a:lnTo>
                    <a:lnTo>
                      <a:pt x="499" y="49"/>
                    </a:lnTo>
                    <a:lnTo>
                      <a:pt x="510" y="52"/>
                    </a:lnTo>
                    <a:lnTo>
                      <a:pt x="520" y="52"/>
                    </a:lnTo>
                    <a:lnTo>
                      <a:pt x="528" y="52"/>
                    </a:lnTo>
                    <a:lnTo>
                      <a:pt x="538" y="52"/>
                    </a:lnTo>
                    <a:lnTo>
                      <a:pt x="548" y="52"/>
                    </a:lnTo>
                    <a:lnTo>
                      <a:pt x="558" y="52"/>
                    </a:lnTo>
                    <a:lnTo>
                      <a:pt x="563" y="52"/>
                    </a:lnTo>
                    <a:lnTo>
                      <a:pt x="569" y="52"/>
                    </a:lnTo>
                    <a:lnTo>
                      <a:pt x="576" y="52"/>
                    </a:lnTo>
                    <a:lnTo>
                      <a:pt x="581" y="52"/>
                    </a:lnTo>
                    <a:lnTo>
                      <a:pt x="587" y="49"/>
                    </a:lnTo>
                    <a:lnTo>
                      <a:pt x="592" y="49"/>
                    </a:lnTo>
                    <a:lnTo>
                      <a:pt x="597" y="49"/>
                    </a:lnTo>
                    <a:lnTo>
                      <a:pt x="602" y="46"/>
                    </a:lnTo>
                    <a:lnTo>
                      <a:pt x="607" y="46"/>
                    </a:lnTo>
                    <a:lnTo>
                      <a:pt x="615" y="44"/>
                    </a:lnTo>
                    <a:lnTo>
                      <a:pt x="620" y="44"/>
                    </a:lnTo>
                    <a:lnTo>
                      <a:pt x="625" y="44"/>
                    </a:lnTo>
                    <a:lnTo>
                      <a:pt x="630" y="41"/>
                    </a:lnTo>
                    <a:lnTo>
                      <a:pt x="635" y="41"/>
                    </a:lnTo>
                    <a:lnTo>
                      <a:pt x="640" y="39"/>
                    </a:lnTo>
                    <a:lnTo>
                      <a:pt x="645" y="36"/>
                    </a:lnTo>
                    <a:lnTo>
                      <a:pt x="651" y="36"/>
                    </a:lnTo>
                    <a:lnTo>
                      <a:pt x="656" y="34"/>
                    </a:lnTo>
                    <a:lnTo>
                      <a:pt x="663" y="31"/>
                    </a:lnTo>
                    <a:lnTo>
                      <a:pt x="668" y="28"/>
                    </a:lnTo>
                    <a:lnTo>
                      <a:pt x="674" y="28"/>
                    </a:lnTo>
                    <a:lnTo>
                      <a:pt x="679" y="26"/>
                    </a:lnTo>
                    <a:lnTo>
                      <a:pt x="684" y="23"/>
                    </a:lnTo>
                    <a:lnTo>
                      <a:pt x="689" y="21"/>
                    </a:lnTo>
                    <a:lnTo>
                      <a:pt x="694" y="18"/>
                    </a:lnTo>
                    <a:lnTo>
                      <a:pt x="699" y="16"/>
                    </a:lnTo>
                    <a:lnTo>
                      <a:pt x="704" y="13"/>
                    </a:lnTo>
                    <a:lnTo>
                      <a:pt x="709" y="11"/>
                    </a:lnTo>
                    <a:lnTo>
                      <a:pt x="715" y="8"/>
                    </a:lnTo>
                    <a:lnTo>
                      <a:pt x="720" y="5"/>
                    </a:lnTo>
                    <a:lnTo>
                      <a:pt x="722" y="3"/>
                    </a:lnTo>
                    <a:lnTo>
                      <a:pt x="727" y="0"/>
                    </a:lnTo>
                    <a:lnTo>
                      <a:pt x="725" y="5"/>
                    </a:lnTo>
                    <a:lnTo>
                      <a:pt x="725" y="13"/>
                    </a:lnTo>
                    <a:lnTo>
                      <a:pt x="722" y="18"/>
                    </a:lnTo>
                    <a:lnTo>
                      <a:pt x="720" y="26"/>
                    </a:lnTo>
                    <a:lnTo>
                      <a:pt x="717" y="31"/>
                    </a:lnTo>
                    <a:lnTo>
                      <a:pt x="715" y="39"/>
                    </a:lnTo>
                    <a:lnTo>
                      <a:pt x="709" y="46"/>
                    </a:lnTo>
                    <a:lnTo>
                      <a:pt x="707" y="52"/>
                    </a:lnTo>
                    <a:lnTo>
                      <a:pt x="704" y="59"/>
                    </a:lnTo>
                    <a:lnTo>
                      <a:pt x="702" y="64"/>
                    </a:lnTo>
                    <a:lnTo>
                      <a:pt x="699" y="72"/>
                    </a:lnTo>
                    <a:lnTo>
                      <a:pt x="697" y="77"/>
                    </a:lnTo>
                    <a:lnTo>
                      <a:pt x="692" y="85"/>
                    </a:lnTo>
                    <a:lnTo>
                      <a:pt x="689" y="92"/>
                    </a:lnTo>
                    <a:lnTo>
                      <a:pt x="684" y="98"/>
                    </a:lnTo>
                    <a:lnTo>
                      <a:pt x="681" y="105"/>
                    </a:lnTo>
                    <a:lnTo>
                      <a:pt x="676" y="110"/>
                    </a:lnTo>
                    <a:lnTo>
                      <a:pt x="674" y="115"/>
                    </a:lnTo>
                    <a:lnTo>
                      <a:pt x="668" y="123"/>
                    </a:lnTo>
                    <a:lnTo>
                      <a:pt x="663" y="128"/>
                    </a:lnTo>
                    <a:lnTo>
                      <a:pt x="661" y="133"/>
                    </a:lnTo>
                    <a:lnTo>
                      <a:pt x="656" y="139"/>
                    </a:lnTo>
                    <a:lnTo>
                      <a:pt x="651" y="144"/>
                    </a:lnTo>
                    <a:lnTo>
                      <a:pt x="645" y="149"/>
                    </a:lnTo>
                    <a:lnTo>
                      <a:pt x="640" y="154"/>
                    </a:lnTo>
                    <a:lnTo>
                      <a:pt x="635" y="156"/>
                    </a:lnTo>
                    <a:lnTo>
                      <a:pt x="627" y="162"/>
                    </a:lnTo>
                    <a:lnTo>
                      <a:pt x="622" y="164"/>
                    </a:lnTo>
                    <a:lnTo>
                      <a:pt x="617" y="167"/>
                    </a:lnTo>
                    <a:lnTo>
                      <a:pt x="610" y="172"/>
                    </a:lnTo>
                    <a:lnTo>
                      <a:pt x="604" y="174"/>
                    </a:lnTo>
                    <a:lnTo>
                      <a:pt x="597" y="177"/>
                    </a:lnTo>
                    <a:lnTo>
                      <a:pt x="594" y="177"/>
                    </a:lnTo>
                    <a:lnTo>
                      <a:pt x="589" y="177"/>
                    </a:lnTo>
                    <a:lnTo>
                      <a:pt x="587" y="179"/>
                    </a:lnTo>
                    <a:lnTo>
                      <a:pt x="581" y="179"/>
                    </a:lnTo>
                    <a:lnTo>
                      <a:pt x="576" y="179"/>
                    </a:lnTo>
                    <a:lnTo>
                      <a:pt x="571" y="179"/>
                    </a:lnTo>
                    <a:lnTo>
                      <a:pt x="566" y="179"/>
                    </a:lnTo>
                    <a:lnTo>
                      <a:pt x="561" y="179"/>
                    </a:lnTo>
                    <a:lnTo>
                      <a:pt x="556" y="179"/>
                    </a:lnTo>
                    <a:lnTo>
                      <a:pt x="548" y="179"/>
                    </a:lnTo>
                    <a:lnTo>
                      <a:pt x="543" y="177"/>
                    </a:lnTo>
                    <a:lnTo>
                      <a:pt x="535" y="177"/>
                    </a:lnTo>
                    <a:lnTo>
                      <a:pt x="530" y="177"/>
                    </a:lnTo>
                    <a:lnTo>
                      <a:pt x="523" y="174"/>
                    </a:lnTo>
                    <a:lnTo>
                      <a:pt x="515" y="174"/>
                    </a:lnTo>
                    <a:lnTo>
                      <a:pt x="510" y="174"/>
                    </a:lnTo>
                    <a:lnTo>
                      <a:pt x="502" y="174"/>
                    </a:lnTo>
                    <a:lnTo>
                      <a:pt x="494" y="172"/>
                    </a:lnTo>
                    <a:lnTo>
                      <a:pt x="489" y="172"/>
                    </a:lnTo>
                    <a:lnTo>
                      <a:pt x="482" y="169"/>
                    </a:lnTo>
                    <a:lnTo>
                      <a:pt x="474" y="169"/>
                    </a:lnTo>
                    <a:lnTo>
                      <a:pt x="466" y="167"/>
                    </a:lnTo>
                    <a:lnTo>
                      <a:pt x="458" y="167"/>
                    </a:lnTo>
                    <a:lnTo>
                      <a:pt x="453" y="167"/>
                    </a:lnTo>
                    <a:lnTo>
                      <a:pt x="446" y="164"/>
                    </a:lnTo>
                    <a:lnTo>
                      <a:pt x="438" y="164"/>
                    </a:lnTo>
                    <a:lnTo>
                      <a:pt x="433" y="164"/>
                    </a:lnTo>
                    <a:lnTo>
                      <a:pt x="425" y="162"/>
                    </a:lnTo>
                    <a:lnTo>
                      <a:pt x="420" y="162"/>
                    </a:lnTo>
                    <a:lnTo>
                      <a:pt x="412" y="159"/>
                    </a:lnTo>
                    <a:lnTo>
                      <a:pt x="407" y="159"/>
                    </a:lnTo>
                    <a:lnTo>
                      <a:pt x="400" y="159"/>
                    </a:lnTo>
                    <a:lnTo>
                      <a:pt x="405" y="164"/>
                    </a:lnTo>
                    <a:lnTo>
                      <a:pt x="410" y="167"/>
                    </a:lnTo>
                    <a:lnTo>
                      <a:pt x="415" y="172"/>
                    </a:lnTo>
                    <a:lnTo>
                      <a:pt x="418" y="177"/>
                    </a:lnTo>
                    <a:lnTo>
                      <a:pt x="423" y="179"/>
                    </a:lnTo>
                    <a:lnTo>
                      <a:pt x="428" y="185"/>
                    </a:lnTo>
                    <a:lnTo>
                      <a:pt x="433" y="190"/>
                    </a:lnTo>
                    <a:lnTo>
                      <a:pt x="435" y="192"/>
                    </a:lnTo>
                    <a:lnTo>
                      <a:pt x="441" y="197"/>
                    </a:lnTo>
                    <a:lnTo>
                      <a:pt x="446" y="202"/>
                    </a:lnTo>
                    <a:lnTo>
                      <a:pt x="451" y="205"/>
                    </a:lnTo>
                    <a:lnTo>
                      <a:pt x="453" y="210"/>
                    </a:lnTo>
                    <a:lnTo>
                      <a:pt x="458" y="215"/>
                    </a:lnTo>
                    <a:lnTo>
                      <a:pt x="464" y="218"/>
                    </a:lnTo>
                    <a:lnTo>
                      <a:pt x="469" y="223"/>
                    </a:lnTo>
                    <a:lnTo>
                      <a:pt x="471" y="228"/>
                    </a:lnTo>
                    <a:lnTo>
                      <a:pt x="464" y="223"/>
                    </a:lnTo>
                    <a:lnTo>
                      <a:pt x="456" y="220"/>
                    </a:lnTo>
                    <a:lnTo>
                      <a:pt x="448" y="220"/>
                    </a:lnTo>
                    <a:lnTo>
                      <a:pt x="441" y="218"/>
                    </a:lnTo>
                    <a:lnTo>
                      <a:pt x="433" y="215"/>
                    </a:lnTo>
                    <a:lnTo>
                      <a:pt x="425" y="213"/>
                    </a:lnTo>
                    <a:lnTo>
                      <a:pt x="418" y="213"/>
                    </a:lnTo>
                    <a:lnTo>
                      <a:pt x="410" y="210"/>
                    </a:lnTo>
                    <a:lnTo>
                      <a:pt x="402" y="210"/>
                    </a:lnTo>
                    <a:lnTo>
                      <a:pt x="394" y="210"/>
                    </a:lnTo>
                    <a:lnTo>
                      <a:pt x="389" y="210"/>
                    </a:lnTo>
                    <a:lnTo>
                      <a:pt x="382" y="210"/>
                    </a:lnTo>
                    <a:lnTo>
                      <a:pt x="374" y="210"/>
                    </a:lnTo>
                    <a:lnTo>
                      <a:pt x="366" y="210"/>
                    </a:lnTo>
                    <a:lnTo>
                      <a:pt x="359" y="210"/>
                    </a:lnTo>
                    <a:lnTo>
                      <a:pt x="354" y="210"/>
                    </a:lnTo>
                    <a:lnTo>
                      <a:pt x="346" y="213"/>
                    </a:lnTo>
                    <a:lnTo>
                      <a:pt x="338" y="213"/>
                    </a:lnTo>
                    <a:lnTo>
                      <a:pt x="333" y="215"/>
                    </a:lnTo>
                    <a:lnTo>
                      <a:pt x="325" y="215"/>
                    </a:lnTo>
                    <a:lnTo>
                      <a:pt x="318" y="218"/>
                    </a:lnTo>
                    <a:lnTo>
                      <a:pt x="313" y="220"/>
                    </a:lnTo>
                    <a:lnTo>
                      <a:pt x="305" y="220"/>
                    </a:lnTo>
                    <a:lnTo>
                      <a:pt x="300" y="223"/>
                    </a:lnTo>
                    <a:lnTo>
                      <a:pt x="292" y="226"/>
                    </a:lnTo>
                    <a:lnTo>
                      <a:pt x="287" y="228"/>
                    </a:lnTo>
                    <a:lnTo>
                      <a:pt x="279" y="228"/>
                    </a:lnTo>
                    <a:lnTo>
                      <a:pt x="274" y="231"/>
                    </a:lnTo>
                    <a:lnTo>
                      <a:pt x="266" y="233"/>
                    </a:lnTo>
                    <a:lnTo>
                      <a:pt x="261" y="236"/>
                    </a:lnTo>
                    <a:lnTo>
                      <a:pt x="254" y="238"/>
                    </a:lnTo>
                    <a:lnTo>
                      <a:pt x="249" y="241"/>
                    </a:lnTo>
                    <a:lnTo>
                      <a:pt x="251" y="243"/>
                    </a:lnTo>
                    <a:lnTo>
                      <a:pt x="254" y="243"/>
                    </a:lnTo>
                    <a:lnTo>
                      <a:pt x="256" y="243"/>
                    </a:lnTo>
                    <a:lnTo>
                      <a:pt x="259" y="243"/>
                    </a:lnTo>
                    <a:lnTo>
                      <a:pt x="261" y="246"/>
                    </a:lnTo>
                    <a:lnTo>
                      <a:pt x="264" y="246"/>
                    </a:lnTo>
                    <a:lnTo>
                      <a:pt x="266" y="246"/>
                    </a:lnTo>
                    <a:lnTo>
                      <a:pt x="269" y="246"/>
                    </a:lnTo>
                    <a:lnTo>
                      <a:pt x="272" y="249"/>
                    </a:lnTo>
                    <a:lnTo>
                      <a:pt x="274" y="249"/>
                    </a:lnTo>
                    <a:lnTo>
                      <a:pt x="277" y="249"/>
                    </a:lnTo>
                    <a:lnTo>
                      <a:pt x="279" y="251"/>
                    </a:lnTo>
                    <a:lnTo>
                      <a:pt x="282" y="251"/>
                    </a:lnTo>
                    <a:lnTo>
                      <a:pt x="284" y="251"/>
                    </a:lnTo>
                    <a:lnTo>
                      <a:pt x="287" y="254"/>
                    </a:lnTo>
                    <a:lnTo>
                      <a:pt x="289" y="254"/>
                    </a:lnTo>
                    <a:lnTo>
                      <a:pt x="292" y="254"/>
                    </a:lnTo>
                    <a:lnTo>
                      <a:pt x="295" y="256"/>
                    </a:lnTo>
                    <a:lnTo>
                      <a:pt x="297" y="256"/>
                    </a:lnTo>
                    <a:lnTo>
                      <a:pt x="300" y="259"/>
                    </a:lnTo>
                    <a:lnTo>
                      <a:pt x="302" y="259"/>
                    </a:lnTo>
                    <a:lnTo>
                      <a:pt x="305" y="261"/>
                    </a:lnTo>
                    <a:lnTo>
                      <a:pt x="307" y="261"/>
                    </a:lnTo>
                    <a:lnTo>
                      <a:pt x="310" y="264"/>
                    </a:lnTo>
                    <a:lnTo>
                      <a:pt x="313" y="266"/>
                    </a:lnTo>
                    <a:lnTo>
                      <a:pt x="315" y="266"/>
                    </a:lnTo>
                    <a:lnTo>
                      <a:pt x="315" y="269"/>
                    </a:lnTo>
                    <a:lnTo>
                      <a:pt x="318" y="272"/>
                    </a:lnTo>
                    <a:lnTo>
                      <a:pt x="320" y="272"/>
                    </a:lnTo>
                    <a:lnTo>
                      <a:pt x="323" y="274"/>
                    </a:lnTo>
                    <a:lnTo>
                      <a:pt x="325" y="277"/>
                    </a:lnTo>
                    <a:lnTo>
                      <a:pt x="328" y="279"/>
                    </a:lnTo>
                    <a:lnTo>
                      <a:pt x="323" y="279"/>
                    </a:lnTo>
                    <a:lnTo>
                      <a:pt x="318" y="279"/>
                    </a:lnTo>
                    <a:lnTo>
                      <a:pt x="315" y="279"/>
                    </a:lnTo>
                    <a:lnTo>
                      <a:pt x="310" y="279"/>
                    </a:lnTo>
                    <a:lnTo>
                      <a:pt x="305" y="279"/>
                    </a:lnTo>
                    <a:lnTo>
                      <a:pt x="300" y="279"/>
                    </a:lnTo>
                    <a:lnTo>
                      <a:pt x="297" y="279"/>
                    </a:lnTo>
                    <a:lnTo>
                      <a:pt x="292" y="279"/>
                    </a:lnTo>
                    <a:lnTo>
                      <a:pt x="287" y="282"/>
                    </a:lnTo>
                    <a:lnTo>
                      <a:pt x="284" y="282"/>
                    </a:lnTo>
                    <a:lnTo>
                      <a:pt x="279" y="282"/>
                    </a:lnTo>
                    <a:lnTo>
                      <a:pt x="274" y="282"/>
                    </a:lnTo>
                    <a:lnTo>
                      <a:pt x="269" y="282"/>
                    </a:lnTo>
                    <a:lnTo>
                      <a:pt x="266" y="282"/>
                    </a:lnTo>
                    <a:lnTo>
                      <a:pt x="261" y="282"/>
                    </a:lnTo>
                    <a:lnTo>
                      <a:pt x="256" y="284"/>
                    </a:lnTo>
                    <a:lnTo>
                      <a:pt x="251" y="284"/>
                    </a:lnTo>
                    <a:lnTo>
                      <a:pt x="249" y="284"/>
                    </a:lnTo>
                    <a:lnTo>
                      <a:pt x="243" y="284"/>
                    </a:lnTo>
                    <a:lnTo>
                      <a:pt x="238" y="284"/>
                    </a:lnTo>
                    <a:lnTo>
                      <a:pt x="236" y="287"/>
                    </a:lnTo>
                    <a:lnTo>
                      <a:pt x="231" y="287"/>
                    </a:lnTo>
                    <a:lnTo>
                      <a:pt x="225" y="287"/>
                    </a:lnTo>
                    <a:lnTo>
                      <a:pt x="220" y="287"/>
                    </a:lnTo>
                    <a:lnTo>
                      <a:pt x="215" y="289"/>
                    </a:lnTo>
                    <a:lnTo>
                      <a:pt x="210" y="289"/>
                    </a:lnTo>
                    <a:lnTo>
                      <a:pt x="208" y="289"/>
                    </a:lnTo>
                    <a:lnTo>
                      <a:pt x="202" y="289"/>
                    </a:lnTo>
                    <a:lnTo>
                      <a:pt x="197" y="292"/>
                    </a:lnTo>
                    <a:lnTo>
                      <a:pt x="192" y="292"/>
                    </a:lnTo>
                    <a:lnTo>
                      <a:pt x="187" y="292"/>
                    </a:lnTo>
                    <a:lnTo>
                      <a:pt x="182" y="292"/>
                    </a:lnTo>
                    <a:lnTo>
                      <a:pt x="187" y="297"/>
                    </a:lnTo>
                    <a:lnTo>
                      <a:pt x="190" y="300"/>
                    </a:lnTo>
                    <a:lnTo>
                      <a:pt x="195" y="302"/>
                    </a:lnTo>
                    <a:lnTo>
                      <a:pt x="197" y="305"/>
                    </a:lnTo>
                    <a:lnTo>
                      <a:pt x="202" y="307"/>
                    </a:lnTo>
                    <a:lnTo>
                      <a:pt x="208" y="313"/>
                    </a:lnTo>
                    <a:lnTo>
                      <a:pt x="210" y="315"/>
                    </a:lnTo>
                    <a:lnTo>
                      <a:pt x="215" y="318"/>
                    </a:lnTo>
                    <a:lnTo>
                      <a:pt x="220" y="320"/>
                    </a:lnTo>
                    <a:lnTo>
                      <a:pt x="223" y="323"/>
                    </a:lnTo>
                    <a:lnTo>
                      <a:pt x="228" y="328"/>
                    </a:lnTo>
                    <a:lnTo>
                      <a:pt x="233" y="330"/>
                    </a:lnTo>
                    <a:lnTo>
                      <a:pt x="236" y="333"/>
                    </a:lnTo>
                    <a:lnTo>
                      <a:pt x="241" y="336"/>
                    </a:lnTo>
                    <a:lnTo>
                      <a:pt x="246" y="338"/>
                    </a:lnTo>
                    <a:lnTo>
                      <a:pt x="249" y="341"/>
                    </a:lnTo>
                    <a:lnTo>
                      <a:pt x="254" y="346"/>
                    </a:lnTo>
                    <a:lnTo>
                      <a:pt x="259" y="348"/>
                    </a:lnTo>
                    <a:lnTo>
                      <a:pt x="261" y="351"/>
                    </a:lnTo>
                    <a:lnTo>
                      <a:pt x="266" y="353"/>
                    </a:lnTo>
                    <a:lnTo>
                      <a:pt x="269" y="359"/>
                    </a:lnTo>
                    <a:lnTo>
                      <a:pt x="274" y="361"/>
                    </a:lnTo>
                    <a:lnTo>
                      <a:pt x="277" y="364"/>
                    </a:lnTo>
                    <a:lnTo>
                      <a:pt x="282" y="369"/>
                    </a:lnTo>
                    <a:lnTo>
                      <a:pt x="284" y="371"/>
                    </a:lnTo>
                    <a:lnTo>
                      <a:pt x="287" y="374"/>
                    </a:lnTo>
                    <a:lnTo>
                      <a:pt x="289" y="379"/>
                    </a:lnTo>
                    <a:lnTo>
                      <a:pt x="295" y="384"/>
                    </a:lnTo>
                    <a:lnTo>
                      <a:pt x="297" y="387"/>
                    </a:lnTo>
                    <a:lnTo>
                      <a:pt x="300" y="392"/>
                    </a:lnTo>
                    <a:lnTo>
                      <a:pt x="302" y="394"/>
                    </a:lnTo>
                    <a:lnTo>
                      <a:pt x="302" y="400"/>
                    </a:lnTo>
                    <a:lnTo>
                      <a:pt x="307" y="410"/>
                    </a:lnTo>
                    <a:lnTo>
                      <a:pt x="313" y="423"/>
                    </a:lnTo>
                    <a:lnTo>
                      <a:pt x="315" y="433"/>
                    </a:lnTo>
                    <a:lnTo>
                      <a:pt x="315" y="446"/>
                    </a:lnTo>
                    <a:lnTo>
                      <a:pt x="318" y="456"/>
                    </a:lnTo>
                    <a:lnTo>
                      <a:pt x="318" y="469"/>
                    </a:lnTo>
                    <a:lnTo>
                      <a:pt x="318" y="481"/>
                    </a:lnTo>
                    <a:lnTo>
                      <a:pt x="318" y="492"/>
                    </a:lnTo>
                    <a:lnTo>
                      <a:pt x="318" y="504"/>
                    </a:lnTo>
                    <a:lnTo>
                      <a:pt x="318" y="517"/>
                    </a:lnTo>
                    <a:lnTo>
                      <a:pt x="318" y="530"/>
                    </a:lnTo>
                    <a:lnTo>
                      <a:pt x="318" y="540"/>
                    </a:lnTo>
                    <a:lnTo>
                      <a:pt x="318" y="553"/>
                    </a:lnTo>
                    <a:lnTo>
                      <a:pt x="318" y="566"/>
                    </a:lnTo>
                    <a:lnTo>
                      <a:pt x="320" y="579"/>
                    </a:lnTo>
                    <a:lnTo>
                      <a:pt x="320" y="589"/>
                    </a:lnTo>
                    <a:lnTo>
                      <a:pt x="320" y="591"/>
                    </a:lnTo>
                    <a:lnTo>
                      <a:pt x="323" y="597"/>
                    </a:lnTo>
                    <a:lnTo>
                      <a:pt x="323" y="599"/>
                    </a:lnTo>
                    <a:lnTo>
                      <a:pt x="325" y="602"/>
                    </a:lnTo>
                    <a:lnTo>
                      <a:pt x="325" y="604"/>
                    </a:lnTo>
                    <a:lnTo>
                      <a:pt x="328" y="607"/>
                    </a:lnTo>
                    <a:lnTo>
                      <a:pt x="328" y="607"/>
                    </a:lnTo>
                    <a:lnTo>
                      <a:pt x="330" y="609"/>
                    </a:lnTo>
                    <a:lnTo>
                      <a:pt x="333" y="612"/>
                    </a:lnTo>
                    <a:lnTo>
                      <a:pt x="336" y="614"/>
                    </a:lnTo>
                    <a:lnTo>
                      <a:pt x="336" y="617"/>
                    </a:lnTo>
                    <a:lnTo>
                      <a:pt x="338" y="617"/>
                    </a:lnTo>
                    <a:lnTo>
                      <a:pt x="341" y="620"/>
                    </a:lnTo>
                    <a:lnTo>
                      <a:pt x="343" y="622"/>
                    </a:lnTo>
                    <a:lnTo>
                      <a:pt x="346" y="622"/>
                    </a:lnTo>
                    <a:lnTo>
                      <a:pt x="348" y="625"/>
                    </a:lnTo>
                    <a:lnTo>
                      <a:pt x="343" y="627"/>
                    </a:lnTo>
                    <a:lnTo>
                      <a:pt x="338" y="630"/>
                    </a:lnTo>
                    <a:lnTo>
                      <a:pt x="333" y="632"/>
                    </a:lnTo>
                    <a:lnTo>
                      <a:pt x="328" y="637"/>
                    </a:lnTo>
                    <a:lnTo>
                      <a:pt x="325" y="640"/>
                    </a:lnTo>
                    <a:lnTo>
                      <a:pt x="320" y="645"/>
                    </a:lnTo>
                    <a:lnTo>
                      <a:pt x="318" y="648"/>
                    </a:lnTo>
                    <a:lnTo>
                      <a:pt x="315" y="653"/>
                    </a:lnTo>
                    <a:lnTo>
                      <a:pt x="310" y="658"/>
                    </a:lnTo>
                    <a:lnTo>
                      <a:pt x="307" y="663"/>
                    </a:lnTo>
                    <a:lnTo>
                      <a:pt x="305" y="668"/>
                    </a:lnTo>
                    <a:lnTo>
                      <a:pt x="305" y="673"/>
                    </a:lnTo>
                    <a:lnTo>
                      <a:pt x="302" y="678"/>
                    </a:lnTo>
                    <a:lnTo>
                      <a:pt x="302" y="684"/>
                    </a:lnTo>
                    <a:lnTo>
                      <a:pt x="300" y="689"/>
                    </a:lnTo>
                    <a:lnTo>
                      <a:pt x="300" y="694"/>
                    </a:lnTo>
                    <a:lnTo>
                      <a:pt x="300" y="699"/>
                    </a:lnTo>
                    <a:lnTo>
                      <a:pt x="300" y="704"/>
                    </a:lnTo>
                    <a:lnTo>
                      <a:pt x="300" y="712"/>
                    </a:lnTo>
                    <a:lnTo>
                      <a:pt x="300" y="717"/>
                    </a:lnTo>
                    <a:lnTo>
                      <a:pt x="302" y="722"/>
                    </a:lnTo>
                    <a:lnTo>
                      <a:pt x="302" y="730"/>
                    </a:lnTo>
                    <a:lnTo>
                      <a:pt x="305" y="735"/>
                    </a:lnTo>
                    <a:lnTo>
                      <a:pt x="305" y="740"/>
                    </a:lnTo>
                    <a:lnTo>
                      <a:pt x="307" y="748"/>
                    </a:lnTo>
                    <a:lnTo>
                      <a:pt x="310" y="753"/>
                    </a:lnTo>
                    <a:lnTo>
                      <a:pt x="313" y="760"/>
                    </a:lnTo>
                    <a:lnTo>
                      <a:pt x="315" y="765"/>
                    </a:lnTo>
                    <a:lnTo>
                      <a:pt x="320" y="773"/>
                    </a:lnTo>
                    <a:lnTo>
                      <a:pt x="323" y="778"/>
                    </a:lnTo>
                    <a:lnTo>
                      <a:pt x="328" y="786"/>
                    </a:lnTo>
                    <a:lnTo>
                      <a:pt x="330" y="794"/>
                    </a:lnTo>
                    <a:lnTo>
                      <a:pt x="328" y="794"/>
                    </a:lnTo>
                    <a:lnTo>
                      <a:pt x="328" y="796"/>
                    </a:lnTo>
                    <a:lnTo>
                      <a:pt x="325" y="796"/>
                    </a:lnTo>
                    <a:lnTo>
                      <a:pt x="323" y="799"/>
                    </a:lnTo>
                    <a:lnTo>
                      <a:pt x="320" y="799"/>
                    </a:lnTo>
                    <a:lnTo>
                      <a:pt x="318" y="801"/>
                    </a:lnTo>
                    <a:lnTo>
                      <a:pt x="315" y="801"/>
                    </a:lnTo>
                    <a:lnTo>
                      <a:pt x="315" y="804"/>
                    </a:lnTo>
                    <a:lnTo>
                      <a:pt x="313" y="804"/>
                    </a:lnTo>
                    <a:lnTo>
                      <a:pt x="310" y="806"/>
                    </a:lnTo>
                    <a:lnTo>
                      <a:pt x="307" y="806"/>
                    </a:lnTo>
                    <a:lnTo>
                      <a:pt x="305" y="809"/>
                    </a:lnTo>
                    <a:lnTo>
                      <a:pt x="302" y="809"/>
                    </a:lnTo>
                    <a:lnTo>
                      <a:pt x="300" y="811"/>
                    </a:lnTo>
                    <a:lnTo>
                      <a:pt x="300" y="811"/>
                    </a:lnTo>
                    <a:lnTo>
                      <a:pt x="297" y="814"/>
                    </a:lnTo>
                    <a:lnTo>
                      <a:pt x="295" y="801"/>
                    </a:lnTo>
                    <a:lnTo>
                      <a:pt x="295" y="786"/>
                    </a:lnTo>
                    <a:lnTo>
                      <a:pt x="292" y="773"/>
                    </a:lnTo>
                    <a:lnTo>
                      <a:pt x="292" y="760"/>
                    </a:lnTo>
                    <a:lnTo>
                      <a:pt x="289" y="745"/>
                    </a:lnTo>
                    <a:lnTo>
                      <a:pt x="289" y="732"/>
                    </a:lnTo>
                    <a:lnTo>
                      <a:pt x="287" y="719"/>
                    </a:lnTo>
                    <a:lnTo>
                      <a:pt x="282" y="707"/>
                    </a:lnTo>
                    <a:lnTo>
                      <a:pt x="282" y="701"/>
                    </a:lnTo>
                    <a:lnTo>
                      <a:pt x="279" y="696"/>
                    </a:lnTo>
                    <a:lnTo>
                      <a:pt x="277" y="689"/>
                    </a:lnTo>
                    <a:lnTo>
                      <a:pt x="277" y="684"/>
                    </a:lnTo>
                    <a:lnTo>
                      <a:pt x="274" y="678"/>
                    </a:lnTo>
                    <a:lnTo>
                      <a:pt x="272" y="673"/>
                    </a:lnTo>
                    <a:lnTo>
                      <a:pt x="269" y="668"/>
                    </a:lnTo>
                    <a:lnTo>
                      <a:pt x="266" y="661"/>
                    </a:lnTo>
                    <a:lnTo>
                      <a:pt x="264" y="655"/>
                    </a:lnTo>
                    <a:lnTo>
                      <a:pt x="261" y="650"/>
                    </a:lnTo>
                    <a:lnTo>
                      <a:pt x="259" y="645"/>
                    </a:lnTo>
                    <a:lnTo>
                      <a:pt x="256" y="640"/>
                    </a:lnTo>
                    <a:lnTo>
                      <a:pt x="251" y="635"/>
                    </a:lnTo>
                    <a:lnTo>
                      <a:pt x="249" y="630"/>
                    </a:lnTo>
                    <a:lnTo>
                      <a:pt x="246" y="625"/>
                    </a:lnTo>
                    <a:lnTo>
                      <a:pt x="241" y="620"/>
                    </a:lnTo>
                    <a:lnTo>
                      <a:pt x="238" y="614"/>
                    </a:lnTo>
                    <a:lnTo>
                      <a:pt x="233" y="609"/>
                    </a:lnTo>
                    <a:lnTo>
                      <a:pt x="228" y="604"/>
                    </a:lnTo>
                    <a:lnTo>
                      <a:pt x="223" y="599"/>
                    </a:lnTo>
                    <a:lnTo>
                      <a:pt x="215" y="591"/>
                    </a:lnTo>
                    <a:lnTo>
                      <a:pt x="210" y="586"/>
                    </a:lnTo>
                    <a:lnTo>
                      <a:pt x="205" y="581"/>
                    </a:lnTo>
                    <a:lnTo>
                      <a:pt x="200" y="579"/>
                    </a:lnTo>
                    <a:lnTo>
                      <a:pt x="192" y="574"/>
                    </a:lnTo>
                    <a:lnTo>
                      <a:pt x="187" y="568"/>
                    </a:lnTo>
                    <a:lnTo>
                      <a:pt x="182" y="563"/>
                    </a:lnTo>
                    <a:lnTo>
                      <a:pt x="177" y="558"/>
                    </a:lnTo>
                    <a:lnTo>
                      <a:pt x="169" y="553"/>
                    </a:lnTo>
                    <a:lnTo>
                      <a:pt x="164" y="548"/>
                    </a:lnTo>
                    <a:lnTo>
                      <a:pt x="156" y="543"/>
                    </a:lnTo>
                    <a:lnTo>
                      <a:pt x="151" y="538"/>
                    </a:lnTo>
                    <a:lnTo>
                      <a:pt x="146" y="533"/>
                    </a:lnTo>
                    <a:lnTo>
                      <a:pt x="141" y="527"/>
                    </a:lnTo>
                    <a:lnTo>
                      <a:pt x="136" y="522"/>
                    </a:lnTo>
                    <a:lnTo>
                      <a:pt x="131" y="517"/>
                    </a:lnTo>
                    <a:lnTo>
                      <a:pt x="126" y="512"/>
                    </a:lnTo>
                    <a:lnTo>
                      <a:pt x="120" y="507"/>
                    </a:lnTo>
                    <a:lnTo>
                      <a:pt x="115" y="502"/>
                    </a:lnTo>
                    <a:lnTo>
                      <a:pt x="110" y="497"/>
                    </a:lnTo>
                    <a:lnTo>
                      <a:pt x="108" y="489"/>
                    </a:lnTo>
                    <a:lnTo>
                      <a:pt x="103" y="484"/>
                    </a:lnTo>
                    <a:lnTo>
                      <a:pt x="100" y="479"/>
                    </a:lnTo>
                    <a:lnTo>
                      <a:pt x="97" y="471"/>
                    </a:lnTo>
                    <a:lnTo>
                      <a:pt x="95" y="466"/>
                    </a:lnTo>
                    <a:lnTo>
                      <a:pt x="92" y="458"/>
                    </a:lnTo>
                    <a:lnTo>
                      <a:pt x="92" y="451"/>
                    </a:lnTo>
                    <a:lnTo>
                      <a:pt x="90" y="446"/>
                    </a:lnTo>
                    <a:lnTo>
                      <a:pt x="90" y="435"/>
                    </a:lnTo>
                    <a:lnTo>
                      <a:pt x="90" y="425"/>
                    </a:lnTo>
                    <a:lnTo>
                      <a:pt x="90" y="415"/>
                    </a:lnTo>
                    <a:lnTo>
                      <a:pt x="92" y="407"/>
                    </a:lnTo>
                    <a:lnTo>
                      <a:pt x="95" y="400"/>
                    </a:lnTo>
                    <a:lnTo>
                      <a:pt x="97" y="389"/>
                    </a:lnTo>
                    <a:lnTo>
                      <a:pt x="103" y="382"/>
                    </a:lnTo>
                    <a:lnTo>
                      <a:pt x="105" y="374"/>
                    </a:lnTo>
                    <a:lnTo>
                      <a:pt x="110" y="366"/>
                    </a:lnTo>
                    <a:lnTo>
                      <a:pt x="115" y="359"/>
                    </a:lnTo>
                    <a:lnTo>
                      <a:pt x="120" y="353"/>
                    </a:lnTo>
                    <a:lnTo>
                      <a:pt x="123" y="346"/>
                    </a:lnTo>
                    <a:lnTo>
                      <a:pt x="128" y="338"/>
                    </a:lnTo>
                    <a:lnTo>
                      <a:pt x="133" y="330"/>
                    </a:lnTo>
                    <a:lnTo>
                      <a:pt x="138" y="323"/>
                    </a:lnTo>
                    <a:lnTo>
                      <a:pt x="141" y="313"/>
                    </a:lnTo>
                    <a:lnTo>
                      <a:pt x="138" y="315"/>
                    </a:lnTo>
                    <a:lnTo>
                      <a:pt x="138" y="315"/>
                    </a:lnTo>
                    <a:lnTo>
                      <a:pt x="136" y="318"/>
                    </a:lnTo>
                    <a:lnTo>
                      <a:pt x="133" y="318"/>
                    </a:lnTo>
                    <a:lnTo>
                      <a:pt x="131" y="318"/>
                    </a:lnTo>
                    <a:lnTo>
                      <a:pt x="128" y="320"/>
                    </a:lnTo>
                    <a:lnTo>
                      <a:pt x="126" y="320"/>
                    </a:lnTo>
                    <a:lnTo>
                      <a:pt x="123" y="323"/>
                    </a:lnTo>
                    <a:lnTo>
                      <a:pt x="123" y="323"/>
                    </a:lnTo>
                    <a:lnTo>
                      <a:pt x="120" y="325"/>
                    </a:lnTo>
                    <a:lnTo>
                      <a:pt x="118" y="325"/>
                    </a:lnTo>
                    <a:lnTo>
                      <a:pt x="115" y="325"/>
                    </a:lnTo>
                    <a:lnTo>
                      <a:pt x="113" y="328"/>
                    </a:lnTo>
                    <a:lnTo>
                      <a:pt x="110" y="328"/>
                    </a:lnTo>
                    <a:lnTo>
                      <a:pt x="110" y="330"/>
                    </a:lnTo>
                    <a:lnTo>
                      <a:pt x="108" y="330"/>
                    </a:lnTo>
                    <a:lnTo>
                      <a:pt x="110" y="328"/>
                    </a:lnTo>
                    <a:lnTo>
                      <a:pt x="110" y="325"/>
                    </a:lnTo>
                    <a:lnTo>
                      <a:pt x="113" y="323"/>
                    </a:lnTo>
                    <a:lnTo>
                      <a:pt x="115" y="320"/>
                    </a:lnTo>
                    <a:lnTo>
                      <a:pt x="118" y="318"/>
                    </a:lnTo>
                    <a:lnTo>
                      <a:pt x="118" y="318"/>
                    </a:lnTo>
                    <a:lnTo>
                      <a:pt x="120" y="315"/>
                    </a:lnTo>
                    <a:lnTo>
                      <a:pt x="123" y="313"/>
                    </a:lnTo>
                    <a:lnTo>
                      <a:pt x="126" y="310"/>
                    </a:lnTo>
                    <a:lnTo>
                      <a:pt x="126" y="307"/>
                    </a:lnTo>
                    <a:lnTo>
                      <a:pt x="128" y="305"/>
                    </a:lnTo>
                    <a:lnTo>
                      <a:pt x="131" y="302"/>
                    </a:lnTo>
                    <a:lnTo>
                      <a:pt x="133" y="300"/>
                    </a:lnTo>
                    <a:lnTo>
                      <a:pt x="133" y="297"/>
                    </a:lnTo>
                    <a:lnTo>
                      <a:pt x="136" y="295"/>
                    </a:lnTo>
                    <a:lnTo>
                      <a:pt x="138" y="292"/>
                    </a:lnTo>
                    <a:lnTo>
                      <a:pt x="136" y="289"/>
                    </a:lnTo>
                    <a:lnTo>
                      <a:pt x="133" y="287"/>
                    </a:lnTo>
                    <a:lnTo>
                      <a:pt x="131" y="284"/>
                    </a:lnTo>
                    <a:lnTo>
                      <a:pt x="128" y="282"/>
                    </a:lnTo>
                    <a:lnTo>
                      <a:pt x="123" y="279"/>
                    </a:lnTo>
                    <a:lnTo>
                      <a:pt x="120" y="277"/>
                    </a:lnTo>
                    <a:lnTo>
                      <a:pt x="118" y="277"/>
                    </a:lnTo>
                    <a:lnTo>
                      <a:pt x="113" y="274"/>
                    </a:lnTo>
                    <a:lnTo>
                      <a:pt x="110" y="272"/>
                    </a:lnTo>
                    <a:lnTo>
                      <a:pt x="105" y="269"/>
                    </a:lnTo>
                    <a:lnTo>
                      <a:pt x="103" y="269"/>
                    </a:lnTo>
                    <a:lnTo>
                      <a:pt x="97" y="266"/>
                    </a:lnTo>
                    <a:lnTo>
                      <a:pt x="95" y="264"/>
                    </a:lnTo>
                    <a:lnTo>
                      <a:pt x="90" y="264"/>
                    </a:lnTo>
                    <a:lnTo>
                      <a:pt x="85" y="264"/>
                    </a:lnTo>
                    <a:lnTo>
                      <a:pt x="82" y="261"/>
                    </a:lnTo>
                    <a:lnTo>
                      <a:pt x="77" y="261"/>
                    </a:lnTo>
                    <a:lnTo>
                      <a:pt x="72" y="259"/>
                    </a:lnTo>
                    <a:lnTo>
                      <a:pt x="67" y="259"/>
                    </a:lnTo>
                    <a:lnTo>
                      <a:pt x="62" y="259"/>
                    </a:lnTo>
                    <a:lnTo>
                      <a:pt x="59" y="259"/>
                    </a:lnTo>
                    <a:lnTo>
                      <a:pt x="51" y="256"/>
                    </a:lnTo>
                    <a:lnTo>
                      <a:pt x="49" y="256"/>
                    </a:lnTo>
                    <a:lnTo>
                      <a:pt x="44" y="256"/>
                    </a:lnTo>
                    <a:lnTo>
                      <a:pt x="39" y="256"/>
                    </a:lnTo>
                    <a:lnTo>
                      <a:pt x="33" y="256"/>
                    </a:lnTo>
                    <a:lnTo>
                      <a:pt x="28" y="256"/>
                    </a:lnTo>
                    <a:lnTo>
                      <a:pt x="23" y="256"/>
                    </a:lnTo>
                    <a:lnTo>
                      <a:pt x="18" y="256"/>
                    </a:lnTo>
                    <a:lnTo>
                      <a:pt x="10" y="256"/>
                    </a:lnTo>
                    <a:lnTo>
                      <a:pt x="5" y="259"/>
                    </a:lnTo>
                    <a:lnTo>
                      <a:pt x="0" y="259"/>
                    </a:lnTo>
                    <a:lnTo>
                      <a:pt x="5" y="256"/>
                    </a:lnTo>
                    <a:lnTo>
                      <a:pt x="8" y="254"/>
                    </a:lnTo>
                    <a:lnTo>
                      <a:pt x="13" y="254"/>
                    </a:lnTo>
                    <a:lnTo>
                      <a:pt x="18" y="251"/>
                    </a:lnTo>
                    <a:lnTo>
                      <a:pt x="21" y="249"/>
                    </a:lnTo>
                    <a:lnTo>
                      <a:pt x="26" y="249"/>
                    </a:lnTo>
                    <a:lnTo>
                      <a:pt x="31" y="246"/>
                    </a:lnTo>
                    <a:lnTo>
                      <a:pt x="33" y="243"/>
                    </a:lnTo>
                    <a:lnTo>
                      <a:pt x="39" y="243"/>
                    </a:lnTo>
                    <a:lnTo>
                      <a:pt x="44" y="241"/>
                    </a:lnTo>
                    <a:lnTo>
                      <a:pt x="49" y="241"/>
                    </a:lnTo>
                    <a:lnTo>
                      <a:pt x="54" y="238"/>
                    </a:lnTo>
                    <a:lnTo>
                      <a:pt x="59" y="238"/>
                    </a:lnTo>
                    <a:lnTo>
                      <a:pt x="62" y="238"/>
                    </a:lnTo>
                    <a:lnTo>
                      <a:pt x="67" y="236"/>
                    </a:lnTo>
                    <a:lnTo>
                      <a:pt x="72" y="236"/>
                    </a:lnTo>
                    <a:lnTo>
                      <a:pt x="77" y="236"/>
                    </a:lnTo>
                    <a:lnTo>
                      <a:pt x="85" y="236"/>
                    </a:lnTo>
                    <a:lnTo>
                      <a:pt x="90" y="236"/>
                    </a:lnTo>
                    <a:lnTo>
                      <a:pt x="95" y="238"/>
                    </a:lnTo>
                    <a:lnTo>
                      <a:pt x="100" y="238"/>
                    </a:lnTo>
                    <a:lnTo>
                      <a:pt x="105" y="238"/>
                    </a:lnTo>
                    <a:lnTo>
                      <a:pt x="110" y="241"/>
                    </a:lnTo>
                    <a:lnTo>
                      <a:pt x="118" y="243"/>
                    </a:lnTo>
                    <a:lnTo>
                      <a:pt x="123" y="243"/>
                    </a:lnTo>
                    <a:lnTo>
                      <a:pt x="128" y="246"/>
                    </a:lnTo>
                    <a:lnTo>
                      <a:pt x="133" y="249"/>
                    </a:lnTo>
                    <a:lnTo>
                      <a:pt x="141" y="254"/>
                    </a:lnTo>
                    <a:lnTo>
                      <a:pt x="146" y="256"/>
                    </a:lnTo>
                    <a:lnTo>
                      <a:pt x="154" y="259"/>
                    </a:lnTo>
                    <a:lnTo>
                      <a:pt x="159" y="264"/>
                    </a:lnTo>
                    <a:lnTo>
                      <a:pt x="167" y="269"/>
                    </a:lnTo>
                    <a:lnTo>
                      <a:pt x="161" y="261"/>
                    </a:lnTo>
                    <a:lnTo>
                      <a:pt x="156" y="251"/>
                    </a:lnTo>
                    <a:lnTo>
                      <a:pt x="151" y="243"/>
                    </a:lnTo>
                    <a:lnTo>
                      <a:pt x="149" y="236"/>
                    </a:lnTo>
                    <a:lnTo>
                      <a:pt x="146" y="228"/>
                    </a:lnTo>
                    <a:lnTo>
                      <a:pt x="144" y="220"/>
                    </a:lnTo>
                    <a:lnTo>
                      <a:pt x="141" y="213"/>
                    </a:lnTo>
                    <a:lnTo>
                      <a:pt x="141" y="205"/>
                    </a:lnTo>
                    <a:lnTo>
                      <a:pt x="141" y="197"/>
                    </a:lnTo>
                    <a:lnTo>
                      <a:pt x="141" y="190"/>
                    </a:lnTo>
                    <a:lnTo>
                      <a:pt x="141" y="182"/>
                    </a:lnTo>
                    <a:lnTo>
                      <a:pt x="144" y="174"/>
                    </a:lnTo>
                    <a:lnTo>
                      <a:pt x="144" y="169"/>
                    </a:lnTo>
                    <a:lnTo>
                      <a:pt x="146" y="162"/>
                    </a:lnTo>
                    <a:lnTo>
                      <a:pt x="149" y="154"/>
                    </a:lnTo>
                    <a:lnTo>
                      <a:pt x="151" y="149"/>
                    </a:lnTo>
                    <a:lnTo>
                      <a:pt x="154" y="154"/>
                    </a:lnTo>
                    <a:lnTo>
                      <a:pt x="154" y="162"/>
                    </a:lnTo>
                    <a:lnTo>
                      <a:pt x="156" y="167"/>
                    </a:lnTo>
                    <a:lnTo>
                      <a:pt x="156" y="174"/>
                    </a:lnTo>
                    <a:lnTo>
                      <a:pt x="159" y="179"/>
                    </a:lnTo>
                    <a:lnTo>
                      <a:pt x="161" y="187"/>
                    </a:lnTo>
                    <a:lnTo>
                      <a:pt x="161" y="192"/>
                    </a:lnTo>
                    <a:lnTo>
                      <a:pt x="164" y="200"/>
                    </a:lnTo>
                    <a:lnTo>
                      <a:pt x="167" y="205"/>
                    </a:lnTo>
                    <a:lnTo>
                      <a:pt x="169" y="210"/>
                    </a:lnTo>
                    <a:lnTo>
                      <a:pt x="172" y="218"/>
                    </a:lnTo>
                    <a:lnTo>
                      <a:pt x="174" y="223"/>
                    </a:lnTo>
                    <a:lnTo>
                      <a:pt x="177" y="228"/>
                    </a:lnTo>
                    <a:lnTo>
                      <a:pt x="179" y="233"/>
                    </a:lnTo>
                    <a:lnTo>
                      <a:pt x="182" y="241"/>
                    </a:lnTo>
                    <a:lnTo>
                      <a:pt x="187" y="24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3" name=""/>
          <p:cNvSpPr/>
          <p:nvPr/>
        </p:nvSpPr>
        <p:spPr>
          <a:xfrm>
            <a:off x="2895480" y="1676520"/>
            <a:ext cx="2343240" cy="76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Karbonhidratlar </a:t>
            </a:r>
            <a:endParaRPr b="0" lang="en-US" sz="1800" spc="-1" strike="noStrike">
              <a:solidFill>
                <a:srgbClr val="ffffff"/>
              </a:solidFill>
              <a:latin typeface="Times New Roman"/>
            </a:endParaRPr>
          </a:p>
        </p:txBody>
      </p:sp>
      <p:sp>
        <p:nvSpPr>
          <p:cNvPr id="2764" name=""/>
          <p:cNvSpPr/>
          <p:nvPr/>
        </p:nvSpPr>
        <p:spPr>
          <a:xfrm>
            <a:off x="2895480" y="2438280"/>
            <a:ext cx="2343240" cy="762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Yağlar </a:t>
            </a:r>
            <a:endParaRPr b="0" lang="en-US" sz="1800" spc="-1" strike="noStrike">
              <a:solidFill>
                <a:srgbClr val="ffffff"/>
              </a:solidFill>
              <a:latin typeface="Times New Roman"/>
            </a:endParaRPr>
          </a:p>
        </p:txBody>
      </p:sp>
      <p:sp>
        <p:nvSpPr>
          <p:cNvPr id="2765" name=""/>
          <p:cNvSpPr/>
          <p:nvPr/>
        </p:nvSpPr>
        <p:spPr>
          <a:xfrm>
            <a:off x="5238720" y="1676520"/>
            <a:ext cx="3220920" cy="7617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roteinler </a:t>
            </a:r>
            <a:endParaRPr b="0" lang="en-US" sz="1800" spc="-1" strike="noStrike">
              <a:solidFill>
                <a:srgbClr val="ffffff"/>
              </a:solidFill>
              <a:latin typeface="Times New Roman"/>
            </a:endParaRPr>
          </a:p>
        </p:txBody>
      </p:sp>
      <p:sp>
        <p:nvSpPr>
          <p:cNvPr id="2766" name=""/>
          <p:cNvSpPr/>
          <p:nvPr/>
        </p:nvSpPr>
        <p:spPr>
          <a:xfrm>
            <a:off x="5238720" y="2438280"/>
            <a:ext cx="3220920" cy="7621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Vitaminler </a:t>
            </a:r>
            <a:endParaRPr b="0" lang="en-US" sz="1800" spc="-1" strike="noStrike">
              <a:solidFill>
                <a:srgbClr val="ffffff"/>
              </a:solidFill>
              <a:latin typeface="Times New Roman"/>
            </a:endParaRPr>
          </a:p>
        </p:txBody>
      </p:sp>
      <p:sp>
        <p:nvSpPr>
          <p:cNvPr id="2767" name=""/>
          <p:cNvSpPr/>
          <p:nvPr/>
        </p:nvSpPr>
        <p:spPr>
          <a:xfrm>
            <a:off x="2895480" y="3200400"/>
            <a:ext cx="2343240" cy="7621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Şekerler </a:t>
            </a:r>
            <a:endParaRPr b="0" lang="en-US" sz="1800" spc="-1" strike="noStrike">
              <a:solidFill>
                <a:srgbClr val="ffffff"/>
              </a:solidFill>
              <a:latin typeface="Times New Roman"/>
            </a:endParaRPr>
          </a:p>
        </p:txBody>
      </p:sp>
      <p:sp>
        <p:nvSpPr>
          <p:cNvPr id="2768" name=""/>
          <p:cNvSpPr/>
          <p:nvPr/>
        </p:nvSpPr>
        <p:spPr>
          <a:xfrm>
            <a:off x="2895480" y="3962520"/>
            <a:ext cx="2343240" cy="7617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Kompleks Şekerler </a:t>
            </a:r>
            <a:endParaRPr b="0" lang="en-US" sz="1800" spc="-1" strike="noStrike">
              <a:solidFill>
                <a:srgbClr val="ffffff"/>
              </a:solidFill>
              <a:latin typeface="Times New Roman"/>
            </a:endParaRPr>
          </a:p>
        </p:txBody>
      </p:sp>
      <p:sp>
        <p:nvSpPr>
          <p:cNvPr id="2769" name=""/>
          <p:cNvSpPr/>
          <p:nvPr/>
        </p:nvSpPr>
        <p:spPr>
          <a:xfrm>
            <a:off x="5238720" y="3200400"/>
            <a:ext cx="3220920" cy="7621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ular </a:t>
            </a:r>
            <a:endParaRPr b="0" lang="en-US" sz="1800" spc="-1" strike="noStrike">
              <a:solidFill>
                <a:srgbClr val="ffffff"/>
              </a:solidFill>
              <a:latin typeface="Times New Roman"/>
            </a:endParaRPr>
          </a:p>
        </p:txBody>
      </p:sp>
      <p:sp>
        <p:nvSpPr>
          <p:cNvPr id="2770" name=""/>
          <p:cNvSpPr/>
          <p:nvPr/>
        </p:nvSpPr>
        <p:spPr>
          <a:xfrm>
            <a:off x="5238720" y="3962520"/>
            <a:ext cx="3220920" cy="7617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Mineraller </a:t>
            </a:r>
            <a:endParaRPr b="0" lang="en-US" sz="1800" spc="-1" strike="noStrike">
              <a:solidFill>
                <a:srgbClr val="ffffff"/>
              </a:solidFill>
              <a:latin typeface="Times New Roman"/>
            </a:endParaRPr>
          </a:p>
        </p:txBody>
      </p:sp>
      <p:sp>
        <p:nvSpPr>
          <p:cNvPr id="2771" name=""/>
          <p:cNvSpPr/>
          <p:nvPr/>
        </p:nvSpPr>
        <p:spPr>
          <a:xfrm>
            <a:off x="250920" y="2060640"/>
            <a:ext cx="15238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Geleneksel Besinler</a:t>
            </a:r>
            <a:endParaRPr b="0" lang="en-US" sz="1800" spc="-1" strike="noStrike">
              <a:solidFill>
                <a:srgbClr val="ffffff"/>
              </a:solidFill>
              <a:latin typeface="Times New Roman"/>
            </a:endParaRPr>
          </a:p>
        </p:txBody>
      </p:sp>
      <p:sp>
        <p:nvSpPr>
          <p:cNvPr id="2772" name=""/>
          <p:cNvSpPr/>
          <p:nvPr/>
        </p:nvSpPr>
        <p:spPr>
          <a:xfrm>
            <a:off x="2916360" y="685800"/>
            <a:ext cx="554328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esin Çeşitleri</a:t>
            </a:r>
            <a:endParaRPr b="0" lang="en-US" sz="2400" spc="-1" strike="noStrike">
              <a:solidFill>
                <a:srgbClr val="ffffff"/>
              </a:solidFill>
              <a:latin typeface="Times New Roman"/>
            </a:endParaRPr>
          </a:p>
        </p:txBody>
      </p:sp>
      <p:sp>
        <p:nvSpPr>
          <p:cNvPr id="2773" name=""/>
          <p:cNvSpPr/>
          <p:nvPr/>
        </p:nvSpPr>
        <p:spPr>
          <a:xfrm>
            <a:off x="1835280" y="2209680"/>
            <a:ext cx="6094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4" name=""/>
          <p:cNvSpPr/>
          <p:nvPr/>
        </p:nvSpPr>
        <p:spPr>
          <a:xfrm>
            <a:off x="1835280" y="2590920"/>
            <a:ext cx="609480" cy="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5" name=""/>
          <p:cNvSpPr/>
          <p:nvPr/>
        </p:nvSpPr>
        <p:spPr>
          <a:xfrm>
            <a:off x="250920" y="260280"/>
            <a:ext cx="8642160" cy="64764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Zeka Çeşitleri</a:t>
            </a:r>
            <a:endParaRPr b="0" lang="en-US" sz="3200" spc="-1" strike="noStrike">
              <a:solidFill>
                <a:srgbClr val="ffffff"/>
              </a:solidFill>
              <a:latin typeface="Times New Roman"/>
            </a:endParaRPr>
          </a:p>
        </p:txBody>
      </p:sp>
      <p:grpSp>
        <p:nvGrpSpPr>
          <p:cNvPr id="2776" name=""/>
          <p:cNvGrpSpPr/>
          <p:nvPr/>
        </p:nvGrpSpPr>
        <p:grpSpPr>
          <a:xfrm>
            <a:off x="250920" y="1268280"/>
            <a:ext cx="8641440" cy="5182560"/>
            <a:chOff x="250920" y="1268280"/>
            <a:chExt cx="8641440" cy="5182560"/>
          </a:xfrm>
        </p:grpSpPr>
        <p:grpSp>
          <p:nvGrpSpPr>
            <p:cNvPr id="2777" name=""/>
            <p:cNvGrpSpPr/>
            <p:nvPr/>
          </p:nvGrpSpPr>
          <p:grpSpPr>
            <a:xfrm>
              <a:off x="250920" y="1843920"/>
              <a:ext cx="3943080" cy="1535040"/>
              <a:chOff x="250920" y="1843920"/>
              <a:chExt cx="3943080" cy="1535040"/>
            </a:xfrm>
          </p:grpSpPr>
          <p:sp>
            <p:nvSpPr>
              <p:cNvPr id="2778" name=""/>
              <p:cNvSpPr/>
              <p:nvPr/>
            </p:nvSpPr>
            <p:spPr>
              <a:xfrm>
                <a:off x="250920" y="1843920"/>
                <a:ext cx="3943080" cy="7675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özel-Dilsel Zeka </a:t>
                </a:r>
                <a:endParaRPr b="0" lang="en-US" sz="2000" spc="-1" strike="noStrike">
                  <a:solidFill>
                    <a:srgbClr val="ffffff"/>
                  </a:solidFill>
                  <a:latin typeface="Times New Roman"/>
                </a:endParaRPr>
              </a:p>
            </p:txBody>
          </p:sp>
          <p:sp>
            <p:nvSpPr>
              <p:cNvPr id="2779" name=""/>
              <p:cNvSpPr/>
              <p:nvPr/>
            </p:nvSpPr>
            <p:spPr>
              <a:xfrm>
                <a:off x="250920" y="2611440"/>
                <a:ext cx="3943080" cy="7675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Mantıksal-Matematiksel Zeka</a:t>
                </a:r>
                <a:endParaRPr b="0" lang="en-US" sz="2000" spc="-1" strike="noStrike">
                  <a:solidFill>
                    <a:srgbClr val="ffffff"/>
                  </a:solidFill>
                  <a:latin typeface="Times New Roman"/>
                </a:endParaRPr>
              </a:p>
            </p:txBody>
          </p:sp>
        </p:grpSp>
        <p:grpSp>
          <p:nvGrpSpPr>
            <p:cNvPr id="2780" name=""/>
            <p:cNvGrpSpPr/>
            <p:nvPr/>
          </p:nvGrpSpPr>
          <p:grpSpPr>
            <a:xfrm>
              <a:off x="5117040" y="1843920"/>
              <a:ext cx="3775320" cy="1535040"/>
              <a:chOff x="5117040" y="1843920"/>
              <a:chExt cx="3775320" cy="1535040"/>
            </a:xfrm>
          </p:grpSpPr>
          <p:sp>
            <p:nvSpPr>
              <p:cNvPr id="2781" name=""/>
              <p:cNvSpPr/>
              <p:nvPr/>
            </p:nvSpPr>
            <p:spPr>
              <a:xfrm>
                <a:off x="5117040" y="1843920"/>
                <a:ext cx="3775320" cy="7675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İçsel Zeka </a:t>
                </a:r>
                <a:endParaRPr b="0" lang="en-US" sz="2000" spc="-1" strike="noStrike">
                  <a:solidFill>
                    <a:srgbClr val="ffffff"/>
                  </a:solidFill>
                  <a:latin typeface="Times New Roman"/>
                </a:endParaRPr>
              </a:p>
            </p:txBody>
          </p:sp>
          <p:sp>
            <p:nvSpPr>
              <p:cNvPr id="2782" name=""/>
              <p:cNvSpPr/>
              <p:nvPr/>
            </p:nvSpPr>
            <p:spPr>
              <a:xfrm>
                <a:off x="5117040" y="2611440"/>
                <a:ext cx="3775320" cy="7675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Kişilerarası Zeka </a:t>
                </a:r>
                <a:endParaRPr b="0" lang="en-US" sz="2000" spc="-1" strike="noStrike">
                  <a:solidFill>
                    <a:srgbClr val="ffffff"/>
                  </a:solidFill>
                  <a:latin typeface="Times New Roman"/>
                </a:endParaRPr>
              </a:p>
            </p:txBody>
          </p:sp>
        </p:grpSp>
        <p:grpSp>
          <p:nvGrpSpPr>
            <p:cNvPr id="2783" name=""/>
            <p:cNvGrpSpPr/>
            <p:nvPr/>
          </p:nvGrpSpPr>
          <p:grpSpPr>
            <a:xfrm>
              <a:off x="334440" y="4339440"/>
              <a:ext cx="3775320" cy="1535400"/>
              <a:chOff x="334440" y="4339440"/>
              <a:chExt cx="3775320" cy="1535400"/>
            </a:xfrm>
          </p:grpSpPr>
          <p:sp>
            <p:nvSpPr>
              <p:cNvPr id="2784" name=""/>
              <p:cNvSpPr/>
              <p:nvPr/>
            </p:nvSpPr>
            <p:spPr>
              <a:xfrm>
                <a:off x="334440" y="4339440"/>
                <a:ext cx="3775320" cy="767520"/>
              </a:xfrm>
              <a:prstGeom prst="rect">
                <a:avLst/>
              </a:prstGeom>
              <a:solidFill>
                <a:srgbClr val="99ff33"/>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örsel-Uzamsal Zeka </a:t>
                </a:r>
                <a:endParaRPr b="0" lang="en-US" sz="2000" spc="-1" strike="noStrike">
                  <a:solidFill>
                    <a:srgbClr val="ffffff"/>
                  </a:solidFill>
                  <a:latin typeface="Times New Roman"/>
                </a:endParaRPr>
              </a:p>
            </p:txBody>
          </p:sp>
          <p:sp>
            <p:nvSpPr>
              <p:cNvPr id="2785" name=""/>
              <p:cNvSpPr/>
              <p:nvPr/>
            </p:nvSpPr>
            <p:spPr>
              <a:xfrm>
                <a:off x="334440" y="5106960"/>
                <a:ext cx="3775320" cy="767880"/>
              </a:xfrm>
              <a:prstGeom prst="rect">
                <a:avLst/>
              </a:prstGeom>
              <a:solidFill>
                <a:srgbClr val="99ff33"/>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Müziksel-Ritmik Zeka </a:t>
                </a:r>
                <a:endParaRPr b="0" lang="en-US" sz="2000" spc="-1" strike="noStrike">
                  <a:solidFill>
                    <a:srgbClr val="ffffff"/>
                  </a:solidFill>
                  <a:latin typeface="Times New Roman"/>
                </a:endParaRPr>
              </a:p>
            </p:txBody>
          </p:sp>
        </p:grpSp>
        <p:grpSp>
          <p:nvGrpSpPr>
            <p:cNvPr id="2786" name=""/>
            <p:cNvGrpSpPr/>
            <p:nvPr/>
          </p:nvGrpSpPr>
          <p:grpSpPr>
            <a:xfrm>
              <a:off x="5117040" y="4339440"/>
              <a:ext cx="3775320" cy="1535400"/>
              <a:chOff x="5117040" y="4339440"/>
              <a:chExt cx="3775320" cy="1535400"/>
            </a:xfrm>
          </p:grpSpPr>
          <p:sp>
            <p:nvSpPr>
              <p:cNvPr id="2787" name=""/>
              <p:cNvSpPr/>
              <p:nvPr/>
            </p:nvSpPr>
            <p:spPr>
              <a:xfrm>
                <a:off x="5117040" y="4339440"/>
                <a:ext cx="3775320" cy="7675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Bedensel-Kinestetik Zeka </a:t>
                </a:r>
                <a:endParaRPr b="0" lang="en-US" sz="2000" spc="-1" strike="noStrike">
                  <a:solidFill>
                    <a:srgbClr val="ffffff"/>
                  </a:solidFill>
                  <a:latin typeface="Times New Roman"/>
                </a:endParaRPr>
              </a:p>
            </p:txBody>
          </p:sp>
          <p:sp>
            <p:nvSpPr>
              <p:cNvPr id="2788" name=""/>
              <p:cNvSpPr/>
              <p:nvPr/>
            </p:nvSpPr>
            <p:spPr>
              <a:xfrm>
                <a:off x="5117040" y="5106960"/>
                <a:ext cx="3775320" cy="76788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oğa Zekası </a:t>
                </a:r>
                <a:endParaRPr b="0" lang="en-US" sz="2000" spc="-1" strike="noStrike">
                  <a:solidFill>
                    <a:srgbClr val="ffffff"/>
                  </a:solidFill>
                  <a:latin typeface="Times New Roman"/>
                </a:endParaRPr>
              </a:p>
            </p:txBody>
          </p:sp>
        </p:grpSp>
        <p:sp>
          <p:nvSpPr>
            <p:cNvPr id="2789" name=""/>
            <p:cNvSpPr/>
            <p:nvPr/>
          </p:nvSpPr>
          <p:spPr>
            <a:xfrm>
              <a:off x="5620680" y="1268280"/>
              <a:ext cx="2852640" cy="57564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Kişisel Zekalar</a:t>
              </a:r>
              <a:endParaRPr b="0" lang="en-US" sz="2000" spc="-1" strike="noStrike">
                <a:solidFill>
                  <a:srgbClr val="ffffff"/>
                </a:solidFill>
                <a:latin typeface="Times New Roman"/>
              </a:endParaRPr>
            </a:p>
          </p:txBody>
        </p:sp>
        <p:sp>
          <p:nvSpPr>
            <p:cNvPr id="2790" name=""/>
            <p:cNvSpPr/>
            <p:nvPr/>
          </p:nvSpPr>
          <p:spPr>
            <a:xfrm>
              <a:off x="837720" y="1268280"/>
              <a:ext cx="2852640" cy="575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eleneksel Zekalar</a:t>
              </a:r>
              <a:endParaRPr b="0" lang="en-US" sz="2000" spc="-1" strike="noStrike">
                <a:solidFill>
                  <a:srgbClr val="ffffff"/>
                </a:solidFill>
                <a:latin typeface="Times New Roman"/>
              </a:endParaRPr>
            </a:p>
          </p:txBody>
        </p:sp>
        <p:sp>
          <p:nvSpPr>
            <p:cNvPr id="2791" name=""/>
            <p:cNvSpPr/>
            <p:nvPr/>
          </p:nvSpPr>
          <p:spPr>
            <a:xfrm>
              <a:off x="502560" y="5875200"/>
              <a:ext cx="3439800" cy="575640"/>
            </a:xfrm>
            <a:prstGeom prst="rect">
              <a:avLst/>
            </a:prstGeom>
            <a:solidFill>
              <a:srgbClr val="99ff33"/>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Sanat ve Müzik Zekaları</a:t>
              </a:r>
              <a:endParaRPr b="0" lang="en-US" sz="1800" spc="-1" strike="noStrike">
                <a:solidFill>
                  <a:srgbClr val="ffffff"/>
                </a:solidFill>
                <a:latin typeface="Times New Roman"/>
              </a:endParaRPr>
            </a:p>
          </p:txBody>
        </p:sp>
        <p:sp>
          <p:nvSpPr>
            <p:cNvPr id="2792" name=""/>
            <p:cNvSpPr/>
            <p:nvPr/>
          </p:nvSpPr>
          <p:spPr>
            <a:xfrm>
              <a:off x="5536800" y="5875200"/>
              <a:ext cx="2852280" cy="5756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Açık Hava Zekalar</a:t>
              </a:r>
              <a:endParaRPr b="0" lang="en-US" sz="2000" spc="-1" strike="noStrike">
                <a:solidFill>
                  <a:srgbClr val="ffffff"/>
                </a:solidFill>
                <a:latin typeface="Times New Roman"/>
              </a:endParaRPr>
            </a:p>
          </p:txBody>
        </p:sp>
      </p:gr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355320"/>
            <a:ext cx="802152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NASIL ÖĞRENİYORUZ?</a:t>
            </a:r>
            <a:endParaRPr b="0" lang="en-US" sz="3600" spc="-1" strike="noStrike">
              <a:solidFill>
                <a:srgbClr val="b7e7ff"/>
              </a:solidFill>
              <a:latin typeface="Arial"/>
            </a:endParaRPr>
          </a:p>
        </p:txBody>
      </p:sp>
      <p:sp>
        <p:nvSpPr>
          <p:cNvPr id="121" name=""/>
          <p:cNvSpPr/>
          <p:nvPr/>
        </p:nvSpPr>
        <p:spPr>
          <a:xfrm>
            <a:off x="228600" y="2286000"/>
            <a:ext cx="8610480" cy="3328560"/>
          </a:xfrm>
          <a:prstGeom prst="rect">
            <a:avLst/>
          </a:prstGeom>
          <a:noFill/>
          <a:ln w="9360">
            <a:solidFill>
              <a:srgbClr val="0000a4"/>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Times New Roman"/>
              </a:rPr>
              <a:t>Yaklaşık 2400 yıl önce Konfiçyus’un</a:t>
            </a:r>
            <a:r>
              <a:rPr b="1" lang="tr-TR" sz="3600" spc="-1" strike="noStrike">
                <a:solidFill>
                  <a:srgbClr val="ffffff"/>
                </a:solidFill>
                <a:latin typeface="Times New Roman"/>
              </a:rPr>
              <a:t> ;</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Times New Roman"/>
              </a:rPr>
              <a:t> </a:t>
            </a:r>
            <a:r>
              <a:rPr b="1" lang="tr-TR" sz="3600" spc="-1" strike="noStrike">
                <a:solidFill>
                  <a:srgbClr val="0000a4"/>
                </a:solidFill>
                <a:latin typeface="Times New Roman"/>
              </a:rPr>
              <a:t>Ne</a:t>
            </a:r>
            <a:r>
              <a:rPr b="1" lang="tr-TR" sz="3600" spc="-1" strike="noStrike">
                <a:solidFill>
                  <a:srgbClr val="ffffff"/>
                </a:solidFill>
                <a:latin typeface="Times New Roman"/>
              </a:rPr>
              <a:t> </a:t>
            </a:r>
            <a:r>
              <a:rPr b="1" lang="tr-TR" sz="4000" spc="-1" strike="noStrike">
                <a:solidFill>
                  <a:srgbClr val="ff3399"/>
                </a:solidFill>
                <a:latin typeface="Times New Roman"/>
              </a:rPr>
              <a:t>duyduysam</a:t>
            </a:r>
            <a:r>
              <a:rPr b="1" lang="tr-TR" sz="3600" spc="-1" strike="noStrike">
                <a:solidFill>
                  <a:srgbClr val="ffffff"/>
                </a:solidFill>
                <a:latin typeface="Times New Roman"/>
              </a:rPr>
              <a:t>, </a:t>
            </a:r>
            <a:r>
              <a:rPr b="1" lang="tr-TR" sz="3600" spc="-1" strike="noStrike">
                <a:solidFill>
                  <a:srgbClr val="0000a4"/>
                </a:solidFill>
                <a:latin typeface="Times New Roman"/>
              </a:rPr>
              <a:t>unuttum.</a:t>
            </a:r>
            <a:r>
              <a:rPr b="1" lang="tr-TR" sz="3600" spc="-1" strike="noStrike">
                <a:solidFill>
                  <a:srgbClr val="ffffff"/>
                </a:solidFill>
                <a:latin typeface="Times New Roman"/>
              </a:rPr>
              <a:t>  </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a4"/>
                </a:solidFill>
                <a:latin typeface="Times New Roman"/>
              </a:rPr>
              <a:t>Ne</a:t>
            </a:r>
            <a:r>
              <a:rPr b="1" lang="tr-TR" sz="3600" spc="-1" strike="noStrike">
                <a:solidFill>
                  <a:srgbClr val="ffffff"/>
                </a:solidFill>
                <a:latin typeface="Times New Roman"/>
              </a:rPr>
              <a:t> </a:t>
            </a:r>
            <a:r>
              <a:rPr b="1" lang="tr-TR" sz="4000" spc="-1" strike="noStrike">
                <a:solidFill>
                  <a:srgbClr val="ff3399"/>
                </a:solidFill>
                <a:latin typeface="Times New Roman"/>
              </a:rPr>
              <a:t>görürsem</a:t>
            </a:r>
            <a:r>
              <a:rPr b="1" lang="tr-TR" sz="3600" spc="-1" strike="noStrike">
                <a:solidFill>
                  <a:srgbClr val="ff3399"/>
                </a:solidFill>
                <a:latin typeface="Times New Roman"/>
              </a:rPr>
              <a:t>,</a:t>
            </a:r>
            <a:r>
              <a:rPr b="1" lang="tr-TR" sz="3600" spc="-1" strike="noStrike">
                <a:solidFill>
                  <a:srgbClr val="ffffff"/>
                </a:solidFill>
                <a:latin typeface="Times New Roman"/>
              </a:rPr>
              <a:t> </a:t>
            </a:r>
            <a:r>
              <a:rPr b="1" lang="tr-TR" sz="3600" spc="-1" strike="noStrike">
                <a:solidFill>
                  <a:srgbClr val="0000a4"/>
                </a:solidFill>
                <a:latin typeface="Times New Roman"/>
              </a:rPr>
              <a:t>hatırlarım.</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Times New Roman"/>
              </a:rPr>
              <a:t> </a:t>
            </a:r>
            <a:r>
              <a:rPr b="1" lang="tr-TR" sz="3600" spc="-1" strike="noStrike">
                <a:solidFill>
                  <a:srgbClr val="0000a4"/>
                </a:solidFill>
                <a:latin typeface="Times New Roman"/>
              </a:rPr>
              <a:t>Ne</a:t>
            </a:r>
            <a:r>
              <a:rPr b="1" lang="tr-TR" sz="3600" spc="-1" strike="noStrike">
                <a:solidFill>
                  <a:srgbClr val="ffffff"/>
                </a:solidFill>
                <a:latin typeface="Times New Roman"/>
              </a:rPr>
              <a:t> </a:t>
            </a:r>
            <a:r>
              <a:rPr b="1" lang="tr-TR" sz="4000" spc="-1" strike="noStrike">
                <a:solidFill>
                  <a:srgbClr val="ff3399"/>
                </a:solidFill>
                <a:latin typeface="Times New Roman"/>
              </a:rPr>
              <a:t>yaparsam</a:t>
            </a:r>
            <a:r>
              <a:rPr b="1" lang="tr-TR" sz="3600" spc="-1" strike="noStrike">
                <a:solidFill>
                  <a:srgbClr val="ffffff"/>
                </a:solidFill>
                <a:latin typeface="Times New Roman"/>
              </a:rPr>
              <a:t>, </a:t>
            </a:r>
            <a:r>
              <a:rPr b="1" lang="tr-TR" sz="3600" spc="-1" strike="noStrike">
                <a:solidFill>
                  <a:srgbClr val="0000a4"/>
                </a:solidFill>
                <a:latin typeface="Times New Roman"/>
              </a:rPr>
              <a:t>anlarım.</a:t>
            </a:r>
            <a:endParaRPr b="0" lang="en-US" sz="3600" spc="-1" strike="noStrike">
              <a:solidFill>
                <a:srgbClr val="ffffff"/>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528">
                                  <p:stCondLst>
                                    <p:cond delay="0"/>
                                  </p:stCondLst>
                                  <p:childTnLst>
                                    <p:audio isNarration="0">
                                      <p:cMediaNode showWhenStopped="1">
                                        <p:cTn/>
                                        <p:tgtEl>
                                          <p:sndTgt r:embed="rId2" name="ANISES.WAV"/>
                                        </p:tgtEl>
                                      </p:cMediaNode>
                                    </p:audio>
                                    <p:set>
                                      <p:cBhvr>
                                        <p:cTn id="149" dur="1" fill="hold">
                                          <p:stCondLst>
                                            <p:cond delay="0"/>
                                          </p:stCondLst>
                                        </p:cTn>
                                        <p:tgtEl>
                                          <p:spTgt spid="120"/>
                                        </p:tgtEl>
                                        <p:attrNameLst>
                                          <p:attrName>style.visibility</p:attrName>
                                        </p:attrNameLst>
                                      </p:cBhvr>
                                      <p:to>
                                        <p:strVal val="visible"/>
                                      </p:to>
                                    </p:set>
                                    <p:anim calcmode="lin" valueType="num">
                                      <p:cBhvr additive="repl">
                                        <p:cTn id="150" dur="500" fill="hold"/>
                                        <p:tgtEl>
                                          <p:spTgt spid="120"/>
                                        </p:tgtEl>
                                        <p:attrNameLst>
                                          <p:attrName>ppt_w</p:attrName>
                                        </p:attrNameLst>
                                      </p:cBhvr>
                                      <p:tavLst>
                                        <p:tav tm="0">
                                          <p:val>
                                            <p:fltVal val="0"/>
                                          </p:val>
                                        </p:tav>
                                        <p:tav tm="100000">
                                          <p:val>
                                            <p:strVal val="#ppt_w"/>
                                          </p:val>
                                        </p:tav>
                                      </p:tavLst>
                                    </p:anim>
                                    <p:anim calcmode="lin" valueType="num">
                                      <p:cBhvr additive="repl">
                                        <p:cTn id="151" dur="500" fill="hold"/>
                                        <p:tgtEl>
                                          <p:spTgt spid="120"/>
                                        </p:tgtEl>
                                        <p:attrNameLst>
                                          <p:attrName>ppt_h</p:attrName>
                                        </p:attrNameLst>
                                      </p:cBhvr>
                                      <p:tavLst>
                                        <p:tav tm="0">
                                          <p:val>
                                            <p:fltVal val="0"/>
                                          </p:val>
                                        </p:tav>
                                        <p:tav tm="100000">
                                          <p:val>
                                            <p:strVal val="#ppt_h"/>
                                          </p:val>
                                        </p:tav>
                                      </p:tavLst>
                                    </p:anim>
                                    <p:anim calcmode="lin" valueType="num">
                                      <p:cBhvr additive="repl">
                                        <p:cTn id="152" dur="500" fill="hold"/>
                                        <p:tgtEl>
                                          <p:spTgt spid="120"/>
                                        </p:tgtEl>
                                        <p:attrNameLst>
                                          <p:attrName>ppt_x</p:attrName>
                                        </p:attrNameLst>
                                      </p:cBhvr>
                                      <p:tavLst>
                                        <p:tav tm="0">
                                          <p:val>
                                            <p:fltVal val="0.5"/>
                                          </p:val>
                                        </p:tav>
                                        <p:tav tm="100000">
                                          <p:val>
                                            <p:strVal val="#ppt_x"/>
                                          </p:val>
                                        </p:tav>
                                      </p:tavLst>
                                    </p:anim>
                                    <p:anim calcmode="lin" valueType="num">
                                      <p:cBhvr additive="repl">
                                        <p:cTn id="153" dur="500" fill="hold"/>
                                        <p:tgtEl>
                                          <p:spTgt spid="120"/>
                                        </p:tgtEl>
                                        <p:attrNameLst>
                                          <p:attrName>ppt_y</p:attrName>
                                        </p:attrNameLst>
                                      </p:cBhvr>
                                      <p:tavLst>
                                        <p:tav tm="0">
                                          <p:val>
                                            <p:fltVal val="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7" presetSubtype="8">
                                  <p:stCondLst>
                                    <p:cond delay="0"/>
                                  </p:stCondLst>
                                  <p:iterate type="wd">
                                    <p:tmAbs val="300"/>
                                  </p:iterate>
                                  <p:childTnLst>
                                    <p:set>
                                      <p:cBhvr>
                                        <p:cTn id="157" dur="1" fill="hold">
                                          <p:stCondLst>
                                            <p:cond delay="0"/>
                                          </p:stCondLst>
                                        </p:cTn>
                                        <p:tgtEl>
                                          <p:spTgt spid="121"/>
                                        </p:tgtEl>
                                        <p:attrNameLst>
                                          <p:attrName>style.visibility</p:attrName>
                                        </p:attrNameLst>
                                      </p:cBhvr>
                                      <p:to>
                                        <p:strVal val="visible"/>
                                      </p:to>
                                    </p:set>
                                    <p:anim calcmode="lin" valueType="num">
                                      <p:cBhvr additive="repl">
                                        <p:cTn id="158" dur="300" fill="hold"/>
                                        <p:tgtEl>
                                          <p:spTgt spid="121"/>
                                        </p:tgtEl>
                                        <p:attrNameLst>
                                          <p:attrName>ppt_x</p:attrName>
                                        </p:attrNameLst>
                                      </p:cBhvr>
                                      <p:tavLst>
                                        <p:tav tm="0">
                                          <p:val>
                                            <p:strVal val="#ppt_x-#ppt_w/2"/>
                                          </p:val>
                                        </p:tav>
                                        <p:tav tm="100000">
                                          <p:val>
                                            <p:strVal val="#ppt_x"/>
                                          </p:val>
                                        </p:tav>
                                      </p:tavLst>
                                    </p:anim>
                                    <p:anim calcmode="lin" valueType="num">
                                      <p:cBhvr additive="repl">
                                        <p:cTn id="159" dur="300" fill="hold"/>
                                        <p:tgtEl>
                                          <p:spTgt spid="121"/>
                                        </p:tgtEl>
                                        <p:attrNameLst>
                                          <p:attrName>ppt_y</p:attrName>
                                        </p:attrNameLst>
                                      </p:cBhvr>
                                      <p:tavLst>
                                        <p:tav tm="0">
                                          <p:val>
                                            <p:strVal val="#ppt_y"/>
                                          </p:val>
                                        </p:tav>
                                        <p:tav tm="100000">
                                          <p:val>
                                            <p:strVal val="#ppt_y"/>
                                          </p:val>
                                        </p:tav>
                                      </p:tavLst>
                                    </p:anim>
                                    <p:anim calcmode="lin" valueType="num">
                                      <p:cBhvr additive="repl">
                                        <p:cTn id="160" dur="300" fill="hold"/>
                                        <p:tgtEl>
                                          <p:spTgt spid="121"/>
                                        </p:tgtEl>
                                        <p:attrNameLst>
                                          <p:attrName>ppt_w</p:attrName>
                                        </p:attrNameLst>
                                      </p:cBhvr>
                                      <p:tavLst>
                                        <p:tav tm="0">
                                          <p:val>
                                            <p:fltVal val="0"/>
                                          </p:val>
                                        </p:tav>
                                        <p:tav tm="100000">
                                          <p:val>
                                            <p:strVal val="#ppt_w"/>
                                          </p:val>
                                        </p:tav>
                                      </p:tavLst>
                                    </p:anim>
                                    <p:anim calcmode="lin" valueType="num">
                                      <p:cBhvr additive="repl">
                                        <p:cTn id="161" dur="3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394920" y="11556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Arial"/>
              </a:rPr>
              <a:t>DUYGUSAL ZEKA</a:t>
            </a:r>
            <a:endParaRPr b="0" lang="en-US" sz="4000" spc="-1" strike="noStrike">
              <a:solidFill>
                <a:srgbClr val="b7e7ff"/>
              </a:solidFill>
              <a:latin typeface="Arial"/>
            </a:endParaRPr>
          </a:p>
        </p:txBody>
      </p:sp>
      <p:sp>
        <p:nvSpPr>
          <p:cNvPr id="2794" name="PlaceHolder 2"/>
          <p:cNvSpPr>
            <a:spLocks noGrp="1"/>
          </p:cNvSpPr>
          <p:nvPr>
            <p:ph/>
          </p:nvPr>
        </p:nvSpPr>
        <p:spPr>
          <a:xfrm>
            <a:off x="324000" y="1196640"/>
            <a:ext cx="8640720" cy="5327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a4"/>
                </a:solidFill>
                <a:latin typeface="Arial"/>
              </a:rPr>
              <a:t>Gardner’ ın sosyal zeka ve benlik zeka açıklamaları içerisinde dolaylı olarak bahsettiği, fakat sonradan öne çıkan diğer bir zeka türü de duygusal zekadır.</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a4"/>
                </a:solidFill>
                <a:latin typeface="Arial"/>
              </a:rPr>
              <a:t>	</a:t>
            </a:r>
            <a:r>
              <a:rPr b="0" lang="tr-TR" sz="2800" spc="-1" strike="noStrike">
                <a:solidFill>
                  <a:srgbClr val="0000a4"/>
                </a:solidFill>
                <a:latin typeface="Arial"/>
              </a:rPr>
              <a:t>Özdenetim, azim,  ve kendi kendini harekete geçire bilme yetenekleri ifade etmek için kullanılmaktadır. Fenomenal  ( Bireyin kendi ve dış dünyayı kendine has bir şekilde algılayan öznel yaşantısına denir.) alan içindeki istekler, heyecan uyandıran iç yaşantılar </a:t>
            </a:r>
            <a:r>
              <a:rPr b="0" lang="tr-TR" sz="2800" spc="-1" strike="noStrike">
                <a:solidFill>
                  <a:srgbClr val="ff3300"/>
                </a:solidFill>
                <a:latin typeface="Arial"/>
              </a:rPr>
              <a:t>DUYGU</a:t>
            </a:r>
            <a:r>
              <a:rPr b="0" lang="tr-TR" sz="2800" spc="-1" strike="noStrike">
                <a:solidFill>
                  <a:srgbClr val="0000a4"/>
                </a:solidFill>
                <a:latin typeface="Arial"/>
              </a:rPr>
              <a:t> olarak adlandırılır.</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a4"/>
                </a:solidFill>
                <a:latin typeface="Arial"/>
              </a:rPr>
              <a:t>MUTLULUK , HAYRET, KORKU, ÜZÜNTÜ, ÖFKE, TİKSİNME VE KÜÇÜK GÖRME.  </a:t>
            </a:r>
            <a:endParaRPr b="0" lang="en-US" sz="2800" spc="-1" strike="noStrike">
              <a:solidFill>
                <a:srgbClr val="ffffff"/>
              </a:solidFill>
              <a:latin typeface="Arial"/>
            </a:endParaRPr>
          </a:p>
        </p:txBody>
      </p:sp>
    </p:spTree>
  </p:cSld>
  <p:transition>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5"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a4"/>
                </a:solidFill>
                <a:latin typeface="Arial"/>
              </a:rPr>
              <a:t>DÜŞÜNCE VE  DUYGUNUN PAYLAŞILDIĞI VİZYON YÜKSEK BİR ENERJİ OLUŞTURUR.  </a:t>
            </a:r>
            <a:endParaRPr b="0" lang="en-US" sz="4400" spc="-1" strike="noStrike">
              <a:solidFill>
                <a:srgbClr val="ffffff"/>
              </a:solidFill>
              <a:latin typeface="Arial"/>
            </a:endParaRPr>
          </a:p>
        </p:txBody>
      </p:sp>
    </p:spTree>
  </p:cSld>
  <p:transition>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324000" y="18864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Arial"/>
              </a:rPr>
              <a:t>DUYGUSAL ZEKA YETENEKLERİ</a:t>
            </a:r>
            <a:br>
              <a:rPr sz="4000"/>
            </a:br>
            <a:r>
              <a:rPr b="0" lang="en-US" sz="2000" spc="-1" strike="noStrike">
                <a:solidFill>
                  <a:srgbClr val="0000a4"/>
                </a:solidFill>
                <a:latin typeface="Arial"/>
              </a:rPr>
              <a:t>( GOLEMAN 1988 )</a:t>
            </a:r>
            <a:endParaRPr b="0" lang="en-US" sz="2000" spc="-1" strike="noStrike">
              <a:solidFill>
                <a:srgbClr val="b7e7ff"/>
              </a:solidFill>
              <a:latin typeface="Arial"/>
            </a:endParaRPr>
          </a:p>
        </p:txBody>
      </p:sp>
      <p:sp>
        <p:nvSpPr>
          <p:cNvPr id="2797" name="PlaceHolder 2"/>
          <p:cNvSpPr>
            <a:spLocks noGrp="1"/>
          </p:cNvSpPr>
          <p:nvPr>
            <p:ph/>
          </p:nvPr>
        </p:nvSpPr>
        <p:spPr>
          <a:xfrm>
            <a:off x="250920" y="1484280"/>
            <a:ext cx="8540640" cy="4998960"/>
          </a:xfrm>
          <a:prstGeom prst="rect">
            <a:avLst/>
          </a:prstGeom>
          <a:noFill/>
          <a:ln w="0">
            <a:noFill/>
          </a:ln>
        </p:spPr>
        <p:txBody>
          <a:bodyPr lIns="90000" rIns="90000" tIns="46800" bIns="46800" anchor="t">
            <a:normAutofit/>
          </a:bodyPr>
          <a:p>
            <a:pPr marL="609480" indent="-609480">
              <a:lnSpc>
                <a:spcPct val="90000"/>
              </a:lnSpc>
              <a:spcBef>
                <a:spcPts val="601"/>
              </a:spcBef>
              <a:buClr>
                <a:srgbClr val="0000a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Arial"/>
              </a:rPr>
              <a:t>ÖZ BİLİNÇ: Kendini tanıma, henüz daha oluşma esnasında duygularını fark edebilme duygusal zekanın temelidir.</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0000a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Arial"/>
              </a:rPr>
              <a:t>DUYGULARI İDARE EDEBİLMEK: Kendini yatıştırma, yoğun kaygılardan, karamsarlıktan ve alınganlıklardan kurtulma yetenekleri gelişmiş olan insanlar, hayatın tatsız sürprizlerini daha iyi karşılıya bilmekte  ve olumsuz deneyimler sonrasında kendilerini daha kolay toparlaya bilmektedirler.</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Arial"/>
              </a:rPr>
              <a: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4"/>
                </a:solidFill>
                <a:latin typeface="Arial"/>
              </a:rPr>
              <a:t>	</a:t>
            </a:r>
            <a:r>
              <a:rPr b="0" lang="en-US" sz="2400" spc="-1" strike="noStrike">
                <a:solidFill>
                  <a:srgbClr val="0000a4"/>
                </a:solidFill>
                <a:latin typeface="Arial"/>
              </a:rPr>
              <a:t>ÖZ BİLİNCİ GELİŞMEYEN BİRİ DUYGULARINI İFADE EDEMEZ.   </a:t>
            </a:r>
            <a:endParaRPr b="0" lang="en-US" sz="2400" spc="-1" strike="noStrike">
              <a:solidFill>
                <a:srgbClr val="ffffff"/>
              </a:solidFill>
              <a:latin typeface="Arial"/>
            </a:endParaRPr>
          </a:p>
        </p:txBody>
      </p:sp>
    </p:spTree>
  </p:cSld>
  <p:transition>
    <p:dissolv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8" name="PlaceHolder 1"/>
          <p:cNvSpPr>
            <a:spLocks noGrp="1"/>
          </p:cNvSpPr>
          <p:nvPr>
            <p:ph/>
          </p:nvPr>
        </p:nvSpPr>
        <p:spPr>
          <a:xfrm>
            <a:off x="250920" y="333360"/>
            <a:ext cx="8642160" cy="5975280"/>
          </a:xfrm>
          <a:prstGeom prst="rect">
            <a:avLst/>
          </a:prstGeom>
          <a:noFill/>
          <a:ln w="0">
            <a:noFill/>
          </a:ln>
        </p:spPr>
        <p:txBody>
          <a:bodyPr lIns="90000" rIns="90000" tIns="46800" bIns="46800" anchor="t">
            <a:normAutofit/>
          </a:bodyPr>
          <a:p>
            <a:pPr marL="609480" indent="-609480">
              <a:lnSpc>
                <a:spcPct val="90000"/>
              </a:lnSpc>
              <a:spcBef>
                <a:spcPts val="751"/>
              </a:spcBef>
              <a:buClr>
                <a:srgbClr val="0000a4"/>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a4"/>
                </a:solidFill>
                <a:latin typeface="Arial"/>
              </a:rPr>
              <a:t>KENDİNİ HAREKETE GEÇİRMEK: İnsanı kendini bir amaç doğrultusunda toparlaya bilmesini ve bir noktada yoğunlaşa bilmesini ifade etmektedir.</a:t>
            </a:r>
            <a:endParaRPr b="0" lang="en-US" sz="3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609480">
              <a:lnSpc>
                <a:spcPct val="90000"/>
              </a:lnSpc>
              <a:spcBef>
                <a:spcPts val="751"/>
              </a:spcBef>
              <a:buClr>
                <a:srgbClr val="0000a4"/>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a4"/>
                </a:solidFill>
                <a:latin typeface="Arial"/>
              </a:rPr>
              <a:t>EMPATİ: Başkaların duygularını anlamak  kendisini başkasını yerine koyabilmek.</a:t>
            </a:r>
            <a:endParaRPr b="0" lang="en-US" sz="3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609480">
              <a:lnSpc>
                <a:spcPct val="90000"/>
              </a:lnSpc>
              <a:spcBef>
                <a:spcPts val="751"/>
              </a:spcBef>
              <a:buClr>
                <a:srgbClr val="0000a4"/>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a4"/>
                </a:solidFill>
                <a:latin typeface="Arial"/>
              </a:rPr>
              <a:t>İLİŞKİLERİ YÜRÜTE BİLMEK:İnsanlarla sürtüşmesiz bir ilişki sürdürmektir.İlişki sanatı büyük oranda başkaların duygularını idare etme becerisidir. </a:t>
            </a:r>
            <a:endParaRPr b="0" lang="en-US" sz="3000" spc="-1" strike="noStrike">
              <a:solidFill>
                <a:srgbClr val="ffffff"/>
              </a:solidFill>
              <a:latin typeface="Arial"/>
            </a:endParaRPr>
          </a:p>
        </p:txBody>
      </p:sp>
    </p:spTree>
  </p:cSld>
  <p:transition>
    <p:dissolv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0" y="188640"/>
            <a:ext cx="9144000" cy="626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ÇOKLU ZEKA  ANLAYIŞININ KABUL EDİLMESİNİN EĞİTİME EN ÖNEMLİ KATKISI İNSANLARA SADECE SÖZEL VE SAYISAL YETENEKLERİNE GÖRE SINIFLAMAK VE SIRALAMAKTAN VAZ GEÇİP HERKESİN SAHİP OLDUĞU YETENEKLERİN KEŞFEDİLMEYE BAŞLANMASIDIR</a:t>
            </a:r>
            <a:endParaRPr b="0" lang="en-US" sz="3600" spc="-1" strike="noStrike">
              <a:solidFill>
                <a:srgbClr val="b7e7ff"/>
              </a:solidFill>
              <a:latin typeface="Arial"/>
            </a:endParaRPr>
          </a:p>
        </p:txBody>
      </p:sp>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0" name="PlaceHolder 1"/>
          <p:cNvSpPr>
            <a:spLocks noGrp="1"/>
          </p:cNvSpPr>
          <p:nvPr>
            <p:ph/>
          </p:nvPr>
        </p:nvSpPr>
        <p:spPr>
          <a:xfrm>
            <a:off x="73080" y="691920"/>
            <a:ext cx="9036000" cy="5516280"/>
          </a:xfrm>
          <a:prstGeom prst="rect">
            <a:avLst/>
          </a:prstGeom>
          <a:noFill/>
          <a:ln w="0">
            <a:noFill/>
          </a:ln>
        </p:spPr>
        <p:txBody>
          <a:bodyPr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a4"/>
                </a:solidFill>
                <a:latin typeface="Arial"/>
              </a:rPr>
              <a:t>İNSAN BEYNİNİ DE VÜCUTTAKİ DİĞER KASLAR GİBİ “İŞLEDİKÇE IŞILDADIĞI”NIN KABUL EDİLMESİ UYGUN EĞİTİMLE BİR ÇOK YETENEĞİ KEŞFEDİLMESİNİN  YOLUNU  AÇMAKTIR.</a:t>
            </a:r>
            <a:endParaRPr b="0" lang="en-US" sz="4400" spc="-1" strike="noStrike">
              <a:solidFill>
                <a:srgbClr val="ffffff"/>
              </a:solidFill>
              <a:latin typeface="Arial"/>
            </a:endParaRPr>
          </a:p>
        </p:txBody>
      </p:sp>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3000" spc="-1" strike="noStrike">
                <a:solidFill>
                  <a:srgbClr val="4d4d4d"/>
                </a:solidFill>
                <a:latin typeface="Arial"/>
              </a:rPr>
              <a:t>	</a:t>
            </a:r>
            <a:endParaRPr b="0" lang="en-US" sz="3000" spc="-1" strike="noStrike">
              <a:solidFill>
                <a:srgbClr val="ffffff"/>
              </a:solidFill>
              <a:latin typeface="Arial"/>
            </a:endParaRPr>
          </a:p>
          <a:p>
            <a:pPr marL="609480" indent="0">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3000" spc="-1" strike="noStrike">
                <a:solidFill>
                  <a:srgbClr val="4d4d4d"/>
                </a:solidFill>
                <a:latin typeface="Arial"/>
              </a:rPr>
              <a:t>	</a:t>
            </a:r>
            <a:endParaRPr b="0" lang="en-US" sz="3000" spc="-1" strike="noStrike">
              <a:solidFill>
                <a:srgbClr val="ffffff"/>
              </a:solidFill>
              <a:latin typeface="Arial"/>
            </a:endParaRPr>
          </a:p>
          <a:p>
            <a:pPr marL="609480" indent="0">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000" spc="-1" strike="noStrike">
              <a:solidFill>
                <a:srgbClr val="ffffff"/>
              </a:solidFill>
              <a:latin typeface="Arial"/>
            </a:endParaRPr>
          </a:p>
          <a:p>
            <a:pPr marL="609480" indent="0">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000" spc="-1" strike="noStrike">
              <a:solidFill>
                <a:srgbClr val="ffffff"/>
              </a:solidFill>
              <a:latin typeface="Arial"/>
            </a:endParaRPr>
          </a:p>
          <a:p>
            <a:pPr marL="609480" indent="0">
              <a:spcBef>
                <a:spcPts val="64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3000" spc="-1" strike="noStrike">
                <a:solidFill>
                  <a:srgbClr val="ff3300"/>
                </a:solidFill>
                <a:latin typeface="Arial"/>
              </a:rPr>
              <a:t>	</a:t>
            </a:r>
            <a:r>
              <a:rPr b="1" lang="tr-TR" sz="2600" spc="-1" strike="noStrike">
                <a:solidFill>
                  <a:srgbClr val="ff3300"/>
                </a:solidFill>
                <a:latin typeface="Arial"/>
              </a:rPr>
              <a:t>KAYNAKÇA:</a:t>
            </a:r>
            <a:endParaRPr b="0" lang="en-US" sz="2600" spc="-1" strike="noStrike">
              <a:solidFill>
                <a:srgbClr val="ffffff"/>
              </a:solidFill>
              <a:latin typeface="Arial"/>
            </a:endParaRPr>
          </a:p>
          <a:p>
            <a:pPr marL="609480" indent="0">
              <a:spcBef>
                <a:spcPts val="649"/>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600" spc="-1" strike="noStrike">
              <a:solidFill>
                <a:srgbClr val="ffffff"/>
              </a:solidFill>
              <a:latin typeface="Arial"/>
            </a:endParaRPr>
          </a:p>
          <a:p>
            <a:pPr marL="609480" indent="-609480">
              <a:spcBef>
                <a:spcPts val="700"/>
              </a:spcBef>
              <a:buClr>
                <a:srgbClr val="ff33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2600" spc="-1" strike="noStrike">
                <a:solidFill>
                  <a:srgbClr val="ff3300"/>
                </a:solidFill>
                <a:latin typeface="Arial"/>
              </a:rPr>
              <a:t>Yüksel ÖZDEN </a:t>
            </a:r>
            <a:r>
              <a:rPr b="1" lang="tr-TR" sz="2600" spc="-1" strike="noStrike">
                <a:solidFill>
                  <a:srgbClr val="ff3300"/>
                </a:solidFill>
                <a:latin typeface="Arial"/>
              </a:rPr>
              <a:t>	</a:t>
            </a:r>
            <a:r>
              <a:rPr b="1" lang="tr-TR" sz="2600" spc="-1" strike="noStrike">
                <a:solidFill>
                  <a:srgbClr val="ff3300"/>
                </a:solidFill>
                <a:latin typeface="Arial"/>
              </a:rPr>
              <a:t>	</a:t>
            </a:r>
            <a:r>
              <a:rPr b="1" lang="tr-TR" sz="2800" spc="-1" strike="noStrike">
                <a:solidFill>
                  <a:srgbClr val="ff3300"/>
                </a:solidFill>
                <a:latin typeface="Arial"/>
              </a:rPr>
              <a:t>Öğrenme ve Öğretme</a:t>
            </a:r>
            <a:endParaRPr b="0" lang="en-US" sz="2800" spc="-1" strike="noStrike">
              <a:solidFill>
                <a:srgbClr val="ffffff"/>
              </a:solidFill>
              <a:latin typeface="Arial"/>
            </a:endParaRPr>
          </a:p>
          <a:p>
            <a:pPr marL="609480" indent="-609480">
              <a:spcBef>
                <a:spcPts val="601"/>
              </a:spcBef>
              <a:buClr>
                <a:srgbClr val="ff33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2400" spc="-1" strike="noStrike">
                <a:solidFill>
                  <a:srgbClr val="ff3300"/>
                </a:solidFill>
                <a:latin typeface="Arial"/>
              </a:rPr>
              <a:t>Prof.Dr.Ziya SELÇUK</a:t>
            </a:r>
            <a:r>
              <a:rPr b="1" lang="tr-TR" sz="2400" spc="-1" strike="noStrike">
                <a:solidFill>
                  <a:srgbClr val="ff3300"/>
                </a:solidFill>
                <a:latin typeface="Arial"/>
              </a:rPr>
              <a:t>	</a:t>
            </a:r>
            <a:r>
              <a:rPr b="1" lang="tr-TR" sz="2400" spc="-1" strike="noStrike">
                <a:solidFill>
                  <a:srgbClr val="ff3300"/>
                </a:solidFill>
                <a:latin typeface="Arial"/>
              </a:rPr>
              <a:t>Çoklu Zeka ( Maya Koleji )</a:t>
            </a:r>
            <a:endParaRPr b="0" lang="en-US" sz="2400" spc="-1" strike="noStrike">
              <a:solidFill>
                <a:srgbClr val="ffffff"/>
              </a:solidFill>
              <a:latin typeface="Arial"/>
            </a:endParaRPr>
          </a:p>
          <a:p>
            <a:pPr marL="609480" indent="-609480">
              <a:spcBef>
                <a:spcPts val="601"/>
              </a:spcBef>
              <a:buClr>
                <a:srgbClr val="ff33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tr-TR" sz="2400" spc="-1" strike="noStrike">
                <a:solidFill>
                  <a:srgbClr val="ff3300"/>
                </a:solidFill>
                <a:latin typeface="Arial"/>
              </a:rPr>
              <a:t>Ahmet SABAN </a:t>
            </a:r>
            <a:r>
              <a:rPr b="1" lang="tr-TR" sz="2800" spc="-1" strike="noStrike">
                <a:solidFill>
                  <a:srgbClr val="ff3300"/>
                </a:solidFill>
                <a:latin typeface="Arial"/>
              </a:rPr>
              <a:t>	</a:t>
            </a:r>
            <a:r>
              <a:rPr b="1" lang="tr-TR" sz="2800" spc="-1" strike="noStrike">
                <a:solidFill>
                  <a:srgbClr val="ff3300"/>
                </a:solidFill>
                <a:latin typeface="Arial"/>
              </a:rPr>
              <a:t>	</a:t>
            </a:r>
            <a:r>
              <a:rPr b="1" lang="tr-TR" sz="2400" spc="-1" strike="noStrike">
                <a:solidFill>
                  <a:srgbClr val="ff3300"/>
                </a:solidFill>
                <a:latin typeface="Arial"/>
              </a:rPr>
              <a:t>Çoklu zeka Teorisi ve Eğitimi</a:t>
            </a:r>
            <a:endParaRPr b="0" lang="en-US" sz="2400" spc="-1" strike="noStrike">
              <a:solidFill>
                <a:srgbClr val="ffffff"/>
              </a:solidFill>
              <a:latin typeface="Arial"/>
            </a:endParaRPr>
          </a:p>
        </p:txBody>
      </p:sp>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02" name=""/>
          <p:cNvGraphicFramePr/>
          <p:nvPr/>
        </p:nvGraphicFramePr>
        <p:xfrm>
          <a:off x="0" y="0"/>
          <a:ext cx="9144000" cy="6973920"/>
        </p:xfrm>
        <a:graphic>
          <a:graphicData uri="http://schemas.openxmlformats.org/presentationml/2006/ole">
            <p:oleObj r:id="rId2" spid="">
              <p:embed/>
              <p:pic>
                <p:nvPicPr>
                  <p:cNvPr id="2803" name="" descr=""/>
                  <p:cNvPicPr/>
                  <p:nvPr/>
                </p:nvPicPr>
                <p:blipFill>
                  <a:blip r:embed="rId3"/>
                  <a:stretch/>
                </p:blipFill>
                <p:spPr>
                  <a:xfrm>
                    <a:off x="0" y="0"/>
                    <a:ext cx="9144000" cy="6973920"/>
                  </a:xfrm>
                  <a:prstGeom prst="rect">
                    <a:avLst/>
                  </a:prstGeom>
                  <a:ln w="0">
                    <a:noFill/>
                  </a:ln>
                </p:spPr>
              </p:pic>
            </p:oleObj>
          </a:graphicData>
        </a:graphic>
      </p:graphicFrame>
      <p:sp>
        <p:nvSpPr>
          <p:cNvPr id="2804" name=""/>
          <p:cNvSpPr/>
          <p:nvPr/>
        </p:nvSpPr>
        <p:spPr>
          <a:xfrm>
            <a:off x="4343400" y="1492200"/>
            <a:ext cx="4572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Times New Roman"/>
              </a:rPr>
              <a:t>İLGİLERİNİZDEN</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Times New Roman"/>
              </a:rPr>
              <a:t>DOLAYI TEŞEKKÜRLE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dissolve/>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12" presetSubtype="8">
                                  <p:stCondLst>
                                    <p:cond delay="0"/>
                                  </p:stCondLst>
                                  <p:childTnLst>
                                    <p:set>
                                      <p:cBhvr>
                                        <p:cTn id="924" dur="1" fill="hold">
                                          <p:stCondLst>
                                            <p:cond delay="0"/>
                                          </p:stCondLst>
                                        </p:cTn>
                                        <p:tgtEl>
                                          <p:spTgt spid="2803"/>
                                        </p:tgtEl>
                                        <p:attrNameLst>
                                          <p:attrName>style.visibility</p:attrName>
                                        </p:attrNameLst>
                                      </p:cBhvr>
                                      <p:to>
                                        <p:strVal val="visible"/>
                                      </p:to>
                                    </p:set>
                                    <p:animEffect filter="slide(fromLeft)" transition="in">
                                      <p:cBhvr additive="repl">
                                        <p:cTn id="925" dur="500"/>
                                        <p:tgtEl>
                                          <p:spTgt spid="2803"/>
                                        </p:tgtEl>
                                      </p:cBhvr>
                                    </p:animEffect>
                                  </p:childTnLst>
                                </p:cTn>
                              </p:par>
                            </p:childTnLst>
                          </p:cTn>
                        </p:par>
                        <p:par>
                          <p:cTn id="926" fill="hold">
                            <p:stCondLst>
                              <p:cond delay="500"/>
                            </p:stCondLst>
                            <p:childTnLst>
                              <p:par>
                                <p:cTn id="927" nodeType="afterEffect" fill="hold" presetClass="entr" presetID="12" presetSubtype="1">
                                  <p:stCondLst>
                                    <p:cond delay="0"/>
                                  </p:stCondLst>
                                  <p:iterate type="lt">
                                    <p:tmAbs val="75"/>
                                  </p:iterate>
                                  <p:childTnLst>
                                    <p:set>
                                      <p:cBhvr>
                                        <p:cTn id="928" dur="1" fill="hold">
                                          <p:stCondLst>
                                            <p:cond delay="0"/>
                                          </p:stCondLst>
                                        </p:cTn>
                                        <p:tgtEl>
                                          <p:spTgt spid="2804">
                                            <p:txEl>
                                              <p:pRg st="0" end="0"/>
                                            </p:txEl>
                                          </p:spTgt>
                                        </p:tgtEl>
                                        <p:attrNameLst>
                                          <p:attrName>style.visibility</p:attrName>
                                        </p:attrNameLst>
                                      </p:cBhvr>
                                      <p:to>
                                        <p:strVal val="visible"/>
                                      </p:to>
                                    </p:set>
                                    <p:animEffect filter="slide(fromTop)" transition="in">
                                      <p:cBhvr additive="repl">
                                        <p:cTn id="929" dur="75"/>
                                        <p:tgtEl>
                                          <p:spTgt spid="2804">
                                            <p:txEl>
                                              <p:pRg st="0" end="0"/>
                                            </p:txEl>
                                          </p:spTgt>
                                        </p:tgtEl>
                                      </p:cBhvr>
                                    </p:animEffect>
                                  </p:childTnLst>
                                </p:cTn>
                              </p:par>
                            </p:childTnLst>
                          </p:cTn>
                        </p:par>
                        <p:par>
                          <p:cTn id="930" fill="hold">
                            <p:stCondLst>
                              <p:cond delay="1550"/>
                            </p:stCondLst>
                            <p:childTnLst>
                              <p:par>
                                <p:cTn id="931" nodeType="afterEffect" fill="hold" presetClass="entr" presetID="12" presetSubtype="1">
                                  <p:stCondLst>
                                    <p:cond delay="0"/>
                                  </p:stCondLst>
                                  <p:iterate type="lt">
                                    <p:tmAbs val="75"/>
                                  </p:iterate>
                                  <p:childTnLst>
                                    <p:set>
                                      <p:cBhvr>
                                        <p:cTn id="932" dur="1" fill="hold">
                                          <p:stCondLst>
                                            <p:cond delay="0"/>
                                          </p:stCondLst>
                                        </p:cTn>
                                        <p:tgtEl>
                                          <p:spTgt spid="2804">
                                            <p:txEl>
                                              <p:pRg st="1" end="1"/>
                                            </p:txEl>
                                          </p:spTgt>
                                        </p:tgtEl>
                                        <p:attrNameLst>
                                          <p:attrName>style.visibility</p:attrName>
                                        </p:attrNameLst>
                                      </p:cBhvr>
                                      <p:to>
                                        <p:strVal val="visible"/>
                                      </p:to>
                                    </p:set>
                                    <p:animEffect filter="slide(fromTop)" transition="in">
                                      <p:cBhvr additive="repl">
                                        <p:cTn id="933" dur="75"/>
                                        <p:tgtEl>
                                          <p:spTgt spid="2804">
                                            <p:txEl>
                                              <p:pRg st="1" end="1"/>
                                            </p:txEl>
                                          </p:spTgt>
                                        </p:tgtEl>
                                      </p:cBhvr>
                                    </p:animEffect>
                                  </p:childTnLst>
                                </p:cTn>
                              </p:par>
                              <p:animClr clrSpc="rgb">
                                <p:cBhvr>
                                  <p:cTn id="934" dur="1" fill="hold">
                                    <p:stCondLst>
                                      <p:cond delay="0"/>
                                    </p:stCondLst>
                                  </p:cTn>
                                  <p:tgtEl>
                                    <p:spTgt spid="2804">
                                      <p:txEl>
                                        <p:pRg st="0" end="0"/>
                                      </p:txEl>
                                    </p:spTgt>
                                  </p:tgtEl>
                                  <p:attrNameLst>
                                    <p:attrName>ppt_c</p:attrName>
                                  </p:attrNameLst>
                                </p:cBhvr>
                                <p:to>
                                  <a:srgbClr val="ffffff"/>
                                </p:to>
                              </p:animClr>
                            </p:childTnLst>
                          </p:cTn>
                        </p:par>
                      </p:childTnLst>
                    </p:cTn>
                  </p:par>
                  <p:par>
                    <p:cTn id="935" fill="hold">
                      <p:stCondLst>
                        <p:cond delay="indefinite"/>
                      </p:stCondLst>
                      <p:childTnLst>
                        <p:par>
                          <p:cTn id="936" fill="hold">
                            <p:stCondLst>
                              <p:cond delay="0"/>
                            </p:stCondLst>
                            <p:childTnLst>
                              <p:animClr clrSpc="rgb">
                                <p:cBhvr>
                                  <p:cTn id="937" dur="1" fill="hold"/>
                                  <p:tgtEl>
                                    <p:spTgt spid="2804">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10:46:56Z</dcterms:created>
  <dc:creator>Maya İletişim</dc:creator>
  <dc:description/>
  <dc:language>en-US</dc:language>
  <cp:lastModifiedBy>qq</cp:lastModifiedBy>
  <dcterms:modified xsi:type="dcterms:W3CDTF">2004-08-31T21:27:23Z</dcterms:modified>
  <cp:revision>248</cp:revision>
  <dc:subject/>
  <dc:title>PowerPoint Sunusu</dc:title>
</cp:coreProperties>
</file>