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Robot02b.wav" ContentType="audio/x-wav"/>
  <Override PartName="/ppt/media/image5.wmf" ContentType="image/x-wmf"/>
  <Override PartName="/ppt/media/LASER.WAV" ContentType="audio/x-wav"/>
  <Override PartName="/ppt/media/Utopi02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073-812F-4E30-8A87-C0B9F2BB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9571-EAEF-4A80-94B1-F86C04D2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2E57-3A38-4ED1-879B-9ECA092B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FD1-FC34-4729-AA7D-43405084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D70C-1D26-43C1-9580-520E535A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3556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99880" y="54097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3556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699880" y="60865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9231-80D5-4F0B-B8DB-DA43E5D4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2D69-8AEB-4D1E-B972-98DE1D60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7C9-6FDD-42F9-9ECB-0A52469D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A43-53F8-4B8F-9AF6-C734B269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2C2-C814-4E38-89F3-46B92823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51560" y="60865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4D3-1F40-45C0-884B-0FF2ABD2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54097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60865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F7E-3B20-41F3-9E73-AE3DCE3D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752480" cy="6856560"/>
            <a:chOff x="0" y="0"/>
            <a:chExt cx="17524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7524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52280" y="374760"/>
              <a:ext cx="1525680" cy="1226880"/>
              <a:chOff x="152280" y="374760"/>
              <a:chExt cx="1525680" cy="1226880"/>
            </a:xfrm>
          </p:grpSpPr>
          <p:sp>
            <p:nvSpPr>
              <p:cNvPr id="3" name=""/>
              <p:cNvSpPr/>
              <p:nvPr/>
            </p:nvSpPr>
            <p:spPr>
              <a:xfrm>
                <a:off x="1171440" y="785880"/>
                <a:ext cx="506520" cy="506520"/>
              </a:xfrm>
              <a:custGeom>
                <a:avLst/>
                <a:gdLst/>
                <a:ahLst/>
                <a:rect l="l" t="t" r="r" b="b"/>
                <a:pathLst>
                  <a:path w="319" h="319">
                    <a:moveTo>
                      <a:pt x="318" y="198"/>
                    </a:moveTo>
                    <a:lnTo>
                      <a:pt x="318" y="318"/>
                    </a:lnTo>
                    <a:lnTo>
                      <a:pt x="1" y="99"/>
                    </a:lnTo>
                    <a:lnTo>
                      <a:pt x="0" y="108"/>
                    </a:lnTo>
                    <a:lnTo>
                      <a:pt x="46" y="0"/>
                    </a:lnTo>
                    <a:lnTo>
                      <a:pt x="318" y="198"/>
                    </a:lnTo>
                  </a:path>
                </a:pathLst>
              </a:custGeom>
              <a:gradFill rotWithShape="0">
                <a:gsLst>
                  <a:gs pos="0">
                    <a:srgbClr val="00763b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52280" y="785880"/>
                <a:ext cx="506520" cy="506520"/>
              </a:xfrm>
              <a:custGeom>
                <a:avLst/>
                <a:gdLst/>
                <a:ahLst/>
                <a:rect l="l" t="t" r="r" b="b"/>
                <a:pathLst>
                  <a:path w="319" h="319">
                    <a:moveTo>
                      <a:pt x="0" y="198"/>
                    </a:moveTo>
                    <a:lnTo>
                      <a:pt x="0" y="318"/>
                    </a:lnTo>
                    <a:lnTo>
                      <a:pt x="316" y="99"/>
                    </a:lnTo>
                    <a:lnTo>
                      <a:pt x="318" y="108"/>
                    </a:lnTo>
                    <a:lnTo>
                      <a:pt x="271" y="0"/>
                    </a:lnTo>
                    <a:lnTo>
                      <a:pt x="0" y="198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763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" name=""/>
              <p:cNvGrpSpPr/>
              <p:nvPr/>
            </p:nvGrpSpPr>
            <p:grpSpPr>
              <a:xfrm>
                <a:off x="240480" y="374760"/>
                <a:ext cx="1307160" cy="1226880"/>
                <a:chOff x="240480" y="374760"/>
                <a:chExt cx="1307160" cy="1226880"/>
              </a:xfrm>
            </p:grpSpPr>
            <p:sp>
              <p:nvSpPr>
                <p:cNvPr id="6" name=""/>
                <p:cNvSpPr/>
                <p:nvPr/>
              </p:nvSpPr>
              <p:spPr>
                <a:xfrm flipH="1" rot="10800000">
                  <a:off x="240120" y="374760"/>
                  <a:ext cx="1305000" cy="122544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cap="sq"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41200" y="374760"/>
                  <a:ext cx="654120" cy="1226880"/>
                </a:xfrm>
                <a:custGeom>
                  <a:avLst/>
                  <a:gdLst/>
                  <a:ahLst/>
                  <a:rect l="l" t="t" r="r" b="b"/>
                  <a:pathLst>
                    <a:path w="412" h="773">
                      <a:moveTo>
                        <a:pt x="411" y="772"/>
                      </a:moveTo>
                      <a:lnTo>
                        <a:pt x="411" y="637"/>
                      </a:lnTo>
                      <a:lnTo>
                        <a:pt x="127" y="75"/>
                      </a:lnTo>
                      <a:lnTo>
                        <a:pt x="0" y="0"/>
                      </a:lnTo>
                      <a:lnTo>
                        <a:pt x="411" y="772"/>
                      </a:lnTo>
                    </a:path>
                  </a:pathLst>
                </a:custGeom>
                <a:solidFill>
                  <a:srgbClr val="002010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41200" y="374760"/>
                  <a:ext cx="1306440" cy="122040"/>
                </a:xfrm>
                <a:custGeom>
                  <a:avLst/>
                  <a:gdLst/>
                  <a:ahLst/>
                  <a:rect l="l" t="t" r="r" b="b"/>
                  <a:pathLst>
                    <a:path w="823" h="77">
                      <a:moveTo>
                        <a:pt x="0" y="0"/>
                      </a:moveTo>
                      <a:lnTo>
                        <a:pt x="127" y="76"/>
                      </a:lnTo>
                      <a:lnTo>
                        <a:pt x="712" y="76"/>
                      </a:lnTo>
                      <a:lnTo>
                        <a:pt x="8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1bb96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893880" y="374760"/>
                  <a:ext cx="653760" cy="1226880"/>
                </a:xfrm>
                <a:custGeom>
                  <a:avLst/>
                  <a:gdLst/>
                  <a:ahLst/>
                  <a:rect l="l" t="t" r="r" b="b"/>
                  <a:pathLst>
                    <a:path w="412" h="773">
                      <a:moveTo>
                        <a:pt x="0" y="772"/>
                      </a:moveTo>
                      <a:lnTo>
                        <a:pt x="0" y="637"/>
                      </a:lnTo>
                      <a:lnTo>
                        <a:pt x="283" y="75"/>
                      </a:lnTo>
                      <a:lnTo>
                        <a:pt x="411" y="0"/>
                      </a:lnTo>
                      <a:lnTo>
                        <a:pt x="0" y="772"/>
                      </a:lnTo>
                    </a:path>
                  </a:pathLst>
                </a:custGeom>
                <a:solidFill>
                  <a:srgbClr val="006633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" name=""/>
              <p:cNvSpPr/>
              <p:nvPr/>
            </p:nvSpPr>
            <p:spPr>
              <a:xfrm>
                <a:off x="152280" y="1117440"/>
                <a:ext cx="1522440" cy="1731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F0C4-4B45-437C-A549-4596B65DEECD}" type="datetime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0271-72F7-4BB0-86DD-1E577E87E9D3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2133720" y="0"/>
            <a:ext cx="4878360" cy="6856560"/>
            <a:chOff x="2133720" y="0"/>
            <a:chExt cx="4878360" cy="6856560"/>
          </a:xfrm>
        </p:grpSpPr>
        <p:sp>
          <p:nvSpPr>
            <p:cNvPr id="53" name=""/>
            <p:cNvSpPr/>
            <p:nvPr/>
          </p:nvSpPr>
          <p:spPr>
            <a:xfrm>
              <a:off x="2895480" y="0"/>
              <a:ext cx="335304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133720" y="472680"/>
              <a:ext cx="4878360" cy="3491280"/>
              <a:chOff x="2133720" y="472680"/>
              <a:chExt cx="4878360" cy="3491280"/>
            </a:xfrm>
          </p:grpSpPr>
          <p:sp>
            <p:nvSpPr>
              <p:cNvPr id="55" name=""/>
              <p:cNvSpPr/>
              <p:nvPr/>
            </p:nvSpPr>
            <p:spPr>
              <a:xfrm>
                <a:off x="2133720" y="1643040"/>
                <a:ext cx="1617480" cy="1440000"/>
              </a:xfrm>
              <a:custGeom>
                <a:avLst/>
                <a:gdLst/>
                <a:ahLst/>
                <a:rect l="l" t="t" r="r" b="b"/>
                <a:pathLst>
                  <a:path w="1019" h="907">
                    <a:moveTo>
                      <a:pt x="0" y="566"/>
                    </a:moveTo>
                    <a:lnTo>
                      <a:pt x="0" y="906"/>
                    </a:lnTo>
                    <a:lnTo>
                      <a:pt x="1014" y="283"/>
                    </a:lnTo>
                    <a:lnTo>
                      <a:pt x="1018" y="307"/>
                    </a:lnTo>
                    <a:lnTo>
                      <a:pt x="869" y="0"/>
                    </a:lnTo>
                    <a:lnTo>
                      <a:pt x="0" y="566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763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94240" y="1643040"/>
                <a:ext cx="1617840" cy="1440000"/>
              </a:xfrm>
              <a:custGeom>
                <a:avLst/>
                <a:gdLst/>
                <a:ahLst/>
                <a:rect l="l" t="t" r="r" b="b"/>
                <a:pathLst>
                  <a:path w="1019" h="907">
                    <a:moveTo>
                      <a:pt x="1018" y="566"/>
                    </a:moveTo>
                    <a:lnTo>
                      <a:pt x="1018" y="906"/>
                    </a:lnTo>
                    <a:lnTo>
                      <a:pt x="3" y="283"/>
                    </a:lnTo>
                    <a:lnTo>
                      <a:pt x="0" y="307"/>
                    </a:lnTo>
                    <a:lnTo>
                      <a:pt x="148" y="0"/>
                    </a:lnTo>
                    <a:lnTo>
                      <a:pt x="1018" y="566"/>
                    </a:lnTo>
                  </a:path>
                </a:pathLst>
              </a:custGeom>
              <a:gradFill rotWithShape="0">
                <a:gsLst>
                  <a:gs pos="0">
                    <a:srgbClr val="00763b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2494080" y="472680"/>
                <a:ext cx="4178160" cy="3491280"/>
                <a:chOff x="2494080" y="472680"/>
                <a:chExt cx="4178160" cy="3491280"/>
              </a:xfrm>
            </p:grpSpPr>
            <p:sp>
              <p:nvSpPr>
                <p:cNvPr id="58" name=""/>
                <p:cNvSpPr/>
                <p:nvPr/>
              </p:nvSpPr>
              <p:spPr>
                <a:xfrm flipH="1" rot="10800000">
                  <a:off x="2494080" y="472680"/>
                  <a:ext cx="4176720" cy="348948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cap="sq"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494080" y="473040"/>
                  <a:ext cx="2089080" cy="3490920"/>
                </a:xfrm>
                <a:custGeom>
                  <a:avLst/>
                  <a:gdLst/>
                  <a:ahLst/>
                  <a:rect l="l" t="t" r="r" b="b"/>
                  <a:pathLst>
                    <a:path w="1316" h="2199">
                      <a:moveTo>
                        <a:pt x="1315" y="2198"/>
                      </a:moveTo>
                      <a:lnTo>
                        <a:pt x="1315" y="1815"/>
                      </a:lnTo>
                      <a:lnTo>
                        <a:pt x="409" y="214"/>
                      </a:lnTo>
                      <a:lnTo>
                        <a:pt x="0" y="0"/>
                      </a:lnTo>
                      <a:lnTo>
                        <a:pt x="1315" y="2198"/>
                      </a:lnTo>
                    </a:path>
                  </a:pathLst>
                </a:custGeom>
                <a:solidFill>
                  <a:srgbClr val="002010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494080" y="473040"/>
                  <a:ext cx="4178160" cy="344520"/>
                </a:xfrm>
                <a:custGeom>
                  <a:avLst/>
                  <a:gdLst/>
                  <a:ahLst/>
                  <a:rect l="l" t="t" r="r" b="b"/>
                  <a:pathLst>
                    <a:path w="2632" h="217">
                      <a:moveTo>
                        <a:pt x="0" y="0"/>
                      </a:moveTo>
                      <a:lnTo>
                        <a:pt x="409" y="216"/>
                      </a:lnTo>
                      <a:lnTo>
                        <a:pt x="2279" y="216"/>
                      </a:lnTo>
                      <a:lnTo>
                        <a:pt x="263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1bb96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581360" y="473040"/>
                  <a:ext cx="2090880" cy="3490920"/>
                </a:xfrm>
                <a:custGeom>
                  <a:avLst/>
                  <a:gdLst/>
                  <a:ahLst/>
                  <a:rect l="l" t="t" r="r" b="b"/>
                  <a:pathLst>
                    <a:path w="1317" h="2199">
                      <a:moveTo>
                        <a:pt x="0" y="2198"/>
                      </a:moveTo>
                      <a:lnTo>
                        <a:pt x="0" y="1815"/>
                      </a:lnTo>
                      <a:lnTo>
                        <a:pt x="906" y="214"/>
                      </a:lnTo>
                      <a:lnTo>
                        <a:pt x="1316" y="0"/>
                      </a:lnTo>
                      <a:lnTo>
                        <a:pt x="0" y="2198"/>
                      </a:lnTo>
                    </a:path>
                  </a:pathLst>
                </a:custGeom>
                <a:solidFill>
                  <a:srgbClr val="006633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2133720" y="2589120"/>
                <a:ext cx="4871880" cy="492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Robot02b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Robot02b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Robot02b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audio" Target="../media/Robot02b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Utopi02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Utopi02a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86200" y="1219320"/>
            <a:ext cx="14176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4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457200"/>
            <a:ext cx="755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MEC</a:t>
            </a:r>
            <a:endParaRPr b="0" lang="en-US" sz="2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077320" y="304920"/>
          <a:ext cx="63324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304920"/>
                    <a:ext cx="6332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286000" y="2590920"/>
            <a:ext cx="457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LABORATORIO  DE  ENSEÑANZ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DE  METODOLOGÍA  Y  ESTADÍSTI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724280"/>
            <a:ext cx="5105520" cy="120276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ESCUELA DE FONOAUDIOLOG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FACULTAD DE CIENCIAS MÉDIC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UNIVERSIDAD NACIONAL DE ROSARI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3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En síntesis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nterNet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 es otra oportunidad más. No reemplaza libros, publicaciones períodicas, trabajos de campo, ni la comunicación cara a car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E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s otro, uno más, un enorme proyecto abierto.    Y debemos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prevenirnos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 para que continúe, con mayor extensión y apertura.  Sin restricciones, sin costos, sin intervenciones extern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E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spacio donde si bien hay negocios y chatarra, también conlleva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libertad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</a:rPr>
              <a:t> de expresión, extrema velocidad,  gran interactividad,  sin censur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2A0-53BC-4977-B145-AE658FD76F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E5165-BE6F-43D3-B5A8-61086C4AD97B}" type="datetime1">
              <a:rPr lang="en-US"/>
              <a:t>07/29/26</a:t>
            </a:fld>
          </a:p>
        </p:txBody>
      </p:sp>
    </p:spTree>
  </p:cSld>
  <p:transition advTm="1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Entonces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90920" y="1294920"/>
            <a:ext cx="5843520" cy="480060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  <a:effectLst>
            <a:outerShdw dist="0" dir="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ffff"/>
                </a:solidFill>
                <a:latin typeface="Times New Roman"/>
              </a:rPr>
              <a:t>UNIVERSID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cc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99ff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33cc"/>
                </a:solidFill>
                <a:latin typeface="Times New Roman"/>
              </a:rPr>
              <a:t>Identidad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33cc"/>
                </a:solidFill>
                <a:latin typeface="Times New Roman"/>
              </a:rPr>
              <a:t>en  l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33cc"/>
                </a:solidFill>
                <a:latin typeface="Times New Roman"/>
              </a:rPr>
              <a:t>Diversidad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5593-B22E-42F0-8631-7C417CD98B6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16C34-C544-44AC-BBFC-4022615C4657}" type="datetime1">
              <a:rPr lang="en-US"/>
              <a:t>07/29/26</a:t>
            </a:fld>
          </a:p>
        </p:txBody>
      </p:sp>
    </p:spTree>
  </p:cSld>
  <p:transition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Hoy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Times New Roman"/>
              </a:rPr>
              <a:t>Aquí, entre nosotros, nos prometimos  </a:t>
            </a:r>
            <a:r>
              <a:rPr b="1" lang="es-E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ccecff"/>
                </a:solidFill>
                <a:latin typeface="Times New Roman"/>
              </a:rPr>
              <a:t>       ver  un poco  de Internet.  Entonces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Hoy nos acercamos a un programa que 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     nos llevará hacia ese espacio virtu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 algn="just">
              <a:spcBef>
                <a:spcPts val="4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Times New Roman"/>
              </a:rPr>
              <a:t>Está previsto que se active (en 10 segundos de terminada esta lectura) el ícono del programa  que nos sirve de “navegador”      </a:t>
            </a:r>
            <a:r>
              <a:rPr b="1" lang="es-ES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s-ES" sz="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ccecff"/>
                </a:solidFill>
                <a:latin typeface="Times New Roman"/>
              </a:rPr>
              <a:t>                                   </a:t>
            </a:r>
            <a:r>
              <a:rPr b="1" lang="es-ES" sz="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1" lang="es-E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s-ES" sz="800" spc="-1" strike="noStrike">
                <a:solidFill>
                  <a:srgbClr val="ffff66"/>
                </a:solidFill>
                <a:latin typeface="Times New Roman"/>
              </a:rPr>
              <a:t>                     </a:t>
            </a:r>
            <a:r>
              <a:rPr b="1" lang="es-ES" sz="16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es-ES" sz="1600" spc="-1" strike="noStrike">
                <a:solidFill>
                  <a:srgbClr val="ffffcc"/>
                </a:solidFill>
                <a:latin typeface="Times New Roman"/>
              </a:rPr>
              <a:t>Internet Explorer 4  de  Microsoft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666880"/>
            <a:ext cx="457200" cy="1295640"/>
          </a:xfrm>
          <a:custGeom>
            <a:avLst/>
            <a:gdLst>
              <a:gd name="textAreaLeft" fmla="*/ 61200 w 457200"/>
              <a:gd name="textAreaRight" fmla="*/ 396000 w 457200"/>
              <a:gd name="textAreaTop" fmla="*/ 250560 h 1295640"/>
              <a:gd name="textAreaBottom" fmla="*/ 96624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926"/>
                </a:lnTo>
                <a:arcTo wR="21600" hR="8363" stAng="10800000" swAng="-3051069"/>
                <a:lnTo>
                  <a:pt x="15107" y="21213"/>
                </a:lnTo>
                <a:lnTo>
                  <a:pt x="21600" y="18507"/>
                </a:lnTo>
                <a:lnTo>
                  <a:pt x="15107" y="15026"/>
                </a:lnTo>
                <a:lnTo>
                  <a:pt x="15107" y="16338"/>
                </a:lnTo>
                <a:arcTo wR="21600" hR="8363" stAng="7748931" swAng="2761559"/>
                <a:lnTo>
                  <a:pt x="496" y="10144"/>
                </a:lnTo>
                <a:arcTo wR="21600" hR="8363" stAng="-10510490" swAng="5110490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89510"/>
                <a:lnTo>
                  <a:pt x="496" y="10144"/>
                </a:lnTo>
                <a:arcTo wR="21600" hR="8363" stAng="-10510490" swAng="5110490"/>
                <a:close/>
              </a:path>
            </a:pathLst>
          </a:custGeom>
          <a:solidFill>
            <a:srgbClr val="ff00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77320" y="312408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8C4-2D25-463E-86E5-B588D0C9AB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C0517-1908-4EE7-A3C7-EAE7D8888C27}" type="datetime1">
              <a:rPr lang="en-US"/>
              <a:t>07/29/26</a:t>
            </a:fld>
          </a:p>
        </p:txBody>
      </p:sp>
    </p:spTree>
  </p:cSld>
  <p:transition advTm="1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60DA-3E16-4929-8578-35E4CA5714A8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DC91F-E7D4-4D7A-9B23-27CCCB47B879}" type="datetime1">
              <a:rPr lang="en-US"/>
              <a:t>07/29/26</a:t>
            </a:fld>
          </a:p>
        </p:txBody>
      </p:sp>
    </p:spTree>
  </p:cSld>
  <p:transition advTm="0">
    <p:zoom dir="in"/>
    <p:sndAc>
      <p:stSnd>
        <p:snd r:embed="rId2" name="Robot02b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D5D-3510-4E85-B0E6-36DB1DAB72D7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F4D58-C9CD-4FF0-9885-117E468FC731}" type="datetime1">
              <a:rPr lang="en-US"/>
              <a:t>07/29/26</a:t>
            </a:fld>
          </a:p>
        </p:txBody>
      </p:sp>
    </p:spTree>
  </p:cSld>
  <p:transition advTm="0">
    <p:zoom dir="in"/>
    <p:sndAc>
      <p:stSnd>
        <p:snd r:embed="rId1" name="Robot02b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D149-D47B-43E8-A94E-92D97A214845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6861-0D48-4035-948B-AB6F09FF47E7}" type="datetime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0">
    <p:zoom dir="in"/>
    <p:sndAc>
      <p:stSnd>
        <p:snd r:embed="rId1" name="Robot02b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FD2D-9B27-4427-9008-A917A52F95D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96CA-4724-44FC-9AC2-93C9D207356D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429000" y="2743200"/>
          <a:ext cx="236232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743200"/>
                    <a:ext cx="23623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0">
    <p:zoom dir="in"/>
    <p:sndAc>
      <p:stSnd>
        <p:snd r:embed="rId3" name="Robot02b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F140-AB64-4AE8-AAE0-61294C40348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4E5F-4F73-43DD-90D1-5CA30E1BF1BB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429000" y="2743200"/>
          <a:ext cx="236232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743200"/>
                    <a:ext cx="23623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0">
    <p:zoom dir="in"/>
    <p:sndAc>
      <p:stSnd>
        <p:snd r:embed="rId3" name="LASE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A1D9-FE70-4C79-BF0F-02430D9213A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BF5A-9177-4AB8-A7B1-4B081F5E56B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FF27-0B11-4349-A66F-A287DE55FBD1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124080" y="62481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vi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ecff"/>
                </a:solidFill>
                <a:latin typeface="Times New Roman"/>
              </a:rPr>
              <a:t>http://www.geocities.com/Athens/54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566B-32D9-4222-8F93-EDF503543EFB}" type="datetime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0">
    <p:zoom dir="out"/>
    <p:sndAc>
      <p:stSnd>
        <p:snd r:embed="rId1" name="Utopi02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4190760"/>
            <a:ext cx="9144000" cy="190476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Arial Black"/>
              </a:rPr>
              <a:t>Internet</a:t>
            </a:r>
            <a:r>
              <a:rPr b="0" lang="es-E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>
                <a:solidFill>
                  <a:srgbClr val="ffff99"/>
                </a:solidFill>
                <a:latin typeface="Times New Roman"/>
              </a:rPr>
              <a:t>1.-   Empezar  a  navegar  en  la  R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6200" y="1219320"/>
            <a:ext cx="14176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4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457200"/>
            <a:ext cx="755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MEC</a:t>
            </a:r>
            <a:endParaRPr b="0" lang="en-US" sz="2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077320" y="304920"/>
          <a:ext cx="63324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304920"/>
                    <a:ext cx="6332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286000" y="2590920"/>
            <a:ext cx="457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LABORATORIO  DE  ENSEÑANZ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DE  METODOLOGÍA  Y  ESTADÍSTI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3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F83-1CF5-4461-AEEE-BE3255643ABB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54356-09B5-4414-A516-0C06DAE74C77}" type="datetime1">
              <a:rPr lang="en-US"/>
              <a:t>07/29/26</a:t>
            </a:fld>
          </a:p>
        </p:txBody>
      </p:sp>
    </p:spTree>
  </p:cSld>
  <p:transition advTm="0">
    <p:zoom dir="out"/>
    <p:sndAc>
      <p:stSnd>
        <p:snd r:embed="rId1" name="Utopi02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A13-1D74-43E1-AF34-1572D2CBD1E3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4F7D4-1D21-454C-8C39-1B18C0395A1E}" type="datetime1">
              <a:rPr lang="en-US"/>
              <a:t>07/29/26</a:t>
            </a:fld>
          </a:p>
        </p:txBody>
      </p:sp>
    </p:spTree>
  </p:cSld>
  <p:transition advTm="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6200" y="1219320"/>
            <a:ext cx="14176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4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0880" y="457200"/>
            <a:ext cx="755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MEC</a:t>
            </a:r>
            <a:endParaRPr b="0" lang="en-US" sz="2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8077320" y="304920"/>
          <a:ext cx="63324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304920"/>
                    <a:ext cx="6332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286000" y="2590920"/>
            <a:ext cx="457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LABORATORIO  DE  ENSEÑANZ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ff00"/>
                </a:solidFill>
                <a:latin typeface="Arial Black"/>
              </a:rPr>
              <a:t>DE  METODOLOGÍA  Y  ESTADÍSTI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724280"/>
            <a:ext cx="5105520" cy="120276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ESCUELA DE FONOAUDIOLOG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FACULTAD DE CIENCIAS MÉDIC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Arial Black"/>
              </a:rPr>
              <a:t>UNIVERSIDAD NACIONAL DE ROSARI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Entre nosotros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Arial"/>
              </a:rPr>
              <a:t>P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odemos intentar reflexionar                         sobre las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relaciones entre                                estas tecnologías,                                               la comunicación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  (humana y social) 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y              la información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 (académica y científica)        que hacen a nuestros                              perfiles e incumbencias,                        tareas y proyectos profesionales (anteriores, actuales y futuros).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5A2B-6030-4CB2-9D07-805FB23D3D6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4C2B5-456C-4187-B552-2751A56637F9}" type="datetime1">
              <a:rPr lang="en-US"/>
              <a:t>07/29/26</a:t>
            </a:fld>
          </a:p>
        </p:txBody>
      </p:sp>
    </p:spTree>
  </p:cSld>
  <p:transition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Con la finalidad de ...</a:t>
            </a:r>
            <a:r>
              <a:rPr b="0" lang="es-E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062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epensar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 lo  propio  y  lo  apropiado;                lo  necesario,  posible  y  satisfactorio;                aquello  que es  sustentable con validez, confiabilidad, empiricidad, factibilidad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eescribir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 los  estilos  y  estrategias que favorecen nuestras mejores expectativas, actitudes  y  acciones  respecto a nuestra comunicación e informació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B6E-2BDC-4C4B-8E78-8D1F0BCDDC4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A1CA5-454C-493B-927D-7768FA43D3BC}" type="datetime1">
              <a:rPr lang="en-US"/>
              <a:t>07/29/26</a:t>
            </a:fld>
          </a:p>
        </p:txBody>
      </p:sp>
    </p:spTree>
  </p:cSld>
  <p:transition advTm="12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InterNet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062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abemos que cualquier traductor electrónico elemental traduce: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Windows”  por  VENTANA ..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Net”  por  RED o TELA ..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World Wide Web”  ( que  se  abrevia  “WWW” ) 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lo traduce por  TELA ANCHA MUNDIAL   o 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           RED  ANCHA  MUNDIAL ..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Internet ...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Red Internacional, Telaraña Mundial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Red  de  redes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77B5-D2F5-4F3A-A45D-4265CC845C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5CA29-BAD9-4FF4-A479-B813DD016D7A}" type="datetime1">
              <a:rPr lang="en-US"/>
              <a:t>07/29/26</a:t>
            </a:fld>
          </a:p>
        </p:txBody>
      </p:sp>
    </p:spTree>
  </p:cSld>
  <p:transition advTm="1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Posibilita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291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ff99"/>
                </a:solidFill>
                <a:latin typeface="Times New Roman"/>
              </a:rPr>
              <a:t>E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stablecer comunicaciones mediatizadas con múltiples procesadores de:             </a:t>
            </a:r>
            <a:r>
              <a:rPr b="1" lang="es-ES" sz="2800" spc="-1" strike="noStrike">
                <a:solidFill>
                  <a:srgbClr val="ffff66"/>
                </a:solidFill>
                <a:latin typeface="Times New Roman"/>
              </a:rPr>
              <a:t>textos, bases de datos, cálculos, íconos, gráficos, fotografías, vídeos, sonidos, música, voz ...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</a:t>
            </a:r>
            <a:r>
              <a:rPr b="1" lang="es-ES" sz="32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enviar / recibir </a:t>
            </a:r>
            <a:r>
              <a:rPr b="1" lang="es-ES" sz="2800" spc="-1" strike="noStrike">
                <a:solidFill>
                  <a:srgbClr val="ffff66"/>
                </a:solidFill>
                <a:latin typeface="Times New Roman"/>
              </a:rPr>
              <a:t>con otro interlocutor (humano  o  autómata)  enormes         cantidades  de  información  y          establecer “comunicaciones”                          a tiempo real  o  diferida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6B96-54FF-4C51-94D0-2D39B360E6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0E73C-E25B-4349-8907-68C51B92A347}" type="datetime1">
              <a:rPr lang="en-US"/>
              <a:t>07/29/26</a:t>
            </a:fld>
          </a:p>
        </p:txBody>
      </p:sp>
    </p:spTree>
  </p:cSld>
  <p:transition advTm="1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Con la Diversidad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0628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e  lenguas  maternas  (y  traducciones  en el  momento),  de  personas,  instituciones, grupos  de  trabajo,  temáticas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Times New Roman"/>
              </a:rPr>
              <a:t>D</a:t>
            </a:r>
            <a:r>
              <a:rPr b="1" lang="es-ES" sz="2800" spc="-1" strike="noStrike">
                <a:solidFill>
                  <a:srgbClr val="ffff66"/>
                </a:solidFill>
                <a:latin typeface="Times New Roman"/>
              </a:rPr>
              <a:t>e  100  millones  de  usuarios  que buscan     e  intercambian  activamente  millones  de páginas,  productos,  servicios,  listas  de intercambio,  conversaciones  grupales  en línea,  problemas  e  hipótesis  de  trabajo, líneas de investigación, nuevos desarrollos,  docencia  mediatizada,  aviso de eventos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CD4B-05A5-4C6A-9D3E-790C9BEE75B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F1B33-7DC2-4318-8430-46885BCD6A42}" type="datetime1">
              <a:rPr lang="en-US"/>
              <a:t>07/29/26</a:t>
            </a:fld>
          </a:p>
        </p:txBody>
      </p:sp>
    </p:spTree>
  </p:cSld>
  <p:transition advTm="1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Principalmente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062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imes New Roman"/>
              </a:rPr>
              <a:t>L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os servicios más frecuentemente divulgados so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las “búsquedas en Internet”:  en  las páginas  “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Web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”   mediante el    ambiente  “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WWW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”;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   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los “envíos y recepciones de mensajes personalizados”:  con el uso del     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correo  electrónico</a:t>
            </a:r>
            <a:r>
              <a:rPr b="1" lang="es-ES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 mediante                 el entorno  “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e-mail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”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ECA-281F-4608-BE09-4BAB2B4B57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5EA06-7CFF-4CD4-903B-9DCD018EED34}" type="datetime1">
              <a:rPr lang="en-US"/>
              <a:t>07/29/26</a:t>
            </a:fld>
          </a:p>
        </p:txBody>
      </p:sp>
    </p:spTree>
  </p:cSld>
  <p:transition advTm="12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Times New Roman"/>
              </a:rPr>
              <a:t>Como universitarios 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 Black"/>
              </a:rPr>
              <a:t>Y</a:t>
            </a:r>
            <a:r>
              <a:rPr b="0" lang="es-ES" sz="2400" spc="-1" strike="noStrike">
                <a:solidFill>
                  <a:srgbClr val="ffff99"/>
                </a:solidFill>
                <a:latin typeface="Arial Black"/>
              </a:rPr>
              <a:t>  muy  especialmente  en  la  </a:t>
            </a:r>
            <a:r>
              <a:rPr b="0" lang="es-ES" sz="2400" spc="-1" strike="noStrike">
                <a:solidFill>
                  <a:srgbClr val="ffff00"/>
                </a:solidFill>
                <a:latin typeface="Arial Black"/>
              </a:rPr>
              <a:t>Escuela      de  Fonoaudiología</a:t>
            </a:r>
            <a:r>
              <a:rPr b="0" lang="es-ES" sz="2400" spc="-1" strike="noStrike">
                <a:solidFill>
                  <a:srgbClr val="ffff99"/>
                </a:solidFill>
                <a:latin typeface="Arial Black"/>
              </a:rPr>
              <a:t>  consideramos  la comunicación  como  la  estrategia inexcusable para  procurarnos la información apropiad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99"/>
                </a:solidFill>
                <a:latin typeface="Arial Black"/>
              </a:rPr>
              <a:t>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 Black"/>
              </a:rPr>
              <a:t>    </a:t>
            </a:r>
            <a:r>
              <a:rPr b="0" lang="es-ES" sz="2800" spc="-1" strike="noStrike">
                <a:solidFill>
                  <a:srgbClr val="ffff66"/>
                </a:solidFill>
                <a:latin typeface="Arial Black"/>
              </a:rPr>
              <a:t>N</a:t>
            </a:r>
            <a:r>
              <a:rPr b="0" lang="es-ES" sz="2400" spc="-1" strike="noStrike">
                <a:solidFill>
                  <a:srgbClr val="ffff66"/>
                </a:solidFill>
                <a:latin typeface="Arial Black"/>
              </a:rPr>
              <a:t>uestra ciudadanía implica</a:t>
            </a:r>
            <a:r>
              <a:rPr b="0" lang="es-ES" sz="2400" spc="-1" strike="noStrike">
                <a:solidFill>
                  <a:srgbClr val="ffff99"/>
                </a:solidFill>
                <a:latin typeface="Arial Black"/>
              </a:rPr>
              <a:t>                   un  protagonismo inexcusable                 a  la  hora  de  la  accesibilidad,    obtención, divulgación y generación    del conocimiento en sus más diversas sentidos,  significados  y  proyeccion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533520"/>
            <a:ext cx="6480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45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50000">
                      <a:srgbClr val="00ff00"/>
                    </a:gs>
                    <a:gs pos="100000">
                      <a:srgbClr val="007500"/>
                    </a:gs>
                  </a:gsLst>
                  <a:lin ang="135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ab-M</a:t>
            </a:r>
            <a:endParaRPr b="1" lang="en-US" sz="2400" spc="1" strike="noStrike">
              <a:ln cap="sq"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135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06668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cuela  de Fonoaudiologí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35D-B5D2-4EC7-AEB5-94C87AB591C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BF0C1-6A51-494E-8FD0-026D32768368}" type="datetime1">
              <a:rPr lang="en-US"/>
              <a:t>07/29/26</a:t>
            </a:fld>
          </a:p>
        </p:txBody>
      </p:sp>
    </p:spTree>
  </p:cSld>
  <p:transition advTm="1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1T18:23:40Z</dcterms:created>
  <dc:creator>guillspa</dc:creator>
  <dc:description/>
  <dc:language>en-US</dc:language>
  <cp:lastModifiedBy>guillspa</cp:lastModifiedBy>
  <dcterms:modified xsi:type="dcterms:W3CDTF">1999-09-14T18:51:25Z</dcterms:modified>
  <cp:revision>10</cp:revision>
  <dc:subject/>
  <dc:title>Internet   (1)</dc:title>
</cp:coreProperties>
</file>