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957-C4F8-4A71-9252-C98AC0BA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ACC-B0DD-45CD-A310-38DE4B07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78C-5CFE-40EF-9252-678776A7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464-8EEC-452D-810A-76A4BCF6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1AE-5286-42C0-A850-FCFED683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BC9-C97E-48EC-AAEC-911684E8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357-539A-45E1-B6FE-7ADA377F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376-4CCF-41DC-B0E2-675A612C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A0A-6CFF-4F8D-B4A8-AFD911E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A1B-A241-4537-86FA-AF4B34A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AE3-7230-424A-8B7D-388D1AE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E71-4E06-4688-BCCA-483860A0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2FC9-D6B1-405F-AB96-1B8A9B069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yaeger123@aol.com" TargetMode="External"/><Relationship Id="rId2" Type="http://schemas.openxmlformats.org/officeDocument/2006/relationships/hyperlink" Target="http://www.geocities.com/gyaeger123/ASTER/index.ht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gyaeger123@aol.com" TargetMode="External"/><Relationship Id="rId2" Type="http://schemas.openxmlformats.org/officeDocument/2006/relationships/hyperlink" Target="http://www.geocities.com/gyaeger123/ASTER/index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521560" cy="25779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Layered Hebrew Pars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odification for Graphic Display of Cantillation 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352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orge Ya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 Almindelig"/>
              </a:rPr>
              <a:t>Automatic Scripture Translation Exploratory Research (ASTER)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int Pleasant, New Jersey 08742,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gyaeger123@ao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geocities.com/gyaeger123/ASTER/index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5080" y="158760"/>
            <a:ext cx="867384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ed Parsing: Always Succ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word like “bork”is not in the diction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up Layered Parser returns partial pars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 (DCG) parser just fails and returns Noth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rule does not exist for the clause, its phrase  parts are outp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(np(the,man),verb(saw),ukwn(bork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320" y="4038480"/>
            <a:ext cx="281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: The man saw b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880" y="4357800"/>
            <a:ext cx="2042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np(the, man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(saw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wn(bork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18140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1800" y="4943520"/>
            <a:ext cx="2745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er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Uk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p            saw         b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49960" y="45100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4360" y="451008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64360" y="4510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73640" y="52722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2722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78760" y="52722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73280" y="443376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68720" y="5195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39400" y="64911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  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4680" y="61102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73640" y="611028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68720" y="61102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121360" y="6262200"/>
            <a:ext cx="15228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425560" y="61102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349960" y="534816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40320" y="534816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254720" y="534816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ed Parsing Top Level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0984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Layered Parser top level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llation Mark Overview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to Parser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critic marks above or below the CBH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iberian Ma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to consonantal text about 11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they 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phrases &amp; melody, provide a musical re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ve Marks Connec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junctive Marks Separat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epend on position in the text not meaning of the word they m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available in UTF8 ve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to Show Cantillation 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d for Genesis 1 and Psalm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ing more Cantillation Marks than ever before.  Can easily color cantillation 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as a few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forward slash (e.g. PS 1:2) before cantillation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nglish Gloss (BDB nor Kohler Baumgartn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L Hebrew Font manually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er Output with Cantillation Mark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56520" y="1223280"/>
            <a:ext cx="91778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בְּרֵאשִׁ֖ית בָּרָ֣א אֱלֹהִ֑ים אֵ֥ת הַשָּׁמַ֖יִם וְאֵ֥ת הָאָֽרֶץ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sis 1: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   ref( `Gene`, `1`, `1`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s(asyndetic( appositiv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(preposition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בְּ`, `בּ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]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רֵאשִׁ֖ית`, `רֵאשִׁי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common, singular, feminine, absolute])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בָּרָ֣א`, `ברא_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qal, perfect, '3rd_person', singular, masculine]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ֱלֹהִ֑ים`, `אֱלֹהִי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common, plural, masculine, absolute]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bjectMarker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ֵ֥ת`, `אֵת_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]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(article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ַ`, `ה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]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שָּׁמַ֖יִם`, `שָׁמַיִ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common, plural, masculine, absolute])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וְ`, `ו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]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bjectMarker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ֵ֥ת`, `אֵת_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]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(article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ָ`, `ה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]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( `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ָֽרֶץ׃`, `אֶרֶ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, [common, singular, feminine, absolute]))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change font to SBL Heb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is, and Psal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Ten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English glosses from the Kohler Baumgartner Lexi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Hebrew parser tool to assist Kirk Lowery to produce a morphological and syntactically analyzed XML version of the Ten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fully modified ASTER Layered Hebrew Clause Parser to display graphic cantillation marks  using the WHI UTF8 Hebrew data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some problems still exist, they can be solved with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good second step in building the ultimate tool for parsing Hebrew UT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600" y="3352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orge Ya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 Almindelig"/>
              </a:rPr>
              <a:t>Automatic Scripture Translation Exploratory Research (ASTER)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gyaeger123@ao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geocities.com/gyaeger123/ASTER/index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8120" y="152280"/>
            <a:ext cx="3132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34720"/>
            <a:ext cx="7759440" cy="7491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25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ed Parsing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tillation Mark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F-8 WHI Data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F8 Conversion Algorithm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: UTF8 Parse Tree with Cantillation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59800" cy="990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Rendering Engine for Word did not show Cantillation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SBL Microsoft Fonts did not render some vowel pointing (Holim on Lamed)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ut without cantillation charac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724040"/>
            <a:ext cx="899172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 flipV="1">
            <a:off x="3657240" y="19807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259092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med with Hol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9144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y UTF8 Hebrew Data Convers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isplay program from Notepad to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output file extension from .TXT to 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BL Hebrew 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 from SBL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 in Fonts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s Lamed Holim render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t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ed Pars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tillation Mark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5600" y="158400"/>
            <a:ext cx="775980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t Implementa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pars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it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ed Pa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ed Parsers (bottom up) vs. Top Down DC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vs. Hard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158760"/>
            <a:ext cx="867384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ed Parsing: What is a Par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Parsing right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ing builds a knowledg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tokens (sounds, words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knowledge structure (concept in the brain, sentence diagram, linear/graphic parse tr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320" y="3992400"/>
            <a:ext cx="2481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: John saw M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3800" y="3946680"/>
            <a:ext cx="1814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subj(john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(saw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(mary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0147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6160" y="4776840"/>
            <a:ext cx="2567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          saw         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410080" y="43434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3434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158760"/>
            <a:ext cx="867384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ed Parsing: DCG vs. Lay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Clause Grammar is top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ed Parsing is mostly botto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down rules sometimes fail to produc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ed Parser (bottom up) rules always succ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720" y="3581280"/>
            <a:ext cx="289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: The man saw M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920" y="4191120"/>
            <a:ext cx="2756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subj(np(the, man)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(saw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(mary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40147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04720" y="4776840"/>
            <a:ext cx="2646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p            saw         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10080" y="43434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34340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334120" y="426708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99880" y="632448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  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105160" y="594360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59436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028840" y="594360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18288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181480" y="6095520"/>
            <a:ext cx="15264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486040" y="594360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410080" y="51814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00800" y="51814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15200" y="51814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2:02:13Z</dcterms:created>
  <dc:creator> </dc:creator>
  <dc:description/>
  <dc:language>en-US</dc:language>
  <cp:lastModifiedBy> </cp:lastModifiedBy>
  <dcterms:modified xsi:type="dcterms:W3CDTF">2006-11-08T22:03:48Z</dcterms:modified>
  <cp:revision>101</cp:revision>
  <dc:subject/>
  <dc:title>PowerPoint Presentation</dc:title>
</cp:coreProperties>
</file>