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3CE21-65DA-4AF7-91E4-D6AF90870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45B8E-915F-4F05-AB18-4975BDA08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6FB1D-FF3F-439E-88DA-C5CDE1CF0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54C2E-924B-4AB8-9D7E-25507ED33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C989E-BBA9-4831-890F-D9E641386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21B9A-CB15-4516-8F73-DD188AF03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1E79D-5884-4FFD-843C-17D0D9B6A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6DA47-E22F-4229-AFC3-D561B99FD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0C720-9051-450C-BCB5-AFD7D8794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28D64-169A-4C8B-9E07-671D165C7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E2949-F6E9-46FC-8E59-32E24B18F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DE947-A82F-4894-9376-8B9E9873F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20F4-7A76-4CD6-8B49-A17B186AC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VRANIŞ BİLİMLER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solidFill>
            <a:srgbClr val="ff6600"/>
          </a:solidFill>
          <a:ln w="9360">
            <a:solidFill>
              <a:srgbClr val="000000"/>
            </a:solidFill>
            <a:miter/>
          </a:ln>
          <a:effectLst>
            <a:outerShdw dist="107932" dir="18900000" blurRad="0" rotWithShape="0">
              <a:srgbClr val="808080"/>
            </a:outerShdw>
          </a:effectLst>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s Özetler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M.Atilla ARICIOĞL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kurallar toplumsal yapının ve sahip olunan kültürel değerlerin de yansımasıdır. Toplumun tümünü etkileyen kurallar olduğu gibi belli grupların oluşturduğu kurallar da davranışlarımızı ve sosyal rollerimizi de etki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ültürün belirlemiş olduğu roller bilinçli ya da bilinçsiz olarak belirli davranışlarda bulunmamıza neden ol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syal Roller</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 kişiden, farklı durumlara bağlı olarak göstermesi beklenilen davranışları tanımlayan kalıp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 öğretmen, hakem, evlat, koca, v.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eyler sosyal rolleri yerine getirebilmek için çaba gösterirler. Birden fazla rolün gerçekleştirmek için gösterdikleri çaba rol çatışmasına neden olabilir. Ya da rol kayması adı verilen süreçte bir rol diğerlerinden baskın çıkarak onları da etkileyebil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SYAL ETKİNİN ÇEŞİTLERİ</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etkinin varlığı iki kaynak ile açıklanmaktadı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kurallara bağlı sosyal etk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giye dayalı sosyal etki.</a:t>
            </a:r>
            <a:endParaRPr b="0" lang="en-US" sz="2800" spc="-1" strike="noStrike">
              <a:solidFill>
                <a:srgbClr val="000000"/>
              </a:solidFill>
              <a:latin typeface="Times New Roman"/>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Sosyal kurallara bağlı sosyal etki,</a:t>
            </a:r>
            <a:endParaRPr b="0" lang="en-US" sz="40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 insanın, bir kişi yada gruptan ödül almak ya da verilecek cezadan kaçınmak amacıyla uyum sağlaması ve emirlere itaati ile ilgili durumlarda oluşur. Kısa süreli bir etki ile oluşan ve grup normlarına bağlı olarak değişkenlik gösteren sosyal etki, daha çok sosyal kurallara bağlı olarak uyum konusu ile ilgili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Bilgiye dayalı sosyal etki.</a:t>
            </a:r>
            <a:br>
              <a:rPr sz="4000"/>
            </a:b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tür etki bireylerin tam bilgi edinebilmek için diğer bir kişiye ya da gruba uyması ile gerçekleş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up düşüncesinin kabul edilmesi ile ilgili olarak ortaya çıkan bu etki, kalıcı bir değişime neden olur. Çünkü insanlar, bilmedikleri hakkında edindikleri bilgi ile doğruya ulaştıklarına inanırlar ve doğruluğu korumak için diğerlerini izleyerek, davranışlarını belirlerl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2- BAŞKALARININ DAVRANIŞI BİZİ NASIL ETKİLER? ONLARLA BİRLİKTE HAREKET ETMEK ZORUNLU MUDUR YA DA UYMA NEDİR?</a:t>
            </a:r>
            <a:br>
              <a:rPr sz="3200"/>
            </a:br>
            <a:endParaRPr b="0" lang="en-US" sz="3200" spc="-1" strike="noStrike">
              <a:solidFill>
                <a:srgbClr val="000000"/>
              </a:solidFill>
              <a:latin typeface="Times New Roman"/>
            </a:endParaRPr>
          </a:p>
        </p:txBody>
      </p:sp>
      <p:sp>
        <p:nvSpPr>
          <p:cNvPr id="71"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a:bodyPr>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 kişinin ya da grubun davranış veya inançlarını açık bir istek olmadan diğer kişilere göre değiştirmesine </a:t>
            </a:r>
            <a:r>
              <a:rPr b="0" lang="en-US" sz="2400" spc="-1" strike="noStrike">
                <a:solidFill>
                  <a:srgbClr val="3333cc"/>
                </a:solidFill>
                <a:latin typeface="Times New Roman"/>
              </a:rPr>
              <a:t>UYMA </a:t>
            </a:r>
            <a:r>
              <a:rPr b="0" lang="en-US" sz="2400" spc="-1" strike="noStrike">
                <a:solidFill>
                  <a:srgbClr val="000000"/>
                </a:solidFill>
                <a:latin typeface="Times New Roman"/>
              </a:rPr>
              <a:t>adı verilir. </a:t>
            </a:r>
            <a:endParaRPr b="0" lang="en-US" sz="2400" spc="-1" strike="noStrike">
              <a:solidFill>
                <a:srgbClr val="000000"/>
              </a:solidFill>
              <a:latin typeface="Times New Roman"/>
            </a:endParaRPr>
          </a:p>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ğişiklik için diğer kişilerden sözlü ya da yazılı bir emir veya istek olması gerekmez. Bu anlamda uymanın nedeni uyan kişi tarafından tam olarak açıklanam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ŞERİF’İN OTOKİNETİK ETKİ DENEYİ</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birlerine tümüyle yabancı kişilerden oluşan bir grupta uyumun nasıl olduğunu göstere bu deney, algı yanılgısı üzerine kurulmuştur. Sabit bir ışığın hareket ediyormuş gibi algılanmasına “oto kinetik etki ” adı verilmektedir. </a:t>
            </a:r>
            <a:endParaRPr b="0" lang="en-US" sz="2400" spc="-1" strike="noStrike">
              <a:solidFill>
                <a:srgbClr val="000000"/>
              </a:solidFill>
              <a:latin typeface="Times New Roman"/>
            </a:endParaRPr>
          </a:p>
          <a:p>
            <a:pPr marL="609480" indent="-609480">
              <a:lnSpc>
                <a:spcPct val="9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Times New Roman"/>
              </a:rPr>
              <a:t>Deney iki temel soruya cevap aramaktadır:</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rsiz yapıya sahip bir durum hakkında karar vermek isteyen bir kişi ne yapar</a:t>
            </a:r>
            <a:r>
              <a:rPr b="0" lang="en-US" sz="2400" spc="-1" strike="noStrike">
                <a:solidFill>
                  <a:srgbClr val="d62406"/>
                </a:solidFill>
                <a:latin typeface="Times New Roman"/>
              </a:rPr>
              <a:t>?</a:t>
            </a:r>
            <a:r>
              <a:rPr b="0" lang="en-US" sz="2400" spc="-1" strike="noStrike">
                <a:solidFill>
                  <a:srgbClr val="000000"/>
                </a:solidFill>
                <a:latin typeface="Times New Roman"/>
              </a:rPr>
              <a:t> Böyle bir durumda kişi kendi standardını kurar mı </a:t>
            </a:r>
            <a:r>
              <a:rPr b="0" lang="en-US" sz="2400" spc="-1" strike="noStrike">
                <a:solidFill>
                  <a:srgbClr val="d62406"/>
                </a:solidFill>
                <a:latin typeface="Times New Roman"/>
              </a:rPr>
              <a:t>?</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nı durumda, grup üyeleri ne yapar </a:t>
            </a:r>
            <a:r>
              <a:rPr b="0" lang="en-US" sz="2400" spc="-1" strike="noStrike">
                <a:solidFill>
                  <a:srgbClr val="d62406"/>
                </a:solidFill>
                <a:latin typeface="Times New Roman"/>
              </a:rPr>
              <a:t>?</a:t>
            </a:r>
            <a:r>
              <a:rPr b="0" lang="en-US" sz="2400" spc="-1" strike="noStrike">
                <a:solidFill>
                  <a:srgbClr val="000000"/>
                </a:solidFill>
                <a:latin typeface="Times New Roman"/>
              </a:rPr>
              <a:t> Grup üyeleri kendi standartlarını mı kurarlar, gruptaki kişilerin etkisi altında mi kalırlar </a:t>
            </a:r>
            <a:r>
              <a:rPr b="0" lang="en-US" sz="2400" spc="-1" strike="noStrike">
                <a:solidFill>
                  <a:srgbClr val="d62406"/>
                </a:solidFill>
                <a:latin typeface="Times New Roman"/>
              </a:rPr>
              <a:t>?</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reyler, diğerleri ile birlikte iken, karaları belli bir ortak noktaya kayma eğilimi gösterir.</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özlü ifadeler baskı oluşturur ve grup içerisinde yer alan bireyler katılmasalar bile grup ile birlikte iken ortak bir davranışı benimserler; grup dışında ise kendi standartlarına uyar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k deney ortamında</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ler öncelikle kendi başlarına standart geliştirirler ik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ha sonra grubun kabul ettiği standardını kullanmaya başladı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kinci deney ortamında</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up halinde ortak bir standart belirlend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ha sonra tek başına kalan bireyler ortak standardı kullanmaya başladı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LER İNCELENECEK</a:t>
            </a:r>
            <a:r>
              <a:rPr b="0" lang="en-US" sz="4400" spc="-1" strike="noStrike">
                <a:solidFill>
                  <a:srgbClr val="000000"/>
                </a:solidFill>
                <a:latin typeface="Times New Roman"/>
              </a:rPr>
              <a:t>?</a:t>
            </a:r>
            <a:br>
              <a:rPr sz="4400"/>
            </a:br>
            <a:endParaRPr b="0" lang="en-US" sz="44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SOSYAL ETKİ NEDİR? SOSYAL ETKİNİN ORTAMLARI VE SOSYAL KURALLAR İLE SOSYAL ROLLE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BAŞKALARININ DAVRANIŞI BİZİ NASIL ETKİLER? ONLARLA BİRLİKTE HAREKET ETMEK ZORUNLU MUDUR YA DA UYMA NEDİ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KABUL ETME YA DA REDDETME NASIL SAĞLANI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SEVDİKLERİMİZE VE SEVMEDİKLERİMİZE İTAAT ETMEYİ ÖĞRENEBİLİR MİYİZ?</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GÜÇLÜ OLANI HERKES SEVER ! YA LİDERLERİ...</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TUTUM NEDİR VE NASIL OLUŞUR? TUTUMU ÖĞRENMEK MÜMKÜN MÜDÜ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ALGIDA FARKLILIK MÜMKÜN MÜDÜR? YA DA HERKES GÖKYÜZÜNÜ AYNI BİÇİMDE ALGILAYABİLİR Mİ?</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SEVGİ VE SEVMEK</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 SALDIRGANLIK, KORKU VE KAYG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nuç olarak</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ler belirsizlik ortamında diğer bireylerin karalarından etkilenirler ki; bu da, </a:t>
            </a:r>
            <a:r>
              <a:rPr b="0" i="1" lang="en-US" sz="3200" spc="-1" strike="noStrike" u="sng">
                <a:solidFill>
                  <a:srgbClr val="000000"/>
                </a:solidFill>
                <a:uFillTx/>
                <a:latin typeface="Times New Roman"/>
              </a:rPr>
              <a:t>Bilgiye Dayalı Sosyal Etkiye</a:t>
            </a:r>
            <a:r>
              <a:rPr b="0" lang="en-US" sz="3200" spc="-1" strike="noStrike">
                <a:solidFill>
                  <a:srgbClr val="000000"/>
                </a:solidFill>
                <a:latin typeface="Times New Roman"/>
              </a:rPr>
              <a:t> iyi bir örnek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CH’ IN ÇİZGİLER DENEYİ</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Şerif’ in deneyindeki belirsizlik ortadan kaldırıldığı takdirde ya da  insanların varmak istedikleri karar net ise uyma davranışı gözlemlenebilir m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sch’ a göre “net yapıya sahip bir durum hakkında karar vermesi gereken kişiler diğerlerinden etkilenmezl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Çizgiler Deneyi</a:t>
            </a:r>
            <a:endParaRPr b="0" lang="en-US" sz="4400" spc="-1" strike="noStrike">
              <a:solidFill>
                <a:srgbClr val="000000"/>
              </a:solidFill>
              <a:latin typeface="Times New Roman"/>
            </a:endParaRPr>
          </a:p>
        </p:txBody>
      </p:sp>
      <p:sp>
        <p:nvSpPr>
          <p:cNvPr id="8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ndar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     B         C</a:t>
            </a:r>
            <a:endParaRPr b="0" lang="en-US" sz="3200" spc="-1" strike="noStrike">
              <a:solidFill>
                <a:srgbClr val="000000"/>
              </a:solidFill>
              <a:latin typeface="Times New Roman"/>
            </a:endParaRPr>
          </a:p>
        </p:txBody>
      </p:sp>
      <p:sp>
        <p:nvSpPr>
          <p:cNvPr id="86" name=""/>
          <p:cNvSpPr/>
          <p:nvPr/>
        </p:nvSpPr>
        <p:spPr>
          <a:xfrm>
            <a:off x="1981080" y="28195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434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334120" y="28195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629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k koşulda,</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zli cevap koşulunda, tüm denekler doğru cevap vermiş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kinci koşulda is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çık cevap koşulunda ise, dışlanmamak, alay edilmemek v.b. nedenler ile  %30 oranında işbirlikçilerin yönlendirmesi ile yanlış cevap vermişler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nuç olarak,</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anlar doğru olarak bildikleri durumlarda bile toplum tarafından kabul görmek ve diğer nedenlere bağlı olarak ortak kabullere uyabilirler ki; bu da, </a:t>
            </a:r>
            <a:r>
              <a:rPr b="0" i="1" lang="en-US" sz="3200" spc="-1" strike="noStrike" u="sng">
                <a:solidFill>
                  <a:srgbClr val="000000"/>
                </a:solidFill>
                <a:uFillTx/>
                <a:latin typeface="Times New Roman"/>
              </a:rPr>
              <a:t>Sosyal Etki</a:t>
            </a:r>
            <a:r>
              <a:rPr b="0" lang="en-US" sz="3200" spc="-1" strike="noStrike">
                <a:solidFill>
                  <a:srgbClr val="000000"/>
                </a:solidFill>
                <a:latin typeface="Times New Roman"/>
              </a:rPr>
              <a:t> için iyi bir örnek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2406"/>
                </a:solidFill>
                <a:latin typeface="Times New Roman"/>
              </a:rPr>
              <a:t>M.ŞERİF</a:t>
            </a:r>
            <a:r>
              <a:rPr b="0" lang="en-US" sz="4400" spc="-1" strike="noStrike">
                <a:solidFill>
                  <a:srgbClr val="ff6600"/>
                </a:solidFill>
                <a:latin typeface="Times New Roman"/>
              </a:rPr>
              <a:t> </a:t>
            </a:r>
            <a:r>
              <a:rPr b="0" lang="en-US" sz="4400" spc="-1" strike="noStrike">
                <a:solidFill>
                  <a:srgbClr val="4c3c70"/>
                </a:solidFill>
                <a:latin typeface="Times New Roman"/>
              </a:rPr>
              <a:t>-----</a:t>
            </a:r>
            <a:r>
              <a:rPr b="0" lang="en-US" sz="4400" spc="-1" strike="noStrike">
                <a:solidFill>
                  <a:srgbClr val="006600"/>
                </a:solidFill>
                <a:latin typeface="Times New Roman"/>
              </a:rPr>
              <a:t>ASCH</a:t>
            </a:r>
            <a:r>
              <a:rPr b="0" lang="en-US" sz="4400" spc="-1" strike="noStrike">
                <a:solidFill>
                  <a:srgbClr val="9cdcab"/>
                </a:solidFill>
                <a:latin typeface="Times New Roman"/>
              </a:rPr>
              <a:t> </a:t>
            </a:r>
            <a:r>
              <a:rPr b="0" lang="en-US" sz="4400" spc="-1" strike="noStrike">
                <a:solidFill>
                  <a:srgbClr val="d62406"/>
                </a:solidFill>
                <a:latin typeface="Times New Roman"/>
              </a:rPr>
              <a:t>ve</a:t>
            </a:r>
            <a:r>
              <a:rPr b="0" lang="en-US" sz="4400" spc="-1" strike="noStrike">
                <a:solidFill>
                  <a:srgbClr val="9cdcab"/>
                </a:solidFill>
                <a:latin typeface="Times New Roman"/>
              </a:rPr>
              <a:t> </a:t>
            </a:r>
            <a:r>
              <a:rPr b="0" lang="en-US" sz="4400" spc="-1" strike="noStrike">
                <a:solidFill>
                  <a:srgbClr val="000000"/>
                </a:solidFill>
                <a:latin typeface="Times New Roman"/>
              </a:rPr>
              <a:t>Uymanın Nedenleri</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pılan iki araştırmanında katkısını göz önünde bulundurarak uyma davranışlarının nedenlerine bakacak olursak;</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anların </a:t>
            </a:r>
            <a:r>
              <a:rPr b="0" lang="en-US" sz="2400" spc="-1" strike="noStrike">
                <a:solidFill>
                  <a:srgbClr val="d62406"/>
                </a:solidFill>
                <a:latin typeface="Times New Roman"/>
              </a:rPr>
              <a:t>sosyal onaya</a:t>
            </a:r>
            <a:r>
              <a:rPr b="0" lang="en-US" sz="2400" spc="-1" strike="noStrike">
                <a:solidFill>
                  <a:srgbClr val="000000"/>
                </a:solidFill>
                <a:latin typeface="Times New Roman"/>
              </a:rPr>
              <a:t> ihtiyaçları vardı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anlar </a:t>
            </a:r>
            <a:r>
              <a:rPr b="0" lang="en-US" sz="2400" spc="-1" strike="noStrike">
                <a:solidFill>
                  <a:srgbClr val="d62406"/>
                </a:solidFill>
                <a:latin typeface="Times New Roman"/>
              </a:rPr>
              <a:t>doğru bilgi</a:t>
            </a:r>
            <a:r>
              <a:rPr b="0" lang="en-US" sz="2400" spc="-1" strike="noStrike">
                <a:solidFill>
                  <a:srgbClr val="000000"/>
                </a:solidFill>
                <a:latin typeface="Times New Roman"/>
              </a:rPr>
              <a:t> sağlamak ve özellikle </a:t>
            </a:r>
            <a:r>
              <a:rPr b="0" lang="en-US" sz="2400" spc="-1" strike="noStrike">
                <a:solidFill>
                  <a:srgbClr val="d62406"/>
                </a:solidFill>
                <a:latin typeface="Times New Roman"/>
              </a:rPr>
              <a:t>doğru karar</a:t>
            </a:r>
            <a:r>
              <a:rPr b="0" lang="en-US" sz="2400" spc="-1" strike="noStrike">
                <a:solidFill>
                  <a:srgbClr val="000000"/>
                </a:solidFill>
                <a:latin typeface="Times New Roman"/>
              </a:rPr>
              <a:t> ulaşmak için gruba uyarla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eylerde </a:t>
            </a:r>
            <a:r>
              <a:rPr b="0" lang="en-US" sz="2400" spc="-1" strike="noStrike">
                <a:solidFill>
                  <a:srgbClr val="d62406"/>
                </a:solidFill>
                <a:latin typeface="Times New Roman"/>
              </a:rPr>
              <a:t>kendine güvenin az olması</a:t>
            </a:r>
            <a:r>
              <a:rPr b="0" lang="en-US" sz="2400" spc="-1" strike="noStrike">
                <a:solidFill>
                  <a:srgbClr val="000000"/>
                </a:solidFill>
                <a:latin typeface="Times New Roman"/>
              </a:rPr>
              <a:t>, başkalarının davranışları ile hareket etmelerini kolaylaştırır.</a:t>
            </a:r>
            <a:endParaRPr b="0" lang="en-US" sz="2400" spc="-1" strike="noStrike">
              <a:solidFill>
                <a:srgbClr val="000000"/>
              </a:solidFill>
              <a:latin typeface="Times New Roman"/>
            </a:endParaRPr>
          </a:p>
          <a:p>
            <a:pPr marL="609480" indent="-609480">
              <a:spcBef>
                <a:spcPts val="601"/>
              </a:spcBef>
              <a:buClr>
                <a:srgbClr val="d6240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2406"/>
                </a:solidFill>
                <a:latin typeface="Times New Roman"/>
              </a:rPr>
              <a:t>Grup çok çekici</a:t>
            </a:r>
            <a:r>
              <a:rPr b="0" lang="en-US" sz="2400" spc="-1" strike="noStrike">
                <a:solidFill>
                  <a:srgbClr val="000000"/>
                </a:solidFill>
                <a:latin typeface="Times New Roman"/>
              </a:rPr>
              <a:t> ise o gruba uyma eğilimleri ar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YMAYI ETKİLEYEN FAKTÖRLER</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Kişilik Özellikleri :</a:t>
            </a:r>
            <a:r>
              <a:rPr b="0" lang="en-US" sz="2800" spc="-1" strike="noStrike">
                <a:solidFill>
                  <a:srgbClr val="000000"/>
                </a:solidFill>
                <a:latin typeface="Times New Roman"/>
              </a:rPr>
              <a:t>Uyma sürecinde kişilik özellikleri etkili rol oynamaktadır. </a:t>
            </a:r>
            <a:r>
              <a:rPr b="0" i="1" lang="en-US" sz="2400" spc="-1" strike="noStrike">
                <a:solidFill>
                  <a:srgbClr val="000000"/>
                </a:solidFill>
                <a:latin typeface="Times New Roman"/>
              </a:rPr>
              <a:t>Sevme ve sevilme</a:t>
            </a:r>
            <a:r>
              <a:rPr b="0" lang="en-US" sz="2400" spc="-1" strike="noStrike">
                <a:solidFill>
                  <a:srgbClr val="000000"/>
                </a:solidFill>
                <a:latin typeface="Times New Roman"/>
              </a:rPr>
              <a:t> ihtiyacı fazla olan bireyler daha fazla uyma gösterirken, </a:t>
            </a:r>
            <a:r>
              <a:rPr b="0" i="1" lang="en-US" sz="2400" spc="-1" strike="noStrike">
                <a:solidFill>
                  <a:srgbClr val="000000"/>
                </a:solidFill>
                <a:latin typeface="Times New Roman"/>
              </a:rPr>
              <a:t>kendini farklı göstermek</a:t>
            </a:r>
            <a:r>
              <a:rPr b="0" lang="en-US" sz="2400" spc="-1" strike="noStrike">
                <a:solidFill>
                  <a:srgbClr val="000000"/>
                </a:solidFill>
                <a:latin typeface="Times New Roman"/>
              </a:rPr>
              <a:t> isteyen bireyler uymamayı eğilimine sahiptirler. Bunun yanı sıra yaşamlarında </a:t>
            </a:r>
            <a:r>
              <a:rPr b="0" i="1" lang="en-US" sz="2400" spc="-1" strike="noStrike">
                <a:solidFill>
                  <a:srgbClr val="000000"/>
                </a:solidFill>
                <a:latin typeface="Times New Roman"/>
              </a:rPr>
              <a:t>kontrol etme</a:t>
            </a:r>
            <a:r>
              <a:rPr b="0" lang="en-US" sz="2400" spc="-1" strike="noStrike">
                <a:solidFill>
                  <a:srgbClr val="000000"/>
                </a:solidFill>
                <a:latin typeface="Times New Roman"/>
              </a:rPr>
              <a:t> isteği yüksek olan bireylerinde uymamama eğilimine sahip oldukları görülmektedir. Bireyler </a:t>
            </a:r>
            <a:r>
              <a:rPr b="0" i="1" lang="en-US" sz="2400" spc="-1" strike="noStrike">
                <a:solidFill>
                  <a:srgbClr val="000000"/>
                </a:solidFill>
                <a:latin typeface="Times New Roman"/>
              </a:rPr>
              <a:t>olumlu ve özgür benlik</a:t>
            </a:r>
            <a:r>
              <a:rPr b="0" lang="en-US" sz="2400" spc="-1" strike="noStrike">
                <a:solidFill>
                  <a:srgbClr val="000000"/>
                </a:solidFill>
                <a:latin typeface="Times New Roman"/>
              </a:rPr>
              <a:t> sunumu ile açık görüşlülüklerini sunmak amacıyla da uyma davranışına katılmazlar. Ayrıca </a:t>
            </a:r>
            <a:r>
              <a:rPr b="0" i="1" lang="en-US" sz="2400" spc="-1" strike="noStrike">
                <a:solidFill>
                  <a:srgbClr val="000000"/>
                </a:solidFill>
                <a:latin typeface="Times New Roman"/>
              </a:rPr>
              <a:t>eğitim ve zeka</a:t>
            </a:r>
            <a:r>
              <a:rPr b="0" lang="en-US" sz="2400" spc="-1" strike="noStrike">
                <a:solidFill>
                  <a:srgbClr val="000000"/>
                </a:solidFill>
                <a:latin typeface="Times New Roman"/>
              </a:rPr>
              <a:t> bu süreçte etkilidir. Ele alınan konu uymayı etkilerken,</a:t>
            </a:r>
            <a:r>
              <a:rPr b="0" i="1" lang="en-US" sz="2400" spc="-1" strike="noStrike">
                <a:solidFill>
                  <a:srgbClr val="000000"/>
                </a:solidFill>
                <a:latin typeface="Times New Roman"/>
              </a:rPr>
              <a:t>öz güvenin</a:t>
            </a:r>
            <a:r>
              <a:rPr b="0" lang="en-US" sz="2400" spc="-1" strike="noStrike">
                <a:solidFill>
                  <a:srgbClr val="000000"/>
                </a:solidFill>
                <a:latin typeface="Times New Roman"/>
              </a:rPr>
              <a:t> de süreçte rol oynadığı saptanmışt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Grubun Üye Sayısı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ubun üye sayısı ile uyma aynı yönlü bir ilişki içerisindedir. Özellikle belirsiz olan durumlarda kişi sayısının az olması bile etkilidir. Çok kişiden oluşan gruplarda ise çoğunluk açık olan durumlarda dahi belirleyici olmaktadı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Sosyal Destek</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ler kendileri ile aynı görüşte olan başka kişi ya da kişiler bulduğunda uyma sürecine katılmayabilirler. Bu da çoğunluğa uymayı azaltı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anların bir arada yaşaması beraberinde birbirlerinden etkilendikleri gerçeğini de ortaya çıkarmaktadı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in ya da bireylerin bilinçli ya da bilinçsiz bir biçimde birbirlerini ve çevrelerini etkileyerek duygu, düşünce ve davranışlarını etkilemesine </a:t>
            </a:r>
            <a:r>
              <a:rPr b="0" lang="en-US" sz="3200" spc="-1" strike="noStrike">
                <a:solidFill>
                  <a:srgbClr val="3333cc"/>
                </a:solidFill>
                <a:latin typeface="Times New Roman"/>
              </a:rPr>
              <a:t>Sosyal Etki</a:t>
            </a:r>
            <a:r>
              <a:rPr b="0" lang="en-US" sz="3200" spc="-1" strike="noStrike">
                <a:solidFill>
                  <a:srgbClr val="000000"/>
                </a:solidFill>
                <a:latin typeface="Times New Roman"/>
              </a:rPr>
              <a:t> adı verilir.</a:t>
            </a:r>
            <a:endParaRPr b="0" lang="en-US" sz="3200" spc="-1" strike="noStrike">
              <a:solidFill>
                <a:srgbClr val="000000"/>
              </a:solidFill>
              <a:latin typeface="Times New Roman"/>
            </a:endParaRPr>
          </a:p>
        </p:txBody>
      </p:sp>
      <p:sp>
        <p:nvSpPr>
          <p:cNvPr id="48"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SYAL ETKİ NEDİR? SOSYAL ETKİNİN ORTAMLARI VE SOSYAL KURALLAR İLE SOSYAL ROLLER</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Grup Birlikteliği</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birlerine bağlılık düzeyi yüksek olan bireylerin oluşturduğu grupta uyma davranışı artacaktı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dedilme ve memnuniy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Kişinin Konuya İlgis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 alınan konu kişinin ilgi alanına giriyorsa ve olumlu bir tutuma sahipse uyma davranışı görülürken, olumsuz kanaate sahip olması çoğunluğun kararına karşı gelmesine neden olacaktı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Cinsiyet</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pılan araştırmalar farklı ülkelerde farklı cevapların çıkmasına neden olmaktadır. ABD. de yapılan araştırmalara göre bir farklılık bulunmamakta iken, eğitim ve öğrenim ile gelir seviyesinin daha düşük olduğu bölgelerde kadınların daha yüksek uyma davranışı gösterdiği bilinmekte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Kültür </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ültür odaklı yapılan çalışmalarda ülkeler </a:t>
            </a:r>
            <a:r>
              <a:rPr b="0" i="1" lang="en-US" sz="3200" spc="-1" strike="noStrike">
                <a:solidFill>
                  <a:srgbClr val="9900cc"/>
                </a:solidFill>
                <a:latin typeface="Times New Roman"/>
              </a:rPr>
              <a:t>bireyci ve toplulukçu kültür</a:t>
            </a:r>
            <a:r>
              <a:rPr b="0" lang="en-US" sz="3200" spc="-1" strike="noStrike">
                <a:solidFill>
                  <a:srgbClr val="000000"/>
                </a:solidFill>
                <a:latin typeface="Times New Roman"/>
              </a:rPr>
              <a:t> olarak ikiye ayrılmıştır. Bireyci kültürlerdeki uyma davranışı, toplulukçu kültürlere göre daha düşük düzeydedir. Bir başka araştırmaya göre ise tarıma dayalı ekonomilerde uyma eğilimi daha önemsenmekte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2406"/>
                </a:solidFill>
                <a:latin typeface="Times New Roman"/>
              </a:rPr>
              <a:t>UYALIM mı ?</a:t>
            </a:r>
            <a:r>
              <a:rPr b="0" lang="en-US" sz="4400" spc="-1" strike="noStrike">
                <a:solidFill>
                  <a:srgbClr val="ff6600"/>
                </a:solidFill>
                <a:latin typeface="Times New Roman"/>
              </a:rPr>
              <a:t> </a:t>
            </a:r>
            <a:br>
              <a:rPr sz="4400"/>
            </a:br>
            <a:r>
              <a:rPr b="0" lang="en-US" sz="4400" spc="-1" strike="noStrike">
                <a:solidFill>
                  <a:srgbClr val="006600"/>
                </a:solidFill>
                <a:latin typeface="Times New Roman"/>
              </a:rPr>
              <a:t>UYMAYALIM mı</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lumsal düzenin sağlanması ve bireylerin sosyal kurallar çerçevesinde yaşamaları rahatlık sağlayacaktır. Bu bağlamda uyma kişisel ve toplumsal amaca sahip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umlu yanlarının yanı sıra yanlış yapmayı sağlayıcı etkisi dikkate alındığında uyum itaat boyutuna dönüşebilir ki; bu da, olumsuz sonuçlar doğurabili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ni kişinin ve grupların neye ve nasıl uyacaklarını bilmeleri gerek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ABUL ETME YA DA REDDETME NASIL SAĞLANIR?</a:t>
            </a:r>
            <a:br>
              <a:rPr sz="2800"/>
            </a:br>
            <a:endParaRPr b="0" lang="en-US" sz="28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 veya birkaç kişinin, bir veya birkaç kişiyi açık olarak belirtilen isteklerle etkilemeye çalışmasına </a:t>
            </a:r>
            <a:r>
              <a:rPr b="0" lang="en-US" sz="3200" spc="-1" strike="noStrike">
                <a:solidFill>
                  <a:srgbClr val="3333cc"/>
                </a:solidFill>
                <a:latin typeface="Times New Roman"/>
              </a:rPr>
              <a:t>Kabul</a:t>
            </a:r>
            <a:r>
              <a:rPr b="0" lang="en-US" sz="3200" spc="-1" strike="noStrike">
                <a:solidFill>
                  <a:srgbClr val="000000"/>
                </a:solidFill>
                <a:latin typeface="Times New Roman"/>
              </a:rPr>
              <a:t> denilir. Kabul için söz verme, korku, ahlak, sevgi, fedakarlık,borçlandırma gibi nedenler değer taşır. Kabulün gerçekleşmesinde kullanılan çeşitli stratejiler bulunmaktadı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bul için</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önce </a:t>
            </a:r>
            <a:r>
              <a:rPr b="0" lang="en-US" sz="3200" spc="-1" strike="noStrike">
                <a:solidFill>
                  <a:srgbClr val="d62406"/>
                </a:solidFill>
                <a:latin typeface="Times New Roman"/>
              </a:rPr>
              <a:t>küçük</a:t>
            </a:r>
            <a:r>
              <a:rPr b="0" lang="en-US" sz="3200" spc="-1" strike="noStrike">
                <a:solidFill>
                  <a:srgbClr val="000000"/>
                </a:solidFill>
                <a:latin typeface="Times New Roman"/>
              </a:rPr>
              <a:t>, Sonra </a:t>
            </a:r>
            <a:r>
              <a:rPr b="0" lang="en-US" sz="3200" spc="-1" strike="noStrike">
                <a:solidFill>
                  <a:srgbClr val="4c3c70"/>
                </a:solidFill>
                <a:latin typeface="Times New Roman"/>
              </a:rPr>
              <a:t>BÜYÜK</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Önce </a:t>
            </a:r>
            <a:r>
              <a:rPr b="0" lang="en-US" sz="3200" spc="-1" strike="noStrike">
                <a:solidFill>
                  <a:srgbClr val="4c3c70"/>
                </a:solidFill>
                <a:latin typeface="Times New Roman"/>
              </a:rPr>
              <a:t>BÜYÜK</a:t>
            </a:r>
            <a:r>
              <a:rPr b="0" lang="en-US" sz="3200" spc="-1" strike="noStrike">
                <a:solidFill>
                  <a:srgbClr val="000000"/>
                </a:solidFill>
                <a:latin typeface="Times New Roman"/>
              </a:rPr>
              <a:t>, sonra </a:t>
            </a:r>
            <a:r>
              <a:rPr b="0" lang="en-US" sz="3200" spc="-1" strike="noStrike">
                <a:solidFill>
                  <a:srgbClr val="d62406"/>
                </a:solidFill>
                <a:latin typeface="Times New Roman"/>
              </a:rPr>
              <a:t>küçük</a:t>
            </a:r>
            <a:endParaRPr b="0" lang="en-US" sz="3200" spc="-1" strike="noStrike">
              <a:solidFill>
                <a:srgbClr val="000000"/>
              </a:solidFill>
              <a:latin typeface="Times New Roman"/>
            </a:endParaRPr>
          </a:p>
          <a:p>
            <a:pPr marL="609480" indent="-609480">
              <a:spcBef>
                <a:spcPts val="799"/>
              </a:spcBef>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00"/>
                </a:solidFill>
                <a:uFillTx/>
                <a:latin typeface="Times New Roman"/>
              </a:rPr>
              <a:t>Gitgide artan ricalar</a:t>
            </a:r>
            <a:endParaRPr b="0" lang="en-US" sz="3200" spc="-1" strike="noStrike">
              <a:solidFill>
                <a:srgbClr val="000000"/>
              </a:solidFill>
              <a:latin typeface="Times New Roman"/>
            </a:endParaRPr>
          </a:p>
          <a:p>
            <a:pPr marL="609480" indent="-609480">
              <a:spcBef>
                <a:spcPts val="799"/>
              </a:spcBef>
              <a:buClr>
                <a:srgbClr val="ff3d2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d23"/>
                </a:solidFill>
                <a:latin typeface="Times New Roman"/>
              </a:rPr>
              <a:t>Sadece </a:t>
            </a:r>
            <a:r>
              <a:rPr b="0" lang="en-US" sz="3600" spc="-1" strike="noStrike">
                <a:solidFill>
                  <a:srgbClr val="ff3d23"/>
                </a:solidFill>
                <a:latin typeface="Times New Roman"/>
              </a:rPr>
              <a:t>O </a:t>
            </a:r>
            <a:r>
              <a:rPr b="0" lang="en-US" sz="3200" spc="-1" strike="noStrike">
                <a:solidFill>
                  <a:srgbClr val="ff3d23"/>
                </a:solidFill>
                <a:latin typeface="Times New Roman"/>
              </a:rPr>
              <a:t>değil/ Satış tatlandır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önce </a:t>
            </a:r>
            <a:r>
              <a:rPr b="0" lang="en-US" sz="4400" spc="-1" strike="noStrike">
                <a:solidFill>
                  <a:srgbClr val="d62406"/>
                </a:solidFill>
                <a:latin typeface="Times New Roman"/>
              </a:rPr>
              <a:t>küçük</a:t>
            </a:r>
            <a:r>
              <a:rPr b="0" lang="en-US" sz="4400" spc="-1" strike="noStrike">
                <a:solidFill>
                  <a:srgbClr val="000000"/>
                </a:solidFill>
                <a:latin typeface="Times New Roman"/>
              </a:rPr>
              <a:t>, Sonra </a:t>
            </a:r>
            <a:r>
              <a:rPr b="0" lang="en-US" sz="4400" spc="-1" strike="noStrike">
                <a:solidFill>
                  <a:srgbClr val="4c3c70"/>
                </a:solidFill>
                <a:latin typeface="Times New Roman"/>
              </a:rPr>
              <a:t>BÜYÜK</a:t>
            </a:r>
            <a:br>
              <a:rPr sz="4400"/>
            </a:b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nce pek önemli olmayan bir rica öne sürülür, kabulden sonra BÜYÜK ricada bulunulur. Yapılan araştırmalar göstermiştir ki, büyük rica küçük bir ricadan sonra sunulduğunda elde edilen kabul; doğrudan büyük rica sunulmasından daha etkili olmaktad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Freedman ve Fraser in 156 ev hanımı ve temizlik malzemeleri çalışması, %50 başarı sağla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liforniya’yı temiz tutalım kampanyası başarılı olmuştu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d6240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2406"/>
                </a:solidFill>
                <a:latin typeface="Times New Roman"/>
              </a:rPr>
              <a:t>Tutarlılık</a:t>
            </a:r>
            <a:r>
              <a:rPr b="0" lang="en-US" sz="2400" spc="-1" strike="noStrike">
                <a:solidFill>
                  <a:srgbClr val="000000"/>
                </a:solidFill>
                <a:latin typeface="Times New Roman"/>
              </a:rPr>
              <a:t> üzerine yapılan çalışmalarda da (sosyal etkinin oluşmasında etkilidir), belli bir konudaki görüşü savunanların, bu tutarlılık göstergesine devam ettikleri görülmektedir. Seçmen davranışları bu konuda dikkat çekici bir örnektir.</a:t>
            </a:r>
            <a:endParaRPr b="0" lang="en-US" sz="2400" spc="-1" strike="noStrike">
              <a:solidFill>
                <a:srgbClr val="000000"/>
              </a:solidFill>
              <a:latin typeface="Times New Roman"/>
            </a:endParaRPr>
          </a:p>
          <a:p>
            <a:pPr marL="572760" indent="-5727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Kendini Algılama Modeli’nde</a:t>
            </a:r>
            <a:r>
              <a:rPr b="0" lang="en-US" sz="2400" spc="-1" strike="noStrike">
                <a:solidFill>
                  <a:srgbClr val="000000"/>
                </a:solidFill>
                <a:latin typeface="Times New Roman"/>
              </a:rPr>
              <a:t> de insanlar kendi davranışlarını izleyerek, tutum ve inançları hakkında karar verirler. Böylece hangi ricaların kabule neden olacağı anlaşılır. Tutarlığın kendilik imajını etkilemesi için ;</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tarlı davranışlar başkalarının önünde yapılmalı,</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ranışlarda zorlama olmamalıdır. Çünkü küçük ricadaki zorlama, büyük ricanın yapılmasını engeller.</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ranışlar aktif bir biçimde yerine gelmelidir.</a:t>
            </a:r>
            <a:endParaRPr b="0" lang="en-US" sz="2400" spc="-1" strike="noStrike">
              <a:solidFill>
                <a:srgbClr val="000000"/>
              </a:solidFill>
              <a:latin typeface="Times New Roman"/>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ünlük yaşamın bir çok boyutunda bu kabul tekniği kullanılmaktad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Önce </a:t>
            </a:r>
            <a:r>
              <a:rPr b="0" lang="en-US" sz="4400" spc="-1" strike="noStrike">
                <a:solidFill>
                  <a:srgbClr val="4c3c70"/>
                </a:solidFill>
                <a:latin typeface="Times New Roman"/>
              </a:rPr>
              <a:t>BÜYÜK</a:t>
            </a:r>
            <a:r>
              <a:rPr b="0" lang="en-US" sz="4400" spc="-1" strike="noStrike">
                <a:solidFill>
                  <a:srgbClr val="000000"/>
                </a:solidFill>
                <a:latin typeface="Times New Roman"/>
              </a:rPr>
              <a:t>, sonra </a:t>
            </a:r>
            <a:r>
              <a:rPr b="0" lang="en-US" sz="4400" spc="-1" strike="noStrike">
                <a:solidFill>
                  <a:srgbClr val="d62406"/>
                </a:solidFill>
                <a:latin typeface="Times New Roman"/>
              </a:rPr>
              <a:t>küçük</a:t>
            </a:r>
            <a:br>
              <a:rPr sz="4400"/>
            </a:b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u teknikte, sunulan büyük rica reddedilir ve küçük ricanın kabulü kolaylaşı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Cialdini ve arkadaşlarını kampus deneyi ile % 50 başarı sağlanmıştı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yrıca araba satış tekniklerinde araç özellikleri, işçi ücretlerinin pazarlığı örnek verilebili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u teknikteki başarının </a:t>
            </a:r>
            <a:r>
              <a:rPr b="0" lang="tr-TR" sz="2400" spc="-1" strike="noStrike" u="sng">
                <a:solidFill>
                  <a:srgbClr val="ff3d23"/>
                </a:solidFill>
                <a:uFillTx/>
                <a:latin typeface="Times New Roman"/>
              </a:rPr>
              <a:t>bir nedeni</a:t>
            </a:r>
            <a:r>
              <a:rPr b="0" lang="tr-TR" sz="2400" spc="-1" strike="noStrike">
                <a:solidFill>
                  <a:srgbClr val="000000"/>
                </a:solidFill>
                <a:latin typeface="Times New Roman"/>
              </a:rPr>
              <a:t>, insanların yapılan iyiliğe karşılık verme ihtiyaçları, </a:t>
            </a:r>
            <a:r>
              <a:rPr b="0" lang="tr-TR" sz="2400" spc="-1" strike="noStrike" u="sng">
                <a:solidFill>
                  <a:srgbClr val="ff3d23"/>
                </a:solidFill>
                <a:uFillTx/>
                <a:latin typeface="Times New Roman"/>
              </a:rPr>
              <a:t>diğer nedeni</a:t>
            </a:r>
            <a:r>
              <a:rPr b="0" lang="tr-TR" sz="2400" spc="-1" strike="noStrike">
                <a:solidFill>
                  <a:srgbClr val="000000"/>
                </a:solidFill>
                <a:latin typeface="Times New Roman"/>
              </a:rPr>
              <a:t> ise büyük bir ricanın ardından gelen ricalar küçük olarak algılanmasıdır.</a:t>
            </a:r>
            <a:r>
              <a:rPr b="0" lang="tr-TR" sz="2400" spc="-1" strike="noStrike" u="sng">
                <a:solidFill>
                  <a:srgbClr val="ff3d23"/>
                </a:solidFill>
                <a:uFillTx/>
                <a:latin typeface="Times New Roman"/>
              </a:rPr>
              <a:t>Son bir neden olarak</a:t>
            </a:r>
            <a:r>
              <a:rPr b="0" lang="tr-TR" sz="2400" spc="-1" strike="noStrike">
                <a:solidFill>
                  <a:srgbClr val="000000"/>
                </a:solidFill>
                <a:latin typeface="Times New Roman"/>
              </a:rPr>
              <a:t> da, insanların kendilerini olumlu bir şekilde sunma eğilimine sahip olmaları öne sürülebil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syal etki üç ortamda oluşur;</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Kişiler arası – birebir- iletişimin olduğu ortamlardaki sosyal et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Birey-grup iletişiminin olduğu ortamlardaki sosyal et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Basın ve yayın aracılığı ile oluşan sosyal et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6600"/>
                </a:solidFill>
                <a:uFillTx/>
                <a:latin typeface="Times New Roman"/>
              </a:rPr>
              <a:t>3-Gitgide artan ricalar</a:t>
            </a:r>
            <a:br>
              <a:rPr sz="4400"/>
            </a:b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Her şey sunulan küçük bir önerinin kabulü ile başlar ve bu kabul küçük ya da büyük ricaların sunumu ile devam eder. Otomobil satışındaki satış teknikleri gib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Cialdini’nin kampus /öğrenci araştırması %56 başarılı sonuç vermiş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d23"/>
                </a:solidFill>
                <a:latin typeface="Times New Roman"/>
              </a:rPr>
              <a:t>4-Sadece </a:t>
            </a:r>
            <a:r>
              <a:rPr b="0" lang="en-US" sz="4800" spc="-1" strike="noStrike">
                <a:solidFill>
                  <a:srgbClr val="ff3d23"/>
                </a:solidFill>
                <a:latin typeface="Times New Roman"/>
              </a:rPr>
              <a:t>O </a:t>
            </a:r>
            <a:r>
              <a:rPr b="0" lang="en-US" sz="4400" spc="-1" strike="noStrike">
                <a:solidFill>
                  <a:srgbClr val="ff3d23"/>
                </a:solidFill>
                <a:latin typeface="Times New Roman"/>
              </a:rPr>
              <a:t>değil/</a:t>
            </a:r>
            <a:br>
              <a:rPr sz="4400"/>
            </a:br>
            <a:r>
              <a:rPr b="0" lang="en-US" sz="4400" spc="-1" strike="noStrike">
                <a:solidFill>
                  <a:srgbClr val="ff3d23"/>
                </a:solidFill>
                <a:latin typeface="Times New Roman"/>
              </a:rPr>
              <a:t> Satış tatlandırma</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bul için sunulan teklif, karşı teklif oluşmadan iyileştirilir. Satıcıların kullanmış olduğu indirim, bu tekniğin tipik özelliklerinden birisidir.</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cc"/>
                </a:solidFill>
                <a:latin typeface="Times New Roman"/>
              </a:rPr>
              <a:t>Burger</a:t>
            </a:r>
            <a:r>
              <a:rPr b="0" lang="tr-TR" sz="2800" spc="-1" strike="noStrike">
                <a:solidFill>
                  <a:srgbClr val="000000"/>
                </a:solidFill>
                <a:latin typeface="Times New Roman"/>
              </a:rPr>
              <a:t> tarafından kekin satışı örneğ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tekniğin geçerlilik arz etmesinde; insanların, ödünden faydalanma ya da karşılık verme eğilimleri yatmaktadır. Ayrıca alış verişten kazançlı çıkma davranışı etkil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EVDİKLERİMİZE VE SEVMEDİKLERİMİZE İTAAT ETMEYİ ÖĞRENEBİLİR MİYİZ?</a:t>
            </a:r>
            <a:br>
              <a:rPr sz="2800"/>
            </a:br>
            <a:endParaRPr b="0" lang="en-US" sz="2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Herhangi bir güç ya da güç kaynağını kullanan otoritenin emirleri ile oluşan davranış değişmesidi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Otoritenin gücü, etki alanı ve değeri aileden başlayan eğitim süreci içerisinde bizlere bildirilir. Otoritenin varlığı sözlü ya da yazılı olabileceği gibi sembollerden de anlaşılabilir. Sembollerin içerisinde unvanlar (Wilson; öğrenciler üzerine yaptığı ziyaretçi-profesör), giysiler ( Bickman; kotlu, takım elbiseli, itfaiyeci) sayılabil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k bir amaca bağlı </a:t>
            </a:r>
            <a:r>
              <a:rPr b="0" lang="en-US" sz="3200" spc="-1" strike="noStrike">
                <a:solidFill>
                  <a:srgbClr val="3333cc"/>
                </a:solidFill>
                <a:latin typeface="Times New Roman"/>
              </a:rPr>
              <a:t>psikolojik mekanizmalar</a:t>
            </a:r>
            <a:r>
              <a:rPr b="0" lang="en-US" sz="3200" spc="-1" strike="noStrike">
                <a:solidFill>
                  <a:srgbClr val="000000"/>
                </a:solidFill>
                <a:latin typeface="Times New Roman"/>
              </a:rPr>
              <a:t> da bu boyutta rol oynar. Ayrıca </a:t>
            </a:r>
            <a:r>
              <a:rPr b="0" lang="en-US" sz="3200" spc="-1" strike="noStrike">
                <a:solidFill>
                  <a:srgbClr val="3333cc"/>
                </a:solidFill>
                <a:latin typeface="Times New Roman"/>
              </a:rPr>
              <a:t>kültürel farklılıklar</a:t>
            </a:r>
            <a:r>
              <a:rPr b="0" lang="en-US" sz="3200" spc="-1" strike="noStrike">
                <a:solidFill>
                  <a:srgbClr val="000000"/>
                </a:solidFill>
                <a:latin typeface="Times New Roman"/>
              </a:rPr>
              <a:t> (çocuk yetiştirmede olduğu gibi) itaat etmede önemli faktörler olarak karşımıza çıkar. Bir başka unsur ise </a:t>
            </a:r>
            <a:r>
              <a:rPr b="0" lang="en-US" sz="3200" spc="-1" strike="noStrike">
                <a:solidFill>
                  <a:srgbClr val="3333cc"/>
                </a:solidFill>
                <a:latin typeface="Times New Roman"/>
              </a:rPr>
              <a:t>kişilik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2406"/>
                </a:solidFill>
                <a:latin typeface="Times New Roman"/>
              </a:rPr>
              <a:t>Otoriteye İtaat Etmek Ne Yarar Sağlar?</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syal kontrol ve sosyal savunmada katkıda bulun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şisel kazançlar sağlar ya da cezadan kaçınmayı gerektir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ygun davranışları oluştur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2406"/>
                </a:solidFill>
                <a:latin typeface="Times New Roman"/>
              </a:rPr>
              <a:t>Yıkıcı emre itaat etm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İnsanlar kimi emirlere kendilerine uygun olmadığı ya da katılmadıkları halde uyarlar, gönüllü olurlar ya da katılırl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Hitler, Willson, örneğindeki gib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2406"/>
                </a:solidFill>
                <a:latin typeface="Times New Roman"/>
              </a:rPr>
              <a:t>Milgram’ın İtaat Etme Deneyi</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4c3c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c3c70"/>
                </a:solidFill>
                <a:uFillTx/>
                <a:latin typeface="Times New Roman"/>
              </a:rPr>
              <a:t>“</a:t>
            </a:r>
            <a:r>
              <a:rPr b="0" lang="en-US" sz="2800" spc="-1" strike="noStrike" u="sng">
                <a:solidFill>
                  <a:srgbClr val="4c3c70"/>
                </a:solidFill>
                <a:uFillTx/>
                <a:latin typeface="Times New Roman"/>
              </a:rPr>
              <a:t>Bir insan emir verildi diye bir insanın canını yakabilir mi, bir başka insana zarar verebilir mi?”</a:t>
            </a:r>
            <a:endParaRPr b="0" lang="en-US" sz="2800" spc="-1" strike="noStrike">
              <a:solidFill>
                <a:srgbClr val="000000"/>
              </a:solidFill>
              <a:latin typeface="Times New Roman"/>
            </a:endParaRPr>
          </a:p>
          <a:p>
            <a:pPr marL="343080" indent="-343080">
              <a:spcBef>
                <a:spcPts val="700"/>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Elektronik makine,</a:t>
            </a:r>
            <a:r>
              <a:rPr b="0" lang="en-US" sz="2800" spc="-1" strike="noStrike">
                <a:solidFill>
                  <a:srgbClr val="000000"/>
                </a:solidFill>
                <a:latin typeface="Times New Roman"/>
              </a:rPr>
              <a:t> </a:t>
            </a:r>
            <a:r>
              <a:rPr b="0" lang="en-US" sz="2800" spc="-1" strike="noStrike">
                <a:solidFill>
                  <a:srgbClr val="d62406"/>
                </a:solidFill>
                <a:latin typeface="Times New Roman"/>
              </a:rPr>
              <a:t>önlüklü deneyci</a:t>
            </a:r>
            <a:r>
              <a:rPr b="0" lang="en-US" sz="2800" spc="-1" strike="noStrike">
                <a:solidFill>
                  <a:srgbClr val="000000"/>
                </a:solidFill>
                <a:latin typeface="Times New Roman"/>
              </a:rPr>
              <a:t>, laboratuar, </a:t>
            </a:r>
            <a:r>
              <a:rPr b="0" lang="en-US" sz="2800" spc="-1" strike="noStrike">
                <a:solidFill>
                  <a:srgbClr val="006600"/>
                </a:solidFill>
                <a:latin typeface="Times New Roman"/>
              </a:rPr>
              <a:t>denekler</a:t>
            </a:r>
            <a:r>
              <a:rPr b="0" lang="en-US" sz="2800" spc="-1" strike="noStrike">
                <a:solidFill>
                  <a:srgbClr val="efbbe8"/>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lime çiftlerini öğrenme/ 50 yaşındaki adam öğrenci (kalp sorunu var) / diğerleri öğretmen/ ceza elektrik şoku/kalıcı zarar yo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ktrik şoku veren cihaz 15 volttan 450 volta kadardır.15 voltluk dilimler halin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0 voltta öğrenci vazgeçmek ister.180 voltta acı çektiğini belirt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pılan araştırmada Yale Üniversitesi öğrencilerine göre deneye katılanlarından % 3’ü 450 volta kadar çıkarlar. Psikiyatrlar da benzer bir tahminde bulunmuştu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Oysa ki deneye katılan</a:t>
            </a:r>
            <a:r>
              <a:rPr b="0" lang="tr-TR" sz="3200" spc="-1" strike="noStrike">
                <a:solidFill>
                  <a:srgbClr val="d62406"/>
                </a:solidFill>
                <a:latin typeface="Times New Roman"/>
              </a:rPr>
              <a:t> 40 denekten 26’sı (% 65) tüm voltaj </a:t>
            </a:r>
            <a:r>
              <a:rPr b="0" lang="tr-TR" sz="3200" spc="-1" strike="noStrike">
                <a:solidFill>
                  <a:srgbClr val="000000"/>
                </a:solidFill>
                <a:latin typeface="Times New Roman"/>
              </a:rPr>
              <a:t>derecelerini öğrenciye vermişlerdir. Ayrıca</a:t>
            </a:r>
            <a:r>
              <a:rPr b="0" lang="tr-TR" sz="3200" spc="-1" strike="noStrike">
                <a:solidFill>
                  <a:srgbClr val="d62406"/>
                </a:solidFill>
                <a:latin typeface="Times New Roman"/>
              </a:rPr>
              <a:t> tüm katılımcılar 300 volttan</a:t>
            </a:r>
            <a:r>
              <a:rPr b="0" lang="tr-TR" sz="3200" spc="-1" strike="noStrike">
                <a:solidFill>
                  <a:srgbClr val="000000"/>
                </a:solidFill>
                <a:latin typeface="Times New Roman"/>
              </a:rPr>
              <a:t> önce deneyi bırakmamışlardı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Tekrarlanan bu deney farklı türden katılımcıları üzerine yinelenmiş ancak aynı sonuçlar alınmıştır. Avustralya için % 68, Almanya %85, Ürdün % 68 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taat Etmeyi Etkileyen Unsurlar</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gram yapmış olduğu deneydeki farklı unsurların itaat için etkileyici ve dikkat çekici olduğunu saptamıştı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Times New Roman"/>
              </a:rPr>
              <a:t>a-</a:t>
            </a:r>
            <a:r>
              <a:rPr b="0" lang="en-US" sz="3200" spc="-1" strike="noStrike">
                <a:solidFill>
                  <a:srgbClr val="9900cc"/>
                </a:solidFill>
                <a:latin typeface="Times New Roman"/>
              </a:rPr>
              <a:t> Presti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d23"/>
                </a:solidFill>
                <a:latin typeface="Times New Roman"/>
              </a:rPr>
              <a:t>b-Kurbana fiziksel yakınlı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3c70"/>
                </a:solidFill>
                <a:latin typeface="Times New Roman"/>
              </a:rPr>
              <a:t>c-Kişisel sorumluluk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d-Otoriteye karşı çıkan modell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Kişiler arası – birebir- iletişimin olduğu ortamlardaki sosyal etki</a:t>
            </a:r>
            <a:br>
              <a:rPr sz="2400"/>
            </a:b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r ya da birkaç sosyal etki kaynağının bir ya da birkaç sosyal etki hedefi ile olan iletişimini ya da etkileşimini içeri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rebir iletişim kurmak ve etkileşim içerisinde olmak bir yaşamın bir çok boyutunda ve çeşitli nedenlerle kullanılan bir etki biçimidi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kol kullanma konusunda ısrarcı ve süreklilik gösteren bir bireyin bu davranışını değiştirmeye yönelik davranışlar bu etki içerisinde yer alı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nun yanı sıra bazı gruplar bireyleri bu yolu kullanarak etkileyebilirler. Bunun içinde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Çeşitli ikna teknikler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Kişisel sorunları çözmeye yönelik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ekrarlı tartışmala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up üyelerinin çekiciliklerini ve niceliklerini kullanm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rşıt fikirler üretme fırsatı vermek, ancak mümkün olduğu kadar yeni uğraşlar ile daha geniş ve özgür düşünmelerini engellemek,</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üçlü ve beğeni ağırlıklı sunum teknikleri kullanmak-ikram v.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en-US" sz="4400" spc="-1" strike="noStrike">
                <a:solidFill>
                  <a:srgbClr val="000000"/>
                </a:solidFill>
                <a:latin typeface="Times New Roman"/>
              </a:rPr>
              <a:t> Prestij</a:t>
            </a:r>
            <a:br>
              <a:rPr sz="4400"/>
            </a:b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eneye yönelik olarak deneklerin acı verilmeyeceğini bildikleri eleştirisi yöneltilmiştir. Milgram, bunun üzerine prestijin önemini ölçmek amacıyla eski bir binada üniversite ile ilgili olmayan bireyleri toplayarak deneyi yinelemiştir. Prestiji düşük olan bu yerde itaat % 48 dir. En yüksek şok kullanılmıştır. Araştırmacının giysisi değiştirilmiş ve itaat % 20 olmuştur. Bu bağlamda “</a:t>
            </a:r>
            <a:r>
              <a:rPr b="0" lang="tr-TR" sz="2800" spc="-1" strike="noStrike">
                <a:solidFill>
                  <a:srgbClr val="ff6600"/>
                </a:solidFill>
                <a:latin typeface="Times New Roman"/>
              </a:rPr>
              <a:t>otorite figürü etki iken, deneyin yeri daha az önemlidir</a:t>
            </a:r>
            <a:r>
              <a:rPr b="0" lang="tr-TR" sz="2800" spc="-1" strike="noStrike">
                <a:solidFill>
                  <a:srgbClr val="000000"/>
                </a:solidFill>
                <a:latin typeface="Times New Roman"/>
              </a:rPr>
              <a:t>” sonucuna ulaşıl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Kurbana fiziksel yakınlık</a:t>
            </a:r>
            <a:br>
              <a:rPr sz="4400"/>
            </a:b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nu anlamak için Milgram tarafından bir çok deney yapılmıştır.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lk koşulda</a:t>
            </a:r>
            <a:r>
              <a:rPr b="0" lang="en-US" sz="2800" spc="-1" strike="noStrike">
                <a:solidFill>
                  <a:srgbClr val="000000"/>
                </a:solidFill>
                <a:latin typeface="Times New Roman"/>
              </a:rPr>
              <a:t>, ses ve görüntü yoktur (300 Voltta duvara birinin vurduğu duyulur). %66 itaat.</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kinci koşulda</a:t>
            </a:r>
            <a:r>
              <a:rPr b="0" lang="en-US" sz="2800" spc="-1" strike="noStrike">
                <a:solidFill>
                  <a:srgbClr val="0099ff"/>
                </a:solidFill>
                <a:latin typeface="Times New Roman"/>
              </a:rPr>
              <a:t>,</a:t>
            </a:r>
            <a:r>
              <a:rPr b="0" lang="en-US" sz="2800" spc="-1" strike="noStrike">
                <a:solidFill>
                  <a:srgbClr val="000000"/>
                </a:solidFill>
                <a:latin typeface="Times New Roman"/>
              </a:rPr>
              <a:t> ses vardır. İtaat % 63 tür.</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Üçüncü koşulda,</a:t>
            </a:r>
            <a:r>
              <a:rPr b="0" lang="en-US" sz="2800" spc="-1" strike="noStrike">
                <a:solidFill>
                  <a:srgbClr val="000000"/>
                </a:solidFill>
                <a:latin typeface="Times New Roman"/>
              </a:rPr>
              <a:t> aynı odada ses ve görüntü vardır. İtaat % 40 tır.</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on koşulda ise,</a:t>
            </a:r>
            <a:r>
              <a:rPr b="0" lang="en-US" sz="2800" spc="-1" strike="noStrike">
                <a:solidFill>
                  <a:srgbClr val="000000"/>
                </a:solidFill>
                <a:latin typeface="Times New Roman"/>
              </a:rPr>
              <a:t> dokunma vardır ve itaat %30 oranına gerile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 bağlamda;</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ziksel yakınlık arttıkça itaat azalır. Çünkü; </a:t>
            </a:r>
            <a:endParaRPr b="0" lang="en-US" sz="3200" spc="-1" strike="noStrike">
              <a:solidFill>
                <a:srgbClr val="000000"/>
              </a:solidFill>
              <a:latin typeface="Times New Roman"/>
            </a:endParaRPr>
          </a:p>
          <a:p>
            <a:pPr marL="343080" indent="-343080">
              <a:spcBef>
                <a:spcPts val="799"/>
              </a:spcBef>
              <a:buClr>
                <a:srgbClr val="d624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62406"/>
                </a:solidFill>
                <a:latin typeface="Times New Roman"/>
              </a:rPr>
              <a:t>empati</a:t>
            </a:r>
            <a:r>
              <a:rPr b="0" i="1" lang="en-US" sz="3200" spc="-1" strike="noStrike">
                <a:solidFill>
                  <a:srgbClr val="000000"/>
                </a:solidFill>
                <a:latin typeface="Times New Roman"/>
              </a:rPr>
              <a:t> oluşur, </a:t>
            </a:r>
            <a:endParaRPr b="0" lang="en-US" sz="3200" spc="-1" strike="noStrike">
              <a:solidFill>
                <a:srgbClr val="000000"/>
              </a:solidFill>
              <a:latin typeface="Times New Roman"/>
            </a:endParaRPr>
          </a:p>
          <a:p>
            <a:pPr marL="343080" indent="-343080">
              <a:spcBef>
                <a:spcPts val="799"/>
              </a:spcBef>
              <a:buClr>
                <a:srgbClr val="d624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62406"/>
                </a:solidFill>
                <a:latin typeface="Times New Roman"/>
              </a:rPr>
              <a:t>bilişsel alan daraltılması/görmezden gelme</a:t>
            </a:r>
            <a:r>
              <a:rPr b="0" i="1" lang="en-US" sz="3200" spc="-1" strike="noStrike">
                <a:solidFill>
                  <a:srgbClr val="000000"/>
                </a:solidFill>
                <a:latin typeface="Times New Roman"/>
              </a:rPr>
              <a:t>  ortadan kalkar,</a:t>
            </a:r>
            <a:endParaRPr b="0" lang="en-US" sz="3200" spc="-1" strike="noStrike">
              <a:solidFill>
                <a:srgbClr val="000000"/>
              </a:solidFill>
              <a:latin typeface="Times New Roman"/>
            </a:endParaRPr>
          </a:p>
          <a:p>
            <a:pPr marL="343080" indent="-343080">
              <a:spcBef>
                <a:spcPts val="799"/>
              </a:spcBef>
              <a:buClr>
                <a:srgbClr val="d624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62406"/>
                </a:solidFill>
                <a:latin typeface="Times New Roman"/>
              </a:rPr>
              <a:t>ayıp/suçluluk hissi</a:t>
            </a:r>
            <a:r>
              <a:rPr b="0" i="1" lang="en-US" sz="3200" spc="-1" strike="noStrike">
                <a:solidFill>
                  <a:srgbClr val="000000"/>
                </a:solidFill>
                <a:latin typeface="Times New Roman"/>
              </a:rPr>
              <a:t> oluşur, </a:t>
            </a:r>
            <a:endParaRPr b="0" lang="en-US" sz="3200" spc="-1" strike="noStrike">
              <a:solidFill>
                <a:srgbClr val="000000"/>
              </a:solidFill>
              <a:latin typeface="Times New Roman"/>
            </a:endParaRPr>
          </a:p>
          <a:p>
            <a:pPr marL="343080" indent="-343080">
              <a:spcBef>
                <a:spcPts val="799"/>
              </a:spcBef>
              <a:buClr>
                <a:srgbClr val="d624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62406"/>
                </a:solidFill>
                <a:latin typeface="Times New Roman"/>
              </a:rPr>
              <a:t>grup/iç grup üyesi</a:t>
            </a:r>
            <a:r>
              <a:rPr b="0" i="1" lang="en-US" sz="3200" spc="-1" strike="noStrike">
                <a:solidFill>
                  <a:srgbClr val="000000"/>
                </a:solidFill>
                <a:latin typeface="Times New Roman"/>
              </a:rPr>
              <a:t> olarak kabul edilebili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3c70"/>
                </a:solidFill>
                <a:latin typeface="Times New Roman"/>
              </a:rPr>
              <a:t>c-Kişisel sorumluluk</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Times New Roman"/>
              </a:rPr>
              <a:t>“</a:t>
            </a:r>
            <a:r>
              <a:rPr b="0" i="1" lang="en-US" sz="3200" spc="-1" strike="noStrike">
                <a:solidFill>
                  <a:srgbClr val="006600"/>
                </a:solidFill>
                <a:latin typeface="Times New Roman"/>
              </a:rPr>
              <a:t>Öğrenciye bir şey olursa sorumluluk kime ait?”</a:t>
            </a:r>
            <a:r>
              <a:rPr b="0" i="1" lang="en-US" sz="3200" spc="-1" strike="noStrike">
                <a:solidFill>
                  <a:srgbClr val="0099ff"/>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sorusuna aldıkları cevap; araştırmacı ya da deneyiciye olunca rahatlıkla deneye devam etmişler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Otoriteye karşı çıkan modeller</a:t>
            </a:r>
            <a:br>
              <a:rPr sz="4400"/>
            </a:b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oriteye ya da deneyciye yakınlık itaati arttırırken, uzaklaşmak (aynı oda, telefon, ses kaydı) itaati azaltmaktadır. Bu durum deneyci odada bulunmadığı durumlarda deneklerin kaytarmalarına kadar gitmektedir. Otoriteye karşı gelme veya itiraz etme de ise Milgram farklı deneyler yapmıştı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Öğretmen 2+1 ve öğrencide uyma düş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2406"/>
                </a:solidFill>
                <a:latin typeface="Times New Roman"/>
              </a:rPr>
              <a:t>Yıkıcı itaati azaltmanın yolları;</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ri yerine getiren kişi yaptığı işten sorumlu tutulabilir.</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ıkıcı emri yerine getirmenin uygun olmadığını gösteren sosyal kurallar geliştirilebilir.</a:t>
            </a: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ilen emirlerin nedenleri, sonuçları, varlıkları sorgulanabilir.</a:t>
            </a:r>
            <a:endParaRPr b="0" lang="en-US" sz="28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gi sahibi olmaları itaati azaltır ya da yok e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GÜÇLÜ OLANI HERKES SEVER ! YA LİDERLERİ...</a:t>
            </a:r>
            <a:br>
              <a:rPr sz="2800"/>
            </a:br>
            <a:endParaRPr b="0" lang="en-US" sz="28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etki oluşturma kapasitesi olan güç,bir bireyin ya da grubun başkalarının davranışlarını gerçekleştirme yeteneğidir.</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2406"/>
                </a:solidFill>
                <a:latin typeface="Times New Roman"/>
              </a:rPr>
              <a:t>Güç</a:t>
            </a:r>
            <a:r>
              <a:rPr b="0" lang="en-US" sz="2800" spc="-1" strike="noStrike">
                <a:solidFill>
                  <a:srgbClr val="000000"/>
                </a:solidFill>
                <a:latin typeface="Times New Roman"/>
              </a:rPr>
              <a:t> sosyal etkinin temeli,</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d62406"/>
                </a:solidFill>
                <a:latin typeface="Times New Roman"/>
              </a:rPr>
              <a:t>sosyal etki</a:t>
            </a:r>
            <a:r>
              <a:rPr b="0" lang="en-US" sz="2800" spc="-1" strike="noStrike">
                <a:solidFill>
                  <a:srgbClr val="000000"/>
                </a:solidFill>
                <a:latin typeface="Times New Roman"/>
              </a:rPr>
              <a:t> gücün iş başında olduğu durum,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d62406"/>
                </a:solidFill>
                <a:latin typeface="Times New Roman"/>
              </a:rPr>
              <a:t>otorite</a:t>
            </a:r>
            <a:r>
              <a:rPr b="0" lang="en-US" sz="2800" spc="-1" strike="noStrike">
                <a:solidFill>
                  <a:srgbClr val="000000"/>
                </a:solidFill>
                <a:latin typeface="Times New Roman"/>
              </a:rPr>
              <a:t> ise sosyal kurallar, gelenekler, v.d. dayalı olarak kişinin sahip olduğu konum ve sosyal etki sağlama yetkisidir.</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ücün sağlanabilmesinde </a:t>
            </a:r>
            <a:r>
              <a:rPr b="0" lang="en-US" sz="2800" spc="-1" strike="noStrike">
                <a:solidFill>
                  <a:srgbClr val="3333cc"/>
                </a:solidFill>
                <a:latin typeface="Times New Roman"/>
              </a:rPr>
              <a:t>bağımlılık</a:t>
            </a:r>
            <a:r>
              <a:rPr b="0" lang="en-US" sz="2800" spc="-1" strike="noStrike">
                <a:solidFill>
                  <a:srgbClr val="000000"/>
                </a:solidFill>
                <a:latin typeface="Times New Roman"/>
              </a:rPr>
              <a:t> önemli bir role sahip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Gücün kaynakları;</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eza gücü</a:t>
            </a:r>
            <a:r>
              <a:rPr b="0" lang="en-US" sz="2800" spc="-1" strike="noStrike">
                <a:solidFill>
                  <a:srgbClr val="0099ff"/>
                </a:solidFill>
                <a:latin typeface="Times New Roman"/>
              </a:rPr>
              <a:t>;</a:t>
            </a:r>
            <a:r>
              <a:rPr b="0" lang="en-US" sz="2800" spc="-1" strike="noStrike">
                <a:solidFill>
                  <a:srgbClr val="000000"/>
                </a:solidFill>
                <a:latin typeface="Times New Roman"/>
              </a:rPr>
              <a:t> korkuya dayalıdır. Fiziksel veya duygusal, zihinsel olabilir. Sosyal etki sağlanabilir.</a:t>
            </a:r>
            <a:endParaRPr b="0" lang="en-US" sz="2800" spc="-1" strike="noStrike">
              <a:solidFill>
                <a:srgbClr val="000000"/>
              </a:solidFill>
              <a:latin typeface="Times New Roman"/>
            </a:endParaRPr>
          </a:p>
          <a:p>
            <a:pPr marL="339480" indent="-33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Ödül gücü;</a:t>
            </a:r>
            <a:r>
              <a:rPr b="0" lang="en-US" sz="2800" spc="-1" strike="noStrike">
                <a:solidFill>
                  <a:srgbClr val="0099ff"/>
                </a:solidFill>
                <a:latin typeface="Times New Roman"/>
              </a:rPr>
              <a:t> </a:t>
            </a:r>
            <a:r>
              <a:rPr b="0" lang="en-US" sz="2800" spc="-1" strike="noStrike">
                <a:solidFill>
                  <a:srgbClr val="000000"/>
                </a:solidFill>
                <a:latin typeface="Times New Roman"/>
              </a:rPr>
              <a:t>vaat eden kişi,</a:t>
            </a:r>
            <a:r>
              <a:rPr b="0" lang="en-US" sz="2800" spc="-1" strike="noStrike">
                <a:solidFill>
                  <a:srgbClr val="0099ff"/>
                </a:solidFill>
                <a:latin typeface="Times New Roman"/>
              </a:rPr>
              <a:t> </a:t>
            </a:r>
            <a:r>
              <a:rPr b="0" lang="en-US" sz="2800" spc="-1" strike="noStrike">
                <a:solidFill>
                  <a:srgbClr val="000000"/>
                </a:solidFill>
                <a:latin typeface="Times New Roman"/>
              </a:rPr>
              <a:t>onaylama veya ödül ile</a:t>
            </a:r>
            <a:r>
              <a:rPr b="0" lang="en-US" sz="2800" spc="-1" strike="noStrike">
                <a:solidFill>
                  <a:srgbClr val="0099ff"/>
                </a:solidFill>
                <a:latin typeface="Times New Roman"/>
              </a:rPr>
              <a:t> </a:t>
            </a:r>
            <a:r>
              <a:rPr b="0" lang="en-US" sz="2800" spc="-1" strike="noStrike">
                <a:solidFill>
                  <a:srgbClr val="000000"/>
                </a:solidFill>
                <a:latin typeface="Times New Roman"/>
              </a:rPr>
              <a:t>sosyal etki oluşturabilir. Ancak kişinin konumu önemlidir.</a:t>
            </a:r>
            <a:endParaRPr b="0" lang="en-US" sz="2800" spc="-1" strike="noStrike">
              <a:solidFill>
                <a:srgbClr val="000000"/>
              </a:solidFill>
              <a:latin typeface="Times New Roman"/>
            </a:endParaRPr>
          </a:p>
          <a:p>
            <a:pPr marL="339480" indent="-33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torite/yasal gücü;</a:t>
            </a:r>
            <a:r>
              <a:rPr b="0" lang="en-US" sz="2800" spc="-1" strike="noStrike">
                <a:solidFill>
                  <a:srgbClr val="0099ff"/>
                </a:solidFill>
                <a:latin typeface="Times New Roman"/>
              </a:rPr>
              <a:t> </a:t>
            </a:r>
            <a:r>
              <a:rPr b="0" lang="en-US" sz="2800" spc="-1" strike="noStrike">
                <a:solidFill>
                  <a:srgbClr val="000000"/>
                </a:solidFill>
                <a:latin typeface="Times New Roman"/>
              </a:rPr>
              <a:t>resmi konuma bağlı olarak kullanılır. Kültürel veya sosyal yapının öngördüğü durumda bu güç içerisinde değerlendirilir. Bağımlılık olgusu, eşitlik otorite gücü, karşılıklılık otorite gücü bu kapsamda değerlendirilir.</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ilirkişi/uzman gücü;</a:t>
            </a:r>
            <a:r>
              <a:rPr b="0" lang="en-US" sz="3200" spc="-1" strike="noStrike">
                <a:solidFill>
                  <a:srgbClr val="0099ff"/>
                </a:solidFill>
                <a:latin typeface="Times New Roman"/>
              </a:rPr>
              <a:t> </a:t>
            </a:r>
            <a:r>
              <a:rPr b="0" lang="en-US" sz="3200" spc="-1" strike="noStrike">
                <a:solidFill>
                  <a:srgbClr val="000000"/>
                </a:solidFill>
                <a:latin typeface="Times New Roman"/>
              </a:rPr>
              <a:t>herhangi bir konuda uzman ya da gerekli ve yoğun bilgi birikimine sahip olan kişiler için geçerlidi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Karizma gücü;</a:t>
            </a:r>
            <a:r>
              <a:rPr b="0" lang="en-US" sz="3200" spc="-1" strike="noStrike">
                <a:solidFill>
                  <a:srgbClr val="0099ff"/>
                </a:solidFill>
                <a:latin typeface="Times New Roman"/>
              </a:rPr>
              <a:t> </a:t>
            </a:r>
            <a:r>
              <a:rPr b="0" lang="en-US" sz="3200" spc="-1" strike="noStrike">
                <a:solidFill>
                  <a:srgbClr val="000000"/>
                </a:solidFill>
                <a:latin typeface="Times New Roman"/>
              </a:rPr>
              <a:t>bireyler doğuştan kazandıklarına inanılan güç ile çevresinin kendisini kabul etmesini ve itaat etmesini sağlayabilir. En etkili güç türüdü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3c70"/>
                </a:solidFill>
                <a:latin typeface="Times New Roman"/>
              </a:rPr>
              <a:t>LİDER VE LİDERLİK</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Çok sayıda tanımı ve türü olmakla birlikte, genel bir biçimde; </a:t>
            </a:r>
            <a:r>
              <a:rPr b="0" i="1" lang="en-US" sz="3200" spc="-1" strike="noStrike">
                <a:solidFill>
                  <a:srgbClr val="000000"/>
                </a:solidFill>
                <a:latin typeface="Times New Roman"/>
              </a:rPr>
              <a:t>gücü elinde bulunduran, bireylerin davranış ve inançlarında sosyal etki oluşturan kişid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derin grup üyelerini etkileyerek amaçlar doğrultusunda sahip olduğu gücü kullandığı sürece ise </a:t>
            </a:r>
            <a:r>
              <a:rPr b="0" i="1" lang="en-US" sz="3200" spc="-1" strike="noStrike">
                <a:solidFill>
                  <a:srgbClr val="3333cc"/>
                </a:solidFill>
                <a:latin typeface="Times New Roman"/>
              </a:rPr>
              <a:t>liderlik</a:t>
            </a:r>
            <a:r>
              <a:rPr b="0" lang="en-US" sz="3200" spc="-1" strike="noStrike">
                <a:solidFill>
                  <a:srgbClr val="000000"/>
                </a:solidFill>
                <a:latin typeface="Times New Roman"/>
              </a:rPr>
              <a:t> adı veri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2-Birey-grup iletişiminin olduğu ortamlardaki sosyal etki</a:t>
            </a:r>
            <a:br>
              <a:rPr sz="2800"/>
            </a:b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syal etki kaynağı bir grubu sosyal etki hedefi olarak kabul eder ve hedefin kendisi ile hem fikir olmasını sağla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ynak etki süreci içerisinde kaynağın yapısal özelliklerini ve kültürel değerlerini de dikkate alarak onların hem fikir olmasını, kendisi ile özdeşleşmesini ve ikna olarak birlikte hareket etmeye karar vermesini sağla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yasi parti çalışmaları, reklam ve PR çalışmaları gibi örnekler bu konuda ele alınabil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imes New Roman"/>
              </a:rPr>
              <a:t>Liderlik kuramları</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n Mükemmel İnsan Yaklaşımı;</a:t>
            </a:r>
            <a:r>
              <a:rPr b="0" lang="en-US" sz="2800" spc="-1" strike="noStrike">
                <a:solidFill>
                  <a:srgbClr val="000000"/>
                </a:solidFill>
                <a:latin typeface="Times New Roman"/>
              </a:rPr>
              <a:t> Fiziksel ve psikolojik özellikler üzerinde durur. Bireyi üç boyutta ele alır: Fiziksel, kişilik ve yetene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şilik özellikleri insan ilişkileri açısından da önemli kabul edilir. Yapılan bir araştırmada bireylerin Karizma, İlham kaynağı olma, Zihni uyarıcı rolü oynama ve Diğerlerinin kişisel ihtiyaçları ile ilgilenme faktörlerinin önemli olduğu gözlemlenmiştir. Bu yaklaşım yeterli olmamakla birlikte liderlik davranışlarına ışık tutmaktad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iderliğe Çevresel Yaklaşımı;</a:t>
            </a:r>
            <a:r>
              <a:rPr b="0" lang="en-US" sz="3200" spc="-1" strike="noStrike">
                <a:solidFill>
                  <a:srgbClr val="000000"/>
                </a:solidFill>
                <a:latin typeface="Times New Roman"/>
              </a:rPr>
              <a:t> doğru yerde ve doğru zamanda bulunan kişilerin lider olabileceklerini ileri süren yaklaşımdır. Çevrenin ve konumun kişiyi lider yapma etkisi üzerinde durur. Bu kimi zaman deneysel ortamdaki gibi masanın başı, kimi zaman ise bir savaş durumu olabil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cc"/>
                </a:solidFill>
                <a:latin typeface="Times New Roman"/>
              </a:rPr>
              <a:t>Davranışsal Liderlik Yaklaşımı</a:t>
            </a:r>
            <a:r>
              <a:rPr b="0" lang="tr-TR" sz="2800" spc="-1" strike="noStrike">
                <a:solidFill>
                  <a:srgbClr val="000000"/>
                </a:solidFill>
                <a:latin typeface="Times New Roman"/>
              </a:rPr>
              <a:t> ; Ohio State ve Michigan üniversitelerindeki araştırmalar sonucunda ortaya konmuştur. Grup liderinin, grup performansı, grup üyelerinin memnuniyeti arasındaki ilişki üzerinde durulmuştur. </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cc"/>
                </a:solidFill>
                <a:latin typeface="Times New Roman"/>
              </a:rPr>
              <a:t>Durumsallık</a:t>
            </a:r>
            <a:r>
              <a:rPr b="0" lang="tr-TR" sz="2800" spc="-1" strike="noStrike">
                <a:solidFill>
                  <a:srgbClr val="ff9900"/>
                </a:solidFill>
                <a:latin typeface="Times New Roman"/>
              </a:rPr>
              <a:t> </a:t>
            </a:r>
            <a:r>
              <a:rPr b="0" lang="tr-TR" sz="2800" spc="-1" strike="noStrike">
                <a:solidFill>
                  <a:srgbClr val="000000"/>
                </a:solidFill>
                <a:latin typeface="Times New Roman"/>
              </a:rPr>
              <a:t>Yaklaşımı;liderliğin etkinliği için iki unsur üzerinde durur. Bunlar, liderin kişilik ve davranışsal özellikleri ile bulunulan ortamın özellikleri.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rumsallık yaklaşımları</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cc"/>
                </a:solidFill>
                <a:latin typeface="Times New Roman"/>
              </a:rPr>
              <a:t>Fiedler</a:t>
            </a:r>
            <a:r>
              <a:rPr b="0" lang="tr-TR" sz="2400" spc="-1" strike="noStrike">
                <a:solidFill>
                  <a:srgbClr val="000000"/>
                </a:solidFill>
                <a:latin typeface="Times New Roman"/>
              </a:rPr>
              <a:t> , davranışsal ve çevresel yaklaşımlardaki unsurları bir arada ele almıştır. Fiedler’e göre iki tip liderlik vardır;işe dayalı ve sosyal ilişkiye dayalı. Liderliğin biçimini belirleyecek olan ise lider ile grup ilişkisidir. Üyelerin desteklemesi ve bağlılıklarını ortaya koyması liderin etkinliğini arttırır. Liderin gücü ise bu bağlılığın yanı sıra yeteneklerine bağlı olarak da ortaya çıkacaktır bu bağlamda etkin olan lider, kişilik özellikleri ile durumun koşulları arasındaki ilişkiye bağlı olarak ortaya çık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cc"/>
                </a:solidFill>
                <a:latin typeface="Times New Roman"/>
              </a:rPr>
              <a:t>House ya da Yol-Amaç Kuramı’na</a:t>
            </a:r>
            <a:r>
              <a:rPr b="0" lang="tr-TR" sz="2400" spc="-1" strike="noStrike">
                <a:solidFill>
                  <a:srgbClr val="000000"/>
                </a:solidFill>
                <a:latin typeface="Times New Roman"/>
              </a:rPr>
              <a:t> göre, motivasyon ile liderlik arasında ilişki bulunmaktadır. Kişiler kendilerini geliştirmede, çalışma amaçlarının algılanmasında ve amaca ulaşmada izlenecek yolların lider tarafından nasıl algılanacağı bilinmelidir. Bunun için de, lider motivasyonu arttıracak ve performansı etkileyecek davranışları belirler. Bu kurama göre, a-lider davranışları, çalışanların o andaki ve gelecekteki memnuniyetlerinin kaynağı olduğu sürece etkindir. b-lider davranışları, etkin performans için gerekli ödül/ortam sağladığı sürece motivasyoneld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 kurama göre dört temel lider davranışı bulunmaktadır:</a:t>
            </a:r>
            <a:r>
              <a:rPr b="0" lang="en-US" sz="3200" spc="-1" strike="noStrike">
                <a:solidFill>
                  <a:srgbClr val="d62406"/>
                </a:solidFill>
                <a:latin typeface="Times New Roman"/>
              </a:rPr>
              <a:t>emredici</a:t>
            </a:r>
            <a:r>
              <a:rPr b="0" lang="en-US" sz="3200" spc="-1" strike="noStrike">
                <a:solidFill>
                  <a:srgbClr val="000000"/>
                </a:solidFill>
                <a:latin typeface="Times New Roman"/>
              </a:rPr>
              <a:t> /  </a:t>
            </a:r>
            <a:r>
              <a:rPr b="0" lang="en-US" sz="3200" spc="-1" strike="noStrike">
                <a:solidFill>
                  <a:srgbClr val="006600"/>
                </a:solidFill>
                <a:latin typeface="Times New Roman"/>
              </a:rPr>
              <a:t>destekleyici</a:t>
            </a:r>
            <a:r>
              <a:rPr b="0" lang="en-US" sz="3200" spc="-1" strike="noStrike">
                <a:solidFill>
                  <a:srgbClr val="000000"/>
                </a:solidFill>
                <a:latin typeface="Times New Roman"/>
              </a:rPr>
              <a:t> / </a:t>
            </a:r>
            <a:r>
              <a:rPr b="0" lang="en-US" sz="3200" spc="-1" strike="noStrike">
                <a:solidFill>
                  <a:srgbClr val="d62406"/>
                </a:solidFill>
                <a:latin typeface="Times New Roman"/>
              </a:rPr>
              <a:t>katılımcı</a:t>
            </a:r>
            <a:r>
              <a:rPr b="0" lang="en-US" sz="3200" spc="-1" strike="noStrike">
                <a:solidFill>
                  <a:srgbClr val="000000"/>
                </a:solidFill>
                <a:latin typeface="Times New Roman"/>
              </a:rPr>
              <a:t> / </a:t>
            </a:r>
            <a:r>
              <a:rPr b="0" lang="en-US" sz="3200" spc="-1" strike="noStrike">
                <a:solidFill>
                  <a:srgbClr val="3333cc"/>
                </a:solidFill>
                <a:latin typeface="Times New Roman"/>
              </a:rPr>
              <a:t>başarı merkezc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na karşın lider varlığını ya da etkinliğini belirlerken davranışlarını : çaba-performans,</a:t>
            </a:r>
            <a:r>
              <a:rPr b="0" lang="en-US" sz="3200" spc="-1" strike="noStrike">
                <a:solidFill>
                  <a:srgbClr val="000000"/>
                </a:solidFill>
                <a:latin typeface="Times New Roman"/>
              </a:rPr>
              <a:t>	</a:t>
            </a:r>
            <a:r>
              <a:rPr b="0" lang="en-US" sz="3200" spc="-1" strike="noStrike">
                <a:solidFill>
                  <a:srgbClr val="000000"/>
                </a:solidFill>
                <a:latin typeface="Times New Roman"/>
              </a:rPr>
              <a:t>performans-ödül, değerlili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surları üzerine kur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imes New Roman"/>
              </a:rPr>
              <a:t>Liderlik ve cinsiyet</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derlik ile cinsiyet arasındaki ilişkiyi açıklamaya çalışan çok sayıda model bulunmaktadı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01"/>
              </a:spcBef>
              <a:buClr>
                <a:srgbClr val="99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Sosyal rol modeline</a:t>
            </a:r>
            <a:r>
              <a:rPr b="0" lang="en-US" sz="2400" spc="-1" strike="noStrike">
                <a:solidFill>
                  <a:srgbClr val="000000"/>
                </a:solidFill>
                <a:latin typeface="Times New Roman"/>
              </a:rPr>
              <a:t> göre, toplumsal bağlamda belirlenen ya da algılanan kadın ve erkek rolleri liderlik davranışını belirlemektedir. Kültürel cinsiyet rollerine göre liderlik algısı farklılaşmaktadır. Bu durumun rol çatışmasına neden olabileceği ile sürülmektedir. Yapılan araştırmalarda beklenen rollerin otoriter, yönlendirici vb. tutumları nasıl benimsediği önem kazanmaktad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Yapısal model,</a:t>
            </a:r>
            <a:r>
              <a:rPr b="0" lang="en-US" sz="2800" spc="-1" strike="noStrike">
                <a:solidFill>
                  <a:srgbClr val="0099ff"/>
                </a:solidFill>
                <a:latin typeface="Times New Roman"/>
              </a:rPr>
              <a:t> </a:t>
            </a:r>
            <a:r>
              <a:rPr b="0" lang="en-US" sz="2800" spc="-1" strike="noStrike">
                <a:solidFill>
                  <a:srgbClr val="000000"/>
                </a:solidFill>
                <a:latin typeface="Times New Roman"/>
              </a:rPr>
              <a:t>ise örgüte ait pozisyon ve sosyal etkilerin uygunluğu liderlik davranışlarını ya da durumunu belirler. Önemli olan kişisel davranışlar ya da özellikler değil, statü,rol ve algılan güçtür. Düşük güç pozisyonu ile yüksek güç pozisyonu, kadın ve erkeklerin genel durumu ile ilişkilendirildiğinde  gücün elde edilmesi/kullanılması daha kolay anlaşıl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utum ve Tutumun Niteliğ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Elde edilen deneyimler sonucunda; organize edilmiş, durumlara ya  da nesnelere karşı doğrudan ya da dolaylı olarak etki edebilen zihinsel hazırlanmadı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ların dört ana özelliği vardı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epki vermeye hazır olmayı içeri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Güdüleme gücüne sahipti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Durağan olma özelliğine sahipti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Değerlendirme içer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utumun üç boyutundan söz etmek mümkündür</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75"/>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cc"/>
                </a:solidFill>
                <a:latin typeface="Trebuchet MS"/>
              </a:rPr>
              <a:t>Bilişsel boyut</a:t>
            </a:r>
            <a:r>
              <a:rPr b="0" lang="en-US" sz="2700" spc="-1" strike="noStrike">
                <a:solidFill>
                  <a:srgbClr val="000000"/>
                </a:solidFill>
                <a:latin typeface="Trebuchet MS"/>
              </a:rPr>
              <a:t>, belli bir nesne hakkında sahip olunan fikir ve inançları içerir.</a:t>
            </a:r>
            <a:endParaRPr b="0" lang="en-US" sz="2700" spc="-1" strike="noStrike">
              <a:solidFill>
                <a:srgbClr val="000000"/>
              </a:solidFill>
              <a:latin typeface="Times New Roman"/>
            </a:endParaRPr>
          </a:p>
          <a:p>
            <a:pPr marL="343080" indent="-343080">
              <a:lnSpc>
                <a:spcPct val="100000"/>
              </a:lnSpc>
              <a:spcBef>
                <a:spcPts val="675"/>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cc"/>
                </a:solidFill>
                <a:latin typeface="Trebuchet MS"/>
              </a:rPr>
              <a:t>Duygusal boyut</a:t>
            </a:r>
            <a:r>
              <a:rPr b="0" lang="en-US" sz="2700" spc="-1" strike="noStrike">
                <a:solidFill>
                  <a:srgbClr val="000000"/>
                </a:solidFill>
                <a:latin typeface="Trebuchet MS"/>
              </a:rPr>
              <a:t>, nesneye karşı hissedilenleri içerir.</a:t>
            </a:r>
            <a:endParaRPr b="0" lang="en-US" sz="2700" spc="-1" strike="noStrike">
              <a:solidFill>
                <a:srgbClr val="000000"/>
              </a:solidFill>
              <a:latin typeface="Times New Roman"/>
            </a:endParaRPr>
          </a:p>
          <a:p>
            <a:pPr marL="343080" indent="-343080">
              <a:lnSpc>
                <a:spcPct val="100000"/>
              </a:lnSpc>
              <a:spcBef>
                <a:spcPts val="675"/>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cc"/>
                </a:solidFill>
                <a:latin typeface="Trebuchet MS"/>
              </a:rPr>
              <a:t>Davranışsal boyut</a:t>
            </a:r>
            <a:r>
              <a:rPr b="0" lang="en-US" sz="2700" spc="-1" strike="noStrike">
                <a:solidFill>
                  <a:srgbClr val="000000"/>
                </a:solidFill>
                <a:latin typeface="Trebuchet MS"/>
              </a:rPr>
              <a:t> ise, davranış eğilimlerini içer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Basın ve yayın aracılığı ile oluşan sosyal etki</a:t>
            </a:r>
            <a:br>
              <a:rPr sz="2800"/>
            </a:b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r çok basın ve yayın aracının insanları etkilediği ve yönlendirdiği bilinmektedir.duygu, düşünce ve davranış biçimlerini belirleme yönünde etkili olan bu araçların etkinliği aynı zamanda hedefin paylaştığı çevre ile de ilişkilidir.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 bir aracın etki değeri farklılık  gösterir.Burada kaynağın niteliği ve kimler tarafından kullanıldığı kadar, hedefin niteliği de ön plana çıkmaktadır.</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 anlamda bireylerin, grupların ya da kitlelerin </a:t>
            </a:r>
            <a:r>
              <a:rPr b="0" lang="en-US" sz="2000" spc="-1" strike="noStrike">
                <a:solidFill>
                  <a:srgbClr val="3333cc"/>
                </a:solidFill>
                <a:latin typeface="Times New Roman"/>
              </a:rPr>
              <a:t>seçici maruz kalma</a:t>
            </a:r>
            <a:r>
              <a:rPr b="0" lang="en-US" sz="2000" spc="-1" strike="noStrike">
                <a:solidFill>
                  <a:srgbClr val="000000"/>
                </a:solidFill>
                <a:latin typeface="Times New Roman"/>
              </a:rPr>
              <a:t> ya da </a:t>
            </a:r>
            <a:r>
              <a:rPr b="0" lang="en-US" sz="2000" spc="-1" strike="noStrike">
                <a:solidFill>
                  <a:srgbClr val="3333cc"/>
                </a:solidFill>
                <a:latin typeface="Times New Roman"/>
              </a:rPr>
              <a:t>seçici kaçınma</a:t>
            </a:r>
            <a:r>
              <a:rPr b="0" lang="en-US" sz="2000" spc="-1" strike="noStrike">
                <a:solidFill>
                  <a:srgbClr val="000000"/>
                </a:solidFill>
                <a:latin typeface="Times New Roman"/>
              </a:rPr>
              <a:t> davranışları hedefin tavrını açıklayan durumlardır.</a:t>
            </a:r>
            <a:endParaRPr b="0" lang="en-US" sz="20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 üç tür sosyal etki ortamı ayrı ayrı olduğu gibi etkin olabilmesi amacıyla birlikte de kullanılabi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umlar ne işe yarar?</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5191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ların dört farklı işlevinden söz etmek mümkündür;</a:t>
            </a:r>
            <a:endParaRPr b="0" lang="en-US" sz="2700" spc="-1" strike="noStrike">
              <a:solidFill>
                <a:srgbClr val="000000"/>
              </a:solidFill>
              <a:latin typeface="Times New Roman"/>
            </a:endParaRPr>
          </a:p>
          <a:p>
            <a:pPr marL="519120" indent="-519120">
              <a:lnSpc>
                <a:spcPct val="90000"/>
              </a:lnSpc>
              <a:spcBef>
                <a:spcPts val="675"/>
              </a:spcBef>
              <a:buClr>
                <a:srgbClr val="9900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cc"/>
                </a:solidFill>
                <a:latin typeface="Trebuchet MS"/>
              </a:rPr>
              <a:t>Anlama ve bilgi işlevi</a:t>
            </a:r>
            <a:r>
              <a:rPr b="0" lang="en-US" sz="2700" spc="-1" strike="noStrike">
                <a:solidFill>
                  <a:srgbClr val="000000"/>
                </a:solidFill>
                <a:latin typeface="Trebuchet MS"/>
              </a:rPr>
              <a:t>, bireylerin dünyayı ve çevrelerini anlamlandırma çabası ile ilişkilidir. Tutarlılık ve netlik sağlar. davranışlar ve konumlar tutum ile açıklanır.</a:t>
            </a:r>
            <a:endParaRPr b="0" lang="en-US" sz="2700" spc="-1" strike="noStrike">
              <a:solidFill>
                <a:srgbClr val="000000"/>
              </a:solidFill>
              <a:latin typeface="Times New Roman"/>
            </a:endParaRPr>
          </a:p>
          <a:p>
            <a:pPr marL="519120" indent="-519120">
              <a:lnSpc>
                <a:spcPct val="90000"/>
              </a:lnSpc>
              <a:spcBef>
                <a:spcPts val="675"/>
              </a:spcBef>
              <a:buClr>
                <a:srgbClr val="9900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cc"/>
                </a:solidFill>
                <a:latin typeface="Trebuchet MS"/>
              </a:rPr>
              <a:t>İhtiyaçların karşılanmasında</a:t>
            </a:r>
            <a:r>
              <a:rPr b="0" lang="en-US" sz="2700" spc="-1" strike="noStrike">
                <a:solidFill>
                  <a:srgbClr val="000000"/>
                </a:solidFill>
                <a:latin typeface="Trebuchet MS"/>
              </a:rPr>
              <a:t> tutumların varlığı önemli katkı sağlar. Ödül-ceza sürecinin varlığı da bu boyut ile ilgilidir. Sosyal onay ve uyumlaşma bu ihtiyaçların karşılanması sonucunda belirginleş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cc"/>
                </a:solidFill>
                <a:latin typeface="Trebuchet MS"/>
              </a:rPr>
              <a:t>3- Egoyu savunma</a:t>
            </a:r>
            <a:r>
              <a:rPr b="0" lang="en-US" sz="2700" spc="-1" strike="noStrike">
                <a:solidFill>
                  <a:srgbClr val="ff66ff"/>
                </a:solidFill>
                <a:latin typeface="Trebuchet MS"/>
              </a:rPr>
              <a:t>, </a:t>
            </a:r>
            <a:r>
              <a:rPr b="0" lang="en-US" sz="2700" spc="-1" strike="noStrike">
                <a:solidFill>
                  <a:srgbClr val="000000"/>
                </a:solidFill>
                <a:latin typeface="Trebuchet MS"/>
              </a:rPr>
              <a:t>yardımıyla  yaşam içerisindeki iniş ve çıkışların  karşılanması ya da zorluklar karşısında bireylerin kendine güvenmesini kapsan. Savunma mekanizmasının kullanılmaları ile olası olumsuzluklar geçiştirilebilir.</a:t>
            </a:r>
            <a:endParaRPr b="0" lang="en-US" sz="27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cc"/>
                </a:solidFill>
                <a:latin typeface="Trebuchet MS"/>
              </a:rPr>
              <a:t>4-İçsel değerlerin ifadesi</a:t>
            </a:r>
            <a:r>
              <a:rPr b="0" lang="en-US" sz="2700" spc="-1" strike="noStrike">
                <a:solidFill>
                  <a:srgbClr val="000000"/>
                </a:solidFill>
                <a:latin typeface="Trebuchet MS"/>
              </a:rPr>
              <a:t>, tutumlar yoluyla olur. Bireyler tutumlarını karşısındakilere belirterek kimliğini ifade etmiş olacaktı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umlar nasıl oluşur ve korunur?</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52600" indent="-5526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lar, fikirler öğrenme yolu ile oluşurlar. Tutumların oluşmasında ;</a:t>
            </a:r>
            <a:endParaRPr b="0" lang="en-US" sz="2700" spc="-1" strike="noStrike">
              <a:solidFill>
                <a:srgbClr val="000000"/>
              </a:solidFill>
              <a:latin typeface="Times New Roman"/>
            </a:endParaRPr>
          </a:p>
          <a:p>
            <a:pPr marL="552600" indent="-552600">
              <a:lnSpc>
                <a:spcPct val="100000"/>
              </a:lnSpc>
              <a:spcBef>
                <a:spcPts val="67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Kişisel deneyim,</a:t>
            </a:r>
            <a:endParaRPr b="0" lang="en-US" sz="2700" spc="-1" strike="noStrike">
              <a:solidFill>
                <a:srgbClr val="000000"/>
              </a:solidFill>
              <a:latin typeface="Times New Roman"/>
            </a:endParaRPr>
          </a:p>
          <a:p>
            <a:pPr marL="552600" indent="-552600">
              <a:lnSpc>
                <a:spcPct val="100000"/>
              </a:lnSpc>
              <a:spcBef>
                <a:spcPts val="67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Ailenin etkisi</a:t>
            </a:r>
            <a:endParaRPr b="0" lang="en-US" sz="2700" spc="-1" strike="noStrike">
              <a:solidFill>
                <a:srgbClr val="000000"/>
              </a:solidFill>
              <a:latin typeface="Times New Roman"/>
            </a:endParaRPr>
          </a:p>
          <a:p>
            <a:pPr marL="552600" indent="-552600">
              <a:lnSpc>
                <a:spcPct val="100000"/>
              </a:lnSpc>
              <a:spcBef>
                <a:spcPts val="67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Arkadaş, akraba, referans grupları etkilidir. Bunun yanı sıra tutumun oluşmasını açıklayan üç tip koşullanmadan söz etmek mümkündür. Bunlar ; klasik koşullanma, edimsel koşullanma ve örnek alma dı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umlar ve Davranışlar</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rebuchet MS"/>
              </a:rPr>
              <a:t>Tutum ve tutum değişimi ile davranışlar arasındaki ilişki anlaşılmaya çalışılır. Bu bağlamda LaPiere tarafından yapılan Çinli aile araştırması ile tutum-davranış arasında ilişki bulunmadığını ileri sürerken, bu konuda getirilen eleştiriler aksini savunmaktadır.</a:t>
            </a:r>
            <a:endParaRPr b="0" lang="en-US" sz="2700" spc="-1" strike="noStrike">
              <a:solidFill>
                <a:srgbClr val="000000"/>
              </a:solidFill>
              <a:latin typeface="Times New Roman"/>
            </a:endParaRPr>
          </a:p>
          <a:p>
            <a:pPr marL="322200" indent="-3222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rebuchet MS"/>
              </a:rPr>
              <a:t>Spesifik bir tutum ölçülüyor ise belirli bir davranış gözlemlenebilir ki, buna denklik hipotezi adı verilir. Diş kontrol tutumları ile kontrole gitme arasındaki ilişkide olduğu gibi.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İnsan, </a:t>
            </a:r>
            <a:r>
              <a:rPr b="0" lang="en-US" sz="2700" spc="-1" strike="noStrike">
                <a:solidFill>
                  <a:srgbClr val="9900cc"/>
                </a:solidFill>
                <a:latin typeface="Trebuchet MS"/>
              </a:rPr>
              <a:t>muhakeme edilmiş davranış kuramına</a:t>
            </a:r>
            <a:r>
              <a:rPr b="0" lang="en-US" sz="2700" spc="-1" strike="noStrike">
                <a:solidFill>
                  <a:srgbClr val="000000"/>
                </a:solidFill>
                <a:latin typeface="Trebuchet MS"/>
              </a:rPr>
              <a:t> göre akılcı ve mantıklıdır. Ellerindeki bilgiyi sistematik bir biçimde inceler. Davranış niyetin sonucunda ortaya çıkar. Niyeti ise; nesneye karşı tutum ve sosyal kurallar etkiler.</a:t>
            </a:r>
            <a:endParaRPr b="0" lang="en-US" sz="2700" spc="-1" strike="noStrike">
              <a:solidFill>
                <a:srgbClr val="000000"/>
              </a:solidFill>
              <a:latin typeface="Times New Roman"/>
            </a:endParaRPr>
          </a:p>
          <a:p>
            <a:pPr marL="322200" indent="-322200">
              <a:lnSpc>
                <a:spcPct val="100000"/>
              </a:lnSpc>
              <a:spcBef>
                <a:spcPts val="5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Davranış hakkındaki tutum</a:t>
            </a:r>
            <a:endParaRPr b="0" lang="en-US" sz="2300" spc="-1" strike="noStrike">
              <a:solidFill>
                <a:srgbClr val="000000"/>
              </a:solidFill>
              <a:latin typeface="Times New Roman"/>
            </a:endParaRPr>
          </a:p>
          <a:p>
            <a:pPr marL="3222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222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222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	</a:t>
            </a:r>
            <a:r>
              <a:rPr b="0" lang="en-US" sz="2300" spc="-1" strike="noStrike">
                <a:solidFill>
                  <a:srgbClr val="000000"/>
                </a:solidFill>
                <a:latin typeface="Trebuchet MS"/>
              </a:rPr>
              <a:t>Sosyal kurallar</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Niyet</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Davranış</a:t>
            </a:r>
            <a:r>
              <a:rPr b="0" lang="en-US" sz="2300" spc="-1" strike="noStrike">
                <a:solidFill>
                  <a:srgbClr val="000000"/>
                </a:solidFill>
                <a:latin typeface="Trebuchet MS"/>
              </a:rPr>
              <a:t>	</a:t>
            </a:r>
            <a:r>
              <a:rPr b="0" lang="en-US" sz="2300" spc="-1" strike="noStrike">
                <a:solidFill>
                  <a:srgbClr val="000000"/>
                </a:solidFill>
                <a:latin typeface="Trebuchet MS"/>
              </a:rPr>
              <a:t>	</a:t>
            </a:r>
            <a:endParaRPr b="0" lang="en-US" sz="2300" spc="-1" strike="noStrike">
              <a:solidFill>
                <a:srgbClr val="000000"/>
              </a:solidFill>
              <a:latin typeface="Times New Roman"/>
            </a:endParaRPr>
          </a:p>
        </p:txBody>
      </p:sp>
      <p:sp>
        <p:nvSpPr>
          <p:cNvPr id="182" name=""/>
          <p:cNvSpPr/>
          <p:nvPr/>
        </p:nvSpPr>
        <p:spPr>
          <a:xfrm>
            <a:off x="3780000" y="5013360"/>
            <a:ext cx="12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59280" y="4076640"/>
            <a:ext cx="289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40360" y="5084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lanlanmış davranış kuramına göre ise, birey davranışın zorluğundan etkilenir. Davranış hakkındaki tutum, sosyal kurallar ve algılanan davranışsal kontrolü bir araya getirerek ilişkiyi açıklar.</a:t>
            </a:r>
            <a:endParaRPr b="0" lang="en-US" sz="2700" spc="-1" strike="noStrike">
              <a:solidFill>
                <a:srgbClr val="000000"/>
              </a:solidFill>
              <a:latin typeface="Times New Roman"/>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Davranış hakkındaki tutum, </a:t>
            </a:r>
            <a:endParaRPr b="0" lang="en-US" sz="2300" spc="-1" strike="noStrike">
              <a:solidFill>
                <a:srgbClr val="000000"/>
              </a:solidFill>
              <a:latin typeface="Times New Roman"/>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sosyal kurallar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Niyet</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Davranış</a:t>
            </a:r>
            <a:endParaRPr b="0" lang="en-US" sz="23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algılanan davranışsal kontrolü</a:t>
            </a: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186" name=""/>
          <p:cNvSpPr/>
          <p:nvPr/>
        </p:nvSpPr>
        <p:spPr>
          <a:xfrm>
            <a:off x="4643280" y="3573360"/>
            <a:ext cx="433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276720" y="3860640"/>
            <a:ext cx="1655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 name=""/>
          <p:cNvSpPr/>
          <p:nvPr/>
        </p:nvSpPr>
        <p:spPr>
          <a:xfrm flipV="1">
            <a:off x="4859280" y="4005000"/>
            <a:ext cx="2890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796000" y="400536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940360" y="400536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 ile davranış arasındaki ilişkiyi açıklamak için tutumun kuvvetliliği ve tutumun erişebilirliği de önemlidir. Tutumun kuvvetliliği bir tutuma bağlılık derecesi ile ilişkilidir. Bunu belirleyen 4 unsur vardır. Bunlar, </a:t>
            </a:r>
            <a:r>
              <a:rPr b="0" lang="en-US" sz="2700" spc="-1" strike="noStrike">
                <a:solidFill>
                  <a:srgbClr val="d62406"/>
                </a:solidFill>
                <a:latin typeface="Trebuchet MS"/>
              </a:rPr>
              <a:t>bilgi, ilgi, kendini tanıma ve deneyimdir</a:t>
            </a:r>
            <a:r>
              <a:rPr b="0" lang="en-US" sz="2700" spc="-1" strike="noStrike">
                <a:solidFill>
                  <a:srgbClr val="000000"/>
                </a:solidFill>
                <a:latin typeface="Trebuchet MS"/>
              </a:rPr>
              <a:t>. Erişilebilirlik ise, bilinç düzeyi ve hatırlama ile ilgilid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SYAL KURALLAR</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klı ortamlarda duruma uygun davranışı belirten ve farklı sosyal rollerdeki bireyin nasıl davranacağını belirleyen kurallardı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bağlamda sosyal kuralların mesajı şu şekildedir “ Bu sosyal kuralı izleyin, aksi takdirde bireysel ya da grup olarak zarar göreceksiniz veya cezalandırılacaksını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syal Etki ve Davranışlarımız</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zellikle kesin kararı olmayan ve ilk kez karşılaştığımız durumlarda çevremizdeki kişilerin hal ve hareketleri bizlerin davranışlarını etkiler. Cialdini ve arkadaşlarının</a:t>
            </a:r>
            <a:r>
              <a:rPr b="0" lang="tr-TR" sz="3200" spc="-1" strike="noStrike">
                <a:solidFill>
                  <a:srgbClr val="000000"/>
                </a:solidFill>
                <a:latin typeface="Times New Roman"/>
              </a:rPr>
              <a:t> </a:t>
            </a:r>
            <a:r>
              <a:rPr b="0" lang="tr-TR" sz="2800" spc="-1" strike="noStrike">
                <a:solidFill>
                  <a:srgbClr val="000000"/>
                </a:solidFill>
                <a:latin typeface="Times New Roman"/>
              </a:rPr>
              <a:t>temizlik deneyindeki gib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osyal kurallar nerede ve nasıl davranacağı konusunda çok güçlü bir etkiye sahip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Zimbardo hapishane deneyi gi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2:40:41Z</dcterms:created>
  <dc:creator>arıcıoğlu</dc:creator>
  <dc:description/>
  <dc:language>en-US</dc:language>
  <cp:lastModifiedBy>Cinali</cp:lastModifiedBy>
  <dcterms:modified xsi:type="dcterms:W3CDTF">2006-03-05T09:05:59Z</dcterms:modified>
  <cp:revision>104</cp:revision>
  <dc:subject/>
  <dc:title>DAVRANIŞ BİLİMLERİ </dc:title>
</cp:coreProperties>
</file>