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EB679-1068-4ADB-95A9-B9CA46ECD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0F8FA-423D-47A4-BE7D-40E1F17B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B6ACB-C6C5-41EA-9CD6-CE4A6FB21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8C258-2AB1-4BFC-A4A2-CF54F1DEF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37C1-E3D6-44C6-8A20-7766DCF72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ABA43-8F40-4A82-95F3-CC340300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B0B9-DD8E-4DB2-9DA4-E98C2E1F8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9E43D-1397-4681-9C34-263460703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AC2BE-27F1-4D0B-9599-F0CD2C5A1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E17D-0B6C-4072-AD0A-1491EF8D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1A831-A0A9-49C6-B18B-05FFBFE39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AB8F-4474-418A-A5DB-17DE3BF7D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4220-F506-4D47-BCE5-E4EB98039FD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DAVRANIŞ BİLİMLER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solidFill>
            <a:srgbClr val="ff6600"/>
          </a:solidFill>
          <a:ln w="9360">
            <a:solidFill>
              <a:srgbClr val="000000"/>
            </a:solidFill>
            <a:miter/>
          </a:ln>
          <a:effectLst>
            <a:outerShdw dist="107932" dir="18900000" blurRad="0" rotWithShape="0">
              <a:srgbClr val="808080"/>
            </a:outerShdw>
          </a:effectLst>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s Özetler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M.Atilla ARICIOĞL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 toplumsal yapının ve sahip olunan kültürel değerlerin de yansımasıdır. Toplumun tümünü etkileyen kurallar olduğu gibi belli grupların oluşturduğu kurallar da davranışlarımızı ve sosyal rollerimizi de etki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ültürün belirlemiş olduğu roller bilinçli ya da bilinçsiz olarak belirli davranışlarda bulunmamıza neden ol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osyal Roller</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kişiden, farklı durumlara bağlı olarak göstermesi beklenilen davranışları tanımlayan kalıp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a, öğretmen, hakem, evlat, koca, v.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eyler sosyal rolleri yerine getirebilmek için çaba gösterirler. Birden fazla rolün gerçekleştirmek için gösterdikleri çaba rol çatışmasına neden olabilir. Ya da rol kayması adı verilen süreçte bir rol diğerlerinden baskın çıkarak onları da etkileye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OSYAL ETKİNİN ÇEŞİTLER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nin varlığı iki kaynak ile açıklanmaktadı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kurallara bağlı sosyal etk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ye dayalı sosyal etki.</a:t>
            </a:r>
            <a:endParaRPr b="0" lang="en-US" sz="2800" spc="-1" strike="noStrike">
              <a:solidFill>
                <a:srgbClr val="000000"/>
              </a:solidFill>
              <a:latin typeface="Times New Roman"/>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cab"/>
                </a:solidFill>
                <a:latin typeface="Times New Roman"/>
              </a:rPr>
              <a:t>1-Sosyal kurallara bağlı sosyal etki,</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 insanın, bir kişi yada gruptan ödül almak ya da verilecek cezadan kaçınmak amacıyla uyum sağlaması ve emirlere itaati ile ilgili durumlarda oluşur. Kısa süreli bir etki ile oluşan ve grup normlarına bağlı olarak değişkenlik gösteren sosyal etki, daha çok sosyal kurallara bağlı olarak uyum konusu ile ilgili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cab"/>
                </a:solidFill>
                <a:latin typeface="Times New Roman"/>
              </a:rPr>
              <a:t>2-Bilgiye dayalı sosyal etki.</a:t>
            </a:r>
            <a:br>
              <a:rPr sz="4000"/>
            </a:b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tür etki bireylerin tam bilgi edinebilmek için diğer bir kişiye ya da gruba uyması ile gerçekleş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p düşüncesinin kabul edilmesi ile ilgili olarak ortaya çıkan bu etki, kalıcı bir değişime neden olur. Çünkü insanlar, bilmedikleri hakkında edindikleri bilgi ile doğruya ulaştıklarına inanırlar ve doğruluğu korumak için diğerlerini izleyerek, davranışlarını belirler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efbbe8"/>
                </a:solidFill>
                <a:latin typeface="Times New Roman"/>
              </a:rPr>
              <a:t>2- BAŞKALARININ DAVRANIŞI BİZİ NASIL ETKİLER? ONLARLA BİRLİKTE HAREKET ETMEK ZORUNLU MUDUR YA DA UYMA NEDİR?</a:t>
            </a:r>
            <a:br>
              <a:rPr sz="3200"/>
            </a:br>
            <a:endParaRPr b="0" lang="en-US" sz="3200" spc="-1" strike="noStrike">
              <a:solidFill>
                <a:srgbClr val="000000"/>
              </a:solidFill>
              <a:latin typeface="Times New Roman"/>
            </a:endParaRPr>
          </a:p>
        </p:txBody>
      </p:sp>
      <p:sp>
        <p:nvSpPr>
          <p:cNvPr id="71"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 kişinin ya da grubun davranış veya inançlarını açık bir istek olmadan diğer kişilere göre değiştirmesine </a:t>
            </a:r>
            <a:r>
              <a:rPr b="0" lang="en-US" sz="2400" spc="-1" strike="noStrike">
                <a:solidFill>
                  <a:srgbClr val="3333cc"/>
                </a:solidFill>
                <a:latin typeface="Times New Roman"/>
              </a:rPr>
              <a:t>UYMA </a:t>
            </a:r>
            <a:r>
              <a:rPr b="0" lang="en-US" sz="2400" spc="-1" strike="noStrike">
                <a:solidFill>
                  <a:srgbClr val="000000"/>
                </a:solidFill>
                <a:latin typeface="Times New Roman"/>
              </a:rPr>
              <a:t>adı verilir. </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ğişiklik için diğer kişilerden sözlü ya da yazılı bir emir veya istek olması gerekmez. Bu anlamda uymanın nedeni uyan kişi tarafından tam olarak açıklanam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M.ŞERİF’İN OTOKİNETİK ETKİ DENEYİ</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birlerine tümüyle yabancı kişilerden oluşan bir grupta uyumun nasıl olduğunu göstere bu deney, algı yanılgısı üzerine kurulmuştur. Sabit bir ışığın hareket ediyormuş gibi algılanmasına “oto kinetik etki ” adı verilmektedir. </a:t>
            </a:r>
            <a:endParaRPr b="0" lang="en-US" sz="2400" spc="-1" strike="noStrike">
              <a:solidFill>
                <a:srgbClr val="000000"/>
              </a:solidFill>
              <a:latin typeface="Times New Roman"/>
            </a:endParaRPr>
          </a:p>
          <a:p>
            <a:pPr marL="609480" indent="-6094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Times New Roman"/>
              </a:rPr>
              <a:t>Deney iki temel soruya cevap aramaktadır:</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rsiz yapıya sahip bir durum hakkında karar vermek isteyen bir kişi ne yapar</a:t>
            </a:r>
            <a:r>
              <a:rPr b="0" lang="en-US" sz="2400" spc="-1" strike="noStrike">
                <a:solidFill>
                  <a:srgbClr val="d62406"/>
                </a:solidFill>
                <a:latin typeface="Times New Roman"/>
              </a:rPr>
              <a:t>?</a:t>
            </a:r>
            <a:r>
              <a:rPr b="0" lang="en-US" sz="2400" spc="-1" strike="noStrike">
                <a:solidFill>
                  <a:srgbClr val="000000"/>
                </a:solidFill>
                <a:latin typeface="Times New Roman"/>
              </a:rPr>
              <a:t> Böyle bir durumda kişi kendi standardını kurar mı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nı durumda, grup üyeleri ne yapar </a:t>
            </a:r>
            <a:r>
              <a:rPr b="0" lang="en-US" sz="2400" spc="-1" strike="noStrike">
                <a:solidFill>
                  <a:srgbClr val="d62406"/>
                </a:solidFill>
                <a:latin typeface="Times New Roman"/>
              </a:rPr>
              <a:t>?</a:t>
            </a:r>
            <a:r>
              <a:rPr b="0" lang="en-US" sz="2400" spc="-1" strike="noStrike">
                <a:solidFill>
                  <a:srgbClr val="000000"/>
                </a:solidFill>
                <a:latin typeface="Times New Roman"/>
              </a:rPr>
              <a:t> Grup üyeleri kendi standartlarını mı kurarlar, gruptaki kişilerin etkisi altında mi kalırlar </a:t>
            </a:r>
            <a:r>
              <a:rPr b="0" lang="en-US" sz="2400" spc="-1" strike="noStrike">
                <a:solidFill>
                  <a:srgbClr val="d62406"/>
                </a:solidFill>
                <a:latin typeface="Times New Roman"/>
              </a:rPr>
              <a:t>?</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reyler, diğerleri ile birlikte iken, karaları belli bir ortak noktaya kayma eğilimi gösterir.</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özlü ifadeler baskı oluşturur ve grup içerisinde yer alan bireyler katılmasalar bile grup ile birlikte iken ortak bir davranışı benimserler; grup dışında ise kendi standartlarına uyar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İlk deney ortamınd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öncelikle kendi başlarına standart geliştirirler ik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grubun kabul ettiği standardın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İkinci deney ortamınd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p halinde ortak bir standart belirlen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ha sonra tek başına kalan bireyler ortak standardı kullanmaya başladı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Times New Roman"/>
              </a:rPr>
              <a:t>NELER İNCELENECEK</a:t>
            </a:r>
            <a:r>
              <a:rPr b="0" lang="en-US"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SOSYAL ETKİ NEDİR? SOSYAL ETKİNİN ORTAMLARI VE SOSYAL KURALLAR İLE SOSYAL ROLLE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BAŞKALARININ DAVRANIŞI BİZİ NASIL ETKİLER? ONLARLA BİRLİKTE HAREKET ETMEK ZORUNLU MUDUR YA DA UYMA NED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KABUL ETME YA DA REDDETME NASIL SAĞLANI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SEVDİKLERİMİZE VE SEVMEDİKLERİMİZE İTAAT ETMEYİ ÖĞRENEBİLİR MİYİZ?</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GÜÇLÜ OLANI HERKES SEVER ! YA LİDERLER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TUTUM NEDİR VE NASIL OLUŞUR? TUTUMU ÖĞRENMEK MÜMKÜN MÜDÜR?</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LGIDA FARKLILIK MÜMKÜN MÜDÜR? YA DA HERKES GÖKYÜZÜNÜ AYNI BİÇİMDE ALGILAYABİLİR Mİ?</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SEVGİ VE SEVMEK</a:t>
            </a:r>
            <a:endParaRPr b="0" lang="en-US" sz="1600" spc="-1" strike="noStrike">
              <a:solidFill>
                <a:srgbClr val="000000"/>
              </a:solidFill>
              <a:latin typeface="Times New Roman"/>
            </a:endParaRPr>
          </a:p>
          <a:p>
            <a:pPr marL="343080" indent="-343080">
              <a:lnSpc>
                <a:spcPct val="12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SALDIRGANLIK, KORKU VE KAYG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Sonuç olarak</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belirsizlik ortamında diğer bireylerin karalarından etkilenirler ki; bu da, </a:t>
            </a:r>
            <a:r>
              <a:rPr b="0" i="1" lang="en-US" sz="3200" spc="-1" strike="noStrike" u="sng">
                <a:solidFill>
                  <a:srgbClr val="000000"/>
                </a:solidFill>
                <a:uFillTx/>
                <a:latin typeface="Times New Roman"/>
              </a:rPr>
              <a:t>Bilgiye Dayalı Sosyal Etkiye</a:t>
            </a:r>
            <a:r>
              <a:rPr b="0" lang="en-US" sz="3200" spc="-1" strike="noStrike">
                <a:solidFill>
                  <a:srgbClr val="000000"/>
                </a:solidFill>
                <a:latin typeface="Times New Roman"/>
              </a:rPr>
              <a:t>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cdcab"/>
                </a:solidFill>
                <a:latin typeface="Times New Roman"/>
              </a:rPr>
              <a:t>ASCH’ IN ÇİZGİLER DENEY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Şerif’ in deneyindeki belirsizlik ortadan kaldırıldığı takdirde ya da  insanların varmak istedikleri karar net ise uyma davranışı gözlemlenebilir m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sch’ a göre “net yapıya sahip bir durum hakkında karar vermesi gereken kişiler diğerlerinden etkilenmez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Çizgiler Deneyi</a:t>
            </a:r>
            <a:endParaRPr b="0" lang="en-US" sz="4400" spc="-1" strike="noStrike">
              <a:solidFill>
                <a:srgbClr val="000000"/>
              </a:solidFill>
              <a:latin typeface="Times New Roman"/>
            </a:endParaRPr>
          </a:p>
        </p:txBody>
      </p:sp>
      <p:sp>
        <p:nvSpPr>
          <p:cNvPr id="8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andar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     B         C</a:t>
            </a:r>
            <a:endParaRPr b="0" lang="en-US" sz="3200" spc="-1" strike="noStrike">
              <a:solidFill>
                <a:srgbClr val="000000"/>
              </a:solidFill>
              <a:latin typeface="Times New Roman"/>
            </a:endParaRPr>
          </a:p>
        </p:txBody>
      </p:sp>
      <p:sp>
        <p:nvSpPr>
          <p:cNvPr id="86" name=""/>
          <p:cNvSpPr/>
          <p:nvPr/>
        </p:nvSpPr>
        <p:spPr>
          <a:xfrm>
            <a:off x="1981080" y="28195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434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34120" y="28195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629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İlk koşulda,</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zli cevap koşulunda, tüm denekler doğru cevap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İkinci koşulda is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çık cevap koşulunda ise, dışlanmamak, alay edilmemek v.b. nedenler ile  %30 oranında işbirlikçilerin yönlendirmesi ile yanlış cevap ver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Sonuç olarak,</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 doğru olarak bildikleri durumlarda bile toplum tarafından kabul görmek ve diğer nedenlere bağlı olarak ortak kabullere uyabilirler ki; bu da, </a:t>
            </a:r>
            <a:r>
              <a:rPr b="0" i="1" lang="en-US" sz="3200" spc="-1" strike="noStrike" u="sng">
                <a:solidFill>
                  <a:srgbClr val="000000"/>
                </a:solidFill>
                <a:uFillTx/>
                <a:latin typeface="Times New Roman"/>
              </a:rPr>
              <a:t>Sosyal Etki</a:t>
            </a:r>
            <a:r>
              <a:rPr b="0" lang="en-US" sz="3200" spc="-1" strike="noStrike">
                <a:solidFill>
                  <a:srgbClr val="000000"/>
                </a:solidFill>
                <a:latin typeface="Times New Roman"/>
              </a:rPr>
              <a:t> için iyi bir örne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M.ŞERİF </a:t>
            </a:r>
            <a:r>
              <a:rPr b="0" lang="en-US" sz="4400" spc="-1" strike="noStrike">
                <a:solidFill>
                  <a:srgbClr val="4c3c70"/>
                </a:solidFill>
                <a:latin typeface="Times New Roman"/>
              </a:rPr>
              <a:t>-----</a:t>
            </a:r>
            <a:r>
              <a:rPr b="0" lang="en-US" sz="4400" spc="-1" strike="noStrike">
                <a:solidFill>
                  <a:srgbClr val="9cdcab"/>
                </a:solidFill>
                <a:latin typeface="Times New Roman"/>
              </a:rPr>
              <a:t>ASCH </a:t>
            </a:r>
            <a:r>
              <a:rPr b="0" lang="en-US" sz="4400" spc="-1" strike="noStrike">
                <a:solidFill>
                  <a:srgbClr val="ff3d23"/>
                </a:solidFill>
                <a:latin typeface="Times New Roman"/>
              </a:rPr>
              <a:t>ve</a:t>
            </a:r>
            <a:r>
              <a:rPr b="0" lang="en-US" sz="4400" spc="-1" strike="noStrike">
                <a:solidFill>
                  <a:srgbClr val="9cdcab"/>
                </a:solidFill>
                <a:latin typeface="Times New Roman"/>
              </a:rPr>
              <a:t> </a:t>
            </a:r>
            <a:r>
              <a:rPr b="0" lang="en-US" sz="4400" spc="-1" strike="noStrike">
                <a:solidFill>
                  <a:srgbClr val="000000"/>
                </a:solidFill>
                <a:latin typeface="Times New Roman"/>
              </a:rPr>
              <a:t>Uymanın Nedenler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pılan iki araştırmanında katkısını göz önünde bulundurarak uyma davranışlarının nedenlerine bakacak olursak;</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ın </a:t>
            </a:r>
            <a:r>
              <a:rPr b="0" lang="en-US" sz="2400" spc="-1" strike="noStrike">
                <a:solidFill>
                  <a:srgbClr val="ff3d23"/>
                </a:solidFill>
                <a:latin typeface="Times New Roman"/>
              </a:rPr>
              <a:t>sosyal onaya</a:t>
            </a:r>
            <a:r>
              <a:rPr b="0" lang="en-US" sz="2400" spc="-1" strike="noStrike">
                <a:solidFill>
                  <a:srgbClr val="000000"/>
                </a:solidFill>
                <a:latin typeface="Times New Roman"/>
              </a:rPr>
              <a:t> ihtiyaçları vardı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anlar </a:t>
            </a:r>
            <a:r>
              <a:rPr b="0" lang="en-US" sz="2400" spc="-1" strike="noStrike">
                <a:solidFill>
                  <a:srgbClr val="ff3d23"/>
                </a:solidFill>
                <a:latin typeface="Times New Roman"/>
              </a:rPr>
              <a:t>doğru bilgi</a:t>
            </a:r>
            <a:r>
              <a:rPr b="0" lang="en-US" sz="2400" spc="-1" strike="noStrike">
                <a:solidFill>
                  <a:srgbClr val="000000"/>
                </a:solidFill>
                <a:latin typeface="Times New Roman"/>
              </a:rPr>
              <a:t> sağlamak ve özellikle </a:t>
            </a:r>
            <a:r>
              <a:rPr b="0" lang="en-US" sz="2400" spc="-1" strike="noStrike">
                <a:solidFill>
                  <a:srgbClr val="ff3d23"/>
                </a:solidFill>
                <a:latin typeface="Times New Roman"/>
              </a:rPr>
              <a:t>doğru karar</a:t>
            </a:r>
            <a:r>
              <a:rPr b="0" lang="en-US" sz="2400" spc="-1" strike="noStrike">
                <a:solidFill>
                  <a:srgbClr val="000000"/>
                </a:solidFill>
                <a:latin typeface="Times New Roman"/>
              </a:rPr>
              <a:t> ulaşmak için gruba uyarl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eylerde </a:t>
            </a:r>
            <a:r>
              <a:rPr b="0" lang="en-US" sz="2400" spc="-1" strike="noStrike">
                <a:solidFill>
                  <a:srgbClr val="ff3d23"/>
                </a:solidFill>
                <a:latin typeface="Times New Roman"/>
              </a:rPr>
              <a:t>kendine güvenin az olması</a:t>
            </a:r>
            <a:r>
              <a:rPr b="0" lang="en-US" sz="2400" spc="-1" strike="noStrike">
                <a:solidFill>
                  <a:srgbClr val="000000"/>
                </a:solidFill>
                <a:latin typeface="Times New Roman"/>
              </a:rPr>
              <a:t>, başkalarının davranışları ile hareket etmelerini kolaylaştırır.</a:t>
            </a:r>
            <a:endParaRPr b="0" lang="en-US" sz="2400" spc="-1" strike="noStrike">
              <a:solidFill>
                <a:srgbClr val="000000"/>
              </a:solidFill>
              <a:latin typeface="Times New Roman"/>
            </a:endParaRPr>
          </a:p>
          <a:p>
            <a:pPr marL="609480" indent="-609480">
              <a:spcBef>
                <a:spcPts val="601"/>
              </a:spcBef>
              <a:buClr>
                <a:srgbClr val="ff3d2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d23"/>
                </a:solidFill>
                <a:latin typeface="Times New Roman"/>
              </a:rPr>
              <a:t>Grup çok çekici</a:t>
            </a:r>
            <a:r>
              <a:rPr b="0" lang="en-US" sz="2400" spc="-1" strike="noStrike">
                <a:solidFill>
                  <a:srgbClr val="000000"/>
                </a:solidFill>
                <a:latin typeface="Times New Roman"/>
              </a:rPr>
              <a:t> ise o gruba uyma eğilimleri ar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UYMAYI ETKİLEYEN FAKTÖRLER</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0099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Kişilik Özellikleri :</a:t>
            </a:r>
            <a:r>
              <a:rPr b="0" lang="en-US" sz="2800" spc="-1" strike="noStrike">
                <a:solidFill>
                  <a:srgbClr val="000000"/>
                </a:solidFill>
                <a:latin typeface="Times New Roman"/>
              </a:rPr>
              <a:t>Uyma sürecinde kişilik özellikleri etkili rol oynamaktadır. </a:t>
            </a:r>
            <a:r>
              <a:rPr b="0" i="1" lang="en-US" sz="2400" spc="-1" strike="noStrike">
                <a:solidFill>
                  <a:srgbClr val="000000"/>
                </a:solidFill>
                <a:latin typeface="Times New Roman"/>
              </a:rPr>
              <a:t>Sevme ve sevilme</a:t>
            </a:r>
            <a:r>
              <a:rPr b="0" lang="en-US" sz="2400" spc="-1" strike="noStrike">
                <a:solidFill>
                  <a:srgbClr val="000000"/>
                </a:solidFill>
                <a:latin typeface="Times New Roman"/>
              </a:rPr>
              <a:t> ihtiyacı fazla olan bireyler daha fazla uyma gösterirken, </a:t>
            </a:r>
            <a:r>
              <a:rPr b="0" i="1" lang="en-US" sz="2400" spc="-1" strike="noStrike">
                <a:solidFill>
                  <a:srgbClr val="000000"/>
                </a:solidFill>
                <a:latin typeface="Times New Roman"/>
              </a:rPr>
              <a:t>kendini farklı göstermek</a:t>
            </a:r>
            <a:r>
              <a:rPr b="0" lang="en-US" sz="2400" spc="-1" strike="noStrike">
                <a:solidFill>
                  <a:srgbClr val="000000"/>
                </a:solidFill>
                <a:latin typeface="Times New Roman"/>
              </a:rPr>
              <a:t> isteyen bireyler uymamayı eğilimine sahiptirler. Bunun yanı sıra yaşamlarında </a:t>
            </a:r>
            <a:r>
              <a:rPr b="0" i="1" lang="en-US" sz="2400" spc="-1" strike="noStrike">
                <a:solidFill>
                  <a:srgbClr val="000000"/>
                </a:solidFill>
                <a:latin typeface="Times New Roman"/>
              </a:rPr>
              <a:t>kontrol etme</a:t>
            </a:r>
            <a:r>
              <a:rPr b="0" lang="en-US" sz="2400" spc="-1" strike="noStrike">
                <a:solidFill>
                  <a:srgbClr val="000000"/>
                </a:solidFill>
                <a:latin typeface="Times New Roman"/>
              </a:rPr>
              <a:t> isteği yüksek olan bireylerinde uymamama eğilimine sahip oldukları görülmektedir. Bireyler </a:t>
            </a:r>
            <a:r>
              <a:rPr b="0" i="1" lang="en-US" sz="2400" spc="-1" strike="noStrike">
                <a:solidFill>
                  <a:srgbClr val="000000"/>
                </a:solidFill>
                <a:latin typeface="Times New Roman"/>
              </a:rPr>
              <a:t>olumlu ve özgür benlik</a:t>
            </a:r>
            <a:r>
              <a:rPr b="0" lang="en-US" sz="2400" spc="-1" strike="noStrike">
                <a:solidFill>
                  <a:srgbClr val="000000"/>
                </a:solidFill>
                <a:latin typeface="Times New Roman"/>
              </a:rPr>
              <a:t> sunumu ile açık görüşlülüklerini sunmak amacıyla da uyma davranışına katılmazlar. Ayrıca </a:t>
            </a:r>
            <a:r>
              <a:rPr b="0" i="1" lang="en-US" sz="2400" spc="-1" strike="noStrike">
                <a:solidFill>
                  <a:srgbClr val="000000"/>
                </a:solidFill>
                <a:latin typeface="Times New Roman"/>
              </a:rPr>
              <a:t>eğitim ve zeka</a:t>
            </a:r>
            <a:r>
              <a:rPr b="0" lang="en-US" sz="2400" spc="-1" strike="noStrike">
                <a:solidFill>
                  <a:srgbClr val="000000"/>
                </a:solidFill>
                <a:latin typeface="Times New Roman"/>
              </a:rPr>
              <a:t> bu süreçte etkilidir. Ele alınan konu uymayı etkilerken,</a:t>
            </a:r>
            <a:r>
              <a:rPr b="0" i="1" lang="en-US" sz="2400" spc="-1" strike="noStrike">
                <a:solidFill>
                  <a:srgbClr val="000000"/>
                </a:solidFill>
                <a:latin typeface="Times New Roman"/>
              </a:rPr>
              <a:t>öz güvenin</a:t>
            </a:r>
            <a:r>
              <a:rPr b="0" lang="en-US" sz="2400" spc="-1" strike="noStrike">
                <a:solidFill>
                  <a:srgbClr val="000000"/>
                </a:solidFill>
                <a:latin typeface="Times New Roman"/>
              </a:rPr>
              <a:t> de süreçte rol oynadığı sapta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2-Grubun Üye Sayısı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ubun üye sayısı ile uyma aynı yönlü bir ilişki içerisindedir. Özellikle belirsiz olan durumlarda kişi sayısının az olması bile etkilidir. Çok kişiden oluşan gruplarda ise çoğunluk açık olan durumlarda dahi belirleyici olmaktad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3-Sosyal Destek</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ler kendileri ile aynı görüşte olan başka kişi ya da kişiler bulduğunda uyma sürecine katılmayabilirler. Bu da çoğunluğa uymayı azal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anların bir arada yaşaması beraberinde birbirlerinden etkilendikleri gerçeğini de ortaya çıkarmakta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eyin ya da bireylerin bilinçli ya da bilinçsiz bir biçimde birbirlerini ve çevrelerini etkileyerek duygu, düşünce ve davranışlarını etkilemesine </a:t>
            </a:r>
            <a:r>
              <a:rPr b="0" lang="en-US" sz="3200" spc="-1" strike="noStrike">
                <a:solidFill>
                  <a:srgbClr val="3333cc"/>
                </a:solidFill>
                <a:latin typeface="Times New Roman"/>
              </a:rPr>
              <a:t>Sosyal Etki</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
        <p:nvSpPr>
          <p:cNvPr id="4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be8"/>
                </a:solidFill>
                <a:latin typeface="Times New Roman"/>
              </a:rPr>
              <a:t>SOSYAL ETKİ NEDİR? SOSYAL ETKİNİN ORTAMLARI VE SOSYAL KURALLAR İLE SOSYAL ROLLER</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4-Grup Birlikteliği</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birlerine bağlılık düzeyi yüksek olan bireylerin oluşturduğu grupta uyma davranışı artacaktı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dedilme ve memnuniy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5-Kişinin Konuya İlgis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 alınan konu kişinin ilgi alanına giriyorsa ve olumlu bir tutuma sahipse uyma davranışı görülürken, olumsuz kanaate sahip olması çoğunluğun kararına karşı gelmesine neden olacakt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6-Cinsiyet</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lar farklı ülkelerde farklı cevapların çıkmasına neden olmaktadır. ABD. de yapılan araştırmalara göre bir farklılık bulunmamakta iken, eğitim ve öğrenim ile gelir seviyesinin daha düşük olduğu bölgelerde kadınların daha yüksek uyma davranışı gösterdiği bili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7-Kültür </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ültür odaklı yapılan çalışmalarda ülkeler </a:t>
            </a:r>
            <a:r>
              <a:rPr b="0" i="1" lang="en-US" sz="3200" spc="-1" strike="noStrike">
                <a:solidFill>
                  <a:srgbClr val="efbbe8"/>
                </a:solidFill>
                <a:latin typeface="Times New Roman"/>
              </a:rPr>
              <a:t>bireyci ve toplulukçu kültür</a:t>
            </a:r>
            <a:r>
              <a:rPr b="0" lang="en-US" sz="3200" spc="-1" strike="noStrike">
                <a:solidFill>
                  <a:srgbClr val="000000"/>
                </a:solidFill>
                <a:latin typeface="Times New Roman"/>
              </a:rPr>
              <a:t> olarak ikiye ayrılmıştır. Bireyci kültürlerdeki uyma davranışı, toplulukçu kültürlere göre daha düşük düzeydedir. Bir başka araştırmaya göre ise tarıma dayalı ekonomilerde uyma eğilimi daha önemsenmekte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UYALIM mı ? </a:t>
            </a:r>
            <a:br>
              <a:rPr sz="4400"/>
            </a:br>
            <a:r>
              <a:rPr b="0" lang="en-US" sz="4400" spc="-1" strike="noStrike">
                <a:solidFill>
                  <a:srgbClr val="00cc99"/>
                </a:solidFill>
                <a:latin typeface="Times New Roman"/>
              </a:rPr>
              <a:t>UYMAYALIM mı</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lumsal düzenin sağlanması ve bireylerin sosyal kurallar çerçevesinde yaşamaları rahatlık sağlayacaktır. Bu bağlamda uyma kişisel ve toplumsal amaca sahip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umlu yanlarının yanı sıra yanlış yapmayı sağlayıcı etkisi dikkate alındığında uyum itaat boyutuna dönüşebilir ki; bu da, olumsuz sonuçlar doğurabil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ni kişinin ve grupların neye ve nasıl uyacaklarını bilmeleri gerek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Times New Roman"/>
              </a:rPr>
              <a:t>KABUL ETME YA DA REDDETME NASIL SAĞLANIR?</a:t>
            </a:r>
            <a:br>
              <a:rPr sz="2800"/>
            </a:br>
            <a:endParaRPr b="0" lang="en-US" sz="28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 veya birkaç kişinin, bir veya birkaç kişiyi açık olarak belirtilen isteklerle etkilemeye çalışmasına </a:t>
            </a:r>
            <a:r>
              <a:rPr b="0" lang="en-US" sz="3200" spc="-1" strike="noStrike">
                <a:solidFill>
                  <a:srgbClr val="0099ff"/>
                </a:solidFill>
                <a:latin typeface="Times New Roman"/>
              </a:rPr>
              <a:t>Kabul</a:t>
            </a:r>
            <a:r>
              <a:rPr b="0" lang="en-US" sz="3200" spc="-1" strike="noStrike">
                <a:solidFill>
                  <a:srgbClr val="000000"/>
                </a:solidFill>
                <a:latin typeface="Times New Roman"/>
              </a:rPr>
              <a:t> denilir. Kabul için söz verme, korku, ahlak, sevgi, fedakarlık,borçlandırma gibi nedenler değer taşır. Kabulün gerçekleşmesinde kullanılan çeşitli stratejiler bulunmaktadı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Kabul içi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0" lang="en-US" sz="3200" spc="-1" strike="noStrike">
                <a:solidFill>
                  <a:srgbClr val="efbbe8"/>
                </a:solidFill>
                <a:latin typeface="Times New Roman"/>
              </a:rPr>
              <a:t>küçük</a:t>
            </a:r>
            <a:r>
              <a:rPr b="0" lang="en-US" sz="3200" spc="-1" strike="noStrike">
                <a:solidFill>
                  <a:srgbClr val="000000"/>
                </a:solidFill>
                <a:latin typeface="Times New Roman"/>
              </a:rPr>
              <a:t>, Sonra </a:t>
            </a:r>
            <a:r>
              <a:rPr b="0" lang="en-US" sz="3200" spc="-1" strike="noStrike">
                <a:solidFill>
                  <a:srgbClr val="4c3c70"/>
                </a:solidFill>
                <a:latin typeface="Times New Roman"/>
              </a:rPr>
              <a:t>BÜYÜK</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ce </a:t>
            </a:r>
            <a:r>
              <a:rPr b="0" lang="en-US" sz="3200" spc="-1" strike="noStrike">
                <a:solidFill>
                  <a:srgbClr val="4c3c70"/>
                </a:solidFill>
                <a:latin typeface="Times New Roman"/>
              </a:rPr>
              <a:t>BÜYÜK</a:t>
            </a:r>
            <a:r>
              <a:rPr b="0" lang="en-US" sz="3200" spc="-1" strike="noStrike">
                <a:solidFill>
                  <a:srgbClr val="000000"/>
                </a:solidFill>
                <a:latin typeface="Times New Roman"/>
              </a:rPr>
              <a:t>, sonra </a:t>
            </a:r>
            <a:r>
              <a:rPr b="0" lang="en-US" sz="3200" spc="-1" strike="noStrike">
                <a:solidFill>
                  <a:srgbClr val="efbbe8"/>
                </a:solidFill>
                <a:latin typeface="Times New Roman"/>
              </a:rPr>
              <a:t>küçük</a:t>
            </a:r>
            <a:endParaRPr b="0" lang="en-US" sz="3200" spc="-1" strike="noStrike">
              <a:solidFill>
                <a:srgbClr val="000000"/>
              </a:solidFill>
              <a:latin typeface="Times New Roman"/>
            </a:endParaRPr>
          </a:p>
          <a:p>
            <a:pPr marL="609480" indent="-609480">
              <a:spcBef>
                <a:spcPts val="799"/>
              </a:spcBef>
              <a:buClr>
                <a:srgbClr val="9cdca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cdcab"/>
                </a:solidFill>
                <a:uFillTx/>
                <a:latin typeface="Times New Roman"/>
              </a:rPr>
              <a:t>Gitgide artan ricalar</a:t>
            </a:r>
            <a:endParaRPr b="0" lang="en-US" sz="3200" spc="-1" strike="noStrike">
              <a:solidFill>
                <a:srgbClr val="000000"/>
              </a:solidFill>
              <a:latin typeface="Times New Roman"/>
            </a:endParaRPr>
          </a:p>
          <a:p>
            <a:pPr marL="609480" indent="-609480">
              <a:spcBef>
                <a:spcPts val="799"/>
              </a:spcBef>
              <a:buClr>
                <a:srgbClr val="ff3d2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d23"/>
                </a:solidFill>
                <a:latin typeface="Times New Roman"/>
              </a:rPr>
              <a:t>Sadece </a:t>
            </a:r>
            <a:r>
              <a:rPr b="0" lang="en-US" sz="3600" spc="-1" strike="noStrike">
                <a:solidFill>
                  <a:srgbClr val="ff3d23"/>
                </a:solidFill>
                <a:latin typeface="Times New Roman"/>
              </a:rPr>
              <a:t>O </a:t>
            </a:r>
            <a:r>
              <a:rPr b="0" lang="en-US" sz="3200" spc="-1" strike="noStrike">
                <a:solidFill>
                  <a:srgbClr val="ff3d23"/>
                </a:solidFill>
                <a:latin typeface="Times New Roman"/>
              </a:rPr>
              <a:t>değil/ Satış tatlandır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önce </a:t>
            </a:r>
            <a:r>
              <a:rPr b="0" lang="en-US" sz="4400" spc="-1" strike="noStrike">
                <a:solidFill>
                  <a:srgbClr val="efbbe8"/>
                </a:solidFill>
                <a:latin typeface="Times New Roman"/>
              </a:rPr>
              <a:t>küçük</a:t>
            </a:r>
            <a:r>
              <a:rPr b="0" lang="en-US" sz="4400" spc="-1" strike="noStrike">
                <a:solidFill>
                  <a:srgbClr val="000000"/>
                </a:solidFill>
                <a:latin typeface="Times New Roman"/>
              </a:rPr>
              <a:t>, Sonra </a:t>
            </a:r>
            <a:r>
              <a:rPr b="0" lang="en-US" sz="4400" spc="-1" strike="noStrike">
                <a:solidFill>
                  <a:srgbClr val="4c3c70"/>
                </a:solidFill>
                <a:latin typeface="Times New Roman"/>
              </a:rPr>
              <a:t>BÜYÜK</a:t>
            </a:r>
            <a:br>
              <a:rPr sz="4400"/>
            </a:b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nce pek önemli olmayan bir rica öne sürülür, kabulden sonra BÜYÜK ricada bulunulur. Yapılan araştırmalar göstermiştir ki, büyük rica küçük bir ricadan sonra sunulduğunda elde edilen kabul; doğrudan büyük rica sunulmasından daha etkili olmaktad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Freedman ve Fraser in 156 ev hanımı ve temizlik malzemeleri çalışması, %50 başarı sağla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liforniya’yı temiz tutalım kampanyası başarılı olmuştu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d624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2406"/>
                </a:solidFill>
                <a:latin typeface="Times New Roman"/>
              </a:rPr>
              <a:t>Tutarlılık</a:t>
            </a:r>
            <a:r>
              <a:rPr b="0" lang="en-US" sz="2400" spc="-1" strike="noStrike">
                <a:solidFill>
                  <a:srgbClr val="000000"/>
                </a:solidFill>
                <a:latin typeface="Times New Roman"/>
              </a:rPr>
              <a:t> üzerine yapılan çalışmalarda da (sosyal etkinin oluşmasında etkilidir), belli bir konudaki görüşü savunanların, bu tutarlılık göstergesine devam ettikleri görülmektedir. Seçmen davranışları bu konuda dikkat çekici bir örnektir.</a:t>
            </a:r>
            <a:endParaRPr b="0" lang="en-US" sz="2400" spc="-1" strike="noStrike">
              <a:solidFill>
                <a:srgbClr val="000000"/>
              </a:solidFill>
              <a:latin typeface="Times New Roman"/>
            </a:endParaRPr>
          </a:p>
          <a:p>
            <a:pPr marL="572760" indent="-572760">
              <a:lnSpc>
                <a:spcPct val="90000"/>
              </a:lnSpc>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Times New Roman"/>
              </a:rPr>
              <a:t>Kendini Algılama Modeli’nde</a:t>
            </a:r>
            <a:r>
              <a:rPr b="0" lang="en-US" sz="2400" spc="-1" strike="noStrike">
                <a:solidFill>
                  <a:srgbClr val="000000"/>
                </a:solidFill>
                <a:latin typeface="Times New Roman"/>
              </a:rPr>
              <a:t> de insanlar kendi davranışlarını izleyerek, tutum ve inançları hakkında karar verirler. Böylece hangi ricaların kabule neden olacağı anlaşılır. Tutarlığın kendilik imajını etkilemesi için ;</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arlı davranışlar başkalarının önünde yapılmalı,</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da zorlama olmamalıdır. Çünkü küçük ricadaki zorlama, büyük ricanın yapılmasını engeller.</a:t>
            </a:r>
            <a:endParaRPr b="0" lang="en-US" sz="2400" spc="-1" strike="noStrike">
              <a:solidFill>
                <a:srgbClr val="000000"/>
              </a:solidFill>
              <a:latin typeface="Times New Roman"/>
            </a:endParaRPr>
          </a:p>
          <a:p>
            <a:pPr marL="572760" indent="-5727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ranışlar aktif bir biçimde yerine gelmelidir.</a:t>
            </a:r>
            <a:endParaRPr b="0" lang="en-US" sz="2400" spc="-1" strike="noStrike">
              <a:solidFill>
                <a:srgbClr val="000000"/>
              </a:solidFill>
              <a:latin typeface="Times New Roman"/>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ünlük yaşamın bir çok boyutunda bu kabul tekniği kullanıl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Önce </a:t>
            </a:r>
            <a:r>
              <a:rPr b="0" lang="en-US" sz="4400" spc="-1" strike="noStrike">
                <a:solidFill>
                  <a:srgbClr val="4c3c70"/>
                </a:solidFill>
                <a:latin typeface="Times New Roman"/>
              </a:rPr>
              <a:t>BÜYÜK</a:t>
            </a:r>
            <a:r>
              <a:rPr b="0" lang="en-US" sz="4400" spc="-1" strike="noStrike">
                <a:solidFill>
                  <a:srgbClr val="000000"/>
                </a:solidFill>
                <a:latin typeface="Times New Roman"/>
              </a:rPr>
              <a:t>, sonra </a:t>
            </a:r>
            <a:r>
              <a:rPr b="0" lang="en-US" sz="4400" spc="-1" strike="noStrike">
                <a:solidFill>
                  <a:srgbClr val="efbbe8"/>
                </a:solidFill>
                <a:latin typeface="Times New Roman"/>
              </a:rPr>
              <a:t>küçük</a:t>
            </a:r>
            <a:br>
              <a:rPr sz="4400"/>
            </a:b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 sunulan büyük rica reddedilir ve küçük ricanın kabulü kolaylaş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ialdini ve arkadaşlarını kampus deneyi ile % 50 başarı sağlanmıştı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yrıca araba satış tekniklerinde araç özellikleri, işçi ücretlerinin pazarlığı örnek verilebili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u teknikteki başarının </a:t>
            </a:r>
            <a:r>
              <a:rPr b="0" lang="tr-TR" sz="2400" spc="-1" strike="noStrike" u="sng">
                <a:solidFill>
                  <a:srgbClr val="ff3d23"/>
                </a:solidFill>
                <a:uFillTx/>
                <a:latin typeface="Times New Roman"/>
              </a:rPr>
              <a:t>bir nedeni</a:t>
            </a:r>
            <a:r>
              <a:rPr b="0" lang="tr-TR" sz="2400" spc="-1" strike="noStrike">
                <a:solidFill>
                  <a:srgbClr val="000000"/>
                </a:solidFill>
                <a:latin typeface="Times New Roman"/>
              </a:rPr>
              <a:t>, insanların yapılan iyiliğe karşılık verme ihtiyaçları, </a:t>
            </a:r>
            <a:r>
              <a:rPr b="0" lang="tr-TR" sz="2400" spc="-1" strike="noStrike" u="sng">
                <a:solidFill>
                  <a:srgbClr val="ff3d23"/>
                </a:solidFill>
                <a:uFillTx/>
                <a:latin typeface="Times New Roman"/>
              </a:rPr>
              <a:t>diğer nedeni</a:t>
            </a:r>
            <a:r>
              <a:rPr b="0" lang="tr-TR" sz="2400" spc="-1" strike="noStrike">
                <a:solidFill>
                  <a:srgbClr val="000000"/>
                </a:solidFill>
                <a:latin typeface="Times New Roman"/>
              </a:rPr>
              <a:t> ise büyük bir ricanın ardından gelen ricalar küçük olarak algılanmasıdır.</a:t>
            </a:r>
            <a:r>
              <a:rPr b="0" lang="tr-TR" sz="2400" spc="-1" strike="noStrike" u="sng">
                <a:solidFill>
                  <a:srgbClr val="ff3d23"/>
                </a:solidFill>
                <a:uFillTx/>
                <a:latin typeface="Times New Roman"/>
              </a:rPr>
              <a:t>Son bir neden olarak</a:t>
            </a:r>
            <a:r>
              <a:rPr b="0" lang="tr-TR" sz="2400" spc="-1" strike="noStrike">
                <a:solidFill>
                  <a:srgbClr val="000000"/>
                </a:solidFill>
                <a:latin typeface="Times New Roman"/>
              </a:rPr>
              <a:t> da, insanların kendilerini olumlu bir şekilde sunma eğilimine sahip olmaları öne sürülebi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Sosyal etki üç ortamda oluşu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Kişiler arası – birebir- iletişim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Birey-grup iletişiminin olduğu ortamlardaki sosyal et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Basın ve yayın aracılığı ile oluşan sosyal et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cdcab"/>
                </a:solidFill>
                <a:uFillTx/>
                <a:latin typeface="Times New Roman"/>
              </a:rPr>
              <a:t>3-Gitgide artan ricalar</a:t>
            </a:r>
            <a:br>
              <a:rPr sz="4400"/>
            </a:b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er şey sunulan küçük bir önerinin kabulü ile başlar ve bu kabul küçük ya da büyük ricaların sunumu ile devam eder. Otomobil satışındaki satış teknikleri gib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ialdini’nin kampus /öğrenci araştırması %56 başarılı sonuç vermiş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d23"/>
                </a:solidFill>
                <a:latin typeface="Times New Roman"/>
              </a:rPr>
              <a:t>4-Sadece </a:t>
            </a:r>
            <a:r>
              <a:rPr b="0" lang="en-US" sz="4800" spc="-1" strike="noStrike">
                <a:solidFill>
                  <a:srgbClr val="ff3d23"/>
                </a:solidFill>
                <a:latin typeface="Times New Roman"/>
              </a:rPr>
              <a:t>O </a:t>
            </a:r>
            <a:r>
              <a:rPr b="0" lang="en-US" sz="4400" spc="-1" strike="noStrike">
                <a:solidFill>
                  <a:srgbClr val="ff3d23"/>
                </a:solidFill>
                <a:latin typeface="Times New Roman"/>
              </a:rPr>
              <a:t>değil/</a:t>
            </a:r>
            <a:br>
              <a:rPr sz="4400"/>
            </a:br>
            <a:r>
              <a:rPr b="0" lang="en-US" sz="4400" spc="-1" strike="noStrike">
                <a:solidFill>
                  <a:srgbClr val="ff3d23"/>
                </a:solidFill>
                <a:latin typeface="Times New Roman"/>
              </a:rPr>
              <a:t> Satış tatlandırm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bul için sunulan teklif, karşı teklif oluşmadan iyileştirilir. Satıcıların kullanmış olduğu indirim, bu tekniğin tipik özelliklerinden birisidir.</a:t>
            </a:r>
            <a:endParaRPr b="0" lang="en-US" sz="2800" spc="-1" strike="noStrike">
              <a:solidFill>
                <a:srgbClr val="000000"/>
              </a:solidFill>
              <a:latin typeface="Times New Roman"/>
            </a:endParaRPr>
          </a:p>
          <a:p>
            <a:pPr marL="343080" indent="-343080">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imes New Roman"/>
              </a:rPr>
              <a:t>Burger</a:t>
            </a:r>
            <a:r>
              <a:rPr b="0" lang="tr-TR" sz="2800" spc="-1" strike="noStrike">
                <a:solidFill>
                  <a:srgbClr val="000000"/>
                </a:solidFill>
                <a:latin typeface="Times New Roman"/>
              </a:rPr>
              <a:t> tarafından kekin satışı örneğ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tekniğin geçerlilik arz etmesinde; insanların, ödünden faydalanma ya da karşılık verme eğilimleri yatmaktadır. Ayrıca alış verişten kazançlı çıkma davranışı etki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Times New Roman"/>
              </a:rPr>
              <a:t>SEVDİKLERİMİZE VE SEVMEDİKLERİMİZE İTAAT ETMEYİ ÖĞRENEBİLİR MİYİZ?</a:t>
            </a:r>
            <a:br>
              <a:rPr sz="2800"/>
            </a:br>
            <a:endParaRPr b="0" lang="en-US" sz="2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Herhangi bir güç ya da güç kaynağını kullanan otoritenin emirleri ile oluşan davranış değişmesidi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Otoritenin gücü, etki alanı ve değeri aileden başlayan eğitim süreci içerisinde bizlere bildirilir. Otoritenin varlığı sözlü ya da yazılı olabileceği gibi sembollerden de anlaşılabilir. Sembollerin içerisinde unvanlar (Wilson; öğrenciler üzerine yaptığı ziyaretçi-profesör), giysiler ( Bickman; kotlu, takım elbiseli, itfaiyeci) sayılabil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k bir amaca bağlı </a:t>
            </a:r>
            <a:r>
              <a:rPr b="0" lang="en-US" sz="3200" spc="-1" strike="noStrike">
                <a:solidFill>
                  <a:srgbClr val="3333cc"/>
                </a:solidFill>
                <a:latin typeface="Times New Roman"/>
              </a:rPr>
              <a:t>psikolojik mekanizmalar</a:t>
            </a:r>
            <a:r>
              <a:rPr b="0" lang="en-US" sz="3200" spc="-1" strike="noStrike">
                <a:solidFill>
                  <a:srgbClr val="000000"/>
                </a:solidFill>
                <a:latin typeface="Times New Roman"/>
              </a:rPr>
              <a:t> da bu boyutta rol oynar. Ayrıca </a:t>
            </a:r>
            <a:r>
              <a:rPr b="0" lang="en-US" sz="3200" spc="-1" strike="noStrike">
                <a:solidFill>
                  <a:srgbClr val="3333cc"/>
                </a:solidFill>
                <a:latin typeface="Times New Roman"/>
              </a:rPr>
              <a:t>kültürel farklılıklar</a:t>
            </a:r>
            <a:r>
              <a:rPr b="0" lang="en-US" sz="3200" spc="-1" strike="noStrike">
                <a:solidFill>
                  <a:srgbClr val="000000"/>
                </a:solidFill>
                <a:latin typeface="Times New Roman"/>
              </a:rPr>
              <a:t> (çocuk yetiştirmede olduğu gibi) itaat etmede önemli faktörler olarak karşımıza çıkar. Bir başka unsur ise </a:t>
            </a:r>
            <a:r>
              <a:rPr b="0" lang="en-US" sz="3200" spc="-1" strike="noStrike">
                <a:solidFill>
                  <a:srgbClr val="3333cc"/>
                </a:solidFill>
                <a:latin typeface="Times New Roman"/>
              </a:rPr>
              <a:t>kişilikt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Otoriteye İtaat Etmek Ne Yarar Sağlar?</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syal kontrol ve sosyal savunmada katkıda bulun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şisel kazançlar sağlar ya da cezadan kaçınmayı gerektir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ygun davranışları oluştur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Yıkıcı emre itaat etm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nsanlar kimi emirlere kendilerine uygun olmadığı ya da katılmadıkları halde uyarlar, gönüllü olurlar ya da katılırl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itler, Willson, örneğindeki gib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2406"/>
                </a:solidFill>
                <a:latin typeface="Times New Roman"/>
              </a:rPr>
              <a:t>Milgram’ın İtaat Etme Deneyi</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4c3c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c3c70"/>
                </a:solidFill>
                <a:uFillTx/>
                <a:latin typeface="Times New Roman"/>
              </a:rPr>
              <a:t>“</a:t>
            </a:r>
            <a:r>
              <a:rPr b="0" lang="en-US" sz="2800" spc="-1" strike="noStrike" u="sng">
                <a:solidFill>
                  <a:srgbClr val="4c3c70"/>
                </a:solidFill>
                <a:uFillTx/>
                <a:latin typeface="Times New Roman"/>
              </a:rPr>
              <a:t>Bir insan emir verildi diye bir insanın canını yakabilir mi, bir başka insana zarar verebilir mi?”</a:t>
            </a:r>
            <a:endParaRPr b="0" lang="en-US" sz="2800" spc="-1" strike="noStrike">
              <a:solidFill>
                <a:srgbClr val="000000"/>
              </a:solidFill>
              <a:latin typeface="Times New Roman"/>
            </a:endParaRPr>
          </a:p>
          <a:p>
            <a:pPr marL="343080" indent="-343080">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Elektronik makine,</a:t>
            </a:r>
            <a:r>
              <a:rPr b="0" lang="en-US" sz="2800" spc="-1" strike="noStrike">
                <a:solidFill>
                  <a:srgbClr val="000000"/>
                </a:solidFill>
                <a:latin typeface="Times New Roman"/>
              </a:rPr>
              <a:t> </a:t>
            </a:r>
            <a:r>
              <a:rPr b="0" lang="en-US" sz="2800" spc="-1" strike="noStrike">
                <a:solidFill>
                  <a:srgbClr val="d62406"/>
                </a:solidFill>
                <a:latin typeface="Times New Roman"/>
              </a:rPr>
              <a:t>önlüklü deneyci</a:t>
            </a:r>
            <a:r>
              <a:rPr b="0" lang="en-US" sz="2800" spc="-1" strike="noStrike">
                <a:solidFill>
                  <a:srgbClr val="000000"/>
                </a:solidFill>
                <a:latin typeface="Times New Roman"/>
              </a:rPr>
              <a:t>, </a:t>
            </a:r>
            <a:r>
              <a:rPr b="0" lang="en-US" sz="2800" spc="-1" strike="noStrike">
                <a:solidFill>
                  <a:srgbClr val="f3f37b"/>
                </a:solidFill>
                <a:latin typeface="Times New Roman"/>
              </a:rPr>
              <a:t>laboratuar</a:t>
            </a:r>
            <a:r>
              <a:rPr b="0" lang="en-US" sz="2800" spc="-1" strike="noStrike">
                <a:solidFill>
                  <a:srgbClr val="000000"/>
                </a:solidFill>
                <a:latin typeface="Times New Roman"/>
              </a:rPr>
              <a:t>, </a:t>
            </a:r>
            <a:r>
              <a:rPr b="0" lang="en-US" sz="2800" spc="-1" strike="noStrike">
                <a:solidFill>
                  <a:srgbClr val="efbbe8"/>
                </a:solidFill>
                <a:latin typeface="Times New Roman"/>
              </a:rPr>
              <a:t>denek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lime çiftlerini öğrenme/ 50 yaşındaki adam öğrenci (kalp sorunu var) / diğerleri öğretmen/ ceza elektrik şoku/kalıcı zarar yo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ktrik şoku veren cihaz 15 volttan 450 volta kadardır.15 voltluk dilimler halin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0 voltta öğrenci vazgeçmek ister.180 voltta acı çektiğini belirt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pılan araştırmada Yale Üniversitesi öğrencilerine göre deneye katılanlarından % 3’ü 450 volta kadar çıkarlar. Psikiyatrlar da benzer bir tahminde bulunmuştu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Oysa ki deneye katılan</a:t>
            </a:r>
            <a:r>
              <a:rPr b="0" lang="tr-TR" sz="3200" spc="-1" strike="noStrike">
                <a:solidFill>
                  <a:srgbClr val="d62406"/>
                </a:solidFill>
                <a:latin typeface="Times New Roman"/>
              </a:rPr>
              <a:t> 40 denekten 26’sı (% 65) tüm voltaj </a:t>
            </a:r>
            <a:r>
              <a:rPr b="0" lang="tr-TR" sz="3200" spc="-1" strike="noStrike">
                <a:solidFill>
                  <a:srgbClr val="000000"/>
                </a:solidFill>
                <a:latin typeface="Times New Roman"/>
              </a:rPr>
              <a:t>derecelerini öğrenciye vermişlerdir. Ayrıca</a:t>
            </a:r>
            <a:r>
              <a:rPr b="0" lang="tr-TR" sz="3200" spc="-1" strike="noStrike">
                <a:solidFill>
                  <a:srgbClr val="d62406"/>
                </a:solidFill>
                <a:latin typeface="Times New Roman"/>
              </a:rPr>
              <a:t> tüm katılımcılar 300 volttan</a:t>
            </a:r>
            <a:r>
              <a:rPr b="0" lang="tr-TR" sz="3200" spc="-1" strike="noStrike">
                <a:solidFill>
                  <a:srgbClr val="000000"/>
                </a:solidFill>
                <a:latin typeface="Times New Roman"/>
              </a:rPr>
              <a:t> önce deneyi bırakmamışlardı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Tekrarlanan bu deney farklı türden katılımcıları üzerine yinelenmiş ancak aynı sonuçlar alınmıştır. Avustralya için % 68, Almanya %85, Ürdün % 68 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taat Etmeyi Etkileyen Unsurlar</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gram yapmış olduğu deneydeki farklı unsurların itaat için etkileyici ve dikkat çekici olduğunu saptamış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a-</a:t>
            </a:r>
            <a:r>
              <a:rPr b="0" lang="en-US" sz="3200" spc="-1" strike="noStrike">
                <a:solidFill>
                  <a:srgbClr val="00cc99"/>
                </a:solidFill>
                <a:latin typeface="Times New Roman"/>
              </a:rPr>
              <a:t> Presti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d23"/>
                </a:solidFill>
                <a:latin typeface="Times New Roman"/>
              </a:rPr>
              <a:t>b-Kurbana fiziksel yakınlı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3c70"/>
                </a:solidFill>
                <a:latin typeface="Times New Roman"/>
              </a:rPr>
              <a:t>c-Kişisel sorumlulu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d-Otoriteye karşı çıkan modell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Times New Roman"/>
              </a:rPr>
              <a:t>1-Kişiler arası – birebir- iletişimin olduğu ortamlardaki sosyal etki</a:t>
            </a:r>
            <a:br>
              <a:rPr sz="2400"/>
            </a:b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 ya da birkaç sosyal etki kaynağının bir ya da birkaç sosyal etki hedefi ile olan iletişimini ya da etkileşimini içeri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ebir iletişim kurmak ve etkileşim içerisinde olmak bir yaşamın bir çok boyutunda ve çeşitli nedenlerle kullanılan bir etki biçimidi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kol kullanma konusunda ısrarcı ve süreklilik gösteren bir bireyin bu davranışını değiştirmeye yönelik davranışlar bu etki içerisinde yer alı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nun yanı sıra bazı gruplar bireyleri bu yolu kullanarak etkileyebilirler. Bunun için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Çeşitli ikna teknikler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Kişisel sorunları çözmeye yönelik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ekrarlı tartışmala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up üyelerinin çekiciliklerini ve niceliklerini kullanm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şıt fikirler üretme fırsatı vermek, ancak mümkün olduğu kadar yeni uğraşlar ile daha geniş ve özgür düşünmelerini engelleme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üçlü ve beğeni ağırlıklı sunum teknikleri kullanmak-ikram v.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Times New Roman"/>
              </a:rPr>
              <a:t>a-</a:t>
            </a:r>
            <a:r>
              <a:rPr b="0" lang="en-US" sz="4400" spc="-1" strike="noStrike">
                <a:solidFill>
                  <a:srgbClr val="00cc99"/>
                </a:solidFill>
                <a:latin typeface="Times New Roman"/>
              </a:rPr>
              <a:t> Prestij</a:t>
            </a:r>
            <a:br>
              <a:rPr sz="4400"/>
            </a:b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eneye yönelik olarak deneklerin acı verilmeyeceğini bildikleri eleştirisi yöneltilmiştir. Milgram, bunun üzerine prestijin önemini ölçmek amacıyla eski bir binada üniversite ile ilgili olmayan bireyleri toplayarak deneyi yinelemiştir. Prestiji düşük olan bu yerde itaat % 48 dir. En yüksek şok kullanılmıştır. Araştırmacının giysisi değiştirilmiş ve itaat % 20 olmuştur. Bu bağlamda “</a:t>
            </a:r>
            <a:r>
              <a:rPr b="0" lang="tr-TR" sz="2800" spc="-1" strike="noStrike">
                <a:solidFill>
                  <a:srgbClr val="ff6600"/>
                </a:solidFill>
                <a:latin typeface="Times New Roman"/>
              </a:rPr>
              <a:t>otorite figürü etki iken, deneyin yeri daha az önemlidir</a:t>
            </a:r>
            <a:r>
              <a:rPr b="0" lang="tr-TR" sz="2800" spc="-1" strike="noStrike">
                <a:solidFill>
                  <a:srgbClr val="000000"/>
                </a:solidFill>
                <a:latin typeface="Times New Roman"/>
              </a:rPr>
              <a:t>” sonucuna ulaşıl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d23"/>
                </a:solidFill>
                <a:latin typeface="Times New Roman"/>
              </a:rPr>
              <a:t>b-Kurbana fiziksel yakınlık</a:t>
            </a:r>
            <a:br>
              <a:rPr sz="4400"/>
            </a:b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nu anlamak için Milgram tarafından bir çok deney yapılmıştır. </a:t>
            </a:r>
            <a:endParaRPr b="0" lang="en-US" sz="2800" spc="-1" strike="noStrike">
              <a:solidFill>
                <a:srgbClr val="000000"/>
              </a:solidFill>
              <a:latin typeface="Times New Roman"/>
            </a:endParaRPr>
          </a:p>
          <a:p>
            <a:pPr marL="343080" indent="-343080">
              <a:lnSpc>
                <a:spcPct val="90000"/>
              </a:lnSpc>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İlk koşulda</a:t>
            </a:r>
            <a:r>
              <a:rPr b="0" lang="en-US" sz="2800" spc="-1" strike="noStrike">
                <a:solidFill>
                  <a:srgbClr val="000000"/>
                </a:solidFill>
                <a:latin typeface="Times New Roman"/>
              </a:rPr>
              <a:t>, ses ve görüntü yoktur (300 Voltta duvara birinin vurduğu duyulur). %66 itaat.</a:t>
            </a:r>
            <a:endParaRPr b="0" lang="en-US" sz="2800" spc="-1" strike="noStrike">
              <a:solidFill>
                <a:srgbClr val="000000"/>
              </a:solidFill>
              <a:latin typeface="Times New Roman"/>
            </a:endParaRPr>
          </a:p>
          <a:p>
            <a:pPr marL="343080" indent="-343080">
              <a:lnSpc>
                <a:spcPct val="90000"/>
              </a:lnSpc>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İkinci koşulda,</a:t>
            </a:r>
            <a:r>
              <a:rPr b="0" lang="en-US" sz="2800" spc="-1" strike="noStrike">
                <a:solidFill>
                  <a:srgbClr val="000000"/>
                </a:solidFill>
                <a:latin typeface="Times New Roman"/>
              </a:rPr>
              <a:t> ses vardır. İtaat % 63 tür.</a:t>
            </a:r>
            <a:endParaRPr b="0" lang="en-US" sz="2800" spc="-1" strike="noStrike">
              <a:solidFill>
                <a:srgbClr val="000000"/>
              </a:solidFill>
              <a:latin typeface="Times New Roman"/>
            </a:endParaRPr>
          </a:p>
          <a:p>
            <a:pPr marL="343080" indent="-343080">
              <a:lnSpc>
                <a:spcPct val="90000"/>
              </a:lnSpc>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Üçüncü koşulda,</a:t>
            </a:r>
            <a:r>
              <a:rPr b="0" lang="en-US" sz="2800" spc="-1" strike="noStrike">
                <a:solidFill>
                  <a:srgbClr val="000000"/>
                </a:solidFill>
                <a:latin typeface="Times New Roman"/>
              </a:rPr>
              <a:t> aynı odada ses ve görüntü vardır. İtaat % 40 tır.</a:t>
            </a:r>
            <a:endParaRPr b="0" lang="en-US" sz="2800" spc="-1" strike="noStrike">
              <a:solidFill>
                <a:srgbClr val="000000"/>
              </a:solidFill>
              <a:latin typeface="Times New Roman"/>
            </a:endParaRPr>
          </a:p>
          <a:p>
            <a:pPr marL="343080" indent="-343080">
              <a:lnSpc>
                <a:spcPct val="90000"/>
              </a:lnSpc>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Son koşulda ise,</a:t>
            </a:r>
            <a:r>
              <a:rPr b="0" lang="en-US" sz="2800" spc="-1" strike="noStrike">
                <a:solidFill>
                  <a:srgbClr val="000000"/>
                </a:solidFill>
                <a:latin typeface="Times New Roman"/>
              </a:rPr>
              <a:t> dokunma vardır ve itaat %30 oranına gerile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 bağlamda;</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ziksel yakınlık arttıkça itaat azalır. Çünkü; </a:t>
            </a:r>
            <a:endParaRPr b="0" lang="en-US" sz="3200" spc="-1" strike="noStrike">
              <a:solidFill>
                <a:srgbClr val="000000"/>
              </a:solidFill>
              <a:latin typeface="Times New Roman"/>
            </a:endParaRPr>
          </a:p>
          <a:p>
            <a:pPr marL="343080" indent="-343080">
              <a:spcBef>
                <a:spcPts val="799"/>
              </a:spcBef>
              <a:buClr>
                <a:srgbClr val="9cdc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cdcab"/>
                </a:solidFill>
                <a:latin typeface="Times New Roman"/>
              </a:rPr>
              <a:t>empat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9cdc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cdcab"/>
                </a:solidFill>
                <a:latin typeface="Times New Roman"/>
              </a:rPr>
              <a:t>bilişsel alan daraltılması/görmezden gelme</a:t>
            </a:r>
            <a:r>
              <a:rPr b="0" i="1" lang="en-US" sz="3200" spc="-1" strike="noStrike">
                <a:solidFill>
                  <a:srgbClr val="000000"/>
                </a:solidFill>
                <a:latin typeface="Times New Roman"/>
              </a:rPr>
              <a:t>  ortadan kalkar,</a:t>
            </a:r>
            <a:endParaRPr b="0" lang="en-US" sz="3200" spc="-1" strike="noStrike">
              <a:solidFill>
                <a:srgbClr val="000000"/>
              </a:solidFill>
              <a:latin typeface="Times New Roman"/>
            </a:endParaRPr>
          </a:p>
          <a:p>
            <a:pPr marL="343080" indent="-343080">
              <a:spcBef>
                <a:spcPts val="799"/>
              </a:spcBef>
              <a:buClr>
                <a:srgbClr val="9cdc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cdcab"/>
                </a:solidFill>
                <a:latin typeface="Times New Roman"/>
              </a:rPr>
              <a:t>ayıp/suçluluk hissi</a:t>
            </a:r>
            <a:r>
              <a:rPr b="0" i="1" lang="en-US" sz="3200" spc="-1" strike="noStrike">
                <a:solidFill>
                  <a:srgbClr val="000000"/>
                </a:solidFill>
                <a:latin typeface="Times New Roman"/>
              </a:rPr>
              <a:t> oluşur, </a:t>
            </a:r>
            <a:endParaRPr b="0" lang="en-US" sz="3200" spc="-1" strike="noStrike">
              <a:solidFill>
                <a:srgbClr val="000000"/>
              </a:solidFill>
              <a:latin typeface="Times New Roman"/>
            </a:endParaRPr>
          </a:p>
          <a:p>
            <a:pPr marL="343080" indent="-343080">
              <a:spcBef>
                <a:spcPts val="799"/>
              </a:spcBef>
              <a:buClr>
                <a:srgbClr val="9cdca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cdcab"/>
                </a:solidFill>
                <a:latin typeface="Times New Roman"/>
              </a:rPr>
              <a:t>grup/iç grup üyesi</a:t>
            </a:r>
            <a:r>
              <a:rPr b="0" i="1" lang="en-US" sz="3200" spc="-1" strike="noStrike">
                <a:solidFill>
                  <a:srgbClr val="000000"/>
                </a:solidFill>
                <a:latin typeface="Times New Roman"/>
              </a:rPr>
              <a:t> olarak kabul edilebil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3c70"/>
                </a:solidFill>
                <a:latin typeface="Times New Roman"/>
              </a:rPr>
              <a:t>c-Kişisel sorumluluk</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ff"/>
                </a:solidFill>
                <a:latin typeface="Times New Roman"/>
              </a:rPr>
              <a:t>“</a:t>
            </a:r>
            <a:r>
              <a:rPr b="0" i="1" lang="en-US" sz="3200" spc="-1" strike="noStrike">
                <a:solidFill>
                  <a:srgbClr val="0099ff"/>
                </a:solidFill>
                <a:latin typeface="Times New Roman"/>
              </a:rPr>
              <a:t>Öğrenciye bir şey olursa sorumluluk kime ait?” </a:t>
            </a:r>
            <a:r>
              <a:rPr b="0" i="1" lang="en-US" sz="3200" spc="-1" strike="noStrike">
                <a:solidFill>
                  <a:srgbClr val="000000"/>
                </a:solidFill>
                <a:latin typeface="Times New Roman"/>
              </a:rPr>
              <a:t> </a:t>
            </a:r>
            <a:r>
              <a:rPr b="0" lang="en-US" sz="3200" spc="-1" strike="noStrike">
                <a:solidFill>
                  <a:srgbClr val="000000"/>
                </a:solidFill>
                <a:latin typeface="Times New Roman"/>
              </a:rPr>
              <a:t>sorusuna aldıkları cevap; araştırmacı ya da deneyiciye olunca rahatlıkla deneye devam etmişlerd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d-Otoriteye karşı çıkan modeller</a:t>
            </a:r>
            <a:br>
              <a:rPr sz="4400"/>
            </a:b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oriteye ya da deneyciye yakınlık itaati arttırırken, uzaklaşmak (aynı oda, telefon, ses kaydı) itaati azaltmaktadır. Bu durum deneyci odada bulunmadığı durumlarda deneklerin kaytarmalarına kadar gitmektedir. Otoriteye karşı gelme veya itiraz etme de ise Milgram farklı deneyler yapmışt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Öğretmen 2+1 ve öğrencide uyma düş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Yıkıcı itaati azaltmanın yolları;</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ri yerine getiren kişi yaptığı işten sorumlu tutulabilir.</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ıkıcı emri yerine getirmenin uygun olmadığını gösteren sosyal kurallar geliştirilebilir.</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len emirlerin nedenleri, sonuçları, varlıkları sorgulanabilir.</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gi sahibi olmaları itaati azaltır ya da yok e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Times New Roman"/>
              </a:rPr>
              <a:t>GÜÇLÜ OLANI HERKES SEVER ! YA LİDERLERİ...</a:t>
            </a:r>
            <a:br>
              <a:rPr sz="2800"/>
            </a:br>
            <a:endParaRPr b="0" lang="en-US" sz="28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syal etki oluşturma kapasitesi olan güç,bir bireyin ya da grubun başkalarının davranışlarını gerçekleştirme yeteneğ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Güç</a:t>
            </a:r>
            <a:r>
              <a:rPr b="0" lang="en-US" sz="2800" spc="-1" strike="noStrike">
                <a:solidFill>
                  <a:srgbClr val="000000"/>
                </a:solidFill>
                <a:latin typeface="Times New Roman"/>
              </a:rPr>
              <a:t> sosyal etkinin temeli,</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6600"/>
                </a:solidFill>
                <a:latin typeface="Times New Roman"/>
              </a:rPr>
              <a:t>sosyal etki</a:t>
            </a:r>
            <a:r>
              <a:rPr b="0" lang="en-US" sz="2800" spc="-1" strike="noStrike">
                <a:solidFill>
                  <a:srgbClr val="000000"/>
                </a:solidFill>
                <a:latin typeface="Times New Roman"/>
              </a:rPr>
              <a:t> gücün iş başında olduğu durum,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6600"/>
                </a:solidFill>
                <a:latin typeface="Times New Roman"/>
              </a:rPr>
              <a:t>otorite</a:t>
            </a:r>
            <a:r>
              <a:rPr b="0" lang="en-US" sz="2800" spc="-1" strike="noStrike">
                <a:solidFill>
                  <a:srgbClr val="000000"/>
                </a:solidFill>
                <a:latin typeface="Times New Roman"/>
              </a:rPr>
              <a:t> ise sosyal kurallar, gelenekler, v.d. dayalı olarak kişinin sahip olduğu konum ve sosyal etki sağlama yetkis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ücün sağlanabilmesinde </a:t>
            </a:r>
            <a:r>
              <a:rPr b="0" lang="en-US" sz="2800" spc="-1" strike="noStrike">
                <a:solidFill>
                  <a:srgbClr val="0099ff"/>
                </a:solidFill>
                <a:latin typeface="Times New Roman"/>
              </a:rPr>
              <a:t>bağımlılık</a:t>
            </a:r>
            <a:r>
              <a:rPr b="0" lang="en-US" sz="2800" spc="-1" strike="noStrike">
                <a:solidFill>
                  <a:srgbClr val="000000"/>
                </a:solidFill>
                <a:latin typeface="Times New Roman"/>
              </a:rPr>
              <a:t> önemli bir role sahip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Gücün kaynakları;</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Ceza gücü;</a:t>
            </a:r>
            <a:r>
              <a:rPr b="0" lang="en-US" sz="2800" spc="-1" strike="noStrike">
                <a:solidFill>
                  <a:srgbClr val="000000"/>
                </a:solidFill>
                <a:latin typeface="Times New Roman"/>
              </a:rPr>
              <a:t> korkuya dayalıdır. Fiziksel veya duygusal, zihinsel olabilir. Sosyal etki sağlanabil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Ödül gücü;</a:t>
            </a:r>
            <a:r>
              <a:rPr b="0" lang="en-US" sz="2800" spc="-1" strike="noStrike">
                <a:solidFill>
                  <a:srgbClr val="000000"/>
                </a:solidFill>
                <a:latin typeface="Times New Roman"/>
              </a:rPr>
              <a:t>vaat eden kişi,</a:t>
            </a:r>
            <a:r>
              <a:rPr b="0" lang="en-US" sz="2800" spc="-1" strike="noStrike">
                <a:solidFill>
                  <a:srgbClr val="0099ff"/>
                </a:solidFill>
                <a:latin typeface="Times New Roman"/>
              </a:rPr>
              <a:t> </a:t>
            </a:r>
            <a:r>
              <a:rPr b="0" lang="en-US" sz="2800" spc="-1" strike="noStrike">
                <a:solidFill>
                  <a:srgbClr val="000000"/>
                </a:solidFill>
                <a:latin typeface="Times New Roman"/>
              </a:rPr>
              <a:t>onaylama veya ödül ile</a:t>
            </a:r>
            <a:r>
              <a:rPr b="0" lang="en-US" sz="2800" spc="-1" strike="noStrike">
                <a:solidFill>
                  <a:srgbClr val="0099ff"/>
                </a:solidFill>
                <a:latin typeface="Times New Roman"/>
              </a:rPr>
              <a:t> </a:t>
            </a:r>
            <a:r>
              <a:rPr b="0" lang="en-US" sz="2800" spc="-1" strike="noStrike">
                <a:solidFill>
                  <a:srgbClr val="000000"/>
                </a:solidFill>
                <a:latin typeface="Times New Roman"/>
              </a:rPr>
              <a:t>sosyal etki oluşturabilir. Ancak kişinin konumu önemlidir.</a:t>
            </a:r>
            <a:endParaRPr b="0" lang="en-US" sz="2800" spc="-1" strike="noStrike">
              <a:solidFill>
                <a:srgbClr val="000000"/>
              </a:solidFill>
              <a:latin typeface="Times New Roman"/>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Otorite/yasal gücü; </a:t>
            </a:r>
            <a:r>
              <a:rPr b="0" lang="en-US" sz="2800" spc="-1" strike="noStrike">
                <a:solidFill>
                  <a:srgbClr val="000000"/>
                </a:solidFill>
                <a:latin typeface="Times New Roman"/>
              </a:rPr>
              <a:t>resmi konuma bağlı olarak kullanılır. Kültürel veya sosyal yapının öngördüğü durumda bu güç içerisinde değerlendirilir. Bağımlılık olgusu, eşitlik otorite gücü, karşılıklılık otorite gücü bu kapsamda değerlendirili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Bilirkişi/uzman gücü; </a:t>
            </a:r>
            <a:r>
              <a:rPr b="0" lang="en-US" sz="3200" spc="-1" strike="noStrike">
                <a:solidFill>
                  <a:srgbClr val="000000"/>
                </a:solidFill>
                <a:latin typeface="Times New Roman"/>
              </a:rPr>
              <a:t>herhangi bir konuda uzman ya da gerekli ve yoğun bilgi birikimine sahip olan kişiler için geçerlidi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Karizma gücü; </a:t>
            </a:r>
            <a:r>
              <a:rPr b="0" lang="en-US" sz="3200" spc="-1" strike="noStrike">
                <a:solidFill>
                  <a:srgbClr val="000000"/>
                </a:solidFill>
                <a:latin typeface="Times New Roman"/>
              </a:rPr>
              <a:t>bireyler doğuştan kazandıklarına inanılan güç ile çevresinin kendisini kabul etmesini ve itaat etmesini sağlayabilir. En etkili güç türüdü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c3c70"/>
                </a:solidFill>
                <a:latin typeface="Times New Roman"/>
              </a:rPr>
              <a:t>LİDER VE LİDERLİK</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Çok sayıda tanımı ve türü olmakla birlikte, genel bir biçimde; </a:t>
            </a:r>
            <a:r>
              <a:rPr b="0" i="1" lang="en-US" sz="3200" spc="-1" strike="noStrike">
                <a:solidFill>
                  <a:srgbClr val="000000"/>
                </a:solidFill>
                <a:latin typeface="Times New Roman"/>
              </a:rPr>
              <a:t>gücü elinde bulunduran, bireylerin davranış ve inançlarında sosyal etki oluşturan kişid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derin grup üyelerini etkileyerek amaçlar doğrultusunda sahip olduğu gücü kullandığı sürece ise </a:t>
            </a:r>
            <a:r>
              <a:rPr b="0" i="1" lang="en-US" sz="3200" spc="-1" strike="noStrike">
                <a:solidFill>
                  <a:srgbClr val="f3f37b"/>
                </a:solidFill>
                <a:latin typeface="Times New Roman"/>
              </a:rPr>
              <a:t>liderlik</a:t>
            </a:r>
            <a:r>
              <a:rPr b="0" lang="en-US" sz="3200" spc="-1" strike="noStrike">
                <a:solidFill>
                  <a:srgbClr val="000000"/>
                </a:solidFill>
                <a:latin typeface="Times New Roman"/>
              </a:rPr>
              <a:t> adı ver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99ff"/>
                </a:solidFill>
                <a:latin typeface="Times New Roman"/>
              </a:rPr>
              <a:t>2-Birey-grup iletişiminin olduğu ortamlardaki sosyal etki</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syal etki kaynağı bir grubu sosyal etki hedefi olarak kabul eder ve hedefin kendisi ile hem fikir olmasını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ynak etki süreci içerisinde kaynağın yapısal özelliklerini ve kültürel değerlerini de dikkate alarak onların hem fikir olmasını, kendisi ile özdeşleşmesini ve ikna olarak birlikte hareket etmeye karar vermesini sağla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yasi parti çalışmaları, reklam ve PR çalışmaları gibi örnekler bu konuda ele alınabil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imes New Roman"/>
              </a:rPr>
              <a:t>Liderlik kuramları</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n Mükemmel İnsan Yaklaşımı;</a:t>
            </a:r>
            <a:r>
              <a:rPr b="0" lang="en-US" sz="2800" spc="-1" strike="noStrike">
                <a:solidFill>
                  <a:srgbClr val="000000"/>
                </a:solidFill>
                <a:latin typeface="Times New Roman"/>
              </a:rPr>
              <a:t> Fiziksel ve psikolojik özellikler üzerinde durur. Bireyi üç boyutta ele alır: Fiziksel, kişilik ve yetene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şilik özellikleri insan ilişkileri açısından da önemli kabul edilir. Yapılan bir araştırmada bireylerin Karizma, İlham kaynağı olma, Zihni uyarıcı rolü oynama ve Diğerlerinin kişisel ihtiyaçları ile ilgilenme faktörlerinin önemli olduğu gözlemlenmiştir. Bu yaklaşım yeterli olmamakla birlikte liderlik davranışlarına ışık tutmaktad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Liderliğe Çevresel Yaklaşımı;</a:t>
            </a:r>
            <a:r>
              <a:rPr b="0" lang="en-US" sz="3200" spc="-1" strike="noStrike">
                <a:solidFill>
                  <a:srgbClr val="000000"/>
                </a:solidFill>
                <a:latin typeface="Times New Roman"/>
              </a:rPr>
              <a:t> doğru yerde ve doğru zamanda bulunan kişilerin lider olabileceklerini ileri süren yaklaşımdır. Çevrenin ve konumun kişiyi lider yapma etkisi üzerinde durur. Bu kimi zaman deneysel ortamdaki gibi masanın başı, kimi zaman ise bir savaş durumu olabil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Davranışsal Liderlik Yaklaşımı</a:t>
            </a:r>
            <a:r>
              <a:rPr b="0" lang="tr-TR" sz="2800" spc="-1" strike="noStrike">
                <a:solidFill>
                  <a:srgbClr val="000000"/>
                </a:solidFill>
                <a:latin typeface="Times New Roman"/>
              </a:rPr>
              <a:t> ; Ohio State ve Michigan üniversitelerindeki araştırmalar sonucunda ortaya konmuştur. Grup liderinin, grup performansı, grup üyelerinin memnuniyeti arasındaki ilişki üzerinde durulmuştur. </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Durumsallık </a:t>
            </a:r>
            <a:r>
              <a:rPr b="0" lang="tr-TR" sz="2800" spc="-1" strike="noStrike">
                <a:solidFill>
                  <a:srgbClr val="000000"/>
                </a:solidFill>
                <a:latin typeface="Times New Roman"/>
              </a:rPr>
              <a:t>Yaklaşımı;liderliğin etkinliği için iki unsur üzerinde durur. Bunlar, liderin kişilik ve davranışsal özellikleri ile bulunulan ortamın özellikleri.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rumsallık yaklaşımları</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6600"/>
                </a:solidFill>
                <a:latin typeface="Times New Roman"/>
              </a:rPr>
              <a:t>Fiedler</a:t>
            </a:r>
            <a:r>
              <a:rPr b="0" lang="tr-TR" sz="2400" spc="-1" strike="noStrike">
                <a:solidFill>
                  <a:srgbClr val="000000"/>
                </a:solidFill>
                <a:latin typeface="Times New Roman"/>
              </a:rPr>
              <a:t> , davranışsal ve çevresel yaklaşımlardaki unsurları bir arada ele almıştır. Fiedler’e göre iki tip liderlik vardır;işe dayalı ve sosyal ilişkiye dayalı. Liderliğin biçimini belirleyecek olan ise lider ile grup ilişkisidir. Üyelerin desteklemesi ve bağlılıklarını ortaya koyması liderin etkinliğini arttırır. Liderin gücü ise bu bağlılığın yanı sıra yeteneklerine bağlı olarak da ortaya çıkacaktır bu bağlamda etkin olan lider, kişilik özellikleri ile durumun koşulları arasındaki ilişkiye bağlı olarak ortaya çık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9900"/>
                </a:solidFill>
                <a:latin typeface="Times New Roman"/>
              </a:rPr>
              <a:t>House ya da Yol-Amaç Kuramı’na</a:t>
            </a:r>
            <a:r>
              <a:rPr b="0" lang="tr-TR" sz="2400" spc="-1" strike="noStrike">
                <a:solidFill>
                  <a:srgbClr val="000000"/>
                </a:solidFill>
                <a:latin typeface="Times New Roman"/>
              </a:rPr>
              <a:t> göre, motivasyon ile liderlik arasında ilişki bulunmaktadır. Kişiler kendilerini geliştirmede, çalışma amaçlarının algılanmasında ve amaca ulaşmada izlenecek yolların lider tarafından nasıl algılanacağı bilinmelidir. Bunun için de, lider motivasyonu arttıracak ve performansı etkileyecek davranışları belirler. Bu kurama göre, a-lider davranışları, çalışanların o andaki ve gelecekteki memnuniyetlerinin kaynağı olduğu sürece etkindir. b-lider davranışları, etkin performans için gerekli ödül/ortam sağladığı sürece motivasyoneld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kurama göre dört temel lider davranışı bulunmaktadır:</a:t>
            </a:r>
            <a:r>
              <a:rPr b="0" lang="en-US" sz="3200" spc="-1" strike="noStrike">
                <a:solidFill>
                  <a:srgbClr val="d62406"/>
                </a:solidFill>
                <a:latin typeface="Times New Roman"/>
              </a:rPr>
              <a:t>emredici</a:t>
            </a:r>
            <a:r>
              <a:rPr b="0" lang="en-US" sz="3200" spc="-1" strike="noStrike">
                <a:solidFill>
                  <a:srgbClr val="000000"/>
                </a:solidFill>
                <a:latin typeface="Times New Roman"/>
              </a:rPr>
              <a:t> /  </a:t>
            </a:r>
            <a:r>
              <a:rPr b="0" lang="en-US" sz="3200" spc="-1" strike="noStrike">
                <a:solidFill>
                  <a:srgbClr val="00cc99"/>
                </a:solidFill>
                <a:latin typeface="Times New Roman"/>
              </a:rPr>
              <a:t>destekleyici</a:t>
            </a:r>
            <a:r>
              <a:rPr b="0" lang="en-US" sz="3200" spc="-1" strike="noStrike">
                <a:solidFill>
                  <a:srgbClr val="000000"/>
                </a:solidFill>
                <a:latin typeface="Times New Roman"/>
              </a:rPr>
              <a:t> / </a:t>
            </a:r>
            <a:r>
              <a:rPr b="0" lang="en-US" sz="3200" spc="-1" strike="noStrike">
                <a:solidFill>
                  <a:srgbClr val="ff9900"/>
                </a:solidFill>
                <a:latin typeface="Times New Roman"/>
              </a:rPr>
              <a:t>katılımcı</a:t>
            </a:r>
            <a:r>
              <a:rPr b="0" lang="en-US" sz="3200" spc="-1" strike="noStrike">
                <a:solidFill>
                  <a:srgbClr val="000000"/>
                </a:solidFill>
                <a:latin typeface="Times New Roman"/>
              </a:rPr>
              <a:t> / </a:t>
            </a:r>
            <a:r>
              <a:rPr b="0" lang="en-US" sz="3200" spc="-1" strike="noStrike">
                <a:solidFill>
                  <a:srgbClr val="00ccff"/>
                </a:solidFill>
                <a:latin typeface="Times New Roman"/>
              </a:rPr>
              <a:t>başarı merkezc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na karşın lider varlığını ya da etkinliğini belirlerken davranışlarını : çaba-performans,</a:t>
            </a:r>
            <a:r>
              <a:rPr b="0" lang="en-US" sz="3200" spc="-1" strike="noStrike">
                <a:solidFill>
                  <a:srgbClr val="000000"/>
                </a:solidFill>
                <a:latin typeface="Times New Roman"/>
              </a:rPr>
              <a:t>	</a:t>
            </a:r>
            <a:r>
              <a:rPr b="0" lang="en-US" sz="3200" spc="-1" strike="noStrike">
                <a:solidFill>
                  <a:srgbClr val="000000"/>
                </a:solidFill>
                <a:latin typeface="Times New Roman"/>
              </a:rPr>
              <a:t>performans-ödül, değerlil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urları üzerine kur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imes New Roman"/>
              </a:rPr>
              <a:t>Liderlik ve cinsiye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derlik ile cinsiyet arasındaki ilişkiyi açıklamaya çalışan çok sayıda model bulunmaktadı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Times New Roman"/>
              </a:rPr>
              <a:t>Sosyal rol modeline</a:t>
            </a:r>
            <a:r>
              <a:rPr b="0" lang="en-US" sz="2400" spc="-1" strike="noStrike">
                <a:solidFill>
                  <a:srgbClr val="000000"/>
                </a:solidFill>
                <a:latin typeface="Times New Roman"/>
              </a:rPr>
              <a:t> göre, toplumsal bağlamda belirlenen ya da algılanan kadın ve erkek rolleri liderlik davranışını belirlemektedir. Kültürel cinsiyet rollerine göre liderlik algısı farklılaşmaktadır. Bu durumun rol çatışmasına neden olabileceği ile sürülmektedir. Yapılan araştırmalarda beklenen rollerin otoriter, yönlendirici vb. tutumları nasıl benimsediği önem kazanmaktad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spcBef>
                <a:spcPts val="700"/>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Yapısal model, </a:t>
            </a:r>
            <a:r>
              <a:rPr b="0" lang="en-US" sz="2800" spc="-1" strike="noStrike">
                <a:solidFill>
                  <a:srgbClr val="000000"/>
                </a:solidFill>
                <a:latin typeface="Times New Roman"/>
              </a:rPr>
              <a:t>ise örgüte ait pozisyon ve sosyal etkilerin uygunluğu liderlik davranışlarını ya da durumunu belirler. Önemli olan kişisel davranışlar ya da özellikler değil, statü,rol ve algılan güçtür. Düşük güç pozisyonu ile yüksek güç pozisyonu, kadın ve erkeklerin genel durumu ile ilişkilendirildiğinde  gücün elde edilmesi/kullanılması daha kolay anlaşıl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utum ve Tutumun Niteliğ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Elde edilen deneyimler sonucunda; organize edilmiş, durumlara ya  da nesnelere karşı doğrudan ya da dolaylı olarak etki edebilen zihinsel hazırlanma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ana özelliği vardı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epki vermeye hazır olmayı içer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Güdüleme gücü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urağan olma özelliğine sahiptir</a:t>
            </a:r>
            <a:endParaRPr b="0" lang="en-US" sz="2700" spc="-1" strike="noStrike">
              <a:solidFill>
                <a:srgbClr val="000000"/>
              </a:solidFill>
              <a:latin typeface="Times New Roman"/>
            </a:endParaRPr>
          </a:p>
          <a:p>
            <a:pPr marL="332640" indent="-3326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Değerlendirme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utumun üç boyutundan söz etmek mümkündür</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ff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Trebuchet MS"/>
              </a:rPr>
              <a:t>Bilişsel boyut</a:t>
            </a:r>
            <a:r>
              <a:rPr b="0" lang="en-US" sz="2700" spc="-1" strike="noStrike">
                <a:solidFill>
                  <a:srgbClr val="000000"/>
                </a:solidFill>
                <a:latin typeface="Trebuchet MS"/>
              </a:rPr>
              <a:t>, belli bir nesne hakkında sahip olunan fikir ve inançları içerir.</a:t>
            </a:r>
            <a:endParaRPr b="0" lang="en-US" sz="2700" spc="-1" strike="noStrike">
              <a:solidFill>
                <a:srgbClr val="000000"/>
              </a:solidFill>
              <a:latin typeface="Times New Roman"/>
            </a:endParaRPr>
          </a:p>
          <a:p>
            <a:pPr marL="343080" indent="-343080">
              <a:lnSpc>
                <a:spcPct val="100000"/>
              </a:lnSpc>
              <a:spcBef>
                <a:spcPts val="675"/>
              </a:spcBef>
              <a:buClr>
                <a:srgbClr val="ff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Trebuchet MS"/>
              </a:rPr>
              <a:t>Duygusal boyut</a:t>
            </a:r>
            <a:r>
              <a:rPr b="0" lang="en-US" sz="2700" spc="-1" strike="noStrike">
                <a:solidFill>
                  <a:srgbClr val="000000"/>
                </a:solidFill>
                <a:latin typeface="Trebuchet MS"/>
              </a:rPr>
              <a:t>, nesneye karşı hissedilenleri içerir.</a:t>
            </a:r>
            <a:endParaRPr b="0" lang="en-US" sz="2700" spc="-1" strike="noStrike">
              <a:solidFill>
                <a:srgbClr val="000000"/>
              </a:solidFill>
              <a:latin typeface="Times New Roman"/>
            </a:endParaRPr>
          </a:p>
          <a:p>
            <a:pPr marL="343080" indent="-343080">
              <a:lnSpc>
                <a:spcPct val="100000"/>
              </a:lnSpc>
              <a:spcBef>
                <a:spcPts val="675"/>
              </a:spcBef>
              <a:buClr>
                <a:srgbClr val="ff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Trebuchet MS"/>
              </a:rPr>
              <a:t>Davranışsal boyut</a:t>
            </a:r>
            <a:r>
              <a:rPr b="0" lang="en-US" sz="2700" spc="-1" strike="noStrike">
                <a:solidFill>
                  <a:srgbClr val="000000"/>
                </a:solidFill>
                <a:latin typeface="Trebuchet MS"/>
              </a:rPr>
              <a:t> ise, davranış eğilimlerini içer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Times New Roman"/>
              </a:rPr>
              <a:t>3-Basın ve yayın aracılığı ile oluşan sosyal etki</a:t>
            </a:r>
            <a:br>
              <a:rPr sz="2800"/>
            </a:b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r çok basın ve yayın aracının insanları etkilediği ve yönlendirdiği bilinmektedir.duygu, düşünce ve davranış biçimlerini belirleme yönünde etkili olan bu araçların etkinliği aynı zamanda hedefin paylaştığı çevre ile de ilişkilidir.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bir aracın etki değeri farklılık  gösterir.Burada kaynağın niteliği ve kimler tarafından kullanıldığı kadar, hedefin niteliği de ön plana çıkmaktadır.</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anlamda bireylerin, grupların ya da kitlelerin </a:t>
            </a:r>
            <a:r>
              <a:rPr b="0" lang="en-US" sz="2000" spc="-1" strike="noStrike">
                <a:solidFill>
                  <a:srgbClr val="3333cc"/>
                </a:solidFill>
                <a:latin typeface="Times New Roman"/>
              </a:rPr>
              <a:t>seçici maruz kalma</a:t>
            </a:r>
            <a:r>
              <a:rPr b="0" lang="en-US" sz="2000" spc="-1" strike="noStrike">
                <a:solidFill>
                  <a:srgbClr val="000000"/>
                </a:solidFill>
                <a:latin typeface="Times New Roman"/>
              </a:rPr>
              <a:t> ya da </a:t>
            </a:r>
            <a:r>
              <a:rPr b="0" lang="en-US" sz="2000" spc="-1" strike="noStrike">
                <a:solidFill>
                  <a:srgbClr val="3333cc"/>
                </a:solidFill>
                <a:latin typeface="Times New Roman"/>
              </a:rPr>
              <a:t>seçici kaçınma</a:t>
            </a:r>
            <a:r>
              <a:rPr b="0" lang="en-US" sz="2000" spc="-1" strike="noStrike">
                <a:solidFill>
                  <a:srgbClr val="000000"/>
                </a:solidFill>
                <a:latin typeface="Times New Roman"/>
              </a:rPr>
              <a:t> davranışları hedefin tavrını açıklayan durumlardır.</a:t>
            </a:r>
            <a:endParaRPr b="0" lang="en-US" sz="20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 üç tür sosyal etki ortamı ayrı ayrı olduğu gibi etkin olabilmesi amacıyla birlikte de kullanılabi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e işe yarar?</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5191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ın dört farklı işlevinden söz etmek mümkündür;</a:t>
            </a:r>
            <a:endParaRPr b="0" lang="en-US" sz="2700" spc="-1" strike="noStrike">
              <a:solidFill>
                <a:srgbClr val="000000"/>
              </a:solidFill>
              <a:latin typeface="Times New Roman"/>
            </a:endParaRPr>
          </a:p>
          <a:p>
            <a:pPr marL="519120" indent="-519120">
              <a:lnSpc>
                <a:spcPct val="90000"/>
              </a:lnSpc>
              <a:spcBef>
                <a:spcPts val="675"/>
              </a:spcBef>
              <a:buClr>
                <a:srgbClr val="ff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Trebuchet MS"/>
              </a:rPr>
              <a:t>Anlama ve bilgi işlevi</a:t>
            </a:r>
            <a:r>
              <a:rPr b="0" lang="en-US" sz="2700" spc="-1" strike="noStrike">
                <a:solidFill>
                  <a:srgbClr val="000000"/>
                </a:solidFill>
                <a:latin typeface="Trebuchet MS"/>
              </a:rPr>
              <a:t>, bireylerin dünyayı ve çevrelerini anlamlandırma çabası ile ilişkilidir. Tutarlılık ve netlik sağlar. davranışlar ve konumlar tutum ile açıklanır.</a:t>
            </a:r>
            <a:endParaRPr b="0" lang="en-US" sz="2700" spc="-1" strike="noStrike">
              <a:solidFill>
                <a:srgbClr val="000000"/>
              </a:solidFill>
              <a:latin typeface="Times New Roman"/>
            </a:endParaRPr>
          </a:p>
          <a:p>
            <a:pPr marL="519120" indent="-519120">
              <a:lnSpc>
                <a:spcPct val="90000"/>
              </a:lnSpc>
              <a:spcBef>
                <a:spcPts val="675"/>
              </a:spcBef>
              <a:buClr>
                <a:srgbClr val="ff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Trebuchet MS"/>
              </a:rPr>
              <a:t>İhtiyaçların karşılanmasında</a:t>
            </a:r>
            <a:r>
              <a:rPr b="0" lang="en-US" sz="2700" spc="-1" strike="noStrike">
                <a:solidFill>
                  <a:srgbClr val="000000"/>
                </a:solidFill>
                <a:latin typeface="Trebuchet MS"/>
              </a:rPr>
              <a:t> tutumların varlığı önemli katkı sağlar. Ödül-ceza sürecinin varlığı da bu boyut ile ilgilidir. Sosyal onay ve uyumlaşma bu ihtiyaçların karşılanması sonucunda belirginleş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Trebuchet MS"/>
              </a:rPr>
              <a:t>3- Egoyu savunma, </a:t>
            </a:r>
            <a:r>
              <a:rPr b="0" lang="en-US" sz="2700" spc="-1" strike="noStrike">
                <a:solidFill>
                  <a:srgbClr val="000000"/>
                </a:solidFill>
                <a:latin typeface="Trebuchet MS"/>
              </a:rPr>
              <a:t>yardımıyla  yaşam içerisindeki iniş ve çıkışların  karşılanması ya da zorluklar karşısında bireylerin kendine güvenmesini kapsan. Savunma mekanizmasının kullanılmaları ile olası olumsuzluklar geçiştirilebilir.</a:t>
            </a:r>
            <a:endParaRPr b="0" lang="en-US" sz="27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66ff"/>
                </a:solidFill>
                <a:latin typeface="Trebuchet MS"/>
              </a:rPr>
              <a:t>4-İçsel değerlerin ifadesi</a:t>
            </a:r>
            <a:r>
              <a:rPr b="0" lang="en-US" sz="2700" spc="-1" strike="noStrike">
                <a:solidFill>
                  <a:srgbClr val="000000"/>
                </a:solidFill>
                <a:latin typeface="Trebuchet MS"/>
              </a:rPr>
              <a:t>,tutumlar yoluyla olur. Bireyler tutumlarını karşısındakilere belirterek kimliğini ifade etmiş olacakt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nasıl oluşur ve korunur?</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52600" indent="-5526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lar, fikirler öğrenme yolu ile oluşurlar. Tutumların oluşmasında ;</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Kişisel deneyim,</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ilenin etkisi</a:t>
            </a:r>
            <a:endParaRPr b="0" lang="en-US" sz="2700" spc="-1" strike="noStrike">
              <a:solidFill>
                <a:srgbClr val="000000"/>
              </a:solidFill>
              <a:latin typeface="Times New Roman"/>
            </a:endParaRPr>
          </a:p>
          <a:p>
            <a:pPr marL="552600" indent="-552600">
              <a:lnSpc>
                <a:spcPct val="100000"/>
              </a:lnSpc>
              <a:spcBef>
                <a:spcPts val="67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Arkadaş, akraba, referans grupları etkilidir. Bunun yanı sıra tutumun oluşmasını açıklayan üç tip koşullanmadan söz etmek mümkündür. Bunlar ; klasik koşullanma, edimsel koşullanma ve örnek alma dı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umlar ve Davranışlar</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Tutum ve tutum değişimi ile davranışlar arasındaki ilişki anlaşılmaya çalışılır. Bu bağlamda LaPiere tarafından yapılan Çinli aile araştırması ile tutum-davranış arasında ilişki bulunmadığını ileri sürerken, bu konuda getirilen eleştiriler aksini savunmaktadır.</a:t>
            </a:r>
            <a:endParaRPr b="0" lang="en-US" sz="2700" spc="-1" strike="noStrike">
              <a:solidFill>
                <a:srgbClr val="000000"/>
              </a:solidFill>
              <a:latin typeface="Times New Roman"/>
            </a:endParaRPr>
          </a:p>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rebuchet MS"/>
              </a:rPr>
              <a:t>Spesifik bir tutum ölçülüyor ise belirli bir davranış gözlemlenebilir ki, buna denklik hipotezi adı verilir. Diş kontrol tutumları ile kontrole gitme arasındaki ilişkide olduğu gibi.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İnsan, </a:t>
            </a:r>
            <a:r>
              <a:rPr b="0" lang="en-US" sz="2700" spc="-1" strike="noStrike">
                <a:solidFill>
                  <a:srgbClr val="ff66ff"/>
                </a:solidFill>
                <a:latin typeface="Trebuchet MS"/>
              </a:rPr>
              <a:t>muhakeme edilmiş davranış kuramına</a:t>
            </a:r>
            <a:r>
              <a:rPr b="0" lang="en-US" sz="2700" spc="-1" strike="noStrike">
                <a:solidFill>
                  <a:srgbClr val="000000"/>
                </a:solidFill>
                <a:latin typeface="Trebuchet MS"/>
              </a:rPr>
              <a:t> göre akılcı ve mantıklıdır. Ellerindeki bilgiyi sistematik bir biçimde inceler. Davranış niyetin sonucunda ortaya çıkar. Niyeti ise; nesneye karşı tutum ve sosyal kurallar etkiler.</a:t>
            </a:r>
            <a:endParaRPr b="0" lang="en-US" sz="2700" spc="-1" strike="noStrike">
              <a:solidFill>
                <a:srgbClr val="000000"/>
              </a:solidFill>
              <a:latin typeface="Times New Roman"/>
            </a:endParaRPr>
          </a:p>
          <a:p>
            <a:pPr marL="322200" indent="-322200">
              <a:lnSpc>
                <a:spcPct val="100000"/>
              </a:lnSpc>
              <a:spcBef>
                <a:spcPts val="5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a:t>
            </a: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222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r>
              <a:rPr b="0" lang="en-US" sz="2300" spc="-1" strike="noStrike">
                <a:solidFill>
                  <a:srgbClr val="000000"/>
                </a:solidFill>
                <a:latin typeface="Trebuchet MS"/>
              </a:rPr>
              <a:t>Sosyal kurallar</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r>
              <a:rPr b="0" lang="en-US" sz="2300" spc="-1" strike="noStrike">
                <a:solidFill>
                  <a:srgbClr val="000000"/>
                </a:solidFill>
                <a:latin typeface="Trebuchet MS"/>
              </a:rPr>
              <a:t>	</a:t>
            </a:r>
            <a:r>
              <a:rPr b="0" lang="en-US" sz="2300" spc="-1" strike="noStrike">
                <a:solidFill>
                  <a:srgbClr val="000000"/>
                </a:solidFill>
                <a:latin typeface="Trebuchet MS"/>
              </a:rPr>
              <a:t>	</a:t>
            </a:r>
            <a:endParaRPr b="0" lang="en-US" sz="2300" spc="-1" strike="noStrike">
              <a:solidFill>
                <a:srgbClr val="000000"/>
              </a:solidFill>
              <a:latin typeface="Times New Roman"/>
            </a:endParaRPr>
          </a:p>
        </p:txBody>
      </p:sp>
      <p:sp>
        <p:nvSpPr>
          <p:cNvPr id="182" name=""/>
          <p:cNvSpPr/>
          <p:nvPr/>
        </p:nvSpPr>
        <p:spPr>
          <a:xfrm>
            <a:off x="3780000" y="5013360"/>
            <a:ext cx="12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59280" y="4076640"/>
            <a:ext cx="289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40360" y="5084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lanlanmış davranış kuramına göre ise, birey davranışın zorluğundan etkilenir. Davranış hakkındaki tutum, sosyal kurallar ve algılanan davranışsal kontrolü bir araya getirerek ilişkiyi açıklar.</a:t>
            </a:r>
            <a:endParaRPr b="0" lang="en-US" sz="27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Davranış hakkındaki tutum, </a:t>
            </a:r>
            <a:endParaRPr b="0" lang="en-US" sz="2300" spc="-1" strike="noStrike">
              <a:solidFill>
                <a:srgbClr val="000000"/>
              </a:solidFill>
              <a:latin typeface="Times New Roman"/>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sosyal kurallar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Niyet</a:t>
            </a:r>
            <a:r>
              <a:rPr b="0" lang="en-US" sz="2300" spc="-1" strike="noStrike">
                <a:solidFill>
                  <a:srgbClr val="000000"/>
                </a:solidFill>
                <a:latin typeface="Trebuchet MS"/>
              </a:rPr>
              <a:t>	</a:t>
            </a:r>
            <a:r>
              <a:rPr b="0" lang="en-US" sz="2300" spc="-1" strike="noStrike">
                <a:solidFill>
                  <a:srgbClr val="000000"/>
                </a:solidFill>
                <a:latin typeface="Trebuchet MS"/>
              </a:rPr>
              <a:t>	</a:t>
            </a:r>
            <a:r>
              <a:rPr b="0" lang="en-US" sz="2300" spc="-1" strike="noStrike">
                <a:solidFill>
                  <a:srgbClr val="000000"/>
                </a:solidFill>
                <a:latin typeface="Trebuchet MS"/>
              </a:rPr>
              <a:t>Davranış</a:t>
            </a:r>
            <a:endParaRPr b="0" lang="en-US" sz="2300" spc="-1" strike="noStrike">
              <a:solidFill>
                <a:srgbClr val="000000"/>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algılanan davranışsal kontrolü</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186" name=""/>
          <p:cNvSpPr/>
          <p:nvPr/>
        </p:nvSpPr>
        <p:spPr>
          <a:xfrm>
            <a:off x="4643280" y="3573360"/>
            <a:ext cx="433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76720" y="3860640"/>
            <a:ext cx="165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 name=""/>
          <p:cNvSpPr/>
          <p:nvPr/>
        </p:nvSpPr>
        <p:spPr>
          <a:xfrm flipV="1">
            <a:off x="4859280" y="4005000"/>
            <a:ext cx="2890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796000" y="4005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4036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Tutum ile davranış arasındaki ilişkiyi açıklamak için tutumun kuvvetliliği ve tutumun erişebilirliği de önemlidir. Tutumun kuvvetliliği bir tutuma bağlılık derecesi ile ilişkilidir. Bunu belirleyen 4 unsur vardır. Bunlar, </a:t>
            </a:r>
            <a:r>
              <a:rPr b="0" lang="en-US" sz="2700" spc="-1" strike="noStrike">
                <a:solidFill>
                  <a:srgbClr val="ff9900"/>
                </a:solidFill>
                <a:latin typeface="Trebuchet MS"/>
              </a:rPr>
              <a:t>bilgi, ilgi, kendini tanıma ve deneyimdir</a:t>
            </a:r>
            <a:r>
              <a:rPr b="0" lang="en-US" sz="2700" spc="-1" strike="noStrike">
                <a:solidFill>
                  <a:srgbClr val="000000"/>
                </a:solidFill>
                <a:latin typeface="Trebuchet MS"/>
              </a:rPr>
              <a:t>. Erişilebilirlik ise, bilinç düzeyi ve hatırlama ile ilgilidi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SOSYAL KURALL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klı ortamlarda duruma uygun davranışı belirten ve farklı sosyal rollerdeki bireyin nasıl davranacağını belirleyen kurallardı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bağlamda sosyal kuralların mesajı şu şekildedir “ Bu sosyal kuralı izleyin, aksi takdirde bireysel ya da grup olarak zarar göreceksiniz veya cezalandırılacaksını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ff"/>
                </a:solidFill>
                <a:latin typeface="Times New Roman"/>
              </a:rPr>
              <a:t>Sosyal Etki ve Davranışlarımız</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ellikle kesin kararı olmayan ve ilk kez karşılaştığımız durumlarda çevremizdeki kişilerin hal ve hareketleri bizlerin davranışlarını etkiler. Cialdini ve arkadaşlarının</a:t>
            </a:r>
            <a:r>
              <a:rPr b="0" lang="tr-TR" sz="3200" spc="-1" strike="noStrike">
                <a:solidFill>
                  <a:srgbClr val="000000"/>
                </a:solidFill>
                <a:latin typeface="Times New Roman"/>
              </a:rPr>
              <a:t> </a:t>
            </a:r>
            <a:r>
              <a:rPr b="0" lang="tr-TR" sz="2800" spc="-1" strike="noStrike">
                <a:solidFill>
                  <a:srgbClr val="000000"/>
                </a:solidFill>
                <a:latin typeface="Times New Roman"/>
              </a:rPr>
              <a:t>temizlik deneyindeki gib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osyal kurallar nerede ve nasıl davranacağı konusunda çok güçlü bir etkiye sahip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Zimbardo hapishane deneyi gi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2:40:41Z</dcterms:created>
  <dc:creator>arıcıoğlu</dc:creator>
  <dc:description/>
  <dc:language>en-US</dc:language>
  <cp:lastModifiedBy>Atilla Arıcıoğlu</cp:lastModifiedBy>
  <dcterms:modified xsi:type="dcterms:W3CDTF">2004-03-26T09:58:12Z</dcterms:modified>
  <cp:revision>70</cp:revision>
  <dc:subject/>
  <dc:title>DAVRANIŞ BİLİMLERİ </dc:title>
</cp:coreProperties>
</file>