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3C0-E2BB-42BC-8D6E-C7C7969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7E9-C0BF-4348-8C0E-3A557974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73C-AC97-4390-ACE3-B09651BC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261-7375-46FC-BCE2-5A0BC565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9E6-F91F-48FD-B298-9551F97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18F-7740-4FFE-9FBC-A3D4965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2EA-5568-4996-9E4B-87322076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020-71BE-4388-89D8-1EAB8C6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0DA-BEFC-4C58-B1E4-77FAE33B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1CE-F25C-49F3-9B85-BA0B509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D13-B57D-466B-A150-3E2E1E4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718-9799-4A36-A21C-273C509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483-08AA-4A19-A831-6C4CEFEB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" y="1539720"/>
          <a:ext cx="8659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539720"/>
                    <a:ext cx="8659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8320" y="128520"/>
            <a:ext cx="25869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cho Family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 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00200" y="1440000"/>
          <a:ext cx="611820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0000"/>
                    <a:ext cx="61182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71520" y="1523880"/>
          <a:ext cx="66866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523880"/>
                    <a:ext cx="66866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280" y="882720"/>
          <a:ext cx="87631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82720"/>
                    <a:ext cx="87631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8520" y="1654200"/>
          <a:ext cx="885348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54200"/>
                    <a:ext cx="88534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792520" y="1633680"/>
          <a:ext cx="3676680" cy="33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1633680"/>
                    <a:ext cx="3676680" cy="33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obert Sancho</dc:creator>
  <dc:description/>
  <dc:language>en-US</dc:language>
  <cp:lastModifiedBy>Sancho</cp:lastModifiedBy>
  <cp:lastPrinted>1998-01-26T01:14:22Z</cp:lastPrinted>
  <dcterms:modified xsi:type="dcterms:W3CDTF">1999-09-01T03:51:33Z</dcterms:modified>
  <cp:revision>42</cp:revision>
  <dc:subject>History of the Sancho Family</dc:subject>
  <dc:title>Sancho Family 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geocities.com/Heartland/Estates/4765/</vt:lpwstr>
  </property>
  <property fmtid="{D5CDD505-2E9C-101B-9397-08002B2CF9AE}" pid="9" name="LinkColor">
    <vt:r8>16711782</vt:r8>
  </property>
  <property fmtid="{D5CDD505-2E9C-101B-9397-08002B2CF9AE}" pid="10" name="MailAddress">
    <vt:lpwstr>r_sancho@geocities.com</vt:lpwstr>
  </property>
  <property fmtid="{D5CDD505-2E9C-101B-9397-08002B2CF9AE}" pid="11" name="NavBtnPos">
    <vt:r8>1</vt:r8>
  </property>
  <property fmtid="{D5CDD505-2E9C-101B-9397-08002B2CF9AE}" pid="12" name="Other">
    <vt:lpwstr>Sancho Family Tree</vt:lpwstr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