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E247-41D7-4A0A-95FA-E64E509C3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DC7A-05FF-402F-BEC8-6DD2567D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ABE1-8798-454D-B741-63E468F02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08B1-59AF-4CBC-8F8D-1005B80AF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806D-1A05-41DE-8CBF-FE274506D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86B4-4067-4079-AF94-4A66B611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005E-8760-42C4-8BAC-7D0F86B5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B724-EA5F-4870-AFC8-1723D121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8059-52BC-45BE-B66B-E2335E0B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BA0B-7606-4255-9312-A2E330E6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42FE0-438D-499F-9489-972A67C4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D688-5F55-43ED-8F9C-1ABAA217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E6FD-835F-4B67-957F-E2EC9913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3325-C8A2-4499-9F70-0F76DE37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EA3A-D7BC-44CD-89CB-F737C7CB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233E-2E4C-480C-9A5B-0D65763B2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48A9-7458-4E09-B8C9-DCEBAD5E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5606-8C89-45B5-A0E6-81E50E59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CA0D-6FF9-488B-A045-2C23BDEE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ADF7-134A-40B1-8E7A-1D3DCBD9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A4A1-8BB4-4D8A-A8BE-9C67C253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A009-6FE7-47D1-9509-1957CD2D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A5E3-4DFA-4824-ADC3-147E2810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640E-DB55-4FC9-AC12-AED41A78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C813-080E-4957-A7FA-C0076622706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28CE-323E-48E2-91E2-F672A8F6C18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238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n Introduc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47920" y="25146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 solution for a new problem, or is it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er technology, but is it suitable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Hardware Requirement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asic architectures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C/L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lient/Serv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inframe/Ho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hould be able to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ccess a print fi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dex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rite a file to server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ress and retrieve data…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rganizational Requirement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source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elopment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ndor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Right System…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perational Issu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Issu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Foc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3" name="bd04956_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457524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 Approac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ject manag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igh value, high visibility applic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cumentation of system goa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ser retrieval needs and viewing expect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orage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hort and Long term goals and cos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utside consulta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ase Studi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YLCa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ershey’s Entertainment and Reso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rsh and McLennan  Compan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gence BlueCross BlueShield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niversity of California, Santa Cru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stern Wireles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ulihan’s Restaura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Future of COL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4496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LD looks promising…but what of its storage media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VD’s…too costly…as of now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me other storage technologies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0" name="bd05296_" descr=""/>
          <p:cNvPicPr/>
          <p:nvPr/>
        </p:nvPicPr>
        <p:blipFill>
          <a:blip r:embed="rId1"/>
          <a:stretch/>
        </p:blipFill>
        <p:spPr>
          <a:xfrm>
            <a:off x="5410080" y="1828800"/>
            <a:ext cx="352296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nalysis and 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…a long and tedious process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olution on document re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nly problem as of now…storage medi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“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You reap what you sow…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at is COLD?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C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mputer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O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tput to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er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sc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-&gt; optical dis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320040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35812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at is COLD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onen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orage – storing data and index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iewing – user retriev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History of COL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, 1970’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2895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LD, 1980’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4191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LD “revived”, 1995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pplications of COL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keeping of important docu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oan servic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redit track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vent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ports and Record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illing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placement for CO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dvantages of COL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4114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hard copy, less cos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dexed dat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reased data retrieval, improved customer servi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need for security guards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257800" y="1752480"/>
          <a:ext cx="375300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752480"/>
                    <a:ext cx="37530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dvantages of COLD…CD’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650 MB of dat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widely-established standar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ading is quite fast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isadvantages of COL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543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xt file or Image file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3" name="bs00580_" descr=""/>
          <p:cNvPicPr/>
          <p:nvPr/>
        </p:nvPicPr>
        <p:blipFill>
          <a:blip r:embed="rId1"/>
          <a:stretch/>
        </p:blipFill>
        <p:spPr>
          <a:xfrm>
            <a:off x="2819520" y="3581280"/>
            <a:ext cx="411768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isadvantages of COLD..CD’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650 MB not enough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VD’s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6" name="bd06663_" descr=""/>
          <p:cNvPicPr/>
          <p:nvPr/>
        </p:nvPicPr>
        <p:blipFill>
          <a:blip r:embed="rId1"/>
          <a:stretch/>
        </p:blipFill>
        <p:spPr>
          <a:xfrm>
            <a:off x="5105520" y="2362320"/>
            <a:ext cx="335268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4T09:51:09Z</dcterms:created>
  <dc:creator>Jave</dc:creator>
  <dc:description/>
  <dc:language>en-US</dc:language>
  <cp:lastModifiedBy>Jave</cp:lastModifiedBy>
  <dcterms:modified xsi:type="dcterms:W3CDTF">2001-03-14T12:02:43Z</dcterms:modified>
  <cp:revision>19</cp:revision>
  <dc:subject/>
  <dc:title>An Introduction</dc:title>
</cp:coreProperties>
</file>