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4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2617-B4B8-4DA7-854E-BC7E6C7F4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8425-48C2-46B2-B2B9-209B5939C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0081F-2EF0-400F-968C-9191DBC31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0081-B5E3-4CED-8C4C-6D40DFF41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30DD2-16F8-494A-921D-25D8BFD2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C7110-4337-4232-B1A2-BE49C54A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2B453-CC9C-4015-B66D-532E33DF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647B3-F6E7-444C-BE7C-86EBF1B3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21048-673B-4EA6-A8BC-44532DC3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AE926-9219-423D-A3F4-0EF45802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10553-BB4D-4554-8100-38AE1EF5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F07A-5003-46F8-8371-98012FE73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BC696-7B85-4C78-8B50-EE8957AE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0E069-561F-4359-8B17-8640E3BB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FBB36-1F9F-442F-B392-1EFD560F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5E23F-D1C4-42A9-94C8-201C3E25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065E7-E8A2-47A9-B7CB-CB91ED27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84A1-5A89-4609-B6CE-81763B068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2B25-D13F-4D8E-A908-31F2D0F73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3EC0-8F60-4AB6-88BF-7A920C3D3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ED26-723C-4EC7-AB4D-C02BF1992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9863-487C-4508-AA7C-293563EBB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01D3-356E-4574-88F3-9686989EF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DB60-BAD1-4893-8E09-6C9DCD8F4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6320" y="6248160"/>
            <a:ext cx="761760" cy="53316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9ff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0017-DB70-43C2-81A7-3F86B1497153}" type="slidenum">
              <a:rPr b="0" lang="en-US" sz="1600" spc="-1" strike="noStrike">
                <a:solidFill>
                  <a:srgbClr val="99ff33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98B6-AD2E-445B-BF38-12F145818605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1720" y="115920"/>
            <a:ext cx="6669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METODOLOGIA DE      GESTÃO DE PROJETOS</a:t>
            </a:r>
            <a:endParaRPr b="0" lang="en-US" sz="40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6400800" cy="32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64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Tahoma"/>
              </a:rPr>
              <a:t>Uma metodologia de 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Tahoma"/>
              </a:rPr>
              <a:t>Gerência de Projetos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5DB9-DE5B-49B2-8F10-267B93E72C1A}" type="slidenum">
              <a:t>1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Mas é preciso provar a torta...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Process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724280"/>
            <a:ext cx="1828800" cy="9144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ahoma"/>
              </a:rPr>
              <a:t>Entrada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4724280"/>
            <a:ext cx="2133360" cy="9144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ahoma"/>
              </a:rPr>
              <a:t>Processamento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2514600"/>
            <a:ext cx="1828800" cy="914400"/>
          </a:xfrm>
          <a:prstGeom prst="rect">
            <a:avLst/>
          </a:prstGeom>
          <a:solidFill>
            <a:srgbClr val="ffcc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ntrol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4724280"/>
            <a:ext cx="1828800" cy="9144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ahoma"/>
              </a:rPr>
              <a:t>Saída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5181480"/>
            <a:ext cx="761760" cy="15264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78c0b2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5181480"/>
            <a:ext cx="761760" cy="15264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78c0b2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1066320" y="2438280"/>
            <a:ext cx="2057400" cy="1905120"/>
          </a:xfrm>
          <a:custGeom>
            <a:avLst/>
            <a:gdLst>
              <a:gd name="textAreaLeft" fmla="*/ 590400 w 2057400"/>
              <a:gd name="textAreaRight" fmla="*/ 1762200 w 2057400"/>
              <a:gd name="textAreaTop" fmla="*/ 1097280 h 1905120"/>
              <a:gd name="textAreaBottom" fmla="*/ 1631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rot="10800000">
            <a:off x="6247440" y="2438280"/>
            <a:ext cx="2057400" cy="1905120"/>
          </a:xfrm>
          <a:custGeom>
            <a:avLst/>
            <a:gdLst>
              <a:gd name="textAreaLeft" fmla="*/ 590400 w 2057400"/>
              <a:gd name="textAreaRight" fmla="*/ 1762200 w 2057400"/>
              <a:gd name="textAreaTop" fmla="*/ 1097280 h 1905120"/>
              <a:gd name="textAreaBottom" fmla="*/ 1631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3581280"/>
            <a:ext cx="761760" cy="914400"/>
          </a:xfrm>
          <a:prstGeom prst="upDownArrow">
            <a:avLst>
              <a:gd name="adj1" fmla="val 50000"/>
              <a:gd name="adj2" fmla="val 23896"/>
            </a:avLst>
          </a:prstGeom>
          <a:solidFill>
            <a:srgbClr val="ffcc00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00BC-3836-4DE6-B0C8-98674AC320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Processos da Gerência de Projetos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38080" y="1677960"/>
          <a:ext cx="8077320" cy="454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77960"/>
                    <a:ext cx="807732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1C2F-09EA-4FB9-B082-C283ADB4CA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Processos da Gerência de Projetos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676520" y="1547640"/>
          <a:ext cx="6705360" cy="517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547640"/>
                    <a:ext cx="670536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48DE6-106E-4725-A25B-83BBF168EE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379a"/>
                </a:solidFill>
                <a:latin typeface="Tahoma"/>
              </a:rPr>
              <a:t>Áreas de Conhecimento</a:t>
            </a:r>
            <a:r>
              <a:rPr b="1" lang="en-US" sz="4400" spc="-1" strike="noStrike">
                <a:solidFill>
                  <a:srgbClr val="37379a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7379a"/>
                </a:solidFill>
                <a:latin typeface="Tahoma"/>
              </a:rPr>
              <a:t>do PMBOK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PMBOK é organizado em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áreas de conheci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, onde cada uma destas áreas é descrita através d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cesso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da área de conhecimento se refere a um aspecto a ser considerado dentro da gerência de projeto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ão execução de processos de uma área afeta negativamente o projeto, pois o projeto é um esforço integrad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234D-8485-40CC-9ECF-9A8AB80BF9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379a"/>
                </a:solidFill>
                <a:latin typeface="Tahoma"/>
              </a:rPr>
              <a:t>Áreas de Conhecimento</a:t>
            </a:r>
            <a:r>
              <a:rPr b="1" lang="en-US" sz="4400" spc="-1" strike="noStrike">
                <a:solidFill>
                  <a:srgbClr val="37379a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7379a"/>
                </a:solidFill>
                <a:latin typeface="Tahoma"/>
              </a:rPr>
              <a:t>do PMBOK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1514520"/>
          <a:ext cx="8534160" cy="509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14520"/>
                    <a:ext cx="8534160" cy="50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B905-7964-435C-B05D-6661DB41CA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Uma Metodologia de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Gerência de Projetos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6629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Os processos de gerência de projetos englobam diversas áreas de atuação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Integração 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– são os processos que garantem que todos os elementos do projeto são conhecidos e estão coordenados; é o planejamento das atividades e responsabilidades, especialmente as mudanças ao longo do proje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858000" y="2590920"/>
            <a:ext cx="1955880" cy="189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0121-2B63-49BB-823F-85CDE5BB95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Uma Metodologia de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Gerência de Projetos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Escopo 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– garante que o projeto inclui tudo o que foi especificado e exclui o que foi explicitamente evit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empo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 – garante que o projeto será concluído a temp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usto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 – garante que o projeto será concluído dentro do orçamento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934320" y="1600200"/>
            <a:ext cx="1981080" cy="2021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934320" y="4114800"/>
            <a:ext cx="1914480" cy="16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7A7B-21D6-4F34-9811-96CC0F1FAE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Uma Metodologia de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Gerência de Projetos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Qualidade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 – garante que o resultado do projeto atenderá às necessidades para as quais foi design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Recursos Humanos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 – procura obter e usar as pessoas adequadas para realizar as taref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municação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 – garante a geração, coleta, registro, transmissão e disseminação de informações        sobre o proje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6705720" y="4952880"/>
            <a:ext cx="2214360" cy="147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30AE-17DD-43A3-93D0-DB8026E1BF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Uma Metodologia de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Gerência de Projetos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nálise de Risco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 – procura identificar, analisar e tratar situações de risco para o empreendimento, tanto para maximizar oportunidades de ganho como para minimizar possíveis     perdas ou desastre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quisições e Terceirização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 – realiza a obtenção de bens e serviços fora da organizaçã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467480" y="2895480"/>
            <a:ext cx="139536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5DC6-9C6E-4AF1-9D6A-411371CDB5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ahoma"/>
              </a:rPr>
              <a:t>Estas interações requerem comunicação e negociação quanto aos objetivos do projeto e da empresa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ahoma"/>
              </a:rPr>
              <a:t>Cuidado! um melhor desempenho numa área </a:t>
            </a:r>
            <a:r>
              <a:rPr b="1" lang="en-US" sz="3600" spc="-1" strike="noStrike">
                <a:solidFill>
                  <a:srgbClr val="d60093"/>
                </a:solidFill>
                <a:latin typeface="Tahoma"/>
              </a:rPr>
              <a:t>pode</a:t>
            </a:r>
            <a:r>
              <a:rPr b="0" lang="en-US" sz="3600" spc="-1" strike="noStrike">
                <a:solidFill>
                  <a:srgbClr val="d60093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264c"/>
                </a:solidFill>
                <a:latin typeface="Tahoma"/>
              </a:rPr>
              <a:t>ser conseguido apenas com sacrifício de outra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Uma Metodologia de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Gerência de Projetos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D2E7-2556-4AED-93E0-E5627EE1F0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Uma Metodologia de      Gerência de Projetos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Projetos são ún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São desenvolvidos visando criar um produto final com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Bens de consum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Equipamento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Instalaçõ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Informaçõ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Serviço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800600" y="3733920"/>
            <a:ext cx="2676600" cy="19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C412-57A0-4B4F-89E4-52C6B51C58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Uma Metodologia de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Gerência de Projetos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31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Para administrar estes potenciais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nflitos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 a gerência deve ser vista como composta por vários processos – cada um sendo uma série de ações que visam obter um resultado.        Os processos são executados por pessoas e recaem em duas categoria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Processos de gestão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 – descrevem e organizam o trabalho das pessoas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Processos de produção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 – descrevem a criação do produto, usam o ciclo de vida    do projet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836E-C0B2-47B7-9F82-566039D433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7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Processos – gestão e produção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ahoma"/>
              </a:rPr>
              <a:t>Os processos de </a:t>
            </a:r>
            <a:r>
              <a:rPr b="0" lang="en-US" sz="3600" spc="-1" strike="noStrike">
                <a:solidFill>
                  <a:srgbClr val="d60093"/>
                </a:solidFill>
                <a:latin typeface="Tahoma"/>
              </a:rPr>
              <a:t>gestão</a:t>
            </a:r>
            <a:r>
              <a:rPr b="0" lang="en-US" sz="3600" spc="-1" strike="noStrike">
                <a:solidFill>
                  <a:srgbClr val="00264c"/>
                </a:solidFill>
                <a:latin typeface="Tahoma"/>
              </a:rPr>
              <a:t> e </a:t>
            </a:r>
            <a:r>
              <a:rPr b="0" lang="en-US" sz="3600" spc="-1" strike="noStrike">
                <a:solidFill>
                  <a:srgbClr val="33cc33"/>
                </a:solidFill>
                <a:latin typeface="Tahoma"/>
              </a:rPr>
              <a:t>produção</a:t>
            </a:r>
            <a:r>
              <a:rPr b="0" lang="en-US" sz="3600" spc="-1" strike="noStrike">
                <a:solidFill>
                  <a:srgbClr val="00264c"/>
                </a:solidFill>
                <a:latin typeface="Tahoma"/>
              </a:rPr>
              <a:t>  interagem durante todo o projeto;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00264c"/>
                </a:solidFill>
                <a:latin typeface="Tahoma"/>
              </a:rPr>
              <a:t>por exemplo,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264c"/>
                </a:solidFill>
                <a:latin typeface="Tahoma"/>
              </a:rPr>
              <a:t>o estabelecimento do escopo do projeto pode depender do conhecimento da forma de criação do produto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6B51-78EB-4242-B7FF-DAE4CA4A2C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Etapas dos Processos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Cada processo tem uma etapa de </a:t>
            </a:r>
            <a:r>
              <a:rPr b="0" i="1" lang="en-US" sz="3200" spc="-1" strike="noStrike">
                <a:solidFill>
                  <a:srgbClr val="0033cc"/>
                </a:solidFill>
                <a:latin typeface="Tahoma"/>
              </a:rPr>
              <a:t>início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, onde se estabelecem os compromissos relacionados ao fato de que o processo deve ser começado, seguido pelo seu </a:t>
            </a:r>
            <a:r>
              <a:rPr b="0" i="1" lang="en-US" sz="3200" spc="-1" strike="noStrike">
                <a:solidFill>
                  <a:srgbClr val="0033cc"/>
                </a:solidFill>
                <a:latin typeface="Tahoma"/>
              </a:rPr>
              <a:t>planejamento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0033cc"/>
                </a:solidFill>
                <a:latin typeface="Tahoma"/>
              </a:rPr>
              <a:t>construção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 ou </a:t>
            </a:r>
            <a:r>
              <a:rPr b="0" i="1" lang="en-US" sz="3200" spc="-1" strike="noStrike">
                <a:solidFill>
                  <a:srgbClr val="0033cc"/>
                </a:solidFill>
                <a:latin typeface="Tahoma"/>
              </a:rPr>
              <a:t>execução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, acompanhado por métodos de </a:t>
            </a:r>
            <a:r>
              <a:rPr b="0" i="1" lang="en-US" sz="3200" spc="-1" strike="noStrike">
                <a:solidFill>
                  <a:srgbClr val="0033cc"/>
                </a:solidFill>
                <a:latin typeface="Tahoma"/>
              </a:rPr>
              <a:t>controle e monitoração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 e formalizado o término através de procedimento de aceitação do produto e </a:t>
            </a:r>
            <a:r>
              <a:rPr b="0" i="1" lang="en-US" sz="3200" spc="-1" strike="noStrike">
                <a:solidFill>
                  <a:srgbClr val="0033cc"/>
                </a:solidFill>
                <a:latin typeface="Tahoma"/>
              </a:rPr>
              <a:t>fechamento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do process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4085-8590-4CB6-B529-B65F40DCF4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Vinculação entre Processos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cc33"/>
                </a:solidFill>
                <a:latin typeface="Tahoma"/>
              </a:rPr>
              <a:t>início</a:t>
            </a:r>
            <a:r>
              <a:rPr b="0" lang="en-US" sz="4000" spc="-1" strike="noStrike">
                <a:solidFill>
                  <a:srgbClr val="00264c"/>
                </a:solidFill>
                <a:latin typeface="Tahoma"/>
              </a:rPr>
              <a:t>, </a:t>
            </a:r>
            <a:r>
              <a:rPr b="0" i="1" lang="en-US" sz="4000" spc="-1" strike="noStrike">
                <a:solidFill>
                  <a:srgbClr val="0033cc"/>
                </a:solidFill>
                <a:latin typeface="Tahoma"/>
              </a:rPr>
              <a:t>planejamento</a:t>
            </a: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,</a:t>
            </a:r>
            <a:r>
              <a:rPr b="0" lang="en-US" sz="4000" spc="-1" strike="noStrike">
                <a:solidFill>
                  <a:srgbClr val="00264c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371a15"/>
                </a:solidFill>
                <a:latin typeface="Tahoma"/>
              </a:rPr>
              <a:t>construção</a:t>
            </a:r>
            <a:r>
              <a:rPr b="0" lang="en-US" sz="4000" spc="-1" strike="noStrike">
                <a:solidFill>
                  <a:srgbClr val="371a15"/>
                </a:solidFill>
                <a:latin typeface="Tahoma"/>
              </a:rPr>
              <a:t> ou </a:t>
            </a:r>
            <a:r>
              <a:rPr b="0" i="1" lang="en-US" sz="4000" spc="-1" strike="noStrike">
                <a:solidFill>
                  <a:srgbClr val="371a15"/>
                </a:solidFill>
                <a:latin typeface="Tahoma"/>
              </a:rPr>
              <a:t>execução,</a:t>
            </a:r>
            <a:r>
              <a:rPr b="0" i="1" lang="en-US" sz="4000" spc="-1" strike="noStrike">
                <a:solidFill>
                  <a:srgbClr val="00264c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ff3300"/>
                </a:solidFill>
                <a:latin typeface="Tahoma"/>
              </a:rPr>
              <a:t>monitoramento e</a:t>
            </a:r>
            <a:r>
              <a:rPr b="0" i="1" lang="en-US" sz="4000" spc="-1" strike="noStrike">
                <a:solidFill>
                  <a:srgbClr val="00264c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ff3300"/>
                </a:solidFill>
                <a:latin typeface="Tahoma"/>
              </a:rPr>
              <a:t>controle </a:t>
            </a:r>
            <a:r>
              <a:rPr b="0" lang="en-US" sz="4000" spc="-1" strike="noStrike">
                <a:solidFill>
                  <a:srgbClr val="00264c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33cc33"/>
                </a:solidFill>
                <a:latin typeface="Tahoma"/>
              </a:rPr>
              <a:t>fechamento.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As etapas são vinculadas pelos seus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produtos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, podendo se superpor em intensidades diversas durante o proje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7FC6-B2E0-41C1-A9FF-9F8D4AA0DF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Processos da MGP -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Gerência de Projetos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Interação entre as fas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2209680"/>
            <a:ext cx="2209680" cy="10670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ahoma"/>
              </a:rPr>
              <a:t>Iníci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4038480"/>
            <a:ext cx="2209680" cy="10670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ahoma"/>
              </a:rPr>
              <a:t>Control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2438280"/>
            <a:ext cx="2514600" cy="10670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ahoma"/>
              </a:rPr>
              <a:t>Planejament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114800"/>
            <a:ext cx="2210040" cy="1066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ahoma"/>
              </a:rPr>
              <a:t>Construçã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5410080"/>
            <a:ext cx="2286000" cy="10670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ahoma"/>
              </a:rPr>
              <a:t>Fechament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251460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d60093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20331600">
            <a:off x="3836880" y="3511440"/>
            <a:ext cx="1600200" cy="452520"/>
          </a:xfrm>
          <a:prstGeom prst="rightArrow">
            <a:avLst>
              <a:gd name="adj1" fmla="val 50000"/>
              <a:gd name="adj2" fmla="val 88405"/>
            </a:avLst>
          </a:prstGeom>
          <a:solidFill>
            <a:srgbClr val="d60093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81680" y="350532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d60093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4343400"/>
            <a:ext cx="1828800" cy="457200"/>
          </a:xfrm>
          <a:prstGeom prst="leftRightArrow">
            <a:avLst>
              <a:gd name="adj1" fmla="val 50000"/>
              <a:gd name="adj2" fmla="val 79630"/>
            </a:avLst>
          </a:prstGeom>
          <a:solidFill>
            <a:srgbClr val="d60093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3134400">
            <a:off x="3414600" y="51336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d60093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B63C-259C-4ACA-B4CB-320289BFDF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Uma Metodologia de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Gerência de Projetos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31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Os produtos de uma fase são as entradas para a próxima; num projeto real, freqüentemente haverá sobreposições e uso de versões preliminares de produtos de fases anteriores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Por exemplo, da fase de planejamento vem uma descrição de trabalho para a fase de construção, mas também algumas preliminares para a fase de implantação, a ser refinada com o maior conhecimento do produto e do ambiente onde será realizad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D886-FC16-4BA2-A39A-E3BE14184F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Uma Metodologia de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Gerência de Projetos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183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Dentro de um grupo de processos, ou fase, cada um está ligado aos demais por suas saídas e entrada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Focando nestes produtos podemos descrever cada processo em termos de suas 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33cc"/>
                </a:solidFill>
                <a:latin typeface="Tahoma"/>
              </a:rPr>
              <a:t>entradas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(documentos ou itens descritíveis, sobre os quais serão feitas as ações),    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33cc"/>
                </a:solidFill>
                <a:latin typeface="Tahoma"/>
              </a:rPr>
              <a:t>técnicas e ferramentas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 (mecanismos aplicados às entradas para gerar as saídas) e as       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33cc"/>
                </a:solidFill>
                <a:latin typeface="Tahoma"/>
              </a:rPr>
              <a:t>saídas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 (documentos ou itens descritíveis, resultados das ações do processo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63412-3716-42A7-9FE5-95F01B43F9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Processo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1600200" cy="1158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095880" y="1181160"/>
            <a:ext cx="2711520" cy="3085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073160" y="5191200"/>
            <a:ext cx="1212840" cy="1438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1030320" y="3743280"/>
            <a:ext cx="1332000" cy="13622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3449520" y="1143000"/>
            <a:ext cx="1762200" cy="1981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895480" y="4952880"/>
            <a:ext cx="1656000" cy="1500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3124080" y="3276720"/>
            <a:ext cx="2484720" cy="1744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80988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3352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Leite e farinh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57600" y="6095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Limpez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4419720" y="4929120"/>
            <a:ext cx="1423800" cy="154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743200" y="1143000"/>
            <a:ext cx="0" cy="5334120"/>
          </a:xfrm>
          <a:prstGeom prst="line">
            <a:avLst/>
          </a:prstGeom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1219320"/>
            <a:ext cx="0" cy="5333760"/>
          </a:xfrm>
          <a:prstGeom prst="line">
            <a:avLst/>
          </a:prstGeom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0"/>
          <a:stretch/>
        </p:blipFill>
        <p:spPr>
          <a:xfrm>
            <a:off x="6095880" y="4191120"/>
            <a:ext cx="1643040" cy="21812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696080" y="5867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ixo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1"/>
          <a:stretch/>
        </p:blipFill>
        <p:spPr>
          <a:xfrm>
            <a:off x="15840" y="28440"/>
            <a:ext cx="1355760" cy="1800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295280" y="10987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Açúcar, manteiga, fermento ..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304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ahoma"/>
              </a:rPr>
              <a:t>Entrada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533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ahoma"/>
              </a:rPr>
              <a:t>Técnica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914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ahoma"/>
              </a:rPr>
              <a:t>Saída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6F44-6283-42E5-B89E-30ACE9BE88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Exemplo de processo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5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Iniciando um projet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33cc"/>
                </a:solidFill>
                <a:latin typeface="Tahoma"/>
              </a:rPr>
              <a:t>Preliminares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É o compromisso da organização com o início deste grupo de atividades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Pode ser precedido por estudos de viabilidade, um plano preliminar informal, uma demanda de mercado, exigência legal ou do negócio, uma solicitação de cliente, avanço tecnológico... e estes estímulos podem ser chamados de problemas, oportunidades, melhorias ou requisitos do negóci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8439-B10A-4189-A872-1BB411519E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Exemplo de processo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ahoma"/>
              </a:rPr>
              <a:t>Entradas:</a:t>
            </a: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Descrição do produto – documenta as características do produto ou serviço esperado como resultado do projeto. Seus detalhes vão sendo complementados ao longo do projeto. Esta descrição informa as relações entre o objeto sendo criado e o estímulo para a sua geraçã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7E02-D59A-4626-A5F2-503D552B8D6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Uma Metodologia de      Gerência de Projetos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Projetos envolvem um certo             grau de incertez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Para diminuir o </a:t>
            </a:r>
            <a:r>
              <a:rPr b="1" lang="en-US" sz="3200" spc="-1" strike="noStrike">
                <a:solidFill>
                  <a:srgbClr val="00264c"/>
                </a:solidFill>
                <a:latin typeface="Tahoma"/>
              </a:rPr>
              <a:t>risco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 e viabilizar o controle de seu progresso, seu desenvolvimento é dividido em fas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De uma forma geral, a coleção de </a:t>
            </a:r>
            <a:r>
              <a:rPr b="1" lang="en-US" sz="3200" spc="-1" strike="noStrike">
                <a:solidFill>
                  <a:srgbClr val="00264c"/>
                </a:solidFill>
                <a:latin typeface="Tahoma"/>
              </a:rPr>
              <a:t>fases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 é chamada de ciclo de vida do proje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477120" y="1523880"/>
            <a:ext cx="2295360" cy="17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D64E-0203-4DB0-ADD2-90F2D5FECF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Exemplo de processo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31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Plano estratégico –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 relacionamento com as metas da empresa, será um fator para a tomada de decisões ao longo do projet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Critérios de seleção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 – razões pelas quais o projeto existe – retorno financeiro, percepção de mercado, legislação ambiental, desenvolvimento cultural..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Informações históricas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 – dados de projetos e decisões anteriores; quando se tratar de uma nova fase de um projeto, são os resultados das anterior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815C-3D53-4AE6-8910-2DC9359584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Exemplo de processo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59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33cc33"/>
                </a:solidFill>
                <a:latin typeface="Tahoma"/>
              </a:rPr>
              <a:t>Técnicas e Ferramentas</a:t>
            </a:r>
            <a:r>
              <a:rPr b="0" lang="en-US" sz="3600" spc="-1" strike="noStrike">
                <a:solidFill>
                  <a:srgbClr val="33cc33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Métodos de seleção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 – como análises de custo / benefício, modelos econômicos, algoritmos específicos. Quando utilizados, costumam ser tratados como uma fase do proje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Consultoria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 – informações oriundas de outras áreas da empresa, consultores externos, técnicas padrão ou novas tecnologi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82F5-C9FD-460E-B3D0-CA39E9AA88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Exemplo de processo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65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ahoma"/>
              </a:rPr>
              <a:t>Saídas</a:t>
            </a:r>
            <a:r>
              <a:rPr b="0" lang="en-US" sz="3600" spc="-1" strike="noStrike">
                <a:solidFill>
                  <a:srgbClr val="33cc33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Contrato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 – autorizações para aplicar recursos para o proje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Gerente do projeto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 – pessoa designada para gerir a empreitad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Restrições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 – limitações para as opções da gerência do projeto, normalmente dadas em termos de prazo, custo, recursos, legislação e escop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A729-5C4E-4782-815B-0920E4288A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Exemplo de processo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Pressupostos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 – fatores que serão considerados verdadeiros para       efeito de planejamento e que geralmente envolvem algum           grau de risc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Obstáculos</a:t>
            </a: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 – fatores que deverão ser contornados para viabilizar o sucesso do empreendiment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791320" y="5526000"/>
            <a:ext cx="2062080" cy="1332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6781680" y="2362320"/>
            <a:ext cx="1928880" cy="167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69BC-C0F9-4518-BE50-89FC6858CD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0" y="2120760"/>
          <a:ext cx="9055080" cy="3403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120760"/>
                    <a:ext cx="9055080" cy="34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00"/>
                </a:solidFill>
                <a:latin typeface="Tahoma"/>
              </a:rPr>
              <a:t>Estrutura de Gerenciamento de Projeto</a:t>
            </a:r>
            <a:endParaRPr b="0" lang="en-US" sz="40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0DF7-76E3-4981-989E-1484C230DB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36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00"/>
                </a:solidFill>
                <a:latin typeface="Tahoma"/>
              </a:rPr>
              <a:t>Processos em área de conhecimento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09760" y="2120760"/>
          <a:ext cx="7949880" cy="2832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9760" y="2120760"/>
                    <a:ext cx="794988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643280" y="2940120"/>
            <a:ext cx="1152720" cy="255600"/>
          </a:xfrm>
          <a:prstGeom prst="rect">
            <a:avLst/>
          </a:prstGeom>
          <a:solidFill>
            <a:srgbClr val="4d4d4d"/>
          </a:solidFill>
          <a:ln w="28440">
            <a:solidFill>
              <a:srgbClr val="598b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24360" y="4614840"/>
            <a:ext cx="4103640" cy="1982880"/>
          </a:xfrm>
          <a:prstGeom prst="wedgeRectCallout">
            <a:avLst>
              <a:gd name="adj1" fmla="val -19129"/>
              <a:gd name="adj2" fmla="val -119898"/>
            </a:avLst>
          </a:prstGeom>
          <a:solidFill>
            <a:srgbClr val="99ff33"/>
          </a:solidFill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64c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64c"/>
                </a:solidFill>
                <a:latin typeface="Arial"/>
              </a:rPr>
              <a:t>Entrada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64c"/>
                </a:solidFill>
                <a:latin typeface="Arial"/>
              </a:rPr>
              <a:t>Ferramentas &amp; Técnica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64c"/>
                </a:solidFill>
                <a:latin typeface="Arial"/>
              </a:rPr>
              <a:t>Saída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64c"/>
                </a:solidFill>
                <a:latin typeface="Arial"/>
              </a:rPr>
              <a:t>Papéis &amp; Responsabilidad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5334120"/>
            <a:ext cx="2779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64c"/>
                </a:solidFill>
                <a:latin typeface="Arial"/>
              </a:rPr>
              <a:t>Para cada célul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62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4" name="">
            <a:hlinkClick r:id="rId9" action="ppaction://hlinksldjump"/>
          </p:cNvPr>
          <p:cNvSpPr/>
          <p:nvPr/>
        </p:nvSpPr>
        <p:spPr>
          <a:xfrm>
            <a:off x="2717640" y="2984400"/>
            <a:ext cx="1231920" cy="228600"/>
          </a:xfrm>
          <a:custGeom>
            <a:avLst/>
            <a:gdLst>
              <a:gd name="textAreaLeft" fmla="*/ 14760 w 1231920"/>
              <a:gd name="textAreaRight" fmla="*/ 1217160 w 1231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16253" h="21600">
                <a:moveTo>
                  <a:pt x="0" y="0"/>
                </a:moveTo>
                <a:lnTo>
                  <a:pt x="116253" y="0"/>
                </a:lnTo>
                <a:lnTo>
                  <a:pt x="116253" y="21600"/>
                </a:lnTo>
                <a:lnTo>
                  <a:pt x="0" y="21600"/>
                </a:lnTo>
                <a:close/>
              </a:path>
              <a:path fill="lightenLess" w="116253" h="21600">
                <a:moveTo>
                  <a:pt x="0" y="0"/>
                </a:moveTo>
                <a:lnTo>
                  <a:pt x="116253" y="0"/>
                </a:lnTo>
                <a:lnTo>
                  <a:pt x="114853" y="1400"/>
                </a:lnTo>
                <a:lnTo>
                  <a:pt x="1400" y="1400"/>
                </a:lnTo>
                <a:close/>
              </a:path>
              <a:path fill="darken" w="116253" h="21600">
                <a:moveTo>
                  <a:pt x="116253" y="0"/>
                </a:moveTo>
                <a:lnTo>
                  <a:pt x="116253" y="21600"/>
                </a:lnTo>
                <a:lnTo>
                  <a:pt x="114853" y="20200"/>
                </a:lnTo>
                <a:lnTo>
                  <a:pt x="114853" y="1400"/>
                </a:lnTo>
                <a:close/>
              </a:path>
              <a:path fill="darkenLess" w="116253" h="21600">
                <a:moveTo>
                  <a:pt x="116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4853" y="20200"/>
                </a:lnTo>
                <a:close/>
              </a:path>
              <a:path fill="lighten" w="116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5" name="">
            <a:hlinkClick r:id="rId10" action="ppaction://hlinksldjump"/>
          </p:cNvPr>
          <p:cNvSpPr/>
          <p:nvPr/>
        </p:nvSpPr>
        <p:spPr>
          <a:xfrm>
            <a:off x="3949560" y="2971800"/>
            <a:ext cx="1282680" cy="216000"/>
          </a:xfrm>
          <a:custGeom>
            <a:avLst/>
            <a:gdLst>
              <a:gd name="textAreaLeft" fmla="*/ 13680 w 1282680"/>
              <a:gd name="textAreaRight" fmla="*/ 1269000 w 12826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8091" h="21600">
                <a:moveTo>
                  <a:pt x="0" y="0"/>
                </a:moveTo>
                <a:lnTo>
                  <a:pt x="128091" y="0"/>
                </a:lnTo>
                <a:lnTo>
                  <a:pt x="128091" y="21600"/>
                </a:lnTo>
                <a:lnTo>
                  <a:pt x="0" y="21600"/>
                </a:lnTo>
                <a:close/>
              </a:path>
              <a:path fill="lightenLess" w="128091" h="21600">
                <a:moveTo>
                  <a:pt x="0" y="0"/>
                </a:moveTo>
                <a:lnTo>
                  <a:pt x="128091" y="0"/>
                </a:lnTo>
                <a:lnTo>
                  <a:pt x="126691" y="1400"/>
                </a:lnTo>
                <a:lnTo>
                  <a:pt x="1400" y="1400"/>
                </a:lnTo>
                <a:close/>
              </a:path>
              <a:path fill="darken" w="128091" h="21600">
                <a:moveTo>
                  <a:pt x="128091" y="0"/>
                </a:moveTo>
                <a:lnTo>
                  <a:pt x="128091" y="21600"/>
                </a:lnTo>
                <a:lnTo>
                  <a:pt x="126691" y="20200"/>
                </a:lnTo>
                <a:lnTo>
                  <a:pt x="126691" y="1400"/>
                </a:lnTo>
                <a:close/>
              </a:path>
              <a:path fill="darkenLess" w="128091" h="21600">
                <a:moveTo>
                  <a:pt x="128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6691" y="20200"/>
                </a:lnTo>
                <a:close/>
              </a:path>
              <a:path fill="lighten" w="128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8527-FCD3-4913-904B-6637CCB5FE56}" type="slidenum">
              <a:t>35</a:t>
            </a:fld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Uma analogia com os P’s de Marketing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Arial"/>
              </a:rPr>
              <a:t>Indicadores 5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264c"/>
                </a:solidFill>
                <a:latin typeface="Arial"/>
              </a:rPr>
              <a:t>’s presentes em projetos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264c"/>
                </a:solidFill>
                <a:latin typeface="Arial"/>
              </a:rPr>
              <a:t>razo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264c"/>
                </a:solidFill>
                <a:latin typeface="Arial"/>
              </a:rPr>
              <a:t>reço (comparação com orçamento)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264c"/>
                </a:solidFill>
                <a:latin typeface="Arial"/>
              </a:rPr>
              <a:t>erigo (análise de risco)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264c"/>
                </a:solidFill>
                <a:latin typeface="Arial"/>
              </a:rPr>
              <a:t>erformance (qualidade, desempenho)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264c"/>
                </a:solidFill>
                <a:latin typeface="Arial"/>
              </a:rPr>
              <a:t>olítica (tecnologia, prioridades...)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762120"/>
            <a:ext cx="457200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roduto, </a:t>
            </a:r>
            <a:r>
              <a:rPr b="1" lang="en-US" sz="1600" spc="-1" strike="noStrike">
                <a:solidFill>
                  <a:srgbClr val="d60093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osição ou </a:t>
            </a:r>
            <a:r>
              <a:rPr b="1" lang="en-US" sz="1600" spc="-1" strike="noStrike">
                <a:solidFill>
                  <a:srgbClr val="598bbd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onto (distribuição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reço,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P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romoção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CEA9-C77B-4004-9D01-D3E82AE45AB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Uma Metodologia de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Gerência de Projetos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Cada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fase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 de projeto é identificada por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produtos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 a serem entregues; estes produtos devem ser tangíveis, mensuráveis e verificáveis, tais como um estudo de viabilidade, uma especificação           funcional ou um protótipo.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Estes produtos e consequentemente, as fases, fazem parte de uma sequencia lógica de produção ou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metodologia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 que procura garantir o sucesso do empreendiment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315200" y="2855880"/>
            <a:ext cx="1600200" cy="120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4D30-75EF-4A64-B52A-5594BB7F03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Uma Metodologia de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Gerência de Projetos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ahoma"/>
              </a:rPr>
              <a:t>A conclusão de uma fase do projeto é marcada por uma revisão em seus produtos e uma decisão a respeito da sua </a:t>
            </a:r>
            <a:r>
              <a:rPr b="1" lang="en-US" sz="3600" spc="-1" strike="noStrike">
                <a:solidFill>
                  <a:srgbClr val="33cc33"/>
                </a:solidFill>
                <a:latin typeface="Tahoma"/>
              </a:rPr>
              <a:t>continuidade</a:t>
            </a:r>
            <a:r>
              <a:rPr b="0" lang="en-US" sz="3600" spc="-1" strike="noStrike">
                <a:solidFill>
                  <a:srgbClr val="00264c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volta a fases anteriores</a:t>
            </a:r>
            <a:r>
              <a:rPr b="0" lang="en-US" sz="3600" spc="-1" strike="noStrike">
                <a:solidFill>
                  <a:srgbClr val="00264c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modificações</a:t>
            </a:r>
            <a:r>
              <a:rPr b="0" lang="en-US" sz="3600" spc="-1" strike="noStrike">
                <a:solidFill>
                  <a:srgbClr val="00264c"/>
                </a:solidFill>
                <a:latin typeface="Tahoma"/>
              </a:rPr>
              <a:t> ou 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cancelamento</a:t>
            </a:r>
            <a:r>
              <a:rPr b="0" lang="en-US" sz="3600" spc="-1" strike="noStrike">
                <a:solidFill>
                  <a:srgbClr val="00264c"/>
                </a:solidFill>
                <a:latin typeface="Tahoma"/>
              </a:rPr>
              <a:t> da empreitada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17524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solidFill>
            <a:srgbClr val="33cc33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2438280"/>
            <a:ext cx="1295640" cy="533520"/>
          </a:xfrm>
          <a:prstGeom prst="leftArrow">
            <a:avLst>
              <a:gd name="adj1" fmla="val 50000"/>
              <a:gd name="adj2" fmla="val 60712"/>
            </a:avLst>
          </a:prstGeom>
          <a:solidFill>
            <a:srgbClr val="ffcc00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077320" y="3429000"/>
            <a:ext cx="728640" cy="1174680"/>
            <a:chOff x="8077320" y="3429000"/>
            <a:chExt cx="728640" cy="1174680"/>
          </a:xfrm>
        </p:grpSpPr>
        <p:sp>
          <p:nvSpPr>
            <p:cNvPr id="105" name=""/>
            <p:cNvSpPr/>
            <p:nvPr/>
          </p:nvSpPr>
          <p:spPr>
            <a:xfrm>
              <a:off x="8077320" y="3429000"/>
              <a:ext cx="533160" cy="68580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33cc"/>
            </a:solidFill>
            <a:ln w="1260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1253600">
              <a:off x="8229240" y="3885480"/>
              <a:ext cx="533520" cy="68580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33cc"/>
            </a:solidFill>
            <a:ln w="1260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8153280" y="5257800"/>
            <a:ext cx="533520" cy="914400"/>
          </a:xfrm>
          <a:prstGeom prst="downArrow">
            <a:avLst>
              <a:gd name="adj1" fmla="val 50000"/>
              <a:gd name="adj2" fmla="val 42848"/>
            </a:avLst>
          </a:prstGeom>
          <a:solidFill>
            <a:srgbClr val="ff3300"/>
          </a:solidFill>
          <a:ln w="1260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B03D-1B38-4F80-BD5F-D9DA1D437A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Uma Metodologia de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Gerência de Projetos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O ciclo de vida de um projeto serve para definir seu início e fim, bem como estabelecer ligações com outras operações em andamento na empres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Deve ser adaptado a cada tipo de projeto na empresa, conforme suas características de inovação, originalidade, porte, urgência, tecnologia, risco e orçamen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8294-EB55-4C82-A670-352EDDD5E1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Uma Metodologia de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Gerência de Projetos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61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A Gerência de Projetos é uma atividade de integração – uma ação ou omissão numa área, geralmente afetará outras; esta interação pode ser direta e bem compreendida ou sutil e incerta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Uma mudança tecnológica, de padrões de apresentação ou programação visual da empresa pode ser bem absorvida pela equipe geradora mas causar um efeito devastador em outra área dependente ou cliente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2438280"/>
            <a:ext cx="990720" cy="1557000"/>
          </a:xfrm>
          <a:prstGeom prst="rect">
            <a:avLst/>
          </a:prstGeom>
          <a:solidFill>
            <a:srgbClr val="99ff33"/>
          </a:solidFill>
          <a:ln w="1260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ahoma"/>
              </a:rPr>
              <a:t>O elo mais fraco!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06B9-8218-4D1B-BEF6-6D382FF43A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AmbienteGerência" descr=""/>
          <p:cNvPicPr/>
          <p:nvPr/>
        </p:nvPicPr>
        <p:blipFill>
          <a:blip r:embed="rId2"/>
          <a:stretch/>
        </p:blipFill>
        <p:spPr>
          <a:xfrm>
            <a:off x="1081080" y="123840"/>
            <a:ext cx="8062920" cy="6357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81080"/>
            <a:ext cx="381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mbient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3A6E-2F06-4FCA-A4F6-1CBAC90DD9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Preparar uma torta</a:t>
            </a:r>
            <a:endParaRPr b="0" lang="en-US" sz="44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1600200" cy="1158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095880" y="1181160"/>
            <a:ext cx="2711520" cy="3085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73160" y="5191200"/>
            <a:ext cx="1212840" cy="1438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30320" y="3743280"/>
            <a:ext cx="1332000" cy="1362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49520" y="1143000"/>
            <a:ext cx="176220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2895480" y="4952880"/>
            <a:ext cx="1656000" cy="1500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3124080" y="3276720"/>
            <a:ext cx="2484720" cy="1744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988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352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Leite e farinh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6095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Limpez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4419720" y="4929120"/>
            <a:ext cx="1423800" cy="154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43200" y="1143000"/>
            <a:ext cx="0" cy="5334120"/>
          </a:xfrm>
          <a:prstGeom prst="line">
            <a:avLst/>
          </a:prstGeom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1219320"/>
            <a:ext cx="0" cy="5333760"/>
          </a:xfrm>
          <a:prstGeom prst="line">
            <a:avLst/>
          </a:prstGeom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6095880" y="4191120"/>
            <a:ext cx="1643040" cy="2181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96080" y="5867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ixo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15840" y="28440"/>
            <a:ext cx="1355760" cy="1800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95280" y="1098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Açúcar, manteiga, fermento..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7CE3-1FF0-4AA8-8A75-69D1A497E5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4T19:54:24Z</dcterms:created>
  <dc:creator>Cesar Simões Salim</dc:creator>
  <dc:description/>
  <dc:language>en-US</dc:language>
  <cp:lastModifiedBy>HKS</cp:lastModifiedBy>
  <cp:lastPrinted>1999-08-17T01:37:49Z</cp:lastPrinted>
  <dcterms:modified xsi:type="dcterms:W3CDTF">2006-03-04T15:11:24Z</dcterms:modified>
  <cp:revision>129</cp:revision>
  <dc:subject>Gerenciamento de Projetos em Tecnologia de Informação</dc:subject>
  <dc:title>Aula 01 - Apresentação - Metodologia de Gerenciamento</dc:title>
</cp:coreProperties>
</file>