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526B-2226-4EE4-8080-72B9201BD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3880-8758-4D7D-AA27-9519BFFE4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B566-1222-4576-B397-56BDDA3D5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5303-A2AC-4A6D-8A99-F17638369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B3263-8308-4290-A3C9-3C7F178F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3BFEC-B9EF-440B-B7AC-C55E600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B50E7-22D6-4C82-85DA-FA4E7D8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BE15A-D96B-4D01-94B3-403BF52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CF5F-BA09-43DB-B1F5-BA41383A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09A29-C854-4FF8-A975-FE91EA7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9AE5-0239-418A-AC15-5014FEBF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894C-470E-40B8-BD02-87E193EBA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EAC6-77EC-4087-99F4-C9A125A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54C2-8749-41F0-9D11-DFCA86AE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62F0C-7EA6-4C8B-8E9C-E9BFBDA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45FD5-408E-4CBB-8CDF-9EE80035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5C93A-365F-4768-8178-79D128C4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8900-7C58-40D4-B30B-F9D9FE106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1735-4B35-4BC8-820E-FA88A50E4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EDD7-44E8-407A-8A3E-A439BB5F8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4FCF-4028-464E-BBED-CAB48EA4B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74FC-CC8B-4FE6-85C0-46EFF615A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7895-FAC4-4385-9459-AF9F1015E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A208-C018-4A78-8570-F9EA8F095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152280" y="228600"/>
            <a:ext cx="587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A4B-01D1-4F41-B8C3-89B7AD4EE9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227-42D9-43B7-8DBE-961E4DB2BA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alla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ara baixar o PMBOK2004 em portuguê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2927520"/>
            <a:ext cx="815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"/>
              </a:rPr>
              <a:t>http://rapidshare.de/files/1184594/PMBOK-2004.pdf.htm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DAA90-610A-4C03-B2D8-3A4642D206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00200" y="1523880"/>
          <a:ext cx="49528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49528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0360" y="837720"/>
            <a:ext cx="7692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a parte inferior, escolha F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35120" y="3962520"/>
          <a:ext cx="8332560" cy="23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120" y="3962520"/>
                    <a:ext cx="833256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77120" y="3124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 aguarde alguns segundos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624852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é a apresentação do arqu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3505320"/>
            <a:ext cx="533160" cy="3682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EDE5-6E72-46AA-BDB3-4015133996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al – 8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quem não tem banda larga, está dividido em capítulos, em pedaços de cerca de 1M, entrando 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wall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suário – helene_pu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nha INF1903, pasta PMBOK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ande os capítulos por e-mail para você mesmo ou salve os arquiv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CD5A-1DFE-44AB-B16C-61B6425D4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2:35:35Z</dcterms:created>
  <dc:creator>helene</dc:creator>
  <dc:description/>
  <dc:language>en-US</dc:language>
  <cp:lastModifiedBy>HKS</cp:lastModifiedBy>
  <dcterms:modified xsi:type="dcterms:W3CDTF">2005-11-26T21:35:39Z</dcterms:modified>
  <cp:revision>8</cp:revision>
  <dc:subject/>
  <dc:title>Para ler o PMBOK2004</dc:title>
</cp:coreProperties>
</file>