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2B2-55E3-4813-A5CA-7CB820AA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Proteção à indústria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BENITO PA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melhoria da qualidade de produtos e processos, em todo o mundo, tem decorrido da adoção de normas e padrões de referência. Essas normas ou padrões não só têm garantido a confiabilidade do produto adquirido como têm protegido mercados, assim como o consumidor final, de fraudes ou danos de naturezas diversas. O sucesso das normas ISO é o melhor exemplo dis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certificação de produtos, processos ou serviços é indicação evidente do grau de desenvolvimento de uma economia. No ano passado foram emitidos, no mundo, 561.690 certificados pela série ISO 9001. O Brasil participa com menos de 3% deste total, e a área de Tecnologia da Informação (TI), com pouco mais de 450 certificados. Isso evidencia a falta de padrões organizados numa área de tecnologia de ponta, vital para o funcionamento da economia, do serviço público e das instituiçõ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Brasil tem tomado iniciativas para melhorar o padrão de qualidade de processos e produtos na área de software. Em dezembro de 2002, a Sociedade Softex instalou um grupo de trabalho com a participação de universidades, centros de pesquisa e entidades empresariais. Como resultado, foi criado o MPS.BR, sigla do modelo denominado “Melhoria do processo de software brasileiro”. É um modelo inspirado nos padrões ISO 12.207 e 15.504 e foi elaborado com processos semelhantes aos definidos pelo Capability Maturity Model Integration (CMMI), o modelo de qualidade de processos de software adotado pelas empresas america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principal vantagem de se ter desenvolvido um modelo brasileiro é o custo das avaliações. O CMMI é um modelo proprietário e não custa menos de US$ 25 mil, podendo chegar a US$ 100 mil, dependendo da complexidade do processo avaliado. Um custo inviável para a maioria das empresas naciona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MPS.BR também é um modelo proprietário, que se propõe a realizar avaliações nos moldes do CMMI, mas a um custo muito mais acessível. Como o CMMI, não fará certificações, mas avaliações por critérios que seguem padrões de exigência internacional, sem valor legal, já que não é uma norma obrigatória, o que prenuncia uma disseminação lenta e limita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CMMI só foi consagrado pelo mercado americano porque o Departamento de Defesa passou a exigir maior confiabilidade dos produtos que adquiria e encomendou à Carnegie Mellon a criação de um modelo de avaliação pelo qual deveriam passar as suas compras. Esse modelo foi posteriormente adotado por outros países como a Índia, importante fornecedora mundial de desenvolvimento de progra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Criar um modelo nacional é uma forma de quebrar o monopólio do CMMI no mercado brasileiro. Outros países já buscaram alternativas. O México, na América Latina, é um bom exemplo. Em 2004 aquele país criou uma norma própria e obrigatória, o Moprosoft, como maneira de proteger sua indústria do poder econômico das empresas americanas, que só precisavam atravessar a fronteira para abocanhar o merc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Criar uma norma brasileira não equivale a nenhuma reserva de mercado, mesmo porque a lógica seria diferente, já que qualquer multinacional poderia se ajustar às normas definidas, por serem aderentes aos padrões internaciona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Brasil precisa trilhar o caminho da qualidade para conquistar a respeitabilidade no cenário mundial, mas temos que definir se queremos uma norma legal de uso obrigatório ou apenas um modelo recomendado. Qualquer que seja a opção escolhida, após uma discussão ampla e democrática, não pode demorar. As empresas brasileiras pagam muito caro pela falta de instrumentos de certificação local, num mercado cada vez mais global e competitiv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BENITO PARET é Membro do Conselho de Administração da Sociedade Softex, Diretor Executivo da Riosoft e presidente do Sindicato das Empresas de Informática do Rio de Janei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Fonte: Globo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http://oglobo.globo.com/jornal/opiniao/189845093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Proteção à indústria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BENITO PA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melhoria da qualidade de produtos e processos, em todo o mundo, tem decorrido da adoção de normas e padrões de referência. Essas normas ou padrões não só têm garantido a confiabilidade do produto adquirido como têm protegido mercados, assim como o consumidor final, de fraudes ou danos de naturezas diversas. O sucesso das normas ISO é o melhor exemplo dis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certificação de produtos, processos ou serviços é indicação evidente do grau de desenvolvimento de uma economia. No ano passado foram emitidos, no mundo, 561.690 certificados pela série ISO 9001. O Brasil participa com menos de 3% deste total, e a área de Tecnologia da Informação (TI), com pouco mais de 450 certificados. Isso evidencia a falta de padrões organizados numa área de tecnologia de ponta, vital para o funcionamento da economia, do serviço público e das instituiçõ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Brasil tem tomado iniciativas para melhorar o padrão de qualidade de processos e produtos na área de software. Em dezembro de 2002, a Sociedade Softex instalou um grupo de trabalho com a participação de universidades, centros de pesquisa e entidades empresariais. Como resultado, foi criado o MPS.BR, sigla do modelo denominado “Melhoria do processo de software brasileiro”. É um modelo inspirado nos padrões ISO 12.207 e 15.504 e foi elaborado com processos semelhantes aos definidos pelo Capability Maturity Model Integration (CMMI), o modelo de qualidade de processos de software adotado pelas empresas american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 principal vantagem de se ter desenvolvido um modelo brasileiro é o custo das avaliações. O CMMI é um modelo proprietário e não custa menos de US$ 25 mil, podendo chegar a US$ 100 mil, dependendo da complexidade do processo avaliado. Um custo inviável para a maioria das empresas naciona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MPS.BR também é um modelo proprietário, que se propõe a realizar avaliações nos moldes do CMMI, mas a um custo muito mais acessível. Como o CMMI, não fará certificações, mas avaliações por critérios que seguem padrões de exigência internacional, sem valor legal, já que não é uma norma obrigatória, o que prenuncia uma disseminação lenta e limita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CMMI só foi consagrado pelo mercado americano porque o Departamento de Defesa passou a exigir maior confiabilidade dos produtos que adquiria e encomendou à Carnegie Mellon a criação de um modelo de avaliação pelo qual deveriam passar as suas compras. Esse modelo foi posteriormente adotado por outros países como a Índia, importante fornecedora mundial de desenvolvimento de progra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Criar um modelo nacional é uma forma de quebrar o monopólio do CMMI no mercado brasileiro. Outros países já buscaram alternativas. O México, na América Latina, é um bom exemplo. Em 2004 aquele país criou uma norma própria e obrigatória, o Moprosoft, como maneira de proteger sua indústria do poder econômico das empresas americanas, que só precisavam atravessar a fronteira para abocanhar o merc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Criar uma norma brasileira não equivale a nenhuma reserva de mercado, mesmo porque a lógica seria diferente, já que qualquer multinacional poderia se ajustar às normas definidas, por serem aderentes aos padrões internaciona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O Brasil precisa trilhar o caminho da qualidade para conquistar a respeitabilidade no cenário mundial, mas temos que definir se queremos uma norma legal de uso obrigatório ou apenas um modelo recomendado. Qualquer que seja a opção escolhida, após uma discussão ampla e democrática, não pode demorar. As empresas brasileiras pagam muito caro pela falta de instrumentos de certificação local, num mercado cada vez mais global e competitiv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BENITO PARET é Membro do Conselho de Administração da Sociedade Softex, Diretor Executivo da Riosoft e presidente do Sindicato das Empresas de Informática do Rio de Janei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Fonte: Globo 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http://oglobo.globo.com/jornal/opiniao/189845093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FB20-428F-4830-95A8-2FC643FB2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7324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CA67-C240-4408-BE1E-1FC5E08B8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59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AE26-94D9-44CF-A34C-03612B7CF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1732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012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2888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EA52-648C-42B4-911A-622C4DFD3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34E4D-2D38-4CDA-92D4-F130CF37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A9902-9B03-4909-B24F-61C2060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0A358-3DDC-4E79-988C-514B48D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B3C21-C787-41AC-B0BF-8669ACD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9696D-68C5-4E4F-B259-D2D6C4C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8168A-8C4A-482E-AAB1-5E524EB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D9D2-4709-4446-9B8E-C4B328D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2795-25F6-4FCE-A9FB-3292D8477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0930A-9DB2-4587-863B-AFDA790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CA35E-A6D8-4F6E-934B-713EBF6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87490-DBA5-4535-9902-F566E12C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3666-4DF2-4082-8D67-FD6DF8C1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ED528-217D-412C-A4C3-B06AA9C4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BDDD-361C-4807-9022-E67600B08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5F63-52D7-4CA9-B07F-3B125ACA2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5A7E-F2DC-48D1-9B16-E2D88A8F7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2E6F-BEEE-4A25-B004-7E32E74AA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40B0-107B-4B28-8200-7162033EB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592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D9A9-5C53-495E-8F58-5DF33AEBD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7324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343A-5F90-4E50-AEB5-FDD014DE2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22824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1e1b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E5E-3F2B-4680-A88A-8A1E6EE813E8}" type="slidenum">
              <a:rPr b="1" lang="en-US" sz="1400" spc="-1" strike="noStrike">
                <a:solidFill>
                  <a:srgbClr val="e1e1b7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e1e1b7"/>
                </a:solidFill>
                <a:latin typeface="Arial"/>
              </a:rPr>
              <a:t> / 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3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4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606-136F-42BF-BAAC-ED2F7FAF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69960" y="9140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Arial"/>
              </a:rPr>
              <a:t>Metodologia de Gestão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efinir o escopo de um projeto e gerência de requis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DD01352_" descr=""/>
          <p:cNvPicPr/>
          <p:nvPr/>
        </p:nvPicPr>
        <p:blipFill>
          <a:blip r:embed="rId1"/>
          <a:stretch/>
        </p:blipFill>
        <p:spPr>
          <a:xfrm>
            <a:off x="7162920" y="458316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A4446-2F0F-4B4A-947E-406CB05F84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Critérios de Su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133720"/>
            <a:ext cx="7315200" cy="3886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 não for possível usar aquele critér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a é ter algo quantificável so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efeito do projeto, uma qualidad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duto entregue como, por exempl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anho de eficiência ou eficácia, re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 índice de erros, tempo de resp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 atendimento, algum impacto 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a qualidade ou satisfação do c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5B66-D05B-45EF-92D5-E8D7ABE11C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Pressupostos, Riscos e Obstác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pesso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lt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lações de causa e ef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57800" y="4419720"/>
            <a:ext cx="31003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AF47-9CED-45B1-8D59-06623DBEE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Adendos ao documento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iscos Financ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udos de Vi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 de Custo e Benefício - as dificuldades causadas pelos benefícios intang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álise de ponto de equilíbrio:           “break-even 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torno de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*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Visão Geral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27A0-1EAB-4A47-8F8C-4AF2AD161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Análise de Custo e Benefí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1371600"/>
            <a:ext cx="7696080" cy="518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Definir o problema com cla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Descrever as condições de contorno d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o que é e o que não é o escopo d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o que está fora do esco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Descrever as características e funcio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uma boa 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Identificar soluções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 Ordenar soluções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 Estabelecer recomendações com o raciocíni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ientou as suas escol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 Prover uma estimativa do tempo e dos cu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D5D1-B47E-4FE2-8525-EA640130FD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2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Aprovação do VGP - crité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al a importância do problema para a emp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anto o projeto está relacionado com os fatores críticos de sucesso da empre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objetivo geral está relacionado diretamente com o probl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9F6A-6801-488E-AF51-6026213294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</a:rPr>
              <a:t>Aprovação do VGP - crité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objetivos específicos são representações claras do objetivo g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á suficiente valor para o negócio como medido pelos critérios de sucesso para garantir recursos para este proje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á claramente estabelecida a relação entre os critérios de sucesso e os objetiv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A6DB-A666-4341-82EB-200FD8EE4D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Aprovação do VGP - crité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s riscos são elevados em relação aos benefícios para o negócio da empresa neste proje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gerência superior da empresa pode reduzir riscos identificad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dmitindo aprovado o VGP, fazer o planejamento detal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primeiro passo é definir as atividades do pro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319D-A8B4-4D5D-830A-C57928D213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cei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não fu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inve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trições de projeto e de 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não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mbigüidade na definição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stões út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1395-F08C-404C-8946-2AAFD1541D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ceitu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148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 é uma condição ou capacitação necessária a um usuário / cliente / mercado para solucionar um problema  ou  alcançar um obje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É uma condição ou capacitação que um produto ou serviço precisa atender ou ter para satisfazer um contrato, padrão, especificação ou outro documento formalmente estabelecid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315200" y="762120"/>
            <a:ext cx="1371600" cy="1373040"/>
            <a:chOff x="7315200" y="762120"/>
            <a:chExt cx="1371600" cy="13730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7315200" y="762120"/>
              <a:ext cx="1371600" cy="13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696080" y="1219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99ccff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DE79-FD78-442D-967A-F653E9955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ceitu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933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 conjunto de todos os requisitos formam a base para o posterior desenvolvimento do produto, serviço ou fornec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38320" y="4572000"/>
            <a:ext cx="73962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9907-7FAE-4C33-B8A8-748A019ED9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4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Objetiv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finir o escopo de um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Produt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cumento “Project Overview Statement - POS”  ou Visão Geral do Projeto VGP, Anteprojeto, Estudo Preliminar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Modo de fazer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lanejar com o cliente quais os requisitos do projeto qu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resolv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problema ou aproveitam a oport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Met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bter aprovação preliminar do VGP pela gerência superior 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uso de recurs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fazer o plan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Equipe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rmalmente só o gerente do futuro projeto com 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1E34-A0D1-486D-95AF-1B7DD841BB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50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Conceitu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 é uma função, restrição ou outra propriedade que precisa ser fornecida, encontrada ou atendida para satisfazer às necessidades do usuário do futur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mportância dos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está contra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o cliente / mercado prec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deve ser obede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essencial no forn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909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DF5D-BFDB-4351-8440-5F5A319D0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50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quisitos fun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quisitos funcionais especificam o que o produto deve ser capaz de execu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m ser defini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o ponto de vista dinâmico: comportamento quando executado em circunstâncias determi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o ponto de vista estático: funções desempenhadas por cada entidade e a maneira como elas interag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0480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CE93-9BCE-49A2-974B-BB2710403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quisitos não fun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ec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nt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nuten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pon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uper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t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7782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19E7-A6EE-4814-B258-55FD23305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quisitos invers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5205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gnif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que o produt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fa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estão da ambigüidade das funcio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estão dos limites e a importância de não se deixar uma expectativa falsa sobre o que o produto vai fa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3124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096E-0978-4583-B51B-3E7566FE14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6675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strições de projeto e de implementaçã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condições que limitam como o produto poderá ser imple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cc"/>
                </a:solidFill>
                <a:latin typeface="Arial"/>
              </a:rPr>
              <a:t>Representam condições  pré-estabelecidas que deverão ser obedecidas pelos projetistas e na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s restrições podem ser de limitações do tempo, espaço, custo, ambiental, equipamento,  processos, legislação, ética, tecnologia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0177064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38276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D14F-E00F-45E7-A7AC-524F6BD43D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553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Gerência de requisitos</a:t>
            </a:r>
            <a:br>
              <a:rPr sz="3600"/>
            </a:b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Requisitos não técnic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co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dições contrat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presentam limitações para a gerência do projeto, como prazo, recursos humanos e orçamento do projeto, datas, legislaçã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0122718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49372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D943-0D75-474F-BACF-01A5F292DD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Gerência de requisit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2057400"/>
          <a:ext cx="91440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B73D-09F5-4B5E-8974-60BB6A0188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64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Ambigüidade na definição dos requisit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quisitos incompl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avras de significado imprec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 da ambigüidade (exemplo para 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quisitos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 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bricação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s de desenvolvimento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15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es de aceitação                          3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ção                                        40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onte: Barry Bohem - Software Engineering Eco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0122721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504800" cy="171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BBA9-A46E-4369-8519-E31BE771E7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mbiguidade na definição dos requisit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069F-C59A-4027-9395-0CA4E0ADD1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stões Út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80600" y="1981080"/>
            <a:ext cx="735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m é o cl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uma solução muito bem-sucedida significa para este cl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é a razão real para desejar solucionar este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mos usar uma equipe de projeto com quais caracterís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o prazo que temos para fazer o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de mais pode ser obtida solução para este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0108262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302112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E317-7EBD-423F-B560-A4C12B1AC3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Cinco componentes do VGP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blema ou oport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 Geral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itérios de Su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essupostos, Riscos e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57600" y="4648320"/>
            <a:ext cx="228600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F364-80D0-48CA-A305-9B7172B29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4008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stões Út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mos copiar algo exist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problemas este produto re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problemas este produto pode cr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ambiente este produto provavelmente encont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o grau de precisão necessário                           ou desejado ao produ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os aspectos relevantes do problema                a reso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m são as pessoas certas para                 responder as pergun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281720" y="228600"/>
            <a:ext cx="15462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9737-7F77-4E36-B47A-B1BCA62719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377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stões Út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respostas dadas são oficia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requisitos estão sendo documentados e obtidas as aprovações de quem os fornece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possível ver o local onde se processam as         ações do pro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 algo mais que possa ser  perguntado             para esclarecer o  funcionamento do                 processo e evitar ambigü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á incoerências entre as respos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05760" y="304920"/>
            <a:ext cx="139212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607C-8B0C-486B-B082-442DF8EA94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347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Questões Úte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os outros processos que se relacionam com es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este processo é relacionado com out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os resultados do projeto que são fundamentais para sua avaliação posi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os indicadores do pro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is os produtos do pro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097760" y="3809880"/>
            <a:ext cx="1893960" cy="27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E9CB-62A0-41E5-ACF0-076B64F41A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Qualidade na indústr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melhoria da qualidade de produtos e processos, em todo o mundo, tem decorrido da adoção de normas e padrões de referência que, garantido a confiabilidade do produto adquirido, têm protegido mercados, assim como o consumidor final, de fraudes ou danos de naturezas divers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sucesso das normas ISO é o seu melhor exemp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5D58-A947-4BAA-A93E-0D58D4013F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Arial"/>
              </a:rPr>
              <a:t>Qualidade na indúst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ertificação de produtos, processos ou serviços é indicação evidente do grau de desenvolvimento de uma econom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2005 foram emitidos, no mundo, 561.690 certificados pela série ISO 900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Brasil participava com menos de 3% deste total, e a área de TI, com pouco mais de 450 certific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evidencia a falta de padrões organizados numa área de tecnologia de ponta, vital para o funcionamento da economia, do serviço público e das institu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3C85-3FF5-4758-80BA-59B42B278F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Arial"/>
              </a:rPr>
              <a:t>Por que fazer um protótipo para o produto a prover?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experiência dos anos 70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31A74-ADEF-4E6E-98F7-A8BEDB73BF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o o cliente explicou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9880" y="1981080"/>
          <a:ext cx="2497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81080"/>
                    <a:ext cx="2497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79AB-FD5E-459B-B250-4CADEE96F7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577440"/>
            <a:ext cx="8031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Como o líder de projeto entendeu 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3760" y="1981080"/>
          <a:ext cx="25113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3760" y="1981080"/>
                    <a:ext cx="25113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88E4-F3DF-44F6-BE3A-AA8D95305A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o ficou o projeto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801960" y="1981080"/>
          <a:ext cx="2514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981080"/>
                    <a:ext cx="2514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7A14-E6C2-4FB1-9471-D038E8FB9A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43080" y="517680"/>
            <a:ext cx="73548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o foi construído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7000" y="1981080"/>
          <a:ext cx="25048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7000" y="1981080"/>
                    <a:ext cx="2504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87CC-A2CB-40B2-9144-BCB0D2663C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Problema ou oport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hecimento da área onde o projeto será desenvolv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esses da corpo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quisitos mandató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dições de 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657600" y="4843440"/>
            <a:ext cx="228600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1CB7-5F57-44F6-AB10-386874075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o o consultor de negócios o descreveu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822840" y="1981080"/>
          <a:ext cx="24732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2840" y="1981080"/>
                    <a:ext cx="24732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7715-2B42-4ECC-B67A-71D86CA390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3080" y="517680"/>
            <a:ext cx="77025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Como o projeto foi documentado 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255840" y="2333520"/>
          <a:ext cx="245916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5840" y="2333520"/>
                    <a:ext cx="245916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84EB-D521-4B1E-BDBA-0A18CAE2B8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Quais funcionalidades foram implantadas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82960" y="2057400"/>
          <a:ext cx="2784600" cy="45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2057400"/>
                    <a:ext cx="27846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E12E-370E-40B6-94EA-2C564BB4A4D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foi cobrado do cliente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38480" y="2095560"/>
          <a:ext cx="27288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8480" y="2095560"/>
                    <a:ext cx="27288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6931-202A-426E-ABFE-271BB131A4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o foi mantido 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110040" y="2238480"/>
          <a:ext cx="26049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040" y="2238480"/>
                    <a:ext cx="26049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9898-71AC-471E-9F60-128DB1BBF7E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o cliente queria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174840" y="2157480"/>
          <a:ext cx="2540160" cy="41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2157480"/>
                    <a:ext cx="254016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D559-2982-4B0E-802B-4226B6FD549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Objetivo do Proj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acterísticas do conteúdo da apresentação do objetivo geral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7696080" cy="350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 específico no alvo de um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belecer indicadores de progresso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belecer realisticamente o que p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 feito com os recursos dispon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belecer quando o objetivo  pode ser atin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uraçã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31A6-5B22-4C03-A085-0AE73C882F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Objetivo do Proje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acterísticas da sentença definidora do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124080"/>
            <a:ext cx="7086600" cy="3200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Uma saída / produto - o que vai ser ob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Um prazo - uma data em que deve 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luído / atin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Uma medida - a métrica que vai determi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su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Uma ação - como o objetivo vai ser ating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D907-0D28-4DB7-B2D0-05D1860BB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Objetivos Específicos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abelecer o mais detalhadamente possível quais são os 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É uma abertura do objetivo geral em itens que caracterizam aspectos que devem ser atingidos pelo projeto para que o objetivo geral seja cump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6F7E-7BFE-4FBF-8F4E-15D8EF5D1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Critérios de Su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do critério de sucesso - o que deve acontecer para nós e o cliente dizermos que o projeto foi um suce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vemos partir das Condições de Satisfação que definirão, de modo geral, as bases de um critério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ritério de satisfação do cliente e da equipe do projeto precisam ser ajustadas e isso não é necessariamente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ur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467B-6B61-4D70-8589-EC6600038C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Definir o escopo de um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Critérios de Su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828800"/>
            <a:ext cx="7010280" cy="4191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pressos em termos de a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 margens, lucros crescen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dução de tempo de produçã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lhoria de produtividade, reduçã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sto de fabricação, sempre 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lores tangíveis para 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7850-03E9-4221-B7A1-D945AF89EC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09:54:41Z</dcterms:created>
  <dc:creator>Cesar Simoes Salim</dc:creator>
  <dc:description/>
  <dc:language>en-US</dc:language>
  <cp:lastModifiedBy>HKS</cp:lastModifiedBy>
  <cp:lastPrinted>1999-08-16T22:29:03Z</cp:lastPrinted>
  <dcterms:modified xsi:type="dcterms:W3CDTF">2007-01-18T23:41:29Z</dcterms:modified>
  <cp:revision>21</cp:revision>
  <dc:subject>Gerenciamento de Projetos em Tecnologia de Informação</dc:subject>
  <dc:title>Aula 05 - Planejamento de Projetos</dc:title>
</cp:coreProperties>
</file>