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FF60-3A4C-4F0C-9138-F953364BF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C95F-7CDE-4AEE-A553-3DF38450B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6E10-08D8-4729-BC3E-6742E3A15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DA3D-F8FC-4927-ABCF-904790F8B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DC80C-2D52-4A2F-92F5-5F29A43F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4A048-087F-474B-BBED-A4FE737B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3B473-988F-44CA-B6DF-CF0164C8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882BD-2A70-48CA-BE8E-D7EEA42C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5F214-1A4B-490D-8E48-CE9D9BDB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BD32C-3A87-4202-9151-0D30DC26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601A1-6BFF-4202-A6B1-BEC7F2C1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0F9D-21E3-4E78-9685-109D91CFD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3E4F5-EFD2-4B39-A37D-6EB45457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08D1B-722F-40C3-9241-2D789CD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3F107-C417-43DA-94F1-B251A661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05767-AB29-4215-BA0F-F81FBA89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D4D15-3F3D-4EAC-8C50-94158A35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89FC-40DA-4C71-8632-48AE20DD5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04CC-6655-4737-93D9-D4D76B738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675A-1D71-4FE7-9BCE-769573CBB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A6D8-6720-44D1-81EC-1691FC5C2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214A-B6EA-4EC3-BCBD-667AA6B33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9015-B718-4B91-9843-26F5ECB66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8ECC-052C-4968-8072-34730CCB9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5960" y="6248520"/>
            <a:ext cx="533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F7C8-8C61-4EFE-BC97-0357F7B733B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9D86-B3A1-4607-AB0F-26F6BB0C4D9E}" type="slidenum">
              <a:rPr b="0" lang="pt-BR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6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A estrutura do gerenciamento de projeto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37B81-0DF5-4988-B488-F98507397E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482400"/>
                </a:solidFill>
                <a:latin typeface="Arial,Bold"/>
              </a:rPr>
              <a:t>Relação entre o produto e os ciclos de vida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2120760"/>
          <a:ext cx="8381880" cy="340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120760"/>
                    <a:ext cx="838188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066680" y="57150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82400"/>
                </a:solidFill>
                <a:latin typeface="Arial,Bold"/>
              </a:rPr>
              <a:t>Figura 2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322F-2255-4C85-9762-E4605894CB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482400"/>
                </a:solidFill>
                <a:latin typeface="Arial,Bold"/>
              </a:rPr>
              <a:t>2.2 Participantes interessados n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766520"/>
            <a:ext cx="761184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Partes interessadas no projeto são pessoas e organizações ativamente envolvidas no projeto ou cujos interesses podem ser afetados como resultado da execução ou do término do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Eles podem também exercer influência sobre os objetivos e resultados do proje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A equipe de gerenciamento de projetos precisa identificar as partes interessadas, determinar suas necessidades e expectativas e, na medida do possível, gerenciar sua influência em relação aos requisitos para garantir um projeto bem-suced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3121-EECC-4236-9F9F-E98AC465DF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482400"/>
                </a:solidFill>
                <a:latin typeface="Arial,Bold"/>
              </a:rPr>
              <a:t>Parceiros interessados n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Gerente de projetos, Cliente/usu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Organização execut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Membros da equipe do proje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Equipe de gerenciamento de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Patrocin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Influenci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NewRoman,Bold"/>
              </a:rPr>
              <a:t>Escritório de Projetos (PM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9686-1F4E-4A59-BFDB-2FCE4CF544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82400"/>
                </a:solidFill>
                <a:latin typeface="Arial,Bold"/>
              </a:rPr>
              <a:t>Gerenciamento das expectativas das Partes interessadas no projet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Pode ser difícil pois elas em geral têm objetivos muito diferentes ou conflitantes. Por 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O gerente de um departamento que solicitou um novo sistema de informações de gerenciamento, pode desejar baixo custo, o arquiteto do sistema pode enfatizar a excelência técnica e a empresa de programação contratada pode estar mais  interessada em maximizar seu luc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B659-7AAB-42FA-96D0-01866DCF4A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129528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80200" cy="12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82400"/>
                </a:solidFill>
                <a:latin typeface="Arial,Bold"/>
              </a:rPr>
              <a:t>Gerenciamento das expectativas das Partes interessadas no projet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1371600"/>
            <a:ext cx="7772040" cy="3200040"/>
            <a:chOff x="1066680" y="1371600"/>
            <a:chExt cx="7772040" cy="3200040"/>
          </a:xfrm>
        </p:grpSpPr>
        <p:sp>
          <p:nvSpPr>
            <p:cNvPr id="125" name=""/>
            <p:cNvSpPr/>
            <p:nvPr/>
          </p:nvSpPr>
          <p:spPr>
            <a:xfrm>
              <a:off x="1066680" y="2550600"/>
              <a:ext cx="2201040" cy="785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Parte 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 Black"/>
                </a:rPr>
                <a:t>Interesses de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 Black"/>
                </a:rPr>
                <a:t>Expectativas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36120" y="2213640"/>
              <a:ext cx="3232800" cy="1515960"/>
            </a:xfrm>
            <a:custGeom>
              <a:avLst/>
              <a:gdLst>
                <a:gd name="textAreaLeft" fmla="*/ 808200 w 3232800"/>
                <a:gd name="textAreaRight" fmla="*/ 2424600 w 3232800"/>
                <a:gd name="textAreaTop" fmla="*/ 379080 h 1515960"/>
                <a:gd name="textAreaBottom" fmla="*/ 1137240 h 15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dfd6c3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Black"/>
                </a:rPr>
                <a:t>Gerente do Proje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17800" y="1371600"/>
              <a:ext cx="2200680" cy="785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Parte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 Black"/>
                </a:rPr>
                <a:t>Interesses de 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 Black"/>
                </a:rPr>
                <a:t>Expectativas 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560" y="3785760"/>
              <a:ext cx="2200680" cy="785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Parte 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 Black"/>
                </a:rPr>
                <a:t>Interesses de 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 Black"/>
                </a:rPr>
                <a:t>Expectativas 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37680" y="2494440"/>
              <a:ext cx="2201040" cy="78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Parte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 Black"/>
                </a:rPr>
                <a:t>Interesses de 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 Black"/>
                </a:rPr>
                <a:t>Expectativas 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495680" y="4724280"/>
            <a:ext cx="1067040" cy="1219320"/>
          </a:xfrm>
          <a:prstGeom prst="downArrow">
            <a:avLst>
              <a:gd name="adj1" fmla="val 50000"/>
              <a:gd name="adj2" fmla="val 28568"/>
            </a:avLst>
          </a:prstGeom>
          <a:solidFill>
            <a:srgbClr val="dfd6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Solu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5943600"/>
            <a:ext cx="4114800" cy="68580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Black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581280"/>
            <a:ext cx="288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enciar as expectativas das partes envolvidas pode ser uma tarefa difícil, devido aos interesses individuais de cada parte. Os interesses, objetivos das diversas partes podem entrar em confli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4038480"/>
            <a:ext cx="25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contrar soluções apropriadas para tais divergência é um desafio para o ger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B2F7-A391-4F1C-A363-50B614F3F8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482400"/>
                </a:solidFill>
                <a:latin typeface="Arial,Bold"/>
              </a:rPr>
              <a:t>2.3 Influências organizacionai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A maturidade da organização em relação ao seu sistema de gerenciamento de projetos, sua cultura, seu estilo, sua estrutura organizacional e seu escritório de projetos influencia o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Estruturas funcionais, projetizadas, matriciais e outras híbridas estabelecem limites para a autoridade, responsabilidade, comunicação e outros fatores que facilitam ou não a gestão do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D9E8-5870-46DC-8969-721AF88A53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Introduçã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C14D9-EE5E-4D5F-BFE6-DF2101AE51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PMBOK 3ª Edição</a:t>
            </a:r>
            <a:br>
              <a:rPr sz="4400"/>
            </a:br>
            <a:r>
              <a:rPr b="0" lang="pt-BR" sz="4400" spc="-1" strike="noStrike">
                <a:solidFill>
                  <a:srgbClr val="4824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Ciclo de vida e organização do proje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9D1BD-DB1B-4292-8C77-FD27EB03E4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482400"/>
                </a:solidFill>
                <a:latin typeface="Arial,Bold"/>
                <a:ea typeface="Times New Roman"/>
              </a:rPr>
              <a:t>Ciclo de vida e organização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2.1 O ciclo de vida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2.2 Participantes interessados no proje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2.3 Influências organizaciona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D9E4-3734-4369-89D8-1A88C3C9E1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482400"/>
                </a:solidFill>
                <a:latin typeface="Arial,Bold"/>
              </a:rPr>
              <a:t>2.1 O ciclo de vida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A organização ou os gerentes de projetos podem dividir projetos em fases para oferecer melhor controle gerencial com ligações adequadas com as operações em andamento da organização executo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Coletivamente, essas fases são conhecidas como o ciclo de vida do proje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Muitas organizações identificam um conjunto específico de ciclos de vida para serem usados em todos os seus proje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52F0-FFF2-48AF-ACA7-152ADC6193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482400"/>
                </a:solidFill>
                <a:latin typeface="Arial,Bold"/>
              </a:rPr>
              <a:t>O ciclo de vida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ta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balho técnico a ser realizado em cada f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em deve estar envolvido em cada f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24080" y="3048120"/>
            <a:ext cx="3276720" cy="1143000"/>
            <a:chOff x="3124080" y="3048120"/>
            <a:chExt cx="3276720" cy="1143000"/>
          </a:xfrm>
        </p:grpSpPr>
        <p:sp>
          <p:nvSpPr>
            <p:cNvPr id="99" name=""/>
            <p:cNvSpPr/>
            <p:nvPr/>
          </p:nvSpPr>
          <p:spPr>
            <a:xfrm>
              <a:off x="3124080" y="3048120"/>
              <a:ext cx="3276720" cy="114300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F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24280" y="3429000"/>
              <a:ext cx="1295640" cy="6094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Trabalh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209680" y="5257800"/>
            <a:ext cx="5410440" cy="1143000"/>
            <a:chOff x="2209680" y="5257800"/>
            <a:chExt cx="5410440" cy="1143000"/>
          </a:xfrm>
        </p:grpSpPr>
        <p:sp>
          <p:nvSpPr>
            <p:cNvPr id="102" name=""/>
            <p:cNvSpPr/>
            <p:nvPr/>
          </p:nvSpPr>
          <p:spPr>
            <a:xfrm>
              <a:off x="2209680" y="5257800"/>
              <a:ext cx="5410440" cy="114300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F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00600" y="5638680"/>
              <a:ext cx="2362320" cy="5335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Partes Envolvi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E794-C443-4A84-B3EC-5EB91AACF4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482400"/>
                </a:solidFill>
                <a:latin typeface="Arial,Bold"/>
              </a:rPr>
              <a:t>2.1.1 Os ciclos de vida do projeto define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1766880"/>
            <a:ext cx="753588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Que trabalho técnico deve ser realizado na f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NewRoman"/>
              </a:rPr>
              <a:t>exemplo: em qual fase deve ser realizado o trabalho do arquite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Quando as entregas devem ser geradas em cada fase e como cada entrega é revisada, verificada e valid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Quem está envolvido em cada f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NewRoman"/>
              </a:rPr>
              <a:t>exemplo: a engenharia simultânea exige que os implementadores estejam envolvidos com os requisitos e o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Como controlar e aprovar cada f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E6CD-0F9A-4891-BD05-56B942415C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482400"/>
                </a:solidFill>
                <a:latin typeface="Arial,Bold"/>
              </a:rPr>
              <a:t>2.1.2 Características das fases do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66520"/>
            <a:ext cx="77644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O término e a aprovação de um ou mais produtos caracteriza uma fase do proje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Produto  - o resultado mensurável e verificável do trabalho, como uma especificação, um relatório de estudo de viabilidade, um documento de projeto detalhado ou um protótip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NewRoman"/>
              </a:rPr>
              <a:t>Os produtos e, portanto, as fases fazem parte de um processo geralmente seqüencial criado para garantir o controle adequado do projeto e para conseguir o produto ou serviço desejado, que é o objetivo do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8C90-0808-4D81-AEA6-61F77B14A5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482400"/>
                </a:solidFill>
                <a:latin typeface="Arial,Bold"/>
              </a:rPr>
              <a:t>Seqüência típica de fases no ciclo de vida de um proje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62000" y="1984320"/>
          <a:ext cx="776916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984320"/>
                    <a:ext cx="77691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295280" y="5867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82400"/>
                </a:solidFill>
                <a:latin typeface="Arial,Bold"/>
              </a:rPr>
              <a:t>Figura 2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CA7C-55A7-4843-A1FC-52177B9E64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01:07:00Z</dcterms:created>
  <dc:creator>HKS</dc:creator>
  <dc:description/>
  <dc:language>en-US</dc:language>
  <cp:lastModifiedBy>HKS</cp:lastModifiedBy>
  <dcterms:modified xsi:type="dcterms:W3CDTF">2005-11-28T20:16:02Z</dcterms:modified>
  <cp:revision>21</cp:revision>
  <dc:subject/>
  <dc:title>PMBOK 3ª Edição I</dc:title>
</cp:coreProperties>
</file>