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38C-A46C-4FB5-8A14-100D8C0BD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1640" y="43063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43E6-2D7E-4A01-B750-B056B0D2D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8EC5-F225-4832-90EA-8929B9962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820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12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164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820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12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8373-42C4-4FD4-8B3A-EA15CA5DD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8A8A-C059-47A3-96DB-5AF8960D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6A555-0A71-4F27-A8E8-C495BC47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342D-6E5D-442C-9D15-3C58CDA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8C485-79C9-4731-B4D7-160F7B6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8DD1-6646-48B0-881A-4397FFF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D5CE2-BCC5-4271-8763-A9EEBDAE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2F68A-FF1C-40D2-B7A4-A9C6E0C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85DE-385C-436E-86C0-515567FF1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288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A3F2-EF9F-4CB3-A44D-436A327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88DA-8FBB-4C5D-BFA0-5931CB1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1640" y="43063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CDEBF-33DB-4BEE-8535-CE551B4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288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0A468-7537-4915-A73E-262ED817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820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120" y="17665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164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820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120" y="4306320"/>
            <a:ext cx="2501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B89F9-6337-48F2-9B5F-01AECF5E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EA50-967D-4DE7-BF91-7C1C845EA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4AAF-356E-4383-9FE1-6CBC2C59C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E2AE-72B6-4CD5-951E-2BBDA31C7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B807-2288-469A-88D9-3AD6A1D65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807A-50BA-4E9A-8DD0-9DA696BAF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43063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9CEB-816E-4CB7-9116-060C06E48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520"/>
            <a:ext cx="3791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4306320"/>
            <a:ext cx="77691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8230-6935-47E5-9ABB-BE8E5A55E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960" y="6324480"/>
            <a:ext cx="53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189D-B3A0-4D43-B336-A6F8492D2E4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97B-F56A-4543-916F-DF108E7EEE2F}" type="slidenum">
              <a:rPr b="0" lang="pt-B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6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A norma de gerenciamento de projetos de um projet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8AC7-8966-4FF6-809E-19BB85A017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rocessos do grupo Inicia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Desenvolver o termo de abertura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Este processo trata principalmente da autorização do projeto ou, em um projeto com várias fases, de uma fase do projeto. É o processo necessário para documentação das necessidades de negócios e do novo produto, serviço ou outro resultado que deve satisfazer esses requisi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A elaboração desse termo de abertura liga o projeto ao trabalho em andamento da organização e autoriza 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FCC-3A2C-4258-B5F6-D0710DDCB9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rocessos do grupo Inicia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senvolver a declaração do escopo preliminar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Produzir uma definição preliminar de alto nível do projeto usando o termo de abertura do projeto junto com outras entradas para os processos de inicia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Este processo aborda e documenta os requisitos do projeto e da entrega, os requisitos do produto, os limites do projeto, os métodos de aceitação e o controle de alto nível do escop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381C-E917-4686-813E-55D3A9828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senvolver o plano de gerenciamento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Definir, preparar, integrar e coordenar todos os planos auxiliares em um plano de gerenciamento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 plano de gerenciamento do projeto se torna a principal fonte de informações de como o projeto será planejado, executado, monitorado e controlado, e encer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8BED-83D0-466C-9605-30F1F9289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Criar um plano de gerenciamento do escopo do projeto que documenta como o escopo do projeto será definido, verificado e controlado e como a estrutura analítica do projeto será criada e defin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finição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Desenvolver uma declaração do escopo detalhada do projeto como base para futuras decisões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F265-35D9-4322-B689-BB8CBF746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riar Estrutura Analítica do Projeto (E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Subdividir as principais entregas do projeto e do trabalho do projeto em componentes menores e mais facilmente gerenci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finição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Identificar as atividades específicas que precisam ser realizadas para produzir as várias entregas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975F-8F92-42EC-BFBE-C88EBD0C89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Seqüenciamento de a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Identificar e documentar as dependências entre as atividades do cron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stimativa de recursos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imar o tipo e as quantidades de recursos necessários para realizar cada atividade do cron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2353-3E49-48C6-8558-B1CB7577C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stimativa de duração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imar o número de períodos de trabalho que serão necessários para terminar atividades do cronograma especí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senvolvimento do cron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Analisar os recursos necessários, restrições do cronograma, durações e seqüências de atividades para criar o cronograma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2D0C-B3E8-4A1D-A72B-527FFA3033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stimativa de 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desenvolver uma aproximação dos custos dos recursos necessários para terminar as atividades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Orça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agregar os custos estimados de atividades individuais ou pacotes de trabalho para estabelecer uma linha de base dos cu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A7B6-D21C-4E83-B57A-F34A72CDA1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Identificar os padrões de qualidade relevantes para o projeto e determinar como os satisfaz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Identificar e documentar funções, responsabilidades e relações hierárquicas do projeto, além de criar o plano de gerenciamento de pess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7C6C-EC75-4A80-A487-BB1789647D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as comun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Determinar as necessidades de informação e de comunicação das partes interessadas n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o gerenciamento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Decidir como abordar, planejar e executar as atividades de gerenciamento de riscos de um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037D-37AD-4A8E-8238-259C13F012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Processos de gerenciamento de projetos de um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481EC-47FD-433B-9330-A34BBCB915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Identificação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Determinar os riscos que podem afetar o projeto e documentar suas caracterís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Análise qualitativa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Priorizar riscos para análise ou ação adicional subseqüente através de avaliação e combinação de sua probabilidade de ocorrência e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60E1-9A1D-4E27-A188-197C138FDC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Análise quantitativa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Analisar numericamente o efeito dos riscos identificados nos objetivos gerais d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mento de respostas a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Desenvolver opções e ações para aumentar as oportunidades e reduzir as ameaças aos objetivos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1B03-4A90-4B4F-9259-2090FDED23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planej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r compras e aquis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determinar o que comprar ou adquirir e quando e como fazer is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lanejar contrat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documentar os requisitos de produtos, serviços e resultados e identificar possíveis fornece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7003-7FD0-4C81-AC5A-A8B365638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execu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Orientar e gerenciar a execução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rientar as diversas interfaces técnicas e organizacionais que existem no projeto para executar o trabalho definido no plano de gerenciamento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As entregas são produzidas como saídas dos processos realizados conforme definido no plano de gerenciamento do projeto. Informações sobre a situação atual das entregas e sobre a quantidade de trabalho realizado são coletadas como parte da execução do projeto e como entradas para o processo de relatório de desempen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C36D-4AE9-4F5A-BB89-939E2EB832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execu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Realizar a garantia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Aplicar as atividades de qualidade planejadas e sistemáticas para garantir que o projeto emprega todos os processos necessários para atender aos requi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ontratar ou mobilizar a equipe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bter os recursos humanos necessários para terminar 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7EDD-A72F-4B9C-BDF5-DB5EAA6222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execu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esenvolver a equipe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Melhorar as competências e a interação de membros da equipe para aprimorar o desempenho d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Distribuição das inform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Colocar as informações à disposição das partes interessadas no projeto no momento oport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D9F0-5E19-4713-B990-CCFE18B23B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execuçã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Solicitar respostas de fornec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obter informações, cotações, licitações, ofertas ou propo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Selecionar fornec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revisar ofertas, escolher entre possíveis fornecedores e negociar um contrato por escrito com o fornece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C2A3-A225-4726-8E3B-35D6EB4BBA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 monitoramento das atividades em andamento do projeto em relação ao plano de gerenciamento do projeto e à linha de base do desempenho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 controle dos fatores que poderiam dificultar o controle integrado de mudanças de forma que somente mudanças aprovadas sejam implement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6ABE-0FDD-4116-BCB7-BCC9432FB3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Monitorar e controlar o trabalho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Coletar, medir e disseminar informações sobre o desempenho, avaliar as medições e as tendências para efetuar melhorias no proce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Inclui o monitoramento de riscos para garantir que sejam identificados no início, que o andamento seja relatado e que planos de risco estejam sendo execut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 monitoramento inclui emissão de relatórios de andamento, medição do progresso e previs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F21F-73D8-486C-B1BA-4A9D7D9BBE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ontrole integrado de muda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Controlar os fatores que criam mudanças para garantir que essas mudanças sejam benéficas, determinar se elas ocorreram e gerenciar as aprov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se processo é realizado durante todo o projeto, desde a iniciação até o seu encerr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F8FF-D8FA-43F3-9C8F-04FF642D32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Processos de gerenciamento de projetos de um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1 Processos de gerenciamento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2 Grupos de processos de gerenciamento d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3 Interações entre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.4 Mapeamento do processo de gerenciamento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B4B7-ADB4-4383-A05D-821BC0AD1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Verificação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Formalizar a aceitação das entregas do projeto term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ontrole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Controlar as mudanças feitas no escopo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ontrole do cron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Controlar as mudanças 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    feitas no cron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867280" y="4800600"/>
            <a:ext cx="2724120" cy="1725480"/>
            <a:chOff x="5867280" y="4800600"/>
            <a:chExt cx="2724120" cy="17254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5867280" y="4800600"/>
              <a:ext cx="27241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 txBox="1"/>
            <p:nvPr/>
          </p:nvSpPr>
          <p:spPr>
            <a:xfrm>
              <a:off x="5867280" y="4800600"/>
              <a:ext cx="2724120" cy="17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6480" rIns="96480" tIns="48240" bIns="48240" anchor="t">
              <a:noAutofit/>
            </a:bodyPr>
            <a:p>
              <a:pPr marL="358920" indent="-358920">
                <a:lnSpc>
                  <a:spcPct val="100000"/>
                </a:lnSpc>
                <a:spcBef>
                  <a:spcPts val="825"/>
                </a:spcBef>
                <a:buClr>
                  <a:srgbClr val="d69b80"/>
                </a:buClr>
                <a:buSzPct val="75000"/>
                <a:buFont typeface="Monotype Sorts" charset="2"/>
                <a:buChar char=""/>
                <a:tabLst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9EB7-8C07-41E2-AC19-2768574DCA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Controle de 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 processo de influenciar os fatores que criam as variações e controlar as mudanças no orçamento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Realizar o controle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Monitorar resultados específicos do projeto a fim de determinar se eles estão de acordo com os padrões relevantes de qualidade e identificar maneiras de eliminar as causas de um desempenho insatisfató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A907-1BB4-498F-9939-FD52D8E3AF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Gerenciar a equipe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Acompanhar o desempenho de membros da equipe, fornecer </a:t>
            </a:r>
            <a:r>
              <a:rPr b="0" i="1" lang="pt-BR" sz="3200" spc="-1" strike="noStrike">
                <a:solidFill>
                  <a:srgbClr val="000000"/>
                </a:solidFill>
                <a:latin typeface="TimesNewRoman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, resolver problemas e coordenar mudanças para melhorar o desempenho d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Relatório de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Coletar e distribuir informações sobre o desempenho. Isso inclui relatório de andamento, medição do progresso e previ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C44D-EFFA-4477-9B7B-ADC950F6FA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Gerenciar as partes interess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Gerenciar a comunicação a fim de satisfazer os requisitos das partes interessadas no projeto e resolver problemas com 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Monitoramento e controle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Acompanhar os riscos identificados, monitorar os residuais, identificar novos riscos, executar planos de respostas a riscos e avaliar sua eficiência durante todo o ciclo de vida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26E1-7D77-442E-BF8C-514C4A00FD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monitoramento e contr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624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Administração de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Este é o processo necessário para gerenciar o contrato e a relação entre o comprador e o fornecedor, analisar e documentar o desempenho atual ou passado de um fornecedor e, quando adequado, gerenciar a relação contratual com o comprador externo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4C40-F53C-4C99-B3D1-3E8E88B8A1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Processos do grupo de encerramen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ncerrar 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Finalizar todas as atividades em todos os grupos de processos para encerrar formalmente o projeto ou uma fase d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ncerramento do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Terminar e liquidar cada contrato, inclusive a resolução de quaisquer itens em aberto, e encerrar cada contrato aplicável ao projeto ou a uma de suas f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E128-14CC-4085-97D4-9AE6361E45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Interações entre process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s grupos de processos de gerenciamento de projetos estão ligados pelos objetivos que produzem. Em geral, as saídas de um processo se tornam entradas para outro ou são entregas do proj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Quando um projeto é dividido em fases, os grupos de processos são normalmente repetidos dentro de cada fase, durante toda a vida do projeto, para conduzir o projeto ao seu término de modo efica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4A6E-608B-432B-A438-639E84D519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Interações entre process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1741320"/>
          <a:ext cx="8381880" cy="493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41320"/>
                    <a:ext cx="838188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8601-31B5-4CF7-AAAC-21EAE08FCF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rojeto dividido em f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1474920"/>
          <a:ext cx="7086600" cy="53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474920"/>
                    <a:ext cx="708660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3EA8-EA74-4F45-9339-2DA87847CA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As áreas de conhecimento em gerenciamento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43A37-F200-4091-9224-34C4EFE691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3.1 Processos de gerenciamento de projet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167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O gerenciamento de projetos é realizado através de </a:t>
            </a:r>
            <a:r>
              <a:rPr b="1" lang="pt-BR" sz="3200" spc="-1" strike="noStrike">
                <a:solidFill>
                  <a:srgbClr val="000000"/>
                </a:solidFill>
                <a:latin typeface="TimesNewRoman"/>
              </a:rPr>
              <a:t>processos</a:t>
            </a: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, usando conhecimento, habilidades, ferramentas e técnicas do gerenciamento de projetos que recebem entradas e geram saí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NewRoman"/>
              </a:rPr>
              <a:t>São  tarefas da equipe do proj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B251-C537-4E3B-8FAE-E5425684B6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Introdu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"/>
                <a:ea typeface="Arial"/>
              </a:rPr>
              <a:t>Fluxogramas de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"/>
                <a:ea typeface="Arial"/>
              </a:rPr>
              <a:t>Principais documentos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D49AF-799D-4224-B8E5-9BD1D357F7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integração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D16E3-8C38-48EF-B346-8DABEF8B3D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integração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1 Desenvolver o termo de abertura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2 Desenvolver a declaração do escopo preliminar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3 Desenvolver o plano de gerenciamento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4 Orientar e gerenciar a execução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5 Monitorar e controlar o trabalho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6 Controle integrad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7 Encerrar o projet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CAAB-9014-4D21-BA26-3E464010B0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o escopo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D24FA-8F37-486F-94E3-DF463E81B0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o escopo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1 Planejamento do esco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2 Definição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 Criar 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 Verificação do e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 Controle do esco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910F-00DF-4F0B-9D69-DFD8F7240D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tempo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F4BBA-C1CE-4150-AA30-5D99B45228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tempo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1 Definição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2 Seqüenciamento de a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3 Estimativa de recursos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4 Estimativa de duração da a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5 Desenvolvimento do cron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6 Controle do cronograma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4E2C-592C-46C2-AED3-433D187A7F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custos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B241-12ED-4D9B-BF39-6E0BE10C62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custo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7.1 Estimativa de 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7.2 Orçamen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7.3 Controle de custo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6C5C-E65B-442D-A43B-470F8A2517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a qualidade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C9CB1-905D-4543-922A-B2503A25AA3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  <a:ea typeface="Arial"/>
              </a:rPr>
              <a:t>3.1 Processos de gerenciamento de projet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Selecionar os processos adequados dentro dos grupos de processos de gerenciamento de projetos necessários para atender aos objetivos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Usar uma abordagem definida para adaptar os planos e as especificações do produto de forma a atender aos requisitos do produto e do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Balancear as demandas conflitantes de escopo, tempo, custo, qualidade, recursos e risco para produzir um produto de qu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BF07-D868-4363-BF6B-98FF3C849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a qualidade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8.1 Planejamento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8.2 Realizar a garantia da qual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8.3 Realizar o controle da qual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1662-59BB-48B2-9170-51BC8E1A73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recursos humanos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03AB-0259-493C-AD99-B10485BD4E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recursos humano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9.1 Planejamento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9.2 Contratar ou mobilizar a equipe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9.3 Desenvolver a equipe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9.4 Gerenciar a equipe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5737-F747-4E36-B5DB-803D1A4EA7E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as comunicações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31C8A-DE0F-417F-A3A6-E2DD1ACB96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as comunicaçõe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.1 Planejamento das comun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.2 Distribuição das inform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.3 Relatório de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.4 Gerenciar as partes interessada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AC26-17F5-494D-A39D-3AC97537F8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riscos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DAB27-BF2C-4595-8E19-5F72A345B8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risco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1 Planejamento do gerenciamento de ris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2 Identificação de ris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3 Análise qualitativa de ris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4 Análise quantitativa de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5 Planejamento de respostas a 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1.6 Monitoramento e controle de risco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CDE3-7BBD-42F8-8B97-CCF185C0A2A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Gerenciamento de aquisições do proje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665F-5ABB-4434-A026-F40F465D00E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Gerenciamento de aquisiçõe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1 Planejar compras e aquisi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2 Planejar contrat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3 Solicitar respostas de fornec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4 Selecionar fornecedo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5 Administração de con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2.6 Encerramento do cont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E80D-1EE8-4FAD-9B76-9CD22558FA0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NewRoman"/>
              </a:rPr>
              <a:t>O ciclo PDCA (plan-do-check-act - planejar-fazer-verificar-agi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O Grupo de processos de planejamento corresponde ao componente “planejar” do ciclo PDC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A execução corresponde ao componente “faz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Os processos de monitoramento e controle corresponde aos componentes verificar e ag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07160" y="1523880"/>
          <a:ext cx="24368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7160" y="1523880"/>
                    <a:ext cx="2436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85800" y="4336920"/>
            <a:ext cx="8229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Além disso, como o gerenciamento de um projeto é um esforço finito, o Grupo de processos de iniciação inicia esses ciclos e o de encerramento os finaliza. A natureza integradora do gerenciamento de projetos exige a interação do Grupo de processos de monitoramento e controle com todos os aspectos dos outros grupos de proces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A52C-E34A-4723-96EE-ED1337100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82400"/>
                </a:solidFill>
                <a:latin typeface="Arial,Bold"/>
              </a:rPr>
              <a:t>Mapeamento entre os grupos de processos de gerenciamento de projetos e o ciclo PDC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712880"/>
          <a:ext cx="8153640" cy="50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712880"/>
                    <a:ext cx="81536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C79-7F80-4383-8378-F187246D2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NewRoman"/>
              </a:rPr>
              <a:t>Os cinco grupos de processo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8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Iniciação. </a:t>
            </a: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Define e autoriza o projeto ou uma f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Planejamento. </a:t>
            </a: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Define e refina os objetivos e planeja a ação necess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Execução. </a:t>
            </a: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Integra pessoas e outros recursos para realizar o plano de gerenciamento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Monitoramento e controle. </a:t>
            </a: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Mede e monitora regularmente o progresso para identificar variações em relação ao plano de gerenciamento do projeto, de forma que possam ser tomadas ações corre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NewRoman,Bold"/>
              </a:rPr>
              <a:t>Encerramento. </a:t>
            </a: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Formaliza a aceitação do produto, serviço ou resultado e conduz o projeto ou uma fase do projeto a um final orde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0A23-FBAA-4D9A-8C0B-11DAF9CC5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Arial,Bold"/>
              </a:rPr>
              <a:t>Limite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278080"/>
          <a:ext cx="8381880" cy="38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78080"/>
                    <a:ext cx="838188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AF5F-D431-4A13-BDF3-54DFFE4B4A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01:07:00Z</dcterms:created>
  <dc:creator>HKS</dc:creator>
  <dc:description/>
  <dc:language>en-US</dc:language>
  <cp:lastModifiedBy>HKS</cp:lastModifiedBy>
  <dcterms:modified xsi:type="dcterms:W3CDTF">2005-12-15T19:29:20Z</dcterms:modified>
  <cp:revision>34</cp:revision>
  <dc:subject/>
  <dc:title>PMBOK 3ª Edição I</dc:title>
</cp:coreProperties>
</file>