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A7EFB-0ABE-482E-8540-5A213DA37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8AA5C-F1B7-4EC9-AB6E-6B907F460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762C0-014C-4E9B-97DC-E5D710102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73357-6483-4432-9DE2-008FE0316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7A35C-FA5E-427F-B986-0751EA6AF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CA0DF-928B-455E-BB4A-DF55C1543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E58B4-DC84-4842-A09A-0849B905E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3808C-933A-4939-957E-041D6A863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45930-7DD2-45E3-9CE2-67A689057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DCB5C-88D0-4AE4-A8B2-01735B298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33E89-F578-4FA1-9869-FE2A39D9B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2705-E469-4278-9DCD-A27CE2EBB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81DA-B69B-41D1-83CC-2B8390DE6E9F}"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 supply 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buildings which are more than 6-storeys should use indirect supply system. We think that the Sump and pump system is more suitable for our commercial buildings which has 40-storey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Sump and pump syste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ter sump tank located on G/F or basement. A set of duty and standby transfer pump  transfer the water to the roof water tank for stora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ater meters, including vacant meter positions and check meter positions, shall be arranged in groups and housed in meter rooms or meter boxes. The meter room shall be used solely for housing the water meters to protect them against exposure to weather, falling objects and other undue external interferenc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zoning of high-rise buildings can be considered at 10 to 20 floor intervals to provide pressure balancing devices. Because the supply pressure at the draw-off points shall be kept below 400kPa.So we set the pressure reducing value set on 18/F.</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commercial building, the meter size is determined based on the actual water consump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2282760" y="260280"/>
          <a:ext cx="4633920" cy="6597720"/>
        </p:xfrm>
        <a:graphic>
          <a:graphicData uri="http://schemas.openxmlformats.org/presentationml/2006/ole">
            <p:oleObj r:id="rId1" spid="">
              <p:embed/>
              <p:pic>
                <p:nvPicPr>
                  <p:cNvPr id="46" name="" descr=""/>
                  <p:cNvPicPr/>
                  <p:nvPr/>
                </p:nvPicPr>
                <p:blipFill>
                  <a:blip r:embed="rId2"/>
                  <a:stretch/>
                </p:blipFill>
                <p:spPr>
                  <a:xfrm>
                    <a:off x="2282760" y="260280"/>
                    <a:ext cx="463392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acity of the roof tank </a:t>
            </a:r>
            <a:br>
              <a:rPr sz="4000"/>
            </a:br>
            <a:r>
              <a:rPr b="0" lang="en-US" sz="4000" spc="-1" strike="noStrike">
                <a:solidFill>
                  <a:srgbClr val="000000"/>
                </a:solidFill>
                <a:latin typeface="Arial"/>
              </a:rPr>
              <a:t>and sump tank</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Total no. of W.C. install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48x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W.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Total flush water requi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x 4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lit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The capacity of the roof tan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x3/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lit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The capacity of the sump tan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x1/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zh-TW" sz="2000" spc="-1" strike="noStrike">
                <a:solidFill>
                  <a:srgbClr val="000000"/>
                </a:solidFill>
                <a:latin typeface="Arial"/>
              </a:rPr>
              <a:t>=?????lit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Ref : http://www.wsd.gov.hk/en/html/pdf/HBonPIB.pd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0T18:05:42Z</dcterms:created>
  <dc:creator>ERIC</dc:creator>
  <dc:description/>
  <dc:language>en-US</dc:language>
  <cp:lastModifiedBy>ERIC</cp:lastModifiedBy>
  <dcterms:modified xsi:type="dcterms:W3CDTF">2006-12-10T19:15:31Z</dcterms:modified>
  <cp:revision>2</cp:revision>
  <dc:subject/>
  <dc:title>Water supply system</dc:title>
</cp:coreProperties>
</file>