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DEEC2-85B4-47C8-B9D3-FB994565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C4DCB-4382-462D-AE24-6064BDC3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8B215-CBA1-4CD8-8AC0-07ABD3A54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ABC2C-A560-4465-8F18-0F54C8BA6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F271-D6CE-42C9-8AFA-0673273B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A29D-DF27-4EED-9F46-78B1F037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1A34-168F-49B3-A42B-617F6B8F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F6AE-52CD-4B35-B07C-FD9428BF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5190-3E52-47BD-820F-8B7DB0BC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C7A3-5428-426C-9106-3ED200C9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AF0D-ECE3-4297-A10D-43EDEFBB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D5BF9-253C-4C6C-8A5C-9E24453B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9A7C-D8F4-4C3D-94A3-32EB959A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6EF6-8D77-42FA-8996-F6BAF509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2825-57F3-4DB2-9BF6-FBD6B0BB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D35E-26BA-4EF1-9B5E-5C43394D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3BA7-6B00-4AE9-AA6F-4FECDABB0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29ECE-207A-4693-AE43-65D60EBC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3B48D-2621-43CC-9BD4-A38E618E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9A7B7-0BB7-459E-8B08-F3A3F861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67FFD-E1DA-484B-B720-07311D0E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6E42D-6138-41B5-83C4-49E45878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858D0-8F09-4BE1-A92F-1101F83A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B35C3-F146-45A6-8012-074168B9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1FE7-D6E1-4C01-8982-A58708263AA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94DA-7FCD-4FA3-A3C4-96CEE10C238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picc.com.cn/" TargetMode="External"/><Relationship Id="rId2" Type="http://schemas.openxmlformats.org/officeDocument/2006/relationships/hyperlink" Target="http://big5.ce.cn/zhuanti/2003rd/baoxian/####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1793520"/>
            <a:ext cx="91440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cc"/>
                </a:solidFill>
                <a:latin typeface="Tahoma"/>
              </a:rPr>
              <a:t>WTO</a:t>
            </a:r>
            <a:r>
              <a:rPr b="1" lang="zh-TW" sz="6000" spc="-1" strike="noStrike">
                <a:solidFill>
                  <a:srgbClr val="ffffcc"/>
                </a:solidFill>
                <a:latin typeface="Tahoma"/>
              </a:rPr>
              <a:t>對保險業的影響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中國人民保險公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Tahoma"/>
              </a:rPr>
              <a:t>組員</a:t>
            </a:r>
            <a:r>
              <a:rPr b="0" lang="zh-TW" sz="16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zh-TW" sz="1600" spc="-1" strike="noStrike">
                <a:solidFill>
                  <a:srgbClr val="ffffff"/>
                </a:solidFill>
                <a:latin typeface="Tahoma"/>
              </a:rPr>
              <a:t>司徒凱倫</a:t>
            </a:r>
            <a:r>
              <a:rPr b="0" lang="zh-TW" sz="1600" spc="-1" strike="noStrike">
                <a:solidFill>
                  <a:srgbClr val="ffffff"/>
                </a:solidFill>
                <a:latin typeface="Tahoma"/>
              </a:rPr>
              <a:t>5039865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Tahoma"/>
              </a:rPr>
              <a:t>陳明林</a:t>
            </a:r>
            <a:r>
              <a:rPr b="0" lang="zh-TW" sz="1600" spc="-1" strike="noStrike">
                <a:solidFill>
                  <a:srgbClr val="ffffff"/>
                </a:solidFill>
                <a:latin typeface="Tahoma"/>
              </a:rPr>
              <a:t>5043502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Tahoma"/>
              </a:rPr>
              <a:t>蘇倩儀</a:t>
            </a:r>
            <a:r>
              <a:rPr b="0" lang="zh-TW" sz="1600" spc="-1" strike="noStrike">
                <a:solidFill>
                  <a:srgbClr val="ffffff"/>
                </a:solidFill>
                <a:latin typeface="Tahoma"/>
              </a:rPr>
              <a:t>5044728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Tahoma"/>
              </a:rPr>
              <a:t>崔</a:t>
            </a:r>
            <a:r>
              <a:rPr b="0" lang="zh-TW" sz="1600" spc="-1" strike="noStrike">
                <a:solidFill>
                  <a:srgbClr val="ffffff"/>
                </a:solidFill>
                <a:latin typeface="Tahoma"/>
              </a:rPr>
              <a:t>5047588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Tahoma"/>
              </a:rPr>
              <a:t>5038759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85800" y="-98280"/>
            <a:ext cx="7772400" cy="7054200"/>
            <a:chOff x="685800" y="-98280"/>
            <a:chExt cx="7772400" cy="7054200"/>
          </a:xfrm>
        </p:grpSpPr>
        <p:sp>
          <p:nvSpPr>
            <p:cNvPr id="129" name=""/>
            <p:cNvSpPr/>
            <p:nvPr/>
          </p:nvSpPr>
          <p:spPr>
            <a:xfrm>
              <a:off x="685800" y="-98280"/>
              <a:ext cx="457200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34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685800" y="647640"/>
              <a:ext cx="7772400" cy="6308280"/>
              <a:chOff x="685800" y="647640"/>
              <a:chExt cx="7772400" cy="6308280"/>
            </a:xfrm>
          </p:grpSpPr>
          <p:sp>
            <p:nvSpPr>
              <p:cNvPr id="131" name=""/>
              <p:cNvSpPr/>
              <p:nvPr/>
            </p:nvSpPr>
            <p:spPr>
              <a:xfrm>
                <a:off x="685800" y="647640"/>
                <a:ext cx="4572000" cy="630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85800" y="647640"/>
                <a:ext cx="77724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56000" y="2997360"/>
            <a:ext cx="403848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cc"/>
                </a:solidFill>
                <a:latin typeface="Tahoma"/>
              </a:rPr>
              <a:t>WTO</a:t>
            </a:r>
            <a:r>
              <a:rPr b="1" lang="zh-TW" sz="4600" spc="-1" strike="noStrike">
                <a:solidFill>
                  <a:srgbClr val="ffffcc"/>
                </a:solidFill>
                <a:latin typeface="Tahoma"/>
              </a:rPr>
              <a:t>承諾有利於國內保險公司</a:t>
            </a:r>
            <a:endParaRPr b="0" lang="en-US" sz="4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中國對外仍多限制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ffffcc"/>
                </a:solidFill>
                <a:latin typeface="Tahoma"/>
              </a:rPr>
              <a:t>中國人民保險公司的弱勢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68360" y="2349360"/>
            <a:ext cx="45468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人力資源問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內部架構問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條例及體制落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保險從業員缺乏訓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3628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00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zh-TW" sz="3800" spc="-1" strike="noStrike">
                <a:solidFill>
                  <a:srgbClr val="ffffcc"/>
                </a:solidFill>
                <a:latin typeface="Tahoma"/>
              </a:rPr>
              <a:t>人力資源問題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362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外資公司資金龐大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負出很高的薪酬去聘請有經驗的保險人員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中國人保流失了不少人材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3645000"/>
            <a:ext cx="502920" cy="358560"/>
          </a:xfrm>
          <a:prstGeom prst="rightArrow">
            <a:avLst>
              <a:gd name="adj1" fmla="val 50000"/>
              <a:gd name="adj2" fmla="val 3506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fffcc"/>
                </a:solidFill>
                <a:latin typeface="Tahoma"/>
              </a:rPr>
              <a:t>內部架構問題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915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屬於國有企業的公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傳統問題 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-- 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透明度比較低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-- 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偏於低風險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未有很大的突破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發展比較緩慢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5229360"/>
            <a:ext cx="503280" cy="358560"/>
          </a:xfrm>
          <a:prstGeom prst="rightArrow">
            <a:avLst>
              <a:gd name="adj1" fmla="val 50000"/>
              <a:gd name="adj2" fmla="val 3509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fffcc"/>
                </a:solidFill>
                <a:latin typeface="Tahoma"/>
              </a:rPr>
              <a:t>條例及體制落後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中國人保只有五十年歷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產品和服務方面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與外資公司差距很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保險法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的條例仍不健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賠償的手續十分復雜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4365720"/>
            <a:ext cx="503280" cy="358560"/>
          </a:xfrm>
          <a:prstGeom prst="rightArrow">
            <a:avLst>
              <a:gd name="adj1" fmla="val 50000"/>
              <a:gd name="adj2" fmla="val 3509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fffcc"/>
                </a:solidFill>
                <a:latin typeface="Tahoma"/>
              </a:rPr>
              <a:t>保險從業員缺乏訓練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推銷技術不成熟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未能達到專業化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對保險推銷員覺得反感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破壞了中國人保的國際聲譽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4797360"/>
            <a:ext cx="503280" cy="358920"/>
          </a:xfrm>
          <a:prstGeom prst="rightArrow">
            <a:avLst>
              <a:gd name="adj1" fmla="val 50000"/>
              <a:gd name="adj2" fmla="val 3505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6920" y="3716280"/>
            <a:ext cx="503280" cy="358920"/>
          </a:xfrm>
          <a:prstGeom prst="rightArrow">
            <a:avLst>
              <a:gd name="adj1" fmla="val 50000"/>
              <a:gd name="adj2" fmla="val 3505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fffcc"/>
                </a:solidFill>
                <a:latin typeface="Tahoma"/>
              </a:rPr>
              <a:t>入世後</a:t>
            </a:r>
            <a:r>
              <a:rPr b="1" lang="zh-TW" sz="4200" spc="-1" strike="noStrike">
                <a:solidFill>
                  <a:srgbClr val="ffffcc"/>
                </a:solidFill>
                <a:latin typeface="Tahoma"/>
              </a:rPr>
              <a:t>中國人民保險公司的商機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87640" y="2924280"/>
            <a:ext cx="4392720" cy="34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開拓國際市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與國際接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fffcc"/>
                </a:solidFill>
                <a:latin typeface="Tahoma"/>
              </a:rPr>
              <a:t>開拓國際市場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二零零二年七月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中國人保在紐約設立分支機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二零零二年十一月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中國人民保險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香港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有限公司在港開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788000" y="4221000"/>
            <a:ext cx="316872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ffffcc"/>
                </a:solidFill>
                <a:latin typeface="Tahoma"/>
              </a:rPr>
              <a:t>與國際接軌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調整結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經營機制轉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增強於國際之競爭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10920" y="549360"/>
            <a:ext cx="77770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cc"/>
                </a:solidFill>
                <a:latin typeface="Tahoma"/>
              </a:rPr>
              <a:t>入世後中國人民保險公司</a:t>
            </a:r>
            <a:br>
              <a:rPr sz="4800"/>
            </a:br>
            <a:r>
              <a:rPr b="0" lang="zh-TW" sz="4800" spc="-1" strike="noStrike">
                <a:solidFill>
                  <a:srgbClr val="ffffcc"/>
                </a:solidFill>
                <a:latin typeface="Tahoma"/>
              </a:rPr>
              <a:t>的外在危機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2050920" y="2781360"/>
            <a:ext cx="5400720" cy="26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受國外保險公司沖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市場管理難度加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歷史文化體制的影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fffcc"/>
                </a:solidFill>
                <a:latin typeface="Tahoma"/>
              </a:rPr>
              <a:t>保險業在中國的地位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傳統思想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對於受傷、死亡避之則吉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被忽視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遲起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近年來有所轉變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天災人禍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尋求安全感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保險業重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826920" y="2924280"/>
            <a:ext cx="503280" cy="358560"/>
          </a:xfrm>
          <a:prstGeom prst="rightArrow">
            <a:avLst>
              <a:gd name="adj1" fmla="val 50000"/>
              <a:gd name="adj2" fmla="val 3509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5229360"/>
            <a:ext cx="503280" cy="358560"/>
          </a:xfrm>
          <a:prstGeom prst="rightArrow">
            <a:avLst>
              <a:gd name="adj1" fmla="val 50000"/>
              <a:gd name="adj2" fmla="val 3509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fffcc"/>
                </a:solidFill>
                <a:latin typeface="Tahoma"/>
              </a:rPr>
              <a:t>受國外保險公司沖擊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歷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中國人民保險公司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約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50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國外保險公司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幾百年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先進技術及管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fffcc"/>
                </a:solidFill>
                <a:latin typeface="Tahoma"/>
              </a:rPr>
              <a:t>市場管理難度加大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中國保險公司缺乏法則和經驗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制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中國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只有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&lt;&lt;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保險法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&gt;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外國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慣用國際的做法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fffcc"/>
                </a:solidFill>
                <a:latin typeface="Tahoma"/>
              </a:rPr>
              <a:t>歷史文化體制的影響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歷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幾千年小農經濟社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重感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文化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養兒防老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制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從搖籃到莫地”保障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cc"/>
                </a:solidFill>
                <a:latin typeface="Tahoma"/>
              </a:rPr>
              <a:t>中國保險業建議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76364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培訓人才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提高電腦水平，電子化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規範內部管理，轉換經營機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fffcc"/>
                </a:solidFill>
                <a:latin typeface="Tahoma"/>
              </a:rPr>
              <a:t>培訓人才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培養業務精湛的技術人才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借鑒國外先進技術和經驗，將外國經驗“中國化”，將高新技術“實用化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培養適應市場經濟的經營管理人才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樹立牢固的市場經濟意識，具備駕御市場中物流、資金流、信息流的本領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營造良好的用人環境，留住人才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fffcc"/>
                </a:solidFill>
                <a:latin typeface="Tahoma"/>
              </a:rPr>
              <a:t>提高電腦應用水平，電子化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保險信息資源共享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</a:rPr>
              <a:t>提高服務質素和效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電腦網絡化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數據處理電子化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辦公自動化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</a:rPr>
              <a:t>管理上高效有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859280" y="2997360"/>
            <a:ext cx="397836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fffcc"/>
                </a:solidFill>
                <a:latin typeface="Tahoma"/>
              </a:rPr>
              <a:t>規範內部管理，轉換經營機制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實行經營管理責任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把風險降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採取現代企業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產權清晰，權責明確，政企分開，管理科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fffcc"/>
                </a:solidFill>
                <a:latin typeface="Tahoma"/>
              </a:rPr>
              <a:t>參考資料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www.picc.com.c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http://big5.ce.cn/zhuanti/2003rd/baoxian/####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ahoma"/>
              </a:rPr>
              <a:t>http://china.sina.com.tw/finance/nz/WTOBX/index.shtm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</a:rPr>
              <a:t>陳迅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</a:rPr>
              <a:t>白遠良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《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</a:rPr>
              <a:t>入世後的中國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</a:rPr>
              <a:t>陳玉明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《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</a:rPr>
              <a:t>中國加入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TO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</a:rPr>
              <a:t>各行業前景分析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</a:rPr>
              <a:t>宋海波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</a:rPr>
              <a:t>許榮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《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</a:rPr>
              <a:t>中國加入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TO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</a:rPr>
              <a:t>對上市公司的影响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zh-TW" sz="6000" spc="-1" strike="noStrike">
                <a:solidFill>
                  <a:srgbClr val="ffffff"/>
                </a:solidFill>
                <a:latin typeface="Tahoma"/>
              </a:rPr>
              <a:t>完</a:t>
            </a:r>
            <a:r>
              <a:rPr b="1" lang="zh-TW" sz="60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fffcc"/>
                </a:solidFill>
                <a:latin typeface="Tahoma"/>
              </a:rPr>
              <a:t>承諾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企 業 設 立 形 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地 域 限 制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業 務 範 圍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營 業 許 可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法 定 保 險 的 範 圍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等等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.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fffcc"/>
                </a:solidFill>
                <a:latin typeface="Tahoma"/>
              </a:rPr>
              <a:t>中國人民保險公司（簡介）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經歷三個發展階段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1949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年成立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開辦壽險、非壽險業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1988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年前 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壟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1996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年改組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簡稱中保集團，下轄三個子公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司，實行分業經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在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1992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年間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外資公司設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fffcc"/>
                </a:solidFill>
                <a:latin typeface="Tahoma"/>
              </a:rPr>
              <a:t>中國人民保險公司（簡介）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1999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年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1)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中保集團公司撤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2)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繼承中國人民保險公司品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3)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名為中國人民保險公司，專營財產險業務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2000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年底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------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中國加入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W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主要業務有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財產保險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車輛保險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貨物運輸保險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船舶保險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農險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出口信用保險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特殊風險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再保險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ffffcc"/>
                </a:solidFill>
                <a:latin typeface="Tahoma"/>
              </a:rPr>
              <a:t>中國人民保險公司的強勢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92360" y="2327040"/>
            <a:ext cx="6562800" cy="34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公司變得市場化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在中國市場有經驗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公司的透明度提高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WTO</a:t>
            </a: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承諾有利於國內保險公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ffffcc"/>
                </a:solidFill>
                <a:latin typeface="Tahoma"/>
              </a:rPr>
              <a:t>公司變得市場化</a:t>
            </a:r>
            <a:br>
              <a:rPr sz="42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增加保種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WTO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前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只有三十多種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WTO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後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共有四百多種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219640" y="3573360"/>
            <a:ext cx="356724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cc"/>
                </a:solidFill>
                <a:latin typeface="Tahoma"/>
              </a:rPr>
              <a:t>在中國市場有經驗</a:t>
            </a:r>
            <a:endParaRPr b="0" lang="en-US" sz="4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有五十多年的經營經驗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ffffcc"/>
                </a:solidFill>
                <a:latin typeface="Tahoma"/>
              </a:rPr>
              <a:t>公司的透明度提高</a:t>
            </a:r>
            <a:br>
              <a:rPr sz="42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8218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有清晰營運機制監督事務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zh-TW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zh-TW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zh-TW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zh-TW" sz="16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zh-TW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zh-TW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zh-TW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zh-TW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TW" sz="1600" spc="-1" strike="noStrike">
                <a:solidFill>
                  <a:srgbClr val="ffffff"/>
                </a:solidFill>
                <a:latin typeface="Tahoma"/>
              </a:rPr>
              <a:t>人保內部結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835164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2T01:21:22Z</dcterms:created>
  <dc:creator>cindy</dc:creator>
  <dc:description/>
  <dc:language>en-US</dc:language>
  <cp:lastModifiedBy>Sunny</cp:lastModifiedBy>
  <dcterms:modified xsi:type="dcterms:W3CDTF">2004-03-02T14:36:05Z</dcterms:modified>
  <cp:revision>22</cp:revision>
  <dc:subject/>
  <dc:title>入世後中國人民保險公司 的外在危機</dc:title>
</cp:coreProperties>
</file>