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696-B7D1-4843-B8B3-16D83094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D55-35C8-4587-A3E5-DA77F120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74D-582C-43F5-88D4-40362798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8E1-AF60-4243-A294-8012FE4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FCC-034D-41F2-8AB2-52E8470D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140-2B8E-48F8-94FA-40F484E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85F-D886-4038-80E8-6B3C8E66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19A-37D9-4D0C-BCD4-78B09702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3BA-CDD9-411A-B328-BC2B897E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450-5297-4886-BBD2-8B614DA4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673-8A18-4C83-83BF-6E668A7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5CF-9171-44FE-88D5-91909CD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8F4-7E4C-414A-A37D-8A9E13B98D2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q3.ppt" TargetMode="External"/><Relationship Id="rId3" Type="http://schemas.openxmlformats.org/officeDocument/2006/relationships/hyperlink" Target="file:///eq3.ppt" TargetMode="External"/><Relationship Id="rId4" Type="http://schemas.openxmlformats.org/officeDocument/2006/relationships/hyperlink" Target="file:///wea.ppt" TargetMode="External"/><Relationship Id="rId5" Type="http://schemas.openxmlformats.org/officeDocument/2006/relationships/hyperlink" Target="file:///wea.ppt" TargetMode="External"/><Relationship Id="rId6" Type="http://schemas.openxmlformats.org/officeDocument/2006/relationships/hyperlink" Target="file:///wea.ppt" TargetMode="External"/><Relationship Id="rId7" Type="http://schemas.openxmlformats.org/officeDocument/2006/relationships/hyperlink" Target="file:///wea.ppt" TargetMode="External"/><Relationship Id="rId8" Type="http://schemas.openxmlformats.org/officeDocument/2006/relationships/hyperlink" Target="file:///wea.ppt" TargetMode="External"/><Relationship Id="rId9" Type="http://schemas.openxmlformats.org/officeDocument/2006/relationships/hyperlink" Target="file:///we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osem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3960" y="619200"/>
            <a:ext cx="942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181120" y="1371600"/>
            <a:ext cx="76212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1981080"/>
            <a:ext cx="76176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905120"/>
            <a:ext cx="1752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14040" y="3276720"/>
            <a:ext cx="35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官渡之戰中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哪人獻計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使曹操擭勝利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60840" y="423216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許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23000" y="41562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郭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60480" y="537516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賈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84200" y="537516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司馬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04:41Z</dcterms:modified>
  <cp:revision>10</cp:revision>
  <dc:subject/>
  <dc:title>PowerPoint 簡報</dc:title>
</cp:coreProperties>
</file>