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01B-46FB-4DC1-8C58-730ECCE2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3FC-7188-40F1-BAFC-FE914AC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E91-6D1F-4E0A-9CEA-6DB86EC8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812-2803-4387-8113-740708FC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811-262B-4682-B93F-1F0A134E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4CB-9126-43EF-B6B5-4A3D805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229-BA07-43B3-8CFC-B2FA187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4F5-F629-48E7-BFAC-87F86BA0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D65-D2A0-4F74-A012-50E2308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C7D-C1BC-4812-BBB6-A1B5252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136-71CD-49E6-AC10-F2CE08E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A21-6F0E-47B0-A402-F0D076D0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A08F-9352-4D0B-99E4-7CF5E00D214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q1.ppt" TargetMode="External"/><Relationship Id="rId3" Type="http://schemas.openxmlformats.org/officeDocument/2006/relationships/hyperlink" Target="file:///mm.ppt" TargetMode="External"/><Relationship Id="rId4" Type="http://schemas.openxmlformats.org/officeDocument/2006/relationships/hyperlink" Target="file:///mm.ppt" TargetMode="External"/><Relationship Id="rId5" Type="http://schemas.openxmlformats.org/officeDocument/2006/relationships/hyperlink" Target="file:///mm.ppt" TargetMode="External"/><Relationship Id="rId6" Type="http://schemas.openxmlformats.org/officeDocument/2006/relationships/hyperlink" Target="file:///mm.ppt" TargetMode="External"/><Relationship Id="rId7" Type="http://schemas.openxmlformats.org/officeDocument/2006/relationships/hyperlink" Target="file:///mm.ppt" TargetMode="External"/><Relationship Id="rId8" Type="http://schemas.openxmlformats.org/officeDocument/2006/relationships/hyperlink" Target="file:///dq.ppt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ceber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9520" y="0"/>
            <a:ext cx="786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你簡直是乞兒中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軍師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,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真了不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但是你只有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元</a:t>
            </a:r>
            <a:r>
              <a:rPr b="0" lang="zh-TW" sz="8000" spc="-1" strike="noStrike">
                <a:solidFill>
                  <a:srgbClr val="ffff00"/>
                </a:solidFill>
                <a:latin typeface="標楷體"/>
                <a:ea typeface="標楷體"/>
              </a:rPr>
              <a:t>^-^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0280" y="3809880"/>
            <a:ext cx="9428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再多玩一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29600" y="1676520"/>
            <a:ext cx="114300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3"/>
              </a:rPr>
              <a:t>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4"/>
              </a:rPr>
              <a:t>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5"/>
              </a:rPr>
              <a:t>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6"/>
              </a:rPr>
              <a:t>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7"/>
              </a:rPr>
              <a:t>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560" y="5105520"/>
            <a:ext cx="29239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8"/>
              </a:rPr>
              <a:t>挑戰終極問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02:35Z</dcterms:created>
  <dc:creator>USER</dc:creator>
  <dc:description/>
  <dc:language>en-US</dc:language>
  <cp:lastModifiedBy>USER</cp:lastModifiedBy>
  <dcterms:modified xsi:type="dcterms:W3CDTF">2002-06-18T11:05:58Z</dcterms:modified>
  <cp:revision>10</cp:revision>
  <dc:subject/>
  <dc:title>PowerPoint 簡報</dc:title>
</cp:coreProperties>
</file>