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A66-609D-4DDD-B51F-2EDD81A8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A1B-8C82-4AA4-A329-B0B0041B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B58-2509-45B6-AAE6-44849ED1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A0F-086E-4656-BA05-68A2F5A0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C33-6FF7-4725-9CC5-87EF3915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3D9-0AC3-4141-BB3D-B6005494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B9D-D58F-42D2-A73D-2C91AAF6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0EE-A4F1-4B47-BE9C-DCCCD4A7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E84-2DBD-4FF2-873E-981CD470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DEE-3562-48B2-ADD4-248CA30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C12-063E-4AFA-ABD6-D1E5CEB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42C-3647-405F-974B-3A540CF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61A-B918-4CF7-B4B3-397D39A3FAC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loud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-7452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我叫盧冠遊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,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是我創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這個遊戲。我又要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年表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,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又要翻書來出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目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,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真是要叫苦連天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有不足之處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,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請在留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板提出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,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多謝</a:t>
            </a:r>
            <a:r>
              <a:rPr b="0" lang="zh-TW" sz="6600" spc="-1" strike="noStrike">
                <a:solidFill>
                  <a:srgbClr val="3333cc"/>
                </a:solidFill>
                <a:latin typeface="Times New Roman"/>
                <a:ea typeface="標楷體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0520" y="5911920"/>
            <a:ext cx="21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66"/>
                </a:solidFill>
                <a:latin typeface="Times New Roman"/>
                <a:ea typeface="標楷體"/>
              </a:rPr>
              <a:t>*</a:t>
            </a:r>
            <a:r>
              <a:rPr b="0" lang="zh-TW" sz="6000" spc="-1" strike="noStrike">
                <a:solidFill>
                  <a:srgbClr val="ff0066"/>
                </a:solidFill>
                <a:latin typeface="Times New Roman"/>
                <a:ea typeface="標楷體"/>
              </a:rPr>
              <a:t>註</a:t>
            </a:r>
            <a:r>
              <a:rPr b="0" lang="zh-TW" sz="6000" spc="-1" strike="noStrike">
                <a:solidFill>
                  <a:srgbClr val="ff0066"/>
                </a:solidFill>
                <a:latin typeface="Times New Roman"/>
                <a:ea typeface="標楷體"/>
              </a:rPr>
              <a:t>:</a:t>
            </a:r>
            <a:r>
              <a:rPr b="0" lang="zh-TW" sz="6000" spc="-1" strike="noStrike">
                <a:solidFill>
                  <a:srgbClr val="ff0066"/>
                </a:solidFill>
                <a:latin typeface="Times New Roman"/>
                <a:ea typeface="標楷體"/>
              </a:rPr>
              <a:t>創作時間三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13:03:44Z</dcterms:created>
  <dc:creator>USER</dc:creator>
  <dc:description/>
  <dc:language>en-US</dc:language>
  <cp:lastModifiedBy>USER</cp:lastModifiedBy>
  <dcterms:modified xsi:type="dcterms:W3CDTF">2002-06-18T11:12:19Z</dcterms:modified>
  <cp:revision>3</cp:revision>
  <dc:subject/>
  <dc:title>PowerPoint 簡報</dc:title>
</cp:coreProperties>
</file>