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3E9-C620-41E7-AE16-3471CA80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209-C2E1-43C4-89B5-18028B9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014-D1FE-48A8-9298-B28C1A00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3E3-D7BE-4A32-9DA8-66DDB9A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DB4-36F2-49CD-839C-AC4BE47A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821-D7A8-432E-B1B5-D0F1AC0C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91A-D365-474F-8D48-9E8814C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CB6-3411-459A-B7A8-8C515F0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76E-6B35-45BA-953A-58F7D58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918-9DA7-4614-985E-59716D5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F9B-265D-40BE-A188-F1C495C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622-8095-47E7-894E-B2906F5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00F3-C8F4-430A-9CF5-32A966E124F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ea.ppt" TargetMode="External"/><Relationship Id="rId3" Type="http://schemas.openxmlformats.org/officeDocument/2006/relationships/hyperlink" Target="file:///wea.ppt" TargetMode="External"/><Relationship Id="rId4" Type="http://schemas.openxmlformats.org/officeDocument/2006/relationships/hyperlink" Target="file:///wea.ppt" TargetMode="External"/><Relationship Id="rId5" Type="http://schemas.openxmlformats.org/officeDocument/2006/relationships/hyperlink" Target="file:///wea.ppt" TargetMode="External"/><Relationship Id="rId6" Type="http://schemas.openxmlformats.org/officeDocument/2006/relationships/hyperlink" Target="file:///eq2.ppt" TargetMode="External"/><Relationship Id="rId7" Type="http://schemas.openxmlformats.org/officeDocument/2006/relationships/hyperlink" Target="file:///eq2.ppt" TargetMode="External"/><Relationship Id="rId8" Type="http://schemas.openxmlformats.org/officeDocument/2006/relationships/hyperlink" Target="file:///wea.ppt" TargetMode="External"/><Relationship Id="rId9" Type="http://schemas.openxmlformats.org/officeDocument/2006/relationships/hyperlink" Target="file:///wea.ppt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sem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720" y="37339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劉備的二弟是誰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3960" y="619200"/>
            <a:ext cx="942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1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</a:rPr>
              <a:t>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181480" y="1600200"/>
            <a:ext cx="1371600" cy="99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590920"/>
            <a:ext cx="144792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2667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2240" y="43848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張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43434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趙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47720" y="52578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關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33560" y="525780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D.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4:28:06Z</dcterms:created>
  <dc:creator>USER</dc:creator>
  <dc:description/>
  <dc:language>en-US</dc:language>
  <cp:lastModifiedBy>USER</cp:lastModifiedBy>
  <dcterms:modified xsi:type="dcterms:W3CDTF">2002-06-18T11:04:25Z</dcterms:modified>
  <cp:revision>10</cp:revision>
  <dc:subject/>
  <dc:title>PowerPoint 簡報</dc:title>
</cp:coreProperties>
</file>