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526-66D2-48A5-81DB-2EA207E4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42C-AA77-457A-8B63-D192E52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E39-68BE-4F6C-964C-E48194A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42E-EB15-4859-BA0A-9324C27E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DCB-6FA6-4FD4-945C-D8E8FDE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C1A-889A-427D-ADD6-26761BF7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9FD-B5B4-4C18-9573-EBA9860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38B-9646-4681-8CCD-4A12585D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566-7BF1-42AD-BAF6-AA31922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64D-17CF-4DCC-82E0-86AB1B2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FBE-3512-4B2D-A9F4-A7183C47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BA6-103E-4E0A-B5AA-A4C2D6E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573-8A64-46DB-B47D-AB782441C34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m.ppt" TargetMode="External"/><Relationship Id="rId3" Type="http://schemas.openxmlformats.org/officeDocument/2006/relationships/hyperlink" Target="file:///fh.ppt" TargetMode="External"/><Relationship Id="rId4" Type="http://schemas.openxmlformats.org/officeDocument/2006/relationships/hyperlink" Target="file:///fh.ppt" TargetMode="External"/><Relationship Id="rId5" Type="http://schemas.openxmlformats.org/officeDocument/2006/relationships/hyperlink" Target="file:///fh.ppt" TargetMode="External"/><Relationship Id="rId6" Type="http://schemas.openxmlformats.org/officeDocument/2006/relationships/hyperlink" Target="file:///fh.ppt" TargetMode="External"/><Relationship Id="rId7" Type="http://schemas.openxmlformats.org/officeDocument/2006/relationships/hyperlink" Target="file:///fh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eatw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9520" y="0"/>
            <a:ext cx="786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你簡直是乞兒中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主帥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,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真勤力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但是你只有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元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^-^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4480" y="3657600"/>
            <a:ext cx="24667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創作者資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99360" y="1523880"/>
            <a:ext cx="94284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4"/>
              </a:rPr>
              <a:t>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5"/>
              </a:rPr>
              <a:t>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6"/>
              </a:rPr>
              <a:t>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7"/>
              </a:rPr>
              <a:t>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02:35Z</dcterms:created>
  <dc:creator>USER</dc:creator>
  <dc:description/>
  <dc:language>en-US</dc:language>
  <cp:lastModifiedBy>USER</cp:lastModifiedBy>
  <dcterms:modified xsi:type="dcterms:W3CDTF">2002-06-18T11:06:50Z</dcterms:modified>
  <cp:revision>10</cp:revision>
  <dc:subject/>
  <dc:title>PowerPoint 簡報</dc:title>
</cp:coreProperties>
</file>