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940-F1A7-4673-A4A4-C4C3FFE9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D39-90C7-4532-BD61-0F8FB12A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BA0-32EC-4D3F-A152-9FF9BB60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B78-2654-4FC6-A0A1-BED42F20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B3B-32FA-4177-90FB-6B61966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D6B-54A2-45D8-8227-E2584A0F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C7D-E7D7-4DF6-B6A4-E7A407F2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50C-B388-4C39-9BB7-E4D656BF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0C8-B409-4466-84E0-3CCCB180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093-0AE5-4C54-BB23-C00961A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76E-B863-4B39-A9A5-824BC78A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782-8EE8-459B-B6A6-C1F99FA6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D94-D47E-4935-B9A1-233AA953962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ma.ppt" TargetMode="External"/><Relationship Id="rId3" Type="http://schemas.openxmlformats.org/officeDocument/2006/relationships/hyperlink" Target="file:///wma.ppt" TargetMode="External"/><Relationship Id="rId4" Type="http://schemas.openxmlformats.org/officeDocument/2006/relationships/hyperlink" Target="file:///mq5.ppt" TargetMode="External"/><Relationship Id="rId5" Type="http://schemas.openxmlformats.org/officeDocument/2006/relationships/hyperlink" Target="file:///mq5.ppt" TargetMode="External"/><Relationship Id="rId6" Type="http://schemas.openxmlformats.org/officeDocument/2006/relationships/hyperlink" Target="file:///wma.ppt" TargetMode="External"/><Relationship Id="rId7" Type="http://schemas.openxmlformats.org/officeDocument/2006/relationships/hyperlink" Target="file:///wma.ppt" TargetMode="External"/><Relationship Id="rId8" Type="http://schemas.openxmlformats.org/officeDocument/2006/relationships/hyperlink" Target="file:///wma.ppt" TargetMode="External"/><Relationship Id="rId9" Type="http://schemas.openxmlformats.org/officeDocument/2006/relationships/hyperlink" Target="file:///wm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inca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5680" y="533520"/>
            <a:ext cx="61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1.0    0.7   0.5   0.3 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1295280"/>
            <a:ext cx="53352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1371600"/>
            <a:ext cx="53316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1371600"/>
            <a:ext cx="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14080" y="2895480"/>
            <a:ext cx="28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定軍山之戰中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黃忠打敗了誰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50280" y="430848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夏侯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60160" y="423216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夏侯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89080" y="522288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張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1480" y="518148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徐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13:40Z</dcterms:modified>
  <cp:revision>15</cp:revision>
  <dc:subject/>
  <dc:title>PowerPoint 簡報</dc:title>
</cp:coreProperties>
</file>