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25E-9126-43EB-B0E4-47B55A5B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A33A-D4BF-43FD-AFEB-519FE0A1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5D99-CF1C-40F7-88BB-D47AB9CD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DB5-762C-467E-A559-9D8F9BDF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A3E-8FB8-41F4-9CB3-1E51B2EA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0E1-E228-409A-88BC-C8798854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149-4C47-448E-B8D7-3D694D07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FB3-F596-483E-88BC-96135BF1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38D-9508-43EE-AA92-F1D5E77F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2888-65E0-436D-9D27-3DBFD3A1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59A-4D19-43E3-AC51-6171628B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E62-564B-4BCD-A0AA-7B08E6D4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0749-2761-4EFF-849A-27958BE5F29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wha.ppt" TargetMode="External"/><Relationship Id="rId3" Type="http://schemas.openxmlformats.org/officeDocument/2006/relationships/hyperlink" Target="file:///wha.ppt" TargetMode="External"/><Relationship Id="rId4" Type="http://schemas.openxmlformats.org/officeDocument/2006/relationships/hyperlink" Target="file:///wha.ppt" TargetMode="External"/><Relationship Id="rId5" Type="http://schemas.openxmlformats.org/officeDocument/2006/relationships/hyperlink" Target="file:///wha.ppt" TargetMode="External"/><Relationship Id="rId6" Type="http://schemas.openxmlformats.org/officeDocument/2006/relationships/hyperlink" Target="file:///fh.ppt" TargetMode="External"/><Relationship Id="rId7" Type="http://schemas.openxmlformats.org/officeDocument/2006/relationships/hyperlink" Target="file:///fh.ppt" TargetMode="External"/><Relationship Id="rId8" Type="http://schemas.openxmlformats.org/officeDocument/2006/relationships/hyperlink" Target="file:///wha.ppt" TargetMode="External"/><Relationship Id="rId9" Type="http://schemas.openxmlformats.org/officeDocument/2006/relationships/hyperlink" Target="file:///wha.ppt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ceber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05280" y="3276720"/>
            <a:ext cx="8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陳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372360" y="3276720"/>
            <a:ext cx="82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B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張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4960" y="380880"/>
            <a:ext cx="825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Times New Roman"/>
              </a:rPr>
              <a:t>1.0   0.9   0.7   0.6   0.5   0.3   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28600" y="1143000"/>
            <a:ext cx="838080" cy="83808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1219320"/>
            <a:ext cx="762120" cy="68580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19320"/>
            <a:ext cx="0" cy="106668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64360" y="259092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哪人為主帥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攻破蜀國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41148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C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鄧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33560" y="4114800"/>
            <a:ext cx="102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D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司馬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4:16:01Z</dcterms:created>
  <dc:creator>USER</dc:creator>
  <dc:description/>
  <dc:language>en-US</dc:language>
  <cp:lastModifiedBy>USER</cp:lastModifiedBy>
  <dcterms:modified xsi:type="dcterms:W3CDTF">2002-06-18T11:10:09Z</dcterms:modified>
  <cp:revision>13</cp:revision>
  <dc:subject/>
  <dc:title>PowerPoint 簡報</dc:title>
</cp:coreProperties>
</file>