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345-549B-45EF-A20C-06E6ACE1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AB7-A14E-4F4A-B4E2-18DBF0E2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423-DD6B-49CB-AB32-2D2B38C3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195-DF73-4CB1-93CF-23DACC11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B54-F44D-4ABE-A4B2-57377FB0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5D1-DA6A-40B4-9495-1C7B7C33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69C-B1BC-485E-9E6A-DDA35F1E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A19-259B-4741-8614-329AFF8A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ADE-C3BC-43B6-AB5D-4E197BA9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3EA-99A9-48C4-97D1-EEBED44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EA9-77C7-4BEA-A66B-8520B93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443-F2E0-45FB-B847-6F4BCC4B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7B6B-D153-4BD8-BBB0-E5D83010C77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q1.ppt" TargetMode="External"/><Relationship Id="rId3" Type="http://schemas.openxmlformats.org/officeDocument/2006/relationships/hyperlink" Target="file:///hq1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inc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760" y="461880"/>
            <a:ext cx="847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你是了不起的乞兒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但是你只有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元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^-^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6600" y="3200400"/>
            <a:ext cx="9428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再多玩一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3080" y="4800600"/>
            <a:ext cx="20095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3"/>
              </a:rPr>
              <a:t>挑戰高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02:35Z</dcterms:created>
  <dc:creator>USER</dc:creator>
  <dc:description/>
  <dc:language>en-US</dc:language>
  <cp:lastModifiedBy>USER</cp:lastModifiedBy>
  <dcterms:modified xsi:type="dcterms:W3CDTF">2002-06-18T11:07:49Z</dcterms:modified>
  <cp:revision>5</cp:revision>
  <dc:subject/>
  <dc:title>PowerPoint 簡報</dc:title>
</cp:coreProperties>
</file>