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365-6501-4A48-839A-FC625642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7ED-9D30-4351-971B-4A62B96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70A-B88D-47CE-9391-B78F9EE8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0D5-F941-4934-A01D-A77DA120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499-A81B-4A44-857D-49E725C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6B5-26D9-457E-A099-64B821C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FD6-A2BA-450C-B88A-0BAC286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664-0DFB-4AAB-B705-E4004ED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325-F522-4FE7-993B-DBE1AEC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7DF-25B2-47E9-BDC4-E1A79D5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0A1-AE4A-48C0-B6D8-E4A485CE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ADA-3135-4F9A-9E92-9BAB971F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A75-7539-42A1-B978-49D6E8F27CE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q3.ppt" TargetMode="External"/><Relationship Id="rId3" Type="http://schemas.openxmlformats.org/officeDocument/2006/relationships/hyperlink" Target="file:///hq3.ppt" TargetMode="External"/><Relationship Id="rId4" Type="http://schemas.openxmlformats.org/officeDocument/2006/relationships/hyperlink" Target="file:///wha.ppt" TargetMode="External"/><Relationship Id="rId5" Type="http://schemas.openxmlformats.org/officeDocument/2006/relationships/hyperlink" Target="file:///wha.ppt" TargetMode="External"/><Relationship Id="rId6" Type="http://schemas.openxmlformats.org/officeDocument/2006/relationships/hyperlink" Target="file:///wha.ppt" TargetMode="External"/><Relationship Id="rId7" Type="http://schemas.openxmlformats.org/officeDocument/2006/relationships/hyperlink" Target="file:///wha.ppt" TargetMode="External"/><Relationship Id="rId8" Type="http://schemas.openxmlformats.org/officeDocument/2006/relationships/hyperlink" Target="file:///wha.ppt" TargetMode="External"/><Relationship Id="rId9" Type="http://schemas.openxmlformats.org/officeDocument/2006/relationships/hyperlink" Target="file:///wh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66120" y="327672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27672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關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248520" y="1143000"/>
            <a:ext cx="838080" cy="8380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121932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114300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3560" y="25146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鞠躬盡瘁 死而後已”是出自進人口吻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4920" y="41148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法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72720" y="41148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趙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8:32Z</dcterms:modified>
  <cp:revision>7</cp:revision>
  <dc:subject/>
  <dc:title>PowerPoint 簡報</dc:title>
</cp:coreProperties>
</file>