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275-4572-47C6-8806-3CE2B466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41D-1BA6-4A0A-A998-ECA4A93B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4C1-808A-44F5-8729-FA89999D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9F7-06AA-4410-97CB-EE1F3B66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4A4-98D8-4B83-9A2A-F78AD0E6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882-AC50-4F0E-9E7E-402AAB7D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2EB-A393-41D7-8401-0446EB40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F7D-F04C-4A79-AA18-77CD875E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CC5-910A-443D-9D82-618AE4E0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3F86-60A7-4B7E-98AC-A57E3C6F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2AC-D265-4049-AA27-C753D4A2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E22-88D8-4C2E-AC6F-17CBB263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98C1-7B2F-4913-B9C0-6AA875AAFEF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hq1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ceber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7040" y="0"/>
            <a:ext cx="6764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你答錯了</a:t>
            </a:r>
            <a:r>
              <a:rPr b="0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r>
              <a:rPr b="0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真是不自量力</a:t>
            </a:r>
            <a:r>
              <a:rPr b="0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      </a:t>
            </a:r>
            <a:r>
              <a:rPr b="0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@_@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11680" y="4952880"/>
            <a:ext cx="15523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2"/>
              </a:rPr>
              <a:t>再挑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36:04Z</dcterms:created>
  <dc:creator>USER</dc:creator>
  <dc:description/>
  <dc:language>en-US</dc:language>
  <cp:lastModifiedBy>USER</cp:lastModifiedBy>
  <dcterms:modified xsi:type="dcterms:W3CDTF">2002-06-18T11:15:49Z</dcterms:modified>
  <cp:revision>5</cp:revision>
  <dc:subject/>
  <dc:title>PowerPoint 簡報</dc:title>
</cp:coreProperties>
</file>