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F9D-9FC4-4237-BD3B-DCB45F94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FB8-9439-45DD-8EF8-F3A1BAF6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CE5-6895-44BC-8D0E-8B78FACB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A60-CBDA-46C0-B331-58C12FE0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7C6-CFD8-45B5-9FBF-62DBB9A3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6A13-86A1-4BD1-B7DD-339627E2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94E-E062-4EB4-8787-F384D2C9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DE6-55CA-4B46-8CE4-A511BCD0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63D-E554-4553-8FF1-53AB6456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AF0-FE05-442F-982B-493135FB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A54-4794-4D00-9799-0B7AFE8F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E1A-8747-461E-986D-38CB9E3F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B5F5-5451-4215-B973-233A5D1D957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eq1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Yosemit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25240" y="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你答錯了</a:t>
            </a:r>
            <a:r>
              <a:rPr b="0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請讀熟三國才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     </a:t>
            </a:r>
            <a:r>
              <a:rPr b="0" lang="zh-TW" sz="9600" spc="-1" strike="noStrike">
                <a:solidFill>
                  <a:srgbClr val="ffff00"/>
                </a:solidFill>
                <a:latin typeface="標楷體"/>
                <a:ea typeface="標楷體"/>
              </a:rPr>
              <a:t>~_~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6760" y="4800600"/>
            <a:ext cx="15523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2"/>
              </a:rPr>
              <a:t>再挑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4:28:06Z</dcterms:created>
  <dc:creator>USER</dc:creator>
  <dc:description/>
  <dc:language>en-US</dc:language>
  <cp:lastModifiedBy>USER</cp:lastModifiedBy>
  <dcterms:modified xsi:type="dcterms:W3CDTF">2002-06-18T11:15:20Z</dcterms:modified>
  <cp:revision>11</cp:revision>
  <dc:subject/>
  <dc:title>PowerPoint 簡報</dc:title>
</cp:coreProperties>
</file>