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C0F-60A3-45C6-B662-08EEAD07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875-A4ED-4E2F-BE27-BFEAE8BF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DD0-F2CD-4243-BFBC-2BB5F8A9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162-6528-4E3F-A897-C102E090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FF1-DE40-4253-806D-43E9C360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B52-EBC5-4908-9BBD-FACD3704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193-4348-4682-B2FF-3711BA19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58F-DB21-43E8-8084-8C3EDD1B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38A-6A8E-4A4D-853F-EA94A36F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9E3-4DE8-4714-A3F7-06B1BEA0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E29-ACB8-4F4F-B2B6-57655658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600-8C79-420D-8B93-573FA48D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B916-B81C-439D-A053-1A6A977D28F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wma.ppt" TargetMode="External"/><Relationship Id="rId3" Type="http://schemas.openxmlformats.org/officeDocument/2006/relationships/hyperlink" Target="file:///wma.ppt" TargetMode="External"/><Relationship Id="rId4" Type="http://schemas.openxmlformats.org/officeDocument/2006/relationships/hyperlink" Target="file:///wma.ppt" TargetMode="External"/><Relationship Id="rId5" Type="http://schemas.openxmlformats.org/officeDocument/2006/relationships/hyperlink" Target="file:///wma.ppt" TargetMode="External"/><Relationship Id="rId6" Type="http://schemas.openxmlformats.org/officeDocument/2006/relationships/hyperlink" Target="file:///wma.ppt" TargetMode="External"/><Relationship Id="rId7" Type="http://schemas.openxmlformats.org/officeDocument/2006/relationships/hyperlink" Target="file:///wma.ppt" TargetMode="External"/><Relationship Id="rId8" Type="http://schemas.openxmlformats.org/officeDocument/2006/relationships/hyperlink" Target="file:///mq2.ppt" TargetMode="External"/><Relationship Id="rId9" Type="http://schemas.openxmlformats.org/officeDocument/2006/relationships/hyperlink" Target="file:///mq2.ppt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Vinc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2000" y="533520"/>
            <a:ext cx="612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Times New Roman"/>
              </a:rPr>
              <a:t>1.0    0.7   0.5   0.3    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6477120" y="1676520"/>
            <a:ext cx="761760" cy="76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1676520"/>
            <a:ext cx="762120" cy="685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1676520"/>
            <a:ext cx="0" cy="1218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40680" y="327672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劉備姓劉名備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字甚麼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89440" y="4384800"/>
            <a:ext cx="842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雲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03880" y="4384800"/>
            <a:ext cx="825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孔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65400" y="552780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翼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04240" y="552780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D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玄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4:28:06Z</dcterms:created>
  <dc:creator>USER</dc:creator>
  <dc:description/>
  <dc:language>en-US</dc:language>
  <cp:lastModifiedBy>USER</cp:lastModifiedBy>
  <dcterms:modified xsi:type="dcterms:W3CDTF">2002-06-18T11:12:39Z</dcterms:modified>
  <cp:revision>11</cp:revision>
  <dc:subject/>
  <dc:title>PowerPoint 簡報</dc:title>
</cp:coreProperties>
</file>