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45C8-EA27-451B-B2DA-499C76AE0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CC5D-0545-41E2-99C5-3DAA9D3D1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C28F-F105-401C-988E-AF6C8CC85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21E5-C518-4CD4-8527-172F5A1B3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FC0B-4996-4E29-8E73-C2C715BCD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346F-28A2-4A34-9AB8-837C133AB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033A-A84A-426A-AF57-9447E9756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70D3-06F2-43AB-A84D-AEA5134B6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5532-C743-4485-9127-6669CCF81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3FCF-BDF0-4F7C-9853-7F498613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BF7A-5941-4E52-A6C1-A5A74EA3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1A77-B0E6-45FB-8DFB-FFAB7952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A02EA-182B-4265-B8F8-47F25490EA6D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wma.ppt" TargetMode="External"/><Relationship Id="rId3" Type="http://schemas.openxmlformats.org/officeDocument/2006/relationships/hyperlink" Target="file:///wma.ppt" TargetMode="External"/><Relationship Id="rId4" Type="http://schemas.openxmlformats.org/officeDocument/2006/relationships/hyperlink" Target="file:///wma.ppt" TargetMode="External"/><Relationship Id="rId5" Type="http://schemas.openxmlformats.org/officeDocument/2006/relationships/hyperlink" Target="file:///wma.ppt" TargetMode="External"/><Relationship Id="rId6" Type="http://schemas.openxmlformats.org/officeDocument/2006/relationships/hyperlink" Target="file:///wma.ppt" TargetMode="External"/><Relationship Id="rId7" Type="http://schemas.openxmlformats.org/officeDocument/2006/relationships/hyperlink" Target="file:///wma.ppt" TargetMode="External"/><Relationship Id="rId8" Type="http://schemas.openxmlformats.org/officeDocument/2006/relationships/hyperlink" Target="file:///mq4.ppt" TargetMode="External"/><Relationship Id="rId9" Type="http://schemas.openxmlformats.org/officeDocument/2006/relationships/hyperlink" Target="file:///mq4.ppt" TargetMode="External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Vinca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25680" y="533520"/>
            <a:ext cx="612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00"/>
                </a:solidFill>
                <a:latin typeface="Times New Roman"/>
              </a:rPr>
              <a:t>1.0    0.7   0.5   0.3    0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038480" y="1371600"/>
            <a:ext cx="533520" cy="685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0" y="1371600"/>
            <a:ext cx="533520" cy="685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0" y="1371600"/>
            <a:ext cx="0" cy="12193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88400" y="3124080"/>
            <a:ext cx="225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00"/>
                </a:solidFill>
                <a:latin typeface="Times New Roman"/>
              </a:rPr>
              <a:t>張遼姓張名遼</a:t>
            </a:r>
            <a:r>
              <a:rPr b="0" lang="zh-TW" sz="24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zh-TW" sz="2400" spc="-1" strike="noStrike">
                <a:solidFill>
                  <a:srgbClr val="ffff00"/>
                </a:solidFill>
                <a:latin typeface="Times New Roman"/>
              </a:rPr>
              <a:t>字甚麼</a:t>
            </a:r>
            <a:r>
              <a:rPr b="0" lang="zh-TW" sz="24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89440" y="4308480"/>
            <a:ext cx="842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A.</a:t>
            </a: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孟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99320" y="4232160"/>
            <a:ext cx="82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B.</a:t>
            </a: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仲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89080" y="5222880"/>
            <a:ext cx="82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C.</a:t>
            </a: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公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91480" y="5181480"/>
            <a:ext cx="842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D.</a:t>
            </a: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文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14:28:06Z</dcterms:created>
  <dc:creator>USER</dc:creator>
  <dc:description/>
  <dc:language>en-US</dc:language>
  <cp:lastModifiedBy>USER</cp:lastModifiedBy>
  <dcterms:modified xsi:type="dcterms:W3CDTF">2002-06-18T11:13:19Z</dcterms:modified>
  <cp:revision>14</cp:revision>
  <dc:subject/>
  <dc:title>PowerPoint 簡報</dc:title>
</cp:coreProperties>
</file>