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6A6-1EF3-4F5D-B905-7C929052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03E2-E1C7-4BA2-9C40-06C65026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068D-8098-429B-A135-0396EF2E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B462-9966-4F44-A102-12081C57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EEE2-68F5-4D2B-9024-D5C0FD93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2AA5-B47E-4753-BA4C-760EC25F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8B95-E11D-4543-B595-256A9B82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ED76-FECB-4D4E-962B-185C577F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1FF-4546-4748-87D0-BB72C84E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BA5-2768-4C25-8B42-268975E7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C741-442B-4C11-B28F-82F00AFA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0C2-0394-404C-B058-F69FC9B1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24A2-04B3-403E-A618-C7A4CEB0AA3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wha.ppt" TargetMode="External"/><Relationship Id="rId3" Type="http://schemas.openxmlformats.org/officeDocument/2006/relationships/hyperlink" Target="file:///hq5.ppt" TargetMode="External"/><Relationship Id="rId4" Type="http://schemas.openxmlformats.org/officeDocument/2006/relationships/hyperlink" Target="file:///wha.ppt" TargetMode="External"/><Relationship Id="rId5" Type="http://schemas.openxmlformats.org/officeDocument/2006/relationships/hyperlink" Target="file:///wha.ppt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ceber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83240" y="327672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.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50320" y="327672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B.1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4960" y="380880"/>
            <a:ext cx="825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Times New Roman"/>
              </a:rPr>
              <a:t>1.0   0.9   0.7   0.6   0.5   0.3   0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733920" y="1066680"/>
            <a:ext cx="838080" cy="83844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143000"/>
            <a:ext cx="762120" cy="68580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143000"/>
            <a:ext cx="0" cy="106668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96640" y="25146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劉備於哪年出世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2880" y="411480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.1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50680" y="4114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D.1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4:16:01Z</dcterms:created>
  <dc:creator>USER</dc:creator>
  <dc:description/>
  <dc:language>en-US</dc:language>
  <cp:lastModifiedBy>USER</cp:lastModifiedBy>
  <dcterms:modified xsi:type="dcterms:W3CDTF">2002-06-18T11:09:00Z</dcterms:modified>
  <cp:revision>9</cp:revision>
  <dc:subject/>
  <dc:title>PowerPoint 簡報</dc:title>
</cp:coreProperties>
</file>