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F30-9F64-4AF0-9AC2-F4EA18D1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AB1-62B9-4C2D-8B8B-00D79C82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5DF-AA20-417B-9C41-8C3C4BED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7A1-E440-4E65-BCC3-598354C3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366-C442-4EF8-84A6-50ACA098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AC5-220D-4531-AF88-AA79EC10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63A-F6A9-4A6D-8487-0C9A49AA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0AED-E067-44F9-A556-A5DA4D15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B00-8586-4C1B-8C60-79092F63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7E2-A5BF-4CB3-9762-7B523242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74B-1552-4869-9770-A5B2391D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276-B3DB-4861-AB47-C6551AF8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2CC2-C602-40F4-B203-DDD6BBC90CD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q1.ppt" TargetMode="External"/><Relationship Id="rId3" Type="http://schemas.openxmlformats.org/officeDocument/2006/relationships/hyperlink" Target="file:///mq1.ppt" TargetMode="External"/><Relationship Id="rId4" Type="http://schemas.openxmlformats.org/officeDocument/2006/relationships/hyperlink" Target="file:///hq1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liff%20in%20Cloud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8840" y="685800"/>
            <a:ext cx="413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3300"/>
                </a:solidFill>
                <a:latin typeface="Times New Roman"/>
                <a:ea typeface="標楷體"/>
              </a:rPr>
              <a:t>一蚊乞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3300"/>
                </a:solidFill>
                <a:latin typeface="Times New Roman"/>
                <a:ea typeface="標楷體"/>
              </a:rPr>
              <a:t>  </a:t>
            </a:r>
            <a:r>
              <a:rPr b="0" lang="zh-TW" sz="9600" spc="-1" strike="noStrike">
                <a:solidFill>
                  <a:srgbClr val="ff3300"/>
                </a:solidFill>
                <a:latin typeface="Times New Roman"/>
                <a:ea typeface="標楷體"/>
              </a:rPr>
              <a:t>三國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02880" y="6095880"/>
            <a:ext cx="44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標楷體"/>
                <a:ea typeface="標楷體"/>
              </a:rPr>
              <a:t>未經盧冠遊同意</a:t>
            </a:r>
            <a:r>
              <a:rPr b="0" lang="zh-TW" sz="4400" spc="-1" strike="noStrike">
                <a:solidFill>
                  <a:srgbClr val="ff9900"/>
                </a:solidFill>
                <a:latin typeface="標楷體"/>
                <a:ea typeface="標楷體"/>
              </a:rPr>
              <a:t>,</a:t>
            </a:r>
            <a:r>
              <a:rPr b="0" lang="zh-TW" sz="4400" spc="-1" strike="noStrike">
                <a:solidFill>
                  <a:srgbClr val="ff9900"/>
                </a:solidFill>
                <a:latin typeface="標楷體"/>
                <a:ea typeface="標楷體"/>
              </a:rPr>
              <a:t>請勿抄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6960" y="5759280"/>
            <a:ext cx="11865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2"/>
              </a:rPr>
              <a:t>初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70880" y="3809880"/>
            <a:ext cx="11865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3"/>
              </a:rPr>
              <a:t>中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0480" y="1981080"/>
            <a:ext cx="11865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4"/>
              </a:rPr>
              <a:t>高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4:02:08Z</dcterms:created>
  <dc:creator>USER</dc:creator>
  <dc:description/>
  <dc:language>en-US</dc:language>
  <cp:lastModifiedBy>USER</cp:lastModifiedBy>
  <dcterms:modified xsi:type="dcterms:W3CDTF">2002-06-19T08:36:43Z</dcterms:modified>
  <cp:revision>16</cp:revision>
  <dc:subject/>
  <dc:title>PowerPoint 簡報</dc:title>
</cp:coreProperties>
</file>