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C40-04B6-421A-B1CD-065DEBC6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1D2-51F5-477F-BBD2-8AD65F97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376-0C6F-40EF-9C67-5547C6E6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713-0E01-4F3A-AC76-30B30E6E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69E-7FBA-454E-AF8E-DC2B2625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A15-520D-4AD7-B0F6-A1E3A559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A8B-9B86-4177-B947-30AD4A57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BFC-786F-42ED-855B-D212C2B0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BF9-F75E-4B0E-831C-41AAC458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A04-9640-40C4-845B-7513808B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25E-9685-45D5-A513-E1E6C69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ECE-3BBF-43E1-949E-08DA22B1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7D45-A9B0-4899-A05F-3B804C53677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ma.ppt" TargetMode="External"/><Relationship Id="rId3" Type="http://schemas.openxmlformats.org/officeDocument/2006/relationships/hyperlink" Target="file:///wma.ppt" TargetMode="External"/><Relationship Id="rId4" Type="http://schemas.openxmlformats.org/officeDocument/2006/relationships/hyperlink" Target="file:///fm.ppt" TargetMode="External"/><Relationship Id="rId5" Type="http://schemas.openxmlformats.org/officeDocument/2006/relationships/hyperlink" Target="file:///fm.ppt" TargetMode="External"/><Relationship Id="rId6" Type="http://schemas.openxmlformats.org/officeDocument/2006/relationships/hyperlink" Target="file:///wma.ppt" TargetMode="External"/><Relationship Id="rId7" Type="http://schemas.openxmlformats.org/officeDocument/2006/relationships/hyperlink" Target="file:///wma.ppt" TargetMode="External"/><Relationship Id="rId8" Type="http://schemas.openxmlformats.org/officeDocument/2006/relationships/hyperlink" Target="file:///wma.ppt" TargetMode="External"/><Relationship Id="rId9" Type="http://schemas.openxmlformats.org/officeDocument/2006/relationships/hyperlink" Target="file:///wm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inca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5680" y="533520"/>
            <a:ext cx="61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1.0    0.7   0.5   0.3 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447560" y="1371600"/>
            <a:ext cx="53316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1371600"/>
            <a:ext cx="53352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371600"/>
            <a:ext cx="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52880" y="289548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夷陵之戰中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誰打敗了劉備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50280" y="430848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夏侯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9320" y="423216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陸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89080" y="522288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周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15520" y="518148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魯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14:10Z</dcterms:modified>
  <cp:revision>16</cp:revision>
  <dc:subject/>
  <dc:title>PowerPoint 簡報</dc:title>
</cp:coreProperties>
</file>