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959-139E-4C4C-8661-10862B27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943-5CFD-4258-8F81-7D15A02F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A2E-34BA-4DAB-ABAA-E958FABB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20B-8F31-42B7-AE4C-FF6BC4FD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E1-8FE8-497D-B3F8-1661CA4F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611-2D85-458D-B6C1-2313FCF1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061-31E2-4C39-A3CC-781A01A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C6B-B294-4EC9-B665-1BD2DBD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C72-4F15-478A-8C0B-9E261710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D95-68B1-4F9E-94F5-C393C9D9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633-3CED-4071-91D2-ED31EC5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EC2-A044-495E-BEFA-4E92008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2EB6-05C0-4FCD-8AED-CDCBF6C4015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q3.ppt" TargetMode="External"/><Relationship Id="rId3" Type="http://schemas.openxmlformats.org/officeDocument/2006/relationships/hyperlink" Target="file:///mq3.ppt" TargetMode="External"/><Relationship Id="rId4" Type="http://schemas.openxmlformats.org/officeDocument/2006/relationships/hyperlink" Target="file:///wma.ppt" TargetMode="External"/><Relationship Id="rId5" Type="http://schemas.openxmlformats.org/officeDocument/2006/relationships/hyperlink" Target="file:///wma.ppt" TargetMode="External"/><Relationship Id="rId6" Type="http://schemas.openxmlformats.org/officeDocument/2006/relationships/hyperlink" Target="file:///wma.ppt" TargetMode="External"/><Relationship Id="rId7" Type="http://schemas.openxmlformats.org/officeDocument/2006/relationships/hyperlink" Target="file:///wma.ppt" TargetMode="External"/><Relationship Id="rId8" Type="http://schemas.openxmlformats.org/officeDocument/2006/relationships/hyperlink" Target="file:///wma.ppt" TargetMode="External"/><Relationship Id="rId9" Type="http://schemas.openxmlformats.org/officeDocument/2006/relationships/hyperlink" Target="file:///wm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5680" y="533520"/>
            <a:ext cx="61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    0.7   0.5   0.3 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181480" y="1447920"/>
            <a:ext cx="5335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1447920"/>
            <a:ext cx="53316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1447920"/>
            <a:ext cx="0" cy="121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5200" y="312408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木牛流馬是誰做的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0280" y="430848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60160" y="423216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司馬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9080" y="522288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法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1480" y="518148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周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2:58Z</dcterms:modified>
  <cp:revision>12</cp:revision>
  <dc:subject/>
  <dc:title>PowerPoint 簡報</dc:title>
</cp:coreProperties>
</file>