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78A-A4D3-41B9-8CDF-0C2E09D6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A7A-C68A-46A2-BDB7-42FF403F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169-EE48-4770-A264-37F00862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0F8-D22E-4890-956F-6486E37E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215-9390-42F7-B33A-EE976EE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347-1A7F-4BA8-A21A-51D3B94B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CF0-E60B-4EED-8B02-A22188BF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3E0-E289-4E65-97D2-2BBA5608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CE8-B1B7-4D1A-AB51-2BCAEAC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A9B-50DF-46BF-B8D6-310C789F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4F1-033C-4D1A-8AFF-EA0F62C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5B1-2A69-46EF-A29F-013E450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634-E62F-489E-A30A-289A64C75AC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ha.ppt" TargetMode="External"/><Relationship Id="rId3" Type="http://schemas.openxmlformats.org/officeDocument/2006/relationships/hyperlink" Target="file:///wha.ppt" TargetMode="External"/><Relationship Id="rId4" Type="http://schemas.openxmlformats.org/officeDocument/2006/relationships/hyperlink" Target="file:///hq7.ppt" TargetMode="External"/><Relationship Id="rId5" Type="http://schemas.openxmlformats.org/officeDocument/2006/relationships/hyperlink" Target="file:///wha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3240" y="32767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2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50320" y="32767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.2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60" y="3808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1.0   0.9   0.7   0.6   0.5   0.3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447920" y="1066680"/>
            <a:ext cx="838080" cy="83844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066680"/>
            <a:ext cx="76212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143000"/>
            <a:ext cx="0" cy="10666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5480" y="259092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晉於哪年統一中國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114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.2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680" y="4114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.2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16:01Z</dcterms:created>
  <dc:creator>USER</dc:creator>
  <dc:description/>
  <dc:language>en-US</dc:language>
  <cp:lastModifiedBy>USER</cp:lastModifiedBy>
  <dcterms:modified xsi:type="dcterms:W3CDTF">2002-06-18T11:09:30Z</dcterms:modified>
  <cp:revision>11</cp:revision>
  <dc:subject/>
  <dc:title>PowerPoint 簡報</dc:title>
</cp:coreProperties>
</file>