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F0C-3408-4FEE-A78E-08FEA514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EB0-59DB-480B-9373-74CC5A6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B17-AD77-4249-8E00-E484CF02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CC4-373B-4270-8C8F-41EBDB54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A65-FBC3-4AA0-AF95-D3CBB8A4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62A-98A6-4E45-9809-81EA6047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1D5-71AE-4FC6-9060-5C13107A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87A-6CE3-4FD6-BD08-9CBDF953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832-488E-4757-BA60-4471A711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4CC-EDEB-4124-8395-65C76AB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B6A-86DF-4531-BA4E-FB67AF0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CCC-9561-4201-A613-5D73C109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4BBA-7BF7-4248-B414-81C6C86F3D1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wha.ppt" TargetMode="External"/><Relationship Id="rId4" Type="http://schemas.openxmlformats.org/officeDocument/2006/relationships/hyperlink" Target="file:///hq2.ppt" TargetMode="External"/><Relationship Id="rId5" Type="http://schemas.openxmlformats.org/officeDocument/2006/relationships/hyperlink" Target="file:///hq2.ppt" TargetMode="External"/><Relationship Id="rId6" Type="http://schemas.openxmlformats.org/officeDocument/2006/relationships/hyperlink" Target="file:///wha.ppt" TargetMode="External"/><Relationship Id="rId7" Type="http://schemas.openxmlformats.org/officeDocument/2006/relationships/hyperlink" Target="file:///wha.ppt" TargetMode="External"/><Relationship Id="rId8" Type="http://schemas.openxmlformats.org/officeDocument/2006/relationships/hyperlink" Target="file:///wha.ppt" TargetMode="External"/><Relationship Id="rId9" Type="http://schemas.openxmlformats.org/officeDocument/2006/relationships/hyperlink" Target="file:///wh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05280" y="327672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子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27672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漢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60" y="380880"/>
            <a:ext cx="82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1.0   0.9   0.7   0.6   0.5   0.3   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543800" y="1219320"/>
            <a:ext cx="838080" cy="8380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1880" y="1219320"/>
            <a:ext cx="762120" cy="68580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1219320"/>
            <a:ext cx="0" cy="1066680"/>
          </a:xfrm>
          <a:prstGeom prst="line">
            <a:avLst/>
          </a:prstGeom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17000" y="25909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黃忠姓黃名忠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字甚麼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4920" y="41148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仲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72720" y="41148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子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16:01Z</dcterms:created>
  <dc:creator>USER</dc:creator>
  <dc:description/>
  <dc:language>en-US</dc:language>
  <cp:lastModifiedBy>USER</cp:lastModifiedBy>
  <dcterms:modified xsi:type="dcterms:W3CDTF">2002-06-18T11:08:09Z</dcterms:modified>
  <cp:revision>6</cp:revision>
  <dc:subject/>
  <dc:title>PowerPoint 簡報</dc:title>
</cp:coreProperties>
</file>