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38E2-8554-4236-BCDD-7F2CEDBB9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856B-0D3D-4813-8790-2081AA18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34E9-5971-4147-8D02-04059E508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C104-4E33-42E5-8CF3-A085AB6C7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B0D0-0D9F-497D-8D6C-932CAE03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40A7-F83F-4284-AC0F-2CCA37F2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BBA3-4184-48A8-BFD6-5DFB574D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0BF3-F135-4A8C-BE98-A93831AE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2F11-070C-40FB-9E0F-67D040D0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4295-3879-4788-938F-9AD39584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F4F9-A8EB-47DF-A210-694B7780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9CEF-619A-4657-BDF8-54C5224D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5D2C-04F2-478A-9FE0-CF7894B76428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wha.ppt" TargetMode="External"/><Relationship Id="rId3" Type="http://schemas.openxmlformats.org/officeDocument/2006/relationships/hyperlink" Target="file:///wha.ppt" TargetMode="External"/><Relationship Id="rId4" Type="http://schemas.openxmlformats.org/officeDocument/2006/relationships/hyperlink" Target="file:///wha.ppt" TargetMode="External"/><Relationship Id="rId5" Type="http://schemas.openxmlformats.org/officeDocument/2006/relationships/hyperlink" Target="file:///hq6.ppt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ceber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83240" y="327672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A.1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250320" y="327672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B.1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4960" y="380880"/>
            <a:ext cx="825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0000"/>
                </a:solidFill>
                <a:latin typeface="Times New Roman"/>
              </a:rPr>
              <a:t>1.0   0.9   0.7   0.6   0.5   0.3   0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2590920" y="1066680"/>
            <a:ext cx="838080" cy="838440"/>
          </a:xfrm>
          <a:prstGeom prst="line">
            <a:avLst/>
          </a:prstGeom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066680"/>
            <a:ext cx="762120" cy="685800"/>
          </a:xfrm>
          <a:prstGeom prst="line">
            <a:avLst/>
          </a:prstGeom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1143000"/>
            <a:ext cx="0" cy="1066680"/>
          </a:xfrm>
          <a:prstGeom prst="line">
            <a:avLst/>
          </a:prstGeom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37440" y="2590920"/>
            <a:ext cx="20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張角於哪年起事作亂</a:t>
            </a: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82880" y="411480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C.1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50680" y="4114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D.1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14:16:01Z</dcterms:created>
  <dc:creator>USER</dc:creator>
  <dc:description/>
  <dc:language>en-US</dc:language>
  <cp:lastModifiedBy>USER</cp:lastModifiedBy>
  <dcterms:modified xsi:type="dcterms:W3CDTF">2002-06-18T11:09:15Z</dcterms:modified>
  <cp:revision>10</cp:revision>
  <dc:subject/>
  <dc:title>PowerPoint 簡報</dc:title>
</cp:coreProperties>
</file>