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1FDC-DA27-431C-A842-12F1AD84B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160A-5D41-4A16-A875-3EA20E981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B66F-1C7B-4D5F-B468-7A3EE5FAA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D929-07FA-4BD4-9D83-093E6C01C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BAF5-67B1-4B9A-B14C-8224A146F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C804-8C61-4071-8CE5-8C6B4F368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B7F8-80E3-44E0-896B-AD6A2A27D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3C11-BCF6-4969-A814-83BF08D48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1926-1A6F-4137-B234-F3CE57118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3330-080E-4219-989B-4471F014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DB27-7C83-48C9-82CF-A050702F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5686-1594-46C2-9DDE-FDF83846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7576D-E049-47AE-8ADE-ED21C8C135FE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mq1.pp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Vinca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768320" y="0"/>
            <a:ext cx="6032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TW" sz="9600" spc="-1" strike="noStrike">
                <a:solidFill>
                  <a:srgbClr val="ffff00"/>
                </a:solidFill>
                <a:latin typeface="標楷體"/>
                <a:ea typeface="標楷體"/>
              </a:rPr>
              <a:t>你答錯了</a:t>
            </a:r>
            <a:r>
              <a:rPr b="0" lang="zh-TW" sz="9600" spc="-1" strike="noStrike">
                <a:solidFill>
                  <a:srgbClr val="ffff00"/>
                </a:solidFill>
                <a:latin typeface="標楷體"/>
                <a:ea typeface="標楷體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600" spc="-1" strike="noStrike">
                <a:solidFill>
                  <a:srgbClr val="ffff00"/>
                </a:solidFill>
                <a:latin typeface="標楷體"/>
                <a:ea typeface="標楷體"/>
              </a:rPr>
              <a:t>你不用做乞兒了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600" spc="-1" strike="noStrike">
                <a:solidFill>
                  <a:srgbClr val="ffff00"/>
                </a:solidFill>
                <a:latin typeface="標楷體"/>
                <a:ea typeface="標楷體"/>
              </a:rPr>
              <a:t>     </a:t>
            </a:r>
            <a:r>
              <a:rPr b="0" lang="zh-TW" sz="9600" spc="-1" strike="noStrike">
                <a:solidFill>
                  <a:srgbClr val="ffff00"/>
                </a:solidFill>
                <a:latin typeface="標楷體"/>
                <a:ea typeface="標楷體"/>
              </a:rPr>
              <a:t>~_~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35360" y="4952880"/>
            <a:ext cx="155232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 u="sng">
                <a:solidFill>
                  <a:srgbClr val="ccccff"/>
                </a:solidFill>
                <a:uFillTx/>
                <a:latin typeface="Times New Roman"/>
                <a:ea typeface="標楷體"/>
                <a:hlinkClick r:id="rId2"/>
              </a:rPr>
              <a:t>再挑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14:28:06Z</dcterms:created>
  <dc:creator>USER</dc:creator>
  <dc:description/>
  <dc:language>en-US</dc:language>
  <cp:lastModifiedBy>USER</cp:lastModifiedBy>
  <dcterms:modified xsi:type="dcterms:W3CDTF">2002-06-18T11:16:07Z</dcterms:modified>
  <cp:revision>13</cp:revision>
  <dc:subject/>
  <dc:title>PowerPoint 簡報</dc:title>
</cp:coreProperties>
</file>