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5B5-0B27-43CE-8FAD-D4F1B49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557-253C-499C-965D-D8BDB066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6CF-05FF-4D13-91F7-F0A6A03D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201-A823-48BB-A6C1-6175E8DF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F71-A0C7-40A7-AE7B-2F852E2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F52-B021-4510-A862-362F1AF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F8C-E8F0-4883-AB20-891DD1E6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30F-44AD-4C83-BA27-DDD5368E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335-0ACA-4D2E-9515-7C48AAFA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7D3-4ED1-448E-84E2-442BC89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C21-E698-4E0F-90FF-30EB4CD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B5F-1D1C-4837-8B11-6C8D1C9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D05-D659-455F-AEB0-06AF1F8FD0F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wha.ppt" TargetMode="External"/><Relationship Id="rId5" Type="http://schemas.openxmlformats.org/officeDocument/2006/relationships/hyperlink" Target="file:///wha.ppt" TargetMode="External"/><Relationship Id="rId6" Type="http://schemas.openxmlformats.org/officeDocument/2006/relationships/hyperlink" Target="file:///hq4.ppt" TargetMode="External"/><Relationship Id="rId7" Type="http://schemas.openxmlformats.org/officeDocument/2006/relationships/hyperlink" Target="file:///hq4.ppt" TargetMode="External"/><Relationship Id="rId8" Type="http://schemas.openxmlformats.org/officeDocument/2006/relationships/hyperlink" Target="file:///wha.ppt" TargetMode="External"/><Relationship Id="rId9" Type="http://schemas.openxmlformats.org/officeDocument/2006/relationships/hyperlink" Target="file:///wh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05280" y="327672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黃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27672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關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876920" y="1143000"/>
            <a:ext cx="838080" cy="8380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121932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21932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96640" y="25146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魏延被誰人斬死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4920" y="41148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馬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72720" y="41148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趙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8:45Z</dcterms:modified>
  <cp:revision>8</cp:revision>
  <dc:subject/>
  <dc:title>PowerPoint 簡報</dc:title>
</cp:coreProperties>
</file>