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C72-F770-4926-9F85-C004ACD0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9BE-85A8-4054-B517-89E6FCB4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156-3C98-4286-AE52-D2AEAB8A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322-F6AD-42D5-A92C-7FF099E2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7B7-95D9-4F1B-873C-5EB42914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BAC-4A67-45AF-A699-A3A81F59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BBD-6DC2-4090-83AB-E32FA74E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F89-C729-4DC4-98E5-3D36D728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6C5-161E-49F5-9F4A-F9DFBDEC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26A-D3E3-488F-A693-23B9FAF8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AFD-6AC6-4392-8461-94862A9F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74C-73FD-4C76-B094-1D45DCF0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6FA0-4F2B-4DC8-88D2-95A954A4DF4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wea.ppt" TargetMode="External"/><Relationship Id="rId3" Type="http://schemas.openxmlformats.org/officeDocument/2006/relationships/hyperlink" Target="file:///wea.ppt" TargetMode="External"/><Relationship Id="rId4" Type="http://schemas.openxmlformats.org/officeDocument/2006/relationships/hyperlink" Target="file:///wea.ppt" TargetMode="External"/><Relationship Id="rId5" Type="http://schemas.openxmlformats.org/officeDocument/2006/relationships/hyperlink" Target="file:///wea.ppt" TargetMode="External"/><Relationship Id="rId6" Type="http://schemas.openxmlformats.org/officeDocument/2006/relationships/hyperlink" Target="file:///wea.ppt" TargetMode="External"/><Relationship Id="rId7" Type="http://schemas.openxmlformats.org/officeDocument/2006/relationships/hyperlink" Target="file:///wea.ppt" TargetMode="External"/><Relationship Id="rId8" Type="http://schemas.openxmlformats.org/officeDocument/2006/relationships/hyperlink" Target="file:///fe.ppt" TargetMode="External"/><Relationship Id="rId9" Type="http://schemas.openxmlformats.org/officeDocument/2006/relationships/hyperlink" Target="file:///fe.ppt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Yosemit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63960" y="619200"/>
            <a:ext cx="942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Times New Roman"/>
              </a:rPr>
              <a:t>1.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Times New Roman"/>
              </a:rPr>
              <a:t>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Times New Roman"/>
              </a:rPr>
              <a:t>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257440" y="457200"/>
            <a:ext cx="762120" cy="533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990720"/>
            <a:ext cx="76212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990720"/>
            <a:ext cx="1752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25200" y="335268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誰人統一天下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改國號為晉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74320" y="4537080"/>
            <a:ext cx="102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司馬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23000" y="453708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曹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3120" y="560376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曹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71440" y="5638680"/>
            <a:ext cx="102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D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司馬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4:28:06Z</dcterms:created>
  <dc:creator>USER</dc:creator>
  <dc:description/>
  <dc:language>en-US</dc:language>
  <cp:lastModifiedBy>USER</cp:lastModifiedBy>
  <dcterms:modified xsi:type="dcterms:W3CDTF">2002-06-18T11:05:01Z</dcterms:modified>
  <cp:revision>12</cp:revision>
  <dc:subject/>
  <dc:title>PowerPoint 簡報</dc:title>
</cp:coreProperties>
</file>