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FCA-C191-4C5A-BFC4-A4D6CC35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944-B330-48CC-B690-7C3C0638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6FE-E8D7-44A2-87C0-EC711512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4024-FAAF-4127-83A9-7A51FA16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C87E-A031-4435-92B5-F5B79403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5F6-300E-44FB-B557-F4E3BCDB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035-7763-4750-88A9-5A0455FD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DCE-899A-48B0-ABAC-541BEE95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92E-D1DE-49DA-9783-6FB4A001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56D-FD99-40C3-99E4-EEFCB9E1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0C6-8B42-4948-A5CA-A247F560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0390-EB8A-4C17-9548-9534701F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05AB-8D13-4323-B0F0-546647B10EF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eq1.ppt" TargetMode="External"/><Relationship Id="rId3" Type="http://schemas.openxmlformats.org/officeDocument/2006/relationships/hyperlink" Target="file:///mq1.ppt" TargetMode="External"/><Relationship Id="rId4" Type="http://schemas.openxmlformats.org/officeDocument/2006/relationships/hyperlink" Target="file:///hq1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Yosemit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66840" y="385920"/>
            <a:ext cx="725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你已經是乞兒了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  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你只有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1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元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^-^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97480" y="2819520"/>
            <a:ext cx="9428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2"/>
              </a:rPr>
              <a:t>再多玩一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11680" y="4038480"/>
            <a:ext cx="20095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3"/>
              </a:rPr>
              <a:t>挑戰中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11680" y="5334120"/>
            <a:ext cx="20095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4"/>
              </a:rPr>
              <a:t>挑戰高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4:28:06Z</dcterms:created>
  <dc:creator>USER</dc:creator>
  <dc:description/>
  <dc:language>en-US</dc:language>
  <cp:lastModifiedBy>USER</cp:lastModifiedBy>
  <dcterms:modified xsi:type="dcterms:W3CDTF">2002-06-18T11:07:09Z</dcterms:modified>
  <cp:revision>15</cp:revision>
  <dc:subject/>
  <dc:title>PowerPoint 簡報</dc:title>
</cp:coreProperties>
</file>