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6AD4-546A-468A-9294-42087C069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888E-6E52-42C1-80BD-A125B4BF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30D1-D2CE-45E3-9F02-A29EEE064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27D8-7673-4E01-8DF7-999DE0A79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204F-170F-4DC2-861D-BBA3299F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6393-01A4-4F08-BF13-A13345C5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C007-3214-4EAA-AFED-B86B3CE5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C749-79D2-4D0E-9F63-C4309C10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71DF-4DD7-4F1C-9E60-97A48DEB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8B77-0D91-4603-A697-6AFDA47F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0E46-337C-4740-844D-5D17F3A5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C361-FE9E-42FC-9F89-A877BF5E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2C43-36A0-49F4-AD39-2CE7DE304104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未命名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16360" y="369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  <a:ea typeface="華康儷金黑"/>
              </a:rPr>
              <a:t>瑞成書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7" descr=""/>
          <p:cNvPicPr/>
          <p:nvPr/>
        </p:nvPicPr>
        <p:blipFill>
          <a:blip r:embed="rId2"/>
          <a:stretch/>
        </p:blipFill>
        <p:spPr>
          <a:xfrm>
            <a:off x="3581280" y="1600200"/>
            <a:ext cx="3867120" cy="3057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48320" y="4800600"/>
            <a:ext cx="42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華康中圓體"/>
                <a:ea typeface="華康中圓體"/>
              </a:rPr>
              <a:t>地址</a:t>
            </a:r>
            <a:r>
              <a:rPr b="0" lang="zh-TW" sz="1600" spc="-1" strike="noStrike">
                <a:solidFill>
                  <a:srgbClr val="ffffff"/>
                </a:solidFill>
                <a:latin typeface="華康中圓體"/>
                <a:ea typeface="華康中圓體"/>
              </a:rPr>
              <a:t>:</a:t>
            </a:r>
            <a:r>
              <a:rPr b="0" lang="zh-TW" sz="1600" spc="-1" strike="noStrike">
                <a:solidFill>
                  <a:srgbClr val="ffffff"/>
                </a:solidFill>
                <a:latin typeface="華康中圓體"/>
                <a:ea typeface="華康中圓體"/>
              </a:rPr>
              <a:t>台中市雙十路一段</a:t>
            </a:r>
            <a:r>
              <a:rPr b="0" lang="zh-TW" sz="1600" spc="-1" strike="noStrike">
                <a:solidFill>
                  <a:srgbClr val="ffffff"/>
                </a:solidFill>
                <a:latin typeface="華康中圓體"/>
                <a:ea typeface="華康中圓體"/>
              </a:rPr>
              <a:t>4-33</a:t>
            </a:r>
            <a:r>
              <a:rPr b="0" lang="zh-TW" sz="1600" spc="-1" strike="noStrike">
                <a:solidFill>
                  <a:srgbClr val="ffffff"/>
                </a:solidFill>
                <a:latin typeface="華康中圓體"/>
                <a:ea typeface="華康中圓體"/>
              </a:rPr>
              <a:t>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未命名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33000" y="395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8f8f8"/>
                </a:solidFill>
                <a:latin typeface="Arial"/>
                <a:ea typeface="華康中特圓體(P)"/>
              </a:rPr>
              <a:t>消費年齡分佈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666880" y="1295280"/>
          <a:ext cx="609624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29528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Arial"/>
                <a:ea typeface="超世紀粗標楷"/>
              </a:rPr>
              <a:t>生命週期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35344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超世紀粗標楷"/>
                <a:ea typeface="超世紀粗標楷"/>
              </a:rPr>
              <a:t>SWOT</a:t>
            </a:r>
            <a:r>
              <a:rPr b="0" lang="zh-TW" sz="4400" spc="-1" strike="noStrike">
                <a:solidFill>
                  <a:srgbClr val="ff0000"/>
                </a:solidFill>
                <a:latin typeface="超世紀粗標楷"/>
                <a:ea typeface="超世紀粗標楷"/>
              </a:rPr>
              <a:t>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24000" y="1052640"/>
          <a:ext cx="8569080" cy="5265720"/>
        </p:xfrm>
        <a:graphic>
          <a:graphicData uri="http://schemas.openxmlformats.org/drawingml/2006/table">
            <a:tbl>
              <a:tblPr/>
              <a:tblGrid>
                <a:gridCol w="4284360"/>
                <a:gridCol w="428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Ｓ　內部優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Ｗ　內部劣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１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.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地點位在鬧區、台中公園對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２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.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百年老店、歷史悠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３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.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客源穩定，除了宗教類還有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　  術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４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.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擁有自己出版的書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１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.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銷售型態太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２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.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內部狹窄、東西太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３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.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光線雖柔和但不夠充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４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.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位在天橋下、茶館旁，不易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　  察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Ｏ　外部機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Ｔ　外部威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１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.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免費心靈講座、吸引消費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２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.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書局本身漸漸邁向多元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３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.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競爭對手還不至於構成威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４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.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除了宗教書籍外也有宗教文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　  ，達到顧客需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１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.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客源太穩定、缺少新的消費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２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.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新競爭者的竄起（例：敦煌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３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.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促銷方案太少，難向外推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Arial"/>
                <a:ea typeface="超世紀粗標楷"/>
              </a:rPr>
              <a:t>消費者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１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市場區隔論：書局位置其實蠻好，但卻因為不夠顯眼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　 　　　　　　喪失光彩，消費者年齡層偏高，且無法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　 　　　　　　引其他宗教的消費者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２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求人理論：消費者當然希望得到最好的服務品質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３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佔便宜心態：買書如果有贈品就可以刺激購買慾，或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　 　　　　　　是一些折扣，消費者就會有賺到的心態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　 　　　　　　並且可以發放會員卡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４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忠誠與承諾：賣出的東西若有瑕疵當然可以退貨嚕！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　 　　　　　　每個月寄新目錄給會員，讓消費者第一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　 　　　　　　間得知新貨到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Arial"/>
                <a:ea typeface="超世紀粗標楷"/>
              </a:rPr>
              <a:t>競爭者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4502160"/>
        </p:xfrm>
        <a:graphic>
          <a:graphicData uri="http://schemas.openxmlformats.org/drawingml/2006/table">
            <a:tbl>
              <a:tblPr/>
              <a:tblGrid>
                <a:gridCol w="946080"/>
                <a:gridCol w="2376720"/>
                <a:gridCol w="2592360"/>
                <a:gridCol w="231444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瑞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誠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敦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外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比較古色古香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符合百年老店形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富有書卷氣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吸引年輕顧客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外觀較為氣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也具有現代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內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東西很多很豐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但有點過於雜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書雖很多，卻有很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齊、很舒服的感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書架超有規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要找書超方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種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著重宗教類，這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是別間書局沒有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富含人文、藝術、創意、生活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外文書籍眾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附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除了書籍方面另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販賣道袍、水晶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不只是賣書看書，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有賣文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有聲電子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對全民英檢很有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Arial"/>
                <a:ea typeface="超世紀粗標楷"/>
              </a:rPr>
              <a:t>４Ｐ　　　４Ｃ　　　４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24000" y="981000"/>
          <a:ext cx="8569080" cy="5543640"/>
        </p:xfrm>
        <a:graphic>
          <a:graphicData uri="http://schemas.openxmlformats.org/drawingml/2006/table">
            <a:tbl>
              <a:tblPr/>
              <a:tblGrid>
                <a:gridCol w="534960"/>
                <a:gridCol w="1800000"/>
                <a:gridCol w="1049400"/>
                <a:gridCol w="2016000"/>
                <a:gridCol w="1008360"/>
                <a:gridCol w="2160360"/>
              </a:tblGrid>
              <a:tr h="15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333399"/>
                          </a:solidFill>
                          <a:latin typeface="Arial"/>
                          <a:ea typeface="細明體"/>
                        </a:rPr>
                        <a:t>產品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心靈、宗教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面的書籍及文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333399"/>
                          </a:solidFill>
                          <a:latin typeface="Arial"/>
                          <a:ea typeface="細明體"/>
                        </a:rPr>
                        <a:t>消費者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大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333399"/>
                          </a:solidFill>
                          <a:latin typeface="Arial"/>
                          <a:ea typeface="細明體"/>
                        </a:rPr>
                        <a:t>變通性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可增加其他宗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的相關物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（例：基督教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價格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一般合理價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物超所值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消費達到一個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準可以免費參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活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333399"/>
                          </a:solidFill>
                          <a:latin typeface="Arial"/>
                          <a:ea typeface="細明體"/>
                        </a:rPr>
                        <a:t>實質價值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可從書裡得到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答，解決心中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困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通路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書局本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333399"/>
                          </a:solidFill>
                          <a:latin typeface="Arial"/>
                          <a:ea typeface="細明體"/>
                        </a:rPr>
                        <a:t>便利性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增加網路訂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333399"/>
                          </a:solidFill>
                          <a:latin typeface="Arial"/>
                          <a:ea typeface="細明體"/>
                        </a:rPr>
                        <a:t>多元化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外面騎樓可以擺椅子、賣咖啡，給消費者休息看書的地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推廣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定期舉行推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活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333399"/>
                          </a:solidFill>
                          <a:latin typeface="Arial"/>
                          <a:ea typeface="細明體"/>
                        </a:rPr>
                        <a:t>溝通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與消費者建立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動的管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333399"/>
                          </a:solidFill>
                          <a:latin typeface="Arial"/>
                          <a:ea typeface="細明體"/>
                        </a:rPr>
                        <a:t>共鳴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設置意見箱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每星期固定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天解答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未命名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09440" y="399960"/>
            <a:ext cx="14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 Black"/>
                <a:ea typeface="華康中特圓體(P)"/>
              </a:rPr>
              <a:t>4P</a:t>
            </a:r>
            <a:r>
              <a:rPr b="0" lang="zh-CN" sz="1800" spc="-1" strike="noStrike">
                <a:solidFill>
                  <a:srgbClr val="f8f8f8"/>
                </a:solidFill>
                <a:latin typeface="Arial Black"/>
                <a:ea typeface="華康中特圓體(P)"/>
              </a:rPr>
              <a:t>、</a:t>
            </a:r>
            <a:r>
              <a:rPr b="0" lang="en-US" sz="1800" spc="-1" strike="noStrike">
                <a:solidFill>
                  <a:srgbClr val="f8f8f8"/>
                </a:solidFill>
                <a:latin typeface="Arial Black"/>
                <a:ea typeface="華康中特圓體(P)"/>
              </a:rPr>
              <a:t>4V</a:t>
            </a:r>
            <a:r>
              <a:rPr b="0" lang="zh-CN" sz="1800" spc="-1" strike="noStrike">
                <a:solidFill>
                  <a:srgbClr val="f8f8f8"/>
                </a:solidFill>
                <a:latin typeface="Arial Black"/>
                <a:ea typeface="華康中特圓體(P)"/>
              </a:rPr>
              <a:t>、</a:t>
            </a:r>
            <a:r>
              <a:rPr b="0" lang="en-US" sz="1800" spc="-1" strike="noStrike">
                <a:solidFill>
                  <a:srgbClr val="f8f8f8"/>
                </a:solidFill>
                <a:latin typeface="Arial Black"/>
                <a:ea typeface="華康中特圓體(P)"/>
              </a:rPr>
              <a:t>4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43200" y="1447920"/>
            <a:ext cx="2851200" cy="1900080"/>
          </a:xfrm>
          <a:prstGeom prst="flowChartProcess">
            <a:avLst/>
          </a:prstGeom>
          <a:solidFill>
            <a:srgbClr val="66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83320" y="1447920"/>
            <a:ext cx="2851200" cy="1900080"/>
          </a:xfrm>
          <a:prstGeom prst="flowChartProcess">
            <a:avLst/>
          </a:prstGeom>
          <a:solidFill>
            <a:srgbClr val="66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43200" y="3497400"/>
            <a:ext cx="5791320" cy="1900080"/>
          </a:xfrm>
          <a:prstGeom prst="flowChartProcess">
            <a:avLst/>
          </a:prstGeom>
          <a:solidFill>
            <a:srgbClr val="66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1447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 Black"/>
                <a:ea typeface="華康儷特圓(P)"/>
              </a:rPr>
              <a:t>4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3581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 Black"/>
                <a:ea typeface="華康儷特圓(P)"/>
              </a:rPr>
              <a:t>4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1447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 Black"/>
                <a:ea typeface="華康儷特圓(P)"/>
              </a:rPr>
              <a:t>4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19520" y="1828800"/>
            <a:ext cx="27432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華康中特圓體(P)"/>
                <a:ea typeface="華康中特圓體(P)"/>
              </a:rPr>
              <a:t>產品</a:t>
            </a:r>
            <a:r>
              <a:rPr b="0" lang="zh-TW" sz="1200" spc="-1" strike="noStrike">
                <a:solidFill>
                  <a:srgbClr val="ffffff"/>
                </a:solidFill>
                <a:latin typeface="華康中特圓體(P)"/>
                <a:ea typeface="華康中特圓體(P)"/>
              </a:rPr>
              <a:t>: </a:t>
            </a:r>
            <a:r>
              <a:rPr b="0" lang="zh-TW" sz="1400" spc="-1" strike="noStrike">
                <a:solidFill>
                  <a:srgbClr val="ffffff"/>
                </a:solidFill>
                <a:latin typeface="華康中特圓體(P)"/>
                <a:ea typeface="華康中特圓體(P)"/>
              </a:rPr>
              <a:t>宗教類、心靈類、五術書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華康中特圓體(P)"/>
                <a:ea typeface="華康中特圓體(P)"/>
              </a:rPr>
              <a:t>價格</a:t>
            </a:r>
            <a:r>
              <a:rPr b="0" lang="zh-TW" sz="1400" spc="-1" strike="noStrike">
                <a:solidFill>
                  <a:srgbClr val="ffffff"/>
                </a:solidFill>
                <a:latin typeface="華康中特圓體(P)"/>
                <a:ea typeface="華康中特圓體(P)"/>
              </a:rPr>
              <a:t>: </a:t>
            </a:r>
            <a:r>
              <a:rPr b="0" lang="zh-TW" sz="1400" spc="-1" strike="noStrike">
                <a:solidFill>
                  <a:srgbClr val="ffffff"/>
                </a:solidFill>
                <a:latin typeface="華康中特圓體(P)"/>
                <a:ea typeface="華康中特圓體(P)"/>
              </a:rPr>
              <a:t>不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華康中特圓體(P)"/>
                <a:ea typeface="華康中特圓體(P)"/>
              </a:rPr>
              <a:t>通路</a:t>
            </a:r>
            <a:r>
              <a:rPr b="0" lang="zh-TW" sz="1200" spc="-1" strike="noStrike">
                <a:solidFill>
                  <a:srgbClr val="ffffff"/>
                </a:solidFill>
                <a:latin typeface="華康中特圓體(P)"/>
                <a:ea typeface="華康中特圓體(P)"/>
              </a:rPr>
              <a:t>: </a:t>
            </a:r>
            <a:r>
              <a:rPr b="0" lang="zh-TW" sz="1400" spc="-1" strike="noStrike">
                <a:solidFill>
                  <a:srgbClr val="ffffff"/>
                </a:solidFill>
                <a:latin typeface="華康中特圓體(P)"/>
                <a:ea typeface="華康中特圓體(P)"/>
              </a:rPr>
              <a:t>門市、網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華康中特圓體(P)"/>
                <a:ea typeface="華康中特圓體(P)"/>
              </a:rPr>
              <a:t>推廣</a:t>
            </a:r>
            <a:r>
              <a:rPr b="0" lang="zh-TW" sz="1200" spc="-1" strike="noStrike">
                <a:solidFill>
                  <a:srgbClr val="ffffff"/>
                </a:solidFill>
                <a:latin typeface="華康中特圓體(P)"/>
                <a:ea typeface="華康中特圓體(P)"/>
              </a:rPr>
              <a:t>: </a:t>
            </a:r>
            <a:r>
              <a:rPr b="0" lang="zh-TW" sz="1400" spc="-1" strike="noStrike">
                <a:solidFill>
                  <a:srgbClr val="ffffff"/>
                </a:solidFill>
                <a:latin typeface="華康中特圓體(P)"/>
                <a:ea typeface="華康中特圓體(P)"/>
              </a:rPr>
              <a:t>口耳相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3886200"/>
            <a:ext cx="42670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華康中特圓體(P)"/>
                <a:ea typeface="華康中特圓體(P)"/>
              </a:rPr>
              <a:t>消費者</a:t>
            </a:r>
            <a:r>
              <a:rPr b="0" lang="zh-TW" sz="1200" spc="-1" strike="noStrike">
                <a:solidFill>
                  <a:srgbClr val="ffffff"/>
                </a:solidFill>
                <a:latin typeface="華康中特圓體(P)"/>
                <a:ea typeface="華康中特圓體(P)"/>
              </a:rPr>
              <a:t>: </a:t>
            </a:r>
            <a:r>
              <a:rPr b="0" lang="zh-TW" sz="1400" spc="-1" strike="noStrike">
                <a:solidFill>
                  <a:srgbClr val="ffffff"/>
                </a:solidFill>
                <a:latin typeface="華康中特圓體(P)"/>
                <a:ea typeface="華康中特圓體(P)"/>
              </a:rPr>
              <a:t>宗教信仰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華康中特圓體(P)"/>
                <a:ea typeface="華康中特圓體(P)"/>
              </a:rPr>
              <a:t>物超所值</a:t>
            </a:r>
            <a:r>
              <a:rPr b="0" lang="zh-TW" sz="1200" spc="-1" strike="noStrike">
                <a:solidFill>
                  <a:srgbClr val="ffffff"/>
                </a:solidFill>
                <a:latin typeface="華康中特圓體(P)"/>
                <a:ea typeface="華康中特圓體(P)"/>
              </a:rPr>
              <a:t>: </a:t>
            </a:r>
            <a:r>
              <a:rPr b="0" lang="zh-TW" sz="1400" spc="-1" strike="noStrike">
                <a:solidFill>
                  <a:srgbClr val="ffffff"/>
                </a:solidFill>
                <a:latin typeface="華康中特圓體(P)"/>
                <a:ea typeface="華康中特圓體(P)"/>
              </a:rPr>
              <a:t>心靈講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華康中特圓體(P)"/>
                <a:ea typeface="華康中特圓體(P)"/>
              </a:rPr>
              <a:t>便利性</a:t>
            </a:r>
            <a:r>
              <a:rPr b="0" lang="zh-TW" sz="1200" spc="-1" strike="noStrike">
                <a:solidFill>
                  <a:srgbClr val="ffffff"/>
                </a:solidFill>
                <a:latin typeface="華康中特圓體(P)"/>
                <a:ea typeface="華康中特圓體(P)"/>
              </a:rPr>
              <a:t>: </a:t>
            </a:r>
            <a:r>
              <a:rPr b="0" lang="zh-TW" sz="1400" spc="-1" strike="noStrike">
                <a:solidFill>
                  <a:srgbClr val="ffffff"/>
                </a:solidFill>
                <a:latin typeface="華康中特圓體(P)"/>
                <a:ea typeface="華康中特圓體(P)"/>
              </a:rPr>
              <a:t>週邊商品眾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華康中特圓體(P)"/>
                <a:ea typeface="華康中特圓體(P)"/>
              </a:rPr>
              <a:t>溝通</a:t>
            </a:r>
            <a:r>
              <a:rPr b="0" lang="zh-TW" sz="1200" spc="-1" strike="noStrike">
                <a:solidFill>
                  <a:srgbClr val="ffffff"/>
                </a:solidFill>
                <a:latin typeface="華康中特圓體(P)"/>
                <a:ea typeface="華康中特圓體(P)"/>
              </a:rPr>
              <a:t>: </a:t>
            </a:r>
            <a:r>
              <a:rPr b="0" lang="zh-TW" sz="1400" spc="-1" strike="noStrike">
                <a:solidFill>
                  <a:srgbClr val="ffffff"/>
                </a:solidFill>
                <a:latin typeface="華康中特圓體(P)"/>
                <a:ea typeface="華康中特圓體(P)"/>
              </a:rPr>
              <a:t>瑞成網站“與我們聯絡”信箱、課程體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15000" y="1828800"/>
            <a:ext cx="27432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華康中特圓體(P)"/>
                <a:ea typeface="華康中特圓體(P)"/>
              </a:rPr>
              <a:t>變通姓</a:t>
            </a:r>
            <a:r>
              <a:rPr b="0" lang="zh-TW" sz="1400" spc="-1" strike="noStrike">
                <a:solidFill>
                  <a:srgbClr val="ffffff"/>
                </a:solidFill>
                <a:latin typeface="華康中特圓體(P)"/>
                <a:ea typeface="華康中特圓體(P)"/>
              </a:rPr>
              <a:t>:</a:t>
            </a:r>
            <a:r>
              <a:rPr b="0" lang="zh-TW" sz="1400" spc="-1" strike="noStrike">
                <a:solidFill>
                  <a:srgbClr val="ffffff"/>
                </a:solidFill>
                <a:latin typeface="華康中特圓體(P)"/>
                <a:ea typeface="華康中特圓體(P)"/>
              </a:rPr>
              <a:t>相關商品一次滿足消費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華康中特圓體(P)"/>
                <a:ea typeface="華康中特圓體(P)"/>
              </a:rPr>
              <a:t>實質價值</a:t>
            </a:r>
            <a:r>
              <a:rPr b="0" lang="zh-TW" sz="1400" spc="-1" strike="noStrike">
                <a:solidFill>
                  <a:srgbClr val="ffffff"/>
                </a:solidFill>
                <a:latin typeface="華康中特圓體(P)"/>
                <a:ea typeface="華康中特圓體(P)"/>
              </a:rPr>
              <a:t>:</a:t>
            </a:r>
            <a:r>
              <a:rPr b="0" lang="zh-TW" sz="1400" spc="-1" strike="noStrike">
                <a:solidFill>
                  <a:srgbClr val="ffffff"/>
                </a:solidFill>
                <a:latin typeface="華康中特圓體(P)"/>
                <a:ea typeface="華康中特圓體(P)"/>
              </a:rPr>
              <a:t>市面上不易尋找到的書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華康中特圓體(P)"/>
                <a:ea typeface="華康中特圓體(P)"/>
              </a:rPr>
              <a:t>多元性</a:t>
            </a:r>
            <a:r>
              <a:rPr b="0" lang="zh-TW" sz="1400" spc="-1" strike="noStrike">
                <a:solidFill>
                  <a:srgbClr val="ffffff"/>
                </a:solidFill>
                <a:latin typeface="華康中特圓體(P)"/>
                <a:ea typeface="華康中特圓體(P)"/>
              </a:rPr>
              <a:t>:</a:t>
            </a:r>
            <a:r>
              <a:rPr b="0" lang="zh-TW" sz="1400" spc="-1" strike="noStrike">
                <a:solidFill>
                  <a:srgbClr val="ffffff"/>
                </a:solidFill>
                <a:latin typeface="華康中特圓體(P)"/>
                <a:ea typeface="華康中特圓體(P)"/>
              </a:rPr>
              <a:t>商品多元、網路書籍查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華康中特圓體(P)"/>
                <a:ea typeface="華康中特圓體(P)"/>
              </a:rPr>
              <a:t>共鳴性</a:t>
            </a:r>
            <a:r>
              <a:rPr b="0" lang="zh-TW" sz="1400" spc="-1" strike="noStrike">
                <a:solidFill>
                  <a:srgbClr val="ffffff"/>
                </a:solidFill>
                <a:latin typeface="華康中特圓體(P)"/>
                <a:ea typeface="華康中特圓體(P)"/>
              </a:rPr>
              <a:t>:</a:t>
            </a:r>
            <a:r>
              <a:rPr b="0" lang="zh-TW" sz="1400" spc="-1" strike="noStrike">
                <a:solidFill>
                  <a:srgbClr val="ffffff"/>
                </a:solidFill>
                <a:latin typeface="華康中特圓體(P)"/>
                <a:ea typeface="華康中特圓體(P)"/>
              </a:rPr>
              <a:t>網路留言互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1692360" y="1052640"/>
            <a:ext cx="9144000" cy="68878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941560" y="3952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8f8f8"/>
                </a:solidFill>
                <a:latin typeface="Arial"/>
                <a:ea typeface="華康中特圓體(P)"/>
              </a:rPr>
              <a:t>施工報價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371600"/>
            <a:ext cx="8153280" cy="5181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066680" y="1600200"/>
          <a:ext cx="7512120" cy="4809960"/>
        </p:xfrm>
        <a:graphic>
          <a:graphicData uri="http://schemas.openxmlformats.org/drawingml/2006/table">
            <a:tbl>
              <a:tblPr/>
              <a:tblGrid>
                <a:gridCol w="1828800"/>
                <a:gridCol w="2025720"/>
                <a:gridCol w="1828800"/>
                <a:gridCol w="1828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品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單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數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金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全開水彩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3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粉蠟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150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（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60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色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美工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完稿噴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300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（罐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木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90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（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360CM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2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六分木心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5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90*200C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木紋卡典西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鐵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30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（盒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壓克力書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150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紅布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10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（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30CM/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裁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施工設計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華康超明體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華康超明體"/>
                        </a:rPr>
                        <a:t>         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華康超明體"/>
                        </a:rPr>
                        <a:t>總 價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華康超明體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Arial"/>
                          <a:ea typeface="華康超明體"/>
                        </a:rPr>
                        <a:t>9000</a:t>
                      </a: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Arial"/>
                          <a:ea typeface="華康超明體"/>
                        </a:rPr>
                        <a:t>元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17:32:44Z</dcterms:created>
  <dc:creator>SuperXP</dc:creator>
  <dc:description/>
  <dc:language>en-US</dc:language>
  <cp:lastModifiedBy> </cp:lastModifiedBy>
  <dcterms:modified xsi:type="dcterms:W3CDTF">2005-11-28T12:22:10Z</dcterms:modified>
  <cp:revision>19</cp:revision>
  <dc:subject/>
  <dc:title>投影片 1</dc:title>
</cp:coreProperties>
</file>