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AE0-5FBA-4700-A07D-29D41BAE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82B-A52E-4DC6-A654-49AA7ECC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5A6-2048-4C68-AC47-5F0D178C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4CB-DE15-4C5C-B104-76F5237B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3919-3AD3-4A1D-B9A7-519FC917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0D8B-76EE-4205-A371-F66D1413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C004-AF59-4DDD-8316-26004E1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9B06-5A79-42FD-A1DF-603DF90E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80C4-AD92-4ED5-8C9B-2A7E5297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8F65-1BD0-466E-B1D4-E2F164A9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D145-E2F4-4E38-BEAC-AB38616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734-9D30-4CC0-BA43-106B11B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D518-71A9-4DDF-906F-329C217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2E77-05BD-4412-B165-C0E21DA9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13A1-B634-4A61-9A98-08A66ED2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8025-C9C1-4F58-9A2A-97F6F0F2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4D50-9888-475F-9D91-4B89D3EE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B37-043C-4040-8FBF-5814D2B4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D44-29C3-41AC-AD40-0054FDF4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258-91E6-47F6-8622-31D91D0C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BBE-D9E8-4604-8DE2-5B8FEC63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950-D0D6-4206-A09E-E0224972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DB6-F3CA-4B22-BD18-AC7CBE7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AAA-6BE4-4D07-BF39-02569773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EC4-C6C0-4F12-9476-2E578B43BBD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DD7E-2039-46FA-83EB-3A25B72F19F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../examples/chap01/Lincoln.java" TargetMode="External"/><Relationship Id="rId2" Type="http://schemas.openxmlformats.org/officeDocument/2006/relationships/hyperlink" Target="file:///../examples/chap01/Lincoln.java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../examples/chap01/Lincoln2.java" TargetMode="External"/><Relationship Id="rId2" Type="http://schemas.openxmlformats.org/officeDocument/2006/relationships/hyperlink" Target="file:///../examples/chap01/Lincoln3.java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1:  Computer Syste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igital Inform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ers store all information digitally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umb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ex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aphics and imag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udio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ideo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gram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some way, all information i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gitiz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broken down into pieces and represented as numb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3E3-7E1B-4CFB-BB6A-4AC78258FB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presenting Text Digitally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every character is stored as a number, including spaces, digits, and punctu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rresponding upper and lower case letters are separate charac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89000" y="3429000"/>
            <a:ext cx="347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H i ,   H e a t h e r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83920" y="3962520"/>
            <a:ext cx="6137640" cy="1341720"/>
            <a:chOff x="1483920" y="3962520"/>
            <a:chExt cx="6137640" cy="1341720"/>
          </a:xfrm>
        </p:grpSpPr>
        <p:sp>
          <p:nvSpPr>
            <p:cNvPr id="161" name=""/>
            <p:cNvSpPr/>
            <p:nvPr/>
          </p:nvSpPr>
          <p:spPr>
            <a:xfrm>
              <a:off x="1483920" y="4906800"/>
              <a:ext cx="6137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72   105   44   32   72   101   97   116   104   101   114   4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752480" y="3962520"/>
              <a:ext cx="1371600" cy="91440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19160" y="4038120"/>
              <a:ext cx="762120" cy="76212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3962520"/>
              <a:ext cx="228600" cy="91440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160" y="3962520"/>
              <a:ext cx="1066680" cy="99036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114440" y="3962520"/>
              <a:ext cx="381240" cy="914400"/>
            </a:xfrm>
            <a:prstGeom prst="line">
              <a:avLst/>
            </a:prstGeom>
            <a:ln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DF4-2EDC-453A-8803-9EDE09508F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inary Numb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ce information is digitized, it is represented and stored in memory using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nary number syst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ingle binary digit (0 or 1) is called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vices that store and move information are cheaper and more reliable if they only have to represent two stat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ingle bit can represent two possible states, like a light bulb that is either on (1) or off (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binations of bits are used to store val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2DD-BB6A-4269-B258-68F5EAFAC5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it Combina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83400" y="1371600"/>
            <a:ext cx="770400" cy="1265040"/>
            <a:chOff x="1283400" y="1371600"/>
            <a:chExt cx="770400" cy="1265040"/>
          </a:xfrm>
        </p:grpSpPr>
        <p:sp>
          <p:nvSpPr>
            <p:cNvPr id="171" name=""/>
            <p:cNvSpPr/>
            <p:nvPr/>
          </p:nvSpPr>
          <p:spPr>
            <a:xfrm>
              <a:off x="1283400" y="1371600"/>
              <a:ext cx="77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99"/>
                  </a:solidFill>
                  <a:uFillTx/>
                  <a:latin typeface="Times New Roman"/>
                </a:rPr>
                <a:t>1 b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92560" y="1811160"/>
              <a:ext cx="3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53640" y="1371600"/>
            <a:ext cx="889200" cy="1996560"/>
            <a:chOff x="2753640" y="1371600"/>
            <a:chExt cx="889200" cy="1996560"/>
          </a:xfrm>
        </p:grpSpPr>
        <p:sp>
          <p:nvSpPr>
            <p:cNvPr id="174" name=""/>
            <p:cNvSpPr/>
            <p:nvPr/>
          </p:nvSpPr>
          <p:spPr>
            <a:xfrm>
              <a:off x="2753640" y="1371600"/>
              <a:ext cx="88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99"/>
                  </a:solidFill>
                  <a:uFillTx/>
                  <a:latin typeface="Times New Roman"/>
                </a:rPr>
                <a:t>2 bi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44800" y="18111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42680" y="1371600"/>
            <a:ext cx="889200" cy="3459600"/>
            <a:chOff x="4342680" y="1371600"/>
            <a:chExt cx="889200" cy="3459600"/>
          </a:xfrm>
        </p:grpSpPr>
        <p:sp>
          <p:nvSpPr>
            <p:cNvPr id="177" name=""/>
            <p:cNvSpPr/>
            <p:nvPr/>
          </p:nvSpPr>
          <p:spPr>
            <a:xfrm>
              <a:off x="4342680" y="1371600"/>
              <a:ext cx="88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99"/>
                  </a:solidFill>
                  <a:uFillTx/>
                  <a:latin typeface="Times New Roman"/>
                </a:rPr>
                <a:t>3 bi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57880" y="1811160"/>
              <a:ext cx="6379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0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0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1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1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924880" y="1371600"/>
            <a:ext cx="1856880" cy="3459600"/>
            <a:chOff x="5924880" y="1371600"/>
            <a:chExt cx="1856880" cy="3459600"/>
          </a:xfrm>
        </p:grpSpPr>
        <p:sp>
          <p:nvSpPr>
            <p:cNvPr id="180" name=""/>
            <p:cNvSpPr/>
            <p:nvPr/>
          </p:nvSpPr>
          <p:spPr>
            <a:xfrm>
              <a:off x="6417720" y="1371600"/>
              <a:ext cx="88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99"/>
                  </a:solidFill>
                  <a:uFillTx/>
                  <a:latin typeface="Times New Roman"/>
                </a:rPr>
                <a:t>4 bi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924880" y="1811160"/>
              <a:ext cx="1856880" cy="3020040"/>
              <a:chOff x="5924880" y="1811160"/>
              <a:chExt cx="1856880" cy="3020040"/>
            </a:xfrm>
          </p:grpSpPr>
          <p:sp>
            <p:nvSpPr>
              <p:cNvPr id="182" name=""/>
              <p:cNvSpPr/>
              <p:nvPr/>
            </p:nvSpPr>
            <p:spPr>
              <a:xfrm>
                <a:off x="5924880" y="1811160"/>
                <a:ext cx="7902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0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0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0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0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0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0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0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0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91560" y="1811160"/>
                <a:ext cx="7902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1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10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10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10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1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11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11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11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1127880" y="5181480"/>
            <a:ext cx="72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ach additional bit doubles the number of possible combin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5A4-503D-458E-B9DA-5B7FACF97B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it Combina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ombination can represent a particular it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binations of N bi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, N bits are needed to represent 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unique it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40560" y="3159000"/>
            <a:ext cx="1793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 2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24720" y="3701880"/>
            <a:ext cx="1793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 4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21480" y="4246560"/>
            <a:ext cx="1825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=  8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21480" y="4789440"/>
            <a:ext cx="1977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=  16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1480" y="5334120"/>
            <a:ext cx="1977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=  32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0320" y="2975040"/>
            <a:ext cx="4019040" cy="2837160"/>
            <a:chOff x="1210320" y="2975040"/>
            <a:chExt cx="4019040" cy="2837160"/>
          </a:xfrm>
        </p:grpSpPr>
        <p:sp>
          <p:nvSpPr>
            <p:cNvPr id="193" name=""/>
            <p:cNvSpPr/>
            <p:nvPr/>
          </p:nvSpPr>
          <p:spPr>
            <a:xfrm>
              <a:off x="4115880" y="2975040"/>
              <a:ext cx="11134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1 bit 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2 bits 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3 bits 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4 bits 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5 bits 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0320" y="3684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How ma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items can b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represented 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1280" y="3276720"/>
              <a:ext cx="228600" cy="23619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1560 h 2361960"/>
                <a:gd name="textAreaBottom" fmla="*/ 230040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983-50C6-4BCA-B42D-6B5FAA082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 Computer Specific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following specification for a personal computer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600 MHz Pentium III Process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256 MB RA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6 GB Hard Dis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24x speed CD ROM Drive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7” Multimedia Video Display with 1280 x 1024 resolu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56 KB Mode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at does it all mean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8A5-2BBA-4B52-92D8-1091A5EE04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emory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124080" y="1219320"/>
            <a:ext cx="4724640" cy="4841280"/>
            <a:chOff x="3124080" y="1219320"/>
            <a:chExt cx="4724640" cy="4841280"/>
          </a:xfrm>
        </p:grpSpPr>
        <p:grpSp>
          <p:nvGrpSpPr>
            <p:cNvPr id="200" name=""/>
            <p:cNvGrpSpPr/>
            <p:nvPr/>
          </p:nvGrpSpPr>
          <p:grpSpPr>
            <a:xfrm>
              <a:off x="3124080" y="1219320"/>
              <a:ext cx="1447560" cy="4841280"/>
              <a:chOff x="3124080" y="1219320"/>
              <a:chExt cx="1447560" cy="4841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809880" y="1219320"/>
                <a:ext cx="98640" cy="574560"/>
                <a:chOff x="3809880" y="1219320"/>
                <a:chExt cx="98640" cy="5745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1219320"/>
                  <a:ext cx="95400" cy="950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13120" y="1457280"/>
                  <a:ext cx="95400" cy="954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13120" y="1698480"/>
                  <a:ext cx="95400" cy="954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809880" y="5486400"/>
                <a:ext cx="98280" cy="574200"/>
                <a:chOff x="3809880" y="5486400"/>
                <a:chExt cx="98280" cy="5742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809880" y="5486400"/>
                  <a:ext cx="95040" cy="950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813120" y="5724360"/>
                  <a:ext cx="95040" cy="9468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13120" y="5965560"/>
                  <a:ext cx="95040" cy="9504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124080" y="1905120"/>
                <a:ext cx="1447560" cy="3429000"/>
                <a:chOff x="3124080" y="1905120"/>
                <a:chExt cx="1447560" cy="3429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124080" y="1905120"/>
                  <a:ext cx="1447560" cy="38124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124080" y="228636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24080" y="266724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124080" y="3048120"/>
                  <a:ext cx="1447560" cy="38124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124080" y="342936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124080" y="381024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124080" y="4191120"/>
                  <a:ext cx="1447560" cy="38124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124080" y="457236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24080" y="495324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4952880" y="2133720"/>
              <a:ext cx="2895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Main memory is divided into many memory locations (or </a:t>
              </a: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cells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057040" y="1905120"/>
            <a:ext cx="5943960" cy="3457440"/>
            <a:chOff x="2057040" y="1905120"/>
            <a:chExt cx="5943960" cy="3457440"/>
          </a:xfrm>
        </p:grpSpPr>
        <p:sp>
          <p:nvSpPr>
            <p:cNvPr id="221" name=""/>
            <p:cNvSpPr/>
            <p:nvPr/>
          </p:nvSpPr>
          <p:spPr>
            <a:xfrm>
              <a:off x="2057040" y="1905120"/>
              <a:ext cx="794520" cy="34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7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52880" y="3962520"/>
              <a:ext cx="3048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Each memory cell has a numeric </a:t>
              </a: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address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, which uniquely identifies 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AC4-8EFC-4735-B1C6-CFAE0620BC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oring Inform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057040" y="1219320"/>
            <a:ext cx="2514600" cy="4841280"/>
            <a:chOff x="2057040" y="1219320"/>
            <a:chExt cx="2514600" cy="4841280"/>
          </a:xfrm>
        </p:grpSpPr>
        <p:sp>
          <p:nvSpPr>
            <p:cNvPr id="225" name=""/>
            <p:cNvSpPr/>
            <p:nvPr/>
          </p:nvSpPr>
          <p:spPr>
            <a:xfrm>
              <a:off x="2057040" y="1905120"/>
              <a:ext cx="794520" cy="34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7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928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809880" y="1219320"/>
              <a:ext cx="98640" cy="574560"/>
              <a:chOff x="3809880" y="1219320"/>
              <a:chExt cx="98640" cy="574560"/>
            </a:xfrm>
          </p:grpSpPr>
          <p:sp>
            <p:nvSpPr>
              <p:cNvPr id="227" name=""/>
              <p:cNvSpPr/>
              <p:nvPr/>
            </p:nvSpPr>
            <p:spPr>
              <a:xfrm>
                <a:off x="3809880" y="1219320"/>
                <a:ext cx="95400" cy="9504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13120" y="1457280"/>
                <a:ext cx="95400" cy="954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813120" y="1698480"/>
                <a:ext cx="95400" cy="954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809880" y="5486400"/>
              <a:ext cx="98280" cy="574200"/>
              <a:chOff x="3809880" y="5486400"/>
              <a:chExt cx="98280" cy="574200"/>
            </a:xfrm>
          </p:grpSpPr>
          <p:sp>
            <p:nvSpPr>
              <p:cNvPr id="231" name=""/>
              <p:cNvSpPr/>
              <p:nvPr/>
            </p:nvSpPr>
            <p:spPr>
              <a:xfrm>
                <a:off x="3809880" y="5486400"/>
                <a:ext cx="95040" cy="9504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13120" y="5724360"/>
                <a:ext cx="95040" cy="946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813120" y="5965560"/>
                <a:ext cx="95040" cy="9504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24080" y="1905120"/>
              <a:ext cx="1447560" cy="3429000"/>
              <a:chOff x="3124080" y="1905120"/>
              <a:chExt cx="1447560" cy="3429000"/>
            </a:xfrm>
          </p:grpSpPr>
          <p:sp>
            <p:nvSpPr>
              <p:cNvPr id="235" name=""/>
              <p:cNvSpPr/>
              <p:nvPr/>
            </p:nvSpPr>
            <p:spPr>
              <a:xfrm>
                <a:off x="3124080" y="1905120"/>
                <a:ext cx="1447560" cy="38124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24080" y="228636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24080" y="266724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24080" y="3048120"/>
                <a:ext cx="1447560" cy="38124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124080" y="342936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24080" y="381024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24080" y="4191120"/>
                <a:ext cx="1447560" cy="38124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24080" y="457236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24080" y="495324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3124080" y="3352680"/>
            <a:ext cx="4349160" cy="1007280"/>
            <a:chOff x="3124080" y="3352680"/>
            <a:chExt cx="4349160" cy="1007280"/>
          </a:xfrm>
        </p:grpSpPr>
        <p:sp>
          <p:nvSpPr>
            <p:cNvPr id="245" name=""/>
            <p:cNvSpPr/>
            <p:nvPr/>
          </p:nvSpPr>
          <p:spPr>
            <a:xfrm>
              <a:off x="5023440" y="3352680"/>
              <a:ext cx="244980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Large values a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stored in consecu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memory loca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00240" y="3504960"/>
              <a:ext cx="76320" cy="6858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124080" y="3429000"/>
              <a:ext cx="1447560" cy="761760"/>
              <a:chOff x="3124080" y="3429000"/>
              <a:chExt cx="1447560" cy="761760"/>
            </a:xfrm>
          </p:grpSpPr>
          <p:sp>
            <p:nvSpPr>
              <p:cNvPr id="248" name=""/>
              <p:cNvSpPr/>
              <p:nvPr/>
            </p:nvSpPr>
            <p:spPr>
              <a:xfrm>
                <a:off x="3124080" y="3429000"/>
                <a:ext cx="1447560" cy="38088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24080" y="3809880"/>
                <a:ext cx="1447560" cy="38088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3173400" y="1981080"/>
            <a:ext cx="5056200" cy="1008720"/>
            <a:chOff x="3173400" y="1981080"/>
            <a:chExt cx="5056200" cy="1008720"/>
          </a:xfrm>
        </p:grpSpPr>
        <p:sp>
          <p:nvSpPr>
            <p:cNvPr id="251" name=""/>
            <p:cNvSpPr/>
            <p:nvPr/>
          </p:nvSpPr>
          <p:spPr>
            <a:xfrm>
              <a:off x="3173400" y="230040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100110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05520" y="1981080"/>
              <a:ext cx="31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Each memory cell stores a set number of bits (usually 8 bits, or one </a:t>
              </a: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byte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2486160"/>
              <a:ext cx="380880" cy="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E6D-EC01-4D65-86C1-08B58C7CC6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orage Capacity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17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memory device ha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orage capaci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ndicating the number of bytes it can hol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pacities are expressed in various unit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3467160"/>
            <a:ext cx="3809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=  10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40520" y="3948120"/>
            <a:ext cx="4269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over 1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40880" y="4430880"/>
            <a:ext cx="4184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over 1 b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40160" y="4913280"/>
            <a:ext cx="4252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ffff99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over 1 tr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1640" y="2895480"/>
            <a:ext cx="57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016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Unit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ymbol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umber of By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2320" y="3505320"/>
            <a:ext cx="143496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ilo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ga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ga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era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4FA-CF7F-4CE7-8AA6-AD6568A4F8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emory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in memory i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olati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-  stored information is lost if the electric power is remov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ary memory devices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nvolati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in memory and disks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rect acce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evices - information can be reached direct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terms direct access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andom acce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re often used interchangeab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agnetic tape i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equential acce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evice since its data is arranged in a linear order  -  you must get by the intervening data in order to access other inform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B89-CDE1-45C8-996B-CCD865D10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ocus of the Cours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-Oriented Software Develop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blem solv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gram design and implement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bject-oriented concep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objec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lass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terfac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heritanc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olymorphism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aphics and Graphical User Interfac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Java programming languag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1B4-6792-4672-8C70-451DFC2E3B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AM vs. RO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A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-  Random Access Memory (direct acces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O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-  Read-Only Memo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terms RAM and main memory are basically interchange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M could be a set of memory chips, or a separate device, such as a CD RO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th RAM and ROM are random (direct) access devices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AM should probably be called Read-Write Memo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172-4043-4A0F-82DF-02A6696F34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Central Processing Uni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PU is also called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icroprocess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continuously follows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etch-decode-execute cyc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1566400">
            <a:off x="2895480" y="335268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77000" y="2666880"/>
            <a:ext cx="4872960" cy="1204920"/>
            <a:chOff x="2277000" y="2666880"/>
            <a:chExt cx="4872960" cy="1204920"/>
          </a:xfrm>
        </p:grpSpPr>
        <p:sp>
          <p:nvSpPr>
            <p:cNvPr id="270" name=""/>
            <p:cNvSpPr/>
            <p:nvPr/>
          </p:nvSpPr>
          <p:spPr>
            <a:xfrm>
              <a:off x="3645000" y="318600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77000" y="2666880"/>
              <a:ext cx="48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Retrieve an instruction from main 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29200" y="3423960"/>
            <a:ext cx="3028320" cy="2336040"/>
            <a:chOff x="5029200" y="3423960"/>
            <a:chExt cx="3028320" cy="2336040"/>
          </a:xfrm>
        </p:grpSpPr>
        <p:sp>
          <p:nvSpPr>
            <p:cNvPr id="273" name=""/>
            <p:cNvSpPr/>
            <p:nvPr/>
          </p:nvSpPr>
          <p:spPr>
            <a:xfrm>
              <a:off x="5029200" y="426708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34800">
              <a:off x="5295600" y="3389400"/>
              <a:ext cx="685800" cy="7621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25080" y="5056200"/>
              <a:ext cx="2332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Determine what th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nstruction 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93360" y="4267080"/>
            <a:ext cx="3283560" cy="1492920"/>
            <a:chOff x="1593360" y="4267080"/>
            <a:chExt cx="3283560" cy="1492920"/>
          </a:xfrm>
        </p:grpSpPr>
        <p:sp>
          <p:nvSpPr>
            <p:cNvPr id="277" name=""/>
            <p:cNvSpPr/>
            <p:nvPr/>
          </p:nvSpPr>
          <p:spPr>
            <a:xfrm>
              <a:off x="2362320" y="426708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execu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2520" y="4406760"/>
              <a:ext cx="914400" cy="45720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93360" y="5056200"/>
              <a:ext cx="166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Carry out th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940-FD55-4E1A-BDCF-6A93AF4673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Central Processing Unit (CPU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6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PU contai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2362320"/>
            <a:ext cx="26668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Arithmetic / Logic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4800600"/>
            <a:ext cx="2057400" cy="685800"/>
          </a:xfrm>
          <a:prstGeom prst="cube">
            <a:avLst>
              <a:gd name="adj" fmla="val 8523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Regis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3581280"/>
            <a:ext cx="19810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Control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4648320"/>
            <a:ext cx="1789200" cy="703800"/>
          </a:xfrm>
          <a:solidFill>
            <a:srgbClr val="2181b7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mall storage are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2286000"/>
            <a:ext cx="2666880" cy="703800"/>
          </a:xfrm>
          <a:solidFill>
            <a:srgbClr val="2181b7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erforms calculations and deci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3429000"/>
            <a:ext cx="2057400" cy="703800"/>
          </a:xfrm>
          <a:solidFill>
            <a:srgbClr val="2181b7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ordinates processing ste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2070000"/>
            <a:ext cx="3117960" cy="3645000"/>
          </a:xfrm>
          <a:custGeom>
            <a:avLst/>
            <a:gdLst>
              <a:gd name="textAreaLeft" fmla="*/ 151920 w 3117960"/>
              <a:gd name="textAreaRight" fmla="*/ 2966040 w 3117960"/>
              <a:gd name="textAreaTop" fmla="*/ 151920 h 3645000"/>
              <a:gd name="textAreaBottom" fmla="*/ 3493080 h 364500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048120" y="3048120"/>
            <a:ext cx="228600" cy="1676160"/>
            <a:chOff x="3048120" y="3048120"/>
            <a:chExt cx="228600" cy="1676160"/>
          </a:xfrm>
        </p:grpSpPr>
        <p:sp>
          <p:nvSpPr>
            <p:cNvPr id="290" name=""/>
            <p:cNvSpPr/>
            <p:nvPr/>
          </p:nvSpPr>
          <p:spPr>
            <a:xfrm>
              <a:off x="3048120" y="30481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48120" y="426708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8E7-043C-4407-BE9E-4393F42E42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Central Processing Uni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peed of a CPU is controlled by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ystem cloc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ystem clock generates an electronic pulse at regular interval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ulses coordinate the activities of the CPU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peed is measured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egahertz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MHz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19D-3669-4019-A296-8BBBBB5A87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onito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ize of a monitor (17") is measured diagonally, like a television scre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monitors these days hav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ultimedi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pabilities:  text, graphics, video, etc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onitor has a certain maximu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solu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, indicating the number of picture elements,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ixel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at it can display (such as 1280 by 102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gh resolution (more pixels) produces sharper pictur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315-6290-4C93-AC18-A3A3CFB2B4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ode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ata transfer devic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llow information to be sent and received between compu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computers include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od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allows information to be moved across a telephone lin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ata transfer device has a maximu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ata transfer ra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odem, for instance, may have a data transfer rate of 56,000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ts per seco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p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522-9BC0-4FAC-865E-145058692C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twor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etwor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wo or more computers that are connected so that data and resources can be shar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computers are connected to some kind of networ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omputer has its ow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etwork addre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uniquely identifies it among the oth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ile serv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network computer dedicated to storing programs and data that are shared among network us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0AF-840E-4165-82A0-6AAED2CDB8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twork Conne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omputer in a network could be directly connected to each other computer in the networ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are called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point-to-poin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ne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273640" y="3374640"/>
            <a:ext cx="1314360" cy="844920"/>
            <a:chOff x="5273640" y="3374640"/>
            <a:chExt cx="1314360" cy="844920"/>
          </a:xfrm>
        </p:grpSpPr>
        <p:sp>
          <p:nvSpPr>
            <p:cNvPr id="303" name=""/>
            <p:cNvSpPr/>
            <p:nvPr/>
          </p:nvSpPr>
          <p:spPr>
            <a:xfrm>
              <a:off x="5295600" y="3375000"/>
              <a:ext cx="1276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51280" y="3397320"/>
              <a:ext cx="0" cy="82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273640" y="3374640"/>
              <a:ext cx="1314360" cy="77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41600" y="2919240"/>
            <a:ext cx="1326960" cy="1241280"/>
            <a:chOff x="5241600" y="2919240"/>
            <a:chExt cx="1326960" cy="1241280"/>
          </a:xfrm>
        </p:grpSpPr>
        <p:sp>
          <p:nvSpPr>
            <p:cNvPr id="307" name=""/>
            <p:cNvSpPr/>
            <p:nvPr/>
          </p:nvSpPr>
          <p:spPr>
            <a:xfrm>
              <a:off x="5875200" y="2933280"/>
              <a:ext cx="69336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241600" y="2919240"/>
              <a:ext cx="618840" cy="46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284440" y="2947680"/>
              <a:ext cx="590400" cy="118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75200" y="2933280"/>
              <a:ext cx="67896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257440" y="2971440"/>
            <a:ext cx="1313280" cy="1646280"/>
            <a:chOff x="5257440" y="2971440"/>
            <a:chExt cx="1313280" cy="1646280"/>
          </a:xfrm>
        </p:grpSpPr>
        <p:sp>
          <p:nvSpPr>
            <p:cNvPr id="312" name=""/>
            <p:cNvSpPr/>
            <p:nvPr/>
          </p:nvSpPr>
          <p:spPr>
            <a:xfrm flipH="1" flipV="1">
              <a:off x="5257440" y="4155840"/>
              <a:ext cx="621000" cy="46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5257440" y="3376800"/>
              <a:ext cx="621000" cy="12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892840" y="2971440"/>
              <a:ext cx="0" cy="164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878800" y="3376800"/>
              <a:ext cx="691920" cy="122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878800" y="4155840"/>
              <a:ext cx="691920" cy="44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454800" y="3263760"/>
            <a:ext cx="225360" cy="225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51600" y="3262320"/>
            <a:ext cx="1528200" cy="998640"/>
            <a:chOff x="5151600" y="3262320"/>
            <a:chExt cx="1528200" cy="998640"/>
          </a:xfrm>
        </p:grpSpPr>
        <p:sp>
          <p:nvSpPr>
            <p:cNvPr id="319" name=""/>
            <p:cNvSpPr/>
            <p:nvPr/>
          </p:nvSpPr>
          <p:spPr>
            <a:xfrm>
              <a:off x="5252760" y="3375000"/>
              <a:ext cx="1314000" cy="76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252760" y="3396960"/>
              <a:ext cx="0" cy="77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5480" y="4189320"/>
              <a:ext cx="137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51600" y="3262320"/>
              <a:ext cx="22500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51600" y="4033800"/>
              <a:ext cx="22500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54440" y="403560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769000" y="2817720"/>
            <a:ext cx="225360" cy="2253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83400" y="4494240"/>
            <a:ext cx="225360" cy="2253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93920" y="5230800"/>
            <a:ext cx="371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technique is not feasibl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re than a few close mach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5360" y="3048120"/>
            <a:ext cx="325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dding a computer requ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new communication 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r each computer alre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th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3A8-35DA-42F1-9A56-0EC544BF72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twork Conne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modern networks share a single communication lin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ding a new computer to the network is relatively eas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3429000"/>
            <a:ext cx="358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016080" y="2747880"/>
            <a:ext cx="225720" cy="685440"/>
            <a:chOff x="3016080" y="2747880"/>
            <a:chExt cx="225720" cy="685440"/>
          </a:xfrm>
        </p:grpSpPr>
        <p:sp>
          <p:nvSpPr>
            <p:cNvPr id="333" name=""/>
            <p:cNvSpPr/>
            <p:nvPr/>
          </p:nvSpPr>
          <p:spPr>
            <a:xfrm flipV="1">
              <a:off x="3129120" y="290016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16080" y="2747880"/>
              <a:ext cx="22572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294160" y="2747880"/>
            <a:ext cx="225720" cy="685440"/>
            <a:chOff x="5294160" y="2747880"/>
            <a:chExt cx="225720" cy="685440"/>
          </a:xfrm>
        </p:grpSpPr>
        <p:sp>
          <p:nvSpPr>
            <p:cNvPr id="336" name=""/>
            <p:cNvSpPr/>
            <p:nvPr/>
          </p:nvSpPr>
          <p:spPr>
            <a:xfrm flipV="1">
              <a:off x="5407200" y="290016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94160" y="2747880"/>
              <a:ext cx="22572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864400" y="2747880"/>
            <a:ext cx="225360" cy="685440"/>
            <a:chOff x="5864400" y="2747880"/>
            <a:chExt cx="225360" cy="685440"/>
          </a:xfrm>
        </p:grpSpPr>
        <p:sp>
          <p:nvSpPr>
            <p:cNvPr id="339" name=""/>
            <p:cNvSpPr/>
            <p:nvPr/>
          </p:nvSpPr>
          <p:spPr>
            <a:xfrm flipV="1">
              <a:off x="5977080" y="290016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4400" y="27478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584520" y="2747880"/>
            <a:ext cx="225360" cy="685440"/>
            <a:chOff x="3584520" y="2747880"/>
            <a:chExt cx="225360" cy="685440"/>
          </a:xfrm>
        </p:grpSpPr>
        <p:sp>
          <p:nvSpPr>
            <p:cNvPr id="342" name=""/>
            <p:cNvSpPr/>
            <p:nvPr/>
          </p:nvSpPr>
          <p:spPr>
            <a:xfrm flipV="1">
              <a:off x="3697200" y="290016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4520" y="27478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154400" y="2747880"/>
            <a:ext cx="225360" cy="685440"/>
            <a:chOff x="4154400" y="2747880"/>
            <a:chExt cx="225360" cy="685440"/>
          </a:xfrm>
        </p:grpSpPr>
        <p:sp>
          <p:nvSpPr>
            <p:cNvPr id="345" name=""/>
            <p:cNvSpPr/>
            <p:nvPr/>
          </p:nvSpPr>
          <p:spPr>
            <a:xfrm flipV="1">
              <a:off x="4267080" y="290016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54400" y="27478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724280" y="2747880"/>
            <a:ext cx="225720" cy="685440"/>
            <a:chOff x="4724280" y="2747880"/>
            <a:chExt cx="225720" cy="685440"/>
          </a:xfrm>
        </p:grpSpPr>
        <p:sp>
          <p:nvSpPr>
            <p:cNvPr id="348" name=""/>
            <p:cNvSpPr/>
            <p:nvPr/>
          </p:nvSpPr>
          <p:spPr>
            <a:xfrm flipV="1">
              <a:off x="4836960" y="290016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24280" y="2747880"/>
              <a:ext cx="22572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215000" y="4038480"/>
            <a:ext cx="30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twork traffic must ta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urns using the line, wh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troduces del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1520" y="4038480"/>
            <a:ext cx="348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ften information is bro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own in parts, called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acket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hich are sent to the recei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chine then reassem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812-2369-42B7-8E75-ACD386B593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cal-Area Networ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968720" y="1225440"/>
            <a:ext cx="2954520" cy="2388240"/>
            <a:chOff x="4968720" y="1225440"/>
            <a:chExt cx="2954520" cy="2388240"/>
          </a:xfrm>
        </p:grpSpPr>
        <p:sp>
          <p:nvSpPr>
            <p:cNvPr id="354" name=""/>
            <p:cNvSpPr/>
            <p:nvPr/>
          </p:nvSpPr>
          <p:spPr>
            <a:xfrm flipV="1">
              <a:off x="5568840" y="1803240"/>
              <a:ext cx="584280" cy="1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5546520" y="1953720"/>
              <a:ext cx="260280" cy="71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34280" y="2301840"/>
              <a:ext cx="42840" cy="64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807160" y="2301840"/>
              <a:ext cx="649080" cy="38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127640" y="1781280"/>
              <a:ext cx="15084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477120" y="2409480"/>
              <a:ext cx="650880" cy="56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45000" y="1809720"/>
              <a:ext cx="22572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31080" y="16588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84760" y="25480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57960" y="217980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57960" y="28306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8840" y="228924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83440" y="166212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68720" y="1225440"/>
              <a:ext cx="2954520" cy="2044800"/>
            </a:xfrm>
            <a:prstGeom prst="ellipse">
              <a:avLst/>
            </a:prstGeom>
            <a:noFill/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5800" y="321624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74360" y="2057400"/>
            <a:ext cx="257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Local-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LAN) covers a sm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istance and a sm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umber of compu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0080" y="4267080"/>
            <a:ext cx="40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LAN often connects the mach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a single room or buil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ED3-A26A-48E1-97C9-C84709D4D2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mputer Syste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first need to explore the fundamentals of computer process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1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onents of a comput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ow those components intera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ow computers store and manipulate inform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uter network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Internet and the World-Wide We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gramming and programming languag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aphic syste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861-724C-48E3-8EAD-D81950B8C4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709720" y="1913040"/>
            <a:ext cx="2838600" cy="1971720"/>
          </a:xfrm>
          <a:custGeom>
            <a:avLst/>
            <a:gdLst/>
            <a:ahLst/>
            <a:rect l="l" t="t" r="r" b="b"/>
            <a:pathLst>
              <a:path w="1788" h="1242">
                <a:moveTo>
                  <a:pt x="0" y="1241"/>
                </a:moveTo>
                <a:lnTo>
                  <a:pt x="900" y="641"/>
                </a:lnTo>
                <a:lnTo>
                  <a:pt x="696" y="641"/>
                </a:lnTo>
                <a:lnTo>
                  <a:pt x="1787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ide-Area Networ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116000" y="3630600"/>
            <a:ext cx="4369320" cy="2018160"/>
            <a:chOff x="1116000" y="3630600"/>
            <a:chExt cx="4369320" cy="2018160"/>
          </a:xfrm>
        </p:grpSpPr>
        <p:sp>
          <p:nvSpPr>
            <p:cNvPr id="374" name=""/>
            <p:cNvSpPr/>
            <p:nvPr/>
          </p:nvSpPr>
          <p:spPr>
            <a:xfrm flipV="1">
              <a:off x="1671480" y="4425840"/>
              <a:ext cx="671760" cy="19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342880" y="3862440"/>
              <a:ext cx="345960" cy="58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1676160" y="4648320"/>
              <a:ext cx="9903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603520" y="4619160"/>
              <a:ext cx="541440" cy="49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706560" y="4295880"/>
              <a:ext cx="476280" cy="71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162320" y="4250880"/>
              <a:ext cx="432000" cy="58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3122640" y="4598640"/>
              <a:ext cx="54144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77880" y="45226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49640" y="430704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600" y="378612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920" y="49798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30480" y="4460760"/>
              <a:ext cx="225360" cy="2257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73360" y="48736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9640" y="418140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62560" y="474516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16000" y="3630600"/>
              <a:ext cx="4122720" cy="1871640"/>
            </a:xfrm>
            <a:prstGeom prst="ellipse">
              <a:avLst/>
            </a:prstGeom>
            <a:noFill/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62440" y="525132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834480" y="1676520"/>
            <a:ext cx="337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Wide-Area Network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(WA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nects two or more LAN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ften over long di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14160" y="4191120"/>
            <a:ext cx="283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LAN is usually ow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one organization, b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WAN often conn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ifferent groups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ifferent coun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968720" y="1225440"/>
            <a:ext cx="2954520" cy="2388240"/>
            <a:chOff x="4968720" y="1225440"/>
            <a:chExt cx="2954520" cy="2388240"/>
          </a:xfrm>
        </p:grpSpPr>
        <p:sp>
          <p:nvSpPr>
            <p:cNvPr id="394" name=""/>
            <p:cNvSpPr/>
            <p:nvPr/>
          </p:nvSpPr>
          <p:spPr>
            <a:xfrm flipV="1">
              <a:off x="5568840" y="1803240"/>
              <a:ext cx="584280" cy="1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5546520" y="1953720"/>
              <a:ext cx="260280" cy="71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34280" y="2301840"/>
              <a:ext cx="42840" cy="64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807160" y="2301840"/>
              <a:ext cx="649080" cy="38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127640" y="1781280"/>
              <a:ext cx="15084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477120" y="2409480"/>
              <a:ext cx="650880" cy="56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45000" y="1809720"/>
              <a:ext cx="22572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31080" y="16588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84760" y="25480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57960" y="217980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57960" y="283068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08840" y="228924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83440" y="1662120"/>
              <a:ext cx="225360" cy="225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68720" y="1225440"/>
              <a:ext cx="2954520" cy="2044800"/>
            </a:xfrm>
            <a:prstGeom prst="ellipse">
              <a:avLst/>
            </a:prstGeom>
            <a:noFill/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5800" y="321624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469-6142-4A72-9BD6-6C2661FA4C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Interne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WAN which spans the entire plan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word Internet comes from the ter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network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implies communication among network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started as a United States government project, sponsored by the Advanced Research Projects Agency (ARPA), and was originally called the ARPAN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nternet grew quickly throughout the 1980s and 90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ss than 600 computers were connected to the Internet in 1983;  now there are over 10 mill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EE0-AF4A-40EB-B72F-DC14253F71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CP/IP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tocol is a set of rules that determine how things communicate with each 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oftware which manages Internet communication follows a suite of protocol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CP/I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net Protoco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IP) determines the format of the information as it is transferr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ransmission Control Protoco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TCP) dictates how messages are reassembled and handles lost inform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29D-DFAB-4048-BB9F-8D82DFB8E8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P and Internet Addre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omputer on the Internet has a uniqu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P addre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such a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204.192.116.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computers also have a unique Internet name, which is also referred to as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net addre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renoir.villanova.edu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kant.breakaway.co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16000" indent="0" algn="ct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irst part indicates a particular computer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renoi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st is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omain nam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ndicating the organization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illanova.ed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AE1-94A0-4F86-B131-7D8190D57C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omain Nam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last section (the suffix) of each domain name usually indicates the type of organizat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05120" y="2244600"/>
            <a:ext cx="63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ed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98840" y="220968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  educational instit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01720" y="251460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  commercial bus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98120" y="28195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  non-profit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98120" y="312408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  network-based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5200" y="3911760"/>
            <a:ext cx="254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metimes the suf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dicates the countr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77520" y="4495680"/>
            <a:ext cx="248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w suffix catego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e being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3040" y="4673520"/>
            <a:ext cx="48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u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1520" y="464832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  United Kingd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03320" y="49528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  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03680" y="525780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  Ca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04760" y="556272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  Swe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97B-1D9D-4D3E-AE1F-1451C1FE3F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omain Nam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omain name can have several par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ique domain names mean that multiple sites can have individual computers with the same local na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used, an Internet address is translated to an IP address by software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omain Name Syst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DN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is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ne-to-one correspondence between the sections of an IP address and the sections of an Internet addre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493-FEAB-4514-A2D1-59F4973477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World-Wide Web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orld-Wide We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llows many different types of information to be accessed using a common interf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rows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program which accesses and presents inform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ext, graphics, sound, audio, video, executable progra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Web document usually contain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ink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other Web documents, creating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ypermedi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nviron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term Web comes from the fact that information is not organized in a linear fash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97F-4875-4797-B1A5-85C9F1E4D7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World-Wide Web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b documents are often defined using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yperText Markup Langu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HTM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formation on the Web is found using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niform Resource Loca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URL)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ttp://www.lycos.co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ttp://www.villanova.edu/webinfo/domains.htm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tp://java.sun.com/applets/animation.zip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URL indicates a protocol (http), a domain, and possibly specific docu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305-F7E6-4038-ACDF-B3D7F0F20D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blem Solv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urpose of writing a program is to solve a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eneral steps in problem solving ar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nderstand the proble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issect the problem into manageable piec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sign a solu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sider alternatives to the solution and refine 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mplement the solu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est the solution and fix any problems that exi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5A1-46AB-4F80-928E-F20467FB67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blem Solv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software projects fail because the developer didn't really understand the problem to be solv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must avoid assumptions and clarify ambiguiti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problems and their solutions become larger, we must organize our development into manageable pie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technique is fundamental to software develop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ill dissect our solutions into pieces called classes and objects, taking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bject-oriented approa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CA0-442D-4FA1-B874-AAC9956CBC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Hardware and Softwar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rdwa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physical, tangible parts of a comput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eyboard, monitor, wires, chips, data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ftwa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grams and data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rogr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s a series of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omputer requires both hardware and softwa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is essentially useless without the 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42F-DC06-40DB-8988-4A290EDC83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Java Programming Languag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ogramming langu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pecifies the words and symbols that we can use to write a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ming language employs a set of rules that dictate how the words and symbols can be put together to form vali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ogram stat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was created by Sun Microsystems, Inc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was introduced in 1995 and has become quite popula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an object-oriented langu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549-D2A0-4DC2-AF43-4988A960B5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ava Program Structur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the Java programming languag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program is made up of one or mor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lass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class contains one or mor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ethod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method contains program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te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terms will be explored in detail throughout the cour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Java application always contains a method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Lincoln.java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2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C19-C1A0-4273-9535-A37AD1614D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ava Program Structur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44" name=""/>
          <p:cNvSpPr/>
          <p:nvPr/>
        </p:nvSpPr>
        <p:spPr>
          <a:xfrm>
            <a:off x="1068480" y="182880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class My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8480" y="2209680"/>
            <a:ext cx="333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68480" y="14414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//  comments about the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0960" y="25909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ass 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3760" y="3657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ass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920" y="48769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ments can be added almost an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236232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3962520" y="2286000"/>
            <a:ext cx="838080" cy="457200"/>
          </a:xfrm>
          <a:prstGeom prst="line">
            <a:avLst/>
          </a:prstGeom>
          <a:ln w="316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D06-7A04-48DD-9378-30EA1A49E69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ava Program Structur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3" name=""/>
          <p:cNvSpPr/>
          <p:nvPr/>
        </p:nvSpPr>
        <p:spPr>
          <a:xfrm>
            <a:off x="1068480" y="182880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class My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8480" y="2209680"/>
            <a:ext cx="333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69960" y="326088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static void main 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5680" y="371808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68480" y="14414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//  comments about the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5680" y="2803680"/>
            <a:ext cx="46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//  comments about the meth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6960" y="396252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thod 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45360" y="41148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thod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09680" y="38862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257800" y="3657600"/>
            <a:ext cx="838080" cy="457200"/>
          </a:xfrm>
          <a:prstGeom prst="line">
            <a:avLst/>
          </a:prstGeom>
          <a:ln w="316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40C-A76C-4AEB-96B3-A3F9EDAD7C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mm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27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ments in a program are also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line document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should be included to explain the purpose of the program and describe processing step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do not affect how a program work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comments can take two form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2520" y="411480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// this comment runs to the end of the 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92160" y="495288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/*  this comment runs to the termin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symbol, even across line breaks       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FC9-D1B0-4DA4-9320-4DC25BECC0C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dentifi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dentifie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re the words a programmer uses in a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dentifier can be made up of letters, digits, the underscore character (_), and the dollar sig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cannot begin with a dig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i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ase sensitiv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refore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Total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total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e different identifi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287-3EA2-4873-A749-9F18ACE6C3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dentifi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times we choose identifiers ourselves when writing a program (such a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Lincol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times we are using another programmer's code, so we use the identifiers that they chose (such a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ten we use special identifier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served wor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t already have a predefined meaning in the langu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reserved word cannot be used in any other w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BE6-0BF8-487E-970D-DEEFC38C01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served Wor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reserved word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87840" y="1905120"/>
            <a:ext cx="12823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bstr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y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59800" y="1905120"/>
            <a:ext cx="1145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a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al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u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er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0320" y="1905120"/>
            <a:ext cx="1556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mp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m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06840" y="1905120"/>
            <a:ext cx="14194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oper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ou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i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h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60160" y="1905120"/>
            <a:ext cx="183096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nchroniz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o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olat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C2D-09ED-4801-9C14-5078EBCF49A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ite Spa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aces, blank lines, and tabs are collectively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hite sp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ite space is used to separate words and symbols in a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tra white space is ignor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valid Java program can be formatted many different w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grams should be formatted to enhance readability, using consistent indent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Lincoln2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Lincoln3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2D4-3A7A-48C4-9E97-C8959D25E82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gramming Language Level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four programming language level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chine languag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ssembly languag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igh-level languag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urth-generation languag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type of CPU has its own specific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achine langu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other levels were created to make it easier for a human being to write progra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23D-98CA-49C0-BFFF-623863463C3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PU and Main Memory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981080"/>
            <a:ext cx="1523880" cy="914400"/>
          </a:xfrm>
          <a:prstGeom prst="hexagon">
            <a:avLst>
              <a:gd name="adj" fmla="val 32983"/>
              <a:gd name="vf" fmla="val 115470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Cen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733920" y="2971800"/>
            <a:ext cx="1523880" cy="2209680"/>
            <a:chOff x="3733920" y="2971800"/>
            <a:chExt cx="1523880" cy="2209680"/>
          </a:xfrm>
        </p:grpSpPr>
        <p:sp>
          <p:nvSpPr>
            <p:cNvPr id="119" name=""/>
            <p:cNvSpPr/>
            <p:nvPr/>
          </p:nvSpPr>
          <p:spPr>
            <a:xfrm>
              <a:off x="3733920" y="4267080"/>
              <a:ext cx="1523880" cy="914400"/>
            </a:xfrm>
            <a:prstGeom prst="cube">
              <a:avLst>
                <a:gd name="adj" fmla="val 15152"/>
              </a:avLst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3400" y="2971800"/>
              <a:ext cx="304920" cy="1219320"/>
            </a:xfrm>
            <a:prstGeom prst="upDownArrow">
              <a:avLst>
                <a:gd name="adj1" fmla="val 50000"/>
                <a:gd name="adj2" fmla="val 79606"/>
              </a:avLst>
            </a:prstGeom>
            <a:solidFill>
              <a:srgbClr val="ff3300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248520" y="1468440"/>
            <a:ext cx="2590560" cy="1618560"/>
          </a:xfr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ip that executes program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tel Pentium I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un Sparc Proce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581280"/>
            <a:ext cx="2743200" cy="1923480"/>
          </a:xfr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imary storage area for programs and data that are in active 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ynonymous with 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519-9923-4520-92B3-BE66DF61F5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gramming Languag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must be translated into machine language before it can be executed on a particular type of CPU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can be accomplished in several w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mpil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oftware tool which translate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ource co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o a specific target langu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ten, that target language is the machine language for a particular CPU typ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approach is somewhat differ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311-6CDF-46C7-BFFC-19EE12C4D4F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ava Translation and Execu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compiler translates Java source code into a special representation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ytec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bytecode is not the machine language for any traditional CPU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other software tool, called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pret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ranslates bytecode into machine language and executes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 the Java compiler is not tied to any particular machin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is considered to b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rchitecture-neutr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334-CACE-473F-A428-052588EEEB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ava Translation and Execu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7" name=""/>
          <p:cNvSpPr/>
          <p:nvPr/>
        </p:nvSpPr>
        <p:spPr>
          <a:xfrm>
            <a:off x="1582560" y="1674720"/>
            <a:ext cx="2044800" cy="825480"/>
          </a:xfrm>
          <a:prstGeom prst="ellipse">
            <a:avLst/>
          </a:prstGeom>
          <a:solidFill>
            <a:srgbClr val="ffff99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Java 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78360" y="4937040"/>
            <a:ext cx="1602000" cy="825480"/>
          </a:xfrm>
          <a:prstGeom prst="ellipse">
            <a:avLst/>
          </a:prstGeom>
          <a:solidFill>
            <a:srgbClr val="ffff99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Mach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38760" y="2035080"/>
            <a:ext cx="1805040" cy="824040"/>
          </a:xfrm>
          <a:prstGeom prst="ellipse">
            <a:avLst/>
          </a:prstGeom>
          <a:solidFill>
            <a:srgbClr val="ffff99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11720" y="3532320"/>
            <a:ext cx="1228680" cy="9302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interpr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15160" y="3532320"/>
            <a:ext cx="1228680" cy="9302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60640" y="3078000"/>
            <a:ext cx="1228680" cy="9306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02080" y="2519280"/>
            <a:ext cx="0" cy="520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94000" y="2498400"/>
            <a:ext cx="1494000" cy="10177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047920" y="2867040"/>
            <a:ext cx="584280" cy="6494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05360" y="2887560"/>
            <a:ext cx="520920" cy="60660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41920" y="4491000"/>
            <a:ext cx="0" cy="4111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374-3CD0-44A1-BB25-80D94C3365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velopment Environm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many development environments which develop Java softwar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un Java Software Development Kit (SDK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rland JBuild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etroWork CodeWarri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icrosoft Visual J++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ymantec Café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ough the details of these environments differ, the basic compilation and execution process is essentially the sa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E63-95E0-415F-981E-6F7AE9D73D2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yntax and Semantic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yntax rul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language define how we can put symbols, reserved words, and identifiers together to make a valid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emantic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program statement define what that statement means (its purpose or role in a program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that is syntactically correct is not necessarily logically (semantically) corr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will always do what we tell it to do, not what w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mea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tell it to 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231-C0B5-46C1-8A5C-8F80E52AED3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rr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can have three types of err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mpiler will find problems with syntax and other basic issues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mpile-time erro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compile-time errors exist, an executable version of the program is not creat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blem can occur during program execution, such as trying to divide by zero, which causes a program to terminate abnormally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un-time erro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may run, but produce incorrect results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gical erro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716-9BB4-4BD6-9225-3432DFEA2E8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roduction to Graphic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last one or two sections of each chapter of the textbook focus on graphical iss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computer programs have graphical compon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icture or drawing must be digitized for storage on a compu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icture is broken down into pixels, and each pixel is stored separat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B0D-371F-432C-9D3F-4E939C398AD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presenting Colo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lack and white picture can be stored using one bit per pixel (0 = white and 1 = black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olor picture requires more information, and there are several techniques for representing a particular col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every color can be represented as a mixture of the three primary colors Red, Green, and Bl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Java, each color is represented by three numbers between 0 and 255 that are collectively called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GB val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637-C85B-4795-9B6E-9D1988F8DE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ordinate Syste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pixel can be identified using a two-dimensional coordinate syst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referring to a pixel in a Java program, we use a coordinate system with the origin in the upper left cor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600920" y="3276720"/>
            <a:ext cx="4797720" cy="2654280"/>
            <a:chOff x="1600920" y="3276720"/>
            <a:chExt cx="4797720" cy="2654280"/>
          </a:xfrm>
        </p:grpSpPr>
        <p:sp>
          <p:nvSpPr>
            <p:cNvPr id="511" name=""/>
            <p:cNvSpPr/>
            <p:nvPr/>
          </p:nvSpPr>
          <p:spPr>
            <a:xfrm>
              <a:off x="2209680" y="3657600"/>
              <a:ext cx="0" cy="2133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09680" y="3657600"/>
              <a:ext cx="411480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54280" y="5562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53400" y="3276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00920" y="327672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(0,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09680" y="4724280"/>
            <a:ext cx="2362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657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67800" y="47242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112, 4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44840" y="3276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54280" y="449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6AD-C70D-4515-820F-342DE3A31C8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econdary Memory Devi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08560" y="3809880"/>
            <a:ext cx="2578320" cy="1905120"/>
            <a:chOff x="5308560" y="3809880"/>
            <a:chExt cx="2578320" cy="1905120"/>
          </a:xfrm>
        </p:grpSpPr>
        <p:sp>
          <p:nvSpPr>
            <p:cNvPr id="125" name=""/>
            <p:cNvSpPr/>
            <p:nvPr/>
          </p:nvSpPr>
          <p:spPr>
            <a:xfrm>
              <a:off x="6362640" y="5257800"/>
              <a:ext cx="1524240" cy="457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Floppy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62640" y="3809880"/>
              <a:ext cx="1524240" cy="9144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Hard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4254000">
              <a:off x="5619960" y="4057560"/>
              <a:ext cx="304920" cy="876240"/>
            </a:xfrm>
            <a:prstGeom prst="upDownArrow">
              <a:avLst>
                <a:gd name="adj1" fmla="val 50000"/>
                <a:gd name="adj2" fmla="val 57207"/>
              </a:avLst>
            </a:prstGeom>
            <a:solidFill>
              <a:srgbClr val="ff3300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672000">
              <a:off x="5619600" y="4743360"/>
              <a:ext cx="304920" cy="876240"/>
            </a:xfrm>
            <a:prstGeom prst="upDownArrow">
              <a:avLst>
                <a:gd name="adj1" fmla="val 50000"/>
                <a:gd name="adj2" fmla="val 57207"/>
              </a:avLst>
            </a:prstGeom>
            <a:solidFill>
              <a:srgbClr val="ff3300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733920" y="4267080"/>
            <a:ext cx="1523880" cy="914400"/>
          </a:xfrm>
          <a:prstGeom prst="cube">
            <a:avLst>
              <a:gd name="adj" fmla="val 15152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1981080"/>
            <a:ext cx="1523880" cy="914400"/>
          </a:xfrm>
          <a:prstGeom prst="hexagon">
            <a:avLst>
              <a:gd name="adj" fmla="val 32983"/>
              <a:gd name="vf" fmla="val 115470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Cen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971800"/>
            <a:ext cx="304920" cy="1219320"/>
          </a:xfrm>
          <a:prstGeom prst="upDownArrow">
            <a:avLst>
              <a:gd name="adj1" fmla="val 50000"/>
              <a:gd name="adj2" fmla="val 79606"/>
            </a:avLst>
          </a:prstGeom>
          <a:solidFill>
            <a:srgbClr val="ff3300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4160" y="1905120"/>
            <a:ext cx="229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ary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vices prov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ng-term stor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3680" y="1828800"/>
            <a:ext cx="273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formation is m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etween main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 secondary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s nee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733920"/>
            <a:ext cx="175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ard di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loppy di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ZIP di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ritable C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a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20A-F7BE-4460-9531-0FAAE1318C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put / Output Devi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600200"/>
            <a:ext cx="2611800" cy="1523880"/>
            <a:chOff x="1143000" y="1600200"/>
            <a:chExt cx="2611800" cy="1523880"/>
          </a:xfrm>
        </p:grpSpPr>
        <p:sp>
          <p:nvSpPr>
            <p:cNvPr id="137" name=""/>
            <p:cNvSpPr/>
            <p:nvPr/>
          </p:nvSpPr>
          <p:spPr>
            <a:xfrm>
              <a:off x="1181160" y="160020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Moni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2666880"/>
              <a:ext cx="1447920" cy="457200"/>
            </a:xfrm>
            <a:custGeom>
              <a:avLst/>
              <a:gdLst>
                <a:gd name="textAreaLeft" fmla="*/ 146880 w 1447920"/>
                <a:gd name="textAreaRight" fmla="*/ 1301040 w 1447920"/>
                <a:gd name="textAreaTop" fmla="*/ 46440 h 457200"/>
                <a:gd name="textAreaBottom" fmla="*/ 410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98" y="21600"/>
                  </a:lnTo>
                  <a:lnTo>
                    <a:pt x="802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Keyboa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696200">
              <a:off x="2970360" y="160488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510800">
              <a:off x="3047760" y="220968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733920" y="4267080"/>
            <a:ext cx="1523880" cy="914400"/>
          </a:xfrm>
          <a:prstGeom prst="cube">
            <a:avLst>
              <a:gd name="adj" fmla="val 15152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1981080"/>
            <a:ext cx="1523880" cy="914400"/>
          </a:xfrm>
          <a:prstGeom prst="hexagon">
            <a:avLst>
              <a:gd name="adj" fmla="val 32983"/>
              <a:gd name="vf" fmla="val 115470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Cen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971800"/>
            <a:ext cx="304920" cy="1219320"/>
          </a:xfrm>
          <a:prstGeom prst="upDownArrow">
            <a:avLst>
              <a:gd name="adj1" fmla="val 50000"/>
              <a:gd name="adj2" fmla="val 79606"/>
            </a:avLst>
          </a:prstGeom>
          <a:solidFill>
            <a:srgbClr val="ff3300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08560" y="3809880"/>
            <a:ext cx="2578320" cy="1905120"/>
            <a:chOff x="5308560" y="3809880"/>
            <a:chExt cx="2578320" cy="1905120"/>
          </a:xfrm>
        </p:grpSpPr>
        <p:sp>
          <p:nvSpPr>
            <p:cNvPr id="145" name=""/>
            <p:cNvSpPr/>
            <p:nvPr/>
          </p:nvSpPr>
          <p:spPr>
            <a:xfrm>
              <a:off x="6362640" y="5257800"/>
              <a:ext cx="1524240" cy="457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Floppy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62640" y="3809880"/>
              <a:ext cx="1524240" cy="9144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Hard Dis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4254000">
              <a:off x="5619960" y="4057560"/>
              <a:ext cx="304920" cy="876240"/>
            </a:xfrm>
            <a:prstGeom prst="upDownArrow">
              <a:avLst>
                <a:gd name="adj1" fmla="val 50000"/>
                <a:gd name="adj2" fmla="val 57207"/>
              </a:avLst>
            </a:prstGeom>
            <a:solidFill>
              <a:srgbClr val="ff3300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672000">
              <a:off x="5619600" y="4743360"/>
              <a:ext cx="304920" cy="876240"/>
            </a:xfrm>
            <a:prstGeom prst="upDownArrow">
              <a:avLst>
                <a:gd name="adj1" fmla="val 50000"/>
                <a:gd name="adj2" fmla="val 57207"/>
              </a:avLst>
            </a:prstGeom>
            <a:solidFill>
              <a:srgbClr val="ff3300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788080" y="18288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/O devices allow 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te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2720" y="3871800"/>
            <a:ext cx="2062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nitor 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eybo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ar code sca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ight 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ouch 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B0C-92A0-4DC6-ACE6-CA83FBF11F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oftware Categori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rating Syst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trols all machine activiti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vides the user interface to the comput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nages resources such as the CPU and memor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indows 98, Windows NT, Unix, Linux, Mac O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pplication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eneric term for any other kind of softwar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ord processors, missile control systems, gam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operating systems and application programs have a graphical user interface (GUI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372-09A2-440D-AC0C-5CE5A045B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nalog vs. Digit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two basic ways to store and manage data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nalo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tinuous, in direct proportion to the data represent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sic on a record album - a needle rides on ridges in the grooves that are directly proportional to the voltage sent to the speak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git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information is broken down into pieces, and each piece is represented separatel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sic on a compact disc - the disc stores numbers representing specific voltage levels sampled at various poi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280-5A9F-41BB-BBFA-B5C7C6309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4:47:17Z</dcterms:created>
  <dc:creator>John Lewis</dc:creator>
  <dc:description/>
  <dc:language>en-US</dc:language>
  <cp:lastModifiedBy>Sharon Lewis</cp:lastModifiedBy>
  <cp:lastPrinted>1999-08-24T14:44:27Z</cp:lastPrinted>
  <dcterms:modified xsi:type="dcterms:W3CDTF">2000-09-04T23:12:18Z</dcterms:modified>
  <cp:revision>34</cp:revision>
  <dc:subject/>
  <dc:title>Chapter 1:  Computer Systems</dc:title>
</cp:coreProperties>
</file>