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296-866A-468D-9AA9-D3BB8C82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E38-B975-418B-A0C2-CA39ACD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537-F3F4-4958-B00D-F3BD05DD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EF1-4EC7-4BF2-8ECF-18EE2DC0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DFCB-1F74-4C4F-A61E-9382AC6D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5C8-E712-40EF-8A8A-3B43A71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867-0808-48B1-A9E1-8B31430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F9F2-AFEC-4632-8564-0D799080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FC5-7746-498B-B83D-42C883B1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A4A-081E-4E49-A6F2-5D41D819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F8FE-728F-460A-B262-EB63DD2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32B-32D0-4C9D-9CC5-2C9E2100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369-40DA-420B-82E2-EA89F4B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3F78-FD4D-4DE6-8551-E7AF56E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ED8C-DF9F-417B-8B5A-EA3712CB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5CA-F008-4ADB-96D9-40662985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0BF9-67A8-4430-8AAE-FEB3148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6D4-7FE5-44D7-ACE8-9741916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416-40FA-4435-AD3F-3C674B5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20E-8810-4B40-B96E-57866DD5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E9A-8F8A-4F6B-B98D-8DB91CB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C44-FD57-4881-B69A-3D33B4D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1FA-719E-4295-AD6E-CC19C8C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F1B-CEAE-4F3F-9D71-872AAA4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73B-D0FF-4123-957A-E9566647F4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F63D-E228-4D1B-8C95-92C343502E9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examples/chap04/CountFlips.java" TargetMode="External"/><Relationship Id="rId2" Type="http://schemas.openxmlformats.org/officeDocument/2006/relationships/hyperlink" Target="file:///../examples/chap04/CountFlips.java" TargetMode="External"/><Relationship Id="rId3" Type="http://schemas.openxmlformats.org/officeDocument/2006/relationships/hyperlink" Target="file:///../examples/chap04/Coin.java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4:  Writing Class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657600" y="2209680"/>
            <a:ext cx="4572000" cy="3353040"/>
            <a:chOff x="3657600" y="2209680"/>
            <a:chExt cx="4572000" cy="3353040"/>
          </a:xfrm>
        </p:grpSpPr>
        <p:grpSp>
          <p:nvGrpSpPr>
            <p:cNvPr id="154" name=""/>
            <p:cNvGrpSpPr/>
            <p:nvPr/>
          </p:nvGrpSpPr>
          <p:grpSpPr>
            <a:xfrm>
              <a:off x="3657600" y="2209680"/>
              <a:ext cx="4572000" cy="3353040"/>
              <a:chOff x="3657600" y="2209680"/>
              <a:chExt cx="4572000" cy="3353040"/>
            </a:xfrm>
          </p:grpSpPr>
          <p:sp>
            <p:nvSpPr>
              <p:cNvPr id="155" name=""/>
              <p:cNvSpPr/>
              <p:nvPr/>
            </p:nvSpPr>
            <p:spPr>
              <a:xfrm>
                <a:off x="3657600" y="2209680"/>
                <a:ext cx="4572000" cy="3353040"/>
              </a:xfrm>
              <a:prstGeom prst="flowChartAlternateProcess">
                <a:avLst/>
              </a:prstGeom>
              <a:solidFill>
                <a:srgbClr val="cc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91800" y="2590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1932"/>
                    </a:solidFill>
                    <a:latin typeface="Courier New"/>
                  </a:rPr>
                  <a:t>doI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4800" y="2971800"/>
                <a:ext cx="1600200" cy="2133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48520" y="2971800"/>
                <a:ext cx="1600200" cy="160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2320" y="2971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8520" y="487620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89080" y="259056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1932"/>
                    </a:solidFill>
                    <a:latin typeface="Courier New"/>
                  </a:rPr>
                  <a:t>help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75000" y="37335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1932"/>
                    </a:solidFill>
                    <a:latin typeface="Courier New"/>
                  </a:rPr>
                  <a:t>helpMe()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41880" y="434268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26040" y="2971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808520" y="403776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90720" y="2209680"/>
            <a:ext cx="2361960" cy="3657600"/>
            <a:chOff x="990720" y="2209680"/>
            <a:chExt cx="2361960" cy="3657600"/>
          </a:xfrm>
        </p:grpSpPr>
        <p:sp>
          <p:nvSpPr>
            <p:cNvPr id="167" name=""/>
            <p:cNvSpPr/>
            <p:nvPr/>
          </p:nvSpPr>
          <p:spPr>
            <a:xfrm>
              <a:off x="990720" y="2209680"/>
              <a:ext cx="2361960" cy="365760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6280" y="2971800"/>
              <a:ext cx="159984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15880" y="3809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932"/>
                  </a:solidFill>
                  <a:latin typeface="Courier New"/>
                </a:rPr>
                <a:t>obj.doIt(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6920" y="2590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932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9640" y="411408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thod Control Flow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alled method could be part of another class or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8" idx="0"/>
            <a:endCxn id="169" idx="0"/>
          </p:cNvCxnSpPr>
          <p:nvPr/>
        </p:nvCxnSpPr>
        <p:spPr>
          <a:xfrm>
            <a:off x="2176560" y="2971800"/>
            <a:ext cx="216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71" idx="2"/>
            <a:endCxn id="168" idx="2"/>
          </p:cNvCxnSpPr>
          <p:nvPr/>
        </p:nvCxnSpPr>
        <p:spPr>
          <a:xfrm>
            <a:off x="2176200" y="4359240"/>
            <a:ext cx="1080" cy="975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60" idx="1"/>
            <a:endCxn id="171" idx="3"/>
          </p:cNvCxnSpPr>
          <p:nvPr/>
        </p:nvCxnSpPr>
        <p:spPr>
          <a:xfrm rot="10800000">
            <a:off x="2283840" y="4236480"/>
            <a:ext cx="2523240" cy="762480"/>
          </a:xfrm>
          <a:prstGeom prst="bentConnector3">
            <a:avLst>
              <a:gd name="adj1" fmla="val 49957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64" idx="2"/>
            <a:endCxn id="163" idx="0"/>
          </p:cNvCxnSpPr>
          <p:nvPr/>
        </p:nvCxnSpPr>
        <p:spPr>
          <a:xfrm>
            <a:off x="7048080" y="3215880"/>
            <a:ext cx="1080" cy="1127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59" idx="2"/>
            <a:endCxn id="162" idx="0"/>
          </p:cNvCxnSpPr>
          <p:nvPr/>
        </p:nvCxnSpPr>
        <p:spPr>
          <a:xfrm>
            <a:off x="4914720" y="3216240"/>
            <a:ext cx="1080" cy="518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65" idx="2"/>
            <a:endCxn id="160" idx="0"/>
          </p:cNvCxnSpPr>
          <p:nvPr/>
        </p:nvCxnSpPr>
        <p:spPr>
          <a:xfrm>
            <a:off x="4914720" y="4282920"/>
            <a:ext cx="1080" cy="5947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62" idx="3"/>
            <a:endCxn id="164" idx="1"/>
          </p:cNvCxnSpPr>
          <p:nvPr/>
        </p:nvCxnSpPr>
        <p:spPr>
          <a:xfrm flipV="1">
            <a:off x="5555880" y="3093840"/>
            <a:ext cx="1369080" cy="808560"/>
          </a:xfrm>
          <a:prstGeom prst="bentConnector3">
            <a:avLst>
              <a:gd name="adj1" fmla="val 29905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159" idx="1"/>
            <a:endCxn id="169" idx="3"/>
          </p:cNvCxnSpPr>
          <p:nvPr/>
        </p:nvCxnSpPr>
        <p:spPr>
          <a:xfrm flipV="1" rot="10800000">
            <a:off x="2940840" y="3093840"/>
            <a:ext cx="1850400" cy="884880"/>
          </a:xfrm>
          <a:prstGeom prst="bentConnector3">
            <a:avLst>
              <a:gd name="adj1" fmla="val 68320"/>
            </a:avLst>
          </a:prstGeom>
          <a:ln w="31680">
            <a:solidFill>
              <a:srgbClr val="ff0000"/>
            </a:solidFill>
            <a:miter/>
            <a:headEnd len="sm" type="triangle" w="sm"/>
          </a:ln>
        </p:spPr>
      </p:cxnSp>
      <p:cxnSp>
        <p:nvCxnSpPr>
          <p:cNvPr id="182" name=""/>
          <p:cNvCxnSpPr>
            <a:stCxn id="163" idx="1"/>
            <a:endCxn id="165" idx="3"/>
          </p:cNvCxnSpPr>
          <p:nvPr/>
        </p:nvCxnSpPr>
        <p:spPr>
          <a:xfrm rot="10800000">
            <a:off x="5022000" y="4160160"/>
            <a:ext cx="1918440" cy="305640"/>
          </a:xfrm>
          <a:prstGeom prst="bentConnector3">
            <a:avLst>
              <a:gd name="adj1" fmla="val 50000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in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ou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we could define the following data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ac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an integer that represents the current 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EAD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AIL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integer constants that represent the two possible stat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might also define the following metho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constructor, to set up the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lip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thod, to flip the co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etFac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thod, to return the current fa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thod, to return a string description for print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in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CountFlips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17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Coin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18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been defined, we can use it again in other programs as nee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Flip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ogram did not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will not necessarily use every service provided by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stance Data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ariable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stance dat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ecause each instance (object)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its 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declares the type of the data, but it does not reserve any memory space for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tim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is created, a new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ariable is created as we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bjects of a class share the method definitions, but they have unique data sp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's the only way two objects can have different stat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stance Data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lipRace.java (page 18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168880" y="2162880"/>
            <a:ext cx="2298600" cy="1571040"/>
            <a:chOff x="5168880" y="2162880"/>
            <a:chExt cx="2298600" cy="1571040"/>
          </a:xfrm>
        </p:grpSpPr>
        <p:sp>
          <p:nvSpPr>
            <p:cNvPr id="192" name=""/>
            <p:cNvSpPr/>
            <p:nvPr/>
          </p:nvSpPr>
          <p:spPr>
            <a:xfrm>
              <a:off x="5181480" y="2590920"/>
              <a:ext cx="2286000" cy="11430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6760" y="28566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Courier New"/>
                </a:rPr>
                <a:t>fac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480" y="2895480"/>
              <a:ext cx="9144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68880" y="21628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coin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295280" y="2284920"/>
            <a:ext cx="1981080" cy="3277440"/>
            <a:chOff x="1295280" y="2284920"/>
            <a:chExt cx="1981080" cy="3277440"/>
          </a:xfrm>
        </p:grpSpPr>
        <p:grpSp>
          <p:nvGrpSpPr>
            <p:cNvPr id="197" name=""/>
            <p:cNvGrpSpPr/>
            <p:nvPr/>
          </p:nvGrpSpPr>
          <p:grpSpPr>
            <a:xfrm>
              <a:off x="1295280" y="2666880"/>
              <a:ext cx="1981080" cy="2895480"/>
              <a:chOff x="1295280" y="2666880"/>
              <a:chExt cx="1981080" cy="289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295280" y="2666880"/>
                <a:ext cx="1981080" cy="2895480"/>
              </a:xfrm>
              <a:prstGeom prst="flowChartAlternateProcess">
                <a:avLst/>
              </a:prstGeom>
              <a:solidFill>
                <a:srgbClr val="cc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00200" y="3581280"/>
                <a:ext cx="1371600" cy="533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00200" y="4190760"/>
                <a:ext cx="1371600" cy="533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00200" y="4800600"/>
                <a:ext cx="1371600" cy="53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99120" y="297108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Courier New"/>
                  </a:rPr>
                  <a:t>int face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417680" y="228492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class Co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182920" y="4113720"/>
            <a:ext cx="2298600" cy="1570680"/>
            <a:chOff x="5182920" y="4113720"/>
            <a:chExt cx="2298600" cy="1570680"/>
          </a:xfrm>
        </p:grpSpPr>
        <p:sp>
          <p:nvSpPr>
            <p:cNvPr id="205" name=""/>
            <p:cNvSpPr/>
            <p:nvPr/>
          </p:nvSpPr>
          <p:spPr>
            <a:xfrm>
              <a:off x="5195520" y="4541760"/>
              <a:ext cx="2286000" cy="11426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0800" y="4807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Courier New"/>
                </a:rPr>
                <a:t>fac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8520" y="484632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82920" y="4113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coin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ncapsul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can take one of two views of an objec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ernal  -  the structure of its data, the algorithms used by its metho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ternal  -  the interaction of the object with other objects in the progr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the external view, an object is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ncapsulat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ntity, providing a set of specific serv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services defin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rfa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the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from Chapter 2 that an object is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bstra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hiding details from the rest of the syst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B96-47F2-4E91-A1AC-C70AE5543B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ncapsul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should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lf-govern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changes to the object's state (its variables) should be accomplished by that object's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should make it difficult, if not impossible, for one object to "reach in" and alter another object's st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ser,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i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f an object can request its services, but it should not have to be aware of how those services are accomplis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66C-E517-4732-95A6-50D4274ADF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3962520" y="3048120"/>
            <a:ext cx="2895480" cy="2971800"/>
            <a:chOff x="3962520" y="3048120"/>
            <a:chExt cx="2895480" cy="2971800"/>
          </a:xfrm>
        </p:grpSpPr>
        <p:sp>
          <p:nvSpPr>
            <p:cNvPr id="214" name=""/>
            <p:cNvSpPr/>
            <p:nvPr/>
          </p:nvSpPr>
          <p:spPr>
            <a:xfrm>
              <a:off x="4419720" y="3048120"/>
              <a:ext cx="2438280" cy="2971800"/>
            </a:xfrm>
            <a:prstGeom prst="rect">
              <a:avLst/>
            </a:prstGeom>
            <a:solidFill>
              <a:srgbClr val="001932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038480" y="3581280"/>
              <a:ext cx="609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505320"/>
              <a:ext cx="152280" cy="152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038480" y="3809880"/>
              <a:ext cx="609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038480" y="4038480"/>
              <a:ext cx="609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733920"/>
              <a:ext cx="152280" cy="152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ncapsul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ncapsulated object can be thought of a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lack bo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s inner workings are hidden to the client, which only invokes the interface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680" y="36565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6576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35268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487692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32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42670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D8A-A35B-49AD-9081-87F73C34EC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Visibility Modifi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we accomplish encapsulation through the appropriate us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isibility modifi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odifi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Java reserved word that specifies particular characteristics of a method or data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've used the modifi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define a const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has three visibility modifiers: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discus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 la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953-C7A4-4E6F-A060-B368AF7351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Visibility Modifi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mbers of a class that are declared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ublic visibili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be accessed from anywhe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mbers of a class that are declared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ivate visibili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only be accessed from inside th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mbers declared without a visibility modifier hav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fault visibili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can be accessed by any class in the same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modifiers are discussed in detail in Appendix 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C9-DC92-4BC5-9A06-4A9550A79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riting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've been using predefined classes. Now we will learn to write our own classes to define new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4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ass declara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thod declara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stance variabl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ncapsul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thod overload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ics-based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42F-C017-4B79-819B-AD5334F9D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Visibility Modifi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a general rule, no object's data should be declared with public visi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s that provide the object's services are usually declared with public visibility so that they can be invoked by cli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lic methods are also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rvice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created simply to assist a service method is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upport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ce a support method is not intended to be called by a client, it should not be declared with public visi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D7C-F3B1-45EC-8D89-6E2FDDEA47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thod Declarations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declaration begins with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thod hea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06640" y="22860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calc (int num1, int num2, String mess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5080" y="3200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247840" y="274320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2720" y="4191120"/>
            <a:ext cx="88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486080" y="2743200"/>
            <a:ext cx="0" cy="1447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5321160" y="53280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03"/>
                </a:lnTo>
                <a:cubicBezTo>
                  <a:pt x="10800" y="10003"/>
                  <a:pt x="5400" y="10903"/>
                  <a:pt x="0" y="10903"/>
                </a:cubicBezTo>
                <a:cubicBezTo>
                  <a:pt x="5400" y="10903"/>
                  <a:pt x="10800" y="11803"/>
                  <a:pt x="10800" y="127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ameter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11520" y="4114800"/>
            <a:ext cx="45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parameter list specifies the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name of each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name of a parameter in the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claration is called 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formal arg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thod Declara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method header is followed by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thod bod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22480" y="2111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calc (int num1, int num2, String mess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4440" y="2514600"/>
            <a:ext cx="59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sum = num1 + num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result = message.charAt (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7640" y="4854600"/>
            <a:ext cx="35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return expression must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sistent with the return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165480" y="432108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396252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oc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y are created each time the method is called, and are destroyed when it finishes exec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return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turn typ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method indicates the type of value that the method sends back to the calling loc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that does not return a value has 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voi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turn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turn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pecifies the value that will be retur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s expression must conform to the return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64F-5083-4A64-9EA3-E7C102DF3F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ramet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time a method is called,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ctual argum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the invocation are copied into the formal argu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046160" y="3711600"/>
            <a:ext cx="7191000" cy="2326680"/>
            <a:chOff x="1046160" y="3711600"/>
            <a:chExt cx="7191000" cy="2326680"/>
          </a:xfrm>
        </p:grpSpPr>
        <p:sp>
          <p:nvSpPr>
            <p:cNvPr id="256" name=""/>
            <p:cNvSpPr/>
            <p:nvPr/>
          </p:nvSpPr>
          <p:spPr>
            <a:xfrm>
              <a:off x="1046160" y="3711600"/>
              <a:ext cx="71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char calc (int num1, int num2, String messag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8480" y="4114800"/>
              <a:ext cx="5972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int sum = num1 + num2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char result = message.charAt (sum)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return resu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77960" y="243828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 = obj.calc (25, count, "Hello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276720"/>
            <a:ext cx="8001000" cy="0"/>
          </a:xfrm>
          <a:prstGeom prst="line">
            <a:avLst/>
          </a:prstGeom>
          <a:ln w="31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733560" y="2895120"/>
            <a:ext cx="3657960" cy="762480"/>
            <a:chOff x="3733560" y="2895120"/>
            <a:chExt cx="3657960" cy="762480"/>
          </a:xfrm>
        </p:grpSpPr>
        <p:cxnSp>
          <p:nvCxnSpPr>
            <p:cNvPr id="261" name=""/>
            <p:cNvCxnSpPr/>
            <p:nvPr/>
          </p:nvCxnSpPr>
          <p:spPr>
            <a:xfrm rot="5400000">
              <a:off x="3580920" y="3047760"/>
              <a:ext cx="762840" cy="457920"/>
            </a:xfrm>
            <a:prstGeom prst="bentConnector3">
              <a:avLst>
                <a:gd name="adj1" fmla="val 20585"/>
              </a:avLst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262" name=""/>
            <p:cNvCxnSpPr/>
            <p:nvPr/>
          </p:nvCxnSpPr>
          <p:spPr>
            <a:xfrm flipH="1" rot="16200000">
              <a:off x="4761360" y="3161880"/>
              <a:ext cx="762840" cy="229320"/>
            </a:xfrm>
            <a:prstGeom prst="bentConnector3">
              <a:avLst>
                <a:gd name="adj1" fmla="val 17280"/>
              </a:avLst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grpSp>
          <p:nvGrpSpPr>
            <p:cNvPr id="263" name=""/>
            <p:cNvGrpSpPr/>
            <p:nvPr/>
          </p:nvGrpSpPr>
          <p:grpSpPr>
            <a:xfrm>
              <a:off x="6248160" y="2895480"/>
              <a:ext cx="1143360" cy="762120"/>
              <a:chOff x="6248160" y="2895480"/>
              <a:chExt cx="1143360" cy="762120"/>
            </a:xfrm>
          </p:grpSpPr>
          <p:sp>
            <p:nvSpPr>
              <p:cNvPr id="264" name=""/>
              <p:cNvSpPr/>
              <p:nvPr/>
            </p:nvSpPr>
            <p:spPr>
              <a:xfrm>
                <a:off x="6248520" y="2895480"/>
                <a:ext cx="0" cy="1526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248160" y="3048120"/>
                <a:ext cx="11430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91520" y="3048120"/>
                <a:ext cx="0" cy="60948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structors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a constructor is a special method that is used to set up a newly created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writing a constructor, remember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t has the same name as the clas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t does not return a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t has no return type, not even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voi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t often sets the initial values of instance variables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grammer does not have to define a constructor for a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991-EC8A-4580-8E90-32F6CFC5F4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riting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BankAccounts.java (page 18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Account.java (page 18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ggregate 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bject that contains references to other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c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is an aggregate object because it contains a reference to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(that holds the owner's nam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ggregate object represent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-a relationshi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ank accou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a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riting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times an object has to interact with other objects of the same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we might add tw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ation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 objects together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3 = r1.add(r2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object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executing the method and anothe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passed as a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ationalNumbers.java (page 19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ational.java (page 19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load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thod overloa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process of using the same method name for multiple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ignatur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each overloaded method must be uniq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ignature includes the number, type, and order of the parame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mpiler must be able to determine which version of the method is being invoked by analyzing the parame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turn type of the method i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rt of the sig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49B-7A43-49BB-8FFB-A54F7A99A6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load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63920" y="1523160"/>
            <a:ext cx="3076200" cy="1923120"/>
            <a:chOff x="763920" y="1523160"/>
            <a:chExt cx="3076200" cy="1923120"/>
          </a:xfrm>
        </p:grpSpPr>
        <p:sp>
          <p:nvSpPr>
            <p:cNvPr id="277" name=""/>
            <p:cNvSpPr/>
            <p:nvPr/>
          </p:nvSpPr>
          <p:spPr>
            <a:xfrm>
              <a:off x="763920" y="2132640"/>
              <a:ext cx="3076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float tryMe (int x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return x + .375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4920" y="1523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Version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421520" y="1523160"/>
            <a:ext cx="4447800" cy="1907280"/>
            <a:chOff x="4421520" y="1523160"/>
            <a:chExt cx="4447800" cy="1907280"/>
          </a:xfrm>
        </p:grpSpPr>
        <p:sp>
          <p:nvSpPr>
            <p:cNvPr id="280" name=""/>
            <p:cNvSpPr/>
            <p:nvPr/>
          </p:nvSpPr>
          <p:spPr>
            <a:xfrm>
              <a:off x="4421520" y="2116800"/>
              <a:ext cx="4447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float tryMe (int x, float 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return x*y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8680" y="1523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Version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92720" y="4570920"/>
            <a:ext cx="3990600" cy="1008360"/>
            <a:chOff x="2592720" y="4570920"/>
            <a:chExt cx="3990600" cy="1008360"/>
          </a:xfrm>
        </p:grpSpPr>
        <p:sp>
          <p:nvSpPr>
            <p:cNvPr id="283" name=""/>
            <p:cNvSpPr/>
            <p:nvPr/>
          </p:nvSpPr>
          <p:spPr>
            <a:xfrm>
              <a:off x="2592720" y="51804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result = tryMe (25, 4.3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4880" y="45709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nvo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24280" y="3580920"/>
            <a:ext cx="68580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h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-  descriptive characteristic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ehavior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-  what it can do (or be done to i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consider a coin that can be flipped so that it's face shows either "heads" or "tails"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ate of the coin is its current face (heads or tail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ehavior of the coin is that it can be flipp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the behavior of the coin might change its st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FD0-8552-498F-B6F0-A5084823B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loaded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printl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 is overloade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ln (String 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ln (int i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ln (double d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tc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lines invoke different versions of th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printl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out.println ("The total is:"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out.println (total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2F9-9613-46B4-A936-3A764BED05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load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ors can be overloa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verloaded constructor provides multiple ways to set up a new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nakeEyes.java (page 20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ie.java (page 20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8B3-77DE-4FDC-BCEB-B9AD77C97A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tringTokenizer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next example makes use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which is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separates a string into smaller substrings (token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ault, the tokenizer separates the string at white sp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tructor takes the original string to be separated as a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ll to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extTok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returns the next token in the str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thod Decomposi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should be relatively small, so that it can be readily understood as a single ent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otentially large method should be decomposed into several smaller methods as needed for cla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a service method of an object may call one or more support methods to accomplish its go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igLatin.java (page 20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igLatinTranslator.java (page 20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pple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previous examples we've used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o draw on an appl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several methods that are invoked automatically at certain points in an applet's lif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i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, for instance, is executed only once when the applet is initially loa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lso contains other methods that generally assist in applet proce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raphical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object we define by writing a class can have graphical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bject must simply obtain a graphics context (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) in which to draw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can pass its graphics context to another object just as it can any other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LineUp.java (page 21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tickFigure.java (page 21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lueprint of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the model or pattern from which objects are cre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used to defin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contains specific characters (its stat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can perform services (behaviors) 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Upper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1CD-6882-476C-A24E-1E1C5EBD0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was provided for us by the Java standard class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we can also write our own classes that define specific objects that we ne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suppose we wanted to write a program that simulates the flipping of a co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ould writ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o represent a coi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contains data declarations and method declar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209680"/>
            <a:ext cx="2362320" cy="3810240"/>
            <a:chOff x="1371600" y="2209680"/>
            <a:chExt cx="2362320" cy="3810240"/>
          </a:xfrm>
        </p:grpSpPr>
        <p:sp>
          <p:nvSpPr>
            <p:cNvPr id="121" name=""/>
            <p:cNvSpPr/>
            <p:nvPr/>
          </p:nvSpPr>
          <p:spPr>
            <a:xfrm>
              <a:off x="1371600" y="2209680"/>
              <a:ext cx="2362320" cy="381024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3276720"/>
              <a:ext cx="175248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4152960"/>
              <a:ext cx="1752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4800600"/>
              <a:ext cx="17524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5440" y="2437920"/>
              <a:ext cx="141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Courier New"/>
                </a:rPr>
                <a:t>int x, y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932"/>
                  </a:solidFill>
                  <a:latin typeface="Courier New"/>
                </a:rPr>
                <a:t>char ch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721040" y="251352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ata decla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3840" y="426636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ethod decla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400" y="2743200"/>
            <a:ext cx="13716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81280" y="3276720"/>
            <a:ext cx="1523880" cy="2438280"/>
            <a:chOff x="3581280" y="3276720"/>
            <a:chExt cx="1523880" cy="2438280"/>
          </a:xfrm>
        </p:grpSpPr>
        <p:sp>
          <p:nvSpPr>
            <p:cNvPr id="130" name=""/>
            <p:cNvSpPr/>
            <p:nvPr/>
          </p:nvSpPr>
          <p:spPr>
            <a:xfrm>
              <a:off x="3581280" y="3276720"/>
              <a:ext cx="838440" cy="2438280"/>
            </a:xfrm>
            <a:custGeom>
              <a:avLst/>
              <a:gdLst>
                <a:gd name="textAreaLeft" fmla="*/ 0 w 838440"/>
                <a:gd name="textAreaRight" fmla="*/ 302760 w 83844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419360" y="4495680"/>
              <a:ext cx="6858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Scop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cop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data is the area in a program in which that data can be used (reference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 declared at the class level can be used by all methods in tha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 declared within a method can only be used in that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 declared within a method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cal dat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rit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thod declar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pecifies the code that will be executed when the method is invoked (or calle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 method is invoked, the flow of control jumps to the method and executes its c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complete, the flow returns to the place where the method was called and contin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nvocation may or may not return a value, depending on how the method was defi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600200" y="2362320"/>
            <a:ext cx="6019920" cy="3581280"/>
            <a:chOff x="1600200" y="2362320"/>
            <a:chExt cx="6019920" cy="3581280"/>
          </a:xfrm>
        </p:grpSpPr>
        <p:sp>
          <p:nvSpPr>
            <p:cNvPr id="137" name=""/>
            <p:cNvSpPr/>
            <p:nvPr/>
          </p:nvSpPr>
          <p:spPr>
            <a:xfrm>
              <a:off x="1600200" y="2362320"/>
              <a:ext cx="6019920" cy="358128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3124440"/>
              <a:ext cx="160020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3124440"/>
              <a:ext cx="160020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0840" y="39621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932"/>
                  </a:solidFill>
                  <a:latin typeface="Courier New"/>
                </a:rPr>
                <a:t>myMethod(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17920" y="2742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932"/>
                  </a:solidFill>
                  <a:latin typeface="Courier New"/>
                </a:rPr>
                <a:t>myMeth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55360" y="27428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932"/>
                  </a:solidFill>
                  <a:latin typeface="Courier New"/>
                </a:rPr>
                <a:t>comp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6000" y="3123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720" y="472392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39840" y="4266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ethod Control Flow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alled method could be within the same class, in which case only the method name is nee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8" idx="0"/>
            <a:endCxn id="140" idx="0"/>
          </p:cNvCxnSpPr>
          <p:nvPr/>
        </p:nvCxnSpPr>
        <p:spPr>
          <a:xfrm>
            <a:off x="3161880" y="3123720"/>
            <a:ext cx="1080" cy="839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49" name=""/>
          <p:cNvCxnSpPr>
            <a:endCxn id="138" idx="2"/>
          </p:cNvCxnSpPr>
          <p:nvPr/>
        </p:nvCxnSpPr>
        <p:spPr>
          <a:xfrm>
            <a:off x="3161880" y="4587840"/>
            <a:ext cx="1080" cy="8992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0" name=""/>
          <p:cNvCxnSpPr>
            <a:stCxn id="140" idx="3"/>
            <a:endCxn id="143" idx="1"/>
          </p:cNvCxnSpPr>
          <p:nvPr/>
        </p:nvCxnSpPr>
        <p:spPr>
          <a:xfrm flipV="1">
            <a:off x="3925800" y="3246120"/>
            <a:ext cx="1869120" cy="884880"/>
          </a:xfrm>
          <a:prstGeom prst="bentConnector3">
            <a:avLst>
              <a:gd name="adj1" fmla="val 36100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1" name=""/>
          <p:cNvCxnSpPr>
            <a:stCxn id="143" idx="2"/>
            <a:endCxn id="144" idx="0"/>
          </p:cNvCxnSpPr>
          <p:nvPr/>
        </p:nvCxnSpPr>
        <p:spPr>
          <a:xfrm>
            <a:off x="5917680" y="3368520"/>
            <a:ext cx="1080" cy="1356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2" name=""/>
          <p:cNvCxnSpPr>
            <a:stCxn id="144" idx="1"/>
          </p:cNvCxnSpPr>
          <p:nvPr/>
        </p:nvCxnSpPr>
        <p:spPr>
          <a:xfrm rot="10800000">
            <a:off x="3301200" y="4465080"/>
            <a:ext cx="2413800" cy="381600"/>
          </a:xfrm>
          <a:prstGeom prst="bentConnector3">
            <a:avLst>
              <a:gd name="adj1" fmla="val 46494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4T23:32:14Z</dcterms:modified>
  <cp:revision>44</cp:revision>
  <dc:subject/>
  <dc:title>Chapter 2:  Using Objects </dc:title>
</cp:coreProperties>
</file>