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8DC-E49C-47A7-A592-82FE08B9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1D63-C09F-47E1-B08E-7149EC98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D31-DF66-4E1C-AD1F-560ED060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BDD-0539-436A-AF7C-B79B20D3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30BD-8FCD-4C0D-96B0-D0CBB905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28F3-55B6-4641-97A4-2A93D70C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03C0-B994-49B8-9B21-9B40FFF2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A8A0-54CA-4086-94F9-FEA625E4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4DD1-0908-44F1-B5FE-D053BF00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6235-0D11-4C77-AF7D-14420C04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B24D-9E44-47CD-9C0F-92CA0E01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7EA-2A69-4652-B262-97F48AD9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089D-599E-4232-8B06-C2287906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EBEC-F329-4647-9C85-C9DE7EE2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CA73-BE74-4510-A18D-EB78E93C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78CB-3B0A-450E-827A-00FBC19C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7B25-52F1-4983-934F-94757069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DB8-1CB6-4235-AB30-6C653FFC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01D-31BE-4CC7-95D2-7700FB2E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267F-1C7A-44D9-B9DC-5540D34B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4CF-07AA-47F8-9195-78FD3C99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F05-4222-4EDB-9B60-579A9B3F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F7E-0127-413E-8449-855C7EF2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CFB-73F0-4F77-9B80-ED82B4E5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4572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2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6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EA15-0F33-41AF-AF38-BC94B376AA4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7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2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95B2-C60F-4AC7-926F-9283E6A9A5F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a50021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examples/chap11/MazeSearch.java" TargetMode="External"/><Relationship Id="rId2" Type="http://schemas.openxmlformats.org/officeDocument/2006/relationships/hyperlink" Target="file:///../examples/chap11/MazeSearch.java" TargetMode="External"/><Relationship Id="rId3" Type="http://schemas.openxmlformats.org/officeDocument/2006/relationships/hyperlink" Target="file:///../examples/chap11/Maze.java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examples/chap11/SolveTowers.java" TargetMode="External"/><Relationship Id="rId2" Type="http://schemas.openxmlformats.org/officeDocument/2006/relationships/hyperlink" Target="file:///../examples/chap11/SolveTowers.java" TargetMode="External"/><Relationship Id="rId3" Type="http://schemas.openxmlformats.org/officeDocument/2006/relationships/hyperlink" Target="file:///../examples/chap11/TowersOfHanoi.java" TargetMode="External"/><Relationship Id="rId4" Type="http://schemas.openxmlformats.org/officeDocument/2006/relationships/hyperlink" Target="file:///../examples/chap11/TowersOfHanoi.java" TargetMode="Externa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../examples/chap11/MirroredPictures.java" TargetMode="External"/><Relationship Id="rId2" Type="http://schemas.openxmlformats.org/officeDocument/2006/relationships/hyperlink" Target="file:///../examples/chap11/MirroredPictures.java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../examples/chap11/KochSnowflake.java" TargetMode="External"/><Relationship Id="rId2" Type="http://schemas.openxmlformats.org/officeDocument/2006/relationships/hyperlink" Target="file:///../examples/chap11/KochSnowflake.java" TargetMode="External"/><Relationship Id="rId3" Type="http://schemas.openxmlformats.org/officeDocument/2006/relationships/hyperlink" Target="file:///../examples/chap11/KochPanel.java" TargetMode="External"/><Relationship Id="rId4" Type="http://schemas.openxmlformats.org/officeDocument/2006/relationships/hyperlink" Target="file:///../examples/chap11/KochPanel.java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hapter 11:  Recursion 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Presentation slides for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Java Software Solution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ndations of Program Desig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Ed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y John Lewis and William Loftu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Java Software Solutions is published by Addison-Wesley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Presentation slides are copyright 2000 by John Lewis and William Loftus. All rights reserved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Instructors using the textbook may use and modify these slides for pedagogical purposes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ve Programm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ider the problem of computing the sum of all the numbers between 1 and any positive integer 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problem can be recursively defined a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319400" y="3178080"/>
            <a:ext cx="6819480" cy="1929960"/>
            <a:chOff x="1319400" y="3178080"/>
            <a:chExt cx="6819480" cy="1929960"/>
          </a:xfrm>
        </p:grpSpPr>
        <p:grpSp>
          <p:nvGrpSpPr>
            <p:cNvPr id="138" name=""/>
            <p:cNvGrpSpPr/>
            <p:nvPr/>
          </p:nvGrpSpPr>
          <p:grpSpPr>
            <a:xfrm>
              <a:off x="1319400" y="3178080"/>
              <a:ext cx="6819480" cy="1051920"/>
              <a:chOff x="1319400" y="3178080"/>
              <a:chExt cx="6819480" cy="105192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1319400" y="3178080"/>
                <a:ext cx="558360" cy="1051920"/>
                <a:chOff x="1319400" y="3178080"/>
                <a:chExt cx="558360" cy="1051920"/>
              </a:xfrm>
            </p:grpSpPr>
            <p:sp>
              <p:nvSpPr>
                <p:cNvPr id="140" name=""/>
                <p:cNvSpPr/>
                <p:nvPr/>
              </p:nvSpPr>
              <p:spPr>
                <a:xfrm flipH="1">
                  <a:off x="1453680" y="3517920"/>
                  <a:ext cx="28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454040" y="3540240"/>
                  <a:ext cx="173160" cy="150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1454040" y="366876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474920" y="3821040"/>
                  <a:ext cx="260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319400" y="3894120"/>
                  <a:ext cx="5583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i = 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426680" y="317808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810240" y="3178080"/>
                <a:ext cx="558360" cy="1051920"/>
                <a:chOff x="3810240" y="3178080"/>
                <a:chExt cx="558360" cy="1051920"/>
              </a:xfrm>
            </p:grpSpPr>
            <p:sp>
              <p:nvSpPr>
                <p:cNvPr id="147" name=""/>
                <p:cNvSpPr/>
                <p:nvPr/>
              </p:nvSpPr>
              <p:spPr>
                <a:xfrm flipH="1">
                  <a:off x="3944520" y="3517920"/>
                  <a:ext cx="28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944880" y="3540240"/>
                  <a:ext cx="173160" cy="150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3944520" y="366876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65400" y="3821040"/>
                  <a:ext cx="260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810240" y="3894120"/>
                  <a:ext cx="5583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i = 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52720" y="3178080"/>
                  <a:ext cx="500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N-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580520" y="3178080"/>
                <a:ext cx="558360" cy="1051920"/>
                <a:chOff x="7580520" y="3178080"/>
                <a:chExt cx="558360" cy="1051920"/>
              </a:xfrm>
            </p:grpSpPr>
            <p:sp>
              <p:nvSpPr>
                <p:cNvPr id="154" name=""/>
                <p:cNvSpPr/>
                <p:nvPr/>
              </p:nvSpPr>
              <p:spPr>
                <a:xfrm flipH="1">
                  <a:off x="7714800" y="3517920"/>
                  <a:ext cx="28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715160" y="3540240"/>
                  <a:ext cx="173160" cy="150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7715160" y="366876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736040" y="3821040"/>
                  <a:ext cx="260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80520" y="3894120"/>
                  <a:ext cx="5583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i = 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623000" y="3178080"/>
                  <a:ext cx="500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N-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2184480" y="3478320"/>
                <a:ext cx="14652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urier New"/>
                  </a:rPr>
                  <a:t>=  N  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98720" y="3479760"/>
                <a:ext cx="2745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urier New"/>
                  </a:rPr>
                  <a:t>=  N + (N-1) 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382760" y="4649760"/>
              <a:ext cx="164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urier New"/>
                </a:rPr>
                <a:t>=   etc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614-5B1D-4394-AA4A-BA2D55966B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ve Programm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635120" y="1422360"/>
            <a:ext cx="5983920" cy="4468680"/>
            <a:chOff x="1635120" y="1422360"/>
            <a:chExt cx="5983920" cy="4468680"/>
          </a:xfrm>
        </p:grpSpPr>
        <p:sp>
          <p:nvSpPr>
            <p:cNvPr id="165" name=""/>
            <p:cNvSpPr/>
            <p:nvPr/>
          </p:nvSpPr>
          <p:spPr>
            <a:xfrm>
              <a:off x="1635120" y="1593720"/>
              <a:ext cx="1135080" cy="486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24360" y="2851200"/>
              <a:ext cx="1134720" cy="485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urier New"/>
                </a:rPr>
                <a:t>su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87480" y="2108160"/>
              <a:ext cx="0" cy="32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87480" y="2454120"/>
              <a:ext cx="149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82920" y="2475000"/>
              <a:ext cx="0" cy="347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40320" y="4127400"/>
              <a:ext cx="1135080" cy="486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urier New"/>
                </a:rPr>
                <a:t>su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03440" y="3384720"/>
              <a:ext cx="0" cy="32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03440" y="3730680"/>
              <a:ext cx="149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98880" y="3751200"/>
              <a:ext cx="0" cy="34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76800" y="5405400"/>
              <a:ext cx="1135080" cy="485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urier New"/>
                </a:rPr>
                <a:t>su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40280" y="4662360"/>
              <a:ext cx="0" cy="32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40280" y="5008680"/>
              <a:ext cx="149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35720" y="5029200"/>
              <a:ext cx="0" cy="34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63600" y="2138400"/>
              <a:ext cx="916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sum(3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17840" y="4716360"/>
              <a:ext cx="916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sum(1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25640" y="3440160"/>
              <a:ext cx="916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sum(2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6867360" y="4381560"/>
              <a:ext cx="0" cy="1017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698800" y="4381560"/>
              <a:ext cx="1168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14680" y="4021200"/>
              <a:ext cx="1404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result 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396040" y="3103200"/>
              <a:ext cx="0" cy="10177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227480" y="310356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43000" y="2743200"/>
              <a:ext cx="1404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result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010040" y="1782360"/>
              <a:ext cx="0" cy="10177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841480" y="17827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57000" y="1422360"/>
              <a:ext cx="1404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result =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048-5EE6-44B0-92C5-F6C4039701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ve Programm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 that just because we can use recursion to solve a problem, doesn't mean we shoul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instance, we usually would not use recursion to solve the sum of 1 to N problem, because the iterative version is easier to understan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wever, for some problems, recursion provides an elegant solution, often cleaner than an iterative ver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You must carefully decide whether recursion is the correct technique for any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5B3-72AC-413E-B69D-4B7DB153F1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direct Recurs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method invoking itself is considered to b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irect recur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method could invoke another method, which invokes another, etc., until eventually the original method is invoked agai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metho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uld invok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which invoke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which in turn invoke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gai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is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direct recurs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and requires all the same care as direct recur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often more difficult to trace and debu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9D4-8931-4557-A904-F5BD7372C2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direct Recurs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71720" y="1766880"/>
            <a:ext cx="7003800" cy="3565440"/>
            <a:chOff x="1071720" y="1766880"/>
            <a:chExt cx="7003800" cy="3565440"/>
          </a:xfrm>
        </p:grpSpPr>
        <p:grpSp>
          <p:nvGrpSpPr>
            <p:cNvPr id="196" name=""/>
            <p:cNvGrpSpPr/>
            <p:nvPr/>
          </p:nvGrpSpPr>
          <p:grpSpPr>
            <a:xfrm>
              <a:off x="1071720" y="1766880"/>
              <a:ext cx="4751280" cy="550800"/>
              <a:chOff x="1071720" y="1766880"/>
              <a:chExt cx="4751280" cy="55080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1071720" y="1766880"/>
                <a:ext cx="4751280" cy="550800"/>
                <a:chOff x="1071720" y="1766880"/>
                <a:chExt cx="4751280" cy="5508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071720" y="176688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urier New"/>
                    </a:rPr>
                    <a:t>m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890800" y="176688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urier New"/>
                    </a:rPr>
                    <a:t>m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710240" y="176688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urier New"/>
                    </a:rPr>
                    <a:t>m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2190600" y="1933560"/>
                <a:ext cx="67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010040" y="1932120"/>
                <a:ext cx="67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4052880" y="2193840"/>
                <a:ext cx="628560" cy="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2235240" y="2193840"/>
                <a:ext cx="628560" cy="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217600" y="3262320"/>
              <a:ext cx="4751640" cy="550800"/>
              <a:chOff x="2217600" y="3262320"/>
              <a:chExt cx="4751640" cy="5508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2217600" y="3262320"/>
                <a:ext cx="4751640" cy="550800"/>
                <a:chOff x="2217600" y="3262320"/>
                <a:chExt cx="4751640" cy="5508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2217600" y="3262320"/>
                  <a:ext cx="1113120" cy="5508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urier New"/>
                    </a:rPr>
                    <a:t>m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037040" y="326232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urier New"/>
                    </a:rPr>
                    <a:t>m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856120" y="3262320"/>
                  <a:ext cx="1113120" cy="5508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urier New"/>
                    </a:rPr>
                    <a:t>m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3336840" y="3429000"/>
                <a:ext cx="67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56280" y="3427560"/>
                <a:ext cx="67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5199120" y="3689280"/>
                <a:ext cx="628560" cy="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3381480" y="3689280"/>
                <a:ext cx="628560" cy="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3324240" y="4781520"/>
              <a:ext cx="4751280" cy="550800"/>
              <a:chOff x="3324240" y="4781520"/>
              <a:chExt cx="4751280" cy="5508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3324240" y="4781520"/>
                <a:ext cx="4751280" cy="550800"/>
                <a:chOff x="3324240" y="4781520"/>
                <a:chExt cx="4751280" cy="5508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324240" y="478152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urier New"/>
                    </a:rPr>
                    <a:t>m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143680" y="478152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urier New"/>
                    </a:rPr>
                    <a:t>m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962760" y="478152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urier New"/>
                    </a:rPr>
                    <a:t>m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4443480" y="4948200"/>
                <a:ext cx="67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262560" y="4946760"/>
                <a:ext cx="67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305040" y="5208480"/>
                <a:ext cx="628920" cy="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487400" y="5208480"/>
                <a:ext cx="628920" cy="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flipH="1">
              <a:off x="2514600" y="2346480"/>
              <a:ext cx="2533680" cy="86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619440" y="3862440"/>
              <a:ext cx="2533680" cy="887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990880" y="2346120"/>
              <a:ext cx="2533680" cy="887400"/>
            </a:xfrm>
            <a:prstGeom prst="line">
              <a:avLst/>
            </a:prstGeom>
            <a:ln w="12600">
              <a:solidFill>
                <a:srgbClr val="ffff99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183200" y="3862080"/>
              <a:ext cx="2531880" cy="887400"/>
            </a:xfrm>
            <a:prstGeom prst="line">
              <a:avLst/>
            </a:prstGeom>
            <a:ln w="12600">
              <a:solidFill>
                <a:srgbClr val="ffff99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8F9A-0F6D-4A11-83A5-D7E39A6F1A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aze Traversa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 use recursion to find a path through a maz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rom each location, we can search in each direc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ursion keeps track of the path through the maz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base case is an invalid move or reaching the final destin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1"/>
              </a:rPr>
              <a:t>MazeSearch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2"/>
              </a:rPr>
              <a:t>.jav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472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3"/>
              </a:rPr>
              <a:t>Maze.jav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474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owers of Hanoi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owers of Hano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puzzle made up of three vertical pegs and several disks that slide on the peg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disks are of varying size, initially placed on one peg with the largest disk on the bottom with increasingly smaller ones on to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goal is to move all of the disks from one peg to another under the following rul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e can move only one disk at a tim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e cannot move a larger disk on top of a smaller on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owers of Hanoi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iterative solution to the Towers of Hanoi is quite comple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recursive solution is much shorter and more elega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1"/>
              </a:rPr>
              <a:t>SolveTowers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2"/>
              </a:rPr>
              <a:t>.jav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479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3"/>
              </a:rPr>
              <a:t>TowersOfHanoi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4"/>
              </a:rPr>
              <a:t>.jav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48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irrored Pictur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ider the task of repeatedly displaying a set of images in a mosaic that is reminiscent of looking in two mirrors reflecting each oth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base case is reached when the area for the images shrinks to a certain siz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1"/>
              </a:rPr>
              <a:t>MirroredPictures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2"/>
              </a:rPr>
              <a:t>.jav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483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2B0-DF55-40F6-A7BA-C319F7C7B3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ractal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racta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geometric shape made up of the same pattern repeated in different sizes and orient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och Snowflak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particular fractal that begins with an equilateral triang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get a higher order of the fractal, the sides of the triangle are replaced with angled line seg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1"/>
              </a:rPr>
              <a:t>KochSnowflake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2"/>
              </a:rPr>
              <a:t>.jav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486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3"/>
              </a:rPr>
              <a:t>KochPanel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4"/>
              </a:rPr>
              <a:t>.jav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489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ursion is a fundamental programming technique that can provide an elegant solution certain kinds of proble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pter 11 focuses 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inking in a recursive mann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ogramming in a recursive mann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correct use of recurs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cursion exampl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413-3A93-48D2-A1BA-D2CAD76D0E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ve Think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cursive defini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one which uses the word or concept being defined in the definition itsel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 defining an English word, a recursive definition is often not helpfu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ut in other situations, a recursive definition can be an appropriate way to express a concep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fore applying recursion to programming, it is best to practice thinking recursive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A07-637D-4732-B6A0-940893E603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ve Defini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ider the following list of number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24, 88, 40, 37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ch a list can be defined a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 LIST is a:  numb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or a:  number  comma  LIS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is, a LIST is defined to be a single number, or a number followed by a comma followed by a LI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oncept of a LIST is used to define itsel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F6C-42FD-45FB-9BF7-CAA4872DB1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ve Defini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ecursive part of the LIST definition is used several times, terminating with the non-recursive part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number comma LIS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24     ,   88, 40, 37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number comma LIS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88     ,   40, 37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number comma LIS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40     ,   37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          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number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37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20B-615E-4477-BDDA-99C08B665C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finite Recurs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l recursive definitions have to have a non-recursive par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y didn't, there would be no way to terminate the recursive pat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ch a definition would caus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finite recur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problem is similar to an infinite loop, but the non-terminating "loop" is part of the definition itsel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non-recursive part is often calle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ase ca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486-FBB5-4FD7-875F-2E15102259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ve Defini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!, for any positive integer N, is defined to be the product of all integers between 1 and N inclusiv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definition can be expressed recursively a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1!  = 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!  =  N * (N-1)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oncept of the factorial is defined in terms of another factoria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ventually, the base case of 1! is reach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0BC-C470-463D-85E1-E7675D1B5C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ve Defini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5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5 * 4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4 * 3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3 * 2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2 * 1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441880" y="1744560"/>
            <a:ext cx="4281840" cy="3249360"/>
            <a:chOff x="2441880" y="1744560"/>
            <a:chExt cx="4281840" cy="3249360"/>
          </a:xfrm>
        </p:grpSpPr>
        <p:sp>
          <p:nvSpPr>
            <p:cNvPr id="125" name=""/>
            <p:cNvSpPr/>
            <p:nvPr/>
          </p:nvSpPr>
          <p:spPr>
            <a:xfrm>
              <a:off x="4671720" y="4257720"/>
              <a:ext cx="151452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2" y="1"/>
                  </a:moveTo>
                  <a:arcTo wR="10800" hR="10800" stAng="-5450446" swAng="108504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2" y="1"/>
                  </a:moveTo>
                  <a:arcTo wR="10800" hR="10800" stAng="-5450446" swAng="1085044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23000" y="3370320"/>
              <a:ext cx="151380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2" y="1"/>
                  </a:moveTo>
                  <a:arcTo wR="10800" hR="10800" stAng="-5450446" swAng="108504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2" y="1"/>
                  </a:moveTo>
                  <a:arcTo wR="10800" hR="10800" stAng="-5450446" swAng="1085044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78440" y="2525760"/>
              <a:ext cx="151380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2" y="1"/>
                  </a:moveTo>
                  <a:arcTo wR="10800" hR="10800" stAng="-5450446" swAng="108504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2" y="1"/>
                  </a:moveTo>
                  <a:arcTo wR="10800" hR="10800" stAng="-5450446" swAng="1085044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41880" y="1744560"/>
              <a:ext cx="151380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2" y="1"/>
                  </a:moveTo>
                  <a:arcTo wR="10800" hR="10800" stAng="-5450446" swAng="108504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2" y="1"/>
                  </a:moveTo>
                  <a:arcTo wR="10800" hR="10800" stAng="-5450446" swAng="1085044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01520" y="4373640"/>
              <a:ext cx="322200" cy="36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25240" y="3506760"/>
              <a:ext cx="322200" cy="36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67800" y="2641680"/>
              <a:ext cx="459360" cy="36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94360" y="1905120"/>
              <a:ext cx="596520" cy="36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1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879B-BFE0-4CD3-B56E-B473BA17E5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ve Programm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method in Java can invoke itself;  if set up that way, it is called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cursive metho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ode of a recursive method must be structured to handle both the base case and the recursive ca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call to the method sets up a new execution environment, with new parameters and local variab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 always, when the method completes, control returns to the method that invoked it (which may be an earlier invocation of itself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DB6-1ED7-4A02-8896-0367BFCF19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John Lewis</dc:creator>
  <dc:description/>
  <dc:language>en-US</dc:language>
  <cp:lastModifiedBy>John Lewis</cp:lastModifiedBy>
  <dcterms:modified xsi:type="dcterms:W3CDTF">2000-09-05T12:16:09Z</dcterms:modified>
  <cp:revision>19</cp:revision>
  <dc:subject/>
  <dc:title>Chapter 2:  Using Objects </dc:title>
</cp:coreProperties>
</file>