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A9B-A961-4332-BFE6-AFB5077C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36B-A57B-4096-AB8D-B67D26BC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A5E-6C08-4CAA-B52D-E1D2BD71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614-D604-4A4D-B44A-1D6D8FC8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98EA-15AB-48EB-8A60-E0AF679B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6B0F-9D52-425E-AEED-F687A49A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448B-32F4-4C37-9EE5-B746A8DF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F671-E215-4A65-B276-D1F7226E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E951-9B2D-450C-9B7A-C223DB2C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D4D9-1429-4C5A-B656-066A94BF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C604-5109-479E-BC95-2E78931B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8E5-944B-4156-BEA6-FBEF4939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14B0-0F83-46C5-AAB5-1C78DBE6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8515-2743-4067-8062-1779D82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8250-BEDB-402D-96ED-EF9844D1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0D39-6033-45E3-BDB0-246502D2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0221-4CEB-4D8F-8137-EC82F784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15B-C622-42A7-9C78-21B34B22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428-6537-4880-B54C-D0660A1F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5E48-9801-4B84-A80F-F3EB510F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1DB-D1A9-4D4E-B0F8-8DD2105A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EBC-0E3A-4DD0-9956-FF1E1C29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413-CD9F-4BF2-8AA7-D6EAE96D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37F-EDD9-4CFB-A235-D6F04C1C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839C-A4C1-4EF4-B4C5-C5C7CB6D49A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4CF6-E1B0-439E-B4FA-0215C099F56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examples/chap03/Guessing.java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examples/chap03/Age.java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examples/chap03/Wages.java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hapter 3:  Program Statements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Presentation slides for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Java Software Solution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ndations of Program Desig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Ed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y John Lewis and William Loftu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Java Software Solutions is published by Addison-Wesley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Presentation slides are copyright 2000 by John Lewis and William Loftus. All rights reserved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Instructors using the textbook may use and modify these slides for pedagogical purposes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ogic of an if-else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552760" y="1537920"/>
            <a:ext cx="1905120" cy="1600560"/>
            <a:chOff x="2552760" y="1537920"/>
            <a:chExt cx="1905120" cy="1600560"/>
          </a:xfrm>
        </p:grpSpPr>
        <p:grpSp>
          <p:nvGrpSpPr>
            <p:cNvPr id="161" name=""/>
            <p:cNvGrpSpPr/>
            <p:nvPr/>
          </p:nvGrpSpPr>
          <p:grpSpPr>
            <a:xfrm>
              <a:off x="2552760" y="2224080"/>
              <a:ext cx="1905120" cy="914400"/>
              <a:chOff x="2552760" y="2224080"/>
              <a:chExt cx="1905120" cy="914400"/>
            </a:xfrm>
          </p:grpSpPr>
          <p:sp>
            <p:nvSpPr>
              <p:cNvPr id="162" name=""/>
              <p:cNvSpPr/>
              <p:nvPr/>
            </p:nvSpPr>
            <p:spPr>
              <a:xfrm>
                <a:off x="2552760" y="2224080"/>
                <a:ext cx="1905120" cy="914400"/>
              </a:xfrm>
              <a:prstGeom prst="diamond">
                <a:avLst/>
              </a:prstGeom>
              <a:solidFill>
                <a:srgbClr val="ffcc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944800" y="2344320"/>
                <a:ext cx="112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condi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evaluate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64" name=""/>
            <p:cNvCxnSpPr>
              <a:endCxn id="162" idx="0"/>
            </p:cNvCxnSpPr>
            <p:nvPr/>
          </p:nvCxnSpPr>
          <p:spPr>
            <a:xfrm>
              <a:off x="3504960" y="1537920"/>
              <a:ext cx="1080" cy="6865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</p:grpSp>
      <p:cxnSp>
        <p:nvCxnSpPr>
          <p:cNvPr id="165" name=""/>
          <p:cNvCxnSpPr>
            <a:stCxn id="166" idx="2"/>
          </p:cNvCxnSpPr>
          <p:nvPr/>
        </p:nvCxnSpPr>
        <p:spPr>
          <a:xfrm>
            <a:off x="3504960" y="4419720"/>
            <a:ext cx="1080" cy="11574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  <p:grpSp>
        <p:nvGrpSpPr>
          <p:cNvPr id="167" name=""/>
          <p:cNvGrpSpPr/>
          <p:nvPr/>
        </p:nvGrpSpPr>
        <p:grpSpPr>
          <a:xfrm>
            <a:off x="2705040" y="3138120"/>
            <a:ext cx="1600200" cy="1295280"/>
            <a:chOff x="2705040" y="3138120"/>
            <a:chExt cx="1600200" cy="1295280"/>
          </a:xfrm>
        </p:grpSpPr>
        <p:grpSp>
          <p:nvGrpSpPr>
            <p:cNvPr id="168" name=""/>
            <p:cNvGrpSpPr/>
            <p:nvPr/>
          </p:nvGrpSpPr>
          <p:grpSpPr>
            <a:xfrm>
              <a:off x="2705040" y="4051800"/>
              <a:ext cx="1600200" cy="381600"/>
              <a:chOff x="2705040" y="4051800"/>
              <a:chExt cx="1600200" cy="381600"/>
            </a:xfrm>
          </p:grpSpPr>
          <p:sp>
            <p:nvSpPr>
              <p:cNvPr id="169" name=""/>
              <p:cNvSpPr/>
              <p:nvPr/>
            </p:nvSpPr>
            <p:spPr>
              <a:xfrm>
                <a:off x="2705040" y="4052520"/>
                <a:ext cx="1600200" cy="3808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881440" y="4051800"/>
                <a:ext cx="124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statement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70" name=""/>
            <p:cNvCxnSpPr>
              <a:stCxn id="162" idx="2"/>
              <a:endCxn id="169" idx="0"/>
            </p:cNvCxnSpPr>
            <p:nvPr/>
          </p:nvCxnSpPr>
          <p:spPr>
            <a:xfrm>
              <a:off x="3504960" y="3138120"/>
              <a:ext cx="1080" cy="91476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171" name=""/>
            <p:cNvSpPr/>
            <p:nvPr/>
          </p:nvSpPr>
          <p:spPr>
            <a:xfrm>
              <a:off x="3564000" y="336600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imes New Roman"/>
                </a:rPr>
                <a:t>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72" name=""/>
          <p:cNvCxnSpPr>
            <a:stCxn id="173" idx="2"/>
          </p:cNvCxnSpPr>
          <p:nvPr/>
        </p:nvCxnSpPr>
        <p:spPr>
          <a:xfrm rot="5400000">
            <a:off x="3916800" y="4007520"/>
            <a:ext cx="1157400" cy="1981800"/>
          </a:xfrm>
          <a:prstGeom prst="bentConnector3">
            <a:avLst>
              <a:gd name="adj1" fmla="val 49937"/>
            </a:avLst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  <p:grpSp>
        <p:nvGrpSpPr>
          <p:cNvPr id="174" name=""/>
          <p:cNvGrpSpPr/>
          <p:nvPr/>
        </p:nvGrpSpPr>
        <p:grpSpPr>
          <a:xfrm>
            <a:off x="4457520" y="2680920"/>
            <a:ext cx="1829160" cy="1752480"/>
            <a:chOff x="4457520" y="2680920"/>
            <a:chExt cx="1829160" cy="1752480"/>
          </a:xfrm>
        </p:grpSpPr>
        <p:cxnSp>
          <p:nvCxnSpPr>
            <p:cNvPr id="175" name=""/>
            <p:cNvCxnSpPr>
              <a:stCxn id="162" idx="3"/>
              <a:endCxn id="173" idx="0"/>
            </p:cNvCxnSpPr>
            <p:nvPr/>
          </p:nvCxnSpPr>
          <p:spPr>
            <a:xfrm>
              <a:off x="4457520" y="2680920"/>
              <a:ext cx="1028880" cy="1371960"/>
            </a:xfrm>
            <a:prstGeom prst="bentConnector2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176" name=""/>
            <p:cNvSpPr/>
            <p:nvPr/>
          </p:nvSpPr>
          <p:spPr>
            <a:xfrm>
              <a:off x="5526000" y="3366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imes New Roman"/>
                </a:rPr>
                <a:t>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4686480" y="4051800"/>
              <a:ext cx="1600200" cy="381600"/>
              <a:chOff x="4686480" y="4051800"/>
              <a:chExt cx="1600200" cy="381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686480" y="4052520"/>
                <a:ext cx="1600200" cy="3808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62880" y="4051800"/>
                <a:ext cx="124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statement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lock Statem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ral statements can be grouped together into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lock stat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block is delimited by braces ( { … } 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block statement can be used wherever a statement is called for in the Java synta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in an if-else statement, the if portion, or the else portion, or both, could be block stat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Guessing.java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(page 117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04F-F46F-49DB-BAE2-52B4F2C5BB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ested if Statem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tatement executed as a result of an if statement or else clause could be another if stat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se are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ested if stat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MinOfThree.java (page 118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else clause is matched to the last unmatched if (no matter what the indentation implie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82F-C62B-449C-9566-430793F488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mparing Charact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use the relational operators on character dat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esults are based on the Unicode character se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following condition is true because the character '+' comes before the character 'J' in Unicod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7080" y="3351600"/>
            <a:ext cx="67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 ('+' &lt; 'J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ystem.out.println ("+ is less than J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495680"/>
            <a:ext cx="8305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ppercase alphabet (A-Z) and the lowercase alphabet (a-z) both appear in alphabetical order in Uni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mparing String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member that a character string in Java is a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not use the relational operators to compare string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equal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can be called on a string to determine if two strings contain exactly the same characters in the same ord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tring class also contains a method calle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mpare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determine if one string comes before another alphabetically (as determined by the Unicode character se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mparing Floating Point Valu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also have to be careful when comparing two floating point values (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doub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or equa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You should rarely use the equality operator (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==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when comparing two floa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many situations, you might consider two floating point numbers to be "close enough" even if they aren't exactly equa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, to determine the equality of two floats, you may want to use the following techniqu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20760" y="518040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 (Math.abs (f1 - f2) &lt; 0.0000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ystem.out.println ("Essentially equal.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switch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witch stat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rovides another means to decide which statement to execute nex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witch statement evaluates an expression, then attempts to match the result to one of several possibl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as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case contains a value and a list of stat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flow of control transfers to statement list associated with the first value that match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E39-386D-4E72-B1C6-0DADDE92F2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switch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general syntax of a switch statement i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0960" y="2208240"/>
            <a:ext cx="3381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witch (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express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se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value1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statement-list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se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value2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statement-list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value3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tatement-list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62480" y="2437200"/>
            <a:ext cx="1828440" cy="1923480"/>
            <a:chOff x="762480" y="2437200"/>
            <a:chExt cx="1828440" cy="1923480"/>
          </a:xfrm>
        </p:grpSpPr>
        <p:sp>
          <p:nvSpPr>
            <p:cNvPr id="198" name=""/>
            <p:cNvSpPr/>
            <p:nvPr/>
          </p:nvSpPr>
          <p:spPr>
            <a:xfrm>
              <a:off x="762480" y="2437200"/>
              <a:ext cx="11134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Courier New"/>
                </a:rPr>
                <a:t>swit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an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Courier New"/>
                </a:rPr>
                <a:t>c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a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reserv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word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28800" y="2971800"/>
              <a:ext cx="76212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1828800" y="2666520"/>
              <a:ext cx="685800" cy="3049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779520" y="3885840"/>
            <a:ext cx="1893600" cy="1770120"/>
            <a:chOff x="6779520" y="3885840"/>
            <a:chExt cx="1893600" cy="1770120"/>
          </a:xfrm>
        </p:grpSpPr>
        <p:sp>
          <p:nvSpPr>
            <p:cNvPr id="202" name=""/>
            <p:cNvSpPr/>
            <p:nvPr/>
          </p:nvSpPr>
          <p:spPr>
            <a:xfrm>
              <a:off x="6779520" y="4342320"/>
              <a:ext cx="1893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If </a:t>
              </a:r>
              <a:r>
                <a:rPr b="1" i="1" lang="en-US" sz="2000" spc="-1" strike="noStrike">
                  <a:solidFill>
                    <a:srgbClr val="ffff99"/>
                  </a:solidFill>
                  <a:latin typeface="Times New Roman"/>
                </a:rPr>
                <a:t>express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matches </a:t>
              </a:r>
              <a:r>
                <a:rPr b="1" i="1" lang="en-US" sz="2000" spc="-1" strike="noStrike">
                  <a:solidFill>
                    <a:srgbClr val="ffff99"/>
                  </a:solidFill>
                  <a:latin typeface="Times New Roman"/>
                </a:rPr>
                <a:t>value2</a:t>
              </a: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control jump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o he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2" idx="0"/>
            </p:cNvCxnSpPr>
            <p:nvPr/>
          </p:nvCxnSpPr>
          <p:spPr>
            <a:xfrm flipV="1" rot="16200000">
              <a:off x="7025040" y="3641760"/>
              <a:ext cx="457920" cy="945360"/>
            </a:xfrm>
            <a:prstGeom prst="bentConnector2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switch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ten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reak stat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used as the last statement in each case's statement li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break statement causes control to transfer to the end of the switch stat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a break statement is not used, the flow of control will continue into the next 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metimes this can be helpful, but usually we only want to execute the statements associated with one 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switch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witch statement can have an optional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efault 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default case has no associated value and simply uses the reserved wor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defaul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default case is present, control will transfer to it if no other case value match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ough the default case can be positioned anywhere in the switch, it is usually placed at the en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re is no default case, and no other value matches, control falls through to the statement after the swit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rogram Statem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will now examine some other program stat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pter 3 focuses 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flow of control through a metho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ecision-making stateme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perators for making complex decis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petition stateme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ftware development stag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re drawing techniqu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4BE-4ACD-461E-8890-3AAB7B46CD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switch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expression of a switch statement must result in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tegral data typ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like an integer or character; it cannot be a floating point val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 that the implicit boolean condition in a switch statement is equality - it tries to match the expression with a val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You cannot perform relational checks with a switch stat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GradeReport.java (page 121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ogical Operat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olean expressions can also use the followin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gical operator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!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ogical NO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&amp;&amp;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ogical AN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||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ogical O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y all take boolean operands and produce boolean resul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ical NOT is a unary operator (it has one operand), but logical AND and logical OR are binary operators (they each have two operand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8A7-CFB8-458D-911D-7F12766481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ogical NO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gical NO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peration is also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gical neg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gical compl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some boolean conditio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rue, the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!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false;  if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false, the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!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r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ical expressions can be shown usin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ruth tab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276720" y="4419720"/>
            <a:ext cx="2590560" cy="1752480"/>
            <a:chOff x="3276720" y="4419720"/>
            <a:chExt cx="2590560" cy="1752480"/>
          </a:xfrm>
        </p:grpSpPr>
        <p:grpSp>
          <p:nvGrpSpPr>
            <p:cNvPr id="215" name=""/>
            <p:cNvGrpSpPr/>
            <p:nvPr/>
          </p:nvGrpSpPr>
          <p:grpSpPr>
            <a:xfrm>
              <a:off x="3581640" y="4493520"/>
              <a:ext cx="1923120" cy="1557000"/>
              <a:chOff x="3581640" y="4493520"/>
              <a:chExt cx="1923120" cy="1557000"/>
            </a:xfrm>
          </p:grpSpPr>
          <p:sp>
            <p:nvSpPr>
              <p:cNvPr id="216" name=""/>
              <p:cNvSpPr/>
              <p:nvPr/>
            </p:nvSpPr>
            <p:spPr>
              <a:xfrm>
                <a:off x="3581640" y="4493520"/>
                <a:ext cx="7750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tr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fal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729680" y="4493520"/>
                <a:ext cx="7750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Courier New"/>
                  </a:rPr>
                  <a:t>!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fal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tr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276720" y="4419720"/>
              <a:ext cx="2590560" cy="1752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76720" y="5029200"/>
              <a:ext cx="2590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2000" y="4419720"/>
              <a:ext cx="0" cy="1752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2F9-7504-4195-B1C8-1153930E68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ogical AND and Logical OR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gical an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expres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 &amp;&amp; b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true if both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re true, and false otherwi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gical 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expres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 || b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true if a or b or both are true, and false otherwi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927-4721-4389-9E49-8CF530B471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ruth Tabl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truth table shows the possible true/false combinations of the ter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nc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||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each have two operands, there are four possible combinations of true and fal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752480" y="3276720"/>
            <a:ext cx="5867280" cy="2590560"/>
            <a:chOff x="1752480" y="3276720"/>
            <a:chExt cx="5867280" cy="2590560"/>
          </a:xfrm>
        </p:grpSpPr>
        <p:grpSp>
          <p:nvGrpSpPr>
            <p:cNvPr id="226" name=""/>
            <p:cNvGrpSpPr/>
            <p:nvPr/>
          </p:nvGrpSpPr>
          <p:grpSpPr>
            <a:xfrm>
              <a:off x="1981440" y="3426120"/>
              <a:ext cx="5340240" cy="2288520"/>
              <a:chOff x="1981440" y="3426120"/>
              <a:chExt cx="5340240" cy="2288520"/>
            </a:xfrm>
          </p:grpSpPr>
          <p:sp>
            <p:nvSpPr>
              <p:cNvPr id="227" name=""/>
              <p:cNvSpPr/>
              <p:nvPr/>
            </p:nvSpPr>
            <p:spPr>
              <a:xfrm>
                <a:off x="1981440" y="3426120"/>
                <a:ext cx="7750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tr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tr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fal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fal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11480" y="3426120"/>
                <a:ext cx="7750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Courier New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tr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fal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tr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fal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291200" y="3426120"/>
                <a:ext cx="12780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Courier New"/>
                  </a:rPr>
                  <a:t>a &amp;&amp; 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tr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fal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fal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fal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043680" y="3426120"/>
                <a:ext cx="12780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Courier New"/>
                  </a:rPr>
                  <a:t>a || 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tr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tr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tr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Times New Roman"/>
                  </a:rPr>
                  <a:t>fal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1752480" y="3276720"/>
              <a:ext cx="5867280" cy="2590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52480" y="3962520"/>
              <a:ext cx="586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3276720"/>
              <a:ext cx="0" cy="25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14440" y="3276720"/>
              <a:ext cx="0" cy="2590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0960" y="3276720"/>
              <a:ext cx="0" cy="25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ogical Operat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ditions in selection statements and loops can use logical operators to form complex express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7960" y="2513520"/>
            <a:ext cx="597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 (total &lt; MAX &amp;&amp; !foun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ystem.out.println ("Processing…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37339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ical operators have precedence relationships between themselves and other op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30C-B9F2-4456-AB12-A4AC225EA0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ruth Tabl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ecific expressions can be evaluated using truth tab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295280" y="2209680"/>
            <a:ext cx="6726240" cy="2619360"/>
            <a:chOff x="1295280" y="2209680"/>
            <a:chExt cx="6726240" cy="2619360"/>
          </a:xfrm>
        </p:grpSpPr>
        <p:sp>
          <p:nvSpPr>
            <p:cNvPr id="243" name=""/>
            <p:cNvSpPr/>
            <p:nvPr/>
          </p:nvSpPr>
          <p:spPr>
            <a:xfrm>
              <a:off x="1360440" y="2338200"/>
              <a:ext cx="1884600" cy="24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Courier New"/>
                </a:rPr>
                <a:t>total &lt; MA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r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r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65560" y="2338200"/>
              <a:ext cx="1190520" cy="24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Courier New"/>
                </a:rPr>
                <a:t>foun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r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r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98920" y="2338200"/>
              <a:ext cx="1320840" cy="24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Courier New"/>
                </a:rPr>
                <a:t>!foun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r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r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01760" y="2300040"/>
              <a:ext cx="6719760" cy="2413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95280" y="3071520"/>
              <a:ext cx="6712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65560" y="2315880"/>
              <a:ext cx="0" cy="238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21240" y="2293560"/>
              <a:ext cx="0" cy="2425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42080" y="2209680"/>
              <a:ext cx="2077920" cy="24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Courier New"/>
                </a:rPr>
                <a:t>total &lt; MA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Courier New"/>
                </a:rPr>
                <a:t> </a:t>
              </a:r>
              <a:r>
                <a:rPr b="1" lang="en-US" sz="2000" spc="-1" strike="noStrike">
                  <a:solidFill>
                    <a:srgbClr val="ffff99"/>
                  </a:solidFill>
                  <a:latin typeface="Courier New"/>
                </a:rPr>
                <a:t>&amp;&amp; !foun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r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fal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43520" y="2336400"/>
              <a:ext cx="0" cy="238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A837-E1BE-4E27-9968-FF568B10CA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ore Operat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round out our knowledge of Java operators, let's examine a few mo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particular, we will examine th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crement and decrement operato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ssignment operato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nditional operato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67D-A381-43B4-B11F-5575A807AE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crement and Decrement Operat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increment and decrement operators are arithmetic and operate on one operan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crement opera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++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adds one to its operan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ecrement opera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subtracts one from its operan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tat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unt++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essentially equivalent t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unt = count + 1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2CA-8776-4D92-83FF-0C98B301ED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crement and Decrement Operat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increment and decrement operators can be applied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refix for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efore the variable) 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stfix for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after the variabl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used alone in a statement, the prefix and postfix forms are basically equivalent.  That is,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unt++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equivalent t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++count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571-AC2A-4C24-ABA0-7B098FDADE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low of Contro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less indicated otherwise, the order of statement execution through a method is linear: one after the other in the order they are writt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me programming statements modify that order, allowing us to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ecide whether or not to execute a particular statement, o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erform a statement over and over repetitivel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order of statement execution is 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low of contro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crement and Decrement Operat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used in a larger expression, the prefix and postfix forms have a different eff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both cases the variable is incremented (decremented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ut the value used in the larger expression depends on the for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85800" y="3733920"/>
            <a:ext cx="7561440" cy="1904760"/>
            <a:chOff x="685800" y="3733920"/>
            <a:chExt cx="7561440" cy="1904760"/>
          </a:xfrm>
        </p:grpSpPr>
        <p:sp>
          <p:nvSpPr>
            <p:cNvPr id="261" name=""/>
            <p:cNvSpPr/>
            <p:nvPr/>
          </p:nvSpPr>
          <p:spPr>
            <a:xfrm>
              <a:off x="685800" y="3733920"/>
              <a:ext cx="262116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Expres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count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++cou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count-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--cou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82960" y="3733920"/>
              <a:ext cx="262116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Ope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dd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dd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ubtract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ubtrac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26080" y="3733920"/>
              <a:ext cx="262116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Value of Expres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ld val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ew val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ld val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ew val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384C-AA48-4FAF-B75D-6F4674D1B4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crement and Decrement Operat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u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urrently contains 45, th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otal = count++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signs 45 to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ot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46 to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u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u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urrently contains 45, th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otal = ++count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signs the value 46 to both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ot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u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14E-C908-47D4-AEEA-AAC22A39C6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ssignment Operat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ten we perform an operation on a variable, then store the result back into that vari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provide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ssignment operator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simplify that proce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the stat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um += count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equivalent t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um = num + count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C15-CECE-4DB2-BD79-96CFC9C7E16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ssignment Operat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are many assignment operators, including the following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19320" y="2286000"/>
            <a:ext cx="6235560" cy="3011400"/>
            <a:chOff x="1219320" y="2286000"/>
            <a:chExt cx="6235560" cy="3011400"/>
          </a:xfrm>
        </p:grpSpPr>
        <p:sp>
          <p:nvSpPr>
            <p:cNvPr id="271" name=""/>
            <p:cNvSpPr/>
            <p:nvPr/>
          </p:nvSpPr>
          <p:spPr>
            <a:xfrm>
              <a:off x="1219320" y="2286000"/>
              <a:ext cx="1689120" cy="30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Oper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+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-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*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/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%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5880" y="2286000"/>
              <a:ext cx="1689120" cy="30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Examp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x += 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x -= 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x *= 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x /= 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x %= 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03800" y="2286000"/>
              <a:ext cx="2251080" cy="30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Equivalent 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x = x + 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x = x - 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x = x * 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x = x / 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x = x % 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F6A-3996-47CC-BB48-C2BD544AAD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ssignment Operat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ight hand side of an assignment operator can be a complete expres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entire right-hand expression is evaluated first, then the result is combined with the original vari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sult /= (total-MIN) % num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equivalent t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sult = result / ((total-MIN) % num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3D6E-7DF2-415D-ADEB-3026DA4DBB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Conditional Operator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has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nditional opera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at evaluates a boolean condition that determines which of two other expressions is evalua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esult of the chosen expression is the result of the entire conditional operato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s syntax i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condit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?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expression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: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expression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nd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rue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xpression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evaluated;  if it is false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xpression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evalua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DF0-870A-4CAE-90B7-B7AE8118EF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Conditional Operator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nditional operator is similar to an if-else statement, except that it is an expression that returns a val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arger = (num1 &gt; num2) ? num1 : num2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num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greater that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num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the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num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ssigned to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larg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;  otherwise,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num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ssigned to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larg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nditional operator i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ernar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meaning that it requires three operan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5E3-4C24-4906-8625-546ACB85596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Conditional Operator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other exampl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ystem.out.println ("Your change is " + count +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count == 1) ? "Dime" : "Dimes"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u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equals 1, the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"Dime"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prin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u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nything other than 1, the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"Dimes"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prin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068-B60A-4367-B650-E92E7A584D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petition Statem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petition statemen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llow us to execute a statement multiple times repetitive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y are often simply referred to a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op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ke conditional statements, they are controlled by boolean express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has three kinds of repetition statements: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hile loo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o loo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n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or loo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programmer must choose the right kind of loop for the situ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while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hile stat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has the following syntax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9560" y="2361240"/>
            <a:ext cx="30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hile (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condit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statem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1760" y="2513520"/>
            <a:ext cx="2133720" cy="703800"/>
            <a:chOff x="761760" y="2513520"/>
            <a:chExt cx="2133720" cy="703800"/>
          </a:xfrm>
        </p:grpSpPr>
        <p:sp>
          <p:nvSpPr>
            <p:cNvPr id="288" name=""/>
            <p:cNvSpPr/>
            <p:nvPr/>
          </p:nvSpPr>
          <p:spPr>
            <a:xfrm>
              <a:off x="761760" y="2513520"/>
              <a:ext cx="174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Courier New"/>
                </a:rPr>
                <a:t>while</a:t>
              </a: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 is 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reserved w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438280" y="2590560"/>
              <a:ext cx="457200" cy="152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035520" y="3047760"/>
            <a:ext cx="5505480" cy="1388880"/>
            <a:chOff x="3035520" y="3047760"/>
            <a:chExt cx="5505480" cy="1388880"/>
          </a:xfrm>
        </p:grpSpPr>
        <p:sp>
          <p:nvSpPr>
            <p:cNvPr id="291" name=""/>
            <p:cNvSpPr/>
            <p:nvPr/>
          </p:nvSpPr>
          <p:spPr>
            <a:xfrm>
              <a:off x="3035520" y="3732840"/>
              <a:ext cx="550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If the condition is true, the statement is executed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hen the condition is evaluated again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409720" y="3047760"/>
              <a:ext cx="304920" cy="6094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095920" y="4951800"/>
            <a:ext cx="484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statement is executed repetitively unt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condition becomes fal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0E5-A82A-4730-87EC-C12215A40C1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nditional Statem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nditional stat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ets us choose which statement will be executed nex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 they are sometime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election stat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ditional statements give us the power to make basic decis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's conditional statements are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f stat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f-else stat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n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witch stat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ogic of a while loop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352680" y="3124080"/>
            <a:ext cx="1600200" cy="1295280"/>
            <a:chOff x="3352680" y="3124080"/>
            <a:chExt cx="1600200" cy="1295280"/>
          </a:xfrm>
        </p:grpSpPr>
        <p:grpSp>
          <p:nvGrpSpPr>
            <p:cNvPr id="296" name=""/>
            <p:cNvGrpSpPr/>
            <p:nvPr/>
          </p:nvGrpSpPr>
          <p:grpSpPr>
            <a:xfrm>
              <a:off x="3352680" y="4037760"/>
              <a:ext cx="1600200" cy="381600"/>
              <a:chOff x="3352680" y="4037760"/>
              <a:chExt cx="1600200" cy="381600"/>
            </a:xfrm>
          </p:grpSpPr>
          <p:sp>
            <p:nvSpPr>
              <p:cNvPr id="297" name=""/>
              <p:cNvSpPr/>
              <p:nvPr/>
            </p:nvSpPr>
            <p:spPr>
              <a:xfrm>
                <a:off x="3352680" y="4038480"/>
                <a:ext cx="1600200" cy="3808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86320" y="4037760"/>
                <a:ext cx="113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statemen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299" name=""/>
            <p:cNvCxnSpPr>
              <a:stCxn id="300" idx="2"/>
              <a:endCxn id="297" idx="0"/>
            </p:cNvCxnSpPr>
            <p:nvPr/>
          </p:nvCxnSpPr>
          <p:spPr>
            <a:xfrm>
              <a:off x="4152600" y="3124080"/>
              <a:ext cx="1080" cy="9151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301" name=""/>
            <p:cNvSpPr/>
            <p:nvPr/>
          </p:nvSpPr>
          <p:spPr>
            <a:xfrm>
              <a:off x="4211640" y="335196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imes New Roman"/>
                </a:rPr>
                <a:t>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02" name=""/>
          <p:cNvCxnSpPr>
            <a:stCxn id="297" idx="1"/>
            <a:endCxn id="300" idx="1"/>
          </p:cNvCxnSpPr>
          <p:nvPr/>
        </p:nvCxnSpPr>
        <p:spPr>
          <a:xfrm rot="10800000">
            <a:off x="3199680" y="2666160"/>
            <a:ext cx="153000" cy="1563120"/>
          </a:xfrm>
          <a:prstGeom prst="bentConnector3">
            <a:avLst>
              <a:gd name="adj1" fmla="val 250000"/>
            </a:avLst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  <p:grpSp>
        <p:nvGrpSpPr>
          <p:cNvPr id="303" name=""/>
          <p:cNvGrpSpPr/>
          <p:nvPr/>
        </p:nvGrpSpPr>
        <p:grpSpPr>
          <a:xfrm>
            <a:off x="3200400" y="1523520"/>
            <a:ext cx="1905120" cy="1600560"/>
            <a:chOff x="3200400" y="1523520"/>
            <a:chExt cx="1905120" cy="1600560"/>
          </a:xfrm>
        </p:grpSpPr>
        <p:grpSp>
          <p:nvGrpSpPr>
            <p:cNvPr id="304" name=""/>
            <p:cNvGrpSpPr/>
            <p:nvPr/>
          </p:nvGrpSpPr>
          <p:grpSpPr>
            <a:xfrm>
              <a:off x="3200400" y="2209680"/>
              <a:ext cx="1905120" cy="914400"/>
              <a:chOff x="3200400" y="2209680"/>
              <a:chExt cx="1905120" cy="914400"/>
            </a:xfrm>
          </p:grpSpPr>
          <p:sp>
            <p:nvSpPr>
              <p:cNvPr id="300" name=""/>
              <p:cNvSpPr/>
              <p:nvPr/>
            </p:nvSpPr>
            <p:spPr>
              <a:xfrm>
                <a:off x="3200400" y="2209680"/>
                <a:ext cx="1905120" cy="914400"/>
              </a:xfrm>
              <a:prstGeom prst="diamond">
                <a:avLst/>
              </a:prstGeom>
              <a:solidFill>
                <a:srgbClr val="ffcc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592440" y="2329920"/>
                <a:ext cx="112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condi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evaluate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306" name=""/>
            <p:cNvCxnSpPr>
              <a:endCxn id="300" idx="0"/>
            </p:cNvCxnSpPr>
            <p:nvPr/>
          </p:nvCxnSpPr>
          <p:spPr>
            <a:xfrm>
              <a:off x="4152600" y="1523520"/>
              <a:ext cx="1080" cy="6865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</p:grpSp>
      <p:grpSp>
        <p:nvGrpSpPr>
          <p:cNvPr id="307" name=""/>
          <p:cNvGrpSpPr/>
          <p:nvPr/>
        </p:nvGrpSpPr>
        <p:grpSpPr>
          <a:xfrm>
            <a:off x="4092120" y="2666520"/>
            <a:ext cx="1926000" cy="2514960"/>
            <a:chOff x="4092120" y="2666520"/>
            <a:chExt cx="1926000" cy="2514960"/>
          </a:xfrm>
        </p:grpSpPr>
        <p:cxnSp>
          <p:nvCxnSpPr>
            <p:cNvPr id="308" name=""/>
            <p:cNvCxnSpPr>
              <a:stCxn id="300" idx="3"/>
            </p:cNvCxnSpPr>
            <p:nvPr/>
          </p:nvCxnSpPr>
          <p:spPr>
            <a:xfrm flipH="1">
              <a:off x="4092120" y="2666520"/>
              <a:ext cx="1013760" cy="2515320"/>
            </a:xfrm>
            <a:prstGeom prst="bentConnector4">
              <a:avLst>
                <a:gd name="adj1" fmla="val -22557"/>
                <a:gd name="adj2" fmla="val 83452"/>
              </a:avLst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309" name=""/>
            <p:cNvSpPr/>
            <p:nvPr/>
          </p:nvSpPr>
          <p:spPr>
            <a:xfrm>
              <a:off x="5392440" y="3351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imes New Roman"/>
                </a:rPr>
                <a:t>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while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 that if the condition of a while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tement is false initially, the statement is never execu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, the body of a while loop will execute zero or more tim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Counter.java (page 133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Average.java (page 134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WinPercentage.java (page 136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779-1C39-4D33-8D37-AC683A88051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finite Loop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body of a while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op must eventually make the condition fal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not, it is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finite loo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which will execute until the user interrupts the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Forever.java (page 138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is a common type of logical erro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You should always double check to ensure that your loops will terminate normal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3E1-1AB7-455A-80D2-FA853E0C1BF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ested Loop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milar to nested if statements, loops can be nested as wel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is, the body of a loop could contain another loo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time through the outer loop, the inner loop will go through its entire set of iter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PalindromeTester.java (page 137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do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o stat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has the following syntax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5520" y="2056320"/>
            <a:ext cx="307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statem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hile (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condit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61400" y="2132640"/>
            <a:ext cx="2134080" cy="1618560"/>
            <a:chOff x="761400" y="2132640"/>
            <a:chExt cx="2134080" cy="1618560"/>
          </a:xfrm>
        </p:grpSpPr>
        <p:sp>
          <p:nvSpPr>
            <p:cNvPr id="320" name=""/>
            <p:cNvSpPr/>
            <p:nvPr/>
          </p:nvSpPr>
          <p:spPr>
            <a:xfrm>
              <a:off x="761400" y="2132640"/>
              <a:ext cx="13651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Uses bo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he </a:t>
              </a:r>
              <a:r>
                <a:rPr b="1" lang="en-US" sz="2000" spc="-1" strike="noStrike">
                  <a:solidFill>
                    <a:srgbClr val="ffff99"/>
                  </a:solidFill>
                  <a:latin typeface="Courier New"/>
                </a:rPr>
                <a:t>do</a:t>
              </a: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 an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Courier New"/>
                </a:rPr>
                <a:t>wh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reserv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word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209680" y="2361960"/>
              <a:ext cx="68580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09680" y="2971800"/>
              <a:ext cx="685800" cy="3049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730440" y="4418640"/>
            <a:ext cx="78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statement is executed once initially, then the condition is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7360" y="5104440"/>
            <a:ext cx="78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statement is repetitively executed until the condition becomes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ogic of a do loop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516040" y="2552760"/>
            <a:ext cx="989280" cy="1333800"/>
            <a:chOff x="2516040" y="2552760"/>
            <a:chExt cx="989280" cy="1333800"/>
          </a:xfrm>
        </p:grpSpPr>
        <p:sp>
          <p:nvSpPr>
            <p:cNvPr id="327" name=""/>
            <p:cNvSpPr/>
            <p:nvPr/>
          </p:nvSpPr>
          <p:spPr>
            <a:xfrm>
              <a:off x="2516040" y="304740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imes New Roman"/>
                </a:rPr>
                <a:t>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8" name=""/>
            <p:cNvCxnSpPr>
              <a:stCxn id="329" idx="1"/>
              <a:endCxn id="330" idx="1"/>
            </p:cNvCxnSpPr>
            <p:nvPr/>
          </p:nvCxnSpPr>
          <p:spPr>
            <a:xfrm flipV="1" rot="10800000">
              <a:off x="3351960" y="2552400"/>
              <a:ext cx="153360" cy="1334160"/>
            </a:xfrm>
            <a:prstGeom prst="bentConnector3">
              <a:avLst>
                <a:gd name="adj1" fmla="val 249882"/>
              </a:avLst>
            </a:prstGeom>
            <a:ln w="31680">
              <a:solidFill>
                <a:srgbClr val="ff0000"/>
              </a:solidFill>
              <a:miter/>
              <a:headEnd len="sm" type="triangle" w="sm"/>
            </a:ln>
          </p:spPr>
        </p:cxnSp>
      </p:grpSp>
      <p:grpSp>
        <p:nvGrpSpPr>
          <p:cNvPr id="331" name=""/>
          <p:cNvGrpSpPr/>
          <p:nvPr/>
        </p:nvGrpSpPr>
        <p:grpSpPr>
          <a:xfrm>
            <a:off x="3352680" y="2728440"/>
            <a:ext cx="1905120" cy="1614960"/>
            <a:chOff x="3352680" y="2728440"/>
            <a:chExt cx="1905120" cy="1614960"/>
          </a:xfrm>
        </p:grpSpPr>
        <p:grpSp>
          <p:nvGrpSpPr>
            <p:cNvPr id="332" name=""/>
            <p:cNvGrpSpPr/>
            <p:nvPr/>
          </p:nvGrpSpPr>
          <p:grpSpPr>
            <a:xfrm>
              <a:off x="3352680" y="3429000"/>
              <a:ext cx="1905120" cy="914400"/>
              <a:chOff x="3352680" y="3429000"/>
              <a:chExt cx="1905120" cy="914400"/>
            </a:xfrm>
          </p:grpSpPr>
          <p:sp>
            <p:nvSpPr>
              <p:cNvPr id="330" name=""/>
              <p:cNvSpPr/>
              <p:nvPr/>
            </p:nvSpPr>
            <p:spPr>
              <a:xfrm>
                <a:off x="3352680" y="3429000"/>
                <a:ext cx="1905120" cy="914400"/>
              </a:xfrm>
              <a:prstGeom prst="diamond">
                <a:avLst/>
              </a:prstGeom>
              <a:solidFill>
                <a:srgbClr val="ffcc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44720" y="3549240"/>
                <a:ext cx="112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condi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evaluate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334" name=""/>
            <p:cNvCxnSpPr>
              <a:stCxn id="335" idx="2"/>
              <a:endCxn id="330" idx="0"/>
            </p:cNvCxnSpPr>
            <p:nvPr/>
          </p:nvCxnSpPr>
          <p:spPr>
            <a:xfrm>
              <a:off x="4304880" y="2728440"/>
              <a:ext cx="1080" cy="7009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</p:grpSp>
      <p:grpSp>
        <p:nvGrpSpPr>
          <p:cNvPr id="336" name=""/>
          <p:cNvGrpSpPr/>
          <p:nvPr/>
        </p:nvGrpSpPr>
        <p:grpSpPr>
          <a:xfrm>
            <a:off x="3505320" y="1752480"/>
            <a:ext cx="1600200" cy="990720"/>
            <a:chOff x="3505320" y="1752480"/>
            <a:chExt cx="1600200" cy="990720"/>
          </a:xfrm>
        </p:grpSpPr>
        <p:cxnSp>
          <p:nvCxnSpPr>
            <p:cNvPr id="337" name=""/>
            <p:cNvCxnSpPr>
              <a:endCxn id="335" idx="0"/>
            </p:cNvCxnSpPr>
            <p:nvPr/>
          </p:nvCxnSpPr>
          <p:spPr>
            <a:xfrm>
              <a:off x="4304880" y="1752480"/>
              <a:ext cx="1080" cy="61056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  <p:grpSp>
          <p:nvGrpSpPr>
            <p:cNvPr id="338" name=""/>
            <p:cNvGrpSpPr/>
            <p:nvPr/>
          </p:nvGrpSpPr>
          <p:grpSpPr>
            <a:xfrm>
              <a:off x="3505320" y="2361600"/>
              <a:ext cx="1600200" cy="381600"/>
              <a:chOff x="3505320" y="2361600"/>
              <a:chExt cx="1600200" cy="381600"/>
            </a:xfrm>
          </p:grpSpPr>
          <p:sp>
            <p:nvSpPr>
              <p:cNvPr id="329" name=""/>
              <p:cNvSpPr/>
              <p:nvPr/>
            </p:nvSpPr>
            <p:spPr>
              <a:xfrm>
                <a:off x="3505320" y="2362320"/>
                <a:ext cx="1600200" cy="3808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38960" y="2361600"/>
                <a:ext cx="113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statemen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" name=""/>
          <p:cNvGrpSpPr/>
          <p:nvPr/>
        </p:nvGrpSpPr>
        <p:grpSpPr>
          <a:xfrm>
            <a:off x="4304880" y="4343400"/>
            <a:ext cx="646560" cy="914760"/>
            <a:chOff x="4304880" y="4343400"/>
            <a:chExt cx="646560" cy="914760"/>
          </a:xfrm>
        </p:grpSpPr>
        <p:cxnSp>
          <p:nvCxnSpPr>
            <p:cNvPr id="340" name=""/>
            <p:cNvCxnSpPr>
              <a:stCxn id="330" idx="2"/>
            </p:cNvCxnSpPr>
            <p:nvPr/>
          </p:nvCxnSpPr>
          <p:spPr>
            <a:xfrm>
              <a:off x="4304880" y="4343400"/>
              <a:ext cx="1080" cy="9151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341" name=""/>
            <p:cNvSpPr/>
            <p:nvPr/>
          </p:nvSpPr>
          <p:spPr>
            <a:xfrm>
              <a:off x="4325760" y="4571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imes New Roman"/>
                </a:rPr>
                <a:t>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do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do loop is similar to a while loop, except that the condition is evaluated after the body of the loop is execu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 the body of a do loop will execute at least one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Counter2.java (page 143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ReverseNumber.java (page 144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mparing the while and do loop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294200" y="1370520"/>
            <a:ext cx="3047400" cy="4344480"/>
            <a:chOff x="1294200" y="1370520"/>
            <a:chExt cx="3047400" cy="4344480"/>
          </a:xfrm>
        </p:grpSpPr>
        <p:grpSp>
          <p:nvGrpSpPr>
            <p:cNvPr id="346" name=""/>
            <p:cNvGrpSpPr/>
            <p:nvPr/>
          </p:nvGrpSpPr>
          <p:grpSpPr>
            <a:xfrm>
              <a:off x="1294200" y="2057040"/>
              <a:ext cx="3047400" cy="3657960"/>
              <a:chOff x="1294200" y="2057040"/>
              <a:chExt cx="3047400" cy="365796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1676520" y="3657240"/>
                <a:ext cx="1600200" cy="1295280"/>
                <a:chOff x="1676520" y="3657240"/>
                <a:chExt cx="1600200" cy="1295280"/>
              </a:xfrm>
            </p:grpSpPr>
            <p:grpSp>
              <p:nvGrpSpPr>
                <p:cNvPr id="348" name=""/>
                <p:cNvGrpSpPr/>
                <p:nvPr/>
              </p:nvGrpSpPr>
              <p:grpSpPr>
                <a:xfrm>
                  <a:off x="1676520" y="4570920"/>
                  <a:ext cx="1600200" cy="381600"/>
                  <a:chOff x="1676520" y="4570920"/>
                  <a:chExt cx="1600200" cy="3816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1676520" y="4571640"/>
                    <a:ext cx="1600200" cy="380880"/>
                  </a:xfrm>
                  <a:prstGeom prst="rect">
                    <a:avLst/>
                  </a:prstGeom>
                  <a:solidFill>
                    <a:srgbClr val="ffcc99"/>
                  </a:solidFill>
                  <a:ln w="12600">
                    <a:solidFill>
                      <a:srgbClr val="00193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1910160" y="4570920"/>
                    <a:ext cx="1133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1932"/>
                        </a:solidFill>
                        <a:latin typeface="Times New Roman"/>
                      </a:rPr>
                      <a:t>statement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51" name=""/>
                <p:cNvCxnSpPr>
                  <a:stCxn id="352" idx="2"/>
                  <a:endCxn id="349" idx="0"/>
                </p:cNvCxnSpPr>
                <p:nvPr/>
              </p:nvCxnSpPr>
              <p:spPr>
                <a:xfrm>
                  <a:off x="2476440" y="3657240"/>
                  <a:ext cx="1080" cy="914760"/>
                </a:xfrm>
                <a:prstGeom prst="straightConnector1">
                  <a:avLst/>
                </a:prstGeom>
                <a:ln w="31680">
                  <a:solidFill>
                    <a:srgbClr val="ff0000"/>
                  </a:solidFill>
                  <a:miter/>
                  <a:tailEnd len="sm" type="triangle" w="sm"/>
                </a:ln>
              </p:spPr>
            </p:cxnSp>
            <p:sp>
              <p:nvSpPr>
                <p:cNvPr id="353" name=""/>
                <p:cNvSpPr/>
                <p:nvPr/>
              </p:nvSpPr>
              <p:spPr>
                <a:xfrm>
                  <a:off x="2535480" y="3885120"/>
                  <a:ext cx="587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99"/>
                      </a:solidFill>
                      <a:latin typeface="Times New Roman"/>
                    </a:rPr>
                    <a:t>tru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54" name=""/>
              <p:cNvCxnSpPr>
                <a:stCxn id="349" idx="1"/>
                <a:endCxn id="352" idx="1"/>
              </p:cNvCxnSpPr>
              <p:nvPr/>
            </p:nvCxnSpPr>
            <p:spPr>
              <a:xfrm rot="10800000">
                <a:off x="1523160" y="3199680"/>
                <a:ext cx="153360" cy="1562760"/>
              </a:xfrm>
              <a:prstGeom prst="bentConnector3">
                <a:avLst>
                  <a:gd name="adj1" fmla="val 249882"/>
                </a:avLst>
              </a:prstGeom>
              <a:ln w="31680">
                <a:solidFill>
                  <a:srgbClr val="ff0000"/>
                </a:solidFill>
                <a:miter/>
                <a:tailEnd len="sm" type="triangle" w="sm"/>
              </a:ln>
            </p:spPr>
          </p:cxnSp>
          <p:grpSp>
            <p:nvGrpSpPr>
              <p:cNvPr id="355" name=""/>
              <p:cNvGrpSpPr/>
              <p:nvPr/>
            </p:nvGrpSpPr>
            <p:grpSpPr>
              <a:xfrm>
                <a:off x="1523880" y="2057040"/>
                <a:ext cx="1905120" cy="1600560"/>
                <a:chOff x="1523880" y="2057040"/>
                <a:chExt cx="1905120" cy="1600560"/>
              </a:xfrm>
            </p:grpSpPr>
            <p:grpSp>
              <p:nvGrpSpPr>
                <p:cNvPr id="356" name=""/>
                <p:cNvGrpSpPr/>
                <p:nvPr/>
              </p:nvGrpSpPr>
              <p:grpSpPr>
                <a:xfrm>
                  <a:off x="1523880" y="2743200"/>
                  <a:ext cx="1905120" cy="914400"/>
                  <a:chOff x="1523880" y="2743200"/>
                  <a:chExt cx="1905120" cy="91440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1523880" y="2743200"/>
                    <a:ext cx="1905120" cy="914400"/>
                  </a:xfrm>
                  <a:prstGeom prst="diamond">
                    <a:avLst/>
                  </a:prstGeom>
                  <a:solidFill>
                    <a:srgbClr val="ffcc99"/>
                  </a:solidFill>
                  <a:ln w="12600">
                    <a:solidFill>
                      <a:srgbClr val="00193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1915920" y="2863440"/>
                    <a:ext cx="112104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1932"/>
                        </a:solidFill>
                        <a:latin typeface="Times New Roman"/>
                      </a:rPr>
                      <a:t>conditio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1932"/>
                        </a:solidFill>
                        <a:latin typeface="Times New Roman"/>
                      </a:rPr>
                      <a:t>evaluated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58" name=""/>
                <p:cNvCxnSpPr>
                  <a:endCxn id="352" idx="0"/>
                </p:cNvCxnSpPr>
                <p:nvPr/>
              </p:nvCxnSpPr>
              <p:spPr>
                <a:xfrm>
                  <a:off x="2476080" y="2057040"/>
                  <a:ext cx="1080" cy="686520"/>
                </a:xfrm>
                <a:prstGeom prst="straightConnector1">
                  <a:avLst/>
                </a:prstGeom>
                <a:ln w="31680">
                  <a:solidFill>
                    <a:srgbClr val="ff0000"/>
                  </a:solidFill>
                  <a:miter/>
                  <a:tailEnd len="sm" type="triangle" w="sm"/>
                </a:ln>
              </p:spPr>
            </p:cxnSp>
          </p:grpSp>
          <p:grpSp>
            <p:nvGrpSpPr>
              <p:cNvPr id="359" name=""/>
              <p:cNvGrpSpPr/>
              <p:nvPr/>
            </p:nvGrpSpPr>
            <p:grpSpPr>
              <a:xfrm>
                <a:off x="2415600" y="3200040"/>
                <a:ext cx="1926000" cy="2514960"/>
                <a:chOff x="2415600" y="3200040"/>
                <a:chExt cx="1926000" cy="2514960"/>
              </a:xfrm>
            </p:grpSpPr>
            <p:cxnSp>
              <p:nvCxnSpPr>
                <p:cNvPr id="360" name=""/>
                <p:cNvCxnSpPr>
                  <a:stCxn id="352" idx="3"/>
                </p:cNvCxnSpPr>
                <p:nvPr/>
              </p:nvCxnSpPr>
              <p:spPr>
                <a:xfrm flipH="1">
                  <a:off x="2415600" y="3200040"/>
                  <a:ext cx="1013400" cy="2515320"/>
                </a:xfrm>
                <a:prstGeom prst="bentConnector4">
                  <a:avLst>
                    <a:gd name="adj1" fmla="val -22565"/>
                    <a:gd name="adj2" fmla="val 83452"/>
                  </a:avLst>
                </a:prstGeom>
                <a:ln w="31680">
                  <a:solidFill>
                    <a:srgbClr val="ff0000"/>
                  </a:solidFill>
                  <a:miter/>
                  <a:tailEnd len="sm" type="triangle" w="sm"/>
                </a:ln>
              </p:spPr>
            </p:cxnSp>
            <p:sp>
              <p:nvSpPr>
                <p:cNvPr id="361" name=""/>
                <p:cNvSpPr/>
                <p:nvPr/>
              </p:nvSpPr>
              <p:spPr>
                <a:xfrm>
                  <a:off x="3715920" y="3885480"/>
                  <a:ext cx="625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99"/>
                      </a:solidFill>
                      <a:latin typeface="Times New Roman"/>
                    </a:rPr>
                    <a:t>fals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2" name=""/>
            <p:cNvSpPr/>
            <p:nvPr/>
          </p:nvSpPr>
          <p:spPr>
            <a:xfrm>
              <a:off x="1828440" y="1370520"/>
              <a:ext cx="129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99"/>
                  </a:solidFill>
                  <a:uFillTx/>
                  <a:latin typeface="Times New Roman"/>
                </a:rPr>
                <a:t>while lo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954320" y="1370520"/>
            <a:ext cx="2741760" cy="4192560"/>
            <a:chOff x="4954320" y="1370520"/>
            <a:chExt cx="2741760" cy="4192560"/>
          </a:xfrm>
        </p:grpSpPr>
        <p:grpSp>
          <p:nvGrpSpPr>
            <p:cNvPr id="364" name=""/>
            <p:cNvGrpSpPr/>
            <p:nvPr/>
          </p:nvGrpSpPr>
          <p:grpSpPr>
            <a:xfrm>
              <a:off x="4954320" y="2057400"/>
              <a:ext cx="2741760" cy="3505680"/>
              <a:chOff x="4954320" y="2057400"/>
              <a:chExt cx="2741760" cy="350568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4954320" y="2857680"/>
                <a:ext cx="989280" cy="1333800"/>
                <a:chOff x="4954320" y="2857680"/>
                <a:chExt cx="989280" cy="133380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4954320" y="3352320"/>
                  <a:ext cx="587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99"/>
                      </a:solidFill>
                      <a:latin typeface="Times New Roman"/>
                    </a:rPr>
                    <a:t>tru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67" name=""/>
                <p:cNvCxnSpPr>
                  <a:stCxn id="368" idx="1"/>
                  <a:endCxn id="369" idx="1"/>
                </p:cNvCxnSpPr>
                <p:nvPr/>
              </p:nvCxnSpPr>
              <p:spPr>
                <a:xfrm flipV="1" rot="10800000">
                  <a:off x="5790240" y="2857320"/>
                  <a:ext cx="153360" cy="1334160"/>
                </a:xfrm>
                <a:prstGeom prst="bentConnector3">
                  <a:avLst>
                    <a:gd name="adj1" fmla="val 249882"/>
                  </a:avLst>
                </a:prstGeom>
                <a:ln w="31680">
                  <a:solidFill>
                    <a:srgbClr val="ff0000"/>
                  </a:solidFill>
                  <a:miter/>
                  <a:headEnd len="sm" type="triangle" w="sm"/>
                </a:ln>
              </p:spPr>
            </p:cxnSp>
          </p:grpSp>
          <p:grpSp>
            <p:nvGrpSpPr>
              <p:cNvPr id="370" name=""/>
              <p:cNvGrpSpPr/>
              <p:nvPr/>
            </p:nvGrpSpPr>
            <p:grpSpPr>
              <a:xfrm>
                <a:off x="5791320" y="3033360"/>
                <a:ext cx="1904760" cy="1614960"/>
                <a:chOff x="5791320" y="3033360"/>
                <a:chExt cx="1904760" cy="161496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5791320" y="3733920"/>
                  <a:ext cx="1904760" cy="914400"/>
                  <a:chOff x="5791320" y="3733920"/>
                  <a:chExt cx="1904760" cy="9144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5791320" y="3733920"/>
                    <a:ext cx="1904760" cy="914400"/>
                  </a:xfrm>
                  <a:prstGeom prst="diamond">
                    <a:avLst/>
                  </a:prstGeom>
                  <a:solidFill>
                    <a:srgbClr val="ffcc99"/>
                  </a:solidFill>
                  <a:ln w="12600">
                    <a:solidFill>
                      <a:srgbClr val="00193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182640" y="3854160"/>
                    <a:ext cx="112104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1932"/>
                        </a:solidFill>
                        <a:latin typeface="Times New Roman"/>
                      </a:rPr>
                      <a:t>conditio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1932"/>
                        </a:solidFill>
                        <a:latin typeface="Times New Roman"/>
                      </a:rPr>
                      <a:t>evaluated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73" name=""/>
                <p:cNvCxnSpPr>
                  <a:stCxn id="374" idx="2"/>
                  <a:endCxn id="369" idx="0"/>
                </p:cNvCxnSpPr>
                <p:nvPr/>
              </p:nvCxnSpPr>
              <p:spPr>
                <a:xfrm>
                  <a:off x="6743160" y="3033360"/>
                  <a:ext cx="1080" cy="700920"/>
                </a:xfrm>
                <a:prstGeom prst="straightConnector1">
                  <a:avLst/>
                </a:prstGeom>
                <a:ln w="31680">
                  <a:solidFill>
                    <a:srgbClr val="ff0000"/>
                  </a:solidFill>
                  <a:miter/>
                  <a:tailEnd len="sm" type="triangle" w="sm"/>
                </a:ln>
              </p:spPr>
            </p:cxnSp>
          </p:grpSp>
          <p:grpSp>
            <p:nvGrpSpPr>
              <p:cNvPr id="375" name=""/>
              <p:cNvGrpSpPr/>
              <p:nvPr/>
            </p:nvGrpSpPr>
            <p:grpSpPr>
              <a:xfrm>
                <a:off x="5943600" y="2057400"/>
                <a:ext cx="1600200" cy="990720"/>
                <a:chOff x="5943600" y="2057400"/>
                <a:chExt cx="1600200" cy="990720"/>
              </a:xfrm>
            </p:grpSpPr>
            <p:cxnSp>
              <p:nvCxnSpPr>
                <p:cNvPr id="376" name=""/>
                <p:cNvCxnSpPr>
                  <a:endCxn id="374" idx="0"/>
                </p:cNvCxnSpPr>
                <p:nvPr/>
              </p:nvCxnSpPr>
              <p:spPr>
                <a:xfrm>
                  <a:off x="6743160" y="2057400"/>
                  <a:ext cx="1080" cy="610560"/>
                </a:xfrm>
                <a:prstGeom prst="straightConnector1">
                  <a:avLst/>
                </a:prstGeom>
                <a:ln w="31680">
                  <a:solidFill>
                    <a:srgbClr val="ff0000"/>
                  </a:solidFill>
                  <a:miter/>
                  <a:tailEnd len="sm" type="triangle" w="sm"/>
                </a:ln>
              </p:spPr>
            </p:cxnSp>
            <p:grpSp>
              <p:nvGrpSpPr>
                <p:cNvPr id="377" name=""/>
                <p:cNvGrpSpPr/>
                <p:nvPr/>
              </p:nvGrpSpPr>
              <p:grpSpPr>
                <a:xfrm>
                  <a:off x="5943600" y="2666520"/>
                  <a:ext cx="1600200" cy="381600"/>
                  <a:chOff x="5943600" y="2666520"/>
                  <a:chExt cx="1600200" cy="3816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5943600" y="2667240"/>
                    <a:ext cx="1600200" cy="380880"/>
                  </a:xfrm>
                  <a:prstGeom prst="rect">
                    <a:avLst/>
                  </a:prstGeom>
                  <a:solidFill>
                    <a:srgbClr val="ffcc99"/>
                  </a:solidFill>
                  <a:ln w="12600">
                    <a:solidFill>
                      <a:srgbClr val="00193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177240" y="2666520"/>
                    <a:ext cx="1133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1932"/>
                        </a:solidFill>
                        <a:latin typeface="Times New Roman"/>
                      </a:rPr>
                      <a:t>statement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8" name=""/>
              <p:cNvGrpSpPr/>
              <p:nvPr/>
            </p:nvGrpSpPr>
            <p:grpSpPr>
              <a:xfrm>
                <a:off x="6743520" y="4648320"/>
                <a:ext cx="646560" cy="914760"/>
                <a:chOff x="6743520" y="4648320"/>
                <a:chExt cx="646560" cy="914760"/>
              </a:xfrm>
            </p:grpSpPr>
            <p:cxnSp>
              <p:nvCxnSpPr>
                <p:cNvPr id="379" name=""/>
                <p:cNvCxnSpPr>
                  <a:stCxn id="369" idx="2"/>
                </p:cNvCxnSpPr>
                <p:nvPr/>
              </p:nvCxnSpPr>
              <p:spPr>
                <a:xfrm>
                  <a:off x="6743520" y="4648320"/>
                  <a:ext cx="1080" cy="915120"/>
                </a:xfrm>
                <a:prstGeom prst="straightConnector1">
                  <a:avLst/>
                </a:prstGeom>
                <a:ln w="31680">
                  <a:solidFill>
                    <a:srgbClr val="ff0000"/>
                  </a:solidFill>
                  <a:miter/>
                  <a:tailEnd len="sm" type="triangle" w="sm"/>
                </a:ln>
              </p:spPr>
            </p:cxnSp>
            <p:sp>
              <p:nvSpPr>
                <p:cNvPr id="380" name=""/>
                <p:cNvSpPr/>
                <p:nvPr/>
              </p:nvSpPr>
              <p:spPr>
                <a:xfrm>
                  <a:off x="6764400" y="4876200"/>
                  <a:ext cx="625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99"/>
                      </a:solidFill>
                      <a:latin typeface="Times New Roman"/>
                    </a:rPr>
                    <a:t>fals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1" name=""/>
            <p:cNvSpPr/>
            <p:nvPr/>
          </p:nvSpPr>
          <p:spPr>
            <a:xfrm>
              <a:off x="6257160" y="1370520"/>
              <a:ext cx="98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99"/>
                  </a:solidFill>
                  <a:uFillTx/>
                  <a:latin typeface="Times New Roman"/>
                </a:rPr>
                <a:t>do lo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for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or stat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has the following syntax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4440" y="3808800"/>
            <a:ext cx="719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 (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initializat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;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condit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;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increm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statem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914760" y="2437200"/>
            <a:ext cx="1185120" cy="1296720"/>
            <a:chOff x="914760" y="2437200"/>
            <a:chExt cx="1185120" cy="1296720"/>
          </a:xfrm>
        </p:grpSpPr>
        <p:sp>
          <p:nvSpPr>
            <p:cNvPr id="386" name=""/>
            <p:cNvSpPr/>
            <p:nvPr/>
          </p:nvSpPr>
          <p:spPr>
            <a:xfrm>
              <a:off x="914760" y="2437200"/>
              <a:ext cx="118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Reserv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w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47920" y="3200400"/>
              <a:ext cx="0" cy="5335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531160" y="2284920"/>
            <a:ext cx="2867400" cy="1449000"/>
            <a:chOff x="2531160" y="2284920"/>
            <a:chExt cx="2867400" cy="1449000"/>
          </a:xfrm>
        </p:grpSpPr>
        <p:sp>
          <p:nvSpPr>
            <p:cNvPr id="389" name=""/>
            <p:cNvSpPr/>
            <p:nvPr/>
          </p:nvSpPr>
          <p:spPr>
            <a:xfrm>
              <a:off x="2531160" y="2284920"/>
              <a:ext cx="2867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he </a:t>
              </a:r>
              <a:r>
                <a:rPr b="1" i="1" lang="en-US" sz="2000" spc="-1" strike="noStrike">
                  <a:solidFill>
                    <a:srgbClr val="ffff99"/>
                  </a:solidFill>
                  <a:latin typeface="Times New Roman"/>
                </a:rPr>
                <a:t>initialization</a:t>
              </a: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 por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is executed o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before the loop begi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352320" y="3352680"/>
              <a:ext cx="228600" cy="3812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790960" y="2284920"/>
            <a:ext cx="2765160" cy="1449000"/>
            <a:chOff x="5790960" y="2284920"/>
            <a:chExt cx="2765160" cy="1449000"/>
          </a:xfrm>
        </p:grpSpPr>
        <p:sp>
          <p:nvSpPr>
            <p:cNvPr id="392" name=""/>
            <p:cNvSpPr/>
            <p:nvPr/>
          </p:nvSpPr>
          <p:spPr>
            <a:xfrm>
              <a:off x="5842440" y="2284920"/>
              <a:ext cx="2713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he statement 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executed until th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99"/>
                  </a:solidFill>
                  <a:latin typeface="Times New Roman"/>
                </a:rPr>
                <a:t>condition</a:t>
              </a: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 becomes fal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790960" y="3276720"/>
              <a:ext cx="68580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225800" y="4266720"/>
            <a:ext cx="6820920" cy="1236600"/>
            <a:chOff x="1225800" y="4266720"/>
            <a:chExt cx="6820920" cy="1236600"/>
          </a:xfrm>
        </p:grpSpPr>
        <p:sp>
          <p:nvSpPr>
            <p:cNvPr id="395" name=""/>
            <p:cNvSpPr/>
            <p:nvPr/>
          </p:nvSpPr>
          <p:spPr>
            <a:xfrm>
              <a:off x="1225800" y="5104440"/>
              <a:ext cx="682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he </a:t>
              </a:r>
              <a:r>
                <a:rPr b="1" i="1" lang="en-US" sz="2000" spc="-1" strike="noStrike">
                  <a:solidFill>
                    <a:srgbClr val="ffff99"/>
                  </a:solidFill>
                  <a:latin typeface="Times New Roman"/>
                </a:rPr>
                <a:t>increment</a:t>
              </a: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 portion is executed at the end of each iter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715000" y="4266720"/>
              <a:ext cx="1219320" cy="8384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for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for loop is equivalent to the following while loop structur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3240" y="2589480"/>
            <a:ext cx="30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initializat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hile (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condit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statem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increm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if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f stat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has the following syntax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560" y="3351600"/>
            <a:ext cx="26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 (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condit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statem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040" y="2361240"/>
            <a:ext cx="2057760" cy="991440"/>
            <a:chOff x="914040" y="2361240"/>
            <a:chExt cx="2057760" cy="991440"/>
          </a:xfrm>
        </p:grpSpPr>
        <p:sp>
          <p:nvSpPr>
            <p:cNvPr id="120" name=""/>
            <p:cNvSpPr/>
            <p:nvPr/>
          </p:nvSpPr>
          <p:spPr>
            <a:xfrm>
              <a:off x="914040" y="2361240"/>
              <a:ext cx="174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Courier New"/>
                </a:rPr>
                <a:t>if</a:t>
              </a: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 is a Jav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reserved w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38280" y="3124080"/>
              <a:ext cx="53352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820680" y="2056320"/>
            <a:ext cx="4947840" cy="1220400"/>
            <a:chOff x="3820680" y="2056320"/>
            <a:chExt cx="4947840" cy="1220400"/>
          </a:xfrm>
        </p:grpSpPr>
        <p:sp>
          <p:nvSpPr>
            <p:cNvPr id="123" name=""/>
            <p:cNvSpPr/>
            <p:nvPr/>
          </p:nvSpPr>
          <p:spPr>
            <a:xfrm>
              <a:off x="3820680" y="2056320"/>
              <a:ext cx="494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The condition must be a </a:t>
              </a:r>
              <a:r>
                <a:rPr b="1" i="1" lang="en-US" sz="2000" spc="-1" strike="noStrike">
                  <a:solidFill>
                    <a:srgbClr val="ffff99"/>
                  </a:solidFill>
                  <a:latin typeface="Times New Roman"/>
                </a:rPr>
                <a:t>boolean expression</a:t>
              </a: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It must evaluate to either true or fals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571640" y="2819520"/>
              <a:ext cx="15228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739880" y="4191120"/>
            <a:ext cx="5505480" cy="1235880"/>
            <a:chOff x="1739880" y="4191120"/>
            <a:chExt cx="5505480" cy="1235880"/>
          </a:xfrm>
        </p:grpSpPr>
        <p:sp>
          <p:nvSpPr>
            <p:cNvPr id="126" name=""/>
            <p:cNvSpPr/>
            <p:nvPr/>
          </p:nvSpPr>
          <p:spPr>
            <a:xfrm>
              <a:off x="1739880" y="4723200"/>
              <a:ext cx="550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If the condition is true, the statement is executed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If it is false, the statement is skipped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343400" y="419112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5C4-6A3C-4F8E-95A0-143E086927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ogic of a for loop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352680" y="3580920"/>
            <a:ext cx="1600200" cy="1067040"/>
            <a:chOff x="3352680" y="3580920"/>
            <a:chExt cx="1600200" cy="1067040"/>
          </a:xfrm>
        </p:grpSpPr>
        <p:grpSp>
          <p:nvGrpSpPr>
            <p:cNvPr id="402" name=""/>
            <p:cNvGrpSpPr/>
            <p:nvPr/>
          </p:nvGrpSpPr>
          <p:grpSpPr>
            <a:xfrm>
              <a:off x="3352680" y="4266360"/>
              <a:ext cx="1600200" cy="381600"/>
              <a:chOff x="3352680" y="4266360"/>
              <a:chExt cx="1600200" cy="381600"/>
            </a:xfrm>
          </p:grpSpPr>
          <p:sp>
            <p:nvSpPr>
              <p:cNvPr id="403" name=""/>
              <p:cNvSpPr/>
              <p:nvPr/>
            </p:nvSpPr>
            <p:spPr>
              <a:xfrm>
                <a:off x="3352680" y="4267080"/>
                <a:ext cx="1600200" cy="3808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586320" y="4266360"/>
                <a:ext cx="113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statemen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405" name=""/>
            <p:cNvCxnSpPr>
              <a:stCxn id="406" idx="2"/>
              <a:endCxn id="403" idx="0"/>
            </p:cNvCxnSpPr>
            <p:nvPr/>
          </p:nvCxnSpPr>
          <p:spPr>
            <a:xfrm>
              <a:off x="4152600" y="3580920"/>
              <a:ext cx="1080" cy="6865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407" name=""/>
            <p:cNvSpPr/>
            <p:nvPr/>
          </p:nvSpPr>
          <p:spPr>
            <a:xfrm>
              <a:off x="4211640" y="373320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imes New Roman"/>
                </a:rPr>
                <a:t>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408" name=""/>
          <p:cNvCxnSpPr>
            <a:stCxn id="409" idx="1"/>
            <a:endCxn id="406" idx="1"/>
          </p:cNvCxnSpPr>
          <p:nvPr/>
        </p:nvCxnSpPr>
        <p:spPr>
          <a:xfrm rot="10800000">
            <a:off x="3199680" y="3123360"/>
            <a:ext cx="153000" cy="2020320"/>
          </a:xfrm>
          <a:prstGeom prst="bentConnector3">
            <a:avLst>
              <a:gd name="adj1" fmla="val 250000"/>
            </a:avLst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  <p:grpSp>
        <p:nvGrpSpPr>
          <p:cNvPr id="410" name=""/>
          <p:cNvGrpSpPr/>
          <p:nvPr/>
        </p:nvGrpSpPr>
        <p:grpSpPr>
          <a:xfrm>
            <a:off x="3200400" y="2271600"/>
            <a:ext cx="1905120" cy="1309680"/>
            <a:chOff x="3200400" y="2271600"/>
            <a:chExt cx="1905120" cy="1309680"/>
          </a:xfrm>
        </p:grpSpPr>
        <p:grpSp>
          <p:nvGrpSpPr>
            <p:cNvPr id="411" name=""/>
            <p:cNvGrpSpPr/>
            <p:nvPr/>
          </p:nvGrpSpPr>
          <p:grpSpPr>
            <a:xfrm>
              <a:off x="3200400" y="2666880"/>
              <a:ext cx="1905120" cy="914400"/>
              <a:chOff x="3200400" y="2666880"/>
              <a:chExt cx="1905120" cy="914400"/>
            </a:xfrm>
          </p:grpSpPr>
          <p:sp>
            <p:nvSpPr>
              <p:cNvPr id="406" name=""/>
              <p:cNvSpPr/>
              <p:nvPr/>
            </p:nvSpPr>
            <p:spPr>
              <a:xfrm>
                <a:off x="3200400" y="2666880"/>
                <a:ext cx="1905120" cy="914400"/>
              </a:xfrm>
              <a:prstGeom prst="diamond">
                <a:avLst/>
              </a:prstGeom>
              <a:solidFill>
                <a:srgbClr val="ffcc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592440" y="2787120"/>
                <a:ext cx="112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condi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evaluate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413" name=""/>
            <p:cNvCxnSpPr>
              <a:stCxn id="414" idx="2"/>
              <a:endCxn id="406" idx="0"/>
            </p:cNvCxnSpPr>
            <p:nvPr/>
          </p:nvCxnSpPr>
          <p:spPr>
            <a:xfrm>
              <a:off x="4152600" y="2271600"/>
              <a:ext cx="1080" cy="39600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</p:grpSp>
      <p:grpSp>
        <p:nvGrpSpPr>
          <p:cNvPr id="415" name=""/>
          <p:cNvGrpSpPr/>
          <p:nvPr/>
        </p:nvGrpSpPr>
        <p:grpSpPr>
          <a:xfrm>
            <a:off x="4114440" y="3124080"/>
            <a:ext cx="1903680" cy="2896200"/>
            <a:chOff x="4114440" y="3124080"/>
            <a:chExt cx="1903680" cy="2896200"/>
          </a:xfrm>
        </p:grpSpPr>
        <p:cxnSp>
          <p:nvCxnSpPr>
            <p:cNvPr id="416" name=""/>
            <p:cNvCxnSpPr>
              <a:stCxn id="406" idx="3"/>
            </p:cNvCxnSpPr>
            <p:nvPr/>
          </p:nvCxnSpPr>
          <p:spPr>
            <a:xfrm flipH="1">
              <a:off x="4114440" y="3124080"/>
              <a:ext cx="991440" cy="2896560"/>
            </a:xfrm>
            <a:prstGeom prst="bentConnector4">
              <a:avLst>
                <a:gd name="adj1" fmla="val -23065"/>
                <a:gd name="adj2" fmla="val 87433"/>
              </a:avLst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417" name=""/>
            <p:cNvSpPr/>
            <p:nvPr/>
          </p:nvSpPr>
          <p:spPr>
            <a:xfrm>
              <a:off x="5392440" y="3733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imes New Roman"/>
                </a:rPr>
                <a:t>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352680" y="4648320"/>
            <a:ext cx="1600200" cy="685440"/>
            <a:chOff x="3352680" y="4648320"/>
            <a:chExt cx="1600200" cy="685440"/>
          </a:xfrm>
        </p:grpSpPr>
        <p:grpSp>
          <p:nvGrpSpPr>
            <p:cNvPr id="419" name=""/>
            <p:cNvGrpSpPr/>
            <p:nvPr/>
          </p:nvGrpSpPr>
          <p:grpSpPr>
            <a:xfrm>
              <a:off x="3352680" y="4952160"/>
              <a:ext cx="1600200" cy="381600"/>
              <a:chOff x="3352680" y="4952160"/>
              <a:chExt cx="1600200" cy="381600"/>
            </a:xfrm>
          </p:grpSpPr>
          <p:sp>
            <p:nvSpPr>
              <p:cNvPr id="409" name=""/>
              <p:cNvSpPr/>
              <p:nvPr/>
            </p:nvSpPr>
            <p:spPr>
              <a:xfrm>
                <a:off x="3352680" y="4952880"/>
                <a:ext cx="1600200" cy="3808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66160" y="4952160"/>
                <a:ext cx="117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incremen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421" name=""/>
            <p:cNvCxnSpPr>
              <a:stCxn id="403" idx="2"/>
              <a:endCxn id="420" idx="0"/>
            </p:cNvCxnSpPr>
            <p:nvPr/>
          </p:nvCxnSpPr>
          <p:spPr>
            <a:xfrm>
              <a:off x="4152600" y="4648320"/>
              <a:ext cx="1080" cy="30528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</p:grpSp>
      <p:grpSp>
        <p:nvGrpSpPr>
          <p:cNvPr id="422" name=""/>
          <p:cNvGrpSpPr/>
          <p:nvPr/>
        </p:nvGrpSpPr>
        <p:grpSpPr>
          <a:xfrm>
            <a:off x="3352680" y="1371600"/>
            <a:ext cx="1600200" cy="914400"/>
            <a:chOff x="3352680" y="1371600"/>
            <a:chExt cx="1600200" cy="914400"/>
          </a:xfrm>
        </p:grpSpPr>
        <p:grpSp>
          <p:nvGrpSpPr>
            <p:cNvPr id="423" name=""/>
            <p:cNvGrpSpPr/>
            <p:nvPr/>
          </p:nvGrpSpPr>
          <p:grpSpPr>
            <a:xfrm>
              <a:off x="3352680" y="1904400"/>
              <a:ext cx="1600200" cy="381600"/>
              <a:chOff x="3352680" y="1904400"/>
              <a:chExt cx="1600200" cy="381600"/>
            </a:xfrm>
          </p:grpSpPr>
          <p:sp>
            <p:nvSpPr>
              <p:cNvPr id="424" name=""/>
              <p:cNvSpPr/>
              <p:nvPr/>
            </p:nvSpPr>
            <p:spPr>
              <a:xfrm>
                <a:off x="3352680" y="1905120"/>
                <a:ext cx="1600200" cy="3808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445200" y="1904400"/>
                <a:ext cx="1415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initializ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425" name=""/>
            <p:cNvCxnSpPr>
              <a:endCxn id="414" idx="0"/>
            </p:cNvCxnSpPr>
            <p:nvPr/>
          </p:nvCxnSpPr>
          <p:spPr>
            <a:xfrm>
              <a:off x="4152600" y="1371600"/>
              <a:ext cx="1080" cy="53424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for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ke a while loop, the condition of a for statement is tested prior to executing the loop bod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, the body of a for loop will execute zero or more tim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well suited for executing a specific number of times that can be determined in adva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Counter3.java (page 146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Multiples.java (page 147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Stars.java (page 15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for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expression in the header of a for loop is optiona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f the initialization is left out, no initialization is perform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f the condition is left out, it is always considered to be true, and therefore creates an infinite loop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f the increment is left out, no increment operation is perform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th semi-colons are always required in the for loop head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rogram Develop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reation of software involves four basic activiti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stablishing the requireme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reating a desig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mplementing the cod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esting the implementa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development process is much more involved than this, but these basic steps are a good starting poi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3C1-2944-4181-8A27-CDCA810C087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quirem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quiremen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pecify the tasks a program must accomplish (what to do, not how to do i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y often include a description of the user interfa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initial set of requirements are often provided, but usually must be critiqued, modified, and expand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often difficult to establish detailed, unambiguous, complete requir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reful attention to the requirements can save significant time and money in the overall pro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D4F-445A-43D3-853F-1A2C5AEBD6C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esig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lgorith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step-by-step process for solving a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gram follows one or more algorithms to accomplish its goa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esig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a program specifies the algorithms and data need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object-oriented development, the design establishes the classes, objects, and methods that are requir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details of a method may be expressed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seudoco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which is code-like, but does not necessarily follow any specific synta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5B9-7F1F-40E8-9693-A252332725D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mplementa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mplement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he process of translating a design into source cod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st novice programmers think that writing code is the heart of software development, but it actually should be the least creative ste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most all important decisions are made during requirements analysis and desig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mplementation should focus on coding details, including style guidelines and document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ExamGrades.java (page 155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241-6024-4564-ABE8-5945050B314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est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gram should be executed multiple times with various input in an attempt to find erro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ebugg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he process of discovering the cause of a problem and fixing i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grammers often erroneously think that there is "only one more bug" to fi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ests should focus on design details as well as overall requir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957-0603-4DE4-BAD5-5225184BF15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ore Drawing Techniqu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ditionals and loops can greatly enhance our ability to control graphic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Bullseye.java (page 157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Boxes.java (page 159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BarHeights.java (page 162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if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example of an if statemen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9360" y="1904040"/>
            <a:ext cx="642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 (sum &gt; MA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elta = sum - MAX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ystem.out.println ("The sum is " + s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06360" y="3199320"/>
            <a:ext cx="561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irst, the condition is evaluated. The value of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s either greater than the value of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MAX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 or it is no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60320" y="4113720"/>
            <a:ext cx="67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f the condition is true, the assignment statement is execu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f it is not, the assignment statement is skipp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3280" y="5028120"/>
            <a:ext cx="52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ither way, the call to println is executed nex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715000"/>
            <a:ext cx="830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Age.java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(page 1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ogic of an if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33640" y="1523520"/>
            <a:ext cx="1905120" cy="1600560"/>
            <a:chOff x="2933640" y="1523520"/>
            <a:chExt cx="1905120" cy="1600560"/>
          </a:xfrm>
        </p:grpSpPr>
        <p:grpSp>
          <p:nvGrpSpPr>
            <p:cNvPr id="137" name=""/>
            <p:cNvGrpSpPr/>
            <p:nvPr/>
          </p:nvGrpSpPr>
          <p:grpSpPr>
            <a:xfrm>
              <a:off x="2933640" y="2209680"/>
              <a:ext cx="1905120" cy="914400"/>
              <a:chOff x="2933640" y="2209680"/>
              <a:chExt cx="1905120" cy="914400"/>
            </a:xfrm>
          </p:grpSpPr>
          <p:sp>
            <p:nvSpPr>
              <p:cNvPr id="138" name=""/>
              <p:cNvSpPr/>
              <p:nvPr/>
            </p:nvSpPr>
            <p:spPr>
              <a:xfrm>
                <a:off x="2933640" y="2209680"/>
                <a:ext cx="1905120" cy="914400"/>
              </a:xfrm>
              <a:prstGeom prst="diamond">
                <a:avLst/>
              </a:prstGeom>
              <a:solidFill>
                <a:srgbClr val="ffcc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5680" y="2329920"/>
                <a:ext cx="112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condi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evaluate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40" name=""/>
            <p:cNvCxnSpPr>
              <a:endCxn id="138" idx="0"/>
            </p:cNvCxnSpPr>
            <p:nvPr/>
          </p:nvCxnSpPr>
          <p:spPr>
            <a:xfrm>
              <a:off x="3885840" y="1523520"/>
              <a:ext cx="1080" cy="6865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</p:grpSp>
      <p:grpSp>
        <p:nvGrpSpPr>
          <p:cNvPr id="141" name=""/>
          <p:cNvGrpSpPr/>
          <p:nvPr/>
        </p:nvGrpSpPr>
        <p:grpSpPr>
          <a:xfrm>
            <a:off x="3885840" y="2666880"/>
            <a:ext cx="2094120" cy="2819880"/>
            <a:chOff x="3885840" y="2666880"/>
            <a:chExt cx="2094120" cy="2819880"/>
          </a:xfrm>
        </p:grpSpPr>
        <p:cxnSp>
          <p:nvCxnSpPr>
            <p:cNvPr id="142" name=""/>
            <p:cNvCxnSpPr>
              <a:stCxn id="138" idx="3"/>
            </p:cNvCxnSpPr>
            <p:nvPr/>
          </p:nvCxnSpPr>
          <p:spPr>
            <a:xfrm flipH="1">
              <a:off x="3885840" y="2666880"/>
              <a:ext cx="953280" cy="2820240"/>
            </a:xfrm>
            <a:prstGeom prst="bentConnector4">
              <a:avLst>
                <a:gd name="adj1" fmla="val -48129"/>
                <a:gd name="adj2" fmla="val 79726"/>
              </a:avLst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143" name=""/>
            <p:cNvSpPr/>
            <p:nvPr/>
          </p:nvSpPr>
          <p:spPr>
            <a:xfrm>
              <a:off x="5354280" y="3351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imes New Roman"/>
                </a:rPr>
                <a:t>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44" name=""/>
          <p:cNvCxnSpPr>
            <a:stCxn id="145" idx="2"/>
          </p:cNvCxnSpPr>
          <p:nvPr/>
        </p:nvCxnSpPr>
        <p:spPr>
          <a:xfrm>
            <a:off x="3885840" y="4404960"/>
            <a:ext cx="1080" cy="1081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sm" type="triangle" w="sm"/>
          </a:ln>
        </p:spPr>
      </p:cxnSp>
      <p:grpSp>
        <p:nvGrpSpPr>
          <p:cNvPr id="146" name=""/>
          <p:cNvGrpSpPr/>
          <p:nvPr/>
        </p:nvGrpSpPr>
        <p:grpSpPr>
          <a:xfrm>
            <a:off x="3086280" y="3124080"/>
            <a:ext cx="1600200" cy="1295280"/>
            <a:chOff x="3086280" y="3124080"/>
            <a:chExt cx="1600200" cy="1295280"/>
          </a:xfrm>
        </p:grpSpPr>
        <p:grpSp>
          <p:nvGrpSpPr>
            <p:cNvPr id="147" name=""/>
            <p:cNvGrpSpPr/>
            <p:nvPr/>
          </p:nvGrpSpPr>
          <p:grpSpPr>
            <a:xfrm>
              <a:off x="3086280" y="4037760"/>
              <a:ext cx="1600200" cy="381600"/>
              <a:chOff x="3086280" y="4037760"/>
              <a:chExt cx="1600200" cy="381600"/>
            </a:xfrm>
          </p:grpSpPr>
          <p:sp>
            <p:nvSpPr>
              <p:cNvPr id="148" name=""/>
              <p:cNvSpPr/>
              <p:nvPr/>
            </p:nvSpPr>
            <p:spPr>
              <a:xfrm>
                <a:off x="3086280" y="4038480"/>
                <a:ext cx="1600200" cy="3808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19920" y="4037760"/>
                <a:ext cx="113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1932"/>
                    </a:solidFill>
                    <a:latin typeface="Times New Roman"/>
                  </a:rPr>
                  <a:t>statemen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49" name=""/>
            <p:cNvCxnSpPr>
              <a:stCxn id="138" idx="2"/>
              <a:endCxn id="148" idx="0"/>
            </p:cNvCxnSpPr>
            <p:nvPr/>
          </p:nvCxnSpPr>
          <p:spPr>
            <a:xfrm>
              <a:off x="3886200" y="3124080"/>
              <a:ext cx="1080" cy="9151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150" name=""/>
            <p:cNvSpPr/>
            <p:nvPr/>
          </p:nvSpPr>
          <p:spPr>
            <a:xfrm>
              <a:off x="3945240" y="335196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imes New Roman"/>
                </a:rPr>
                <a:t>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oolean Express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ondition often uses one of Java'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quality operator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lational operator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which all return boolean result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qual to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!=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ot equal to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ess tha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reater tha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&lt;=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ess than or equal to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&gt;=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reater than or equal to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 the difference between the equality operator (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==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and the assignment operator (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79D-C5C3-482D-B168-A81790516A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if-else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lse clau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an be added to an if statement to make it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f-else stat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3240" y="2361240"/>
            <a:ext cx="26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 (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condit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statement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tatement2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5486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Wages.java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(page 1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9625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condition is true, statement1 is executed;  if the condition is false, statement2 is execu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49150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e or the other will be executed, but not bo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D3ED-3AE1-4F63-A005-110414A596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John Lewis</dc:creator>
  <dc:description/>
  <dc:language>en-US</dc:language>
  <cp:lastModifiedBy>Sharon Lewis</cp:lastModifiedBy>
  <cp:lastPrinted>2000-01-21T17:44:28Z</cp:lastPrinted>
  <dcterms:modified xsi:type="dcterms:W3CDTF">2000-09-04T23:25:50Z</dcterms:modified>
  <cp:revision>30</cp:revision>
  <dc:subject/>
  <dc:title>Chapter 2:  Using Objects </dc:title>
</cp:coreProperties>
</file>