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9770-BAD4-4032-89E0-744692147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406F-B65E-4311-B963-943ABD9A2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90B6-A128-41F1-96FD-06F138C1B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1820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22656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60948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1820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22656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B21B-8354-4379-80BC-D4CEF677E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19E41-32C6-4D5A-B5EE-BDCB31519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C46C3-898C-41ED-B131-AD375F3C2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DD63A-0ED6-4A98-A6FB-6747352AA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C91D5-AD67-4383-B4AF-34102FA49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64985-EFD3-4B70-9D76-14B989E88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11280" y="198000"/>
            <a:ext cx="75880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A7B3C-79F5-43D0-9A2F-246BB66E4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ACE95-8913-401C-95F2-F0976C22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C8E7-EA8D-44C9-B2EC-CC9469C99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C17C0-9E6B-4EBF-87A8-CC2141F2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5C50E-AAD2-4005-96F5-92984D7C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91CAD-ECD9-4C86-AC51-E04C3F3D2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645C4-4421-4D00-8469-7E28DED62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41820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2656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0948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41820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22656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53931-F3DA-4592-970D-8568FDB67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B659-13EA-4AA4-B51F-5AC11C9D4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0743-4AB6-4D7B-8608-2DA519105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96B5-5138-431A-BC43-2D1525D34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611280" y="198000"/>
            <a:ext cx="75880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8532-4AB5-4487-A56F-3934B0ADD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CBEC-1046-48EF-B4E9-594276C6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460A-BCF6-4044-BEF5-C94880A4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7BFE-64E7-4FEE-800D-8D52C167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981080" y="457200"/>
            <a:ext cx="30492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8329680" y="733320"/>
            <a:ext cx="720720" cy="532080"/>
            <a:chOff x="8329680" y="733320"/>
            <a:chExt cx="720720" cy="532080"/>
          </a:xfrm>
        </p:grpSpPr>
        <p:sp>
          <p:nvSpPr>
            <p:cNvPr id="2" name=""/>
            <p:cNvSpPr/>
            <p:nvPr/>
          </p:nvSpPr>
          <p:spPr>
            <a:xfrm flipH="1" rot="10800000">
              <a:off x="8832960" y="733320"/>
              <a:ext cx="21744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rot="10800000">
              <a:off x="8582400" y="733320"/>
              <a:ext cx="21924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 rot="10800000">
              <a:off x="8329680" y="733320"/>
              <a:ext cx="21888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" name=""/>
          <p:cNvGrpSpPr/>
          <p:nvPr/>
        </p:nvGrpSpPr>
        <p:grpSpPr>
          <a:xfrm>
            <a:off x="77400" y="6040440"/>
            <a:ext cx="531720" cy="726840"/>
            <a:chOff x="77400" y="6040440"/>
            <a:chExt cx="531720" cy="726840"/>
          </a:xfrm>
        </p:grpSpPr>
        <p:sp>
          <p:nvSpPr>
            <p:cNvPr id="6" name=""/>
            <p:cNvSpPr/>
            <p:nvPr/>
          </p:nvSpPr>
          <p:spPr>
            <a:xfrm flipH="1" rot="5400000">
              <a:off x="234000" y="5883120"/>
              <a:ext cx="21744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233280" y="6142680"/>
              <a:ext cx="21888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233280" y="6391800"/>
              <a:ext cx="21924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body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68ABE-E4CE-4DA9-8374-D02383E097F5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227160" y="0"/>
            <a:ext cx="22860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304200" y="914400"/>
            <a:ext cx="8839080" cy="228600"/>
          </a:xfrm>
          <a:custGeom>
            <a:avLst/>
            <a:gdLst>
              <a:gd name="textAreaLeft" fmla="*/ -360 w 8839080"/>
              <a:gd name="textAreaRight" fmla="*/ 8839080 w 88390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1" y="0"/>
                </a:lnTo>
                <a:lnTo>
                  <a:pt x="21600" y="10800"/>
                </a:lnTo>
                <a:lnTo>
                  <a:pt x="2122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1981080" y="2179800"/>
            <a:ext cx="19080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" name=""/>
          <p:cNvGrpSpPr/>
          <p:nvPr/>
        </p:nvGrpSpPr>
        <p:grpSpPr>
          <a:xfrm>
            <a:off x="77760" y="5903640"/>
            <a:ext cx="533520" cy="749160"/>
            <a:chOff x="77760" y="5903640"/>
            <a:chExt cx="533520" cy="749160"/>
          </a:xfrm>
        </p:grpSpPr>
        <p:sp>
          <p:nvSpPr>
            <p:cNvPr id="17" name=""/>
            <p:cNvSpPr/>
            <p:nvPr/>
          </p:nvSpPr>
          <p:spPr>
            <a:xfrm rot="16200000">
              <a:off x="226080" y="5756400"/>
              <a:ext cx="23796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6200000">
              <a:off x="223560" y="6010200"/>
              <a:ext cx="23976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6200000">
              <a:off x="225360" y="6266880"/>
              <a:ext cx="237960" cy="5335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8190000" y="731880"/>
            <a:ext cx="739800" cy="533520"/>
            <a:chOff x="8190000" y="731880"/>
            <a:chExt cx="739800" cy="533520"/>
          </a:xfrm>
        </p:grpSpPr>
        <p:sp>
          <p:nvSpPr>
            <p:cNvPr id="22" name=""/>
            <p:cNvSpPr/>
            <p:nvPr/>
          </p:nvSpPr>
          <p:spPr>
            <a:xfrm>
              <a:off x="8691480" y="733320"/>
              <a:ext cx="23832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442360" y="733320"/>
              <a:ext cx="23976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90000" y="731880"/>
              <a:ext cx="237960" cy="5335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1401A-6B73-4C79-86DA-C7D1CAF9306F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19720" y="9907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4457520" y="-2934000"/>
            <a:ext cx="228600" cy="9144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2" marL="914400" algn="ctr">
              <a:spcBef>
                <a:spcPts val="451"/>
              </a:spcBef>
              <a:buClr>
                <a:srgbClr val="a50021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a50021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a50021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../examples/chap05/CountInstances.java" TargetMode="External"/><Relationship Id="rId2" Type="http://schemas.openxmlformats.org/officeDocument/2006/relationships/hyperlink" Target="file:///../examples/chap05/CountInstances.java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../examples/chap05/ParameterPassing.java" TargetMode="External"/><Relationship Id="rId2" Type="http://schemas.openxmlformats.org/officeDocument/2006/relationships/hyperlink" Target="file:///../examples/chap05/ParameterPassing.java" TargetMode="External"/><Relationship Id="rId3" Type="http://schemas.openxmlformats.org/officeDocument/2006/relationships/hyperlink" Target="file:///../examples/chap05/ParameterTester.java" TargetMode="External"/><Relationship Id="rId4" Type="http://schemas.openxmlformats.org/officeDocument/2006/relationships/hyperlink" Target="file:///../examples/chap05/ParameterTester.java" TargetMode="External"/><Relationship Id="rId5" Type="http://schemas.openxmlformats.org/officeDocument/2006/relationships/hyperlink" Target="file:///../examples/chap05/Num.java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Chapter 5:  Enhancing Classes 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37720" y="1980720"/>
            <a:ext cx="7543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Presentation slides for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Java Software Solutions</a:t>
            </a: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Foundations of Program Design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Second Edition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by John Lewis and William Loftu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Java Software Solutions is published by Addison-Wesley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Times New Roman"/>
              </a:rPr>
              <a:t>Presentation slides are copyright 2000 by John Lewis and William Loftus. All rights reserved.</a:t>
            </a:r>
            <a:endParaRPr b="1" lang="en-US" sz="10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Times New Roman"/>
              </a:rPr>
              <a:t>Instructors using the textbook may use and modify these slides for pedagogical purposes.</a:t>
            </a:r>
            <a:endParaRPr b="1" lang="en-US" sz="10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The static Modifier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 Chapter 2 we discussed static methods (also called class methods) that can be invoked through the class name rather than through a particular objec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5519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r example, the methods of 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Math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lass are static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5519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o make a method static, we apply 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static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modifier to the method definiti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5519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static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modifier can be applied to variables as wel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5519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t associates a variable or method with the class rather than an objec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EB40-4D60-4898-88BE-34D120DB4EE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Static Method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295280" y="1446840"/>
            <a:ext cx="6019560" cy="3125160"/>
            <a:chOff x="1295280" y="1446840"/>
            <a:chExt cx="6019560" cy="3125160"/>
          </a:xfrm>
        </p:grpSpPr>
        <p:sp>
          <p:nvSpPr>
            <p:cNvPr id="187" name=""/>
            <p:cNvSpPr/>
            <p:nvPr/>
          </p:nvSpPr>
          <p:spPr>
            <a:xfrm>
              <a:off x="1295280" y="1905120"/>
              <a:ext cx="6019560" cy="2666880"/>
            </a:xfrm>
            <a:prstGeom prst="flowChartAlternateProcess">
              <a:avLst/>
            </a:prstGeom>
            <a:solidFill>
              <a:srgbClr val="99ffcc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601640" y="2361240"/>
              <a:ext cx="536220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1932"/>
                  </a:solidFill>
                  <a:latin typeface="Courier New"/>
                </a:rPr>
                <a:t>public static int triple (int num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1932"/>
                  </a:solidFill>
                  <a:latin typeface="Courier New"/>
                </a:rPr>
                <a:t>{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1932"/>
                  </a:solidFill>
                  <a:latin typeface="Courier New"/>
                </a:rPr>
                <a:t>   </a:t>
              </a:r>
              <a:r>
                <a:rPr b="1" lang="en-US" sz="2000" spc="-1" strike="noStrike">
                  <a:solidFill>
                    <a:srgbClr val="001932"/>
                  </a:solidFill>
                  <a:latin typeface="Courier New"/>
                </a:rPr>
                <a:t>int result;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1932"/>
                  </a:solidFill>
                  <a:latin typeface="Courier New"/>
                </a:rPr>
                <a:t>   </a:t>
              </a:r>
              <a:r>
                <a:rPr b="1" lang="en-US" sz="2000" spc="-1" strike="noStrike">
                  <a:solidFill>
                    <a:srgbClr val="001932"/>
                  </a:solidFill>
                  <a:latin typeface="Courier New"/>
                </a:rPr>
                <a:t>result = num * 3;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1932"/>
                  </a:solidFill>
                  <a:latin typeface="Courier New"/>
                </a:rPr>
                <a:t>   </a:t>
              </a:r>
              <a:r>
                <a:rPr b="1" lang="en-US" sz="2000" spc="-1" strike="noStrike">
                  <a:solidFill>
                    <a:srgbClr val="001932"/>
                  </a:solidFill>
                  <a:latin typeface="Courier New"/>
                </a:rPr>
                <a:t>return result;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1932"/>
                  </a:solidFill>
                  <a:latin typeface="Courier New"/>
                </a:rPr>
                <a:t>}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25320" y="1446840"/>
              <a:ext cx="200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Courier New"/>
                </a:rPr>
                <a:t>class Help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1462320" y="4952160"/>
            <a:ext cx="578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Because it is static, the method could be invoked 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179440" y="5485320"/>
            <a:ext cx="41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value = Helper.triple (5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CB94-5BF0-43CA-A930-56D7D45F6B4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Static Method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order of the modifiers can be interchanged, but by convention visibility modifiers come first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Recall that 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mai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method is static;  it is invoked by the system without creating an objec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atic methods cannot reference instance variables, because instance variables don't exist until an object exist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owever, they can reference static variables or local variabl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D0F9-FF5E-4D06-953D-0A2E09402CF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Static Variable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atic variables are sometimes called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class variable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ormally, each object has its own data spac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a variable is declared as static, only one copy of the variable exist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177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rivate static float price;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99"/>
              </a:solidFill>
              <a:latin typeface="Times New Roman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emory space for a static variable is created as soon as the class in which it is declared is loade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7A0A-E67C-4FFB-B516-E252EEF7779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Static Variable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ll objects created from the class share access to the static variabl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hanging the value of a static variable in one object changes it for all others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atic methods and variables often work togethe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1"/>
              </a:rPr>
              <a:t>CountInstances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2"/>
              </a:rPr>
              <a:t>.java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page 233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MyClass.java (page 234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Nested Classe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266480"/>
            <a:ext cx="830592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 addition to a class containing data and methods, it can also contain other class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class declared within another class is called a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ested clas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71800" y="3352680"/>
            <a:ext cx="3048120" cy="2514600"/>
            <a:chOff x="2971800" y="3352680"/>
            <a:chExt cx="3048120" cy="2514600"/>
          </a:xfrm>
        </p:grpSpPr>
        <p:sp>
          <p:nvSpPr>
            <p:cNvPr id="201" name=""/>
            <p:cNvSpPr/>
            <p:nvPr/>
          </p:nvSpPr>
          <p:spPr>
            <a:xfrm>
              <a:off x="2971800" y="3352680"/>
              <a:ext cx="3048120" cy="2514600"/>
            </a:xfrm>
            <a:prstGeom prst="flowChartAlternateProcess">
              <a:avLst/>
            </a:prstGeom>
            <a:solidFill>
              <a:srgbClr val="99ffcc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33920" y="4419360"/>
              <a:ext cx="1523880" cy="1143000"/>
            </a:xfrm>
            <a:prstGeom prst="flowChartAlternateProcess">
              <a:avLst/>
            </a:prstGeom>
            <a:solidFill>
              <a:srgbClr val="ccffff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35600" y="3565800"/>
              <a:ext cx="14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1932"/>
                  </a:solidFill>
                  <a:latin typeface="Times New Roman"/>
                </a:rPr>
                <a:t>Outer Clas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038840" y="4494600"/>
              <a:ext cx="916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1932"/>
                  </a:solidFill>
                  <a:latin typeface="Times New Roman"/>
                </a:rPr>
                <a:t>Neste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1932"/>
                  </a:solidFill>
                  <a:latin typeface="Times New Roman"/>
                </a:rPr>
                <a:t>Clas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Nested Classe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nested class has access to the variables and methods of the outer class, even if they are declared privat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 certain situations this makes the implementation of the classes easier because they can easily share informati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urthermore, the nested class can be protected by the outer class from external us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is is a special relationship and should be used with car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Nested Classe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nested class produces a separate bytecode fil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a nested class called Inside is declared in an outer class called Outside, two bytecode files will be produced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Outside.clas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Outside$Inside.clas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ested classes can be declared as static, in which case they cannot refer to instance variables or method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nonstatic nested class is called a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nner clas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Interface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Java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nterfac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a collection of abstract methods and constant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bstract method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a method header without a method bod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 abstract method can be declared using the modifier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abstrac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but because all methods in an interface are abstract, it is usually left off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 interface is used to formally define a set of methods that a class will implemen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Interface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12" name=""/>
          <p:cNvSpPr/>
          <p:nvPr/>
        </p:nvSpPr>
        <p:spPr>
          <a:xfrm>
            <a:off x="992520" y="2497320"/>
            <a:ext cx="7191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ublic interface Do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ublic void doThis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ublic int doThat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ublic void doThis2 (float value, char ch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ublic boolean doTheOther (int num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397160" y="1553400"/>
            <a:ext cx="3195360" cy="808920"/>
            <a:chOff x="1397160" y="1553400"/>
            <a:chExt cx="3195360" cy="808920"/>
          </a:xfrm>
        </p:grpSpPr>
        <p:sp>
          <p:nvSpPr>
            <p:cNvPr id="214" name=""/>
            <p:cNvSpPr/>
            <p:nvPr/>
          </p:nvSpPr>
          <p:spPr>
            <a:xfrm>
              <a:off x="1397160" y="1553400"/>
              <a:ext cx="3195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Times New Roman"/>
                </a:rPr>
                <a:t>interface is a reserved wor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743200" y="1981440"/>
              <a:ext cx="0" cy="3808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5480640" y="1888200"/>
            <a:ext cx="3022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None of the methods in 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interface are giv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 definition (body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4490640" y="4495680"/>
            <a:ext cx="3204360" cy="1388520"/>
            <a:chOff x="4490640" y="4495680"/>
            <a:chExt cx="3204360" cy="1388520"/>
          </a:xfrm>
        </p:grpSpPr>
        <p:sp>
          <p:nvSpPr>
            <p:cNvPr id="218" name=""/>
            <p:cNvSpPr/>
            <p:nvPr/>
          </p:nvSpPr>
          <p:spPr>
            <a:xfrm>
              <a:off x="4490640" y="5180400"/>
              <a:ext cx="3204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Times New Roman"/>
                </a:rPr>
                <a:t>A semicolon immediatel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Times New Roman"/>
                </a:rPr>
                <a:t>follows each method head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6324480" y="4495680"/>
              <a:ext cx="533520" cy="6098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Enhancing Classe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e can now explore various aspects of classes and objects in more detai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hapter 5 focuses on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object references and aliase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passing objects as parameter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he static modifier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nested classe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interfaces and polymorphism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events and listener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nimation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0F80-3C31-4F7B-8FCF-E9F9EE2752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Interface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 interface cannot be instantiate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ethods in an interface have public visibility by defaul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class formally implements an interface b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stating so in the class header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providing implementations for each abstract method in the interface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a class asserts that it implements an interface, it must define all methods in the interface or the compiler will produce errors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Interface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23" name=""/>
          <p:cNvSpPr/>
          <p:nvPr/>
        </p:nvSpPr>
        <p:spPr>
          <a:xfrm>
            <a:off x="1602000" y="1598400"/>
            <a:ext cx="56671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ublic class CanDo implements Do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ublic void doThis 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// whate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ublic void doThat 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// whate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// 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791320" y="2057040"/>
            <a:ext cx="2394360" cy="1008000"/>
            <a:chOff x="5791320" y="2057040"/>
            <a:chExt cx="2394360" cy="1008000"/>
          </a:xfrm>
        </p:grpSpPr>
        <p:sp>
          <p:nvSpPr>
            <p:cNvPr id="225" name=""/>
            <p:cNvSpPr/>
            <p:nvPr/>
          </p:nvSpPr>
          <p:spPr>
            <a:xfrm>
              <a:off x="6322320" y="2361240"/>
              <a:ext cx="1863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Times New Roman"/>
                </a:rPr>
                <a:t>implements is 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Times New Roman"/>
                </a:rPr>
                <a:t>reserved wor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 flipV="1">
              <a:off x="5791320" y="2057040"/>
              <a:ext cx="761760" cy="30492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5638680" y="3733920"/>
            <a:ext cx="2715840" cy="1295280"/>
            <a:chOff x="5638680" y="3733920"/>
            <a:chExt cx="2715840" cy="1295280"/>
          </a:xfrm>
        </p:grpSpPr>
        <p:sp>
          <p:nvSpPr>
            <p:cNvPr id="228" name=""/>
            <p:cNvSpPr/>
            <p:nvPr/>
          </p:nvSpPr>
          <p:spPr>
            <a:xfrm>
              <a:off x="6093360" y="3808800"/>
              <a:ext cx="22611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Times New Roman"/>
                </a:rPr>
                <a:t>Each method liste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Times New Roman"/>
                </a:rPr>
                <a:t>in Doable i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Times New Roman"/>
                </a:rPr>
                <a:t>given a defini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638680" y="3733920"/>
              <a:ext cx="457200" cy="129528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Interface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class that implements an interface can implement other methods as wel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Speaker.java (page 236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Philosopher.java (page 237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Dog.java (page 238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class can implement multiple interfac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interfaces are listed in the implements clause, separated by comma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class must implement all methods in all interfaces listed in the heade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Polymorphism via Interface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 interface name can be used as the type of an object reference variabl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Doable obj;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obj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reference can be used to point to any object of any class that implements 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Doabl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nterfac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version of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doThi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that the following line invokes depends on the type of object that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obj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referring to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obj.doThis();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Polymorphism via Interface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at reference is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olymorphic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which can be defined as "having many forms"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at line of code might execute different methods at different times if the object that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obj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points to chang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Talking.java (page 240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ote that polymorphic references must be resolved at run time; this is called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ynamic binding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areful use of polymorphic references can lead to elegant, robust software design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Interface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Java standard class library contains many interfaces that are helpful in certain situation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Comparabl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nterface contains an abstract method called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compareTo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which is used to compare two object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String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lass implements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Comparabl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which gives us the ability to put strings in alphabetical orde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Iterato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nterface contains methods that allow the user to move through a collection of objects easil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Event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even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an object that represents some activity to which we may want to respon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584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r example, we may want our program to perform some action when the following occur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he mouse is moved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 mouse button is clicked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he mouse is dragged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 graphical button is clicked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 keyboard key is pressed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 timer expire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3" marL="1584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ften events correspond to user actions, but not alway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Event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Java standard class library contains several classes that represent typical event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ertain objects, such as an applet or a graphical button, generate (fire) an event when it occur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ther objects, called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listener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respond to event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e can write listener objects to do whatever we want when an event occur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Events and Listener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1368720" y="1981080"/>
            <a:ext cx="2093400" cy="2439720"/>
            <a:chOff x="1368720" y="1981080"/>
            <a:chExt cx="2093400" cy="2439720"/>
          </a:xfrm>
        </p:grpSpPr>
        <p:sp>
          <p:nvSpPr>
            <p:cNvPr id="244" name=""/>
            <p:cNvSpPr/>
            <p:nvPr/>
          </p:nvSpPr>
          <p:spPr>
            <a:xfrm>
              <a:off x="1676520" y="1981080"/>
              <a:ext cx="1447560" cy="1600200"/>
            </a:xfrm>
            <a:prstGeom prst="flowChartProcess">
              <a:avLst/>
            </a:prstGeom>
            <a:solidFill>
              <a:srgbClr val="ffffff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1932"/>
                  </a:solidFill>
                  <a:latin typeface="Times New Roman"/>
                </a:rPr>
                <a:t>Generato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368720" y="3717000"/>
              <a:ext cx="2093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Times New Roman"/>
                </a:rPr>
                <a:t>This object ma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Times New Roman"/>
                </a:rPr>
                <a:t>generate an ev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4787280" y="1981080"/>
            <a:ext cx="2887200" cy="2439720"/>
            <a:chOff x="4787280" y="1981080"/>
            <a:chExt cx="2887200" cy="2439720"/>
          </a:xfrm>
        </p:grpSpPr>
        <p:sp>
          <p:nvSpPr>
            <p:cNvPr id="247" name=""/>
            <p:cNvSpPr/>
            <p:nvPr/>
          </p:nvSpPr>
          <p:spPr>
            <a:xfrm>
              <a:off x="5562720" y="1981080"/>
              <a:ext cx="1447560" cy="1600200"/>
            </a:xfrm>
            <a:prstGeom prst="flowChartProcess">
              <a:avLst/>
            </a:prstGeom>
            <a:solidFill>
              <a:srgbClr val="ffffff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1932"/>
                  </a:solidFill>
                  <a:latin typeface="Times New Roman"/>
                </a:rPr>
                <a:t>Listen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787280" y="3717000"/>
              <a:ext cx="2887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Times New Roman"/>
                </a:rPr>
                <a:t>This object waits for an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Times New Roman"/>
                </a:rPr>
                <a:t>responds to an ev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3200400" y="1676520"/>
            <a:ext cx="2209680" cy="838080"/>
            <a:chOff x="3200400" y="1676520"/>
            <a:chExt cx="2209680" cy="838080"/>
          </a:xfrm>
        </p:grpSpPr>
        <p:sp>
          <p:nvSpPr>
            <p:cNvPr id="250" name=""/>
            <p:cNvSpPr/>
            <p:nvPr/>
          </p:nvSpPr>
          <p:spPr>
            <a:xfrm>
              <a:off x="3200400" y="2514600"/>
              <a:ext cx="22096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809880" y="1676520"/>
              <a:ext cx="838440" cy="685800"/>
            </a:xfrm>
            <a:prstGeom prst="flowChartProcess">
              <a:avLst/>
            </a:prstGeom>
            <a:solidFill>
              <a:srgbClr val="ffffff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932"/>
                  </a:solidFill>
                  <a:latin typeface="Times New Roman"/>
                </a:rPr>
                <a:t>Ev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1991880" y="4875840"/>
            <a:ext cx="4719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When an event occurs, the generator cal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he appropriate method of the listener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passing an object that describes the ev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Listener Interface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e can create a listener object by writing a class that implements a particular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listener interfac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Java standard class library contains several interfaces that correspond to particular event categori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r example, 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MouseListene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nterface contains methods that correspond to mouse event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fter creating the listener, w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dd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the listener to the component that might generate the event to set up a formal relationship between the generator and listene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Reference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266480"/>
            <a:ext cx="8305920" cy="29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Recall from Chapter 2 that an object reference holds the memory address of an objec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Rather than dealing with arbitrary addresses, we often depict a reference graphically as a “pointer” to an objec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hessPiece bishop1 = new ChessPiece();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5120" y="4548240"/>
            <a:ext cx="2590920" cy="1014120"/>
            <a:chOff x="2895120" y="4548240"/>
            <a:chExt cx="2590920" cy="1014120"/>
          </a:xfrm>
        </p:grpSpPr>
        <p:sp>
          <p:nvSpPr>
            <p:cNvPr id="115" name=""/>
            <p:cNvSpPr/>
            <p:nvPr/>
          </p:nvSpPr>
          <p:spPr>
            <a:xfrm>
              <a:off x="3274920" y="4978440"/>
              <a:ext cx="442800" cy="378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95120" y="4548240"/>
              <a:ext cx="1251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bishop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4978080" y="4762800"/>
              <a:ext cx="507960" cy="799560"/>
              <a:chOff x="4978080" y="4762800"/>
              <a:chExt cx="507960" cy="799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167080" y="4762800"/>
                <a:ext cx="71280" cy="71280"/>
              </a:xfrm>
              <a:prstGeom prst="ellipse">
                <a:avLst/>
              </a:prstGeom>
              <a:solidFill>
                <a:srgbClr val="001932"/>
              </a:solidFill>
              <a:ln w="12600">
                <a:solidFill>
                  <a:srgbClr val="0019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978080" y="5453280"/>
                <a:ext cx="507960" cy="109080"/>
              </a:xfrm>
              <a:prstGeom prst="rect">
                <a:avLst/>
              </a:prstGeom>
              <a:solidFill>
                <a:srgbClr val="001932"/>
              </a:solidFill>
              <a:ln w="12600">
                <a:solidFill>
                  <a:srgbClr val="0019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67000" y="4795920"/>
                <a:ext cx="325440" cy="715680"/>
              </a:xfrm>
              <a:custGeom>
                <a:avLst/>
                <a:gdLst/>
                <a:ahLst/>
                <a:rect l="l" t="t" r="r" b="b"/>
                <a:pathLst>
                  <a:path w="205" h="451">
                    <a:moveTo>
                      <a:pt x="81" y="0"/>
                    </a:moveTo>
                    <a:lnTo>
                      <a:pt x="0" y="450"/>
                    </a:lnTo>
                    <a:lnTo>
                      <a:pt x="204" y="450"/>
                    </a:lnTo>
                    <a:lnTo>
                      <a:pt x="81" y="0"/>
                    </a:lnTo>
                  </a:path>
                </a:pathLst>
              </a:custGeom>
              <a:solidFill>
                <a:srgbClr val="001932"/>
              </a:solidFill>
              <a:ln cap="rnd" w="12600">
                <a:solidFill>
                  <a:srgbClr val="0019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73480" y="4802400"/>
                <a:ext cx="272880" cy="110520"/>
              </a:xfrm>
              <a:custGeom>
                <a:avLst/>
                <a:gdLst/>
                <a:ahLst/>
                <a:rect l="l" t="t" r="r" b="b"/>
                <a:pathLst>
                  <a:path w="172" h="70">
                    <a:moveTo>
                      <a:pt x="0" y="69"/>
                    </a:moveTo>
                    <a:lnTo>
                      <a:pt x="171" y="69"/>
                    </a:lnTo>
                    <a:lnTo>
                      <a:pt x="81" y="0"/>
                    </a:lnTo>
                    <a:lnTo>
                      <a:pt x="0" y="69"/>
                    </a:lnTo>
                  </a:path>
                </a:pathLst>
              </a:custGeom>
              <a:solidFill>
                <a:srgbClr val="001932"/>
              </a:solidFill>
              <a:ln cap="rnd" w="12600">
                <a:solidFill>
                  <a:srgbClr val="0019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flipV="1">
              <a:off x="3508200" y="5158080"/>
              <a:ext cx="1292040" cy="9360"/>
            </a:xfrm>
            <a:prstGeom prst="line">
              <a:avLst/>
            </a:prstGeom>
            <a:ln w="38160">
              <a:solidFill>
                <a:srgbClr val="00193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0141-41A8-43CE-8A54-B6C2C9D2709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Mouse Event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following ar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ous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event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mouse pressed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- the mouse button is pressed down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mouse released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- the mouse button is released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mouse clicked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- the mouse button is pressed and released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mouse entered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- the mouse pointer is moved over a particular component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mouse exited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- the mouse pointer is moved off of a particular component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y given program can listen for some, none, or all of thes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584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Dots.java (page 246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DotsMouseListener.java (page 248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Mouse Motion Event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following are called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ouse motion event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mouse moved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- the mouse is moved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mouse dragged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- the mouse is moved while the mouse button is held down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re is a corresponding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MouseMotionListene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nterfac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ne class can serve as both a generator and a listene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ne class can serve as a listener for multiple event typ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RubberLines.java (page 249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Key Event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following are called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ey event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key pressed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- a keyboard key is pressed down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key released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- a keyboard key is released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key typed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- a keyboard key is pressed and released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KeyListene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nterface handles key event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istener classes are often implemented as inner classes, nested within the component that they are listening to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Direction.java (page 253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Animation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 animation is a constantly changing series of pictures or images that create the illusion of movemen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e can create animations in Java by changing a picture slightly over tim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speed of a Java animation is usually controlled by a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Time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objec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Time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lass is defined in 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javax.swing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packag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Animation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Time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object generates an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ActionEven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every n milliseconds (where n is set by the object creator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ActionListene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nterface contains an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actionPerformed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metho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henever the timer expires (generating an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ActionEven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the animation can be update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Rebound.java (page 258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Assignment Revisited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208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act of assignment takes a copy of a value and stores it in a variabl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189252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r primitive type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99"/>
              </a:solidFill>
              <a:latin typeface="Times New Roman"/>
            </a:endParaRPr>
          </a:p>
          <a:p>
            <a:pPr marL="3153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num2 = num1;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025360" y="3840120"/>
            <a:ext cx="1937160" cy="1722600"/>
            <a:chOff x="2025360" y="3840120"/>
            <a:chExt cx="1937160" cy="1722600"/>
          </a:xfrm>
        </p:grpSpPr>
        <p:sp>
          <p:nvSpPr>
            <p:cNvPr id="126" name=""/>
            <p:cNvSpPr/>
            <p:nvPr/>
          </p:nvSpPr>
          <p:spPr>
            <a:xfrm>
              <a:off x="2437200" y="3840120"/>
              <a:ext cx="1015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Befor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025360" y="4510080"/>
              <a:ext cx="794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num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036880" y="4924440"/>
              <a:ext cx="766800" cy="63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1932"/>
                  </a:solidFill>
                  <a:latin typeface="Courier New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166560" y="4510080"/>
              <a:ext cx="794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num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95720" y="4924440"/>
              <a:ext cx="766800" cy="63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1932"/>
                  </a:solidFill>
                  <a:latin typeface="Courier New"/>
                </a:rPr>
                <a:t>1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530320" y="3840120"/>
            <a:ext cx="1937160" cy="1722600"/>
            <a:chOff x="5530320" y="3840120"/>
            <a:chExt cx="1937160" cy="1722600"/>
          </a:xfrm>
        </p:grpSpPr>
        <p:sp>
          <p:nvSpPr>
            <p:cNvPr id="132" name=""/>
            <p:cNvSpPr/>
            <p:nvPr/>
          </p:nvSpPr>
          <p:spPr>
            <a:xfrm>
              <a:off x="5942160" y="3840120"/>
              <a:ext cx="829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Aft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30320" y="4510080"/>
              <a:ext cx="794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num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541840" y="4924440"/>
              <a:ext cx="766800" cy="63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1932"/>
                  </a:solidFill>
                  <a:latin typeface="Courier New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671520" y="4510080"/>
              <a:ext cx="794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num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700680" y="4924440"/>
              <a:ext cx="766800" cy="63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1932"/>
                  </a:solidFill>
                  <a:latin typeface="Courier New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B7BA-1449-4BAF-AD79-3FFE6A5801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Reference Assignment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266480"/>
            <a:ext cx="8305920" cy="185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r object references, assignment copies the memory location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bishop2 = bishop1;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036440" y="3191040"/>
            <a:ext cx="3024360" cy="2446920"/>
            <a:chOff x="1036440" y="3191040"/>
            <a:chExt cx="3024360" cy="2446920"/>
          </a:xfrm>
        </p:grpSpPr>
        <p:sp>
          <p:nvSpPr>
            <p:cNvPr id="140" name=""/>
            <p:cNvSpPr/>
            <p:nvPr/>
          </p:nvSpPr>
          <p:spPr>
            <a:xfrm>
              <a:off x="1902240" y="3191040"/>
              <a:ext cx="1015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Befor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415880" y="4297320"/>
              <a:ext cx="443160" cy="377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36440" y="3867120"/>
              <a:ext cx="1251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bishop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2058840" y="4838760"/>
              <a:ext cx="508320" cy="799200"/>
              <a:chOff x="2058840" y="4838760"/>
              <a:chExt cx="508320" cy="799200"/>
            </a:xfrm>
          </p:grpSpPr>
          <p:sp>
            <p:nvSpPr>
              <p:cNvPr id="144" name=""/>
              <p:cNvSpPr/>
              <p:nvPr/>
            </p:nvSpPr>
            <p:spPr>
              <a:xfrm>
                <a:off x="2247840" y="4838760"/>
                <a:ext cx="71640" cy="70920"/>
              </a:xfrm>
              <a:prstGeom prst="ellipse">
                <a:avLst/>
              </a:prstGeom>
              <a:solidFill>
                <a:srgbClr val="001932"/>
              </a:solidFill>
              <a:ln w="12600">
                <a:solidFill>
                  <a:srgbClr val="0019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058840" y="5528880"/>
                <a:ext cx="508320" cy="109080"/>
              </a:xfrm>
              <a:prstGeom prst="rect">
                <a:avLst/>
              </a:prstGeom>
              <a:solidFill>
                <a:srgbClr val="001932"/>
              </a:solidFill>
              <a:ln w="12600">
                <a:solidFill>
                  <a:srgbClr val="0019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147760" y="4871520"/>
                <a:ext cx="325440" cy="715680"/>
              </a:xfrm>
              <a:custGeom>
                <a:avLst/>
                <a:gdLst/>
                <a:ahLst/>
                <a:rect l="l" t="t" r="r" b="b"/>
                <a:pathLst>
                  <a:path w="205" h="451">
                    <a:moveTo>
                      <a:pt x="81" y="0"/>
                    </a:moveTo>
                    <a:lnTo>
                      <a:pt x="0" y="450"/>
                    </a:lnTo>
                    <a:lnTo>
                      <a:pt x="204" y="450"/>
                    </a:lnTo>
                    <a:lnTo>
                      <a:pt x="81" y="0"/>
                    </a:lnTo>
                  </a:path>
                </a:pathLst>
              </a:custGeom>
              <a:solidFill>
                <a:srgbClr val="001932"/>
              </a:solidFill>
              <a:ln cap="rnd" w="12600">
                <a:solidFill>
                  <a:srgbClr val="0019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154240" y="4878000"/>
                <a:ext cx="272880" cy="110880"/>
              </a:xfrm>
              <a:custGeom>
                <a:avLst/>
                <a:gdLst/>
                <a:ahLst/>
                <a:rect l="l" t="t" r="r" b="b"/>
                <a:pathLst>
                  <a:path w="172" h="70">
                    <a:moveTo>
                      <a:pt x="0" y="69"/>
                    </a:moveTo>
                    <a:lnTo>
                      <a:pt x="171" y="69"/>
                    </a:lnTo>
                    <a:lnTo>
                      <a:pt x="81" y="0"/>
                    </a:lnTo>
                    <a:lnTo>
                      <a:pt x="0" y="69"/>
                    </a:lnTo>
                  </a:path>
                </a:pathLst>
              </a:custGeom>
              <a:solidFill>
                <a:srgbClr val="001932"/>
              </a:solidFill>
              <a:ln cap="rnd" w="12600">
                <a:solidFill>
                  <a:srgbClr val="0019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 rot="10800000">
              <a:off x="1646640" y="3813840"/>
              <a:ext cx="694800" cy="138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489" y="22"/>
                  </a:moveTo>
                  <a:arcTo wR="10800" hR="10800" stAng="-5180534" swAng="51805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1489" y="22"/>
                  </a:moveTo>
                  <a:arcTo wR="10800" hR="10800" stAng="-5180534" swAng="5180534"/>
                </a:path>
              </a:pathLst>
            </a:custGeom>
            <a:noFill/>
            <a:ln cap="rnd" w="38160">
              <a:solidFill>
                <a:srgbClr val="001932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909880" y="4297320"/>
              <a:ext cx="442800" cy="377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530080" y="3867120"/>
              <a:ext cx="1251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bishop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3552840" y="4838760"/>
              <a:ext cx="507960" cy="799200"/>
              <a:chOff x="3552840" y="4838760"/>
              <a:chExt cx="507960" cy="799200"/>
            </a:xfrm>
          </p:grpSpPr>
          <p:sp>
            <p:nvSpPr>
              <p:cNvPr id="152" name=""/>
              <p:cNvSpPr/>
              <p:nvPr/>
            </p:nvSpPr>
            <p:spPr>
              <a:xfrm>
                <a:off x="3641760" y="4871520"/>
                <a:ext cx="325440" cy="715680"/>
              </a:xfrm>
              <a:custGeom>
                <a:avLst/>
                <a:gdLst/>
                <a:ahLst/>
                <a:rect l="l" t="t" r="r" b="b"/>
                <a:pathLst>
                  <a:path w="205" h="451">
                    <a:moveTo>
                      <a:pt x="81" y="0"/>
                    </a:moveTo>
                    <a:lnTo>
                      <a:pt x="0" y="450"/>
                    </a:lnTo>
                    <a:lnTo>
                      <a:pt x="204" y="450"/>
                    </a:lnTo>
                    <a:lnTo>
                      <a:pt x="81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19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648240" y="4878000"/>
                <a:ext cx="272880" cy="110880"/>
              </a:xfrm>
              <a:custGeom>
                <a:avLst/>
                <a:gdLst/>
                <a:ahLst/>
                <a:rect l="l" t="t" r="r" b="b"/>
                <a:pathLst>
                  <a:path w="172" h="70">
                    <a:moveTo>
                      <a:pt x="0" y="69"/>
                    </a:moveTo>
                    <a:lnTo>
                      <a:pt x="171" y="69"/>
                    </a:lnTo>
                    <a:lnTo>
                      <a:pt x="81" y="0"/>
                    </a:lnTo>
                    <a:lnTo>
                      <a:pt x="0" y="69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19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552840" y="5528880"/>
                <a:ext cx="507960" cy="109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19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741840" y="4838760"/>
                <a:ext cx="71280" cy="70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19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 rot="10800000">
              <a:off x="3124440" y="3785400"/>
              <a:ext cx="694800" cy="138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489" y="22"/>
                  </a:moveTo>
                  <a:arcTo wR="10800" hR="10800" stAng="-5180534" swAng="51805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1489" y="22"/>
                  </a:moveTo>
                  <a:arcTo wR="10800" hR="10800" stAng="-5180534" swAng="5180534"/>
                </a:path>
              </a:pathLst>
            </a:custGeom>
            <a:noFill/>
            <a:ln cap="rnd" w="38160">
              <a:solidFill>
                <a:srgbClr val="001932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257440" y="3191040"/>
            <a:ext cx="3024360" cy="2446920"/>
            <a:chOff x="5257440" y="3191040"/>
            <a:chExt cx="3024360" cy="2446920"/>
          </a:xfrm>
        </p:grpSpPr>
        <p:sp>
          <p:nvSpPr>
            <p:cNvPr id="158" name=""/>
            <p:cNvSpPr/>
            <p:nvPr/>
          </p:nvSpPr>
          <p:spPr>
            <a:xfrm>
              <a:off x="6123240" y="3191040"/>
              <a:ext cx="829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Aft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637240" y="4297320"/>
              <a:ext cx="442800" cy="377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257440" y="3867120"/>
              <a:ext cx="1251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bishop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6350040" y="4838760"/>
              <a:ext cx="507960" cy="799200"/>
              <a:chOff x="6350040" y="4838760"/>
              <a:chExt cx="507960" cy="799200"/>
            </a:xfrm>
          </p:grpSpPr>
          <p:sp>
            <p:nvSpPr>
              <p:cNvPr id="162" name=""/>
              <p:cNvSpPr/>
              <p:nvPr/>
            </p:nvSpPr>
            <p:spPr>
              <a:xfrm>
                <a:off x="6538680" y="4838760"/>
                <a:ext cx="71280" cy="70920"/>
              </a:xfrm>
              <a:prstGeom prst="ellipse">
                <a:avLst/>
              </a:prstGeom>
              <a:solidFill>
                <a:srgbClr val="001932"/>
              </a:solidFill>
              <a:ln w="12600">
                <a:solidFill>
                  <a:srgbClr val="0019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350040" y="5528880"/>
                <a:ext cx="507960" cy="109080"/>
              </a:xfrm>
              <a:prstGeom prst="rect">
                <a:avLst/>
              </a:prstGeom>
              <a:solidFill>
                <a:srgbClr val="001932"/>
              </a:solidFill>
              <a:ln w="12600">
                <a:solidFill>
                  <a:srgbClr val="0019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438600" y="4871520"/>
                <a:ext cx="325080" cy="715680"/>
              </a:xfrm>
              <a:custGeom>
                <a:avLst/>
                <a:gdLst/>
                <a:ahLst/>
                <a:rect l="l" t="t" r="r" b="b"/>
                <a:pathLst>
                  <a:path w="205" h="451">
                    <a:moveTo>
                      <a:pt x="81" y="0"/>
                    </a:moveTo>
                    <a:lnTo>
                      <a:pt x="0" y="450"/>
                    </a:lnTo>
                    <a:lnTo>
                      <a:pt x="204" y="450"/>
                    </a:lnTo>
                    <a:lnTo>
                      <a:pt x="81" y="0"/>
                    </a:lnTo>
                  </a:path>
                </a:pathLst>
              </a:custGeom>
              <a:solidFill>
                <a:srgbClr val="001932"/>
              </a:solidFill>
              <a:ln cap="rnd" w="12600">
                <a:solidFill>
                  <a:srgbClr val="0019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445080" y="4878000"/>
                <a:ext cx="272520" cy="110880"/>
              </a:xfrm>
              <a:custGeom>
                <a:avLst/>
                <a:gdLst/>
                <a:ahLst/>
                <a:rect l="l" t="t" r="r" b="b"/>
                <a:pathLst>
                  <a:path w="172" h="70">
                    <a:moveTo>
                      <a:pt x="0" y="69"/>
                    </a:moveTo>
                    <a:lnTo>
                      <a:pt x="171" y="69"/>
                    </a:lnTo>
                    <a:lnTo>
                      <a:pt x="81" y="0"/>
                    </a:lnTo>
                    <a:lnTo>
                      <a:pt x="0" y="69"/>
                    </a:lnTo>
                  </a:path>
                </a:pathLst>
              </a:custGeom>
              <a:solidFill>
                <a:srgbClr val="001932"/>
              </a:solidFill>
              <a:ln cap="rnd" w="12600">
                <a:solidFill>
                  <a:srgbClr val="0019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 rot="10800000">
              <a:off x="5867640" y="3813840"/>
              <a:ext cx="694800" cy="138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489" y="22"/>
                  </a:moveTo>
                  <a:arcTo wR="10800" hR="10800" stAng="-5180534" swAng="51805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1489" y="22"/>
                  </a:moveTo>
                  <a:arcTo wR="10800" hR="10800" stAng="-5180534" swAng="5180534"/>
                </a:path>
              </a:pathLst>
            </a:custGeom>
            <a:noFill/>
            <a:ln cap="rnd" w="38160">
              <a:solidFill>
                <a:srgbClr val="001932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30880" y="4297320"/>
              <a:ext cx="443160" cy="377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751440" y="3867120"/>
              <a:ext cx="1251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bishop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7773840" y="4838760"/>
              <a:ext cx="507960" cy="799200"/>
              <a:chOff x="7773840" y="4838760"/>
              <a:chExt cx="507960" cy="799200"/>
            </a:xfrm>
          </p:grpSpPr>
          <p:sp>
            <p:nvSpPr>
              <p:cNvPr id="170" name=""/>
              <p:cNvSpPr/>
              <p:nvPr/>
            </p:nvSpPr>
            <p:spPr>
              <a:xfrm>
                <a:off x="7862760" y="4871520"/>
                <a:ext cx="325440" cy="715680"/>
              </a:xfrm>
              <a:custGeom>
                <a:avLst/>
                <a:gdLst/>
                <a:ahLst/>
                <a:rect l="l" t="t" r="r" b="b"/>
                <a:pathLst>
                  <a:path w="205" h="451">
                    <a:moveTo>
                      <a:pt x="81" y="0"/>
                    </a:moveTo>
                    <a:lnTo>
                      <a:pt x="0" y="450"/>
                    </a:lnTo>
                    <a:lnTo>
                      <a:pt x="204" y="450"/>
                    </a:lnTo>
                    <a:lnTo>
                      <a:pt x="81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19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869240" y="4878000"/>
                <a:ext cx="272880" cy="110880"/>
              </a:xfrm>
              <a:custGeom>
                <a:avLst/>
                <a:gdLst/>
                <a:ahLst/>
                <a:rect l="l" t="t" r="r" b="b"/>
                <a:pathLst>
                  <a:path w="172" h="70">
                    <a:moveTo>
                      <a:pt x="0" y="69"/>
                    </a:moveTo>
                    <a:lnTo>
                      <a:pt x="171" y="69"/>
                    </a:lnTo>
                    <a:lnTo>
                      <a:pt x="81" y="0"/>
                    </a:lnTo>
                    <a:lnTo>
                      <a:pt x="0" y="69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19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773840" y="5528880"/>
                <a:ext cx="507960" cy="109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19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962840" y="4838760"/>
                <a:ext cx="71280" cy="70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19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 flipH="1" rot="10800000">
              <a:off x="6663240" y="3793320"/>
              <a:ext cx="694800" cy="138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489" y="22"/>
                  </a:moveTo>
                  <a:arcTo wR="10800" hR="10800" stAng="-5180534" swAng="51805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1489" y="22"/>
                  </a:moveTo>
                  <a:arcTo wR="10800" hR="10800" stAng="-5180534" swAng="5180534"/>
                </a:path>
              </a:pathLst>
            </a:custGeom>
            <a:noFill/>
            <a:ln cap="rnd" w="38160">
              <a:solidFill>
                <a:srgbClr val="001932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1CEF-AE9C-44B2-BC28-22BD795F728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Aliase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wo or more references that refer to the same object are called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liase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of each othe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ne object (and its data) can be accessed using different variabl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liases can be useful, but should be managed carefull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hanging the object’s state (its variables) through one reference changes it for all of its alias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4E16-9C08-46FD-9B48-C92C097180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Garbage Collection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hen an object no longer has any valid references to it, it can no longer be accessed by the progra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t is useless, and therefore called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garbag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Java performs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utomatic garbage collectio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periodically, returning an object's memory to the system for future us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 other languages, the programmer has the responsibility for performing garbage collecti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63BD-3B37-48B7-B0AC-BA4614F81D7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Passing Objects to Method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arameters in a Java method ar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assed by valu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is means that a copy of the actual parameter (the value passed in) is stored into the formal parameter (in the method header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assing parameters is essentially an assignmen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hen an object is passed to a method, the actual parameter and the formal parameter become aliases of each othe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Passing Objects to Method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hat you do to a parameter inside a method may or may not have a permanent effect (outside the method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1"/>
              </a:rPr>
              <a:t>ParameterPassing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2"/>
              </a:rPr>
              <a:t>.java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page 226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3"/>
              </a:rPr>
              <a:t>ParameterTester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4"/>
              </a:rPr>
              <a:t>.java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page 228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5"/>
              </a:rPr>
              <a:t>Num.java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page 230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ote the difference between changing the reference and changing the object that the reference points to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3T17:38:43Z</dcterms:created>
  <dc:creator>John Lewis</dc:creator>
  <dc:description/>
  <dc:language>en-US</dc:language>
  <cp:lastModifiedBy>Sharon Lewis</cp:lastModifiedBy>
  <dcterms:modified xsi:type="dcterms:W3CDTF">2000-09-04T23:41:11Z</dcterms:modified>
  <cp:revision>25</cp:revision>
  <dc:subject/>
  <dc:title>Chapter 2:  Using Objects </dc:title>
</cp:coreProperties>
</file>