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B579-7A45-44BA-8274-71DDACDFA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EB02-D9D8-4332-9663-C8F6ED849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EA7F-377D-4677-9076-EACF69AB2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1820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22656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60948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1820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22656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ECD2-C929-42C6-9D4A-C21623AC7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99B78-436A-48F1-A171-C2DBE74FA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1F87F-F1E2-4293-B0E5-11A20D0D4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99EB4-E909-4EDC-819D-6487790E3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5563B-4AA9-4E69-B51C-1A36BAD37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632AE-2B25-4FC0-BC9F-804C06B4E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11280" y="198000"/>
            <a:ext cx="75880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0E4B8-57F4-4885-A2D9-E26B353EA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F68CD-A901-4421-9824-F9B2AB6D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08ED-E0A2-4B37-A301-D6371C10F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24478-F334-45F5-AB83-A15D33E7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8DBDB-402E-4437-8BF3-EE60C523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293B9-72F5-452D-9249-981C45DA4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410D2-DBD0-48D2-9B7D-ABC8F2E66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41820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2656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0948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41820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22656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DCF76-F6B0-4AFE-882A-26FD9ABD2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F7F3-E9E5-4E33-87D5-188F28A2A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BC7F-5A73-460D-A997-FAE77234E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B339-E70D-40F0-8D84-BA86602F5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611280" y="198000"/>
            <a:ext cx="75880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B979-20EA-426B-A443-BFB880C41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FD09-1F00-4C3A-8623-685794DD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210D-9054-4AF1-BB35-036A0DF2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57AE-54AB-452D-B3ED-CBAB08C7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981080" y="457200"/>
            <a:ext cx="30492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8329680" y="733320"/>
            <a:ext cx="720720" cy="532080"/>
            <a:chOff x="8329680" y="733320"/>
            <a:chExt cx="720720" cy="532080"/>
          </a:xfrm>
        </p:grpSpPr>
        <p:sp>
          <p:nvSpPr>
            <p:cNvPr id="2" name=""/>
            <p:cNvSpPr/>
            <p:nvPr/>
          </p:nvSpPr>
          <p:spPr>
            <a:xfrm flipH="1" rot="10800000">
              <a:off x="8832960" y="733320"/>
              <a:ext cx="21744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rot="10800000">
              <a:off x="8582400" y="733320"/>
              <a:ext cx="21924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 rot="10800000">
              <a:off x="8329680" y="733320"/>
              <a:ext cx="21888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" name=""/>
          <p:cNvGrpSpPr/>
          <p:nvPr/>
        </p:nvGrpSpPr>
        <p:grpSpPr>
          <a:xfrm>
            <a:off x="77400" y="6040440"/>
            <a:ext cx="531720" cy="726840"/>
            <a:chOff x="77400" y="6040440"/>
            <a:chExt cx="531720" cy="726840"/>
          </a:xfrm>
        </p:grpSpPr>
        <p:sp>
          <p:nvSpPr>
            <p:cNvPr id="6" name=""/>
            <p:cNvSpPr/>
            <p:nvPr/>
          </p:nvSpPr>
          <p:spPr>
            <a:xfrm flipH="1" rot="5400000">
              <a:off x="234000" y="5883120"/>
              <a:ext cx="21744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233280" y="6142680"/>
              <a:ext cx="21888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233280" y="6391800"/>
              <a:ext cx="21924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body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BDA11-AA90-4311-B39F-AB216C4B2CEA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227160" y="0"/>
            <a:ext cx="22860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304200" y="914400"/>
            <a:ext cx="8839080" cy="228600"/>
          </a:xfrm>
          <a:custGeom>
            <a:avLst/>
            <a:gdLst>
              <a:gd name="textAreaLeft" fmla="*/ -360 w 8839080"/>
              <a:gd name="textAreaRight" fmla="*/ 8839080 w 88390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1" y="0"/>
                </a:lnTo>
                <a:lnTo>
                  <a:pt x="21600" y="10800"/>
                </a:lnTo>
                <a:lnTo>
                  <a:pt x="2122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1981080" y="2179800"/>
            <a:ext cx="19080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" name=""/>
          <p:cNvGrpSpPr/>
          <p:nvPr/>
        </p:nvGrpSpPr>
        <p:grpSpPr>
          <a:xfrm>
            <a:off x="77760" y="5903640"/>
            <a:ext cx="533520" cy="749160"/>
            <a:chOff x="77760" y="5903640"/>
            <a:chExt cx="533520" cy="749160"/>
          </a:xfrm>
        </p:grpSpPr>
        <p:sp>
          <p:nvSpPr>
            <p:cNvPr id="17" name=""/>
            <p:cNvSpPr/>
            <p:nvPr/>
          </p:nvSpPr>
          <p:spPr>
            <a:xfrm rot="16200000">
              <a:off x="226080" y="5756400"/>
              <a:ext cx="23796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6200000">
              <a:off x="223560" y="6010200"/>
              <a:ext cx="23976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6200000">
              <a:off x="225360" y="6266880"/>
              <a:ext cx="237960" cy="5335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8190000" y="731880"/>
            <a:ext cx="739800" cy="533520"/>
            <a:chOff x="8190000" y="731880"/>
            <a:chExt cx="739800" cy="533520"/>
          </a:xfrm>
        </p:grpSpPr>
        <p:sp>
          <p:nvSpPr>
            <p:cNvPr id="22" name=""/>
            <p:cNvSpPr/>
            <p:nvPr/>
          </p:nvSpPr>
          <p:spPr>
            <a:xfrm>
              <a:off x="8691480" y="733320"/>
              <a:ext cx="23832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442360" y="733320"/>
              <a:ext cx="23976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90000" y="731880"/>
              <a:ext cx="237960" cy="5335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78329-81BC-438B-A0AF-71F4B292719B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19720" y="9907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4457520" y="-2934000"/>
            <a:ext cx="228600" cy="9144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2" marL="914400" algn="ctr">
              <a:spcBef>
                <a:spcPts val="451"/>
              </a:spcBef>
              <a:buClr>
                <a:srgbClr val="a50021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a50021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a50021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../examples/chap12/Library.java" TargetMode="External"/><Relationship Id="rId2" Type="http://schemas.openxmlformats.org/officeDocument/2006/relationships/hyperlink" Target="file:///../examples/chap12/BookList.java" TargetMode="External"/><Relationship Id="rId3" Type="http://schemas.openxmlformats.org/officeDocument/2006/relationships/hyperlink" Target="file:///../examples/chap12/BookList.java" TargetMode="External"/><Relationship Id="rId4" Type="http://schemas.openxmlformats.org/officeDocument/2006/relationships/hyperlink" Target="file:///../examples/chap12/Book.java" TargetMode="External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../examples/chap12/Decode.java" TargetMode="Externa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Chapter 12:  Data Structures 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37720" y="1980720"/>
            <a:ext cx="7543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Presentation slides for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Java Software Solutions</a:t>
            </a: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Foundations of Program Design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Second Edition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by John Lewis and William Loftu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Java Software Solutions is published by Addison-Wesley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Times New Roman"/>
              </a:rPr>
              <a:t>Presentation slides are copyright 2000 by John Lewis and William Loftus. All rights reserved.</a:t>
            </a:r>
            <a:endParaRPr b="1" lang="en-US" sz="10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Times New Roman"/>
              </a:rPr>
              <a:t>Instructors using the textbook may use and modify these slides for pedagogical purposes.</a:t>
            </a:r>
            <a:endParaRPr b="1" lang="en-US" sz="10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Book Collection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et’s explore an example of a collection of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Book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object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collection is managed by 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BookLis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lass, which has an private inner class called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BookNod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ecause 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BookNod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private to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BookLis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BookLis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methods can directly access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BookNod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data without violating encapsulatio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Courier New"/>
                <a:hlinkClick r:id="rId1"/>
              </a:rPr>
              <a:t>Library.java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page 500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Courier New"/>
                <a:hlinkClick r:id="rId2"/>
              </a:rPr>
              <a:t>BookList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Courier New"/>
                <a:hlinkClick r:id="rId3"/>
              </a:rPr>
              <a:t>.java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page 501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Courier New"/>
                <a:hlinkClick r:id="rId4"/>
              </a:rPr>
              <a:t>Book.java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page 503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Other Dynamic List Implementation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t may be convenient to implement as list as a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oubly linked lis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with next and previous reference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224000" y="2695680"/>
            <a:ext cx="6875280" cy="2301840"/>
            <a:chOff x="1224000" y="2695680"/>
            <a:chExt cx="6875280" cy="2301840"/>
          </a:xfrm>
        </p:grpSpPr>
        <p:sp>
          <p:nvSpPr>
            <p:cNvPr id="165" name=""/>
            <p:cNvSpPr/>
            <p:nvPr/>
          </p:nvSpPr>
          <p:spPr>
            <a:xfrm>
              <a:off x="1574640" y="3127320"/>
              <a:ext cx="486000" cy="3333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509840" y="2695680"/>
              <a:ext cx="733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urier New"/>
                </a:rPr>
                <a:t>li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825560" y="3294000"/>
              <a:ext cx="0" cy="582840"/>
            </a:xfrm>
            <a:prstGeom prst="line">
              <a:avLst/>
            </a:prstGeom>
            <a:ln w="12600">
              <a:solidFill>
                <a:srgbClr val="99ff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060640" y="4219560"/>
              <a:ext cx="139680" cy="1159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99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224000" y="3925800"/>
              <a:ext cx="1287360" cy="10717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78120" y="4556160"/>
              <a:ext cx="485640" cy="3333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243160" y="4727520"/>
              <a:ext cx="843120" cy="0"/>
            </a:xfrm>
            <a:prstGeom prst="line">
              <a:avLst/>
            </a:prstGeom>
            <a:ln w="12600">
              <a:solidFill>
                <a:srgbClr val="99ff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878120" y="4106880"/>
              <a:ext cx="485640" cy="3333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2513160" y="4268880"/>
              <a:ext cx="1449360" cy="0"/>
            </a:xfrm>
            <a:prstGeom prst="line">
              <a:avLst/>
            </a:prstGeom>
            <a:ln w="12600">
              <a:solidFill>
                <a:srgbClr val="99ff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87720" y="3876840"/>
              <a:ext cx="1287360" cy="10713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741840" y="4506840"/>
              <a:ext cx="485640" cy="3333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106880" y="4678200"/>
              <a:ext cx="843120" cy="0"/>
            </a:xfrm>
            <a:prstGeom prst="line">
              <a:avLst/>
            </a:prstGeom>
            <a:ln w="12600">
              <a:solidFill>
                <a:srgbClr val="99ff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41840" y="4057560"/>
              <a:ext cx="485640" cy="3333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4376880" y="4219560"/>
              <a:ext cx="1373040" cy="0"/>
            </a:xfrm>
            <a:prstGeom prst="line">
              <a:avLst/>
            </a:prstGeom>
            <a:ln w="12600">
              <a:solidFill>
                <a:srgbClr val="99ff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950000" y="3876840"/>
              <a:ext cx="1287360" cy="10713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603760" y="4506840"/>
              <a:ext cx="486000" cy="3333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969160" y="4678200"/>
              <a:ext cx="842760" cy="0"/>
            </a:xfrm>
            <a:prstGeom prst="line">
              <a:avLst/>
            </a:prstGeom>
            <a:ln w="12600">
              <a:solidFill>
                <a:srgbClr val="99ff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03760" y="4057560"/>
              <a:ext cx="486000" cy="3333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6238440" y="4219560"/>
              <a:ext cx="1522440" cy="0"/>
            </a:xfrm>
            <a:prstGeom prst="line">
              <a:avLst/>
            </a:prstGeom>
            <a:ln w="12600">
              <a:solidFill>
                <a:srgbClr val="99ff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11920" y="3876840"/>
              <a:ext cx="1287360" cy="10713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466040" y="4506840"/>
              <a:ext cx="485640" cy="3333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66040" y="4057560"/>
              <a:ext cx="485640" cy="3333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621560" y="4629240"/>
              <a:ext cx="139680" cy="1159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99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98AC-0E6E-486E-847E-ED30B315152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Other Dynamic List Implementation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t may also be convenient to use a separate header node, with references to both the front and rear of the lis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247760" y="2550960"/>
            <a:ext cx="6573960" cy="2867040"/>
            <a:chOff x="1247760" y="2550960"/>
            <a:chExt cx="6573960" cy="2867040"/>
          </a:xfrm>
        </p:grpSpPr>
        <p:grpSp>
          <p:nvGrpSpPr>
            <p:cNvPr id="191" name=""/>
            <p:cNvGrpSpPr/>
            <p:nvPr/>
          </p:nvGrpSpPr>
          <p:grpSpPr>
            <a:xfrm>
              <a:off x="1247760" y="4346640"/>
              <a:ext cx="1287360" cy="1071360"/>
              <a:chOff x="1247760" y="4346640"/>
              <a:chExt cx="1287360" cy="1071360"/>
            </a:xfrm>
          </p:grpSpPr>
          <p:sp>
            <p:nvSpPr>
              <p:cNvPr id="192" name=""/>
              <p:cNvSpPr/>
              <p:nvPr/>
            </p:nvSpPr>
            <p:spPr>
              <a:xfrm>
                <a:off x="1247760" y="4346640"/>
                <a:ext cx="1287360" cy="10713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901880" y="4976640"/>
                <a:ext cx="485640" cy="3337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3048120" y="4346640"/>
              <a:ext cx="1287360" cy="1071360"/>
              <a:chOff x="3048120" y="4346640"/>
              <a:chExt cx="1287360" cy="1071360"/>
            </a:xfrm>
          </p:grpSpPr>
          <p:sp>
            <p:nvSpPr>
              <p:cNvPr id="195" name=""/>
              <p:cNvSpPr/>
              <p:nvPr/>
            </p:nvSpPr>
            <p:spPr>
              <a:xfrm>
                <a:off x="3048120" y="4346640"/>
                <a:ext cx="1287360" cy="10713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701880" y="4976640"/>
                <a:ext cx="486000" cy="3337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4757760" y="4346640"/>
              <a:ext cx="1287360" cy="1071360"/>
              <a:chOff x="4757760" y="4346640"/>
              <a:chExt cx="1287360" cy="1071360"/>
            </a:xfrm>
          </p:grpSpPr>
          <p:sp>
            <p:nvSpPr>
              <p:cNvPr id="198" name=""/>
              <p:cNvSpPr/>
              <p:nvPr/>
            </p:nvSpPr>
            <p:spPr>
              <a:xfrm>
                <a:off x="4757760" y="4346640"/>
                <a:ext cx="1287360" cy="10713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411880" y="4976640"/>
                <a:ext cx="485640" cy="3337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6534000" y="4346640"/>
              <a:ext cx="1287720" cy="1071360"/>
              <a:chOff x="6534000" y="4346640"/>
              <a:chExt cx="1287720" cy="1071360"/>
            </a:xfrm>
          </p:grpSpPr>
          <p:sp>
            <p:nvSpPr>
              <p:cNvPr id="201" name=""/>
              <p:cNvSpPr/>
              <p:nvPr/>
            </p:nvSpPr>
            <p:spPr>
              <a:xfrm>
                <a:off x="6534000" y="4346640"/>
                <a:ext cx="1287720" cy="10713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188120" y="4976640"/>
                <a:ext cx="486000" cy="3337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3" name=""/>
            <p:cNvSpPr/>
            <p:nvPr/>
          </p:nvSpPr>
          <p:spPr>
            <a:xfrm>
              <a:off x="2154240" y="5164200"/>
              <a:ext cx="843120" cy="0"/>
            </a:xfrm>
            <a:prstGeom prst="line">
              <a:avLst/>
            </a:prstGeom>
            <a:ln w="12600">
              <a:solidFill>
                <a:srgbClr val="99ff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641920" y="5165640"/>
              <a:ext cx="843120" cy="0"/>
            </a:xfrm>
            <a:prstGeom prst="line">
              <a:avLst/>
            </a:prstGeom>
            <a:ln w="12600">
              <a:solidFill>
                <a:srgbClr val="99ff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889440" y="5165640"/>
              <a:ext cx="842760" cy="0"/>
            </a:xfrm>
            <a:prstGeom prst="line">
              <a:avLst/>
            </a:prstGeom>
            <a:ln w="12600">
              <a:solidFill>
                <a:srgbClr val="99ff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849320" y="3714840"/>
              <a:ext cx="0" cy="582480"/>
            </a:xfrm>
            <a:prstGeom prst="line">
              <a:avLst/>
            </a:prstGeom>
            <a:ln w="12600">
              <a:solidFill>
                <a:srgbClr val="99ff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353360" y="5105520"/>
              <a:ext cx="139680" cy="1159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99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01880" y="2587680"/>
              <a:ext cx="1330560" cy="8254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782160" y="2587680"/>
              <a:ext cx="116028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urier New"/>
                </a:rPr>
                <a:t>count: 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urier New"/>
                </a:rPr>
                <a:t>fro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urier New"/>
                </a:rPr>
                <a:t>rea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1851120" y="3009600"/>
              <a:ext cx="2036520" cy="701640"/>
            </a:xfrm>
            <a:prstGeom prst="line">
              <a:avLst/>
            </a:prstGeom>
            <a:ln w="12600">
              <a:solidFill>
                <a:srgbClr val="99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734000" y="3270240"/>
              <a:ext cx="2454120" cy="442800"/>
            </a:xfrm>
            <a:prstGeom prst="line">
              <a:avLst/>
            </a:prstGeom>
            <a:ln w="12600">
              <a:solidFill>
                <a:srgbClr val="99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188120" y="3714840"/>
              <a:ext cx="0" cy="631800"/>
            </a:xfrm>
            <a:prstGeom prst="line">
              <a:avLst/>
            </a:prstGeom>
            <a:ln w="12600">
              <a:solidFill>
                <a:srgbClr val="99ff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058840" y="2550960"/>
              <a:ext cx="733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urier New"/>
                </a:rPr>
                <a:t>li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792520" y="2728800"/>
              <a:ext cx="909360" cy="0"/>
            </a:xfrm>
            <a:prstGeom prst="line">
              <a:avLst/>
            </a:prstGeom>
            <a:ln w="12600">
              <a:solidFill>
                <a:srgbClr val="99ff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8ACB-78B4-433C-80C0-ACCFF99032E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Queue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queu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similar to a list but adds items only to the end of the list and removes them from the fron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t is called a FIFO data structure:  First-In, First-Ou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alogy:  a line of people at a bank teller’s window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1522800" y="4172040"/>
            <a:ext cx="6081120" cy="720720"/>
            <a:chOff x="1522800" y="4172040"/>
            <a:chExt cx="6081120" cy="720720"/>
          </a:xfrm>
        </p:grpSpPr>
        <p:grpSp>
          <p:nvGrpSpPr>
            <p:cNvPr id="218" name=""/>
            <p:cNvGrpSpPr/>
            <p:nvPr/>
          </p:nvGrpSpPr>
          <p:grpSpPr>
            <a:xfrm>
              <a:off x="2739960" y="4280040"/>
              <a:ext cx="3456000" cy="612720"/>
              <a:chOff x="2739960" y="4280040"/>
              <a:chExt cx="3456000" cy="612720"/>
            </a:xfrm>
          </p:grpSpPr>
          <p:sp>
            <p:nvSpPr>
              <p:cNvPr id="219" name=""/>
              <p:cNvSpPr/>
              <p:nvPr/>
            </p:nvSpPr>
            <p:spPr>
              <a:xfrm>
                <a:off x="2739960" y="4280040"/>
                <a:ext cx="3456000" cy="6127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233880" y="4280040"/>
                <a:ext cx="469800" cy="6127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186080" y="4280040"/>
                <a:ext cx="470160" cy="6127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149800" y="4280040"/>
                <a:ext cx="469800" cy="6127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1989000" y="4538520"/>
              <a:ext cx="750960" cy="0"/>
            </a:xfrm>
            <a:prstGeom prst="line">
              <a:avLst/>
            </a:prstGeom>
            <a:ln w="12600">
              <a:solidFill>
                <a:srgbClr val="99ff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197760" y="4538520"/>
              <a:ext cx="750600" cy="0"/>
            </a:xfrm>
            <a:prstGeom prst="line">
              <a:avLst/>
            </a:prstGeom>
            <a:ln w="12600">
              <a:solidFill>
                <a:srgbClr val="99ff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522800" y="4191120"/>
              <a:ext cx="948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enqueu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655320" y="4172040"/>
              <a:ext cx="948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dequeu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D258-B237-41DB-946D-603E77BC3A8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Queue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e can define the operations on a queue as follow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enqueue - add an item to the rear of the queue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dequeue - remove an item from the front of the queue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empty - returns true if the queue is empty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s with our linked list example, by storing generic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Objec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references, any object can be stored in the queu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Queues are often helpful in simulations and any processing in which items get “backed up”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6465-9B25-45C7-B54D-61E776449E6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Stack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stack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ADT is also linear, like a list or queu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tems are added and removed from only one end of a stack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t is therefore LIFO:  Last-In, First-Ou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alogy:  a stack of plat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6716-21B9-441C-A8E0-643D45D929D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Stack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acks are often drawn vertically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2739960" y="2303640"/>
            <a:ext cx="2726640" cy="2728800"/>
            <a:chOff x="2739960" y="2303640"/>
            <a:chExt cx="2726640" cy="2728800"/>
          </a:xfrm>
        </p:grpSpPr>
        <p:grpSp>
          <p:nvGrpSpPr>
            <p:cNvPr id="234" name=""/>
            <p:cNvGrpSpPr/>
            <p:nvPr/>
          </p:nvGrpSpPr>
          <p:grpSpPr>
            <a:xfrm>
              <a:off x="3902040" y="3022560"/>
              <a:ext cx="614520" cy="2009880"/>
              <a:chOff x="3902040" y="3022560"/>
              <a:chExt cx="614520" cy="2009880"/>
            </a:xfrm>
          </p:grpSpPr>
          <p:sp>
            <p:nvSpPr>
              <p:cNvPr id="235" name=""/>
              <p:cNvSpPr/>
              <p:nvPr/>
            </p:nvSpPr>
            <p:spPr>
              <a:xfrm>
                <a:off x="3903840" y="3022560"/>
                <a:ext cx="612720" cy="20098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902040" y="4470480"/>
                <a:ext cx="612720" cy="2728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902040" y="3916440"/>
                <a:ext cx="612720" cy="2728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902040" y="3355920"/>
                <a:ext cx="612720" cy="2732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4938480" y="2303640"/>
              <a:ext cx="528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po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987640" y="2670120"/>
              <a:ext cx="1127160" cy="0"/>
            </a:xfrm>
            <a:prstGeom prst="line">
              <a:avLst/>
            </a:prstGeom>
            <a:ln w="12600">
              <a:solidFill>
                <a:srgbClr val="99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14800" y="2671920"/>
              <a:ext cx="0" cy="350640"/>
            </a:xfrm>
            <a:prstGeom prst="line">
              <a:avLst/>
            </a:prstGeom>
            <a:ln w="12600">
              <a:solidFill>
                <a:srgbClr val="99ff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267080" y="2671920"/>
              <a:ext cx="0" cy="350640"/>
            </a:xfrm>
            <a:prstGeom prst="line">
              <a:avLst/>
            </a:prstGeom>
            <a:ln w="12600">
              <a:solidFill>
                <a:srgbClr val="99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268880" y="2670120"/>
              <a:ext cx="1069920" cy="0"/>
            </a:xfrm>
            <a:prstGeom prst="line">
              <a:avLst/>
            </a:prstGeom>
            <a:ln w="12600">
              <a:solidFill>
                <a:srgbClr val="99ff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739960" y="2303640"/>
              <a:ext cx="616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pus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0C31-43D9-46A5-90C8-73F11F0F6BE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Stack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ome stack operation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push - add an item to the top of the stack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pop - remove an item from the top of the stack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peek - retrieves the top item without removing it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empty - returns true if the stack is empty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java.util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package contains a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Stack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lass, which is implemented using a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Vecto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Courier New"/>
                <a:hlinkClick r:id="rId1"/>
              </a:rPr>
              <a:t>Decode.java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page 508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E273-58C2-4526-A51C-63B1D3E6B25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Collection Classe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Java 2 platform contains a Collections API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is group of classes represent various data structures used to store and manage object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ir underlying implementation is implied in the class names, such as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ArrayLis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LinkedLis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veral interfaces are used to define operations on the collections, such as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Lis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Se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SortedSe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Ma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and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SortedMap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Data Structure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e can now explore some advanced techniques for organizing and managing informatio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hapter 12 focuses on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dynamic structure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bstract Data Types (ADTs)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linked list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queue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stack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2750-7882-4E1B-8124-2D5C6A9D2E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Static vs. Dynamic Structure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static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data structure has a fixed siz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is meaning is different than those associated with 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static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modifie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rrays are static;  once you define the number of elements it can hold, it doesn’t chang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ynamic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data structure grows and shrinks as required by the information it contain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FD4B-B42B-48D5-9740-1C77261041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Object Reference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Recall that a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object referenc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a variable that stores the address of an objec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reference can also be called a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ointe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y are often depicted graphically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029320" y="4040280"/>
            <a:ext cx="4657320" cy="1827000"/>
            <a:chOff x="2029320" y="4040280"/>
            <a:chExt cx="4657320" cy="1827000"/>
          </a:xfrm>
        </p:grpSpPr>
        <p:sp>
          <p:nvSpPr>
            <p:cNvPr id="117" name=""/>
            <p:cNvSpPr/>
            <p:nvPr/>
          </p:nvSpPr>
          <p:spPr>
            <a:xfrm>
              <a:off x="2325600" y="4408560"/>
              <a:ext cx="486000" cy="3333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29320" y="4040280"/>
              <a:ext cx="11451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urier New"/>
                </a:rPr>
                <a:t>stud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49840" y="4278240"/>
              <a:ext cx="1936800" cy="15890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urier New"/>
                </a:rPr>
                <a:t>John Smit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urier New"/>
                </a:rPr>
                <a:t>407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urier New"/>
                </a:rPr>
                <a:t>3.5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58880" y="4575240"/>
              <a:ext cx="2121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27DE-BEF8-4009-B4DB-D9683A52FFC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References as Link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bject references can be used to creat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link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between object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uppose a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Studen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lass contained a reference to another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Studen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objec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085840" y="3782880"/>
            <a:ext cx="4795920" cy="1589400"/>
            <a:chOff x="2085840" y="3782880"/>
            <a:chExt cx="4795920" cy="1589400"/>
          </a:xfrm>
        </p:grpSpPr>
        <p:grpSp>
          <p:nvGrpSpPr>
            <p:cNvPr id="124" name=""/>
            <p:cNvGrpSpPr/>
            <p:nvPr/>
          </p:nvGrpSpPr>
          <p:grpSpPr>
            <a:xfrm>
              <a:off x="2085840" y="3782880"/>
              <a:ext cx="1936800" cy="1589400"/>
              <a:chOff x="2085840" y="3782880"/>
              <a:chExt cx="1936800" cy="1589400"/>
            </a:xfrm>
          </p:grpSpPr>
          <p:sp>
            <p:nvSpPr>
              <p:cNvPr id="125" name=""/>
              <p:cNvSpPr/>
              <p:nvPr/>
            </p:nvSpPr>
            <p:spPr>
              <a:xfrm>
                <a:off x="2085840" y="3782880"/>
                <a:ext cx="1936800" cy="1589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ourier New"/>
                  </a:rPr>
                  <a:t>John Smith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ourier New"/>
                  </a:rPr>
                  <a:t>40725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ourier New"/>
                  </a:rPr>
                  <a:t>3.57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367080" y="4889520"/>
                <a:ext cx="485640" cy="3333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4944960" y="3782880"/>
              <a:ext cx="1936800" cy="1589400"/>
              <a:chOff x="4944960" y="3782880"/>
              <a:chExt cx="1936800" cy="1589400"/>
            </a:xfrm>
          </p:grpSpPr>
          <p:sp>
            <p:nvSpPr>
              <p:cNvPr id="128" name=""/>
              <p:cNvSpPr/>
              <p:nvPr/>
            </p:nvSpPr>
            <p:spPr>
              <a:xfrm>
                <a:off x="4944960" y="3782880"/>
                <a:ext cx="1936800" cy="1589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ourier New"/>
                  </a:rPr>
                  <a:t>Jane Jone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ourier New"/>
                  </a:rPr>
                  <a:t>5882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ourier New"/>
                  </a:rPr>
                  <a:t>3.72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226200" y="4889520"/>
                <a:ext cx="485640" cy="3333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3621240" y="5052960"/>
              <a:ext cx="1274760" cy="0"/>
            </a:xfrm>
            <a:prstGeom prst="line">
              <a:avLst/>
            </a:prstGeom>
            <a:ln w="12600">
              <a:solidFill>
                <a:srgbClr val="99ff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96120" y="5016600"/>
              <a:ext cx="139680" cy="1159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99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2FFE-8D58-4C42-A45C-087F27C1480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References as Link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References can be used to create a variety of linked structures, such as a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linked lis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061280" y="2486160"/>
            <a:ext cx="6760440" cy="2301840"/>
            <a:chOff x="1061280" y="2486160"/>
            <a:chExt cx="6760440" cy="2301840"/>
          </a:xfrm>
        </p:grpSpPr>
        <p:sp>
          <p:nvSpPr>
            <p:cNvPr id="135" name=""/>
            <p:cNvSpPr/>
            <p:nvPr/>
          </p:nvSpPr>
          <p:spPr>
            <a:xfrm>
              <a:off x="1598760" y="2917800"/>
              <a:ext cx="485640" cy="3333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061280" y="2486160"/>
              <a:ext cx="1693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urier New"/>
                </a:rPr>
                <a:t>studentLi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247760" y="3716280"/>
              <a:ext cx="1287360" cy="1071720"/>
              <a:chOff x="1247760" y="3716280"/>
              <a:chExt cx="1287360" cy="1071720"/>
            </a:xfrm>
          </p:grpSpPr>
          <p:sp>
            <p:nvSpPr>
              <p:cNvPr id="138" name=""/>
              <p:cNvSpPr/>
              <p:nvPr/>
            </p:nvSpPr>
            <p:spPr>
              <a:xfrm>
                <a:off x="1247760" y="3716280"/>
                <a:ext cx="1287360" cy="10717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901880" y="4346640"/>
                <a:ext cx="485640" cy="3333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3048120" y="3716280"/>
              <a:ext cx="1287360" cy="1071720"/>
              <a:chOff x="3048120" y="3716280"/>
              <a:chExt cx="1287360" cy="1071720"/>
            </a:xfrm>
          </p:grpSpPr>
          <p:sp>
            <p:nvSpPr>
              <p:cNvPr id="141" name=""/>
              <p:cNvSpPr/>
              <p:nvPr/>
            </p:nvSpPr>
            <p:spPr>
              <a:xfrm>
                <a:off x="3048120" y="3716280"/>
                <a:ext cx="1287360" cy="10717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701880" y="4346640"/>
                <a:ext cx="486000" cy="3333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4757760" y="3716280"/>
              <a:ext cx="1287360" cy="1071720"/>
              <a:chOff x="4757760" y="3716280"/>
              <a:chExt cx="1287360" cy="1071720"/>
            </a:xfrm>
          </p:grpSpPr>
          <p:sp>
            <p:nvSpPr>
              <p:cNvPr id="144" name=""/>
              <p:cNvSpPr/>
              <p:nvPr/>
            </p:nvSpPr>
            <p:spPr>
              <a:xfrm>
                <a:off x="4757760" y="3716280"/>
                <a:ext cx="1287360" cy="10717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411880" y="4346640"/>
                <a:ext cx="485640" cy="3333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6534000" y="3716280"/>
              <a:ext cx="1287720" cy="1071720"/>
              <a:chOff x="6534000" y="3716280"/>
              <a:chExt cx="1287720" cy="1071720"/>
            </a:xfrm>
          </p:grpSpPr>
          <p:sp>
            <p:nvSpPr>
              <p:cNvPr id="147" name=""/>
              <p:cNvSpPr/>
              <p:nvPr/>
            </p:nvSpPr>
            <p:spPr>
              <a:xfrm>
                <a:off x="6534000" y="3716280"/>
                <a:ext cx="1287720" cy="10717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188120" y="4346640"/>
                <a:ext cx="486000" cy="3333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>
              <a:off x="2154240" y="4533840"/>
              <a:ext cx="843120" cy="0"/>
            </a:xfrm>
            <a:prstGeom prst="line">
              <a:avLst/>
            </a:prstGeom>
            <a:ln w="12600">
              <a:solidFill>
                <a:srgbClr val="99ff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641920" y="4535640"/>
              <a:ext cx="843120" cy="0"/>
            </a:xfrm>
            <a:prstGeom prst="line">
              <a:avLst/>
            </a:prstGeom>
            <a:ln w="12600">
              <a:solidFill>
                <a:srgbClr val="99ff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89440" y="4535640"/>
              <a:ext cx="842760" cy="0"/>
            </a:xfrm>
            <a:prstGeom prst="line">
              <a:avLst/>
            </a:prstGeom>
            <a:ln w="12600">
              <a:solidFill>
                <a:srgbClr val="99ff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849320" y="3084480"/>
              <a:ext cx="0" cy="582480"/>
            </a:xfrm>
            <a:prstGeom prst="line">
              <a:avLst/>
            </a:prstGeom>
            <a:ln w="12600">
              <a:solidFill>
                <a:srgbClr val="99ff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353360" y="4475160"/>
              <a:ext cx="139680" cy="1159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99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13AD-4310-4F6C-9959-438D3711484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Abstract Data Type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bstract data typ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(ADT) is an organized collection of information and a set of operations used to manage that informatio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set of operations define th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nterfac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to the AD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s long as the ADT accurately fulfills the promises of the interface, it doesn't really matter how the ADT is implemente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bjects are a perfect programming mechanism to create ADTs because their internal details ar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encapsulate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93CA-EB8D-4BC5-B344-4C2635C2374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Abstraction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ur data structures should be abstraction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at is, they should hide details as appropriat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e want to separate the interface of the structure from its underlying implementatio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is helps manage complexity and makes the structures more usefu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ABAA-02CE-4405-A592-5C796757DE2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Intermediate Node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objects being stored should not have to deal with the details of the data structure in which they may be store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r example, 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Studen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lass stored a link to the next Student object in the lis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stead, we can use a separate node class that holds a reference to the stored object and a link to the next node in the lis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refore the internal representation actually becomes a linked list of nod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A114-2C96-4070-8DE5-21351009B3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3T17:38:43Z</dcterms:created>
  <dc:creator>John Lewis</dc:creator>
  <dc:description/>
  <dc:language>en-US</dc:language>
  <cp:lastModifiedBy>John Lewis</cp:lastModifiedBy>
  <dcterms:modified xsi:type="dcterms:W3CDTF">2000-09-05T12:12:54Z</dcterms:modified>
  <cp:revision>21</cp:revision>
  <dc:subject/>
  <dc:title>Chapter 2:  Using Objects </dc:title>
</cp:coreProperties>
</file>