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DD0-4E0F-4C95-A846-F430FBE0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D2D-B98E-4319-A9F3-68C6533C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0B0-63B9-405E-BA21-EBC032CC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028-DF38-4354-9EA6-58E11091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EAD9-A430-4999-BF1F-D74D7623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5C98-DC4E-46B3-8BDE-FC277D04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299E-2FD2-4444-811A-EAEE2A4C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EAD3-17EB-48E7-B591-604D7D19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DC2D-2527-4C94-ADB6-E48447F7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81D0-3407-4113-AA1F-4E25DA7A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4F00-8E99-44CA-8530-6E3F8A9D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9A3-999B-444B-876A-01BB6B9A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D65C-6693-4768-A646-E17EE02A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869F-B483-4C9A-A69D-41DBB2FB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2D4D-4A8F-400E-90DD-284E6250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D4CF-813C-426C-8D9B-21AF5E43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3E44-9EFF-4537-8001-C805AC18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152-CF5E-456B-A886-575F2944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4DF-183D-4BF6-A1DB-EE9C634E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E10-2861-4EBA-9FA4-18BFFA33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268-C1AE-461F-B092-641C1CD8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E21-4E80-4F55-A4F1-98CC5E22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891-AAF2-4D83-A521-E79BD266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C13-4066-4A89-8100-A806E0CD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C47B-4861-4293-A495-D57078D1B64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98EF-81C8-4EE0-917E-EEAF35B5C3E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a50021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hapter 9:  Graphical User Interfaces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Presentation slides for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Java Software Solution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ndations of Program Desig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Ed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y John Lewis and William Loftu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Java Software Solutions is published by Addison-Wesley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Presentation slides are copyright 2000 by John Lewis and William Loftus. All rights reserved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Instructors using the textbook may use and modify these slides for pedagogical purposes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utt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UI buttons fall into various categori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ush button – a generic button that initiates some ac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heck box – a button that can be toggled on or off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adio buttons – a set of buttons that provide a set of mutually exclusive op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adio buttons must work as a group; only one can be toggled on at a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adio buttons are grouped using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uttonGrou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utt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sh buttons and radio buttons generate action events when pushed or toggl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eck boxes generat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tem state change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events when toggl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Quotes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419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QuotesControls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42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mbo Box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ombo bo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displays a particular option with a pull down menu from which the user can choose a different op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urrently selected option is shown in the combo bo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ombo box can b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ditab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so that the user can type their option directly into the bo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JukeBox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425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JukeBoxControls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426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ayout Manage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layout manager is an object that determines the manner in which components are displayed in a contain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are several predefined layout managers defined in the Java standard class library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09880" y="3475080"/>
            <a:ext cx="3300840" cy="1600200"/>
            <a:chOff x="3809880" y="3475080"/>
            <a:chExt cx="3300840" cy="1600200"/>
          </a:xfrm>
        </p:grpSpPr>
        <p:sp>
          <p:nvSpPr>
            <p:cNvPr id="135" name=""/>
            <p:cNvSpPr/>
            <p:nvPr/>
          </p:nvSpPr>
          <p:spPr>
            <a:xfrm>
              <a:off x="3809880" y="3475080"/>
              <a:ext cx="533520" cy="160020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9320" y="3981600"/>
              <a:ext cx="23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Defined in the AW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09880" y="5334120"/>
            <a:ext cx="2954520" cy="685800"/>
            <a:chOff x="3809880" y="5334120"/>
            <a:chExt cx="2954520" cy="685800"/>
          </a:xfrm>
        </p:grpSpPr>
        <p:sp>
          <p:nvSpPr>
            <p:cNvPr id="138" name=""/>
            <p:cNvSpPr/>
            <p:nvPr/>
          </p:nvSpPr>
          <p:spPr>
            <a:xfrm>
              <a:off x="3809880" y="5334120"/>
              <a:ext cx="533520" cy="68580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8960" y="541008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Defined in Sw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371600" y="3475080"/>
            <a:ext cx="205740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low Lay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order Lay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ard Lay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rid Lay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ridBag Lay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68720" y="5334120"/>
            <a:ext cx="19029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ox Lay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verlay Lay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ayout Manage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ry container has a default layout manager, but we can also explicitly set the layout manager for a contain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layout manager has its own particular rules governing how the components will be arrang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me layout managers pay attention to a component's preferred size or alignment, and others do no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layout managers attempt to adjust the layout as components are added and as containers are resiz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low Layou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flow layout puts as many components on a row as possible, then moves to the next row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ows are created as needed to accommodate all of the compon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onents are displayed in the order they are added to the contain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horizontal and vertical gaps between the components can be explicitly se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order Layou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border layout defines five areas into which components can be add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362320" y="2590920"/>
            <a:ext cx="4724280" cy="2514600"/>
            <a:chOff x="2362320" y="2590920"/>
            <a:chExt cx="4724280" cy="2514600"/>
          </a:xfrm>
        </p:grpSpPr>
        <p:sp>
          <p:nvSpPr>
            <p:cNvPr id="149" name=""/>
            <p:cNvSpPr/>
            <p:nvPr/>
          </p:nvSpPr>
          <p:spPr>
            <a:xfrm>
              <a:off x="2362320" y="2590920"/>
              <a:ext cx="4724280" cy="251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2080" y="2646720"/>
              <a:ext cx="4604400" cy="4467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932"/>
                  </a:solidFill>
                  <a:latin typeface="Times New Roman"/>
                </a:rPr>
                <a:t>Nort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22080" y="4602600"/>
              <a:ext cx="4604400" cy="447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932"/>
                  </a:solidFill>
                  <a:latin typeface="Times New Roman"/>
                </a:rPr>
                <a:t>Sout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59080" y="3149640"/>
              <a:ext cx="2930040" cy="1396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932"/>
                  </a:solidFill>
                  <a:latin typeface="Times New Roman"/>
                </a:rPr>
                <a:t>Cen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9240" y="3149640"/>
              <a:ext cx="776880" cy="1396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932"/>
                  </a:solidFill>
                  <a:latin typeface="Times New Roman"/>
                </a:rPr>
                <a:t>Ea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22080" y="3149640"/>
              <a:ext cx="777240" cy="1396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932"/>
                  </a:solidFill>
                  <a:latin typeface="Times New Roman"/>
                </a:rPr>
                <a:t>W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order Layou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area displays one component (which could be another container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of the four outer areas enlarge as needed to accommodate the component added to th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nothing is added to the outer areas, they take up no space and other areas expand to fill the voi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enter area expands to fill space as need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ox Layou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box layout organizes components either horizontally (in one row) or vertically (in one column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ecial rigid areas can be added to force a certain amount of spacing between compon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combining multiple containers using box layout, many different configurations can be crea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ultiple containers with box layouts are often preferred to one container that uses the more complicated gridbag layout manag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pecial Featur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wing components offer a variety of other featur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ool tip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rovide a short pop-up description when the mouse cursor rests momentarily on a compon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order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round each component can be stylized in various wa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eyboard shortcuts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nemonic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an be added to graphical objects such as butt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47240"/>
            <a:ext cx="7999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Graphical User Interfa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now explore the creation of graphical user interfaces in more detai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pter 9 focuses 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UI infrastructur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ntain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using graphics in applica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wing compone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ayout manag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70F-B967-43C4-ABAC-3128253BD7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GUI Desig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addition to the tools necessary to put a GUI together, we must also focus on solving the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GUI designer should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Know the user and their need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event user errors whenever possibl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ptimize user abilities and make information readily availabl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e consistent with placement of components and color schem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GUI Overview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create a Java GUI, we need to understand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ve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isten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ntain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mpone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ayout manag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pecial featur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Chapters 5 and 7 we introduced events and listeners, as well as GUI components from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java.aw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ackag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this chapter we will focus on Swing compon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WT vs. Sw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rly Java development used graphic classes defined in the Abstract Windowing Toolkit (AW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Java 2, Swing classes were introduc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ny AWT components have improved Swing counterpar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the AWT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utt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corresponds to a more versatile Swing class calle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JButt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wever, Swing does not generally replace the AWT; we still use AWT events and the underlying AWT event processing mod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ntaine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ontainer is a special component that can hold other compon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AWT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pple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, as well as the Swing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JApple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, are contain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ther containers includ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anel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ram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ialog box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Graphics in Applica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pplets must be displayed through a browser or through the appletview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milarly, a panel must be displayed within the context of another contain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frame is a container that is free standing and can be positioned anywhere on the scree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rames give us the ability to do graphics and GUIs through applications (not just applet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indow Eve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cause a frame is a free standing window, we must now addres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indow ev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ecifically, we must be able to handle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indow clos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ev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rames have an icon in the corner of the window to close i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ing it will cause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windowClos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of a window listener object to be invok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GenericWindowListener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412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ShowFrames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413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wing Compone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are various Swing GUI components that we can incorporate into our softwar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abels (including images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ext fields and text area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utt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heck box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adio butt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enu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mbo box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nd many more…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sing the proper components for the situation is an important part of GUI desig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abels and Image Ic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label is used to provide information to the user or to add decoration to the GUI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wing label is defined by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JLabe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can incorporate an image defined by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mageIc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alignment and relative positioning of the text and image of a label can be explicitly se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ShowLabels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416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abelDemo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417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John Lewis</dc:creator>
  <dc:description/>
  <dc:language>en-US</dc:language>
  <cp:lastModifiedBy>Sharon Lewis</cp:lastModifiedBy>
  <dcterms:modified xsi:type="dcterms:W3CDTF">2000-09-04T23:54:46Z</dcterms:modified>
  <cp:revision>23</cp:revision>
  <dc:subject/>
  <dc:title>Chapter 2:  Using Objects </dc:title>
</cp:coreProperties>
</file>