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0C0-453D-482C-9CC9-33D5F847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590-C979-488E-AB86-9B858AAD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27A-7A43-4AD8-98BC-EF401F59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E0A-6F61-43A6-AD2C-645F126B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1D08-F29A-4461-B7CB-C23F8E99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F9B0-BC36-46BC-877F-1B1269A2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861D-A14E-434F-9B27-7C584139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15DC-1F74-4DC9-AF10-62650752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7123-9DB9-49B8-897C-BC0493F3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9722-ADBB-41F3-B433-345A9A4F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6708-7BC8-44FD-BD12-E06C77E4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DDD-EAC7-4199-B094-8DDF91BA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3A28-916C-473D-8750-CD289D87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D022-3727-400B-B4F6-CCE93126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1288-81E8-48DB-840E-2DF7F9B3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379D-F112-4C9A-82D4-66511A0D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90B7-67B2-41FF-9C39-61CFCD3A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4D3-0D94-4882-8835-32DEFC3F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0E8-FF2E-4536-9018-66EFE815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1AD-CCFF-4FCB-A3C0-FB860BC3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D0F-5107-4B5F-B4D6-29FFEE70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843-3AC7-4C70-BF4C-99721EA0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837-BAA7-46F5-ACCB-B1C3D013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C6D-C403-4FE4-BCF6-EEE2DC6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6B63-6FBE-4F30-95F4-59D9126D955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8AC4-02B3-4676-BF74-C4E4B3E79E0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examples/chap08/Zero.java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examples/chap08/ProductCodes.java" TargetMode="External"/><Relationship Id="rId2" Type="http://schemas.openxmlformats.org/officeDocument/2006/relationships/hyperlink" Target="file:///../examples/chap08/ProductCodes.java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apter 8:  Exceptions and I/O Streams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Presentation slides fo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Java Software Solution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ndations of Program Desig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Ed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y John Lewis and William Loftu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Java Software Solutions is published by Addison-Wesley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Presentation slides are copyright 2000 by John Lewis and William Loftus. All rights reserved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Instructors using the textbook may use and modify these slides for pedagogical purposes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ecked Excep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xception is eith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hecke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ncheck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hecked exception can only be thrown within a try block or within a method that is designated to throw that excep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mpiler will complain if a checked exception is not handled appropriate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unchecked exception does not require explicit handling, though it could be processed that w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37A-A621-47D3-AD63-245F20E7E1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/O Stream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tream is a sequence of bytes that flow from a source to a destin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a program, we read information from an input stream and write information to an output stre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gram can manage multiple streams at a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java.io package contains many classes that allow us to define various streams with specific characteristic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/O Stream Categori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lasses in the I/O package divide input and output streams into other categori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/O stream is either 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character 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which deals with text data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byte 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which deal with byte data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/O stream is also either 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ata 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which acts as either a source or destina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rocessing 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which alters or manages information in the strea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andard I/O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three standard I/O stream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tandard inpu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– defined by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ystem.i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tandard outpu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– defined by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ystem.ou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tandard error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– defined by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ystem.er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us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ystem.ou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when we execut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intl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tat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ystem.i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declared to be a generic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nputStrea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ference, and therefore usually must be mapped to a more useful stream with specific characteristic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Keyboard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Keyboar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was written by the authors of your textbook to facilitate reading data from standard inpu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w we can examine the processing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Keyboar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in more detai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Keyboar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clares a useful standard input strea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andles exceptions that may be throw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arses input lines into separate valu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verts input stings into the expected typ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andles conversion problem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Standard Input Stream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Keyboar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declares the following input strea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putStreamReader isr =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ew InputStreamReader (System.in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ufferedReader stdin = new BufferedReader (isr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nputStreamRead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 converts the original byte stream into a character stre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ufferedRead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 allows us to use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readLin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to get an entire line of inpu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ext Fil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formation can be read from and written to text files by declaring and using the correct I/O strea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ileRead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represents an input file containing character dat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nventory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397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nventoryItem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0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ileWrit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represents a text output fi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estData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402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bject Serializa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bject serializ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he act of saving an object, and its current state, so that it can be used again in another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idea that an object can “live”  beyond the program that created it i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ersiste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bject serialization is accomplished using the classe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ectOutputStrea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ectInputStre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rialization takes into account any other objects that are referenced by an object being serialized, saving them to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122040"/>
            <a:ext cx="8304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ceptions and I/O Stream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now further explore two related topics: exceptions and input / output strea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pter 8 focuses 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try-catch state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xception propaga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reating and throwing excep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ypes of I/O stream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Keyboard class process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ading and writing text fil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bject serializa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4AC-F01E-4FF8-9709-D14666041E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cep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xcep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n object that describes an unusual or erroneous situ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ceptions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hrow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y a program, and may b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augh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ndle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y another part of the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gram can therefore be separated into a normal execution flow and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xception execution flow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rr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lso represented as an object in Java, but usually represents a unrecoverable situation and should not be caugh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85A-C6F6-40E8-8C47-44CC629A7B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ception Handl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gram can deal with an exception in one of three way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gnore i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andle it where it occu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andle it an another place in the progra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manner in which an exception is processed is an important design consider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C82-EE09-473B-BDDC-62A431077E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ception Handl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n exception is ignored by the program, the program will terminate and produce an appropriate messa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message include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all stack tra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at indicates on which line the exception occurr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all stack trace also shows the method call trail that lead to the execution of the offending lin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Zero.java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37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C21-44E6-45DF-B5E4-7CA3943ED4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try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process an exception when it occurs, the line that throws the exception is executed within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ry bloc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try block is followed by one or mo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atc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uses, which contain code to process an excep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catch clause has an associated exception typ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an exception occurs, processing continues at the first catch clause that matches the exception typ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ProductCodes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38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C8D-6052-4DA3-906E-F13215E84C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finally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Claus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try statement can have an optional clause designated by the reserved wor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inal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no exception is generated, the statements in the finally clause are executed after the statements in the try block comple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so, if an exception is generated, the statements in the finally clause are executed after the statements in the appropriate catch clause comple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25E-4EA7-452B-B7BF-87776D100B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ception Propaga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it is not appropriate to handle the exception where it occurs, it can be handled at a higher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ception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ropagat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up through the method calling hierarchy until they are caught and handled or until they reach the outermost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try block that contains a call to a method in which an exception is thrown can be used to catch that excep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opagation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38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ExceptionScope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385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630-F311-491C-9998-EAAD332E36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throw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grammer can define an exception by extending the appropriate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ceptions are thrown using the throw stat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reatingExceptions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388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utOfRangeException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38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sually a throw statement is nested inside an if statement that evaluates the condition to see if the exception should be throw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229-8F3F-4F78-A93E-62E759FDC3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John Lewis</dc:creator>
  <dc:description/>
  <dc:language>en-US</dc:language>
  <cp:lastModifiedBy>John Lewis</cp:lastModifiedBy>
  <dcterms:modified xsi:type="dcterms:W3CDTF">2000-09-05T12:40:54Z</dcterms:modified>
  <cp:revision>21</cp:revision>
  <dc:subject/>
  <dc:title>Chapter 2:  Using Objects </dc:title>
</cp:coreProperties>
</file>