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3E4-CF0F-4320-B3C3-0308A278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F70-CA36-45FA-88B8-D57415C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5F3-C1E1-47AE-97E6-95EEBB6F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A76-D3AA-4C5C-9383-9E1BA872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2D1E-56E3-4DBA-BD9C-4D971AE8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6EBD-D3D9-4A73-8103-30ED50A8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A80C-6443-493B-8E75-7B04A726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B207-0865-4FD9-A862-CED728A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E5A0-78FE-4AB1-9963-56A9CE5F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8EDE-88CB-46FF-9756-3345C59A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F82C-ADEF-471B-9223-D508A8E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6EA-6FDA-44D7-A5AB-8E291C0E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2D58-7F3E-4BF2-888B-294C526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D637-E306-4600-922A-089B4E67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0D1D-33BD-4173-8F08-588CF23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B44F-772B-4A3C-8C3A-B957263A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AA3-0327-407C-A37B-C9821C1D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047-41CF-4A97-AA6E-0855BB42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287-0E23-4AD2-8B14-DB18BD6F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AE0-A182-43CE-8E74-A30935F4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A6F-708A-49F7-AAAA-912CE63F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69C-68F1-471F-906A-A731B170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ACB-DDDB-4212-9082-50A1B60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4BC-5CAB-4344-A42F-DB95980C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1CA6-A5B6-4231-9F48-975C4AE1A4A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D6D7-9A73-4AEA-A544-DD4CFFE6266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examples/chap02/Countdown.java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2:  Objects and Primitive Data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Variab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ari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name for a location in memo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variable must b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clar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specifying the variable's name and the type of information that will be held in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6400" y="37339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tot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6400" y="43434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count, temp, res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32320" y="5105520"/>
            <a:ext cx="58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ltiple variables can be created in one decla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0160" y="2819520"/>
            <a:ext cx="1373040" cy="838080"/>
            <a:chOff x="1370160" y="2819520"/>
            <a:chExt cx="1373040" cy="838080"/>
          </a:xfrm>
        </p:grpSpPr>
        <p:sp>
          <p:nvSpPr>
            <p:cNvPr id="146" name=""/>
            <p:cNvSpPr/>
            <p:nvPr/>
          </p:nvSpPr>
          <p:spPr>
            <a:xfrm>
              <a:off x="1370160" y="2819520"/>
              <a:ext cx="119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data ty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3200400"/>
              <a:ext cx="22860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733560" y="2819520"/>
            <a:ext cx="1805400" cy="838080"/>
            <a:chOff x="3733560" y="2819520"/>
            <a:chExt cx="1805400" cy="838080"/>
          </a:xfrm>
        </p:grpSpPr>
        <p:sp>
          <p:nvSpPr>
            <p:cNvPr id="149" name=""/>
            <p:cNvSpPr/>
            <p:nvPr/>
          </p:nvSpPr>
          <p:spPr>
            <a:xfrm>
              <a:off x="3808440" y="281952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variable n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33560" y="3200400"/>
              <a:ext cx="1522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B4F-B405-4FC6-83AF-B22AF79903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Variab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variable can be given an initial value in the declar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5053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a variable is referenced in a program, its current value is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572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PianoKeys.java (page 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4120" y="2209680"/>
            <a:ext cx="39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base = 32, max = 14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ssign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ssignment stat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nges the value of a vari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ssignment operator is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ig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3240" y="2438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otal =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429000" y="2895120"/>
            <a:ext cx="990720" cy="305280"/>
            <a:chOff x="3429000" y="2895120"/>
            <a:chExt cx="990720" cy="305280"/>
          </a:xfrm>
        </p:grpSpPr>
        <p:sp>
          <p:nvSpPr>
            <p:cNvPr id="160" name=""/>
            <p:cNvSpPr/>
            <p:nvPr/>
          </p:nvSpPr>
          <p:spPr>
            <a:xfrm>
              <a:off x="4419720" y="2895480"/>
              <a:ext cx="0" cy="304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429000" y="3200400"/>
              <a:ext cx="99072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429000" y="2895120"/>
              <a:ext cx="0" cy="304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09480" y="48006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can only assign a value to a variable that is consistent with the variable's declared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4290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expression on the right is evaluated and the result is stored in the variable on the 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343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value that was i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overwrit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56386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Geometry.java (page 6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FA8-10B7-4E32-8267-78A7475BDE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sta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onstant is an identifier that is similar to a variable except that it holds one value for its entire existe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mpiler will issue an error if you try to change a consta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Java, we u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ifier to declare a consta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nal int MIN_HEIGHT = 69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ant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ive names to otherwise unclear literal valu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acilitate changes to the cod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event inadvertent erro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imitive Data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exactly eight primitive data types in 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1718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 of them represent integ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yt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lo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1718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of them represent floating point numb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1718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 of them represents charact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ha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1718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one of them represents boolean valu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umeric Primitive Data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difference between the various numeric primitive types is their size, and therefore the values they can stor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3480" y="2362320"/>
            <a:ext cx="6882120" cy="2836800"/>
            <a:chOff x="1293480" y="2362320"/>
            <a:chExt cx="6882120" cy="2836800"/>
          </a:xfrm>
        </p:grpSpPr>
        <p:sp>
          <p:nvSpPr>
            <p:cNvPr id="174" name=""/>
            <p:cNvSpPr/>
            <p:nvPr/>
          </p:nvSpPr>
          <p:spPr>
            <a:xfrm>
              <a:off x="1293480" y="2362320"/>
              <a:ext cx="92124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Ty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y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h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o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lo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ou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82920" y="2362320"/>
              <a:ext cx="102168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tor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8 b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6 b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32 b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64 b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32 b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64 b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49840" y="2362320"/>
              <a:ext cx="432576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in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-12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-32,76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-2,147,483,64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&lt; -9 x 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/- 3.4 x 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38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with 7 significant dig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/- 1.7 x 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308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with 15 significant dig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75360" y="2362320"/>
              <a:ext cx="16570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ax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2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32,76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2,147,483,64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&gt; 9 x 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ract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cha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ariable stores a single character from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nicode character s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haracter s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ordered list of characters, and each character corresponds to a unique numb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nicode character set uses sixteen bits per character, allowing for 65,536 unique charac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an international character set, containing symbols and characters from many world languag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racter literals are delimited by single quot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'a'   'X'    '7'    '$'    ','    '\n'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63D-2700-4369-86B7-0C61A1DF1B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ract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SCII character s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older and smaller than Unicode, but is still quite popula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SCII characters are a subset of the Unicode character set, including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442880" y="3200400"/>
            <a:ext cx="5959080" cy="2287080"/>
            <a:chOff x="1442880" y="3200400"/>
            <a:chExt cx="5959080" cy="2287080"/>
          </a:xfrm>
        </p:grpSpPr>
        <p:sp>
          <p:nvSpPr>
            <p:cNvPr id="183" name=""/>
            <p:cNvSpPr/>
            <p:nvPr/>
          </p:nvSpPr>
          <p:spPr>
            <a:xfrm>
              <a:off x="1442880" y="3200400"/>
              <a:ext cx="23659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ppercase let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wercase let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unctu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gi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cial symb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ntrol charac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69040" y="3200400"/>
              <a:ext cx="29329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, B, C, 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, b, c, 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iod, semi-colon, 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, 1, 2, 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&amp;, |, \, 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rriage return, tab, 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126-F7DA-4847-A9F9-CC93402D4D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oolea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boolea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alue represents a true or false condi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oolean can also be used to represent any two states, such as a light bulb being on or of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served words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tru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fals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e the only valid values for a boolean typ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 done = false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8E4-C6A6-4009-9484-5CAE3A1EAD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rithmetic Express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pres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combination of operators and operan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rithmetic expression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ute numeric results and make use of the arithmetic operato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20960" y="2743200"/>
            <a:ext cx="317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i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0292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either or both operands to an arithmetic operator are floating point, the result is a floa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s and Primitive Data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now explore some more fundamental programming concep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2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edefined 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imitive dat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declaration and use of variabl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pressions and operator preceden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lass librari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Java apple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rawing shap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660-3469-48EB-8BF4-0FB3809C7F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ivision and Remainde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operands to the division operator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/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are integers, the result is an integer (the fractional part is discarded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3733920"/>
            <a:ext cx="83059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mainder operator (%) returns the remainder after dividing the second operand into the fi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1800" y="236232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4 / 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equa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5040" y="297180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8 / 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equa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5400" y="2362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9560" y="297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08120" y="487692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4 % 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equa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1360" y="548640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8 % 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equa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21720" y="4876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05520" y="5486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perator Precede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rators can be combined into complex express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sult  =  total + count / max - offset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rators have a well-defined precedence which determines the order in which they are evalu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plication, division, and remainder are evaluated prior to addition, subtraction, and string concate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ithmetic operators with the same precedence are evaluated from left to righ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heses can always be used to force the evaluation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perator Precede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at is the order of evaluation in the following expressions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3040" y="23623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 + b + c + d +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27432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27432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3280" y="23623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 + b * c - d /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3600" y="358128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 / (b + c) - d %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39625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39625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9625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9625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46160" y="48006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 / (b * (c + (d - e)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49640" y="51814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51814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99080" y="5181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36960" y="51814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ssignment Revisite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ssignment operator has a lower precedence than the arithmetic operat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44400" y="2438280"/>
            <a:ext cx="42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rst the expression on the right h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ide of the = operator is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2000" y="5181480"/>
            <a:ext cx="34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n the result is stored in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ariable on the left hand s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6920" y="335268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wer  =  sum / 4 + MAX * lowes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8098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8098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38098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38098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 rot="16200000">
            <a:off x="5219280" y="3009240"/>
            <a:ext cx="304920" cy="3276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1"/>
          </p:cNvCxnSpPr>
          <p:nvPr/>
        </p:nvCxnSpPr>
        <p:spPr>
          <a:xfrm flipV="1" rot="16200000">
            <a:off x="3694680" y="3140280"/>
            <a:ext cx="381600" cy="2970720"/>
          </a:xfrm>
          <a:prstGeom prst="bentConnector4">
            <a:avLst>
              <a:gd name="adj1" fmla="val -59962"/>
              <a:gd name="adj2" fmla="val 100145"/>
            </a:avLst>
          </a:prstGeom>
          <a:ln w="31680">
            <a:solidFill>
              <a:srgbClr val="ff33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ssignment Revisite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ight and left hand sides of an assignment statement can contain the same vari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58960" y="2575080"/>
            <a:ext cx="28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rst, one is added to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iginal value of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55320" y="487692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n the result is stored back into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overwriting the original 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70120" y="341316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unt  =  count + 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 rot="16200000">
            <a:off x="4839840" y="3526560"/>
            <a:ext cx="304920" cy="1295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2" idx="1"/>
          </p:cNvCxnSpPr>
          <p:nvPr/>
        </p:nvCxnSpPr>
        <p:spPr>
          <a:xfrm flipV="1" rot="16200000">
            <a:off x="3867480" y="3219840"/>
            <a:ext cx="381600" cy="1865880"/>
          </a:xfrm>
          <a:prstGeom prst="bentConnector4">
            <a:avLst>
              <a:gd name="adj1" fmla="val -59962"/>
              <a:gd name="adj2" fmla="val 99826"/>
            </a:avLst>
          </a:prstGeom>
          <a:ln w="31680">
            <a:solidFill>
              <a:srgbClr val="ff33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ata Convers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times it is convenient to convert data from one type to an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we may want to treat an integer as a floating point value during a comput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versions must be handled carefully to avoid losing inform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idening conversion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e safest because they tend to go from a small data type to a larger one (such as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arrowing conversion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lose information because they tend to go from a large data type to a smaller one (such as 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ata Convers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Java, data conversions can occur in three way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ssignment convers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ithmetic promo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st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ssignment conver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ccurs when a value of one type is assigned to a variable of an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ly widening conversions can happen via assig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rithmetic promo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appens automatically when operators in expressions convert their operan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ata Convers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ast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most powerful, and dangerous, technique for conve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th widening and narrowing conversions can be accomplished by explicitly casting a va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cast, the type is put in parentheses in front of the value being conver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re integers, but we want a floating point result when dividing them, we can cas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sult = (float) total / count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reating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variable either holds a primitive type, or it hold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fere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name can be used as a type to declare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bject reference vari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ing title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 object has been created with this declar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bject reference variable holds the address of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object itself must be created separat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reating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059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u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perator to create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1320" y="19652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itle = new String ("Java Software Solutions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46760" y="2971800"/>
            <a:ext cx="48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alls 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onstructo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special method that sets up the 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5376960" y="136440"/>
            <a:ext cx="457200" cy="5029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40384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reating an object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stant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4724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bject is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sta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particular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roduction to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itially, we can think of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s a collection of services that we can tell it to perform for u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ervices are defined by methods in a class that defines the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the Lincoln program, we invoked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.ou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8560" y="4191120"/>
            <a:ext cx="78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.out.println ("Whatever you are, be a good one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66680" y="4723920"/>
            <a:ext cx="1295640" cy="825840"/>
            <a:chOff x="1066680" y="4723920"/>
            <a:chExt cx="1295640" cy="825840"/>
          </a:xfrm>
        </p:grpSpPr>
        <p:sp>
          <p:nvSpPr>
            <p:cNvPr id="116" name=""/>
            <p:cNvSpPr/>
            <p:nvPr/>
          </p:nvSpPr>
          <p:spPr>
            <a:xfrm>
              <a:off x="1296720" y="5181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1600200" y="4190400"/>
              <a:ext cx="228600" cy="1295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16400" y="4648320"/>
            <a:ext cx="916920" cy="901440"/>
            <a:chOff x="2516400" y="4648320"/>
            <a:chExt cx="916920" cy="901440"/>
          </a:xfrm>
        </p:grpSpPr>
        <p:sp>
          <p:nvSpPr>
            <p:cNvPr id="119" name=""/>
            <p:cNvSpPr/>
            <p:nvPr/>
          </p:nvSpPr>
          <p:spPr>
            <a:xfrm>
              <a:off x="2516400" y="518148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metho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71800" y="464832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09880" y="4800600"/>
            <a:ext cx="4495680" cy="1176120"/>
            <a:chOff x="3809880" y="4800600"/>
            <a:chExt cx="4495680" cy="1176120"/>
          </a:xfrm>
        </p:grpSpPr>
        <p:sp>
          <p:nvSpPr>
            <p:cNvPr id="122" name=""/>
            <p:cNvSpPr/>
            <p:nvPr/>
          </p:nvSpPr>
          <p:spPr>
            <a:xfrm>
              <a:off x="4191480" y="5334120"/>
              <a:ext cx="371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Information provided to the metho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imes New Roman"/>
                </a:rPr>
                <a:t>(parameter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5867280" y="2743200"/>
              <a:ext cx="380880" cy="44956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17000 h 4495680"/>
                <a:gd name="textAreaBottom" fmla="*/ 437868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5"/>
                  </a:lnTo>
                  <a:cubicBezTo>
                    <a:pt x="10800" y="9755"/>
                    <a:pt x="5400" y="10655"/>
                    <a:pt x="0" y="10655"/>
                  </a:cubicBezTo>
                  <a:cubicBezTo>
                    <a:pt x="5400" y="10655"/>
                    <a:pt x="10800" y="11555"/>
                    <a:pt x="10800" y="1245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B59-4BA8-4D57-BFF6-B471812B33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reating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strings are so common, we don't have to u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perator to create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itle = "Java Software Solutions"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is special syntax that only works for string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ce an object has been instantiated, we can use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ot opera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invoke its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itle.length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ring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has several methods that are useful for manipulating string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of the method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turn a valu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such as an integer or a new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the list o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s on page 75 and in Appendix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StringMutation.java (page 7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ass Librari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ass librar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collection of classes that we can use when developing progr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i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ava standard class librar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t is part of any Java development enviro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classes are not part of the Java language per se, but we rely on them heavi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and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are part of the Java standard class libr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class libraries can be obtained through third party vendors, or you can create them yoursel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ackag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lasses of the Java standard class library are organized into packag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 of the packages in the standard class library ar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8120" y="2819520"/>
            <a:ext cx="7817040" cy="2547360"/>
            <a:chOff x="1068120" y="2819520"/>
            <a:chExt cx="7817040" cy="2547360"/>
          </a:xfrm>
        </p:grpSpPr>
        <p:sp>
          <p:nvSpPr>
            <p:cNvPr id="268" name=""/>
            <p:cNvSpPr/>
            <p:nvPr/>
          </p:nvSpPr>
          <p:spPr>
            <a:xfrm>
              <a:off x="1068120" y="2833560"/>
              <a:ext cx="18572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ack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java.la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java.app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java.aw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javax.sw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java.n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java.uti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08480" y="2819520"/>
              <a:ext cx="54766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urpo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General sup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reating applets for the we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Graphics and graphical user interfa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dditional graphics capabilities and compon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work commun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Utilit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import Declar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you want to use a class from a package, you could use it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ully qualified na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java.util.Rando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r you 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mpor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e class, then just use the class na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mport java.util.Random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import all classes in a particular package, you can use the * wildcard charac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mport java.util.*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import Declar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classes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.la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 are automatically imported into all progr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's why we didn't have to explicitly import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es in earlier progr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Rando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part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provides methods that generate pseudo-random numb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often hav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ca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hif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number into an appropriate range for a particular purpo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andomNumbers.java (page 8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ass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 methods can be invoked through the class name, instead of through an object of the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se methods ar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ass metho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atic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t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contains many static methods, providing various mathematical functions, such as absolute value, trigonometry functions, square root, etc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mp = Math.cos(90) + Math.sqrt(delta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Keyboard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boar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NOT part of the Java standard class libr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provided by the authors of the textbook to make reading input from the keyboard eas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tails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boar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are explored in Chapter 8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now we will simply make use of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boar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part of a package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s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contains several static methods for reading particular types of dat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Echo.java (page 8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Quadratic.java (page 8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rmatting Outpu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umberForm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has static methods that return a formatter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tCurrencyInstance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tPercentInstance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formatter object has a method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orm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t returns a string with the specified information in the appropriate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Price.java (page 8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rmatting Outpu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ecimalForm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can be used to format a floating point value in generic w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you can specify that the number be printed to three decimal pla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nstructor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ecimalForm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takes a string that represents a pattern for the formatted numb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CircleStats.java (page 9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println and print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.ou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provides another service as wel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is similar to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, except that it does not advance to the next lin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 anything printed after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tement will appear on the same lin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Countdown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5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FA6-803C-4704-9CBF-A2F569B7FA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pple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Java application is a stand-alone program with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(like the ones we've seen so far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Java program that is intended to transported over the web and executed using a web brows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pplet can also be executed using the appletviewer tool of the Java Software Development K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pplet doesn't have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tead, there are several special methods that serve specific purpo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ai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, for instance, is automatically executed and is used to draw the applets cont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pple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aint method accepts a parameter that is an object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define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raphics contex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n which we can draw shapes and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has several methods for drawing shap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lass that defines the appl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ten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e Applet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makes us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herita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 object-oriented concept explored in more detail in Chapter 7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Einstein.java (page 9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pple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pplet is embedded into an HTML file using a tag that references the bytecode file of the applet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actually the bytecode version of the program that is transported across the we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applet is executed by a Java interpreter that is part of the brows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rawing Shap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t's explore some of the methods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that draw shapes in more detai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hape can be filled or unfilled, depending on which method is invok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method parameters specify coordinates and siz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from Chapter 1 that the Java coordinate system has the origin in the upper left cor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shapes with curves, like an oval, are drawn by specifying it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ounding rectang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rc can be thought of as a section of an ov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rawing a Lin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94040" y="1397160"/>
            <a:ext cx="6906960" cy="3479760"/>
            <a:chOff x="1094040" y="1397160"/>
            <a:chExt cx="6906960" cy="3479760"/>
          </a:xfrm>
        </p:grpSpPr>
        <p:sp>
          <p:nvSpPr>
            <p:cNvPr id="292" name=""/>
            <p:cNvSpPr/>
            <p:nvPr/>
          </p:nvSpPr>
          <p:spPr>
            <a:xfrm>
              <a:off x="1447920" y="1752480"/>
              <a:ext cx="655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1752480"/>
              <a:ext cx="0" cy="31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928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9404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703520" y="1371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1772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17524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23623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73720" y="1371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30320" y="33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1752480"/>
            <a:ext cx="0" cy="1752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3505320"/>
            <a:ext cx="41907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982880" y="5029200"/>
            <a:ext cx="5057640" cy="1161000"/>
            <a:chOff x="1982880" y="5029200"/>
            <a:chExt cx="5057640" cy="1161000"/>
          </a:xfrm>
        </p:grpSpPr>
        <p:sp>
          <p:nvSpPr>
            <p:cNvPr id="305" name=""/>
            <p:cNvSpPr/>
            <p:nvPr/>
          </p:nvSpPr>
          <p:spPr>
            <a:xfrm>
              <a:off x="1982880" y="502920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age.drawLine (10, 20, 150, 45)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82880" y="579132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age.drawLine (150, 45, 10, 20)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55560" y="54100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905120" y="2362320"/>
            <a:ext cx="373356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rawing a Rectangl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094040" y="1397160"/>
            <a:ext cx="6906960" cy="3479760"/>
            <a:chOff x="1094040" y="1397160"/>
            <a:chExt cx="6906960" cy="3479760"/>
          </a:xfrm>
        </p:grpSpPr>
        <p:sp>
          <p:nvSpPr>
            <p:cNvPr id="311" name=""/>
            <p:cNvSpPr/>
            <p:nvPr/>
          </p:nvSpPr>
          <p:spPr>
            <a:xfrm>
              <a:off x="1447920" y="1752480"/>
              <a:ext cx="655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47920" y="1752480"/>
              <a:ext cx="0" cy="31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6928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9404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868400" y="52959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ge.drawRect (50, 20, 100, 4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17920" y="1371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72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17524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362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9520" y="2362320"/>
            <a:ext cx="2590560" cy="990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19520" y="3543480"/>
            <a:ext cx="2590560" cy="368280"/>
            <a:chOff x="2819520" y="3543480"/>
            <a:chExt cx="2590560" cy="368280"/>
          </a:xfrm>
        </p:grpSpPr>
        <p:sp>
          <p:nvSpPr>
            <p:cNvPr id="322" name=""/>
            <p:cNvSpPr/>
            <p:nvPr/>
          </p:nvSpPr>
          <p:spPr>
            <a:xfrm>
              <a:off x="2819520" y="3581280"/>
              <a:ext cx="2590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84400" y="35434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638680" y="2362320"/>
            <a:ext cx="411120" cy="990360"/>
            <a:chOff x="5638680" y="2362320"/>
            <a:chExt cx="411120" cy="990360"/>
          </a:xfrm>
        </p:grpSpPr>
        <p:sp>
          <p:nvSpPr>
            <p:cNvPr id="325" name=""/>
            <p:cNvSpPr/>
            <p:nvPr/>
          </p:nvSpPr>
          <p:spPr>
            <a:xfrm>
              <a:off x="5638680" y="2362320"/>
              <a:ext cx="0" cy="9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40480" y="27050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rawing an Ov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94040" y="1397160"/>
            <a:ext cx="6906960" cy="3479760"/>
            <a:chOff x="1094040" y="1397160"/>
            <a:chExt cx="6906960" cy="3479760"/>
          </a:xfrm>
        </p:grpSpPr>
        <p:sp>
          <p:nvSpPr>
            <p:cNvPr id="329" name=""/>
            <p:cNvSpPr/>
            <p:nvPr/>
          </p:nvSpPr>
          <p:spPr>
            <a:xfrm>
              <a:off x="1447920" y="1752480"/>
              <a:ext cx="655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7920" y="1752480"/>
              <a:ext cx="0" cy="31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6928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9404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160360" y="52959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ge.drawOval (175, 20, 50, 8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76480" y="1371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1772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17524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2362320"/>
            <a:ext cx="358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2362320"/>
            <a:ext cx="1600200" cy="19047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029200" y="4381560"/>
            <a:ext cx="1600200" cy="368280"/>
            <a:chOff x="5029200" y="4381560"/>
            <a:chExt cx="1600200" cy="368280"/>
          </a:xfrm>
        </p:grpSpPr>
        <p:sp>
          <p:nvSpPr>
            <p:cNvPr id="340" name=""/>
            <p:cNvSpPr/>
            <p:nvPr/>
          </p:nvSpPr>
          <p:spPr>
            <a:xfrm>
              <a:off x="5029200" y="441972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88000" y="4381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362320"/>
            <a:ext cx="411120" cy="1904760"/>
            <a:chOff x="6781680" y="2362320"/>
            <a:chExt cx="411120" cy="1904760"/>
          </a:xfrm>
        </p:grpSpPr>
        <p:sp>
          <p:nvSpPr>
            <p:cNvPr id="343" name=""/>
            <p:cNvSpPr/>
            <p:nvPr/>
          </p:nvSpPr>
          <p:spPr>
            <a:xfrm>
              <a:off x="6781680" y="2362320"/>
              <a:ext cx="0" cy="19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83480" y="31748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029200" y="2362320"/>
            <a:ext cx="1600200" cy="19047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160" y="3657600"/>
            <a:ext cx="12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ct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4038480"/>
            <a:ext cx="83808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Color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olor is defined in a Java program using an object created from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l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l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also contains several static predefined col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graphics context has a current foreground col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drawing surface has a background col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Snowman.java (page 99-10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bstra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bstrac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ides (or ignores) the right details at the right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bject is abstract in that we don't really have to think about its internal details in order to use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don't have to know how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works in order to invoke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uman being can only manage seven (plus or minus 2) pieces of information at one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t if we group information into chunks (such as objects) we can manage many complicated pieces at o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fore, we can write complex software by organizing it carefully into classes and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FCE-70DA-4110-8168-48F4E93924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tring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character string is an object in Java, defined by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string literal, delimited by double quotation marks, represents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ring concatenation opera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+) is used to append one string to the end of an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can also be used to append a number to a str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tring literal cannot be broken across two lines in a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Facts.java (page 5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525-CE31-4534-8966-0D9D82DBBF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ring Concaten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lus operator (+) is also used for arithmetic addi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unction that the + operator performs depends on the type of the information on which it operat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operands are strings, or if one is a string and one is a number, it performs string concate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operands are numeric, it adds th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+ operator is evaluated left to righ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heses can be used to force the operation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Addition.java (page 5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200-F60F-4105-B446-D006FEAFBC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scape Sequen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at if we wanted to print a double quote character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following line would confuse the compiler because it would interpret the second quote as the end of the str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ystem.out.println ("I said "Hello" to you."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scape seque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ries of characters that represents a special charac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scape sequence begins with a backslash character (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which indicates that the character(s) that follow should be treated in a special w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ystem.out.println ("I said \"Hello\" to you."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FE8-F1D9-45DC-9CB1-01A89FB4FD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scape Sequen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me Java escape sequenc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8305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oses.java (page 5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09320" y="1981080"/>
            <a:ext cx="3895920" cy="2838240"/>
            <a:chOff x="2209320" y="1981080"/>
            <a:chExt cx="3895920" cy="2838240"/>
          </a:xfrm>
        </p:grpSpPr>
        <p:sp>
          <p:nvSpPr>
            <p:cNvPr id="138" name=""/>
            <p:cNvSpPr/>
            <p:nvPr/>
          </p:nvSpPr>
          <p:spPr>
            <a:xfrm>
              <a:off x="2209320" y="1981080"/>
              <a:ext cx="202644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scape Sequ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\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\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\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\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\"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\'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\\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30880" y="1981080"/>
              <a:ext cx="16743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ea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ack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a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ew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rriage retur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ouble qu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ingle qu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ackslas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640-F5DE-4E77-BAF5-673B17C224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Sharon Lewis</cp:lastModifiedBy>
  <dcterms:modified xsi:type="dcterms:W3CDTF">2000-09-04T23:18:41Z</dcterms:modified>
  <cp:revision>27</cp:revision>
  <dc:subject/>
  <dc:title>Chapter 2:  Using Objects </dc:title>
</cp:coreProperties>
</file>