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83F-3D7F-4E67-B75B-F0142A63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33D4-BA63-4FAB-BA93-F2BB03CC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3038-5D65-41D7-AACA-5AE022E2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1A9B-4A2D-49AC-802A-8665F83B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32B4-A4C9-46E5-AE71-848F9492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FBA3-BB5B-4C5C-A5E4-7F540FC2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1AFF-B612-4F4D-B2ED-EC55B9CB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A84D-D0D9-4917-B642-A612E030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7A63-5AD3-4102-B4F1-7B99CD96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ACA9-AEE6-4E06-83E4-A5D3783E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A924-72D0-42E0-9631-C36EEBE3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57FC-1575-47E2-90A0-938EEDA4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FB07-AF3D-4B49-94EC-67192E7B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BD76-64BB-4869-B580-3A0D67A2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D501-BFF9-4523-A914-BB915BBD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2C30-2A52-4C7F-B861-1CCC61B1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E72F-E207-44F1-8DB9-8532F3AE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6E5E-1521-4A1E-9620-B5AE045B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8BF-C19F-40B5-BE52-151F66FB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32B-3F60-4E54-AEAE-FF9322CD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0628-75B5-4D6B-B31B-6C4989CA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C84-1FF6-4C4C-8606-650E0489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3340-B22B-4CC0-A576-0A5CCB27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F182-570D-4F82-BEF2-1E240B97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81080" y="4572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2" name="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6" name="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60AA-A9DC-41B4-ADA0-2CC2340AC2A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7" name="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2" name="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5AF7-8137-4BB7-B568-5169F99FFAB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a50021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examples/chap07/Messages.java" TargetMode="External"/><Relationship Id="rId2" Type="http://schemas.openxmlformats.org/officeDocument/2006/relationships/hyperlink" Target="file:///../examples/chap07/Thought.java" TargetMode="External"/><Relationship Id="rId3" Type="http://schemas.openxmlformats.org/officeDocument/2006/relationships/hyperlink" Target="file:///../examples/chap07/Advice.java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examples/chap07/Academia.java" TargetMode="External"/><Relationship Id="rId2" Type="http://schemas.openxmlformats.org/officeDocument/2006/relationships/hyperlink" Target="file:///../examples/chap07/Student.java" TargetMode="External"/><Relationship Id="rId3" Type="http://schemas.openxmlformats.org/officeDocument/2006/relationships/hyperlink" Target="file:///../examples/chap07/GradStudent.java" TargetMode="External"/><Relationship Id="rId4" Type="http://schemas.openxmlformats.org/officeDocument/2006/relationships/hyperlink" Target="file:///../examples/chap07/GradStudent.java" TargetMode="Externa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../examples/chap07/Firm.java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examples/chap07/Words.java" TargetMode="External"/><Relationship Id="rId2" Type="http://schemas.openxmlformats.org/officeDocument/2006/relationships/hyperlink" Target="file:///../examples/chap07/Book.java" TargetMode="External"/><Relationship Id="rId3" Type="http://schemas.openxmlformats.org/officeDocument/2006/relationships/hyperlink" Target="file:///../examples/chap07/Dictionary.java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examples/chap07/Words2.java" TargetMode="External"/><Relationship Id="rId2" Type="http://schemas.openxmlformats.org/officeDocument/2006/relationships/hyperlink" Target="file:///../examples/chap07/Book2.java" TargetMode="External"/><Relationship Id="rId3" Type="http://schemas.openxmlformats.org/officeDocument/2006/relationships/hyperlink" Target="file:///../examples/chap07/Dictionary2.java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hapter 7:  Inheritance 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Presentation slides for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Java Software Solution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undations of Program Desig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cond Edi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y John Lewis and William Loftu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Java Software Solutions is published by Addison-Wesley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Presentation slides are copyright 2000 by John Lewis and William Loftus. All rights reserved.</a:t>
            </a: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Instructors using the textbook may use and modify these slides for pedagogical purposes.</a:t>
            </a: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Overriding Method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child class c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overrid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he definition of an inherited method in favor of its ow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 is, a child can redefine a method that it inherits from its par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new method must have the same signature as the parent's method, but can have different code in the bod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type of the object executing the method determines which version of the method is invok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650-28AB-4C1D-A079-CC038E809A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Overriding Method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"/>
              </a:rPr>
              <a:t>Messages.java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(page 332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"/>
              </a:rPr>
              <a:t>Thought.java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(page 333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3"/>
              </a:rPr>
              <a:t>Advice.java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(page 334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 that a parent method can be explicitly invoked using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up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referen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a method is declared with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fina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odifier, it cannot be overridde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oncept of overriding can be applied to data (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hadowing variable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, there is generally no need for i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Overloading vs. Overrid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n't confuse the concepts of overloading and overrid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verloading deals with multiple methods in the same class with the same name but different signatur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verriding deals with two methods, one in a parent class and one in a child class, that have the same signatur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verloading lets you define a similar operation in different ways for different dat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verriding lets you define a similar operation in different ways for different object typ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F827-3CEA-4BF6-B95B-FF57B538D5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ass Hierarchi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child class of one parent can be the parent of another child, formin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lass hierarchi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143000" y="2438280"/>
            <a:ext cx="6552720" cy="3124080"/>
            <a:chOff x="1143000" y="2438280"/>
            <a:chExt cx="6552720" cy="3124080"/>
          </a:xfrm>
        </p:grpSpPr>
        <p:sp>
          <p:nvSpPr>
            <p:cNvPr id="140" name=""/>
            <p:cNvSpPr/>
            <p:nvPr/>
          </p:nvSpPr>
          <p:spPr>
            <a:xfrm>
              <a:off x="3771720" y="2438280"/>
              <a:ext cx="1752120" cy="609480"/>
            </a:xfrm>
            <a:prstGeom prst="flowChartAlternateProcess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Busine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52480" y="3657240"/>
              <a:ext cx="2590200" cy="609840"/>
            </a:xfrm>
            <a:prstGeom prst="flowChartAlternateProcess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RetailBusine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1" idx="0"/>
              <a:endCxn id="140" idx="2"/>
            </p:cNvCxnSpPr>
            <p:nvPr/>
          </p:nvCxnSpPr>
          <p:spPr>
            <a:xfrm flipV="1">
              <a:off x="3047760" y="3047040"/>
              <a:ext cx="1600560" cy="610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</p:cxnSp>
        <p:sp>
          <p:nvSpPr>
            <p:cNvPr id="143" name=""/>
            <p:cNvSpPr/>
            <p:nvPr/>
          </p:nvSpPr>
          <p:spPr>
            <a:xfrm>
              <a:off x="5105160" y="3657240"/>
              <a:ext cx="2590560" cy="609840"/>
            </a:xfrm>
            <a:prstGeom prst="flowChartAlternateProcess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ServiceBusine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43000" y="4952880"/>
              <a:ext cx="1752480" cy="609480"/>
            </a:xfrm>
            <a:prstGeom prst="flowChartAlternateProcess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KMa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1440" y="4952880"/>
              <a:ext cx="1752480" cy="609480"/>
            </a:xfrm>
            <a:prstGeom prst="flowChartAlternateProcess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Macy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24200" y="4952880"/>
              <a:ext cx="1752480" cy="609480"/>
            </a:xfrm>
            <a:prstGeom prst="flowChartAlternateProcess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Kink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7" name=""/>
            <p:cNvCxnSpPr>
              <a:stCxn id="144" idx="0"/>
              <a:endCxn id="141" idx="2"/>
            </p:cNvCxnSpPr>
            <p:nvPr/>
          </p:nvCxnSpPr>
          <p:spPr>
            <a:xfrm flipV="1">
              <a:off x="2019240" y="4266360"/>
              <a:ext cx="1028520" cy="686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</p:cxnSp>
        <p:cxnSp>
          <p:nvCxnSpPr>
            <p:cNvPr id="148" name=""/>
            <p:cNvCxnSpPr>
              <a:stCxn id="145" idx="0"/>
              <a:endCxn id="141" idx="2"/>
            </p:cNvCxnSpPr>
            <p:nvPr/>
          </p:nvCxnSpPr>
          <p:spPr>
            <a:xfrm flipH="1" flipV="1">
              <a:off x="3047400" y="4266360"/>
              <a:ext cx="800640" cy="686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</p:cxnSp>
        <p:cxnSp>
          <p:nvCxnSpPr>
            <p:cNvPr id="149" name=""/>
            <p:cNvCxnSpPr>
              <a:stCxn id="146" idx="0"/>
              <a:endCxn id="143" idx="2"/>
            </p:cNvCxnSpPr>
            <p:nvPr/>
          </p:nvCxnSpPr>
          <p:spPr>
            <a:xfrm flipV="1">
              <a:off x="6400080" y="4266360"/>
              <a:ext cx="1080" cy="686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</p:cxnSp>
        <p:cxnSp>
          <p:nvCxnSpPr>
            <p:cNvPr id="150" name=""/>
            <p:cNvCxnSpPr>
              <a:stCxn id="143" idx="0"/>
              <a:endCxn id="140" idx="2"/>
            </p:cNvCxnSpPr>
            <p:nvPr/>
          </p:nvCxnSpPr>
          <p:spPr>
            <a:xfrm flipH="1" flipV="1">
              <a:off x="4647240" y="3047040"/>
              <a:ext cx="1752840" cy="610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DB55-D5CA-4D15-969C-DCE5F8DA7F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ass Hierarchi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wo children of the same parent are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ibling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ood class design puts all common features as high in the hierarchy as is reason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inherited member is continually passed down the lin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ass hierarchies often have to be extended and modified to keep up with changing nee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 is no single class hierarchy that is appropriate for all situ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58F1-9372-42CD-B1CB-6170E1BF4D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ccffff"/>
                </a:solidFill>
                <a:latin typeface="Courier New"/>
              </a:rPr>
              <a:t>Object</a:t>
            </a: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 Clas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class calle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Objec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defined in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java.la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ackage of the Java standard class librar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l classes are derived from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Objec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a class is not explicitly defined to be the child of an existing class, it is assumed to be the child of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Objec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Objec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is therefore the ultimate root of all class hierarchi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914-2771-4478-9563-376902C723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ccffff"/>
                </a:solidFill>
                <a:latin typeface="Courier New"/>
              </a:rPr>
              <a:t>Object</a:t>
            </a: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 Clas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Objec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contains a few useful methods, which are inherited by all class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o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 is defined in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Objec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very time we have define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o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we have actually been overriding i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o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 in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Objec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is defined to return a string that contains the name of the object’s class and a hash val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ccffff"/>
                </a:solidFill>
                <a:latin typeface="Courier New"/>
              </a:rPr>
              <a:t>Object</a:t>
            </a: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 Clas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’s why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rintl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 can call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o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for any object that is passed to it – all objects are guaranteed to have 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o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 via inheritan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"/>
              </a:rPr>
              <a:t>Academia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339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"/>
              </a:rPr>
              <a:t>Student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340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3"/>
              </a:rPr>
              <a:t>GradStudent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4"/>
              </a:rPr>
              <a:t>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341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equals method of the Object class determines if two references are alias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You may choose to overrid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equal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o define equality in some other way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bstract Class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abstract class is a placeholder in a class hierarchy that represents a generic concep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abstract class cannot be instantia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 use the modifier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bstrac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n the class header to declare a class as abstra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abstract class often contains abstract methods (like an interface does), though it doesn’t have t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bstract Class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hild of an abstract class must override the abstract methods of the parent, or it too will be considered abstra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abstract method cannot be defined as final (because it must be overridden) or static (because it has no definition ye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use of abstract classes is a design decision; it helps us establish common elements in a class that is to general to instantiat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heritanc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other fundamental object-oriented technique is called inheritance, which enhances software design and promotes reu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apter 7 focuses on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eriving new class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reating class hierarchies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protected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modifie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olymorphism via inheritanc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heritance used in graphical user interfac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EAE0-A741-4EA8-9D1E-8A7008E044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ferences and Inheritanc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object reference can refer to an object of its class, or to an object of any class related to it by inheritan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if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Holida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is used to derive a child class calle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hristma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then 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Holida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reference could actually be used to point to 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hristma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828800" y="4038480"/>
            <a:ext cx="1752480" cy="1828800"/>
            <a:chOff x="1828800" y="4038480"/>
            <a:chExt cx="1752480" cy="1828800"/>
          </a:xfrm>
        </p:grpSpPr>
        <p:sp>
          <p:nvSpPr>
            <p:cNvPr id="166" name=""/>
            <p:cNvSpPr/>
            <p:nvPr/>
          </p:nvSpPr>
          <p:spPr>
            <a:xfrm>
              <a:off x="1828800" y="4038480"/>
              <a:ext cx="1752480" cy="609480"/>
            </a:xfrm>
            <a:prstGeom prst="flowChartAlternateProcess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Holida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28800" y="5257800"/>
              <a:ext cx="1752480" cy="609480"/>
            </a:xfrm>
            <a:prstGeom prst="flowChartAlternateProcess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Christm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7" idx="0"/>
              <a:endCxn id="166" idx="2"/>
            </p:cNvCxnSpPr>
            <p:nvPr/>
          </p:nvCxnSpPr>
          <p:spPr>
            <a:xfrm flipV="1">
              <a:off x="2704680" y="4647600"/>
              <a:ext cx="1080" cy="610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</p:cxnSp>
      </p:grpSp>
      <p:sp>
        <p:nvSpPr>
          <p:cNvPr id="169" name=""/>
          <p:cNvSpPr/>
          <p:nvPr/>
        </p:nvSpPr>
        <p:spPr>
          <a:xfrm>
            <a:off x="4268880" y="4495680"/>
            <a:ext cx="353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Holiday day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ay = new Christmas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515-4B19-4294-9C23-31CECFB213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ferences and Inheritanc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ssigning a predecessor object to an ancestor reference is considered to be a widening conversion, and can be performed by simple assign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ssigning an ancestor object to a predecessor reference can also be done, but it is considered to be a narrowing conversion and must be done with a cas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widening conversion is the most usefu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B737-20EA-489F-8EEB-FD2B7F7763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olymorphism via Inheritanc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saw in Chapter 5 how an interface can be used to create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lymorphic referen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call that a polymorphic reference is one which can refer to different types of objects at different tim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heritance can also be used as a basis of polymorphis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object reference can refer to one object at one time, then it can be changed to refer to another object (related by inheritance) at another ti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C2BD-FD9A-4AB9-B9CC-70D326E4C9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olymorphism via Inheritanc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ppose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Holida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has a method calle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elebrat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and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hristma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overrode i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w consider the following invocation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ay.celebrate();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da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refers to 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Holida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, it invokes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Holida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version of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elebrat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;  if it refers to 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hristma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, it invokes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hristma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vers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olymorphism via Inheritanc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is the type of the object being referenced, not the reference type, that determines which method is invok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 that, if an invocation is in a loop, the exact same line of code could execute different methods at different tim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lymorphic references are therefore resolved at run-time, not during compil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AE6B-28AE-46CF-9CC6-C0506EA9F1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olymorphism via Inheritanc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ider the following class hierarchy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676520" y="2133720"/>
            <a:ext cx="6324480" cy="3352680"/>
            <a:chOff x="1676520" y="2133720"/>
            <a:chExt cx="6324480" cy="3352680"/>
          </a:xfrm>
        </p:grpSpPr>
        <p:sp>
          <p:nvSpPr>
            <p:cNvPr id="181" name=""/>
            <p:cNvSpPr/>
            <p:nvPr/>
          </p:nvSpPr>
          <p:spPr>
            <a:xfrm>
              <a:off x="3352680" y="2133720"/>
              <a:ext cx="2095560" cy="609480"/>
            </a:xfrm>
            <a:prstGeom prst="flowChartAlternateProcess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StaffMemb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76520" y="3352680"/>
              <a:ext cx="1981080" cy="609840"/>
            </a:xfrm>
            <a:prstGeom prst="flowChartAlternateProcess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Volunte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3" name=""/>
            <p:cNvCxnSpPr>
              <a:stCxn id="182" idx="0"/>
              <a:endCxn id="181" idx="2"/>
            </p:cNvCxnSpPr>
            <p:nvPr/>
          </p:nvCxnSpPr>
          <p:spPr>
            <a:xfrm flipV="1">
              <a:off x="2666880" y="2742480"/>
              <a:ext cx="1734480" cy="610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</p:cxnSp>
        <p:cxnSp>
          <p:nvCxnSpPr>
            <p:cNvPr id="184" name=""/>
            <p:cNvCxnSpPr>
              <a:stCxn id="185" idx="0"/>
              <a:endCxn id="181" idx="2"/>
            </p:cNvCxnSpPr>
            <p:nvPr/>
          </p:nvCxnSpPr>
          <p:spPr>
            <a:xfrm flipH="1" flipV="1">
              <a:off x="4399920" y="2742480"/>
              <a:ext cx="1772280" cy="610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</p:cxnSp>
        <p:sp>
          <p:nvSpPr>
            <p:cNvPr id="185" name=""/>
            <p:cNvSpPr/>
            <p:nvPr/>
          </p:nvSpPr>
          <p:spPr>
            <a:xfrm>
              <a:off x="5181480" y="3352680"/>
              <a:ext cx="1981440" cy="609840"/>
            </a:xfrm>
            <a:prstGeom prst="flowChartAlternateProcess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Employe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4876920"/>
              <a:ext cx="1752480" cy="609480"/>
            </a:xfrm>
            <a:prstGeom prst="flowChartAlternateProcess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Executiv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48520" y="4876920"/>
              <a:ext cx="1752480" cy="609480"/>
            </a:xfrm>
            <a:prstGeom prst="flowChartAlternateProcess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Hourl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8" name=""/>
            <p:cNvCxnSpPr>
              <a:stCxn id="186" idx="0"/>
              <a:endCxn id="185" idx="2"/>
            </p:cNvCxnSpPr>
            <p:nvPr/>
          </p:nvCxnSpPr>
          <p:spPr>
            <a:xfrm flipV="1">
              <a:off x="5295960" y="3962160"/>
              <a:ext cx="876960" cy="9151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</p:cxnSp>
        <p:cxnSp>
          <p:nvCxnSpPr>
            <p:cNvPr id="189" name=""/>
            <p:cNvCxnSpPr>
              <a:stCxn id="187" idx="0"/>
              <a:endCxn id="185" idx="2"/>
            </p:cNvCxnSpPr>
            <p:nvPr/>
          </p:nvCxnSpPr>
          <p:spPr>
            <a:xfrm flipH="1" flipV="1">
              <a:off x="6171840" y="3962160"/>
              <a:ext cx="953280" cy="9151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olymorphism via Inheritanc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w consider the task of paying all employe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"/>
              </a:rPr>
              <a:t>Firm.jav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page 345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Staff.java (page 346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StaffMember.java (page 348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Volunteer.java (page 349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Employee.java (page 351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Executive.java (page 352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Hourly.java (page 353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direct Acces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inherited member can be referenced directly by name in the child class, as if it were declared in the child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ut even if a method or variable is not inherited by a child, it can still be accessed indirectly through parent metho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FoodAnalysis.java (page 355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FoodItem.java (page 356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Pizza.java (page 357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7CAA-6882-4AB6-8EF8-4B049AC23E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terface Hierarchi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heritance can be applied to interfaces as well as class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e interface can be used as the parent of anoth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hild interface inherits all abstract methods of the par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class implementing the child interface must define all methods from both the parent and child interfac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 that class hierarchies and interface hierarchies are distinct (the do not overlap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pplets and Inheritanc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applet is an excellent example of inheritan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call that when we define an applet, we extend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pple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pple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already handles all the details about applet creation and execution, including the interaction with a web brows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ur applet classes only have to deal with issues that specifically relate to what our particular applet will d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heritanc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heritanc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llows a software developer to derive a new class from an existing on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existing class is called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arent class,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uperclas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ase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derived class is called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hild clas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ubclas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s the name implies, the child inherits characteristics of the par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 is, the child class inherits the methods and data defined for the parent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9AC5-5C16-473E-B036-940BAE6874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xtending Event Adapter Class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Chapter 5 we discussed the creation of listener classes by implementing a particular interface (such as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ouseListen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terface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listener can also be created by extending a special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dapter clas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f the Java class librar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listener interface has a corresponding adapter class (such as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ouseAdapt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adapter class implements the corresponding listener and provides empty method defini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xtending Event Adapter Class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n you derive a listener class from an adapter class, you override any event methods of interest (such as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ouseClicke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 that this avoids the need to create empty definitions for unused ev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OffCenter.java (page 360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GUI Componen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UI compon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n object that represents a visual entity in an graphical user interface (such as a button or slider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onents can generate events to which listener objects can respon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an applet is a component that can generate mouse ev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applet is also a special kind of component, called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ontain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in which other components can be plac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GUI Componen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Fahrenheit.java (page 363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onents are organized into an inheritance class hierarchy so that they can easily share characteristic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n we define certain methods, such as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ai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 of an applet, we are actually overriding a method defined in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ompon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, which is ultimately inherited into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pple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Doodle.java (page 367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DoodleCanvas.java (page 369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heritanc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heritance relationships are often shown graphically in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lass diagra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with the arrow pointing to the parent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89276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heritance should create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s-a relationshi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meaning the chil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s 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ore specific version of the 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467160" y="2590920"/>
            <a:ext cx="1752480" cy="1828800"/>
            <a:chOff x="3467160" y="2590920"/>
            <a:chExt cx="1752480" cy="1828800"/>
          </a:xfrm>
        </p:grpSpPr>
        <p:sp>
          <p:nvSpPr>
            <p:cNvPr id="118" name=""/>
            <p:cNvSpPr/>
            <p:nvPr/>
          </p:nvSpPr>
          <p:spPr>
            <a:xfrm>
              <a:off x="3467160" y="2590920"/>
              <a:ext cx="1752480" cy="609480"/>
            </a:xfrm>
            <a:prstGeom prst="flowChartAlternateProcess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Vehic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67160" y="3810240"/>
              <a:ext cx="1752480" cy="609480"/>
            </a:xfrm>
            <a:prstGeom prst="flowChartAlternateProcess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Ca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19" idx="0"/>
              <a:endCxn id="118" idx="2"/>
            </p:cNvCxnSpPr>
            <p:nvPr/>
          </p:nvCxnSpPr>
          <p:spPr>
            <a:xfrm flipV="1">
              <a:off x="4343040" y="3200040"/>
              <a:ext cx="1080" cy="610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6506-61FF-47DC-AB19-C60343071B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eriving Subclass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Java, we use the reserved wor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extend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o establish an inheritance relationshi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lass Car extends Vehicl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/ class conten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"/>
              </a:rPr>
              <a:t>Words.java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(page 324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"/>
              </a:rPr>
              <a:t>Book.java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(page 325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3"/>
              </a:rPr>
              <a:t>Dictionary.java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(page 326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97D3-17EA-4E4E-86FD-AEC3B47717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ntrolling Inheritanc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Visibility modifiers determine which class members get inherited and which do no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Variables and methods declared with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ubli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visibility are inherited, and those with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rivat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visibility are no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ut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ubli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variables violate our goal of encapsul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 is a third visibility modifier that helps in inheritance situations: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rotec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8D2B-7573-449F-9485-464E8565CC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ccffff"/>
                </a:solidFill>
                <a:latin typeface="Courier New"/>
              </a:rPr>
              <a:t>protected</a:t>
            </a: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 Modifier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rotecte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visibility modifier allows a member of a base class to be inherited into the chil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ut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rotecte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visibility provides more encapsulation than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ubli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do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owever,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rotecte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visibility is not as tightly encapsulated as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rivat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visibil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details of each modifier are given in Appendix F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7DEB-B497-44D9-BD35-DB77A9EE00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ccffff"/>
                </a:solidFill>
                <a:latin typeface="Courier New"/>
              </a:rPr>
              <a:t>super</a:t>
            </a: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 Referenc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tructors are not inherited, even though they have public visibil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Yet we often want to use the parent's constructor to set up the "parent's part" of the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up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reference can be used to refer to the parent class, and is often used to invoke the parent's constructo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"/>
              </a:rPr>
              <a:t>Words2.java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(page 328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"/>
              </a:rPr>
              <a:t>Book2.java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(page 329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3"/>
              </a:rPr>
              <a:t>Dictionary2.java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(page 330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164-A282-4DAB-8703-D9DB581475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ingle vs. Multiple Inheritanc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Java support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ingle inheritanc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meaning that a derived class can have only one parent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ultiple inheritanc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llows a class to be derived from two or more classes, inheriting the members of all par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llisions, such as the same variable name in two parents, have to be resolv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most cases, the use of interfaces gives us the best aspects of multiple inheritance without the overhea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John Lewis</dc:creator>
  <dc:description/>
  <dc:language>en-US</dc:language>
  <cp:lastModifiedBy>Sharon Lewis</cp:lastModifiedBy>
  <dcterms:modified xsi:type="dcterms:W3CDTF">2000-09-04T23:47:16Z</dcterms:modified>
  <cp:revision>26</cp:revision>
  <dc:subject/>
  <dc:title>Chapter 2:  Using Objects </dc:title>
</cp:coreProperties>
</file>