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009-34D9-4F14-B63D-71D1D932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19B-773B-410E-B3E5-EB7488EE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CCE-D2CF-4A3C-96E5-7453F7D1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EE7-9843-4996-9C6A-730041E1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5A83-D277-46E3-A90E-92957579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EFFE-5414-40C3-8E0C-48D74063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C24D-C569-4BF1-A35D-5C3B25C9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7942-32DD-4874-AB8F-F581BBC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726F-E71E-43C4-86E1-D0A711EC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FE3B-2903-4EEE-B02A-9127C47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A3D5-2F3A-4C7E-BCDB-52A848DB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17A-8464-4246-AA75-BE5CFCA2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1D1A-7E59-4E66-BFB9-0A1C950B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6D1D-DECA-415B-BE57-A13A75AA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BBA5-557B-4A89-B0F6-0A9B4261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6CB9-59A3-45D2-A97A-EEC4AFD3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E44F-B455-4C84-BA15-4F01D408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208-B838-4655-8A5F-7EBF199B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5BF-460E-4F33-B780-BF94A47E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7BE-D7A4-43A7-B9B5-AC2AE0C8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960-65DD-4036-8CB2-69DFF2C0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0E0-B157-4057-90BE-0F02921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D99-CDFD-4265-8BD2-4E835055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49D-3F04-4B56-A13F-B14C0C3A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2E32-BFEA-47AF-9FF6-FF3BB70E649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2700-B450-4C1A-96C8-9CA7969F444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examples/chap06/ReverseNumbers.java" TargetMode="External"/><Relationship Id="rId2" Type="http://schemas.openxmlformats.org/officeDocument/2006/relationships/hyperlink" Target="file:///../examples/chap06/ReverseNumbers.java" TargetMode="External"/><Relationship Id="rId3" Type="http://schemas.openxmlformats.org/officeDocument/2006/relationships/hyperlink" Target="file:///../examples/chap06/LetterCount.java" TargetMode="External"/><Relationship Id="rId4" Type="http://schemas.openxmlformats.org/officeDocument/2006/relationships/hyperlink" Target="file:///../examples/chap06/LetterCount.java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examples/chap06/Primes.java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examples/chap06/GradeRange.java" TargetMode="External"/><Relationship Id="rId2" Type="http://schemas.openxmlformats.org/officeDocument/2006/relationships/hyperlink" Target="file:///../examples/chap06/GradeRange.java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examples/chap06/NameTag.java" TargetMode="External"/><Relationship Id="rId2" Type="http://schemas.openxmlformats.org/officeDocument/2006/relationships/hyperlink" Target="file:///../examples/chap06/NameTag.java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examples/chap06/Tunes.java" TargetMode="External"/><Relationship Id="rId2" Type="http://schemas.openxmlformats.org/officeDocument/2006/relationships/hyperlink" Target="file:///../examples/chap06/CDCollection.java" TargetMode="External"/><Relationship Id="rId3" Type="http://schemas.openxmlformats.org/officeDocument/2006/relationships/hyperlink" Target="file:///../examples/chap06/CDCollection.java" TargetMode="External"/><Relationship Id="rId4" Type="http://schemas.openxmlformats.org/officeDocument/2006/relationships/hyperlink" Target="file:///../examples/chap06/CD.java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examples/chap06/BasicArray.java" TargetMode="External"/><Relationship Id="rId2" Type="http://schemas.openxmlformats.org/officeDocument/2006/relationships/hyperlink" Target="file:///../examples/chap06/BasicArray.java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6:  Arrays and Vector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ounds Check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array object has a public constant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t stores the size of the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referenced using the array name (just like any other object)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cores.lengt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olds the number of elements, not the largest inde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ReverseNumber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7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3"/>
              </a:rPr>
              <a:t>LetterCount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4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7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6B2-106B-4E34-A84B-73B7120056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rray Declarations Revisite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rackets of the array type can be associated with the element type or with the name of the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 the following declarations are equivalen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loat[] prices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loat prices[]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irst format is generally more read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6B4-0A8E-4101-8057-9D9678FE30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itializer Lis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itializer li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be used to instantiate and initialize an array in one ste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values are delimited by braces and separated by comma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[] units = {147, 323, 89, 933, 540,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69, 97, 114, 298, 476}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[] letterGrades = {'A', 'B', 'C', 'D', 'F'}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83C-FB1D-4520-B9CA-1F92DBC34C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itializer Lis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when an initializer list is use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perator is not u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 size value is specifi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ize of the array is determined by the number of items in the initializer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nitializer list can only be used in the declaration of an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Primes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7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036-B904-4642-B90F-12C7224A50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rrays as Paramet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ntire array can be passed to a method as a parame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ke any other object, the reference to the array is passed, making the formal and actual parameters aliases of each 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nging an array element in the method changes the origin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rray element can be passed to a method as well, and will follow the parameter passing rules of that element's typ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4D3-51D4-4E02-9A58-B66FD54F2A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rrays of 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elements of an array can be object referen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ollowing declaration reserves space to store 25 references to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ring[] words = new String[25]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does NOT creat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s themselv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object stored in an array must be instantiated separat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GradeRange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28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83D-F70F-4ED3-8A32-6A4878D24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mmand-Line Argum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ignature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indicates that it takes an array o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s as a parame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values come from command-line arguments that are provided when the interpreter is invok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the following invocation of the interpreter passes an array of thr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s into mai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java DoIt pennsylvania texas california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strings are stored at indexes 0-2 of the parame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NameTag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28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rrays of 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s can have arrays as instance vari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, fairly complex structures can be created simply with arrays and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oftware designer must carefully determine an organization of data and objects that makes sense for the situ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Tunes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8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CDCollection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28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4"/>
              </a:rPr>
              <a:t>CD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28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471-950E-4A6F-A2B1-C6238BD4B0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ort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ing is the process of arranging a list of items into a particular or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must be some value on which the order is bas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many algorithms for sorting a list of it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algorithms vary in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ill examine two specific algorithm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lection Sor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sertion Sor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F8C-0BFF-45C8-8695-FBC04FF354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election Sor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approach of Selection Sor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lect one value and put it in its final place in the sort li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eat for all other valu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more detail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 the smallest value in the li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witch it with the value in the first pos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 the next smallest value in the li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witch it with the value in the second pos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eat until all values are plac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46E-63FF-4150-B3FE-A77F8CCA24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rrays and Vec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rays and vectors are objects that help us organize large amounts of inform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6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ray declaration and us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rays of ob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rting elements in an arra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ltidimensional array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Vecto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sing arrays to manage graphic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CB3-20B7-44CB-BB62-BCE9F462D9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election Sor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riginal:         3   9   6   1  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mallest is 1:    1   9   6   3  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mallest is 2:    1   2   6   3   9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mallest is 3:    1   2   3   6   9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mallest is 6:    1   2   3   6   9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ortGrades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8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orts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290) --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electionSor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500-34DD-4722-A45C-A3CC21C6E2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sertion Sor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approach of Insertion Sor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ick any item and insert it into its proper place in a sorted subli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eat until all items have been insert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more detail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sider the first item to be a sorted sublist (of one item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sert the second item into the sorted sublist, shifting items as necessary to make room to insert the new ad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sert the third item into the sorted sublist (of two items), shifting as necessar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eat until all values are inserted into their proper pos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7D5-BF71-4FB0-A6B0-5C26E3108D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sertion Sor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riginal:     3   9   6   1  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nsert 9:     3   9   6   1  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nsert 6:     3   6   9   1  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nsert 1:     1   3   6   9  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nsert 2:     1   2   3   6   9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orts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290) --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sertionSor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E57-556E-4B74-8DA6-BA2C352AE9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orting 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gers have an inherent order, but the order of a set of objects must be defined by the person defining the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all that a Java interface can be used as a type name and guarantees that a particular class has implemented particular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us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face to develop a generic sort for a set of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ortPhoneList.java (page 29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ntact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295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orts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29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5BC-5153-4A78-9B6E-9D52C774E5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mparing Sor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th Selection and Insertion sorts are similar in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oth have outer loops that scan all elements, and inner loops that compare the value of the outer loop with almost all values in the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 approximately 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umber of comparisons are made to sort a list of size 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therefore say that these sorts ar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rder 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sorts are more efficient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rder n log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A94-6A26-4890-B15A-143DEC800D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wo-Dimensional Array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ne-dimensional arra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ores a simple list of val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wo-dimensional arra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be thought of as a table of values, with rows and colum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wo-dimensional array element is referenced using two index val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be precise, a two-dimensional array in Java is an array of arr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woDArray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29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BEC-23C7-48F0-A707-8EA95E3B9A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ultidimensional Array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rray can have as many dimensions as needed, creating a multidimensional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dimension subdivides the previous one into the specified number of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array dimension has its ow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nsta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each dimension is an array of array references, the arrays within one dimension could be of different length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029-308D-4461-959C-D11030C852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Vector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object of clas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e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similar to an array in that it stores multiple val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ever, a vect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nly stores ob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oes not have the indexing syntax that arrays hav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methods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e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are used to interact with the elements of a vect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e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part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va.uti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ck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eatles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30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383-8D02-486C-808D-DEE6B24F00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Vector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mportant difference between an array and a vector is that a vector can be thought of as a dynamic, able to change its size as nee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vector initially has a certain amount of memory space reserved for storing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n element is added that doesn't fit in the existing space, more room is automatically acquir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CD8-2D4C-441B-BACA-BDFBEAEC9D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Vector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e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implemented using an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ever new space is required, a new, larger array is created, and the values are copied from the original to the new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insert an element, existing elements are first copied, one by one, to another position in the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, the implementation o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e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the API is not very efficient for inserting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C9C-EEC3-4966-A6F1-DB32029297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rray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rra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ordered list of val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520" y="2971800"/>
            <a:ext cx="51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1     2     3     4     5     6     7     8    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46280" y="3429000"/>
            <a:ext cx="5380200" cy="714240"/>
            <a:chOff x="2546280" y="3429000"/>
            <a:chExt cx="5380200" cy="714240"/>
          </a:xfrm>
        </p:grpSpPr>
        <p:grpSp>
          <p:nvGrpSpPr>
            <p:cNvPr id="116" name=""/>
            <p:cNvGrpSpPr/>
            <p:nvPr/>
          </p:nvGrpSpPr>
          <p:grpSpPr>
            <a:xfrm>
              <a:off x="2546280" y="3429000"/>
              <a:ext cx="5380200" cy="714240"/>
              <a:chOff x="2546280" y="3429000"/>
              <a:chExt cx="5380200" cy="714240"/>
            </a:xfrm>
          </p:grpSpPr>
          <p:sp>
            <p:nvSpPr>
              <p:cNvPr id="117" name=""/>
              <p:cNvSpPr/>
              <p:nvPr/>
            </p:nvSpPr>
            <p:spPr>
              <a:xfrm>
                <a:off x="2546280" y="3435120"/>
                <a:ext cx="5380200" cy="701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0040" y="3435120"/>
                <a:ext cx="528480" cy="701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49720" y="3435120"/>
                <a:ext cx="528480" cy="701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32240" y="3435120"/>
                <a:ext cx="528840" cy="701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92800" y="3435120"/>
                <a:ext cx="528480" cy="701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69200" y="3429000"/>
                <a:ext cx="0" cy="71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595240" y="3568680"/>
              <a:ext cx="529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9   87   94   82   67   98   87   81   74   9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818000" y="4648320"/>
            <a:ext cx="51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 array of size N is indexed from zero to N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1520" y="2133720"/>
            <a:ext cx="2085840" cy="1921320"/>
            <a:chOff x="911520" y="2133720"/>
            <a:chExt cx="2085840" cy="1921320"/>
          </a:xfrm>
        </p:grpSpPr>
        <p:sp>
          <p:nvSpPr>
            <p:cNvPr id="126" name=""/>
            <p:cNvSpPr/>
            <p:nvPr/>
          </p:nvSpPr>
          <p:spPr>
            <a:xfrm>
              <a:off x="1371240" y="3657600"/>
              <a:ext cx="109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1520" y="2133720"/>
              <a:ext cx="208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he entire arra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has a single n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5120" y="28954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430080" y="2209680"/>
            <a:ext cx="3614400" cy="838440"/>
            <a:chOff x="3430080" y="2209680"/>
            <a:chExt cx="3614400" cy="838440"/>
          </a:xfrm>
        </p:grpSpPr>
        <p:sp>
          <p:nvSpPr>
            <p:cNvPr id="130" name=""/>
            <p:cNvSpPr/>
            <p:nvPr/>
          </p:nvSpPr>
          <p:spPr>
            <a:xfrm>
              <a:off x="3430080" y="2209680"/>
              <a:ext cx="36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Each value has a numeric </a:t>
              </a: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inde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2590920"/>
              <a:ext cx="533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469880" y="5257800"/>
            <a:ext cx="61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array holds 10 values that are indexed from 0 to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4F4-BA34-4D23-93CD-80F5F910B6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olygons and Polylin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rays are often helpful in graphics process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gons and polylines are shapes that are defined by values stored in arr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olyline is similar to a polygon except that its endpoints do not meet, and it cannot be fill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Rocket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30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is also a separat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olyg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that can be used to define and draw a polyg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aving Drawing Sta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tim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repai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is called on an applet, the window is cleared prior to calling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ai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rray or vector can be used to store the objects drawn, and redraw them as necessa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ots2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ge 31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rray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articular value in an array is referenced using the array name followed by the index in bracke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the expres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cores[2]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fers to the value 94 (which is the 3rd value in the array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expression represents a place to store a single integer, and can be used wherever an integer variable ca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it can be assigned a value, printed, or used in a calcul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1BD-5473-47C9-B88A-8F32B4E52F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rray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rray stores multiple values of the same typ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type can be primitive types or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, we can create an array of integers, or an array of characters, or an array of String objects, etc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Java, the array itself is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 the name of the array is a object reference variable, and the array itself is instantiated separat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AE6-E7EC-4AC7-91A8-BA89C77BC9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claring Array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cor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rray could be declared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[] scores = new int[10]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the type of the array does not specify its size, but each object of that type has a specific siz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type of the variabl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cor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t[]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an array of integer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set to a new array object that can hold 10 integ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1"/>
              </a:rPr>
              <a:t>BasicArray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  <a:hlinkClick r:id="rId2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7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3B6-9742-4F4D-AE59-38883350E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claring Array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 examples of array declar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loat[] prices = new float[500]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oolean[] flags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lags = new boolean[20]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ar[] codes = new char[1750]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694-C053-41D8-9C5A-A5C11B24A5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ounds Check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ce an array is created, it has a fixed siz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ndex used in an array reference must specify a valid el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, the index value must be in bounds (0 to N-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interpreter will throw an exception if an array index is out of bound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is called automatic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ounds check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A9D-88F2-4D6F-A43C-A9E307BE20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ounds Check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if the array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d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hold 100 values, it can only be indexed using the numbers 0 to 9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as the value 100, then the following reference will cause 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rrayOutOfBoundsExcep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ystem.out.println (codes[count]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’s common to introduc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ff-by-one erro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hen using arr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9720" y="5181480"/>
            <a:ext cx="627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(int index=0; index &lt;= 100; index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des[index] = index*50 + epsil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78520" y="4586400"/>
            <a:ext cx="1099800" cy="976320"/>
            <a:chOff x="5078520" y="4586400"/>
            <a:chExt cx="1099800" cy="976320"/>
          </a:xfrm>
        </p:grpSpPr>
        <p:sp>
          <p:nvSpPr>
            <p:cNvPr id="147" name=""/>
            <p:cNvSpPr/>
            <p:nvPr/>
          </p:nvSpPr>
          <p:spPr>
            <a:xfrm>
              <a:off x="5078520" y="458640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probl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05520" y="5181480"/>
              <a:ext cx="106668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2720" y="4952880"/>
              <a:ext cx="759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Sharon Lewis</cp:lastModifiedBy>
  <dcterms:modified xsi:type="dcterms:W3CDTF">2000-09-05T02:52:08Z</dcterms:modified>
  <cp:revision>24</cp:revision>
  <dc:subject/>
  <dc:title>Chapter 2:  Using Objects </dc:title>
</cp:coreProperties>
</file>