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1DB-6CB6-4AC6-85F8-22FA1C52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B41-5645-40A9-BD2F-62CBBDA7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BBF-8CBF-4AEF-A1B3-B6A88156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D2D-D76C-407C-BE9C-3D4ECBCD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BC29-773E-45A8-AAB6-2C101F48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5346-D927-4C09-9AFD-206BC227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23DC-B9F5-40D5-9B31-11306685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BE83-E8A8-4B24-924A-46C4FCC0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14AA-96DD-4DF3-B5C0-CD1D264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56F8-9AAF-4EC7-91BA-70F0109E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504-224D-45EB-A71C-EAEE50E1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D91-752A-4CA3-B263-2F07BDF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4287-AEA4-42D1-9F4C-65D3963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0554-79C1-405B-998E-8AED8EA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7BA9-0659-4904-9F9C-C599D8DB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A872-C626-47AE-A3CB-EF5E34F4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6F5F-D5A4-4789-AAD6-9C664BCC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506-375E-4B80-9016-82DFF0E0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4D0-4A6F-4D7E-834D-E7727DAF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9D4-B61A-4C14-945A-73C3CBF0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41E-1F5C-4B92-B14A-A743371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4FA-C7D9-41A5-A07C-6C0EC27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0D5-8D3E-45CC-826B-2E05C41A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27E-4270-4095-8089-2DAE4B06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835E-B983-4D17-8979-2EEA986BB32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DD9F-AF92-489F-BF5D-227D642E04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examples/chap10/refinement1/PaintBox.java" TargetMode="External"/><Relationship Id="rId2" Type="http://schemas.openxmlformats.org/officeDocument/2006/relationships/hyperlink" Target="file:///../examples/chap10/refinement1/PaintBox.java" TargetMode="External"/><Relationship Id="rId3" Type="http://schemas.openxmlformats.org/officeDocument/2006/relationships/hyperlink" Target="file:///../examples/chap10/refinement1/PaintFrame.java" TargetMode="External"/><Relationship Id="rId4" Type="http://schemas.openxmlformats.org/officeDocument/2006/relationships/hyperlink" Target="file:///../examples/chap10/refinement1/PaintFrame.java" TargetMode="External"/><Relationship Id="rId5" Type="http://schemas.openxmlformats.org/officeDocument/2006/relationships/hyperlink" Target="file:///../examples/chap10/refinement1/ButtonPanel.java" TargetMode="External"/><Relationship Id="rId6" Type="http://schemas.openxmlformats.org/officeDocument/2006/relationships/hyperlink" Target="file:///../examples/chap10/refinement1/ButtonPanel.java" TargetMode="External"/><Relationship Id="rId7" Type="http://schemas.openxmlformats.org/officeDocument/2006/relationships/hyperlink" Target="file:///../examples/chap10/refinement1/DrawingPanel.java" TargetMode="External"/><Relationship Id="rId8" Type="http://schemas.openxmlformats.org/officeDocument/2006/relationships/hyperlink" Target="file:///../examples/chap10/refinement1/DrawingPanel.java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examples/chap10/refinement2/PaintBox.java" TargetMode="External"/><Relationship Id="rId2" Type="http://schemas.openxmlformats.org/officeDocument/2006/relationships/hyperlink" Target="file:///../examples/chap10/refinement2/PaintBox.java" TargetMode="External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10:  Software Engineering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Waterfall Mode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84320" y="1901880"/>
            <a:ext cx="6967440" cy="3300480"/>
            <a:chOff x="1084320" y="1901880"/>
            <a:chExt cx="6967440" cy="3300480"/>
          </a:xfrm>
        </p:grpSpPr>
        <p:sp>
          <p:nvSpPr>
            <p:cNvPr id="159" name=""/>
            <p:cNvSpPr/>
            <p:nvPr/>
          </p:nvSpPr>
          <p:spPr>
            <a:xfrm>
              <a:off x="1084320" y="1901880"/>
              <a:ext cx="1368360" cy="79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stablis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quirem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2960" y="2744640"/>
              <a:ext cx="1368360" cy="79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re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esig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89480" y="3562200"/>
              <a:ext cx="1368360" cy="79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mpl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13520" y="4405320"/>
              <a:ext cx="1368360" cy="79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0600" y="2252520"/>
              <a:ext cx="950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76640" y="3143160"/>
              <a:ext cx="951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65760" y="3951360"/>
              <a:ext cx="951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1360" y="2254320"/>
              <a:ext cx="0" cy="45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9200" y="3144960"/>
              <a:ext cx="4680" cy="41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16880" y="3952800"/>
              <a:ext cx="0" cy="45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05640" y="4822920"/>
              <a:ext cx="5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3C4-0447-4948-930F-1F55D870FD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 Iterative Proce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ows the developer to cycle through the different development stag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ssentially the waterfall model with backtrack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ever backtracking should not be used irresponsib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should be used as a technique available to the developer in order to deal with unexpected problems that may arise in later stages of develop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9DF-AE82-4E71-9FF9-44B98C73E4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 Iterative Development Proce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36600" y="1917720"/>
            <a:ext cx="6921720" cy="1833480"/>
            <a:chOff x="1236600" y="1917720"/>
            <a:chExt cx="6921720" cy="1833480"/>
          </a:xfrm>
        </p:grpSpPr>
        <p:sp>
          <p:nvSpPr>
            <p:cNvPr id="174" name=""/>
            <p:cNvSpPr/>
            <p:nvPr/>
          </p:nvSpPr>
          <p:spPr>
            <a:xfrm>
              <a:off x="1236600" y="2403360"/>
              <a:ext cx="1225440" cy="79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stablis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quirem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13120" y="2413080"/>
              <a:ext cx="1225440" cy="796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re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esig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60920" y="2398680"/>
              <a:ext cx="1225440" cy="79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mpl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08720" y="2408400"/>
              <a:ext cx="1225440" cy="796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9720" y="2846520"/>
              <a:ext cx="49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17880" y="1917720"/>
              <a:ext cx="1144440" cy="442800"/>
            </a:xfrm>
            <a:custGeom>
              <a:avLst/>
              <a:gdLst/>
              <a:ahLst/>
              <a:rect l="l" t="t" r="r" b="b"/>
              <a:pathLst>
                <a:path w="721" h="279">
                  <a:moveTo>
                    <a:pt x="595" y="197"/>
                  </a:moveTo>
                  <a:lnTo>
                    <a:pt x="575" y="164"/>
                  </a:lnTo>
                  <a:lnTo>
                    <a:pt x="552" y="133"/>
                  </a:lnTo>
                  <a:lnTo>
                    <a:pt x="523" y="107"/>
                  </a:lnTo>
                  <a:lnTo>
                    <a:pt x="490" y="85"/>
                  </a:lnTo>
                  <a:lnTo>
                    <a:pt x="454" y="66"/>
                  </a:lnTo>
                  <a:lnTo>
                    <a:pt x="414" y="55"/>
                  </a:lnTo>
                  <a:lnTo>
                    <a:pt x="375" y="45"/>
                  </a:lnTo>
                  <a:lnTo>
                    <a:pt x="332" y="43"/>
                  </a:lnTo>
                  <a:lnTo>
                    <a:pt x="280" y="47"/>
                  </a:lnTo>
                  <a:lnTo>
                    <a:pt x="227" y="59"/>
                  </a:lnTo>
                  <a:lnTo>
                    <a:pt x="181" y="81"/>
                  </a:lnTo>
                  <a:lnTo>
                    <a:pt x="138" y="107"/>
                  </a:lnTo>
                  <a:lnTo>
                    <a:pt x="105" y="140"/>
                  </a:lnTo>
                  <a:lnTo>
                    <a:pt x="76" y="178"/>
                  </a:lnTo>
                  <a:lnTo>
                    <a:pt x="59" y="221"/>
                  </a:lnTo>
                  <a:lnTo>
                    <a:pt x="50" y="268"/>
                  </a:lnTo>
                  <a:lnTo>
                    <a:pt x="0" y="264"/>
                  </a:lnTo>
                  <a:lnTo>
                    <a:pt x="10" y="209"/>
                  </a:lnTo>
                  <a:lnTo>
                    <a:pt x="33" y="159"/>
                  </a:lnTo>
                  <a:lnTo>
                    <a:pt x="66" y="114"/>
                  </a:lnTo>
                  <a:lnTo>
                    <a:pt x="105" y="76"/>
                  </a:lnTo>
                  <a:lnTo>
                    <a:pt x="155" y="45"/>
                  </a:lnTo>
                  <a:lnTo>
                    <a:pt x="207" y="21"/>
                  </a:lnTo>
                  <a:lnTo>
                    <a:pt x="237" y="12"/>
                  </a:lnTo>
                  <a:lnTo>
                    <a:pt x="270" y="5"/>
                  </a:lnTo>
                  <a:lnTo>
                    <a:pt x="299" y="2"/>
                  </a:lnTo>
                  <a:lnTo>
                    <a:pt x="332" y="0"/>
                  </a:lnTo>
                  <a:lnTo>
                    <a:pt x="382" y="2"/>
                  </a:lnTo>
                  <a:lnTo>
                    <a:pt x="431" y="12"/>
                  </a:lnTo>
                  <a:lnTo>
                    <a:pt x="477" y="28"/>
                  </a:lnTo>
                  <a:lnTo>
                    <a:pt x="520" y="50"/>
                  </a:lnTo>
                  <a:lnTo>
                    <a:pt x="559" y="76"/>
                  </a:lnTo>
                  <a:lnTo>
                    <a:pt x="592" y="107"/>
                  </a:lnTo>
                  <a:lnTo>
                    <a:pt x="618" y="142"/>
                  </a:lnTo>
                  <a:lnTo>
                    <a:pt x="641" y="183"/>
                  </a:lnTo>
                  <a:lnTo>
                    <a:pt x="720" y="157"/>
                  </a:lnTo>
                  <a:lnTo>
                    <a:pt x="658" y="278"/>
                  </a:lnTo>
                  <a:lnTo>
                    <a:pt x="520" y="223"/>
                  </a:lnTo>
                  <a:lnTo>
                    <a:pt x="595" y="197"/>
                  </a:lnTo>
                  <a:lnTo>
                    <a:pt x="595" y="197"/>
                  </a:lnTo>
                </a:path>
              </a:pathLst>
            </a:custGeom>
            <a:solidFill>
              <a:srgbClr val="99ffc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36960" y="1917720"/>
              <a:ext cx="1147680" cy="442800"/>
            </a:xfrm>
            <a:custGeom>
              <a:avLst/>
              <a:gdLst/>
              <a:ahLst/>
              <a:rect l="l" t="t" r="r" b="b"/>
              <a:pathLst>
                <a:path w="723" h="279">
                  <a:moveTo>
                    <a:pt x="599" y="197"/>
                  </a:moveTo>
                  <a:lnTo>
                    <a:pt x="579" y="164"/>
                  </a:lnTo>
                  <a:lnTo>
                    <a:pt x="553" y="133"/>
                  </a:lnTo>
                  <a:lnTo>
                    <a:pt x="527" y="107"/>
                  </a:lnTo>
                  <a:lnTo>
                    <a:pt x="491" y="85"/>
                  </a:lnTo>
                  <a:lnTo>
                    <a:pt x="456" y="66"/>
                  </a:lnTo>
                  <a:lnTo>
                    <a:pt x="420" y="55"/>
                  </a:lnTo>
                  <a:lnTo>
                    <a:pt x="379" y="45"/>
                  </a:lnTo>
                  <a:lnTo>
                    <a:pt x="333" y="43"/>
                  </a:lnTo>
                  <a:lnTo>
                    <a:pt x="276" y="47"/>
                  </a:lnTo>
                  <a:lnTo>
                    <a:pt x="225" y="59"/>
                  </a:lnTo>
                  <a:lnTo>
                    <a:pt x="179" y="81"/>
                  </a:lnTo>
                  <a:lnTo>
                    <a:pt x="138" y="107"/>
                  </a:lnTo>
                  <a:lnTo>
                    <a:pt x="107" y="140"/>
                  </a:lnTo>
                  <a:lnTo>
                    <a:pt x="76" y="178"/>
                  </a:lnTo>
                  <a:lnTo>
                    <a:pt x="61" y="221"/>
                  </a:lnTo>
                  <a:lnTo>
                    <a:pt x="51" y="268"/>
                  </a:lnTo>
                  <a:lnTo>
                    <a:pt x="0" y="264"/>
                  </a:lnTo>
                  <a:lnTo>
                    <a:pt x="10" y="209"/>
                  </a:lnTo>
                  <a:lnTo>
                    <a:pt x="35" y="159"/>
                  </a:lnTo>
                  <a:lnTo>
                    <a:pt x="66" y="114"/>
                  </a:lnTo>
                  <a:lnTo>
                    <a:pt x="107" y="76"/>
                  </a:lnTo>
                  <a:lnTo>
                    <a:pt x="153" y="45"/>
                  </a:lnTo>
                  <a:lnTo>
                    <a:pt x="210" y="21"/>
                  </a:lnTo>
                  <a:lnTo>
                    <a:pt x="240" y="12"/>
                  </a:lnTo>
                  <a:lnTo>
                    <a:pt x="271" y="5"/>
                  </a:lnTo>
                  <a:lnTo>
                    <a:pt x="302" y="2"/>
                  </a:lnTo>
                  <a:lnTo>
                    <a:pt x="333" y="0"/>
                  </a:lnTo>
                  <a:lnTo>
                    <a:pt x="384" y="2"/>
                  </a:lnTo>
                  <a:lnTo>
                    <a:pt x="435" y="12"/>
                  </a:lnTo>
                  <a:lnTo>
                    <a:pt x="481" y="28"/>
                  </a:lnTo>
                  <a:lnTo>
                    <a:pt x="522" y="50"/>
                  </a:lnTo>
                  <a:lnTo>
                    <a:pt x="558" y="76"/>
                  </a:lnTo>
                  <a:lnTo>
                    <a:pt x="594" y="107"/>
                  </a:lnTo>
                  <a:lnTo>
                    <a:pt x="625" y="142"/>
                  </a:lnTo>
                  <a:lnTo>
                    <a:pt x="645" y="183"/>
                  </a:lnTo>
                  <a:lnTo>
                    <a:pt x="722" y="157"/>
                  </a:lnTo>
                  <a:lnTo>
                    <a:pt x="661" y="278"/>
                  </a:lnTo>
                  <a:lnTo>
                    <a:pt x="522" y="223"/>
                  </a:lnTo>
                  <a:lnTo>
                    <a:pt x="599" y="197"/>
                  </a:lnTo>
                  <a:lnTo>
                    <a:pt x="599" y="197"/>
                  </a:lnTo>
                </a:path>
              </a:pathLst>
            </a:custGeom>
            <a:solidFill>
              <a:srgbClr val="99ffc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48400" y="1917720"/>
              <a:ext cx="1141200" cy="442800"/>
            </a:xfrm>
            <a:custGeom>
              <a:avLst/>
              <a:gdLst/>
              <a:ahLst/>
              <a:rect l="l" t="t" r="r" b="b"/>
              <a:pathLst>
                <a:path w="719" h="279">
                  <a:moveTo>
                    <a:pt x="595" y="197"/>
                  </a:moveTo>
                  <a:lnTo>
                    <a:pt x="574" y="164"/>
                  </a:lnTo>
                  <a:lnTo>
                    <a:pt x="554" y="133"/>
                  </a:lnTo>
                  <a:lnTo>
                    <a:pt x="526" y="107"/>
                  </a:lnTo>
                  <a:lnTo>
                    <a:pt x="492" y="85"/>
                  </a:lnTo>
                  <a:lnTo>
                    <a:pt x="451" y="66"/>
                  </a:lnTo>
                  <a:lnTo>
                    <a:pt x="410" y="55"/>
                  </a:lnTo>
                  <a:lnTo>
                    <a:pt x="369" y="45"/>
                  </a:lnTo>
                  <a:lnTo>
                    <a:pt x="328" y="43"/>
                  </a:lnTo>
                  <a:lnTo>
                    <a:pt x="273" y="47"/>
                  </a:lnTo>
                  <a:lnTo>
                    <a:pt x="225" y="59"/>
                  </a:lnTo>
                  <a:lnTo>
                    <a:pt x="178" y="81"/>
                  </a:lnTo>
                  <a:lnTo>
                    <a:pt x="136" y="107"/>
                  </a:lnTo>
                  <a:lnTo>
                    <a:pt x="102" y="140"/>
                  </a:lnTo>
                  <a:lnTo>
                    <a:pt x="75" y="178"/>
                  </a:lnTo>
                  <a:lnTo>
                    <a:pt x="61" y="221"/>
                  </a:lnTo>
                  <a:lnTo>
                    <a:pt x="48" y="268"/>
                  </a:lnTo>
                  <a:lnTo>
                    <a:pt x="0" y="264"/>
                  </a:lnTo>
                  <a:lnTo>
                    <a:pt x="13" y="209"/>
                  </a:lnTo>
                  <a:lnTo>
                    <a:pt x="34" y="159"/>
                  </a:lnTo>
                  <a:lnTo>
                    <a:pt x="68" y="114"/>
                  </a:lnTo>
                  <a:lnTo>
                    <a:pt x="102" y="76"/>
                  </a:lnTo>
                  <a:lnTo>
                    <a:pt x="150" y="45"/>
                  </a:lnTo>
                  <a:lnTo>
                    <a:pt x="205" y="21"/>
                  </a:lnTo>
                  <a:lnTo>
                    <a:pt x="232" y="12"/>
                  </a:lnTo>
                  <a:lnTo>
                    <a:pt x="266" y="5"/>
                  </a:lnTo>
                  <a:lnTo>
                    <a:pt x="294" y="2"/>
                  </a:lnTo>
                  <a:lnTo>
                    <a:pt x="328" y="0"/>
                  </a:lnTo>
                  <a:lnTo>
                    <a:pt x="376" y="2"/>
                  </a:lnTo>
                  <a:lnTo>
                    <a:pt x="431" y="12"/>
                  </a:lnTo>
                  <a:lnTo>
                    <a:pt x="472" y="28"/>
                  </a:lnTo>
                  <a:lnTo>
                    <a:pt x="513" y="50"/>
                  </a:lnTo>
                  <a:lnTo>
                    <a:pt x="554" y="76"/>
                  </a:lnTo>
                  <a:lnTo>
                    <a:pt x="588" y="107"/>
                  </a:lnTo>
                  <a:lnTo>
                    <a:pt x="615" y="142"/>
                  </a:lnTo>
                  <a:lnTo>
                    <a:pt x="636" y="183"/>
                  </a:lnTo>
                  <a:lnTo>
                    <a:pt x="718" y="157"/>
                  </a:lnTo>
                  <a:lnTo>
                    <a:pt x="656" y="278"/>
                  </a:lnTo>
                  <a:lnTo>
                    <a:pt x="513" y="223"/>
                  </a:lnTo>
                  <a:lnTo>
                    <a:pt x="595" y="197"/>
                  </a:lnTo>
                  <a:lnTo>
                    <a:pt x="595" y="197"/>
                  </a:lnTo>
                </a:path>
              </a:pathLst>
            </a:custGeom>
            <a:solidFill>
              <a:srgbClr val="99ffc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30400" y="3305160"/>
              <a:ext cx="1143000" cy="446040"/>
            </a:xfrm>
            <a:custGeom>
              <a:avLst/>
              <a:gdLst/>
              <a:ahLst/>
              <a:rect l="l" t="t" r="r" b="b"/>
              <a:pathLst>
                <a:path w="720" h="281">
                  <a:moveTo>
                    <a:pt x="121" y="80"/>
                  </a:moveTo>
                  <a:lnTo>
                    <a:pt x="140" y="114"/>
                  </a:lnTo>
                  <a:lnTo>
                    <a:pt x="166" y="144"/>
                  </a:lnTo>
                  <a:lnTo>
                    <a:pt x="195" y="170"/>
                  </a:lnTo>
                  <a:lnTo>
                    <a:pt x="227" y="193"/>
                  </a:lnTo>
                  <a:lnTo>
                    <a:pt x="265" y="212"/>
                  </a:lnTo>
                  <a:lnTo>
                    <a:pt x="303" y="223"/>
                  </a:lnTo>
                  <a:lnTo>
                    <a:pt x="345" y="231"/>
                  </a:lnTo>
                  <a:lnTo>
                    <a:pt x="387" y="235"/>
                  </a:lnTo>
                  <a:lnTo>
                    <a:pt x="441" y="231"/>
                  </a:lnTo>
                  <a:lnTo>
                    <a:pt x="492" y="216"/>
                  </a:lnTo>
                  <a:lnTo>
                    <a:pt x="537" y="197"/>
                  </a:lnTo>
                  <a:lnTo>
                    <a:pt x="578" y="170"/>
                  </a:lnTo>
                  <a:lnTo>
                    <a:pt x="614" y="136"/>
                  </a:lnTo>
                  <a:lnTo>
                    <a:pt x="639" y="99"/>
                  </a:lnTo>
                  <a:lnTo>
                    <a:pt x="658" y="57"/>
                  </a:lnTo>
                  <a:lnTo>
                    <a:pt x="668" y="12"/>
                  </a:lnTo>
                  <a:lnTo>
                    <a:pt x="719" y="15"/>
                  </a:lnTo>
                  <a:lnTo>
                    <a:pt x="706" y="68"/>
                  </a:lnTo>
                  <a:lnTo>
                    <a:pt x="684" y="117"/>
                  </a:lnTo>
                  <a:lnTo>
                    <a:pt x="652" y="163"/>
                  </a:lnTo>
                  <a:lnTo>
                    <a:pt x="610" y="204"/>
                  </a:lnTo>
                  <a:lnTo>
                    <a:pt x="562" y="235"/>
                  </a:lnTo>
                  <a:lnTo>
                    <a:pt x="508" y="261"/>
                  </a:lnTo>
                  <a:lnTo>
                    <a:pt x="450" y="276"/>
                  </a:lnTo>
                  <a:lnTo>
                    <a:pt x="387" y="280"/>
                  </a:lnTo>
                  <a:lnTo>
                    <a:pt x="335" y="276"/>
                  </a:lnTo>
                  <a:lnTo>
                    <a:pt x="287" y="265"/>
                  </a:lnTo>
                  <a:lnTo>
                    <a:pt x="243" y="250"/>
                  </a:lnTo>
                  <a:lnTo>
                    <a:pt x="198" y="227"/>
                  </a:lnTo>
                  <a:lnTo>
                    <a:pt x="160" y="201"/>
                  </a:lnTo>
                  <a:lnTo>
                    <a:pt x="128" y="170"/>
                  </a:lnTo>
                  <a:lnTo>
                    <a:pt x="99" y="133"/>
                  </a:lnTo>
                  <a:lnTo>
                    <a:pt x="76" y="95"/>
                  </a:lnTo>
                  <a:lnTo>
                    <a:pt x="0" y="121"/>
                  </a:lnTo>
                  <a:lnTo>
                    <a:pt x="60" y="0"/>
                  </a:lnTo>
                  <a:lnTo>
                    <a:pt x="201" y="53"/>
                  </a:lnTo>
                  <a:lnTo>
                    <a:pt x="121" y="80"/>
                  </a:lnTo>
                  <a:lnTo>
                    <a:pt x="121" y="80"/>
                  </a:lnTo>
                </a:path>
              </a:pathLst>
            </a:custGeom>
            <a:solidFill>
              <a:srgbClr val="99ffc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1280" y="3305160"/>
              <a:ext cx="1144440" cy="446040"/>
            </a:xfrm>
            <a:custGeom>
              <a:avLst/>
              <a:gdLst/>
              <a:ahLst/>
              <a:rect l="l" t="t" r="r" b="b"/>
              <a:pathLst>
                <a:path w="721" h="281">
                  <a:moveTo>
                    <a:pt x="121" y="80"/>
                  </a:moveTo>
                  <a:lnTo>
                    <a:pt x="141" y="114"/>
                  </a:lnTo>
                  <a:lnTo>
                    <a:pt x="166" y="144"/>
                  </a:lnTo>
                  <a:lnTo>
                    <a:pt x="197" y="170"/>
                  </a:lnTo>
                  <a:lnTo>
                    <a:pt x="227" y="193"/>
                  </a:lnTo>
                  <a:lnTo>
                    <a:pt x="267" y="212"/>
                  </a:lnTo>
                  <a:lnTo>
                    <a:pt x="302" y="223"/>
                  </a:lnTo>
                  <a:lnTo>
                    <a:pt x="348" y="231"/>
                  </a:lnTo>
                  <a:lnTo>
                    <a:pt x="388" y="235"/>
                  </a:lnTo>
                  <a:lnTo>
                    <a:pt x="443" y="231"/>
                  </a:lnTo>
                  <a:lnTo>
                    <a:pt x="493" y="216"/>
                  </a:lnTo>
                  <a:lnTo>
                    <a:pt x="539" y="197"/>
                  </a:lnTo>
                  <a:lnTo>
                    <a:pt x="579" y="170"/>
                  </a:lnTo>
                  <a:lnTo>
                    <a:pt x="614" y="136"/>
                  </a:lnTo>
                  <a:lnTo>
                    <a:pt x="644" y="99"/>
                  </a:lnTo>
                  <a:lnTo>
                    <a:pt x="660" y="57"/>
                  </a:lnTo>
                  <a:lnTo>
                    <a:pt x="670" y="12"/>
                  </a:lnTo>
                  <a:lnTo>
                    <a:pt x="720" y="15"/>
                  </a:lnTo>
                  <a:lnTo>
                    <a:pt x="710" y="68"/>
                  </a:lnTo>
                  <a:lnTo>
                    <a:pt x="685" y="117"/>
                  </a:lnTo>
                  <a:lnTo>
                    <a:pt x="655" y="163"/>
                  </a:lnTo>
                  <a:lnTo>
                    <a:pt x="614" y="204"/>
                  </a:lnTo>
                  <a:lnTo>
                    <a:pt x="564" y="235"/>
                  </a:lnTo>
                  <a:lnTo>
                    <a:pt x="509" y="261"/>
                  </a:lnTo>
                  <a:lnTo>
                    <a:pt x="453" y="276"/>
                  </a:lnTo>
                  <a:lnTo>
                    <a:pt x="388" y="280"/>
                  </a:lnTo>
                  <a:lnTo>
                    <a:pt x="337" y="276"/>
                  </a:lnTo>
                  <a:lnTo>
                    <a:pt x="287" y="265"/>
                  </a:lnTo>
                  <a:lnTo>
                    <a:pt x="242" y="250"/>
                  </a:lnTo>
                  <a:lnTo>
                    <a:pt x="202" y="227"/>
                  </a:lnTo>
                  <a:lnTo>
                    <a:pt x="161" y="201"/>
                  </a:lnTo>
                  <a:lnTo>
                    <a:pt x="126" y="170"/>
                  </a:lnTo>
                  <a:lnTo>
                    <a:pt x="96" y="133"/>
                  </a:lnTo>
                  <a:lnTo>
                    <a:pt x="76" y="95"/>
                  </a:lnTo>
                  <a:lnTo>
                    <a:pt x="0" y="121"/>
                  </a:lnTo>
                  <a:lnTo>
                    <a:pt x="61" y="0"/>
                  </a:lnTo>
                  <a:lnTo>
                    <a:pt x="202" y="53"/>
                  </a:lnTo>
                  <a:lnTo>
                    <a:pt x="121" y="80"/>
                  </a:lnTo>
                  <a:lnTo>
                    <a:pt x="121" y="80"/>
                  </a:lnTo>
                </a:path>
              </a:pathLst>
            </a:custGeom>
            <a:solidFill>
              <a:srgbClr val="99ffc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53000" y="3305160"/>
              <a:ext cx="1147680" cy="446040"/>
            </a:xfrm>
            <a:custGeom>
              <a:avLst/>
              <a:gdLst/>
              <a:ahLst/>
              <a:rect l="l" t="t" r="r" b="b"/>
              <a:pathLst>
                <a:path w="723" h="281">
                  <a:moveTo>
                    <a:pt x="128" y="80"/>
                  </a:moveTo>
                  <a:lnTo>
                    <a:pt x="148" y="114"/>
                  </a:lnTo>
                  <a:lnTo>
                    <a:pt x="168" y="144"/>
                  </a:lnTo>
                  <a:lnTo>
                    <a:pt x="202" y="170"/>
                  </a:lnTo>
                  <a:lnTo>
                    <a:pt x="229" y="193"/>
                  </a:lnTo>
                  <a:lnTo>
                    <a:pt x="270" y="212"/>
                  </a:lnTo>
                  <a:lnTo>
                    <a:pt x="310" y="223"/>
                  </a:lnTo>
                  <a:lnTo>
                    <a:pt x="351" y="231"/>
                  </a:lnTo>
                  <a:lnTo>
                    <a:pt x="391" y="235"/>
                  </a:lnTo>
                  <a:lnTo>
                    <a:pt x="445" y="231"/>
                  </a:lnTo>
                  <a:lnTo>
                    <a:pt x="499" y="216"/>
                  </a:lnTo>
                  <a:lnTo>
                    <a:pt x="540" y="197"/>
                  </a:lnTo>
                  <a:lnTo>
                    <a:pt x="587" y="170"/>
                  </a:lnTo>
                  <a:lnTo>
                    <a:pt x="621" y="136"/>
                  </a:lnTo>
                  <a:lnTo>
                    <a:pt x="648" y="99"/>
                  </a:lnTo>
                  <a:lnTo>
                    <a:pt x="668" y="57"/>
                  </a:lnTo>
                  <a:lnTo>
                    <a:pt x="675" y="12"/>
                  </a:lnTo>
                  <a:lnTo>
                    <a:pt x="722" y="15"/>
                  </a:lnTo>
                  <a:lnTo>
                    <a:pt x="708" y="68"/>
                  </a:lnTo>
                  <a:lnTo>
                    <a:pt x="688" y="117"/>
                  </a:lnTo>
                  <a:lnTo>
                    <a:pt x="654" y="163"/>
                  </a:lnTo>
                  <a:lnTo>
                    <a:pt x="614" y="204"/>
                  </a:lnTo>
                  <a:lnTo>
                    <a:pt x="567" y="235"/>
                  </a:lnTo>
                  <a:lnTo>
                    <a:pt x="513" y="261"/>
                  </a:lnTo>
                  <a:lnTo>
                    <a:pt x="452" y="276"/>
                  </a:lnTo>
                  <a:lnTo>
                    <a:pt x="391" y="280"/>
                  </a:lnTo>
                  <a:lnTo>
                    <a:pt x="344" y="276"/>
                  </a:lnTo>
                  <a:lnTo>
                    <a:pt x="290" y="265"/>
                  </a:lnTo>
                  <a:lnTo>
                    <a:pt x="249" y="250"/>
                  </a:lnTo>
                  <a:lnTo>
                    <a:pt x="202" y="227"/>
                  </a:lnTo>
                  <a:lnTo>
                    <a:pt x="162" y="201"/>
                  </a:lnTo>
                  <a:lnTo>
                    <a:pt x="128" y="170"/>
                  </a:lnTo>
                  <a:lnTo>
                    <a:pt x="101" y="133"/>
                  </a:lnTo>
                  <a:lnTo>
                    <a:pt x="81" y="95"/>
                  </a:lnTo>
                  <a:lnTo>
                    <a:pt x="0" y="121"/>
                  </a:lnTo>
                  <a:lnTo>
                    <a:pt x="60" y="0"/>
                  </a:lnTo>
                  <a:lnTo>
                    <a:pt x="202" y="53"/>
                  </a:lnTo>
                  <a:lnTo>
                    <a:pt x="128" y="80"/>
                  </a:lnTo>
                  <a:lnTo>
                    <a:pt x="128" y="80"/>
                  </a:lnTo>
                </a:path>
              </a:pathLst>
            </a:custGeom>
            <a:solidFill>
              <a:srgbClr val="99ffc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DEC-1133-4B03-989D-16DF78DD53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totyp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totype is a program created to explore a particular concep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re useful, time-effective, and cost-effective than merely acting on an assumption that may later backfi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ually created to communicate to the clien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particular tas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feasibility of a requir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user interfa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way of validating requir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577-4A44-4D76-A152-EEA927D3C2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valu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sults of each stage should be evaluated carefully prior to going on to the next st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fore moving on to the design, for example, the requirements should be evaluated to ensure completeness, consistency, and cla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esign evaluation should ensure that each requirement was adequately address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or to testing, the implementation should be give a thoroug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de walkthroug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8EB-9728-4D83-B406-78BE6BEF9B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esting Techniqu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lly, the goal of testing is to find err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often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fect test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good test will uncover problems in a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est c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clu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set of inpu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ser actions or other initial condi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pected outpu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not feasible to exhaust every possible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7DC-8636-419E-99BD-579FF82130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lack-Box Test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lack-box test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aps a set of specific inputs to a set of expected outpu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quivalence categor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collection of input se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input sets belong to the same equivalence category if there is no reason to believe that if one works, the other will n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testing one input set essentially tests the entire catego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D0D-1742-4EA1-86F4-CE637CCCF7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ite-Box Test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hite-box test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lso referred to as glass-box test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focuses on the internal logic such as the implementation of a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atement cover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guarantees that all statements in a method are execu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ndition cover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guarantes that all paths through a method are execu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AA9-38AF-4807-877C-C1A3FD0B84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 Evolutionary Development Mode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ill now divide the process of design 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architectural desig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primary classes and interac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etailed desig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specific classes, methods, and algorith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allows us to create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finement cyc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refinement focuses on one aspect of the syst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each refinement is addressed, the system evolv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97D-739F-49A9-A1EF-99D804E5D5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 Evolutionary Development Mode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173240" y="1698480"/>
            <a:ext cx="6404040" cy="4022640"/>
            <a:chOff x="1173240" y="1698480"/>
            <a:chExt cx="6404040" cy="4022640"/>
          </a:xfrm>
        </p:grpSpPr>
        <p:sp>
          <p:nvSpPr>
            <p:cNvPr id="199" name=""/>
            <p:cNvSpPr/>
            <p:nvPr/>
          </p:nvSpPr>
          <p:spPr>
            <a:xfrm>
              <a:off x="1173240" y="1820880"/>
              <a:ext cx="1220760" cy="51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stablish require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36720" y="1820880"/>
              <a:ext cx="1220760" cy="51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rchitectural desig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7920" y="1714680"/>
              <a:ext cx="1220760" cy="73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stablish refinement scop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57560" y="3062160"/>
              <a:ext cx="1314360" cy="51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nit and integration te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70160" y="4060800"/>
              <a:ext cx="1455840" cy="63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182520" bIns="18252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mplement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56520" y="1698480"/>
              <a:ext cx="1220760" cy="762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274680" bIns="2746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ystem te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25920" y="3062160"/>
              <a:ext cx="1479600" cy="51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dentify classes &amp; 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86400" y="4114800"/>
              <a:ext cx="1220760" cy="51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dentify relationshi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9920" y="5202360"/>
              <a:ext cx="1220760" cy="51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etailed desig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03360" y="2065320"/>
              <a:ext cx="303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38760" y="2101680"/>
              <a:ext cx="4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3760" y="2141640"/>
              <a:ext cx="760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99200" y="2523960"/>
              <a:ext cx="76032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35840" y="3591000"/>
              <a:ext cx="0" cy="53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222880" y="4657680"/>
              <a:ext cx="760320" cy="53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4003560" y="4733640"/>
              <a:ext cx="912960" cy="45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849840" y="3590640"/>
              <a:ext cx="0" cy="45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1280" y="2447640"/>
              <a:ext cx="836640" cy="60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710-3A50-4ECA-A0AB-9DC18E0D56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oftware Engineer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quality of the software we create is a direct result of the process we follow to develop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10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ftware development model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oftware life cyc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inear and iterative development approach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 evolutionary approach to object-oriented develop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3E3-22A2-4B02-8474-B322069FC6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inement Cycl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rst, we establish refinement scope to define the specific nature of the next refin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ch 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user interfa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particular algorith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particular requir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oosing the most appropriate next refinement is important and requires experie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DF5-550F-4258-97FF-034610801A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inement Cycl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xt, we identify classes and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nes that relate to the current refin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may overlap with other refin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often define by focusing on the roles they play in the syst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reusing existing clas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C17-8672-4798-8CB4-E71D4EC702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inement Cycl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n we identify relationships among clas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heritance (is-a) relationship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ses relationshi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stablishes another kind of bond between clas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lass A uses class B in some wa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n express cardinalit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ample:  A Car has (uses) four wheel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091-80CA-47D9-9440-186BB572D9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inement Cycl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ally, detailed design, implementation and te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sign of specific methods and their translation into c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nit te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ocuses on one particular component, such as a method or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gration te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ocuses on the interaction between compon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CE3-1387-4CA9-B789-599C98D477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PaintBox Projec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explore the evolutionary development model using a larger pro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aintBox program will allow the user to create drawings with various shapes and col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fter establishing the requirements, the following refinement steps were establishe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reate the basic user interfa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llow the user to draw shapes and change col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llow the user to select, move, and fill shap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llow the user to edit the dimensions of shap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llow the user to save and reload drawing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aintBox Refinement 1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irst refinement establishes the basic user interf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PaintBox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3"/>
              </a:rPr>
              <a:t>PaintFrame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4"/>
              </a:rPr>
              <a:t>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5"/>
              </a:rPr>
              <a:t>ButtonPanel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6"/>
              </a:rPr>
              <a:t>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7"/>
              </a:rPr>
              <a:t>DrawingPanel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8"/>
              </a:rPr>
              <a:t>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aintBox Refinement 2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47640" y="2514240"/>
            <a:ext cx="407664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PaintBox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aintFrame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uttonPanel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DrawingPanel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24280" y="2514240"/>
            <a:ext cx="422928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hape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ine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oundedShape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ect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Oval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Poly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1266840"/>
            <a:ext cx="8305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econd refinement allows the user to draw shapes and change col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Program Life Cycl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veral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ife cyc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program includes use and maintenanc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11200" y="2774520"/>
            <a:ext cx="6232680" cy="2543760"/>
            <a:chOff x="1411200" y="2774520"/>
            <a:chExt cx="6232680" cy="2543760"/>
          </a:xfrm>
        </p:grpSpPr>
        <p:sp>
          <p:nvSpPr>
            <p:cNvPr id="115" name=""/>
            <p:cNvSpPr/>
            <p:nvPr/>
          </p:nvSpPr>
          <p:spPr>
            <a:xfrm>
              <a:off x="4998960" y="2871720"/>
              <a:ext cx="1825560" cy="682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08240" y="2855880"/>
              <a:ext cx="1825560" cy="682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70520" y="4635360"/>
              <a:ext cx="1825560" cy="682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568840" y="3568680"/>
              <a:ext cx="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221520" y="3570120"/>
              <a:ext cx="0" cy="105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51440" y="3216240"/>
              <a:ext cx="9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13000" y="3249720"/>
              <a:ext cx="7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411200" y="2774520"/>
              <a:ext cx="0" cy="47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31000" y="3179880"/>
              <a:ext cx="81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C0A-FE41-4794-BC27-9219E3512A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ainten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aintena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asks include any modifications to an existing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ncludes defect removal and enhanc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istics of a program that make it easy to develop also make it easy to mainta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intenance efforts tend to far outweigh the development effort in today’s softwa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mall increases in effort at the development stage can greatly reduce maintenance task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806-C9D4-4E2D-8453-AA7B3763E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velopment vs. Mainten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50640" y="1569960"/>
            <a:ext cx="6639840" cy="4230720"/>
            <a:chOff x="1250640" y="1569960"/>
            <a:chExt cx="6639840" cy="4230720"/>
          </a:xfrm>
        </p:grpSpPr>
        <p:sp>
          <p:nvSpPr>
            <p:cNvPr id="128" name=""/>
            <p:cNvSpPr/>
            <p:nvPr/>
          </p:nvSpPr>
          <p:spPr>
            <a:xfrm>
              <a:off x="2625840" y="1860480"/>
              <a:ext cx="3892320" cy="3940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573440" y="1870200"/>
              <a:ext cx="5040" cy="20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572000" y="2734920"/>
              <a:ext cx="1641600" cy="11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596680" y="4498920"/>
              <a:ext cx="1403640" cy="85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549440" y="535464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146560" y="1926720"/>
              <a:ext cx="808200" cy="5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40360" y="1935000"/>
              <a:ext cx="133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0640" y="4719600"/>
              <a:ext cx="123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Use a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11040" y="1569960"/>
              <a:ext cx="127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175-0475-484C-B9C3-DBDAE81B7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velopment and Maintenance Effor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68560" y="2139840"/>
            <a:ext cx="6818040" cy="1808280"/>
            <a:chOff x="1168560" y="2139840"/>
            <a:chExt cx="6818040" cy="1808280"/>
          </a:xfrm>
        </p:grpSpPr>
        <p:sp>
          <p:nvSpPr>
            <p:cNvPr id="139" name=""/>
            <p:cNvSpPr/>
            <p:nvPr/>
          </p:nvSpPr>
          <p:spPr>
            <a:xfrm>
              <a:off x="1168560" y="2139840"/>
              <a:ext cx="6818040" cy="654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velopmen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00560" y="2157480"/>
              <a:ext cx="1440" cy="64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68560" y="3287880"/>
              <a:ext cx="6234120" cy="653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velopmen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60840" y="3305160"/>
              <a:ext cx="1440" cy="64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96600" y="4572000"/>
            <a:ext cx="55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mall increases in development effort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duce maintenance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4E1-6C44-413F-8CF1-4AF689E774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velopment Process Mode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o many programmers follow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uild-and-fi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pproa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write a program and modify it until it is functional, without regard to system desig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rrors are haphazardly addressed as they are discove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not really a development model at al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6DA-6764-411C-9610-FFD9FFFB62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Build-and-Fix Approach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90560" y="2003400"/>
            <a:ext cx="5803920" cy="2255760"/>
            <a:chOff x="1690560" y="2003400"/>
            <a:chExt cx="5803920" cy="2255760"/>
          </a:xfrm>
        </p:grpSpPr>
        <p:sp>
          <p:nvSpPr>
            <p:cNvPr id="148" name=""/>
            <p:cNvSpPr/>
            <p:nvPr/>
          </p:nvSpPr>
          <p:spPr>
            <a:xfrm>
              <a:off x="1690560" y="2676600"/>
              <a:ext cx="1749600" cy="1582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62600" y="2662200"/>
              <a:ext cx="1749240" cy="1582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if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1840" y="3408480"/>
              <a:ext cx="145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10400" y="3384720"/>
              <a:ext cx="78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51480" y="2004840"/>
              <a:ext cx="0" cy="61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614920" y="2003400"/>
              <a:ext cx="736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13480" y="2004840"/>
              <a:ext cx="0" cy="64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1B7-53DA-47EB-B50B-A5F4FEF3D5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Waterfall Mode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aterfall mode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as developed in the mid 1970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tivities that must be specifically addressed during development includ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stablishing clear and unambiguous require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reating a clean design from the require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mplementing the desig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esting the implement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riginally it was proposed as a linear model, with little or no backtrack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a nice goal, but is generally unrealisti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BBB-AAB6-406A-BD0A-716668B523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John Lewis</cp:lastModifiedBy>
  <dcterms:modified xsi:type="dcterms:W3CDTF">2000-09-05T12:38:57Z</dcterms:modified>
  <cp:revision>20</cp:revision>
  <dc:subject/>
  <dc:title>Chapter 2:  Using Objects </dc:title>
</cp:coreProperties>
</file>