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1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Page </a:t>
            </a:r>
            <a:fld id="{40BD2EB5-DA1A-43E0-9BC9-8B3E611FA28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E-tailers: Amazon.com, CD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Search Engines &amp; Portals: Yahoo, Excite, Goo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SPs: Juno, A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Transactions Sites: auction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Content Sites: Newspapers, other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Enabler Sites: Provide hardware and software the enable internet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Context: site’s layout and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Content: text, pictures, sound, and video that the website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Community: the ways that the site enables user-to-user 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Customization: site’s ability to tailor itself to different users or to allow users to personalize the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Communication: The ways the site enables site-to-user, user-to-site, or two-way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Connection: degree that the site is linked to oth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Commerce: site’s capabilities to enable commercial 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822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800" y="3780360"/>
            <a:ext cx="822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840" y="125424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2800" y="378036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840" y="378036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264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5240" y="1254240"/>
            <a:ext cx="264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680" y="1254240"/>
            <a:ext cx="264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800" y="3780360"/>
            <a:ext cx="264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5240" y="3780360"/>
            <a:ext cx="264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680" y="3780360"/>
            <a:ext cx="264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00" y="125424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40158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9840" y="1254240"/>
            <a:ext cx="40158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79080" y="-360"/>
            <a:ext cx="8410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9840" y="1254240"/>
            <a:ext cx="40158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2800" y="378036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2800" y="125424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40158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9840" y="125424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9840" y="378036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9840" y="125424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800" y="3780360"/>
            <a:ext cx="822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822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800" y="3780360"/>
            <a:ext cx="822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9840" y="125424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2800" y="378036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9840" y="378036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264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5240" y="1254240"/>
            <a:ext cx="264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680" y="1254240"/>
            <a:ext cx="264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800" y="3780360"/>
            <a:ext cx="264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5240" y="3780360"/>
            <a:ext cx="264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680" y="3780360"/>
            <a:ext cx="264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40158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840" y="1254240"/>
            <a:ext cx="40158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080" y="-360"/>
            <a:ext cx="8410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840" y="1254240"/>
            <a:ext cx="40158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2800" y="378036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40158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840" y="125424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840" y="378036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840" y="1254240"/>
            <a:ext cx="40158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2800" y="3780360"/>
            <a:ext cx="822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2800" y="125424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1880" y="6553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08A9-4769-418C-ABE5-B22D0DC78D7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1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visint.com/" TargetMode="External"/><Relationship Id="rId2" Type="http://schemas.openxmlformats.org/officeDocument/2006/relationships/hyperlink" Target="http://www.covisint.com/" TargetMode="External"/><Relationship Id="rId3" Type="http://schemas.openxmlformats.org/officeDocument/2006/relationships/hyperlink" Target="http://www.covisint.com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riceline.com/" TargetMode="External"/><Relationship Id="rId2" Type="http://schemas.openxmlformats.org/officeDocument/2006/relationships/hyperlink" Target="http://www.priceline.com/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61920" y="412128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Lectur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Marketing in the Digital 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(19.06.0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715320" y="2011320"/>
            <a:ext cx="77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SPD 4120</a:t>
            </a:r>
            <a:br>
              <a:rPr sz="3600"/>
            </a:b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Internet Marketing and Log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82296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E-Commerce Networks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53960" y="1495440"/>
            <a:ext cx="6361200" cy="4359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587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新細明體"/>
              </a:rPr>
              <a:t>Global eXchange Services (GXS) consists of more than 100,000 trading partners in 58 countries.  GXS completes some 1 billion transactions each year, accounting for $1 trillion worth of good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E-Marketing in the Digital Age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The marketing side of e-commer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Includes efforts to communicate about, promote, and sell products and services over th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E-purchasing is the buying side of e-commer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It consists of companies purchasing goods, services, and information from online suppli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143000" y="1447920"/>
            <a:ext cx="6400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8072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87"/>
                </a:solidFill>
                <a:latin typeface="Arial"/>
                <a:ea typeface="新細明體"/>
              </a:rPr>
              <a:t>Benefits to Buyers</a:t>
            </a:r>
            <a:endParaRPr b="1" lang="en-US" sz="36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143000" y="1344600"/>
            <a:ext cx="6400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720" y="2105640"/>
            <a:ext cx="7824960" cy="520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4120" y="3001320"/>
            <a:ext cx="7824600" cy="520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Buying is easy and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560" y="3683520"/>
            <a:ext cx="7824960" cy="947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Provides greater product access and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0480" y="4771080"/>
            <a:ext cx="7824960" cy="520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Provides access to comparativ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8400" y="5625360"/>
            <a:ext cx="7824960" cy="520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Buying is interactive and immed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8072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87"/>
                </a:solidFill>
                <a:latin typeface="Arial"/>
                <a:ea typeface="新細明體"/>
              </a:rPr>
              <a:t>Benefits to Sellers</a:t>
            </a:r>
            <a:endParaRPr b="1" lang="en-US" sz="36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43000" y="1344600"/>
            <a:ext cx="6400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6720" y="1892520"/>
            <a:ext cx="7824960" cy="947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Powerful tool for building custome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4120" y="3001320"/>
            <a:ext cx="7824600" cy="5205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Can redu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896640"/>
            <a:ext cx="7824960" cy="5205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Can increase speed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0480" y="4557960"/>
            <a:ext cx="7824960" cy="947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Offers greater flexibility in offers an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8400" y="5625360"/>
            <a:ext cx="7824960" cy="5205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Is a truly global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E-Marketing Domains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2800" y="1779480"/>
            <a:ext cx="82296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B2C (Business to Consumer)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The online selling of goods and services to final consum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Expected to generate $428 billion in 200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There is increasing diversity in buy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This provides increasing opportunities for targeting mark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Is customer initiated and controll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6352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B2B (Business to Business)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52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By 2005, more than 500,000 enterprises will participate as buyers, sellers, or bo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Most major B2B marketers offer product information, purchasing, and support services on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Open trading exchanges—huge specialty e-marketspaces to conduct transa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ea typeface="新細明體"/>
                <a:hlinkClick r:id="rId1"/>
              </a:rPr>
              <a:t>Click Here to Visit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ea typeface="新細明體"/>
                <a:hlinkClick r:id="rId2"/>
              </a:rPr>
              <a:t>Covisint's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ea typeface="新細明體"/>
                <a:hlinkClick r:id="rId3"/>
              </a:rPr>
              <a:t>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More private trading networks being develop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C2C (Consumer to Consumer)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Occurs on the Web and includes a wide range of products and ser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Forum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 discussion groups located on commercial online ser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Newsgroup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 the Internet version of foru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C2B (Consumer to Business)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Consumers can search out sellers, view offers, initiate purchases, and give feedb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Example: on priceline.com, one can bid for airline tickets, hotel rooms, etc. and decide whether to accept company off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ea typeface="新細明體"/>
                <a:hlinkClick r:id="rId1"/>
              </a:rPr>
              <a:t>Click Here to Visit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ea typeface="新細明體"/>
                <a:hlinkClick r:id="rId2"/>
              </a:rPr>
              <a:t>pricelin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Types of e-Marketers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44760" y="1681200"/>
            <a:ext cx="601956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87"/>
                </a:solidFill>
                <a:latin typeface="Arial"/>
                <a:ea typeface="新細明體"/>
              </a:rPr>
              <a:t>Objectives</a:t>
            </a:r>
            <a:endParaRPr b="1" lang="en-US" sz="36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335240"/>
            <a:ext cx="876312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新細明體"/>
              </a:rPr>
              <a:t>Identify the major forces shaping the new Digital Age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新細明體"/>
              </a:rPr>
              <a:t>Explain how companies have responded to the Internet and other powerful new technologies with e-business strategies, and how these strategies have resulted in benefits to both buyers and seller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新細明體"/>
              </a:rPr>
              <a:t>Describe the four major e-commerce domain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新細明體"/>
              </a:rPr>
              <a:t>Discuss how companies go about conducting e-commerce to profitably deliver more value to customer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新細明體"/>
              </a:rPr>
              <a:t>Overview the promise and challenges that e-commerce presents for the future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Cloud"/>
          <p:cNvSpPr/>
          <p:nvPr/>
        </p:nvSpPr>
        <p:spPr>
          <a:xfrm>
            <a:off x="395280" y="1514520"/>
            <a:ext cx="8190000" cy="5343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Click-Only Companies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7560" y="1852560"/>
            <a:ext cx="2011320" cy="1246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E-ta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3960" y="2517840"/>
            <a:ext cx="2011320" cy="124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Search Engines and Por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54720" y="4336920"/>
            <a:ext cx="2011320" cy="1246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Internet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21160" y="5241960"/>
            <a:ext cx="2011320" cy="1246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Transaction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800" y="4317840"/>
            <a:ext cx="2011320" cy="1246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Content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2920" y="2536920"/>
            <a:ext cx="2011320" cy="124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Enable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91040" y="3373560"/>
            <a:ext cx="262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新細明體"/>
              </a:rPr>
              <a:t>Types of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Reasons for dot.com Failures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Poor research or plann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Relied on spin and hype instead of marketing strateg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Spent too heavily on brand identi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Devoted too much effort to acquiring new customers instead of building loyal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217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Click-and-Mortar Companies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1776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Most established companies resisted adding Web sites because of the potential for channel conflict and cannibaliz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Many are now doing better than click-only compan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Reas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Trusted brand names and more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Large customer 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More knowledge and 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Good relationships with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Can offer customers more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Setting Up for E-Marketing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42800" y="1914480"/>
            <a:ext cx="8229600" cy="35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Types of Web Sites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0560" y="1490400"/>
            <a:ext cx="7586640" cy="2940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ahoma"/>
                <a:ea typeface="新細明體"/>
              </a:rPr>
              <a:t>Corporate Web S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Designed to build customer goodwill and supplement other sales chann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Offers information to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Builds closer customer relations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Generates excitement about the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3120" y="4676400"/>
            <a:ext cx="7497720" cy="1994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ahoma"/>
                <a:ea typeface="新細明體"/>
              </a:rPr>
              <a:t>Marketing Web S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Engages consumers in an interaction that moves them closer to a direct purc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Provides information about the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ocument"/>
          <p:cNvSpPr/>
          <p:nvPr/>
        </p:nvSpPr>
        <p:spPr>
          <a:xfrm rot="16200000">
            <a:off x="2169360" y="45000"/>
            <a:ext cx="4700520" cy="82198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87"/>
                </a:solidFill>
                <a:latin typeface="Arial"/>
                <a:ea typeface="新細明體"/>
              </a:rPr>
              <a:t>Designing Attractive Web Sites</a:t>
            </a:r>
            <a:endParaRPr b="1" lang="en-US" sz="40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41080" y="3287520"/>
            <a:ext cx="4389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The 7 Cs of Effective Web Sit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09680" y="1967040"/>
            <a:ext cx="8099280" cy="4430160"/>
            <a:chOff x="409680" y="1967040"/>
            <a:chExt cx="8099280" cy="4430160"/>
          </a:xfrm>
        </p:grpSpPr>
        <p:sp>
          <p:nvSpPr>
            <p:cNvPr id="166" name=""/>
            <p:cNvSpPr/>
            <p:nvPr/>
          </p:nvSpPr>
          <p:spPr>
            <a:xfrm>
              <a:off x="3341520" y="1967040"/>
              <a:ext cx="2241720" cy="833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Co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50080" y="2795400"/>
              <a:ext cx="2241360" cy="834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Cont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7600" y="4303800"/>
              <a:ext cx="2241360" cy="834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Commun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9040" y="5554080"/>
              <a:ext cx="2241720" cy="834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Customiz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17600" y="5563080"/>
              <a:ext cx="2241720" cy="834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9680" y="4447800"/>
              <a:ext cx="2241360" cy="834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1960" y="2770200"/>
              <a:ext cx="2241720" cy="834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Commer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Online Ads and Promotion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Forms of online advertising &amp; promo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Banner ads &amp; tickers (move across the scre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Skyscrapers (tall, skinny ads at the side of a pa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Rectangles (boxes that are larger than a bann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Interstitials (pop up between changes on Web si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Content sponsorships (sponsoring special cont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Microsites (limited areas paid for by an external compan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Viral marketing (Internet version of word-of-mou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20124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Viral Marketing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00040" y="1332000"/>
            <a:ext cx="8088480" cy="4432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9360" y="4670280"/>
            <a:ext cx="3454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Gillette used viral marketing to introduce the 3-bladed Venus razor for women, greatly expanding the audience reached by its “Reveal the Goddess in You” truck tour and beach-site promo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87"/>
                </a:solidFill>
                <a:latin typeface="Arial"/>
                <a:ea typeface="新細明體"/>
              </a:rPr>
              <a:t>The Future of Online Advertising</a:t>
            </a:r>
            <a:endParaRPr b="1" lang="en-US" sz="40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Web communi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Allows members to congregate online and exchange views on issues of common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E-mai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Use of “enriched” e-mai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Backlash against spam can b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Allow people to opt-out of promo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Legal and Ethical Issues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Online priv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Online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Internet fra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Segmentation and discri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Access by vulnerable or unauthorized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87"/>
                </a:solidFill>
                <a:latin typeface="Arial"/>
                <a:ea typeface="新細明體"/>
              </a:rPr>
              <a:t>Forces Shaping the Digital Age</a:t>
            </a:r>
            <a:endParaRPr b="1" lang="en-US" sz="4000" spc="-1" strike="noStrike">
              <a:solidFill>
                <a:srgbClr val="fafd87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95480" y="1620720"/>
            <a:ext cx="6613560" cy="52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87"/>
                </a:solidFill>
                <a:latin typeface="Arial"/>
                <a:ea typeface="新細明體"/>
              </a:rPr>
              <a:t>Forces Shaping the Digital Age</a:t>
            </a:r>
            <a:endParaRPr b="1" lang="en-US" sz="40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9600" y="1866600"/>
            <a:ext cx="44956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Digitalization &amp;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Intranets – connect people within a compan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Extranets – connect a company with its suppliers, distributors, and outside partn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Internet – connects users around the wor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689360" y="1893960"/>
            <a:ext cx="42674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Internet Expl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Explosive worldwide growth forms the heart of the New Econ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Increasing numbers of users each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Companies must adopt Internet technology or risk being left beh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87"/>
                </a:solidFill>
                <a:latin typeface="Arial"/>
                <a:ea typeface="新細明體"/>
              </a:rPr>
              <a:t>Forces Shaping the Digital Age</a:t>
            </a:r>
            <a:endParaRPr b="1" lang="en-US" sz="40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New Types of Intermediar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Direct selling via the Internet bypassed existing intermediaries (disintermediatio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Brick-and-mortar” firms became “click-and-mortar” compan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As a result, some “click-only” companies have fail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87"/>
                </a:solidFill>
                <a:latin typeface="Arial"/>
                <a:ea typeface="新細明體"/>
              </a:rPr>
              <a:t>Forces Shaping the Digital Age</a:t>
            </a:r>
            <a:endParaRPr b="1" lang="en-US" sz="40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Customization and Customeriz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With customization, the company custom designs the market offering for the custom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With customerization, the customer designs the market offering and the company makes it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8072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87"/>
                </a:solidFill>
                <a:latin typeface="Arial"/>
                <a:ea typeface="新細明體"/>
              </a:rPr>
              <a:t>Marketing Strategy in the Digital Age</a:t>
            </a:r>
            <a:endParaRPr b="1" lang="en-US" sz="36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6720" y="1727280"/>
            <a:ext cx="7824960" cy="127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Requires a new model for marketing strategy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4640" y="3406680"/>
            <a:ext cx="7824960" cy="1279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Some suggest that all buying and selling will eventually be done electron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2560" y="5065560"/>
            <a:ext cx="7824960" cy="1279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Companies need to retain old skills and practices but add new 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E-Business in the Digital Age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Involves the use of electronic platforms to conduct company busin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Web sites for selling and customer 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Intranets for within-company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Extranets connecting with major suppliers and distribu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41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87"/>
                </a:solidFill>
                <a:latin typeface="Arial"/>
                <a:ea typeface="新細明體"/>
              </a:rPr>
              <a:t>E-Commerce in the Digital Age </a:t>
            </a:r>
            <a:endParaRPr b="1" lang="en-US" sz="4400" spc="-1" strike="noStrike">
              <a:solidFill>
                <a:srgbClr val="fafd8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125424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More specific than e-busin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Involves buying and selling processes supported by electronic means, primarily th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e-marke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e-purchasing (e-procur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7:12:11Z</dcterms:created>
  <dc:creator>Valued Gateway Client</dc:creator>
  <dc:description/>
  <dc:language>en-US</dc:language>
  <cp:lastModifiedBy>Joseph Leung</cp:lastModifiedBy>
  <dcterms:modified xsi:type="dcterms:W3CDTF">2006-06-19T01:27:56Z</dcterms:modified>
  <cp:revision>172</cp:revision>
  <dc:subject/>
  <dc:title>Chapter 1</dc:title>
</cp:coreProperties>
</file>