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EF0-2B02-4649-A4BD-AB45BF40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7EEC-842E-4932-9101-674D83D1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CEC-9EE6-4E1C-952B-129F6066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7BB-0A1E-4EEF-ADA1-F5DACC2A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39B-4365-49F8-9633-D5AA6CBE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AC3-71B0-40D8-B143-66C9F2B4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2A1-D0B2-4100-998B-90D229F4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2DD-AEAD-4930-B282-27A5D774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A0C-A690-43B6-9701-81DE4FB6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DC79-0282-4BA0-80F3-47D201B5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8F99-479F-4C71-905E-27379513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A19-E5DC-490B-9E1C-BE8BDB8B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22D7-6A6A-4159-9BF4-CB4A737202A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PD 4120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ernet Marketing and Log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cture 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Business Communication and Web Page Desig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2.06.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sign do’s and don’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523880"/>
            <a:ext cx="769644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most important thing is to make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nformatio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on your website easy to find and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easy to understand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stantly think about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hy your users are visiting this sit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and what they want from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 som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look at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other academic website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and see what they have done (e.g. </a:t>
            </a:r>
            <a:r>
              <a:rPr b="0" lang="en-GB" sz="2000" spc="-1" strike="noStrike" u="sng">
                <a:solidFill>
                  <a:srgbClr val="0072b1"/>
                </a:solidFill>
                <a:uFillTx/>
                <a:latin typeface="Tahoma"/>
              </a:rPr>
              <a:t>www.chem.ox.ac.uk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f you find a site that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you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ik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ownload it, delete their conten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ut in your ow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code is not copyrighted and it’s the fastest way to learn.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mage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are up to you th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lot of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esign concep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used in writing a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good PowerPoin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presentation transfer directly to web pages, and a lot is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ommon sens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sign do’s and don’ts: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523880"/>
            <a:ext cx="769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f you are planning on making a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arger sit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3+pages) the easiest way I find to build a website is to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raw it out on paper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fir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76360" y="2924280"/>
            <a:ext cx="61642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sign do’s and don’ts: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52388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ers expect to find the majority of websites in the following form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69343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sign do’s and don’ts: Colour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3960" y="1981080"/>
            <a:ext cx="7696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e colours to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highlight informatio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ivide your spac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ink about how these colours may appear on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ifferent display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projectors/laptops/printed) or to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olourbli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191120"/>
            <a:ext cx="609480" cy="825480"/>
          </a:xfrm>
          <a:prstGeom prst="rect">
            <a:avLst/>
          </a:prstGeom>
          <a:solidFill>
            <a:srgbClr val="f0e4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4191120"/>
            <a:ext cx="609480" cy="825480"/>
          </a:xfrm>
          <a:prstGeom prst="rect">
            <a:avLst/>
          </a:prstGeom>
          <a:solidFill>
            <a:srgbClr val="119c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2b1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191120"/>
            <a:ext cx="609840" cy="825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91120"/>
            <a:ext cx="609480" cy="825480"/>
          </a:xfrm>
          <a:prstGeom prst="rect">
            <a:avLst/>
          </a:prstGeom>
          <a:solidFill>
            <a:srgbClr val="5a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4191120"/>
            <a:ext cx="609480" cy="82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4191120"/>
            <a:ext cx="60984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4191120"/>
            <a:ext cx="609480" cy="825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191120"/>
            <a:ext cx="60948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8880" y="4191120"/>
            <a:ext cx="609840" cy="825480"/>
          </a:xfrm>
          <a:prstGeom prst="rect">
            <a:avLst/>
          </a:prstGeom>
          <a:solidFill>
            <a:srgbClr val="bf0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f357d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4440" y="541008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72b1"/>
                </a:solidFill>
                <a:uFillTx/>
                <a:latin typeface="Tahoma"/>
              </a:rPr>
              <a:t>www.vischeck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sign do’s and don’ts: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FancyNav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6162480" cy="799920"/>
          </a:xfrm>
          <a:prstGeom prst="rect">
            <a:avLst/>
          </a:prstGeom>
          <a:ln w="0">
            <a:noFill/>
          </a:ln>
        </p:spPr>
      </p:pic>
      <p:pic>
        <p:nvPicPr>
          <p:cNvPr id="86" name="NormalNav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6162480" cy="799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99840" y="149688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520" y="287028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9960" y="4224240"/>
            <a:ext cx="748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k yourself if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mag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adds any value to the page,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hy is it the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void using clipar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images you create (photos or graphics) are much more valuable to the u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sign do’s and don’ts: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905120"/>
            <a:ext cx="76964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280" indent="-98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t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of the website is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up to you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-98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ww.Alertbox.com has a lot of information about how to write for the we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-98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Users read websit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s they would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spaper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scanning for interesting pieces of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-98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eep paragraphs short, allowing for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canabilit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-98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olding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ertain words or phases allow users to quickly obtain the most relevant information from a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20560" y="0"/>
            <a:ext cx="8623440" cy="550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520560"/>
            <a:ext cx="554040" cy="6337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4920" y="6303960"/>
            <a:ext cx="8583480" cy="554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8589960" y="54000"/>
            <a:ext cx="554040" cy="6294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8604360" y="631836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p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960" y="194004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ce you have written a website you need to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upload it to a web serv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so that other computers can view it)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via FT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file transfer protoco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are plenty of FTP programs around, for example: CoreFTP and even Intern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0560" y="0"/>
            <a:ext cx="8623440" cy="550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520560"/>
            <a:ext cx="554040" cy="6337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4920" y="6303960"/>
            <a:ext cx="8583480" cy="554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8589960" y="54000"/>
            <a:ext cx="554040" cy="6294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8604360" y="631836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vi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0160" y="1905120"/>
            <a:ext cx="7483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ce you have written your websit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sk somebod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to use it and give you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One of the best ways of doing this is to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t them a task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uch as ‘find my contact details’ or ‘what journal was my first paper in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more people you get to ‘play’ with your website the better, you will find there is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ways room for improvem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d websites evolve over ti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0560" y="0"/>
            <a:ext cx="8623440" cy="550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520560"/>
            <a:ext cx="554040" cy="6337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4920" y="6303960"/>
            <a:ext cx="8583480" cy="554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8589960" y="54000"/>
            <a:ext cx="554040" cy="6294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8604360" y="631836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960" y="1905120"/>
            <a:ext cx="7696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280" indent="-98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aving a site that is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viously out of da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gives a worse impression that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t having a site at al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-98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ut a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‘Last updated xx/xx/xxxx’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on every page, that way even if it’s been a while since you updated the user is aware of th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-98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aintenance takes no time at al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once you have written the page, you just change the text in most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523880"/>
            <a:ext cx="7696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ave a webs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hould it be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does it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can you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esig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do’s and don’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ploading, Reviewing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y have a web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916280"/>
            <a:ext cx="8353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introduc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dea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d convey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nforma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to a  global audi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body else has one and it only takes a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523880"/>
            <a:ext cx="78487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par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y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raphic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or photos you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the web pages in an HTML editor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Uploa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the pages to your personal webspace using an FTP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ell m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the web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should it be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523880"/>
            <a:ext cx="7696440" cy="36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o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s you target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udien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Acade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General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re they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visit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your sit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Contact details, publications, description of research, reading lists, pi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tools can you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523880"/>
            <a:ext cx="76964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are hundreds of programs out there to help you design a website. They fall into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categori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de Base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directly writing the HTML code line by line.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73320" y="3048120"/>
            <a:ext cx="47959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tools can you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523880"/>
            <a:ext cx="79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280" indent="-98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raphic base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Where what-you-see-is-what-you-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00320" y="2057400"/>
            <a:ext cx="6543360" cy="348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1760" y="5689440"/>
            <a:ext cx="50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reamweaver v8 </a:t>
            </a:r>
            <a:r>
              <a:rPr b="0" lang="en-GB" sz="2000" spc="-1" strike="noStrike" u="sng">
                <a:solidFill>
                  <a:srgbClr val="0072b1"/>
                </a:solidFill>
                <a:uFillTx/>
                <a:latin typeface="Tahoma"/>
              </a:rPr>
              <a:t>www.macromedi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tools can you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523880"/>
            <a:ext cx="807732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s of progra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Code Based: Notepad, Fire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Graphic Based: Word, Dreamweaver, FrontPage (MS off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you can write a PowerPoint presentation, you can write a website in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te: always call your homepage 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sign do’s and don’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960" y="2743200"/>
            <a:ext cx="76960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b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rs spend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st of their time on other sit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so that is where they form their expectations for how the Web work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Jacobs Law 1999 </a:t>
            </a:r>
            <a:r>
              <a:rPr b="0" lang="en-GB" sz="1800" spc="-1" strike="noStrike" u="sng">
                <a:solidFill>
                  <a:srgbClr val="0072b1"/>
                </a:solidFill>
                <a:uFillTx/>
                <a:latin typeface="Tahoma"/>
              </a:rPr>
              <a:t>www.alertbox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02:50:37Z</dcterms:created>
  <dc:creator>Joseph Leung</dc:creator>
  <dc:description/>
  <dc:language>en-US</dc:language>
  <cp:lastModifiedBy>Joseph Leung</cp:lastModifiedBy>
  <dcterms:modified xsi:type="dcterms:W3CDTF">2006-06-21T03:16:32Z</dcterms:modified>
  <cp:revision>9</cp:revision>
  <dc:subject/>
  <dc:title>SPD 4120 Internet Marketing and Logistics</dc:title>
</cp:coreProperties>
</file>