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948-81AC-462C-AC37-2EBF1A37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9E5-B391-4283-9F4C-300A7D3E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22C-FFBF-4E16-8038-ADB211B5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B67-6DF8-40A9-8F34-41B08134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3244-5197-4909-9F42-EE0AC0EF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94C7-9EA8-4428-8442-F5472E8B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2B4A-D00D-417B-9886-DEB8DBE3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C02A-ABB4-4678-98BE-11732028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36D6-D414-4896-9BF3-7FAE9DF7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8BDC-62F4-4E9B-A2F7-16C785A3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1B9F-F79A-4806-BBDF-E59D1A17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850-BC5A-443D-A8EE-C1B54CD6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A959-4253-41D3-B7C0-B0691E75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4BA1-8F3D-44E0-84C5-830897BA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412C-61F8-4DA3-A206-EBA51EFC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650B-01BD-4A7E-9EBC-61DA08D0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9D39-F350-4444-AA8C-1C1920E9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D73-BBE3-4045-A0FD-9A280A3D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2EB1-A00B-4D44-A4EA-0A3008AF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B6A-54F5-43A8-9F2F-CFD62F5E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7D8-0348-4AEA-B0ED-E9F5EED3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AF5-5BBB-46FA-AA7D-2F70BD83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D54E-A6A0-4988-A0BA-8D35F57B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50D-CE19-41D0-96BE-08D5A6A6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DAC0-B30B-4C08-AE07-41F8C07C04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5E8B-5629-447E-B6CD-8D2E2584EC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dnow.com/" TargetMode="External"/><Relationship Id="rId2" Type="http://schemas.openxmlformats.org/officeDocument/2006/relationships/hyperlink" Target="http://www.lycos.com/" TargetMode="External"/><Relationship Id="rId3" Type="http://schemas.openxmlformats.org/officeDocument/2006/relationships/hyperlink" Target="http://www.doubleclick.com/us/" TargetMode="External"/><Relationship Id="rId4" Type="http://schemas.openxmlformats.org/officeDocument/2006/relationships/hyperlink" Target="http://www.etrade.com/" TargetMode="External"/><Relationship Id="rId5" Type="http://schemas.openxmlformats.org/officeDocument/2006/relationships/hyperlink" Target="http://www.amazon.com/" TargetMode="Externa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schwab.com/" TargetMode="External"/><Relationship Id="rId2" Type="http://schemas.openxmlformats.org/officeDocument/2006/relationships/hyperlink" Target="http://www.eschwab.com/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fedex.com/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amazon.com/" TargetMode="External"/><Relationship Id="rId2" Type="http://schemas.openxmlformats.org/officeDocument/2006/relationships/hyperlink" Target="http://www.amazon.com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isbdcorp.org/gmag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ahoma"/>
                <a:ea typeface="新細明體"/>
              </a:rPr>
              <a:t>SPD 4120</a:t>
            </a:r>
            <a:br>
              <a:rPr sz="4000"/>
            </a:br>
            <a:r>
              <a:rPr b="1" lang="en-US" sz="4000" spc="-1" strike="noStrike">
                <a:solidFill>
                  <a:srgbClr val="1c1c1c"/>
                </a:solidFill>
                <a:latin typeface="Tahoma"/>
                <a:ea typeface="新細明體"/>
              </a:rPr>
              <a:t>Internet Marketing and Logistics</a:t>
            </a:r>
            <a:endParaRPr b="0" lang="en-US" sz="4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  <a:ea typeface="新細明體"/>
              </a:rPr>
              <a:t>Lecture 2a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  <a:ea typeface="新細明體"/>
              </a:rPr>
              <a:t>The Emergence of Internet Marketing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  <a:ea typeface="新細明體"/>
              </a:rPr>
              <a:t>(19.06.06)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B96E-DAF2-4939-92A7-34523BA7DF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Undesirable changes created by a networked world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Tahoma"/>
              </a:rPr>
              <a:t>Societies change as global communities based on interests form,</a:t>
            </a:r>
            <a:endParaRPr b="0" lang="en-US" sz="26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Tahoma"/>
              </a:rPr>
              <a:t>Worldwide information access slowly decreases cultural and language differences,</a:t>
            </a:r>
            <a:endParaRPr b="0" lang="en-US" sz="26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Tahoma"/>
              </a:rPr>
              <a:t>Easy computer networking = work and home boundaries are blurring = more convenient work = encourage more workaholism and less time with family.</a:t>
            </a:r>
            <a:endParaRPr b="0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C9D-4419-4C44-BB28-DF5A4CF844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Undesirable changes created by a networked world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Tahoma"/>
              </a:rPr>
              <a:t>Class divisions will grow, preventing the upward mobility of people on lower socioeconomic levels and even entire developing countries, </a:t>
            </a:r>
            <a:endParaRPr b="0" lang="en-US" sz="26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Tahoma"/>
              </a:rPr>
              <a:t>Digital divide: Internet adoption occurs when folks have:</a:t>
            </a:r>
            <a:endParaRPr b="0" lang="en-US" sz="26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Enough money to buy a computer, 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The literacy to read what is on Web pages, 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The education to be motivated to do it. 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03E-9F62-4056-A026-640F37B948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ahoma"/>
              </a:rPr>
              <a:t>The digital environment is enhancing processes and activities across the entire organization:</a:t>
            </a:r>
            <a:endParaRPr b="0" lang="en-US" sz="3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Cross-functional teams using computer networks to share and apply knowledge for increased efficiency and profitability,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Financial experts communicate shareholder information online, file required government statements, and invent new ways to value risk, etc., 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Human resources personnel use the Net for electronic recruiting and training; an increasing number are managing organizational knowledge and workflow through corporate Web portals. 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020-6A00-40B8-9088-1081B1EAAA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ahoma"/>
              </a:rPr>
              <a:t>The digital environment is enhancing processes and activities across the entire organization:</a:t>
            </a:r>
            <a:endParaRPr b="0" lang="en-US" sz="3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Production and operation managers can adjust manufacturing based on the Internet’s ability to give immediate sales feedback resulting in truly just-in-time inventory and building products to order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Strategists are leveraging the Net to apply the firm’s knowledge in building and maintaining a competitive edge (easy access to data).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D86-4E89-4C37-B72F-77A3A6DB1B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Important e-business benefits according </a:t>
            </a:r>
            <a:br>
              <a:rPr sz="4400"/>
            </a:b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to U.S. top executives: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Building better quality customer relationships,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Finding more business partners and other development opportunities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Building better brand visibility.</a:t>
            </a:r>
            <a:r>
              <a:rPr b="0" lang="en-US" sz="36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0C7-6828-4B7A-A463-E0E63539A8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Tough Times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The first generation of e-business was like a gold rush = creation of a Web presence and experimentation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Results: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Huge sales and market share,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BUT little was brought to the bottom line and profit was negative,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ince January 2000, however, over 500 Internet firms have shut down in the U.S. alone.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E.g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DNow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,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Lycos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,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DoubleClick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,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E*Trade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, and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Amazon.com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The “</a:t>
            </a:r>
            <a:r>
              <a:rPr b="0" i="1" lang="en-US" sz="2000" spc="-1" strike="noStrike">
                <a:solidFill>
                  <a:srgbClr val="1c1c1c"/>
                </a:solidFill>
                <a:latin typeface="Tahoma"/>
              </a:rPr>
              <a:t>trough of disillusion”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is based 30% on the technology recession and 70% on disappointment with e-business results.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8C1-BB70-4EFD-ACA9-137B282798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Tough Times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Marketers return to their traditional roots and rely on well-grounded strategy and sound marketing practices. 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During the dot-com shakeout from 2000-2002, there was much industry consolidation: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Some firms, such as Levi Strauss, stopped selling online = not efficient + created 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channel conflict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Other firms merged, 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E.g. e-business firm took over a traditional firm = AOL purchased Time-Warner.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B24-CDC4-4630-95F7-DC4142A17C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6483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ahoma"/>
              </a:rPr>
              <a:t>The Most Important Benefits of E-Business to U.S. Executives</a:t>
            </a:r>
            <a:br>
              <a:rPr sz="2000"/>
            </a:br>
            <a:r>
              <a:rPr b="0" i="1" lang="en-US" sz="2000" spc="-1" strike="noStrike">
                <a:solidFill>
                  <a:srgbClr val="003399"/>
                </a:solidFill>
                <a:latin typeface="Tahoma"/>
              </a:rPr>
              <a:t>Source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: “Key Business and Marketing...” (2002)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ahoma"/>
                <a:ea typeface="Arial Unicode MS"/>
              </a:rPr>
              <a:t>Benefit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  <a:ea typeface="Arial Unicode MS"/>
              </a:rPr>
              <a:t>% Mentioning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Better quality customer relationships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61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More business development opportunities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50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Better brand visibility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50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Drive fat from supply chain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42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Reduce time-to-market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33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Increase customer quantity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25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F47-831C-4F19-A120-FB79D832B3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What will the future be?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Gartner Group predicts that a </a:t>
            </a:r>
            <a:r>
              <a:rPr b="0" i="1" lang="en-US" sz="2000" spc="-1" strike="noStrike">
                <a:solidFill>
                  <a:srgbClr val="1c1c1c"/>
                </a:solidFill>
                <a:latin typeface="Tahoma"/>
              </a:rPr>
              <a:t>true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e-business model will emerge, and by 2008 the “e” will be dropped, making electronic business just part of the way things are done.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ome say that “E-business has become just business. E-commerce has become just commerce. The new economy has become just the economy (Aronica and Fingar 2001)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”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Others say that this is far from the truth—for them, e-business will always have its own models, concepts, and practices.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Charles Schwab has already gone through the entire cycle allowing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e.Schwab.com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to cannibalize the larger brick-and-mortar securities firm in 1998.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A55-D7CB-4B80-AFAC-425CE80120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838080"/>
            <a:ext cx="838188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6019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Tahoma"/>
              </a:rPr>
              <a:t>There is Hope After the Trough of Disillusion</a:t>
            </a:r>
            <a:br>
              <a:rPr sz="1600"/>
            </a:br>
            <a:r>
              <a:rPr b="0" i="1" lang="en-US" sz="1600" spc="-1" strike="noStrike">
                <a:solidFill>
                  <a:srgbClr val="1c1c1c"/>
                </a:solidFill>
                <a:latin typeface="Tahoma"/>
              </a:rPr>
              <a:t>Source:</a:t>
            </a:r>
            <a:r>
              <a:rPr b="0" lang="en-US" sz="1600" spc="-1" strike="noStrike">
                <a:solidFill>
                  <a:srgbClr val="1c1c1c"/>
                </a:solidFill>
                <a:latin typeface="Tahoma"/>
              </a:rPr>
              <a:t> Adapted from Raskino and Andren of Gartner Research (2001)</a:t>
            </a:r>
            <a:endParaRPr b="0" lang="en-US" sz="1600" spc="-1" strike="noStrike">
              <a:solidFill>
                <a:srgbClr val="1c1c1c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143000" y="1157400"/>
          <a:ext cx="6781680" cy="49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57400"/>
                    <a:ext cx="678168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28600" y="4546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E-Marketing in Context: W</a:t>
            </a:r>
            <a:r>
              <a:rPr b="0" lang="en-US" sz="2200" spc="-1" strike="noStrike">
                <a:solidFill>
                  <a:srgbClr val="003399"/>
                </a:solidFill>
                <a:latin typeface="Times New Roman"/>
              </a:rPr>
              <a:t>here does e-marketing fit into this picture?</a:t>
            </a:r>
            <a:r>
              <a:rPr b="0" lang="fr-FR" sz="2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674-187B-44E5-89E9-B421C8DC15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77880" y="176688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The Emergence of E-Marketing: </a:t>
            </a:r>
            <a:r>
              <a:rPr b="1" i="1" lang="en-US" sz="2400" spc="-1" strike="noStrike">
                <a:solidFill>
                  <a:srgbClr val="1c1c1c"/>
                </a:solidFill>
                <a:latin typeface="Times New Roman"/>
              </a:rPr>
              <a:t>The Google Stor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What is E-Marketing?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What Is E-Business?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The Big Pictur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Tough Time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E-Marketing in Contex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Environment, Strategy, and Performance (ESP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E-Marketing Environment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Legal Factor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Technology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E-Business Market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What’s Next?</a:t>
            </a:r>
            <a:r>
              <a:rPr b="0" lang="fr-FR" sz="2400" spc="-1" strike="noStrike">
                <a:solidFill>
                  <a:srgbClr val="1c1c1c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Overview 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1560" y="1690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DB2-DABF-4ACC-98E4-20FEADDAA8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ahoma"/>
              </a:rPr>
              <a:t>Environment, Strategy, and Performance (ESP)</a:t>
            </a:r>
            <a:endParaRPr b="0" lang="en-US" sz="4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Business environment: legal, technological, competitive, market-related, and other environmental factors external to the firm  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= Opportunities and Threats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2" marL="104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WOT analyses  = Strengths and Weaknesses,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2" marL="104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E-business strategies + e-business models + e-marketing plans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= Help the firm accomplish its overall goals,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Determine the success of the strategies and plans by measuring results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2" marL="1040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= Performance metrics, specific measures designed to evaluate the effectiveness and efficiency of the e-business and e-marketing operations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E53-B31C-4E2D-8517-25370CAF0A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85800"/>
            <a:ext cx="83818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66680" y="457200"/>
          <a:ext cx="9144000" cy="56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914400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990720" y="5867280"/>
            <a:ext cx="10666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00B-6223-4A75-B24B-58CF0238DD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Key environmental factors </a:t>
            </a:r>
            <a:br>
              <a:rPr sz="4400"/>
            </a:b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affecting e-marketing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7560" y="236232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1. Legal, </a:t>
            </a: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2. Technological </a:t>
            </a: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3. Market-related factors</a:t>
            </a: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618-0F94-4544-B959-D0AC7EDABC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Legal Factors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lvl="1" marL="54972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Current and pending legislation can greatly influence e-marketing strategies: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Privacy: Difficult to legislate + Critical because consumers yield personal information over the Internet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253800" indent="-253800" algn="ctr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Opt-out e-mail: when users must uncheck a Web page box to avoid being put on a company’s e-mail list,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253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Difficult for governments to balance freedom of expression against consumer needs,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New technology brings new opportunities for fraud: enforcement is difficult in a networked world.</a:t>
            </a: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141-F472-480D-BCE1-81B8F13F57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Technology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Technological developments influence: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The composition of Internet audiences,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The quality of material that can be delivered to them.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E-marketing is evolving through software advances: Technologies can target consumers according to their online behavior to give a firm a distinct competitive advantage.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FD0-52D4-49F0-B0EC-8D9CDC5805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Technology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Technology lowers costs: Many firms have saved money on staff and paperwork via electronic order processing, billing, and e-mail.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Technology requires costly investments: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Web page development costs millions of dollars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E-commerce operations require expensive hardware and software,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New technologies continue to emerge, which make current investments obsolete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Putting technology to use entails a steep learning curve.</a:t>
            </a: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5B0-E9EF-4668-8649-4A18DDA6C1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What is the Internet?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Internet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is a global network of interconnected networks: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Millions of corporate, government, organizational, and private networks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The Internet consists of computers with data, users who send and receive the data files, and a technology infrastructure to move, create, and view or listen to the content.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527-3360-49A4-B2AC-0C1CB02427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What is the Internet?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Three important types of networks form part of the Internet: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Intranet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 = A network running internally in a corporation + using Internet standards (HTML and browsers) = a mini-Internet but only for internal corporate consumption,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Extranet = 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An intranet with value chain partners + the access is normally only partial, 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Web = 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The portion of the Internet that supports a graphical user interface for hypertext navigation with a browser (Netscape / Internet Explorer). The Web is what most people think about when they think of the Internet.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342-18BB-45A9-8878-03928B2703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It’s Bigger Than the Interne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Electronic marketing reaches far beyond the Web:</a:t>
            </a: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Many e-marketing technologies exist                      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= Customer relationship management, supply chain management, and electronic data interchange arrangements predating the Web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Non-Web Internet services such as e-mail and newsgroups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= Effective avenues for marketing.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218-3391-4A8B-8315-6F4C33D0F5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It’s Bigger Than the Interne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The Internet holds more than one Web:</a:t>
            </a:r>
            <a:endParaRPr b="0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The Web that most users access from PCs, </a:t>
            </a:r>
            <a:endParaRPr b="0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Subsets of the Web with content specially formatted for the unique display properties: </a:t>
            </a:r>
            <a:endParaRPr b="0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Web TV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Personal digital assistants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ell phones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Text-only browsers.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1B6-550D-49C8-9A1F-9A9C03A264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The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Google</a:t>
            </a: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 story shows: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Markets always welcome an innovative new product providing customer value.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ustomers trust good brands.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Well-crafted marketing mix strategies can be effective in helping newcomers enter crowded markets.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6E6-9B2A-4971-9769-7D821A28AB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84103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It’s Bigger Than the Interne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Offline electronic data-collection devices such as bar code scanners.</a:t>
            </a: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Portion of the Web containing high-bandwidth content for users who have either cable modems or digital subscriber loop (DSL) connections.</a:t>
            </a: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2FD-777B-4A2E-AA18-C4083BF82B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Internet Properties and Marketing Implications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Marketers who grasp what Internet technologies can do will be better poised to  capitalize on information technology.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Internet properties: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Create opportunities beyond those possible with the telephone, television, postal mail, or other communication media,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More effective and efficient marketing strategy + tactical implementation + change the way marketing is conducted.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E.g. The idea of digitizing data (bits not atoms) has transformed media and software delivery methods + created a new transaction channel.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E1D-C82C-4917-80D1-8802D9CB51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Internet Properties and Marketing Implications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Internet technologies have changed traditional marketing in a number of critical ways: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Power shift from sellers to buyers,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Death of distance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Time compression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Knowledge management is key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Interdisciplinary focus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Intellectual capital rules.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B23F-C277-4A37-B4AA-6FED65FCF9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685800"/>
            <a:ext cx="83818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6095880"/>
          <a:ext cx="408636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5880"/>
                    <a:ext cx="4086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14400" y="457200"/>
          <a:ext cx="673416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57200"/>
                    <a:ext cx="67341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33520" y="1371600"/>
          <a:ext cx="7924680" cy="407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1371600"/>
                    <a:ext cx="792468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C30C-CAE5-4A11-A82B-A15024501B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685800"/>
            <a:ext cx="83818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6095880"/>
          <a:ext cx="408636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5880"/>
                    <a:ext cx="4086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066680" y="609480"/>
          <a:ext cx="673416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609480"/>
                    <a:ext cx="67341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533520" y="1752480"/>
          <a:ext cx="8381880" cy="342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1752480"/>
                    <a:ext cx="8381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B759-97A7-4C31-9117-AFFA7F1CD4C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E-Business Markets 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Once marketers identify appropriate markets, information technology facilitates relationships before and after the transaction with:</a:t>
            </a:r>
            <a:endParaRPr b="0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Prospects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ustomers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There are three important markets that both sell and buy to each other: </a:t>
            </a:r>
            <a:endParaRPr b="0" lang="en-US" sz="28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Businesses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onsumers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Governments.</a:t>
            </a:r>
            <a:r>
              <a:rPr b="0" lang="en-US" sz="32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3200400"/>
            <a:ext cx="4114800" cy="18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Partners,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Supply chain members.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6E6-7F74-4F1C-BF60-328260CD81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685800"/>
            <a:ext cx="83818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09480" y="838080"/>
          <a:ext cx="10211040" cy="49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1021104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85800" y="5867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2C66-6031-4100-89DA-6E1E515B15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Business Marke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2" marL="100584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It is huge: more businesses are connected to the internet than consumers.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It is transparent to consumers: it involves proprietary networks that allow information and database sharing.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0168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0168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E.g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FedEx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, the package delivery firm: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Its customers can schedule a package pick-up using the Web site,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Track the package using a PC or handheld PalmPilot,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Pay the shipping bill online.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399-CF59-4522-8462-BCF506F172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Consumer Marke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E-marketers must understand consumers in potential geographic segments: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Iceland and Denmark = 2 of the most wired countries in the world = 60% Internet penetration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onsumers in many countries pay by the minute for local phone access = determine the kind of casual surfing practiced by Internet users.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1264-7E24-43BF-A0CD-289557A070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Consumer Marke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9520" y="1752480"/>
            <a:ext cx="857412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The consumer market is huge and quite active online: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28% of consumers said they have shopped online or plan to shop online in the next six months,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15% purchased offline as a direct result of online information,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U.S. consumers are the biggest online shoppers, spending US$53 billion in 2001, an increase of nearly 20% from 2000.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874-0F9C-4BAD-BDD0-DDA08ECCEC5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Key questions for corporations: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How to use information technology profitably ?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How to understand what technology means for their business strategies?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How time-tested concepts by marketers can be enhanced by the Internet, databases, wireless mobile devices, and other technologies?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What’s next after the rapid growth of the Internet and the dot-com bubble has marketers wondering ?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2F4-C06A-4AA4-B560-2FE49B6B1F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Revenge of the Consumer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The rebellion started with television channel surfing using the remote control. Consumers did not seem to appreciate that commercials pay for broadcast TV programs. 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At the start of the 21st century, consumers have control via the mouse. When television, radio, print media, entertainment, and shopping all converge seamlessly on a computer-like device, consumers will truly have information on demand. 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Consumers are more demanding and more sophisticated, and marketers will have to become better at delivering customer value.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FAA-6D35-43BA-A2E2-3C200E32835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Consumer Needs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9520" y="1676160"/>
            <a:ext cx="85741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What do customers want in the information economy?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Privacy: Customers want marketers to keep their data confidential + don’t want to be bothered by sales calls at home during dinner,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To safeguard children from objectionable sites,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Want marketers to ask permission before sending commercial e-mail messages,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Want e-commerce to provide convenience, self-service, speed, good customer service, personal attention, and value.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0A0-DEC0-4247-8C29-14BDB7D5B5E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Consumer Needs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Fortunately, e-marketing can meet all these needs: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With 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mass customization 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individuals can contact firms over the Internet and receive responses tailored to their needs, 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Business can also customize and personalize products and communications to strengthen long-term relationships with customers. 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E.g.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Amazon.com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presents personalized Web pages to users 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729-0B2B-44A6-9369-B814985753D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29528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80880" y="609480"/>
          <a:ext cx="8534520" cy="52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53452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04920" y="5181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1A3-0362-494B-BCDC-571AFCDF013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Government Marke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2017440"/>
            <a:ext cx="84978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The U. S. government is the world’s largest buyer, purchasing over $200 billion in goods and services every year (see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isbdcorp.org/gmag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). 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Add to this the purchasing power of U.S. states, counties, cities, and other municipal agencies, and this makes for a huge market. 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Small and large businesses usually have an equal chance of selling to governments + government Web sites announce their buying needs in advance of the bidding process.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C05-7E1C-4F19-84FC-1073ECED3AE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Government Market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Businesses wishing to sell to governments face challenges unique to this market: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Follow rules regarding qualifications, paperwork, etc.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Must compete to be on the government list of approved suppliers + compete for specific contracts through a bidding process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Have to conform to very particular timely delivery of quality products at reasonable prices.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383-5E4A-4206-9DC4-60A0C7028A6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What’s Next?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Regardless of the current disillusion with e-business, many solid successes exist today and exciting new growth areas will soon emerge.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Seven trends that will help businesses move forward into e-marketing :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Integrating IT software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Boom in Web services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ollaboration software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Dealing with too much data,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4343400"/>
            <a:ext cx="4267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Data security,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Wireless is here to stay,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Growth in portable computing.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BFE-3BE8-4065-A154-6A53011CA59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What is E-Marketing?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E-Marketing is the application of a broad range of information technologies for: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Transforming marketing strategies to create more customer value (more effective segmentation, targeting, differentiation, and positioning strategies),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More efficiently planning and executing the conception, distribution, promotion and pricing of goods, services, and ideas,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reating exchanges that satisfy individual consumer and organizational customers’ objectives.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09C-4587-4705-8073-0ED548A95C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What is E-Marketing?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Alternative definition:                                                       E-marketing is the result of information technology applied to traditional marketing. 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E-marketing affects traditional marketing in two ways: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Increases efficiency in traditional marketing functions,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The technology of e-marketing transforms many marketing strategies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Results: new business models that add customer value and/or increase company profitability.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1E2-A0F3-4C29-8A4C-6AAE02D3C3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What Is E-Business?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42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E-business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“is the continuous optimization of a firm’s business activities through digital technology”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Digital technologies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information technology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are things like computers and the Internet, that allow the storage and transmission of data in digital formats (1’s and 0’s)</a:t>
            </a: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A29-6B3A-4199-A6B1-B4354EEE29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The Big Picture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Easy, inexpensive, and quick access to digital information transforms: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economies, 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 - societies, 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governments, 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 - businesses.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Digital information enhances economies through:</a:t>
            </a:r>
            <a:endParaRPr b="0" lang="en-US" sz="22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more efficient markets,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more jobs,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information access,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communication globalization,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ower barriers to foreign trade and investment, and more.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FE5-F065-4AB1-9EFF-D001A20423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Tahoma"/>
              </a:rPr>
              <a:t>Uneven impact of the Internet across the globe:</a:t>
            </a:r>
            <a:endParaRPr b="0" lang="en-US" sz="4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93800" y="180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530 million users connected to the Internet worldwide = 8.5% of the global population,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Developed nations = 15% of the world’s population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 = 88% of all Internet users,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U.S. Internet users = 182 million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            = 64% of the population,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Indigenous peoples in remote locations gaining health, legal, and other advice, or selling native products using the Internet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CCA-0D0A-42F3-A257-C9F8526398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00:15:08Z</dcterms:created>
  <dc:creator>Joseph Leung</dc:creator>
  <dc:description/>
  <dc:language>en-US</dc:language>
  <cp:lastModifiedBy>Joseph Leung</cp:lastModifiedBy>
  <dcterms:modified xsi:type="dcterms:W3CDTF">2006-06-19T01:28:45Z</dcterms:modified>
  <cp:revision>22</cp:revision>
  <dc:subject/>
  <dc:title>Marketing on the Internet</dc:title>
</cp:coreProperties>
</file>