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EC0E-51C2-4569-A993-002134610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7CD1-7E2E-408D-8CBC-8305E9F7D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6C47-2FC9-4432-BD43-0A75070DD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375E-F192-4055-9A15-0992B6E58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7236-69C7-4B44-B612-99BB37E3B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72A0-07A9-4780-867E-F5F409C3D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115A-DBDA-4B49-839F-7847B7375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9C8D-58AC-4DE6-B710-CEC7F820E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FB7F-FE98-40F7-ADD8-8DD078975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046C-22A9-4037-B3AF-D196EA95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A3E3-619E-4247-AB5A-CC00C652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B6A6-2959-4988-8868-70FBC8D5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35665-0AF5-45D2-83D6-62A55B16C9A1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blackseatech.com/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SPD 4120</a:t>
            </a:r>
            <a:br>
              <a:rPr sz="4000"/>
            </a:b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Internet Marketing and Logi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479700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Lecture 3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Web Design &amp; E-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(22.06.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Structuring Your Web S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Next step is to map out structure of your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tructure determ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Flow of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Ease of navi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Prominence of certain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ample layout enclo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Putting Your Web Site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Build It Your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Using software such as Microsoft Fron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Complet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Do it yourself (Is the expertise and ability there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Use a Templated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(e.g., </a:t>
            </a:r>
            <a:r>
              <a:rPr b="0" lang="zh-TW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blackseatech.com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Better l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Limited control (applications, moving arou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Hire a Profess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Most expensive, least stress, best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What to Look for in a Profess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Experience (job complex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Portfolio (quality chec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Reputation (reference chec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Understanding of your goals an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Service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Long-term assoc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Ownership of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Pricing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Meet the desig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Rough Cost Estim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Domain name: $35.00 per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Web site design: $2500.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Set-up for catalogue and shopping cart: $1000.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Input of products: $300.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Monthly hosting fees: $40.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Monthly hosting fees for e-commerce site: $80.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Site maintenance costs: $200.00 per mon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Maintaining Your Web S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Important part of an effective Internet pres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Portrays that you care about your web site (reflects upon your compan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Keeps people coming back (repeat visitor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Ultimately attracts new visitors (word of mout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Examples of things you can update your site wit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Static: Newsletters, downloadable tools and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Interactive: Web boards, forums, online 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You can have the greatest web site in the world…</a:t>
            </a:r>
            <a:br>
              <a:rPr sz="4000"/>
            </a:br>
            <a:br>
              <a:rPr sz="4000"/>
            </a:b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But it means nothing if nobody sees 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A Typical Internet Pres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7705800" cy="40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Marketing Your Web s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ypes of mark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-world marketing (direct &amp; indir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marketing (push &amp; pul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pheral prom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Real-World Mark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Indirect prom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Including web address in every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Marketing: brochures, billboards, radio, tele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Administrative: letters, invoices, stat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Having customized e-mail ac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i.e., angus@digitaltea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Real-World Marketing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Direct Prom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Send letter announcing site (inexpens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Launch party (Expensive. Is it high profile enough to get media atten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Media releases (Again, will it get the attention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Paper directories (Newspapers, magazines, industry directories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What is a web si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A series of linked “pages” that are made available to the public through the World Wide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Basic web sites have text and im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Web sites have advanced to become more interactive (between user and the site itsel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New media like Macromedia Shockwave and Macromedia Fla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Applications such as online databases, shopping carts and e-comme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Online Marketing: Pu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earch Eng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81% of Internet users conduct searches using search eng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Involves meta-tagging, titling of site, norobots.txt an submission to search eng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Three options to get on the search eng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Tag and sub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Tag and hire someone to submit for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Pay search engines for pla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Online Marketing: Pu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Search Eng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Placement is not 100% reliable unless positioning is purch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You should always refine your meta-ta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You should always submit your site to the search engine on a regular basis (refresh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Do not submit too many pages at once or you will get kicked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How effective search engines are to you is determined by the uniqueness of your product or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Online Marketing: Pu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Banner 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Design fee ($75.00 for a static banner to $1500 for a full Flash commerci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Pricing is determined either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Monthly hosting f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Click-through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View rate (CP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Online Mark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Mass e-m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olicited - you can pay a company that has compiled a list of people who welcome these e-m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Are they serious inquir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Unsolicited - spam or junk m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What is the purpo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Will your reputation take a h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Online Marketing: Dra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Online Promo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Coupon that can be printed an redee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Flyers and savings on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Discount for online purch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Attracts more users and repeat visi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Be able to track effectiveness of promo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Online Marketing: Dra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Con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Offer a prize for filling out a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Attracts more visitors to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Can be used for market research purposes (fill out survey to be enter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Can be used to gather contact names for mailing l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Online Marketing: Dra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Valuable content &amp; f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Useful information is always a draw to a site (e.g., tips, advice, artic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Fun components (interactive games and activit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Information is fairly inexpensive, while interactive games 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Peripheral Promo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Peripheral Promo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E-mail 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Compiled through web site and cont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Web boards on other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Post information on the web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Chat rooms on other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Discuss your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Online Marketing: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what you would like to see as a return on inves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budget based on desired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nd your money and time on what gives you the most relevant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viewers doesn’t matter (buyers are more important to view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no matter what you do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t an e-mail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Measuring Your Web Site Suc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Web traffic (in gener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Increased sales (always know where they came fro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Targeted usage of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Feedback (customer and publi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 Typical Internet Pres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28036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Final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Make sure that the Internet is being used as means to an end, not as an end itself. It cannot replace your real world business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Don’t let technology overshadow your business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Plan your web site (e.g., What is going into it and why it is the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Keep an eye on cost-benefit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Always maintain and continuously promote your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Get e-mai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What Makes A Good Si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Targeted to the correct audience (lookwise, language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Aesthetically appea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Appropriate download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Ease of navi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Ease of use (functional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Compatible with various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Compatible with various screen resolutions (e.g., 800x600, 1024x76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Internet Presence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Use your web site to handle certain aspects of your business (marketing, administration, customer servi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Provide greater operational efficiencies and sav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Provide a new channel of communication between you and your custo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More effectively portray your corporate i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Planning Your Web S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Establish your goals an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Determine available techn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Structure your web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How to Establish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First define target market (gender, income, geography, Internet access, langua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Secondly define how you communicate with currently (e.g., message, ima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Define elements of your business that can be made easier and more efficient through the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List goals from t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Are they feasi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How To Establish Goal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spects of your business can realistically be translated to the web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 pro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-sale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es promotion announ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ntory tra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Determine Available Technolog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thing is possibl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$$$ and return on investment is 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sl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v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ine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pping c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1T03:20:21Z</dcterms:created>
  <dc:creator>Joseph Leung</dc:creator>
  <dc:description/>
  <dc:language>en-US</dc:language>
  <cp:lastModifiedBy>Joseph Leung</cp:lastModifiedBy>
  <dcterms:modified xsi:type="dcterms:W3CDTF">2006-06-21T04:43:24Z</dcterms:modified>
  <cp:revision>31</cp:revision>
  <dc:subject/>
  <dc:title>Slide 1</dc:title>
</cp:coreProperties>
</file>