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7.png" ContentType="image/png"/>
  <Override PartName="/ppt/media/image17.gif" ContentType="image/gif"/>
  <Override PartName="/ppt/media/image3.png" ContentType="image/png"/>
  <Override PartName="/ppt/media/image15.jpeg" ContentType="image/jpeg"/>
  <Override PartName="/ppt/media/image14.gif" ContentType="image/gif"/>
  <Override PartName="/ppt/media/image1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13C-AD54-4FFA-8052-A37D189C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E67-A4C1-4D65-80A8-FD9EEE98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763-F542-45D2-8620-18904562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16F-96DC-4342-9E58-D1FF1A38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E941-0070-45D5-8CC4-EEAB6910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6C16-DC14-4A9D-89C6-94B58C70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677D-4180-4017-B683-77A6EE14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7514-3355-4BDC-8B6B-71CA67AD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1E56-1052-414A-8338-65F96F01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6F44-19A3-4364-8EFF-EACA5659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3290-5233-44D4-B9C8-61B0E14E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F1D-4077-4D43-A6A6-7949B04D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122C-FF9E-4DFE-A0E4-03F1EEDD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1933-8E85-415F-9950-597C6A18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FF03-6FEC-4D6A-9DAA-00F6AC75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46B5-C41D-49C3-9AAD-DBAD2C4A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9EE1-48E1-4BA2-9388-A88D333A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1466-2D0C-469F-943B-29CDB96A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E10-E7DE-47A8-8B19-E44EFB2F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858-31F8-4C48-A4CF-6205F76E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580-1876-4643-B5AF-D85D1CD7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D4D-FC17-4682-9DAE-64AD8053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871-FD17-4B80-B1F8-4B564D6B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572-6274-4D7D-A6DF-50B46610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ABA8-CB7E-48EC-BE9F-F8F8177FE752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1D7D-6E68-46A4-97F2-5CD26AB592EB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herlock-holmes.co.uk/" TargetMode="External"/><Relationship Id="rId2" Type="http://schemas.openxmlformats.org/officeDocument/2006/relationships/hyperlink" Target="http://www.sherlock-holmes.co.uk/" TargetMode="External"/><Relationship Id="rId3" Type="http://schemas.openxmlformats.org/officeDocument/2006/relationships/hyperlink" Target="http://pls.hkcampus.net/~pls-lib/holmes.htm" TargetMode="External"/><Relationship Id="rId4" Type="http://schemas.openxmlformats.org/officeDocument/2006/relationships/hyperlink" Target="http://book.ayinfo.ha.cn/ztxs/kk/kenandaoer/000.htm" TargetMode="External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hyperlink" Target="http://www.sherlock-holmes.co.uk/image-search/fbi.html" TargetMode="External"/><Relationship Id="rId12" Type="http://schemas.openxmlformats.org/officeDocument/2006/relationships/image" Target="../media/image14.gi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Detective Story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imes New Roman"/>
              </a:rPr>
              <a:t>Sherlock Holmes </a:t>
            </a:r>
            <a:br>
              <a:rPr sz="4000"/>
            </a:br>
            <a:r>
              <a:rPr b="0" i="1" lang="en-US" sz="4000" spc="-1" strike="noStrike">
                <a:solidFill>
                  <a:srgbClr val="eaeaea"/>
                </a:solidFill>
                <a:latin typeface="Times New Roman"/>
              </a:rPr>
              <a:t>&amp; </a:t>
            </a:r>
            <a:br>
              <a:rPr sz="4000"/>
            </a:br>
            <a:r>
              <a:rPr b="0" i="1" lang="en-US" sz="4000" spc="-1" strike="noStrike">
                <a:solidFill>
                  <a:srgbClr val="eaeaea"/>
                </a:solidFill>
                <a:latin typeface="Times New Roman"/>
                <a:ea typeface="標楷體"/>
              </a:rPr>
              <a:t>Arthur Conan Doyle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3" name="holmes13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1087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~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nd~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up 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ader: Jenny Yu Ka Yan(41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ber: Flora Kwong Pak Mei(1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nessa Wong Chi Yan(31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ack Wong Kwong Yuen(3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7208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DSC00199" descr=""/>
          <p:cNvPicPr/>
          <p:nvPr/>
        </p:nvPicPr>
        <p:blipFill>
          <a:blip r:embed="rId1"/>
          <a:srcRect l="28081" t="28088" r="27850" b="27840"/>
          <a:stretch/>
        </p:blipFill>
        <p:spPr>
          <a:xfrm>
            <a:off x="6629400" y="2025720"/>
            <a:ext cx="1219320" cy="869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76236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DSC00385" descr=""/>
          <p:cNvPicPr/>
          <p:nvPr/>
        </p:nvPicPr>
        <p:blipFill>
          <a:blip r:embed="rId2"/>
          <a:srcRect l="0" t="34908" r="65377" b="30474"/>
          <a:stretch/>
        </p:blipFill>
        <p:spPr>
          <a:xfrm>
            <a:off x="7696080" y="3403440"/>
            <a:ext cx="1447920" cy="1073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2896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7196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holmes" descr="Mr Sherlock Holmes of Baker Street"/>
          <p:cNvPicPr/>
          <p:nvPr/>
        </p:nvPicPr>
        <p:blipFill>
          <a:blip r:embed="rId3"/>
          <a:stretch/>
        </p:blipFill>
        <p:spPr>
          <a:xfrm>
            <a:off x="114300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53" name="DSC00563" descr=""/>
          <p:cNvPicPr/>
          <p:nvPr/>
        </p:nvPicPr>
        <p:blipFill>
          <a:blip r:embed="rId4"/>
          <a:srcRect l="27277" t="17559" r="29595" b="39315"/>
          <a:stretch/>
        </p:blipFill>
        <p:spPr>
          <a:xfrm>
            <a:off x="7467480" y="5181480"/>
            <a:ext cx="1247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is Sherlock Holme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was a detective in the Age of Elizabeth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was good at inference, chemistry, psychology, playing violin, fencing,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was supposed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  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most perfect reasoning and observing machine that the world has seen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 “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Holmes01" descr=""/>
          <p:cNvPicPr/>
          <p:nvPr/>
        </p:nvPicPr>
        <p:blipFill>
          <a:blip r:embed="rId1"/>
          <a:stretch/>
        </p:blipFill>
        <p:spPr>
          <a:xfrm>
            <a:off x="6781680" y="4718160"/>
            <a:ext cx="2362320" cy="2139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90920" y="5029200"/>
            <a:ext cx="2743200" cy="1219320"/>
          </a:xfrm>
          <a:prstGeom prst="wedgeRoundRectCallout">
            <a:avLst>
              <a:gd name="adj1" fmla="val 73787"/>
              <a:gd name="adj2" fmla="val 24347"/>
              <a:gd name="adj3" fmla="val 16667"/>
            </a:avLst>
          </a:prstGeom>
          <a:solidFill>
            <a:srgbClr val="ff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Sherlock Holmes in the eyes of peop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is Sherlock Holme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did not have wife but                            he occured a good felling to  “the woman”, Irene Adl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had a brother called Mycroft Holm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did not have any friend                   except Dr. John Wat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lived in 221B Baker Stre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10480" y="3581280"/>
            <a:ext cx="2333520" cy="3276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29000" y="5334120"/>
            <a:ext cx="2590920" cy="1295280"/>
          </a:xfrm>
          <a:prstGeom prst="wedgeRoundRectCallout">
            <a:avLst>
              <a:gd name="adj1" fmla="val 72550"/>
              <a:gd name="adj2" fmla="val 9314"/>
              <a:gd name="adj3" fmla="val 16667"/>
            </a:avLst>
          </a:prstGeom>
          <a:solidFill>
            <a:srgbClr val="eaeaea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The home of Sherlock Holm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(221 Baker Street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ow many case did Holmes mange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rlock Holmes treated 60 case of detective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gn of Four”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d-Headed League”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Final Problem”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Dancing Man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dancing0001" descr=""/>
          <p:cNvPicPr/>
          <p:nvPr/>
        </p:nvPicPr>
        <p:blipFill>
          <a:blip r:embed="rId1"/>
          <a:stretch/>
        </p:blipFill>
        <p:spPr>
          <a:xfrm>
            <a:off x="1600200" y="5105520"/>
            <a:ext cx="4952880" cy="874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91320" y="4038480"/>
            <a:ext cx="2971800" cy="990720"/>
          </a:xfrm>
          <a:prstGeom prst="wedgeRectCallout">
            <a:avLst>
              <a:gd name="adj1" fmla="val -43000"/>
              <a:gd name="adj2" fmla="val 758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The password of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the dancing man”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6095880"/>
            <a:ext cx="3048120" cy="501840"/>
          </a:xfrm>
          <a:prstGeom prst="wedgeRoundRectCallout">
            <a:avLst>
              <a:gd name="adj1" fmla="val -32291"/>
              <a:gd name="adj2" fmla="val -108226"/>
              <a:gd name="adj3" fmla="val 16667"/>
            </a:avLst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Come here at once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he main characters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n Sherlock Holmes’s lif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. John Wat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rene Adler(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 Scandal in Bohemia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or Moriarty (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Final Problem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. Lestrad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croft Holm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ker Street Irregula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华生医生"/>
          <p:cNvPicPr/>
          <p:nvPr/>
        </p:nvPicPr>
        <p:blipFill>
          <a:blip r:embed="rId1"/>
          <a:stretch/>
        </p:blipFill>
        <p:spPr>
          <a:xfrm>
            <a:off x="7201080" y="4011480"/>
            <a:ext cx="1942920" cy="2846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800600" y="6019920"/>
            <a:ext cx="1828800" cy="457200"/>
          </a:xfrm>
          <a:prstGeom prst="wedgeRectCallout">
            <a:avLst>
              <a:gd name="adj1" fmla="val 74912"/>
              <a:gd name="adj2" fmla="val -30208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Dr. Wats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arch-out of Sherlock Holm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fell down the waterfall wit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or Moriarty (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Final Problem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the end, He researched bee culture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n 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farm upon the South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(“The Last Bow”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2120" y="1886040"/>
            <a:ext cx="4800600" cy="360"/>
            <a:chOff x="222120" y="1886040"/>
            <a:chExt cx="4800600" cy="360"/>
          </a:xfrm>
        </p:grpSpPr>
        <p:sp>
          <p:nvSpPr>
            <p:cNvPr id="115" name=""/>
            <p:cNvSpPr/>
            <p:nvPr/>
          </p:nvSpPr>
          <p:spPr>
            <a:xfrm>
              <a:off x="222120" y="188604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2120" y="188604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086600" y="3863880"/>
            <a:ext cx="2057400" cy="2994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038480" y="5943600"/>
            <a:ext cx="2667240" cy="914400"/>
          </a:xfrm>
          <a:prstGeom prst="wedgeRectCallout">
            <a:avLst>
              <a:gd name="adj1" fmla="val 59703"/>
              <a:gd name="adj2" fmla="val -5625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The ending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200b5b"/>
                </a:solidFill>
                <a:latin typeface="Times New Roman"/>
              </a:rPr>
              <a:t>The Last Bow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Sidney Paget, 1893"/>
          <p:cNvPicPr/>
          <p:nvPr/>
        </p:nvPicPr>
        <p:blipFill>
          <a:blip r:embed="rId2"/>
          <a:srcRect l="4895" t="4878" r="0" b="0"/>
          <a:stretch/>
        </p:blipFill>
        <p:spPr>
          <a:xfrm>
            <a:off x="1143000" y="3809880"/>
            <a:ext cx="2058840" cy="3048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733920" y="4114800"/>
            <a:ext cx="2819160" cy="990720"/>
          </a:xfrm>
          <a:prstGeom prst="wedgeRectCallout">
            <a:avLst>
              <a:gd name="adj1" fmla="val -67342"/>
              <a:gd name="adj2" fmla="val 46634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Holmes fell with Professor Moria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e author of Sherlock Holmes--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rthur Conan Doyle(1859-1930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16765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irth in Scotland in 22-5-185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became a doctor in 188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wrote the first story: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”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 study of Scarle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”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began his life of auth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1" descr=""/>
          <p:cNvPicPr/>
          <p:nvPr/>
        </p:nvPicPr>
        <p:blipFill>
          <a:blip r:embed="rId1"/>
          <a:stretch/>
        </p:blipFill>
        <p:spPr>
          <a:xfrm>
            <a:off x="7281720" y="1752480"/>
            <a:ext cx="1862280" cy="2895840"/>
          </a:xfrm>
          <a:prstGeom prst="rect">
            <a:avLst/>
          </a:prstGeom>
          <a:ln w="0">
            <a:noFill/>
          </a:ln>
        </p:spPr>
      </p:pic>
      <p:pic>
        <p:nvPicPr>
          <p:cNvPr id="125" name="stud-00b" descr=""/>
          <p:cNvPicPr/>
          <p:nvPr/>
        </p:nvPicPr>
        <p:blipFill>
          <a:blip r:embed="rId2"/>
          <a:stretch/>
        </p:blipFill>
        <p:spPr>
          <a:xfrm>
            <a:off x="1600200" y="4572000"/>
            <a:ext cx="1565280" cy="2286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67280" y="5105520"/>
            <a:ext cx="2894040" cy="380880"/>
          </a:xfrm>
          <a:prstGeom prst="wedgeRectCallout">
            <a:avLst>
              <a:gd name="adj1" fmla="val 33763"/>
              <a:gd name="adj2" fmla="val -132083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Arthur Conan Doy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5638680"/>
            <a:ext cx="2971800" cy="1219320"/>
          </a:xfrm>
          <a:prstGeom prst="wedgeRectCallout">
            <a:avLst>
              <a:gd name="adj1" fmla="val -61055"/>
              <a:gd name="adj2" fmla="val -47393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The first edition o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200b5b"/>
                </a:solidFill>
                <a:latin typeface="Times New Roman"/>
              </a:rPr>
              <a:t>Study of Scarlet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in 188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herlock Holmes in the real world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was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Professor Joseph Bel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of his Student was Conan Doy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an Doyle indicated that Sherlock Holmes was the shadow of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Joseph Be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A action of Joseph Bell was the same as a plot of Sherlock Holm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sign-00a" descr=""/>
          <p:cNvPicPr/>
          <p:nvPr/>
        </p:nvPicPr>
        <p:blipFill>
          <a:blip r:embed="rId1"/>
          <a:stretch/>
        </p:blipFill>
        <p:spPr>
          <a:xfrm>
            <a:off x="7594560" y="4495680"/>
            <a:ext cx="1549440" cy="2362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62520" y="5486400"/>
            <a:ext cx="3047760" cy="914400"/>
          </a:xfrm>
          <a:prstGeom prst="wedgeRectCallout">
            <a:avLst>
              <a:gd name="adj1" fmla="val 68074"/>
              <a:gd name="adj2" fmla="val -65453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The same action in “</a:t>
            </a:r>
            <a:r>
              <a:rPr b="0" i="1" lang="en-US" sz="2400" spc="-1" strike="noStrike">
                <a:solidFill>
                  <a:srgbClr val="200b5b"/>
                </a:solidFill>
                <a:latin typeface="Times New Roman"/>
              </a:rPr>
              <a:t>The Sign of the Four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an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sherlock-holmes.co.uk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http://pls.hkcampus.net/~pls-lib/holmes.ht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4"/>
              </a:rPr>
              <a:t>http://book.ayinfo.ha.cn/ztxs/kk/kenandaoer/000.ht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80"/>
                </a:solidFill>
                <a:latin typeface="Times New Roman"/>
              </a:rPr>
              <a:t>！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265" descr=""/>
          <p:cNvPicPr/>
          <p:nvPr/>
        </p:nvPicPr>
        <p:blipFill>
          <a:blip r:embed="rId5"/>
          <a:stretch/>
        </p:blipFill>
        <p:spPr>
          <a:xfrm>
            <a:off x="1600200" y="3962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37" name="265" descr=""/>
          <p:cNvPicPr/>
          <p:nvPr/>
        </p:nvPicPr>
        <p:blipFill>
          <a:blip r:embed="rId6"/>
          <a:stretch/>
        </p:blipFill>
        <p:spPr>
          <a:xfrm>
            <a:off x="2057400" y="3962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38" name="265" descr=""/>
          <p:cNvPicPr/>
          <p:nvPr/>
        </p:nvPicPr>
        <p:blipFill>
          <a:blip r:embed="rId7"/>
          <a:stretch/>
        </p:blipFill>
        <p:spPr>
          <a:xfrm>
            <a:off x="2514600" y="3962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39" name="265" descr=""/>
          <p:cNvPicPr/>
          <p:nvPr/>
        </p:nvPicPr>
        <p:blipFill>
          <a:blip r:embed="rId8"/>
          <a:stretch/>
        </p:blipFill>
        <p:spPr>
          <a:xfrm>
            <a:off x="2971800" y="3962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40" name="265" descr=""/>
          <p:cNvPicPr/>
          <p:nvPr/>
        </p:nvPicPr>
        <p:blipFill>
          <a:blip r:embed="rId9"/>
          <a:stretch/>
        </p:blipFill>
        <p:spPr>
          <a:xfrm>
            <a:off x="3505320" y="3962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41" name="265" descr=""/>
          <p:cNvPicPr/>
          <p:nvPr/>
        </p:nvPicPr>
        <p:blipFill>
          <a:blip r:embed="rId10"/>
          <a:stretch/>
        </p:blipFill>
        <p:spPr>
          <a:xfrm>
            <a:off x="3962520" y="3962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president" descr="FBI Most Wanted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971800" y="0"/>
            <a:ext cx="12574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3:38:41Z</dcterms:created>
  <dc:creator>YU</dc:creator>
  <dc:description/>
  <dc:language>en-US</dc:language>
  <cp:lastModifiedBy>YU</cp:lastModifiedBy>
  <dcterms:modified xsi:type="dcterms:W3CDTF">2004-02-02T15:31:14Z</dcterms:modified>
  <cp:revision>29</cp:revision>
  <dc:subject/>
  <dc:title>Detective Story </dc:title>
</cp:coreProperties>
</file>