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869-BB33-4DBF-843E-A601A74B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344-47E8-401A-B671-E19FBEAF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41D7-8F2C-4AB0-AC34-29320ED1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010-7E75-42BB-A6B5-F1BF5E56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C13A-090B-435A-B6BD-16295821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FF70-B9FB-4B33-9412-507EC259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529C-0B8D-4118-9120-06FD5A3C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563D-02F6-431F-98D5-1C5F2321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F81D-2293-4295-A79C-3674AF98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1D9C-C74E-4C99-A257-636023CF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0A7C-82ED-46B1-82FF-E355FE67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B75-03B7-49B1-93FA-9E217D36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2E44-AA43-4C77-9221-B6D3B5A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1BAE-83CC-40A4-99DE-B889AC88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9474-FCFF-4435-8AC0-8D5E76B3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80D1-974C-4E52-A7B1-50C9E6AE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CF65-90DF-4A8B-9B1A-FF33F306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FAE-A130-4AB2-96A8-311B869B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133-443C-4750-BD25-A830DECF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ECF-87E1-42D0-82EC-1888ED87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C4C-3CC0-479D-ABB8-61E6B530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324-9D97-4906-B28D-F6BA7412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587-55B7-4BD6-9B6D-2D460CC4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AC3-FC67-476F-8A12-63462B82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96DF-D2AD-4361-8993-255093FB5729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A587-D9E3-4AA5-B92B-1753A72D161B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00ff"/>
                </a:solidFill>
                <a:latin typeface="Times New Roman"/>
              </a:rPr>
              <a:t>通告</a:t>
            </a:r>
            <a:endParaRPr b="0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62360" y="1828800"/>
          <a:ext cx="4029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2360" y="1828800"/>
                    <a:ext cx="4029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ff"/>
                </a:solidFill>
                <a:latin typeface="Times New Roman"/>
              </a:rPr>
              <a:t>會考題（二）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600" spc="-1" strike="noStrike" u="sng">
                <a:solidFill>
                  <a:srgbClr val="3333cc"/>
                </a:solidFill>
                <a:uFillTx/>
                <a:latin typeface="Times New Roman"/>
              </a:rPr>
              <a:t>善良中學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中文學會即將在校內舉辦班際原子筆書法比賽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學會顧問</a:t>
            </a:r>
            <a:r>
              <a:rPr b="0" lang="zh-TW" sz="3600" spc="-1" strike="noStrike" u="sng">
                <a:solidFill>
                  <a:srgbClr val="3333cc"/>
                </a:solidFill>
                <a:uFillTx/>
                <a:latin typeface="Times New Roman"/>
              </a:rPr>
              <a:t>陳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老師邀請得本港知名書法家</a:t>
            </a:r>
            <a:r>
              <a:rPr b="0" lang="zh-TW" sz="3600" spc="-1" strike="noStrike" u="sng">
                <a:solidFill>
                  <a:srgbClr val="3333cc"/>
                </a:solidFill>
                <a:uFillTx/>
                <a:latin typeface="Times New Roman"/>
              </a:rPr>
              <a:t>李炳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先生擔任評判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99ff"/>
                </a:solidFill>
                <a:latin typeface="Times New Roman"/>
              </a:rPr>
              <a:t>假設你是善良中學中文學會的主席</a:t>
            </a:r>
            <a:r>
              <a:rPr b="0" lang="zh-TW" sz="3600" spc="-1" strike="noStrike" u="sng">
                <a:solidFill>
                  <a:srgbClr val="0099ff"/>
                </a:solidFill>
                <a:uFillTx/>
                <a:latin typeface="Times New Roman"/>
              </a:rPr>
              <a:t>張美茵</a:t>
            </a:r>
            <a:r>
              <a:rPr b="0" lang="zh-TW" sz="3600" spc="-1" strike="noStrike">
                <a:solidFill>
                  <a:srgbClr val="0099ff"/>
                </a:solidFill>
                <a:latin typeface="Times New Roman"/>
              </a:rPr>
              <a:t>,</a:t>
            </a:r>
            <a:r>
              <a:rPr b="0" lang="zh-TW" sz="3600" spc="-1" strike="noStrike">
                <a:solidFill>
                  <a:srgbClr val="0099ff"/>
                </a:solidFill>
                <a:latin typeface="Times New Roman"/>
              </a:rPr>
              <a:t>試撰寫一則通告</a:t>
            </a:r>
            <a:r>
              <a:rPr b="0" lang="zh-TW" sz="3600" spc="-1" strike="noStrike">
                <a:solidFill>
                  <a:srgbClr val="0099ff"/>
                </a:solidFill>
                <a:latin typeface="Times New Roman"/>
              </a:rPr>
              <a:t>,</a:t>
            </a:r>
            <a:r>
              <a:rPr b="0" lang="zh-TW" sz="3600" spc="-1" strike="noStrike">
                <a:solidFill>
                  <a:srgbClr val="0099ff"/>
                </a:solidFill>
                <a:latin typeface="Times New Roman"/>
              </a:rPr>
              <a:t>在書法比賽前張貼於佈告板上</a:t>
            </a:r>
            <a:r>
              <a:rPr b="0" lang="zh-TW" sz="3600" spc="-1" strike="noStrike">
                <a:solidFill>
                  <a:srgbClr val="0099ff"/>
                </a:solidFill>
                <a:latin typeface="Times New Roman"/>
              </a:rPr>
              <a:t>,</a:t>
            </a:r>
            <a:r>
              <a:rPr b="0" lang="zh-TW" sz="3600" spc="-1" strike="noStrike">
                <a:solidFill>
                  <a:srgbClr val="0099ff"/>
                </a:solidFill>
                <a:latin typeface="Times New Roman"/>
              </a:rPr>
              <a:t>說明這項比賽的詳情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402000"/>
                </a:solidFill>
                <a:uFillTx/>
                <a:latin typeface="Times New Roman"/>
              </a:rPr>
              <a:t>中文學會通告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本會為了提高各同學原子筆書法的水平和興趣，並甄選同學參加校際書法比賽，特別舉辦一年一度的原子筆書法比賽．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比賽定於二月十九日下午四時正，在本校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661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室舉行．賽制分初中組及高中組：中一至中三級為初中組；中四至中七級為高中組．每組各設冠，亞，季軍及優異獎三名．至於書寫內容，字數和紙張，大會自有規定和供應．是次比賽，有賴陳老師邀請本港名書法家李炳先生評選，真的增光不少．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機會難逢，請和同學踴躍參加！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　此通告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各同學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中文學會主席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張美茵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二零零年六月六日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評分標準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一．標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１．</a:t>
            </a:r>
            <a:r>
              <a:rPr b="0" lang="zh-TW" sz="3200" spc="-1" strike="noStrike">
                <a:solidFill>
                  <a:srgbClr val="33cc33"/>
                </a:solidFill>
                <a:latin typeface="Times New Roman"/>
              </a:rPr>
              <a:t>中文學會通告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；</a:t>
            </a:r>
            <a:r>
              <a:rPr b="0" lang="zh-TW" sz="3200" spc="-1" strike="noStrike">
                <a:solidFill>
                  <a:srgbClr val="33cc33"/>
                </a:solidFill>
                <a:latin typeface="Times New Roman"/>
              </a:rPr>
              <a:t>善良中學中文學會通</a:t>
            </a:r>
            <a:r>
              <a:rPr b="0" lang="zh-TW" sz="32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cc33"/>
                </a:solidFill>
                <a:latin typeface="Times New Roman"/>
              </a:rPr>
              <a:t>告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；</a:t>
            </a:r>
            <a:r>
              <a:rPr b="0" lang="zh-TW" sz="3200" spc="-1" strike="noStrike">
                <a:solidFill>
                  <a:srgbClr val="33cc33"/>
                </a:solidFill>
                <a:latin typeface="Times New Roman"/>
              </a:rPr>
              <a:t>中文學會通告第ｘ號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等皆給２分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２．沒有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通告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二字，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只寫班際原子筆書法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比賽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，給２分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３．只寫</a:t>
            </a:r>
            <a:r>
              <a:rPr b="0" lang="zh-TW" sz="3200" spc="-1" strike="noStrike">
                <a:solidFill>
                  <a:srgbClr val="800080"/>
                </a:solidFill>
                <a:latin typeface="Times New Roman"/>
              </a:rPr>
              <a:t>通告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二字或</a:t>
            </a: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書法比賽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（通告），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原子筆書法比賽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（通告），</a:t>
            </a:r>
            <a:r>
              <a:rPr b="0" lang="zh-TW" sz="3200" spc="-1" strike="noStrike">
                <a:solidFill>
                  <a:srgbClr val="800080"/>
                </a:solidFill>
                <a:latin typeface="Times New Roman"/>
              </a:rPr>
              <a:t>班際書法</a:t>
            </a:r>
            <a:r>
              <a:rPr b="0" lang="zh-TW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800080"/>
                </a:solidFill>
                <a:latin typeface="Times New Roman"/>
              </a:rPr>
              <a:t>比賽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（通告），給１分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４．</a:t>
            </a:r>
            <a:r>
              <a:rPr b="0" lang="zh-TW" sz="3200" spc="-1" strike="noStrike">
                <a:solidFill>
                  <a:srgbClr val="33ccff"/>
                </a:solidFill>
                <a:latin typeface="Times New Roman"/>
              </a:rPr>
              <a:t>善良中學通告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，</a:t>
            </a:r>
            <a:r>
              <a:rPr b="0" lang="zh-TW" sz="3200" spc="-1" strike="noStrike">
                <a:solidFill>
                  <a:srgbClr val="0099ff"/>
                </a:solidFill>
                <a:latin typeface="Times New Roman"/>
              </a:rPr>
              <a:t>中文學會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，</a:t>
            </a:r>
            <a:r>
              <a:rPr b="0" lang="zh-TW" sz="3200" spc="-1" strike="noStrike">
                <a:solidFill>
                  <a:srgbClr val="33ccff"/>
                </a:solidFill>
                <a:latin typeface="Times New Roman"/>
              </a:rPr>
              <a:t>英文學會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通告，不給分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Times New Roman"/>
              </a:rPr>
              <a:t>二．正文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１．比賽原因或意義（２分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例如為提高水平和興趣；為配合某項活動；用作某展覽；選拔人才參加校外比賽或由於學校傳統：一年一度的比賽等皆可．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２．比賽方法（５分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．比賽日期／時間／地點（須能表達清楚明確而合理）／賽制（班際賽；分高，初中組比賽等），給２分．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ii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．比賽內容（時限，字數，帶備之用品等）充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分而合理者，最高可給２分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iii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．評判（評判：由著名書法家李炳先生評選）給１分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３．有關參加（２分）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i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． 參賽資格（會員；各班派代表；自由參加等等），給１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ii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．參加辦法（如：向各班中文科老師報名；向學會職員索取報名表；各班自行選派代表等）／（須能和考生所述比賽時間地點及賽制配合；並能訂明報名截止日期）給１分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ff"/>
                </a:solidFill>
                <a:latin typeface="Times New Roman"/>
              </a:rPr>
              <a:t>４．其他（３分）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鼓勵參加：如呼籲同學踴躍參加等語／獎勵；設某某獎項；倘若分組作分設某某獎項／有關賽果公布，頒獎典禮等事全歸“其他”一項中／有明確受文者或在正文內有表明受文者，如“上通告各同學”．每項１分．寫“特此通告”，而無受文者，亦給１分．最高共給３分．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00ff"/>
                </a:solidFill>
                <a:latin typeface="Times New Roman"/>
              </a:rPr>
              <a:t>三．下款（２分）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１．下款可以職銜及姓名兼寫，姓名須寫張美茵，也可單寫職銜．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倘若職銜與署名倒置也可以接受，給１分．職銜須為“中文學會主席”“善良中學中文學會主席”．寫中文學會，中文學會以下小組主席張美茵，如寫書法比賽籌委會，給半分．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２．通告日期：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包括年月日，只寫月日或ｘ月ｘ日亦可，給１分．西式寫法如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1-1-97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，五月八日一九九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七年等，給半分．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6600ff"/>
                </a:solidFill>
                <a:latin typeface="Times New Roman"/>
              </a:rPr>
              <a:t>行文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以事實明確，文辭簡潔，語氣得當為佳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19520" y="1981080"/>
          <a:ext cx="3781440" cy="42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378144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ff"/>
                </a:solidFill>
                <a:latin typeface="Times New Roman"/>
              </a:rPr>
              <a:t>扣分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格式：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１．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誤作公函或其他格式（明顯有上款稱謂者，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或收結有祝頌語者），有“敬啟者”等用語，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扣６分．只寫“此致”而無明確受文者，扣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６分．無頭無尾，無任何格式者，扣６分．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２．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職銜及姓名後加“上”／“謹啟”等，扣２分．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３．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格式異常，如“日期”置於開端語之前；下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款及日期倒置，扣１分．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４．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標題非置中位，扣１分．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943600" y="609480"/>
          <a:ext cx="123984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609480"/>
                    <a:ext cx="12398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ff"/>
                </a:solidFill>
                <a:latin typeface="Times New Roman"/>
              </a:rPr>
              <a:t>扣分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內容：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誤將善良中學作中文學會或誤作其他學會，扣４分．人名錯誤，扣４分．正文顯示不出職銜，單寫張美茵，扣２分．有職銜，人名有錯別字，扣２分．如通告日期過短或事後發通告，扣２分．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字數：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402000"/>
                </a:solidFill>
                <a:latin typeface="Times New Roman"/>
              </a:rPr>
              <a:t>不另扣分．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638680" y="4343400"/>
          <a:ext cx="257328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4343400"/>
                    <a:ext cx="25732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66cc"/>
                </a:solidFill>
                <a:latin typeface="Times New Roman"/>
              </a:rPr>
              <a:t>通告格式給分</a:t>
            </a:r>
            <a:r>
              <a:rPr b="1" lang="zh-TW" sz="5400" spc="-1" strike="noStrike">
                <a:solidFill>
                  <a:srgbClr val="ff66cc"/>
                </a:solidFill>
                <a:latin typeface="Times New Roman"/>
              </a:rPr>
              <a:t>/</a:t>
            </a:r>
            <a:r>
              <a:rPr b="1" lang="zh-TW" sz="5400" spc="-1" strike="noStrike">
                <a:solidFill>
                  <a:srgbClr val="ff66cc"/>
                </a:solidFill>
                <a:latin typeface="Times New Roman"/>
              </a:rPr>
              <a:t>扣分示例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TW" sz="4000" spc="-1" strike="noStrike">
                <a:solidFill>
                  <a:srgbClr val="0099ff"/>
                </a:solidFill>
                <a:latin typeface="Times New Roman"/>
              </a:rPr>
              <a:t>．標題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以下２分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以下１分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以下不給分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中文學會通告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書法比賽（通告）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善良中學通告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中文學會通告第ｘ號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通告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中文學會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善良中學中文學會通告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班際書法比賽（通告）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英文學會通告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2362320"/>
            <a:ext cx="0" cy="34290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2286000"/>
            <a:ext cx="0" cy="34290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124080"/>
            <a:ext cx="70866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d3333"/>
                </a:solidFill>
                <a:latin typeface="Times New Roman"/>
              </a:rPr>
              <a:t>什麼是通告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通告與啟事的性質差不多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通告是陳述某一件事或向有關人士宣布消息的文字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648320" y="4038480"/>
          <a:ext cx="343044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38480"/>
                    <a:ext cx="343044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99ff"/>
                </a:solidFill>
                <a:latin typeface="Times New Roman"/>
              </a:rPr>
              <a:t>２．受文者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ｘｘ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ｘｘ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ｘｘ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以上通告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特此通告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特此通告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全體同學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各班同學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（１分）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（１分）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（１分）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ｘｘ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ｘｘ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各位同學，本會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為了……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（１分）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1800" spc="-1" strike="noStrike">
                <a:solidFill>
                  <a:srgbClr val="402000"/>
                </a:solidFill>
                <a:latin typeface="Times New Roman"/>
              </a:rPr>
              <a:t>（欠，不給分）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752480"/>
            <a:ext cx="1295640" cy="1295640"/>
          </a:xfrm>
          <a:prstGeom prst="rect">
            <a:avLst/>
          </a:prstGeom>
          <a:solidFill>
            <a:srgbClr val="993366">
              <a:alpha val="50000"/>
            </a:srgbClr>
          </a:solidFill>
          <a:ln w="324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752480"/>
            <a:ext cx="1447920" cy="137160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1752480"/>
            <a:ext cx="1676160" cy="137160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267080"/>
            <a:ext cx="2438280" cy="1524240"/>
          </a:xfrm>
          <a:prstGeom prst="rect">
            <a:avLst/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4191120"/>
            <a:ext cx="2514600" cy="1523880"/>
          </a:xfrm>
          <a:prstGeom prst="rect">
            <a:avLst/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格式錯誤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　ｘｘ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　ｘｘ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　ｘｘ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各位同學：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敬啟者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各位同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祝學業進步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　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　　此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各同學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扣６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 （扣６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扣６分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ｘｘ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　ｘｘ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此致／此啟／此佈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祝學業進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扣６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扣６分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1066680"/>
            <a:ext cx="0" cy="28195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1143000"/>
            <a:ext cx="0" cy="2743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352680"/>
            <a:ext cx="739116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4038480"/>
            <a:ext cx="0" cy="24386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5638680"/>
            <a:ext cx="693396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下款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（兩者互調亦可）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中文學會主席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中文學會主席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中文學會主席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張美茵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ˍˍˍˍˍˍ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（張美茵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１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 （１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 （１分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中文學會書法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中文學會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比賽籌委會主席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張美茵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張美茵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半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半分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1600200"/>
            <a:ext cx="2514600" cy="1828800"/>
          </a:xfrm>
          <a:prstGeom prst="rect">
            <a:avLst/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1600200"/>
            <a:ext cx="2209680" cy="18288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1600200"/>
            <a:ext cx="2286000" cy="1828800"/>
          </a:xfrm>
          <a:prstGeom prst="rect">
            <a:avLst/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4038480"/>
            <a:ext cx="2590920" cy="1524240"/>
          </a:xfrm>
          <a:prstGeom prst="rect">
            <a:avLst/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4038480"/>
            <a:ext cx="2286000" cy="1524240"/>
          </a:xfrm>
          <a:prstGeom prst="rect">
            <a:avLst/>
          </a:prstGeom>
          <a:solidFill>
            <a:srgbClr val="ce9964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誤作其他學會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中文學會主席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善良中學主席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　ｘｘｘ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張美茵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扣４分） 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扣４分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上文無職銜說明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中文學會主席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上／謹啟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　　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　　　　　　章美恩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張美茵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扣２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扣２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扣２分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457200"/>
            <a:ext cx="2286000" cy="1676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533520"/>
            <a:ext cx="3124080" cy="175248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3809880"/>
            <a:ext cx="1676160" cy="1676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809880"/>
            <a:ext cx="2819520" cy="1676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3809880"/>
            <a:ext cx="2514600" cy="1676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99ff"/>
                </a:solidFill>
                <a:latin typeface="Times New Roman"/>
              </a:rPr>
              <a:t>日期及寫法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（西式寫法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ｘ年ｘ月ｘ日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ｘ月ｘ日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ｘ／ｘ／ｘｘ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１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１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半分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ｘ月ｘ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（中西夾雜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ｘ月ｘ日ｘ年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　   　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ｘ月ｘ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中文學會主席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張美茵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半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扣１分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（扣１分）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143000"/>
            <a:ext cx="2057400" cy="914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1143000"/>
            <a:ext cx="1828800" cy="914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1143000"/>
            <a:ext cx="2361960" cy="9144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3276720"/>
            <a:ext cx="2057400" cy="22096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7600" y="3276720"/>
            <a:ext cx="1905120" cy="22096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3200400"/>
            <a:ext cx="2438640" cy="2362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通告</a:t>
            </a: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vs</a:t>
            </a: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啟事</a:t>
            </a: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文體比較</a:t>
            </a: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402000"/>
                </a:solidFill>
                <a:latin typeface="Times New Roman"/>
              </a:rPr>
              <a:t>項目</a:t>
            </a:r>
            <a:r>
              <a:rPr b="1" lang="zh-TW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3200" spc="-1" strike="noStrike">
                <a:solidFill>
                  <a:srgbClr val="402000"/>
                </a:solidFill>
                <a:latin typeface="Times New Roman"/>
              </a:rPr>
              <a:t>通告</a:t>
            </a:r>
            <a:r>
              <a:rPr b="1" lang="zh-TW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3200" spc="-1" strike="noStrike">
                <a:solidFill>
                  <a:srgbClr val="402000"/>
                </a:solidFill>
                <a:latin typeface="Times New Roman"/>
              </a:rPr>
              <a:t>啟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發布方法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張貼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登報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張貼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登報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對象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有一定對象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無一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定對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象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目的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宣布消息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預期有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宣布消息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回音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可附回條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3333cc"/>
                </a:solidFill>
                <a:latin typeface="Times New Roman"/>
              </a:rPr>
              <a:t>未必有回音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1219320"/>
            <a:ext cx="0" cy="48006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219320"/>
            <a:ext cx="0" cy="46479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2590920"/>
            <a:ext cx="72388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4267080"/>
            <a:ext cx="73152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通告</a:t>
            </a: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vs</a:t>
            </a: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啟事</a:t>
            </a: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(</a:t>
            </a: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格式比較</a:t>
            </a:r>
            <a:r>
              <a:rPr b="1" lang="zh-TW" sz="4000" spc="-1" strike="noStrike">
                <a:solidFill>
                  <a:srgbClr val="ff66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標題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通告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zh-TW" sz="2400" spc="-1" strike="noStrike">
                <a:solidFill>
                  <a:srgbClr val="402000"/>
                </a:solidFill>
                <a:latin typeface="Times New Roman"/>
              </a:rPr>
              <a:t>啟事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開端語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查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案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根據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查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案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根據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正文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以簡潔為要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 (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以簡潔為要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收束語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特此通告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以上通告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此啟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右通告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受文者稱謂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在收束語末位置或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無受文者稱謂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正文中提及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發文者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全銜及姓名不加“啟”字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全銜及姓名加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“啟”字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日期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有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有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發文者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受文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學會會長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會員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社會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任何人士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者關係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機構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社會人士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1219320"/>
            <a:ext cx="0" cy="51051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1143000"/>
            <a:ext cx="0" cy="51055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98108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2514600"/>
            <a:ext cx="76201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352680"/>
            <a:ext cx="754380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4191120"/>
            <a:ext cx="74674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5029200"/>
            <a:ext cx="74674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5486400"/>
            <a:ext cx="74674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d3333"/>
                </a:solidFill>
                <a:latin typeface="Times New Roman"/>
              </a:rPr>
              <a:t>通告的類別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公函式通告</a:t>
            </a: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對外</a:t>
            </a: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一般通告</a:t>
            </a: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機構內部通告</a:t>
            </a:r>
            <a:r>
              <a:rPr b="0" lang="zh-TW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29200" y="3429000"/>
          <a:ext cx="3375000" cy="30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429000"/>
                    <a:ext cx="337500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33cc33"/>
                </a:solidFill>
                <a:latin typeface="Times New Roman"/>
              </a:rPr>
              <a:t>通告的格式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檔號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402000"/>
                </a:solidFill>
                <a:uFillTx/>
                <a:latin typeface="Times New Roman"/>
              </a:rPr>
              <a:t>xx</a:t>
            </a:r>
            <a:r>
              <a:rPr b="1" lang="zh-TW" sz="2000" spc="-1" strike="noStrike" u="sng">
                <a:solidFill>
                  <a:srgbClr val="402000"/>
                </a:solidFill>
                <a:uFillTx/>
                <a:latin typeface="Times New Roman"/>
              </a:rPr>
              <a:t>署常務通告</a:t>
            </a:r>
            <a:r>
              <a:rPr b="1" lang="zh-TW" sz="2000" spc="-1" strike="noStrike" u="sng">
                <a:solidFill>
                  <a:srgbClr val="402000"/>
                </a:solidFill>
                <a:uFillTx/>
                <a:latin typeface="Times New Roman"/>
              </a:rPr>
              <a:t>xxxx</a:t>
            </a:r>
            <a:r>
              <a:rPr b="1" lang="zh-TW" sz="2000" spc="-1" strike="noStrike" u="sng">
                <a:solidFill>
                  <a:srgbClr val="402000"/>
                </a:solidFill>
                <a:uFillTx/>
                <a:latin typeface="Times New Roman"/>
              </a:rPr>
              <a:t>年第</a:t>
            </a:r>
            <a:r>
              <a:rPr b="1" lang="zh-TW" sz="2000" spc="-1" strike="noStrike" u="sng">
                <a:solidFill>
                  <a:srgbClr val="402000"/>
                </a:solidFill>
                <a:uFillTx/>
                <a:latin typeface="Times New Roman"/>
              </a:rPr>
              <a:t>x</a:t>
            </a:r>
            <a:r>
              <a:rPr b="1" lang="zh-TW" sz="2000" spc="-1" strike="noStrike" u="sng">
                <a:solidFill>
                  <a:srgbClr val="402000"/>
                </a:solidFill>
                <a:uFillTx/>
                <a:latin typeface="Times New Roman"/>
              </a:rPr>
              <a:t>號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402000"/>
                </a:solidFill>
                <a:uFillTx/>
                <a:latin typeface="Times New Roman"/>
              </a:rPr>
              <a:t>牙科教學醫院為政府僱員及家屬提供之牙科服務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一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)……………………………………………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二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)……………………………………………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三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)……………………………………………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此通告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各部門首長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xxxx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署長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xxx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(xxx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代行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xxxx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年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月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日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477120" y="2666880"/>
          <a:ext cx="163656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666880"/>
                    <a:ext cx="16365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cc33"/>
                </a:solidFill>
                <a:latin typeface="Times New Roman"/>
              </a:rPr>
              <a:t>通告用語介紹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標題寫在行中間並須加上“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通告</a:t>
            </a: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”二字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Times New Roman"/>
              </a:rPr>
              <a:t>第二行不須加受文者稱謂</a:t>
            </a: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，起寫正文，把大眾要注意的事情寫清楚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倘若內容繁複，可分段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正文完了，緊接著寫“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特此通告</a:t>
            </a: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”字</a:t>
            </a: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,</a:t>
            </a: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並另行寫受文者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署名須具</a:t>
            </a:r>
            <a:r>
              <a:rPr b="0" lang="zh-TW" sz="3200" spc="-1" strike="noStrike">
                <a:solidFill>
                  <a:srgbClr val="33cc33"/>
                </a:solidFill>
                <a:latin typeface="Times New Roman"/>
              </a:rPr>
              <a:t>職銜</a:t>
            </a:r>
            <a:r>
              <a:rPr b="0" lang="zh-TW" sz="3200" spc="-1" strike="noStrike">
                <a:solidFill>
                  <a:srgbClr val="9900cc"/>
                </a:solidFill>
                <a:latin typeface="Times New Roman"/>
              </a:rPr>
              <a:t>及姓名並在下面寫上</a:t>
            </a:r>
            <a:r>
              <a:rPr b="0" lang="zh-TW" sz="3200" spc="-1" strike="noStrike">
                <a:solidFill>
                  <a:srgbClr val="ff00ff"/>
                </a:solidFill>
                <a:latin typeface="Times New Roman"/>
              </a:rPr>
              <a:t>日期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ff"/>
                </a:solidFill>
                <a:latin typeface="Times New Roman"/>
              </a:rPr>
              <a:t>橫寫式通告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檔號：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ED(RB)789/84 pt.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402000"/>
                </a:solidFill>
                <a:uFillTx/>
                <a:latin typeface="Times New Roman"/>
              </a:rPr>
              <a:t>xx</a:t>
            </a:r>
            <a:r>
              <a:rPr b="1" lang="zh-TW" sz="2400" spc="-1" strike="noStrike" u="sng">
                <a:solidFill>
                  <a:srgbClr val="402000"/>
                </a:solidFill>
                <a:uFillTx/>
                <a:latin typeface="Times New Roman"/>
              </a:rPr>
              <a:t>署學校雜項通告</a:t>
            </a:r>
            <a:r>
              <a:rPr b="1" lang="zh-TW" sz="2400" spc="-1" strike="noStrike" u="sng">
                <a:solidFill>
                  <a:srgbClr val="402000"/>
                </a:solidFill>
                <a:uFillTx/>
                <a:latin typeface="Times New Roman"/>
              </a:rPr>
              <a:t>xx</a:t>
            </a:r>
            <a:r>
              <a:rPr b="1" lang="zh-TW" sz="2400" spc="-1" strike="noStrike" u="sng">
                <a:solidFill>
                  <a:srgbClr val="402000"/>
                </a:solidFill>
                <a:uFillTx/>
                <a:latin typeface="Times New Roman"/>
              </a:rPr>
              <a:t>年第</a:t>
            </a:r>
            <a:r>
              <a:rPr b="1" lang="zh-TW" sz="2400" spc="-1" strike="noStrike" u="sng">
                <a:solidFill>
                  <a:srgbClr val="402000"/>
                </a:solidFill>
                <a:uFillTx/>
                <a:latin typeface="Times New Roman"/>
              </a:rPr>
              <a:t>22</a:t>
            </a:r>
            <a:r>
              <a:rPr b="1" lang="zh-TW" sz="2400" spc="-1" strike="noStrike" u="sng">
                <a:solidFill>
                  <a:srgbClr val="402000"/>
                </a:solidFill>
                <a:uFillTx/>
                <a:latin typeface="Times New Roman"/>
              </a:rPr>
              <a:t>號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402000"/>
                </a:solidFill>
                <a:uFillTx/>
                <a:latin typeface="Times New Roman"/>
              </a:rPr>
              <a:t>教學界功能選民組的選民登記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政務總署每年都會修訂選民登記冊……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教員如想申請成為教學界功能選民組選民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,………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3.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請將本通告的內容轉知全體教員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此通告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各官立學校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資助學校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私立學校校長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xx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署署長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(xxx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代行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xxxx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年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xx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月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162920" y="685800"/>
          <a:ext cx="110160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685800"/>
                    <a:ext cx="110160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ff"/>
                </a:solidFill>
                <a:latin typeface="Times New Roman"/>
              </a:rPr>
              <a:t>直寫式通告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81000"/>
          </a:bodyPr>
          <a:p>
            <a:pPr marL="2775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檔號：</a:t>
            </a:r>
            <a:r>
              <a:rPr b="0" lang="zh-TW" sz="2000" spc="-1" strike="noStrike">
                <a:solidFill>
                  <a:srgbClr val="402000"/>
                </a:solidFill>
                <a:latin typeface="Times New Roman"/>
              </a:rPr>
              <a:t>ED(RB)789/84 pt.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402000"/>
                </a:solidFill>
                <a:uFillTx/>
                <a:latin typeface="Times New Roman"/>
              </a:rPr>
              <a:t>xx</a:t>
            </a:r>
            <a:r>
              <a:rPr b="1" lang="zh-TW" sz="2800" spc="-1" strike="noStrike" u="sng">
                <a:solidFill>
                  <a:srgbClr val="402000"/>
                </a:solidFill>
                <a:uFillTx/>
                <a:latin typeface="Times New Roman"/>
              </a:rPr>
              <a:t>署學校雜項通告</a:t>
            </a:r>
            <a:r>
              <a:rPr b="1" lang="zh-TW" sz="2800" spc="-1" strike="noStrike" u="sng">
                <a:solidFill>
                  <a:srgbClr val="402000"/>
                </a:solidFill>
                <a:uFillTx/>
                <a:latin typeface="Times New Roman"/>
              </a:rPr>
              <a:t>xx</a:t>
            </a:r>
            <a:r>
              <a:rPr b="1" lang="zh-TW" sz="2800" spc="-1" strike="noStrike" u="sng">
                <a:solidFill>
                  <a:srgbClr val="402000"/>
                </a:solidFill>
                <a:uFillTx/>
                <a:latin typeface="Times New Roman"/>
              </a:rPr>
              <a:t>年第</a:t>
            </a:r>
            <a:r>
              <a:rPr b="1" lang="zh-TW" sz="2800" spc="-1" strike="noStrike" u="sng">
                <a:solidFill>
                  <a:srgbClr val="402000"/>
                </a:solidFill>
                <a:uFillTx/>
                <a:latin typeface="Times New Roman"/>
              </a:rPr>
              <a:t>22</a:t>
            </a:r>
            <a:r>
              <a:rPr b="1" lang="zh-TW" sz="2800" spc="-1" strike="noStrike" u="sng">
                <a:solidFill>
                  <a:srgbClr val="402000"/>
                </a:solidFill>
                <a:uFillTx/>
                <a:latin typeface="Times New Roman"/>
              </a:rPr>
              <a:t>號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402000"/>
                </a:solidFill>
                <a:uFillTx/>
                <a:latin typeface="Times New Roman"/>
              </a:rPr>
              <a:t>教學界功能選民組的選民登記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政務總署每年都會修訂選民登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記冊……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教員如想申請成為教學界功能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選民組選民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,……….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3.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請將本通告的內容轉知全體教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員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此通告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各官立學校／資助學校／私立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校校長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xx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署署長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xxx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(xxx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代行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xxxx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年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xx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月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zh-TW" sz="2800" spc="-1" strike="noStrike">
                <a:solidFill>
                  <a:srgbClr val="402000"/>
                </a:solidFill>
                <a:latin typeface="Times New Roman"/>
              </a:rPr>
              <a:t>日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ff"/>
                </a:solidFill>
                <a:latin typeface="Times New Roman"/>
              </a:rPr>
              <a:t>會考題（一）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400" spc="-1" strike="noStrike">
                <a:solidFill>
                  <a:srgbClr val="3333cc"/>
                </a:solidFill>
                <a:latin typeface="Times New Roman"/>
              </a:rPr>
              <a:t>時事學會將於本年六月五日下午三時，假</a:t>
            </a:r>
            <a:r>
              <a:rPr b="0" lang="zh-TW" sz="3400" spc="-1" strike="noStrike" u="sng">
                <a:solidFill>
                  <a:srgbClr val="3333cc"/>
                </a:solidFill>
                <a:uFillTx/>
                <a:latin typeface="Times New Roman"/>
              </a:rPr>
              <a:t>杏花中學</a:t>
            </a:r>
            <a:r>
              <a:rPr b="0" lang="zh-TW" sz="3400" spc="-1" strike="noStrike">
                <a:solidFill>
                  <a:srgbClr val="3333cc"/>
                </a:solidFill>
                <a:latin typeface="Times New Roman"/>
              </a:rPr>
              <a:t>禮堂舉行“認識新機場”講座．學會老師邀請了香港城市建設研究中心主任</a:t>
            </a:r>
            <a:r>
              <a:rPr b="0" lang="zh-TW" sz="3400" spc="-1" strike="noStrike" u="sng">
                <a:solidFill>
                  <a:srgbClr val="3333cc"/>
                </a:solidFill>
                <a:uFillTx/>
                <a:latin typeface="Times New Roman"/>
              </a:rPr>
              <a:t>陳彪</a:t>
            </a:r>
            <a:r>
              <a:rPr b="0" lang="zh-TW" sz="3400" spc="-1" strike="noStrike">
                <a:solidFill>
                  <a:srgbClr val="3333cc"/>
                </a:solidFill>
                <a:latin typeface="Times New Roman"/>
              </a:rPr>
              <a:t>博士擔任主講嘉賓，其講題是“ 新機場與本港的經濟發展”．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400" spc="-1" strike="noStrike">
                <a:solidFill>
                  <a:srgbClr val="3333cc"/>
                </a:solidFill>
                <a:latin typeface="Times New Roman"/>
              </a:rPr>
              <a:t>假設你是學會會長</a:t>
            </a:r>
            <a:r>
              <a:rPr b="0" lang="zh-TW" sz="3400" spc="-1" strike="noStrike" u="sng">
                <a:solidFill>
                  <a:srgbClr val="3333cc"/>
                </a:solidFill>
                <a:uFillTx/>
                <a:latin typeface="Times New Roman"/>
              </a:rPr>
              <a:t>丁小游</a:t>
            </a:r>
            <a:r>
              <a:rPr b="0" lang="zh-TW" sz="3400" spc="-1" strike="noStrike">
                <a:solidFill>
                  <a:srgbClr val="3333cc"/>
                </a:solidFill>
                <a:latin typeface="Times New Roman"/>
              </a:rPr>
              <a:t>，試撰寫通告一則，發佈消息此消息及呼籲各同學出席．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447920" y="457200"/>
          <a:ext cx="1447560" cy="13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57200"/>
                    <a:ext cx="1447560" cy="13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072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ff"/>
                </a:solidFill>
                <a:latin typeface="Times New Roman"/>
              </a:rPr>
              <a:t>時事學會演講會通告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為配合“認識新機場”活動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本會已邀得著名學者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本港城市建設研究中心主任陳彪博士擔任演講會的主講嘉賓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. 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陳博士的講題是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:“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新機場與本港的濟發展”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屆時他會就新機場的興建與本港廿一世紀經濟發展的關係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,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作深入的剖析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. 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是次演講的細節如下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一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日期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一九九七年六月五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二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時間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下午三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三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地點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本校禮堂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希望各位同學踴躍出席</a:t>
            </a: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時事學會會長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丁小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402000"/>
                </a:solidFill>
                <a:latin typeface="Times New Roman"/>
              </a:rPr>
              <a:t>一九九七年五月十五日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705720" y="3200400"/>
          <a:ext cx="149832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3200400"/>
                    <a:ext cx="149832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13:40:00Z</dcterms:created>
  <dc:creator>HOME</dc:creator>
  <dc:description/>
  <dc:language>en-US</dc:language>
  <cp:lastModifiedBy>Chan Mei Ling</cp:lastModifiedBy>
  <dcterms:modified xsi:type="dcterms:W3CDTF">2002-05-29T14:29:45Z</dcterms:modified>
  <cp:revision>20</cp:revision>
  <dc:subject/>
  <dc:title>通告</dc:title>
</cp:coreProperties>
</file>