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15.wmf" ContentType="image/x-wmf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6B3A-2513-44CE-AFAB-BDD6333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854-BC95-4165-8F47-AE68E5DD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97DE-86C7-4E21-ABA6-7BD51BCE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2A1-E4F6-4695-9278-9710B112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AF94-FE6D-4A0B-9C9E-64006620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6B30-58E7-437C-AC97-C6D8CE85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36AD-642F-4DB2-A567-A8CF4FC7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6FCC-B7FF-4848-8457-5E00DF7C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68E3-DBD1-4E18-8DE4-E9808AA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A0D6-7A3A-48F9-B74F-2437DD21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BAA2-8B60-410C-B6E4-F2A0EDB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1397-5212-4C01-83D3-74035FBA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749E-CAEE-4DD3-8750-3B8BB361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F163-365B-4EBE-94BE-7B207A11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A25D-5E00-4AE2-B2BE-4B6DF4E0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00BF-0D30-422B-9EA4-8662B2B0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2F0A-E0FA-4324-B14C-53A8B66E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9F6-3E4F-44DE-9936-3348DE7D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30FC-F17F-4DB8-8E1B-486B598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319-20E6-4531-9D99-C146BC3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984-AB86-414B-A3EC-914230F1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D1D-30C3-4AC3-9CA3-F2790D94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555-A110-4BEF-92AC-A037CA8C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7399-78F3-4009-8905-ED19C99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994A-73D7-4235-A917-892E70718452}" type="slidenum"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15F-D0D8-4885-9B0B-4CF86227A828}" type="slidenum">
              <a:rPr b="0" lang="zh-TW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4419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3333ff"/>
                </a:solidFill>
                <a:latin typeface="Times New Roman"/>
              </a:rPr>
              <a:t>啟 事</a:t>
            </a:r>
            <a:endParaRPr b="0" i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6600"/>
                </a:solidFill>
                <a:latin typeface="Times New Roman"/>
              </a:rPr>
              <a:t>１什麼是啟事　　 ２啟事的性質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6600"/>
                </a:solidFill>
                <a:latin typeface="Times New Roman"/>
              </a:rPr>
              <a:t>３啟事的格式　４例子舉隅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6600"/>
                </a:solidFill>
                <a:latin typeface="Times New Roman"/>
              </a:rPr>
              <a:t>　　５實習題　　６會考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6600"/>
                </a:solidFill>
                <a:latin typeface="Times New Roman"/>
              </a:rPr>
              <a:t>７小貼士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66"/>
                </a:solidFill>
                <a:latin typeface="Times New Roman"/>
              </a:rPr>
              <a:t>實習題提示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１清楚了解題目的指示，辨認文體為啟事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２身份為班會主席，而閱讀對象則是同班同學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３擬此啟事最主要是徵書，故標題必需提及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8" name="arrowright" descr=""/>
          <p:cNvPicPr/>
          <p:nvPr/>
        </p:nvPicPr>
        <p:blipFill>
          <a:blip r:embed="rId1"/>
          <a:stretch/>
        </p:blipFill>
        <p:spPr>
          <a:xfrm>
            <a:off x="7696080" y="5334120"/>
            <a:ext cx="101628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４啟事內容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a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介紹及解釋成立班中小型圖書館的目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b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提出成立的方法和希望各同學合作的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　　　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途徑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c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承諾圖書的借還日期及完整性，讓同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學安心借出書籍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留意雜誌是否蒐集對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象之一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d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說明徵集書刊的日期，留意其合理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e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負責同學及其工作範圍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f)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略寫呼籲的句子，同時注意同輩身份應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990033"/>
                </a:solidFill>
                <a:latin typeface="Times New Roman"/>
              </a:rPr>
              <a:t>有的語氣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0" name="arrowright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10159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５署名後加上</a:t>
            </a:r>
            <a:r>
              <a:rPr b="0" lang="zh-TW" sz="3600" spc="-1" strike="noStrike">
                <a:solidFill>
                  <a:srgbClr val="ff66ff"/>
                </a:solidFill>
                <a:latin typeface="Times New Roman"/>
              </a:rPr>
              <a:t>啟</a:t>
            </a: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或</a:t>
            </a:r>
            <a:r>
              <a:rPr b="0" lang="zh-TW" sz="3600" spc="-1" strike="noStrike">
                <a:solidFill>
                  <a:srgbClr val="ff66ff"/>
                </a:solidFill>
                <a:latin typeface="Times New Roman"/>
              </a:rPr>
              <a:t>敬啟</a:t>
            </a: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的字眼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６由於題目沒有標明日期，故可隨意加上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７覆查格式，留意錯別字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2" name="dontlisten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0033"/>
                </a:solidFill>
                <a:latin typeface="Times New Roman"/>
              </a:rPr>
              <a:t>徵書啟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為使各同學能充份利用課餘時間閱讀課外書籍，以擴大知識領域，提高語文水準，擬班中成立小型圖書館，方便同學隨時借閱．現籲請各同學暫時借出家中已閱讀之書刊雜誌，待匯集編號後，以供借閱．而班會於學年結束時，即把原書奉還．徵集書刊雜誌時期為十月一日至十月二十日，煩請逕交吳曉婷同學編號．請大家踴躍支持為感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班會主席　高仁風敬啟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Times New Roman"/>
              </a:rPr>
              <a:t>一九九九年九月八日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0099"/>
                </a:solidFill>
                <a:latin typeface="Times New Roman"/>
              </a:rPr>
              <a:t>會考題目溫習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九五年試卷一第四題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學校的社會服務團預算在十二月間舉辦捐贈寒衣運動．試以該團的團長身份，擬一則啟事，請同學捐出寒衣，並為此招募義工．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（字數在１６０至２００之間，標點符號計算在內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6" name="exclaimationmark" descr=""/>
          <p:cNvPicPr/>
          <p:nvPr/>
        </p:nvPicPr>
        <p:blipFill>
          <a:blip r:embed="rId1"/>
          <a:stretch/>
        </p:blipFill>
        <p:spPr>
          <a:xfrm>
            <a:off x="7162920" y="1600200"/>
            <a:ext cx="1269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3333ff"/>
                </a:solidFill>
                <a:latin typeface="Times New Roman"/>
              </a:rPr>
              <a:t>評分標準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0099"/>
                </a:solidFill>
                <a:latin typeface="Times New Roman"/>
              </a:rPr>
              <a:t>１標題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00"/>
                </a:solidFill>
                <a:latin typeface="Times New Roman"/>
              </a:rPr>
              <a:t>捐贈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（或徵集）</a:t>
            </a:r>
            <a:r>
              <a:rPr b="0" lang="zh-TW" sz="3200" spc="-1" strike="noStrike">
                <a:solidFill>
                  <a:srgbClr val="006600"/>
                </a:solidFill>
                <a:latin typeface="Times New Roman"/>
              </a:rPr>
              <a:t>寒衣及招募義工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（倘欠</a:t>
            </a:r>
            <a:r>
              <a:rPr b="0" lang="zh-TW" sz="3200" spc="-1" strike="noStrike">
                <a:solidFill>
                  <a:srgbClr val="ff66ff"/>
                </a:solidFill>
                <a:latin typeface="Times New Roman"/>
              </a:rPr>
              <a:t>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二字亦可）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倘寫</a:t>
            </a:r>
            <a:r>
              <a:rPr b="0" lang="zh-TW" sz="3200" spc="-1" strike="noStrike">
                <a:solidFill>
                  <a:srgbClr val="ff5050"/>
                </a:solidFill>
                <a:latin typeface="Times New Roman"/>
              </a:rPr>
              <a:t>社會服務團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，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.5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倘寫兩事中一事，如徵集</a:t>
            </a:r>
            <a:r>
              <a:rPr b="0" lang="zh-TW" sz="3200" spc="-1" strike="noStrike">
                <a:solidFill>
                  <a:srgbClr val="990099"/>
                </a:solidFill>
                <a:latin typeface="Times New Roman"/>
              </a:rPr>
              <a:t>寒衣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；或標題含義未明確，如</a:t>
            </a:r>
            <a:r>
              <a:rPr b="0" lang="zh-TW" sz="3200" spc="-1" strike="noStrike">
                <a:solidFill>
                  <a:srgbClr val="990099"/>
                </a:solidFill>
                <a:latin typeface="Times New Roman"/>
              </a:rPr>
              <a:t>捐贈及招募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0" lang="zh-TW" sz="3200" spc="-1" strike="noStrike">
                <a:solidFill>
                  <a:srgbClr val="990099"/>
                </a:solidFill>
                <a:latin typeface="Times New Roman"/>
              </a:rPr>
              <a:t>捐贈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，或只寫</a:t>
            </a:r>
            <a:r>
              <a:rPr b="0" lang="zh-TW" sz="3200" spc="-1" strike="noStrike">
                <a:solidFill>
                  <a:srgbClr val="990099"/>
                </a:solidFill>
                <a:latin typeface="Times New Roman"/>
              </a:rPr>
              <a:t>啟事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二字，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倘寫</a:t>
            </a:r>
            <a:r>
              <a:rPr b="0" lang="zh-TW" sz="3200" spc="-1" strike="noStrike">
                <a:solidFill>
                  <a:srgbClr val="00ffff"/>
                </a:solidFill>
                <a:latin typeface="Times New Roman"/>
              </a:rPr>
              <a:t>啟示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，不給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標題不寫在行的中央，扣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0.5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 u="sng">
                <a:solidFill>
                  <a:srgbClr val="cc0099"/>
                </a:solidFill>
                <a:uFillTx/>
                <a:latin typeface="Times New Roman"/>
              </a:rPr>
              <a:t>２正文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一．捐贈寒衣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ａ．運動目的（說明捐贈的意義或動機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ｂ．受惠對象（指出某類人或某機構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ｃ．收集辦法（明確列寫日期，地點或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際聯絡方法，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；概略一提，最多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9" name="eyeangry" descr=""/>
          <p:cNvPicPr/>
          <p:nvPr/>
        </p:nvPicPr>
        <p:blipFill>
          <a:blip r:embed="rId1"/>
          <a:stretch/>
        </p:blipFill>
        <p:spPr>
          <a:xfrm>
            <a:off x="6934320" y="1371600"/>
            <a:ext cx="175248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二．招募義工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ａ．招募原因（詳細說明，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；略作說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明，最多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ｂ．工作性質（做收集，包紮，搬運等工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作，其他言之成理均可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ｃ．招募辦法（明確寫出可行聯絡辦法或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報名方法，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；略略作說明，最多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給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1" name="eyesleep" descr=""/>
          <p:cNvPicPr/>
          <p:nvPr/>
        </p:nvPicPr>
        <p:blipFill>
          <a:blip r:embed="rId1"/>
          <a:stretch/>
        </p:blipFill>
        <p:spPr>
          <a:xfrm>
            <a:off x="6858000" y="495288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三．呼籲同學捐出衣物，擔任義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工（包括兩項而語氣積極，給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分；只提一項或語氣平淡，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給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分）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006600"/>
                </a:solidFill>
                <a:latin typeface="Times New Roman"/>
              </a:rPr>
              <a:t>正文各項內容須合情合理，否則不應給分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３．下款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d60093"/>
                </a:solidFill>
                <a:latin typeface="Times New Roman"/>
              </a:rPr>
              <a:t>一．身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Times New Roman"/>
              </a:rPr>
              <a:t>社會服務團團長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，給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分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倘欠完整，給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0.5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分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身份不符，如</a:t>
            </a:r>
            <a:r>
              <a:rPr b="0" lang="zh-TW" sz="2800" spc="-1" strike="noStrike">
                <a:solidFill>
                  <a:srgbClr val="ff5050"/>
                </a:solidFill>
                <a:latin typeface="Times New Roman"/>
              </a:rPr>
              <a:t>文書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，不給分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團長之後可附姓名，不附亦可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但只用姓名，不給分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團長之後應有</a:t>
            </a:r>
            <a:r>
              <a:rPr b="0" lang="zh-TW" sz="2800" spc="-1" strike="noStrike">
                <a:solidFill>
                  <a:srgbClr val="ff66ff"/>
                </a:solidFill>
                <a:latin typeface="Times New Roman"/>
              </a:rPr>
              <a:t>啟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字；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欠</a:t>
            </a:r>
            <a:r>
              <a:rPr b="0" lang="zh-TW" sz="2800" spc="-1" strike="noStrike">
                <a:solidFill>
                  <a:srgbClr val="ff66ff"/>
                </a:solidFill>
                <a:latin typeface="Times New Roman"/>
              </a:rPr>
              <a:t>啟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字，不扣分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倘謙稱過甚，如</a:t>
            </a:r>
            <a:r>
              <a:rPr b="0" lang="zh-TW" sz="2800" spc="-1" strike="noStrike">
                <a:solidFill>
                  <a:srgbClr val="990099"/>
                </a:solidFill>
                <a:latin typeface="Times New Roman"/>
              </a:rPr>
              <a:t>謹上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0" lang="zh-TW" sz="2800" spc="-1" strike="noStrike">
                <a:solidFill>
                  <a:srgbClr val="990099"/>
                </a:solidFill>
                <a:latin typeface="Times New Roman"/>
              </a:rPr>
              <a:t>敬上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，</a:t>
            </a:r>
            <a:r>
              <a:rPr b="0" lang="zh-TW" sz="2800" spc="-1" strike="noStrike">
                <a:solidFill>
                  <a:srgbClr val="990099"/>
                </a:solidFill>
                <a:latin typeface="Times New Roman"/>
              </a:rPr>
              <a:t>上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者，扣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0.5</a:t>
            </a:r>
            <a:r>
              <a:rPr b="0" lang="zh-TW" sz="2800" spc="-1" strike="noStrike">
                <a:solidFill>
                  <a:srgbClr val="003300"/>
                </a:solidFill>
                <a:latin typeface="Times New Roman"/>
              </a:rPr>
              <a:t>分）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4" name="eyebig" descr=""/>
          <p:cNvPicPr/>
          <p:nvPr/>
        </p:nvPicPr>
        <p:blipFill>
          <a:blip r:embed="rId1"/>
          <a:stretch/>
        </p:blipFill>
        <p:spPr>
          <a:xfrm>
            <a:off x="6019920" y="2590920"/>
            <a:ext cx="261612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4800" spc="-1" strike="noStrike">
                <a:solidFill>
                  <a:srgbClr val="3333ff"/>
                </a:solidFill>
                <a:latin typeface="Times New Roman"/>
              </a:rPr>
              <a:t>什麼是啟事？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陳述一件事情，讓大家加以注意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沒有固定對象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刊登於報章的啟事稱</a:t>
            </a:r>
            <a:r>
              <a:rPr b="0" lang="zh-TW" sz="4000" spc="-1" strike="noStrike">
                <a:solidFill>
                  <a:srgbClr val="ff0066"/>
                </a:solidFill>
                <a:latin typeface="Times New Roman"/>
              </a:rPr>
              <a:t>報章啟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張貼在公眾的通告板上的，稱</a:t>
            </a:r>
            <a:r>
              <a:rPr b="0" lang="zh-TW" sz="4000" spc="-1" strike="noStrike">
                <a:solidFill>
                  <a:srgbClr val="ff0066"/>
                </a:solidFill>
                <a:latin typeface="Times New Roman"/>
              </a:rPr>
              <a:t>張貼啟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d60093"/>
                </a:solidFill>
                <a:latin typeface="Times New Roman"/>
              </a:rPr>
              <a:t>二．日期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包括年月日（只寫月，日或ｘ月ｘ日亦可）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99"/>
                </a:solidFill>
                <a:latin typeface="Times New Roman"/>
              </a:rPr>
              <a:t>行文方面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以事實明確，報導清楚，文辭簡潔為宜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990099"/>
                </a:solidFill>
                <a:latin typeface="Times New Roman"/>
              </a:rPr>
              <a:t>字數方面：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應在１６０至２００之間（標題及下款不計在內）．若內文字數超越上限，每多足十字扣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0" lang="zh-TW" sz="3200" spc="-1" strike="noStrike">
                <a:solidFill>
                  <a:srgbClr val="003300"/>
                </a:solidFill>
                <a:latin typeface="Times New Roman"/>
              </a:rPr>
              <a:t>分．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99"/>
                </a:solidFill>
                <a:latin typeface="Times New Roman"/>
              </a:rPr>
              <a:t>格式方面：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倘標題寫明</a:t>
            </a:r>
            <a:r>
              <a:rPr b="0" lang="zh-TW" sz="3600" spc="-1" strike="noStrike">
                <a:solidFill>
                  <a:srgbClr val="ff33cc"/>
                </a:solidFill>
                <a:latin typeface="Times New Roman"/>
              </a:rPr>
              <a:t>通告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正文前用一行標出受信對象或寫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ff33cc"/>
                </a:solidFill>
                <a:latin typeface="Times New Roman"/>
              </a:rPr>
              <a:t>敬／逕啟者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正文末寫受信對象或</a:t>
            </a:r>
            <a:r>
              <a:rPr b="0" lang="zh-TW" sz="3600" spc="-1" strike="noStrike">
                <a:solidFill>
                  <a:srgbClr val="ff33cc"/>
                </a:solidFill>
                <a:latin typeface="Times New Roman"/>
              </a:rPr>
              <a:t>此致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正文末有祝頌語，每項扣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分，但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最多扣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zh-TW" sz="3600" spc="-1" strike="noStrike">
                <a:solidFill>
                  <a:srgbClr val="3333cc"/>
                </a:solidFill>
                <a:latin typeface="Times New Roman"/>
              </a:rPr>
              <a:t>分．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086600" y="380880"/>
          <a:ext cx="161928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80880"/>
                    <a:ext cx="16192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3333cc"/>
                </a:solidFill>
                <a:latin typeface="Times New Roman"/>
              </a:rPr>
              <a:t>小貼士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Times New Roman"/>
              </a:rPr>
              <a:t>認清題目，冷靜分析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Times New Roman"/>
              </a:rPr>
              <a:t>注意文體格式和語氣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Times New Roman"/>
              </a:rPr>
              <a:t>切勿寫錯別字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00"/>
                </a:solidFill>
                <a:latin typeface="Times New Roman"/>
              </a:rPr>
              <a:t>預留時間覆卷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啟事絕對難不到你們！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553080" y="457200"/>
          <a:ext cx="1971720" cy="43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57200"/>
                    <a:ext cx="19717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3333ff"/>
                </a:solidFill>
                <a:latin typeface="Times New Roman"/>
              </a:rPr>
              <a:t>啟事的性質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Times New Roman"/>
              </a:rPr>
              <a:t>　　尋找　　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Times New Roman"/>
              </a:rPr>
              <a:t>　　聲明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Times New Roman"/>
              </a:rPr>
              <a:t>　　徵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Times New Roman"/>
              </a:rPr>
              <a:t>　　招領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9880" y="2057400"/>
          <a:ext cx="4191120" cy="383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57400"/>
                    <a:ext cx="4191120" cy="38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3333ff"/>
                </a:solidFill>
                <a:latin typeface="Times New Roman"/>
              </a:rPr>
              <a:t>啟事的格式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04880" y="2019240"/>
          <a:ext cx="7620120" cy="405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19240"/>
                    <a:ext cx="76201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09480" y="458640"/>
          <a:ext cx="7886880" cy="559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58640"/>
                    <a:ext cx="788688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5400" spc="-1" strike="noStrike">
                <a:solidFill>
                  <a:srgbClr val="3333ff"/>
                </a:solidFill>
                <a:latin typeface="Times New Roman"/>
              </a:rPr>
              <a:t>例子舉隅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3300"/>
                </a:solidFill>
                <a:latin typeface="Times New Roman"/>
              </a:rPr>
              <a:t>李志和遺失了南洋汽車公司所發的校巴乘車證，他要向該公司報失外，更需擬一則啟事，聲明該乘車證作廢．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304920"/>
            <a:ext cx="7772400" cy="56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0099"/>
                </a:solidFill>
                <a:latin typeface="Times New Roman"/>
              </a:rPr>
              <a:t>遺失校巴乘車證啟事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本人不慎遺失９８／９９年度校巴乘車證（編號ｐｙ１１６１），除已向</a:t>
            </a:r>
            <a:r>
              <a:rPr b="0" lang="zh-TW" sz="3200" spc="-1" strike="noStrike" u="sng">
                <a:solidFill>
                  <a:srgbClr val="0066ff"/>
                </a:solidFill>
                <a:uFillTx/>
                <a:latin typeface="Times New Roman"/>
              </a:rPr>
              <a:t>南洋汽車公司</a:t>
            </a: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報失外，並聲明該乘車證作廢．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66ff"/>
                </a:solidFill>
                <a:uFillTx/>
                <a:latin typeface="Times New Roman"/>
              </a:rPr>
              <a:t>李志和</a:t>
            </a: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啟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ff"/>
                </a:solidFill>
                <a:latin typeface="Times New Roman"/>
              </a:rPr>
              <a:t>一九九八年十月三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1" name="angry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8125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0066"/>
                </a:solidFill>
                <a:latin typeface="Times New Roman"/>
              </a:rPr>
              <a:t>按部就班寫啟事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１．審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２．擬定身份，閱讀對象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３．撰寫標題，概括內容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４．用淺白簡潔的文字交代內容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５．身份及署名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６．注意日期的合理性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ff"/>
                </a:solidFill>
                <a:latin typeface="Times New Roman"/>
              </a:rPr>
              <a:t>７．覆查啟事：注意流暢度，清晰度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4" name="bee" descr=""/>
          <p:cNvPicPr/>
          <p:nvPr/>
        </p:nvPicPr>
        <p:blipFill>
          <a:blip r:embed="rId1"/>
          <a:stretch/>
        </p:blipFill>
        <p:spPr>
          <a:xfrm>
            <a:off x="6705720" y="21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996633"/>
                </a:solidFill>
                <a:latin typeface="Times New Roman"/>
              </a:rPr>
              <a:t>實習題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4800" spc="-1" strike="noStrike">
                <a:solidFill>
                  <a:srgbClr val="003300"/>
                </a:solidFill>
                <a:latin typeface="Times New Roman"/>
              </a:rPr>
              <a:t>假設你是班會主席</a:t>
            </a:r>
            <a:r>
              <a:rPr b="0" lang="zh-TW" sz="4800" spc="-1" strike="noStrike" u="sng">
                <a:solidFill>
                  <a:srgbClr val="003300"/>
                </a:solidFill>
                <a:uFillTx/>
                <a:latin typeface="Times New Roman"/>
              </a:rPr>
              <a:t>高仁風</a:t>
            </a:r>
            <a:r>
              <a:rPr b="0" lang="zh-TW" sz="4800" spc="-1" strike="noStrike">
                <a:solidFill>
                  <a:srgbClr val="003300"/>
                </a:solidFill>
                <a:latin typeface="Times New Roman"/>
              </a:rPr>
              <a:t>，現需擬一則啟事，說明成立班中小型圖書館的事情，並呼籲各同學捐出圖書，踴躍支持．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0:27:28Z</dcterms:created>
  <dc:creator>HOME</dc:creator>
  <dc:description/>
  <dc:language>en-US</dc:language>
  <cp:lastModifiedBy>ITLC</cp:lastModifiedBy>
  <dcterms:modified xsi:type="dcterms:W3CDTF">2002-05-30T00:23:07Z</dcterms:modified>
  <cp:revision>20</cp:revision>
  <dc:subject/>
  <dc:title>啟 事</dc:title>
</cp:coreProperties>
</file>