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172200"/>
            <a:ext cx="245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ical Theory (ENG33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ineering Course 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67440" y="6172200"/>
            <a:ext cx="249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1.3 Resistance_2  Page </a:t>
            </a:r>
            <a:fld id="{E46D5473-7376-41D3-ABC7-96A83DBC69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of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st Updated: 1/2/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371240" y="1036440"/>
            <a:ext cx="683244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</a:rPr>
              <a:t>Reference Book: Circuit Analysis by Robbins &amp; Mill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825120" y="725040"/>
            <a:ext cx="7961400" cy="55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7120" indent="-357120">
              <a:spcBef>
                <a:spcPts val="550"/>
              </a:spcBef>
              <a:tabLst>
                <a:tab algn="l" pos="0"/>
                <a:tab algn="l" pos="35712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6.      Color Coding of Resistors   (p. 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Small resistors are too small to have their values printed on the component.  Instead, color bands are used.  [Fig. 3 – 15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. 77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he color bands are always read from left to right, left being defined as the side of the resistor with the band nearest to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400"/>
              </a:spcBef>
              <a:tabLst>
                <a:tab algn="l" pos="0"/>
                <a:tab algn="l" pos="35712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50"/>
              </a:spcBef>
              <a:tabLst>
                <a:tab algn="l" pos="0"/>
                <a:tab algn="l" pos="35712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Band 1 and 2 :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first are second digits of the resistance val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50"/>
              </a:spcBef>
              <a:tabLst>
                <a:tab algn="l" pos="0"/>
                <a:tab algn="l" pos="35712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Band 3 :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Multiplier band -  represent s the number of ze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50"/>
              </a:spcBef>
              <a:tabLst>
                <a:tab algn="l" pos="0"/>
                <a:tab algn="l" pos="35712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following the first two digits given as a power of t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50"/>
              </a:spcBef>
              <a:tabLst>
                <a:tab algn="l" pos="0"/>
                <a:tab algn="l" pos="35712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Band 4 :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olerance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50"/>
              </a:spcBef>
              <a:tabLst>
                <a:tab algn="l" pos="0"/>
                <a:tab algn="l" pos="35712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Band 5 :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if present) indicates the expected reliabil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50"/>
              </a:spcBef>
              <a:tabLst>
                <a:tab algn="l" pos="0"/>
                <a:tab algn="l" pos="35712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[Reliability - statistical indication of the expected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number of components which will no longer have the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indicated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resistance value after 1000 hours of use.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240" y="577800"/>
            <a:ext cx="6832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Fig.  3 – 15   Color codes 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. 7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5200" y="1114560"/>
            <a:ext cx="7735680" cy="4900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240" y="825480"/>
            <a:ext cx="6832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Table 3-5     Resistor Color Codes 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. 7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1481040"/>
            <a:ext cx="7639200" cy="4102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08200" y="4229280"/>
            <a:ext cx="801504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From Table 3 - 5, we see that the resistor will have a valuedetermine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R   =  18 x 10</a:t>
            </a:r>
            <a:r>
              <a:rPr b="0" lang="zh-TW" sz="1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8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=  18k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8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0.9k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with a reliability of 0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This specification indicates that the resistance will fall between 171k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and 189k</a:t>
            </a: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.  After 1000 hours, we would expect that no more than 1 resistor in 1000 would fall outside the specified ran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54160" y="299880"/>
            <a:ext cx="6985080" cy="394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240" y="914400"/>
            <a:ext cx="683244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54080" indent="-1054080">
              <a:spcBef>
                <a:spcPts val="550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Question :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Find the value and tolerance of a resistor if the color bands reading from left to right 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1054080">
              <a:spcBef>
                <a:spcPts val="45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1054080">
              <a:spcBef>
                <a:spcPts val="550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Red, yellow, orange, g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1054080">
              <a:spcBef>
                <a:spcPts val="45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1054080">
              <a:spcBef>
                <a:spcPts val="45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1054080">
              <a:spcBef>
                <a:spcPts val="45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1054080">
              <a:spcBef>
                <a:spcPts val="45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54080" indent="-1054080">
              <a:spcBef>
                <a:spcPts val="550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Assignment :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Ch. 3)  Problem 25, 27, 29, 31, 3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825120"/>
            <a:ext cx="73087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60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Measuring Resistance - The Ohmmeter   (p. 7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Multimeter - measure voltage (voltmeter), current (ammeter), and resistance (ohmme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Use of ohmmeter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measure resistance of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determine whether a circuit is faulty (i.e. open and short circui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determine the condition of semiconductor devices such as diodes and transist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88880" y="507960"/>
            <a:ext cx="6832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Measure resistance in a circuit  [Fig. 3 – 19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. 8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39760" y="1028880"/>
            <a:ext cx="7037280" cy="4993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11280" y="542880"/>
            <a:ext cx="819144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Measure resistance of component which is located in an operating circu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disconnect power supplies [Fig. 3 - 19a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isolate the component from the rest of circuit [Fig. 3 - 19b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onnect two probes of ohmmeter across the 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ensure ohmmeter is on correct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urn ohmmeter 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Measure the continuity of a circu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Short circ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- ohmmeter will indicate a very low ( 0 ) resista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Open circ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- ohmmeter will indicate infinite resista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[Practical Notes]  -  reading of ohmmeter in open circ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[Practice Problem VI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240" y="825480"/>
            <a:ext cx="6832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Figure 3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01600" y="538200"/>
            <a:ext cx="7317000" cy="5030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527040"/>
            <a:ext cx="795960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8.    Thermistors   (p. 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Transducer - device or component which causes an electric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change due to a physical chang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Thermistor (thermal resistor) -  2-terminal transducer in whi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resistance changes with changes in tem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Symbol :   [Fig. 3 - 21 and 3 - 22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571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87480" y="2989440"/>
            <a:ext cx="4878360" cy="3238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08560" y="3862440"/>
            <a:ext cx="1968480" cy="1384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4080" y="701640"/>
            <a:ext cx="828036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5 Types of Resistors  (p. 7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Fixed Resis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Having resistance values which are essentially const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Ranging in size from almost microscope (in IC) to high-power resis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arbon composition resistor [Fig. 3-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p. 7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he ratio of carbon to insulating filler determines the resistance value of the resis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Resistance ranges from less than 1 ohm to 100 Moh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Power ratings from 1/8 W to 2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Adv.: inexpensive and easy to produ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Disadv.: wide tolerances and high temp coefficient [Fig. 3-9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. 7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4400" y="3244680"/>
            <a:ext cx="2095200" cy="333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57080" y="419040"/>
            <a:ext cx="794232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Construction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oxides of various materials such as cobalt, manganese, nickel, and stront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Negative temp coefficient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as temp increases, the outmost electronics in the atoms of material become more active and break away from atom which causes a reduction in resistance. [Fig. 3-22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. 8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] [Practice Problem VII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Use in circuits to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ontrol cur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measure of control tem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Application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electronic thermo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hermostatic control circuits for furn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240" y="649080"/>
            <a:ext cx="6832440" cy="54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Fig.  3 – 22  Thermal resistance as a function of temp 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. 8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9720" y="1111320"/>
            <a:ext cx="7926480" cy="4979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82680" y="684000"/>
            <a:ext cx="7184880" cy="54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9.    Photoconductive Cells  (Photocells)  -  (p. 8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wo terminal transducers which have resistance determined by the amount of light falling on the cell.  [Fig. 3 - 23(a)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Symbol :   [Fig. 3 - 23(b)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32000" y="2462040"/>
            <a:ext cx="3517920" cy="3630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8920" y="3340080"/>
            <a:ext cx="2362320" cy="2184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823680" y="614160"/>
            <a:ext cx="792612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Construction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cadium sulfide (CdS), cadium selenide (Cd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sensitive to light having wavelengths between 4000Å (blue light) to 10000Å(infrared)  [Noted :  1Å = 1 x 10</a:t>
            </a:r>
            <a:r>
              <a:rPr b="1" lang="zh-TW" sz="22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m)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49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Negative temp coefficient: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[Fig. 3 - 23 (c)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light, which is a f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m of energy, strikes the material of photocell and causes the release of electronics, and hence reduce the resista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49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49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Use in circuits to :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measure light intensity and/or control light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49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Applications :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used as part of a security syst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49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Assignment :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(Ch. 3)  Problem 35, 37, 39, 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88880" y="577800"/>
            <a:ext cx="6832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Fig.  3 - 23 (c)  Resistance vs illu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14360" y="1031760"/>
            <a:ext cx="6389640" cy="5064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240" y="825120"/>
            <a:ext cx="68324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0.    Resistance in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Equivalent resistance of a series of resistors is the summation of all resistan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R(equivalent) = R1 + R2 + R3 +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352080"/>
            <a:ext cx="687564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1.    Resistance in Parallel</a:t>
            </a:r>
            <a:br>
              <a:rPr sz="2400"/>
            </a:br>
            <a:br>
              <a:rPr sz="2800"/>
            </a:b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Equivalent resistance of a set of resistors connected in parallel is 1/R(equivalent) = 1/R1 + 1/R2 + 1/R3 +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090080" y="330120"/>
            <a:ext cx="7378920" cy="59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Fig. 3-7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Structure of a  molded carbon composition resistor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. 7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3160" y="733320"/>
            <a:ext cx="580572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3397320"/>
            <a:ext cx="6504120" cy="2730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3000" y="666720"/>
            <a:ext cx="7167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Fig. 3-9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Variation in resistance of a carbon resistor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. 7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33560" y="1193760"/>
            <a:ext cx="7049880" cy="492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85920" y="825480"/>
            <a:ext cx="69372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Metal fil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Desired resistance is obtained by removing part of the resistive material, resulting in a helical pattern around the ceramic co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Adv.: small temp coefficient and high precis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Disadv.: higher cos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Wire-w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onstructed of a metal alloy wound around a hollow porcelain co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Adv.: able to dissipate large quantities of hea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Disadv.: higher inducta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52760" y="1003320"/>
            <a:ext cx="3556080" cy="241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67240" y="3367080"/>
            <a:ext cx="2539800" cy="571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825120"/>
            <a:ext cx="6832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Integrated resis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onstructed in miniature IC packag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Adv.: conserve space in circuit bo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Disadv.: used in circuit where dissipation of heat is not a major design conside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Variable Resis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Used to adjust the volume of radios, and set level of light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hree terminals.  Two of which are fixed to the ends of resistive materials [Fig. 3-13]. Central terminal is connected to a wiper which moves over the resistive material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25360" y="754200"/>
            <a:ext cx="6832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Fig. 3-1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Variable Resistors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. 7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7840" y="1562040"/>
            <a:ext cx="4132080" cy="3390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25920" y="1574640"/>
            <a:ext cx="4319640" cy="3367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9160" y="825480"/>
            <a:ext cx="745488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Fig. 3-13   Variable Resistors and Terminals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. 7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2040" y="1679400"/>
            <a:ext cx="4510080" cy="317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59240" y="1638360"/>
            <a:ext cx="3378240" cy="3236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596880"/>
            <a:ext cx="6832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TW" sz="22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 =  cons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=  R</a:t>
            </a:r>
            <a:r>
              <a:rPr b="1" lang="zh-TW" sz="2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1" lang="zh-TW" sz="22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Functions:   Potentiometer [Fig. 3-13c] – adjust voltag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Rheostat [Fig. 3-14] – adjust curr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Fig. 3-14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Rheostat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. 7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41400" y="3019320"/>
            <a:ext cx="5475240" cy="3070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TC</cp:lastModifiedBy>
  <dcterms:modified xsi:type="dcterms:W3CDTF">2004-09-20T05:05:31Z</dcterms:modified>
  <cp:revision>25</cp:revision>
  <dc:subject/>
  <dc:title>No Slide Title</dc:title>
</cp:coreProperties>
</file>