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086520" y="6172200"/>
            <a:ext cx="2477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ter 1.2 Resistance_1  Page </a:t>
            </a:r>
            <a:fld id="{4F02B51B-4907-47FF-B08D-16F6E1295E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of 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ast Updated: 1/2/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6172200"/>
            <a:ext cx="2457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lectrical Theory (ENG330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ineering Course 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371240" y="825480"/>
            <a:ext cx="68324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Times New Roman"/>
              </a:rPr>
              <a:t>Resistan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Times New Roman"/>
              </a:rPr>
              <a:t>Part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Reference Book: Circuit Analysis by Robbins &amp; Mi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033560" y="22035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52520" y="4605480"/>
            <a:ext cx="655956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2960" y="649080"/>
            <a:ext cx="7519680" cy="54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Fig. 3-6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Temp effects on the resistance of a  conductor 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. 69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33560" y="22035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52520" y="4605480"/>
            <a:ext cx="655956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38240" y="1225440"/>
            <a:ext cx="7240680" cy="478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584520" y="2119320"/>
            <a:ext cx="1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56080" y="2830680"/>
            <a:ext cx="20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785520" y="618840"/>
            <a:ext cx="7785000" cy="55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Resistance of any material increases as temp increases - positive temp coeffici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For semiconductor materials, increases in temp allow electrons to escape their usually stable orbits and become free to move within the material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nce resistance decreases as temp rises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 -  negative temp coefficient.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[Table 3.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. 70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TABLE 3-4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Temperature Intercepts and Coefficients for Common 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zh-TW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zh-TW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zh-TW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zh-TW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AT 20</a:t>
            </a:r>
            <a:r>
              <a:rPr b="0" lang="zh-TW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AT 0</a:t>
            </a:r>
            <a:r>
              <a:rPr b="0" lang="zh-TW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Silver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-243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0.003 8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0.004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Copper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-234.5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0.003 93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0.004 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Aluminum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-236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0.003 91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0.004 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Tungsten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-202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0.004 50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0.004 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Iron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-162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0.005 5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0.006 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1763280"/>
            <a:ext cx="777240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TABLE 3-4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Temperature Intercepts and Coefficients for Common 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zh-TW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zh-TW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zh-TW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zh-TW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Lead      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-224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0.004 26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0.004 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Nichrome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-2270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0.000 44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0.000 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Brass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-480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0.002 00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0.002 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Platinum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-310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0.003 03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0.003 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-0.000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Germanium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-0.0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Silicon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-0.0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371240" y="825120"/>
            <a:ext cx="683244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From Fig. 3-6, slope of the l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m = </a:t>
            </a:r>
            <a:r>
              <a:rPr b="1" lang="zh-TW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R/ </a:t>
            </a:r>
            <a:r>
              <a:rPr b="1" lang="zh-TW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=  (R</a:t>
            </a:r>
            <a:r>
              <a:rPr b="0" lang="zh-TW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- 0) / (T</a:t>
            </a:r>
            <a:r>
              <a:rPr b="0" lang="zh-TW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- T) [unit : </a:t>
            </a:r>
            <a:r>
              <a:rPr b="0" lang="zh-TW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zh-TW" sz="2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C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Define temp. coefficient a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zh-TW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 =  m / R</a:t>
            </a:r>
            <a:r>
              <a:rPr b="0" lang="zh-TW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 [unit: (</a:t>
            </a:r>
            <a:r>
              <a:rPr b="0" lang="zh-TW" sz="2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zh-TW" sz="2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Question:  What is the sign (+ve or -ve) of the slope, m, f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a)   coppe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b)  silicon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33560" y="22035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52520" y="4605480"/>
            <a:ext cx="655956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371240" y="825120"/>
            <a:ext cx="68324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The temp coefficient will not be c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ant everywhere but is dependent upon the resistance R</a:t>
            </a:r>
            <a:r>
              <a:rPr b="0" lang="zh-TW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and temp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TW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lang="zh-TW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+ m </a:t>
            </a:r>
            <a:r>
              <a:rPr b="0" lang="zh-TW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lang="zh-TW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+ m (T</a:t>
            </a:r>
            <a:r>
              <a:rPr b="0" lang="zh-TW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zh-TW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lang="zh-TW" sz="2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[ 1 + (m/R</a:t>
            </a:r>
            <a:r>
              <a:rPr b="0" lang="zh-TW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)(T</a:t>
            </a:r>
            <a:r>
              <a:rPr b="0" lang="zh-TW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zh-TW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)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TW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lang="zh-TW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[ 1 + (</a:t>
            </a:r>
            <a:r>
              <a:rPr b="0" lang="zh-TW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zh-TW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)(T</a:t>
            </a:r>
            <a:r>
              <a:rPr b="0" lang="zh-TW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zh-TW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)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refore, knowing the resistance and temp coefficient at temp T1 can calculate the unknown resistance at temp T2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33560" y="22035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52520" y="4605480"/>
            <a:ext cx="655956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>
    <p:split dir="out" orient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577440"/>
            <a:ext cx="7130880" cy="53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EXAMPLE 3-8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. 7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An aluminum wire has a resistance of 20 </a:t>
            </a:r>
            <a:r>
              <a:rPr b="0" lang="zh-TW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at room temperature (20 </a:t>
            </a:r>
            <a:r>
              <a:rPr b="0" lang="zh-TW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C).  Calculate the resistance of the same wire at temperatures of –40 </a:t>
            </a:r>
            <a:r>
              <a:rPr b="0" lang="zh-TW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C, 100 </a:t>
            </a:r>
            <a:r>
              <a:rPr b="0" lang="zh-TW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C, and 200 </a:t>
            </a:r>
            <a:r>
              <a:rPr b="0" lang="zh-TW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At –40 </a:t>
            </a:r>
            <a:r>
              <a:rPr b="0" lang="zh-TW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C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From Table 3-4, we see that aluminum has a temperature coefficient of </a:t>
            </a:r>
            <a:r>
              <a:rPr b="0" lang="zh-TW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= 0.00391.  The resistance at –40 </a:t>
            </a:r>
            <a:r>
              <a:rPr b="0" lang="zh-TW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C is now determined to b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zh-TW" sz="2200" spc="-1" strike="noStrike" baseline="-25000">
                <a:solidFill>
                  <a:srgbClr val="000000"/>
                </a:solidFill>
                <a:latin typeface="Times New Roman"/>
              </a:rPr>
              <a:t>–40 </a:t>
            </a:r>
            <a:r>
              <a:rPr b="0" lang="zh-TW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zh-TW" sz="2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   = (20 </a:t>
            </a:r>
            <a:r>
              <a:rPr b="0" lang="zh-TW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){1 + [0.00391(</a:t>
            </a:r>
            <a:r>
              <a:rPr b="0" lang="zh-TW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zh-TW" sz="22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] [–40 </a:t>
            </a:r>
            <a:r>
              <a:rPr b="0" lang="zh-TW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C –20 </a:t>
            </a:r>
            <a:r>
              <a:rPr b="0" lang="zh-TW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C]}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= 15.3 </a:t>
            </a:r>
            <a:r>
              <a:rPr b="0" lang="zh-TW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[Learning Check IV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33560" y="22035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52520" y="4605480"/>
            <a:ext cx="655956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240" y="825480"/>
            <a:ext cx="683244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Times New Roman"/>
              </a:rPr>
              <a:t>1    Resistance of Conductors  (p. 6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The resistance of a material is dependent upon several factor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Type of materi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Length of the condu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Cross-sectional ar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33560" y="22035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52520" y="4605480"/>
            <a:ext cx="655956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371240" y="725040"/>
            <a:ext cx="683244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The factors governing the resistance of a conductor at a given temperatur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 =  resistivity, in ohms-meters ( </a:t>
            </a:r>
            <a:r>
              <a:rPr b="0" lang="zh-TW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-m 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[Table 1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zh-TW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  =  length, in meters (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A =  cross-sectional area, in square meters (m</a:t>
            </a:r>
            <a:r>
              <a:rPr b="0" lang="zh-TW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33560" y="22035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52520" y="4605480"/>
            <a:ext cx="655956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060720" y="2338560"/>
                <a:ext cx="217332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ρ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ohm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split dir="out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22120" y="771480"/>
            <a:ext cx="6832440" cy="53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Table 1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Resistivity of Materials 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. 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MATERIAL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 RESISTIVITY, </a:t>
            </a:r>
            <a:r>
              <a:rPr b="0" lang="zh-TW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AT 20</a:t>
            </a:r>
            <a:r>
              <a:rPr b="0" lang="zh-TW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C (</a:t>
            </a:r>
            <a:r>
              <a:rPr b="0" lang="zh-TW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-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Silver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1.645 x 10</a:t>
            </a:r>
            <a:r>
              <a:rPr b="0" lang="zh-TW" sz="2000" spc="-1" strike="noStrike" baseline="30000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Copper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1.723 x 10 </a:t>
            </a:r>
            <a:r>
              <a:rPr b="0" lang="zh-TW" sz="2000" spc="-1" strike="noStrike" baseline="30000">
                <a:solidFill>
                  <a:srgbClr val="000000"/>
                </a:solidFill>
                <a:latin typeface="Times New Roman"/>
              </a:rPr>
              <a:t>-8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Gold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2.443 x 10 </a:t>
            </a:r>
            <a:r>
              <a:rPr b="0" lang="zh-TW" sz="2000" spc="-1" strike="noStrike" baseline="30000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Aluminum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2.825 x 10 </a:t>
            </a:r>
            <a:r>
              <a:rPr b="0" lang="zh-TW" sz="2000" spc="-1" strike="noStrike" baseline="30000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Tungsten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5.485 x 10 </a:t>
            </a:r>
            <a:r>
              <a:rPr b="0" lang="zh-TW" sz="2000" spc="-1" strike="noStrike" baseline="30000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Iron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12.30 x 10 </a:t>
            </a:r>
            <a:r>
              <a:rPr b="0" lang="zh-TW" sz="2000" spc="-1" strike="noStrike" baseline="30000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Lead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22 x 10 </a:t>
            </a:r>
            <a:r>
              <a:rPr b="0" lang="zh-TW" sz="2000" spc="-1" strike="noStrike" baseline="30000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Mercury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95.8 x 10 </a:t>
            </a:r>
            <a:r>
              <a:rPr b="0" lang="zh-TW" sz="2000" spc="-1" strike="noStrike" baseline="30000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Nichrome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99.72 x 10 </a:t>
            </a:r>
            <a:r>
              <a:rPr b="0" lang="zh-TW" sz="2000" spc="-1" strike="noStrike" baseline="30000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52520" y="4605480"/>
            <a:ext cx="655956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79360" y="947880"/>
            <a:ext cx="712008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MATERIAL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 RESISTIVITY, </a:t>
            </a:r>
            <a:r>
              <a:rPr b="0" lang="zh-TW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AT 20</a:t>
            </a:r>
            <a:r>
              <a:rPr b="0" lang="zh-TW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C (</a:t>
            </a:r>
            <a:r>
              <a:rPr b="0" lang="zh-TW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-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3500 x 10 </a:t>
            </a:r>
            <a:r>
              <a:rPr b="0" lang="zh-TW" sz="2000" spc="-1" strike="noStrike" baseline="30000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Germanium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20 - 2300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Silicon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500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Wood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TW" sz="20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- 10</a:t>
            </a:r>
            <a:r>
              <a:rPr b="0" lang="zh-TW" sz="2000" spc="-1" strike="noStrike" baseline="30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Glass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TW" sz="20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- 10</a:t>
            </a:r>
            <a:r>
              <a:rPr b="0" lang="zh-TW" sz="2000" spc="-1" strike="noStrike" baseline="30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Mica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TW" sz="2000" spc="-1" strike="noStrike" baseline="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- 10</a:t>
            </a:r>
            <a:r>
              <a:rPr b="0" lang="zh-TW" sz="20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Hard rubber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TW" sz="20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- 10</a:t>
            </a:r>
            <a:r>
              <a:rPr b="0" lang="zh-TW" sz="2000" spc="-1" strike="noStrike" baseline="30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Amber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5 x 10</a:t>
            </a:r>
            <a:r>
              <a:rPr b="0" lang="zh-TW" sz="2000" spc="-1" strike="noStrike" baseline="30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Sulphur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1 x 10</a:t>
            </a:r>
            <a:r>
              <a:rPr b="0" lang="zh-TW" sz="20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Teflon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1 x 10</a:t>
            </a:r>
            <a:r>
              <a:rPr b="0" lang="zh-TW" sz="2000" spc="-1" strike="noStrike" baseline="30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91640" y="519120"/>
            <a:ext cx="7999560" cy="57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550"/>
              </a:spcBef>
              <a:tabLst>
                <a:tab algn="l" pos="0"/>
                <a:tab algn="l" pos="1327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Example 1 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. 6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1327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 u="sng">
                <a:solidFill>
                  <a:srgbClr val="000000"/>
                </a:solidFill>
                <a:uFillTx/>
                <a:latin typeface="Times New Roman"/>
              </a:rPr>
              <a:t>EXAMPLE  1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Most hou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es use solid copper wire having a diameter of 1.63mm to provide electrical distribution to outlets and light sockets.  Determine the resistance of 75 meters of a solid copper wire having the above diamet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1327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We will first calculate the cross-sectional area of the wi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1327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using equation 2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1327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A = πd</a:t>
            </a:r>
            <a:r>
              <a:rPr b="1" lang="zh-TW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/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1327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= π(1.63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x 10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-3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)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/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1327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=    2.09 x 10</a:t>
            </a:r>
            <a:r>
              <a:rPr b="1" lang="zh-TW" sz="2200" spc="-1" strike="noStrike" baseline="30000">
                <a:solidFill>
                  <a:srgbClr val="000000"/>
                </a:solidFill>
                <a:latin typeface="Times New Roman"/>
              </a:rPr>
              <a:t>-6 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TW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1327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Now, using Table 1, the resistance of the length of wire is found 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1327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R = ρl/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1327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= (1.723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x 10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-8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Ωm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(75m)/2.09 x 10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-6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1327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TW" sz="22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TW" sz="22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TW" sz="2200" spc="-1" strike="noStrike" baseline="30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= 0.619 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52520" y="4605480"/>
            <a:ext cx="655956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181400" y="4502160"/>
                <a:ext cx="301680" cy="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ransition>
    <p:split dir="out" orient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49200" y="428400"/>
            <a:ext cx="6832800" cy="55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Example 2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. 6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33560" y="22035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52520" y="4605480"/>
            <a:ext cx="655956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84120" y="939960"/>
            <a:ext cx="6896160" cy="5229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50720" y="604440"/>
            <a:ext cx="683244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 u="sng">
                <a:solidFill>
                  <a:srgbClr val="000000"/>
                </a:solidFill>
                <a:uFillTx/>
                <a:latin typeface="Times New Roman"/>
              </a:rPr>
              <a:t>Question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Times New Roman"/>
              </a:rPr>
              <a:t>Two copper wires with same volume has radius r</a:t>
            </a:r>
            <a:r>
              <a:rPr b="0" lang="zh-TW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TW" sz="2300" spc="-1" strike="noStrike">
                <a:solidFill>
                  <a:srgbClr val="000000"/>
                </a:solidFill>
                <a:latin typeface="Times New Roman"/>
              </a:rPr>
              <a:t> and r</a:t>
            </a:r>
            <a:r>
              <a:rPr b="0" lang="zh-TW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TW" sz="2300" spc="-1" strike="noStrike">
                <a:solidFill>
                  <a:srgbClr val="000000"/>
                </a:solidFill>
                <a:latin typeface="Times New Roman"/>
              </a:rPr>
              <a:t> respectively. Find the ratio of their resistance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 u="sng">
                <a:solidFill>
                  <a:srgbClr val="000000"/>
                </a:solidFill>
                <a:uFillTx/>
                <a:latin typeface="Times New Roman"/>
              </a:rPr>
              <a:t>Solution 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Times New Roman"/>
              </a:rPr>
              <a:t>[ In Forms of R</a:t>
            </a:r>
            <a:r>
              <a:rPr b="0" lang="zh-TW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TW" sz="23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zh-TW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TW" sz="2300" spc="-1" strike="noStrike">
                <a:solidFill>
                  <a:srgbClr val="000000"/>
                </a:solidFill>
                <a:latin typeface="Times New Roman"/>
              </a:rPr>
              <a:t> (ohms) ]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Times New Roman"/>
              </a:rPr>
              <a:t>Same vol     =&gt;       A</a:t>
            </a:r>
            <a:r>
              <a:rPr b="0" lang="zh-TW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TW" sz="23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TW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TW" sz="23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0" lang="zh-TW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TW" sz="23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TW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TW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3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52520" y="4605480"/>
            <a:ext cx="655956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509920" y="2612880"/>
                <a:ext cx="367344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ρ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ρ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3718080" y="3855960"/>
                <a:ext cx="2376360" cy="21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πr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πr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split dir="out" orient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12840" y="878040"/>
            <a:ext cx="722160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</a:rPr>
              <a:t>  Temperature Effects   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</a:rPr>
              <a:t>. 6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Resistance of a conductor is not constant at all temperatur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As temperature increasers, more electrons will escape their orbits, causing additional collisions within the conductors.  For most conducting materials, the increase in the number of collisions translates into an 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rease in resistanc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The rate at which the resistance of a material changes with a variation in temperature is called the </a:t>
            </a:r>
            <a:r>
              <a:rPr b="0" i="1" lang="zh-TW" sz="2200" spc="-1" strike="noStrike">
                <a:solidFill>
                  <a:srgbClr val="000000"/>
                </a:solidFill>
                <a:latin typeface="Times New Roman"/>
              </a:rPr>
              <a:t>temperature coefficient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of the material ( </a:t>
            </a:r>
            <a:r>
              <a:rPr b="0" lang="zh-TW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).  [Fig. 3.6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33560" y="22035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52520" y="4605480"/>
            <a:ext cx="655956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enji</cp:lastModifiedBy>
  <dcterms:modified xsi:type="dcterms:W3CDTF">2004-09-12T12:55:21Z</dcterms:modified>
  <cp:revision>22</cp:revision>
  <dc:subject/>
  <dc:title>No Slide Title</dc:title>
</cp:coreProperties>
</file>