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3842280"/>
            <a:ext cx="8636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780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384228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7800" y="384228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2640" y="129492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82960" y="129492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384228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2640" y="384228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82960" y="3842280"/>
            <a:ext cx="278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421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7800" y="1294920"/>
            <a:ext cx="421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861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7800" y="1294920"/>
            <a:ext cx="421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384228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421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780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7800" y="384228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7800" y="1294920"/>
            <a:ext cx="4214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3842280"/>
            <a:ext cx="8636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172200"/>
            <a:ext cx="245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ical Theory (ENG33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gineering Course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56360" y="6172200"/>
            <a:ext cx="232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.4 Capacitance  Page </a:t>
            </a:r>
            <a:fld id="{74EE9657-C313-4159-8C08-516255719BC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Updated: 1/2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asic structure of a capacitor consists of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parallel metal plate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parated by an insulating materia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nection wir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03160" y="3309840"/>
            <a:ext cx="7452000" cy="2374200"/>
            <a:chOff x="803160" y="3309840"/>
            <a:chExt cx="7452000" cy="2374200"/>
          </a:xfrm>
        </p:grpSpPr>
        <p:sp>
          <p:nvSpPr>
            <p:cNvPr id="43" name=""/>
            <p:cNvSpPr/>
            <p:nvPr/>
          </p:nvSpPr>
          <p:spPr>
            <a:xfrm>
              <a:off x="4759200" y="479268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44920" y="4321080"/>
              <a:ext cx="2381040" cy="627120"/>
            </a:xfrm>
            <a:prstGeom prst="parallelogram">
              <a:avLst>
                <a:gd name="adj" fmla="val 9492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70120" y="4633920"/>
              <a:ext cx="1766880" cy="274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815800" y="3657960"/>
              <a:ext cx="72324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977440" y="3978000"/>
              <a:ext cx="64260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53240" y="330984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etal 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870360" y="5122440"/>
              <a:ext cx="71424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55880" y="52243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W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81120" y="4572000"/>
              <a:ext cx="9763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3160" y="4348080"/>
              <a:ext cx="155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Ins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67240" y="3981600"/>
              <a:ext cx="2381040" cy="626760"/>
            </a:xfrm>
            <a:prstGeom prst="parallelogram">
              <a:avLst>
                <a:gd name="adj" fmla="val 9497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759200" y="35924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362640" y="5299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Work must be don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increase the charge in a capacitor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nergy transferred to the capacitor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stored in the electric fiel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etween the metal pla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mount of work done to increase the charge by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 is V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work done to charge a capacitor C to Q coulomb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             joules 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the energy stored in a capacitor with a capacitance C charged to V volt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573200" y="3886200"/>
                <a:ext cx="919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or Characteristic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haracteristics of a capacitor is specified by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 toler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ltage ratin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v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erature coeffici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ance of a capacitor may range from a few pF (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-1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) to thousands o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(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-6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) 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ors available in the market are in discrete capacitance values similar to resistor values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ors with precise capacitance are costly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pecific capacitance value can be formed by connecting capacitors in parallel and seri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ance Toler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variation in material property and dimension the actual value of a capacitor may deviate from the nominal valu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ers specify the nominal value of a capacitor and its tolerance which is expressed in percentage e.g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3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0%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example the actual value of the capacitor is in the range from 29.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to 36.3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2680" y="115380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i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Breakdown Voltag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cross a capacitor creates an electric field across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ce acting on the electrons of the atoms of the dielectric is proportional to the applied field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field strength is strong enough, the electrons may be torn away from the atoms causing a current to flow through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referred to as dielectric breakdown and causes permanent damage to the capacitor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t which the dielectric breakdown takes place is called the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breakdown voltag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reakdown voltage depends on the property and the thickness of the dielectric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reakdown voltage ranges from a few volts to thousands of volt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election of capacitors for a given circuit the breakdown voltage must exceed the maximum voltage that may exist in the circuit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25160" y="1294920"/>
            <a:ext cx="8053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reakdown voltage of materia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kV/m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3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amic (high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3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la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i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styren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ubb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fl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v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emperature Coeffici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hysical size of the metal plates expand or contract with temperatur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electric constant also varies with temperatur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capacitance is directly proportional to these factors, the capacitance varies with temperatur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capacitors 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ositive temperature coeffici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apacitance increases with increase in temperatur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Negative temperature coeffici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mplies decrease in capacitance with increase in temperatur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types of capacitors have near to zero temperature coefficient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are suitable for use in circuits which requires precise capacitance valu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6440" y="1033560"/>
            <a:ext cx="8636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ype of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ors may be classified into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 capacitors: the capacitance is fix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riable capacitors: the capacitance can be varied over a rang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sulation is also called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 examples of dielectric used in a capacitor ar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am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circuit diagram a capacitor is represented by the symb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648240" y="5160960"/>
            <a:ext cx="1600200" cy="563400"/>
            <a:chOff x="3648240" y="5160960"/>
            <a:chExt cx="1600200" cy="563400"/>
          </a:xfrm>
        </p:grpSpPr>
        <p:sp>
          <p:nvSpPr>
            <p:cNvPr id="59" name=""/>
            <p:cNvSpPr/>
            <p:nvPr/>
          </p:nvSpPr>
          <p:spPr>
            <a:xfrm>
              <a:off x="4371840" y="5160960"/>
              <a:ext cx="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24480" y="5160960"/>
              <a:ext cx="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24480" y="5411880"/>
              <a:ext cx="723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48240" y="5411880"/>
              <a:ext cx="72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288120" y="5486400"/>
            <a:ext cx="13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Fixed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s of common fixed capacitors ar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am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v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lyt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v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face mou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1520" y="1069560"/>
            <a:ext cx="863604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eramic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tive dielectric constant of ceramic ranges from 10 to 10,00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erature coefficient depends on the property of the ceramic used as the dielectr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er dielectric constant results in smaller capacitor size but higher temperature coeffici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erature coefficient can be improved by using a mixture of material with positive temperature coefficient e.g. magnesium titanate and material with negative temperature coefficient e.g. calcium titanat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ical value of ceramic capacitors ranges from a few pF to 0.5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65960" y="358920"/>
            <a:ext cx="584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ica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lative dielectric constant of mica is around 5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dielectric constant value makes mica capacitor size  relatively larger than capacitors using other types of dielectr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good temperature characteristic and suitable for use in circuits which requires stable capacitanc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st of mica capacitor is higher than ceramic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416640" y="593640"/>
            <a:ext cx="14540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i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Film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m capacitors are formed by placing a plastic dielectric such as polystrene, polycarbonate etc in between two sheets of metal foi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ndwich structure is rolled into a cylinder shape to optimize the size of the capacit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metallized-film capacitors the metallic surfaces are formed by vacuum deposit metho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etal is vapourized and then deposit onto the plastic film surface in a vacuum containe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548400" y="1197000"/>
            <a:ext cx="22575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ght capacitance toler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ize is larger than ceramic capacitors of the same valu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lectrolytic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uminum electrolytic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 a thin layer of oxide as the dielectric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 dielectric consta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breakdown voltag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536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ariz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942160" y="3213000"/>
            <a:ext cx="11430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ly used electrolytic capacitors is the capacitance can go up to 10,000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or abov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 tolerance can be as large as +20%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erature characteristics is po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akage current is hig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 use in circuits requiring large but not precise capacitance such as dc supply filterin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antalum electrolytic capacitor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er leakage current and more stabl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aller siz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ance only goes up to a few tens o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larity of the connecting leads of electrolytic capacitors are marked on the capacitor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rrect connection of these two leads in a dc circuit may cause damage to the capacitor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033200"/>
            <a:ext cx="863604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v)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Surface Mount Capacit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ature and leadless capacitors known as chip capacitor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 printed circuit board with high component densit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p capacitors are surface mount components and an example of the size is 3mm x 3 mm x 1 mm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electric is usually ceramic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itable for use in circuit boards with high component density and radio frequency circuit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927760" y="3930480"/>
            <a:ext cx="3645000" cy="932040"/>
            <a:chOff x="5927760" y="3930480"/>
            <a:chExt cx="3645000" cy="932040"/>
          </a:xfrm>
        </p:grpSpPr>
        <p:grpSp>
          <p:nvGrpSpPr>
            <p:cNvPr id="248" name=""/>
            <p:cNvGrpSpPr/>
            <p:nvPr/>
          </p:nvGrpSpPr>
          <p:grpSpPr>
            <a:xfrm>
              <a:off x="5927760" y="4659480"/>
              <a:ext cx="1166760" cy="203040"/>
              <a:chOff x="5927760" y="4659480"/>
              <a:chExt cx="1166760" cy="203040"/>
            </a:xfrm>
          </p:grpSpPr>
          <p:sp>
            <p:nvSpPr>
              <p:cNvPr id="249" name=""/>
              <p:cNvSpPr/>
              <p:nvPr/>
            </p:nvSpPr>
            <p:spPr>
              <a:xfrm>
                <a:off x="5927760" y="4659480"/>
                <a:ext cx="137880" cy="201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65640" y="4659480"/>
                <a:ext cx="901800" cy="199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68880" y="4660920"/>
                <a:ext cx="125640" cy="201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flipH="1">
              <a:off x="6379920" y="4137120"/>
              <a:ext cx="11430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333920" y="4551480"/>
              <a:ext cx="3445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55040" y="3930480"/>
              <a:ext cx="191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etal pl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or sold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724200" y="4091040"/>
            <a:ext cx="13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Variable Capacito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ance of a variable capacitor can be varied over a small rang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or consists of a set of fixed plates and a set of movable plates with air as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0000" y="3619080"/>
            <a:ext cx="6162480" cy="2156040"/>
            <a:chOff x="900000" y="3619080"/>
            <a:chExt cx="6162480" cy="2156040"/>
          </a:xfrm>
        </p:grpSpPr>
        <p:sp>
          <p:nvSpPr>
            <p:cNvPr id="259" name=""/>
            <p:cNvSpPr/>
            <p:nvPr/>
          </p:nvSpPr>
          <p:spPr>
            <a:xfrm>
              <a:off x="2641320" y="4459320"/>
              <a:ext cx="1290600" cy="877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39840" y="3894120"/>
              <a:ext cx="1616040" cy="15048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81120" y="4897440"/>
              <a:ext cx="1290600" cy="877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30240" y="4710240"/>
              <a:ext cx="163440" cy="1616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055680" y="4208040"/>
              <a:ext cx="14400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3208680" y="4188240"/>
              <a:ext cx="436680" cy="9748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134000">
              <a:off x="2706120" y="3839760"/>
              <a:ext cx="2354040" cy="609480"/>
            </a:xfrm>
            <a:prstGeom prst="pentagon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733640" y="4346640"/>
              <a:ext cx="6890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0560" y="393372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ovab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p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77840" y="4410000"/>
              <a:ext cx="488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8520" y="4510080"/>
              <a:ext cx="4129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3808440"/>
              <a:ext cx="112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ix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pl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89960" y="4070520"/>
            <a:ext cx="590040" cy="1365840"/>
            <a:chOff x="7689960" y="4070520"/>
            <a:chExt cx="590040" cy="1365840"/>
          </a:xfrm>
        </p:grpSpPr>
        <p:sp>
          <p:nvSpPr>
            <p:cNvPr id="272" name=""/>
            <p:cNvSpPr/>
            <p:nvPr/>
          </p:nvSpPr>
          <p:spPr>
            <a:xfrm>
              <a:off x="7689960" y="4671720"/>
              <a:ext cx="58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91400" y="4836960"/>
              <a:ext cx="58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953120" y="4070520"/>
              <a:ext cx="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54920" y="4834800"/>
              <a:ext cx="0" cy="60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727760" y="4471560"/>
              <a:ext cx="463320" cy="55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122800" y="54356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xed plates are connected by metal conductor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verlapping area of the movable and fixed plates depends on the angular position of the movable plat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verlapping is related to the area A and distance d of the equation of capacitance C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/A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nce the capacitance can be changed by rotating the movable plate to different position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increasing the number of the interleaving plates the capacitance can reach several hundred pF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direct current (dc) voltage source is connected to a capacitor with the polarity as shown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 flows from the negative terminal towards the lower plate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ower plate becomes negatively charg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0320" y="3614760"/>
            <a:ext cx="56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70320" y="3462480"/>
            <a:ext cx="56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459400" y="272520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460840" y="361440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81320" y="4338720"/>
            <a:ext cx="22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81320" y="361476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7720" y="3449520"/>
            <a:ext cx="725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30480" y="3614760"/>
            <a:ext cx="32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1320" y="272556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73600" y="3757320"/>
            <a:ext cx="0" cy="27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33920" y="3089160"/>
            <a:ext cx="274680" cy="263520"/>
            <a:chOff x="5533920" y="3089160"/>
            <a:chExt cx="274680" cy="263520"/>
          </a:xfrm>
        </p:grpSpPr>
        <p:sp>
          <p:nvSpPr>
            <p:cNvPr id="77" name=""/>
            <p:cNvSpPr/>
            <p:nvPr/>
          </p:nvSpPr>
          <p:spPr>
            <a:xfrm>
              <a:off x="5533920" y="3089160"/>
              <a:ext cx="274680" cy="26352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20680" y="3216600"/>
              <a:ext cx="1166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V="1">
            <a:off x="5688000" y="2757240"/>
            <a:ext cx="0" cy="27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35720" y="4094280"/>
            <a:ext cx="274680" cy="263520"/>
            <a:chOff x="5535720" y="4094280"/>
            <a:chExt cx="274680" cy="263520"/>
          </a:xfrm>
        </p:grpSpPr>
        <p:sp>
          <p:nvSpPr>
            <p:cNvPr id="81" name=""/>
            <p:cNvSpPr/>
            <p:nvPr/>
          </p:nvSpPr>
          <p:spPr>
            <a:xfrm>
              <a:off x="5535720" y="4094280"/>
              <a:ext cx="274680" cy="26352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480" y="4221720"/>
              <a:ext cx="1166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3168720" y="2716200"/>
            <a:ext cx="90000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46080" y="2719440"/>
            <a:ext cx="92556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35640" y="2606760"/>
            <a:ext cx="8892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046400" y="2593440"/>
            <a:ext cx="650880" cy="12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321948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ors connected in parall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wo capacitors are connected in parallel as shown Fig. 9, the voltage across the two capacitors are equal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harge in 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Q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in 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Q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harge stored in the 2 capacitors i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093760" y="3003480"/>
            <a:ext cx="6735960" cy="1373400"/>
            <a:chOff x="2093760" y="3003480"/>
            <a:chExt cx="6735960" cy="1373400"/>
          </a:xfrm>
        </p:grpSpPr>
        <p:sp>
          <p:nvSpPr>
            <p:cNvPr id="283" name=""/>
            <p:cNvSpPr/>
            <p:nvPr/>
          </p:nvSpPr>
          <p:spPr>
            <a:xfrm>
              <a:off x="5948280" y="3610080"/>
              <a:ext cx="58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50080" y="3774960"/>
              <a:ext cx="58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11800" y="3008160"/>
              <a:ext cx="0" cy="60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213600" y="3773160"/>
              <a:ext cx="0" cy="60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99080" y="3608280"/>
              <a:ext cx="58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0520" y="3773520"/>
              <a:ext cx="58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962600" y="3006360"/>
              <a:ext cx="0" cy="60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964040" y="3771720"/>
              <a:ext cx="0" cy="60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44960" y="3006720"/>
              <a:ext cx="30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46400" y="4361040"/>
              <a:ext cx="30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44960" y="376704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81360" y="3602160"/>
              <a:ext cx="72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94120" y="376704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44960" y="3003480"/>
              <a:ext cx="0" cy="59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604960" y="3333240"/>
              <a:ext cx="0" cy="6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3760" y="34718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6360" y="349416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ig.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38560" y="343692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9800" y="343836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665520" y="5657760"/>
                <a:ext cx="2138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apacitance of 2 capacitors connected in parallel is equal to the sum of the capacitance of the 2 capacitor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pacitor of 0.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 is connected in parallel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a capacitor of 150 nF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ution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apacitan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93880" y="1427040"/>
                <a:ext cx="429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921280" y="1184400"/>
                <a:ext cx="308952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66880" y="5473800"/>
                <a:ext cx="5843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μ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me derivation can be extended to any number of capacitors connected in parallel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apacitance is simply the sum of all the capacitors connected in parallel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678040" y="3468600"/>
                <a:ext cx="4378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.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ors connected in seri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harge stored in each capacitor is the same and equal to Q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581120" y="2589120"/>
            <a:ext cx="6446880" cy="1724040"/>
            <a:chOff x="1581120" y="2589120"/>
            <a:chExt cx="6446880" cy="1724040"/>
          </a:xfrm>
        </p:grpSpPr>
        <p:sp>
          <p:nvSpPr>
            <p:cNvPr id="314" name=""/>
            <p:cNvSpPr/>
            <p:nvPr/>
          </p:nvSpPr>
          <p:spPr>
            <a:xfrm flipV="1">
              <a:off x="5146920" y="259236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311800" y="259056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017960" y="2919240"/>
              <a:ext cx="112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310000" y="2917800"/>
              <a:ext cx="76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72160" y="259056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037040" y="2589120"/>
              <a:ext cx="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619360" y="2917800"/>
              <a:ext cx="12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633760" y="4284360"/>
              <a:ext cx="3457440" cy="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32320" y="3703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8720" y="3538440"/>
              <a:ext cx="72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81480" y="370332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2320" y="2901960"/>
              <a:ext cx="0" cy="63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2320" y="3270240"/>
              <a:ext cx="0" cy="67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81120" y="3408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26320" y="321768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ig.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87840" y="323352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08680" y="3236760"/>
              <a:ext cx="5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075360" y="2908080"/>
              <a:ext cx="0" cy="13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3681360" y="243036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973400" y="243360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3960" y="1952640"/>
            <a:ext cx="78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02200" y="1922400"/>
            <a:ext cx="54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604960" y="5288040"/>
                <a:ext cx="10303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816520" y="5349960"/>
                <a:ext cx="1046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me derivation can be extended to any number of capacitors connected in series givin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228680" y="1359000"/>
                <a:ext cx="7102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379680" y="2614680"/>
                <a:ext cx="25909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038400" y="4734000"/>
                <a:ext cx="3678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 Find  (i)   the total capacitance of the circuit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wn in Fig. 11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   the voltage across each capacit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295960" y="315612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460840" y="315432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317480" y="3483000"/>
            <a:ext cx="979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459400" y="348156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172040" y="315432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336920" y="31528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919240" y="3481560"/>
            <a:ext cx="1252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33640" y="4873680"/>
            <a:ext cx="431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32200" y="4267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68600" y="410220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81360" y="42670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32200" y="3465360"/>
            <a:ext cx="0" cy="63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83080" y="51832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0520" y="3784680"/>
            <a:ext cx="1214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30920" y="3800520"/>
            <a:ext cx="1116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226280" y="3468240"/>
            <a:ext cx="0" cy="139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311880" y="315756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477120" y="315612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475320" y="3483000"/>
            <a:ext cx="76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5680" y="3801960"/>
            <a:ext cx="1116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0560" y="39402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9720" y="110124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lution: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apacit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ii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cro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cross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cros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660920" y="1620720"/>
                <a:ext cx="45464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755720" y="2489040"/>
                <a:ext cx="22399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</m:t>
                    </m:r>
                    <m:r>
                      <m:t xml:space="preserve">μ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495520" y="3274920"/>
                <a:ext cx="2473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200480" y="3778200"/>
                <a:ext cx="500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46560" y="4700520"/>
                <a:ext cx="4811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62480" y="5578560"/>
                <a:ext cx="4390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culation shows that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otal capacitance of capacitors in series is less than the capacitance of the smallest capacitor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oltage across the smallest capacitor is highest of all the capacitors in seri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s are drawn from the upper plate towards the positive terminal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pper plate becomes positively charg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an ideal dielectric no electron can flow through it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lectric field is established between the two pla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672160" y="4142880"/>
            <a:ext cx="144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73600" y="5258880"/>
            <a:ext cx="0" cy="4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94080" y="4130640"/>
            <a:ext cx="90000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94080" y="5756400"/>
            <a:ext cx="227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94080" y="503244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30480" y="486720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3240" y="503244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4080" y="4143240"/>
            <a:ext cx="0" cy="72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59520" y="5024520"/>
            <a:ext cx="199800" cy="199800"/>
            <a:chOff x="5159520" y="5024520"/>
            <a:chExt cx="199800" cy="199800"/>
          </a:xfrm>
        </p:grpSpPr>
        <p:sp>
          <p:nvSpPr>
            <p:cNvPr id="99" name=""/>
            <p:cNvSpPr/>
            <p:nvPr/>
          </p:nvSpPr>
          <p:spPr>
            <a:xfrm>
              <a:off x="5159520" y="5024520"/>
              <a:ext cx="199800" cy="19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22520" y="5121360"/>
              <a:ext cx="8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589720" y="5025960"/>
            <a:ext cx="199800" cy="200160"/>
            <a:chOff x="5589720" y="5025960"/>
            <a:chExt cx="199800" cy="200160"/>
          </a:xfrm>
        </p:grpSpPr>
        <p:sp>
          <p:nvSpPr>
            <p:cNvPr id="102" name=""/>
            <p:cNvSpPr/>
            <p:nvPr/>
          </p:nvSpPr>
          <p:spPr>
            <a:xfrm>
              <a:off x="5589720" y="5025960"/>
              <a:ext cx="199800" cy="20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2720" y="5122800"/>
              <a:ext cx="8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92920" y="5029200"/>
            <a:ext cx="199800" cy="200160"/>
            <a:chOff x="5992920" y="5029200"/>
            <a:chExt cx="199800" cy="200160"/>
          </a:xfrm>
        </p:grpSpPr>
        <p:sp>
          <p:nvSpPr>
            <p:cNvPr id="105" name=""/>
            <p:cNvSpPr/>
            <p:nvPr/>
          </p:nvSpPr>
          <p:spPr>
            <a:xfrm>
              <a:off x="5992920" y="5029200"/>
              <a:ext cx="199800" cy="20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55920" y="5126040"/>
              <a:ext cx="8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45120" y="4524480"/>
            <a:ext cx="200160" cy="199800"/>
            <a:chOff x="5145120" y="4524480"/>
            <a:chExt cx="200160" cy="199800"/>
          </a:xfrm>
        </p:grpSpPr>
        <p:grpSp>
          <p:nvGrpSpPr>
            <p:cNvPr id="108" name=""/>
            <p:cNvGrpSpPr/>
            <p:nvPr/>
          </p:nvGrpSpPr>
          <p:grpSpPr>
            <a:xfrm>
              <a:off x="5145120" y="4524480"/>
              <a:ext cx="200160" cy="199800"/>
              <a:chOff x="5145120" y="4524480"/>
              <a:chExt cx="200160" cy="199800"/>
            </a:xfrm>
          </p:grpSpPr>
          <p:sp>
            <p:nvSpPr>
              <p:cNvPr id="109" name=""/>
              <p:cNvSpPr/>
              <p:nvPr/>
            </p:nvSpPr>
            <p:spPr>
              <a:xfrm>
                <a:off x="5145120" y="4524480"/>
                <a:ext cx="200160" cy="19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08480" y="462132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247000" y="458460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72080" y="4527720"/>
            <a:ext cx="200160" cy="199800"/>
            <a:chOff x="5572080" y="4527720"/>
            <a:chExt cx="200160" cy="199800"/>
          </a:xfrm>
        </p:grpSpPr>
        <p:grpSp>
          <p:nvGrpSpPr>
            <p:cNvPr id="113" name=""/>
            <p:cNvGrpSpPr/>
            <p:nvPr/>
          </p:nvGrpSpPr>
          <p:grpSpPr>
            <a:xfrm>
              <a:off x="5572080" y="4527720"/>
              <a:ext cx="200160" cy="199800"/>
              <a:chOff x="5572080" y="4527720"/>
              <a:chExt cx="200160" cy="199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572080" y="4527720"/>
                <a:ext cx="200160" cy="19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5440" y="462456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673960" y="458784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026040" y="4529160"/>
            <a:ext cx="200160" cy="199800"/>
            <a:chOff x="6026040" y="4529160"/>
            <a:chExt cx="200160" cy="199800"/>
          </a:xfrm>
        </p:grpSpPr>
        <p:grpSp>
          <p:nvGrpSpPr>
            <p:cNvPr id="118" name=""/>
            <p:cNvGrpSpPr/>
            <p:nvPr/>
          </p:nvGrpSpPr>
          <p:grpSpPr>
            <a:xfrm>
              <a:off x="6026040" y="4529160"/>
              <a:ext cx="200160" cy="199800"/>
              <a:chOff x="6026040" y="4529160"/>
              <a:chExt cx="200160" cy="199800"/>
            </a:xfrm>
          </p:grpSpPr>
          <p:sp>
            <p:nvSpPr>
              <p:cNvPr id="119" name=""/>
              <p:cNvSpPr/>
              <p:nvPr/>
            </p:nvSpPr>
            <p:spPr>
              <a:xfrm>
                <a:off x="6026040" y="4529160"/>
                <a:ext cx="200160" cy="19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89400" y="462600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127920" y="458928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>
            <a:off x="4772160" y="4133880"/>
            <a:ext cx="90000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61000" y="4021200"/>
            <a:ext cx="8892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72120" y="4008600"/>
            <a:ext cx="65088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2040" y="4759200"/>
            <a:ext cx="12034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84640" y="4487760"/>
            <a:ext cx="11908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84640" y="4986360"/>
            <a:ext cx="1190880" cy="27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360" y="46594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mount of electric charge in the upper and lower plates are equal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witch is open, the electrons are trapped in the metal plat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not flow through the dielectric or the external circuit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54160" y="3846240"/>
            <a:ext cx="3232440" cy="1822680"/>
            <a:chOff x="2954160" y="3846240"/>
            <a:chExt cx="3232440" cy="1822680"/>
          </a:xfrm>
        </p:grpSpPr>
        <p:sp>
          <p:nvSpPr>
            <p:cNvPr id="132" name=""/>
            <p:cNvSpPr/>
            <p:nvPr/>
          </p:nvSpPr>
          <p:spPr>
            <a:xfrm flipH="1" flipV="1">
              <a:off x="5595480" y="4055760"/>
              <a:ext cx="180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595480" y="5235480"/>
              <a:ext cx="1800" cy="4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17760" y="4043520"/>
              <a:ext cx="90000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17760" y="5668920"/>
              <a:ext cx="227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7760" y="494496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54160" y="4780080"/>
              <a:ext cx="72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66920" y="4944960"/>
              <a:ext cx="32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7760" y="405612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070600" y="4998960"/>
              <a:ext cx="199800" cy="200160"/>
              <a:chOff x="5070600" y="4998960"/>
              <a:chExt cx="199800" cy="200160"/>
            </a:xfrm>
          </p:grpSpPr>
          <p:sp>
            <p:nvSpPr>
              <p:cNvPr id="141" name=""/>
              <p:cNvSpPr/>
              <p:nvPr/>
            </p:nvSpPr>
            <p:spPr>
              <a:xfrm>
                <a:off x="5070600" y="4998960"/>
                <a:ext cx="199800" cy="20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33600" y="5095800"/>
                <a:ext cx="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500800" y="5000760"/>
              <a:ext cx="199800" cy="199800"/>
              <a:chOff x="5500800" y="5000760"/>
              <a:chExt cx="199800" cy="199800"/>
            </a:xfrm>
          </p:grpSpPr>
          <p:sp>
            <p:nvSpPr>
              <p:cNvPr id="144" name=""/>
              <p:cNvSpPr/>
              <p:nvPr/>
            </p:nvSpPr>
            <p:spPr>
              <a:xfrm>
                <a:off x="5500800" y="5000760"/>
                <a:ext cx="199800" cy="19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3800" y="5097600"/>
                <a:ext cx="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04000" y="5003640"/>
              <a:ext cx="199800" cy="200160"/>
              <a:chOff x="5904000" y="5003640"/>
              <a:chExt cx="199800" cy="200160"/>
            </a:xfrm>
          </p:grpSpPr>
          <p:sp>
            <p:nvSpPr>
              <p:cNvPr id="147" name=""/>
              <p:cNvSpPr/>
              <p:nvPr/>
            </p:nvSpPr>
            <p:spPr>
              <a:xfrm>
                <a:off x="5904000" y="5003640"/>
                <a:ext cx="199800" cy="20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67000" y="5100480"/>
                <a:ext cx="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081400" y="4486320"/>
              <a:ext cx="200160" cy="199800"/>
              <a:chOff x="5081400" y="4486320"/>
              <a:chExt cx="200160" cy="199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081400" y="4486320"/>
                <a:ext cx="200160" cy="199800"/>
                <a:chOff x="5081400" y="4486320"/>
                <a:chExt cx="200160" cy="1998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081400" y="4486320"/>
                  <a:ext cx="200160" cy="199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144760" y="4583160"/>
                  <a:ext cx="8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5183280" y="454644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508720" y="4491000"/>
              <a:ext cx="199800" cy="199800"/>
              <a:chOff x="5508720" y="4491000"/>
              <a:chExt cx="199800" cy="1998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508720" y="4491000"/>
                <a:ext cx="199800" cy="199800"/>
                <a:chOff x="5508720" y="4491000"/>
                <a:chExt cx="199800" cy="1998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508720" y="4491000"/>
                  <a:ext cx="199800" cy="199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571720" y="4587840"/>
                  <a:ext cx="8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5610240" y="455112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924520" y="4479840"/>
              <a:ext cx="200160" cy="199800"/>
              <a:chOff x="5924520" y="4479840"/>
              <a:chExt cx="200160" cy="19980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5924520" y="4479840"/>
                <a:ext cx="200160" cy="199800"/>
                <a:chOff x="5924520" y="4479840"/>
                <a:chExt cx="200160" cy="1998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924520" y="4479840"/>
                  <a:ext cx="200160" cy="199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87880" y="4576680"/>
                  <a:ext cx="8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026400" y="4539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4695840" y="4046400"/>
              <a:ext cx="900000" cy="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194000" y="3846240"/>
              <a:ext cx="55260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84680" y="3933720"/>
              <a:ext cx="88920" cy="112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95720" y="4735440"/>
              <a:ext cx="1190880" cy="21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95720" y="4464000"/>
              <a:ext cx="1190880" cy="27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5720" y="4960800"/>
              <a:ext cx="1190880" cy="27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077240" y="459756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g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istance of a practical dielectric is very high but not infinite causing a leakage current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lectrons in the lower plate gradually moves to the upper plate through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ntually the capacitor becomes completely discharged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scharge of the capacitor can be activated by connecting the capacitor to an external circuit as shown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41800" y="4390920"/>
            <a:ext cx="5502240" cy="2271960"/>
            <a:chOff x="3241800" y="4390920"/>
            <a:chExt cx="5502240" cy="2271960"/>
          </a:xfrm>
        </p:grpSpPr>
        <p:sp>
          <p:nvSpPr>
            <p:cNvPr id="174" name=""/>
            <p:cNvSpPr/>
            <p:nvPr/>
          </p:nvSpPr>
          <p:spPr>
            <a:xfrm>
              <a:off x="7176960" y="5122800"/>
              <a:ext cx="15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Fig. 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4480" y="5618160"/>
              <a:ext cx="56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4480" y="5465880"/>
              <a:ext cx="56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923080" y="4741560"/>
              <a:ext cx="0" cy="52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924520" y="5819760"/>
              <a:ext cx="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645000" y="6354720"/>
              <a:ext cx="227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45000" y="563076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5000" y="474192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44880" y="65260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105440" y="4390920"/>
              <a:ext cx="274320" cy="263520"/>
              <a:chOff x="4105440" y="4390920"/>
              <a:chExt cx="274320" cy="263520"/>
            </a:xfrm>
          </p:grpSpPr>
          <p:sp>
            <p:nvSpPr>
              <p:cNvPr id="184" name=""/>
              <p:cNvSpPr/>
              <p:nvPr/>
            </p:nvSpPr>
            <p:spPr>
              <a:xfrm>
                <a:off x="4105440" y="4390920"/>
                <a:ext cx="274320" cy="263520"/>
              </a:xfrm>
              <a:prstGeom prst="ellipse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92200" y="4518360"/>
                <a:ext cx="1162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H="1">
              <a:off x="3710160" y="4524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406760" y="6399360"/>
              <a:ext cx="274680" cy="263520"/>
              <a:chOff x="4406760" y="6399360"/>
              <a:chExt cx="274680" cy="263520"/>
            </a:xfrm>
          </p:grpSpPr>
          <p:sp>
            <p:nvSpPr>
              <p:cNvPr id="188" name=""/>
              <p:cNvSpPr/>
              <p:nvPr/>
            </p:nvSpPr>
            <p:spPr>
              <a:xfrm>
                <a:off x="4406760" y="6399360"/>
                <a:ext cx="274680" cy="263520"/>
              </a:xfrm>
              <a:prstGeom prst="ellipse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93520" y="6526800"/>
                <a:ext cx="116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flipH="1">
              <a:off x="3631680" y="4732200"/>
              <a:ext cx="900360" cy="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09760" y="4735440"/>
              <a:ext cx="925560" cy="1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98960" y="4622760"/>
              <a:ext cx="88920" cy="112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510080" y="4610160"/>
              <a:ext cx="65088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1840" y="5259240"/>
              <a:ext cx="225360" cy="563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63840" y="5749920"/>
              <a:ext cx="11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1800" y="5052960"/>
              <a:ext cx="4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Capacit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harg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ccumulated in a capacitor is related to the applied voltage b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the capacitance in unit of farad (F)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voltage in volt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341960" y="3327480"/>
                <a:ext cx="1287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pacitanc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pendent on the area of the metal plates and the property of the dielectric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area of the metal plate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distance separating the plates;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permittivity of the dielectric in unit of F/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16240" y="2414520"/>
                <a:ext cx="1182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61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pacita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636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ermittivity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a dielectric may also be expressed a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relative dielectric constant an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free space permittivity with a value of 8.854x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-1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/m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of relative dielectric constant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lystyren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5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497400" y="1974960"/>
                <a:ext cx="1871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TC</cp:lastModifiedBy>
  <dcterms:modified xsi:type="dcterms:W3CDTF">2004-09-28T05:29:07Z</dcterms:modified>
  <cp:revision>44</cp:revision>
  <dc:subject/>
  <dc:title>Capacitor</dc:title>
</cp:coreProperties>
</file>