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clap.wav" ContentType="audio/x-wav"/>
  <Override PartName="/ppt/media/image1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072-787B-45DA-8E1C-B2B8359F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70B-5BC4-4D26-95B3-5E56F7EE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B9D-B091-46CA-B5FB-0AF6447D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A83-F616-457B-AF62-2DC83620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BBC-9C7D-43F9-A328-DEADF10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740-BEC7-4630-9068-5B0C8E95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8B8-16E4-44E5-928A-DC4ADA1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154-748B-4472-95E9-C8E456D1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0B6-03FB-4BD6-8221-15945F96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5F3-0429-4C74-8FEF-4E5820F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1C9-EB96-4331-B925-433CFA76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52A-D7AF-468E-B9F1-6109FCE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0A07-A3F4-467C-821D-3C16FF4DA24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Part 1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超裝甲 天國進化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split dir="in" orient="vert"/>
    <p:sndAc>
      <p:stSnd>
        <p:snd r:embed="rId4" name="clap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09680" y="0"/>
          <a:ext cx="6934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0"/>
                    <a:ext cx="6934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 rot="5400000">
            <a:off x="-2362320" y="2361960"/>
            <a:ext cx="6858000" cy="213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天國戰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3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Part 3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喂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!!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你買左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YOYO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未呀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?  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買左啦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.....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等你咩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.......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 txBox="1"/>
          <p:nvPr/>
        </p:nvSpPr>
        <p:spPr>
          <a:xfrm>
            <a:off x="304920" y="4800600"/>
            <a:ext cx="8134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搖搖</a:t>
            </a: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,</a:t>
            </a:r>
            <a:r>
              <a:rPr b="1" lang="zh-CN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我選至尊小強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8" name="clap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Part 4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304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迷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219320" y="0"/>
          <a:ext cx="6858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 txBox="1"/>
          <p:nvPr/>
        </p:nvSpPr>
        <p:spPr>
          <a:xfrm rot="5400000">
            <a:off x="5219280" y="293364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點解拿破崙指揮時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,</a:t>
            </a: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高叫「衝呀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!</a:t>
            </a: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」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,</a:t>
            </a: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士兵又唔衝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  <p:sp>
        <p:nvSpPr>
          <p:cNvPr id="78" name=""/>
          <p:cNvSpPr txBox="1"/>
          <p:nvPr/>
        </p:nvSpPr>
        <p:spPr>
          <a:xfrm rot="5400000">
            <a:off x="-2857680" y="285732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下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..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乜士兵唔係要聽指揮話嫁咩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?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447920" y="1066680"/>
          <a:ext cx="6172200" cy="487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66680"/>
                    <a:ext cx="6172200" cy="48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 txBox="1"/>
          <p:nvPr/>
        </p:nvSpPr>
        <p:spPr>
          <a:xfrm rot="5400000">
            <a:off x="5371560" y="224784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兒童不宜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01992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猜一卡通人物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23880" y="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我唔係細路喎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~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好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-2286000" y="228600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你唔俾我睇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!</a:t>
            </a:r>
            <a:r>
              <a:rPr b="0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我偏要睇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!!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6" name="clap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228600"/>
          <a:ext cx="883908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8839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 txBox="1"/>
          <p:nvPr/>
        </p:nvSpPr>
        <p:spPr>
          <a:xfrm>
            <a:off x="0" y="601992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原始小強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6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3429000"/>
            <a:ext cx="91440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答案問小強</a:t>
            </a: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(</a:t>
            </a:r>
            <a:r>
              <a:rPr b="0" lang="zh-CN" sz="5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梁偉強</a:t>
            </a:r>
            <a:r>
              <a:rPr b="0" lang="en-US" sz="5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)</a:t>
            </a:r>
            <a:r>
              <a:rPr b="0" lang="zh-CN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啦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9144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識唔識呀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10" name="clap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1447920"/>
            <a:ext cx="7086600" cy="541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99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動畫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1 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Part 5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89" name=""/>
          <p:cNvSpPr/>
          <p:nvPr/>
        </p:nvSpPr>
        <p:spPr>
          <a:xfrm>
            <a:off x="1012680" y="3649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0492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380880"/>
            <a:ext cx="845820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到你睇下</a:t>
            </a: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MANDOG</a:t>
            </a: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板文仔狗和強狗的</a:t>
            </a: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andog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mandogGG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  <p:sndAc>
      <p:stSnd>
        <p:snd r:embed="rId4" name="clap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380880"/>
            <a:ext cx="84582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46483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64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724280" y="0"/>
          <a:ext cx="441972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0"/>
                    <a:ext cx="4419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split dir="in" orient="vert"/>
    <p:sndAc>
      <p:stSnd>
        <p:snd r:embed="rId6" name="clap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mandog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mandogGGG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46483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64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724280" y="0"/>
          <a:ext cx="441972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0"/>
                    <a:ext cx="4419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split dir="in" orient="vert"/>
    <p:sndAc>
      <p:stSnd>
        <p:snd r:embed="rId6" name="clap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mandogGGGG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mandog3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  <p:sndAc>
      <p:stSnd>
        <p:snd r:embed="rId4" name="clap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Part 6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 txBox="1"/>
          <p:nvPr/>
        </p:nvSpPr>
        <p:spPr>
          <a:xfrm>
            <a:off x="6324480" y="1295280"/>
            <a:ext cx="2210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黑色裝甲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6" name="clap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4572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是不是很有趣呢</a:t>
            </a: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請看看文仔狗和強狗的戰鬥吧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2133720"/>
          <a:ext cx="335268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3352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172200" y="0"/>
          <a:ext cx="2971800" cy="38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0"/>
                    <a:ext cx="2971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強：你是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648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：我是文仔狗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6" name="clap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2133720"/>
          <a:ext cx="335268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3352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72200" y="0"/>
          <a:ext cx="2971800" cy="38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0"/>
                    <a:ext cx="2971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429000" y="16765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6" name="clap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914400" y="1371600"/>
          <a:ext cx="335268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371600"/>
                    <a:ext cx="3352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029200" y="220968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攻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1523880"/>
          <a:ext cx="3353040" cy="472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23880"/>
                    <a:ext cx="3353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DD01352_" descr=""/>
          <p:cNvPicPr/>
          <p:nvPr/>
        </p:nvPicPr>
        <p:blipFill>
          <a:blip r:embed="rId4"/>
          <a:stretch/>
        </p:blipFill>
        <p:spPr>
          <a:xfrm>
            <a:off x="9144000" y="304920"/>
            <a:ext cx="1066680" cy="888840"/>
          </a:xfrm>
          <a:prstGeom prst="rect">
            <a:avLst/>
          </a:prstGeom>
          <a:ln w="0">
            <a:noFill/>
          </a:ln>
        </p:spPr>
      </p:pic>
      <p:pic>
        <p:nvPicPr>
          <p:cNvPr id="132" name="DD01352_" descr=""/>
          <p:cNvPicPr/>
          <p:nvPr/>
        </p:nvPicPr>
        <p:blipFill>
          <a:blip r:embed="rId5"/>
          <a:stretch/>
        </p:blipFill>
        <p:spPr>
          <a:xfrm>
            <a:off x="9144000" y="5969160"/>
            <a:ext cx="1066680" cy="888840"/>
          </a:xfrm>
          <a:prstGeom prst="rect">
            <a:avLst/>
          </a:prstGeom>
          <a:ln w="0">
            <a:noFill/>
          </a:ln>
        </p:spPr>
      </p:pic>
      <p:pic>
        <p:nvPicPr>
          <p:cNvPr id="133" name="DD01352_" descr=""/>
          <p:cNvPicPr/>
          <p:nvPr/>
        </p:nvPicPr>
        <p:blipFill>
          <a:blip r:embed="rId6"/>
          <a:stretch/>
        </p:blipFill>
        <p:spPr>
          <a:xfrm>
            <a:off x="9144000" y="3124080"/>
            <a:ext cx="1066680" cy="8892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  <p:sndAc>
      <p:stSnd>
        <p:snd r:embed="rId7" name="clap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181480" y="3048120"/>
          <a:ext cx="29718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048120"/>
                    <a:ext cx="2971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DD01352_" descr=""/>
          <p:cNvPicPr/>
          <p:nvPr/>
        </p:nvPicPr>
        <p:blipFill>
          <a:blip r:embed="rId4"/>
          <a:stretch/>
        </p:blipFill>
        <p:spPr>
          <a:xfrm>
            <a:off x="9144000" y="-444600"/>
            <a:ext cx="1066680" cy="889200"/>
          </a:xfrm>
          <a:prstGeom prst="rect">
            <a:avLst/>
          </a:prstGeom>
          <a:ln w="0">
            <a:noFill/>
          </a:ln>
        </p:spPr>
      </p:pic>
      <p:pic>
        <p:nvPicPr>
          <p:cNvPr id="137" name="DD01352_" descr=""/>
          <p:cNvPicPr/>
          <p:nvPr/>
        </p:nvPicPr>
        <p:blipFill>
          <a:blip r:embed="rId5"/>
          <a:stretch/>
        </p:blipFill>
        <p:spPr>
          <a:xfrm>
            <a:off x="9144000" y="-1371600"/>
            <a:ext cx="1066680" cy="888840"/>
          </a:xfrm>
          <a:prstGeom prst="rect">
            <a:avLst/>
          </a:prstGeom>
          <a:ln w="0">
            <a:noFill/>
          </a:ln>
        </p:spPr>
      </p:pic>
      <p:pic>
        <p:nvPicPr>
          <p:cNvPr id="138" name="DD01352_" descr=""/>
          <p:cNvPicPr/>
          <p:nvPr/>
        </p:nvPicPr>
        <p:blipFill>
          <a:blip r:embed="rId6"/>
          <a:stretch/>
        </p:blipFill>
        <p:spPr>
          <a:xfrm>
            <a:off x="9144000" y="380880"/>
            <a:ext cx="1066680" cy="889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38080" y="3505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強：我避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7" name="clap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791320" y="1600200"/>
          <a:ext cx="29718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600200"/>
                    <a:ext cx="2971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99072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攻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6172200" y="1600200"/>
          <a:ext cx="29718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600200"/>
                    <a:ext cx="2971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DD01352_" descr=""/>
          <p:cNvPicPr/>
          <p:nvPr/>
        </p:nvPicPr>
        <p:blipFill>
          <a:blip r:embed="rId4"/>
          <a:stretch/>
        </p:blipFill>
        <p:spPr>
          <a:xfrm>
            <a:off x="-1066680" y="1752480"/>
            <a:ext cx="1066680" cy="889200"/>
          </a:xfrm>
          <a:prstGeom prst="rect">
            <a:avLst/>
          </a:prstGeom>
          <a:ln w="0">
            <a:noFill/>
          </a:ln>
        </p:spPr>
      </p:pic>
      <p:pic>
        <p:nvPicPr>
          <p:cNvPr id="146" name="DD01352_" descr=""/>
          <p:cNvPicPr/>
          <p:nvPr/>
        </p:nvPicPr>
        <p:blipFill>
          <a:blip r:embed="rId5"/>
          <a:stretch/>
        </p:blipFill>
        <p:spPr>
          <a:xfrm>
            <a:off x="-1066680" y="4038480"/>
            <a:ext cx="1066680" cy="889200"/>
          </a:xfrm>
          <a:prstGeom prst="rect">
            <a:avLst/>
          </a:prstGeom>
          <a:ln w="0">
            <a:noFill/>
          </a:ln>
        </p:spPr>
      </p:pic>
      <p:pic>
        <p:nvPicPr>
          <p:cNvPr id="147" name="DD01352_" descr=""/>
          <p:cNvPicPr/>
          <p:nvPr/>
        </p:nvPicPr>
        <p:blipFill>
          <a:blip r:embed="rId6"/>
          <a:stretch/>
        </p:blipFill>
        <p:spPr>
          <a:xfrm>
            <a:off x="-1066680" y="2895480"/>
            <a:ext cx="1066680" cy="8892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  <p:sndAc>
      <p:stSnd>
        <p:snd r:embed="rId7" name="clap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2514600"/>
          <a:ext cx="33526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14600"/>
                    <a:ext cx="3352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DD01352_" descr=""/>
          <p:cNvPicPr/>
          <p:nvPr/>
        </p:nvPicPr>
        <p:blipFill>
          <a:blip r:embed="rId4"/>
          <a:stretch/>
        </p:blipFill>
        <p:spPr>
          <a:xfrm>
            <a:off x="-1066680" y="-888840"/>
            <a:ext cx="1066680" cy="888840"/>
          </a:xfrm>
          <a:prstGeom prst="rect">
            <a:avLst/>
          </a:prstGeom>
          <a:ln w="0">
            <a:noFill/>
          </a:ln>
        </p:spPr>
      </p:pic>
      <p:pic>
        <p:nvPicPr>
          <p:cNvPr id="151" name="DD01352_" descr=""/>
          <p:cNvPicPr/>
          <p:nvPr/>
        </p:nvPicPr>
        <p:blipFill>
          <a:blip r:embed="rId5"/>
          <a:stretch/>
        </p:blipFill>
        <p:spPr>
          <a:xfrm>
            <a:off x="-1066680" y="838080"/>
            <a:ext cx="1066680" cy="889200"/>
          </a:xfrm>
          <a:prstGeom prst="rect">
            <a:avLst/>
          </a:prstGeom>
          <a:ln w="0">
            <a:noFill/>
          </a:ln>
        </p:spPr>
      </p:pic>
      <p:pic>
        <p:nvPicPr>
          <p:cNvPr id="152" name="DD01352_" descr=""/>
          <p:cNvPicPr/>
          <p:nvPr/>
        </p:nvPicPr>
        <p:blipFill>
          <a:blip r:embed="rId6"/>
          <a:stretch/>
        </p:blipFill>
        <p:spPr>
          <a:xfrm>
            <a:off x="-1066680" y="0"/>
            <a:ext cx="1066680" cy="88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91120" y="4876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我又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7" name="clap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3808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文狗和強狗戰爭後，做了好朋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裝甲進化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90720" y="1447920"/>
            <a:ext cx="7086600" cy="541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99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動畫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2 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2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split dir="in" orient="vert"/>
    <p:sndAc>
      <p:stSnd>
        <p:snd r:embed="rId4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>
            <a:off x="5310360" y="5181480"/>
            <a:ext cx="3833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黑色戰強</a:t>
            </a:r>
            <a:endParaRPr b="1" i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6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Part 2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 rot="5400000">
            <a:off x="4381200" y="209520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醒覺小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 txBox="1"/>
          <p:nvPr/>
        </p:nvSpPr>
        <p:spPr>
          <a:xfrm>
            <a:off x="0" y="5029200"/>
            <a:ext cx="9144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天國之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advTm="4000">
    <p:split dir="in" orient="vert"/>
    <p:sndAc>
      <p:stSnd>
        <p:snd r:embed="rId4" name="cla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3:01:57Z</dcterms:created>
  <dc:creator>lwk</dc:creator>
  <dc:description/>
  <dc:language>en-US</dc:language>
  <cp:lastModifiedBy>victor cheng</cp:lastModifiedBy>
  <dcterms:modified xsi:type="dcterms:W3CDTF">2002-10-01T02:51:29Z</dcterms:modified>
  <cp:revision>30</cp:revision>
  <dc:subject/>
  <dc:title>PowerPoint 簡報</dc:title>
</cp:coreProperties>
</file>