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7E7E-7738-496B-A798-1705CB56E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9554-7C5A-437A-8A7D-49157B9F3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EA62-47A0-4BB1-9EFE-21A6318EB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849F-19E1-41E7-A33C-6F8C68494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6F435-2D46-4AEE-8D97-6F610591C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03A7F-1871-4C2E-A8E3-8188BB0C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95122-544E-4925-A695-2AF8CBADA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8D110-CA2E-4952-9C75-B1A5D920D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66951-5C9A-45BF-8567-4AC352A14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3CD62-B8D6-4669-A04A-588C0D31D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DDB83-5454-45C7-AAAE-1AC51212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B3F8-B65D-4164-B84D-7B2CF9BE0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8CB36-E32F-4E3A-BE22-C98CE3B4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7E5B6-E784-454E-9319-A5E783F8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FDD3F-8702-418F-B7A4-E7775A146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97A8D-3447-47FA-ADE5-5A67B2B2D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81C14-DA73-4A6D-8307-DFCC2DBCB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B517-546D-4E4B-BBE1-9B1BD0AF7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4404-1D66-433E-9A0F-A6280E2DD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268C-17CE-422C-A4AC-EE60E67D3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A4B5-5679-4428-916D-A005707F0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E028-DA2F-4F72-B172-E8640823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F822-EBE0-4BCA-9C05-58252D07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DC34-DA6D-485A-B7FD-5F36AE39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2FEF7-AC62-4B86-A497-ECD0C2004975}" type="slidenum">
              <a:rPr b="0" lang="zh-TW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E74D5-D1A3-491E-AFEA-B3F060635BD6}" type="slidenum">
              <a:rPr b="0" lang="zh-TW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228960"/>
            <a:ext cx="83059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    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COM4081 </a:t>
            </a:r>
            <a:br>
              <a:rPr sz="4400"/>
            </a:b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  IT Professional Practice Issues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8960" y="2438280"/>
            <a:ext cx="681804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Session 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oft Issues - Overview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) Course 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b) Key Concepts 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4081 ITPPI\03-04.Sem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6709-B79C-4699-B5A5-FE437A1B26CB}" type="slidenum">
              <a:t>1</a:t>
            </a:fld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y Concepts 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1981080"/>
            <a:ext cx="71992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problem just described is not new. It has been around since the early days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arly days: focus on hard issues, leaving aside soft, social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Why? [why concentrate on hard and ignore soft?]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4081 ITPPI\03-04.Sem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C187-6B13-440D-A956-B2211407B24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y Concepts 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240" y="1980720"/>
            <a:ext cx="75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Why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trained by hardware cost and software capa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d only to construct working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oted entire attention to hard issues, to satisfying primitive (basic minimum) nee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4081 ITPPI\03-04.Sem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0004-5EAE-4485-8B89-86B613C3B3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y Concepts 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1981080"/>
            <a:ext cx="7199280" cy="41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erefore,Neglected the soft, social issues due to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ack of pressure for it,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ack of knowledge and/or skills,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unwillingness &amp; lazines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4081 ITPPI\03-04.Sem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EA80-8701-4D98-9D8C-381DCA5BDA0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y Concepts 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1981080"/>
            <a:ext cx="7351920" cy="41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Why? [why focus on soft now?]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th hardware and software have reached a matur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sonal data priv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&amp; service qu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ecks &amp; balance of business trans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4081 ITPPI\03-04.Sem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5E92-2FCE-41F9-8CC8-249320E025E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uter Ethic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35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iolations of data confidentiality and integrit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enial of Service – disturbance of availabilit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vasion of data privac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fringement of copyrigh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4081 ITPPI\03-04.Sem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6B07-54FB-4E17-990D-E47BB7ED3F3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692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 Schools of Though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33480" y="2057040"/>
            <a:ext cx="7275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(1) Ethical relativist: no universal moral nor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ht” and “wrong” are not absolute but rela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out the same one thing, X may think it’s right while Y may think it wrong, depending on many factor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4081 ITPPI\03-04.Sem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D0A9-C929-4F77-B50F-31436FADEBE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692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 schools of though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84872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(2) </a:t>
            </a:r>
            <a:r>
              <a:rPr b="0" lang="zh-TW" sz="3600" spc="-1" strike="noStrike">
                <a:solidFill>
                  <a:srgbClr val="000000"/>
                </a:solidFill>
                <a:latin typeface="Tahoma"/>
              </a:rPr>
              <a:t>Utilitarianist or consequentialist: ought to act so as to bring greatest amount of happiness to greatest number of peopl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It’s right if the MTR reduces its f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It’s not right if the Government reduces salary tax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4081 ITPPI\03-04.Sem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2985-2561-47F0-8AB0-FDFE1218F28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692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 schools of though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2756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(3) Deontologist: to do the “right” or “wrong” thing according to duty – action is right if that action can be universaliz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’s right if the teacher fails the students who score less the pass mark even though the teacher may not be happy to do s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4081 ITPPI\03-04.Sem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2BAF-2C78-4ECA-8C6E-868C538C0E3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thics Deci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240" y="2590920"/>
            <a:ext cx="742788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nflicting loyalty, conflict of interest, ownership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ight to know, right to privacy, right to propert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4081 ITPPI\03-04.Sem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F7E5-61BD-4F21-B743-06DB7E11BD1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thics Deci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1760" y="2017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Personal du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To foster tru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To act with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To be truth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To do jus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To practise beneficence &amp; nonmalefic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To act with appropriate repa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Self-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4081 ITPPI\03-04.Sem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7203-0B33-44D7-871B-C0AFFB790B6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urse 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18260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yllabu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urse aim &amp; 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y features of the cour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ess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eaching Pla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du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ghligh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4081 ITPPI\03-04.Sem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3BA3-7E1C-4E1C-8DB4-7A30D1D518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thics Deci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240" y="1905120"/>
            <a:ext cx="7427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fessional relationship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emplo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ag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fessional efficacy/effectivenes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man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/benef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/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4081 ITPPI\03-04.Sem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4264-BF6E-4D30-BF13-719DEBD2874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uter Ethic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65648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ocial and economic issu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b displacement (loss of job due to compu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mily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/denial of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dividual practice issu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ng/maintaining hardware &amp; softwar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tection/information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4081 ITPPI\03-04.Sem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81DD-C46F-4F04-9D60-F149164C958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uter Ethic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2017800"/>
            <a:ext cx="834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ystems development issu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plete or unreliable hardware/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lear/ambiguous operating instru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pir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ersonnel issu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licious damage due to personal grieva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lict/contradiction of professional opin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4081 ITPPI\03-04.Sem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EB9C-5157-4F42-A6A7-466DF440DB7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uter Ethic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mail issu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personal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m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ing of system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mputer crime issu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uctance to re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lure to prosec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4081 ITPPI\03-04.Sem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7073-4694-4342-904D-4E54B17F53D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uter Ethic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ode of professional conduc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EE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C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HK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4081 ITPPI\03-04.Sem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2DC1-B7FC-4FC3-B428-BD8D362E114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uter La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361960"/>
            <a:ext cx="7199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aw always lags behind the event, proactiv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ifficult to catch up with advances of technologi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4081 ITPPI\03-04.Sem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87EB-445A-4D33-B130-A5872D4926E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uter La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engineer cas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engineer was accused of being partially responsible for the malfunctioning computer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engineer had contractual duties to his employer (plaintiff) but not liable to the manufacturer of the computer (defenda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4081 ITPPI\03-04.Sem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B1E8-EFB7-4F98-A65E-91E2E28B566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uter La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ahoma"/>
              </a:rPr>
              <a:t>The consultant case: Contractual obligation vs self-interes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The defendant hired staff from plaintiff while the staff had contractual obligation to the plaintif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The defendant was guilty because they were both in the same type of business even though the defendant’s claim of economic self-interes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4081 ITPPI\03-04.Sem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724F-DC0F-4711-BC89-48DE1E83620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uter La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programmer cas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rogrammer (defendant) won the case over the software publisher (plaintiff) because the publisher sole the program without consent by the program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pyright, trade secret, patent, intellectual propert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4081 ITPPI\03-04.Sem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0E8D-6396-4650-9D83-3E1D605E0F0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urse aim &amp; objectiv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ain learning objective of this course is to understand the non-technical (so called soft) issues , rather than the technical, hard issues of the IT fiel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oft issues are often neglected in the curriculum but are essential in pract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4081 ITPPI\03-04.Sem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5E3C-8CBA-418D-AF96-71992A5208F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urse aim &amp; objectiv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1826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soft issues may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rial-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cial-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itical-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gal/Eth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ultimate aim of the course is to prepare students well for the work for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4081 ITPPI\03-04.Sem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5A62-DA11-451A-8659-B9CE25FEDA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y features of the cour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195560" y="2585520"/>
            <a:ext cx="76564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tudents are encouraged to learn by him/her-self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No “yes/no” or black&amp;white answe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emand intensive reading and wr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4081 ITPPI\03-04.Sem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3EA0-4B57-465E-AE03-6FFCAC93DEC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ssess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6668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ntinuous Assessment (40%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mester assignment (15%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zzes (three) (20%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cipation (5%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inal Examination (60%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4081 ITPPI\03-04.Sem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4F90-0CAB-4C04-9948-7CB5768397B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ching Pla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2600" y="2361960"/>
            <a:ext cx="77724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chedule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icative per hando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est lectures 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te visit 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* optional and to be announc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4081 ITPPI\03-04.Sem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0C35-10C5-4030-8E6B-5D1D7B3463C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y Concepts 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95560" y="2433240"/>
            <a:ext cx="71992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ahoma"/>
              </a:rPr>
              <a:t>Reading:                                        Lee, WW (1996)                        </a:t>
            </a:r>
            <a:r>
              <a:rPr b="0" i="1" lang="zh-TW" sz="3600" spc="-1" strike="noStrike">
                <a:solidFill>
                  <a:srgbClr val="000000"/>
                </a:solidFill>
                <a:latin typeface="Tahoma"/>
              </a:rPr>
              <a:t>  Soft issues in Computing            [Handout 1]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4081 ITPPI\03-04.Sem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214D-C687-405D-9A97-17C4612E4E4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y Concepts 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1904760"/>
            <a:ext cx="71992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lfunction &amp; poor after-sales service compl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1% increase in three year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reakdowns reported after one/two days after purc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case of hard disk repair took several mon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4081 ITPPI\03-04.Sem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B8BC-ECC9-4835-881F-0C99E9DEA28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3T09:42:37Z</dcterms:created>
  <dc:creator>wanbil</dc:creator>
  <dc:description/>
  <dc:language>en-US</dc:language>
  <cp:lastModifiedBy>wanbil</cp:lastModifiedBy>
  <dcterms:modified xsi:type="dcterms:W3CDTF">2004-02-09T09:51:39Z</dcterms:modified>
  <cp:revision>16</cp:revision>
  <dc:subject/>
  <dc:title> Topic 1  Soft Issues in Computing</dc:title>
</cp:coreProperties>
</file>