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38E3-1463-4929-B3DD-ABAA935F6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6033-6974-4619-AD02-24EA95C6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5869-74C1-45E5-AB40-8ECE8AC1E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0F92-BABB-4701-9629-7C01CB2F1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C4A1-69D7-406F-BF18-8F625537C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687F-BC8C-49C1-BC81-133F4859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A8BC-61D2-4EEE-84ED-C0BB34A3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AE13-7C00-4A79-8EC7-B9A8B329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330A-247B-4235-BDB1-3FF4D24D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70B4-F1AB-46B4-8365-1CB5CA33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69A3-C88F-4E35-B315-57BB1C17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73CD-77D5-44CD-87AF-7C8259BE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316C-1BF2-4D9F-AD0A-995CBE38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2F83-F2F9-46D5-8AB5-6D10156B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8D9D-755A-4478-B089-7BEF41FD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1C2F-A3B1-49F7-A7E1-F8A6912B0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EACF-38D3-4221-AC98-605E98AEF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E545-FDC7-420C-8960-BCD32958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A3AF-B1AF-4DAD-B986-82E28A1F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948E-14F3-41F0-970C-B3E8133C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AC93-F538-4944-8D1F-5233FE42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D753-3424-4A4C-B727-F72D2E6F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588D-65C0-472F-A461-CF7100E2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950B-C951-4F3F-A79F-84B30999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C081-9257-489C-A63B-3691419B70B6}" type="slidenum">
              <a:rPr b="0" lang="zh-TW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4507-C4A5-4940-9414-22DEE545EC19}" type="slidenum">
              <a:rPr b="0" lang="zh-TW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COM4081 </a:t>
            </a:r>
            <a:br>
              <a:rPr sz="4400"/>
            </a:b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 IT Professional Practice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22093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ession 3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Managerial-Oriented Issu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ow to control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ject resourc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4869-E08C-496C-A268-A7436CA728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on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anagement tends to minimize commitment so that if the project fails, loss is minim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management, recognizing this, reacts to finding opportunities to prove the usefulness of an application to overcome user management’s reluc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will cause cost and schedule overr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use post-implementation audit to determine how much success of the project has satisfied its objec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9AA7-9DFA-42A3-948A-FEE28C9EA3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No Chargeout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al control mechanism is the IT bud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s are not directly accountable for the cost of using IT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method is useful when a company first begins to use IT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9D4A-591B-4D75-ACF7-3423373866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(3.2) Complete Chargeo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35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inciple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omputer centre (CC) operates as a cost cent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age of IT services/resources is charged to users on a “reasonable basi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A178-86F3-4B8A-B67C-CF99813052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Complete Chargeout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di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C is required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 care of all reasonable demands for IT services by user depart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central management’s approval for all major equipment purc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up to date with the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s can use outside service if no confidential information is invol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A1CF-AA43-4581-A0FD-268CA6FFD4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Complete Chargeout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e fluctuations: charge differs from time to time, making budgeting difficult for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changes: changes in configuration requires a new pricing sche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0FBD-966A-4117-BCC6-6292EBEF70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Complete Chargeout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pacity/price relationship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MingLiU"/>
              </a:rPr>
              <a:t>↑demand → ↑capacity and ↓pr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MingLiU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MingLiU"/>
              </a:rPr>
              <a:t>   ↓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MingLiU"/>
              </a:rPr>
              <a:t>price → ↑demand until total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MingLiU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MingLiU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MingLiU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MingLiU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MingLiU"/>
              </a:rPr>
              <a:t>        capacity is used u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MingLiU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MingLiU"/>
              </a:rPr>
              <a:t>High price drives away some users, so capacity used will decrease and price will go even hig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6819-E9A0-4E08-BA0F-86900F6EDA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(3.3) Partial Chargeo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240" y="2133720"/>
            <a:ext cx="75042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</a:rPr>
              <a:t>A decentralised approac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</a:rPr>
              <a:t>Users are charged a fee according to some formula for their use of IT resources on job-by-job basi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</a:rPr>
              <a:t>Delegates some effectiveness and efficiency decisions to us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3D76-8052-46E1-BFF9-37A7BF74AC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Partial Chargeout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</a:rPr>
              <a:t>Effectiveness decisions are decentralised – users are forced to trade off in-house computing cost against other cos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</a:rPr>
              <a:t>Efficiency decisions are partially decentralised – users are made aware of the costs so that they are motivated to use IT services efficientl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A55B-8D85-47F8-9C1B-614381E973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(3.4) 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No chargeout treats IT resources/services as free good to users, so users motivated to use as much as poss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Complete chargeout uses a strong pricing mechanism to decentralize responsibility for effectiveness and efficienc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Partial chargeout uses flexible pricing to decentralize some control and centralize 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4245-24DE-45BD-9492-9FCA29012F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4) Proposed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our Levels of Desig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1: generate guideline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much to spend on IT services (budg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systems to devel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iteria for judging effectiveness and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DFFF-2CF5-4E93-9901-5460FF3158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2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Key Points for Discus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</a:rPr>
              <a:t>(1) Fundamental Ques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</a:rPr>
              <a:t>(2) Differenc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</a:rPr>
              <a:t>(3) Methods: No Chargeout, Complete Chargeout, Partial Chargeou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</a:rPr>
              <a:t>(4) One system can’t meet all diverse dema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EBBD-925D-4B00-A341-2E6719260A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osed Method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2: assess the way in which control system functions to evaluate, motivate, and communicate among various groups invol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3: Monitor and control effectiveness and efficiency based on budget (Level 1) using Project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D153-FC82-4E35-A45A-BDB022B0A2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osed Method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4: Audit the output – “How should the services be adjusted in order to continue to be effecti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06F3-82EF-4CBD-A3DD-2F304644C6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osed Method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ree Steps of Analysi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 1: deci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affordable bud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fo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590D-E544-4BF6-850A-10DEEDF004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osed Method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 2: establish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 management system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developing IT-bas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 3: juggle factors and decide degree to hold users accountable for the services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e Exhibit I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B211-0ACC-44D1-B0CC-F10AFA2283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03200" y="770040"/>
            <a:ext cx="764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1) Fundamental 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 order to control the IT resources, these three questions must be answered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dget: How much should be spent on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ectiveness: How should the money be deployed for maximum effectivenes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cy: Is the resource being employed efficientl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D5F4-BCD0-48E1-82AD-A1F2FAD61A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2) Differ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T differs from other resources in that it has a pure economic purpose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 goal is clear and 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exists to help companies perform their functions better thru cheaper processing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it is not easy to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T has complex supply/demand character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C746-078D-4EA4-AC76-148477EF9F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ces – Supply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costs are high but operating costs low. This high ratio of fixed to variable costs makes the priority problem diffic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offers economies of scale. Acquisition of a larger system may reduce cost of process. But if the system is not used fully, the total costs are allocated to users who may find themselves paying ore than bef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B61D-AC85-4870-992B-BFF9D16A57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ces – Deman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eeds for It services grow rapidly, more complex and larger siz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cessing is cyclical: daily, weekly, monthly, resulting in peaks and valley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4E89-A8E7-4ED3-ADC2-7EDF47CD28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(3) Metho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Given the problems, the conclusions a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degree of central control is exercised on exist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ingle control system works successfully for all companies so the successful control system will change over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successful, how to apply control is more important than what type of control i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F05A-91FE-4820-ACD2-0FF9F64D1A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(3) Methods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</a:rPr>
              <a:t>Three methods are illustrat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3.1 No charge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3.2 Complete charge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3.3 Partial charge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CFB4-FE79-4109-AF83-AE4331611E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(3.1) No Chargeo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ervices provided to users with no char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s exercise little control over efficient and effective use if IT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ntralized control is necessary [thru Steering Committee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strateg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4081 ITPPI\03-04.Sem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6B50-B448-427F-B74F-631954B0D9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3T09:42:37Z</dcterms:created>
  <dc:creator>wanbil</dc:creator>
  <dc:description/>
  <dc:language>en-US</dc:language>
  <cp:lastModifiedBy>wanbil</cp:lastModifiedBy>
  <dcterms:modified xsi:type="dcterms:W3CDTF">2004-02-06T06:54:25Z</dcterms:modified>
  <cp:revision>19</cp:revision>
  <dc:subject/>
  <dc:title> Topic 1  Soft Issues in Computing</dc:title>
</cp:coreProperties>
</file>