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F9A-BEE5-4872-8CA7-11A686D0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0A7-4835-4AF9-895F-A1C06C5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53F-0335-4D10-AC14-12D05AA2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23F-B1B8-4B2B-9FCD-C17E0623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EFA1-98A2-4DE2-BE1E-A0481360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643E-EB19-431D-99D1-EFAF5014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073D-0C25-4F6E-9B63-0D68A2B6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4903-49FD-479F-965B-C057F6AA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77CA-47ED-4B37-8BDB-E59BC2AE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34C3-105E-41D8-842B-82B4E2F9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DFCF-57F3-4AE9-99F6-EB404A3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CD5-1309-4D6A-8801-254F6D55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ABC2-7DE2-400E-A220-5900DF6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7512-D5A9-4FB4-8EF5-5DEBC084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C8FB-ED87-45E8-A220-DA4A8A8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D978-E00B-402A-A7DE-4D807E43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A759-6C0F-4307-A911-E4B1D586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383-3997-4C17-AAC7-1F230F6E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522-1726-4BE0-AFDD-6FED650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ABF-ABCC-4CF4-96AA-E7E0604A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3DE-086C-4E4C-AE4E-87D77F8C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465-8E3F-41CC-8A07-9F89225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549-B567-4DA2-A1E8-ABA9BB4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2E8-7BD6-40C4-AAAB-D1BE371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ED9B-E6F4-4978-A495-B551A21C9BA6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A725-F784-45B0-9609-EA747F9FCCE8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COM4081 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IT Professional Practice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ession 2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anagerial-Oriented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o rank proje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B5A-B659-4CE4-A883-A21AA988DC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2 – document systematicall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351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sure completeness of relevant information which include information not only tangible benefits but also intangible benefits, technical importance and fit with obj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BC7-AA78-4DA1-8718-474A9A7268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17400"/>
            <a:ext cx="8029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 – clarify business ob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7240" y="2133720"/>
            <a:ext cx="7047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me companies have more formal statement of objectives but others don’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T Manager needs to make sure to understa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the company is trying to achiev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ture of key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332-D85A-4F91-B8C7-AC40FE7402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2057400"/>
          <a:ext cx="7696440" cy="4307040"/>
        </p:xfrm>
        <a:graphic>
          <a:graphicData uri="http://schemas.openxmlformats.org/drawingml/2006/table">
            <a:tbl>
              <a:tblPr/>
              <a:tblGrid>
                <a:gridCol w="2318040"/>
                <a:gridCol w="1761840"/>
                <a:gridCol w="1854360"/>
                <a:gridCol w="176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l of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cial Benef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066680" y="91440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tep 4 Prioritize on Financial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572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A3C-FD92-4DC3-841B-FA62A1E3D9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90720" y="2209680"/>
          <a:ext cx="7467480" cy="4110120"/>
        </p:xfrm>
        <a:graphic>
          <a:graphicData uri="http://schemas.openxmlformats.org/drawingml/2006/table">
            <a:tbl>
              <a:tblPr/>
              <a:tblGrid>
                <a:gridCol w="2249280"/>
                <a:gridCol w="1798560"/>
                <a:gridCol w="1800360"/>
                <a:gridCol w="1619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l of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angible Benef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838080" y="874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tep 5 Prioritize on Intangibl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572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A48-912B-4639-8ABF-DBC51F7B6D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838080" y="1981080"/>
          <a:ext cx="7620120" cy="411336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1568520"/>
                <a:gridCol w="1631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l of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Impor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990720" y="838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 6  Rank on Technical Impor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572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DD0-7CD1-4033-922E-173F30A98D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14400" y="2209680"/>
          <a:ext cx="7543800" cy="4081680"/>
        </p:xfrm>
        <a:graphic>
          <a:graphicData uri="http://schemas.openxmlformats.org/drawingml/2006/table">
            <a:tbl>
              <a:tblPr/>
              <a:tblGrid>
                <a:gridCol w="2155680"/>
                <a:gridCol w="1886040"/>
                <a:gridCol w="1795680"/>
                <a:gridCol w="1706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l of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ives 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143000" y="9144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7 Assess fit with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572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0CF-9D2C-4045-A1B7-67A053B9D0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990720" y="2133720"/>
          <a:ext cx="7467480" cy="4163760"/>
        </p:xfrm>
        <a:graphic>
          <a:graphicData uri="http://schemas.openxmlformats.org/drawingml/2006/table">
            <a:tbl>
              <a:tblPr/>
              <a:tblGrid>
                <a:gridCol w="2133360"/>
                <a:gridCol w="1866960"/>
                <a:gridCol w="1778040"/>
                <a:gridCol w="1689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l of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all prio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371600" y="7621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ep 8 Summarize Prior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572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5AE-3785-4D39-B91F-D8097762FE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Policy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Common misconce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An 8-step structured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753-AA2C-4142-B81D-5DE8EFA2AF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(1) Policy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benefit: Undue weight (emphasis) often given to financial benefits in determining prior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objectives: Not always clearly stated or in existence so that it is difficult to link project objective and organization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FD6-944B-4349-898C-809A5A816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icy Issue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ntangible benefits: IT can sometimes benefit the company in important but unmeasurable ways so that can sometimes be more important than tangible benef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echnical importance: management may not appreciate technical importance so that IT managers may obscure the issue by carrying out technically important projects without letting management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73D-B66B-47E6-9575-8A27788F84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 Common Miscon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Users should decide the priorities - They should not. 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least not alone – because users at low level have insufficient knowledge of overall business objectives or technical issues, and senior managers are more knowledgeable but not always informed of all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F36-6E04-4A6E-8D86-2A2F57650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Misconception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Operating and IT managers should jointly define priorities – No. 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nly senior managers can decide on allocation of scarce resources between two equally important projects and should therefore play an integral  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21A-45A2-4673-BD26-917A78997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Misconception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3915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A steering committee can decide the priorities- Sometimes. 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the committee can become involved in politics and end up focus on financial benefits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CA6-C133-4B76-BDE9-0171203352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3) The 8-step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ms of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help managers measure relative importance of financial and intangible benefits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ssess the fit with objectives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express technical importance in a readily understandabl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037-BFF1-48A5-BBA0-F84997B983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 – get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stablish improved mechan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organize the IT department and if necessary hire new staf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eate steering committ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ock-take outstanding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1AE-8CE9-435B-9DA0-9E7A25525A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09:42:37Z</dcterms:created>
  <dc:creator>wanbil</dc:creator>
  <dc:description/>
  <dc:language>en-US</dc:language>
  <cp:lastModifiedBy>wanbil</cp:lastModifiedBy>
  <dcterms:modified xsi:type="dcterms:W3CDTF">2004-02-06T06:54:10Z</dcterms:modified>
  <cp:revision>19</cp:revision>
  <dc:subject/>
  <dc:title> Topic 1  Soft Issues in Computing</dc:title>
</cp:coreProperties>
</file>