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0F3-A580-4AD4-9CE1-041A79C3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005-11A2-40FC-9B4A-82AA3877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358-E665-41F4-B965-EAC11DB9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427-8BF8-4C73-A685-627CA279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D04-7C23-4908-9D71-1A714C72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28A-8BAD-4F7C-A054-87023143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BED-2465-4748-B260-6AA46E6C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285-4DFE-41FC-A11D-F38C99A9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FAE-0B22-4401-B47F-F248BD3D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E22-87F4-45D3-B839-6AD8E936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136-2808-4C59-86A0-3257CE4D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2C1-6EC0-4388-A00A-3F2CC8C7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F4CD-E9F3-4096-9264-4D6A6A9F0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מושגים בסיסיים באסטרונומי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חגורת האסטרואיד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46280" y="1293840"/>
            <a:ext cx="6238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צדק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7640" y="1341360"/>
            <a:ext cx="6774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42,98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בקו המשוו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778,33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5.2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42544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שבתאי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7720" y="1341000"/>
            <a:ext cx="75675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20,536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בקו המשוו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,429,400,00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9.54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7309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אורנוס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6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51,118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בקו המשוו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2,870,990,00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9.22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40388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נפטון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142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49,532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בקו המשוו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4,504,00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30.06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56000" y="2421000"/>
            <a:ext cx="42544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פלוטו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358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227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"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5,913,52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39.5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56000" y="2637000"/>
            <a:ext cx="403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שביט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719520" cy="496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1484280"/>
            <a:ext cx="41068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השמ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פנים השמ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ליב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אזור קרינ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אזור הסע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אטמוספיר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פוטוספי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כרומוספי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עט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616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סיווג כוכב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84720" y="1341360"/>
            <a:ext cx="2602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דיאגרמ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tzsprung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ussel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5622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לידתו של כוכ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463392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אסטרונומי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למה "נומיה"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חייו של כוכב - גלקסי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לקסיות ספירלי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לקסיות אליפטי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לקסיות לא מוגדר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2016360" cy="1998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71640" y="3068640"/>
            <a:ext cx="2089080" cy="1658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403280" y="4869000"/>
            <a:ext cx="125748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מותו של כוכ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הגודל קובע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עד 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1.4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מסות שמש – ננס לב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עד 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מסות שמש – כוכב ניוטרו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מעל 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מסות שמש – חור שחו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אז איך מגלים חור שחור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מס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קרינה מדיסקת ספיח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עדשות כביד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סילוני פליט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2411280" cy="1844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2521080" cy="1865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74560" y="4727520"/>
            <a:ext cx="24847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שאלות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קצת סדרי גוד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אדם –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7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פיל אפריקאי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ירח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כדור הארץ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השמש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מערכת השמש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המרחק לכוכב הקרוב ביותר –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גלקסיות טיפוסיות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צבירי גלקסיות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היקום הנצפה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מערכת השמ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351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המרכיבים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העיקרי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246400"/>
            <a:ext cx="91440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מערכת השמ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720" y="1528920"/>
            <a:ext cx="2386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מסלולי הקפ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0600" y="2060640"/>
            <a:ext cx="8429400" cy="467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84596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חמה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4,880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ק"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57,910,000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0.38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71294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נגה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6918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2,103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08,20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0.72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כדור הארץ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97160" y="1341360"/>
            <a:ext cx="7278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2,756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"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49,60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.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42544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מאדים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35280" y="1413000"/>
            <a:ext cx="6919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6,794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227,94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.52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84360" y="2459160"/>
            <a:ext cx="43992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0:07:48Z</dcterms:created>
  <dc:creator>Harel</dc:creator>
  <dc:description/>
  <dc:language>en-US</dc:language>
  <cp:lastModifiedBy>Harel</cp:lastModifiedBy>
  <dcterms:modified xsi:type="dcterms:W3CDTF">2004-04-13T01:57:02Z</dcterms:modified>
  <cp:revision>6</cp:revision>
  <dc:subject/>
  <dc:title>שקופית 1</dc:title>
</cp:coreProperties>
</file>