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F7E-652D-4E87-B984-2C599831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5D6-6A81-4C88-9A62-1A582CDF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F5B-0AA4-4883-95B3-87C336CA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C50-AEBA-4758-B308-F3012360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516-BD17-4BE5-8DE4-E1FF9F26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840-81DB-490F-835A-FFE01C75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BDE-136B-4CDC-B258-12B52422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5FC-B014-4521-A0BE-758665CB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EDE-272F-40AB-82F8-EE49BB8E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ACB-442B-4A22-B22A-7DBDD643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5DD-684C-4423-B2E4-9056664D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065-E470-4D71-A2B4-B56D349D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DD90-590E-48C3-8300-D98156F5B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30040"/>
            <a:ext cx="6869160" cy="868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2362320"/>
            <a:ext cx="4572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CONCEPTUAL</a:t>
            </a:r>
            <a:r>
              <a:rPr b="1" lang="es-MX" sz="2800" spc="-1" strike="noStrike">
                <a:solidFill>
                  <a:srgbClr val="cc3300"/>
                </a:solidFill>
                <a:latin typeface="Times New Roman"/>
              </a:rPr>
              <a:t>I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ZACIÓN DEL SISTEM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FRANQUI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3300"/>
                </a:solidFill>
                <a:latin typeface="Times New Roman"/>
              </a:rPr>
              <a:t>AGROENZY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5:12:50Z</dcterms:created>
  <dc:creator>Prodigy </dc:creator>
  <dc:description/>
  <dc:language>en-US</dc:language>
  <cp:lastModifiedBy>Prodigy </cp:lastModifiedBy>
  <dcterms:modified xsi:type="dcterms:W3CDTF">2003-01-13T05:13:06Z</dcterms:modified>
  <cp:revision>1</cp:revision>
  <dc:subject/>
  <dc:title>Presentación de PowerPoint</dc:title>
</cp:coreProperties>
</file>