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76F-9235-4912-B1D1-5BFA91D2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6C2-50FA-47BE-B4E9-17567499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0F4-A023-47F2-A1DD-86F3B55D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406-493D-4C7C-9ED5-24E133FC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2B9-AC7B-435C-98B3-62DC259B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F7F-2E36-42C0-AE18-DF0513CB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E2F-9F43-46C2-9906-89B54F9F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446-01A4-4167-B89C-122E9EB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70A-A9DD-4C59-9BBF-ED1D2964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462-543A-4935-A69B-9204ABA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68A-F013-42D0-A228-73C3736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647-E7AA-4292-8D81-DE82F029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C483-36D8-455A-9CAA-5C593165C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434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495680" y="533520"/>
            <a:ext cx="3810240" cy="1677960"/>
            <a:chOff x="4495680" y="533520"/>
            <a:chExt cx="3810240" cy="1677960"/>
          </a:xfrm>
        </p:grpSpPr>
        <p:sp>
          <p:nvSpPr>
            <p:cNvPr id="43" name=""/>
            <p:cNvSpPr/>
            <p:nvPr/>
          </p:nvSpPr>
          <p:spPr>
            <a:xfrm>
              <a:off x="4667400" y="590400"/>
              <a:ext cx="363852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29240" y="1676520"/>
              <a:ext cx="3390840" cy="523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5400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1746360"/>
              <a:ext cx="19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Xionaxtla, Huejutla de Reyes, Hgo.                                             Tel: 01 55 10 47 43 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10160" y="533520"/>
              <a:ext cx="3429000" cy="167616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19640" y="1139760"/>
              <a:ext cx="281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Baskerville Old Face"/>
                </a:rPr>
                <a:t>LIC. DAVID HERNANDEZ AGUIR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76840" y="12859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Director   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84800" y="1752480"/>
              <a:ext cx="196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-mail: gpc_xionax_id@yahoo.com.mx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Pagina Web: http://www.xionax-id.cjb</a:t>
              </a: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.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4762440" y="596880"/>
            <a:ext cx="312444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62440" y="596880"/>
                      <a:ext cx="31244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" name=""/>
          <p:cNvGrpSpPr/>
          <p:nvPr/>
        </p:nvGrpSpPr>
        <p:grpSpPr>
          <a:xfrm>
            <a:off x="609480" y="533520"/>
            <a:ext cx="3810240" cy="1677960"/>
            <a:chOff x="609480" y="533520"/>
            <a:chExt cx="3810240" cy="1677960"/>
          </a:xfrm>
        </p:grpSpPr>
        <p:sp>
          <p:nvSpPr>
            <p:cNvPr id="53" name=""/>
            <p:cNvSpPr/>
            <p:nvPr/>
          </p:nvSpPr>
          <p:spPr>
            <a:xfrm>
              <a:off x="781200" y="590400"/>
              <a:ext cx="363852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3040" y="1676520"/>
              <a:ext cx="3390840" cy="523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5400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1746360"/>
              <a:ext cx="19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Xionaxtla, Huejutla de Reyes, Hgo.                                             Tel: 01 55 10 47 43 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3960" y="533520"/>
              <a:ext cx="3429000" cy="167616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3440" y="1139760"/>
              <a:ext cx="281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Baskerville Old Face"/>
                </a:rPr>
                <a:t>LIC. DAVID HERNANDEZ AGUIR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0640" y="12859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Director   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8600" y="1752480"/>
              <a:ext cx="196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-mail: gpc_xionax_id@yahoo.com.mx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Pagina Web: http://www.xionax-id.cjb</a:t>
              </a: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.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876240" y="596880"/>
            <a:ext cx="312444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76240" y="596880"/>
                      <a:ext cx="31244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" name=""/>
          <p:cNvGrpSpPr/>
          <p:nvPr/>
        </p:nvGrpSpPr>
        <p:grpSpPr>
          <a:xfrm>
            <a:off x="4495680" y="2590920"/>
            <a:ext cx="3810240" cy="1677960"/>
            <a:chOff x="4495680" y="2590920"/>
            <a:chExt cx="3810240" cy="1677960"/>
          </a:xfrm>
        </p:grpSpPr>
        <p:sp>
          <p:nvSpPr>
            <p:cNvPr id="63" name=""/>
            <p:cNvSpPr/>
            <p:nvPr/>
          </p:nvSpPr>
          <p:spPr>
            <a:xfrm>
              <a:off x="4667400" y="2647800"/>
              <a:ext cx="363852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29240" y="3733920"/>
              <a:ext cx="3390840" cy="523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5400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3760"/>
              <a:ext cx="19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Xionaxtla, Huejutla de Reyes, Hgo.                                             Tel: 01 55 10 47 43 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0160" y="2590920"/>
              <a:ext cx="3429000" cy="167616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19640" y="3197160"/>
              <a:ext cx="281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Baskerville Old Face"/>
                </a:rPr>
                <a:t>LIC. DAVID HERNANDEZ AGUIR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76840" y="33433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Director   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84800" y="3809880"/>
              <a:ext cx="196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-mail: gpc_xionax_id@yahoo.com.mx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Pagina Web: http://www.xionax-id.cjb</a:t>
              </a: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.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4762440" y="2654280"/>
            <a:ext cx="3124440" cy="53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62440" y="2654280"/>
                      <a:ext cx="31244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609480" y="2590920"/>
            <a:ext cx="3810240" cy="1677960"/>
            <a:chOff x="609480" y="2590920"/>
            <a:chExt cx="3810240" cy="1677960"/>
          </a:xfrm>
        </p:grpSpPr>
        <p:sp>
          <p:nvSpPr>
            <p:cNvPr id="73" name=""/>
            <p:cNvSpPr/>
            <p:nvPr/>
          </p:nvSpPr>
          <p:spPr>
            <a:xfrm>
              <a:off x="781200" y="2647800"/>
              <a:ext cx="363852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3040" y="3733920"/>
              <a:ext cx="3390840" cy="523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5400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480" y="3803760"/>
              <a:ext cx="19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Xionaxtla, Huejutla de Reyes, Hgo.                                             Tel: 01 55 10 47 43 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960" y="2590920"/>
              <a:ext cx="3429000" cy="167616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3440" y="3197160"/>
              <a:ext cx="281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Baskerville Old Face"/>
                </a:rPr>
                <a:t>LIC. DAVID HERNANDEZ AGUIR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90640" y="33433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Director   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98600" y="3809880"/>
              <a:ext cx="196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-mail: gpc_xionax_id@yahoo.com.mx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Pagina Web: http://www.xionax-id.cjb</a:t>
              </a: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.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876240" y="2654280"/>
            <a:ext cx="3124440" cy="533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76240" y="2654280"/>
                      <a:ext cx="31244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" name=""/>
          <p:cNvGrpSpPr/>
          <p:nvPr/>
        </p:nvGrpSpPr>
        <p:grpSpPr>
          <a:xfrm>
            <a:off x="4495680" y="4648320"/>
            <a:ext cx="3810240" cy="1677960"/>
            <a:chOff x="4495680" y="4648320"/>
            <a:chExt cx="3810240" cy="1677960"/>
          </a:xfrm>
        </p:grpSpPr>
        <p:sp>
          <p:nvSpPr>
            <p:cNvPr id="83" name=""/>
            <p:cNvSpPr/>
            <p:nvPr/>
          </p:nvSpPr>
          <p:spPr>
            <a:xfrm>
              <a:off x="4667400" y="4705200"/>
              <a:ext cx="363852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29240" y="5791320"/>
              <a:ext cx="3390840" cy="523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5400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5861160"/>
              <a:ext cx="19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Xionaxtla, Huejutla de Reyes, Hgo.                                             Tel: 01 55 10 47 43 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10160" y="4648320"/>
              <a:ext cx="3429000" cy="167616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19640" y="5254560"/>
              <a:ext cx="281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Baskerville Old Face"/>
                </a:rPr>
                <a:t>LIC. DAVID HERNANDEZ AGUIR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76840" y="54007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Director   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84800" y="5867280"/>
              <a:ext cx="196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-mail: gpc_xionax_id@yahoo.com.mx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Pagina Web: http://www.xionax-id.cjb</a:t>
              </a: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.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4762440" y="4711680"/>
            <a:ext cx="3124440" cy="53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62440" y="4711680"/>
                      <a:ext cx="31244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" name=""/>
          <p:cNvGrpSpPr/>
          <p:nvPr/>
        </p:nvGrpSpPr>
        <p:grpSpPr>
          <a:xfrm>
            <a:off x="609480" y="4648320"/>
            <a:ext cx="3810240" cy="1677960"/>
            <a:chOff x="609480" y="4648320"/>
            <a:chExt cx="3810240" cy="1677960"/>
          </a:xfrm>
        </p:grpSpPr>
        <p:sp>
          <p:nvSpPr>
            <p:cNvPr id="93" name=""/>
            <p:cNvSpPr/>
            <p:nvPr/>
          </p:nvSpPr>
          <p:spPr>
            <a:xfrm>
              <a:off x="781200" y="4705200"/>
              <a:ext cx="363852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3040" y="5791320"/>
              <a:ext cx="3390840" cy="52380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174617"/>
                </a:gs>
              </a:gsLst>
              <a:lin ang="5400000"/>
            </a:gra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5861160"/>
              <a:ext cx="19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Xionaxtla, Huejutla de Reyes, Hgo.                                             Tel: 01 55 10 47 43 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960" y="4648320"/>
              <a:ext cx="3429000" cy="167616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3440" y="5254560"/>
              <a:ext cx="281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Baskerville Old Face"/>
                </a:rPr>
                <a:t>LIC. DAVID HERNANDEZ AGUIR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0640" y="54007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</a:rPr>
                <a:t>Director   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98600" y="5867280"/>
              <a:ext cx="196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E-mail: gpc_xionax_id@yahoo.com.mx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Times New Roman"/>
                </a:rPr>
                <a:t>Pagina Web: http://www.xionax-id.cjb</a:t>
              </a: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.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876240" y="4711680"/>
            <a:ext cx="312444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76240" y="4711680"/>
                      <a:ext cx="31244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04:19:54Z</dcterms:created>
  <dc:creator>Prodigy </dc:creator>
  <dc:description/>
  <dc:language>en-US</dc:language>
  <cp:lastModifiedBy>Prodigy </cp:lastModifiedBy>
  <dcterms:modified xsi:type="dcterms:W3CDTF">2003-01-07T03:13:21Z</dcterms:modified>
  <cp:revision>3</cp:revision>
  <dc:subject/>
  <dc:title>Presentación de PowerPoint</dc:title>
</cp:coreProperties>
</file>